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59244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E649CB90-159C-4416-B287-0C9B6793E60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E75F7473-BEFC-4317-9C69-017E4B469BB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3BE35A15-455E-4364-9D7B-0B7266A3D61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852E3619-958B-46C6-B82D-B0220D2FCE9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8C28857A-798C-4A5D-9968-C2D21FEA046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48D485DE-91DA-4B3B-8CBA-B66E9360F54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8274DD17-7DB8-4ACD-B4CD-F74B49D8851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2080D060-08B5-4825-AE24-A5F8A565119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6BEBA786-0D19-4729-B9C1-2F7B88E2DAD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BD415BB1-FBBD-4F95-8503-E578436A2FB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2FADCA99-D30D-40AD-8EBE-926EBF38E30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563080A0-EA4C-485F-992E-1334034B58A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01123EF6-2DC4-43E2-A416-90007A24BB3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0AE1A-9283-4765-80BE-17BAA236F8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23944-469A-4160-AFDA-8942FCCB69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B6F42-96C9-4588-9833-AEB20295A9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A6AF1-9C9C-4FAF-BAD2-DCE4A1547D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07B99-0C61-4906-8AB6-F0944A938D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83D01-A188-4D36-B198-218A9CDF6C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6F3F4-7585-409F-9DF0-8926FDA582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83D99-8611-4AF4-9F0A-7F0F88C7F8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B078B-2CA8-4C3A-B8FB-00CE94E1A4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D71BD-16CA-43BD-803D-6A998BDB14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370BB-37DB-448F-880F-CB9F67B5E7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F5145-BF4F-4D20-B064-6FEE65F7B8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4266-5A60-4BB3-8F1D-E1E0B9E49B5C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F44D-FE67-4EA4-A1C0-304417442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B815-4450-428C-AC92-39C88568FBAD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analyser.oli.tudelft.nl/regex/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1-05-10T20:36:00Z</cp:lastPrinted>
  <dcterms:modified xsi:type="dcterms:W3CDTF">2011-11-13T19:07:14Z</dcterms:modified>
  <cp:revision>863</cp:revision>
  <dc:subject/>
  <dc:title>CSE 142 Python Slides</dc:title>
</cp:coreProperties>
</file>