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D2C15-3B52-4761-A73A-2F196132E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94EF6-7F92-451E-B27B-890535531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F9051-3EA7-4808-94E2-4D78BEF48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D9C24-03D6-48E5-9334-C367C1136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9B0EB-6340-4C8E-B2CB-B673BBBD3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678EC-05BE-4E38-AEBD-32E79FF1E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48D3A-2563-4CD3-84FF-81178B44B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3146B-124D-45BB-80F7-96BF1CC53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F5FB2-6ED0-4509-9E90-DB3530167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E410B-A81D-432A-9F6E-0EC88497C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619B9-592E-4D43-A853-1501C9C88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633C8-CF52-4E5D-AA77-3FA6DE176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F9FE9-8E44-4B02-BAAC-AC6C84CD8B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E 321 Review Se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e Bac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/>
          <p:nvPr/>
        </p:nvSpPr>
        <p:spPr>
          <a:xfrm>
            <a:off x="3352320" y="0"/>
            <a:ext cx="25826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0000"/>
                </a:solidFill>
                <a:latin typeface="Arial"/>
              </a:rPr>
              <a:t>Induction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612360" y="914400"/>
            <a:ext cx="69350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ic inductive proof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is step: Verify P(1) is tru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uctive hypothesis: P(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uctie step: Show P(k)-&gt;P(k+1) is true (for all positive 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ong induc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uctural induction.  Recursively defined se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3463920" y="3894120"/>
            <a:ext cx="7920" cy="23760"/>
          </a:xfrm>
          <a:custGeom>
            <a:avLst/>
            <a:gdLst/>
            <a:ahLst/>
            <a:rect l="l" t="t" r="r" b="b"/>
            <a:pathLst>
              <a:path w="19" h="68">
                <a:moveTo>
                  <a:pt x="9641" y="10882"/>
                </a:moveTo>
                <a:cubicBezTo>
                  <a:pt x="9640" y="10858"/>
                  <a:pt x="9633" y="10838"/>
                  <a:pt x="9624" y="10815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805040" y="3971880"/>
            <a:ext cx="770040" cy="331920"/>
          </a:xfrm>
          <a:custGeom>
            <a:avLst/>
            <a:gdLst/>
            <a:ahLst/>
            <a:rect l="l" t="t" r="r" b="b"/>
            <a:pathLst>
              <a:path w="2139" h="922">
                <a:moveTo>
                  <a:pt x="5064" y="11275"/>
                </a:moveTo>
                <a:cubicBezTo>
                  <a:pt x="5064" y="11315"/>
                  <a:pt x="5071" y="11354"/>
                  <a:pt x="5075" y="11395"/>
                </a:cubicBezTo>
                <a:cubicBezTo>
                  <a:pt x="5081" y="11460"/>
                  <a:pt x="5092" y="11524"/>
                  <a:pt x="5101" y="11589"/>
                </a:cubicBezTo>
                <a:cubicBezTo>
                  <a:pt x="5111" y="11656"/>
                  <a:pt x="5124" y="11722"/>
                  <a:pt x="5136" y="11789"/>
                </a:cubicBezTo>
                <a:cubicBezTo>
                  <a:pt x="5144" y="11833"/>
                  <a:pt x="5155" y="11876"/>
                  <a:pt x="5159" y="11921"/>
                </a:cubicBezTo>
                <a:cubicBezTo>
                  <a:pt x="5161" y="11937"/>
                  <a:pt x="5162" y="11942"/>
                  <a:pt x="5161" y="11952"/>
                </a:cubicBezTo>
                <a:cubicBezTo>
                  <a:pt x="5142" y="11917"/>
                  <a:pt x="5139" y="11888"/>
                  <a:pt x="5128" y="11849"/>
                </a:cubicBezTo>
                <a:cubicBezTo>
                  <a:pt x="5109" y="11784"/>
                  <a:pt x="5101" y="11720"/>
                  <a:pt x="5091" y="11653"/>
                </a:cubicBezTo>
                <a:cubicBezTo>
                  <a:pt x="5081" y="11585"/>
                  <a:pt x="5072" y="11516"/>
                  <a:pt x="5060" y="11449"/>
                </a:cubicBezTo>
                <a:cubicBezTo>
                  <a:pt x="5052" y="11405"/>
                  <a:pt x="5041" y="11362"/>
                  <a:pt x="5031" y="11319"/>
                </a:cubicBezTo>
                <a:cubicBezTo>
                  <a:pt x="5024" y="11290"/>
                  <a:pt x="5014" y="11252"/>
                  <a:pt x="5014" y="11222"/>
                </a:cubicBezTo>
                <a:cubicBezTo>
                  <a:pt x="5014" y="11194"/>
                  <a:pt x="5022" y="11152"/>
                  <a:pt x="5034" y="11126"/>
                </a:cubicBezTo>
                <a:cubicBezTo>
                  <a:pt x="5049" y="11092"/>
                  <a:pt x="5072" y="11064"/>
                  <a:pt x="5104" y="11046"/>
                </a:cubicBezTo>
                <a:cubicBezTo>
                  <a:pt x="5135" y="11029"/>
                  <a:pt x="5172" y="11026"/>
                  <a:pt x="5205" y="11038"/>
                </a:cubicBezTo>
                <a:cubicBezTo>
                  <a:pt x="5254" y="11056"/>
                  <a:pt x="5290" y="11101"/>
                  <a:pt x="5321" y="11141"/>
                </a:cubicBezTo>
                <a:cubicBezTo>
                  <a:pt x="5364" y="11195"/>
                  <a:pt x="5398" y="11254"/>
                  <a:pt x="5422" y="11319"/>
                </a:cubicBezTo>
                <a:cubicBezTo>
                  <a:pt x="5439" y="11363"/>
                  <a:pt x="5458" y="11422"/>
                  <a:pt x="5435" y="11468"/>
                </a:cubicBezTo>
                <a:cubicBezTo>
                  <a:pt x="5403" y="11532"/>
                  <a:pt x="5302" y="11544"/>
                  <a:pt x="5240" y="11548"/>
                </a:cubicBezTo>
                <a:cubicBezTo>
                  <a:pt x="5215" y="11550"/>
                  <a:pt x="5141" y="11556"/>
                  <a:pt x="5121" y="11536"/>
                </a:cubicBezTo>
                <a:cubicBezTo>
                  <a:pt x="5093" y="11507"/>
                  <a:pt x="5118" y="11513"/>
                  <a:pt x="5124" y="11484"/>
                </a:cubicBezTo>
              </a:path>
              <a:path w="2139" h="922">
                <a:moveTo>
                  <a:pt x="5492" y="11642"/>
                </a:moveTo>
                <a:cubicBezTo>
                  <a:pt x="5514" y="11688"/>
                  <a:pt x="5523" y="11733"/>
                  <a:pt x="5536" y="11780"/>
                </a:cubicBezTo>
                <a:cubicBezTo>
                  <a:pt x="5541" y="11798"/>
                  <a:pt x="5547" y="11816"/>
                  <a:pt x="5553" y="11833"/>
                </a:cubicBezTo>
                <a:cubicBezTo>
                  <a:pt x="5536" y="11790"/>
                  <a:pt x="5532" y="11756"/>
                  <a:pt x="5531" y="11709"/>
                </a:cubicBezTo>
                <a:cubicBezTo>
                  <a:pt x="5530" y="11652"/>
                  <a:pt x="5531" y="11595"/>
                  <a:pt x="5548" y="11540"/>
                </a:cubicBezTo>
                <a:cubicBezTo>
                  <a:pt x="5562" y="11495"/>
                  <a:pt x="5582" y="11462"/>
                  <a:pt x="5619" y="11434"/>
                </a:cubicBezTo>
                <a:cubicBezTo>
                  <a:pt x="5642" y="11417"/>
                  <a:pt x="5685" y="11408"/>
                  <a:pt x="5715" y="11408"/>
                </a:cubicBezTo>
                <a:cubicBezTo>
                  <a:pt x="5741" y="11408"/>
                  <a:pt x="5765" y="11415"/>
                  <a:pt x="5789" y="11422"/>
                </a:cubicBezTo>
              </a:path>
              <a:path w="2139" h="922">
                <a:moveTo>
                  <a:pt x="6087" y="11509"/>
                </a:moveTo>
                <a:cubicBezTo>
                  <a:pt x="6056" y="11542"/>
                  <a:pt x="6027" y="11575"/>
                  <a:pt x="6006" y="11616"/>
                </a:cubicBezTo>
                <a:cubicBezTo>
                  <a:pt x="5981" y="11663"/>
                  <a:pt x="5966" y="11711"/>
                  <a:pt x="5967" y="11764"/>
                </a:cubicBezTo>
                <a:cubicBezTo>
                  <a:pt x="5968" y="11797"/>
                  <a:pt x="5989" y="11820"/>
                  <a:pt x="6024" y="11811"/>
                </a:cubicBezTo>
                <a:cubicBezTo>
                  <a:pt x="6076" y="11798"/>
                  <a:pt x="6118" y="11738"/>
                  <a:pt x="6135" y="11691"/>
                </a:cubicBezTo>
                <a:cubicBezTo>
                  <a:pt x="6150" y="11651"/>
                  <a:pt x="6154" y="11599"/>
                  <a:pt x="6148" y="11557"/>
                </a:cubicBezTo>
                <a:cubicBezTo>
                  <a:pt x="6143" y="11521"/>
                  <a:pt x="6126" y="11483"/>
                  <a:pt x="6114" y="11448"/>
                </a:cubicBezTo>
                <a:cubicBezTo>
                  <a:pt x="6108" y="11429"/>
                  <a:pt x="6102" y="11412"/>
                  <a:pt x="6097" y="11393"/>
                </a:cubicBezTo>
              </a:path>
              <a:path w="2139" h="922">
                <a:moveTo>
                  <a:pt x="6242" y="11507"/>
                </a:moveTo>
                <a:cubicBezTo>
                  <a:pt x="6269" y="11531"/>
                  <a:pt x="6277" y="11553"/>
                  <a:pt x="6290" y="11586"/>
                </a:cubicBezTo>
                <a:cubicBezTo>
                  <a:pt x="6305" y="11623"/>
                  <a:pt x="6316" y="11661"/>
                  <a:pt x="6332" y="11698"/>
                </a:cubicBezTo>
                <a:cubicBezTo>
                  <a:pt x="6346" y="11732"/>
                  <a:pt x="6361" y="11764"/>
                  <a:pt x="6388" y="11791"/>
                </a:cubicBezTo>
                <a:cubicBezTo>
                  <a:pt x="6402" y="11805"/>
                  <a:pt x="6436" y="11839"/>
                  <a:pt x="6458" y="11815"/>
                </a:cubicBezTo>
                <a:cubicBezTo>
                  <a:pt x="6493" y="11775"/>
                  <a:pt x="6487" y="11692"/>
                  <a:pt x="6499" y="11644"/>
                </a:cubicBezTo>
                <a:cubicBezTo>
                  <a:pt x="6513" y="11590"/>
                  <a:pt x="6529" y="11545"/>
                  <a:pt x="6555" y="11496"/>
                </a:cubicBezTo>
                <a:cubicBezTo>
                  <a:pt x="6566" y="11475"/>
                  <a:pt x="6568" y="11469"/>
                  <a:pt x="6581" y="11462"/>
                </a:cubicBezTo>
              </a:path>
              <a:path w="2139" h="922">
                <a:moveTo>
                  <a:pt x="6748" y="11639"/>
                </a:moveTo>
                <a:cubicBezTo>
                  <a:pt x="6779" y="11672"/>
                  <a:pt x="6781" y="11671"/>
                  <a:pt x="6810" y="11645"/>
                </a:cubicBezTo>
                <a:cubicBezTo>
                  <a:pt x="6849" y="11611"/>
                  <a:pt x="6883" y="11572"/>
                  <a:pt x="6918" y="11533"/>
                </a:cubicBezTo>
                <a:cubicBezTo>
                  <a:pt x="6949" y="11498"/>
                  <a:pt x="6977" y="11465"/>
                  <a:pt x="6996" y="11422"/>
                </a:cubicBezTo>
                <a:cubicBezTo>
                  <a:pt x="7004" y="11404"/>
                  <a:pt x="7005" y="11397"/>
                  <a:pt x="6986" y="11390"/>
                </a:cubicBezTo>
                <a:cubicBezTo>
                  <a:pt x="6947" y="11401"/>
                  <a:pt x="6918" y="11420"/>
                  <a:pt x="6895" y="11455"/>
                </a:cubicBezTo>
                <a:cubicBezTo>
                  <a:pt x="6864" y="11502"/>
                  <a:pt x="6843" y="11559"/>
                  <a:pt x="6845" y="11616"/>
                </a:cubicBezTo>
                <a:cubicBezTo>
                  <a:pt x="6847" y="11667"/>
                  <a:pt x="6869" y="11709"/>
                  <a:pt x="6912" y="11736"/>
                </a:cubicBezTo>
                <a:cubicBezTo>
                  <a:pt x="6953" y="11761"/>
                  <a:pt x="6996" y="11766"/>
                  <a:pt x="7042" y="11770"/>
                </a:cubicBezTo>
                <a:cubicBezTo>
                  <a:pt x="7065" y="11772"/>
                  <a:pt x="7120" y="11773"/>
                  <a:pt x="7140" y="11756"/>
                </a:cubicBezTo>
                <a:cubicBezTo>
                  <a:pt x="7144" y="11749"/>
                  <a:pt x="7148" y="11743"/>
                  <a:pt x="7152" y="11736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2825640" y="3819600"/>
            <a:ext cx="314280" cy="745920"/>
          </a:xfrm>
          <a:custGeom>
            <a:avLst/>
            <a:gdLst/>
            <a:ahLst/>
            <a:rect l="l" t="t" r="r" b="b"/>
            <a:pathLst>
              <a:path w="873" h="2072">
                <a:moveTo>
                  <a:pt x="8328" y="11175"/>
                </a:moveTo>
                <a:cubicBezTo>
                  <a:pt x="8359" y="11171"/>
                  <a:pt x="8387" y="11160"/>
                  <a:pt x="8417" y="11150"/>
                </a:cubicBezTo>
                <a:cubicBezTo>
                  <a:pt x="8382" y="11147"/>
                  <a:pt x="8352" y="11146"/>
                  <a:pt x="8316" y="11150"/>
                </a:cubicBezTo>
                <a:cubicBezTo>
                  <a:pt x="8271" y="11155"/>
                  <a:pt x="8228" y="11167"/>
                  <a:pt x="8184" y="11175"/>
                </a:cubicBezTo>
                <a:cubicBezTo>
                  <a:pt x="8094" y="11192"/>
                  <a:pt x="7992" y="11166"/>
                  <a:pt x="7905" y="11188"/>
                </a:cubicBezTo>
                <a:cubicBezTo>
                  <a:pt x="7864" y="11199"/>
                  <a:pt x="7843" y="11227"/>
                  <a:pt x="7854" y="11269"/>
                </a:cubicBezTo>
                <a:cubicBezTo>
                  <a:pt x="7861" y="11295"/>
                  <a:pt x="7895" y="11321"/>
                  <a:pt x="7914" y="11339"/>
                </a:cubicBezTo>
                <a:cubicBezTo>
                  <a:pt x="7943" y="11367"/>
                  <a:pt x="7969" y="11398"/>
                  <a:pt x="7993" y="11431"/>
                </a:cubicBezTo>
                <a:cubicBezTo>
                  <a:pt x="8021" y="11469"/>
                  <a:pt x="8041" y="11507"/>
                  <a:pt x="8053" y="11553"/>
                </a:cubicBezTo>
                <a:cubicBezTo>
                  <a:pt x="8071" y="11625"/>
                  <a:pt x="8060" y="11686"/>
                  <a:pt x="8036" y="11754"/>
                </a:cubicBezTo>
                <a:cubicBezTo>
                  <a:pt x="8023" y="11790"/>
                  <a:pt x="8004" y="11819"/>
                  <a:pt x="7985" y="11852"/>
                </a:cubicBezTo>
                <a:cubicBezTo>
                  <a:pt x="7969" y="11879"/>
                  <a:pt x="7955" y="11895"/>
                  <a:pt x="7982" y="11917"/>
                </a:cubicBezTo>
                <a:cubicBezTo>
                  <a:pt x="7999" y="11931"/>
                  <a:pt x="8035" y="11930"/>
                  <a:pt x="8055" y="11932"/>
                </a:cubicBezTo>
                <a:cubicBezTo>
                  <a:pt x="8126" y="11940"/>
                  <a:pt x="8197" y="11939"/>
                  <a:pt x="8268" y="11946"/>
                </a:cubicBezTo>
                <a:cubicBezTo>
                  <a:pt x="8353" y="11954"/>
                  <a:pt x="8437" y="11968"/>
                  <a:pt x="8521" y="11978"/>
                </a:cubicBezTo>
                <a:cubicBezTo>
                  <a:pt x="8538" y="11980"/>
                  <a:pt x="8554" y="11980"/>
                  <a:pt x="8571" y="11982"/>
                </a:cubicBezTo>
                <a:cubicBezTo>
                  <a:pt x="8567" y="11957"/>
                  <a:pt x="8567" y="11938"/>
                  <a:pt x="8551" y="11911"/>
                </a:cubicBezTo>
                <a:cubicBezTo>
                  <a:pt x="8532" y="11880"/>
                  <a:pt x="8513" y="11848"/>
                  <a:pt x="8491" y="11820"/>
                </a:cubicBezTo>
                <a:cubicBezTo>
                  <a:pt x="8464" y="11785"/>
                  <a:pt x="8449" y="11769"/>
                  <a:pt x="8446" y="11724"/>
                </a:cubicBezTo>
                <a:cubicBezTo>
                  <a:pt x="8444" y="11698"/>
                  <a:pt x="8452" y="11675"/>
                  <a:pt x="8459" y="11650"/>
                </a:cubicBezTo>
              </a:path>
              <a:path w="873" h="2072">
                <a:moveTo>
                  <a:pt x="8513" y="11293"/>
                </a:moveTo>
                <a:cubicBezTo>
                  <a:pt x="8505" y="11324"/>
                  <a:pt x="8497" y="11351"/>
                  <a:pt x="8490" y="11383"/>
                </a:cubicBezTo>
                <a:cubicBezTo>
                  <a:pt x="8484" y="11412"/>
                  <a:pt x="8492" y="11441"/>
                  <a:pt x="8493" y="11471"/>
                </a:cubicBezTo>
                <a:cubicBezTo>
                  <a:pt x="8493" y="11477"/>
                  <a:pt x="8494" y="11484"/>
                  <a:pt x="8494" y="11490"/>
                </a:cubicBezTo>
              </a:path>
              <a:path w="873" h="2072">
                <a:moveTo>
                  <a:pt x="8043" y="12434"/>
                </a:moveTo>
                <a:cubicBezTo>
                  <a:pt x="8047" y="12466"/>
                  <a:pt x="8037" y="12499"/>
                  <a:pt x="8032" y="12532"/>
                </a:cubicBezTo>
                <a:cubicBezTo>
                  <a:pt x="8026" y="12572"/>
                  <a:pt x="8016" y="12615"/>
                  <a:pt x="8019" y="12656"/>
                </a:cubicBezTo>
                <a:cubicBezTo>
                  <a:pt x="8023" y="12718"/>
                  <a:pt x="8021" y="12647"/>
                  <a:pt x="8020" y="12641"/>
                </a:cubicBezTo>
              </a:path>
              <a:path w="873" h="2072">
                <a:moveTo>
                  <a:pt x="7969" y="12307"/>
                </a:moveTo>
                <a:cubicBezTo>
                  <a:pt x="7961" y="12279"/>
                  <a:pt x="7956" y="12251"/>
                  <a:pt x="7951" y="12223"/>
                </a:cubicBezTo>
                <a:cubicBezTo>
                  <a:pt x="7944" y="12187"/>
                  <a:pt x="7948" y="12172"/>
                  <a:pt x="7981" y="12151"/>
                </a:cubicBezTo>
                <a:cubicBezTo>
                  <a:pt x="7998" y="12143"/>
                  <a:pt x="8004" y="12140"/>
                  <a:pt x="8015" y="12134"/>
                </a:cubicBezTo>
              </a:path>
              <a:path w="873" h="2072">
                <a:moveTo>
                  <a:pt x="8255" y="12377"/>
                </a:moveTo>
                <a:cubicBezTo>
                  <a:pt x="8258" y="12383"/>
                  <a:pt x="8262" y="12389"/>
                  <a:pt x="8265" y="12395"/>
                </a:cubicBezTo>
                <a:cubicBezTo>
                  <a:pt x="8286" y="12388"/>
                  <a:pt x="8310" y="12377"/>
                  <a:pt x="8332" y="12372"/>
                </a:cubicBezTo>
                <a:cubicBezTo>
                  <a:pt x="8371" y="12363"/>
                  <a:pt x="8407" y="12352"/>
                  <a:pt x="8446" y="12343"/>
                </a:cubicBezTo>
                <a:cubicBezTo>
                  <a:pt x="8453" y="12341"/>
                  <a:pt x="8459" y="12339"/>
                  <a:pt x="8466" y="12337"/>
                </a:cubicBezTo>
              </a:path>
              <a:path w="873" h="2072">
                <a:moveTo>
                  <a:pt x="8279" y="12566"/>
                </a:moveTo>
                <a:cubicBezTo>
                  <a:pt x="8262" y="12579"/>
                  <a:pt x="8256" y="12582"/>
                  <a:pt x="8264" y="12597"/>
                </a:cubicBezTo>
                <a:cubicBezTo>
                  <a:pt x="8297" y="12596"/>
                  <a:pt x="8318" y="12589"/>
                  <a:pt x="8350" y="12582"/>
                </a:cubicBezTo>
                <a:cubicBezTo>
                  <a:pt x="8387" y="12574"/>
                  <a:pt x="8419" y="12563"/>
                  <a:pt x="8456" y="12551"/>
                </a:cubicBezTo>
              </a:path>
              <a:path w="873" h="2072">
                <a:moveTo>
                  <a:pt x="8664" y="12393"/>
                </a:moveTo>
                <a:cubicBezTo>
                  <a:pt x="8677" y="12428"/>
                  <a:pt x="8690" y="12467"/>
                  <a:pt x="8696" y="12504"/>
                </a:cubicBezTo>
                <a:cubicBezTo>
                  <a:pt x="8699" y="12521"/>
                  <a:pt x="8706" y="12613"/>
                  <a:pt x="8718" y="12620"/>
                </a:cubicBezTo>
                <a:cubicBezTo>
                  <a:pt x="8719" y="12615"/>
                  <a:pt x="8721" y="12609"/>
                  <a:pt x="8722" y="12604"/>
                </a:cubicBezTo>
              </a:path>
              <a:path w="873" h="2072">
                <a:moveTo>
                  <a:pt x="8207" y="10762"/>
                </a:moveTo>
                <a:cubicBezTo>
                  <a:pt x="8219" y="10802"/>
                  <a:pt x="8224" y="10845"/>
                  <a:pt x="8231" y="10886"/>
                </a:cubicBezTo>
                <a:cubicBezTo>
                  <a:pt x="8237" y="10917"/>
                  <a:pt x="8242" y="10949"/>
                  <a:pt x="8247" y="10980"/>
                </a:cubicBezTo>
                <a:cubicBezTo>
                  <a:pt x="8250" y="10998"/>
                  <a:pt x="8254" y="11013"/>
                  <a:pt x="8258" y="11031"/>
                </a:cubicBezTo>
                <a:cubicBezTo>
                  <a:pt x="8259" y="11005"/>
                  <a:pt x="8259" y="10979"/>
                  <a:pt x="8258" y="10953"/>
                </a:cubicBezTo>
                <a:cubicBezTo>
                  <a:pt x="8257" y="10911"/>
                  <a:pt x="8257" y="10868"/>
                  <a:pt x="8264" y="10826"/>
                </a:cubicBezTo>
                <a:cubicBezTo>
                  <a:pt x="8271" y="10784"/>
                  <a:pt x="8280" y="10740"/>
                  <a:pt x="8296" y="10701"/>
                </a:cubicBezTo>
                <a:cubicBezTo>
                  <a:pt x="8309" y="10669"/>
                  <a:pt x="8328" y="10629"/>
                  <a:pt x="8360" y="10612"/>
                </a:cubicBezTo>
                <a:cubicBezTo>
                  <a:pt x="8381" y="10601"/>
                  <a:pt x="8411" y="10612"/>
                  <a:pt x="8427" y="10627"/>
                </a:cubicBezTo>
                <a:cubicBezTo>
                  <a:pt x="8456" y="10655"/>
                  <a:pt x="8476" y="10695"/>
                  <a:pt x="8491" y="10732"/>
                </a:cubicBezTo>
                <a:cubicBezTo>
                  <a:pt x="8506" y="10769"/>
                  <a:pt x="8517" y="10809"/>
                  <a:pt x="8526" y="10848"/>
                </a:cubicBezTo>
                <a:cubicBezTo>
                  <a:pt x="8530" y="10864"/>
                  <a:pt x="8544" y="10908"/>
                  <a:pt x="8528" y="10921"/>
                </a:cubicBezTo>
                <a:cubicBezTo>
                  <a:pt x="8523" y="10922"/>
                  <a:pt x="8518" y="10922"/>
                  <a:pt x="8513" y="10923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3254400" y="4002120"/>
            <a:ext cx="230040" cy="276120"/>
          </a:xfrm>
          <a:custGeom>
            <a:avLst/>
            <a:gdLst/>
            <a:ahLst/>
            <a:rect l="l" t="t" r="r" b="b"/>
            <a:pathLst>
              <a:path w="641" h="767">
                <a:moveTo>
                  <a:pt x="9086" y="11364"/>
                </a:moveTo>
                <a:cubicBezTo>
                  <a:pt x="9058" y="11367"/>
                  <a:pt x="9063" y="11366"/>
                  <a:pt x="9038" y="11363"/>
                </a:cubicBezTo>
                <a:cubicBezTo>
                  <a:pt x="9046" y="11335"/>
                  <a:pt x="9052" y="11309"/>
                  <a:pt x="9066" y="11282"/>
                </a:cubicBezTo>
                <a:cubicBezTo>
                  <a:pt x="9082" y="11251"/>
                  <a:pt x="9105" y="11225"/>
                  <a:pt x="9129" y="11201"/>
                </a:cubicBezTo>
                <a:cubicBezTo>
                  <a:pt x="9159" y="11171"/>
                  <a:pt x="9193" y="11158"/>
                  <a:pt x="9234" y="11175"/>
                </a:cubicBezTo>
                <a:cubicBezTo>
                  <a:pt x="9277" y="11192"/>
                  <a:pt x="9312" y="11244"/>
                  <a:pt x="9336" y="11282"/>
                </a:cubicBezTo>
                <a:cubicBezTo>
                  <a:pt x="9373" y="11342"/>
                  <a:pt x="9398" y="11416"/>
                  <a:pt x="9405" y="11487"/>
                </a:cubicBezTo>
                <a:cubicBezTo>
                  <a:pt x="9412" y="11561"/>
                  <a:pt x="9398" y="11644"/>
                  <a:pt x="9369" y="11712"/>
                </a:cubicBezTo>
                <a:cubicBezTo>
                  <a:pt x="9348" y="11763"/>
                  <a:pt x="9313" y="11825"/>
                  <a:pt x="9271" y="11862"/>
                </a:cubicBezTo>
                <a:cubicBezTo>
                  <a:pt x="9248" y="11882"/>
                  <a:pt x="9219" y="11891"/>
                  <a:pt x="9198" y="11865"/>
                </a:cubicBezTo>
                <a:cubicBezTo>
                  <a:pt x="9179" y="11841"/>
                  <a:pt x="9177" y="11780"/>
                  <a:pt x="9177" y="11751"/>
                </a:cubicBezTo>
                <a:cubicBezTo>
                  <a:pt x="9177" y="11722"/>
                  <a:pt x="9178" y="11665"/>
                  <a:pt x="9204" y="11645"/>
                </a:cubicBezTo>
                <a:cubicBezTo>
                  <a:pt x="9233" y="11623"/>
                  <a:pt x="9284" y="11655"/>
                  <a:pt x="9307" y="11669"/>
                </a:cubicBezTo>
                <a:cubicBezTo>
                  <a:pt x="9376" y="11711"/>
                  <a:pt x="9442" y="11764"/>
                  <a:pt x="9506" y="11812"/>
                </a:cubicBezTo>
                <a:cubicBezTo>
                  <a:pt x="9550" y="11845"/>
                  <a:pt x="9546" y="11810"/>
                  <a:pt x="9557" y="11768"/>
                </a:cubicBezTo>
              </a:path>
              <a:path w="641" h="767">
                <a:moveTo>
                  <a:pt x="9659" y="11116"/>
                </a:moveTo>
                <a:cubicBezTo>
                  <a:pt x="9662" y="11146"/>
                  <a:pt x="9661" y="11179"/>
                  <a:pt x="9665" y="11208"/>
                </a:cubicBezTo>
                <a:cubicBezTo>
                  <a:pt x="9667" y="11223"/>
                  <a:pt x="9689" y="11306"/>
                  <a:pt x="9678" y="11319"/>
                </a:cubicBezTo>
                <a:cubicBezTo>
                  <a:pt x="9663" y="11316"/>
                  <a:pt x="9657" y="11316"/>
                  <a:pt x="9658" y="11302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3621240" y="4106880"/>
            <a:ext cx="109440" cy="77760"/>
          </a:xfrm>
          <a:custGeom>
            <a:avLst/>
            <a:gdLst/>
            <a:ahLst/>
            <a:rect l="l" t="t" r="r" b="b"/>
            <a:pathLst>
              <a:path w="306" h="215">
                <a:moveTo>
                  <a:pt x="10059" y="11460"/>
                </a:moveTo>
                <a:cubicBezTo>
                  <a:pt x="10063" y="11429"/>
                  <a:pt x="10061" y="11425"/>
                  <a:pt x="10093" y="11425"/>
                </a:cubicBezTo>
                <a:cubicBezTo>
                  <a:pt x="10124" y="11425"/>
                  <a:pt x="10156" y="11427"/>
                  <a:pt x="10187" y="11427"/>
                </a:cubicBezTo>
                <a:cubicBezTo>
                  <a:pt x="10228" y="11426"/>
                  <a:pt x="10275" y="11426"/>
                  <a:pt x="10315" y="11418"/>
                </a:cubicBezTo>
                <a:cubicBezTo>
                  <a:pt x="10339" y="11410"/>
                  <a:pt x="10347" y="11408"/>
                  <a:pt x="10364" y="11411"/>
                </a:cubicBezTo>
              </a:path>
              <a:path w="306" h="215">
                <a:moveTo>
                  <a:pt x="10112" y="11618"/>
                </a:moveTo>
                <a:cubicBezTo>
                  <a:pt x="10099" y="11622"/>
                  <a:pt x="10094" y="11623"/>
                  <a:pt x="10085" y="11622"/>
                </a:cubicBezTo>
                <a:cubicBezTo>
                  <a:pt x="10109" y="11621"/>
                  <a:pt x="10139" y="11614"/>
                  <a:pt x="10165" y="11607"/>
                </a:cubicBezTo>
                <a:cubicBezTo>
                  <a:pt x="10209" y="11596"/>
                  <a:pt x="10253" y="11588"/>
                  <a:pt x="10297" y="11574"/>
                </a:cubicBezTo>
                <a:cubicBezTo>
                  <a:pt x="10322" y="11567"/>
                  <a:pt x="10329" y="11565"/>
                  <a:pt x="10342" y="11554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3868560" y="3902040"/>
            <a:ext cx="565200" cy="339840"/>
          </a:xfrm>
          <a:custGeom>
            <a:avLst/>
            <a:gdLst/>
            <a:ahLst/>
            <a:rect l="l" t="t" r="r" b="b"/>
            <a:pathLst>
              <a:path w="1572" h="942">
                <a:moveTo>
                  <a:pt x="10754" y="11375"/>
                </a:moveTo>
                <a:cubicBezTo>
                  <a:pt x="10745" y="11350"/>
                  <a:pt x="10748" y="11331"/>
                  <a:pt x="10755" y="11305"/>
                </a:cubicBezTo>
                <a:cubicBezTo>
                  <a:pt x="10765" y="11270"/>
                  <a:pt x="10782" y="11235"/>
                  <a:pt x="10806" y="11207"/>
                </a:cubicBezTo>
                <a:cubicBezTo>
                  <a:pt x="10831" y="11177"/>
                  <a:pt x="10865" y="11148"/>
                  <a:pt x="10906" y="11160"/>
                </a:cubicBezTo>
                <a:cubicBezTo>
                  <a:pt x="10959" y="11175"/>
                  <a:pt x="10982" y="11243"/>
                  <a:pt x="10995" y="11289"/>
                </a:cubicBezTo>
                <a:cubicBezTo>
                  <a:pt x="11019" y="11373"/>
                  <a:pt x="11026" y="11464"/>
                  <a:pt x="11013" y="11550"/>
                </a:cubicBezTo>
                <a:cubicBezTo>
                  <a:pt x="11003" y="11618"/>
                  <a:pt x="10978" y="11698"/>
                  <a:pt x="10931" y="11750"/>
                </a:cubicBezTo>
                <a:cubicBezTo>
                  <a:pt x="10892" y="11793"/>
                  <a:pt x="10832" y="11790"/>
                  <a:pt x="10805" y="11739"/>
                </a:cubicBezTo>
                <a:cubicBezTo>
                  <a:pt x="10785" y="11700"/>
                  <a:pt x="10784" y="11651"/>
                  <a:pt x="10795" y="11610"/>
                </a:cubicBezTo>
                <a:cubicBezTo>
                  <a:pt x="10805" y="11574"/>
                  <a:pt x="10828" y="11541"/>
                  <a:pt x="10869" y="11543"/>
                </a:cubicBezTo>
                <a:cubicBezTo>
                  <a:pt x="10937" y="11546"/>
                  <a:pt x="11028" y="11615"/>
                  <a:pt x="11077" y="11657"/>
                </a:cubicBezTo>
                <a:cubicBezTo>
                  <a:pt x="11100" y="11677"/>
                  <a:pt x="11109" y="11687"/>
                  <a:pt x="11135" y="11700"/>
                </a:cubicBezTo>
              </a:path>
              <a:path w="1572" h="942">
                <a:moveTo>
                  <a:pt x="11326" y="10950"/>
                </a:moveTo>
                <a:cubicBezTo>
                  <a:pt x="11344" y="10974"/>
                  <a:pt x="11341" y="11000"/>
                  <a:pt x="11347" y="11031"/>
                </a:cubicBezTo>
                <a:cubicBezTo>
                  <a:pt x="11354" y="11073"/>
                  <a:pt x="11361" y="11114"/>
                  <a:pt x="11368" y="11156"/>
                </a:cubicBezTo>
                <a:cubicBezTo>
                  <a:pt x="11372" y="11177"/>
                  <a:pt x="11373" y="11181"/>
                  <a:pt x="11375" y="11194"/>
                </a:cubicBezTo>
                <a:cubicBezTo>
                  <a:pt x="11384" y="11154"/>
                  <a:pt x="11390" y="11115"/>
                  <a:pt x="11398" y="11075"/>
                </a:cubicBezTo>
                <a:cubicBezTo>
                  <a:pt x="11406" y="11032"/>
                  <a:pt x="11417" y="10990"/>
                  <a:pt x="11432" y="10949"/>
                </a:cubicBezTo>
                <a:cubicBezTo>
                  <a:pt x="11440" y="10930"/>
                  <a:pt x="11441" y="10925"/>
                  <a:pt x="11449" y="10914"/>
                </a:cubicBezTo>
                <a:cubicBezTo>
                  <a:pt x="11479" y="10932"/>
                  <a:pt x="11486" y="10960"/>
                  <a:pt x="11498" y="10996"/>
                </a:cubicBezTo>
                <a:cubicBezTo>
                  <a:pt x="11514" y="11042"/>
                  <a:pt x="11529" y="11090"/>
                  <a:pt x="11538" y="11138"/>
                </a:cubicBezTo>
                <a:cubicBezTo>
                  <a:pt x="11544" y="11168"/>
                  <a:pt x="11551" y="11195"/>
                  <a:pt x="11556" y="11225"/>
                </a:cubicBezTo>
              </a:path>
              <a:path w="1572" h="942">
                <a:moveTo>
                  <a:pt x="11821" y="10964"/>
                </a:moveTo>
                <a:cubicBezTo>
                  <a:pt x="11826" y="10959"/>
                  <a:pt x="11831" y="10955"/>
                  <a:pt x="11836" y="10950"/>
                </a:cubicBezTo>
                <a:cubicBezTo>
                  <a:pt x="11854" y="10983"/>
                  <a:pt x="11860" y="11005"/>
                  <a:pt x="11869" y="11041"/>
                </a:cubicBezTo>
                <a:cubicBezTo>
                  <a:pt x="11876" y="11066"/>
                  <a:pt x="11883" y="11092"/>
                  <a:pt x="11888" y="11117"/>
                </a:cubicBezTo>
                <a:cubicBezTo>
                  <a:pt x="11890" y="11132"/>
                  <a:pt x="11890" y="11137"/>
                  <a:pt x="11875" y="11125"/>
                </a:cubicBezTo>
              </a:path>
              <a:path w="1572" h="942">
                <a:moveTo>
                  <a:pt x="11710" y="11068"/>
                </a:moveTo>
                <a:cubicBezTo>
                  <a:pt x="11738" y="11038"/>
                  <a:pt x="11767" y="11030"/>
                  <a:pt x="11811" y="11018"/>
                </a:cubicBezTo>
                <a:cubicBezTo>
                  <a:pt x="11866" y="11003"/>
                  <a:pt x="11922" y="10996"/>
                  <a:pt x="11976" y="10980"/>
                </a:cubicBezTo>
                <a:cubicBezTo>
                  <a:pt x="12019" y="10967"/>
                  <a:pt x="12062" y="10958"/>
                  <a:pt x="12105" y="10949"/>
                </a:cubicBezTo>
              </a:path>
              <a:path w="1572" h="942">
                <a:moveTo>
                  <a:pt x="12256" y="10839"/>
                </a:moveTo>
                <a:cubicBezTo>
                  <a:pt x="12256" y="10874"/>
                  <a:pt x="12255" y="10907"/>
                  <a:pt x="12259" y="10943"/>
                </a:cubicBezTo>
                <a:cubicBezTo>
                  <a:pt x="12267" y="11006"/>
                  <a:pt x="12280" y="11069"/>
                  <a:pt x="12293" y="11131"/>
                </a:cubicBezTo>
                <a:cubicBezTo>
                  <a:pt x="12300" y="11163"/>
                  <a:pt x="12311" y="11194"/>
                  <a:pt x="12317" y="11226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4581360" y="4002120"/>
            <a:ext cx="266760" cy="244440"/>
          </a:xfrm>
          <a:custGeom>
            <a:avLst/>
            <a:gdLst/>
            <a:ahLst/>
            <a:rect l="l" t="t" r="r" b="b"/>
            <a:pathLst>
              <a:path w="740" h="678">
                <a:moveTo>
                  <a:pt x="12764" y="11466"/>
                </a:moveTo>
                <a:cubicBezTo>
                  <a:pt x="12745" y="11471"/>
                  <a:pt x="12740" y="11472"/>
                  <a:pt x="12728" y="11474"/>
                </a:cubicBezTo>
                <a:cubicBezTo>
                  <a:pt x="12761" y="11481"/>
                  <a:pt x="12794" y="11489"/>
                  <a:pt x="12827" y="11493"/>
                </a:cubicBezTo>
                <a:cubicBezTo>
                  <a:pt x="12872" y="11499"/>
                  <a:pt x="12914" y="11498"/>
                  <a:pt x="12960" y="11495"/>
                </a:cubicBezTo>
                <a:cubicBezTo>
                  <a:pt x="13008" y="11492"/>
                  <a:pt x="13063" y="11477"/>
                  <a:pt x="13108" y="11457"/>
                </a:cubicBezTo>
                <a:cubicBezTo>
                  <a:pt x="13131" y="11442"/>
                  <a:pt x="13138" y="11437"/>
                  <a:pt x="13154" y="11428"/>
                </a:cubicBezTo>
              </a:path>
              <a:path w="740" h="678">
                <a:moveTo>
                  <a:pt x="13400" y="11134"/>
                </a:moveTo>
                <a:cubicBezTo>
                  <a:pt x="13403" y="11128"/>
                  <a:pt x="13407" y="11123"/>
                  <a:pt x="13410" y="11117"/>
                </a:cubicBezTo>
                <a:cubicBezTo>
                  <a:pt x="13414" y="11151"/>
                  <a:pt x="13412" y="11185"/>
                  <a:pt x="13414" y="11219"/>
                </a:cubicBezTo>
                <a:cubicBezTo>
                  <a:pt x="13419" y="11303"/>
                  <a:pt x="13422" y="11387"/>
                  <a:pt x="13426" y="11471"/>
                </a:cubicBezTo>
                <a:cubicBezTo>
                  <a:pt x="13430" y="11561"/>
                  <a:pt x="13429" y="11653"/>
                  <a:pt x="13440" y="11742"/>
                </a:cubicBezTo>
                <a:cubicBezTo>
                  <a:pt x="13443" y="11768"/>
                  <a:pt x="13451" y="11777"/>
                  <a:pt x="13467" y="11794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324400" y="3913200"/>
            <a:ext cx="398520" cy="306360"/>
          </a:xfrm>
          <a:custGeom>
            <a:avLst/>
            <a:gdLst/>
            <a:ahLst/>
            <a:rect l="l" t="t" r="r" b="b"/>
            <a:pathLst>
              <a:path w="1108" h="852">
                <a:moveTo>
                  <a:pt x="15050" y="11721"/>
                </a:moveTo>
                <a:cubicBezTo>
                  <a:pt x="15029" y="11691"/>
                  <a:pt x="15019" y="11663"/>
                  <a:pt x="15006" y="11628"/>
                </a:cubicBezTo>
                <a:cubicBezTo>
                  <a:pt x="14981" y="11559"/>
                  <a:pt x="14967" y="11489"/>
                  <a:pt x="14954" y="11416"/>
                </a:cubicBezTo>
                <a:cubicBezTo>
                  <a:pt x="14937" y="11321"/>
                  <a:pt x="14924" y="11227"/>
                  <a:pt x="14918" y="11131"/>
                </a:cubicBezTo>
                <a:cubicBezTo>
                  <a:pt x="14914" y="11059"/>
                  <a:pt x="14906" y="10964"/>
                  <a:pt x="14961" y="10906"/>
                </a:cubicBezTo>
                <a:cubicBezTo>
                  <a:pt x="14996" y="10869"/>
                  <a:pt x="15043" y="10873"/>
                  <a:pt x="15089" y="10873"/>
                </a:cubicBezTo>
                <a:cubicBezTo>
                  <a:pt x="15153" y="10874"/>
                  <a:pt x="15187" y="10891"/>
                  <a:pt x="15216" y="10947"/>
                </a:cubicBezTo>
              </a:path>
              <a:path w="1108" h="852">
                <a:moveTo>
                  <a:pt x="14796" y="11372"/>
                </a:moveTo>
                <a:cubicBezTo>
                  <a:pt x="14795" y="11401"/>
                  <a:pt x="14829" y="11391"/>
                  <a:pt x="14864" y="11392"/>
                </a:cubicBezTo>
                <a:cubicBezTo>
                  <a:pt x="14948" y="11394"/>
                  <a:pt x="15042" y="11390"/>
                  <a:pt x="15124" y="11369"/>
                </a:cubicBezTo>
                <a:cubicBezTo>
                  <a:pt x="15170" y="11357"/>
                  <a:pt x="15214" y="11345"/>
                  <a:pt x="15258" y="11330"/>
                </a:cubicBezTo>
              </a:path>
              <a:path w="1108" h="852">
                <a:moveTo>
                  <a:pt x="15334" y="11349"/>
                </a:moveTo>
                <a:cubicBezTo>
                  <a:pt x="15314" y="11384"/>
                  <a:pt x="15301" y="11415"/>
                  <a:pt x="15285" y="11452"/>
                </a:cubicBezTo>
                <a:cubicBezTo>
                  <a:pt x="15268" y="11490"/>
                  <a:pt x="15256" y="11535"/>
                  <a:pt x="15255" y="11577"/>
                </a:cubicBezTo>
                <a:cubicBezTo>
                  <a:pt x="15254" y="11600"/>
                  <a:pt x="15259" y="11642"/>
                  <a:pt x="15291" y="11641"/>
                </a:cubicBezTo>
                <a:cubicBezTo>
                  <a:pt x="15322" y="11640"/>
                  <a:pt x="15357" y="11598"/>
                  <a:pt x="15371" y="11574"/>
                </a:cubicBezTo>
                <a:cubicBezTo>
                  <a:pt x="15394" y="11535"/>
                  <a:pt x="15411" y="11487"/>
                  <a:pt x="15415" y="11442"/>
                </a:cubicBezTo>
                <a:cubicBezTo>
                  <a:pt x="15418" y="11408"/>
                  <a:pt x="15409" y="11378"/>
                  <a:pt x="15395" y="11348"/>
                </a:cubicBezTo>
                <a:cubicBezTo>
                  <a:pt x="15385" y="11328"/>
                  <a:pt x="15381" y="11320"/>
                  <a:pt x="15372" y="11307"/>
                </a:cubicBezTo>
              </a:path>
              <a:path w="1108" h="852">
                <a:moveTo>
                  <a:pt x="15601" y="11654"/>
                </a:moveTo>
                <a:cubicBezTo>
                  <a:pt x="15620" y="11681"/>
                  <a:pt x="15632" y="11699"/>
                  <a:pt x="15655" y="11721"/>
                </a:cubicBezTo>
                <a:cubicBezTo>
                  <a:pt x="15653" y="11682"/>
                  <a:pt x="15639" y="11644"/>
                  <a:pt x="15637" y="11604"/>
                </a:cubicBezTo>
                <a:cubicBezTo>
                  <a:pt x="15634" y="11552"/>
                  <a:pt x="15636" y="11494"/>
                  <a:pt x="15658" y="11446"/>
                </a:cubicBezTo>
                <a:cubicBezTo>
                  <a:pt x="15681" y="11396"/>
                  <a:pt x="15718" y="11378"/>
                  <a:pt x="15760" y="11351"/>
                </a:cubicBezTo>
                <a:cubicBezTo>
                  <a:pt x="15799" y="11326"/>
                  <a:pt x="15841" y="11330"/>
                  <a:pt x="15883" y="11311"/>
                </a:cubicBezTo>
                <a:cubicBezTo>
                  <a:pt x="15888" y="11308"/>
                  <a:pt x="15892" y="11304"/>
                  <a:pt x="15897" y="11301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5942160" y="3916440"/>
            <a:ext cx="301320" cy="287280"/>
          </a:xfrm>
          <a:custGeom>
            <a:avLst/>
            <a:gdLst/>
            <a:ahLst/>
            <a:rect l="l" t="t" r="r" b="b"/>
            <a:pathLst>
              <a:path w="837" h="795">
                <a:moveTo>
                  <a:pt x="16779" y="11334"/>
                </a:moveTo>
                <a:cubicBezTo>
                  <a:pt x="16764" y="11304"/>
                  <a:pt x="16751" y="11296"/>
                  <a:pt x="16717" y="11305"/>
                </a:cubicBezTo>
                <a:cubicBezTo>
                  <a:pt x="16661" y="11320"/>
                  <a:pt x="16616" y="11376"/>
                  <a:pt x="16584" y="11422"/>
                </a:cubicBezTo>
                <a:cubicBezTo>
                  <a:pt x="16545" y="11479"/>
                  <a:pt x="16506" y="11547"/>
                  <a:pt x="16505" y="11618"/>
                </a:cubicBezTo>
                <a:cubicBezTo>
                  <a:pt x="16504" y="11665"/>
                  <a:pt x="16537" y="11684"/>
                  <a:pt x="16580" y="11669"/>
                </a:cubicBezTo>
                <a:cubicBezTo>
                  <a:pt x="16653" y="11643"/>
                  <a:pt x="16701" y="11572"/>
                  <a:pt x="16758" y="11524"/>
                </a:cubicBezTo>
                <a:cubicBezTo>
                  <a:pt x="16771" y="11514"/>
                  <a:pt x="16775" y="11510"/>
                  <a:pt x="16786" y="11513"/>
                </a:cubicBezTo>
                <a:cubicBezTo>
                  <a:pt x="16807" y="11545"/>
                  <a:pt x="16820" y="11574"/>
                  <a:pt x="16825" y="11613"/>
                </a:cubicBezTo>
                <a:cubicBezTo>
                  <a:pt x="16827" y="11634"/>
                  <a:pt x="16828" y="11643"/>
                  <a:pt x="16836" y="11662"/>
                </a:cubicBezTo>
              </a:path>
              <a:path w="837" h="795">
                <a:moveTo>
                  <a:pt x="17030" y="11032"/>
                </a:moveTo>
                <a:cubicBezTo>
                  <a:pt x="17040" y="11092"/>
                  <a:pt x="17044" y="11152"/>
                  <a:pt x="17050" y="11213"/>
                </a:cubicBezTo>
                <a:cubicBezTo>
                  <a:pt x="17057" y="11281"/>
                  <a:pt x="17060" y="11351"/>
                  <a:pt x="17074" y="11418"/>
                </a:cubicBezTo>
                <a:cubicBezTo>
                  <a:pt x="17076" y="11427"/>
                  <a:pt x="17079" y="11436"/>
                  <a:pt x="17081" y="11445"/>
                </a:cubicBezTo>
              </a:path>
              <a:path w="837" h="795">
                <a:moveTo>
                  <a:pt x="17186" y="10885"/>
                </a:moveTo>
                <a:cubicBezTo>
                  <a:pt x="17240" y="10897"/>
                  <a:pt x="17235" y="10949"/>
                  <a:pt x="17246" y="11003"/>
                </a:cubicBezTo>
                <a:cubicBezTo>
                  <a:pt x="17267" y="11105"/>
                  <a:pt x="17275" y="11208"/>
                  <a:pt x="17287" y="11311"/>
                </a:cubicBezTo>
                <a:cubicBezTo>
                  <a:pt x="17296" y="11392"/>
                  <a:pt x="17304" y="11480"/>
                  <a:pt x="17323" y="11559"/>
                </a:cubicBezTo>
                <a:cubicBezTo>
                  <a:pt x="17332" y="11585"/>
                  <a:pt x="17333" y="11590"/>
                  <a:pt x="17341" y="11604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6515280" y="3894120"/>
            <a:ext cx="1514160" cy="426960"/>
          </a:xfrm>
          <a:custGeom>
            <a:avLst/>
            <a:gdLst/>
            <a:ahLst/>
            <a:rect l="l" t="t" r="r" b="b"/>
            <a:pathLst>
              <a:path w="4208" h="1189">
                <a:moveTo>
                  <a:pt x="18097" y="11226"/>
                </a:moveTo>
                <a:cubicBezTo>
                  <a:pt x="18100" y="11257"/>
                  <a:pt x="18102" y="11290"/>
                  <a:pt x="18104" y="11322"/>
                </a:cubicBezTo>
                <a:cubicBezTo>
                  <a:pt x="18107" y="11375"/>
                  <a:pt x="18114" y="11427"/>
                  <a:pt x="18118" y="11480"/>
                </a:cubicBezTo>
                <a:cubicBezTo>
                  <a:pt x="18120" y="11506"/>
                  <a:pt x="18122" y="11531"/>
                  <a:pt x="18125" y="11557"/>
                </a:cubicBezTo>
                <a:cubicBezTo>
                  <a:pt x="18126" y="11517"/>
                  <a:pt x="18127" y="11477"/>
                  <a:pt x="18132" y="11437"/>
                </a:cubicBezTo>
                <a:cubicBezTo>
                  <a:pt x="18140" y="11374"/>
                  <a:pt x="18152" y="11307"/>
                  <a:pt x="18169" y="11246"/>
                </a:cubicBezTo>
                <a:cubicBezTo>
                  <a:pt x="18181" y="11204"/>
                  <a:pt x="18195" y="11164"/>
                  <a:pt x="18218" y="11128"/>
                </a:cubicBezTo>
                <a:cubicBezTo>
                  <a:pt x="18260" y="11161"/>
                  <a:pt x="18261" y="11198"/>
                  <a:pt x="18275" y="11251"/>
                </a:cubicBezTo>
                <a:cubicBezTo>
                  <a:pt x="18295" y="11326"/>
                  <a:pt x="18312" y="11401"/>
                  <a:pt x="18324" y="11477"/>
                </a:cubicBezTo>
                <a:cubicBezTo>
                  <a:pt x="18332" y="11529"/>
                  <a:pt x="18338" y="11565"/>
                  <a:pt x="18381" y="11591"/>
                </a:cubicBezTo>
              </a:path>
              <a:path w="4208" h="1189">
                <a:moveTo>
                  <a:pt x="18644" y="11281"/>
                </a:moveTo>
                <a:cubicBezTo>
                  <a:pt x="18653" y="11264"/>
                  <a:pt x="18656" y="11258"/>
                  <a:pt x="18652" y="11245"/>
                </a:cubicBezTo>
                <a:cubicBezTo>
                  <a:pt x="18610" y="11257"/>
                  <a:pt x="18600" y="11281"/>
                  <a:pt x="18583" y="11328"/>
                </a:cubicBezTo>
                <a:cubicBezTo>
                  <a:pt x="18568" y="11368"/>
                  <a:pt x="18557" y="11419"/>
                  <a:pt x="18569" y="11462"/>
                </a:cubicBezTo>
                <a:cubicBezTo>
                  <a:pt x="18576" y="11487"/>
                  <a:pt x="18600" y="11505"/>
                  <a:pt x="18625" y="11490"/>
                </a:cubicBezTo>
                <a:cubicBezTo>
                  <a:pt x="18656" y="11471"/>
                  <a:pt x="18665" y="11431"/>
                  <a:pt x="18674" y="11399"/>
                </a:cubicBezTo>
                <a:cubicBezTo>
                  <a:pt x="18687" y="11355"/>
                  <a:pt x="18693" y="11301"/>
                  <a:pt x="18691" y="11255"/>
                </a:cubicBezTo>
                <a:cubicBezTo>
                  <a:pt x="18687" y="11224"/>
                  <a:pt x="18686" y="11214"/>
                  <a:pt x="18684" y="11194"/>
                </a:cubicBezTo>
              </a:path>
              <a:path w="4208" h="1189">
                <a:moveTo>
                  <a:pt x="18771" y="11223"/>
                </a:moveTo>
                <a:cubicBezTo>
                  <a:pt x="18792" y="11283"/>
                  <a:pt x="18810" y="11345"/>
                  <a:pt x="18825" y="11407"/>
                </a:cubicBezTo>
                <a:cubicBezTo>
                  <a:pt x="18834" y="11445"/>
                  <a:pt x="18841" y="11483"/>
                  <a:pt x="18865" y="11512"/>
                </a:cubicBezTo>
                <a:cubicBezTo>
                  <a:pt x="18876" y="11479"/>
                  <a:pt x="18880" y="11444"/>
                  <a:pt x="18888" y="11410"/>
                </a:cubicBezTo>
                <a:cubicBezTo>
                  <a:pt x="18899" y="11359"/>
                  <a:pt x="18915" y="11305"/>
                  <a:pt x="18943" y="11260"/>
                </a:cubicBezTo>
                <a:cubicBezTo>
                  <a:pt x="18961" y="11231"/>
                  <a:pt x="18967" y="11233"/>
                  <a:pt x="18996" y="11237"/>
                </a:cubicBezTo>
                <a:cubicBezTo>
                  <a:pt x="19026" y="11277"/>
                  <a:pt x="19039" y="11317"/>
                  <a:pt x="19049" y="11367"/>
                </a:cubicBezTo>
                <a:cubicBezTo>
                  <a:pt x="19059" y="11415"/>
                  <a:pt x="19059" y="11464"/>
                  <a:pt x="19066" y="11512"/>
                </a:cubicBezTo>
                <a:cubicBezTo>
                  <a:pt x="19066" y="11518"/>
                  <a:pt x="19067" y="11525"/>
                  <a:pt x="19067" y="11531"/>
                </a:cubicBezTo>
              </a:path>
              <a:path w="4208" h="1189">
                <a:moveTo>
                  <a:pt x="19226" y="11386"/>
                </a:moveTo>
                <a:cubicBezTo>
                  <a:pt x="19254" y="11382"/>
                  <a:pt x="19278" y="11374"/>
                  <a:pt x="19303" y="11357"/>
                </a:cubicBezTo>
                <a:cubicBezTo>
                  <a:pt x="19337" y="11333"/>
                  <a:pt x="19371" y="11314"/>
                  <a:pt x="19404" y="11289"/>
                </a:cubicBezTo>
                <a:cubicBezTo>
                  <a:pt x="19425" y="11274"/>
                  <a:pt x="19431" y="11271"/>
                  <a:pt x="19437" y="11255"/>
                </a:cubicBezTo>
              </a:path>
              <a:path w="4208" h="1189">
                <a:moveTo>
                  <a:pt x="19666" y="11088"/>
                </a:moveTo>
                <a:cubicBezTo>
                  <a:pt x="19671" y="11163"/>
                  <a:pt x="19673" y="11239"/>
                  <a:pt x="19675" y="11314"/>
                </a:cubicBezTo>
                <a:cubicBezTo>
                  <a:pt x="19676" y="11367"/>
                  <a:pt x="19679" y="11421"/>
                  <a:pt x="19679" y="11474"/>
                </a:cubicBezTo>
                <a:cubicBezTo>
                  <a:pt x="19679" y="11479"/>
                  <a:pt x="19679" y="11485"/>
                  <a:pt x="19679" y="11490"/>
                </a:cubicBezTo>
                <a:cubicBezTo>
                  <a:pt x="19675" y="11452"/>
                  <a:pt x="19683" y="11423"/>
                  <a:pt x="19693" y="11386"/>
                </a:cubicBezTo>
                <a:cubicBezTo>
                  <a:pt x="19704" y="11343"/>
                  <a:pt x="19716" y="11299"/>
                  <a:pt x="19739" y="11261"/>
                </a:cubicBezTo>
                <a:cubicBezTo>
                  <a:pt x="19750" y="11246"/>
                  <a:pt x="19754" y="11241"/>
                  <a:pt x="19766" y="11237"/>
                </a:cubicBezTo>
                <a:cubicBezTo>
                  <a:pt x="19792" y="11278"/>
                  <a:pt x="19798" y="11318"/>
                  <a:pt x="19810" y="11366"/>
                </a:cubicBezTo>
                <a:cubicBezTo>
                  <a:pt x="19822" y="11413"/>
                  <a:pt x="19834" y="11467"/>
                  <a:pt x="19858" y="11509"/>
                </a:cubicBezTo>
                <a:cubicBezTo>
                  <a:pt x="19874" y="11531"/>
                  <a:pt x="19879" y="11538"/>
                  <a:pt x="19899" y="11539"/>
                </a:cubicBezTo>
              </a:path>
              <a:path w="4208" h="1189">
                <a:moveTo>
                  <a:pt x="20091" y="11366"/>
                </a:moveTo>
                <a:cubicBezTo>
                  <a:pt x="20121" y="11358"/>
                  <a:pt x="20159" y="11345"/>
                  <a:pt x="20183" y="11326"/>
                </a:cubicBezTo>
                <a:cubicBezTo>
                  <a:pt x="20215" y="11301"/>
                  <a:pt x="20256" y="11265"/>
                  <a:pt x="20278" y="11231"/>
                </a:cubicBezTo>
                <a:cubicBezTo>
                  <a:pt x="20297" y="11202"/>
                  <a:pt x="20304" y="11179"/>
                  <a:pt x="20299" y="11146"/>
                </a:cubicBezTo>
                <a:cubicBezTo>
                  <a:pt x="20254" y="11135"/>
                  <a:pt x="20234" y="11148"/>
                  <a:pt x="20198" y="11181"/>
                </a:cubicBezTo>
                <a:cubicBezTo>
                  <a:pt x="20155" y="11221"/>
                  <a:pt x="20121" y="11267"/>
                  <a:pt x="20096" y="11320"/>
                </a:cubicBezTo>
                <a:cubicBezTo>
                  <a:pt x="20079" y="11355"/>
                  <a:pt x="20063" y="11408"/>
                  <a:pt x="20100" y="11436"/>
                </a:cubicBezTo>
                <a:cubicBezTo>
                  <a:pt x="20137" y="11464"/>
                  <a:pt x="20187" y="11435"/>
                  <a:pt x="20220" y="11422"/>
                </a:cubicBezTo>
                <a:cubicBezTo>
                  <a:pt x="20260" y="11407"/>
                  <a:pt x="20274" y="11401"/>
                  <a:pt x="20295" y="11381"/>
                </a:cubicBezTo>
              </a:path>
              <a:path w="4208" h="1189">
                <a:moveTo>
                  <a:pt x="20547" y="11194"/>
                </a:moveTo>
                <a:cubicBezTo>
                  <a:pt x="20530" y="11234"/>
                  <a:pt x="20507" y="11271"/>
                  <a:pt x="20490" y="11311"/>
                </a:cubicBezTo>
                <a:cubicBezTo>
                  <a:pt x="20471" y="11356"/>
                  <a:pt x="20449" y="11406"/>
                  <a:pt x="20441" y="11454"/>
                </a:cubicBezTo>
                <a:cubicBezTo>
                  <a:pt x="20435" y="11490"/>
                  <a:pt x="20440" y="11479"/>
                  <a:pt x="20456" y="11498"/>
                </a:cubicBezTo>
                <a:cubicBezTo>
                  <a:pt x="20474" y="11482"/>
                  <a:pt x="20489" y="11470"/>
                  <a:pt x="20503" y="11449"/>
                </a:cubicBezTo>
                <a:cubicBezTo>
                  <a:pt x="20514" y="11432"/>
                  <a:pt x="20519" y="11425"/>
                  <a:pt x="20524" y="11411"/>
                </a:cubicBezTo>
                <a:cubicBezTo>
                  <a:pt x="20539" y="11459"/>
                  <a:pt x="20548" y="11508"/>
                  <a:pt x="20562" y="11557"/>
                </a:cubicBezTo>
                <a:cubicBezTo>
                  <a:pt x="20584" y="11635"/>
                  <a:pt x="20610" y="11711"/>
                  <a:pt x="20626" y="11791"/>
                </a:cubicBezTo>
                <a:cubicBezTo>
                  <a:pt x="20637" y="11848"/>
                  <a:pt x="20654" y="11920"/>
                  <a:pt x="20616" y="11970"/>
                </a:cubicBezTo>
                <a:cubicBezTo>
                  <a:pt x="20587" y="12008"/>
                  <a:pt x="20534" y="12011"/>
                  <a:pt x="20494" y="11990"/>
                </a:cubicBezTo>
                <a:cubicBezTo>
                  <a:pt x="20435" y="11960"/>
                  <a:pt x="20404" y="11896"/>
                  <a:pt x="20372" y="11842"/>
                </a:cubicBezTo>
              </a:path>
              <a:path w="4208" h="1189">
                <a:moveTo>
                  <a:pt x="21028" y="11149"/>
                </a:moveTo>
                <a:cubicBezTo>
                  <a:pt x="21007" y="11150"/>
                  <a:pt x="20975" y="11158"/>
                  <a:pt x="20957" y="11172"/>
                </a:cubicBezTo>
                <a:cubicBezTo>
                  <a:pt x="20928" y="11195"/>
                  <a:pt x="20906" y="11236"/>
                  <a:pt x="20891" y="11269"/>
                </a:cubicBezTo>
                <a:cubicBezTo>
                  <a:pt x="20867" y="11321"/>
                  <a:pt x="20848" y="11377"/>
                  <a:pt x="20838" y="11434"/>
                </a:cubicBezTo>
                <a:cubicBezTo>
                  <a:pt x="20831" y="11475"/>
                  <a:pt x="20827" y="11503"/>
                  <a:pt x="20855" y="11530"/>
                </a:cubicBezTo>
                <a:cubicBezTo>
                  <a:pt x="20880" y="11512"/>
                  <a:pt x="20902" y="11491"/>
                  <a:pt x="20920" y="11465"/>
                </a:cubicBezTo>
                <a:cubicBezTo>
                  <a:pt x="20945" y="11428"/>
                  <a:pt x="20960" y="11392"/>
                  <a:pt x="20998" y="11369"/>
                </a:cubicBezTo>
                <a:cubicBezTo>
                  <a:pt x="21020" y="11400"/>
                  <a:pt x="21028" y="11427"/>
                  <a:pt x="21040" y="11463"/>
                </a:cubicBezTo>
                <a:cubicBezTo>
                  <a:pt x="21044" y="11474"/>
                  <a:pt x="21062" y="11554"/>
                  <a:pt x="21085" y="11545"/>
                </a:cubicBezTo>
                <a:cubicBezTo>
                  <a:pt x="21097" y="11520"/>
                  <a:pt x="21102" y="11511"/>
                  <a:pt x="21103" y="11492"/>
                </a:cubicBezTo>
              </a:path>
              <a:path w="4208" h="1189">
                <a:moveTo>
                  <a:pt x="21208" y="10832"/>
                </a:moveTo>
                <a:cubicBezTo>
                  <a:pt x="21226" y="10807"/>
                  <a:pt x="21223" y="10892"/>
                  <a:pt x="21224" y="10920"/>
                </a:cubicBezTo>
                <a:cubicBezTo>
                  <a:pt x="21228" y="11012"/>
                  <a:pt x="21233" y="11104"/>
                  <a:pt x="21234" y="11196"/>
                </a:cubicBezTo>
                <a:cubicBezTo>
                  <a:pt x="21235" y="11271"/>
                  <a:pt x="21240" y="11359"/>
                  <a:pt x="21225" y="11433"/>
                </a:cubicBezTo>
                <a:cubicBezTo>
                  <a:pt x="21217" y="11449"/>
                  <a:pt x="21215" y="11454"/>
                  <a:pt x="21201" y="11446"/>
                </a:cubicBezTo>
              </a:path>
              <a:path w="4208" h="1189">
                <a:moveTo>
                  <a:pt x="21120" y="11169"/>
                </a:moveTo>
                <a:cubicBezTo>
                  <a:pt x="21156" y="11164"/>
                  <a:pt x="21185" y="11149"/>
                  <a:pt x="21218" y="11132"/>
                </a:cubicBezTo>
                <a:cubicBezTo>
                  <a:pt x="21259" y="11110"/>
                  <a:pt x="21296" y="11078"/>
                  <a:pt x="21335" y="11056"/>
                </a:cubicBezTo>
                <a:cubicBezTo>
                  <a:pt x="21366" y="11044"/>
                  <a:pt x="21376" y="11042"/>
                  <a:pt x="21386" y="11021"/>
                </a:cubicBezTo>
              </a:path>
              <a:path w="4208" h="1189">
                <a:moveTo>
                  <a:pt x="21460" y="11112"/>
                </a:moveTo>
                <a:cubicBezTo>
                  <a:pt x="21470" y="11178"/>
                  <a:pt x="21471" y="11244"/>
                  <a:pt x="21474" y="11311"/>
                </a:cubicBezTo>
                <a:cubicBezTo>
                  <a:pt x="21476" y="11353"/>
                  <a:pt x="21493" y="11477"/>
                  <a:pt x="21486" y="11436"/>
                </a:cubicBezTo>
                <a:cubicBezTo>
                  <a:pt x="21484" y="11424"/>
                  <a:pt x="21482" y="11411"/>
                  <a:pt x="21480" y="11399"/>
                </a:cubicBezTo>
              </a:path>
              <a:path w="4208" h="1189">
                <a:moveTo>
                  <a:pt x="21467" y="11021"/>
                </a:moveTo>
                <a:cubicBezTo>
                  <a:pt x="21465" y="10982"/>
                  <a:pt x="21457" y="10943"/>
                  <a:pt x="21460" y="10903"/>
                </a:cubicBezTo>
                <a:cubicBezTo>
                  <a:pt x="21461" y="10893"/>
                  <a:pt x="21463" y="10883"/>
                  <a:pt x="21464" y="10873"/>
                </a:cubicBezTo>
              </a:path>
              <a:path w="4208" h="1189">
                <a:moveTo>
                  <a:pt x="21600" y="11287"/>
                </a:moveTo>
                <a:cubicBezTo>
                  <a:pt x="21608" y="11339"/>
                  <a:pt x="21611" y="11393"/>
                  <a:pt x="21628" y="11443"/>
                </a:cubicBezTo>
                <a:cubicBezTo>
                  <a:pt x="21638" y="11473"/>
                  <a:pt x="21650" y="11478"/>
                  <a:pt x="21675" y="11492"/>
                </a:cubicBezTo>
                <a:cubicBezTo>
                  <a:pt x="21702" y="11471"/>
                  <a:pt x="21715" y="11448"/>
                  <a:pt x="21728" y="11416"/>
                </a:cubicBezTo>
                <a:cubicBezTo>
                  <a:pt x="21743" y="11378"/>
                  <a:pt x="21752" y="11323"/>
                  <a:pt x="21756" y="11282"/>
                </a:cubicBezTo>
                <a:cubicBezTo>
                  <a:pt x="21759" y="11248"/>
                  <a:pt x="21757" y="11218"/>
                  <a:pt x="21752" y="11185"/>
                </a:cubicBezTo>
              </a:path>
              <a:path w="4208" h="1189">
                <a:moveTo>
                  <a:pt x="21841" y="11257"/>
                </a:moveTo>
                <a:cubicBezTo>
                  <a:pt x="21855" y="11288"/>
                  <a:pt x="21882" y="11301"/>
                  <a:pt x="21918" y="11287"/>
                </a:cubicBezTo>
                <a:cubicBezTo>
                  <a:pt x="21957" y="11271"/>
                  <a:pt x="22005" y="11242"/>
                  <a:pt x="22039" y="11216"/>
                </a:cubicBezTo>
                <a:cubicBezTo>
                  <a:pt x="22060" y="11196"/>
                  <a:pt x="22066" y="11190"/>
                  <a:pt x="22081" y="11179"/>
                </a:cubicBezTo>
                <a:cubicBezTo>
                  <a:pt x="22049" y="11214"/>
                  <a:pt x="22017" y="11250"/>
                  <a:pt x="21995" y="11293"/>
                </a:cubicBezTo>
                <a:cubicBezTo>
                  <a:pt x="21975" y="11331"/>
                  <a:pt x="21940" y="11401"/>
                  <a:pt x="21958" y="11446"/>
                </a:cubicBezTo>
                <a:cubicBezTo>
                  <a:pt x="21973" y="11484"/>
                  <a:pt x="22038" y="11497"/>
                  <a:pt x="22073" y="11489"/>
                </a:cubicBezTo>
                <a:cubicBezTo>
                  <a:pt x="22132" y="11476"/>
                  <a:pt x="22187" y="11441"/>
                  <a:pt x="22237" y="11410"/>
                </a:cubicBezTo>
                <a:cubicBezTo>
                  <a:pt x="22273" y="11388"/>
                  <a:pt x="22285" y="11381"/>
                  <a:pt x="22304" y="11361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8183520" y="3998880"/>
            <a:ext cx="290520" cy="162000"/>
          </a:xfrm>
          <a:custGeom>
            <a:avLst/>
            <a:gdLst/>
            <a:ahLst/>
            <a:rect l="l" t="t" r="r" b="b"/>
            <a:pathLst>
              <a:path w="803" h="454">
                <a:moveTo>
                  <a:pt x="22734" y="11106"/>
                </a:moveTo>
                <a:cubicBezTo>
                  <a:pt x="22744" y="11138"/>
                  <a:pt x="22745" y="11170"/>
                  <a:pt x="22751" y="11202"/>
                </a:cubicBezTo>
                <a:cubicBezTo>
                  <a:pt x="22761" y="11257"/>
                  <a:pt x="22773" y="11314"/>
                  <a:pt x="22776" y="11370"/>
                </a:cubicBezTo>
                <a:cubicBezTo>
                  <a:pt x="22778" y="11409"/>
                  <a:pt x="22779" y="11445"/>
                  <a:pt x="22785" y="11484"/>
                </a:cubicBezTo>
                <a:cubicBezTo>
                  <a:pt x="22805" y="11441"/>
                  <a:pt x="22827" y="11399"/>
                  <a:pt x="22846" y="11355"/>
                </a:cubicBezTo>
                <a:cubicBezTo>
                  <a:pt x="22875" y="11289"/>
                  <a:pt x="22908" y="11231"/>
                  <a:pt x="22951" y="11173"/>
                </a:cubicBezTo>
                <a:cubicBezTo>
                  <a:pt x="22966" y="11152"/>
                  <a:pt x="23008" y="11092"/>
                  <a:pt x="23042" y="11117"/>
                </a:cubicBezTo>
                <a:cubicBezTo>
                  <a:pt x="23084" y="11147"/>
                  <a:pt x="23084" y="11220"/>
                  <a:pt x="23095" y="11264"/>
                </a:cubicBezTo>
                <a:cubicBezTo>
                  <a:pt x="23113" y="11335"/>
                  <a:pt x="23128" y="11406"/>
                  <a:pt x="23146" y="11477"/>
                </a:cubicBezTo>
                <a:cubicBezTo>
                  <a:pt x="23156" y="11515"/>
                  <a:pt x="23164" y="11531"/>
                  <a:pt x="23202" y="11521"/>
                </a:cubicBezTo>
              </a:path>
              <a:path w="803" h="454">
                <a:moveTo>
                  <a:pt x="23475" y="11559"/>
                </a:moveTo>
                <a:cubicBezTo>
                  <a:pt x="23526" y="11544"/>
                  <a:pt x="23506" y="11529"/>
                  <a:pt x="23519" y="11487"/>
                </a:cubicBezTo>
                <a:cubicBezTo>
                  <a:pt x="23528" y="11459"/>
                  <a:pt x="23533" y="11438"/>
                  <a:pt x="23536" y="11407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621400" y="1052640"/>
            <a:ext cx="1177920" cy="279360"/>
          </a:xfrm>
          <a:custGeom>
            <a:avLst/>
            <a:gdLst/>
            <a:ahLst/>
            <a:rect l="l" t="t" r="r" b="b"/>
            <a:pathLst>
              <a:path w="3270" h="774">
                <a:moveTo>
                  <a:pt x="15894" y="3116"/>
                </a:moveTo>
                <a:cubicBezTo>
                  <a:pt x="15888" y="3092"/>
                  <a:pt x="15881" y="3085"/>
                  <a:pt x="15869" y="3067"/>
                </a:cubicBezTo>
                <a:cubicBezTo>
                  <a:pt x="15863" y="3090"/>
                  <a:pt x="15861" y="3110"/>
                  <a:pt x="15863" y="3136"/>
                </a:cubicBezTo>
                <a:cubicBezTo>
                  <a:pt x="15868" y="3214"/>
                  <a:pt x="15880" y="3292"/>
                  <a:pt x="15885" y="3370"/>
                </a:cubicBezTo>
                <a:cubicBezTo>
                  <a:pt x="15889" y="3427"/>
                  <a:pt x="15894" y="3487"/>
                  <a:pt x="15887" y="3544"/>
                </a:cubicBezTo>
                <a:cubicBezTo>
                  <a:pt x="15884" y="3571"/>
                  <a:pt x="15874" y="3606"/>
                  <a:pt x="15847" y="3619"/>
                </a:cubicBezTo>
                <a:cubicBezTo>
                  <a:pt x="15823" y="3631"/>
                  <a:pt x="15787" y="3630"/>
                  <a:pt x="15761" y="3631"/>
                </a:cubicBezTo>
                <a:cubicBezTo>
                  <a:pt x="15742" y="3632"/>
                  <a:pt x="15723" y="3632"/>
                  <a:pt x="15704" y="3632"/>
                </a:cubicBezTo>
                <a:cubicBezTo>
                  <a:pt x="15747" y="3644"/>
                  <a:pt x="15789" y="3642"/>
                  <a:pt x="15834" y="3641"/>
                </a:cubicBezTo>
                <a:cubicBezTo>
                  <a:pt x="15898" y="3640"/>
                  <a:pt x="15964" y="3635"/>
                  <a:pt x="16028" y="3637"/>
                </a:cubicBezTo>
                <a:cubicBezTo>
                  <a:pt x="16064" y="3638"/>
                  <a:pt x="16105" y="3651"/>
                  <a:pt x="16135" y="3625"/>
                </a:cubicBezTo>
                <a:cubicBezTo>
                  <a:pt x="16135" y="3621"/>
                  <a:pt x="16135" y="3616"/>
                  <a:pt x="16135" y="3612"/>
                </a:cubicBezTo>
              </a:path>
              <a:path w="3270" h="774">
                <a:moveTo>
                  <a:pt x="15672" y="3106"/>
                </a:moveTo>
                <a:cubicBezTo>
                  <a:pt x="15648" y="3081"/>
                  <a:pt x="15632" y="3062"/>
                  <a:pt x="15617" y="3031"/>
                </a:cubicBezTo>
                <a:cubicBezTo>
                  <a:pt x="15647" y="3009"/>
                  <a:pt x="15674" y="2996"/>
                  <a:pt x="15711" y="2985"/>
                </a:cubicBezTo>
                <a:cubicBezTo>
                  <a:pt x="15796" y="2960"/>
                  <a:pt x="15879" y="2947"/>
                  <a:pt x="15967" y="2939"/>
                </a:cubicBezTo>
                <a:cubicBezTo>
                  <a:pt x="16045" y="2932"/>
                  <a:pt x="16122" y="2925"/>
                  <a:pt x="16200" y="2926"/>
                </a:cubicBezTo>
              </a:path>
              <a:path w="3270" h="774">
                <a:moveTo>
                  <a:pt x="16248" y="3125"/>
                </a:moveTo>
                <a:cubicBezTo>
                  <a:pt x="16247" y="3179"/>
                  <a:pt x="16251" y="3230"/>
                  <a:pt x="16256" y="3284"/>
                </a:cubicBezTo>
                <a:cubicBezTo>
                  <a:pt x="16262" y="3343"/>
                  <a:pt x="16274" y="3400"/>
                  <a:pt x="16281" y="3459"/>
                </a:cubicBezTo>
                <a:cubicBezTo>
                  <a:pt x="16285" y="3488"/>
                  <a:pt x="16288" y="3516"/>
                  <a:pt x="16290" y="3545"/>
                </a:cubicBezTo>
                <a:cubicBezTo>
                  <a:pt x="16299" y="3507"/>
                  <a:pt x="16307" y="3469"/>
                  <a:pt x="16318" y="3432"/>
                </a:cubicBezTo>
                <a:cubicBezTo>
                  <a:pt x="16331" y="3386"/>
                  <a:pt x="16345" y="3327"/>
                  <a:pt x="16379" y="3291"/>
                </a:cubicBezTo>
                <a:cubicBezTo>
                  <a:pt x="16409" y="3259"/>
                  <a:pt x="16433" y="3279"/>
                  <a:pt x="16453" y="3308"/>
                </a:cubicBezTo>
                <a:cubicBezTo>
                  <a:pt x="16484" y="3353"/>
                  <a:pt x="16505" y="3411"/>
                  <a:pt x="16524" y="3462"/>
                </a:cubicBezTo>
                <a:cubicBezTo>
                  <a:pt x="16534" y="3488"/>
                  <a:pt x="16543" y="3509"/>
                  <a:pt x="16562" y="3530"/>
                </a:cubicBezTo>
              </a:path>
              <a:path w="3270" h="774">
                <a:moveTo>
                  <a:pt x="16753" y="3338"/>
                </a:moveTo>
                <a:cubicBezTo>
                  <a:pt x="16760" y="3306"/>
                  <a:pt x="16777" y="3255"/>
                  <a:pt x="16766" y="3222"/>
                </a:cubicBezTo>
                <a:cubicBezTo>
                  <a:pt x="16755" y="3206"/>
                  <a:pt x="16755" y="3201"/>
                  <a:pt x="16744" y="3197"/>
                </a:cubicBezTo>
                <a:cubicBezTo>
                  <a:pt x="16707" y="3217"/>
                  <a:pt x="16687" y="3253"/>
                  <a:pt x="16666" y="3291"/>
                </a:cubicBezTo>
                <a:cubicBezTo>
                  <a:pt x="16635" y="3349"/>
                  <a:pt x="16614" y="3412"/>
                  <a:pt x="16611" y="3478"/>
                </a:cubicBezTo>
                <a:cubicBezTo>
                  <a:pt x="16609" y="3518"/>
                  <a:pt x="16616" y="3523"/>
                  <a:pt x="16644" y="3544"/>
                </a:cubicBezTo>
                <a:cubicBezTo>
                  <a:pt x="16700" y="3528"/>
                  <a:pt x="16726" y="3495"/>
                  <a:pt x="16758" y="3445"/>
                </a:cubicBezTo>
                <a:cubicBezTo>
                  <a:pt x="16819" y="3350"/>
                  <a:pt x="16857" y="3243"/>
                  <a:pt x="16886" y="3135"/>
                </a:cubicBezTo>
                <a:cubicBezTo>
                  <a:pt x="16897" y="3088"/>
                  <a:pt x="16901" y="3074"/>
                  <a:pt x="16907" y="3044"/>
                </a:cubicBezTo>
                <a:cubicBezTo>
                  <a:pt x="16919" y="2982"/>
                  <a:pt x="16900" y="3103"/>
                  <a:pt x="16900" y="3110"/>
                </a:cubicBezTo>
                <a:cubicBezTo>
                  <a:pt x="16894" y="3212"/>
                  <a:pt x="16897" y="3318"/>
                  <a:pt x="16918" y="3419"/>
                </a:cubicBezTo>
                <a:cubicBezTo>
                  <a:pt x="16924" y="3451"/>
                  <a:pt x="16935" y="3539"/>
                  <a:pt x="16979" y="3547"/>
                </a:cubicBezTo>
                <a:cubicBezTo>
                  <a:pt x="16985" y="3545"/>
                  <a:pt x="16991" y="3544"/>
                  <a:pt x="16997" y="3542"/>
                </a:cubicBezTo>
              </a:path>
              <a:path w="3270" h="774">
                <a:moveTo>
                  <a:pt x="17108" y="3244"/>
                </a:moveTo>
                <a:cubicBezTo>
                  <a:pt x="17096" y="3270"/>
                  <a:pt x="17091" y="3301"/>
                  <a:pt x="17088" y="3329"/>
                </a:cubicBezTo>
                <a:cubicBezTo>
                  <a:pt x="17084" y="3363"/>
                  <a:pt x="17084" y="3401"/>
                  <a:pt x="17092" y="3435"/>
                </a:cubicBezTo>
                <a:cubicBezTo>
                  <a:pt x="17094" y="3440"/>
                  <a:pt x="17095" y="3445"/>
                  <a:pt x="17097" y="3450"/>
                </a:cubicBezTo>
                <a:cubicBezTo>
                  <a:pt x="17132" y="3443"/>
                  <a:pt x="17140" y="3419"/>
                  <a:pt x="17160" y="3387"/>
                </a:cubicBezTo>
                <a:cubicBezTo>
                  <a:pt x="17181" y="3352"/>
                  <a:pt x="17199" y="3312"/>
                  <a:pt x="17227" y="3282"/>
                </a:cubicBezTo>
                <a:cubicBezTo>
                  <a:pt x="17250" y="3258"/>
                  <a:pt x="17263" y="3282"/>
                  <a:pt x="17272" y="3303"/>
                </a:cubicBezTo>
                <a:cubicBezTo>
                  <a:pt x="17284" y="3332"/>
                  <a:pt x="17290" y="3365"/>
                  <a:pt x="17295" y="3396"/>
                </a:cubicBezTo>
                <a:cubicBezTo>
                  <a:pt x="17298" y="3416"/>
                  <a:pt x="17297" y="3438"/>
                  <a:pt x="17323" y="3429"/>
                </a:cubicBezTo>
                <a:cubicBezTo>
                  <a:pt x="17340" y="3423"/>
                  <a:pt x="17358" y="3409"/>
                  <a:pt x="17373" y="3401"/>
                </a:cubicBezTo>
              </a:path>
              <a:path w="3270" h="774">
                <a:moveTo>
                  <a:pt x="17538" y="3343"/>
                </a:moveTo>
                <a:cubicBezTo>
                  <a:pt x="17542" y="3319"/>
                  <a:pt x="17544" y="3309"/>
                  <a:pt x="17534" y="3287"/>
                </a:cubicBezTo>
                <a:cubicBezTo>
                  <a:pt x="17515" y="3306"/>
                  <a:pt x="17503" y="3325"/>
                  <a:pt x="17496" y="3352"/>
                </a:cubicBezTo>
                <a:cubicBezTo>
                  <a:pt x="17487" y="3386"/>
                  <a:pt x="17484" y="3422"/>
                  <a:pt x="17498" y="3455"/>
                </a:cubicBezTo>
                <a:cubicBezTo>
                  <a:pt x="17506" y="3475"/>
                  <a:pt x="17519" y="3501"/>
                  <a:pt x="17546" y="3494"/>
                </a:cubicBezTo>
                <a:cubicBezTo>
                  <a:pt x="17550" y="3492"/>
                  <a:pt x="17554" y="3489"/>
                  <a:pt x="17558" y="3487"/>
                </a:cubicBezTo>
              </a:path>
              <a:path w="3270" h="774">
                <a:moveTo>
                  <a:pt x="17722" y="2977"/>
                </a:moveTo>
                <a:cubicBezTo>
                  <a:pt x="17730" y="2951"/>
                  <a:pt x="17732" y="2945"/>
                  <a:pt x="17737" y="2929"/>
                </a:cubicBezTo>
                <a:cubicBezTo>
                  <a:pt x="17749" y="2981"/>
                  <a:pt x="17741" y="3040"/>
                  <a:pt x="17740" y="3095"/>
                </a:cubicBezTo>
                <a:cubicBezTo>
                  <a:pt x="17738" y="3197"/>
                  <a:pt x="17740" y="3300"/>
                  <a:pt x="17737" y="3402"/>
                </a:cubicBezTo>
                <a:cubicBezTo>
                  <a:pt x="17735" y="3453"/>
                  <a:pt x="17737" y="3506"/>
                  <a:pt x="17732" y="3557"/>
                </a:cubicBezTo>
              </a:path>
              <a:path w="3270" h="774">
                <a:moveTo>
                  <a:pt x="17658" y="3250"/>
                </a:moveTo>
                <a:cubicBezTo>
                  <a:pt x="17675" y="3218"/>
                  <a:pt x="17699" y="3220"/>
                  <a:pt x="17735" y="3215"/>
                </a:cubicBezTo>
                <a:cubicBezTo>
                  <a:pt x="17783" y="3208"/>
                  <a:pt x="17835" y="3202"/>
                  <a:pt x="17883" y="3202"/>
                </a:cubicBezTo>
                <a:cubicBezTo>
                  <a:pt x="17909" y="3202"/>
                  <a:pt x="17932" y="3207"/>
                  <a:pt x="17957" y="3213"/>
                </a:cubicBezTo>
              </a:path>
              <a:path w="3270" h="774">
                <a:moveTo>
                  <a:pt x="17974" y="3371"/>
                </a:moveTo>
                <a:cubicBezTo>
                  <a:pt x="17972" y="3414"/>
                  <a:pt x="17975" y="3455"/>
                  <a:pt x="17975" y="3497"/>
                </a:cubicBezTo>
                <a:cubicBezTo>
                  <a:pt x="17975" y="3524"/>
                  <a:pt x="17968" y="3545"/>
                  <a:pt x="17991" y="3560"/>
                </a:cubicBezTo>
                <a:cubicBezTo>
                  <a:pt x="17998" y="3546"/>
                  <a:pt x="18000" y="3539"/>
                  <a:pt x="17999" y="3527"/>
                </a:cubicBezTo>
              </a:path>
              <a:path w="3270" h="774">
                <a:moveTo>
                  <a:pt x="17976" y="3287"/>
                </a:moveTo>
                <a:cubicBezTo>
                  <a:pt x="17980" y="3254"/>
                  <a:pt x="17983" y="3247"/>
                  <a:pt x="18008" y="3227"/>
                </a:cubicBezTo>
                <a:cubicBezTo>
                  <a:pt x="18026" y="3213"/>
                  <a:pt x="18027" y="3216"/>
                  <a:pt x="18048" y="3222"/>
                </a:cubicBezTo>
              </a:path>
              <a:path w="3270" h="774">
                <a:moveTo>
                  <a:pt x="18257" y="3353"/>
                </a:moveTo>
                <a:cubicBezTo>
                  <a:pt x="18234" y="3371"/>
                  <a:pt x="18208" y="3393"/>
                  <a:pt x="18192" y="3418"/>
                </a:cubicBezTo>
                <a:cubicBezTo>
                  <a:pt x="18176" y="3443"/>
                  <a:pt x="18163" y="3482"/>
                  <a:pt x="18176" y="3511"/>
                </a:cubicBezTo>
                <a:cubicBezTo>
                  <a:pt x="18189" y="3538"/>
                  <a:pt x="18226" y="3543"/>
                  <a:pt x="18251" y="3542"/>
                </a:cubicBezTo>
                <a:cubicBezTo>
                  <a:pt x="18285" y="3541"/>
                  <a:pt x="18316" y="3527"/>
                  <a:pt x="18340" y="3503"/>
                </a:cubicBezTo>
                <a:cubicBezTo>
                  <a:pt x="18364" y="3480"/>
                  <a:pt x="18371" y="3454"/>
                  <a:pt x="18371" y="3422"/>
                </a:cubicBezTo>
                <a:cubicBezTo>
                  <a:pt x="18371" y="3395"/>
                  <a:pt x="18371" y="3371"/>
                  <a:pt x="18375" y="3345"/>
                </a:cubicBezTo>
              </a:path>
              <a:path w="3270" h="774">
                <a:moveTo>
                  <a:pt x="18562" y="3387"/>
                </a:moveTo>
                <a:cubicBezTo>
                  <a:pt x="18560" y="3432"/>
                  <a:pt x="18549" y="3470"/>
                  <a:pt x="18542" y="3513"/>
                </a:cubicBezTo>
                <a:cubicBezTo>
                  <a:pt x="18538" y="3538"/>
                  <a:pt x="18537" y="3565"/>
                  <a:pt x="18536" y="3590"/>
                </a:cubicBezTo>
                <a:cubicBezTo>
                  <a:pt x="18564" y="3572"/>
                  <a:pt x="18575" y="3540"/>
                  <a:pt x="18593" y="3511"/>
                </a:cubicBezTo>
                <a:cubicBezTo>
                  <a:pt x="18613" y="3480"/>
                  <a:pt x="18634" y="3438"/>
                  <a:pt x="18669" y="3421"/>
                </a:cubicBezTo>
                <a:cubicBezTo>
                  <a:pt x="18695" y="3408"/>
                  <a:pt x="18711" y="3430"/>
                  <a:pt x="18727" y="3447"/>
                </a:cubicBezTo>
                <a:cubicBezTo>
                  <a:pt x="18753" y="3475"/>
                  <a:pt x="18782" y="3499"/>
                  <a:pt x="18809" y="3525"/>
                </a:cubicBezTo>
                <a:cubicBezTo>
                  <a:pt x="18846" y="3560"/>
                  <a:pt x="18878" y="3597"/>
                  <a:pt x="18885" y="3649"/>
                </a:cubicBezTo>
                <a:cubicBezTo>
                  <a:pt x="18885" y="3665"/>
                  <a:pt x="18886" y="3681"/>
                  <a:pt x="18886" y="369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28680" y="776160"/>
            <a:ext cx="415800" cy="4195800"/>
          </a:xfrm>
          <a:custGeom>
            <a:avLst/>
            <a:gdLst/>
            <a:ahLst/>
            <a:rect l="l" t="t" r="r" b="b"/>
            <a:pathLst>
              <a:path w="1157" h="11654">
                <a:moveTo>
                  <a:pt x="2069" y="2156"/>
                </a:moveTo>
                <a:cubicBezTo>
                  <a:pt x="2046" y="2164"/>
                  <a:pt x="2039" y="2192"/>
                  <a:pt x="2018" y="2196"/>
                </a:cubicBezTo>
                <a:cubicBezTo>
                  <a:pt x="1985" y="2202"/>
                  <a:pt x="1953" y="2197"/>
                  <a:pt x="1919" y="2200"/>
                </a:cubicBezTo>
                <a:cubicBezTo>
                  <a:pt x="1833" y="2208"/>
                  <a:pt x="1485" y="2200"/>
                  <a:pt x="1434" y="2258"/>
                </a:cubicBezTo>
                <a:cubicBezTo>
                  <a:pt x="1393" y="2304"/>
                  <a:pt x="1417" y="2441"/>
                  <a:pt x="1415" y="2498"/>
                </a:cubicBezTo>
                <a:cubicBezTo>
                  <a:pt x="1410" y="2680"/>
                  <a:pt x="1398" y="2861"/>
                  <a:pt x="1399" y="3044"/>
                </a:cubicBezTo>
                <a:cubicBezTo>
                  <a:pt x="1400" y="3206"/>
                  <a:pt x="1432" y="3365"/>
                  <a:pt x="1440" y="3528"/>
                </a:cubicBezTo>
                <a:cubicBezTo>
                  <a:pt x="1459" y="3901"/>
                  <a:pt x="1420" y="4284"/>
                  <a:pt x="1400" y="4656"/>
                </a:cubicBezTo>
                <a:cubicBezTo>
                  <a:pt x="1386" y="4923"/>
                  <a:pt x="1355" y="5188"/>
                  <a:pt x="1341" y="5455"/>
                </a:cubicBezTo>
                <a:cubicBezTo>
                  <a:pt x="1328" y="5706"/>
                  <a:pt x="1358" y="5951"/>
                  <a:pt x="1364" y="6201"/>
                </a:cubicBezTo>
                <a:cubicBezTo>
                  <a:pt x="1370" y="6444"/>
                  <a:pt x="1358" y="6683"/>
                  <a:pt x="1374" y="6926"/>
                </a:cubicBezTo>
                <a:cubicBezTo>
                  <a:pt x="1380" y="7016"/>
                  <a:pt x="1392" y="7106"/>
                  <a:pt x="1395" y="7197"/>
                </a:cubicBezTo>
                <a:cubicBezTo>
                  <a:pt x="1402" y="7408"/>
                  <a:pt x="1384" y="7623"/>
                  <a:pt x="1441" y="7828"/>
                </a:cubicBezTo>
                <a:cubicBezTo>
                  <a:pt x="1468" y="7926"/>
                  <a:pt x="1495" y="8025"/>
                  <a:pt x="1519" y="8120"/>
                </a:cubicBezTo>
                <a:cubicBezTo>
                  <a:pt x="1530" y="8163"/>
                  <a:pt x="1524" y="8202"/>
                  <a:pt x="1554" y="8238"/>
                </a:cubicBezTo>
                <a:cubicBezTo>
                  <a:pt x="1627" y="8324"/>
                  <a:pt x="1774" y="8305"/>
                  <a:pt x="1876" y="8316"/>
                </a:cubicBezTo>
                <a:cubicBezTo>
                  <a:pt x="1957" y="8325"/>
                  <a:pt x="1951" y="8328"/>
                  <a:pt x="2006" y="8295"/>
                </a:cubicBezTo>
                <a:cubicBezTo>
                  <a:pt x="2001" y="8288"/>
                  <a:pt x="1997" y="8282"/>
                  <a:pt x="1992" y="8275"/>
                </a:cubicBezTo>
              </a:path>
              <a:path w="1157" h="11654">
                <a:moveTo>
                  <a:pt x="2029" y="9685"/>
                </a:moveTo>
                <a:cubicBezTo>
                  <a:pt x="2041" y="9669"/>
                  <a:pt x="2045" y="9666"/>
                  <a:pt x="2048" y="9654"/>
                </a:cubicBezTo>
                <a:cubicBezTo>
                  <a:pt x="2036" y="9660"/>
                  <a:pt x="2010" y="9657"/>
                  <a:pt x="1990" y="9669"/>
                </a:cubicBezTo>
                <a:cubicBezTo>
                  <a:pt x="1949" y="9694"/>
                  <a:pt x="1908" y="9722"/>
                  <a:pt x="1873" y="9756"/>
                </a:cubicBezTo>
                <a:cubicBezTo>
                  <a:pt x="1752" y="9871"/>
                  <a:pt x="1672" y="10022"/>
                  <a:pt x="1593" y="10166"/>
                </a:cubicBezTo>
                <a:cubicBezTo>
                  <a:pt x="1440" y="10443"/>
                  <a:pt x="1309" y="10741"/>
                  <a:pt x="1210" y="11042"/>
                </a:cubicBezTo>
                <a:cubicBezTo>
                  <a:pt x="1171" y="11160"/>
                  <a:pt x="1131" y="11282"/>
                  <a:pt x="1102" y="11403"/>
                </a:cubicBezTo>
                <a:cubicBezTo>
                  <a:pt x="1039" y="11668"/>
                  <a:pt x="990" y="11934"/>
                  <a:pt x="978" y="12206"/>
                </a:cubicBezTo>
                <a:cubicBezTo>
                  <a:pt x="971" y="12360"/>
                  <a:pt x="975" y="12510"/>
                  <a:pt x="956" y="12663"/>
                </a:cubicBezTo>
                <a:cubicBezTo>
                  <a:pt x="943" y="12765"/>
                  <a:pt x="937" y="12857"/>
                  <a:pt x="943" y="12960"/>
                </a:cubicBezTo>
                <a:cubicBezTo>
                  <a:pt x="951" y="13098"/>
                  <a:pt x="986" y="13231"/>
                  <a:pt x="1006" y="13367"/>
                </a:cubicBezTo>
                <a:cubicBezTo>
                  <a:pt x="1033" y="13545"/>
                  <a:pt x="1079" y="13662"/>
                  <a:pt x="1180" y="13809"/>
                </a:cubicBezTo>
                <a:cubicBezTo>
                  <a:pt x="1083" y="13739"/>
                  <a:pt x="1001" y="13666"/>
                  <a:pt x="913" y="1357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263680" y="2049480"/>
            <a:ext cx="63720" cy="79200"/>
          </a:xfrm>
          <a:custGeom>
            <a:avLst/>
            <a:gdLst/>
            <a:ahLst/>
            <a:rect l="l" t="t" r="r" b="b"/>
            <a:pathLst>
              <a:path w="177" h="222">
                <a:moveTo>
                  <a:pt x="6300" y="5693"/>
                </a:moveTo>
                <a:cubicBezTo>
                  <a:pt x="6285" y="5709"/>
                  <a:pt x="6290" y="5733"/>
                  <a:pt x="6297" y="5759"/>
                </a:cubicBezTo>
                <a:cubicBezTo>
                  <a:pt x="6305" y="5789"/>
                  <a:pt x="6317" y="5818"/>
                  <a:pt x="6328" y="5847"/>
                </a:cubicBezTo>
                <a:cubicBezTo>
                  <a:pt x="6335" y="5865"/>
                  <a:pt x="6342" y="5892"/>
                  <a:pt x="6356" y="5906"/>
                </a:cubicBezTo>
                <a:cubicBezTo>
                  <a:pt x="6360" y="5909"/>
                  <a:pt x="6363" y="5911"/>
                  <a:pt x="6367" y="5914"/>
                </a:cubicBezTo>
                <a:cubicBezTo>
                  <a:pt x="6384" y="5895"/>
                  <a:pt x="6391" y="5876"/>
                  <a:pt x="6398" y="5851"/>
                </a:cubicBezTo>
                <a:cubicBezTo>
                  <a:pt x="6408" y="5816"/>
                  <a:pt x="6418" y="5779"/>
                  <a:pt x="6431" y="5745"/>
                </a:cubicBezTo>
                <a:cubicBezTo>
                  <a:pt x="6437" y="5728"/>
                  <a:pt x="6446" y="5689"/>
                  <a:pt x="6461" y="5721"/>
                </a:cubicBezTo>
                <a:cubicBezTo>
                  <a:pt x="6462" y="5725"/>
                  <a:pt x="6463" y="5730"/>
                  <a:pt x="6464" y="573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641680" y="2085840"/>
            <a:ext cx="5564160" cy="833400"/>
          </a:xfrm>
          <a:custGeom>
            <a:avLst/>
            <a:gdLst/>
            <a:ahLst/>
            <a:rect l="l" t="t" r="r" b="b"/>
            <a:pathLst>
              <a:path w="15458" h="2314">
                <a:moveTo>
                  <a:pt x="10217" y="5870"/>
                </a:moveTo>
                <a:cubicBezTo>
                  <a:pt x="10201" y="5860"/>
                  <a:pt x="10186" y="5851"/>
                  <a:pt x="10170" y="5842"/>
                </a:cubicBezTo>
                <a:cubicBezTo>
                  <a:pt x="10224" y="5838"/>
                  <a:pt x="10278" y="5841"/>
                  <a:pt x="10332" y="5843"/>
                </a:cubicBezTo>
                <a:cubicBezTo>
                  <a:pt x="10596" y="5850"/>
                  <a:pt x="11087" y="5943"/>
                  <a:pt x="11333" y="5829"/>
                </a:cubicBezTo>
                <a:cubicBezTo>
                  <a:pt x="11346" y="5825"/>
                  <a:pt x="11351" y="5826"/>
                  <a:pt x="11347" y="5815"/>
                </a:cubicBezTo>
                <a:cubicBezTo>
                  <a:pt x="11319" y="5807"/>
                  <a:pt x="11293" y="5800"/>
                  <a:pt x="11264" y="5795"/>
                </a:cubicBezTo>
              </a:path>
              <a:path w="15458" h="2314">
                <a:moveTo>
                  <a:pt x="10414" y="6257"/>
                </a:moveTo>
                <a:cubicBezTo>
                  <a:pt x="10412" y="6225"/>
                  <a:pt x="10415" y="6175"/>
                  <a:pt x="10377" y="6161"/>
                </a:cubicBezTo>
                <a:cubicBezTo>
                  <a:pt x="10327" y="6142"/>
                  <a:pt x="10274" y="6187"/>
                  <a:pt x="10242" y="6220"/>
                </a:cubicBezTo>
                <a:cubicBezTo>
                  <a:pt x="10196" y="6267"/>
                  <a:pt x="10160" y="6329"/>
                  <a:pt x="10153" y="6395"/>
                </a:cubicBezTo>
                <a:cubicBezTo>
                  <a:pt x="10148" y="6443"/>
                  <a:pt x="10167" y="6489"/>
                  <a:pt x="10221" y="6491"/>
                </a:cubicBezTo>
                <a:cubicBezTo>
                  <a:pt x="10277" y="6493"/>
                  <a:pt x="10328" y="6446"/>
                  <a:pt x="10366" y="6411"/>
                </a:cubicBezTo>
                <a:cubicBezTo>
                  <a:pt x="10398" y="6381"/>
                  <a:pt x="10423" y="6347"/>
                  <a:pt x="10455" y="6317"/>
                </a:cubicBezTo>
                <a:cubicBezTo>
                  <a:pt x="10463" y="6367"/>
                  <a:pt x="10443" y="6415"/>
                  <a:pt x="10427" y="6465"/>
                </a:cubicBezTo>
                <a:cubicBezTo>
                  <a:pt x="10404" y="6539"/>
                  <a:pt x="10377" y="6616"/>
                  <a:pt x="10333" y="6680"/>
                </a:cubicBezTo>
                <a:cubicBezTo>
                  <a:pt x="10308" y="6717"/>
                  <a:pt x="10264" y="6765"/>
                  <a:pt x="10214" y="6755"/>
                </a:cubicBezTo>
                <a:cubicBezTo>
                  <a:pt x="10164" y="6745"/>
                  <a:pt x="10150" y="6700"/>
                  <a:pt x="10151" y="6656"/>
                </a:cubicBezTo>
                <a:cubicBezTo>
                  <a:pt x="10152" y="6602"/>
                  <a:pt x="10176" y="6561"/>
                  <a:pt x="10198" y="6514"/>
                </a:cubicBezTo>
              </a:path>
              <a:path w="15458" h="2314">
                <a:moveTo>
                  <a:pt x="10528" y="6180"/>
                </a:moveTo>
                <a:cubicBezTo>
                  <a:pt x="10550" y="6211"/>
                  <a:pt x="10538" y="6239"/>
                  <a:pt x="10541" y="6275"/>
                </a:cubicBezTo>
                <a:cubicBezTo>
                  <a:pt x="10545" y="6338"/>
                  <a:pt x="10549" y="6406"/>
                  <a:pt x="10572" y="6465"/>
                </a:cubicBezTo>
                <a:cubicBezTo>
                  <a:pt x="10584" y="6496"/>
                  <a:pt x="10601" y="6506"/>
                  <a:pt x="10628" y="6519"/>
                </a:cubicBezTo>
                <a:cubicBezTo>
                  <a:pt x="10655" y="6497"/>
                  <a:pt x="10656" y="6487"/>
                  <a:pt x="10669" y="6452"/>
                </a:cubicBezTo>
              </a:path>
              <a:path w="15458" h="2314">
                <a:moveTo>
                  <a:pt x="10668" y="6112"/>
                </a:moveTo>
                <a:cubicBezTo>
                  <a:pt x="10669" y="6081"/>
                  <a:pt x="10658" y="6028"/>
                  <a:pt x="10686" y="6006"/>
                </a:cubicBezTo>
                <a:cubicBezTo>
                  <a:pt x="10709" y="5987"/>
                  <a:pt x="10741" y="6008"/>
                  <a:pt x="10759" y="6023"/>
                </a:cubicBezTo>
                <a:cubicBezTo>
                  <a:pt x="10806" y="6064"/>
                  <a:pt x="10816" y="6123"/>
                  <a:pt x="10820" y="6182"/>
                </a:cubicBezTo>
                <a:cubicBezTo>
                  <a:pt x="10824" y="6239"/>
                  <a:pt x="10814" y="6296"/>
                  <a:pt x="10814" y="6353"/>
                </a:cubicBezTo>
                <a:cubicBezTo>
                  <a:pt x="10814" y="6397"/>
                  <a:pt x="10813" y="6447"/>
                  <a:pt x="10832" y="6488"/>
                </a:cubicBezTo>
                <a:cubicBezTo>
                  <a:pt x="10845" y="6517"/>
                  <a:pt x="10864" y="6525"/>
                  <a:pt x="10888" y="6505"/>
                </a:cubicBezTo>
                <a:cubicBezTo>
                  <a:pt x="10919" y="6479"/>
                  <a:pt x="10937" y="6425"/>
                  <a:pt x="10951" y="6389"/>
                </a:cubicBezTo>
                <a:cubicBezTo>
                  <a:pt x="10967" y="6347"/>
                  <a:pt x="10982" y="6304"/>
                  <a:pt x="11003" y="6265"/>
                </a:cubicBezTo>
                <a:cubicBezTo>
                  <a:pt x="11012" y="6251"/>
                  <a:pt x="11013" y="6247"/>
                  <a:pt x="11022" y="6243"/>
                </a:cubicBezTo>
              </a:path>
              <a:path w="15458" h="2314">
                <a:moveTo>
                  <a:pt x="11156" y="6333"/>
                </a:moveTo>
                <a:cubicBezTo>
                  <a:pt x="11193" y="6321"/>
                  <a:pt x="11213" y="6302"/>
                  <a:pt x="11245" y="6284"/>
                </a:cubicBezTo>
                <a:cubicBezTo>
                  <a:pt x="11269" y="6271"/>
                  <a:pt x="11289" y="6259"/>
                  <a:pt x="11312" y="6244"/>
                </a:cubicBezTo>
                <a:cubicBezTo>
                  <a:pt x="11268" y="6258"/>
                  <a:pt x="11232" y="6285"/>
                  <a:pt x="11197" y="6316"/>
                </a:cubicBezTo>
                <a:cubicBezTo>
                  <a:pt x="11161" y="6348"/>
                  <a:pt x="11108" y="6394"/>
                  <a:pt x="11113" y="6448"/>
                </a:cubicBezTo>
                <a:cubicBezTo>
                  <a:pt x="11118" y="6499"/>
                  <a:pt x="11202" y="6508"/>
                  <a:pt x="11238" y="6515"/>
                </a:cubicBezTo>
                <a:cubicBezTo>
                  <a:pt x="11319" y="6531"/>
                  <a:pt x="11400" y="6532"/>
                  <a:pt x="11483" y="6533"/>
                </a:cubicBezTo>
              </a:path>
              <a:path w="15458" h="2314">
                <a:moveTo>
                  <a:pt x="11645" y="6028"/>
                </a:moveTo>
                <a:cubicBezTo>
                  <a:pt x="11632" y="6032"/>
                  <a:pt x="11627" y="6033"/>
                  <a:pt x="11618" y="6032"/>
                </a:cubicBezTo>
                <a:cubicBezTo>
                  <a:pt x="11660" y="6029"/>
                  <a:pt x="11701" y="6022"/>
                  <a:pt x="11742" y="6015"/>
                </a:cubicBezTo>
                <a:cubicBezTo>
                  <a:pt x="11815" y="6003"/>
                  <a:pt x="11889" y="5992"/>
                  <a:pt x="11962" y="5982"/>
                </a:cubicBezTo>
                <a:cubicBezTo>
                  <a:pt x="12021" y="5974"/>
                  <a:pt x="12081" y="5968"/>
                  <a:pt x="12141" y="5966"/>
                </a:cubicBezTo>
                <a:cubicBezTo>
                  <a:pt x="12157" y="5966"/>
                  <a:pt x="12174" y="5966"/>
                  <a:pt x="12190" y="5966"/>
                </a:cubicBezTo>
                <a:cubicBezTo>
                  <a:pt x="12143" y="5951"/>
                  <a:pt x="12094" y="5945"/>
                  <a:pt x="12046" y="5937"/>
                </a:cubicBezTo>
                <a:cubicBezTo>
                  <a:pt x="12005" y="5930"/>
                  <a:pt x="11964" y="5926"/>
                  <a:pt x="11925" y="5915"/>
                </a:cubicBezTo>
                <a:cubicBezTo>
                  <a:pt x="11955" y="5898"/>
                  <a:pt x="11981" y="5888"/>
                  <a:pt x="12024" y="5885"/>
                </a:cubicBezTo>
                <a:cubicBezTo>
                  <a:pt x="12074" y="5881"/>
                  <a:pt x="12132" y="5876"/>
                  <a:pt x="12176" y="5906"/>
                </a:cubicBezTo>
                <a:cubicBezTo>
                  <a:pt x="12219" y="5935"/>
                  <a:pt x="12205" y="5982"/>
                  <a:pt x="12187" y="6022"/>
                </a:cubicBezTo>
                <a:cubicBezTo>
                  <a:pt x="12165" y="6072"/>
                  <a:pt x="12127" y="6107"/>
                  <a:pt x="12094" y="6148"/>
                </a:cubicBezTo>
                <a:cubicBezTo>
                  <a:pt x="12083" y="6162"/>
                  <a:pt x="12076" y="6179"/>
                  <a:pt x="12068" y="6193"/>
                </a:cubicBezTo>
              </a:path>
              <a:path w="15458" h="2314">
                <a:moveTo>
                  <a:pt x="12541" y="5986"/>
                </a:moveTo>
                <a:cubicBezTo>
                  <a:pt x="12526" y="5978"/>
                  <a:pt x="12522" y="5977"/>
                  <a:pt x="12513" y="5971"/>
                </a:cubicBezTo>
                <a:cubicBezTo>
                  <a:pt x="12542" y="5960"/>
                  <a:pt x="12553" y="5955"/>
                  <a:pt x="12590" y="5952"/>
                </a:cubicBezTo>
                <a:cubicBezTo>
                  <a:pt x="12655" y="5947"/>
                  <a:pt x="12723" y="5956"/>
                  <a:pt x="12788" y="5960"/>
                </a:cubicBezTo>
                <a:cubicBezTo>
                  <a:pt x="12884" y="5965"/>
                  <a:pt x="12979" y="5968"/>
                  <a:pt x="13075" y="5970"/>
                </a:cubicBezTo>
                <a:cubicBezTo>
                  <a:pt x="13196" y="5972"/>
                  <a:pt x="13329" y="5956"/>
                  <a:pt x="13448" y="5980"/>
                </a:cubicBezTo>
                <a:cubicBezTo>
                  <a:pt x="13506" y="5992"/>
                  <a:pt x="13606" y="6001"/>
                  <a:pt x="13657" y="6031"/>
                </a:cubicBezTo>
                <a:cubicBezTo>
                  <a:pt x="13688" y="6049"/>
                  <a:pt x="13685" y="6091"/>
                  <a:pt x="13694" y="6122"/>
                </a:cubicBezTo>
                <a:cubicBezTo>
                  <a:pt x="13733" y="6264"/>
                  <a:pt x="13765" y="6408"/>
                  <a:pt x="13784" y="6555"/>
                </a:cubicBezTo>
                <a:cubicBezTo>
                  <a:pt x="13790" y="6599"/>
                  <a:pt x="13797" y="6642"/>
                  <a:pt x="13808" y="6685"/>
                </a:cubicBezTo>
                <a:cubicBezTo>
                  <a:pt x="13809" y="6688"/>
                  <a:pt x="13810" y="6692"/>
                  <a:pt x="13811" y="6695"/>
                </a:cubicBezTo>
                <a:cubicBezTo>
                  <a:pt x="13766" y="6681"/>
                  <a:pt x="13723" y="6669"/>
                  <a:pt x="13675" y="6663"/>
                </a:cubicBezTo>
                <a:cubicBezTo>
                  <a:pt x="13387" y="6624"/>
                  <a:pt x="13094" y="6632"/>
                  <a:pt x="12806" y="6586"/>
                </a:cubicBezTo>
                <a:cubicBezTo>
                  <a:pt x="12778" y="6582"/>
                  <a:pt x="12727" y="6579"/>
                  <a:pt x="12701" y="6563"/>
                </a:cubicBezTo>
                <a:cubicBezTo>
                  <a:pt x="12683" y="6552"/>
                  <a:pt x="12680" y="6539"/>
                  <a:pt x="12669" y="6515"/>
                </a:cubicBezTo>
                <a:cubicBezTo>
                  <a:pt x="12649" y="6469"/>
                  <a:pt x="12633" y="6419"/>
                  <a:pt x="12618" y="6371"/>
                </a:cubicBezTo>
                <a:cubicBezTo>
                  <a:pt x="12599" y="6309"/>
                  <a:pt x="12582" y="6245"/>
                  <a:pt x="12556" y="6185"/>
                </a:cubicBezTo>
                <a:cubicBezTo>
                  <a:pt x="12535" y="6136"/>
                  <a:pt x="12507" y="6097"/>
                  <a:pt x="12477" y="6054"/>
                </a:cubicBezTo>
                <a:cubicBezTo>
                  <a:pt x="12487" y="6077"/>
                  <a:pt x="12485" y="6076"/>
                  <a:pt x="12497" y="6098"/>
                </a:cubicBezTo>
                <a:cubicBezTo>
                  <a:pt x="12517" y="6133"/>
                  <a:pt x="12537" y="6168"/>
                  <a:pt x="12557" y="6203"/>
                </a:cubicBezTo>
              </a:path>
              <a:path w="15458" h="2314">
                <a:moveTo>
                  <a:pt x="7357" y="7518"/>
                </a:moveTo>
                <a:cubicBezTo>
                  <a:pt x="7364" y="7530"/>
                  <a:pt x="7375" y="7561"/>
                  <a:pt x="7377" y="7589"/>
                </a:cubicBezTo>
                <a:cubicBezTo>
                  <a:pt x="7381" y="7657"/>
                  <a:pt x="7388" y="7726"/>
                  <a:pt x="7392" y="7794"/>
                </a:cubicBezTo>
                <a:cubicBezTo>
                  <a:pt x="7394" y="7825"/>
                  <a:pt x="7414" y="7923"/>
                  <a:pt x="7394" y="7952"/>
                </a:cubicBezTo>
                <a:cubicBezTo>
                  <a:pt x="7389" y="7953"/>
                  <a:pt x="7384" y="7954"/>
                  <a:pt x="7379" y="7955"/>
                </a:cubicBezTo>
                <a:cubicBezTo>
                  <a:pt x="7356" y="7910"/>
                  <a:pt x="7344" y="7863"/>
                  <a:pt x="7340" y="7812"/>
                </a:cubicBezTo>
                <a:cubicBezTo>
                  <a:pt x="7333" y="7727"/>
                  <a:pt x="7344" y="7641"/>
                  <a:pt x="7374" y="7561"/>
                </a:cubicBezTo>
                <a:cubicBezTo>
                  <a:pt x="7395" y="7505"/>
                  <a:pt x="7431" y="7430"/>
                  <a:pt x="7491" y="7405"/>
                </a:cubicBezTo>
                <a:cubicBezTo>
                  <a:pt x="7522" y="7400"/>
                  <a:pt x="7532" y="7398"/>
                  <a:pt x="7551" y="7409"/>
                </a:cubicBezTo>
                <a:cubicBezTo>
                  <a:pt x="7585" y="7455"/>
                  <a:pt x="7596" y="7493"/>
                  <a:pt x="7581" y="7553"/>
                </a:cubicBezTo>
                <a:cubicBezTo>
                  <a:pt x="7564" y="7624"/>
                  <a:pt x="7519" y="7689"/>
                  <a:pt x="7467" y="7740"/>
                </a:cubicBezTo>
                <a:cubicBezTo>
                  <a:pt x="7434" y="7772"/>
                  <a:pt x="7401" y="7795"/>
                  <a:pt x="7359" y="7785"/>
                </a:cubicBezTo>
                <a:cubicBezTo>
                  <a:pt x="7373" y="7739"/>
                  <a:pt x="7402" y="7716"/>
                  <a:pt x="7436" y="7683"/>
                </a:cubicBezTo>
              </a:path>
              <a:path w="15458" h="2314">
                <a:moveTo>
                  <a:pt x="7794" y="7463"/>
                </a:moveTo>
                <a:cubicBezTo>
                  <a:pt x="7753" y="7467"/>
                  <a:pt x="7739" y="7495"/>
                  <a:pt x="7722" y="7535"/>
                </a:cubicBezTo>
                <a:cubicBezTo>
                  <a:pt x="7691" y="7606"/>
                  <a:pt x="7680" y="7679"/>
                  <a:pt x="7682" y="7756"/>
                </a:cubicBezTo>
                <a:cubicBezTo>
                  <a:pt x="7684" y="7818"/>
                  <a:pt x="7693" y="7886"/>
                  <a:pt x="7744" y="7928"/>
                </a:cubicBezTo>
                <a:cubicBezTo>
                  <a:pt x="7770" y="7941"/>
                  <a:pt x="7779" y="7945"/>
                  <a:pt x="7799" y="7942"/>
                </a:cubicBezTo>
              </a:path>
              <a:path w="15458" h="2314">
                <a:moveTo>
                  <a:pt x="7978" y="7554"/>
                </a:moveTo>
                <a:cubicBezTo>
                  <a:pt x="7953" y="7587"/>
                  <a:pt x="7957" y="7617"/>
                  <a:pt x="7954" y="7659"/>
                </a:cubicBezTo>
                <a:cubicBezTo>
                  <a:pt x="7948" y="7747"/>
                  <a:pt x="7955" y="7827"/>
                  <a:pt x="7967" y="7913"/>
                </a:cubicBezTo>
                <a:cubicBezTo>
                  <a:pt x="7969" y="7925"/>
                  <a:pt x="7971" y="7983"/>
                  <a:pt x="7998" y="7958"/>
                </a:cubicBezTo>
                <a:cubicBezTo>
                  <a:pt x="8002" y="7953"/>
                  <a:pt x="8005" y="7948"/>
                  <a:pt x="8009" y="7943"/>
                </a:cubicBezTo>
              </a:path>
              <a:path w="15458" h="2314">
                <a:moveTo>
                  <a:pt x="8099" y="7551"/>
                </a:moveTo>
                <a:cubicBezTo>
                  <a:pt x="8114" y="7538"/>
                  <a:pt x="8111" y="7534"/>
                  <a:pt x="8122" y="7546"/>
                </a:cubicBezTo>
                <a:cubicBezTo>
                  <a:pt x="8124" y="7581"/>
                  <a:pt x="8106" y="7607"/>
                  <a:pt x="8088" y="7640"/>
                </a:cubicBezTo>
                <a:cubicBezTo>
                  <a:pt x="8060" y="7691"/>
                  <a:pt x="8026" y="7735"/>
                  <a:pt x="7991" y="7781"/>
                </a:cubicBezTo>
                <a:cubicBezTo>
                  <a:pt x="7977" y="7799"/>
                  <a:pt x="7936" y="7839"/>
                  <a:pt x="7953" y="7865"/>
                </a:cubicBezTo>
                <a:cubicBezTo>
                  <a:pt x="7968" y="7889"/>
                  <a:pt x="8046" y="7888"/>
                  <a:pt x="8068" y="7888"/>
                </a:cubicBezTo>
                <a:cubicBezTo>
                  <a:pt x="8126" y="7888"/>
                  <a:pt x="8181" y="7872"/>
                  <a:pt x="8234" y="7853"/>
                </a:cubicBezTo>
              </a:path>
              <a:path w="15458" h="2314">
                <a:moveTo>
                  <a:pt x="8326" y="7479"/>
                </a:moveTo>
                <a:cubicBezTo>
                  <a:pt x="8358" y="7496"/>
                  <a:pt x="8374" y="7535"/>
                  <a:pt x="8382" y="7571"/>
                </a:cubicBezTo>
                <a:cubicBezTo>
                  <a:pt x="8399" y="7644"/>
                  <a:pt x="8399" y="7726"/>
                  <a:pt x="8394" y="7800"/>
                </a:cubicBezTo>
                <a:cubicBezTo>
                  <a:pt x="8390" y="7852"/>
                  <a:pt x="8383" y="7920"/>
                  <a:pt x="8356" y="7966"/>
                </a:cubicBezTo>
                <a:cubicBezTo>
                  <a:pt x="8353" y="7969"/>
                  <a:pt x="8350" y="7972"/>
                  <a:pt x="8347" y="7975"/>
                </a:cubicBezTo>
              </a:path>
              <a:path w="15458" h="2314">
                <a:moveTo>
                  <a:pt x="8630" y="7713"/>
                </a:moveTo>
                <a:cubicBezTo>
                  <a:pt x="8646" y="7707"/>
                  <a:pt x="8665" y="7704"/>
                  <a:pt x="8693" y="7704"/>
                </a:cubicBezTo>
                <a:cubicBezTo>
                  <a:pt x="8750" y="7704"/>
                  <a:pt x="8806" y="7701"/>
                  <a:pt x="8863" y="7698"/>
                </a:cubicBezTo>
                <a:cubicBezTo>
                  <a:pt x="8946" y="7693"/>
                  <a:pt x="9032" y="7696"/>
                  <a:pt x="9115" y="7687"/>
                </a:cubicBezTo>
                <a:cubicBezTo>
                  <a:pt x="9118" y="7686"/>
                  <a:pt x="9121" y="7686"/>
                  <a:pt x="9124" y="7685"/>
                </a:cubicBezTo>
                <a:cubicBezTo>
                  <a:pt x="9104" y="7663"/>
                  <a:pt x="9080" y="7652"/>
                  <a:pt x="9054" y="7636"/>
                </a:cubicBezTo>
                <a:cubicBezTo>
                  <a:pt x="9026" y="7619"/>
                  <a:pt x="8992" y="7605"/>
                  <a:pt x="8967" y="7584"/>
                </a:cubicBezTo>
                <a:cubicBezTo>
                  <a:pt x="8958" y="7574"/>
                  <a:pt x="8954" y="7571"/>
                  <a:pt x="8959" y="7561"/>
                </a:cubicBezTo>
                <a:cubicBezTo>
                  <a:pt x="9005" y="7568"/>
                  <a:pt x="9037" y="7578"/>
                  <a:pt x="9073" y="7610"/>
                </a:cubicBezTo>
                <a:cubicBezTo>
                  <a:pt x="9109" y="7642"/>
                  <a:pt x="9142" y="7687"/>
                  <a:pt x="9146" y="7736"/>
                </a:cubicBezTo>
                <a:cubicBezTo>
                  <a:pt x="9149" y="7776"/>
                  <a:pt x="9130" y="7828"/>
                  <a:pt x="9102" y="7857"/>
                </a:cubicBezTo>
                <a:cubicBezTo>
                  <a:pt x="9082" y="7877"/>
                  <a:pt x="9056" y="7897"/>
                  <a:pt x="9026" y="7896"/>
                </a:cubicBezTo>
                <a:cubicBezTo>
                  <a:pt x="9021" y="7895"/>
                  <a:pt x="9016" y="7894"/>
                  <a:pt x="9011" y="7893"/>
                </a:cubicBezTo>
              </a:path>
              <a:path w="15458" h="2314">
                <a:moveTo>
                  <a:pt x="9398" y="7661"/>
                </a:moveTo>
                <a:cubicBezTo>
                  <a:pt x="9423" y="7679"/>
                  <a:pt x="9423" y="7710"/>
                  <a:pt x="9431" y="7741"/>
                </a:cubicBezTo>
                <a:cubicBezTo>
                  <a:pt x="9444" y="7792"/>
                  <a:pt x="9452" y="7843"/>
                  <a:pt x="9456" y="7895"/>
                </a:cubicBezTo>
                <a:cubicBezTo>
                  <a:pt x="9458" y="7923"/>
                  <a:pt x="9457" y="7932"/>
                  <a:pt x="9443" y="7953"/>
                </a:cubicBezTo>
                <a:cubicBezTo>
                  <a:pt x="9414" y="7947"/>
                  <a:pt x="9409" y="7928"/>
                  <a:pt x="9402" y="7899"/>
                </a:cubicBezTo>
                <a:cubicBezTo>
                  <a:pt x="9389" y="7843"/>
                  <a:pt x="9393" y="7784"/>
                  <a:pt x="9409" y="7729"/>
                </a:cubicBezTo>
                <a:cubicBezTo>
                  <a:pt x="9429" y="7660"/>
                  <a:pt x="9463" y="7587"/>
                  <a:pt x="9506" y="7529"/>
                </a:cubicBezTo>
                <a:cubicBezTo>
                  <a:pt x="9529" y="7498"/>
                  <a:pt x="9577" y="7439"/>
                  <a:pt x="9623" y="7449"/>
                </a:cubicBezTo>
                <a:cubicBezTo>
                  <a:pt x="9668" y="7459"/>
                  <a:pt x="9669" y="7531"/>
                  <a:pt x="9665" y="7564"/>
                </a:cubicBezTo>
                <a:cubicBezTo>
                  <a:pt x="9657" y="7632"/>
                  <a:pt x="9623" y="7703"/>
                  <a:pt x="9578" y="7754"/>
                </a:cubicBezTo>
                <a:cubicBezTo>
                  <a:pt x="9557" y="7778"/>
                  <a:pt x="9492" y="7846"/>
                  <a:pt x="9452" y="7826"/>
                </a:cubicBezTo>
                <a:cubicBezTo>
                  <a:pt x="9422" y="7811"/>
                  <a:pt x="9456" y="7783"/>
                  <a:pt x="9465" y="7770"/>
                </a:cubicBezTo>
              </a:path>
              <a:path w="15458" h="2314">
                <a:moveTo>
                  <a:pt x="9849" y="7548"/>
                </a:moveTo>
                <a:cubicBezTo>
                  <a:pt x="9849" y="7527"/>
                  <a:pt x="9852" y="7529"/>
                  <a:pt x="9837" y="7515"/>
                </a:cubicBezTo>
                <a:cubicBezTo>
                  <a:pt x="9812" y="7544"/>
                  <a:pt x="9794" y="7566"/>
                  <a:pt x="9779" y="7605"/>
                </a:cubicBezTo>
                <a:cubicBezTo>
                  <a:pt x="9748" y="7683"/>
                  <a:pt x="9729" y="7773"/>
                  <a:pt x="9744" y="7857"/>
                </a:cubicBezTo>
                <a:cubicBezTo>
                  <a:pt x="9752" y="7904"/>
                  <a:pt x="9769" y="7957"/>
                  <a:pt x="9814" y="7982"/>
                </a:cubicBezTo>
                <a:cubicBezTo>
                  <a:pt x="9822" y="7984"/>
                  <a:pt x="9829" y="7987"/>
                  <a:pt x="9837" y="7989"/>
                </a:cubicBezTo>
              </a:path>
              <a:path w="15458" h="2314">
                <a:moveTo>
                  <a:pt x="10024" y="7608"/>
                </a:moveTo>
                <a:cubicBezTo>
                  <a:pt x="10042" y="7572"/>
                  <a:pt x="10030" y="7663"/>
                  <a:pt x="10030" y="7681"/>
                </a:cubicBezTo>
                <a:cubicBezTo>
                  <a:pt x="10030" y="7742"/>
                  <a:pt x="10034" y="7801"/>
                  <a:pt x="10038" y="7861"/>
                </a:cubicBezTo>
                <a:cubicBezTo>
                  <a:pt x="10040" y="7899"/>
                  <a:pt x="10036" y="7922"/>
                  <a:pt x="10063" y="7950"/>
                </a:cubicBezTo>
              </a:path>
              <a:path w="15458" h="2314">
                <a:moveTo>
                  <a:pt x="10183" y="7595"/>
                </a:moveTo>
                <a:cubicBezTo>
                  <a:pt x="10202" y="7599"/>
                  <a:pt x="10156" y="7633"/>
                  <a:pt x="10139" y="7649"/>
                </a:cubicBezTo>
                <a:cubicBezTo>
                  <a:pt x="10101" y="7686"/>
                  <a:pt x="10059" y="7721"/>
                  <a:pt x="10028" y="7765"/>
                </a:cubicBezTo>
                <a:cubicBezTo>
                  <a:pt x="10004" y="7798"/>
                  <a:pt x="9997" y="7829"/>
                  <a:pt x="10038" y="7849"/>
                </a:cubicBezTo>
                <a:cubicBezTo>
                  <a:pt x="10084" y="7871"/>
                  <a:pt x="10149" y="7867"/>
                  <a:pt x="10199" y="7865"/>
                </a:cubicBezTo>
                <a:cubicBezTo>
                  <a:pt x="10241" y="7861"/>
                  <a:pt x="10255" y="7860"/>
                  <a:pt x="10282" y="7854"/>
                </a:cubicBezTo>
              </a:path>
              <a:path w="15458" h="2314">
                <a:moveTo>
                  <a:pt x="10374" y="7727"/>
                </a:moveTo>
                <a:cubicBezTo>
                  <a:pt x="10374" y="7759"/>
                  <a:pt x="10374" y="7784"/>
                  <a:pt x="10379" y="7816"/>
                </a:cubicBezTo>
                <a:cubicBezTo>
                  <a:pt x="10384" y="7848"/>
                  <a:pt x="10395" y="7870"/>
                  <a:pt x="10407" y="7899"/>
                </a:cubicBezTo>
                <a:cubicBezTo>
                  <a:pt x="10408" y="7903"/>
                  <a:pt x="10409" y="7906"/>
                  <a:pt x="10410" y="7910"/>
                </a:cubicBezTo>
              </a:path>
              <a:path w="15458" h="2314">
                <a:moveTo>
                  <a:pt x="10320" y="7774"/>
                </a:moveTo>
                <a:cubicBezTo>
                  <a:pt x="10351" y="7768"/>
                  <a:pt x="10383" y="7765"/>
                  <a:pt x="10415" y="7762"/>
                </a:cubicBezTo>
                <a:cubicBezTo>
                  <a:pt x="10461" y="7758"/>
                  <a:pt x="10507" y="7751"/>
                  <a:pt x="10552" y="7740"/>
                </a:cubicBezTo>
                <a:cubicBezTo>
                  <a:pt x="10563" y="7737"/>
                  <a:pt x="10574" y="7733"/>
                  <a:pt x="10585" y="7730"/>
                </a:cubicBezTo>
              </a:path>
              <a:path w="15458" h="2314">
                <a:moveTo>
                  <a:pt x="10754" y="7528"/>
                </a:moveTo>
                <a:cubicBezTo>
                  <a:pt x="10747" y="7567"/>
                  <a:pt x="10743" y="7608"/>
                  <a:pt x="10744" y="7649"/>
                </a:cubicBezTo>
                <a:cubicBezTo>
                  <a:pt x="10746" y="7699"/>
                  <a:pt x="10750" y="7750"/>
                  <a:pt x="10768" y="7797"/>
                </a:cubicBezTo>
                <a:cubicBezTo>
                  <a:pt x="10778" y="7816"/>
                  <a:pt x="10781" y="7821"/>
                  <a:pt x="10791" y="7831"/>
                </a:cubicBezTo>
              </a:path>
              <a:path w="15458" h="2314">
                <a:moveTo>
                  <a:pt x="10869" y="7559"/>
                </a:moveTo>
                <a:cubicBezTo>
                  <a:pt x="10897" y="7533"/>
                  <a:pt x="10910" y="7523"/>
                  <a:pt x="10935" y="7560"/>
                </a:cubicBezTo>
                <a:cubicBezTo>
                  <a:pt x="10965" y="7603"/>
                  <a:pt x="10979" y="7661"/>
                  <a:pt x="10990" y="7711"/>
                </a:cubicBezTo>
                <a:cubicBezTo>
                  <a:pt x="11002" y="7764"/>
                  <a:pt x="11014" y="7821"/>
                  <a:pt x="11017" y="7876"/>
                </a:cubicBezTo>
                <a:cubicBezTo>
                  <a:pt x="11017" y="7899"/>
                  <a:pt x="11017" y="7905"/>
                  <a:pt x="11016" y="7920"/>
                </a:cubicBezTo>
              </a:path>
              <a:path w="15458" h="2314">
                <a:moveTo>
                  <a:pt x="13688" y="7586"/>
                </a:moveTo>
                <a:cubicBezTo>
                  <a:pt x="13671" y="7617"/>
                  <a:pt x="13667" y="7660"/>
                  <a:pt x="13668" y="7697"/>
                </a:cubicBezTo>
                <a:cubicBezTo>
                  <a:pt x="13670" y="7764"/>
                  <a:pt x="13685" y="7831"/>
                  <a:pt x="13702" y="7896"/>
                </a:cubicBezTo>
                <a:cubicBezTo>
                  <a:pt x="13710" y="7926"/>
                  <a:pt x="13718" y="7951"/>
                  <a:pt x="13732" y="7977"/>
                </a:cubicBezTo>
                <a:cubicBezTo>
                  <a:pt x="13719" y="7928"/>
                  <a:pt x="13705" y="7881"/>
                  <a:pt x="13698" y="7830"/>
                </a:cubicBezTo>
                <a:cubicBezTo>
                  <a:pt x="13683" y="7724"/>
                  <a:pt x="13689" y="7596"/>
                  <a:pt x="13746" y="7502"/>
                </a:cubicBezTo>
                <a:cubicBezTo>
                  <a:pt x="13768" y="7465"/>
                  <a:pt x="13786" y="7460"/>
                  <a:pt x="13823" y="7453"/>
                </a:cubicBezTo>
                <a:cubicBezTo>
                  <a:pt x="13865" y="7494"/>
                  <a:pt x="13877" y="7531"/>
                  <a:pt x="13875" y="7592"/>
                </a:cubicBezTo>
                <a:cubicBezTo>
                  <a:pt x="13872" y="7685"/>
                  <a:pt x="13826" y="7814"/>
                  <a:pt x="13740" y="7863"/>
                </a:cubicBezTo>
                <a:cubicBezTo>
                  <a:pt x="13709" y="7881"/>
                  <a:pt x="13690" y="7873"/>
                  <a:pt x="13705" y="7840"/>
                </a:cubicBezTo>
                <a:cubicBezTo>
                  <a:pt x="13711" y="7831"/>
                  <a:pt x="13717" y="7822"/>
                  <a:pt x="13723" y="7813"/>
                </a:cubicBezTo>
              </a:path>
              <a:path w="15458" h="2314">
                <a:moveTo>
                  <a:pt x="14072" y="7485"/>
                </a:moveTo>
                <a:cubicBezTo>
                  <a:pt x="14040" y="7512"/>
                  <a:pt x="14000" y="7551"/>
                  <a:pt x="13982" y="7589"/>
                </a:cubicBezTo>
                <a:cubicBezTo>
                  <a:pt x="13951" y="7655"/>
                  <a:pt x="13942" y="7734"/>
                  <a:pt x="13947" y="7806"/>
                </a:cubicBezTo>
                <a:cubicBezTo>
                  <a:pt x="13951" y="7865"/>
                  <a:pt x="13983" y="7915"/>
                  <a:pt x="14042" y="7931"/>
                </a:cubicBezTo>
                <a:cubicBezTo>
                  <a:pt x="14055" y="7932"/>
                  <a:pt x="14067" y="7934"/>
                  <a:pt x="14080" y="7935"/>
                </a:cubicBezTo>
              </a:path>
              <a:path w="15458" h="2314">
                <a:moveTo>
                  <a:pt x="14265" y="7560"/>
                </a:moveTo>
                <a:cubicBezTo>
                  <a:pt x="14265" y="7612"/>
                  <a:pt x="14268" y="7663"/>
                  <a:pt x="14275" y="7715"/>
                </a:cubicBezTo>
                <a:cubicBezTo>
                  <a:pt x="14285" y="7790"/>
                  <a:pt x="14300" y="7863"/>
                  <a:pt x="14317" y="7937"/>
                </a:cubicBezTo>
                <a:cubicBezTo>
                  <a:pt x="14325" y="7971"/>
                  <a:pt x="14323" y="8001"/>
                  <a:pt x="14362" y="8000"/>
                </a:cubicBezTo>
              </a:path>
              <a:path w="15458" h="2314">
                <a:moveTo>
                  <a:pt x="14411" y="7520"/>
                </a:moveTo>
                <a:cubicBezTo>
                  <a:pt x="14431" y="7500"/>
                  <a:pt x="14433" y="7535"/>
                  <a:pt x="14441" y="7557"/>
                </a:cubicBezTo>
                <a:cubicBezTo>
                  <a:pt x="14459" y="7608"/>
                  <a:pt x="14472" y="7659"/>
                  <a:pt x="14485" y="7712"/>
                </a:cubicBezTo>
                <a:cubicBezTo>
                  <a:pt x="14502" y="7783"/>
                  <a:pt x="14516" y="7854"/>
                  <a:pt x="14501" y="7927"/>
                </a:cubicBezTo>
                <a:cubicBezTo>
                  <a:pt x="14495" y="7955"/>
                  <a:pt x="14476" y="7993"/>
                  <a:pt x="14447" y="8004"/>
                </a:cubicBezTo>
                <a:cubicBezTo>
                  <a:pt x="14433" y="8005"/>
                  <a:pt x="14428" y="8005"/>
                  <a:pt x="14421" y="7998"/>
                </a:cubicBezTo>
              </a:path>
              <a:path w="15458" h="2314">
                <a:moveTo>
                  <a:pt x="14860" y="7915"/>
                </a:moveTo>
                <a:cubicBezTo>
                  <a:pt x="14844" y="7941"/>
                  <a:pt x="14831" y="7970"/>
                  <a:pt x="14818" y="7999"/>
                </a:cubicBezTo>
                <a:cubicBezTo>
                  <a:pt x="14806" y="8026"/>
                  <a:pt x="14786" y="8111"/>
                  <a:pt x="14783" y="8081"/>
                </a:cubicBezTo>
                <a:cubicBezTo>
                  <a:pt x="14785" y="8077"/>
                  <a:pt x="14786" y="8072"/>
                  <a:pt x="14788" y="8068"/>
                </a:cubicBezTo>
              </a:path>
              <a:path w="15458" h="2314">
                <a:moveTo>
                  <a:pt x="15141" y="7881"/>
                </a:moveTo>
                <a:cubicBezTo>
                  <a:pt x="15165" y="7879"/>
                  <a:pt x="15169" y="7871"/>
                  <a:pt x="15189" y="7860"/>
                </a:cubicBezTo>
                <a:cubicBezTo>
                  <a:pt x="15206" y="7851"/>
                  <a:pt x="15223" y="7847"/>
                  <a:pt x="15241" y="7843"/>
                </a:cubicBezTo>
              </a:path>
              <a:path w="15458" h="2314">
                <a:moveTo>
                  <a:pt x="15357" y="7883"/>
                </a:moveTo>
                <a:cubicBezTo>
                  <a:pt x="15377" y="7890"/>
                  <a:pt x="15391" y="7885"/>
                  <a:pt x="15411" y="7876"/>
                </a:cubicBezTo>
                <a:cubicBezTo>
                  <a:pt x="15453" y="7857"/>
                  <a:pt x="15495" y="7843"/>
                  <a:pt x="15540" y="7833"/>
                </a:cubicBezTo>
                <a:cubicBezTo>
                  <a:pt x="15552" y="7831"/>
                  <a:pt x="15565" y="7829"/>
                  <a:pt x="15577" y="7827"/>
                </a:cubicBezTo>
              </a:path>
              <a:path w="15458" h="2314">
                <a:moveTo>
                  <a:pt x="15715" y="7847"/>
                </a:moveTo>
                <a:cubicBezTo>
                  <a:pt x="15734" y="7851"/>
                  <a:pt x="15750" y="7843"/>
                  <a:pt x="15771" y="7847"/>
                </a:cubicBezTo>
                <a:cubicBezTo>
                  <a:pt x="15786" y="7850"/>
                  <a:pt x="15799" y="7853"/>
                  <a:pt x="15814" y="7858"/>
                </a:cubicBezTo>
              </a:path>
              <a:path w="15458" h="2314">
                <a:moveTo>
                  <a:pt x="16288" y="7863"/>
                </a:moveTo>
                <a:cubicBezTo>
                  <a:pt x="16287" y="7887"/>
                  <a:pt x="16283" y="7908"/>
                  <a:pt x="16280" y="7931"/>
                </a:cubicBezTo>
                <a:cubicBezTo>
                  <a:pt x="16275" y="7970"/>
                  <a:pt x="16266" y="8014"/>
                  <a:pt x="16247" y="8049"/>
                </a:cubicBezTo>
                <a:cubicBezTo>
                  <a:pt x="16239" y="8065"/>
                  <a:pt x="16214" y="8102"/>
                  <a:pt x="16209" y="8076"/>
                </a:cubicBezTo>
              </a:path>
              <a:path w="15458" h="2314">
                <a:moveTo>
                  <a:pt x="16476" y="7560"/>
                </a:moveTo>
                <a:cubicBezTo>
                  <a:pt x="16460" y="7606"/>
                  <a:pt x="16459" y="7647"/>
                  <a:pt x="16458" y="7696"/>
                </a:cubicBezTo>
                <a:cubicBezTo>
                  <a:pt x="16457" y="7764"/>
                  <a:pt x="16457" y="7832"/>
                  <a:pt x="16454" y="7900"/>
                </a:cubicBezTo>
                <a:cubicBezTo>
                  <a:pt x="16452" y="7928"/>
                  <a:pt x="16452" y="7935"/>
                  <a:pt x="16448" y="7952"/>
                </a:cubicBezTo>
                <a:cubicBezTo>
                  <a:pt x="16435" y="7936"/>
                  <a:pt x="16426" y="7913"/>
                  <a:pt x="16424" y="7875"/>
                </a:cubicBezTo>
                <a:cubicBezTo>
                  <a:pt x="16421" y="7805"/>
                  <a:pt x="16427" y="7732"/>
                  <a:pt x="16445" y="7664"/>
                </a:cubicBezTo>
                <a:cubicBezTo>
                  <a:pt x="16461" y="7602"/>
                  <a:pt x="16483" y="7528"/>
                  <a:pt x="16529" y="7481"/>
                </a:cubicBezTo>
                <a:cubicBezTo>
                  <a:pt x="16552" y="7465"/>
                  <a:pt x="16559" y="7460"/>
                  <a:pt x="16578" y="7460"/>
                </a:cubicBezTo>
                <a:cubicBezTo>
                  <a:pt x="16616" y="7484"/>
                  <a:pt x="16632" y="7521"/>
                  <a:pt x="16639" y="7568"/>
                </a:cubicBezTo>
                <a:cubicBezTo>
                  <a:pt x="16648" y="7630"/>
                  <a:pt x="16639" y="7699"/>
                  <a:pt x="16612" y="7756"/>
                </a:cubicBezTo>
                <a:cubicBezTo>
                  <a:pt x="16589" y="7805"/>
                  <a:pt x="16553" y="7832"/>
                  <a:pt x="16501" y="7843"/>
                </a:cubicBezTo>
                <a:cubicBezTo>
                  <a:pt x="16471" y="7849"/>
                  <a:pt x="16428" y="7842"/>
                  <a:pt x="16422" y="7805"/>
                </a:cubicBezTo>
                <a:cubicBezTo>
                  <a:pt x="16424" y="7782"/>
                  <a:pt x="16425" y="7773"/>
                  <a:pt x="16435" y="7759"/>
                </a:cubicBezTo>
              </a:path>
              <a:path w="15458" h="2314">
                <a:moveTo>
                  <a:pt x="16890" y="7500"/>
                </a:moveTo>
                <a:cubicBezTo>
                  <a:pt x="16859" y="7550"/>
                  <a:pt x="16827" y="7598"/>
                  <a:pt x="16806" y="7654"/>
                </a:cubicBezTo>
                <a:cubicBezTo>
                  <a:pt x="16776" y="7732"/>
                  <a:pt x="16760" y="7809"/>
                  <a:pt x="16759" y="7892"/>
                </a:cubicBezTo>
                <a:cubicBezTo>
                  <a:pt x="16758" y="7939"/>
                  <a:pt x="16776" y="7976"/>
                  <a:pt x="16828" y="7977"/>
                </a:cubicBezTo>
                <a:cubicBezTo>
                  <a:pt x="16837" y="7976"/>
                  <a:pt x="16846" y="7974"/>
                  <a:pt x="16855" y="7973"/>
                </a:cubicBezTo>
              </a:path>
              <a:path w="15458" h="2314">
                <a:moveTo>
                  <a:pt x="16998" y="7536"/>
                </a:moveTo>
                <a:cubicBezTo>
                  <a:pt x="16996" y="7591"/>
                  <a:pt x="16987" y="7645"/>
                  <a:pt x="16983" y="7701"/>
                </a:cubicBezTo>
                <a:cubicBezTo>
                  <a:pt x="16979" y="7767"/>
                  <a:pt x="16978" y="7833"/>
                  <a:pt x="16976" y="7899"/>
                </a:cubicBezTo>
                <a:cubicBezTo>
                  <a:pt x="16976" y="7912"/>
                  <a:pt x="16971" y="7957"/>
                  <a:pt x="16998" y="7934"/>
                </a:cubicBezTo>
                <a:cubicBezTo>
                  <a:pt x="17002" y="7930"/>
                  <a:pt x="17005" y="7925"/>
                  <a:pt x="17009" y="7921"/>
                </a:cubicBezTo>
              </a:path>
              <a:path w="15458" h="2314">
                <a:moveTo>
                  <a:pt x="17155" y="7620"/>
                </a:moveTo>
                <a:cubicBezTo>
                  <a:pt x="17159" y="7616"/>
                  <a:pt x="17162" y="7611"/>
                  <a:pt x="17166" y="7607"/>
                </a:cubicBezTo>
                <a:cubicBezTo>
                  <a:pt x="17154" y="7631"/>
                  <a:pt x="17128" y="7654"/>
                  <a:pt x="17108" y="7677"/>
                </a:cubicBezTo>
                <a:cubicBezTo>
                  <a:pt x="17075" y="7716"/>
                  <a:pt x="17036" y="7756"/>
                  <a:pt x="17013" y="7802"/>
                </a:cubicBezTo>
                <a:cubicBezTo>
                  <a:pt x="16999" y="7829"/>
                  <a:pt x="16996" y="7861"/>
                  <a:pt x="17036" y="7860"/>
                </a:cubicBezTo>
                <a:cubicBezTo>
                  <a:pt x="17075" y="7859"/>
                  <a:pt x="17120" y="7849"/>
                  <a:pt x="17159" y="7842"/>
                </a:cubicBezTo>
                <a:cubicBezTo>
                  <a:pt x="17170" y="7840"/>
                  <a:pt x="17181" y="7838"/>
                  <a:pt x="17192" y="7836"/>
                </a:cubicBezTo>
              </a:path>
              <a:path w="15458" h="2314">
                <a:moveTo>
                  <a:pt x="17313" y="7817"/>
                </a:moveTo>
                <a:cubicBezTo>
                  <a:pt x="17328" y="7802"/>
                  <a:pt x="17359" y="7794"/>
                  <a:pt x="17382" y="7786"/>
                </a:cubicBezTo>
                <a:cubicBezTo>
                  <a:pt x="17420" y="7774"/>
                  <a:pt x="17461" y="7769"/>
                  <a:pt x="17500" y="7759"/>
                </a:cubicBezTo>
              </a:path>
              <a:path w="15458" h="2314">
                <a:moveTo>
                  <a:pt x="17542" y="7540"/>
                </a:moveTo>
                <a:cubicBezTo>
                  <a:pt x="17561" y="7565"/>
                  <a:pt x="17574" y="7596"/>
                  <a:pt x="17588" y="7626"/>
                </a:cubicBezTo>
                <a:cubicBezTo>
                  <a:pt x="17610" y="7674"/>
                  <a:pt x="17631" y="7721"/>
                  <a:pt x="17648" y="7771"/>
                </a:cubicBezTo>
                <a:cubicBezTo>
                  <a:pt x="17662" y="7813"/>
                  <a:pt x="17675" y="7856"/>
                  <a:pt x="17660" y="7898"/>
                </a:cubicBezTo>
              </a:path>
              <a:path w="15458" h="2314">
                <a:moveTo>
                  <a:pt x="17677" y="7432"/>
                </a:moveTo>
                <a:cubicBezTo>
                  <a:pt x="17724" y="7432"/>
                  <a:pt x="17746" y="7444"/>
                  <a:pt x="17768" y="7491"/>
                </a:cubicBezTo>
                <a:cubicBezTo>
                  <a:pt x="17798" y="7554"/>
                  <a:pt x="17806" y="7635"/>
                  <a:pt x="17810" y="7704"/>
                </a:cubicBezTo>
                <a:cubicBezTo>
                  <a:pt x="17814" y="7769"/>
                  <a:pt x="17815" y="7848"/>
                  <a:pt x="17792" y="7910"/>
                </a:cubicBezTo>
                <a:cubicBezTo>
                  <a:pt x="17783" y="7935"/>
                  <a:pt x="17774" y="7940"/>
                  <a:pt x="17753" y="7949"/>
                </a:cubicBezTo>
              </a:path>
              <a:path w="15458" h="2314">
                <a:moveTo>
                  <a:pt x="18242" y="7864"/>
                </a:moveTo>
                <a:cubicBezTo>
                  <a:pt x="18218" y="7900"/>
                  <a:pt x="18192" y="7933"/>
                  <a:pt x="18167" y="7967"/>
                </a:cubicBezTo>
                <a:cubicBezTo>
                  <a:pt x="18137" y="8009"/>
                  <a:pt x="18111" y="8053"/>
                  <a:pt x="18086" y="8096"/>
                </a:cubicBezTo>
                <a:cubicBezTo>
                  <a:pt x="18076" y="8113"/>
                  <a:pt x="18091" y="8088"/>
                  <a:pt x="18104" y="8072"/>
                </a:cubicBezTo>
              </a:path>
              <a:path w="15458" h="2314">
                <a:moveTo>
                  <a:pt x="18391" y="7499"/>
                </a:moveTo>
                <a:cubicBezTo>
                  <a:pt x="18416" y="7485"/>
                  <a:pt x="18408" y="7564"/>
                  <a:pt x="18409" y="7599"/>
                </a:cubicBezTo>
                <a:cubicBezTo>
                  <a:pt x="18411" y="7675"/>
                  <a:pt x="18414" y="7752"/>
                  <a:pt x="18416" y="7828"/>
                </a:cubicBezTo>
                <a:cubicBezTo>
                  <a:pt x="18417" y="7856"/>
                  <a:pt x="18418" y="7884"/>
                  <a:pt x="18417" y="7912"/>
                </a:cubicBezTo>
                <a:cubicBezTo>
                  <a:pt x="18408" y="7862"/>
                  <a:pt x="18405" y="7811"/>
                  <a:pt x="18404" y="7760"/>
                </a:cubicBezTo>
                <a:cubicBezTo>
                  <a:pt x="18403" y="7695"/>
                  <a:pt x="18410" y="7628"/>
                  <a:pt x="18428" y="7565"/>
                </a:cubicBezTo>
                <a:cubicBezTo>
                  <a:pt x="18442" y="7517"/>
                  <a:pt x="18465" y="7462"/>
                  <a:pt x="18515" y="7441"/>
                </a:cubicBezTo>
                <a:cubicBezTo>
                  <a:pt x="18570" y="7417"/>
                  <a:pt x="18633" y="7459"/>
                  <a:pt x="18658" y="7507"/>
                </a:cubicBezTo>
                <a:cubicBezTo>
                  <a:pt x="18684" y="7555"/>
                  <a:pt x="18679" y="7618"/>
                  <a:pt x="18650" y="7664"/>
                </a:cubicBezTo>
                <a:cubicBezTo>
                  <a:pt x="18619" y="7714"/>
                  <a:pt x="18567" y="7739"/>
                  <a:pt x="18514" y="7757"/>
                </a:cubicBezTo>
                <a:cubicBezTo>
                  <a:pt x="18495" y="7763"/>
                  <a:pt x="18443" y="7773"/>
                  <a:pt x="18449" y="7735"/>
                </a:cubicBezTo>
                <a:cubicBezTo>
                  <a:pt x="18452" y="7728"/>
                  <a:pt x="18455" y="7722"/>
                  <a:pt x="18458" y="7715"/>
                </a:cubicBezTo>
              </a:path>
              <a:path w="15458" h="2314">
                <a:moveTo>
                  <a:pt x="18891" y="7501"/>
                </a:moveTo>
                <a:cubicBezTo>
                  <a:pt x="18862" y="7544"/>
                  <a:pt x="18839" y="7589"/>
                  <a:pt x="18820" y="7638"/>
                </a:cubicBezTo>
                <a:cubicBezTo>
                  <a:pt x="18795" y="7702"/>
                  <a:pt x="18773" y="7776"/>
                  <a:pt x="18776" y="7845"/>
                </a:cubicBezTo>
                <a:cubicBezTo>
                  <a:pt x="18778" y="7893"/>
                  <a:pt x="18792" y="7931"/>
                  <a:pt x="18843" y="7941"/>
                </a:cubicBezTo>
                <a:cubicBezTo>
                  <a:pt x="18869" y="7941"/>
                  <a:pt x="18877" y="7941"/>
                  <a:pt x="18893" y="7935"/>
                </a:cubicBezTo>
              </a:path>
              <a:path w="15458" h="2314">
                <a:moveTo>
                  <a:pt x="18991" y="7622"/>
                </a:moveTo>
                <a:cubicBezTo>
                  <a:pt x="18992" y="7662"/>
                  <a:pt x="18990" y="7705"/>
                  <a:pt x="18995" y="7744"/>
                </a:cubicBezTo>
                <a:cubicBezTo>
                  <a:pt x="19002" y="7796"/>
                  <a:pt x="19005" y="7855"/>
                  <a:pt x="19023" y="7904"/>
                </a:cubicBezTo>
                <a:cubicBezTo>
                  <a:pt x="19032" y="7929"/>
                  <a:pt x="19036" y="7935"/>
                  <a:pt x="19056" y="7946"/>
                </a:cubicBezTo>
              </a:path>
              <a:path w="15458" h="2314">
                <a:moveTo>
                  <a:pt x="19216" y="7590"/>
                </a:moveTo>
                <a:cubicBezTo>
                  <a:pt x="19210" y="7619"/>
                  <a:pt x="19184" y="7646"/>
                  <a:pt x="19163" y="7671"/>
                </a:cubicBezTo>
                <a:cubicBezTo>
                  <a:pt x="19124" y="7719"/>
                  <a:pt x="19079" y="7759"/>
                  <a:pt x="19036" y="7803"/>
                </a:cubicBezTo>
                <a:cubicBezTo>
                  <a:pt x="19016" y="7824"/>
                  <a:pt x="19006" y="7835"/>
                  <a:pt x="18998" y="7860"/>
                </a:cubicBezTo>
                <a:cubicBezTo>
                  <a:pt x="19029" y="7879"/>
                  <a:pt x="19061" y="7872"/>
                  <a:pt x="19097" y="7869"/>
                </a:cubicBezTo>
                <a:cubicBezTo>
                  <a:pt x="19151" y="7864"/>
                  <a:pt x="19202" y="7856"/>
                  <a:pt x="19255" y="7844"/>
                </a:cubicBezTo>
              </a:path>
              <a:path w="15458" h="2314">
                <a:moveTo>
                  <a:pt x="19363" y="7486"/>
                </a:moveTo>
                <a:cubicBezTo>
                  <a:pt x="19396" y="7503"/>
                  <a:pt x="19413" y="7530"/>
                  <a:pt x="19423" y="7568"/>
                </a:cubicBezTo>
                <a:cubicBezTo>
                  <a:pt x="19440" y="7633"/>
                  <a:pt x="19438" y="7706"/>
                  <a:pt x="19430" y="7773"/>
                </a:cubicBezTo>
                <a:cubicBezTo>
                  <a:pt x="19424" y="7823"/>
                  <a:pt x="19406" y="7886"/>
                  <a:pt x="19377" y="7928"/>
                </a:cubicBezTo>
                <a:cubicBezTo>
                  <a:pt x="19364" y="7941"/>
                  <a:pt x="19361" y="7945"/>
                  <a:pt x="19350" y="7949"/>
                </a:cubicBezTo>
              </a:path>
              <a:path w="15458" h="2314">
                <a:moveTo>
                  <a:pt x="19767" y="7778"/>
                </a:moveTo>
                <a:cubicBezTo>
                  <a:pt x="19751" y="7776"/>
                  <a:pt x="19736" y="7775"/>
                  <a:pt x="19720" y="7775"/>
                </a:cubicBezTo>
                <a:cubicBezTo>
                  <a:pt x="19801" y="7788"/>
                  <a:pt x="19885" y="7781"/>
                  <a:pt x="19967" y="7780"/>
                </a:cubicBezTo>
                <a:cubicBezTo>
                  <a:pt x="20113" y="7778"/>
                  <a:pt x="20264" y="7765"/>
                  <a:pt x="20408" y="7789"/>
                </a:cubicBezTo>
                <a:cubicBezTo>
                  <a:pt x="20427" y="7792"/>
                  <a:pt x="20431" y="7793"/>
                  <a:pt x="20442" y="7798"/>
                </a:cubicBezTo>
                <a:cubicBezTo>
                  <a:pt x="20407" y="7778"/>
                  <a:pt x="20371" y="7763"/>
                  <a:pt x="20333" y="7749"/>
                </a:cubicBezTo>
                <a:cubicBezTo>
                  <a:pt x="20279" y="7729"/>
                  <a:pt x="20224" y="7714"/>
                  <a:pt x="20171" y="7693"/>
                </a:cubicBezTo>
                <a:cubicBezTo>
                  <a:pt x="20149" y="7683"/>
                  <a:pt x="20143" y="7683"/>
                  <a:pt x="20137" y="7668"/>
                </a:cubicBezTo>
                <a:cubicBezTo>
                  <a:pt x="20179" y="7650"/>
                  <a:pt x="20218" y="7639"/>
                  <a:pt x="20269" y="7635"/>
                </a:cubicBezTo>
                <a:cubicBezTo>
                  <a:pt x="20340" y="7630"/>
                  <a:pt x="20464" y="7623"/>
                  <a:pt x="20506" y="7699"/>
                </a:cubicBezTo>
                <a:cubicBezTo>
                  <a:pt x="20533" y="7748"/>
                  <a:pt x="20490" y="7821"/>
                  <a:pt x="20462" y="7859"/>
                </a:cubicBezTo>
                <a:cubicBezTo>
                  <a:pt x="20424" y="7909"/>
                  <a:pt x="20374" y="7952"/>
                  <a:pt x="20323" y="7986"/>
                </a:cubicBezTo>
                <a:cubicBezTo>
                  <a:pt x="20305" y="7997"/>
                  <a:pt x="20301" y="8000"/>
                  <a:pt x="20290" y="8007"/>
                </a:cubicBezTo>
              </a:path>
              <a:path w="15458" h="2314">
                <a:moveTo>
                  <a:pt x="20849" y="7606"/>
                </a:moveTo>
                <a:cubicBezTo>
                  <a:pt x="20863" y="7652"/>
                  <a:pt x="20851" y="7690"/>
                  <a:pt x="20850" y="7738"/>
                </a:cubicBezTo>
                <a:cubicBezTo>
                  <a:pt x="20848" y="7813"/>
                  <a:pt x="20854" y="7889"/>
                  <a:pt x="20858" y="7964"/>
                </a:cubicBezTo>
                <a:cubicBezTo>
                  <a:pt x="20860" y="8000"/>
                  <a:pt x="20862" y="8031"/>
                  <a:pt x="20876" y="8064"/>
                </a:cubicBezTo>
              </a:path>
              <a:path w="15458" h="2314">
                <a:moveTo>
                  <a:pt x="20875" y="7495"/>
                </a:moveTo>
                <a:cubicBezTo>
                  <a:pt x="20903" y="7453"/>
                  <a:pt x="20921" y="7439"/>
                  <a:pt x="20970" y="7426"/>
                </a:cubicBezTo>
                <a:cubicBezTo>
                  <a:pt x="21024" y="7411"/>
                  <a:pt x="21076" y="7431"/>
                  <a:pt x="21115" y="7470"/>
                </a:cubicBezTo>
                <a:cubicBezTo>
                  <a:pt x="21176" y="7531"/>
                  <a:pt x="21180" y="7629"/>
                  <a:pt x="21155" y="7706"/>
                </a:cubicBezTo>
                <a:cubicBezTo>
                  <a:pt x="21129" y="7787"/>
                  <a:pt x="21064" y="7830"/>
                  <a:pt x="20985" y="7846"/>
                </a:cubicBezTo>
                <a:cubicBezTo>
                  <a:pt x="20947" y="7854"/>
                  <a:pt x="20906" y="7850"/>
                  <a:pt x="20887" y="7811"/>
                </a:cubicBezTo>
                <a:cubicBezTo>
                  <a:pt x="20885" y="7803"/>
                  <a:pt x="20883" y="7796"/>
                  <a:pt x="20881" y="7788"/>
                </a:cubicBezTo>
              </a:path>
              <a:path w="15458" h="2314">
                <a:moveTo>
                  <a:pt x="21442" y="7461"/>
                </a:moveTo>
                <a:cubicBezTo>
                  <a:pt x="21424" y="7442"/>
                  <a:pt x="21424" y="7454"/>
                  <a:pt x="21397" y="7479"/>
                </a:cubicBezTo>
                <a:cubicBezTo>
                  <a:pt x="21348" y="7525"/>
                  <a:pt x="21316" y="7584"/>
                  <a:pt x="21290" y="7646"/>
                </a:cubicBezTo>
                <a:cubicBezTo>
                  <a:pt x="21261" y="7714"/>
                  <a:pt x="21249" y="7794"/>
                  <a:pt x="21266" y="7867"/>
                </a:cubicBezTo>
                <a:cubicBezTo>
                  <a:pt x="21276" y="7911"/>
                  <a:pt x="21304" y="7936"/>
                  <a:pt x="21334" y="7967"/>
                </a:cubicBezTo>
              </a:path>
              <a:path w="15458" h="2314">
                <a:moveTo>
                  <a:pt x="21569" y="7515"/>
                </a:moveTo>
                <a:cubicBezTo>
                  <a:pt x="21573" y="7558"/>
                  <a:pt x="21574" y="7606"/>
                  <a:pt x="21572" y="7650"/>
                </a:cubicBezTo>
                <a:cubicBezTo>
                  <a:pt x="21568" y="7734"/>
                  <a:pt x="21560" y="7819"/>
                  <a:pt x="21555" y="7903"/>
                </a:cubicBezTo>
                <a:cubicBezTo>
                  <a:pt x="21553" y="7932"/>
                  <a:pt x="21554" y="7960"/>
                  <a:pt x="21556" y="7988"/>
                </a:cubicBezTo>
              </a:path>
              <a:path w="15458" h="2314">
                <a:moveTo>
                  <a:pt x="21719" y="7545"/>
                </a:moveTo>
                <a:cubicBezTo>
                  <a:pt x="21727" y="7558"/>
                  <a:pt x="21735" y="7569"/>
                  <a:pt x="21734" y="7594"/>
                </a:cubicBezTo>
                <a:cubicBezTo>
                  <a:pt x="21733" y="7630"/>
                  <a:pt x="21736" y="7667"/>
                  <a:pt x="21734" y="7704"/>
                </a:cubicBezTo>
                <a:cubicBezTo>
                  <a:pt x="21732" y="7743"/>
                  <a:pt x="21727" y="7781"/>
                  <a:pt x="21706" y="7815"/>
                </a:cubicBezTo>
                <a:cubicBezTo>
                  <a:pt x="21679" y="7859"/>
                  <a:pt x="21639" y="7879"/>
                  <a:pt x="21593" y="7896"/>
                </a:cubicBezTo>
                <a:cubicBezTo>
                  <a:pt x="21627" y="7896"/>
                  <a:pt x="21660" y="7892"/>
                  <a:pt x="21694" y="7889"/>
                </a:cubicBezTo>
                <a:cubicBezTo>
                  <a:pt x="21744" y="7885"/>
                  <a:pt x="21795" y="7888"/>
                  <a:pt x="21845" y="7888"/>
                </a:cubicBezTo>
              </a:path>
              <a:path w="15458" h="2314">
                <a:moveTo>
                  <a:pt x="22102" y="7620"/>
                </a:moveTo>
                <a:cubicBezTo>
                  <a:pt x="22082" y="7632"/>
                  <a:pt x="22056" y="7656"/>
                  <a:pt x="22051" y="7680"/>
                </a:cubicBezTo>
                <a:cubicBezTo>
                  <a:pt x="22041" y="7727"/>
                  <a:pt x="22051" y="7780"/>
                  <a:pt x="22066" y="7824"/>
                </a:cubicBezTo>
                <a:cubicBezTo>
                  <a:pt x="22078" y="7859"/>
                  <a:pt x="22104" y="7891"/>
                  <a:pt x="22127" y="7919"/>
                </a:cubicBezTo>
                <a:cubicBezTo>
                  <a:pt x="22130" y="7923"/>
                  <a:pt x="22134" y="7926"/>
                  <a:pt x="22137" y="7930"/>
                </a:cubicBezTo>
              </a:path>
              <a:path w="15458" h="2314">
                <a:moveTo>
                  <a:pt x="21996" y="7698"/>
                </a:moveTo>
                <a:cubicBezTo>
                  <a:pt x="22023" y="7676"/>
                  <a:pt x="22063" y="7646"/>
                  <a:pt x="22097" y="7637"/>
                </a:cubicBezTo>
                <a:cubicBezTo>
                  <a:pt x="22133" y="7627"/>
                  <a:pt x="22186" y="7631"/>
                  <a:pt x="22222" y="7638"/>
                </a:cubicBezTo>
                <a:cubicBezTo>
                  <a:pt x="22245" y="7644"/>
                  <a:pt x="22250" y="7646"/>
                  <a:pt x="22265" y="7648"/>
                </a:cubicBezTo>
              </a:path>
              <a:path w="15458" h="2314">
                <a:moveTo>
                  <a:pt x="22363" y="7433"/>
                </a:moveTo>
                <a:cubicBezTo>
                  <a:pt x="22403" y="7439"/>
                  <a:pt x="22387" y="7467"/>
                  <a:pt x="22389" y="7504"/>
                </a:cubicBezTo>
                <a:cubicBezTo>
                  <a:pt x="22393" y="7565"/>
                  <a:pt x="22396" y="7627"/>
                  <a:pt x="22404" y="7687"/>
                </a:cubicBezTo>
                <a:cubicBezTo>
                  <a:pt x="22410" y="7736"/>
                  <a:pt x="22422" y="7796"/>
                  <a:pt x="22448" y="7839"/>
                </a:cubicBezTo>
                <a:cubicBezTo>
                  <a:pt x="22462" y="7856"/>
                  <a:pt x="22466" y="7862"/>
                  <a:pt x="22481" y="7865"/>
                </a:cubicBezTo>
              </a:path>
              <a:path w="15458" h="2314">
                <a:moveTo>
                  <a:pt x="22643" y="7356"/>
                </a:moveTo>
                <a:cubicBezTo>
                  <a:pt x="22667" y="7357"/>
                  <a:pt x="22676" y="7353"/>
                  <a:pt x="22695" y="7378"/>
                </a:cubicBezTo>
                <a:cubicBezTo>
                  <a:pt x="22736" y="7434"/>
                  <a:pt x="22755" y="7498"/>
                  <a:pt x="22770" y="7565"/>
                </a:cubicBezTo>
                <a:cubicBezTo>
                  <a:pt x="22789" y="7653"/>
                  <a:pt x="22797" y="7741"/>
                  <a:pt x="22795" y="7831"/>
                </a:cubicBezTo>
                <a:cubicBezTo>
                  <a:pt x="22794" y="7876"/>
                  <a:pt x="22793" y="7925"/>
                  <a:pt x="22771" y="7965"/>
                </a:cubicBezTo>
                <a:cubicBezTo>
                  <a:pt x="22761" y="7983"/>
                  <a:pt x="22747" y="7983"/>
                  <a:pt x="22730" y="7988"/>
                </a:cubicBezTo>
              </a:path>
              <a:path w="15458" h="2314">
                <a:moveTo>
                  <a:pt x="7976" y="7330"/>
                </a:moveTo>
                <a:cubicBezTo>
                  <a:pt x="7968" y="7308"/>
                  <a:pt x="7959" y="7286"/>
                  <a:pt x="7949" y="7263"/>
                </a:cubicBezTo>
                <a:cubicBezTo>
                  <a:pt x="7922" y="7199"/>
                  <a:pt x="7916" y="7127"/>
                  <a:pt x="7908" y="7059"/>
                </a:cubicBezTo>
                <a:cubicBezTo>
                  <a:pt x="7877" y="6784"/>
                  <a:pt x="7889" y="6506"/>
                  <a:pt x="7875" y="6230"/>
                </a:cubicBezTo>
                <a:cubicBezTo>
                  <a:pt x="7849" y="6274"/>
                  <a:pt x="7824" y="6321"/>
                  <a:pt x="7799" y="6367"/>
                </a:cubicBezTo>
                <a:cubicBezTo>
                  <a:pt x="7761" y="6437"/>
                  <a:pt x="7722" y="6509"/>
                  <a:pt x="7674" y="6573"/>
                </a:cubicBezTo>
                <a:cubicBezTo>
                  <a:pt x="7654" y="6597"/>
                  <a:pt x="7650" y="6601"/>
                  <a:pt x="7637" y="6614"/>
                </a:cubicBezTo>
                <a:cubicBezTo>
                  <a:pt x="7661" y="6559"/>
                  <a:pt x="7698" y="6511"/>
                  <a:pt x="7739" y="6466"/>
                </a:cubicBezTo>
                <a:cubicBezTo>
                  <a:pt x="7783" y="6419"/>
                  <a:pt x="7844" y="6350"/>
                  <a:pt x="7916" y="6354"/>
                </a:cubicBezTo>
                <a:cubicBezTo>
                  <a:pt x="7991" y="6358"/>
                  <a:pt x="8024" y="6449"/>
                  <a:pt x="8058" y="6501"/>
                </a:cubicBezTo>
                <a:cubicBezTo>
                  <a:pt x="8094" y="6557"/>
                  <a:pt x="8131" y="6601"/>
                  <a:pt x="8178" y="6648"/>
                </a:cubicBezTo>
              </a:path>
              <a:path w="15458" h="2314">
                <a:moveTo>
                  <a:pt x="14985" y="6905"/>
                </a:moveTo>
                <a:cubicBezTo>
                  <a:pt x="14972" y="6883"/>
                  <a:pt x="14964" y="6870"/>
                  <a:pt x="14938" y="6865"/>
                </a:cubicBezTo>
                <a:cubicBezTo>
                  <a:pt x="14889" y="6856"/>
                  <a:pt x="14842" y="6881"/>
                  <a:pt x="14800" y="6905"/>
                </a:cubicBezTo>
                <a:cubicBezTo>
                  <a:pt x="14745" y="6936"/>
                  <a:pt x="14687" y="6977"/>
                  <a:pt x="14646" y="7026"/>
                </a:cubicBezTo>
                <a:cubicBezTo>
                  <a:pt x="14631" y="7048"/>
                  <a:pt x="14626" y="7053"/>
                  <a:pt x="14627" y="7070"/>
                </a:cubicBezTo>
                <a:cubicBezTo>
                  <a:pt x="14670" y="7091"/>
                  <a:pt x="14713" y="7081"/>
                  <a:pt x="14761" y="7080"/>
                </a:cubicBezTo>
                <a:cubicBezTo>
                  <a:pt x="14823" y="7078"/>
                  <a:pt x="14892" y="7070"/>
                  <a:pt x="14951" y="7094"/>
                </a:cubicBezTo>
                <a:cubicBezTo>
                  <a:pt x="14992" y="7110"/>
                  <a:pt x="15012" y="7149"/>
                  <a:pt x="14998" y="7192"/>
                </a:cubicBezTo>
                <a:cubicBezTo>
                  <a:pt x="14984" y="7236"/>
                  <a:pt x="14945" y="7274"/>
                  <a:pt x="14904" y="7293"/>
                </a:cubicBezTo>
                <a:cubicBezTo>
                  <a:pt x="14870" y="7309"/>
                  <a:pt x="14845" y="7305"/>
                  <a:pt x="14819" y="7284"/>
                </a:cubicBezTo>
                <a:cubicBezTo>
                  <a:pt x="14824" y="7247"/>
                  <a:pt x="14832" y="7225"/>
                  <a:pt x="14848" y="7190"/>
                </a:cubicBezTo>
              </a:path>
              <a:path w="15458" h="2314">
                <a:moveTo>
                  <a:pt x="15130" y="6751"/>
                </a:moveTo>
                <a:cubicBezTo>
                  <a:pt x="15143" y="6790"/>
                  <a:pt x="15133" y="6824"/>
                  <a:pt x="15134" y="6865"/>
                </a:cubicBezTo>
                <a:cubicBezTo>
                  <a:pt x="15136" y="6940"/>
                  <a:pt x="15138" y="7017"/>
                  <a:pt x="15145" y="7092"/>
                </a:cubicBezTo>
                <a:cubicBezTo>
                  <a:pt x="15146" y="7099"/>
                  <a:pt x="15159" y="7242"/>
                  <a:pt x="15170" y="7241"/>
                </a:cubicBezTo>
                <a:cubicBezTo>
                  <a:pt x="15170" y="7234"/>
                  <a:pt x="15170" y="7228"/>
                  <a:pt x="15170" y="7221"/>
                </a:cubicBezTo>
              </a:path>
              <a:path w="15458" h="2314">
                <a:moveTo>
                  <a:pt x="15106" y="7026"/>
                </a:moveTo>
                <a:cubicBezTo>
                  <a:pt x="15100" y="6996"/>
                  <a:pt x="15099" y="6967"/>
                  <a:pt x="15122" y="6941"/>
                </a:cubicBezTo>
                <a:cubicBezTo>
                  <a:pt x="15150" y="6910"/>
                  <a:pt x="15189" y="6892"/>
                  <a:pt x="15227" y="6877"/>
                </a:cubicBezTo>
                <a:cubicBezTo>
                  <a:pt x="15253" y="6867"/>
                  <a:pt x="15287" y="6857"/>
                  <a:pt x="15306" y="6884"/>
                </a:cubicBezTo>
                <a:cubicBezTo>
                  <a:pt x="15321" y="6906"/>
                  <a:pt x="15317" y="6948"/>
                  <a:pt x="15319" y="6973"/>
                </a:cubicBezTo>
                <a:cubicBezTo>
                  <a:pt x="15322" y="7016"/>
                  <a:pt x="15326" y="7060"/>
                  <a:pt x="15337" y="7101"/>
                </a:cubicBezTo>
                <a:cubicBezTo>
                  <a:pt x="15345" y="7132"/>
                  <a:pt x="15349" y="7167"/>
                  <a:pt x="15358" y="7197"/>
                </a:cubicBezTo>
                <a:cubicBezTo>
                  <a:pt x="15360" y="7200"/>
                  <a:pt x="15363" y="7204"/>
                  <a:pt x="15365" y="7207"/>
                </a:cubicBezTo>
                <a:cubicBezTo>
                  <a:pt x="15381" y="7180"/>
                  <a:pt x="15386" y="7149"/>
                  <a:pt x="15398" y="7120"/>
                </a:cubicBezTo>
                <a:cubicBezTo>
                  <a:pt x="15417" y="7073"/>
                  <a:pt x="15440" y="7030"/>
                  <a:pt x="15467" y="6987"/>
                </a:cubicBezTo>
                <a:cubicBezTo>
                  <a:pt x="15486" y="6956"/>
                  <a:pt x="15513" y="6934"/>
                  <a:pt x="15550" y="6925"/>
                </a:cubicBezTo>
                <a:cubicBezTo>
                  <a:pt x="15573" y="6922"/>
                  <a:pt x="15580" y="6921"/>
                  <a:pt x="15595" y="6921"/>
                </a:cubicBezTo>
              </a:path>
              <a:path w="15458" h="2314">
                <a:moveTo>
                  <a:pt x="15743" y="6986"/>
                </a:moveTo>
                <a:cubicBezTo>
                  <a:pt x="15729" y="7012"/>
                  <a:pt x="15708" y="7028"/>
                  <a:pt x="15692" y="7051"/>
                </a:cubicBezTo>
                <a:cubicBezTo>
                  <a:pt x="15669" y="7085"/>
                  <a:pt x="15646" y="7122"/>
                  <a:pt x="15630" y="7160"/>
                </a:cubicBezTo>
                <a:cubicBezTo>
                  <a:pt x="15621" y="7180"/>
                  <a:pt x="15614" y="7214"/>
                  <a:pt x="15649" y="7210"/>
                </a:cubicBezTo>
                <a:cubicBezTo>
                  <a:pt x="15697" y="7205"/>
                  <a:pt x="15740" y="7159"/>
                  <a:pt x="15770" y="7125"/>
                </a:cubicBezTo>
                <a:cubicBezTo>
                  <a:pt x="15795" y="7097"/>
                  <a:pt x="15808" y="7059"/>
                  <a:pt x="15830" y="7032"/>
                </a:cubicBezTo>
                <a:cubicBezTo>
                  <a:pt x="15838" y="7022"/>
                  <a:pt x="15848" y="7013"/>
                  <a:pt x="15857" y="7004"/>
                </a:cubicBezTo>
              </a:path>
              <a:path w="15458" h="2314">
                <a:moveTo>
                  <a:pt x="15874" y="7096"/>
                </a:moveTo>
                <a:cubicBezTo>
                  <a:pt x="15873" y="7128"/>
                  <a:pt x="15871" y="7163"/>
                  <a:pt x="15874" y="7195"/>
                </a:cubicBezTo>
                <a:cubicBezTo>
                  <a:pt x="15876" y="7219"/>
                  <a:pt x="15876" y="7240"/>
                  <a:pt x="15885" y="7262"/>
                </a:cubicBezTo>
                <a:cubicBezTo>
                  <a:pt x="15914" y="7225"/>
                  <a:pt x="15937" y="7185"/>
                  <a:pt x="15964" y="7146"/>
                </a:cubicBezTo>
                <a:cubicBezTo>
                  <a:pt x="16000" y="7095"/>
                  <a:pt x="16039" y="7047"/>
                  <a:pt x="16081" y="7001"/>
                </a:cubicBezTo>
                <a:cubicBezTo>
                  <a:pt x="16101" y="6979"/>
                  <a:pt x="16111" y="6974"/>
                  <a:pt x="16137" y="6967"/>
                </a:cubicBezTo>
                <a:cubicBezTo>
                  <a:pt x="16153" y="7001"/>
                  <a:pt x="16156" y="7030"/>
                  <a:pt x="16162" y="7068"/>
                </a:cubicBezTo>
                <a:cubicBezTo>
                  <a:pt x="16166" y="7096"/>
                  <a:pt x="16177" y="7134"/>
                  <a:pt x="16198" y="7155"/>
                </a:cubicBezTo>
                <a:cubicBezTo>
                  <a:pt x="16213" y="7166"/>
                  <a:pt x="16218" y="7169"/>
                  <a:pt x="16231" y="7170"/>
                </a:cubicBezTo>
              </a:path>
              <a:path w="15458" h="2314">
                <a:moveTo>
                  <a:pt x="16404" y="7083"/>
                </a:moveTo>
                <a:cubicBezTo>
                  <a:pt x="16412" y="7063"/>
                  <a:pt x="16415" y="7064"/>
                  <a:pt x="16408" y="7046"/>
                </a:cubicBezTo>
                <a:cubicBezTo>
                  <a:pt x="16387" y="7053"/>
                  <a:pt x="16369" y="7063"/>
                  <a:pt x="16349" y="7073"/>
                </a:cubicBezTo>
                <a:cubicBezTo>
                  <a:pt x="16331" y="7082"/>
                  <a:pt x="16314" y="7091"/>
                  <a:pt x="16297" y="7101"/>
                </a:cubicBezTo>
                <a:cubicBezTo>
                  <a:pt x="16316" y="7098"/>
                  <a:pt x="16336" y="7097"/>
                  <a:pt x="16355" y="7093"/>
                </a:cubicBezTo>
                <a:cubicBezTo>
                  <a:pt x="16383" y="7088"/>
                  <a:pt x="16413" y="7088"/>
                  <a:pt x="16441" y="7096"/>
                </a:cubicBezTo>
                <a:cubicBezTo>
                  <a:pt x="16464" y="7103"/>
                  <a:pt x="16481" y="7120"/>
                  <a:pt x="16486" y="7144"/>
                </a:cubicBezTo>
                <a:cubicBezTo>
                  <a:pt x="16493" y="7177"/>
                  <a:pt x="16479" y="7218"/>
                  <a:pt x="16462" y="7245"/>
                </a:cubicBezTo>
                <a:cubicBezTo>
                  <a:pt x="16438" y="7283"/>
                  <a:pt x="16398" y="7318"/>
                  <a:pt x="16359" y="7341"/>
                </a:cubicBezTo>
                <a:cubicBezTo>
                  <a:pt x="16323" y="7362"/>
                  <a:pt x="16285" y="7373"/>
                  <a:pt x="16243" y="7371"/>
                </a:cubicBezTo>
                <a:cubicBezTo>
                  <a:pt x="16221" y="7370"/>
                  <a:pt x="16194" y="7362"/>
                  <a:pt x="16186" y="7340"/>
                </a:cubicBezTo>
                <a:cubicBezTo>
                  <a:pt x="16177" y="7316"/>
                  <a:pt x="16185" y="7303"/>
                  <a:pt x="16193" y="7281"/>
                </a:cubicBezTo>
              </a:path>
              <a:path w="15458" h="2314">
                <a:moveTo>
                  <a:pt x="16677" y="7203"/>
                </a:moveTo>
                <a:cubicBezTo>
                  <a:pt x="16694" y="7183"/>
                  <a:pt x="16700" y="7170"/>
                  <a:pt x="16723" y="7161"/>
                </a:cubicBezTo>
                <a:cubicBezTo>
                  <a:pt x="16727" y="7160"/>
                  <a:pt x="16731" y="7158"/>
                  <a:pt x="16735" y="7157"/>
                </a:cubicBezTo>
              </a:path>
              <a:path w="15458" h="2314">
                <a:moveTo>
                  <a:pt x="17766" y="6490"/>
                </a:moveTo>
                <a:cubicBezTo>
                  <a:pt x="17761" y="6477"/>
                  <a:pt x="17757" y="6470"/>
                  <a:pt x="17750" y="6458"/>
                </a:cubicBezTo>
                <a:cubicBezTo>
                  <a:pt x="17742" y="6478"/>
                  <a:pt x="17739" y="6490"/>
                  <a:pt x="17739" y="6513"/>
                </a:cubicBezTo>
                <a:cubicBezTo>
                  <a:pt x="17739" y="6556"/>
                  <a:pt x="17741" y="6599"/>
                  <a:pt x="17744" y="6642"/>
                </a:cubicBezTo>
                <a:cubicBezTo>
                  <a:pt x="17747" y="6690"/>
                  <a:pt x="17751" y="6738"/>
                  <a:pt x="17753" y="6786"/>
                </a:cubicBezTo>
                <a:cubicBezTo>
                  <a:pt x="17754" y="6809"/>
                  <a:pt x="17758" y="6814"/>
                  <a:pt x="17750" y="6835"/>
                </a:cubicBezTo>
                <a:cubicBezTo>
                  <a:pt x="17747" y="6796"/>
                  <a:pt x="17746" y="6757"/>
                  <a:pt x="17746" y="6717"/>
                </a:cubicBezTo>
                <a:cubicBezTo>
                  <a:pt x="17746" y="6624"/>
                  <a:pt x="17751" y="6531"/>
                  <a:pt x="17768" y="6440"/>
                </a:cubicBezTo>
                <a:cubicBezTo>
                  <a:pt x="17778" y="6387"/>
                  <a:pt x="17788" y="6327"/>
                  <a:pt x="17829" y="6288"/>
                </a:cubicBezTo>
                <a:cubicBezTo>
                  <a:pt x="17862" y="6257"/>
                  <a:pt x="17895" y="6289"/>
                  <a:pt x="17914" y="6317"/>
                </a:cubicBezTo>
                <a:cubicBezTo>
                  <a:pt x="17948" y="6367"/>
                  <a:pt x="17963" y="6428"/>
                  <a:pt x="17960" y="6488"/>
                </a:cubicBezTo>
                <a:cubicBezTo>
                  <a:pt x="17956" y="6551"/>
                  <a:pt x="17932" y="6616"/>
                  <a:pt x="17886" y="6662"/>
                </a:cubicBezTo>
                <a:cubicBezTo>
                  <a:pt x="17854" y="6694"/>
                  <a:pt x="17786" y="6732"/>
                  <a:pt x="17738" y="6728"/>
                </a:cubicBezTo>
                <a:cubicBezTo>
                  <a:pt x="17691" y="6724"/>
                  <a:pt x="17740" y="6702"/>
                  <a:pt x="17749" y="6697"/>
                </a:cubicBezTo>
              </a:path>
              <a:path w="15458" h="2314">
                <a:moveTo>
                  <a:pt x="18167" y="6485"/>
                </a:moveTo>
                <a:cubicBezTo>
                  <a:pt x="18170" y="6458"/>
                  <a:pt x="18167" y="6443"/>
                  <a:pt x="18156" y="6419"/>
                </a:cubicBezTo>
                <a:cubicBezTo>
                  <a:pt x="18130" y="6450"/>
                  <a:pt x="18121" y="6482"/>
                  <a:pt x="18110" y="6522"/>
                </a:cubicBezTo>
                <a:cubicBezTo>
                  <a:pt x="18092" y="6584"/>
                  <a:pt x="18083" y="6646"/>
                  <a:pt x="18086" y="6711"/>
                </a:cubicBezTo>
                <a:cubicBezTo>
                  <a:pt x="18088" y="6759"/>
                  <a:pt x="18096" y="6818"/>
                  <a:pt x="18126" y="6858"/>
                </a:cubicBezTo>
                <a:cubicBezTo>
                  <a:pt x="18141" y="6878"/>
                  <a:pt x="18157" y="6877"/>
                  <a:pt x="18178" y="6877"/>
                </a:cubicBezTo>
              </a:path>
              <a:path w="15458" h="2314">
                <a:moveTo>
                  <a:pt x="18273" y="6526"/>
                </a:moveTo>
                <a:cubicBezTo>
                  <a:pt x="18280" y="6576"/>
                  <a:pt x="18285" y="6626"/>
                  <a:pt x="18291" y="6676"/>
                </a:cubicBezTo>
                <a:cubicBezTo>
                  <a:pt x="18297" y="6727"/>
                  <a:pt x="18308" y="6777"/>
                  <a:pt x="18329" y="6824"/>
                </a:cubicBezTo>
                <a:cubicBezTo>
                  <a:pt x="18332" y="6829"/>
                  <a:pt x="18335" y="6835"/>
                  <a:pt x="18338" y="6840"/>
                </a:cubicBezTo>
              </a:path>
              <a:path w="15458" h="2314">
                <a:moveTo>
                  <a:pt x="18449" y="6361"/>
                </a:moveTo>
                <a:cubicBezTo>
                  <a:pt x="18467" y="6340"/>
                  <a:pt x="18502" y="6301"/>
                  <a:pt x="18537" y="6316"/>
                </a:cubicBezTo>
                <a:cubicBezTo>
                  <a:pt x="18591" y="6340"/>
                  <a:pt x="18608" y="6415"/>
                  <a:pt x="18618" y="6465"/>
                </a:cubicBezTo>
                <a:cubicBezTo>
                  <a:pt x="18635" y="6547"/>
                  <a:pt x="18628" y="6635"/>
                  <a:pt x="18605" y="6715"/>
                </a:cubicBezTo>
                <a:cubicBezTo>
                  <a:pt x="18595" y="6751"/>
                  <a:pt x="18586" y="6811"/>
                  <a:pt x="18548" y="6828"/>
                </a:cubicBezTo>
                <a:cubicBezTo>
                  <a:pt x="18544" y="6828"/>
                  <a:pt x="18541" y="6829"/>
                  <a:pt x="18537" y="6829"/>
                </a:cubicBezTo>
              </a:path>
              <a:path w="15458" h="2314">
                <a:moveTo>
                  <a:pt x="18898" y="6793"/>
                </a:moveTo>
                <a:cubicBezTo>
                  <a:pt x="18891" y="6827"/>
                  <a:pt x="18888" y="6868"/>
                  <a:pt x="18877" y="6901"/>
                </a:cubicBezTo>
                <a:cubicBezTo>
                  <a:pt x="18863" y="6941"/>
                  <a:pt x="18850" y="6983"/>
                  <a:pt x="18829" y="7020"/>
                </a:cubicBezTo>
                <a:cubicBezTo>
                  <a:pt x="18819" y="7038"/>
                  <a:pt x="18817" y="7042"/>
                  <a:pt x="18800" y="7050"/>
                </a:cubicBezTo>
              </a:path>
              <a:path w="15458" h="2314">
                <a:moveTo>
                  <a:pt x="19141" y="6503"/>
                </a:moveTo>
                <a:cubicBezTo>
                  <a:pt x="19144" y="6530"/>
                  <a:pt x="19135" y="6554"/>
                  <a:pt x="19135" y="6583"/>
                </a:cubicBezTo>
                <a:cubicBezTo>
                  <a:pt x="19135" y="6627"/>
                  <a:pt x="19134" y="6671"/>
                  <a:pt x="19134" y="6715"/>
                </a:cubicBezTo>
                <a:cubicBezTo>
                  <a:pt x="19134" y="6736"/>
                  <a:pt x="19134" y="6758"/>
                  <a:pt x="19134" y="6779"/>
                </a:cubicBezTo>
                <a:cubicBezTo>
                  <a:pt x="19124" y="6743"/>
                  <a:pt x="19127" y="6711"/>
                  <a:pt x="19134" y="6674"/>
                </a:cubicBezTo>
                <a:cubicBezTo>
                  <a:pt x="19147" y="6607"/>
                  <a:pt x="19166" y="6543"/>
                  <a:pt x="19193" y="6480"/>
                </a:cubicBezTo>
                <a:cubicBezTo>
                  <a:pt x="19215" y="6428"/>
                  <a:pt x="19245" y="6364"/>
                  <a:pt x="19291" y="6329"/>
                </a:cubicBezTo>
                <a:cubicBezTo>
                  <a:pt x="19330" y="6300"/>
                  <a:pt x="19358" y="6331"/>
                  <a:pt x="19369" y="6369"/>
                </a:cubicBezTo>
                <a:cubicBezTo>
                  <a:pt x="19385" y="6423"/>
                  <a:pt x="19372" y="6490"/>
                  <a:pt x="19350" y="6541"/>
                </a:cubicBezTo>
                <a:cubicBezTo>
                  <a:pt x="19327" y="6594"/>
                  <a:pt x="19286" y="6637"/>
                  <a:pt x="19233" y="6660"/>
                </a:cubicBezTo>
                <a:cubicBezTo>
                  <a:pt x="19211" y="6669"/>
                  <a:pt x="19167" y="6678"/>
                  <a:pt x="19162" y="6644"/>
                </a:cubicBezTo>
                <a:cubicBezTo>
                  <a:pt x="19158" y="6617"/>
                  <a:pt x="19178" y="6598"/>
                  <a:pt x="19192" y="6577"/>
                </a:cubicBezTo>
              </a:path>
              <a:path w="15458" h="2314">
                <a:moveTo>
                  <a:pt x="19611" y="6347"/>
                </a:moveTo>
                <a:cubicBezTo>
                  <a:pt x="19604" y="6343"/>
                  <a:pt x="19573" y="6402"/>
                  <a:pt x="19558" y="6430"/>
                </a:cubicBezTo>
                <a:cubicBezTo>
                  <a:pt x="19515" y="6509"/>
                  <a:pt x="19460" y="6608"/>
                  <a:pt x="19479" y="6700"/>
                </a:cubicBezTo>
                <a:cubicBezTo>
                  <a:pt x="19490" y="6754"/>
                  <a:pt x="19539" y="6748"/>
                  <a:pt x="19582" y="6749"/>
                </a:cubicBezTo>
              </a:path>
              <a:path w="15458" h="2314">
                <a:moveTo>
                  <a:pt x="19825" y="6377"/>
                </a:moveTo>
                <a:cubicBezTo>
                  <a:pt x="19840" y="6365"/>
                  <a:pt x="19854" y="6354"/>
                  <a:pt x="19870" y="6343"/>
                </a:cubicBezTo>
                <a:cubicBezTo>
                  <a:pt x="19908" y="6367"/>
                  <a:pt x="19912" y="6390"/>
                  <a:pt x="19900" y="6436"/>
                </a:cubicBezTo>
                <a:cubicBezTo>
                  <a:pt x="19888" y="6483"/>
                  <a:pt x="19863" y="6528"/>
                  <a:pt x="19836" y="6568"/>
                </a:cubicBezTo>
                <a:cubicBezTo>
                  <a:pt x="19823" y="6587"/>
                  <a:pt x="19814" y="6601"/>
                  <a:pt x="19807" y="6622"/>
                </a:cubicBezTo>
                <a:cubicBezTo>
                  <a:pt x="19828" y="6643"/>
                  <a:pt x="19852" y="6631"/>
                  <a:pt x="19882" y="6628"/>
                </a:cubicBezTo>
                <a:cubicBezTo>
                  <a:pt x="19915" y="6624"/>
                  <a:pt x="19942" y="6615"/>
                  <a:pt x="19974" y="6605"/>
                </a:cubicBezTo>
              </a:path>
              <a:path w="15458" h="2314">
                <a:moveTo>
                  <a:pt x="20095" y="6349"/>
                </a:moveTo>
                <a:cubicBezTo>
                  <a:pt x="20118" y="6389"/>
                  <a:pt x="20127" y="6425"/>
                  <a:pt x="20136" y="6470"/>
                </a:cubicBezTo>
                <a:cubicBezTo>
                  <a:pt x="20148" y="6531"/>
                  <a:pt x="20151" y="6600"/>
                  <a:pt x="20130" y="6660"/>
                </a:cubicBezTo>
                <a:cubicBezTo>
                  <a:pt x="20115" y="6702"/>
                  <a:pt x="20089" y="6742"/>
                  <a:pt x="20057" y="6772"/>
                </a:cubicBezTo>
              </a:path>
              <a:path w="15458" h="2314">
                <a:moveTo>
                  <a:pt x="16598" y="6161"/>
                </a:moveTo>
                <a:cubicBezTo>
                  <a:pt x="16574" y="6172"/>
                  <a:pt x="16556" y="6208"/>
                  <a:pt x="16549" y="6236"/>
                </a:cubicBezTo>
                <a:cubicBezTo>
                  <a:pt x="16531" y="6310"/>
                  <a:pt x="16524" y="6386"/>
                  <a:pt x="16524" y="6462"/>
                </a:cubicBezTo>
                <a:cubicBezTo>
                  <a:pt x="16524" y="6522"/>
                  <a:pt x="16524" y="6588"/>
                  <a:pt x="16537" y="6647"/>
                </a:cubicBezTo>
                <a:cubicBezTo>
                  <a:pt x="16539" y="6653"/>
                  <a:pt x="16541" y="6658"/>
                  <a:pt x="16543" y="6664"/>
                </a:cubicBezTo>
                <a:cubicBezTo>
                  <a:pt x="16553" y="6641"/>
                  <a:pt x="16564" y="6606"/>
                  <a:pt x="16575" y="6579"/>
                </a:cubicBezTo>
                <a:cubicBezTo>
                  <a:pt x="16596" y="6526"/>
                  <a:pt x="16641" y="6431"/>
                  <a:pt x="16710" y="6428"/>
                </a:cubicBezTo>
                <a:cubicBezTo>
                  <a:pt x="16749" y="6426"/>
                  <a:pt x="16759" y="6475"/>
                  <a:pt x="16757" y="6504"/>
                </a:cubicBezTo>
                <a:cubicBezTo>
                  <a:pt x="16753" y="6555"/>
                  <a:pt x="16728" y="6602"/>
                  <a:pt x="16689" y="6635"/>
                </a:cubicBezTo>
                <a:cubicBezTo>
                  <a:pt x="16663" y="6657"/>
                  <a:pt x="16615" y="6682"/>
                  <a:pt x="16579" y="6669"/>
                </a:cubicBezTo>
                <a:cubicBezTo>
                  <a:pt x="16536" y="6653"/>
                  <a:pt x="16567" y="6610"/>
                  <a:pt x="16579" y="6586"/>
                </a:cubicBezTo>
              </a:path>
              <a:path w="15458" h="2314">
                <a:moveTo>
                  <a:pt x="16929" y="6415"/>
                </a:moveTo>
                <a:cubicBezTo>
                  <a:pt x="16901" y="6452"/>
                  <a:pt x="16869" y="6480"/>
                  <a:pt x="16839" y="6514"/>
                </a:cubicBezTo>
                <a:cubicBezTo>
                  <a:pt x="16823" y="6532"/>
                  <a:pt x="16810" y="6555"/>
                  <a:pt x="16798" y="6575"/>
                </a:cubicBezTo>
                <a:cubicBezTo>
                  <a:pt x="16833" y="6571"/>
                  <a:pt x="16851" y="6551"/>
                  <a:pt x="16878" y="6524"/>
                </a:cubicBezTo>
                <a:cubicBezTo>
                  <a:pt x="16901" y="6501"/>
                  <a:pt x="16921" y="6474"/>
                  <a:pt x="16948" y="6455"/>
                </a:cubicBezTo>
                <a:cubicBezTo>
                  <a:pt x="16951" y="6453"/>
                  <a:pt x="16954" y="6452"/>
                  <a:pt x="16957" y="6450"/>
                </a:cubicBezTo>
                <a:cubicBezTo>
                  <a:pt x="16977" y="6472"/>
                  <a:pt x="16978" y="6492"/>
                  <a:pt x="16990" y="6519"/>
                </a:cubicBezTo>
                <a:cubicBezTo>
                  <a:pt x="17003" y="6548"/>
                  <a:pt x="17016" y="6561"/>
                  <a:pt x="17044" y="6573"/>
                </a:cubicBezTo>
              </a:path>
              <a:path w="15458" h="2314">
                <a:moveTo>
                  <a:pt x="17184" y="6353"/>
                </a:moveTo>
                <a:cubicBezTo>
                  <a:pt x="17182" y="6350"/>
                  <a:pt x="17180" y="6346"/>
                  <a:pt x="17178" y="6343"/>
                </a:cubicBezTo>
                <a:cubicBezTo>
                  <a:pt x="17167" y="6360"/>
                  <a:pt x="17162" y="6374"/>
                  <a:pt x="17165" y="6395"/>
                </a:cubicBezTo>
                <a:cubicBezTo>
                  <a:pt x="17168" y="6413"/>
                  <a:pt x="17176" y="6429"/>
                  <a:pt x="17182" y="6446"/>
                </a:cubicBezTo>
                <a:cubicBezTo>
                  <a:pt x="17189" y="6465"/>
                  <a:pt x="17191" y="6489"/>
                  <a:pt x="17188" y="6509"/>
                </a:cubicBezTo>
                <a:cubicBezTo>
                  <a:pt x="17185" y="6534"/>
                  <a:pt x="17169" y="6556"/>
                  <a:pt x="17150" y="6571"/>
                </a:cubicBezTo>
                <a:cubicBezTo>
                  <a:pt x="17131" y="6586"/>
                  <a:pt x="17099" y="6596"/>
                  <a:pt x="17074" y="6590"/>
                </a:cubicBezTo>
                <a:cubicBezTo>
                  <a:pt x="17050" y="6584"/>
                  <a:pt x="17034" y="6563"/>
                  <a:pt x="17043" y="6538"/>
                </a:cubicBezTo>
                <a:cubicBezTo>
                  <a:pt x="17046" y="6533"/>
                  <a:pt x="17050" y="6527"/>
                  <a:pt x="17053" y="6522"/>
                </a:cubicBezTo>
              </a:path>
              <a:path w="15458" h="2314">
                <a:moveTo>
                  <a:pt x="17340" y="6316"/>
                </a:moveTo>
                <a:cubicBezTo>
                  <a:pt x="17347" y="6343"/>
                  <a:pt x="17359" y="6373"/>
                  <a:pt x="17363" y="6400"/>
                </a:cubicBezTo>
                <a:cubicBezTo>
                  <a:pt x="17368" y="6432"/>
                  <a:pt x="17371" y="6456"/>
                  <a:pt x="17383" y="6486"/>
                </a:cubicBezTo>
              </a:path>
              <a:path w="15458" h="2314">
                <a:moveTo>
                  <a:pt x="17407" y="6174"/>
                </a:moveTo>
                <a:cubicBezTo>
                  <a:pt x="17406" y="6153"/>
                  <a:pt x="17395" y="6105"/>
                  <a:pt x="17404" y="6086"/>
                </a:cubicBezTo>
                <a:cubicBezTo>
                  <a:pt x="17415" y="6081"/>
                  <a:pt x="17419" y="6079"/>
                  <a:pt x="17426" y="6074"/>
                </a:cubicBezTo>
              </a:path>
              <a:path w="15458" h="2314">
                <a:moveTo>
                  <a:pt x="17635" y="6181"/>
                </a:moveTo>
                <a:cubicBezTo>
                  <a:pt x="17615" y="6211"/>
                  <a:pt x="17598" y="6239"/>
                  <a:pt x="17582" y="6271"/>
                </a:cubicBezTo>
                <a:cubicBezTo>
                  <a:pt x="17572" y="6290"/>
                  <a:pt x="17558" y="6321"/>
                  <a:pt x="17582" y="6338"/>
                </a:cubicBezTo>
                <a:cubicBezTo>
                  <a:pt x="17604" y="6354"/>
                  <a:pt x="17639" y="6348"/>
                  <a:pt x="17664" y="6350"/>
                </a:cubicBezTo>
                <a:cubicBezTo>
                  <a:pt x="17680" y="6351"/>
                  <a:pt x="17708" y="6356"/>
                  <a:pt x="17696" y="6380"/>
                </a:cubicBezTo>
                <a:cubicBezTo>
                  <a:pt x="17683" y="6405"/>
                  <a:pt x="17653" y="6425"/>
                  <a:pt x="17629" y="6437"/>
                </a:cubicBezTo>
                <a:cubicBezTo>
                  <a:pt x="17606" y="6449"/>
                  <a:pt x="17590" y="6453"/>
                  <a:pt x="17564" y="6449"/>
                </a:cubicBezTo>
              </a:path>
              <a:path w="15458" h="2314">
                <a:moveTo>
                  <a:pt x="18167" y="5983"/>
                </a:moveTo>
                <a:cubicBezTo>
                  <a:pt x="18158" y="5960"/>
                  <a:pt x="18152" y="5946"/>
                  <a:pt x="18124" y="5951"/>
                </a:cubicBezTo>
                <a:cubicBezTo>
                  <a:pt x="18086" y="5958"/>
                  <a:pt x="18048" y="5989"/>
                  <a:pt x="18021" y="6015"/>
                </a:cubicBezTo>
                <a:cubicBezTo>
                  <a:pt x="17986" y="6049"/>
                  <a:pt x="17955" y="6098"/>
                  <a:pt x="17966" y="6149"/>
                </a:cubicBezTo>
                <a:cubicBezTo>
                  <a:pt x="17977" y="6200"/>
                  <a:pt x="18029" y="6232"/>
                  <a:pt x="18076" y="6244"/>
                </a:cubicBezTo>
                <a:cubicBezTo>
                  <a:pt x="18119" y="6255"/>
                  <a:pt x="18155" y="6244"/>
                  <a:pt x="18196" y="6234"/>
                </a:cubicBezTo>
              </a:path>
              <a:path w="15458" h="2314">
                <a:moveTo>
                  <a:pt x="18347" y="5968"/>
                </a:moveTo>
                <a:cubicBezTo>
                  <a:pt x="18325" y="5979"/>
                  <a:pt x="18301" y="5997"/>
                  <a:pt x="18288" y="6019"/>
                </a:cubicBezTo>
                <a:cubicBezTo>
                  <a:pt x="18275" y="6041"/>
                  <a:pt x="18263" y="6075"/>
                  <a:pt x="18266" y="6101"/>
                </a:cubicBezTo>
                <a:cubicBezTo>
                  <a:pt x="18267" y="6105"/>
                  <a:pt x="18269" y="6110"/>
                  <a:pt x="18270" y="6114"/>
                </a:cubicBezTo>
                <a:cubicBezTo>
                  <a:pt x="18296" y="6120"/>
                  <a:pt x="18315" y="6108"/>
                  <a:pt x="18337" y="6090"/>
                </a:cubicBezTo>
                <a:cubicBezTo>
                  <a:pt x="18368" y="6065"/>
                  <a:pt x="18398" y="6035"/>
                  <a:pt x="18423" y="6004"/>
                </a:cubicBezTo>
                <a:cubicBezTo>
                  <a:pt x="18433" y="5989"/>
                  <a:pt x="18435" y="5985"/>
                  <a:pt x="18445" y="5981"/>
                </a:cubicBezTo>
                <a:cubicBezTo>
                  <a:pt x="18450" y="6011"/>
                  <a:pt x="18444" y="6040"/>
                  <a:pt x="18452" y="6070"/>
                </a:cubicBezTo>
                <a:cubicBezTo>
                  <a:pt x="18454" y="6075"/>
                  <a:pt x="18456" y="6081"/>
                  <a:pt x="18458" y="6086"/>
                </a:cubicBezTo>
              </a:path>
              <a:path w="15458" h="2314">
                <a:moveTo>
                  <a:pt x="18638" y="5931"/>
                </a:moveTo>
                <a:cubicBezTo>
                  <a:pt x="18623" y="5912"/>
                  <a:pt x="18619" y="5911"/>
                  <a:pt x="18596" y="5913"/>
                </a:cubicBezTo>
                <a:cubicBezTo>
                  <a:pt x="18580" y="5915"/>
                  <a:pt x="18554" y="5918"/>
                  <a:pt x="18549" y="5939"/>
                </a:cubicBezTo>
                <a:cubicBezTo>
                  <a:pt x="18544" y="5961"/>
                  <a:pt x="18570" y="5979"/>
                  <a:pt x="18585" y="5989"/>
                </a:cubicBezTo>
                <a:cubicBezTo>
                  <a:pt x="18613" y="6007"/>
                  <a:pt x="18644" y="6020"/>
                  <a:pt x="18669" y="6042"/>
                </a:cubicBezTo>
                <a:cubicBezTo>
                  <a:pt x="18682" y="6054"/>
                  <a:pt x="18707" y="6076"/>
                  <a:pt x="18703" y="6097"/>
                </a:cubicBezTo>
                <a:cubicBezTo>
                  <a:pt x="18699" y="6116"/>
                  <a:pt x="18677" y="6123"/>
                  <a:pt x="18661" y="6122"/>
                </a:cubicBezTo>
                <a:cubicBezTo>
                  <a:pt x="18632" y="6120"/>
                  <a:pt x="18636" y="6108"/>
                  <a:pt x="18635" y="6085"/>
                </a:cubicBezTo>
              </a:path>
              <a:path w="15458" h="2314">
                <a:moveTo>
                  <a:pt x="18782" y="5991"/>
                </a:moveTo>
                <a:cubicBezTo>
                  <a:pt x="18802" y="5978"/>
                  <a:pt x="18823" y="5957"/>
                  <a:pt x="18842" y="5946"/>
                </a:cubicBezTo>
                <a:cubicBezTo>
                  <a:pt x="18863" y="5934"/>
                  <a:pt x="18881" y="5925"/>
                  <a:pt x="18901" y="5911"/>
                </a:cubicBezTo>
                <a:cubicBezTo>
                  <a:pt x="18872" y="5929"/>
                  <a:pt x="18843" y="5948"/>
                  <a:pt x="18817" y="5971"/>
                </a:cubicBezTo>
                <a:cubicBezTo>
                  <a:pt x="18796" y="5990"/>
                  <a:pt x="18762" y="6023"/>
                  <a:pt x="18774" y="6055"/>
                </a:cubicBezTo>
                <a:cubicBezTo>
                  <a:pt x="18787" y="6088"/>
                  <a:pt x="18844" y="6102"/>
                  <a:pt x="18873" y="6112"/>
                </a:cubicBezTo>
                <a:cubicBezTo>
                  <a:pt x="18900" y="6121"/>
                  <a:pt x="18909" y="6124"/>
                  <a:pt x="18927" y="612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3073320" y="985680"/>
            <a:ext cx="414360" cy="181080"/>
          </a:xfrm>
          <a:custGeom>
            <a:avLst/>
            <a:gdLst/>
            <a:ahLst/>
            <a:rect l="l" t="t" r="r" b="b"/>
            <a:pathLst>
              <a:path w="1151" h="504">
                <a:moveTo>
                  <a:pt x="8588" y="2841"/>
                </a:moveTo>
                <a:cubicBezTo>
                  <a:pt x="8582" y="2902"/>
                  <a:pt x="8581" y="2961"/>
                  <a:pt x="8580" y="3022"/>
                </a:cubicBezTo>
                <a:cubicBezTo>
                  <a:pt x="8579" y="3084"/>
                  <a:pt x="8573" y="3149"/>
                  <a:pt x="8587" y="3210"/>
                </a:cubicBezTo>
                <a:cubicBezTo>
                  <a:pt x="8595" y="3230"/>
                  <a:pt x="8598" y="3237"/>
                  <a:pt x="8602" y="3209"/>
                </a:cubicBezTo>
              </a:path>
              <a:path w="1151" h="504">
                <a:moveTo>
                  <a:pt x="8538" y="2809"/>
                </a:moveTo>
                <a:cubicBezTo>
                  <a:pt x="8562" y="2779"/>
                  <a:pt x="8586" y="2763"/>
                  <a:pt x="8624" y="2751"/>
                </a:cubicBezTo>
                <a:cubicBezTo>
                  <a:pt x="8687" y="2731"/>
                  <a:pt x="8768" y="2730"/>
                  <a:pt x="8818" y="2779"/>
                </a:cubicBezTo>
                <a:cubicBezTo>
                  <a:pt x="8867" y="2827"/>
                  <a:pt x="8870" y="2898"/>
                  <a:pt x="8854" y="2960"/>
                </a:cubicBezTo>
                <a:cubicBezTo>
                  <a:pt x="8837" y="3029"/>
                  <a:pt x="8793" y="3085"/>
                  <a:pt x="8736" y="3125"/>
                </a:cubicBezTo>
                <a:cubicBezTo>
                  <a:pt x="8710" y="3143"/>
                  <a:pt x="8654" y="3169"/>
                  <a:pt x="8625" y="3145"/>
                </a:cubicBezTo>
                <a:cubicBezTo>
                  <a:pt x="8601" y="3125"/>
                  <a:pt x="8613" y="3105"/>
                  <a:pt x="8619" y="3081"/>
                </a:cubicBezTo>
              </a:path>
              <a:path w="1151" h="504">
                <a:moveTo>
                  <a:pt x="9027" y="2841"/>
                </a:moveTo>
                <a:cubicBezTo>
                  <a:pt x="9026" y="2823"/>
                  <a:pt x="9025" y="2814"/>
                  <a:pt x="9018" y="2798"/>
                </a:cubicBezTo>
                <a:cubicBezTo>
                  <a:pt x="8991" y="2831"/>
                  <a:pt x="8980" y="2871"/>
                  <a:pt x="8971" y="2914"/>
                </a:cubicBezTo>
                <a:cubicBezTo>
                  <a:pt x="8958" y="2976"/>
                  <a:pt x="8949" y="3052"/>
                  <a:pt x="8961" y="3115"/>
                </a:cubicBezTo>
                <a:cubicBezTo>
                  <a:pt x="8968" y="3153"/>
                  <a:pt x="8992" y="3209"/>
                  <a:pt x="9039" y="3212"/>
                </a:cubicBezTo>
                <a:cubicBezTo>
                  <a:pt x="9048" y="3210"/>
                  <a:pt x="9056" y="3209"/>
                  <a:pt x="9065" y="3207"/>
                </a:cubicBezTo>
              </a:path>
              <a:path w="1151" h="504">
                <a:moveTo>
                  <a:pt x="9209" y="2840"/>
                </a:moveTo>
                <a:cubicBezTo>
                  <a:pt x="9189" y="2872"/>
                  <a:pt x="9192" y="2915"/>
                  <a:pt x="9193" y="2953"/>
                </a:cubicBezTo>
                <a:cubicBezTo>
                  <a:pt x="9195" y="3020"/>
                  <a:pt x="9202" y="3089"/>
                  <a:pt x="9216" y="3154"/>
                </a:cubicBezTo>
                <a:cubicBezTo>
                  <a:pt x="9224" y="3192"/>
                  <a:pt x="9233" y="3211"/>
                  <a:pt x="9255" y="3241"/>
                </a:cubicBezTo>
              </a:path>
              <a:path w="1151" h="504">
                <a:moveTo>
                  <a:pt x="9352" y="2831"/>
                </a:moveTo>
                <a:cubicBezTo>
                  <a:pt x="9358" y="2819"/>
                  <a:pt x="9359" y="2815"/>
                  <a:pt x="9367" y="2811"/>
                </a:cubicBezTo>
                <a:cubicBezTo>
                  <a:pt x="9368" y="2840"/>
                  <a:pt x="9352" y="2867"/>
                  <a:pt x="9340" y="2896"/>
                </a:cubicBezTo>
                <a:cubicBezTo>
                  <a:pt x="9320" y="2944"/>
                  <a:pt x="9296" y="2991"/>
                  <a:pt x="9278" y="3040"/>
                </a:cubicBezTo>
                <a:cubicBezTo>
                  <a:pt x="9267" y="3071"/>
                  <a:pt x="9256" y="3112"/>
                  <a:pt x="9295" y="3126"/>
                </a:cubicBezTo>
                <a:cubicBezTo>
                  <a:pt x="9348" y="3145"/>
                  <a:pt x="9419" y="3130"/>
                  <a:pt x="9472" y="3120"/>
                </a:cubicBezTo>
              </a:path>
              <a:path w="1151" h="504">
                <a:moveTo>
                  <a:pt x="9565" y="2767"/>
                </a:moveTo>
                <a:cubicBezTo>
                  <a:pt x="9596" y="2798"/>
                  <a:pt x="9611" y="2833"/>
                  <a:pt x="9627" y="2874"/>
                </a:cubicBezTo>
                <a:cubicBezTo>
                  <a:pt x="9663" y="2969"/>
                  <a:pt x="9703" y="3090"/>
                  <a:pt x="9687" y="3193"/>
                </a:cubicBezTo>
                <a:cubicBezTo>
                  <a:pt x="9685" y="3203"/>
                  <a:pt x="9670" y="3259"/>
                  <a:pt x="9649" y="3234"/>
                </a:cubicBezTo>
                <a:cubicBezTo>
                  <a:pt x="9647" y="3229"/>
                  <a:pt x="9645" y="3225"/>
                  <a:pt x="9643" y="322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3676680" y="969840"/>
            <a:ext cx="766800" cy="206640"/>
          </a:xfrm>
          <a:custGeom>
            <a:avLst/>
            <a:gdLst/>
            <a:ahLst/>
            <a:rect l="l" t="t" r="r" b="b"/>
            <a:pathLst>
              <a:path w="2127" h="574">
                <a:moveTo>
                  <a:pt x="10409" y="2930"/>
                </a:moveTo>
                <a:cubicBezTo>
                  <a:pt x="10389" y="2904"/>
                  <a:pt x="10384" y="2899"/>
                  <a:pt x="10352" y="2900"/>
                </a:cubicBezTo>
                <a:cubicBezTo>
                  <a:pt x="10311" y="2901"/>
                  <a:pt x="10282" y="2936"/>
                  <a:pt x="10260" y="2970"/>
                </a:cubicBezTo>
                <a:cubicBezTo>
                  <a:pt x="10231" y="3015"/>
                  <a:pt x="10213" y="3068"/>
                  <a:pt x="10215" y="3122"/>
                </a:cubicBezTo>
                <a:cubicBezTo>
                  <a:pt x="10216" y="3157"/>
                  <a:pt x="10225" y="3164"/>
                  <a:pt x="10250" y="3181"/>
                </a:cubicBezTo>
                <a:cubicBezTo>
                  <a:pt x="10299" y="3161"/>
                  <a:pt x="10325" y="3128"/>
                  <a:pt x="10351" y="3080"/>
                </a:cubicBezTo>
                <a:cubicBezTo>
                  <a:pt x="10390" y="3008"/>
                  <a:pt x="10414" y="2925"/>
                  <a:pt x="10434" y="2846"/>
                </a:cubicBezTo>
                <a:cubicBezTo>
                  <a:pt x="10445" y="2802"/>
                  <a:pt x="10450" y="2762"/>
                  <a:pt x="10452" y="2718"/>
                </a:cubicBezTo>
                <a:cubicBezTo>
                  <a:pt x="10430" y="2780"/>
                  <a:pt x="10426" y="2840"/>
                  <a:pt x="10427" y="2907"/>
                </a:cubicBezTo>
                <a:cubicBezTo>
                  <a:pt x="10428" y="2988"/>
                  <a:pt x="10433" y="3077"/>
                  <a:pt x="10475" y="3149"/>
                </a:cubicBezTo>
                <a:cubicBezTo>
                  <a:pt x="10498" y="3188"/>
                  <a:pt x="10518" y="3190"/>
                  <a:pt x="10557" y="3196"/>
                </a:cubicBezTo>
              </a:path>
              <a:path w="2127" h="574">
                <a:moveTo>
                  <a:pt x="10675" y="3098"/>
                </a:moveTo>
                <a:cubicBezTo>
                  <a:pt x="10704" y="3094"/>
                  <a:pt x="10718" y="3078"/>
                  <a:pt x="10741" y="3059"/>
                </a:cubicBezTo>
                <a:cubicBezTo>
                  <a:pt x="10772" y="3034"/>
                  <a:pt x="10802" y="3002"/>
                  <a:pt x="10822" y="2967"/>
                </a:cubicBezTo>
                <a:cubicBezTo>
                  <a:pt x="10831" y="2945"/>
                  <a:pt x="10835" y="2941"/>
                  <a:pt x="10834" y="2926"/>
                </a:cubicBezTo>
                <a:cubicBezTo>
                  <a:pt x="10796" y="2927"/>
                  <a:pt x="10781" y="2943"/>
                  <a:pt x="10759" y="2976"/>
                </a:cubicBezTo>
                <a:cubicBezTo>
                  <a:pt x="10731" y="3017"/>
                  <a:pt x="10710" y="3076"/>
                  <a:pt x="10749" y="3116"/>
                </a:cubicBezTo>
                <a:cubicBezTo>
                  <a:pt x="10776" y="3144"/>
                  <a:pt x="10828" y="3147"/>
                  <a:pt x="10863" y="3155"/>
                </a:cubicBezTo>
                <a:cubicBezTo>
                  <a:pt x="10874" y="3158"/>
                  <a:pt x="10884" y="3160"/>
                  <a:pt x="10895" y="3163"/>
                </a:cubicBezTo>
              </a:path>
              <a:path w="2127" h="574">
                <a:moveTo>
                  <a:pt x="11012" y="3225"/>
                </a:moveTo>
                <a:cubicBezTo>
                  <a:pt x="11005" y="3194"/>
                  <a:pt x="11001" y="3165"/>
                  <a:pt x="10998" y="3133"/>
                </a:cubicBezTo>
                <a:cubicBezTo>
                  <a:pt x="10991" y="3067"/>
                  <a:pt x="10988" y="3003"/>
                  <a:pt x="10991" y="2936"/>
                </a:cubicBezTo>
                <a:cubicBezTo>
                  <a:pt x="10994" y="2873"/>
                  <a:pt x="10997" y="2805"/>
                  <a:pt x="11014" y="2744"/>
                </a:cubicBezTo>
                <a:cubicBezTo>
                  <a:pt x="11024" y="2708"/>
                  <a:pt x="11049" y="2686"/>
                  <a:pt x="11088" y="2695"/>
                </a:cubicBezTo>
                <a:cubicBezTo>
                  <a:pt x="11137" y="2707"/>
                  <a:pt x="11191" y="2740"/>
                  <a:pt x="11233" y="2768"/>
                </a:cubicBezTo>
                <a:cubicBezTo>
                  <a:pt x="11255" y="2782"/>
                  <a:pt x="11268" y="2796"/>
                  <a:pt x="11282" y="2816"/>
                </a:cubicBezTo>
              </a:path>
              <a:path w="2127" h="574">
                <a:moveTo>
                  <a:pt x="11037" y="2900"/>
                </a:moveTo>
                <a:cubicBezTo>
                  <a:pt x="11010" y="2909"/>
                  <a:pt x="10984" y="2918"/>
                  <a:pt x="10957" y="2928"/>
                </a:cubicBezTo>
                <a:cubicBezTo>
                  <a:pt x="11010" y="2918"/>
                  <a:pt x="11059" y="2912"/>
                  <a:pt x="11113" y="2910"/>
                </a:cubicBezTo>
                <a:cubicBezTo>
                  <a:pt x="11167" y="2908"/>
                  <a:pt x="11220" y="2907"/>
                  <a:pt x="11274" y="2907"/>
                </a:cubicBezTo>
              </a:path>
              <a:path w="2127" h="574">
                <a:moveTo>
                  <a:pt x="11319" y="2982"/>
                </a:moveTo>
                <a:cubicBezTo>
                  <a:pt x="11306" y="3020"/>
                  <a:pt x="11290" y="3065"/>
                  <a:pt x="11287" y="3105"/>
                </a:cubicBezTo>
                <a:cubicBezTo>
                  <a:pt x="11285" y="3137"/>
                  <a:pt x="11282" y="3182"/>
                  <a:pt x="11297" y="3211"/>
                </a:cubicBezTo>
                <a:cubicBezTo>
                  <a:pt x="11306" y="3223"/>
                  <a:pt x="11311" y="3223"/>
                  <a:pt x="11319" y="3204"/>
                </a:cubicBezTo>
              </a:path>
              <a:path w="2127" h="574">
                <a:moveTo>
                  <a:pt x="11349" y="2818"/>
                </a:moveTo>
                <a:cubicBezTo>
                  <a:pt x="11366" y="2826"/>
                  <a:pt x="11385" y="2832"/>
                  <a:pt x="11401" y="2843"/>
                </a:cubicBezTo>
                <a:cubicBezTo>
                  <a:pt x="11425" y="2859"/>
                  <a:pt x="11446" y="2887"/>
                  <a:pt x="11457" y="2913"/>
                </a:cubicBezTo>
                <a:cubicBezTo>
                  <a:pt x="11474" y="2954"/>
                  <a:pt x="11483" y="3003"/>
                  <a:pt x="11492" y="3046"/>
                </a:cubicBezTo>
                <a:cubicBezTo>
                  <a:pt x="11498" y="3078"/>
                  <a:pt x="11500" y="3120"/>
                  <a:pt x="11516" y="3149"/>
                </a:cubicBezTo>
                <a:cubicBezTo>
                  <a:pt x="11519" y="3153"/>
                  <a:pt x="11523" y="3156"/>
                  <a:pt x="11526" y="3160"/>
                </a:cubicBezTo>
                <a:cubicBezTo>
                  <a:pt x="11542" y="3133"/>
                  <a:pt x="11552" y="3103"/>
                  <a:pt x="11567" y="3075"/>
                </a:cubicBezTo>
                <a:cubicBezTo>
                  <a:pt x="11575" y="3059"/>
                  <a:pt x="11599" y="3012"/>
                  <a:pt x="11623" y="3012"/>
                </a:cubicBezTo>
                <a:cubicBezTo>
                  <a:pt x="11651" y="3012"/>
                  <a:pt x="11661" y="3049"/>
                  <a:pt x="11671" y="3068"/>
                </a:cubicBezTo>
                <a:cubicBezTo>
                  <a:pt x="11690" y="3105"/>
                  <a:pt x="11706" y="3148"/>
                  <a:pt x="11746" y="3163"/>
                </a:cubicBezTo>
                <a:cubicBezTo>
                  <a:pt x="11760" y="3169"/>
                  <a:pt x="11778" y="3170"/>
                  <a:pt x="11793" y="3173"/>
                </a:cubicBezTo>
                <a:cubicBezTo>
                  <a:pt x="11822" y="3179"/>
                  <a:pt x="11858" y="3195"/>
                  <a:pt x="11886" y="3180"/>
                </a:cubicBezTo>
                <a:cubicBezTo>
                  <a:pt x="11905" y="3170"/>
                  <a:pt x="11914" y="3152"/>
                  <a:pt x="11922" y="3134"/>
                </a:cubicBezTo>
                <a:cubicBezTo>
                  <a:pt x="11932" y="3112"/>
                  <a:pt x="11929" y="3079"/>
                  <a:pt x="11928" y="3056"/>
                </a:cubicBezTo>
                <a:cubicBezTo>
                  <a:pt x="11926" y="3022"/>
                  <a:pt x="11920" y="3002"/>
                  <a:pt x="11902" y="2977"/>
                </a:cubicBezTo>
                <a:cubicBezTo>
                  <a:pt x="11882" y="2998"/>
                  <a:pt x="11867" y="3016"/>
                  <a:pt x="11857" y="3046"/>
                </a:cubicBezTo>
                <a:cubicBezTo>
                  <a:pt x="11840" y="3095"/>
                  <a:pt x="11827" y="3177"/>
                  <a:pt x="11871" y="3217"/>
                </a:cubicBezTo>
                <a:cubicBezTo>
                  <a:pt x="11895" y="3239"/>
                  <a:pt x="11939" y="3241"/>
                  <a:pt x="11970" y="3241"/>
                </a:cubicBezTo>
                <a:cubicBezTo>
                  <a:pt x="11982" y="3240"/>
                  <a:pt x="11993" y="3240"/>
                  <a:pt x="12005" y="3239"/>
                </a:cubicBezTo>
              </a:path>
              <a:path w="2127" h="574">
                <a:moveTo>
                  <a:pt x="12308" y="3260"/>
                </a:moveTo>
                <a:cubicBezTo>
                  <a:pt x="12312" y="3262"/>
                  <a:pt x="12317" y="3265"/>
                  <a:pt x="12321" y="3267"/>
                </a:cubicBezTo>
                <a:cubicBezTo>
                  <a:pt x="12327" y="3250"/>
                  <a:pt x="12331" y="3236"/>
                  <a:pt x="12341" y="322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3716280" y="1519200"/>
            <a:ext cx="568440" cy="291960"/>
          </a:xfrm>
          <a:custGeom>
            <a:avLst/>
            <a:gdLst/>
            <a:ahLst/>
            <a:rect l="l" t="t" r="r" b="b"/>
            <a:pathLst>
              <a:path w="1579" h="813">
                <a:moveTo>
                  <a:pt x="10498" y="4918"/>
                </a:moveTo>
                <a:cubicBezTo>
                  <a:pt x="10472" y="4890"/>
                  <a:pt x="10471" y="4889"/>
                  <a:pt x="10442" y="4879"/>
                </a:cubicBezTo>
                <a:cubicBezTo>
                  <a:pt x="10517" y="4912"/>
                  <a:pt x="10591" y="4922"/>
                  <a:pt x="10674" y="4931"/>
                </a:cubicBezTo>
                <a:cubicBezTo>
                  <a:pt x="10913" y="4957"/>
                  <a:pt x="11155" y="4973"/>
                  <a:pt x="11395" y="4952"/>
                </a:cubicBezTo>
                <a:cubicBezTo>
                  <a:pt x="11516" y="4941"/>
                  <a:pt x="11639" y="4941"/>
                  <a:pt x="11760" y="4929"/>
                </a:cubicBezTo>
                <a:cubicBezTo>
                  <a:pt x="11782" y="4927"/>
                  <a:pt x="11809" y="4929"/>
                  <a:pt x="11819" y="4909"/>
                </a:cubicBezTo>
                <a:cubicBezTo>
                  <a:pt x="11834" y="4879"/>
                  <a:pt x="11811" y="4791"/>
                  <a:pt x="11813" y="4756"/>
                </a:cubicBezTo>
                <a:cubicBezTo>
                  <a:pt x="11819" y="4625"/>
                  <a:pt x="11892" y="4511"/>
                  <a:pt x="11901" y="4382"/>
                </a:cubicBezTo>
                <a:cubicBezTo>
                  <a:pt x="11904" y="4341"/>
                  <a:pt x="11895" y="4294"/>
                  <a:pt x="11854" y="4280"/>
                </a:cubicBezTo>
                <a:cubicBezTo>
                  <a:pt x="11809" y="4264"/>
                  <a:pt x="11748" y="4266"/>
                  <a:pt x="11701" y="4260"/>
                </a:cubicBezTo>
                <a:cubicBezTo>
                  <a:pt x="11579" y="4244"/>
                  <a:pt x="11458" y="4224"/>
                  <a:pt x="11335" y="4220"/>
                </a:cubicBezTo>
                <a:cubicBezTo>
                  <a:pt x="11069" y="4211"/>
                  <a:pt x="10797" y="4226"/>
                  <a:pt x="10535" y="4274"/>
                </a:cubicBezTo>
                <a:cubicBezTo>
                  <a:pt x="10465" y="4287"/>
                  <a:pt x="10394" y="4299"/>
                  <a:pt x="10325" y="4315"/>
                </a:cubicBezTo>
                <a:cubicBezTo>
                  <a:pt x="10328" y="4334"/>
                  <a:pt x="10330" y="4354"/>
                  <a:pt x="10334" y="4373"/>
                </a:cubicBezTo>
                <a:cubicBezTo>
                  <a:pt x="10348" y="4442"/>
                  <a:pt x="10367" y="4510"/>
                  <a:pt x="10367" y="4581"/>
                </a:cubicBezTo>
                <a:cubicBezTo>
                  <a:pt x="10367" y="4668"/>
                  <a:pt x="10339" y="4752"/>
                  <a:pt x="10327" y="4837"/>
                </a:cubicBezTo>
                <a:cubicBezTo>
                  <a:pt x="10322" y="4876"/>
                  <a:pt x="10324" y="4920"/>
                  <a:pt x="10340" y="4956"/>
                </a:cubicBezTo>
                <a:cubicBezTo>
                  <a:pt x="10346" y="4969"/>
                  <a:pt x="10360" y="4991"/>
                  <a:pt x="10372" y="5000"/>
                </a:cubicBezTo>
                <a:cubicBezTo>
                  <a:pt x="10387" y="5012"/>
                  <a:pt x="10408" y="5014"/>
                  <a:pt x="10425" y="5024"/>
                </a:cubicBezTo>
                <a:cubicBezTo>
                  <a:pt x="10428" y="5026"/>
                  <a:pt x="10431" y="5028"/>
                  <a:pt x="10434" y="503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5826240" y="3114720"/>
            <a:ext cx="446040" cy="209520"/>
          </a:xfrm>
          <a:custGeom>
            <a:avLst/>
            <a:gdLst/>
            <a:ahLst/>
            <a:rect l="l" t="t" r="r" b="b"/>
            <a:pathLst>
              <a:path w="1239" h="583">
                <a:moveTo>
                  <a:pt x="16195" y="8772"/>
                </a:moveTo>
                <a:cubicBezTo>
                  <a:pt x="16200" y="8788"/>
                  <a:pt x="16198" y="8803"/>
                  <a:pt x="16201" y="8819"/>
                </a:cubicBezTo>
                <a:cubicBezTo>
                  <a:pt x="16207" y="8851"/>
                  <a:pt x="16210" y="8883"/>
                  <a:pt x="16213" y="8916"/>
                </a:cubicBezTo>
                <a:cubicBezTo>
                  <a:pt x="16217" y="8959"/>
                  <a:pt x="16217" y="9000"/>
                  <a:pt x="16216" y="9043"/>
                </a:cubicBezTo>
                <a:cubicBezTo>
                  <a:pt x="16215" y="9072"/>
                  <a:pt x="16212" y="9098"/>
                  <a:pt x="16205" y="9126"/>
                </a:cubicBezTo>
                <a:cubicBezTo>
                  <a:pt x="16204" y="9129"/>
                  <a:pt x="16203" y="9132"/>
                  <a:pt x="16202" y="9135"/>
                </a:cubicBezTo>
                <a:cubicBezTo>
                  <a:pt x="16185" y="9105"/>
                  <a:pt x="16185" y="9080"/>
                  <a:pt x="16184" y="9045"/>
                </a:cubicBezTo>
                <a:cubicBezTo>
                  <a:pt x="16181" y="8971"/>
                  <a:pt x="16190" y="8901"/>
                  <a:pt x="16210" y="8830"/>
                </a:cubicBezTo>
                <a:cubicBezTo>
                  <a:pt x="16225" y="8778"/>
                  <a:pt x="16247" y="8718"/>
                  <a:pt x="16285" y="8678"/>
                </a:cubicBezTo>
                <a:cubicBezTo>
                  <a:pt x="16303" y="8658"/>
                  <a:pt x="16319" y="8656"/>
                  <a:pt x="16343" y="8653"/>
                </a:cubicBezTo>
                <a:cubicBezTo>
                  <a:pt x="16366" y="8676"/>
                  <a:pt x="16369" y="8704"/>
                  <a:pt x="16362" y="8738"/>
                </a:cubicBezTo>
                <a:cubicBezTo>
                  <a:pt x="16354" y="8779"/>
                  <a:pt x="16330" y="8820"/>
                  <a:pt x="16310" y="8856"/>
                </a:cubicBezTo>
                <a:cubicBezTo>
                  <a:pt x="16299" y="8874"/>
                  <a:pt x="16296" y="8878"/>
                  <a:pt x="16289" y="8889"/>
                </a:cubicBezTo>
                <a:cubicBezTo>
                  <a:pt x="16318" y="8893"/>
                  <a:pt x="16348" y="8891"/>
                  <a:pt x="16375" y="8904"/>
                </a:cubicBezTo>
                <a:cubicBezTo>
                  <a:pt x="16410" y="8921"/>
                  <a:pt x="16433" y="8958"/>
                  <a:pt x="16437" y="8996"/>
                </a:cubicBezTo>
                <a:cubicBezTo>
                  <a:pt x="16443" y="9047"/>
                  <a:pt x="16413" y="9096"/>
                  <a:pt x="16380" y="9132"/>
                </a:cubicBezTo>
                <a:cubicBezTo>
                  <a:pt x="16347" y="9169"/>
                  <a:pt x="16282" y="9215"/>
                  <a:pt x="16229" y="9200"/>
                </a:cubicBezTo>
                <a:cubicBezTo>
                  <a:pt x="16200" y="9192"/>
                  <a:pt x="16217" y="9164"/>
                  <a:pt x="16225" y="9149"/>
                </a:cubicBezTo>
              </a:path>
              <a:path w="1239" h="583">
                <a:moveTo>
                  <a:pt x="16521" y="9022"/>
                </a:moveTo>
                <a:cubicBezTo>
                  <a:pt x="16525" y="9007"/>
                  <a:pt x="16526" y="9003"/>
                  <a:pt x="16525" y="8993"/>
                </a:cubicBezTo>
                <a:cubicBezTo>
                  <a:pt x="16493" y="9010"/>
                  <a:pt x="16480" y="9036"/>
                  <a:pt x="16465" y="9074"/>
                </a:cubicBezTo>
                <a:cubicBezTo>
                  <a:pt x="16452" y="9108"/>
                  <a:pt x="16445" y="9141"/>
                  <a:pt x="16448" y="9176"/>
                </a:cubicBezTo>
                <a:cubicBezTo>
                  <a:pt x="16488" y="9171"/>
                  <a:pt x="16503" y="9152"/>
                  <a:pt x="16532" y="9122"/>
                </a:cubicBezTo>
                <a:cubicBezTo>
                  <a:pt x="16549" y="9104"/>
                  <a:pt x="16572" y="9062"/>
                  <a:pt x="16600" y="9057"/>
                </a:cubicBezTo>
                <a:cubicBezTo>
                  <a:pt x="16624" y="9053"/>
                  <a:pt x="16628" y="9104"/>
                  <a:pt x="16631" y="9117"/>
                </a:cubicBezTo>
                <a:cubicBezTo>
                  <a:pt x="16639" y="9149"/>
                  <a:pt x="16650" y="9187"/>
                  <a:pt x="16682" y="9204"/>
                </a:cubicBezTo>
                <a:cubicBezTo>
                  <a:pt x="16704" y="9210"/>
                  <a:pt x="16712" y="9212"/>
                  <a:pt x="16728" y="9207"/>
                </a:cubicBezTo>
              </a:path>
              <a:path w="1239" h="583">
                <a:moveTo>
                  <a:pt x="16883" y="9005"/>
                </a:moveTo>
                <a:cubicBezTo>
                  <a:pt x="16875" y="8995"/>
                  <a:pt x="16857" y="8969"/>
                  <a:pt x="16839" y="8979"/>
                </a:cubicBezTo>
                <a:cubicBezTo>
                  <a:pt x="16824" y="8988"/>
                  <a:pt x="16813" y="9019"/>
                  <a:pt x="16814" y="9035"/>
                </a:cubicBezTo>
                <a:cubicBezTo>
                  <a:pt x="16816" y="9061"/>
                  <a:pt x="16835" y="9076"/>
                  <a:pt x="16856" y="9088"/>
                </a:cubicBezTo>
                <a:cubicBezTo>
                  <a:pt x="16881" y="9102"/>
                  <a:pt x="16908" y="9111"/>
                  <a:pt x="16932" y="9127"/>
                </a:cubicBezTo>
                <a:cubicBezTo>
                  <a:pt x="16949" y="9139"/>
                  <a:pt x="16964" y="9158"/>
                  <a:pt x="16963" y="9180"/>
                </a:cubicBezTo>
                <a:cubicBezTo>
                  <a:pt x="16962" y="9197"/>
                  <a:pt x="16948" y="9205"/>
                  <a:pt x="16937" y="9216"/>
                </a:cubicBezTo>
                <a:cubicBezTo>
                  <a:pt x="16912" y="9203"/>
                  <a:pt x="16913" y="9194"/>
                  <a:pt x="16916" y="9167"/>
                </a:cubicBezTo>
              </a:path>
              <a:path w="1239" h="583">
                <a:moveTo>
                  <a:pt x="17080" y="9064"/>
                </a:moveTo>
                <a:cubicBezTo>
                  <a:pt x="17088" y="9087"/>
                  <a:pt x="17091" y="9109"/>
                  <a:pt x="17095" y="9133"/>
                </a:cubicBezTo>
                <a:cubicBezTo>
                  <a:pt x="17097" y="9146"/>
                  <a:pt x="17099" y="9157"/>
                  <a:pt x="17104" y="9170"/>
                </a:cubicBezTo>
              </a:path>
              <a:path w="1239" h="583">
                <a:moveTo>
                  <a:pt x="17105" y="8915"/>
                </a:moveTo>
                <a:cubicBezTo>
                  <a:pt x="17113" y="8877"/>
                  <a:pt x="17110" y="8866"/>
                  <a:pt x="17139" y="8845"/>
                </a:cubicBezTo>
                <a:cubicBezTo>
                  <a:pt x="17151" y="8833"/>
                  <a:pt x="17156" y="8831"/>
                  <a:pt x="17169" y="8840"/>
                </a:cubicBezTo>
              </a:path>
              <a:path w="1239" h="583">
                <a:moveTo>
                  <a:pt x="17419" y="9008"/>
                </a:moveTo>
                <a:cubicBezTo>
                  <a:pt x="17396" y="8993"/>
                  <a:pt x="17376" y="8997"/>
                  <a:pt x="17349" y="9007"/>
                </a:cubicBezTo>
                <a:cubicBezTo>
                  <a:pt x="17322" y="9017"/>
                  <a:pt x="17288" y="9035"/>
                  <a:pt x="17271" y="9059"/>
                </a:cubicBezTo>
                <a:cubicBezTo>
                  <a:pt x="17253" y="9085"/>
                  <a:pt x="17280" y="9105"/>
                  <a:pt x="17300" y="9117"/>
                </a:cubicBezTo>
                <a:cubicBezTo>
                  <a:pt x="17334" y="9137"/>
                  <a:pt x="17373" y="9151"/>
                  <a:pt x="17402" y="9179"/>
                </a:cubicBezTo>
                <a:cubicBezTo>
                  <a:pt x="17416" y="9193"/>
                  <a:pt x="17419" y="9204"/>
                  <a:pt x="17421" y="9222"/>
                </a:cubicBezTo>
                <a:cubicBezTo>
                  <a:pt x="17401" y="9232"/>
                  <a:pt x="17375" y="9241"/>
                  <a:pt x="17352" y="9232"/>
                </a:cubicBezTo>
                <a:cubicBezTo>
                  <a:pt x="17333" y="9225"/>
                  <a:pt x="17324" y="9204"/>
                  <a:pt x="17315" y="918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6388200" y="3198960"/>
            <a:ext cx="21960" cy="104760"/>
          </a:xfrm>
          <a:custGeom>
            <a:avLst/>
            <a:gdLst/>
            <a:ahLst/>
            <a:rect l="l" t="t" r="r" b="b"/>
            <a:pathLst>
              <a:path w="64" h="293">
                <a:moveTo>
                  <a:pt x="17786" y="9165"/>
                </a:moveTo>
                <a:cubicBezTo>
                  <a:pt x="17783" y="9169"/>
                  <a:pt x="17781" y="9172"/>
                  <a:pt x="17778" y="9176"/>
                </a:cubicBezTo>
                <a:cubicBezTo>
                  <a:pt x="17761" y="9162"/>
                  <a:pt x="17765" y="9153"/>
                  <a:pt x="17774" y="9132"/>
                </a:cubicBezTo>
                <a:cubicBezTo>
                  <a:pt x="17784" y="9108"/>
                  <a:pt x="17795" y="9084"/>
                  <a:pt x="17807" y="9060"/>
                </a:cubicBezTo>
              </a:path>
              <a:path w="64" h="293">
                <a:moveTo>
                  <a:pt x="17786" y="8964"/>
                </a:moveTo>
                <a:cubicBezTo>
                  <a:pt x="17769" y="8956"/>
                  <a:pt x="17750" y="8943"/>
                  <a:pt x="17744" y="8924"/>
                </a:cubicBezTo>
                <a:cubicBezTo>
                  <a:pt x="17737" y="8904"/>
                  <a:pt x="17753" y="8897"/>
                  <a:pt x="17768" y="8890"/>
                </a:cubicBezTo>
                <a:cubicBezTo>
                  <a:pt x="17773" y="8888"/>
                  <a:pt x="17777" y="8886"/>
                  <a:pt x="17782" y="888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6572160" y="3146400"/>
            <a:ext cx="571680" cy="209520"/>
          </a:xfrm>
          <a:custGeom>
            <a:avLst/>
            <a:gdLst/>
            <a:ahLst/>
            <a:rect l="l" t="t" r="r" b="b"/>
            <a:pathLst>
              <a:path w="1589" h="585">
                <a:moveTo>
                  <a:pt x="18306" y="8828"/>
                </a:moveTo>
                <a:cubicBezTo>
                  <a:pt x="18279" y="8823"/>
                  <a:pt x="18277" y="8821"/>
                  <a:pt x="18256" y="8807"/>
                </a:cubicBezTo>
                <a:cubicBezTo>
                  <a:pt x="18295" y="8774"/>
                  <a:pt x="18329" y="8760"/>
                  <a:pt x="18379" y="8747"/>
                </a:cubicBezTo>
                <a:cubicBezTo>
                  <a:pt x="18424" y="8736"/>
                  <a:pt x="18487" y="8727"/>
                  <a:pt x="18520" y="8770"/>
                </a:cubicBezTo>
                <a:cubicBezTo>
                  <a:pt x="18554" y="8815"/>
                  <a:pt x="18512" y="8895"/>
                  <a:pt x="18488" y="8934"/>
                </a:cubicBezTo>
                <a:cubicBezTo>
                  <a:pt x="18454" y="8990"/>
                  <a:pt x="18406" y="9039"/>
                  <a:pt x="18355" y="9079"/>
                </a:cubicBezTo>
                <a:cubicBezTo>
                  <a:pt x="18349" y="9083"/>
                  <a:pt x="18342" y="9088"/>
                  <a:pt x="18336" y="9092"/>
                </a:cubicBezTo>
                <a:cubicBezTo>
                  <a:pt x="18382" y="9070"/>
                  <a:pt x="18428" y="9058"/>
                  <a:pt x="18480" y="9057"/>
                </a:cubicBezTo>
                <a:cubicBezTo>
                  <a:pt x="18532" y="9056"/>
                  <a:pt x="18596" y="9068"/>
                  <a:pt x="18628" y="9113"/>
                </a:cubicBezTo>
                <a:cubicBezTo>
                  <a:pt x="18658" y="9155"/>
                  <a:pt x="18623" y="9208"/>
                  <a:pt x="18594" y="9237"/>
                </a:cubicBezTo>
                <a:cubicBezTo>
                  <a:pt x="18554" y="9277"/>
                  <a:pt x="18489" y="9311"/>
                  <a:pt x="18434" y="9321"/>
                </a:cubicBezTo>
                <a:cubicBezTo>
                  <a:pt x="18404" y="9327"/>
                  <a:pt x="18360" y="9323"/>
                  <a:pt x="18366" y="9282"/>
                </a:cubicBezTo>
                <a:cubicBezTo>
                  <a:pt x="18369" y="9273"/>
                  <a:pt x="18373" y="9263"/>
                  <a:pt x="18376" y="9254"/>
                </a:cubicBezTo>
              </a:path>
              <a:path w="1589" h="585">
                <a:moveTo>
                  <a:pt x="19104" y="8822"/>
                </a:moveTo>
                <a:cubicBezTo>
                  <a:pt x="19077" y="8800"/>
                  <a:pt x="19037" y="8816"/>
                  <a:pt x="19005" y="8833"/>
                </a:cubicBezTo>
                <a:cubicBezTo>
                  <a:pt x="18923" y="8877"/>
                  <a:pt x="18834" y="8950"/>
                  <a:pt x="18779" y="9024"/>
                </a:cubicBezTo>
                <a:cubicBezTo>
                  <a:pt x="18754" y="9058"/>
                  <a:pt x="18730" y="9112"/>
                  <a:pt x="18782" y="9135"/>
                </a:cubicBezTo>
                <a:cubicBezTo>
                  <a:pt x="18845" y="9163"/>
                  <a:pt x="18932" y="9157"/>
                  <a:pt x="18998" y="9154"/>
                </a:cubicBezTo>
                <a:cubicBezTo>
                  <a:pt x="19061" y="9151"/>
                  <a:pt x="19121" y="9144"/>
                  <a:pt x="19181" y="9128"/>
                </a:cubicBezTo>
              </a:path>
              <a:path w="1589" h="585">
                <a:moveTo>
                  <a:pt x="18839" y="9069"/>
                </a:moveTo>
                <a:cubicBezTo>
                  <a:pt x="18833" y="9068"/>
                  <a:pt x="18827" y="9067"/>
                  <a:pt x="18821" y="9066"/>
                </a:cubicBezTo>
                <a:cubicBezTo>
                  <a:pt x="18830" y="9040"/>
                  <a:pt x="18871" y="9038"/>
                  <a:pt x="18903" y="9034"/>
                </a:cubicBezTo>
                <a:cubicBezTo>
                  <a:pt x="18965" y="9025"/>
                  <a:pt x="19025" y="9024"/>
                  <a:pt x="19087" y="9022"/>
                </a:cubicBezTo>
                <a:cubicBezTo>
                  <a:pt x="19131" y="9019"/>
                  <a:pt x="19146" y="9018"/>
                  <a:pt x="19175" y="9018"/>
                </a:cubicBezTo>
              </a:path>
              <a:path w="1589" h="585">
                <a:moveTo>
                  <a:pt x="19342" y="9170"/>
                </a:moveTo>
                <a:cubicBezTo>
                  <a:pt x="19361" y="9125"/>
                  <a:pt x="19382" y="9082"/>
                  <a:pt x="19405" y="9039"/>
                </a:cubicBezTo>
                <a:cubicBezTo>
                  <a:pt x="19443" y="8968"/>
                  <a:pt x="19480" y="8886"/>
                  <a:pt x="19532" y="8824"/>
                </a:cubicBezTo>
                <a:cubicBezTo>
                  <a:pt x="19553" y="8799"/>
                  <a:pt x="19588" y="8773"/>
                  <a:pt x="19612" y="8810"/>
                </a:cubicBezTo>
                <a:cubicBezTo>
                  <a:pt x="19641" y="8854"/>
                  <a:pt x="19644" y="8921"/>
                  <a:pt x="19652" y="8972"/>
                </a:cubicBezTo>
                <a:cubicBezTo>
                  <a:pt x="19660" y="9021"/>
                  <a:pt x="19668" y="9074"/>
                  <a:pt x="19670" y="9124"/>
                </a:cubicBezTo>
                <a:cubicBezTo>
                  <a:pt x="19669" y="9138"/>
                  <a:pt x="19668" y="9143"/>
                  <a:pt x="19655" y="9134"/>
                </a:cubicBezTo>
              </a:path>
              <a:path w="1589" h="585">
                <a:moveTo>
                  <a:pt x="19529" y="9015"/>
                </a:moveTo>
                <a:cubicBezTo>
                  <a:pt x="19567" y="9014"/>
                  <a:pt x="19604" y="9009"/>
                  <a:pt x="19644" y="9007"/>
                </a:cubicBezTo>
                <a:cubicBezTo>
                  <a:pt x="19699" y="9004"/>
                  <a:pt x="19751" y="9011"/>
                  <a:pt x="19806" y="9015"/>
                </a:cubicBezTo>
                <a:cubicBezTo>
                  <a:pt x="19819" y="9016"/>
                  <a:pt x="19831" y="9017"/>
                  <a:pt x="19844" y="901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8694720" y="3546360"/>
            <a:ext cx="73080" cy="30240"/>
          </a:xfrm>
          <a:custGeom>
            <a:avLst/>
            <a:gdLst/>
            <a:ahLst/>
            <a:rect l="l" t="t" r="r" b="b"/>
            <a:pathLst>
              <a:path w="205" h="81">
                <a:moveTo>
                  <a:pt x="24158" y="9932"/>
                </a:moveTo>
                <a:cubicBezTo>
                  <a:pt x="24186" y="9842"/>
                  <a:pt x="24254" y="9855"/>
                  <a:pt x="24355" y="985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5826240" y="3397320"/>
            <a:ext cx="1004760" cy="271440"/>
          </a:xfrm>
          <a:custGeom>
            <a:avLst/>
            <a:gdLst/>
            <a:ahLst/>
            <a:rect l="l" t="t" r="r" b="b"/>
            <a:pathLst>
              <a:path w="2793" h="753">
                <a:moveTo>
                  <a:pt x="16233" y="9707"/>
                </a:moveTo>
                <a:cubicBezTo>
                  <a:pt x="16219" y="9754"/>
                  <a:pt x="16207" y="9796"/>
                  <a:pt x="16201" y="9845"/>
                </a:cubicBezTo>
                <a:cubicBezTo>
                  <a:pt x="16193" y="9906"/>
                  <a:pt x="16194" y="9967"/>
                  <a:pt x="16193" y="10029"/>
                </a:cubicBezTo>
                <a:cubicBezTo>
                  <a:pt x="16193" y="10056"/>
                  <a:pt x="16193" y="10081"/>
                  <a:pt x="16195" y="10108"/>
                </a:cubicBezTo>
                <a:cubicBezTo>
                  <a:pt x="16200" y="10061"/>
                  <a:pt x="16202" y="10015"/>
                  <a:pt x="16203" y="9967"/>
                </a:cubicBezTo>
                <a:cubicBezTo>
                  <a:pt x="16206" y="9885"/>
                  <a:pt x="16210" y="9803"/>
                  <a:pt x="16219" y="9721"/>
                </a:cubicBezTo>
                <a:cubicBezTo>
                  <a:pt x="16227" y="9647"/>
                  <a:pt x="16239" y="9567"/>
                  <a:pt x="16275" y="9500"/>
                </a:cubicBezTo>
                <a:cubicBezTo>
                  <a:pt x="16296" y="9460"/>
                  <a:pt x="16335" y="9420"/>
                  <a:pt x="16383" y="9444"/>
                </a:cubicBezTo>
                <a:cubicBezTo>
                  <a:pt x="16436" y="9470"/>
                  <a:pt x="16452" y="9543"/>
                  <a:pt x="16454" y="9596"/>
                </a:cubicBezTo>
                <a:cubicBezTo>
                  <a:pt x="16457" y="9675"/>
                  <a:pt x="16428" y="9753"/>
                  <a:pt x="16380" y="9815"/>
                </a:cubicBezTo>
                <a:cubicBezTo>
                  <a:pt x="16344" y="9861"/>
                  <a:pt x="16296" y="9892"/>
                  <a:pt x="16240" y="9905"/>
                </a:cubicBezTo>
                <a:cubicBezTo>
                  <a:pt x="16218" y="9910"/>
                  <a:pt x="16205" y="9906"/>
                  <a:pt x="16184" y="9905"/>
                </a:cubicBezTo>
                <a:cubicBezTo>
                  <a:pt x="16214" y="9931"/>
                  <a:pt x="16245" y="9957"/>
                  <a:pt x="16276" y="9982"/>
                </a:cubicBezTo>
                <a:cubicBezTo>
                  <a:pt x="16314" y="10013"/>
                  <a:pt x="16351" y="10044"/>
                  <a:pt x="16387" y="10077"/>
                </a:cubicBezTo>
                <a:cubicBezTo>
                  <a:pt x="16406" y="10094"/>
                  <a:pt x="16432" y="10118"/>
                  <a:pt x="16458" y="10125"/>
                </a:cubicBezTo>
                <a:cubicBezTo>
                  <a:pt x="16464" y="10124"/>
                  <a:pt x="16469" y="10124"/>
                  <a:pt x="16475" y="10123"/>
                </a:cubicBezTo>
              </a:path>
              <a:path w="2793" h="753">
                <a:moveTo>
                  <a:pt x="16606" y="10047"/>
                </a:moveTo>
                <a:cubicBezTo>
                  <a:pt x="16622" y="10026"/>
                  <a:pt x="16631" y="10004"/>
                  <a:pt x="16642" y="9980"/>
                </a:cubicBezTo>
                <a:cubicBezTo>
                  <a:pt x="16661" y="9938"/>
                  <a:pt x="16682" y="9899"/>
                  <a:pt x="16693" y="9854"/>
                </a:cubicBezTo>
                <a:cubicBezTo>
                  <a:pt x="16700" y="9827"/>
                  <a:pt x="16700" y="9809"/>
                  <a:pt x="16696" y="9783"/>
                </a:cubicBezTo>
                <a:cubicBezTo>
                  <a:pt x="16658" y="9772"/>
                  <a:pt x="16635" y="9791"/>
                  <a:pt x="16608" y="9820"/>
                </a:cubicBezTo>
                <a:cubicBezTo>
                  <a:pt x="16557" y="9875"/>
                  <a:pt x="16516" y="9957"/>
                  <a:pt x="16513" y="10033"/>
                </a:cubicBezTo>
                <a:cubicBezTo>
                  <a:pt x="16511" y="10088"/>
                  <a:pt x="16538" y="10115"/>
                  <a:pt x="16589" y="10125"/>
                </a:cubicBezTo>
                <a:cubicBezTo>
                  <a:pt x="16654" y="10137"/>
                  <a:pt x="16709" y="10116"/>
                  <a:pt x="16767" y="10089"/>
                </a:cubicBezTo>
                <a:cubicBezTo>
                  <a:pt x="16781" y="10082"/>
                  <a:pt x="16796" y="10074"/>
                  <a:pt x="16810" y="10067"/>
                </a:cubicBezTo>
              </a:path>
              <a:path w="2793" h="753">
                <a:moveTo>
                  <a:pt x="17027" y="9888"/>
                </a:moveTo>
                <a:cubicBezTo>
                  <a:pt x="17034" y="9874"/>
                  <a:pt x="17035" y="9868"/>
                  <a:pt x="17024" y="9859"/>
                </a:cubicBezTo>
                <a:cubicBezTo>
                  <a:pt x="16988" y="9854"/>
                  <a:pt x="16976" y="9873"/>
                  <a:pt x="16956" y="9906"/>
                </a:cubicBezTo>
                <a:cubicBezTo>
                  <a:pt x="16930" y="9951"/>
                  <a:pt x="16906" y="9997"/>
                  <a:pt x="16894" y="10048"/>
                </a:cubicBezTo>
                <a:cubicBezTo>
                  <a:pt x="16884" y="10088"/>
                  <a:pt x="16877" y="10147"/>
                  <a:pt x="16915" y="10176"/>
                </a:cubicBezTo>
                <a:cubicBezTo>
                  <a:pt x="16951" y="10204"/>
                  <a:pt x="17002" y="10180"/>
                  <a:pt x="17038" y="10168"/>
                </a:cubicBezTo>
              </a:path>
              <a:path w="2793" h="753">
                <a:moveTo>
                  <a:pt x="17173" y="9901"/>
                </a:moveTo>
                <a:cubicBezTo>
                  <a:pt x="17155" y="9890"/>
                  <a:pt x="17158" y="9927"/>
                  <a:pt x="17157" y="9945"/>
                </a:cubicBezTo>
                <a:cubicBezTo>
                  <a:pt x="17155" y="9983"/>
                  <a:pt x="17154" y="10018"/>
                  <a:pt x="17168" y="10055"/>
                </a:cubicBezTo>
                <a:cubicBezTo>
                  <a:pt x="17177" y="10080"/>
                  <a:pt x="17197" y="10098"/>
                  <a:pt x="17224" y="10082"/>
                </a:cubicBezTo>
                <a:cubicBezTo>
                  <a:pt x="17260" y="10060"/>
                  <a:pt x="17277" y="10016"/>
                  <a:pt x="17295" y="9981"/>
                </a:cubicBezTo>
                <a:cubicBezTo>
                  <a:pt x="17311" y="9950"/>
                  <a:pt x="17322" y="9918"/>
                  <a:pt x="17340" y="9888"/>
                </a:cubicBezTo>
                <a:cubicBezTo>
                  <a:pt x="17359" y="9914"/>
                  <a:pt x="17352" y="9953"/>
                  <a:pt x="17353" y="9987"/>
                </a:cubicBezTo>
                <a:cubicBezTo>
                  <a:pt x="17354" y="10024"/>
                  <a:pt x="17348" y="10095"/>
                  <a:pt x="17373" y="10126"/>
                </a:cubicBezTo>
                <a:cubicBezTo>
                  <a:pt x="17399" y="10159"/>
                  <a:pt x="17423" y="10111"/>
                  <a:pt x="17436" y="10094"/>
                </a:cubicBezTo>
              </a:path>
              <a:path w="2793" h="753">
                <a:moveTo>
                  <a:pt x="17495" y="9932"/>
                </a:moveTo>
                <a:cubicBezTo>
                  <a:pt x="17501" y="9959"/>
                  <a:pt x="17506" y="9989"/>
                  <a:pt x="17516" y="10014"/>
                </a:cubicBezTo>
                <a:cubicBezTo>
                  <a:pt x="17527" y="10041"/>
                  <a:pt x="17538" y="10070"/>
                  <a:pt x="17553" y="10095"/>
                </a:cubicBezTo>
                <a:cubicBezTo>
                  <a:pt x="17556" y="10099"/>
                  <a:pt x="17558" y="10102"/>
                  <a:pt x="17561" y="10106"/>
                </a:cubicBezTo>
                <a:cubicBezTo>
                  <a:pt x="17577" y="10085"/>
                  <a:pt x="17577" y="10059"/>
                  <a:pt x="17582" y="10031"/>
                </a:cubicBezTo>
                <a:cubicBezTo>
                  <a:pt x="17589" y="9991"/>
                  <a:pt x="17594" y="9949"/>
                  <a:pt x="17606" y="9910"/>
                </a:cubicBezTo>
                <a:cubicBezTo>
                  <a:pt x="17616" y="9879"/>
                  <a:pt x="17631" y="9869"/>
                  <a:pt x="17660" y="9861"/>
                </a:cubicBezTo>
              </a:path>
              <a:path w="2793" h="753">
                <a:moveTo>
                  <a:pt x="17928" y="9861"/>
                </a:moveTo>
                <a:cubicBezTo>
                  <a:pt x="17913" y="9840"/>
                  <a:pt x="17905" y="9840"/>
                  <a:pt x="17881" y="9846"/>
                </a:cubicBezTo>
                <a:cubicBezTo>
                  <a:pt x="17849" y="9853"/>
                  <a:pt x="17817" y="9868"/>
                  <a:pt x="17794" y="9894"/>
                </a:cubicBezTo>
                <a:cubicBezTo>
                  <a:pt x="17775" y="9915"/>
                  <a:pt x="17774" y="9934"/>
                  <a:pt x="17800" y="9947"/>
                </a:cubicBezTo>
                <a:cubicBezTo>
                  <a:pt x="17837" y="9966"/>
                  <a:pt x="17879" y="9972"/>
                  <a:pt x="17916" y="9992"/>
                </a:cubicBezTo>
                <a:cubicBezTo>
                  <a:pt x="17959" y="10015"/>
                  <a:pt x="17992" y="10046"/>
                  <a:pt x="18007" y="10093"/>
                </a:cubicBezTo>
                <a:cubicBezTo>
                  <a:pt x="18016" y="10122"/>
                  <a:pt x="18013" y="10161"/>
                  <a:pt x="17985" y="10175"/>
                </a:cubicBezTo>
                <a:cubicBezTo>
                  <a:pt x="17954" y="10191"/>
                  <a:pt x="17947" y="10160"/>
                  <a:pt x="17940" y="10139"/>
                </a:cubicBezTo>
              </a:path>
              <a:path w="2793" h="753">
                <a:moveTo>
                  <a:pt x="18149" y="9814"/>
                </a:moveTo>
                <a:cubicBezTo>
                  <a:pt x="18151" y="9842"/>
                  <a:pt x="18148" y="9869"/>
                  <a:pt x="18153" y="9896"/>
                </a:cubicBezTo>
                <a:cubicBezTo>
                  <a:pt x="18157" y="9919"/>
                  <a:pt x="18162" y="9941"/>
                  <a:pt x="18167" y="9963"/>
                </a:cubicBezTo>
              </a:path>
              <a:path w="2793" h="753">
                <a:moveTo>
                  <a:pt x="18093" y="9666"/>
                </a:moveTo>
                <a:cubicBezTo>
                  <a:pt x="18090" y="9662"/>
                  <a:pt x="18086" y="9659"/>
                  <a:pt x="18083" y="9655"/>
                </a:cubicBezTo>
                <a:cubicBezTo>
                  <a:pt x="18084" y="9685"/>
                  <a:pt x="18089" y="9712"/>
                  <a:pt x="18097" y="9741"/>
                </a:cubicBezTo>
                <a:cubicBezTo>
                  <a:pt x="18110" y="9789"/>
                  <a:pt x="18125" y="9836"/>
                  <a:pt x="18136" y="9884"/>
                </a:cubicBezTo>
                <a:cubicBezTo>
                  <a:pt x="18143" y="9915"/>
                  <a:pt x="18153" y="9943"/>
                  <a:pt x="18162" y="9973"/>
                </a:cubicBezTo>
                <a:cubicBezTo>
                  <a:pt x="18164" y="9983"/>
                  <a:pt x="18165" y="9986"/>
                  <a:pt x="18174" y="9982"/>
                </a:cubicBezTo>
              </a:path>
              <a:path w="2793" h="753">
                <a:moveTo>
                  <a:pt x="18034" y="9551"/>
                </a:moveTo>
                <a:cubicBezTo>
                  <a:pt x="18018" y="9530"/>
                  <a:pt x="18006" y="9514"/>
                  <a:pt x="18006" y="9485"/>
                </a:cubicBezTo>
                <a:cubicBezTo>
                  <a:pt x="18006" y="9468"/>
                  <a:pt x="18030" y="9465"/>
                  <a:pt x="18043" y="9469"/>
                </a:cubicBezTo>
                <a:cubicBezTo>
                  <a:pt x="18056" y="9476"/>
                  <a:pt x="18060" y="9478"/>
                  <a:pt x="18064" y="9487"/>
                </a:cubicBezTo>
              </a:path>
              <a:path w="2793" h="753">
                <a:moveTo>
                  <a:pt x="18363" y="9830"/>
                </a:moveTo>
                <a:cubicBezTo>
                  <a:pt x="18362" y="9825"/>
                  <a:pt x="18362" y="9820"/>
                  <a:pt x="18361" y="9815"/>
                </a:cubicBezTo>
                <a:cubicBezTo>
                  <a:pt x="18345" y="9835"/>
                  <a:pt x="18355" y="9865"/>
                  <a:pt x="18359" y="9896"/>
                </a:cubicBezTo>
                <a:cubicBezTo>
                  <a:pt x="18363" y="9927"/>
                  <a:pt x="18367" y="9965"/>
                  <a:pt x="18386" y="9991"/>
                </a:cubicBezTo>
                <a:cubicBezTo>
                  <a:pt x="18390" y="9994"/>
                  <a:pt x="18393" y="9998"/>
                  <a:pt x="18397" y="10001"/>
                </a:cubicBezTo>
                <a:cubicBezTo>
                  <a:pt x="18417" y="9991"/>
                  <a:pt x="18434" y="9976"/>
                  <a:pt x="18444" y="9955"/>
                </a:cubicBezTo>
                <a:cubicBezTo>
                  <a:pt x="18459" y="9922"/>
                  <a:pt x="18473" y="9890"/>
                  <a:pt x="18493" y="9859"/>
                </a:cubicBezTo>
                <a:cubicBezTo>
                  <a:pt x="18497" y="9854"/>
                  <a:pt x="18501" y="9848"/>
                  <a:pt x="18505" y="9843"/>
                </a:cubicBezTo>
              </a:path>
              <a:path w="2793" h="753">
                <a:moveTo>
                  <a:pt x="18574" y="9876"/>
                </a:moveTo>
                <a:cubicBezTo>
                  <a:pt x="18595" y="9867"/>
                  <a:pt x="18619" y="9857"/>
                  <a:pt x="18639" y="9850"/>
                </a:cubicBezTo>
                <a:cubicBezTo>
                  <a:pt x="18664" y="9841"/>
                  <a:pt x="18679" y="9836"/>
                  <a:pt x="18698" y="9817"/>
                </a:cubicBezTo>
                <a:cubicBezTo>
                  <a:pt x="18694" y="9789"/>
                  <a:pt x="18669" y="9810"/>
                  <a:pt x="18649" y="9824"/>
                </a:cubicBezTo>
                <a:cubicBezTo>
                  <a:pt x="18615" y="9847"/>
                  <a:pt x="18585" y="9883"/>
                  <a:pt x="18575" y="9923"/>
                </a:cubicBezTo>
                <a:cubicBezTo>
                  <a:pt x="18567" y="9957"/>
                  <a:pt x="18577" y="9991"/>
                  <a:pt x="18611" y="10006"/>
                </a:cubicBezTo>
                <a:cubicBezTo>
                  <a:pt x="18640" y="10018"/>
                  <a:pt x="18672" y="10012"/>
                  <a:pt x="18702" y="10010"/>
                </a:cubicBezTo>
              </a:path>
              <a:path w="2793" h="753">
                <a:moveTo>
                  <a:pt x="18945" y="10049"/>
                </a:moveTo>
                <a:cubicBezTo>
                  <a:pt x="18948" y="10049"/>
                  <a:pt x="18951" y="10049"/>
                  <a:pt x="18954" y="10049"/>
                </a:cubicBezTo>
                <a:cubicBezTo>
                  <a:pt x="18953" y="10028"/>
                  <a:pt x="18958" y="10007"/>
                  <a:pt x="18960" y="9985"/>
                </a:cubicBezTo>
              </a:path>
              <a:path w="2793" h="753">
                <a:moveTo>
                  <a:pt x="18918" y="9781"/>
                </a:moveTo>
                <a:cubicBezTo>
                  <a:pt x="18940" y="9761"/>
                  <a:pt x="18949" y="9750"/>
                  <a:pt x="18976" y="974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6959520" y="3484440"/>
            <a:ext cx="254160" cy="217440"/>
          </a:xfrm>
          <a:custGeom>
            <a:avLst/>
            <a:gdLst/>
            <a:ahLst/>
            <a:rect l="l" t="t" r="r" b="b"/>
            <a:pathLst>
              <a:path w="705" h="603">
                <a:moveTo>
                  <a:pt x="19505" y="9954"/>
                </a:moveTo>
                <a:cubicBezTo>
                  <a:pt x="19529" y="9960"/>
                  <a:pt x="19527" y="9992"/>
                  <a:pt x="19526" y="10026"/>
                </a:cubicBezTo>
                <a:cubicBezTo>
                  <a:pt x="19524" y="10075"/>
                  <a:pt x="19520" y="10126"/>
                  <a:pt x="19512" y="10175"/>
                </a:cubicBezTo>
                <a:cubicBezTo>
                  <a:pt x="19507" y="10204"/>
                  <a:pt x="19502" y="10243"/>
                  <a:pt x="19482" y="10267"/>
                </a:cubicBezTo>
                <a:cubicBezTo>
                  <a:pt x="19471" y="10280"/>
                  <a:pt x="19461" y="10279"/>
                  <a:pt x="19446" y="10279"/>
                </a:cubicBezTo>
                <a:cubicBezTo>
                  <a:pt x="19478" y="10269"/>
                  <a:pt x="19512" y="10266"/>
                  <a:pt x="19546" y="10262"/>
                </a:cubicBezTo>
                <a:cubicBezTo>
                  <a:pt x="19601" y="10255"/>
                  <a:pt x="19656" y="10249"/>
                  <a:pt x="19706" y="10225"/>
                </a:cubicBezTo>
                <a:cubicBezTo>
                  <a:pt x="19745" y="10206"/>
                  <a:pt x="19754" y="10195"/>
                  <a:pt x="19741" y="10157"/>
                </a:cubicBezTo>
              </a:path>
              <a:path w="705" h="603">
                <a:moveTo>
                  <a:pt x="19363" y="9921"/>
                </a:moveTo>
                <a:cubicBezTo>
                  <a:pt x="19346" y="9916"/>
                  <a:pt x="19343" y="9916"/>
                  <a:pt x="19334" y="9910"/>
                </a:cubicBezTo>
                <a:cubicBezTo>
                  <a:pt x="19358" y="9883"/>
                  <a:pt x="19392" y="9882"/>
                  <a:pt x="19432" y="9878"/>
                </a:cubicBezTo>
                <a:cubicBezTo>
                  <a:pt x="19488" y="9872"/>
                  <a:pt x="19540" y="9865"/>
                  <a:pt x="19597" y="9868"/>
                </a:cubicBezTo>
                <a:cubicBezTo>
                  <a:pt x="19631" y="9871"/>
                  <a:pt x="19641" y="9872"/>
                  <a:pt x="19663" y="9875"/>
                </a:cubicBezTo>
              </a:path>
              <a:path w="705" h="603">
                <a:moveTo>
                  <a:pt x="19863" y="10263"/>
                </a:moveTo>
                <a:cubicBezTo>
                  <a:pt x="19844" y="10234"/>
                  <a:pt x="19832" y="10211"/>
                  <a:pt x="19823" y="10174"/>
                </a:cubicBezTo>
                <a:cubicBezTo>
                  <a:pt x="19809" y="10115"/>
                  <a:pt x="19803" y="10056"/>
                  <a:pt x="19804" y="9995"/>
                </a:cubicBezTo>
                <a:cubicBezTo>
                  <a:pt x="19805" y="9925"/>
                  <a:pt x="19816" y="9855"/>
                  <a:pt x="19836" y="9788"/>
                </a:cubicBezTo>
                <a:cubicBezTo>
                  <a:pt x="19848" y="9747"/>
                  <a:pt x="19864" y="9698"/>
                  <a:pt x="19908" y="9682"/>
                </a:cubicBezTo>
                <a:cubicBezTo>
                  <a:pt x="19939" y="9671"/>
                  <a:pt x="19972" y="9698"/>
                  <a:pt x="19994" y="9718"/>
                </a:cubicBezTo>
                <a:cubicBezTo>
                  <a:pt x="20007" y="9733"/>
                  <a:pt x="20011" y="9737"/>
                  <a:pt x="20012" y="9750"/>
                </a:cubicBezTo>
              </a:path>
              <a:path w="705" h="603">
                <a:moveTo>
                  <a:pt x="19697" y="9911"/>
                </a:moveTo>
                <a:cubicBezTo>
                  <a:pt x="19690" y="9915"/>
                  <a:pt x="19683" y="9918"/>
                  <a:pt x="19676" y="9922"/>
                </a:cubicBezTo>
                <a:cubicBezTo>
                  <a:pt x="19724" y="9921"/>
                  <a:pt x="19771" y="9916"/>
                  <a:pt x="19819" y="9912"/>
                </a:cubicBezTo>
                <a:cubicBezTo>
                  <a:pt x="19892" y="9906"/>
                  <a:pt x="19965" y="9909"/>
                  <a:pt x="20038" y="991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316640" y="3460680"/>
            <a:ext cx="909720" cy="235080"/>
          </a:xfrm>
          <a:custGeom>
            <a:avLst/>
            <a:gdLst/>
            <a:ahLst/>
            <a:rect l="l" t="t" r="r" b="b"/>
            <a:pathLst>
              <a:path w="2525" h="651">
                <a:moveTo>
                  <a:pt x="20478" y="9924"/>
                </a:moveTo>
                <a:cubicBezTo>
                  <a:pt x="20485" y="9904"/>
                  <a:pt x="20489" y="9888"/>
                  <a:pt x="20493" y="9868"/>
                </a:cubicBezTo>
                <a:cubicBezTo>
                  <a:pt x="20496" y="9853"/>
                  <a:pt x="20497" y="9849"/>
                  <a:pt x="20498" y="9840"/>
                </a:cubicBezTo>
                <a:cubicBezTo>
                  <a:pt x="20468" y="9846"/>
                  <a:pt x="20455" y="9864"/>
                  <a:pt x="20434" y="9888"/>
                </a:cubicBezTo>
                <a:cubicBezTo>
                  <a:pt x="20378" y="9953"/>
                  <a:pt x="20330" y="10025"/>
                  <a:pt x="20324" y="10113"/>
                </a:cubicBezTo>
                <a:cubicBezTo>
                  <a:pt x="20321" y="10152"/>
                  <a:pt x="20336" y="10190"/>
                  <a:pt x="20381" y="10188"/>
                </a:cubicBezTo>
                <a:cubicBezTo>
                  <a:pt x="20426" y="10186"/>
                  <a:pt x="20469" y="10144"/>
                  <a:pt x="20492" y="10109"/>
                </a:cubicBezTo>
                <a:cubicBezTo>
                  <a:pt x="20522" y="10063"/>
                  <a:pt x="20545" y="9999"/>
                  <a:pt x="20546" y="9944"/>
                </a:cubicBezTo>
                <a:cubicBezTo>
                  <a:pt x="20546" y="9939"/>
                  <a:pt x="20545" y="9935"/>
                  <a:pt x="20545" y="9930"/>
                </a:cubicBezTo>
                <a:cubicBezTo>
                  <a:pt x="20525" y="9952"/>
                  <a:pt x="20527" y="9987"/>
                  <a:pt x="20527" y="10019"/>
                </a:cubicBezTo>
                <a:cubicBezTo>
                  <a:pt x="20528" y="10070"/>
                  <a:pt x="20535" y="10115"/>
                  <a:pt x="20560" y="10160"/>
                </a:cubicBezTo>
                <a:cubicBezTo>
                  <a:pt x="20573" y="10179"/>
                  <a:pt x="20577" y="10185"/>
                  <a:pt x="20590" y="10192"/>
                </a:cubicBezTo>
              </a:path>
              <a:path w="2525" h="651">
                <a:moveTo>
                  <a:pt x="20838" y="9868"/>
                </a:moveTo>
                <a:cubicBezTo>
                  <a:pt x="20817" y="9842"/>
                  <a:pt x="20795" y="9865"/>
                  <a:pt x="20775" y="9891"/>
                </a:cubicBezTo>
                <a:cubicBezTo>
                  <a:pt x="20743" y="9933"/>
                  <a:pt x="20718" y="9985"/>
                  <a:pt x="20713" y="10038"/>
                </a:cubicBezTo>
                <a:cubicBezTo>
                  <a:pt x="20709" y="10080"/>
                  <a:pt x="20723" y="10126"/>
                  <a:pt x="20770" y="10134"/>
                </a:cubicBezTo>
                <a:cubicBezTo>
                  <a:pt x="20810" y="10141"/>
                  <a:pt x="20855" y="10125"/>
                  <a:pt x="20883" y="10097"/>
                </a:cubicBezTo>
                <a:cubicBezTo>
                  <a:pt x="20898" y="10077"/>
                  <a:pt x="20903" y="10071"/>
                  <a:pt x="20902" y="10054"/>
                </a:cubicBezTo>
              </a:path>
              <a:path w="2525" h="651">
                <a:moveTo>
                  <a:pt x="20731" y="10012"/>
                </a:moveTo>
                <a:cubicBezTo>
                  <a:pt x="20720" y="10048"/>
                  <a:pt x="20764" y="10024"/>
                  <a:pt x="20790" y="10013"/>
                </a:cubicBezTo>
                <a:cubicBezTo>
                  <a:pt x="20833" y="9996"/>
                  <a:pt x="20877" y="9983"/>
                  <a:pt x="20922" y="9971"/>
                </a:cubicBezTo>
              </a:path>
              <a:path w="2525" h="651">
                <a:moveTo>
                  <a:pt x="21015" y="10083"/>
                </a:moveTo>
                <a:cubicBezTo>
                  <a:pt x="21013" y="10041"/>
                  <a:pt x="21026" y="10010"/>
                  <a:pt x="21042" y="9971"/>
                </a:cubicBezTo>
                <a:cubicBezTo>
                  <a:pt x="21064" y="9915"/>
                  <a:pt x="21092" y="9860"/>
                  <a:pt x="21121" y="9807"/>
                </a:cubicBezTo>
                <a:cubicBezTo>
                  <a:pt x="21136" y="9779"/>
                  <a:pt x="21151" y="9759"/>
                  <a:pt x="21172" y="9737"/>
                </a:cubicBezTo>
                <a:cubicBezTo>
                  <a:pt x="21207" y="9742"/>
                  <a:pt x="21206" y="9767"/>
                  <a:pt x="21213" y="9801"/>
                </a:cubicBezTo>
                <a:cubicBezTo>
                  <a:pt x="21226" y="9862"/>
                  <a:pt x="21242" y="9921"/>
                  <a:pt x="21259" y="9981"/>
                </a:cubicBezTo>
                <a:cubicBezTo>
                  <a:pt x="21271" y="10025"/>
                  <a:pt x="21285" y="10062"/>
                  <a:pt x="21302" y="10103"/>
                </a:cubicBezTo>
              </a:path>
              <a:path w="2525" h="651">
                <a:moveTo>
                  <a:pt x="21085" y="9880"/>
                </a:moveTo>
                <a:cubicBezTo>
                  <a:pt x="21092" y="9908"/>
                  <a:pt x="21134" y="9899"/>
                  <a:pt x="21169" y="9904"/>
                </a:cubicBezTo>
                <a:cubicBezTo>
                  <a:pt x="21213" y="9910"/>
                  <a:pt x="21257" y="9913"/>
                  <a:pt x="21300" y="9926"/>
                </a:cubicBezTo>
                <a:cubicBezTo>
                  <a:pt x="21323" y="9934"/>
                  <a:pt x="21329" y="9937"/>
                  <a:pt x="21342" y="9946"/>
                </a:cubicBezTo>
              </a:path>
              <a:path w="2525" h="651">
                <a:moveTo>
                  <a:pt x="21690" y="9984"/>
                </a:moveTo>
                <a:cubicBezTo>
                  <a:pt x="21696" y="10014"/>
                  <a:pt x="21696" y="10046"/>
                  <a:pt x="21685" y="10076"/>
                </a:cubicBezTo>
                <a:cubicBezTo>
                  <a:pt x="21668" y="10123"/>
                  <a:pt x="21646" y="10167"/>
                  <a:pt x="21626" y="10213"/>
                </a:cubicBezTo>
                <a:cubicBezTo>
                  <a:pt x="21616" y="10235"/>
                  <a:pt x="21596" y="10299"/>
                  <a:pt x="21600" y="10234"/>
                </a:cubicBezTo>
              </a:path>
              <a:path w="2525" h="651">
                <a:moveTo>
                  <a:pt x="22055" y="9626"/>
                </a:moveTo>
                <a:cubicBezTo>
                  <a:pt x="22058" y="9622"/>
                  <a:pt x="22062" y="9617"/>
                  <a:pt x="22065" y="9613"/>
                </a:cubicBezTo>
                <a:cubicBezTo>
                  <a:pt x="22062" y="9646"/>
                  <a:pt x="22058" y="9681"/>
                  <a:pt x="22054" y="9714"/>
                </a:cubicBezTo>
                <a:cubicBezTo>
                  <a:pt x="22046" y="9787"/>
                  <a:pt x="22044" y="9861"/>
                  <a:pt x="22046" y="9934"/>
                </a:cubicBezTo>
                <a:cubicBezTo>
                  <a:pt x="22047" y="9975"/>
                  <a:pt x="22053" y="10010"/>
                  <a:pt x="22044" y="10051"/>
                </a:cubicBezTo>
              </a:path>
              <a:path w="2525" h="651">
                <a:moveTo>
                  <a:pt x="21869" y="9813"/>
                </a:moveTo>
                <a:cubicBezTo>
                  <a:pt x="21904" y="9802"/>
                  <a:pt x="21942" y="9803"/>
                  <a:pt x="21979" y="9797"/>
                </a:cubicBezTo>
                <a:cubicBezTo>
                  <a:pt x="22044" y="9786"/>
                  <a:pt x="22106" y="9769"/>
                  <a:pt x="22167" y="9745"/>
                </a:cubicBezTo>
                <a:cubicBezTo>
                  <a:pt x="22181" y="9739"/>
                  <a:pt x="22196" y="9734"/>
                  <a:pt x="22210" y="9728"/>
                </a:cubicBezTo>
              </a:path>
              <a:path w="2525" h="651">
                <a:moveTo>
                  <a:pt x="22247" y="9788"/>
                </a:moveTo>
                <a:cubicBezTo>
                  <a:pt x="22238" y="9864"/>
                  <a:pt x="22233" y="9938"/>
                  <a:pt x="22226" y="10014"/>
                </a:cubicBezTo>
                <a:cubicBezTo>
                  <a:pt x="22223" y="10048"/>
                  <a:pt x="22221" y="10079"/>
                  <a:pt x="22221" y="10113"/>
                </a:cubicBezTo>
                <a:cubicBezTo>
                  <a:pt x="22246" y="10099"/>
                  <a:pt x="22249" y="10061"/>
                  <a:pt x="22261" y="10033"/>
                </a:cubicBezTo>
                <a:cubicBezTo>
                  <a:pt x="22276" y="9996"/>
                  <a:pt x="22289" y="9969"/>
                  <a:pt x="22319" y="9944"/>
                </a:cubicBezTo>
                <a:cubicBezTo>
                  <a:pt x="22350" y="9953"/>
                  <a:pt x="22352" y="9975"/>
                  <a:pt x="22364" y="10005"/>
                </a:cubicBezTo>
                <a:cubicBezTo>
                  <a:pt x="22374" y="10031"/>
                  <a:pt x="22382" y="10078"/>
                  <a:pt x="22404" y="10097"/>
                </a:cubicBezTo>
                <a:cubicBezTo>
                  <a:pt x="22416" y="10099"/>
                  <a:pt x="22421" y="10099"/>
                  <a:pt x="22429" y="10094"/>
                </a:cubicBezTo>
              </a:path>
              <a:path w="2525" h="651">
                <a:moveTo>
                  <a:pt x="22536" y="9955"/>
                </a:moveTo>
                <a:cubicBezTo>
                  <a:pt x="22552" y="9942"/>
                  <a:pt x="22566" y="9928"/>
                  <a:pt x="22566" y="9905"/>
                </a:cubicBezTo>
                <a:cubicBezTo>
                  <a:pt x="22565" y="9900"/>
                  <a:pt x="22564" y="9895"/>
                  <a:pt x="22563" y="9890"/>
                </a:cubicBezTo>
                <a:cubicBezTo>
                  <a:pt x="22540" y="9893"/>
                  <a:pt x="22532" y="9909"/>
                  <a:pt x="22519" y="9929"/>
                </a:cubicBezTo>
                <a:cubicBezTo>
                  <a:pt x="22495" y="9964"/>
                  <a:pt x="22475" y="10010"/>
                  <a:pt x="22473" y="10053"/>
                </a:cubicBezTo>
                <a:cubicBezTo>
                  <a:pt x="22472" y="10077"/>
                  <a:pt x="22494" y="10092"/>
                  <a:pt x="22518" y="10085"/>
                </a:cubicBezTo>
                <a:cubicBezTo>
                  <a:pt x="22549" y="10076"/>
                  <a:pt x="22583" y="10050"/>
                  <a:pt x="22605" y="10027"/>
                </a:cubicBezTo>
                <a:cubicBezTo>
                  <a:pt x="22620" y="10011"/>
                  <a:pt x="22633" y="9996"/>
                  <a:pt x="22643" y="9978"/>
                </a:cubicBezTo>
                <a:cubicBezTo>
                  <a:pt x="22650" y="9998"/>
                  <a:pt x="22639" y="10015"/>
                  <a:pt x="22641" y="10037"/>
                </a:cubicBezTo>
                <a:cubicBezTo>
                  <a:pt x="22642" y="10052"/>
                  <a:pt x="22648" y="10067"/>
                  <a:pt x="22654" y="10080"/>
                </a:cubicBezTo>
                <a:cubicBezTo>
                  <a:pt x="22683" y="10068"/>
                  <a:pt x="22691" y="10043"/>
                  <a:pt x="22709" y="10016"/>
                </a:cubicBezTo>
                <a:cubicBezTo>
                  <a:pt x="22731" y="9983"/>
                  <a:pt x="22755" y="9943"/>
                  <a:pt x="22786" y="9917"/>
                </a:cubicBezTo>
                <a:cubicBezTo>
                  <a:pt x="22801" y="9908"/>
                  <a:pt x="22805" y="9905"/>
                  <a:pt x="22816" y="9905"/>
                </a:cubicBezTo>
                <a:cubicBezTo>
                  <a:pt x="22836" y="9932"/>
                  <a:pt x="22838" y="9953"/>
                  <a:pt x="22840" y="9987"/>
                </a:cubicBezTo>
                <a:cubicBezTo>
                  <a:pt x="22842" y="10021"/>
                  <a:pt x="22837" y="10060"/>
                  <a:pt x="22843" y="10093"/>
                </a:cubicBezTo>
                <a:cubicBezTo>
                  <a:pt x="22845" y="10097"/>
                  <a:pt x="22846" y="10101"/>
                  <a:pt x="22848" y="1010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8332920" y="3452760"/>
            <a:ext cx="631800" cy="204840"/>
          </a:xfrm>
          <a:custGeom>
            <a:avLst/>
            <a:gdLst/>
            <a:ahLst/>
            <a:rect l="l" t="t" r="r" b="b"/>
            <a:pathLst>
              <a:path w="1754" h="569">
                <a:moveTo>
                  <a:pt x="23202" y="9735"/>
                </a:moveTo>
                <a:cubicBezTo>
                  <a:pt x="23180" y="9725"/>
                  <a:pt x="23164" y="9719"/>
                  <a:pt x="23148" y="9702"/>
                </a:cubicBezTo>
                <a:cubicBezTo>
                  <a:pt x="23180" y="9670"/>
                  <a:pt x="23209" y="9658"/>
                  <a:pt x="23256" y="9651"/>
                </a:cubicBezTo>
                <a:cubicBezTo>
                  <a:pt x="23298" y="9644"/>
                  <a:pt x="23349" y="9657"/>
                  <a:pt x="23363" y="9704"/>
                </a:cubicBezTo>
                <a:cubicBezTo>
                  <a:pt x="23379" y="9758"/>
                  <a:pt x="23330" y="9829"/>
                  <a:pt x="23302" y="9870"/>
                </a:cubicBezTo>
                <a:cubicBezTo>
                  <a:pt x="23275" y="9910"/>
                  <a:pt x="23241" y="9944"/>
                  <a:pt x="23210" y="9980"/>
                </a:cubicBezTo>
                <a:cubicBezTo>
                  <a:pt x="23249" y="9964"/>
                  <a:pt x="23288" y="9944"/>
                  <a:pt x="23328" y="9931"/>
                </a:cubicBezTo>
                <a:cubicBezTo>
                  <a:pt x="23370" y="9917"/>
                  <a:pt x="23408" y="9917"/>
                  <a:pt x="23446" y="9942"/>
                </a:cubicBezTo>
                <a:cubicBezTo>
                  <a:pt x="23481" y="9965"/>
                  <a:pt x="23487" y="10009"/>
                  <a:pt x="23481" y="10048"/>
                </a:cubicBezTo>
                <a:cubicBezTo>
                  <a:pt x="23474" y="10094"/>
                  <a:pt x="23447" y="10120"/>
                  <a:pt x="23406" y="10135"/>
                </a:cubicBezTo>
                <a:cubicBezTo>
                  <a:pt x="23376" y="10146"/>
                  <a:pt x="23327" y="10141"/>
                  <a:pt x="23325" y="10100"/>
                </a:cubicBezTo>
                <a:cubicBezTo>
                  <a:pt x="23330" y="10069"/>
                  <a:pt x="23333" y="10057"/>
                  <a:pt x="23344" y="10038"/>
                </a:cubicBezTo>
              </a:path>
              <a:path w="1754" h="569">
                <a:moveTo>
                  <a:pt x="23634" y="9860"/>
                </a:moveTo>
                <a:cubicBezTo>
                  <a:pt x="23634" y="9896"/>
                  <a:pt x="23632" y="9936"/>
                  <a:pt x="23635" y="9971"/>
                </a:cubicBezTo>
                <a:cubicBezTo>
                  <a:pt x="23640" y="10023"/>
                  <a:pt x="23645" y="10077"/>
                  <a:pt x="23659" y="10127"/>
                </a:cubicBezTo>
                <a:cubicBezTo>
                  <a:pt x="23666" y="10145"/>
                  <a:pt x="23668" y="10148"/>
                  <a:pt x="23668" y="10160"/>
                </a:cubicBezTo>
              </a:path>
              <a:path w="1754" h="569">
                <a:moveTo>
                  <a:pt x="23567" y="9924"/>
                </a:moveTo>
                <a:cubicBezTo>
                  <a:pt x="23586" y="9914"/>
                  <a:pt x="23615" y="9900"/>
                  <a:pt x="23638" y="9896"/>
                </a:cubicBezTo>
                <a:cubicBezTo>
                  <a:pt x="23664" y="9891"/>
                  <a:pt x="23691" y="9890"/>
                  <a:pt x="23717" y="9885"/>
                </a:cubicBezTo>
                <a:cubicBezTo>
                  <a:pt x="23721" y="9884"/>
                  <a:pt x="23726" y="9884"/>
                  <a:pt x="23730" y="9883"/>
                </a:cubicBezTo>
              </a:path>
              <a:path w="1754" h="569">
                <a:moveTo>
                  <a:pt x="23955" y="9865"/>
                </a:moveTo>
                <a:cubicBezTo>
                  <a:pt x="23953" y="9852"/>
                  <a:pt x="23951" y="9840"/>
                  <a:pt x="23949" y="9827"/>
                </a:cubicBezTo>
                <a:cubicBezTo>
                  <a:pt x="23925" y="9828"/>
                  <a:pt x="23914" y="9843"/>
                  <a:pt x="23897" y="9863"/>
                </a:cubicBezTo>
                <a:cubicBezTo>
                  <a:pt x="23874" y="9891"/>
                  <a:pt x="23855" y="9924"/>
                  <a:pt x="23846" y="9960"/>
                </a:cubicBezTo>
                <a:cubicBezTo>
                  <a:pt x="23832" y="10013"/>
                  <a:pt x="23918" y="9959"/>
                  <a:pt x="23961" y="9926"/>
                </a:cubicBezTo>
                <a:cubicBezTo>
                  <a:pt x="23988" y="9986"/>
                  <a:pt x="23997" y="10000"/>
                  <a:pt x="24000" y="10041"/>
                </a:cubicBezTo>
              </a:path>
              <a:path w="1754" h="569">
                <a:moveTo>
                  <a:pt x="24251" y="9813"/>
                </a:moveTo>
                <a:cubicBezTo>
                  <a:pt x="24257" y="9795"/>
                  <a:pt x="24263" y="9776"/>
                  <a:pt x="24269" y="9758"/>
                </a:cubicBezTo>
                <a:cubicBezTo>
                  <a:pt x="24206" y="9769"/>
                  <a:pt x="24068" y="9837"/>
                  <a:pt x="24094" y="9942"/>
                </a:cubicBezTo>
                <a:cubicBezTo>
                  <a:pt x="24115" y="10026"/>
                  <a:pt x="24250" y="9983"/>
                  <a:pt x="24303" y="9972"/>
                </a:cubicBezTo>
              </a:path>
              <a:path w="1754" h="569">
                <a:moveTo>
                  <a:pt x="24452" y="10080"/>
                </a:moveTo>
                <a:cubicBezTo>
                  <a:pt x="24482" y="9992"/>
                  <a:pt x="24509" y="9914"/>
                  <a:pt x="24560" y="9835"/>
                </a:cubicBezTo>
                <a:cubicBezTo>
                  <a:pt x="24606" y="9763"/>
                  <a:pt x="24663" y="9675"/>
                  <a:pt x="24730" y="9622"/>
                </a:cubicBezTo>
                <a:cubicBezTo>
                  <a:pt x="24749" y="9612"/>
                  <a:pt x="24767" y="9602"/>
                  <a:pt x="24786" y="9592"/>
                </a:cubicBezTo>
                <a:cubicBezTo>
                  <a:pt x="24812" y="9683"/>
                  <a:pt x="24811" y="9758"/>
                  <a:pt x="24812" y="9852"/>
                </a:cubicBezTo>
                <a:cubicBezTo>
                  <a:pt x="24813" y="9950"/>
                  <a:pt x="24844" y="10022"/>
                  <a:pt x="24887" y="10109"/>
                </a:cubicBezTo>
              </a:path>
              <a:path w="1754" h="569">
                <a:moveTo>
                  <a:pt x="24465" y="9906"/>
                </a:moveTo>
                <a:cubicBezTo>
                  <a:pt x="24538" y="9853"/>
                  <a:pt x="24579" y="9841"/>
                  <a:pt x="24671" y="9834"/>
                </a:cubicBezTo>
                <a:cubicBezTo>
                  <a:pt x="24753" y="9827"/>
                  <a:pt x="24821" y="9831"/>
                  <a:pt x="24901" y="984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5931000" y="3708360"/>
            <a:ext cx="720720" cy="209520"/>
          </a:xfrm>
          <a:custGeom>
            <a:avLst/>
            <a:gdLst/>
            <a:ahLst/>
            <a:rect l="l" t="t" r="r" b="b"/>
            <a:pathLst>
              <a:path w="2002" h="579">
                <a:moveTo>
                  <a:pt x="16671" y="10344"/>
                </a:moveTo>
                <a:cubicBezTo>
                  <a:pt x="16665" y="10333"/>
                  <a:pt x="16653" y="10300"/>
                  <a:pt x="16634" y="10303"/>
                </a:cubicBezTo>
                <a:cubicBezTo>
                  <a:pt x="16598" y="10310"/>
                  <a:pt x="16574" y="10348"/>
                  <a:pt x="16552" y="10372"/>
                </a:cubicBezTo>
                <a:cubicBezTo>
                  <a:pt x="16527" y="10399"/>
                  <a:pt x="16503" y="10426"/>
                  <a:pt x="16484" y="10458"/>
                </a:cubicBezTo>
                <a:cubicBezTo>
                  <a:pt x="16477" y="10471"/>
                  <a:pt x="16474" y="10473"/>
                  <a:pt x="16477" y="10482"/>
                </a:cubicBezTo>
                <a:cubicBezTo>
                  <a:pt x="16506" y="10485"/>
                  <a:pt x="16534" y="10480"/>
                  <a:pt x="16564" y="10481"/>
                </a:cubicBezTo>
                <a:cubicBezTo>
                  <a:pt x="16590" y="10482"/>
                  <a:pt x="16627" y="10485"/>
                  <a:pt x="16636" y="10516"/>
                </a:cubicBezTo>
                <a:cubicBezTo>
                  <a:pt x="16645" y="10546"/>
                  <a:pt x="16623" y="10583"/>
                  <a:pt x="16607" y="10607"/>
                </a:cubicBezTo>
                <a:cubicBezTo>
                  <a:pt x="16593" y="10628"/>
                  <a:pt x="16570" y="10643"/>
                  <a:pt x="16556" y="10665"/>
                </a:cubicBezTo>
                <a:cubicBezTo>
                  <a:pt x="16547" y="10680"/>
                  <a:pt x="16554" y="10697"/>
                  <a:pt x="16559" y="10712"/>
                </a:cubicBezTo>
                <a:cubicBezTo>
                  <a:pt x="16566" y="10735"/>
                  <a:pt x="16574" y="10746"/>
                  <a:pt x="16593" y="10761"/>
                </a:cubicBezTo>
                <a:cubicBezTo>
                  <a:pt x="16612" y="10776"/>
                  <a:pt x="16628" y="10773"/>
                  <a:pt x="16648" y="10781"/>
                </a:cubicBezTo>
                <a:cubicBezTo>
                  <a:pt x="16663" y="10787"/>
                  <a:pt x="16667" y="10783"/>
                  <a:pt x="16685" y="10778"/>
                </a:cubicBezTo>
              </a:path>
              <a:path w="2002" h="579">
                <a:moveTo>
                  <a:pt x="16882" y="10449"/>
                </a:moveTo>
                <a:cubicBezTo>
                  <a:pt x="16876" y="10432"/>
                  <a:pt x="16865" y="10406"/>
                  <a:pt x="16873" y="10387"/>
                </a:cubicBezTo>
                <a:cubicBezTo>
                  <a:pt x="16882" y="10366"/>
                  <a:pt x="16904" y="10346"/>
                  <a:pt x="16925" y="10338"/>
                </a:cubicBezTo>
                <a:cubicBezTo>
                  <a:pt x="16951" y="10328"/>
                  <a:pt x="16981" y="10329"/>
                  <a:pt x="16994" y="10357"/>
                </a:cubicBezTo>
                <a:cubicBezTo>
                  <a:pt x="17011" y="10393"/>
                  <a:pt x="16994" y="10434"/>
                  <a:pt x="16977" y="10467"/>
                </a:cubicBezTo>
                <a:cubicBezTo>
                  <a:pt x="16962" y="10496"/>
                  <a:pt x="16940" y="10520"/>
                  <a:pt x="16917" y="10543"/>
                </a:cubicBezTo>
                <a:cubicBezTo>
                  <a:pt x="16940" y="10547"/>
                  <a:pt x="16962" y="10546"/>
                  <a:pt x="16984" y="10557"/>
                </a:cubicBezTo>
                <a:cubicBezTo>
                  <a:pt x="17014" y="10572"/>
                  <a:pt x="17037" y="10599"/>
                  <a:pt x="17041" y="10633"/>
                </a:cubicBezTo>
                <a:cubicBezTo>
                  <a:pt x="17045" y="10666"/>
                  <a:pt x="17031" y="10700"/>
                  <a:pt x="17004" y="10721"/>
                </a:cubicBezTo>
                <a:cubicBezTo>
                  <a:pt x="16984" y="10737"/>
                  <a:pt x="16951" y="10748"/>
                  <a:pt x="16927" y="10739"/>
                </a:cubicBezTo>
                <a:cubicBezTo>
                  <a:pt x="16902" y="10729"/>
                  <a:pt x="16928" y="10712"/>
                  <a:pt x="16936" y="10703"/>
                </a:cubicBezTo>
              </a:path>
              <a:path w="2002" h="579">
                <a:moveTo>
                  <a:pt x="17261" y="10679"/>
                </a:moveTo>
                <a:cubicBezTo>
                  <a:pt x="17285" y="10701"/>
                  <a:pt x="17276" y="10697"/>
                  <a:pt x="17266" y="10721"/>
                </a:cubicBezTo>
                <a:cubicBezTo>
                  <a:pt x="17257" y="10742"/>
                  <a:pt x="17249" y="10761"/>
                  <a:pt x="17233" y="10779"/>
                </a:cubicBezTo>
                <a:cubicBezTo>
                  <a:pt x="17230" y="10782"/>
                  <a:pt x="17227" y="10784"/>
                  <a:pt x="17224" y="10787"/>
                </a:cubicBezTo>
              </a:path>
              <a:path w="2002" h="579">
                <a:moveTo>
                  <a:pt x="17626" y="10408"/>
                </a:moveTo>
                <a:cubicBezTo>
                  <a:pt x="17631" y="10387"/>
                  <a:pt x="17636" y="10387"/>
                  <a:pt x="17619" y="10379"/>
                </a:cubicBezTo>
                <a:cubicBezTo>
                  <a:pt x="17584" y="10400"/>
                  <a:pt x="17556" y="10433"/>
                  <a:pt x="17527" y="10465"/>
                </a:cubicBezTo>
                <a:cubicBezTo>
                  <a:pt x="17494" y="10502"/>
                  <a:pt x="17458" y="10547"/>
                  <a:pt x="17453" y="10599"/>
                </a:cubicBezTo>
                <a:cubicBezTo>
                  <a:pt x="17449" y="10648"/>
                  <a:pt x="17502" y="10657"/>
                  <a:pt x="17539" y="10660"/>
                </a:cubicBezTo>
                <a:cubicBezTo>
                  <a:pt x="17608" y="10666"/>
                  <a:pt x="17683" y="10648"/>
                  <a:pt x="17746" y="10620"/>
                </a:cubicBezTo>
                <a:cubicBezTo>
                  <a:pt x="17777" y="10606"/>
                  <a:pt x="17768" y="10604"/>
                  <a:pt x="17781" y="10587"/>
                </a:cubicBezTo>
                <a:cubicBezTo>
                  <a:pt x="17738" y="10578"/>
                  <a:pt x="17698" y="10586"/>
                  <a:pt x="17655" y="10590"/>
                </a:cubicBezTo>
                <a:cubicBezTo>
                  <a:pt x="17633" y="10592"/>
                  <a:pt x="17598" y="10594"/>
                  <a:pt x="17595" y="10622"/>
                </a:cubicBezTo>
                <a:cubicBezTo>
                  <a:pt x="17598" y="10623"/>
                  <a:pt x="17601" y="10624"/>
                  <a:pt x="17604" y="10625"/>
                </a:cubicBezTo>
              </a:path>
              <a:path w="2002" h="579">
                <a:moveTo>
                  <a:pt x="17850" y="10681"/>
                </a:moveTo>
                <a:cubicBezTo>
                  <a:pt x="17868" y="10692"/>
                  <a:pt x="17889" y="10706"/>
                  <a:pt x="17884" y="10732"/>
                </a:cubicBezTo>
                <a:cubicBezTo>
                  <a:pt x="17878" y="10762"/>
                  <a:pt x="17857" y="10786"/>
                  <a:pt x="17844" y="10812"/>
                </a:cubicBezTo>
                <a:cubicBezTo>
                  <a:pt x="17833" y="10835"/>
                  <a:pt x="17840" y="10838"/>
                  <a:pt x="17819" y="10846"/>
                </a:cubicBezTo>
              </a:path>
              <a:path w="2002" h="579">
                <a:moveTo>
                  <a:pt x="18246" y="10434"/>
                </a:moveTo>
                <a:cubicBezTo>
                  <a:pt x="18223" y="10436"/>
                  <a:pt x="18199" y="10449"/>
                  <a:pt x="18181" y="10464"/>
                </a:cubicBezTo>
                <a:cubicBezTo>
                  <a:pt x="18150" y="10490"/>
                  <a:pt x="18118" y="10521"/>
                  <a:pt x="18094" y="10555"/>
                </a:cubicBezTo>
                <a:cubicBezTo>
                  <a:pt x="18079" y="10576"/>
                  <a:pt x="18076" y="10582"/>
                  <a:pt x="18082" y="10603"/>
                </a:cubicBezTo>
                <a:cubicBezTo>
                  <a:pt x="18119" y="10604"/>
                  <a:pt x="18148" y="10593"/>
                  <a:pt x="18181" y="10575"/>
                </a:cubicBezTo>
                <a:cubicBezTo>
                  <a:pt x="18219" y="10554"/>
                  <a:pt x="18254" y="10528"/>
                  <a:pt x="18291" y="10505"/>
                </a:cubicBezTo>
                <a:cubicBezTo>
                  <a:pt x="18302" y="10499"/>
                  <a:pt x="18304" y="10497"/>
                  <a:pt x="18312" y="10497"/>
                </a:cubicBezTo>
                <a:cubicBezTo>
                  <a:pt x="18311" y="10529"/>
                  <a:pt x="18302" y="10558"/>
                  <a:pt x="18297" y="10590"/>
                </a:cubicBezTo>
                <a:cubicBezTo>
                  <a:pt x="18290" y="10632"/>
                  <a:pt x="18290" y="10669"/>
                  <a:pt x="18298" y="10710"/>
                </a:cubicBezTo>
                <a:cubicBezTo>
                  <a:pt x="18305" y="10744"/>
                  <a:pt x="18325" y="10759"/>
                  <a:pt x="18353" y="10777"/>
                </a:cubicBezTo>
              </a:path>
              <a:path w="2002" h="579">
                <a:moveTo>
                  <a:pt x="18477" y="10805"/>
                </a:moveTo>
                <a:cubicBezTo>
                  <a:pt x="18470" y="10822"/>
                  <a:pt x="18465" y="10835"/>
                  <a:pt x="18459" y="10852"/>
                </a:cubicBezTo>
                <a:cubicBezTo>
                  <a:pt x="18453" y="10866"/>
                  <a:pt x="18451" y="10870"/>
                  <a:pt x="18453" y="1088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6738840" y="3774960"/>
            <a:ext cx="452520" cy="163800"/>
          </a:xfrm>
          <a:custGeom>
            <a:avLst/>
            <a:gdLst/>
            <a:ahLst/>
            <a:rect l="l" t="t" r="r" b="b"/>
            <a:pathLst>
              <a:path w="1259" h="453">
                <a:moveTo>
                  <a:pt x="18765" y="10527"/>
                </a:moveTo>
                <a:cubicBezTo>
                  <a:pt x="18755" y="10557"/>
                  <a:pt x="18745" y="10584"/>
                  <a:pt x="18735" y="10613"/>
                </a:cubicBezTo>
                <a:cubicBezTo>
                  <a:pt x="18724" y="10647"/>
                  <a:pt x="18711" y="10686"/>
                  <a:pt x="18719" y="10723"/>
                </a:cubicBezTo>
                <a:cubicBezTo>
                  <a:pt x="18726" y="10754"/>
                  <a:pt x="18744" y="10760"/>
                  <a:pt x="18770" y="10767"/>
                </a:cubicBezTo>
              </a:path>
              <a:path w="1259" h="453">
                <a:moveTo>
                  <a:pt x="18947" y="10538"/>
                </a:moveTo>
                <a:cubicBezTo>
                  <a:pt x="18974" y="10518"/>
                  <a:pt x="19017" y="10485"/>
                  <a:pt x="19054" y="10488"/>
                </a:cubicBezTo>
                <a:cubicBezTo>
                  <a:pt x="19094" y="10491"/>
                  <a:pt x="19104" y="10526"/>
                  <a:pt x="19095" y="10559"/>
                </a:cubicBezTo>
                <a:cubicBezTo>
                  <a:pt x="19082" y="10606"/>
                  <a:pt x="19045" y="10644"/>
                  <a:pt x="19016" y="10681"/>
                </a:cubicBezTo>
                <a:cubicBezTo>
                  <a:pt x="19002" y="10699"/>
                  <a:pt x="18989" y="10716"/>
                  <a:pt x="18979" y="10736"/>
                </a:cubicBezTo>
                <a:cubicBezTo>
                  <a:pt x="19019" y="10745"/>
                  <a:pt x="19058" y="10746"/>
                  <a:pt x="19099" y="10738"/>
                </a:cubicBezTo>
                <a:cubicBezTo>
                  <a:pt x="19142" y="10729"/>
                  <a:pt x="19187" y="10719"/>
                  <a:pt x="19229" y="10706"/>
                </a:cubicBezTo>
                <a:cubicBezTo>
                  <a:pt x="19238" y="10703"/>
                  <a:pt x="19246" y="10700"/>
                  <a:pt x="19255" y="10697"/>
                </a:cubicBezTo>
              </a:path>
              <a:path w="1259" h="453">
                <a:moveTo>
                  <a:pt x="19349" y="10759"/>
                </a:moveTo>
                <a:cubicBezTo>
                  <a:pt x="19337" y="10781"/>
                  <a:pt x="19332" y="10803"/>
                  <a:pt x="19322" y="10824"/>
                </a:cubicBezTo>
                <a:cubicBezTo>
                  <a:pt x="19309" y="10852"/>
                  <a:pt x="19293" y="10881"/>
                  <a:pt x="19286" y="10913"/>
                </a:cubicBezTo>
                <a:cubicBezTo>
                  <a:pt x="19285" y="10927"/>
                  <a:pt x="19285" y="10931"/>
                  <a:pt x="19286" y="10940"/>
                </a:cubicBezTo>
              </a:path>
              <a:path w="1259" h="453">
                <a:moveTo>
                  <a:pt x="19546" y="10769"/>
                </a:moveTo>
                <a:cubicBezTo>
                  <a:pt x="19551" y="10754"/>
                  <a:pt x="19551" y="10740"/>
                  <a:pt x="19565" y="10732"/>
                </a:cubicBezTo>
                <a:cubicBezTo>
                  <a:pt x="19592" y="10716"/>
                  <a:pt x="19617" y="10723"/>
                  <a:pt x="19647" y="10728"/>
                </a:cubicBezTo>
                <a:cubicBezTo>
                  <a:pt x="19669" y="10733"/>
                  <a:pt x="19675" y="10734"/>
                  <a:pt x="19689" y="10738"/>
                </a:cubicBezTo>
              </a:path>
              <a:path w="1259" h="453">
                <a:moveTo>
                  <a:pt x="19728" y="10789"/>
                </a:moveTo>
                <a:cubicBezTo>
                  <a:pt x="19752" y="10775"/>
                  <a:pt x="19756" y="10770"/>
                  <a:pt x="19782" y="10768"/>
                </a:cubicBezTo>
                <a:cubicBezTo>
                  <a:pt x="19795" y="10765"/>
                  <a:pt x="19802" y="10766"/>
                  <a:pt x="19811" y="10773"/>
                </a:cubicBezTo>
              </a:path>
              <a:path w="1259" h="453">
                <a:moveTo>
                  <a:pt x="19872" y="10829"/>
                </a:moveTo>
                <a:cubicBezTo>
                  <a:pt x="19886" y="10815"/>
                  <a:pt x="19899" y="10797"/>
                  <a:pt x="19920" y="10793"/>
                </a:cubicBezTo>
                <a:cubicBezTo>
                  <a:pt x="19939" y="10790"/>
                  <a:pt x="19957" y="10792"/>
                  <a:pt x="19976" y="1079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7380360" y="3768840"/>
            <a:ext cx="79200" cy="137880"/>
          </a:xfrm>
          <a:custGeom>
            <a:avLst/>
            <a:gdLst/>
            <a:ahLst/>
            <a:rect l="l" t="t" r="r" b="b"/>
            <a:pathLst>
              <a:path w="220" h="383">
                <a:moveTo>
                  <a:pt x="20503" y="10510"/>
                </a:moveTo>
                <a:cubicBezTo>
                  <a:pt x="20512" y="10490"/>
                  <a:pt x="20524" y="10481"/>
                  <a:pt x="20546" y="10476"/>
                </a:cubicBezTo>
                <a:cubicBezTo>
                  <a:pt x="20572" y="10469"/>
                  <a:pt x="20605" y="10466"/>
                  <a:pt x="20632" y="10469"/>
                </a:cubicBezTo>
                <a:cubicBezTo>
                  <a:pt x="20650" y="10471"/>
                  <a:pt x="20678" y="10476"/>
                  <a:pt x="20673" y="10501"/>
                </a:cubicBezTo>
                <a:cubicBezTo>
                  <a:pt x="20668" y="10525"/>
                  <a:pt x="20641" y="10542"/>
                  <a:pt x="20623" y="10555"/>
                </a:cubicBezTo>
                <a:cubicBezTo>
                  <a:pt x="20607" y="10566"/>
                  <a:pt x="20600" y="10569"/>
                  <a:pt x="20589" y="10584"/>
                </a:cubicBezTo>
                <a:cubicBezTo>
                  <a:pt x="20607" y="10588"/>
                  <a:pt x="20623" y="10594"/>
                  <a:pt x="20639" y="10602"/>
                </a:cubicBezTo>
                <a:cubicBezTo>
                  <a:pt x="20659" y="10612"/>
                  <a:pt x="20677" y="10629"/>
                  <a:pt x="20687" y="10650"/>
                </a:cubicBezTo>
                <a:cubicBezTo>
                  <a:pt x="20694" y="10666"/>
                  <a:pt x="20695" y="10685"/>
                  <a:pt x="20699" y="10702"/>
                </a:cubicBezTo>
                <a:cubicBezTo>
                  <a:pt x="20703" y="10718"/>
                  <a:pt x="20723" y="10733"/>
                  <a:pt x="20722" y="10750"/>
                </a:cubicBezTo>
                <a:cubicBezTo>
                  <a:pt x="20721" y="10767"/>
                  <a:pt x="20691" y="10786"/>
                  <a:pt x="20680" y="10795"/>
                </a:cubicBezTo>
                <a:cubicBezTo>
                  <a:pt x="20659" y="10812"/>
                  <a:pt x="20631" y="10827"/>
                  <a:pt x="20622" y="1085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933480" y="4756320"/>
            <a:ext cx="479520" cy="447480"/>
          </a:xfrm>
          <a:custGeom>
            <a:avLst/>
            <a:gdLst/>
            <a:ahLst/>
            <a:rect l="l" t="t" r="r" b="b"/>
            <a:pathLst>
              <a:path w="1330" h="1244">
                <a:moveTo>
                  <a:pt x="2979" y="13297"/>
                </a:moveTo>
                <a:cubicBezTo>
                  <a:pt x="2977" y="13279"/>
                  <a:pt x="2978" y="13268"/>
                  <a:pt x="2966" y="13253"/>
                </a:cubicBezTo>
                <a:cubicBezTo>
                  <a:pt x="2952" y="13235"/>
                  <a:pt x="2931" y="13253"/>
                  <a:pt x="2917" y="13262"/>
                </a:cubicBezTo>
                <a:cubicBezTo>
                  <a:pt x="2872" y="13292"/>
                  <a:pt x="2829" y="13329"/>
                  <a:pt x="2793" y="13370"/>
                </a:cubicBezTo>
                <a:cubicBezTo>
                  <a:pt x="2747" y="13422"/>
                  <a:pt x="2698" y="13483"/>
                  <a:pt x="2695" y="13555"/>
                </a:cubicBezTo>
                <a:cubicBezTo>
                  <a:pt x="2693" y="13606"/>
                  <a:pt x="2724" y="13640"/>
                  <a:pt x="2764" y="13667"/>
                </a:cubicBezTo>
                <a:cubicBezTo>
                  <a:pt x="2804" y="13694"/>
                  <a:pt x="2843" y="13702"/>
                  <a:pt x="2890" y="13701"/>
                </a:cubicBezTo>
                <a:cubicBezTo>
                  <a:pt x="2941" y="13699"/>
                  <a:pt x="2967" y="13687"/>
                  <a:pt x="3005" y="13655"/>
                </a:cubicBezTo>
              </a:path>
              <a:path w="1330" h="1244">
                <a:moveTo>
                  <a:pt x="3000" y="13239"/>
                </a:moveTo>
                <a:cubicBezTo>
                  <a:pt x="2989" y="13224"/>
                  <a:pt x="2996" y="13273"/>
                  <a:pt x="2996" y="13287"/>
                </a:cubicBezTo>
                <a:cubicBezTo>
                  <a:pt x="2997" y="13340"/>
                  <a:pt x="2993" y="13395"/>
                  <a:pt x="2996" y="13448"/>
                </a:cubicBezTo>
                <a:cubicBezTo>
                  <a:pt x="3000" y="13509"/>
                  <a:pt x="3008" y="13573"/>
                  <a:pt x="3030" y="13630"/>
                </a:cubicBezTo>
                <a:cubicBezTo>
                  <a:pt x="3041" y="13657"/>
                  <a:pt x="3068" y="13685"/>
                  <a:pt x="3097" y="13673"/>
                </a:cubicBezTo>
                <a:cubicBezTo>
                  <a:pt x="3102" y="13670"/>
                  <a:pt x="3108" y="13666"/>
                  <a:pt x="3113" y="13663"/>
                </a:cubicBezTo>
              </a:path>
              <a:path w="1330" h="1244">
                <a:moveTo>
                  <a:pt x="3384" y="13287"/>
                </a:moveTo>
                <a:cubicBezTo>
                  <a:pt x="3360" y="13265"/>
                  <a:pt x="3350" y="13279"/>
                  <a:pt x="3326" y="13300"/>
                </a:cubicBezTo>
                <a:cubicBezTo>
                  <a:pt x="3293" y="13329"/>
                  <a:pt x="3269" y="13361"/>
                  <a:pt x="3252" y="13401"/>
                </a:cubicBezTo>
                <a:cubicBezTo>
                  <a:pt x="3240" y="13430"/>
                  <a:pt x="3230" y="13470"/>
                  <a:pt x="3258" y="13493"/>
                </a:cubicBezTo>
                <a:cubicBezTo>
                  <a:pt x="3288" y="13518"/>
                  <a:pt x="3337" y="13515"/>
                  <a:pt x="3372" y="13510"/>
                </a:cubicBezTo>
                <a:cubicBezTo>
                  <a:pt x="3396" y="13504"/>
                  <a:pt x="3403" y="13503"/>
                  <a:pt x="3418" y="13496"/>
                </a:cubicBezTo>
              </a:path>
              <a:path w="1330" h="1244">
                <a:moveTo>
                  <a:pt x="3251" y="13485"/>
                </a:moveTo>
                <a:cubicBezTo>
                  <a:pt x="3247" y="13489"/>
                  <a:pt x="3244" y="13493"/>
                  <a:pt x="3240" y="13497"/>
                </a:cubicBezTo>
                <a:cubicBezTo>
                  <a:pt x="3266" y="13486"/>
                  <a:pt x="3292" y="13466"/>
                  <a:pt x="3319" y="13458"/>
                </a:cubicBezTo>
                <a:cubicBezTo>
                  <a:pt x="3350" y="13449"/>
                  <a:pt x="3384" y="13447"/>
                  <a:pt x="3416" y="13444"/>
                </a:cubicBezTo>
              </a:path>
              <a:path w="1330" h="1244">
                <a:moveTo>
                  <a:pt x="3666" y="13601"/>
                </a:moveTo>
                <a:cubicBezTo>
                  <a:pt x="3674" y="13555"/>
                  <a:pt x="3679" y="13505"/>
                  <a:pt x="3690" y="13460"/>
                </a:cubicBezTo>
                <a:cubicBezTo>
                  <a:pt x="3704" y="13402"/>
                  <a:pt x="3721" y="13337"/>
                  <a:pt x="3744" y="13281"/>
                </a:cubicBezTo>
                <a:cubicBezTo>
                  <a:pt x="3755" y="13254"/>
                  <a:pt x="3769" y="13234"/>
                  <a:pt x="3787" y="13213"/>
                </a:cubicBezTo>
                <a:cubicBezTo>
                  <a:pt x="3815" y="13226"/>
                  <a:pt x="3819" y="13256"/>
                  <a:pt x="3826" y="13286"/>
                </a:cubicBezTo>
                <a:cubicBezTo>
                  <a:pt x="3839" y="13340"/>
                  <a:pt x="3842" y="13399"/>
                  <a:pt x="3843" y="13455"/>
                </a:cubicBezTo>
                <a:cubicBezTo>
                  <a:pt x="3842" y="13487"/>
                  <a:pt x="3842" y="13496"/>
                  <a:pt x="3837" y="13516"/>
                </a:cubicBezTo>
              </a:path>
              <a:path w="1330" h="1244">
                <a:moveTo>
                  <a:pt x="3705" y="13464"/>
                </a:moveTo>
                <a:cubicBezTo>
                  <a:pt x="3727" y="13444"/>
                  <a:pt x="3755" y="13422"/>
                  <a:pt x="3782" y="13411"/>
                </a:cubicBezTo>
                <a:cubicBezTo>
                  <a:pt x="3819" y="13396"/>
                  <a:pt x="3863" y="13387"/>
                  <a:pt x="3903" y="13394"/>
                </a:cubicBezTo>
                <a:cubicBezTo>
                  <a:pt x="3910" y="13396"/>
                  <a:pt x="3916" y="13398"/>
                  <a:pt x="3923" y="13400"/>
                </a:cubicBezTo>
              </a:path>
              <a:path w="1330" h="1244">
                <a:moveTo>
                  <a:pt x="2736" y="14155"/>
                </a:moveTo>
                <a:cubicBezTo>
                  <a:pt x="2717" y="14142"/>
                  <a:pt x="2696" y="14139"/>
                  <a:pt x="2676" y="14160"/>
                </a:cubicBezTo>
                <a:cubicBezTo>
                  <a:pt x="2645" y="14192"/>
                  <a:pt x="2620" y="14242"/>
                  <a:pt x="2608" y="14285"/>
                </a:cubicBezTo>
                <a:cubicBezTo>
                  <a:pt x="2599" y="14319"/>
                  <a:pt x="2581" y="14381"/>
                  <a:pt x="2607" y="14413"/>
                </a:cubicBezTo>
                <a:cubicBezTo>
                  <a:pt x="2633" y="14444"/>
                  <a:pt x="2680" y="14406"/>
                  <a:pt x="2700" y="14390"/>
                </a:cubicBezTo>
                <a:cubicBezTo>
                  <a:pt x="2740" y="14357"/>
                  <a:pt x="2772" y="14315"/>
                  <a:pt x="2804" y="14275"/>
                </a:cubicBezTo>
                <a:cubicBezTo>
                  <a:pt x="2820" y="14254"/>
                  <a:pt x="2823" y="14247"/>
                  <a:pt x="2846" y="14243"/>
                </a:cubicBezTo>
                <a:cubicBezTo>
                  <a:pt x="2854" y="14283"/>
                  <a:pt x="2855" y="14325"/>
                  <a:pt x="2860" y="14366"/>
                </a:cubicBezTo>
                <a:cubicBezTo>
                  <a:pt x="2866" y="14410"/>
                  <a:pt x="2868" y="14426"/>
                  <a:pt x="2872" y="1445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1665360" y="3813120"/>
            <a:ext cx="174600" cy="517680"/>
          </a:xfrm>
          <a:custGeom>
            <a:avLst/>
            <a:gdLst/>
            <a:ahLst/>
            <a:rect l="l" t="t" r="r" b="b"/>
            <a:pathLst>
              <a:path w="483" h="1435">
                <a:moveTo>
                  <a:pt x="5097" y="10624"/>
                </a:moveTo>
                <a:cubicBezTo>
                  <a:pt x="5101" y="10614"/>
                  <a:pt x="5105" y="10604"/>
                  <a:pt x="5109" y="10594"/>
                </a:cubicBezTo>
                <a:cubicBezTo>
                  <a:pt x="5094" y="10609"/>
                  <a:pt x="5081" y="10623"/>
                  <a:pt x="5066" y="10639"/>
                </a:cubicBezTo>
                <a:cubicBezTo>
                  <a:pt x="5029" y="10679"/>
                  <a:pt x="5002" y="10727"/>
                  <a:pt x="4972" y="10772"/>
                </a:cubicBezTo>
                <a:cubicBezTo>
                  <a:pt x="4888" y="10898"/>
                  <a:pt x="4816" y="11033"/>
                  <a:pt x="4750" y="11170"/>
                </a:cubicBezTo>
                <a:cubicBezTo>
                  <a:pt x="4676" y="11323"/>
                  <a:pt x="4618" y="11497"/>
                  <a:pt x="4627" y="11670"/>
                </a:cubicBezTo>
                <a:cubicBezTo>
                  <a:pt x="4632" y="11756"/>
                  <a:pt x="4656" y="11844"/>
                  <a:pt x="4708" y="11914"/>
                </a:cubicBezTo>
                <a:cubicBezTo>
                  <a:pt x="4755" y="11976"/>
                  <a:pt x="4870" y="12041"/>
                  <a:pt x="4952" y="12026"/>
                </a:cubicBezTo>
                <a:cubicBezTo>
                  <a:pt x="4983" y="12020"/>
                  <a:pt x="4966" y="12016"/>
                  <a:pt x="4984" y="1200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8470800" y="3851280"/>
            <a:ext cx="166680" cy="484200"/>
          </a:xfrm>
          <a:custGeom>
            <a:avLst/>
            <a:gdLst/>
            <a:ahLst/>
            <a:rect l="l" t="t" r="r" b="b"/>
            <a:pathLst>
              <a:path w="462" h="1346">
                <a:moveTo>
                  <a:pt x="23532" y="10794"/>
                </a:moveTo>
                <a:cubicBezTo>
                  <a:pt x="23543" y="10770"/>
                  <a:pt x="23553" y="10744"/>
                  <a:pt x="23567" y="10724"/>
                </a:cubicBezTo>
                <a:cubicBezTo>
                  <a:pt x="23572" y="10708"/>
                  <a:pt x="23575" y="10703"/>
                  <a:pt x="23587" y="10699"/>
                </a:cubicBezTo>
                <a:cubicBezTo>
                  <a:pt x="23606" y="10711"/>
                  <a:pt x="23623" y="10718"/>
                  <a:pt x="23642" y="10736"/>
                </a:cubicBezTo>
                <a:cubicBezTo>
                  <a:pt x="23698" y="10788"/>
                  <a:pt x="23736" y="10869"/>
                  <a:pt x="23769" y="10937"/>
                </a:cubicBezTo>
                <a:cubicBezTo>
                  <a:pt x="23850" y="11105"/>
                  <a:pt x="23904" y="11288"/>
                  <a:pt x="23947" y="11468"/>
                </a:cubicBezTo>
                <a:cubicBezTo>
                  <a:pt x="23970" y="11565"/>
                  <a:pt x="23988" y="11660"/>
                  <a:pt x="23992" y="11760"/>
                </a:cubicBezTo>
                <a:cubicBezTo>
                  <a:pt x="23995" y="11830"/>
                  <a:pt x="23985" y="11881"/>
                  <a:pt x="23959" y="11944"/>
                </a:cubicBezTo>
                <a:cubicBezTo>
                  <a:pt x="23948" y="11970"/>
                  <a:pt x="23936" y="12010"/>
                  <a:pt x="23919" y="12032"/>
                </a:cubicBezTo>
                <a:cubicBezTo>
                  <a:pt x="23913" y="12036"/>
                  <a:pt x="23908" y="12040"/>
                  <a:pt x="23902" y="12044"/>
                </a:cubicBezTo>
                <a:cubicBezTo>
                  <a:pt x="23885" y="12026"/>
                  <a:pt x="23872" y="12010"/>
                  <a:pt x="23858" y="11989"/>
                </a:cubicBezTo>
                <a:cubicBezTo>
                  <a:pt x="23854" y="11983"/>
                  <a:pt x="23851" y="11976"/>
                  <a:pt x="23847" y="1197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1241280" y="5060880"/>
            <a:ext cx="838440" cy="123840"/>
          </a:xfrm>
          <a:custGeom>
            <a:avLst/>
            <a:gdLst/>
            <a:ahLst/>
            <a:rect l="l" t="t" r="r" b="b"/>
            <a:pathLst>
              <a:path w="2326" h="345">
                <a:moveTo>
                  <a:pt x="3494" y="14143"/>
                </a:moveTo>
                <a:cubicBezTo>
                  <a:pt x="3481" y="14111"/>
                  <a:pt x="3467" y="14088"/>
                  <a:pt x="3450" y="14059"/>
                </a:cubicBezTo>
              </a:path>
              <a:path w="2326" h="345">
                <a:moveTo>
                  <a:pt x="5775" y="14403"/>
                </a:moveTo>
                <a:cubicBezTo>
                  <a:pt x="5759" y="14388"/>
                  <a:pt x="5753" y="14387"/>
                  <a:pt x="5740" y="1437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333360" y="4826160"/>
            <a:ext cx="511200" cy="541080"/>
          </a:xfrm>
          <a:custGeom>
            <a:avLst/>
            <a:gdLst/>
            <a:ahLst/>
            <a:rect l="l" t="t" r="r" b="b"/>
            <a:pathLst>
              <a:path w="1424" h="1504">
                <a:moveTo>
                  <a:pt x="1050" y="13837"/>
                </a:moveTo>
                <a:cubicBezTo>
                  <a:pt x="1131" y="13764"/>
                  <a:pt x="1212" y="13692"/>
                  <a:pt x="1290" y="13617"/>
                </a:cubicBezTo>
                <a:cubicBezTo>
                  <a:pt x="1330" y="13578"/>
                  <a:pt x="1420" y="13519"/>
                  <a:pt x="1437" y="13456"/>
                </a:cubicBezTo>
                <a:cubicBezTo>
                  <a:pt x="1439" y="13439"/>
                  <a:pt x="1442" y="13423"/>
                  <a:pt x="1444" y="13406"/>
                </a:cubicBezTo>
              </a:path>
              <a:path w="1424" h="1504">
                <a:moveTo>
                  <a:pt x="946" y="14299"/>
                </a:moveTo>
                <a:cubicBezTo>
                  <a:pt x="936" y="14397"/>
                  <a:pt x="951" y="14480"/>
                  <a:pt x="970" y="14576"/>
                </a:cubicBezTo>
                <a:cubicBezTo>
                  <a:pt x="991" y="14686"/>
                  <a:pt x="1004" y="14798"/>
                  <a:pt x="994" y="14909"/>
                </a:cubicBezTo>
                <a:cubicBezTo>
                  <a:pt x="959" y="14827"/>
                  <a:pt x="955" y="14762"/>
                  <a:pt x="944" y="14674"/>
                </a:cubicBezTo>
                <a:cubicBezTo>
                  <a:pt x="932" y="14571"/>
                  <a:pt x="919" y="14466"/>
                  <a:pt x="925" y="14362"/>
                </a:cubicBezTo>
                <a:cubicBezTo>
                  <a:pt x="929" y="14284"/>
                  <a:pt x="942" y="14261"/>
                  <a:pt x="982" y="14197"/>
                </a:cubicBezTo>
                <a:cubicBezTo>
                  <a:pt x="1063" y="14254"/>
                  <a:pt x="1128" y="14314"/>
                  <a:pt x="1153" y="14416"/>
                </a:cubicBezTo>
                <a:cubicBezTo>
                  <a:pt x="1169" y="14483"/>
                  <a:pt x="1166" y="14593"/>
                  <a:pt x="1096" y="14632"/>
                </a:cubicBezTo>
                <a:cubicBezTo>
                  <a:pt x="974" y="14700"/>
                  <a:pt x="958" y="14551"/>
                  <a:pt x="953" y="14480"/>
                </a:cubicBezTo>
              </a:path>
              <a:path w="1424" h="1504">
                <a:moveTo>
                  <a:pt x="1232" y="14462"/>
                </a:moveTo>
                <a:cubicBezTo>
                  <a:pt x="1251" y="14512"/>
                  <a:pt x="1256" y="14526"/>
                  <a:pt x="1269" y="14558"/>
                </a:cubicBezTo>
                <a:cubicBezTo>
                  <a:pt x="1254" y="14471"/>
                  <a:pt x="1253" y="14407"/>
                  <a:pt x="1269" y="14321"/>
                </a:cubicBezTo>
                <a:cubicBezTo>
                  <a:pt x="1283" y="14245"/>
                  <a:pt x="1337" y="14181"/>
                  <a:pt x="1414" y="14227"/>
                </a:cubicBezTo>
                <a:cubicBezTo>
                  <a:pt x="1428" y="14248"/>
                  <a:pt x="1434" y="14255"/>
                  <a:pt x="1445" y="14268"/>
                </a:cubicBezTo>
              </a:path>
              <a:path w="1424" h="1504">
                <a:moveTo>
                  <a:pt x="1554" y="14297"/>
                </a:moveTo>
                <a:cubicBezTo>
                  <a:pt x="1521" y="14280"/>
                  <a:pt x="1506" y="14290"/>
                  <a:pt x="1489" y="14325"/>
                </a:cubicBezTo>
                <a:cubicBezTo>
                  <a:pt x="1460" y="14385"/>
                  <a:pt x="1439" y="14432"/>
                  <a:pt x="1463" y="14497"/>
                </a:cubicBezTo>
                <a:cubicBezTo>
                  <a:pt x="1478" y="14538"/>
                  <a:pt x="1515" y="14543"/>
                  <a:pt x="1553" y="14530"/>
                </a:cubicBezTo>
                <a:cubicBezTo>
                  <a:pt x="1596" y="14515"/>
                  <a:pt x="1617" y="14484"/>
                  <a:pt x="1635" y="14446"/>
                </a:cubicBezTo>
                <a:cubicBezTo>
                  <a:pt x="1655" y="14403"/>
                  <a:pt x="1652" y="14376"/>
                  <a:pt x="1636" y="14332"/>
                </a:cubicBezTo>
                <a:cubicBezTo>
                  <a:pt x="1625" y="14302"/>
                  <a:pt x="1604" y="14277"/>
                  <a:pt x="1580" y="14255"/>
                </a:cubicBezTo>
                <a:cubicBezTo>
                  <a:pt x="1566" y="14244"/>
                  <a:pt x="1562" y="14241"/>
                  <a:pt x="1553" y="14234"/>
                </a:cubicBezTo>
              </a:path>
              <a:path w="1424" h="1504">
                <a:moveTo>
                  <a:pt x="1834" y="14266"/>
                </a:moveTo>
                <a:cubicBezTo>
                  <a:pt x="1840" y="14236"/>
                  <a:pt x="1837" y="14229"/>
                  <a:pt x="1822" y="14202"/>
                </a:cubicBezTo>
                <a:cubicBezTo>
                  <a:pt x="1800" y="14205"/>
                  <a:pt x="1792" y="14231"/>
                  <a:pt x="1785" y="14255"/>
                </a:cubicBezTo>
                <a:cubicBezTo>
                  <a:pt x="1772" y="14302"/>
                  <a:pt x="1778" y="14358"/>
                  <a:pt x="1789" y="14405"/>
                </a:cubicBezTo>
                <a:cubicBezTo>
                  <a:pt x="1798" y="14447"/>
                  <a:pt x="1820" y="14497"/>
                  <a:pt x="1863" y="14515"/>
                </a:cubicBezTo>
                <a:cubicBezTo>
                  <a:pt x="1901" y="14531"/>
                  <a:pt x="1928" y="14501"/>
                  <a:pt x="1944" y="14470"/>
                </a:cubicBezTo>
                <a:cubicBezTo>
                  <a:pt x="1967" y="14425"/>
                  <a:pt x="1969" y="14372"/>
                  <a:pt x="1976" y="14323"/>
                </a:cubicBezTo>
                <a:cubicBezTo>
                  <a:pt x="1981" y="14284"/>
                  <a:pt x="1986" y="14248"/>
                  <a:pt x="1983" y="14209"/>
                </a:cubicBezTo>
              </a:path>
              <a:path w="1424" h="1504">
                <a:moveTo>
                  <a:pt x="2111" y="14395"/>
                </a:moveTo>
                <a:cubicBezTo>
                  <a:pt x="2143" y="14380"/>
                  <a:pt x="2169" y="14352"/>
                  <a:pt x="2191" y="14324"/>
                </a:cubicBezTo>
                <a:cubicBezTo>
                  <a:pt x="2212" y="14297"/>
                  <a:pt x="2245" y="14257"/>
                  <a:pt x="2254" y="14223"/>
                </a:cubicBezTo>
                <a:cubicBezTo>
                  <a:pt x="2254" y="14219"/>
                  <a:pt x="2253" y="14215"/>
                  <a:pt x="2253" y="14211"/>
                </a:cubicBezTo>
                <a:cubicBezTo>
                  <a:pt x="2224" y="14227"/>
                  <a:pt x="2201" y="14252"/>
                  <a:pt x="2181" y="14279"/>
                </a:cubicBezTo>
                <a:cubicBezTo>
                  <a:pt x="2165" y="14301"/>
                  <a:pt x="2132" y="14351"/>
                  <a:pt x="2150" y="14381"/>
                </a:cubicBezTo>
                <a:cubicBezTo>
                  <a:pt x="2168" y="14411"/>
                  <a:pt x="2233" y="14408"/>
                  <a:pt x="2262" y="14409"/>
                </a:cubicBezTo>
                <a:cubicBezTo>
                  <a:pt x="2305" y="14409"/>
                  <a:pt x="2319" y="14409"/>
                  <a:pt x="2347" y="1440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092240" y="5014800"/>
            <a:ext cx="652320" cy="271440"/>
          </a:xfrm>
          <a:custGeom>
            <a:avLst/>
            <a:gdLst/>
            <a:ahLst/>
            <a:rect l="l" t="t" r="r" b="b"/>
            <a:pathLst>
              <a:path w="1813" h="755">
                <a:moveTo>
                  <a:pt x="3206" y="14200"/>
                </a:moveTo>
                <a:cubicBezTo>
                  <a:pt x="3178" y="14190"/>
                  <a:pt x="3148" y="14194"/>
                  <a:pt x="3123" y="14218"/>
                </a:cubicBezTo>
                <a:cubicBezTo>
                  <a:pt x="3090" y="14251"/>
                  <a:pt x="3063" y="14305"/>
                  <a:pt x="3047" y="14348"/>
                </a:cubicBezTo>
                <a:cubicBezTo>
                  <a:pt x="3033" y="14388"/>
                  <a:pt x="3027" y="14421"/>
                  <a:pt x="3052" y="14453"/>
                </a:cubicBezTo>
                <a:cubicBezTo>
                  <a:pt x="3095" y="14447"/>
                  <a:pt x="3120" y="14419"/>
                  <a:pt x="3143" y="14380"/>
                </a:cubicBezTo>
                <a:cubicBezTo>
                  <a:pt x="3183" y="14314"/>
                  <a:pt x="3204" y="14233"/>
                  <a:pt x="3216" y="14157"/>
                </a:cubicBezTo>
                <a:cubicBezTo>
                  <a:pt x="3226" y="14092"/>
                  <a:pt x="3232" y="14020"/>
                  <a:pt x="3225" y="13954"/>
                </a:cubicBezTo>
                <a:cubicBezTo>
                  <a:pt x="3223" y="13946"/>
                  <a:pt x="3222" y="13937"/>
                  <a:pt x="3220" y="13929"/>
                </a:cubicBezTo>
                <a:cubicBezTo>
                  <a:pt x="3203" y="13994"/>
                  <a:pt x="3209" y="14063"/>
                  <a:pt x="3219" y="14131"/>
                </a:cubicBezTo>
                <a:cubicBezTo>
                  <a:pt x="3232" y="14221"/>
                  <a:pt x="3243" y="14316"/>
                  <a:pt x="3284" y="14398"/>
                </a:cubicBezTo>
                <a:cubicBezTo>
                  <a:pt x="3292" y="14410"/>
                  <a:pt x="3299" y="14421"/>
                  <a:pt x="3307" y="14433"/>
                </a:cubicBezTo>
              </a:path>
              <a:path w="1813" h="755">
                <a:moveTo>
                  <a:pt x="3483" y="14247"/>
                </a:moveTo>
                <a:cubicBezTo>
                  <a:pt x="3490" y="14289"/>
                  <a:pt x="3485" y="14324"/>
                  <a:pt x="3484" y="14366"/>
                </a:cubicBezTo>
                <a:cubicBezTo>
                  <a:pt x="3483" y="14401"/>
                  <a:pt x="3487" y="14439"/>
                  <a:pt x="3493" y="14473"/>
                </a:cubicBezTo>
                <a:cubicBezTo>
                  <a:pt x="3509" y="14460"/>
                  <a:pt x="3515" y="14454"/>
                  <a:pt x="3513" y="14437"/>
                </a:cubicBezTo>
              </a:path>
              <a:path w="1813" h="755">
                <a:moveTo>
                  <a:pt x="3652" y="14284"/>
                </a:moveTo>
                <a:cubicBezTo>
                  <a:pt x="3660" y="14321"/>
                  <a:pt x="3667" y="14354"/>
                  <a:pt x="3679" y="14390"/>
                </a:cubicBezTo>
                <a:cubicBezTo>
                  <a:pt x="3687" y="14412"/>
                  <a:pt x="3697" y="14451"/>
                  <a:pt x="3724" y="14458"/>
                </a:cubicBezTo>
                <a:cubicBezTo>
                  <a:pt x="3750" y="14465"/>
                  <a:pt x="3773" y="14429"/>
                  <a:pt x="3782" y="14411"/>
                </a:cubicBezTo>
                <a:cubicBezTo>
                  <a:pt x="3799" y="14376"/>
                  <a:pt x="3814" y="14329"/>
                  <a:pt x="3822" y="14290"/>
                </a:cubicBezTo>
                <a:cubicBezTo>
                  <a:pt x="3825" y="14265"/>
                  <a:pt x="3826" y="14258"/>
                  <a:pt x="3827" y="14242"/>
                </a:cubicBezTo>
              </a:path>
              <a:path w="1813" h="755">
                <a:moveTo>
                  <a:pt x="3916" y="14453"/>
                </a:moveTo>
                <a:cubicBezTo>
                  <a:pt x="3924" y="14431"/>
                  <a:pt x="3933" y="14409"/>
                  <a:pt x="3944" y="14388"/>
                </a:cubicBezTo>
                <a:cubicBezTo>
                  <a:pt x="3951" y="14374"/>
                  <a:pt x="3963" y="14363"/>
                  <a:pt x="3972" y="14350"/>
                </a:cubicBezTo>
              </a:path>
              <a:path w="1813" h="755">
                <a:moveTo>
                  <a:pt x="4199" y="14010"/>
                </a:moveTo>
                <a:cubicBezTo>
                  <a:pt x="4197" y="13990"/>
                  <a:pt x="4199" y="13983"/>
                  <a:pt x="4202" y="13965"/>
                </a:cubicBezTo>
                <a:cubicBezTo>
                  <a:pt x="4233" y="13998"/>
                  <a:pt x="4247" y="14036"/>
                  <a:pt x="4265" y="14078"/>
                </a:cubicBezTo>
                <a:cubicBezTo>
                  <a:pt x="4293" y="14144"/>
                  <a:pt x="4314" y="14211"/>
                  <a:pt x="4331" y="14280"/>
                </a:cubicBezTo>
                <a:cubicBezTo>
                  <a:pt x="4338" y="14307"/>
                  <a:pt x="4343" y="14332"/>
                  <a:pt x="4352" y="14358"/>
                </a:cubicBezTo>
                <a:cubicBezTo>
                  <a:pt x="4371" y="14344"/>
                  <a:pt x="4379" y="14325"/>
                  <a:pt x="4396" y="14308"/>
                </a:cubicBezTo>
                <a:cubicBezTo>
                  <a:pt x="4409" y="14296"/>
                  <a:pt x="4431" y="14281"/>
                  <a:pt x="4448" y="14294"/>
                </a:cubicBezTo>
                <a:cubicBezTo>
                  <a:pt x="4467" y="14309"/>
                  <a:pt x="4451" y="14342"/>
                  <a:pt x="4441" y="14357"/>
                </a:cubicBezTo>
                <a:cubicBezTo>
                  <a:pt x="4420" y="14387"/>
                  <a:pt x="4381" y="14413"/>
                  <a:pt x="4347" y="14424"/>
                </a:cubicBezTo>
                <a:cubicBezTo>
                  <a:pt x="4327" y="14430"/>
                  <a:pt x="4299" y="14442"/>
                  <a:pt x="4287" y="14420"/>
                </a:cubicBezTo>
                <a:cubicBezTo>
                  <a:pt x="4289" y="14404"/>
                  <a:pt x="4291" y="14398"/>
                  <a:pt x="4299" y="14390"/>
                </a:cubicBezTo>
              </a:path>
              <a:path w="1813" h="755">
                <a:moveTo>
                  <a:pt x="4569" y="14251"/>
                </a:moveTo>
                <a:cubicBezTo>
                  <a:pt x="4578" y="14283"/>
                  <a:pt x="4580" y="14314"/>
                  <a:pt x="4590" y="14346"/>
                </a:cubicBezTo>
                <a:cubicBezTo>
                  <a:pt x="4600" y="14377"/>
                  <a:pt x="4614" y="14417"/>
                  <a:pt x="4652" y="14421"/>
                </a:cubicBezTo>
                <a:cubicBezTo>
                  <a:pt x="4693" y="14425"/>
                  <a:pt x="4729" y="14384"/>
                  <a:pt x="4754" y="14358"/>
                </a:cubicBezTo>
                <a:cubicBezTo>
                  <a:pt x="4784" y="14326"/>
                  <a:pt x="4812" y="14288"/>
                  <a:pt x="4843" y="14260"/>
                </a:cubicBezTo>
                <a:cubicBezTo>
                  <a:pt x="4840" y="14300"/>
                  <a:pt x="4829" y="14334"/>
                  <a:pt x="4814" y="14375"/>
                </a:cubicBezTo>
                <a:cubicBezTo>
                  <a:pt x="4786" y="14450"/>
                  <a:pt x="4758" y="14523"/>
                  <a:pt x="4718" y="14592"/>
                </a:cubicBezTo>
                <a:cubicBezTo>
                  <a:pt x="4700" y="14623"/>
                  <a:pt x="4682" y="14653"/>
                  <a:pt x="4663" y="1468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86040" y="5038560"/>
            <a:ext cx="93600" cy="168480"/>
          </a:xfrm>
          <a:custGeom>
            <a:avLst/>
            <a:gdLst/>
            <a:ahLst/>
            <a:rect l="l" t="t" r="r" b="b"/>
            <a:pathLst>
              <a:path w="260" h="470">
                <a:moveTo>
                  <a:pt x="5237" y="14069"/>
                </a:moveTo>
                <a:cubicBezTo>
                  <a:pt x="5240" y="14047"/>
                  <a:pt x="5245" y="14038"/>
                  <a:pt x="5255" y="14021"/>
                </a:cubicBezTo>
                <a:cubicBezTo>
                  <a:pt x="5268" y="14000"/>
                  <a:pt x="5291" y="13991"/>
                  <a:pt x="5317" y="13999"/>
                </a:cubicBezTo>
                <a:cubicBezTo>
                  <a:pt x="5356" y="14011"/>
                  <a:pt x="5371" y="14056"/>
                  <a:pt x="5373" y="14093"/>
                </a:cubicBezTo>
                <a:cubicBezTo>
                  <a:pt x="5376" y="14172"/>
                  <a:pt x="5336" y="14258"/>
                  <a:pt x="5283" y="14315"/>
                </a:cubicBezTo>
                <a:cubicBezTo>
                  <a:pt x="5278" y="14319"/>
                  <a:pt x="5274" y="14323"/>
                  <a:pt x="5269" y="14327"/>
                </a:cubicBezTo>
                <a:cubicBezTo>
                  <a:pt x="5284" y="14294"/>
                  <a:pt x="5313" y="14285"/>
                  <a:pt x="5352" y="14279"/>
                </a:cubicBezTo>
                <a:cubicBezTo>
                  <a:pt x="5403" y="14272"/>
                  <a:pt x="5464" y="14287"/>
                  <a:pt x="5489" y="14336"/>
                </a:cubicBezTo>
                <a:cubicBezTo>
                  <a:pt x="5507" y="14371"/>
                  <a:pt x="5484" y="14401"/>
                  <a:pt x="5457" y="14423"/>
                </a:cubicBezTo>
                <a:cubicBezTo>
                  <a:pt x="5426" y="14448"/>
                  <a:pt x="5393" y="14454"/>
                  <a:pt x="5356" y="14461"/>
                </a:cubicBezTo>
                <a:cubicBezTo>
                  <a:pt x="5322" y="14467"/>
                  <a:pt x="5316" y="14459"/>
                  <a:pt x="5322" y="1442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3962520" y="5467320"/>
            <a:ext cx="12600" cy="36720"/>
          </a:xfrm>
          <a:custGeom>
            <a:avLst/>
            <a:gdLst/>
            <a:ahLst/>
            <a:rect l="l" t="t" r="r" b="b"/>
            <a:pathLst>
              <a:path w="35" h="101">
                <a:moveTo>
                  <a:pt x="11029" y="15289"/>
                </a:moveTo>
                <a:cubicBezTo>
                  <a:pt x="11021" y="15269"/>
                  <a:pt x="10997" y="15225"/>
                  <a:pt x="11006" y="15203"/>
                </a:cubicBezTo>
                <a:cubicBezTo>
                  <a:pt x="11021" y="15196"/>
                  <a:pt x="11028" y="15193"/>
                  <a:pt x="11040" y="1518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590400" y="5464080"/>
            <a:ext cx="532080" cy="184320"/>
          </a:xfrm>
          <a:custGeom>
            <a:avLst/>
            <a:gdLst/>
            <a:ahLst/>
            <a:rect l="l" t="t" r="r" b="b"/>
            <a:pathLst>
              <a:path w="1476" h="512">
                <a:moveTo>
                  <a:pt x="1680" y="15195"/>
                </a:moveTo>
                <a:cubicBezTo>
                  <a:pt x="1666" y="15183"/>
                  <a:pt x="1663" y="15180"/>
                  <a:pt x="1652" y="15177"/>
                </a:cubicBezTo>
                <a:cubicBezTo>
                  <a:pt x="1635" y="15206"/>
                  <a:pt x="1649" y="15231"/>
                  <a:pt x="1659" y="15265"/>
                </a:cubicBezTo>
                <a:cubicBezTo>
                  <a:pt x="1676" y="15326"/>
                  <a:pt x="1689" y="15389"/>
                  <a:pt x="1706" y="15450"/>
                </a:cubicBezTo>
                <a:cubicBezTo>
                  <a:pt x="1719" y="15496"/>
                  <a:pt x="1737" y="15556"/>
                  <a:pt x="1756" y="15587"/>
                </a:cubicBezTo>
                <a:cubicBezTo>
                  <a:pt x="1768" y="15549"/>
                  <a:pt x="1777" y="15512"/>
                  <a:pt x="1792" y="15475"/>
                </a:cubicBezTo>
                <a:cubicBezTo>
                  <a:pt x="1807" y="15438"/>
                  <a:pt x="1827" y="15393"/>
                  <a:pt x="1867" y="15377"/>
                </a:cubicBezTo>
                <a:cubicBezTo>
                  <a:pt x="1907" y="15361"/>
                  <a:pt x="1931" y="15400"/>
                  <a:pt x="1940" y="15432"/>
                </a:cubicBezTo>
                <a:cubicBezTo>
                  <a:pt x="1955" y="15487"/>
                  <a:pt x="1943" y="15549"/>
                  <a:pt x="1918" y="15599"/>
                </a:cubicBezTo>
                <a:cubicBezTo>
                  <a:pt x="1895" y="15644"/>
                  <a:pt x="1861" y="15679"/>
                  <a:pt x="1811" y="15688"/>
                </a:cubicBezTo>
                <a:cubicBezTo>
                  <a:pt x="1794" y="15688"/>
                  <a:pt x="1787" y="15687"/>
                  <a:pt x="1779" y="15676"/>
                </a:cubicBezTo>
                <a:cubicBezTo>
                  <a:pt x="1779" y="15636"/>
                  <a:pt x="1786" y="15626"/>
                  <a:pt x="1806" y="15589"/>
                </a:cubicBezTo>
              </a:path>
              <a:path w="1476" h="512">
                <a:moveTo>
                  <a:pt x="2243" y="15313"/>
                </a:moveTo>
                <a:cubicBezTo>
                  <a:pt x="2205" y="15345"/>
                  <a:pt x="2170" y="15371"/>
                  <a:pt x="2139" y="15410"/>
                </a:cubicBezTo>
                <a:cubicBezTo>
                  <a:pt x="2104" y="15454"/>
                  <a:pt x="2071" y="15497"/>
                  <a:pt x="2075" y="15554"/>
                </a:cubicBezTo>
                <a:cubicBezTo>
                  <a:pt x="2106" y="15561"/>
                  <a:pt x="2121" y="15542"/>
                  <a:pt x="2146" y="15522"/>
                </a:cubicBezTo>
                <a:cubicBezTo>
                  <a:pt x="2174" y="15499"/>
                  <a:pt x="2198" y="15462"/>
                  <a:pt x="2234" y="15450"/>
                </a:cubicBezTo>
                <a:cubicBezTo>
                  <a:pt x="2264" y="15440"/>
                  <a:pt x="2279" y="15493"/>
                  <a:pt x="2285" y="15510"/>
                </a:cubicBezTo>
                <a:cubicBezTo>
                  <a:pt x="2296" y="15539"/>
                  <a:pt x="2309" y="15599"/>
                  <a:pt x="2340" y="15615"/>
                </a:cubicBezTo>
                <a:cubicBezTo>
                  <a:pt x="2372" y="15632"/>
                  <a:pt x="2393" y="15610"/>
                  <a:pt x="2419" y="15595"/>
                </a:cubicBezTo>
              </a:path>
              <a:path w="1476" h="512">
                <a:moveTo>
                  <a:pt x="2522" y="15319"/>
                </a:moveTo>
                <a:cubicBezTo>
                  <a:pt x="2489" y="15322"/>
                  <a:pt x="2461" y="15339"/>
                  <a:pt x="2437" y="15362"/>
                </a:cubicBezTo>
                <a:cubicBezTo>
                  <a:pt x="2425" y="15374"/>
                  <a:pt x="2422" y="15382"/>
                  <a:pt x="2421" y="15397"/>
                </a:cubicBezTo>
                <a:cubicBezTo>
                  <a:pt x="2450" y="15409"/>
                  <a:pt x="2480" y="15415"/>
                  <a:pt x="2510" y="15424"/>
                </a:cubicBezTo>
                <a:cubicBezTo>
                  <a:pt x="2554" y="15437"/>
                  <a:pt x="2600" y="15456"/>
                  <a:pt x="2628" y="15494"/>
                </a:cubicBezTo>
                <a:cubicBezTo>
                  <a:pt x="2651" y="15525"/>
                  <a:pt x="2658" y="15567"/>
                  <a:pt x="2639" y="15601"/>
                </a:cubicBezTo>
                <a:cubicBezTo>
                  <a:pt x="2625" y="15625"/>
                  <a:pt x="2593" y="15648"/>
                  <a:pt x="2568" y="15627"/>
                </a:cubicBezTo>
                <a:cubicBezTo>
                  <a:pt x="2539" y="15603"/>
                  <a:pt x="2555" y="15553"/>
                  <a:pt x="2561" y="15524"/>
                </a:cubicBezTo>
              </a:path>
              <a:path w="1476" h="512">
                <a:moveTo>
                  <a:pt x="2731" y="15428"/>
                </a:moveTo>
                <a:cubicBezTo>
                  <a:pt x="2744" y="15468"/>
                  <a:pt x="2743" y="15507"/>
                  <a:pt x="2751" y="15546"/>
                </a:cubicBezTo>
                <a:cubicBezTo>
                  <a:pt x="2754" y="15562"/>
                  <a:pt x="2771" y="15623"/>
                  <a:pt x="2796" y="15613"/>
                </a:cubicBezTo>
                <a:cubicBezTo>
                  <a:pt x="2799" y="15609"/>
                  <a:pt x="2803" y="15606"/>
                  <a:pt x="2806" y="15602"/>
                </a:cubicBezTo>
              </a:path>
              <a:path w="1476" h="512">
                <a:moveTo>
                  <a:pt x="3003" y="15330"/>
                </a:moveTo>
                <a:cubicBezTo>
                  <a:pt x="2999" y="15353"/>
                  <a:pt x="2991" y="15353"/>
                  <a:pt x="2977" y="15369"/>
                </a:cubicBezTo>
                <a:cubicBezTo>
                  <a:pt x="2964" y="15384"/>
                  <a:pt x="2954" y="15398"/>
                  <a:pt x="2949" y="15417"/>
                </a:cubicBezTo>
                <a:cubicBezTo>
                  <a:pt x="2973" y="15421"/>
                  <a:pt x="3001" y="15422"/>
                  <a:pt x="3024" y="15430"/>
                </a:cubicBezTo>
                <a:cubicBezTo>
                  <a:pt x="3055" y="15441"/>
                  <a:pt x="3077" y="15469"/>
                  <a:pt x="3089" y="15499"/>
                </a:cubicBezTo>
                <a:cubicBezTo>
                  <a:pt x="3101" y="15530"/>
                  <a:pt x="3108" y="15570"/>
                  <a:pt x="3109" y="15603"/>
                </a:cubicBezTo>
                <a:cubicBezTo>
                  <a:pt x="3108" y="15618"/>
                  <a:pt x="3108" y="15622"/>
                  <a:pt x="3107" y="15632"/>
                </a:cubicBezTo>
                <a:cubicBezTo>
                  <a:pt x="3087" y="15622"/>
                  <a:pt x="3084" y="15608"/>
                  <a:pt x="3075" y="15587"/>
                </a:cubicBezTo>
                <a:cubicBezTo>
                  <a:pt x="3072" y="15579"/>
                  <a:pt x="3068" y="15572"/>
                  <a:pt x="3065" y="15564"/>
                </a:cubicBezTo>
              </a:path>
              <a:path w="1476" h="512">
                <a:moveTo>
                  <a:pt x="2978" y="15391"/>
                </a:moveTo>
                <a:cubicBezTo>
                  <a:pt x="2997" y="15385"/>
                  <a:pt x="3010" y="15386"/>
                  <a:pt x="3030" y="15382"/>
                </a:cubicBezTo>
                <a:cubicBezTo>
                  <a:pt x="3053" y="15378"/>
                  <a:pt x="3077" y="15375"/>
                  <a:pt x="3101" y="15373"/>
                </a:cubicBezTo>
                <a:cubicBezTo>
                  <a:pt x="3106" y="15373"/>
                  <a:pt x="3111" y="15372"/>
                  <a:pt x="3116" y="1537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1246320" y="5473800"/>
            <a:ext cx="25200" cy="120600"/>
          </a:xfrm>
          <a:custGeom>
            <a:avLst/>
            <a:gdLst/>
            <a:ahLst/>
            <a:rect l="l" t="t" r="r" b="b"/>
            <a:pathLst>
              <a:path w="69" h="335">
                <a:moveTo>
                  <a:pt x="3519" y="15534"/>
                </a:moveTo>
                <a:cubicBezTo>
                  <a:pt x="3501" y="15536"/>
                  <a:pt x="3489" y="15539"/>
                  <a:pt x="3472" y="15533"/>
                </a:cubicBezTo>
                <a:cubicBezTo>
                  <a:pt x="3445" y="15524"/>
                  <a:pt x="3471" y="15493"/>
                  <a:pt x="3478" y="15478"/>
                </a:cubicBezTo>
                <a:cubicBezTo>
                  <a:pt x="3488" y="15451"/>
                  <a:pt x="3492" y="15441"/>
                  <a:pt x="3497" y="15422"/>
                </a:cubicBezTo>
              </a:path>
              <a:path w="69" h="335">
                <a:moveTo>
                  <a:pt x="3521" y="15204"/>
                </a:moveTo>
                <a:cubicBezTo>
                  <a:pt x="3493" y="15219"/>
                  <a:pt x="3485" y="15213"/>
                  <a:pt x="3513" y="15216"/>
                </a:cubicBezTo>
                <a:cubicBezTo>
                  <a:pt x="3518" y="15217"/>
                  <a:pt x="3524" y="15218"/>
                  <a:pt x="3529" y="1521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1479600" y="5427720"/>
            <a:ext cx="111240" cy="216000"/>
          </a:xfrm>
          <a:custGeom>
            <a:avLst/>
            <a:gdLst/>
            <a:ahLst/>
            <a:rect l="l" t="t" r="r" b="b"/>
            <a:pathLst>
              <a:path w="311" h="599">
                <a:moveTo>
                  <a:pt x="4130" y="15213"/>
                </a:moveTo>
                <a:cubicBezTo>
                  <a:pt x="4117" y="15204"/>
                  <a:pt x="4112" y="15199"/>
                  <a:pt x="4109" y="15187"/>
                </a:cubicBezTo>
                <a:cubicBezTo>
                  <a:pt x="4133" y="15158"/>
                  <a:pt x="4157" y="15139"/>
                  <a:pt x="4189" y="15119"/>
                </a:cubicBezTo>
                <a:cubicBezTo>
                  <a:pt x="4221" y="15099"/>
                  <a:pt x="4260" y="15076"/>
                  <a:pt x="4299" y="15078"/>
                </a:cubicBezTo>
                <a:cubicBezTo>
                  <a:pt x="4334" y="15080"/>
                  <a:pt x="4338" y="15114"/>
                  <a:pt x="4334" y="15142"/>
                </a:cubicBezTo>
                <a:cubicBezTo>
                  <a:pt x="4328" y="15181"/>
                  <a:pt x="4314" y="15218"/>
                  <a:pt x="4296" y="15252"/>
                </a:cubicBezTo>
                <a:cubicBezTo>
                  <a:pt x="4287" y="15269"/>
                  <a:pt x="4278" y="15284"/>
                  <a:pt x="4267" y="15299"/>
                </a:cubicBezTo>
                <a:cubicBezTo>
                  <a:pt x="4306" y="15294"/>
                  <a:pt x="4335" y="15303"/>
                  <a:pt x="4365" y="15332"/>
                </a:cubicBezTo>
                <a:cubicBezTo>
                  <a:pt x="4401" y="15368"/>
                  <a:pt x="4415" y="15414"/>
                  <a:pt x="4419" y="15463"/>
                </a:cubicBezTo>
                <a:cubicBezTo>
                  <a:pt x="4423" y="15520"/>
                  <a:pt x="4405" y="15576"/>
                  <a:pt x="4367" y="15618"/>
                </a:cubicBezTo>
                <a:cubicBezTo>
                  <a:pt x="4334" y="15654"/>
                  <a:pt x="4281" y="15677"/>
                  <a:pt x="4232" y="15676"/>
                </a:cubicBezTo>
                <a:cubicBezTo>
                  <a:pt x="4196" y="15675"/>
                  <a:pt x="4164" y="15663"/>
                  <a:pt x="4159" y="15624"/>
                </a:cubicBezTo>
                <a:cubicBezTo>
                  <a:pt x="4161" y="15596"/>
                  <a:pt x="4162" y="15586"/>
                  <a:pt x="4171" y="1556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1679400" y="5459400"/>
            <a:ext cx="281160" cy="152280"/>
          </a:xfrm>
          <a:custGeom>
            <a:avLst/>
            <a:gdLst/>
            <a:ahLst/>
            <a:rect l="l" t="t" r="r" b="b"/>
            <a:pathLst>
              <a:path w="782" h="423">
                <a:moveTo>
                  <a:pt x="4783" y="15259"/>
                </a:moveTo>
                <a:cubicBezTo>
                  <a:pt x="4780" y="15242"/>
                  <a:pt x="4779" y="15214"/>
                  <a:pt x="4772" y="15198"/>
                </a:cubicBezTo>
                <a:cubicBezTo>
                  <a:pt x="4761" y="15183"/>
                  <a:pt x="4758" y="15177"/>
                  <a:pt x="4745" y="15175"/>
                </a:cubicBezTo>
                <a:cubicBezTo>
                  <a:pt x="4721" y="15198"/>
                  <a:pt x="4703" y="15219"/>
                  <a:pt x="4688" y="15250"/>
                </a:cubicBezTo>
                <a:cubicBezTo>
                  <a:pt x="4667" y="15294"/>
                  <a:pt x="4659" y="15346"/>
                  <a:pt x="4672" y="15394"/>
                </a:cubicBezTo>
                <a:cubicBezTo>
                  <a:pt x="4685" y="15442"/>
                  <a:pt x="4724" y="15479"/>
                  <a:pt x="4768" y="15500"/>
                </a:cubicBezTo>
                <a:cubicBezTo>
                  <a:pt x="4797" y="15514"/>
                  <a:pt x="4857" y="15532"/>
                  <a:pt x="4889" y="15516"/>
                </a:cubicBezTo>
                <a:cubicBezTo>
                  <a:pt x="4918" y="15502"/>
                  <a:pt x="4930" y="15475"/>
                  <a:pt x="4930" y="15444"/>
                </a:cubicBezTo>
                <a:cubicBezTo>
                  <a:pt x="4928" y="15422"/>
                  <a:pt x="4927" y="15414"/>
                  <a:pt x="4919" y="15400"/>
                </a:cubicBezTo>
              </a:path>
              <a:path w="782" h="423">
                <a:moveTo>
                  <a:pt x="4666" y="15334"/>
                </a:moveTo>
                <a:cubicBezTo>
                  <a:pt x="4682" y="15355"/>
                  <a:pt x="4711" y="15347"/>
                  <a:pt x="4739" y="15340"/>
                </a:cubicBezTo>
                <a:cubicBezTo>
                  <a:pt x="4788" y="15327"/>
                  <a:pt x="4841" y="15314"/>
                  <a:pt x="4889" y="15296"/>
                </a:cubicBezTo>
                <a:cubicBezTo>
                  <a:pt x="4920" y="15285"/>
                  <a:pt x="4950" y="15272"/>
                  <a:pt x="4979" y="15258"/>
                </a:cubicBezTo>
              </a:path>
              <a:path w="782" h="423">
                <a:moveTo>
                  <a:pt x="5076" y="15492"/>
                </a:moveTo>
                <a:cubicBezTo>
                  <a:pt x="5077" y="15510"/>
                  <a:pt x="5077" y="15514"/>
                  <a:pt x="5076" y="15525"/>
                </a:cubicBezTo>
                <a:cubicBezTo>
                  <a:pt x="5079" y="15492"/>
                  <a:pt x="5090" y="15462"/>
                  <a:pt x="5099" y="15430"/>
                </a:cubicBezTo>
                <a:cubicBezTo>
                  <a:pt x="5122" y="15346"/>
                  <a:pt x="5145" y="15254"/>
                  <a:pt x="5196" y="15182"/>
                </a:cubicBezTo>
                <a:cubicBezTo>
                  <a:pt x="5209" y="15168"/>
                  <a:pt x="5212" y="15163"/>
                  <a:pt x="5225" y="15167"/>
                </a:cubicBezTo>
                <a:cubicBezTo>
                  <a:pt x="5249" y="15217"/>
                  <a:pt x="5256" y="15267"/>
                  <a:pt x="5268" y="15322"/>
                </a:cubicBezTo>
                <a:cubicBezTo>
                  <a:pt x="5284" y="15396"/>
                  <a:pt x="5301" y="15470"/>
                  <a:pt x="5316" y="15544"/>
                </a:cubicBezTo>
                <a:cubicBezTo>
                  <a:pt x="5322" y="15568"/>
                  <a:pt x="5324" y="15574"/>
                  <a:pt x="5325" y="15589"/>
                </a:cubicBezTo>
              </a:path>
              <a:path w="782" h="423">
                <a:moveTo>
                  <a:pt x="5194" y="15402"/>
                </a:moveTo>
                <a:cubicBezTo>
                  <a:pt x="5180" y="15388"/>
                  <a:pt x="5177" y="15385"/>
                  <a:pt x="5169" y="15377"/>
                </a:cubicBezTo>
                <a:cubicBezTo>
                  <a:pt x="5201" y="15368"/>
                  <a:pt x="5233" y="15372"/>
                  <a:pt x="5266" y="15371"/>
                </a:cubicBezTo>
                <a:cubicBezTo>
                  <a:pt x="5328" y="15368"/>
                  <a:pt x="5388" y="15349"/>
                  <a:pt x="5447" y="1533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093760" y="5448240"/>
            <a:ext cx="530280" cy="204840"/>
          </a:xfrm>
          <a:custGeom>
            <a:avLst/>
            <a:gdLst/>
            <a:ahLst/>
            <a:rect l="l" t="t" r="r" b="b"/>
            <a:pathLst>
              <a:path w="1476" h="566">
                <a:moveTo>
                  <a:pt x="5904" y="15193"/>
                </a:moveTo>
                <a:cubicBezTo>
                  <a:pt x="5906" y="15172"/>
                  <a:pt x="5910" y="15154"/>
                  <a:pt x="5903" y="15135"/>
                </a:cubicBezTo>
                <a:cubicBezTo>
                  <a:pt x="5877" y="15173"/>
                  <a:pt x="5861" y="15214"/>
                  <a:pt x="5848" y="15259"/>
                </a:cubicBezTo>
                <a:cubicBezTo>
                  <a:pt x="5828" y="15327"/>
                  <a:pt x="5808" y="15405"/>
                  <a:pt x="5815" y="15477"/>
                </a:cubicBezTo>
                <a:cubicBezTo>
                  <a:pt x="5819" y="15520"/>
                  <a:pt x="5838" y="15588"/>
                  <a:pt x="5893" y="15588"/>
                </a:cubicBezTo>
                <a:cubicBezTo>
                  <a:pt x="5903" y="15585"/>
                  <a:pt x="5914" y="15583"/>
                  <a:pt x="5924" y="15580"/>
                </a:cubicBezTo>
              </a:path>
              <a:path w="1476" h="566">
                <a:moveTo>
                  <a:pt x="6079" y="15196"/>
                </a:moveTo>
                <a:cubicBezTo>
                  <a:pt x="6059" y="15233"/>
                  <a:pt x="6063" y="15260"/>
                  <a:pt x="6062" y="15302"/>
                </a:cubicBezTo>
                <a:cubicBezTo>
                  <a:pt x="6060" y="15369"/>
                  <a:pt x="6062" y="15435"/>
                  <a:pt x="6063" y="15502"/>
                </a:cubicBezTo>
                <a:cubicBezTo>
                  <a:pt x="6064" y="15532"/>
                  <a:pt x="6060" y="15547"/>
                  <a:pt x="6079" y="15562"/>
                </a:cubicBezTo>
                <a:cubicBezTo>
                  <a:pt x="6099" y="15523"/>
                  <a:pt x="6117" y="15483"/>
                  <a:pt x="6140" y="15445"/>
                </a:cubicBezTo>
                <a:cubicBezTo>
                  <a:pt x="6163" y="15408"/>
                  <a:pt x="6181" y="15383"/>
                  <a:pt x="6220" y="15365"/>
                </a:cubicBezTo>
                <a:cubicBezTo>
                  <a:pt x="6253" y="15382"/>
                  <a:pt x="6256" y="15406"/>
                  <a:pt x="6255" y="15445"/>
                </a:cubicBezTo>
                <a:cubicBezTo>
                  <a:pt x="6253" y="15497"/>
                  <a:pt x="6236" y="15544"/>
                  <a:pt x="6202" y="15584"/>
                </a:cubicBezTo>
                <a:cubicBezTo>
                  <a:pt x="6188" y="15600"/>
                  <a:pt x="6144" y="15636"/>
                  <a:pt x="6122" y="15607"/>
                </a:cubicBezTo>
                <a:cubicBezTo>
                  <a:pt x="6114" y="15586"/>
                  <a:pt x="6111" y="15578"/>
                  <a:pt x="6116" y="15562"/>
                </a:cubicBezTo>
              </a:path>
              <a:path w="1476" h="566">
                <a:moveTo>
                  <a:pt x="6528" y="15330"/>
                </a:moveTo>
                <a:cubicBezTo>
                  <a:pt x="6499" y="15364"/>
                  <a:pt x="6466" y="15390"/>
                  <a:pt x="6435" y="15422"/>
                </a:cubicBezTo>
                <a:cubicBezTo>
                  <a:pt x="6406" y="15452"/>
                  <a:pt x="6365" y="15495"/>
                  <a:pt x="6362" y="15540"/>
                </a:cubicBezTo>
                <a:cubicBezTo>
                  <a:pt x="6360" y="15577"/>
                  <a:pt x="6400" y="15568"/>
                  <a:pt x="6420" y="15559"/>
                </a:cubicBezTo>
                <a:cubicBezTo>
                  <a:pt x="6456" y="15543"/>
                  <a:pt x="6486" y="15510"/>
                  <a:pt x="6512" y="15481"/>
                </a:cubicBezTo>
                <a:cubicBezTo>
                  <a:pt x="6531" y="15460"/>
                  <a:pt x="6526" y="15458"/>
                  <a:pt x="6551" y="15458"/>
                </a:cubicBezTo>
                <a:cubicBezTo>
                  <a:pt x="6556" y="15488"/>
                  <a:pt x="6556" y="15520"/>
                  <a:pt x="6562" y="15549"/>
                </a:cubicBezTo>
                <a:cubicBezTo>
                  <a:pt x="6568" y="15580"/>
                  <a:pt x="6576" y="15601"/>
                  <a:pt x="6605" y="15610"/>
                </a:cubicBezTo>
              </a:path>
              <a:path w="1476" h="566">
                <a:moveTo>
                  <a:pt x="6733" y="15412"/>
                </a:moveTo>
                <a:cubicBezTo>
                  <a:pt x="6732" y="15434"/>
                  <a:pt x="6729" y="15453"/>
                  <a:pt x="6732" y="15475"/>
                </a:cubicBezTo>
                <a:cubicBezTo>
                  <a:pt x="6735" y="15500"/>
                  <a:pt x="6742" y="15523"/>
                  <a:pt x="6752" y="15546"/>
                </a:cubicBezTo>
                <a:cubicBezTo>
                  <a:pt x="6762" y="15570"/>
                  <a:pt x="6772" y="15591"/>
                  <a:pt x="6788" y="15611"/>
                </a:cubicBezTo>
                <a:cubicBezTo>
                  <a:pt x="6800" y="15625"/>
                  <a:pt x="6810" y="15634"/>
                  <a:pt x="6826" y="15643"/>
                </a:cubicBezTo>
                <a:cubicBezTo>
                  <a:pt x="6805" y="15659"/>
                  <a:pt x="6784" y="15674"/>
                  <a:pt x="6759" y="15683"/>
                </a:cubicBezTo>
                <a:cubicBezTo>
                  <a:pt x="6722" y="15697"/>
                  <a:pt x="6694" y="15704"/>
                  <a:pt x="6655" y="15693"/>
                </a:cubicBezTo>
                <a:cubicBezTo>
                  <a:pt x="6633" y="15687"/>
                  <a:pt x="6635" y="15676"/>
                  <a:pt x="6632" y="15657"/>
                </a:cubicBezTo>
              </a:path>
              <a:path w="1476" h="566">
                <a:moveTo>
                  <a:pt x="6740" y="15383"/>
                </a:moveTo>
                <a:cubicBezTo>
                  <a:pt x="6760" y="15376"/>
                  <a:pt x="6779" y="15376"/>
                  <a:pt x="6799" y="15371"/>
                </a:cubicBezTo>
                <a:cubicBezTo>
                  <a:pt x="6822" y="15365"/>
                  <a:pt x="6846" y="15356"/>
                  <a:pt x="6868" y="15348"/>
                </a:cubicBezTo>
              </a:path>
              <a:path w="1476" h="566">
                <a:moveTo>
                  <a:pt x="6938" y="15373"/>
                </a:moveTo>
                <a:cubicBezTo>
                  <a:pt x="6948" y="15395"/>
                  <a:pt x="6952" y="15421"/>
                  <a:pt x="6952" y="15446"/>
                </a:cubicBezTo>
                <a:cubicBezTo>
                  <a:pt x="6952" y="15484"/>
                  <a:pt x="6959" y="15517"/>
                  <a:pt x="6963" y="15554"/>
                </a:cubicBezTo>
                <a:cubicBezTo>
                  <a:pt x="6964" y="15571"/>
                  <a:pt x="6964" y="15575"/>
                  <a:pt x="6969" y="15585"/>
                </a:cubicBezTo>
              </a:path>
              <a:path w="1476" h="566">
                <a:moveTo>
                  <a:pt x="6988" y="15300"/>
                </a:moveTo>
                <a:cubicBezTo>
                  <a:pt x="7002" y="15266"/>
                  <a:pt x="7000" y="15263"/>
                  <a:pt x="7029" y="15240"/>
                </a:cubicBezTo>
                <a:cubicBezTo>
                  <a:pt x="7035" y="15234"/>
                  <a:pt x="7040" y="15229"/>
                  <a:pt x="7046" y="15223"/>
                </a:cubicBezTo>
              </a:path>
              <a:path w="1476" h="566">
                <a:moveTo>
                  <a:pt x="7215" y="15347"/>
                </a:moveTo>
                <a:cubicBezTo>
                  <a:pt x="7199" y="15374"/>
                  <a:pt x="7183" y="15405"/>
                  <a:pt x="7166" y="15431"/>
                </a:cubicBezTo>
                <a:cubicBezTo>
                  <a:pt x="7152" y="15451"/>
                  <a:pt x="7148" y="15465"/>
                  <a:pt x="7177" y="15476"/>
                </a:cubicBezTo>
                <a:cubicBezTo>
                  <a:pt x="7201" y="15486"/>
                  <a:pt x="7229" y="15487"/>
                  <a:pt x="7251" y="15501"/>
                </a:cubicBezTo>
                <a:cubicBezTo>
                  <a:pt x="7272" y="15514"/>
                  <a:pt x="7289" y="15535"/>
                  <a:pt x="7290" y="15560"/>
                </a:cubicBezTo>
                <a:cubicBezTo>
                  <a:pt x="7291" y="15582"/>
                  <a:pt x="7275" y="15601"/>
                  <a:pt x="7256" y="15612"/>
                </a:cubicBezTo>
                <a:cubicBezTo>
                  <a:pt x="7233" y="15626"/>
                  <a:pt x="7214" y="15617"/>
                  <a:pt x="7192" y="1560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792520" y="5423040"/>
            <a:ext cx="160200" cy="171360"/>
          </a:xfrm>
          <a:custGeom>
            <a:avLst/>
            <a:gdLst/>
            <a:ahLst/>
            <a:rect l="l" t="t" r="r" b="b"/>
            <a:pathLst>
              <a:path w="448" h="476">
                <a:moveTo>
                  <a:pt x="7846" y="15368"/>
                </a:moveTo>
                <a:cubicBezTo>
                  <a:pt x="7815" y="15375"/>
                  <a:pt x="7809" y="15385"/>
                  <a:pt x="7789" y="15408"/>
                </a:cubicBezTo>
                <a:cubicBezTo>
                  <a:pt x="7766" y="15434"/>
                  <a:pt x="7753" y="15459"/>
                  <a:pt x="7759" y="15495"/>
                </a:cubicBezTo>
                <a:cubicBezTo>
                  <a:pt x="7764" y="15526"/>
                  <a:pt x="7794" y="15529"/>
                  <a:pt x="7820" y="15524"/>
                </a:cubicBezTo>
                <a:cubicBezTo>
                  <a:pt x="7855" y="15518"/>
                  <a:pt x="7884" y="15495"/>
                  <a:pt x="7904" y="15466"/>
                </a:cubicBezTo>
                <a:cubicBezTo>
                  <a:pt x="7924" y="15436"/>
                  <a:pt x="7927" y="15407"/>
                  <a:pt x="7925" y="15372"/>
                </a:cubicBezTo>
                <a:cubicBezTo>
                  <a:pt x="7923" y="15343"/>
                  <a:pt x="7909" y="15319"/>
                  <a:pt x="7900" y="15292"/>
                </a:cubicBezTo>
                <a:cubicBezTo>
                  <a:pt x="7898" y="15287"/>
                  <a:pt x="7897" y="15281"/>
                  <a:pt x="7895" y="15276"/>
                </a:cubicBezTo>
              </a:path>
              <a:path w="448" h="476">
                <a:moveTo>
                  <a:pt x="8059" y="15537"/>
                </a:moveTo>
                <a:cubicBezTo>
                  <a:pt x="8056" y="15495"/>
                  <a:pt x="8045" y="15456"/>
                  <a:pt x="8036" y="15415"/>
                </a:cubicBezTo>
                <a:cubicBezTo>
                  <a:pt x="8023" y="15357"/>
                  <a:pt x="8006" y="15299"/>
                  <a:pt x="7999" y="15240"/>
                </a:cubicBezTo>
                <a:cubicBezTo>
                  <a:pt x="7993" y="15194"/>
                  <a:pt x="7989" y="15143"/>
                  <a:pt x="8011" y="15101"/>
                </a:cubicBezTo>
                <a:cubicBezTo>
                  <a:pt x="8027" y="15071"/>
                  <a:pt x="8069" y="15060"/>
                  <a:pt x="8102" y="15062"/>
                </a:cubicBezTo>
                <a:cubicBezTo>
                  <a:pt x="8124" y="15066"/>
                  <a:pt x="8130" y="15067"/>
                  <a:pt x="8143" y="15074"/>
                </a:cubicBezTo>
              </a:path>
              <a:path w="448" h="476">
                <a:moveTo>
                  <a:pt x="7975" y="15259"/>
                </a:moveTo>
                <a:cubicBezTo>
                  <a:pt x="7960" y="15271"/>
                  <a:pt x="7955" y="15272"/>
                  <a:pt x="7952" y="15284"/>
                </a:cubicBezTo>
                <a:cubicBezTo>
                  <a:pt x="7986" y="15285"/>
                  <a:pt x="8017" y="15278"/>
                  <a:pt x="8050" y="15272"/>
                </a:cubicBezTo>
                <a:cubicBezTo>
                  <a:pt x="8101" y="15262"/>
                  <a:pt x="8152" y="15262"/>
                  <a:pt x="8203" y="1526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049560" y="5424480"/>
            <a:ext cx="449280" cy="182520"/>
          </a:xfrm>
          <a:custGeom>
            <a:avLst/>
            <a:gdLst/>
            <a:ahLst/>
            <a:rect l="l" t="t" r="r" b="b"/>
            <a:pathLst>
              <a:path w="1247" h="507">
                <a:moveTo>
                  <a:pt x="8631" y="15341"/>
                </a:moveTo>
                <a:cubicBezTo>
                  <a:pt x="8617" y="15319"/>
                  <a:pt x="8610" y="15308"/>
                  <a:pt x="8583" y="15309"/>
                </a:cubicBezTo>
                <a:cubicBezTo>
                  <a:pt x="8546" y="15310"/>
                  <a:pt x="8525" y="15335"/>
                  <a:pt x="8505" y="15364"/>
                </a:cubicBezTo>
                <a:cubicBezTo>
                  <a:pt x="8483" y="15397"/>
                  <a:pt x="8465" y="15442"/>
                  <a:pt x="8471" y="15483"/>
                </a:cubicBezTo>
                <a:cubicBezTo>
                  <a:pt x="8479" y="15502"/>
                  <a:pt x="8481" y="15508"/>
                  <a:pt x="8493" y="15516"/>
                </a:cubicBezTo>
                <a:cubicBezTo>
                  <a:pt x="8534" y="15512"/>
                  <a:pt x="8554" y="15496"/>
                  <a:pt x="8578" y="15461"/>
                </a:cubicBezTo>
                <a:cubicBezTo>
                  <a:pt x="8612" y="15412"/>
                  <a:pt x="8629" y="15357"/>
                  <a:pt x="8638" y="15299"/>
                </a:cubicBezTo>
                <a:cubicBezTo>
                  <a:pt x="8644" y="15258"/>
                  <a:pt x="8643" y="15217"/>
                  <a:pt x="8640" y="15175"/>
                </a:cubicBezTo>
                <a:cubicBezTo>
                  <a:pt x="8618" y="15194"/>
                  <a:pt x="8629" y="15241"/>
                  <a:pt x="8632" y="15271"/>
                </a:cubicBezTo>
                <a:cubicBezTo>
                  <a:pt x="8638" y="15332"/>
                  <a:pt x="8649" y="15401"/>
                  <a:pt x="8675" y="15457"/>
                </a:cubicBezTo>
                <a:cubicBezTo>
                  <a:pt x="8682" y="15468"/>
                  <a:pt x="8688" y="15479"/>
                  <a:pt x="8695" y="15490"/>
                </a:cubicBezTo>
              </a:path>
              <a:path w="1247" h="507">
                <a:moveTo>
                  <a:pt x="8843" y="15474"/>
                </a:moveTo>
                <a:cubicBezTo>
                  <a:pt x="8854" y="15454"/>
                  <a:pt x="8858" y="15438"/>
                  <a:pt x="8866" y="15419"/>
                </a:cubicBezTo>
                <a:cubicBezTo>
                  <a:pt x="8872" y="15406"/>
                  <a:pt x="8888" y="15371"/>
                  <a:pt x="8875" y="15356"/>
                </a:cubicBezTo>
                <a:cubicBezTo>
                  <a:pt x="8869" y="15352"/>
                  <a:pt x="8864" y="15349"/>
                  <a:pt x="8858" y="15345"/>
                </a:cubicBezTo>
                <a:cubicBezTo>
                  <a:pt x="8831" y="15356"/>
                  <a:pt x="8820" y="15372"/>
                  <a:pt x="8811" y="15401"/>
                </a:cubicBezTo>
                <a:cubicBezTo>
                  <a:pt x="8799" y="15440"/>
                  <a:pt x="8798" y="15484"/>
                  <a:pt x="8819" y="15520"/>
                </a:cubicBezTo>
                <a:cubicBezTo>
                  <a:pt x="8838" y="15552"/>
                  <a:pt x="8866" y="15555"/>
                  <a:pt x="8899" y="15556"/>
                </a:cubicBezTo>
              </a:path>
              <a:path w="1247" h="507">
                <a:moveTo>
                  <a:pt x="9143" y="15555"/>
                </a:moveTo>
                <a:cubicBezTo>
                  <a:pt x="9126" y="15523"/>
                  <a:pt x="9126" y="15500"/>
                  <a:pt x="9122" y="15465"/>
                </a:cubicBezTo>
                <a:cubicBezTo>
                  <a:pt x="9116" y="15406"/>
                  <a:pt x="9113" y="15348"/>
                  <a:pt x="9114" y="15289"/>
                </a:cubicBezTo>
                <a:cubicBezTo>
                  <a:pt x="9115" y="15234"/>
                  <a:pt x="9115" y="15170"/>
                  <a:pt x="9132" y="15117"/>
                </a:cubicBezTo>
                <a:cubicBezTo>
                  <a:pt x="9141" y="15090"/>
                  <a:pt x="9163" y="15057"/>
                  <a:pt x="9194" y="15083"/>
                </a:cubicBezTo>
                <a:cubicBezTo>
                  <a:pt x="9226" y="15110"/>
                  <a:pt x="9246" y="15171"/>
                  <a:pt x="9254" y="15210"/>
                </a:cubicBezTo>
                <a:cubicBezTo>
                  <a:pt x="9259" y="15249"/>
                  <a:pt x="9261" y="15261"/>
                  <a:pt x="9258" y="15287"/>
                </a:cubicBezTo>
              </a:path>
              <a:path w="1247" h="507">
                <a:moveTo>
                  <a:pt x="9014" y="15374"/>
                </a:moveTo>
                <a:cubicBezTo>
                  <a:pt x="9009" y="15371"/>
                  <a:pt x="9005" y="15369"/>
                  <a:pt x="9000" y="15366"/>
                </a:cubicBezTo>
                <a:cubicBezTo>
                  <a:pt x="9023" y="15361"/>
                  <a:pt x="9050" y="15351"/>
                  <a:pt x="9077" y="15345"/>
                </a:cubicBezTo>
                <a:cubicBezTo>
                  <a:pt x="9114" y="15333"/>
                  <a:pt x="9128" y="15329"/>
                  <a:pt x="9156" y="15335"/>
                </a:cubicBezTo>
              </a:path>
              <a:path w="1247" h="507">
                <a:moveTo>
                  <a:pt x="9372" y="15483"/>
                </a:moveTo>
                <a:cubicBezTo>
                  <a:pt x="9377" y="15505"/>
                  <a:pt x="9401" y="15456"/>
                  <a:pt x="9406" y="15447"/>
                </a:cubicBezTo>
              </a:path>
              <a:path w="1247" h="507">
                <a:moveTo>
                  <a:pt x="9554" y="15075"/>
                </a:moveTo>
                <a:cubicBezTo>
                  <a:pt x="9591" y="15071"/>
                  <a:pt x="9614" y="15086"/>
                  <a:pt x="9638" y="15117"/>
                </a:cubicBezTo>
                <a:cubicBezTo>
                  <a:pt x="9684" y="15176"/>
                  <a:pt x="9702" y="15245"/>
                  <a:pt x="9712" y="15318"/>
                </a:cubicBezTo>
                <a:cubicBezTo>
                  <a:pt x="9722" y="15392"/>
                  <a:pt x="9710" y="15451"/>
                  <a:pt x="9681" y="15519"/>
                </a:cubicBezTo>
                <a:cubicBezTo>
                  <a:pt x="9669" y="15548"/>
                  <a:pt x="9660" y="15557"/>
                  <a:pt x="9637" y="1557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733920" y="5433840"/>
            <a:ext cx="109440" cy="201960"/>
          </a:xfrm>
          <a:custGeom>
            <a:avLst/>
            <a:gdLst/>
            <a:ahLst/>
            <a:rect l="l" t="t" r="r" b="b"/>
            <a:pathLst>
              <a:path w="302" h="562">
                <a:moveTo>
                  <a:pt x="10378" y="15263"/>
                </a:moveTo>
                <a:cubicBezTo>
                  <a:pt x="10374" y="15234"/>
                  <a:pt x="10376" y="15199"/>
                  <a:pt x="10394" y="15172"/>
                </a:cubicBezTo>
                <a:cubicBezTo>
                  <a:pt x="10416" y="15139"/>
                  <a:pt x="10452" y="15103"/>
                  <a:pt x="10492" y="15094"/>
                </a:cubicBezTo>
                <a:cubicBezTo>
                  <a:pt x="10534" y="15084"/>
                  <a:pt x="10561" y="15106"/>
                  <a:pt x="10570" y="15146"/>
                </a:cubicBezTo>
                <a:cubicBezTo>
                  <a:pt x="10582" y="15201"/>
                  <a:pt x="10559" y="15258"/>
                  <a:pt x="10541" y="15308"/>
                </a:cubicBezTo>
                <a:cubicBezTo>
                  <a:pt x="10531" y="15336"/>
                  <a:pt x="10520" y="15362"/>
                  <a:pt x="10506" y="15388"/>
                </a:cubicBezTo>
                <a:cubicBezTo>
                  <a:pt x="10529" y="15357"/>
                  <a:pt x="10564" y="15333"/>
                  <a:pt x="10606" y="15347"/>
                </a:cubicBezTo>
                <a:cubicBezTo>
                  <a:pt x="10647" y="15361"/>
                  <a:pt x="10669" y="15414"/>
                  <a:pt x="10674" y="15453"/>
                </a:cubicBezTo>
                <a:cubicBezTo>
                  <a:pt x="10681" y="15511"/>
                  <a:pt x="10657" y="15563"/>
                  <a:pt x="10627" y="15609"/>
                </a:cubicBezTo>
                <a:cubicBezTo>
                  <a:pt x="10618" y="15622"/>
                  <a:pt x="10572" y="15684"/>
                  <a:pt x="10551" y="15646"/>
                </a:cubicBezTo>
                <a:cubicBezTo>
                  <a:pt x="10549" y="15638"/>
                  <a:pt x="10548" y="15630"/>
                  <a:pt x="10546" y="1562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971880" y="5540400"/>
            <a:ext cx="106560" cy="85680"/>
          </a:xfrm>
          <a:custGeom>
            <a:avLst/>
            <a:gdLst/>
            <a:ahLst/>
            <a:rect l="l" t="t" r="r" b="b"/>
            <a:pathLst>
              <a:path w="293" h="239">
                <a:moveTo>
                  <a:pt x="11045" y="15456"/>
                </a:moveTo>
                <a:cubicBezTo>
                  <a:pt x="11041" y="15483"/>
                  <a:pt x="11035" y="15507"/>
                  <a:pt x="11035" y="15534"/>
                </a:cubicBezTo>
                <a:cubicBezTo>
                  <a:pt x="11035" y="15563"/>
                  <a:pt x="11030" y="15561"/>
                  <a:pt x="11049" y="15579"/>
                </a:cubicBezTo>
              </a:path>
              <a:path w="293" h="239">
                <a:moveTo>
                  <a:pt x="11220" y="15388"/>
                </a:moveTo>
                <a:cubicBezTo>
                  <a:pt x="11202" y="15406"/>
                  <a:pt x="11184" y="15428"/>
                  <a:pt x="11166" y="15445"/>
                </a:cubicBezTo>
                <a:cubicBezTo>
                  <a:pt x="11154" y="15452"/>
                  <a:pt x="11150" y="15453"/>
                  <a:pt x="11152" y="15463"/>
                </a:cubicBezTo>
                <a:cubicBezTo>
                  <a:pt x="11182" y="15477"/>
                  <a:pt x="11213" y="15487"/>
                  <a:pt x="11243" y="15501"/>
                </a:cubicBezTo>
                <a:cubicBezTo>
                  <a:pt x="11274" y="15516"/>
                  <a:pt x="11311" y="15535"/>
                  <a:pt x="11323" y="15570"/>
                </a:cubicBezTo>
                <a:cubicBezTo>
                  <a:pt x="11332" y="15595"/>
                  <a:pt x="11321" y="15624"/>
                  <a:pt x="11291" y="15626"/>
                </a:cubicBezTo>
                <a:cubicBezTo>
                  <a:pt x="11259" y="15628"/>
                  <a:pt x="11222" y="15611"/>
                  <a:pt x="11197" y="15594"/>
                </a:cubicBezTo>
                <a:cubicBezTo>
                  <a:pt x="11191" y="15589"/>
                  <a:pt x="11185" y="15585"/>
                  <a:pt x="11179" y="1558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4218120" y="5424480"/>
            <a:ext cx="274680" cy="174600"/>
          </a:xfrm>
          <a:custGeom>
            <a:avLst/>
            <a:gdLst/>
            <a:ahLst/>
            <a:rect l="l" t="t" r="r" b="b"/>
            <a:pathLst>
              <a:path w="763" h="483">
                <a:moveTo>
                  <a:pt x="11861" y="15396"/>
                </a:moveTo>
                <a:cubicBezTo>
                  <a:pt x="11857" y="15378"/>
                  <a:pt x="11853" y="15360"/>
                  <a:pt x="11847" y="15343"/>
                </a:cubicBezTo>
                <a:cubicBezTo>
                  <a:pt x="11839" y="15318"/>
                  <a:pt x="11831" y="15307"/>
                  <a:pt x="11809" y="15295"/>
                </a:cubicBezTo>
                <a:cubicBezTo>
                  <a:pt x="11774" y="15305"/>
                  <a:pt x="11757" y="15326"/>
                  <a:pt x="11741" y="15360"/>
                </a:cubicBezTo>
                <a:cubicBezTo>
                  <a:pt x="11716" y="15415"/>
                  <a:pt x="11697" y="15492"/>
                  <a:pt x="11740" y="15539"/>
                </a:cubicBezTo>
                <a:cubicBezTo>
                  <a:pt x="11784" y="15528"/>
                  <a:pt x="11805" y="15500"/>
                  <a:pt x="11826" y="15458"/>
                </a:cubicBezTo>
                <a:cubicBezTo>
                  <a:pt x="11859" y="15395"/>
                  <a:pt x="11878" y="15322"/>
                  <a:pt x="11891" y="15252"/>
                </a:cubicBezTo>
                <a:cubicBezTo>
                  <a:pt x="11901" y="15199"/>
                  <a:pt x="11907" y="15142"/>
                  <a:pt x="11903" y="15088"/>
                </a:cubicBezTo>
                <a:cubicBezTo>
                  <a:pt x="11902" y="15082"/>
                  <a:pt x="11901" y="15075"/>
                  <a:pt x="11900" y="15069"/>
                </a:cubicBezTo>
                <a:cubicBezTo>
                  <a:pt x="11881" y="15123"/>
                  <a:pt x="11885" y="15170"/>
                  <a:pt x="11890" y="15227"/>
                </a:cubicBezTo>
                <a:cubicBezTo>
                  <a:pt x="11897" y="15299"/>
                  <a:pt x="11911" y="15370"/>
                  <a:pt x="11954" y="15430"/>
                </a:cubicBezTo>
                <a:cubicBezTo>
                  <a:pt x="11978" y="15456"/>
                  <a:pt x="11985" y="15464"/>
                  <a:pt x="12009" y="15468"/>
                </a:cubicBezTo>
              </a:path>
              <a:path w="763" h="483">
                <a:moveTo>
                  <a:pt x="12160" y="15405"/>
                </a:moveTo>
                <a:cubicBezTo>
                  <a:pt x="12153" y="15424"/>
                  <a:pt x="12142" y="15453"/>
                  <a:pt x="12142" y="15473"/>
                </a:cubicBezTo>
                <a:cubicBezTo>
                  <a:pt x="12142" y="15497"/>
                  <a:pt x="12142" y="15525"/>
                  <a:pt x="12158" y="15524"/>
                </a:cubicBezTo>
              </a:path>
              <a:path w="763" h="483">
                <a:moveTo>
                  <a:pt x="12124" y="15307"/>
                </a:moveTo>
                <a:cubicBezTo>
                  <a:pt x="12115" y="15280"/>
                  <a:pt x="12089" y="15232"/>
                  <a:pt x="12096" y="15202"/>
                </a:cubicBezTo>
                <a:cubicBezTo>
                  <a:pt x="12105" y="15188"/>
                  <a:pt x="12107" y="15183"/>
                  <a:pt x="12119" y="15191"/>
                </a:cubicBezTo>
              </a:path>
              <a:path w="763" h="483">
                <a:moveTo>
                  <a:pt x="12305" y="15434"/>
                </a:moveTo>
                <a:cubicBezTo>
                  <a:pt x="12320" y="15468"/>
                  <a:pt x="12336" y="15498"/>
                  <a:pt x="12359" y="15527"/>
                </a:cubicBezTo>
                <a:cubicBezTo>
                  <a:pt x="12370" y="15541"/>
                  <a:pt x="12378" y="15547"/>
                  <a:pt x="12394" y="15551"/>
                </a:cubicBezTo>
                <a:cubicBezTo>
                  <a:pt x="12414" y="15528"/>
                  <a:pt x="12416" y="15508"/>
                  <a:pt x="12421" y="15478"/>
                </a:cubicBezTo>
                <a:cubicBezTo>
                  <a:pt x="12431" y="15418"/>
                  <a:pt x="12442" y="15360"/>
                  <a:pt x="12459" y="15302"/>
                </a:cubicBezTo>
                <a:cubicBezTo>
                  <a:pt x="12467" y="15277"/>
                  <a:pt x="12469" y="15269"/>
                  <a:pt x="12477" y="1525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4622760" y="5438880"/>
            <a:ext cx="230400" cy="230040"/>
          </a:xfrm>
          <a:custGeom>
            <a:avLst/>
            <a:gdLst/>
            <a:ahLst/>
            <a:rect l="l" t="t" r="r" b="b"/>
            <a:pathLst>
              <a:path w="640" h="638">
                <a:moveTo>
                  <a:pt x="12862" y="15164"/>
                </a:moveTo>
                <a:cubicBezTo>
                  <a:pt x="12857" y="15139"/>
                  <a:pt x="12851" y="15126"/>
                  <a:pt x="12839" y="15109"/>
                </a:cubicBezTo>
                <a:cubicBezTo>
                  <a:pt x="12845" y="15135"/>
                  <a:pt x="12849" y="15161"/>
                  <a:pt x="12858" y="15187"/>
                </a:cubicBezTo>
                <a:cubicBezTo>
                  <a:pt x="12871" y="15223"/>
                  <a:pt x="12885" y="15257"/>
                  <a:pt x="12905" y="15289"/>
                </a:cubicBezTo>
                <a:cubicBezTo>
                  <a:pt x="12933" y="15335"/>
                  <a:pt x="12974" y="15363"/>
                  <a:pt x="12993" y="15416"/>
                </a:cubicBezTo>
                <a:cubicBezTo>
                  <a:pt x="13004" y="15446"/>
                  <a:pt x="13008" y="15478"/>
                  <a:pt x="13001" y="15509"/>
                </a:cubicBezTo>
                <a:cubicBezTo>
                  <a:pt x="12997" y="15530"/>
                  <a:pt x="12988" y="15543"/>
                  <a:pt x="12968" y="15549"/>
                </a:cubicBezTo>
                <a:cubicBezTo>
                  <a:pt x="12948" y="15555"/>
                  <a:pt x="12931" y="15529"/>
                  <a:pt x="12926" y="15514"/>
                </a:cubicBezTo>
                <a:cubicBezTo>
                  <a:pt x="12919" y="15494"/>
                  <a:pt x="12934" y="15488"/>
                  <a:pt x="12942" y="15472"/>
                </a:cubicBezTo>
                <a:cubicBezTo>
                  <a:pt x="12958" y="15439"/>
                  <a:pt x="12955" y="15402"/>
                  <a:pt x="12963" y="15367"/>
                </a:cubicBezTo>
                <a:cubicBezTo>
                  <a:pt x="12968" y="15347"/>
                  <a:pt x="12975" y="15339"/>
                  <a:pt x="12995" y="15337"/>
                </a:cubicBezTo>
                <a:cubicBezTo>
                  <a:pt x="13016" y="15335"/>
                  <a:pt x="13045" y="15356"/>
                  <a:pt x="13060" y="15368"/>
                </a:cubicBezTo>
                <a:cubicBezTo>
                  <a:pt x="13086" y="15389"/>
                  <a:pt x="13107" y="15416"/>
                  <a:pt x="13120" y="15447"/>
                </a:cubicBezTo>
                <a:cubicBezTo>
                  <a:pt x="13134" y="15478"/>
                  <a:pt x="13137" y="15515"/>
                  <a:pt x="13131" y="15548"/>
                </a:cubicBezTo>
                <a:cubicBezTo>
                  <a:pt x="13126" y="15579"/>
                  <a:pt x="13115" y="15601"/>
                  <a:pt x="13082" y="15608"/>
                </a:cubicBezTo>
                <a:cubicBezTo>
                  <a:pt x="13045" y="15615"/>
                  <a:pt x="13025" y="15597"/>
                  <a:pt x="13006" y="15568"/>
                </a:cubicBezTo>
                <a:cubicBezTo>
                  <a:pt x="12990" y="15543"/>
                  <a:pt x="12984" y="15521"/>
                  <a:pt x="12978" y="15492"/>
                </a:cubicBezTo>
              </a:path>
              <a:path w="640" h="638">
                <a:moveTo>
                  <a:pt x="13190" y="15370"/>
                </a:moveTo>
                <a:cubicBezTo>
                  <a:pt x="13196" y="15395"/>
                  <a:pt x="13188" y="15419"/>
                  <a:pt x="13190" y="15443"/>
                </a:cubicBezTo>
                <a:cubicBezTo>
                  <a:pt x="13192" y="15467"/>
                  <a:pt x="13200" y="15518"/>
                  <a:pt x="13225" y="15530"/>
                </a:cubicBezTo>
                <a:cubicBezTo>
                  <a:pt x="13261" y="15548"/>
                  <a:pt x="13310" y="15493"/>
                  <a:pt x="13331" y="15474"/>
                </a:cubicBezTo>
                <a:cubicBezTo>
                  <a:pt x="13371" y="15439"/>
                  <a:pt x="13405" y="15391"/>
                  <a:pt x="13448" y="15361"/>
                </a:cubicBezTo>
                <a:cubicBezTo>
                  <a:pt x="13455" y="15358"/>
                  <a:pt x="13461" y="15355"/>
                  <a:pt x="13468" y="15352"/>
                </a:cubicBezTo>
                <a:cubicBezTo>
                  <a:pt x="13488" y="15381"/>
                  <a:pt x="13469" y="15428"/>
                  <a:pt x="13459" y="15462"/>
                </a:cubicBezTo>
                <a:cubicBezTo>
                  <a:pt x="13438" y="15532"/>
                  <a:pt x="13409" y="15599"/>
                  <a:pt x="13380" y="15665"/>
                </a:cubicBezTo>
                <a:cubicBezTo>
                  <a:pt x="13366" y="15696"/>
                  <a:pt x="13357" y="15719"/>
                  <a:pt x="13337" y="1574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4991040" y="5438880"/>
            <a:ext cx="87480" cy="163440"/>
          </a:xfrm>
          <a:custGeom>
            <a:avLst/>
            <a:gdLst/>
            <a:ahLst/>
            <a:rect l="l" t="t" r="r" b="b"/>
            <a:pathLst>
              <a:path w="244" h="457">
                <a:moveTo>
                  <a:pt x="13862" y="15213"/>
                </a:moveTo>
                <a:cubicBezTo>
                  <a:pt x="13870" y="15190"/>
                  <a:pt x="13885" y="15145"/>
                  <a:pt x="13905" y="15129"/>
                </a:cubicBezTo>
                <a:cubicBezTo>
                  <a:pt x="13924" y="15113"/>
                  <a:pt x="13937" y="15111"/>
                  <a:pt x="13957" y="15111"/>
                </a:cubicBezTo>
                <a:cubicBezTo>
                  <a:pt x="13965" y="15160"/>
                  <a:pt x="13954" y="15185"/>
                  <a:pt x="13931" y="15230"/>
                </a:cubicBezTo>
                <a:cubicBezTo>
                  <a:pt x="13915" y="15263"/>
                  <a:pt x="13895" y="15292"/>
                  <a:pt x="13875" y="15323"/>
                </a:cubicBezTo>
                <a:cubicBezTo>
                  <a:pt x="13907" y="15312"/>
                  <a:pt x="13939" y="15298"/>
                  <a:pt x="13972" y="15293"/>
                </a:cubicBezTo>
                <a:cubicBezTo>
                  <a:pt x="14008" y="15287"/>
                  <a:pt x="14059" y="15284"/>
                  <a:pt x="14086" y="15315"/>
                </a:cubicBezTo>
                <a:cubicBezTo>
                  <a:pt x="14116" y="15350"/>
                  <a:pt x="14104" y="15395"/>
                  <a:pt x="14086" y="15432"/>
                </a:cubicBezTo>
                <a:cubicBezTo>
                  <a:pt x="14065" y="15474"/>
                  <a:pt x="14037" y="15511"/>
                  <a:pt x="13999" y="15538"/>
                </a:cubicBezTo>
                <a:cubicBezTo>
                  <a:pt x="13981" y="15551"/>
                  <a:pt x="13963" y="15556"/>
                  <a:pt x="13942" y="15563"/>
                </a:cubicBezTo>
                <a:cubicBezTo>
                  <a:pt x="13937" y="15528"/>
                  <a:pt x="13939" y="15530"/>
                  <a:pt x="13960" y="1549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5218200" y="5427720"/>
            <a:ext cx="185760" cy="155520"/>
          </a:xfrm>
          <a:custGeom>
            <a:avLst/>
            <a:gdLst/>
            <a:ahLst/>
            <a:rect l="l" t="t" r="r" b="b"/>
            <a:pathLst>
              <a:path w="517" h="436">
                <a:moveTo>
                  <a:pt x="14499" y="15382"/>
                </a:moveTo>
                <a:cubicBezTo>
                  <a:pt x="14497" y="15405"/>
                  <a:pt x="14498" y="15423"/>
                  <a:pt x="14505" y="15448"/>
                </a:cubicBezTo>
                <a:cubicBezTo>
                  <a:pt x="14511" y="15468"/>
                  <a:pt x="14523" y="15510"/>
                  <a:pt x="14550" y="15510"/>
                </a:cubicBezTo>
                <a:cubicBezTo>
                  <a:pt x="14592" y="15510"/>
                  <a:pt x="14617" y="15444"/>
                  <a:pt x="14634" y="15418"/>
                </a:cubicBezTo>
                <a:cubicBezTo>
                  <a:pt x="14680" y="15345"/>
                  <a:pt x="14726" y="15274"/>
                  <a:pt x="14782" y="15208"/>
                </a:cubicBezTo>
                <a:cubicBezTo>
                  <a:pt x="14826" y="15157"/>
                  <a:pt x="14875" y="15103"/>
                  <a:pt x="14939" y="15080"/>
                </a:cubicBezTo>
                <a:cubicBezTo>
                  <a:pt x="14967" y="15070"/>
                  <a:pt x="14985" y="15077"/>
                  <a:pt x="15011" y="1508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3917880" y="5961240"/>
            <a:ext cx="1800" cy="6120"/>
          </a:xfrm>
          <a:custGeom>
            <a:avLst/>
            <a:gdLst/>
            <a:ahLst/>
            <a:rect l="l" t="t" r="r" b="b"/>
            <a:pathLst>
              <a:path w="2" h="17">
                <a:moveTo>
                  <a:pt x="10885" y="16576"/>
                </a:moveTo>
                <a:cubicBezTo>
                  <a:pt x="10885" y="16571"/>
                  <a:pt x="10884" y="16565"/>
                  <a:pt x="10884" y="1656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627120" y="5730840"/>
            <a:ext cx="1035000" cy="268200"/>
          </a:xfrm>
          <a:custGeom>
            <a:avLst/>
            <a:gdLst/>
            <a:ahLst/>
            <a:rect l="l" t="t" r="r" b="b"/>
            <a:pathLst>
              <a:path w="2878" h="746">
                <a:moveTo>
                  <a:pt x="1755" y="16162"/>
                </a:moveTo>
                <a:cubicBezTo>
                  <a:pt x="1742" y="16212"/>
                  <a:pt x="1742" y="16250"/>
                  <a:pt x="1745" y="16302"/>
                </a:cubicBezTo>
                <a:cubicBezTo>
                  <a:pt x="1749" y="16382"/>
                  <a:pt x="1761" y="16460"/>
                  <a:pt x="1785" y="16536"/>
                </a:cubicBezTo>
                <a:cubicBezTo>
                  <a:pt x="1795" y="16567"/>
                  <a:pt x="1808" y="16597"/>
                  <a:pt x="1820" y="16628"/>
                </a:cubicBezTo>
                <a:cubicBezTo>
                  <a:pt x="1827" y="16575"/>
                  <a:pt x="1818" y="16528"/>
                  <a:pt x="1811" y="16474"/>
                </a:cubicBezTo>
                <a:cubicBezTo>
                  <a:pt x="1802" y="16409"/>
                  <a:pt x="1816" y="16365"/>
                  <a:pt x="1832" y="16304"/>
                </a:cubicBezTo>
                <a:cubicBezTo>
                  <a:pt x="1842" y="16267"/>
                  <a:pt x="1855" y="16246"/>
                  <a:pt x="1898" y="16262"/>
                </a:cubicBezTo>
                <a:cubicBezTo>
                  <a:pt x="1906" y="16266"/>
                  <a:pt x="1913" y="16271"/>
                  <a:pt x="1921" y="16275"/>
                </a:cubicBezTo>
              </a:path>
              <a:path w="2878" h="746">
                <a:moveTo>
                  <a:pt x="2024" y="16466"/>
                </a:moveTo>
                <a:cubicBezTo>
                  <a:pt x="2036" y="16490"/>
                  <a:pt x="2052" y="16494"/>
                  <a:pt x="2075" y="16469"/>
                </a:cubicBezTo>
                <a:cubicBezTo>
                  <a:pt x="2110" y="16430"/>
                  <a:pt x="2143" y="16382"/>
                  <a:pt x="2169" y="16336"/>
                </a:cubicBezTo>
                <a:cubicBezTo>
                  <a:pt x="2192" y="16295"/>
                  <a:pt x="2203" y="16261"/>
                  <a:pt x="2206" y="16215"/>
                </a:cubicBezTo>
                <a:cubicBezTo>
                  <a:pt x="2169" y="16202"/>
                  <a:pt x="2149" y="16219"/>
                  <a:pt x="2125" y="16251"/>
                </a:cubicBezTo>
                <a:cubicBezTo>
                  <a:pt x="2077" y="16314"/>
                  <a:pt x="2041" y="16402"/>
                  <a:pt x="2055" y="16481"/>
                </a:cubicBezTo>
                <a:cubicBezTo>
                  <a:pt x="2070" y="16564"/>
                  <a:pt x="2141" y="16598"/>
                  <a:pt x="2218" y="16595"/>
                </a:cubicBezTo>
                <a:cubicBezTo>
                  <a:pt x="2270" y="16588"/>
                  <a:pt x="2287" y="16585"/>
                  <a:pt x="2321" y="16575"/>
                </a:cubicBezTo>
              </a:path>
              <a:path w="2878" h="746">
                <a:moveTo>
                  <a:pt x="2573" y="16412"/>
                </a:moveTo>
                <a:cubicBezTo>
                  <a:pt x="2569" y="16388"/>
                  <a:pt x="2568" y="16356"/>
                  <a:pt x="2547" y="16338"/>
                </a:cubicBezTo>
                <a:cubicBezTo>
                  <a:pt x="2519" y="16315"/>
                  <a:pt x="2495" y="16349"/>
                  <a:pt x="2480" y="16369"/>
                </a:cubicBezTo>
                <a:cubicBezTo>
                  <a:pt x="2448" y="16412"/>
                  <a:pt x="2434" y="16466"/>
                  <a:pt x="2428" y="16519"/>
                </a:cubicBezTo>
                <a:cubicBezTo>
                  <a:pt x="2423" y="16563"/>
                  <a:pt x="2424" y="16619"/>
                  <a:pt x="2464" y="16649"/>
                </a:cubicBezTo>
                <a:cubicBezTo>
                  <a:pt x="2499" y="16675"/>
                  <a:pt x="2539" y="16661"/>
                  <a:pt x="2576" y="16650"/>
                </a:cubicBezTo>
              </a:path>
              <a:path w="2878" h="746">
                <a:moveTo>
                  <a:pt x="2740" y="16450"/>
                </a:moveTo>
                <a:cubicBezTo>
                  <a:pt x="2713" y="16441"/>
                  <a:pt x="2722" y="16483"/>
                  <a:pt x="2723" y="16510"/>
                </a:cubicBezTo>
                <a:cubicBezTo>
                  <a:pt x="2724" y="16545"/>
                  <a:pt x="2725" y="16591"/>
                  <a:pt x="2745" y="16621"/>
                </a:cubicBezTo>
                <a:cubicBezTo>
                  <a:pt x="2749" y="16624"/>
                  <a:pt x="2753" y="16628"/>
                  <a:pt x="2757" y="16631"/>
                </a:cubicBezTo>
                <a:cubicBezTo>
                  <a:pt x="2785" y="16625"/>
                  <a:pt x="2802" y="16596"/>
                  <a:pt x="2816" y="16569"/>
                </a:cubicBezTo>
                <a:cubicBezTo>
                  <a:pt x="2837" y="16527"/>
                  <a:pt x="2846" y="16482"/>
                  <a:pt x="2859" y="16438"/>
                </a:cubicBezTo>
                <a:cubicBezTo>
                  <a:pt x="2866" y="16417"/>
                  <a:pt x="2868" y="16412"/>
                  <a:pt x="2869" y="16398"/>
                </a:cubicBezTo>
                <a:cubicBezTo>
                  <a:pt x="2878" y="16437"/>
                  <a:pt x="2889" y="16472"/>
                  <a:pt x="2902" y="16510"/>
                </a:cubicBezTo>
                <a:cubicBezTo>
                  <a:pt x="2911" y="16537"/>
                  <a:pt x="2920" y="16555"/>
                  <a:pt x="2937" y="16578"/>
                </a:cubicBezTo>
              </a:path>
              <a:path w="2878" h="746">
                <a:moveTo>
                  <a:pt x="3004" y="16425"/>
                </a:moveTo>
                <a:cubicBezTo>
                  <a:pt x="3010" y="16445"/>
                  <a:pt x="3008" y="16464"/>
                  <a:pt x="3013" y="16484"/>
                </a:cubicBezTo>
                <a:cubicBezTo>
                  <a:pt x="3017" y="16500"/>
                  <a:pt x="3023" y="16515"/>
                  <a:pt x="3029" y="16530"/>
                </a:cubicBezTo>
                <a:cubicBezTo>
                  <a:pt x="3045" y="16517"/>
                  <a:pt x="3043" y="16488"/>
                  <a:pt x="3046" y="16465"/>
                </a:cubicBezTo>
                <a:cubicBezTo>
                  <a:pt x="3052" y="16419"/>
                  <a:pt x="3055" y="16378"/>
                  <a:pt x="3080" y="16338"/>
                </a:cubicBezTo>
                <a:cubicBezTo>
                  <a:pt x="3100" y="16306"/>
                  <a:pt x="3126" y="16287"/>
                  <a:pt x="3157" y="16267"/>
                </a:cubicBezTo>
              </a:path>
              <a:path w="2878" h="746">
                <a:moveTo>
                  <a:pt x="3391" y="16243"/>
                </a:moveTo>
                <a:cubicBezTo>
                  <a:pt x="3368" y="16246"/>
                  <a:pt x="3334" y="16264"/>
                  <a:pt x="3316" y="16279"/>
                </a:cubicBezTo>
                <a:cubicBezTo>
                  <a:pt x="3292" y="16299"/>
                  <a:pt x="3270" y="16333"/>
                  <a:pt x="3261" y="16363"/>
                </a:cubicBezTo>
                <a:cubicBezTo>
                  <a:pt x="3250" y="16400"/>
                  <a:pt x="3300" y="16393"/>
                  <a:pt x="3323" y="16396"/>
                </a:cubicBezTo>
                <a:cubicBezTo>
                  <a:pt x="3362" y="16401"/>
                  <a:pt x="3399" y="16411"/>
                  <a:pt x="3428" y="16438"/>
                </a:cubicBezTo>
                <a:cubicBezTo>
                  <a:pt x="3458" y="16465"/>
                  <a:pt x="3466" y="16501"/>
                  <a:pt x="3464" y="16540"/>
                </a:cubicBezTo>
                <a:cubicBezTo>
                  <a:pt x="3462" y="16567"/>
                  <a:pt x="3450" y="16597"/>
                  <a:pt x="3421" y="16602"/>
                </a:cubicBezTo>
                <a:cubicBezTo>
                  <a:pt x="3386" y="16609"/>
                  <a:pt x="3398" y="16553"/>
                  <a:pt x="3398" y="16533"/>
                </a:cubicBezTo>
              </a:path>
              <a:path w="2878" h="746">
                <a:moveTo>
                  <a:pt x="3539" y="16326"/>
                </a:moveTo>
                <a:cubicBezTo>
                  <a:pt x="3561" y="16354"/>
                  <a:pt x="3579" y="16384"/>
                  <a:pt x="3595" y="16416"/>
                </a:cubicBezTo>
                <a:cubicBezTo>
                  <a:pt x="3611" y="16448"/>
                  <a:pt x="3621" y="16485"/>
                  <a:pt x="3654" y="16499"/>
                </a:cubicBezTo>
              </a:path>
              <a:path w="2878" h="746">
                <a:moveTo>
                  <a:pt x="3571" y="16167"/>
                </a:moveTo>
                <a:cubicBezTo>
                  <a:pt x="3565" y="16155"/>
                  <a:pt x="3539" y="16115"/>
                  <a:pt x="3551" y="16102"/>
                </a:cubicBezTo>
                <a:cubicBezTo>
                  <a:pt x="3563" y="16100"/>
                  <a:pt x="3568" y="16099"/>
                  <a:pt x="3575" y="16105"/>
                </a:cubicBezTo>
              </a:path>
              <a:path w="2878" h="746">
                <a:moveTo>
                  <a:pt x="3782" y="16381"/>
                </a:moveTo>
                <a:cubicBezTo>
                  <a:pt x="3796" y="16412"/>
                  <a:pt x="3809" y="16461"/>
                  <a:pt x="3840" y="16479"/>
                </a:cubicBezTo>
                <a:cubicBezTo>
                  <a:pt x="3862" y="16492"/>
                  <a:pt x="3885" y="16473"/>
                  <a:pt x="3897" y="16455"/>
                </a:cubicBezTo>
                <a:cubicBezTo>
                  <a:pt x="3919" y="16422"/>
                  <a:pt x="3926" y="16377"/>
                  <a:pt x="3936" y="16339"/>
                </a:cubicBezTo>
                <a:cubicBezTo>
                  <a:pt x="3947" y="16295"/>
                  <a:pt x="3950" y="16258"/>
                  <a:pt x="3970" y="16216"/>
                </a:cubicBezTo>
                <a:cubicBezTo>
                  <a:pt x="3979" y="16198"/>
                  <a:pt x="3982" y="16193"/>
                  <a:pt x="3991" y="16184"/>
                </a:cubicBezTo>
              </a:path>
              <a:path w="2878" h="746">
                <a:moveTo>
                  <a:pt x="4099" y="16307"/>
                </a:moveTo>
                <a:cubicBezTo>
                  <a:pt x="4126" y="16331"/>
                  <a:pt x="4131" y="16317"/>
                  <a:pt x="4160" y="16301"/>
                </a:cubicBezTo>
                <a:cubicBezTo>
                  <a:pt x="4182" y="16288"/>
                  <a:pt x="4204" y="16273"/>
                  <a:pt x="4216" y="16249"/>
                </a:cubicBezTo>
                <a:cubicBezTo>
                  <a:pt x="4220" y="16237"/>
                  <a:pt x="4221" y="16234"/>
                  <a:pt x="4219" y="16226"/>
                </a:cubicBezTo>
                <a:cubicBezTo>
                  <a:pt x="4189" y="16218"/>
                  <a:pt x="4175" y="16224"/>
                  <a:pt x="4151" y="16247"/>
                </a:cubicBezTo>
                <a:cubicBezTo>
                  <a:pt x="4128" y="16269"/>
                  <a:pt x="4108" y="16306"/>
                  <a:pt x="4105" y="16338"/>
                </a:cubicBezTo>
                <a:cubicBezTo>
                  <a:pt x="4102" y="16370"/>
                  <a:pt x="4109" y="16398"/>
                  <a:pt x="4142" y="16408"/>
                </a:cubicBezTo>
                <a:cubicBezTo>
                  <a:pt x="4159" y="16413"/>
                  <a:pt x="4183" y="16408"/>
                  <a:pt x="4200" y="16406"/>
                </a:cubicBezTo>
              </a:path>
              <a:path w="2878" h="746">
                <a:moveTo>
                  <a:pt x="4437" y="16391"/>
                </a:moveTo>
                <a:cubicBezTo>
                  <a:pt x="4425" y="16377"/>
                  <a:pt x="4415" y="16373"/>
                  <a:pt x="4419" y="16350"/>
                </a:cubicBezTo>
                <a:cubicBezTo>
                  <a:pt x="4424" y="16333"/>
                  <a:pt x="4426" y="16327"/>
                  <a:pt x="4431" y="16316"/>
                </a:cubicBezTo>
              </a:path>
              <a:path w="2878" h="746">
                <a:moveTo>
                  <a:pt x="4617" y="16028"/>
                </a:moveTo>
                <a:cubicBezTo>
                  <a:pt x="4602" y="16023"/>
                  <a:pt x="4578" y="16016"/>
                  <a:pt x="4571" y="16000"/>
                </a:cubicBezTo>
                <a:cubicBezTo>
                  <a:pt x="4562" y="15979"/>
                  <a:pt x="4578" y="15943"/>
                  <a:pt x="4583" y="15922"/>
                </a:cubicBezTo>
              </a:path>
              <a:path w="2878" h="746">
                <a:moveTo>
                  <a:pt x="4547" y="15991"/>
                </a:moveTo>
                <a:cubicBezTo>
                  <a:pt x="4530" y="15976"/>
                  <a:pt x="4525" y="15970"/>
                  <a:pt x="4529" y="15947"/>
                </a:cubicBezTo>
                <a:cubicBezTo>
                  <a:pt x="4532" y="15930"/>
                  <a:pt x="4539" y="15930"/>
                  <a:pt x="4553" y="15919"/>
                </a:cubicBezTo>
              </a:path>
              <a:path w="2878" h="746">
                <a:moveTo>
                  <a:pt x="4513" y="16308"/>
                </a:moveTo>
                <a:cubicBezTo>
                  <a:pt x="4506" y="16286"/>
                  <a:pt x="4501" y="16276"/>
                  <a:pt x="4502" y="16253"/>
                </a:cubicBezTo>
                <a:cubicBezTo>
                  <a:pt x="4502" y="16241"/>
                  <a:pt x="4502" y="16237"/>
                  <a:pt x="4504" y="1622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1893960" y="5810400"/>
            <a:ext cx="438120" cy="171360"/>
          </a:xfrm>
          <a:custGeom>
            <a:avLst/>
            <a:gdLst/>
            <a:ahLst/>
            <a:rect l="l" t="t" r="r" b="b"/>
            <a:pathLst>
              <a:path w="1219" h="473">
                <a:moveTo>
                  <a:pt x="5466" y="16304"/>
                </a:moveTo>
                <a:cubicBezTo>
                  <a:pt x="5464" y="16287"/>
                  <a:pt x="5465" y="16271"/>
                  <a:pt x="5456" y="16255"/>
                </a:cubicBezTo>
                <a:cubicBezTo>
                  <a:pt x="5437" y="16219"/>
                  <a:pt x="5399" y="16230"/>
                  <a:pt x="5373" y="16251"/>
                </a:cubicBezTo>
                <a:cubicBezTo>
                  <a:pt x="5330" y="16286"/>
                  <a:pt x="5301" y="16341"/>
                  <a:pt x="5282" y="16392"/>
                </a:cubicBezTo>
                <a:cubicBezTo>
                  <a:pt x="5264" y="16441"/>
                  <a:pt x="5246" y="16512"/>
                  <a:pt x="5271" y="16562"/>
                </a:cubicBezTo>
                <a:cubicBezTo>
                  <a:pt x="5292" y="16604"/>
                  <a:pt x="5338" y="16596"/>
                  <a:pt x="5372" y="16580"/>
                </a:cubicBezTo>
                <a:cubicBezTo>
                  <a:pt x="5417" y="16559"/>
                  <a:pt x="5448" y="16523"/>
                  <a:pt x="5480" y="16487"/>
                </a:cubicBezTo>
                <a:cubicBezTo>
                  <a:pt x="5492" y="16473"/>
                  <a:pt x="5503" y="16464"/>
                  <a:pt x="5515" y="16453"/>
                </a:cubicBezTo>
                <a:cubicBezTo>
                  <a:pt x="5517" y="16485"/>
                  <a:pt x="5514" y="16517"/>
                  <a:pt x="5522" y="16548"/>
                </a:cubicBezTo>
                <a:cubicBezTo>
                  <a:pt x="5531" y="16581"/>
                  <a:pt x="5538" y="16599"/>
                  <a:pt x="5567" y="16613"/>
                </a:cubicBezTo>
              </a:path>
              <a:path w="1219" h="473">
                <a:moveTo>
                  <a:pt x="5853" y="16300"/>
                </a:moveTo>
                <a:cubicBezTo>
                  <a:pt x="5851" y="16274"/>
                  <a:pt x="5852" y="16267"/>
                  <a:pt x="5837" y="16247"/>
                </a:cubicBezTo>
                <a:cubicBezTo>
                  <a:pt x="5804" y="16252"/>
                  <a:pt x="5785" y="16285"/>
                  <a:pt x="5767" y="16318"/>
                </a:cubicBezTo>
                <a:cubicBezTo>
                  <a:pt x="5743" y="16363"/>
                  <a:pt x="5721" y="16421"/>
                  <a:pt x="5722" y="16473"/>
                </a:cubicBezTo>
                <a:cubicBezTo>
                  <a:pt x="5724" y="16534"/>
                  <a:pt x="5776" y="16539"/>
                  <a:pt x="5824" y="16535"/>
                </a:cubicBezTo>
                <a:cubicBezTo>
                  <a:pt x="5853" y="16532"/>
                  <a:pt x="5871" y="16525"/>
                  <a:pt x="5896" y="16513"/>
                </a:cubicBezTo>
              </a:path>
              <a:path w="1219" h="473">
                <a:moveTo>
                  <a:pt x="5777" y="16469"/>
                </a:moveTo>
                <a:cubicBezTo>
                  <a:pt x="5766" y="16473"/>
                  <a:pt x="5763" y="16474"/>
                  <a:pt x="5755" y="16471"/>
                </a:cubicBezTo>
                <a:cubicBezTo>
                  <a:pt x="5782" y="16459"/>
                  <a:pt x="5805" y="16446"/>
                  <a:pt x="5836" y="16440"/>
                </a:cubicBezTo>
                <a:cubicBezTo>
                  <a:pt x="5868" y="16434"/>
                  <a:pt x="5898" y="16431"/>
                  <a:pt x="5930" y="16429"/>
                </a:cubicBezTo>
              </a:path>
              <a:path w="1219" h="473">
                <a:moveTo>
                  <a:pt x="6060" y="16558"/>
                </a:moveTo>
                <a:cubicBezTo>
                  <a:pt x="6066" y="16525"/>
                  <a:pt x="6072" y="16490"/>
                  <a:pt x="6077" y="16457"/>
                </a:cubicBezTo>
                <a:cubicBezTo>
                  <a:pt x="6088" y="16385"/>
                  <a:pt x="6111" y="16321"/>
                  <a:pt x="6143" y="16256"/>
                </a:cubicBezTo>
                <a:cubicBezTo>
                  <a:pt x="6168" y="16206"/>
                  <a:pt x="6189" y="16168"/>
                  <a:pt x="6237" y="16141"/>
                </a:cubicBezTo>
                <a:cubicBezTo>
                  <a:pt x="6275" y="16177"/>
                  <a:pt x="6273" y="16222"/>
                  <a:pt x="6283" y="16273"/>
                </a:cubicBezTo>
                <a:cubicBezTo>
                  <a:pt x="6297" y="16346"/>
                  <a:pt x="6302" y="16417"/>
                  <a:pt x="6307" y="16491"/>
                </a:cubicBezTo>
                <a:cubicBezTo>
                  <a:pt x="6309" y="16520"/>
                  <a:pt x="6309" y="16527"/>
                  <a:pt x="6309" y="16545"/>
                </a:cubicBezTo>
              </a:path>
              <a:path w="1219" h="473">
                <a:moveTo>
                  <a:pt x="6162" y="16422"/>
                </a:moveTo>
                <a:cubicBezTo>
                  <a:pt x="6172" y="16400"/>
                  <a:pt x="6204" y="16392"/>
                  <a:pt x="6230" y="16385"/>
                </a:cubicBezTo>
                <a:cubicBezTo>
                  <a:pt x="6288" y="16370"/>
                  <a:pt x="6348" y="16364"/>
                  <a:pt x="6406" y="16351"/>
                </a:cubicBezTo>
                <a:cubicBezTo>
                  <a:pt x="6443" y="16342"/>
                  <a:pt x="6455" y="16339"/>
                  <a:pt x="6479" y="1633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2612880" y="5838840"/>
            <a:ext cx="111240" cy="114120"/>
          </a:xfrm>
          <a:custGeom>
            <a:avLst/>
            <a:gdLst/>
            <a:ahLst/>
            <a:rect l="l" t="t" r="r" b="b"/>
            <a:pathLst>
              <a:path w="308" h="319">
                <a:moveTo>
                  <a:pt x="7426" y="16310"/>
                </a:moveTo>
                <a:cubicBezTo>
                  <a:pt x="7423" y="16289"/>
                  <a:pt x="7422" y="16259"/>
                  <a:pt x="7408" y="16241"/>
                </a:cubicBezTo>
                <a:cubicBezTo>
                  <a:pt x="7384" y="16209"/>
                  <a:pt x="7363" y="16213"/>
                  <a:pt x="7336" y="16238"/>
                </a:cubicBezTo>
                <a:cubicBezTo>
                  <a:pt x="7297" y="16275"/>
                  <a:pt x="7275" y="16330"/>
                  <a:pt x="7264" y="16382"/>
                </a:cubicBezTo>
                <a:cubicBezTo>
                  <a:pt x="7256" y="16423"/>
                  <a:pt x="7251" y="16489"/>
                  <a:pt x="7286" y="16521"/>
                </a:cubicBezTo>
                <a:cubicBezTo>
                  <a:pt x="7317" y="16550"/>
                  <a:pt x="7353" y="16514"/>
                  <a:pt x="7371" y="16490"/>
                </a:cubicBezTo>
                <a:cubicBezTo>
                  <a:pt x="7399" y="16454"/>
                  <a:pt x="7416" y="16411"/>
                  <a:pt x="7437" y="16371"/>
                </a:cubicBezTo>
                <a:cubicBezTo>
                  <a:pt x="7446" y="16355"/>
                  <a:pt x="7448" y="16350"/>
                  <a:pt x="7461" y="16347"/>
                </a:cubicBezTo>
                <a:cubicBezTo>
                  <a:pt x="7486" y="16364"/>
                  <a:pt x="7490" y="16388"/>
                  <a:pt x="7499" y="16417"/>
                </a:cubicBezTo>
                <a:cubicBezTo>
                  <a:pt x="7505" y="16439"/>
                  <a:pt x="7515" y="16530"/>
                  <a:pt x="7542" y="16536"/>
                </a:cubicBezTo>
                <a:cubicBezTo>
                  <a:pt x="7558" y="16532"/>
                  <a:pt x="7563" y="16531"/>
                  <a:pt x="7566" y="1651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2868480" y="5791320"/>
            <a:ext cx="311400" cy="174600"/>
          </a:xfrm>
          <a:custGeom>
            <a:avLst/>
            <a:gdLst/>
            <a:ahLst/>
            <a:rect l="l" t="t" r="r" b="b"/>
            <a:pathLst>
              <a:path w="864" h="485">
                <a:moveTo>
                  <a:pt x="8165" y="16395"/>
                </a:moveTo>
                <a:cubicBezTo>
                  <a:pt x="8178" y="16379"/>
                  <a:pt x="8194" y="16366"/>
                  <a:pt x="8190" y="16343"/>
                </a:cubicBezTo>
                <a:cubicBezTo>
                  <a:pt x="8184" y="16310"/>
                  <a:pt x="8170" y="16296"/>
                  <a:pt x="8133" y="16308"/>
                </a:cubicBezTo>
                <a:cubicBezTo>
                  <a:pt x="8082" y="16325"/>
                  <a:pt x="8042" y="16370"/>
                  <a:pt x="8013" y="16413"/>
                </a:cubicBezTo>
                <a:cubicBezTo>
                  <a:pt x="7991" y="16447"/>
                  <a:pt x="7955" y="16509"/>
                  <a:pt x="7975" y="16551"/>
                </a:cubicBezTo>
                <a:cubicBezTo>
                  <a:pt x="7980" y="16556"/>
                  <a:pt x="7985" y="16560"/>
                  <a:pt x="7990" y="16565"/>
                </a:cubicBezTo>
                <a:cubicBezTo>
                  <a:pt x="8036" y="16565"/>
                  <a:pt x="8066" y="16551"/>
                  <a:pt x="8097" y="16514"/>
                </a:cubicBezTo>
                <a:cubicBezTo>
                  <a:pt x="8173" y="16423"/>
                  <a:pt x="8188" y="16291"/>
                  <a:pt x="8199" y="16178"/>
                </a:cubicBezTo>
                <a:cubicBezTo>
                  <a:pt x="8202" y="16147"/>
                  <a:pt x="8202" y="16140"/>
                  <a:pt x="8205" y="16121"/>
                </a:cubicBezTo>
                <a:cubicBezTo>
                  <a:pt x="8216" y="16165"/>
                  <a:pt x="8217" y="16216"/>
                  <a:pt x="8222" y="16262"/>
                </a:cubicBezTo>
                <a:cubicBezTo>
                  <a:pt x="8230" y="16333"/>
                  <a:pt x="8238" y="16407"/>
                  <a:pt x="8261" y="16475"/>
                </a:cubicBezTo>
                <a:cubicBezTo>
                  <a:pt x="8273" y="16512"/>
                  <a:pt x="8281" y="16519"/>
                  <a:pt x="8312" y="16534"/>
                </a:cubicBezTo>
              </a:path>
              <a:path w="864" h="485">
                <a:moveTo>
                  <a:pt x="8461" y="16391"/>
                </a:moveTo>
                <a:cubicBezTo>
                  <a:pt x="8455" y="16422"/>
                  <a:pt x="8455" y="16447"/>
                  <a:pt x="8454" y="16477"/>
                </a:cubicBezTo>
                <a:cubicBezTo>
                  <a:pt x="8453" y="16503"/>
                  <a:pt x="8436" y="16549"/>
                  <a:pt x="8465" y="16520"/>
                </a:cubicBezTo>
              </a:path>
              <a:path w="864" h="485">
                <a:moveTo>
                  <a:pt x="8460" y="16173"/>
                </a:moveTo>
                <a:cubicBezTo>
                  <a:pt x="8460" y="16169"/>
                  <a:pt x="8446" y="16088"/>
                  <a:pt x="8459" y="16087"/>
                </a:cubicBezTo>
                <a:cubicBezTo>
                  <a:pt x="8464" y="16090"/>
                  <a:pt x="8468" y="16094"/>
                  <a:pt x="8473" y="16097"/>
                </a:cubicBezTo>
              </a:path>
              <a:path w="864" h="485">
                <a:moveTo>
                  <a:pt x="8593" y="16443"/>
                </a:moveTo>
                <a:cubicBezTo>
                  <a:pt x="8603" y="16473"/>
                  <a:pt x="8612" y="16512"/>
                  <a:pt x="8631" y="16538"/>
                </a:cubicBezTo>
                <a:cubicBezTo>
                  <a:pt x="8643" y="16555"/>
                  <a:pt x="8666" y="16582"/>
                  <a:pt x="8689" y="16565"/>
                </a:cubicBezTo>
                <a:cubicBezTo>
                  <a:pt x="8722" y="16541"/>
                  <a:pt x="8739" y="16483"/>
                  <a:pt x="8753" y="16447"/>
                </a:cubicBezTo>
                <a:cubicBezTo>
                  <a:pt x="8778" y="16384"/>
                  <a:pt x="8803" y="16320"/>
                  <a:pt x="8827" y="16256"/>
                </a:cubicBezTo>
                <a:cubicBezTo>
                  <a:pt x="8829" y="16250"/>
                  <a:pt x="8831" y="16244"/>
                  <a:pt x="8833" y="1623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3319560" y="5767560"/>
            <a:ext cx="239760" cy="293400"/>
          </a:xfrm>
          <a:custGeom>
            <a:avLst/>
            <a:gdLst/>
            <a:ahLst/>
            <a:rect l="l" t="t" r="r" b="b"/>
            <a:pathLst>
              <a:path w="667" h="814">
                <a:moveTo>
                  <a:pt x="9231" y="16087"/>
                </a:moveTo>
                <a:cubicBezTo>
                  <a:pt x="9227" y="16061"/>
                  <a:pt x="9233" y="16054"/>
                  <a:pt x="9220" y="16032"/>
                </a:cubicBezTo>
                <a:cubicBezTo>
                  <a:pt x="9230" y="16087"/>
                  <a:pt x="9249" y="16140"/>
                  <a:pt x="9263" y="16195"/>
                </a:cubicBezTo>
                <a:cubicBezTo>
                  <a:pt x="9279" y="16260"/>
                  <a:pt x="9295" y="16326"/>
                  <a:pt x="9315" y="16390"/>
                </a:cubicBezTo>
                <a:cubicBezTo>
                  <a:pt x="9322" y="16411"/>
                  <a:pt x="9323" y="16416"/>
                  <a:pt x="9330" y="16427"/>
                </a:cubicBezTo>
                <a:cubicBezTo>
                  <a:pt x="9357" y="16396"/>
                  <a:pt x="9370" y="16352"/>
                  <a:pt x="9402" y="16325"/>
                </a:cubicBezTo>
                <a:cubicBezTo>
                  <a:pt x="9430" y="16301"/>
                  <a:pt x="9464" y="16299"/>
                  <a:pt x="9493" y="16319"/>
                </a:cubicBezTo>
                <a:cubicBezTo>
                  <a:pt x="9523" y="16339"/>
                  <a:pt x="9534" y="16380"/>
                  <a:pt x="9520" y="16414"/>
                </a:cubicBezTo>
                <a:cubicBezTo>
                  <a:pt x="9500" y="16463"/>
                  <a:pt x="9441" y="16478"/>
                  <a:pt x="9396" y="16491"/>
                </a:cubicBezTo>
                <a:cubicBezTo>
                  <a:pt x="9358" y="16501"/>
                  <a:pt x="9296" y="16506"/>
                  <a:pt x="9265" y="16474"/>
                </a:cubicBezTo>
                <a:cubicBezTo>
                  <a:pt x="9256" y="16455"/>
                  <a:pt x="9253" y="16449"/>
                  <a:pt x="9262" y="16435"/>
                </a:cubicBezTo>
              </a:path>
              <a:path w="667" h="814">
                <a:moveTo>
                  <a:pt x="9682" y="16297"/>
                </a:moveTo>
                <a:cubicBezTo>
                  <a:pt x="9688" y="16323"/>
                  <a:pt x="9685" y="16345"/>
                  <a:pt x="9687" y="16372"/>
                </a:cubicBezTo>
                <a:cubicBezTo>
                  <a:pt x="9689" y="16405"/>
                  <a:pt x="9691" y="16452"/>
                  <a:pt x="9712" y="16480"/>
                </a:cubicBezTo>
                <a:cubicBezTo>
                  <a:pt x="9733" y="16509"/>
                  <a:pt x="9763" y="16477"/>
                  <a:pt x="9779" y="16460"/>
                </a:cubicBezTo>
                <a:cubicBezTo>
                  <a:pt x="9810" y="16427"/>
                  <a:pt x="9827" y="16385"/>
                  <a:pt x="9854" y="16350"/>
                </a:cubicBezTo>
                <a:cubicBezTo>
                  <a:pt x="9867" y="16336"/>
                  <a:pt x="9869" y="16332"/>
                  <a:pt x="9880" y="16329"/>
                </a:cubicBezTo>
                <a:cubicBezTo>
                  <a:pt x="9893" y="16374"/>
                  <a:pt x="9876" y="16420"/>
                  <a:pt x="9866" y="16465"/>
                </a:cubicBezTo>
                <a:cubicBezTo>
                  <a:pt x="9847" y="16555"/>
                  <a:pt x="9819" y="16638"/>
                  <a:pt x="9786" y="16724"/>
                </a:cubicBezTo>
                <a:cubicBezTo>
                  <a:pt x="9772" y="16761"/>
                  <a:pt x="9756" y="16797"/>
                  <a:pt x="9740" y="1683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3701880" y="5778360"/>
            <a:ext cx="131760" cy="189000"/>
          </a:xfrm>
          <a:custGeom>
            <a:avLst/>
            <a:gdLst/>
            <a:ahLst/>
            <a:rect l="l" t="t" r="r" b="b"/>
            <a:pathLst>
              <a:path w="366" h="523">
                <a:moveTo>
                  <a:pt x="10308" y="16238"/>
                </a:moveTo>
                <a:cubicBezTo>
                  <a:pt x="10299" y="16218"/>
                  <a:pt x="10279" y="16185"/>
                  <a:pt x="10284" y="16162"/>
                </a:cubicBezTo>
                <a:cubicBezTo>
                  <a:pt x="10292" y="16126"/>
                  <a:pt x="10334" y="16088"/>
                  <a:pt x="10365" y="16072"/>
                </a:cubicBezTo>
                <a:cubicBezTo>
                  <a:pt x="10405" y="16051"/>
                  <a:pt x="10460" y="16040"/>
                  <a:pt x="10497" y="16073"/>
                </a:cubicBezTo>
                <a:cubicBezTo>
                  <a:pt x="10538" y="16110"/>
                  <a:pt x="10534" y="16183"/>
                  <a:pt x="10523" y="16231"/>
                </a:cubicBezTo>
                <a:cubicBezTo>
                  <a:pt x="10511" y="16283"/>
                  <a:pt x="10485" y="16331"/>
                  <a:pt x="10458" y="16376"/>
                </a:cubicBezTo>
                <a:cubicBezTo>
                  <a:pt x="10431" y="16404"/>
                  <a:pt x="10463" y="16367"/>
                  <a:pt x="10485" y="16363"/>
                </a:cubicBezTo>
                <a:cubicBezTo>
                  <a:pt x="10524" y="16356"/>
                  <a:pt x="10567" y="16372"/>
                  <a:pt x="10598" y="16396"/>
                </a:cubicBezTo>
                <a:cubicBezTo>
                  <a:pt x="10634" y="16425"/>
                  <a:pt x="10665" y="16480"/>
                  <a:pt x="10642" y="16526"/>
                </a:cubicBezTo>
                <a:cubicBezTo>
                  <a:pt x="10626" y="16557"/>
                  <a:pt x="10595" y="16576"/>
                  <a:pt x="10562" y="16571"/>
                </a:cubicBezTo>
                <a:cubicBezTo>
                  <a:pt x="10524" y="16565"/>
                  <a:pt x="10532" y="16536"/>
                  <a:pt x="10538" y="1650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1855800" y="6132600"/>
            <a:ext cx="274680" cy="160200"/>
          </a:xfrm>
          <a:custGeom>
            <a:avLst/>
            <a:gdLst/>
            <a:ahLst/>
            <a:rect l="l" t="t" r="r" b="b"/>
            <a:pathLst>
              <a:path w="763" h="446">
                <a:moveTo>
                  <a:pt x="5214" y="17217"/>
                </a:moveTo>
                <a:cubicBezTo>
                  <a:pt x="5192" y="17216"/>
                  <a:pt x="5175" y="17213"/>
                  <a:pt x="5155" y="17208"/>
                </a:cubicBezTo>
                <a:cubicBezTo>
                  <a:pt x="5166" y="17192"/>
                  <a:pt x="5183" y="17185"/>
                  <a:pt x="5203" y="17180"/>
                </a:cubicBezTo>
                <a:cubicBezTo>
                  <a:pt x="5249" y="17169"/>
                  <a:pt x="5294" y="17160"/>
                  <a:pt x="5341" y="17154"/>
                </a:cubicBezTo>
                <a:cubicBezTo>
                  <a:pt x="5428" y="17143"/>
                  <a:pt x="5510" y="17150"/>
                  <a:pt x="5596" y="17158"/>
                </a:cubicBezTo>
                <a:cubicBezTo>
                  <a:pt x="5620" y="17160"/>
                  <a:pt x="5621" y="17156"/>
                  <a:pt x="5632" y="17176"/>
                </a:cubicBezTo>
              </a:path>
              <a:path w="763" h="446">
                <a:moveTo>
                  <a:pt x="5302" y="17298"/>
                </a:moveTo>
                <a:cubicBezTo>
                  <a:pt x="5284" y="17315"/>
                  <a:pt x="5266" y="17325"/>
                  <a:pt x="5256" y="17348"/>
                </a:cubicBezTo>
                <a:cubicBezTo>
                  <a:pt x="5291" y="17355"/>
                  <a:pt x="5324" y="17349"/>
                  <a:pt x="5360" y="17344"/>
                </a:cubicBezTo>
                <a:cubicBezTo>
                  <a:pt x="5427" y="17335"/>
                  <a:pt x="5491" y="17325"/>
                  <a:pt x="5557" y="17311"/>
                </a:cubicBezTo>
                <a:cubicBezTo>
                  <a:pt x="5602" y="17301"/>
                  <a:pt x="5616" y="17298"/>
                  <a:pt x="5643" y="17283"/>
                </a:cubicBezTo>
              </a:path>
              <a:path w="763" h="446">
                <a:moveTo>
                  <a:pt x="5625" y="17061"/>
                </a:moveTo>
                <a:cubicBezTo>
                  <a:pt x="5621" y="17060"/>
                  <a:pt x="5617" y="17059"/>
                  <a:pt x="5613" y="17058"/>
                </a:cubicBezTo>
                <a:cubicBezTo>
                  <a:pt x="5644" y="17028"/>
                  <a:pt x="5683" y="17033"/>
                  <a:pt x="5730" y="17040"/>
                </a:cubicBezTo>
                <a:cubicBezTo>
                  <a:pt x="5809" y="17052"/>
                  <a:pt x="5893" y="17095"/>
                  <a:pt x="5914" y="17179"/>
                </a:cubicBezTo>
                <a:cubicBezTo>
                  <a:pt x="5931" y="17248"/>
                  <a:pt x="5892" y="17319"/>
                  <a:pt x="5850" y="17370"/>
                </a:cubicBezTo>
                <a:cubicBezTo>
                  <a:pt x="5814" y="17414"/>
                  <a:pt x="5767" y="17459"/>
                  <a:pt x="5712" y="17477"/>
                </a:cubicBezTo>
                <a:cubicBezTo>
                  <a:pt x="5705" y="17478"/>
                  <a:pt x="5698" y="17479"/>
                  <a:pt x="5691" y="1748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295360" y="6143760"/>
            <a:ext cx="362160" cy="171360"/>
          </a:xfrm>
          <a:custGeom>
            <a:avLst/>
            <a:gdLst/>
            <a:ahLst/>
            <a:rect l="l" t="t" r="r" b="b"/>
            <a:pathLst>
              <a:path w="1005" h="476">
                <a:moveTo>
                  <a:pt x="6510" y="17179"/>
                </a:moveTo>
                <a:cubicBezTo>
                  <a:pt x="6495" y="17169"/>
                  <a:pt x="6469" y="17156"/>
                  <a:pt x="6450" y="17157"/>
                </a:cubicBezTo>
                <a:cubicBezTo>
                  <a:pt x="6425" y="17159"/>
                  <a:pt x="6405" y="17181"/>
                  <a:pt x="6394" y="17202"/>
                </a:cubicBezTo>
                <a:cubicBezTo>
                  <a:pt x="6379" y="17233"/>
                  <a:pt x="6372" y="17270"/>
                  <a:pt x="6375" y="17304"/>
                </a:cubicBezTo>
                <a:cubicBezTo>
                  <a:pt x="6378" y="17334"/>
                  <a:pt x="6394" y="17350"/>
                  <a:pt x="6423" y="17333"/>
                </a:cubicBezTo>
                <a:cubicBezTo>
                  <a:pt x="6464" y="17309"/>
                  <a:pt x="6491" y="17263"/>
                  <a:pt x="6531" y="17236"/>
                </a:cubicBezTo>
                <a:cubicBezTo>
                  <a:pt x="6567" y="17211"/>
                  <a:pt x="6578" y="17253"/>
                  <a:pt x="6587" y="17281"/>
                </a:cubicBezTo>
                <a:cubicBezTo>
                  <a:pt x="6604" y="17335"/>
                  <a:pt x="6604" y="17396"/>
                  <a:pt x="6623" y="17449"/>
                </a:cubicBezTo>
                <a:cubicBezTo>
                  <a:pt x="6643" y="17506"/>
                  <a:pt x="6639" y="17522"/>
                  <a:pt x="6680" y="17513"/>
                </a:cubicBezTo>
              </a:path>
              <a:path w="1005" h="476">
                <a:moveTo>
                  <a:pt x="6786" y="17199"/>
                </a:moveTo>
                <a:cubicBezTo>
                  <a:pt x="6794" y="17233"/>
                  <a:pt x="6784" y="17259"/>
                  <a:pt x="6786" y="17292"/>
                </a:cubicBezTo>
                <a:cubicBezTo>
                  <a:pt x="6789" y="17337"/>
                  <a:pt x="6798" y="17379"/>
                  <a:pt x="6820" y="17418"/>
                </a:cubicBezTo>
                <a:cubicBezTo>
                  <a:pt x="6829" y="17435"/>
                  <a:pt x="6839" y="17445"/>
                  <a:pt x="6853" y="17457"/>
                </a:cubicBezTo>
              </a:path>
              <a:path w="1005" h="476">
                <a:moveTo>
                  <a:pt x="6740" y="17319"/>
                </a:moveTo>
                <a:cubicBezTo>
                  <a:pt x="6736" y="17323"/>
                  <a:pt x="6731" y="17328"/>
                  <a:pt x="6727" y="17332"/>
                </a:cubicBezTo>
                <a:cubicBezTo>
                  <a:pt x="6756" y="17333"/>
                  <a:pt x="6789" y="17318"/>
                  <a:pt x="6819" y="17312"/>
                </a:cubicBezTo>
                <a:cubicBezTo>
                  <a:pt x="6875" y="17301"/>
                  <a:pt x="6928" y="17280"/>
                  <a:pt x="6983" y="17263"/>
                </a:cubicBezTo>
              </a:path>
              <a:path w="1005" h="476">
                <a:moveTo>
                  <a:pt x="7102" y="17142"/>
                </a:moveTo>
                <a:cubicBezTo>
                  <a:pt x="7107" y="17121"/>
                  <a:pt x="7117" y="17091"/>
                  <a:pt x="7138" y="17079"/>
                </a:cubicBezTo>
                <a:cubicBezTo>
                  <a:pt x="7167" y="17063"/>
                  <a:pt x="7206" y="17060"/>
                  <a:pt x="7229" y="17087"/>
                </a:cubicBezTo>
                <a:cubicBezTo>
                  <a:pt x="7263" y="17127"/>
                  <a:pt x="7254" y="17184"/>
                  <a:pt x="7243" y="17231"/>
                </a:cubicBezTo>
                <a:cubicBezTo>
                  <a:pt x="7232" y="17277"/>
                  <a:pt x="7212" y="17317"/>
                  <a:pt x="7195" y="17360"/>
                </a:cubicBezTo>
                <a:cubicBezTo>
                  <a:pt x="7194" y="17363"/>
                  <a:pt x="7193" y="17366"/>
                  <a:pt x="7192" y="17369"/>
                </a:cubicBezTo>
                <a:cubicBezTo>
                  <a:pt x="7224" y="17370"/>
                  <a:pt x="7255" y="17360"/>
                  <a:pt x="7286" y="17360"/>
                </a:cubicBezTo>
                <a:cubicBezTo>
                  <a:pt x="7321" y="17360"/>
                  <a:pt x="7361" y="17364"/>
                  <a:pt x="7376" y="17401"/>
                </a:cubicBezTo>
                <a:cubicBezTo>
                  <a:pt x="7396" y="17451"/>
                  <a:pt x="7337" y="17492"/>
                  <a:pt x="7300" y="17512"/>
                </a:cubicBezTo>
                <a:cubicBezTo>
                  <a:pt x="7260" y="17533"/>
                  <a:pt x="7240" y="17538"/>
                  <a:pt x="7199" y="1754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865600" y="6053040"/>
            <a:ext cx="636480" cy="331920"/>
          </a:xfrm>
          <a:custGeom>
            <a:avLst/>
            <a:gdLst/>
            <a:ahLst/>
            <a:rect l="l" t="t" r="r" b="b"/>
            <a:pathLst>
              <a:path w="1769" h="922">
                <a:moveTo>
                  <a:pt x="8241" y="17257"/>
                </a:moveTo>
                <a:cubicBezTo>
                  <a:pt x="8215" y="17236"/>
                  <a:pt x="8199" y="17228"/>
                  <a:pt x="8167" y="17227"/>
                </a:cubicBezTo>
                <a:cubicBezTo>
                  <a:pt x="8115" y="17226"/>
                  <a:pt x="8079" y="17245"/>
                  <a:pt x="8039" y="17278"/>
                </a:cubicBezTo>
                <a:cubicBezTo>
                  <a:pt x="7999" y="17311"/>
                  <a:pt x="7969" y="17354"/>
                  <a:pt x="7960" y="17406"/>
                </a:cubicBezTo>
                <a:cubicBezTo>
                  <a:pt x="7959" y="17432"/>
                  <a:pt x="7957" y="17439"/>
                  <a:pt x="7966" y="17454"/>
                </a:cubicBezTo>
                <a:cubicBezTo>
                  <a:pt x="8008" y="17467"/>
                  <a:pt x="8038" y="17449"/>
                  <a:pt x="8069" y="17414"/>
                </a:cubicBezTo>
                <a:cubicBezTo>
                  <a:pt x="8122" y="17355"/>
                  <a:pt x="8152" y="17275"/>
                  <a:pt x="8179" y="17202"/>
                </a:cubicBezTo>
                <a:cubicBezTo>
                  <a:pt x="8198" y="17148"/>
                  <a:pt x="8219" y="17004"/>
                  <a:pt x="8220" y="16993"/>
                </a:cubicBezTo>
                <a:cubicBezTo>
                  <a:pt x="8216" y="17068"/>
                  <a:pt x="8218" y="17137"/>
                  <a:pt x="8227" y="17212"/>
                </a:cubicBezTo>
                <a:cubicBezTo>
                  <a:pt x="8236" y="17288"/>
                  <a:pt x="8245" y="17389"/>
                  <a:pt x="8290" y="17454"/>
                </a:cubicBezTo>
                <a:cubicBezTo>
                  <a:pt x="8314" y="17489"/>
                  <a:pt x="8334" y="17483"/>
                  <a:pt x="8369" y="17479"/>
                </a:cubicBezTo>
              </a:path>
              <a:path w="1769" h="922">
                <a:moveTo>
                  <a:pt x="8426" y="17243"/>
                </a:moveTo>
                <a:cubicBezTo>
                  <a:pt x="8406" y="17266"/>
                  <a:pt x="8408" y="17306"/>
                  <a:pt x="8411" y="17338"/>
                </a:cubicBezTo>
                <a:cubicBezTo>
                  <a:pt x="8416" y="17385"/>
                  <a:pt x="8425" y="17430"/>
                  <a:pt x="8449" y="17471"/>
                </a:cubicBezTo>
                <a:cubicBezTo>
                  <a:pt x="8462" y="17493"/>
                  <a:pt x="8464" y="17486"/>
                  <a:pt x="8477" y="17472"/>
                </a:cubicBezTo>
              </a:path>
              <a:path w="1769" h="922">
                <a:moveTo>
                  <a:pt x="8458" y="17142"/>
                </a:moveTo>
                <a:cubicBezTo>
                  <a:pt x="8455" y="17121"/>
                  <a:pt x="8438" y="17066"/>
                  <a:pt x="8452" y="17045"/>
                </a:cubicBezTo>
                <a:cubicBezTo>
                  <a:pt x="8461" y="17032"/>
                  <a:pt x="8479" y="17035"/>
                  <a:pt x="8491" y="17037"/>
                </a:cubicBezTo>
              </a:path>
              <a:path w="1769" h="922">
                <a:moveTo>
                  <a:pt x="8608" y="17319"/>
                </a:moveTo>
                <a:cubicBezTo>
                  <a:pt x="8616" y="17347"/>
                  <a:pt x="8625" y="17387"/>
                  <a:pt x="8646" y="17409"/>
                </a:cubicBezTo>
                <a:cubicBezTo>
                  <a:pt x="8667" y="17431"/>
                  <a:pt x="8684" y="17428"/>
                  <a:pt x="8705" y="17407"/>
                </a:cubicBezTo>
                <a:cubicBezTo>
                  <a:pt x="8736" y="17376"/>
                  <a:pt x="8748" y="17324"/>
                  <a:pt x="8760" y="17283"/>
                </a:cubicBezTo>
                <a:cubicBezTo>
                  <a:pt x="8770" y="17250"/>
                  <a:pt x="8787" y="17217"/>
                  <a:pt x="8789" y="17182"/>
                </a:cubicBezTo>
                <a:cubicBezTo>
                  <a:pt x="8789" y="17178"/>
                  <a:pt x="8788" y="17175"/>
                  <a:pt x="8788" y="17171"/>
                </a:cubicBezTo>
              </a:path>
              <a:path w="1769" h="922">
                <a:moveTo>
                  <a:pt x="9198" y="16890"/>
                </a:moveTo>
                <a:cubicBezTo>
                  <a:pt x="9187" y="16865"/>
                  <a:pt x="9177" y="16840"/>
                  <a:pt x="9167" y="16815"/>
                </a:cubicBezTo>
                <a:cubicBezTo>
                  <a:pt x="9173" y="16859"/>
                  <a:pt x="9181" y="16903"/>
                  <a:pt x="9189" y="16946"/>
                </a:cubicBezTo>
                <a:cubicBezTo>
                  <a:pt x="9203" y="17015"/>
                  <a:pt x="9211" y="17086"/>
                  <a:pt x="9226" y="17155"/>
                </a:cubicBezTo>
                <a:cubicBezTo>
                  <a:pt x="9234" y="17192"/>
                  <a:pt x="9238" y="17234"/>
                  <a:pt x="9255" y="17267"/>
                </a:cubicBezTo>
                <a:cubicBezTo>
                  <a:pt x="9275" y="17249"/>
                  <a:pt x="9291" y="17230"/>
                  <a:pt x="9306" y="17203"/>
                </a:cubicBezTo>
                <a:cubicBezTo>
                  <a:pt x="9324" y="17170"/>
                  <a:pt x="9341" y="17130"/>
                  <a:pt x="9373" y="17107"/>
                </a:cubicBezTo>
                <a:cubicBezTo>
                  <a:pt x="9399" y="17089"/>
                  <a:pt x="9419" y="17109"/>
                  <a:pt x="9427" y="17134"/>
                </a:cubicBezTo>
                <a:cubicBezTo>
                  <a:pt x="9440" y="17175"/>
                  <a:pt x="9428" y="17224"/>
                  <a:pt x="9408" y="17261"/>
                </a:cubicBezTo>
                <a:cubicBezTo>
                  <a:pt x="9388" y="17297"/>
                  <a:pt x="9349" y="17335"/>
                  <a:pt x="9308" y="17344"/>
                </a:cubicBezTo>
                <a:cubicBezTo>
                  <a:pt x="9278" y="17351"/>
                  <a:pt x="9246" y="17351"/>
                  <a:pt x="9253" y="17312"/>
                </a:cubicBezTo>
                <a:cubicBezTo>
                  <a:pt x="9263" y="17288"/>
                  <a:pt x="9266" y="17280"/>
                  <a:pt x="9276" y="17265"/>
                </a:cubicBezTo>
              </a:path>
              <a:path w="1769" h="922">
                <a:moveTo>
                  <a:pt x="9568" y="17250"/>
                </a:moveTo>
                <a:cubicBezTo>
                  <a:pt x="9566" y="17273"/>
                  <a:pt x="9562" y="17304"/>
                  <a:pt x="9568" y="17327"/>
                </a:cubicBezTo>
                <a:cubicBezTo>
                  <a:pt x="9574" y="17350"/>
                  <a:pt x="9590" y="17377"/>
                  <a:pt x="9616" y="17380"/>
                </a:cubicBezTo>
                <a:cubicBezTo>
                  <a:pt x="9644" y="17384"/>
                  <a:pt x="9666" y="17363"/>
                  <a:pt x="9680" y="17341"/>
                </a:cubicBezTo>
                <a:cubicBezTo>
                  <a:pt x="9696" y="17317"/>
                  <a:pt x="9697" y="17294"/>
                  <a:pt x="9722" y="17286"/>
                </a:cubicBezTo>
                <a:cubicBezTo>
                  <a:pt x="9728" y="17377"/>
                  <a:pt x="9723" y="17468"/>
                  <a:pt x="9725" y="17559"/>
                </a:cubicBezTo>
                <a:cubicBezTo>
                  <a:pt x="9726" y="17619"/>
                  <a:pt x="9723" y="17676"/>
                  <a:pt x="9720" y="1773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3646440" y="6113520"/>
            <a:ext cx="96840" cy="125280"/>
          </a:xfrm>
          <a:custGeom>
            <a:avLst/>
            <a:gdLst/>
            <a:ahLst/>
            <a:rect l="l" t="t" r="r" b="b"/>
            <a:pathLst>
              <a:path w="271" h="348">
                <a:moveTo>
                  <a:pt x="10132" y="17071"/>
                </a:moveTo>
                <a:cubicBezTo>
                  <a:pt x="10130" y="17057"/>
                  <a:pt x="10123" y="17014"/>
                  <a:pt x="10130" y="17002"/>
                </a:cubicBezTo>
                <a:cubicBezTo>
                  <a:pt x="10142" y="16983"/>
                  <a:pt x="10179" y="16983"/>
                  <a:pt x="10196" y="16989"/>
                </a:cubicBezTo>
                <a:cubicBezTo>
                  <a:pt x="10232" y="17002"/>
                  <a:pt x="10244" y="17037"/>
                  <a:pt x="10252" y="17071"/>
                </a:cubicBezTo>
                <a:cubicBezTo>
                  <a:pt x="10260" y="17105"/>
                  <a:pt x="10257" y="17139"/>
                  <a:pt x="10253" y="17173"/>
                </a:cubicBezTo>
                <a:cubicBezTo>
                  <a:pt x="10252" y="17178"/>
                  <a:pt x="10252" y="17183"/>
                  <a:pt x="10251" y="17188"/>
                </a:cubicBezTo>
                <a:cubicBezTo>
                  <a:pt x="10275" y="17191"/>
                  <a:pt x="10289" y="17182"/>
                  <a:pt x="10314" y="17179"/>
                </a:cubicBezTo>
                <a:cubicBezTo>
                  <a:pt x="10344" y="17175"/>
                  <a:pt x="10381" y="17192"/>
                  <a:pt x="10394" y="17221"/>
                </a:cubicBezTo>
                <a:cubicBezTo>
                  <a:pt x="10410" y="17257"/>
                  <a:pt x="10393" y="17286"/>
                  <a:pt x="10362" y="17304"/>
                </a:cubicBezTo>
                <a:cubicBezTo>
                  <a:pt x="10330" y="17323"/>
                  <a:pt x="10299" y="17330"/>
                  <a:pt x="10263" y="17331"/>
                </a:cubicBezTo>
                <a:cubicBezTo>
                  <a:pt x="10237" y="17331"/>
                  <a:pt x="10228" y="17331"/>
                  <a:pt x="10211" y="1732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4241880" y="6151680"/>
            <a:ext cx="403200" cy="135000"/>
          </a:xfrm>
          <a:custGeom>
            <a:avLst/>
            <a:gdLst/>
            <a:ahLst/>
            <a:rect l="l" t="t" r="r" b="b"/>
            <a:pathLst>
              <a:path w="1120" h="376">
                <a:moveTo>
                  <a:pt x="11783" y="17086"/>
                </a:moveTo>
                <a:cubicBezTo>
                  <a:pt x="11805" y="17126"/>
                  <a:pt x="11808" y="17170"/>
                  <a:pt x="11816" y="17215"/>
                </a:cubicBezTo>
                <a:cubicBezTo>
                  <a:pt x="11824" y="17258"/>
                  <a:pt x="11830" y="17300"/>
                  <a:pt x="11833" y="17343"/>
                </a:cubicBezTo>
                <a:cubicBezTo>
                  <a:pt x="11833" y="17348"/>
                  <a:pt x="11834" y="17352"/>
                  <a:pt x="11834" y="17357"/>
                </a:cubicBezTo>
                <a:cubicBezTo>
                  <a:pt x="11838" y="17321"/>
                  <a:pt x="11840" y="17283"/>
                  <a:pt x="11850" y="17248"/>
                </a:cubicBezTo>
                <a:cubicBezTo>
                  <a:pt x="11860" y="17212"/>
                  <a:pt x="11873" y="17156"/>
                  <a:pt x="11901" y="17130"/>
                </a:cubicBezTo>
                <a:cubicBezTo>
                  <a:pt x="11906" y="17128"/>
                  <a:pt x="11910" y="17126"/>
                  <a:pt x="11915" y="17124"/>
                </a:cubicBezTo>
                <a:cubicBezTo>
                  <a:pt x="11952" y="17154"/>
                  <a:pt x="11957" y="17191"/>
                  <a:pt x="11973" y="17235"/>
                </a:cubicBezTo>
                <a:cubicBezTo>
                  <a:pt x="11996" y="17298"/>
                  <a:pt x="12021" y="17408"/>
                  <a:pt x="12086" y="17441"/>
                </a:cubicBezTo>
                <a:cubicBezTo>
                  <a:pt x="12121" y="17459"/>
                  <a:pt x="12142" y="17434"/>
                  <a:pt x="12168" y="17416"/>
                </a:cubicBezTo>
              </a:path>
              <a:path w="1120" h="376">
                <a:moveTo>
                  <a:pt x="12228" y="17219"/>
                </a:moveTo>
                <a:cubicBezTo>
                  <a:pt x="12216" y="17196"/>
                  <a:pt x="12233" y="17251"/>
                  <a:pt x="12259" y="17255"/>
                </a:cubicBezTo>
                <a:cubicBezTo>
                  <a:pt x="12278" y="17258"/>
                  <a:pt x="12310" y="17220"/>
                  <a:pt x="12318" y="17207"/>
                </a:cubicBezTo>
                <a:cubicBezTo>
                  <a:pt x="12331" y="17185"/>
                  <a:pt x="12341" y="17150"/>
                  <a:pt x="12329" y="17126"/>
                </a:cubicBezTo>
                <a:cubicBezTo>
                  <a:pt x="12326" y="17123"/>
                  <a:pt x="12323" y="17120"/>
                  <a:pt x="12320" y="17117"/>
                </a:cubicBezTo>
                <a:cubicBezTo>
                  <a:pt x="12286" y="17119"/>
                  <a:pt x="12275" y="17137"/>
                  <a:pt x="12260" y="17168"/>
                </a:cubicBezTo>
                <a:cubicBezTo>
                  <a:pt x="12234" y="17221"/>
                  <a:pt x="12229" y="17285"/>
                  <a:pt x="12236" y="17343"/>
                </a:cubicBezTo>
                <a:cubicBezTo>
                  <a:pt x="12242" y="17391"/>
                  <a:pt x="12262" y="17450"/>
                  <a:pt x="12316" y="17461"/>
                </a:cubicBezTo>
                <a:cubicBezTo>
                  <a:pt x="12359" y="17470"/>
                  <a:pt x="12408" y="17433"/>
                  <a:pt x="12433" y="17402"/>
                </a:cubicBezTo>
                <a:cubicBezTo>
                  <a:pt x="12440" y="17390"/>
                  <a:pt x="12447" y="17379"/>
                  <a:pt x="12454" y="17367"/>
                </a:cubicBezTo>
              </a:path>
              <a:path w="1120" h="376">
                <a:moveTo>
                  <a:pt x="12498" y="17250"/>
                </a:moveTo>
                <a:cubicBezTo>
                  <a:pt x="12501" y="17274"/>
                  <a:pt x="12501" y="17299"/>
                  <a:pt x="12505" y="17322"/>
                </a:cubicBezTo>
                <a:cubicBezTo>
                  <a:pt x="12508" y="17341"/>
                  <a:pt x="12511" y="17382"/>
                  <a:pt x="12527" y="17396"/>
                </a:cubicBezTo>
                <a:cubicBezTo>
                  <a:pt x="12531" y="17398"/>
                  <a:pt x="12534" y="17399"/>
                  <a:pt x="12538" y="17401"/>
                </a:cubicBezTo>
                <a:cubicBezTo>
                  <a:pt x="12562" y="17381"/>
                  <a:pt x="12576" y="17357"/>
                  <a:pt x="12591" y="17330"/>
                </a:cubicBezTo>
                <a:cubicBezTo>
                  <a:pt x="12607" y="17301"/>
                  <a:pt x="12623" y="17256"/>
                  <a:pt x="12651" y="17236"/>
                </a:cubicBezTo>
                <a:cubicBezTo>
                  <a:pt x="12662" y="17233"/>
                  <a:pt x="12666" y="17232"/>
                  <a:pt x="12672" y="17239"/>
                </a:cubicBezTo>
                <a:cubicBezTo>
                  <a:pt x="12681" y="17273"/>
                  <a:pt x="12685" y="17308"/>
                  <a:pt x="12695" y="17342"/>
                </a:cubicBezTo>
                <a:cubicBezTo>
                  <a:pt x="12701" y="17362"/>
                  <a:pt x="12712" y="17405"/>
                  <a:pt x="12742" y="17395"/>
                </a:cubicBezTo>
                <a:cubicBezTo>
                  <a:pt x="12782" y="17381"/>
                  <a:pt x="12798" y="17331"/>
                  <a:pt x="12818" y="17299"/>
                </a:cubicBezTo>
                <a:cubicBezTo>
                  <a:pt x="12849" y="17251"/>
                  <a:pt x="12876" y="17202"/>
                  <a:pt x="12902" y="1715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4857840" y="6008760"/>
            <a:ext cx="1711080" cy="311040"/>
          </a:xfrm>
          <a:custGeom>
            <a:avLst/>
            <a:gdLst/>
            <a:ahLst/>
            <a:rect l="l" t="t" r="r" b="b"/>
            <a:pathLst>
              <a:path w="4753" h="861">
                <a:moveTo>
                  <a:pt x="13552" y="17152"/>
                </a:moveTo>
                <a:cubicBezTo>
                  <a:pt x="13532" y="17158"/>
                  <a:pt x="13512" y="17170"/>
                  <a:pt x="13493" y="17171"/>
                </a:cubicBezTo>
                <a:cubicBezTo>
                  <a:pt x="13526" y="17147"/>
                  <a:pt x="13554" y="17120"/>
                  <a:pt x="13581" y="17089"/>
                </a:cubicBezTo>
                <a:cubicBezTo>
                  <a:pt x="13612" y="17052"/>
                  <a:pt x="13639" y="17012"/>
                  <a:pt x="13661" y="16969"/>
                </a:cubicBezTo>
                <a:cubicBezTo>
                  <a:pt x="13663" y="16965"/>
                  <a:pt x="13664" y="16961"/>
                  <a:pt x="13666" y="16957"/>
                </a:cubicBezTo>
                <a:cubicBezTo>
                  <a:pt x="13635" y="16998"/>
                  <a:pt x="13610" y="17042"/>
                  <a:pt x="13591" y="17090"/>
                </a:cubicBezTo>
                <a:cubicBezTo>
                  <a:pt x="13569" y="17146"/>
                  <a:pt x="13540" y="17221"/>
                  <a:pt x="13550" y="17282"/>
                </a:cubicBezTo>
                <a:cubicBezTo>
                  <a:pt x="13559" y="17340"/>
                  <a:pt x="13607" y="17335"/>
                  <a:pt x="13650" y="17315"/>
                </a:cubicBezTo>
                <a:cubicBezTo>
                  <a:pt x="13689" y="17291"/>
                  <a:pt x="13703" y="17282"/>
                  <a:pt x="13724" y="17259"/>
                </a:cubicBezTo>
              </a:path>
              <a:path w="4753" h="861">
                <a:moveTo>
                  <a:pt x="13826" y="16826"/>
                </a:moveTo>
                <a:cubicBezTo>
                  <a:pt x="13820" y="16885"/>
                  <a:pt x="13824" y="16937"/>
                  <a:pt x="13830" y="16996"/>
                </a:cubicBezTo>
                <a:cubicBezTo>
                  <a:pt x="13839" y="17081"/>
                  <a:pt x="13851" y="17169"/>
                  <a:pt x="13874" y="17252"/>
                </a:cubicBezTo>
                <a:cubicBezTo>
                  <a:pt x="13883" y="17284"/>
                  <a:pt x="13898" y="17366"/>
                  <a:pt x="13943" y="17373"/>
                </a:cubicBezTo>
                <a:cubicBezTo>
                  <a:pt x="13965" y="17377"/>
                  <a:pt x="13982" y="17339"/>
                  <a:pt x="13989" y="17328"/>
                </a:cubicBezTo>
              </a:path>
              <a:path w="4753" h="861">
                <a:moveTo>
                  <a:pt x="14065" y="17151"/>
                </a:moveTo>
                <a:cubicBezTo>
                  <a:pt x="14083" y="17143"/>
                  <a:pt x="14109" y="17134"/>
                  <a:pt x="14125" y="17123"/>
                </a:cubicBezTo>
                <a:cubicBezTo>
                  <a:pt x="14149" y="17106"/>
                  <a:pt x="14177" y="17082"/>
                  <a:pt x="14196" y="17059"/>
                </a:cubicBezTo>
                <a:cubicBezTo>
                  <a:pt x="14199" y="17054"/>
                  <a:pt x="14202" y="17050"/>
                  <a:pt x="14205" y="17045"/>
                </a:cubicBezTo>
                <a:cubicBezTo>
                  <a:pt x="14189" y="17067"/>
                  <a:pt x="14184" y="17072"/>
                  <a:pt x="14175" y="17098"/>
                </a:cubicBezTo>
                <a:cubicBezTo>
                  <a:pt x="14164" y="17130"/>
                  <a:pt x="14147" y="17194"/>
                  <a:pt x="14172" y="17225"/>
                </a:cubicBezTo>
                <a:cubicBezTo>
                  <a:pt x="14187" y="17244"/>
                  <a:pt x="14204" y="17254"/>
                  <a:pt x="14228" y="17244"/>
                </a:cubicBezTo>
                <a:cubicBezTo>
                  <a:pt x="14253" y="17234"/>
                  <a:pt x="14264" y="17209"/>
                  <a:pt x="14274" y="17186"/>
                </a:cubicBezTo>
                <a:cubicBezTo>
                  <a:pt x="14282" y="17168"/>
                  <a:pt x="14289" y="17152"/>
                  <a:pt x="14299" y="17135"/>
                </a:cubicBezTo>
                <a:cubicBezTo>
                  <a:pt x="14314" y="17175"/>
                  <a:pt x="14314" y="17243"/>
                  <a:pt x="14338" y="17277"/>
                </a:cubicBezTo>
                <a:cubicBezTo>
                  <a:pt x="14343" y="17279"/>
                  <a:pt x="14348" y="17280"/>
                  <a:pt x="14353" y="17282"/>
                </a:cubicBezTo>
                <a:cubicBezTo>
                  <a:pt x="14378" y="17217"/>
                  <a:pt x="14398" y="17146"/>
                  <a:pt x="14456" y="17109"/>
                </a:cubicBezTo>
                <a:cubicBezTo>
                  <a:pt x="14477" y="17138"/>
                  <a:pt x="14491" y="17159"/>
                  <a:pt x="14503" y="17195"/>
                </a:cubicBezTo>
                <a:cubicBezTo>
                  <a:pt x="14511" y="17219"/>
                  <a:pt x="14526" y="17289"/>
                  <a:pt x="14556" y="17295"/>
                </a:cubicBezTo>
                <a:cubicBezTo>
                  <a:pt x="14580" y="17300"/>
                  <a:pt x="14591" y="17272"/>
                  <a:pt x="14603" y="17256"/>
                </a:cubicBezTo>
                <a:cubicBezTo>
                  <a:pt x="14616" y="17238"/>
                  <a:pt x="14630" y="17209"/>
                  <a:pt x="14646" y="17195"/>
                </a:cubicBezTo>
                <a:cubicBezTo>
                  <a:pt x="14667" y="17176"/>
                  <a:pt x="14665" y="17194"/>
                  <a:pt x="14686" y="17196"/>
                </a:cubicBezTo>
                <a:cubicBezTo>
                  <a:pt x="14704" y="17198"/>
                  <a:pt x="14713" y="17194"/>
                  <a:pt x="14729" y="17186"/>
                </a:cubicBezTo>
                <a:cubicBezTo>
                  <a:pt x="14751" y="17175"/>
                  <a:pt x="14761" y="17167"/>
                  <a:pt x="14775" y="17148"/>
                </a:cubicBezTo>
                <a:cubicBezTo>
                  <a:pt x="14787" y="17131"/>
                  <a:pt x="14793" y="17115"/>
                  <a:pt x="14802" y="17097"/>
                </a:cubicBezTo>
                <a:cubicBezTo>
                  <a:pt x="14803" y="17094"/>
                  <a:pt x="14805" y="17091"/>
                  <a:pt x="14806" y="17088"/>
                </a:cubicBezTo>
                <a:cubicBezTo>
                  <a:pt x="14774" y="17103"/>
                  <a:pt x="14764" y="17111"/>
                  <a:pt x="14739" y="17148"/>
                </a:cubicBezTo>
                <a:cubicBezTo>
                  <a:pt x="14714" y="17185"/>
                  <a:pt x="14686" y="17232"/>
                  <a:pt x="14680" y="17278"/>
                </a:cubicBezTo>
                <a:cubicBezTo>
                  <a:pt x="14675" y="17319"/>
                  <a:pt x="14690" y="17338"/>
                  <a:pt x="14728" y="17342"/>
                </a:cubicBezTo>
                <a:cubicBezTo>
                  <a:pt x="14775" y="17347"/>
                  <a:pt x="14815" y="17310"/>
                  <a:pt x="14849" y="17284"/>
                </a:cubicBezTo>
                <a:cubicBezTo>
                  <a:pt x="14880" y="17261"/>
                  <a:pt x="14904" y="17231"/>
                  <a:pt x="14934" y="17207"/>
                </a:cubicBezTo>
                <a:cubicBezTo>
                  <a:pt x="14937" y="17206"/>
                  <a:pt x="14941" y="17205"/>
                  <a:pt x="14944" y="17204"/>
                </a:cubicBezTo>
                <a:cubicBezTo>
                  <a:pt x="14949" y="17231"/>
                  <a:pt x="14950" y="17244"/>
                  <a:pt x="14946" y="17276"/>
                </a:cubicBezTo>
                <a:cubicBezTo>
                  <a:pt x="14943" y="17297"/>
                  <a:pt x="14941" y="17319"/>
                  <a:pt x="14938" y="17340"/>
                </a:cubicBezTo>
                <a:cubicBezTo>
                  <a:pt x="14950" y="17305"/>
                  <a:pt x="14970" y="17207"/>
                  <a:pt x="15014" y="17199"/>
                </a:cubicBezTo>
                <a:cubicBezTo>
                  <a:pt x="15043" y="17194"/>
                  <a:pt x="15067" y="17230"/>
                  <a:pt x="15080" y="17249"/>
                </a:cubicBezTo>
                <a:cubicBezTo>
                  <a:pt x="15101" y="17280"/>
                  <a:pt x="15119" y="17298"/>
                  <a:pt x="15147" y="17322"/>
                </a:cubicBezTo>
              </a:path>
              <a:path w="4753" h="861">
                <a:moveTo>
                  <a:pt x="15223" y="16902"/>
                </a:moveTo>
                <a:cubicBezTo>
                  <a:pt x="15230" y="16959"/>
                  <a:pt x="15231" y="17020"/>
                  <a:pt x="15233" y="17077"/>
                </a:cubicBezTo>
                <a:cubicBezTo>
                  <a:pt x="15237" y="17171"/>
                  <a:pt x="15236" y="17267"/>
                  <a:pt x="15237" y="17361"/>
                </a:cubicBezTo>
                <a:cubicBezTo>
                  <a:pt x="15236" y="17399"/>
                  <a:pt x="15236" y="17408"/>
                  <a:pt x="15234" y="17432"/>
                </a:cubicBezTo>
              </a:path>
              <a:path w="4753" h="861">
                <a:moveTo>
                  <a:pt x="15128" y="17089"/>
                </a:moveTo>
                <a:cubicBezTo>
                  <a:pt x="15145" y="17048"/>
                  <a:pt x="15165" y="17032"/>
                  <a:pt x="15211" y="17020"/>
                </a:cubicBezTo>
                <a:cubicBezTo>
                  <a:pt x="15279" y="17003"/>
                  <a:pt x="15360" y="17009"/>
                  <a:pt x="15430" y="17007"/>
                </a:cubicBezTo>
                <a:cubicBezTo>
                  <a:pt x="15485" y="17007"/>
                  <a:pt x="15501" y="17007"/>
                  <a:pt x="15537" y="17006"/>
                </a:cubicBezTo>
              </a:path>
              <a:path w="4753" h="861">
                <a:moveTo>
                  <a:pt x="16096" y="17088"/>
                </a:moveTo>
                <a:cubicBezTo>
                  <a:pt x="16066" y="17068"/>
                  <a:pt x="16044" y="17070"/>
                  <a:pt x="16008" y="17083"/>
                </a:cubicBezTo>
                <a:cubicBezTo>
                  <a:pt x="15966" y="17099"/>
                  <a:pt x="15923" y="17123"/>
                  <a:pt x="15887" y="17150"/>
                </a:cubicBezTo>
                <a:cubicBezTo>
                  <a:pt x="15870" y="17164"/>
                  <a:pt x="15866" y="17167"/>
                  <a:pt x="15856" y="17177"/>
                </a:cubicBezTo>
                <a:cubicBezTo>
                  <a:pt x="15895" y="17186"/>
                  <a:pt x="15937" y="17178"/>
                  <a:pt x="15978" y="17182"/>
                </a:cubicBezTo>
                <a:cubicBezTo>
                  <a:pt x="16035" y="17187"/>
                  <a:pt x="16100" y="17205"/>
                  <a:pt x="16142" y="17245"/>
                </a:cubicBezTo>
                <a:cubicBezTo>
                  <a:pt x="16175" y="17276"/>
                  <a:pt x="16183" y="17331"/>
                  <a:pt x="16155" y="17369"/>
                </a:cubicBezTo>
                <a:cubicBezTo>
                  <a:pt x="16129" y="17404"/>
                  <a:pt x="16082" y="17412"/>
                  <a:pt x="16044" y="17398"/>
                </a:cubicBezTo>
                <a:cubicBezTo>
                  <a:pt x="16002" y="17382"/>
                  <a:pt x="16032" y="17315"/>
                  <a:pt x="16045" y="17292"/>
                </a:cubicBezTo>
                <a:cubicBezTo>
                  <a:pt x="16055" y="17278"/>
                  <a:pt x="16064" y="17263"/>
                  <a:pt x="16074" y="17249"/>
                </a:cubicBezTo>
              </a:path>
              <a:path w="4753" h="861">
                <a:moveTo>
                  <a:pt x="16362" y="17068"/>
                </a:moveTo>
                <a:cubicBezTo>
                  <a:pt x="16356" y="17111"/>
                  <a:pt x="16343" y="17162"/>
                  <a:pt x="16328" y="17203"/>
                </a:cubicBezTo>
                <a:cubicBezTo>
                  <a:pt x="16314" y="17242"/>
                  <a:pt x="16299" y="17272"/>
                  <a:pt x="16301" y="17314"/>
                </a:cubicBezTo>
                <a:cubicBezTo>
                  <a:pt x="16339" y="17304"/>
                  <a:pt x="16355" y="17279"/>
                  <a:pt x="16379" y="17245"/>
                </a:cubicBezTo>
                <a:cubicBezTo>
                  <a:pt x="16397" y="17219"/>
                  <a:pt x="16409" y="17190"/>
                  <a:pt x="16440" y="17184"/>
                </a:cubicBezTo>
                <a:cubicBezTo>
                  <a:pt x="16460" y="17214"/>
                  <a:pt x="16471" y="17251"/>
                  <a:pt x="16482" y="17286"/>
                </a:cubicBezTo>
                <a:cubicBezTo>
                  <a:pt x="16496" y="17328"/>
                  <a:pt x="16500" y="17348"/>
                  <a:pt x="16544" y="17356"/>
                </a:cubicBezTo>
              </a:path>
              <a:path w="4753" h="861">
                <a:moveTo>
                  <a:pt x="16634" y="16704"/>
                </a:moveTo>
                <a:cubicBezTo>
                  <a:pt x="16635" y="16746"/>
                  <a:pt x="16641" y="16764"/>
                  <a:pt x="16643" y="16806"/>
                </a:cubicBezTo>
                <a:cubicBezTo>
                  <a:pt x="16649" y="16918"/>
                  <a:pt x="16669" y="17032"/>
                  <a:pt x="16698" y="17141"/>
                </a:cubicBezTo>
                <a:cubicBezTo>
                  <a:pt x="16717" y="17214"/>
                  <a:pt x="16743" y="17285"/>
                  <a:pt x="16775" y="17353"/>
                </a:cubicBezTo>
              </a:path>
              <a:path w="4753" h="861">
                <a:moveTo>
                  <a:pt x="16603" y="17109"/>
                </a:moveTo>
                <a:cubicBezTo>
                  <a:pt x="16587" y="17075"/>
                  <a:pt x="16576" y="17064"/>
                  <a:pt x="16611" y="17046"/>
                </a:cubicBezTo>
                <a:cubicBezTo>
                  <a:pt x="16663" y="17019"/>
                  <a:pt x="16726" y="17015"/>
                  <a:pt x="16783" y="17006"/>
                </a:cubicBezTo>
                <a:cubicBezTo>
                  <a:pt x="16839" y="16997"/>
                  <a:pt x="16858" y="16994"/>
                  <a:pt x="16896" y="16989"/>
                </a:cubicBezTo>
              </a:path>
              <a:path w="4753" h="861">
                <a:moveTo>
                  <a:pt x="17048" y="17129"/>
                </a:moveTo>
                <a:cubicBezTo>
                  <a:pt x="17062" y="17158"/>
                  <a:pt x="17079" y="17191"/>
                  <a:pt x="17086" y="17222"/>
                </a:cubicBezTo>
                <a:cubicBezTo>
                  <a:pt x="17088" y="17232"/>
                  <a:pt x="17098" y="17315"/>
                  <a:pt x="17106" y="17316"/>
                </a:cubicBezTo>
                <a:cubicBezTo>
                  <a:pt x="17108" y="17312"/>
                  <a:pt x="17111" y="17307"/>
                  <a:pt x="17113" y="17303"/>
                </a:cubicBezTo>
              </a:path>
              <a:path w="4753" h="861">
                <a:moveTo>
                  <a:pt x="17070" y="16967"/>
                </a:moveTo>
                <a:cubicBezTo>
                  <a:pt x="17068" y="16955"/>
                  <a:pt x="17062" y="16911"/>
                  <a:pt x="17078" y="16900"/>
                </a:cubicBezTo>
                <a:cubicBezTo>
                  <a:pt x="17097" y="16897"/>
                  <a:pt x="17102" y="16896"/>
                  <a:pt x="17113" y="16889"/>
                </a:cubicBezTo>
              </a:path>
              <a:path w="4753" h="861">
                <a:moveTo>
                  <a:pt x="17316" y="17030"/>
                </a:moveTo>
                <a:cubicBezTo>
                  <a:pt x="17299" y="17050"/>
                  <a:pt x="17275" y="17082"/>
                  <a:pt x="17253" y="17095"/>
                </a:cubicBezTo>
                <a:cubicBezTo>
                  <a:pt x="17241" y="17102"/>
                  <a:pt x="17198" y="17116"/>
                  <a:pt x="17215" y="17141"/>
                </a:cubicBezTo>
                <a:cubicBezTo>
                  <a:pt x="17233" y="17167"/>
                  <a:pt x="17285" y="17175"/>
                  <a:pt x="17311" y="17186"/>
                </a:cubicBezTo>
                <a:cubicBezTo>
                  <a:pt x="17353" y="17204"/>
                  <a:pt x="17402" y="17217"/>
                  <a:pt x="17438" y="17246"/>
                </a:cubicBezTo>
                <a:cubicBezTo>
                  <a:pt x="17458" y="17263"/>
                  <a:pt x="17470" y="17288"/>
                  <a:pt x="17440" y="17301"/>
                </a:cubicBezTo>
                <a:cubicBezTo>
                  <a:pt x="17410" y="17314"/>
                  <a:pt x="17369" y="17318"/>
                  <a:pt x="17338" y="17312"/>
                </a:cubicBezTo>
                <a:cubicBezTo>
                  <a:pt x="17305" y="17306"/>
                  <a:pt x="17295" y="17292"/>
                  <a:pt x="17287" y="17262"/>
                </a:cubicBezTo>
              </a:path>
              <a:path w="4753" h="861">
                <a:moveTo>
                  <a:pt x="17788" y="17304"/>
                </a:moveTo>
                <a:cubicBezTo>
                  <a:pt x="17757" y="17311"/>
                  <a:pt x="17733" y="17315"/>
                  <a:pt x="17702" y="17314"/>
                </a:cubicBezTo>
                <a:cubicBezTo>
                  <a:pt x="17674" y="17313"/>
                  <a:pt x="17645" y="17311"/>
                  <a:pt x="17624" y="17291"/>
                </a:cubicBezTo>
                <a:cubicBezTo>
                  <a:pt x="17600" y="17269"/>
                  <a:pt x="17609" y="17223"/>
                  <a:pt x="17610" y="17195"/>
                </a:cubicBezTo>
                <a:cubicBezTo>
                  <a:pt x="17612" y="17124"/>
                  <a:pt x="17620" y="17054"/>
                  <a:pt x="17636" y="16985"/>
                </a:cubicBezTo>
                <a:cubicBezTo>
                  <a:pt x="17655" y="16902"/>
                  <a:pt x="17680" y="16804"/>
                  <a:pt x="17742" y="16741"/>
                </a:cubicBezTo>
                <a:cubicBezTo>
                  <a:pt x="17769" y="16713"/>
                  <a:pt x="17822" y="16700"/>
                  <a:pt x="17845" y="16740"/>
                </a:cubicBezTo>
                <a:cubicBezTo>
                  <a:pt x="17863" y="16770"/>
                  <a:pt x="17841" y="16796"/>
                  <a:pt x="17825" y="16820"/>
                </a:cubicBezTo>
              </a:path>
              <a:path w="4753" h="861">
                <a:moveTo>
                  <a:pt x="17529" y="17074"/>
                </a:moveTo>
                <a:cubicBezTo>
                  <a:pt x="17520" y="17087"/>
                  <a:pt x="17515" y="17089"/>
                  <a:pt x="17521" y="17099"/>
                </a:cubicBezTo>
                <a:cubicBezTo>
                  <a:pt x="17552" y="17097"/>
                  <a:pt x="17585" y="17093"/>
                  <a:pt x="17617" y="17089"/>
                </a:cubicBezTo>
                <a:cubicBezTo>
                  <a:pt x="17675" y="17081"/>
                  <a:pt x="17734" y="17077"/>
                  <a:pt x="17793" y="17072"/>
                </a:cubicBezTo>
                <a:cubicBezTo>
                  <a:pt x="17834" y="17069"/>
                  <a:pt x="17846" y="17068"/>
                  <a:pt x="17873" y="17065"/>
                </a:cubicBezTo>
              </a:path>
              <a:path w="4753" h="861">
                <a:moveTo>
                  <a:pt x="17986" y="17100"/>
                </a:moveTo>
                <a:cubicBezTo>
                  <a:pt x="18008" y="17080"/>
                  <a:pt x="18017" y="17126"/>
                  <a:pt x="18037" y="17147"/>
                </a:cubicBezTo>
                <a:cubicBezTo>
                  <a:pt x="18066" y="17177"/>
                  <a:pt x="18101" y="17196"/>
                  <a:pt x="18142" y="17205"/>
                </a:cubicBezTo>
                <a:cubicBezTo>
                  <a:pt x="18175" y="17213"/>
                  <a:pt x="18204" y="17203"/>
                  <a:pt x="18228" y="17180"/>
                </a:cubicBezTo>
                <a:cubicBezTo>
                  <a:pt x="18238" y="17168"/>
                  <a:pt x="18241" y="17165"/>
                  <a:pt x="18245" y="17156"/>
                </a:cubicBezTo>
                <a:cubicBezTo>
                  <a:pt x="18233" y="17196"/>
                  <a:pt x="18219" y="17235"/>
                  <a:pt x="18206" y="17274"/>
                </a:cubicBezTo>
                <a:cubicBezTo>
                  <a:pt x="18186" y="17336"/>
                  <a:pt x="18172" y="17398"/>
                  <a:pt x="18158" y="17461"/>
                </a:cubicBezTo>
                <a:cubicBezTo>
                  <a:pt x="18146" y="17511"/>
                  <a:pt x="18141" y="17521"/>
                  <a:pt x="18147" y="1755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6710400" y="6122880"/>
            <a:ext cx="365040" cy="149400"/>
          </a:xfrm>
          <a:custGeom>
            <a:avLst/>
            <a:gdLst/>
            <a:ahLst/>
            <a:rect l="l" t="t" r="r" b="b"/>
            <a:pathLst>
              <a:path w="1016" h="415">
                <a:moveTo>
                  <a:pt x="18801" y="17145"/>
                </a:moveTo>
                <a:cubicBezTo>
                  <a:pt x="18795" y="17113"/>
                  <a:pt x="18781" y="17122"/>
                  <a:pt x="18753" y="17126"/>
                </a:cubicBezTo>
                <a:cubicBezTo>
                  <a:pt x="18715" y="17132"/>
                  <a:pt x="18686" y="17154"/>
                  <a:pt x="18662" y="17186"/>
                </a:cubicBezTo>
                <a:cubicBezTo>
                  <a:pt x="18639" y="17216"/>
                  <a:pt x="18632" y="17249"/>
                  <a:pt x="18657" y="17280"/>
                </a:cubicBezTo>
                <a:cubicBezTo>
                  <a:pt x="18684" y="17313"/>
                  <a:pt x="18735" y="17307"/>
                  <a:pt x="18771" y="17294"/>
                </a:cubicBezTo>
                <a:cubicBezTo>
                  <a:pt x="18815" y="17278"/>
                  <a:pt x="18847" y="17250"/>
                  <a:pt x="18878" y="17218"/>
                </a:cubicBezTo>
                <a:cubicBezTo>
                  <a:pt x="18896" y="17200"/>
                  <a:pt x="18903" y="17182"/>
                  <a:pt x="18903" y="17156"/>
                </a:cubicBezTo>
                <a:cubicBezTo>
                  <a:pt x="18903" y="17152"/>
                  <a:pt x="18902" y="17148"/>
                  <a:pt x="18902" y="17144"/>
                </a:cubicBezTo>
              </a:path>
              <a:path w="1016" h="415">
                <a:moveTo>
                  <a:pt x="19106" y="17062"/>
                </a:moveTo>
                <a:cubicBezTo>
                  <a:pt x="19086" y="17085"/>
                  <a:pt x="19073" y="17098"/>
                  <a:pt x="19062" y="17127"/>
                </a:cubicBezTo>
                <a:cubicBezTo>
                  <a:pt x="19051" y="17154"/>
                  <a:pt x="19052" y="17181"/>
                  <a:pt x="19062" y="17208"/>
                </a:cubicBezTo>
                <a:cubicBezTo>
                  <a:pt x="19070" y="17228"/>
                  <a:pt x="19088" y="17240"/>
                  <a:pt x="19109" y="17229"/>
                </a:cubicBezTo>
                <a:cubicBezTo>
                  <a:pt x="19141" y="17213"/>
                  <a:pt x="19166" y="17184"/>
                  <a:pt x="19193" y="17161"/>
                </a:cubicBezTo>
                <a:cubicBezTo>
                  <a:pt x="19210" y="17146"/>
                  <a:pt x="19242" y="17111"/>
                  <a:pt x="19269" y="17117"/>
                </a:cubicBezTo>
                <a:cubicBezTo>
                  <a:pt x="19296" y="17123"/>
                  <a:pt x="19299" y="17169"/>
                  <a:pt x="19305" y="17189"/>
                </a:cubicBezTo>
                <a:cubicBezTo>
                  <a:pt x="19313" y="17217"/>
                  <a:pt x="19316" y="17260"/>
                  <a:pt x="19348" y="17274"/>
                </a:cubicBezTo>
                <a:cubicBezTo>
                  <a:pt x="19370" y="17284"/>
                  <a:pt x="19382" y="17261"/>
                  <a:pt x="19393" y="17249"/>
                </a:cubicBezTo>
              </a:path>
              <a:path w="1016" h="415">
                <a:moveTo>
                  <a:pt x="19431" y="17113"/>
                </a:moveTo>
                <a:cubicBezTo>
                  <a:pt x="19427" y="17146"/>
                  <a:pt x="19428" y="17181"/>
                  <a:pt x="19433" y="17213"/>
                </a:cubicBezTo>
                <a:cubicBezTo>
                  <a:pt x="19442" y="17265"/>
                  <a:pt x="19456" y="17318"/>
                  <a:pt x="19471" y="17368"/>
                </a:cubicBezTo>
                <a:cubicBezTo>
                  <a:pt x="19477" y="17389"/>
                  <a:pt x="19484" y="17404"/>
                  <a:pt x="19495" y="17422"/>
                </a:cubicBezTo>
                <a:cubicBezTo>
                  <a:pt x="19497" y="17385"/>
                  <a:pt x="19494" y="17349"/>
                  <a:pt x="19493" y="17312"/>
                </a:cubicBezTo>
                <a:cubicBezTo>
                  <a:pt x="19491" y="17226"/>
                  <a:pt x="19479" y="17110"/>
                  <a:pt x="19521" y="17031"/>
                </a:cubicBezTo>
                <a:cubicBezTo>
                  <a:pt x="19536" y="17003"/>
                  <a:pt x="19555" y="17006"/>
                  <a:pt x="19579" y="17020"/>
                </a:cubicBezTo>
                <a:cubicBezTo>
                  <a:pt x="19608" y="17037"/>
                  <a:pt x="19631" y="17063"/>
                  <a:pt x="19655" y="1708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5289480" y="6392880"/>
            <a:ext cx="4680" cy="31680"/>
          </a:xfrm>
          <a:custGeom>
            <a:avLst/>
            <a:gdLst/>
            <a:ahLst/>
            <a:rect l="l" t="t" r="r" b="b"/>
            <a:pathLst>
              <a:path w="14" h="90">
                <a:moveTo>
                  <a:pt x="14694" y="17846"/>
                </a:moveTo>
                <a:cubicBezTo>
                  <a:pt x="14692" y="17801"/>
                  <a:pt x="14692" y="17786"/>
                  <a:pt x="14705" y="1775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4303800" y="6345360"/>
            <a:ext cx="388800" cy="277560"/>
          </a:xfrm>
          <a:custGeom>
            <a:avLst/>
            <a:gdLst/>
            <a:ahLst/>
            <a:rect l="l" t="t" r="r" b="b"/>
            <a:pathLst>
              <a:path w="1080" h="772">
                <a:moveTo>
                  <a:pt x="11955" y="17761"/>
                </a:moveTo>
                <a:cubicBezTo>
                  <a:pt x="11980" y="17839"/>
                  <a:pt x="11988" y="17917"/>
                  <a:pt x="12006" y="17997"/>
                </a:cubicBezTo>
                <a:cubicBezTo>
                  <a:pt x="12027" y="18090"/>
                  <a:pt x="12048" y="18185"/>
                  <a:pt x="12072" y="18278"/>
                </a:cubicBezTo>
                <a:cubicBezTo>
                  <a:pt x="12089" y="18335"/>
                  <a:pt x="12095" y="18356"/>
                  <a:pt x="12105" y="18395"/>
                </a:cubicBezTo>
                <a:cubicBezTo>
                  <a:pt x="12071" y="18309"/>
                  <a:pt x="12051" y="18225"/>
                  <a:pt x="12038" y="18132"/>
                </a:cubicBezTo>
                <a:cubicBezTo>
                  <a:pt x="12020" y="18011"/>
                  <a:pt x="12014" y="17880"/>
                  <a:pt x="12033" y="17758"/>
                </a:cubicBezTo>
                <a:cubicBezTo>
                  <a:pt x="12045" y="17707"/>
                  <a:pt x="12050" y="17688"/>
                  <a:pt x="12077" y="17661"/>
                </a:cubicBezTo>
                <a:cubicBezTo>
                  <a:pt x="12143" y="17714"/>
                  <a:pt x="12171" y="17767"/>
                  <a:pt x="12168" y="17858"/>
                </a:cubicBezTo>
                <a:cubicBezTo>
                  <a:pt x="12165" y="17931"/>
                  <a:pt x="12144" y="18020"/>
                  <a:pt x="12088" y="18072"/>
                </a:cubicBezTo>
                <a:cubicBezTo>
                  <a:pt x="11938" y="18211"/>
                  <a:pt x="12016" y="17994"/>
                  <a:pt x="12045" y="17943"/>
                </a:cubicBezTo>
              </a:path>
              <a:path w="1080" h="772">
                <a:moveTo>
                  <a:pt x="12367" y="17857"/>
                </a:moveTo>
                <a:cubicBezTo>
                  <a:pt x="12364" y="17907"/>
                  <a:pt x="12356" y="17950"/>
                  <a:pt x="12347" y="17999"/>
                </a:cubicBezTo>
                <a:cubicBezTo>
                  <a:pt x="12359" y="17929"/>
                  <a:pt x="12371" y="17859"/>
                  <a:pt x="12385" y="17789"/>
                </a:cubicBezTo>
                <a:cubicBezTo>
                  <a:pt x="12399" y="17720"/>
                  <a:pt x="12399" y="17634"/>
                  <a:pt x="12482" y="17633"/>
                </a:cubicBezTo>
                <a:cubicBezTo>
                  <a:pt x="12502" y="17637"/>
                  <a:pt x="12521" y="17640"/>
                  <a:pt x="12541" y="17644"/>
                </a:cubicBezTo>
              </a:path>
              <a:path w="1080" h="772">
                <a:moveTo>
                  <a:pt x="12595" y="17730"/>
                </a:moveTo>
                <a:cubicBezTo>
                  <a:pt x="12583" y="17779"/>
                  <a:pt x="12536" y="17882"/>
                  <a:pt x="12561" y="17930"/>
                </a:cubicBezTo>
                <a:cubicBezTo>
                  <a:pt x="12575" y="17942"/>
                  <a:pt x="12590" y="17953"/>
                  <a:pt x="12604" y="17965"/>
                </a:cubicBezTo>
                <a:cubicBezTo>
                  <a:pt x="12659" y="17917"/>
                  <a:pt x="12742" y="17855"/>
                  <a:pt x="12752" y="17776"/>
                </a:cubicBezTo>
                <a:cubicBezTo>
                  <a:pt x="12743" y="17721"/>
                  <a:pt x="12740" y="17703"/>
                  <a:pt x="12712" y="17676"/>
                </a:cubicBezTo>
              </a:path>
              <a:path w="1080" h="772">
                <a:moveTo>
                  <a:pt x="12821" y="17726"/>
                </a:moveTo>
                <a:cubicBezTo>
                  <a:pt x="12836" y="17803"/>
                  <a:pt x="12851" y="17879"/>
                  <a:pt x="12869" y="17955"/>
                </a:cubicBezTo>
                <a:cubicBezTo>
                  <a:pt x="12882" y="18009"/>
                  <a:pt x="12893" y="18064"/>
                  <a:pt x="12905" y="18118"/>
                </a:cubicBezTo>
                <a:cubicBezTo>
                  <a:pt x="12911" y="18021"/>
                  <a:pt x="12905" y="17924"/>
                  <a:pt x="12912" y="17827"/>
                </a:cubicBezTo>
                <a:cubicBezTo>
                  <a:pt x="12915" y="17789"/>
                  <a:pt x="12918" y="17640"/>
                  <a:pt x="12971" y="17624"/>
                </a:cubicBezTo>
                <a:cubicBezTo>
                  <a:pt x="12989" y="17629"/>
                  <a:pt x="13006" y="17635"/>
                  <a:pt x="13024" y="17640"/>
                </a:cubicBezTo>
                <a:cubicBezTo>
                  <a:pt x="13028" y="17739"/>
                  <a:pt x="13009" y="17815"/>
                  <a:pt x="12907" y="17862"/>
                </a:cubicBezTo>
                <a:cubicBezTo>
                  <a:pt x="12863" y="17867"/>
                  <a:pt x="12849" y="17867"/>
                  <a:pt x="12875" y="1781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4791240" y="6262560"/>
            <a:ext cx="355320" cy="274680"/>
          </a:xfrm>
          <a:custGeom>
            <a:avLst/>
            <a:gdLst/>
            <a:ahLst/>
            <a:rect l="l" t="t" r="r" b="b"/>
            <a:pathLst>
              <a:path w="987" h="762">
                <a:moveTo>
                  <a:pt x="13331" y="17699"/>
                </a:moveTo>
                <a:cubicBezTo>
                  <a:pt x="13366" y="17646"/>
                  <a:pt x="13378" y="17628"/>
                  <a:pt x="13403" y="17593"/>
                </a:cubicBezTo>
                <a:cubicBezTo>
                  <a:pt x="13377" y="17635"/>
                  <a:pt x="13259" y="17794"/>
                  <a:pt x="13315" y="17850"/>
                </a:cubicBezTo>
                <a:cubicBezTo>
                  <a:pt x="13387" y="17922"/>
                  <a:pt x="13462" y="17849"/>
                  <a:pt x="13521" y="17813"/>
                </a:cubicBezTo>
              </a:path>
              <a:path w="987" h="762">
                <a:moveTo>
                  <a:pt x="13589" y="17729"/>
                </a:moveTo>
                <a:cubicBezTo>
                  <a:pt x="13587" y="17747"/>
                  <a:pt x="13585" y="17764"/>
                  <a:pt x="13583" y="17782"/>
                </a:cubicBezTo>
                <a:cubicBezTo>
                  <a:pt x="13640" y="17727"/>
                  <a:pt x="13672" y="17676"/>
                  <a:pt x="13743" y="17636"/>
                </a:cubicBezTo>
              </a:path>
              <a:path w="987" h="762">
                <a:moveTo>
                  <a:pt x="13871" y="17397"/>
                </a:moveTo>
                <a:cubicBezTo>
                  <a:pt x="13866" y="17473"/>
                  <a:pt x="13868" y="17547"/>
                  <a:pt x="13876" y="17623"/>
                </a:cubicBezTo>
                <a:cubicBezTo>
                  <a:pt x="13884" y="17707"/>
                  <a:pt x="13896" y="17790"/>
                  <a:pt x="13912" y="17872"/>
                </a:cubicBezTo>
                <a:cubicBezTo>
                  <a:pt x="13915" y="17887"/>
                  <a:pt x="13917" y="17901"/>
                  <a:pt x="13920" y="17916"/>
                </a:cubicBezTo>
              </a:path>
              <a:path w="987" h="762">
                <a:moveTo>
                  <a:pt x="13854" y="17663"/>
                </a:moveTo>
                <a:cubicBezTo>
                  <a:pt x="13851" y="17649"/>
                  <a:pt x="13849" y="17635"/>
                  <a:pt x="13846" y="17621"/>
                </a:cubicBezTo>
                <a:cubicBezTo>
                  <a:pt x="13917" y="17642"/>
                  <a:pt x="13984" y="17657"/>
                  <a:pt x="14056" y="17668"/>
                </a:cubicBezTo>
                <a:cubicBezTo>
                  <a:pt x="14131" y="17680"/>
                  <a:pt x="14139" y="17817"/>
                  <a:pt x="14207" y="17811"/>
                </a:cubicBezTo>
                <a:cubicBezTo>
                  <a:pt x="14258" y="17774"/>
                  <a:pt x="14276" y="17759"/>
                  <a:pt x="14287" y="17713"/>
                </a:cubicBezTo>
                <a:cubicBezTo>
                  <a:pt x="14292" y="17791"/>
                  <a:pt x="14287" y="17860"/>
                  <a:pt x="14281" y="17938"/>
                </a:cubicBezTo>
                <a:cubicBezTo>
                  <a:pt x="14275" y="18012"/>
                  <a:pt x="14275" y="18084"/>
                  <a:pt x="14279" y="1815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2779560" y="3340080"/>
            <a:ext cx="2760840" cy="185760"/>
          </a:xfrm>
          <a:custGeom>
            <a:avLst/>
            <a:gdLst/>
            <a:ahLst/>
            <a:rect l="l" t="t" r="r" b="b"/>
            <a:pathLst>
              <a:path w="7666" h="514">
                <a:moveTo>
                  <a:pt x="7726" y="9308"/>
                </a:moveTo>
                <a:cubicBezTo>
                  <a:pt x="7723" y="9292"/>
                  <a:pt x="7722" y="9289"/>
                  <a:pt x="7723" y="9279"/>
                </a:cubicBezTo>
                <a:cubicBezTo>
                  <a:pt x="7778" y="9431"/>
                  <a:pt x="7786" y="9672"/>
                  <a:pt x="7946" y="9745"/>
                </a:cubicBezTo>
                <a:cubicBezTo>
                  <a:pt x="8170" y="9847"/>
                  <a:pt x="8535" y="9776"/>
                  <a:pt x="8771" y="9777"/>
                </a:cubicBezTo>
                <a:cubicBezTo>
                  <a:pt x="9898" y="9784"/>
                  <a:pt x="11023" y="9775"/>
                  <a:pt x="12150" y="9741"/>
                </a:cubicBezTo>
                <a:cubicBezTo>
                  <a:pt x="13157" y="9711"/>
                  <a:pt x="14174" y="9665"/>
                  <a:pt x="15181" y="9703"/>
                </a:cubicBezTo>
                <a:cubicBezTo>
                  <a:pt x="15250" y="9706"/>
                  <a:pt x="15319" y="9706"/>
                  <a:pt x="15388" y="9708"/>
                </a:cubicBezTo>
                <a:cubicBezTo>
                  <a:pt x="15381" y="9658"/>
                  <a:pt x="15372" y="9607"/>
                  <a:pt x="15365" y="9556"/>
                </a:cubicBezTo>
                <a:cubicBezTo>
                  <a:pt x="15360" y="9516"/>
                  <a:pt x="15366" y="9393"/>
                  <a:pt x="15337" y="9364"/>
                </a:cubicBezTo>
                <a:cubicBezTo>
                  <a:pt x="15311" y="9338"/>
                  <a:pt x="15345" y="9417"/>
                  <a:pt x="15317" y="9403"/>
                </a:cubicBezTo>
                <a:cubicBezTo>
                  <a:pt x="15313" y="9410"/>
                  <a:pt x="15308" y="9416"/>
                  <a:pt x="15304" y="942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"/>
          <p:cNvSpPr/>
          <p:nvPr/>
        </p:nvSpPr>
        <p:spPr>
          <a:xfrm>
            <a:off x="2043000" y="0"/>
            <a:ext cx="50454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0000"/>
                </a:solidFill>
                <a:latin typeface="Arial"/>
              </a:rPr>
              <a:t>Basics of Counting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612360" y="914400"/>
            <a:ext cx="248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m rule, product ru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2130480" y="1463760"/>
            <a:ext cx="349200" cy="264960"/>
          </a:xfrm>
          <a:custGeom>
            <a:avLst/>
            <a:gdLst/>
            <a:ahLst/>
            <a:rect l="l" t="t" r="r" b="b"/>
            <a:pathLst>
              <a:path w="969" h="734">
                <a:moveTo>
                  <a:pt x="5943" y="4121"/>
                </a:moveTo>
                <a:cubicBezTo>
                  <a:pt x="5935" y="4103"/>
                  <a:pt x="5927" y="4085"/>
                  <a:pt x="5919" y="4067"/>
                </a:cubicBezTo>
                <a:cubicBezTo>
                  <a:pt x="5919" y="4098"/>
                  <a:pt x="5917" y="4129"/>
                  <a:pt x="5918" y="4160"/>
                </a:cubicBezTo>
                <a:cubicBezTo>
                  <a:pt x="5920" y="4229"/>
                  <a:pt x="5924" y="4297"/>
                  <a:pt x="5927" y="4366"/>
                </a:cubicBezTo>
                <a:cubicBezTo>
                  <a:pt x="5930" y="4439"/>
                  <a:pt x="5934" y="4513"/>
                  <a:pt x="5936" y="4586"/>
                </a:cubicBezTo>
                <a:cubicBezTo>
                  <a:pt x="5937" y="4633"/>
                  <a:pt x="5938" y="4679"/>
                  <a:pt x="5936" y="4726"/>
                </a:cubicBezTo>
                <a:cubicBezTo>
                  <a:pt x="5935" y="4749"/>
                  <a:pt x="5936" y="4770"/>
                  <a:pt x="5937" y="4793"/>
                </a:cubicBezTo>
              </a:path>
              <a:path w="969" h="734">
                <a:moveTo>
                  <a:pt x="6337" y="4800"/>
                </a:moveTo>
                <a:cubicBezTo>
                  <a:pt x="6311" y="4778"/>
                  <a:pt x="6306" y="4785"/>
                  <a:pt x="6310" y="4743"/>
                </a:cubicBezTo>
                <a:cubicBezTo>
                  <a:pt x="6315" y="4695"/>
                  <a:pt x="6323" y="4648"/>
                  <a:pt x="6329" y="4600"/>
                </a:cubicBezTo>
                <a:cubicBezTo>
                  <a:pt x="6341" y="4502"/>
                  <a:pt x="6355" y="4404"/>
                  <a:pt x="6373" y="4306"/>
                </a:cubicBezTo>
                <a:cubicBezTo>
                  <a:pt x="6384" y="4244"/>
                  <a:pt x="6388" y="4148"/>
                  <a:pt x="6438" y="4107"/>
                </a:cubicBezTo>
                <a:cubicBezTo>
                  <a:pt x="6464" y="4151"/>
                  <a:pt x="6486" y="4194"/>
                  <a:pt x="6504" y="4242"/>
                </a:cubicBezTo>
                <a:cubicBezTo>
                  <a:pt x="6530" y="4309"/>
                  <a:pt x="6550" y="4379"/>
                  <a:pt x="6571" y="4447"/>
                </a:cubicBezTo>
                <a:cubicBezTo>
                  <a:pt x="6587" y="4498"/>
                  <a:pt x="6600" y="4553"/>
                  <a:pt x="6622" y="4602"/>
                </a:cubicBezTo>
                <a:cubicBezTo>
                  <a:pt x="6631" y="4621"/>
                  <a:pt x="6638" y="4634"/>
                  <a:pt x="6653" y="4650"/>
                </a:cubicBezTo>
              </a:path>
              <a:path w="969" h="734">
                <a:moveTo>
                  <a:pt x="6357" y="4488"/>
                </a:moveTo>
                <a:cubicBezTo>
                  <a:pt x="6340" y="4498"/>
                  <a:pt x="6329" y="4501"/>
                  <a:pt x="6310" y="4506"/>
                </a:cubicBezTo>
                <a:cubicBezTo>
                  <a:pt x="6341" y="4506"/>
                  <a:pt x="6372" y="4503"/>
                  <a:pt x="6403" y="4502"/>
                </a:cubicBezTo>
                <a:cubicBezTo>
                  <a:pt x="6448" y="4501"/>
                  <a:pt x="6495" y="4500"/>
                  <a:pt x="6539" y="4491"/>
                </a:cubicBezTo>
                <a:cubicBezTo>
                  <a:pt x="6584" y="4482"/>
                  <a:pt x="6623" y="4475"/>
                  <a:pt x="6667" y="4461"/>
                </a:cubicBezTo>
                <a:cubicBezTo>
                  <a:pt x="6691" y="4453"/>
                  <a:pt x="6714" y="4445"/>
                  <a:pt x="6738" y="4438"/>
                </a:cubicBezTo>
              </a:path>
              <a:path w="969" h="734">
                <a:moveTo>
                  <a:pt x="6852" y="4406"/>
                </a:moveTo>
                <a:cubicBezTo>
                  <a:pt x="6856" y="4439"/>
                  <a:pt x="6850" y="4473"/>
                  <a:pt x="6851" y="4506"/>
                </a:cubicBezTo>
                <a:cubicBezTo>
                  <a:pt x="6852" y="4548"/>
                  <a:pt x="6855" y="4593"/>
                  <a:pt x="6861" y="4635"/>
                </a:cubicBezTo>
                <a:cubicBezTo>
                  <a:pt x="6866" y="4669"/>
                  <a:pt x="6878" y="4701"/>
                  <a:pt x="6885" y="4734"/>
                </a:cubicBezTo>
                <a:cubicBezTo>
                  <a:pt x="6885" y="4739"/>
                  <a:pt x="6886" y="4745"/>
                  <a:pt x="6886" y="4750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2590920" y="1498680"/>
            <a:ext cx="122040" cy="196920"/>
          </a:xfrm>
          <a:custGeom>
            <a:avLst/>
            <a:gdLst/>
            <a:ahLst/>
            <a:rect l="l" t="t" r="r" b="b"/>
            <a:pathLst>
              <a:path w="341" h="547">
                <a:moveTo>
                  <a:pt x="7214" y="4248"/>
                </a:moveTo>
                <a:cubicBezTo>
                  <a:pt x="7204" y="4273"/>
                  <a:pt x="7198" y="4300"/>
                  <a:pt x="7197" y="4327"/>
                </a:cubicBezTo>
                <a:cubicBezTo>
                  <a:pt x="7194" y="4384"/>
                  <a:pt x="7192" y="4446"/>
                  <a:pt x="7202" y="4502"/>
                </a:cubicBezTo>
                <a:cubicBezTo>
                  <a:pt x="7213" y="4565"/>
                  <a:pt x="7236" y="4636"/>
                  <a:pt x="7283" y="4682"/>
                </a:cubicBezTo>
                <a:cubicBezTo>
                  <a:pt x="7322" y="4721"/>
                  <a:pt x="7378" y="4712"/>
                  <a:pt x="7414" y="4673"/>
                </a:cubicBezTo>
                <a:cubicBezTo>
                  <a:pt x="7479" y="4601"/>
                  <a:pt x="7499" y="4481"/>
                  <a:pt x="7510" y="4389"/>
                </a:cubicBezTo>
                <a:cubicBezTo>
                  <a:pt x="7517" y="4336"/>
                  <a:pt x="7519" y="4278"/>
                  <a:pt x="7514" y="4224"/>
                </a:cubicBezTo>
                <a:cubicBezTo>
                  <a:pt x="7512" y="4199"/>
                  <a:pt x="7495" y="4179"/>
                  <a:pt x="7518" y="4168"/>
                </a:cubicBezTo>
                <a:cubicBezTo>
                  <a:pt x="7524" y="4166"/>
                  <a:pt x="7529" y="4164"/>
                  <a:pt x="7535" y="4162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841480" y="1450800"/>
            <a:ext cx="615960" cy="306720"/>
          </a:xfrm>
          <a:custGeom>
            <a:avLst/>
            <a:gdLst/>
            <a:ahLst/>
            <a:rect l="l" t="t" r="r" b="b"/>
            <a:pathLst>
              <a:path w="1712" h="850">
                <a:moveTo>
                  <a:pt x="7922" y="4781"/>
                </a:moveTo>
                <a:cubicBezTo>
                  <a:pt x="7913" y="4756"/>
                  <a:pt x="7911" y="4724"/>
                  <a:pt x="7915" y="4696"/>
                </a:cubicBezTo>
                <a:cubicBezTo>
                  <a:pt x="7924" y="4639"/>
                  <a:pt x="7933" y="4581"/>
                  <a:pt x="7942" y="4524"/>
                </a:cubicBezTo>
                <a:cubicBezTo>
                  <a:pt x="7956" y="4438"/>
                  <a:pt x="7972" y="4351"/>
                  <a:pt x="7995" y="4266"/>
                </a:cubicBezTo>
                <a:cubicBezTo>
                  <a:pt x="8007" y="4223"/>
                  <a:pt x="8007" y="4195"/>
                  <a:pt x="8049" y="4193"/>
                </a:cubicBezTo>
                <a:cubicBezTo>
                  <a:pt x="8072" y="4247"/>
                  <a:pt x="8089" y="4303"/>
                  <a:pt x="8106" y="4359"/>
                </a:cubicBezTo>
                <a:cubicBezTo>
                  <a:pt x="8133" y="4446"/>
                  <a:pt x="8156" y="4534"/>
                  <a:pt x="8185" y="4620"/>
                </a:cubicBezTo>
                <a:cubicBezTo>
                  <a:pt x="8202" y="4670"/>
                  <a:pt x="8220" y="4721"/>
                  <a:pt x="8240" y="4770"/>
                </a:cubicBezTo>
              </a:path>
              <a:path w="1712" h="850">
                <a:moveTo>
                  <a:pt x="7892" y="4583"/>
                </a:moveTo>
                <a:cubicBezTo>
                  <a:pt x="7930" y="4540"/>
                  <a:pt x="7972" y="4523"/>
                  <a:pt x="8020" y="4492"/>
                </a:cubicBezTo>
                <a:cubicBezTo>
                  <a:pt x="8078" y="4455"/>
                  <a:pt x="8136" y="4435"/>
                  <a:pt x="8203" y="4421"/>
                </a:cubicBezTo>
              </a:path>
              <a:path w="1712" h="850">
                <a:moveTo>
                  <a:pt x="8316" y="4586"/>
                </a:moveTo>
                <a:cubicBezTo>
                  <a:pt x="8346" y="4549"/>
                  <a:pt x="8374" y="4522"/>
                  <a:pt x="8420" y="4502"/>
                </a:cubicBezTo>
                <a:cubicBezTo>
                  <a:pt x="8462" y="4484"/>
                  <a:pt x="8508" y="4486"/>
                  <a:pt x="8531" y="4533"/>
                </a:cubicBezTo>
                <a:cubicBezTo>
                  <a:pt x="8558" y="4589"/>
                  <a:pt x="8547" y="4665"/>
                  <a:pt x="8537" y="4723"/>
                </a:cubicBezTo>
                <a:cubicBezTo>
                  <a:pt x="8531" y="4757"/>
                  <a:pt x="8500" y="4832"/>
                  <a:pt x="8511" y="4867"/>
                </a:cubicBezTo>
                <a:cubicBezTo>
                  <a:pt x="8515" y="4871"/>
                  <a:pt x="8520" y="4875"/>
                  <a:pt x="8524" y="4879"/>
                </a:cubicBezTo>
                <a:cubicBezTo>
                  <a:pt x="8550" y="4860"/>
                  <a:pt x="8569" y="4839"/>
                  <a:pt x="8591" y="4817"/>
                </a:cubicBezTo>
                <a:cubicBezTo>
                  <a:pt x="8616" y="4793"/>
                  <a:pt x="8633" y="4775"/>
                  <a:pt x="8642" y="4740"/>
                </a:cubicBezTo>
                <a:cubicBezTo>
                  <a:pt x="8643" y="4732"/>
                  <a:pt x="8644" y="4725"/>
                  <a:pt x="8645" y="4717"/>
                </a:cubicBezTo>
              </a:path>
              <a:path w="1712" h="850">
                <a:moveTo>
                  <a:pt x="8811" y="4067"/>
                </a:moveTo>
                <a:cubicBezTo>
                  <a:pt x="8817" y="4049"/>
                  <a:pt x="8819" y="4042"/>
                  <a:pt x="8823" y="4030"/>
                </a:cubicBezTo>
                <a:cubicBezTo>
                  <a:pt x="8811" y="4075"/>
                  <a:pt x="8800" y="4121"/>
                  <a:pt x="8797" y="4169"/>
                </a:cubicBezTo>
                <a:cubicBezTo>
                  <a:pt x="8790" y="4278"/>
                  <a:pt x="8795" y="4394"/>
                  <a:pt x="8806" y="4502"/>
                </a:cubicBezTo>
                <a:cubicBezTo>
                  <a:pt x="8816" y="4602"/>
                  <a:pt x="8840" y="4699"/>
                  <a:pt x="8864" y="4796"/>
                </a:cubicBezTo>
                <a:cubicBezTo>
                  <a:pt x="8870" y="4821"/>
                  <a:pt x="8876" y="4847"/>
                  <a:pt x="8880" y="4872"/>
                </a:cubicBezTo>
              </a:path>
              <a:path w="1712" h="850">
                <a:moveTo>
                  <a:pt x="9105" y="4392"/>
                </a:moveTo>
                <a:cubicBezTo>
                  <a:pt x="9133" y="4374"/>
                  <a:pt x="9139" y="4373"/>
                  <a:pt x="9170" y="4373"/>
                </a:cubicBezTo>
                <a:cubicBezTo>
                  <a:pt x="9219" y="4373"/>
                  <a:pt x="9268" y="4375"/>
                  <a:pt x="9317" y="4376"/>
                </a:cubicBezTo>
                <a:cubicBezTo>
                  <a:pt x="9381" y="4378"/>
                  <a:pt x="9447" y="4378"/>
                  <a:pt x="9509" y="4363"/>
                </a:cubicBezTo>
                <a:cubicBezTo>
                  <a:pt x="9540" y="4354"/>
                  <a:pt x="9547" y="4352"/>
                  <a:pt x="9567" y="4347"/>
                </a:cubicBezTo>
              </a:path>
              <a:path w="1712" h="850">
                <a:moveTo>
                  <a:pt x="9216" y="4629"/>
                </a:moveTo>
                <a:cubicBezTo>
                  <a:pt x="9211" y="4635"/>
                  <a:pt x="9206" y="4640"/>
                  <a:pt x="9201" y="4646"/>
                </a:cubicBezTo>
                <a:cubicBezTo>
                  <a:pt x="9231" y="4656"/>
                  <a:pt x="9266" y="4635"/>
                  <a:pt x="9302" y="4626"/>
                </a:cubicBezTo>
                <a:cubicBezTo>
                  <a:pt x="9365" y="4610"/>
                  <a:pt x="9426" y="4601"/>
                  <a:pt x="9490" y="4599"/>
                </a:cubicBezTo>
                <a:cubicBezTo>
                  <a:pt x="9528" y="4598"/>
                  <a:pt x="9565" y="4596"/>
                  <a:pt x="9603" y="4597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3616200" y="1467000"/>
            <a:ext cx="430200" cy="307800"/>
          </a:xfrm>
          <a:custGeom>
            <a:avLst/>
            <a:gdLst/>
            <a:ahLst/>
            <a:rect l="l" t="t" r="r" b="b"/>
            <a:pathLst>
              <a:path w="1194" h="855">
                <a:moveTo>
                  <a:pt x="10082" y="4075"/>
                </a:moveTo>
                <a:cubicBezTo>
                  <a:pt x="10059" y="4110"/>
                  <a:pt x="10058" y="4160"/>
                  <a:pt x="10054" y="4206"/>
                </a:cubicBezTo>
                <a:cubicBezTo>
                  <a:pt x="10043" y="4324"/>
                  <a:pt x="10049" y="4435"/>
                  <a:pt x="10064" y="4552"/>
                </a:cubicBezTo>
                <a:cubicBezTo>
                  <a:pt x="10071" y="4608"/>
                  <a:pt x="10092" y="4654"/>
                  <a:pt x="10113" y="4706"/>
                </a:cubicBezTo>
              </a:path>
              <a:path w="1194" h="855">
                <a:moveTo>
                  <a:pt x="10398" y="4755"/>
                </a:moveTo>
                <a:cubicBezTo>
                  <a:pt x="10385" y="4719"/>
                  <a:pt x="10375" y="4684"/>
                  <a:pt x="10371" y="4646"/>
                </a:cubicBezTo>
                <a:cubicBezTo>
                  <a:pt x="10363" y="4569"/>
                  <a:pt x="10370" y="4490"/>
                  <a:pt x="10379" y="4413"/>
                </a:cubicBezTo>
                <a:cubicBezTo>
                  <a:pt x="10391" y="4312"/>
                  <a:pt x="10406" y="4201"/>
                  <a:pt x="10463" y="4116"/>
                </a:cubicBezTo>
                <a:cubicBezTo>
                  <a:pt x="10507" y="4119"/>
                  <a:pt x="10521" y="4152"/>
                  <a:pt x="10542" y="4193"/>
                </a:cubicBezTo>
                <a:cubicBezTo>
                  <a:pt x="10582" y="4271"/>
                  <a:pt x="10612" y="4354"/>
                  <a:pt x="10644" y="4435"/>
                </a:cubicBezTo>
                <a:cubicBezTo>
                  <a:pt x="10674" y="4511"/>
                  <a:pt x="10708" y="4587"/>
                  <a:pt x="10732" y="4665"/>
                </a:cubicBezTo>
                <a:cubicBezTo>
                  <a:pt x="10738" y="4694"/>
                  <a:pt x="10740" y="4701"/>
                  <a:pt x="10742" y="4720"/>
                </a:cubicBezTo>
              </a:path>
              <a:path w="1194" h="855">
                <a:moveTo>
                  <a:pt x="10411" y="4486"/>
                </a:moveTo>
                <a:cubicBezTo>
                  <a:pt x="10426" y="4518"/>
                  <a:pt x="10463" y="4512"/>
                  <a:pt x="10505" y="4509"/>
                </a:cubicBezTo>
                <a:cubicBezTo>
                  <a:pt x="10576" y="4504"/>
                  <a:pt x="10648" y="4490"/>
                  <a:pt x="10718" y="4480"/>
                </a:cubicBezTo>
                <a:cubicBezTo>
                  <a:pt x="10736" y="4478"/>
                  <a:pt x="10754" y="4476"/>
                  <a:pt x="10772" y="4474"/>
                </a:cubicBezTo>
              </a:path>
              <a:path w="1194" h="855">
                <a:moveTo>
                  <a:pt x="10968" y="4564"/>
                </a:moveTo>
                <a:cubicBezTo>
                  <a:pt x="10976" y="4608"/>
                  <a:pt x="10981" y="4663"/>
                  <a:pt x="10973" y="4708"/>
                </a:cubicBezTo>
                <a:cubicBezTo>
                  <a:pt x="10964" y="4759"/>
                  <a:pt x="10940" y="4817"/>
                  <a:pt x="10941" y="4870"/>
                </a:cubicBezTo>
                <a:cubicBezTo>
                  <a:pt x="10941" y="4896"/>
                  <a:pt x="10944" y="4916"/>
                  <a:pt x="10958" y="4929"/>
                </a:cubicBezTo>
              </a:path>
              <a:path w="1194" h="855">
                <a:moveTo>
                  <a:pt x="11199" y="4077"/>
                </a:moveTo>
                <a:cubicBezTo>
                  <a:pt x="11195" y="4133"/>
                  <a:pt x="11197" y="4189"/>
                  <a:pt x="11203" y="4245"/>
                </a:cubicBezTo>
                <a:cubicBezTo>
                  <a:pt x="11213" y="4337"/>
                  <a:pt x="11224" y="4429"/>
                  <a:pt x="11230" y="4521"/>
                </a:cubicBezTo>
                <a:cubicBezTo>
                  <a:pt x="11234" y="4590"/>
                  <a:pt x="11245" y="4666"/>
                  <a:pt x="11239" y="4735"/>
                </a:cubicBezTo>
                <a:cubicBezTo>
                  <a:pt x="11233" y="4758"/>
                  <a:pt x="11231" y="4764"/>
                  <a:pt x="11227" y="4779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4183200" y="1479600"/>
            <a:ext cx="644400" cy="298440"/>
          </a:xfrm>
          <a:custGeom>
            <a:avLst/>
            <a:gdLst/>
            <a:ahLst/>
            <a:rect l="l" t="t" r="r" b="b"/>
            <a:pathLst>
              <a:path w="1788" h="831">
                <a:moveTo>
                  <a:pt x="11785" y="4280"/>
                </a:moveTo>
                <a:cubicBezTo>
                  <a:pt x="11753" y="4273"/>
                  <a:pt x="11754" y="4320"/>
                  <a:pt x="11751" y="4357"/>
                </a:cubicBezTo>
                <a:cubicBezTo>
                  <a:pt x="11746" y="4430"/>
                  <a:pt x="11745" y="4504"/>
                  <a:pt x="11747" y="4577"/>
                </a:cubicBezTo>
                <a:cubicBezTo>
                  <a:pt x="11749" y="4629"/>
                  <a:pt x="11755" y="4680"/>
                  <a:pt x="11754" y="4732"/>
                </a:cubicBezTo>
              </a:path>
              <a:path w="1788" h="831">
                <a:moveTo>
                  <a:pt x="11622" y="4530"/>
                </a:moveTo>
                <a:cubicBezTo>
                  <a:pt x="11628" y="4557"/>
                  <a:pt x="11661" y="4545"/>
                  <a:pt x="11691" y="4542"/>
                </a:cubicBezTo>
                <a:cubicBezTo>
                  <a:pt x="11762" y="4535"/>
                  <a:pt x="11824" y="4521"/>
                  <a:pt x="11893" y="4502"/>
                </a:cubicBezTo>
                <a:cubicBezTo>
                  <a:pt x="11949" y="4486"/>
                  <a:pt x="12000" y="4467"/>
                  <a:pt x="12054" y="4445"/>
                </a:cubicBezTo>
              </a:path>
              <a:path w="1788" h="831">
                <a:moveTo>
                  <a:pt x="12184" y="4121"/>
                </a:moveTo>
                <a:cubicBezTo>
                  <a:pt x="12199" y="4192"/>
                  <a:pt x="12204" y="4265"/>
                  <a:pt x="12216" y="4338"/>
                </a:cubicBezTo>
                <a:cubicBezTo>
                  <a:pt x="12238" y="4470"/>
                  <a:pt x="12262" y="4601"/>
                  <a:pt x="12290" y="4732"/>
                </a:cubicBezTo>
                <a:cubicBezTo>
                  <a:pt x="12297" y="4766"/>
                  <a:pt x="12305" y="4800"/>
                  <a:pt x="12312" y="4834"/>
                </a:cubicBezTo>
              </a:path>
              <a:path w="1788" h="831">
                <a:moveTo>
                  <a:pt x="12536" y="4823"/>
                </a:moveTo>
                <a:cubicBezTo>
                  <a:pt x="12544" y="4784"/>
                  <a:pt x="12543" y="4742"/>
                  <a:pt x="12545" y="4703"/>
                </a:cubicBezTo>
                <a:cubicBezTo>
                  <a:pt x="12548" y="4615"/>
                  <a:pt x="12558" y="4529"/>
                  <a:pt x="12568" y="4441"/>
                </a:cubicBezTo>
                <a:cubicBezTo>
                  <a:pt x="12578" y="4357"/>
                  <a:pt x="12581" y="4257"/>
                  <a:pt x="12616" y="4178"/>
                </a:cubicBezTo>
                <a:cubicBezTo>
                  <a:pt x="12619" y="4174"/>
                  <a:pt x="12623" y="4169"/>
                  <a:pt x="12626" y="4165"/>
                </a:cubicBezTo>
                <a:cubicBezTo>
                  <a:pt x="12655" y="4215"/>
                  <a:pt x="12660" y="4265"/>
                  <a:pt x="12672" y="4322"/>
                </a:cubicBezTo>
                <a:cubicBezTo>
                  <a:pt x="12691" y="4414"/>
                  <a:pt x="12712" y="4505"/>
                  <a:pt x="12737" y="4596"/>
                </a:cubicBezTo>
                <a:cubicBezTo>
                  <a:pt x="12754" y="4656"/>
                  <a:pt x="12774" y="4724"/>
                  <a:pt x="12812" y="4775"/>
                </a:cubicBezTo>
                <a:cubicBezTo>
                  <a:pt x="12816" y="4779"/>
                  <a:pt x="12821" y="4783"/>
                  <a:pt x="12825" y="4787"/>
                </a:cubicBezTo>
              </a:path>
              <a:path w="1788" h="831">
                <a:moveTo>
                  <a:pt x="12518" y="4634"/>
                </a:moveTo>
                <a:cubicBezTo>
                  <a:pt x="12520" y="4605"/>
                  <a:pt x="12530" y="4577"/>
                  <a:pt x="12549" y="4555"/>
                </a:cubicBezTo>
                <a:cubicBezTo>
                  <a:pt x="12577" y="4523"/>
                  <a:pt x="12632" y="4483"/>
                  <a:pt x="12670" y="4465"/>
                </a:cubicBezTo>
                <a:cubicBezTo>
                  <a:pt x="12712" y="4446"/>
                  <a:pt x="12752" y="4438"/>
                  <a:pt x="12797" y="4432"/>
                </a:cubicBezTo>
              </a:path>
              <a:path w="1788" h="831">
                <a:moveTo>
                  <a:pt x="12930" y="4676"/>
                </a:moveTo>
                <a:cubicBezTo>
                  <a:pt x="12958" y="4657"/>
                  <a:pt x="12982" y="4626"/>
                  <a:pt x="13010" y="4609"/>
                </a:cubicBezTo>
                <a:cubicBezTo>
                  <a:pt x="13031" y="4596"/>
                  <a:pt x="13070" y="4572"/>
                  <a:pt x="13094" y="4593"/>
                </a:cubicBezTo>
                <a:cubicBezTo>
                  <a:pt x="13139" y="4632"/>
                  <a:pt x="13125" y="4723"/>
                  <a:pt x="13117" y="4772"/>
                </a:cubicBezTo>
                <a:cubicBezTo>
                  <a:pt x="13108" y="4829"/>
                  <a:pt x="13087" y="4883"/>
                  <a:pt x="13067" y="4937"/>
                </a:cubicBezTo>
                <a:cubicBezTo>
                  <a:pt x="13100" y="4938"/>
                  <a:pt x="13117" y="4917"/>
                  <a:pt x="13144" y="4898"/>
                </a:cubicBezTo>
                <a:cubicBezTo>
                  <a:pt x="13180" y="4872"/>
                  <a:pt x="13200" y="4838"/>
                  <a:pt x="13218" y="4799"/>
                </a:cubicBezTo>
              </a:path>
              <a:path w="1788" h="831">
                <a:moveTo>
                  <a:pt x="13362" y="4128"/>
                </a:moveTo>
                <a:cubicBezTo>
                  <a:pt x="13359" y="4092"/>
                  <a:pt x="13372" y="4156"/>
                  <a:pt x="13373" y="4192"/>
                </a:cubicBezTo>
                <a:cubicBezTo>
                  <a:pt x="13375" y="4290"/>
                  <a:pt x="13382" y="4388"/>
                  <a:pt x="13386" y="4486"/>
                </a:cubicBezTo>
                <a:cubicBezTo>
                  <a:pt x="13390" y="4576"/>
                  <a:pt x="13386" y="4672"/>
                  <a:pt x="13397" y="4761"/>
                </a:cubicBezTo>
                <a:cubicBezTo>
                  <a:pt x="13401" y="4796"/>
                  <a:pt x="13427" y="4829"/>
                  <a:pt x="13391" y="4800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4962600" y="1484280"/>
            <a:ext cx="1297080" cy="309600"/>
          </a:xfrm>
          <a:custGeom>
            <a:avLst/>
            <a:gdLst/>
            <a:ahLst/>
            <a:rect l="l" t="t" r="r" b="b"/>
            <a:pathLst>
              <a:path w="3603" h="861">
                <a:moveTo>
                  <a:pt x="13800" y="4523"/>
                </a:moveTo>
                <a:cubicBezTo>
                  <a:pt x="13795" y="4524"/>
                  <a:pt x="13791" y="4526"/>
                  <a:pt x="13786" y="4527"/>
                </a:cubicBezTo>
                <a:cubicBezTo>
                  <a:pt x="13816" y="4524"/>
                  <a:pt x="13845" y="4520"/>
                  <a:pt x="13877" y="4521"/>
                </a:cubicBezTo>
                <a:cubicBezTo>
                  <a:pt x="13931" y="4522"/>
                  <a:pt x="13986" y="4524"/>
                  <a:pt x="14040" y="4523"/>
                </a:cubicBezTo>
                <a:cubicBezTo>
                  <a:pt x="14074" y="4522"/>
                  <a:pt x="14109" y="4538"/>
                  <a:pt x="14141" y="4523"/>
                </a:cubicBezTo>
                <a:cubicBezTo>
                  <a:pt x="14154" y="4515"/>
                  <a:pt x="14158" y="4513"/>
                  <a:pt x="14160" y="4502"/>
                </a:cubicBezTo>
              </a:path>
              <a:path w="3603" h="861">
                <a:moveTo>
                  <a:pt x="14456" y="4231"/>
                </a:moveTo>
                <a:cubicBezTo>
                  <a:pt x="14426" y="4193"/>
                  <a:pt x="14442" y="4316"/>
                  <a:pt x="14444" y="4347"/>
                </a:cubicBezTo>
                <a:cubicBezTo>
                  <a:pt x="14451" y="4446"/>
                  <a:pt x="14461" y="4544"/>
                  <a:pt x="14470" y="4643"/>
                </a:cubicBezTo>
                <a:cubicBezTo>
                  <a:pt x="14476" y="4714"/>
                  <a:pt x="14482" y="4784"/>
                  <a:pt x="14503" y="4852"/>
                </a:cubicBezTo>
                <a:cubicBezTo>
                  <a:pt x="14516" y="4893"/>
                  <a:pt x="14531" y="4858"/>
                  <a:pt x="14547" y="4840"/>
                </a:cubicBezTo>
              </a:path>
              <a:path w="3603" h="861">
                <a:moveTo>
                  <a:pt x="14809" y="4931"/>
                </a:moveTo>
                <a:cubicBezTo>
                  <a:pt x="14808" y="4886"/>
                  <a:pt x="14814" y="4845"/>
                  <a:pt x="14820" y="4800"/>
                </a:cubicBezTo>
                <a:cubicBezTo>
                  <a:pt x="14836" y="4674"/>
                  <a:pt x="14854" y="4548"/>
                  <a:pt x="14883" y="4424"/>
                </a:cubicBezTo>
                <a:cubicBezTo>
                  <a:pt x="14896" y="4368"/>
                  <a:pt x="14906" y="4302"/>
                  <a:pt x="14935" y="4253"/>
                </a:cubicBezTo>
                <a:cubicBezTo>
                  <a:pt x="14949" y="4294"/>
                  <a:pt x="14950" y="4331"/>
                  <a:pt x="14955" y="4374"/>
                </a:cubicBezTo>
                <a:cubicBezTo>
                  <a:pt x="14966" y="4474"/>
                  <a:pt x="14976" y="4573"/>
                  <a:pt x="14985" y="4673"/>
                </a:cubicBezTo>
                <a:cubicBezTo>
                  <a:pt x="14991" y="4739"/>
                  <a:pt x="14993" y="4808"/>
                  <a:pt x="15005" y="4873"/>
                </a:cubicBezTo>
                <a:cubicBezTo>
                  <a:pt x="15012" y="4910"/>
                  <a:pt x="15015" y="4947"/>
                  <a:pt x="15022" y="4984"/>
                </a:cubicBezTo>
              </a:path>
              <a:path w="3603" h="861">
                <a:moveTo>
                  <a:pt x="14858" y="4813"/>
                </a:moveTo>
                <a:cubicBezTo>
                  <a:pt x="14883" y="4811"/>
                  <a:pt x="14907" y="4810"/>
                  <a:pt x="14931" y="4804"/>
                </a:cubicBezTo>
                <a:cubicBezTo>
                  <a:pt x="14977" y="4792"/>
                  <a:pt x="15027" y="4787"/>
                  <a:pt x="15072" y="4775"/>
                </a:cubicBezTo>
                <a:cubicBezTo>
                  <a:pt x="15103" y="4766"/>
                  <a:pt x="15134" y="4753"/>
                  <a:pt x="15164" y="4740"/>
                </a:cubicBezTo>
              </a:path>
              <a:path w="3603" h="861">
                <a:moveTo>
                  <a:pt x="15250" y="4720"/>
                </a:moveTo>
                <a:cubicBezTo>
                  <a:pt x="15267" y="4753"/>
                  <a:pt x="15278" y="4788"/>
                  <a:pt x="15281" y="4826"/>
                </a:cubicBezTo>
                <a:cubicBezTo>
                  <a:pt x="15284" y="4867"/>
                  <a:pt x="15284" y="4908"/>
                  <a:pt x="15289" y="4949"/>
                </a:cubicBezTo>
                <a:cubicBezTo>
                  <a:pt x="15291" y="4957"/>
                  <a:pt x="15292" y="4966"/>
                  <a:pt x="15294" y="4974"/>
                </a:cubicBezTo>
              </a:path>
              <a:path w="3603" h="861">
                <a:moveTo>
                  <a:pt x="15501" y="4670"/>
                </a:moveTo>
                <a:cubicBezTo>
                  <a:pt x="15510" y="4630"/>
                  <a:pt x="15517" y="4591"/>
                  <a:pt x="15530" y="4552"/>
                </a:cubicBezTo>
                <a:cubicBezTo>
                  <a:pt x="15553" y="4481"/>
                  <a:pt x="15595" y="4361"/>
                  <a:pt x="15665" y="4321"/>
                </a:cubicBezTo>
                <a:cubicBezTo>
                  <a:pt x="15713" y="4293"/>
                  <a:pt x="15742" y="4348"/>
                  <a:pt x="15760" y="4383"/>
                </a:cubicBezTo>
                <a:cubicBezTo>
                  <a:pt x="15818" y="4496"/>
                  <a:pt x="15847" y="4622"/>
                  <a:pt x="15880" y="4744"/>
                </a:cubicBezTo>
                <a:cubicBezTo>
                  <a:pt x="15893" y="4790"/>
                  <a:pt x="15905" y="4834"/>
                  <a:pt x="15913" y="4881"/>
                </a:cubicBezTo>
              </a:path>
              <a:path w="3603" h="861">
                <a:moveTo>
                  <a:pt x="16170" y="4846"/>
                </a:moveTo>
                <a:cubicBezTo>
                  <a:pt x="16151" y="4808"/>
                  <a:pt x="16153" y="4759"/>
                  <a:pt x="16157" y="4717"/>
                </a:cubicBezTo>
                <a:cubicBezTo>
                  <a:pt x="16164" y="4648"/>
                  <a:pt x="16176" y="4576"/>
                  <a:pt x="16194" y="4509"/>
                </a:cubicBezTo>
                <a:cubicBezTo>
                  <a:pt x="16215" y="4434"/>
                  <a:pt x="16242" y="4360"/>
                  <a:pt x="16273" y="4289"/>
                </a:cubicBezTo>
                <a:cubicBezTo>
                  <a:pt x="16290" y="4251"/>
                  <a:pt x="16297" y="4219"/>
                  <a:pt x="16340" y="4222"/>
                </a:cubicBezTo>
                <a:cubicBezTo>
                  <a:pt x="16377" y="4290"/>
                  <a:pt x="16396" y="4368"/>
                  <a:pt x="16421" y="4441"/>
                </a:cubicBezTo>
                <a:cubicBezTo>
                  <a:pt x="16445" y="4510"/>
                  <a:pt x="16470" y="4585"/>
                  <a:pt x="16507" y="4649"/>
                </a:cubicBezTo>
                <a:cubicBezTo>
                  <a:pt x="16523" y="4676"/>
                  <a:pt x="16538" y="4696"/>
                  <a:pt x="16549" y="4725"/>
                </a:cubicBezTo>
              </a:path>
              <a:path w="3603" h="861">
                <a:moveTo>
                  <a:pt x="16203" y="4612"/>
                </a:moveTo>
                <a:cubicBezTo>
                  <a:pt x="16193" y="4598"/>
                  <a:pt x="16190" y="4593"/>
                  <a:pt x="16190" y="4580"/>
                </a:cubicBezTo>
                <a:cubicBezTo>
                  <a:pt x="16219" y="4569"/>
                  <a:pt x="16251" y="4560"/>
                  <a:pt x="16281" y="4552"/>
                </a:cubicBezTo>
                <a:cubicBezTo>
                  <a:pt x="16349" y="4534"/>
                  <a:pt x="16419" y="4520"/>
                  <a:pt x="16487" y="4505"/>
                </a:cubicBezTo>
              </a:path>
              <a:path w="3603" h="861">
                <a:moveTo>
                  <a:pt x="16698" y="4614"/>
                </a:moveTo>
                <a:cubicBezTo>
                  <a:pt x="16731" y="4601"/>
                  <a:pt x="16779" y="4584"/>
                  <a:pt x="16815" y="4582"/>
                </a:cubicBezTo>
                <a:cubicBezTo>
                  <a:pt x="16858" y="4580"/>
                  <a:pt x="16886" y="4595"/>
                  <a:pt x="16897" y="4637"/>
                </a:cubicBezTo>
                <a:cubicBezTo>
                  <a:pt x="16911" y="4692"/>
                  <a:pt x="16887" y="4753"/>
                  <a:pt x="16872" y="4805"/>
                </a:cubicBezTo>
                <a:cubicBezTo>
                  <a:pt x="16859" y="4850"/>
                  <a:pt x="16837" y="4897"/>
                  <a:pt x="16832" y="4943"/>
                </a:cubicBezTo>
                <a:cubicBezTo>
                  <a:pt x="16832" y="4949"/>
                  <a:pt x="16833" y="4954"/>
                  <a:pt x="16833" y="4960"/>
                </a:cubicBezTo>
                <a:cubicBezTo>
                  <a:pt x="16863" y="4965"/>
                  <a:pt x="16896" y="4960"/>
                  <a:pt x="16923" y="4940"/>
                </a:cubicBezTo>
                <a:cubicBezTo>
                  <a:pt x="16965" y="4910"/>
                  <a:pt x="16995" y="4885"/>
                  <a:pt x="17027" y="4843"/>
                </a:cubicBezTo>
                <a:cubicBezTo>
                  <a:pt x="17053" y="4809"/>
                  <a:pt x="17062" y="4797"/>
                  <a:pt x="17074" y="4770"/>
                </a:cubicBezTo>
              </a:path>
              <a:path w="3603" h="861">
                <a:moveTo>
                  <a:pt x="17254" y="4145"/>
                </a:moveTo>
                <a:cubicBezTo>
                  <a:pt x="17256" y="4138"/>
                  <a:pt x="17257" y="4131"/>
                  <a:pt x="17259" y="4124"/>
                </a:cubicBezTo>
                <a:cubicBezTo>
                  <a:pt x="17248" y="4159"/>
                  <a:pt x="17242" y="4196"/>
                  <a:pt x="17239" y="4236"/>
                </a:cubicBezTo>
                <a:cubicBezTo>
                  <a:pt x="17229" y="4361"/>
                  <a:pt x="17243" y="4487"/>
                  <a:pt x="17270" y="4609"/>
                </a:cubicBezTo>
                <a:cubicBezTo>
                  <a:pt x="17289" y="4693"/>
                  <a:pt x="17311" y="4782"/>
                  <a:pt x="17353" y="4858"/>
                </a:cubicBezTo>
                <a:cubicBezTo>
                  <a:pt x="17372" y="4886"/>
                  <a:pt x="17376" y="4893"/>
                  <a:pt x="17388" y="4910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79600" y="99216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6609" y="2758"/>
                </a:moveTo>
                <a:lnTo>
                  <a:pt x="6609" y="2758"/>
                </a:ln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540360" y="2286000"/>
            <a:ext cx="775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many bitstrings of length ten either begin with a single 0 or end with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ngle 1, but not both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41200" y="4519440"/>
            <a:ext cx="893880" cy="659160"/>
          </a:xfrm>
          <a:custGeom>
            <a:avLst/>
            <a:gdLst/>
            <a:ahLst/>
            <a:rect l="l" t="t" r="r" b="b"/>
            <a:pathLst>
              <a:path w="2481" h="1829">
                <a:moveTo>
                  <a:pt x="1302" y="13076"/>
                </a:moveTo>
                <a:cubicBezTo>
                  <a:pt x="1250" y="13000"/>
                  <a:pt x="1201" y="12997"/>
                  <a:pt x="1100" y="13005"/>
                </a:cubicBezTo>
                <a:cubicBezTo>
                  <a:pt x="1030" y="13010"/>
                  <a:pt x="943" y="13032"/>
                  <a:pt x="890" y="13079"/>
                </a:cubicBezTo>
                <a:cubicBezTo>
                  <a:pt x="817" y="13143"/>
                  <a:pt x="767" y="13241"/>
                  <a:pt x="745" y="13335"/>
                </a:cubicBezTo>
                <a:cubicBezTo>
                  <a:pt x="719" y="13449"/>
                  <a:pt x="715" y="13564"/>
                  <a:pt x="726" y="13680"/>
                </a:cubicBezTo>
                <a:cubicBezTo>
                  <a:pt x="739" y="13815"/>
                  <a:pt x="782" y="13945"/>
                  <a:pt x="859" y="14057"/>
                </a:cubicBezTo>
                <a:cubicBezTo>
                  <a:pt x="937" y="14171"/>
                  <a:pt x="1056" y="14279"/>
                  <a:pt x="1182" y="14337"/>
                </a:cubicBezTo>
                <a:cubicBezTo>
                  <a:pt x="1409" y="14442"/>
                  <a:pt x="1626" y="14347"/>
                  <a:pt x="1787" y="14177"/>
                </a:cubicBezTo>
                <a:cubicBezTo>
                  <a:pt x="1938" y="14017"/>
                  <a:pt x="2028" y="13806"/>
                  <a:pt x="2047" y="13588"/>
                </a:cubicBezTo>
                <a:cubicBezTo>
                  <a:pt x="2055" y="13495"/>
                  <a:pt x="2033" y="13407"/>
                  <a:pt x="1989" y="13326"/>
                </a:cubicBezTo>
                <a:cubicBezTo>
                  <a:pt x="1937" y="13230"/>
                  <a:pt x="1851" y="13169"/>
                  <a:pt x="1758" y="13115"/>
                </a:cubicBezTo>
                <a:cubicBezTo>
                  <a:pt x="1694" y="13078"/>
                  <a:pt x="1625" y="13046"/>
                  <a:pt x="1554" y="13023"/>
                </a:cubicBezTo>
                <a:cubicBezTo>
                  <a:pt x="1525" y="13013"/>
                  <a:pt x="1501" y="13012"/>
                  <a:pt x="1473" y="13007"/>
                </a:cubicBezTo>
              </a:path>
              <a:path w="2481" h="1829">
                <a:moveTo>
                  <a:pt x="2358" y="13108"/>
                </a:moveTo>
                <a:cubicBezTo>
                  <a:pt x="2346" y="13075"/>
                  <a:pt x="2342" y="13051"/>
                  <a:pt x="2322" y="13020"/>
                </a:cubicBezTo>
                <a:cubicBezTo>
                  <a:pt x="2298" y="12983"/>
                  <a:pt x="2274" y="12959"/>
                  <a:pt x="2232" y="12942"/>
                </a:cubicBezTo>
                <a:cubicBezTo>
                  <a:pt x="2125" y="12899"/>
                  <a:pt x="2016" y="12950"/>
                  <a:pt x="1930" y="13015"/>
                </a:cubicBezTo>
                <a:cubicBezTo>
                  <a:pt x="1789" y="13122"/>
                  <a:pt x="1711" y="13306"/>
                  <a:pt x="1677" y="13475"/>
                </a:cubicBezTo>
                <a:cubicBezTo>
                  <a:pt x="1654" y="13587"/>
                  <a:pt x="1646" y="13705"/>
                  <a:pt x="1665" y="13819"/>
                </a:cubicBezTo>
                <a:cubicBezTo>
                  <a:pt x="1715" y="14121"/>
                  <a:pt x="2012" y="14346"/>
                  <a:pt x="2315" y="14273"/>
                </a:cubicBezTo>
                <a:cubicBezTo>
                  <a:pt x="2597" y="14205"/>
                  <a:pt x="2934" y="13974"/>
                  <a:pt x="3061" y="13708"/>
                </a:cubicBezTo>
                <a:cubicBezTo>
                  <a:pt x="3098" y="13631"/>
                  <a:pt x="3107" y="13544"/>
                  <a:pt x="3067" y="13466"/>
                </a:cubicBezTo>
                <a:cubicBezTo>
                  <a:pt x="3007" y="13348"/>
                  <a:pt x="2865" y="13279"/>
                  <a:pt x="2757" y="13214"/>
                </a:cubicBezTo>
              </a:path>
              <a:path w="2481" h="1829">
                <a:moveTo>
                  <a:pt x="694" y="12900"/>
                </a:moveTo>
                <a:cubicBezTo>
                  <a:pt x="632" y="12972"/>
                  <a:pt x="667" y="12848"/>
                  <a:pt x="673" y="12788"/>
                </a:cubicBezTo>
                <a:cubicBezTo>
                  <a:pt x="678" y="12734"/>
                  <a:pt x="691" y="12684"/>
                  <a:pt x="703" y="12632"/>
                </a:cubicBezTo>
                <a:cubicBezTo>
                  <a:pt x="766" y="12699"/>
                  <a:pt x="790" y="12761"/>
                  <a:pt x="820" y="12851"/>
                </a:cubicBezTo>
                <a:cubicBezTo>
                  <a:pt x="838" y="12905"/>
                  <a:pt x="853" y="12958"/>
                  <a:pt x="867" y="13013"/>
                </a:cubicBezTo>
              </a:path>
              <a:path w="2481" h="1829">
                <a:moveTo>
                  <a:pt x="710" y="12886"/>
                </a:moveTo>
                <a:cubicBezTo>
                  <a:pt x="747" y="12804"/>
                  <a:pt x="811" y="12802"/>
                  <a:pt x="913" y="12793"/>
                </a:cubicBezTo>
                <a:cubicBezTo>
                  <a:pt x="959" y="12789"/>
                  <a:pt x="1006" y="12790"/>
                  <a:pt x="1052" y="12790"/>
                </a:cubicBezTo>
              </a:path>
              <a:path w="2481" h="1829">
                <a:moveTo>
                  <a:pt x="2607" y="12883"/>
                </a:moveTo>
                <a:cubicBezTo>
                  <a:pt x="2597" y="12895"/>
                  <a:pt x="2596" y="12900"/>
                  <a:pt x="2585" y="12899"/>
                </a:cubicBezTo>
                <a:cubicBezTo>
                  <a:pt x="2574" y="12869"/>
                  <a:pt x="2575" y="12845"/>
                  <a:pt x="2578" y="12813"/>
                </a:cubicBezTo>
                <a:cubicBezTo>
                  <a:pt x="2583" y="12758"/>
                  <a:pt x="2594" y="12704"/>
                  <a:pt x="2610" y="12651"/>
                </a:cubicBezTo>
                <a:cubicBezTo>
                  <a:pt x="2621" y="12613"/>
                  <a:pt x="2629" y="12582"/>
                  <a:pt x="2658" y="12555"/>
                </a:cubicBezTo>
                <a:cubicBezTo>
                  <a:pt x="2691" y="12571"/>
                  <a:pt x="2701" y="12601"/>
                  <a:pt x="2714" y="12637"/>
                </a:cubicBezTo>
                <a:cubicBezTo>
                  <a:pt x="2733" y="12691"/>
                  <a:pt x="2747" y="12747"/>
                  <a:pt x="2757" y="12804"/>
                </a:cubicBezTo>
                <a:cubicBezTo>
                  <a:pt x="2763" y="12835"/>
                  <a:pt x="2769" y="12865"/>
                  <a:pt x="2754" y="12892"/>
                </a:cubicBezTo>
              </a:path>
              <a:path w="2481" h="1829">
                <a:moveTo>
                  <a:pt x="2628" y="12800"/>
                </a:moveTo>
                <a:cubicBezTo>
                  <a:pt x="2617" y="12785"/>
                  <a:pt x="2600" y="12759"/>
                  <a:pt x="2611" y="12739"/>
                </a:cubicBezTo>
                <a:cubicBezTo>
                  <a:pt x="2629" y="12706"/>
                  <a:pt x="2690" y="12668"/>
                  <a:pt x="2722" y="12654"/>
                </a:cubicBezTo>
                <a:cubicBezTo>
                  <a:pt x="2762" y="12636"/>
                  <a:pt x="2806" y="12629"/>
                  <a:pt x="2849" y="12621"/>
                </a:cubicBezTo>
              </a:path>
              <a:path w="2481" h="1829">
                <a:moveTo>
                  <a:pt x="2991" y="12781"/>
                </a:moveTo>
                <a:cubicBezTo>
                  <a:pt x="3005" y="12768"/>
                  <a:pt x="3024" y="12747"/>
                  <a:pt x="3046" y="12757"/>
                </a:cubicBezTo>
                <a:cubicBezTo>
                  <a:pt x="3072" y="12768"/>
                  <a:pt x="3066" y="12807"/>
                  <a:pt x="3061" y="12828"/>
                </a:cubicBezTo>
                <a:cubicBezTo>
                  <a:pt x="3052" y="12870"/>
                  <a:pt x="3030" y="12907"/>
                  <a:pt x="3012" y="12945"/>
                </a:cubicBezTo>
                <a:cubicBezTo>
                  <a:pt x="3004" y="12964"/>
                  <a:pt x="3002" y="12969"/>
                  <a:pt x="2997" y="12981"/>
                </a:cubicBezTo>
                <a:cubicBezTo>
                  <a:pt x="3024" y="12991"/>
                  <a:pt x="3040" y="12977"/>
                  <a:pt x="3068" y="12965"/>
                </a:cubicBezTo>
                <a:cubicBezTo>
                  <a:pt x="3095" y="12954"/>
                  <a:pt x="3122" y="12947"/>
                  <a:pt x="3151" y="12944"/>
                </a:cubicBezTo>
              </a:path>
              <a:path w="2481" h="1829">
                <a:moveTo>
                  <a:pt x="1966" y="13187"/>
                </a:moveTo>
                <a:cubicBezTo>
                  <a:pt x="1959" y="13196"/>
                  <a:pt x="1957" y="13199"/>
                  <a:pt x="1954" y="13206"/>
                </a:cubicBezTo>
                <a:cubicBezTo>
                  <a:pt x="1990" y="13200"/>
                  <a:pt x="2017" y="13177"/>
                  <a:pt x="2051" y="13159"/>
                </a:cubicBezTo>
                <a:cubicBezTo>
                  <a:pt x="2119" y="13123"/>
                  <a:pt x="2189" y="13093"/>
                  <a:pt x="2258" y="13060"/>
                </a:cubicBezTo>
                <a:cubicBezTo>
                  <a:pt x="2289" y="13045"/>
                  <a:pt x="2349" y="13007"/>
                  <a:pt x="2387" y="13030"/>
                </a:cubicBezTo>
                <a:cubicBezTo>
                  <a:pt x="2389" y="13034"/>
                  <a:pt x="2390" y="13037"/>
                  <a:pt x="2392" y="13041"/>
                </a:cubicBezTo>
              </a:path>
              <a:path w="2481" h="1829">
                <a:moveTo>
                  <a:pt x="2084" y="13415"/>
                </a:moveTo>
                <a:cubicBezTo>
                  <a:pt x="2081" y="13420"/>
                  <a:pt x="2079" y="13426"/>
                  <a:pt x="2076" y="13431"/>
                </a:cubicBezTo>
                <a:cubicBezTo>
                  <a:pt x="2111" y="13440"/>
                  <a:pt x="2146" y="13426"/>
                  <a:pt x="2179" y="13409"/>
                </a:cubicBezTo>
                <a:cubicBezTo>
                  <a:pt x="2256" y="13371"/>
                  <a:pt x="2331" y="13330"/>
                  <a:pt x="2408" y="13292"/>
                </a:cubicBezTo>
                <a:cubicBezTo>
                  <a:pt x="2466" y="13263"/>
                  <a:pt x="2521" y="13222"/>
                  <a:pt x="2585" y="13208"/>
                </a:cubicBezTo>
                <a:cubicBezTo>
                  <a:pt x="2605" y="13206"/>
                  <a:pt x="2610" y="13204"/>
                  <a:pt x="2621" y="13213"/>
                </a:cubicBezTo>
              </a:path>
              <a:path w="2481" h="1829">
                <a:moveTo>
                  <a:pt x="2107" y="13804"/>
                </a:moveTo>
                <a:cubicBezTo>
                  <a:pt x="2155" y="13775"/>
                  <a:pt x="2206" y="13745"/>
                  <a:pt x="2251" y="13712"/>
                </a:cubicBezTo>
                <a:cubicBezTo>
                  <a:pt x="2337" y="13649"/>
                  <a:pt x="2426" y="13592"/>
                  <a:pt x="2521" y="13543"/>
                </a:cubicBezTo>
                <a:cubicBezTo>
                  <a:pt x="2616" y="13494"/>
                  <a:pt x="2709" y="13453"/>
                  <a:pt x="2812" y="13423"/>
                </a:cubicBezTo>
                <a:cubicBezTo>
                  <a:pt x="2850" y="13412"/>
                  <a:pt x="2876" y="13413"/>
                  <a:pt x="2912" y="13411"/>
                </a:cubicBezTo>
              </a:path>
              <a:path w="2481" h="1829">
                <a:moveTo>
                  <a:pt x="2029" y="14137"/>
                </a:moveTo>
                <a:cubicBezTo>
                  <a:pt x="2085" y="14118"/>
                  <a:pt x="2134" y="14088"/>
                  <a:pt x="2186" y="14060"/>
                </a:cubicBezTo>
                <a:cubicBezTo>
                  <a:pt x="2279" y="14010"/>
                  <a:pt x="2375" y="13965"/>
                  <a:pt x="2474" y="13929"/>
                </a:cubicBezTo>
                <a:cubicBezTo>
                  <a:pt x="2535" y="13907"/>
                  <a:pt x="2599" y="13892"/>
                  <a:pt x="2662" y="13876"/>
                </a:cubicBezTo>
                <a:cubicBezTo>
                  <a:pt x="2666" y="13875"/>
                  <a:pt x="2669" y="13873"/>
                  <a:pt x="2673" y="13872"/>
                </a:cubicBezTo>
              </a:path>
              <a:path w="2481" h="1829">
                <a:moveTo>
                  <a:pt x="814" y="13407"/>
                </a:moveTo>
                <a:cubicBezTo>
                  <a:pt x="800" y="13415"/>
                  <a:pt x="785" y="13423"/>
                  <a:pt x="771" y="13431"/>
                </a:cubicBezTo>
                <a:cubicBezTo>
                  <a:pt x="859" y="13390"/>
                  <a:pt x="948" y="13351"/>
                  <a:pt x="1036" y="13311"/>
                </a:cubicBezTo>
                <a:cubicBezTo>
                  <a:pt x="1126" y="13270"/>
                  <a:pt x="1214" y="13228"/>
                  <a:pt x="1312" y="13208"/>
                </a:cubicBezTo>
                <a:cubicBezTo>
                  <a:pt x="1356" y="13203"/>
                  <a:pt x="1367" y="13200"/>
                  <a:pt x="1394" y="13210"/>
                </a:cubicBezTo>
              </a:path>
              <a:path w="2481" h="1829">
                <a:moveTo>
                  <a:pt x="895" y="13843"/>
                </a:moveTo>
                <a:cubicBezTo>
                  <a:pt x="971" y="13756"/>
                  <a:pt x="1048" y="13684"/>
                  <a:pt x="1142" y="13615"/>
                </a:cubicBezTo>
                <a:cubicBezTo>
                  <a:pt x="1223" y="13556"/>
                  <a:pt x="1305" y="13498"/>
                  <a:pt x="1401" y="13465"/>
                </a:cubicBezTo>
                <a:cubicBezTo>
                  <a:pt x="1437" y="13456"/>
                  <a:pt x="1446" y="13452"/>
                  <a:pt x="1469" y="13460"/>
                </a:cubicBezTo>
              </a:path>
              <a:path w="2481" h="1829">
                <a:moveTo>
                  <a:pt x="975" y="14097"/>
                </a:moveTo>
                <a:cubicBezTo>
                  <a:pt x="1062" y="14025"/>
                  <a:pt x="1146" y="13960"/>
                  <a:pt x="1246" y="13908"/>
                </a:cubicBezTo>
                <a:cubicBezTo>
                  <a:pt x="1315" y="13872"/>
                  <a:pt x="1391" y="13836"/>
                  <a:pt x="1467" y="13817"/>
                </a:cubicBezTo>
                <a:cubicBezTo>
                  <a:pt x="1475" y="13816"/>
                  <a:pt x="1484" y="13814"/>
                  <a:pt x="1492" y="13813"/>
                </a:cubicBezTo>
              </a:path>
              <a:path w="2481" h="1829">
                <a:moveTo>
                  <a:pt x="1184" y="14297"/>
                </a:moveTo>
                <a:cubicBezTo>
                  <a:pt x="1257" y="14297"/>
                  <a:pt x="1319" y="14277"/>
                  <a:pt x="1383" y="14233"/>
                </a:cubicBezTo>
                <a:cubicBezTo>
                  <a:pt x="1413" y="14212"/>
                  <a:pt x="1449" y="14174"/>
                  <a:pt x="1475" y="14148"/>
                </a:cubicBezTo>
                <a:cubicBezTo>
                  <a:pt x="1487" y="14132"/>
                  <a:pt x="1490" y="14126"/>
                  <a:pt x="1501" y="14119"/>
                </a:cubicBezTo>
              </a:path>
              <a:path w="2481" h="1829">
                <a:moveTo>
                  <a:pt x="1398" y="13451"/>
                </a:moveTo>
                <a:cubicBezTo>
                  <a:pt x="1397" y="13467"/>
                  <a:pt x="1426" y="13443"/>
                  <a:pt x="1449" y="13435"/>
                </a:cubicBezTo>
                <a:cubicBezTo>
                  <a:pt x="1488" y="13421"/>
                  <a:pt x="1525" y="13403"/>
                  <a:pt x="1564" y="13389"/>
                </a:cubicBezTo>
                <a:cubicBezTo>
                  <a:pt x="1591" y="13380"/>
                  <a:pt x="1599" y="13377"/>
                  <a:pt x="1618" y="13373"/>
                </a:cubicBezTo>
              </a:path>
              <a:path w="2481" h="1829">
                <a:moveTo>
                  <a:pt x="1297" y="13207"/>
                </a:moveTo>
                <a:cubicBezTo>
                  <a:pt x="1355" y="13176"/>
                  <a:pt x="1407" y="13157"/>
                  <a:pt x="1470" y="13138"/>
                </a:cubicBezTo>
                <a:cubicBezTo>
                  <a:pt x="1528" y="13121"/>
                  <a:pt x="1588" y="13094"/>
                  <a:pt x="1648" y="13083"/>
                </a:cubicBezTo>
                <a:cubicBezTo>
                  <a:pt x="1674" y="13078"/>
                  <a:pt x="1698" y="13080"/>
                  <a:pt x="1723" y="13085"/>
                </a:cubicBezTo>
              </a:path>
              <a:path w="2481" h="1829">
                <a:moveTo>
                  <a:pt x="1430" y="13882"/>
                </a:moveTo>
                <a:cubicBezTo>
                  <a:pt x="1408" y="13851"/>
                  <a:pt x="1394" y="13851"/>
                  <a:pt x="1401" y="13830"/>
                </a:cubicBezTo>
                <a:cubicBezTo>
                  <a:pt x="1425" y="13815"/>
                  <a:pt x="1443" y="13810"/>
                  <a:pt x="1470" y="13804"/>
                </a:cubicBezTo>
                <a:cubicBezTo>
                  <a:pt x="1509" y="13795"/>
                  <a:pt x="1533" y="13795"/>
                  <a:pt x="1572" y="13802"/>
                </a:cubicBezTo>
                <a:cubicBezTo>
                  <a:pt x="1591" y="13805"/>
                  <a:pt x="1598" y="13806"/>
                  <a:pt x="1610" y="13812"/>
                </a:cubicBezTo>
              </a:path>
              <a:path w="2481" h="1829">
                <a:moveTo>
                  <a:pt x="1433" y="14241"/>
                </a:moveTo>
                <a:cubicBezTo>
                  <a:pt x="1450" y="14214"/>
                  <a:pt x="1464" y="14214"/>
                  <a:pt x="1495" y="14206"/>
                </a:cubicBezTo>
                <a:cubicBezTo>
                  <a:pt x="1524" y="14199"/>
                  <a:pt x="1554" y="14196"/>
                  <a:pt x="1584" y="14190"/>
                </a:cubicBezTo>
                <a:cubicBezTo>
                  <a:pt x="1611" y="14185"/>
                  <a:pt x="1635" y="14178"/>
                  <a:pt x="1655" y="14158"/>
                </a:cubicBezTo>
                <a:cubicBezTo>
                  <a:pt x="1659" y="14153"/>
                  <a:pt x="1662" y="14149"/>
                  <a:pt x="1666" y="1414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353880" y="988920"/>
            <a:ext cx="7293240" cy="3700440"/>
          </a:xfrm>
          <a:custGeom>
            <a:avLst/>
            <a:gdLst/>
            <a:ahLst/>
            <a:rect l="l" t="t" r="r" b="b"/>
            <a:pathLst>
              <a:path w="20258" h="10280">
                <a:moveTo>
                  <a:pt x="21171" y="2782"/>
                </a:moveTo>
                <a:cubicBezTo>
                  <a:pt x="21170" y="2764"/>
                  <a:pt x="21170" y="2759"/>
                  <a:pt x="21175" y="2748"/>
                </a:cubicBezTo>
                <a:cubicBezTo>
                  <a:pt x="21206" y="2754"/>
                  <a:pt x="21215" y="2758"/>
                  <a:pt x="21242" y="2774"/>
                </a:cubicBezTo>
              </a:path>
              <a:path w="20258" h="10280">
                <a:moveTo>
                  <a:pt x="1085" y="12768"/>
                </a:moveTo>
                <a:cubicBezTo>
                  <a:pt x="1039" y="12757"/>
                  <a:pt x="1023" y="12753"/>
                  <a:pt x="991" y="12754"/>
                </a:cubicBezTo>
                <a:cubicBezTo>
                  <a:pt x="990" y="12836"/>
                  <a:pt x="1001" y="12929"/>
                  <a:pt x="1057" y="12996"/>
                </a:cubicBezTo>
                <a:cubicBezTo>
                  <a:pt x="1097" y="13025"/>
                  <a:pt x="1107" y="13036"/>
                  <a:pt x="1141" y="1302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6750000" y="909720"/>
            <a:ext cx="1347840" cy="500040"/>
          </a:xfrm>
          <a:custGeom>
            <a:avLst/>
            <a:gdLst/>
            <a:ahLst/>
            <a:rect l="l" t="t" r="r" b="b"/>
            <a:pathLst>
              <a:path w="3741" h="1389">
                <a:moveTo>
                  <a:pt x="19415" y="2742"/>
                </a:moveTo>
                <a:cubicBezTo>
                  <a:pt x="19416" y="2704"/>
                  <a:pt x="19423" y="2668"/>
                  <a:pt x="19396" y="2635"/>
                </a:cubicBezTo>
                <a:cubicBezTo>
                  <a:pt x="19375" y="2609"/>
                  <a:pt x="19344" y="2594"/>
                  <a:pt x="19312" y="2585"/>
                </a:cubicBezTo>
                <a:cubicBezTo>
                  <a:pt x="19256" y="2570"/>
                  <a:pt x="19193" y="2595"/>
                  <a:pt x="19144" y="2620"/>
                </a:cubicBezTo>
                <a:cubicBezTo>
                  <a:pt x="19025" y="2681"/>
                  <a:pt x="18934" y="2783"/>
                  <a:pt x="18864" y="2895"/>
                </a:cubicBezTo>
                <a:cubicBezTo>
                  <a:pt x="18787" y="3018"/>
                  <a:pt x="18739" y="3153"/>
                  <a:pt x="18756" y="3299"/>
                </a:cubicBezTo>
                <a:cubicBezTo>
                  <a:pt x="18769" y="3415"/>
                  <a:pt x="18831" y="3513"/>
                  <a:pt x="18935" y="3566"/>
                </a:cubicBezTo>
                <a:cubicBezTo>
                  <a:pt x="19012" y="3605"/>
                  <a:pt x="19085" y="3598"/>
                  <a:pt x="19161" y="3561"/>
                </a:cubicBezTo>
                <a:cubicBezTo>
                  <a:pt x="19180" y="3549"/>
                  <a:pt x="19199" y="3538"/>
                  <a:pt x="19218" y="3526"/>
                </a:cubicBezTo>
              </a:path>
              <a:path w="3741" h="1389">
                <a:moveTo>
                  <a:pt x="19501" y="3143"/>
                </a:moveTo>
                <a:cubicBezTo>
                  <a:pt x="19482" y="3127"/>
                  <a:pt x="19468" y="3111"/>
                  <a:pt x="19436" y="3121"/>
                </a:cubicBezTo>
                <a:cubicBezTo>
                  <a:pt x="19388" y="3135"/>
                  <a:pt x="19339" y="3180"/>
                  <a:pt x="19306" y="3216"/>
                </a:cubicBezTo>
                <a:cubicBezTo>
                  <a:pt x="19264" y="3262"/>
                  <a:pt x="19227" y="3321"/>
                  <a:pt x="19231" y="3385"/>
                </a:cubicBezTo>
                <a:cubicBezTo>
                  <a:pt x="19235" y="3443"/>
                  <a:pt x="19275" y="3476"/>
                  <a:pt x="19330" y="3484"/>
                </a:cubicBezTo>
                <a:cubicBezTo>
                  <a:pt x="19403" y="3494"/>
                  <a:pt x="19478" y="3453"/>
                  <a:pt x="19533" y="3410"/>
                </a:cubicBezTo>
                <a:cubicBezTo>
                  <a:pt x="19601" y="3358"/>
                  <a:pt x="19650" y="3286"/>
                  <a:pt x="19684" y="3208"/>
                </a:cubicBezTo>
                <a:cubicBezTo>
                  <a:pt x="19708" y="3152"/>
                  <a:pt x="19723" y="3093"/>
                  <a:pt x="19709" y="3033"/>
                </a:cubicBezTo>
                <a:cubicBezTo>
                  <a:pt x="19702" y="3002"/>
                  <a:pt x="19686" y="2992"/>
                  <a:pt x="19673" y="2966"/>
                </a:cubicBezTo>
                <a:cubicBezTo>
                  <a:pt x="19673" y="2963"/>
                  <a:pt x="19673" y="2960"/>
                  <a:pt x="19673" y="2957"/>
                </a:cubicBezTo>
              </a:path>
              <a:path w="3741" h="1389">
                <a:moveTo>
                  <a:pt x="19767" y="3101"/>
                </a:moveTo>
                <a:cubicBezTo>
                  <a:pt x="19767" y="3145"/>
                  <a:pt x="19769" y="3194"/>
                  <a:pt x="19765" y="3238"/>
                </a:cubicBezTo>
                <a:cubicBezTo>
                  <a:pt x="19761" y="3278"/>
                  <a:pt x="19758" y="3316"/>
                  <a:pt x="19763" y="3356"/>
                </a:cubicBezTo>
                <a:cubicBezTo>
                  <a:pt x="19767" y="3375"/>
                  <a:pt x="19768" y="3381"/>
                  <a:pt x="19775" y="3391"/>
                </a:cubicBezTo>
                <a:cubicBezTo>
                  <a:pt x="19812" y="3397"/>
                  <a:pt x="19825" y="3372"/>
                  <a:pt x="19849" y="3344"/>
                </a:cubicBezTo>
                <a:cubicBezTo>
                  <a:pt x="19901" y="3284"/>
                  <a:pt x="19949" y="3220"/>
                  <a:pt x="19996" y="3156"/>
                </a:cubicBezTo>
                <a:cubicBezTo>
                  <a:pt x="20013" y="3133"/>
                  <a:pt x="20020" y="3132"/>
                  <a:pt x="20037" y="3120"/>
                </a:cubicBezTo>
                <a:cubicBezTo>
                  <a:pt x="20024" y="3155"/>
                  <a:pt x="20011" y="3189"/>
                  <a:pt x="20000" y="3225"/>
                </a:cubicBezTo>
                <a:cubicBezTo>
                  <a:pt x="19989" y="3263"/>
                  <a:pt x="19959" y="3344"/>
                  <a:pt x="20009" y="3369"/>
                </a:cubicBezTo>
                <a:cubicBezTo>
                  <a:pt x="20038" y="3383"/>
                  <a:pt x="20097" y="3342"/>
                  <a:pt x="20118" y="3327"/>
                </a:cubicBezTo>
                <a:cubicBezTo>
                  <a:pt x="20129" y="3318"/>
                  <a:pt x="20139" y="3310"/>
                  <a:pt x="20150" y="3301"/>
                </a:cubicBezTo>
              </a:path>
              <a:path w="3741" h="1389">
                <a:moveTo>
                  <a:pt x="20296" y="3028"/>
                </a:moveTo>
                <a:cubicBezTo>
                  <a:pt x="20302" y="2983"/>
                  <a:pt x="20281" y="3093"/>
                  <a:pt x="20280" y="3098"/>
                </a:cubicBezTo>
                <a:cubicBezTo>
                  <a:pt x="20270" y="3149"/>
                  <a:pt x="20264" y="3199"/>
                  <a:pt x="20260" y="3251"/>
                </a:cubicBezTo>
                <a:cubicBezTo>
                  <a:pt x="20258" y="3272"/>
                  <a:pt x="20258" y="3276"/>
                  <a:pt x="20258" y="3289"/>
                </a:cubicBezTo>
                <a:cubicBezTo>
                  <a:pt x="20286" y="3260"/>
                  <a:pt x="20299" y="3223"/>
                  <a:pt x="20318" y="3187"/>
                </a:cubicBezTo>
                <a:cubicBezTo>
                  <a:pt x="20342" y="3141"/>
                  <a:pt x="20364" y="3085"/>
                  <a:pt x="20405" y="3051"/>
                </a:cubicBezTo>
                <a:cubicBezTo>
                  <a:pt x="20411" y="3048"/>
                  <a:pt x="20418" y="3044"/>
                  <a:pt x="20424" y="3041"/>
                </a:cubicBezTo>
                <a:cubicBezTo>
                  <a:pt x="20465" y="3063"/>
                  <a:pt x="20462" y="3101"/>
                  <a:pt x="20471" y="3147"/>
                </a:cubicBezTo>
                <a:cubicBezTo>
                  <a:pt x="20482" y="3205"/>
                  <a:pt x="20492" y="3275"/>
                  <a:pt x="20537" y="3318"/>
                </a:cubicBezTo>
                <a:cubicBezTo>
                  <a:pt x="20568" y="3347"/>
                  <a:pt x="20596" y="3332"/>
                  <a:pt x="20631" y="3324"/>
                </a:cubicBezTo>
              </a:path>
              <a:path w="3741" h="1389">
                <a:moveTo>
                  <a:pt x="20885" y="2549"/>
                </a:moveTo>
                <a:cubicBezTo>
                  <a:pt x="20895" y="2486"/>
                  <a:pt x="20853" y="2683"/>
                  <a:pt x="20852" y="2691"/>
                </a:cubicBezTo>
                <a:cubicBezTo>
                  <a:pt x="20827" y="2858"/>
                  <a:pt x="20816" y="3025"/>
                  <a:pt x="20820" y="3194"/>
                </a:cubicBezTo>
                <a:cubicBezTo>
                  <a:pt x="20821" y="3245"/>
                  <a:pt x="20824" y="3295"/>
                  <a:pt x="20828" y="3346"/>
                </a:cubicBezTo>
              </a:path>
              <a:path w="3741" h="1389">
                <a:moveTo>
                  <a:pt x="20616" y="2917"/>
                </a:moveTo>
                <a:cubicBezTo>
                  <a:pt x="20665" y="2906"/>
                  <a:pt x="20710" y="2917"/>
                  <a:pt x="20761" y="2922"/>
                </a:cubicBezTo>
                <a:cubicBezTo>
                  <a:pt x="20843" y="2930"/>
                  <a:pt x="20924" y="2941"/>
                  <a:pt x="21007" y="2943"/>
                </a:cubicBezTo>
                <a:cubicBezTo>
                  <a:pt x="21055" y="2943"/>
                  <a:pt x="21068" y="2943"/>
                  <a:pt x="21098" y="2943"/>
                </a:cubicBezTo>
              </a:path>
              <a:path w="3741" h="1389">
                <a:moveTo>
                  <a:pt x="21125" y="3046"/>
                </a:moveTo>
                <a:cubicBezTo>
                  <a:pt x="21103" y="3107"/>
                  <a:pt x="21076" y="3169"/>
                  <a:pt x="21065" y="3233"/>
                </a:cubicBezTo>
                <a:cubicBezTo>
                  <a:pt x="21055" y="3289"/>
                  <a:pt x="21051" y="3345"/>
                  <a:pt x="21048" y="3401"/>
                </a:cubicBezTo>
                <a:cubicBezTo>
                  <a:pt x="21046" y="3428"/>
                  <a:pt x="21062" y="3384"/>
                  <a:pt x="21071" y="3358"/>
                </a:cubicBezTo>
              </a:path>
              <a:path w="3741" h="1389">
                <a:moveTo>
                  <a:pt x="21383" y="3090"/>
                </a:moveTo>
                <a:cubicBezTo>
                  <a:pt x="21366" y="3146"/>
                  <a:pt x="21343" y="3191"/>
                  <a:pt x="21318" y="3242"/>
                </a:cubicBezTo>
                <a:cubicBezTo>
                  <a:pt x="21310" y="3258"/>
                  <a:pt x="21318" y="3256"/>
                  <a:pt x="21303" y="3264"/>
                </a:cubicBezTo>
                <a:cubicBezTo>
                  <a:pt x="21324" y="3225"/>
                  <a:pt x="21346" y="3185"/>
                  <a:pt x="21369" y="3147"/>
                </a:cubicBezTo>
                <a:cubicBezTo>
                  <a:pt x="21384" y="3123"/>
                  <a:pt x="21417" y="3059"/>
                  <a:pt x="21450" y="3056"/>
                </a:cubicBezTo>
                <a:cubicBezTo>
                  <a:pt x="21454" y="3058"/>
                  <a:pt x="21458" y="3060"/>
                  <a:pt x="21462" y="3062"/>
                </a:cubicBezTo>
                <a:cubicBezTo>
                  <a:pt x="21476" y="3113"/>
                  <a:pt x="21471" y="3164"/>
                  <a:pt x="21474" y="3217"/>
                </a:cubicBezTo>
                <a:cubicBezTo>
                  <a:pt x="21477" y="3276"/>
                  <a:pt x="21477" y="3353"/>
                  <a:pt x="21517" y="3402"/>
                </a:cubicBezTo>
                <a:cubicBezTo>
                  <a:pt x="21553" y="3446"/>
                  <a:pt x="21612" y="3441"/>
                  <a:pt x="21659" y="3423"/>
                </a:cubicBezTo>
                <a:cubicBezTo>
                  <a:pt x="21706" y="3401"/>
                  <a:pt x="21724" y="3392"/>
                  <a:pt x="21753" y="3371"/>
                </a:cubicBezTo>
              </a:path>
              <a:path w="3741" h="1389">
                <a:moveTo>
                  <a:pt x="22128" y="3081"/>
                </a:moveTo>
                <a:cubicBezTo>
                  <a:pt x="22116" y="3079"/>
                  <a:pt x="22061" y="3084"/>
                  <a:pt x="22026" y="3101"/>
                </a:cubicBezTo>
                <a:cubicBezTo>
                  <a:pt x="21956" y="3135"/>
                  <a:pt x="21881" y="3179"/>
                  <a:pt x="21823" y="3232"/>
                </a:cubicBezTo>
                <a:cubicBezTo>
                  <a:pt x="21790" y="3262"/>
                  <a:pt x="21778" y="3281"/>
                  <a:pt x="21768" y="3321"/>
                </a:cubicBezTo>
                <a:cubicBezTo>
                  <a:pt x="21804" y="3352"/>
                  <a:pt x="21840" y="3350"/>
                  <a:pt x="21888" y="3338"/>
                </a:cubicBezTo>
                <a:cubicBezTo>
                  <a:pt x="21972" y="3318"/>
                  <a:pt x="22046" y="3261"/>
                  <a:pt x="22129" y="3244"/>
                </a:cubicBezTo>
                <a:cubicBezTo>
                  <a:pt x="22135" y="3244"/>
                  <a:pt x="22140" y="3244"/>
                  <a:pt x="22146" y="3244"/>
                </a:cubicBezTo>
                <a:cubicBezTo>
                  <a:pt x="22153" y="3290"/>
                  <a:pt x="22154" y="3331"/>
                  <a:pt x="22148" y="3382"/>
                </a:cubicBezTo>
                <a:cubicBezTo>
                  <a:pt x="22129" y="3529"/>
                  <a:pt x="22101" y="3685"/>
                  <a:pt x="22014" y="3808"/>
                </a:cubicBezTo>
                <a:cubicBezTo>
                  <a:pt x="21961" y="3883"/>
                  <a:pt x="21877" y="3940"/>
                  <a:pt x="21784" y="3900"/>
                </a:cubicBezTo>
                <a:cubicBezTo>
                  <a:pt x="21706" y="3866"/>
                  <a:pt x="21709" y="3754"/>
                  <a:pt x="21721" y="3685"/>
                </a:cubicBezTo>
                <a:cubicBezTo>
                  <a:pt x="21728" y="3659"/>
                  <a:pt x="21735" y="3634"/>
                  <a:pt x="21742" y="3608"/>
                </a:cubicBezTo>
              </a:path>
              <a:path w="3741" h="1389">
                <a:moveTo>
                  <a:pt x="22490" y="3462"/>
                </a:moveTo>
                <a:cubicBezTo>
                  <a:pt x="22475" y="3432"/>
                  <a:pt x="22464" y="3422"/>
                  <a:pt x="22479" y="3389"/>
                </a:cubicBezTo>
                <a:cubicBezTo>
                  <a:pt x="22488" y="3375"/>
                  <a:pt x="22491" y="3371"/>
                  <a:pt x="22492" y="336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119160" y="1170000"/>
            <a:ext cx="6329160" cy="739800"/>
          </a:xfrm>
          <a:custGeom>
            <a:avLst/>
            <a:gdLst/>
            <a:ahLst/>
            <a:rect l="l" t="t" r="r" b="b"/>
            <a:pathLst>
              <a:path w="17583" h="2055">
                <a:moveTo>
                  <a:pt x="2110" y="3428"/>
                </a:moveTo>
                <a:cubicBezTo>
                  <a:pt x="2095" y="3421"/>
                  <a:pt x="2080" y="3415"/>
                  <a:pt x="2065" y="3408"/>
                </a:cubicBezTo>
                <a:cubicBezTo>
                  <a:pt x="2088" y="3412"/>
                  <a:pt x="2090" y="3416"/>
                  <a:pt x="2114" y="3419"/>
                </a:cubicBezTo>
                <a:cubicBezTo>
                  <a:pt x="2211" y="3430"/>
                  <a:pt x="2311" y="3429"/>
                  <a:pt x="2408" y="3428"/>
                </a:cubicBezTo>
                <a:cubicBezTo>
                  <a:pt x="2879" y="3423"/>
                  <a:pt x="3350" y="3402"/>
                  <a:pt x="3821" y="3414"/>
                </a:cubicBezTo>
                <a:cubicBezTo>
                  <a:pt x="4040" y="3420"/>
                  <a:pt x="4696" y="3432"/>
                  <a:pt x="4477" y="3447"/>
                </a:cubicBezTo>
                <a:cubicBezTo>
                  <a:pt x="4438" y="3450"/>
                  <a:pt x="4423" y="3451"/>
                  <a:pt x="4396" y="3444"/>
                </a:cubicBezTo>
              </a:path>
              <a:path w="17583" h="2055">
                <a:moveTo>
                  <a:pt x="5101" y="3264"/>
                </a:moveTo>
                <a:cubicBezTo>
                  <a:pt x="5122" y="3250"/>
                  <a:pt x="5094" y="3257"/>
                  <a:pt x="5119" y="3255"/>
                </a:cubicBezTo>
                <a:cubicBezTo>
                  <a:pt x="5917" y="3198"/>
                  <a:pt x="6744" y="3252"/>
                  <a:pt x="7544" y="3265"/>
                </a:cubicBezTo>
                <a:cubicBezTo>
                  <a:pt x="7696" y="3267"/>
                  <a:pt x="7872" y="3261"/>
                  <a:pt x="8017" y="3318"/>
                </a:cubicBezTo>
                <a:cubicBezTo>
                  <a:pt x="8037" y="3326"/>
                  <a:pt x="8031" y="3317"/>
                  <a:pt x="8041" y="3335"/>
                </a:cubicBezTo>
                <a:cubicBezTo>
                  <a:pt x="8034" y="3334"/>
                  <a:pt x="8028" y="3333"/>
                  <a:pt x="8021" y="3332"/>
                </a:cubicBezTo>
              </a:path>
              <a:path w="17583" h="2055">
                <a:moveTo>
                  <a:pt x="355" y="3470"/>
                </a:moveTo>
                <a:cubicBezTo>
                  <a:pt x="349" y="3543"/>
                  <a:pt x="352" y="3606"/>
                  <a:pt x="357" y="3680"/>
                </a:cubicBezTo>
              </a:path>
              <a:path w="17583" h="2055">
                <a:moveTo>
                  <a:pt x="355" y="3390"/>
                </a:moveTo>
                <a:cubicBezTo>
                  <a:pt x="328" y="3343"/>
                  <a:pt x="324" y="3328"/>
                  <a:pt x="390" y="3330"/>
                </a:cubicBezTo>
              </a:path>
              <a:path w="17583" h="2055">
                <a:moveTo>
                  <a:pt x="540" y="3670"/>
                </a:moveTo>
                <a:cubicBezTo>
                  <a:pt x="535" y="3600"/>
                  <a:pt x="532" y="3530"/>
                  <a:pt x="525" y="3461"/>
                </a:cubicBezTo>
                <a:cubicBezTo>
                  <a:pt x="518" y="3389"/>
                  <a:pt x="479" y="3261"/>
                  <a:pt x="598" y="3278"/>
                </a:cubicBezTo>
                <a:cubicBezTo>
                  <a:pt x="613" y="3288"/>
                  <a:pt x="628" y="3297"/>
                  <a:pt x="643" y="3307"/>
                </a:cubicBezTo>
              </a:path>
              <a:path w="17583" h="2055">
                <a:moveTo>
                  <a:pt x="491" y="3486"/>
                </a:moveTo>
                <a:cubicBezTo>
                  <a:pt x="547" y="3464"/>
                  <a:pt x="566" y="3456"/>
                  <a:pt x="606" y="3450"/>
                </a:cubicBezTo>
              </a:path>
              <a:path w="17583" h="2055">
                <a:moveTo>
                  <a:pt x="824" y="3617"/>
                </a:moveTo>
                <a:cubicBezTo>
                  <a:pt x="853" y="3528"/>
                  <a:pt x="864" y="3442"/>
                  <a:pt x="879" y="3350"/>
                </a:cubicBezTo>
                <a:cubicBezTo>
                  <a:pt x="882" y="3333"/>
                  <a:pt x="885" y="3315"/>
                  <a:pt x="888" y="3298"/>
                </a:cubicBezTo>
                <a:cubicBezTo>
                  <a:pt x="957" y="3329"/>
                  <a:pt x="980" y="3372"/>
                  <a:pt x="996" y="3455"/>
                </a:cubicBezTo>
                <a:cubicBezTo>
                  <a:pt x="1006" y="3523"/>
                  <a:pt x="1011" y="3540"/>
                  <a:pt x="997" y="3582"/>
                </a:cubicBezTo>
              </a:path>
              <a:path w="17583" h="2055">
                <a:moveTo>
                  <a:pt x="862" y="3497"/>
                </a:moveTo>
                <a:cubicBezTo>
                  <a:pt x="935" y="3472"/>
                  <a:pt x="966" y="3477"/>
                  <a:pt x="1047" y="3484"/>
                </a:cubicBezTo>
              </a:path>
              <a:path w="17583" h="2055">
                <a:moveTo>
                  <a:pt x="1144" y="3516"/>
                </a:moveTo>
                <a:cubicBezTo>
                  <a:pt x="1177" y="3579"/>
                  <a:pt x="1174" y="3590"/>
                  <a:pt x="1174" y="3665"/>
                </a:cubicBezTo>
              </a:path>
              <a:path w="17583" h="2055">
                <a:moveTo>
                  <a:pt x="1348" y="3539"/>
                </a:moveTo>
                <a:cubicBezTo>
                  <a:pt x="1334" y="3545"/>
                  <a:pt x="1321" y="3551"/>
                  <a:pt x="1307" y="3557"/>
                </a:cubicBezTo>
                <a:cubicBezTo>
                  <a:pt x="1324" y="3491"/>
                  <a:pt x="1336" y="3416"/>
                  <a:pt x="1361" y="3352"/>
                </a:cubicBezTo>
                <a:cubicBezTo>
                  <a:pt x="1369" y="3331"/>
                  <a:pt x="1394" y="3277"/>
                  <a:pt x="1424" y="3283"/>
                </a:cubicBezTo>
                <a:cubicBezTo>
                  <a:pt x="1466" y="3291"/>
                  <a:pt x="1483" y="3353"/>
                  <a:pt x="1494" y="3386"/>
                </a:cubicBezTo>
                <a:cubicBezTo>
                  <a:pt x="1511" y="3439"/>
                  <a:pt x="1526" y="3506"/>
                  <a:pt x="1524" y="3562"/>
                </a:cubicBezTo>
                <a:cubicBezTo>
                  <a:pt x="1523" y="3583"/>
                  <a:pt x="1518" y="3598"/>
                  <a:pt x="1520" y="3618"/>
                </a:cubicBezTo>
              </a:path>
              <a:path w="17583" h="2055">
                <a:moveTo>
                  <a:pt x="1659" y="3650"/>
                </a:moveTo>
                <a:cubicBezTo>
                  <a:pt x="1655" y="3654"/>
                  <a:pt x="1652" y="3657"/>
                  <a:pt x="1648" y="3661"/>
                </a:cubicBezTo>
                <a:cubicBezTo>
                  <a:pt x="1663" y="3640"/>
                  <a:pt x="1664" y="3621"/>
                  <a:pt x="1669" y="3594"/>
                </a:cubicBezTo>
                <a:cubicBezTo>
                  <a:pt x="1680" y="3540"/>
                  <a:pt x="1684" y="3487"/>
                  <a:pt x="1705" y="3435"/>
                </a:cubicBezTo>
                <a:cubicBezTo>
                  <a:pt x="1715" y="3410"/>
                  <a:pt x="1720" y="3405"/>
                  <a:pt x="1743" y="3398"/>
                </a:cubicBezTo>
                <a:cubicBezTo>
                  <a:pt x="1777" y="3435"/>
                  <a:pt x="1785" y="3472"/>
                  <a:pt x="1795" y="3522"/>
                </a:cubicBezTo>
                <a:cubicBezTo>
                  <a:pt x="1807" y="3585"/>
                  <a:pt x="1815" y="3649"/>
                  <a:pt x="1826" y="3712"/>
                </a:cubicBezTo>
                <a:cubicBezTo>
                  <a:pt x="1831" y="3740"/>
                  <a:pt x="1830" y="3756"/>
                  <a:pt x="1826" y="3783"/>
                </a:cubicBezTo>
              </a:path>
              <a:path w="17583" h="2055">
                <a:moveTo>
                  <a:pt x="1701" y="3535"/>
                </a:moveTo>
                <a:cubicBezTo>
                  <a:pt x="1726" y="3534"/>
                  <a:pt x="1749" y="3539"/>
                  <a:pt x="1774" y="3542"/>
                </a:cubicBezTo>
                <a:cubicBezTo>
                  <a:pt x="1802" y="3546"/>
                  <a:pt x="1829" y="3551"/>
                  <a:pt x="1857" y="3557"/>
                </a:cubicBezTo>
              </a:path>
              <a:path w="17583" h="2055">
                <a:moveTo>
                  <a:pt x="1940" y="3668"/>
                </a:moveTo>
                <a:cubicBezTo>
                  <a:pt x="1963" y="3675"/>
                  <a:pt x="1977" y="3688"/>
                  <a:pt x="1980" y="3715"/>
                </a:cubicBezTo>
                <a:cubicBezTo>
                  <a:pt x="1983" y="3746"/>
                  <a:pt x="1977" y="3779"/>
                  <a:pt x="1972" y="3809"/>
                </a:cubicBezTo>
                <a:cubicBezTo>
                  <a:pt x="1969" y="3827"/>
                  <a:pt x="1965" y="3836"/>
                  <a:pt x="1969" y="3852"/>
                </a:cubicBezTo>
                <a:cubicBezTo>
                  <a:pt x="1985" y="3853"/>
                  <a:pt x="2001" y="3843"/>
                  <a:pt x="2020" y="3835"/>
                </a:cubicBezTo>
                <a:cubicBezTo>
                  <a:pt x="2039" y="3826"/>
                  <a:pt x="2045" y="3822"/>
                  <a:pt x="2058" y="3816"/>
                </a:cubicBezTo>
              </a:path>
              <a:path w="17583" h="2055">
                <a:moveTo>
                  <a:pt x="2306" y="3625"/>
                </a:moveTo>
                <a:cubicBezTo>
                  <a:pt x="2288" y="3640"/>
                  <a:pt x="2331" y="3634"/>
                  <a:pt x="2346" y="3635"/>
                </a:cubicBezTo>
                <a:cubicBezTo>
                  <a:pt x="2381" y="3637"/>
                  <a:pt x="2415" y="3635"/>
                  <a:pt x="2450" y="3636"/>
                </a:cubicBezTo>
                <a:cubicBezTo>
                  <a:pt x="2470" y="3639"/>
                  <a:pt x="2475" y="3639"/>
                  <a:pt x="2487" y="3640"/>
                </a:cubicBezTo>
              </a:path>
              <a:path w="17583" h="2055">
                <a:moveTo>
                  <a:pt x="2315" y="3722"/>
                </a:moveTo>
                <a:cubicBezTo>
                  <a:pt x="2302" y="3729"/>
                  <a:pt x="2298" y="3730"/>
                  <a:pt x="2298" y="3741"/>
                </a:cubicBezTo>
                <a:cubicBezTo>
                  <a:pt x="2336" y="3747"/>
                  <a:pt x="2373" y="3756"/>
                  <a:pt x="2411" y="3761"/>
                </a:cubicBezTo>
                <a:cubicBezTo>
                  <a:pt x="2446" y="3766"/>
                  <a:pt x="2457" y="3768"/>
                  <a:pt x="2480" y="3768"/>
                </a:cubicBezTo>
              </a:path>
              <a:path w="17583" h="2055">
                <a:moveTo>
                  <a:pt x="2894" y="3615"/>
                </a:moveTo>
                <a:cubicBezTo>
                  <a:pt x="2875" y="3593"/>
                  <a:pt x="2860" y="3586"/>
                  <a:pt x="2832" y="3593"/>
                </a:cubicBezTo>
                <a:cubicBezTo>
                  <a:pt x="2786" y="3604"/>
                  <a:pt x="2752" y="3631"/>
                  <a:pt x="2721" y="3666"/>
                </a:cubicBezTo>
                <a:cubicBezTo>
                  <a:pt x="2697" y="3693"/>
                  <a:pt x="2664" y="3740"/>
                  <a:pt x="2676" y="3779"/>
                </a:cubicBezTo>
                <a:cubicBezTo>
                  <a:pt x="2688" y="3819"/>
                  <a:pt x="2745" y="3812"/>
                  <a:pt x="2775" y="3807"/>
                </a:cubicBezTo>
                <a:cubicBezTo>
                  <a:pt x="2815" y="3800"/>
                  <a:pt x="2861" y="3783"/>
                  <a:pt x="2894" y="3758"/>
                </a:cubicBezTo>
                <a:cubicBezTo>
                  <a:pt x="2915" y="3742"/>
                  <a:pt x="2923" y="3728"/>
                  <a:pt x="2934" y="3705"/>
                </a:cubicBezTo>
              </a:path>
              <a:path w="17583" h="2055">
                <a:moveTo>
                  <a:pt x="2857" y="3502"/>
                </a:moveTo>
                <a:cubicBezTo>
                  <a:pt x="2830" y="3535"/>
                  <a:pt x="2822" y="3550"/>
                  <a:pt x="2814" y="3591"/>
                </a:cubicBezTo>
                <a:cubicBezTo>
                  <a:pt x="2802" y="3651"/>
                  <a:pt x="2801" y="3711"/>
                  <a:pt x="2807" y="3772"/>
                </a:cubicBezTo>
                <a:cubicBezTo>
                  <a:pt x="2811" y="3813"/>
                  <a:pt x="2823" y="3853"/>
                  <a:pt x="2833" y="3893"/>
                </a:cubicBezTo>
              </a:path>
              <a:path w="17583" h="2055">
                <a:moveTo>
                  <a:pt x="5815" y="5274"/>
                </a:moveTo>
                <a:cubicBezTo>
                  <a:pt x="5987" y="5280"/>
                  <a:pt x="6167" y="5292"/>
                  <a:pt x="6342" y="5296"/>
                </a:cubicBezTo>
                <a:cubicBezTo>
                  <a:pt x="8010" y="5335"/>
                  <a:pt x="9706" y="5317"/>
                  <a:pt x="11372" y="5227"/>
                </a:cubicBezTo>
                <a:cubicBezTo>
                  <a:pt x="12477" y="5167"/>
                  <a:pt x="13547" y="5021"/>
                  <a:pt x="14656" y="5029"/>
                </a:cubicBezTo>
                <a:cubicBezTo>
                  <a:pt x="15426" y="5035"/>
                  <a:pt x="17076" y="5429"/>
                  <a:pt x="17774" y="5135"/>
                </a:cubicBezTo>
                <a:cubicBezTo>
                  <a:pt x="17861" y="5099"/>
                  <a:pt x="17860" y="5134"/>
                  <a:pt x="17906" y="5033"/>
                </a:cubicBezTo>
                <a:cubicBezTo>
                  <a:pt x="17955" y="4926"/>
                  <a:pt x="17869" y="4646"/>
                  <a:pt x="17861" y="4525"/>
                </a:cubicBezTo>
                <a:cubicBezTo>
                  <a:pt x="17855" y="4426"/>
                  <a:pt x="17925" y="4067"/>
                  <a:pt x="17880" y="3995"/>
                </a:cubicBezTo>
                <a:cubicBezTo>
                  <a:pt x="17829" y="3915"/>
                  <a:pt x="17775" y="3942"/>
                  <a:pt x="17689" y="3906"/>
                </a:cubicBezTo>
                <a:cubicBezTo>
                  <a:pt x="17223" y="3708"/>
                  <a:pt x="16467" y="3653"/>
                  <a:pt x="15962" y="3613"/>
                </a:cubicBezTo>
                <a:cubicBezTo>
                  <a:pt x="15152" y="3549"/>
                  <a:pt x="14304" y="3621"/>
                  <a:pt x="13492" y="3624"/>
                </a:cubicBezTo>
                <a:cubicBezTo>
                  <a:pt x="12137" y="3630"/>
                  <a:pt x="10780" y="3630"/>
                  <a:pt x="9425" y="3640"/>
                </a:cubicBezTo>
                <a:cubicBezTo>
                  <a:pt x="8495" y="3647"/>
                  <a:pt x="7565" y="3665"/>
                  <a:pt x="6635" y="3674"/>
                </a:cubicBezTo>
                <a:cubicBezTo>
                  <a:pt x="6318" y="3677"/>
                  <a:pt x="5657" y="3584"/>
                  <a:pt x="5363" y="3740"/>
                </a:cubicBezTo>
                <a:cubicBezTo>
                  <a:pt x="5256" y="3797"/>
                  <a:pt x="5245" y="3857"/>
                  <a:pt x="5180" y="3976"/>
                </a:cubicBezTo>
                <a:cubicBezTo>
                  <a:pt x="5066" y="4184"/>
                  <a:pt x="5068" y="4387"/>
                  <a:pt x="5069" y="4616"/>
                </a:cubicBezTo>
                <a:cubicBezTo>
                  <a:pt x="5070" y="4731"/>
                  <a:pt x="5050" y="5194"/>
                  <a:pt x="5152" y="5275"/>
                </a:cubicBezTo>
                <a:cubicBezTo>
                  <a:pt x="5215" y="5325"/>
                  <a:pt x="5320" y="5296"/>
                  <a:pt x="5394" y="5304"/>
                </a:cubicBezTo>
                <a:cubicBezTo>
                  <a:pt x="5519" y="5318"/>
                  <a:pt x="5666" y="5298"/>
                  <a:pt x="5788" y="5298"/>
                </a:cubicBezTo>
                <a:cubicBezTo>
                  <a:pt x="5792" y="5298"/>
                  <a:pt x="5797" y="5299"/>
                  <a:pt x="5801" y="529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200160" y="1389240"/>
            <a:ext cx="817560" cy="328320"/>
          </a:xfrm>
          <a:custGeom>
            <a:avLst/>
            <a:gdLst/>
            <a:ahLst/>
            <a:rect l="l" t="t" r="r" b="b"/>
            <a:pathLst>
              <a:path w="2273" h="912">
                <a:moveTo>
                  <a:pt x="843" y="4483"/>
                </a:moveTo>
                <a:cubicBezTo>
                  <a:pt x="827" y="4498"/>
                  <a:pt x="810" y="4512"/>
                  <a:pt x="794" y="4527"/>
                </a:cubicBezTo>
                <a:cubicBezTo>
                  <a:pt x="803" y="4444"/>
                  <a:pt x="828" y="4369"/>
                  <a:pt x="849" y="4287"/>
                </a:cubicBezTo>
                <a:cubicBezTo>
                  <a:pt x="874" y="4188"/>
                  <a:pt x="897" y="4088"/>
                  <a:pt x="928" y="3990"/>
                </a:cubicBezTo>
                <a:cubicBezTo>
                  <a:pt x="947" y="3935"/>
                  <a:pt x="954" y="3915"/>
                  <a:pt x="961" y="3876"/>
                </a:cubicBezTo>
                <a:cubicBezTo>
                  <a:pt x="998" y="3972"/>
                  <a:pt x="1009" y="4063"/>
                  <a:pt x="1029" y="4164"/>
                </a:cubicBezTo>
                <a:cubicBezTo>
                  <a:pt x="1048" y="4260"/>
                  <a:pt x="1080" y="4355"/>
                  <a:pt x="1090" y="4452"/>
                </a:cubicBezTo>
                <a:cubicBezTo>
                  <a:pt x="1091" y="4472"/>
                  <a:pt x="1092" y="4493"/>
                  <a:pt x="1093" y="4513"/>
                </a:cubicBezTo>
              </a:path>
              <a:path w="2273" h="912">
                <a:moveTo>
                  <a:pt x="898" y="4331"/>
                </a:moveTo>
                <a:cubicBezTo>
                  <a:pt x="982" y="4312"/>
                  <a:pt x="1065" y="4291"/>
                  <a:pt x="1150" y="4273"/>
                </a:cubicBezTo>
                <a:cubicBezTo>
                  <a:pt x="1166" y="4270"/>
                  <a:pt x="1182" y="4266"/>
                  <a:pt x="1198" y="4263"/>
                </a:cubicBezTo>
              </a:path>
              <a:path w="2273" h="912">
                <a:moveTo>
                  <a:pt x="1305" y="4300"/>
                </a:moveTo>
                <a:cubicBezTo>
                  <a:pt x="1292" y="4390"/>
                  <a:pt x="1289" y="4469"/>
                  <a:pt x="1292" y="4559"/>
                </a:cubicBezTo>
                <a:cubicBezTo>
                  <a:pt x="1292" y="4582"/>
                  <a:pt x="1293" y="4605"/>
                  <a:pt x="1293" y="4628"/>
                </a:cubicBezTo>
              </a:path>
              <a:path w="2273" h="912">
                <a:moveTo>
                  <a:pt x="2005" y="4451"/>
                </a:moveTo>
                <a:cubicBezTo>
                  <a:pt x="1985" y="4470"/>
                  <a:pt x="1996" y="4402"/>
                  <a:pt x="2000" y="4382"/>
                </a:cubicBezTo>
                <a:cubicBezTo>
                  <a:pt x="2012" y="4313"/>
                  <a:pt x="2031" y="4244"/>
                  <a:pt x="2053" y="4177"/>
                </a:cubicBezTo>
                <a:cubicBezTo>
                  <a:pt x="2070" y="4126"/>
                  <a:pt x="2085" y="4074"/>
                  <a:pt x="2115" y="4031"/>
                </a:cubicBezTo>
                <a:cubicBezTo>
                  <a:pt x="2158" y="4063"/>
                  <a:pt x="2144" y="4118"/>
                  <a:pt x="2148" y="4175"/>
                </a:cubicBezTo>
                <a:cubicBezTo>
                  <a:pt x="2154" y="4263"/>
                  <a:pt x="2175" y="4344"/>
                  <a:pt x="2199" y="4428"/>
                </a:cubicBezTo>
                <a:cubicBezTo>
                  <a:pt x="2210" y="4465"/>
                  <a:pt x="2217" y="4487"/>
                  <a:pt x="2238" y="4518"/>
                </a:cubicBezTo>
              </a:path>
              <a:path w="2273" h="912">
                <a:moveTo>
                  <a:pt x="2052" y="4327"/>
                </a:moveTo>
                <a:cubicBezTo>
                  <a:pt x="2049" y="4322"/>
                  <a:pt x="2047" y="4317"/>
                  <a:pt x="2044" y="4312"/>
                </a:cubicBezTo>
                <a:cubicBezTo>
                  <a:pt x="2075" y="4298"/>
                  <a:pt x="2103" y="4286"/>
                  <a:pt x="2134" y="4273"/>
                </a:cubicBezTo>
                <a:cubicBezTo>
                  <a:pt x="2168" y="4256"/>
                  <a:pt x="2181" y="4251"/>
                  <a:pt x="2207" y="4249"/>
                </a:cubicBezTo>
              </a:path>
              <a:path w="2273" h="912">
                <a:moveTo>
                  <a:pt x="2346" y="4349"/>
                </a:moveTo>
                <a:cubicBezTo>
                  <a:pt x="2380" y="4339"/>
                  <a:pt x="2402" y="4328"/>
                  <a:pt x="2436" y="4327"/>
                </a:cubicBezTo>
                <a:cubicBezTo>
                  <a:pt x="2473" y="4326"/>
                  <a:pt x="2495" y="4355"/>
                  <a:pt x="2500" y="4391"/>
                </a:cubicBezTo>
                <a:cubicBezTo>
                  <a:pt x="2507" y="4450"/>
                  <a:pt x="2472" y="4506"/>
                  <a:pt x="2451" y="4558"/>
                </a:cubicBezTo>
                <a:cubicBezTo>
                  <a:pt x="2446" y="4575"/>
                  <a:pt x="2445" y="4579"/>
                  <a:pt x="2440" y="4589"/>
                </a:cubicBezTo>
                <a:cubicBezTo>
                  <a:pt x="2466" y="4595"/>
                  <a:pt x="2491" y="4590"/>
                  <a:pt x="2518" y="4587"/>
                </a:cubicBezTo>
                <a:cubicBezTo>
                  <a:pt x="2527" y="4586"/>
                  <a:pt x="2535" y="4584"/>
                  <a:pt x="2544" y="4583"/>
                </a:cubicBezTo>
              </a:path>
              <a:path w="2273" h="912">
                <a:moveTo>
                  <a:pt x="593" y="3860"/>
                </a:moveTo>
                <a:cubicBezTo>
                  <a:pt x="549" y="3945"/>
                  <a:pt x="552" y="4004"/>
                  <a:pt x="560" y="4102"/>
                </a:cubicBezTo>
                <a:cubicBezTo>
                  <a:pt x="569" y="4217"/>
                  <a:pt x="578" y="4332"/>
                  <a:pt x="587" y="4447"/>
                </a:cubicBezTo>
                <a:cubicBezTo>
                  <a:pt x="593" y="4524"/>
                  <a:pt x="599" y="4600"/>
                  <a:pt x="607" y="4677"/>
                </a:cubicBezTo>
              </a:path>
              <a:path w="2273" h="912">
                <a:moveTo>
                  <a:pt x="2729" y="4002"/>
                </a:moveTo>
                <a:cubicBezTo>
                  <a:pt x="2721" y="4017"/>
                  <a:pt x="2716" y="4051"/>
                  <a:pt x="2721" y="4082"/>
                </a:cubicBezTo>
                <a:cubicBezTo>
                  <a:pt x="2736" y="4176"/>
                  <a:pt x="2756" y="4272"/>
                  <a:pt x="2775" y="4365"/>
                </a:cubicBezTo>
                <a:cubicBezTo>
                  <a:pt x="2794" y="4456"/>
                  <a:pt x="2825" y="4552"/>
                  <a:pt x="2826" y="4646"/>
                </a:cubicBezTo>
                <a:cubicBezTo>
                  <a:pt x="2826" y="4686"/>
                  <a:pt x="2820" y="4732"/>
                  <a:pt x="2808" y="4771"/>
                </a:cubicBezTo>
              </a:path>
              <a:path w="2273" h="912">
                <a:moveTo>
                  <a:pt x="1518" y="4111"/>
                </a:moveTo>
                <a:cubicBezTo>
                  <a:pt x="1505" y="4092"/>
                  <a:pt x="1491" y="4077"/>
                  <a:pt x="1483" y="4055"/>
                </a:cubicBezTo>
                <a:cubicBezTo>
                  <a:pt x="1482" y="4050"/>
                  <a:pt x="1480" y="4046"/>
                  <a:pt x="1479" y="4041"/>
                </a:cubicBezTo>
                <a:cubicBezTo>
                  <a:pt x="1481" y="4099"/>
                  <a:pt x="1470" y="4155"/>
                  <a:pt x="1470" y="4213"/>
                </a:cubicBezTo>
                <a:cubicBezTo>
                  <a:pt x="1470" y="4282"/>
                  <a:pt x="1469" y="4346"/>
                  <a:pt x="1505" y="4408"/>
                </a:cubicBezTo>
                <a:cubicBezTo>
                  <a:pt x="1534" y="4459"/>
                  <a:pt x="1580" y="4476"/>
                  <a:pt x="1636" y="4461"/>
                </a:cubicBezTo>
                <a:cubicBezTo>
                  <a:pt x="1690" y="4447"/>
                  <a:pt x="1743" y="4402"/>
                  <a:pt x="1767" y="4353"/>
                </a:cubicBezTo>
                <a:cubicBezTo>
                  <a:pt x="1791" y="4304"/>
                  <a:pt x="1800" y="4239"/>
                  <a:pt x="1799" y="4185"/>
                </a:cubicBezTo>
                <a:cubicBezTo>
                  <a:pt x="1799" y="4166"/>
                  <a:pt x="1794" y="4086"/>
                  <a:pt x="1763" y="4083"/>
                </a:cubicBezTo>
                <a:cubicBezTo>
                  <a:pt x="1745" y="4081"/>
                  <a:pt x="1737" y="4097"/>
                  <a:pt x="1725" y="410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208080" y="1849320"/>
            <a:ext cx="457200" cy="212760"/>
          </a:xfrm>
          <a:custGeom>
            <a:avLst/>
            <a:gdLst/>
            <a:ahLst/>
            <a:rect l="l" t="t" r="r" b="b"/>
            <a:pathLst>
              <a:path w="1270" h="592">
                <a:moveTo>
                  <a:pt x="577" y="5234"/>
                </a:moveTo>
                <a:cubicBezTo>
                  <a:pt x="666" y="5235"/>
                  <a:pt x="754" y="5235"/>
                  <a:pt x="843" y="5245"/>
                </a:cubicBezTo>
              </a:path>
              <a:path w="1270" h="592">
                <a:moveTo>
                  <a:pt x="635" y="5460"/>
                </a:moveTo>
                <a:cubicBezTo>
                  <a:pt x="613" y="5552"/>
                  <a:pt x="734" y="5505"/>
                  <a:pt x="807" y="5500"/>
                </a:cubicBezTo>
              </a:path>
              <a:path w="1270" h="592">
                <a:moveTo>
                  <a:pt x="1015" y="5136"/>
                </a:moveTo>
                <a:cubicBezTo>
                  <a:pt x="1011" y="5227"/>
                  <a:pt x="1019" y="5306"/>
                  <a:pt x="1032" y="5396"/>
                </a:cubicBezTo>
                <a:cubicBezTo>
                  <a:pt x="1044" y="5480"/>
                  <a:pt x="1059" y="5546"/>
                  <a:pt x="1090" y="5626"/>
                </a:cubicBezTo>
              </a:path>
              <a:path w="1270" h="592">
                <a:moveTo>
                  <a:pt x="1245" y="5707"/>
                </a:moveTo>
                <a:cubicBezTo>
                  <a:pt x="1267" y="5642"/>
                  <a:pt x="1281" y="5578"/>
                  <a:pt x="1293" y="5509"/>
                </a:cubicBezTo>
                <a:cubicBezTo>
                  <a:pt x="1310" y="5418"/>
                  <a:pt x="1321" y="5310"/>
                  <a:pt x="1365" y="5227"/>
                </a:cubicBezTo>
                <a:cubicBezTo>
                  <a:pt x="1370" y="5223"/>
                  <a:pt x="1375" y="5218"/>
                  <a:pt x="1380" y="5214"/>
                </a:cubicBezTo>
                <a:cubicBezTo>
                  <a:pt x="1425" y="5264"/>
                  <a:pt x="1430" y="5309"/>
                  <a:pt x="1437" y="5378"/>
                </a:cubicBezTo>
                <a:cubicBezTo>
                  <a:pt x="1445" y="5452"/>
                  <a:pt x="1461" y="5526"/>
                  <a:pt x="1461" y="5601"/>
                </a:cubicBezTo>
                <a:cubicBezTo>
                  <a:pt x="1460" y="5613"/>
                  <a:pt x="1458" y="5624"/>
                  <a:pt x="1457" y="5636"/>
                </a:cubicBezTo>
              </a:path>
              <a:path w="1270" h="592">
                <a:moveTo>
                  <a:pt x="1305" y="5526"/>
                </a:moveTo>
                <a:cubicBezTo>
                  <a:pt x="1350" y="5488"/>
                  <a:pt x="1364" y="5493"/>
                  <a:pt x="1424" y="5496"/>
                </a:cubicBezTo>
                <a:cubicBezTo>
                  <a:pt x="1458" y="5499"/>
                  <a:pt x="1469" y="5500"/>
                  <a:pt x="1492" y="5502"/>
                </a:cubicBezTo>
              </a:path>
              <a:path w="1270" h="592">
                <a:moveTo>
                  <a:pt x="1652" y="5608"/>
                </a:moveTo>
                <a:cubicBezTo>
                  <a:pt x="1654" y="5638"/>
                  <a:pt x="1653" y="5669"/>
                  <a:pt x="1663" y="5698"/>
                </a:cubicBezTo>
                <a:cubicBezTo>
                  <a:pt x="1672" y="5724"/>
                  <a:pt x="1679" y="5731"/>
                  <a:pt x="1701" y="5717"/>
                </a:cubicBezTo>
              </a:path>
              <a:path w="1270" h="592">
                <a:moveTo>
                  <a:pt x="1779" y="5227"/>
                </a:moveTo>
                <a:cubicBezTo>
                  <a:pt x="1801" y="5258"/>
                  <a:pt x="1802" y="5292"/>
                  <a:pt x="1810" y="5329"/>
                </a:cubicBezTo>
                <a:cubicBezTo>
                  <a:pt x="1823" y="5395"/>
                  <a:pt x="1838" y="5458"/>
                  <a:pt x="1843" y="5526"/>
                </a:cubicBezTo>
                <a:cubicBezTo>
                  <a:pt x="1846" y="5566"/>
                  <a:pt x="1846" y="5604"/>
                  <a:pt x="1845" y="564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758880" y="1865160"/>
            <a:ext cx="384120" cy="204840"/>
          </a:xfrm>
          <a:custGeom>
            <a:avLst/>
            <a:gdLst/>
            <a:ahLst/>
            <a:rect l="l" t="t" r="r" b="b"/>
            <a:pathLst>
              <a:path w="1068" h="571">
                <a:moveTo>
                  <a:pt x="2255" y="5287"/>
                </a:moveTo>
                <a:cubicBezTo>
                  <a:pt x="2227" y="5279"/>
                  <a:pt x="2238" y="5314"/>
                  <a:pt x="2237" y="5340"/>
                </a:cubicBezTo>
                <a:cubicBezTo>
                  <a:pt x="2234" y="5395"/>
                  <a:pt x="2234" y="5456"/>
                  <a:pt x="2246" y="5510"/>
                </a:cubicBezTo>
                <a:cubicBezTo>
                  <a:pt x="2254" y="5546"/>
                  <a:pt x="2267" y="5580"/>
                  <a:pt x="2272" y="5617"/>
                </a:cubicBezTo>
              </a:path>
              <a:path w="1068" h="571">
                <a:moveTo>
                  <a:pt x="2109" y="5470"/>
                </a:moveTo>
                <a:cubicBezTo>
                  <a:pt x="2138" y="5451"/>
                  <a:pt x="2164" y="5445"/>
                  <a:pt x="2199" y="5442"/>
                </a:cubicBezTo>
                <a:cubicBezTo>
                  <a:pt x="2253" y="5438"/>
                  <a:pt x="2308" y="5440"/>
                  <a:pt x="2362" y="5442"/>
                </a:cubicBezTo>
                <a:cubicBezTo>
                  <a:pt x="2373" y="5442"/>
                  <a:pt x="2385" y="5443"/>
                  <a:pt x="2396" y="5443"/>
                </a:cubicBezTo>
              </a:path>
              <a:path w="1068" h="571">
                <a:moveTo>
                  <a:pt x="2454" y="5692"/>
                </a:moveTo>
                <a:cubicBezTo>
                  <a:pt x="2452" y="5657"/>
                  <a:pt x="2456" y="5627"/>
                  <a:pt x="2462" y="5593"/>
                </a:cubicBezTo>
                <a:cubicBezTo>
                  <a:pt x="2471" y="5547"/>
                  <a:pt x="2478" y="5502"/>
                  <a:pt x="2482" y="5455"/>
                </a:cubicBezTo>
                <a:cubicBezTo>
                  <a:pt x="2485" y="5422"/>
                  <a:pt x="2485" y="5389"/>
                  <a:pt x="2476" y="5357"/>
                </a:cubicBezTo>
                <a:cubicBezTo>
                  <a:pt x="2469" y="5331"/>
                  <a:pt x="2463" y="5307"/>
                  <a:pt x="2459" y="5280"/>
                </a:cubicBezTo>
                <a:cubicBezTo>
                  <a:pt x="2455" y="5254"/>
                  <a:pt x="2447" y="5234"/>
                  <a:pt x="2455" y="5207"/>
                </a:cubicBezTo>
                <a:cubicBezTo>
                  <a:pt x="2463" y="5180"/>
                  <a:pt x="2465" y="5174"/>
                  <a:pt x="2483" y="5197"/>
                </a:cubicBezTo>
              </a:path>
              <a:path w="1068" h="571">
                <a:moveTo>
                  <a:pt x="2592" y="5749"/>
                </a:moveTo>
                <a:cubicBezTo>
                  <a:pt x="2579" y="5721"/>
                  <a:pt x="2577" y="5705"/>
                  <a:pt x="2577" y="5673"/>
                </a:cubicBezTo>
                <a:cubicBezTo>
                  <a:pt x="2578" y="5610"/>
                  <a:pt x="2593" y="5548"/>
                  <a:pt x="2604" y="5486"/>
                </a:cubicBezTo>
                <a:cubicBezTo>
                  <a:pt x="2617" y="5413"/>
                  <a:pt x="2636" y="5342"/>
                  <a:pt x="2657" y="5271"/>
                </a:cubicBezTo>
                <a:cubicBezTo>
                  <a:pt x="2666" y="5241"/>
                  <a:pt x="2671" y="5200"/>
                  <a:pt x="2705" y="5204"/>
                </a:cubicBezTo>
                <a:cubicBezTo>
                  <a:pt x="2726" y="5252"/>
                  <a:pt x="2740" y="5302"/>
                  <a:pt x="2756" y="5352"/>
                </a:cubicBezTo>
                <a:cubicBezTo>
                  <a:pt x="2776" y="5416"/>
                  <a:pt x="2794" y="5482"/>
                  <a:pt x="2807" y="5548"/>
                </a:cubicBezTo>
                <a:cubicBezTo>
                  <a:pt x="2812" y="5578"/>
                  <a:pt x="2813" y="5587"/>
                  <a:pt x="2814" y="5606"/>
                </a:cubicBezTo>
              </a:path>
              <a:path w="1068" h="571">
                <a:moveTo>
                  <a:pt x="2658" y="5533"/>
                </a:moveTo>
                <a:cubicBezTo>
                  <a:pt x="2649" y="5512"/>
                  <a:pt x="2643" y="5494"/>
                  <a:pt x="2673" y="5490"/>
                </a:cubicBezTo>
                <a:cubicBezTo>
                  <a:pt x="2712" y="5485"/>
                  <a:pt x="2756" y="5491"/>
                  <a:pt x="2795" y="5493"/>
                </a:cubicBezTo>
                <a:cubicBezTo>
                  <a:pt x="2807" y="5494"/>
                  <a:pt x="2818" y="5494"/>
                  <a:pt x="2830" y="5495"/>
                </a:cubicBezTo>
              </a:path>
              <a:path w="1068" h="571">
                <a:moveTo>
                  <a:pt x="2918" y="5598"/>
                </a:moveTo>
                <a:cubicBezTo>
                  <a:pt x="2938" y="5595"/>
                  <a:pt x="2956" y="5585"/>
                  <a:pt x="2978" y="5588"/>
                </a:cubicBezTo>
                <a:cubicBezTo>
                  <a:pt x="3006" y="5592"/>
                  <a:pt x="3023" y="5606"/>
                  <a:pt x="3029" y="5634"/>
                </a:cubicBezTo>
                <a:cubicBezTo>
                  <a:pt x="3035" y="5661"/>
                  <a:pt x="3027" y="5687"/>
                  <a:pt x="3021" y="5713"/>
                </a:cubicBezTo>
                <a:cubicBezTo>
                  <a:pt x="3015" y="5739"/>
                  <a:pt x="3017" y="5750"/>
                  <a:pt x="3044" y="5745"/>
                </a:cubicBezTo>
                <a:cubicBezTo>
                  <a:pt x="3075" y="5739"/>
                  <a:pt x="3100" y="5732"/>
                  <a:pt x="3129" y="5720"/>
                </a:cubicBezTo>
              </a:path>
              <a:path w="1068" h="571">
                <a:moveTo>
                  <a:pt x="3077" y="5358"/>
                </a:moveTo>
                <a:cubicBezTo>
                  <a:pt x="3085" y="5397"/>
                  <a:pt x="3093" y="5436"/>
                  <a:pt x="3103" y="5474"/>
                </a:cubicBezTo>
                <a:cubicBezTo>
                  <a:pt x="3118" y="5532"/>
                  <a:pt x="3131" y="5591"/>
                  <a:pt x="3152" y="5646"/>
                </a:cubicBezTo>
                <a:cubicBezTo>
                  <a:pt x="3164" y="5675"/>
                  <a:pt x="3168" y="5683"/>
                  <a:pt x="3176" y="570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407880" y="2338560"/>
            <a:ext cx="768600" cy="545760"/>
          </a:xfrm>
          <a:custGeom>
            <a:avLst/>
            <a:gdLst/>
            <a:ahLst/>
            <a:rect l="l" t="t" r="r" b="b"/>
            <a:pathLst>
              <a:path w="2134" h="1517">
                <a:moveTo>
                  <a:pt x="1309" y="6638"/>
                </a:moveTo>
                <a:cubicBezTo>
                  <a:pt x="1329" y="6560"/>
                  <a:pt x="1320" y="6567"/>
                  <a:pt x="1265" y="6497"/>
                </a:cubicBezTo>
                <a:cubicBezTo>
                  <a:pt x="1196" y="6529"/>
                  <a:pt x="1179" y="6572"/>
                  <a:pt x="1163" y="6653"/>
                </a:cubicBezTo>
                <a:cubicBezTo>
                  <a:pt x="1142" y="6759"/>
                  <a:pt x="1143" y="6875"/>
                  <a:pt x="1140" y="6982"/>
                </a:cubicBezTo>
                <a:cubicBezTo>
                  <a:pt x="1136" y="7131"/>
                  <a:pt x="1134" y="7275"/>
                  <a:pt x="1145" y="7423"/>
                </a:cubicBezTo>
                <a:cubicBezTo>
                  <a:pt x="1153" y="7533"/>
                  <a:pt x="1142" y="7654"/>
                  <a:pt x="1162" y="7762"/>
                </a:cubicBezTo>
                <a:cubicBezTo>
                  <a:pt x="1177" y="7845"/>
                  <a:pt x="1189" y="7888"/>
                  <a:pt x="1164" y="7969"/>
                </a:cubicBezTo>
                <a:cubicBezTo>
                  <a:pt x="1159" y="7984"/>
                  <a:pt x="1155" y="7998"/>
                  <a:pt x="1150" y="8013"/>
                </a:cubicBezTo>
                <a:cubicBezTo>
                  <a:pt x="1217" y="8011"/>
                  <a:pt x="1279" y="8005"/>
                  <a:pt x="1344" y="7991"/>
                </a:cubicBezTo>
                <a:cubicBezTo>
                  <a:pt x="1396" y="7980"/>
                  <a:pt x="1434" y="7961"/>
                  <a:pt x="1465" y="7920"/>
                </a:cubicBezTo>
                <a:cubicBezTo>
                  <a:pt x="1468" y="7914"/>
                  <a:pt x="1471" y="7907"/>
                  <a:pt x="1474" y="7901"/>
                </a:cubicBezTo>
              </a:path>
              <a:path w="2134" h="1517">
                <a:moveTo>
                  <a:pt x="1812" y="7786"/>
                </a:moveTo>
                <a:cubicBezTo>
                  <a:pt x="1781" y="7772"/>
                  <a:pt x="1752" y="7757"/>
                  <a:pt x="1722" y="7741"/>
                </a:cubicBezTo>
                <a:cubicBezTo>
                  <a:pt x="1702" y="7730"/>
                  <a:pt x="1681" y="7720"/>
                  <a:pt x="1661" y="7710"/>
                </a:cubicBezTo>
                <a:cubicBezTo>
                  <a:pt x="1712" y="7692"/>
                  <a:pt x="1758" y="7683"/>
                  <a:pt x="1814" y="7676"/>
                </a:cubicBezTo>
                <a:cubicBezTo>
                  <a:pt x="2065" y="7647"/>
                  <a:pt x="2319" y="7657"/>
                  <a:pt x="2570" y="7682"/>
                </a:cubicBezTo>
                <a:cubicBezTo>
                  <a:pt x="2739" y="7699"/>
                  <a:pt x="2915" y="7738"/>
                  <a:pt x="3086" y="7730"/>
                </a:cubicBezTo>
                <a:cubicBezTo>
                  <a:pt x="3131" y="7728"/>
                  <a:pt x="3195" y="7722"/>
                  <a:pt x="3233" y="7692"/>
                </a:cubicBezTo>
                <a:cubicBezTo>
                  <a:pt x="3252" y="7677"/>
                  <a:pt x="3253" y="7666"/>
                  <a:pt x="3265" y="7649"/>
                </a:cubicBezTo>
                <a:cubicBezTo>
                  <a:pt x="3235" y="7651"/>
                  <a:pt x="3208" y="7654"/>
                  <a:pt x="3178" y="765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8278920" y="2363760"/>
            <a:ext cx="176040" cy="452520"/>
          </a:xfrm>
          <a:custGeom>
            <a:avLst/>
            <a:gdLst/>
            <a:ahLst/>
            <a:rect l="l" t="t" r="r" b="b"/>
            <a:pathLst>
              <a:path w="490" h="1256">
                <a:moveTo>
                  <a:pt x="23129" y="6716"/>
                </a:moveTo>
                <a:cubicBezTo>
                  <a:pt x="23114" y="6719"/>
                  <a:pt x="23110" y="6721"/>
                  <a:pt x="23102" y="6714"/>
                </a:cubicBezTo>
                <a:cubicBezTo>
                  <a:pt x="23115" y="6696"/>
                  <a:pt x="23127" y="6678"/>
                  <a:pt x="23150" y="6660"/>
                </a:cubicBezTo>
                <a:cubicBezTo>
                  <a:pt x="23198" y="6623"/>
                  <a:pt x="23258" y="6591"/>
                  <a:pt x="23317" y="6574"/>
                </a:cubicBezTo>
                <a:cubicBezTo>
                  <a:pt x="23358" y="6562"/>
                  <a:pt x="23392" y="6565"/>
                  <a:pt x="23415" y="6604"/>
                </a:cubicBezTo>
                <a:cubicBezTo>
                  <a:pt x="23440" y="6646"/>
                  <a:pt x="23424" y="6734"/>
                  <a:pt x="23423" y="6779"/>
                </a:cubicBezTo>
                <a:cubicBezTo>
                  <a:pt x="23420" y="6906"/>
                  <a:pt x="23399" y="7031"/>
                  <a:pt x="23400" y="7158"/>
                </a:cubicBezTo>
                <a:cubicBezTo>
                  <a:pt x="23401" y="7246"/>
                  <a:pt x="23403" y="7341"/>
                  <a:pt x="23416" y="7428"/>
                </a:cubicBezTo>
                <a:cubicBezTo>
                  <a:pt x="23425" y="7489"/>
                  <a:pt x="23450" y="7546"/>
                  <a:pt x="23462" y="7606"/>
                </a:cubicBezTo>
                <a:cubicBezTo>
                  <a:pt x="23470" y="7646"/>
                  <a:pt x="23481" y="7689"/>
                  <a:pt x="23484" y="7730"/>
                </a:cubicBezTo>
                <a:cubicBezTo>
                  <a:pt x="23485" y="7749"/>
                  <a:pt x="23489" y="7777"/>
                  <a:pt x="23473" y="7791"/>
                </a:cubicBezTo>
                <a:cubicBezTo>
                  <a:pt x="23456" y="7806"/>
                  <a:pt x="23365" y="7776"/>
                  <a:pt x="23347" y="7774"/>
                </a:cubicBezTo>
                <a:cubicBezTo>
                  <a:pt x="23277" y="7765"/>
                  <a:pt x="23206" y="7759"/>
                  <a:pt x="23135" y="7756"/>
                </a:cubicBezTo>
                <a:cubicBezTo>
                  <a:pt x="23123" y="7755"/>
                  <a:pt x="23002" y="7745"/>
                  <a:pt x="22996" y="7763"/>
                </a:cubicBezTo>
                <a:cubicBezTo>
                  <a:pt x="22991" y="7779"/>
                  <a:pt x="23028" y="7813"/>
                  <a:pt x="23036" y="782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2514600" y="3035160"/>
            <a:ext cx="1076400" cy="285840"/>
          </a:xfrm>
          <a:custGeom>
            <a:avLst/>
            <a:gdLst/>
            <a:ahLst/>
            <a:rect l="l" t="t" r="r" b="b"/>
            <a:pathLst>
              <a:path w="2990" h="794">
                <a:moveTo>
                  <a:pt x="7188" y="8887"/>
                </a:moveTo>
                <a:cubicBezTo>
                  <a:pt x="7162" y="8913"/>
                  <a:pt x="7138" y="8931"/>
                  <a:pt x="7128" y="8965"/>
                </a:cubicBezTo>
                <a:cubicBezTo>
                  <a:pt x="7167" y="8960"/>
                  <a:pt x="7190" y="8953"/>
                  <a:pt x="7229" y="8921"/>
                </a:cubicBezTo>
                <a:cubicBezTo>
                  <a:pt x="7277" y="8882"/>
                  <a:pt x="7322" y="8837"/>
                  <a:pt x="7341" y="8777"/>
                </a:cubicBezTo>
                <a:cubicBezTo>
                  <a:pt x="7358" y="8723"/>
                  <a:pt x="7340" y="8689"/>
                  <a:pt x="7282" y="8685"/>
                </a:cubicBezTo>
                <a:cubicBezTo>
                  <a:pt x="7214" y="8681"/>
                  <a:pt x="7137" y="8720"/>
                  <a:pt x="7088" y="8764"/>
                </a:cubicBezTo>
                <a:cubicBezTo>
                  <a:pt x="7026" y="8820"/>
                  <a:pt x="6980" y="8903"/>
                  <a:pt x="6983" y="8988"/>
                </a:cubicBezTo>
                <a:cubicBezTo>
                  <a:pt x="6986" y="9076"/>
                  <a:pt x="7041" y="9149"/>
                  <a:pt x="7118" y="9188"/>
                </a:cubicBezTo>
                <a:cubicBezTo>
                  <a:pt x="7211" y="9236"/>
                  <a:pt x="7312" y="9229"/>
                  <a:pt x="7409" y="9200"/>
                </a:cubicBezTo>
                <a:cubicBezTo>
                  <a:pt x="7485" y="9177"/>
                  <a:pt x="7527" y="9140"/>
                  <a:pt x="7584" y="9089"/>
                </a:cubicBezTo>
              </a:path>
              <a:path w="2990" h="794">
                <a:moveTo>
                  <a:pt x="7566" y="8810"/>
                </a:moveTo>
                <a:cubicBezTo>
                  <a:pt x="7541" y="8800"/>
                  <a:pt x="7500" y="8786"/>
                  <a:pt x="7495" y="8832"/>
                </a:cubicBezTo>
                <a:cubicBezTo>
                  <a:pt x="7488" y="8895"/>
                  <a:pt x="7528" y="8959"/>
                  <a:pt x="7560" y="9009"/>
                </a:cubicBezTo>
                <a:cubicBezTo>
                  <a:pt x="7599" y="9070"/>
                  <a:pt x="7653" y="9129"/>
                  <a:pt x="7725" y="9150"/>
                </a:cubicBezTo>
                <a:cubicBezTo>
                  <a:pt x="7764" y="9155"/>
                  <a:pt x="7776" y="9157"/>
                  <a:pt x="7801" y="9147"/>
                </a:cubicBezTo>
              </a:path>
              <a:path w="2990" h="794">
                <a:moveTo>
                  <a:pt x="7860" y="8759"/>
                </a:moveTo>
                <a:cubicBezTo>
                  <a:pt x="7838" y="8729"/>
                  <a:pt x="7814" y="8721"/>
                  <a:pt x="7782" y="8757"/>
                </a:cubicBezTo>
                <a:cubicBezTo>
                  <a:pt x="7730" y="8815"/>
                  <a:pt x="7690" y="8891"/>
                  <a:pt x="7653" y="8959"/>
                </a:cubicBezTo>
                <a:cubicBezTo>
                  <a:pt x="7631" y="8999"/>
                  <a:pt x="7581" y="9087"/>
                  <a:pt x="7600" y="9136"/>
                </a:cubicBezTo>
                <a:cubicBezTo>
                  <a:pt x="7617" y="9146"/>
                  <a:pt x="7626" y="9148"/>
                  <a:pt x="7641" y="9137"/>
                </a:cubicBezTo>
              </a:path>
              <a:path w="2990" h="794">
                <a:moveTo>
                  <a:pt x="8233" y="8833"/>
                </a:moveTo>
                <a:cubicBezTo>
                  <a:pt x="8236" y="8827"/>
                  <a:pt x="8239" y="8822"/>
                  <a:pt x="8242" y="8816"/>
                </a:cubicBezTo>
                <a:cubicBezTo>
                  <a:pt x="8217" y="8780"/>
                  <a:pt x="8181" y="8802"/>
                  <a:pt x="8146" y="8821"/>
                </a:cubicBezTo>
                <a:cubicBezTo>
                  <a:pt x="8074" y="8859"/>
                  <a:pt x="8008" y="8916"/>
                  <a:pt x="7965" y="8985"/>
                </a:cubicBezTo>
                <a:cubicBezTo>
                  <a:pt x="7933" y="9036"/>
                  <a:pt x="7903" y="9113"/>
                  <a:pt x="7956" y="9161"/>
                </a:cubicBezTo>
                <a:cubicBezTo>
                  <a:pt x="8013" y="9212"/>
                  <a:pt x="8108" y="9204"/>
                  <a:pt x="8176" y="9188"/>
                </a:cubicBezTo>
                <a:cubicBezTo>
                  <a:pt x="8198" y="9181"/>
                  <a:pt x="8219" y="9173"/>
                  <a:pt x="8241" y="9166"/>
                </a:cubicBezTo>
              </a:path>
              <a:path w="2990" h="794">
                <a:moveTo>
                  <a:pt x="8468" y="8534"/>
                </a:moveTo>
                <a:cubicBezTo>
                  <a:pt x="8464" y="8500"/>
                  <a:pt x="8462" y="8465"/>
                  <a:pt x="8451" y="8432"/>
                </a:cubicBezTo>
                <a:cubicBezTo>
                  <a:pt x="8450" y="8477"/>
                  <a:pt x="8449" y="8524"/>
                  <a:pt x="8451" y="8570"/>
                </a:cubicBezTo>
                <a:cubicBezTo>
                  <a:pt x="8455" y="8690"/>
                  <a:pt x="8465" y="8809"/>
                  <a:pt x="8477" y="8929"/>
                </a:cubicBezTo>
                <a:cubicBezTo>
                  <a:pt x="8484" y="9000"/>
                  <a:pt x="8489" y="9109"/>
                  <a:pt x="8538" y="9167"/>
                </a:cubicBezTo>
                <a:cubicBezTo>
                  <a:pt x="8557" y="9177"/>
                  <a:pt x="8564" y="9180"/>
                  <a:pt x="8575" y="9164"/>
                </a:cubicBezTo>
              </a:path>
              <a:path w="2990" h="794">
                <a:moveTo>
                  <a:pt x="8644" y="8829"/>
                </a:moveTo>
                <a:cubicBezTo>
                  <a:pt x="8648" y="8779"/>
                  <a:pt x="8643" y="8884"/>
                  <a:pt x="8643" y="8885"/>
                </a:cubicBezTo>
                <a:cubicBezTo>
                  <a:pt x="8641" y="8940"/>
                  <a:pt x="8641" y="8997"/>
                  <a:pt x="8648" y="9052"/>
                </a:cubicBezTo>
                <a:cubicBezTo>
                  <a:pt x="8652" y="9079"/>
                  <a:pt x="8652" y="9086"/>
                  <a:pt x="8673" y="9092"/>
                </a:cubicBezTo>
                <a:cubicBezTo>
                  <a:pt x="8711" y="9043"/>
                  <a:pt x="8736" y="8987"/>
                  <a:pt x="8767" y="8933"/>
                </a:cubicBezTo>
                <a:cubicBezTo>
                  <a:pt x="8783" y="8905"/>
                  <a:pt x="8792" y="8892"/>
                  <a:pt x="8818" y="8877"/>
                </a:cubicBezTo>
                <a:cubicBezTo>
                  <a:pt x="8847" y="8911"/>
                  <a:pt x="8848" y="8952"/>
                  <a:pt x="8856" y="8996"/>
                </a:cubicBezTo>
                <a:cubicBezTo>
                  <a:pt x="8866" y="9050"/>
                  <a:pt x="8874" y="9111"/>
                  <a:pt x="8904" y="9158"/>
                </a:cubicBezTo>
                <a:cubicBezTo>
                  <a:pt x="8928" y="9196"/>
                  <a:pt x="8955" y="9156"/>
                  <a:pt x="8973" y="9137"/>
                </a:cubicBezTo>
              </a:path>
              <a:path w="2990" h="794">
                <a:moveTo>
                  <a:pt x="9079" y="8879"/>
                </a:moveTo>
                <a:cubicBezTo>
                  <a:pt x="9088" y="8849"/>
                  <a:pt x="9102" y="8816"/>
                  <a:pt x="9098" y="8787"/>
                </a:cubicBezTo>
                <a:cubicBezTo>
                  <a:pt x="9075" y="8806"/>
                  <a:pt x="9058" y="8827"/>
                  <a:pt x="9041" y="8852"/>
                </a:cubicBezTo>
                <a:cubicBezTo>
                  <a:pt x="9019" y="8884"/>
                  <a:pt x="8997" y="8906"/>
                  <a:pt x="9037" y="8927"/>
                </a:cubicBezTo>
                <a:cubicBezTo>
                  <a:pt x="9075" y="8947"/>
                  <a:pt x="9115" y="8951"/>
                  <a:pt x="9153" y="8977"/>
                </a:cubicBezTo>
                <a:cubicBezTo>
                  <a:pt x="9212" y="9018"/>
                  <a:pt x="9252" y="9074"/>
                  <a:pt x="9266" y="9144"/>
                </a:cubicBezTo>
                <a:cubicBezTo>
                  <a:pt x="9273" y="9178"/>
                  <a:pt x="9270" y="9199"/>
                  <a:pt x="9249" y="9225"/>
                </a:cubicBezTo>
                <a:cubicBezTo>
                  <a:pt x="9215" y="9212"/>
                  <a:pt x="9217" y="9187"/>
                  <a:pt x="9210" y="9151"/>
                </a:cubicBezTo>
              </a:path>
              <a:path w="2990" h="794">
                <a:moveTo>
                  <a:pt x="9283" y="8776"/>
                </a:moveTo>
                <a:cubicBezTo>
                  <a:pt x="9293" y="8802"/>
                  <a:pt x="9303" y="8829"/>
                  <a:pt x="9311" y="8856"/>
                </a:cubicBezTo>
                <a:cubicBezTo>
                  <a:pt x="9323" y="8897"/>
                  <a:pt x="9331" y="8940"/>
                  <a:pt x="9344" y="8981"/>
                </a:cubicBezTo>
                <a:cubicBezTo>
                  <a:pt x="9346" y="8988"/>
                  <a:pt x="9349" y="8994"/>
                  <a:pt x="9351" y="9001"/>
                </a:cubicBezTo>
              </a:path>
              <a:path w="2990" h="794">
                <a:moveTo>
                  <a:pt x="9302" y="8757"/>
                </a:moveTo>
                <a:cubicBezTo>
                  <a:pt x="9299" y="8724"/>
                  <a:pt x="9290" y="8684"/>
                  <a:pt x="9291" y="8651"/>
                </a:cubicBezTo>
                <a:cubicBezTo>
                  <a:pt x="9296" y="8640"/>
                  <a:pt x="9296" y="8636"/>
                  <a:pt x="9290" y="8628"/>
                </a:cubicBezTo>
              </a:path>
              <a:path w="2990" h="794">
                <a:moveTo>
                  <a:pt x="9450" y="8759"/>
                </a:moveTo>
                <a:cubicBezTo>
                  <a:pt x="9459" y="8804"/>
                  <a:pt x="9461" y="8855"/>
                  <a:pt x="9473" y="8899"/>
                </a:cubicBezTo>
                <a:cubicBezTo>
                  <a:pt x="9487" y="8951"/>
                  <a:pt x="9507" y="9005"/>
                  <a:pt x="9534" y="9051"/>
                </a:cubicBezTo>
                <a:cubicBezTo>
                  <a:pt x="9545" y="9070"/>
                  <a:pt x="9569" y="9106"/>
                  <a:pt x="9593" y="9082"/>
                </a:cubicBezTo>
                <a:cubicBezTo>
                  <a:pt x="9621" y="9054"/>
                  <a:pt x="9627" y="9002"/>
                  <a:pt x="9636" y="8966"/>
                </a:cubicBezTo>
                <a:cubicBezTo>
                  <a:pt x="9650" y="8914"/>
                  <a:pt x="9670" y="8869"/>
                  <a:pt x="9690" y="8821"/>
                </a:cubicBezTo>
                <a:cubicBezTo>
                  <a:pt x="9697" y="8804"/>
                  <a:pt x="9703" y="8762"/>
                  <a:pt x="9732" y="8767"/>
                </a:cubicBezTo>
                <a:cubicBezTo>
                  <a:pt x="9735" y="8769"/>
                  <a:pt x="9739" y="8771"/>
                  <a:pt x="9742" y="8773"/>
                </a:cubicBezTo>
              </a:path>
              <a:path w="2990" h="794">
                <a:moveTo>
                  <a:pt x="9766" y="8857"/>
                </a:moveTo>
                <a:cubicBezTo>
                  <a:pt x="9766" y="8869"/>
                  <a:pt x="9767" y="8876"/>
                  <a:pt x="9770" y="8888"/>
                </a:cubicBezTo>
                <a:cubicBezTo>
                  <a:pt x="9802" y="8894"/>
                  <a:pt x="9815" y="8882"/>
                  <a:pt x="9838" y="8856"/>
                </a:cubicBezTo>
                <a:cubicBezTo>
                  <a:pt x="9855" y="8837"/>
                  <a:pt x="9873" y="8812"/>
                  <a:pt x="9874" y="8785"/>
                </a:cubicBezTo>
                <a:cubicBezTo>
                  <a:pt x="9873" y="8781"/>
                  <a:pt x="9873" y="8778"/>
                  <a:pt x="9872" y="8774"/>
                </a:cubicBezTo>
                <a:cubicBezTo>
                  <a:pt x="9833" y="8786"/>
                  <a:pt x="9815" y="8803"/>
                  <a:pt x="9798" y="8843"/>
                </a:cubicBezTo>
                <a:cubicBezTo>
                  <a:pt x="9779" y="8886"/>
                  <a:pt x="9771" y="8935"/>
                  <a:pt x="9781" y="8981"/>
                </a:cubicBezTo>
                <a:cubicBezTo>
                  <a:pt x="9789" y="9017"/>
                  <a:pt x="9813" y="9051"/>
                  <a:pt x="9849" y="9064"/>
                </a:cubicBezTo>
                <a:cubicBezTo>
                  <a:pt x="9895" y="9081"/>
                  <a:pt x="9930" y="9065"/>
                  <a:pt x="9972" y="904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3776760" y="3166920"/>
            <a:ext cx="249120" cy="86040"/>
          </a:xfrm>
          <a:custGeom>
            <a:avLst/>
            <a:gdLst/>
            <a:ahLst/>
            <a:rect l="l" t="t" r="r" b="b"/>
            <a:pathLst>
              <a:path w="693" h="239">
                <a:moveTo>
                  <a:pt x="10654" y="8847"/>
                </a:moveTo>
                <a:cubicBezTo>
                  <a:pt x="10644" y="8820"/>
                  <a:pt x="10627" y="8805"/>
                  <a:pt x="10593" y="8817"/>
                </a:cubicBezTo>
                <a:cubicBezTo>
                  <a:pt x="10557" y="8830"/>
                  <a:pt x="10521" y="8875"/>
                  <a:pt x="10504" y="8908"/>
                </a:cubicBezTo>
                <a:cubicBezTo>
                  <a:pt x="10488" y="8939"/>
                  <a:pt x="10479" y="8986"/>
                  <a:pt x="10520" y="9000"/>
                </a:cubicBezTo>
                <a:cubicBezTo>
                  <a:pt x="10562" y="9015"/>
                  <a:pt x="10629" y="8993"/>
                  <a:pt x="10667" y="8976"/>
                </a:cubicBezTo>
                <a:cubicBezTo>
                  <a:pt x="10715" y="8955"/>
                  <a:pt x="10754" y="8931"/>
                  <a:pt x="10789" y="8891"/>
                </a:cubicBezTo>
                <a:cubicBezTo>
                  <a:pt x="10803" y="8874"/>
                  <a:pt x="10807" y="8869"/>
                  <a:pt x="10812" y="8856"/>
                </a:cubicBezTo>
              </a:path>
              <a:path w="693" h="239">
                <a:moveTo>
                  <a:pt x="10890" y="8957"/>
                </a:moveTo>
                <a:cubicBezTo>
                  <a:pt x="10900" y="8984"/>
                  <a:pt x="10910" y="9010"/>
                  <a:pt x="10922" y="9036"/>
                </a:cubicBezTo>
                <a:cubicBezTo>
                  <a:pt x="10933" y="9009"/>
                  <a:pt x="10932" y="8981"/>
                  <a:pt x="10938" y="8952"/>
                </a:cubicBezTo>
                <a:cubicBezTo>
                  <a:pt x="10949" y="8899"/>
                  <a:pt x="10963" y="8844"/>
                  <a:pt x="11008" y="8811"/>
                </a:cubicBezTo>
                <a:cubicBezTo>
                  <a:pt x="11040" y="8787"/>
                  <a:pt x="11083" y="8798"/>
                  <a:pt x="11119" y="8808"/>
                </a:cubicBezTo>
                <a:cubicBezTo>
                  <a:pt x="11151" y="8819"/>
                  <a:pt x="11161" y="8823"/>
                  <a:pt x="11183" y="882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9240" bIns="39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4362480" y="3011400"/>
            <a:ext cx="565200" cy="282600"/>
          </a:xfrm>
          <a:custGeom>
            <a:avLst/>
            <a:gdLst/>
            <a:ahLst/>
            <a:rect l="l" t="t" r="r" b="b"/>
            <a:pathLst>
              <a:path w="1567" h="785">
                <a:moveTo>
                  <a:pt x="12247" y="8378"/>
                </a:moveTo>
                <a:cubicBezTo>
                  <a:pt x="12219" y="8362"/>
                  <a:pt x="12194" y="8383"/>
                  <a:pt x="12181" y="8417"/>
                </a:cubicBezTo>
                <a:cubicBezTo>
                  <a:pt x="12145" y="8508"/>
                  <a:pt x="12128" y="8615"/>
                  <a:pt x="12121" y="8712"/>
                </a:cubicBezTo>
                <a:cubicBezTo>
                  <a:pt x="12113" y="8830"/>
                  <a:pt x="12118" y="8952"/>
                  <a:pt x="12153" y="9065"/>
                </a:cubicBezTo>
                <a:cubicBezTo>
                  <a:pt x="12174" y="9134"/>
                  <a:pt x="12202" y="9152"/>
                  <a:pt x="12267" y="9140"/>
                </a:cubicBezTo>
              </a:path>
              <a:path w="1567" h="785">
                <a:moveTo>
                  <a:pt x="12422" y="8508"/>
                </a:moveTo>
                <a:cubicBezTo>
                  <a:pt x="12410" y="8572"/>
                  <a:pt x="12405" y="8639"/>
                  <a:pt x="12406" y="8704"/>
                </a:cubicBezTo>
                <a:cubicBezTo>
                  <a:pt x="12408" y="8797"/>
                  <a:pt x="12412" y="8891"/>
                  <a:pt x="12422" y="8983"/>
                </a:cubicBezTo>
                <a:cubicBezTo>
                  <a:pt x="12426" y="9017"/>
                  <a:pt x="12425" y="9024"/>
                  <a:pt x="12436" y="9042"/>
                </a:cubicBezTo>
                <a:cubicBezTo>
                  <a:pt x="12456" y="9016"/>
                  <a:pt x="12472" y="8980"/>
                  <a:pt x="12487" y="8942"/>
                </a:cubicBezTo>
                <a:cubicBezTo>
                  <a:pt x="12509" y="8885"/>
                  <a:pt x="12529" y="8821"/>
                  <a:pt x="12575" y="8778"/>
                </a:cubicBezTo>
                <a:cubicBezTo>
                  <a:pt x="12596" y="8764"/>
                  <a:pt x="12602" y="8759"/>
                  <a:pt x="12619" y="8766"/>
                </a:cubicBezTo>
                <a:cubicBezTo>
                  <a:pt x="12653" y="8818"/>
                  <a:pt x="12656" y="8866"/>
                  <a:pt x="12653" y="8929"/>
                </a:cubicBezTo>
                <a:cubicBezTo>
                  <a:pt x="12650" y="8992"/>
                  <a:pt x="12641" y="9102"/>
                  <a:pt x="12575" y="9135"/>
                </a:cubicBezTo>
                <a:cubicBezTo>
                  <a:pt x="12568" y="9136"/>
                  <a:pt x="12562" y="9137"/>
                  <a:pt x="12555" y="9138"/>
                </a:cubicBezTo>
                <a:cubicBezTo>
                  <a:pt x="12522" y="9097"/>
                  <a:pt x="12511" y="9064"/>
                  <a:pt x="12517" y="9009"/>
                </a:cubicBezTo>
                <a:cubicBezTo>
                  <a:pt x="12520" y="8994"/>
                  <a:pt x="12523" y="8979"/>
                  <a:pt x="12526" y="8964"/>
                </a:cubicBezTo>
              </a:path>
              <a:path w="1567" h="785">
                <a:moveTo>
                  <a:pt x="12880" y="8847"/>
                </a:moveTo>
                <a:cubicBezTo>
                  <a:pt x="12875" y="8912"/>
                  <a:pt x="12847" y="8964"/>
                  <a:pt x="12830" y="9026"/>
                </a:cubicBezTo>
                <a:cubicBezTo>
                  <a:pt x="12819" y="9065"/>
                  <a:pt x="12808" y="9099"/>
                  <a:pt x="12832" y="9131"/>
                </a:cubicBezTo>
                <a:cubicBezTo>
                  <a:pt x="12877" y="9116"/>
                  <a:pt x="12904" y="9088"/>
                  <a:pt x="12936" y="9052"/>
                </a:cubicBezTo>
                <a:cubicBezTo>
                  <a:pt x="12965" y="9019"/>
                  <a:pt x="12994" y="8968"/>
                  <a:pt x="13035" y="8948"/>
                </a:cubicBezTo>
                <a:cubicBezTo>
                  <a:pt x="13064" y="8933"/>
                  <a:pt x="13077" y="8979"/>
                  <a:pt x="13085" y="8997"/>
                </a:cubicBezTo>
                <a:cubicBezTo>
                  <a:pt x="13096" y="9022"/>
                  <a:pt x="13100" y="9045"/>
                  <a:pt x="13122" y="9060"/>
                </a:cubicBezTo>
              </a:path>
              <a:path w="1567" h="785">
                <a:moveTo>
                  <a:pt x="13223" y="8466"/>
                </a:moveTo>
                <a:cubicBezTo>
                  <a:pt x="13223" y="8526"/>
                  <a:pt x="13221" y="8558"/>
                  <a:pt x="13219" y="8618"/>
                </a:cubicBezTo>
                <a:cubicBezTo>
                  <a:pt x="13214" y="8757"/>
                  <a:pt x="13223" y="8897"/>
                  <a:pt x="13218" y="9036"/>
                </a:cubicBezTo>
                <a:cubicBezTo>
                  <a:pt x="13213" y="9073"/>
                  <a:pt x="13210" y="9083"/>
                  <a:pt x="13214" y="9107"/>
                </a:cubicBezTo>
                <a:cubicBezTo>
                  <a:pt x="13181" y="9067"/>
                  <a:pt x="13169" y="9011"/>
                  <a:pt x="13152" y="8960"/>
                </a:cubicBezTo>
                <a:cubicBezTo>
                  <a:pt x="13132" y="8900"/>
                  <a:pt x="13105" y="8835"/>
                  <a:pt x="13102" y="8771"/>
                </a:cubicBezTo>
                <a:cubicBezTo>
                  <a:pt x="13099" y="8710"/>
                  <a:pt x="13139" y="8696"/>
                  <a:pt x="13189" y="8680"/>
                </a:cubicBezTo>
                <a:cubicBezTo>
                  <a:pt x="13275" y="8652"/>
                  <a:pt x="13370" y="8643"/>
                  <a:pt x="13459" y="8628"/>
                </a:cubicBezTo>
                <a:cubicBezTo>
                  <a:pt x="13534" y="8616"/>
                  <a:pt x="13609" y="8610"/>
                  <a:pt x="13685" y="860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5051520" y="3046320"/>
            <a:ext cx="431640" cy="260280"/>
          </a:xfrm>
          <a:custGeom>
            <a:avLst/>
            <a:gdLst/>
            <a:ahLst/>
            <a:rect l="l" t="t" r="r" b="b"/>
            <a:pathLst>
              <a:path w="1200" h="721">
                <a:moveTo>
                  <a:pt x="14047" y="8799"/>
                </a:moveTo>
                <a:cubicBezTo>
                  <a:pt x="14023" y="8789"/>
                  <a:pt x="14035" y="8860"/>
                  <a:pt x="14035" y="8892"/>
                </a:cubicBezTo>
                <a:cubicBezTo>
                  <a:pt x="14036" y="8966"/>
                  <a:pt x="14040" y="9040"/>
                  <a:pt x="14047" y="9114"/>
                </a:cubicBezTo>
                <a:cubicBezTo>
                  <a:pt x="14051" y="9151"/>
                  <a:pt x="14051" y="9160"/>
                  <a:pt x="14057" y="9183"/>
                </a:cubicBezTo>
                <a:cubicBezTo>
                  <a:pt x="14091" y="9167"/>
                  <a:pt x="14095" y="9109"/>
                  <a:pt x="14106" y="9069"/>
                </a:cubicBezTo>
                <a:cubicBezTo>
                  <a:pt x="14127" y="8994"/>
                  <a:pt x="14153" y="8920"/>
                  <a:pt x="14190" y="8852"/>
                </a:cubicBezTo>
                <a:cubicBezTo>
                  <a:pt x="14211" y="8813"/>
                  <a:pt x="14218" y="8808"/>
                  <a:pt x="14256" y="8800"/>
                </a:cubicBezTo>
                <a:cubicBezTo>
                  <a:pt x="14290" y="8852"/>
                  <a:pt x="14295" y="8901"/>
                  <a:pt x="14313" y="8960"/>
                </a:cubicBezTo>
                <a:cubicBezTo>
                  <a:pt x="14326" y="9003"/>
                  <a:pt x="14347" y="9088"/>
                  <a:pt x="14390" y="9115"/>
                </a:cubicBezTo>
                <a:cubicBezTo>
                  <a:pt x="14398" y="9117"/>
                  <a:pt x="14406" y="9118"/>
                  <a:pt x="14414" y="9120"/>
                </a:cubicBezTo>
              </a:path>
              <a:path w="1200" h="721">
                <a:moveTo>
                  <a:pt x="14631" y="8822"/>
                </a:moveTo>
                <a:cubicBezTo>
                  <a:pt x="14622" y="8789"/>
                  <a:pt x="14611" y="8801"/>
                  <a:pt x="14589" y="8815"/>
                </a:cubicBezTo>
                <a:cubicBezTo>
                  <a:pt x="14544" y="8842"/>
                  <a:pt x="14517" y="8883"/>
                  <a:pt x="14494" y="8930"/>
                </a:cubicBezTo>
                <a:cubicBezTo>
                  <a:pt x="14474" y="8970"/>
                  <a:pt x="14455" y="9026"/>
                  <a:pt x="14469" y="9071"/>
                </a:cubicBezTo>
                <a:cubicBezTo>
                  <a:pt x="14483" y="9115"/>
                  <a:pt x="14533" y="9112"/>
                  <a:pt x="14569" y="9102"/>
                </a:cubicBezTo>
                <a:cubicBezTo>
                  <a:pt x="14624" y="9087"/>
                  <a:pt x="14677" y="9051"/>
                  <a:pt x="14718" y="9013"/>
                </a:cubicBezTo>
                <a:cubicBezTo>
                  <a:pt x="14759" y="8975"/>
                  <a:pt x="14778" y="8941"/>
                  <a:pt x="14787" y="8888"/>
                </a:cubicBezTo>
                <a:cubicBezTo>
                  <a:pt x="14794" y="8847"/>
                  <a:pt x="14789" y="8808"/>
                  <a:pt x="14785" y="8766"/>
                </a:cubicBezTo>
              </a:path>
              <a:path w="1200" h="721">
                <a:moveTo>
                  <a:pt x="14868" y="8463"/>
                </a:moveTo>
                <a:cubicBezTo>
                  <a:pt x="14874" y="8516"/>
                  <a:pt x="14874" y="8571"/>
                  <a:pt x="14874" y="8624"/>
                </a:cubicBezTo>
                <a:cubicBezTo>
                  <a:pt x="14875" y="8715"/>
                  <a:pt x="14889" y="8798"/>
                  <a:pt x="14904" y="8887"/>
                </a:cubicBezTo>
                <a:cubicBezTo>
                  <a:pt x="14911" y="8935"/>
                  <a:pt x="14913" y="8948"/>
                  <a:pt x="14922" y="8978"/>
                </a:cubicBezTo>
              </a:path>
              <a:path w="1200" h="721">
                <a:moveTo>
                  <a:pt x="14767" y="8676"/>
                </a:moveTo>
                <a:cubicBezTo>
                  <a:pt x="14805" y="8656"/>
                  <a:pt x="14851" y="8642"/>
                  <a:pt x="14894" y="8637"/>
                </a:cubicBezTo>
                <a:cubicBezTo>
                  <a:pt x="14978" y="8627"/>
                  <a:pt x="15063" y="8625"/>
                  <a:pt x="15147" y="8637"/>
                </a:cubicBezTo>
                <a:cubicBezTo>
                  <a:pt x="15176" y="8641"/>
                  <a:pt x="15202" y="8647"/>
                  <a:pt x="15229" y="865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697360" y="2994120"/>
            <a:ext cx="758880" cy="339480"/>
          </a:xfrm>
          <a:custGeom>
            <a:avLst/>
            <a:gdLst/>
            <a:ahLst/>
            <a:rect l="l" t="t" r="r" b="b"/>
            <a:pathLst>
              <a:path w="2109" h="944">
                <a:moveTo>
                  <a:pt x="15908" y="8495"/>
                </a:moveTo>
                <a:cubicBezTo>
                  <a:pt x="15893" y="8469"/>
                  <a:pt x="15882" y="8443"/>
                  <a:pt x="15853" y="8433"/>
                </a:cubicBezTo>
                <a:cubicBezTo>
                  <a:pt x="15847" y="8434"/>
                  <a:pt x="15842" y="8434"/>
                  <a:pt x="15836" y="8435"/>
                </a:cubicBezTo>
                <a:cubicBezTo>
                  <a:pt x="15825" y="8483"/>
                  <a:pt x="15825" y="8526"/>
                  <a:pt x="15829" y="8576"/>
                </a:cubicBezTo>
                <a:cubicBezTo>
                  <a:pt x="15837" y="8683"/>
                  <a:pt x="15849" y="8795"/>
                  <a:pt x="15874" y="8900"/>
                </a:cubicBezTo>
                <a:cubicBezTo>
                  <a:pt x="15876" y="8906"/>
                  <a:pt x="15877" y="8911"/>
                  <a:pt x="15879" y="8917"/>
                </a:cubicBezTo>
                <a:cubicBezTo>
                  <a:pt x="15906" y="8882"/>
                  <a:pt x="15918" y="8842"/>
                  <a:pt x="15941" y="8804"/>
                </a:cubicBezTo>
                <a:cubicBezTo>
                  <a:pt x="15967" y="8762"/>
                  <a:pt x="16005" y="8713"/>
                  <a:pt x="16056" y="8703"/>
                </a:cubicBezTo>
                <a:cubicBezTo>
                  <a:pt x="16105" y="8693"/>
                  <a:pt x="16131" y="8748"/>
                  <a:pt x="16140" y="8786"/>
                </a:cubicBezTo>
                <a:cubicBezTo>
                  <a:pt x="16155" y="8846"/>
                  <a:pt x="16143" y="8913"/>
                  <a:pt x="16106" y="8963"/>
                </a:cubicBezTo>
                <a:cubicBezTo>
                  <a:pt x="16057" y="9029"/>
                  <a:pt x="15975" y="9036"/>
                  <a:pt x="15902" y="9016"/>
                </a:cubicBezTo>
                <a:cubicBezTo>
                  <a:pt x="15868" y="9007"/>
                  <a:pt x="15815" y="8981"/>
                  <a:pt x="15828" y="8935"/>
                </a:cubicBezTo>
                <a:cubicBezTo>
                  <a:pt x="15839" y="8898"/>
                  <a:pt x="15881" y="8874"/>
                  <a:pt x="15908" y="8852"/>
                </a:cubicBezTo>
              </a:path>
              <a:path w="2109" h="944">
                <a:moveTo>
                  <a:pt x="16240" y="8786"/>
                </a:moveTo>
                <a:cubicBezTo>
                  <a:pt x="16275" y="8812"/>
                  <a:pt x="16282" y="8842"/>
                  <a:pt x="16282" y="8886"/>
                </a:cubicBezTo>
                <a:cubicBezTo>
                  <a:pt x="16283" y="8932"/>
                  <a:pt x="16277" y="8978"/>
                  <a:pt x="16282" y="9024"/>
                </a:cubicBezTo>
                <a:cubicBezTo>
                  <a:pt x="16287" y="9045"/>
                  <a:pt x="16287" y="9051"/>
                  <a:pt x="16295" y="9063"/>
                </a:cubicBezTo>
                <a:cubicBezTo>
                  <a:pt x="16329" y="9059"/>
                  <a:pt x="16343" y="9034"/>
                  <a:pt x="16361" y="9004"/>
                </a:cubicBezTo>
                <a:cubicBezTo>
                  <a:pt x="16387" y="8959"/>
                  <a:pt x="16404" y="8909"/>
                  <a:pt x="16417" y="8858"/>
                </a:cubicBezTo>
                <a:cubicBezTo>
                  <a:pt x="16425" y="8825"/>
                  <a:pt x="16424" y="8791"/>
                  <a:pt x="16417" y="8758"/>
                </a:cubicBezTo>
                <a:cubicBezTo>
                  <a:pt x="16412" y="8740"/>
                  <a:pt x="16411" y="8734"/>
                  <a:pt x="16408" y="8722"/>
                </a:cubicBezTo>
              </a:path>
              <a:path w="2109" h="944">
                <a:moveTo>
                  <a:pt x="16562" y="8316"/>
                </a:moveTo>
                <a:cubicBezTo>
                  <a:pt x="16577" y="8381"/>
                  <a:pt x="16566" y="8438"/>
                  <a:pt x="16564" y="8504"/>
                </a:cubicBezTo>
                <a:cubicBezTo>
                  <a:pt x="16559" y="8633"/>
                  <a:pt x="16566" y="8761"/>
                  <a:pt x="16569" y="8890"/>
                </a:cubicBezTo>
                <a:cubicBezTo>
                  <a:pt x="16570" y="8931"/>
                  <a:pt x="16569" y="8970"/>
                  <a:pt x="16573" y="9011"/>
                </a:cubicBezTo>
              </a:path>
              <a:path w="2109" h="944">
                <a:moveTo>
                  <a:pt x="16364" y="8641"/>
                </a:moveTo>
                <a:cubicBezTo>
                  <a:pt x="16348" y="8627"/>
                  <a:pt x="16343" y="8624"/>
                  <a:pt x="16335" y="8613"/>
                </a:cubicBezTo>
                <a:cubicBezTo>
                  <a:pt x="16379" y="8596"/>
                  <a:pt x="16422" y="8598"/>
                  <a:pt x="16469" y="8597"/>
                </a:cubicBezTo>
                <a:cubicBezTo>
                  <a:pt x="16555" y="8596"/>
                  <a:pt x="16640" y="8594"/>
                  <a:pt x="16726" y="8586"/>
                </a:cubicBezTo>
                <a:cubicBezTo>
                  <a:pt x="16777" y="8581"/>
                  <a:pt x="16820" y="8569"/>
                  <a:pt x="16868" y="8553"/>
                </a:cubicBezTo>
              </a:path>
              <a:path w="2109" h="944">
                <a:moveTo>
                  <a:pt x="16940" y="8321"/>
                </a:moveTo>
                <a:cubicBezTo>
                  <a:pt x="16912" y="8360"/>
                  <a:pt x="16895" y="8412"/>
                  <a:pt x="16888" y="8460"/>
                </a:cubicBezTo>
                <a:cubicBezTo>
                  <a:pt x="16874" y="8550"/>
                  <a:pt x="16869" y="8644"/>
                  <a:pt x="16866" y="8735"/>
                </a:cubicBezTo>
                <a:cubicBezTo>
                  <a:pt x="16865" y="8768"/>
                  <a:pt x="16850" y="8862"/>
                  <a:pt x="16880" y="8890"/>
                </a:cubicBezTo>
                <a:cubicBezTo>
                  <a:pt x="16884" y="8890"/>
                  <a:pt x="16887" y="8890"/>
                  <a:pt x="16891" y="8890"/>
                </a:cubicBezTo>
                <a:cubicBezTo>
                  <a:pt x="16918" y="8858"/>
                  <a:pt x="16938" y="8823"/>
                  <a:pt x="16962" y="8790"/>
                </a:cubicBezTo>
                <a:cubicBezTo>
                  <a:pt x="16979" y="8766"/>
                  <a:pt x="17008" y="8722"/>
                  <a:pt x="17044" y="8735"/>
                </a:cubicBezTo>
                <a:cubicBezTo>
                  <a:pt x="17081" y="8748"/>
                  <a:pt x="17101" y="8799"/>
                  <a:pt x="17119" y="8829"/>
                </a:cubicBezTo>
                <a:cubicBezTo>
                  <a:pt x="17141" y="8866"/>
                  <a:pt x="17157" y="8907"/>
                  <a:pt x="17195" y="8930"/>
                </a:cubicBezTo>
                <a:cubicBezTo>
                  <a:pt x="17200" y="8932"/>
                  <a:pt x="17205" y="8934"/>
                  <a:pt x="17210" y="8936"/>
                </a:cubicBezTo>
              </a:path>
              <a:path w="2109" h="944">
                <a:moveTo>
                  <a:pt x="16422" y="8813"/>
                </a:moveTo>
                <a:cubicBezTo>
                  <a:pt x="16392" y="8806"/>
                  <a:pt x="16359" y="8803"/>
                  <a:pt x="16327" y="8804"/>
                </a:cubicBezTo>
                <a:cubicBezTo>
                  <a:pt x="16313" y="8804"/>
                  <a:pt x="16254" y="8810"/>
                  <a:pt x="16245" y="8790"/>
                </a:cubicBezTo>
                <a:cubicBezTo>
                  <a:pt x="16248" y="8776"/>
                  <a:pt x="16250" y="8771"/>
                  <a:pt x="16262" y="8766"/>
                </a:cubicBezTo>
              </a:path>
              <a:path w="2109" h="944">
                <a:moveTo>
                  <a:pt x="17370" y="9008"/>
                </a:moveTo>
                <a:cubicBezTo>
                  <a:pt x="17377" y="8983"/>
                  <a:pt x="17356" y="8973"/>
                  <a:pt x="17363" y="8947"/>
                </a:cubicBezTo>
                <a:cubicBezTo>
                  <a:pt x="17369" y="8923"/>
                  <a:pt x="17388" y="8902"/>
                  <a:pt x="17402" y="8883"/>
                </a:cubicBezTo>
              </a:path>
              <a:path w="2109" h="944">
                <a:moveTo>
                  <a:pt x="17684" y="8456"/>
                </a:moveTo>
                <a:cubicBezTo>
                  <a:pt x="17728" y="8453"/>
                  <a:pt x="17740" y="8481"/>
                  <a:pt x="17760" y="8520"/>
                </a:cubicBezTo>
                <a:cubicBezTo>
                  <a:pt x="17812" y="8621"/>
                  <a:pt x="17840" y="8731"/>
                  <a:pt x="17867" y="8841"/>
                </a:cubicBezTo>
                <a:cubicBezTo>
                  <a:pt x="17894" y="8948"/>
                  <a:pt x="17909" y="9057"/>
                  <a:pt x="17924" y="9166"/>
                </a:cubicBezTo>
                <a:cubicBezTo>
                  <a:pt x="17928" y="9197"/>
                  <a:pt x="17929" y="9229"/>
                  <a:pt x="17931" y="925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2370240" y="364500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6582" y="10125"/>
                </a:moveTo>
                <a:lnTo>
                  <a:pt x="6582" y="10125"/>
                </a:lnTo>
                <a:lnTo>
                  <a:pt x="6582" y="10125"/>
                </a:lnTo>
                <a:lnTo>
                  <a:pt x="6582" y="10125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1181160" y="3429000"/>
            <a:ext cx="1720800" cy="501480"/>
          </a:xfrm>
          <a:custGeom>
            <a:avLst/>
            <a:gdLst/>
            <a:ahLst/>
            <a:rect l="l" t="t" r="r" b="b"/>
            <a:pathLst>
              <a:path w="4781" h="1395">
                <a:moveTo>
                  <a:pt x="3312" y="10696"/>
                </a:moveTo>
                <a:cubicBezTo>
                  <a:pt x="3288" y="10680"/>
                  <a:pt x="3293" y="10697"/>
                  <a:pt x="3286" y="10658"/>
                </a:cubicBezTo>
                <a:cubicBezTo>
                  <a:pt x="3275" y="10599"/>
                  <a:pt x="3294" y="10525"/>
                  <a:pt x="3304" y="10467"/>
                </a:cubicBezTo>
                <a:cubicBezTo>
                  <a:pt x="3331" y="10305"/>
                  <a:pt x="3389" y="10152"/>
                  <a:pt x="3451" y="10001"/>
                </a:cubicBezTo>
                <a:cubicBezTo>
                  <a:pt x="3482" y="9924"/>
                  <a:pt x="3508" y="9853"/>
                  <a:pt x="3576" y="9806"/>
                </a:cubicBezTo>
                <a:cubicBezTo>
                  <a:pt x="3614" y="9870"/>
                  <a:pt x="3609" y="9941"/>
                  <a:pt x="3613" y="10016"/>
                </a:cubicBezTo>
                <a:cubicBezTo>
                  <a:pt x="3619" y="10138"/>
                  <a:pt x="3625" y="10261"/>
                  <a:pt x="3625" y="10383"/>
                </a:cubicBezTo>
                <a:cubicBezTo>
                  <a:pt x="3625" y="10440"/>
                  <a:pt x="3616" y="10494"/>
                  <a:pt x="3604" y="10522"/>
                </a:cubicBezTo>
              </a:path>
              <a:path w="4781" h="1395">
                <a:moveTo>
                  <a:pt x="3417" y="10302"/>
                </a:moveTo>
                <a:cubicBezTo>
                  <a:pt x="3410" y="10300"/>
                  <a:pt x="3403" y="10297"/>
                  <a:pt x="3396" y="10295"/>
                </a:cubicBezTo>
                <a:cubicBezTo>
                  <a:pt x="3360" y="10299"/>
                  <a:pt x="3475" y="10289"/>
                  <a:pt x="3479" y="10289"/>
                </a:cubicBezTo>
                <a:cubicBezTo>
                  <a:pt x="3561" y="10282"/>
                  <a:pt x="3643" y="10270"/>
                  <a:pt x="3725" y="10262"/>
                </a:cubicBezTo>
                <a:cubicBezTo>
                  <a:pt x="3776" y="10257"/>
                  <a:pt x="3790" y="10256"/>
                  <a:pt x="3822" y="10251"/>
                </a:cubicBezTo>
              </a:path>
              <a:path w="4781" h="1395">
                <a:moveTo>
                  <a:pt x="3875" y="10448"/>
                </a:moveTo>
                <a:cubicBezTo>
                  <a:pt x="3869" y="10508"/>
                  <a:pt x="3861" y="10567"/>
                  <a:pt x="3870" y="10627"/>
                </a:cubicBezTo>
                <a:cubicBezTo>
                  <a:pt x="3876" y="10670"/>
                  <a:pt x="3888" y="10694"/>
                  <a:pt x="3923" y="10717"/>
                </a:cubicBezTo>
              </a:path>
              <a:path w="4781" h="1395">
                <a:moveTo>
                  <a:pt x="4435" y="10080"/>
                </a:moveTo>
                <a:cubicBezTo>
                  <a:pt x="4423" y="10079"/>
                  <a:pt x="4418" y="10079"/>
                  <a:pt x="4410" y="10080"/>
                </a:cubicBezTo>
                <a:cubicBezTo>
                  <a:pt x="4449" y="10071"/>
                  <a:pt x="4493" y="10066"/>
                  <a:pt x="4533" y="10065"/>
                </a:cubicBezTo>
                <a:cubicBezTo>
                  <a:pt x="4587" y="10064"/>
                  <a:pt x="4657" y="10060"/>
                  <a:pt x="4709" y="10078"/>
                </a:cubicBezTo>
                <a:cubicBezTo>
                  <a:pt x="4714" y="10081"/>
                  <a:pt x="4720" y="10085"/>
                  <a:pt x="4725" y="10088"/>
                </a:cubicBezTo>
              </a:path>
              <a:path w="4781" h="1395">
                <a:moveTo>
                  <a:pt x="4474" y="10307"/>
                </a:moveTo>
                <a:cubicBezTo>
                  <a:pt x="4459" y="10320"/>
                  <a:pt x="4455" y="10322"/>
                  <a:pt x="4448" y="10331"/>
                </a:cubicBezTo>
                <a:cubicBezTo>
                  <a:pt x="4498" y="10327"/>
                  <a:pt x="4548" y="10307"/>
                  <a:pt x="4601" y="10303"/>
                </a:cubicBezTo>
                <a:cubicBezTo>
                  <a:pt x="4653" y="10299"/>
                  <a:pt x="4706" y="10302"/>
                  <a:pt x="4758" y="10305"/>
                </a:cubicBezTo>
              </a:path>
              <a:path w="4781" h="1395">
                <a:moveTo>
                  <a:pt x="5472" y="9886"/>
                </a:moveTo>
                <a:cubicBezTo>
                  <a:pt x="5469" y="9862"/>
                  <a:pt x="5464" y="9848"/>
                  <a:pt x="5456" y="9826"/>
                </a:cubicBezTo>
                <a:cubicBezTo>
                  <a:pt x="5435" y="9887"/>
                  <a:pt x="5437" y="9951"/>
                  <a:pt x="5440" y="10018"/>
                </a:cubicBezTo>
                <a:cubicBezTo>
                  <a:pt x="5445" y="10122"/>
                  <a:pt x="5451" y="10227"/>
                  <a:pt x="5461" y="10331"/>
                </a:cubicBezTo>
                <a:cubicBezTo>
                  <a:pt x="5465" y="10370"/>
                  <a:pt x="5471" y="10409"/>
                  <a:pt x="5479" y="10447"/>
                </a:cubicBezTo>
                <a:cubicBezTo>
                  <a:pt x="5504" y="10395"/>
                  <a:pt x="5519" y="10339"/>
                  <a:pt x="5541" y="10286"/>
                </a:cubicBezTo>
                <a:cubicBezTo>
                  <a:pt x="5558" y="10246"/>
                  <a:pt x="5585" y="10162"/>
                  <a:pt x="5634" y="10148"/>
                </a:cubicBezTo>
                <a:cubicBezTo>
                  <a:pt x="5640" y="10149"/>
                  <a:pt x="5647" y="10151"/>
                  <a:pt x="5653" y="10152"/>
                </a:cubicBezTo>
                <a:cubicBezTo>
                  <a:pt x="5676" y="10215"/>
                  <a:pt x="5673" y="10271"/>
                  <a:pt x="5657" y="10338"/>
                </a:cubicBezTo>
                <a:cubicBezTo>
                  <a:pt x="5640" y="10410"/>
                  <a:pt x="5604" y="10495"/>
                  <a:pt x="5547" y="10544"/>
                </a:cubicBezTo>
                <a:cubicBezTo>
                  <a:pt x="5521" y="10558"/>
                  <a:pt x="5516" y="10562"/>
                  <a:pt x="5499" y="10566"/>
                </a:cubicBezTo>
                <a:cubicBezTo>
                  <a:pt x="5472" y="10516"/>
                  <a:pt x="5511" y="10471"/>
                  <a:pt x="5536" y="10422"/>
                </a:cubicBezTo>
              </a:path>
              <a:path w="4781" h="1395">
                <a:moveTo>
                  <a:pt x="5892" y="10234"/>
                </a:moveTo>
                <a:cubicBezTo>
                  <a:pt x="5885" y="10292"/>
                  <a:pt x="5872" y="10349"/>
                  <a:pt x="5862" y="10406"/>
                </a:cubicBezTo>
                <a:cubicBezTo>
                  <a:pt x="5856" y="10441"/>
                  <a:pt x="5848" y="10493"/>
                  <a:pt x="5869" y="10523"/>
                </a:cubicBezTo>
                <a:cubicBezTo>
                  <a:pt x="5881" y="10541"/>
                  <a:pt x="5891" y="10521"/>
                  <a:pt x="5898" y="10512"/>
                </a:cubicBezTo>
              </a:path>
              <a:path w="4781" h="1395">
                <a:moveTo>
                  <a:pt x="5974" y="9686"/>
                </a:moveTo>
                <a:cubicBezTo>
                  <a:pt x="5979" y="9644"/>
                  <a:pt x="5976" y="9569"/>
                  <a:pt x="5993" y="9530"/>
                </a:cubicBezTo>
                <a:cubicBezTo>
                  <a:pt x="5997" y="9528"/>
                  <a:pt x="6001" y="9525"/>
                  <a:pt x="6005" y="9523"/>
                </a:cubicBezTo>
                <a:cubicBezTo>
                  <a:pt x="6035" y="9594"/>
                  <a:pt x="6046" y="9668"/>
                  <a:pt x="6057" y="9745"/>
                </a:cubicBezTo>
                <a:cubicBezTo>
                  <a:pt x="6083" y="9918"/>
                  <a:pt x="6098" y="10095"/>
                  <a:pt x="6099" y="10270"/>
                </a:cubicBezTo>
                <a:cubicBezTo>
                  <a:pt x="6100" y="10354"/>
                  <a:pt x="6100" y="10436"/>
                  <a:pt x="6087" y="10519"/>
                </a:cubicBezTo>
              </a:path>
              <a:path w="4781" h="1395">
                <a:moveTo>
                  <a:pt x="5953" y="10146"/>
                </a:moveTo>
                <a:cubicBezTo>
                  <a:pt x="5979" y="10088"/>
                  <a:pt x="6014" y="10069"/>
                  <a:pt x="6077" y="10050"/>
                </a:cubicBezTo>
                <a:cubicBezTo>
                  <a:pt x="6171" y="10021"/>
                  <a:pt x="6274" y="10007"/>
                  <a:pt x="6371" y="9999"/>
                </a:cubicBezTo>
                <a:cubicBezTo>
                  <a:pt x="6394" y="9998"/>
                  <a:pt x="6418" y="9996"/>
                  <a:pt x="6441" y="9995"/>
                </a:cubicBezTo>
              </a:path>
              <a:path w="4781" h="1395">
                <a:moveTo>
                  <a:pt x="6645" y="10067"/>
                </a:moveTo>
                <a:cubicBezTo>
                  <a:pt x="6615" y="10069"/>
                  <a:pt x="6608" y="10080"/>
                  <a:pt x="6585" y="10104"/>
                </a:cubicBezTo>
                <a:cubicBezTo>
                  <a:pt x="6557" y="10134"/>
                  <a:pt x="6530" y="10165"/>
                  <a:pt x="6511" y="10201"/>
                </a:cubicBezTo>
                <a:cubicBezTo>
                  <a:pt x="6500" y="10221"/>
                  <a:pt x="6486" y="10256"/>
                  <a:pt x="6519" y="10264"/>
                </a:cubicBezTo>
                <a:cubicBezTo>
                  <a:pt x="6572" y="10277"/>
                  <a:pt x="6631" y="10243"/>
                  <a:pt x="6679" y="10280"/>
                </a:cubicBezTo>
                <a:cubicBezTo>
                  <a:pt x="6714" y="10307"/>
                  <a:pt x="6702" y="10355"/>
                  <a:pt x="6685" y="10389"/>
                </a:cubicBezTo>
                <a:cubicBezTo>
                  <a:pt x="6661" y="10438"/>
                  <a:pt x="6623" y="10474"/>
                  <a:pt x="6575" y="10496"/>
                </a:cubicBezTo>
                <a:cubicBezTo>
                  <a:pt x="6540" y="10512"/>
                  <a:pt x="6502" y="10511"/>
                  <a:pt x="6486" y="10470"/>
                </a:cubicBezTo>
                <a:cubicBezTo>
                  <a:pt x="6484" y="10460"/>
                  <a:pt x="6482" y="10451"/>
                  <a:pt x="6480" y="10441"/>
                </a:cubicBezTo>
              </a:path>
              <a:path w="4781" h="1395">
                <a:moveTo>
                  <a:pt x="6812" y="9721"/>
                </a:moveTo>
                <a:cubicBezTo>
                  <a:pt x="6778" y="9720"/>
                  <a:pt x="6787" y="9731"/>
                  <a:pt x="6777" y="9779"/>
                </a:cubicBezTo>
                <a:cubicBezTo>
                  <a:pt x="6757" y="9875"/>
                  <a:pt x="6772" y="9975"/>
                  <a:pt x="6781" y="10072"/>
                </a:cubicBezTo>
                <a:cubicBezTo>
                  <a:pt x="6791" y="10175"/>
                  <a:pt x="6803" y="10277"/>
                  <a:pt x="6824" y="10378"/>
                </a:cubicBezTo>
                <a:cubicBezTo>
                  <a:pt x="6828" y="10399"/>
                  <a:pt x="6834" y="10463"/>
                  <a:pt x="6843" y="10409"/>
                </a:cubicBezTo>
              </a:path>
              <a:path w="4781" h="1395">
                <a:moveTo>
                  <a:pt x="6724" y="10097"/>
                </a:moveTo>
                <a:cubicBezTo>
                  <a:pt x="6734" y="10056"/>
                  <a:pt x="6757" y="10061"/>
                  <a:pt x="6797" y="10052"/>
                </a:cubicBezTo>
                <a:cubicBezTo>
                  <a:pt x="6861" y="10038"/>
                  <a:pt x="6924" y="10027"/>
                  <a:pt x="6989" y="10020"/>
                </a:cubicBezTo>
                <a:cubicBezTo>
                  <a:pt x="7028" y="10016"/>
                  <a:pt x="7040" y="10015"/>
                  <a:pt x="7066" y="10020"/>
                </a:cubicBezTo>
              </a:path>
              <a:path w="4781" h="1395">
                <a:moveTo>
                  <a:pt x="7069" y="10200"/>
                </a:moveTo>
                <a:cubicBezTo>
                  <a:pt x="7061" y="10268"/>
                  <a:pt x="7054" y="10334"/>
                  <a:pt x="7052" y="10403"/>
                </a:cubicBezTo>
                <a:cubicBezTo>
                  <a:pt x="7051" y="10431"/>
                  <a:pt x="7050" y="10439"/>
                  <a:pt x="7059" y="10456"/>
                </a:cubicBezTo>
                <a:cubicBezTo>
                  <a:pt x="7092" y="10443"/>
                  <a:pt x="7094" y="10397"/>
                  <a:pt x="7105" y="10361"/>
                </a:cubicBezTo>
                <a:cubicBezTo>
                  <a:pt x="7131" y="10275"/>
                  <a:pt x="7153" y="10179"/>
                  <a:pt x="7198" y="10100"/>
                </a:cubicBezTo>
                <a:cubicBezTo>
                  <a:pt x="7226" y="10051"/>
                  <a:pt x="7264" y="10028"/>
                  <a:pt x="7315" y="10013"/>
                </a:cubicBezTo>
              </a:path>
              <a:path w="4781" h="1395">
                <a:moveTo>
                  <a:pt x="7435" y="10155"/>
                </a:moveTo>
                <a:cubicBezTo>
                  <a:pt x="7423" y="10216"/>
                  <a:pt x="7419" y="10269"/>
                  <a:pt x="7418" y="10331"/>
                </a:cubicBezTo>
                <a:cubicBezTo>
                  <a:pt x="7417" y="10375"/>
                  <a:pt x="7416" y="10404"/>
                  <a:pt x="7432" y="10446"/>
                </a:cubicBezTo>
                <a:cubicBezTo>
                  <a:pt x="7463" y="10441"/>
                  <a:pt x="7461" y="10397"/>
                  <a:pt x="7466" y="10363"/>
                </a:cubicBezTo>
                <a:cubicBezTo>
                  <a:pt x="7478" y="10291"/>
                  <a:pt x="7480" y="10217"/>
                  <a:pt x="7485" y="10144"/>
                </a:cubicBezTo>
              </a:path>
              <a:path w="4781" h="1395">
                <a:moveTo>
                  <a:pt x="7577" y="10251"/>
                </a:moveTo>
                <a:cubicBezTo>
                  <a:pt x="7575" y="10288"/>
                  <a:pt x="7564" y="10339"/>
                  <a:pt x="7578" y="10375"/>
                </a:cubicBezTo>
                <a:cubicBezTo>
                  <a:pt x="7577" y="10387"/>
                  <a:pt x="7577" y="10391"/>
                  <a:pt x="7590" y="10391"/>
                </a:cubicBezTo>
                <a:cubicBezTo>
                  <a:pt x="7609" y="10360"/>
                  <a:pt x="7625" y="10329"/>
                  <a:pt x="7641" y="10295"/>
                </a:cubicBezTo>
                <a:cubicBezTo>
                  <a:pt x="7650" y="10277"/>
                  <a:pt x="7679" y="10198"/>
                  <a:pt x="7707" y="10200"/>
                </a:cubicBezTo>
                <a:cubicBezTo>
                  <a:pt x="7743" y="10203"/>
                  <a:pt x="7752" y="10240"/>
                  <a:pt x="7766" y="10269"/>
                </a:cubicBezTo>
                <a:cubicBezTo>
                  <a:pt x="7784" y="10307"/>
                  <a:pt x="7802" y="10352"/>
                  <a:pt x="7830" y="10384"/>
                </a:cubicBezTo>
                <a:cubicBezTo>
                  <a:pt x="7844" y="10395"/>
                  <a:pt x="7848" y="10399"/>
                  <a:pt x="7860" y="10400"/>
                </a:cubicBezTo>
                <a:cubicBezTo>
                  <a:pt x="7883" y="10382"/>
                  <a:pt x="7895" y="10371"/>
                  <a:pt x="7910" y="10344"/>
                </a:cubicBezTo>
                <a:cubicBezTo>
                  <a:pt x="7921" y="10324"/>
                  <a:pt x="7931" y="10304"/>
                  <a:pt x="7943" y="10286"/>
                </a:cubicBezTo>
                <a:cubicBezTo>
                  <a:pt x="7936" y="10312"/>
                  <a:pt x="7925" y="10337"/>
                  <a:pt x="7919" y="10362"/>
                </a:cubicBezTo>
                <a:cubicBezTo>
                  <a:pt x="7914" y="10385"/>
                  <a:pt x="7900" y="10425"/>
                  <a:pt x="7907" y="10449"/>
                </a:cubicBezTo>
                <a:cubicBezTo>
                  <a:pt x="7910" y="10464"/>
                  <a:pt x="7913" y="10469"/>
                  <a:pt x="7925" y="10473"/>
                </a:cubicBezTo>
                <a:cubicBezTo>
                  <a:pt x="7946" y="10459"/>
                  <a:pt x="7955" y="10449"/>
                  <a:pt x="7970" y="10426"/>
                </a:cubicBezTo>
                <a:cubicBezTo>
                  <a:pt x="7990" y="10396"/>
                  <a:pt x="8009" y="10356"/>
                  <a:pt x="8036" y="10332"/>
                </a:cubicBezTo>
                <a:cubicBezTo>
                  <a:pt x="8040" y="10331"/>
                  <a:pt x="8043" y="10331"/>
                  <a:pt x="8047" y="10330"/>
                </a:cubicBezTo>
                <a:cubicBezTo>
                  <a:pt x="8062" y="10379"/>
                  <a:pt x="8063" y="10424"/>
                  <a:pt x="8060" y="10476"/>
                </a:cubicBezTo>
                <a:cubicBezTo>
                  <a:pt x="8055" y="10556"/>
                  <a:pt x="8033" y="10633"/>
                  <a:pt x="8000" y="10706"/>
                </a:cubicBezTo>
                <a:cubicBezTo>
                  <a:pt x="7969" y="10776"/>
                  <a:pt x="7919" y="10842"/>
                  <a:pt x="7853" y="10883"/>
                </a:cubicBezTo>
                <a:cubicBezTo>
                  <a:pt x="7812" y="10909"/>
                  <a:pt x="7748" y="10933"/>
                  <a:pt x="7702" y="10904"/>
                </a:cubicBezTo>
                <a:cubicBezTo>
                  <a:pt x="7694" y="10896"/>
                  <a:pt x="7686" y="10888"/>
                  <a:pt x="7678" y="10880"/>
                </a:cubicBezTo>
              </a:path>
              <a:path w="4781" h="1395">
                <a:moveTo>
                  <a:pt x="5278" y="9759"/>
                </a:moveTo>
                <a:cubicBezTo>
                  <a:pt x="5260" y="9749"/>
                  <a:pt x="5255" y="9734"/>
                  <a:pt x="5221" y="9745"/>
                </a:cubicBezTo>
                <a:cubicBezTo>
                  <a:pt x="5187" y="9756"/>
                  <a:pt x="5142" y="9780"/>
                  <a:pt x="5115" y="9805"/>
                </a:cubicBezTo>
                <a:cubicBezTo>
                  <a:pt x="5091" y="9827"/>
                  <a:pt x="5079" y="9846"/>
                  <a:pt x="5099" y="9873"/>
                </a:cubicBezTo>
                <a:cubicBezTo>
                  <a:pt x="5118" y="9898"/>
                  <a:pt x="5157" y="9910"/>
                  <a:pt x="5180" y="9933"/>
                </a:cubicBezTo>
                <a:cubicBezTo>
                  <a:pt x="5223" y="9976"/>
                  <a:pt x="5216" y="10026"/>
                  <a:pt x="5201" y="10081"/>
                </a:cubicBezTo>
                <a:cubicBezTo>
                  <a:pt x="5192" y="10114"/>
                  <a:pt x="5153" y="10186"/>
                  <a:pt x="5171" y="10220"/>
                </a:cubicBezTo>
                <a:cubicBezTo>
                  <a:pt x="5186" y="10249"/>
                  <a:pt x="5218" y="10250"/>
                  <a:pt x="5240" y="10271"/>
                </a:cubicBezTo>
                <a:cubicBezTo>
                  <a:pt x="5266" y="10296"/>
                  <a:pt x="5265" y="10327"/>
                  <a:pt x="5258" y="10360"/>
                </a:cubicBezTo>
                <a:cubicBezTo>
                  <a:pt x="5249" y="10402"/>
                  <a:pt x="5226" y="10439"/>
                  <a:pt x="5205" y="10476"/>
                </a:cubicBezTo>
                <a:cubicBezTo>
                  <a:pt x="5192" y="10499"/>
                  <a:pt x="5171" y="10526"/>
                  <a:pt x="5182" y="10554"/>
                </a:cubicBezTo>
                <a:cubicBezTo>
                  <a:pt x="5195" y="10587"/>
                  <a:pt x="5240" y="10601"/>
                  <a:pt x="5271" y="10607"/>
                </a:cubicBezTo>
                <a:cubicBezTo>
                  <a:pt x="5307" y="10615"/>
                  <a:pt x="5334" y="10609"/>
                  <a:pt x="5369" y="1060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3129120" y="3483000"/>
            <a:ext cx="607680" cy="314280"/>
          </a:xfrm>
          <a:custGeom>
            <a:avLst/>
            <a:gdLst/>
            <a:ahLst/>
            <a:rect l="l" t="t" r="r" b="b"/>
            <a:pathLst>
              <a:path w="1688" h="871">
                <a:moveTo>
                  <a:pt x="8853" y="10078"/>
                </a:moveTo>
                <a:cubicBezTo>
                  <a:pt x="8859" y="10077"/>
                  <a:pt x="8864" y="10075"/>
                  <a:pt x="8870" y="10074"/>
                </a:cubicBezTo>
                <a:cubicBezTo>
                  <a:pt x="8846" y="10081"/>
                  <a:pt x="8828" y="10095"/>
                  <a:pt x="8806" y="10110"/>
                </a:cubicBezTo>
                <a:cubicBezTo>
                  <a:pt x="8774" y="10132"/>
                  <a:pt x="8741" y="10153"/>
                  <a:pt x="8713" y="10180"/>
                </a:cubicBezTo>
                <a:cubicBezTo>
                  <a:pt x="8701" y="10194"/>
                  <a:pt x="8698" y="10197"/>
                  <a:pt x="8692" y="10206"/>
                </a:cubicBezTo>
                <a:cubicBezTo>
                  <a:pt x="8725" y="10218"/>
                  <a:pt x="8759" y="10218"/>
                  <a:pt x="8794" y="10226"/>
                </a:cubicBezTo>
                <a:cubicBezTo>
                  <a:pt x="8874" y="10244"/>
                  <a:pt x="8945" y="10297"/>
                  <a:pt x="8959" y="10382"/>
                </a:cubicBezTo>
                <a:cubicBezTo>
                  <a:pt x="8968" y="10439"/>
                  <a:pt x="8942" y="10488"/>
                  <a:pt x="8895" y="10518"/>
                </a:cubicBezTo>
                <a:cubicBezTo>
                  <a:pt x="8862" y="10539"/>
                  <a:pt x="8794" y="10562"/>
                  <a:pt x="8756" y="10539"/>
                </a:cubicBezTo>
                <a:cubicBezTo>
                  <a:pt x="8704" y="10508"/>
                  <a:pt x="8747" y="10436"/>
                  <a:pt x="8762" y="10400"/>
                </a:cubicBezTo>
              </a:path>
              <a:path w="1688" h="871">
                <a:moveTo>
                  <a:pt x="9258" y="9823"/>
                </a:moveTo>
                <a:cubicBezTo>
                  <a:pt x="9241" y="9776"/>
                  <a:pt x="9234" y="9885"/>
                  <a:pt x="9234" y="9890"/>
                </a:cubicBezTo>
                <a:cubicBezTo>
                  <a:pt x="9224" y="9990"/>
                  <a:pt x="9224" y="10092"/>
                  <a:pt x="9228" y="10193"/>
                </a:cubicBezTo>
                <a:cubicBezTo>
                  <a:pt x="9231" y="10269"/>
                  <a:pt x="9233" y="10345"/>
                  <a:pt x="9241" y="10420"/>
                </a:cubicBezTo>
                <a:cubicBezTo>
                  <a:pt x="9242" y="10425"/>
                  <a:pt x="9242" y="10429"/>
                  <a:pt x="9243" y="10434"/>
                </a:cubicBezTo>
              </a:path>
              <a:path w="1688" h="871">
                <a:moveTo>
                  <a:pt x="9172" y="10118"/>
                </a:moveTo>
                <a:cubicBezTo>
                  <a:pt x="9179" y="10068"/>
                  <a:pt x="9181" y="10078"/>
                  <a:pt x="9229" y="10070"/>
                </a:cubicBezTo>
                <a:cubicBezTo>
                  <a:pt x="9271" y="10063"/>
                  <a:pt x="9312" y="10061"/>
                  <a:pt x="9355" y="10057"/>
                </a:cubicBezTo>
              </a:path>
              <a:path w="1688" h="871">
                <a:moveTo>
                  <a:pt x="9548" y="10086"/>
                </a:moveTo>
                <a:cubicBezTo>
                  <a:pt x="9535" y="10113"/>
                  <a:pt x="9526" y="10141"/>
                  <a:pt x="9514" y="10168"/>
                </a:cubicBezTo>
                <a:cubicBezTo>
                  <a:pt x="9503" y="10192"/>
                  <a:pt x="9493" y="10214"/>
                  <a:pt x="9504" y="10241"/>
                </a:cubicBezTo>
                <a:cubicBezTo>
                  <a:pt x="9511" y="10252"/>
                  <a:pt x="9513" y="10256"/>
                  <a:pt x="9522" y="10257"/>
                </a:cubicBezTo>
                <a:cubicBezTo>
                  <a:pt x="9551" y="10243"/>
                  <a:pt x="9574" y="10224"/>
                  <a:pt x="9596" y="10200"/>
                </a:cubicBezTo>
                <a:cubicBezTo>
                  <a:pt x="9620" y="10174"/>
                  <a:pt x="9636" y="10139"/>
                  <a:pt x="9662" y="10117"/>
                </a:cubicBezTo>
                <a:cubicBezTo>
                  <a:pt x="9665" y="10115"/>
                  <a:pt x="9669" y="10114"/>
                  <a:pt x="9672" y="10112"/>
                </a:cubicBezTo>
                <a:cubicBezTo>
                  <a:pt x="9682" y="10152"/>
                  <a:pt x="9681" y="10191"/>
                  <a:pt x="9682" y="10233"/>
                </a:cubicBezTo>
                <a:cubicBezTo>
                  <a:pt x="9683" y="10271"/>
                  <a:pt x="9677" y="10326"/>
                  <a:pt x="9694" y="10361"/>
                </a:cubicBezTo>
                <a:cubicBezTo>
                  <a:pt x="9698" y="10365"/>
                  <a:pt x="9701" y="10369"/>
                  <a:pt x="9705" y="10373"/>
                </a:cubicBezTo>
                <a:cubicBezTo>
                  <a:pt x="9730" y="10359"/>
                  <a:pt x="9743" y="10349"/>
                  <a:pt x="9759" y="10322"/>
                </a:cubicBezTo>
                <a:cubicBezTo>
                  <a:pt x="9774" y="10296"/>
                  <a:pt x="9789" y="10270"/>
                  <a:pt x="9805" y="10244"/>
                </a:cubicBezTo>
                <a:cubicBezTo>
                  <a:pt x="9821" y="10265"/>
                  <a:pt x="9817" y="10284"/>
                  <a:pt x="9820" y="10311"/>
                </a:cubicBezTo>
                <a:cubicBezTo>
                  <a:pt x="9823" y="10329"/>
                  <a:pt x="9825" y="10332"/>
                  <a:pt x="9824" y="10343"/>
                </a:cubicBezTo>
                <a:cubicBezTo>
                  <a:pt x="9841" y="10313"/>
                  <a:pt x="9843" y="10277"/>
                  <a:pt x="9853" y="10242"/>
                </a:cubicBezTo>
                <a:cubicBezTo>
                  <a:pt x="9865" y="10198"/>
                  <a:pt x="9889" y="10160"/>
                  <a:pt x="9926" y="10132"/>
                </a:cubicBezTo>
                <a:cubicBezTo>
                  <a:pt x="9950" y="10116"/>
                  <a:pt x="9958" y="10111"/>
                  <a:pt x="9976" y="10104"/>
                </a:cubicBezTo>
              </a:path>
              <a:path w="1688" h="871">
                <a:moveTo>
                  <a:pt x="10233" y="9675"/>
                </a:moveTo>
                <a:cubicBezTo>
                  <a:pt x="10230" y="9728"/>
                  <a:pt x="10224" y="9783"/>
                  <a:pt x="10223" y="9836"/>
                </a:cubicBezTo>
                <a:cubicBezTo>
                  <a:pt x="10219" y="9985"/>
                  <a:pt x="10235" y="10138"/>
                  <a:pt x="10220" y="10287"/>
                </a:cubicBezTo>
                <a:cubicBezTo>
                  <a:pt x="10218" y="10301"/>
                  <a:pt x="10215" y="10314"/>
                  <a:pt x="10213" y="10328"/>
                </a:cubicBezTo>
              </a:path>
              <a:path w="1688" h="871">
                <a:moveTo>
                  <a:pt x="10063" y="10063"/>
                </a:moveTo>
                <a:cubicBezTo>
                  <a:pt x="10097" y="10024"/>
                  <a:pt x="10124" y="10014"/>
                  <a:pt x="10178" y="10015"/>
                </a:cubicBezTo>
                <a:cubicBezTo>
                  <a:pt x="10246" y="10016"/>
                  <a:pt x="10312" y="10029"/>
                  <a:pt x="10379" y="1003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4000680" y="3429000"/>
            <a:ext cx="2495520" cy="422280"/>
          </a:xfrm>
          <a:custGeom>
            <a:avLst/>
            <a:gdLst/>
            <a:ahLst/>
            <a:rect l="l" t="t" r="r" b="b"/>
            <a:pathLst>
              <a:path w="6934" h="1175">
                <a:moveTo>
                  <a:pt x="11131" y="10168"/>
                </a:moveTo>
                <a:cubicBezTo>
                  <a:pt x="11114" y="10217"/>
                  <a:pt x="11113" y="10260"/>
                  <a:pt x="11114" y="10313"/>
                </a:cubicBezTo>
                <a:cubicBezTo>
                  <a:pt x="11115" y="10362"/>
                  <a:pt x="11118" y="10399"/>
                  <a:pt x="11145" y="10439"/>
                </a:cubicBezTo>
                <a:cubicBezTo>
                  <a:pt x="11190" y="10421"/>
                  <a:pt x="11212" y="10387"/>
                  <a:pt x="11238" y="10345"/>
                </a:cubicBezTo>
                <a:cubicBezTo>
                  <a:pt x="11271" y="10293"/>
                  <a:pt x="11297" y="10237"/>
                  <a:pt x="11329" y="10185"/>
                </a:cubicBezTo>
                <a:cubicBezTo>
                  <a:pt x="11341" y="10169"/>
                  <a:pt x="11342" y="10164"/>
                  <a:pt x="11354" y="10162"/>
                </a:cubicBezTo>
                <a:cubicBezTo>
                  <a:pt x="11368" y="10200"/>
                  <a:pt x="11373" y="10240"/>
                  <a:pt x="11388" y="10278"/>
                </a:cubicBezTo>
                <a:cubicBezTo>
                  <a:pt x="11397" y="10301"/>
                  <a:pt x="11416" y="10345"/>
                  <a:pt x="11450" y="10333"/>
                </a:cubicBezTo>
                <a:cubicBezTo>
                  <a:pt x="11488" y="10320"/>
                  <a:pt x="11512" y="10281"/>
                  <a:pt x="11534" y="10251"/>
                </a:cubicBezTo>
                <a:cubicBezTo>
                  <a:pt x="11557" y="10220"/>
                  <a:pt x="11564" y="10209"/>
                  <a:pt x="11578" y="10188"/>
                </a:cubicBezTo>
              </a:path>
              <a:path w="6934" h="1175">
                <a:moveTo>
                  <a:pt x="11726" y="10054"/>
                </a:moveTo>
                <a:cubicBezTo>
                  <a:pt x="11735" y="10093"/>
                  <a:pt x="11747" y="10133"/>
                  <a:pt x="11755" y="10173"/>
                </a:cubicBezTo>
                <a:cubicBezTo>
                  <a:pt x="11763" y="10216"/>
                  <a:pt x="11770" y="10267"/>
                  <a:pt x="11790" y="10307"/>
                </a:cubicBezTo>
                <a:cubicBezTo>
                  <a:pt x="11804" y="10336"/>
                  <a:pt x="11808" y="10335"/>
                  <a:pt x="11820" y="10317"/>
                </a:cubicBezTo>
              </a:path>
              <a:path w="6934" h="1175">
                <a:moveTo>
                  <a:pt x="11813" y="9734"/>
                </a:moveTo>
                <a:cubicBezTo>
                  <a:pt x="11821" y="9684"/>
                  <a:pt x="11828" y="9630"/>
                  <a:pt x="11847" y="9583"/>
                </a:cubicBezTo>
                <a:cubicBezTo>
                  <a:pt x="11860" y="9548"/>
                  <a:pt x="11871" y="9541"/>
                  <a:pt x="11893" y="9527"/>
                </a:cubicBezTo>
                <a:cubicBezTo>
                  <a:pt x="11896" y="9587"/>
                  <a:pt x="11892" y="9646"/>
                  <a:pt x="11892" y="9706"/>
                </a:cubicBezTo>
                <a:cubicBezTo>
                  <a:pt x="11892" y="9811"/>
                  <a:pt x="11893" y="9915"/>
                  <a:pt x="11900" y="10020"/>
                </a:cubicBezTo>
                <a:cubicBezTo>
                  <a:pt x="11906" y="10113"/>
                  <a:pt x="11922" y="10205"/>
                  <a:pt x="11931" y="10298"/>
                </a:cubicBezTo>
                <a:cubicBezTo>
                  <a:pt x="11934" y="10326"/>
                  <a:pt x="11936" y="10331"/>
                  <a:pt x="11934" y="10347"/>
                </a:cubicBezTo>
              </a:path>
              <a:path w="6934" h="1175">
                <a:moveTo>
                  <a:pt x="11833" y="9893"/>
                </a:moveTo>
                <a:cubicBezTo>
                  <a:pt x="11867" y="9870"/>
                  <a:pt x="11895" y="9862"/>
                  <a:pt x="11935" y="9850"/>
                </a:cubicBezTo>
                <a:cubicBezTo>
                  <a:pt x="11994" y="9833"/>
                  <a:pt x="12048" y="9818"/>
                  <a:pt x="12106" y="9798"/>
                </a:cubicBezTo>
              </a:path>
              <a:path w="6934" h="1175">
                <a:moveTo>
                  <a:pt x="12182" y="9758"/>
                </a:moveTo>
                <a:cubicBezTo>
                  <a:pt x="12187" y="9856"/>
                  <a:pt x="12194" y="9952"/>
                  <a:pt x="12205" y="10049"/>
                </a:cubicBezTo>
                <a:cubicBezTo>
                  <a:pt x="12212" y="10111"/>
                  <a:pt x="12213" y="10187"/>
                  <a:pt x="12234" y="10247"/>
                </a:cubicBezTo>
                <a:cubicBezTo>
                  <a:pt x="12237" y="10251"/>
                  <a:pt x="12239" y="10254"/>
                  <a:pt x="12242" y="10258"/>
                </a:cubicBezTo>
                <a:cubicBezTo>
                  <a:pt x="12265" y="10220"/>
                  <a:pt x="12281" y="10175"/>
                  <a:pt x="12308" y="10140"/>
                </a:cubicBezTo>
                <a:cubicBezTo>
                  <a:pt x="12335" y="10105"/>
                  <a:pt x="12367" y="10092"/>
                  <a:pt x="12399" y="10128"/>
                </a:cubicBezTo>
                <a:cubicBezTo>
                  <a:pt x="12456" y="10191"/>
                  <a:pt x="12478" y="10289"/>
                  <a:pt x="12518" y="10363"/>
                </a:cubicBezTo>
                <a:cubicBezTo>
                  <a:pt x="12525" y="10376"/>
                  <a:pt x="12533" y="10388"/>
                  <a:pt x="12540" y="10401"/>
                </a:cubicBezTo>
              </a:path>
              <a:path w="6934" h="1175">
                <a:moveTo>
                  <a:pt x="13172" y="9989"/>
                </a:moveTo>
                <a:cubicBezTo>
                  <a:pt x="13172" y="9984"/>
                  <a:pt x="13171" y="9979"/>
                  <a:pt x="13171" y="9974"/>
                </a:cubicBezTo>
                <a:cubicBezTo>
                  <a:pt x="13138" y="9978"/>
                  <a:pt x="13135" y="10018"/>
                  <a:pt x="13128" y="10053"/>
                </a:cubicBezTo>
                <a:cubicBezTo>
                  <a:pt x="13118" y="10105"/>
                  <a:pt x="13112" y="10170"/>
                  <a:pt x="13132" y="10221"/>
                </a:cubicBezTo>
                <a:cubicBezTo>
                  <a:pt x="13150" y="10267"/>
                  <a:pt x="13189" y="10243"/>
                  <a:pt x="13216" y="10220"/>
                </a:cubicBezTo>
                <a:cubicBezTo>
                  <a:pt x="13256" y="10186"/>
                  <a:pt x="13281" y="10139"/>
                  <a:pt x="13320" y="10104"/>
                </a:cubicBezTo>
                <a:cubicBezTo>
                  <a:pt x="13355" y="10072"/>
                  <a:pt x="13377" y="10088"/>
                  <a:pt x="13397" y="10125"/>
                </a:cubicBezTo>
                <a:cubicBezTo>
                  <a:pt x="13423" y="10173"/>
                  <a:pt x="13435" y="10228"/>
                  <a:pt x="13463" y="10276"/>
                </a:cubicBezTo>
                <a:cubicBezTo>
                  <a:pt x="13481" y="10301"/>
                  <a:pt x="13486" y="10309"/>
                  <a:pt x="13503" y="10320"/>
                </a:cubicBezTo>
              </a:path>
              <a:path w="6934" h="1175">
                <a:moveTo>
                  <a:pt x="14314" y="9944"/>
                </a:moveTo>
                <a:cubicBezTo>
                  <a:pt x="14294" y="9936"/>
                  <a:pt x="14285" y="9929"/>
                  <a:pt x="14248" y="9958"/>
                </a:cubicBezTo>
                <a:cubicBezTo>
                  <a:pt x="14207" y="9990"/>
                  <a:pt x="14166" y="10029"/>
                  <a:pt x="14131" y="10068"/>
                </a:cubicBezTo>
                <a:cubicBezTo>
                  <a:pt x="14113" y="10090"/>
                  <a:pt x="14109" y="10094"/>
                  <a:pt x="14100" y="10109"/>
                </a:cubicBezTo>
                <a:cubicBezTo>
                  <a:pt x="14136" y="10116"/>
                  <a:pt x="14171" y="10098"/>
                  <a:pt x="14209" y="10093"/>
                </a:cubicBezTo>
                <a:cubicBezTo>
                  <a:pt x="14265" y="10085"/>
                  <a:pt x="14325" y="10093"/>
                  <a:pt x="14366" y="10136"/>
                </a:cubicBezTo>
                <a:cubicBezTo>
                  <a:pt x="14407" y="10178"/>
                  <a:pt x="14417" y="10244"/>
                  <a:pt x="14410" y="10300"/>
                </a:cubicBezTo>
                <a:cubicBezTo>
                  <a:pt x="14405" y="10339"/>
                  <a:pt x="14390" y="10370"/>
                  <a:pt x="14356" y="10381"/>
                </a:cubicBezTo>
                <a:cubicBezTo>
                  <a:pt x="14345" y="10351"/>
                  <a:pt x="14350" y="10337"/>
                  <a:pt x="14354" y="10303"/>
                </a:cubicBezTo>
              </a:path>
              <a:path w="6934" h="1175">
                <a:moveTo>
                  <a:pt x="14537" y="10009"/>
                </a:moveTo>
                <a:cubicBezTo>
                  <a:pt x="14535" y="10063"/>
                  <a:pt x="14527" y="10117"/>
                  <a:pt x="14526" y="10170"/>
                </a:cubicBezTo>
                <a:cubicBezTo>
                  <a:pt x="14525" y="10214"/>
                  <a:pt x="14527" y="10259"/>
                  <a:pt x="14542" y="10300"/>
                </a:cubicBezTo>
                <a:cubicBezTo>
                  <a:pt x="14570" y="10264"/>
                  <a:pt x="14565" y="10225"/>
                  <a:pt x="14565" y="10177"/>
                </a:cubicBezTo>
                <a:cubicBezTo>
                  <a:pt x="14565" y="10112"/>
                  <a:pt x="14557" y="10048"/>
                  <a:pt x="14549" y="9983"/>
                </a:cubicBezTo>
                <a:cubicBezTo>
                  <a:pt x="14544" y="9943"/>
                  <a:pt x="14533" y="9895"/>
                  <a:pt x="14547" y="9859"/>
                </a:cubicBezTo>
                <a:cubicBezTo>
                  <a:pt x="14554" y="9843"/>
                  <a:pt x="14558" y="9838"/>
                  <a:pt x="14574" y="9845"/>
                </a:cubicBezTo>
              </a:path>
              <a:path w="6934" h="1175">
                <a:moveTo>
                  <a:pt x="14747" y="10057"/>
                </a:moveTo>
                <a:cubicBezTo>
                  <a:pt x="14742" y="10102"/>
                  <a:pt x="14738" y="10152"/>
                  <a:pt x="14727" y="10195"/>
                </a:cubicBezTo>
                <a:cubicBezTo>
                  <a:pt x="14759" y="10188"/>
                  <a:pt x="14775" y="10158"/>
                  <a:pt x="14798" y="10131"/>
                </a:cubicBezTo>
                <a:cubicBezTo>
                  <a:pt x="14830" y="10093"/>
                  <a:pt x="14863" y="10048"/>
                  <a:pt x="14906" y="10021"/>
                </a:cubicBezTo>
                <a:cubicBezTo>
                  <a:pt x="14932" y="10005"/>
                  <a:pt x="14957" y="10003"/>
                  <a:pt x="14970" y="10034"/>
                </a:cubicBezTo>
                <a:cubicBezTo>
                  <a:pt x="14983" y="10067"/>
                  <a:pt x="14976" y="10105"/>
                  <a:pt x="14989" y="10137"/>
                </a:cubicBezTo>
                <a:cubicBezTo>
                  <a:pt x="15002" y="10169"/>
                  <a:pt x="15030" y="10188"/>
                  <a:pt x="15065" y="10185"/>
                </a:cubicBezTo>
                <a:cubicBezTo>
                  <a:pt x="15073" y="10183"/>
                  <a:pt x="15081" y="10181"/>
                  <a:pt x="15089" y="10179"/>
                </a:cubicBezTo>
              </a:path>
              <a:path w="6934" h="1175">
                <a:moveTo>
                  <a:pt x="15275" y="10102"/>
                </a:moveTo>
                <a:cubicBezTo>
                  <a:pt x="15263" y="10075"/>
                  <a:pt x="15249" y="10058"/>
                  <a:pt x="15216" y="10069"/>
                </a:cubicBezTo>
                <a:cubicBezTo>
                  <a:pt x="15188" y="10078"/>
                  <a:pt x="15174" y="10100"/>
                  <a:pt x="15169" y="10129"/>
                </a:cubicBezTo>
                <a:cubicBezTo>
                  <a:pt x="15164" y="10155"/>
                  <a:pt x="15172" y="10176"/>
                  <a:pt x="15197" y="10186"/>
                </a:cubicBezTo>
                <a:cubicBezTo>
                  <a:pt x="15230" y="10200"/>
                  <a:pt x="15266" y="10187"/>
                  <a:pt x="15298" y="10210"/>
                </a:cubicBezTo>
                <a:cubicBezTo>
                  <a:pt x="15340" y="10241"/>
                  <a:pt x="15359" y="10304"/>
                  <a:pt x="15372" y="10352"/>
                </a:cubicBezTo>
                <a:cubicBezTo>
                  <a:pt x="15389" y="10416"/>
                  <a:pt x="15399" y="10489"/>
                  <a:pt x="15374" y="10552"/>
                </a:cubicBezTo>
                <a:cubicBezTo>
                  <a:pt x="15355" y="10600"/>
                  <a:pt x="15309" y="10619"/>
                  <a:pt x="15260" y="10607"/>
                </a:cubicBezTo>
                <a:cubicBezTo>
                  <a:pt x="15205" y="10593"/>
                  <a:pt x="15173" y="10546"/>
                  <a:pt x="15160" y="10494"/>
                </a:cubicBezTo>
                <a:cubicBezTo>
                  <a:pt x="15154" y="10444"/>
                  <a:pt x="15152" y="10426"/>
                  <a:pt x="15156" y="10392"/>
                </a:cubicBezTo>
              </a:path>
              <a:path w="6934" h="1175">
                <a:moveTo>
                  <a:pt x="15570" y="9792"/>
                </a:moveTo>
                <a:cubicBezTo>
                  <a:pt x="15562" y="9839"/>
                  <a:pt x="15554" y="9879"/>
                  <a:pt x="15551" y="9927"/>
                </a:cubicBezTo>
                <a:cubicBezTo>
                  <a:pt x="15547" y="10002"/>
                  <a:pt x="15545" y="10085"/>
                  <a:pt x="15560" y="10160"/>
                </a:cubicBezTo>
                <a:cubicBezTo>
                  <a:pt x="15568" y="10201"/>
                  <a:pt x="15583" y="10231"/>
                  <a:pt x="15619" y="10250"/>
                </a:cubicBezTo>
              </a:path>
              <a:path w="6934" h="1175">
                <a:moveTo>
                  <a:pt x="15724" y="10165"/>
                </a:moveTo>
                <a:cubicBezTo>
                  <a:pt x="15750" y="10152"/>
                  <a:pt x="15785" y="10141"/>
                  <a:pt x="15809" y="10125"/>
                </a:cubicBezTo>
                <a:cubicBezTo>
                  <a:pt x="15850" y="10099"/>
                  <a:pt x="15893" y="10074"/>
                  <a:pt x="15932" y="10044"/>
                </a:cubicBezTo>
                <a:cubicBezTo>
                  <a:pt x="15948" y="10029"/>
                  <a:pt x="15952" y="10026"/>
                  <a:pt x="15962" y="10017"/>
                </a:cubicBezTo>
                <a:cubicBezTo>
                  <a:pt x="15924" y="10026"/>
                  <a:pt x="15891" y="10045"/>
                  <a:pt x="15859" y="10069"/>
                </a:cubicBezTo>
                <a:cubicBezTo>
                  <a:pt x="15826" y="10094"/>
                  <a:pt x="15786" y="10125"/>
                  <a:pt x="15780" y="10169"/>
                </a:cubicBezTo>
                <a:cubicBezTo>
                  <a:pt x="15773" y="10218"/>
                  <a:pt x="15838" y="10221"/>
                  <a:pt x="15870" y="10223"/>
                </a:cubicBezTo>
                <a:cubicBezTo>
                  <a:pt x="15936" y="10227"/>
                  <a:pt x="16000" y="10217"/>
                  <a:pt x="16065" y="10209"/>
                </a:cubicBezTo>
              </a:path>
              <a:path w="6934" h="1175">
                <a:moveTo>
                  <a:pt x="16662" y="9894"/>
                </a:moveTo>
                <a:cubicBezTo>
                  <a:pt x="16667" y="9862"/>
                  <a:pt x="16671" y="9860"/>
                  <a:pt x="16653" y="9837"/>
                </a:cubicBezTo>
                <a:cubicBezTo>
                  <a:pt x="16603" y="9843"/>
                  <a:pt x="16576" y="9877"/>
                  <a:pt x="16546" y="9922"/>
                </a:cubicBezTo>
                <a:cubicBezTo>
                  <a:pt x="16507" y="9981"/>
                  <a:pt x="16476" y="10056"/>
                  <a:pt x="16489" y="10128"/>
                </a:cubicBezTo>
                <a:cubicBezTo>
                  <a:pt x="16501" y="10198"/>
                  <a:pt x="16563" y="10217"/>
                  <a:pt x="16626" y="10212"/>
                </a:cubicBezTo>
                <a:cubicBezTo>
                  <a:pt x="16726" y="10204"/>
                  <a:pt x="16817" y="10134"/>
                  <a:pt x="16876" y="10057"/>
                </a:cubicBezTo>
                <a:cubicBezTo>
                  <a:pt x="16902" y="10024"/>
                  <a:pt x="16945" y="9955"/>
                  <a:pt x="16920" y="9909"/>
                </a:cubicBezTo>
                <a:cubicBezTo>
                  <a:pt x="16899" y="9872"/>
                  <a:pt x="16853" y="9880"/>
                  <a:pt x="16820" y="9882"/>
                </a:cubicBezTo>
              </a:path>
              <a:path w="6934" h="1175">
                <a:moveTo>
                  <a:pt x="17630" y="9711"/>
                </a:moveTo>
                <a:cubicBezTo>
                  <a:pt x="17600" y="9733"/>
                  <a:pt x="17636" y="9715"/>
                  <a:pt x="17657" y="9709"/>
                </a:cubicBezTo>
                <a:cubicBezTo>
                  <a:pt x="17699" y="9697"/>
                  <a:pt x="17739" y="9683"/>
                  <a:pt x="17783" y="9680"/>
                </a:cubicBezTo>
                <a:cubicBezTo>
                  <a:pt x="17818" y="9678"/>
                  <a:pt x="17853" y="9688"/>
                  <a:pt x="17848" y="9731"/>
                </a:cubicBezTo>
                <a:cubicBezTo>
                  <a:pt x="17842" y="9780"/>
                  <a:pt x="17805" y="9827"/>
                  <a:pt x="17775" y="9864"/>
                </a:cubicBezTo>
                <a:cubicBezTo>
                  <a:pt x="17751" y="9893"/>
                  <a:pt x="17726" y="9921"/>
                  <a:pt x="17704" y="9951"/>
                </a:cubicBezTo>
                <a:cubicBezTo>
                  <a:pt x="17744" y="9959"/>
                  <a:pt x="17783" y="9955"/>
                  <a:pt x="17823" y="9961"/>
                </a:cubicBezTo>
                <a:cubicBezTo>
                  <a:pt x="17905" y="9973"/>
                  <a:pt x="18031" y="10031"/>
                  <a:pt x="18044" y="10126"/>
                </a:cubicBezTo>
                <a:cubicBezTo>
                  <a:pt x="18049" y="10159"/>
                  <a:pt x="18028" y="10189"/>
                  <a:pt x="18006" y="10210"/>
                </a:cubicBezTo>
                <a:cubicBezTo>
                  <a:pt x="17983" y="10233"/>
                  <a:pt x="17952" y="10249"/>
                  <a:pt x="17925" y="10266"/>
                </a:cubicBezTo>
                <a:cubicBezTo>
                  <a:pt x="17894" y="10286"/>
                  <a:pt x="17860" y="10304"/>
                  <a:pt x="17830" y="10326"/>
                </a:cubicBezTo>
                <a:cubicBezTo>
                  <a:pt x="17793" y="10353"/>
                  <a:pt x="17754" y="10371"/>
                  <a:pt x="17710" y="10382"/>
                </a:cubicBezTo>
                <a:cubicBezTo>
                  <a:pt x="17706" y="10383"/>
                  <a:pt x="17703" y="10384"/>
                  <a:pt x="17699" y="10385"/>
                </a:cubicBezTo>
              </a:path>
              <a:path w="6934" h="1175">
                <a:moveTo>
                  <a:pt x="14105" y="10692"/>
                </a:moveTo>
                <a:cubicBezTo>
                  <a:pt x="14082" y="10685"/>
                  <a:pt x="14060" y="10681"/>
                  <a:pt x="14040" y="10676"/>
                </a:cubicBezTo>
                <a:cubicBezTo>
                  <a:pt x="14088" y="10687"/>
                  <a:pt x="14128" y="10695"/>
                  <a:pt x="14182" y="10697"/>
                </a:cubicBezTo>
                <a:cubicBezTo>
                  <a:pt x="14283" y="10701"/>
                  <a:pt x="14387" y="10685"/>
                  <a:pt x="14488" y="10682"/>
                </a:cubicBezTo>
                <a:cubicBezTo>
                  <a:pt x="14995" y="10665"/>
                  <a:pt x="15502" y="10681"/>
                  <a:pt x="16009" y="10657"/>
                </a:cubicBezTo>
                <a:cubicBezTo>
                  <a:pt x="16156" y="10650"/>
                  <a:pt x="16303" y="10639"/>
                  <a:pt x="16450" y="10628"/>
                </a:cubicBezTo>
                <a:cubicBezTo>
                  <a:pt x="16561" y="10620"/>
                  <a:pt x="16672" y="10609"/>
                  <a:pt x="16783" y="10600"/>
                </a:cubicBezTo>
                <a:cubicBezTo>
                  <a:pt x="16886" y="10591"/>
                  <a:pt x="16988" y="10578"/>
                  <a:pt x="17090" y="10564"/>
                </a:cubicBezTo>
                <a:cubicBezTo>
                  <a:pt x="17063" y="10577"/>
                  <a:pt x="17035" y="10590"/>
                  <a:pt x="17007" y="10602"/>
                </a:cubicBezTo>
                <a:cubicBezTo>
                  <a:pt x="16997" y="10606"/>
                  <a:pt x="16986" y="10611"/>
                  <a:pt x="16976" y="1061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6904080" y="3487680"/>
            <a:ext cx="1011240" cy="258840"/>
          </a:xfrm>
          <a:custGeom>
            <a:avLst/>
            <a:gdLst/>
            <a:ahLst/>
            <a:rect l="l" t="t" r="r" b="b"/>
            <a:pathLst>
              <a:path w="2812" h="721">
                <a:moveTo>
                  <a:pt x="19233" y="9803"/>
                </a:moveTo>
                <a:cubicBezTo>
                  <a:pt x="19232" y="9788"/>
                  <a:pt x="19233" y="9784"/>
                  <a:pt x="19223" y="9778"/>
                </a:cubicBezTo>
                <a:cubicBezTo>
                  <a:pt x="19203" y="9802"/>
                  <a:pt x="19192" y="9821"/>
                  <a:pt x="19184" y="9859"/>
                </a:cubicBezTo>
                <a:cubicBezTo>
                  <a:pt x="19169" y="9930"/>
                  <a:pt x="19173" y="10008"/>
                  <a:pt x="19182" y="10080"/>
                </a:cubicBezTo>
                <a:cubicBezTo>
                  <a:pt x="19191" y="10152"/>
                  <a:pt x="19203" y="10231"/>
                  <a:pt x="19245" y="10292"/>
                </a:cubicBezTo>
                <a:cubicBezTo>
                  <a:pt x="19267" y="10316"/>
                  <a:pt x="19273" y="10323"/>
                  <a:pt x="19294" y="10329"/>
                </a:cubicBezTo>
              </a:path>
              <a:path w="2812" h="721">
                <a:moveTo>
                  <a:pt x="19470" y="10342"/>
                </a:moveTo>
                <a:cubicBezTo>
                  <a:pt x="19485" y="10299"/>
                  <a:pt x="19486" y="10255"/>
                  <a:pt x="19496" y="10211"/>
                </a:cubicBezTo>
                <a:cubicBezTo>
                  <a:pt x="19513" y="10138"/>
                  <a:pt x="19534" y="10065"/>
                  <a:pt x="19560" y="9995"/>
                </a:cubicBezTo>
                <a:cubicBezTo>
                  <a:pt x="19573" y="9961"/>
                  <a:pt x="19603" y="9844"/>
                  <a:pt x="19650" y="9836"/>
                </a:cubicBezTo>
                <a:cubicBezTo>
                  <a:pt x="19655" y="9838"/>
                  <a:pt x="19660" y="9839"/>
                  <a:pt x="19665" y="9841"/>
                </a:cubicBezTo>
                <a:cubicBezTo>
                  <a:pt x="19683" y="9889"/>
                  <a:pt x="19693" y="9937"/>
                  <a:pt x="19698" y="9988"/>
                </a:cubicBezTo>
                <a:cubicBezTo>
                  <a:pt x="19705" y="10053"/>
                  <a:pt x="19713" y="10122"/>
                  <a:pt x="19711" y="10187"/>
                </a:cubicBezTo>
                <a:cubicBezTo>
                  <a:pt x="19710" y="10226"/>
                  <a:pt x="19703" y="10231"/>
                  <a:pt x="19681" y="10249"/>
                </a:cubicBezTo>
              </a:path>
              <a:path w="2812" h="721">
                <a:moveTo>
                  <a:pt x="19580" y="10108"/>
                </a:moveTo>
                <a:cubicBezTo>
                  <a:pt x="19593" y="10085"/>
                  <a:pt x="19609" y="10090"/>
                  <a:pt x="19636" y="10091"/>
                </a:cubicBezTo>
                <a:cubicBezTo>
                  <a:pt x="19679" y="10093"/>
                  <a:pt x="19722" y="10104"/>
                  <a:pt x="19765" y="10111"/>
                </a:cubicBezTo>
                <a:cubicBezTo>
                  <a:pt x="19799" y="10117"/>
                  <a:pt x="19809" y="10118"/>
                  <a:pt x="19831" y="10120"/>
                </a:cubicBezTo>
              </a:path>
              <a:path w="2812" h="721">
                <a:moveTo>
                  <a:pt x="19910" y="10195"/>
                </a:moveTo>
                <a:cubicBezTo>
                  <a:pt x="19892" y="10231"/>
                  <a:pt x="19887" y="10252"/>
                  <a:pt x="19883" y="10292"/>
                </a:cubicBezTo>
                <a:cubicBezTo>
                  <a:pt x="19879" y="10329"/>
                  <a:pt x="19883" y="10359"/>
                  <a:pt x="19908" y="10389"/>
                </a:cubicBezTo>
                <a:cubicBezTo>
                  <a:pt x="19925" y="10409"/>
                  <a:pt x="19940" y="10405"/>
                  <a:pt x="19963" y="10404"/>
                </a:cubicBezTo>
              </a:path>
              <a:path w="2812" h="721">
                <a:moveTo>
                  <a:pt x="20150" y="9807"/>
                </a:moveTo>
                <a:cubicBezTo>
                  <a:pt x="20153" y="9808"/>
                  <a:pt x="20146" y="9866"/>
                  <a:pt x="20145" y="9898"/>
                </a:cubicBezTo>
                <a:cubicBezTo>
                  <a:pt x="20142" y="9972"/>
                  <a:pt x="20140" y="10051"/>
                  <a:pt x="20153" y="10125"/>
                </a:cubicBezTo>
                <a:cubicBezTo>
                  <a:pt x="20163" y="10181"/>
                  <a:pt x="20178" y="10236"/>
                  <a:pt x="20205" y="10286"/>
                </a:cubicBezTo>
              </a:path>
              <a:path w="2812" h="721">
                <a:moveTo>
                  <a:pt x="20481" y="9930"/>
                </a:moveTo>
                <a:cubicBezTo>
                  <a:pt x="20500" y="9915"/>
                  <a:pt x="20528" y="9895"/>
                  <a:pt x="20552" y="9891"/>
                </a:cubicBezTo>
                <a:cubicBezTo>
                  <a:pt x="20594" y="9884"/>
                  <a:pt x="20655" y="9894"/>
                  <a:pt x="20696" y="9904"/>
                </a:cubicBezTo>
                <a:cubicBezTo>
                  <a:pt x="20728" y="9912"/>
                  <a:pt x="20758" y="9924"/>
                  <a:pt x="20787" y="9939"/>
                </a:cubicBezTo>
              </a:path>
              <a:path w="2812" h="721">
                <a:moveTo>
                  <a:pt x="20565" y="10117"/>
                </a:moveTo>
                <a:cubicBezTo>
                  <a:pt x="20609" y="10102"/>
                  <a:pt x="20659" y="10092"/>
                  <a:pt x="20706" y="10088"/>
                </a:cubicBezTo>
                <a:cubicBezTo>
                  <a:pt x="20761" y="10084"/>
                  <a:pt x="20814" y="10091"/>
                  <a:pt x="20868" y="10097"/>
                </a:cubicBezTo>
                <a:cubicBezTo>
                  <a:pt x="20877" y="10098"/>
                  <a:pt x="20887" y="10098"/>
                  <a:pt x="20896" y="10099"/>
                </a:cubicBezTo>
              </a:path>
              <a:path w="2812" h="721">
                <a:moveTo>
                  <a:pt x="21212" y="9910"/>
                </a:moveTo>
                <a:cubicBezTo>
                  <a:pt x="21211" y="9886"/>
                  <a:pt x="21212" y="9874"/>
                  <a:pt x="21227" y="9852"/>
                </a:cubicBezTo>
                <a:cubicBezTo>
                  <a:pt x="21243" y="9828"/>
                  <a:pt x="21260" y="9809"/>
                  <a:pt x="21285" y="9794"/>
                </a:cubicBezTo>
                <a:cubicBezTo>
                  <a:pt x="21318" y="9774"/>
                  <a:pt x="21354" y="9767"/>
                  <a:pt x="21392" y="9771"/>
                </a:cubicBezTo>
                <a:cubicBezTo>
                  <a:pt x="21474" y="9781"/>
                  <a:pt x="21531" y="9834"/>
                  <a:pt x="21554" y="9912"/>
                </a:cubicBezTo>
                <a:cubicBezTo>
                  <a:pt x="21576" y="9984"/>
                  <a:pt x="21561" y="10060"/>
                  <a:pt x="21536" y="10130"/>
                </a:cubicBezTo>
                <a:cubicBezTo>
                  <a:pt x="21509" y="10205"/>
                  <a:pt x="21462" y="10269"/>
                  <a:pt x="21397" y="10315"/>
                </a:cubicBezTo>
                <a:cubicBezTo>
                  <a:pt x="21353" y="10346"/>
                  <a:pt x="21293" y="10363"/>
                  <a:pt x="21240" y="10343"/>
                </a:cubicBezTo>
                <a:cubicBezTo>
                  <a:pt x="21196" y="10326"/>
                  <a:pt x="21175" y="10276"/>
                  <a:pt x="21196" y="10233"/>
                </a:cubicBezTo>
                <a:cubicBezTo>
                  <a:pt x="21211" y="10203"/>
                  <a:pt x="21254" y="10191"/>
                  <a:pt x="21285" y="10192"/>
                </a:cubicBezTo>
                <a:cubicBezTo>
                  <a:pt x="21369" y="10196"/>
                  <a:pt x="21456" y="10251"/>
                  <a:pt x="21535" y="10276"/>
                </a:cubicBezTo>
                <a:cubicBezTo>
                  <a:pt x="21566" y="10286"/>
                  <a:pt x="21585" y="10288"/>
                  <a:pt x="21617" y="10288"/>
                </a:cubicBezTo>
              </a:path>
              <a:path w="2812" h="721">
                <a:moveTo>
                  <a:pt x="21785" y="9818"/>
                </a:moveTo>
                <a:cubicBezTo>
                  <a:pt x="21792" y="9785"/>
                  <a:pt x="21796" y="9757"/>
                  <a:pt x="21799" y="9723"/>
                </a:cubicBezTo>
                <a:cubicBezTo>
                  <a:pt x="21801" y="9708"/>
                  <a:pt x="21801" y="9702"/>
                  <a:pt x="21793" y="9692"/>
                </a:cubicBezTo>
                <a:cubicBezTo>
                  <a:pt x="21761" y="9690"/>
                  <a:pt x="21736" y="9701"/>
                  <a:pt x="21709" y="9722"/>
                </a:cubicBezTo>
                <a:cubicBezTo>
                  <a:pt x="21680" y="9744"/>
                  <a:pt x="21651" y="9771"/>
                  <a:pt x="21631" y="9801"/>
                </a:cubicBezTo>
                <a:cubicBezTo>
                  <a:pt x="21624" y="9812"/>
                  <a:pt x="21622" y="9815"/>
                  <a:pt x="21629" y="9823"/>
                </a:cubicBezTo>
                <a:cubicBezTo>
                  <a:pt x="21659" y="9827"/>
                  <a:pt x="21685" y="9821"/>
                  <a:pt x="21714" y="9812"/>
                </a:cubicBezTo>
                <a:cubicBezTo>
                  <a:pt x="21752" y="9800"/>
                  <a:pt x="21787" y="9781"/>
                  <a:pt x="21825" y="9770"/>
                </a:cubicBezTo>
                <a:cubicBezTo>
                  <a:pt x="21842" y="9765"/>
                  <a:pt x="21870" y="9760"/>
                  <a:pt x="21878" y="9781"/>
                </a:cubicBezTo>
                <a:cubicBezTo>
                  <a:pt x="21888" y="9809"/>
                  <a:pt x="21888" y="9846"/>
                  <a:pt x="21894" y="9875"/>
                </a:cubicBezTo>
                <a:cubicBezTo>
                  <a:pt x="21904" y="9922"/>
                  <a:pt x="21914" y="9961"/>
                  <a:pt x="21936" y="10004"/>
                </a:cubicBezTo>
                <a:cubicBezTo>
                  <a:pt x="21946" y="10024"/>
                  <a:pt x="21958" y="10045"/>
                  <a:pt x="21973" y="10062"/>
                </a:cubicBezTo>
                <a:cubicBezTo>
                  <a:pt x="21978" y="10067"/>
                  <a:pt x="21982" y="10071"/>
                  <a:pt x="21987" y="1007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1154160" y="4054320"/>
            <a:ext cx="287280" cy="277920"/>
          </a:xfrm>
          <a:custGeom>
            <a:avLst/>
            <a:gdLst/>
            <a:ahLst/>
            <a:rect l="l" t="t" r="r" b="b"/>
            <a:pathLst>
              <a:path w="798" h="773">
                <a:moveTo>
                  <a:pt x="3260" y="11909"/>
                </a:moveTo>
                <a:cubicBezTo>
                  <a:pt x="3246" y="11922"/>
                  <a:pt x="3248" y="11920"/>
                  <a:pt x="3233" y="11926"/>
                </a:cubicBezTo>
                <a:cubicBezTo>
                  <a:pt x="3201" y="11887"/>
                  <a:pt x="3205" y="11853"/>
                  <a:pt x="3211" y="11800"/>
                </a:cubicBezTo>
                <a:cubicBezTo>
                  <a:pt x="3227" y="11669"/>
                  <a:pt x="3276" y="11542"/>
                  <a:pt x="3325" y="11421"/>
                </a:cubicBezTo>
                <a:cubicBezTo>
                  <a:pt x="3349" y="11362"/>
                  <a:pt x="3366" y="11297"/>
                  <a:pt x="3419" y="11261"/>
                </a:cubicBezTo>
                <a:cubicBezTo>
                  <a:pt x="3443" y="11319"/>
                  <a:pt x="3430" y="11384"/>
                  <a:pt x="3431" y="11447"/>
                </a:cubicBezTo>
                <a:cubicBezTo>
                  <a:pt x="3432" y="11547"/>
                  <a:pt x="3445" y="11647"/>
                  <a:pt x="3457" y="11747"/>
                </a:cubicBezTo>
                <a:cubicBezTo>
                  <a:pt x="3457" y="11750"/>
                  <a:pt x="3479" y="11871"/>
                  <a:pt x="3502" y="11852"/>
                </a:cubicBezTo>
                <a:cubicBezTo>
                  <a:pt x="3507" y="11838"/>
                  <a:pt x="3508" y="11830"/>
                  <a:pt x="3501" y="11819"/>
                </a:cubicBezTo>
              </a:path>
              <a:path w="798" h="773">
                <a:moveTo>
                  <a:pt x="3371" y="11625"/>
                </a:moveTo>
                <a:cubicBezTo>
                  <a:pt x="3356" y="11612"/>
                  <a:pt x="3352" y="11609"/>
                  <a:pt x="3348" y="11596"/>
                </a:cubicBezTo>
                <a:cubicBezTo>
                  <a:pt x="3378" y="11566"/>
                  <a:pt x="3422" y="11544"/>
                  <a:pt x="3463" y="11528"/>
                </a:cubicBezTo>
                <a:cubicBezTo>
                  <a:pt x="3528" y="11504"/>
                  <a:pt x="3600" y="11486"/>
                  <a:pt x="3669" y="11483"/>
                </a:cubicBezTo>
                <a:cubicBezTo>
                  <a:pt x="3681" y="11483"/>
                  <a:pt x="3694" y="11484"/>
                  <a:pt x="3706" y="11484"/>
                </a:cubicBezTo>
              </a:path>
              <a:path w="798" h="773">
                <a:moveTo>
                  <a:pt x="3737" y="11650"/>
                </a:moveTo>
                <a:cubicBezTo>
                  <a:pt x="3732" y="11666"/>
                  <a:pt x="3712" y="11699"/>
                  <a:pt x="3733" y="11712"/>
                </a:cubicBezTo>
                <a:cubicBezTo>
                  <a:pt x="3754" y="11725"/>
                  <a:pt x="3795" y="11725"/>
                  <a:pt x="3819" y="11733"/>
                </a:cubicBezTo>
                <a:cubicBezTo>
                  <a:pt x="3860" y="11747"/>
                  <a:pt x="3892" y="11772"/>
                  <a:pt x="3900" y="11817"/>
                </a:cubicBezTo>
                <a:cubicBezTo>
                  <a:pt x="3909" y="11864"/>
                  <a:pt x="3891" y="11918"/>
                  <a:pt x="3872" y="11961"/>
                </a:cubicBezTo>
                <a:cubicBezTo>
                  <a:pt x="3862" y="11984"/>
                  <a:pt x="3849" y="12006"/>
                  <a:pt x="3837" y="12028"/>
                </a:cubicBezTo>
                <a:cubicBezTo>
                  <a:pt x="3861" y="12032"/>
                  <a:pt x="3890" y="12022"/>
                  <a:pt x="3915" y="12012"/>
                </a:cubicBezTo>
                <a:cubicBezTo>
                  <a:pt x="3946" y="11999"/>
                  <a:pt x="3974" y="11980"/>
                  <a:pt x="4003" y="1196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1593720" y="4138560"/>
            <a:ext cx="136800" cy="87480"/>
          </a:xfrm>
          <a:custGeom>
            <a:avLst/>
            <a:gdLst/>
            <a:ahLst/>
            <a:rect l="l" t="t" r="r" b="b"/>
            <a:pathLst>
              <a:path w="380" h="245">
                <a:moveTo>
                  <a:pt x="4427" y="11541"/>
                </a:moveTo>
                <a:cubicBezTo>
                  <a:pt x="4471" y="11530"/>
                  <a:pt x="4509" y="11516"/>
                  <a:pt x="4556" y="11510"/>
                </a:cubicBezTo>
                <a:cubicBezTo>
                  <a:pt x="4613" y="11502"/>
                  <a:pt x="4667" y="11495"/>
                  <a:pt x="4725" y="11496"/>
                </a:cubicBezTo>
              </a:path>
              <a:path w="380" h="245">
                <a:moveTo>
                  <a:pt x="4525" y="11738"/>
                </a:moveTo>
                <a:cubicBezTo>
                  <a:pt x="4569" y="11734"/>
                  <a:pt x="4606" y="11711"/>
                  <a:pt x="4650" y="11702"/>
                </a:cubicBezTo>
                <a:cubicBezTo>
                  <a:pt x="4701" y="11692"/>
                  <a:pt x="4755" y="11702"/>
                  <a:pt x="4806" y="1171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1852560" y="3986280"/>
            <a:ext cx="658800" cy="304560"/>
          </a:xfrm>
          <a:custGeom>
            <a:avLst/>
            <a:gdLst/>
            <a:ahLst/>
            <a:rect l="l" t="t" r="r" b="b"/>
            <a:pathLst>
              <a:path w="1828" h="844">
                <a:moveTo>
                  <a:pt x="5390" y="11271"/>
                </a:moveTo>
                <a:cubicBezTo>
                  <a:pt x="5386" y="11272"/>
                  <a:pt x="5340" y="11294"/>
                  <a:pt x="5318" y="11315"/>
                </a:cubicBezTo>
                <a:cubicBezTo>
                  <a:pt x="5270" y="11360"/>
                  <a:pt x="5217" y="11405"/>
                  <a:pt x="5175" y="11456"/>
                </a:cubicBezTo>
                <a:cubicBezTo>
                  <a:pt x="5159" y="11480"/>
                  <a:pt x="5155" y="11483"/>
                  <a:pt x="5148" y="11499"/>
                </a:cubicBezTo>
                <a:cubicBezTo>
                  <a:pt x="5202" y="11502"/>
                  <a:pt x="5252" y="11485"/>
                  <a:pt x="5307" y="11479"/>
                </a:cubicBezTo>
                <a:cubicBezTo>
                  <a:pt x="5353" y="11474"/>
                  <a:pt x="5412" y="11469"/>
                  <a:pt x="5430" y="11523"/>
                </a:cubicBezTo>
                <a:cubicBezTo>
                  <a:pt x="5449" y="11578"/>
                  <a:pt x="5402" y="11639"/>
                  <a:pt x="5373" y="11681"/>
                </a:cubicBezTo>
                <a:cubicBezTo>
                  <a:pt x="5351" y="11712"/>
                  <a:pt x="5326" y="11738"/>
                  <a:pt x="5300" y="11765"/>
                </a:cubicBezTo>
                <a:cubicBezTo>
                  <a:pt x="5328" y="11743"/>
                  <a:pt x="5339" y="11737"/>
                  <a:pt x="5372" y="11723"/>
                </a:cubicBezTo>
                <a:cubicBezTo>
                  <a:pt x="5406" y="11709"/>
                  <a:pt x="5464" y="11683"/>
                  <a:pt x="5500" y="11710"/>
                </a:cubicBezTo>
                <a:cubicBezTo>
                  <a:pt x="5531" y="11733"/>
                  <a:pt x="5507" y="11794"/>
                  <a:pt x="5495" y="11820"/>
                </a:cubicBezTo>
                <a:cubicBezTo>
                  <a:pt x="5481" y="11851"/>
                  <a:pt x="5468" y="11878"/>
                  <a:pt x="5460" y="11910"/>
                </a:cubicBezTo>
                <a:cubicBezTo>
                  <a:pt x="5488" y="11912"/>
                  <a:pt x="5517" y="11910"/>
                  <a:pt x="5549" y="11901"/>
                </a:cubicBezTo>
                <a:cubicBezTo>
                  <a:pt x="5586" y="11887"/>
                  <a:pt x="5599" y="11882"/>
                  <a:pt x="5625" y="11874"/>
                </a:cubicBezTo>
              </a:path>
              <a:path w="1828" h="844">
                <a:moveTo>
                  <a:pt x="5899" y="11237"/>
                </a:moveTo>
                <a:cubicBezTo>
                  <a:pt x="5912" y="11232"/>
                  <a:pt x="5911" y="11330"/>
                  <a:pt x="5912" y="11373"/>
                </a:cubicBezTo>
                <a:cubicBezTo>
                  <a:pt x="5914" y="11472"/>
                  <a:pt x="5913" y="11572"/>
                  <a:pt x="5914" y="11671"/>
                </a:cubicBezTo>
                <a:cubicBezTo>
                  <a:pt x="5915" y="11713"/>
                  <a:pt x="5915" y="11750"/>
                  <a:pt x="5924" y="11791"/>
                </a:cubicBezTo>
                <a:cubicBezTo>
                  <a:pt x="5954" y="11766"/>
                  <a:pt x="5986" y="11732"/>
                  <a:pt x="6014" y="11697"/>
                </a:cubicBezTo>
                <a:cubicBezTo>
                  <a:pt x="6060" y="11639"/>
                  <a:pt x="6106" y="11580"/>
                  <a:pt x="6170" y="11541"/>
                </a:cubicBezTo>
                <a:cubicBezTo>
                  <a:pt x="6181" y="11536"/>
                  <a:pt x="6193" y="11530"/>
                  <a:pt x="6204" y="11525"/>
                </a:cubicBezTo>
                <a:cubicBezTo>
                  <a:pt x="6250" y="11545"/>
                  <a:pt x="6257" y="11575"/>
                  <a:pt x="6241" y="11628"/>
                </a:cubicBezTo>
                <a:cubicBezTo>
                  <a:pt x="6221" y="11692"/>
                  <a:pt x="6173" y="11757"/>
                  <a:pt x="6120" y="11797"/>
                </a:cubicBezTo>
                <a:cubicBezTo>
                  <a:pt x="6091" y="11819"/>
                  <a:pt x="6073" y="11821"/>
                  <a:pt x="6040" y="11820"/>
                </a:cubicBezTo>
                <a:cubicBezTo>
                  <a:pt x="6034" y="11766"/>
                  <a:pt x="6063" y="11735"/>
                  <a:pt x="6102" y="11694"/>
                </a:cubicBezTo>
                <a:cubicBezTo>
                  <a:pt x="6116" y="11680"/>
                  <a:pt x="6130" y="11667"/>
                  <a:pt x="6144" y="11653"/>
                </a:cubicBezTo>
              </a:path>
              <a:path w="1828" h="844">
                <a:moveTo>
                  <a:pt x="6394" y="11507"/>
                </a:moveTo>
                <a:cubicBezTo>
                  <a:pt x="6421" y="11546"/>
                  <a:pt x="6419" y="11579"/>
                  <a:pt x="6427" y="11624"/>
                </a:cubicBezTo>
                <a:cubicBezTo>
                  <a:pt x="6438" y="11684"/>
                  <a:pt x="6448" y="11749"/>
                  <a:pt x="6473" y="11806"/>
                </a:cubicBezTo>
                <a:cubicBezTo>
                  <a:pt x="6485" y="11833"/>
                  <a:pt x="6519" y="11869"/>
                  <a:pt x="6551" y="11846"/>
                </a:cubicBezTo>
                <a:cubicBezTo>
                  <a:pt x="6556" y="11840"/>
                  <a:pt x="6560" y="11834"/>
                  <a:pt x="6565" y="11828"/>
                </a:cubicBezTo>
              </a:path>
              <a:path w="1828" h="844">
                <a:moveTo>
                  <a:pt x="6619" y="11143"/>
                </a:moveTo>
                <a:cubicBezTo>
                  <a:pt x="6628" y="11113"/>
                  <a:pt x="6629" y="11084"/>
                  <a:pt x="6657" y="11074"/>
                </a:cubicBezTo>
                <a:cubicBezTo>
                  <a:pt x="6683" y="11137"/>
                  <a:pt x="6694" y="11200"/>
                  <a:pt x="6702" y="11268"/>
                </a:cubicBezTo>
                <a:cubicBezTo>
                  <a:pt x="6715" y="11381"/>
                  <a:pt x="6720" y="11494"/>
                  <a:pt x="6730" y="11607"/>
                </a:cubicBezTo>
                <a:cubicBezTo>
                  <a:pt x="6736" y="11673"/>
                  <a:pt x="6740" y="11738"/>
                  <a:pt x="6742" y="11804"/>
                </a:cubicBezTo>
              </a:path>
              <a:path w="1828" h="844">
                <a:moveTo>
                  <a:pt x="6569" y="11501"/>
                </a:moveTo>
                <a:cubicBezTo>
                  <a:pt x="6577" y="11467"/>
                  <a:pt x="6593" y="11441"/>
                  <a:pt x="6629" y="11427"/>
                </a:cubicBezTo>
                <a:cubicBezTo>
                  <a:pt x="6694" y="11402"/>
                  <a:pt x="6779" y="11399"/>
                  <a:pt x="6848" y="11398"/>
                </a:cubicBezTo>
                <a:cubicBezTo>
                  <a:pt x="6912" y="11399"/>
                  <a:pt x="6933" y="11399"/>
                  <a:pt x="6975" y="1139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2668680" y="3986280"/>
            <a:ext cx="631800" cy="338040"/>
          </a:xfrm>
          <a:custGeom>
            <a:avLst/>
            <a:gdLst/>
            <a:ahLst/>
            <a:rect l="l" t="t" r="r" b="b"/>
            <a:pathLst>
              <a:path w="1755" h="940">
                <a:moveTo>
                  <a:pt x="7639" y="11458"/>
                </a:moveTo>
                <a:cubicBezTo>
                  <a:pt x="7607" y="11420"/>
                  <a:pt x="7591" y="11413"/>
                  <a:pt x="7540" y="11416"/>
                </a:cubicBezTo>
                <a:cubicBezTo>
                  <a:pt x="7494" y="11418"/>
                  <a:pt x="7452" y="11434"/>
                  <a:pt x="7424" y="11473"/>
                </a:cubicBezTo>
                <a:cubicBezTo>
                  <a:pt x="7397" y="11511"/>
                  <a:pt x="7435" y="11528"/>
                  <a:pt x="7467" y="11539"/>
                </a:cubicBezTo>
                <a:cubicBezTo>
                  <a:pt x="7517" y="11556"/>
                  <a:pt x="7570" y="11561"/>
                  <a:pt x="7618" y="11583"/>
                </a:cubicBezTo>
                <a:cubicBezTo>
                  <a:pt x="7657" y="11601"/>
                  <a:pt x="7687" y="11631"/>
                  <a:pt x="7683" y="11677"/>
                </a:cubicBezTo>
                <a:cubicBezTo>
                  <a:pt x="7679" y="11722"/>
                  <a:pt x="7630" y="11804"/>
                  <a:pt x="7576" y="11790"/>
                </a:cubicBezTo>
                <a:cubicBezTo>
                  <a:pt x="7537" y="11780"/>
                  <a:pt x="7559" y="11712"/>
                  <a:pt x="7563" y="11689"/>
                </a:cubicBezTo>
              </a:path>
              <a:path w="1755" h="940">
                <a:moveTo>
                  <a:pt x="7823" y="11074"/>
                </a:moveTo>
                <a:cubicBezTo>
                  <a:pt x="7843" y="11111"/>
                  <a:pt x="7850" y="11155"/>
                  <a:pt x="7858" y="11197"/>
                </a:cubicBezTo>
                <a:cubicBezTo>
                  <a:pt x="7875" y="11279"/>
                  <a:pt x="7889" y="11363"/>
                  <a:pt x="7894" y="11447"/>
                </a:cubicBezTo>
                <a:cubicBezTo>
                  <a:pt x="7899" y="11524"/>
                  <a:pt x="7893" y="11595"/>
                  <a:pt x="7874" y="11668"/>
                </a:cubicBezTo>
                <a:cubicBezTo>
                  <a:pt x="7865" y="11703"/>
                  <a:pt x="7860" y="11708"/>
                  <a:pt x="7836" y="11732"/>
                </a:cubicBezTo>
                <a:cubicBezTo>
                  <a:pt x="7813" y="11710"/>
                  <a:pt x="7808" y="11700"/>
                  <a:pt x="7805" y="11663"/>
                </a:cubicBezTo>
                <a:cubicBezTo>
                  <a:pt x="7802" y="11616"/>
                  <a:pt x="7800" y="11568"/>
                  <a:pt x="7808" y="11521"/>
                </a:cubicBezTo>
                <a:cubicBezTo>
                  <a:pt x="7815" y="11481"/>
                  <a:pt x="7830" y="11427"/>
                  <a:pt x="7861" y="11398"/>
                </a:cubicBezTo>
                <a:cubicBezTo>
                  <a:pt x="7898" y="11364"/>
                  <a:pt x="7957" y="11348"/>
                  <a:pt x="8006" y="11345"/>
                </a:cubicBezTo>
                <a:cubicBezTo>
                  <a:pt x="8046" y="11343"/>
                  <a:pt x="8082" y="11351"/>
                  <a:pt x="8121" y="11359"/>
                </a:cubicBezTo>
              </a:path>
              <a:path w="1755" h="940">
                <a:moveTo>
                  <a:pt x="8190" y="11570"/>
                </a:moveTo>
                <a:cubicBezTo>
                  <a:pt x="8189" y="11607"/>
                  <a:pt x="8187" y="11649"/>
                  <a:pt x="8194" y="11686"/>
                </a:cubicBezTo>
                <a:cubicBezTo>
                  <a:pt x="8197" y="11703"/>
                  <a:pt x="8201" y="11718"/>
                  <a:pt x="8208" y="11733"/>
                </a:cubicBezTo>
                <a:cubicBezTo>
                  <a:pt x="8223" y="11703"/>
                  <a:pt x="8228" y="11670"/>
                  <a:pt x="8238" y="11638"/>
                </a:cubicBezTo>
                <a:cubicBezTo>
                  <a:pt x="8255" y="11583"/>
                  <a:pt x="8270" y="11528"/>
                  <a:pt x="8292" y="11475"/>
                </a:cubicBezTo>
                <a:cubicBezTo>
                  <a:pt x="8301" y="11453"/>
                  <a:pt x="8321" y="11405"/>
                  <a:pt x="8349" y="11399"/>
                </a:cubicBezTo>
                <a:cubicBezTo>
                  <a:pt x="8363" y="11401"/>
                  <a:pt x="8367" y="11401"/>
                  <a:pt x="8375" y="11405"/>
                </a:cubicBezTo>
              </a:path>
              <a:path w="1755" h="940">
                <a:moveTo>
                  <a:pt x="8526" y="11498"/>
                </a:moveTo>
                <a:cubicBezTo>
                  <a:pt x="8535" y="11523"/>
                  <a:pt x="8545" y="11551"/>
                  <a:pt x="8548" y="11577"/>
                </a:cubicBezTo>
                <a:cubicBezTo>
                  <a:pt x="8551" y="11602"/>
                  <a:pt x="8553" y="11625"/>
                  <a:pt x="8554" y="11650"/>
                </a:cubicBezTo>
                <a:cubicBezTo>
                  <a:pt x="8555" y="11664"/>
                  <a:pt x="8556" y="11671"/>
                  <a:pt x="8550" y="11657"/>
                </a:cubicBezTo>
              </a:path>
              <a:path w="1755" h="940">
                <a:moveTo>
                  <a:pt x="8603" y="11351"/>
                </a:moveTo>
                <a:cubicBezTo>
                  <a:pt x="8608" y="11325"/>
                  <a:pt x="8606" y="11307"/>
                  <a:pt x="8623" y="11287"/>
                </a:cubicBezTo>
                <a:cubicBezTo>
                  <a:pt x="8645" y="11303"/>
                  <a:pt x="8663" y="11320"/>
                  <a:pt x="8682" y="11340"/>
                </a:cubicBezTo>
              </a:path>
              <a:path w="1755" h="940">
                <a:moveTo>
                  <a:pt x="8748" y="11554"/>
                </a:moveTo>
                <a:cubicBezTo>
                  <a:pt x="8737" y="11604"/>
                  <a:pt x="8728" y="11654"/>
                  <a:pt x="8717" y="11703"/>
                </a:cubicBezTo>
                <a:cubicBezTo>
                  <a:pt x="8711" y="11720"/>
                  <a:pt x="8710" y="11725"/>
                  <a:pt x="8710" y="11737"/>
                </a:cubicBezTo>
                <a:cubicBezTo>
                  <a:pt x="8734" y="11719"/>
                  <a:pt x="8751" y="11700"/>
                  <a:pt x="8772" y="11671"/>
                </a:cubicBezTo>
                <a:cubicBezTo>
                  <a:pt x="8795" y="11640"/>
                  <a:pt x="8833" y="11567"/>
                  <a:pt x="8873" y="11555"/>
                </a:cubicBezTo>
                <a:cubicBezTo>
                  <a:pt x="8900" y="11547"/>
                  <a:pt x="8900" y="11559"/>
                  <a:pt x="8913" y="11580"/>
                </a:cubicBezTo>
                <a:cubicBezTo>
                  <a:pt x="8927" y="11603"/>
                  <a:pt x="8936" y="11626"/>
                  <a:pt x="8959" y="11642"/>
                </a:cubicBezTo>
                <a:cubicBezTo>
                  <a:pt x="8986" y="11660"/>
                  <a:pt x="9011" y="11655"/>
                  <a:pt x="9039" y="11647"/>
                </a:cubicBezTo>
                <a:cubicBezTo>
                  <a:pt x="9066" y="11639"/>
                  <a:pt x="9092" y="11625"/>
                  <a:pt x="9113" y="11605"/>
                </a:cubicBezTo>
                <a:cubicBezTo>
                  <a:pt x="9122" y="11594"/>
                  <a:pt x="9125" y="11591"/>
                  <a:pt x="9132" y="11585"/>
                </a:cubicBezTo>
                <a:cubicBezTo>
                  <a:pt x="9119" y="11598"/>
                  <a:pt x="9112" y="11601"/>
                  <a:pt x="9103" y="11620"/>
                </a:cubicBezTo>
                <a:cubicBezTo>
                  <a:pt x="9101" y="11625"/>
                  <a:pt x="9100" y="11631"/>
                  <a:pt x="9098" y="11636"/>
                </a:cubicBezTo>
                <a:cubicBezTo>
                  <a:pt x="9118" y="11627"/>
                  <a:pt x="9130" y="11607"/>
                  <a:pt x="9149" y="11629"/>
                </a:cubicBezTo>
                <a:cubicBezTo>
                  <a:pt x="9172" y="11656"/>
                  <a:pt x="9169" y="11721"/>
                  <a:pt x="9166" y="11753"/>
                </a:cubicBezTo>
                <a:cubicBezTo>
                  <a:pt x="9161" y="11810"/>
                  <a:pt x="9147" y="11862"/>
                  <a:pt x="9121" y="11913"/>
                </a:cubicBezTo>
                <a:cubicBezTo>
                  <a:pt x="9103" y="11947"/>
                  <a:pt x="9078" y="11991"/>
                  <a:pt x="9041" y="12008"/>
                </a:cubicBezTo>
                <a:cubicBezTo>
                  <a:pt x="9006" y="12024"/>
                  <a:pt x="8988" y="11993"/>
                  <a:pt x="8970" y="1197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3460680" y="4017960"/>
            <a:ext cx="507960" cy="250920"/>
          </a:xfrm>
          <a:custGeom>
            <a:avLst/>
            <a:gdLst/>
            <a:ahLst/>
            <a:rect l="l" t="t" r="r" b="b"/>
            <a:pathLst>
              <a:path w="1412" h="696">
                <a:moveTo>
                  <a:pt x="9775" y="11566"/>
                </a:moveTo>
                <a:cubicBezTo>
                  <a:pt x="9745" y="11557"/>
                  <a:pt x="9711" y="11550"/>
                  <a:pt x="9679" y="11551"/>
                </a:cubicBezTo>
                <a:cubicBezTo>
                  <a:pt x="9649" y="11552"/>
                  <a:pt x="9631" y="11560"/>
                  <a:pt x="9613" y="11581"/>
                </a:cubicBezTo>
                <a:cubicBezTo>
                  <a:pt x="9645" y="11592"/>
                  <a:pt x="9680" y="11596"/>
                  <a:pt x="9710" y="11612"/>
                </a:cubicBezTo>
                <a:cubicBezTo>
                  <a:pt x="9751" y="11633"/>
                  <a:pt x="9783" y="11664"/>
                  <a:pt x="9796" y="11709"/>
                </a:cubicBezTo>
                <a:cubicBezTo>
                  <a:pt x="9809" y="11752"/>
                  <a:pt x="9799" y="11797"/>
                  <a:pt x="9770" y="11831"/>
                </a:cubicBezTo>
                <a:cubicBezTo>
                  <a:pt x="9754" y="11850"/>
                  <a:pt x="9720" y="11874"/>
                  <a:pt x="9703" y="11843"/>
                </a:cubicBezTo>
                <a:cubicBezTo>
                  <a:pt x="9689" y="11818"/>
                  <a:pt x="9707" y="11782"/>
                  <a:pt x="9713" y="11758"/>
                </a:cubicBezTo>
              </a:path>
              <a:path w="1412" h="696">
                <a:moveTo>
                  <a:pt x="9718" y="11614"/>
                </a:moveTo>
                <a:cubicBezTo>
                  <a:pt x="9715" y="11615"/>
                  <a:pt x="9711" y="11617"/>
                  <a:pt x="9708" y="11618"/>
                </a:cubicBezTo>
                <a:cubicBezTo>
                  <a:pt x="9707" y="11650"/>
                  <a:pt x="9745" y="11631"/>
                  <a:pt x="9778" y="11621"/>
                </a:cubicBezTo>
                <a:cubicBezTo>
                  <a:pt x="9837" y="11602"/>
                  <a:pt x="9894" y="11578"/>
                  <a:pt x="9947" y="11546"/>
                </a:cubicBezTo>
                <a:cubicBezTo>
                  <a:pt x="9979" y="11527"/>
                  <a:pt x="10037" y="11496"/>
                  <a:pt x="10042" y="11453"/>
                </a:cubicBezTo>
                <a:cubicBezTo>
                  <a:pt x="10041" y="11446"/>
                  <a:pt x="10039" y="11440"/>
                  <a:pt x="10038" y="11433"/>
                </a:cubicBezTo>
                <a:cubicBezTo>
                  <a:pt x="10008" y="11404"/>
                  <a:pt x="9980" y="11401"/>
                  <a:pt x="9937" y="11406"/>
                </a:cubicBezTo>
                <a:cubicBezTo>
                  <a:pt x="9879" y="11413"/>
                  <a:pt x="9825" y="11440"/>
                  <a:pt x="9783" y="11480"/>
                </a:cubicBezTo>
                <a:cubicBezTo>
                  <a:pt x="9741" y="11520"/>
                  <a:pt x="9712" y="11576"/>
                  <a:pt x="9705" y="11634"/>
                </a:cubicBezTo>
                <a:cubicBezTo>
                  <a:pt x="9699" y="11689"/>
                  <a:pt x="9718" y="11744"/>
                  <a:pt x="9753" y="11786"/>
                </a:cubicBezTo>
                <a:cubicBezTo>
                  <a:pt x="9791" y="11832"/>
                  <a:pt x="9847" y="11850"/>
                  <a:pt x="9905" y="11852"/>
                </a:cubicBezTo>
                <a:cubicBezTo>
                  <a:pt x="9973" y="11855"/>
                  <a:pt x="10024" y="11823"/>
                  <a:pt x="10079" y="11790"/>
                </a:cubicBezTo>
              </a:path>
              <a:path w="1412" h="696">
                <a:moveTo>
                  <a:pt x="10149" y="11445"/>
                </a:moveTo>
                <a:cubicBezTo>
                  <a:pt x="10128" y="11447"/>
                  <a:pt x="10109" y="11464"/>
                  <a:pt x="10102" y="11487"/>
                </a:cubicBezTo>
                <a:cubicBezTo>
                  <a:pt x="10090" y="11530"/>
                  <a:pt x="10090" y="11584"/>
                  <a:pt x="10092" y="11628"/>
                </a:cubicBezTo>
                <a:cubicBezTo>
                  <a:pt x="10093" y="11649"/>
                  <a:pt x="10093" y="11710"/>
                  <a:pt x="10128" y="11709"/>
                </a:cubicBezTo>
                <a:cubicBezTo>
                  <a:pt x="10165" y="11708"/>
                  <a:pt x="10195" y="11646"/>
                  <a:pt x="10211" y="11622"/>
                </a:cubicBezTo>
                <a:cubicBezTo>
                  <a:pt x="10239" y="11580"/>
                  <a:pt x="10262" y="11532"/>
                  <a:pt x="10294" y="11493"/>
                </a:cubicBezTo>
                <a:cubicBezTo>
                  <a:pt x="10309" y="11475"/>
                  <a:pt x="10312" y="11475"/>
                  <a:pt x="10331" y="11480"/>
                </a:cubicBezTo>
                <a:cubicBezTo>
                  <a:pt x="10350" y="11546"/>
                  <a:pt x="10351" y="11617"/>
                  <a:pt x="10372" y="11682"/>
                </a:cubicBezTo>
                <a:cubicBezTo>
                  <a:pt x="10386" y="11725"/>
                  <a:pt x="10404" y="11735"/>
                  <a:pt x="10445" y="11733"/>
                </a:cubicBezTo>
              </a:path>
              <a:path w="1412" h="696">
                <a:moveTo>
                  <a:pt x="10654" y="11519"/>
                </a:moveTo>
                <a:cubicBezTo>
                  <a:pt x="10639" y="11497"/>
                  <a:pt x="10646" y="11498"/>
                  <a:pt x="10615" y="11501"/>
                </a:cubicBezTo>
                <a:cubicBezTo>
                  <a:pt x="10570" y="11505"/>
                  <a:pt x="10536" y="11528"/>
                  <a:pt x="10506" y="11563"/>
                </a:cubicBezTo>
                <a:cubicBezTo>
                  <a:pt x="10473" y="11601"/>
                  <a:pt x="10434" y="11667"/>
                  <a:pt x="10463" y="11718"/>
                </a:cubicBezTo>
                <a:cubicBezTo>
                  <a:pt x="10468" y="11723"/>
                  <a:pt x="10473" y="11728"/>
                  <a:pt x="10478" y="11733"/>
                </a:cubicBezTo>
                <a:cubicBezTo>
                  <a:pt x="10530" y="11732"/>
                  <a:pt x="10564" y="11714"/>
                  <a:pt x="10601" y="11675"/>
                </a:cubicBezTo>
                <a:cubicBezTo>
                  <a:pt x="10680" y="11593"/>
                  <a:pt x="10726" y="11478"/>
                  <a:pt x="10753" y="11370"/>
                </a:cubicBezTo>
                <a:cubicBezTo>
                  <a:pt x="10770" y="11303"/>
                  <a:pt x="10786" y="11232"/>
                  <a:pt x="10779" y="11163"/>
                </a:cubicBezTo>
                <a:cubicBezTo>
                  <a:pt x="10742" y="11203"/>
                  <a:pt x="10729" y="11259"/>
                  <a:pt x="10720" y="11314"/>
                </a:cubicBezTo>
                <a:cubicBezTo>
                  <a:pt x="10705" y="11405"/>
                  <a:pt x="10711" y="11496"/>
                  <a:pt x="10742" y="11584"/>
                </a:cubicBezTo>
                <a:cubicBezTo>
                  <a:pt x="10761" y="11637"/>
                  <a:pt x="10787" y="11661"/>
                  <a:pt x="10828" y="11695"/>
                </a:cubicBezTo>
              </a:path>
              <a:path w="1412" h="696">
                <a:moveTo>
                  <a:pt x="11024" y="11528"/>
                </a:moveTo>
                <a:cubicBezTo>
                  <a:pt x="11013" y="11509"/>
                  <a:pt x="10998" y="11492"/>
                  <a:pt x="10973" y="11490"/>
                </a:cubicBezTo>
                <a:cubicBezTo>
                  <a:pt x="10955" y="11489"/>
                  <a:pt x="10931" y="11502"/>
                  <a:pt x="10922" y="11518"/>
                </a:cubicBezTo>
                <a:cubicBezTo>
                  <a:pt x="10911" y="11538"/>
                  <a:pt x="10927" y="11562"/>
                  <a:pt x="10937" y="11578"/>
                </a:cubicBezTo>
                <a:cubicBezTo>
                  <a:pt x="10959" y="11613"/>
                  <a:pt x="10995" y="11640"/>
                  <a:pt x="11011" y="11679"/>
                </a:cubicBezTo>
                <a:cubicBezTo>
                  <a:pt x="11019" y="11700"/>
                  <a:pt x="11022" y="11733"/>
                  <a:pt x="11003" y="11749"/>
                </a:cubicBezTo>
                <a:cubicBezTo>
                  <a:pt x="10984" y="11766"/>
                  <a:pt x="10956" y="11765"/>
                  <a:pt x="10933" y="11763"/>
                </a:cubicBezTo>
                <a:cubicBezTo>
                  <a:pt x="10903" y="11760"/>
                  <a:pt x="10892" y="11746"/>
                  <a:pt x="10881" y="11719"/>
                </a:cubicBezTo>
                <a:cubicBezTo>
                  <a:pt x="10879" y="11712"/>
                  <a:pt x="10876" y="11704"/>
                  <a:pt x="10874" y="1169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4200480" y="3925800"/>
            <a:ext cx="534960" cy="285840"/>
          </a:xfrm>
          <a:custGeom>
            <a:avLst/>
            <a:gdLst/>
            <a:ahLst/>
            <a:rect l="l" t="t" r="r" b="b"/>
            <a:pathLst>
              <a:path w="1488" h="795">
                <a:moveTo>
                  <a:pt x="11684" y="11450"/>
                </a:moveTo>
                <a:cubicBezTo>
                  <a:pt x="11664" y="11478"/>
                  <a:pt x="11668" y="11495"/>
                  <a:pt x="11668" y="11529"/>
                </a:cubicBezTo>
                <a:cubicBezTo>
                  <a:pt x="11668" y="11573"/>
                  <a:pt x="11679" y="11619"/>
                  <a:pt x="11697" y="11660"/>
                </a:cubicBezTo>
                <a:cubicBezTo>
                  <a:pt x="11708" y="11685"/>
                  <a:pt x="11726" y="11711"/>
                  <a:pt x="11754" y="11689"/>
                </a:cubicBezTo>
                <a:cubicBezTo>
                  <a:pt x="11791" y="11660"/>
                  <a:pt x="11813" y="11607"/>
                  <a:pt x="11838" y="11569"/>
                </a:cubicBezTo>
                <a:cubicBezTo>
                  <a:pt x="11863" y="11531"/>
                  <a:pt x="11886" y="11494"/>
                  <a:pt x="11919" y="11463"/>
                </a:cubicBezTo>
                <a:cubicBezTo>
                  <a:pt x="11955" y="11465"/>
                  <a:pt x="11954" y="11497"/>
                  <a:pt x="11959" y="11532"/>
                </a:cubicBezTo>
                <a:cubicBezTo>
                  <a:pt x="11966" y="11576"/>
                  <a:pt x="11967" y="11662"/>
                  <a:pt x="12007" y="11693"/>
                </a:cubicBezTo>
                <a:cubicBezTo>
                  <a:pt x="12037" y="11716"/>
                  <a:pt x="12076" y="11650"/>
                  <a:pt x="12088" y="11634"/>
                </a:cubicBezTo>
                <a:cubicBezTo>
                  <a:pt x="12121" y="11589"/>
                  <a:pt x="12143" y="11539"/>
                  <a:pt x="12175" y="11495"/>
                </a:cubicBezTo>
                <a:cubicBezTo>
                  <a:pt x="12191" y="11473"/>
                  <a:pt x="12211" y="11452"/>
                  <a:pt x="12229" y="11432"/>
                </a:cubicBezTo>
              </a:path>
              <a:path w="1488" h="795">
                <a:moveTo>
                  <a:pt x="12383" y="11455"/>
                </a:moveTo>
                <a:cubicBezTo>
                  <a:pt x="12377" y="11501"/>
                  <a:pt x="12366" y="11548"/>
                  <a:pt x="12362" y="11594"/>
                </a:cubicBezTo>
                <a:cubicBezTo>
                  <a:pt x="12359" y="11621"/>
                  <a:pt x="12362" y="11649"/>
                  <a:pt x="12358" y="11676"/>
                </a:cubicBezTo>
                <a:cubicBezTo>
                  <a:pt x="12372" y="11657"/>
                  <a:pt x="12376" y="11648"/>
                  <a:pt x="12378" y="11631"/>
                </a:cubicBezTo>
              </a:path>
              <a:path w="1488" h="795">
                <a:moveTo>
                  <a:pt x="12574" y="10904"/>
                </a:moveTo>
                <a:cubicBezTo>
                  <a:pt x="12573" y="10983"/>
                  <a:pt x="12580" y="11062"/>
                  <a:pt x="12581" y="11141"/>
                </a:cubicBezTo>
                <a:cubicBezTo>
                  <a:pt x="12583" y="11259"/>
                  <a:pt x="12584" y="11376"/>
                  <a:pt x="12573" y="11494"/>
                </a:cubicBezTo>
                <a:cubicBezTo>
                  <a:pt x="12569" y="11539"/>
                  <a:pt x="12569" y="11551"/>
                  <a:pt x="12557" y="11577"/>
                </a:cubicBezTo>
              </a:path>
              <a:path w="1488" h="795">
                <a:moveTo>
                  <a:pt x="12494" y="11312"/>
                </a:moveTo>
                <a:cubicBezTo>
                  <a:pt x="12518" y="11263"/>
                  <a:pt x="12552" y="11216"/>
                  <a:pt x="12596" y="11180"/>
                </a:cubicBezTo>
                <a:cubicBezTo>
                  <a:pt x="12639" y="11145"/>
                  <a:pt x="12677" y="11110"/>
                  <a:pt x="12719" y="11073"/>
                </a:cubicBezTo>
              </a:path>
              <a:path w="1488" h="795">
                <a:moveTo>
                  <a:pt x="12862" y="11013"/>
                </a:moveTo>
                <a:cubicBezTo>
                  <a:pt x="12861" y="11082"/>
                  <a:pt x="12858" y="11153"/>
                  <a:pt x="12853" y="11222"/>
                </a:cubicBezTo>
                <a:cubicBezTo>
                  <a:pt x="12849" y="11275"/>
                  <a:pt x="12841" y="11329"/>
                  <a:pt x="12845" y="11382"/>
                </a:cubicBezTo>
                <a:cubicBezTo>
                  <a:pt x="12846" y="11386"/>
                  <a:pt x="12846" y="11390"/>
                  <a:pt x="12847" y="11394"/>
                </a:cubicBezTo>
                <a:cubicBezTo>
                  <a:pt x="12873" y="11366"/>
                  <a:pt x="12885" y="11320"/>
                  <a:pt x="12916" y="11297"/>
                </a:cubicBezTo>
                <a:cubicBezTo>
                  <a:pt x="12944" y="11277"/>
                  <a:pt x="12966" y="11292"/>
                  <a:pt x="12983" y="11315"/>
                </a:cubicBezTo>
                <a:cubicBezTo>
                  <a:pt x="13013" y="11355"/>
                  <a:pt x="13033" y="11403"/>
                  <a:pt x="13066" y="11441"/>
                </a:cubicBezTo>
                <a:cubicBezTo>
                  <a:pt x="13093" y="11472"/>
                  <a:pt x="13117" y="11482"/>
                  <a:pt x="13153" y="1149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4987800" y="3997440"/>
            <a:ext cx="139680" cy="147600"/>
          </a:xfrm>
          <a:custGeom>
            <a:avLst/>
            <a:gdLst/>
            <a:ahLst/>
            <a:rect l="l" t="t" r="r" b="b"/>
            <a:pathLst>
              <a:path w="388" h="409">
                <a:moveTo>
                  <a:pt x="14008" y="11154"/>
                </a:moveTo>
                <a:cubicBezTo>
                  <a:pt x="13999" y="11133"/>
                  <a:pt x="13989" y="11086"/>
                  <a:pt x="13953" y="11106"/>
                </a:cubicBezTo>
                <a:cubicBezTo>
                  <a:pt x="13918" y="11126"/>
                  <a:pt x="13889" y="11177"/>
                  <a:pt x="13874" y="11213"/>
                </a:cubicBezTo>
                <a:cubicBezTo>
                  <a:pt x="13862" y="11241"/>
                  <a:pt x="13843" y="11302"/>
                  <a:pt x="13867" y="11330"/>
                </a:cubicBezTo>
                <a:cubicBezTo>
                  <a:pt x="13892" y="11359"/>
                  <a:pt x="13952" y="11318"/>
                  <a:pt x="13973" y="11305"/>
                </a:cubicBezTo>
                <a:cubicBezTo>
                  <a:pt x="14020" y="11276"/>
                  <a:pt x="14082" y="11207"/>
                  <a:pt x="14141" y="11204"/>
                </a:cubicBezTo>
                <a:cubicBezTo>
                  <a:pt x="14186" y="11202"/>
                  <a:pt x="14193" y="11268"/>
                  <a:pt x="14199" y="11298"/>
                </a:cubicBezTo>
                <a:cubicBezTo>
                  <a:pt x="14212" y="11360"/>
                  <a:pt x="14214" y="11424"/>
                  <a:pt x="14233" y="11485"/>
                </a:cubicBezTo>
                <a:cubicBezTo>
                  <a:pt x="14237" y="11494"/>
                  <a:pt x="14240" y="11503"/>
                  <a:pt x="14244" y="1151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5364000" y="3936960"/>
            <a:ext cx="644760" cy="309600"/>
          </a:xfrm>
          <a:custGeom>
            <a:avLst/>
            <a:gdLst/>
            <a:ahLst/>
            <a:rect l="l" t="t" r="r" b="b"/>
            <a:pathLst>
              <a:path w="1788" h="864">
                <a:moveTo>
                  <a:pt x="15079" y="11304"/>
                </a:moveTo>
                <a:cubicBezTo>
                  <a:pt x="15082" y="11278"/>
                  <a:pt x="15090" y="11241"/>
                  <a:pt x="15062" y="11223"/>
                </a:cubicBezTo>
                <a:cubicBezTo>
                  <a:pt x="15033" y="11205"/>
                  <a:pt x="14998" y="11219"/>
                  <a:pt x="14969" y="11230"/>
                </a:cubicBezTo>
                <a:cubicBezTo>
                  <a:pt x="14941" y="11241"/>
                  <a:pt x="14922" y="11255"/>
                  <a:pt x="14902" y="11277"/>
                </a:cubicBezTo>
                <a:cubicBezTo>
                  <a:pt x="14928" y="11281"/>
                  <a:pt x="14957" y="11278"/>
                  <a:pt x="14983" y="11285"/>
                </a:cubicBezTo>
                <a:cubicBezTo>
                  <a:pt x="15017" y="11294"/>
                  <a:pt x="15040" y="11320"/>
                  <a:pt x="15052" y="11353"/>
                </a:cubicBezTo>
                <a:cubicBezTo>
                  <a:pt x="15069" y="11400"/>
                  <a:pt x="15067" y="11457"/>
                  <a:pt x="15040" y="11499"/>
                </a:cubicBezTo>
                <a:cubicBezTo>
                  <a:pt x="15028" y="11517"/>
                  <a:pt x="15001" y="11538"/>
                  <a:pt x="14978" y="11523"/>
                </a:cubicBezTo>
                <a:cubicBezTo>
                  <a:pt x="14949" y="11504"/>
                  <a:pt x="14952" y="11458"/>
                  <a:pt x="14961" y="11430"/>
                </a:cubicBezTo>
                <a:cubicBezTo>
                  <a:pt x="14966" y="11419"/>
                  <a:pt x="14971" y="11407"/>
                  <a:pt x="14976" y="11396"/>
                </a:cubicBezTo>
              </a:path>
              <a:path w="1788" h="864">
                <a:moveTo>
                  <a:pt x="15243" y="11252"/>
                </a:moveTo>
                <a:cubicBezTo>
                  <a:pt x="15254" y="11295"/>
                  <a:pt x="15257" y="11336"/>
                  <a:pt x="15263" y="11380"/>
                </a:cubicBezTo>
                <a:cubicBezTo>
                  <a:pt x="15263" y="11383"/>
                  <a:pt x="15272" y="11469"/>
                  <a:pt x="15271" y="11468"/>
                </a:cubicBezTo>
                <a:cubicBezTo>
                  <a:pt x="15269" y="11456"/>
                  <a:pt x="15268" y="11450"/>
                  <a:pt x="15267" y="11441"/>
                </a:cubicBezTo>
              </a:path>
              <a:path w="1788" h="864">
                <a:moveTo>
                  <a:pt x="15422" y="11266"/>
                </a:moveTo>
                <a:cubicBezTo>
                  <a:pt x="15424" y="11306"/>
                  <a:pt x="15426" y="11348"/>
                  <a:pt x="15423" y="11388"/>
                </a:cubicBezTo>
                <a:cubicBezTo>
                  <a:pt x="15420" y="11402"/>
                  <a:pt x="15419" y="11407"/>
                  <a:pt x="15424" y="11416"/>
                </a:cubicBezTo>
                <a:cubicBezTo>
                  <a:pt x="15448" y="11390"/>
                  <a:pt x="15465" y="11360"/>
                  <a:pt x="15486" y="11332"/>
                </a:cubicBezTo>
                <a:cubicBezTo>
                  <a:pt x="15513" y="11296"/>
                  <a:pt x="15553" y="11241"/>
                  <a:pt x="15604" y="11244"/>
                </a:cubicBezTo>
                <a:cubicBezTo>
                  <a:pt x="15638" y="11246"/>
                  <a:pt x="15662" y="11288"/>
                  <a:pt x="15678" y="11313"/>
                </a:cubicBezTo>
                <a:cubicBezTo>
                  <a:pt x="15697" y="11343"/>
                  <a:pt x="15709" y="11373"/>
                  <a:pt x="15734" y="11398"/>
                </a:cubicBezTo>
              </a:path>
              <a:path w="1788" h="864">
                <a:moveTo>
                  <a:pt x="15914" y="11231"/>
                </a:moveTo>
                <a:cubicBezTo>
                  <a:pt x="15887" y="11243"/>
                  <a:pt x="15865" y="11268"/>
                  <a:pt x="15847" y="11291"/>
                </a:cubicBezTo>
                <a:cubicBezTo>
                  <a:pt x="15826" y="11319"/>
                  <a:pt x="15810" y="11346"/>
                  <a:pt x="15800" y="11379"/>
                </a:cubicBezTo>
                <a:cubicBezTo>
                  <a:pt x="15832" y="11384"/>
                  <a:pt x="15849" y="11366"/>
                  <a:pt x="15877" y="11346"/>
                </a:cubicBezTo>
                <a:cubicBezTo>
                  <a:pt x="15899" y="11331"/>
                  <a:pt x="15934" y="11292"/>
                  <a:pt x="15964" y="11308"/>
                </a:cubicBezTo>
                <a:cubicBezTo>
                  <a:pt x="16005" y="11329"/>
                  <a:pt x="16007" y="11412"/>
                  <a:pt x="16009" y="11448"/>
                </a:cubicBezTo>
                <a:cubicBezTo>
                  <a:pt x="16013" y="11529"/>
                  <a:pt x="16010" y="11616"/>
                  <a:pt x="15981" y="11693"/>
                </a:cubicBezTo>
                <a:cubicBezTo>
                  <a:pt x="15961" y="11746"/>
                  <a:pt x="15926" y="11797"/>
                  <a:pt x="15865" y="11797"/>
                </a:cubicBezTo>
                <a:cubicBezTo>
                  <a:pt x="15811" y="11797"/>
                  <a:pt x="15791" y="11717"/>
                  <a:pt x="15784" y="11677"/>
                </a:cubicBezTo>
                <a:cubicBezTo>
                  <a:pt x="15782" y="11657"/>
                  <a:pt x="15781" y="11638"/>
                  <a:pt x="15779" y="11618"/>
                </a:cubicBezTo>
              </a:path>
              <a:path w="1788" h="864">
                <a:moveTo>
                  <a:pt x="16156" y="10934"/>
                </a:moveTo>
                <a:cubicBezTo>
                  <a:pt x="16187" y="10975"/>
                  <a:pt x="16188" y="11027"/>
                  <a:pt x="16189" y="11079"/>
                </a:cubicBezTo>
                <a:cubicBezTo>
                  <a:pt x="16191" y="11160"/>
                  <a:pt x="16190" y="11242"/>
                  <a:pt x="16192" y="11323"/>
                </a:cubicBezTo>
                <a:cubicBezTo>
                  <a:pt x="16193" y="11351"/>
                  <a:pt x="16197" y="11376"/>
                  <a:pt x="16205" y="11403"/>
                </a:cubicBezTo>
              </a:path>
              <a:path w="1788" h="864">
                <a:moveTo>
                  <a:pt x="16421" y="11278"/>
                </a:moveTo>
                <a:cubicBezTo>
                  <a:pt x="16460" y="11259"/>
                  <a:pt x="16486" y="11245"/>
                  <a:pt x="16515" y="11216"/>
                </a:cubicBezTo>
                <a:cubicBezTo>
                  <a:pt x="16527" y="11205"/>
                  <a:pt x="16532" y="11202"/>
                  <a:pt x="16527" y="11190"/>
                </a:cubicBezTo>
                <a:cubicBezTo>
                  <a:pt x="16484" y="11195"/>
                  <a:pt x="16453" y="11213"/>
                  <a:pt x="16420" y="11245"/>
                </a:cubicBezTo>
                <a:cubicBezTo>
                  <a:pt x="16391" y="11273"/>
                  <a:pt x="16359" y="11317"/>
                  <a:pt x="16367" y="11360"/>
                </a:cubicBezTo>
                <a:cubicBezTo>
                  <a:pt x="16376" y="11407"/>
                  <a:pt x="16461" y="11404"/>
                  <a:pt x="16494" y="11403"/>
                </a:cubicBezTo>
                <a:cubicBezTo>
                  <a:pt x="16560" y="11402"/>
                  <a:pt x="16625" y="11388"/>
                  <a:pt x="16689" y="1137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6161040" y="4008600"/>
            <a:ext cx="25560" cy="133200"/>
          </a:xfrm>
          <a:custGeom>
            <a:avLst/>
            <a:gdLst/>
            <a:ahLst/>
            <a:rect l="l" t="t" r="r" b="b"/>
            <a:pathLst>
              <a:path w="73" h="368">
                <a:moveTo>
                  <a:pt x="17114" y="11145"/>
                </a:moveTo>
                <a:cubicBezTo>
                  <a:pt x="17116" y="11122"/>
                  <a:pt x="17126" y="11191"/>
                  <a:pt x="17127" y="11199"/>
                </a:cubicBezTo>
                <a:cubicBezTo>
                  <a:pt x="17135" y="11258"/>
                  <a:pt x="17144" y="11316"/>
                  <a:pt x="17155" y="11374"/>
                </a:cubicBezTo>
                <a:cubicBezTo>
                  <a:pt x="17163" y="11418"/>
                  <a:pt x="17170" y="11461"/>
                  <a:pt x="17185" y="1150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6380280" y="3905280"/>
            <a:ext cx="104760" cy="196920"/>
          </a:xfrm>
          <a:custGeom>
            <a:avLst/>
            <a:gdLst/>
            <a:ahLst/>
            <a:rect l="l" t="t" r="r" b="b"/>
            <a:pathLst>
              <a:path w="294" h="548">
                <a:moveTo>
                  <a:pt x="17735" y="10889"/>
                </a:moveTo>
                <a:cubicBezTo>
                  <a:pt x="17741" y="10861"/>
                  <a:pt x="17737" y="10855"/>
                  <a:pt x="17771" y="10848"/>
                </a:cubicBezTo>
                <a:cubicBezTo>
                  <a:pt x="17798" y="10843"/>
                  <a:pt x="17819" y="10878"/>
                  <a:pt x="17822" y="10899"/>
                </a:cubicBezTo>
                <a:cubicBezTo>
                  <a:pt x="17833" y="10966"/>
                  <a:pt x="17789" y="11031"/>
                  <a:pt x="17746" y="11077"/>
                </a:cubicBezTo>
                <a:cubicBezTo>
                  <a:pt x="17732" y="11090"/>
                  <a:pt x="17730" y="11093"/>
                  <a:pt x="17721" y="11100"/>
                </a:cubicBezTo>
                <a:cubicBezTo>
                  <a:pt x="17764" y="11081"/>
                  <a:pt x="17806" y="11068"/>
                  <a:pt x="17853" y="11073"/>
                </a:cubicBezTo>
                <a:cubicBezTo>
                  <a:pt x="17882" y="11076"/>
                  <a:pt x="17912" y="11087"/>
                  <a:pt x="17930" y="11111"/>
                </a:cubicBezTo>
                <a:cubicBezTo>
                  <a:pt x="17943" y="11128"/>
                  <a:pt x="17938" y="11143"/>
                  <a:pt x="17956" y="11155"/>
                </a:cubicBezTo>
                <a:cubicBezTo>
                  <a:pt x="17974" y="11167"/>
                  <a:pt x="17988" y="11178"/>
                  <a:pt x="17998" y="11198"/>
                </a:cubicBezTo>
                <a:cubicBezTo>
                  <a:pt x="18023" y="11246"/>
                  <a:pt x="18019" y="11302"/>
                  <a:pt x="17986" y="11344"/>
                </a:cubicBezTo>
                <a:cubicBezTo>
                  <a:pt x="17960" y="11377"/>
                  <a:pt x="17925" y="11385"/>
                  <a:pt x="17885" y="11390"/>
                </a:cubicBezTo>
                <a:cubicBezTo>
                  <a:pt x="17856" y="11393"/>
                  <a:pt x="17825" y="11395"/>
                  <a:pt x="17796" y="11393"/>
                </a:cubicBezTo>
                <a:cubicBezTo>
                  <a:pt x="17773" y="11391"/>
                  <a:pt x="17750" y="11388"/>
                  <a:pt x="17727" y="1138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6964200" y="3886200"/>
            <a:ext cx="592200" cy="264960"/>
          </a:xfrm>
          <a:custGeom>
            <a:avLst/>
            <a:gdLst/>
            <a:ahLst/>
            <a:rect l="l" t="t" r="r" b="b"/>
            <a:pathLst>
              <a:path w="1647" h="739">
                <a:moveTo>
                  <a:pt x="19355" y="10794"/>
                </a:moveTo>
                <a:cubicBezTo>
                  <a:pt x="19341" y="10848"/>
                  <a:pt x="19349" y="10902"/>
                  <a:pt x="19353" y="10958"/>
                </a:cubicBezTo>
                <a:cubicBezTo>
                  <a:pt x="19359" y="11047"/>
                  <a:pt x="19374" y="11133"/>
                  <a:pt x="19388" y="11220"/>
                </a:cubicBezTo>
                <a:cubicBezTo>
                  <a:pt x="19394" y="11256"/>
                  <a:pt x="19395" y="11312"/>
                  <a:pt x="19429" y="11336"/>
                </a:cubicBezTo>
                <a:cubicBezTo>
                  <a:pt x="19433" y="11337"/>
                  <a:pt x="19437" y="11339"/>
                  <a:pt x="19441" y="11340"/>
                </a:cubicBezTo>
              </a:path>
              <a:path w="1647" h="739">
                <a:moveTo>
                  <a:pt x="19506" y="11374"/>
                </a:moveTo>
                <a:cubicBezTo>
                  <a:pt x="19521" y="11349"/>
                  <a:pt x="19517" y="11337"/>
                  <a:pt x="19525" y="11309"/>
                </a:cubicBezTo>
                <a:cubicBezTo>
                  <a:pt x="19545" y="11241"/>
                  <a:pt x="19570" y="11172"/>
                  <a:pt x="19599" y="11108"/>
                </a:cubicBezTo>
                <a:cubicBezTo>
                  <a:pt x="19623" y="11055"/>
                  <a:pt x="19667" y="10925"/>
                  <a:pt x="19728" y="10901"/>
                </a:cubicBezTo>
                <a:cubicBezTo>
                  <a:pt x="19735" y="10902"/>
                  <a:pt x="19741" y="10902"/>
                  <a:pt x="19748" y="10903"/>
                </a:cubicBezTo>
                <a:cubicBezTo>
                  <a:pt x="19775" y="10966"/>
                  <a:pt x="19770" y="11028"/>
                  <a:pt x="19769" y="11097"/>
                </a:cubicBezTo>
                <a:cubicBezTo>
                  <a:pt x="19768" y="11181"/>
                  <a:pt x="19771" y="11269"/>
                  <a:pt x="19762" y="11353"/>
                </a:cubicBezTo>
                <a:cubicBezTo>
                  <a:pt x="19760" y="11376"/>
                  <a:pt x="19762" y="11417"/>
                  <a:pt x="19747" y="11387"/>
                </a:cubicBezTo>
              </a:path>
              <a:path w="1647" h="739">
                <a:moveTo>
                  <a:pt x="19625" y="11247"/>
                </a:moveTo>
                <a:cubicBezTo>
                  <a:pt x="19620" y="11247"/>
                  <a:pt x="19616" y="11248"/>
                  <a:pt x="19611" y="11248"/>
                </a:cubicBezTo>
                <a:cubicBezTo>
                  <a:pt x="19649" y="11236"/>
                  <a:pt x="19694" y="11226"/>
                  <a:pt x="19734" y="11219"/>
                </a:cubicBezTo>
                <a:cubicBezTo>
                  <a:pt x="19797" y="11208"/>
                  <a:pt x="19869" y="11196"/>
                  <a:pt x="19933" y="11200"/>
                </a:cubicBezTo>
                <a:cubicBezTo>
                  <a:pt x="19956" y="11204"/>
                  <a:pt x="19962" y="11205"/>
                  <a:pt x="19976" y="11211"/>
                </a:cubicBezTo>
              </a:path>
              <a:path w="1647" h="739">
                <a:moveTo>
                  <a:pt x="19962" y="11273"/>
                </a:moveTo>
                <a:cubicBezTo>
                  <a:pt x="19943" y="11296"/>
                  <a:pt x="19923" y="11319"/>
                  <a:pt x="19910" y="11344"/>
                </a:cubicBezTo>
                <a:cubicBezTo>
                  <a:pt x="19928" y="11369"/>
                  <a:pt x="19951" y="11364"/>
                  <a:pt x="19983" y="11373"/>
                </a:cubicBezTo>
                <a:cubicBezTo>
                  <a:pt x="20013" y="11382"/>
                  <a:pt x="20042" y="11394"/>
                  <a:pt x="20052" y="11426"/>
                </a:cubicBezTo>
                <a:cubicBezTo>
                  <a:pt x="20061" y="11454"/>
                  <a:pt x="20048" y="11479"/>
                  <a:pt x="20045" y="11506"/>
                </a:cubicBezTo>
                <a:cubicBezTo>
                  <a:pt x="20041" y="11550"/>
                  <a:pt x="20085" y="11519"/>
                  <a:pt x="20101" y="11509"/>
                </a:cubicBezTo>
                <a:cubicBezTo>
                  <a:pt x="20134" y="11488"/>
                  <a:pt x="20157" y="11464"/>
                  <a:pt x="20184" y="11436"/>
                </a:cubicBezTo>
              </a:path>
              <a:path w="1647" h="739">
                <a:moveTo>
                  <a:pt x="20281" y="10918"/>
                </a:moveTo>
                <a:cubicBezTo>
                  <a:pt x="20284" y="10967"/>
                  <a:pt x="20284" y="11016"/>
                  <a:pt x="20288" y="11064"/>
                </a:cubicBezTo>
                <a:cubicBezTo>
                  <a:pt x="20294" y="11138"/>
                  <a:pt x="20307" y="11217"/>
                  <a:pt x="20334" y="11287"/>
                </a:cubicBezTo>
                <a:cubicBezTo>
                  <a:pt x="20352" y="11334"/>
                  <a:pt x="20369" y="11360"/>
                  <a:pt x="20415" y="11374"/>
                </a:cubicBezTo>
              </a:path>
              <a:path w="1647" h="739">
                <a:moveTo>
                  <a:pt x="20654" y="11076"/>
                </a:moveTo>
                <a:cubicBezTo>
                  <a:pt x="20681" y="11069"/>
                  <a:pt x="20700" y="11066"/>
                  <a:pt x="20728" y="11064"/>
                </a:cubicBezTo>
                <a:cubicBezTo>
                  <a:pt x="20778" y="11060"/>
                  <a:pt x="20831" y="11056"/>
                  <a:pt x="20881" y="11060"/>
                </a:cubicBezTo>
                <a:cubicBezTo>
                  <a:pt x="20902" y="11061"/>
                  <a:pt x="20979" y="11056"/>
                  <a:pt x="20991" y="11079"/>
                </a:cubicBezTo>
                <a:cubicBezTo>
                  <a:pt x="20985" y="11092"/>
                  <a:pt x="20981" y="11097"/>
                  <a:pt x="20970" y="11101"/>
                </a:cubicBezTo>
              </a:path>
              <a:path w="1647" h="739">
                <a:moveTo>
                  <a:pt x="20569" y="11266"/>
                </a:moveTo>
                <a:cubicBezTo>
                  <a:pt x="20563" y="11269"/>
                  <a:pt x="20558" y="11272"/>
                  <a:pt x="20552" y="11275"/>
                </a:cubicBezTo>
                <a:cubicBezTo>
                  <a:pt x="20603" y="11278"/>
                  <a:pt x="20645" y="11267"/>
                  <a:pt x="20695" y="11259"/>
                </a:cubicBezTo>
                <a:cubicBezTo>
                  <a:pt x="20755" y="11250"/>
                  <a:pt x="20817" y="11239"/>
                  <a:pt x="20878" y="11236"/>
                </a:cubicBezTo>
                <a:cubicBezTo>
                  <a:pt x="20905" y="11234"/>
                  <a:pt x="20934" y="11237"/>
                  <a:pt x="20961" y="1123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7694640" y="3882960"/>
            <a:ext cx="245880" cy="212760"/>
          </a:xfrm>
          <a:custGeom>
            <a:avLst/>
            <a:gdLst/>
            <a:ahLst/>
            <a:rect l="l" t="t" r="r" b="b"/>
            <a:pathLst>
              <a:path w="684" h="591">
                <a:moveTo>
                  <a:pt x="21378" y="10915"/>
                </a:moveTo>
                <a:cubicBezTo>
                  <a:pt x="21378" y="10885"/>
                  <a:pt x="21405" y="10859"/>
                  <a:pt x="21432" y="10841"/>
                </a:cubicBezTo>
                <a:cubicBezTo>
                  <a:pt x="21465" y="10819"/>
                  <a:pt x="21526" y="10790"/>
                  <a:pt x="21565" y="10815"/>
                </a:cubicBezTo>
                <a:cubicBezTo>
                  <a:pt x="21624" y="10853"/>
                  <a:pt x="21596" y="10944"/>
                  <a:pt x="21582" y="10995"/>
                </a:cubicBezTo>
                <a:cubicBezTo>
                  <a:pt x="21557" y="11088"/>
                  <a:pt x="21512" y="11171"/>
                  <a:pt x="21462" y="11252"/>
                </a:cubicBezTo>
                <a:cubicBezTo>
                  <a:pt x="21436" y="11294"/>
                  <a:pt x="21405" y="11333"/>
                  <a:pt x="21373" y="11370"/>
                </a:cubicBezTo>
                <a:cubicBezTo>
                  <a:pt x="21404" y="11374"/>
                  <a:pt x="21439" y="11367"/>
                  <a:pt x="21471" y="11362"/>
                </a:cubicBezTo>
                <a:cubicBezTo>
                  <a:pt x="21526" y="11353"/>
                  <a:pt x="21579" y="11351"/>
                  <a:pt x="21633" y="11338"/>
                </a:cubicBezTo>
                <a:cubicBezTo>
                  <a:pt x="21666" y="11329"/>
                  <a:pt x="21677" y="11326"/>
                  <a:pt x="21697" y="11315"/>
                </a:cubicBezTo>
              </a:path>
              <a:path w="684" h="591">
                <a:moveTo>
                  <a:pt x="21912" y="10821"/>
                </a:moveTo>
                <a:cubicBezTo>
                  <a:pt x="21915" y="10804"/>
                  <a:pt x="21916" y="10799"/>
                  <a:pt x="21914" y="10788"/>
                </a:cubicBezTo>
                <a:cubicBezTo>
                  <a:pt x="21882" y="10783"/>
                  <a:pt x="21867" y="10798"/>
                  <a:pt x="21845" y="10823"/>
                </a:cubicBezTo>
                <a:cubicBezTo>
                  <a:pt x="21824" y="10848"/>
                  <a:pt x="21797" y="10886"/>
                  <a:pt x="21790" y="10918"/>
                </a:cubicBezTo>
                <a:cubicBezTo>
                  <a:pt x="21790" y="10923"/>
                  <a:pt x="21790" y="10927"/>
                  <a:pt x="21790" y="10932"/>
                </a:cubicBezTo>
                <a:cubicBezTo>
                  <a:pt x="21830" y="10915"/>
                  <a:pt x="21855" y="10890"/>
                  <a:pt x="21885" y="10858"/>
                </a:cubicBezTo>
                <a:cubicBezTo>
                  <a:pt x="21911" y="10831"/>
                  <a:pt x="21931" y="10802"/>
                  <a:pt x="21965" y="10787"/>
                </a:cubicBezTo>
                <a:cubicBezTo>
                  <a:pt x="21987" y="10809"/>
                  <a:pt x="21986" y="10847"/>
                  <a:pt x="21992" y="10879"/>
                </a:cubicBezTo>
                <a:cubicBezTo>
                  <a:pt x="22005" y="10950"/>
                  <a:pt x="22017" y="11022"/>
                  <a:pt x="22033" y="11092"/>
                </a:cubicBezTo>
                <a:cubicBezTo>
                  <a:pt x="22038" y="11113"/>
                  <a:pt x="22046" y="11129"/>
                  <a:pt x="22056" y="1114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6913440" y="4276800"/>
            <a:ext cx="798480" cy="258840"/>
          </a:xfrm>
          <a:custGeom>
            <a:avLst/>
            <a:gdLst/>
            <a:ahLst/>
            <a:rect l="l" t="t" r="r" b="b"/>
            <a:pathLst>
              <a:path w="2217" h="717">
                <a:moveTo>
                  <a:pt x="19236" y="11963"/>
                </a:moveTo>
                <a:cubicBezTo>
                  <a:pt x="19222" y="11942"/>
                  <a:pt x="19208" y="12000"/>
                  <a:pt x="19206" y="12017"/>
                </a:cubicBezTo>
                <a:cubicBezTo>
                  <a:pt x="19199" y="12094"/>
                  <a:pt x="19203" y="12180"/>
                  <a:pt x="19210" y="12257"/>
                </a:cubicBezTo>
                <a:cubicBezTo>
                  <a:pt x="19216" y="12325"/>
                  <a:pt x="19229" y="12391"/>
                  <a:pt x="19244" y="12457"/>
                </a:cubicBezTo>
                <a:cubicBezTo>
                  <a:pt x="19253" y="12495"/>
                  <a:pt x="19260" y="12464"/>
                  <a:pt x="19269" y="12445"/>
                </a:cubicBezTo>
              </a:path>
              <a:path w="2217" h="717">
                <a:moveTo>
                  <a:pt x="19437" y="12549"/>
                </a:moveTo>
                <a:cubicBezTo>
                  <a:pt x="19438" y="12570"/>
                  <a:pt x="19439" y="12574"/>
                  <a:pt x="19436" y="12587"/>
                </a:cubicBezTo>
                <a:cubicBezTo>
                  <a:pt x="19417" y="12557"/>
                  <a:pt x="19423" y="12515"/>
                  <a:pt x="19425" y="12479"/>
                </a:cubicBezTo>
                <a:cubicBezTo>
                  <a:pt x="19431" y="12353"/>
                  <a:pt x="19455" y="12225"/>
                  <a:pt x="19485" y="12102"/>
                </a:cubicBezTo>
                <a:cubicBezTo>
                  <a:pt x="19502" y="12033"/>
                  <a:pt x="19521" y="11972"/>
                  <a:pt x="19563" y="11915"/>
                </a:cubicBezTo>
                <a:cubicBezTo>
                  <a:pt x="19606" y="11937"/>
                  <a:pt x="19608" y="11990"/>
                  <a:pt x="19617" y="12037"/>
                </a:cubicBezTo>
                <a:cubicBezTo>
                  <a:pt x="19633" y="12121"/>
                  <a:pt x="19646" y="12210"/>
                  <a:pt x="19650" y="12296"/>
                </a:cubicBezTo>
                <a:cubicBezTo>
                  <a:pt x="19652" y="12338"/>
                  <a:pt x="19644" y="12380"/>
                  <a:pt x="19636" y="12397"/>
                </a:cubicBezTo>
              </a:path>
              <a:path w="2217" h="717">
                <a:moveTo>
                  <a:pt x="19527" y="12268"/>
                </a:moveTo>
                <a:cubicBezTo>
                  <a:pt x="19557" y="12288"/>
                  <a:pt x="19573" y="12280"/>
                  <a:pt x="19607" y="12277"/>
                </a:cubicBezTo>
                <a:cubicBezTo>
                  <a:pt x="19658" y="12272"/>
                  <a:pt x="19706" y="12263"/>
                  <a:pt x="19756" y="12257"/>
                </a:cubicBezTo>
                <a:cubicBezTo>
                  <a:pt x="19778" y="12254"/>
                  <a:pt x="19799" y="12252"/>
                  <a:pt x="19821" y="12251"/>
                </a:cubicBezTo>
              </a:path>
              <a:path w="2217" h="717">
                <a:moveTo>
                  <a:pt x="19824" y="12369"/>
                </a:moveTo>
                <a:cubicBezTo>
                  <a:pt x="19821" y="12412"/>
                  <a:pt x="19815" y="12461"/>
                  <a:pt x="19819" y="12503"/>
                </a:cubicBezTo>
                <a:cubicBezTo>
                  <a:pt x="19822" y="12528"/>
                  <a:pt x="19821" y="12563"/>
                  <a:pt x="19830" y="12587"/>
                </a:cubicBezTo>
                <a:cubicBezTo>
                  <a:pt x="19832" y="12590"/>
                  <a:pt x="19833" y="12594"/>
                  <a:pt x="19835" y="12597"/>
                </a:cubicBezTo>
              </a:path>
              <a:path w="2217" h="717">
                <a:moveTo>
                  <a:pt x="19978" y="12333"/>
                </a:moveTo>
                <a:cubicBezTo>
                  <a:pt x="19997" y="12323"/>
                  <a:pt x="19982" y="12308"/>
                  <a:pt x="19984" y="12282"/>
                </a:cubicBezTo>
                <a:cubicBezTo>
                  <a:pt x="19987" y="12229"/>
                  <a:pt x="20011" y="12168"/>
                  <a:pt x="20033" y="12120"/>
                </a:cubicBezTo>
                <a:cubicBezTo>
                  <a:pt x="20058" y="12065"/>
                  <a:pt x="20093" y="11999"/>
                  <a:pt x="20143" y="11962"/>
                </a:cubicBezTo>
                <a:cubicBezTo>
                  <a:pt x="20188" y="11929"/>
                  <a:pt x="20213" y="11967"/>
                  <a:pt x="20227" y="12008"/>
                </a:cubicBezTo>
                <a:cubicBezTo>
                  <a:pt x="20250" y="12077"/>
                  <a:pt x="20256" y="12153"/>
                  <a:pt x="20268" y="12225"/>
                </a:cubicBezTo>
                <a:cubicBezTo>
                  <a:pt x="20276" y="12277"/>
                  <a:pt x="20281" y="12332"/>
                  <a:pt x="20290" y="12384"/>
                </a:cubicBezTo>
                <a:cubicBezTo>
                  <a:pt x="20296" y="12421"/>
                  <a:pt x="20311" y="12381"/>
                  <a:pt x="20316" y="12372"/>
                </a:cubicBezTo>
              </a:path>
              <a:path w="2217" h="717">
                <a:moveTo>
                  <a:pt x="20437" y="12494"/>
                </a:moveTo>
                <a:cubicBezTo>
                  <a:pt x="20456" y="12466"/>
                  <a:pt x="20469" y="12428"/>
                  <a:pt x="20480" y="12397"/>
                </a:cubicBezTo>
                <a:cubicBezTo>
                  <a:pt x="20510" y="12315"/>
                  <a:pt x="20540" y="12233"/>
                  <a:pt x="20575" y="12153"/>
                </a:cubicBezTo>
                <a:cubicBezTo>
                  <a:pt x="20604" y="12087"/>
                  <a:pt x="20633" y="12007"/>
                  <a:pt x="20682" y="11952"/>
                </a:cubicBezTo>
                <a:cubicBezTo>
                  <a:pt x="20699" y="11940"/>
                  <a:pt x="20704" y="11935"/>
                  <a:pt x="20718" y="11946"/>
                </a:cubicBezTo>
                <a:cubicBezTo>
                  <a:pt x="20746" y="12034"/>
                  <a:pt x="20748" y="12129"/>
                  <a:pt x="20759" y="12220"/>
                </a:cubicBezTo>
                <a:cubicBezTo>
                  <a:pt x="20768" y="12294"/>
                  <a:pt x="20782" y="12368"/>
                  <a:pt x="20791" y="12442"/>
                </a:cubicBezTo>
                <a:cubicBezTo>
                  <a:pt x="20791" y="12467"/>
                  <a:pt x="20790" y="12473"/>
                  <a:pt x="20782" y="12438"/>
                </a:cubicBezTo>
              </a:path>
              <a:path w="2217" h="717">
                <a:moveTo>
                  <a:pt x="20601" y="12274"/>
                </a:moveTo>
                <a:cubicBezTo>
                  <a:pt x="20646" y="12270"/>
                  <a:pt x="20690" y="12251"/>
                  <a:pt x="20734" y="12232"/>
                </a:cubicBezTo>
                <a:cubicBezTo>
                  <a:pt x="20780" y="12212"/>
                  <a:pt x="20827" y="12196"/>
                  <a:pt x="20874" y="12180"/>
                </a:cubicBezTo>
                <a:cubicBezTo>
                  <a:pt x="20878" y="12178"/>
                  <a:pt x="20881" y="12177"/>
                  <a:pt x="20885" y="12175"/>
                </a:cubicBezTo>
                <a:cubicBezTo>
                  <a:pt x="20901" y="12207"/>
                  <a:pt x="20881" y="12225"/>
                  <a:pt x="20877" y="12261"/>
                </a:cubicBezTo>
                <a:cubicBezTo>
                  <a:pt x="20873" y="12296"/>
                  <a:pt x="20866" y="12341"/>
                  <a:pt x="20910" y="12354"/>
                </a:cubicBezTo>
                <a:cubicBezTo>
                  <a:pt x="20933" y="12361"/>
                  <a:pt x="20975" y="12344"/>
                  <a:pt x="21000" y="12344"/>
                </a:cubicBezTo>
                <a:cubicBezTo>
                  <a:pt x="21031" y="12344"/>
                  <a:pt x="21040" y="12363"/>
                  <a:pt x="21031" y="12391"/>
                </a:cubicBezTo>
                <a:cubicBezTo>
                  <a:pt x="21021" y="12423"/>
                  <a:pt x="20959" y="12493"/>
                  <a:pt x="20966" y="12525"/>
                </a:cubicBezTo>
                <a:cubicBezTo>
                  <a:pt x="20967" y="12534"/>
                  <a:pt x="20968" y="12537"/>
                  <a:pt x="20976" y="12538"/>
                </a:cubicBezTo>
                <a:cubicBezTo>
                  <a:pt x="21007" y="12535"/>
                  <a:pt x="21035" y="12523"/>
                  <a:pt x="21064" y="12509"/>
                </a:cubicBezTo>
                <a:cubicBezTo>
                  <a:pt x="21095" y="12494"/>
                  <a:pt x="21105" y="12488"/>
                  <a:pt x="21124" y="12474"/>
                </a:cubicBezTo>
              </a:path>
              <a:path w="2217" h="717">
                <a:moveTo>
                  <a:pt x="21395" y="11897"/>
                </a:moveTo>
                <a:cubicBezTo>
                  <a:pt x="21394" y="11892"/>
                  <a:pt x="21394" y="11886"/>
                  <a:pt x="21393" y="11881"/>
                </a:cubicBezTo>
                <a:cubicBezTo>
                  <a:pt x="21396" y="11922"/>
                  <a:pt x="21404" y="11963"/>
                  <a:pt x="21408" y="12005"/>
                </a:cubicBezTo>
                <a:cubicBezTo>
                  <a:pt x="21416" y="12083"/>
                  <a:pt x="21415" y="12160"/>
                  <a:pt x="21417" y="12238"/>
                </a:cubicBezTo>
                <a:cubicBezTo>
                  <a:pt x="21419" y="12290"/>
                  <a:pt x="21414" y="12340"/>
                  <a:pt x="21417" y="12392"/>
                </a:cubicBezTo>
                <a:cubicBezTo>
                  <a:pt x="21417" y="12396"/>
                  <a:pt x="21418" y="12400"/>
                  <a:pt x="21418" y="1240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7829640" y="4324320"/>
            <a:ext cx="108000" cy="96840"/>
          </a:xfrm>
          <a:custGeom>
            <a:avLst/>
            <a:gdLst/>
            <a:ahLst/>
            <a:rect l="l" t="t" r="r" b="b"/>
            <a:pathLst>
              <a:path w="298" h="268">
                <a:moveTo>
                  <a:pt x="21808" y="12071"/>
                </a:moveTo>
                <a:cubicBezTo>
                  <a:pt x="21804" y="12069"/>
                  <a:pt x="21801" y="12066"/>
                  <a:pt x="21797" y="12064"/>
                </a:cubicBezTo>
                <a:cubicBezTo>
                  <a:pt x="21815" y="12045"/>
                  <a:pt x="21840" y="12040"/>
                  <a:pt x="21867" y="12034"/>
                </a:cubicBezTo>
                <a:cubicBezTo>
                  <a:pt x="21906" y="12025"/>
                  <a:pt x="21940" y="12010"/>
                  <a:pt x="21981" y="12011"/>
                </a:cubicBezTo>
                <a:cubicBezTo>
                  <a:pt x="21987" y="12012"/>
                  <a:pt x="21993" y="12012"/>
                  <a:pt x="21999" y="12013"/>
                </a:cubicBezTo>
              </a:path>
              <a:path w="298" h="268">
                <a:moveTo>
                  <a:pt x="21750" y="12278"/>
                </a:moveTo>
                <a:cubicBezTo>
                  <a:pt x="21798" y="12274"/>
                  <a:pt x="21835" y="12252"/>
                  <a:pt x="21882" y="12240"/>
                </a:cubicBezTo>
                <a:cubicBezTo>
                  <a:pt x="21930" y="12228"/>
                  <a:pt x="21978" y="12217"/>
                  <a:pt x="22027" y="12222"/>
                </a:cubicBezTo>
                <a:cubicBezTo>
                  <a:pt x="22034" y="12223"/>
                  <a:pt x="22040" y="12225"/>
                  <a:pt x="22047" y="1222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8062920" y="4233960"/>
            <a:ext cx="257040" cy="234720"/>
          </a:xfrm>
          <a:custGeom>
            <a:avLst/>
            <a:gdLst/>
            <a:ahLst/>
            <a:rect l="l" t="t" r="r" b="b"/>
            <a:pathLst>
              <a:path w="717" h="655">
                <a:moveTo>
                  <a:pt x="22538" y="11911"/>
                </a:moveTo>
                <a:cubicBezTo>
                  <a:pt x="22508" y="11905"/>
                  <a:pt x="22480" y="11898"/>
                  <a:pt x="22450" y="11891"/>
                </a:cubicBezTo>
                <a:cubicBezTo>
                  <a:pt x="22447" y="11891"/>
                  <a:pt x="22443" y="11890"/>
                  <a:pt x="22440" y="11890"/>
                </a:cubicBezTo>
                <a:cubicBezTo>
                  <a:pt x="22448" y="11865"/>
                  <a:pt x="22448" y="11857"/>
                  <a:pt x="22473" y="11841"/>
                </a:cubicBezTo>
                <a:cubicBezTo>
                  <a:pt x="22519" y="11812"/>
                  <a:pt x="22573" y="11819"/>
                  <a:pt x="22608" y="11863"/>
                </a:cubicBezTo>
                <a:cubicBezTo>
                  <a:pt x="22657" y="11925"/>
                  <a:pt x="22653" y="12017"/>
                  <a:pt x="22641" y="12090"/>
                </a:cubicBezTo>
                <a:cubicBezTo>
                  <a:pt x="22626" y="12181"/>
                  <a:pt x="22586" y="12272"/>
                  <a:pt x="22528" y="12344"/>
                </a:cubicBezTo>
                <a:cubicBezTo>
                  <a:pt x="22507" y="12370"/>
                  <a:pt x="22454" y="12429"/>
                  <a:pt x="22412" y="12410"/>
                </a:cubicBezTo>
                <a:cubicBezTo>
                  <a:pt x="22383" y="12396"/>
                  <a:pt x="22397" y="12342"/>
                  <a:pt x="22407" y="12322"/>
                </a:cubicBezTo>
                <a:cubicBezTo>
                  <a:pt x="22426" y="12285"/>
                  <a:pt x="22462" y="12263"/>
                  <a:pt x="22502" y="12257"/>
                </a:cubicBezTo>
                <a:cubicBezTo>
                  <a:pt x="22555" y="12250"/>
                  <a:pt x="22609" y="12262"/>
                  <a:pt x="22662" y="12262"/>
                </a:cubicBezTo>
                <a:cubicBezTo>
                  <a:pt x="22714" y="12262"/>
                  <a:pt x="22755" y="12259"/>
                  <a:pt x="22804" y="12243"/>
                </a:cubicBezTo>
              </a:path>
              <a:path w="717" h="655">
                <a:moveTo>
                  <a:pt x="22987" y="11900"/>
                </a:moveTo>
                <a:cubicBezTo>
                  <a:pt x="22994" y="11866"/>
                  <a:pt x="22998" y="11846"/>
                  <a:pt x="22994" y="11811"/>
                </a:cubicBezTo>
                <a:cubicBezTo>
                  <a:pt x="22994" y="11798"/>
                  <a:pt x="22992" y="11793"/>
                  <a:pt x="22979" y="11790"/>
                </a:cubicBezTo>
                <a:cubicBezTo>
                  <a:pt x="22950" y="11794"/>
                  <a:pt x="22928" y="11804"/>
                  <a:pt x="22905" y="11822"/>
                </a:cubicBezTo>
                <a:cubicBezTo>
                  <a:pt x="22885" y="11837"/>
                  <a:pt x="22856" y="11864"/>
                  <a:pt x="22868" y="11892"/>
                </a:cubicBezTo>
                <a:cubicBezTo>
                  <a:pt x="22880" y="11920"/>
                  <a:pt x="22938" y="11928"/>
                  <a:pt x="22963" y="11935"/>
                </a:cubicBezTo>
                <a:cubicBezTo>
                  <a:pt x="23008" y="11948"/>
                  <a:pt x="23056" y="11956"/>
                  <a:pt x="23092" y="11989"/>
                </a:cubicBezTo>
                <a:cubicBezTo>
                  <a:pt x="23119" y="12014"/>
                  <a:pt x="23117" y="12052"/>
                  <a:pt x="23093" y="12080"/>
                </a:cubicBezTo>
                <a:cubicBezTo>
                  <a:pt x="23068" y="12109"/>
                  <a:pt x="23019" y="12124"/>
                  <a:pt x="22983" y="12108"/>
                </a:cubicBezTo>
                <a:cubicBezTo>
                  <a:pt x="22940" y="12090"/>
                  <a:pt x="22940" y="12035"/>
                  <a:pt x="22947" y="11996"/>
                </a:cubicBezTo>
                <a:cubicBezTo>
                  <a:pt x="22959" y="11934"/>
                  <a:pt x="23002" y="11871"/>
                  <a:pt x="23040" y="11822"/>
                </a:cubicBezTo>
                <a:cubicBezTo>
                  <a:pt x="23047" y="11813"/>
                  <a:pt x="23078" y="11781"/>
                  <a:pt x="23062" y="11765"/>
                </a:cubicBezTo>
                <a:cubicBezTo>
                  <a:pt x="23057" y="11763"/>
                  <a:pt x="23053" y="11761"/>
                  <a:pt x="23048" y="1175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1913040" y="4294080"/>
            <a:ext cx="2271600" cy="301680"/>
          </a:xfrm>
          <a:custGeom>
            <a:avLst/>
            <a:gdLst/>
            <a:ahLst/>
            <a:rect l="l" t="t" r="r" b="b"/>
            <a:pathLst>
              <a:path w="6313" h="838">
                <a:moveTo>
                  <a:pt x="5312" y="12706"/>
                </a:moveTo>
                <a:cubicBezTo>
                  <a:pt x="5338" y="12685"/>
                  <a:pt x="5363" y="12661"/>
                  <a:pt x="5390" y="12641"/>
                </a:cubicBezTo>
                <a:cubicBezTo>
                  <a:pt x="5523" y="12540"/>
                  <a:pt x="5663" y="12511"/>
                  <a:pt x="5820" y="12466"/>
                </a:cubicBezTo>
                <a:cubicBezTo>
                  <a:pt x="6011" y="12412"/>
                  <a:pt x="6139" y="12403"/>
                  <a:pt x="6328" y="12446"/>
                </a:cubicBezTo>
                <a:cubicBezTo>
                  <a:pt x="6483" y="12481"/>
                  <a:pt x="6654" y="12496"/>
                  <a:pt x="6813" y="12488"/>
                </a:cubicBezTo>
                <a:cubicBezTo>
                  <a:pt x="7053" y="12476"/>
                  <a:pt x="7278" y="12390"/>
                  <a:pt x="7503" y="12314"/>
                </a:cubicBezTo>
                <a:cubicBezTo>
                  <a:pt x="7602" y="12280"/>
                  <a:pt x="7705" y="12220"/>
                  <a:pt x="7809" y="12202"/>
                </a:cubicBezTo>
                <a:cubicBezTo>
                  <a:pt x="7995" y="12170"/>
                  <a:pt x="8108" y="12320"/>
                  <a:pt x="8252" y="12407"/>
                </a:cubicBezTo>
                <a:cubicBezTo>
                  <a:pt x="8458" y="12532"/>
                  <a:pt x="8720" y="12510"/>
                  <a:pt x="8952" y="12527"/>
                </a:cubicBezTo>
                <a:cubicBezTo>
                  <a:pt x="9245" y="12549"/>
                  <a:pt x="9510" y="12625"/>
                  <a:pt x="9793" y="12692"/>
                </a:cubicBezTo>
                <a:cubicBezTo>
                  <a:pt x="9971" y="12734"/>
                  <a:pt x="10179" y="12767"/>
                  <a:pt x="10362" y="12767"/>
                </a:cubicBezTo>
                <a:cubicBezTo>
                  <a:pt x="10377" y="12767"/>
                  <a:pt x="10397" y="12760"/>
                  <a:pt x="10409" y="12760"/>
                </a:cubicBezTo>
                <a:cubicBezTo>
                  <a:pt x="10396" y="12748"/>
                  <a:pt x="10385" y="12735"/>
                  <a:pt x="10366" y="12721"/>
                </a:cubicBezTo>
              </a:path>
              <a:path w="6313" h="838">
                <a:moveTo>
                  <a:pt x="8115" y="12087"/>
                </a:moveTo>
                <a:cubicBezTo>
                  <a:pt x="8133" y="12114"/>
                  <a:pt x="8146" y="12119"/>
                  <a:pt x="8179" y="12106"/>
                </a:cubicBezTo>
                <a:cubicBezTo>
                  <a:pt x="8206" y="12096"/>
                  <a:pt x="8238" y="12069"/>
                  <a:pt x="8256" y="12048"/>
                </a:cubicBezTo>
                <a:cubicBezTo>
                  <a:pt x="8274" y="12027"/>
                  <a:pt x="8294" y="11996"/>
                  <a:pt x="8288" y="11967"/>
                </a:cubicBezTo>
                <a:cubicBezTo>
                  <a:pt x="8282" y="11937"/>
                  <a:pt x="8249" y="11935"/>
                  <a:pt x="8225" y="11941"/>
                </a:cubicBezTo>
                <a:cubicBezTo>
                  <a:pt x="8164" y="11956"/>
                  <a:pt x="8095" y="12009"/>
                  <a:pt x="8075" y="12071"/>
                </a:cubicBezTo>
                <a:cubicBezTo>
                  <a:pt x="8061" y="12116"/>
                  <a:pt x="8082" y="12146"/>
                  <a:pt x="8116" y="12172"/>
                </a:cubicBezTo>
                <a:cubicBezTo>
                  <a:pt x="8157" y="12204"/>
                  <a:pt x="8209" y="12220"/>
                  <a:pt x="8259" y="12232"/>
                </a:cubicBezTo>
                <a:cubicBezTo>
                  <a:pt x="8291" y="12240"/>
                  <a:pt x="8323" y="12243"/>
                  <a:pt x="8356" y="12246"/>
                </a:cubicBezTo>
              </a:path>
              <a:path w="6313" h="838">
                <a:moveTo>
                  <a:pt x="8446" y="12048"/>
                </a:moveTo>
                <a:cubicBezTo>
                  <a:pt x="8440" y="12034"/>
                  <a:pt x="8439" y="12030"/>
                  <a:pt x="8433" y="12022"/>
                </a:cubicBezTo>
                <a:cubicBezTo>
                  <a:pt x="8446" y="12046"/>
                  <a:pt x="8453" y="12072"/>
                  <a:pt x="8467" y="12096"/>
                </a:cubicBezTo>
                <a:cubicBezTo>
                  <a:pt x="8490" y="12137"/>
                  <a:pt x="8519" y="12169"/>
                  <a:pt x="8556" y="12198"/>
                </a:cubicBezTo>
                <a:cubicBezTo>
                  <a:pt x="8591" y="12225"/>
                  <a:pt x="8625" y="12249"/>
                  <a:pt x="8671" y="12247"/>
                </a:cubicBezTo>
                <a:cubicBezTo>
                  <a:pt x="8677" y="12246"/>
                  <a:pt x="8683" y="12244"/>
                  <a:pt x="8689" y="12243"/>
                </a:cubicBezTo>
              </a:path>
              <a:path w="6313" h="838">
                <a:moveTo>
                  <a:pt x="8629" y="12028"/>
                </a:moveTo>
                <a:cubicBezTo>
                  <a:pt x="8587" y="12029"/>
                  <a:pt x="8586" y="12042"/>
                  <a:pt x="8560" y="12072"/>
                </a:cubicBezTo>
                <a:cubicBezTo>
                  <a:pt x="8531" y="12106"/>
                  <a:pt x="8504" y="12145"/>
                  <a:pt x="8489" y="12189"/>
                </a:cubicBezTo>
                <a:cubicBezTo>
                  <a:pt x="8477" y="12224"/>
                  <a:pt x="8467" y="12246"/>
                  <a:pt x="8493" y="12268"/>
                </a:cubicBezTo>
              </a:path>
              <a:path w="6313" h="838">
                <a:moveTo>
                  <a:pt x="8887" y="12086"/>
                </a:moveTo>
                <a:cubicBezTo>
                  <a:pt x="8885" y="12056"/>
                  <a:pt x="8845" y="12104"/>
                  <a:pt x="8827" y="12120"/>
                </a:cubicBezTo>
                <a:cubicBezTo>
                  <a:pt x="8791" y="12151"/>
                  <a:pt x="8756" y="12186"/>
                  <a:pt x="8735" y="12231"/>
                </a:cubicBezTo>
                <a:cubicBezTo>
                  <a:pt x="8717" y="12270"/>
                  <a:pt x="8735" y="12292"/>
                  <a:pt x="8770" y="12308"/>
                </a:cubicBezTo>
                <a:cubicBezTo>
                  <a:pt x="8816" y="12329"/>
                  <a:pt x="8867" y="12335"/>
                  <a:pt x="8917" y="12331"/>
                </a:cubicBezTo>
                <a:cubicBezTo>
                  <a:pt x="8928" y="12329"/>
                  <a:pt x="8938" y="12328"/>
                  <a:pt x="8949" y="12326"/>
                </a:cubicBezTo>
              </a:path>
              <a:path w="6313" h="838">
                <a:moveTo>
                  <a:pt x="9070" y="11951"/>
                </a:moveTo>
                <a:cubicBezTo>
                  <a:pt x="9072" y="11947"/>
                  <a:pt x="9075" y="11944"/>
                  <a:pt x="9077" y="11940"/>
                </a:cubicBezTo>
                <a:cubicBezTo>
                  <a:pt x="9079" y="11913"/>
                  <a:pt x="9073" y="11992"/>
                  <a:pt x="9073" y="11998"/>
                </a:cubicBezTo>
                <a:cubicBezTo>
                  <a:pt x="9075" y="12059"/>
                  <a:pt x="9077" y="12121"/>
                  <a:pt x="9082" y="12182"/>
                </a:cubicBezTo>
                <a:cubicBezTo>
                  <a:pt x="9086" y="12232"/>
                  <a:pt x="9091" y="12283"/>
                  <a:pt x="9113" y="12328"/>
                </a:cubicBezTo>
                <a:cubicBezTo>
                  <a:pt x="9122" y="12347"/>
                  <a:pt x="9129" y="12349"/>
                  <a:pt x="9147" y="12354"/>
                </a:cubicBezTo>
              </a:path>
              <a:path w="6313" h="838">
                <a:moveTo>
                  <a:pt x="9225" y="12204"/>
                </a:moveTo>
                <a:cubicBezTo>
                  <a:pt x="9212" y="12181"/>
                  <a:pt x="9213" y="12233"/>
                  <a:pt x="9214" y="12249"/>
                </a:cubicBezTo>
                <a:cubicBezTo>
                  <a:pt x="9215" y="12271"/>
                  <a:pt x="9216" y="12305"/>
                  <a:pt x="9244" y="12307"/>
                </a:cubicBezTo>
                <a:cubicBezTo>
                  <a:pt x="9267" y="12309"/>
                  <a:pt x="9294" y="12267"/>
                  <a:pt x="9307" y="12253"/>
                </a:cubicBezTo>
                <a:cubicBezTo>
                  <a:pt x="9324" y="12234"/>
                  <a:pt x="9341" y="12216"/>
                  <a:pt x="9362" y="12201"/>
                </a:cubicBezTo>
                <a:cubicBezTo>
                  <a:pt x="9378" y="12228"/>
                  <a:pt x="9373" y="12248"/>
                  <a:pt x="9373" y="12280"/>
                </a:cubicBezTo>
                <a:cubicBezTo>
                  <a:pt x="9373" y="12304"/>
                  <a:pt x="9378" y="12353"/>
                  <a:pt x="9400" y="12369"/>
                </a:cubicBezTo>
                <a:cubicBezTo>
                  <a:pt x="9420" y="12376"/>
                  <a:pt x="9426" y="12378"/>
                  <a:pt x="9440" y="12375"/>
                </a:cubicBezTo>
              </a:path>
              <a:path w="6313" h="838">
                <a:moveTo>
                  <a:pt x="9651" y="12189"/>
                </a:moveTo>
                <a:cubicBezTo>
                  <a:pt x="9636" y="12156"/>
                  <a:pt x="9627" y="12162"/>
                  <a:pt x="9604" y="12185"/>
                </a:cubicBezTo>
                <a:cubicBezTo>
                  <a:pt x="9587" y="12202"/>
                  <a:pt x="9576" y="12223"/>
                  <a:pt x="9577" y="12247"/>
                </a:cubicBezTo>
                <a:cubicBezTo>
                  <a:pt x="9578" y="12272"/>
                  <a:pt x="9599" y="12291"/>
                  <a:pt x="9616" y="12307"/>
                </a:cubicBezTo>
                <a:cubicBezTo>
                  <a:pt x="9641" y="12331"/>
                  <a:pt x="9666" y="12355"/>
                  <a:pt x="9684" y="12386"/>
                </a:cubicBezTo>
                <a:cubicBezTo>
                  <a:pt x="9693" y="12401"/>
                  <a:pt x="9724" y="12466"/>
                  <a:pt x="9701" y="12483"/>
                </a:cubicBezTo>
                <a:cubicBezTo>
                  <a:pt x="9679" y="12499"/>
                  <a:pt x="9657" y="12481"/>
                  <a:pt x="9639" y="12469"/>
                </a:cubicBezTo>
                <a:cubicBezTo>
                  <a:pt x="9623" y="12459"/>
                  <a:pt x="9602" y="12441"/>
                  <a:pt x="9601" y="12420"/>
                </a:cubicBezTo>
                <a:cubicBezTo>
                  <a:pt x="9603" y="12406"/>
                  <a:pt x="9604" y="12402"/>
                  <a:pt x="9608" y="12393"/>
                </a:cubicBezTo>
              </a:path>
              <a:path w="6313" h="838">
                <a:moveTo>
                  <a:pt x="9782" y="12214"/>
                </a:moveTo>
                <a:cubicBezTo>
                  <a:pt x="9797" y="12242"/>
                  <a:pt x="9798" y="12263"/>
                  <a:pt x="9803" y="12293"/>
                </a:cubicBezTo>
                <a:cubicBezTo>
                  <a:pt x="9810" y="12332"/>
                  <a:pt x="9814" y="12370"/>
                  <a:pt x="9818" y="12409"/>
                </a:cubicBezTo>
                <a:cubicBezTo>
                  <a:pt x="9820" y="12425"/>
                  <a:pt x="9821" y="12428"/>
                  <a:pt x="9823" y="12437"/>
                </a:cubicBezTo>
              </a:path>
              <a:path w="6313" h="838">
                <a:moveTo>
                  <a:pt x="9857" y="12149"/>
                </a:moveTo>
                <a:cubicBezTo>
                  <a:pt x="9857" y="12121"/>
                  <a:pt x="9858" y="12094"/>
                  <a:pt x="9854" y="12067"/>
                </a:cubicBezTo>
                <a:cubicBezTo>
                  <a:pt x="9870" y="12076"/>
                  <a:pt x="9874" y="12083"/>
                  <a:pt x="9884" y="12099"/>
                </a:cubicBezTo>
              </a:path>
              <a:path w="6313" h="838">
                <a:moveTo>
                  <a:pt x="9981" y="12295"/>
                </a:moveTo>
                <a:cubicBezTo>
                  <a:pt x="9994" y="12331"/>
                  <a:pt x="10011" y="12369"/>
                  <a:pt x="10018" y="12407"/>
                </a:cubicBezTo>
                <a:cubicBezTo>
                  <a:pt x="10021" y="12424"/>
                  <a:pt x="10027" y="12435"/>
                  <a:pt x="10036" y="12451"/>
                </a:cubicBezTo>
                <a:cubicBezTo>
                  <a:pt x="10061" y="12437"/>
                  <a:pt x="10074" y="12423"/>
                  <a:pt x="10090" y="12398"/>
                </a:cubicBezTo>
                <a:cubicBezTo>
                  <a:pt x="10111" y="12365"/>
                  <a:pt x="10126" y="12329"/>
                  <a:pt x="10146" y="12296"/>
                </a:cubicBezTo>
                <a:cubicBezTo>
                  <a:pt x="10157" y="12278"/>
                  <a:pt x="10181" y="12246"/>
                  <a:pt x="10200" y="12238"/>
                </a:cubicBezTo>
                <a:cubicBezTo>
                  <a:pt x="10218" y="12231"/>
                  <a:pt x="10250" y="12225"/>
                  <a:pt x="10270" y="12226"/>
                </a:cubicBezTo>
                <a:cubicBezTo>
                  <a:pt x="10273" y="12227"/>
                  <a:pt x="10277" y="12227"/>
                  <a:pt x="10280" y="12228"/>
                </a:cubicBezTo>
              </a:path>
              <a:path w="6313" h="838">
                <a:moveTo>
                  <a:pt x="10297" y="12309"/>
                </a:moveTo>
                <a:cubicBezTo>
                  <a:pt x="10316" y="12305"/>
                  <a:pt x="10326" y="12299"/>
                  <a:pt x="10341" y="12291"/>
                </a:cubicBezTo>
                <a:cubicBezTo>
                  <a:pt x="10362" y="12280"/>
                  <a:pt x="10382" y="12271"/>
                  <a:pt x="10402" y="12257"/>
                </a:cubicBezTo>
                <a:cubicBezTo>
                  <a:pt x="10415" y="12248"/>
                  <a:pt x="10420" y="12241"/>
                  <a:pt x="10428" y="12228"/>
                </a:cubicBezTo>
                <a:cubicBezTo>
                  <a:pt x="10408" y="12209"/>
                  <a:pt x="10392" y="12215"/>
                  <a:pt x="10368" y="12233"/>
                </a:cubicBezTo>
                <a:cubicBezTo>
                  <a:pt x="10336" y="12257"/>
                  <a:pt x="10312" y="12290"/>
                  <a:pt x="10300" y="12328"/>
                </a:cubicBezTo>
                <a:cubicBezTo>
                  <a:pt x="10289" y="12361"/>
                  <a:pt x="10293" y="12389"/>
                  <a:pt x="10322" y="12410"/>
                </a:cubicBezTo>
                <a:cubicBezTo>
                  <a:pt x="10353" y="12432"/>
                  <a:pt x="10389" y="12432"/>
                  <a:pt x="10425" y="12432"/>
                </a:cubicBezTo>
                <a:cubicBezTo>
                  <a:pt x="10452" y="12432"/>
                  <a:pt x="10468" y="12426"/>
                  <a:pt x="10493" y="12416"/>
                </a:cubicBezTo>
              </a:path>
              <a:path w="6313" h="838">
                <a:moveTo>
                  <a:pt x="11109" y="12272"/>
                </a:moveTo>
                <a:cubicBezTo>
                  <a:pt x="11090" y="12257"/>
                  <a:pt x="11075" y="12247"/>
                  <a:pt x="11052" y="12241"/>
                </a:cubicBezTo>
                <a:cubicBezTo>
                  <a:pt x="11022" y="12233"/>
                  <a:pt x="11004" y="12248"/>
                  <a:pt x="10984" y="12272"/>
                </a:cubicBezTo>
                <a:cubicBezTo>
                  <a:pt x="10961" y="12300"/>
                  <a:pt x="10951" y="12336"/>
                  <a:pt x="10946" y="12371"/>
                </a:cubicBezTo>
                <a:cubicBezTo>
                  <a:pt x="10942" y="12401"/>
                  <a:pt x="10943" y="12442"/>
                  <a:pt x="10969" y="12464"/>
                </a:cubicBezTo>
                <a:cubicBezTo>
                  <a:pt x="10999" y="12489"/>
                  <a:pt x="11051" y="12491"/>
                  <a:pt x="11087" y="12483"/>
                </a:cubicBezTo>
                <a:cubicBezTo>
                  <a:pt x="11134" y="12472"/>
                  <a:pt x="11185" y="12446"/>
                  <a:pt x="11217" y="12409"/>
                </a:cubicBezTo>
                <a:cubicBezTo>
                  <a:pt x="11240" y="12382"/>
                  <a:pt x="11251" y="12346"/>
                  <a:pt x="11237" y="12313"/>
                </a:cubicBezTo>
                <a:cubicBezTo>
                  <a:pt x="11226" y="12286"/>
                  <a:pt x="11198" y="12270"/>
                  <a:pt x="11175" y="12254"/>
                </a:cubicBezTo>
                <a:cubicBezTo>
                  <a:pt x="11172" y="12252"/>
                  <a:pt x="11168" y="12250"/>
                  <a:pt x="11165" y="12248"/>
                </a:cubicBezTo>
              </a:path>
              <a:path w="6313" h="838">
                <a:moveTo>
                  <a:pt x="11349" y="12334"/>
                </a:moveTo>
                <a:cubicBezTo>
                  <a:pt x="11368" y="12381"/>
                  <a:pt x="11378" y="12429"/>
                  <a:pt x="11384" y="12479"/>
                </a:cubicBezTo>
                <a:cubicBezTo>
                  <a:pt x="11386" y="12499"/>
                  <a:pt x="11389" y="12516"/>
                  <a:pt x="11394" y="12536"/>
                </a:cubicBezTo>
                <a:cubicBezTo>
                  <a:pt x="11414" y="12524"/>
                  <a:pt x="11413" y="12491"/>
                  <a:pt x="11419" y="12466"/>
                </a:cubicBezTo>
                <a:cubicBezTo>
                  <a:pt x="11430" y="12420"/>
                  <a:pt x="11445" y="12369"/>
                  <a:pt x="11472" y="12329"/>
                </a:cubicBezTo>
                <a:cubicBezTo>
                  <a:pt x="11492" y="12298"/>
                  <a:pt x="11524" y="12272"/>
                  <a:pt x="11562" y="12267"/>
                </a:cubicBezTo>
                <a:cubicBezTo>
                  <a:pt x="11592" y="12263"/>
                  <a:pt x="11609" y="12276"/>
                  <a:pt x="11624" y="12299"/>
                </a:cubicBezTo>
              </a:path>
              <a:path w="6313" h="838">
                <a:moveTo>
                  <a:pt x="10628" y="12373"/>
                </a:moveTo>
                <a:cubicBezTo>
                  <a:pt x="10625" y="12373"/>
                  <a:pt x="10621" y="12374"/>
                  <a:pt x="10618" y="12374"/>
                </a:cubicBezTo>
                <a:cubicBezTo>
                  <a:pt x="10624" y="12398"/>
                  <a:pt x="10656" y="12400"/>
                  <a:pt x="10686" y="12404"/>
                </a:cubicBezTo>
                <a:cubicBezTo>
                  <a:pt x="10737" y="12411"/>
                  <a:pt x="10786" y="12416"/>
                  <a:pt x="10837" y="1241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1747800" y="4606920"/>
            <a:ext cx="603360" cy="295200"/>
          </a:xfrm>
          <a:custGeom>
            <a:avLst/>
            <a:gdLst/>
            <a:ahLst/>
            <a:rect l="l" t="t" r="r" b="b"/>
            <a:pathLst>
              <a:path w="1677" h="822">
                <a:moveTo>
                  <a:pt x="4897" y="12962"/>
                </a:moveTo>
                <a:cubicBezTo>
                  <a:pt x="4887" y="12931"/>
                  <a:pt x="4877" y="12905"/>
                  <a:pt x="4859" y="12877"/>
                </a:cubicBezTo>
                <a:cubicBezTo>
                  <a:pt x="4859" y="12919"/>
                  <a:pt x="4863" y="12962"/>
                  <a:pt x="4867" y="13006"/>
                </a:cubicBezTo>
                <a:cubicBezTo>
                  <a:pt x="4878" y="13114"/>
                  <a:pt x="4890" y="13222"/>
                  <a:pt x="4898" y="13331"/>
                </a:cubicBezTo>
                <a:cubicBezTo>
                  <a:pt x="4904" y="13412"/>
                  <a:pt x="4906" y="13495"/>
                  <a:pt x="4920" y="13575"/>
                </a:cubicBezTo>
                <a:cubicBezTo>
                  <a:pt x="4925" y="13598"/>
                  <a:pt x="4927" y="13606"/>
                  <a:pt x="4940" y="13617"/>
                </a:cubicBezTo>
                <a:cubicBezTo>
                  <a:pt x="4976" y="13606"/>
                  <a:pt x="4989" y="13574"/>
                  <a:pt x="5009" y="13542"/>
                </a:cubicBezTo>
              </a:path>
              <a:path w="1677" h="822">
                <a:moveTo>
                  <a:pt x="5191" y="13475"/>
                </a:moveTo>
                <a:cubicBezTo>
                  <a:pt x="5165" y="13477"/>
                  <a:pt x="5172" y="13477"/>
                  <a:pt x="5172" y="13435"/>
                </a:cubicBezTo>
                <a:cubicBezTo>
                  <a:pt x="5173" y="13362"/>
                  <a:pt x="5186" y="13292"/>
                  <a:pt x="5199" y="13221"/>
                </a:cubicBezTo>
                <a:cubicBezTo>
                  <a:pt x="5219" y="13115"/>
                  <a:pt x="5245" y="13015"/>
                  <a:pt x="5281" y="12913"/>
                </a:cubicBezTo>
                <a:cubicBezTo>
                  <a:pt x="5300" y="12860"/>
                  <a:pt x="5313" y="12834"/>
                  <a:pt x="5351" y="12796"/>
                </a:cubicBezTo>
                <a:cubicBezTo>
                  <a:pt x="5411" y="12825"/>
                  <a:pt x="5420" y="12879"/>
                  <a:pt x="5442" y="12942"/>
                </a:cubicBezTo>
                <a:cubicBezTo>
                  <a:pt x="5474" y="13034"/>
                  <a:pt x="5509" y="13126"/>
                  <a:pt x="5543" y="13217"/>
                </a:cubicBezTo>
                <a:cubicBezTo>
                  <a:pt x="5559" y="13260"/>
                  <a:pt x="5577" y="13303"/>
                  <a:pt x="5593" y="13347"/>
                </a:cubicBezTo>
              </a:path>
              <a:path w="1677" h="822">
                <a:moveTo>
                  <a:pt x="5273" y="13239"/>
                </a:moveTo>
                <a:cubicBezTo>
                  <a:pt x="5257" y="13234"/>
                  <a:pt x="5251" y="13232"/>
                  <a:pt x="5251" y="13217"/>
                </a:cubicBezTo>
                <a:cubicBezTo>
                  <a:pt x="5266" y="13186"/>
                  <a:pt x="5287" y="13177"/>
                  <a:pt x="5323" y="13167"/>
                </a:cubicBezTo>
                <a:cubicBezTo>
                  <a:pt x="5382" y="13151"/>
                  <a:pt x="5437" y="13155"/>
                  <a:pt x="5497" y="13160"/>
                </a:cubicBezTo>
                <a:cubicBezTo>
                  <a:pt x="5538" y="13163"/>
                  <a:pt x="5578" y="13170"/>
                  <a:pt x="5619" y="13175"/>
                </a:cubicBezTo>
              </a:path>
              <a:path w="1677" h="822">
                <a:moveTo>
                  <a:pt x="5848" y="13191"/>
                </a:moveTo>
                <a:cubicBezTo>
                  <a:pt x="5847" y="13253"/>
                  <a:pt x="5842" y="13313"/>
                  <a:pt x="5843" y="13374"/>
                </a:cubicBezTo>
                <a:cubicBezTo>
                  <a:pt x="5844" y="13429"/>
                  <a:pt x="5845" y="13484"/>
                  <a:pt x="5863" y="13536"/>
                </a:cubicBezTo>
                <a:cubicBezTo>
                  <a:pt x="5873" y="13566"/>
                  <a:pt x="5887" y="13566"/>
                  <a:pt x="5913" y="13558"/>
                </a:cubicBezTo>
              </a:path>
              <a:path w="1677" h="822">
                <a:moveTo>
                  <a:pt x="6198" y="12891"/>
                </a:moveTo>
                <a:cubicBezTo>
                  <a:pt x="6186" y="12880"/>
                  <a:pt x="6180" y="12875"/>
                  <a:pt x="6167" y="12866"/>
                </a:cubicBezTo>
                <a:cubicBezTo>
                  <a:pt x="6162" y="12901"/>
                  <a:pt x="6168" y="12929"/>
                  <a:pt x="6172" y="12965"/>
                </a:cubicBezTo>
                <a:cubicBezTo>
                  <a:pt x="6179" y="13024"/>
                  <a:pt x="6185" y="13082"/>
                  <a:pt x="6198" y="13140"/>
                </a:cubicBezTo>
                <a:cubicBezTo>
                  <a:pt x="6211" y="13199"/>
                  <a:pt x="6228" y="13260"/>
                  <a:pt x="6262" y="13311"/>
                </a:cubicBezTo>
                <a:cubicBezTo>
                  <a:pt x="6284" y="13343"/>
                  <a:pt x="6322" y="13371"/>
                  <a:pt x="6362" y="13356"/>
                </a:cubicBezTo>
                <a:cubicBezTo>
                  <a:pt x="6407" y="13339"/>
                  <a:pt x="6438" y="13283"/>
                  <a:pt x="6459" y="13243"/>
                </a:cubicBezTo>
                <a:cubicBezTo>
                  <a:pt x="6488" y="13190"/>
                  <a:pt x="6509" y="13127"/>
                  <a:pt x="6522" y="13068"/>
                </a:cubicBezTo>
                <a:cubicBezTo>
                  <a:pt x="6531" y="13028"/>
                  <a:pt x="6535" y="12986"/>
                  <a:pt x="6531" y="12945"/>
                </a:cubicBezTo>
                <a:cubicBezTo>
                  <a:pt x="6528" y="12916"/>
                  <a:pt x="6517" y="12907"/>
                  <a:pt x="6499" y="1288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2452680" y="4616280"/>
            <a:ext cx="1542960" cy="289080"/>
          </a:xfrm>
          <a:custGeom>
            <a:avLst/>
            <a:gdLst/>
            <a:ahLst/>
            <a:rect l="l" t="t" r="r" b="b"/>
            <a:pathLst>
              <a:path w="4284" h="803">
                <a:moveTo>
                  <a:pt x="6816" y="13426"/>
                </a:moveTo>
                <a:cubicBezTo>
                  <a:pt x="6819" y="13406"/>
                  <a:pt x="6824" y="13384"/>
                  <a:pt x="6827" y="13362"/>
                </a:cubicBezTo>
                <a:cubicBezTo>
                  <a:pt x="6836" y="13305"/>
                  <a:pt x="6850" y="13249"/>
                  <a:pt x="6857" y="13191"/>
                </a:cubicBezTo>
                <a:cubicBezTo>
                  <a:pt x="6867" y="13113"/>
                  <a:pt x="6878" y="13034"/>
                  <a:pt x="6892" y="12956"/>
                </a:cubicBezTo>
                <a:cubicBezTo>
                  <a:pt x="6900" y="12909"/>
                  <a:pt x="6907" y="12864"/>
                  <a:pt x="6933" y="12825"/>
                </a:cubicBezTo>
                <a:cubicBezTo>
                  <a:pt x="6970" y="12845"/>
                  <a:pt x="6976" y="12897"/>
                  <a:pt x="6987" y="12938"/>
                </a:cubicBezTo>
                <a:cubicBezTo>
                  <a:pt x="7018" y="13055"/>
                  <a:pt x="7043" y="13174"/>
                  <a:pt x="7059" y="13294"/>
                </a:cubicBezTo>
                <a:cubicBezTo>
                  <a:pt x="7065" y="13338"/>
                  <a:pt x="7070" y="13382"/>
                  <a:pt x="7071" y="13425"/>
                </a:cubicBezTo>
              </a:path>
              <a:path w="4284" h="803">
                <a:moveTo>
                  <a:pt x="6842" y="13213"/>
                </a:moveTo>
                <a:cubicBezTo>
                  <a:pt x="6882" y="13220"/>
                  <a:pt x="6911" y="13211"/>
                  <a:pt x="6951" y="13206"/>
                </a:cubicBezTo>
                <a:cubicBezTo>
                  <a:pt x="7011" y="13199"/>
                  <a:pt x="7071" y="13195"/>
                  <a:pt x="7131" y="13192"/>
                </a:cubicBezTo>
              </a:path>
              <a:path w="4284" h="803">
                <a:moveTo>
                  <a:pt x="7270" y="13291"/>
                </a:moveTo>
                <a:cubicBezTo>
                  <a:pt x="7303" y="13287"/>
                  <a:pt x="7339" y="13287"/>
                  <a:pt x="7371" y="13298"/>
                </a:cubicBezTo>
                <a:cubicBezTo>
                  <a:pt x="7406" y="13309"/>
                  <a:pt x="7433" y="13333"/>
                  <a:pt x="7439" y="13370"/>
                </a:cubicBezTo>
                <a:cubicBezTo>
                  <a:pt x="7445" y="13411"/>
                  <a:pt x="7418" y="13445"/>
                  <a:pt x="7394" y="13475"/>
                </a:cubicBezTo>
                <a:cubicBezTo>
                  <a:pt x="7375" y="13499"/>
                  <a:pt x="7354" y="13511"/>
                  <a:pt x="7355" y="13541"/>
                </a:cubicBezTo>
                <a:cubicBezTo>
                  <a:pt x="7397" y="13535"/>
                  <a:pt x="7437" y="13532"/>
                  <a:pt x="7477" y="13521"/>
                </a:cubicBezTo>
                <a:cubicBezTo>
                  <a:pt x="7517" y="13510"/>
                  <a:pt x="7553" y="13493"/>
                  <a:pt x="7590" y="13476"/>
                </a:cubicBezTo>
              </a:path>
              <a:path w="4284" h="803">
                <a:moveTo>
                  <a:pt x="7802" y="13131"/>
                </a:moveTo>
                <a:cubicBezTo>
                  <a:pt x="7790" y="13131"/>
                  <a:pt x="7779" y="13131"/>
                  <a:pt x="7767" y="13131"/>
                </a:cubicBezTo>
                <a:cubicBezTo>
                  <a:pt x="7804" y="13134"/>
                  <a:pt x="7842" y="13123"/>
                  <a:pt x="7879" y="13118"/>
                </a:cubicBezTo>
                <a:cubicBezTo>
                  <a:pt x="7949" y="13109"/>
                  <a:pt x="8020" y="13099"/>
                  <a:pt x="8091" y="13103"/>
                </a:cubicBezTo>
                <a:cubicBezTo>
                  <a:pt x="8133" y="13105"/>
                  <a:pt x="8173" y="13115"/>
                  <a:pt x="8214" y="13122"/>
                </a:cubicBezTo>
              </a:path>
              <a:path w="4284" h="803">
                <a:moveTo>
                  <a:pt x="8501" y="13474"/>
                </a:moveTo>
                <a:cubicBezTo>
                  <a:pt x="8498" y="13489"/>
                  <a:pt x="8494" y="13503"/>
                  <a:pt x="8491" y="13518"/>
                </a:cubicBezTo>
                <a:cubicBezTo>
                  <a:pt x="8492" y="13486"/>
                  <a:pt x="8495" y="13456"/>
                  <a:pt x="8501" y="13423"/>
                </a:cubicBezTo>
                <a:cubicBezTo>
                  <a:pt x="8515" y="13346"/>
                  <a:pt x="8530" y="13268"/>
                  <a:pt x="8549" y="13192"/>
                </a:cubicBezTo>
                <a:cubicBezTo>
                  <a:pt x="8572" y="13098"/>
                  <a:pt x="8595" y="12988"/>
                  <a:pt x="8647" y="12905"/>
                </a:cubicBezTo>
                <a:cubicBezTo>
                  <a:pt x="8653" y="12898"/>
                  <a:pt x="8658" y="12892"/>
                  <a:pt x="8664" y="12885"/>
                </a:cubicBezTo>
                <a:cubicBezTo>
                  <a:pt x="8708" y="12906"/>
                  <a:pt x="8712" y="12963"/>
                  <a:pt x="8722" y="13011"/>
                </a:cubicBezTo>
                <a:cubicBezTo>
                  <a:pt x="8752" y="13148"/>
                  <a:pt x="8777" y="13286"/>
                  <a:pt x="8827" y="13417"/>
                </a:cubicBezTo>
                <a:cubicBezTo>
                  <a:pt x="8839" y="13448"/>
                  <a:pt x="8841" y="13455"/>
                  <a:pt x="8851" y="13473"/>
                </a:cubicBezTo>
              </a:path>
              <a:path w="4284" h="803">
                <a:moveTo>
                  <a:pt x="8558" y="13259"/>
                </a:moveTo>
                <a:cubicBezTo>
                  <a:pt x="8546" y="13267"/>
                  <a:pt x="8543" y="13270"/>
                  <a:pt x="8535" y="13275"/>
                </a:cubicBezTo>
                <a:cubicBezTo>
                  <a:pt x="8558" y="13301"/>
                  <a:pt x="8583" y="13293"/>
                  <a:pt x="8620" y="13295"/>
                </a:cubicBezTo>
                <a:cubicBezTo>
                  <a:pt x="8678" y="13298"/>
                  <a:pt x="8737" y="13305"/>
                  <a:pt x="8795" y="13310"/>
                </a:cubicBezTo>
                <a:cubicBezTo>
                  <a:pt x="8834" y="13314"/>
                  <a:pt x="8846" y="13315"/>
                  <a:pt x="8871" y="13316"/>
                </a:cubicBezTo>
              </a:path>
              <a:path w="4284" h="803">
                <a:moveTo>
                  <a:pt x="9046" y="13302"/>
                </a:moveTo>
                <a:cubicBezTo>
                  <a:pt x="9048" y="13350"/>
                  <a:pt x="9051" y="13398"/>
                  <a:pt x="9053" y="13446"/>
                </a:cubicBezTo>
                <a:cubicBezTo>
                  <a:pt x="9055" y="13486"/>
                  <a:pt x="9045" y="13588"/>
                  <a:pt x="9071" y="13622"/>
                </a:cubicBezTo>
                <a:cubicBezTo>
                  <a:pt x="9085" y="13627"/>
                  <a:pt x="9090" y="13629"/>
                  <a:pt x="9090" y="13613"/>
                </a:cubicBezTo>
              </a:path>
              <a:path w="4284" h="803">
                <a:moveTo>
                  <a:pt x="9308" y="13378"/>
                </a:moveTo>
                <a:cubicBezTo>
                  <a:pt x="9298" y="13391"/>
                  <a:pt x="9295" y="13395"/>
                  <a:pt x="9287" y="13403"/>
                </a:cubicBezTo>
                <a:cubicBezTo>
                  <a:pt x="9270" y="13379"/>
                  <a:pt x="9298" y="13341"/>
                  <a:pt x="9312" y="13311"/>
                </a:cubicBezTo>
                <a:cubicBezTo>
                  <a:pt x="9355" y="13221"/>
                  <a:pt x="9398" y="13130"/>
                  <a:pt x="9453" y="13047"/>
                </a:cubicBezTo>
                <a:cubicBezTo>
                  <a:pt x="9476" y="13013"/>
                  <a:pt x="9488" y="12999"/>
                  <a:pt x="9523" y="12986"/>
                </a:cubicBezTo>
                <a:cubicBezTo>
                  <a:pt x="9554" y="13032"/>
                  <a:pt x="9556" y="13088"/>
                  <a:pt x="9565" y="13144"/>
                </a:cubicBezTo>
                <a:cubicBezTo>
                  <a:pt x="9577" y="13222"/>
                  <a:pt x="9584" y="13307"/>
                  <a:pt x="9606" y="13383"/>
                </a:cubicBezTo>
                <a:cubicBezTo>
                  <a:pt x="9616" y="13417"/>
                  <a:pt x="9630" y="13449"/>
                  <a:pt x="9662" y="13464"/>
                </a:cubicBezTo>
              </a:path>
              <a:path w="4284" h="803">
                <a:moveTo>
                  <a:pt x="9877" y="13589"/>
                </a:moveTo>
                <a:cubicBezTo>
                  <a:pt x="9876" y="13548"/>
                  <a:pt x="9879" y="13506"/>
                  <a:pt x="9885" y="13466"/>
                </a:cubicBezTo>
                <a:cubicBezTo>
                  <a:pt x="9897" y="13384"/>
                  <a:pt x="9917" y="13302"/>
                  <a:pt x="9942" y="13222"/>
                </a:cubicBezTo>
                <a:cubicBezTo>
                  <a:pt x="9966" y="13145"/>
                  <a:pt x="9991" y="13059"/>
                  <a:pt x="10036" y="12991"/>
                </a:cubicBezTo>
                <a:cubicBezTo>
                  <a:pt x="10060" y="12955"/>
                  <a:pt x="10068" y="12954"/>
                  <a:pt x="10102" y="12961"/>
                </a:cubicBezTo>
                <a:cubicBezTo>
                  <a:pt x="10133" y="13021"/>
                  <a:pt x="10143" y="13083"/>
                  <a:pt x="10155" y="13150"/>
                </a:cubicBezTo>
                <a:cubicBezTo>
                  <a:pt x="10170" y="13238"/>
                  <a:pt x="10178" y="13327"/>
                  <a:pt x="10193" y="13414"/>
                </a:cubicBezTo>
                <a:cubicBezTo>
                  <a:pt x="10199" y="13448"/>
                  <a:pt x="10206" y="13483"/>
                  <a:pt x="10212" y="13517"/>
                </a:cubicBezTo>
              </a:path>
              <a:path w="4284" h="803">
                <a:moveTo>
                  <a:pt x="9949" y="13297"/>
                </a:moveTo>
                <a:cubicBezTo>
                  <a:pt x="9936" y="13302"/>
                  <a:pt x="9933" y="13303"/>
                  <a:pt x="9925" y="13306"/>
                </a:cubicBezTo>
                <a:cubicBezTo>
                  <a:pt x="9934" y="13316"/>
                  <a:pt x="9970" y="13298"/>
                  <a:pt x="9994" y="13292"/>
                </a:cubicBezTo>
                <a:cubicBezTo>
                  <a:pt x="10054" y="13278"/>
                  <a:pt x="10116" y="13263"/>
                  <a:pt x="10177" y="13257"/>
                </a:cubicBezTo>
                <a:cubicBezTo>
                  <a:pt x="10216" y="13253"/>
                  <a:pt x="10255" y="13255"/>
                  <a:pt x="10294" y="13256"/>
                </a:cubicBezTo>
              </a:path>
              <a:path w="4284" h="803">
                <a:moveTo>
                  <a:pt x="10432" y="13311"/>
                </a:moveTo>
                <a:cubicBezTo>
                  <a:pt x="10464" y="13308"/>
                  <a:pt x="10489" y="13306"/>
                  <a:pt x="10521" y="13317"/>
                </a:cubicBezTo>
                <a:cubicBezTo>
                  <a:pt x="10560" y="13331"/>
                  <a:pt x="10584" y="13361"/>
                  <a:pt x="10590" y="13403"/>
                </a:cubicBezTo>
                <a:cubicBezTo>
                  <a:pt x="10596" y="13450"/>
                  <a:pt x="10574" y="13494"/>
                  <a:pt x="10551" y="13533"/>
                </a:cubicBezTo>
                <a:cubicBezTo>
                  <a:pt x="10539" y="13554"/>
                  <a:pt x="10526" y="13572"/>
                  <a:pt x="10516" y="13594"/>
                </a:cubicBezTo>
                <a:cubicBezTo>
                  <a:pt x="10547" y="13600"/>
                  <a:pt x="10589" y="13583"/>
                  <a:pt x="10619" y="13569"/>
                </a:cubicBezTo>
                <a:cubicBezTo>
                  <a:pt x="10671" y="13544"/>
                  <a:pt x="10724" y="13522"/>
                  <a:pt x="10778" y="13500"/>
                </a:cubicBezTo>
                <a:cubicBezTo>
                  <a:pt x="10790" y="13495"/>
                  <a:pt x="10803" y="13489"/>
                  <a:pt x="10815" y="13484"/>
                </a:cubicBezTo>
              </a:path>
              <a:path w="4284" h="803">
                <a:moveTo>
                  <a:pt x="10951" y="12900"/>
                </a:moveTo>
                <a:cubicBezTo>
                  <a:pt x="10953" y="12882"/>
                  <a:pt x="10956" y="12865"/>
                  <a:pt x="10959" y="12847"/>
                </a:cubicBezTo>
                <a:cubicBezTo>
                  <a:pt x="10975" y="12923"/>
                  <a:pt x="10975" y="13005"/>
                  <a:pt x="10982" y="13083"/>
                </a:cubicBezTo>
                <a:cubicBezTo>
                  <a:pt x="10993" y="13215"/>
                  <a:pt x="10998" y="13353"/>
                  <a:pt x="11034" y="13481"/>
                </a:cubicBezTo>
                <a:cubicBezTo>
                  <a:pt x="11048" y="13531"/>
                  <a:pt x="11067" y="13580"/>
                  <a:pt x="11097" y="1362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4121280" y="4708440"/>
            <a:ext cx="155520" cy="84240"/>
          </a:xfrm>
          <a:custGeom>
            <a:avLst/>
            <a:gdLst/>
            <a:ahLst/>
            <a:rect l="l" t="t" r="r" b="b"/>
            <a:pathLst>
              <a:path w="430" h="235">
                <a:moveTo>
                  <a:pt x="11464" y="13197"/>
                </a:moveTo>
                <a:cubicBezTo>
                  <a:pt x="11446" y="13162"/>
                  <a:pt x="11445" y="13155"/>
                  <a:pt x="11479" y="13134"/>
                </a:cubicBezTo>
                <a:cubicBezTo>
                  <a:pt x="11516" y="13110"/>
                  <a:pt x="11561" y="13103"/>
                  <a:pt x="11604" y="13094"/>
                </a:cubicBezTo>
                <a:cubicBezTo>
                  <a:pt x="11659" y="13083"/>
                  <a:pt x="11708" y="13075"/>
                  <a:pt x="11764" y="13081"/>
                </a:cubicBezTo>
                <a:cubicBezTo>
                  <a:pt x="11786" y="13085"/>
                  <a:pt x="11792" y="13085"/>
                  <a:pt x="11803" y="13095"/>
                </a:cubicBezTo>
              </a:path>
              <a:path w="430" h="235">
                <a:moveTo>
                  <a:pt x="11585" y="13271"/>
                </a:moveTo>
                <a:cubicBezTo>
                  <a:pt x="11568" y="13287"/>
                  <a:pt x="11561" y="13291"/>
                  <a:pt x="11555" y="13312"/>
                </a:cubicBezTo>
                <a:cubicBezTo>
                  <a:pt x="11601" y="13299"/>
                  <a:pt x="11646" y="13285"/>
                  <a:pt x="11694" y="13275"/>
                </a:cubicBezTo>
                <a:cubicBezTo>
                  <a:pt x="11748" y="13264"/>
                  <a:pt x="11799" y="13267"/>
                  <a:pt x="11851" y="13286"/>
                </a:cubicBezTo>
                <a:cubicBezTo>
                  <a:pt x="11860" y="13290"/>
                  <a:pt x="11869" y="13294"/>
                  <a:pt x="11878" y="1329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4414680" y="4608360"/>
            <a:ext cx="1303560" cy="244800"/>
          </a:xfrm>
          <a:custGeom>
            <a:avLst/>
            <a:gdLst/>
            <a:ahLst/>
            <a:rect l="l" t="t" r="r" b="b"/>
            <a:pathLst>
              <a:path w="3618" h="682">
                <a:moveTo>
                  <a:pt x="12277" y="12900"/>
                </a:moveTo>
                <a:cubicBezTo>
                  <a:pt x="12274" y="12888"/>
                  <a:pt x="12269" y="12878"/>
                  <a:pt x="12264" y="12867"/>
                </a:cubicBezTo>
                <a:cubicBezTo>
                  <a:pt x="12268" y="12901"/>
                  <a:pt x="12274" y="12935"/>
                  <a:pt x="12281" y="12968"/>
                </a:cubicBezTo>
                <a:cubicBezTo>
                  <a:pt x="12298" y="13047"/>
                  <a:pt x="12311" y="13127"/>
                  <a:pt x="12319" y="13208"/>
                </a:cubicBezTo>
                <a:cubicBezTo>
                  <a:pt x="12326" y="13276"/>
                  <a:pt x="12329" y="13344"/>
                  <a:pt x="12333" y="13412"/>
                </a:cubicBezTo>
                <a:cubicBezTo>
                  <a:pt x="12334" y="13420"/>
                  <a:pt x="12334" y="13427"/>
                  <a:pt x="12335" y="13435"/>
                </a:cubicBezTo>
              </a:path>
              <a:path w="3618" h="682">
                <a:moveTo>
                  <a:pt x="12475" y="13481"/>
                </a:moveTo>
                <a:cubicBezTo>
                  <a:pt x="12481" y="13437"/>
                  <a:pt x="12484" y="13392"/>
                  <a:pt x="12490" y="13348"/>
                </a:cubicBezTo>
                <a:cubicBezTo>
                  <a:pt x="12502" y="13259"/>
                  <a:pt x="12520" y="13171"/>
                  <a:pt x="12543" y="13084"/>
                </a:cubicBezTo>
                <a:cubicBezTo>
                  <a:pt x="12566" y="12999"/>
                  <a:pt x="12588" y="12913"/>
                  <a:pt x="12643" y="12844"/>
                </a:cubicBezTo>
                <a:cubicBezTo>
                  <a:pt x="12689" y="12875"/>
                  <a:pt x="12692" y="12926"/>
                  <a:pt x="12702" y="12980"/>
                </a:cubicBezTo>
                <a:cubicBezTo>
                  <a:pt x="12719" y="13067"/>
                  <a:pt x="12729" y="13154"/>
                  <a:pt x="12739" y="13242"/>
                </a:cubicBezTo>
                <a:cubicBezTo>
                  <a:pt x="12744" y="13287"/>
                  <a:pt x="12746" y="13312"/>
                  <a:pt x="12735" y="13353"/>
                </a:cubicBezTo>
              </a:path>
              <a:path w="3618" h="682">
                <a:moveTo>
                  <a:pt x="12508" y="13177"/>
                </a:moveTo>
                <a:cubicBezTo>
                  <a:pt x="12544" y="13166"/>
                  <a:pt x="12582" y="13159"/>
                  <a:pt x="12620" y="13150"/>
                </a:cubicBezTo>
                <a:cubicBezTo>
                  <a:pt x="12672" y="13137"/>
                  <a:pt x="12726" y="13132"/>
                  <a:pt x="12779" y="13126"/>
                </a:cubicBezTo>
              </a:path>
              <a:path w="3618" h="682">
                <a:moveTo>
                  <a:pt x="12999" y="13147"/>
                </a:moveTo>
                <a:cubicBezTo>
                  <a:pt x="13007" y="13182"/>
                  <a:pt x="13012" y="13220"/>
                  <a:pt x="13011" y="13257"/>
                </a:cubicBezTo>
                <a:cubicBezTo>
                  <a:pt x="13009" y="13299"/>
                  <a:pt x="13005" y="13345"/>
                  <a:pt x="13012" y="13387"/>
                </a:cubicBezTo>
                <a:cubicBezTo>
                  <a:pt x="13019" y="13409"/>
                  <a:pt x="13021" y="13413"/>
                  <a:pt x="13024" y="13427"/>
                </a:cubicBezTo>
              </a:path>
              <a:path w="3618" h="682">
                <a:moveTo>
                  <a:pt x="13187" y="12815"/>
                </a:moveTo>
                <a:cubicBezTo>
                  <a:pt x="13173" y="12834"/>
                  <a:pt x="13182" y="12843"/>
                  <a:pt x="13183" y="12867"/>
                </a:cubicBezTo>
                <a:cubicBezTo>
                  <a:pt x="13186" y="12944"/>
                  <a:pt x="13200" y="13020"/>
                  <a:pt x="13212" y="13096"/>
                </a:cubicBezTo>
                <a:cubicBezTo>
                  <a:pt x="13225" y="13178"/>
                  <a:pt x="13239" y="13256"/>
                  <a:pt x="13268" y="13334"/>
                </a:cubicBezTo>
                <a:cubicBezTo>
                  <a:pt x="13280" y="13365"/>
                  <a:pt x="13283" y="13375"/>
                  <a:pt x="13309" y="13386"/>
                </a:cubicBezTo>
              </a:path>
              <a:path w="3618" h="682">
                <a:moveTo>
                  <a:pt x="13627" y="12974"/>
                </a:moveTo>
                <a:cubicBezTo>
                  <a:pt x="13634" y="13007"/>
                  <a:pt x="13630" y="13041"/>
                  <a:pt x="13632" y="13075"/>
                </a:cubicBezTo>
                <a:cubicBezTo>
                  <a:pt x="13635" y="13134"/>
                  <a:pt x="13642" y="13192"/>
                  <a:pt x="13649" y="13250"/>
                </a:cubicBezTo>
                <a:cubicBezTo>
                  <a:pt x="13652" y="13275"/>
                  <a:pt x="13652" y="13296"/>
                  <a:pt x="13650" y="13320"/>
                </a:cubicBezTo>
              </a:path>
              <a:path w="3618" h="682">
                <a:moveTo>
                  <a:pt x="13536" y="13180"/>
                </a:moveTo>
                <a:cubicBezTo>
                  <a:pt x="13532" y="13146"/>
                  <a:pt x="13544" y="13152"/>
                  <a:pt x="13573" y="13139"/>
                </a:cubicBezTo>
                <a:cubicBezTo>
                  <a:pt x="13626" y="13114"/>
                  <a:pt x="13679" y="13097"/>
                  <a:pt x="13734" y="13079"/>
                </a:cubicBezTo>
                <a:cubicBezTo>
                  <a:pt x="13777" y="13064"/>
                  <a:pt x="13792" y="13059"/>
                  <a:pt x="13821" y="13048"/>
                </a:cubicBezTo>
              </a:path>
              <a:path w="3618" h="682">
                <a:moveTo>
                  <a:pt x="13995" y="12800"/>
                </a:moveTo>
                <a:cubicBezTo>
                  <a:pt x="13987" y="12845"/>
                  <a:pt x="13990" y="12887"/>
                  <a:pt x="13990" y="12933"/>
                </a:cubicBezTo>
                <a:cubicBezTo>
                  <a:pt x="13989" y="13021"/>
                  <a:pt x="13990" y="13112"/>
                  <a:pt x="14007" y="13198"/>
                </a:cubicBezTo>
                <a:cubicBezTo>
                  <a:pt x="14020" y="13264"/>
                  <a:pt x="14040" y="13321"/>
                  <a:pt x="14078" y="13375"/>
                </a:cubicBezTo>
              </a:path>
              <a:path w="3618" h="682">
                <a:moveTo>
                  <a:pt x="14259" y="13344"/>
                </a:moveTo>
                <a:cubicBezTo>
                  <a:pt x="14242" y="13322"/>
                  <a:pt x="14251" y="13288"/>
                  <a:pt x="14257" y="13259"/>
                </a:cubicBezTo>
                <a:cubicBezTo>
                  <a:pt x="14270" y="13189"/>
                  <a:pt x="14293" y="13121"/>
                  <a:pt x="14319" y="13054"/>
                </a:cubicBezTo>
                <a:cubicBezTo>
                  <a:pt x="14341" y="12997"/>
                  <a:pt x="14365" y="12928"/>
                  <a:pt x="14406" y="12881"/>
                </a:cubicBezTo>
                <a:cubicBezTo>
                  <a:pt x="14422" y="12869"/>
                  <a:pt x="14427" y="12864"/>
                  <a:pt x="14440" y="12874"/>
                </a:cubicBezTo>
                <a:cubicBezTo>
                  <a:pt x="14455" y="12940"/>
                  <a:pt x="14457" y="13008"/>
                  <a:pt x="14461" y="13076"/>
                </a:cubicBezTo>
                <a:cubicBezTo>
                  <a:pt x="14466" y="13162"/>
                  <a:pt x="14466" y="13247"/>
                  <a:pt x="14472" y="13333"/>
                </a:cubicBezTo>
                <a:cubicBezTo>
                  <a:pt x="14474" y="13356"/>
                  <a:pt x="14476" y="13380"/>
                  <a:pt x="14478" y="13403"/>
                </a:cubicBezTo>
              </a:path>
              <a:path w="3618" h="682">
                <a:moveTo>
                  <a:pt x="14320" y="13174"/>
                </a:moveTo>
                <a:cubicBezTo>
                  <a:pt x="14348" y="13169"/>
                  <a:pt x="14382" y="13161"/>
                  <a:pt x="14410" y="13159"/>
                </a:cubicBezTo>
                <a:cubicBezTo>
                  <a:pt x="14450" y="13156"/>
                  <a:pt x="14492" y="13156"/>
                  <a:pt x="14532" y="13155"/>
                </a:cubicBezTo>
              </a:path>
              <a:path w="3618" h="682">
                <a:moveTo>
                  <a:pt x="14709" y="13241"/>
                </a:moveTo>
                <a:cubicBezTo>
                  <a:pt x="14735" y="13226"/>
                  <a:pt x="14764" y="13202"/>
                  <a:pt x="14789" y="13190"/>
                </a:cubicBezTo>
                <a:cubicBezTo>
                  <a:pt x="14810" y="13180"/>
                  <a:pt x="14828" y="13177"/>
                  <a:pt x="14849" y="13177"/>
                </a:cubicBezTo>
                <a:cubicBezTo>
                  <a:pt x="14862" y="13208"/>
                  <a:pt x="14852" y="13229"/>
                  <a:pt x="14839" y="13260"/>
                </a:cubicBezTo>
                <a:cubicBezTo>
                  <a:pt x="14824" y="13295"/>
                  <a:pt x="14805" y="13332"/>
                  <a:pt x="14801" y="13371"/>
                </a:cubicBezTo>
                <a:cubicBezTo>
                  <a:pt x="14797" y="13404"/>
                  <a:pt x="14826" y="13400"/>
                  <a:pt x="14849" y="13401"/>
                </a:cubicBezTo>
                <a:cubicBezTo>
                  <a:pt x="14900" y="13402"/>
                  <a:pt x="14943" y="13390"/>
                  <a:pt x="14989" y="13368"/>
                </a:cubicBezTo>
                <a:cubicBezTo>
                  <a:pt x="15000" y="13362"/>
                  <a:pt x="15012" y="13356"/>
                  <a:pt x="15023" y="13350"/>
                </a:cubicBezTo>
              </a:path>
              <a:path w="3618" h="682">
                <a:moveTo>
                  <a:pt x="15120" y="12861"/>
                </a:moveTo>
                <a:cubicBezTo>
                  <a:pt x="15114" y="12924"/>
                  <a:pt x="15116" y="12986"/>
                  <a:pt x="15121" y="13049"/>
                </a:cubicBezTo>
                <a:cubicBezTo>
                  <a:pt x="15128" y="13146"/>
                  <a:pt x="15138" y="13245"/>
                  <a:pt x="15156" y="13340"/>
                </a:cubicBezTo>
                <a:cubicBezTo>
                  <a:pt x="15164" y="13379"/>
                  <a:pt x="15175" y="13415"/>
                  <a:pt x="15190" y="13452"/>
                </a:cubicBezTo>
              </a:path>
              <a:path w="3618" h="682">
                <a:moveTo>
                  <a:pt x="15480" y="13054"/>
                </a:moveTo>
                <a:cubicBezTo>
                  <a:pt x="15479" y="13045"/>
                  <a:pt x="15535" y="13042"/>
                  <a:pt x="15562" y="13037"/>
                </a:cubicBezTo>
                <a:cubicBezTo>
                  <a:pt x="15652" y="13021"/>
                  <a:pt x="15743" y="12997"/>
                  <a:pt x="15830" y="12968"/>
                </a:cubicBezTo>
                <a:cubicBezTo>
                  <a:pt x="15847" y="12962"/>
                  <a:pt x="15864" y="12956"/>
                  <a:pt x="15881" y="1295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5835600" y="4586400"/>
            <a:ext cx="1257480" cy="271440"/>
          </a:xfrm>
          <a:custGeom>
            <a:avLst/>
            <a:gdLst/>
            <a:ahLst/>
            <a:rect l="l" t="t" r="r" b="b"/>
            <a:pathLst>
              <a:path w="3491" h="754">
                <a:moveTo>
                  <a:pt x="16291" y="12958"/>
                </a:moveTo>
                <a:cubicBezTo>
                  <a:pt x="16269" y="12983"/>
                  <a:pt x="16260" y="12986"/>
                  <a:pt x="16230" y="12995"/>
                </a:cubicBezTo>
                <a:cubicBezTo>
                  <a:pt x="16227" y="12997"/>
                  <a:pt x="16224" y="12998"/>
                  <a:pt x="16221" y="13000"/>
                </a:cubicBezTo>
                <a:cubicBezTo>
                  <a:pt x="16204" y="12966"/>
                  <a:pt x="16227" y="12941"/>
                  <a:pt x="16252" y="12911"/>
                </a:cubicBezTo>
                <a:cubicBezTo>
                  <a:pt x="16297" y="12859"/>
                  <a:pt x="16362" y="12809"/>
                  <a:pt x="16432" y="12799"/>
                </a:cubicBezTo>
                <a:cubicBezTo>
                  <a:pt x="16510" y="12788"/>
                  <a:pt x="16535" y="12858"/>
                  <a:pt x="16537" y="12922"/>
                </a:cubicBezTo>
                <a:cubicBezTo>
                  <a:pt x="16541" y="13038"/>
                  <a:pt x="16485" y="13156"/>
                  <a:pt x="16426" y="13252"/>
                </a:cubicBezTo>
                <a:cubicBezTo>
                  <a:pt x="16408" y="13282"/>
                  <a:pt x="16386" y="13308"/>
                  <a:pt x="16363" y="13334"/>
                </a:cubicBezTo>
                <a:cubicBezTo>
                  <a:pt x="16404" y="13316"/>
                  <a:pt x="16445" y="13296"/>
                  <a:pt x="16487" y="13281"/>
                </a:cubicBezTo>
                <a:cubicBezTo>
                  <a:pt x="16558" y="13255"/>
                  <a:pt x="16630" y="13233"/>
                  <a:pt x="16701" y="13209"/>
                </a:cubicBezTo>
              </a:path>
              <a:path w="3491" h="754">
                <a:moveTo>
                  <a:pt x="16945" y="12762"/>
                </a:moveTo>
                <a:cubicBezTo>
                  <a:pt x="16973" y="12731"/>
                  <a:pt x="16960" y="12750"/>
                  <a:pt x="16965" y="12790"/>
                </a:cubicBezTo>
                <a:cubicBezTo>
                  <a:pt x="16976" y="12874"/>
                  <a:pt x="16982" y="12958"/>
                  <a:pt x="16990" y="13043"/>
                </a:cubicBezTo>
                <a:cubicBezTo>
                  <a:pt x="16998" y="13131"/>
                  <a:pt x="17006" y="13219"/>
                  <a:pt x="17022" y="13306"/>
                </a:cubicBezTo>
                <a:cubicBezTo>
                  <a:pt x="17028" y="13338"/>
                  <a:pt x="17028" y="13345"/>
                  <a:pt x="17037" y="13363"/>
                </a:cubicBezTo>
              </a:path>
              <a:path w="3491" h="754">
                <a:moveTo>
                  <a:pt x="17278" y="13379"/>
                </a:moveTo>
                <a:cubicBezTo>
                  <a:pt x="17258" y="13348"/>
                  <a:pt x="17250" y="13316"/>
                  <a:pt x="17245" y="13279"/>
                </a:cubicBezTo>
                <a:cubicBezTo>
                  <a:pt x="17235" y="13202"/>
                  <a:pt x="17249" y="13124"/>
                  <a:pt x="17268" y="13049"/>
                </a:cubicBezTo>
                <a:cubicBezTo>
                  <a:pt x="17291" y="12961"/>
                  <a:pt x="17326" y="12862"/>
                  <a:pt x="17389" y="12794"/>
                </a:cubicBezTo>
                <a:cubicBezTo>
                  <a:pt x="17408" y="12778"/>
                  <a:pt x="17413" y="12772"/>
                  <a:pt x="17431" y="12778"/>
                </a:cubicBezTo>
                <a:cubicBezTo>
                  <a:pt x="17462" y="12824"/>
                  <a:pt x="17468" y="12867"/>
                  <a:pt x="17480" y="12921"/>
                </a:cubicBezTo>
                <a:cubicBezTo>
                  <a:pt x="17505" y="13039"/>
                  <a:pt x="17528" y="13158"/>
                  <a:pt x="17556" y="13276"/>
                </a:cubicBezTo>
                <a:cubicBezTo>
                  <a:pt x="17560" y="13298"/>
                  <a:pt x="17561" y="13303"/>
                  <a:pt x="17565" y="13316"/>
                </a:cubicBezTo>
              </a:path>
              <a:path w="3491" h="754">
                <a:moveTo>
                  <a:pt x="17295" y="13172"/>
                </a:moveTo>
                <a:cubicBezTo>
                  <a:pt x="17308" y="13197"/>
                  <a:pt x="17341" y="13185"/>
                  <a:pt x="17368" y="13182"/>
                </a:cubicBezTo>
                <a:cubicBezTo>
                  <a:pt x="17428" y="13176"/>
                  <a:pt x="17487" y="13172"/>
                  <a:pt x="17547" y="13165"/>
                </a:cubicBezTo>
                <a:cubicBezTo>
                  <a:pt x="17594" y="13160"/>
                  <a:pt x="17609" y="13159"/>
                  <a:pt x="17639" y="13153"/>
                </a:cubicBezTo>
              </a:path>
              <a:path w="3491" h="754">
                <a:moveTo>
                  <a:pt x="17775" y="13177"/>
                </a:moveTo>
                <a:cubicBezTo>
                  <a:pt x="17775" y="13217"/>
                  <a:pt x="17775" y="13258"/>
                  <a:pt x="17772" y="13297"/>
                </a:cubicBezTo>
                <a:cubicBezTo>
                  <a:pt x="17768" y="13345"/>
                  <a:pt x="17764" y="13402"/>
                  <a:pt x="17781" y="13448"/>
                </a:cubicBezTo>
                <a:cubicBezTo>
                  <a:pt x="17791" y="13475"/>
                  <a:pt x="17812" y="13506"/>
                  <a:pt x="17843" y="13485"/>
                </a:cubicBezTo>
                <a:cubicBezTo>
                  <a:pt x="17849" y="13479"/>
                  <a:pt x="17854" y="13474"/>
                  <a:pt x="17860" y="13468"/>
                </a:cubicBezTo>
              </a:path>
              <a:path w="3491" h="754">
                <a:moveTo>
                  <a:pt x="18195" y="13201"/>
                </a:moveTo>
                <a:cubicBezTo>
                  <a:pt x="18173" y="13207"/>
                  <a:pt x="18153" y="13216"/>
                  <a:pt x="18131" y="13219"/>
                </a:cubicBezTo>
                <a:cubicBezTo>
                  <a:pt x="18137" y="13184"/>
                  <a:pt x="18159" y="13159"/>
                  <a:pt x="18174" y="13126"/>
                </a:cubicBezTo>
                <a:cubicBezTo>
                  <a:pt x="18202" y="13064"/>
                  <a:pt x="18229" y="13006"/>
                  <a:pt x="18266" y="12949"/>
                </a:cubicBezTo>
                <a:cubicBezTo>
                  <a:pt x="18296" y="12903"/>
                  <a:pt x="18316" y="12869"/>
                  <a:pt x="18367" y="12854"/>
                </a:cubicBezTo>
                <a:cubicBezTo>
                  <a:pt x="18414" y="12905"/>
                  <a:pt x="18421" y="12958"/>
                  <a:pt x="18433" y="13027"/>
                </a:cubicBezTo>
                <a:cubicBezTo>
                  <a:pt x="18448" y="13113"/>
                  <a:pt x="18452" y="13202"/>
                  <a:pt x="18471" y="13287"/>
                </a:cubicBezTo>
                <a:cubicBezTo>
                  <a:pt x="18484" y="13343"/>
                  <a:pt x="18484" y="13344"/>
                  <a:pt x="18521" y="13330"/>
                </a:cubicBezTo>
              </a:path>
              <a:path w="3491" h="754">
                <a:moveTo>
                  <a:pt x="18741" y="13457"/>
                </a:moveTo>
                <a:cubicBezTo>
                  <a:pt x="18753" y="13409"/>
                  <a:pt x="18754" y="13362"/>
                  <a:pt x="18762" y="13313"/>
                </a:cubicBezTo>
                <a:cubicBezTo>
                  <a:pt x="18778" y="13215"/>
                  <a:pt x="18805" y="13121"/>
                  <a:pt x="18838" y="13027"/>
                </a:cubicBezTo>
                <a:cubicBezTo>
                  <a:pt x="18861" y="12963"/>
                  <a:pt x="18880" y="12904"/>
                  <a:pt x="18926" y="12854"/>
                </a:cubicBezTo>
                <a:cubicBezTo>
                  <a:pt x="18965" y="12892"/>
                  <a:pt x="18957" y="12948"/>
                  <a:pt x="18961" y="13002"/>
                </a:cubicBezTo>
                <a:cubicBezTo>
                  <a:pt x="18968" y="13089"/>
                  <a:pt x="18978" y="13176"/>
                  <a:pt x="18979" y="13263"/>
                </a:cubicBezTo>
                <a:cubicBezTo>
                  <a:pt x="18979" y="13293"/>
                  <a:pt x="18980" y="13321"/>
                  <a:pt x="18975" y="13350"/>
                </a:cubicBezTo>
              </a:path>
              <a:path w="3491" h="754">
                <a:moveTo>
                  <a:pt x="18764" y="13162"/>
                </a:moveTo>
                <a:cubicBezTo>
                  <a:pt x="18757" y="13179"/>
                  <a:pt x="18809" y="13175"/>
                  <a:pt x="18832" y="13176"/>
                </a:cubicBezTo>
                <a:cubicBezTo>
                  <a:pt x="18887" y="13179"/>
                  <a:pt x="18939" y="13181"/>
                  <a:pt x="18994" y="13176"/>
                </a:cubicBezTo>
                <a:cubicBezTo>
                  <a:pt x="19004" y="13175"/>
                  <a:pt x="19015" y="13173"/>
                  <a:pt x="19025" y="13172"/>
                </a:cubicBezTo>
              </a:path>
              <a:path w="3491" h="754">
                <a:moveTo>
                  <a:pt x="19100" y="13201"/>
                </a:moveTo>
                <a:cubicBezTo>
                  <a:pt x="19129" y="13208"/>
                  <a:pt x="19152" y="13194"/>
                  <a:pt x="19181" y="13187"/>
                </a:cubicBezTo>
                <a:cubicBezTo>
                  <a:pt x="19223" y="13177"/>
                  <a:pt x="19270" y="13171"/>
                  <a:pt x="19309" y="13195"/>
                </a:cubicBezTo>
                <a:cubicBezTo>
                  <a:pt x="19349" y="13220"/>
                  <a:pt x="19337" y="13281"/>
                  <a:pt x="19321" y="13317"/>
                </a:cubicBezTo>
                <a:cubicBezTo>
                  <a:pt x="19298" y="13369"/>
                  <a:pt x="19259" y="13415"/>
                  <a:pt x="19223" y="13458"/>
                </a:cubicBezTo>
                <a:cubicBezTo>
                  <a:pt x="19210" y="13474"/>
                  <a:pt x="19207" y="13477"/>
                  <a:pt x="19202" y="13489"/>
                </a:cubicBezTo>
                <a:cubicBezTo>
                  <a:pt x="19251" y="13480"/>
                  <a:pt x="19304" y="13461"/>
                  <a:pt x="19350" y="13442"/>
                </a:cubicBezTo>
                <a:cubicBezTo>
                  <a:pt x="19420" y="13413"/>
                  <a:pt x="19481" y="13373"/>
                  <a:pt x="19542" y="13329"/>
                </a:cubicBezTo>
              </a:path>
              <a:path w="3491" h="754">
                <a:moveTo>
                  <a:pt x="19640" y="12894"/>
                </a:moveTo>
                <a:cubicBezTo>
                  <a:pt x="19652" y="12947"/>
                  <a:pt x="19653" y="13004"/>
                  <a:pt x="19654" y="13059"/>
                </a:cubicBezTo>
                <a:cubicBezTo>
                  <a:pt x="19655" y="13146"/>
                  <a:pt x="19657" y="13232"/>
                  <a:pt x="19667" y="13319"/>
                </a:cubicBezTo>
                <a:cubicBezTo>
                  <a:pt x="19671" y="13357"/>
                  <a:pt x="19670" y="13402"/>
                  <a:pt x="19701" y="1342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7440480" y="4691160"/>
            <a:ext cx="1435320" cy="226800"/>
          </a:xfrm>
          <a:custGeom>
            <a:avLst/>
            <a:gdLst/>
            <a:ahLst/>
            <a:rect l="l" t="t" r="r" b="b"/>
            <a:pathLst>
              <a:path w="3986" h="629">
                <a:moveTo>
                  <a:pt x="20838" y="13031"/>
                </a:moveTo>
                <a:cubicBezTo>
                  <a:pt x="20828" y="13064"/>
                  <a:pt x="20802" y="13098"/>
                  <a:pt x="20782" y="13128"/>
                </a:cubicBezTo>
                <a:cubicBezTo>
                  <a:pt x="20738" y="13193"/>
                  <a:pt x="20701" y="13263"/>
                  <a:pt x="20680" y="13339"/>
                </a:cubicBezTo>
                <a:cubicBezTo>
                  <a:pt x="20661" y="13408"/>
                  <a:pt x="20654" y="13494"/>
                  <a:pt x="20723" y="13540"/>
                </a:cubicBezTo>
                <a:cubicBezTo>
                  <a:pt x="20800" y="13591"/>
                  <a:pt x="20920" y="13540"/>
                  <a:pt x="20991" y="13504"/>
                </a:cubicBezTo>
                <a:cubicBezTo>
                  <a:pt x="21085" y="13456"/>
                  <a:pt x="21181" y="13380"/>
                  <a:pt x="21230" y="13284"/>
                </a:cubicBezTo>
                <a:cubicBezTo>
                  <a:pt x="21263" y="13220"/>
                  <a:pt x="21257" y="13158"/>
                  <a:pt x="21187" y="13130"/>
                </a:cubicBezTo>
                <a:cubicBezTo>
                  <a:pt x="21124" y="13105"/>
                  <a:pt x="21027" y="13103"/>
                  <a:pt x="20961" y="13119"/>
                </a:cubicBezTo>
                <a:cubicBezTo>
                  <a:pt x="20928" y="13127"/>
                  <a:pt x="20869" y="13141"/>
                  <a:pt x="20864" y="13178"/>
                </a:cubicBezTo>
                <a:cubicBezTo>
                  <a:pt x="20881" y="13194"/>
                  <a:pt x="20889" y="13200"/>
                  <a:pt x="20906" y="13206"/>
                </a:cubicBezTo>
              </a:path>
              <a:path w="3986" h="629">
                <a:moveTo>
                  <a:pt x="21467" y="13534"/>
                </a:moveTo>
                <a:cubicBezTo>
                  <a:pt x="21445" y="13516"/>
                  <a:pt x="21426" y="13505"/>
                  <a:pt x="21415" y="13478"/>
                </a:cubicBezTo>
                <a:cubicBezTo>
                  <a:pt x="21400" y="13442"/>
                  <a:pt x="21408" y="13403"/>
                  <a:pt x="21415" y="13365"/>
                </a:cubicBezTo>
                <a:cubicBezTo>
                  <a:pt x="21425" y="13312"/>
                  <a:pt x="21448" y="13256"/>
                  <a:pt x="21477" y="13210"/>
                </a:cubicBezTo>
                <a:cubicBezTo>
                  <a:pt x="21496" y="13180"/>
                  <a:pt x="21508" y="13170"/>
                  <a:pt x="21538" y="13158"/>
                </a:cubicBezTo>
                <a:cubicBezTo>
                  <a:pt x="21579" y="13189"/>
                  <a:pt x="21590" y="13233"/>
                  <a:pt x="21599" y="13285"/>
                </a:cubicBezTo>
                <a:cubicBezTo>
                  <a:pt x="21611" y="13353"/>
                  <a:pt x="21616" y="13434"/>
                  <a:pt x="21599" y="13502"/>
                </a:cubicBezTo>
                <a:cubicBezTo>
                  <a:pt x="21587" y="13532"/>
                  <a:pt x="21585" y="13540"/>
                  <a:pt x="21570" y="13554"/>
                </a:cubicBezTo>
                <a:cubicBezTo>
                  <a:pt x="21521" y="13554"/>
                  <a:pt x="21503" y="13531"/>
                  <a:pt x="21475" y="13489"/>
                </a:cubicBezTo>
                <a:cubicBezTo>
                  <a:pt x="21447" y="13446"/>
                  <a:pt x="21424" y="13397"/>
                  <a:pt x="21417" y="13346"/>
                </a:cubicBezTo>
                <a:cubicBezTo>
                  <a:pt x="21412" y="13306"/>
                  <a:pt x="21427" y="13281"/>
                  <a:pt x="21464" y="13267"/>
                </a:cubicBezTo>
                <a:cubicBezTo>
                  <a:pt x="21498" y="13254"/>
                  <a:pt x="21539" y="13250"/>
                  <a:pt x="21575" y="13245"/>
                </a:cubicBezTo>
                <a:cubicBezTo>
                  <a:pt x="21600" y="13241"/>
                  <a:pt x="21624" y="13239"/>
                  <a:pt x="21649" y="13232"/>
                </a:cubicBezTo>
                <a:cubicBezTo>
                  <a:pt x="21646" y="13257"/>
                  <a:pt x="21633" y="13281"/>
                  <a:pt x="21622" y="13305"/>
                </a:cubicBezTo>
                <a:cubicBezTo>
                  <a:pt x="21602" y="13345"/>
                  <a:pt x="21582" y="13386"/>
                  <a:pt x="21558" y="13424"/>
                </a:cubicBezTo>
                <a:cubicBezTo>
                  <a:pt x="21527" y="13473"/>
                  <a:pt x="21538" y="13451"/>
                  <a:pt x="21567" y="13420"/>
                </a:cubicBezTo>
              </a:path>
              <a:path w="3986" h="629">
                <a:moveTo>
                  <a:pt x="21809" y="13477"/>
                </a:moveTo>
                <a:cubicBezTo>
                  <a:pt x="21784" y="13470"/>
                  <a:pt x="21769" y="13470"/>
                  <a:pt x="21765" y="13436"/>
                </a:cubicBezTo>
                <a:cubicBezTo>
                  <a:pt x="21760" y="13393"/>
                  <a:pt x="21791" y="13339"/>
                  <a:pt x="21807" y="13302"/>
                </a:cubicBezTo>
                <a:cubicBezTo>
                  <a:pt x="21844" y="13217"/>
                  <a:pt x="21891" y="13117"/>
                  <a:pt x="21962" y="13055"/>
                </a:cubicBezTo>
                <a:cubicBezTo>
                  <a:pt x="21967" y="13052"/>
                  <a:pt x="21973" y="13048"/>
                  <a:pt x="21978" y="13045"/>
                </a:cubicBezTo>
                <a:cubicBezTo>
                  <a:pt x="22009" y="13063"/>
                  <a:pt x="22014" y="13096"/>
                  <a:pt x="22022" y="13131"/>
                </a:cubicBezTo>
                <a:cubicBezTo>
                  <a:pt x="22035" y="13188"/>
                  <a:pt x="22045" y="13244"/>
                  <a:pt x="22060" y="13300"/>
                </a:cubicBezTo>
                <a:cubicBezTo>
                  <a:pt x="22068" y="13329"/>
                  <a:pt x="22087" y="13375"/>
                  <a:pt x="22078" y="13406"/>
                </a:cubicBezTo>
                <a:cubicBezTo>
                  <a:pt x="22076" y="13409"/>
                  <a:pt x="22073" y="13412"/>
                  <a:pt x="22071" y="13415"/>
                </a:cubicBezTo>
                <a:cubicBezTo>
                  <a:pt x="22037" y="13419"/>
                  <a:pt x="22011" y="13411"/>
                  <a:pt x="21979" y="13396"/>
                </a:cubicBezTo>
                <a:cubicBezTo>
                  <a:pt x="21937" y="13377"/>
                  <a:pt x="21898" y="13349"/>
                  <a:pt x="21872" y="13310"/>
                </a:cubicBezTo>
                <a:cubicBezTo>
                  <a:pt x="21850" y="13278"/>
                  <a:pt x="21855" y="13244"/>
                  <a:pt x="21882" y="13217"/>
                </a:cubicBezTo>
                <a:cubicBezTo>
                  <a:pt x="21914" y="13185"/>
                  <a:pt x="21966" y="13165"/>
                  <a:pt x="22009" y="13152"/>
                </a:cubicBezTo>
                <a:cubicBezTo>
                  <a:pt x="22043" y="13142"/>
                  <a:pt x="22095" y="13129"/>
                  <a:pt x="22125" y="13156"/>
                </a:cubicBezTo>
                <a:cubicBezTo>
                  <a:pt x="22155" y="13182"/>
                  <a:pt x="22137" y="13239"/>
                  <a:pt x="22127" y="13269"/>
                </a:cubicBezTo>
                <a:cubicBezTo>
                  <a:pt x="22113" y="13313"/>
                  <a:pt x="22086" y="13367"/>
                  <a:pt x="22050" y="13398"/>
                </a:cubicBezTo>
                <a:cubicBezTo>
                  <a:pt x="22020" y="13424"/>
                  <a:pt x="22008" y="13423"/>
                  <a:pt x="22019" y="13387"/>
                </a:cubicBezTo>
                <a:cubicBezTo>
                  <a:pt x="22023" y="13378"/>
                  <a:pt x="22026" y="13369"/>
                  <a:pt x="22030" y="13360"/>
                </a:cubicBezTo>
              </a:path>
              <a:path w="3986" h="629">
                <a:moveTo>
                  <a:pt x="22187" y="13396"/>
                </a:moveTo>
                <a:cubicBezTo>
                  <a:pt x="22161" y="13405"/>
                  <a:pt x="22197" y="13376"/>
                  <a:pt x="22209" y="13356"/>
                </a:cubicBezTo>
                <a:cubicBezTo>
                  <a:pt x="22239" y="13305"/>
                  <a:pt x="22272" y="13256"/>
                  <a:pt x="22305" y="13206"/>
                </a:cubicBezTo>
                <a:cubicBezTo>
                  <a:pt x="22325" y="13175"/>
                  <a:pt x="22349" y="13119"/>
                  <a:pt x="22384" y="13101"/>
                </a:cubicBezTo>
                <a:cubicBezTo>
                  <a:pt x="22388" y="13101"/>
                  <a:pt x="22393" y="13100"/>
                  <a:pt x="22397" y="13100"/>
                </a:cubicBezTo>
                <a:cubicBezTo>
                  <a:pt x="22417" y="13131"/>
                  <a:pt x="22415" y="13166"/>
                  <a:pt x="22420" y="13202"/>
                </a:cubicBezTo>
                <a:cubicBezTo>
                  <a:pt x="22428" y="13262"/>
                  <a:pt x="22427" y="13359"/>
                  <a:pt x="22472" y="13407"/>
                </a:cubicBezTo>
                <a:cubicBezTo>
                  <a:pt x="22489" y="13425"/>
                  <a:pt x="22513" y="13425"/>
                  <a:pt x="22532" y="13413"/>
                </a:cubicBezTo>
                <a:cubicBezTo>
                  <a:pt x="22542" y="13405"/>
                  <a:pt x="22545" y="13403"/>
                  <a:pt x="22545" y="13394"/>
                </a:cubicBezTo>
                <a:cubicBezTo>
                  <a:pt x="22528" y="13375"/>
                  <a:pt x="22518" y="13365"/>
                  <a:pt x="22490" y="13356"/>
                </a:cubicBezTo>
                <a:cubicBezTo>
                  <a:pt x="22442" y="13341"/>
                  <a:pt x="22390" y="13332"/>
                  <a:pt x="22341" y="13323"/>
                </a:cubicBezTo>
                <a:cubicBezTo>
                  <a:pt x="22307" y="13317"/>
                  <a:pt x="22273" y="13313"/>
                  <a:pt x="22241" y="13303"/>
                </a:cubicBezTo>
                <a:cubicBezTo>
                  <a:pt x="22262" y="13281"/>
                  <a:pt x="22299" y="13276"/>
                  <a:pt x="22330" y="13271"/>
                </a:cubicBezTo>
                <a:cubicBezTo>
                  <a:pt x="22378" y="13263"/>
                  <a:pt x="22437" y="13257"/>
                  <a:pt x="22483" y="13275"/>
                </a:cubicBezTo>
                <a:cubicBezTo>
                  <a:pt x="22519" y="13289"/>
                  <a:pt x="22529" y="13324"/>
                  <a:pt x="22518" y="13359"/>
                </a:cubicBezTo>
                <a:cubicBezTo>
                  <a:pt x="22507" y="13393"/>
                  <a:pt x="22477" y="13428"/>
                  <a:pt x="22453" y="13453"/>
                </a:cubicBezTo>
                <a:cubicBezTo>
                  <a:pt x="22441" y="13465"/>
                  <a:pt x="22437" y="13467"/>
                  <a:pt x="22430" y="13475"/>
                </a:cubicBezTo>
              </a:path>
              <a:path w="3986" h="629">
                <a:moveTo>
                  <a:pt x="22798" y="13465"/>
                </a:moveTo>
                <a:cubicBezTo>
                  <a:pt x="22791" y="13441"/>
                  <a:pt x="22796" y="13403"/>
                  <a:pt x="22803" y="13378"/>
                </a:cubicBezTo>
                <a:cubicBezTo>
                  <a:pt x="22821" y="13317"/>
                  <a:pt x="22841" y="13256"/>
                  <a:pt x="22864" y="13196"/>
                </a:cubicBezTo>
                <a:cubicBezTo>
                  <a:pt x="22880" y="13155"/>
                  <a:pt x="22896" y="13115"/>
                  <a:pt x="22919" y="13078"/>
                </a:cubicBezTo>
                <a:cubicBezTo>
                  <a:pt x="22944" y="13112"/>
                  <a:pt x="22943" y="13155"/>
                  <a:pt x="22950" y="13198"/>
                </a:cubicBezTo>
                <a:cubicBezTo>
                  <a:pt x="22961" y="13262"/>
                  <a:pt x="22978" y="13325"/>
                  <a:pt x="22993" y="13388"/>
                </a:cubicBezTo>
                <a:cubicBezTo>
                  <a:pt x="23001" y="13419"/>
                  <a:pt x="23010" y="13449"/>
                  <a:pt x="23017" y="13480"/>
                </a:cubicBezTo>
                <a:cubicBezTo>
                  <a:pt x="22991" y="13484"/>
                  <a:pt x="22969" y="13476"/>
                  <a:pt x="22944" y="13466"/>
                </a:cubicBezTo>
                <a:cubicBezTo>
                  <a:pt x="22902" y="13449"/>
                  <a:pt x="22859" y="13429"/>
                  <a:pt x="22821" y="13404"/>
                </a:cubicBezTo>
                <a:cubicBezTo>
                  <a:pt x="22800" y="13390"/>
                  <a:pt x="22762" y="13364"/>
                  <a:pt x="22772" y="13333"/>
                </a:cubicBezTo>
                <a:cubicBezTo>
                  <a:pt x="22786" y="13290"/>
                  <a:pt x="22863" y="13258"/>
                  <a:pt x="22899" y="13241"/>
                </a:cubicBezTo>
                <a:cubicBezTo>
                  <a:pt x="22937" y="13223"/>
                  <a:pt x="22990" y="13197"/>
                  <a:pt x="23034" y="13203"/>
                </a:cubicBezTo>
                <a:cubicBezTo>
                  <a:pt x="23041" y="13206"/>
                  <a:pt x="23047" y="13208"/>
                  <a:pt x="23054" y="13211"/>
                </a:cubicBezTo>
                <a:cubicBezTo>
                  <a:pt x="23073" y="13249"/>
                  <a:pt x="23064" y="13274"/>
                  <a:pt x="23045" y="13314"/>
                </a:cubicBezTo>
                <a:cubicBezTo>
                  <a:pt x="23024" y="13357"/>
                  <a:pt x="22993" y="13405"/>
                  <a:pt x="22953" y="13432"/>
                </a:cubicBezTo>
                <a:cubicBezTo>
                  <a:pt x="22937" y="13443"/>
                  <a:pt x="22902" y="13461"/>
                  <a:pt x="22896" y="13431"/>
                </a:cubicBezTo>
                <a:cubicBezTo>
                  <a:pt x="22897" y="13412"/>
                  <a:pt x="22897" y="13406"/>
                  <a:pt x="22900" y="13393"/>
                </a:cubicBezTo>
              </a:path>
              <a:path w="3986" h="629">
                <a:moveTo>
                  <a:pt x="23264" y="13518"/>
                </a:moveTo>
                <a:cubicBezTo>
                  <a:pt x="23250" y="13531"/>
                  <a:pt x="23238" y="13534"/>
                  <a:pt x="23218" y="13523"/>
                </a:cubicBezTo>
                <a:cubicBezTo>
                  <a:pt x="23182" y="13503"/>
                  <a:pt x="23188" y="13467"/>
                  <a:pt x="23196" y="13433"/>
                </a:cubicBezTo>
                <a:cubicBezTo>
                  <a:pt x="23211" y="13365"/>
                  <a:pt x="23251" y="13299"/>
                  <a:pt x="23290" y="13241"/>
                </a:cubicBezTo>
                <a:cubicBezTo>
                  <a:pt x="23323" y="13192"/>
                  <a:pt x="23361" y="13125"/>
                  <a:pt x="23407" y="13087"/>
                </a:cubicBezTo>
                <a:cubicBezTo>
                  <a:pt x="23425" y="13077"/>
                  <a:pt x="23429" y="13073"/>
                  <a:pt x="23442" y="13078"/>
                </a:cubicBezTo>
                <a:cubicBezTo>
                  <a:pt x="23455" y="13115"/>
                  <a:pt x="23455" y="13155"/>
                  <a:pt x="23459" y="13195"/>
                </a:cubicBezTo>
                <a:cubicBezTo>
                  <a:pt x="23465" y="13248"/>
                  <a:pt x="23471" y="13301"/>
                  <a:pt x="23484" y="13353"/>
                </a:cubicBezTo>
                <a:cubicBezTo>
                  <a:pt x="23491" y="13379"/>
                  <a:pt x="23501" y="13405"/>
                  <a:pt x="23513" y="13429"/>
                </a:cubicBezTo>
                <a:cubicBezTo>
                  <a:pt x="23483" y="13424"/>
                  <a:pt x="23460" y="13409"/>
                  <a:pt x="23432" y="13397"/>
                </a:cubicBezTo>
                <a:cubicBezTo>
                  <a:pt x="23393" y="13380"/>
                  <a:pt x="23351" y="13364"/>
                  <a:pt x="23310" y="13351"/>
                </a:cubicBezTo>
                <a:cubicBezTo>
                  <a:pt x="23282" y="13342"/>
                  <a:pt x="23257" y="13336"/>
                  <a:pt x="23231" y="13322"/>
                </a:cubicBezTo>
                <a:cubicBezTo>
                  <a:pt x="23272" y="13310"/>
                  <a:pt x="23312" y="13309"/>
                  <a:pt x="23354" y="13302"/>
                </a:cubicBezTo>
                <a:cubicBezTo>
                  <a:pt x="23405" y="13294"/>
                  <a:pt x="23453" y="13282"/>
                  <a:pt x="23505" y="13284"/>
                </a:cubicBezTo>
                <a:cubicBezTo>
                  <a:pt x="23485" y="13314"/>
                  <a:pt x="23452" y="13337"/>
                  <a:pt x="23421" y="13359"/>
                </a:cubicBezTo>
                <a:cubicBezTo>
                  <a:pt x="23385" y="13385"/>
                  <a:pt x="23346" y="13422"/>
                  <a:pt x="23306" y="13441"/>
                </a:cubicBezTo>
                <a:cubicBezTo>
                  <a:pt x="23291" y="13448"/>
                  <a:pt x="23275" y="13449"/>
                  <a:pt x="23259" y="13451"/>
                </a:cubicBezTo>
              </a:path>
              <a:path w="3986" h="629">
                <a:moveTo>
                  <a:pt x="23646" y="13571"/>
                </a:moveTo>
                <a:cubicBezTo>
                  <a:pt x="23661" y="13540"/>
                  <a:pt x="23675" y="13502"/>
                  <a:pt x="23684" y="13469"/>
                </a:cubicBezTo>
                <a:cubicBezTo>
                  <a:pt x="23699" y="13414"/>
                  <a:pt x="23718" y="13363"/>
                  <a:pt x="23738" y="13309"/>
                </a:cubicBezTo>
                <a:cubicBezTo>
                  <a:pt x="23750" y="13278"/>
                  <a:pt x="23755" y="13246"/>
                  <a:pt x="23785" y="13229"/>
                </a:cubicBezTo>
                <a:cubicBezTo>
                  <a:pt x="23788" y="13230"/>
                  <a:pt x="23792" y="13230"/>
                  <a:pt x="23795" y="13231"/>
                </a:cubicBezTo>
                <a:cubicBezTo>
                  <a:pt x="23805" y="13271"/>
                  <a:pt x="23800" y="13306"/>
                  <a:pt x="23802" y="13347"/>
                </a:cubicBezTo>
                <a:cubicBezTo>
                  <a:pt x="23804" y="13398"/>
                  <a:pt x="23805" y="13447"/>
                  <a:pt x="23808" y="13498"/>
                </a:cubicBezTo>
                <a:cubicBezTo>
                  <a:pt x="23809" y="13507"/>
                  <a:pt x="23829" y="13578"/>
                  <a:pt x="23823" y="13541"/>
                </a:cubicBezTo>
                <a:cubicBezTo>
                  <a:pt x="23821" y="13538"/>
                  <a:pt x="23819" y="13535"/>
                  <a:pt x="23817" y="13532"/>
                </a:cubicBezTo>
                <a:cubicBezTo>
                  <a:pt x="23795" y="13510"/>
                  <a:pt x="23772" y="13490"/>
                  <a:pt x="23742" y="13479"/>
                </a:cubicBezTo>
                <a:cubicBezTo>
                  <a:pt x="23706" y="13466"/>
                  <a:pt x="23666" y="13460"/>
                  <a:pt x="23629" y="13456"/>
                </a:cubicBezTo>
                <a:cubicBezTo>
                  <a:pt x="23615" y="13454"/>
                  <a:pt x="23601" y="13453"/>
                  <a:pt x="23587" y="13452"/>
                </a:cubicBezTo>
                <a:cubicBezTo>
                  <a:pt x="23666" y="13441"/>
                  <a:pt x="23747" y="13431"/>
                  <a:pt x="23827" y="13425"/>
                </a:cubicBezTo>
                <a:cubicBezTo>
                  <a:pt x="23860" y="13423"/>
                  <a:pt x="23892" y="13421"/>
                  <a:pt x="23925" y="13420"/>
                </a:cubicBezTo>
                <a:cubicBezTo>
                  <a:pt x="23901" y="13434"/>
                  <a:pt x="23876" y="13445"/>
                  <a:pt x="23852" y="13459"/>
                </a:cubicBezTo>
                <a:cubicBezTo>
                  <a:pt x="23812" y="13482"/>
                  <a:pt x="23775" y="13509"/>
                  <a:pt x="23736" y="13532"/>
                </a:cubicBezTo>
                <a:cubicBezTo>
                  <a:pt x="23708" y="13549"/>
                  <a:pt x="23690" y="13563"/>
                  <a:pt x="23661" y="13576"/>
                </a:cubicBezTo>
              </a:path>
              <a:path w="3986" h="629">
                <a:moveTo>
                  <a:pt x="23941" y="13566"/>
                </a:moveTo>
                <a:cubicBezTo>
                  <a:pt x="23946" y="13485"/>
                  <a:pt x="23950" y="13403"/>
                  <a:pt x="23969" y="13324"/>
                </a:cubicBezTo>
                <a:cubicBezTo>
                  <a:pt x="23987" y="13250"/>
                  <a:pt x="24015" y="13185"/>
                  <a:pt x="24051" y="13118"/>
                </a:cubicBezTo>
                <a:cubicBezTo>
                  <a:pt x="24082" y="13211"/>
                  <a:pt x="24089" y="13300"/>
                  <a:pt x="24111" y="13396"/>
                </a:cubicBezTo>
                <a:cubicBezTo>
                  <a:pt x="24122" y="13439"/>
                  <a:pt x="24126" y="13453"/>
                  <a:pt x="24137" y="13481"/>
                </a:cubicBezTo>
                <a:cubicBezTo>
                  <a:pt x="24097" y="13436"/>
                  <a:pt x="24009" y="13414"/>
                  <a:pt x="23978" y="13370"/>
                </a:cubicBezTo>
                <a:cubicBezTo>
                  <a:pt x="23973" y="13354"/>
                  <a:pt x="23969" y="13339"/>
                  <a:pt x="23964" y="13323"/>
                </a:cubicBezTo>
                <a:cubicBezTo>
                  <a:pt x="24017" y="13303"/>
                  <a:pt x="24113" y="13258"/>
                  <a:pt x="24133" y="13347"/>
                </a:cubicBezTo>
                <a:cubicBezTo>
                  <a:pt x="24146" y="13405"/>
                  <a:pt x="24064" y="13494"/>
                  <a:pt x="24041" y="13546"/>
                </a:cubicBezTo>
              </a:path>
              <a:path w="3986" h="629">
                <a:moveTo>
                  <a:pt x="24265" y="13659"/>
                </a:moveTo>
                <a:cubicBezTo>
                  <a:pt x="24222" y="13579"/>
                  <a:pt x="24231" y="13536"/>
                  <a:pt x="24266" y="13448"/>
                </a:cubicBezTo>
                <a:cubicBezTo>
                  <a:pt x="24304" y="13351"/>
                  <a:pt x="24350" y="13284"/>
                  <a:pt x="24435" y="13228"/>
                </a:cubicBezTo>
                <a:cubicBezTo>
                  <a:pt x="24431" y="13315"/>
                  <a:pt x="24406" y="13417"/>
                  <a:pt x="24442" y="13500"/>
                </a:cubicBezTo>
                <a:cubicBezTo>
                  <a:pt x="24466" y="13557"/>
                  <a:pt x="24619" y="13612"/>
                  <a:pt x="24521" y="13580"/>
                </a:cubicBezTo>
                <a:cubicBezTo>
                  <a:pt x="24433" y="13553"/>
                  <a:pt x="24346" y="13524"/>
                  <a:pt x="24263" y="13482"/>
                </a:cubicBezTo>
                <a:cubicBezTo>
                  <a:pt x="24217" y="13456"/>
                  <a:pt x="24203" y="13447"/>
                  <a:pt x="24171" y="13435"/>
                </a:cubicBezTo>
                <a:cubicBezTo>
                  <a:pt x="24241" y="13414"/>
                  <a:pt x="24306" y="13409"/>
                  <a:pt x="24380" y="13407"/>
                </a:cubicBezTo>
                <a:cubicBezTo>
                  <a:pt x="24483" y="13404"/>
                  <a:pt x="24556" y="13388"/>
                  <a:pt x="24637" y="13447"/>
                </a:cubicBezTo>
                <a:cubicBezTo>
                  <a:pt x="24651" y="13557"/>
                  <a:pt x="24618" y="13590"/>
                  <a:pt x="24506" y="13631"/>
                </a:cubicBezTo>
                <a:cubicBezTo>
                  <a:pt x="24419" y="13663"/>
                  <a:pt x="24377" y="13647"/>
                  <a:pt x="24316" y="1359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8978760" y="4754520"/>
            <a:ext cx="39960" cy="168480"/>
          </a:xfrm>
          <a:custGeom>
            <a:avLst/>
            <a:gdLst/>
            <a:ahLst/>
            <a:rect l="l" t="t" r="r" b="b"/>
            <a:pathLst>
              <a:path w="112" h="464">
                <a:moveTo>
                  <a:pt x="24952" y="13259"/>
                </a:moveTo>
                <a:cubicBezTo>
                  <a:pt x="24948" y="13242"/>
                  <a:pt x="24945" y="13226"/>
                  <a:pt x="24941" y="13209"/>
                </a:cubicBezTo>
                <a:cubicBezTo>
                  <a:pt x="24990" y="13304"/>
                  <a:pt x="24981" y="13354"/>
                  <a:pt x="24961" y="13458"/>
                </a:cubicBezTo>
                <a:cubicBezTo>
                  <a:pt x="24951" y="13511"/>
                  <a:pt x="24945" y="13631"/>
                  <a:pt x="24995" y="13666"/>
                </a:cubicBezTo>
                <a:cubicBezTo>
                  <a:pt x="25044" y="13672"/>
                  <a:pt x="25061" y="13675"/>
                  <a:pt x="25052" y="1362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4253040" y="5068800"/>
            <a:ext cx="1411200" cy="246240"/>
          </a:xfrm>
          <a:custGeom>
            <a:avLst/>
            <a:gdLst/>
            <a:ahLst/>
            <a:rect l="l" t="t" r="r" b="b"/>
            <a:pathLst>
              <a:path w="3919" h="685">
                <a:moveTo>
                  <a:pt x="11848" y="14446"/>
                </a:moveTo>
                <a:cubicBezTo>
                  <a:pt x="11831" y="14454"/>
                  <a:pt x="11826" y="14457"/>
                  <a:pt x="11813" y="14455"/>
                </a:cubicBezTo>
                <a:cubicBezTo>
                  <a:pt x="11870" y="14428"/>
                  <a:pt x="11925" y="14417"/>
                  <a:pt x="11987" y="14404"/>
                </a:cubicBezTo>
                <a:cubicBezTo>
                  <a:pt x="12077" y="14385"/>
                  <a:pt x="12169" y="14370"/>
                  <a:pt x="12261" y="14374"/>
                </a:cubicBezTo>
                <a:cubicBezTo>
                  <a:pt x="12276" y="14376"/>
                  <a:pt x="12290" y="14378"/>
                  <a:pt x="12305" y="14380"/>
                </a:cubicBezTo>
              </a:path>
              <a:path w="3919" h="685">
                <a:moveTo>
                  <a:pt x="11948" y="14548"/>
                </a:moveTo>
                <a:cubicBezTo>
                  <a:pt x="11923" y="14556"/>
                  <a:pt x="11902" y="14564"/>
                  <a:pt x="11879" y="14575"/>
                </a:cubicBezTo>
                <a:cubicBezTo>
                  <a:pt x="11924" y="14594"/>
                  <a:pt x="11977" y="14592"/>
                  <a:pt x="12027" y="14588"/>
                </a:cubicBezTo>
                <a:cubicBezTo>
                  <a:pt x="12109" y="14582"/>
                  <a:pt x="12186" y="14560"/>
                  <a:pt x="12263" y="14536"/>
                </a:cubicBezTo>
              </a:path>
              <a:path w="3919" h="685">
                <a:moveTo>
                  <a:pt x="12442" y="14290"/>
                </a:moveTo>
                <a:cubicBezTo>
                  <a:pt x="12456" y="14260"/>
                  <a:pt x="12467" y="14230"/>
                  <a:pt x="12488" y="14207"/>
                </a:cubicBezTo>
                <a:cubicBezTo>
                  <a:pt x="12516" y="14176"/>
                  <a:pt x="12561" y="14165"/>
                  <a:pt x="12603" y="14173"/>
                </a:cubicBezTo>
                <a:cubicBezTo>
                  <a:pt x="12670" y="14186"/>
                  <a:pt x="12720" y="14239"/>
                  <a:pt x="12740" y="14302"/>
                </a:cubicBezTo>
                <a:cubicBezTo>
                  <a:pt x="12782" y="14434"/>
                  <a:pt x="12718" y="14579"/>
                  <a:pt x="12635" y="14679"/>
                </a:cubicBezTo>
                <a:cubicBezTo>
                  <a:pt x="12609" y="14711"/>
                  <a:pt x="12566" y="14758"/>
                  <a:pt x="12521" y="14763"/>
                </a:cubicBezTo>
                <a:cubicBezTo>
                  <a:pt x="12518" y="14762"/>
                  <a:pt x="12515" y="14761"/>
                  <a:pt x="12512" y="14760"/>
                </a:cubicBezTo>
                <a:cubicBezTo>
                  <a:pt x="12533" y="14736"/>
                  <a:pt x="12543" y="14728"/>
                  <a:pt x="12579" y="14720"/>
                </a:cubicBezTo>
                <a:cubicBezTo>
                  <a:pt x="12647" y="14705"/>
                  <a:pt x="12717" y="14710"/>
                  <a:pt x="12786" y="14701"/>
                </a:cubicBezTo>
                <a:cubicBezTo>
                  <a:pt x="12856" y="14692"/>
                  <a:pt x="12931" y="14681"/>
                  <a:pt x="12997" y="14658"/>
                </a:cubicBezTo>
                <a:cubicBezTo>
                  <a:pt x="13009" y="14653"/>
                  <a:pt x="13022" y="14647"/>
                  <a:pt x="13034" y="14642"/>
                </a:cubicBezTo>
              </a:path>
              <a:path w="3919" h="685">
                <a:moveTo>
                  <a:pt x="13161" y="14228"/>
                </a:moveTo>
                <a:cubicBezTo>
                  <a:pt x="13163" y="14200"/>
                  <a:pt x="13166" y="14166"/>
                  <a:pt x="13137" y="14149"/>
                </a:cubicBezTo>
                <a:cubicBezTo>
                  <a:pt x="13102" y="14129"/>
                  <a:pt x="13062" y="14150"/>
                  <a:pt x="13034" y="14173"/>
                </a:cubicBezTo>
                <a:cubicBezTo>
                  <a:pt x="13005" y="14197"/>
                  <a:pt x="12965" y="14243"/>
                  <a:pt x="12972" y="14284"/>
                </a:cubicBezTo>
                <a:cubicBezTo>
                  <a:pt x="12979" y="14327"/>
                  <a:pt x="13044" y="14309"/>
                  <a:pt x="13067" y="14299"/>
                </a:cubicBezTo>
                <a:cubicBezTo>
                  <a:pt x="13119" y="14278"/>
                  <a:pt x="13165" y="14237"/>
                  <a:pt x="13206" y="14200"/>
                </a:cubicBezTo>
                <a:cubicBezTo>
                  <a:pt x="13224" y="14183"/>
                  <a:pt x="13228" y="14178"/>
                  <a:pt x="13242" y="14170"/>
                </a:cubicBezTo>
                <a:cubicBezTo>
                  <a:pt x="13255" y="14206"/>
                  <a:pt x="13250" y="14252"/>
                  <a:pt x="13245" y="14292"/>
                </a:cubicBezTo>
                <a:cubicBezTo>
                  <a:pt x="13239" y="14335"/>
                  <a:pt x="13223" y="14383"/>
                  <a:pt x="13235" y="14427"/>
                </a:cubicBezTo>
                <a:cubicBezTo>
                  <a:pt x="13238" y="14431"/>
                  <a:pt x="13240" y="14436"/>
                  <a:pt x="13243" y="14440"/>
                </a:cubicBezTo>
              </a:path>
              <a:path w="3919" h="685">
                <a:moveTo>
                  <a:pt x="13753" y="14269"/>
                </a:moveTo>
                <a:cubicBezTo>
                  <a:pt x="13740" y="14303"/>
                  <a:pt x="13728" y="14342"/>
                  <a:pt x="13723" y="14378"/>
                </a:cubicBezTo>
                <a:cubicBezTo>
                  <a:pt x="13715" y="14439"/>
                  <a:pt x="13705" y="14507"/>
                  <a:pt x="13708" y="14568"/>
                </a:cubicBezTo>
                <a:cubicBezTo>
                  <a:pt x="13709" y="14593"/>
                  <a:pt x="13713" y="14615"/>
                  <a:pt x="13722" y="14637"/>
                </a:cubicBezTo>
              </a:path>
              <a:path w="3919" h="685">
                <a:moveTo>
                  <a:pt x="13640" y="14429"/>
                </a:moveTo>
                <a:cubicBezTo>
                  <a:pt x="13667" y="14430"/>
                  <a:pt x="13718" y="14416"/>
                  <a:pt x="13745" y="14407"/>
                </a:cubicBezTo>
                <a:cubicBezTo>
                  <a:pt x="13804" y="14387"/>
                  <a:pt x="13861" y="14363"/>
                  <a:pt x="13919" y="14340"/>
                </a:cubicBezTo>
              </a:path>
              <a:path w="3919" h="685">
                <a:moveTo>
                  <a:pt x="14248" y="14199"/>
                </a:moveTo>
                <a:cubicBezTo>
                  <a:pt x="14283" y="14183"/>
                  <a:pt x="14327" y="14173"/>
                  <a:pt x="14366" y="14185"/>
                </a:cubicBezTo>
                <a:cubicBezTo>
                  <a:pt x="14447" y="14209"/>
                  <a:pt x="14497" y="14286"/>
                  <a:pt x="14494" y="14370"/>
                </a:cubicBezTo>
                <a:cubicBezTo>
                  <a:pt x="14491" y="14448"/>
                  <a:pt x="14450" y="14524"/>
                  <a:pt x="14404" y="14585"/>
                </a:cubicBezTo>
                <a:cubicBezTo>
                  <a:pt x="14377" y="14621"/>
                  <a:pt x="14342" y="14651"/>
                  <a:pt x="14313" y="14685"/>
                </a:cubicBezTo>
                <a:cubicBezTo>
                  <a:pt x="14361" y="14684"/>
                  <a:pt x="14412" y="14667"/>
                  <a:pt x="14457" y="14648"/>
                </a:cubicBezTo>
                <a:cubicBezTo>
                  <a:pt x="14542" y="14612"/>
                  <a:pt x="14623" y="14575"/>
                  <a:pt x="14698" y="14521"/>
                </a:cubicBezTo>
              </a:path>
              <a:path w="3919" h="685">
                <a:moveTo>
                  <a:pt x="14850" y="14099"/>
                </a:moveTo>
                <a:cubicBezTo>
                  <a:pt x="14854" y="14075"/>
                  <a:pt x="14837" y="14070"/>
                  <a:pt x="14817" y="14090"/>
                </a:cubicBezTo>
                <a:cubicBezTo>
                  <a:pt x="14784" y="14123"/>
                  <a:pt x="14755" y="14172"/>
                  <a:pt x="14737" y="14215"/>
                </a:cubicBezTo>
                <a:cubicBezTo>
                  <a:pt x="14723" y="14249"/>
                  <a:pt x="14706" y="14285"/>
                  <a:pt x="14726" y="14315"/>
                </a:cubicBezTo>
                <a:cubicBezTo>
                  <a:pt x="14773" y="14304"/>
                  <a:pt x="14796" y="14278"/>
                  <a:pt x="14828" y="14241"/>
                </a:cubicBezTo>
                <a:cubicBezTo>
                  <a:pt x="14862" y="14202"/>
                  <a:pt x="14888" y="14153"/>
                  <a:pt x="14925" y="14117"/>
                </a:cubicBezTo>
                <a:cubicBezTo>
                  <a:pt x="14929" y="14114"/>
                  <a:pt x="14934" y="14111"/>
                  <a:pt x="14938" y="14108"/>
                </a:cubicBezTo>
                <a:cubicBezTo>
                  <a:pt x="14948" y="14159"/>
                  <a:pt x="14939" y="14211"/>
                  <a:pt x="14930" y="14264"/>
                </a:cubicBezTo>
                <a:cubicBezTo>
                  <a:pt x="14921" y="14314"/>
                  <a:pt x="14910" y="14355"/>
                  <a:pt x="14915" y="14406"/>
                </a:cubicBezTo>
              </a:path>
              <a:path w="3919" h="685">
                <a:moveTo>
                  <a:pt x="15328" y="14470"/>
                </a:moveTo>
                <a:cubicBezTo>
                  <a:pt x="15375" y="14461"/>
                  <a:pt x="15423" y="14450"/>
                  <a:pt x="15471" y="14444"/>
                </a:cubicBezTo>
                <a:cubicBezTo>
                  <a:pt x="15543" y="14435"/>
                  <a:pt x="15612" y="14425"/>
                  <a:pt x="15683" y="14408"/>
                </a:cubicBezTo>
                <a:cubicBezTo>
                  <a:pt x="15699" y="14404"/>
                  <a:pt x="15715" y="14400"/>
                  <a:pt x="15731" y="1439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5810400" y="5021280"/>
            <a:ext cx="625320" cy="285840"/>
          </a:xfrm>
          <a:custGeom>
            <a:avLst/>
            <a:gdLst/>
            <a:ahLst/>
            <a:rect l="l" t="t" r="r" b="b"/>
            <a:pathLst>
              <a:path w="1739" h="793">
                <a:moveTo>
                  <a:pt x="16166" y="14261"/>
                </a:moveTo>
                <a:cubicBezTo>
                  <a:pt x="16150" y="14220"/>
                  <a:pt x="16130" y="14185"/>
                  <a:pt x="16150" y="14144"/>
                </a:cubicBezTo>
                <a:cubicBezTo>
                  <a:pt x="16173" y="14097"/>
                  <a:pt x="16222" y="14082"/>
                  <a:pt x="16273" y="14087"/>
                </a:cubicBezTo>
                <a:cubicBezTo>
                  <a:pt x="16353" y="14095"/>
                  <a:pt x="16397" y="14166"/>
                  <a:pt x="16412" y="14238"/>
                </a:cubicBezTo>
                <a:cubicBezTo>
                  <a:pt x="16440" y="14370"/>
                  <a:pt x="16389" y="14511"/>
                  <a:pt x="16327" y="14626"/>
                </a:cubicBezTo>
                <a:cubicBezTo>
                  <a:pt x="16300" y="14675"/>
                  <a:pt x="16267" y="14707"/>
                  <a:pt x="16228" y="14739"/>
                </a:cubicBezTo>
                <a:cubicBezTo>
                  <a:pt x="16242" y="14700"/>
                  <a:pt x="16254" y="14677"/>
                  <a:pt x="16288" y="14646"/>
                </a:cubicBezTo>
                <a:cubicBezTo>
                  <a:pt x="16343" y="14596"/>
                  <a:pt x="16402" y="14563"/>
                  <a:pt x="16468" y="14529"/>
                </a:cubicBezTo>
              </a:path>
              <a:path w="1739" h="793">
                <a:moveTo>
                  <a:pt x="16718" y="14426"/>
                </a:moveTo>
                <a:cubicBezTo>
                  <a:pt x="16691" y="14394"/>
                  <a:pt x="16690" y="14394"/>
                  <a:pt x="16710" y="14361"/>
                </a:cubicBezTo>
                <a:cubicBezTo>
                  <a:pt x="16736" y="14318"/>
                  <a:pt x="16777" y="14284"/>
                  <a:pt x="16815" y="14250"/>
                </a:cubicBezTo>
                <a:cubicBezTo>
                  <a:pt x="16830" y="14238"/>
                  <a:pt x="16844" y="14225"/>
                  <a:pt x="16859" y="14213"/>
                </a:cubicBezTo>
              </a:path>
              <a:path w="1739" h="793">
                <a:moveTo>
                  <a:pt x="17031" y="14179"/>
                </a:moveTo>
                <a:cubicBezTo>
                  <a:pt x="17013" y="14170"/>
                  <a:pt x="17007" y="14167"/>
                  <a:pt x="17005" y="14152"/>
                </a:cubicBezTo>
                <a:cubicBezTo>
                  <a:pt x="17027" y="14114"/>
                  <a:pt x="17070" y="14103"/>
                  <a:pt x="17117" y="14095"/>
                </a:cubicBezTo>
                <a:cubicBezTo>
                  <a:pt x="17183" y="14084"/>
                  <a:pt x="17257" y="14092"/>
                  <a:pt x="17304" y="14146"/>
                </a:cubicBezTo>
                <a:cubicBezTo>
                  <a:pt x="17356" y="14207"/>
                  <a:pt x="17347" y="14291"/>
                  <a:pt x="17327" y="14362"/>
                </a:cubicBezTo>
                <a:cubicBezTo>
                  <a:pt x="17308" y="14428"/>
                  <a:pt x="17272" y="14484"/>
                  <a:pt x="17236" y="14542"/>
                </a:cubicBezTo>
                <a:cubicBezTo>
                  <a:pt x="17233" y="14547"/>
                  <a:pt x="17229" y="14553"/>
                  <a:pt x="17226" y="14558"/>
                </a:cubicBezTo>
                <a:cubicBezTo>
                  <a:pt x="17264" y="14547"/>
                  <a:pt x="17294" y="14532"/>
                  <a:pt x="17330" y="14510"/>
                </a:cubicBezTo>
                <a:cubicBezTo>
                  <a:pt x="17396" y="14470"/>
                  <a:pt x="17458" y="14428"/>
                  <a:pt x="17519" y="14380"/>
                </a:cubicBezTo>
              </a:path>
              <a:path w="1739" h="793">
                <a:moveTo>
                  <a:pt x="17741" y="14008"/>
                </a:moveTo>
                <a:cubicBezTo>
                  <a:pt x="17743" y="13989"/>
                  <a:pt x="17746" y="13969"/>
                  <a:pt x="17722" y="13963"/>
                </a:cubicBezTo>
                <a:cubicBezTo>
                  <a:pt x="17706" y="13959"/>
                  <a:pt x="17683" y="13970"/>
                  <a:pt x="17672" y="13982"/>
                </a:cubicBezTo>
                <a:cubicBezTo>
                  <a:pt x="17653" y="14003"/>
                  <a:pt x="17676" y="14029"/>
                  <a:pt x="17688" y="14047"/>
                </a:cubicBezTo>
                <a:cubicBezTo>
                  <a:pt x="17721" y="14096"/>
                  <a:pt x="17764" y="14139"/>
                  <a:pt x="17785" y="14195"/>
                </a:cubicBezTo>
                <a:cubicBezTo>
                  <a:pt x="17799" y="14230"/>
                  <a:pt x="17803" y="14269"/>
                  <a:pt x="17803" y="14306"/>
                </a:cubicBezTo>
                <a:cubicBezTo>
                  <a:pt x="17803" y="14319"/>
                  <a:pt x="17800" y="14332"/>
                  <a:pt x="17798" y="14345"/>
                </a:cubicBezTo>
                <a:cubicBezTo>
                  <a:pt x="17791" y="14313"/>
                  <a:pt x="17781" y="14283"/>
                  <a:pt x="17767" y="14253"/>
                </a:cubicBezTo>
                <a:cubicBezTo>
                  <a:pt x="17747" y="14211"/>
                  <a:pt x="17729" y="14170"/>
                  <a:pt x="17724" y="14123"/>
                </a:cubicBezTo>
                <a:cubicBezTo>
                  <a:pt x="17719" y="14082"/>
                  <a:pt x="17731" y="14049"/>
                  <a:pt x="17764" y="14023"/>
                </a:cubicBezTo>
                <a:cubicBezTo>
                  <a:pt x="17790" y="14002"/>
                  <a:pt x="17826" y="13986"/>
                  <a:pt x="17857" y="13974"/>
                </a:cubicBezTo>
                <a:cubicBezTo>
                  <a:pt x="17894" y="13959"/>
                  <a:pt x="17861" y="13952"/>
                  <a:pt x="17838" y="13949"/>
                </a:cubicBezTo>
                <a:cubicBezTo>
                  <a:pt x="17830" y="13948"/>
                  <a:pt x="17823" y="13948"/>
                  <a:pt x="17815" y="1394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4286160" y="5396040"/>
            <a:ext cx="487440" cy="255600"/>
          </a:xfrm>
          <a:custGeom>
            <a:avLst/>
            <a:gdLst/>
            <a:ahLst/>
            <a:rect l="l" t="t" r="r" b="b"/>
            <a:pathLst>
              <a:path w="1353" h="712">
                <a:moveTo>
                  <a:pt x="11911" y="15256"/>
                </a:moveTo>
                <a:cubicBezTo>
                  <a:pt x="11960" y="15262"/>
                  <a:pt x="12010" y="15252"/>
                  <a:pt x="12059" y="15244"/>
                </a:cubicBezTo>
                <a:cubicBezTo>
                  <a:pt x="12131" y="15232"/>
                  <a:pt x="12195" y="15227"/>
                  <a:pt x="12268" y="15232"/>
                </a:cubicBezTo>
                <a:cubicBezTo>
                  <a:pt x="12296" y="15234"/>
                  <a:pt x="12304" y="15233"/>
                  <a:pt x="12318" y="15254"/>
                </a:cubicBezTo>
              </a:path>
              <a:path w="1353" h="712">
                <a:moveTo>
                  <a:pt x="11922" y="15548"/>
                </a:moveTo>
                <a:cubicBezTo>
                  <a:pt x="11917" y="15554"/>
                  <a:pt x="11911" y="15561"/>
                  <a:pt x="11906" y="15567"/>
                </a:cubicBezTo>
                <a:cubicBezTo>
                  <a:pt x="11957" y="15574"/>
                  <a:pt x="11999" y="15546"/>
                  <a:pt x="12047" y="15527"/>
                </a:cubicBezTo>
                <a:cubicBezTo>
                  <a:pt x="12128" y="15496"/>
                  <a:pt x="12207" y="15464"/>
                  <a:pt x="12282" y="15420"/>
                </a:cubicBezTo>
                <a:cubicBezTo>
                  <a:pt x="12297" y="15411"/>
                  <a:pt x="12311" y="15401"/>
                  <a:pt x="12326" y="15392"/>
                </a:cubicBezTo>
              </a:path>
              <a:path w="1353" h="712">
                <a:moveTo>
                  <a:pt x="12418" y="15212"/>
                </a:moveTo>
                <a:cubicBezTo>
                  <a:pt x="12426" y="15177"/>
                  <a:pt x="12427" y="15171"/>
                  <a:pt x="12457" y="15149"/>
                </a:cubicBezTo>
                <a:cubicBezTo>
                  <a:pt x="12504" y="15114"/>
                  <a:pt x="12563" y="15102"/>
                  <a:pt x="12622" y="15105"/>
                </a:cubicBezTo>
                <a:cubicBezTo>
                  <a:pt x="12685" y="15108"/>
                  <a:pt x="12762" y="15137"/>
                  <a:pt x="12789" y="15200"/>
                </a:cubicBezTo>
                <a:cubicBezTo>
                  <a:pt x="12822" y="15278"/>
                  <a:pt x="12773" y="15369"/>
                  <a:pt x="12730" y="15431"/>
                </a:cubicBezTo>
                <a:cubicBezTo>
                  <a:pt x="12675" y="15512"/>
                  <a:pt x="12596" y="15576"/>
                  <a:pt x="12520" y="15636"/>
                </a:cubicBezTo>
                <a:cubicBezTo>
                  <a:pt x="12491" y="15659"/>
                  <a:pt x="12460" y="15678"/>
                  <a:pt x="12429" y="15698"/>
                </a:cubicBezTo>
                <a:cubicBezTo>
                  <a:pt x="12475" y="15680"/>
                  <a:pt x="12523" y="15662"/>
                  <a:pt x="12570" y="15647"/>
                </a:cubicBezTo>
                <a:cubicBezTo>
                  <a:pt x="12658" y="15619"/>
                  <a:pt x="12747" y="15593"/>
                  <a:pt x="12832" y="15555"/>
                </a:cubicBezTo>
                <a:cubicBezTo>
                  <a:pt x="12850" y="15546"/>
                  <a:pt x="12868" y="15537"/>
                  <a:pt x="12886" y="15528"/>
                </a:cubicBezTo>
              </a:path>
              <a:path w="1353" h="712">
                <a:moveTo>
                  <a:pt x="13123" y="15070"/>
                </a:moveTo>
                <a:cubicBezTo>
                  <a:pt x="13131" y="15039"/>
                  <a:pt x="13138" y="15018"/>
                  <a:pt x="13131" y="14987"/>
                </a:cubicBezTo>
                <a:cubicBezTo>
                  <a:pt x="13106" y="15013"/>
                  <a:pt x="13090" y="15043"/>
                  <a:pt x="13076" y="15077"/>
                </a:cubicBezTo>
                <a:cubicBezTo>
                  <a:pt x="13060" y="15115"/>
                  <a:pt x="13042" y="15167"/>
                  <a:pt x="13050" y="15210"/>
                </a:cubicBezTo>
                <a:cubicBezTo>
                  <a:pt x="13052" y="15215"/>
                  <a:pt x="13055" y="15220"/>
                  <a:pt x="13057" y="15225"/>
                </a:cubicBezTo>
                <a:cubicBezTo>
                  <a:pt x="13086" y="15229"/>
                  <a:pt x="13106" y="15216"/>
                  <a:pt x="13126" y="15193"/>
                </a:cubicBezTo>
                <a:cubicBezTo>
                  <a:pt x="13142" y="15174"/>
                  <a:pt x="13158" y="15136"/>
                  <a:pt x="13183" y="15128"/>
                </a:cubicBezTo>
                <a:cubicBezTo>
                  <a:pt x="13207" y="15120"/>
                  <a:pt x="13217" y="15175"/>
                  <a:pt x="13220" y="15187"/>
                </a:cubicBezTo>
                <a:cubicBezTo>
                  <a:pt x="13232" y="15230"/>
                  <a:pt x="13241" y="15273"/>
                  <a:pt x="13248" y="15317"/>
                </a:cubicBezTo>
                <a:cubicBezTo>
                  <a:pt x="13251" y="15335"/>
                  <a:pt x="13253" y="15352"/>
                  <a:pt x="13258" y="15370"/>
                </a:cubicBezTo>
              </a:path>
              <a:path w="1353" h="712">
                <a:moveTo>
                  <a:pt x="13149" y="15007"/>
                </a:moveTo>
                <a:cubicBezTo>
                  <a:pt x="13146" y="15008"/>
                  <a:pt x="13142" y="15009"/>
                  <a:pt x="13139" y="15010"/>
                </a:cubicBezTo>
                <a:cubicBezTo>
                  <a:pt x="13150" y="15019"/>
                  <a:pt x="13169" y="15021"/>
                  <a:pt x="13177" y="15035"/>
                </a:cubicBezTo>
                <a:cubicBezTo>
                  <a:pt x="13185" y="15050"/>
                  <a:pt x="13188" y="15072"/>
                  <a:pt x="13191" y="15089"/>
                </a:cubicBezTo>
                <a:cubicBezTo>
                  <a:pt x="13193" y="15100"/>
                  <a:pt x="13194" y="15104"/>
                  <a:pt x="13195" y="1509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4964040" y="5518080"/>
            <a:ext cx="177840" cy="71640"/>
          </a:xfrm>
          <a:custGeom>
            <a:avLst/>
            <a:gdLst/>
            <a:ahLst/>
            <a:rect l="l" t="t" r="r" b="b"/>
            <a:pathLst>
              <a:path w="493" h="201">
                <a:moveTo>
                  <a:pt x="13814" y="15326"/>
                </a:moveTo>
                <a:cubicBezTo>
                  <a:pt x="13803" y="15333"/>
                  <a:pt x="13799" y="15335"/>
                  <a:pt x="13791" y="15338"/>
                </a:cubicBezTo>
                <a:cubicBezTo>
                  <a:pt x="13811" y="15377"/>
                  <a:pt x="13865" y="15361"/>
                  <a:pt x="13914" y="15361"/>
                </a:cubicBezTo>
                <a:cubicBezTo>
                  <a:pt x="13989" y="15361"/>
                  <a:pt x="14062" y="15359"/>
                  <a:pt x="14137" y="15348"/>
                </a:cubicBezTo>
                <a:cubicBezTo>
                  <a:pt x="14149" y="15346"/>
                  <a:pt x="14161" y="15343"/>
                  <a:pt x="14173" y="15341"/>
                </a:cubicBezTo>
              </a:path>
              <a:path w="493" h="201">
                <a:moveTo>
                  <a:pt x="13876" y="15491"/>
                </a:moveTo>
                <a:cubicBezTo>
                  <a:pt x="13860" y="15509"/>
                  <a:pt x="13855" y="15512"/>
                  <a:pt x="13849" y="15526"/>
                </a:cubicBezTo>
                <a:cubicBezTo>
                  <a:pt x="13913" y="15516"/>
                  <a:pt x="13977" y="15498"/>
                  <a:pt x="14041" y="15484"/>
                </a:cubicBezTo>
                <a:cubicBezTo>
                  <a:pt x="14122" y="15466"/>
                  <a:pt x="14199" y="15452"/>
                  <a:pt x="14282" y="1544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5369040" y="5451480"/>
            <a:ext cx="593640" cy="299880"/>
          </a:xfrm>
          <a:custGeom>
            <a:avLst/>
            <a:gdLst/>
            <a:ahLst/>
            <a:rect l="l" t="t" r="r" b="b"/>
            <a:pathLst>
              <a:path w="1652" h="834">
                <a:moveTo>
                  <a:pt x="15281" y="15282"/>
                </a:moveTo>
                <a:cubicBezTo>
                  <a:pt x="15303" y="15286"/>
                  <a:pt x="15343" y="15283"/>
                  <a:pt x="15360" y="15301"/>
                </a:cubicBezTo>
                <a:cubicBezTo>
                  <a:pt x="15360" y="15304"/>
                  <a:pt x="15359" y="15307"/>
                  <a:pt x="15359" y="15310"/>
                </a:cubicBezTo>
                <a:cubicBezTo>
                  <a:pt x="15330" y="15305"/>
                  <a:pt x="15316" y="15300"/>
                  <a:pt x="15289" y="15284"/>
                </a:cubicBezTo>
                <a:cubicBezTo>
                  <a:pt x="15254" y="15263"/>
                  <a:pt x="15221" y="15236"/>
                  <a:pt x="15190" y="15208"/>
                </a:cubicBezTo>
                <a:cubicBezTo>
                  <a:pt x="15162" y="15183"/>
                  <a:pt x="15125" y="15132"/>
                  <a:pt x="15080" y="15144"/>
                </a:cubicBezTo>
                <a:cubicBezTo>
                  <a:pt x="15035" y="15156"/>
                  <a:pt x="15009" y="15222"/>
                  <a:pt x="14993" y="15259"/>
                </a:cubicBezTo>
                <a:cubicBezTo>
                  <a:pt x="14958" y="15339"/>
                  <a:pt x="14915" y="15459"/>
                  <a:pt x="14941" y="15547"/>
                </a:cubicBezTo>
                <a:cubicBezTo>
                  <a:pt x="14953" y="15587"/>
                  <a:pt x="14990" y="15577"/>
                  <a:pt x="15018" y="15564"/>
                </a:cubicBezTo>
                <a:cubicBezTo>
                  <a:pt x="15066" y="15542"/>
                  <a:pt x="15114" y="15497"/>
                  <a:pt x="15170" y="15523"/>
                </a:cubicBezTo>
                <a:cubicBezTo>
                  <a:pt x="15238" y="15555"/>
                  <a:pt x="15248" y="15652"/>
                  <a:pt x="15241" y="15716"/>
                </a:cubicBezTo>
                <a:cubicBezTo>
                  <a:pt x="15233" y="15790"/>
                  <a:pt x="15201" y="15845"/>
                  <a:pt x="15136" y="15882"/>
                </a:cubicBezTo>
                <a:cubicBezTo>
                  <a:pt x="15081" y="15913"/>
                  <a:pt x="14991" y="15934"/>
                  <a:pt x="14939" y="15885"/>
                </a:cubicBezTo>
                <a:cubicBezTo>
                  <a:pt x="14907" y="15855"/>
                  <a:pt x="14913" y="15816"/>
                  <a:pt x="14921" y="15779"/>
                </a:cubicBezTo>
              </a:path>
              <a:path w="1652" h="834">
                <a:moveTo>
                  <a:pt x="15663" y="15275"/>
                </a:moveTo>
                <a:cubicBezTo>
                  <a:pt x="15675" y="15326"/>
                  <a:pt x="15673" y="15375"/>
                  <a:pt x="15675" y="15428"/>
                </a:cubicBezTo>
                <a:cubicBezTo>
                  <a:pt x="15678" y="15507"/>
                  <a:pt x="15683" y="15585"/>
                  <a:pt x="15687" y="15664"/>
                </a:cubicBezTo>
                <a:cubicBezTo>
                  <a:pt x="15689" y="15698"/>
                  <a:pt x="15689" y="15726"/>
                  <a:pt x="15695" y="15759"/>
                </a:cubicBezTo>
              </a:path>
              <a:path w="1652" h="834">
                <a:moveTo>
                  <a:pt x="15805" y="15386"/>
                </a:moveTo>
                <a:cubicBezTo>
                  <a:pt x="15871" y="15373"/>
                  <a:pt x="15925" y="15367"/>
                  <a:pt x="15992" y="15371"/>
                </a:cubicBezTo>
                <a:cubicBezTo>
                  <a:pt x="16061" y="15375"/>
                  <a:pt x="16134" y="15399"/>
                  <a:pt x="16176" y="15459"/>
                </a:cubicBezTo>
                <a:cubicBezTo>
                  <a:pt x="16223" y="15526"/>
                  <a:pt x="16210" y="15614"/>
                  <a:pt x="16189" y="15687"/>
                </a:cubicBezTo>
                <a:cubicBezTo>
                  <a:pt x="16167" y="15763"/>
                  <a:pt x="16127" y="15833"/>
                  <a:pt x="16090" y="15902"/>
                </a:cubicBezTo>
                <a:cubicBezTo>
                  <a:pt x="16072" y="15936"/>
                  <a:pt x="16076" y="15943"/>
                  <a:pt x="16072" y="15973"/>
                </a:cubicBezTo>
                <a:cubicBezTo>
                  <a:pt x="16128" y="15974"/>
                  <a:pt x="16180" y="15957"/>
                  <a:pt x="16234" y="15942"/>
                </a:cubicBezTo>
                <a:cubicBezTo>
                  <a:pt x="16323" y="15917"/>
                  <a:pt x="16411" y="15882"/>
                  <a:pt x="16502" y="15864"/>
                </a:cubicBezTo>
                <a:cubicBezTo>
                  <a:pt x="16532" y="15858"/>
                  <a:pt x="16540" y="15866"/>
                  <a:pt x="16564" y="1587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6591240" y="1762200"/>
            <a:ext cx="174600" cy="271440"/>
          </a:xfrm>
          <a:custGeom>
            <a:avLst/>
            <a:gdLst/>
            <a:ahLst/>
            <a:rect l="l" t="t" r="r" b="b"/>
            <a:pathLst>
              <a:path w="483" h="753">
                <a:moveTo>
                  <a:pt x="18466" y="5002"/>
                </a:moveTo>
                <a:cubicBezTo>
                  <a:pt x="18433" y="5035"/>
                  <a:pt x="18431" y="5061"/>
                  <a:pt x="18435" y="5109"/>
                </a:cubicBezTo>
                <a:cubicBezTo>
                  <a:pt x="18441" y="5189"/>
                  <a:pt x="18480" y="5267"/>
                  <a:pt x="18516" y="5338"/>
                </a:cubicBezTo>
                <a:cubicBezTo>
                  <a:pt x="18557" y="5419"/>
                  <a:pt x="18609" y="5497"/>
                  <a:pt x="18667" y="5567"/>
                </a:cubicBezTo>
                <a:cubicBezTo>
                  <a:pt x="18689" y="5593"/>
                  <a:pt x="18736" y="5665"/>
                  <a:pt x="18781" y="5643"/>
                </a:cubicBezTo>
                <a:cubicBezTo>
                  <a:pt x="18785" y="5638"/>
                  <a:pt x="18789" y="5634"/>
                  <a:pt x="18793" y="5629"/>
                </a:cubicBezTo>
              </a:path>
              <a:path w="483" h="753">
                <a:moveTo>
                  <a:pt x="18497" y="5058"/>
                </a:moveTo>
                <a:cubicBezTo>
                  <a:pt x="18449" y="5044"/>
                  <a:pt x="18428" y="5035"/>
                  <a:pt x="18393" y="5074"/>
                </a:cubicBezTo>
                <a:cubicBezTo>
                  <a:pt x="18357" y="5114"/>
                  <a:pt x="18358" y="5172"/>
                  <a:pt x="18355" y="5223"/>
                </a:cubicBezTo>
                <a:cubicBezTo>
                  <a:pt x="18352" y="5275"/>
                  <a:pt x="18351" y="5330"/>
                  <a:pt x="18357" y="5382"/>
                </a:cubicBezTo>
                <a:cubicBezTo>
                  <a:pt x="18358" y="5388"/>
                  <a:pt x="18360" y="5394"/>
                  <a:pt x="18361" y="5400"/>
                </a:cubicBezTo>
                <a:cubicBezTo>
                  <a:pt x="18344" y="5365"/>
                  <a:pt x="18336" y="5332"/>
                  <a:pt x="18328" y="5294"/>
                </a:cubicBezTo>
                <a:cubicBezTo>
                  <a:pt x="18317" y="5241"/>
                  <a:pt x="18305" y="5191"/>
                  <a:pt x="18315" y="5136"/>
                </a:cubicBezTo>
                <a:cubicBezTo>
                  <a:pt x="18325" y="5081"/>
                  <a:pt x="18351" y="5026"/>
                  <a:pt x="18386" y="4983"/>
                </a:cubicBezTo>
                <a:cubicBezTo>
                  <a:pt x="18411" y="4951"/>
                  <a:pt x="18452" y="4905"/>
                  <a:pt x="18494" y="4895"/>
                </a:cubicBezTo>
                <a:cubicBezTo>
                  <a:pt x="18531" y="4886"/>
                  <a:pt x="18542" y="4924"/>
                  <a:pt x="18550" y="4951"/>
                </a:cubicBezTo>
                <a:cubicBezTo>
                  <a:pt x="18566" y="5003"/>
                  <a:pt x="18577" y="5057"/>
                  <a:pt x="18623" y="5091"/>
                </a:cubicBezTo>
                <a:cubicBezTo>
                  <a:pt x="18669" y="5125"/>
                  <a:pt x="18722" y="5122"/>
                  <a:pt x="18776" y="511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6006960" y="2481120"/>
            <a:ext cx="435240" cy="24120"/>
          </a:xfrm>
          <a:custGeom>
            <a:avLst/>
            <a:gdLst/>
            <a:ahLst/>
            <a:rect l="l" t="t" r="r" b="b"/>
            <a:pathLst>
              <a:path w="1209" h="64">
                <a:moveTo>
                  <a:pt x="16859" y="6956"/>
                </a:moveTo>
                <a:cubicBezTo>
                  <a:pt x="16824" y="6951"/>
                  <a:pt x="16784" y="6944"/>
                  <a:pt x="16749" y="6946"/>
                </a:cubicBezTo>
                <a:cubicBezTo>
                  <a:pt x="16727" y="6947"/>
                  <a:pt x="16706" y="6947"/>
                  <a:pt x="16685" y="6946"/>
                </a:cubicBezTo>
                <a:cubicBezTo>
                  <a:pt x="16766" y="6951"/>
                  <a:pt x="16848" y="6950"/>
                  <a:pt x="16929" y="6950"/>
                </a:cubicBezTo>
                <a:cubicBezTo>
                  <a:pt x="17180" y="6951"/>
                  <a:pt x="17434" y="6961"/>
                  <a:pt x="17685" y="6940"/>
                </a:cubicBezTo>
                <a:cubicBezTo>
                  <a:pt x="17749" y="6935"/>
                  <a:pt x="17793" y="6918"/>
                  <a:pt x="17850" y="6898"/>
                </a:cubicBezTo>
                <a:cubicBezTo>
                  <a:pt x="17864" y="6893"/>
                  <a:pt x="17890" y="6893"/>
                  <a:pt x="17893" y="6915"/>
                </a:cubicBezTo>
                <a:cubicBezTo>
                  <a:pt x="17890" y="6927"/>
                  <a:pt x="17888" y="6932"/>
                  <a:pt x="17881" y="693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1112760" y="5708520"/>
            <a:ext cx="525600" cy="376200"/>
          </a:xfrm>
          <a:custGeom>
            <a:avLst/>
            <a:gdLst/>
            <a:ahLst/>
            <a:rect l="l" t="t" r="r" b="b"/>
            <a:pathLst>
              <a:path w="1461" h="1044">
                <a:moveTo>
                  <a:pt x="3125" y="16407"/>
                </a:moveTo>
                <a:cubicBezTo>
                  <a:pt x="3090" y="16379"/>
                  <a:pt x="3086" y="16364"/>
                  <a:pt x="3100" y="16319"/>
                </a:cubicBezTo>
                <a:cubicBezTo>
                  <a:pt x="3121" y="16251"/>
                  <a:pt x="3174" y="16201"/>
                  <a:pt x="3247" y="16195"/>
                </a:cubicBezTo>
                <a:cubicBezTo>
                  <a:pt x="3378" y="16184"/>
                  <a:pt x="3448" y="16310"/>
                  <a:pt x="3467" y="16420"/>
                </a:cubicBezTo>
                <a:cubicBezTo>
                  <a:pt x="3488" y="16544"/>
                  <a:pt x="3457" y="16665"/>
                  <a:pt x="3388" y="16769"/>
                </a:cubicBezTo>
                <a:cubicBezTo>
                  <a:pt x="3351" y="16825"/>
                  <a:pt x="3278" y="16908"/>
                  <a:pt x="3202" y="16902"/>
                </a:cubicBezTo>
                <a:cubicBezTo>
                  <a:pt x="3147" y="16897"/>
                  <a:pt x="3144" y="16835"/>
                  <a:pt x="3163" y="16797"/>
                </a:cubicBezTo>
                <a:cubicBezTo>
                  <a:pt x="3195" y="16731"/>
                  <a:pt x="3284" y="16696"/>
                  <a:pt x="3349" y="16675"/>
                </a:cubicBezTo>
                <a:cubicBezTo>
                  <a:pt x="3417" y="16653"/>
                  <a:pt x="3489" y="16639"/>
                  <a:pt x="3559" y="16623"/>
                </a:cubicBezTo>
              </a:path>
              <a:path w="1461" h="1044">
                <a:moveTo>
                  <a:pt x="3748" y="15878"/>
                </a:moveTo>
                <a:cubicBezTo>
                  <a:pt x="3753" y="15950"/>
                  <a:pt x="3751" y="16021"/>
                  <a:pt x="3754" y="16093"/>
                </a:cubicBezTo>
                <a:cubicBezTo>
                  <a:pt x="3757" y="16179"/>
                  <a:pt x="3761" y="16263"/>
                  <a:pt x="3769" y="16349"/>
                </a:cubicBezTo>
                <a:cubicBezTo>
                  <a:pt x="3771" y="16378"/>
                  <a:pt x="3770" y="16383"/>
                  <a:pt x="3778" y="16399"/>
                </a:cubicBezTo>
              </a:path>
              <a:path w="1461" h="1044">
                <a:moveTo>
                  <a:pt x="3889" y="15995"/>
                </a:moveTo>
                <a:cubicBezTo>
                  <a:pt x="3893" y="15960"/>
                  <a:pt x="3903" y="15945"/>
                  <a:pt x="3925" y="15919"/>
                </a:cubicBezTo>
                <a:cubicBezTo>
                  <a:pt x="3952" y="15887"/>
                  <a:pt x="3989" y="15860"/>
                  <a:pt x="4033" y="15859"/>
                </a:cubicBezTo>
                <a:cubicBezTo>
                  <a:pt x="4076" y="15858"/>
                  <a:pt x="4094" y="15900"/>
                  <a:pt x="4088" y="15937"/>
                </a:cubicBezTo>
                <a:cubicBezTo>
                  <a:pt x="4071" y="16038"/>
                  <a:pt x="3998" y="16134"/>
                  <a:pt x="3946" y="16220"/>
                </a:cubicBezTo>
                <a:cubicBezTo>
                  <a:pt x="3928" y="16251"/>
                  <a:pt x="3918" y="16266"/>
                  <a:pt x="3915" y="16300"/>
                </a:cubicBezTo>
                <a:cubicBezTo>
                  <a:pt x="3950" y="16319"/>
                  <a:pt x="3986" y="16312"/>
                  <a:pt x="4027" y="16307"/>
                </a:cubicBezTo>
                <a:cubicBezTo>
                  <a:pt x="4086" y="16300"/>
                  <a:pt x="4145" y="16298"/>
                  <a:pt x="4203" y="16281"/>
                </a:cubicBezTo>
                <a:cubicBezTo>
                  <a:pt x="4238" y="16268"/>
                  <a:pt x="4248" y="16265"/>
                  <a:pt x="4270" y="16254"/>
                </a:cubicBezTo>
              </a:path>
              <a:path w="1461" h="1044">
                <a:moveTo>
                  <a:pt x="4443" y="16303"/>
                </a:moveTo>
                <a:cubicBezTo>
                  <a:pt x="4458" y="16288"/>
                  <a:pt x="4469" y="16254"/>
                  <a:pt x="4475" y="16232"/>
                </a:cubicBezTo>
                <a:cubicBezTo>
                  <a:pt x="4489" y="16179"/>
                  <a:pt x="4503" y="16127"/>
                  <a:pt x="4518" y="16074"/>
                </a:cubicBezTo>
                <a:cubicBezTo>
                  <a:pt x="4528" y="16038"/>
                  <a:pt x="4567" y="15954"/>
                  <a:pt x="4546" y="15917"/>
                </a:cubicBezTo>
                <a:cubicBezTo>
                  <a:pt x="4528" y="15887"/>
                  <a:pt x="4466" y="15915"/>
                  <a:pt x="4444" y="15922"/>
                </a:cubicBezTo>
                <a:cubicBezTo>
                  <a:pt x="4399" y="15936"/>
                  <a:pt x="4353" y="15950"/>
                  <a:pt x="4314" y="15977"/>
                </a:cubicBezTo>
                <a:cubicBezTo>
                  <a:pt x="4303" y="15986"/>
                  <a:pt x="4300" y="15988"/>
                  <a:pt x="4297" y="1599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1822320" y="5824440"/>
            <a:ext cx="454320" cy="276480"/>
          </a:xfrm>
          <a:custGeom>
            <a:avLst/>
            <a:gdLst/>
            <a:ahLst/>
            <a:rect l="l" t="t" r="r" b="b"/>
            <a:pathLst>
              <a:path w="1259" h="767">
                <a:moveTo>
                  <a:pt x="5118" y="16420"/>
                </a:moveTo>
                <a:cubicBezTo>
                  <a:pt x="5086" y="16443"/>
                  <a:pt x="5088" y="16446"/>
                  <a:pt x="5075" y="16487"/>
                </a:cubicBezTo>
                <a:cubicBezTo>
                  <a:pt x="5059" y="16537"/>
                  <a:pt x="5067" y="16585"/>
                  <a:pt x="5070" y="16637"/>
                </a:cubicBezTo>
                <a:cubicBezTo>
                  <a:pt x="5072" y="16664"/>
                  <a:pt x="5074" y="16691"/>
                  <a:pt x="5076" y="16718"/>
                </a:cubicBezTo>
                <a:cubicBezTo>
                  <a:pt x="5089" y="16666"/>
                  <a:pt x="5095" y="16611"/>
                  <a:pt x="5106" y="16558"/>
                </a:cubicBezTo>
                <a:cubicBezTo>
                  <a:pt x="5119" y="16494"/>
                  <a:pt x="5131" y="16411"/>
                  <a:pt x="5166" y="16355"/>
                </a:cubicBezTo>
                <a:cubicBezTo>
                  <a:pt x="5183" y="16338"/>
                  <a:pt x="5186" y="16332"/>
                  <a:pt x="5202" y="16335"/>
                </a:cubicBezTo>
                <a:cubicBezTo>
                  <a:pt x="5234" y="16385"/>
                  <a:pt x="5244" y="16440"/>
                  <a:pt x="5254" y="16500"/>
                </a:cubicBezTo>
                <a:cubicBezTo>
                  <a:pt x="5264" y="16560"/>
                  <a:pt x="5267" y="16622"/>
                  <a:pt x="5277" y="16682"/>
                </a:cubicBezTo>
                <a:cubicBezTo>
                  <a:pt x="5278" y="16687"/>
                  <a:pt x="5280" y="16693"/>
                  <a:pt x="5281" y="16698"/>
                </a:cubicBezTo>
                <a:cubicBezTo>
                  <a:pt x="5301" y="16672"/>
                  <a:pt x="5308" y="16640"/>
                  <a:pt x="5324" y="16611"/>
                </a:cubicBezTo>
                <a:cubicBezTo>
                  <a:pt x="5341" y="16580"/>
                  <a:pt x="5367" y="16563"/>
                  <a:pt x="5397" y="16590"/>
                </a:cubicBezTo>
                <a:cubicBezTo>
                  <a:pt x="5449" y="16636"/>
                  <a:pt x="5474" y="16740"/>
                  <a:pt x="5503" y="16801"/>
                </a:cubicBezTo>
                <a:cubicBezTo>
                  <a:pt x="5522" y="16841"/>
                  <a:pt x="5528" y="16854"/>
                  <a:pt x="5546" y="16877"/>
                </a:cubicBezTo>
              </a:path>
              <a:path w="1259" h="767">
                <a:moveTo>
                  <a:pt x="5776" y="16533"/>
                </a:moveTo>
                <a:cubicBezTo>
                  <a:pt x="5782" y="16504"/>
                  <a:pt x="5784" y="16495"/>
                  <a:pt x="5771" y="16468"/>
                </a:cubicBezTo>
                <a:cubicBezTo>
                  <a:pt x="5730" y="16466"/>
                  <a:pt x="5715" y="16483"/>
                  <a:pt x="5690" y="16518"/>
                </a:cubicBezTo>
                <a:cubicBezTo>
                  <a:pt x="5657" y="16564"/>
                  <a:pt x="5633" y="16622"/>
                  <a:pt x="5624" y="16678"/>
                </a:cubicBezTo>
                <a:cubicBezTo>
                  <a:pt x="5618" y="16715"/>
                  <a:pt x="5614" y="16773"/>
                  <a:pt x="5652" y="16795"/>
                </a:cubicBezTo>
                <a:cubicBezTo>
                  <a:pt x="5685" y="16815"/>
                  <a:pt x="5726" y="16791"/>
                  <a:pt x="5751" y="16769"/>
                </a:cubicBezTo>
                <a:cubicBezTo>
                  <a:pt x="5794" y="16730"/>
                  <a:pt x="5822" y="16667"/>
                  <a:pt x="5831" y="16610"/>
                </a:cubicBezTo>
                <a:cubicBezTo>
                  <a:pt x="5836" y="16575"/>
                  <a:pt x="5832" y="16539"/>
                  <a:pt x="5822" y="16505"/>
                </a:cubicBezTo>
                <a:cubicBezTo>
                  <a:pt x="5814" y="16479"/>
                  <a:pt x="5806" y="16469"/>
                  <a:pt x="5787" y="16450"/>
                </a:cubicBezTo>
              </a:path>
              <a:path w="1259" h="767">
                <a:moveTo>
                  <a:pt x="6097" y="16622"/>
                </a:moveTo>
                <a:cubicBezTo>
                  <a:pt x="6094" y="16583"/>
                  <a:pt x="6096" y="16543"/>
                  <a:pt x="6069" y="16511"/>
                </a:cubicBezTo>
                <a:cubicBezTo>
                  <a:pt x="6060" y="16497"/>
                  <a:pt x="6055" y="16491"/>
                  <a:pt x="6042" y="16487"/>
                </a:cubicBezTo>
                <a:cubicBezTo>
                  <a:pt x="6012" y="16509"/>
                  <a:pt x="5992" y="16522"/>
                  <a:pt x="5978" y="16561"/>
                </a:cubicBezTo>
                <a:cubicBezTo>
                  <a:pt x="5959" y="16613"/>
                  <a:pt x="5962" y="16668"/>
                  <a:pt x="5995" y="16710"/>
                </a:cubicBezTo>
                <a:cubicBezTo>
                  <a:pt x="6043" y="16706"/>
                  <a:pt x="6066" y="16684"/>
                  <a:pt x="6090" y="16640"/>
                </a:cubicBezTo>
                <a:cubicBezTo>
                  <a:pt x="6127" y="16572"/>
                  <a:pt x="6142" y="16485"/>
                  <a:pt x="6150" y="16409"/>
                </a:cubicBezTo>
                <a:cubicBezTo>
                  <a:pt x="6159" y="16332"/>
                  <a:pt x="6151" y="16255"/>
                  <a:pt x="6144" y="16178"/>
                </a:cubicBezTo>
                <a:cubicBezTo>
                  <a:pt x="6121" y="16236"/>
                  <a:pt x="6130" y="16299"/>
                  <a:pt x="6138" y="16361"/>
                </a:cubicBezTo>
                <a:cubicBezTo>
                  <a:pt x="6152" y="16479"/>
                  <a:pt x="6175" y="16599"/>
                  <a:pt x="6213" y="16712"/>
                </a:cubicBezTo>
                <a:cubicBezTo>
                  <a:pt x="6237" y="16784"/>
                  <a:pt x="6260" y="16870"/>
                  <a:pt x="6307" y="16931"/>
                </a:cubicBezTo>
                <a:cubicBezTo>
                  <a:pt x="6312" y="16935"/>
                  <a:pt x="6317" y="16940"/>
                  <a:pt x="6322" y="1694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2448000" y="5830920"/>
            <a:ext cx="717480" cy="208080"/>
          </a:xfrm>
          <a:custGeom>
            <a:avLst/>
            <a:gdLst/>
            <a:ahLst/>
            <a:rect l="l" t="t" r="r" b="b"/>
            <a:pathLst>
              <a:path w="1992" h="580">
                <a:moveTo>
                  <a:pt x="6817" y="16313"/>
                </a:moveTo>
                <a:cubicBezTo>
                  <a:pt x="6808" y="16289"/>
                  <a:pt x="6798" y="16288"/>
                  <a:pt x="6847" y="16255"/>
                </a:cubicBezTo>
                <a:cubicBezTo>
                  <a:pt x="6901" y="16219"/>
                  <a:pt x="6973" y="16187"/>
                  <a:pt x="7040" y="16196"/>
                </a:cubicBezTo>
                <a:cubicBezTo>
                  <a:pt x="7124" y="16208"/>
                  <a:pt x="7152" y="16286"/>
                  <a:pt x="7152" y="16361"/>
                </a:cubicBezTo>
                <a:cubicBezTo>
                  <a:pt x="7152" y="16465"/>
                  <a:pt x="7109" y="16569"/>
                  <a:pt x="7070" y="16663"/>
                </a:cubicBezTo>
                <a:cubicBezTo>
                  <a:pt x="7054" y="16702"/>
                  <a:pt x="7034" y="16739"/>
                  <a:pt x="7013" y="16775"/>
                </a:cubicBezTo>
                <a:cubicBezTo>
                  <a:pt x="7051" y="16756"/>
                  <a:pt x="7088" y="16731"/>
                  <a:pt x="7126" y="16710"/>
                </a:cubicBezTo>
                <a:cubicBezTo>
                  <a:pt x="7184" y="16677"/>
                  <a:pt x="7254" y="16649"/>
                  <a:pt x="7318" y="16631"/>
                </a:cubicBezTo>
                <a:cubicBezTo>
                  <a:pt x="7371" y="16616"/>
                  <a:pt x="7419" y="16605"/>
                  <a:pt x="7467" y="16577"/>
                </a:cubicBezTo>
                <a:cubicBezTo>
                  <a:pt x="7474" y="16572"/>
                  <a:pt x="7481" y="16568"/>
                  <a:pt x="7488" y="16563"/>
                </a:cubicBezTo>
              </a:path>
              <a:path w="1992" h="580">
                <a:moveTo>
                  <a:pt x="7775" y="16425"/>
                </a:moveTo>
                <a:cubicBezTo>
                  <a:pt x="7764" y="16423"/>
                  <a:pt x="7760" y="16422"/>
                  <a:pt x="7753" y="16418"/>
                </a:cubicBezTo>
                <a:cubicBezTo>
                  <a:pt x="7774" y="16388"/>
                  <a:pt x="7810" y="16388"/>
                  <a:pt x="7851" y="16383"/>
                </a:cubicBezTo>
                <a:cubicBezTo>
                  <a:pt x="7919" y="16375"/>
                  <a:pt x="7985" y="16378"/>
                  <a:pt x="8052" y="16393"/>
                </a:cubicBezTo>
                <a:cubicBezTo>
                  <a:pt x="8089" y="16401"/>
                  <a:pt x="8106" y="16411"/>
                  <a:pt x="8131" y="16436"/>
                </a:cubicBezTo>
              </a:path>
              <a:path w="1992" h="580">
                <a:moveTo>
                  <a:pt x="7804" y="16680"/>
                </a:moveTo>
                <a:cubicBezTo>
                  <a:pt x="7807" y="16698"/>
                  <a:pt x="7876" y="16673"/>
                  <a:pt x="7903" y="16666"/>
                </a:cubicBezTo>
                <a:cubicBezTo>
                  <a:pt x="7994" y="16641"/>
                  <a:pt x="8086" y="16619"/>
                  <a:pt x="8177" y="16594"/>
                </a:cubicBezTo>
                <a:cubicBezTo>
                  <a:pt x="8200" y="16588"/>
                  <a:pt x="8223" y="16581"/>
                  <a:pt x="8246" y="16575"/>
                </a:cubicBezTo>
              </a:path>
              <a:path w="1992" h="580">
                <a:moveTo>
                  <a:pt x="8519" y="16387"/>
                </a:moveTo>
                <a:cubicBezTo>
                  <a:pt x="8488" y="16397"/>
                  <a:pt x="8455" y="16429"/>
                  <a:pt x="8437" y="16459"/>
                </a:cubicBezTo>
                <a:cubicBezTo>
                  <a:pt x="8415" y="16496"/>
                  <a:pt x="8390" y="16553"/>
                  <a:pt x="8404" y="16597"/>
                </a:cubicBezTo>
                <a:cubicBezTo>
                  <a:pt x="8421" y="16650"/>
                  <a:pt x="8486" y="16651"/>
                  <a:pt x="8531" y="16648"/>
                </a:cubicBezTo>
                <a:cubicBezTo>
                  <a:pt x="8597" y="16643"/>
                  <a:pt x="8658" y="16619"/>
                  <a:pt x="8713" y="16583"/>
                </a:cubicBezTo>
                <a:cubicBezTo>
                  <a:pt x="8755" y="16556"/>
                  <a:pt x="8776" y="16529"/>
                  <a:pt x="8790" y="16483"/>
                </a:cubicBezTo>
                <a:cubicBezTo>
                  <a:pt x="8770" y="16444"/>
                  <a:pt x="8742" y="16448"/>
                  <a:pt x="8696" y="16459"/>
                </a:cubicBezTo>
                <a:cubicBezTo>
                  <a:pt x="8631" y="16480"/>
                  <a:pt x="8606" y="16488"/>
                  <a:pt x="8563" y="1650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2895480" y="0"/>
            <a:ext cx="326376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0000"/>
                </a:solidFill>
                <a:latin typeface="Arial"/>
              </a:rPr>
              <a:t>Pigeon Hol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620280" y="914400"/>
            <a:ext cx="6829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geons, holes, function from pigeon to ho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 pigeon hole principle, Generalized pigeon hole princip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2379600" y="99216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6609" y="2758"/>
                </a:moveTo>
                <a:lnTo>
                  <a:pt x="6609" y="2758"/>
                </a:ln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8418600" y="366840"/>
            <a:ext cx="218880" cy="247680"/>
          </a:xfrm>
          <a:custGeom>
            <a:avLst/>
            <a:gdLst/>
            <a:ahLst/>
            <a:rect l="l" t="t" r="r" b="b"/>
            <a:pathLst>
              <a:path w="610" h="688">
                <a:moveTo>
                  <a:pt x="23450" y="1031"/>
                </a:moveTo>
                <a:cubicBezTo>
                  <a:pt x="23526" y="1021"/>
                  <a:pt x="23580" y="1024"/>
                  <a:pt x="23657" y="1036"/>
                </a:cubicBezTo>
              </a:path>
              <a:path w="610" h="688">
                <a:moveTo>
                  <a:pt x="23541" y="1111"/>
                </a:moveTo>
                <a:cubicBezTo>
                  <a:pt x="23614" y="1144"/>
                  <a:pt x="23639" y="1140"/>
                  <a:pt x="23722" y="1130"/>
                </a:cubicBezTo>
              </a:path>
              <a:path w="610" h="688">
                <a:moveTo>
                  <a:pt x="23384" y="1606"/>
                </a:moveTo>
                <a:cubicBezTo>
                  <a:pt x="23442" y="1598"/>
                  <a:pt x="23468" y="1598"/>
                  <a:pt x="23525" y="1609"/>
                </a:cubicBezTo>
              </a:path>
              <a:path w="610" h="688">
                <a:moveTo>
                  <a:pt x="23895" y="1573"/>
                </a:moveTo>
                <a:cubicBezTo>
                  <a:pt x="23866" y="1597"/>
                  <a:pt x="23850" y="1611"/>
                  <a:pt x="23851" y="1652"/>
                </a:cubicBezTo>
                <a:cubicBezTo>
                  <a:pt x="23852" y="1732"/>
                  <a:pt x="23951" y="1700"/>
                  <a:pt x="23993" y="169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6402240" y="193680"/>
            <a:ext cx="479520" cy="735120"/>
          </a:xfrm>
          <a:custGeom>
            <a:avLst/>
            <a:gdLst/>
            <a:ahLst/>
            <a:rect l="l" t="t" r="r" b="b"/>
            <a:pathLst>
              <a:path w="1330" h="2043">
                <a:moveTo>
                  <a:pt x="19101" y="2194"/>
                </a:moveTo>
                <a:cubicBezTo>
                  <a:pt x="19103" y="2190"/>
                  <a:pt x="19105" y="2187"/>
                  <a:pt x="19107" y="2183"/>
                </a:cubicBezTo>
                <a:cubicBezTo>
                  <a:pt x="19094" y="2195"/>
                  <a:pt x="19090" y="2202"/>
                  <a:pt x="19089" y="2221"/>
                </a:cubicBezTo>
                <a:cubicBezTo>
                  <a:pt x="19088" y="2235"/>
                  <a:pt x="19087" y="2251"/>
                  <a:pt x="19091" y="2265"/>
                </a:cubicBezTo>
                <a:cubicBezTo>
                  <a:pt x="19095" y="2280"/>
                  <a:pt x="19100" y="2290"/>
                  <a:pt x="19109" y="2302"/>
                </a:cubicBezTo>
                <a:cubicBezTo>
                  <a:pt x="19111" y="2288"/>
                  <a:pt x="19108" y="2289"/>
                  <a:pt x="19099" y="2274"/>
                </a:cubicBezTo>
              </a:path>
              <a:path w="1330" h="2043">
                <a:moveTo>
                  <a:pt x="18525" y="844"/>
                </a:moveTo>
                <a:cubicBezTo>
                  <a:pt x="18462" y="910"/>
                  <a:pt x="18481" y="783"/>
                  <a:pt x="18472" y="710"/>
                </a:cubicBezTo>
                <a:cubicBezTo>
                  <a:pt x="18465" y="651"/>
                  <a:pt x="18453" y="595"/>
                  <a:pt x="18441" y="537"/>
                </a:cubicBezTo>
                <a:cubicBezTo>
                  <a:pt x="18453" y="608"/>
                  <a:pt x="18469" y="676"/>
                  <a:pt x="18501" y="741"/>
                </a:cubicBezTo>
                <a:cubicBezTo>
                  <a:pt x="18537" y="816"/>
                  <a:pt x="18590" y="878"/>
                  <a:pt x="18645" y="939"/>
                </a:cubicBezTo>
                <a:cubicBezTo>
                  <a:pt x="18668" y="851"/>
                  <a:pt x="18678" y="762"/>
                  <a:pt x="18675" y="670"/>
                </a:cubicBezTo>
                <a:cubicBezTo>
                  <a:pt x="18669" y="610"/>
                  <a:pt x="18668" y="593"/>
                  <a:pt x="18659" y="556"/>
                </a:cubicBezTo>
              </a:path>
              <a:path w="1330" h="2043">
                <a:moveTo>
                  <a:pt x="18670" y="1750"/>
                </a:moveTo>
                <a:cubicBezTo>
                  <a:pt x="18671" y="1768"/>
                  <a:pt x="18675" y="1780"/>
                  <a:pt x="18679" y="1797"/>
                </a:cubicBezTo>
                <a:cubicBezTo>
                  <a:pt x="18668" y="1771"/>
                  <a:pt x="18677" y="1741"/>
                  <a:pt x="18681" y="1713"/>
                </a:cubicBezTo>
                <a:cubicBezTo>
                  <a:pt x="18694" y="1625"/>
                  <a:pt x="18707" y="1538"/>
                  <a:pt x="18716" y="1449"/>
                </a:cubicBezTo>
                <a:cubicBezTo>
                  <a:pt x="18743" y="1511"/>
                  <a:pt x="18761" y="1572"/>
                  <a:pt x="18780" y="1637"/>
                </a:cubicBezTo>
                <a:cubicBezTo>
                  <a:pt x="18795" y="1686"/>
                  <a:pt x="18801" y="1700"/>
                  <a:pt x="18839" y="1643"/>
                </a:cubicBezTo>
                <a:cubicBezTo>
                  <a:pt x="18860" y="1602"/>
                  <a:pt x="18869" y="1588"/>
                  <a:pt x="18818" y="1607"/>
                </a:cubicBezTo>
              </a:path>
              <a:path w="1330" h="2043">
                <a:moveTo>
                  <a:pt x="18786" y="1227"/>
                </a:moveTo>
                <a:cubicBezTo>
                  <a:pt x="18798" y="1212"/>
                  <a:pt x="18810" y="1197"/>
                  <a:pt x="18822" y="1182"/>
                </a:cubicBezTo>
                <a:cubicBezTo>
                  <a:pt x="18767" y="1286"/>
                  <a:pt x="18707" y="1396"/>
                  <a:pt x="18682" y="1513"/>
                </a:cubicBezTo>
                <a:cubicBezTo>
                  <a:pt x="18665" y="1592"/>
                  <a:pt x="18660" y="1709"/>
                  <a:pt x="18728" y="1768"/>
                </a:cubicBezTo>
                <a:cubicBezTo>
                  <a:pt x="18767" y="1801"/>
                  <a:pt x="18817" y="1798"/>
                  <a:pt x="18861" y="1778"/>
                </a:cubicBezTo>
                <a:cubicBezTo>
                  <a:pt x="18941" y="1742"/>
                  <a:pt x="18974" y="1691"/>
                  <a:pt x="18985" y="1613"/>
                </a:cubicBezTo>
                <a:cubicBezTo>
                  <a:pt x="18897" y="1591"/>
                  <a:pt x="18822" y="1581"/>
                  <a:pt x="18736" y="1628"/>
                </a:cubicBezTo>
                <a:cubicBezTo>
                  <a:pt x="18718" y="1637"/>
                  <a:pt x="18726" y="1661"/>
                  <a:pt x="18728" y="1675"/>
                </a:cubicBezTo>
              </a:path>
              <a:path w="1330" h="2043">
                <a:moveTo>
                  <a:pt x="18440" y="2005"/>
                </a:moveTo>
                <a:cubicBezTo>
                  <a:pt x="18423" y="2008"/>
                  <a:pt x="18413" y="2009"/>
                  <a:pt x="18396" y="2009"/>
                </a:cubicBezTo>
                <a:cubicBezTo>
                  <a:pt x="18430" y="1995"/>
                  <a:pt x="18466" y="1988"/>
                  <a:pt x="18503" y="1984"/>
                </a:cubicBezTo>
                <a:cubicBezTo>
                  <a:pt x="18572" y="1976"/>
                  <a:pt x="18641" y="1970"/>
                  <a:pt x="18711" y="1966"/>
                </a:cubicBezTo>
                <a:cubicBezTo>
                  <a:pt x="18779" y="1962"/>
                  <a:pt x="18848" y="1963"/>
                  <a:pt x="18916" y="1961"/>
                </a:cubicBezTo>
                <a:cubicBezTo>
                  <a:pt x="18949" y="1960"/>
                  <a:pt x="18981" y="1959"/>
                  <a:pt x="19014" y="1956"/>
                </a:cubicBezTo>
              </a:path>
              <a:path w="1330" h="2043">
                <a:moveTo>
                  <a:pt x="18628" y="2057"/>
                </a:moveTo>
                <a:cubicBezTo>
                  <a:pt x="18606" y="2056"/>
                  <a:pt x="18614" y="2072"/>
                  <a:pt x="18612" y="2095"/>
                </a:cubicBezTo>
                <a:cubicBezTo>
                  <a:pt x="18607" y="2147"/>
                  <a:pt x="18594" y="2196"/>
                  <a:pt x="18580" y="2247"/>
                </a:cubicBezTo>
                <a:cubicBezTo>
                  <a:pt x="18562" y="2314"/>
                  <a:pt x="18545" y="2381"/>
                  <a:pt x="18525" y="2447"/>
                </a:cubicBezTo>
                <a:cubicBezTo>
                  <a:pt x="18522" y="2456"/>
                  <a:pt x="18490" y="2547"/>
                  <a:pt x="18528" y="2525"/>
                </a:cubicBezTo>
                <a:cubicBezTo>
                  <a:pt x="18533" y="2520"/>
                  <a:pt x="18538" y="2515"/>
                  <a:pt x="18543" y="2510"/>
                </a:cubicBezTo>
              </a:path>
              <a:path w="1330" h="2043">
                <a:moveTo>
                  <a:pt x="18813" y="2175"/>
                </a:moveTo>
                <a:cubicBezTo>
                  <a:pt x="18816" y="2152"/>
                  <a:pt x="18779" y="2220"/>
                  <a:pt x="18773" y="2232"/>
                </a:cubicBezTo>
                <a:cubicBezTo>
                  <a:pt x="18752" y="2272"/>
                  <a:pt x="18716" y="2339"/>
                  <a:pt x="18725" y="2386"/>
                </a:cubicBezTo>
                <a:cubicBezTo>
                  <a:pt x="18733" y="2427"/>
                  <a:pt x="18778" y="2423"/>
                  <a:pt x="18808" y="2414"/>
                </a:cubicBezTo>
                <a:cubicBezTo>
                  <a:pt x="18859" y="2399"/>
                  <a:pt x="18903" y="2366"/>
                  <a:pt x="18941" y="2331"/>
                </a:cubicBezTo>
                <a:cubicBezTo>
                  <a:pt x="18979" y="2297"/>
                  <a:pt x="19003" y="2263"/>
                  <a:pt x="19026" y="2218"/>
                </a:cubicBezTo>
              </a:path>
              <a:path w="1330" h="2043">
                <a:moveTo>
                  <a:pt x="19046" y="2122"/>
                </a:moveTo>
                <a:cubicBezTo>
                  <a:pt x="19030" y="2176"/>
                  <a:pt x="19024" y="2230"/>
                  <a:pt x="19017" y="2286"/>
                </a:cubicBezTo>
                <a:cubicBezTo>
                  <a:pt x="19008" y="2357"/>
                  <a:pt x="19004" y="2427"/>
                  <a:pt x="19006" y="2498"/>
                </a:cubicBezTo>
                <a:cubicBezTo>
                  <a:pt x="19007" y="2532"/>
                  <a:pt x="19006" y="2563"/>
                  <a:pt x="19037" y="2579"/>
                </a:cubicBezTo>
              </a:path>
              <a:path w="1330" h="2043">
                <a:moveTo>
                  <a:pt x="17809" y="2455"/>
                </a:moveTo>
                <a:cubicBezTo>
                  <a:pt x="17810" y="2427"/>
                  <a:pt x="17807" y="2427"/>
                  <a:pt x="17803" y="2400"/>
                </a:cubicBezTo>
                <a:cubicBezTo>
                  <a:pt x="17777" y="2202"/>
                  <a:pt x="17786" y="2002"/>
                  <a:pt x="17792" y="1803"/>
                </a:cubicBezTo>
                <a:cubicBezTo>
                  <a:pt x="17795" y="1685"/>
                  <a:pt x="17798" y="1566"/>
                  <a:pt x="17801" y="1448"/>
                </a:cubicBezTo>
                <a:cubicBezTo>
                  <a:pt x="17801" y="1434"/>
                  <a:pt x="17802" y="1421"/>
                  <a:pt x="17802" y="1407"/>
                </a:cubicBezTo>
                <a:cubicBezTo>
                  <a:pt x="17882" y="1426"/>
                  <a:pt x="17960" y="1451"/>
                  <a:pt x="18042" y="1465"/>
                </a:cubicBezTo>
                <a:cubicBezTo>
                  <a:pt x="18120" y="1478"/>
                  <a:pt x="18219" y="1475"/>
                  <a:pt x="18201" y="1580"/>
                </a:cubicBezTo>
                <a:cubicBezTo>
                  <a:pt x="18192" y="1631"/>
                  <a:pt x="18153" y="1676"/>
                  <a:pt x="18133" y="1723"/>
                </a:cubicBezTo>
                <a:cubicBezTo>
                  <a:pt x="18112" y="1771"/>
                  <a:pt x="18128" y="1746"/>
                  <a:pt x="18155" y="175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7004160" y="426960"/>
            <a:ext cx="144360" cy="344520"/>
          </a:xfrm>
          <a:custGeom>
            <a:avLst/>
            <a:gdLst/>
            <a:ahLst/>
            <a:rect l="l" t="t" r="r" b="b"/>
            <a:pathLst>
              <a:path w="399" h="955">
                <a:moveTo>
                  <a:pt x="19457" y="1330"/>
                </a:moveTo>
                <a:cubicBezTo>
                  <a:pt x="19532" y="1263"/>
                  <a:pt x="19602" y="1225"/>
                  <a:pt x="19702" y="1199"/>
                </a:cubicBezTo>
                <a:cubicBezTo>
                  <a:pt x="19834" y="1165"/>
                  <a:pt x="19847" y="1220"/>
                  <a:pt x="19855" y="1343"/>
                </a:cubicBezTo>
                <a:cubicBezTo>
                  <a:pt x="19867" y="1521"/>
                  <a:pt x="19843" y="1715"/>
                  <a:pt x="19812" y="1890"/>
                </a:cubicBezTo>
                <a:cubicBezTo>
                  <a:pt x="19803" y="1939"/>
                  <a:pt x="19794" y="1992"/>
                  <a:pt x="19777" y="2039"/>
                </a:cubicBezTo>
                <a:cubicBezTo>
                  <a:pt x="19769" y="2062"/>
                  <a:pt x="19759" y="2081"/>
                  <a:pt x="19753" y="2103"/>
                </a:cubicBezTo>
                <a:cubicBezTo>
                  <a:pt x="19746" y="2128"/>
                  <a:pt x="19748" y="2116"/>
                  <a:pt x="19751" y="214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7311960" y="592200"/>
            <a:ext cx="195480" cy="101520"/>
          </a:xfrm>
          <a:custGeom>
            <a:avLst/>
            <a:gdLst/>
            <a:ahLst/>
            <a:rect l="l" t="t" r="r" b="b"/>
            <a:pathLst>
              <a:path w="542" h="282">
                <a:moveTo>
                  <a:pt x="20357" y="1775"/>
                </a:moveTo>
                <a:cubicBezTo>
                  <a:pt x="20343" y="1757"/>
                  <a:pt x="20331" y="1747"/>
                  <a:pt x="20312" y="1735"/>
                </a:cubicBezTo>
                <a:cubicBezTo>
                  <a:pt x="20337" y="1720"/>
                  <a:pt x="20369" y="1714"/>
                  <a:pt x="20398" y="1708"/>
                </a:cubicBezTo>
                <a:cubicBezTo>
                  <a:pt x="20467" y="1693"/>
                  <a:pt x="20537" y="1685"/>
                  <a:pt x="20606" y="1672"/>
                </a:cubicBezTo>
                <a:cubicBezTo>
                  <a:pt x="20662" y="1661"/>
                  <a:pt x="20717" y="1651"/>
                  <a:pt x="20774" y="1648"/>
                </a:cubicBezTo>
              </a:path>
              <a:path w="542" h="282">
                <a:moveTo>
                  <a:pt x="20339" y="1872"/>
                </a:moveTo>
                <a:cubicBezTo>
                  <a:pt x="20323" y="1885"/>
                  <a:pt x="20319" y="1887"/>
                  <a:pt x="20312" y="1897"/>
                </a:cubicBezTo>
                <a:cubicBezTo>
                  <a:pt x="20347" y="1913"/>
                  <a:pt x="20384" y="1913"/>
                  <a:pt x="20424" y="1916"/>
                </a:cubicBezTo>
                <a:cubicBezTo>
                  <a:pt x="20528" y="1925"/>
                  <a:pt x="20636" y="1932"/>
                  <a:pt x="20741" y="1928"/>
                </a:cubicBezTo>
                <a:cubicBezTo>
                  <a:pt x="20788" y="1926"/>
                  <a:pt x="20818" y="1916"/>
                  <a:pt x="20853" y="188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7653240" y="158760"/>
            <a:ext cx="141480" cy="608040"/>
          </a:xfrm>
          <a:custGeom>
            <a:avLst/>
            <a:gdLst/>
            <a:ahLst/>
            <a:rect l="l" t="t" r="r" b="b"/>
            <a:pathLst>
              <a:path w="395" h="1689">
                <a:moveTo>
                  <a:pt x="21429" y="465"/>
                </a:moveTo>
                <a:cubicBezTo>
                  <a:pt x="21433" y="530"/>
                  <a:pt x="21422" y="591"/>
                  <a:pt x="21422" y="657"/>
                </a:cubicBezTo>
                <a:cubicBezTo>
                  <a:pt x="21492" y="678"/>
                  <a:pt x="21558" y="663"/>
                  <a:pt x="21601" y="584"/>
                </a:cubicBezTo>
                <a:cubicBezTo>
                  <a:pt x="21614" y="535"/>
                  <a:pt x="21618" y="521"/>
                  <a:pt x="21625" y="490"/>
                </a:cubicBezTo>
                <a:cubicBezTo>
                  <a:pt x="21640" y="569"/>
                  <a:pt x="21641" y="617"/>
                  <a:pt x="21638" y="699"/>
                </a:cubicBezTo>
                <a:cubicBezTo>
                  <a:pt x="21638" y="714"/>
                  <a:pt x="21639" y="728"/>
                  <a:pt x="21639" y="743"/>
                </a:cubicBezTo>
              </a:path>
              <a:path w="395" h="1689">
                <a:moveTo>
                  <a:pt x="21258" y="440"/>
                </a:moveTo>
                <a:cubicBezTo>
                  <a:pt x="21291" y="513"/>
                  <a:pt x="21305" y="578"/>
                  <a:pt x="21311" y="659"/>
                </a:cubicBezTo>
                <a:cubicBezTo>
                  <a:pt x="21313" y="710"/>
                  <a:pt x="21315" y="733"/>
                  <a:pt x="21324" y="769"/>
                </a:cubicBezTo>
              </a:path>
              <a:path w="395" h="1689">
                <a:moveTo>
                  <a:pt x="21483" y="1589"/>
                </a:moveTo>
                <a:cubicBezTo>
                  <a:pt x="21488" y="1574"/>
                  <a:pt x="21494" y="1560"/>
                  <a:pt x="21499" y="1545"/>
                </a:cubicBezTo>
                <a:cubicBezTo>
                  <a:pt x="21507" y="1594"/>
                  <a:pt x="21505" y="1643"/>
                  <a:pt x="21509" y="1693"/>
                </a:cubicBezTo>
                <a:cubicBezTo>
                  <a:pt x="21516" y="1781"/>
                  <a:pt x="21530" y="1867"/>
                  <a:pt x="21542" y="1954"/>
                </a:cubicBezTo>
                <a:cubicBezTo>
                  <a:pt x="21550" y="2010"/>
                  <a:pt x="21555" y="2065"/>
                  <a:pt x="21577" y="2117"/>
                </a:cubicBezTo>
                <a:cubicBezTo>
                  <a:pt x="21579" y="2121"/>
                  <a:pt x="21581" y="2124"/>
                  <a:pt x="21583" y="2128"/>
                </a:cubicBezTo>
                <a:cubicBezTo>
                  <a:pt x="21597" y="2092"/>
                  <a:pt x="21590" y="2061"/>
                  <a:pt x="21583" y="202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8261280" y="338040"/>
            <a:ext cx="352440" cy="317520"/>
          </a:xfrm>
          <a:custGeom>
            <a:avLst/>
            <a:gdLst/>
            <a:ahLst/>
            <a:rect l="l" t="t" r="r" b="b"/>
            <a:pathLst>
              <a:path w="978" h="881">
                <a:moveTo>
                  <a:pt x="23069" y="1288"/>
                </a:moveTo>
                <a:cubicBezTo>
                  <a:pt x="23094" y="1191"/>
                  <a:pt x="23128" y="1089"/>
                  <a:pt x="23134" y="988"/>
                </a:cubicBezTo>
                <a:cubicBezTo>
                  <a:pt x="23133" y="972"/>
                  <a:pt x="23132" y="957"/>
                  <a:pt x="23131" y="941"/>
                </a:cubicBezTo>
                <a:cubicBezTo>
                  <a:pt x="23106" y="1047"/>
                  <a:pt x="23116" y="1107"/>
                  <a:pt x="23162" y="1207"/>
                </a:cubicBezTo>
                <a:cubicBezTo>
                  <a:pt x="23266" y="1193"/>
                  <a:pt x="23309" y="1137"/>
                  <a:pt x="23374" y="1045"/>
                </a:cubicBezTo>
                <a:cubicBezTo>
                  <a:pt x="23408" y="991"/>
                  <a:pt x="23418" y="977"/>
                  <a:pt x="23433" y="939"/>
                </a:cubicBezTo>
              </a:path>
              <a:path w="978" h="881">
                <a:moveTo>
                  <a:pt x="23836" y="962"/>
                </a:moveTo>
                <a:cubicBezTo>
                  <a:pt x="23878" y="1055"/>
                  <a:pt x="23899" y="1143"/>
                  <a:pt x="23925" y="1242"/>
                </a:cubicBezTo>
              </a:path>
              <a:path w="978" h="881">
                <a:moveTo>
                  <a:pt x="22948" y="1561"/>
                </a:moveTo>
                <a:cubicBezTo>
                  <a:pt x="22968" y="1564"/>
                  <a:pt x="22957" y="1606"/>
                  <a:pt x="22958" y="1641"/>
                </a:cubicBezTo>
                <a:cubicBezTo>
                  <a:pt x="22959" y="1685"/>
                  <a:pt x="22958" y="1739"/>
                  <a:pt x="22972" y="1781"/>
                </a:cubicBezTo>
                <a:cubicBezTo>
                  <a:pt x="22981" y="1808"/>
                  <a:pt x="22989" y="1812"/>
                  <a:pt x="23012" y="1819"/>
                </a:cubicBezTo>
              </a:path>
              <a:path w="978" h="881">
                <a:moveTo>
                  <a:pt x="23191" y="1506"/>
                </a:moveTo>
                <a:cubicBezTo>
                  <a:pt x="23175" y="1564"/>
                  <a:pt x="23163" y="1591"/>
                  <a:pt x="23124" y="1636"/>
                </a:cubicBezTo>
                <a:cubicBezTo>
                  <a:pt x="23100" y="1664"/>
                  <a:pt x="23068" y="1686"/>
                  <a:pt x="23046" y="1715"/>
                </a:cubicBezTo>
                <a:cubicBezTo>
                  <a:pt x="23059" y="1734"/>
                  <a:pt x="23076" y="1732"/>
                  <a:pt x="23100" y="1735"/>
                </a:cubicBezTo>
                <a:cubicBezTo>
                  <a:pt x="23139" y="1740"/>
                  <a:pt x="23180" y="1740"/>
                  <a:pt x="23219" y="1736"/>
                </a:cubicBezTo>
                <a:cubicBezTo>
                  <a:pt x="23249" y="1731"/>
                  <a:pt x="23260" y="1729"/>
                  <a:pt x="23279" y="1721"/>
                </a:cubicBezTo>
              </a:path>
              <a:path w="978" h="881">
                <a:moveTo>
                  <a:pt x="23363" y="1667"/>
                </a:moveTo>
                <a:cubicBezTo>
                  <a:pt x="23362" y="1694"/>
                  <a:pt x="23388" y="1689"/>
                  <a:pt x="23415" y="1698"/>
                </a:cubicBezTo>
                <a:cubicBezTo>
                  <a:pt x="23460" y="1712"/>
                  <a:pt x="23497" y="1711"/>
                  <a:pt x="23544" y="1706"/>
                </a:cubicBezTo>
              </a:path>
              <a:path w="978" h="881">
                <a:moveTo>
                  <a:pt x="23747" y="1558"/>
                </a:moveTo>
                <a:cubicBezTo>
                  <a:pt x="23739" y="1599"/>
                  <a:pt x="23726" y="1639"/>
                  <a:pt x="23717" y="1680"/>
                </a:cubicBezTo>
                <a:cubicBezTo>
                  <a:pt x="23709" y="1714"/>
                  <a:pt x="23712" y="1747"/>
                  <a:pt x="23722" y="1780"/>
                </a:cubicBezTo>
                <a:cubicBezTo>
                  <a:pt x="23724" y="1784"/>
                  <a:pt x="23725" y="1789"/>
                  <a:pt x="23727" y="179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6905520" y="212760"/>
            <a:ext cx="103320" cy="136440"/>
          </a:xfrm>
          <a:custGeom>
            <a:avLst/>
            <a:gdLst/>
            <a:ahLst/>
            <a:rect l="l" t="t" r="r" b="b"/>
            <a:pathLst>
              <a:path w="290" h="375">
                <a:moveTo>
                  <a:pt x="19454" y="607"/>
                </a:moveTo>
                <a:cubicBezTo>
                  <a:pt x="19353" y="613"/>
                  <a:pt x="19307" y="647"/>
                  <a:pt x="19242" y="735"/>
                </a:cubicBezTo>
                <a:cubicBezTo>
                  <a:pt x="19208" y="782"/>
                  <a:pt x="19141" y="886"/>
                  <a:pt x="19206" y="941"/>
                </a:cubicBezTo>
                <a:cubicBezTo>
                  <a:pt x="19262" y="989"/>
                  <a:pt x="19392" y="971"/>
                  <a:pt x="19445" y="929"/>
                </a:cubicBezTo>
                <a:cubicBezTo>
                  <a:pt x="19549" y="847"/>
                  <a:pt x="19308" y="836"/>
                  <a:pt x="19275" y="83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7353360" y="174600"/>
            <a:ext cx="247680" cy="131760"/>
          </a:xfrm>
          <a:custGeom>
            <a:avLst/>
            <a:gdLst/>
            <a:ahLst/>
            <a:rect l="l" t="t" r="r" b="b"/>
            <a:pathLst>
              <a:path w="689" h="369">
                <a:moveTo>
                  <a:pt x="20457" y="531"/>
                </a:moveTo>
                <a:cubicBezTo>
                  <a:pt x="20424" y="616"/>
                  <a:pt x="20424" y="658"/>
                  <a:pt x="20434" y="748"/>
                </a:cubicBezTo>
                <a:cubicBezTo>
                  <a:pt x="20439" y="797"/>
                  <a:pt x="20442" y="818"/>
                  <a:pt x="20456" y="851"/>
                </a:cubicBezTo>
              </a:path>
              <a:path w="689" h="369">
                <a:moveTo>
                  <a:pt x="20608" y="483"/>
                </a:moveTo>
                <a:cubicBezTo>
                  <a:pt x="20589" y="585"/>
                  <a:pt x="20556" y="640"/>
                  <a:pt x="20490" y="721"/>
                </a:cubicBezTo>
                <a:cubicBezTo>
                  <a:pt x="20559" y="730"/>
                  <a:pt x="20623" y="732"/>
                  <a:pt x="20693" y="729"/>
                </a:cubicBezTo>
                <a:cubicBezTo>
                  <a:pt x="20717" y="727"/>
                  <a:pt x="20741" y="726"/>
                  <a:pt x="20765" y="724"/>
                </a:cubicBezTo>
              </a:path>
              <a:path w="689" h="369">
                <a:moveTo>
                  <a:pt x="20942" y="604"/>
                </a:moveTo>
                <a:cubicBezTo>
                  <a:pt x="21001" y="605"/>
                  <a:pt x="21054" y="600"/>
                  <a:pt x="21113" y="59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7929720" y="716040"/>
            <a:ext cx="571320" cy="322200"/>
          </a:xfrm>
          <a:custGeom>
            <a:avLst/>
            <a:gdLst/>
            <a:ahLst/>
            <a:rect l="l" t="t" r="r" b="b"/>
            <a:pathLst>
              <a:path w="1588" h="898">
                <a:moveTo>
                  <a:pt x="22490" y="2049"/>
                </a:moveTo>
                <a:cubicBezTo>
                  <a:pt x="22503" y="2046"/>
                  <a:pt x="22502" y="2089"/>
                  <a:pt x="22504" y="2117"/>
                </a:cubicBezTo>
                <a:cubicBezTo>
                  <a:pt x="22507" y="2163"/>
                  <a:pt x="22512" y="2207"/>
                  <a:pt x="22524" y="2252"/>
                </a:cubicBezTo>
                <a:cubicBezTo>
                  <a:pt x="22533" y="2288"/>
                  <a:pt x="22547" y="2323"/>
                  <a:pt x="22560" y="2358"/>
                </a:cubicBezTo>
                <a:cubicBezTo>
                  <a:pt x="22562" y="2362"/>
                  <a:pt x="22563" y="2365"/>
                  <a:pt x="22565" y="2369"/>
                </a:cubicBezTo>
              </a:path>
              <a:path w="1588" h="898">
                <a:moveTo>
                  <a:pt x="22273" y="2440"/>
                </a:moveTo>
                <a:cubicBezTo>
                  <a:pt x="22241" y="2464"/>
                  <a:pt x="22303" y="2443"/>
                  <a:pt x="22323" y="2442"/>
                </a:cubicBezTo>
                <a:cubicBezTo>
                  <a:pt x="22381" y="2438"/>
                  <a:pt x="22440" y="2438"/>
                  <a:pt x="22498" y="2440"/>
                </a:cubicBezTo>
                <a:cubicBezTo>
                  <a:pt x="22562" y="2442"/>
                  <a:pt x="22622" y="2451"/>
                  <a:pt x="22685" y="2457"/>
                </a:cubicBezTo>
                <a:cubicBezTo>
                  <a:pt x="22710" y="2459"/>
                  <a:pt x="22732" y="2459"/>
                  <a:pt x="22756" y="2456"/>
                </a:cubicBezTo>
              </a:path>
              <a:path w="1588" h="898">
                <a:moveTo>
                  <a:pt x="22363" y="2594"/>
                </a:moveTo>
                <a:cubicBezTo>
                  <a:pt x="22373" y="2569"/>
                  <a:pt x="22346" y="2620"/>
                  <a:pt x="22342" y="2628"/>
                </a:cubicBezTo>
                <a:cubicBezTo>
                  <a:pt x="22329" y="2651"/>
                  <a:pt x="22319" y="2673"/>
                  <a:pt x="22311" y="2698"/>
                </a:cubicBezTo>
                <a:cubicBezTo>
                  <a:pt x="22305" y="2716"/>
                  <a:pt x="22298" y="2742"/>
                  <a:pt x="22317" y="2755"/>
                </a:cubicBezTo>
                <a:cubicBezTo>
                  <a:pt x="22337" y="2769"/>
                  <a:pt x="22374" y="2764"/>
                  <a:pt x="22396" y="2760"/>
                </a:cubicBezTo>
                <a:cubicBezTo>
                  <a:pt x="22434" y="2754"/>
                  <a:pt x="22456" y="2744"/>
                  <a:pt x="22487" y="2723"/>
                </a:cubicBezTo>
                <a:cubicBezTo>
                  <a:pt x="22502" y="2713"/>
                  <a:pt x="22512" y="2701"/>
                  <a:pt x="22524" y="2688"/>
                </a:cubicBezTo>
              </a:path>
              <a:path w="1588" h="898">
                <a:moveTo>
                  <a:pt x="22533" y="2625"/>
                </a:moveTo>
                <a:cubicBezTo>
                  <a:pt x="22547" y="2648"/>
                  <a:pt x="22542" y="2655"/>
                  <a:pt x="22544" y="2679"/>
                </a:cubicBezTo>
                <a:cubicBezTo>
                  <a:pt x="22547" y="2705"/>
                  <a:pt x="22553" y="2734"/>
                  <a:pt x="22551" y="2761"/>
                </a:cubicBezTo>
                <a:cubicBezTo>
                  <a:pt x="22549" y="2788"/>
                  <a:pt x="22548" y="2789"/>
                  <a:pt x="22572" y="2803"/>
                </a:cubicBezTo>
              </a:path>
              <a:path w="1588" h="898">
                <a:moveTo>
                  <a:pt x="22228" y="2630"/>
                </a:moveTo>
                <a:cubicBezTo>
                  <a:pt x="22236" y="2660"/>
                  <a:pt x="22239" y="2694"/>
                  <a:pt x="22240" y="2725"/>
                </a:cubicBezTo>
                <a:cubicBezTo>
                  <a:pt x="22241" y="2766"/>
                  <a:pt x="22240" y="2806"/>
                  <a:pt x="22242" y="2847"/>
                </a:cubicBezTo>
                <a:cubicBezTo>
                  <a:pt x="22244" y="2866"/>
                  <a:pt x="22244" y="2872"/>
                  <a:pt x="22246" y="2884"/>
                </a:cubicBezTo>
              </a:path>
              <a:path w="1588" h="898">
                <a:moveTo>
                  <a:pt x="22041" y="2812"/>
                </a:moveTo>
                <a:cubicBezTo>
                  <a:pt x="22034" y="2782"/>
                  <a:pt x="22028" y="2753"/>
                  <a:pt x="22027" y="2720"/>
                </a:cubicBezTo>
                <a:cubicBezTo>
                  <a:pt x="22025" y="2626"/>
                  <a:pt x="22036" y="2528"/>
                  <a:pt x="22044" y="2434"/>
                </a:cubicBezTo>
                <a:cubicBezTo>
                  <a:pt x="22051" y="2356"/>
                  <a:pt x="22058" y="2279"/>
                  <a:pt x="22060" y="2201"/>
                </a:cubicBezTo>
                <a:cubicBezTo>
                  <a:pt x="22061" y="2129"/>
                  <a:pt x="22061" y="2058"/>
                  <a:pt x="22048" y="1987"/>
                </a:cubicBezTo>
                <a:cubicBezTo>
                  <a:pt x="22105" y="2030"/>
                  <a:pt x="22161" y="2029"/>
                  <a:pt x="22231" y="2020"/>
                </a:cubicBezTo>
                <a:cubicBezTo>
                  <a:pt x="22258" y="2017"/>
                  <a:pt x="22339" y="1979"/>
                  <a:pt x="22364" y="1996"/>
                </a:cubicBezTo>
                <a:cubicBezTo>
                  <a:pt x="22381" y="2007"/>
                  <a:pt x="22379" y="2031"/>
                  <a:pt x="22388" y="2047"/>
                </a:cubicBezTo>
                <a:cubicBezTo>
                  <a:pt x="22395" y="2056"/>
                  <a:pt x="22397" y="2059"/>
                  <a:pt x="22401" y="2065"/>
                </a:cubicBezTo>
              </a:path>
              <a:path w="1588" h="898">
                <a:moveTo>
                  <a:pt x="22901" y="2103"/>
                </a:moveTo>
                <a:cubicBezTo>
                  <a:pt x="22912" y="2092"/>
                  <a:pt x="22912" y="2087"/>
                  <a:pt x="22935" y="2080"/>
                </a:cubicBezTo>
                <a:cubicBezTo>
                  <a:pt x="22949" y="2076"/>
                  <a:pt x="22971" y="2069"/>
                  <a:pt x="22985" y="2075"/>
                </a:cubicBezTo>
                <a:cubicBezTo>
                  <a:pt x="23007" y="2085"/>
                  <a:pt x="23017" y="2124"/>
                  <a:pt x="23023" y="2145"/>
                </a:cubicBezTo>
                <a:cubicBezTo>
                  <a:pt x="23035" y="2189"/>
                  <a:pt x="23036" y="2234"/>
                  <a:pt x="23037" y="2279"/>
                </a:cubicBezTo>
                <a:cubicBezTo>
                  <a:pt x="23038" y="2356"/>
                  <a:pt x="23029" y="2433"/>
                  <a:pt x="23023" y="2509"/>
                </a:cubicBezTo>
                <a:cubicBezTo>
                  <a:pt x="23020" y="2548"/>
                  <a:pt x="23015" y="2590"/>
                  <a:pt x="23018" y="2629"/>
                </a:cubicBezTo>
                <a:cubicBezTo>
                  <a:pt x="23019" y="2649"/>
                  <a:pt x="23026" y="2667"/>
                  <a:pt x="23027" y="2687"/>
                </a:cubicBezTo>
                <a:cubicBezTo>
                  <a:pt x="23028" y="2702"/>
                  <a:pt x="23019" y="2715"/>
                  <a:pt x="23020" y="2729"/>
                </a:cubicBezTo>
                <a:cubicBezTo>
                  <a:pt x="23021" y="2746"/>
                  <a:pt x="23033" y="2761"/>
                  <a:pt x="23032" y="2779"/>
                </a:cubicBezTo>
                <a:cubicBezTo>
                  <a:pt x="23031" y="2786"/>
                  <a:pt x="23013" y="2812"/>
                  <a:pt x="23025" y="2784"/>
                </a:cubicBezTo>
              </a:path>
              <a:path w="1588" h="898">
                <a:moveTo>
                  <a:pt x="23269" y="2493"/>
                </a:moveTo>
                <a:cubicBezTo>
                  <a:pt x="23272" y="2482"/>
                  <a:pt x="23289" y="2455"/>
                  <a:pt x="23302" y="2449"/>
                </a:cubicBezTo>
                <a:cubicBezTo>
                  <a:pt x="23340" y="2431"/>
                  <a:pt x="23392" y="2435"/>
                  <a:pt x="23433" y="2431"/>
                </a:cubicBezTo>
                <a:cubicBezTo>
                  <a:pt x="23475" y="2427"/>
                  <a:pt x="23511" y="2426"/>
                  <a:pt x="23552" y="2436"/>
                </a:cubicBezTo>
                <a:cubicBezTo>
                  <a:pt x="23556" y="2437"/>
                  <a:pt x="23560" y="2439"/>
                  <a:pt x="23564" y="2440"/>
                </a:cubicBezTo>
              </a:path>
              <a:path w="1588" h="898">
                <a:moveTo>
                  <a:pt x="23325" y="2580"/>
                </a:moveTo>
                <a:cubicBezTo>
                  <a:pt x="23362" y="2592"/>
                  <a:pt x="23400" y="2590"/>
                  <a:pt x="23441" y="2586"/>
                </a:cubicBezTo>
                <a:cubicBezTo>
                  <a:pt x="23499" y="2580"/>
                  <a:pt x="23556" y="2581"/>
                  <a:pt x="23614" y="258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8616960" y="576360"/>
            <a:ext cx="54000" cy="366480"/>
          </a:xfrm>
          <a:custGeom>
            <a:avLst/>
            <a:gdLst/>
            <a:ahLst/>
            <a:rect l="l" t="t" r="r" b="b"/>
            <a:pathLst>
              <a:path w="146" h="1017">
                <a:moveTo>
                  <a:pt x="24083" y="1602"/>
                </a:moveTo>
                <a:cubicBezTo>
                  <a:pt x="24059" y="1680"/>
                  <a:pt x="24058" y="1748"/>
                  <a:pt x="24060" y="1831"/>
                </a:cubicBezTo>
              </a:path>
              <a:path w="146" h="1017">
                <a:moveTo>
                  <a:pt x="23938" y="2248"/>
                </a:moveTo>
                <a:cubicBezTo>
                  <a:pt x="23943" y="2236"/>
                  <a:pt x="23947" y="2225"/>
                  <a:pt x="23952" y="2213"/>
                </a:cubicBezTo>
                <a:cubicBezTo>
                  <a:pt x="23962" y="2297"/>
                  <a:pt x="23969" y="2377"/>
                  <a:pt x="23991" y="2458"/>
                </a:cubicBezTo>
                <a:cubicBezTo>
                  <a:pt x="24006" y="2511"/>
                  <a:pt x="24019" y="2565"/>
                  <a:pt x="24034" y="261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8616960" y="1073160"/>
            <a:ext cx="52200" cy="174600"/>
          </a:xfrm>
          <a:custGeom>
            <a:avLst/>
            <a:gdLst/>
            <a:ahLst/>
            <a:rect l="l" t="t" r="r" b="b"/>
            <a:pathLst>
              <a:path w="145" h="485">
                <a:moveTo>
                  <a:pt x="23998" y="2980"/>
                </a:moveTo>
                <a:cubicBezTo>
                  <a:pt x="23965" y="3055"/>
                  <a:pt x="23946" y="3118"/>
                  <a:pt x="23939" y="3200"/>
                </a:cubicBezTo>
                <a:cubicBezTo>
                  <a:pt x="23933" y="3262"/>
                  <a:pt x="23922" y="3394"/>
                  <a:pt x="23973" y="3444"/>
                </a:cubicBezTo>
                <a:cubicBezTo>
                  <a:pt x="24032" y="3464"/>
                  <a:pt x="24052" y="3470"/>
                  <a:pt x="24080" y="342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6303960" y="1062000"/>
            <a:ext cx="700200" cy="403200"/>
          </a:xfrm>
          <a:custGeom>
            <a:avLst/>
            <a:gdLst/>
            <a:ahLst/>
            <a:rect l="l" t="t" r="r" b="b"/>
            <a:pathLst>
              <a:path w="1945" h="1120">
                <a:moveTo>
                  <a:pt x="17615" y="3481"/>
                </a:moveTo>
                <a:cubicBezTo>
                  <a:pt x="17592" y="3463"/>
                  <a:pt x="17578" y="3449"/>
                  <a:pt x="17563" y="3425"/>
                </a:cubicBezTo>
                <a:cubicBezTo>
                  <a:pt x="17562" y="3447"/>
                  <a:pt x="17564" y="3465"/>
                  <a:pt x="17554" y="3486"/>
                </a:cubicBezTo>
                <a:cubicBezTo>
                  <a:pt x="17535" y="3524"/>
                  <a:pt x="17523" y="3564"/>
                  <a:pt x="17516" y="3609"/>
                </a:cubicBezTo>
                <a:cubicBezTo>
                  <a:pt x="17502" y="3705"/>
                  <a:pt x="17513" y="3806"/>
                  <a:pt x="17536" y="3900"/>
                </a:cubicBezTo>
                <a:cubicBezTo>
                  <a:pt x="17537" y="3905"/>
                  <a:pt x="17539" y="3909"/>
                  <a:pt x="17540" y="3914"/>
                </a:cubicBezTo>
                <a:cubicBezTo>
                  <a:pt x="17539" y="3874"/>
                  <a:pt x="17536" y="3833"/>
                  <a:pt x="17536" y="3792"/>
                </a:cubicBezTo>
                <a:cubicBezTo>
                  <a:pt x="17536" y="3696"/>
                  <a:pt x="17534" y="3601"/>
                  <a:pt x="17533" y="3505"/>
                </a:cubicBezTo>
                <a:cubicBezTo>
                  <a:pt x="17532" y="3358"/>
                  <a:pt x="17517" y="3179"/>
                  <a:pt x="17565" y="3037"/>
                </a:cubicBezTo>
                <a:cubicBezTo>
                  <a:pt x="17584" y="2981"/>
                  <a:pt x="17623" y="2936"/>
                  <a:pt x="17685" y="2958"/>
                </a:cubicBezTo>
                <a:cubicBezTo>
                  <a:pt x="17759" y="2984"/>
                  <a:pt x="17821" y="3065"/>
                  <a:pt x="17855" y="3132"/>
                </a:cubicBezTo>
                <a:cubicBezTo>
                  <a:pt x="17903" y="3227"/>
                  <a:pt x="17916" y="3337"/>
                  <a:pt x="17890" y="3440"/>
                </a:cubicBezTo>
                <a:cubicBezTo>
                  <a:pt x="17869" y="3524"/>
                  <a:pt x="17808" y="3599"/>
                  <a:pt x="17728" y="3631"/>
                </a:cubicBezTo>
                <a:cubicBezTo>
                  <a:pt x="17676" y="3652"/>
                  <a:pt x="17614" y="3645"/>
                  <a:pt x="17582" y="3594"/>
                </a:cubicBezTo>
                <a:cubicBezTo>
                  <a:pt x="17550" y="3542"/>
                  <a:pt x="17565" y="3488"/>
                  <a:pt x="17597" y="3441"/>
                </a:cubicBezTo>
                <a:cubicBezTo>
                  <a:pt x="17607" y="3429"/>
                  <a:pt x="17616" y="3418"/>
                  <a:pt x="17626" y="3406"/>
                </a:cubicBezTo>
              </a:path>
              <a:path w="1945" h="1120">
                <a:moveTo>
                  <a:pt x="17932" y="3439"/>
                </a:moveTo>
                <a:cubicBezTo>
                  <a:pt x="17947" y="3497"/>
                  <a:pt x="17943" y="3545"/>
                  <a:pt x="17945" y="3604"/>
                </a:cubicBezTo>
                <a:cubicBezTo>
                  <a:pt x="17948" y="3678"/>
                  <a:pt x="17952" y="3752"/>
                  <a:pt x="17953" y="3826"/>
                </a:cubicBezTo>
                <a:cubicBezTo>
                  <a:pt x="17954" y="3865"/>
                  <a:pt x="17943" y="3897"/>
                  <a:pt x="17972" y="3849"/>
                </a:cubicBezTo>
              </a:path>
              <a:path w="1945" h="1120">
                <a:moveTo>
                  <a:pt x="17994" y="3468"/>
                </a:moveTo>
                <a:cubicBezTo>
                  <a:pt x="17991" y="3410"/>
                  <a:pt x="17979" y="3345"/>
                  <a:pt x="17983" y="3287"/>
                </a:cubicBezTo>
                <a:cubicBezTo>
                  <a:pt x="17985" y="3258"/>
                  <a:pt x="18003" y="3229"/>
                  <a:pt x="18035" y="3229"/>
                </a:cubicBezTo>
                <a:cubicBezTo>
                  <a:pt x="18061" y="3234"/>
                  <a:pt x="18070" y="3236"/>
                  <a:pt x="18086" y="3243"/>
                </a:cubicBezTo>
              </a:path>
              <a:path w="1945" h="1120">
                <a:moveTo>
                  <a:pt x="18330" y="3491"/>
                </a:moveTo>
                <a:cubicBezTo>
                  <a:pt x="18309" y="3536"/>
                  <a:pt x="18277" y="3557"/>
                  <a:pt x="18249" y="3595"/>
                </a:cubicBezTo>
                <a:cubicBezTo>
                  <a:pt x="18224" y="3628"/>
                  <a:pt x="18192" y="3678"/>
                  <a:pt x="18187" y="3720"/>
                </a:cubicBezTo>
                <a:cubicBezTo>
                  <a:pt x="18188" y="3726"/>
                  <a:pt x="18188" y="3733"/>
                  <a:pt x="18189" y="3739"/>
                </a:cubicBezTo>
                <a:cubicBezTo>
                  <a:pt x="18224" y="3751"/>
                  <a:pt x="18250" y="3735"/>
                  <a:pt x="18281" y="3714"/>
                </a:cubicBezTo>
                <a:cubicBezTo>
                  <a:pt x="18326" y="3683"/>
                  <a:pt x="18362" y="3637"/>
                  <a:pt x="18408" y="3610"/>
                </a:cubicBezTo>
                <a:cubicBezTo>
                  <a:pt x="18415" y="3608"/>
                  <a:pt x="18422" y="3605"/>
                  <a:pt x="18429" y="3603"/>
                </a:cubicBezTo>
                <a:cubicBezTo>
                  <a:pt x="18467" y="3632"/>
                  <a:pt x="18460" y="3677"/>
                  <a:pt x="18458" y="3725"/>
                </a:cubicBezTo>
                <a:cubicBezTo>
                  <a:pt x="18454" y="3810"/>
                  <a:pt x="18441" y="3902"/>
                  <a:pt x="18402" y="3979"/>
                </a:cubicBezTo>
                <a:cubicBezTo>
                  <a:pt x="18378" y="4026"/>
                  <a:pt x="18333" y="4081"/>
                  <a:pt x="18274" y="4067"/>
                </a:cubicBezTo>
                <a:cubicBezTo>
                  <a:pt x="18207" y="4051"/>
                  <a:pt x="18180" y="3977"/>
                  <a:pt x="18170" y="3918"/>
                </a:cubicBezTo>
                <a:cubicBezTo>
                  <a:pt x="18159" y="3855"/>
                  <a:pt x="18172" y="3804"/>
                  <a:pt x="18185" y="3743"/>
                </a:cubicBezTo>
              </a:path>
              <a:path w="1945" h="1120">
                <a:moveTo>
                  <a:pt x="18566" y="3612"/>
                </a:moveTo>
                <a:cubicBezTo>
                  <a:pt x="18606" y="3600"/>
                  <a:pt x="18658" y="3584"/>
                  <a:pt x="18687" y="3552"/>
                </a:cubicBezTo>
                <a:cubicBezTo>
                  <a:pt x="18719" y="3517"/>
                  <a:pt x="18752" y="3479"/>
                  <a:pt x="18784" y="3443"/>
                </a:cubicBezTo>
                <a:cubicBezTo>
                  <a:pt x="18797" y="3428"/>
                  <a:pt x="18804" y="3414"/>
                  <a:pt x="18812" y="3399"/>
                </a:cubicBezTo>
                <a:cubicBezTo>
                  <a:pt x="18776" y="3409"/>
                  <a:pt x="18745" y="3434"/>
                  <a:pt x="18716" y="3457"/>
                </a:cubicBezTo>
                <a:cubicBezTo>
                  <a:pt x="18650" y="3508"/>
                  <a:pt x="18574" y="3575"/>
                  <a:pt x="18557" y="3661"/>
                </a:cubicBezTo>
                <a:cubicBezTo>
                  <a:pt x="18545" y="3723"/>
                  <a:pt x="18592" y="3748"/>
                  <a:pt x="18646" y="3756"/>
                </a:cubicBezTo>
                <a:cubicBezTo>
                  <a:pt x="18697" y="3757"/>
                  <a:pt x="18715" y="3757"/>
                  <a:pt x="18748" y="3746"/>
                </a:cubicBezTo>
              </a:path>
              <a:path w="1945" h="1120">
                <a:moveTo>
                  <a:pt x="19082" y="3481"/>
                </a:moveTo>
                <a:cubicBezTo>
                  <a:pt x="19053" y="3462"/>
                  <a:pt x="19059" y="3463"/>
                  <a:pt x="19021" y="3481"/>
                </a:cubicBezTo>
                <a:cubicBezTo>
                  <a:pt x="18966" y="3506"/>
                  <a:pt x="18919" y="3539"/>
                  <a:pt x="18878" y="3586"/>
                </a:cubicBezTo>
                <a:cubicBezTo>
                  <a:pt x="18860" y="3607"/>
                  <a:pt x="18815" y="3668"/>
                  <a:pt x="18847" y="3697"/>
                </a:cubicBezTo>
                <a:cubicBezTo>
                  <a:pt x="18887" y="3732"/>
                  <a:pt x="18970" y="3683"/>
                  <a:pt x="19000" y="3658"/>
                </a:cubicBezTo>
                <a:cubicBezTo>
                  <a:pt x="19035" y="3630"/>
                  <a:pt x="19072" y="3584"/>
                  <a:pt x="19087" y="3541"/>
                </a:cubicBezTo>
                <a:cubicBezTo>
                  <a:pt x="19095" y="3517"/>
                  <a:pt x="19097" y="3475"/>
                  <a:pt x="19117" y="3456"/>
                </a:cubicBezTo>
                <a:cubicBezTo>
                  <a:pt x="19122" y="3455"/>
                  <a:pt x="19128" y="3454"/>
                  <a:pt x="19133" y="3453"/>
                </a:cubicBezTo>
                <a:cubicBezTo>
                  <a:pt x="19153" y="3483"/>
                  <a:pt x="19155" y="3506"/>
                  <a:pt x="19159" y="3542"/>
                </a:cubicBezTo>
                <a:cubicBezTo>
                  <a:pt x="19163" y="3581"/>
                  <a:pt x="19168" y="3622"/>
                  <a:pt x="19169" y="3661"/>
                </a:cubicBezTo>
                <a:cubicBezTo>
                  <a:pt x="19169" y="3680"/>
                  <a:pt x="19171" y="3694"/>
                  <a:pt x="19174" y="3712"/>
                </a:cubicBezTo>
                <a:cubicBezTo>
                  <a:pt x="19197" y="3694"/>
                  <a:pt x="19206" y="3681"/>
                  <a:pt x="19222" y="3651"/>
                </a:cubicBezTo>
                <a:cubicBezTo>
                  <a:pt x="19243" y="3612"/>
                  <a:pt x="19263" y="3573"/>
                  <a:pt x="19298" y="3544"/>
                </a:cubicBezTo>
                <a:cubicBezTo>
                  <a:pt x="19330" y="3517"/>
                  <a:pt x="19352" y="3540"/>
                  <a:pt x="19368" y="3572"/>
                </a:cubicBezTo>
                <a:cubicBezTo>
                  <a:pt x="19400" y="3637"/>
                  <a:pt x="19403" y="3712"/>
                  <a:pt x="19426" y="3779"/>
                </a:cubicBezTo>
                <a:cubicBezTo>
                  <a:pt x="19437" y="3812"/>
                  <a:pt x="19445" y="3778"/>
                  <a:pt x="19454" y="376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7169040" y="1069920"/>
            <a:ext cx="525600" cy="273240"/>
          </a:xfrm>
          <a:custGeom>
            <a:avLst/>
            <a:gdLst/>
            <a:ahLst/>
            <a:rect l="l" t="t" r="r" b="b"/>
            <a:pathLst>
              <a:path w="1460" h="758">
                <a:moveTo>
                  <a:pt x="19982" y="2978"/>
                </a:moveTo>
                <a:cubicBezTo>
                  <a:pt x="19957" y="3021"/>
                  <a:pt x="19963" y="3068"/>
                  <a:pt x="19956" y="3117"/>
                </a:cubicBezTo>
                <a:cubicBezTo>
                  <a:pt x="19940" y="3224"/>
                  <a:pt x="19927" y="3331"/>
                  <a:pt x="19926" y="3439"/>
                </a:cubicBezTo>
                <a:cubicBezTo>
                  <a:pt x="19925" y="3506"/>
                  <a:pt x="19915" y="3593"/>
                  <a:pt x="19943" y="3656"/>
                </a:cubicBezTo>
                <a:cubicBezTo>
                  <a:pt x="19953" y="3668"/>
                  <a:pt x="19954" y="3674"/>
                  <a:pt x="19964" y="3665"/>
                </a:cubicBezTo>
              </a:path>
              <a:path w="1460" h="758">
                <a:moveTo>
                  <a:pt x="19932" y="3500"/>
                </a:moveTo>
                <a:cubicBezTo>
                  <a:pt x="19927" y="3501"/>
                  <a:pt x="19923" y="3503"/>
                  <a:pt x="19918" y="3504"/>
                </a:cubicBezTo>
                <a:cubicBezTo>
                  <a:pt x="19922" y="3476"/>
                  <a:pt x="19949" y="3461"/>
                  <a:pt x="19973" y="3440"/>
                </a:cubicBezTo>
                <a:cubicBezTo>
                  <a:pt x="20017" y="3403"/>
                  <a:pt x="20062" y="3366"/>
                  <a:pt x="20110" y="3334"/>
                </a:cubicBezTo>
                <a:cubicBezTo>
                  <a:pt x="20135" y="3318"/>
                  <a:pt x="20184" y="3284"/>
                  <a:pt x="20207" y="3321"/>
                </a:cubicBezTo>
                <a:cubicBezTo>
                  <a:pt x="20236" y="3367"/>
                  <a:pt x="20229" y="3452"/>
                  <a:pt x="20234" y="3503"/>
                </a:cubicBezTo>
                <a:cubicBezTo>
                  <a:pt x="20241" y="3570"/>
                  <a:pt x="20244" y="3638"/>
                  <a:pt x="20254" y="3705"/>
                </a:cubicBezTo>
                <a:cubicBezTo>
                  <a:pt x="20264" y="3771"/>
                  <a:pt x="20275" y="3653"/>
                  <a:pt x="20277" y="3641"/>
                </a:cubicBezTo>
              </a:path>
              <a:path w="1460" h="758">
                <a:moveTo>
                  <a:pt x="20476" y="3436"/>
                </a:moveTo>
                <a:cubicBezTo>
                  <a:pt x="20491" y="3415"/>
                  <a:pt x="20490" y="3422"/>
                  <a:pt x="20479" y="3398"/>
                </a:cubicBezTo>
                <a:cubicBezTo>
                  <a:pt x="20454" y="3421"/>
                  <a:pt x="20431" y="3442"/>
                  <a:pt x="20412" y="3472"/>
                </a:cubicBezTo>
                <a:cubicBezTo>
                  <a:pt x="20386" y="3511"/>
                  <a:pt x="20363" y="3564"/>
                  <a:pt x="20368" y="3612"/>
                </a:cubicBezTo>
                <a:cubicBezTo>
                  <a:pt x="20373" y="3659"/>
                  <a:pt x="20410" y="3659"/>
                  <a:pt x="20447" y="3649"/>
                </a:cubicBezTo>
                <a:cubicBezTo>
                  <a:pt x="20496" y="3636"/>
                  <a:pt x="20539" y="3603"/>
                  <a:pt x="20572" y="3566"/>
                </a:cubicBezTo>
                <a:cubicBezTo>
                  <a:pt x="20594" y="3542"/>
                  <a:pt x="20618" y="3506"/>
                  <a:pt x="20614" y="3471"/>
                </a:cubicBezTo>
                <a:cubicBezTo>
                  <a:pt x="20609" y="3432"/>
                  <a:pt x="20580" y="3392"/>
                  <a:pt x="20564" y="3357"/>
                </a:cubicBezTo>
              </a:path>
              <a:path w="1460" h="758">
                <a:moveTo>
                  <a:pt x="20741" y="2987"/>
                </a:moveTo>
                <a:cubicBezTo>
                  <a:pt x="20755" y="2946"/>
                  <a:pt x="20721" y="3081"/>
                  <a:pt x="20720" y="3086"/>
                </a:cubicBezTo>
                <a:cubicBezTo>
                  <a:pt x="20702" y="3196"/>
                  <a:pt x="20699" y="3313"/>
                  <a:pt x="20702" y="3424"/>
                </a:cubicBezTo>
                <a:cubicBezTo>
                  <a:pt x="20704" y="3492"/>
                  <a:pt x="20702" y="3596"/>
                  <a:pt x="20748" y="3652"/>
                </a:cubicBezTo>
                <a:cubicBezTo>
                  <a:pt x="20772" y="3681"/>
                  <a:pt x="20789" y="3658"/>
                  <a:pt x="20810" y="3643"/>
                </a:cubicBezTo>
              </a:path>
              <a:path w="1460" h="758">
                <a:moveTo>
                  <a:pt x="20954" y="3454"/>
                </a:moveTo>
                <a:cubicBezTo>
                  <a:pt x="20974" y="3448"/>
                  <a:pt x="20991" y="3442"/>
                  <a:pt x="21010" y="3434"/>
                </a:cubicBezTo>
                <a:cubicBezTo>
                  <a:pt x="21047" y="3418"/>
                  <a:pt x="21084" y="3399"/>
                  <a:pt x="21116" y="3374"/>
                </a:cubicBezTo>
                <a:cubicBezTo>
                  <a:pt x="21137" y="3358"/>
                  <a:pt x="21139" y="3348"/>
                  <a:pt x="21151" y="3328"/>
                </a:cubicBezTo>
                <a:cubicBezTo>
                  <a:pt x="21114" y="3345"/>
                  <a:pt x="21091" y="3369"/>
                  <a:pt x="21077" y="3410"/>
                </a:cubicBezTo>
                <a:cubicBezTo>
                  <a:pt x="21046" y="3499"/>
                  <a:pt x="21083" y="3592"/>
                  <a:pt x="21158" y="3646"/>
                </a:cubicBezTo>
                <a:cubicBezTo>
                  <a:pt x="21202" y="3678"/>
                  <a:pt x="21260" y="3706"/>
                  <a:pt x="21316" y="3695"/>
                </a:cubicBezTo>
                <a:cubicBezTo>
                  <a:pt x="21348" y="3683"/>
                  <a:pt x="21359" y="3679"/>
                  <a:pt x="21375" y="366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7826400" y="1122480"/>
            <a:ext cx="901800" cy="242640"/>
          </a:xfrm>
          <a:custGeom>
            <a:avLst/>
            <a:gdLst/>
            <a:ahLst/>
            <a:rect l="l" t="t" r="r" b="b"/>
            <a:pathLst>
              <a:path w="2504" h="675">
                <a:moveTo>
                  <a:pt x="21751" y="3418"/>
                </a:moveTo>
                <a:cubicBezTo>
                  <a:pt x="21739" y="3445"/>
                  <a:pt x="21741" y="3445"/>
                  <a:pt x="21751" y="3485"/>
                </a:cubicBezTo>
                <a:cubicBezTo>
                  <a:pt x="21765" y="3539"/>
                  <a:pt x="21780" y="3592"/>
                  <a:pt x="21796" y="3645"/>
                </a:cubicBezTo>
                <a:cubicBezTo>
                  <a:pt x="21810" y="3693"/>
                  <a:pt x="21828" y="3742"/>
                  <a:pt x="21830" y="3792"/>
                </a:cubicBezTo>
                <a:cubicBezTo>
                  <a:pt x="21816" y="3776"/>
                  <a:pt x="21802" y="3757"/>
                  <a:pt x="21794" y="3729"/>
                </a:cubicBezTo>
                <a:cubicBezTo>
                  <a:pt x="21777" y="3673"/>
                  <a:pt x="21766" y="3614"/>
                  <a:pt x="21764" y="3556"/>
                </a:cubicBezTo>
                <a:cubicBezTo>
                  <a:pt x="21762" y="3482"/>
                  <a:pt x="21769" y="3395"/>
                  <a:pt x="21816" y="3334"/>
                </a:cubicBezTo>
                <a:cubicBezTo>
                  <a:pt x="21846" y="3295"/>
                  <a:pt x="21886" y="3291"/>
                  <a:pt x="21924" y="3321"/>
                </a:cubicBezTo>
                <a:cubicBezTo>
                  <a:pt x="21974" y="3360"/>
                  <a:pt x="21999" y="3429"/>
                  <a:pt x="22013" y="3488"/>
                </a:cubicBezTo>
                <a:cubicBezTo>
                  <a:pt x="22027" y="3545"/>
                  <a:pt x="22030" y="3612"/>
                  <a:pt x="21985" y="3657"/>
                </a:cubicBezTo>
                <a:cubicBezTo>
                  <a:pt x="21950" y="3692"/>
                  <a:pt x="21889" y="3692"/>
                  <a:pt x="21848" y="3668"/>
                </a:cubicBezTo>
                <a:cubicBezTo>
                  <a:pt x="21785" y="3632"/>
                  <a:pt x="21776" y="3554"/>
                  <a:pt x="21799" y="3491"/>
                </a:cubicBezTo>
                <a:cubicBezTo>
                  <a:pt x="21806" y="3477"/>
                  <a:pt x="21814" y="3464"/>
                  <a:pt x="21821" y="3450"/>
                </a:cubicBezTo>
              </a:path>
              <a:path w="2504" h="675">
                <a:moveTo>
                  <a:pt x="22084" y="3434"/>
                </a:moveTo>
                <a:cubicBezTo>
                  <a:pt x="22085" y="3464"/>
                  <a:pt x="22089" y="3498"/>
                  <a:pt x="22084" y="3528"/>
                </a:cubicBezTo>
                <a:cubicBezTo>
                  <a:pt x="22079" y="3558"/>
                  <a:pt x="22081" y="3585"/>
                  <a:pt x="22084" y="3616"/>
                </a:cubicBezTo>
                <a:cubicBezTo>
                  <a:pt x="22109" y="3601"/>
                  <a:pt x="22113" y="3569"/>
                  <a:pt x="22122" y="3538"/>
                </a:cubicBezTo>
                <a:cubicBezTo>
                  <a:pt x="22144" y="3464"/>
                  <a:pt x="22167" y="3365"/>
                  <a:pt x="22221" y="3307"/>
                </a:cubicBezTo>
                <a:cubicBezTo>
                  <a:pt x="22243" y="3283"/>
                  <a:pt x="22270" y="3280"/>
                  <a:pt x="22300" y="3283"/>
                </a:cubicBezTo>
                <a:cubicBezTo>
                  <a:pt x="22327" y="3286"/>
                  <a:pt x="22350" y="3292"/>
                  <a:pt x="22375" y="3301"/>
                </a:cubicBezTo>
              </a:path>
              <a:path w="2504" h="675">
                <a:moveTo>
                  <a:pt x="22400" y="3368"/>
                </a:moveTo>
                <a:cubicBezTo>
                  <a:pt x="22396" y="3393"/>
                  <a:pt x="22397" y="3418"/>
                  <a:pt x="22394" y="3442"/>
                </a:cubicBezTo>
                <a:cubicBezTo>
                  <a:pt x="22391" y="3467"/>
                  <a:pt x="22392" y="3496"/>
                  <a:pt x="22405" y="3520"/>
                </a:cubicBezTo>
                <a:cubicBezTo>
                  <a:pt x="22413" y="3535"/>
                  <a:pt x="22431" y="3563"/>
                  <a:pt x="22451" y="3545"/>
                </a:cubicBezTo>
                <a:cubicBezTo>
                  <a:pt x="22454" y="3541"/>
                  <a:pt x="22457" y="3536"/>
                  <a:pt x="22460" y="3532"/>
                </a:cubicBezTo>
              </a:path>
              <a:path w="2504" h="675">
                <a:moveTo>
                  <a:pt x="22472" y="3236"/>
                </a:moveTo>
                <a:cubicBezTo>
                  <a:pt x="22471" y="3206"/>
                  <a:pt x="22465" y="3169"/>
                  <a:pt x="22470" y="3140"/>
                </a:cubicBezTo>
                <a:cubicBezTo>
                  <a:pt x="22476" y="3103"/>
                  <a:pt x="22508" y="3123"/>
                  <a:pt x="22528" y="3133"/>
                </a:cubicBezTo>
              </a:path>
              <a:path w="2504" h="675">
                <a:moveTo>
                  <a:pt x="22601" y="3460"/>
                </a:moveTo>
                <a:cubicBezTo>
                  <a:pt x="22595" y="3479"/>
                  <a:pt x="22578" y="3511"/>
                  <a:pt x="22575" y="3527"/>
                </a:cubicBezTo>
                <a:cubicBezTo>
                  <a:pt x="22576" y="3531"/>
                  <a:pt x="22576" y="3536"/>
                  <a:pt x="22577" y="3540"/>
                </a:cubicBezTo>
                <a:cubicBezTo>
                  <a:pt x="22598" y="3526"/>
                  <a:pt x="22607" y="3502"/>
                  <a:pt x="22621" y="3479"/>
                </a:cubicBezTo>
                <a:cubicBezTo>
                  <a:pt x="22648" y="3436"/>
                  <a:pt x="22673" y="3384"/>
                  <a:pt x="22714" y="3353"/>
                </a:cubicBezTo>
                <a:cubicBezTo>
                  <a:pt x="22738" y="3335"/>
                  <a:pt x="22752" y="3355"/>
                  <a:pt x="22759" y="3377"/>
                </a:cubicBezTo>
                <a:cubicBezTo>
                  <a:pt x="22771" y="3414"/>
                  <a:pt x="22776" y="3459"/>
                  <a:pt x="22780" y="3498"/>
                </a:cubicBezTo>
                <a:cubicBezTo>
                  <a:pt x="22781" y="3509"/>
                  <a:pt x="22781" y="3555"/>
                  <a:pt x="22804" y="3549"/>
                </a:cubicBezTo>
                <a:cubicBezTo>
                  <a:pt x="22808" y="3547"/>
                  <a:pt x="22811" y="3544"/>
                  <a:pt x="22815" y="3542"/>
                </a:cubicBezTo>
              </a:path>
              <a:path w="2504" h="675">
                <a:moveTo>
                  <a:pt x="23087" y="3283"/>
                </a:moveTo>
                <a:cubicBezTo>
                  <a:pt x="23079" y="3262"/>
                  <a:pt x="23055" y="3273"/>
                  <a:pt x="23033" y="3286"/>
                </a:cubicBezTo>
                <a:cubicBezTo>
                  <a:pt x="22999" y="3306"/>
                  <a:pt x="22966" y="3336"/>
                  <a:pt x="22944" y="3370"/>
                </a:cubicBezTo>
                <a:cubicBezTo>
                  <a:pt x="22924" y="3401"/>
                  <a:pt x="22918" y="3438"/>
                  <a:pt x="22947" y="3467"/>
                </a:cubicBezTo>
                <a:cubicBezTo>
                  <a:pt x="22978" y="3499"/>
                  <a:pt x="23052" y="3505"/>
                  <a:pt x="23094" y="3508"/>
                </a:cubicBezTo>
                <a:cubicBezTo>
                  <a:pt x="23110" y="3508"/>
                  <a:pt x="23125" y="3508"/>
                  <a:pt x="23141" y="3508"/>
                </a:cubicBezTo>
              </a:path>
              <a:path w="2504" h="675">
                <a:moveTo>
                  <a:pt x="23358" y="3388"/>
                </a:moveTo>
                <a:cubicBezTo>
                  <a:pt x="23331" y="3402"/>
                  <a:pt x="23344" y="3420"/>
                  <a:pt x="23338" y="3450"/>
                </a:cubicBezTo>
                <a:cubicBezTo>
                  <a:pt x="23331" y="3487"/>
                  <a:pt x="23324" y="3531"/>
                  <a:pt x="23332" y="3569"/>
                </a:cubicBezTo>
                <a:cubicBezTo>
                  <a:pt x="23340" y="3586"/>
                  <a:pt x="23342" y="3590"/>
                  <a:pt x="23347" y="3601"/>
                </a:cubicBezTo>
              </a:path>
              <a:path w="2504" h="675">
                <a:moveTo>
                  <a:pt x="23407" y="3230"/>
                </a:moveTo>
                <a:cubicBezTo>
                  <a:pt x="23411" y="3212"/>
                  <a:pt x="23416" y="3197"/>
                  <a:pt x="23418" y="3179"/>
                </a:cubicBezTo>
                <a:cubicBezTo>
                  <a:pt x="23434" y="3186"/>
                  <a:pt x="23436" y="3196"/>
                  <a:pt x="23445" y="3216"/>
                </a:cubicBezTo>
              </a:path>
              <a:path w="2504" h="675">
                <a:moveTo>
                  <a:pt x="23538" y="3577"/>
                </a:moveTo>
                <a:cubicBezTo>
                  <a:pt x="23534" y="3621"/>
                  <a:pt x="23525" y="3672"/>
                  <a:pt x="23528" y="3716"/>
                </a:cubicBezTo>
                <a:cubicBezTo>
                  <a:pt x="23529" y="3736"/>
                  <a:pt x="23535" y="3758"/>
                  <a:pt x="23541" y="3777"/>
                </a:cubicBezTo>
                <a:cubicBezTo>
                  <a:pt x="23550" y="3722"/>
                  <a:pt x="23554" y="3667"/>
                  <a:pt x="23561" y="3612"/>
                </a:cubicBezTo>
                <a:cubicBezTo>
                  <a:pt x="23572" y="3532"/>
                  <a:pt x="23598" y="3460"/>
                  <a:pt x="23636" y="3389"/>
                </a:cubicBezTo>
                <a:cubicBezTo>
                  <a:pt x="23661" y="3343"/>
                  <a:pt x="23700" y="3277"/>
                  <a:pt x="23754" y="3260"/>
                </a:cubicBezTo>
                <a:cubicBezTo>
                  <a:pt x="23802" y="3245"/>
                  <a:pt x="23817" y="3298"/>
                  <a:pt x="23819" y="3334"/>
                </a:cubicBezTo>
                <a:cubicBezTo>
                  <a:pt x="23822" y="3389"/>
                  <a:pt x="23806" y="3449"/>
                  <a:pt x="23780" y="3497"/>
                </a:cubicBezTo>
                <a:cubicBezTo>
                  <a:pt x="23756" y="3541"/>
                  <a:pt x="23718" y="3573"/>
                  <a:pt x="23667" y="3559"/>
                </a:cubicBezTo>
                <a:cubicBezTo>
                  <a:pt x="23638" y="3551"/>
                  <a:pt x="23630" y="3520"/>
                  <a:pt x="23629" y="3493"/>
                </a:cubicBezTo>
                <a:cubicBezTo>
                  <a:pt x="23630" y="3466"/>
                  <a:pt x="23631" y="3456"/>
                  <a:pt x="23633" y="3438"/>
                </a:cubicBezTo>
              </a:path>
              <a:path w="2504" h="675">
                <a:moveTo>
                  <a:pt x="24093" y="3337"/>
                </a:moveTo>
                <a:cubicBezTo>
                  <a:pt x="24170" y="3399"/>
                  <a:pt x="24189" y="3374"/>
                  <a:pt x="24242" y="3290"/>
                </a:cubicBezTo>
                <a:cubicBezTo>
                  <a:pt x="24162" y="3312"/>
                  <a:pt x="24057" y="3356"/>
                  <a:pt x="24059" y="3465"/>
                </a:cubicBezTo>
                <a:cubicBezTo>
                  <a:pt x="24061" y="3549"/>
                  <a:pt x="24174" y="3563"/>
                  <a:pt x="24233" y="357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7377120" y="2057400"/>
            <a:ext cx="6480" cy="6480"/>
          </a:xfrm>
          <a:custGeom>
            <a:avLst/>
            <a:gdLst/>
            <a:ahLst/>
            <a:rect l="l" t="t" r="r" b="b"/>
            <a:pathLst>
              <a:path w="18" h="18">
                <a:moveTo>
                  <a:pt x="20510" y="5721"/>
                </a:moveTo>
                <a:cubicBezTo>
                  <a:pt x="20499" y="5712"/>
                  <a:pt x="20495" y="5712"/>
                  <a:pt x="20493" y="573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4305240" y="2054160"/>
            <a:ext cx="569880" cy="277920"/>
          </a:xfrm>
          <a:custGeom>
            <a:avLst/>
            <a:gdLst/>
            <a:ahLst/>
            <a:rect l="l" t="t" r="r" b="b"/>
            <a:pathLst>
              <a:path w="1585" h="771">
                <a:moveTo>
                  <a:pt x="12109" y="5973"/>
                </a:moveTo>
                <a:cubicBezTo>
                  <a:pt x="12076" y="5972"/>
                  <a:pt x="12067" y="5984"/>
                  <a:pt x="12044" y="6004"/>
                </a:cubicBezTo>
                <a:cubicBezTo>
                  <a:pt x="12008" y="6035"/>
                  <a:pt x="11986" y="6072"/>
                  <a:pt x="11971" y="6117"/>
                </a:cubicBezTo>
                <a:cubicBezTo>
                  <a:pt x="11959" y="6152"/>
                  <a:pt x="11949" y="6200"/>
                  <a:pt x="11968" y="6235"/>
                </a:cubicBezTo>
                <a:cubicBezTo>
                  <a:pt x="11971" y="6238"/>
                  <a:pt x="11974" y="6240"/>
                  <a:pt x="11977" y="6243"/>
                </a:cubicBezTo>
                <a:cubicBezTo>
                  <a:pt x="12015" y="6226"/>
                  <a:pt x="12031" y="6195"/>
                  <a:pt x="12045" y="6154"/>
                </a:cubicBezTo>
                <a:cubicBezTo>
                  <a:pt x="12070" y="6083"/>
                  <a:pt x="12081" y="6005"/>
                  <a:pt x="12088" y="5931"/>
                </a:cubicBezTo>
                <a:cubicBezTo>
                  <a:pt x="12093" y="5884"/>
                  <a:pt x="12094" y="5838"/>
                  <a:pt x="12087" y="5791"/>
                </a:cubicBezTo>
                <a:cubicBezTo>
                  <a:pt x="12076" y="5840"/>
                  <a:pt x="12078" y="5890"/>
                  <a:pt x="12083" y="5940"/>
                </a:cubicBezTo>
                <a:cubicBezTo>
                  <a:pt x="12089" y="6008"/>
                  <a:pt x="12098" y="6084"/>
                  <a:pt x="12128" y="6146"/>
                </a:cubicBezTo>
                <a:cubicBezTo>
                  <a:pt x="12144" y="6179"/>
                  <a:pt x="12159" y="6178"/>
                  <a:pt x="12190" y="6182"/>
                </a:cubicBezTo>
              </a:path>
              <a:path w="1585" h="771">
                <a:moveTo>
                  <a:pt x="12279" y="6100"/>
                </a:moveTo>
                <a:cubicBezTo>
                  <a:pt x="12285" y="6109"/>
                  <a:pt x="12283" y="6136"/>
                  <a:pt x="12307" y="6115"/>
                </a:cubicBezTo>
                <a:cubicBezTo>
                  <a:pt x="12325" y="6099"/>
                  <a:pt x="12345" y="6069"/>
                  <a:pt x="12353" y="6045"/>
                </a:cubicBezTo>
                <a:cubicBezTo>
                  <a:pt x="12357" y="6028"/>
                  <a:pt x="12358" y="6023"/>
                  <a:pt x="12359" y="6012"/>
                </a:cubicBezTo>
                <a:cubicBezTo>
                  <a:pt x="12329" y="6013"/>
                  <a:pt x="12316" y="6030"/>
                  <a:pt x="12300" y="6057"/>
                </a:cubicBezTo>
                <a:cubicBezTo>
                  <a:pt x="12280" y="6090"/>
                  <a:pt x="12266" y="6129"/>
                  <a:pt x="12274" y="6168"/>
                </a:cubicBezTo>
                <a:cubicBezTo>
                  <a:pt x="12283" y="6208"/>
                  <a:pt x="12330" y="6211"/>
                  <a:pt x="12362" y="6203"/>
                </a:cubicBezTo>
                <a:cubicBezTo>
                  <a:pt x="12409" y="6192"/>
                  <a:pt x="12456" y="6163"/>
                  <a:pt x="12493" y="6134"/>
                </a:cubicBezTo>
                <a:cubicBezTo>
                  <a:pt x="12518" y="6115"/>
                  <a:pt x="12530" y="6092"/>
                  <a:pt x="12545" y="6066"/>
                </a:cubicBezTo>
                <a:cubicBezTo>
                  <a:pt x="12526" y="6075"/>
                  <a:pt x="12520" y="6076"/>
                  <a:pt x="12513" y="6104"/>
                </a:cubicBezTo>
                <a:cubicBezTo>
                  <a:pt x="12507" y="6127"/>
                  <a:pt x="12507" y="6149"/>
                  <a:pt x="12507" y="6172"/>
                </a:cubicBezTo>
                <a:cubicBezTo>
                  <a:pt x="12523" y="6164"/>
                  <a:pt x="12530" y="6160"/>
                  <a:pt x="12543" y="6135"/>
                </a:cubicBezTo>
                <a:cubicBezTo>
                  <a:pt x="12554" y="6113"/>
                  <a:pt x="12562" y="6094"/>
                  <a:pt x="12577" y="6075"/>
                </a:cubicBezTo>
                <a:cubicBezTo>
                  <a:pt x="12609" y="6095"/>
                  <a:pt x="12610" y="6123"/>
                  <a:pt x="12614" y="6161"/>
                </a:cubicBezTo>
                <a:cubicBezTo>
                  <a:pt x="12621" y="6228"/>
                  <a:pt x="12611" y="6292"/>
                  <a:pt x="12590" y="6356"/>
                </a:cubicBezTo>
                <a:cubicBezTo>
                  <a:pt x="12574" y="6403"/>
                  <a:pt x="12543" y="6460"/>
                  <a:pt x="12491" y="6475"/>
                </a:cubicBezTo>
                <a:cubicBezTo>
                  <a:pt x="12449" y="6487"/>
                  <a:pt x="12424" y="6463"/>
                  <a:pt x="12410" y="6426"/>
                </a:cubicBezTo>
                <a:cubicBezTo>
                  <a:pt x="12400" y="6390"/>
                  <a:pt x="12397" y="6377"/>
                  <a:pt x="12398" y="6351"/>
                </a:cubicBezTo>
              </a:path>
              <a:path w="1585" h="771">
                <a:moveTo>
                  <a:pt x="12871" y="5787"/>
                </a:moveTo>
                <a:cubicBezTo>
                  <a:pt x="12877" y="5767"/>
                  <a:pt x="12887" y="5740"/>
                  <a:pt x="12886" y="5718"/>
                </a:cubicBezTo>
                <a:cubicBezTo>
                  <a:pt x="12885" y="5714"/>
                  <a:pt x="12884" y="5710"/>
                  <a:pt x="12883" y="5706"/>
                </a:cubicBezTo>
                <a:cubicBezTo>
                  <a:pt x="12866" y="5717"/>
                  <a:pt x="12860" y="5729"/>
                  <a:pt x="12853" y="5749"/>
                </a:cubicBezTo>
                <a:cubicBezTo>
                  <a:pt x="12846" y="5768"/>
                  <a:pt x="12842" y="5786"/>
                  <a:pt x="12839" y="5806"/>
                </a:cubicBezTo>
                <a:cubicBezTo>
                  <a:pt x="12837" y="5820"/>
                  <a:pt x="12840" y="5823"/>
                  <a:pt x="12846" y="5836"/>
                </a:cubicBezTo>
              </a:path>
              <a:path w="1585" h="771">
                <a:moveTo>
                  <a:pt x="12872" y="5930"/>
                </a:moveTo>
                <a:cubicBezTo>
                  <a:pt x="12870" y="5911"/>
                  <a:pt x="12890" y="5922"/>
                  <a:pt x="12916" y="5920"/>
                </a:cubicBezTo>
                <a:cubicBezTo>
                  <a:pt x="12955" y="5916"/>
                  <a:pt x="12992" y="5916"/>
                  <a:pt x="13031" y="5914"/>
                </a:cubicBezTo>
                <a:cubicBezTo>
                  <a:pt x="13050" y="5913"/>
                  <a:pt x="13067" y="5912"/>
                  <a:pt x="13086" y="5913"/>
                </a:cubicBezTo>
              </a:path>
              <a:path w="1585" h="771">
                <a:moveTo>
                  <a:pt x="12890" y="6096"/>
                </a:moveTo>
                <a:cubicBezTo>
                  <a:pt x="12895" y="6111"/>
                  <a:pt x="12937" y="6094"/>
                  <a:pt x="12961" y="6090"/>
                </a:cubicBezTo>
                <a:cubicBezTo>
                  <a:pt x="13017" y="6081"/>
                  <a:pt x="13072" y="6066"/>
                  <a:pt x="13127" y="6051"/>
                </a:cubicBezTo>
              </a:path>
              <a:path w="1585" h="771">
                <a:moveTo>
                  <a:pt x="13334" y="5882"/>
                </a:moveTo>
                <a:cubicBezTo>
                  <a:pt x="13302" y="5889"/>
                  <a:pt x="13272" y="5906"/>
                  <a:pt x="13257" y="5939"/>
                </a:cubicBezTo>
                <a:cubicBezTo>
                  <a:pt x="13236" y="5983"/>
                  <a:pt x="13234" y="6038"/>
                  <a:pt x="13262" y="6080"/>
                </a:cubicBezTo>
                <a:cubicBezTo>
                  <a:pt x="13296" y="6130"/>
                  <a:pt x="13356" y="6139"/>
                  <a:pt x="13411" y="6130"/>
                </a:cubicBezTo>
                <a:cubicBezTo>
                  <a:pt x="13465" y="6121"/>
                  <a:pt x="13515" y="6087"/>
                  <a:pt x="13536" y="6035"/>
                </a:cubicBezTo>
                <a:cubicBezTo>
                  <a:pt x="13553" y="5992"/>
                  <a:pt x="13534" y="5946"/>
                  <a:pt x="13500" y="5918"/>
                </a:cubicBezTo>
                <a:cubicBezTo>
                  <a:pt x="13463" y="5887"/>
                  <a:pt x="13423" y="5881"/>
                  <a:pt x="13377" y="587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4998960" y="2043000"/>
            <a:ext cx="276480" cy="201600"/>
          </a:xfrm>
          <a:custGeom>
            <a:avLst/>
            <a:gdLst/>
            <a:ahLst/>
            <a:rect l="l" t="t" r="r" b="b"/>
            <a:pathLst>
              <a:path w="770" h="559">
                <a:moveTo>
                  <a:pt x="13993" y="5862"/>
                </a:moveTo>
                <a:cubicBezTo>
                  <a:pt x="13978" y="5840"/>
                  <a:pt x="13965" y="5848"/>
                  <a:pt x="13953" y="5875"/>
                </a:cubicBezTo>
                <a:cubicBezTo>
                  <a:pt x="13935" y="5916"/>
                  <a:pt x="13917" y="5960"/>
                  <a:pt x="13904" y="6003"/>
                </a:cubicBezTo>
                <a:cubicBezTo>
                  <a:pt x="13894" y="6038"/>
                  <a:pt x="13873" y="6097"/>
                  <a:pt x="13889" y="6133"/>
                </a:cubicBezTo>
                <a:cubicBezTo>
                  <a:pt x="13892" y="6133"/>
                  <a:pt x="13895" y="6133"/>
                  <a:pt x="13898" y="6133"/>
                </a:cubicBezTo>
                <a:cubicBezTo>
                  <a:pt x="13928" y="6108"/>
                  <a:pt x="13946" y="6080"/>
                  <a:pt x="13966" y="6047"/>
                </a:cubicBezTo>
                <a:cubicBezTo>
                  <a:pt x="13989" y="6009"/>
                  <a:pt x="14012" y="5968"/>
                  <a:pt x="14038" y="5934"/>
                </a:cubicBezTo>
                <a:cubicBezTo>
                  <a:pt x="14047" y="5984"/>
                  <a:pt x="14041" y="6032"/>
                  <a:pt x="14043" y="6084"/>
                </a:cubicBezTo>
                <a:cubicBezTo>
                  <a:pt x="14044" y="6135"/>
                  <a:pt x="14051" y="6186"/>
                  <a:pt x="14066" y="6234"/>
                </a:cubicBezTo>
                <a:cubicBezTo>
                  <a:pt x="14114" y="6226"/>
                  <a:pt x="14123" y="6199"/>
                  <a:pt x="14146" y="6152"/>
                </a:cubicBezTo>
                <a:cubicBezTo>
                  <a:pt x="14170" y="6104"/>
                  <a:pt x="14189" y="6054"/>
                  <a:pt x="14211" y="6006"/>
                </a:cubicBezTo>
                <a:cubicBezTo>
                  <a:pt x="14219" y="5990"/>
                  <a:pt x="14219" y="5985"/>
                  <a:pt x="14231" y="5981"/>
                </a:cubicBezTo>
                <a:cubicBezTo>
                  <a:pt x="14233" y="6018"/>
                  <a:pt x="14226" y="6051"/>
                  <a:pt x="14223" y="6087"/>
                </a:cubicBezTo>
                <a:cubicBezTo>
                  <a:pt x="14221" y="6118"/>
                  <a:pt x="14218" y="6147"/>
                  <a:pt x="14214" y="6177"/>
                </a:cubicBezTo>
                <a:cubicBezTo>
                  <a:pt x="14228" y="6142"/>
                  <a:pt x="14236" y="6106"/>
                  <a:pt x="14247" y="6070"/>
                </a:cubicBezTo>
                <a:cubicBezTo>
                  <a:pt x="14260" y="6026"/>
                  <a:pt x="14272" y="5977"/>
                  <a:pt x="14297" y="5937"/>
                </a:cubicBezTo>
                <a:cubicBezTo>
                  <a:pt x="14307" y="5924"/>
                  <a:pt x="14309" y="5919"/>
                  <a:pt x="14320" y="5923"/>
                </a:cubicBezTo>
                <a:cubicBezTo>
                  <a:pt x="14335" y="5959"/>
                  <a:pt x="14336" y="5993"/>
                  <a:pt x="14342" y="6032"/>
                </a:cubicBezTo>
                <a:cubicBezTo>
                  <a:pt x="14344" y="6046"/>
                  <a:pt x="14345" y="6139"/>
                  <a:pt x="14362" y="6147"/>
                </a:cubicBezTo>
                <a:cubicBezTo>
                  <a:pt x="14373" y="6151"/>
                  <a:pt x="14377" y="6152"/>
                  <a:pt x="14385" y="6146"/>
                </a:cubicBezTo>
              </a:path>
              <a:path w="770" h="559">
                <a:moveTo>
                  <a:pt x="14571" y="5908"/>
                </a:moveTo>
                <a:cubicBezTo>
                  <a:pt x="14570" y="5909"/>
                  <a:pt x="14533" y="5930"/>
                  <a:pt x="14520" y="5950"/>
                </a:cubicBezTo>
                <a:cubicBezTo>
                  <a:pt x="14492" y="5994"/>
                  <a:pt x="14468" y="6049"/>
                  <a:pt x="14455" y="6100"/>
                </a:cubicBezTo>
                <a:cubicBezTo>
                  <a:pt x="14450" y="6127"/>
                  <a:pt x="14448" y="6134"/>
                  <a:pt x="14450" y="6151"/>
                </a:cubicBezTo>
                <a:cubicBezTo>
                  <a:pt x="14493" y="6143"/>
                  <a:pt x="14509" y="6109"/>
                  <a:pt x="14531" y="6068"/>
                </a:cubicBezTo>
                <a:cubicBezTo>
                  <a:pt x="14569" y="5998"/>
                  <a:pt x="14590" y="5925"/>
                  <a:pt x="14612" y="5849"/>
                </a:cubicBezTo>
                <a:cubicBezTo>
                  <a:pt x="14629" y="5792"/>
                  <a:pt x="14643" y="5735"/>
                  <a:pt x="14654" y="5677"/>
                </a:cubicBezTo>
                <a:cubicBezTo>
                  <a:pt x="14627" y="5737"/>
                  <a:pt x="14613" y="5803"/>
                  <a:pt x="14612" y="5870"/>
                </a:cubicBezTo>
                <a:cubicBezTo>
                  <a:pt x="14611" y="5931"/>
                  <a:pt x="14617" y="5992"/>
                  <a:pt x="14638" y="604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5388120" y="2030400"/>
            <a:ext cx="618840" cy="289080"/>
          </a:xfrm>
          <a:custGeom>
            <a:avLst/>
            <a:gdLst/>
            <a:ahLst/>
            <a:rect l="l" t="t" r="r" b="b"/>
            <a:pathLst>
              <a:path w="1717" h="804">
                <a:moveTo>
                  <a:pt x="15109" y="5931"/>
                </a:moveTo>
                <a:cubicBezTo>
                  <a:pt x="15090" y="5912"/>
                  <a:pt x="15059" y="5885"/>
                  <a:pt x="15029" y="5893"/>
                </a:cubicBezTo>
                <a:cubicBezTo>
                  <a:pt x="15000" y="5901"/>
                  <a:pt x="14979" y="5939"/>
                  <a:pt x="14972" y="5965"/>
                </a:cubicBezTo>
                <a:cubicBezTo>
                  <a:pt x="14962" y="6001"/>
                  <a:pt x="14964" y="6049"/>
                  <a:pt x="14984" y="6081"/>
                </a:cubicBezTo>
                <a:cubicBezTo>
                  <a:pt x="15003" y="6112"/>
                  <a:pt x="15035" y="6106"/>
                  <a:pt x="15059" y="6085"/>
                </a:cubicBezTo>
                <a:cubicBezTo>
                  <a:pt x="15098" y="6050"/>
                  <a:pt x="15116" y="5993"/>
                  <a:pt x="15128" y="5944"/>
                </a:cubicBezTo>
                <a:cubicBezTo>
                  <a:pt x="15150" y="5852"/>
                  <a:pt x="15152" y="5754"/>
                  <a:pt x="15138" y="5661"/>
                </a:cubicBezTo>
                <a:cubicBezTo>
                  <a:pt x="15137" y="5654"/>
                  <a:pt x="15135" y="5647"/>
                  <a:pt x="15134" y="5640"/>
                </a:cubicBezTo>
                <a:cubicBezTo>
                  <a:pt x="15109" y="5677"/>
                  <a:pt x="15118" y="5732"/>
                  <a:pt x="15122" y="5777"/>
                </a:cubicBezTo>
                <a:cubicBezTo>
                  <a:pt x="15128" y="5851"/>
                  <a:pt x="15142" y="5928"/>
                  <a:pt x="15172" y="5996"/>
                </a:cubicBezTo>
                <a:cubicBezTo>
                  <a:pt x="15190" y="6028"/>
                  <a:pt x="15194" y="6038"/>
                  <a:pt x="15212" y="6053"/>
                </a:cubicBezTo>
              </a:path>
              <a:path w="1717" h="804">
                <a:moveTo>
                  <a:pt x="15339" y="6033"/>
                </a:moveTo>
                <a:cubicBezTo>
                  <a:pt x="15363" y="6028"/>
                  <a:pt x="15391" y="6015"/>
                  <a:pt x="15406" y="5993"/>
                </a:cubicBezTo>
                <a:cubicBezTo>
                  <a:pt x="15421" y="5971"/>
                  <a:pt x="15440" y="5933"/>
                  <a:pt x="15437" y="5905"/>
                </a:cubicBezTo>
                <a:cubicBezTo>
                  <a:pt x="15431" y="5890"/>
                  <a:pt x="15430" y="5885"/>
                  <a:pt x="15417" y="5884"/>
                </a:cubicBezTo>
                <a:cubicBezTo>
                  <a:pt x="15378" y="5893"/>
                  <a:pt x="15350" y="5911"/>
                  <a:pt x="15324" y="5944"/>
                </a:cubicBezTo>
                <a:cubicBezTo>
                  <a:pt x="15295" y="5980"/>
                  <a:pt x="15266" y="6029"/>
                  <a:pt x="15275" y="6077"/>
                </a:cubicBezTo>
                <a:cubicBezTo>
                  <a:pt x="15284" y="6125"/>
                  <a:pt x="15335" y="6134"/>
                  <a:pt x="15376" y="6129"/>
                </a:cubicBezTo>
                <a:cubicBezTo>
                  <a:pt x="15422" y="6124"/>
                  <a:pt x="15460" y="6102"/>
                  <a:pt x="15501" y="6083"/>
                </a:cubicBezTo>
              </a:path>
              <a:path w="1717" h="804">
                <a:moveTo>
                  <a:pt x="15611" y="5955"/>
                </a:moveTo>
                <a:cubicBezTo>
                  <a:pt x="15591" y="5968"/>
                  <a:pt x="15576" y="5988"/>
                  <a:pt x="15566" y="6009"/>
                </a:cubicBezTo>
                <a:cubicBezTo>
                  <a:pt x="15554" y="6034"/>
                  <a:pt x="15541" y="6067"/>
                  <a:pt x="15539" y="6095"/>
                </a:cubicBezTo>
                <a:cubicBezTo>
                  <a:pt x="15539" y="6099"/>
                  <a:pt x="15540" y="6103"/>
                  <a:pt x="15540" y="6107"/>
                </a:cubicBezTo>
                <a:cubicBezTo>
                  <a:pt x="15566" y="6101"/>
                  <a:pt x="15575" y="6081"/>
                  <a:pt x="15589" y="6057"/>
                </a:cubicBezTo>
                <a:cubicBezTo>
                  <a:pt x="15603" y="6033"/>
                  <a:pt x="15616" y="6008"/>
                  <a:pt x="15630" y="5984"/>
                </a:cubicBezTo>
                <a:cubicBezTo>
                  <a:pt x="15647" y="6023"/>
                  <a:pt x="15638" y="6072"/>
                  <a:pt x="15631" y="6115"/>
                </a:cubicBezTo>
                <a:cubicBezTo>
                  <a:pt x="15618" y="6194"/>
                  <a:pt x="15600" y="6276"/>
                  <a:pt x="15568" y="6350"/>
                </a:cubicBezTo>
                <a:cubicBezTo>
                  <a:pt x="15555" y="6380"/>
                  <a:pt x="15520" y="6458"/>
                  <a:pt x="15475" y="6439"/>
                </a:cubicBezTo>
                <a:cubicBezTo>
                  <a:pt x="15431" y="6420"/>
                  <a:pt x="15443" y="6339"/>
                  <a:pt x="15442" y="6304"/>
                </a:cubicBezTo>
              </a:path>
              <a:path w="1717" h="804">
                <a:moveTo>
                  <a:pt x="15789" y="5888"/>
                </a:moveTo>
                <a:cubicBezTo>
                  <a:pt x="15811" y="5889"/>
                  <a:pt x="15837" y="5890"/>
                  <a:pt x="15859" y="5886"/>
                </a:cubicBezTo>
                <a:cubicBezTo>
                  <a:pt x="15885" y="5881"/>
                  <a:pt x="15905" y="5877"/>
                  <a:pt x="15932" y="5882"/>
                </a:cubicBezTo>
              </a:path>
              <a:path w="1717" h="804">
                <a:moveTo>
                  <a:pt x="15780" y="6050"/>
                </a:moveTo>
                <a:cubicBezTo>
                  <a:pt x="15810" y="6053"/>
                  <a:pt x="15830" y="6038"/>
                  <a:pt x="15859" y="6028"/>
                </a:cubicBezTo>
                <a:cubicBezTo>
                  <a:pt x="15900" y="6014"/>
                  <a:pt x="15932" y="5993"/>
                  <a:pt x="15968" y="5969"/>
                </a:cubicBezTo>
              </a:path>
              <a:path w="1717" h="804">
                <a:moveTo>
                  <a:pt x="16093" y="5914"/>
                </a:moveTo>
                <a:cubicBezTo>
                  <a:pt x="16098" y="5950"/>
                  <a:pt x="16103" y="5988"/>
                  <a:pt x="16114" y="6022"/>
                </a:cubicBezTo>
                <a:cubicBezTo>
                  <a:pt x="16121" y="6036"/>
                  <a:pt x="16122" y="6041"/>
                  <a:pt x="16133" y="6044"/>
                </a:cubicBezTo>
                <a:cubicBezTo>
                  <a:pt x="16149" y="6023"/>
                  <a:pt x="16157" y="6000"/>
                  <a:pt x="16169" y="5976"/>
                </a:cubicBezTo>
                <a:cubicBezTo>
                  <a:pt x="16179" y="5956"/>
                  <a:pt x="16191" y="5918"/>
                  <a:pt x="16212" y="5907"/>
                </a:cubicBezTo>
                <a:cubicBezTo>
                  <a:pt x="16215" y="5907"/>
                  <a:pt x="16219" y="5906"/>
                  <a:pt x="16222" y="5906"/>
                </a:cubicBezTo>
                <a:cubicBezTo>
                  <a:pt x="16239" y="5925"/>
                  <a:pt x="16247" y="5949"/>
                  <a:pt x="16258" y="5972"/>
                </a:cubicBezTo>
                <a:cubicBezTo>
                  <a:pt x="16268" y="5994"/>
                  <a:pt x="16284" y="6024"/>
                  <a:pt x="16309" y="6031"/>
                </a:cubicBezTo>
                <a:cubicBezTo>
                  <a:pt x="16315" y="6031"/>
                  <a:pt x="16321" y="6032"/>
                  <a:pt x="16327" y="6032"/>
                </a:cubicBezTo>
              </a:path>
              <a:path w="1717" h="804">
                <a:moveTo>
                  <a:pt x="16413" y="5960"/>
                </a:moveTo>
                <a:cubicBezTo>
                  <a:pt x="16424" y="5948"/>
                  <a:pt x="16442" y="5937"/>
                  <a:pt x="16460" y="5932"/>
                </a:cubicBezTo>
                <a:cubicBezTo>
                  <a:pt x="16496" y="5921"/>
                  <a:pt x="16527" y="5909"/>
                  <a:pt x="16560" y="5889"/>
                </a:cubicBezTo>
                <a:cubicBezTo>
                  <a:pt x="16567" y="5884"/>
                  <a:pt x="16575" y="5879"/>
                  <a:pt x="16582" y="5874"/>
                </a:cubicBezTo>
              </a:path>
              <a:path w="1717" h="804">
                <a:moveTo>
                  <a:pt x="16635" y="5828"/>
                </a:moveTo>
                <a:cubicBezTo>
                  <a:pt x="16655" y="5838"/>
                  <a:pt x="16638" y="5861"/>
                  <a:pt x="16638" y="5883"/>
                </a:cubicBezTo>
                <a:cubicBezTo>
                  <a:pt x="16639" y="5929"/>
                  <a:pt x="16644" y="5975"/>
                  <a:pt x="16647" y="6021"/>
                </a:cubicBezTo>
                <a:cubicBezTo>
                  <a:pt x="16649" y="6050"/>
                  <a:pt x="16648" y="6082"/>
                  <a:pt x="16673" y="6101"/>
                </a:cubicBezTo>
                <a:cubicBezTo>
                  <a:pt x="16677" y="6103"/>
                  <a:pt x="16680" y="6104"/>
                  <a:pt x="16684" y="610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6567480" y="2000160"/>
            <a:ext cx="836640" cy="260280"/>
          </a:xfrm>
          <a:custGeom>
            <a:avLst/>
            <a:gdLst/>
            <a:ahLst/>
            <a:rect l="l" t="t" r="r" b="b"/>
            <a:pathLst>
              <a:path w="2327" h="725">
                <a:moveTo>
                  <a:pt x="18389" y="5741"/>
                </a:moveTo>
                <a:cubicBezTo>
                  <a:pt x="18359" y="5736"/>
                  <a:pt x="18363" y="5733"/>
                  <a:pt x="18341" y="5756"/>
                </a:cubicBezTo>
                <a:cubicBezTo>
                  <a:pt x="18309" y="5789"/>
                  <a:pt x="18295" y="5834"/>
                  <a:pt x="18282" y="5878"/>
                </a:cubicBezTo>
                <a:cubicBezTo>
                  <a:pt x="18265" y="5936"/>
                  <a:pt x="18250" y="5999"/>
                  <a:pt x="18243" y="6059"/>
                </a:cubicBezTo>
                <a:cubicBezTo>
                  <a:pt x="18240" y="6087"/>
                  <a:pt x="18233" y="6138"/>
                  <a:pt x="18261" y="6157"/>
                </a:cubicBezTo>
                <a:cubicBezTo>
                  <a:pt x="18294" y="6179"/>
                  <a:pt x="18361" y="6160"/>
                  <a:pt x="18396" y="6154"/>
                </a:cubicBezTo>
                <a:cubicBezTo>
                  <a:pt x="18449" y="6145"/>
                  <a:pt x="18500" y="6138"/>
                  <a:pt x="18553" y="6131"/>
                </a:cubicBezTo>
                <a:cubicBezTo>
                  <a:pt x="18587" y="6127"/>
                  <a:pt x="18608" y="6119"/>
                  <a:pt x="18626" y="6090"/>
                </a:cubicBezTo>
              </a:path>
              <a:path w="2327" h="725">
                <a:moveTo>
                  <a:pt x="18351" y="6021"/>
                </a:moveTo>
                <a:cubicBezTo>
                  <a:pt x="18346" y="6022"/>
                  <a:pt x="18340" y="6022"/>
                  <a:pt x="18335" y="6023"/>
                </a:cubicBezTo>
                <a:cubicBezTo>
                  <a:pt x="18349" y="5990"/>
                  <a:pt x="18383" y="5981"/>
                  <a:pt x="18415" y="5966"/>
                </a:cubicBezTo>
                <a:cubicBezTo>
                  <a:pt x="18464" y="5943"/>
                  <a:pt x="18518" y="5931"/>
                  <a:pt x="18566" y="5906"/>
                </a:cubicBezTo>
                <a:cubicBezTo>
                  <a:pt x="18572" y="5902"/>
                  <a:pt x="18579" y="5898"/>
                  <a:pt x="18585" y="5894"/>
                </a:cubicBezTo>
              </a:path>
              <a:path w="2327" h="725">
                <a:moveTo>
                  <a:pt x="18322" y="5818"/>
                </a:moveTo>
                <a:cubicBezTo>
                  <a:pt x="18305" y="5814"/>
                  <a:pt x="18301" y="5814"/>
                  <a:pt x="18294" y="5805"/>
                </a:cubicBezTo>
                <a:cubicBezTo>
                  <a:pt x="18311" y="5773"/>
                  <a:pt x="18347" y="5751"/>
                  <a:pt x="18384" y="5738"/>
                </a:cubicBezTo>
                <a:cubicBezTo>
                  <a:pt x="18440" y="5718"/>
                  <a:pt x="18504" y="5710"/>
                  <a:pt x="18563" y="5717"/>
                </a:cubicBezTo>
                <a:cubicBezTo>
                  <a:pt x="18575" y="5720"/>
                  <a:pt x="18587" y="5722"/>
                  <a:pt x="18599" y="5725"/>
                </a:cubicBezTo>
              </a:path>
              <a:path w="2327" h="725">
                <a:moveTo>
                  <a:pt x="18699" y="5845"/>
                </a:moveTo>
                <a:cubicBezTo>
                  <a:pt x="18720" y="5868"/>
                  <a:pt x="18740" y="5892"/>
                  <a:pt x="18761" y="5916"/>
                </a:cubicBezTo>
                <a:cubicBezTo>
                  <a:pt x="18798" y="5959"/>
                  <a:pt x="18836" y="6001"/>
                  <a:pt x="18879" y="6039"/>
                </a:cubicBezTo>
                <a:cubicBezTo>
                  <a:pt x="18904" y="6060"/>
                  <a:pt x="18920" y="6069"/>
                  <a:pt x="18950" y="6078"/>
                </a:cubicBezTo>
              </a:path>
              <a:path w="2327" h="725">
                <a:moveTo>
                  <a:pt x="18933" y="5875"/>
                </a:moveTo>
                <a:cubicBezTo>
                  <a:pt x="18903" y="5860"/>
                  <a:pt x="18903" y="5874"/>
                  <a:pt x="18880" y="5894"/>
                </a:cubicBezTo>
                <a:cubicBezTo>
                  <a:pt x="18842" y="5927"/>
                  <a:pt x="18809" y="5969"/>
                  <a:pt x="18781" y="6011"/>
                </a:cubicBezTo>
                <a:cubicBezTo>
                  <a:pt x="18754" y="6050"/>
                  <a:pt x="18722" y="6091"/>
                  <a:pt x="18701" y="6134"/>
                </a:cubicBezTo>
                <a:cubicBezTo>
                  <a:pt x="18700" y="6137"/>
                  <a:pt x="18699" y="6141"/>
                  <a:pt x="18698" y="6144"/>
                </a:cubicBezTo>
              </a:path>
              <a:path w="2327" h="725">
                <a:moveTo>
                  <a:pt x="19013" y="5828"/>
                </a:moveTo>
                <a:cubicBezTo>
                  <a:pt x="18985" y="5852"/>
                  <a:pt x="18967" y="5878"/>
                  <a:pt x="18954" y="5914"/>
                </a:cubicBezTo>
                <a:cubicBezTo>
                  <a:pt x="18938" y="5957"/>
                  <a:pt x="18913" y="6043"/>
                  <a:pt x="18947" y="6085"/>
                </a:cubicBezTo>
                <a:cubicBezTo>
                  <a:pt x="18972" y="6115"/>
                  <a:pt x="19019" y="6074"/>
                  <a:pt x="19036" y="6059"/>
                </a:cubicBezTo>
                <a:cubicBezTo>
                  <a:pt x="19069" y="6030"/>
                  <a:pt x="19091" y="5991"/>
                  <a:pt x="19123" y="5963"/>
                </a:cubicBezTo>
                <a:cubicBezTo>
                  <a:pt x="19128" y="5960"/>
                  <a:pt x="19132" y="5957"/>
                  <a:pt x="19137" y="5954"/>
                </a:cubicBezTo>
                <a:cubicBezTo>
                  <a:pt x="19162" y="5965"/>
                  <a:pt x="19157" y="5988"/>
                  <a:pt x="19160" y="6014"/>
                </a:cubicBezTo>
                <a:cubicBezTo>
                  <a:pt x="19164" y="6046"/>
                  <a:pt x="19168" y="6079"/>
                  <a:pt x="19171" y="6111"/>
                </a:cubicBezTo>
              </a:path>
              <a:path w="2327" h="725">
                <a:moveTo>
                  <a:pt x="19228" y="5945"/>
                </a:moveTo>
                <a:cubicBezTo>
                  <a:pt x="19225" y="5975"/>
                  <a:pt x="19220" y="6006"/>
                  <a:pt x="19219" y="6035"/>
                </a:cubicBezTo>
                <a:cubicBezTo>
                  <a:pt x="19218" y="6053"/>
                  <a:pt x="19221" y="6071"/>
                  <a:pt x="19224" y="6088"/>
                </a:cubicBezTo>
                <a:cubicBezTo>
                  <a:pt x="19255" y="6067"/>
                  <a:pt x="19271" y="6041"/>
                  <a:pt x="19293" y="6010"/>
                </a:cubicBezTo>
                <a:cubicBezTo>
                  <a:pt x="19312" y="5982"/>
                  <a:pt x="19333" y="5946"/>
                  <a:pt x="19360" y="5924"/>
                </a:cubicBezTo>
                <a:cubicBezTo>
                  <a:pt x="19364" y="5922"/>
                  <a:pt x="19367" y="5921"/>
                  <a:pt x="19371" y="5919"/>
                </a:cubicBezTo>
                <a:cubicBezTo>
                  <a:pt x="19384" y="5936"/>
                  <a:pt x="19383" y="5948"/>
                  <a:pt x="19385" y="5970"/>
                </a:cubicBezTo>
                <a:cubicBezTo>
                  <a:pt x="19386" y="5984"/>
                  <a:pt x="19387" y="5988"/>
                  <a:pt x="19393" y="5996"/>
                </a:cubicBezTo>
                <a:cubicBezTo>
                  <a:pt x="19404" y="5980"/>
                  <a:pt x="19408" y="5964"/>
                  <a:pt x="19416" y="5946"/>
                </a:cubicBezTo>
                <a:cubicBezTo>
                  <a:pt x="19422" y="5935"/>
                  <a:pt x="19424" y="5931"/>
                  <a:pt x="19434" y="5929"/>
                </a:cubicBezTo>
                <a:cubicBezTo>
                  <a:pt x="19446" y="5958"/>
                  <a:pt x="19458" y="5986"/>
                  <a:pt x="19473" y="6014"/>
                </a:cubicBezTo>
                <a:cubicBezTo>
                  <a:pt x="19486" y="6038"/>
                  <a:pt x="19498" y="6063"/>
                  <a:pt x="19530" y="6059"/>
                </a:cubicBezTo>
                <a:cubicBezTo>
                  <a:pt x="19537" y="6057"/>
                  <a:pt x="19545" y="6054"/>
                  <a:pt x="19552" y="6052"/>
                </a:cubicBezTo>
              </a:path>
              <a:path w="2327" h="725">
                <a:moveTo>
                  <a:pt x="19695" y="5861"/>
                </a:moveTo>
                <a:cubicBezTo>
                  <a:pt x="19679" y="5889"/>
                  <a:pt x="19672" y="5919"/>
                  <a:pt x="19670" y="5951"/>
                </a:cubicBezTo>
                <a:cubicBezTo>
                  <a:pt x="19666" y="6009"/>
                  <a:pt x="19666" y="6069"/>
                  <a:pt x="19671" y="6127"/>
                </a:cubicBezTo>
                <a:cubicBezTo>
                  <a:pt x="19675" y="6172"/>
                  <a:pt x="19678" y="6220"/>
                  <a:pt x="19689" y="6264"/>
                </a:cubicBezTo>
                <a:cubicBezTo>
                  <a:pt x="19691" y="6269"/>
                  <a:pt x="19692" y="6274"/>
                  <a:pt x="19694" y="6279"/>
                </a:cubicBezTo>
                <a:cubicBezTo>
                  <a:pt x="19702" y="6238"/>
                  <a:pt x="19698" y="6197"/>
                  <a:pt x="19696" y="6155"/>
                </a:cubicBezTo>
                <a:cubicBezTo>
                  <a:pt x="19691" y="6070"/>
                  <a:pt x="19690" y="5986"/>
                  <a:pt x="19697" y="5901"/>
                </a:cubicBezTo>
                <a:cubicBezTo>
                  <a:pt x="19701" y="5850"/>
                  <a:pt x="19701" y="5759"/>
                  <a:pt x="19746" y="5722"/>
                </a:cubicBezTo>
                <a:cubicBezTo>
                  <a:pt x="19753" y="5720"/>
                  <a:pt x="19760" y="5718"/>
                  <a:pt x="19767" y="5716"/>
                </a:cubicBezTo>
                <a:cubicBezTo>
                  <a:pt x="19810" y="5741"/>
                  <a:pt x="19828" y="5774"/>
                  <a:pt x="19844" y="5823"/>
                </a:cubicBezTo>
                <a:cubicBezTo>
                  <a:pt x="19861" y="5876"/>
                  <a:pt x="19869" y="5933"/>
                  <a:pt x="19843" y="5985"/>
                </a:cubicBezTo>
                <a:cubicBezTo>
                  <a:pt x="19825" y="6020"/>
                  <a:pt x="19780" y="6046"/>
                  <a:pt x="19740" y="6035"/>
                </a:cubicBezTo>
                <a:cubicBezTo>
                  <a:pt x="19679" y="6019"/>
                  <a:pt x="19679" y="5967"/>
                  <a:pt x="19674" y="5916"/>
                </a:cubicBezTo>
              </a:path>
              <a:path w="2327" h="725">
                <a:moveTo>
                  <a:pt x="20051" y="5555"/>
                </a:moveTo>
                <a:cubicBezTo>
                  <a:pt x="20042" y="5592"/>
                  <a:pt x="20028" y="5629"/>
                  <a:pt x="20013" y="5664"/>
                </a:cubicBezTo>
                <a:cubicBezTo>
                  <a:pt x="19987" y="5724"/>
                  <a:pt x="19966" y="5791"/>
                  <a:pt x="19966" y="5857"/>
                </a:cubicBezTo>
                <a:cubicBezTo>
                  <a:pt x="19966" y="5899"/>
                  <a:pt x="19973" y="5959"/>
                  <a:pt x="20022" y="5972"/>
                </a:cubicBezTo>
                <a:cubicBezTo>
                  <a:pt x="20051" y="5980"/>
                  <a:pt x="20081" y="5963"/>
                  <a:pt x="20107" y="5953"/>
                </a:cubicBezTo>
              </a:path>
              <a:path w="2327" h="725">
                <a:moveTo>
                  <a:pt x="20232" y="5862"/>
                </a:moveTo>
                <a:cubicBezTo>
                  <a:pt x="20245" y="5845"/>
                  <a:pt x="20258" y="5822"/>
                  <a:pt x="20271" y="5807"/>
                </a:cubicBezTo>
                <a:cubicBezTo>
                  <a:pt x="20285" y="5791"/>
                  <a:pt x="20298" y="5779"/>
                  <a:pt x="20310" y="5761"/>
                </a:cubicBezTo>
                <a:cubicBezTo>
                  <a:pt x="20282" y="5761"/>
                  <a:pt x="20262" y="5778"/>
                  <a:pt x="20240" y="5795"/>
                </a:cubicBezTo>
                <a:cubicBezTo>
                  <a:pt x="20207" y="5821"/>
                  <a:pt x="20174" y="5853"/>
                  <a:pt x="20159" y="5893"/>
                </a:cubicBezTo>
                <a:cubicBezTo>
                  <a:pt x="20144" y="5932"/>
                  <a:pt x="20158" y="5960"/>
                  <a:pt x="20195" y="5976"/>
                </a:cubicBezTo>
                <a:cubicBezTo>
                  <a:pt x="20243" y="5997"/>
                  <a:pt x="20300" y="5980"/>
                  <a:pt x="20348" y="5972"/>
                </a:cubicBezTo>
              </a:path>
              <a:path w="2327" h="725">
                <a:moveTo>
                  <a:pt x="20557" y="5946"/>
                </a:moveTo>
                <a:cubicBezTo>
                  <a:pt x="20553" y="5947"/>
                  <a:pt x="20550" y="5949"/>
                  <a:pt x="20546" y="5950"/>
                </a:cubicBezTo>
                <a:cubicBezTo>
                  <a:pt x="20549" y="5926"/>
                  <a:pt x="20554" y="5915"/>
                  <a:pt x="20562" y="5892"/>
                </a:cubicBezTo>
                <a:cubicBezTo>
                  <a:pt x="20568" y="5875"/>
                  <a:pt x="20569" y="5869"/>
                  <a:pt x="20567" y="585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7605720" y="1947960"/>
            <a:ext cx="528480" cy="272880"/>
          </a:xfrm>
          <a:custGeom>
            <a:avLst/>
            <a:gdLst/>
            <a:ahLst/>
            <a:rect l="l" t="t" r="r" b="b"/>
            <a:pathLst>
              <a:path w="1468" h="758">
                <a:moveTo>
                  <a:pt x="21327" y="5514"/>
                </a:moveTo>
                <a:cubicBezTo>
                  <a:pt x="21329" y="5488"/>
                  <a:pt x="21334" y="5470"/>
                  <a:pt x="21326" y="5445"/>
                </a:cubicBezTo>
                <a:cubicBezTo>
                  <a:pt x="21319" y="5424"/>
                  <a:pt x="21314" y="5424"/>
                  <a:pt x="21295" y="5412"/>
                </a:cubicBezTo>
                <a:cubicBezTo>
                  <a:pt x="21263" y="5433"/>
                  <a:pt x="21242" y="5448"/>
                  <a:pt x="21222" y="5484"/>
                </a:cubicBezTo>
                <a:cubicBezTo>
                  <a:pt x="21152" y="5612"/>
                  <a:pt x="21107" y="5779"/>
                  <a:pt x="21135" y="5924"/>
                </a:cubicBezTo>
                <a:cubicBezTo>
                  <a:pt x="21147" y="5987"/>
                  <a:pt x="21180" y="6055"/>
                  <a:pt x="21244" y="6081"/>
                </a:cubicBezTo>
                <a:cubicBezTo>
                  <a:pt x="21294" y="6101"/>
                  <a:pt x="21353" y="6082"/>
                  <a:pt x="21385" y="6041"/>
                </a:cubicBezTo>
                <a:cubicBezTo>
                  <a:pt x="21418" y="5999"/>
                  <a:pt x="21425" y="5939"/>
                  <a:pt x="21411" y="5889"/>
                </a:cubicBezTo>
                <a:cubicBezTo>
                  <a:pt x="21399" y="5846"/>
                  <a:pt x="21366" y="5800"/>
                  <a:pt x="21321" y="5789"/>
                </a:cubicBezTo>
                <a:cubicBezTo>
                  <a:pt x="21317" y="5789"/>
                  <a:pt x="21312" y="5788"/>
                  <a:pt x="21308" y="5788"/>
                </a:cubicBezTo>
                <a:cubicBezTo>
                  <a:pt x="21329" y="5809"/>
                  <a:pt x="21340" y="5823"/>
                  <a:pt x="21381" y="5823"/>
                </a:cubicBezTo>
                <a:cubicBezTo>
                  <a:pt x="21432" y="5823"/>
                  <a:pt x="21485" y="5811"/>
                  <a:pt x="21534" y="5799"/>
                </a:cubicBezTo>
                <a:cubicBezTo>
                  <a:pt x="21545" y="5796"/>
                  <a:pt x="21556" y="5794"/>
                  <a:pt x="21567" y="5791"/>
                </a:cubicBezTo>
              </a:path>
              <a:path w="1468" h="758">
                <a:moveTo>
                  <a:pt x="21609" y="5842"/>
                </a:moveTo>
                <a:cubicBezTo>
                  <a:pt x="21605" y="5879"/>
                  <a:pt x="21607" y="5914"/>
                  <a:pt x="21608" y="5951"/>
                </a:cubicBezTo>
                <a:cubicBezTo>
                  <a:pt x="21608" y="5973"/>
                  <a:pt x="21612" y="5988"/>
                  <a:pt x="21631" y="5997"/>
                </a:cubicBezTo>
                <a:cubicBezTo>
                  <a:pt x="21637" y="5972"/>
                  <a:pt x="21633" y="5948"/>
                  <a:pt x="21634" y="5922"/>
                </a:cubicBezTo>
                <a:cubicBezTo>
                  <a:pt x="21635" y="5874"/>
                  <a:pt x="21641" y="5827"/>
                  <a:pt x="21655" y="5781"/>
                </a:cubicBezTo>
                <a:cubicBezTo>
                  <a:pt x="21666" y="5745"/>
                  <a:pt x="21679" y="5710"/>
                  <a:pt x="21713" y="5692"/>
                </a:cubicBezTo>
                <a:cubicBezTo>
                  <a:pt x="21740" y="5678"/>
                  <a:pt x="21772" y="5710"/>
                  <a:pt x="21791" y="5726"/>
                </a:cubicBezTo>
                <a:cubicBezTo>
                  <a:pt x="21811" y="5744"/>
                  <a:pt x="21818" y="5749"/>
                  <a:pt x="21831" y="5761"/>
                </a:cubicBezTo>
              </a:path>
              <a:path w="1468" h="758">
                <a:moveTo>
                  <a:pt x="21943" y="5793"/>
                </a:moveTo>
                <a:cubicBezTo>
                  <a:pt x="21939" y="5771"/>
                  <a:pt x="21935" y="5739"/>
                  <a:pt x="21908" y="5731"/>
                </a:cubicBezTo>
                <a:cubicBezTo>
                  <a:pt x="21881" y="5723"/>
                  <a:pt x="21849" y="5775"/>
                  <a:pt x="21839" y="5791"/>
                </a:cubicBezTo>
                <a:cubicBezTo>
                  <a:pt x="21811" y="5839"/>
                  <a:pt x="21786" y="5915"/>
                  <a:pt x="21810" y="5969"/>
                </a:cubicBezTo>
                <a:cubicBezTo>
                  <a:pt x="21826" y="6005"/>
                  <a:pt x="21872" y="6003"/>
                  <a:pt x="21903" y="5989"/>
                </a:cubicBezTo>
                <a:cubicBezTo>
                  <a:pt x="21944" y="5971"/>
                  <a:pt x="21976" y="5934"/>
                  <a:pt x="22004" y="5900"/>
                </a:cubicBezTo>
                <a:cubicBezTo>
                  <a:pt x="22022" y="5878"/>
                  <a:pt x="22023" y="5846"/>
                  <a:pt x="22048" y="5862"/>
                </a:cubicBezTo>
              </a:path>
              <a:path w="1468" h="758">
                <a:moveTo>
                  <a:pt x="22111" y="5797"/>
                </a:moveTo>
                <a:cubicBezTo>
                  <a:pt x="22121" y="5838"/>
                  <a:pt x="22127" y="5880"/>
                  <a:pt x="22136" y="5921"/>
                </a:cubicBezTo>
                <a:cubicBezTo>
                  <a:pt x="22147" y="5976"/>
                  <a:pt x="22157" y="6030"/>
                  <a:pt x="22166" y="6085"/>
                </a:cubicBezTo>
                <a:cubicBezTo>
                  <a:pt x="22170" y="6110"/>
                  <a:pt x="22174" y="6134"/>
                  <a:pt x="22176" y="6160"/>
                </a:cubicBezTo>
                <a:cubicBezTo>
                  <a:pt x="22168" y="6139"/>
                  <a:pt x="22169" y="6134"/>
                  <a:pt x="22167" y="6111"/>
                </a:cubicBezTo>
                <a:cubicBezTo>
                  <a:pt x="22161" y="6027"/>
                  <a:pt x="22162" y="5942"/>
                  <a:pt x="22173" y="5859"/>
                </a:cubicBezTo>
                <a:cubicBezTo>
                  <a:pt x="22178" y="5820"/>
                  <a:pt x="22182" y="5761"/>
                  <a:pt x="22212" y="5732"/>
                </a:cubicBezTo>
                <a:cubicBezTo>
                  <a:pt x="22217" y="5730"/>
                  <a:pt x="22221" y="5727"/>
                  <a:pt x="22226" y="5725"/>
                </a:cubicBezTo>
                <a:cubicBezTo>
                  <a:pt x="22261" y="5738"/>
                  <a:pt x="22283" y="5757"/>
                  <a:pt x="22298" y="5794"/>
                </a:cubicBezTo>
                <a:cubicBezTo>
                  <a:pt x="22316" y="5839"/>
                  <a:pt x="22312" y="5893"/>
                  <a:pt x="22290" y="5936"/>
                </a:cubicBezTo>
                <a:cubicBezTo>
                  <a:pt x="22269" y="5977"/>
                  <a:pt x="22206" y="6022"/>
                  <a:pt x="22159" y="5993"/>
                </a:cubicBezTo>
                <a:cubicBezTo>
                  <a:pt x="22123" y="5971"/>
                  <a:pt x="22127" y="5924"/>
                  <a:pt x="22127" y="5890"/>
                </a:cubicBezTo>
              </a:path>
              <a:path w="1468" h="758">
                <a:moveTo>
                  <a:pt x="22405" y="5564"/>
                </a:moveTo>
                <a:cubicBezTo>
                  <a:pt x="22408" y="5611"/>
                  <a:pt x="22411" y="5657"/>
                  <a:pt x="22412" y="5704"/>
                </a:cubicBezTo>
                <a:cubicBezTo>
                  <a:pt x="22414" y="5758"/>
                  <a:pt x="22412" y="5813"/>
                  <a:pt x="22417" y="5867"/>
                </a:cubicBezTo>
                <a:cubicBezTo>
                  <a:pt x="22418" y="5873"/>
                  <a:pt x="22418" y="5880"/>
                  <a:pt x="22419" y="5886"/>
                </a:cubicBezTo>
                <a:cubicBezTo>
                  <a:pt x="22440" y="5858"/>
                  <a:pt x="22445" y="5826"/>
                  <a:pt x="22459" y="5794"/>
                </a:cubicBezTo>
                <a:cubicBezTo>
                  <a:pt x="22465" y="5779"/>
                  <a:pt x="22488" y="5728"/>
                  <a:pt x="22514" y="5737"/>
                </a:cubicBezTo>
                <a:cubicBezTo>
                  <a:pt x="22544" y="5747"/>
                  <a:pt x="22554" y="5803"/>
                  <a:pt x="22562" y="5827"/>
                </a:cubicBezTo>
                <a:cubicBezTo>
                  <a:pt x="22572" y="5855"/>
                  <a:pt x="22582" y="5882"/>
                  <a:pt x="22593" y="590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8280360" y="1959120"/>
            <a:ext cx="149400" cy="191880"/>
          </a:xfrm>
          <a:custGeom>
            <a:avLst/>
            <a:gdLst/>
            <a:ahLst/>
            <a:rect l="l" t="t" r="r" b="b"/>
            <a:pathLst>
              <a:path w="413" h="534">
                <a:moveTo>
                  <a:pt x="23179" y="5495"/>
                </a:moveTo>
                <a:cubicBezTo>
                  <a:pt x="23211" y="5469"/>
                  <a:pt x="23214" y="5464"/>
                  <a:pt x="23219" y="5440"/>
                </a:cubicBezTo>
                <a:cubicBezTo>
                  <a:pt x="23171" y="5472"/>
                  <a:pt x="23136" y="5512"/>
                  <a:pt x="23103" y="5561"/>
                </a:cubicBezTo>
                <a:cubicBezTo>
                  <a:pt x="23053" y="5636"/>
                  <a:pt x="23015" y="5719"/>
                  <a:pt x="23003" y="5809"/>
                </a:cubicBezTo>
                <a:cubicBezTo>
                  <a:pt x="22996" y="5861"/>
                  <a:pt x="22998" y="5945"/>
                  <a:pt x="23057" y="5969"/>
                </a:cubicBezTo>
                <a:cubicBezTo>
                  <a:pt x="23104" y="5988"/>
                  <a:pt x="23160" y="5955"/>
                  <a:pt x="23191" y="5922"/>
                </a:cubicBezTo>
                <a:cubicBezTo>
                  <a:pt x="23222" y="5888"/>
                  <a:pt x="23242" y="5839"/>
                  <a:pt x="23249" y="5794"/>
                </a:cubicBezTo>
                <a:cubicBezTo>
                  <a:pt x="23255" y="5756"/>
                  <a:pt x="23237" y="5753"/>
                  <a:pt x="23211" y="5738"/>
                </a:cubicBezTo>
                <a:cubicBezTo>
                  <a:pt x="23247" y="5739"/>
                  <a:pt x="23277" y="5729"/>
                  <a:pt x="23312" y="5724"/>
                </a:cubicBezTo>
                <a:cubicBezTo>
                  <a:pt x="23349" y="5719"/>
                  <a:pt x="23379" y="5723"/>
                  <a:pt x="23413" y="573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671400" y="2243160"/>
            <a:ext cx="851040" cy="342720"/>
          </a:xfrm>
          <a:custGeom>
            <a:avLst/>
            <a:gdLst/>
            <a:ahLst/>
            <a:rect l="l" t="t" r="r" b="b"/>
            <a:pathLst>
              <a:path w="2360" h="954">
                <a:moveTo>
                  <a:pt x="1874" y="6502"/>
                </a:moveTo>
                <a:cubicBezTo>
                  <a:pt x="1890" y="6566"/>
                  <a:pt x="1892" y="6633"/>
                  <a:pt x="1902" y="6699"/>
                </a:cubicBezTo>
                <a:cubicBezTo>
                  <a:pt x="1919" y="6810"/>
                  <a:pt x="1930" y="6925"/>
                  <a:pt x="1956" y="7034"/>
                </a:cubicBezTo>
                <a:cubicBezTo>
                  <a:pt x="1968" y="7085"/>
                  <a:pt x="1989" y="7135"/>
                  <a:pt x="2005" y="7184"/>
                </a:cubicBezTo>
              </a:path>
              <a:path w="2360" h="954">
                <a:moveTo>
                  <a:pt x="1887" y="6417"/>
                </a:moveTo>
                <a:cubicBezTo>
                  <a:pt x="1873" y="6360"/>
                  <a:pt x="1848" y="6302"/>
                  <a:pt x="1890" y="6252"/>
                </a:cubicBezTo>
                <a:cubicBezTo>
                  <a:pt x="1941" y="6191"/>
                  <a:pt x="2050" y="6275"/>
                  <a:pt x="2091" y="6308"/>
                </a:cubicBezTo>
                <a:cubicBezTo>
                  <a:pt x="2205" y="6399"/>
                  <a:pt x="2290" y="6522"/>
                  <a:pt x="2345" y="6657"/>
                </a:cubicBezTo>
                <a:cubicBezTo>
                  <a:pt x="2392" y="6773"/>
                  <a:pt x="2419" y="6915"/>
                  <a:pt x="2368" y="7035"/>
                </a:cubicBezTo>
                <a:cubicBezTo>
                  <a:pt x="2338" y="7106"/>
                  <a:pt x="2261" y="7162"/>
                  <a:pt x="2182" y="7154"/>
                </a:cubicBezTo>
                <a:cubicBezTo>
                  <a:pt x="2109" y="7147"/>
                  <a:pt x="2063" y="7081"/>
                  <a:pt x="2055" y="7012"/>
                </a:cubicBezTo>
                <a:cubicBezTo>
                  <a:pt x="2058" y="6962"/>
                  <a:pt x="2059" y="6946"/>
                  <a:pt x="2076" y="6916"/>
                </a:cubicBezTo>
              </a:path>
              <a:path w="2360" h="954">
                <a:moveTo>
                  <a:pt x="2497" y="7007"/>
                </a:moveTo>
                <a:cubicBezTo>
                  <a:pt x="2533" y="6980"/>
                  <a:pt x="2565" y="6942"/>
                  <a:pt x="2583" y="6900"/>
                </a:cubicBezTo>
                <a:cubicBezTo>
                  <a:pt x="2606" y="6846"/>
                  <a:pt x="2632" y="6781"/>
                  <a:pt x="2642" y="6722"/>
                </a:cubicBezTo>
                <a:cubicBezTo>
                  <a:pt x="2643" y="6702"/>
                  <a:pt x="2644" y="6698"/>
                  <a:pt x="2640" y="6686"/>
                </a:cubicBezTo>
                <a:cubicBezTo>
                  <a:pt x="2602" y="6710"/>
                  <a:pt x="2585" y="6751"/>
                  <a:pt x="2568" y="6793"/>
                </a:cubicBezTo>
                <a:cubicBezTo>
                  <a:pt x="2537" y="6870"/>
                  <a:pt x="2514" y="6983"/>
                  <a:pt x="2567" y="7056"/>
                </a:cubicBezTo>
                <a:cubicBezTo>
                  <a:pt x="2605" y="7109"/>
                  <a:pt x="2694" y="7111"/>
                  <a:pt x="2752" y="7106"/>
                </a:cubicBezTo>
                <a:cubicBezTo>
                  <a:pt x="2769" y="7103"/>
                  <a:pt x="2785" y="7100"/>
                  <a:pt x="2802" y="7097"/>
                </a:cubicBezTo>
              </a:path>
              <a:path w="2360" h="954">
                <a:moveTo>
                  <a:pt x="2952" y="7072"/>
                </a:moveTo>
                <a:cubicBezTo>
                  <a:pt x="2934" y="7080"/>
                  <a:pt x="2922" y="7107"/>
                  <a:pt x="2901" y="7083"/>
                </a:cubicBezTo>
                <a:cubicBezTo>
                  <a:pt x="2868" y="7045"/>
                  <a:pt x="2872" y="6968"/>
                  <a:pt x="2869" y="6921"/>
                </a:cubicBezTo>
                <a:cubicBezTo>
                  <a:pt x="2863" y="6830"/>
                  <a:pt x="2858" y="6738"/>
                  <a:pt x="2859" y="6647"/>
                </a:cubicBezTo>
                <a:cubicBezTo>
                  <a:pt x="2860" y="6564"/>
                  <a:pt x="2859" y="6471"/>
                  <a:pt x="2878" y="6390"/>
                </a:cubicBezTo>
                <a:cubicBezTo>
                  <a:pt x="2891" y="6337"/>
                  <a:pt x="2920" y="6286"/>
                  <a:pt x="2979" y="6279"/>
                </a:cubicBezTo>
                <a:cubicBezTo>
                  <a:pt x="3034" y="6272"/>
                  <a:pt x="3091" y="6304"/>
                  <a:pt x="3122" y="6348"/>
                </a:cubicBezTo>
                <a:cubicBezTo>
                  <a:pt x="3170" y="6416"/>
                  <a:pt x="3155" y="6485"/>
                  <a:pt x="3129" y="6556"/>
                </a:cubicBezTo>
                <a:cubicBezTo>
                  <a:pt x="3096" y="6644"/>
                  <a:pt x="3038" y="6711"/>
                  <a:pt x="2969" y="6773"/>
                </a:cubicBezTo>
                <a:cubicBezTo>
                  <a:pt x="2962" y="6780"/>
                  <a:pt x="2854" y="6863"/>
                  <a:pt x="2884" y="6825"/>
                </a:cubicBezTo>
                <a:cubicBezTo>
                  <a:pt x="2938" y="6800"/>
                  <a:pt x="2988" y="6790"/>
                  <a:pt x="3046" y="6777"/>
                </a:cubicBezTo>
                <a:cubicBezTo>
                  <a:pt x="3086" y="6768"/>
                  <a:pt x="3126" y="6760"/>
                  <a:pt x="3166" y="6752"/>
                </a:cubicBezTo>
              </a:path>
              <a:path w="2360" h="954">
                <a:moveTo>
                  <a:pt x="3267" y="6804"/>
                </a:moveTo>
                <a:cubicBezTo>
                  <a:pt x="3264" y="6835"/>
                  <a:pt x="3255" y="6870"/>
                  <a:pt x="3260" y="6901"/>
                </a:cubicBezTo>
                <a:cubicBezTo>
                  <a:pt x="3264" y="6926"/>
                  <a:pt x="3270" y="6965"/>
                  <a:pt x="3293" y="6979"/>
                </a:cubicBezTo>
                <a:cubicBezTo>
                  <a:pt x="3306" y="6983"/>
                  <a:pt x="3311" y="6984"/>
                  <a:pt x="3319" y="6977"/>
                </a:cubicBezTo>
              </a:path>
              <a:path w="2360" h="954">
                <a:moveTo>
                  <a:pt x="3402" y="6593"/>
                </a:moveTo>
                <a:cubicBezTo>
                  <a:pt x="3407" y="6577"/>
                  <a:pt x="3421" y="6536"/>
                  <a:pt x="3450" y="6542"/>
                </a:cubicBezTo>
                <a:cubicBezTo>
                  <a:pt x="3457" y="6546"/>
                  <a:pt x="3464" y="6549"/>
                  <a:pt x="3471" y="6553"/>
                </a:cubicBezTo>
              </a:path>
              <a:path w="2360" h="954">
                <a:moveTo>
                  <a:pt x="3552" y="6890"/>
                </a:moveTo>
                <a:cubicBezTo>
                  <a:pt x="3548" y="6913"/>
                  <a:pt x="3547" y="6919"/>
                  <a:pt x="3547" y="6933"/>
                </a:cubicBezTo>
                <a:cubicBezTo>
                  <a:pt x="3572" y="6893"/>
                  <a:pt x="3593" y="6851"/>
                  <a:pt x="3619" y="6812"/>
                </a:cubicBezTo>
                <a:cubicBezTo>
                  <a:pt x="3635" y="6789"/>
                  <a:pt x="3671" y="6728"/>
                  <a:pt x="3708" y="6738"/>
                </a:cubicBezTo>
                <a:cubicBezTo>
                  <a:pt x="3738" y="6746"/>
                  <a:pt x="3752" y="6817"/>
                  <a:pt x="3761" y="6840"/>
                </a:cubicBezTo>
                <a:cubicBezTo>
                  <a:pt x="3776" y="6877"/>
                  <a:pt x="3795" y="6928"/>
                  <a:pt x="3840" y="6935"/>
                </a:cubicBezTo>
                <a:cubicBezTo>
                  <a:pt x="3885" y="6942"/>
                  <a:pt x="3927" y="6908"/>
                  <a:pt x="3957" y="6880"/>
                </a:cubicBezTo>
                <a:cubicBezTo>
                  <a:pt x="4000" y="6841"/>
                  <a:pt x="4054" y="6781"/>
                  <a:pt x="4073" y="6724"/>
                </a:cubicBezTo>
                <a:cubicBezTo>
                  <a:pt x="4073" y="6721"/>
                  <a:pt x="4072" y="6717"/>
                  <a:pt x="4072" y="6714"/>
                </a:cubicBezTo>
                <a:cubicBezTo>
                  <a:pt x="4045" y="6696"/>
                  <a:pt x="4026" y="6688"/>
                  <a:pt x="3995" y="6711"/>
                </a:cubicBezTo>
                <a:cubicBezTo>
                  <a:pt x="3937" y="6755"/>
                  <a:pt x="3898" y="6854"/>
                  <a:pt x="3946" y="6918"/>
                </a:cubicBezTo>
                <a:cubicBezTo>
                  <a:pt x="3978" y="6960"/>
                  <a:pt x="4033" y="6954"/>
                  <a:pt x="4078" y="6949"/>
                </a:cubicBezTo>
                <a:cubicBezTo>
                  <a:pt x="4130" y="6943"/>
                  <a:pt x="4177" y="6932"/>
                  <a:pt x="4226" y="6916"/>
                </a:cubicBezTo>
              </a:path>
              <a:path w="2360" h="954">
                <a:moveTo>
                  <a:pt x="4179" y="6765"/>
                </a:moveTo>
                <a:cubicBezTo>
                  <a:pt x="4179" y="6741"/>
                  <a:pt x="4174" y="6795"/>
                  <a:pt x="4175" y="6804"/>
                </a:cubicBezTo>
                <a:cubicBezTo>
                  <a:pt x="4180" y="6832"/>
                  <a:pt x="4185" y="6846"/>
                  <a:pt x="4206" y="6865"/>
                </a:cubicBezTo>
                <a:cubicBezTo>
                  <a:pt x="4212" y="6850"/>
                  <a:pt x="4214" y="6843"/>
                  <a:pt x="4212" y="6831"/>
                </a:cubicBezTo>
              </a:path>
              <a:path w="2360" h="954">
                <a:moveTo>
                  <a:pt x="4178" y="6528"/>
                </a:moveTo>
                <a:cubicBezTo>
                  <a:pt x="4166" y="6532"/>
                  <a:pt x="4162" y="6536"/>
                  <a:pt x="4160" y="6524"/>
                </a:cubicBezTo>
                <a:cubicBezTo>
                  <a:pt x="4182" y="6517"/>
                  <a:pt x="4203" y="6510"/>
                  <a:pt x="4224" y="650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1685880" y="2328840"/>
            <a:ext cx="512640" cy="331920"/>
          </a:xfrm>
          <a:custGeom>
            <a:avLst/>
            <a:gdLst/>
            <a:ahLst/>
            <a:rect l="l" t="t" r="r" b="b"/>
            <a:pathLst>
              <a:path w="1425" h="921">
                <a:moveTo>
                  <a:pt x="4894" y="6480"/>
                </a:moveTo>
                <a:cubicBezTo>
                  <a:pt x="4884" y="6476"/>
                  <a:pt x="4860" y="6465"/>
                  <a:pt x="4848" y="6469"/>
                </a:cubicBezTo>
                <a:cubicBezTo>
                  <a:pt x="4835" y="6473"/>
                  <a:pt x="4832" y="6488"/>
                  <a:pt x="4828" y="6499"/>
                </a:cubicBezTo>
              </a:path>
              <a:path w="1425" h="921">
                <a:moveTo>
                  <a:pt x="4718" y="6721"/>
                </a:moveTo>
                <a:cubicBezTo>
                  <a:pt x="4722" y="6663"/>
                  <a:pt x="4722" y="6612"/>
                  <a:pt x="4718" y="6555"/>
                </a:cubicBezTo>
                <a:cubicBezTo>
                  <a:pt x="4718" y="6549"/>
                  <a:pt x="4718" y="6542"/>
                  <a:pt x="4718" y="6536"/>
                </a:cubicBezTo>
                <a:cubicBezTo>
                  <a:pt x="4710" y="6544"/>
                  <a:pt x="4698" y="6562"/>
                  <a:pt x="4696" y="6612"/>
                </a:cubicBezTo>
                <a:cubicBezTo>
                  <a:pt x="4693" y="6699"/>
                  <a:pt x="4704" y="6789"/>
                  <a:pt x="4724" y="6873"/>
                </a:cubicBezTo>
                <a:cubicBezTo>
                  <a:pt x="4736" y="6924"/>
                  <a:pt x="4748" y="6974"/>
                  <a:pt x="4798" y="6987"/>
                </a:cubicBezTo>
                <a:cubicBezTo>
                  <a:pt x="4832" y="6941"/>
                  <a:pt x="4845" y="6894"/>
                  <a:pt x="4856" y="6838"/>
                </a:cubicBezTo>
                <a:cubicBezTo>
                  <a:pt x="4866" y="6787"/>
                  <a:pt x="4871" y="6735"/>
                  <a:pt x="4886" y="6685"/>
                </a:cubicBezTo>
                <a:cubicBezTo>
                  <a:pt x="4901" y="6749"/>
                  <a:pt x="4889" y="6813"/>
                  <a:pt x="4879" y="6878"/>
                </a:cubicBezTo>
                <a:cubicBezTo>
                  <a:pt x="4861" y="6993"/>
                  <a:pt x="4835" y="7108"/>
                  <a:pt x="4792" y="7217"/>
                </a:cubicBezTo>
                <a:cubicBezTo>
                  <a:pt x="4780" y="7247"/>
                  <a:pt x="4736" y="7383"/>
                  <a:pt x="4691" y="7389"/>
                </a:cubicBezTo>
                <a:cubicBezTo>
                  <a:pt x="4679" y="7371"/>
                  <a:pt x="4678" y="7361"/>
                  <a:pt x="4690" y="7344"/>
                </a:cubicBezTo>
              </a:path>
              <a:path w="1425" h="921">
                <a:moveTo>
                  <a:pt x="5134" y="6593"/>
                </a:moveTo>
                <a:cubicBezTo>
                  <a:pt x="5141" y="6561"/>
                  <a:pt x="5146" y="6557"/>
                  <a:pt x="5133" y="6531"/>
                </a:cubicBezTo>
                <a:cubicBezTo>
                  <a:pt x="5102" y="6576"/>
                  <a:pt x="5084" y="6620"/>
                  <a:pt x="5068" y="6673"/>
                </a:cubicBezTo>
                <a:cubicBezTo>
                  <a:pt x="5045" y="6750"/>
                  <a:pt x="5029" y="6836"/>
                  <a:pt x="5036" y="6917"/>
                </a:cubicBezTo>
                <a:cubicBezTo>
                  <a:pt x="5043" y="6948"/>
                  <a:pt x="5043" y="6956"/>
                  <a:pt x="5059" y="6970"/>
                </a:cubicBezTo>
                <a:cubicBezTo>
                  <a:pt x="5107" y="6952"/>
                  <a:pt x="5123" y="6918"/>
                  <a:pt x="5145" y="6871"/>
                </a:cubicBezTo>
                <a:cubicBezTo>
                  <a:pt x="5172" y="6815"/>
                  <a:pt x="5188" y="6755"/>
                  <a:pt x="5195" y="6693"/>
                </a:cubicBezTo>
                <a:cubicBezTo>
                  <a:pt x="5199" y="6657"/>
                  <a:pt x="5197" y="6615"/>
                  <a:pt x="5215" y="6581"/>
                </a:cubicBezTo>
                <a:cubicBezTo>
                  <a:pt x="5219" y="6576"/>
                  <a:pt x="5223" y="6570"/>
                  <a:pt x="5227" y="6565"/>
                </a:cubicBezTo>
              </a:path>
              <a:path w="1425" h="921">
                <a:moveTo>
                  <a:pt x="5428" y="6625"/>
                </a:moveTo>
                <a:cubicBezTo>
                  <a:pt x="5426" y="6674"/>
                  <a:pt x="5423" y="6726"/>
                  <a:pt x="5416" y="6774"/>
                </a:cubicBezTo>
                <a:cubicBezTo>
                  <a:pt x="5411" y="6809"/>
                  <a:pt x="5410" y="6816"/>
                  <a:pt x="5426" y="6847"/>
                </a:cubicBezTo>
                <a:cubicBezTo>
                  <a:pt x="5471" y="6844"/>
                  <a:pt x="5494" y="6817"/>
                  <a:pt x="5525" y="6782"/>
                </a:cubicBezTo>
                <a:cubicBezTo>
                  <a:pt x="5568" y="6733"/>
                  <a:pt x="5601" y="6678"/>
                  <a:pt x="5639" y="6625"/>
                </a:cubicBezTo>
                <a:cubicBezTo>
                  <a:pt x="5656" y="6601"/>
                  <a:pt x="5660" y="6594"/>
                  <a:pt x="5684" y="6596"/>
                </a:cubicBezTo>
                <a:cubicBezTo>
                  <a:pt x="5700" y="6637"/>
                  <a:pt x="5706" y="6680"/>
                  <a:pt x="5717" y="6722"/>
                </a:cubicBezTo>
                <a:cubicBezTo>
                  <a:pt x="5728" y="6763"/>
                  <a:pt x="5740" y="6789"/>
                  <a:pt x="5778" y="6805"/>
                </a:cubicBezTo>
              </a:path>
              <a:path w="1425" h="921">
                <a:moveTo>
                  <a:pt x="5886" y="6612"/>
                </a:moveTo>
                <a:cubicBezTo>
                  <a:pt x="5885" y="6656"/>
                  <a:pt x="5877" y="6700"/>
                  <a:pt x="5878" y="6744"/>
                </a:cubicBezTo>
                <a:cubicBezTo>
                  <a:pt x="5879" y="6774"/>
                  <a:pt x="5882" y="6805"/>
                  <a:pt x="5885" y="6835"/>
                </a:cubicBezTo>
                <a:cubicBezTo>
                  <a:pt x="5908" y="6810"/>
                  <a:pt x="5906" y="6771"/>
                  <a:pt x="5914" y="6736"/>
                </a:cubicBezTo>
                <a:cubicBezTo>
                  <a:pt x="5926" y="6684"/>
                  <a:pt x="5937" y="6633"/>
                  <a:pt x="5966" y="6588"/>
                </a:cubicBezTo>
                <a:cubicBezTo>
                  <a:pt x="5991" y="6549"/>
                  <a:pt x="6028" y="6533"/>
                  <a:pt x="6074" y="6536"/>
                </a:cubicBezTo>
                <a:cubicBezTo>
                  <a:pt x="6085" y="6538"/>
                  <a:pt x="6095" y="6539"/>
                  <a:pt x="6106" y="654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2519280" y="2273400"/>
            <a:ext cx="852480" cy="355680"/>
          </a:xfrm>
          <a:custGeom>
            <a:avLst/>
            <a:gdLst/>
            <a:ahLst/>
            <a:rect l="l" t="t" r="r" b="b"/>
            <a:pathLst>
              <a:path w="2368" h="989">
                <a:moveTo>
                  <a:pt x="7024" y="6606"/>
                </a:moveTo>
                <a:cubicBezTo>
                  <a:pt x="7011" y="6653"/>
                  <a:pt x="6998" y="6706"/>
                  <a:pt x="6998" y="6759"/>
                </a:cubicBezTo>
                <a:cubicBezTo>
                  <a:pt x="6997" y="6879"/>
                  <a:pt x="7009" y="6999"/>
                  <a:pt x="7024" y="7118"/>
                </a:cubicBezTo>
                <a:cubicBezTo>
                  <a:pt x="7032" y="7177"/>
                  <a:pt x="7042" y="7234"/>
                  <a:pt x="7055" y="7292"/>
                </a:cubicBezTo>
                <a:cubicBezTo>
                  <a:pt x="7065" y="7255"/>
                  <a:pt x="7054" y="7234"/>
                  <a:pt x="7049" y="7196"/>
                </a:cubicBezTo>
                <a:cubicBezTo>
                  <a:pt x="7022" y="6980"/>
                  <a:pt x="7015" y="6757"/>
                  <a:pt x="7066" y="6544"/>
                </a:cubicBezTo>
                <a:cubicBezTo>
                  <a:pt x="7081" y="6482"/>
                  <a:pt x="7093" y="6452"/>
                  <a:pt x="7134" y="6409"/>
                </a:cubicBezTo>
                <a:cubicBezTo>
                  <a:pt x="7192" y="6451"/>
                  <a:pt x="7194" y="6513"/>
                  <a:pt x="7198" y="6585"/>
                </a:cubicBezTo>
                <a:cubicBezTo>
                  <a:pt x="7205" y="6715"/>
                  <a:pt x="7194" y="6849"/>
                  <a:pt x="7122" y="6960"/>
                </a:cubicBezTo>
                <a:cubicBezTo>
                  <a:pt x="7077" y="6967"/>
                  <a:pt x="7097" y="6899"/>
                  <a:pt x="7108" y="6862"/>
                </a:cubicBezTo>
                <a:cubicBezTo>
                  <a:pt x="7133" y="6795"/>
                  <a:pt x="7142" y="6771"/>
                  <a:pt x="7164" y="6728"/>
                </a:cubicBezTo>
              </a:path>
              <a:path w="2368" h="989">
                <a:moveTo>
                  <a:pt x="7433" y="6536"/>
                </a:moveTo>
                <a:cubicBezTo>
                  <a:pt x="7460" y="6608"/>
                  <a:pt x="7468" y="6675"/>
                  <a:pt x="7480" y="6751"/>
                </a:cubicBezTo>
                <a:cubicBezTo>
                  <a:pt x="7489" y="6808"/>
                  <a:pt x="7491" y="6869"/>
                  <a:pt x="7506" y="6924"/>
                </a:cubicBezTo>
                <a:cubicBezTo>
                  <a:pt x="7512" y="6940"/>
                  <a:pt x="7514" y="6937"/>
                  <a:pt x="7512" y="6905"/>
                </a:cubicBezTo>
              </a:path>
              <a:path w="2368" h="989">
                <a:moveTo>
                  <a:pt x="7413" y="6464"/>
                </a:moveTo>
                <a:cubicBezTo>
                  <a:pt x="7407" y="6435"/>
                  <a:pt x="7381" y="6363"/>
                  <a:pt x="7409" y="6336"/>
                </a:cubicBezTo>
                <a:cubicBezTo>
                  <a:pt x="7442" y="6305"/>
                  <a:pt x="7495" y="6314"/>
                  <a:pt x="7535" y="6316"/>
                </a:cubicBezTo>
              </a:path>
              <a:path w="2368" h="989">
                <a:moveTo>
                  <a:pt x="7837" y="6533"/>
                </a:moveTo>
                <a:cubicBezTo>
                  <a:pt x="7806" y="6558"/>
                  <a:pt x="7763" y="6590"/>
                  <a:pt x="7741" y="6622"/>
                </a:cubicBezTo>
                <a:cubicBezTo>
                  <a:pt x="7717" y="6657"/>
                  <a:pt x="7697" y="6714"/>
                  <a:pt x="7708" y="6756"/>
                </a:cubicBezTo>
                <a:cubicBezTo>
                  <a:pt x="7711" y="6762"/>
                  <a:pt x="7715" y="6768"/>
                  <a:pt x="7718" y="6774"/>
                </a:cubicBezTo>
                <a:cubicBezTo>
                  <a:pt x="7762" y="6774"/>
                  <a:pt x="7783" y="6752"/>
                  <a:pt x="7809" y="6715"/>
                </a:cubicBezTo>
                <a:cubicBezTo>
                  <a:pt x="7840" y="6672"/>
                  <a:pt x="7860" y="6614"/>
                  <a:pt x="7898" y="6577"/>
                </a:cubicBezTo>
                <a:cubicBezTo>
                  <a:pt x="7904" y="6573"/>
                  <a:pt x="7911" y="6569"/>
                  <a:pt x="7917" y="6565"/>
                </a:cubicBezTo>
                <a:cubicBezTo>
                  <a:pt x="7965" y="6600"/>
                  <a:pt x="7970" y="6655"/>
                  <a:pt x="7976" y="6714"/>
                </a:cubicBezTo>
                <a:cubicBezTo>
                  <a:pt x="7988" y="6831"/>
                  <a:pt x="7976" y="6954"/>
                  <a:pt x="7939" y="7066"/>
                </a:cubicBezTo>
                <a:cubicBezTo>
                  <a:pt x="7916" y="7136"/>
                  <a:pt x="7869" y="7245"/>
                  <a:pt x="7786" y="7263"/>
                </a:cubicBezTo>
                <a:cubicBezTo>
                  <a:pt x="7716" y="7278"/>
                  <a:pt x="7698" y="7169"/>
                  <a:pt x="7696" y="7123"/>
                </a:cubicBezTo>
                <a:cubicBezTo>
                  <a:pt x="7697" y="7098"/>
                  <a:pt x="7699" y="7073"/>
                  <a:pt x="7700" y="7048"/>
                </a:cubicBezTo>
              </a:path>
              <a:path w="2368" h="989">
                <a:moveTo>
                  <a:pt x="8207" y="6624"/>
                </a:moveTo>
                <a:cubicBezTo>
                  <a:pt x="8237" y="6596"/>
                  <a:pt x="8266" y="6555"/>
                  <a:pt x="8281" y="6516"/>
                </a:cubicBezTo>
                <a:cubicBezTo>
                  <a:pt x="8295" y="6481"/>
                  <a:pt x="8304" y="6438"/>
                  <a:pt x="8308" y="6400"/>
                </a:cubicBezTo>
                <a:cubicBezTo>
                  <a:pt x="8262" y="6438"/>
                  <a:pt x="8235" y="6494"/>
                  <a:pt x="8208" y="6548"/>
                </a:cubicBezTo>
                <a:cubicBezTo>
                  <a:pt x="8173" y="6618"/>
                  <a:pt x="8138" y="6696"/>
                  <a:pt x="8141" y="6776"/>
                </a:cubicBezTo>
                <a:cubicBezTo>
                  <a:pt x="8144" y="6842"/>
                  <a:pt x="8212" y="6835"/>
                  <a:pt x="8258" y="6821"/>
                </a:cubicBezTo>
                <a:cubicBezTo>
                  <a:pt x="8312" y="6798"/>
                  <a:pt x="8331" y="6790"/>
                  <a:pt x="8364" y="6767"/>
                </a:cubicBezTo>
              </a:path>
              <a:path w="2368" h="989">
                <a:moveTo>
                  <a:pt x="8543" y="6463"/>
                </a:moveTo>
                <a:cubicBezTo>
                  <a:pt x="8512" y="6478"/>
                  <a:pt x="8512" y="6493"/>
                  <a:pt x="8498" y="6523"/>
                </a:cubicBezTo>
                <a:cubicBezTo>
                  <a:pt x="8476" y="6570"/>
                  <a:pt x="8463" y="6619"/>
                  <a:pt x="8458" y="6671"/>
                </a:cubicBezTo>
                <a:cubicBezTo>
                  <a:pt x="8455" y="6705"/>
                  <a:pt x="8451" y="6760"/>
                  <a:pt x="8480" y="6786"/>
                </a:cubicBezTo>
                <a:cubicBezTo>
                  <a:pt x="8504" y="6807"/>
                  <a:pt x="8545" y="6786"/>
                  <a:pt x="8564" y="6770"/>
                </a:cubicBezTo>
                <a:cubicBezTo>
                  <a:pt x="8620" y="6723"/>
                  <a:pt x="8637" y="6654"/>
                  <a:pt x="8622" y="6584"/>
                </a:cubicBezTo>
                <a:cubicBezTo>
                  <a:pt x="8610" y="6530"/>
                  <a:pt x="8582" y="6487"/>
                  <a:pt x="8560" y="6438"/>
                </a:cubicBezTo>
              </a:path>
              <a:path w="2368" h="989">
                <a:moveTo>
                  <a:pt x="8730" y="6499"/>
                </a:moveTo>
                <a:cubicBezTo>
                  <a:pt x="8749" y="6536"/>
                  <a:pt x="8753" y="6569"/>
                  <a:pt x="8761" y="6610"/>
                </a:cubicBezTo>
                <a:cubicBezTo>
                  <a:pt x="8769" y="6652"/>
                  <a:pt x="8769" y="6696"/>
                  <a:pt x="8778" y="6738"/>
                </a:cubicBezTo>
                <a:cubicBezTo>
                  <a:pt x="8780" y="6742"/>
                  <a:pt x="8781" y="6746"/>
                  <a:pt x="8783" y="6750"/>
                </a:cubicBezTo>
                <a:cubicBezTo>
                  <a:pt x="8808" y="6714"/>
                  <a:pt x="8820" y="6674"/>
                  <a:pt x="8837" y="6633"/>
                </a:cubicBezTo>
                <a:cubicBezTo>
                  <a:pt x="8854" y="6590"/>
                  <a:pt x="8866" y="6557"/>
                  <a:pt x="8904" y="6532"/>
                </a:cubicBezTo>
                <a:cubicBezTo>
                  <a:pt x="8939" y="6561"/>
                  <a:pt x="8952" y="6597"/>
                  <a:pt x="8974" y="6636"/>
                </a:cubicBezTo>
                <a:cubicBezTo>
                  <a:pt x="8998" y="6679"/>
                  <a:pt x="9035" y="6735"/>
                  <a:pt x="9083" y="6754"/>
                </a:cubicBezTo>
                <a:cubicBezTo>
                  <a:pt x="9093" y="6756"/>
                  <a:pt x="9103" y="6757"/>
                  <a:pt x="9113" y="6759"/>
                </a:cubicBezTo>
              </a:path>
              <a:path w="2368" h="989">
                <a:moveTo>
                  <a:pt x="9298" y="6526"/>
                </a:moveTo>
                <a:cubicBezTo>
                  <a:pt x="9297" y="6506"/>
                  <a:pt x="9290" y="6486"/>
                  <a:pt x="9262" y="6488"/>
                </a:cubicBezTo>
                <a:cubicBezTo>
                  <a:pt x="9241" y="6489"/>
                  <a:pt x="9214" y="6510"/>
                  <a:pt x="9201" y="6526"/>
                </a:cubicBezTo>
                <a:cubicBezTo>
                  <a:pt x="9184" y="6547"/>
                  <a:pt x="9183" y="6566"/>
                  <a:pt x="9200" y="6587"/>
                </a:cubicBezTo>
                <a:cubicBezTo>
                  <a:pt x="9240" y="6639"/>
                  <a:pt x="9298" y="6674"/>
                  <a:pt x="9337" y="6728"/>
                </a:cubicBezTo>
                <a:cubicBezTo>
                  <a:pt x="9354" y="6752"/>
                  <a:pt x="9380" y="6791"/>
                  <a:pt x="9357" y="6820"/>
                </a:cubicBezTo>
                <a:cubicBezTo>
                  <a:pt x="9338" y="6844"/>
                  <a:pt x="9300" y="6843"/>
                  <a:pt x="9274" y="6837"/>
                </a:cubicBezTo>
                <a:cubicBezTo>
                  <a:pt x="9251" y="6829"/>
                  <a:pt x="9243" y="6825"/>
                  <a:pt x="9229" y="681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4121280" y="2282760"/>
            <a:ext cx="809640" cy="190440"/>
          </a:xfrm>
          <a:custGeom>
            <a:avLst/>
            <a:gdLst/>
            <a:ahLst/>
            <a:rect l="l" t="t" r="r" b="b"/>
            <a:pathLst>
              <a:path w="2248" h="529">
                <a:moveTo>
                  <a:pt x="11574" y="6528"/>
                </a:moveTo>
                <a:cubicBezTo>
                  <a:pt x="11559" y="6515"/>
                  <a:pt x="11538" y="6495"/>
                  <a:pt x="11516" y="6511"/>
                </a:cubicBezTo>
                <a:cubicBezTo>
                  <a:pt x="11485" y="6534"/>
                  <a:pt x="11465" y="6586"/>
                  <a:pt x="11457" y="6622"/>
                </a:cubicBezTo>
                <a:cubicBezTo>
                  <a:pt x="11447" y="6667"/>
                  <a:pt x="11438" y="6729"/>
                  <a:pt x="11454" y="6774"/>
                </a:cubicBezTo>
                <a:cubicBezTo>
                  <a:pt x="11467" y="6811"/>
                  <a:pt x="11496" y="6801"/>
                  <a:pt x="11518" y="6780"/>
                </a:cubicBezTo>
                <a:cubicBezTo>
                  <a:pt x="11551" y="6748"/>
                  <a:pt x="11567" y="6704"/>
                  <a:pt x="11590" y="6665"/>
                </a:cubicBezTo>
                <a:cubicBezTo>
                  <a:pt x="11592" y="6662"/>
                  <a:pt x="11594" y="6658"/>
                  <a:pt x="11596" y="6655"/>
                </a:cubicBezTo>
                <a:cubicBezTo>
                  <a:pt x="11614" y="6671"/>
                  <a:pt x="11610" y="6690"/>
                  <a:pt x="11620" y="6712"/>
                </a:cubicBezTo>
                <a:cubicBezTo>
                  <a:pt x="11633" y="6739"/>
                  <a:pt x="11646" y="6745"/>
                  <a:pt x="11673" y="6745"/>
                </a:cubicBezTo>
              </a:path>
              <a:path w="2248" h="529">
                <a:moveTo>
                  <a:pt x="11770" y="6381"/>
                </a:moveTo>
                <a:cubicBezTo>
                  <a:pt x="11762" y="6364"/>
                  <a:pt x="11769" y="6465"/>
                  <a:pt x="11771" y="6484"/>
                </a:cubicBezTo>
                <a:cubicBezTo>
                  <a:pt x="11779" y="6563"/>
                  <a:pt x="11792" y="6644"/>
                  <a:pt x="11808" y="6722"/>
                </a:cubicBezTo>
                <a:cubicBezTo>
                  <a:pt x="11817" y="6757"/>
                  <a:pt x="11819" y="6765"/>
                  <a:pt x="11824" y="6787"/>
                </a:cubicBezTo>
              </a:path>
              <a:path w="2248" h="529">
                <a:moveTo>
                  <a:pt x="11756" y="6603"/>
                </a:moveTo>
                <a:cubicBezTo>
                  <a:pt x="11752" y="6576"/>
                  <a:pt x="11749" y="6559"/>
                  <a:pt x="11777" y="6545"/>
                </a:cubicBezTo>
                <a:cubicBezTo>
                  <a:pt x="11814" y="6527"/>
                  <a:pt x="11860" y="6529"/>
                  <a:pt x="11900" y="6529"/>
                </a:cubicBezTo>
                <a:cubicBezTo>
                  <a:pt x="11915" y="6530"/>
                  <a:pt x="11929" y="6530"/>
                  <a:pt x="11944" y="6531"/>
                </a:cubicBezTo>
              </a:path>
              <a:path w="2248" h="529">
                <a:moveTo>
                  <a:pt x="12422" y="6578"/>
                </a:moveTo>
                <a:cubicBezTo>
                  <a:pt x="12407" y="6562"/>
                  <a:pt x="12381" y="6535"/>
                  <a:pt x="12356" y="6535"/>
                </a:cubicBezTo>
                <a:cubicBezTo>
                  <a:pt x="12341" y="6535"/>
                  <a:pt x="12317" y="6551"/>
                  <a:pt x="12309" y="6564"/>
                </a:cubicBezTo>
                <a:cubicBezTo>
                  <a:pt x="12304" y="6576"/>
                  <a:pt x="12302" y="6579"/>
                  <a:pt x="12301" y="6587"/>
                </a:cubicBezTo>
                <a:cubicBezTo>
                  <a:pt x="12328" y="6601"/>
                  <a:pt x="12347" y="6593"/>
                  <a:pt x="12378" y="6593"/>
                </a:cubicBezTo>
                <a:cubicBezTo>
                  <a:pt x="12413" y="6593"/>
                  <a:pt x="12461" y="6603"/>
                  <a:pt x="12486" y="6630"/>
                </a:cubicBezTo>
                <a:cubicBezTo>
                  <a:pt x="12517" y="6664"/>
                  <a:pt x="12512" y="6715"/>
                  <a:pt x="12498" y="6754"/>
                </a:cubicBezTo>
                <a:cubicBezTo>
                  <a:pt x="12481" y="6801"/>
                  <a:pt x="12431" y="6856"/>
                  <a:pt x="12380" y="6869"/>
                </a:cubicBezTo>
                <a:cubicBezTo>
                  <a:pt x="12358" y="6869"/>
                  <a:pt x="12352" y="6870"/>
                  <a:pt x="12340" y="6862"/>
                </a:cubicBezTo>
                <a:cubicBezTo>
                  <a:pt x="12338" y="6830"/>
                  <a:pt x="12344" y="6824"/>
                  <a:pt x="12360" y="6794"/>
                </a:cubicBezTo>
              </a:path>
              <a:path w="2248" h="529">
                <a:moveTo>
                  <a:pt x="12820" y="6565"/>
                </a:moveTo>
                <a:cubicBezTo>
                  <a:pt x="12805" y="6591"/>
                  <a:pt x="12773" y="6618"/>
                  <a:pt x="12748" y="6637"/>
                </a:cubicBezTo>
                <a:cubicBezTo>
                  <a:pt x="12705" y="6669"/>
                  <a:pt x="12667" y="6701"/>
                  <a:pt x="12648" y="6754"/>
                </a:cubicBezTo>
                <a:cubicBezTo>
                  <a:pt x="12634" y="6791"/>
                  <a:pt x="12644" y="6825"/>
                  <a:pt x="12687" y="6828"/>
                </a:cubicBezTo>
                <a:cubicBezTo>
                  <a:pt x="12737" y="6832"/>
                  <a:pt x="12786" y="6797"/>
                  <a:pt x="12824" y="6769"/>
                </a:cubicBezTo>
                <a:cubicBezTo>
                  <a:pt x="12859" y="6743"/>
                  <a:pt x="12886" y="6708"/>
                  <a:pt x="12920" y="6681"/>
                </a:cubicBezTo>
                <a:cubicBezTo>
                  <a:pt x="12924" y="6679"/>
                  <a:pt x="12928" y="6676"/>
                  <a:pt x="12932" y="6674"/>
                </a:cubicBezTo>
                <a:cubicBezTo>
                  <a:pt x="12952" y="6697"/>
                  <a:pt x="12946" y="6713"/>
                  <a:pt x="12951" y="6743"/>
                </a:cubicBezTo>
                <a:cubicBezTo>
                  <a:pt x="12956" y="6774"/>
                  <a:pt x="12952" y="6796"/>
                  <a:pt x="12980" y="6803"/>
                </a:cubicBezTo>
              </a:path>
              <a:path w="2248" h="529">
                <a:moveTo>
                  <a:pt x="13036" y="6673"/>
                </a:moveTo>
                <a:cubicBezTo>
                  <a:pt x="13037" y="6669"/>
                  <a:pt x="13039" y="6664"/>
                  <a:pt x="13040" y="6660"/>
                </a:cubicBezTo>
                <a:cubicBezTo>
                  <a:pt x="13042" y="6677"/>
                  <a:pt x="13042" y="6697"/>
                  <a:pt x="13046" y="6713"/>
                </a:cubicBezTo>
                <a:cubicBezTo>
                  <a:pt x="13050" y="6729"/>
                  <a:pt x="13056" y="6744"/>
                  <a:pt x="13063" y="6759"/>
                </a:cubicBezTo>
                <a:cubicBezTo>
                  <a:pt x="13092" y="6754"/>
                  <a:pt x="13101" y="6724"/>
                  <a:pt x="13114" y="6694"/>
                </a:cubicBezTo>
                <a:cubicBezTo>
                  <a:pt x="13129" y="6658"/>
                  <a:pt x="13145" y="6628"/>
                  <a:pt x="13170" y="6597"/>
                </a:cubicBezTo>
                <a:cubicBezTo>
                  <a:pt x="13191" y="6611"/>
                  <a:pt x="13193" y="6634"/>
                  <a:pt x="13191" y="6663"/>
                </a:cubicBezTo>
                <a:cubicBezTo>
                  <a:pt x="13190" y="6679"/>
                  <a:pt x="13187" y="6695"/>
                  <a:pt x="13184" y="6710"/>
                </a:cubicBezTo>
                <a:cubicBezTo>
                  <a:pt x="13186" y="6689"/>
                  <a:pt x="13189" y="6669"/>
                  <a:pt x="13199" y="6649"/>
                </a:cubicBezTo>
                <a:cubicBezTo>
                  <a:pt x="13211" y="6626"/>
                  <a:pt x="13222" y="6626"/>
                  <a:pt x="13242" y="6639"/>
                </a:cubicBezTo>
                <a:cubicBezTo>
                  <a:pt x="13273" y="6659"/>
                  <a:pt x="13296" y="6691"/>
                  <a:pt x="13330" y="6707"/>
                </a:cubicBezTo>
                <a:cubicBezTo>
                  <a:pt x="13336" y="6709"/>
                  <a:pt x="13343" y="6711"/>
                  <a:pt x="13349" y="6713"/>
                </a:cubicBezTo>
              </a:path>
              <a:path w="2248" h="529">
                <a:moveTo>
                  <a:pt x="13525" y="6659"/>
                </a:moveTo>
                <a:cubicBezTo>
                  <a:pt x="13545" y="6641"/>
                  <a:pt x="13571" y="6616"/>
                  <a:pt x="13585" y="6594"/>
                </a:cubicBezTo>
                <a:cubicBezTo>
                  <a:pt x="13594" y="6572"/>
                  <a:pt x="13597" y="6565"/>
                  <a:pt x="13610" y="6555"/>
                </a:cubicBezTo>
                <a:cubicBezTo>
                  <a:pt x="13629" y="6506"/>
                  <a:pt x="13578" y="6624"/>
                  <a:pt x="13574" y="6634"/>
                </a:cubicBezTo>
                <a:cubicBezTo>
                  <a:pt x="13558" y="6674"/>
                  <a:pt x="13536" y="6726"/>
                  <a:pt x="13549" y="6770"/>
                </a:cubicBezTo>
                <a:cubicBezTo>
                  <a:pt x="13559" y="6805"/>
                  <a:pt x="13611" y="6798"/>
                  <a:pt x="13636" y="6791"/>
                </a:cubicBezTo>
                <a:cubicBezTo>
                  <a:pt x="13666" y="6780"/>
                  <a:pt x="13676" y="6777"/>
                  <a:pt x="13694" y="6767"/>
                </a:cubicBezTo>
              </a:path>
              <a:path w="2248" h="529">
                <a:moveTo>
                  <a:pt x="12261" y="6404"/>
                </a:moveTo>
                <a:cubicBezTo>
                  <a:pt x="12216" y="6406"/>
                  <a:pt x="12171" y="6406"/>
                  <a:pt x="12126" y="6408"/>
                </a:cubicBezTo>
                <a:cubicBezTo>
                  <a:pt x="12069" y="6400"/>
                  <a:pt x="12198" y="6407"/>
                  <a:pt x="12206" y="6406"/>
                </a:cubicBezTo>
                <a:cubicBezTo>
                  <a:pt x="12319" y="6396"/>
                  <a:pt x="12431" y="6387"/>
                  <a:pt x="12544" y="6377"/>
                </a:cubicBezTo>
                <a:cubicBezTo>
                  <a:pt x="12676" y="6365"/>
                  <a:pt x="12808" y="6352"/>
                  <a:pt x="12941" y="6347"/>
                </a:cubicBezTo>
                <a:cubicBezTo>
                  <a:pt x="13030" y="6343"/>
                  <a:pt x="13121" y="6340"/>
                  <a:pt x="13210" y="6341"/>
                </a:cubicBezTo>
                <a:cubicBezTo>
                  <a:pt x="13269" y="6341"/>
                  <a:pt x="13327" y="6348"/>
                  <a:pt x="13386" y="634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5121360" y="2274840"/>
            <a:ext cx="274680" cy="174600"/>
          </a:xfrm>
          <a:custGeom>
            <a:avLst/>
            <a:gdLst/>
            <a:ahLst/>
            <a:rect l="l" t="t" r="r" b="b"/>
            <a:pathLst>
              <a:path w="760" h="486">
                <a:moveTo>
                  <a:pt x="14308" y="6628"/>
                </a:moveTo>
                <a:cubicBezTo>
                  <a:pt x="14286" y="6609"/>
                  <a:pt x="14266" y="6587"/>
                  <a:pt x="14243" y="6568"/>
                </a:cubicBezTo>
                <a:cubicBezTo>
                  <a:pt x="14238" y="6564"/>
                  <a:pt x="14232" y="6560"/>
                  <a:pt x="14227" y="6556"/>
                </a:cubicBezTo>
                <a:cubicBezTo>
                  <a:pt x="14235" y="6591"/>
                  <a:pt x="14248" y="6623"/>
                  <a:pt x="14261" y="6656"/>
                </a:cubicBezTo>
                <a:cubicBezTo>
                  <a:pt x="14276" y="6696"/>
                  <a:pt x="14290" y="6741"/>
                  <a:pt x="14311" y="6778"/>
                </a:cubicBezTo>
                <a:cubicBezTo>
                  <a:pt x="14314" y="6782"/>
                  <a:pt x="14317" y="6786"/>
                  <a:pt x="14320" y="6790"/>
                </a:cubicBezTo>
                <a:cubicBezTo>
                  <a:pt x="14345" y="6759"/>
                  <a:pt x="14354" y="6726"/>
                  <a:pt x="14367" y="6688"/>
                </a:cubicBezTo>
                <a:cubicBezTo>
                  <a:pt x="14381" y="6647"/>
                  <a:pt x="14391" y="6603"/>
                  <a:pt x="14431" y="6583"/>
                </a:cubicBezTo>
                <a:cubicBezTo>
                  <a:pt x="14454" y="6604"/>
                  <a:pt x="14463" y="6631"/>
                  <a:pt x="14476" y="6660"/>
                </a:cubicBezTo>
                <a:cubicBezTo>
                  <a:pt x="14490" y="6692"/>
                  <a:pt x="14510" y="6737"/>
                  <a:pt x="14540" y="6758"/>
                </a:cubicBezTo>
                <a:cubicBezTo>
                  <a:pt x="14559" y="6766"/>
                  <a:pt x="14564" y="6769"/>
                  <a:pt x="14578" y="6767"/>
                </a:cubicBezTo>
              </a:path>
              <a:path w="760" h="486">
                <a:moveTo>
                  <a:pt x="14692" y="6623"/>
                </a:moveTo>
                <a:cubicBezTo>
                  <a:pt x="14658" y="6658"/>
                  <a:pt x="14631" y="6696"/>
                  <a:pt x="14616" y="6742"/>
                </a:cubicBezTo>
                <a:cubicBezTo>
                  <a:pt x="14610" y="6761"/>
                  <a:pt x="14602" y="6796"/>
                  <a:pt x="14630" y="6802"/>
                </a:cubicBezTo>
                <a:cubicBezTo>
                  <a:pt x="14658" y="6808"/>
                  <a:pt x="14694" y="6778"/>
                  <a:pt x="14713" y="6761"/>
                </a:cubicBezTo>
                <a:cubicBezTo>
                  <a:pt x="14744" y="6732"/>
                  <a:pt x="14765" y="6696"/>
                  <a:pt x="14786" y="6660"/>
                </a:cubicBezTo>
                <a:cubicBezTo>
                  <a:pt x="14803" y="6632"/>
                  <a:pt x="14812" y="6609"/>
                  <a:pt x="14822" y="6578"/>
                </a:cubicBezTo>
              </a:path>
              <a:path w="760" h="486">
                <a:moveTo>
                  <a:pt x="14844" y="6317"/>
                </a:moveTo>
                <a:cubicBezTo>
                  <a:pt x="14854" y="6357"/>
                  <a:pt x="14853" y="6408"/>
                  <a:pt x="14854" y="6450"/>
                </a:cubicBezTo>
                <a:cubicBezTo>
                  <a:pt x="14855" y="6520"/>
                  <a:pt x="14863" y="6588"/>
                  <a:pt x="14870" y="6658"/>
                </a:cubicBezTo>
                <a:cubicBezTo>
                  <a:pt x="14873" y="6685"/>
                  <a:pt x="14875" y="6706"/>
                  <a:pt x="14871" y="6732"/>
                </a:cubicBezTo>
              </a:path>
              <a:path w="760" h="486">
                <a:moveTo>
                  <a:pt x="14760" y="6572"/>
                </a:moveTo>
                <a:cubicBezTo>
                  <a:pt x="14776" y="6532"/>
                  <a:pt x="14791" y="6520"/>
                  <a:pt x="14830" y="6500"/>
                </a:cubicBezTo>
                <a:cubicBezTo>
                  <a:pt x="14878" y="6475"/>
                  <a:pt x="14933" y="6469"/>
                  <a:pt x="14986" y="646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5526000" y="2255760"/>
            <a:ext cx="652680" cy="254160"/>
          </a:xfrm>
          <a:custGeom>
            <a:avLst/>
            <a:gdLst/>
            <a:ahLst/>
            <a:rect l="l" t="t" r="r" b="b"/>
            <a:pathLst>
              <a:path w="1810" h="707">
                <a:moveTo>
                  <a:pt x="15356" y="6615"/>
                </a:moveTo>
                <a:cubicBezTo>
                  <a:pt x="15350" y="6652"/>
                  <a:pt x="15358" y="6696"/>
                  <a:pt x="15366" y="6733"/>
                </a:cubicBezTo>
                <a:cubicBezTo>
                  <a:pt x="15380" y="6796"/>
                  <a:pt x="15400" y="6859"/>
                  <a:pt x="15418" y="6922"/>
                </a:cubicBezTo>
                <a:cubicBezTo>
                  <a:pt x="15426" y="6949"/>
                  <a:pt x="15428" y="6954"/>
                  <a:pt x="15431" y="6971"/>
                </a:cubicBezTo>
                <a:cubicBezTo>
                  <a:pt x="15417" y="6877"/>
                  <a:pt x="15423" y="6783"/>
                  <a:pt x="15452" y="6691"/>
                </a:cubicBezTo>
                <a:cubicBezTo>
                  <a:pt x="15471" y="6629"/>
                  <a:pt x="15498" y="6560"/>
                  <a:pt x="15543" y="6512"/>
                </a:cubicBezTo>
                <a:cubicBezTo>
                  <a:pt x="15563" y="6496"/>
                  <a:pt x="15567" y="6491"/>
                  <a:pt x="15584" y="6492"/>
                </a:cubicBezTo>
                <a:cubicBezTo>
                  <a:pt x="15611" y="6526"/>
                  <a:pt x="15606" y="6556"/>
                  <a:pt x="15593" y="6598"/>
                </a:cubicBezTo>
                <a:cubicBezTo>
                  <a:pt x="15575" y="6656"/>
                  <a:pt x="15540" y="6704"/>
                  <a:pt x="15492" y="6740"/>
                </a:cubicBezTo>
                <a:cubicBezTo>
                  <a:pt x="15461" y="6764"/>
                  <a:pt x="15446" y="6766"/>
                  <a:pt x="15411" y="6764"/>
                </a:cubicBezTo>
                <a:cubicBezTo>
                  <a:pt x="15405" y="6726"/>
                  <a:pt x="15423" y="6710"/>
                  <a:pt x="15447" y="6680"/>
                </a:cubicBezTo>
              </a:path>
              <a:path w="1810" h="707">
                <a:moveTo>
                  <a:pt x="15749" y="6546"/>
                </a:moveTo>
                <a:cubicBezTo>
                  <a:pt x="15753" y="6575"/>
                  <a:pt x="15736" y="6586"/>
                  <a:pt x="15729" y="6613"/>
                </a:cubicBezTo>
                <a:cubicBezTo>
                  <a:pt x="15724" y="6633"/>
                  <a:pt x="15720" y="6673"/>
                  <a:pt x="15740" y="6687"/>
                </a:cubicBezTo>
                <a:cubicBezTo>
                  <a:pt x="15764" y="6703"/>
                  <a:pt x="15810" y="6666"/>
                  <a:pt x="15826" y="6653"/>
                </a:cubicBezTo>
                <a:cubicBezTo>
                  <a:pt x="15856" y="6628"/>
                  <a:pt x="15883" y="6598"/>
                  <a:pt x="15892" y="6560"/>
                </a:cubicBezTo>
                <a:cubicBezTo>
                  <a:pt x="15898" y="6534"/>
                  <a:pt x="15876" y="6523"/>
                  <a:pt x="15854" y="6522"/>
                </a:cubicBezTo>
                <a:cubicBezTo>
                  <a:pt x="15830" y="6521"/>
                  <a:pt x="15807" y="6525"/>
                  <a:pt x="15783" y="6525"/>
                </a:cubicBezTo>
              </a:path>
              <a:path w="1810" h="707">
                <a:moveTo>
                  <a:pt x="16039" y="6460"/>
                </a:moveTo>
                <a:cubicBezTo>
                  <a:pt x="16035" y="6496"/>
                  <a:pt x="16007" y="6494"/>
                  <a:pt x="15980" y="6515"/>
                </a:cubicBezTo>
                <a:cubicBezTo>
                  <a:pt x="15958" y="6532"/>
                  <a:pt x="15939" y="6549"/>
                  <a:pt x="15931" y="6576"/>
                </a:cubicBezTo>
                <a:cubicBezTo>
                  <a:pt x="15955" y="6594"/>
                  <a:pt x="15979" y="6594"/>
                  <a:pt x="16008" y="6602"/>
                </a:cubicBezTo>
                <a:cubicBezTo>
                  <a:pt x="16037" y="6611"/>
                  <a:pt x="16077" y="6623"/>
                  <a:pt x="16091" y="6654"/>
                </a:cubicBezTo>
                <a:cubicBezTo>
                  <a:pt x="16105" y="6684"/>
                  <a:pt x="16078" y="6716"/>
                  <a:pt x="16056" y="6734"/>
                </a:cubicBezTo>
                <a:cubicBezTo>
                  <a:pt x="16035" y="6751"/>
                  <a:pt x="16005" y="6771"/>
                  <a:pt x="15976" y="6760"/>
                </a:cubicBezTo>
                <a:cubicBezTo>
                  <a:pt x="15953" y="6751"/>
                  <a:pt x="15968" y="6731"/>
                  <a:pt x="15973" y="6718"/>
                </a:cubicBezTo>
              </a:path>
              <a:path w="1810" h="707">
                <a:moveTo>
                  <a:pt x="16247" y="6529"/>
                </a:moveTo>
                <a:cubicBezTo>
                  <a:pt x="16231" y="6549"/>
                  <a:pt x="16215" y="6564"/>
                  <a:pt x="16199" y="6583"/>
                </a:cubicBezTo>
                <a:cubicBezTo>
                  <a:pt x="16188" y="6596"/>
                  <a:pt x="16169" y="6620"/>
                  <a:pt x="16169" y="6638"/>
                </a:cubicBezTo>
                <a:cubicBezTo>
                  <a:pt x="16169" y="6660"/>
                  <a:pt x="16199" y="6685"/>
                  <a:pt x="16211" y="6701"/>
                </a:cubicBezTo>
                <a:cubicBezTo>
                  <a:pt x="16222" y="6715"/>
                  <a:pt x="16239" y="6736"/>
                  <a:pt x="16229" y="6756"/>
                </a:cubicBezTo>
                <a:cubicBezTo>
                  <a:pt x="16226" y="6759"/>
                  <a:pt x="16222" y="6762"/>
                  <a:pt x="16219" y="6765"/>
                </a:cubicBezTo>
                <a:cubicBezTo>
                  <a:pt x="16192" y="6755"/>
                  <a:pt x="16199" y="6740"/>
                  <a:pt x="16207" y="6714"/>
                </a:cubicBezTo>
              </a:path>
              <a:path w="1810" h="707">
                <a:moveTo>
                  <a:pt x="16428" y="6558"/>
                </a:moveTo>
                <a:cubicBezTo>
                  <a:pt x="16421" y="6576"/>
                  <a:pt x="16406" y="6601"/>
                  <a:pt x="16401" y="6619"/>
                </a:cubicBezTo>
                <a:cubicBezTo>
                  <a:pt x="16394" y="6646"/>
                  <a:pt x="16395" y="6679"/>
                  <a:pt x="16386" y="6705"/>
                </a:cubicBezTo>
                <a:cubicBezTo>
                  <a:pt x="16383" y="6709"/>
                  <a:pt x="16381" y="6713"/>
                  <a:pt x="16378" y="6717"/>
                </a:cubicBezTo>
              </a:path>
              <a:path w="1810" h="707">
                <a:moveTo>
                  <a:pt x="16383" y="6393"/>
                </a:moveTo>
                <a:cubicBezTo>
                  <a:pt x="16384" y="6363"/>
                  <a:pt x="16381" y="6332"/>
                  <a:pt x="16384" y="6302"/>
                </a:cubicBezTo>
                <a:cubicBezTo>
                  <a:pt x="16386" y="6282"/>
                  <a:pt x="16384" y="6279"/>
                  <a:pt x="16395" y="6265"/>
                </a:cubicBezTo>
              </a:path>
              <a:path w="1810" h="707">
                <a:moveTo>
                  <a:pt x="16482" y="6357"/>
                </a:moveTo>
                <a:cubicBezTo>
                  <a:pt x="16484" y="6399"/>
                  <a:pt x="16484" y="6442"/>
                  <a:pt x="16489" y="6483"/>
                </a:cubicBezTo>
                <a:cubicBezTo>
                  <a:pt x="16493" y="6519"/>
                  <a:pt x="16496" y="6558"/>
                  <a:pt x="16504" y="6593"/>
                </a:cubicBezTo>
                <a:cubicBezTo>
                  <a:pt x="16505" y="6597"/>
                  <a:pt x="16507" y="6600"/>
                  <a:pt x="16508" y="6604"/>
                </a:cubicBezTo>
                <a:cubicBezTo>
                  <a:pt x="16527" y="6581"/>
                  <a:pt x="16542" y="6552"/>
                  <a:pt x="16564" y="6531"/>
                </a:cubicBezTo>
                <a:cubicBezTo>
                  <a:pt x="16588" y="6508"/>
                  <a:pt x="16620" y="6491"/>
                  <a:pt x="16654" y="6496"/>
                </a:cubicBezTo>
                <a:cubicBezTo>
                  <a:pt x="16681" y="6500"/>
                  <a:pt x="16704" y="6530"/>
                  <a:pt x="16701" y="6558"/>
                </a:cubicBezTo>
                <a:cubicBezTo>
                  <a:pt x="16698" y="6594"/>
                  <a:pt x="16670" y="6620"/>
                  <a:pt x="16642" y="6638"/>
                </a:cubicBezTo>
                <a:cubicBezTo>
                  <a:pt x="16620" y="6653"/>
                  <a:pt x="16582" y="6664"/>
                  <a:pt x="16556" y="6649"/>
                </a:cubicBezTo>
                <a:cubicBezTo>
                  <a:pt x="16545" y="6637"/>
                  <a:pt x="16541" y="6633"/>
                  <a:pt x="16540" y="6622"/>
                </a:cubicBezTo>
              </a:path>
              <a:path w="1810" h="707">
                <a:moveTo>
                  <a:pt x="16790" y="6326"/>
                </a:moveTo>
                <a:cubicBezTo>
                  <a:pt x="16811" y="6349"/>
                  <a:pt x="16816" y="6375"/>
                  <a:pt x="16817" y="6408"/>
                </a:cubicBezTo>
                <a:cubicBezTo>
                  <a:pt x="16819" y="6448"/>
                  <a:pt x="16822" y="6481"/>
                  <a:pt x="16830" y="6521"/>
                </a:cubicBezTo>
                <a:cubicBezTo>
                  <a:pt x="16834" y="6542"/>
                  <a:pt x="16835" y="6549"/>
                  <a:pt x="16842" y="6561"/>
                </a:cubicBezTo>
              </a:path>
              <a:path w="1810" h="707">
                <a:moveTo>
                  <a:pt x="16961" y="6507"/>
                </a:moveTo>
                <a:cubicBezTo>
                  <a:pt x="16982" y="6483"/>
                  <a:pt x="16997" y="6451"/>
                  <a:pt x="17027" y="6436"/>
                </a:cubicBezTo>
                <a:cubicBezTo>
                  <a:pt x="17031" y="6435"/>
                  <a:pt x="17035" y="6434"/>
                  <a:pt x="17039" y="6433"/>
                </a:cubicBezTo>
                <a:cubicBezTo>
                  <a:pt x="17023" y="6460"/>
                  <a:pt x="17007" y="6486"/>
                  <a:pt x="16988" y="6512"/>
                </a:cubicBezTo>
                <a:cubicBezTo>
                  <a:pt x="16968" y="6540"/>
                  <a:pt x="16939" y="6567"/>
                  <a:pt x="16931" y="6601"/>
                </a:cubicBezTo>
                <a:cubicBezTo>
                  <a:pt x="16925" y="6625"/>
                  <a:pt x="16971" y="6630"/>
                  <a:pt x="16985" y="6633"/>
                </a:cubicBezTo>
                <a:cubicBezTo>
                  <a:pt x="17031" y="6644"/>
                  <a:pt x="17078" y="6647"/>
                  <a:pt x="17125" y="6651"/>
                </a:cubicBezTo>
                <a:cubicBezTo>
                  <a:pt x="17137" y="6652"/>
                  <a:pt x="17148" y="6653"/>
                  <a:pt x="17160" y="665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6518160" y="2292480"/>
            <a:ext cx="352440" cy="245880"/>
          </a:xfrm>
          <a:custGeom>
            <a:avLst/>
            <a:gdLst/>
            <a:ahLst/>
            <a:rect l="l" t="t" r="r" b="b"/>
            <a:pathLst>
              <a:path w="980" h="681">
                <a:moveTo>
                  <a:pt x="18127" y="6760"/>
                </a:moveTo>
                <a:cubicBezTo>
                  <a:pt x="18100" y="6749"/>
                  <a:pt x="18111" y="6777"/>
                  <a:pt x="18112" y="6800"/>
                </a:cubicBezTo>
                <a:cubicBezTo>
                  <a:pt x="18113" y="6844"/>
                  <a:pt x="18120" y="6887"/>
                  <a:pt x="18128" y="6931"/>
                </a:cubicBezTo>
                <a:cubicBezTo>
                  <a:pt x="18133" y="6959"/>
                  <a:pt x="18140" y="6983"/>
                  <a:pt x="18150" y="7009"/>
                </a:cubicBezTo>
                <a:cubicBezTo>
                  <a:pt x="18186" y="6996"/>
                  <a:pt x="18187" y="6965"/>
                  <a:pt x="18200" y="6927"/>
                </a:cubicBezTo>
                <a:cubicBezTo>
                  <a:pt x="18212" y="6892"/>
                  <a:pt x="18221" y="6858"/>
                  <a:pt x="18237" y="6825"/>
                </a:cubicBezTo>
                <a:cubicBezTo>
                  <a:pt x="18251" y="6848"/>
                  <a:pt x="18253" y="6877"/>
                  <a:pt x="18262" y="6904"/>
                </a:cubicBezTo>
                <a:cubicBezTo>
                  <a:pt x="18270" y="6927"/>
                  <a:pt x="18280" y="6969"/>
                  <a:pt x="18312" y="6961"/>
                </a:cubicBezTo>
                <a:cubicBezTo>
                  <a:pt x="18342" y="6953"/>
                  <a:pt x="18361" y="6918"/>
                  <a:pt x="18374" y="6893"/>
                </a:cubicBezTo>
                <a:cubicBezTo>
                  <a:pt x="18389" y="6863"/>
                  <a:pt x="18394" y="6831"/>
                  <a:pt x="18401" y="6799"/>
                </a:cubicBezTo>
              </a:path>
              <a:path w="980" h="681">
                <a:moveTo>
                  <a:pt x="18486" y="6768"/>
                </a:moveTo>
                <a:cubicBezTo>
                  <a:pt x="18483" y="6823"/>
                  <a:pt x="18475" y="6877"/>
                  <a:pt x="18470" y="6931"/>
                </a:cubicBezTo>
                <a:cubicBezTo>
                  <a:pt x="18466" y="6975"/>
                  <a:pt x="18466" y="7006"/>
                  <a:pt x="18476" y="7049"/>
                </a:cubicBezTo>
                <a:cubicBezTo>
                  <a:pt x="18509" y="7042"/>
                  <a:pt x="18511" y="7015"/>
                  <a:pt x="18522" y="6985"/>
                </a:cubicBezTo>
              </a:path>
              <a:path w="980" h="681">
                <a:moveTo>
                  <a:pt x="18521" y="6736"/>
                </a:moveTo>
                <a:cubicBezTo>
                  <a:pt x="18511" y="6697"/>
                  <a:pt x="18496" y="6661"/>
                  <a:pt x="18484" y="6622"/>
                </a:cubicBezTo>
                <a:cubicBezTo>
                  <a:pt x="18476" y="6594"/>
                  <a:pt x="18478" y="6569"/>
                  <a:pt x="18485" y="6542"/>
                </a:cubicBezTo>
                <a:cubicBezTo>
                  <a:pt x="18487" y="6533"/>
                  <a:pt x="18490" y="6524"/>
                  <a:pt x="18492" y="6515"/>
                </a:cubicBezTo>
              </a:path>
              <a:path w="980" h="681">
                <a:moveTo>
                  <a:pt x="18597" y="6369"/>
                </a:moveTo>
                <a:cubicBezTo>
                  <a:pt x="18600" y="6423"/>
                  <a:pt x="18599" y="6478"/>
                  <a:pt x="18597" y="6532"/>
                </a:cubicBezTo>
                <a:cubicBezTo>
                  <a:pt x="18594" y="6627"/>
                  <a:pt x="18598" y="6725"/>
                  <a:pt x="18612" y="6820"/>
                </a:cubicBezTo>
                <a:cubicBezTo>
                  <a:pt x="18622" y="6885"/>
                  <a:pt x="18633" y="6950"/>
                  <a:pt x="18645" y="7015"/>
                </a:cubicBezTo>
                <a:cubicBezTo>
                  <a:pt x="18646" y="7019"/>
                  <a:pt x="18646" y="7022"/>
                  <a:pt x="18647" y="7026"/>
                </a:cubicBezTo>
              </a:path>
              <a:path w="980" h="681">
                <a:moveTo>
                  <a:pt x="18543" y="6840"/>
                </a:moveTo>
                <a:cubicBezTo>
                  <a:pt x="18552" y="6807"/>
                  <a:pt x="18552" y="6813"/>
                  <a:pt x="18585" y="6794"/>
                </a:cubicBezTo>
                <a:cubicBezTo>
                  <a:pt x="18629" y="6769"/>
                  <a:pt x="18671" y="6746"/>
                  <a:pt x="18712" y="6716"/>
                </a:cubicBezTo>
                <a:cubicBezTo>
                  <a:pt x="18756" y="6684"/>
                  <a:pt x="18779" y="6650"/>
                  <a:pt x="18798" y="6601"/>
                </a:cubicBezTo>
                <a:cubicBezTo>
                  <a:pt x="18807" y="6580"/>
                  <a:pt x="18810" y="6573"/>
                  <a:pt x="18806" y="6558"/>
                </a:cubicBezTo>
                <a:cubicBezTo>
                  <a:pt x="18781" y="6576"/>
                  <a:pt x="18792" y="6591"/>
                  <a:pt x="18793" y="6622"/>
                </a:cubicBezTo>
                <a:cubicBezTo>
                  <a:pt x="18797" y="6706"/>
                  <a:pt x="18806" y="6788"/>
                  <a:pt x="18821" y="6871"/>
                </a:cubicBezTo>
                <a:cubicBezTo>
                  <a:pt x="18829" y="6915"/>
                  <a:pt x="18839" y="6953"/>
                  <a:pt x="18855" y="6994"/>
                </a:cubicBezTo>
                <a:cubicBezTo>
                  <a:pt x="18880" y="6978"/>
                  <a:pt x="18890" y="6963"/>
                  <a:pt x="18904" y="6917"/>
                </a:cubicBezTo>
                <a:cubicBezTo>
                  <a:pt x="18916" y="6879"/>
                  <a:pt x="18924" y="6812"/>
                  <a:pt x="18962" y="6790"/>
                </a:cubicBezTo>
                <a:cubicBezTo>
                  <a:pt x="18999" y="6768"/>
                  <a:pt x="19022" y="6848"/>
                  <a:pt x="19031" y="6867"/>
                </a:cubicBezTo>
                <a:cubicBezTo>
                  <a:pt x="19048" y="6904"/>
                  <a:pt x="19066" y="6939"/>
                  <a:pt x="19086" y="697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7066080" y="2313000"/>
            <a:ext cx="1068120" cy="243000"/>
          </a:xfrm>
          <a:custGeom>
            <a:avLst/>
            <a:gdLst/>
            <a:ahLst/>
            <a:rect l="l" t="t" r="r" b="b"/>
            <a:pathLst>
              <a:path w="2968" h="674">
                <a:moveTo>
                  <a:pt x="19628" y="6728"/>
                </a:moveTo>
                <a:cubicBezTo>
                  <a:pt x="19644" y="6768"/>
                  <a:pt x="19645" y="6809"/>
                  <a:pt x="19652" y="6851"/>
                </a:cubicBezTo>
                <a:cubicBezTo>
                  <a:pt x="19662" y="6905"/>
                  <a:pt x="19671" y="6964"/>
                  <a:pt x="19690" y="7016"/>
                </a:cubicBezTo>
                <a:cubicBezTo>
                  <a:pt x="19699" y="7036"/>
                  <a:pt x="19700" y="7041"/>
                  <a:pt x="19713" y="7048"/>
                </a:cubicBezTo>
                <a:cubicBezTo>
                  <a:pt x="19747" y="7024"/>
                  <a:pt x="19754" y="6989"/>
                  <a:pt x="19772" y="6951"/>
                </a:cubicBezTo>
                <a:cubicBezTo>
                  <a:pt x="19796" y="6901"/>
                  <a:pt x="19821" y="6840"/>
                  <a:pt x="19862" y="6801"/>
                </a:cubicBezTo>
                <a:cubicBezTo>
                  <a:pt x="19900" y="6765"/>
                  <a:pt x="19928" y="6803"/>
                  <a:pt x="19946" y="6837"/>
                </a:cubicBezTo>
                <a:cubicBezTo>
                  <a:pt x="19976" y="6896"/>
                  <a:pt x="19988" y="6963"/>
                  <a:pt x="20012" y="7024"/>
                </a:cubicBezTo>
                <a:cubicBezTo>
                  <a:pt x="20030" y="7071"/>
                  <a:pt x="20044" y="7095"/>
                  <a:pt x="20093" y="7092"/>
                </a:cubicBezTo>
              </a:path>
              <a:path w="2968" h="674">
                <a:moveTo>
                  <a:pt x="20406" y="6748"/>
                </a:moveTo>
                <a:cubicBezTo>
                  <a:pt x="20401" y="6788"/>
                  <a:pt x="20409" y="6817"/>
                  <a:pt x="20415" y="6857"/>
                </a:cubicBezTo>
                <a:cubicBezTo>
                  <a:pt x="20424" y="6920"/>
                  <a:pt x="20439" y="6981"/>
                  <a:pt x="20466" y="7039"/>
                </a:cubicBezTo>
                <a:cubicBezTo>
                  <a:pt x="20484" y="7077"/>
                  <a:pt x="20511" y="7099"/>
                  <a:pt x="20546" y="7063"/>
                </a:cubicBezTo>
                <a:cubicBezTo>
                  <a:pt x="20590" y="7017"/>
                  <a:pt x="20614" y="6947"/>
                  <a:pt x="20642" y="6891"/>
                </a:cubicBezTo>
                <a:cubicBezTo>
                  <a:pt x="20668" y="6840"/>
                  <a:pt x="20684" y="6791"/>
                  <a:pt x="20721" y="6747"/>
                </a:cubicBezTo>
                <a:cubicBezTo>
                  <a:pt x="20729" y="6739"/>
                  <a:pt x="20732" y="6735"/>
                  <a:pt x="20740" y="6740"/>
                </a:cubicBezTo>
              </a:path>
              <a:path w="2968" h="674">
                <a:moveTo>
                  <a:pt x="20841" y="6943"/>
                </a:moveTo>
                <a:cubicBezTo>
                  <a:pt x="20861" y="6955"/>
                  <a:pt x="20882" y="6959"/>
                  <a:pt x="20898" y="6933"/>
                </a:cubicBezTo>
                <a:cubicBezTo>
                  <a:pt x="20922" y="6893"/>
                  <a:pt x="20942" y="6846"/>
                  <a:pt x="20951" y="6799"/>
                </a:cubicBezTo>
                <a:cubicBezTo>
                  <a:pt x="20956" y="6774"/>
                  <a:pt x="20969" y="6699"/>
                  <a:pt x="20935" y="6684"/>
                </a:cubicBezTo>
                <a:cubicBezTo>
                  <a:pt x="20929" y="6684"/>
                  <a:pt x="20922" y="6685"/>
                  <a:pt x="20916" y="6685"/>
                </a:cubicBezTo>
                <a:cubicBezTo>
                  <a:pt x="20868" y="6717"/>
                  <a:pt x="20840" y="6756"/>
                  <a:pt x="20819" y="6812"/>
                </a:cubicBezTo>
                <a:cubicBezTo>
                  <a:pt x="20796" y="6873"/>
                  <a:pt x="20786" y="6947"/>
                  <a:pt x="20810" y="7009"/>
                </a:cubicBezTo>
                <a:cubicBezTo>
                  <a:pt x="20828" y="7054"/>
                  <a:pt x="20881" y="7070"/>
                  <a:pt x="20926" y="7056"/>
                </a:cubicBezTo>
                <a:cubicBezTo>
                  <a:pt x="20963" y="7044"/>
                  <a:pt x="20999" y="7014"/>
                  <a:pt x="21024" y="6986"/>
                </a:cubicBezTo>
                <a:cubicBezTo>
                  <a:pt x="21051" y="6955"/>
                  <a:pt x="21043" y="6972"/>
                  <a:pt x="21046" y="7004"/>
                </a:cubicBezTo>
                <a:cubicBezTo>
                  <a:pt x="21047" y="7021"/>
                  <a:pt x="21050" y="7034"/>
                  <a:pt x="21054" y="7050"/>
                </a:cubicBezTo>
                <a:cubicBezTo>
                  <a:pt x="21068" y="7008"/>
                  <a:pt x="21075" y="6967"/>
                  <a:pt x="21084" y="6924"/>
                </a:cubicBezTo>
                <a:cubicBezTo>
                  <a:pt x="21096" y="6866"/>
                  <a:pt x="21108" y="6819"/>
                  <a:pt x="21140" y="6769"/>
                </a:cubicBezTo>
                <a:cubicBezTo>
                  <a:pt x="21160" y="6741"/>
                  <a:pt x="21166" y="6732"/>
                  <a:pt x="21184" y="6717"/>
                </a:cubicBezTo>
              </a:path>
              <a:path w="2968" h="674">
                <a:moveTo>
                  <a:pt x="21364" y="6424"/>
                </a:moveTo>
                <a:cubicBezTo>
                  <a:pt x="21351" y="6488"/>
                  <a:pt x="21346" y="6548"/>
                  <a:pt x="21342" y="6613"/>
                </a:cubicBezTo>
                <a:cubicBezTo>
                  <a:pt x="21336" y="6706"/>
                  <a:pt x="21332" y="6805"/>
                  <a:pt x="21342" y="6898"/>
                </a:cubicBezTo>
                <a:cubicBezTo>
                  <a:pt x="21346" y="6934"/>
                  <a:pt x="21352" y="6969"/>
                  <a:pt x="21356" y="7005"/>
                </a:cubicBezTo>
              </a:path>
              <a:path w="2968" h="674">
                <a:moveTo>
                  <a:pt x="21240" y="6699"/>
                </a:moveTo>
                <a:cubicBezTo>
                  <a:pt x="21270" y="6690"/>
                  <a:pt x="21302" y="6698"/>
                  <a:pt x="21335" y="6699"/>
                </a:cubicBezTo>
                <a:cubicBezTo>
                  <a:pt x="21387" y="6700"/>
                  <a:pt x="21433" y="6686"/>
                  <a:pt x="21484" y="6680"/>
                </a:cubicBezTo>
                <a:cubicBezTo>
                  <a:pt x="21513" y="6677"/>
                  <a:pt x="21515" y="6697"/>
                  <a:pt x="21518" y="6721"/>
                </a:cubicBezTo>
                <a:cubicBezTo>
                  <a:pt x="21524" y="6774"/>
                  <a:pt x="21522" y="6828"/>
                  <a:pt x="21528" y="6881"/>
                </a:cubicBezTo>
                <a:cubicBezTo>
                  <a:pt x="21531" y="6911"/>
                  <a:pt x="21535" y="6940"/>
                  <a:pt x="21537" y="6970"/>
                </a:cubicBezTo>
              </a:path>
              <a:path w="2968" h="674">
                <a:moveTo>
                  <a:pt x="21563" y="6597"/>
                </a:moveTo>
                <a:cubicBezTo>
                  <a:pt x="21560" y="6582"/>
                  <a:pt x="21558" y="6568"/>
                  <a:pt x="21555" y="6553"/>
                </a:cubicBezTo>
                <a:cubicBezTo>
                  <a:pt x="21566" y="6559"/>
                  <a:pt x="21569" y="6561"/>
                  <a:pt x="21576" y="6566"/>
                </a:cubicBezTo>
              </a:path>
              <a:path w="2968" h="674">
                <a:moveTo>
                  <a:pt x="21792" y="6740"/>
                </a:moveTo>
                <a:cubicBezTo>
                  <a:pt x="21772" y="6750"/>
                  <a:pt x="21735" y="6764"/>
                  <a:pt x="21720" y="6778"/>
                </a:cubicBezTo>
                <a:cubicBezTo>
                  <a:pt x="21695" y="6801"/>
                  <a:pt x="21683" y="6841"/>
                  <a:pt x="21684" y="6873"/>
                </a:cubicBezTo>
                <a:cubicBezTo>
                  <a:pt x="21685" y="6913"/>
                  <a:pt x="21703" y="6941"/>
                  <a:pt x="21741" y="6954"/>
                </a:cubicBezTo>
                <a:cubicBezTo>
                  <a:pt x="21780" y="6967"/>
                  <a:pt x="21817" y="6959"/>
                  <a:pt x="21854" y="6945"/>
                </a:cubicBezTo>
                <a:cubicBezTo>
                  <a:pt x="21879" y="6935"/>
                  <a:pt x="21887" y="6932"/>
                  <a:pt x="21901" y="6921"/>
                </a:cubicBezTo>
              </a:path>
              <a:path w="2968" h="674">
                <a:moveTo>
                  <a:pt x="21935" y="6898"/>
                </a:moveTo>
                <a:cubicBezTo>
                  <a:pt x="21938" y="6882"/>
                  <a:pt x="21956" y="6854"/>
                  <a:pt x="21969" y="6840"/>
                </a:cubicBezTo>
                <a:cubicBezTo>
                  <a:pt x="21996" y="6812"/>
                  <a:pt x="22011" y="6787"/>
                  <a:pt x="22027" y="6752"/>
                </a:cubicBezTo>
                <a:cubicBezTo>
                  <a:pt x="22039" y="6724"/>
                  <a:pt x="22044" y="6709"/>
                  <a:pt x="22024" y="6686"/>
                </a:cubicBezTo>
                <a:cubicBezTo>
                  <a:pt x="21988" y="6698"/>
                  <a:pt x="21966" y="6716"/>
                  <a:pt x="21946" y="6750"/>
                </a:cubicBezTo>
                <a:cubicBezTo>
                  <a:pt x="21919" y="6796"/>
                  <a:pt x="21904" y="6851"/>
                  <a:pt x="21921" y="6902"/>
                </a:cubicBezTo>
                <a:cubicBezTo>
                  <a:pt x="21939" y="6957"/>
                  <a:pt x="21987" y="6944"/>
                  <a:pt x="22032" y="6940"/>
                </a:cubicBezTo>
              </a:path>
              <a:path w="2968" h="674">
                <a:moveTo>
                  <a:pt x="22316" y="6779"/>
                </a:moveTo>
                <a:cubicBezTo>
                  <a:pt x="22298" y="6757"/>
                  <a:pt x="22283" y="6772"/>
                  <a:pt x="22253" y="6778"/>
                </a:cubicBezTo>
                <a:cubicBezTo>
                  <a:pt x="22228" y="6783"/>
                  <a:pt x="22210" y="6789"/>
                  <a:pt x="22188" y="6801"/>
                </a:cubicBezTo>
                <a:cubicBezTo>
                  <a:pt x="22238" y="6831"/>
                  <a:pt x="22277" y="6865"/>
                  <a:pt x="22303" y="6918"/>
                </a:cubicBezTo>
                <a:cubicBezTo>
                  <a:pt x="22316" y="6944"/>
                  <a:pt x="22330" y="6981"/>
                  <a:pt x="22319" y="7010"/>
                </a:cubicBezTo>
                <a:cubicBezTo>
                  <a:pt x="22313" y="7027"/>
                  <a:pt x="22295" y="7043"/>
                  <a:pt x="22276" y="7044"/>
                </a:cubicBezTo>
                <a:cubicBezTo>
                  <a:pt x="22254" y="7045"/>
                  <a:pt x="22245" y="7018"/>
                  <a:pt x="22244" y="7000"/>
                </a:cubicBezTo>
                <a:cubicBezTo>
                  <a:pt x="22242" y="6965"/>
                  <a:pt x="22265" y="6928"/>
                  <a:pt x="22280" y="6898"/>
                </a:cubicBezTo>
              </a:path>
              <a:path w="2968" h="674">
                <a:moveTo>
                  <a:pt x="22581" y="6882"/>
                </a:moveTo>
                <a:cubicBezTo>
                  <a:pt x="22598" y="6869"/>
                  <a:pt x="22596" y="6854"/>
                  <a:pt x="22588" y="6829"/>
                </a:cubicBezTo>
                <a:cubicBezTo>
                  <a:pt x="22583" y="6813"/>
                  <a:pt x="22579" y="6797"/>
                  <a:pt x="22574" y="678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700200" y="2690640"/>
            <a:ext cx="804600" cy="374760"/>
          </a:xfrm>
          <a:custGeom>
            <a:avLst/>
            <a:gdLst/>
            <a:ahLst/>
            <a:rect l="l" t="t" r="r" b="b"/>
            <a:pathLst>
              <a:path w="2238" h="1040">
                <a:moveTo>
                  <a:pt x="2018" y="7838"/>
                </a:moveTo>
                <a:cubicBezTo>
                  <a:pt x="1963" y="7867"/>
                  <a:pt x="1962" y="7902"/>
                  <a:pt x="1953" y="7963"/>
                </a:cubicBezTo>
                <a:cubicBezTo>
                  <a:pt x="1938" y="8062"/>
                  <a:pt x="1960" y="8170"/>
                  <a:pt x="1994" y="8264"/>
                </a:cubicBezTo>
                <a:cubicBezTo>
                  <a:pt x="2017" y="8329"/>
                  <a:pt x="2053" y="8430"/>
                  <a:pt x="2107" y="8478"/>
                </a:cubicBezTo>
                <a:cubicBezTo>
                  <a:pt x="2116" y="8482"/>
                  <a:pt x="2124" y="8487"/>
                  <a:pt x="2133" y="8491"/>
                </a:cubicBezTo>
                <a:cubicBezTo>
                  <a:pt x="2146" y="8433"/>
                  <a:pt x="2143" y="8395"/>
                  <a:pt x="2134" y="8333"/>
                </a:cubicBezTo>
                <a:cubicBezTo>
                  <a:pt x="2116" y="8212"/>
                  <a:pt x="2095" y="8091"/>
                  <a:pt x="2080" y="7969"/>
                </a:cubicBezTo>
                <a:cubicBezTo>
                  <a:pt x="2067" y="7859"/>
                  <a:pt x="2049" y="7748"/>
                  <a:pt x="2052" y="7637"/>
                </a:cubicBezTo>
                <a:cubicBezTo>
                  <a:pt x="2057" y="7591"/>
                  <a:pt x="2058" y="7577"/>
                  <a:pt x="2067" y="7548"/>
                </a:cubicBezTo>
                <a:cubicBezTo>
                  <a:pt x="2125" y="7522"/>
                  <a:pt x="2149" y="7544"/>
                  <a:pt x="2190" y="7595"/>
                </a:cubicBezTo>
                <a:cubicBezTo>
                  <a:pt x="2265" y="7687"/>
                  <a:pt x="2313" y="7799"/>
                  <a:pt x="2337" y="7914"/>
                </a:cubicBezTo>
                <a:cubicBezTo>
                  <a:pt x="2365" y="8049"/>
                  <a:pt x="2361" y="8188"/>
                  <a:pt x="2308" y="8317"/>
                </a:cubicBezTo>
                <a:cubicBezTo>
                  <a:pt x="2280" y="8385"/>
                  <a:pt x="2214" y="8497"/>
                  <a:pt x="2132" y="8513"/>
                </a:cubicBezTo>
                <a:cubicBezTo>
                  <a:pt x="2120" y="8511"/>
                  <a:pt x="2107" y="8508"/>
                  <a:pt x="2095" y="8506"/>
                </a:cubicBezTo>
                <a:cubicBezTo>
                  <a:pt x="2072" y="8437"/>
                  <a:pt x="2095" y="8400"/>
                  <a:pt x="2124" y="8333"/>
                </a:cubicBezTo>
              </a:path>
              <a:path w="2238" h="1040">
                <a:moveTo>
                  <a:pt x="2492" y="8258"/>
                </a:moveTo>
                <a:cubicBezTo>
                  <a:pt x="2524" y="8288"/>
                  <a:pt x="2543" y="8318"/>
                  <a:pt x="2589" y="8308"/>
                </a:cubicBezTo>
                <a:cubicBezTo>
                  <a:pt x="2636" y="8298"/>
                  <a:pt x="2656" y="8247"/>
                  <a:pt x="2671" y="8205"/>
                </a:cubicBezTo>
                <a:cubicBezTo>
                  <a:pt x="2687" y="8162"/>
                  <a:pt x="2700" y="8103"/>
                  <a:pt x="2672" y="8060"/>
                </a:cubicBezTo>
                <a:cubicBezTo>
                  <a:pt x="2656" y="8048"/>
                  <a:pt x="2651" y="8044"/>
                  <a:pt x="2637" y="8050"/>
                </a:cubicBezTo>
                <a:cubicBezTo>
                  <a:pt x="2597" y="8093"/>
                  <a:pt x="2578" y="8139"/>
                  <a:pt x="2577" y="8200"/>
                </a:cubicBezTo>
                <a:cubicBezTo>
                  <a:pt x="2576" y="8322"/>
                  <a:pt x="2659" y="8430"/>
                  <a:pt x="2779" y="8451"/>
                </a:cubicBezTo>
                <a:cubicBezTo>
                  <a:pt x="2832" y="8454"/>
                  <a:pt x="2848" y="8455"/>
                  <a:pt x="2883" y="8449"/>
                </a:cubicBezTo>
              </a:path>
              <a:path w="2238" h="1040">
                <a:moveTo>
                  <a:pt x="2993" y="8411"/>
                </a:moveTo>
                <a:cubicBezTo>
                  <a:pt x="2947" y="8372"/>
                  <a:pt x="2923" y="8327"/>
                  <a:pt x="2904" y="8269"/>
                </a:cubicBezTo>
                <a:cubicBezTo>
                  <a:pt x="2833" y="8057"/>
                  <a:pt x="2819" y="7814"/>
                  <a:pt x="2849" y="7594"/>
                </a:cubicBezTo>
                <a:cubicBezTo>
                  <a:pt x="2857" y="7537"/>
                  <a:pt x="2866" y="7514"/>
                  <a:pt x="2901" y="7474"/>
                </a:cubicBezTo>
                <a:cubicBezTo>
                  <a:pt x="2954" y="7490"/>
                  <a:pt x="2990" y="7531"/>
                  <a:pt x="3023" y="7579"/>
                </a:cubicBezTo>
                <a:cubicBezTo>
                  <a:pt x="3069" y="7645"/>
                  <a:pt x="3088" y="7706"/>
                  <a:pt x="3099" y="7784"/>
                </a:cubicBezTo>
              </a:path>
              <a:path w="2238" h="1040">
                <a:moveTo>
                  <a:pt x="2788" y="8128"/>
                </a:moveTo>
                <a:cubicBezTo>
                  <a:pt x="2758" y="8152"/>
                  <a:pt x="2751" y="8156"/>
                  <a:pt x="2736" y="8174"/>
                </a:cubicBezTo>
                <a:cubicBezTo>
                  <a:pt x="2792" y="8152"/>
                  <a:pt x="2846" y="8126"/>
                  <a:pt x="2902" y="8104"/>
                </a:cubicBezTo>
                <a:cubicBezTo>
                  <a:pt x="2987" y="8072"/>
                  <a:pt x="3074" y="8048"/>
                  <a:pt x="3162" y="8026"/>
                </a:cubicBezTo>
              </a:path>
              <a:path w="2238" h="1040">
                <a:moveTo>
                  <a:pt x="3343" y="8199"/>
                </a:moveTo>
                <a:cubicBezTo>
                  <a:pt x="3345" y="8246"/>
                  <a:pt x="3343" y="8290"/>
                  <a:pt x="3342" y="8336"/>
                </a:cubicBezTo>
                <a:cubicBezTo>
                  <a:pt x="3342" y="8355"/>
                  <a:pt x="3346" y="8374"/>
                  <a:pt x="3350" y="8393"/>
                </a:cubicBezTo>
                <a:cubicBezTo>
                  <a:pt x="3347" y="8377"/>
                  <a:pt x="3346" y="8369"/>
                  <a:pt x="3345" y="8357"/>
                </a:cubicBezTo>
              </a:path>
              <a:path w="2238" h="1040">
                <a:moveTo>
                  <a:pt x="3573" y="8090"/>
                </a:moveTo>
                <a:cubicBezTo>
                  <a:pt x="3575" y="8135"/>
                  <a:pt x="3572" y="8180"/>
                  <a:pt x="3572" y="8224"/>
                </a:cubicBezTo>
                <a:cubicBezTo>
                  <a:pt x="3573" y="8229"/>
                  <a:pt x="3574" y="8234"/>
                  <a:pt x="3575" y="8239"/>
                </a:cubicBezTo>
                <a:cubicBezTo>
                  <a:pt x="3586" y="8210"/>
                  <a:pt x="3596" y="8180"/>
                  <a:pt x="3605" y="8149"/>
                </a:cubicBezTo>
                <a:cubicBezTo>
                  <a:pt x="3613" y="8122"/>
                  <a:pt x="3620" y="8073"/>
                  <a:pt x="3644" y="8054"/>
                </a:cubicBezTo>
                <a:cubicBezTo>
                  <a:pt x="3647" y="8053"/>
                  <a:pt x="3651" y="8053"/>
                  <a:pt x="3654" y="8052"/>
                </a:cubicBezTo>
                <a:cubicBezTo>
                  <a:pt x="3671" y="8076"/>
                  <a:pt x="3682" y="8098"/>
                  <a:pt x="3694" y="8127"/>
                </a:cubicBezTo>
                <a:cubicBezTo>
                  <a:pt x="3708" y="8161"/>
                  <a:pt x="3720" y="8196"/>
                  <a:pt x="3748" y="8221"/>
                </a:cubicBezTo>
                <a:cubicBezTo>
                  <a:pt x="3769" y="8240"/>
                  <a:pt x="3785" y="8237"/>
                  <a:pt x="3809" y="8227"/>
                </a:cubicBezTo>
                <a:cubicBezTo>
                  <a:pt x="3831" y="8218"/>
                  <a:pt x="3844" y="8203"/>
                  <a:pt x="3864" y="8192"/>
                </a:cubicBezTo>
                <a:cubicBezTo>
                  <a:pt x="3908" y="8169"/>
                  <a:pt x="3945" y="8150"/>
                  <a:pt x="3978" y="8110"/>
                </a:cubicBezTo>
                <a:cubicBezTo>
                  <a:pt x="3991" y="8094"/>
                  <a:pt x="4002" y="8080"/>
                  <a:pt x="4004" y="8058"/>
                </a:cubicBezTo>
                <a:cubicBezTo>
                  <a:pt x="4004" y="8053"/>
                  <a:pt x="4003" y="8047"/>
                  <a:pt x="4003" y="8042"/>
                </a:cubicBezTo>
                <a:cubicBezTo>
                  <a:pt x="3965" y="8040"/>
                  <a:pt x="3954" y="8057"/>
                  <a:pt x="3935" y="8092"/>
                </a:cubicBezTo>
                <a:cubicBezTo>
                  <a:pt x="3910" y="8138"/>
                  <a:pt x="3885" y="8230"/>
                  <a:pt x="3937" y="8269"/>
                </a:cubicBezTo>
                <a:cubicBezTo>
                  <a:pt x="3979" y="8300"/>
                  <a:pt x="4040" y="8287"/>
                  <a:pt x="4086" y="8281"/>
                </a:cubicBezTo>
                <a:cubicBezTo>
                  <a:pt x="4134" y="8274"/>
                  <a:pt x="4150" y="8272"/>
                  <a:pt x="4181" y="826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1739880" y="2865600"/>
            <a:ext cx="496800" cy="306360"/>
          </a:xfrm>
          <a:custGeom>
            <a:avLst/>
            <a:gdLst/>
            <a:ahLst/>
            <a:rect l="l" t="t" r="r" b="b"/>
            <a:pathLst>
              <a:path w="1383" h="848">
                <a:moveTo>
                  <a:pt x="4849" y="8031"/>
                </a:moveTo>
                <a:cubicBezTo>
                  <a:pt x="4826" y="8032"/>
                  <a:pt x="4831" y="8043"/>
                  <a:pt x="4845" y="8091"/>
                </a:cubicBezTo>
                <a:cubicBezTo>
                  <a:pt x="4864" y="8157"/>
                  <a:pt x="4888" y="8223"/>
                  <a:pt x="4922" y="8283"/>
                </a:cubicBezTo>
                <a:cubicBezTo>
                  <a:pt x="4940" y="8315"/>
                  <a:pt x="4979" y="8379"/>
                  <a:pt x="5026" y="8353"/>
                </a:cubicBezTo>
                <a:cubicBezTo>
                  <a:pt x="5074" y="8327"/>
                  <a:pt x="5089" y="8253"/>
                  <a:pt x="5103" y="8206"/>
                </a:cubicBezTo>
                <a:cubicBezTo>
                  <a:pt x="5113" y="8173"/>
                  <a:pt x="5119" y="8139"/>
                  <a:pt x="5124" y="8105"/>
                </a:cubicBezTo>
                <a:cubicBezTo>
                  <a:pt x="5106" y="8167"/>
                  <a:pt x="5091" y="8231"/>
                  <a:pt x="5075" y="8294"/>
                </a:cubicBezTo>
                <a:cubicBezTo>
                  <a:pt x="5044" y="8420"/>
                  <a:pt x="5016" y="8547"/>
                  <a:pt x="4985" y="8673"/>
                </a:cubicBezTo>
                <a:cubicBezTo>
                  <a:pt x="4973" y="8719"/>
                  <a:pt x="4960" y="8762"/>
                  <a:pt x="4951" y="8808"/>
                </a:cubicBezTo>
              </a:path>
              <a:path w="1383" h="848">
                <a:moveTo>
                  <a:pt x="5315" y="7998"/>
                </a:moveTo>
                <a:cubicBezTo>
                  <a:pt x="5275" y="8059"/>
                  <a:pt x="5256" y="8112"/>
                  <a:pt x="5234" y="8181"/>
                </a:cubicBezTo>
                <a:cubicBezTo>
                  <a:pt x="5219" y="8226"/>
                  <a:pt x="5186" y="8307"/>
                  <a:pt x="5225" y="8351"/>
                </a:cubicBezTo>
                <a:cubicBezTo>
                  <a:pt x="5257" y="8388"/>
                  <a:pt x="5321" y="8310"/>
                  <a:pt x="5336" y="8292"/>
                </a:cubicBezTo>
                <a:cubicBezTo>
                  <a:pt x="5383" y="8235"/>
                  <a:pt x="5417" y="8167"/>
                  <a:pt x="5441" y="8098"/>
                </a:cubicBezTo>
                <a:cubicBezTo>
                  <a:pt x="5452" y="8067"/>
                  <a:pt x="5475" y="8005"/>
                  <a:pt x="5467" y="7972"/>
                </a:cubicBezTo>
                <a:cubicBezTo>
                  <a:pt x="5465" y="7968"/>
                  <a:pt x="5462" y="7965"/>
                  <a:pt x="5460" y="7961"/>
                </a:cubicBezTo>
              </a:path>
              <a:path w="1383" h="848">
                <a:moveTo>
                  <a:pt x="5512" y="8098"/>
                </a:moveTo>
                <a:cubicBezTo>
                  <a:pt x="5521" y="8142"/>
                  <a:pt x="5525" y="8194"/>
                  <a:pt x="5539" y="8236"/>
                </a:cubicBezTo>
                <a:cubicBezTo>
                  <a:pt x="5548" y="8263"/>
                  <a:pt x="5569" y="8324"/>
                  <a:pt x="5608" y="8322"/>
                </a:cubicBezTo>
                <a:cubicBezTo>
                  <a:pt x="5647" y="8320"/>
                  <a:pt x="5683" y="8260"/>
                  <a:pt x="5702" y="8233"/>
                </a:cubicBezTo>
                <a:cubicBezTo>
                  <a:pt x="5730" y="8194"/>
                  <a:pt x="5753" y="8150"/>
                  <a:pt x="5786" y="8116"/>
                </a:cubicBezTo>
                <a:cubicBezTo>
                  <a:pt x="5799" y="8104"/>
                  <a:pt x="5802" y="8101"/>
                  <a:pt x="5814" y="8099"/>
                </a:cubicBezTo>
                <a:cubicBezTo>
                  <a:pt x="5829" y="8117"/>
                  <a:pt x="5834" y="8132"/>
                  <a:pt x="5834" y="8158"/>
                </a:cubicBezTo>
                <a:cubicBezTo>
                  <a:pt x="5832" y="8174"/>
                  <a:pt x="5831" y="8179"/>
                  <a:pt x="5834" y="8190"/>
                </a:cubicBezTo>
              </a:path>
              <a:path w="1383" h="848">
                <a:moveTo>
                  <a:pt x="5812" y="8075"/>
                </a:moveTo>
                <a:cubicBezTo>
                  <a:pt x="5808" y="8106"/>
                  <a:pt x="5811" y="8134"/>
                  <a:pt x="5814" y="8166"/>
                </a:cubicBezTo>
                <a:cubicBezTo>
                  <a:pt x="5819" y="8224"/>
                  <a:pt x="5828" y="8286"/>
                  <a:pt x="5861" y="8334"/>
                </a:cubicBezTo>
              </a:path>
              <a:path w="1383" h="848">
                <a:moveTo>
                  <a:pt x="5920" y="8077"/>
                </a:moveTo>
                <a:cubicBezTo>
                  <a:pt x="5925" y="8056"/>
                  <a:pt x="5941" y="8119"/>
                  <a:pt x="5947" y="8134"/>
                </a:cubicBezTo>
                <a:cubicBezTo>
                  <a:pt x="5967" y="8184"/>
                  <a:pt x="5985" y="8236"/>
                  <a:pt x="6005" y="8286"/>
                </a:cubicBezTo>
                <a:cubicBezTo>
                  <a:pt x="6013" y="8305"/>
                  <a:pt x="6021" y="8325"/>
                  <a:pt x="6028" y="8344"/>
                </a:cubicBezTo>
                <a:cubicBezTo>
                  <a:pt x="6011" y="8269"/>
                  <a:pt x="5998" y="8197"/>
                  <a:pt x="6008" y="8119"/>
                </a:cubicBezTo>
                <a:cubicBezTo>
                  <a:pt x="6014" y="8074"/>
                  <a:pt x="6020" y="8022"/>
                  <a:pt x="6059" y="7992"/>
                </a:cubicBezTo>
                <a:cubicBezTo>
                  <a:pt x="6091" y="7968"/>
                  <a:pt x="6132" y="7993"/>
                  <a:pt x="6160" y="8011"/>
                </a:cubicBezTo>
                <a:cubicBezTo>
                  <a:pt x="6187" y="8029"/>
                  <a:pt x="6196" y="8035"/>
                  <a:pt x="6214" y="804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2422440" y="2757600"/>
            <a:ext cx="598680" cy="264960"/>
          </a:xfrm>
          <a:custGeom>
            <a:avLst/>
            <a:gdLst/>
            <a:ahLst/>
            <a:rect l="l" t="t" r="r" b="b"/>
            <a:pathLst>
              <a:path w="1664" h="734">
                <a:moveTo>
                  <a:pt x="6729" y="7721"/>
                </a:moveTo>
                <a:cubicBezTo>
                  <a:pt x="6733" y="7699"/>
                  <a:pt x="6733" y="7693"/>
                  <a:pt x="6736" y="7679"/>
                </a:cubicBezTo>
                <a:cubicBezTo>
                  <a:pt x="6786" y="7716"/>
                  <a:pt x="6794" y="7781"/>
                  <a:pt x="6811" y="7842"/>
                </a:cubicBezTo>
                <a:cubicBezTo>
                  <a:pt x="6844" y="7962"/>
                  <a:pt x="6871" y="8084"/>
                  <a:pt x="6899" y="8205"/>
                </a:cubicBezTo>
                <a:cubicBezTo>
                  <a:pt x="6911" y="8257"/>
                  <a:pt x="6923" y="8308"/>
                  <a:pt x="6939" y="8359"/>
                </a:cubicBezTo>
                <a:cubicBezTo>
                  <a:pt x="6952" y="8316"/>
                  <a:pt x="6961" y="8265"/>
                  <a:pt x="6967" y="8214"/>
                </a:cubicBezTo>
                <a:cubicBezTo>
                  <a:pt x="6972" y="8171"/>
                  <a:pt x="6969" y="8078"/>
                  <a:pt x="7008" y="8047"/>
                </a:cubicBezTo>
                <a:cubicBezTo>
                  <a:pt x="7014" y="8046"/>
                  <a:pt x="7019" y="8045"/>
                  <a:pt x="7025" y="8044"/>
                </a:cubicBezTo>
                <a:cubicBezTo>
                  <a:pt x="7062" y="8093"/>
                  <a:pt x="7077" y="8146"/>
                  <a:pt x="7098" y="8204"/>
                </a:cubicBezTo>
                <a:cubicBezTo>
                  <a:pt x="7123" y="8271"/>
                  <a:pt x="7151" y="8331"/>
                  <a:pt x="7189" y="8391"/>
                </a:cubicBezTo>
              </a:path>
              <a:path w="1664" h="734">
                <a:moveTo>
                  <a:pt x="7400" y="7988"/>
                </a:moveTo>
                <a:cubicBezTo>
                  <a:pt x="7347" y="8014"/>
                  <a:pt x="7302" y="8061"/>
                  <a:pt x="7273" y="8115"/>
                </a:cubicBezTo>
                <a:cubicBezTo>
                  <a:pt x="7238" y="8181"/>
                  <a:pt x="7206" y="8272"/>
                  <a:pt x="7219" y="8347"/>
                </a:cubicBezTo>
                <a:cubicBezTo>
                  <a:pt x="7230" y="8413"/>
                  <a:pt x="7287" y="8394"/>
                  <a:pt x="7327" y="8367"/>
                </a:cubicBezTo>
                <a:cubicBezTo>
                  <a:pt x="7390" y="8325"/>
                  <a:pt x="7436" y="8257"/>
                  <a:pt x="7472" y="8191"/>
                </a:cubicBezTo>
                <a:cubicBezTo>
                  <a:pt x="7491" y="8156"/>
                  <a:pt x="7524" y="8093"/>
                  <a:pt x="7514" y="8050"/>
                </a:cubicBezTo>
                <a:cubicBezTo>
                  <a:pt x="7507" y="8021"/>
                  <a:pt x="7481" y="7992"/>
                  <a:pt x="7464" y="7969"/>
                </a:cubicBezTo>
              </a:path>
              <a:path w="1664" h="734">
                <a:moveTo>
                  <a:pt x="7492" y="7660"/>
                </a:moveTo>
                <a:cubicBezTo>
                  <a:pt x="7500" y="7718"/>
                  <a:pt x="7498" y="7778"/>
                  <a:pt x="7506" y="7836"/>
                </a:cubicBezTo>
                <a:cubicBezTo>
                  <a:pt x="7520" y="7942"/>
                  <a:pt x="7540" y="8047"/>
                  <a:pt x="7565" y="8151"/>
                </a:cubicBezTo>
                <a:cubicBezTo>
                  <a:pt x="7583" y="8225"/>
                  <a:pt x="7597" y="8271"/>
                  <a:pt x="7655" y="8319"/>
                </a:cubicBezTo>
              </a:path>
              <a:path w="1664" h="734">
                <a:moveTo>
                  <a:pt x="7797" y="8090"/>
                </a:moveTo>
                <a:cubicBezTo>
                  <a:pt x="7825" y="8070"/>
                  <a:pt x="7865" y="8037"/>
                  <a:pt x="7885" y="8011"/>
                </a:cubicBezTo>
                <a:cubicBezTo>
                  <a:pt x="7911" y="7977"/>
                  <a:pt x="7943" y="7931"/>
                  <a:pt x="7957" y="7889"/>
                </a:cubicBezTo>
                <a:cubicBezTo>
                  <a:pt x="7960" y="7870"/>
                  <a:pt x="7962" y="7866"/>
                  <a:pt x="7959" y="7855"/>
                </a:cubicBezTo>
                <a:cubicBezTo>
                  <a:pt x="7925" y="7854"/>
                  <a:pt x="7904" y="7871"/>
                  <a:pt x="7878" y="7894"/>
                </a:cubicBezTo>
                <a:cubicBezTo>
                  <a:pt x="7828" y="7937"/>
                  <a:pt x="7778" y="7988"/>
                  <a:pt x="7769" y="8056"/>
                </a:cubicBezTo>
                <a:cubicBezTo>
                  <a:pt x="7762" y="8109"/>
                  <a:pt x="7787" y="8135"/>
                  <a:pt x="7835" y="8149"/>
                </a:cubicBezTo>
                <a:cubicBezTo>
                  <a:pt x="7876" y="8161"/>
                  <a:pt x="7914" y="8153"/>
                  <a:pt x="7955" y="8149"/>
                </a:cubicBezTo>
              </a:path>
              <a:path w="1664" h="734">
                <a:moveTo>
                  <a:pt x="8255" y="7873"/>
                </a:moveTo>
                <a:cubicBezTo>
                  <a:pt x="8229" y="7858"/>
                  <a:pt x="8210" y="7865"/>
                  <a:pt x="8182" y="7881"/>
                </a:cubicBezTo>
                <a:cubicBezTo>
                  <a:pt x="8168" y="7889"/>
                  <a:pt x="8134" y="7910"/>
                  <a:pt x="8136" y="7930"/>
                </a:cubicBezTo>
                <a:cubicBezTo>
                  <a:pt x="8138" y="7951"/>
                  <a:pt x="8193" y="7965"/>
                  <a:pt x="8208" y="7973"/>
                </a:cubicBezTo>
                <a:cubicBezTo>
                  <a:pt x="8254" y="7999"/>
                  <a:pt x="8290" y="8029"/>
                  <a:pt x="8319" y="8073"/>
                </a:cubicBezTo>
                <a:cubicBezTo>
                  <a:pt x="8335" y="8097"/>
                  <a:pt x="8352" y="8142"/>
                  <a:pt x="8327" y="8167"/>
                </a:cubicBezTo>
                <a:cubicBezTo>
                  <a:pt x="8308" y="8186"/>
                  <a:pt x="8262" y="8181"/>
                  <a:pt x="8240" y="8172"/>
                </a:cubicBezTo>
                <a:cubicBezTo>
                  <a:pt x="8217" y="8163"/>
                  <a:pt x="8185" y="8138"/>
                  <a:pt x="8173" y="8115"/>
                </a:cubicBezTo>
                <a:cubicBezTo>
                  <a:pt x="8171" y="8110"/>
                  <a:pt x="8170" y="8104"/>
                  <a:pt x="8168" y="8099"/>
                </a:cubicBezTo>
              </a:path>
              <a:path w="1664" h="734">
                <a:moveTo>
                  <a:pt x="8317" y="7947"/>
                </a:moveTo>
                <a:cubicBezTo>
                  <a:pt x="8335" y="7941"/>
                  <a:pt x="8351" y="7926"/>
                  <a:pt x="8368" y="7925"/>
                </a:cubicBezTo>
                <a:cubicBezTo>
                  <a:pt x="8391" y="7924"/>
                  <a:pt x="8389" y="7956"/>
                  <a:pt x="8392" y="797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4060800" y="2496960"/>
            <a:ext cx="725400" cy="514440"/>
          </a:xfrm>
          <a:custGeom>
            <a:avLst/>
            <a:gdLst/>
            <a:ahLst/>
            <a:rect l="l" t="t" r="r" b="b"/>
            <a:pathLst>
              <a:path w="2013" h="1432">
                <a:moveTo>
                  <a:pt x="11309" y="7341"/>
                </a:moveTo>
                <a:cubicBezTo>
                  <a:pt x="11300" y="7322"/>
                  <a:pt x="11293" y="7305"/>
                  <a:pt x="11282" y="7287"/>
                </a:cubicBezTo>
                <a:cubicBezTo>
                  <a:pt x="11291" y="7322"/>
                  <a:pt x="11302" y="7357"/>
                  <a:pt x="11313" y="7392"/>
                </a:cubicBezTo>
                <a:cubicBezTo>
                  <a:pt x="11340" y="7480"/>
                  <a:pt x="11369" y="7567"/>
                  <a:pt x="11401" y="7654"/>
                </a:cubicBezTo>
                <a:cubicBezTo>
                  <a:pt x="11418" y="7700"/>
                  <a:pt x="11439" y="7800"/>
                  <a:pt x="11484" y="7829"/>
                </a:cubicBezTo>
                <a:cubicBezTo>
                  <a:pt x="11489" y="7829"/>
                  <a:pt x="11495" y="7828"/>
                  <a:pt x="11500" y="7828"/>
                </a:cubicBezTo>
                <a:cubicBezTo>
                  <a:pt x="11530" y="7786"/>
                  <a:pt x="11535" y="7738"/>
                  <a:pt x="11542" y="7686"/>
                </a:cubicBezTo>
                <a:cubicBezTo>
                  <a:pt x="11560" y="7547"/>
                  <a:pt x="11551" y="7409"/>
                  <a:pt x="11559" y="7271"/>
                </a:cubicBezTo>
                <a:cubicBezTo>
                  <a:pt x="11564" y="7249"/>
                  <a:pt x="11566" y="7243"/>
                  <a:pt x="11572" y="7273"/>
                </a:cubicBezTo>
              </a:path>
              <a:path w="2013" h="1432">
                <a:moveTo>
                  <a:pt x="11820" y="7578"/>
                </a:moveTo>
                <a:cubicBezTo>
                  <a:pt x="11823" y="7566"/>
                  <a:pt x="11806" y="7565"/>
                  <a:pt x="11844" y="7549"/>
                </a:cubicBezTo>
                <a:cubicBezTo>
                  <a:pt x="11893" y="7529"/>
                  <a:pt x="11948" y="7521"/>
                  <a:pt x="12000" y="7516"/>
                </a:cubicBezTo>
                <a:cubicBezTo>
                  <a:pt x="12135" y="7502"/>
                  <a:pt x="12265" y="7516"/>
                  <a:pt x="12399" y="7533"/>
                </a:cubicBezTo>
                <a:cubicBezTo>
                  <a:pt x="12453" y="7540"/>
                  <a:pt x="12523" y="7561"/>
                  <a:pt x="12578" y="7555"/>
                </a:cubicBezTo>
                <a:cubicBezTo>
                  <a:pt x="12591" y="7554"/>
                  <a:pt x="12596" y="7554"/>
                  <a:pt x="12603" y="7548"/>
                </a:cubicBezTo>
                <a:cubicBezTo>
                  <a:pt x="12593" y="7524"/>
                  <a:pt x="12597" y="7517"/>
                  <a:pt x="12571" y="7496"/>
                </a:cubicBezTo>
                <a:cubicBezTo>
                  <a:pt x="12542" y="7472"/>
                  <a:pt x="12508" y="7455"/>
                  <a:pt x="12475" y="7437"/>
                </a:cubicBezTo>
                <a:cubicBezTo>
                  <a:pt x="12438" y="7417"/>
                  <a:pt x="12414" y="7403"/>
                  <a:pt x="12393" y="7371"/>
                </a:cubicBezTo>
                <a:cubicBezTo>
                  <a:pt x="12420" y="7356"/>
                  <a:pt x="12433" y="7350"/>
                  <a:pt x="12471" y="7358"/>
                </a:cubicBezTo>
                <a:cubicBezTo>
                  <a:pt x="12518" y="7368"/>
                  <a:pt x="12570" y="7386"/>
                  <a:pt x="12605" y="7422"/>
                </a:cubicBezTo>
                <a:cubicBezTo>
                  <a:pt x="12635" y="7452"/>
                  <a:pt x="12651" y="7499"/>
                  <a:pt x="12636" y="7541"/>
                </a:cubicBezTo>
                <a:cubicBezTo>
                  <a:pt x="12620" y="7584"/>
                  <a:pt x="12581" y="7620"/>
                  <a:pt x="12548" y="7650"/>
                </a:cubicBezTo>
                <a:cubicBezTo>
                  <a:pt x="12524" y="7672"/>
                  <a:pt x="12497" y="7687"/>
                  <a:pt x="12472" y="7707"/>
                </a:cubicBezTo>
              </a:path>
              <a:path w="2013" h="1432">
                <a:moveTo>
                  <a:pt x="13272" y="7422"/>
                </a:moveTo>
                <a:cubicBezTo>
                  <a:pt x="13286" y="7407"/>
                  <a:pt x="13297" y="7395"/>
                  <a:pt x="13293" y="7373"/>
                </a:cubicBezTo>
                <a:cubicBezTo>
                  <a:pt x="13289" y="7351"/>
                  <a:pt x="13278" y="7337"/>
                  <a:pt x="13260" y="7325"/>
                </a:cubicBezTo>
                <a:cubicBezTo>
                  <a:pt x="13241" y="7311"/>
                  <a:pt x="13216" y="7306"/>
                  <a:pt x="13193" y="7308"/>
                </a:cubicBezTo>
                <a:cubicBezTo>
                  <a:pt x="13161" y="7311"/>
                  <a:pt x="13130" y="7326"/>
                  <a:pt x="13102" y="7341"/>
                </a:cubicBezTo>
                <a:cubicBezTo>
                  <a:pt x="13079" y="7353"/>
                  <a:pt x="13055" y="7369"/>
                  <a:pt x="13045" y="7394"/>
                </a:cubicBezTo>
                <a:cubicBezTo>
                  <a:pt x="13037" y="7414"/>
                  <a:pt x="13052" y="7422"/>
                  <a:pt x="13069" y="7429"/>
                </a:cubicBezTo>
                <a:cubicBezTo>
                  <a:pt x="13112" y="7447"/>
                  <a:pt x="13150" y="7453"/>
                  <a:pt x="13181" y="7492"/>
                </a:cubicBezTo>
                <a:cubicBezTo>
                  <a:pt x="13206" y="7524"/>
                  <a:pt x="13220" y="7564"/>
                  <a:pt x="13230" y="7603"/>
                </a:cubicBezTo>
                <a:cubicBezTo>
                  <a:pt x="13239" y="7636"/>
                  <a:pt x="13249" y="7678"/>
                  <a:pt x="13238" y="7712"/>
                </a:cubicBezTo>
                <a:cubicBezTo>
                  <a:pt x="13229" y="7740"/>
                  <a:pt x="13205" y="7754"/>
                  <a:pt x="13179" y="7763"/>
                </a:cubicBezTo>
                <a:cubicBezTo>
                  <a:pt x="13144" y="7775"/>
                  <a:pt x="13105" y="7778"/>
                  <a:pt x="13068" y="7777"/>
                </a:cubicBezTo>
                <a:cubicBezTo>
                  <a:pt x="13032" y="7776"/>
                  <a:pt x="12994" y="7769"/>
                  <a:pt x="12988" y="7731"/>
                </a:cubicBezTo>
                <a:cubicBezTo>
                  <a:pt x="12985" y="7713"/>
                  <a:pt x="12990" y="7703"/>
                  <a:pt x="12998" y="7688"/>
                </a:cubicBezTo>
              </a:path>
              <a:path w="2013" h="1432">
                <a:moveTo>
                  <a:pt x="11640" y="7997"/>
                </a:moveTo>
                <a:cubicBezTo>
                  <a:pt x="11636" y="7979"/>
                  <a:pt x="11634" y="7960"/>
                  <a:pt x="11629" y="7942"/>
                </a:cubicBezTo>
                <a:cubicBezTo>
                  <a:pt x="11627" y="7938"/>
                  <a:pt x="11626" y="7933"/>
                  <a:pt x="11624" y="7929"/>
                </a:cubicBezTo>
                <a:cubicBezTo>
                  <a:pt x="11623" y="7963"/>
                  <a:pt x="11618" y="7998"/>
                  <a:pt x="11615" y="8032"/>
                </a:cubicBezTo>
                <a:cubicBezTo>
                  <a:pt x="11610" y="8089"/>
                  <a:pt x="11608" y="8145"/>
                  <a:pt x="11615" y="8202"/>
                </a:cubicBezTo>
                <a:cubicBezTo>
                  <a:pt x="11617" y="8222"/>
                  <a:pt x="11617" y="8274"/>
                  <a:pt x="11640" y="8286"/>
                </a:cubicBezTo>
                <a:cubicBezTo>
                  <a:pt x="11651" y="8287"/>
                  <a:pt x="11655" y="8287"/>
                  <a:pt x="11661" y="8280"/>
                </a:cubicBezTo>
              </a:path>
              <a:path w="2013" h="1432">
                <a:moveTo>
                  <a:pt x="11811" y="7965"/>
                </a:moveTo>
                <a:cubicBezTo>
                  <a:pt x="11820" y="8001"/>
                  <a:pt x="11823" y="8038"/>
                  <a:pt x="11829" y="8075"/>
                </a:cubicBezTo>
                <a:cubicBezTo>
                  <a:pt x="11838" y="8126"/>
                  <a:pt x="11848" y="8180"/>
                  <a:pt x="11871" y="8227"/>
                </a:cubicBezTo>
                <a:cubicBezTo>
                  <a:pt x="11884" y="8246"/>
                  <a:pt x="11887" y="8252"/>
                  <a:pt x="11899" y="8262"/>
                </a:cubicBezTo>
                <a:cubicBezTo>
                  <a:pt x="11928" y="8251"/>
                  <a:pt x="11932" y="8229"/>
                  <a:pt x="11942" y="8200"/>
                </a:cubicBezTo>
                <a:cubicBezTo>
                  <a:pt x="11956" y="8159"/>
                  <a:pt x="11964" y="8118"/>
                  <a:pt x="11972" y="8076"/>
                </a:cubicBezTo>
                <a:cubicBezTo>
                  <a:pt x="11977" y="8048"/>
                  <a:pt x="11980" y="8023"/>
                  <a:pt x="11988" y="7996"/>
                </a:cubicBezTo>
              </a:path>
              <a:path w="2013" h="1432">
                <a:moveTo>
                  <a:pt x="12151" y="7949"/>
                </a:moveTo>
                <a:cubicBezTo>
                  <a:pt x="12134" y="7989"/>
                  <a:pt x="12124" y="8032"/>
                  <a:pt x="12117" y="8076"/>
                </a:cubicBezTo>
                <a:cubicBezTo>
                  <a:pt x="12104" y="8155"/>
                  <a:pt x="12092" y="8233"/>
                  <a:pt x="12117" y="8310"/>
                </a:cubicBezTo>
                <a:cubicBezTo>
                  <a:pt x="12126" y="8337"/>
                  <a:pt x="12133" y="8348"/>
                  <a:pt x="12153" y="8366"/>
                </a:cubicBezTo>
              </a:path>
              <a:path w="2013" h="1432">
                <a:moveTo>
                  <a:pt x="12092" y="7296"/>
                </a:moveTo>
                <a:cubicBezTo>
                  <a:pt x="12088" y="7308"/>
                  <a:pt x="12086" y="7319"/>
                  <a:pt x="12084" y="7332"/>
                </a:cubicBezTo>
                <a:cubicBezTo>
                  <a:pt x="12080" y="7311"/>
                  <a:pt x="12079" y="7296"/>
                  <a:pt x="12081" y="7275"/>
                </a:cubicBezTo>
                <a:cubicBezTo>
                  <a:pt x="12085" y="7236"/>
                  <a:pt x="12089" y="7198"/>
                  <a:pt x="12092" y="7159"/>
                </a:cubicBezTo>
                <a:cubicBezTo>
                  <a:pt x="12096" y="7109"/>
                  <a:pt x="12098" y="7061"/>
                  <a:pt x="12098" y="7011"/>
                </a:cubicBezTo>
                <a:cubicBezTo>
                  <a:pt x="12098" y="6992"/>
                  <a:pt x="12090" y="6946"/>
                  <a:pt x="12114" y="6936"/>
                </a:cubicBezTo>
                <a:cubicBezTo>
                  <a:pt x="12142" y="6925"/>
                  <a:pt x="12194" y="6953"/>
                  <a:pt x="12220" y="6960"/>
                </a:cubicBezTo>
                <a:cubicBezTo>
                  <a:pt x="12268" y="6973"/>
                  <a:pt x="12319" y="6990"/>
                  <a:pt x="12361" y="7016"/>
                </a:cubicBezTo>
                <a:cubicBezTo>
                  <a:pt x="12373" y="7026"/>
                  <a:pt x="12377" y="7028"/>
                  <a:pt x="12374" y="7039"/>
                </a:cubicBezTo>
              </a:path>
              <a:path w="2013" h="1432">
                <a:moveTo>
                  <a:pt x="12023" y="7136"/>
                </a:moveTo>
                <a:cubicBezTo>
                  <a:pt x="12073" y="7137"/>
                  <a:pt x="12121" y="7131"/>
                  <a:pt x="12171" y="7129"/>
                </a:cubicBezTo>
                <a:cubicBezTo>
                  <a:pt x="12223" y="7127"/>
                  <a:pt x="12272" y="7135"/>
                  <a:pt x="12322" y="7148"/>
                </a:cubicBezTo>
              </a:path>
              <a:path w="2013" h="1432">
                <a:moveTo>
                  <a:pt x="12318" y="8143"/>
                </a:moveTo>
                <a:cubicBezTo>
                  <a:pt x="12304" y="8136"/>
                  <a:pt x="12301" y="8135"/>
                  <a:pt x="12293" y="8130"/>
                </a:cubicBezTo>
                <a:cubicBezTo>
                  <a:pt x="12320" y="8116"/>
                  <a:pt x="12342" y="8118"/>
                  <a:pt x="12372" y="8115"/>
                </a:cubicBezTo>
                <a:cubicBezTo>
                  <a:pt x="12415" y="8111"/>
                  <a:pt x="12457" y="8103"/>
                  <a:pt x="12500" y="8103"/>
                </a:cubicBezTo>
                <a:cubicBezTo>
                  <a:pt x="12508" y="8104"/>
                  <a:pt x="12516" y="8104"/>
                  <a:pt x="12524" y="8105"/>
                </a:cubicBezTo>
              </a:path>
              <a:path w="2013" h="1432">
                <a:moveTo>
                  <a:pt x="12362" y="8267"/>
                </a:moveTo>
                <a:cubicBezTo>
                  <a:pt x="12399" y="8270"/>
                  <a:pt x="12413" y="8254"/>
                  <a:pt x="12447" y="8245"/>
                </a:cubicBezTo>
                <a:cubicBezTo>
                  <a:pt x="12479" y="8236"/>
                  <a:pt x="12511" y="8229"/>
                  <a:pt x="12543" y="8219"/>
                </a:cubicBezTo>
              </a:path>
              <a:path w="2013" h="1432">
                <a:moveTo>
                  <a:pt x="12737" y="8061"/>
                </a:moveTo>
                <a:cubicBezTo>
                  <a:pt x="12729" y="8088"/>
                  <a:pt x="12717" y="8118"/>
                  <a:pt x="12714" y="8146"/>
                </a:cubicBezTo>
                <a:cubicBezTo>
                  <a:pt x="12712" y="8166"/>
                  <a:pt x="12697" y="8218"/>
                  <a:pt x="12709" y="8237"/>
                </a:cubicBezTo>
                <a:cubicBezTo>
                  <a:pt x="12713" y="8239"/>
                  <a:pt x="12716" y="8242"/>
                  <a:pt x="12720" y="8244"/>
                </a:cubicBezTo>
                <a:cubicBezTo>
                  <a:pt x="12753" y="8214"/>
                  <a:pt x="12780" y="8179"/>
                  <a:pt x="12813" y="8149"/>
                </a:cubicBezTo>
                <a:cubicBezTo>
                  <a:pt x="12840" y="8125"/>
                  <a:pt x="12880" y="8101"/>
                  <a:pt x="12917" y="8100"/>
                </a:cubicBezTo>
                <a:cubicBezTo>
                  <a:pt x="12953" y="8099"/>
                  <a:pt x="12985" y="8135"/>
                  <a:pt x="12997" y="8166"/>
                </a:cubicBezTo>
                <a:cubicBezTo>
                  <a:pt x="13006" y="8190"/>
                  <a:pt x="13004" y="8215"/>
                  <a:pt x="13004" y="824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4998960" y="2270160"/>
            <a:ext cx="998640" cy="677880"/>
          </a:xfrm>
          <a:custGeom>
            <a:avLst/>
            <a:gdLst/>
            <a:ahLst/>
            <a:rect l="l" t="t" r="r" b="b"/>
            <a:pathLst>
              <a:path w="2774" h="1885">
                <a:moveTo>
                  <a:pt x="14186" y="7257"/>
                </a:moveTo>
                <a:cubicBezTo>
                  <a:pt x="14172" y="7274"/>
                  <a:pt x="14169" y="7307"/>
                  <a:pt x="14171" y="7332"/>
                </a:cubicBezTo>
                <a:cubicBezTo>
                  <a:pt x="14175" y="7398"/>
                  <a:pt x="14182" y="7464"/>
                  <a:pt x="14188" y="7530"/>
                </a:cubicBezTo>
                <a:cubicBezTo>
                  <a:pt x="14192" y="7578"/>
                  <a:pt x="14195" y="7631"/>
                  <a:pt x="14205" y="7679"/>
                </a:cubicBezTo>
                <a:cubicBezTo>
                  <a:pt x="14210" y="7693"/>
                  <a:pt x="14213" y="7697"/>
                  <a:pt x="14222" y="7680"/>
                </a:cubicBezTo>
              </a:path>
              <a:path w="2774" h="1885">
                <a:moveTo>
                  <a:pt x="14530" y="7279"/>
                </a:moveTo>
                <a:cubicBezTo>
                  <a:pt x="14535" y="7243"/>
                  <a:pt x="14523" y="7259"/>
                  <a:pt x="14487" y="7287"/>
                </a:cubicBezTo>
                <a:cubicBezTo>
                  <a:pt x="14436" y="7328"/>
                  <a:pt x="14386" y="7375"/>
                  <a:pt x="14342" y="7423"/>
                </a:cubicBezTo>
                <a:cubicBezTo>
                  <a:pt x="14318" y="7449"/>
                  <a:pt x="14303" y="7468"/>
                  <a:pt x="14292" y="7500"/>
                </a:cubicBezTo>
                <a:cubicBezTo>
                  <a:pt x="14336" y="7513"/>
                  <a:pt x="14380" y="7506"/>
                  <a:pt x="14426" y="7505"/>
                </a:cubicBezTo>
                <a:cubicBezTo>
                  <a:pt x="14484" y="7503"/>
                  <a:pt x="14583" y="7497"/>
                  <a:pt x="14607" y="7566"/>
                </a:cubicBezTo>
                <a:cubicBezTo>
                  <a:pt x="14625" y="7617"/>
                  <a:pt x="14587" y="7672"/>
                  <a:pt x="14553" y="7706"/>
                </a:cubicBezTo>
                <a:cubicBezTo>
                  <a:pt x="14526" y="7733"/>
                  <a:pt x="14473" y="7776"/>
                  <a:pt x="14432" y="7778"/>
                </a:cubicBezTo>
                <a:cubicBezTo>
                  <a:pt x="14385" y="7780"/>
                  <a:pt x="14407" y="7718"/>
                  <a:pt x="14412" y="7696"/>
                </a:cubicBezTo>
              </a:path>
              <a:path w="2774" h="1885">
                <a:moveTo>
                  <a:pt x="14780" y="7261"/>
                </a:moveTo>
                <a:cubicBezTo>
                  <a:pt x="14786" y="7298"/>
                  <a:pt x="14779" y="7340"/>
                  <a:pt x="14778" y="7378"/>
                </a:cubicBezTo>
                <a:cubicBezTo>
                  <a:pt x="14776" y="7447"/>
                  <a:pt x="14772" y="7517"/>
                  <a:pt x="14775" y="7586"/>
                </a:cubicBezTo>
                <a:cubicBezTo>
                  <a:pt x="14777" y="7629"/>
                  <a:pt x="14784" y="7674"/>
                  <a:pt x="14792" y="7717"/>
                </a:cubicBezTo>
              </a:path>
              <a:path w="2774" h="1885">
                <a:moveTo>
                  <a:pt x="15060" y="7390"/>
                </a:moveTo>
                <a:cubicBezTo>
                  <a:pt x="15084" y="7360"/>
                  <a:pt x="15098" y="7350"/>
                  <a:pt x="15136" y="7344"/>
                </a:cubicBezTo>
                <a:cubicBezTo>
                  <a:pt x="15178" y="7337"/>
                  <a:pt x="15215" y="7342"/>
                  <a:pt x="15257" y="7348"/>
                </a:cubicBezTo>
                <a:cubicBezTo>
                  <a:pt x="15281" y="7352"/>
                  <a:pt x="15297" y="7357"/>
                  <a:pt x="15317" y="7368"/>
                </a:cubicBezTo>
              </a:path>
              <a:path w="2774" h="1885">
                <a:moveTo>
                  <a:pt x="15070" y="7523"/>
                </a:moveTo>
                <a:cubicBezTo>
                  <a:pt x="15066" y="7528"/>
                  <a:pt x="15062" y="7533"/>
                  <a:pt x="15058" y="7538"/>
                </a:cubicBezTo>
                <a:cubicBezTo>
                  <a:pt x="15082" y="7555"/>
                  <a:pt x="15129" y="7540"/>
                  <a:pt x="15165" y="7536"/>
                </a:cubicBezTo>
                <a:cubicBezTo>
                  <a:pt x="15217" y="7531"/>
                  <a:pt x="15266" y="7521"/>
                  <a:pt x="15317" y="7510"/>
                </a:cubicBezTo>
              </a:path>
              <a:path w="2774" h="1885">
                <a:moveTo>
                  <a:pt x="15601" y="7401"/>
                </a:moveTo>
                <a:cubicBezTo>
                  <a:pt x="15602" y="7388"/>
                  <a:pt x="15603" y="7376"/>
                  <a:pt x="15604" y="7363"/>
                </a:cubicBezTo>
                <a:cubicBezTo>
                  <a:pt x="15612" y="7391"/>
                  <a:pt x="15616" y="7418"/>
                  <a:pt x="15618" y="7448"/>
                </a:cubicBezTo>
                <a:cubicBezTo>
                  <a:pt x="15621" y="7493"/>
                  <a:pt x="15624" y="7537"/>
                  <a:pt x="15625" y="7582"/>
                </a:cubicBezTo>
                <a:cubicBezTo>
                  <a:pt x="15625" y="7604"/>
                  <a:pt x="15625" y="7609"/>
                  <a:pt x="15624" y="7622"/>
                </a:cubicBezTo>
                <a:cubicBezTo>
                  <a:pt x="15630" y="7591"/>
                  <a:pt x="15635" y="7559"/>
                  <a:pt x="15645" y="7529"/>
                </a:cubicBezTo>
                <a:cubicBezTo>
                  <a:pt x="15659" y="7489"/>
                  <a:pt x="15677" y="7443"/>
                  <a:pt x="15702" y="7408"/>
                </a:cubicBezTo>
                <a:cubicBezTo>
                  <a:pt x="15715" y="7394"/>
                  <a:pt x="15718" y="7390"/>
                  <a:pt x="15729" y="7386"/>
                </a:cubicBezTo>
                <a:cubicBezTo>
                  <a:pt x="15757" y="7405"/>
                  <a:pt x="15759" y="7439"/>
                  <a:pt x="15763" y="7473"/>
                </a:cubicBezTo>
                <a:cubicBezTo>
                  <a:pt x="15770" y="7523"/>
                  <a:pt x="15771" y="7574"/>
                  <a:pt x="15779" y="7624"/>
                </a:cubicBezTo>
                <a:cubicBezTo>
                  <a:pt x="15783" y="7646"/>
                  <a:pt x="15784" y="7651"/>
                  <a:pt x="15787" y="7664"/>
                </a:cubicBezTo>
              </a:path>
              <a:path w="2774" h="1885">
                <a:moveTo>
                  <a:pt x="15991" y="7508"/>
                </a:moveTo>
                <a:cubicBezTo>
                  <a:pt x="15987" y="7511"/>
                  <a:pt x="15984" y="7514"/>
                  <a:pt x="15980" y="7517"/>
                </a:cubicBezTo>
                <a:cubicBezTo>
                  <a:pt x="16001" y="7519"/>
                  <a:pt x="16024" y="7512"/>
                  <a:pt x="16046" y="7509"/>
                </a:cubicBezTo>
                <a:cubicBezTo>
                  <a:pt x="16084" y="7503"/>
                  <a:pt x="16125" y="7496"/>
                  <a:pt x="16164" y="7494"/>
                </a:cubicBezTo>
                <a:cubicBezTo>
                  <a:pt x="16180" y="7495"/>
                  <a:pt x="16184" y="7496"/>
                  <a:pt x="16194" y="7492"/>
                </a:cubicBezTo>
              </a:path>
              <a:path w="2774" h="1885">
                <a:moveTo>
                  <a:pt x="16503" y="7368"/>
                </a:moveTo>
                <a:cubicBezTo>
                  <a:pt x="16502" y="7353"/>
                  <a:pt x="16500" y="7340"/>
                  <a:pt x="16497" y="7325"/>
                </a:cubicBezTo>
                <a:cubicBezTo>
                  <a:pt x="16495" y="7357"/>
                  <a:pt x="16496" y="7389"/>
                  <a:pt x="16496" y="7421"/>
                </a:cubicBezTo>
                <a:cubicBezTo>
                  <a:pt x="16496" y="7477"/>
                  <a:pt x="16495" y="7533"/>
                  <a:pt x="16494" y="7589"/>
                </a:cubicBezTo>
                <a:cubicBezTo>
                  <a:pt x="16493" y="7634"/>
                  <a:pt x="16486" y="7682"/>
                  <a:pt x="16491" y="7727"/>
                </a:cubicBezTo>
                <a:cubicBezTo>
                  <a:pt x="16493" y="7748"/>
                  <a:pt x="16500" y="7769"/>
                  <a:pt x="16506" y="7789"/>
                </a:cubicBezTo>
              </a:path>
              <a:path w="2774" h="1885">
                <a:moveTo>
                  <a:pt x="15469" y="6420"/>
                </a:moveTo>
                <a:cubicBezTo>
                  <a:pt x="15439" y="6421"/>
                  <a:pt x="15408" y="6424"/>
                  <a:pt x="15379" y="6427"/>
                </a:cubicBezTo>
                <a:cubicBezTo>
                  <a:pt x="15439" y="6412"/>
                  <a:pt x="15502" y="6403"/>
                  <a:pt x="15566" y="6394"/>
                </a:cubicBezTo>
                <a:cubicBezTo>
                  <a:pt x="15726" y="6373"/>
                  <a:pt x="15886" y="6353"/>
                  <a:pt x="16046" y="6335"/>
                </a:cubicBezTo>
                <a:cubicBezTo>
                  <a:pt x="16199" y="6318"/>
                  <a:pt x="16348" y="6312"/>
                  <a:pt x="16502" y="6309"/>
                </a:cubicBezTo>
                <a:cubicBezTo>
                  <a:pt x="16555" y="6308"/>
                  <a:pt x="16607" y="6308"/>
                  <a:pt x="16660" y="6307"/>
                </a:cubicBezTo>
              </a:path>
              <a:path w="2774" h="1885">
                <a:moveTo>
                  <a:pt x="13887" y="8167"/>
                </a:moveTo>
                <a:cubicBezTo>
                  <a:pt x="13907" y="8167"/>
                  <a:pt x="13927" y="8162"/>
                  <a:pt x="13948" y="8159"/>
                </a:cubicBezTo>
                <a:cubicBezTo>
                  <a:pt x="13971" y="8155"/>
                  <a:pt x="13994" y="8150"/>
                  <a:pt x="14017" y="8144"/>
                </a:cubicBezTo>
                <a:cubicBezTo>
                  <a:pt x="14030" y="8140"/>
                  <a:pt x="14043" y="8136"/>
                  <a:pt x="14056" y="8133"/>
                </a:cubicBezTo>
                <a:cubicBezTo>
                  <a:pt x="14051" y="8154"/>
                  <a:pt x="14045" y="8169"/>
                  <a:pt x="14068" y="8179"/>
                </a:cubicBezTo>
                <a:cubicBezTo>
                  <a:pt x="14092" y="8190"/>
                  <a:pt x="14125" y="8184"/>
                  <a:pt x="14149" y="8186"/>
                </a:cubicBezTo>
                <a:cubicBezTo>
                  <a:pt x="14159" y="8187"/>
                  <a:pt x="14168" y="8189"/>
                  <a:pt x="14178" y="819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6513480" y="2486160"/>
            <a:ext cx="520560" cy="390240"/>
          </a:xfrm>
          <a:custGeom>
            <a:avLst/>
            <a:gdLst/>
            <a:ahLst/>
            <a:rect l="l" t="t" r="r" b="b"/>
            <a:pathLst>
              <a:path w="1443" h="1088">
                <a:moveTo>
                  <a:pt x="19207" y="7089"/>
                </a:moveTo>
                <a:cubicBezTo>
                  <a:pt x="19249" y="7086"/>
                  <a:pt x="19250" y="7068"/>
                  <a:pt x="19275" y="7039"/>
                </a:cubicBezTo>
                <a:cubicBezTo>
                  <a:pt x="19305" y="7005"/>
                  <a:pt x="19323" y="6975"/>
                  <a:pt x="19332" y="6929"/>
                </a:cubicBezTo>
                <a:cubicBezTo>
                  <a:pt x="19334" y="6913"/>
                  <a:pt x="19336" y="6909"/>
                  <a:pt x="19324" y="6904"/>
                </a:cubicBezTo>
                <a:cubicBezTo>
                  <a:pt x="19287" y="6923"/>
                  <a:pt x="19258" y="6945"/>
                  <a:pt x="19233" y="6979"/>
                </a:cubicBezTo>
                <a:cubicBezTo>
                  <a:pt x="19210" y="7010"/>
                  <a:pt x="19174" y="7067"/>
                  <a:pt x="19191" y="7108"/>
                </a:cubicBezTo>
                <a:cubicBezTo>
                  <a:pt x="19208" y="7150"/>
                  <a:pt x="19288" y="7142"/>
                  <a:pt x="19321" y="7138"/>
                </a:cubicBezTo>
                <a:cubicBezTo>
                  <a:pt x="19373" y="7129"/>
                  <a:pt x="19392" y="7125"/>
                  <a:pt x="19426" y="7111"/>
                </a:cubicBezTo>
              </a:path>
              <a:path w="1443" h="1088">
                <a:moveTo>
                  <a:pt x="18134" y="7631"/>
                </a:moveTo>
                <a:cubicBezTo>
                  <a:pt x="18105" y="7642"/>
                  <a:pt x="18114" y="7666"/>
                  <a:pt x="18124" y="7698"/>
                </a:cubicBezTo>
                <a:cubicBezTo>
                  <a:pt x="18146" y="7769"/>
                  <a:pt x="18165" y="7839"/>
                  <a:pt x="18175" y="7913"/>
                </a:cubicBezTo>
                <a:cubicBezTo>
                  <a:pt x="18179" y="7946"/>
                  <a:pt x="18180" y="7962"/>
                  <a:pt x="18169" y="7991"/>
                </a:cubicBezTo>
                <a:cubicBezTo>
                  <a:pt x="18145" y="7965"/>
                  <a:pt x="18137" y="7942"/>
                  <a:pt x="18130" y="7896"/>
                </a:cubicBezTo>
                <a:cubicBezTo>
                  <a:pt x="18110" y="7761"/>
                  <a:pt x="18121" y="7626"/>
                  <a:pt x="18145" y="7492"/>
                </a:cubicBezTo>
                <a:cubicBezTo>
                  <a:pt x="18153" y="7449"/>
                  <a:pt x="18160" y="7424"/>
                  <a:pt x="18182" y="7389"/>
                </a:cubicBezTo>
                <a:cubicBezTo>
                  <a:pt x="18226" y="7400"/>
                  <a:pt x="18236" y="7441"/>
                  <a:pt x="18250" y="7485"/>
                </a:cubicBezTo>
                <a:cubicBezTo>
                  <a:pt x="18273" y="7560"/>
                  <a:pt x="18286" y="7641"/>
                  <a:pt x="18274" y="7719"/>
                </a:cubicBezTo>
                <a:cubicBezTo>
                  <a:pt x="18266" y="7773"/>
                  <a:pt x="18239" y="7839"/>
                  <a:pt x="18184" y="7860"/>
                </a:cubicBezTo>
                <a:cubicBezTo>
                  <a:pt x="18151" y="7873"/>
                  <a:pt x="18106" y="7856"/>
                  <a:pt x="18096" y="7820"/>
                </a:cubicBezTo>
                <a:cubicBezTo>
                  <a:pt x="18086" y="7785"/>
                  <a:pt x="18109" y="7755"/>
                  <a:pt x="18123" y="7725"/>
                </a:cubicBezTo>
              </a:path>
              <a:path w="1443" h="1088">
                <a:moveTo>
                  <a:pt x="18413" y="7807"/>
                </a:moveTo>
                <a:cubicBezTo>
                  <a:pt x="18423" y="7838"/>
                  <a:pt x="18435" y="7868"/>
                  <a:pt x="18445" y="7898"/>
                </a:cubicBezTo>
                <a:cubicBezTo>
                  <a:pt x="18451" y="7917"/>
                  <a:pt x="18457" y="7937"/>
                  <a:pt x="18462" y="7956"/>
                </a:cubicBezTo>
                <a:cubicBezTo>
                  <a:pt x="18460" y="7903"/>
                  <a:pt x="18452" y="7851"/>
                  <a:pt x="18451" y="7798"/>
                </a:cubicBezTo>
                <a:cubicBezTo>
                  <a:pt x="18449" y="7736"/>
                  <a:pt x="18447" y="7662"/>
                  <a:pt x="18468" y="7602"/>
                </a:cubicBezTo>
                <a:cubicBezTo>
                  <a:pt x="18483" y="7560"/>
                  <a:pt x="18503" y="7531"/>
                  <a:pt x="18550" y="7535"/>
                </a:cubicBezTo>
                <a:cubicBezTo>
                  <a:pt x="18581" y="7542"/>
                  <a:pt x="18592" y="7545"/>
                  <a:pt x="18613" y="7553"/>
                </a:cubicBezTo>
              </a:path>
              <a:path w="1443" h="1088">
                <a:moveTo>
                  <a:pt x="18764" y="7645"/>
                </a:moveTo>
                <a:cubicBezTo>
                  <a:pt x="18749" y="7644"/>
                  <a:pt x="18715" y="7639"/>
                  <a:pt x="18702" y="7646"/>
                </a:cubicBezTo>
                <a:cubicBezTo>
                  <a:pt x="18673" y="7661"/>
                  <a:pt x="18643" y="7700"/>
                  <a:pt x="18632" y="7731"/>
                </a:cubicBezTo>
                <a:cubicBezTo>
                  <a:pt x="18616" y="7774"/>
                  <a:pt x="18612" y="7827"/>
                  <a:pt x="18640" y="7866"/>
                </a:cubicBezTo>
                <a:cubicBezTo>
                  <a:pt x="18668" y="7904"/>
                  <a:pt x="18724" y="7910"/>
                  <a:pt x="18767" y="7899"/>
                </a:cubicBezTo>
                <a:cubicBezTo>
                  <a:pt x="18819" y="7885"/>
                  <a:pt x="18860" y="7849"/>
                  <a:pt x="18884" y="7802"/>
                </a:cubicBezTo>
                <a:cubicBezTo>
                  <a:pt x="18902" y="7767"/>
                  <a:pt x="18907" y="7723"/>
                  <a:pt x="18901" y="7685"/>
                </a:cubicBezTo>
                <a:cubicBezTo>
                  <a:pt x="18897" y="7656"/>
                  <a:pt x="18883" y="7628"/>
                  <a:pt x="18876" y="7599"/>
                </a:cubicBezTo>
              </a:path>
              <a:path w="1443" h="1088">
                <a:moveTo>
                  <a:pt x="18938" y="7684"/>
                </a:moveTo>
                <a:cubicBezTo>
                  <a:pt x="18946" y="7734"/>
                  <a:pt x="18955" y="7781"/>
                  <a:pt x="18966" y="7830"/>
                </a:cubicBezTo>
                <a:cubicBezTo>
                  <a:pt x="18974" y="7866"/>
                  <a:pt x="18981" y="7914"/>
                  <a:pt x="19015" y="7936"/>
                </a:cubicBezTo>
                <a:cubicBezTo>
                  <a:pt x="19045" y="7955"/>
                  <a:pt x="19066" y="7922"/>
                  <a:pt x="19077" y="7901"/>
                </a:cubicBezTo>
                <a:cubicBezTo>
                  <a:pt x="19099" y="7856"/>
                  <a:pt x="19107" y="7808"/>
                  <a:pt x="19118" y="7760"/>
                </a:cubicBezTo>
                <a:cubicBezTo>
                  <a:pt x="19126" y="7725"/>
                  <a:pt x="19122" y="7686"/>
                  <a:pt x="19141" y="7655"/>
                </a:cubicBezTo>
                <a:cubicBezTo>
                  <a:pt x="19144" y="7652"/>
                  <a:pt x="19147" y="7648"/>
                  <a:pt x="19150" y="7645"/>
                </a:cubicBezTo>
              </a:path>
              <a:path w="1443" h="1088">
                <a:moveTo>
                  <a:pt x="19281" y="7794"/>
                </a:moveTo>
                <a:cubicBezTo>
                  <a:pt x="19313" y="7798"/>
                  <a:pt x="19323" y="7779"/>
                  <a:pt x="19344" y="7753"/>
                </a:cubicBezTo>
                <a:cubicBezTo>
                  <a:pt x="19366" y="7725"/>
                  <a:pt x="19394" y="7691"/>
                  <a:pt x="19409" y="7659"/>
                </a:cubicBezTo>
                <a:cubicBezTo>
                  <a:pt x="19410" y="7655"/>
                  <a:pt x="19410" y="7652"/>
                  <a:pt x="19411" y="7648"/>
                </a:cubicBezTo>
                <a:cubicBezTo>
                  <a:pt x="19367" y="7681"/>
                  <a:pt x="19336" y="7720"/>
                  <a:pt x="19308" y="7768"/>
                </a:cubicBezTo>
                <a:cubicBezTo>
                  <a:pt x="19282" y="7812"/>
                  <a:pt x="19245" y="7879"/>
                  <a:pt x="19270" y="7932"/>
                </a:cubicBezTo>
                <a:cubicBezTo>
                  <a:pt x="19294" y="7983"/>
                  <a:pt x="19355" y="7972"/>
                  <a:pt x="19397" y="7963"/>
                </a:cubicBezTo>
                <a:cubicBezTo>
                  <a:pt x="19450" y="7952"/>
                  <a:pt x="19492" y="7933"/>
                  <a:pt x="19537" y="790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7167600" y="2705040"/>
            <a:ext cx="146160" cy="185760"/>
          </a:xfrm>
          <a:custGeom>
            <a:avLst/>
            <a:gdLst/>
            <a:ahLst/>
            <a:rect l="l" t="t" r="r" b="b"/>
            <a:pathLst>
              <a:path w="406" h="516">
                <a:moveTo>
                  <a:pt x="19946" y="7592"/>
                </a:moveTo>
                <a:cubicBezTo>
                  <a:pt x="19928" y="7579"/>
                  <a:pt x="19921" y="7570"/>
                  <a:pt x="19910" y="7554"/>
                </a:cubicBezTo>
                <a:cubicBezTo>
                  <a:pt x="19930" y="7543"/>
                  <a:pt x="19948" y="7535"/>
                  <a:pt x="19971" y="7528"/>
                </a:cubicBezTo>
                <a:cubicBezTo>
                  <a:pt x="20006" y="7518"/>
                  <a:pt x="20043" y="7510"/>
                  <a:pt x="20080" y="7516"/>
                </a:cubicBezTo>
                <a:cubicBezTo>
                  <a:pt x="20120" y="7523"/>
                  <a:pt x="20150" y="7544"/>
                  <a:pt x="20173" y="7577"/>
                </a:cubicBezTo>
                <a:cubicBezTo>
                  <a:pt x="20204" y="7621"/>
                  <a:pt x="20218" y="7676"/>
                  <a:pt x="20234" y="7726"/>
                </a:cubicBezTo>
                <a:cubicBezTo>
                  <a:pt x="20252" y="7781"/>
                  <a:pt x="20265" y="7838"/>
                  <a:pt x="20279" y="7894"/>
                </a:cubicBezTo>
                <a:cubicBezTo>
                  <a:pt x="20289" y="7933"/>
                  <a:pt x="20296" y="7972"/>
                  <a:pt x="20310" y="8010"/>
                </a:cubicBezTo>
                <a:cubicBezTo>
                  <a:pt x="20312" y="8015"/>
                  <a:pt x="20313" y="8019"/>
                  <a:pt x="20315" y="8024"/>
                </a:cubicBezTo>
                <a:cubicBezTo>
                  <a:pt x="20292" y="8027"/>
                  <a:pt x="20273" y="8025"/>
                  <a:pt x="20249" y="8023"/>
                </a:cubicBezTo>
                <a:cubicBezTo>
                  <a:pt x="20212" y="8020"/>
                  <a:pt x="20174" y="8015"/>
                  <a:pt x="20137" y="8012"/>
                </a:cubicBezTo>
                <a:cubicBezTo>
                  <a:pt x="20108" y="8009"/>
                  <a:pt x="20065" y="8008"/>
                  <a:pt x="20038" y="7996"/>
                </a:cubicBezTo>
                <a:cubicBezTo>
                  <a:pt x="20003" y="7981"/>
                  <a:pt x="20031" y="7956"/>
                  <a:pt x="20046" y="7938"/>
                </a:cubicBezTo>
              </a:path>
              <a:path w="406" h="516">
                <a:moveTo>
                  <a:pt x="20312" y="7814"/>
                </a:moveTo>
                <a:cubicBezTo>
                  <a:pt x="20280" y="7816"/>
                  <a:pt x="20252" y="7807"/>
                  <a:pt x="20220" y="7799"/>
                </a:cubicBezTo>
                <a:cubicBezTo>
                  <a:pt x="20160" y="7783"/>
                  <a:pt x="20107" y="7776"/>
                  <a:pt x="20045" y="7774"/>
                </a:cubicBezTo>
                <a:cubicBezTo>
                  <a:pt x="20018" y="7773"/>
                  <a:pt x="19984" y="7761"/>
                  <a:pt x="20030" y="778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7493040" y="2690640"/>
            <a:ext cx="363600" cy="185760"/>
          </a:xfrm>
          <a:custGeom>
            <a:avLst/>
            <a:gdLst/>
            <a:ahLst/>
            <a:rect l="l" t="t" r="r" b="b"/>
            <a:pathLst>
              <a:path w="1010" h="517">
                <a:moveTo>
                  <a:pt x="20942" y="7509"/>
                </a:moveTo>
                <a:cubicBezTo>
                  <a:pt x="20939" y="7490"/>
                  <a:pt x="20939" y="7485"/>
                  <a:pt x="20933" y="7474"/>
                </a:cubicBezTo>
                <a:cubicBezTo>
                  <a:pt x="20925" y="7518"/>
                  <a:pt x="20927" y="7560"/>
                  <a:pt x="20929" y="7605"/>
                </a:cubicBezTo>
                <a:cubicBezTo>
                  <a:pt x="20934" y="7704"/>
                  <a:pt x="20941" y="7806"/>
                  <a:pt x="20956" y="7904"/>
                </a:cubicBezTo>
                <a:cubicBezTo>
                  <a:pt x="20960" y="7931"/>
                  <a:pt x="20967" y="7950"/>
                  <a:pt x="20967" y="7977"/>
                </a:cubicBezTo>
              </a:path>
              <a:path w="1010" h="517">
                <a:moveTo>
                  <a:pt x="20824" y="7797"/>
                </a:moveTo>
                <a:cubicBezTo>
                  <a:pt x="20829" y="7761"/>
                  <a:pt x="20825" y="7771"/>
                  <a:pt x="20871" y="7750"/>
                </a:cubicBezTo>
                <a:cubicBezTo>
                  <a:pt x="20944" y="7717"/>
                  <a:pt x="21024" y="7692"/>
                  <a:pt x="21102" y="7675"/>
                </a:cubicBezTo>
                <a:cubicBezTo>
                  <a:pt x="21124" y="7670"/>
                  <a:pt x="21201" y="7646"/>
                  <a:pt x="21212" y="7684"/>
                </a:cubicBezTo>
                <a:cubicBezTo>
                  <a:pt x="21224" y="7726"/>
                  <a:pt x="21196" y="7769"/>
                  <a:pt x="21187" y="7807"/>
                </a:cubicBezTo>
                <a:cubicBezTo>
                  <a:pt x="21179" y="7839"/>
                  <a:pt x="21168" y="7890"/>
                  <a:pt x="21187" y="7920"/>
                </a:cubicBezTo>
                <a:cubicBezTo>
                  <a:pt x="21192" y="7932"/>
                  <a:pt x="21195" y="7936"/>
                  <a:pt x="21206" y="7938"/>
                </a:cubicBezTo>
                <a:cubicBezTo>
                  <a:pt x="21237" y="7922"/>
                  <a:pt x="21251" y="7913"/>
                  <a:pt x="21272" y="7882"/>
                </a:cubicBezTo>
                <a:cubicBezTo>
                  <a:pt x="21296" y="7847"/>
                  <a:pt x="21312" y="7806"/>
                  <a:pt x="21338" y="7772"/>
                </a:cubicBezTo>
                <a:cubicBezTo>
                  <a:pt x="21351" y="7758"/>
                  <a:pt x="21354" y="7754"/>
                  <a:pt x="21365" y="7750"/>
                </a:cubicBezTo>
                <a:cubicBezTo>
                  <a:pt x="21385" y="7774"/>
                  <a:pt x="21392" y="7793"/>
                  <a:pt x="21404" y="7826"/>
                </a:cubicBezTo>
                <a:cubicBezTo>
                  <a:pt x="21416" y="7861"/>
                  <a:pt x="21435" y="7968"/>
                  <a:pt x="21473" y="7985"/>
                </a:cubicBezTo>
                <a:cubicBezTo>
                  <a:pt x="21486" y="7990"/>
                  <a:pt x="21491" y="7992"/>
                  <a:pt x="21500" y="7985"/>
                </a:cubicBezTo>
                <a:cubicBezTo>
                  <a:pt x="21518" y="7949"/>
                  <a:pt x="21524" y="7913"/>
                  <a:pt x="21528" y="7873"/>
                </a:cubicBezTo>
                <a:cubicBezTo>
                  <a:pt x="21532" y="7833"/>
                  <a:pt x="21532" y="7798"/>
                  <a:pt x="21530" y="7758"/>
                </a:cubicBezTo>
                <a:cubicBezTo>
                  <a:pt x="21530" y="7742"/>
                  <a:pt x="21530" y="7737"/>
                  <a:pt x="21532" y="7727"/>
                </a:cubicBezTo>
              </a:path>
              <a:path w="1010" h="517">
                <a:moveTo>
                  <a:pt x="21707" y="7670"/>
                </a:moveTo>
                <a:cubicBezTo>
                  <a:pt x="21705" y="7713"/>
                  <a:pt x="21690" y="7740"/>
                  <a:pt x="21676" y="7780"/>
                </a:cubicBezTo>
                <a:cubicBezTo>
                  <a:pt x="21662" y="7820"/>
                  <a:pt x="21649" y="7870"/>
                  <a:pt x="21660" y="7913"/>
                </a:cubicBezTo>
                <a:cubicBezTo>
                  <a:pt x="21670" y="7952"/>
                  <a:pt x="21709" y="7926"/>
                  <a:pt x="21728" y="7913"/>
                </a:cubicBezTo>
                <a:cubicBezTo>
                  <a:pt x="21765" y="7887"/>
                  <a:pt x="21794" y="7847"/>
                  <a:pt x="21813" y="7807"/>
                </a:cubicBezTo>
                <a:cubicBezTo>
                  <a:pt x="21825" y="7782"/>
                  <a:pt x="21833" y="7750"/>
                  <a:pt x="21810" y="7730"/>
                </a:cubicBezTo>
                <a:cubicBezTo>
                  <a:pt x="21796" y="7718"/>
                  <a:pt x="21776" y="7715"/>
                  <a:pt x="21759" y="771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8016840" y="2617920"/>
            <a:ext cx="725400" cy="231480"/>
          </a:xfrm>
          <a:custGeom>
            <a:avLst/>
            <a:gdLst/>
            <a:ahLst/>
            <a:rect l="l" t="t" r="r" b="b"/>
            <a:pathLst>
              <a:path w="2017" h="642">
                <a:moveTo>
                  <a:pt x="22286" y="7626"/>
                </a:moveTo>
                <a:cubicBezTo>
                  <a:pt x="22263" y="7643"/>
                  <a:pt x="22273" y="7666"/>
                  <a:pt x="22276" y="7696"/>
                </a:cubicBezTo>
                <a:cubicBezTo>
                  <a:pt x="22282" y="7747"/>
                  <a:pt x="22299" y="7791"/>
                  <a:pt x="22322" y="7837"/>
                </a:cubicBezTo>
                <a:cubicBezTo>
                  <a:pt x="22335" y="7862"/>
                  <a:pt x="22357" y="7916"/>
                  <a:pt x="22394" y="7914"/>
                </a:cubicBezTo>
                <a:cubicBezTo>
                  <a:pt x="22427" y="7912"/>
                  <a:pt x="22444" y="7855"/>
                  <a:pt x="22453" y="7832"/>
                </a:cubicBezTo>
                <a:cubicBezTo>
                  <a:pt x="22473" y="7779"/>
                  <a:pt x="22491" y="7724"/>
                  <a:pt x="22510" y="7671"/>
                </a:cubicBezTo>
                <a:cubicBezTo>
                  <a:pt x="22520" y="7643"/>
                  <a:pt x="22527" y="7625"/>
                  <a:pt x="22544" y="7602"/>
                </a:cubicBezTo>
                <a:cubicBezTo>
                  <a:pt x="22560" y="7625"/>
                  <a:pt x="22563" y="7639"/>
                  <a:pt x="22570" y="7668"/>
                </a:cubicBezTo>
              </a:path>
              <a:path w="2017" h="642">
                <a:moveTo>
                  <a:pt x="22646" y="7853"/>
                </a:moveTo>
                <a:cubicBezTo>
                  <a:pt x="22678" y="7872"/>
                  <a:pt x="22682" y="7854"/>
                  <a:pt x="22708" y="7831"/>
                </a:cubicBezTo>
                <a:cubicBezTo>
                  <a:pt x="22751" y="7792"/>
                  <a:pt x="22776" y="7742"/>
                  <a:pt x="22804" y="7691"/>
                </a:cubicBezTo>
                <a:cubicBezTo>
                  <a:pt x="22827" y="7649"/>
                  <a:pt x="22844" y="7615"/>
                  <a:pt x="22843" y="7568"/>
                </a:cubicBezTo>
                <a:cubicBezTo>
                  <a:pt x="22799" y="7563"/>
                  <a:pt x="22788" y="7585"/>
                  <a:pt x="22760" y="7622"/>
                </a:cubicBezTo>
                <a:cubicBezTo>
                  <a:pt x="22728" y="7665"/>
                  <a:pt x="22699" y="7714"/>
                  <a:pt x="22696" y="7770"/>
                </a:cubicBezTo>
                <a:cubicBezTo>
                  <a:pt x="22694" y="7812"/>
                  <a:pt x="22704" y="7848"/>
                  <a:pt x="22744" y="7865"/>
                </a:cubicBezTo>
                <a:cubicBezTo>
                  <a:pt x="22784" y="7882"/>
                  <a:pt x="22819" y="7870"/>
                  <a:pt x="22857" y="7852"/>
                </a:cubicBezTo>
                <a:cubicBezTo>
                  <a:pt x="22879" y="7841"/>
                  <a:pt x="22886" y="7838"/>
                  <a:pt x="22897" y="7826"/>
                </a:cubicBezTo>
              </a:path>
              <a:path w="2017" h="642">
                <a:moveTo>
                  <a:pt x="22941" y="7816"/>
                </a:moveTo>
                <a:cubicBezTo>
                  <a:pt x="22947" y="7829"/>
                  <a:pt x="22948" y="7832"/>
                  <a:pt x="22952" y="7840"/>
                </a:cubicBezTo>
                <a:cubicBezTo>
                  <a:pt x="22967" y="7833"/>
                  <a:pt x="22957" y="7813"/>
                  <a:pt x="22962" y="7789"/>
                </a:cubicBezTo>
                <a:cubicBezTo>
                  <a:pt x="22971" y="7748"/>
                  <a:pt x="22974" y="7704"/>
                  <a:pt x="22986" y="7663"/>
                </a:cubicBezTo>
                <a:cubicBezTo>
                  <a:pt x="22994" y="7637"/>
                  <a:pt x="23019" y="7597"/>
                  <a:pt x="23044" y="7586"/>
                </a:cubicBezTo>
                <a:cubicBezTo>
                  <a:pt x="23059" y="7580"/>
                  <a:pt x="23081" y="7587"/>
                  <a:pt x="23096" y="7589"/>
                </a:cubicBezTo>
              </a:path>
              <a:path w="2017" h="642">
                <a:moveTo>
                  <a:pt x="23246" y="7325"/>
                </a:moveTo>
                <a:cubicBezTo>
                  <a:pt x="23251" y="7306"/>
                  <a:pt x="23254" y="7290"/>
                  <a:pt x="23262" y="7273"/>
                </a:cubicBezTo>
                <a:cubicBezTo>
                  <a:pt x="23287" y="7297"/>
                  <a:pt x="23280" y="7336"/>
                  <a:pt x="23281" y="7377"/>
                </a:cubicBezTo>
                <a:cubicBezTo>
                  <a:pt x="23283" y="7463"/>
                  <a:pt x="23284" y="7549"/>
                  <a:pt x="23283" y="7635"/>
                </a:cubicBezTo>
                <a:cubicBezTo>
                  <a:pt x="23282" y="7696"/>
                  <a:pt x="23285" y="7761"/>
                  <a:pt x="23277" y="7822"/>
                </a:cubicBezTo>
                <a:cubicBezTo>
                  <a:pt x="23275" y="7828"/>
                  <a:pt x="23274" y="7834"/>
                  <a:pt x="23272" y="7840"/>
                </a:cubicBezTo>
              </a:path>
              <a:path w="2017" h="642">
                <a:moveTo>
                  <a:pt x="23209" y="7632"/>
                </a:moveTo>
                <a:cubicBezTo>
                  <a:pt x="23211" y="7616"/>
                  <a:pt x="23218" y="7585"/>
                  <a:pt x="23234" y="7576"/>
                </a:cubicBezTo>
                <a:cubicBezTo>
                  <a:pt x="23279" y="7552"/>
                  <a:pt x="23340" y="7552"/>
                  <a:pt x="23388" y="7539"/>
                </a:cubicBezTo>
                <a:cubicBezTo>
                  <a:pt x="23451" y="7522"/>
                  <a:pt x="23516" y="7505"/>
                  <a:pt x="23578" y="7485"/>
                </a:cubicBezTo>
                <a:cubicBezTo>
                  <a:pt x="23589" y="7481"/>
                  <a:pt x="23600" y="7477"/>
                  <a:pt x="23611" y="7473"/>
                </a:cubicBezTo>
              </a:path>
              <a:path w="2017" h="642">
                <a:moveTo>
                  <a:pt x="23659" y="7509"/>
                </a:moveTo>
                <a:cubicBezTo>
                  <a:pt x="23645" y="7562"/>
                  <a:pt x="23634" y="7616"/>
                  <a:pt x="23620" y="7669"/>
                </a:cubicBezTo>
                <a:cubicBezTo>
                  <a:pt x="23616" y="7684"/>
                  <a:pt x="23579" y="7790"/>
                  <a:pt x="23590" y="7801"/>
                </a:cubicBezTo>
                <a:cubicBezTo>
                  <a:pt x="23608" y="7793"/>
                  <a:pt x="23614" y="7789"/>
                  <a:pt x="23617" y="7774"/>
                </a:cubicBezTo>
              </a:path>
              <a:path w="2017" h="642">
                <a:moveTo>
                  <a:pt x="23652" y="7522"/>
                </a:moveTo>
                <a:cubicBezTo>
                  <a:pt x="23650" y="7489"/>
                  <a:pt x="23643" y="7478"/>
                  <a:pt x="23632" y="7449"/>
                </a:cubicBezTo>
                <a:cubicBezTo>
                  <a:pt x="23624" y="7428"/>
                  <a:pt x="23655" y="7416"/>
                  <a:pt x="23670" y="7412"/>
                </a:cubicBezTo>
                <a:cubicBezTo>
                  <a:pt x="23677" y="7411"/>
                  <a:pt x="23683" y="7410"/>
                  <a:pt x="23690" y="7409"/>
                </a:cubicBezTo>
              </a:path>
              <a:path w="2017" h="642">
                <a:moveTo>
                  <a:pt x="23851" y="7526"/>
                </a:moveTo>
                <a:cubicBezTo>
                  <a:pt x="23825" y="7560"/>
                  <a:pt x="23797" y="7593"/>
                  <a:pt x="23773" y="7626"/>
                </a:cubicBezTo>
                <a:cubicBezTo>
                  <a:pt x="23747" y="7662"/>
                  <a:pt x="23717" y="7700"/>
                  <a:pt x="23708" y="7744"/>
                </a:cubicBezTo>
                <a:cubicBezTo>
                  <a:pt x="23701" y="7775"/>
                  <a:pt x="23717" y="7802"/>
                  <a:pt x="23749" y="7809"/>
                </a:cubicBezTo>
                <a:cubicBezTo>
                  <a:pt x="23798" y="7820"/>
                  <a:pt x="23851" y="7804"/>
                  <a:pt x="23899" y="7797"/>
                </a:cubicBezTo>
              </a:path>
              <a:path w="2017" h="642">
                <a:moveTo>
                  <a:pt x="23994" y="7758"/>
                </a:moveTo>
                <a:cubicBezTo>
                  <a:pt x="24029" y="7694"/>
                  <a:pt x="24059" y="7632"/>
                  <a:pt x="24085" y="7564"/>
                </a:cubicBezTo>
                <a:cubicBezTo>
                  <a:pt x="24050" y="7595"/>
                  <a:pt x="23938" y="7701"/>
                  <a:pt x="23994" y="7763"/>
                </a:cubicBezTo>
                <a:cubicBezTo>
                  <a:pt x="24043" y="7818"/>
                  <a:pt x="24158" y="7767"/>
                  <a:pt x="24214" y="7754"/>
                </a:cubicBezTo>
              </a:path>
              <a:path w="2017" h="642">
                <a:moveTo>
                  <a:pt x="24285" y="7595"/>
                </a:moveTo>
                <a:cubicBezTo>
                  <a:pt x="24284" y="7578"/>
                  <a:pt x="24283" y="7561"/>
                  <a:pt x="24282" y="7544"/>
                </a:cubicBezTo>
                <a:cubicBezTo>
                  <a:pt x="24177" y="7627"/>
                  <a:pt x="24207" y="7631"/>
                  <a:pt x="24259" y="7735"/>
                </a:cubicBezTo>
                <a:cubicBezTo>
                  <a:pt x="24307" y="7832"/>
                  <a:pt x="24252" y="7867"/>
                  <a:pt x="24175" y="791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8748720" y="3149640"/>
            <a:ext cx="17280" cy="15840"/>
          </a:xfrm>
          <a:custGeom>
            <a:avLst/>
            <a:gdLst/>
            <a:ahLst/>
            <a:rect l="l" t="t" r="r" b="b"/>
            <a:pathLst>
              <a:path w="49" h="45">
                <a:moveTo>
                  <a:pt x="24303" y="8790"/>
                </a:moveTo>
                <a:cubicBezTo>
                  <a:pt x="24346" y="8794"/>
                  <a:pt x="24360" y="8795"/>
                  <a:pt x="24351" y="875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6559560" y="2963880"/>
            <a:ext cx="193680" cy="217440"/>
          </a:xfrm>
          <a:custGeom>
            <a:avLst/>
            <a:gdLst/>
            <a:ahLst/>
            <a:rect l="l" t="t" r="r" b="b"/>
            <a:pathLst>
              <a:path w="539" h="605">
                <a:moveTo>
                  <a:pt x="18294" y="8577"/>
                </a:moveTo>
                <a:cubicBezTo>
                  <a:pt x="18257" y="8583"/>
                  <a:pt x="18258" y="8590"/>
                  <a:pt x="18242" y="8623"/>
                </a:cubicBezTo>
                <a:cubicBezTo>
                  <a:pt x="18223" y="8664"/>
                  <a:pt x="18221" y="8707"/>
                  <a:pt x="18225" y="8752"/>
                </a:cubicBezTo>
                <a:cubicBezTo>
                  <a:pt x="18228" y="8779"/>
                  <a:pt x="18234" y="8835"/>
                  <a:pt x="18272" y="8838"/>
                </a:cubicBezTo>
                <a:cubicBezTo>
                  <a:pt x="18307" y="8841"/>
                  <a:pt x="18342" y="8798"/>
                  <a:pt x="18356" y="8772"/>
                </a:cubicBezTo>
                <a:cubicBezTo>
                  <a:pt x="18378" y="8732"/>
                  <a:pt x="18392" y="8682"/>
                  <a:pt x="18391" y="8636"/>
                </a:cubicBezTo>
                <a:cubicBezTo>
                  <a:pt x="18391" y="8607"/>
                  <a:pt x="18380" y="8582"/>
                  <a:pt x="18372" y="8555"/>
                </a:cubicBezTo>
              </a:path>
              <a:path w="539" h="605">
                <a:moveTo>
                  <a:pt x="18572" y="8822"/>
                </a:moveTo>
                <a:cubicBezTo>
                  <a:pt x="18554" y="8778"/>
                  <a:pt x="18540" y="8741"/>
                  <a:pt x="18535" y="8692"/>
                </a:cubicBezTo>
                <a:cubicBezTo>
                  <a:pt x="18527" y="8614"/>
                  <a:pt x="18533" y="8534"/>
                  <a:pt x="18539" y="8456"/>
                </a:cubicBezTo>
                <a:cubicBezTo>
                  <a:pt x="18544" y="8394"/>
                  <a:pt x="18546" y="8326"/>
                  <a:pt x="18563" y="8265"/>
                </a:cubicBezTo>
                <a:cubicBezTo>
                  <a:pt x="18571" y="8247"/>
                  <a:pt x="18572" y="8243"/>
                  <a:pt x="18579" y="8234"/>
                </a:cubicBezTo>
                <a:cubicBezTo>
                  <a:pt x="18607" y="8253"/>
                  <a:pt x="18624" y="8274"/>
                  <a:pt x="18634" y="8308"/>
                </a:cubicBezTo>
                <a:cubicBezTo>
                  <a:pt x="18638" y="8328"/>
                  <a:pt x="18639" y="8334"/>
                  <a:pt x="18635" y="8347"/>
                </a:cubicBezTo>
              </a:path>
              <a:path w="539" h="605">
                <a:moveTo>
                  <a:pt x="18379" y="8517"/>
                </a:moveTo>
                <a:cubicBezTo>
                  <a:pt x="18344" y="8544"/>
                  <a:pt x="18321" y="8560"/>
                  <a:pt x="18305" y="8602"/>
                </a:cubicBezTo>
                <a:cubicBezTo>
                  <a:pt x="18354" y="8621"/>
                  <a:pt x="18396" y="8608"/>
                  <a:pt x="18449" y="8600"/>
                </a:cubicBezTo>
                <a:cubicBezTo>
                  <a:pt x="18524" y="8589"/>
                  <a:pt x="18600" y="8574"/>
                  <a:pt x="18676" y="8567"/>
                </a:cubicBezTo>
                <a:cubicBezTo>
                  <a:pt x="18720" y="8565"/>
                  <a:pt x="18732" y="8565"/>
                  <a:pt x="18760" y="856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6905520" y="2962440"/>
            <a:ext cx="376200" cy="207720"/>
          </a:xfrm>
          <a:custGeom>
            <a:avLst/>
            <a:gdLst/>
            <a:ahLst/>
            <a:rect l="l" t="t" r="r" b="b"/>
            <a:pathLst>
              <a:path w="1046" h="580">
                <a:moveTo>
                  <a:pt x="19437" y="8245"/>
                </a:moveTo>
                <a:cubicBezTo>
                  <a:pt x="19424" y="8232"/>
                  <a:pt x="19422" y="8228"/>
                  <a:pt x="19410" y="8228"/>
                </a:cubicBezTo>
                <a:cubicBezTo>
                  <a:pt x="19377" y="8263"/>
                  <a:pt x="19367" y="8314"/>
                  <a:pt x="19362" y="8362"/>
                </a:cubicBezTo>
                <a:cubicBezTo>
                  <a:pt x="19353" y="8458"/>
                  <a:pt x="19358" y="8553"/>
                  <a:pt x="19363" y="8649"/>
                </a:cubicBezTo>
                <a:cubicBezTo>
                  <a:pt x="19365" y="8689"/>
                  <a:pt x="19358" y="8770"/>
                  <a:pt x="19378" y="8807"/>
                </a:cubicBezTo>
                <a:cubicBezTo>
                  <a:pt x="19378" y="8804"/>
                  <a:pt x="19379" y="8800"/>
                  <a:pt x="19379" y="8797"/>
                </a:cubicBezTo>
              </a:path>
              <a:path w="1046" h="580">
                <a:moveTo>
                  <a:pt x="19195" y="8531"/>
                </a:moveTo>
                <a:cubicBezTo>
                  <a:pt x="19224" y="8538"/>
                  <a:pt x="19230" y="8534"/>
                  <a:pt x="19260" y="8531"/>
                </a:cubicBezTo>
                <a:cubicBezTo>
                  <a:pt x="19316" y="8525"/>
                  <a:pt x="19377" y="8522"/>
                  <a:pt x="19431" y="8506"/>
                </a:cubicBezTo>
                <a:cubicBezTo>
                  <a:pt x="19470" y="8494"/>
                  <a:pt x="19517" y="8474"/>
                  <a:pt x="19542" y="8440"/>
                </a:cubicBezTo>
                <a:cubicBezTo>
                  <a:pt x="19569" y="8403"/>
                  <a:pt x="19584" y="8346"/>
                  <a:pt x="19593" y="8302"/>
                </a:cubicBezTo>
                <a:cubicBezTo>
                  <a:pt x="19595" y="8283"/>
                  <a:pt x="19594" y="8279"/>
                  <a:pt x="19602" y="8270"/>
                </a:cubicBezTo>
                <a:cubicBezTo>
                  <a:pt x="19604" y="8323"/>
                  <a:pt x="19604" y="8374"/>
                  <a:pt x="19603" y="8427"/>
                </a:cubicBezTo>
                <a:cubicBezTo>
                  <a:pt x="19601" y="8501"/>
                  <a:pt x="19600" y="8576"/>
                  <a:pt x="19599" y="8650"/>
                </a:cubicBezTo>
                <a:cubicBezTo>
                  <a:pt x="19598" y="8677"/>
                  <a:pt x="19601" y="8698"/>
                  <a:pt x="19603" y="8724"/>
                </a:cubicBezTo>
                <a:cubicBezTo>
                  <a:pt x="19621" y="8686"/>
                  <a:pt x="19635" y="8646"/>
                  <a:pt x="19655" y="8608"/>
                </a:cubicBezTo>
                <a:cubicBezTo>
                  <a:pt x="19669" y="8581"/>
                  <a:pt x="19696" y="8536"/>
                  <a:pt x="19734" y="8557"/>
                </a:cubicBezTo>
                <a:cubicBezTo>
                  <a:pt x="19780" y="8582"/>
                  <a:pt x="19806" y="8656"/>
                  <a:pt x="19831" y="8698"/>
                </a:cubicBezTo>
                <a:cubicBezTo>
                  <a:pt x="19857" y="8740"/>
                  <a:pt x="19865" y="8753"/>
                  <a:pt x="19885" y="8779"/>
                </a:cubicBezTo>
              </a:path>
              <a:path w="1046" h="580">
                <a:moveTo>
                  <a:pt x="20074" y="8648"/>
                </a:moveTo>
                <a:cubicBezTo>
                  <a:pt x="20083" y="8631"/>
                  <a:pt x="20098" y="8609"/>
                  <a:pt x="20110" y="8595"/>
                </a:cubicBezTo>
                <a:cubicBezTo>
                  <a:pt x="20135" y="8568"/>
                  <a:pt x="20157" y="8541"/>
                  <a:pt x="20179" y="8511"/>
                </a:cubicBezTo>
                <a:cubicBezTo>
                  <a:pt x="20196" y="8489"/>
                  <a:pt x="20201" y="8489"/>
                  <a:pt x="20192" y="8467"/>
                </a:cubicBezTo>
                <a:cubicBezTo>
                  <a:pt x="20160" y="8491"/>
                  <a:pt x="20132" y="8517"/>
                  <a:pt x="20106" y="8548"/>
                </a:cubicBezTo>
                <a:cubicBezTo>
                  <a:pt x="20076" y="8584"/>
                  <a:pt x="20046" y="8631"/>
                  <a:pt x="20043" y="8679"/>
                </a:cubicBezTo>
                <a:cubicBezTo>
                  <a:pt x="20041" y="8718"/>
                  <a:pt x="20075" y="8727"/>
                  <a:pt x="20108" y="8729"/>
                </a:cubicBezTo>
                <a:cubicBezTo>
                  <a:pt x="20148" y="8732"/>
                  <a:pt x="20190" y="8718"/>
                  <a:pt x="20228" y="870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7461360" y="3016080"/>
            <a:ext cx="1230120" cy="277920"/>
          </a:xfrm>
          <a:custGeom>
            <a:avLst/>
            <a:gdLst/>
            <a:ahLst/>
            <a:rect l="l" t="t" r="r" b="b"/>
            <a:pathLst>
              <a:path w="3416" h="770">
                <a:moveTo>
                  <a:pt x="20971" y="8447"/>
                </a:moveTo>
                <a:cubicBezTo>
                  <a:pt x="20946" y="8427"/>
                  <a:pt x="20916" y="8402"/>
                  <a:pt x="20884" y="8394"/>
                </a:cubicBezTo>
                <a:cubicBezTo>
                  <a:pt x="20848" y="8384"/>
                  <a:pt x="20812" y="8400"/>
                  <a:pt x="20781" y="8417"/>
                </a:cubicBezTo>
                <a:cubicBezTo>
                  <a:pt x="20759" y="8430"/>
                  <a:pt x="20724" y="8454"/>
                  <a:pt x="20726" y="8484"/>
                </a:cubicBezTo>
                <a:cubicBezTo>
                  <a:pt x="20728" y="8514"/>
                  <a:pt x="20787" y="8529"/>
                  <a:pt x="20807" y="8539"/>
                </a:cubicBezTo>
                <a:cubicBezTo>
                  <a:pt x="20850" y="8561"/>
                  <a:pt x="20898" y="8590"/>
                  <a:pt x="20928" y="8629"/>
                </a:cubicBezTo>
                <a:cubicBezTo>
                  <a:pt x="20954" y="8664"/>
                  <a:pt x="20959" y="8704"/>
                  <a:pt x="20938" y="8742"/>
                </a:cubicBezTo>
                <a:cubicBezTo>
                  <a:pt x="20910" y="8791"/>
                  <a:pt x="20852" y="8817"/>
                  <a:pt x="20798" y="8820"/>
                </a:cubicBezTo>
                <a:cubicBezTo>
                  <a:pt x="20752" y="8823"/>
                  <a:pt x="20748" y="8787"/>
                  <a:pt x="20762" y="8750"/>
                </a:cubicBezTo>
                <a:cubicBezTo>
                  <a:pt x="20769" y="8737"/>
                  <a:pt x="20775" y="8723"/>
                  <a:pt x="20782" y="8710"/>
                </a:cubicBezTo>
              </a:path>
              <a:path w="3416" h="770">
                <a:moveTo>
                  <a:pt x="21159" y="8451"/>
                </a:moveTo>
                <a:cubicBezTo>
                  <a:pt x="21130" y="8494"/>
                  <a:pt x="21098" y="8530"/>
                  <a:pt x="21069" y="8573"/>
                </a:cubicBezTo>
                <a:cubicBezTo>
                  <a:pt x="21039" y="8618"/>
                  <a:pt x="21013" y="8663"/>
                  <a:pt x="21001" y="8716"/>
                </a:cubicBezTo>
                <a:cubicBezTo>
                  <a:pt x="20998" y="8733"/>
                  <a:pt x="20996" y="8737"/>
                  <a:pt x="21002" y="8746"/>
                </a:cubicBezTo>
                <a:cubicBezTo>
                  <a:pt x="21034" y="8740"/>
                  <a:pt x="21056" y="8720"/>
                  <a:pt x="21080" y="8698"/>
                </a:cubicBezTo>
                <a:cubicBezTo>
                  <a:pt x="21109" y="8671"/>
                  <a:pt x="21136" y="8633"/>
                  <a:pt x="21176" y="8621"/>
                </a:cubicBezTo>
                <a:cubicBezTo>
                  <a:pt x="21215" y="8610"/>
                  <a:pt x="21236" y="8645"/>
                  <a:pt x="21250" y="8675"/>
                </a:cubicBezTo>
                <a:cubicBezTo>
                  <a:pt x="21269" y="8716"/>
                  <a:pt x="21276" y="8763"/>
                  <a:pt x="21296" y="8804"/>
                </a:cubicBezTo>
                <a:cubicBezTo>
                  <a:pt x="21314" y="8843"/>
                  <a:pt x="21335" y="8852"/>
                  <a:pt x="21366" y="8823"/>
                </a:cubicBezTo>
                <a:cubicBezTo>
                  <a:pt x="21372" y="8816"/>
                  <a:pt x="21379" y="8810"/>
                  <a:pt x="21385" y="8803"/>
                </a:cubicBezTo>
              </a:path>
              <a:path w="3416" h="770">
                <a:moveTo>
                  <a:pt x="21444" y="8610"/>
                </a:moveTo>
                <a:cubicBezTo>
                  <a:pt x="21451" y="8599"/>
                  <a:pt x="21452" y="8648"/>
                  <a:pt x="21453" y="8667"/>
                </a:cubicBezTo>
                <a:cubicBezTo>
                  <a:pt x="21456" y="8701"/>
                  <a:pt x="21459" y="8736"/>
                  <a:pt x="21459" y="8770"/>
                </a:cubicBezTo>
                <a:cubicBezTo>
                  <a:pt x="21459" y="8775"/>
                  <a:pt x="21458" y="8779"/>
                  <a:pt x="21458" y="8784"/>
                </a:cubicBezTo>
                <a:cubicBezTo>
                  <a:pt x="21460" y="8746"/>
                  <a:pt x="21469" y="8709"/>
                  <a:pt x="21479" y="8672"/>
                </a:cubicBezTo>
                <a:cubicBezTo>
                  <a:pt x="21491" y="8627"/>
                  <a:pt x="21505" y="8576"/>
                  <a:pt x="21532" y="8537"/>
                </a:cubicBezTo>
                <a:cubicBezTo>
                  <a:pt x="21536" y="8532"/>
                  <a:pt x="21541" y="8528"/>
                  <a:pt x="21545" y="8523"/>
                </a:cubicBezTo>
                <a:cubicBezTo>
                  <a:pt x="21573" y="8539"/>
                  <a:pt x="21571" y="8573"/>
                  <a:pt x="21574" y="8605"/>
                </a:cubicBezTo>
                <a:cubicBezTo>
                  <a:pt x="21578" y="8655"/>
                  <a:pt x="21579" y="8705"/>
                  <a:pt x="21578" y="8755"/>
                </a:cubicBezTo>
                <a:cubicBezTo>
                  <a:pt x="21577" y="8772"/>
                  <a:pt x="21577" y="8775"/>
                  <a:pt x="21576" y="8785"/>
                </a:cubicBezTo>
                <a:cubicBezTo>
                  <a:pt x="21583" y="8737"/>
                  <a:pt x="21589" y="8689"/>
                  <a:pt x="21597" y="8641"/>
                </a:cubicBezTo>
                <a:cubicBezTo>
                  <a:pt x="21602" y="8609"/>
                  <a:pt x="21604" y="8582"/>
                  <a:pt x="21632" y="8567"/>
                </a:cubicBezTo>
                <a:cubicBezTo>
                  <a:pt x="21657" y="8592"/>
                  <a:pt x="21666" y="8620"/>
                  <a:pt x="21680" y="8653"/>
                </a:cubicBezTo>
                <a:cubicBezTo>
                  <a:pt x="21697" y="8693"/>
                  <a:pt x="21710" y="8735"/>
                  <a:pt x="21736" y="8770"/>
                </a:cubicBezTo>
                <a:cubicBezTo>
                  <a:pt x="21748" y="8782"/>
                  <a:pt x="21750" y="8785"/>
                  <a:pt x="21761" y="8788"/>
                </a:cubicBezTo>
              </a:path>
              <a:path w="3416" h="770">
                <a:moveTo>
                  <a:pt x="21905" y="8653"/>
                </a:moveTo>
                <a:cubicBezTo>
                  <a:pt x="21926" y="8641"/>
                  <a:pt x="21961" y="8625"/>
                  <a:pt x="21978" y="8610"/>
                </a:cubicBezTo>
                <a:cubicBezTo>
                  <a:pt x="22009" y="8583"/>
                  <a:pt x="22041" y="8553"/>
                  <a:pt x="22066" y="8520"/>
                </a:cubicBezTo>
                <a:cubicBezTo>
                  <a:pt x="22081" y="8500"/>
                  <a:pt x="22087" y="8487"/>
                  <a:pt x="22092" y="8463"/>
                </a:cubicBezTo>
                <a:cubicBezTo>
                  <a:pt x="22055" y="8464"/>
                  <a:pt x="22036" y="8486"/>
                  <a:pt x="22012" y="8517"/>
                </a:cubicBezTo>
                <a:cubicBezTo>
                  <a:pt x="21985" y="8552"/>
                  <a:pt x="21956" y="8602"/>
                  <a:pt x="21958" y="8648"/>
                </a:cubicBezTo>
                <a:cubicBezTo>
                  <a:pt x="21960" y="8690"/>
                  <a:pt x="21987" y="8708"/>
                  <a:pt x="22023" y="8718"/>
                </a:cubicBezTo>
                <a:cubicBezTo>
                  <a:pt x="22067" y="8730"/>
                  <a:pt x="22113" y="8730"/>
                  <a:pt x="22158" y="8733"/>
                </a:cubicBezTo>
              </a:path>
              <a:path w="3416" h="770">
                <a:moveTo>
                  <a:pt x="22754" y="8625"/>
                </a:moveTo>
                <a:cubicBezTo>
                  <a:pt x="22738" y="8597"/>
                  <a:pt x="22720" y="8569"/>
                  <a:pt x="22687" y="8557"/>
                </a:cubicBezTo>
                <a:cubicBezTo>
                  <a:pt x="22648" y="8542"/>
                  <a:pt x="22605" y="8553"/>
                  <a:pt x="22571" y="8575"/>
                </a:cubicBezTo>
                <a:cubicBezTo>
                  <a:pt x="22530" y="8601"/>
                  <a:pt x="22499" y="8645"/>
                  <a:pt x="22483" y="8691"/>
                </a:cubicBezTo>
                <a:cubicBezTo>
                  <a:pt x="22474" y="8718"/>
                  <a:pt x="22468" y="8772"/>
                  <a:pt x="22505" y="8784"/>
                </a:cubicBezTo>
                <a:cubicBezTo>
                  <a:pt x="22547" y="8797"/>
                  <a:pt x="22597" y="8752"/>
                  <a:pt x="22623" y="8728"/>
                </a:cubicBezTo>
                <a:cubicBezTo>
                  <a:pt x="22674" y="8681"/>
                  <a:pt x="22711" y="8618"/>
                  <a:pt x="22741" y="8556"/>
                </a:cubicBezTo>
                <a:cubicBezTo>
                  <a:pt x="22766" y="8504"/>
                  <a:pt x="22777" y="8454"/>
                  <a:pt x="22782" y="8398"/>
                </a:cubicBezTo>
                <a:cubicBezTo>
                  <a:pt x="22783" y="8392"/>
                  <a:pt x="22783" y="8385"/>
                  <a:pt x="22784" y="8379"/>
                </a:cubicBezTo>
                <a:cubicBezTo>
                  <a:pt x="22755" y="8408"/>
                  <a:pt x="22756" y="8452"/>
                  <a:pt x="22755" y="8494"/>
                </a:cubicBezTo>
                <a:cubicBezTo>
                  <a:pt x="22754" y="8566"/>
                  <a:pt x="22767" y="8637"/>
                  <a:pt x="22785" y="8707"/>
                </a:cubicBezTo>
                <a:cubicBezTo>
                  <a:pt x="22795" y="8746"/>
                  <a:pt x="22807" y="8770"/>
                  <a:pt x="22842" y="8790"/>
                </a:cubicBezTo>
              </a:path>
              <a:path w="3416" h="770">
                <a:moveTo>
                  <a:pt x="22929" y="8700"/>
                </a:moveTo>
                <a:cubicBezTo>
                  <a:pt x="22957" y="8697"/>
                  <a:pt x="22958" y="8692"/>
                  <a:pt x="22978" y="8677"/>
                </a:cubicBezTo>
                <a:cubicBezTo>
                  <a:pt x="22999" y="8661"/>
                  <a:pt x="23001" y="8636"/>
                  <a:pt x="22997" y="8608"/>
                </a:cubicBezTo>
                <a:cubicBezTo>
                  <a:pt x="22994" y="8585"/>
                  <a:pt x="22984" y="8554"/>
                  <a:pt x="22959" y="8547"/>
                </a:cubicBezTo>
                <a:cubicBezTo>
                  <a:pt x="22926" y="8537"/>
                  <a:pt x="22893" y="8576"/>
                  <a:pt x="22877" y="8598"/>
                </a:cubicBezTo>
                <a:cubicBezTo>
                  <a:pt x="22845" y="8641"/>
                  <a:pt x="22827" y="8691"/>
                  <a:pt x="22825" y="8745"/>
                </a:cubicBezTo>
                <a:cubicBezTo>
                  <a:pt x="22824" y="8794"/>
                  <a:pt x="22850" y="8842"/>
                  <a:pt x="22902" y="8852"/>
                </a:cubicBezTo>
                <a:cubicBezTo>
                  <a:pt x="22957" y="8862"/>
                  <a:pt x="23033" y="8833"/>
                  <a:pt x="23082" y="8811"/>
                </a:cubicBezTo>
                <a:cubicBezTo>
                  <a:pt x="23099" y="8802"/>
                  <a:pt x="23116" y="8794"/>
                  <a:pt x="23133" y="8785"/>
                </a:cubicBezTo>
              </a:path>
              <a:path w="3416" h="770">
                <a:moveTo>
                  <a:pt x="23299" y="8559"/>
                </a:moveTo>
                <a:cubicBezTo>
                  <a:pt x="23282" y="8538"/>
                  <a:pt x="23271" y="8506"/>
                  <a:pt x="23236" y="8519"/>
                </a:cubicBezTo>
                <a:cubicBezTo>
                  <a:pt x="23203" y="8531"/>
                  <a:pt x="23167" y="8576"/>
                  <a:pt x="23146" y="8603"/>
                </a:cubicBezTo>
                <a:cubicBezTo>
                  <a:pt x="23122" y="8633"/>
                  <a:pt x="23068" y="8708"/>
                  <a:pt x="23096" y="8749"/>
                </a:cubicBezTo>
                <a:cubicBezTo>
                  <a:pt x="23116" y="8779"/>
                  <a:pt x="23170" y="8752"/>
                  <a:pt x="23191" y="8740"/>
                </a:cubicBezTo>
                <a:cubicBezTo>
                  <a:pt x="23225" y="8720"/>
                  <a:pt x="23260" y="8691"/>
                  <a:pt x="23285" y="8660"/>
                </a:cubicBezTo>
                <a:cubicBezTo>
                  <a:pt x="23295" y="8643"/>
                  <a:pt x="23298" y="8637"/>
                  <a:pt x="23314" y="8639"/>
                </a:cubicBezTo>
                <a:cubicBezTo>
                  <a:pt x="23332" y="8677"/>
                  <a:pt x="23334" y="8712"/>
                  <a:pt x="23337" y="8754"/>
                </a:cubicBezTo>
                <a:cubicBezTo>
                  <a:pt x="23343" y="8830"/>
                  <a:pt x="23346" y="8902"/>
                  <a:pt x="23324" y="8976"/>
                </a:cubicBezTo>
                <a:cubicBezTo>
                  <a:pt x="23307" y="9035"/>
                  <a:pt x="23275" y="9100"/>
                  <a:pt x="23220" y="9132"/>
                </a:cubicBezTo>
                <a:cubicBezTo>
                  <a:pt x="23177" y="9157"/>
                  <a:pt x="23117" y="9156"/>
                  <a:pt x="23082" y="9118"/>
                </a:cubicBezTo>
                <a:cubicBezTo>
                  <a:pt x="23042" y="9075"/>
                  <a:pt x="23033" y="9009"/>
                  <a:pt x="23043" y="8954"/>
                </a:cubicBezTo>
                <a:cubicBezTo>
                  <a:pt x="23047" y="8939"/>
                  <a:pt x="23052" y="8923"/>
                  <a:pt x="23056" y="8908"/>
                </a:cubicBezTo>
              </a:path>
              <a:path w="3416" h="770">
                <a:moveTo>
                  <a:pt x="23418" y="8569"/>
                </a:moveTo>
                <a:cubicBezTo>
                  <a:pt x="23442" y="8599"/>
                  <a:pt x="23461" y="8633"/>
                  <a:pt x="23471" y="8672"/>
                </a:cubicBezTo>
                <a:cubicBezTo>
                  <a:pt x="23480" y="8709"/>
                  <a:pt x="23487" y="8752"/>
                  <a:pt x="23493" y="8790"/>
                </a:cubicBezTo>
                <a:cubicBezTo>
                  <a:pt x="23493" y="8795"/>
                  <a:pt x="23493" y="8799"/>
                  <a:pt x="23493" y="8804"/>
                </a:cubicBezTo>
                <a:cubicBezTo>
                  <a:pt x="23494" y="8772"/>
                  <a:pt x="23493" y="8739"/>
                  <a:pt x="23494" y="8707"/>
                </a:cubicBezTo>
                <a:cubicBezTo>
                  <a:pt x="23495" y="8657"/>
                  <a:pt x="23502" y="8610"/>
                  <a:pt x="23516" y="8563"/>
                </a:cubicBezTo>
                <a:cubicBezTo>
                  <a:pt x="23523" y="8538"/>
                  <a:pt x="23537" y="8504"/>
                  <a:pt x="23567" y="8496"/>
                </a:cubicBezTo>
                <a:cubicBezTo>
                  <a:pt x="23581" y="8496"/>
                  <a:pt x="23586" y="8496"/>
                  <a:pt x="23594" y="8502"/>
                </a:cubicBezTo>
              </a:path>
              <a:path w="3416" h="770">
                <a:moveTo>
                  <a:pt x="23704" y="8669"/>
                </a:moveTo>
                <a:cubicBezTo>
                  <a:pt x="23692" y="8666"/>
                  <a:pt x="23688" y="8665"/>
                  <a:pt x="23679" y="8665"/>
                </a:cubicBezTo>
                <a:cubicBezTo>
                  <a:pt x="23704" y="8676"/>
                  <a:pt x="23721" y="8675"/>
                  <a:pt x="23744" y="8656"/>
                </a:cubicBezTo>
                <a:cubicBezTo>
                  <a:pt x="23765" y="8639"/>
                  <a:pt x="23785" y="8616"/>
                  <a:pt x="23798" y="8592"/>
                </a:cubicBezTo>
                <a:cubicBezTo>
                  <a:pt x="23804" y="8580"/>
                  <a:pt x="23817" y="8552"/>
                  <a:pt x="23809" y="8538"/>
                </a:cubicBezTo>
                <a:cubicBezTo>
                  <a:pt x="23805" y="8534"/>
                  <a:pt x="23802" y="8531"/>
                  <a:pt x="23798" y="8527"/>
                </a:cubicBezTo>
                <a:cubicBezTo>
                  <a:pt x="23770" y="8530"/>
                  <a:pt x="23754" y="8542"/>
                  <a:pt x="23735" y="8565"/>
                </a:cubicBezTo>
                <a:cubicBezTo>
                  <a:pt x="23708" y="8597"/>
                  <a:pt x="23694" y="8636"/>
                  <a:pt x="23691" y="8677"/>
                </a:cubicBezTo>
                <a:cubicBezTo>
                  <a:pt x="23688" y="8716"/>
                  <a:pt x="23697" y="8755"/>
                  <a:pt x="23731" y="8778"/>
                </a:cubicBezTo>
                <a:cubicBezTo>
                  <a:pt x="23782" y="8813"/>
                  <a:pt x="23825" y="8798"/>
                  <a:pt x="23882" y="8787"/>
                </a:cubicBezTo>
              </a:path>
              <a:path w="3416" h="770">
                <a:moveTo>
                  <a:pt x="23982" y="8728"/>
                </a:moveTo>
                <a:cubicBezTo>
                  <a:pt x="24027" y="8679"/>
                  <a:pt x="24134" y="8614"/>
                  <a:pt x="24141" y="8541"/>
                </a:cubicBezTo>
                <a:cubicBezTo>
                  <a:pt x="24136" y="8527"/>
                  <a:pt x="24131" y="8514"/>
                  <a:pt x="24126" y="8500"/>
                </a:cubicBezTo>
                <a:cubicBezTo>
                  <a:pt x="24045" y="8557"/>
                  <a:pt x="23984" y="8622"/>
                  <a:pt x="23992" y="8735"/>
                </a:cubicBezTo>
                <a:cubicBezTo>
                  <a:pt x="23998" y="8820"/>
                  <a:pt x="24084" y="8790"/>
                  <a:pt x="24134" y="878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5894280" y="3306600"/>
            <a:ext cx="9720" cy="6480"/>
          </a:xfrm>
          <a:custGeom>
            <a:avLst/>
            <a:gdLst/>
            <a:ahLst/>
            <a:rect l="l" t="t" r="r" b="b"/>
            <a:pathLst>
              <a:path w="27" h="16">
                <a:moveTo>
                  <a:pt x="16398" y="9187"/>
                </a:moveTo>
                <a:cubicBezTo>
                  <a:pt x="16386" y="9192"/>
                  <a:pt x="16380" y="9196"/>
                  <a:pt x="16372" y="920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720720" y="3244680"/>
            <a:ext cx="880920" cy="308160"/>
          </a:xfrm>
          <a:custGeom>
            <a:avLst/>
            <a:gdLst/>
            <a:ahLst/>
            <a:rect l="l" t="t" r="r" b="b"/>
            <a:pathLst>
              <a:path w="2446" h="855">
                <a:moveTo>
                  <a:pt x="2037" y="9183"/>
                </a:moveTo>
                <a:cubicBezTo>
                  <a:pt x="2027" y="9165"/>
                  <a:pt x="2024" y="9157"/>
                  <a:pt x="2013" y="9139"/>
                </a:cubicBezTo>
                <a:cubicBezTo>
                  <a:pt x="2019" y="9180"/>
                  <a:pt x="2029" y="9218"/>
                  <a:pt x="2037" y="9259"/>
                </a:cubicBezTo>
                <a:cubicBezTo>
                  <a:pt x="2057" y="9357"/>
                  <a:pt x="2079" y="9455"/>
                  <a:pt x="2097" y="9554"/>
                </a:cubicBezTo>
                <a:cubicBezTo>
                  <a:pt x="2113" y="9642"/>
                  <a:pt x="2126" y="9732"/>
                  <a:pt x="2129" y="9821"/>
                </a:cubicBezTo>
                <a:cubicBezTo>
                  <a:pt x="2130" y="9848"/>
                  <a:pt x="2129" y="9853"/>
                  <a:pt x="2132" y="9869"/>
                </a:cubicBezTo>
              </a:path>
              <a:path w="2446" h="855">
                <a:moveTo>
                  <a:pt x="2010" y="9223"/>
                </a:moveTo>
                <a:cubicBezTo>
                  <a:pt x="2003" y="9157"/>
                  <a:pt x="2000" y="9119"/>
                  <a:pt x="2049" y="9070"/>
                </a:cubicBezTo>
                <a:cubicBezTo>
                  <a:pt x="2103" y="9016"/>
                  <a:pt x="2181" y="9014"/>
                  <a:pt x="2251" y="9036"/>
                </a:cubicBezTo>
                <a:cubicBezTo>
                  <a:pt x="2353" y="9068"/>
                  <a:pt x="2413" y="9153"/>
                  <a:pt x="2444" y="9251"/>
                </a:cubicBezTo>
                <a:cubicBezTo>
                  <a:pt x="2477" y="9356"/>
                  <a:pt x="2475" y="9472"/>
                  <a:pt x="2437" y="9575"/>
                </a:cubicBezTo>
                <a:cubicBezTo>
                  <a:pt x="2410" y="9648"/>
                  <a:pt x="2363" y="9713"/>
                  <a:pt x="2293" y="9750"/>
                </a:cubicBezTo>
                <a:cubicBezTo>
                  <a:pt x="2259" y="9768"/>
                  <a:pt x="2201" y="9780"/>
                  <a:pt x="2179" y="9737"/>
                </a:cubicBezTo>
                <a:cubicBezTo>
                  <a:pt x="2156" y="9693"/>
                  <a:pt x="2199" y="9636"/>
                  <a:pt x="2218" y="9600"/>
                </a:cubicBezTo>
              </a:path>
              <a:path w="2446" h="855">
                <a:moveTo>
                  <a:pt x="2605" y="9705"/>
                </a:moveTo>
                <a:cubicBezTo>
                  <a:pt x="2664" y="9689"/>
                  <a:pt x="2684" y="9660"/>
                  <a:pt x="2727" y="9618"/>
                </a:cubicBezTo>
                <a:cubicBezTo>
                  <a:pt x="2781" y="9564"/>
                  <a:pt x="2826" y="9509"/>
                  <a:pt x="2858" y="9439"/>
                </a:cubicBezTo>
                <a:cubicBezTo>
                  <a:pt x="2876" y="9399"/>
                  <a:pt x="2876" y="9383"/>
                  <a:pt x="2865" y="9344"/>
                </a:cubicBezTo>
                <a:cubicBezTo>
                  <a:pt x="2811" y="9326"/>
                  <a:pt x="2777" y="9335"/>
                  <a:pt x="2727" y="9368"/>
                </a:cubicBezTo>
                <a:cubicBezTo>
                  <a:pt x="2661" y="9411"/>
                  <a:pt x="2592" y="9492"/>
                  <a:pt x="2598" y="9576"/>
                </a:cubicBezTo>
                <a:cubicBezTo>
                  <a:pt x="2603" y="9651"/>
                  <a:pt x="2682" y="9663"/>
                  <a:pt x="2741" y="9673"/>
                </a:cubicBezTo>
                <a:cubicBezTo>
                  <a:pt x="2804" y="9683"/>
                  <a:pt x="2865" y="9679"/>
                  <a:pt x="2929" y="9677"/>
                </a:cubicBezTo>
              </a:path>
              <a:path w="2446" h="855">
                <a:moveTo>
                  <a:pt x="3094" y="9716"/>
                </a:moveTo>
                <a:cubicBezTo>
                  <a:pt x="3051" y="9668"/>
                  <a:pt x="3035" y="9615"/>
                  <a:pt x="3020" y="9552"/>
                </a:cubicBezTo>
                <a:cubicBezTo>
                  <a:pt x="2996" y="9449"/>
                  <a:pt x="2999" y="9339"/>
                  <a:pt x="3016" y="9235"/>
                </a:cubicBezTo>
                <a:cubicBezTo>
                  <a:pt x="3026" y="9172"/>
                  <a:pt x="3042" y="9087"/>
                  <a:pt x="3089" y="9039"/>
                </a:cubicBezTo>
                <a:cubicBezTo>
                  <a:pt x="3122" y="9004"/>
                  <a:pt x="3161" y="9016"/>
                  <a:pt x="3196" y="9040"/>
                </a:cubicBezTo>
                <a:cubicBezTo>
                  <a:pt x="3238" y="9069"/>
                  <a:pt x="3265" y="9105"/>
                  <a:pt x="3292" y="9146"/>
                </a:cubicBezTo>
              </a:path>
              <a:path w="2446" h="855">
                <a:moveTo>
                  <a:pt x="3047" y="9394"/>
                </a:moveTo>
                <a:cubicBezTo>
                  <a:pt x="3010" y="9421"/>
                  <a:pt x="2965" y="9445"/>
                  <a:pt x="2943" y="9483"/>
                </a:cubicBezTo>
                <a:cubicBezTo>
                  <a:pt x="3035" y="9466"/>
                  <a:pt x="3128" y="9447"/>
                  <a:pt x="3220" y="9427"/>
                </a:cubicBezTo>
                <a:cubicBezTo>
                  <a:pt x="3277" y="9415"/>
                  <a:pt x="3333" y="9402"/>
                  <a:pt x="3390" y="9391"/>
                </a:cubicBezTo>
              </a:path>
              <a:path w="2446" h="855">
                <a:moveTo>
                  <a:pt x="3429" y="9454"/>
                </a:moveTo>
                <a:cubicBezTo>
                  <a:pt x="3412" y="9502"/>
                  <a:pt x="3390" y="9559"/>
                  <a:pt x="3388" y="9610"/>
                </a:cubicBezTo>
                <a:cubicBezTo>
                  <a:pt x="3386" y="9665"/>
                  <a:pt x="3394" y="9728"/>
                  <a:pt x="3410" y="9781"/>
                </a:cubicBezTo>
                <a:cubicBezTo>
                  <a:pt x="3419" y="9803"/>
                  <a:pt x="3421" y="9811"/>
                  <a:pt x="3434" y="9821"/>
                </a:cubicBezTo>
                <a:cubicBezTo>
                  <a:pt x="3444" y="9786"/>
                  <a:pt x="3440" y="9753"/>
                  <a:pt x="3438" y="9717"/>
                </a:cubicBezTo>
              </a:path>
              <a:path w="2446" h="855">
                <a:moveTo>
                  <a:pt x="3573" y="9484"/>
                </a:moveTo>
                <a:cubicBezTo>
                  <a:pt x="3587" y="9535"/>
                  <a:pt x="3597" y="9591"/>
                  <a:pt x="3613" y="9641"/>
                </a:cubicBezTo>
                <a:cubicBezTo>
                  <a:pt x="3620" y="9663"/>
                  <a:pt x="3631" y="9685"/>
                  <a:pt x="3639" y="9707"/>
                </a:cubicBezTo>
                <a:cubicBezTo>
                  <a:pt x="3656" y="9674"/>
                  <a:pt x="3660" y="9640"/>
                  <a:pt x="3670" y="9604"/>
                </a:cubicBezTo>
                <a:cubicBezTo>
                  <a:pt x="3682" y="9559"/>
                  <a:pt x="3698" y="9509"/>
                  <a:pt x="3732" y="9475"/>
                </a:cubicBezTo>
                <a:cubicBezTo>
                  <a:pt x="3763" y="9445"/>
                  <a:pt x="3787" y="9462"/>
                  <a:pt x="3805" y="9494"/>
                </a:cubicBezTo>
                <a:cubicBezTo>
                  <a:pt x="3828" y="9534"/>
                  <a:pt x="3836" y="9585"/>
                  <a:pt x="3848" y="9629"/>
                </a:cubicBezTo>
                <a:cubicBezTo>
                  <a:pt x="3855" y="9654"/>
                  <a:pt x="3857" y="9667"/>
                  <a:pt x="3873" y="9685"/>
                </a:cubicBezTo>
                <a:cubicBezTo>
                  <a:pt x="3892" y="9678"/>
                  <a:pt x="3901" y="9675"/>
                  <a:pt x="3916" y="9658"/>
                </a:cubicBezTo>
                <a:cubicBezTo>
                  <a:pt x="3930" y="9642"/>
                  <a:pt x="3938" y="9635"/>
                  <a:pt x="3956" y="9628"/>
                </a:cubicBezTo>
                <a:cubicBezTo>
                  <a:pt x="3971" y="9623"/>
                  <a:pt x="4003" y="9638"/>
                  <a:pt x="4020" y="9641"/>
                </a:cubicBezTo>
                <a:cubicBezTo>
                  <a:pt x="4044" y="9645"/>
                  <a:pt x="4051" y="9646"/>
                  <a:pt x="4067" y="9647"/>
                </a:cubicBezTo>
              </a:path>
              <a:path w="2446" h="855">
                <a:moveTo>
                  <a:pt x="4225" y="9601"/>
                </a:moveTo>
                <a:cubicBezTo>
                  <a:pt x="4232" y="9575"/>
                  <a:pt x="4231" y="9557"/>
                  <a:pt x="4233" y="9531"/>
                </a:cubicBezTo>
                <a:cubicBezTo>
                  <a:pt x="4237" y="9520"/>
                  <a:pt x="4237" y="9516"/>
                  <a:pt x="4228" y="9509"/>
                </a:cubicBezTo>
                <a:cubicBezTo>
                  <a:pt x="4193" y="9521"/>
                  <a:pt x="4177" y="9546"/>
                  <a:pt x="4158" y="9579"/>
                </a:cubicBezTo>
                <a:cubicBezTo>
                  <a:pt x="4128" y="9633"/>
                  <a:pt x="4110" y="9706"/>
                  <a:pt x="4148" y="9760"/>
                </a:cubicBezTo>
                <a:cubicBezTo>
                  <a:pt x="4179" y="9804"/>
                  <a:pt x="4245" y="9808"/>
                  <a:pt x="4293" y="9812"/>
                </a:cubicBezTo>
                <a:cubicBezTo>
                  <a:pt x="4345" y="9816"/>
                  <a:pt x="4397" y="9808"/>
                  <a:pt x="4448" y="980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1846440" y="3220920"/>
            <a:ext cx="1125360" cy="311400"/>
          </a:xfrm>
          <a:custGeom>
            <a:avLst/>
            <a:gdLst/>
            <a:ahLst/>
            <a:rect l="l" t="t" r="r" b="b"/>
            <a:pathLst>
              <a:path w="3126" h="865">
                <a:moveTo>
                  <a:pt x="5195" y="9811"/>
                </a:moveTo>
                <a:cubicBezTo>
                  <a:pt x="5169" y="9777"/>
                  <a:pt x="5163" y="9741"/>
                  <a:pt x="5158" y="9697"/>
                </a:cubicBezTo>
                <a:cubicBezTo>
                  <a:pt x="5148" y="9605"/>
                  <a:pt x="5153" y="9513"/>
                  <a:pt x="5161" y="9421"/>
                </a:cubicBezTo>
                <a:cubicBezTo>
                  <a:pt x="5174" y="9282"/>
                  <a:pt x="5191" y="9117"/>
                  <a:pt x="5271" y="8997"/>
                </a:cubicBezTo>
                <a:cubicBezTo>
                  <a:pt x="5304" y="8948"/>
                  <a:pt x="5342" y="8934"/>
                  <a:pt x="5394" y="8963"/>
                </a:cubicBezTo>
                <a:cubicBezTo>
                  <a:pt x="5454" y="8997"/>
                  <a:pt x="5508" y="9061"/>
                  <a:pt x="5546" y="9117"/>
                </a:cubicBezTo>
                <a:cubicBezTo>
                  <a:pt x="5588" y="9178"/>
                  <a:pt x="5596" y="9220"/>
                  <a:pt x="5581" y="9289"/>
                </a:cubicBezTo>
              </a:path>
              <a:path w="3126" h="865">
                <a:moveTo>
                  <a:pt x="5210" y="9447"/>
                </a:moveTo>
                <a:cubicBezTo>
                  <a:pt x="5176" y="9449"/>
                  <a:pt x="5150" y="9458"/>
                  <a:pt x="5129" y="9431"/>
                </a:cubicBezTo>
                <a:cubicBezTo>
                  <a:pt x="5168" y="9404"/>
                  <a:pt x="5207" y="9387"/>
                  <a:pt x="5250" y="9368"/>
                </a:cubicBezTo>
                <a:cubicBezTo>
                  <a:pt x="5323" y="9335"/>
                  <a:pt x="5405" y="9311"/>
                  <a:pt x="5484" y="9296"/>
                </a:cubicBezTo>
                <a:cubicBezTo>
                  <a:pt x="5531" y="9290"/>
                  <a:pt x="5544" y="9287"/>
                  <a:pt x="5575" y="9288"/>
                </a:cubicBezTo>
              </a:path>
              <a:path w="3126" h="865">
                <a:moveTo>
                  <a:pt x="5620" y="9419"/>
                </a:moveTo>
                <a:cubicBezTo>
                  <a:pt x="5606" y="9458"/>
                  <a:pt x="5582" y="9502"/>
                  <a:pt x="5573" y="9542"/>
                </a:cubicBezTo>
                <a:cubicBezTo>
                  <a:pt x="5568" y="9565"/>
                  <a:pt x="5557" y="9620"/>
                  <a:pt x="5583" y="9637"/>
                </a:cubicBezTo>
                <a:cubicBezTo>
                  <a:pt x="5615" y="9659"/>
                  <a:pt x="5670" y="9610"/>
                  <a:pt x="5690" y="9592"/>
                </a:cubicBezTo>
                <a:cubicBezTo>
                  <a:pt x="5741" y="9547"/>
                  <a:pt x="5779" y="9491"/>
                  <a:pt x="5817" y="9436"/>
                </a:cubicBezTo>
                <a:cubicBezTo>
                  <a:pt x="5834" y="9412"/>
                  <a:pt x="5848" y="9390"/>
                  <a:pt x="5868" y="9370"/>
                </a:cubicBezTo>
                <a:cubicBezTo>
                  <a:pt x="5879" y="9408"/>
                  <a:pt x="5874" y="9444"/>
                  <a:pt x="5874" y="9484"/>
                </a:cubicBezTo>
                <a:cubicBezTo>
                  <a:pt x="5874" y="9519"/>
                  <a:pt x="5870" y="9568"/>
                  <a:pt x="5897" y="9596"/>
                </a:cubicBezTo>
                <a:cubicBezTo>
                  <a:pt x="5917" y="9617"/>
                  <a:pt x="5953" y="9566"/>
                  <a:pt x="5962" y="9556"/>
                </a:cubicBezTo>
              </a:path>
              <a:path w="3126" h="865">
                <a:moveTo>
                  <a:pt x="6142" y="9452"/>
                </a:moveTo>
                <a:cubicBezTo>
                  <a:pt x="6140" y="9481"/>
                  <a:pt x="6132" y="9509"/>
                  <a:pt x="6129" y="9537"/>
                </a:cubicBezTo>
                <a:cubicBezTo>
                  <a:pt x="6127" y="9559"/>
                  <a:pt x="6124" y="9576"/>
                  <a:pt x="6120" y="9598"/>
                </a:cubicBezTo>
                <a:cubicBezTo>
                  <a:pt x="6108" y="9629"/>
                  <a:pt x="6142" y="9548"/>
                  <a:pt x="6143" y="9545"/>
                </a:cubicBezTo>
                <a:cubicBezTo>
                  <a:pt x="6167" y="9491"/>
                  <a:pt x="6193" y="9435"/>
                  <a:pt x="6229" y="9388"/>
                </a:cubicBezTo>
                <a:cubicBezTo>
                  <a:pt x="6252" y="9358"/>
                  <a:pt x="6291" y="9316"/>
                  <a:pt x="6334" y="9330"/>
                </a:cubicBezTo>
                <a:cubicBezTo>
                  <a:pt x="6377" y="9344"/>
                  <a:pt x="6387" y="9407"/>
                  <a:pt x="6398" y="9443"/>
                </a:cubicBezTo>
                <a:cubicBezTo>
                  <a:pt x="6409" y="9481"/>
                  <a:pt x="6413" y="9524"/>
                  <a:pt x="6429" y="9559"/>
                </a:cubicBezTo>
                <a:cubicBezTo>
                  <a:pt x="6438" y="9573"/>
                  <a:pt x="6441" y="9578"/>
                  <a:pt x="6454" y="9579"/>
                </a:cubicBezTo>
              </a:path>
              <a:path w="3126" h="865">
                <a:moveTo>
                  <a:pt x="6849" y="9383"/>
                </a:moveTo>
                <a:cubicBezTo>
                  <a:pt x="6832" y="9366"/>
                  <a:pt x="6806" y="9359"/>
                  <a:pt x="6781" y="9372"/>
                </a:cubicBezTo>
                <a:cubicBezTo>
                  <a:pt x="6746" y="9390"/>
                  <a:pt x="6704" y="9423"/>
                  <a:pt x="6684" y="9458"/>
                </a:cubicBezTo>
                <a:cubicBezTo>
                  <a:pt x="6675" y="9482"/>
                  <a:pt x="6671" y="9488"/>
                  <a:pt x="6676" y="9505"/>
                </a:cubicBezTo>
                <a:cubicBezTo>
                  <a:pt x="6712" y="9528"/>
                  <a:pt x="6753" y="9523"/>
                  <a:pt x="6797" y="9514"/>
                </a:cubicBezTo>
                <a:cubicBezTo>
                  <a:pt x="6813" y="9510"/>
                  <a:pt x="6830" y="9505"/>
                  <a:pt x="6846" y="9501"/>
                </a:cubicBezTo>
              </a:path>
              <a:path w="3126" h="865">
                <a:moveTo>
                  <a:pt x="7044" y="9046"/>
                </a:moveTo>
                <a:cubicBezTo>
                  <a:pt x="7009" y="9004"/>
                  <a:pt x="7005" y="9056"/>
                  <a:pt x="6992" y="9093"/>
                </a:cubicBezTo>
                <a:cubicBezTo>
                  <a:pt x="6960" y="9186"/>
                  <a:pt x="6951" y="9292"/>
                  <a:pt x="6952" y="9390"/>
                </a:cubicBezTo>
                <a:cubicBezTo>
                  <a:pt x="6953" y="9483"/>
                  <a:pt x="6954" y="9595"/>
                  <a:pt x="6998" y="9677"/>
                </a:cubicBezTo>
              </a:path>
              <a:path w="3126" h="865">
                <a:moveTo>
                  <a:pt x="6935" y="9361"/>
                </a:moveTo>
                <a:cubicBezTo>
                  <a:pt x="6928" y="9336"/>
                  <a:pt x="6918" y="9318"/>
                  <a:pt x="6951" y="9312"/>
                </a:cubicBezTo>
                <a:cubicBezTo>
                  <a:pt x="7002" y="9302"/>
                  <a:pt x="7065" y="9316"/>
                  <a:pt x="7116" y="9321"/>
                </a:cubicBezTo>
                <a:cubicBezTo>
                  <a:pt x="7170" y="9328"/>
                  <a:pt x="7187" y="9330"/>
                  <a:pt x="7223" y="9335"/>
                </a:cubicBezTo>
              </a:path>
              <a:path w="3126" h="865">
                <a:moveTo>
                  <a:pt x="7366" y="9431"/>
                </a:moveTo>
                <a:cubicBezTo>
                  <a:pt x="7350" y="9473"/>
                  <a:pt x="7338" y="9517"/>
                  <a:pt x="7323" y="9558"/>
                </a:cubicBezTo>
                <a:cubicBezTo>
                  <a:pt x="7314" y="9584"/>
                  <a:pt x="7298" y="9607"/>
                  <a:pt x="7316" y="9627"/>
                </a:cubicBezTo>
                <a:cubicBezTo>
                  <a:pt x="7322" y="9614"/>
                  <a:pt x="7325" y="9608"/>
                  <a:pt x="7326" y="9597"/>
                </a:cubicBezTo>
              </a:path>
              <a:path w="3126" h="865">
                <a:moveTo>
                  <a:pt x="7313" y="9382"/>
                </a:moveTo>
                <a:cubicBezTo>
                  <a:pt x="7310" y="9344"/>
                  <a:pt x="7310" y="9339"/>
                  <a:pt x="7345" y="9330"/>
                </a:cubicBezTo>
                <a:cubicBezTo>
                  <a:pt x="7370" y="9323"/>
                  <a:pt x="7380" y="9321"/>
                  <a:pt x="7399" y="9323"/>
                </a:cubicBezTo>
              </a:path>
              <a:path w="3126" h="865">
                <a:moveTo>
                  <a:pt x="7701" y="9405"/>
                </a:moveTo>
                <a:cubicBezTo>
                  <a:pt x="7684" y="9438"/>
                  <a:pt x="7663" y="9470"/>
                  <a:pt x="7642" y="9499"/>
                </a:cubicBezTo>
                <a:cubicBezTo>
                  <a:pt x="7615" y="9536"/>
                  <a:pt x="7587" y="9573"/>
                  <a:pt x="7582" y="9621"/>
                </a:cubicBezTo>
                <a:cubicBezTo>
                  <a:pt x="7583" y="9627"/>
                  <a:pt x="7583" y="9632"/>
                  <a:pt x="7584" y="9638"/>
                </a:cubicBezTo>
                <a:cubicBezTo>
                  <a:pt x="7613" y="9648"/>
                  <a:pt x="7636" y="9632"/>
                  <a:pt x="7660" y="9613"/>
                </a:cubicBezTo>
                <a:cubicBezTo>
                  <a:pt x="7699" y="9583"/>
                  <a:pt x="7733" y="9545"/>
                  <a:pt x="7767" y="9509"/>
                </a:cubicBezTo>
                <a:cubicBezTo>
                  <a:pt x="7789" y="9486"/>
                  <a:pt x="7812" y="9464"/>
                  <a:pt x="7836" y="9443"/>
                </a:cubicBezTo>
                <a:cubicBezTo>
                  <a:pt x="7845" y="9436"/>
                  <a:pt x="7848" y="9434"/>
                  <a:pt x="7856" y="9433"/>
                </a:cubicBezTo>
              </a:path>
              <a:path w="3126" h="865">
                <a:moveTo>
                  <a:pt x="7898" y="9529"/>
                </a:moveTo>
                <a:cubicBezTo>
                  <a:pt x="7903" y="9558"/>
                  <a:pt x="7910" y="9583"/>
                  <a:pt x="7921" y="9611"/>
                </a:cubicBezTo>
                <a:cubicBezTo>
                  <a:pt x="7951" y="9601"/>
                  <a:pt x="7963" y="9580"/>
                  <a:pt x="7982" y="9554"/>
                </a:cubicBezTo>
                <a:cubicBezTo>
                  <a:pt x="8001" y="9529"/>
                  <a:pt x="8026" y="9490"/>
                  <a:pt x="8057" y="9478"/>
                </a:cubicBezTo>
                <a:cubicBezTo>
                  <a:pt x="8083" y="9467"/>
                  <a:pt x="8096" y="9512"/>
                  <a:pt x="8104" y="9528"/>
                </a:cubicBezTo>
                <a:cubicBezTo>
                  <a:pt x="8125" y="9566"/>
                  <a:pt x="8146" y="9587"/>
                  <a:pt x="8184" y="9608"/>
                </a:cubicBezTo>
                <a:cubicBezTo>
                  <a:pt x="8207" y="9620"/>
                  <a:pt x="8229" y="9626"/>
                  <a:pt x="8254" y="963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3394080" y="3262320"/>
            <a:ext cx="931680" cy="341280"/>
          </a:xfrm>
          <a:custGeom>
            <a:avLst/>
            <a:gdLst/>
            <a:ahLst/>
            <a:rect l="l" t="t" r="r" b="b"/>
            <a:pathLst>
              <a:path w="2589" h="951">
                <a:moveTo>
                  <a:pt x="9454" y="9371"/>
                </a:moveTo>
                <a:cubicBezTo>
                  <a:pt x="9433" y="9441"/>
                  <a:pt x="9420" y="9516"/>
                  <a:pt x="9427" y="9591"/>
                </a:cubicBezTo>
                <a:cubicBezTo>
                  <a:pt x="9434" y="9668"/>
                  <a:pt x="9461" y="9743"/>
                  <a:pt x="9487" y="9815"/>
                </a:cubicBezTo>
                <a:cubicBezTo>
                  <a:pt x="9492" y="9830"/>
                  <a:pt x="9531" y="9894"/>
                  <a:pt x="9491" y="9842"/>
                </a:cubicBezTo>
                <a:cubicBezTo>
                  <a:pt x="9446" y="9735"/>
                  <a:pt x="9434" y="9630"/>
                  <a:pt x="9447" y="9514"/>
                </a:cubicBezTo>
                <a:cubicBezTo>
                  <a:pt x="9456" y="9437"/>
                  <a:pt x="9469" y="9341"/>
                  <a:pt x="9516" y="9276"/>
                </a:cubicBezTo>
                <a:cubicBezTo>
                  <a:pt x="9537" y="9257"/>
                  <a:pt x="9542" y="9250"/>
                  <a:pt x="9561" y="9256"/>
                </a:cubicBezTo>
                <a:cubicBezTo>
                  <a:pt x="9596" y="9316"/>
                  <a:pt x="9604" y="9378"/>
                  <a:pt x="9604" y="9449"/>
                </a:cubicBezTo>
                <a:cubicBezTo>
                  <a:pt x="9604" y="9527"/>
                  <a:pt x="9597" y="9612"/>
                  <a:pt x="9560" y="9682"/>
                </a:cubicBezTo>
                <a:cubicBezTo>
                  <a:pt x="9554" y="9691"/>
                  <a:pt x="9547" y="9699"/>
                  <a:pt x="9541" y="9708"/>
                </a:cubicBezTo>
                <a:cubicBezTo>
                  <a:pt x="9499" y="9702"/>
                  <a:pt x="9508" y="9658"/>
                  <a:pt x="9513" y="9617"/>
                </a:cubicBezTo>
                <a:cubicBezTo>
                  <a:pt x="9517" y="9598"/>
                  <a:pt x="9520" y="9580"/>
                  <a:pt x="9524" y="9561"/>
                </a:cubicBezTo>
              </a:path>
              <a:path w="2589" h="951">
                <a:moveTo>
                  <a:pt x="9793" y="9226"/>
                </a:moveTo>
                <a:cubicBezTo>
                  <a:pt x="9798" y="9296"/>
                  <a:pt x="9801" y="9367"/>
                  <a:pt x="9801" y="9437"/>
                </a:cubicBezTo>
                <a:cubicBezTo>
                  <a:pt x="9801" y="9493"/>
                  <a:pt x="9799" y="9538"/>
                  <a:pt x="9817" y="9591"/>
                </a:cubicBezTo>
                <a:cubicBezTo>
                  <a:pt x="9834" y="9571"/>
                  <a:pt x="9840" y="9562"/>
                  <a:pt x="9840" y="9542"/>
                </a:cubicBezTo>
              </a:path>
              <a:path w="2589" h="951">
                <a:moveTo>
                  <a:pt x="9795" y="9114"/>
                </a:moveTo>
                <a:cubicBezTo>
                  <a:pt x="9796" y="9075"/>
                  <a:pt x="9789" y="9072"/>
                  <a:pt x="9825" y="9065"/>
                </a:cubicBezTo>
                <a:cubicBezTo>
                  <a:pt x="9847" y="9059"/>
                  <a:pt x="9857" y="9058"/>
                  <a:pt x="9874" y="9066"/>
                </a:cubicBezTo>
              </a:path>
              <a:path w="2589" h="951">
                <a:moveTo>
                  <a:pt x="10137" y="9246"/>
                </a:moveTo>
                <a:cubicBezTo>
                  <a:pt x="10100" y="9280"/>
                  <a:pt x="10051" y="9319"/>
                  <a:pt x="10023" y="9360"/>
                </a:cubicBezTo>
                <a:cubicBezTo>
                  <a:pt x="10001" y="9392"/>
                  <a:pt x="9994" y="9427"/>
                  <a:pt x="9987" y="9464"/>
                </a:cubicBezTo>
                <a:cubicBezTo>
                  <a:pt x="10015" y="9505"/>
                  <a:pt x="10043" y="9500"/>
                  <a:pt x="10091" y="9482"/>
                </a:cubicBezTo>
                <a:cubicBezTo>
                  <a:pt x="10164" y="9454"/>
                  <a:pt x="10212" y="9395"/>
                  <a:pt x="10273" y="9350"/>
                </a:cubicBezTo>
                <a:cubicBezTo>
                  <a:pt x="10290" y="9341"/>
                  <a:pt x="10294" y="9337"/>
                  <a:pt x="10306" y="9340"/>
                </a:cubicBezTo>
                <a:cubicBezTo>
                  <a:pt x="10324" y="9397"/>
                  <a:pt x="10318" y="9452"/>
                  <a:pt x="10312" y="9512"/>
                </a:cubicBezTo>
                <a:cubicBezTo>
                  <a:pt x="10300" y="9626"/>
                  <a:pt x="10273" y="9736"/>
                  <a:pt x="10225" y="9840"/>
                </a:cubicBezTo>
                <a:cubicBezTo>
                  <a:pt x="10194" y="9907"/>
                  <a:pt x="10139" y="9996"/>
                  <a:pt x="10058" y="10010"/>
                </a:cubicBezTo>
                <a:cubicBezTo>
                  <a:pt x="9991" y="10021"/>
                  <a:pt x="9959" y="9957"/>
                  <a:pt x="9951" y="9903"/>
                </a:cubicBezTo>
                <a:cubicBezTo>
                  <a:pt x="9949" y="9843"/>
                  <a:pt x="9948" y="9821"/>
                  <a:pt x="9956" y="9781"/>
                </a:cubicBezTo>
              </a:path>
              <a:path w="2589" h="951">
                <a:moveTo>
                  <a:pt x="10440" y="9401"/>
                </a:moveTo>
                <a:cubicBezTo>
                  <a:pt x="10494" y="9362"/>
                  <a:pt x="10531" y="9324"/>
                  <a:pt x="10574" y="9275"/>
                </a:cubicBezTo>
                <a:cubicBezTo>
                  <a:pt x="10608" y="9236"/>
                  <a:pt x="10630" y="9205"/>
                  <a:pt x="10643" y="9154"/>
                </a:cubicBezTo>
                <a:cubicBezTo>
                  <a:pt x="10592" y="9163"/>
                  <a:pt x="10564" y="9202"/>
                  <a:pt x="10531" y="9243"/>
                </a:cubicBezTo>
                <a:cubicBezTo>
                  <a:pt x="10492" y="9292"/>
                  <a:pt x="10433" y="9377"/>
                  <a:pt x="10456" y="9445"/>
                </a:cubicBezTo>
                <a:cubicBezTo>
                  <a:pt x="10472" y="9492"/>
                  <a:pt x="10551" y="9482"/>
                  <a:pt x="10585" y="9477"/>
                </a:cubicBezTo>
                <a:cubicBezTo>
                  <a:pt x="10637" y="9467"/>
                  <a:pt x="10654" y="9463"/>
                  <a:pt x="10688" y="9453"/>
                </a:cubicBezTo>
              </a:path>
              <a:path w="2589" h="951">
                <a:moveTo>
                  <a:pt x="11135" y="9316"/>
                </a:moveTo>
                <a:cubicBezTo>
                  <a:pt x="11125" y="9288"/>
                  <a:pt x="11111" y="9263"/>
                  <a:pt x="11085" y="9246"/>
                </a:cubicBezTo>
                <a:cubicBezTo>
                  <a:pt x="11052" y="9225"/>
                  <a:pt x="11023" y="9231"/>
                  <a:pt x="10994" y="9256"/>
                </a:cubicBezTo>
                <a:cubicBezTo>
                  <a:pt x="10957" y="9289"/>
                  <a:pt x="10938" y="9353"/>
                  <a:pt x="10959" y="9400"/>
                </a:cubicBezTo>
                <a:cubicBezTo>
                  <a:pt x="10978" y="9443"/>
                  <a:pt x="11029" y="9451"/>
                  <a:pt x="11071" y="9447"/>
                </a:cubicBezTo>
                <a:cubicBezTo>
                  <a:pt x="11124" y="9442"/>
                  <a:pt x="11175" y="9417"/>
                  <a:pt x="11213" y="9381"/>
                </a:cubicBezTo>
                <a:cubicBezTo>
                  <a:pt x="11246" y="9350"/>
                  <a:pt x="11257" y="9325"/>
                  <a:pt x="11263" y="9281"/>
                </a:cubicBezTo>
                <a:cubicBezTo>
                  <a:pt x="11266" y="9259"/>
                  <a:pt x="11264" y="9237"/>
                  <a:pt x="11264" y="9215"/>
                </a:cubicBezTo>
              </a:path>
              <a:path w="2589" h="951">
                <a:moveTo>
                  <a:pt x="11328" y="9220"/>
                </a:moveTo>
                <a:cubicBezTo>
                  <a:pt x="11324" y="9269"/>
                  <a:pt x="11311" y="9317"/>
                  <a:pt x="11304" y="9365"/>
                </a:cubicBezTo>
                <a:cubicBezTo>
                  <a:pt x="11301" y="9384"/>
                  <a:pt x="11301" y="9402"/>
                  <a:pt x="11305" y="9420"/>
                </a:cubicBezTo>
                <a:cubicBezTo>
                  <a:pt x="11342" y="9401"/>
                  <a:pt x="11361" y="9372"/>
                  <a:pt x="11389" y="9340"/>
                </a:cubicBezTo>
                <a:cubicBezTo>
                  <a:pt x="11416" y="9309"/>
                  <a:pt x="11448" y="9260"/>
                  <a:pt x="11489" y="9247"/>
                </a:cubicBezTo>
                <a:cubicBezTo>
                  <a:pt x="11521" y="9237"/>
                  <a:pt x="11538" y="9282"/>
                  <a:pt x="11547" y="9304"/>
                </a:cubicBezTo>
                <a:cubicBezTo>
                  <a:pt x="11563" y="9342"/>
                  <a:pt x="11570" y="9388"/>
                  <a:pt x="11606" y="9414"/>
                </a:cubicBezTo>
                <a:cubicBezTo>
                  <a:pt x="11633" y="9434"/>
                  <a:pt x="11656" y="9425"/>
                  <a:pt x="11686" y="9420"/>
                </a:cubicBezTo>
              </a:path>
              <a:path w="2589" h="951">
                <a:moveTo>
                  <a:pt x="11957" y="9132"/>
                </a:moveTo>
                <a:cubicBezTo>
                  <a:pt x="11927" y="9124"/>
                  <a:pt x="11889" y="9135"/>
                  <a:pt x="11860" y="9149"/>
                </a:cubicBezTo>
                <a:cubicBezTo>
                  <a:pt x="11827" y="9165"/>
                  <a:pt x="11802" y="9190"/>
                  <a:pt x="11781" y="9219"/>
                </a:cubicBezTo>
                <a:cubicBezTo>
                  <a:pt x="11794" y="9246"/>
                  <a:pt x="11827" y="9242"/>
                  <a:pt x="11855" y="9252"/>
                </a:cubicBezTo>
                <a:cubicBezTo>
                  <a:pt x="11908" y="9270"/>
                  <a:pt x="11959" y="9297"/>
                  <a:pt x="11989" y="9346"/>
                </a:cubicBezTo>
                <a:cubicBezTo>
                  <a:pt x="12028" y="9409"/>
                  <a:pt x="12021" y="9481"/>
                  <a:pt x="11979" y="9539"/>
                </a:cubicBezTo>
                <a:cubicBezTo>
                  <a:pt x="11958" y="9567"/>
                  <a:pt x="11917" y="9594"/>
                  <a:pt x="11881" y="9580"/>
                </a:cubicBezTo>
                <a:cubicBezTo>
                  <a:pt x="11855" y="9570"/>
                  <a:pt x="11841" y="9545"/>
                  <a:pt x="11826" y="952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4711680" y="3192480"/>
            <a:ext cx="222120" cy="217440"/>
          </a:xfrm>
          <a:custGeom>
            <a:avLst/>
            <a:gdLst/>
            <a:ahLst/>
            <a:rect l="l" t="t" r="r" b="b"/>
            <a:pathLst>
              <a:path w="616" h="607">
                <a:moveTo>
                  <a:pt x="13271" y="8874"/>
                </a:moveTo>
                <a:cubicBezTo>
                  <a:pt x="13226" y="8869"/>
                  <a:pt x="13227" y="8928"/>
                  <a:pt x="13219" y="8968"/>
                </a:cubicBezTo>
                <a:cubicBezTo>
                  <a:pt x="13199" y="9062"/>
                  <a:pt x="13206" y="9159"/>
                  <a:pt x="13220" y="9254"/>
                </a:cubicBezTo>
                <a:cubicBezTo>
                  <a:pt x="13230" y="9324"/>
                  <a:pt x="13245" y="9391"/>
                  <a:pt x="13270" y="9457"/>
                </a:cubicBezTo>
                <a:cubicBezTo>
                  <a:pt x="13272" y="9462"/>
                  <a:pt x="13274" y="9467"/>
                  <a:pt x="13276" y="9472"/>
                </a:cubicBezTo>
              </a:path>
              <a:path w="616" h="607">
                <a:moveTo>
                  <a:pt x="13094" y="9138"/>
                </a:moveTo>
                <a:cubicBezTo>
                  <a:pt x="13095" y="9109"/>
                  <a:pt x="13121" y="9099"/>
                  <a:pt x="13153" y="9088"/>
                </a:cubicBezTo>
                <a:cubicBezTo>
                  <a:pt x="13227" y="9063"/>
                  <a:pt x="13307" y="9052"/>
                  <a:pt x="13384" y="9044"/>
                </a:cubicBezTo>
                <a:cubicBezTo>
                  <a:pt x="13432" y="9039"/>
                  <a:pt x="13517" y="9027"/>
                  <a:pt x="13554" y="9071"/>
                </a:cubicBezTo>
                <a:cubicBezTo>
                  <a:pt x="13582" y="9104"/>
                  <a:pt x="13551" y="9155"/>
                  <a:pt x="13541" y="9186"/>
                </a:cubicBezTo>
                <a:cubicBezTo>
                  <a:pt x="13529" y="9222"/>
                  <a:pt x="13505" y="9261"/>
                  <a:pt x="13500" y="9299"/>
                </a:cubicBezTo>
                <a:cubicBezTo>
                  <a:pt x="13496" y="9326"/>
                  <a:pt x="13506" y="9351"/>
                  <a:pt x="13536" y="9353"/>
                </a:cubicBezTo>
                <a:cubicBezTo>
                  <a:pt x="13575" y="9355"/>
                  <a:pt x="13613" y="9323"/>
                  <a:pt x="13640" y="9300"/>
                </a:cubicBezTo>
                <a:cubicBezTo>
                  <a:pt x="13676" y="9269"/>
                  <a:pt x="13695" y="9230"/>
                  <a:pt x="13703" y="9184"/>
                </a:cubicBezTo>
                <a:cubicBezTo>
                  <a:pt x="13708" y="9151"/>
                  <a:pt x="13700" y="9122"/>
                  <a:pt x="13675" y="9099"/>
                </a:cubicBezTo>
                <a:cubicBezTo>
                  <a:pt x="13655" y="9080"/>
                  <a:pt x="13631" y="9070"/>
                  <a:pt x="13604" y="9079"/>
                </a:cubicBezTo>
                <a:cubicBezTo>
                  <a:pt x="13600" y="9081"/>
                  <a:pt x="13595" y="9084"/>
                  <a:pt x="13591" y="908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5210280" y="3092400"/>
            <a:ext cx="633240" cy="284040"/>
          </a:xfrm>
          <a:custGeom>
            <a:avLst/>
            <a:gdLst/>
            <a:ahLst/>
            <a:rect l="l" t="t" r="r" b="b"/>
            <a:pathLst>
              <a:path w="1760" h="791">
                <a:moveTo>
                  <a:pt x="14476" y="8732"/>
                </a:moveTo>
                <a:cubicBezTo>
                  <a:pt x="14477" y="8705"/>
                  <a:pt x="14478" y="8698"/>
                  <a:pt x="14475" y="8681"/>
                </a:cubicBezTo>
                <a:cubicBezTo>
                  <a:pt x="14477" y="8748"/>
                  <a:pt x="14486" y="8815"/>
                  <a:pt x="14492" y="8882"/>
                </a:cubicBezTo>
                <a:cubicBezTo>
                  <a:pt x="14504" y="9019"/>
                  <a:pt x="14493" y="9187"/>
                  <a:pt x="14540" y="9318"/>
                </a:cubicBezTo>
                <a:cubicBezTo>
                  <a:pt x="14544" y="9323"/>
                  <a:pt x="14548" y="9329"/>
                  <a:pt x="14552" y="9334"/>
                </a:cubicBezTo>
                <a:cubicBezTo>
                  <a:pt x="14584" y="9304"/>
                  <a:pt x="14600" y="9276"/>
                  <a:pt x="14622" y="9230"/>
                </a:cubicBezTo>
                <a:cubicBezTo>
                  <a:pt x="14651" y="9170"/>
                  <a:pt x="14674" y="9099"/>
                  <a:pt x="14718" y="9047"/>
                </a:cubicBezTo>
                <a:cubicBezTo>
                  <a:pt x="14725" y="9041"/>
                  <a:pt x="14733" y="9035"/>
                  <a:pt x="14740" y="9029"/>
                </a:cubicBezTo>
                <a:cubicBezTo>
                  <a:pt x="14780" y="9055"/>
                  <a:pt x="14784" y="9062"/>
                  <a:pt x="14797" y="9124"/>
                </a:cubicBezTo>
                <a:cubicBezTo>
                  <a:pt x="14812" y="9193"/>
                  <a:pt x="14818" y="9273"/>
                  <a:pt x="14849" y="9337"/>
                </a:cubicBezTo>
                <a:cubicBezTo>
                  <a:pt x="14868" y="9377"/>
                  <a:pt x="14888" y="9374"/>
                  <a:pt x="14925" y="9376"/>
                </a:cubicBezTo>
              </a:path>
              <a:path w="1760" h="791">
                <a:moveTo>
                  <a:pt x="15129" y="9133"/>
                </a:moveTo>
                <a:cubicBezTo>
                  <a:pt x="15130" y="9112"/>
                  <a:pt x="15140" y="9054"/>
                  <a:pt x="15101" y="9055"/>
                </a:cubicBezTo>
                <a:cubicBezTo>
                  <a:pt x="15060" y="9056"/>
                  <a:pt x="15008" y="9127"/>
                  <a:pt x="14987" y="9154"/>
                </a:cubicBezTo>
                <a:cubicBezTo>
                  <a:pt x="14948" y="9205"/>
                  <a:pt x="14915" y="9268"/>
                  <a:pt x="14900" y="9331"/>
                </a:cubicBezTo>
                <a:cubicBezTo>
                  <a:pt x="14899" y="9340"/>
                  <a:pt x="14898" y="9349"/>
                  <a:pt x="14897" y="9358"/>
                </a:cubicBezTo>
                <a:cubicBezTo>
                  <a:pt x="14924" y="9384"/>
                  <a:pt x="14950" y="9362"/>
                  <a:pt x="14979" y="9341"/>
                </a:cubicBezTo>
                <a:cubicBezTo>
                  <a:pt x="15025" y="9308"/>
                  <a:pt x="15064" y="9265"/>
                  <a:pt x="15103" y="9224"/>
                </a:cubicBezTo>
                <a:cubicBezTo>
                  <a:pt x="15132" y="9193"/>
                  <a:pt x="15166" y="9151"/>
                  <a:pt x="15174" y="9108"/>
                </a:cubicBezTo>
                <a:cubicBezTo>
                  <a:pt x="15181" y="9071"/>
                  <a:pt x="15174" y="9028"/>
                  <a:pt x="15172" y="8991"/>
                </a:cubicBezTo>
              </a:path>
              <a:path w="1760" h="791">
                <a:moveTo>
                  <a:pt x="15137" y="8627"/>
                </a:moveTo>
                <a:cubicBezTo>
                  <a:pt x="15136" y="8611"/>
                  <a:pt x="15137" y="8614"/>
                  <a:pt x="15135" y="8598"/>
                </a:cubicBezTo>
                <a:cubicBezTo>
                  <a:pt x="15145" y="8673"/>
                  <a:pt x="15142" y="8749"/>
                  <a:pt x="15148" y="8825"/>
                </a:cubicBezTo>
                <a:cubicBezTo>
                  <a:pt x="15158" y="8948"/>
                  <a:pt x="15170" y="9075"/>
                  <a:pt x="15197" y="9196"/>
                </a:cubicBezTo>
                <a:cubicBezTo>
                  <a:pt x="15211" y="9258"/>
                  <a:pt x="15231" y="9305"/>
                  <a:pt x="15261" y="9359"/>
                </a:cubicBezTo>
              </a:path>
              <a:path w="1760" h="791">
                <a:moveTo>
                  <a:pt x="15361" y="9135"/>
                </a:moveTo>
                <a:cubicBezTo>
                  <a:pt x="15402" y="9115"/>
                  <a:pt x="15444" y="9101"/>
                  <a:pt x="15486" y="9082"/>
                </a:cubicBezTo>
                <a:cubicBezTo>
                  <a:pt x="15555" y="9050"/>
                  <a:pt x="15628" y="9018"/>
                  <a:pt x="15692" y="8978"/>
                </a:cubicBezTo>
                <a:cubicBezTo>
                  <a:pt x="15719" y="8961"/>
                  <a:pt x="15737" y="8947"/>
                  <a:pt x="15750" y="8921"/>
                </a:cubicBezTo>
                <a:cubicBezTo>
                  <a:pt x="15699" y="8918"/>
                  <a:pt x="15659" y="8945"/>
                  <a:pt x="15615" y="8970"/>
                </a:cubicBezTo>
                <a:cubicBezTo>
                  <a:pt x="15546" y="9009"/>
                  <a:pt x="15473" y="9055"/>
                  <a:pt x="15421" y="9116"/>
                </a:cubicBezTo>
                <a:cubicBezTo>
                  <a:pt x="15393" y="9149"/>
                  <a:pt x="15389" y="9168"/>
                  <a:pt x="15389" y="9208"/>
                </a:cubicBezTo>
                <a:cubicBezTo>
                  <a:pt x="15443" y="9239"/>
                  <a:pt x="15485" y="9238"/>
                  <a:pt x="15548" y="9232"/>
                </a:cubicBezTo>
                <a:cubicBezTo>
                  <a:pt x="15638" y="9224"/>
                  <a:pt x="15721" y="9202"/>
                  <a:pt x="15807" y="9177"/>
                </a:cubicBezTo>
              </a:path>
              <a:path w="1760" h="791">
                <a:moveTo>
                  <a:pt x="16233" y="8911"/>
                </a:moveTo>
                <a:cubicBezTo>
                  <a:pt x="16179" y="8911"/>
                  <a:pt x="16134" y="8933"/>
                  <a:pt x="16086" y="8959"/>
                </a:cubicBezTo>
                <a:cubicBezTo>
                  <a:pt x="16030" y="8989"/>
                  <a:pt x="15938" y="9033"/>
                  <a:pt x="15908" y="9093"/>
                </a:cubicBezTo>
                <a:cubicBezTo>
                  <a:pt x="15908" y="9098"/>
                  <a:pt x="15907" y="9104"/>
                  <a:pt x="15907" y="9109"/>
                </a:cubicBezTo>
                <a:cubicBezTo>
                  <a:pt x="15944" y="9132"/>
                  <a:pt x="15986" y="9129"/>
                  <a:pt x="16030" y="9137"/>
                </a:cubicBezTo>
                <a:cubicBezTo>
                  <a:pt x="16093" y="9149"/>
                  <a:pt x="16169" y="9172"/>
                  <a:pt x="16194" y="9239"/>
                </a:cubicBezTo>
                <a:cubicBezTo>
                  <a:pt x="16207" y="9275"/>
                  <a:pt x="16195" y="9321"/>
                  <a:pt x="16165" y="9345"/>
                </a:cubicBezTo>
                <a:cubicBezTo>
                  <a:pt x="16141" y="9364"/>
                  <a:pt x="16112" y="9361"/>
                  <a:pt x="16101" y="9334"/>
                </a:cubicBezTo>
                <a:cubicBezTo>
                  <a:pt x="16088" y="9300"/>
                  <a:pt x="16097" y="9277"/>
                  <a:pt x="16105" y="924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6338880" y="3351240"/>
            <a:ext cx="658800" cy="74520"/>
          </a:xfrm>
          <a:custGeom>
            <a:avLst/>
            <a:gdLst/>
            <a:ahLst/>
            <a:rect l="l" t="t" r="r" b="b"/>
            <a:pathLst>
              <a:path w="1830" h="206">
                <a:moveTo>
                  <a:pt x="17650" y="9475"/>
                </a:moveTo>
                <a:cubicBezTo>
                  <a:pt x="17634" y="9478"/>
                  <a:pt x="17624" y="9479"/>
                  <a:pt x="17609" y="9482"/>
                </a:cubicBezTo>
                <a:cubicBezTo>
                  <a:pt x="17626" y="9467"/>
                  <a:pt x="17642" y="9453"/>
                  <a:pt x="17662" y="9440"/>
                </a:cubicBezTo>
                <a:cubicBezTo>
                  <a:pt x="17692" y="9420"/>
                  <a:pt x="17722" y="9398"/>
                  <a:pt x="17759" y="9394"/>
                </a:cubicBezTo>
                <a:cubicBezTo>
                  <a:pt x="17824" y="9387"/>
                  <a:pt x="17860" y="9441"/>
                  <a:pt x="17908" y="9474"/>
                </a:cubicBezTo>
                <a:cubicBezTo>
                  <a:pt x="17950" y="9503"/>
                  <a:pt x="17998" y="9519"/>
                  <a:pt x="18049" y="9515"/>
                </a:cubicBezTo>
                <a:cubicBezTo>
                  <a:pt x="18139" y="9507"/>
                  <a:pt x="18218" y="9444"/>
                  <a:pt x="18308" y="9443"/>
                </a:cubicBezTo>
                <a:cubicBezTo>
                  <a:pt x="18365" y="9443"/>
                  <a:pt x="18417" y="9475"/>
                  <a:pt x="18474" y="9478"/>
                </a:cubicBezTo>
                <a:cubicBezTo>
                  <a:pt x="18591" y="9484"/>
                  <a:pt x="18729" y="9454"/>
                  <a:pt x="18847" y="9443"/>
                </a:cubicBezTo>
                <a:cubicBezTo>
                  <a:pt x="18923" y="9436"/>
                  <a:pt x="18991" y="9403"/>
                  <a:pt x="19069" y="9405"/>
                </a:cubicBezTo>
                <a:cubicBezTo>
                  <a:pt x="19111" y="9406"/>
                  <a:pt x="19147" y="9411"/>
                  <a:pt x="19189" y="9403"/>
                </a:cubicBezTo>
                <a:cubicBezTo>
                  <a:pt x="19257" y="9390"/>
                  <a:pt x="19327" y="9357"/>
                  <a:pt x="19391" y="9331"/>
                </a:cubicBezTo>
                <a:cubicBezTo>
                  <a:pt x="19407" y="9324"/>
                  <a:pt x="19422" y="9317"/>
                  <a:pt x="19438" y="931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6553080" y="3473280"/>
            <a:ext cx="606600" cy="152640"/>
          </a:xfrm>
          <a:custGeom>
            <a:avLst/>
            <a:gdLst/>
            <a:ahLst/>
            <a:rect l="l" t="t" r="r" b="b"/>
            <a:pathLst>
              <a:path w="1686" h="420">
                <a:moveTo>
                  <a:pt x="18287" y="9698"/>
                </a:moveTo>
                <a:cubicBezTo>
                  <a:pt x="18278" y="9681"/>
                  <a:pt x="18275" y="9677"/>
                  <a:pt x="18268" y="9667"/>
                </a:cubicBezTo>
                <a:cubicBezTo>
                  <a:pt x="18243" y="9671"/>
                  <a:pt x="18245" y="9692"/>
                  <a:pt x="18236" y="9721"/>
                </a:cubicBezTo>
                <a:cubicBezTo>
                  <a:pt x="18223" y="9766"/>
                  <a:pt x="18213" y="9811"/>
                  <a:pt x="18206" y="9857"/>
                </a:cubicBezTo>
                <a:cubicBezTo>
                  <a:pt x="18202" y="9883"/>
                  <a:pt x="18202" y="9902"/>
                  <a:pt x="18206" y="9927"/>
                </a:cubicBezTo>
                <a:cubicBezTo>
                  <a:pt x="18243" y="9921"/>
                  <a:pt x="18254" y="9897"/>
                  <a:pt x="18274" y="9864"/>
                </a:cubicBezTo>
                <a:cubicBezTo>
                  <a:pt x="18297" y="9827"/>
                  <a:pt x="18311" y="9786"/>
                  <a:pt x="18333" y="9749"/>
                </a:cubicBezTo>
                <a:cubicBezTo>
                  <a:pt x="18341" y="9737"/>
                  <a:pt x="18343" y="9732"/>
                  <a:pt x="18353" y="9739"/>
                </a:cubicBezTo>
                <a:cubicBezTo>
                  <a:pt x="18351" y="9778"/>
                  <a:pt x="18358" y="9814"/>
                  <a:pt x="18361" y="9853"/>
                </a:cubicBezTo>
                <a:cubicBezTo>
                  <a:pt x="18364" y="9886"/>
                  <a:pt x="18360" y="9930"/>
                  <a:pt x="18383" y="9956"/>
                </a:cubicBezTo>
                <a:cubicBezTo>
                  <a:pt x="18396" y="9966"/>
                  <a:pt x="18401" y="9968"/>
                  <a:pt x="18411" y="9955"/>
                </a:cubicBezTo>
              </a:path>
              <a:path w="1686" h="420">
                <a:moveTo>
                  <a:pt x="18640" y="9678"/>
                </a:moveTo>
                <a:cubicBezTo>
                  <a:pt x="18641" y="9673"/>
                  <a:pt x="18642" y="9667"/>
                  <a:pt x="18643" y="9662"/>
                </a:cubicBezTo>
                <a:cubicBezTo>
                  <a:pt x="18607" y="9652"/>
                  <a:pt x="18593" y="9670"/>
                  <a:pt x="18563" y="9698"/>
                </a:cubicBezTo>
                <a:cubicBezTo>
                  <a:pt x="18540" y="9720"/>
                  <a:pt x="18513" y="9743"/>
                  <a:pt x="18498" y="9771"/>
                </a:cubicBezTo>
                <a:cubicBezTo>
                  <a:pt x="18497" y="9775"/>
                  <a:pt x="18495" y="9779"/>
                  <a:pt x="18494" y="9783"/>
                </a:cubicBezTo>
                <a:cubicBezTo>
                  <a:pt x="18526" y="9790"/>
                  <a:pt x="18557" y="9785"/>
                  <a:pt x="18590" y="9786"/>
                </a:cubicBezTo>
                <a:cubicBezTo>
                  <a:pt x="18627" y="9787"/>
                  <a:pt x="18670" y="9790"/>
                  <a:pt x="18700" y="9815"/>
                </a:cubicBezTo>
                <a:cubicBezTo>
                  <a:pt x="18726" y="9838"/>
                  <a:pt x="18722" y="9873"/>
                  <a:pt x="18703" y="9899"/>
                </a:cubicBezTo>
                <a:cubicBezTo>
                  <a:pt x="18681" y="9929"/>
                  <a:pt x="18634" y="9956"/>
                  <a:pt x="18598" y="9964"/>
                </a:cubicBezTo>
                <a:cubicBezTo>
                  <a:pt x="18582" y="9968"/>
                  <a:pt x="18529" y="9970"/>
                  <a:pt x="18522" y="9945"/>
                </a:cubicBezTo>
                <a:cubicBezTo>
                  <a:pt x="18523" y="9940"/>
                  <a:pt x="18524" y="9934"/>
                  <a:pt x="18525" y="9929"/>
                </a:cubicBezTo>
              </a:path>
              <a:path w="1686" h="420">
                <a:moveTo>
                  <a:pt x="18888" y="9680"/>
                </a:moveTo>
                <a:cubicBezTo>
                  <a:pt x="18887" y="9640"/>
                  <a:pt x="18861" y="9691"/>
                  <a:pt x="18850" y="9710"/>
                </a:cubicBezTo>
                <a:cubicBezTo>
                  <a:pt x="18824" y="9756"/>
                  <a:pt x="18801" y="9804"/>
                  <a:pt x="18781" y="9853"/>
                </a:cubicBezTo>
                <a:cubicBezTo>
                  <a:pt x="18774" y="9871"/>
                  <a:pt x="18770" y="9880"/>
                  <a:pt x="18770" y="9898"/>
                </a:cubicBezTo>
                <a:cubicBezTo>
                  <a:pt x="18787" y="9897"/>
                  <a:pt x="18804" y="9893"/>
                  <a:pt x="18821" y="9891"/>
                </a:cubicBezTo>
                <a:cubicBezTo>
                  <a:pt x="18842" y="9889"/>
                  <a:pt x="18886" y="9885"/>
                  <a:pt x="18903" y="9901"/>
                </a:cubicBezTo>
                <a:cubicBezTo>
                  <a:pt x="18918" y="9915"/>
                  <a:pt x="18916" y="9942"/>
                  <a:pt x="18912" y="9960"/>
                </a:cubicBezTo>
                <a:cubicBezTo>
                  <a:pt x="18906" y="9987"/>
                  <a:pt x="18888" y="10024"/>
                  <a:pt x="18868" y="10043"/>
                </a:cubicBezTo>
                <a:cubicBezTo>
                  <a:pt x="18848" y="10062"/>
                  <a:pt x="18822" y="10068"/>
                  <a:pt x="18795" y="10069"/>
                </a:cubicBezTo>
                <a:cubicBezTo>
                  <a:pt x="18772" y="10070"/>
                  <a:pt x="18752" y="10061"/>
                  <a:pt x="18753" y="10035"/>
                </a:cubicBezTo>
                <a:cubicBezTo>
                  <a:pt x="18754" y="10028"/>
                  <a:pt x="18756" y="10022"/>
                  <a:pt x="18757" y="10015"/>
                </a:cubicBezTo>
              </a:path>
              <a:path w="1686" h="420">
                <a:moveTo>
                  <a:pt x="19129" y="9703"/>
                </a:moveTo>
                <a:cubicBezTo>
                  <a:pt x="19111" y="9737"/>
                  <a:pt x="19094" y="9768"/>
                  <a:pt x="19080" y="9804"/>
                </a:cubicBezTo>
                <a:cubicBezTo>
                  <a:pt x="19068" y="9836"/>
                  <a:pt x="19051" y="9874"/>
                  <a:pt x="19055" y="9909"/>
                </a:cubicBezTo>
                <a:cubicBezTo>
                  <a:pt x="19059" y="9918"/>
                  <a:pt x="19060" y="9921"/>
                  <a:pt x="19068" y="9920"/>
                </a:cubicBezTo>
                <a:cubicBezTo>
                  <a:pt x="19091" y="9907"/>
                  <a:pt x="19110" y="9890"/>
                  <a:pt x="19128" y="9870"/>
                </a:cubicBezTo>
                <a:cubicBezTo>
                  <a:pt x="19151" y="9845"/>
                  <a:pt x="19166" y="9815"/>
                  <a:pt x="19199" y="9807"/>
                </a:cubicBezTo>
                <a:cubicBezTo>
                  <a:pt x="19211" y="9827"/>
                  <a:pt x="19208" y="9844"/>
                  <a:pt x="19213" y="9866"/>
                </a:cubicBezTo>
                <a:cubicBezTo>
                  <a:pt x="19219" y="9894"/>
                  <a:pt x="19216" y="9908"/>
                  <a:pt x="19237" y="9926"/>
                </a:cubicBezTo>
              </a:path>
              <a:path w="1686" h="420">
                <a:moveTo>
                  <a:pt x="19293" y="9861"/>
                </a:moveTo>
                <a:cubicBezTo>
                  <a:pt x="19314" y="9861"/>
                  <a:pt x="19312" y="9863"/>
                  <a:pt x="19329" y="9880"/>
                </a:cubicBezTo>
                <a:cubicBezTo>
                  <a:pt x="19344" y="9867"/>
                  <a:pt x="19351" y="9856"/>
                  <a:pt x="19362" y="9839"/>
                </a:cubicBezTo>
                <a:cubicBezTo>
                  <a:pt x="19376" y="9818"/>
                  <a:pt x="19383" y="9806"/>
                  <a:pt x="19406" y="9796"/>
                </a:cubicBezTo>
                <a:cubicBezTo>
                  <a:pt x="19419" y="9811"/>
                  <a:pt x="19423" y="9823"/>
                  <a:pt x="19430" y="9843"/>
                </a:cubicBezTo>
                <a:cubicBezTo>
                  <a:pt x="19434" y="9856"/>
                  <a:pt x="19436" y="9861"/>
                  <a:pt x="19442" y="9869"/>
                </a:cubicBezTo>
                <a:cubicBezTo>
                  <a:pt x="19463" y="9861"/>
                  <a:pt x="19474" y="9840"/>
                  <a:pt x="19496" y="9833"/>
                </a:cubicBezTo>
                <a:cubicBezTo>
                  <a:pt x="19510" y="9828"/>
                  <a:pt x="19532" y="9835"/>
                  <a:pt x="19544" y="9843"/>
                </a:cubicBezTo>
                <a:cubicBezTo>
                  <a:pt x="19561" y="9854"/>
                  <a:pt x="19577" y="9869"/>
                  <a:pt x="19595" y="9879"/>
                </a:cubicBezTo>
                <a:cubicBezTo>
                  <a:pt x="19614" y="9890"/>
                  <a:pt x="19640" y="9895"/>
                  <a:pt x="19661" y="9885"/>
                </a:cubicBezTo>
                <a:cubicBezTo>
                  <a:pt x="19683" y="9875"/>
                  <a:pt x="19697" y="9852"/>
                  <a:pt x="19715" y="9839"/>
                </a:cubicBezTo>
                <a:cubicBezTo>
                  <a:pt x="19732" y="9827"/>
                  <a:pt x="19746" y="9807"/>
                  <a:pt x="19763" y="9795"/>
                </a:cubicBezTo>
                <a:cubicBezTo>
                  <a:pt x="19776" y="9786"/>
                  <a:pt x="19786" y="9779"/>
                  <a:pt x="19799" y="9769"/>
                </a:cubicBezTo>
                <a:cubicBezTo>
                  <a:pt x="19780" y="9794"/>
                  <a:pt x="19755" y="9814"/>
                  <a:pt x="19738" y="9841"/>
                </a:cubicBezTo>
                <a:cubicBezTo>
                  <a:pt x="19725" y="9862"/>
                  <a:pt x="19705" y="9897"/>
                  <a:pt x="19729" y="9918"/>
                </a:cubicBezTo>
                <a:cubicBezTo>
                  <a:pt x="19753" y="9939"/>
                  <a:pt x="19816" y="9935"/>
                  <a:pt x="19845" y="9935"/>
                </a:cubicBezTo>
                <a:cubicBezTo>
                  <a:pt x="19859" y="9934"/>
                  <a:pt x="19873" y="9934"/>
                  <a:pt x="19887" y="993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7423200" y="3409920"/>
            <a:ext cx="233280" cy="185760"/>
          </a:xfrm>
          <a:custGeom>
            <a:avLst/>
            <a:gdLst/>
            <a:ahLst/>
            <a:rect l="l" t="t" r="r" b="b"/>
            <a:pathLst>
              <a:path w="650" h="513">
                <a:moveTo>
                  <a:pt x="20790" y="9711"/>
                </a:moveTo>
                <a:cubicBezTo>
                  <a:pt x="20785" y="9682"/>
                  <a:pt x="20782" y="9657"/>
                  <a:pt x="20755" y="9641"/>
                </a:cubicBezTo>
                <a:cubicBezTo>
                  <a:pt x="20722" y="9621"/>
                  <a:pt x="20692" y="9648"/>
                  <a:pt x="20671" y="9674"/>
                </a:cubicBezTo>
                <a:cubicBezTo>
                  <a:pt x="20638" y="9713"/>
                  <a:pt x="20619" y="9762"/>
                  <a:pt x="20620" y="9813"/>
                </a:cubicBezTo>
                <a:cubicBezTo>
                  <a:pt x="20621" y="9854"/>
                  <a:pt x="20638" y="9887"/>
                  <a:pt x="20682" y="9888"/>
                </a:cubicBezTo>
                <a:cubicBezTo>
                  <a:pt x="20725" y="9889"/>
                  <a:pt x="20763" y="9859"/>
                  <a:pt x="20797" y="9837"/>
                </a:cubicBezTo>
                <a:cubicBezTo>
                  <a:pt x="20812" y="9827"/>
                  <a:pt x="20843" y="9792"/>
                  <a:pt x="20864" y="9808"/>
                </a:cubicBezTo>
                <a:cubicBezTo>
                  <a:pt x="20885" y="9824"/>
                  <a:pt x="20883" y="9864"/>
                  <a:pt x="20889" y="9886"/>
                </a:cubicBezTo>
                <a:cubicBezTo>
                  <a:pt x="20894" y="9903"/>
                  <a:pt x="20902" y="9909"/>
                  <a:pt x="20916" y="9914"/>
                </a:cubicBezTo>
              </a:path>
              <a:path w="650" h="513">
                <a:moveTo>
                  <a:pt x="21061" y="9507"/>
                </a:moveTo>
                <a:cubicBezTo>
                  <a:pt x="21053" y="9547"/>
                  <a:pt x="21049" y="9594"/>
                  <a:pt x="21050" y="9634"/>
                </a:cubicBezTo>
                <a:cubicBezTo>
                  <a:pt x="21052" y="9711"/>
                  <a:pt x="21063" y="9786"/>
                  <a:pt x="21071" y="9862"/>
                </a:cubicBezTo>
                <a:cubicBezTo>
                  <a:pt x="21074" y="9886"/>
                  <a:pt x="21068" y="9931"/>
                  <a:pt x="21099" y="9917"/>
                </a:cubicBezTo>
              </a:path>
              <a:path w="650" h="513">
                <a:moveTo>
                  <a:pt x="21187" y="9492"/>
                </a:moveTo>
                <a:cubicBezTo>
                  <a:pt x="21185" y="9476"/>
                  <a:pt x="21185" y="9467"/>
                  <a:pt x="21185" y="9484"/>
                </a:cubicBezTo>
                <a:cubicBezTo>
                  <a:pt x="21183" y="9546"/>
                  <a:pt x="21194" y="9611"/>
                  <a:pt x="21204" y="9674"/>
                </a:cubicBezTo>
                <a:cubicBezTo>
                  <a:pt x="21217" y="9756"/>
                  <a:pt x="21229" y="9841"/>
                  <a:pt x="21247" y="9922"/>
                </a:cubicBezTo>
                <a:cubicBezTo>
                  <a:pt x="21257" y="9956"/>
                  <a:pt x="21259" y="9965"/>
                  <a:pt x="21269" y="998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7799400" y="3311640"/>
            <a:ext cx="733320" cy="260280"/>
          </a:xfrm>
          <a:custGeom>
            <a:avLst/>
            <a:gdLst/>
            <a:ahLst/>
            <a:rect l="l" t="t" r="r" b="b"/>
            <a:pathLst>
              <a:path w="2040" h="725">
                <a:moveTo>
                  <a:pt x="21690" y="9489"/>
                </a:moveTo>
                <a:cubicBezTo>
                  <a:pt x="21662" y="9494"/>
                  <a:pt x="21658" y="9510"/>
                  <a:pt x="21664" y="9545"/>
                </a:cubicBezTo>
                <a:cubicBezTo>
                  <a:pt x="21676" y="9609"/>
                  <a:pt x="21695" y="9677"/>
                  <a:pt x="21716" y="9739"/>
                </a:cubicBezTo>
                <a:cubicBezTo>
                  <a:pt x="21732" y="9786"/>
                  <a:pt x="21746" y="9857"/>
                  <a:pt x="21783" y="9894"/>
                </a:cubicBezTo>
                <a:cubicBezTo>
                  <a:pt x="21788" y="9897"/>
                  <a:pt x="21794" y="9900"/>
                  <a:pt x="21799" y="9903"/>
                </a:cubicBezTo>
                <a:cubicBezTo>
                  <a:pt x="21829" y="9885"/>
                  <a:pt x="21839" y="9858"/>
                  <a:pt x="21853" y="9825"/>
                </a:cubicBezTo>
                <a:cubicBezTo>
                  <a:pt x="21881" y="9759"/>
                  <a:pt x="21889" y="9669"/>
                  <a:pt x="21928" y="9609"/>
                </a:cubicBezTo>
                <a:cubicBezTo>
                  <a:pt x="21946" y="9581"/>
                  <a:pt x="21963" y="9595"/>
                  <a:pt x="21978" y="9613"/>
                </a:cubicBezTo>
              </a:path>
              <a:path w="2040" h="725">
                <a:moveTo>
                  <a:pt x="22118" y="9743"/>
                </a:moveTo>
                <a:cubicBezTo>
                  <a:pt x="22144" y="9734"/>
                  <a:pt x="22162" y="9706"/>
                  <a:pt x="22174" y="9680"/>
                </a:cubicBezTo>
                <a:cubicBezTo>
                  <a:pt x="22194" y="9638"/>
                  <a:pt x="22211" y="9595"/>
                  <a:pt x="22227" y="9552"/>
                </a:cubicBezTo>
                <a:cubicBezTo>
                  <a:pt x="22238" y="9524"/>
                  <a:pt x="22245" y="9520"/>
                  <a:pt x="22223" y="9514"/>
                </a:cubicBezTo>
                <a:cubicBezTo>
                  <a:pt x="22190" y="9564"/>
                  <a:pt x="22167" y="9619"/>
                  <a:pt x="22157" y="9679"/>
                </a:cubicBezTo>
                <a:cubicBezTo>
                  <a:pt x="22148" y="9728"/>
                  <a:pt x="22137" y="9816"/>
                  <a:pt x="22186" y="9850"/>
                </a:cubicBezTo>
                <a:cubicBezTo>
                  <a:pt x="22224" y="9876"/>
                  <a:pt x="22256" y="9852"/>
                  <a:pt x="22288" y="9835"/>
                </a:cubicBezTo>
                <a:cubicBezTo>
                  <a:pt x="22320" y="9818"/>
                  <a:pt x="22333" y="9794"/>
                  <a:pt x="22360" y="9772"/>
                </a:cubicBezTo>
                <a:cubicBezTo>
                  <a:pt x="22379" y="9757"/>
                  <a:pt x="22377" y="9790"/>
                  <a:pt x="22384" y="9804"/>
                </a:cubicBezTo>
                <a:cubicBezTo>
                  <a:pt x="22406" y="9778"/>
                  <a:pt x="22425" y="9747"/>
                  <a:pt x="22441" y="9717"/>
                </a:cubicBezTo>
                <a:cubicBezTo>
                  <a:pt x="22464" y="9673"/>
                  <a:pt x="22496" y="9636"/>
                  <a:pt x="22525" y="9595"/>
                </a:cubicBezTo>
                <a:cubicBezTo>
                  <a:pt x="22546" y="9567"/>
                  <a:pt x="22553" y="9558"/>
                  <a:pt x="22566" y="9538"/>
                </a:cubicBezTo>
              </a:path>
              <a:path w="2040" h="725">
                <a:moveTo>
                  <a:pt x="22652" y="9199"/>
                </a:moveTo>
                <a:cubicBezTo>
                  <a:pt x="22634" y="9247"/>
                  <a:pt x="22644" y="9300"/>
                  <a:pt x="22648" y="9354"/>
                </a:cubicBezTo>
                <a:cubicBezTo>
                  <a:pt x="22654" y="9449"/>
                  <a:pt x="22663" y="9547"/>
                  <a:pt x="22677" y="9641"/>
                </a:cubicBezTo>
                <a:cubicBezTo>
                  <a:pt x="22686" y="9700"/>
                  <a:pt x="22698" y="9751"/>
                  <a:pt x="22695" y="9811"/>
                </a:cubicBezTo>
              </a:path>
              <a:path w="2040" h="725">
                <a:moveTo>
                  <a:pt x="22583" y="9615"/>
                </a:moveTo>
                <a:cubicBezTo>
                  <a:pt x="22585" y="9582"/>
                  <a:pt x="22595" y="9591"/>
                  <a:pt x="22624" y="9583"/>
                </a:cubicBezTo>
                <a:cubicBezTo>
                  <a:pt x="22666" y="9571"/>
                  <a:pt x="22707" y="9563"/>
                  <a:pt x="22749" y="9552"/>
                </a:cubicBezTo>
                <a:cubicBezTo>
                  <a:pt x="22785" y="9542"/>
                  <a:pt x="22828" y="9521"/>
                  <a:pt x="22865" y="9518"/>
                </a:cubicBezTo>
                <a:cubicBezTo>
                  <a:pt x="22870" y="9519"/>
                  <a:pt x="22875" y="9520"/>
                  <a:pt x="22880" y="9521"/>
                </a:cubicBezTo>
              </a:path>
              <a:path w="2040" h="725">
                <a:moveTo>
                  <a:pt x="22896" y="9554"/>
                </a:moveTo>
                <a:cubicBezTo>
                  <a:pt x="22894" y="9600"/>
                  <a:pt x="22890" y="9645"/>
                  <a:pt x="22890" y="9691"/>
                </a:cubicBezTo>
                <a:cubicBezTo>
                  <a:pt x="22890" y="9701"/>
                  <a:pt x="22897" y="9830"/>
                  <a:pt x="22905" y="9827"/>
                </a:cubicBezTo>
                <a:cubicBezTo>
                  <a:pt x="22907" y="9822"/>
                  <a:pt x="22908" y="9818"/>
                  <a:pt x="22910" y="9813"/>
                </a:cubicBezTo>
              </a:path>
              <a:path w="2040" h="725">
                <a:moveTo>
                  <a:pt x="22931" y="9538"/>
                </a:moveTo>
                <a:cubicBezTo>
                  <a:pt x="22935" y="9509"/>
                  <a:pt x="22927" y="9514"/>
                  <a:pt x="22964" y="9512"/>
                </a:cubicBezTo>
              </a:path>
              <a:path w="2040" h="725">
                <a:moveTo>
                  <a:pt x="23110" y="9592"/>
                </a:moveTo>
                <a:cubicBezTo>
                  <a:pt x="23099" y="9633"/>
                  <a:pt x="23077" y="9670"/>
                  <a:pt x="23068" y="9712"/>
                </a:cubicBezTo>
                <a:cubicBezTo>
                  <a:pt x="23065" y="9728"/>
                  <a:pt x="23049" y="9789"/>
                  <a:pt x="23066" y="9803"/>
                </a:cubicBezTo>
                <a:cubicBezTo>
                  <a:pt x="23093" y="9825"/>
                  <a:pt x="23132" y="9804"/>
                  <a:pt x="23156" y="9788"/>
                </a:cubicBezTo>
                <a:cubicBezTo>
                  <a:pt x="23163" y="9782"/>
                  <a:pt x="23169" y="9777"/>
                  <a:pt x="23176" y="9771"/>
                </a:cubicBezTo>
              </a:path>
              <a:path w="2040" h="725">
                <a:moveTo>
                  <a:pt x="23323" y="9690"/>
                </a:moveTo>
                <a:cubicBezTo>
                  <a:pt x="23341" y="9678"/>
                  <a:pt x="23351" y="9662"/>
                  <a:pt x="23364" y="9652"/>
                </a:cubicBezTo>
                <a:cubicBezTo>
                  <a:pt x="23387" y="9634"/>
                  <a:pt x="23391" y="9627"/>
                  <a:pt x="23402" y="9600"/>
                </a:cubicBezTo>
                <a:cubicBezTo>
                  <a:pt x="23408" y="9591"/>
                  <a:pt x="23409" y="9588"/>
                  <a:pt x="23409" y="9581"/>
                </a:cubicBezTo>
                <a:cubicBezTo>
                  <a:pt x="23385" y="9574"/>
                  <a:pt x="23373" y="9587"/>
                  <a:pt x="23356" y="9608"/>
                </a:cubicBezTo>
                <a:cubicBezTo>
                  <a:pt x="23332" y="9639"/>
                  <a:pt x="23300" y="9677"/>
                  <a:pt x="23286" y="9715"/>
                </a:cubicBezTo>
                <a:cubicBezTo>
                  <a:pt x="23275" y="9744"/>
                  <a:pt x="23276" y="9776"/>
                  <a:pt x="23313" y="9772"/>
                </a:cubicBezTo>
                <a:cubicBezTo>
                  <a:pt x="23376" y="9765"/>
                  <a:pt x="23435" y="9735"/>
                  <a:pt x="23492" y="9711"/>
                </a:cubicBezTo>
              </a:path>
              <a:path w="2040" h="725">
                <a:moveTo>
                  <a:pt x="23703" y="9603"/>
                </a:moveTo>
                <a:cubicBezTo>
                  <a:pt x="23690" y="9584"/>
                  <a:pt x="23678" y="9597"/>
                  <a:pt x="23657" y="9604"/>
                </a:cubicBezTo>
                <a:cubicBezTo>
                  <a:pt x="23629" y="9613"/>
                  <a:pt x="23616" y="9625"/>
                  <a:pt x="23606" y="9654"/>
                </a:cubicBezTo>
                <a:cubicBezTo>
                  <a:pt x="23595" y="9684"/>
                  <a:pt x="23601" y="9714"/>
                  <a:pt x="23603" y="9745"/>
                </a:cubicBezTo>
                <a:cubicBezTo>
                  <a:pt x="23605" y="9774"/>
                  <a:pt x="23611" y="9801"/>
                  <a:pt x="23613" y="9830"/>
                </a:cubicBezTo>
                <a:cubicBezTo>
                  <a:pt x="23615" y="9856"/>
                  <a:pt x="23611" y="9870"/>
                  <a:pt x="23599" y="9893"/>
                </a:cubicBezTo>
                <a:cubicBezTo>
                  <a:pt x="23589" y="9912"/>
                  <a:pt x="23577" y="9915"/>
                  <a:pt x="23557" y="992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8624880" y="3808440"/>
            <a:ext cx="3240" cy="15840"/>
          </a:xfrm>
          <a:custGeom>
            <a:avLst/>
            <a:gdLst/>
            <a:ahLst/>
            <a:rect l="l" t="t" r="r" b="b"/>
            <a:pathLst>
              <a:path w="9" h="47">
                <a:moveTo>
                  <a:pt x="23959" y="10624"/>
                </a:moveTo>
                <a:cubicBezTo>
                  <a:pt x="23962" y="10609"/>
                  <a:pt x="23964" y="10593"/>
                  <a:pt x="23967" y="1057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6573960" y="3691080"/>
            <a:ext cx="423720" cy="152280"/>
          </a:xfrm>
          <a:custGeom>
            <a:avLst/>
            <a:gdLst/>
            <a:ahLst/>
            <a:rect l="l" t="t" r="r" b="b"/>
            <a:pathLst>
              <a:path w="1176" h="423">
                <a:moveTo>
                  <a:pt x="18333" y="10263"/>
                </a:moveTo>
                <a:cubicBezTo>
                  <a:pt x="18323" y="10258"/>
                  <a:pt x="18287" y="10243"/>
                  <a:pt x="18277" y="10260"/>
                </a:cubicBezTo>
                <a:cubicBezTo>
                  <a:pt x="18258" y="10292"/>
                  <a:pt x="18259" y="10345"/>
                  <a:pt x="18261" y="10381"/>
                </a:cubicBezTo>
                <a:cubicBezTo>
                  <a:pt x="18265" y="10446"/>
                  <a:pt x="18275" y="10510"/>
                  <a:pt x="18287" y="10574"/>
                </a:cubicBezTo>
                <a:cubicBezTo>
                  <a:pt x="18292" y="10599"/>
                  <a:pt x="18296" y="10623"/>
                  <a:pt x="18303" y="10647"/>
                </a:cubicBezTo>
                <a:cubicBezTo>
                  <a:pt x="18325" y="10604"/>
                  <a:pt x="18337" y="10559"/>
                  <a:pt x="18353" y="10514"/>
                </a:cubicBezTo>
                <a:cubicBezTo>
                  <a:pt x="18370" y="10465"/>
                  <a:pt x="18386" y="10402"/>
                  <a:pt x="18429" y="10368"/>
                </a:cubicBezTo>
                <a:cubicBezTo>
                  <a:pt x="18435" y="10366"/>
                  <a:pt x="18440" y="10363"/>
                  <a:pt x="18446" y="10361"/>
                </a:cubicBezTo>
                <a:cubicBezTo>
                  <a:pt x="18482" y="10397"/>
                  <a:pt x="18490" y="10442"/>
                  <a:pt x="18503" y="10492"/>
                </a:cubicBezTo>
                <a:cubicBezTo>
                  <a:pt x="18518" y="10549"/>
                  <a:pt x="18523" y="10615"/>
                  <a:pt x="18564" y="10661"/>
                </a:cubicBezTo>
                <a:cubicBezTo>
                  <a:pt x="18585" y="10685"/>
                  <a:pt x="18605" y="10662"/>
                  <a:pt x="18623" y="10650"/>
                </a:cubicBezTo>
              </a:path>
              <a:path w="1176" h="423">
                <a:moveTo>
                  <a:pt x="18732" y="10369"/>
                </a:moveTo>
                <a:cubicBezTo>
                  <a:pt x="18730" y="10363"/>
                  <a:pt x="18728" y="10358"/>
                  <a:pt x="18726" y="10352"/>
                </a:cubicBezTo>
                <a:cubicBezTo>
                  <a:pt x="18691" y="10346"/>
                  <a:pt x="18689" y="10374"/>
                  <a:pt x="18675" y="10402"/>
                </a:cubicBezTo>
                <a:cubicBezTo>
                  <a:pt x="18649" y="10453"/>
                  <a:pt x="18630" y="10506"/>
                  <a:pt x="18628" y="10564"/>
                </a:cubicBezTo>
                <a:cubicBezTo>
                  <a:pt x="18627" y="10584"/>
                  <a:pt x="18630" y="10648"/>
                  <a:pt x="18666" y="10645"/>
                </a:cubicBezTo>
                <a:cubicBezTo>
                  <a:pt x="18701" y="10642"/>
                  <a:pt x="18737" y="10589"/>
                  <a:pt x="18754" y="10564"/>
                </a:cubicBezTo>
                <a:cubicBezTo>
                  <a:pt x="18776" y="10532"/>
                  <a:pt x="18788" y="10488"/>
                  <a:pt x="18824" y="10472"/>
                </a:cubicBezTo>
                <a:cubicBezTo>
                  <a:pt x="18841" y="10504"/>
                  <a:pt x="18843" y="10536"/>
                  <a:pt x="18855" y="10570"/>
                </a:cubicBezTo>
                <a:cubicBezTo>
                  <a:pt x="18864" y="10597"/>
                  <a:pt x="18875" y="10623"/>
                  <a:pt x="18895" y="10644"/>
                </a:cubicBezTo>
              </a:path>
              <a:path w="1176" h="423">
                <a:moveTo>
                  <a:pt x="18939" y="10570"/>
                </a:moveTo>
                <a:cubicBezTo>
                  <a:pt x="18943" y="10603"/>
                  <a:pt x="18943" y="10631"/>
                  <a:pt x="18964" y="10658"/>
                </a:cubicBezTo>
                <a:cubicBezTo>
                  <a:pt x="18979" y="10677"/>
                  <a:pt x="19006" y="10680"/>
                  <a:pt x="19026" y="10666"/>
                </a:cubicBezTo>
                <a:cubicBezTo>
                  <a:pt x="19053" y="10647"/>
                  <a:pt x="19065" y="10611"/>
                  <a:pt x="19074" y="10581"/>
                </a:cubicBezTo>
                <a:cubicBezTo>
                  <a:pt x="19082" y="10553"/>
                  <a:pt x="19085" y="10520"/>
                  <a:pt x="19097" y="10493"/>
                </a:cubicBezTo>
                <a:cubicBezTo>
                  <a:pt x="19102" y="10480"/>
                  <a:pt x="19115" y="10448"/>
                  <a:pt x="19125" y="10440"/>
                </a:cubicBezTo>
                <a:cubicBezTo>
                  <a:pt x="19129" y="10439"/>
                  <a:pt x="19132" y="10439"/>
                  <a:pt x="19136" y="10438"/>
                </a:cubicBezTo>
                <a:cubicBezTo>
                  <a:pt x="19154" y="10449"/>
                  <a:pt x="19155" y="10453"/>
                  <a:pt x="19162" y="10478"/>
                </a:cubicBezTo>
                <a:cubicBezTo>
                  <a:pt x="19169" y="10504"/>
                  <a:pt x="19176" y="10525"/>
                  <a:pt x="19189" y="10549"/>
                </a:cubicBezTo>
                <a:cubicBezTo>
                  <a:pt x="19224" y="10548"/>
                  <a:pt x="19223" y="10533"/>
                  <a:pt x="19246" y="10505"/>
                </a:cubicBezTo>
                <a:cubicBezTo>
                  <a:pt x="19269" y="10476"/>
                  <a:pt x="19291" y="10447"/>
                  <a:pt x="19308" y="10414"/>
                </a:cubicBezTo>
                <a:cubicBezTo>
                  <a:pt x="19310" y="10410"/>
                  <a:pt x="19311" y="10406"/>
                  <a:pt x="19313" y="10402"/>
                </a:cubicBezTo>
                <a:cubicBezTo>
                  <a:pt x="19289" y="10434"/>
                  <a:pt x="19270" y="10470"/>
                  <a:pt x="19260" y="10510"/>
                </a:cubicBezTo>
                <a:cubicBezTo>
                  <a:pt x="19253" y="10539"/>
                  <a:pt x="19245" y="10595"/>
                  <a:pt x="19279" y="10613"/>
                </a:cubicBezTo>
                <a:cubicBezTo>
                  <a:pt x="19319" y="10634"/>
                  <a:pt x="19369" y="10611"/>
                  <a:pt x="19406" y="10594"/>
                </a:cubicBezTo>
                <a:cubicBezTo>
                  <a:pt x="19416" y="10588"/>
                  <a:pt x="19426" y="10583"/>
                  <a:pt x="19436" y="1057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7115040" y="3666960"/>
            <a:ext cx="425520" cy="182880"/>
          </a:xfrm>
          <a:custGeom>
            <a:avLst/>
            <a:gdLst/>
            <a:ahLst/>
            <a:rect l="l" t="t" r="r" b="b"/>
            <a:pathLst>
              <a:path w="1183" h="505">
                <a:moveTo>
                  <a:pt x="19954" y="10493"/>
                </a:moveTo>
                <a:cubicBezTo>
                  <a:pt x="19943" y="10463"/>
                  <a:pt x="19930" y="10437"/>
                  <a:pt x="19905" y="10415"/>
                </a:cubicBezTo>
                <a:cubicBezTo>
                  <a:pt x="19876" y="10390"/>
                  <a:pt x="19849" y="10382"/>
                  <a:pt x="19818" y="10407"/>
                </a:cubicBezTo>
                <a:cubicBezTo>
                  <a:pt x="19779" y="10438"/>
                  <a:pt x="19767" y="10494"/>
                  <a:pt x="19763" y="10541"/>
                </a:cubicBezTo>
                <a:cubicBezTo>
                  <a:pt x="19760" y="10580"/>
                  <a:pt x="19767" y="10598"/>
                  <a:pt x="19785" y="10630"/>
                </a:cubicBezTo>
                <a:cubicBezTo>
                  <a:pt x="19836" y="10629"/>
                  <a:pt x="19862" y="10600"/>
                  <a:pt x="19894" y="10559"/>
                </a:cubicBezTo>
                <a:cubicBezTo>
                  <a:pt x="19945" y="10493"/>
                  <a:pt x="19975" y="10415"/>
                  <a:pt x="20001" y="10336"/>
                </a:cubicBezTo>
                <a:cubicBezTo>
                  <a:pt x="20017" y="10287"/>
                  <a:pt x="20030" y="10238"/>
                  <a:pt x="20028" y="10187"/>
                </a:cubicBezTo>
                <a:cubicBezTo>
                  <a:pt x="20015" y="10229"/>
                  <a:pt x="20006" y="10272"/>
                  <a:pt x="20007" y="10322"/>
                </a:cubicBezTo>
                <a:cubicBezTo>
                  <a:pt x="20008" y="10400"/>
                  <a:pt x="20020" y="10476"/>
                  <a:pt x="20055" y="10547"/>
                </a:cubicBezTo>
                <a:cubicBezTo>
                  <a:pt x="20075" y="10578"/>
                  <a:pt x="20080" y="10587"/>
                  <a:pt x="20102" y="10598"/>
                </a:cubicBezTo>
              </a:path>
              <a:path w="1183" h="505">
                <a:moveTo>
                  <a:pt x="20221" y="10530"/>
                </a:moveTo>
                <a:cubicBezTo>
                  <a:pt x="20219" y="10567"/>
                  <a:pt x="20220" y="10604"/>
                  <a:pt x="20218" y="10641"/>
                </a:cubicBezTo>
                <a:cubicBezTo>
                  <a:pt x="20217" y="10646"/>
                  <a:pt x="20216" y="10652"/>
                  <a:pt x="20215" y="10657"/>
                </a:cubicBezTo>
                <a:cubicBezTo>
                  <a:pt x="20220" y="10610"/>
                  <a:pt x="20218" y="10565"/>
                  <a:pt x="20219" y="10517"/>
                </a:cubicBezTo>
                <a:cubicBezTo>
                  <a:pt x="20220" y="10449"/>
                  <a:pt x="20216" y="10385"/>
                  <a:pt x="20208" y="10317"/>
                </a:cubicBezTo>
                <a:cubicBezTo>
                  <a:pt x="20207" y="10300"/>
                  <a:pt x="20206" y="10293"/>
                  <a:pt x="20200" y="10283"/>
                </a:cubicBezTo>
              </a:path>
              <a:path w="1183" h="505">
                <a:moveTo>
                  <a:pt x="20472" y="10620"/>
                </a:moveTo>
                <a:cubicBezTo>
                  <a:pt x="20460" y="10583"/>
                  <a:pt x="20454" y="10545"/>
                  <a:pt x="20448" y="10507"/>
                </a:cubicBezTo>
                <a:cubicBezTo>
                  <a:pt x="20438" y="10447"/>
                  <a:pt x="20432" y="10385"/>
                  <a:pt x="20431" y="10324"/>
                </a:cubicBezTo>
                <a:cubicBezTo>
                  <a:pt x="20430" y="10282"/>
                  <a:pt x="20432" y="10251"/>
                  <a:pt x="20461" y="10223"/>
                </a:cubicBezTo>
                <a:cubicBezTo>
                  <a:pt x="20507" y="10226"/>
                  <a:pt x="20532" y="10251"/>
                  <a:pt x="20563" y="10286"/>
                </a:cubicBezTo>
                <a:cubicBezTo>
                  <a:pt x="20601" y="10328"/>
                  <a:pt x="20640" y="10383"/>
                  <a:pt x="20651" y="10440"/>
                </a:cubicBezTo>
                <a:cubicBezTo>
                  <a:pt x="20658" y="10479"/>
                  <a:pt x="20649" y="10530"/>
                  <a:pt x="20609" y="10549"/>
                </a:cubicBezTo>
                <a:cubicBezTo>
                  <a:pt x="20564" y="10570"/>
                  <a:pt x="20514" y="10554"/>
                  <a:pt x="20471" y="10539"/>
                </a:cubicBezTo>
                <a:cubicBezTo>
                  <a:pt x="20424" y="10522"/>
                  <a:pt x="20380" y="10495"/>
                  <a:pt x="20341" y="10464"/>
                </a:cubicBezTo>
                <a:cubicBezTo>
                  <a:pt x="20324" y="10449"/>
                  <a:pt x="20318" y="10444"/>
                  <a:pt x="20311" y="10430"/>
                </a:cubicBezTo>
                <a:cubicBezTo>
                  <a:pt x="20331" y="10404"/>
                  <a:pt x="20339" y="10400"/>
                  <a:pt x="20378" y="10395"/>
                </a:cubicBezTo>
                <a:cubicBezTo>
                  <a:pt x="20437" y="10387"/>
                  <a:pt x="20501" y="10397"/>
                  <a:pt x="20559" y="10404"/>
                </a:cubicBezTo>
                <a:cubicBezTo>
                  <a:pt x="20599" y="10411"/>
                  <a:pt x="20611" y="10413"/>
                  <a:pt x="20637" y="10418"/>
                </a:cubicBezTo>
              </a:path>
              <a:path w="1183" h="505">
                <a:moveTo>
                  <a:pt x="20783" y="10684"/>
                </a:moveTo>
                <a:cubicBezTo>
                  <a:pt x="20757" y="10680"/>
                  <a:pt x="20752" y="10681"/>
                  <a:pt x="20747" y="10640"/>
                </a:cubicBezTo>
                <a:cubicBezTo>
                  <a:pt x="20740" y="10586"/>
                  <a:pt x="20745" y="10530"/>
                  <a:pt x="20749" y="10476"/>
                </a:cubicBezTo>
                <a:cubicBezTo>
                  <a:pt x="20754" y="10415"/>
                  <a:pt x="20762" y="10354"/>
                  <a:pt x="20775" y="10294"/>
                </a:cubicBezTo>
                <a:cubicBezTo>
                  <a:pt x="20780" y="10269"/>
                  <a:pt x="20792" y="10223"/>
                  <a:pt x="20828" y="10230"/>
                </a:cubicBezTo>
                <a:cubicBezTo>
                  <a:pt x="20858" y="10236"/>
                  <a:pt x="20877" y="10276"/>
                  <a:pt x="20889" y="10300"/>
                </a:cubicBezTo>
                <a:cubicBezTo>
                  <a:pt x="20905" y="10334"/>
                  <a:pt x="20908" y="10370"/>
                  <a:pt x="20892" y="10404"/>
                </a:cubicBezTo>
                <a:cubicBezTo>
                  <a:pt x="20879" y="10425"/>
                  <a:pt x="20874" y="10432"/>
                  <a:pt x="20860" y="10442"/>
                </a:cubicBezTo>
              </a:path>
              <a:path w="1183" h="505">
                <a:moveTo>
                  <a:pt x="20719" y="10486"/>
                </a:moveTo>
                <a:cubicBezTo>
                  <a:pt x="20696" y="10490"/>
                  <a:pt x="20745" y="10476"/>
                  <a:pt x="20767" y="10467"/>
                </a:cubicBezTo>
                <a:cubicBezTo>
                  <a:pt x="20815" y="10447"/>
                  <a:pt x="20859" y="10426"/>
                  <a:pt x="20909" y="10411"/>
                </a:cubicBezTo>
                <a:cubicBezTo>
                  <a:pt x="20921" y="10407"/>
                  <a:pt x="20933" y="10404"/>
                  <a:pt x="20945" y="1040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7718400" y="3643200"/>
            <a:ext cx="854280" cy="268560"/>
          </a:xfrm>
          <a:custGeom>
            <a:avLst/>
            <a:gdLst/>
            <a:ahLst/>
            <a:rect l="l" t="t" r="r" b="b"/>
            <a:pathLst>
              <a:path w="2375" h="748">
                <a:moveTo>
                  <a:pt x="21562" y="10424"/>
                </a:moveTo>
                <a:cubicBezTo>
                  <a:pt x="21556" y="10393"/>
                  <a:pt x="21554" y="10356"/>
                  <a:pt x="21540" y="10327"/>
                </a:cubicBezTo>
                <a:cubicBezTo>
                  <a:pt x="21538" y="10314"/>
                  <a:pt x="21535" y="10309"/>
                  <a:pt x="21525" y="10304"/>
                </a:cubicBezTo>
                <a:cubicBezTo>
                  <a:pt x="21491" y="10340"/>
                  <a:pt x="21471" y="10377"/>
                  <a:pt x="21457" y="10425"/>
                </a:cubicBezTo>
                <a:cubicBezTo>
                  <a:pt x="21439" y="10486"/>
                  <a:pt x="21426" y="10552"/>
                  <a:pt x="21456" y="10608"/>
                </a:cubicBezTo>
                <a:cubicBezTo>
                  <a:pt x="21505" y="10613"/>
                  <a:pt x="21532" y="10585"/>
                  <a:pt x="21563" y="10545"/>
                </a:cubicBezTo>
                <a:cubicBezTo>
                  <a:pt x="21625" y="10467"/>
                  <a:pt x="21660" y="10364"/>
                  <a:pt x="21680" y="10268"/>
                </a:cubicBezTo>
                <a:cubicBezTo>
                  <a:pt x="21691" y="10217"/>
                  <a:pt x="21693" y="10170"/>
                  <a:pt x="21684" y="10119"/>
                </a:cubicBezTo>
                <a:cubicBezTo>
                  <a:pt x="21649" y="10154"/>
                  <a:pt x="21655" y="10206"/>
                  <a:pt x="21658" y="10257"/>
                </a:cubicBezTo>
                <a:cubicBezTo>
                  <a:pt x="21663" y="10348"/>
                  <a:pt x="21682" y="10434"/>
                  <a:pt x="21725" y="10515"/>
                </a:cubicBezTo>
                <a:cubicBezTo>
                  <a:pt x="21751" y="10565"/>
                  <a:pt x="21780" y="10590"/>
                  <a:pt x="21822" y="10624"/>
                </a:cubicBezTo>
              </a:path>
              <a:path w="2375" h="748">
                <a:moveTo>
                  <a:pt x="22017" y="10519"/>
                </a:moveTo>
                <a:cubicBezTo>
                  <a:pt x="22034" y="10499"/>
                  <a:pt x="22048" y="10475"/>
                  <a:pt x="22053" y="10451"/>
                </a:cubicBezTo>
                <a:cubicBezTo>
                  <a:pt x="22058" y="10427"/>
                  <a:pt x="22064" y="10387"/>
                  <a:pt x="22050" y="10365"/>
                </a:cubicBezTo>
                <a:cubicBezTo>
                  <a:pt x="22033" y="10338"/>
                  <a:pt x="21998" y="10348"/>
                  <a:pt x="21976" y="10361"/>
                </a:cubicBezTo>
                <a:cubicBezTo>
                  <a:pt x="21939" y="10382"/>
                  <a:pt x="21911" y="10420"/>
                  <a:pt x="21900" y="10461"/>
                </a:cubicBezTo>
                <a:cubicBezTo>
                  <a:pt x="21889" y="10505"/>
                  <a:pt x="21897" y="10546"/>
                  <a:pt x="21938" y="10570"/>
                </a:cubicBezTo>
                <a:cubicBezTo>
                  <a:pt x="21991" y="10601"/>
                  <a:pt x="22049" y="10592"/>
                  <a:pt x="22106" y="10576"/>
                </a:cubicBezTo>
                <a:cubicBezTo>
                  <a:pt x="22121" y="10571"/>
                  <a:pt x="22135" y="10566"/>
                  <a:pt x="22150" y="10561"/>
                </a:cubicBezTo>
              </a:path>
              <a:path w="2375" h="748">
                <a:moveTo>
                  <a:pt x="22318" y="10395"/>
                </a:moveTo>
                <a:cubicBezTo>
                  <a:pt x="22296" y="10386"/>
                  <a:pt x="22268" y="10387"/>
                  <a:pt x="22248" y="10405"/>
                </a:cubicBezTo>
                <a:cubicBezTo>
                  <a:pt x="22218" y="10432"/>
                  <a:pt x="22190" y="10470"/>
                  <a:pt x="22176" y="10508"/>
                </a:cubicBezTo>
                <a:cubicBezTo>
                  <a:pt x="22167" y="10532"/>
                  <a:pt x="22166" y="10543"/>
                  <a:pt x="22175" y="10564"/>
                </a:cubicBezTo>
                <a:cubicBezTo>
                  <a:pt x="22206" y="10562"/>
                  <a:pt x="22226" y="10546"/>
                  <a:pt x="22251" y="10528"/>
                </a:cubicBezTo>
                <a:cubicBezTo>
                  <a:pt x="22276" y="10510"/>
                  <a:pt x="22303" y="10476"/>
                  <a:pt x="22337" y="10475"/>
                </a:cubicBezTo>
                <a:cubicBezTo>
                  <a:pt x="22376" y="10474"/>
                  <a:pt x="22380" y="10533"/>
                  <a:pt x="22383" y="10559"/>
                </a:cubicBezTo>
                <a:cubicBezTo>
                  <a:pt x="22392" y="10623"/>
                  <a:pt x="22383" y="10691"/>
                  <a:pt x="22360" y="10751"/>
                </a:cubicBezTo>
                <a:cubicBezTo>
                  <a:pt x="22341" y="10802"/>
                  <a:pt x="22313" y="10845"/>
                  <a:pt x="22260" y="10862"/>
                </a:cubicBezTo>
                <a:cubicBezTo>
                  <a:pt x="22214" y="10877"/>
                  <a:pt x="22192" y="10829"/>
                  <a:pt x="22184" y="10792"/>
                </a:cubicBezTo>
                <a:cubicBezTo>
                  <a:pt x="22182" y="10777"/>
                  <a:pt x="22181" y="10763"/>
                  <a:pt x="22179" y="10748"/>
                </a:cubicBezTo>
              </a:path>
              <a:path w="2375" h="748">
                <a:moveTo>
                  <a:pt x="22506" y="10412"/>
                </a:moveTo>
                <a:cubicBezTo>
                  <a:pt x="22523" y="10442"/>
                  <a:pt x="22535" y="10473"/>
                  <a:pt x="22534" y="10508"/>
                </a:cubicBezTo>
                <a:cubicBezTo>
                  <a:pt x="22534" y="10523"/>
                  <a:pt x="22536" y="10588"/>
                  <a:pt x="22525" y="10599"/>
                </a:cubicBezTo>
                <a:cubicBezTo>
                  <a:pt x="22521" y="10599"/>
                  <a:pt x="22517" y="10600"/>
                  <a:pt x="22513" y="10600"/>
                </a:cubicBezTo>
                <a:cubicBezTo>
                  <a:pt x="22505" y="10567"/>
                  <a:pt x="22503" y="10533"/>
                  <a:pt x="22506" y="10499"/>
                </a:cubicBezTo>
                <a:cubicBezTo>
                  <a:pt x="22509" y="10462"/>
                  <a:pt x="22508" y="10396"/>
                  <a:pt x="22531" y="10364"/>
                </a:cubicBezTo>
                <a:cubicBezTo>
                  <a:pt x="22546" y="10342"/>
                  <a:pt x="22583" y="10325"/>
                  <a:pt x="22609" y="10325"/>
                </a:cubicBezTo>
                <a:cubicBezTo>
                  <a:pt x="22615" y="10326"/>
                  <a:pt x="22622" y="10326"/>
                  <a:pt x="22628" y="10327"/>
                </a:cubicBezTo>
              </a:path>
              <a:path w="2375" h="748">
                <a:moveTo>
                  <a:pt x="22804" y="10492"/>
                </a:moveTo>
                <a:cubicBezTo>
                  <a:pt x="22807" y="10515"/>
                  <a:pt x="22815" y="10534"/>
                  <a:pt x="22824" y="10556"/>
                </a:cubicBezTo>
                <a:cubicBezTo>
                  <a:pt x="22834" y="10581"/>
                  <a:pt x="22843" y="10591"/>
                  <a:pt x="22865" y="10606"/>
                </a:cubicBezTo>
                <a:cubicBezTo>
                  <a:pt x="22881" y="10587"/>
                  <a:pt x="22884" y="10570"/>
                  <a:pt x="22890" y="10545"/>
                </a:cubicBezTo>
                <a:cubicBezTo>
                  <a:pt x="22897" y="10515"/>
                  <a:pt x="22905" y="10489"/>
                  <a:pt x="22918" y="10462"/>
                </a:cubicBezTo>
                <a:cubicBezTo>
                  <a:pt x="22928" y="10441"/>
                  <a:pt x="22939" y="10424"/>
                  <a:pt x="22946" y="10402"/>
                </a:cubicBezTo>
                <a:cubicBezTo>
                  <a:pt x="22952" y="10382"/>
                  <a:pt x="22955" y="10367"/>
                  <a:pt x="22935" y="10354"/>
                </a:cubicBezTo>
                <a:cubicBezTo>
                  <a:pt x="22916" y="10342"/>
                  <a:pt x="22897" y="10357"/>
                  <a:pt x="22884" y="10369"/>
                </a:cubicBezTo>
                <a:cubicBezTo>
                  <a:pt x="22867" y="10385"/>
                  <a:pt x="22859" y="10408"/>
                  <a:pt x="22848" y="10428"/>
                </a:cubicBezTo>
                <a:cubicBezTo>
                  <a:pt x="22835" y="10452"/>
                  <a:pt x="22821" y="10477"/>
                  <a:pt x="22818" y="10505"/>
                </a:cubicBezTo>
                <a:cubicBezTo>
                  <a:pt x="22815" y="10533"/>
                  <a:pt x="22821" y="10562"/>
                  <a:pt x="22837" y="10586"/>
                </a:cubicBezTo>
                <a:cubicBezTo>
                  <a:pt x="22852" y="10607"/>
                  <a:pt x="22881" y="10636"/>
                  <a:pt x="22905" y="10646"/>
                </a:cubicBezTo>
                <a:cubicBezTo>
                  <a:pt x="22921" y="10652"/>
                  <a:pt x="22958" y="10664"/>
                  <a:pt x="22973" y="10648"/>
                </a:cubicBezTo>
                <a:cubicBezTo>
                  <a:pt x="22975" y="10644"/>
                  <a:pt x="22976" y="10639"/>
                  <a:pt x="22978" y="10635"/>
                </a:cubicBezTo>
              </a:path>
              <a:path w="2375" h="748">
                <a:moveTo>
                  <a:pt x="23223" y="10470"/>
                </a:moveTo>
                <a:cubicBezTo>
                  <a:pt x="23246" y="10482"/>
                  <a:pt x="23264" y="10470"/>
                  <a:pt x="23285" y="10452"/>
                </a:cubicBezTo>
                <a:cubicBezTo>
                  <a:pt x="23315" y="10426"/>
                  <a:pt x="23348" y="10396"/>
                  <a:pt x="23372" y="10364"/>
                </a:cubicBezTo>
                <a:cubicBezTo>
                  <a:pt x="23387" y="10343"/>
                  <a:pt x="23388" y="10335"/>
                  <a:pt x="23386" y="10312"/>
                </a:cubicBezTo>
                <a:cubicBezTo>
                  <a:pt x="23356" y="10310"/>
                  <a:pt x="23330" y="10333"/>
                  <a:pt x="23307" y="10353"/>
                </a:cubicBezTo>
                <a:cubicBezTo>
                  <a:pt x="23265" y="10390"/>
                  <a:pt x="23230" y="10436"/>
                  <a:pt x="23211" y="10489"/>
                </a:cubicBezTo>
                <a:cubicBezTo>
                  <a:pt x="23197" y="10527"/>
                  <a:pt x="23195" y="10574"/>
                  <a:pt x="23238" y="10594"/>
                </a:cubicBezTo>
                <a:cubicBezTo>
                  <a:pt x="23279" y="10614"/>
                  <a:pt x="23335" y="10611"/>
                  <a:pt x="23379" y="10604"/>
                </a:cubicBezTo>
                <a:cubicBezTo>
                  <a:pt x="23414" y="10596"/>
                  <a:pt x="23424" y="10594"/>
                  <a:pt x="23446" y="10586"/>
                </a:cubicBezTo>
              </a:path>
              <a:path w="2375" h="748">
                <a:moveTo>
                  <a:pt x="23620" y="10589"/>
                </a:moveTo>
                <a:cubicBezTo>
                  <a:pt x="23596" y="10577"/>
                  <a:pt x="23604" y="10570"/>
                  <a:pt x="23598" y="10547"/>
                </a:cubicBezTo>
                <a:cubicBezTo>
                  <a:pt x="23596" y="10542"/>
                  <a:pt x="23594" y="10538"/>
                  <a:pt x="23592" y="10533"/>
                </a:cubicBezTo>
              </a:path>
              <a:path w="2375" h="748">
                <a:moveTo>
                  <a:pt x="23771" y="10613"/>
                </a:moveTo>
                <a:cubicBezTo>
                  <a:pt x="23775" y="10602"/>
                  <a:pt x="23776" y="10599"/>
                  <a:pt x="23777" y="10591"/>
                </a:cubicBezTo>
                <a:cubicBezTo>
                  <a:pt x="23791" y="10588"/>
                  <a:pt x="23799" y="10582"/>
                  <a:pt x="23812" y="1057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8132760" y="4027320"/>
            <a:ext cx="395280" cy="49320"/>
          </a:xfrm>
          <a:custGeom>
            <a:avLst/>
            <a:gdLst/>
            <a:ahLst/>
            <a:rect l="l" t="t" r="r" b="b"/>
            <a:pathLst>
              <a:path w="1100" h="138">
                <a:moveTo>
                  <a:pt x="22638" y="11274"/>
                </a:moveTo>
                <a:cubicBezTo>
                  <a:pt x="22629" y="11262"/>
                  <a:pt x="22584" y="11215"/>
                  <a:pt x="22590" y="11197"/>
                </a:cubicBezTo>
                <a:cubicBezTo>
                  <a:pt x="22604" y="11187"/>
                  <a:pt x="22609" y="11184"/>
                  <a:pt x="22621" y="11186"/>
                </a:cubicBezTo>
              </a:path>
              <a:path w="1100" h="138">
                <a:moveTo>
                  <a:pt x="23689" y="11323"/>
                </a:moveTo>
                <a:cubicBezTo>
                  <a:pt x="23689" y="11309"/>
                  <a:pt x="23689" y="11305"/>
                  <a:pt x="23680" y="1129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1120680" y="3862440"/>
            <a:ext cx="712800" cy="352440"/>
          </a:xfrm>
          <a:custGeom>
            <a:avLst/>
            <a:gdLst/>
            <a:ahLst/>
            <a:rect l="l" t="t" r="r" b="b"/>
            <a:pathLst>
              <a:path w="1981" h="982">
                <a:moveTo>
                  <a:pt x="3523" y="11118"/>
                </a:moveTo>
                <a:cubicBezTo>
                  <a:pt x="3530" y="11092"/>
                  <a:pt x="3541" y="11054"/>
                  <a:pt x="3537" y="11027"/>
                </a:cubicBezTo>
                <a:cubicBezTo>
                  <a:pt x="3532" y="10996"/>
                  <a:pt x="3521" y="10955"/>
                  <a:pt x="3489" y="10941"/>
                </a:cubicBezTo>
                <a:cubicBezTo>
                  <a:pt x="3438" y="10919"/>
                  <a:pt x="3379" y="10953"/>
                  <a:pt x="3335" y="10977"/>
                </a:cubicBezTo>
                <a:cubicBezTo>
                  <a:pt x="3271" y="11013"/>
                  <a:pt x="3187" y="11065"/>
                  <a:pt x="3158" y="11137"/>
                </a:cubicBezTo>
                <a:cubicBezTo>
                  <a:pt x="3140" y="11182"/>
                  <a:pt x="3212" y="11191"/>
                  <a:pt x="3238" y="11198"/>
                </a:cubicBezTo>
                <a:cubicBezTo>
                  <a:pt x="3310" y="11218"/>
                  <a:pt x="3386" y="11238"/>
                  <a:pt x="3448" y="11281"/>
                </a:cubicBezTo>
                <a:cubicBezTo>
                  <a:pt x="3509" y="11324"/>
                  <a:pt x="3538" y="11381"/>
                  <a:pt x="3514" y="11454"/>
                </a:cubicBezTo>
                <a:cubicBezTo>
                  <a:pt x="3487" y="11537"/>
                  <a:pt x="3405" y="11599"/>
                  <a:pt x="3335" y="11644"/>
                </a:cubicBezTo>
                <a:cubicBezTo>
                  <a:pt x="3291" y="11672"/>
                  <a:pt x="3198" y="11730"/>
                  <a:pt x="3141" y="11706"/>
                </a:cubicBezTo>
                <a:cubicBezTo>
                  <a:pt x="3082" y="11681"/>
                  <a:pt x="3126" y="11593"/>
                  <a:pt x="3144" y="11558"/>
                </a:cubicBezTo>
                <a:cubicBezTo>
                  <a:pt x="3155" y="11540"/>
                  <a:pt x="3165" y="11522"/>
                  <a:pt x="3176" y="11504"/>
                </a:cubicBezTo>
              </a:path>
              <a:path w="1981" h="982">
                <a:moveTo>
                  <a:pt x="3807" y="10820"/>
                </a:moveTo>
                <a:cubicBezTo>
                  <a:pt x="3798" y="10782"/>
                  <a:pt x="3774" y="10883"/>
                  <a:pt x="3772" y="10890"/>
                </a:cubicBezTo>
                <a:cubicBezTo>
                  <a:pt x="3744" y="11008"/>
                  <a:pt x="3744" y="11126"/>
                  <a:pt x="3740" y="11246"/>
                </a:cubicBezTo>
                <a:cubicBezTo>
                  <a:pt x="3738" y="11310"/>
                  <a:pt x="3750" y="11377"/>
                  <a:pt x="3741" y="11440"/>
                </a:cubicBezTo>
              </a:path>
              <a:path w="1981" h="982">
                <a:moveTo>
                  <a:pt x="3645" y="11240"/>
                </a:moveTo>
                <a:cubicBezTo>
                  <a:pt x="3647" y="11193"/>
                  <a:pt x="3657" y="11169"/>
                  <a:pt x="3700" y="11143"/>
                </a:cubicBezTo>
                <a:cubicBezTo>
                  <a:pt x="3757" y="11108"/>
                  <a:pt x="3829" y="11094"/>
                  <a:pt x="3893" y="11079"/>
                </a:cubicBezTo>
                <a:cubicBezTo>
                  <a:pt x="3910" y="11076"/>
                  <a:pt x="3928" y="11072"/>
                  <a:pt x="3945" y="11069"/>
                </a:cubicBezTo>
              </a:path>
              <a:path w="1981" h="982">
                <a:moveTo>
                  <a:pt x="4038" y="11143"/>
                </a:moveTo>
                <a:cubicBezTo>
                  <a:pt x="4013" y="11201"/>
                  <a:pt x="3992" y="11258"/>
                  <a:pt x="3982" y="11319"/>
                </a:cubicBezTo>
                <a:cubicBezTo>
                  <a:pt x="3975" y="11361"/>
                  <a:pt x="3980" y="11384"/>
                  <a:pt x="3990" y="11423"/>
                </a:cubicBezTo>
                <a:cubicBezTo>
                  <a:pt x="4024" y="11413"/>
                  <a:pt x="4036" y="11405"/>
                  <a:pt x="4063" y="11372"/>
                </a:cubicBezTo>
                <a:cubicBezTo>
                  <a:pt x="4098" y="11329"/>
                  <a:pt x="4126" y="11275"/>
                  <a:pt x="4168" y="11239"/>
                </a:cubicBezTo>
                <a:cubicBezTo>
                  <a:pt x="4172" y="11238"/>
                  <a:pt x="4177" y="11237"/>
                  <a:pt x="4181" y="11236"/>
                </a:cubicBezTo>
                <a:cubicBezTo>
                  <a:pt x="4186" y="11267"/>
                  <a:pt x="4184" y="11295"/>
                  <a:pt x="4185" y="11327"/>
                </a:cubicBezTo>
                <a:cubicBezTo>
                  <a:pt x="4186" y="11362"/>
                  <a:pt x="4195" y="11380"/>
                  <a:pt x="4206" y="11405"/>
                </a:cubicBezTo>
                <a:cubicBezTo>
                  <a:pt x="4236" y="11384"/>
                  <a:pt x="4254" y="11368"/>
                  <a:pt x="4275" y="11331"/>
                </a:cubicBezTo>
                <a:cubicBezTo>
                  <a:pt x="4305" y="11278"/>
                  <a:pt x="4329" y="11221"/>
                  <a:pt x="4362" y="11172"/>
                </a:cubicBezTo>
                <a:cubicBezTo>
                  <a:pt x="4372" y="11183"/>
                  <a:pt x="4382" y="11195"/>
                  <a:pt x="4394" y="11211"/>
                </a:cubicBezTo>
                <a:cubicBezTo>
                  <a:pt x="4402" y="11225"/>
                  <a:pt x="4406" y="11230"/>
                  <a:pt x="4416" y="11235"/>
                </a:cubicBezTo>
                <a:cubicBezTo>
                  <a:pt x="4437" y="11220"/>
                  <a:pt x="4457" y="11203"/>
                  <a:pt x="4478" y="11185"/>
                </a:cubicBezTo>
                <a:cubicBezTo>
                  <a:pt x="4496" y="11170"/>
                  <a:pt x="4509" y="11158"/>
                  <a:pt x="4533" y="11160"/>
                </a:cubicBezTo>
                <a:cubicBezTo>
                  <a:pt x="4584" y="11164"/>
                  <a:pt x="4630" y="11193"/>
                  <a:pt x="4684" y="11196"/>
                </a:cubicBezTo>
                <a:cubicBezTo>
                  <a:pt x="4732" y="11198"/>
                  <a:pt x="4780" y="11192"/>
                  <a:pt x="4823" y="11172"/>
                </a:cubicBezTo>
                <a:cubicBezTo>
                  <a:pt x="4844" y="11163"/>
                  <a:pt x="4857" y="11150"/>
                  <a:pt x="4874" y="11136"/>
                </a:cubicBezTo>
                <a:cubicBezTo>
                  <a:pt x="4877" y="11133"/>
                  <a:pt x="4881" y="11130"/>
                  <a:pt x="4884" y="11127"/>
                </a:cubicBezTo>
                <a:cubicBezTo>
                  <a:pt x="4827" y="11187"/>
                  <a:pt x="4752" y="11259"/>
                  <a:pt x="4737" y="11344"/>
                </a:cubicBezTo>
                <a:cubicBezTo>
                  <a:pt x="4739" y="11350"/>
                  <a:pt x="4741" y="11357"/>
                  <a:pt x="4743" y="11363"/>
                </a:cubicBezTo>
                <a:cubicBezTo>
                  <a:pt x="4791" y="11362"/>
                  <a:pt x="4815" y="11359"/>
                  <a:pt x="4862" y="11329"/>
                </a:cubicBezTo>
                <a:cubicBezTo>
                  <a:pt x="4963" y="11263"/>
                  <a:pt x="5025" y="11165"/>
                  <a:pt x="5038" y="11045"/>
                </a:cubicBezTo>
                <a:cubicBezTo>
                  <a:pt x="5050" y="10938"/>
                  <a:pt x="5035" y="10832"/>
                  <a:pt x="5013" y="10728"/>
                </a:cubicBezTo>
                <a:cubicBezTo>
                  <a:pt x="4984" y="10790"/>
                  <a:pt x="4984" y="10857"/>
                  <a:pt x="4986" y="10926"/>
                </a:cubicBezTo>
                <a:cubicBezTo>
                  <a:pt x="4989" y="11042"/>
                  <a:pt x="5002" y="11166"/>
                  <a:pt x="5028" y="11280"/>
                </a:cubicBezTo>
                <a:cubicBezTo>
                  <a:pt x="5042" y="11341"/>
                  <a:pt x="5066" y="11394"/>
                  <a:pt x="5093" y="1145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2425680" y="3948120"/>
            <a:ext cx="174600" cy="262080"/>
          </a:xfrm>
          <a:custGeom>
            <a:avLst/>
            <a:gdLst/>
            <a:ahLst/>
            <a:rect l="l" t="t" r="r" b="b"/>
            <a:pathLst>
              <a:path w="484" h="726">
                <a:moveTo>
                  <a:pt x="6786" y="11008"/>
                </a:moveTo>
                <a:cubicBezTo>
                  <a:pt x="6773" y="10992"/>
                  <a:pt x="6764" y="10982"/>
                  <a:pt x="6749" y="10967"/>
                </a:cubicBezTo>
                <a:cubicBezTo>
                  <a:pt x="6741" y="10996"/>
                  <a:pt x="6737" y="11028"/>
                  <a:pt x="6741" y="11063"/>
                </a:cubicBezTo>
                <a:cubicBezTo>
                  <a:pt x="6754" y="11181"/>
                  <a:pt x="6778" y="11301"/>
                  <a:pt x="6804" y="11417"/>
                </a:cubicBezTo>
                <a:cubicBezTo>
                  <a:pt x="6814" y="11460"/>
                  <a:pt x="6825" y="11501"/>
                  <a:pt x="6842" y="11541"/>
                </a:cubicBezTo>
                <a:cubicBezTo>
                  <a:pt x="6874" y="11487"/>
                  <a:pt x="6881" y="11423"/>
                  <a:pt x="6897" y="11361"/>
                </a:cubicBezTo>
                <a:cubicBezTo>
                  <a:pt x="6926" y="11250"/>
                  <a:pt x="6952" y="11113"/>
                  <a:pt x="7015" y="11015"/>
                </a:cubicBezTo>
                <a:cubicBezTo>
                  <a:pt x="7023" y="11007"/>
                  <a:pt x="7030" y="10999"/>
                  <a:pt x="7038" y="10991"/>
                </a:cubicBezTo>
                <a:cubicBezTo>
                  <a:pt x="7071" y="11040"/>
                  <a:pt x="7082" y="11083"/>
                  <a:pt x="7090" y="11159"/>
                </a:cubicBezTo>
                <a:cubicBezTo>
                  <a:pt x="7103" y="11280"/>
                  <a:pt x="7108" y="11405"/>
                  <a:pt x="7130" y="11525"/>
                </a:cubicBezTo>
                <a:cubicBezTo>
                  <a:pt x="7134" y="11549"/>
                  <a:pt x="7151" y="11692"/>
                  <a:pt x="7200" y="11692"/>
                </a:cubicBezTo>
                <a:cubicBezTo>
                  <a:pt x="7208" y="11688"/>
                  <a:pt x="7215" y="11684"/>
                  <a:pt x="7223" y="1168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2868480" y="3936960"/>
            <a:ext cx="955800" cy="345960"/>
          </a:xfrm>
          <a:custGeom>
            <a:avLst/>
            <a:gdLst/>
            <a:ahLst/>
            <a:rect l="l" t="t" r="r" b="b"/>
            <a:pathLst>
              <a:path w="2653" h="958">
                <a:moveTo>
                  <a:pt x="8005" y="11052"/>
                </a:moveTo>
                <a:cubicBezTo>
                  <a:pt x="7966" y="11077"/>
                  <a:pt x="7970" y="11084"/>
                  <a:pt x="7969" y="11153"/>
                </a:cubicBezTo>
                <a:cubicBezTo>
                  <a:pt x="7967" y="11273"/>
                  <a:pt x="7993" y="11392"/>
                  <a:pt x="8016" y="11510"/>
                </a:cubicBezTo>
                <a:cubicBezTo>
                  <a:pt x="8038" y="11623"/>
                  <a:pt x="8065" y="11736"/>
                  <a:pt x="8089" y="11849"/>
                </a:cubicBezTo>
                <a:cubicBezTo>
                  <a:pt x="8092" y="11861"/>
                  <a:pt x="8094" y="11873"/>
                  <a:pt x="8097" y="11885"/>
                </a:cubicBezTo>
                <a:cubicBezTo>
                  <a:pt x="8082" y="11843"/>
                  <a:pt x="8079" y="11818"/>
                  <a:pt x="8073" y="11774"/>
                </a:cubicBezTo>
                <a:cubicBezTo>
                  <a:pt x="8041" y="11547"/>
                  <a:pt x="8038" y="11285"/>
                  <a:pt x="8112" y="11065"/>
                </a:cubicBezTo>
                <a:cubicBezTo>
                  <a:pt x="8137" y="11012"/>
                  <a:pt x="8141" y="10997"/>
                  <a:pt x="8170" y="10974"/>
                </a:cubicBezTo>
                <a:cubicBezTo>
                  <a:pt x="8243" y="10997"/>
                  <a:pt x="8255" y="11060"/>
                  <a:pt x="8271" y="11136"/>
                </a:cubicBezTo>
                <a:cubicBezTo>
                  <a:pt x="8297" y="11263"/>
                  <a:pt x="8302" y="11411"/>
                  <a:pt x="8237" y="11527"/>
                </a:cubicBezTo>
                <a:cubicBezTo>
                  <a:pt x="8210" y="11564"/>
                  <a:pt x="8204" y="11575"/>
                  <a:pt x="8176" y="11587"/>
                </a:cubicBezTo>
                <a:cubicBezTo>
                  <a:pt x="8115" y="11568"/>
                  <a:pt x="8128" y="11516"/>
                  <a:pt x="8144" y="11456"/>
                </a:cubicBezTo>
                <a:cubicBezTo>
                  <a:pt x="8171" y="11378"/>
                  <a:pt x="8182" y="11350"/>
                  <a:pt x="8215" y="11303"/>
                </a:cubicBezTo>
              </a:path>
              <a:path w="2653" h="958">
                <a:moveTo>
                  <a:pt x="8597" y="11062"/>
                </a:moveTo>
                <a:cubicBezTo>
                  <a:pt x="8610" y="11144"/>
                  <a:pt x="8603" y="11215"/>
                  <a:pt x="8601" y="11297"/>
                </a:cubicBezTo>
                <a:cubicBezTo>
                  <a:pt x="8599" y="11362"/>
                  <a:pt x="8589" y="11446"/>
                  <a:pt x="8610" y="11508"/>
                </a:cubicBezTo>
                <a:cubicBezTo>
                  <a:pt x="8622" y="11542"/>
                  <a:pt x="8636" y="11503"/>
                  <a:pt x="8642" y="11492"/>
                </a:cubicBezTo>
              </a:path>
              <a:path w="2653" h="958">
                <a:moveTo>
                  <a:pt x="9069" y="10988"/>
                </a:moveTo>
                <a:cubicBezTo>
                  <a:pt x="9037" y="11006"/>
                  <a:pt x="9005" y="11025"/>
                  <a:pt x="8973" y="11043"/>
                </a:cubicBezTo>
                <a:cubicBezTo>
                  <a:pt x="8917" y="11075"/>
                  <a:pt x="8875" y="11109"/>
                  <a:pt x="8851" y="11172"/>
                </a:cubicBezTo>
                <a:cubicBezTo>
                  <a:pt x="8835" y="11213"/>
                  <a:pt x="8837" y="11271"/>
                  <a:pt x="8888" y="11283"/>
                </a:cubicBezTo>
                <a:cubicBezTo>
                  <a:pt x="8959" y="11300"/>
                  <a:pt x="9032" y="11247"/>
                  <a:pt x="9085" y="11208"/>
                </a:cubicBezTo>
                <a:cubicBezTo>
                  <a:pt x="9114" y="11187"/>
                  <a:pt x="9128" y="11175"/>
                  <a:pt x="9162" y="11167"/>
                </a:cubicBezTo>
                <a:cubicBezTo>
                  <a:pt x="9195" y="11215"/>
                  <a:pt x="9191" y="11271"/>
                  <a:pt x="9187" y="11330"/>
                </a:cubicBezTo>
                <a:cubicBezTo>
                  <a:pt x="9180" y="11442"/>
                  <a:pt x="9151" y="11557"/>
                  <a:pt x="9105" y="11660"/>
                </a:cubicBezTo>
                <a:cubicBezTo>
                  <a:pt x="9077" y="11724"/>
                  <a:pt x="9030" y="11817"/>
                  <a:pt x="8950" y="11824"/>
                </a:cubicBezTo>
                <a:cubicBezTo>
                  <a:pt x="8874" y="11831"/>
                  <a:pt x="8881" y="11710"/>
                  <a:pt x="8884" y="11666"/>
                </a:cubicBezTo>
                <a:cubicBezTo>
                  <a:pt x="8888" y="11639"/>
                  <a:pt x="8891" y="11611"/>
                  <a:pt x="8895" y="11584"/>
                </a:cubicBezTo>
              </a:path>
              <a:path w="2653" h="958">
                <a:moveTo>
                  <a:pt x="9417" y="11149"/>
                </a:moveTo>
                <a:cubicBezTo>
                  <a:pt x="9463" y="11142"/>
                  <a:pt x="9460" y="11132"/>
                  <a:pt x="9489" y="11101"/>
                </a:cubicBezTo>
                <a:cubicBezTo>
                  <a:pt x="9521" y="11066"/>
                  <a:pt x="9542" y="11031"/>
                  <a:pt x="9562" y="10986"/>
                </a:cubicBezTo>
                <a:cubicBezTo>
                  <a:pt x="9573" y="10961"/>
                  <a:pt x="9576" y="10955"/>
                  <a:pt x="9576" y="10938"/>
                </a:cubicBezTo>
                <a:cubicBezTo>
                  <a:pt x="9521" y="10951"/>
                  <a:pt x="9491" y="10999"/>
                  <a:pt x="9457" y="11046"/>
                </a:cubicBezTo>
                <a:cubicBezTo>
                  <a:pt x="9404" y="11118"/>
                  <a:pt x="9334" y="11223"/>
                  <a:pt x="9354" y="11318"/>
                </a:cubicBezTo>
                <a:cubicBezTo>
                  <a:pt x="9369" y="11386"/>
                  <a:pt x="9459" y="11375"/>
                  <a:pt x="9506" y="11362"/>
                </a:cubicBezTo>
                <a:cubicBezTo>
                  <a:pt x="9568" y="11339"/>
                  <a:pt x="9590" y="11331"/>
                  <a:pt x="9628" y="11306"/>
                </a:cubicBezTo>
              </a:path>
              <a:path w="2653" h="958">
                <a:moveTo>
                  <a:pt x="9915" y="11004"/>
                </a:moveTo>
                <a:cubicBezTo>
                  <a:pt x="9878" y="11036"/>
                  <a:pt x="9851" y="11071"/>
                  <a:pt x="9820" y="11109"/>
                </a:cubicBezTo>
                <a:cubicBezTo>
                  <a:pt x="9781" y="11158"/>
                  <a:pt x="9741" y="11207"/>
                  <a:pt x="9718" y="11266"/>
                </a:cubicBezTo>
                <a:cubicBezTo>
                  <a:pt x="9704" y="11301"/>
                  <a:pt x="9709" y="11310"/>
                  <a:pt x="9725" y="11339"/>
                </a:cubicBezTo>
                <a:cubicBezTo>
                  <a:pt x="9767" y="11355"/>
                  <a:pt x="9799" y="11348"/>
                  <a:pt x="9840" y="11323"/>
                </a:cubicBezTo>
                <a:cubicBezTo>
                  <a:pt x="9897" y="11288"/>
                  <a:pt x="9935" y="11231"/>
                  <a:pt x="9970" y="11175"/>
                </a:cubicBezTo>
                <a:cubicBezTo>
                  <a:pt x="9995" y="11135"/>
                  <a:pt x="10025" y="11042"/>
                  <a:pt x="10070" y="11020"/>
                </a:cubicBezTo>
                <a:cubicBezTo>
                  <a:pt x="10074" y="11020"/>
                  <a:pt x="10078" y="11020"/>
                  <a:pt x="10082" y="11020"/>
                </a:cubicBezTo>
                <a:cubicBezTo>
                  <a:pt x="10099" y="11061"/>
                  <a:pt x="10095" y="11104"/>
                  <a:pt x="10089" y="11149"/>
                </a:cubicBezTo>
                <a:cubicBezTo>
                  <a:pt x="10081" y="11208"/>
                  <a:pt x="10069" y="11267"/>
                  <a:pt x="10052" y="11325"/>
                </a:cubicBezTo>
                <a:cubicBezTo>
                  <a:pt x="10046" y="11346"/>
                  <a:pt x="10045" y="11350"/>
                  <a:pt x="10040" y="11362"/>
                </a:cubicBezTo>
                <a:cubicBezTo>
                  <a:pt x="10061" y="11319"/>
                  <a:pt x="10081" y="11276"/>
                  <a:pt x="10102" y="11234"/>
                </a:cubicBezTo>
                <a:cubicBezTo>
                  <a:pt x="10133" y="11173"/>
                  <a:pt x="10163" y="11108"/>
                  <a:pt x="10221" y="11070"/>
                </a:cubicBezTo>
                <a:cubicBezTo>
                  <a:pt x="10257" y="11091"/>
                  <a:pt x="10262" y="11128"/>
                  <a:pt x="10268" y="11171"/>
                </a:cubicBezTo>
                <a:cubicBezTo>
                  <a:pt x="10274" y="11209"/>
                  <a:pt x="10268" y="11272"/>
                  <a:pt x="10300" y="11302"/>
                </a:cubicBezTo>
                <a:cubicBezTo>
                  <a:pt x="10306" y="11304"/>
                  <a:pt x="10311" y="11306"/>
                  <a:pt x="10317" y="11308"/>
                </a:cubicBezTo>
              </a:path>
              <a:path w="2653" h="958">
                <a:moveTo>
                  <a:pt x="10556" y="11036"/>
                </a:moveTo>
                <a:cubicBezTo>
                  <a:pt x="10557" y="11014"/>
                  <a:pt x="10556" y="11021"/>
                  <a:pt x="10536" y="11005"/>
                </a:cubicBezTo>
                <a:cubicBezTo>
                  <a:pt x="10519" y="11028"/>
                  <a:pt x="10498" y="11048"/>
                  <a:pt x="10483" y="11073"/>
                </a:cubicBezTo>
                <a:cubicBezTo>
                  <a:pt x="10467" y="11100"/>
                  <a:pt x="10445" y="11138"/>
                  <a:pt x="10447" y="11171"/>
                </a:cubicBezTo>
                <a:cubicBezTo>
                  <a:pt x="10449" y="11199"/>
                  <a:pt x="10479" y="11197"/>
                  <a:pt x="10499" y="11198"/>
                </a:cubicBezTo>
                <a:cubicBezTo>
                  <a:pt x="10541" y="11199"/>
                  <a:pt x="10575" y="11204"/>
                  <a:pt x="10599" y="11242"/>
                </a:cubicBezTo>
                <a:cubicBezTo>
                  <a:pt x="10621" y="11276"/>
                  <a:pt x="10625" y="11318"/>
                  <a:pt x="10614" y="11357"/>
                </a:cubicBezTo>
                <a:cubicBezTo>
                  <a:pt x="10604" y="11392"/>
                  <a:pt x="10563" y="11437"/>
                  <a:pt x="10521" y="11422"/>
                </a:cubicBezTo>
                <a:cubicBezTo>
                  <a:pt x="10481" y="11408"/>
                  <a:pt x="10465" y="11369"/>
                  <a:pt x="10457" y="11331"/>
                </a:cubicBezTo>
                <a:cubicBezTo>
                  <a:pt x="10455" y="11319"/>
                  <a:pt x="10454" y="11307"/>
                  <a:pt x="10452" y="1129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4335480" y="3835440"/>
            <a:ext cx="520560" cy="309600"/>
          </a:xfrm>
          <a:custGeom>
            <a:avLst/>
            <a:gdLst/>
            <a:ahLst/>
            <a:rect l="l" t="t" r="r" b="b"/>
            <a:pathLst>
              <a:path w="1447" h="859">
                <a:moveTo>
                  <a:pt x="12227" y="11105"/>
                </a:moveTo>
                <a:cubicBezTo>
                  <a:pt x="12167" y="11135"/>
                  <a:pt x="12137" y="11165"/>
                  <a:pt x="12102" y="11222"/>
                </a:cubicBezTo>
                <a:cubicBezTo>
                  <a:pt x="12061" y="11288"/>
                  <a:pt x="12037" y="11366"/>
                  <a:pt x="12045" y="11445"/>
                </a:cubicBezTo>
                <a:cubicBezTo>
                  <a:pt x="12051" y="11502"/>
                  <a:pt x="12091" y="11524"/>
                  <a:pt x="12143" y="11502"/>
                </a:cubicBezTo>
                <a:cubicBezTo>
                  <a:pt x="12235" y="11463"/>
                  <a:pt x="12285" y="11353"/>
                  <a:pt x="12331" y="11272"/>
                </a:cubicBezTo>
                <a:cubicBezTo>
                  <a:pt x="12344" y="11249"/>
                  <a:pt x="12347" y="11244"/>
                  <a:pt x="12358" y="11232"/>
                </a:cubicBezTo>
                <a:cubicBezTo>
                  <a:pt x="12369" y="11275"/>
                  <a:pt x="12378" y="11320"/>
                  <a:pt x="12383" y="11367"/>
                </a:cubicBezTo>
                <a:cubicBezTo>
                  <a:pt x="12388" y="11407"/>
                  <a:pt x="12391" y="11477"/>
                  <a:pt x="12426" y="11505"/>
                </a:cubicBezTo>
                <a:cubicBezTo>
                  <a:pt x="12431" y="11506"/>
                  <a:pt x="12437" y="11508"/>
                  <a:pt x="12442" y="11509"/>
                </a:cubicBezTo>
                <a:cubicBezTo>
                  <a:pt x="12473" y="11478"/>
                  <a:pt x="12489" y="11462"/>
                  <a:pt x="12502" y="11413"/>
                </a:cubicBezTo>
                <a:cubicBezTo>
                  <a:pt x="12515" y="11364"/>
                  <a:pt x="12522" y="11311"/>
                  <a:pt x="12522" y="11260"/>
                </a:cubicBezTo>
                <a:cubicBezTo>
                  <a:pt x="12520" y="11238"/>
                  <a:pt x="12519" y="11235"/>
                  <a:pt x="12521" y="11222"/>
                </a:cubicBezTo>
                <a:cubicBezTo>
                  <a:pt x="12512" y="11264"/>
                  <a:pt x="12507" y="11302"/>
                  <a:pt x="12505" y="11345"/>
                </a:cubicBezTo>
                <a:cubicBezTo>
                  <a:pt x="12503" y="11395"/>
                  <a:pt x="12503" y="11444"/>
                  <a:pt x="12510" y="11494"/>
                </a:cubicBezTo>
                <a:cubicBezTo>
                  <a:pt x="12539" y="11465"/>
                  <a:pt x="12555" y="11434"/>
                  <a:pt x="12575" y="11386"/>
                </a:cubicBezTo>
                <a:cubicBezTo>
                  <a:pt x="12609" y="11304"/>
                  <a:pt x="12647" y="11183"/>
                  <a:pt x="12732" y="11138"/>
                </a:cubicBezTo>
                <a:cubicBezTo>
                  <a:pt x="12776" y="11115"/>
                  <a:pt x="12810" y="11146"/>
                  <a:pt x="12835" y="11179"/>
                </a:cubicBezTo>
                <a:cubicBezTo>
                  <a:pt x="12863" y="11216"/>
                  <a:pt x="12878" y="11267"/>
                  <a:pt x="12909" y="11302"/>
                </a:cubicBezTo>
                <a:cubicBezTo>
                  <a:pt x="12935" y="11331"/>
                  <a:pt x="12959" y="11326"/>
                  <a:pt x="12994" y="11327"/>
                </a:cubicBezTo>
              </a:path>
              <a:path w="1447" h="859">
                <a:moveTo>
                  <a:pt x="13362" y="11109"/>
                </a:moveTo>
                <a:cubicBezTo>
                  <a:pt x="13314" y="11099"/>
                  <a:pt x="13254" y="11118"/>
                  <a:pt x="13211" y="11145"/>
                </a:cubicBezTo>
                <a:cubicBezTo>
                  <a:pt x="13135" y="11193"/>
                  <a:pt x="13060" y="11263"/>
                  <a:pt x="13009" y="11337"/>
                </a:cubicBezTo>
                <a:cubicBezTo>
                  <a:pt x="12982" y="11375"/>
                  <a:pt x="12974" y="11395"/>
                  <a:pt x="12978" y="11436"/>
                </a:cubicBezTo>
                <a:cubicBezTo>
                  <a:pt x="13043" y="11427"/>
                  <a:pt x="13095" y="11393"/>
                  <a:pt x="13146" y="11351"/>
                </a:cubicBezTo>
                <a:cubicBezTo>
                  <a:pt x="13231" y="11280"/>
                  <a:pt x="13297" y="11191"/>
                  <a:pt x="13347" y="11092"/>
                </a:cubicBezTo>
                <a:cubicBezTo>
                  <a:pt x="13412" y="10963"/>
                  <a:pt x="13469" y="10801"/>
                  <a:pt x="13437" y="10656"/>
                </a:cubicBezTo>
                <a:cubicBezTo>
                  <a:pt x="13403" y="10689"/>
                  <a:pt x="13384" y="10725"/>
                  <a:pt x="13369" y="10786"/>
                </a:cubicBezTo>
                <a:cubicBezTo>
                  <a:pt x="13340" y="10902"/>
                  <a:pt x="13337" y="11016"/>
                  <a:pt x="13355" y="11134"/>
                </a:cubicBezTo>
                <a:cubicBezTo>
                  <a:pt x="13367" y="11211"/>
                  <a:pt x="13389" y="11315"/>
                  <a:pt x="13454" y="11366"/>
                </a:cubicBezTo>
                <a:cubicBezTo>
                  <a:pt x="13466" y="11372"/>
                  <a:pt x="13478" y="11377"/>
                  <a:pt x="13490" y="1138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5056200" y="3840120"/>
            <a:ext cx="407880" cy="257040"/>
          </a:xfrm>
          <a:custGeom>
            <a:avLst/>
            <a:gdLst/>
            <a:ahLst/>
            <a:rect l="l" t="t" r="r" b="b"/>
            <a:pathLst>
              <a:path w="1133" h="715">
                <a:moveTo>
                  <a:pt x="14069" y="11172"/>
                </a:moveTo>
                <a:cubicBezTo>
                  <a:pt x="14072" y="11151"/>
                  <a:pt x="14075" y="11131"/>
                  <a:pt x="14078" y="11110"/>
                </a:cubicBezTo>
                <a:cubicBezTo>
                  <a:pt x="14062" y="11149"/>
                  <a:pt x="14053" y="11185"/>
                  <a:pt x="14049" y="11228"/>
                </a:cubicBezTo>
                <a:cubicBezTo>
                  <a:pt x="14045" y="11276"/>
                  <a:pt x="14044" y="11323"/>
                  <a:pt x="14055" y="11370"/>
                </a:cubicBezTo>
                <a:cubicBezTo>
                  <a:pt x="14090" y="11383"/>
                  <a:pt x="14110" y="11347"/>
                  <a:pt x="14132" y="11316"/>
                </a:cubicBezTo>
                <a:cubicBezTo>
                  <a:pt x="14185" y="11238"/>
                  <a:pt x="14218" y="11148"/>
                  <a:pt x="14272" y="11071"/>
                </a:cubicBezTo>
                <a:cubicBezTo>
                  <a:pt x="14292" y="11048"/>
                  <a:pt x="14297" y="11041"/>
                  <a:pt x="14316" y="11035"/>
                </a:cubicBezTo>
                <a:cubicBezTo>
                  <a:pt x="14359" y="11067"/>
                  <a:pt x="14366" y="11115"/>
                  <a:pt x="14383" y="11166"/>
                </a:cubicBezTo>
                <a:cubicBezTo>
                  <a:pt x="14401" y="11220"/>
                  <a:pt x="14414" y="11306"/>
                  <a:pt x="14465" y="11342"/>
                </a:cubicBezTo>
                <a:cubicBezTo>
                  <a:pt x="14494" y="11351"/>
                  <a:pt x="14504" y="11354"/>
                  <a:pt x="14523" y="11342"/>
                </a:cubicBezTo>
              </a:path>
              <a:path w="1133" h="715">
                <a:moveTo>
                  <a:pt x="15094" y="10666"/>
                </a:moveTo>
                <a:cubicBezTo>
                  <a:pt x="15091" y="10718"/>
                  <a:pt x="15092" y="10774"/>
                  <a:pt x="15099" y="10826"/>
                </a:cubicBezTo>
                <a:cubicBezTo>
                  <a:pt x="15113" y="10937"/>
                  <a:pt x="15132" y="11047"/>
                  <a:pt x="15153" y="11156"/>
                </a:cubicBezTo>
                <a:cubicBezTo>
                  <a:pt x="15163" y="11209"/>
                  <a:pt x="15170" y="11261"/>
                  <a:pt x="15178" y="11314"/>
                </a:cubicBezTo>
              </a:path>
              <a:path w="1133" h="715">
                <a:moveTo>
                  <a:pt x="14597" y="11081"/>
                </a:moveTo>
                <a:cubicBezTo>
                  <a:pt x="14582" y="11085"/>
                  <a:pt x="14552" y="11094"/>
                  <a:pt x="14541" y="11103"/>
                </a:cubicBezTo>
                <a:cubicBezTo>
                  <a:pt x="14531" y="11111"/>
                  <a:pt x="14524" y="11118"/>
                  <a:pt x="14513" y="11127"/>
                </a:cubicBezTo>
                <a:cubicBezTo>
                  <a:pt x="14539" y="11135"/>
                  <a:pt x="14562" y="11133"/>
                  <a:pt x="14590" y="11132"/>
                </a:cubicBezTo>
                <a:cubicBezTo>
                  <a:pt x="14628" y="11131"/>
                  <a:pt x="14667" y="11129"/>
                  <a:pt x="14705" y="11127"/>
                </a:cubicBezTo>
                <a:cubicBezTo>
                  <a:pt x="14707" y="11127"/>
                  <a:pt x="14762" y="11123"/>
                  <a:pt x="14762" y="11128"/>
                </a:cubicBezTo>
                <a:cubicBezTo>
                  <a:pt x="14759" y="11132"/>
                  <a:pt x="14757" y="11136"/>
                  <a:pt x="14754" y="1114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5670720" y="3789360"/>
            <a:ext cx="625320" cy="295200"/>
          </a:xfrm>
          <a:custGeom>
            <a:avLst/>
            <a:gdLst/>
            <a:ahLst/>
            <a:rect l="l" t="t" r="r" b="b"/>
            <a:pathLst>
              <a:path w="1734" h="819">
                <a:moveTo>
                  <a:pt x="15753" y="10584"/>
                </a:moveTo>
                <a:cubicBezTo>
                  <a:pt x="15782" y="10608"/>
                  <a:pt x="15797" y="10633"/>
                  <a:pt x="15805" y="10671"/>
                </a:cubicBezTo>
                <a:cubicBezTo>
                  <a:pt x="15820" y="10745"/>
                  <a:pt x="15817" y="10823"/>
                  <a:pt x="15818" y="10898"/>
                </a:cubicBezTo>
                <a:cubicBezTo>
                  <a:pt x="15820" y="10990"/>
                  <a:pt x="15818" y="11083"/>
                  <a:pt x="15824" y="11175"/>
                </a:cubicBezTo>
                <a:cubicBezTo>
                  <a:pt x="15826" y="11210"/>
                  <a:pt x="15829" y="11242"/>
                  <a:pt x="15838" y="11275"/>
                </a:cubicBezTo>
                <a:cubicBezTo>
                  <a:pt x="15851" y="11234"/>
                  <a:pt x="15857" y="11193"/>
                  <a:pt x="15865" y="11148"/>
                </a:cubicBezTo>
                <a:cubicBezTo>
                  <a:pt x="15875" y="11093"/>
                  <a:pt x="15885" y="11026"/>
                  <a:pt x="15918" y="10979"/>
                </a:cubicBezTo>
                <a:cubicBezTo>
                  <a:pt x="15923" y="10974"/>
                  <a:pt x="15929" y="10969"/>
                  <a:pt x="15934" y="10964"/>
                </a:cubicBezTo>
                <a:cubicBezTo>
                  <a:pt x="15963" y="11000"/>
                  <a:pt x="15971" y="11024"/>
                  <a:pt x="15980" y="11078"/>
                </a:cubicBezTo>
                <a:cubicBezTo>
                  <a:pt x="15992" y="11148"/>
                  <a:pt x="16000" y="11217"/>
                  <a:pt x="16026" y="11283"/>
                </a:cubicBezTo>
                <a:cubicBezTo>
                  <a:pt x="16038" y="11314"/>
                  <a:pt x="16050" y="11322"/>
                  <a:pt x="16068" y="11344"/>
                </a:cubicBezTo>
              </a:path>
              <a:path w="1734" h="819">
                <a:moveTo>
                  <a:pt x="16502" y="11024"/>
                </a:moveTo>
                <a:cubicBezTo>
                  <a:pt x="16471" y="11008"/>
                  <a:pt x="16438" y="11002"/>
                  <a:pt x="16407" y="11029"/>
                </a:cubicBezTo>
                <a:cubicBezTo>
                  <a:pt x="16380" y="11052"/>
                  <a:pt x="16359" y="11093"/>
                  <a:pt x="16346" y="11125"/>
                </a:cubicBezTo>
                <a:cubicBezTo>
                  <a:pt x="16341" y="11140"/>
                  <a:pt x="16339" y="11144"/>
                  <a:pt x="16339" y="11154"/>
                </a:cubicBezTo>
                <a:cubicBezTo>
                  <a:pt x="16364" y="11156"/>
                  <a:pt x="16374" y="11141"/>
                  <a:pt x="16394" y="11124"/>
                </a:cubicBezTo>
                <a:cubicBezTo>
                  <a:pt x="16425" y="11099"/>
                  <a:pt x="16457" y="11071"/>
                  <a:pt x="16490" y="11049"/>
                </a:cubicBezTo>
                <a:cubicBezTo>
                  <a:pt x="16520" y="11029"/>
                  <a:pt x="16557" y="11003"/>
                  <a:pt x="16577" y="10973"/>
                </a:cubicBezTo>
                <a:cubicBezTo>
                  <a:pt x="16592" y="10951"/>
                  <a:pt x="16590" y="10931"/>
                  <a:pt x="16591" y="10906"/>
                </a:cubicBezTo>
              </a:path>
              <a:path w="1734" h="819">
                <a:moveTo>
                  <a:pt x="16599" y="10588"/>
                </a:moveTo>
                <a:cubicBezTo>
                  <a:pt x="16602" y="10566"/>
                  <a:pt x="16604" y="10548"/>
                  <a:pt x="16603" y="10526"/>
                </a:cubicBezTo>
                <a:cubicBezTo>
                  <a:pt x="16597" y="10563"/>
                  <a:pt x="16597" y="10594"/>
                  <a:pt x="16601" y="10632"/>
                </a:cubicBezTo>
                <a:cubicBezTo>
                  <a:pt x="16611" y="10737"/>
                  <a:pt x="16629" y="10843"/>
                  <a:pt x="16647" y="10947"/>
                </a:cubicBezTo>
                <a:cubicBezTo>
                  <a:pt x="16657" y="11007"/>
                  <a:pt x="16668" y="11068"/>
                  <a:pt x="16671" y="11129"/>
                </a:cubicBezTo>
                <a:cubicBezTo>
                  <a:pt x="16670" y="11146"/>
                  <a:pt x="16669" y="11149"/>
                  <a:pt x="16672" y="11159"/>
                </a:cubicBezTo>
              </a:path>
              <a:path w="1734" h="819">
                <a:moveTo>
                  <a:pt x="16870" y="10945"/>
                </a:moveTo>
                <a:cubicBezTo>
                  <a:pt x="16880" y="10966"/>
                  <a:pt x="16888" y="10993"/>
                  <a:pt x="16907" y="11008"/>
                </a:cubicBezTo>
                <a:cubicBezTo>
                  <a:pt x="16938" y="11032"/>
                  <a:pt x="16977" y="11027"/>
                  <a:pt x="17011" y="11013"/>
                </a:cubicBezTo>
                <a:cubicBezTo>
                  <a:pt x="17051" y="10996"/>
                  <a:pt x="17085" y="10964"/>
                  <a:pt x="17099" y="10922"/>
                </a:cubicBezTo>
                <a:cubicBezTo>
                  <a:pt x="17111" y="10887"/>
                  <a:pt x="17098" y="10849"/>
                  <a:pt x="17059" y="10842"/>
                </a:cubicBezTo>
                <a:cubicBezTo>
                  <a:pt x="17009" y="10833"/>
                  <a:pt x="16958" y="10870"/>
                  <a:pt x="16926" y="10904"/>
                </a:cubicBezTo>
                <a:cubicBezTo>
                  <a:pt x="16890" y="10942"/>
                  <a:pt x="16862" y="11003"/>
                  <a:pt x="16890" y="11052"/>
                </a:cubicBezTo>
                <a:cubicBezTo>
                  <a:pt x="16922" y="11108"/>
                  <a:pt x="17010" y="11086"/>
                  <a:pt x="17059" y="11081"/>
                </a:cubicBezTo>
              </a:path>
              <a:path w="1734" h="819">
                <a:moveTo>
                  <a:pt x="17486" y="10918"/>
                </a:moveTo>
                <a:cubicBezTo>
                  <a:pt x="17445" y="10912"/>
                  <a:pt x="17396" y="10910"/>
                  <a:pt x="17355" y="10917"/>
                </a:cubicBezTo>
                <a:cubicBezTo>
                  <a:pt x="17323" y="10923"/>
                  <a:pt x="17290" y="10931"/>
                  <a:pt x="17258" y="10940"/>
                </a:cubicBezTo>
                <a:cubicBezTo>
                  <a:pt x="17302" y="10942"/>
                  <a:pt x="17343" y="10943"/>
                  <a:pt x="17385" y="10960"/>
                </a:cubicBezTo>
                <a:cubicBezTo>
                  <a:pt x="17432" y="10979"/>
                  <a:pt x="17472" y="11013"/>
                  <a:pt x="17475" y="11067"/>
                </a:cubicBezTo>
                <a:cubicBezTo>
                  <a:pt x="17478" y="11122"/>
                  <a:pt x="17447" y="11174"/>
                  <a:pt x="17409" y="11211"/>
                </a:cubicBezTo>
                <a:cubicBezTo>
                  <a:pt x="17387" y="11233"/>
                  <a:pt x="17343" y="11260"/>
                  <a:pt x="17310" y="11251"/>
                </a:cubicBezTo>
                <a:cubicBezTo>
                  <a:pt x="17288" y="11245"/>
                  <a:pt x="17285" y="11226"/>
                  <a:pt x="17277" y="1120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6578640" y="3943440"/>
            <a:ext cx="1015920" cy="255600"/>
          </a:xfrm>
          <a:custGeom>
            <a:avLst/>
            <a:gdLst/>
            <a:ahLst/>
            <a:rect l="l" t="t" r="r" b="b"/>
            <a:pathLst>
              <a:path w="2821" h="710">
                <a:moveTo>
                  <a:pt x="18443" y="11280"/>
                </a:moveTo>
                <a:cubicBezTo>
                  <a:pt x="18437" y="11262"/>
                  <a:pt x="18434" y="11233"/>
                  <a:pt x="18409" y="11228"/>
                </a:cubicBezTo>
                <a:cubicBezTo>
                  <a:pt x="18387" y="11223"/>
                  <a:pt x="18363" y="11238"/>
                  <a:pt x="18347" y="11252"/>
                </a:cubicBezTo>
                <a:cubicBezTo>
                  <a:pt x="18308" y="11287"/>
                  <a:pt x="18283" y="11345"/>
                  <a:pt x="18277" y="11396"/>
                </a:cubicBezTo>
                <a:cubicBezTo>
                  <a:pt x="18272" y="11442"/>
                  <a:pt x="18278" y="11471"/>
                  <a:pt x="18305" y="11507"/>
                </a:cubicBezTo>
                <a:cubicBezTo>
                  <a:pt x="18346" y="11508"/>
                  <a:pt x="18367" y="11490"/>
                  <a:pt x="18388" y="11452"/>
                </a:cubicBezTo>
                <a:cubicBezTo>
                  <a:pt x="18423" y="11389"/>
                  <a:pt x="18440" y="11314"/>
                  <a:pt x="18451" y="11244"/>
                </a:cubicBezTo>
                <a:cubicBezTo>
                  <a:pt x="18466" y="11148"/>
                  <a:pt x="18470" y="11049"/>
                  <a:pt x="18457" y="10953"/>
                </a:cubicBezTo>
                <a:cubicBezTo>
                  <a:pt x="18448" y="11013"/>
                  <a:pt x="18450" y="11070"/>
                  <a:pt x="18455" y="11130"/>
                </a:cubicBezTo>
                <a:cubicBezTo>
                  <a:pt x="18463" y="11216"/>
                  <a:pt x="18473" y="11307"/>
                  <a:pt x="18502" y="11388"/>
                </a:cubicBezTo>
                <a:cubicBezTo>
                  <a:pt x="18515" y="11424"/>
                  <a:pt x="18546" y="11502"/>
                  <a:pt x="18594" y="11508"/>
                </a:cubicBezTo>
                <a:cubicBezTo>
                  <a:pt x="18601" y="11506"/>
                  <a:pt x="18608" y="11505"/>
                  <a:pt x="18615" y="11503"/>
                </a:cubicBezTo>
              </a:path>
              <a:path w="2821" h="710">
                <a:moveTo>
                  <a:pt x="18700" y="11361"/>
                </a:moveTo>
                <a:cubicBezTo>
                  <a:pt x="18687" y="11391"/>
                  <a:pt x="18686" y="11403"/>
                  <a:pt x="18684" y="11435"/>
                </a:cubicBezTo>
                <a:cubicBezTo>
                  <a:pt x="18681" y="11470"/>
                  <a:pt x="18684" y="11510"/>
                  <a:pt x="18693" y="11545"/>
                </a:cubicBezTo>
                <a:cubicBezTo>
                  <a:pt x="18700" y="11574"/>
                  <a:pt x="18705" y="11597"/>
                  <a:pt x="18733" y="11600"/>
                </a:cubicBezTo>
              </a:path>
              <a:path w="2821" h="710">
                <a:moveTo>
                  <a:pt x="18966" y="11432"/>
                </a:moveTo>
                <a:cubicBezTo>
                  <a:pt x="18976" y="11462"/>
                  <a:pt x="18972" y="11485"/>
                  <a:pt x="18965" y="11516"/>
                </a:cubicBezTo>
                <a:cubicBezTo>
                  <a:pt x="18956" y="11553"/>
                  <a:pt x="18944" y="11591"/>
                  <a:pt x="18938" y="11629"/>
                </a:cubicBezTo>
                <a:cubicBezTo>
                  <a:pt x="18937" y="11646"/>
                  <a:pt x="18937" y="11651"/>
                  <a:pt x="18934" y="11662"/>
                </a:cubicBezTo>
              </a:path>
              <a:path w="2821" h="710">
                <a:moveTo>
                  <a:pt x="19238" y="11446"/>
                </a:moveTo>
                <a:cubicBezTo>
                  <a:pt x="19250" y="11427"/>
                  <a:pt x="19262" y="11420"/>
                  <a:pt x="19286" y="11412"/>
                </a:cubicBezTo>
                <a:cubicBezTo>
                  <a:pt x="19313" y="11403"/>
                  <a:pt x="19339" y="11393"/>
                  <a:pt x="19366" y="11384"/>
                </a:cubicBezTo>
              </a:path>
              <a:path w="2821" h="710">
                <a:moveTo>
                  <a:pt x="19526" y="11415"/>
                </a:moveTo>
                <a:cubicBezTo>
                  <a:pt x="19550" y="11397"/>
                  <a:pt x="19567" y="11387"/>
                  <a:pt x="19594" y="11375"/>
                </a:cubicBezTo>
                <a:cubicBezTo>
                  <a:pt x="19632" y="11358"/>
                  <a:pt x="19671" y="11356"/>
                  <a:pt x="19712" y="11353"/>
                </a:cubicBezTo>
                <a:cubicBezTo>
                  <a:pt x="19744" y="11351"/>
                  <a:pt x="19784" y="11353"/>
                  <a:pt x="19814" y="11365"/>
                </a:cubicBezTo>
                <a:cubicBezTo>
                  <a:pt x="19833" y="11373"/>
                  <a:pt x="19840" y="11393"/>
                  <a:pt x="19863" y="11383"/>
                </a:cubicBezTo>
                <a:cubicBezTo>
                  <a:pt x="19888" y="11372"/>
                  <a:pt x="19902" y="11365"/>
                  <a:pt x="19929" y="11361"/>
                </a:cubicBezTo>
                <a:cubicBezTo>
                  <a:pt x="19955" y="11357"/>
                  <a:pt x="19979" y="11351"/>
                  <a:pt x="20004" y="11342"/>
                </a:cubicBezTo>
              </a:path>
              <a:path w="2821" h="710">
                <a:moveTo>
                  <a:pt x="20468" y="11301"/>
                </a:moveTo>
                <a:cubicBezTo>
                  <a:pt x="20468" y="11273"/>
                  <a:pt x="20467" y="11258"/>
                  <a:pt x="20455" y="11233"/>
                </a:cubicBezTo>
                <a:cubicBezTo>
                  <a:pt x="20442" y="11206"/>
                  <a:pt x="20423" y="11177"/>
                  <a:pt x="20388" y="11186"/>
                </a:cubicBezTo>
                <a:cubicBezTo>
                  <a:pt x="20351" y="11195"/>
                  <a:pt x="20319" y="11236"/>
                  <a:pt x="20300" y="11266"/>
                </a:cubicBezTo>
                <a:cubicBezTo>
                  <a:pt x="20277" y="11303"/>
                  <a:pt x="20254" y="11357"/>
                  <a:pt x="20272" y="11401"/>
                </a:cubicBezTo>
                <a:cubicBezTo>
                  <a:pt x="20289" y="11444"/>
                  <a:pt x="20343" y="11437"/>
                  <a:pt x="20376" y="11421"/>
                </a:cubicBezTo>
                <a:cubicBezTo>
                  <a:pt x="20434" y="11394"/>
                  <a:pt x="20473" y="11338"/>
                  <a:pt x="20503" y="11284"/>
                </a:cubicBezTo>
                <a:cubicBezTo>
                  <a:pt x="20537" y="11224"/>
                  <a:pt x="20553" y="11159"/>
                  <a:pt x="20565" y="11091"/>
                </a:cubicBezTo>
                <a:cubicBezTo>
                  <a:pt x="20571" y="11056"/>
                  <a:pt x="20580" y="11015"/>
                  <a:pt x="20554" y="10997"/>
                </a:cubicBezTo>
                <a:cubicBezTo>
                  <a:pt x="20532" y="11042"/>
                  <a:pt x="20520" y="11087"/>
                  <a:pt x="20515" y="11137"/>
                </a:cubicBezTo>
                <a:cubicBezTo>
                  <a:pt x="20508" y="11203"/>
                  <a:pt x="20508" y="11273"/>
                  <a:pt x="20524" y="11337"/>
                </a:cubicBezTo>
                <a:cubicBezTo>
                  <a:pt x="20535" y="11384"/>
                  <a:pt x="20557" y="11417"/>
                  <a:pt x="20591" y="11449"/>
                </a:cubicBezTo>
              </a:path>
              <a:path w="2821" h="710">
                <a:moveTo>
                  <a:pt x="20771" y="11344"/>
                </a:moveTo>
                <a:cubicBezTo>
                  <a:pt x="20797" y="11345"/>
                  <a:pt x="20802" y="11358"/>
                  <a:pt x="20809" y="11386"/>
                </a:cubicBezTo>
                <a:cubicBezTo>
                  <a:pt x="20817" y="11417"/>
                  <a:pt x="20823" y="11450"/>
                  <a:pt x="20830" y="11481"/>
                </a:cubicBezTo>
                <a:cubicBezTo>
                  <a:pt x="20833" y="11495"/>
                  <a:pt x="20833" y="11500"/>
                  <a:pt x="20839" y="11507"/>
                </a:cubicBezTo>
                <a:cubicBezTo>
                  <a:pt x="20847" y="11477"/>
                  <a:pt x="20854" y="11447"/>
                  <a:pt x="20867" y="11419"/>
                </a:cubicBezTo>
                <a:cubicBezTo>
                  <a:pt x="20878" y="11396"/>
                  <a:pt x="20894" y="11375"/>
                  <a:pt x="20922" y="11379"/>
                </a:cubicBezTo>
                <a:cubicBezTo>
                  <a:pt x="20957" y="11384"/>
                  <a:pt x="20977" y="11416"/>
                  <a:pt x="20998" y="11440"/>
                </a:cubicBezTo>
                <a:cubicBezTo>
                  <a:pt x="21022" y="11467"/>
                  <a:pt x="21047" y="11489"/>
                  <a:pt x="21073" y="11513"/>
                </a:cubicBezTo>
                <a:cubicBezTo>
                  <a:pt x="21085" y="11523"/>
                  <a:pt x="21088" y="11526"/>
                  <a:pt x="21096" y="1153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8023320" y="4013280"/>
            <a:ext cx="530280" cy="220680"/>
          </a:xfrm>
          <a:custGeom>
            <a:avLst/>
            <a:gdLst/>
            <a:ahLst/>
            <a:rect l="l" t="t" r="r" b="b"/>
            <a:pathLst>
              <a:path w="1471" h="612">
                <a:moveTo>
                  <a:pt x="22366" y="11316"/>
                </a:moveTo>
                <a:cubicBezTo>
                  <a:pt x="22351" y="11299"/>
                  <a:pt x="22351" y="11281"/>
                  <a:pt x="22335" y="11313"/>
                </a:cubicBezTo>
                <a:cubicBezTo>
                  <a:pt x="22321" y="11341"/>
                  <a:pt x="22317" y="11372"/>
                  <a:pt x="22308" y="11402"/>
                </a:cubicBezTo>
                <a:cubicBezTo>
                  <a:pt x="22300" y="11431"/>
                  <a:pt x="22291" y="11457"/>
                  <a:pt x="22287" y="11487"/>
                </a:cubicBezTo>
                <a:cubicBezTo>
                  <a:pt x="22320" y="11482"/>
                  <a:pt x="22330" y="11454"/>
                  <a:pt x="22347" y="11424"/>
                </a:cubicBezTo>
                <a:cubicBezTo>
                  <a:pt x="22375" y="11372"/>
                  <a:pt x="22400" y="11316"/>
                  <a:pt x="22417" y="11259"/>
                </a:cubicBezTo>
                <a:cubicBezTo>
                  <a:pt x="22428" y="11222"/>
                  <a:pt x="22434" y="11187"/>
                  <a:pt x="22431" y="11149"/>
                </a:cubicBezTo>
                <a:cubicBezTo>
                  <a:pt x="22410" y="11196"/>
                  <a:pt x="22403" y="11243"/>
                  <a:pt x="22400" y="11294"/>
                </a:cubicBezTo>
                <a:cubicBezTo>
                  <a:pt x="22395" y="11367"/>
                  <a:pt x="22395" y="11455"/>
                  <a:pt x="22420" y="11525"/>
                </a:cubicBezTo>
                <a:cubicBezTo>
                  <a:pt x="22439" y="11578"/>
                  <a:pt x="22466" y="11600"/>
                  <a:pt x="22518" y="11605"/>
                </a:cubicBezTo>
              </a:path>
              <a:path w="1471" h="612">
                <a:moveTo>
                  <a:pt x="22636" y="11436"/>
                </a:moveTo>
                <a:cubicBezTo>
                  <a:pt x="22618" y="11473"/>
                  <a:pt x="22606" y="11511"/>
                  <a:pt x="22604" y="11553"/>
                </a:cubicBezTo>
                <a:cubicBezTo>
                  <a:pt x="22605" y="11572"/>
                  <a:pt x="22604" y="11577"/>
                  <a:pt x="22611" y="11587"/>
                </a:cubicBezTo>
                <a:cubicBezTo>
                  <a:pt x="22632" y="11592"/>
                  <a:pt x="22631" y="11587"/>
                  <a:pt x="22650" y="11570"/>
                </a:cubicBezTo>
              </a:path>
              <a:path w="1471" h="612">
                <a:moveTo>
                  <a:pt x="22867" y="11301"/>
                </a:moveTo>
                <a:cubicBezTo>
                  <a:pt x="22899" y="11286"/>
                  <a:pt x="22933" y="11263"/>
                  <a:pt x="22965" y="11251"/>
                </a:cubicBezTo>
                <a:cubicBezTo>
                  <a:pt x="23009" y="11235"/>
                  <a:pt x="23068" y="11220"/>
                  <a:pt x="23115" y="11217"/>
                </a:cubicBezTo>
                <a:cubicBezTo>
                  <a:pt x="23137" y="11218"/>
                  <a:pt x="23142" y="11218"/>
                  <a:pt x="23155" y="11219"/>
                </a:cubicBezTo>
              </a:path>
              <a:path w="1471" h="612">
                <a:moveTo>
                  <a:pt x="22787" y="11407"/>
                </a:moveTo>
                <a:cubicBezTo>
                  <a:pt x="22783" y="11409"/>
                  <a:pt x="22778" y="11412"/>
                  <a:pt x="22774" y="11414"/>
                </a:cubicBezTo>
                <a:cubicBezTo>
                  <a:pt x="22807" y="11427"/>
                  <a:pt x="22851" y="11420"/>
                  <a:pt x="22889" y="11419"/>
                </a:cubicBezTo>
                <a:cubicBezTo>
                  <a:pt x="22945" y="11418"/>
                  <a:pt x="23000" y="11424"/>
                  <a:pt x="23056" y="11413"/>
                </a:cubicBezTo>
                <a:cubicBezTo>
                  <a:pt x="23079" y="11407"/>
                  <a:pt x="23084" y="11407"/>
                  <a:pt x="23095" y="11396"/>
                </a:cubicBezTo>
              </a:path>
              <a:path w="1471" h="612">
                <a:moveTo>
                  <a:pt x="22940" y="11162"/>
                </a:moveTo>
                <a:cubicBezTo>
                  <a:pt x="22960" y="11188"/>
                  <a:pt x="22962" y="11209"/>
                  <a:pt x="22963" y="11243"/>
                </a:cubicBezTo>
                <a:cubicBezTo>
                  <a:pt x="22964" y="11298"/>
                  <a:pt x="22967" y="11355"/>
                  <a:pt x="22964" y="11410"/>
                </a:cubicBezTo>
                <a:cubicBezTo>
                  <a:pt x="22962" y="11445"/>
                  <a:pt x="22951" y="11494"/>
                  <a:pt x="22978" y="11524"/>
                </a:cubicBezTo>
                <a:cubicBezTo>
                  <a:pt x="22984" y="11528"/>
                  <a:pt x="22990" y="11532"/>
                  <a:pt x="22996" y="11536"/>
                </a:cubicBezTo>
              </a:path>
              <a:path w="1471" h="612">
                <a:moveTo>
                  <a:pt x="23486" y="11371"/>
                </a:moveTo>
                <a:cubicBezTo>
                  <a:pt x="23480" y="11347"/>
                  <a:pt x="23474" y="11327"/>
                  <a:pt x="23446" y="11319"/>
                </a:cubicBezTo>
                <a:cubicBezTo>
                  <a:pt x="23409" y="11309"/>
                  <a:pt x="23362" y="11323"/>
                  <a:pt x="23331" y="11342"/>
                </a:cubicBezTo>
                <a:cubicBezTo>
                  <a:pt x="23293" y="11366"/>
                  <a:pt x="23280" y="11401"/>
                  <a:pt x="23274" y="11442"/>
                </a:cubicBezTo>
                <a:cubicBezTo>
                  <a:pt x="23303" y="11471"/>
                  <a:pt x="23327" y="11475"/>
                  <a:pt x="23368" y="11457"/>
                </a:cubicBezTo>
                <a:cubicBezTo>
                  <a:pt x="23423" y="11433"/>
                  <a:pt x="23468" y="11377"/>
                  <a:pt x="23499" y="11328"/>
                </a:cubicBezTo>
                <a:cubicBezTo>
                  <a:pt x="23526" y="11284"/>
                  <a:pt x="23548" y="11239"/>
                  <a:pt x="23558" y="11189"/>
                </a:cubicBezTo>
                <a:cubicBezTo>
                  <a:pt x="23559" y="11184"/>
                  <a:pt x="23560" y="11178"/>
                  <a:pt x="23561" y="11173"/>
                </a:cubicBezTo>
                <a:cubicBezTo>
                  <a:pt x="23522" y="11183"/>
                  <a:pt x="23512" y="11215"/>
                  <a:pt x="23497" y="11253"/>
                </a:cubicBezTo>
                <a:cubicBezTo>
                  <a:pt x="23473" y="11312"/>
                  <a:pt x="23463" y="11377"/>
                  <a:pt x="23464" y="11440"/>
                </a:cubicBezTo>
                <a:cubicBezTo>
                  <a:pt x="23465" y="11485"/>
                  <a:pt x="23477" y="11525"/>
                  <a:pt x="23510" y="11556"/>
                </a:cubicBezTo>
                <a:cubicBezTo>
                  <a:pt x="23528" y="11573"/>
                  <a:pt x="23539" y="11572"/>
                  <a:pt x="23562" y="11574"/>
                </a:cubicBezTo>
              </a:path>
              <a:path w="1471" h="612">
                <a:moveTo>
                  <a:pt x="23706" y="11427"/>
                </a:moveTo>
                <a:cubicBezTo>
                  <a:pt x="23711" y="11401"/>
                  <a:pt x="23714" y="11462"/>
                  <a:pt x="23717" y="11472"/>
                </a:cubicBezTo>
                <a:cubicBezTo>
                  <a:pt x="23729" y="11516"/>
                  <a:pt x="23743" y="11556"/>
                  <a:pt x="23748" y="11602"/>
                </a:cubicBezTo>
                <a:cubicBezTo>
                  <a:pt x="23752" y="11639"/>
                  <a:pt x="23762" y="11677"/>
                  <a:pt x="23751" y="11714"/>
                </a:cubicBezTo>
                <a:cubicBezTo>
                  <a:pt x="23744" y="11739"/>
                  <a:pt x="23729" y="11754"/>
                  <a:pt x="23704" y="11759"/>
                </a:cubicBezTo>
                <a:cubicBezTo>
                  <a:pt x="23682" y="11763"/>
                  <a:pt x="23658" y="11757"/>
                  <a:pt x="23641" y="11743"/>
                </a:cubicBezTo>
                <a:cubicBezTo>
                  <a:pt x="23603" y="11713"/>
                  <a:pt x="23603" y="11672"/>
                  <a:pt x="23602" y="1162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5527800" y="4595760"/>
            <a:ext cx="14040" cy="30240"/>
          </a:xfrm>
          <a:custGeom>
            <a:avLst/>
            <a:gdLst/>
            <a:ahLst/>
            <a:rect l="l" t="t" r="r" b="b"/>
            <a:pathLst>
              <a:path w="42" h="83">
                <a:moveTo>
                  <a:pt x="15394" y="12849"/>
                </a:moveTo>
                <a:cubicBezTo>
                  <a:pt x="15379" y="12827"/>
                  <a:pt x="15361" y="12808"/>
                  <a:pt x="15356" y="12782"/>
                </a:cubicBezTo>
                <a:cubicBezTo>
                  <a:pt x="15355" y="12777"/>
                  <a:pt x="15354" y="12772"/>
                  <a:pt x="15353" y="1276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2909880" y="4403880"/>
            <a:ext cx="338040" cy="368280"/>
          </a:xfrm>
          <a:custGeom>
            <a:avLst/>
            <a:gdLst/>
            <a:ahLst/>
            <a:rect l="l" t="t" r="r" b="b"/>
            <a:pathLst>
              <a:path w="936" h="1023">
                <a:moveTo>
                  <a:pt x="8168" y="13171"/>
                </a:moveTo>
                <a:cubicBezTo>
                  <a:pt x="8193" y="13210"/>
                  <a:pt x="8207" y="13247"/>
                  <a:pt x="8253" y="13256"/>
                </a:cubicBezTo>
                <a:cubicBezTo>
                  <a:pt x="8307" y="13267"/>
                  <a:pt x="8329" y="13142"/>
                  <a:pt x="8336" y="13113"/>
                </a:cubicBezTo>
                <a:cubicBezTo>
                  <a:pt x="8363" y="13003"/>
                  <a:pt x="8364" y="12886"/>
                  <a:pt x="8359" y="12773"/>
                </a:cubicBezTo>
                <a:cubicBezTo>
                  <a:pt x="8353" y="12651"/>
                  <a:pt x="8330" y="12531"/>
                  <a:pt x="8303" y="12412"/>
                </a:cubicBezTo>
                <a:cubicBezTo>
                  <a:pt x="8289" y="12352"/>
                  <a:pt x="8279" y="12295"/>
                  <a:pt x="8274" y="12235"/>
                </a:cubicBezTo>
                <a:cubicBezTo>
                  <a:pt x="8317" y="12255"/>
                  <a:pt x="8354" y="12277"/>
                  <a:pt x="8391" y="12315"/>
                </a:cubicBezTo>
                <a:cubicBezTo>
                  <a:pt x="8446" y="12372"/>
                  <a:pt x="8482" y="12429"/>
                  <a:pt x="8512" y="12501"/>
                </a:cubicBezTo>
              </a:path>
              <a:path w="936" h="1023">
                <a:moveTo>
                  <a:pt x="8129" y="12843"/>
                </a:moveTo>
                <a:cubicBezTo>
                  <a:pt x="8105" y="12856"/>
                  <a:pt x="8100" y="12859"/>
                  <a:pt x="8085" y="12867"/>
                </a:cubicBezTo>
                <a:cubicBezTo>
                  <a:pt x="8129" y="12871"/>
                  <a:pt x="8181" y="12856"/>
                  <a:pt x="8227" y="12850"/>
                </a:cubicBezTo>
                <a:cubicBezTo>
                  <a:pt x="8322" y="12837"/>
                  <a:pt x="8421" y="12833"/>
                  <a:pt x="8517" y="12829"/>
                </a:cubicBezTo>
                <a:cubicBezTo>
                  <a:pt x="8578" y="12828"/>
                  <a:pt x="8596" y="12828"/>
                  <a:pt x="8635" y="12827"/>
                </a:cubicBezTo>
              </a:path>
              <a:path w="936" h="1023">
                <a:moveTo>
                  <a:pt x="9003" y="13058"/>
                </a:moveTo>
                <a:cubicBezTo>
                  <a:pt x="8999" y="13062"/>
                  <a:pt x="8995" y="13065"/>
                  <a:pt x="8991" y="13069"/>
                </a:cubicBezTo>
                <a:cubicBezTo>
                  <a:pt x="8971" y="13044"/>
                  <a:pt x="8987" y="13029"/>
                  <a:pt x="8996" y="12997"/>
                </a:cubicBezTo>
                <a:cubicBezTo>
                  <a:pt x="9003" y="12968"/>
                  <a:pt x="9006" y="12958"/>
                  <a:pt x="9013" y="12939"/>
                </a:cubicBezTo>
              </a:path>
              <a:path w="936" h="1023">
                <a:moveTo>
                  <a:pt x="8923" y="12615"/>
                </a:moveTo>
                <a:cubicBezTo>
                  <a:pt x="8902" y="12610"/>
                  <a:pt x="8901" y="12614"/>
                  <a:pt x="8893" y="12598"/>
                </a:cubicBezTo>
                <a:cubicBezTo>
                  <a:pt x="8922" y="12586"/>
                  <a:pt x="8953" y="12592"/>
                  <a:pt x="8985" y="12597"/>
                </a:cubicBezTo>
                <a:cubicBezTo>
                  <a:pt x="8997" y="12599"/>
                  <a:pt x="9008" y="12602"/>
                  <a:pt x="9020" y="1260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3370320" y="4533840"/>
            <a:ext cx="904680" cy="300240"/>
          </a:xfrm>
          <a:custGeom>
            <a:avLst/>
            <a:gdLst/>
            <a:ahLst/>
            <a:rect l="l" t="t" r="r" b="b"/>
            <a:pathLst>
              <a:path w="2514" h="832">
                <a:moveTo>
                  <a:pt x="9370" y="12921"/>
                </a:moveTo>
                <a:cubicBezTo>
                  <a:pt x="9363" y="12969"/>
                  <a:pt x="9369" y="12995"/>
                  <a:pt x="9377" y="13043"/>
                </a:cubicBezTo>
                <a:cubicBezTo>
                  <a:pt x="9392" y="13134"/>
                  <a:pt x="9413" y="13222"/>
                  <a:pt x="9434" y="13312"/>
                </a:cubicBezTo>
                <a:cubicBezTo>
                  <a:pt x="9442" y="13347"/>
                  <a:pt x="9448" y="13375"/>
                  <a:pt x="9448" y="13410"/>
                </a:cubicBezTo>
                <a:cubicBezTo>
                  <a:pt x="9418" y="13354"/>
                  <a:pt x="9402" y="13293"/>
                  <a:pt x="9393" y="13230"/>
                </a:cubicBezTo>
                <a:cubicBezTo>
                  <a:pt x="9370" y="13067"/>
                  <a:pt x="9392" y="12889"/>
                  <a:pt x="9453" y="12737"/>
                </a:cubicBezTo>
                <a:cubicBezTo>
                  <a:pt x="9475" y="12682"/>
                  <a:pt x="9488" y="12667"/>
                  <a:pt x="9536" y="12644"/>
                </a:cubicBezTo>
                <a:cubicBezTo>
                  <a:pt x="9587" y="12688"/>
                  <a:pt x="9590" y="12737"/>
                  <a:pt x="9590" y="12806"/>
                </a:cubicBezTo>
                <a:cubicBezTo>
                  <a:pt x="9589" y="12908"/>
                  <a:pt x="9562" y="13011"/>
                  <a:pt x="9482" y="13079"/>
                </a:cubicBezTo>
                <a:cubicBezTo>
                  <a:pt x="9449" y="13107"/>
                  <a:pt x="9436" y="13105"/>
                  <a:pt x="9401" y="13092"/>
                </a:cubicBezTo>
                <a:cubicBezTo>
                  <a:pt x="9393" y="13019"/>
                  <a:pt x="9423" y="12980"/>
                  <a:pt x="9460" y="12917"/>
                </a:cubicBezTo>
              </a:path>
              <a:path w="2514" h="832">
                <a:moveTo>
                  <a:pt x="9877" y="12755"/>
                </a:moveTo>
                <a:cubicBezTo>
                  <a:pt x="9900" y="12843"/>
                  <a:pt x="9923" y="12932"/>
                  <a:pt x="9921" y="13024"/>
                </a:cubicBezTo>
                <a:cubicBezTo>
                  <a:pt x="9920" y="13062"/>
                  <a:pt x="9916" y="13119"/>
                  <a:pt x="9887" y="13141"/>
                </a:cubicBezTo>
                <a:cubicBezTo>
                  <a:pt x="9867" y="13094"/>
                  <a:pt x="9866" y="13048"/>
                  <a:pt x="9862" y="12997"/>
                </a:cubicBezTo>
                <a:cubicBezTo>
                  <a:pt x="9858" y="12931"/>
                  <a:pt x="9857" y="12908"/>
                  <a:pt x="9857" y="12864"/>
                </a:cubicBezTo>
              </a:path>
              <a:path w="2514" h="832">
                <a:moveTo>
                  <a:pt x="10264" y="12595"/>
                </a:moveTo>
                <a:cubicBezTo>
                  <a:pt x="10271" y="12632"/>
                  <a:pt x="10269" y="12667"/>
                  <a:pt x="10240" y="12697"/>
                </a:cubicBezTo>
                <a:cubicBezTo>
                  <a:pt x="10199" y="12739"/>
                  <a:pt x="10146" y="12770"/>
                  <a:pt x="10104" y="12812"/>
                </a:cubicBezTo>
                <a:cubicBezTo>
                  <a:pt x="10067" y="12850"/>
                  <a:pt x="9991" y="12926"/>
                  <a:pt x="10023" y="12986"/>
                </a:cubicBezTo>
                <a:cubicBezTo>
                  <a:pt x="10046" y="13030"/>
                  <a:pt x="10116" y="13017"/>
                  <a:pt x="10152" y="13004"/>
                </a:cubicBezTo>
                <a:cubicBezTo>
                  <a:pt x="10211" y="12984"/>
                  <a:pt x="10262" y="12938"/>
                  <a:pt x="10301" y="12891"/>
                </a:cubicBezTo>
                <a:cubicBezTo>
                  <a:pt x="10324" y="12863"/>
                  <a:pt x="10345" y="12830"/>
                  <a:pt x="10367" y="12802"/>
                </a:cubicBezTo>
                <a:cubicBezTo>
                  <a:pt x="10389" y="12862"/>
                  <a:pt x="10387" y="12928"/>
                  <a:pt x="10387" y="12993"/>
                </a:cubicBezTo>
                <a:cubicBezTo>
                  <a:pt x="10387" y="13113"/>
                  <a:pt x="10385" y="13250"/>
                  <a:pt x="10335" y="13362"/>
                </a:cubicBezTo>
                <a:cubicBezTo>
                  <a:pt x="10314" y="13409"/>
                  <a:pt x="10266" y="13447"/>
                  <a:pt x="10213" y="13417"/>
                </a:cubicBezTo>
                <a:cubicBezTo>
                  <a:pt x="10162" y="13388"/>
                  <a:pt x="10147" y="13306"/>
                  <a:pt x="10142" y="13253"/>
                </a:cubicBezTo>
                <a:cubicBezTo>
                  <a:pt x="10142" y="13234"/>
                  <a:pt x="10141" y="13214"/>
                  <a:pt x="10141" y="13195"/>
                </a:cubicBezTo>
              </a:path>
              <a:path w="2514" h="832">
                <a:moveTo>
                  <a:pt x="10582" y="12877"/>
                </a:moveTo>
                <a:cubicBezTo>
                  <a:pt x="10563" y="12890"/>
                  <a:pt x="10532" y="12903"/>
                  <a:pt x="10516" y="12917"/>
                </a:cubicBezTo>
                <a:cubicBezTo>
                  <a:pt x="10513" y="12921"/>
                  <a:pt x="10511" y="12926"/>
                  <a:pt x="10508" y="12930"/>
                </a:cubicBezTo>
                <a:cubicBezTo>
                  <a:pt x="10547" y="12913"/>
                  <a:pt x="10582" y="12885"/>
                  <a:pt x="10615" y="12858"/>
                </a:cubicBezTo>
                <a:cubicBezTo>
                  <a:pt x="10670" y="12814"/>
                  <a:pt x="10742" y="12760"/>
                  <a:pt x="10767" y="12691"/>
                </a:cubicBezTo>
                <a:cubicBezTo>
                  <a:pt x="10768" y="12685"/>
                  <a:pt x="10768" y="12678"/>
                  <a:pt x="10769" y="12672"/>
                </a:cubicBezTo>
                <a:cubicBezTo>
                  <a:pt x="10737" y="12652"/>
                  <a:pt x="10705" y="12671"/>
                  <a:pt x="10673" y="12692"/>
                </a:cubicBezTo>
                <a:cubicBezTo>
                  <a:pt x="10618" y="12728"/>
                  <a:pt x="10570" y="12776"/>
                  <a:pt x="10536" y="12832"/>
                </a:cubicBezTo>
                <a:cubicBezTo>
                  <a:pt x="10517" y="12863"/>
                  <a:pt x="10485" y="12920"/>
                  <a:pt x="10516" y="12954"/>
                </a:cubicBezTo>
                <a:cubicBezTo>
                  <a:pt x="10548" y="12989"/>
                  <a:pt x="10629" y="12983"/>
                  <a:pt x="10670" y="12983"/>
                </a:cubicBezTo>
                <a:cubicBezTo>
                  <a:pt x="10721" y="12983"/>
                  <a:pt x="10772" y="12977"/>
                  <a:pt x="10823" y="12972"/>
                </a:cubicBezTo>
              </a:path>
              <a:path w="2514" h="832">
                <a:moveTo>
                  <a:pt x="11021" y="12778"/>
                </a:moveTo>
                <a:cubicBezTo>
                  <a:pt x="11014" y="12756"/>
                  <a:pt x="11008" y="12721"/>
                  <a:pt x="10982" y="12714"/>
                </a:cubicBezTo>
                <a:cubicBezTo>
                  <a:pt x="10945" y="12705"/>
                  <a:pt x="10921" y="12751"/>
                  <a:pt x="10908" y="12779"/>
                </a:cubicBezTo>
                <a:cubicBezTo>
                  <a:pt x="10884" y="12831"/>
                  <a:pt x="10870" y="12895"/>
                  <a:pt x="10877" y="12952"/>
                </a:cubicBezTo>
                <a:cubicBezTo>
                  <a:pt x="10881" y="12989"/>
                  <a:pt x="10899" y="13039"/>
                  <a:pt x="10945" y="13035"/>
                </a:cubicBezTo>
                <a:cubicBezTo>
                  <a:pt x="10987" y="13031"/>
                  <a:pt x="11014" y="12982"/>
                  <a:pt x="11030" y="12950"/>
                </a:cubicBezTo>
                <a:cubicBezTo>
                  <a:pt x="11052" y="12906"/>
                  <a:pt x="11055" y="12866"/>
                  <a:pt x="11061" y="12819"/>
                </a:cubicBezTo>
                <a:cubicBezTo>
                  <a:pt x="11064" y="12791"/>
                  <a:pt x="11058" y="12766"/>
                  <a:pt x="11058" y="12738"/>
                </a:cubicBezTo>
                <a:cubicBezTo>
                  <a:pt x="11058" y="12733"/>
                  <a:pt x="11058" y="12728"/>
                  <a:pt x="11058" y="12723"/>
                </a:cubicBezTo>
              </a:path>
              <a:path w="2514" h="832">
                <a:moveTo>
                  <a:pt x="11179" y="12809"/>
                </a:moveTo>
                <a:cubicBezTo>
                  <a:pt x="11188" y="12851"/>
                  <a:pt x="11189" y="12896"/>
                  <a:pt x="11199" y="12937"/>
                </a:cubicBezTo>
                <a:cubicBezTo>
                  <a:pt x="11206" y="12968"/>
                  <a:pt x="11211" y="12988"/>
                  <a:pt x="11241" y="12988"/>
                </a:cubicBezTo>
                <a:cubicBezTo>
                  <a:pt x="11278" y="12956"/>
                  <a:pt x="11299" y="12913"/>
                  <a:pt x="11323" y="12869"/>
                </a:cubicBezTo>
                <a:cubicBezTo>
                  <a:pt x="11351" y="12818"/>
                  <a:pt x="11377" y="12759"/>
                  <a:pt x="11416" y="12715"/>
                </a:cubicBezTo>
                <a:cubicBezTo>
                  <a:pt x="11431" y="12702"/>
                  <a:pt x="11435" y="12697"/>
                  <a:pt x="11448" y="12704"/>
                </a:cubicBezTo>
                <a:cubicBezTo>
                  <a:pt x="11468" y="12750"/>
                  <a:pt x="11472" y="12797"/>
                  <a:pt x="11478" y="12847"/>
                </a:cubicBezTo>
                <a:cubicBezTo>
                  <a:pt x="11482" y="12883"/>
                  <a:pt x="11481" y="12949"/>
                  <a:pt x="11516" y="12973"/>
                </a:cubicBezTo>
                <a:cubicBezTo>
                  <a:pt x="11522" y="12974"/>
                  <a:pt x="11528" y="12976"/>
                  <a:pt x="11534" y="12977"/>
                </a:cubicBezTo>
              </a:path>
              <a:path w="2514" h="832">
                <a:moveTo>
                  <a:pt x="11674" y="12772"/>
                </a:moveTo>
                <a:cubicBezTo>
                  <a:pt x="11688" y="12737"/>
                  <a:pt x="11700" y="12716"/>
                  <a:pt x="11682" y="12684"/>
                </a:cubicBezTo>
                <a:cubicBezTo>
                  <a:pt x="11653" y="12716"/>
                  <a:pt x="11622" y="12744"/>
                  <a:pt x="11596" y="12779"/>
                </a:cubicBezTo>
                <a:cubicBezTo>
                  <a:pt x="11575" y="12808"/>
                  <a:pt x="11560" y="12836"/>
                  <a:pt x="11547" y="12868"/>
                </a:cubicBezTo>
                <a:cubicBezTo>
                  <a:pt x="11566" y="12899"/>
                  <a:pt x="11605" y="12880"/>
                  <a:pt x="11641" y="12878"/>
                </a:cubicBezTo>
                <a:cubicBezTo>
                  <a:pt x="11704" y="12874"/>
                  <a:pt x="11780" y="12878"/>
                  <a:pt x="11830" y="12923"/>
                </a:cubicBezTo>
                <a:cubicBezTo>
                  <a:pt x="11878" y="12966"/>
                  <a:pt x="11888" y="13037"/>
                  <a:pt x="11865" y="13095"/>
                </a:cubicBezTo>
                <a:cubicBezTo>
                  <a:pt x="11848" y="13138"/>
                  <a:pt x="11797" y="13186"/>
                  <a:pt x="11748" y="13188"/>
                </a:cubicBezTo>
                <a:cubicBezTo>
                  <a:pt x="11713" y="13189"/>
                  <a:pt x="11696" y="13164"/>
                  <a:pt x="11676" y="1314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4402080" y="4435560"/>
            <a:ext cx="982800" cy="252360"/>
          </a:xfrm>
          <a:custGeom>
            <a:avLst/>
            <a:gdLst/>
            <a:ahLst/>
            <a:rect l="l" t="t" r="r" b="b"/>
            <a:pathLst>
              <a:path w="2729" h="704">
                <a:moveTo>
                  <a:pt x="12293" y="12742"/>
                </a:moveTo>
                <a:cubicBezTo>
                  <a:pt x="12278" y="12742"/>
                  <a:pt x="12257" y="12739"/>
                  <a:pt x="12243" y="12744"/>
                </a:cubicBezTo>
                <a:cubicBezTo>
                  <a:pt x="12238" y="12748"/>
                  <a:pt x="12234" y="12751"/>
                  <a:pt x="12229" y="12755"/>
                </a:cubicBezTo>
                <a:cubicBezTo>
                  <a:pt x="12259" y="12768"/>
                  <a:pt x="12279" y="12770"/>
                  <a:pt x="12321" y="12766"/>
                </a:cubicBezTo>
                <a:cubicBezTo>
                  <a:pt x="12417" y="12758"/>
                  <a:pt x="12512" y="12744"/>
                  <a:pt x="12608" y="12739"/>
                </a:cubicBezTo>
                <a:cubicBezTo>
                  <a:pt x="12681" y="12735"/>
                  <a:pt x="12752" y="12736"/>
                  <a:pt x="12822" y="12757"/>
                </a:cubicBezTo>
                <a:cubicBezTo>
                  <a:pt x="12810" y="12734"/>
                  <a:pt x="12801" y="12720"/>
                  <a:pt x="12777" y="12700"/>
                </a:cubicBezTo>
                <a:cubicBezTo>
                  <a:pt x="12742" y="12671"/>
                  <a:pt x="12701" y="12644"/>
                  <a:pt x="12671" y="12610"/>
                </a:cubicBezTo>
                <a:cubicBezTo>
                  <a:pt x="12659" y="12593"/>
                  <a:pt x="12655" y="12588"/>
                  <a:pt x="12651" y="12575"/>
                </a:cubicBezTo>
                <a:cubicBezTo>
                  <a:pt x="12675" y="12544"/>
                  <a:pt x="12701" y="12543"/>
                  <a:pt x="12741" y="12551"/>
                </a:cubicBezTo>
                <a:cubicBezTo>
                  <a:pt x="12827" y="12568"/>
                  <a:pt x="12935" y="12625"/>
                  <a:pt x="12943" y="12723"/>
                </a:cubicBezTo>
                <a:cubicBezTo>
                  <a:pt x="12949" y="12801"/>
                  <a:pt x="12885" y="12864"/>
                  <a:pt x="12831" y="12910"/>
                </a:cubicBezTo>
                <a:cubicBezTo>
                  <a:pt x="12772" y="12960"/>
                  <a:pt x="12702" y="13001"/>
                  <a:pt x="12626" y="13019"/>
                </a:cubicBezTo>
                <a:cubicBezTo>
                  <a:pt x="12571" y="13032"/>
                  <a:pt x="12588" y="13015"/>
                  <a:pt x="12603" y="12984"/>
                </a:cubicBezTo>
              </a:path>
              <a:path w="2729" h="704">
                <a:moveTo>
                  <a:pt x="13105" y="12459"/>
                </a:moveTo>
                <a:cubicBezTo>
                  <a:pt x="13107" y="12417"/>
                  <a:pt x="13112" y="12379"/>
                  <a:pt x="13118" y="12338"/>
                </a:cubicBezTo>
                <a:cubicBezTo>
                  <a:pt x="13138" y="12379"/>
                  <a:pt x="13152" y="12425"/>
                  <a:pt x="13162" y="12475"/>
                </a:cubicBezTo>
                <a:cubicBezTo>
                  <a:pt x="13181" y="12576"/>
                  <a:pt x="13200" y="12678"/>
                  <a:pt x="13218" y="12779"/>
                </a:cubicBezTo>
                <a:cubicBezTo>
                  <a:pt x="13228" y="12832"/>
                  <a:pt x="13238" y="12885"/>
                  <a:pt x="13251" y="12937"/>
                </a:cubicBezTo>
                <a:cubicBezTo>
                  <a:pt x="13287" y="12850"/>
                  <a:pt x="13312" y="12761"/>
                  <a:pt x="13359" y="12679"/>
                </a:cubicBezTo>
                <a:cubicBezTo>
                  <a:pt x="13373" y="12654"/>
                  <a:pt x="13415" y="12584"/>
                  <a:pt x="13455" y="12618"/>
                </a:cubicBezTo>
                <a:cubicBezTo>
                  <a:pt x="13511" y="12666"/>
                  <a:pt x="13514" y="12790"/>
                  <a:pt x="13534" y="12855"/>
                </a:cubicBezTo>
                <a:cubicBezTo>
                  <a:pt x="13554" y="12923"/>
                  <a:pt x="13574" y="12954"/>
                  <a:pt x="13637" y="12979"/>
                </a:cubicBezTo>
              </a:path>
              <a:path w="2729" h="704">
                <a:moveTo>
                  <a:pt x="13855" y="12714"/>
                </a:moveTo>
                <a:cubicBezTo>
                  <a:pt x="13834" y="12685"/>
                  <a:pt x="13803" y="12662"/>
                  <a:pt x="13763" y="12687"/>
                </a:cubicBezTo>
                <a:cubicBezTo>
                  <a:pt x="13710" y="12720"/>
                  <a:pt x="13669" y="12796"/>
                  <a:pt x="13645" y="12851"/>
                </a:cubicBezTo>
                <a:cubicBezTo>
                  <a:pt x="13628" y="12892"/>
                  <a:pt x="13602" y="12968"/>
                  <a:pt x="13647" y="13002"/>
                </a:cubicBezTo>
                <a:cubicBezTo>
                  <a:pt x="13689" y="13033"/>
                  <a:pt x="13751" y="12983"/>
                  <a:pt x="13780" y="12959"/>
                </a:cubicBezTo>
                <a:cubicBezTo>
                  <a:pt x="13845" y="12904"/>
                  <a:pt x="13895" y="12823"/>
                  <a:pt x="13881" y="12736"/>
                </a:cubicBezTo>
                <a:cubicBezTo>
                  <a:pt x="13875" y="12700"/>
                  <a:pt x="13870" y="12666"/>
                  <a:pt x="13869" y="12629"/>
                </a:cubicBezTo>
              </a:path>
              <a:path w="2729" h="704">
                <a:moveTo>
                  <a:pt x="13964" y="12332"/>
                </a:moveTo>
                <a:cubicBezTo>
                  <a:pt x="13964" y="12299"/>
                  <a:pt x="13961" y="12374"/>
                  <a:pt x="13961" y="12407"/>
                </a:cubicBezTo>
                <a:cubicBezTo>
                  <a:pt x="13962" y="12497"/>
                  <a:pt x="13968" y="12587"/>
                  <a:pt x="13980" y="12677"/>
                </a:cubicBezTo>
                <a:cubicBezTo>
                  <a:pt x="13990" y="12752"/>
                  <a:pt x="13994" y="12841"/>
                  <a:pt x="14027" y="12910"/>
                </a:cubicBezTo>
                <a:cubicBezTo>
                  <a:pt x="14043" y="12933"/>
                  <a:pt x="14047" y="12940"/>
                  <a:pt x="14065" y="12946"/>
                </a:cubicBezTo>
              </a:path>
              <a:path w="2729" h="704">
                <a:moveTo>
                  <a:pt x="14284" y="12725"/>
                </a:moveTo>
                <a:cubicBezTo>
                  <a:pt x="14307" y="12721"/>
                  <a:pt x="14336" y="12717"/>
                  <a:pt x="14356" y="12707"/>
                </a:cubicBezTo>
                <a:cubicBezTo>
                  <a:pt x="14384" y="12693"/>
                  <a:pt x="14417" y="12672"/>
                  <a:pt x="14438" y="12647"/>
                </a:cubicBezTo>
                <a:cubicBezTo>
                  <a:pt x="14452" y="12630"/>
                  <a:pt x="14453" y="12618"/>
                  <a:pt x="14454" y="12598"/>
                </a:cubicBezTo>
                <a:cubicBezTo>
                  <a:pt x="14420" y="12592"/>
                  <a:pt x="14396" y="12608"/>
                  <a:pt x="14369" y="12630"/>
                </a:cubicBezTo>
                <a:cubicBezTo>
                  <a:pt x="14325" y="12665"/>
                  <a:pt x="14284" y="12713"/>
                  <a:pt x="14262" y="12765"/>
                </a:cubicBezTo>
                <a:cubicBezTo>
                  <a:pt x="14247" y="12801"/>
                  <a:pt x="14241" y="12842"/>
                  <a:pt x="14277" y="12866"/>
                </a:cubicBezTo>
                <a:cubicBezTo>
                  <a:pt x="14315" y="12891"/>
                  <a:pt x="14375" y="12893"/>
                  <a:pt x="14419" y="12892"/>
                </a:cubicBezTo>
                <a:cubicBezTo>
                  <a:pt x="14478" y="12891"/>
                  <a:pt x="14535" y="12879"/>
                  <a:pt x="14592" y="12865"/>
                </a:cubicBezTo>
              </a:path>
              <a:path w="2729" h="704">
                <a:moveTo>
                  <a:pt x="14937" y="12588"/>
                </a:moveTo>
                <a:cubicBezTo>
                  <a:pt x="14934" y="12565"/>
                  <a:pt x="14933" y="12558"/>
                  <a:pt x="14911" y="12552"/>
                </a:cubicBezTo>
                <a:cubicBezTo>
                  <a:pt x="14886" y="12545"/>
                  <a:pt x="14866" y="12545"/>
                  <a:pt x="14842" y="12557"/>
                </a:cubicBezTo>
                <a:cubicBezTo>
                  <a:pt x="14820" y="12568"/>
                  <a:pt x="14824" y="12582"/>
                  <a:pt x="14837" y="12599"/>
                </a:cubicBezTo>
                <a:cubicBezTo>
                  <a:pt x="14863" y="12634"/>
                  <a:pt x="14892" y="12665"/>
                  <a:pt x="14914" y="12703"/>
                </a:cubicBezTo>
                <a:cubicBezTo>
                  <a:pt x="14943" y="12754"/>
                  <a:pt x="14958" y="12808"/>
                  <a:pt x="14957" y="12867"/>
                </a:cubicBezTo>
                <a:cubicBezTo>
                  <a:pt x="14956" y="12895"/>
                  <a:pt x="14947" y="12946"/>
                  <a:pt x="14913" y="12954"/>
                </a:cubicBezTo>
                <a:cubicBezTo>
                  <a:pt x="14883" y="12961"/>
                  <a:pt x="14866" y="12917"/>
                  <a:pt x="14859" y="12897"/>
                </a:cubicBezTo>
                <a:cubicBezTo>
                  <a:pt x="14848" y="12866"/>
                  <a:pt x="14850" y="12842"/>
                  <a:pt x="14862" y="1281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6546960" y="4336920"/>
            <a:ext cx="1163520" cy="169920"/>
          </a:xfrm>
          <a:custGeom>
            <a:avLst/>
            <a:gdLst/>
            <a:ahLst/>
            <a:rect l="l" t="t" r="r" b="b"/>
            <a:pathLst>
              <a:path w="3233" h="469">
                <a:moveTo>
                  <a:pt x="18351" y="12081"/>
                </a:moveTo>
                <a:cubicBezTo>
                  <a:pt x="18345" y="12066"/>
                  <a:pt x="18330" y="12042"/>
                  <a:pt x="18308" y="12048"/>
                </a:cubicBezTo>
                <a:cubicBezTo>
                  <a:pt x="18286" y="12055"/>
                  <a:pt x="18259" y="12096"/>
                  <a:pt x="18248" y="12115"/>
                </a:cubicBezTo>
                <a:cubicBezTo>
                  <a:pt x="18219" y="12167"/>
                  <a:pt x="18196" y="12229"/>
                  <a:pt x="18188" y="12288"/>
                </a:cubicBezTo>
                <a:cubicBezTo>
                  <a:pt x="18181" y="12337"/>
                  <a:pt x="18179" y="12409"/>
                  <a:pt x="18228" y="12438"/>
                </a:cubicBezTo>
                <a:cubicBezTo>
                  <a:pt x="18274" y="12465"/>
                  <a:pt x="18335" y="12427"/>
                  <a:pt x="18369" y="12399"/>
                </a:cubicBezTo>
                <a:cubicBezTo>
                  <a:pt x="18415" y="12361"/>
                  <a:pt x="18448" y="12308"/>
                  <a:pt x="18456" y="12248"/>
                </a:cubicBezTo>
                <a:cubicBezTo>
                  <a:pt x="18462" y="12198"/>
                  <a:pt x="18443" y="12160"/>
                  <a:pt x="18409" y="12126"/>
                </a:cubicBezTo>
                <a:cubicBezTo>
                  <a:pt x="18386" y="12102"/>
                  <a:pt x="18350" y="12080"/>
                  <a:pt x="18318" y="12071"/>
                </a:cubicBezTo>
                <a:cubicBezTo>
                  <a:pt x="18306" y="12069"/>
                  <a:pt x="18303" y="12068"/>
                  <a:pt x="18295" y="12070"/>
                </a:cubicBezTo>
              </a:path>
              <a:path w="3233" h="469">
                <a:moveTo>
                  <a:pt x="18877" y="12083"/>
                </a:moveTo>
                <a:cubicBezTo>
                  <a:pt x="18854" y="12083"/>
                  <a:pt x="18831" y="12109"/>
                  <a:pt x="18815" y="12129"/>
                </a:cubicBezTo>
                <a:cubicBezTo>
                  <a:pt x="18780" y="12173"/>
                  <a:pt x="18743" y="12214"/>
                  <a:pt x="18706" y="12256"/>
                </a:cubicBezTo>
                <a:cubicBezTo>
                  <a:pt x="18688" y="12277"/>
                  <a:pt x="18671" y="12298"/>
                  <a:pt x="18656" y="12321"/>
                </a:cubicBezTo>
                <a:cubicBezTo>
                  <a:pt x="18691" y="12337"/>
                  <a:pt x="18723" y="12326"/>
                  <a:pt x="18764" y="12326"/>
                </a:cubicBezTo>
                <a:cubicBezTo>
                  <a:pt x="18806" y="12326"/>
                  <a:pt x="18864" y="12326"/>
                  <a:pt x="18902" y="12346"/>
                </a:cubicBezTo>
                <a:cubicBezTo>
                  <a:pt x="18926" y="12359"/>
                  <a:pt x="18928" y="12367"/>
                  <a:pt x="18932" y="12390"/>
                </a:cubicBezTo>
              </a:path>
              <a:path w="3233" h="469">
                <a:moveTo>
                  <a:pt x="18681" y="12514"/>
                </a:moveTo>
                <a:cubicBezTo>
                  <a:pt x="18719" y="12516"/>
                  <a:pt x="18753" y="12507"/>
                  <a:pt x="18791" y="12500"/>
                </a:cubicBezTo>
                <a:cubicBezTo>
                  <a:pt x="18850" y="12489"/>
                  <a:pt x="18910" y="12479"/>
                  <a:pt x="18969" y="12471"/>
                </a:cubicBezTo>
                <a:cubicBezTo>
                  <a:pt x="18983" y="12469"/>
                  <a:pt x="18998" y="12468"/>
                  <a:pt x="19012" y="12466"/>
                </a:cubicBezTo>
              </a:path>
              <a:path w="3233" h="469">
                <a:moveTo>
                  <a:pt x="19316" y="12242"/>
                </a:moveTo>
                <a:cubicBezTo>
                  <a:pt x="19318" y="12224"/>
                  <a:pt x="19319" y="12219"/>
                  <a:pt x="19313" y="12208"/>
                </a:cubicBezTo>
                <a:cubicBezTo>
                  <a:pt x="19279" y="12205"/>
                  <a:pt x="19251" y="12231"/>
                  <a:pt x="19225" y="12255"/>
                </a:cubicBezTo>
                <a:cubicBezTo>
                  <a:pt x="19183" y="12293"/>
                  <a:pt x="19141" y="12339"/>
                  <a:pt x="19120" y="12393"/>
                </a:cubicBezTo>
                <a:cubicBezTo>
                  <a:pt x="19115" y="12417"/>
                  <a:pt x="19112" y="12423"/>
                  <a:pt x="19120" y="12437"/>
                </a:cubicBezTo>
                <a:cubicBezTo>
                  <a:pt x="19162" y="12438"/>
                  <a:pt x="19191" y="12417"/>
                  <a:pt x="19222" y="12387"/>
                </a:cubicBezTo>
                <a:cubicBezTo>
                  <a:pt x="19286" y="12325"/>
                  <a:pt x="19335" y="12247"/>
                  <a:pt x="19372" y="12167"/>
                </a:cubicBezTo>
                <a:cubicBezTo>
                  <a:pt x="19388" y="12134"/>
                  <a:pt x="19396" y="12103"/>
                  <a:pt x="19403" y="12068"/>
                </a:cubicBezTo>
                <a:cubicBezTo>
                  <a:pt x="19379" y="12091"/>
                  <a:pt x="19363" y="12107"/>
                  <a:pt x="19353" y="12143"/>
                </a:cubicBezTo>
                <a:cubicBezTo>
                  <a:pt x="19336" y="12202"/>
                  <a:pt x="19341" y="12265"/>
                  <a:pt x="19357" y="12323"/>
                </a:cubicBezTo>
                <a:cubicBezTo>
                  <a:pt x="19371" y="12375"/>
                  <a:pt x="19401" y="12414"/>
                  <a:pt x="19447" y="12441"/>
                </a:cubicBezTo>
                <a:cubicBezTo>
                  <a:pt x="19457" y="12445"/>
                  <a:pt x="19466" y="12450"/>
                  <a:pt x="19476" y="12454"/>
                </a:cubicBezTo>
              </a:path>
              <a:path w="3233" h="469">
                <a:moveTo>
                  <a:pt x="19600" y="12354"/>
                </a:moveTo>
                <a:cubicBezTo>
                  <a:pt x="19588" y="12378"/>
                  <a:pt x="19586" y="12402"/>
                  <a:pt x="19588" y="12429"/>
                </a:cubicBezTo>
                <a:cubicBezTo>
                  <a:pt x="19590" y="12452"/>
                  <a:pt x="19600" y="12493"/>
                  <a:pt x="19619" y="12508"/>
                </a:cubicBezTo>
                <a:cubicBezTo>
                  <a:pt x="19635" y="12521"/>
                  <a:pt x="19641" y="12517"/>
                  <a:pt x="19656" y="12510"/>
                </a:cubicBezTo>
              </a:path>
              <a:path w="3233" h="469">
                <a:moveTo>
                  <a:pt x="19597" y="12255"/>
                </a:moveTo>
                <a:cubicBezTo>
                  <a:pt x="19591" y="12215"/>
                  <a:pt x="19587" y="12204"/>
                  <a:pt x="19606" y="12172"/>
                </a:cubicBezTo>
                <a:cubicBezTo>
                  <a:pt x="19618" y="12152"/>
                  <a:pt x="19629" y="12152"/>
                  <a:pt x="19652" y="12143"/>
                </a:cubicBezTo>
              </a:path>
              <a:path w="3233" h="469">
                <a:moveTo>
                  <a:pt x="20079" y="12125"/>
                </a:moveTo>
                <a:cubicBezTo>
                  <a:pt x="20072" y="12098"/>
                  <a:pt x="20068" y="12093"/>
                  <a:pt x="20040" y="12094"/>
                </a:cubicBezTo>
                <a:cubicBezTo>
                  <a:pt x="20001" y="12095"/>
                  <a:pt x="19972" y="12109"/>
                  <a:pt x="19945" y="12137"/>
                </a:cubicBezTo>
                <a:cubicBezTo>
                  <a:pt x="19920" y="12163"/>
                  <a:pt x="19920" y="12186"/>
                  <a:pt x="19952" y="12206"/>
                </a:cubicBezTo>
                <a:cubicBezTo>
                  <a:pt x="19996" y="12233"/>
                  <a:pt x="20050" y="12239"/>
                  <a:pt x="20097" y="12256"/>
                </a:cubicBezTo>
                <a:cubicBezTo>
                  <a:pt x="20125" y="12266"/>
                  <a:pt x="20185" y="12281"/>
                  <a:pt x="20207" y="12304"/>
                </a:cubicBezTo>
                <a:cubicBezTo>
                  <a:pt x="20208" y="12307"/>
                  <a:pt x="20209" y="12310"/>
                  <a:pt x="20210" y="12313"/>
                </a:cubicBezTo>
              </a:path>
              <a:path w="3233" h="469">
                <a:moveTo>
                  <a:pt x="19939" y="12382"/>
                </a:moveTo>
                <a:cubicBezTo>
                  <a:pt x="19933" y="12384"/>
                  <a:pt x="19926" y="12385"/>
                  <a:pt x="19920" y="12387"/>
                </a:cubicBezTo>
                <a:cubicBezTo>
                  <a:pt x="19961" y="12376"/>
                  <a:pt x="20005" y="12372"/>
                  <a:pt x="20048" y="12368"/>
                </a:cubicBezTo>
                <a:cubicBezTo>
                  <a:pt x="20109" y="12362"/>
                  <a:pt x="20166" y="12363"/>
                  <a:pt x="20227" y="12366"/>
                </a:cubicBezTo>
                <a:cubicBezTo>
                  <a:pt x="20257" y="12367"/>
                  <a:pt x="20287" y="12368"/>
                  <a:pt x="20317" y="12369"/>
                </a:cubicBezTo>
              </a:path>
              <a:path w="3233" h="469">
                <a:moveTo>
                  <a:pt x="20410" y="12218"/>
                </a:moveTo>
                <a:cubicBezTo>
                  <a:pt x="20423" y="12238"/>
                  <a:pt x="20421" y="12275"/>
                  <a:pt x="20419" y="12303"/>
                </a:cubicBezTo>
                <a:cubicBezTo>
                  <a:pt x="20417" y="12337"/>
                  <a:pt x="20412" y="12372"/>
                  <a:pt x="20419" y="12406"/>
                </a:cubicBezTo>
                <a:cubicBezTo>
                  <a:pt x="20421" y="12411"/>
                  <a:pt x="20422" y="12415"/>
                  <a:pt x="20424" y="12420"/>
                </a:cubicBezTo>
                <a:cubicBezTo>
                  <a:pt x="20455" y="12404"/>
                  <a:pt x="20465" y="12380"/>
                  <a:pt x="20483" y="12349"/>
                </a:cubicBezTo>
                <a:cubicBezTo>
                  <a:pt x="20505" y="12312"/>
                  <a:pt x="20525" y="12271"/>
                  <a:pt x="20553" y="12239"/>
                </a:cubicBezTo>
                <a:cubicBezTo>
                  <a:pt x="20571" y="12219"/>
                  <a:pt x="20592" y="12208"/>
                  <a:pt x="20610" y="12233"/>
                </a:cubicBezTo>
                <a:cubicBezTo>
                  <a:pt x="20632" y="12263"/>
                  <a:pt x="20639" y="12307"/>
                  <a:pt x="20654" y="12341"/>
                </a:cubicBezTo>
                <a:cubicBezTo>
                  <a:pt x="20670" y="12377"/>
                  <a:pt x="20691" y="12412"/>
                  <a:pt x="20724" y="12436"/>
                </a:cubicBezTo>
                <a:cubicBezTo>
                  <a:pt x="20742" y="12445"/>
                  <a:pt x="20747" y="12448"/>
                  <a:pt x="20759" y="12452"/>
                </a:cubicBezTo>
              </a:path>
              <a:path w="3233" h="469">
                <a:moveTo>
                  <a:pt x="20894" y="12258"/>
                </a:moveTo>
                <a:cubicBezTo>
                  <a:pt x="20919" y="12251"/>
                  <a:pt x="20941" y="12246"/>
                  <a:pt x="20966" y="12240"/>
                </a:cubicBezTo>
                <a:cubicBezTo>
                  <a:pt x="21004" y="12230"/>
                  <a:pt x="21046" y="12225"/>
                  <a:pt x="21086" y="12224"/>
                </a:cubicBezTo>
                <a:cubicBezTo>
                  <a:pt x="21148" y="12223"/>
                  <a:pt x="21198" y="12216"/>
                  <a:pt x="21258" y="12197"/>
                </a:cubicBezTo>
              </a:path>
              <a:path w="3233" h="469">
                <a:moveTo>
                  <a:pt x="21349" y="12108"/>
                </a:moveTo>
                <a:cubicBezTo>
                  <a:pt x="21337" y="12129"/>
                  <a:pt x="21329" y="12160"/>
                  <a:pt x="21325" y="12183"/>
                </a:cubicBezTo>
                <a:cubicBezTo>
                  <a:pt x="21317" y="12232"/>
                  <a:pt x="21317" y="12287"/>
                  <a:pt x="21326" y="12335"/>
                </a:cubicBezTo>
                <a:cubicBezTo>
                  <a:pt x="21334" y="12379"/>
                  <a:pt x="21364" y="12425"/>
                  <a:pt x="21396" y="12456"/>
                </a:cubicBezTo>
                <a:cubicBezTo>
                  <a:pt x="21403" y="12461"/>
                  <a:pt x="21410" y="12466"/>
                  <a:pt x="21417" y="1247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6554880" y="4638600"/>
            <a:ext cx="250560" cy="214560"/>
          </a:xfrm>
          <a:custGeom>
            <a:avLst/>
            <a:gdLst/>
            <a:ahLst/>
            <a:rect l="l" t="t" r="r" b="b"/>
            <a:pathLst>
              <a:path w="696" h="596">
                <a:moveTo>
                  <a:pt x="18468" y="13003"/>
                </a:moveTo>
                <a:cubicBezTo>
                  <a:pt x="18474" y="12977"/>
                  <a:pt x="18474" y="12975"/>
                  <a:pt x="18467" y="12950"/>
                </a:cubicBezTo>
                <a:cubicBezTo>
                  <a:pt x="18437" y="12946"/>
                  <a:pt x="18428" y="12952"/>
                  <a:pt x="18399" y="12972"/>
                </a:cubicBezTo>
                <a:cubicBezTo>
                  <a:pt x="18350" y="13006"/>
                  <a:pt x="18311" y="13055"/>
                  <a:pt x="18276" y="13103"/>
                </a:cubicBezTo>
                <a:cubicBezTo>
                  <a:pt x="18240" y="13153"/>
                  <a:pt x="18204" y="13221"/>
                  <a:pt x="18209" y="13286"/>
                </a:cubicBezTo>
                <a:cubicBezTo>
                  <a:pt x="18214" y="13353"/>
                  <a:pt x="18275" y="13377"/>
                  <a:pt x="18334" y="13376"/>
                </a:cubicBezTo>
                <a:cubicBezTo>
                  <a:pt x="18414" y="13375"/>
                  <a:pt x="18502" y="13335"/>
                  <a:pt x="18564" y="13285"/>
                </a:cubicBezTo>
                <a:cubicBezTo>
                  <a:pt x="18621" y="13239"/>
                  <a:pt x="18666" y="13168"/>
                  <a:pt x="18662" y="13092"/>
                </a:cubicBezTo>
                <a:cubicBezTo>
                  <a:pt x="18657" y="13004"/>
                  <a:pt x="18577" y="12924"/>
                  <a:pt x="18498" y="12894"/>
                </a:cubicBezTo>
                <a:cubicBezTo>
                  <a:pt x="18477" y="12886"/>
                  <a:pt x="18429" y="12873"/>
                  <a:pt x="18420" y="12903"/>
                </a:cubicBezTo>
                <a:cubicBezTo>
                  <a:pt x="18419" y="12924"/>
                  <a:pt x="18419" y="12933"/>
                  <a:pt x="18426" y="12947"/>
                </a:cubicBezTo>
              </a:path>
              <a:path w="696" h="596">
                <a:moveTo>
                  <a:pt x="18891" y="13236"/>
                </a:moveTo>
                <a:cubicBezTo>
                  <a:pt x="18911" y="13229"/>
                  <a:pt x="18904" y="13256"/>
                  <a:pt x="18895" y="13279"/>
                </a:cubicBezTo>
                <a:cubicBezTo>
                  <a:pt x="18877" y="13324"/>
                  <a:pt x="18854" y="13368"/>
                  <a:pt x="18831" y="13412"/>
                </a:cubicBezTo>
                <a:cubicBezTo>
                  <a:pt x="18817" y="13438"/>
                  <a:pt x="18803" y="13457"/>
                  <a:pt x="18786" y="1348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6892920" y="4656240"/>
            <a:ext cx="103320" cy="182520"/>
          </a:xfrm>
          <a:custGeom>
            <a:avLst/>
            <a:gdLst/>
            <a:ahLst/>
            <a:rect l="l" t="t" r="r" b="b"/>
            <a:pathLst>
              <a:path w="289" h="506">
                <a:moveTo>
                  <a:pt x="19146" y="12953"/>
                </a:moveTo>
                <a:cubicBezTo>
                  <a:pt x="19152" y="12938"/>
                  <a:pt x="19154" y="12933"/>
                  <a:pt x="19167" y="12934"/>
                </a:cubicBezTo>
                <a:cubicBezTo>
                  <a:pt x="19182" y="12974"/>
                  <a:pt x="19186" y="13014"/>
                  <a:pt x="19194" y="13057"/>
                </a:cubicBezTo>
                <a:cubicBezTo>
                  <a:pt x="19205" y="13119"/>
                  <a:pt x="19215" y="13177"/>
                  <a:pt x="19238" y="13236"/>
                </a:cubicBezTo>
                <a:cubicBezTo>
                  <a:pt x="19250" y="13265"/>
                  <a:pt x="19260" y="13289"/>
                  <a:pt x="19283" y="13310"/>
                </a:cubicBezTo>
              </a:path>
              <a:path w="289" h="506">
                <a:moveTo>
                  <a:pt x="19413" y="13144"/>
                </a:moveTo>
                <a:cubicBezTo>
                  <a:pt x="19435" y="13161"/>
                  <a:pt x="19435" y="13188"/>
                  <a:pt x="19434" y="13219"/>
                </a:cubicBezTo>
                <a:cubicBezTo>
                  <a:pt x="19433" y="13269"/>
                  <a:pt x="19417" y="13316"/>
                  <a:pt x="19411" y="13365"/>
                </a:cubicBezTo>
                <a:cubicBezTo>
                  <a:pt x="19407" y="13395"/>
                  <a:pt x="19406" y="13412"/>
                  <a:pt x="19395" y="1343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7183440" y="4749840"/>
            <a:ext cx="331920" cy="88920"/>
          </a:xfrm>
          <a:custGeom>
            <a:avLst/>
            <a:gdLst/>
            <a:ahLst/>
            <a:rect l="l" t="t" r="r" b="b"/>
            <a:pathLst>
              <a:path w="920" h="249">
                <a:moveTo>
                  <a:pt x="19954" y="13245"/>
                </a:moveTo>
                <a:cubicBezTo>
                  <a:pt x="19975" y="13241"/>
                  <a:pt x="19993" y="13238"/>
                  <a:pt x="20015" y="13237"/>
                </a:cubicBezTo>
                <a:cubicBezTo>
                  <a:pt x="20049" y="13235"/>
                  <a:pt x="20083" y="13228"/>
                  <a:pt x="20116" y="13221"/>
                </a:cubicBezTo>
              </a:path>
              <a:path w="920" h="249">
                <a:moveTo>
                  <a:pt x="20285" y="13226"/>
                </a:moveTo>
                <a:cubicBezTo>
                  <a:pt x="20305" y="13210"/>
                  <a:pt x="20317" y="13208"/>
                  <a:pt x="20342" y="13202"/>
                </a:cubicBezTo>
                <a:cubicBezTo>
                  <a:pt x="20365" y="13197"/>
                  <a:pt x="20388" y="13196"/>
                  <a:pt x="20412" y="13194"/>
                </a:cubicBezTo>
              </a:path>
              <a:path w="920" h="249">
                <a:moveTo>
                  <a:pt x="20552" y="13235"/>
                </a:moveTo>
                <a:cubicBezTo>
                  <a:pt x="20581" y="13214"/>
                  <a:pt x="20598" y="13207"/>
                  <a:pt x="20633" y="13208"/>
                </a:cubicBezTo>
                <a:cubicBezTo>
                  <a:pt x="20658" y="13209"/>
                  <a:pt x="20668" y="13210"/>
                  <a:pt x="20684" y="13217"/>
                </a:cubicBezTo>
              </a:path>
              <a:path w="920" h="249">
                <a:moveTo>
                  <a:pt x="20870" y="13270"/>
                </a:moveTo>
                <a:cubicBezTo>
                  <a:pt x="20870" y="13293"/>
                  <a:pt x="20861" y="13316"/>
                  <a:pt x="20848" y="13339"/>
                </a:cubicBezTo>
                <a:cubicBezTo>
                  <a:pt x="20833" y="13367"/>
                  <a:pt x="20821" y="13394"/>
                  <a:pt x="20808" y="13423"/>
                </a:cubicBezTo>
                <a:cubicBezTo>
                  <a:pt x="20805" y="13429"/>
                  <a:pt x="20802" y="13436"/>
                  <a:pt x="20799" y="1344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7613640" y="4633920"/>
            <a:ext cx="279360" cy="150840"/>
          </a:xfrm>
          <a:custGeom>
            <a:avLst/>
            <a:gdLst/>
            <a:ahLst/>
            <a:rect l="l" t="t" r="r" b="b"/>
            <a:pathLst>
              <a:path w="777" h="420">
                <a:moveTo>
                  <a:pt x="21201" y="12959"/>
                </a:moveTo>
                <a:cubicBezTo>
                  <a:pt x="21175" y="12975"/>
                  <a:pt x="21180" y="12998"/>
                  <a:pt x="21171" y="13033"/>
                </a:cubicBezTo>
                <a:cubicBezTo>
                  <a:pt x="21162" y="13070"/>
                  <a:pt x="21156" y="13107"/>
                  <a:pt x="21150" y="13145"/>
                </a:cubicBezTo>
                <a:cubicBezTo>
                  <a:pt x="21149" y="13150"/>
                  <a:pt x="21149" y="13155"/>
                  <a:pt x="21148" y="13160"/>
                </a:cubicBezTo>
                <a:cubicBezTo>
                  <a:pt x="21166" y="13131"/>
                  <a:pt x="21179" y="13101"/>
                  <a:pt x="21195" y="13071"/>
                </a:cubicBezTo>
                <a:cubicBezTo>
                  <a:pt x="21216" y="13031"/>
                  <a:pt x="21238" y="12986"/>
                  <a:pt x="21271" y="12954"/>
                </a:cubicBezTo>
                <a:cubicBezTo>
                  <a:pt x="21297" y="12929"/>
                  <a:pt x="21320" y="12933"/>
                  <a:pt x="21344" y="12958"/>
                </a:cubicBezTo>
                <a:cubicBezTo>
                  <a:pt x="21389" y="13006"/>
                  <a:pt x="21403" y="13076"/>
                  <a:pt x="21453" y="13120"/>
                </a:cubicBezTo>
                <a:cubicBezTo>
                  <a:pt x="21474" y="13138"/>
                  <a:pt x="21488" y="13139"/>
                  <a:pt x="21514" y="13143"/>
                </a:cubicBezTo>
              </a:path>
              <a:path w="777" h="420">
                <a:moveTo>
                  <a:pt x="21600" y="13105"/>
                </a:moveTo>
                <a:cubicBezTo>
                  <a:pt x="21585" y="13073"/>
                  <a:pt x="21595" y="13070"/>
                  <a:pt x="21631" y="13061"/>
                </a:cubicBezTo>
                <a:cubicBezTo>
                  <a:pt x="21664" y="13053"/>
                  <a:pt x="21703" y="13059"/>
                  <a:pt x="21736" y="13061"/>
                </a:cubicBezTo>
                <a:cubicBezTo>
                  <a:pt x="21761" y="13063"/>
                  <a:pt x="21769" y="13064"/>
                  <a:pt x="21785" y="13061"/>
                </a:cubicBezTo>
              </a:path>
              <a:path w="777" h="420">
                <a:moveTo>
                  <a:pt x="21898" y="12873"/>
                </a:moveTo>
                <a:cubicBezTo>
                  <a:pt x="21913" y="12878"/>
                  <a:pt x="21912" y="12923"/>
                  <a:pt x="21913" y="12944"/>
                </a:cubicBezTo>
                <a:cubicBezTo>
                  <a:pt x="21915" y="13012"/>
                  <a:pt x="21917" y="13078"/>
                  <a:pt x="21914" y="13146"/>
                </a:cubicBezTo>
                <a:cubicBezTo>
                  <a:pt x="21912" y="13196"/>
                  <a:pt x="21916" y="13241"/>
                  <a:pt x="21924" y="1329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5961240" y="4776840"/>
            <a:ext cx="1190520" cy="264960"/>
          </a:xfrm>
          <a:custGeom>
            <a:avLst/>
            <a:gdLst/>
            <a:ahLst/>
            <a:rect l="l" t="t" r="r" b="b"/>
            <a:pathLst>
              <a:path w="3305" h="735">
                <a:moveTo>
                  <a:pt x="16636" y="13989"/>
                </a:moveTo>
                <a:cubicBezTo>
                  <a:pt x="16617" y="13998"/>
                  <a:pt x="16590" y="14013"/>
                  <a:pt x="16569" y="14001"/>
                </a:cubicBezTo>
                <a:cubicBezTo>
                  <a:pt x="16548" y="13989"/>
                  <a:pt x="16565" y="13963"/>
                  <a:pt x="16570" y="13948"/>
                </a:cubicBezTo>
              </a:path>
              <a:path w="3305" h="735">
                <a:moveTo>
                  <a:pt x="19826" y="13269"/>
                </a:moveTo>
                <a:cubicBezTo>
                  <a:pt x="19805" y="13286"/>
                  <a:pt x="19819" y="13298"/>
                  <a:pt x="19844" y="13295"/>
                </a:cubicBezTo>
                <a:cubicBezTo>
                  <a:pt x="19850" y="13293"/>
                  <a:pt x="19857" y="13292"/>
                  <a:pt x="19863" y="1329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2406600" y="5030640"/>
            <a:ext cx="152280" cy="258840"/>
          </a:xfrm>
          <a:custGeom>
            <a:avLst/>
            <a:gdLst/>
            <a:ahLst/>
            <a:rect l="l" t="t" r="r" b="b"/>
            <a:pathLst>
              <a:path w="424" h="717">
                <a:moveTo>
                  <a:pt x="6713" y="13991"/>
                </a:moveTo>
                <a:cubicBezTo>
                  <a:pt x="6702" y="13996"/>
                  <a:pt x="6694" y="14000"/>
                  <a:pt x="6683" y="14006"/>
                </a:cubicBezTo>
                <a:cubicBezTo>
                  <a:pt x="6705" y="13993"/>
                  <a:pt x="6723" y="13984"/>
                  <a:pt x="6751" y="13979"/>
                </a:cubicBezTo>
                <a:cubicBezTo>
                  <a:pt x="6826" y="13966"/>
                  <a:pt x="6919" y="13976"/>
                  <a:pt x="6967" y="14042"/>
                </a:cubicBezTo>
                <a:cubicBezTo>
                  <a:pt x="7035" y="14135"/>
                  <a:pt x="7015" y="14268"/>
                  <a:pt x="7019" y="14375"/>
                </a:cubicBezTo>
                <a:cubicBezTo>
                  <a:pt x="7021" y="14435"/>
                  <a:pt x="7037" y="14462"/>
                  <a:pt x="7066" y="14510"/>
                </a:cubicBezTo>
                <a:cubicBezTo>
                  <a:pt x="7085" y="14542"/>
                  <a:pt x="7109" y="14579"/>
                  <a:pt x="7103" y="14616"/>
                </a:cubicBezTo>
                <a:cubicBezTo>
                  <a:pt x="7098" y="14646"/>
                  <a:pt x="7054" y="14659"/>
                  <a:pt x="7032" y="14665"/>
                </a:cubicBezTo>
                <a:cubicBezTo>
                  <a:pt x="6977" y="14681"/>
                  <a:pt x="6917" y="14689"/>
                  <a:pt x="6860" y="14690"/>
                </a:cubicBezTo>
                <a:cubicBezTo>
                  <a:pt x="6826" y="14691"/>
                  <a:pt x="6753" y="14694"/>
                  <a:pt x="6743" y="14648"/>
                </a:cubicBezTo>
                <a:cubicBezTo>
                  <a:pt x="6732" y="14596"/>
                  <a:pt x="6795" y="14541"/>
                  <a:pt x="6824" y="14507"/>
                </a:cubicBezTo>
              </a:path>
              <a:path w="424" h="717">
                <a:moveTo>
                  <a:pt x="7092" y="14352"/>
                </a:moveTo>
                <a:cubicBezTo>
                  <a:pt x="7058" y="14353"/>
                  <a:pt x="7028" y="14356"/>
                  <a:pt x="6995" y="14360"/>
                </a:cubicBezTo>
                <a:cubicBezTo>
                  <a:pt x="6943" y="14366"/>
                  <a:pt x="6890" y="14371"/>
                  <a:pt x="6838" y="14383"/>
                </a:cubicBezTo>
                <a:cubicBezTo>
                  <a:pt x="6817" y="14388"/>
                  <a:pt x="6770" y="14404"/>
                  <a:pt x="6763" y="14368"/>
                </a:cubicBezTo>
                <a:cubicBezTo>
                  <a:pt x="6764" y="14361"/>
                  <a:pt x="6764" y="14354"/>
                  <a:pt x="6765" y="1434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2681280" y="4989600"/>
            <a:ext cx="461880" cy="242640"/>
          </a:xfrm>
          <a:custGeom>
            <a:avLst/>
            <a:gdLst/>
            <a:ahLst/>
            <a:rect l="l" t="t" r="r" b="b"/>
            <a:pathLst>
              <a:path w="1285" h="676">
                <a:moveTo>
                  <a:pt x="7466" y="14011"/>
                </a:moveTo>
                <a:cubicBezTo>
                  <a:pt x="7436" y="14004"/>
                  <a:pt x="7446" y="14024"/>
                  <a:pt x="7456" y="14074"/>
                </a:cubicBezTo>
                <a:cubicBezTo>
                  <a:pt x="7486" y="14222"/>
                  <a:pt x="7521" y="14389"/>
                  <a:pt x="7582" y="14527"/>
                </a:cubicBezTo>
                <a:cubicBezTo>
                  <a:pt x="7601" y="14480"/>
                  <a:pt x="7605" y="14430"/>
                  <a:pt x="7616" y="14380"/>
                </a:cubicBezTo>
                <a:cubicBezTo>
                  <a:pt x="7627" y="14331"/>
                  <a:pt x="7639" y="14250"/>
                  <a:pt x="7684" y="14219"/>
                </a:cubicBezTo>
                <a:cubicBezTo>
                  <a:pt x="7729" y="14188"/>
                  <a:pt x="7765" y="14280"/>
                  <a:pt x="7778" y="14304"/>
                </a:cubicBezTo>
                <a:cubicBezTo>
                  <a:pt x="7814" y="14370"/>
                  <a:pt x="7842" y="14441"/>
                  <a:pt x="7887" y="14501"/>
                </a:cubicBezTo>
                <a:cubicBezTo>
                  <a:pt x="7913" y="14535"/>
                  <a:pt x="7922" y="14533"/>
                  <a:pt x="7958" y="14528"/>
                </a:cubicBezTo>
              </a:path>
              <a:path w="1285" h="676">
                <a:moveTo>
                  <a:pt x="8009" y="14320"/>
                </a:moveTo>
                <a:cubicBezTo>
                  <a:pt x="7999" y="14284"/>
                  <a:pt x="8002" y="14265"/>
                  <a:pt x="7965" y="14260"/>
                </a:cubicBezTo>
                <a:cubicBezTo>
                  <a:pt x="7945" y="14299"/>
                  <a:pt x="7926" y="14333"/>
                  <a:pt x="7919" y="14378"/>
                </a:cubicBezTo>
                <a:cubicBezTo>
                  <a:pt x="7915" y="14406"/>
                  <a:pt x="7906" y="14472"/>
                  <a:pt x="7939" y="14489"/>
                </a:cubicBezTo>
                <a:cubicBezTo>
                  <a:pt x="7973" y="14506"/>
                  <a:pt x="8012" y="14445"/>
                  <a:pt x="8025" y="14425"/>
                </a:cubicBezTo>
                <a:cubicBezTo>
                  <a:pt x="8055" y="14381"/>
                  <a:pt x="8081" y="14323"/>
                  <a:pt x="8089" y="14270"/>
                </a:cubicBezTo>
                <a:cubicBezTo>
                  <a:pt x="8098" y="14212"/>
                  <a:pt x="8092" y="14152"/>
                  <a:pt x="8086" y="14094"/>
                </a:cubicBezTo>
              </a:path>
              <a:path w="1285" h="676">
                <a:moveTo>
                  <a:pt x="8154" y="13860"/>
                </a:moveTo>
                <a:cubicBezTo>
                  <a:pt x="8147" y="13951"/>
                  <a:pt x="8144" y="14039"/>
                  <a:pt x="8155" y="14129"/>
                </a:cubicBezTo>
                <a:cubicBezTo>
                  <a:pt x="8165" y="14213"/>
                  <a:pt x="8176" y="14297"/>
                  <a:pt x="8213" y="14375"/>
                </a:cubicBezTo>
                <a:cubicBezTo>
                  <a:pt x="8228" y="14406"/>
                  <a:pt x="8236" y="14414"/>
                  <a:pt x="8265" y="14419"/>
                </a:cubicBezTo>
              </a:path>
              <a:path w="1285" h="676">
                <a:moveTo>
                  <a:pt x="8378" y="14270"/>
                </a:moveTo>
                <a:cubicBezTo>
                  <a:pt x="8424" y="14255"/>
                  <a:pt x="8438" y="14236"/>
                  <a:pt x="8473" y="14204"/>
                </a:cubicBezTo>
                <a:cubicBezTo>
                  <a:pt x="8511" y="14169"/>
                  <a:pt x="8546" y="14129"/>
                  <a:pt x="8562" y="14078"/>
                </a:cubicBezTo>
                <a:cubicBezTo>
                  <a:pt x="8564" y="14059"/>
                  <a:pt x="8567" y="14055"/>
                  <a:pt x="8561" y="14045"/>
                </a:cubicBezTo>
                <a:cubicBezTo>
                  <a:pt x="8526" y="14062"/>
                  <a:pt x="8504" y="14092"/>
                  <a:pt x="8487" y="14128"/>
                </a:cubicBezTo>
                <a:cubicBezTo>
                  <a:pt x="8466" y="14172"/>
                  <a:pt x="8450" y="14232"/>
                  <a:pt x="8471" y="14279"/>
                </a:cubicBezTo>
                <a:cubicBezTo>
                  <a:pt x="8495" y="14335"/>
                  <a:pt x="8569" y="14339"/>
                  <a:pt x="8620" y="14338"/>
                </a:cubicBezTo>
                <a:cubicBezTo>
                  <a:pt x="8675" y="14334"/>
                  <a:pt x="8694" y="14332"/>
                  <a:pt x="8730" y="1432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3355920" y="4905360"/>
            <a:ext cx="496800" cy="276120"/>
          </a:xfrm>
          <a:custGeom>
            <a:avLst/>
            <a:gdLst/>
            <a:ahLst/>
            <a:rect l="l" t="t" r="r" b="b"/>
            <a:pathLst>
              <a:path w="1381" h="771">
                <a:moveTo>
                  <a:pt x="9461" y="13744"/>
                </a:moveTo>
                <a:cubicBezTo>
                  <a:pt x="9419" y="13741"/>
                  <a:pt x="9382" y="13769"/>
                  <a:pt x="9368" y="13815"/>
                </a:cubicBezTo>
                <a:cubicBezTo>
                  <a:pt x="9339" y="13908"/>
                  <a:pt x="9351" y="14021"/>
                  <a:pt x="9366" y="14115"/>
                </a:cubicBezTo>
                <a:cubicBezTo>
                  <a:pt x="9379" y="14200"/>
                  <a:pt x="9405" y="14288"/>
                  <a:pt x="9447" y="14363"/>
                </a:cubicBezTo>
                <a:cubicBezTo>
                  <a:pt x="9461" y="14383"/>
                  <a:pt x="9461" y="14389"/>
                  <a:pt x="9475" y="14394"/>
                </a:cubicBezTo>
              </a:path>
              <a:path w="1381" h="771">
                <a:moveTo>
                  <a:pt x="9330" y="14115"/>
                </a:moveTo>
                <a:cubicBezTo>
                  <a:pt x="9335" y="14073"/>
                  <a:pt x="9311" y="14090"/>
                  <a:pt x="9362" y="14060"/>
                </a:cubicBezTo>
                <a:cubicBezTo>
                  <a:pt x="9427" y="14022"/>
                  <a:pt x="9500" y="13994"/>
                  <a:pt x="9568" y="13962"/>
                </a:cubicBezTo>
                <a:cubicBezTo>
                  <a:pt x="9637" y="13929"/>
                  <a:pt x="9701" y="13894"/>
                  <a:pt x="9759" y="13845"/>
                </a:cubicBezTo>
                <a:cubicBezTo>
                  <a:pt x="9766" y="13839"/>
                  <a:pt x="9773" y="13832"/>
                  <a:pt x="9780" y="13826"/>
                </a:cubicBezTo>
                <a:cubicBezTo>
                  <a:pt x="9765" y="13860"/>
                  <a:pt x="9758" y="13867"/>
                  <a:pt x="9752" y="13904"/>
                </a:cubicBezTo>
                <a:cubicBezTo>
                  <a:pt x="9740" y="13976"/>
                  <a:pt x="9741" y="14052"/>
                  <a:pt x="9750" y="14125"/>
                </a:cubicBezTo>
                <a:cubicBezTo>
                  <a:pt x="9758" y="14192"/>
                  <a:pt x="9774" y="14252"/>
                  <a:pt x="9802" y="14310"/>
                </a:cubicBezTo>
                <a:cubicBezTo>
                  <a:pt x="9827" y="14273"/>
                  <a:pt x="9831" y="14235"/>
                  <a:pt x="9843" y="14191"/>
                </a:cubicBezTo>
                <a:cubicBezTo>
                  <a:pt x="9852" y="14158"/>
                  <a:pt x="9860" y="14120"/>
                  <a:pt x="9898" y="14116"/>
                </a:cubicBezTo>
                <a:cubicBezTo>
                  <a:pt x="9925" y="14113"/>
                  <a:pt x="9976" y="14201"/>
                  <a:pt x="9990" y="14216"/>
                </a:cubicBezTo>
                <a:cubicBezTo>
                  <a:pt x="10030" y="14260"/>
                  <a:pt x="10066" y="14288"/>
                  <a:pt x="10121" y="14309"/>
                </a:cubicBezTo>
              </a:path>
              <a:path w="1381" h="771">
                <a:moveTo>
                  <a:pt x="10262" y="14127"/>
                </a:moveTo>
                <a:cubicBezTo>
                  <a:pt x="10251" y="14101"/>
                  <a:pt x="10245" y="14091"/>
                  <a:pt x="10218" y="14102"/>
                </a:cubicBezTo>
                <a:cubicBezTo>
                  <a:pt x="10180" y="14118"/>
                  <a:pt x="10160" y="14160"/>
                  <a:pt x="10147" y="14198"/>
                </a:cubicBezTo>
                <a:cubicBezTo>
                  <a:pt x="10134" y="14235"/>
                  <a:pt x="10135" y="14262"/>
                  <a:pt x="10154" y="14294"/>
                </a:cubicBezTo>
                <a:cubicBezTo>
                  <a:pt x="10190" y="14290"/>
                  <a:pt x="10210" y="14273"/>
                  <a:pt x="10235" y="14246"/>
                </a:cubicBezTo>
                <a:cubicBezTo>
                  <a:pt x="10258" y="14221"/>
                  <a:pt x="10276" y="14194"/>
                  <a:pt x="10300" y="14171"/>
                </a:cubicBezTo>
                <a:cubicBezTo>
                  <a:pt x="10327" y="14177"/>
                  <a:pt x="10327" y="14193"/>
                  <a:pt x="10339" y="14216"/>
                </a:cubicBezTo>
                <a:cubicBezTo>
                  <a:pt x="10349" y="14235"/>
                  <a:pt x="10362" y="14244"/>
                  <a:pt x="10379" y="14256"/>
                </a:cubicBezTo>
              </a:path>
              <a:path w="1381" h="771">
                <a:moveTo>
                  <a:pt x="10458" y="13624"/>
                </a:moveTo>
                <a:cubicBezTo>
                  <a:pt x="10465" y="13666"/>
                  <a:pt x="10467" y="13713"/>
                  <a:pt x="10467" y="13755"/>
                </a:cubicBezTo>
                <a:cubicBezTo>
                  <a:pt x="10468" y="13848"/>
                  <a:pt x="10471" y="13940"/>
                  <a:pt x="10473" y="14033"/>
                </a:cubicBezTo>
                <a:cubicBezTo>
                  <a:pt x="10475" y="14116"/>
                  <a:pt x="10482" y="14201"/>
                  <a:pt x="10480" y="14284"/>
                </a:cubicBezTo>
                <a:cubicBezTo>
                  <a:pt x="10477" y="14311"/>
                  <a:pt x="10477" y="14317"/>
                  <a:pt x="10473" y="14333"/>
                </a:cubicBezTo>
              </a:path>
              <a:path w="1381" h="771">
                <a:moveTo>
                  <a:pt x="10322" y="14063"/>
                </a:moveTo>
                <a:cubicBezTo>
                  <a:pt x="10327" y="14020"/>
                  <a:pt x="10339" y="14018"/>
                  <a:pt x="10380" y="14006"/>
                </a:cubicBezTo>
                <a:cubicBezTo>
                  <a:pt x="10441" y="13987"/>
                  <a:pt x="10503" y="13989"/>
                  <a:pt x="10566" y="13988"/>
                </a:cubicBezTo>
                <a:cubicBezTo>
                  <a:pt x="10611" y="13988"/>
                  <a:pt x="10656" y="13990"/>
                  <a:pt x="10701" y="1399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4086360" y="4881600"/>
            <a:ext cx="371520" cy="282600"/>
          </a:xfrm>
          <a:custGeom>
            <a:avLst/>
            <a:gdLst/>
            <a:ahLst/>
            <a:rect l="l" t="t" r="r" b="b"/>
            <a:pathLst>
              <a:path w="1031" h="781">
                <a:moveTo>
                  <a:pt x="11406" y="13575"/>
                </a:moveTo>
                <a:cubicBezTo>
                  <a:pt x="11375" y="13571"/>
                  <a:pt x="11364" y="13578"/>
                  <a:pt x="11358" y="13632"/>
                </a:cubicBezTo>
                <a:cubicBezTo>
                  <a:pt x="11346" y="13731"/>
                  <a:pt x="11354" y="13835"/>
                  <a:pt x="11365" y="13934"/>
                </a:cubicBezTo>
                <a:cubicBezTo>
                  <a:pt x="11372" y="13995"/>
                  <a:pt x="11372" y="14163"/>
                  <a:pt x="11427" y="14207"/>
                </a:cubicBezTo>
                <a:cubicBezTo>
                  <a:pt x="11432" y="14207"/>
                  <a:pt x="11438" y="14208"/>
                  <a:pt x="11443" y="14208"/>
                </a:cubicBezTo>
                <a:cubicBezTo>
                  <a:pt x="11487" y="14150"/>
                  <a:pt x="11509" y="14082"/>
                  <a:pt x="11542" y="14017"/>
                </a:cubicBezTo>
                <a:cubicBezTo>
                  <a:pt x="11555" y="13992"/>
                  <a:pt x="11593" y="13894"/>
                  <a:pt x="11640" y="13914"/>
                </a:cubicBezTo>
                <a:cubicBezTo>
                  <a:pt x="11693" y="13937"/>
                  <a:pt x="11700" y="14055"/>
                  <a:pt x="11711" y="14099"/>
                </a:cubicBezTo>
                <a:cubicBezTo>
                  <a:pt x="11728" y="14170"/>
                  <a:pt x="11735" y="14262"/>
                  <a:pt x="11778" y="14324"/>
                </a:cubicBezTo>
                <a:cubicBezTo>
                  <a:pt x="11797" y="14341"/>
                  <a:pt x="11802" y="14347"/>
                  <a:pt x="11821" y="14342"/>
                </a:cubicBezTo>
              </a:path>
              <a:path w="1031" h="781">
                <a:moveTo>
                  <a:pt x="11978" y="13945"/>
                </a:moveTo>
                <a:cubicBezTo>
                  <a:pt x="11947" y="13927"/>
                  <a:pt x="11915" y="13926"/>
                  <a:pt x="11883" y="13952"/>
                </a:cubicBezTo>
                <a:cubicBezTo>
                  <a:pt x="11841" y="13986"/>
                  <a:pt x="11806" y="14047"/>
                  <a:pt x="11788" y="14097"/>
                </a:cubicBezTo>
                <a:cubicBezTo>
                  <a:pt x="11777" y="14128"/>
                  <a:pt x="11776" y="14148"/>
                  <a:pt x="11783" y="14178"/>
                </a:cubicBezTo>
                <a:cubicBezTo>
                  <a:pt x="11825" y="14177"/>
                  <a:pt x="11851" y="14152"/>
                  <a:pt x="11882" y="14123"/>
                </a:cubicBezTo>
                <a:cubicBezTo>
                  <a:pt x="11916" y="14091"/>
                  <a:pt x="11949" y="14039"/>
                  <a:pt x="11993" y="14020"/>
                </a:cubicBezTo>
                <a:cubicBezTo>
                  <a:pt x="12032" y="14003"/>
                  <a:pt x="12049" y="14051"/>
                  <a:pt x="12060" y="14077"/>
                </a:cubicBezTo>
                <a:cubicBezTo>
                  <a:pt x="12077" y="14117"/>
                  <a:pt x="12087" y="14171"/>
                  <a:pt x="12113" y="14207"/>
                </a:cubicBezTo>
                <a:cubicBezTo>
                  <a:pt x="12138" y="14242"/>
                  <a:pt x="12156" y="14229"/>
                  <a:pt x="12183" y="14208"/>
                </a:cubicBezTo>
              </a:path>
              <a:path w="1031" h="781">
                <a:moveTo>
                  <a:pt x="12240" y="14003"/>
                </a:moveTo>
                <a:cubicBezTo>
                  <a:pt x="12228" y="13981"/>
                  <a:pt x="12216" y="13974"/>
                  <a:pt x="12190" y="13991"/>
                </a:cubicBezTo>
                <a:cubicBezTo>
                  <a:pt x="12175" y="14001"/>
                  <a:pt x="12159" y="14028"/>
                  <a:pt x="12157" y="14046"/>
                </a:cubicBezTo>
                <a:cubicBezTo>
                  <a:pt x="12154" y="14071"/>
                  <a:pt x="12168" y="14090"/>
                  <a:pt x="12185" y="14107"/>
                </a:cubicBezTo>
                <a:cubicBezTo>
                  <a:pt x="12210" y="14132"/>
                  <a:pt x="12237" y="14154"/>
                  <a:pt x="12262" y="14179"/>
                </a:cubicBezTo>
                <a:cubicBezTo>
                  <a:pt x="12287" y="14204"/>
                  <a:pt x="12311" y="14232"/>
                  <a:pt x="12322" y="14266"/>
                </a:cubicBezTo>
                <a:cubicBezTo>
                  <a:pt x="12337" y="14314"/>
                  <a:pt x="12291" y="14339"/>
                  <a:pt x="12249" y="14324"/>
                </a:cubicBezTo>
                <a:cubicBezTo>
                  <a:pt x="12218" y="14313"/>
                  <a:pt x="12201" y="14290"/>
                  <a:pt x="12179" y="14267"/>
                </a:cubicBezTo>
              </a:path>
              <a:path w="1031" h="781">
                <a:moveTo>
                  <a:pt x="12144" y="14008"/>
                </a:moveTo>
                <a:cubicBezTo>
                  <a:pt x="12176" y="13992"/>
                  <a:pt x="12202" y="13984"/>
                  <a:pt x="12235" y="13975"/>
                </a:cubicBezTo>
                <a:cubicBezTo>
                  <a:pt x="12272" y="13965"/>
                  <a:pt x="12304" y="13957"/>
                  <a:pt x="12343" y="13962"/>
                </a:cubicBezTo>
                <a:cubicBezTo>
                  <a:pt x="12363" y="13966"/>
                  <a:pt x="12370" y="13967"/>
                  <a:pt x="12382" y="1397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4689360" y="4913280"/>
            <a:ext cx="1197000" cy="336600"/>
          </a:xfrm>
          <a:custGeom>
            <a:avLst/>
            <a:gdLst/>
            <a:ahLst/>
            <a:rect l="l" t="t" r="r" b="b"/>
            <a:pathLst>
              <a:path w="3326" h="937">
                <a:moveTo>
                  <a:pt x="13055" y="14050"/>
                </a:moveTo>
                <a:cubicBezTo>
                  <a:pt x="13038" y="14007"/>
                  <a:pt x="13018" y="13960"/>
                  <a:pt x="13026" y="13913"/>
                </a:cubicBezTo>
                <a:cubicBezTo>
                  <a:pt x="13038" y="13841"/>
                  <a:pt x="13075" y="13752"/>
                  <a:pt x="13129" y="13701"/>
                </a:cubicBezTo>
                <a:cubicBezTo>
                  <a:pt x="13190" y="13644"/>
                  <a:pt x="13286" y="13625"/>
                  <a:pt x="13350" y="13688"/>
                </a:cubicBezTo>
                <a:cubicBezTo>
                  <a:pt x="13440" y="13777"/>
                  <a:pt x="13429" y="13946"/>
                  <a:pt x="13415" y="14059"/>
                </a:cubicBezTo>
                <a:cubicBezTo>
                  <a:pt x="13399" y="14195"/>
                  <a:pt x="13348" y="14329"/>
                  <a:pt x="13267" y="14440"/>
                </a:cubicBezTo>
                <a:cubicBezTo>
                  <a:pt x="13223" y="14501"/>
                  <a:pt x="13203" y="14510"/>
                  <a:pt x="13151" y="14514"/>
                </a:cubicBezTo>
                <a:cubicBezTo>
                  <a:pt x="13161" y="14454"/>
                  <a:pt x="13188" y="14422"/>
                  <a:pt x="13242" y="14389"/>
                </a:cubicBezTo>
                <a:cubicBezTo>
                  <a:pt x="13317" y="14342"/>
                  <a:pt x="13403" y="14332"/>
                  <a:pt x="13489" y="14335"/>
                </a:cubicBezTo>
                <a:cubicBezTo>
                  <a:pt x="13560" y="14337"/>
                  <a:pt x="13627" y="14353"/>
                  <a:pt x="13696" y="14368"/>
                </a:cubicBezTo>
              </a:path>
              <a:path w="3326" h="937">
                <a:moveTo>
                  <a:pt x="13750" y="14022"/>
                </a:moveTo>
                <a:cubicBezTo>
                  <a:pt x="13777" y="13992"/>
                  <a:pt x="13774" y="14017"/>
                  <a:pt x="13788" y="14068"/>
                </a:cubicBezTo>
                <a:cubicBezTo>
                  <a:pt x="13810" y="14150"/>
                  <a:pt x="13837" y="14229"/>
                  <a:pt x="13868" y="14308"/>
                </a:cubicBezTo>
                <a:cubicBezTo>
                  <a:pt x="13902" y="14395"/>
                  <a:pt x="13942" y="14479"/>
                  <a:pt x="13984" y="14562"/>
                </a:cubicBezTo>
                <a:cubicBezTo>
                  <a:pt x="14006" y="14618"/>
                  <a:pt x="13960" y="14488"/>
                  <a:pt x="13958" y="14479"/>
                </a:cubicBezTo>
                <a:cubicBezTo>
                  <a:pt x="13936" y="14378"/>
                  <a:pt x="13935" y="14276"/>
                  <a:pt x="13941" y="14174"/>
                </a:cubicBezTo>
                <a:cubicBezTo>
                  <a:pt x="13949" y="14049"/>
                  <a:pt x="13964" y="13839"/>
                  <a:pt x="14075" y="13754"/>
                </a:cubicBezTo>
                <a:cubicBezTo>
                  <a:pt x="14086" y="13750"/>
                  <a:pt x="14096" y="13745"/>
                  <a:pt x="14107" y="13741"/>
                </a:cubicBezTo>
                <a:cubicBezTo>
                  <a:pt x="14168" y="13769"/>
                  <a:pt x="14184" y="13808"/>
                  <a:pt x="14191" y="13878"/>
                </a:cubicBezTo>
                <a:cubicBezTo>
                  <a:pt x="14200" y="13961"/>
                  <a:pt x="14185" y="14051"/>
                  <a:pt x="14141" y="14123"/>
                </a:cubicBezTo>
                <a:cubicBezTo>
                  <a:pt x="14110" y="14174"/>
                  <a:pt x="14053" y="14222"/>
                  <a:pt x="13990" y="14223"/>
                </a:cubicBezTo>
                <a:cubicBezTo>
                  <a:pt x="13958" y="14216"/>
                  <a:pt x="13948" y="14214"/>
                  <a:pt x="13932" y="14198"/>
                </a:cubicBezTo>
                <a:cubicBezTo>
                  <a:pt x="13920" y="14142"/>
                  <a:pt x="13934" y="14108"/>
                  <a:pt x="13969" y="14061"/>
                </a:cubicBezTo>
                <a:cubicBezTo>
                  <a:pt x="13982" y="14046"/>
                  <a:pt x="13994" y="14032"/>
                  <a:pt x="14007" y="14017"/>
                </a:cubicBezTo>
              </a:path>
              <a:path w="3326" h="937">
                <a:moveTo>
                  <a:pt x="14345" y="13861"/>
                </a:moveTo>
                <a:cubicBezTo>
                  <a:pt x="14357" y="13905"/>
                  <a:pt x="14363" y="13953"/>
                  <a:pt x="14361" y="13999"/>
                </a:cubicBezTo>
                <a:cubicBezTo>
                  <a:pt x="14359" y="14048"/>
                  <a:pt x="14353" y="14102"/>
                  <a:pt x="14359" y="14151"/>
                </a:cubicBezTo>
                <a:cubicBezTo>
                  <a:pt x="14366" y="14210"/>
                  <a:pt x="14379" y="14158"/>
                  <a:pt x="14384" y="14142"/>
                </a:cubicBezTo>
              </a:path>
              <a:path w="3326" h="937">
                <a:moveTo>
                  <a:pt x="14367" y="13841"/>
                </a:moveTo>
                <a:cubicBezTo>
                  <a:pt x="14357" y="13790"/>
                  <a:pt x="14349" y="13750"/>
                  <a:pt x="14356" y="13698"/>
                </a:cubicBezTo>
                <a:cubicBezTo>
                  <a:pt x="14361" y="13655"/>
                  <a:pt x="14383" y="13650"/>
                  <a:pt x="14421" y="13649"/>
                </a:cubicBezTo>
              </a:path>
              <a:path w="3326" h="937">
                <a:moveTo>
                  <a:pt x="14605" y="13880"/>
                </a:moveTo>
                <a:cubicBezTo>
                  <a:pt x="14581" y="13873"/>
                  <a:pt x="14563" y="13865"/>
                  <a:pt x="14541" y="13879"/>
                </a:cubicBezTo>
                <a:cubicBezTo>
                  <a:pt x="14500" y="13905"/>
                  <a:pt x="14490" y="13970"/>
                  <a:pt x="14519" y="14009"/>
                </a:cubicBezTo>
                <a:cubicBezTo>
                  <a:pt x="14546" y="14044"/>
                  <a:pt x="14595" y="14048"/>
                  <a:pt x="14635" y="14040"/>
                </a:cubicBezTo>
                <a:cubicBezTo>
                  <a:pt x="14700" y="14028"/>
                  <a:pt x="14746" y="13984"/>
                  <a:pt x="14795" y="13945"/>
                </a:cubicBezTo>
                <a:cubicBezTo>
                  <a:pt x="14812" y="13934"/>
                  <a:pt x="14815" y="13930"/>
                  <a:pt x="14828" y="13929"/>
                </a:cubicBezTo>
                <a:cubicBezTo>
                  <a:pt x="14840" y="13978"/>
                  <a:pt x="14841" y="14016"/>
                  <a:pt x="14837" y="14070"/>
                </a:cubicBezTo>
                <a:cubicBezTo>
                  <a:pt x="14830" y="14172"/>
                  <a:pt x="14816" y="14271"/>
                  <a:pt x="14782" y="14368"/>
                </a:cubicBezTo>
                <a:cubicBezTo>
                  <a:pt x="14760" y="14432"/>
                  <a:pt x="14726" y="14517"/>
                  <a:pt x="14655" y="14541"/>
                </a:cubicBezTo>
                <a:cubicBezTo>
                  <a:pt x="14596" y="14561"/>
                  <a:pt x="14561" y="14504"/>
                  <a:pt x="14550" y="14455"/>
                </a:cubicBezTo>
                <a:cubicBezTo>
                  <a:pt x="14536" y="14394"/>
                  <a:pt x="14548" y="14334"/>
                  <a:pt x="14555" y="14273"/>
                </a:cubicBezTo>
              </a:path>
              <a:path w="3326" h="937">
                <a:moveTo>
                  <a:pt x="14968" y="13990"/>
                </a:moveTo>
                <a:cubicBezTo>
                  <a:pt x="15007" y="13978"/>
                  <a:pt x="15049" y="13956"/>
                  <a:pt x="15080" y="13928"/>
                </a:cubicBezTo>
                <a:cubicBezTo>
                  <a:pt x="15110" y="13900"/>
                  <a:pt x="15143" y="13863"/>
                  <a:pt x="15155" y="13822"/>
                </a:cubicBezTo>
                <a:cubicBezTo>
                  <a:pt x="15158" y="13802"/>
                  <a:pt x="15159" y="13797"/>
                  <a:pt x="15154" y="13785"/>
                </a:cubicBezTo>
                <a:cubicBezTo>
                  <a:pt x="15113" y="13777"/>
                  <a:pt x="15085" y="13802"/>
                  <a:pt x="15054" y="13830"/>
                </a:cubicBezTo>
                <a:cubicBezTo>
                  <a:pt x="14997" y="13881"/>
                  <a:pt x="14947" y="13944"/>
                  <a:pt x="14917" y="14014"/>
                </a:cubicBezTo>
                <a:cubicBezTo>
                  <a:pt x="14900" y="14055"/>
                  <a:pt x="14873" y="14129"/>
                  <a:pt x="14924" y="14157"/>
                </a:cubicBezTo>
                <a:cubicBezTo>
                  <a:pt x="14984" y="14190"/>
                  <a:pt x="15060" y="14162"/>
                  <a:pt x="15118" y="14140"/>
                </a:cubicBezTo>
                <a:cubicBezTo>
                  <a:pt x="15137" y="14132"/>
                  <a:pt x="15155" y="14124"/>
                  <a:pt x="15174" y="14116"/>
                </a:cubicBezTo>
              </a:path>
              <a:path w="3326" h="937">
                <a:moveTo>
                  <a:pt x="15440" y="13943"/>
                </a:moveTo>
                <a:cubicBezTo>
                  <a:pt x="15440" y="13922"/>
                  <a:pt x="15436" y="13898"/>
                  <a:pt x="15405" y="13903"/>
                </a:cubicBezTo>
                <a:cubicBezTo>
                  <a:pt x="15366" y="13909"/>
                  <a:pt x="15321" y="13943"/>
                  <a:pt x="15292" y="13969"/>
                </a:cubicBezTo>
                <a:cubicBezTo>
                  <a:pt x="15261" y="13997"/>
                  <a:pt x="15214" y="14042"/>
                  <a:pt x="15211" y="14087"/>
                </a:cubicBezTo>
                <a:cubicBezTo>
                  <a:pt x="15208" y="14128"/>
                  <a:pt x="15256" y="14131"/>
                  <a:pt x="15284" y="14129"/>
                </a:cubicBezTo>
                <a:cubicBezTo>
                  <a:pt x="15335" y="14126"/>
                  <a:pt x="15390" y="14105"/>
                  <a:pt x="15433" y="14079"/>
                </a:cubicBezTo>
                <a:cubicBezTo>
                  <a:pt x="15464" y="14061"/>
                  <a:pt x="15509" y="14025"/>
                  <a:pt x="15521" y="13989"/>
                </a:cubicBezTo>
                <a:cubicBezTo>
                  <a:pt x="15530" y="13960"/>
                  <a:pt x="15530" y="13920"/>
                  <a:pt x="15530" y="13890"/>
                </a:cubicBezTo>
                <a:cubicBezTo>
                  <a:pt x="15530" y="13884"/>
                  <a:pt x="15530" y="13879"/>
                  <a:pt x="15530" y="13873"/>
                </a:cubicBezTo>
              </a:path>
              <a:path w="3326" h="937">
                <a:moveTo>
                  <a:pt x="15565" y="13853"/>
                </a:moveTo>
                <a:cubicBezTo>
                  <a:pt x="15580" y="13877"/>
                  <a:pt x="15583" y="13899"/>
                  <a:pt x="15586" y="13928"/>
                </a:cubicBezTo>
                <a:cubicBezTo>
                  <a:pt x="15589" y="13963"/>
                  <a:pt x="15596" y="13998"/>
                  <a:pt x="15598" y="14034"/>
                </a:cubicBezTo>
                <a:cubicBezTo>
                  <a:pt x="15599" y="14056"/>
                  <a:pt x="15600" y="14079"/>
                  <a:pt x="15599" y="14101"/>
                </a:cubicBezTo>
                <a:cubicBezTo>
                  <a:pt x="15608" y="14062"/>
                  <a:pt x="15617" y="14027"/>
                  <a:pt x="15635" y="13991"/>
                </a:cubicBezTo>
                <a:cubicBezTo>
                  <a:pt x="15648" y="13964"/>
                  <a:pt x="15684" y="13889"/>
                  <a:pt x="15726" y="13908"/>
                </a:cubicBezTo>
                <a:cubicBezTo>
                  <a:pt x="15765" y="13926"/>
                  <a:pt x="15777" y="13992"/>
                  <a:pt x="15791" y="14026"/>
                </a:cubicBezTo>
                <a:cubicBezTo>
                  <a:pt x="15811" y="14075"/>
                  <a:pt x="15819" y="14132"/>
                  <a:pt x="15869" y="14160"/>
                </a:cubicBezTo>
                <a:cubicBezTo>
                  <a:pt x="15877" y="14162"/>
                  <a:pt x="15885" y="14165"/>
                  <a:pt x="15893" y="14167"/>
                </a:cubicBezTo>
              </a:path>
              <a:path w="3326" h="937">
                <a:moveTo>
                  <a:pt x="16348" y="13798"/>
                </a:moveTo>
                <a:cubicBezTo>
                  <a:pt x="16349" y="13792"/>
                  <a:pt x="16350" y="13787"/>
                  <a:pt x="16351" y="13781"/>
                </a:cubicBezTo>
                <a:cubicBezTo>
                  <a:pt x="16325" y="13776"/>
                  <a:pt x="16310" y="13779"/>
                  <a:pt x="16277" y="13798"/>
                </a:cubicBezTo>
                <a:cubicBezTo>
                  <a:pt x="16228" y="13825"/>
                  <a:pt x="16184" y="13858"/>
                  <a:pt x="16140" y="13894"/>
                </a:cubicBezTo>
                <a:cubicBezTo>
                  <a:pt x="16120" y="13911"/>
                  <a:pt x="16115" y="13914"/>
                  <a:pt x="16104" y="13927"/>
                </a:cubicBezTo>
                <a:cubicBezTo>
                  <a:pt x="16130" y="13938"/>
                  <a:pt x="16162" y="13930"/>
                  <a:pt x="16192" y="13935"/>
                </a:cubicBezTo>
                <a:cubicBezTo>
                  <a:pt x="16236" y="13943"/>
                  <a:pt x="16277" y="13964"/>
                  <a:pt x="16301" y="14003"/>
                </a:cubicBezTo>
                <a:cubicBezTo>
                  <a:pt x="16324" y="14041"/>
                  <a:pt x="16326" y="14094"/>
                  <a:pt x="16310" y="14135"/>
                </a:cubicBezTo>
                <a:cubicBezTo>
                  <a:pt x="16302" y="14156"/>
                  <a:pt x="16267" y="14205"/>
                  <a:pt x="16238" y="14199"/>
                </a:cubicBezTo>
                <a:cubicBezTo>
                  <a:pt x="16206" y="14193"/>
                  <a:pt x="16194" y="14153"/>
                  <a:pt x="16196" y="14126"/>
                </a:cubicBezTo>
                <a:cubicBezTo>
                  <a:pt x="16198" y="14118"/>
                  <a:pt x="16199" y="14109"/>
                  <a:pt x="16201" y="1410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6508800" y="4943520"/>
            <a:ext cx="201600" cy="131760"/>
          </a:xfrm>
          <a:custGeom>
            <a:avLst/>
            <a:gdLst/>
            <a:ahLst/>
            <a:rect l="l" t="t" r="r" b="b"/>
            <a:pathLst>
              <a:path w="564" h="370">
                <a:moveTo>
                  <a:pt x="18110" y="13843"/>
                </a:moveTo>
                <a:cubicBezTo>
                  <a:pt x="18093" y="13847"/>
                  <a:pt x="18088" y="13847"/>
                  <a:pt x="18078" y="13853"/>
                </a:cubicBezTo>
                <a:cubicBezTo>
                  <a:pt x="18122" y="13845"/>
                  <a:pt x="18166" y="13842"/>
                  <a:pt x="18210" y="13837"/>
                </a:cubicBezTo>
                <a:cubicBezTo>
                  <a:pt x="18267" y="13831"/>
                  <a:pt x="18325" y="13822"/>
                  <a:pt x="18383" y="13825"/>
                </a:cubicBezTo>
                <a:cubicBezTo>
                  <a:pt x="18417" y="13827"/>
                  <a:pt x="18420" y="13828"/>
                  <a:pt x="18430" y="13853"/>
                </a:cubicBezTo>
              </a:path>
              <a:path w="564" h="370">
                <a:moveTo>
                  <a:pt x="18212" y="13957"/>
                </a:moveTo>
                <a:cubicBezTo>
                  <a:pt x="18191" y="13964"/>
                  <a:pt x="18171" y="13970"/>
                  <a:pt x="18149" y="13974"/>
                </a:cubicBezTo>
                <a:cubicBezTo>
                  <a:pt x="18194" y="13981"/>
                  <a:pt x="18245" y="13974"/>
                  <a:pt x="18291" y="13969"/>
                </a:cubicBezTo>
                <a:cubicBezTo>
                  <a:pt x="18358" y="13962"/>
                  <a:pt x="18423" y="13944"/>
                  <a:pt x="18486" y="13923"/>
                </a:cubicBezTo>
              </a:path>
              <a:path w="564" h="370">
                <a:moveTo>
                  <a:pt x="18480" y="13753"/>
                </a:moveTo>
                <a:cubicBezTo>
                  <a:pt x="18495" y="13732"/>
                  <a:pt x="18517" y="13720"/>
                  <a:pt x="18548" y="13730"/>
                </a:cubicBezTo>
                <a:cubicBezTo>
                  <a:pt x="18589" y="13743"/>
                  <a:pt x="18620" y="13774"/>
                  <a:pt x="18633" y="13814"/>
                </a:cubicBezTo>
                <a:cubicBezTo>
                  <a:pt x="18652" y="13871"/>
                  <a:pt x="18630" y="13933"/>
                  <a:pt x="18604" y="13984"/>
                </a:cubicBezTo>
                <a:cubicBezTo>
                  <a:pt x="18581" y="14029"/>
                  <a:pt x="18555" y="14072"/>
                  <a:pt x="18507" y="14094"/>
                </a:cubicBezTo>
                <a:cubicBezTo>
                  <a:pt x="18487" y="14103"/>
                  <a:pt x="18485" y="14100"/>
                  <a:pt x="18476" y="1408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6872400" y="4881600"/>
            <a:ext cx="1133280" cy="214200"/>
          </a:xfrm>
          <a:custGeom>
            <a:avLst/>
            <a:gdLst/>
            <a:ahLst/>
            <a:rect l="l" t="t" r="r" b="b"/>
            <a:pathLst>
              <a:path w="3150" h="593">
                <a:moveTo>
                  <a:pt x="19181" y="13871"/>
                </a:moveTo>
                <a:cubicBezTo>
                  <a:pt x="19156" y="13874"/>
                  <a:pt x="19129" y="13889"/>
                  <a:pt x="19116" y="13915"/>
                </a:cubicBezTo>
                <a:cubicBezTo>
                  <a:pt x="19101" y="13945"/>
                  <a:pt x="19091" y="13984"/>
                  <a:pt x="19088" y="14018"/>
                </a:cubicBezTo>
                <a:cubicBezTo>
                  <a:pt x="19088" y="14034"/>
                  <a:pt x="19087" y="14039"/>
                  <a:pt x="19098" y="14044"/>
                </a:cubicBezTo>
                <a:cubicBezTo>
                  <a:pt x="19121" y="14017"/>
                  <a:pt x="19137" y="13988"/>
                  <a:pt x="19156" y="13959"/>
                </a:cubicBezTo>
                <a:cubicBezTo>
                  <a:pt x="19181" y="13920"/>
                  <a:pt x="19208" y="13878"/>
                  <a:pt x="19242" y="13846"/>
                </a:cubicBezTo>
                <a:cubicBezTo>
                  <a:pt x="19261" y="13828"/>
                  <a:pt x="19284" y="13823"/>
                  <a:pt x="19296" y="13851"/>
                </a:cubicBezTo>
                <a:cubicBezTo>
                  <a:pt x="19311" y="13885"/>
                  <a:pt x="19305" y="13925"/>
                  <a:pt x="19320" y="13959"/>
                </a:cubicBezTo>
                <a:cubicBezTo>
                  <a:pt x="19332" y="13987"/>
                  <a:pt x="19349" y="14008"/>
                  <a:pt x="19382" y="13998"/>
                </a:cubicBezTo>
                <a:cubicBezTo>
                  <a:pt x="19407" y="13985"/>
                  <a:pt x="19417" y="13980"/>
                  <a:pt x="19432" y="13968"/>
                </a:cubicBezTo>
              </a:path>
              <a:path w="3150" h="593">
                <a:moveTo>
                  <a:pt x="19538" y="13868"/>
                </a:moveTo>
                <a:cubicBezTo>
                  <a:pt x="19521" y="13903"/>
                  <a:pt x="19495" y="13931"/>
                  <a:pt x="19481" y="13968"/>
                </a:cubicBezTo>
                <a:cubicBezTo>
                  <a:pt x="19474" y="13987"/>
                  <a:pt x="19456" y="14030"/>
                  <a:pt x="19471" y="14050"/>
                </a:cubicBezTo>
                <a:cubicBezTo>
                  <a:pt x="19488" y="14072"/>
                  <a:pt x="19524" y="14048"/>
                  <a:pt x="19539" y="14039"/>
                </a:cubicBezTo>
                <a:cubicBezTo>
                  <a:pt x="19571" y="14020"/>
                  <a:pt x="19599" y="13992"/>
                  <a:pt x="19621" y="13962"/>
                </a:cubicBezTo>
                <a:cubicBezTo>
                  <a:pt x="19635" y="13944"/>
                  <a:pt x="19649" y="13921"/>
                  <a:pt x="19634" y="13899"/>
                </a:cubicBezTo>
                <a:cubicBezTo>
                  <a:pt x="19624" y="13889"/>
                  <a:pt x="19622" y="13886"/>
                  <a:pt x="19613" y="13883"/>
                </a:cubicBezTo>
              </a:path>
              <a:path w="3150" h="593">
                <a:moveTo>
                  <a:pt x="19771" y="13664"/>
                </a:moveTo>
                <a:cubicBezTo>
                  <a:pt x="19766" y="13645"/>
                  <a:pt x="19765" y="13639"/>
                  <a:pt x="19761" y="13627"/>
                </a:cubicBezTo>
                <a:cubicBezTo>
                  <a:pt x="19739" y="13659"/>
                  <a:pt x="19745" y="13712"/>
                  <a:pt x="19744" y="13754"/>
                </a:cubicBezTo>
                <a:cubicBezTo>
                  <a:pt x="19743" y="13823"/>
                  <a:pt x="19739" y="13893"/>
                  <a:pt x="19743" y="13962"/>
                </a:cubicBezTo>
                <a:cubicBezTo>
                  <a:pt x="19747" y="13989"/>
                  <a:pt x="19748" y="13996"/>
                  <a:pt x="19748" y="14013"/>
                </a:cubicBezTo>
              </a:path>
              <a:path w="3150" h="593">
                <a:moveTo>
                  <a:pt x="19623" y="13801"/>
                </a:moveTo>
                <a:cubicBezTo>
                  <a:pt x="19625" y="13770"/>
                  <a:pt x="19677" y="13770"/>
                  <a:pt x="19709" y="13764"/>
                </a:cubicBezTo>
                <a:cubicBezTo>
                  <a:pt x="19783" y="13749"/>
                  <a:pt x="19857" y="13740"/>
                  <a:pt x="19931" y="13729"/>
                </a:cubicBezTo>
                <a:cubicBezTo>
                  <a:pt x="19947" y="13726"/>
                  <a:pt x="19964" y="13724"/>
                  <a:pt x="19980" y="13721"/>
                </a:cubicBezTo>
              </a:path>
              <a:path w="3150" h="593">
                <a:moveTo>
                  <a:pt x="20198" y="13891"/>
                </a:moveTo>
                <a:cubicBezTo>
                  <a:pt x="20193" y="13923"/>
                  <a:pt x="20191" y="13959"/>
                  <a:pt x="20193" y="13992"/>
                </a:cubicBezTo>
                <a:cubicBezTo>
                  <a:pt x="20196" y="14036"/>
                  <a:pt x="20199" y="14078"/>
                  <a:pt x="20200" y="14122"/>
                </a:cubicBezTo>
                <a:cubicBezTo>
                  <a:pt x="20200" y="14129"/>
                  <a:pt x="20201" y="14137"/>
                  <a:pt x="20201" y="14144"/>
                </a:cubicBezTo>
                <a:cubicBezTo>
                  <a:pt x="20190" y="14163"/>
                  <a:pt x="20190" y="14102"/>
                  <a:pt x="20190" y="14092"/>
                </a:cubicBezTo>
                <a:cubicBezTo>
                  <a:pt x="20190" y="14034"/>
                  <a:pt x="20201" y="13978"/>
                  <a:pt x="20218" y="13923"/>
                </a:cubicBezTo>
                <a:cubicBezTo>
                  <a:pt x="20231" y="13881"/>
                  <a:pt x="20252" y="13828"/>
                  <a:pt x="20294" y="13807"/>
                </a:cubicBezTo>
                <a:cubicBezTo>
                  <a:pt x="20328" y="13790"/>
                  <a:pt x="20350" y="13823"/>
                  <a:pt x="20358" y="13851"/>
                </a:cubicBezTo>
                <a:cubicBezTo>
                  <a:pt x="20371" y="13898"/>
                  <a:pt x="20351" y="13945"/>
                  <a:pt x="20323" y="13982"/>
                </a:cubicBezTo>
                <a:cubicBezTo>
                  <a:pt x="20300" y="14012"/>
                  <a:pt x="20256" y="14047"/>
                  <a:pt x="20215" y="14046"/>
                </a:cubicBezTo>
                <a:cubicBezTo>
                  <a:pt x="20207" y="14044"/>
                  <a:pt x="20198" y="14041"/>
                  <a:pt x="20190" y="14039"/>
                </a:cubicBezTo>
                <a:cubicBezTo>
                  <a:pt x="20189" y="13992"/>
                  <a:pt x="20214" y="13984"/>
                  <a:pt x="20252" y="13957"/>
                </a:cubicBezTo>
              </a:path>
              <a:path w="3150" h="593">
                <a:moveTo>
                  <a:pt x="20663" y="13815"/>
                </a:moveTo>
                <a:cubicBezTo>
                  <a:pt x="20620" y="13846"/>
                  <a:pt x="20575" y="13869"/>
                  <a:pt x="20532" y="13901"/>
                </a:cubicBezTo>
                <a:cubicBezTo>
                  <a:pt x="20501" y="13924"/>
                  <a:pt x="20445" y="13964"/>
                  <a:pt x="20447" y="14010"/>
                </a:cubicBezTo>
                <a:cubicBezTo>
                  <a:pt x="20450" y="14015"/>
                  <a:pt x="20452" y="14021"/>
                  <a:pt x="20455" y="14026"/>
                </a:cubicBezTo>
                <a:cubicBezTo>
                  <a:pt x="20505" y="14035"/>
                  <a:pt x="20541" y="14027"/>
                  <a:pt x="20588" y="14005"/>
                </a:cubicBezTo>
                <a:cubicBezTo>
                  <a:pt x="20638" y="13982"/>
                  <a:pt x="20688" y="13948"/>
                  <a:pt x="20723" y="13904"/>
                </a:cubicBezTo>
                <a:cubicBezTo>
                  <a:pt x="20743" y="13878"/>
                  <a:pt x="20750" y="13851"/>
                  <a:pt x="20739" y="13820"/>
                </a:cubicBezTo>
                <a:cubicBezTo>
                  <a:pt x="20733" y="13804"/>
                  <a:pt x="20728" y="13796"/>
                  <a:pt x="20726" y="13779"/>
                </a:cubicBezTo>
              </a:path>
              <a:path w="3150" h="593">
                <a:moveTo>
                  <a:pt x="20862" y="13703"/>
                </a:moveTo>
                <a:cubicBezTo>
                  <a:pt x="20835" y="13711"/>
                  <a:pt x="20797" y="13721"/>
                  <a:pt x="20774" y="13734"/>
                </a:cubicBezTo>
                <a:cubicBezTo>
                  <a:pt x="20762" y="13741"/>
                  <a:pt x="20729" y="13766"/>
                  <a:pt x="20742" y="13783"/>
                </a:cubicBezTo>
                <a:cubicBezTo>
                  <a:pt x="20760" y="13807"/>
                  <a:pt x="20807" y="13812"/>
                  <a:pt x="20833" y="13820"/>
                </a:cubicBezTo>
                <a:cubicBezTo>
                  <a:pt x="20866" y="13830"/>
                  <a:pt x="20906" y="13839"/>
                  <a:pt x="20925" y="13871"/>
                </a:cubicBezTo>
                <a:cubicBezTo>
                  <a:pt x="20942" y="13900"/>
                  <a:pt x="20923" y="13932"/>
                  <a:pt x="20905" y="13955"/>
                </a:cubicBezTo>
                <a:cubicBezTo>
                  <a:pt x="20896" y="13966"/>
                  <a:pt x="20861" y="14006"/>
                  <a:pt x="20844" y="14003"/>
                </a:cubicBezTo>
                <a:cubicBezTo>
                  <a:pt x="20841" y="14000"/>
                  <a:pt x="20837" y="13997"/>
                  <a:pt x="20834" y="13994"/>
                </a:cubicBezTo>
                <a:cubicBezTo>
                  <a:pt x="20843" y="13959"/>
                  <a:pt x="20867" y="13943"/>
                  <a:pt x="20894" y="13919"/>
                </a:cubicBezTo>
              </a:path>
              <a:path w="3150" h="593">
                <a:moveTo>
                  <a:pt x="21171" y="13758"/>
                </a:moveTo>
                <a:cubicBezTo>
                  <a:pt x="21200" y="13753"/>
                  <a:pt x="21209" y="13764"/>
                  <a:pt x="21206" y="13794"/>
                </a:cubicBezTo>
                <a:cubicBezTo>
                  <a:pt x="21204" y="13817"/>
                  <a:pt x="21191" y="13841"/>
                  <a:pt x="21185" y="13863"/>
                </a:cubicBezTo>
                <a:cubicBezTo>
                  <a:pt x="21178" y="13887"/>
                  <a:pt x="21175" y="13913"/>
                  <a:pt x="21166" y="13937"/>
                </a:cubicBezTo>
                <a:cubicBezTo>
                  <a:pt x="21158" y="13957"/>
                  <a:pt x="21149" y="13978"/>
                  <a:pt x="21135" y="13994"/>
                </a:cubicBezTo>
                <a:cubicBezTo>
                  <a:pt x="21126" y="14004"/>
                  <a:pt x="21111" y="14020"/>
                  <a:pt x="21096" y="14021"/>
                </a:cubicBezTo>
                <a:cubicBezTo>
                  <a:pt x="21071" y="14023"/>
                  <a:pt x="21063" y="14017"/>
                  <a:pt x="21053" y="13996"/>
                </a:cubicBezTo>
                <a:cubicBezTo>
                  <a:pt x="21050" y="13990"/>
                  <a:pt x="21048" y="13983"/>
                  <a:pt x="21045" y="13977"/>
                </a:cubicBezTo>
              </a:path>
              <a:path w="3150" h="593">
                <a:moveTo>
                  <a:pt x="21464" y="13807"/>
                </a:moveTo>
                <a:cubicBezTo>
                  <a:pt x="21479" y="13841"/>
                  <a:pt x="21476" y="13862"/>
                  <a:pt x="21462" y="13899"/>
                </a:cubicBezTo>
                <a:cubicBezTo>
                  <a:pt x="21450" y="13931"/>
                  <a:pt x="21429" y="13962"/>
                  <a:pt x="21418" y="13993"/>
                </a:cubicBezTo>
                <a:cubicBezTo>
                  <a:pt x="21417" y="14005"/>
                  <a:pt x="21417" y="14009"/>
                  <a:pt x="21415" y="13994"/>
                </a:cubicBezTo>
              </a:path>
              <a:path w="3150" h="593">
                <a:moveTo>
                  <a:pt x="21451" y="13685"/>
                </a:moveTo>
                <a:cubicBezTo>
                  <a:pt x="21460" y="13664"/>
                  <a:pt x="21471" y="13634"/>
                  <a:pt x="21475" y="13612"/>
                </a:cubicBezTo>
                <a:cubicBezTo>
                  <a:pt x="21476" y="13589"/>
                  <a:pt x="21476" y="13582"/>
                  <a:pt x="21489" y="13571"/>
                </a:cubicBezTo>
              </a:path>
              <a:path w="3150" h="593">
                <a:moveTo>
                  <a:pt x="21561" y="13561"/>
                </a:moveTo>
                <a:cubicBezTo>
                  <a:pt x="21550" y="13640"/>
                  <a:pt x="21544" y="13719"/>
                  <a:pt x="21542" y="13799"/>
                </a:cubicBezTo>
                <a:cubicBezTo>
                  <a:pt x="21540" y="13851"/>
                  <a:pt x="21537" y="13909"/>
                  <a:pt x="21548" y="13960"/>
                </a:cubicBezTo>
                <a:cubicBezTo>
                  <a:pt x="21554" y="13974"/>
                  <a:pt x="21554" y="13978"/>
                  <a:pt x="21564" y="13982"/>
                </a:cubicBezTo>
                <a:cubicBezTo>
                  <a:pt x="21584" y="13960"/>
                  <a:pt x="21604" y="13938"/>
                  <a:pt x="21623" y="13915"/>
                </a:cubicBezTo>
                <a:cubicBezTo>
                  <a:pt x="21642" y="13892"/>
                  <a:pt x="21662" y="13858"/>
                  <a:pt x="21691" y="13847"/>
                </a:cubicBezTo>
                <a:cubicBezTo>
                  <a:pt x="21716" y="13837"/>
                  <a:pt x="21721" y="13871"/>
                  <a:pt x="21724" y="13887"/>
                </a:cubicBezTo>
                <a:cubicBezTo>
                  <a:pt x="21732" y="13929"/>
                  <a:pt x="21735" y="13990"/>
                  <a:pt x="21695" y="14017"/>
                </a:cubicBezTo>
                <a:cubicBezTo>
                  <a:pt x="21667" y="14036"/>
                  <a:pt x="21632" y="14038"/>
                  <a:pt x="21601" y="14026"/>
                </a:cubicBezTo>
                <a:cubicBezTo>
                  <a:pt x="21582" y="14014"/>
                  <a:pt x="21575" y="14009"/>
                  <a:pt x="21568" y="13994"/>
                </a:cubicBezTo>
              </a:path>
              <a:path w="3150" h="593">
                <a:moveTo>
                  <a:pt x="22065" y="13628"/>
                </a:moveTo>
                <a:cubicBezTo>
                  <a:pt x="22055" y="13667"/>
                  <a:pt x="22039" y="13705"/>
                  <a:pt x="22025" y="13743"/>
                </a:cubicBezTo>
                <a:cubicBezTo>
                  <a:pt x="22009" y="13786"/>
                  <a:pt x="21987" y="13848"/>
                  <a:pt x="21989" y="13895"/>
                </a:cubicBezTo>
                <a:cubicBezTo>
                  <a:pt x="21990" y="13920"/>
                  <a:pt x="22000" y="13929"/>
                  <a:pt x="22016" y="13945"/>
                </a:cubicBezTo>
              </a:path>
              <a:path w="3150" h="593">
                <a:moveTo>
                  <a:pt x="22148" y="13885"/>
                </a:moveTo>
                <a:cubicBezTo>
                  <a:pt x="22166" y="13871"/>
                  <a:pt x="22201" y="13851"/>
                  <a:pt x="22214" y="13833"/>
                </a:cubicBezTo>
                <a:cubicBezTo>
                  <a:pt x="22223" y="13819"/>
                  <a:pt x="22233" y="13801"/>
                  <a:pt x="22237" y="13787"/>
                </a:cubicBezTo>
                <a:cubicBezTo>
                  <a:pt x="22203" y="13797"/>
                  <a:pt x="22182" y="13812"/>
                  <a:pt x="22161" y="13843"/>
                </a:cubicBezTo>
                <a:cubicBezTo>
                  <a:pt x="22144" y="13868"/>
                  <a:pt x="22120" y="13906"/>
                  <a:pt x="22133" y="13937"/>
                </a:cubicBezTo>
                <a:cubicBezTo>
                  <a:pt x="22142" y="13959"/>
                  <a:pt x="22169" y="13967"/>
                  <a:pt x="22191" y="13969"/>
                </a:cubicBezTo>
                <a:cubicBezTo>
                  <a:pt x="22210" y="13969"/>
                  <a:pt x="22217" y="13969"/>
                  <a:pt x="22229" y="1396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8265960" y="4915080"/>
            <a:ext cx="297000" cy="206280"/>
          </a:xfrm>
          <a:custGeom>
            <a:avLst/>
            <a:gdLst/>
            <a:ahLst/>
            <a:rect l="l" t="t" r="r" b="b"/>
            <a:pathLst>
              <a:path w="823" h="573">
                <a:moveTo>
                  <a:pt x="23078" y="13758"/>
                </a:moveTo>
                <a:cubicBezTo>
                  <a:pt x="23059" y="13739"/>
                  <a:pt x="23051" y="13726"/>
                  <a:pt x="23026" y="13724"/>
                </a:cubicBezTo>
                <a:cubicBezTo>
                  <a:pt x="22987" y="13721"/>
                  <a:pt x="22975" y="13786"/>
                  <a:pt x="22969" y="13812"/>
                </a:cubicBezTo>
                <a:cubicBezTo>
                  <a:pt x="22958" y="13864"/>
                  <a:pt x="22966" y="13929"/>
                  <a:pt x="22993" y="13976"/>
                </a:cubicBezTo>
                <a:cubicBezTo>
                  <a:pt x="23015" y="14014"/>
                  <a:pt x="23057" y="14027"/>
                  <a:pt x="23091" y="13995"/>
                </a:cubicBezTo>
                <a:cubicBezTo>
                  <a:pt x="23129" y="13959"/>
                  <a:pt x="23143" y="13887"/>
                  <a:pt x="23152" y="13838"/>
                </a:cubicBezTo>
                <a:cubicBezTo>
                  <a:pt x="23163" y="13783"/>
                  <a:pt x="23169" y="13725"/>
                  <a:pt x="23172" y="13669"/>
                </a:cubicBezTo>
                <a:cubicBezTo>
                  <a:pt x="23172" y="13651"/>
                  <a:pt x="23172" y="13645"/>
                  <a:pt x="23168" y="13669"/>
                </a:cubicBezTo>
                <a:cubicBezTo>
                  <a:pt x="23171" y="13719"/>
                  <a:pt x="23173" y="13771"/>
                  <a:pt x="23195" y="13817"/>
                </a:cubicBezTo>
                <a:cubicBezTo>
                  <a:pt x="23216" y="13860"/>
                  <a:pt x="23240" y="13890"/>
                  <a:pt x="23282" y="13913"/>
                </a:cubicBezTo>
                <a:cubicBezTo>
                  <a:pt x="23310" y="13928"/>
                  <a:pt x="23326" y="13931"/>
                  <a:pt x="23353" y="13917"/>
                </a:cubicBezTo>
                <a:cubicBezTo>
                  <a:pt x="23368" y="13909"/>
                  <a:pt x="23395" y="13880"/>
                  <a:pt x="23406" y="13864"/>
                </a:cubicBezTo>
                <a:cubicBezTo>
                  <a:pt x="23425" y="13836"/>
                  <a:pt x="23447" y="13804"/>
                  <a:pt x="23464" y="13774"/>
                </a:cubicBezTo>
                <a:cubicBezTo>
                  <a:pt x="23472" y="13758"/>
                  <a:pt x="23475" y="13755"/>
                  <a:pt x="23473" y="13744"/>
                </a:cubicBezTo>
                <a:cubicBezTo>
                  <a:pt x="23434" y="13751"/>
                  <a:pt x="23412" y="13770"/>
                  <a:pt x="23384" y="13801"/>
                </a:cubicBezTo>
                <a:cubicBezTo>
                  <a:pt x="23353" y="13835"/>
                  <a:pt x="23315" y="13874"/>
                  <a:pt x="23307" y="13922"/>
                </a:cubicBezTo>
                <a:cubicBezTo>
                  <a:pt x="23301" y="13962"/>
                  <a:pt x="23353" y="13973"/>
                  <a:pt x="23382" y="13972"/>
                </a:cubicBezTo>
                <a:cubicBezTo>
                  <a:pt x="23447" y="13970"/>
                  <a:pt x="23510" y="13939"/>
                  <a:pt x="23568" y="13913"/>
                </a:cubicBezTo>
              </a:path>
              <a:path w="823" h="573">
                <a:moveTo>
                  <a:pt x="23726" y="13808"/>
                </a:moveTo>
                <a:cubicBezTo>
                  <a:pt x="23698" y="13800"/>
                  <a:pt x="23689" y="13797"/>
                  <a:pt x="23654" y="13816"/>
                </a:cubicBezTo>
                <a:cubicBezTo>
                  <a:pt x="23615" y="13837"/>
                  <a:pt x="23583" y="13868"/>
                  <a:pt x="23568" y="13911"/>
                </a:cubicBezTo>
                <a:cubicBezTo>
                  <a:pt x="23558" y="13938"/>
                  <a:pt x="23563" y="13946"/>
                  <a:pt x="23577" y="13966"/>
                </a:cubicBezTo>
                <a:cubicBezTo>
                  <a:pt x="23623" y="13968"/>
                  <a:pt x="23649" y="13956"/>
                  <a:pt x="23686" y="13927"/>
                </a:cubicBezTo>
                <a:cubicBezTo>
                  <a:pt x="23718" y="13902"/>
                  <a:pt x="23740" y="13869"/>
                  <a:pt x="23769" y="13841"/>
                </a:cubicBezTo>
                <a:cubicBezTo>
                  <a:pt x="23773" y="13838"/>
                  <a:pt x="23776" y="13835"/>
                  <a:pt x="23780" y="13832"/>
                </a:cubicBezTo>
                <a:cubicBezTo>
                  <a:pt x="23784" y="13868"/>
                  <a:pt x="23773" y="13906"/>
                  <a:pt x="23764" y="13941"/>
                </a:cubicBezTo>
                <a:cubicBezTo>
                  <a:pt x="23747" y="14007"/>
                  <a:pt x="23728" y="14076"/>
                  <a:pt x="23693" y="14135"/>
                </a:cubicBezTo>
                <a:cubicBezTo>
                  <a:pt x="23674" y="14167"/>
                  <a:pt x="23636" y="14227"/>
                  <a:pt x="23590" y="14223"/>
                </a:cubicBezTo>
                <a:cubicBezTo>
                  <a:pt x="23550" y="14219"/>
                  <a:pt x="23532" y="14167"/>
                  <a:pt x="23531" y="14135"/>
                </a:cubicBezTo>
                <a:cubicBezTo>
                  <a:pt x="23532" y="14123"/>
                  <a:pt x="23533" y="14110"/>
                  <a:pt x="23534" y="1409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8678880" y="4921200"/>
            <a:ext cx="111240" cy="101520"/>
          </a:xfrm>
          <a:custGeom>
            <a:avLst/>
            <a:gdLst/>
            <a:ahLst/>
            <a:rect l="l" t="t" r="r" b="b"/>
            <a:pathLst>
              <a:path w="308" h="283">
                <a:moveTo>
                  <a:pt x="24132" y="13668"/>
                </a:moveTo>
                <a:cubicBezTo>
                  <a:pt x="24110" y="13743"/>
                  <a:pt x="24107" y="13805"/>
                  <a:pt x="24122" y="13882"/>
                </a:cubicBezTo>
                <a:cubicBezTo>
                  <a:pt x="24141" y="13980"/>
                  <a:pt x="24219" y="13947"/>
                  <a:pt x="24285" y="13914"/>
                </a:cubicBezTo>
                <a:cubicBezTo>
                  <a:pt x="24362" y="13876"/>
                  <a:pt x="24386" y="13855"/>
                  <a:pt x="24415" y="13784"/>
                </a:cubicBezTo>
                <a:cubicBezTo>
                  <a:pt x="24306" y="13724"/>
                  <a:pt x="24264" y="13698"/>
                  <a:pt x="24154" y="1375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6953400" y="5210280"/>
            <a:ext cx="122040" cy="123840"/>
          </a:xfrm>
          <a:custGeom>
            <a:avLst/>
            <a:gdLst/>
            <a:ahLst/>
            <a:rect l="l" t="t" r="r" b="b"/>
            <a:pathLst>
              <a:path w="342" h="345">
                <a:moveTo>
                  <a:pt x="19343" y="14758"/>
                </a:moveTo>
                <a:cubicBezTo>
                  <a:pt x="19333" y="14769"/>
                  <a:pt x="19330" y="14772"/>
                  <a:pt x="19323" y="14779"/>
                </a:cubicBezTo>
                <a:cubicBezTo>
                  <a:pt x="19312" y="14750"/>
                  <a:pt x="19343" y="14719"/>
                  <a:pt x="19358" y="14689"/>
                </a:cubicBezTo>
                <a:cubicBezTo>
                  <a:pt x="19389" y="14628"/>
                  <a:pt x="19428" y="14507"/>
                  <a:pt x="19494" y="14473"/>
                </a:cubicBezTo>
                <a:cubicBezTo>
                  <a:pt x="19499" y="14473"/>
                  <a:pt x="19505" y="14472"/>
                  <a:pt x="19510" y="14472"/>
                </a:cubicBezTo>
                <a:cubicBezTo>
                  <a:pt x="19531" y="14510"/>
                  <a:pt x="19534" y="14554"/>
                  <a:pt x="19543" y="14598"/>
                </a:cubicBezTo>
                <a:cubicBezTo>
                  <a:pt x="19556" y="14660"/>
                  <a:pt x="19567" y="14722"/>
                  <a:pt x="19586" y="14783"/>
                </a:cubicBezTo>
                <a:cubicBezTo>
                  <a:pt x="19594" y="14808"/>
                  <a:pt x="19617" y="14829"/>
                  <a:pt x="19641" y="14806"/>
                </a:cubicBezTo>
                <a:cubicBezTo>
                  <a:pt x="19646" y="14800"/>
                  <a:pt x="19650" y="14793"/>
                  <a:pt x="19655" y="1478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7215120" y="5187960"/>
            <a:ext cx="320760" cy="210960"/>
          </a:xfrm>
          <a:custGeom>
            <a:avLst/>
            <a:gdLst/>
            <a:ahLst/>
            <a:rect l="l" t="t" r="r" b="b"/>
            <a:pathLst>
              <a:path w="890" h="585">
                <a:moveTo>
                  <a:pt x="20303" y="14643"/>
                </a:moveTo>
                <a:cubicBezTo>
                  <a:pt x="20300" y="14610"/>
                  <a:pt x="20296" y="14586"/>
                  <a:pt x="20282" y="14555"/>
                </a:cubicBezTo>
                <a:cubicBezTo>
                  <a:pt x="20270" y="14528"/>
                  <a:pt x="20239" y="14507"/>
                  <a:pt x="20208" y="14510"/>
                </a:cubicBezTo>
                <a:cubicBezTo>
                  <a:pt x="20164" y="14514"/>
                  <a:pt x="20117" y="14550"/>
                  <a:pt x="20089" y="14582"/>
                </a:cubicBezTo>
                <a:cubicBezTo>
                  <a:pt x="20062" y="14613"/>
                  <a:pt x="20031" y="14662"/>
                  <a:pt x="20043" y="14705"/>
                </a:cubicBezTo>
                <a:cubicBezTo>
                  <a:pt x="20054" y="14744"/>
                  <a:pt x="20104" y="14730"/>
                  <a:pt x="20129" y="14718"/>
                </a:cubicBezTo>
                <a:cubicBezTo>
                  <a:pt x="20183" y="14691"/>
                  <a:pt x="20224" y="14638"/>
                  <a:pt x="20256" y="14588"/>
                </a:cubicBezTo>
                <a:cubicBezTo>
                  <a:pt x="20286" y="14541"/>
                  <a:pt x="20307" y="14490"/>
                  <a:pt x="20328" y="14440"/>
                </a:cubicBezTo>
                <a:cubicBezTo>
                  <a:pt x="20331" y="14433"/>
                  <a:pt x="20334" y="14427"/>
                  <a:pt x="20337" y="14420"/>
                </a:cubicBezTo>
                <a:cubicBezTo>
                  <a:pt x="20328" y="14447"/>
                  <a:pt x="20330" y="14458"/>
                  <a:pt x="20330" y="14486"/>
                </a:cubicBezTo>
                <a:cubicBezTo>
                  <a:pt x="20330" y="14538"/>
                  <a:pt x="20332" y="14595"/>
                  <a:pt x="20347" y="14645"/>
                </a:cubicBezTo>
                <a:cubicBezTo>
                  <a:pt x="20355" y="14674"/>
                  <a:pt x="20365" y="14686"/>
                  <a:pt x="20386" y="14705"/>
                </a:cubicBezTo>
              </a:path>
              <a:path w="890" h="585">
                <a:moveTo>
                  <a:pt x="20480" y="14634"/>
                </a:moveTo>
                <a:cubicBezTo>
                  <a:pt x="20496" y="14621"/>
                  <a:pt x="20526" y="14595"/>
                  <a:pt x="20536" y="14578"/>
                </a:cubicBezTo>
                <a:cubicBezTo>
                  <a:pt x="20553" y="14547"/>
                  <a:pt x="20580" y="14509"/>
                  <a:pt x="20590" y="14474"/>
                </a:cubicBezTo>
                <a:cubicBezTo>
                  <a:pt x="20591" y="14457"/>
                  <a:pt x="20592" y="14451"/>
                  <a:pt x="20577" y="14449"/>
                </a:cubicBezTo>
                <a:cubicBezTo>
                  <a:pt x="20540" y="14473"/>
                  <a:pt x="20512" y="14502"/>
                  <a:pt x="20486" y="14538"/>
                </a:cubicBezTo>
                <a:cubicBezTo>
                  <a:pt x="20460" y="14575"/>
                  <a:pt x="20431" y="14628"/>
                  <a:pt x="20437" y="14676"/>
                </a:cubicBezTo>
                <a:cubicBezTo>
                  <a:pt x="20444" y="14727"/>
                  <a:pt x="20515" y="14721"/>
                  <a:pt x="20551" y="14719"/>
                </a:cubicBezTo>
                <a:cubicBezTo>
                  <a:pt x="20605" y="14715"/>
                  <a:pt x="20655" y="14698"/>
                  <a:pt x="20707" y="14682"/>
                </a:cubicBezTo>
              </a:path>
              <a:path w="890" h="585">
                <a:moveTo>
                  <a:pt x="20906" y="14560"/>
                </a:moveTo>
                <a:cubicBezTo>
                  <a:pt x="20886" y="14548"/>
                  <a:pt x="20852" y="14542"/>
                  <a:pt x="20828" y="14549"/>
                </a:cubicBezTo>
                <a:cubicBezTo>
                  <a:pt x="20796" y="14558"/>
                  <a:pt x="20751" y="14587"/>
                  <a:pt x="20731" y="14614"/>
                </a:cubicBezTo>
                <a:cubicBezTo>
                  <a:pt x="20716" y="14634"/>
                  <a:pt x="20718" y="14645"/>
                  <a:pt x="20722" y="14666"/>
                </a:cubicBezTo>
                <a:cubicBezTo>
                  <a:pt x="20757" y="14671"/>
                  <a:pt x="20778" y="14663"/>
                  <a:pt x="20809" y="14645"/>
                </a:cubicBezTo>
                <a:cubicBezTo>
                  <a:pt x="20840" y="14627"/>
                  <a:pt x="20865" y="14595"/>
                  <a:pt x="20898" y="14581"/>
                </a:cubicBezTo>
                <a:cubicBezTo>
                  <a:pt x="20902" y="14580"/>
                  <a:pt x="20907" y="14580"/>
                  <a:pt x="20911" y="14579"/>
                </a:cubicBezTo>
                <a:cubicBezTo>
                  <a:pt x="20937" y="14604"/>
                  <a:pt x="20930" y="14636"/>
                  <a:pt x="20928" y="14672"/>
                </a:cubicBezTo>
                <a:cubicBezTo>
                  <a:pt x="20924" y="14743"/>
                  <a:pt x="20908" y="14813"/>
                  <a:pt x="20880" y="14879"/>
                </a:cubicBezTo>
                <a:cubicBezTo>
                  <a:pt x="20863" y="14920"/>
                  <a:pt x="20832" y="14979"/>
                  <a:pt x="20785" y="14995"/>
                </a:cubicBezTo>
                <a:cubicBezTo>
                  <a:pt x="20746" y="15008"/>
                  <a:pt x="20728" y="14952"/>
                  <a:pt x="20719" y="1492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7688160" y="5184720"/>
            <a:ext cx="250920" cy="114480"/>
          </a:xfrm>
          <a:custGeom>
            <a:avLst/>
            <a:gdLst/>
            <a:ahLst/>
            <a:rect l="l" t="t" r="r" b="b"/>
            <a:pathLst>
              <a:path w="694" h="320">
                <a:moveTo>
                  <a:pt x="21357" y="14462"/>
                </a:moveTo>
                <a:cubicBezTo>
                  <a:pt x="21372" y="14478"/>
                  <a:pt x="21374" y="14506"/>
                  <a:pt x="21375" y="14529"/>
                </a:cubicBezTo>
                <a:cubicBezTo>
                  <a:pt x="21376" y="14573"/>
                  <a:pt x="21378" y="14617"/>
                  <a:pt x="21380" y="14661"/>
                </a:cubicBezTo>
                <a:cubicBezTo>
                  <a:pt x="21381" y="14681"/>
                  <a:pt x="21381" y="14700"/>
                  <a:pt x="21383" y="14719"/>
                </a:cubicBezTo>
                <a:cubicBezTo>
                  <a:pt x="21404" y="14694"/>
                  <a:pt x="21419" y="14664"/>
                  <a:pt x="21436" y="14636"/>
                </a:cubicBezTo>
                <a:cubicBezTo>
                  <a:pt x="21455" y="14604"/>
                  <a:pt x="21475" y="14565"/>
                  <a:pt x="21507" y="14544"/>
                </a:cubicBezTo>
                <a:cubicBezTo>
                  <a:pt x="21535" y="14526"/>
                  <a:pt x="21550" y="14558"/>
                  <a:pt x="21560" y="14579"/>
                </a:cubicBezTo>
                <a:cubicBezTo>
                  <a:pt x="21577" y="14615"/>
                  <a:pt x="21588" y="14647"/>
                  <a:pt x="21613" y="14679"/>
                </a:cubicBezTo>
                <a:cubicBezTo>
                  <a:pt x="21626" y="14694"/>
                  <a:pt x="21630" y="14699"/>
                  <a:pt x="21644" y="14702"/>
                </a:cubicBezTo>
              </a:path>
              <a:path w="694" h="320">
                <a:moveTo>
                  <a:pt x="21752" y="14639"/>
                </a:moveTo>
                <a:cubicBezTo>
                  <a:pt x="21773" y="14634"/>
                  <a:pt x="21798" y="14635"/>
                  <a:pt x="21818" y="14627"/>
                </a:cubicBezTo>
                <a:cubicBezTo>
                  <a:pt x="21853" y="14613"/>
                  <a:pt x="21892" y="14586"/>
                  <a:pt x="21922" y="14564"/>
                </a:cubicBezTo>
                <a:cubicBezTo>
                  <a:pt x="21931" y="14556"/>
                  <a:pt x="21941" y="14549"/>
                  <a:pt x="21950" y="14541"/>
                </a:cubicBezTo>
              </a:path>
              <a:path w="694" h="320">
                <a:moveTo>
                  <a:pt x="22041" y="14400"/>
                </a:moveTo>
                <a:cubicBezTo>
                  <a:pt x="22024" y="14434"/>
                  <a:pt x="22014" y="14476"/>
                  <a:pt x="22016" y="14514"/>
                </a:cubicBezTo>
                <a:cubicBezTo>
                  <a:pt x="22018" y="14562"/>
                  <a:pt x="22026" y="14615"/>
                  <a:pt x="22035" y="14663"/>
                </a:cubicBezTo>
                <a:cubicBezTo>
                  <a:pt x="22040" y="14686"/>
                  <a:pt x="22041" y="14692"/>
                  <a:pt x="22050" y="1470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1096920" y="5618160"/>
            <a:ext cx="162000" cy="376200"/>
          </a:xfrm>
          <a:custGeom>
            <a:avLst/>
            <a:gdLst/>
            <a:ahLst/>
            <a:rect l="l" t="t" r="r" b="b"/>
            <a:pathLst>
              <a:path w="451" h="1048">
                <a:moveTo>
                  <a:pt x="3132" y="16519"/>
                </a:moveTo>
                <a:cubicBezTo>
                  <a:pt x="3122" y="16563"/>
                  <a:pt x="3117" y="16617"/>
                  <a:pt x="3080" y="16647"/>
                </a:cubicBezTo>
                <a:cubicBezTo>
                  <a:pt x="3076" y="16649"/>
                  <a:pt x="3071" y="16650"/>
                  <a:pt x="3067" y="16652"/>
                </a:cubicBezTo>
                <a:cubicBezTo>
                  <a:pt x="3051" y="16605"/>
                  <a:pt x="3048" y="16568"/>
                  <a:pt x="3048" y="16513"/>
                </a:cubicBezTo>
                <a:cubicBezTo>
                  <a:pt x="3047" y="16380"/>
                  <a:pt x="3052" y="16245"/>
                  <a:pt x="3058" y="16112"/>
                </a:cubicBezTo>
                <a:cubicBezTo>
                  <a:pt x="3064" y="15972"/>
                  <a:pt x="3072" y="15831"/>
                  <a:pt x="3080" y="15691"/>
                </a:cubicBezTo>
                <a:cubicBezTo>
                  <a:pt x="3083" y="15643"/>
                  <a:pt x="3083" y="15634"/>
                  <a:pt x="3087" y="15605"/>
                </a:cubicBezTo>
                <a:cubicBezTo>
                  <a:pt x="3099" y="15701"/>
                  <a:pt x="3108" y="15798"/>
                  <a:pt x="3125" y="15894"/>
                </a:cubicBezTo>
                <a:cubicBezTo>
                  <a:pt x="3147" y="16019"/>
                  <a:pt x="3172" y="16154"/>
                  <a:pt x="3230" y="16269"/>
                </a:cubicBezTo>
                <a:cubicBezTo>
                  <a:pt x="3257" y="16322"/>
                  <a:pt x="3281" y="16345"/>
                  <a:pt x="3329" y="16372"/>
                </a:cubicBezTo>
                <a:cubicBezTo>
                  <a:pt x="3396" y="16320"/>
                  <a:pt x="3412" y="16257"/>
                  <a:pt x="3432" y="16174"/>
                </a:cubicBezTo>
                <a:cubicBezTo>
                  <a:pt x="3464" y="16044"/>
                  <a:pt x="3474" y="15910"/>
                  <a:pt x="3488" y="15777"/>
                </a:cubicBezTo>
                <a:cubicBezTo>
                  <a:pt x="3490" y="15754"/>
                  <a:pt x="3490" y="15596"/>
                  <a:pt x="3495" y="15629"/>
                </a:cubicBezTo>
                <a:cubicBezTo>
                  <a:pt x="3496" y="15642"/>
                  <a:pt x="3497" y="15654"/>
                  <a:pt x="3498" y="1566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1449360" y="5668920"/>
            <a:ext cx="865080" cy="362160"/>
          </a:xfrm>
          <a:custGeom>
            <a:avLst/>
            <a:gdLst/>
            <a:ahLst/>
            <a:rect l="l" t="t" r="r" b="b"/>
            <a:pathLst>
              <a:path w="2401" h="1004">
                <a:moveTo>
                  <a:pt x="4027" y="16011"/>
                </a:moveTo>
                <a:cubicBezTo>
                  <a:pt x="4031" y="16080"/>
                  <a:pt x="4038" y="16145"/>
                  <a:pt x="4047" y="16213"/>
                </a:cubicBezTo>
                <a:cubicBezTo>
                  <a:pt x="4059" y="16309"/>
                  <a:pt x="4079" y="16403"/>
                  <a:pt x="4092" y="16499"/>
                </a:cubicBezTo>
                <a:cubicBezTo>
                  <a:pt x="4100" y="16558"/>
                  <a:pt x="4106" y="16616"/>
                  <a:pt x="4109" y="16675"/>
                </a:cubicBezTo>
                <a:cubicBezTo>
                  <a:pt x="4092" y="16637"/>
                  <a:pt x="4081" y="16591"/>
                  <a:pt x="4076" y="16541"/>
                </a:cubicBezTo>
                <a:cubicBezTo>
                  <a:pt x="4061" y="16388"/>
                  <a:pt x="4064" y="16229"/>
                  <a:pt x="4086" y="16077"/>
                </a:cubicBezTo>
                <a:cubicBezTo>
                  <a:pt x="4096" y="16006"/>
                  <a:pt x="4111" y="15876"/>
                  <a:pt x="4179" y="15831"/>
                </a:cubicBezTo>
                <a:cubicBezTo>
                  <a:pt x="4188" y="15830"/>
                  <a:pt x="4196" y="15829"/>
                  <a:pt x="4205" y="15828"/>
                </a:cubicBezTo>
                <a:cubicBezTo>
                  <a:pt x="4256" y="15888"/>
                  <a:pt x="4269" y="15943"/>
                  <a:pt x="4271" y="16024"/>
                </a:cubicBezTo>
                <a:cubicBezTo>
                  <a:pt x="4273" y="16115"/>
                  <a:pt x="4253" y="16209"/>
                  <a:pt x="4203" y="16286"/>
                </a:cubicBezTo>
                <a:cubicBezTo>
                  <a:pt x="4173" y="16332"/>
                  <a:pt x="4143" y="16355"/>
                  <a:pt x="4098" y="16328"/>
                </a:cubicBezTo>
                <a:cubicBezTo>
                  <a:pt x="4085" y="16249"/>
                  <a:pt x="4117" y="16198"/>
                  <a:pt x="4153" y="16126"/>
                </a:cubicBezTo>
              </a:path>
              <a:path w="2401" h="1004">
                <a:moveTo>
                  <a:pt x="4497" y="15891"/>
                </a:moveTo>
                <a:cubicBezTo>
                  <a:pt x="4514" y="15942"/>
                  <a:pt x="4508" y="15972"/>
                  <a:pt x="4501" y="16024"/>
                </a:cubicBezTo>
                <a:cubicBezTo>
                  <a:pt x="4495" y="16068"/>
                  <a:pt x="4483" y="16108"/>
                  <a:pt x="4473" y="16151"/>
                </a:cubicBezTo>
                <a:cubicBezTo>
                  <a:pt x="4490" y="16123"/>
                  <a:pt x="4495" y="16113"/>
                  <a:pt x="4497" y="16091"/>
                </a:cubicBezTo>
              </a:path>
              <a:path w="2401" h="1004">
                <a:moveTo>
                  <a:pt x="4510" y="15809"/>
                </a:moveTo>
                <a:cubicBezTo>
                  <a:pt x="4511" y="15782"/>
                  <a:pt x="4512" y="15781"/>
                  <a:pt x="4524" y="15763"/>
                </a:cubicBezTo>
                <a:cubicBezTo>
                  <a:pt x="4526" y="15758"/>
                  <a:pt x="4529" y="15752"/>
                  <a:pt x="4531" y="15747"/>
                </a:cubicBezTo>
              </a:path>
              <a:path w="2401" h="1004">
                <a:moveTo>
                  <a:pt x="5035" y="15920"/>
                </a:moveTo>
                <a:cubicBezTo>
                  <a:pt x="5021" y="15927"/>
                  <a:pt x="4986" y="15939"/>
                  <a:pt x="4962" y="15949"/>
                </a:cubicBezTo>
                <a:cubicBezTo>
                  <a:pt x="4906" y="15972"/>
                  <a:pt x="4856" y="16008"/>
                  <a:pt x="4821" y="16059"/>
                </a:cubicBezTo>
                <a:cubicBezTo>
                  <a:pt x="4791" y="16103"/>
                  <a:pt x="4766" y="16169"/>
                  <a:pt x="4800" y="16218"/>
                </a:cubicBezTo>
                <a:cubicBezTo>
                  <a:pt x="4840" y="16275"/>
                  <a:pt x="4923" y="16251"/>
                  <a:pt x="4971" y="16224"/>
                </a:cubicBezTo>
                <a:cubicBezTo>
                  <a:pt x="5006" y="16205"/>
                  <a:pt x="5035" y="16175"/>
                  <a:pt x="5067" y="16152"/>
                </a:cubicBezTo>
                <a:cubicBezTo>
                  <a:pt x="5094" y="16191"/>
                  <a:pt x="5101" y="16212"/>
                  <a:pt x="5101" y="16269"/>
                </a:cubicBezTo>
                <a:cubicBezTo>
                  <a:pt x="5102" y="16372"/>
                  <a:pt x="5082" y="16479"/>
                  <a:pt x="5043" y="16574"/>
                </a:cubicBezTo>
                <a:cubicBezTo>
                  <a:pt x="5015" y="16641"/>
                  <a:pt x="4957" y="16738"/>
                  <a:pt x="4876" y="16750"/>
                </a:cubicBezTo>
                <a:cubicBezTo>
                  <a:pt x="4798" y="16762"/>
                  <a:pt x="4779" y="16666"/>
                  <a:pt x="4777" y="16611"/>
                </a:cubicBezTo>
                <a:cubicBezTo>
                  <a:pt x="4781" y="16534"/>
                  <a:pt x="4783" y="16508"/>
                  <a:pt x="4799" y="16458"/>
                </a:cubicBezTo>
              </a:path>
              <a:path w="2401" h="1004">
                <a:moveTo>
                  <a:pt x="5208" y="16166"/>
                </a:moveTo>
                <a:cubicBezTo>
                  <a:pt x="5246" y="16144"/>
                  <a:pt x="5247" y="16128"/>
                  <a:pt x="5268" y="16092"/>
                </a:cubicBezTo>
                <a:cubicBezTo>
                  <a:pt x="5290" y="16055"/>
                  <a:pt x="5307" y="16020"/>
                  <a:pt x="5322" y="15979"/>
                </a:cubicBezTo>
                <a:cubicBezTo>
                  <a:pt x="5329" y="15958"/>
                  <a:pt x="5326" y="15950"/>
                  <a:pt x="5326" y="15931"/>
                </a:cubicBezTo>
                <a:cubicBezTo>
                  <a:pt x="5293" y="15942"/>
                  <a:pt x="5277" y="15952"/>
                  <a:pt x="5252" y="15985"/>
                </a:cubicBezTo>
                <a:cubicBezTo>
                  <a:pt x="5209" y="16042"/>
                  <a:pt x="5173" y="16104"/>
                  <a:pt x="5156" y="16174"/>
                </a:cubicBezTo>
                <a:cubicBezTo>
                  <a:pt x="5142" y="16231"/>
                  <a:pt x="5139" y="16303"/>
                  <a:pt x="5193" y="16341"/>
                </a:cubicBezTo>
                <a:cubicBezTo>
                  <a:pt x="5244" y="16377"/>
                  <a:pt x="5332" y="16350"/>
                  <a:pt x="5382" y="16326"/>
                </a:cubicBezTo>
                <a:cubicBezTo>
                  <a:pt x="5429" y="16297"/>
                  <a:pt x="5444" y="16288"/>
                  <a:pt x="5471" y="16262"/>
                </a:cubicBezTo>
              </a:path>
              <a:path w="2401" h="1004">
                <a:moveTo>
                  <a:pt x="5551" y="16024"/>
                </a:moveTo>
                <a:cubicBezTo>
                  <a:pt x="5545" y="15998"/>
                  <a:pt x="5542" y="15989"/>
                  <a:pt x="5527" y="15968"/>
                </a:cubicBezTo>
                <a:cubicBezTo>
                  <a:pt x="5498" y="15997"/>
                  <a:pt x="5484" y="16026"/>
                  <a:pt x="5469" y="16066"/>
                </a:cubicBezTo>
                <a:cubicBezTo>
                  <a:pt x="5447" y="16126"/>
                  <a:pt x="5422" y="16200"/>
                  <a:pt x="5452" y="16261"/>
                </a:cubicBezTo>
                <a:cubicBezTo>
                  <a:pt x="5471" y="16300"/>
                  <a:pt x="5510" y="16299"/>
                  <a:pt x="5545" y="16281"/>
                </a:cubicBezTo>
                <a:cubicBezTo>
                  <a:pt x="5591" y="16257"/>
                  <a:pt x="5619" y="16211"/>
                  <a:pt x="5636" y="16164"/>
                </a:cubicBezTo>
                <a:cubicBezTo>
                  <a:pt x="5653" y="16117"/>
                  <a:pt x="5660" y="16068"/>
                  <a:pt x="5665" y="16018"/>
                </a:cubicBezTo>
                <a:cubicBezTo>
                  <a:pt x="5667" y="15996"/>
                  <a:pt x="5668" y="15975"/>
                  <a:pt x="5672" y="15954"/>
                </a:cubicBezTo>
                <a:cubicBezTo>
                  <a:pt x="5686" y="15964"/>
                  <a:pt x="5692" y="15966"/>
                  <a:pt x="5696" y="15995"/>
                </a:cubicBezTo>
                <a:cubicBezTo>
                  <a:pt x="5702" y="16037"/>
                  <a:pt x="5699" y="16078"/>
                  <a:pt x="5697" y="16120"/>
                </a:cubicBezTo>
                <a:cubicBezTo>
                  <a:pt x="5695" y="16165"/>
                  <a:pt x="5691" y="16211"/>
                  <a:pt x="5685" y="16256"/>
                </a:cubicBezTo>
                <a:cubicBezTo>
                  <a:pt x="5684" y="16262"/>
                  <a:pt x="5683" y="16268"/>
                  <a:pt x="5682" y="16274"/>
                </a:cubicBezTo>
                <a:cubicBezTo>
                  <a:pt x="5698" y="16233"/>
                  <a:pt x="5708" y="16189"/>
                  <a:pt x="5723" y="16147"/>
                </a:cubicBezTo>
                <a:cubicBezTo>
                  <a:pt x="5740" y="16099"/>
                  <a:pt x="5760" y="16043"/>
                  <a:pt x="5795" y="16004"/>
                </a:cubicBezTo>
                <a:cubicBezTo>
                  <a:pt x="5811" y="15991"/>
                  <a:pt x="5815" y="15987"/>
                  <a:pt x="5829" y="15988"/>
                </a:cubicBezTo>
                <a:cubicBezTo>
                  <a:pt x="5859" y="16013"/>
                  <a:pt x="5865" y="16041"/>
                  <a:pt x="5874" y="16080"/>
                </a:cubicBezTo>
                <a:cubicBezTo>
                  <a:pt x="5882" y="16112"/>
                  <a:pt x="5885" y="16156"/>
                  <a:pt x="5907" y="16183"/>
                </a:cubicBezTo>
                <a:cubicBezTo>
                  <a:pt x="5929" y="16209"/>
                  <a:pt x="5951" y="16184"/>
                  <a:pt x="5970" y="16165"/>
                </a:cubicBezTo>
                <a:cubicBezTo>
                  <a:pt x="5977" y="16157"/>
                  <a:pt x="5984" y="16148"/>
                  <a:pt x="5991" y="16140"/>
                </a:cubicBezTo>
              </a:path>
              <a:path w="2401" h="1004">
                <a:moveTo>
                  <a:pt x="6090" y="15938"/>
                </a:moveTo>
                <a:cubicBezTo>
                  <a:pt x="6106" y="15946"/>
                  <a:pt x="6121" y="15952"/>
                  <a:pt x="6137" y="15958"/>
                </a:cubicBezTo>
                <a:cubicBezTo>
                  <a:pt x="6161" y="15967"/>
                  <a:pt x="6175" y="15979"/>
                  <a:pt x="6179" y="16005"/>
                </a:cubicBezTo>
                <a:cubicBezTo>
                  <a:pt x="6182" y="16026"/>
                  <a:pt x="6171" y="16042"/>
                  <a:pt x="6159" y="16058"/>
                </a:cubicBezTo>
                <a:cubicBezTo>
                  <a:pt x="6151" y="16069"/>
                  <a:pt x="6141" y="16079"/>
                  <a:pt x="6131" y="16089"/>
                </a:cubicBezTo>
                <a:cubicBezTo>
                  <a:pt x="6160" y="16089"/>
                  <a:pt x="6185" y="16089"/>
                  <a:pt x="6213" y="16096"/>
                </a:cubicBezTo>
                <a:cubicBezTo>
                  <a:pt x="6261" y="16108"/>
                  <a:pt x="6297" y="16131"/>
                  <a:pt x="6334" y="16163"/>
                </a:cubicBezTo>
                <a:cubicBezTo>
                  <a:pt x="6355" y="16181"/>
                  <a:pt x="6365" y="16196"/>
                  <a:pt x="6376" y="16220"/>
                </a:cubicBezTo>
                <a:cubicBezTo>
                  <a:pt x="6356" y="16204"/>
                  <a:pt x="6344" y="16190"/>
                  <a:pt x="6328" y="16169"/>
                </a:cubicBezTo>
              </a:path>
              <a:path w="2401" h="1004">
                <a:moveTo>
                  <a:pt x="6139" y="15835"/>
                </a:moveTo>
                <a:cubicBezTo>
                  <a:pt x="6169" y="15817"/>
                  <a:pt x="6193" y="15809"/>
                  <a:pt x="6226" y="15800"/>
                </a:cubicBezTo>
                <a:cubicBezTo>
                  <a:pt x="6268" y="15788"/>
                  <a:pt x="6307" y="15782"/>
                  <a:pt x="6352" y="15784"/>
                </a:cubicBezTo>
                <a:cubicBezTo>
                  <a:pt x="6378" y="15785"/>
                  <a:pt x="6402" y="15791"/>
                  <a:pt x="6427" y="1579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2809800" y="5599080"/>
            <a:ext cx="141480" cy="243000"/>
          </a:xfrm>
          <a:custGeom>
            <a:avLst/>
            <a:gdLst/>
            <a:ahLst/>
            <a:rect l="l" t="t" r="r" b="b"/>
            <a:pathLst>
              <a:path w="391" h="674">
                <a:moveTo>
                  <a:pt x="7827" y="15554"/>
                </a:moveTo>
                <a:cubicBezTo>
                  <a:pt x="7797" y="15566"/>
                  <a:pt x="7803" y="15632"/>
                  <a:pt x="7805" y="15671"/>
                </a:cubicBezTo>
                <a:cubicBezTo>
                  <a:pt x="7810" y="15784"/>
                  <a:pt x="7822" y="15898"/>
                  <a:pt x="7835" y="16011"/>
                </a:cubicBezTo>
                <a:cubicBezTo>
                  <a:pt x="7841" y="16061"/>
                  <a:pt x="7841" y="16186"/>
                  <a:pt x="7884" y="16225"/>
                </a:cubicBezTo>
                <a:cubicBezTo>
                  <a:pt x="7901" y="16222"/>
                  <a:pt x="7907" y="16218"/>
                  <a:pt x="7908" y="16200"/>
                </a:cubicBezTo>
              </a:path>
              <a:path w="391" h="674">
                <a:moveTo>
                  <a:pt x="8022" y="15647"/>
                </a:moveTo>
                <a:cubicBezTo>
                  <a:pt x="8028" y="15655"/>
                  <a:pt x="8030" y="15669"/>
                  <a:pt x="8014" y="15716"/>
                </a:cubicBezTo>
                <a:cubicBezTo>
                  <a:pt x="7984" y="15803"/>
                  <a:pt x="7943" y="15885"/>
                  <a:pt x="7904" y="15969"/>
                </a:cubicBezTo>
                <a:cubicBezTo>
                  <a:pt x="7876" y="16028"/>
                  <a:pt x="7820" y="16103"/>
                  <a:pt x="7820" y="16172"/>
                </a:cubicBezTo>
                <a:cubicBezTo>
                  <a:pt x="7822" y="16178"/>
                  <a:pt x="7825" y="16185"/>
                  <a:pt x="7827" y="16191"/>
                </a:cubicBezTo>
                <a:cubicBezTo>
                  <a:pt x="7883" y="16198"/>
                  <a:pt x="7941" y="16193"/>
                  <a:pt x="7998" y="16187"/>
                </a:cubicBezTo>
                <a:cubicBezTo>
                  <a:pt x="8064" y="16180"/>
                  <a:pt x="8129" y="16171"/>
                  <a:pt x="8195" y="1616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3159000" y="5567400"/>
            <a:ext cx="695520" cy="325440"/>
          </a:xfrm>
          <a:custGeom>
            <a:avLst/>
            <a:gdLst/>
            <a:ahLst/>
            <a:rect l="l" t="t" r="r" b="b"/>
            <a:pathLst>
              <a:path w="1931" h="903">
                <a:moveTo>
                  <a:pt x="8822" y="15530"/>
                </a:moveTo>
                <a:cubicBezTo>
                  <a:pt x="8777" y="15541"/>
                  <a:pt x="8772" y="15600"/>
                  <a:pt x="8775" y="15650"/>
                </a:cubicBezTo>
                <a:cubicBezTo>
                  <a:pt x="8782" y="15766"/>
                  <a:pt x="8812" y="15884"/>
                  <a:pt x="8838" y="15996"/>
                </a:cubicBezTo>
                <a:cubicBezTo>
                  <a:pt x="8852" y="16057"/>
                  <a:pt x="8861" y="16154"/>
                  <a:pt x="8896" y="16208"/>
                </a:cubicBezTo>
                <a:cubicBezTo>
                  <a:pt x="8899" y="16209"/>
                  <a:pt x="8902" y="16210"/>
                  <a:pt x="8905" y="16211"/>
                </a:cubicBezTo>
                <a:cubicBezTo>
                  <a:pt x="8932" y="16133"/>
                  <a:pt x="8946" y="16048"/>
                  <a:pt x="8992" y="15978"/>
                </a:cubicBezTo>
                <a:cubicBezTo>
                  <a:pt x="9013" y="15953"/>
                  <a:pt x="9017" y="15946"/>
                  <a:pt x="9038" y="15940"/>
                </a:cubicBezTo>
                <a:cubicBezTo>
                  <a:pt x="9097" y="15981"/>
                  <a:pt x="9108" y="16040"/>
                  <a:pt x="9134" y="16107"/>
                </a:cubicBezTo>
                <a:cubicBezTo>
                  <a:pt x="9165" y="16187"/>
                  <a:pt x="9185" y="16288"/>
                  <a:pt x="9251" y="16349"/>
                </a:cubicBezTo>
                <a:cubicBezTo>
                  <a:pt x="9284" y="16367"/>
                  <a:pt x="9295" y="16373"/>
                  <a:pt x="9322" y="16364"/>
                </a:cubicBezTo>
              </a:path>
              <a:path w="1931" h="903">
                <a:moveTo>
                  <a:pt x="9462" y="15920"/>
                </a:moveTo>
                <a:cubicBezTo>
                  <a:pt x="9403" y="15914"/>
                  <a:pt x="9393" y="15936"/>
                  <a:pt x="9353" y="15976"/>
                </a:cubicBezTo>
                <a:cubicBezTo>
                  <a:pt x="9303" y="16027"/>
                  <a:pt x="9258" y="16087"/>
                  <a:pt x="9244" y="16160"/>
                </a:cubicBezTo>
                <a:cubicBezTo>
                  <a:pt x="9233" y="16221"/>
                  <a:pt x="9267" y="16264"/>
                  <a:pt x="9329" y="16263"/>
                </a:cubicBezTo>
                <a:cubicBezTo>
                  <a:pt x="9406" y="16262"/>
                  <a:pt x="9488" y="16213"/>
                  <a:pt x="9547" y="16168"/>
                </a:cubicBezTo>
                <a:cubicBezTo>
                  <a:pt x="9601" y="16127"/>
                  <a:pt x="9636" y="16079"/>
                  <a:pt x="9654" y="16014"/>
                </a:cubicBezTo>
                <a:cubicBezTo>
                  <a:pt x="9665" y="15973"/>
                  <a:pt x="9646" y="15933"/>
                  <a:pt x="9635" y="15893"/>
                </a:cubicBezTo>
                <a:cubicBezTo>
                  <a:pt x="9632" y="15881"/>
                  <a:pt x="9628" y="15868"/>
                  <a:pt x="9625" y="15856"/>
                </a:cubicBezTo>
              </a:path>
              <a:path w="1931" h="903">
                <a:moveTo>
                  <a:pt x="9632" y="15465"/>
                </a:moveTo>
                <a:cubicBezTo>
                  <a:pt x="9638" y="15527"/>
                  <a:pt x="9633" y="15590"/>
                  <a:pt x="9637" y="15652"/>
                </a:cubicBezTo>
                <a:cubicBezTo>
                  <a:pt x="9646" y="15781"/>
                  <a:pt x="9670" y="15907"/>
                  <a:pt x="9701" y="16032"/>
                </a:cubicBezTo>
                <a:cubicBezTo>
                  <a:pt x="9722" y="16118"/>
                  <a:pt x="9742" y="16181"/>
                  <a:pt x="9802" y="16245"/>
                </a:cubicBezTo>
              </a:path>
              <a:path w="1931" h="903">
                <a:moveTo>
                  <a:pt x="9974" y="16049"/>
                </a:moveTo>
                <a:cubicBezTo>
                  <a:pt x="10003" y="16049"/>
                  <a:pt x="10044" y="16042"/>
                  <a:pt x="10069" y="16025"/>
                </a:cubicBezTo>
                <a:cubicBezTo>
                  <a:pt x="10114" y="15994"/>
                  <a:pt x="10161" y="15958"/>
                  <a:pt x="10196" y="15914"/>
                </a:cubicBezTo>
                <a:cubicBezTo>
                  <a:pt x="10226" y="15876"/>
                  <a:pt x="10237" y="15853"/>
                  <a:pt x="10217" y="15811"/>
                </a:cubicBezTo>
                <a:cubicBezTo>
                  <a:pt x="10165" y="15800"/>
                  <a:pt x="10132" y="15806"/>
                  <a:pt x="10084" y="15833"/>
                </a:cubicBezTo>
                <a:cubicBezTo>
                  <a:pt x="10024" y="15867"/>
                  <a:pt x="9946" y="15929"/>
                  <a:pt x="9956" y="16007"/>
                </a:cubicBezTo>
                <a:cubicBezTo>
                  <a:pt x="9964" y="16069"/>
                  <a:pt x="10053" y="16082"/>
                  <a:pt x="10102" y="16085"/>
                </a:cubicBezTo>
                <a:cubicBezTo>
                  <a:pt x="10194" y="16090"/>
                  <a:pt x="10285" y="16064"/>
                  <a:pt x="10374" y="16043"/>
                </a:cubicBezTo>
              </a:path>
              <a:path w="1931" h="903">
                <a:moveTo>
                  <a:pt x="10586" y="15844"/>
                </a:moveTo>
                <a:cubicBezTo>
                  <a:pt x="10560" y="15812"/>
                  <a:pt x="10533" y="15795"/>
                  <a:pt x="10488" y="15798"/>
                </a:cubicBezTo>
                <a:cubicBezTo>
                  <a:pt x="10457" y="15800"/>
                  <a:pt x="10407" y="15810"/>
                  <a:pt x="10381" y="15829"/>
                </a:cubicBezTo>
                <a:cubicBezTo>
                  <a:pt x="10379" y="15832"/>
                  <a:pt x="10378" y="15835"/>
                  <a:pt x="10376" y="15838"/>
                </a:cubicBezTo>
                <a:cubicBezTo>
                  <a:pt x="10426" y="15854"/>
                  <a:pt x="10479" y="15858"/>
                  <a:pt x="10530" y="15872"/>
                </a:cubicBezTo>
                <a:cubicBezTo>
                  <a:pt x="10590" y="15888"/>
                  <a:pt x="10658" y="15918"/>
                  <a:pt x="10691" y="15975"/>
                </a:cubicBezTo>
                <a:cubicBezTo>
                  <a:pt x="10720" y="16026"/>
                  <a:pt x="10702" y="16079"/>
                  <a:pt x="10662" y="16117"/>
                </a:cubicBezTo>
                <a:cubicBezTo>
                  <a:pt x="10628" y="16149"/>
                  <a:pt x="10580" y="16167"/>
                  <a:pt x="10534" y="16151"/>
                </a:cubicBezTo>
                <a:cubicBezTo>
                  <a:pt x="10501" y="16140"/>
                  <a:pt x="10495" y="16115"/>
                  <a:pt x="10482" y="1608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4173480" y="5489640"/>
            <a:ext cx="406440" cy="568440"/>
          </a:xfrm>
          <a:custGeom>
            <a:avLst/>
            <a:gdLst/>
            <a:ahLst/>
            <a:rect l="l" t="t" r="r" b="b"/>
            <a:pathLst>
              <a:path w="1130" h="1576">
                <a:moveTo>
                  <a:pt x="11762" y="15757"/>
                </a:moveTo>
                <a:cubicBezTo>
                  <a:pt x="11745" y="15728"/>
                  <a:pt x="11737" y="15720"/>
                  <a:pt x="11707" y="15735"/>
                </a:cubicBezTo>
                <a:cubicBezTo>
                  <a:pt x="11658" y="15759"/>
                  <a:pt x="11629" y="15821"/>
                  <a:pt x="11611" y="15871"/>
                </a:cubicBezTo>
                <a:cubicBezTo>
                  <a:pt x="11596" y="15915"/>
                  <a:pt x="11576" y="15994"/>
                  <a:pt x="11598" y="16039"/>
                </a:cubicBezTo>
                <a:cubicBezTo>
                  <a:pt x="11603" y="16042"/>
                  <a:pt x="11607" y="16046"/>
                  <a:pt x="11612" y="16049"/>
                </a:cubicBezTo>
                <a:cubicBezTo>
                  <a:pt x="11659" y="16031"/>
                  <a:pt x="11680" y="15999"/>
                  <a:pt x="11703" y="15953"/>
                </a:cubicBezTo>
                <a:cubicBezTo>
                  <a:pt x="11731" y="15898"/>
                  <a:pt x="11747" y="15837"/>
                  <a:pt x="11770" y="15780"/>
                </a:cubicBezTo>
                <a:cubicBezTo>
                  <a:pt x="11796" y="15789"/>
                  <a:pt x="11796" y="15809"/>
                  <a:pt x="11818" y="15830"/>
                </a:cubicBezTo>
                <a:cubicBezTo>
                  <a:pt x="11840" y="15851"/>
                  <a:pt x="11851" y="15849"/>
                  <a:pt x="11879" y="15849"/>
                </a:cubicBezTo>
              </a:path>
              <a:path w="1130" h="1576">
                <a:moveTo>
                  <a:pt x="11982" y="15324"/>
                </a:moveTo>
                <a:cubicBezTo>
                  <a:pt x="11972" y="15293"/>
                  <a:pt x="11968" y="15275"/>
                  <a:pt x="11948" y="15251"/>
                </a:cubicBezTo>
                <a:cubicBezTo>
                  <a:pt x="11933" y="15310"/>
                  <a:pt x="11940" y="15366"/>
                  <a:pt x="11947" y="15427"/>
                </a:cubicBezTo>
                <a:cubicBezTo>
                  <a:pt x="11961" y="15544"/>
                  <a:pt x="11979" y="15664"/>
                  <a:pt x="12007" y="15778"/>
                </a:cubicBezTo>
                <a:cubicBezTo>
                  <a:pt x="12018" y="15825"/>
                  <a:pt x="12033" y="15871"/>
                  <a:pt x="12049" y="15917"/>
                </a:cubicBezTo>
              </a:path>
              <a:path w="1130" h="1576">
                <a:moveTo>
                  <a:pt x="11906" y="15676"/>
                </a:moveTo>
                <a:cubicBezTo>
                  <a:pt x="11892" y="15653"/>
                  <a:pt x="11852" y="15607"/>
                  <a:pt x="11870" y="15575"/>
                </a:cubicBezTo>
                <a:cubicBezTo>
                  <a:pt x="11887" y="15546"/>
                  <a:pt x="11947" y="15517"/>
                  <a:pt x="11976" y="15506"/>
                </a:cubicBezTo>
                <a:cubicBezTo>
                  <a:pt x="12014" y="15492"/>
                  <a:pt x="12056" y="15481"/>
                  <a:pt x="12095" y="15468"/>
                </a:cubicBezTo>
              </a:path>
              <a:path w="1130" h="1576">
                <a:moveTo>
                  <a:pt x="11698" y="16326"/>
                </a:moveTo>
                <a:cubicBezTo>
                  <a:pt x="11687" y="16315"/>
                  <a:pt x="11683" y="16312"/>
                  <a:pt x="11672" y="16313"/>
                </a:cubicBezTo>
                <a:cubicBezTo>
                  <a:pt x="11646" y="16356"/>
                  <a:pt x="11646" y="16393"/>
                  <a:pt x="11643" y="16444"/>
                </a:cubicBezTo>
                <a:cubicBezTo>
                  <a:pt x="11638" y="16531"/>
                  <a:pt x="11638" y="16623"/>
                  <a:pt x="11651" y="16710"/>
                </a:cubicBezTo>
                <a:cubicBezTo>
                  <a:pt x="11653" y="16722"/>
                  <a:pt x="11669" y="16842"/>
                  <a:pt x="11708" y="16826"/>
                </a:cubicBezTo>
                <a:cubicBezTo>
                  <a:pt x="11713" y="16821"/>
                  <a:pt x="11717" y="16816"/>
                  <a:pt x="11722" y="16811"/>
                </a:cubicBezTo>
              </a:path>
              <a:path w="1130" h="1576">
                <a:moveTo>
                  <a:pt x="11759" y="16614"/>
                </a:moveTo>
                <a:cubicBezTo>
                  <a:pt x="11771" y="16644"/>
                  <a:pt x="11794" y="16605"/>
                  <a:pt x="11814" y="16589"/>
                </a:cubicBezTo>
                <a:cubicBezTo>
                  <a:pt x="11854" y="16557"/>
                  <a:pt x="11887" y="16523"/>
                  <a:pt x="11918" y="16482"/>
                </a:cubicBezTo>
                <a:cubicBezTo>
                  <a:pt x="11935" y="16459"/>
                  <a:pt x="11943" y="16445"/>
                  <a:pt x="11951" y="16418"/>
                </a:cubicBezTo>
                <a:cubicBezTo>
                  <a:pt x="11911" y="16419"/>
                  <a:pt x="11893" y="16442"/>
                  <a:pt x="11867" y="16474"/>
                </a:cubicBezTo>
                <a:cubicBezTo>
                  <a:pt x="11826" y="16525"/>
                  <a:pt x="11789" y="16588"/>
                  <a:pt x="11785" y="16655"/>
                </a:cubicBezTo>
                <a:cubicBezTo>
                  <a:pt x="11783" y="16692"/>
                  <a:pt x="11807" y="16722"/>
                  <a:pt x="11846" y="16721"/>
                </a:cubicBezTo>
                <a:cubicBezTo>
                  <a:pt x="11888" y="16720"/>
                  <a:pt x="11925" y="16698"/>
                  <a:pt x="11962" y="16681"/>
                </a:cubicBezTo>
              </a:path>
              <a:path w="1130" h="1576">
                <a:moveTo>
                  <a:pt x="12147" y="16394"/>
                </a:moveTo>
                <a:cubicBezTo>
                  <a:pt x="12096" y="16409"/>
                  <a:pt x="12074" y="16427"/>
                  <a:pt x="12035" y="16461"/>
                </a:cubicBezTo>
                <a:cubicBezTo>
                  <a:pt x="12000" y="16491"/>
                  <a:pt x="11959" y="16528"/>
                  <a:pt x="11957" y="16579"/>
                </a:cubicBezTo>
                <a:cubicBezTo>
                  <a:pt x="11959" y="16585"/>
                  <a:pt x="11960" y="16590"/>
                  <a:pt x="11962" y="16596"/>
                </a:cubicBezTo>
                <a:cubicBezTo>
                  <a:pt x="12005" y="16605"/>
                  <a:pt x="12039" y="16585"/>
                  <a:pt x="12077" y="16560"/>
                </a:cubicBezTo>
                <a:cubicBezTo>
                  <a:pt x="12122" y="16530"/>
                  <a:pt x="12158" y="16493"/>
                  <a:pt x="12196" y="16455"/>
                </a:cubicBezTo>
                <a:cubicBezTo>
                  <a:pt x="12210" y="16442"/>
                  <a:pt x="12212" y="16438"/>
                  <a:pt x="12223" y="16433"/>
                </a:cubicBezTo>
                <a:cubicBezTo>
                  <a:pt x="12235" y="16461"/>
                  <a:pt x="12232" y="16487"/>
                  <a:pt x="12234" y="16518"/>
                </a:cubicBezTo>
                <a:cubicBezTo>
                  <a:pt x="12236" y="16563"/>
                  <a:pt x="12236" y="16616"/>
                  <a:pt x="12258" y="16657"/>
                </a:cubicBezTo>
                <a:cubicBezTo>
                  <a:pt x="12269" y="16677"/>
                  <a:pt x="12290" y="16691"/>
                  <a:pt x="12311" y="16677"/>
                </a:cubicBezTo>
                <a:cubicBezTo>
                  <a:pt x="12324" y="16668"/>
                  <a:pt x="12326" y="16653"/>
                  <a:pt x="12329" y="16639"/>
                </a:cubicBezTo>
              </a:path>
              <a:path w="1130" h="1576">
                <a:moveTo>
                  <a:pt x="12435" y="16299"/>
                </a:moveTo>
                <a:cubicBezTo>
                  <a:pt x="12435" y="16295"/>
                  <a:pt x="12436" y="16290"/>
                  <a:pt x="12436" y="16286"/>
                </a:cubicBezTo>
                <a:cubicBezTo>
                  <a:pt x="12405" y="16291"/>
                  <a:pt x="12390" y="16309"/>
                  <a:pt x="12369" y="16333"/>
                </a:cubicBezTo>
                <a:cubicBezTo>
                  <a:pt x="12344" y="16363"/>
                  <a:pt x="12314" y="16399"/>
                  <a:pt x="12308" y="16438"/>
                </a:cubicBezTo>
                <a:cubicBezTo>
                  <a:pt x="12338" y="16446"/>
                  <a:pt x="12364" y="16442"/>
                  <a:pt x="12395" y="16445"/>
                </a:cubicBezTo>
                <a:cubicBezTo>
                  <a:pt x="12425" y="16448"/>
                  <a:pt x="12451" y="16463"/>
                  <a:pt x="12468" y="16488"/>
                </a:cubicBezTo>
                <a:cubicBezTo>
                  <a:pt x="12481" y="16508"/>
                  <a:pt x="12488" y="16539"/>
                  <a:pt x="12482" y="16563"/>
                </a:cubicBezTo>
                <a:cubicBezTo>
                  <a:pt x="12475" y="16594"/>
                  <a:pt x="12462" y="16488"/>
                  <a:pt x="12462" y="16485"/>
                </a:cubicBezTo>
              </a:path>
              <a:path w="1130" h="1576">
                <a:moveTo>
                  <a:pt x="12513" y="16011"/>
                </a:moveTo>
                <a:cubicBezTo>
                  <a:pt x="12550" y="16117"/>
                  <a:pt x="12566" y="16228"/>
                  <a:pt x="12602" y="16336"/>
                </a:cubicBezTo>
                <a:cubicBezTo>
                  <a:pt x="12619" y="16387"/>
                  <a:pt x="12637" y="16438"/>
                  <a:pt x="12650" y="16490"/>
                </a:cubicBezTo>
              </a:path>
              <a:path w="1130" h="1576">
                <a:moveTo>
                  <a:pt x="12465" y="16212"/>
                </a:moveTo>
                <a:cubicBezTo>
                  <a:pt x="12464" y="16165"/>
                  <a:pt x="12471" y="16165"/>
                  <a:pt x="12507" y="16139"/>
                </a:cubicBezTo>
                <a:cubicBezTo>
                  <a:pt x="12559" y="16102"/>
                  <a:pt x="12612" y="16087"/>
                  <a:pt x="12673" y="16069"/>
                </a:cubicBezTo>
                <a:cubicBezTo>
                  <a:pt x="12689" y="16064"/>
                  <a:pt x="12705" y="16059"/>
                  <a:pt x="12721" y="1605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4686480" y="5554800"/>
            <a:ext cx="177480" cy="363240"/>
          </a:xfrm>
          <a:custGeom>
            <a:avLst/>
            <a:gdLst/>
            <a:ahLst/>
            <a:rect l="l" t="t" r="r" b="b"/>
            <a:pathLst>
              <a:path w="492" h="1009">
                <a:moveTo>
                  <a:pt x="13170" y="15444"/>
                </a:moveTo>
                <a:cubicBezTo>
                  <a:pt x="13148" y="15496"/>
                  <a:pt x="13150" y="15524"/>
                  <a:pt x="13145" y="15580"/>
                </a:cubicBezTo>
                <a:cubicBezTo>
                  <a:pt x="13130" y="15739"/>
                  <a:pt x="13121" y="15899"/>
                  <a:pt x="13114" y="16058"/>
                </a:cubicBezTo>
                <a:cubicBezTo>
                  <a:pt x="13109" y="16177"/>
                  <a:pt x="13102" y="16300"/>
                  <a:pt x="13121" y="16418"/>
                </a:cubicBezTo>
                <a:cubicBezTo>
                  <a:pt x="13127" y="16455"/>
                  <a:pt x="13144" y="16385"/>
                  <a:pt x="13150" y="16348"/>
                </a:cubicBezTo>
              </a:path>
              <a:path w="492" h="1009">
                <a:moveTo>
                  <a:pt x="13046" y="15565"/>
                </a:moveTo>
                <a:cubicBezTo>
                  <a:pt x="13033" y="15556"/>
                  <a:pt x="13029" y="15552"/>
                  <a:pt x="13019" y="15547"/>
                </a:cubicBezTo>
                <a:cubicBezTo>
                  <a:pt x="13045" y="15548"/>
                  <a:pt x="13068" y="15540"/>
                  <a:pt x="13093" y="15531"/>
                </a:cubicBezTo>
                <a:cubicBezTo>
                  <a:pt x="13166" y="15505"/>
                  <a:pt x="13239" y="15480"/>
                  <a:pt x="13315" y="15465"/>
                </a:cubicBezTo>
                <a:cubicBezTo>
                  <a:pt x="13365" y="15455"/>
                  <a:pt x="13420" y="15453"/>
                  <a:pt x="13462" y="15487"/>
                </a:cubicBezTo>
                <a:cubicBezTo>
                  <a:pt x="13500" y="15518"/>
                  <a:pt x="13525" y="15601"/>
                  <a:pt x="13508" y="15649"/>
                </a:cubicBezTo>
                <a:cubicBezTo>
                  <a:pt x="13501" y="15669"/>
                  <a:pt x="13483" y="15686"/>
                  <a:pt x="13464" y="15692"/>
                </a:cubicBezTo>
                <a:cubicBezTo>
                  <a:pt x="13460" y="15693"/>
                  <a:pt x="13456" y="15694"/>
                  <a:pt x="13452" y="1569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4989600" y="5559480"/>
            <a:ext cx="239760" cy="439560"/>
          </a:xfrm>
          <a:custGeom>
            <a:avLst/>
            <a:gdLst/>
            <a:ahLst/>
            <a:rect l="l" t="t" r="r" b="b"/>
            <a:pathLst>
              <a:path w="668" h="1220">
                <a:moveTo>
                  <a:pt x="13940" y="15916"/>
                </a:moveTo>
                <a:cubicBezTo>
                  <a:pt x="13961" y="15937"/>
                  <a:pt x="13951" y="15939"/>
                  <a:pt x="13955" y="15909"/>
                </a:cubicBezTo>
                <a:cubicBezTo>
                  <a:pt x="13964" y="15836"/>
                  <a:pt x="13973" y="15763"/>
                  <a:pt x="13986" y="15690"/>
                </a:cubicBezTo>
                <a:cubicBezTo>
                  <a:pt x="13998" y="15623"/>
                  <a:pt x="14005" y="15541"/>
                  <a:pt x="14033" y="15478"/>
                </a:cubicBezTo>
                <a:cubicBezTo>
                  <a:pt x="14036" y="15474"/>
                  <a:pt x="14039" y="15470"/>
                  <a:pt x="14042" y="15466"/>
                </a:cubicBezTo>
                <a:cubicBezTo>
                  <a:pt x="14063" y="15526"/>
                  <a:pt x="14067" y="15589"/>
                  <a:pt x="14081" y="15652"/>
                </a:cubicBezTo>
                <a:cubicBezTo>
                  <a:pt x="14097" y="15726"/>
                  <a:pt x="14113" y="15808"/>
                  <a:pt x="14160" y="15870"/>
                </a:cubicBezTo>
                <a:cubicBezTo>
                  <a:pt x="14193" y="15913"/>
                  <a:pt x="14230" y="15895"/>
                  <a:pt x="14251" y="15853"/>
                </a:cubicBezTo>
                <a:cubicBezTo>
                  <a:pt x="14304" y="15748"/>
                  <a:pt x="14316" y="15603"/>
                  <a:pt x="14319" y="15487"/>
                </a:cubicBezTo>
                <a:cubicBezTo>
                  <a:pt x="14320" y="15449"/>
                  <a:pt x="14330" y="15440"/>
                  <a:pt x="14301" y="15465"/>
                </a:cubicBezTo>
              </a:path>
              <a:path w="668" h="1220">
                <a:moveTo>
                  <a:pt x="13872" y="16121"/>
                </a:moveTo>
                <a:cubicBezTo>
                  <a:pt x="13843" y="16105"/>
                  <a:pt x="13926" y="16106"/>
                  <a:pt x="13938" y="16105"/>
                </a:cubicBezTo>
                <a:cubicBezTo>
                  <a:pt x="14036" y="16095"/>
                  <a:pt x="14135" y="16085"/>
                  <a:pt x="14232" y="16072"/>
                </a:cubicBezTo>
                <a:cubicBezTo>
                  <a:pt x="14268" y="16067"/>
                  <a:pt x="14347" y="16048"/>
                  <a:pt x="14383" y="16065"/>
                </a:cubicBezTo>
                <a:cubicBezTo>
                  <a:pt x="14383" y="16068"/>
                  <a:pt x="14384" y="16071"/>
                  <a:pt x="14384" y="16074"/>
                </a:cubicBezTo>
              </a:path>
              <a:path w="668" h="1220">
                <a:moveTo>
                  <a:pt x="14167" y="16252"/>
                </a:moveTo>
                <a:cubicBezTo>
                  <a:pt x="14147" y="16311"/>
                  <a:pt x="14143" y="16363"/>
                  <a:pt x="14142" y="16425"/>
                </a:cubicBezTo>
                <a:cubicBezTo>
                  <a:pt x="14141" y="16487"/>
                  <a:pt x="14142" y="16552"/>
                  <a:pt x="14160" y="16612"/>
                </a:cubicBezTo>
                <a:cubicBezTo>
                  <a:pt x="14169" y="16642"/>
                  <a:pt x="14173" y="16652"/>
                  <a:pt x="14196" y="16664"/>
                </a:cubicBezTo>
                <a:cubicBezTo>
                  <a:pt x="14212" y="16648"/>
                  <a:pt x="14218" y="16640"/>
                  <a:pt x="14222" y="16624"/>
                </a:cubicBezTo>
              </a:path>
              <a:path w="668" h="1220">
                <a:moveTo>
                  <a:pt x="14335" y="16218"/>
                </a:moveTo>
                <a:cubicBezTo>
                  <a:pt x="14348" y="16220"/>
                  <a:pt x="14341" y="16246"/>
                  <a:pt x="14332" y="16264"/>
                </a:cubicBezTo>
                <a:cubicBezTo>
                  <a:pt x="14311" y="16304"/>
                  <a:pt x="14283" y="16345"/>
                  <a:pt x="14258" y="16383"/>
                </a:cubicBezTo>
                <a:cubicBezTo>
                  <a:pt x="14241" y="16410"/>
                  <a:pt x="14209" y="16445"/>
                  <a:pt x="14209" y="16479"/>
                </a:cubicBezTo>
                <a:cubicBezTo>
                  <a:pt x="14209" y="16510"/>
                  <a:pt x="14252" y="16501"/>
                  <a:pt x="14269" y="16499"/>
                </a:cubicBezTo>
                <a:cubicBezTo>
                  <a:pt x="14319" y="16493"/>
                  <a:pt x="14376" y="16473"/>
                  <a:pt x="14421" y="16450"/>
                </a:cubicBezTo>
                <a:cubicBezTo>
                  <a:pt x="14459" y="16431"/>
                  <a:pt x="14492" y="16406"/>
                  <a:pt x="14526" y="1638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5348160" y="5580000"/>
            <a:ext cx="79560" cy="338040"/>
          </a:xfrm>
          <a:custGeom>
            <a:avLst/>
            <a:gdLst/>
            <a:ahLst/>
            <a:rect l="l" t="t" r="r" b="b"/>
            <a:pathLst>
              <a:path w="221" h="939">
                <a:moveTo>
                  <a:pt x="14874" y="15566"/>
                </a:moveTo>
                <a:cubicBezTo>
                  <a:pt x="14868" y="15568"/>
                  <a:pt x="14862" y="15569"/>
                  <a:pt x="14856" y="15571"/>
                </a:cubicBezTo>
                <a:cubicBezTo>
                  <a:pt x="14875" y="15559"/>
                  <a:pt x="14893" y="15546"/>
                  <a:pt x="14912" y="15534"/>
                </a:cubicBezTo>
                <a:cubicBezTo>
                  <a:pt x="14922" y="15528"/>
                  <a:pt x="14958" y="15501"/>
                  <a:pt x="14969" y="15501"/>
                </a:cubicBezTo>
                <a:cubicBezTo>
                  <a:pt x="14997" y="15501"/>
                  <a:pt x="15005" y="15516"/>
                  <a:pt x="15017" y="15542"/>
                </a:cubicBezTo>
                <a:cubicBezTo>
                  <a:pt x="15069" y="15648"/>
                  <a:pt x="15074" y="15783"/>
                  <a:pt x="15076" y="15898"/>
                </a:cubicBezTo>
                <a:cubicBezTo>
                  <a:pt x="15077" y="15970"/>
                  <a:pt x="15072" y="16042"/>
                  <a:pt x="15066" y="16114"/>
                </a:cubicBezTo>
                <a:cubicBezTo>
                  <a:pt x="15061" y="16176"/>
                  <a:pt x="15050" y="16237"/>
                  <a:pt x="15046" y="16299"/>
                </a:cubicBezTo>
                <a:cubicBezTo>
                  <a:pt x="15045" y="16321"/>
                  <a:pt x="15052" y="16324"/>
                  <a:pt x="15057" y="16344"/>
                </a:cubicBezTo>
                <a:cubicBezTo>
                  <a:pt x="15061" y="16361"/>
                  <a:pt x="15058" y="16376"/>
                  <a:pt x="15059" y="16393"/>
                </a:cubicBezTo>
                <a:cubicBezTo>
                  <a:pt x="15060" y="16408"/>
                  <a:pt x="15063" y="16422"/>
                  <a:pt x="15066" y="16437"/>
                </a:cubicBezTo>
                <a:cubicBezTo>
                  <a:pt x="15071" y="16408"/>
                  <a:pt x="15073" y="16388"/>
                  <a:pt x="15070" y="1635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5754600" y="5632560"/>
            <a:ext cx="851040" cy="271440"/>
          </a:xfrm>
          <a:custGeom>
            <a:avLst/>
            <a:gdLst/>
            <a:ahLst/>
            <a:rect l="l" t="t" r="r" b="b"/>
            <a:pathLst>
              <a:path w="2367" h="755">
                <a:moveTo>
                  <a:pt x="15988" y="15708"/>
                </a:moveTo>
                <a:cubicBezTo>
                  <a:pt x="15984" y="15780"/>
                  <a:pt x="15989" y="15857"/>
                  <a:pt x="16004" y="15928"/>
                </a:cubicBezTo>
                <a:cubicBezTo>
                  <a:pt x="16027" y="16034"/>
                  <a:pt x="16057" y="16139"/>
                  <a:pt x="16080" y="16245"/>
                </a:cubicBezTo>
                <a:cubicBezTo>
                  <a:pt x="16092" y="16299"/>
                  <a:pt x="16105" y="16348"/>
                  <a:pt x="16089" y="16400"/>
                </a:cubicBezTo>
                <a:cubicBezTo>
                  <a:pt x="16057" y="16369"/>
                  <a:pt x="16045" y="16354"/>
                  <a:pt x="16041" y="16299"/>
                </a:cubicBezTo>
                <a:cubicBezTo>
                  <a:pt x="16032" y="16174"/>
                  <a:pt x="16065" y="16041"/>
                  <a:pt x="16110" y="15925"/>
                </a:cubicBezTo>
                <a:cubicBezTo>
                  <a:pt x="16129" y="15878"/>
                  <a:pt x="16172" y="15762"/>
                  <a:pt x="16230" y="15745"/>
                </a:cubicBezTo>
                <a:cubicBezTo>
                  <a:pt x="16238" y="15747"/>
                  <a:pt x="16245" y="15749"/>
                  <a:pt x="16253" y="15751"/>
                </a:cubicBezTo>
                <a:cubicBezTo>
                  <a:pt x="16284" y="15815"/>
                  <a:pt x="16284" y="15866"/>
                  <a:pt x="16274" y="15938"/>
                </a:cubicBezTo>
                <a:cubicBezTo>
                  <a:pt x="16265" y="16002"/>
                  <a:pt x="16248" y="16092"/>
                  <a:pt x="16196" y="16138"/>
                </a:cubicBezTo>
                <a:cubicBezTo>
                  <a:pt x="16176" y="16146"/>
                  <a:pt x="16172" y="16150"/>
                  <a:pt x="16158" y="16146"/>
                </a:cubicBezTo>
                <a:cubicBezTo>
                  <a:pt x="16139" y="16080"/>
                  <a:pt x="16158" y="16029"/>
                  <a:pt x="16176" y="15962"/>
                </a:cubicBezTo>
              </a:path>
              <a:path w="2367" h="755">
                <a:moveTo>
                  <a:pt x="16487" y="15761"/>
                </a:moveTo>
                <a:cubicBezTo>
                  <a:pt x="16497" y="15811"/>
                  <a:pt x="16506" y="15861"/>
                  <a:pt x="16509" y="15912"/>
                </a:cubicBezTo>
                <a:cubicBezTo>
                  <a:pt x="16511" y="15940"/>
                  <a:pt x="16507" y="15978"/>
                  <a:pt x="16498" y="15928"/>
                </a:cubicBezTo>
              </a:path>
              <a:path w="2367" h="755">
                <a:moveTo>
                  <a:pt x="16873" y="15648"/>
                </a:moveTo>
                <a:cubicBezTo>
                  <a:pt x="16843" y="15655"/>
                  <a:pt x="16837" y="15657"/>
                  <a:pt x="16814" y="15681"/>
                </a:cubicBezTo>
                <a:cubicBezTo>
                  <a:pt x="16775" y="15720"/>
                  <a:pt x="16744" y="15766"/>
                  <a:pt x="16720" y="15816"/>
                </a:cubicBezTo>
                <a:cubicBezTo>
                  <a:pt x="16703" y="15852"/>
                  <a:pt x="16674" y="15914"/>
                  <a:pt x="16703" y="15953"/>
                </a:cubicBezTo>
                <a:cubicBezTo>
                  <a:pt x="16709" y="15957"/>
                  <a:pt x="16714" y="15960"/>
                  <a:pt x="16720" y="15964"/>
                </a:cubicBezTo>
                <a:cubicBezTo>
                  <a:pt x="16771" y="15954"/>
                  <a:pt x="16806" y="15934"/>
                  <a:pt x="16845" y="15898"/>
                </a:cubicBezTo>
                <a:cubicBezTo>
                  <a:pt x="16876" y="15870"/>
                  <a:pt x="16902" y="15838"/>
                  <a:pt x="16935" y="15813"/>
                </a:cubicBezTo>
                <a:cubicBezTo>
                  <a:pt x="16968" y="15842"/>
                  <a:pt x="16965" y="15887"/>
                  <a:pt x="16966" y="15931"/>
                </a:cubicBezTo>
                <a:cubicBezTo>
                  <a:pt x="16969" y="16023"/>
                  <a:pt x="16961" y="16119"/>
                  <a:pt x="16940" y="16209"/>
                </a:cubicBezTo>
                <a:cubicBezTo>
                  <a:pt x="16925" y="16274"/>
                  <a:pt x="16906" y="16319"/>
                  <a:pt x="16848" y="16349"/>
                </a:cubicBezTo>
                <a:cubicBezTo>
                  <a:pt x="16800" y="16305"/>
                  <a:pt x="16785" y="16262"/>
                  <a:pt x="16783" y="16194"/>
                </a:cubicBezTo>
                <a:cubicBezTo>
                  <a:pt x="16784" y="16172"/>
                  <a:pt x="16785" y="16149"/>
                  <a:pt x="16786" y="16127"/>
                </a:cubicBezTo>
              </a:path>
              <a:path w="2367" h="755">
                <a:moveTo>
                  <a:pt x="17043" y="15821"/>
                </a:moveTo>
                <a:cubicBezTo>
                  <a:pt x="17078" y="15812"/>
                  <a:pt x="17127" y="15795"/>
                  <a:pt x="17154" y="15771"/>
                </a:cubicBezTo>
                <a:cubicBezTo>
                  <a:pt x="17173" y="15754"/>
                  <a:pt x="17203" y="15716"/>
                  <a:pt x="17206" y="15688"/>
                </a:cubicBezTo>
                <a:cubicBezTo>
                  <a:pt x="17205" y="15685"/>
                  <a:pt x="17204" y="15682"/>
                  <a:pt x="17203" y="15679"/>
                </a:cubicBezTo>
                <a:cubicBezTo>
                  <a:pt x="17170" y="15685"/>
                  <a:pt x="17154" y="15707"/>
                  <a:pt x="17134" y="15734"/>
                </a:cubicBezTo>
                <a:cubicBezTo>
                  <a:pt x="17099" y="15782"/>
                  <a:pt x="17074" y="15834"/>
                  <a:pt x="17063" y="15892"/>
                </a:cubicBezTo>
                <a:cubicBezTo>
                  <a:pt x="17055" y="15936"/>
                  <a:pt x="17056" y="15987"/>
                  <a:pt x="17103" y="16007"/>
                </a:cubicBezTo>
                <a:cubicBezTo>
                  <a:pt x="17134" y="16021"/>
                  <a:pt x="17170" y="16011"/>
                  <a:pt x="17202" y="16007"/>
                </a:cubicBezTo>
              </a:path>
              <a:path w="2367" h="755">
                <a:moveTo>
                  <a:pt x="17465" y="15730"/>
                </a:moveTo>
                <a:cubicBezTo>
                  <a:pt x="17442" y="15707"/>
                  <a:pt x="17423" y="15741"/>
                  <a:pt x="17405" y="15762"/>
                </a:cubicBezTo>
                <a:cubicBezTo>
                  <a:pt x="17370" y="15803"/>
                  <a:pt x="17341" y="15849"/>
                  <a:pt x="17324" y="15901"/>
                </a:cubicBezTo>
                <a:cubicBezTo>
                  <a:pt x="17316" y="15926"/>
                  <a:pt x="17307" y="15978"/>
                  <a:pt x="17350" y="15976"/>
                </a:cubicBezTo>
                <a:cubicBezTo>
                  <a:pt x="17389" y="15974"/>
                  <a:pt x="17428" y="15939"/>
                  <a:pt x="17456" y="15916"/>
                </a:cubicBezTo>
                <a:cubicBezTo>
                  <a:pt x="17489" y="15888"/>
                  <a:pt x="17515" y="15846"/>
                  <a:pt x="17530" y="15805"/>
                </a:cubicBezTo>
                <a:cubicBezTo>
                  <a:pt x="17537" y="15778"/>
                  <a:pt x="17540" y="15770"/>
                  <a:pt x="17546" y="15753"/>
                </a:cubicBezTo>
              </a:path>
              <a:path w="2367" h="755">
                <a:moveTo>
                  <a:pt x="17622" y="15825"/>
                </a:moveTo>
                <a:cubicBezTo>
                  <a:pt x="17625" y="15862"/>
                  <a:pt x="17623" y="15911"/>
                  <a:pt x="17636" y="15946"/>
                </a:cubicBezTo>
                <a:cubicBezTo>
                  <a:pt x="17640" y="15953"/>
                  <a:pt x="17644" y="15960"/>
                  <a:pt x="17648" y="15967"/>
                </a:cubicBezTo>
                <a:cubicBezTo>
                  <a:pt x="17687" y="15962"/>
                  <a:pt x="17696" y="15934"/>
                  <a:pt x="17717" y="15898"/>
                </a:cubicBezTo>
                <a:cubicBezTo>
                  <a:pt x="17742" y="15857"/>
                  <a:pt x="17762" y="15802"/>
                  <a:pt x="17803" y="15779"/>
                </a:cubicBezTo>
                <a:cubicBezTo>
                  <a:pt x="17836" y="15809"/>
                  <a:pt x="17838" y="15845"/>
                  <a:pt x="17847" y="15889"/>
                </a:cubicBezTo>
                <a:cubicBezTo>
                  <a:pt x="17860" y="15953"/>
                  <a:pt x="17864" y="16017"/>
                  <a:pt x="17885" y="16079"/>
                </a:cubicBezTo>
                <a:cubicBezTo>
                  <a:pt x="17895" y="16102"/>
                  <a:pt x="17896" y="16108"/>
                  <a:pt x="17908" y="16119"/>
                </a:cubicBezTo>
              </a:path>
              <a:path w="2367" h="755">
                <a:moveTo>
                  <a:pt x="18249" y="15865"/>
                </a:moveTo>
                <a:cubicBezTo>
                  <a:pt x="18213" y="15860"/>
                  <a:pt x="18165" y="15858"/>
                  <a:pt x="18129" y="15866"/>
                </a:cubicBezTo>
                <a:cubicBezTo>
                  <a:pt x="18113" y="15870"/>
                  <a:pt x="18092" y="15881"/>
                  <a:pt x="18076" y="15888"/>
                </a:cubicBezTo>
                <a:cubicBezTo>
                  <a:pt x="18117" y="15886"/>
                  <a:pt x="18154" y="15889"/>
                  <a:pt x="18195" y="15897"/>
                </a:cubicBezTo>
                <a:cubicBezTo>
                  <a:pt x="18255" y="15909"/>
                  <a:pt x="18305" y="15932"/>
                  <a:pt x="18335" y="15988"/>
                </a:cubicBezTo>
                <a:cubicBezTo>
                  <a:pt x="18361" y="16036"/>
                  <a:pt x="18355" y="16099"/>
                  <a:pt x="18323" y="16143"/>
                </a:cubicBezTo>
                <a:cubicBezTo>
                  <a:pt x="18300" y="16174"/>
                  <a:pt x="18256" y="16207"/>
                  <a:pt x="18216" y="16201"/>
                </a:cubicBezTo>
                <a:cubicBezTo>
                  <a:pt x="18210" y="16198"/>
                  <a:pt x="18204" y="16196"/>
                  <a:pt x="18198" y="1619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6883560" y="5646600"/>
            <a:ext cx="185400" cy="212760"/>
          </a:xfrm>
          <a:custGeom>
            <a:avLst/>
            <a:gdLst/>
            <a:ahLst/>
            <a:rect l="l" t="t" r="r" b="b"/>
            <a:pathLst>
              <a:path w="516" h="591">
                <a:moveTo>
                  <a:pt x="19201" y="16018"/>
                </a:moveTo>
                <a:cubicBezTo>
                  <a:pt x="19178" y="16045"/>
                  <a:pt x="19153" y="16081"/>
                  <a:pt x="19143" y="16116"/>
                </a:cubicBezTo>
                <a:cubicBezTo>
                  <a:pt x="19129" y="16163"/>
                  <a:pt x="19124" y="16209"/>
                  <a:pt x="19123" y="16257"/>
                </a:cubicBezTo>
                <a:cubicBezTo>
                  <a:pt x="19122" y="16298"/>
                  <a:pt x="19137" y="16263"/>
                  <a:pt x="19145" y="16249"/>
                </a:cubicBezTo>
              </a:path>
              <a:path w="516" h="591">
                <a:moveTo>
                  <a:pt x="19189" y="15747"/>
                </a:moveTo>
                <a:cubicBezTo>
                  <a:pt x="19201" y="15721"/>
                  <a:pt x="19204" y="15687"/>
                  <a:pt x="19240" y="15686"/>
                </a:cubicBezTo>
                <a:cubicBezTo>
                  <a:pt x="19284" y="15685"/>
                  <a:pt x="19309" y="15743"/>
                  <a:pt x="19323" y="15775"/>
                </a:cubicBezTo>
                <a:cubicBezTo>
                  <a:pt x="19355" y="15849"/>
                  <a:pt x="19370" y="15938"/>
                  <a:pt x="19377" y="16018"/>
                </a:cubicBezTo>
                <a:cubicBezTo>
                  <a:pt x="19383" y="16079"/>
                  <a:pt x="19392" y="16151"/>
                  <a:pt x="19385" y="16213"/>
                </a:cubicBezTo>
                <a:cubicBezTo>
                  <a:pt x="19383" y="16218"/>
                  <a:pt x="19381" y="16223"/>
                  <a:pt x="19379" y="16228"/>
                </a:cubicBezTo>
                <a:cubicBezTo>
                  <a:pt x="19391" y="16179"/>
                  <a:pt x="19406" y="16132"/>
                  <a:pt x="19422" y="16085"/>
                </a:cubicBezTo>
                <a:cubicBezTo>
                  <a:pt x="19447" y="16012"/>
                  <a:pt x="19475" y="15908"/>
                  <a:pt x="19539" y="15857"/>
                </a:cubicBezTo>
                <a:cubicBezTo>
                  <a:pt x="19558" y="15849"/>
                  <a:pt x="19563" y="15845"/>
                  <a:pt x="19575" y="15856"/>
                </a:cubicBezTo>
                <a:cubicBezTo>
                  <a:pt x="19590" y="15906"/>
                  <a:pt x="19600" y="15961"/>
                  <a:pt x="19602" y="16014"/>
                </a:cubicBezTo>
                <a:cubicBezTo>
                  <a:pt x="19604" y="16074"/>
                  <a:pt x="19601" y="16125"/>
                  <a:pt x="19637" y="1617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7302600" y="5730840"/>
            <a:ext cx="384120" cy="114480"/>
          </a:xfrm>
          <a:custGeom>
            <a:avLst/>
            <a:gdLst/>
            <a:ahLst/>
            <a:rect l="l" t="t" r="r" b="b"/>
            <a:pathLst>
              <a:path w="1065" h="317">
                <a:moveTo>
                  <a:pt x="20623" y="15962"/>
                </a:moveTo>
                <a:cubicBezTo>
                  <a:pt x="20607" y="15931"/>
                  <a:pt x="20579" y="15930"/>
                  <a:pt x="20544" y="15946"/>
                </a:cubicBezTo>
                <a:cubicBezTo>
                  <a:pt x="20478" y="15976"/>
                  <a:pt x="20419" y="16026"/>
                  <a:pt x="20367" y="16076"/>
                </a:cubicBezTo>
                <a:cubicBezTo>
                  <a:pt x="20348" y="16095"/>
                  <a:pt x="20269" y="16166"/>
                  <a:pt x="20286" y="16202"/>
                </a:cubicBezTo>
                <a:cubicBezTo>
                  <a:pt x="20291" y="16204"/>
                  <a:pt x="20296" y="16206"/>
                  <a:pt x="20301" y="16208"/>
                </a:cubicBezTo>
                <a:cubicBezTo>
                  <a:pt x="20373" y="16188"/>
                  <a:pt x="20433" y="16150"/>
                  <a:pt x="20492" y="16105"/>
                </a:cubicBezTo>
                <a:cubicBezTo>
                  <a:pt x="20534" y="16073"/>
                  <a:pt x="20571" y="16033"/>
                  <a:pt x="20607" y="15995"/>
                </a:cubicBezTo>
                <a:cubicBezTo>
                  <a:pt x="20623" y="15978"/>
                  <a:pt x="20624" y="15968"/>
                  <a:pt x="20629" y="15946"/>
                </a:cubicBezTo>
              </a:path>
              <a:path w="1065" h="317">
                <a:moveTo>
                  <a:pt x="20840" y="16005"/>
                </a:moveTo>
                <a:cubicBezTo>
                  <a:pt x="20835" y="16048"/>
                  <a:pt x="20830" y="16096"/>
                  <a:pt x="20818" y="16137"/>
                </a:cubicBezTo>
                <a:cubicBezTo>
                  <a:pt x="20807" y="16159"/>
                  <a:pt x="20804" y="16166"/>
                  <a:pt x="20803" y="16182"/>
                </a:cubicBezTo>
                <a:cubicBezTo>
                  <a:pt x="20799" y="16218"/>
                  <a:pt x="20824" y="16129"/>
                  <a:pt x="20826" y="16124"/>
                </a:cubicBezTo>
                <a:cubicBezTo>
                  <a:pt x="20845" y="16072"/>
                  <a:pt x="20864" y="16020"/>
                  <a:pt x="20889" y="15970"/>
                </a:cubicBezTo>
                <a:cubicBezTo>
                  <a:pt x="20900" y="15948"/>
                  <a:pt x="20909" y="15934"/>
                  <a:pt x="20927" y="15919"/>
                </a:cubicBezTo>
                <a:cubicBezTo>
                  <a:pt x="20948" y="15951"/>
                  <a:pt x="20951" y="15987"/>
                  <a:pt x="20959" y="16026"/>
                </a:cubicBezTo>
                <a:cubicBezTo>
                  <a:pt x="20968" y="16068"/>
                  <a:pt x="20975" y="16103"/>
                  <a:pt x="20993" y="16141"/>
                </a:cubicBezTo>
              </a:path>
              <a:path w="1065" h="317">
                <a:moveTo>
                  <a:pt x="21101" y="16078"/>
                </a:moveTo>
                <a:cubicBezTo>
                  <a:pt x="21126" y="16057"/>
                  <a:pt x="21161" y="16036"/>
                  <a:pt x="21183" y="16015"/>
                </a:cubicBezTo>
                <a:cubicBezTo>
                  <a:pt x="21202" y="15996"/>
                  <a:pt x="21219" y="15977"/>
                  <a:pt x="21237" y="15957"/>
                </a:cubicBezTo>
                <a:cubicBezTo>
                  <a:pt x="21263" y="15937"/>
                  <a:pt x="21206" y="15985"/>
                  <a:pt x="21201" y="15991"/>
                </a:cubicBezTo>
                <a:cubicBezTo>
                  <a:pt x="21168" y="16032"/>
                  <a:pt x="21143" y="16078"/>
                  <a:pt x="21134" y="16130"/>
                </a:cubicBezTo>
                <a:cubicBezTo>
                  <a:pt x="21127" y="16170"/>
                  <a:pt x="21137" y="16214"/>
                  <a:pt x="21180" y="16227"/>
                </a:cubicBezTo>
                <a:cubicBezTo>
                  <a:pt x="21236" y="16244"/>
                  <a:pt x="21294" y="16231"/>
                  <a:pt x="21350" y="1622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7935840" y="5548320"/>
            <a:ext cx="417600" cy="247680"/>
          </a:xfrm>
          <a:custGeom>
            <a:avLst/>
            <a:gdLst/>
            <a:ahLst/>
            <a:rect l="l" t="t" r="r" b="b"/>
            <a:pathLst>
              <a:path w="1162" h="686">
                <a:moveTo>
                  <a:pt x="22124" y="15414"/>
                </a:moveTo>
                <a:cubicBezTo>
                  <a:pt x="22089" y="15459"/>
                  <a:pt x="22081" y="15493"/>
                  <a:pt x="22068" y="15549"/>
                </a:cubicBezTo>
                <a:cubicBezTo>
                  <a:pt x="22047" y="15639"/>
                  <a:pt x="22045" y="15731"/>
                  <a:pt x="22044" y="15823"/>
                </a:cubicBezTo>
                <a:cubicBezTo>
                  <a:pt x="22043" y="15874"/>
                  <a:pt x="22035" y="15946"/>
                  <a:pt x="22057" y="15995"/>
                </a:cubicBezTo>
                <a:cubicBezTo>
                  <a:pt x="22060" y="15998"/>
                  <a:pt x="22063" y="16001"/>
                  <a:pt x="22066" y="16004"/>
                </a:cubicBezTo>
                <a:cubicBezTo>
                  <a:pt x="22114" y="15947"/>
                  <a:pt x="22143" y="15876"/>
                  <a:pt x="22190" y="15818"/>
                </a:cubicBezTo>
                <a:cubicBezTo>
                  <a:pt x="22213" y="15789"/>
                  <a:pt x="22229" y="15778"/>
                  <a:pt x="22262" y="15766"/>
                </a:cubicBezTo>
                <a:cubicBezTo>
                  <a:pt x="22293" y="15804"/>
                  <a:pt x="22284" y="15843"/>
                  <a:pt x="22290" y="15891"/>
                </a:cubicBezTo>
                <a:cubicBezTo>
                  <a:pt x="22296" y="15936"/>
                  <a:pt x="22293" y="16011"/>
                  <a:pt x="22332" y="16043"/>
                </a:cubicBezTo>
                <a:cubicBezTo>
                  <a:pt x="22360" y="16054"/>
                  <a:pt x="22371" y="16057"/>
                  <a:pt x="22393" y="16052"/>
                </a:cubicBezTo>
              </a:path>
              <a:path w="1162" h="686">
                <a:moveTo>
                  <a:pt x="22642" y="15851"/>
                </a:moveTo>
                <a:cubicBezTo>
                  <a:pt x="22619" y="15835"/>
                  <a:pt x="22582" y="15849"/>
                  <a:pt x="22559" y="15868"/>
                </a:cubicBezTo>
                <a:cubicBezTo>
                  <a:pt x="22513" y="15906"/>
                  <a:pt x="22468" y="15953"/>
                  <a:pt x="22440" y="16007"/>
                </a:cubicBezTo>
                <a:cubicBezTo>
                  <a:pt x="22424" y="16038"/>
                  <a:pt x="22420" y="16058"/>
                  <a:pt x="22422" y="16091"/>
                </a:cubicBezTo>
                <a:cubicBezTo>
                  <a:pt x="22459" y="16102"/>
                  <a:pt x="22487" y="16085"/>
                  <a:pt x="22519" y="16062"/>
                </a:cubicBezTo>
                <a:cubicBezTo>
                  <a:pt x="22561" y="16033"/>
                  <a:pt x="22584" y="15996"/>
                  <a:pt x="22617" y="15961"/>
                </a:cubicBezTo>
                <a:cubicBezTo>
                  <a:pt x="22645" y="15931"/>
                  <a:pt x="22657" y="15913"/>
                  <a:pt x="22668" y="15872"/>
                </a:cubicBezTo>
                <a:cubicBezTo>
                  <a:pt x="22670" y="15863"/>
                  <a:pt x="22673" y="15853"/>
                  <a:pt x="22675" y="15844"/>
                </a:cubicBezTo>
              </a:path>
              <a:path w="1162" h="686">
                <a:moveTo>
                  <a:pt x="22824" y="15433"/>
                </a:moveTo>
                <a:cubicBezTo>
                  <a:pt x="22804" y="15468"/>
                  <a:pt x="22802" y="15492"/>
                  <a:pt x="22797" y="15532"/>
                </a:cubicBezTo>
                <a:cubicBezTo>
                  <a:pt x="22785" y="15631"/>
                  <a:pt x="22780" y="15732"/>
                  <a:pt x="22774" y="15832"/>
                </a:cubicBezTo>
                <a:cubicBezTo>
                  <a:pt x="22770" y="15898"/>
                  <a:pt x="22767" y="15974"/>
                  <a:pt x="22791" y="16038"/>
                </a:cubicBezTo>
                <a:cubicBezTo>
                  <a:pt x="22795" y="16044"/>
                  <a:pt x="22798" y="16049"/>
                  <a:pt x="22802" y="16055"/>
                </a:cubicBezTo>
              </a:path>
              <a:path w="1162" h="686">
                <a:moveTo>
                  <a:pt x="22970" y="15995"/>
                </a:moveTo>
                <a:cubicBezTo>
                  <a:pt x="22994" y="15988"/>
                  <a:pt x="23032" y="15972"/>
                  <a:pt x="23048" y="15952"/>
                </a:cubicBezTo>
                <a:cubicBezTo>
                  <a:pt x="23074" y="15920"/>
                  <a:pt x="23105" y="15876"/>
                  <a:pt x="23109" y="15833"/>
                </a:cubicBezTo>
                <a:cubicBezTo>
                  <a:pt x="23113" y="15793"/>
                  <a:pt x="23091" y="15764"/>
                  <a:pt x="23049" y="15779"/>
                </a:cubicBezTo>
                <a:cubicBezTo>
                  <a:pt x="22995" y="15799"/>
                  <a:pt x="22959" y="15854"/>
                  <a:pt x="22940" y="15905"/>
                </a:cubicBezTo>
                <a:cubicBezTo>
                  <a:pt x="22921" y="15956"/>
                  <a:pt x="22916" y="16018"/>
                  <a:pt x="22964" y="16055"/>
                </a:cubicBezTo>
                <a:cubicBezTo>
                  <a:pt x="23007" y="16088"/>
                  <a:pt x="23073" y="16082"/>
                  <a:pt x="23124" y="16076"/>
                </a:cubicBezTo>
                <a:cubicBezTo>
                  <a:pt x="23166" y="16068"/>
                  <a:pt x="23179" y="16066"/>
                  <a:pt x="23205" y="1605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5954760" y="6176880"/>
            <a:ext cx="1440" cy="4680"/>
          </a:xfrm>
          <a:custGeom>
            <a:avLst/>
            <a:gdLst/>
            <a:ahLst/>
            <a:rect l="l" t="t" r="r" b="b"/>
            <a:pathLst>
              <a:path w="3" h="14">
                <a:moveTo>
                  <a:pt x="16545" y="17172"/>
                </a:moveTo>
                <a:cubicBezTo>
                  <a:pt x="16544" y="17168"/>
                  <a:pt x="16544" y="17163"/>
                  <a:pt x="16543" y="1715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5048280" y="6186600"/>
            <a:ext cx="442800" cy="204840"/>
          </a:xfrm>
          <a:custGeom>
            <a:avLst/>
            <a:gdLst/>
            <a:ahLst/>
            <a:rect l="l" t="t" r="r" b="b"/>
            <a:pathLst>
              <a:path w="1231" h="569">
                <a:moveTo>
                  <a:pt x="14102" y="17702"/>
                </a:moveTo>
                <a:cubicBezTo>
                  <a:pt x="14097" y="17718"/>
                  <a:pt x="14091" y="17735"/>
                  <a:pt x="14086" y="17751"/>
                </a:cubicBezTo>
                <a:cubicBezTo>
                  <a:pt x="14050" y="17694"/>
                  <a:pt x="14039" y="17664"/>
                  <a:pt x="14032" y="17599"/>
                </a:cubicBezTo>
                <a:cubicBezTo>
                  <a:pt x="14026" y="17541"/>
                  <a:pt x="14021" y="17483"/>
                  <a:pt x="14021" y="17425"/>
                </a:cubicBezTo>
                <a:cubicBezTo>
                  <a:pt x="14021" y="17368"/>
                  <a:pt x="14025" y="17310"/>
                  <a:pt x="14030" y="17253"/>
                </a:cubicBezTo>
                <a:cubicBezTo>
                  <a:pt x="14032" y="17229"/>
                  <a:pt x="14036" y="17206"/>
                  <a:pt x="14040" y="17183"/>
                </a:cubicBezTo>
                <a:cubicBezTo>
                  <a:pt x="14052" y="17200"/>
                  <a:pt x="14062" y="17217"/>
                  <a:pt x="14077" y="17233"/>
                </a:cubicBezTo>
                <a:cubicBezTo>
                  <a:pt x="14099" y="17256"/>
                  <a:pt x="14130" y="17276"/>
                  <a:pt x="14160" y="17287"/>
                </a:cubicBezTo>
                <a:cubicBezTo>
                  <a:pt x="14195" y="17300"/>
                  <a:pt x="14233" y="17303"/>
                  <a:pt x="14270" y="17306"/>
                </a:cubicBezTo>
                <a:cubicBezTo>
                  <a:pt x="14291" y="17308"/>
                  <a:pt x="14353" y="17310"/>
                  <a:pt x="14332" y="17307"/>
                </a:cubicBezTo>
                <a:cubicBezTo>
                  <a:pt x="14322" y="17303"/>
                  <a:pt x="14318" y="17302"/>
                  <a:pt x="14311" y="17307"/>
                </a:cubicBezTo>
              </a:path>
              <a:path w="1231" h="569">
                <a:moveTo>
                  <a:pt x="14587" y="17441"/>
                </a:moveTo>
                <a:cubicBezTo>
                  <a:pt x="14577" y="17430"/>
                  <a:pt x="14570" y="17420"/>
                  <a:pt x="14562" y="17407"/>
                </a:cubicBezTo>
                <a:cubicBezTo>
                  <a:pt x="14609" y="17474"/>
                  <a:pt x="14656" y="17543"/>
                  <a:pt x="14712" y="17603"/>
                </a:cubicBezTo>
                <a:cubicBezTo>
                  <a:pt x="14762" y="17649"/>
                  <a:pt x="14774" y="17664"/>
                  <a:pt x="14817" y="17676"/>
                </a:cubicBezTo>
              </a:path>
              <a:path w="1231" h="569">
                <a:moveTo>
                  <a:pt x="14826" y="17399"/>
                </a:moveTo>
                <a:cubicBezTo>
                  <a:pt x="14818" y="17387"/>
                  <a:pt x="14816" y="17383"/>
                  <a:pt x="14806" y="17383"/>
                </a:cubicBezTo>
                <a:cubicBezTo>
                  <a:pt x="14754" y="17444"/>
                  <a:pt x="14717" y="17507"/>
                  <a:pt x="14686" y="17581"/>
                </a:cubicBezTo>
                <a:cubicBezTo>
                  <a:pt x="14663" y="17636"/>
                  <a:pt x="14660" y="17678"/>
                  <a:pt x="14655" y="17737"/>
                </a:cubicBezTo>
              </a:path>
              <a:path w="1231" h="569">
                <a:moveTo>
                  <a:pt x="15007" y="17220"/>
                </a:moveTo>
                <a:cubicBezTo>
                  <a:pt x="15002" y="17216"/>
                  <a:pt x="14997" y="17211"/>
                  <a:pt x="14992" y="17207"/>
                </a:cubicBezTo>
                <a:cubicBezTo>
                  <a:pt x="15016" y="17200"/>
                  <a:pt x="15037" y="17200"/>
                  <a:pt x="15062" y="17200"/>
                </a:cubicBezTo>
                <a:cubicBezTo>
                  <a:pt x="15095" y="17200"/>
                  <a:pt x="15126" y="17193"/>
                  <a:pt x="15159" y="17191"/>
                </a:cubicBezTo>
                <a:cubicBezTo>
                  <a:pt x="15169" y="17190"/>
                  <a:pt x="15209" y="17182"/>
                  <a:pt x="15218" y="17187"/>
                </a:cubicBezTo>
                <a:cubicBezTo>
                  <a:pt x="15230" y="17194"/>
                  <a:pt x="15232" y="17232"/>
                  <a:pt x="15233" y="17242"/>
                </a:cubicBezTo>
                <a:cubicBezTo>
                  <a:pt x="15237" y="17283"/>
                  <a:pt x="15240" y="17325"/>
                  <a:pt x="15243" y="17366"/>
                </a:cubicBezTo>
                <a:cubicBezTo>
                  <a:pt x="15247" y="17438"/>
                  <a:pt x="15252" y="17500"/>
                  <a:pt x="15238" y="1757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5645160" y="6207120"/>
            <a:ext cx="142920" cy="74520"/>
          </a:xfrm>
          <a:custGeom>
            <a:avLst/>
            <a:gdLst/>
            <a:ahLst/>
            <a:rect l="l" t="t" r="r" b="b"/>
            <a:pathLst>
              <a:path w="395" h="208">
                <a:moveTo>
                  <a:pt x="15693" y="17309"/>
                </a:moveTo>
                <a:cubicBezTo>
                  <a:pt x="15667" y="17321"/>
                  <a:pt x="15740" y="17300"/>
                  <a:pt x="15752" y="17298"/>
                </a:cubicBezTo>
                <a:cubicBezTo>
                  <a:pt x="15800" y="17291"/>
                  <a:pt x="15848" y="17283"/>
                  <a:pt x="15895" y="17275"/>
                </a:cubicBezTo>
                <a:cubicBezTo>
                  <a:pt x="15930" y="17269"/>
                  <a:pt x="15969" y="17268"/>
                  <a:pt x="16000" y="17249"/>
                </a:cubicBezTo>
                <a:cubicBezTo>
                  <a:pt x="16003" y="17246"/>
                  <a:pt x="16006" y="17244"/>
                  <a:pt x="16009" y="17241"/>
                </a:cubicBezTo>
              </a:path>
              <a:path w="395" h="208">
                <a:moveTo>
                  <a:pt x="15732" y="17419"/>
                </a:moveTo>
                <a:cubicBezTo>
                  <a:pt x="15721" y="17432"/>
                  <a:pt x="15718" y="17436"/>
                  <a:pt x="15719" y="17448"/>
                </a:cubicBezTo>
                <a:cubicBezTo>
                  <a:pt x="15762" y="17433"/>
                  <a:pt x="15806" y="17425"/>
                  <a:pt x="15851" y="17416"/>
                </a:cubicBezTo>
                <a:cubicBezTo>
                  <a:pt x="15906" y="17406"/>
                  <a:pt x="15959" y="17394"/>
                  <a:pt x="16015" y="17392"/>
                </a:cubicBezTo>
                <a:cubicBezTo>
                  <a:pt x="16035" y="17391"/>
                  <a:pt x="16056" y="17390"/>
                  <a:pt x="16076" y="1738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5989680" y="6022800"/>
            <a:ext cx="819000" cy="244800"/>
          </a:xfrm>
          <a:custGeom>
            <a:avLst/>
            <a:gdLst/>
            <a:ahLst/>
            <a:rect l="l" t="t" r="r" b="b"/>
            <a:pathLst>
              <a:path w="2275" h="676">
                <a:moveTo>
                  <a:pt x="16948" y="16951"/>
                </a:moveTo>
                <a:cubicBezTo>
                  <a:pt x="16932" y="16956"/>
                  <a:pt x="16919" y="16955"/>
                  <a:pt x="16903" y="16957"/>
                </a:cubicBezTo>
                <a:cubicBezTo>
                  <a:pt x="16883" y="16959"/>
                  <a:pt x="16871" y="16966"/>
                  <a:pt x="16853" y="16974"/>
                </a:cubicBezTo>
                <a:cubicBezTo>
                  <a:pt x="16825" y="16987"/>
                  <a:pt x="16800" y="17003"/>
                  <a:pt x="16775" y="17021"/>
                </a:cubicBezTo>
                <a:cubicBezTo>
                  <a:pt x="16754" y="17036"/>
                  <a:pt x="16738" y="17050"/>
                  <a:pt x="16723" y="17070"/>
                </a:cubicBezTo>
                <a:cubicBezTo>
                  <a:pt x="16740" y="17079"/>
                  <a:pt x="16759" y="17084"/>
                  <a:pt x="16777" y="17092"/>
                </a:cubicBezTo>
                <a:cubicBezTo>
                  <a:pt x="16805" y="17104"/>
                  <a:pt x="16825" y="17120"/>
                  <a:pt x="16837" y="17148"/>
                </a:cubicBezTo>
                <a:cubicBezTo>
                  <a:pt x="16855" y="17188"/>
                  <a:pt x="16853" y="17235"/>
                  <a:pt x="16829" y="17272"/>
                </a:cubicBezTo>
                <a:cubicBezTo>
                  <a:pt x="16809" y="17304"/>
                  <a:pt x="16774" y="17324"/>
                  <a:pt x="16738" y="17332"/>
                </a:cubicBezTo>
                <a:cubicBezTo>
                  <a:pt x="16718" y="17337"/>
                  <a:pt x="16659" y="17348"/>
                  <a:pt x="16643" y="17327"/>
                </a:cubicBezTo>
                <a:cubicBezTo>
                  <a:pt x="16621" y="17299"/>
                  <a:pt x="16667" y="17256"/>
                  <a:pt x="16682" y="17239"/>
                </a:cubicBezTo>
              </a:path>
              <a:path w="2275" h="676">
                <a:moveTo>
                  <a:pt x="17002" y="17016"/>
                </a:moveTo>
                <a:cubicBezTo>
                  <a:pt x="17023" y="17033"/>
                  <a:pt x="17034" y="17055"/>
                  <a:pt x="17037" y="17084"/>
                </a:cubicBezTo>
                <a:cubicBezTo>
                  <a:pt x="17041" y="17121"/>
                  <a:pt x="17044" y="17160"/>
                  <a:pt x="17043" y="17198"/>
                </a:cubicBezTo>
                <a:cubicBezTo>
                  <a:pt x="17042" y="17216"/>
                  <a:pt x="17042" y="17235"/>
                  <a:pt x="17040" y="17253"/>
                </a:cubicBezTo>
                <a:cubicBezTo>
                  <a:pt x="17042" y="17223"/>
                  <a:pt x="17050" y="17197"/>
                  <a:pt x="17059" y="17168"/>
                </a:cubicBezTo>
                <a:cubicBezTo>
                  <a:pt x="17071" y="17127"/>
                  <a:pt x="17084" y="17091"/>
                  <a:pt x="17104" y="17053"/>
                </a:cubicBezTo>
                <a:cubicBezTo>
                  <a:pt x="17114" y="17035"/>
                  <a:pt x="17119" y="17030"/>
                  <a:pt x="17136" y="17022"/>
                </a:cubicBezTo>
                <a:cubicBezTo>
                  <a:pt x="17159" y="17046"/>
                  <a:pt x="17159" y="17066"/>
                  <a:pt x="17162" y="17099"/>
                </a:cubicBezTo>
                <a:cubicBezTo>
                  <a:pt x="17165" y="17134"/>
                  <a:pt x="17170" y="17169"/>
                  <a:pt x="17166" y="17204"/>
                </a:cubicBezTo>
                <a:cubicBezTo>
                  <a:pt x="17165" y="17209"/>
                  <a:pt x="17164" y="17214"/>
                  <a:pt x="17163" y="17219"/>
                </a:cubicBezTo>
                <a:cubicBezTo>
                  <a:pt x="17166" y="17202"/>
                  <a:pt x="17169" y="17189"/>
                  <a:pt x="17178" y="17174"/>
                </a:cubicBezTo>
                <a:cubicBezTo>
                  <a:pt x="17193" y="17150"/>
                  <a:pt x="17216" y="17149"/>
                  <a:pt x="17240" y="17160"/>
                </a:cubicBezTo>
                <a:cubicBezTo>
                  <a:pt x="17257" y="17170"/>
                  <a:pt x="17262" y="17174"/>
                  <a:pt x="17274" y="17177"/>
                </a:cubicBezTo>
              </a:path>
              <a:path w="2275" h="676">
                <a:moveTo>
                  <a:pt x="17475" y="17077"/>
                </a:moveTo>
                <a:cubicBezTo>
                  <a:pt x="17474" y="17062"/>
                  <a:pt x="17475" y="17058"/>
                  <a:pt x="17468" y="17051"/>
                </a:cubicBezTo>
                <a:cubicBezTo>
                  <a:pt x="17441" y="17050"/>
                  <a:pt x="17423" y="17068"/>
                  <a:pt x="17406" y="17093"/>
                </a:cubicBezTo>
                <a:cubicBezTo>
                  <a:pt x="17387" y="17120"/>
                  <a:pt x="17359" y="17173"/>
                  <a:pt x="17366" y="17208"/>
                </a:cubicBezTo>
                <a:cubicBezTo>
                  <a:pt x="17368" y="17211"/>
                  <a:pt x="17371" y="17214"/>
                  <a:pt x="17373" y="17217"/>
                </a:cubicBezTo>
                <a:cubicBezTo>
                  <a:pt x="17402" y="17213"/>
                  <a:pt x="17416" y="17204"/>
                  <a:pt x="17442" y="17189"/>
                </a:cubicBezTo>
                <a:cubicBezTo>
                  <a:pt x="17464" y="17176"/>
                  <a:pt x="17480" y="17168"/>
                  <a:pt x="17502" y="17184"/>
                </a:cubicBezTo>
                <a:cubicBezTo>
                  <a:pt x="17525" y="17200"/>
                  <a:pt x="17533" y="17225"/>
                  <a:pt x="17549" y="17247"/>
                </a:cubicBezTo>
                <a:cubicBezTo>
                  <a:pt x="17569" y="17275"/>
                  <a:pt x="17565" y="17280"/>
                  <a:pt x="17589" y="17253"/>
                </a:cubicBezTo>
              </a:path>
              <a:path w="2275" h="676">
                <a:moveTo>
                  <a:pt x="17697" y="16779"/>
                </a:moveTo>
                <a:cubicBezTo>
                  <a:pt x="17723" y="16807"/>
                  <a:pt x="17718" y="16849"/>
                  <a:pt x="17717" y="16889"/>
                </a:cubicBezTo>
                <a:cubicBezTo>
                  <a:pt x="17715" y="16962"/>
                  <a:pt x="17712" y="17036"/>
                  <a:pt x="17714" y="17109"/>
                </a:cubicBezTo>
                <a:cubicBezTo>
                  <a:pt x="17715" y="17158"/>
                  <a:pt x="17719" y="17208"/>
                  <a:pt x="17728" y="17256"/>
                </a:cubicBezTo>
              </a:path>
              <a:path w="2275" h="676">
                <a:moveTo>
                  <a:pt x="17892" y="16732"/>
                </a:moveTo>
                <a:cubicBezTo>
                  <a:pt x="17906" y="16768"/>
                  <a:pt x="17902" y="16818"/>
                  <a:pt x="17899" y="16857"/>
                </a:cubicBezTo>
                <a:cubicBezTo>
                  <a:pt x="17892" y="16937"/>
                  <a:pt x="17883" y="17017"/>
                  <a:pt x="17880" y="17098"/>
                </a:cubicBezTo>
                <a:cubicBezTo>
                  <a:pt x="17877" y="17160"/>
                  <a:pt x="17880" y="17220"/>
                  <a:pt x="17888" y="17282"/>
                </a:cubicBezTo>
              </a:path>
              <a:path w="2275" h="676">
                <a:moveTo>
                  <a:pt x="18093" y="17128"/>
                </a:moveTo>
                <a:cubicBezTo>
                  <a:pt x="18075" y="17141"/>
                  <a:pt x="18035" y="17167"/>
                  <a:pt x="18029" y="17191"/>
                </a:cubicBezTo>
                <a:cubicBezTo>
                  <a:pt x="18030" y="17198"/>
                  <a:pt x="18030" y="17206"/>
                  <a:pt x="18031" y="17213"/>
                </a:cubicBezTo>
                <a:cubicBezTo>
                  <a:pt x="18050" y="17244"/>
                  <a:pt x="18071" y="17253"/>
                  <a:pt x="18109" y="17246"/>
                </a:cubicBezTo>
                <a:cubicBezTo>
                  <a:pt x="18169" y="17234"/>
                  <a:pt x="18224" y="17196"/>
                  <a:pt x="18252" y="17143"/>
                </a:cubicBezTo>
                <a:cubicBezTo>
                  <a:pt x="18266" y="17117"/>
                  <a:pt x="18265" y="17107"/>
                  <a:pt x="18257" y="17082"/>
                </a:cubicBezTo>
                <a:cubicBezTo>
                  <a:pt x="18219" y="17069"/>
                  <a:pt x="18192" y="17076"/>
                  <a:pt x="18158" y="17102"/>
                </a:cubicBezTo>
                <a:cubicBezTo>
                  <a:pt x="18119" y="17132"/>
                  <a:pt x="18075" y="17186"/>
                  <a:pt x="18064" y="17235"/>
                </a:cubicBezTo>
                <a:cubicBezTo>
                  <a:pt x="18054" y="17282"/>
                  <a:pt x="18091" y="17323"/>
                  <a:pt x="18136" y="17332"/>
                </a:cubicBezTo>
                <a:cubicBezTo>
                  <a:pt x="18188" y="17342"/>
                  <a:pt x="18243" y="17323"/>
                  <a:pt x="18293" y="17312"/>
                </a:cubicBezTo>
              </a:path>
              <a:path w="2275" h="676">
                <a:moveTo>
                  <a:pt x="18537" y="17118"/>
                </a:moveTo>
                <a:cubicBezTo>
                  <a:pt x="18507" y="17117"/>
                  <a:pt x="18463" y="17115"/>
                  <a:pt x="18435" y="17125"/>
                </a:cubicBezTo>
                <a:cubicBezTo>
                  <a:pt x="18408" y="17135"/>
                  <a:pt x="18382" y="17147"/>
                  <a:pt x="18354" y="17157"/>
                </a:cubicBezTo>
                <a:cubicBezTo>
                  <a:pt x="18389" y="17168"/>
                  <a:pt x="18421" y="17177"/>
                  <a:pt x="18451" y="17199"/>
                </a:cubicBezTo>
                <a:cubicBezTo>
                  <a:pt x="18491" y="17227"/>
                  <a:pt x="18522" y="17266"/>
                  <a:pt x="18537" y="17313"/>
                </a:cubicBezTo>
                <a:cubicBezTo>
                  <a:pt x="18545" y="17339"/>
                  <a:pt x="18552" y="17385"/>
                  <a:pt x="18525" y="17403"/>
                </a:cubicBezTo>
                <a:cubicBezTo>
                  <a:pt x="18498" y="17421"/>
                  <a:pt x="18482" y="17386"/>
                  <a:pt x="18479" y="17366"/>
                </a:cubicBezTo>
                <a:cubicBezTo>
                  <a:pt x="18477" y="17331"/>
                  <a:pt x="18477" y="17318"/>
                  <a:pt x="18483" y="17294"/>
                </a:cubicBezTo>
              </a:path>
              <a:path w="2275" h="676">
                <a:moveTo>
                  <a:pt x="18678" y="16885"/>
                </a:moveTo>
                <a:cubicBezTo>
                  <a:pt x="18704" y="16921"/>
                  <a:pt x="18706" y="16955"/>
                  <a:pt x="18717" y="16998"/>
                </a:cubicBezTo>
                <a:cubicBezTo>
                  <a:pt x="18735" y="17068"/>
                  <a:pt x="18757" y="17140"/>
                  <a:pt x="18767" y="17212"/>
                </a:cubicBezTo>
                <a:cubicBezTo>
                  <a:pt x="18772" y="17244"/>
                  <a:pt x="18769" y="17266"/>
                  <a:pt x="18758" y="17295"/>
                </a:cubicBezTo>
              </a:path>
              <a:path w="2275" h="676">
                <a:moveTo>
                  <a:pt x="18509" y="17088"/>
                </a:moveTo>
                <a:cubicBezTo>
                  <a:pt x="18507" y="17048"/>
                  <a:pt x="18541" y="17055"/>
                  <a:pt x="18576" y="17047"/>
                </a:cubicBezTo>
                <a:cubicBezTo>
                  <a:pt x="18650" y="17030"/>
                  <a:pt x="18721" y="17018"/>
                  <a:pt x="18797" y="17010"/>
                </a:cubicBezTo>
                <a:cubicBezTo>
                  <a:pt x="18855" y="17004"/>
                  <a:pt x="18874" y="17002"/>
                  <a:pt x="18912" y="1699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6967440" y="6032520"/>
            <a:ext cx="700200" cy="328680"/>
          </a:xfrm>
          <a:custGeom>
            <a:avLst/>
            <a:gdLst/>
            <a:ahLst/>
            <a:rect l="l" t="t" r="r" b="b"/>
            <a:pathLst>
              <a:path w="1942" h="913">
                <a:moveTo>
                  <a:pt x="19389" y="17191"/>
                </a:moveTo>
                <a:cubicBezTo>
                  <a:pt x="19413" y="17201"/>
                  <a:pt x="19394" y="17218"/>
                  <a:pt x="19394" y="17240"/>
                </a:cubicBezTo>
                <a:cubicBezTo>
                  <a:pt x="19393" y="17277"/>
                  <a:pt x="19391" y="17312"/>
                  <a:pt x="19388" y="17349"/>
                </a:cubicBezTo>
                <a:cubicBezTo>
                  <a:pt x="19388" y="17360"/>
                  <a:pt x="19388" y="17365"/>
                  <a:pt x="19390" y="17351"/>
                </a:cubicBezTo>
              </a:path>
              <a:path w="1942" h="913">
                <a:moveTo>
                  <a:pt x="19371" y="17006"/>
                </a:moveTo>
                <a:cubicBezTo>
                  <a:pt x="19365" y="16993"/>
                  <a:pt x="19344" y="16958"/>
                  <a:pt x="19361" y="16944"/>
                </a:cubicBezTo>
                <a:cubicBezTo>
                  <a:pt x="19386" y="16924"/>
                  <a:pt x="19427" y="16940"/>
                  <a:pt x="19452" y="16946"/>
                </a:cubicBezTo>
              </a:path>
              <a:path w="1942" h="913">
                <a:moveTo>
                  <a:pt x="19610" y="17306"/>
                </a:moveTo>
                <a:cubicBezTo>
                  <a:pt x="19606" y="17333"/>
                  <a:pt x="19605" y="17339"/>
                  <a:pt x="19599" y="17355"/>
                </a:cubicBezTo>
                <a:cubicBezTo>
                  <a:pt x="19584" y="17317"/>
                  <a:pt x="19595" y="17290"/>
                  <a:pt x="19612" y="17251"/>
                </a:cubicBezTo>
                <a:cubicBezTo>
                  <a:pt x="19627" y="17216"/>
                  <a:pt x="19653" y="17167"/>
                  <a:pt x="19691" y="17151"/>
                </a:cubicBezTo>
                <a:cubicBezTo>
                  <a:pt x="19729" y="17135"/>
                  <a:pt x="19749" y="17178"/>
                  <a:pt x="19760" y="17205"/>
                </a:cubicBezTo>
                <a:cubicBezTo>
                  <a:pt x="19776" y="17243"/>
                  <a:pt x="19782" y="17291"/>
                  <a:pt x="19803" y="17327"/>
                </a:cubicBezTo>
                <a:cubicBezTo>
                  <a:pt x="19806" y="17330"/>
                  <a:pt x="19809" y="17333"/>
                  <a:pt x="19812" y="17336"/>
                </a:cubicBezTo>
              </a:path>
              <a:path w="1942" h="913">
                <a:moveTo>
                  <a:pt x="19967" y="16774"/>
                </a:moveTo>
                <a:cubicBezTo>
                  <a:pt x="19954" y="16734"/>
                  <a:pt x="19959" y="16876"/>
                  <a:pt x="19959" y="16883"/>
                </a:cubicBezTo>
                <a:cubicBezTo>
                  <a:pt x="19957" y="16984"/>
                  <a:pt x="19957" y="17088"/>
                  <a:pt x="19964" y="17189"/>
                </a:cubicBezTo>
                <a:cubicBezTo>
                  <a:pt x="19969" y="17256"/>
                  <a:pt x="19976" y="17321"/>
                  <a:pt x="19977" y="17388"/>
                </a:cubicBezTo>
              </a:path>
              <a:path w="1942" h="913">
                <a:moveTo>
                  <a:pt x="19720" y="17103"/>
                </a:moveTo>
                <a:cubicBezTo>
                  <a:pt x="19753" y="17110"/>
                  <a:pt x="19792" y="17088"/>
                  <a:pt x="19826" y="17079"/>
                </a:cubicBezTo>
                <a:cubicBezTo>
                  <a:pt x="19893" y="17061"/>
                  <a:pt x="19959" y="17050"/>
                  <a:pt x="20028" y="17042"/>
                </a:cubicBezTo>
                <a:cubicBezTo>
                  <a:pt x="20067" y="17038"/>
                  <a:pt x="20100" y="17039"/>
                  <a:pt x="20138" y="17043"/>
                </a:cubicBezTo>
              </a:path>
              <a:path w="1942" h="913">
                <a:moveTo>
                  <a:pt x="20338" y="17144"/>
                </a:moveTo>
                <a:cubicBezTo>
                  <a:pt x="20324" y="17152"/>
                  <a:pt x="20314" y="17160"/>
                  <a:pt x="20302" y="17171"/>
                </a:cubicBezTo>
                <a:cubicBezTo>
                  <a:pt x="20318" y="17191"/>
                  <a:pt x="20334" y="17196"/>
                  <a:pt x="20361" y="17185"/>
                </a:cubicBezTo>
                <a:cubicBezTo>
                  <a:pt x="20386" y="17175"/>
                  <a:pt x="20407" y="17163"/>
                  <a:pt x="20421" y="17140"/>
                </a:cubicBezTo>
                <a:cubicBezTo>
                  <a:pt x="20426" y="17129"/>
                  <a:pt x="20428" y="17125"/>
                  <a:pt x="20418" y="17119"/>
                </a:cubicBezTo>
                <a:cubicBezTo>
                  <a:pt x="20389" y="17132"/>
                  <a:pt x="20364" y="17154"/>
                  <a:pt x="20342" y="17177"/>
                </a:cubicBezTo>
                <a:cubicBezTo>
                  <a:pt x="20310" y="17211"/>
                  <a:pt x="20280" y="17250"/>
                  <a:pt x="20268" y="17296"/>
                </a:cubicBezTo>
                <a:cubicBezTo>
                  <a:pt x="20256" y="17342"/>
                  <a:pt x="20286" y="17362"/>
                  <a:pt x="20325" y="17373"/>
                </a:cubicBezTo>
                <a:cubicBezTo>
                  <a:pt x="20370" y="17385"/>
                  <a:pt x="20405" y="17379"/>
                  <a:pt x="20450" y="17374"/>
                </a:cubicBezTo>
              </a:path>
              <a:path w="1942" h="913">
                <a:moveTo>
                  <a:pt x="20682" y="17152"/>
                </a:moveTo>
                <a:cubicBezTo>
                  <a:pt x="20645" y="17132"/>
                  <a:pt x="20634" y="17132"/>
                  <a:pt x="20597" y="17150"/>
                </a:cubicBezTo>
                <a:cubicBezTo>
                  <a:pt x="20557" y="17169"/>
                  <a:pt x="20527" y="17198"/>
                  <a:pt x="20507" y="17239"/>
                </a:cubicBezTo>
                <a:cubicBezTo>
                  <a:pt x="20494" y="17265"/>
                  <a:pt x="20495" y="17279"/>
                  <a:pt x="20501" y="17305"/>
                </a:cubicBezTo>
                <a:cubicBezTo>
                  <a:pt x="20528" y="17315"/>
                  <a:pt x="20548" y="17309"/>
                  <a:pt x="20576" y="17300"/>
                </a:cubicBezTo>
                <a:cubicBezTo>
                  <a:pt x="20603" y="17291"/>
                  <a:pt x="20634" y="17269"/>
                  <a:pt x="20658" y="17295"/>
                </a:cubicBezTo>
                <a:cubicBezTo>
                  <a:pt x="20690" y="17329"/>
                  <a:pt x="20691" y="17397"/>
                  <a:pt x="20692" y="17439"/>
                </a:cubicBezTo>
                <a:cubicBezTo>
                  <a:pt x="20694" y="17502"/>
                  <a:pt x="20689" y="17616"/>
                  <a:pt x="20631" y="17659"/>
                </a:cubicBezTo>
                <a:cubicBezTo>
                  <a:pt x="20558" y="17713"/>
                  <a:pt x="20505" y="17619"/>
                  <a:pt x="20492" y="17564"/>
                </a:cubicBezTo>
                <a:cubicBezTo>
                  <a:pt x="20489" y="17547"/>
                  <a:pt x="20487" y="17531"/>
                  <a:pt x="20484" y="17514"/>
                </a:cubicBezTo>
              </a:path>
              <a:path w="1942" h="913">
                <a:moveTo>
                  <a:pt x="20857" y="17265"/>
                </a:moveTo>
                <a:cubicBezTo>
                  <a:pt x="20883" y="17260"/>
                  <a:pt x="20910" y="17248"/>
                  <a:pt x="20927" y="17226"/>
                </a:cubicBezTo>
                <a:cubicBezTo>
                  <a:pt x="20952" y="17193"/>
                  <a:pt x="20975" y="17157"/>
                  <a:pt x="20997" y="17121"/>
                </a:cubicBezTo>
                <a:cubicBezTo>
                  <a:pt x="21011" y="17099"/>
                  <a:pt x="21035" y="17073"/>
                  <a:pt x="21017" y="17059"/>
                </a:cubicBezTo>
                <a:cubicBezTo>
                  <a:pt x="20986" y="17086"/>
                  <a:pt x="20960" y="17120"/>
                  <a:pt x="20939" y="17156"/>
                </a:cubicBezTo>
                <a:cubicBezTo>
                  <a:pt x="20914" y="17199"/>
                  <a:pt x="20891" y="17247"/>
                  <a:pt x="20893" y="17298"/>
                </a:cubicBezTo>
                <a:cubicBezTo>
                  <a:pt x="20894" y="17332"/>
                  <a:pt x="20920" y="17351"/>
                  <a:pt x="20953" y="17351"/>
                </a:cubicBezTo>
                <a:cubicBezTo>
                  <a:pt x="20979" y="17351"/>
                  <a:pt x="21021" y="17333"/>
                  <a:pt x="21042" y="17319"/>
                </a:cubicBezTo>
                <a:cubicBezTo>
                  <a:pt x="21051" y="17313"/>
                  <a:pt x="21082" y="17279"/>
                  <a:pt x="21087" y="17303"/>
                </a:cubicBezTo>
                <a:cubicBezTo>
                  <a:pt x="21090" y="17315"/>
                  <a:pt x="21088" y="17329"/>
                  <a:pt x="21090" y="17342"/>
                </a:cubicBezTo>
                <a:cubicBezTo>
                  <a:pt x="21092" y="17314"/>
                  <a:pt x="21094" y="17290"/>
                  <a:pt x="21102" y="17263"/>
                </a:cubicBezTo>
                <a:cubicBezTo>
                  <a:pt x="21112" y="17227"/>
                  <a:pt x="21123" y="17186"/>
                  <a:pt x="21148" y="17157"/>
                </a:cubicBezTo>
                <a:cubicBezTo>
                  <a:pt x="21168" y="17133"/>
                  <a:pt x="21207" y="17122"/>
                  <a:pt x="21237" y="17134"/>
                </a:cubicBezTo>
                <a:cubicBezTo>
                  <a:pt x="21257" y="17142"/>
                  <a:pt x="21277" y="17153"/>
                  <a:pt x="21296" y="1716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7808760" y="6124680"/>
            <a:ext cx="468360" cy="176040"/>
          </a:xfrm>
          <a:custGeom>
            <a:avLst/>
            <a:gdLst/>
            <a:ahLst/>
            <a:rect l="l" t="t" r="r" b="b"/>
            <a:pathLst>
              <a:path w="1303" h="488">
                <a:moveTo>
                  <a:pt x="21733" y="17017"/>
                </a:moveTo>
                <a:cubicBezTo>
                  <a:pt x="21718" y="17015"/>
                  <a:pt x="21705" y="17014"/>
                  <a:pt x="21690" y="17015"/>
                </a:cubicBezTo>
                <a:cubicBezTo>
                  <a:pt x="21721" y="17024"/>
                  <a:pt x="21754" y="17026"/>
                  <a:pt x="21786" y="17030"/>
                </a:cubicBezTo>
                <a:cubicBezTo>
                  <a:pt x="21858" y="17038"/>
                  <a:pt x="21931" y="17048"/>
                  <a:pt x="21997" y="17078"/>
                </a:cubicBezTo>
                <a:cubicBezTo>
                  <a:pt x="22032" y="17094"/>
                  <a:pt x="22074" y="17117"/>
                  <a:pt x="22084" y="17158"/>
                </a:cubicBezTo>
                <a:cubicBezTo>
                  <a:pt x="22093" y="17196"/>
                  <a:pt x="22065" y="17224"/>
                  <a:pt x="22041" y="17248"/>
                </a:cubicBezTo>
                <a:cubicBezTo>
                  <a:pt x="22012" y="17277"/>
                  <a:pt x="21974" y="17302"/>
                  <a:pt x="21936" y="17319"/>
                </a:cubicBezTo>
                <a:cubicBezTo>
                  <a:pt x="21914" y="17329"/>
                  <a:pt x="21885" y="17350"/>
                  <a:pt x="21889" y="17326"/>
                </a:cubicBezTo>
              </a:path>
              <a:path w="1303" h="488">
                <a:moveTo>
                  <a:pt x="21786" y="17486"/>
                </a:moveTo>
                <a:cubicBezTo>
                  <a:pt x="21784" y="17491"/>
                  <a:pt x="21782" y="17496"/>
                  <a:pt x="21780" y="17501"/>
                </a:cubicBezTo>
                <a:cubicBezTo>
                  <a:pt x="21816" y="17492"/>
                  <a:pt x="21851" y="17478"/>
                  <a:pt x="21885" y="17463"/>
                </a:cubicBezTo>
                <a:cubicBezTo>
                  <a:pt x="21934" y="17441"/>
                  <a:pt x="21980" y="17417"/>
                  <a:pt x="22029" y="17397"/>
                </a:cubicBezTo>
                <a:cubicBezTo>
                  <a:pt x="22055" y="17386"/>
                  <a:pt x="22079" y="17370"/>
                  <a:pt x="22105" y="17360"/>
                </a:cubicBezTo>
              </a:path>
              <a:path w="1303" h="488">
                <a:moveTo>
                  <a:pt x="22390" y="17202"/>
                </a:moveTo>
                <a:cubicBezTo>
                  <a:pt x="22380" y="17184"/>
                  <a:pt x="22372" y="17165"/>
                  <a:pt x="22361" y="17147"/>
                </a:cubicBezTo>
                <a:cubicBezTo>
                  <a:pt x="22357" y="17140"/>
                  <a:pt x="22353" y="17134"/>
                  <a:pt x="22349" y="17127"/>
                </a:cubicBezTo>
                <a:cubicBezTo>
                  <a:pt x="22370" y="17152"/>
                  <a:pt x="22385" y="17180"/>
                  <a:pt x="22404" y="17205"/>
                </a:cubicBezTo>
                <a:cubicBezTo>
                  <a:pt x="22438" y="17249"/>
                  <a:pt x="22472" y="17298"/>
                  <a:pt x="22511" y="17338"/>
                </a:cubicBezTo>
                <a:cubicBezTo>
                  <a:pt x="22545" y="17374"/>
                  <a:pt x="22582" y="17403"/>
                  <a:pt x="22622" y="17431"/>
                </a:cubicBezTo>
                <a:cubicBezTo>
                  <a:pt x="22642" y="17445"/>
                  <a:pt x="22665" y="17454"/>
                  <a:pt x="22678" y="17427"/>
                </a:cubicBezTo>
                <a:cubicBezTo>
                  <a:pt x="22680" y="17421"/>
                  <a:pt x="22682" y="17415"/>
                  <a:pt x="22684" y="17409"/>
                </a:cubicBezTo>
              </a:path>
              <a:path w="1303" h="488">
                <a:moveTo>
                  <a:pt x="22668" y="17109"/>
                </a:moveTo>
                <a:cubicBezTo>
                  <a:pt x="22646" y="17096"/>
                  <a:pt x="22614" y="17089"/>
                  <a:pt x="22591" y="17111"/>
                </a:cubicBezTo>
                <a:cubicBezTo>
                  <a:pt x="22560" y="17141"/>
                  <a:pt x="22541" y="17202"/>
                  <a:pt x="22525" y="17241"/>
                </a:cubicBezTo>
                <a:cubicBezTo>
                  <a:pt x="22506" y="17287"/>
                  <a:pt x="22488" y="17332"/>
                  <a:pt x="22489" y="17382"/>
                </a:cubicBezTo>
                <a:cubicBezTo>
                  <a:pt x="22489" y="17404"/>
                  <a:pt x="22488" y="17407"/>
                  <a:pt x="22505" y="17407"/>
                </a:cubicBezTo>
              </a:path>
              <a:path w="1303" h="488">
                <a:moveTo>
                  <a:pt x="22981" y="17486"/>
                </a:moveTo>
                <a:cubicBezTo>
                  <a:pt x="22982" y="17461"/>
                  <a:pt x="22979" y="17436"/>
                  <a:pt x="22983" y="17412"/>
                </a:cubicBezTo>
                <a:cubicBezTo>
                  <a:pt x="22986" y="17393"/>
                  <a:pt x="22990" y="17376"/>
                  <a:pt x="22991" y="1735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615960" y="6273720"/>
            <a:ext cx="1278000" cy="125640"/>
          </a:xfrm>
          <a:custGeom>
            <a:avLst/>
            <a:gdLst/>
            <a:ahLst/>
            <a:rect l="l" t="t" r="r" b="b"/>
            <a:pathLst>
              <a:path w="3547" h="346">
                <a:moveTo>
                  <a:pt x="1777" y="17429"/>
                </a:moveTo>
                <a:cubicBezTo>
                  <a:pt x="1750" y="17489"/>
                  <a:pt x="1737" y="17551"/>
                  <a:pt x="1723" y="17615"/>
                </a:cubicBezTo>
                <a:cubicBezTo>
                  <a:pt x="1720" y="17630"/>
                  <a:pt x="1716" y="17645"/>
                  <a:pt x="1713" y="17660"/>
                </a:cubicBezTo>
              </a:path>
              <a:path w="3547" h="346">
                <a:moveTo>
                  <a:pt x="5259" y="17516"/>
                </a:moveTo>
                <a:cubicBezTo>
                  <a:pt x="5231" y="17588"/>
                  <a:pt x="5216" y="17651"/>
                  <a:pt x="5220" y="17729"/>
                </a:cubicBezTo>
                <a:cubicBezTo>
                  <a:pt x="5222" y="17744"/>
                  <a:pt x="5224" y="17759"/>
                  <a:pt x="5226" y="1777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457200" y="6083280"/>
            <a:ext cx="747720" cy="263520"/>
          </a:xfrm>
          <a:custGeom>
            <a:avLst/>
            <a:gdLst/>
            <a:ahLst/>
            <a:rect l="l" t="t" r="r" b="b"/>
            <a:pathLst>
              <a:path w="2076" h="732">
                <a:moveTo>
                  <a:pt x="1317" y="17628"/>
                </a:moveTo>
                <a:cubicBezTo>
                  <a:pt x="1315" y="17544"/>
                  <a:pt x="1306" y="17458"/>
                  <a:pt x="1297" y="17375"/>
                </a:cubicBezTo>
                <a:cubicBezTo>
                  <a:pt x="1289" y="17299"/>
                  <a:pt x="1279" y="17226"/>
                  <a:pt x="1275" y="17150"/>
                </a:cubicBezTo>
                <a:cubicBezTo>
                  <a:pt x="1271" y="17085"/>
                  <a:pt x="1246" y="17011"/>
                  <a:pt x="1313" y="16977"/>
                </a:cubicBezTo>
                <a:cubicBezTo>
                  <a:pt x="1328" y="16970"/>
                  <a:pt x="1402" y="17006"/>
                  <a:pt x="1416" y="17012"/>
                </a:cubicBezTo>
                <a:cubicBezTo>
                  <a:pt x="1473" y="17035"/>
                  <a:pt x="1529" y="17062"/>
                  <a:pt x="1582" y="17094"/>
                </a:cubicBezTo>
                <a:cubicBezTo>
                  <a:pt x="1584" y="17095"/>
                  <a:pt x="1638" y="17127"/>
                  <a:pt x="1623" y="17137"/>
                </a:cubicBezTo>
                <a:cubicBezTo>
                  <a:pt x="1614" y="17143"/>
                  <a:pt x="1589" y="17138"/>
                  <a:pt x="1578" y="17138"/>
                </a:cubicBezTo>
              </a:path>
              <a:path w="2076" h="732">
                <a:moveTo>
                  <a:pt x="1927" y="16950"/>
                </a:moveTo>
                <a:cubicBezTo>
                  <a:pt x="1929" y="16928"/>
                  <a:pt x="1928" y="16924"/>
                  <a:pt x="1919" y="16904"/>
                </a:cubicBezTo>
                <a:cubicBezTo>
                  <a:pt x="1885" y="16902"/>
                  <a:pt x="1867" y="16923"/>
                  <a:pt x="1848" y="16955"/>
                </a:cubicBezTo>
                <a:cubicBezTo>
                  <a:pt x="1821" y="17001"/>
                  <a:pt x="1808" y="17043"/>
                  <a:pt x="1802" y="17095"/>
                </a:cubicBezTo>
                <a:cubicBezTo>
                  <a:pt x="1798" y="17132"/>
                  <a:pt x="1805" y="17184"/>
                  <a:pt x="1845" y="17203"/>
                </a:cubicBezTo>
                <a:cubicBezTo>
                  <a:pt x="1876" y="17218"/>
                  <a:pt x="1914" y="17204"/>
                  <a:pt x="1939" y="17186"/>
                </a:cubicBezTo>
                <a:cubicBezTo>
                  <a:pt x="1963" y="17168"/>
                  <a:pt x="1977" y="17147"/>
                  <a:pt x="1980" y="17119"/>
                </a:cubicBezTo>
                <a:cubicBezTo>
                  <a:pt x="1945" y="17101"/>
                  <a:pt x="1936" y="17105"/>
                  <a:pt x="1898" y="17116"/>
                </a:cubicBezTo>
                <a:cubicBezTo>
                  <a:pt x="1879" y="17121"/>
                  <a:pt x="1859" y="17126"/>
                  <a:pt x="1840" y="17131"/>
                </a:cubicBezTo>
              </a:path>
              <a:path w="2076" h="732">
                <a:moveTo>
                  <a:pt x="1659" y="17368"/>
                </a:moveTo>
                <a:cubicBezTo>
                  <a:pt x="1645" y="17373"/>
                  <a:pt x="1642" y="17375"/>
                  <a:pt x="1633" y="17375"/>
                </a:cubicBezTo>
                <a:cubicBezTo>
                  <a:pt x="1666" y="17358"/>
                  <a:pt x="1697" y="17356"/>
                  <a:pt x="1735" y="17351"/>
                </a:cubicBezTo>
                <a:cubicBezTo>
                  <a:pt x="1784" y="17345"/>
                  <a:pt x="1832" y="17339"/>
                  <a:pt x="1881" y="17336"/>
                </a:cubicBezTo>
                <a:cubicBezTo>
                  <a:pt x="1912" y="17334"/>
                  <a:pt x="1943" y="17331"/>
                  <a:pt x="1973" y="17337"/>
                </a:cubicBezTo>
                <a:cubicBezTo>
                  <a:pt x="1978" y="17338"/>
                  <a:pt x="1982" y="17340"/>
                  <a:pt x="1987" y="17341"/>
                </a:cubicBezTo>
              </a:path>
              <a:path w="2076" h="732">
                <a:moveTo>
                  <a:pt x="1904" y="17440"/>
                </a:moveTo>
                <a:cubicBezTo>
                  <a:pt x="1905" y="17478"/>
                  <a:pt x="1896" y="17522"/>
                  <a:pt x="1890" y="17562"/>
                </a:cubicBezTo>
                <a:cubicBezTo>
                  <a:pt x="1960" y="17577"/>
                  <a:pt x="1965" y="17580"/>
                  <a:pt x="2021" y="17537"/>
                </a:cubicBezTo>
                <a:cubicBezTo>
                  <a:pt x="2030" y="17530"/>
                  <a:pt x="2038" y="17523"/>
                  <a:pt x="2047" y="17516"/>
                </a:cubicBezTo>
              </a:path>
              <a:path w="2076" h="732">
                <a:moveTo>
                  <a:pt x="2084" y="17413"/>
                </a:moveTo>
                <a:cubicBezTo>
                  <a:pt x="2069" y="17460"/>
                  <a:pt x="2060" y="17521"/>
                  <a:pt x="2060" y="17571"/>
                </a:cubicBezTo>
                <a:cubicBezTo>
                  <a:pt x="2062" y="17588"/>
                  <a:pt x="2065" y="17605"/>
                  <a:pt x="2067" y="17622"/>
                </a:cubicBezTo>
              </a:path>
              <a:path w="2076" h="732">
                <a:moveTo>
                  <a:pt x="2299" y="16969"/>
                </a:moveTo>
                <a:cubicBezTo>
                  <a:pt x="2313" y="16968"/>
                  <a:pt x="2328" y="16966"/>
                  <a:pt x="2347" y="16967"/>
                </a:cubicBezTo>
                <a:cubicBezTo>
                  <a:pt x="2390" y="16970"/>
                  <a:pt x="2435" y="16969"/>
                  <a:pt x="2477" y="16979"/>
                </a:cubicBezTo>
                <a:cubicBezTo>
                  <a:pt x="2496" y="16983"/>
                  <a:pt x="2519" y="16993"/>
                  <a:pt x="2530" y="17010"/>
                </a:cubicBezTo>
                <a:cubicBezTo>
                  <a:pt x="2542" y="17028"/>
                  <a:pt x="2552" y="17061"/>
                  <a:pt x="2556" y="17082"/>
                </a:cubicBezTo>
                <a:cubicBezTo>
                  <a:pt x="2565" y="17131"/>
                  <a:pt x="2565" y="17185"/>
                  <a:pt x="2564" y="17235"/>
                </a:cubicBezTo>
                <a:cubicBezTo>
                  <a:pt x="2563" y="17305"/>
                  <a:pt x="2552" y="17372"/>
                  <a:pt x="2543" y="17441"/>
                </a:cubicBezTo>
                <a:cubicBezTo>
                  <a:pt x="2537" y="17488"/>
                  <a:pt x="2509" y="17561"/>
                  <a:pt x="2504" y="17570"/>
                </a:cubicBezTo>
              </a:path>
              <a:path w="2076" h="732">
                <a:moveTo>
                  <a:pt x="2765" y="17294"/>
                </a:moveTo>
                <a:cubicBezTo>
                  <a:pt x="2793" y="17283"/>
                  <a:pt x="2822" y="17284"/>
                  <a:pt x="2852" y="17282"/>
                </a:cubicBezTo>
                <a:cubicBezTo>
                  <a:pt x="2905" y="17279"/>
                  <a:pt x="2956" y="17267"/>
                  <a:pt x="3009" y="17260"/>
                </a:cubicBezTo>
                <a:cubicBezTo>
                  <a:pt x="3037" y="17257"/>
                  <a:pt x="3044" y="17257"/>
                  <a:pt x="3061" y="17255"/>
                </a:cubicBezTo>
              </a:path>
              <a:path w="2076" h="732">
                <a:moveTo>
                  <a:pt x="2910" y="17394"/>
                </a:moveTo>
                <a:cubicBezTo>
                  <a:pt x="2904" y="17406"/>
                  <a:pt x="2901" y="17409"/>
                  <a:pt x="2905" y="17418"/>
                </a:cubicBezTo>
                <a:cubicBezTo>
                  <a:pt x="2940" y="17419"/>
                  <a:pt x="2975" y="17419"/>
                  <a:pt x="3009" y="17412"/>
                </a:cubicBezTo>
                <a:cubicBezTo>
                  <a:pt x="3046" y="17405"/>
                  <a:pt x="3075" y="17387"/>
                  <a:pt x="3107" y="17369"/>
                </a:cubicBezTo>
              </a:path>
              <a:path w="2076" h="732">
                <a:moveTo>
                  <a:pt x="3324" y="17148"/>
                </a:moveTo>
                <a:cubicBezTo>
                  <a:pt x="3332" y="17181"/>
                  <a:pt x="3326" y="17207"/>
                  <a:pt x="3326" y="17241"/>
                </a:cubicBezTo>
                <a:cubicBezTo>
                  <a:pt x="3325" y="17308"/>
                  <a:pt x="3331" y="17371"/>
                  <a:pt x="3339" y="17437"/>
                </a:cubicBezTo>
                <a:cubicBezTo>
                  <a:pt x="3341" y="17463"/>
                  <a:pt x="3344" y="17488"/>
                  <a:pt x="3346" y="1751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1557360" y="6148440"/>
            <a:ext cx="731880" cy="288720"/>
          </a:xfrm>
          <a:custGeom>
            <a:avLst/>
            <a:gdLst/>
            <a:ahLst/>
            <a:rect l="l" t="t" r="r" b="b"/>
            <a:pathLst>
              <a:path w="2032" h="803">
                <a:moveTo>
                  <a:pt x="4373" y="17727"/>
                </a:moveTo>
                <a:cubicBezTo>
                  <a:pt x="4346" y="17672"/>
                  <a:pt x="4342" y="17642"/>
                  <a:pt x="4340" y="17580"/>
                </a:cubicBezTo>
                <a:cubicBezTo>
                  <a:pt x="4336" y="17482"/>
                  <a:pt x="4335" y="17383"/>
                  <a:pt x="4331" y="17285"/>
                </a:cubicBezTo>
                <a:cubicBezTo>
                  <a:pt x="4330" y="17257"/>
                  <a:pt x="4314" y="17189"/>
                  <a:pt x="4326" y="17162"/>
                </a:cubicBezTo>
                <a:cubicBezTo>
                  <a:pt x="4330" y="17153"/>
                  <a:pt x="4340" y="17140"/>
                  <a:pt x="4347" y="17138"/>
                </a:cubicBezTo>
                <a:cubicBezTo>
                  <a:pt x="4372" y="17132"/>
                  <a:pt x="4407" y="17141"/>
                  <a:pt x="4432" y="17143"/>
                </a:cubicBezTo>
                <a:cubicBezTo>
                  <a:pt x="4496" y="17148"/>
                  <a:pt x="4561" y="17156"/>
                  <a:pt x="4624" y="17170"/>
                </a:cubicBezTo>
                <a:cubicBezTo>
                  <a:pt x="4641" y="17174"/>
                  <a:pt x="4645" y="17175"/>
                  <a:pt x="4655" y="17179"/>
                </a:cubicBezTo>
                <a:cubicBezTo>
                  <a:pt x="4632" y="17189"/>
                  <a:pt x="4620" y="17184"/>
                  <a:pt x="4597" y="17188"/>
                </a:cubicBezTo>
                <a:cubicBezTo>
                  <a:pt x="4589" y="17195"/>
                  <a:pt x="4586" y="17197"/>
                  <a:pt x="4579" y="17195"/>
                </a:cubicBezTo>
              </a:path>
              <a:path w="2032" h="803">
                <a:moveTo>
                  <a:pt x="5029" y="17084"/>
                </a:moveTo>
                <a:cubicBezTo>
                  <a:pt x="5005" y="17084"/>
                  <a:pt x="5008" y="17108"/>
                  <a:pt x="5006" y="17139"/>
                </a:cubicBezTo>
                <a:cubicBezTo>
                  <a:pt x="5003" y="17180"/>
                  <a:pt x="5002" y="17229"/>
                  <a:pt x="5011" y="17269"/>
                </a:cubicBezTo>
                <a:cubicBezTo>
                  <a:pt x="5016" y="17290"/>
                  <a:pt x="5028" y="17309"/>
                  <a:pt x="5037" y="17328"/>
                </a:cubicBezTo>
              </a:path>
              <a:path w="2032" h="803">
                <a:moveTo>
                  <a:pt x="4775" y="17394"/>
                </a:moveTo>
                <a:cubicBezTo>
                  <a:pt x="4760" y="17396"/>
                  <a:pt x="4755" y="17396"/>
                  <a:pt x="4746" y="17399"/>
                </a:cubicBezTo>
                <a:cubicBezTo>
                  <a:pt x="4772" y="17388"/>
                  <a:pt x="4806" y="17389"/>
                  <a:pt x="4836" y="17388"/>
                </a:cubicBezTo>
                <a:cubicBezTo>
                  <a:pt x="4900" y="17386"/>
                  <a:pt x="4965" y="17392"/>
                  <a:pt x="5029" y="17390"/>
                </a:cubicBezTo>
                <a:cubicBezTo>
                  <a:pt x="5085" y="17389"/>
                  <a:pt x="5140" y="17386"/>
                  <a:pt x="5195" y="17379"/>
                </a:cubicBezTo>
              </a:path>
              <a:path w="2032" h="803">
                <a:moveTo>
                  <a:pt x="4878" y="17545"/>
                </a:moveTo>
                <a:cubicBezTo>
                  <a:pt x="4877" y="17532"/>
                  <a:pt x="4876" y="17520"/>
                  <a:pt x="4874" y="17508"/>
                </a:cubicBezTo>
                <a:cubicBezTo>
                  <a:pt x="4849" y="17581"/>
                  <a:pt x="4830" y="17654"/>
                  <a:pt x="4814" y="17730"/>
                </a:cubicBezTo>
                <a:cubicBezTo>
                  <a:pt x="4803" y="17780"/>
                  <a:pt x="4800" y="17829"/>
                  <a:pt x="4796" y="17880"/>
                </a:cubicBezTo>
              </a:path>
              <a:path w="2032" h="803">
                <a:moveTo>
                  <a:pt x="5026" y="17561"/>
                </a:moveTo>
                <a:cubicBezTo>
                  <a:pt x="5028" y="17568"/>
                  <a:pt x="4974" y="17666"/>
                  <a:pt x="5056" y="17672"/>
                </a:cubicBezTo>
                <a:cubicBezTo>
                  <a:pt x="5117" y="17676"/>
                  <a:pt x="5177" y="17637"/>
                  <a:pt x="5221" y="17602"/>
                </a:cubicBezTo>
              </a:path>
              <a:path w="2032" h="803">
                <a:moveTo>
                  <a:pt x="5468" y="17254"/>
                </a:moveTo>
                <a:cubicBezTo>
                  <a:pt x="5485" y="17259"/>
                  <a:pt x="5496" y="17262"/>
                  <a:pt x="5525" y="17250"/>
                </a:cubicBezTo>
                <a:cubicBezTo>
                  <a:pt x="5574" y="17229"/>
                  <a:pt x="5636" y="17195"/>
                  <a:pt x="5692" y="17202"/>
                </a:cubicBezTo>
                <a:cubicBezTo>
                  <a:pt x="5709" y="17204"/>
                  <a:pt x="5730" y="17213"/>
                  <a:pt x="5744" y="17224"/>
                </a:cubicBezTo>
                <a:cubicBezTo>
                  <a:pt x="5763" y="17240"/>
                  <a:pt x="5757" y="17260"/>
                  <a:pt x="5753" y="17281"/>
                </a:cubicBezTo>
                <a:cubicBezTo>
                  <a:pt x="5744" y="17329"/>
                  <a:pt x="5731" y="17377"/>
                  <a:pt x="5720" y="17424"/>
                </a:cubicBezTo>
                <a:cubicBezTo>
                  <a:pt x="5694" y="17532"/>
                  <a:pt x="5666" y="17638"/>
                  <a:pt x="5655" y="17749"/>
                </a:cubicBezTo>
              </a:path>
              <a:path w="2032" h="803">
                <a:moveTo>
                  <a:pt x="5954" y="17336"/>
                </a:moveTo>
                <a:cubicBezTo>
                  <a:pt x="5960" y="17362"/>
                  <a:pt x="5968" y="17363"/>
                  <a:pt x="5994" y="17367"/>
                </a:cubicBezTo>
                <a:cubicBezTo>
                  <a:pt x="6040" y="17374"/>
                  <a:pt x="6081" y="17368"/>
                  <a:pt x="6127" y="17362"/>
                </a:cubicBezTo>
                <a:cubicBezTo>
                  <a:pt x="6179" y="17356"/>
                  <a:pt x="6230" y="17349"/>
                  <a:pt x="6281" y="17340"/>
                </a:cubicBezTo>
                <a:cubicBezTo>
                  <a:pt x="6304" y="17336"/>
                  <a:pt x="6310" y="17335"/>
                  <a:pt x="6324" y="17330"/>
                </a:cubicBezTo>
              </a:path>
              <a:path w="2032" h="803">
                <a:moveTo>
                  <a:pt x="6109" y="17523"/>
                </a:moveTo>
                <a:cubicBezTo>
                  <a:pt x="6104" y="17536"/>
                  <a:pt x="6099" y="17548"/>
                  <a:pt x="6094" y="17561"/>
                </a:cubicBezTo>
                <a:cubicBezTo>
                  <a:pt x="6120" y="17565"/>
                  <a:pt x="6156" y="17549"/>
                  <a:pt x="6184" y="17538"/>
                </a:cubicBezTo>
                <a:cubicBezTo>
                  <a:pt x="6231" y="17520"/>
                  <a:pt x="6278" y="17507"/>
                  <a:pt x="6326" y="17491"/>
                </a:cubicBezTo>
                <a:cubicBezTo>
                  <a:pt x="6336" y="17487"/>
                  <a:pt x="6347" y="17484"/>
                  <a:pt x="6357" y="1748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2462040" y="6192720"/>
            <a:ext cx="9720" cy="187560"/>
          </a:xfrm>
          <a:custGeom>
            <a:avLst/>
            <a:gdLst/>
            <a:ahLst/>
            <a:rect l="l" t="t" r="r" b="b"/>
            <a:pathLst>
              <a:path w="28" h="521">
                <a:moveTo>
                  <a:pt x="6847" y="17202"/>
                </a:moveTo>
                <a:cubicBezTo>
                  <a:pt x="6841" y="17248"/>
                  <a:pt x="6838" y="17291"/>
                  <a:pt x="6838" y="17338"/>
                </a:cubicBezTo>
                <a:cubicBezTo>
                  <a:pt x="6838" y="17416"/>
                  <a:pt x="6841" y="17495"/>
                  <a:pt x="6848" y="17572"/>
                </a:cubicBezTo>
                <a:cubicBezTo>
                  <a:pt x="6853" y="17622"/>
                  <a:pt x="6858" y="17672"/>
                  <a:pt x="6865" y="1772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2917800" y="233280"/>
            <a:ext cx="3789360" cy="660600"/>
          </a:xfrm>
          <a:custGeom>
            <a:avLst/>
            <a:gdLst/>
            <a:ahLst/>
            <a:rect l="l" t="t" r="r" b="b"/>
            <a:pathLst>
              <a:path w="10525" h="1833">
                <a:moveTo>
                  <a:pt x="8107" y="2480"/>
                </a:moveTo>
                <a:cubicBezTo>
                  <a:pt x="8315" y="2415"/>
                  <a:pt x="8519" y="2361"/>
                  <a:pt x="8736" y="2325"/>
                </a:cubicBezTo>
                <a:cubicBezTo>
                  <a:pt x="9860" y="2138"/>
                  <a:pt x="10994" y="2072"/>
                  <a:pt x="12130" y="2011"/>
                </a:cubicBezTo>
                <a:cubicBezTo>
                  <a:pt x="13507" y="1937"/>
                  <a:pt x="14891" y="1934"/>
                  <a:pt x="16266" y="1842"/>
                </a:cubicBezTo>
                <a:cubicBezTo>
                  <a:pt x="16490" y="1827"/>
                  <a:pt x="16733" y="1818"/>
                  <a:pt x="16949" y="1754"/>
                </a:cubicBezTo>
                <a:cubicBezTo>
                  <a:pt x="16952" y="1748"/>
                  <a:pt x="16956" y="1743"/>
                  <a:pt x="16959" y="1737"/>
                </a:cubicBezTo>
              </a:path>
              <a:path w="10525" h="1833">
                <a:moveTo>
                  <a:pt x="18448" y="648"/>
                </a:moveTo>
                <a:cubicBezTo>
                  <a:pt x="18418" y="732"/>
                  <a:pt x="18415" y="804"/>
                  <a:pt x="18409" y="893"/>
                </a:cubicBezTo>
                <a:cubicBezTo>
                  <a:pt x="18403" y="949"/>
                  <a:pt x="18401" y="972"/>
                  <a:pt x="18400" y="1012"/>
                </a:cubicBezTo>
                <a:cubicBezTo>
                  <a:pt x="18429" y="950"/>
                  <a:pt x="18451" y="887"/>
                  <a:pt x="18474" y="822"/>
                </a:cubicBezTo>
                <a:cubicBezTo>
                  <a:pt x="18492" y="770"/>
                  <a:pt x="18501" y="749"/>
                  <a:pt x="18518" y="714"/>
                </a:cubicBezTo>
                <a:cubicBezTo>
                  <a:pt x="18548" y="784"/>
                  <a:pt x="18542" y="897"/>
                  <a:pt x="18588" y="961"/>
                </a:cubicBezTo>
                <a:cubicBezTo>
                  <a:pt x="18602" y="971"/>
                  <a:pt x="18617" y="980"/>
                  <a:pt x="18631" y="99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6748560" y="239760"/>
            <a:ext cx="857160" cy="82440"/>
          </a:xfrm>
          <a:custGeom>
            <a:avLst/>
            <a:gdLst/>
            <a:ahLst/>
            <a:rect l="l" t="t" r="r" b="b"/>
            <a:pathLst>
              <a:path w="2382" h="227">
                <a:moveTo>
                  <a:pt x="18746" y="772"/>
                </a:moveTo>
                <a:cubicBezTo>
                  <a:pt x="18829" y="810"/>
                  <a:pt x="18856" y="813"/>
                  <a:pt x="18949" y="810"/>
                </a:cubicBezTo>
              </a:path>
              <a:path w="2382" h="227">
                <a:moveTo>
                  <a:pt x="18839" y="877"/>
                </a:moveTo>
                <a:cubicBezTo>
                  <a:pt x="18913" y="896"/>
                  <a:pt x="18957" y="879"/>
                  <a:pt x="19032" y="857"/>
                </a:cubicBezTo>
              </a:path>
              <a:path w="2382" h="227">
                <a:moveTo>
                  <a:pt x="20944" y="668"/>
                </a:moveTo>
                <a:cubicBezTo>
                  <a:pt x="20929" y="680"/>
                  <a:pt x="20915" y="691"/>
                  <a:pt x="20900" y="703"/>
                </a:cubicBezTo>
                <a:cubicBezTo>
                  <a:pt x="20979" y="701"/>
                  <a:pt x="21050" y="689"/>
                  <a:pt x="21127" y="67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3898800" y="1824120"/>
            <a:ext cx="3198960" cy="75960"/>
          </a:xfrm>
          <a:custGeom>
            <a:avLst/>
            <a:gdLst/>
            <a:ahLst/>
            <a:rect l="l" t="t" r="r" b="b"/>
            <a:pathLst>
              <a:path w="8882" h="210">
                <a:moveTo>
                  <a:pt x="10937" y="5276"/>
                </a:moveTo>
                <a:cubicBezTo>
                  <a:pt x="10902" y="5274"/>
                  <a:pt x="10867" y="5273"/>
                  <a:pt x="10832" y="5272"/>
                </a:cubicBezTo>
                <a:cubicBezTo>
                  <a:pt x="10962" y="5256"/>
                  <a:pt x="11092" y="5240"/>
                  <a:pt x="11223" y="5229"/>
                </a:cubicBezTo>
                <a:cubicBezTo>
                  <a:pt x="12323" y="5136"/>
                  <a:pt x="13442" y="5102"/>
                  <a:pt x="14545" y="5093"/>
                </a:cubicBezTo>
                <a:cubicBezTo>
                  <a:pt x="16181" y="5080"/>
                  <a:pt x="17839" y="5315"/>
                  <a:pt x="19469" y="5100"/>
                </a:cubicBezTo>
                <a:cubicBezTo>
                  <a:pt x="19547" y="5090"/>
                  <a:pt x="19627" y="5081"/>
                  <a:pt x="19702" y="5071"/>
                </a:cubicBezTo>
                <a:cubicBezTo>
                  <a:pt x="19706" y="5070"/>
                  <a:pt x="19709" y="5069"/>
                  <a:pt x="19713" y="506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6262560" y="2071800"/>
            <a:ext cx="2368800" cy="3395520"/>
          </a:xfrm>
          <a:custGeom>
            <a:avLst/>
            <a:gdLst/>
            <a:ahLst/>
            <a:rect l="l" t="t" r="r" b="b"/>
            <a:pathLst>
              <a:path w="6580" h="9433">
                <a:moveTo>
                  <a:pt x="17403" y="5764"/>
                </a:moveTo>
                <a:cubicBezTo>
                  <a:pt x="17406" y="5785"/>
                  <a:pt x="17408" y="5782"/>
                  <a:pt x="17410" y="5803"/>
                </a:cubicBezTo>
                <a:cubicBezTo>
                  <a:pt x="17465" y="6281"/>
                  <a:pt x="17549" y="6755"/>
                  <a:pt x="17572" y="7237"/>
                </a:cubicBezTo>
                <a:cubicBezTo>
                  <a:pt x="17597" y="7760"/>
                  <a:pt x="17557" y="8292"/>
                  <a:pt x="17567" y="8817"/>
                </a:cubicBezTo>
                <a:cubicBezTo>
                  <a:pt x="17582" y="9624"/>
                  <a:pt x="17626" y="10428"/>
                  <a:pt x="17638" y="11236"/>
                </a:cubicBezTo>
                <a:cubicBezTo>
                  <a:pt x="17650" y="12023"/>
                  <a:pt x="17564" y="12807"/>
                  <a:pt x="17547" y="13594"/>
                </a:cubicBezTo>
                <a:cubicBezTo>
                  <a:pt x="17541" y="13871"/>
                  <a:pt x="17528" y="14172"/>
                  <a:pt x="17549" y="14448"/>
                </a:cubicBezTo>
                <a:cubicBezTo>
                  <a:pt x="17565" y="14657"/>
                  <a:pt x="17603" y="14750"/>
                  <a:pt x="17774" y="14883"/>
                </a:cubicBezTo>
                <a:cubicBezTo>
                  <a:pt x="18048" y="15097"/>
                  <a:pt x="18507" y="15146"/>
                  <a:pt x="18837" y="15173"/>
                </a:cubicBezTo>
                <a:cubicBezTo>
                  <a:pt x="19646" y="15238"/>
                  <a:pt x="20498" y="15189"/>
                  <a:pt x="21307" y="15138"/>
                </a:cubicBezTo>
                <a:cubicBezTo>
                  <a:pt x="21996" y="15094"/>
                  <a:pt x="22711" y="15030"/>
                  <a:pt x="23401" y="15049"/>
                </a:cubicBezTo>
                <a:cubicBezTo>
                  <a:pt x="23592" y="15054"/>
                  <a:pt x="23797" y="15109"/>
                  <a:pt x="23974" y="15115"/>
                </a:cubicBezTo>
                <a:cubicBezTo>
                  <a:pt x="23966" y="15108"/>
                  <a:pt x="23957" y="15101"/>
                  <a:pt x="23949" y="1509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3868560" y="1967040"/>
            <a:ext cx="2446560" cy="1020600"/>
          </a:xfrm>
          <a:custGeom>
            <a:avLst/>
            <a:gdLst/>
            <a:ahLst/>
            <a:rect l="l" t="t" r="r" b="b"/>
            <a:pathLst>
              <a:path w="6795" h="2837">
                <a:moveTo>
                  <a:pt x="17389" y="5694"/>
                </a:moveTo>
                <a:cubicBezTo>
                  <a:pt x="17230" y="5659"/>
                  <a:pt x="17074" y="5617"/>
                  <a:pt x="16916" y="5577"/>
                </a:cubicBezTo>
                <a:cubicBezTo>
                  <a:pt x="16207" y="5400"/>
                  <a:pt x="15451" y="5468"/>
                  <a:pt x="14727" y="5472"/>
                </a:cubicBezTo>
                <a:cubicBezTo>
                  <a:pt x="14269" y="5475"/>
                  <a:pt x="13814" y="5488"/>
                  <a:pt x="13357" y="5510"/>
                </a:cubicBezTo>
                <a:cubicBezTo>
                  <a:pt x="12875" y="5533"/>
                  <a:pt x="12335" y="5572"/>
                  <a:pt x="11877" y="5741"/>
                </a:cubicBezTo>
                <a:cubicBezTo>
                  <a:pt x="11617" y="5837"/>
                  <a:pt x="11304" y="6006"/>
                  <a:pt x="11144" y="6236"/>
                </a:cubicBezTo>
                <a:cubicBezTo>
                  <a:pt x="11054" y="6365"/>
                  <a:pt x="11025" y="6511"/>
                  <a:pt x="10969" y="6653"/>
                </a:cubicBezTo>
                <a:cubicBezTo>
                  <a:pt x="10867" y="6913"/>
                  <a:pt x="10731" y="7189"/>
                  <a:pt x="10754" y="7475"/>
                </a:cubicBezTo>
                <a:cubicBezTo>
                  <a:pt x="10767" y="7631"/>
                  <a:pt x="10815" y="7824"/>
                  <a:pt x="10884" y="7965"/>
                </a:cubicBezTo>
                <a:cubicBezTo>
                  <a:pt x="11013" y="8230"/>
                  <a:pt x="11290" y="8263"/>
                  <a:pt x="11558" y="8282"/>
                </a:cubicBezTo>
                <a:cubicBezTo>
                  <a:pt x="12163" y="8326"/>
                  <a:pt x="12794" y="8321"/>
                  <a:pt x="13399" y="8288"/>
                </a:cubicBezTo>
                <a:cubicBezTo>
                  <a:pt x="13883" y="8262"/>
                  <a:pt x="14366" y="8178"/>
                  <a:pt x="14851" y="8179"/>
                </a:cubicBezTo>
                <a:cubicBezTo>
                  <a:pt x="15546" y="8180"/>
                  <a:pt x="16243" y="8150"/>
                  <a:pt x="16937" y="8155"/>
                </a:cubicBezTo>
                <a:cubicBezTo>
                  <a:pt x="17052" y="8156"/>
                  <a:pt x="17472" y="8207"/>
                  <a:pt x="17530" y="8149"/>
                </a:cubicBezTo>
                <a:cubicBezTo>
                  <a:pt x="17554" y="8125"/>
                  <a:pt x="17443" y="8172"/>
                  <a:pt x="17430" y="814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"/>
          <p:cNvSpPr/>
          <p:nvPr/>
        </p:nvSpPr>
        <p:spPr>
          <a:xfrm>
            <a:off x="2896200" y="0"/>
            <a:ext cx="359136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0000"/>
                </a:solidFill>
                <a:latin typeface="Arial"/>
              </a:rPr>
              <a:t>Permutation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614520" y="914400"/>
            <a:ext cx="77688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ing k objects in order from a set of size n.  P(n,r)=n!/(n-r)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: How many permutations of the letters ABCDEFGH contain ABC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2379600" y="99216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6609" y="2758"/>
                </a:moveTo>
                <a:lnTo>
                  <a:pt x="6609" y="2758"/>
                </a:ln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3209760" y="1512720"/>
            <a:ext cx="24120" cy="82800"/>
          </a:xfrm>
          <a:custGeom>
            <a:avLst/>
            <a:gdLst/>
            <a:ahLst/>
            <a:rect l="l" t="t" r="r" b="b"/>
            <a:pathLst>
              <a:path w="67" h="231">
                <a:moveTo>
                  <a:pt x="8915" y="4237"/>
                </a:moveTo>
                <a:cubicBezTo>
                  <a:pt x="8919" y="4224"/>
                  <a:pt x="8922" y="4213"/>
                  <a:pt x="8927" y="4201"/>
                </a:cubicBezTo>
              </a:path>
              <a:path w="67" h="231">
                <a:moveTo>
                  <a:pt x="8979" y="4431"/>
                </a:moveTo>
                <a:cubicBezTo>
                  <a:pt x="8980" y="4428"/>
                  <a:pt x="8980" y="4424"/>
                  <a:pt x="8981" y="442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1663560" y="895320"/>
            <a:ext cx="1562400" cy="868320"/>
          </a:xfrm>
          <a:custGeom>
            <a:avLst/>
            <a:gdLst/>
            <a:ahLst/>
            <a:rect l="l" t="t" r="r" b="b"/>
            <a:pathLst>
              <a:path w="4339" h="2409">
                <a:moveTo>
                  <a:pt x="5275" y="4223"/>
                </a:moveTo>
                <a:cubicBezTo>
                  <a:pt x="5256" y="4263"/>
                  <a:pt x="5245" y="4317"/>
                  <a:pt x="5241" y="4361"/>
                </a:cubicBezTo>
                <a:cubicBezTo>
                  <a:pt x="5234" y="4445"/>
                  <a:pt x="5238" y="4531"/>
                  <a:pt x="5243" y="4615"/>
                </a:cubicBezTo>
                <a:cubicBezTo>
                  <a:pt x="5246" y="4663"/>
                  <a:pt x="5253" y="4732"/>
                  <a:pt x="5287" y="4771"/>
                </a:cubicBezTo>
                <a:cubicBezTo>
                  <a:pt x="5291" y="4773"/>
                  <a:pt x="5295" y="4775"/>
                  <a:pt x="5299" y="4777"/>
                </a:cubicBezTo>
              </a:path>
              <a:path w="4339" h="2409">
                <a:moveTo>
                  <a:pt x="5194" y="4015"/>
                </a:moveTo>
                <a:cubicBezTo>
                  <a:pt x="5189" y="3945"/>
                  <a:pt x="5173" y="3850"/>
                  <a:pt x="5221" y="3788"/>
                </a:cubicBezTo>
                <a:cubicBezTo>
                  <a:pt x="5266" y="3731"/>
                  <a:pt x="5343" y="3754"/>
                  <a:pt x="5395" y="3786"/>
                </a:cubicBezTo>
                <a:cubicBezTo>
                  <a:pt x="5488" y="3844"/>
                  <a:pt x="5551" y="3941"/>
                  <a:pt x="5591" y="4040"/>
                </a:cubicBezTo>
                <a:cubicBezTo>
                  <a:pt x="5631" y="4140"/>
                  <a:pt x="5647" y="4248"/>
                  <a:pt x="5602" y="4349"/>
                </a:cubicBezTo>
                <a:cubicBezTo>
                  <a:pt x="5572" y="4416"/>
                  <a:pt x="5497" y="4477"/>
                  <a:pt x="5421" y="4478"/>
                </a:cubicBezTo>
                <a:cubicBezTo>
                  <a:pt x="5357" y="4479"/>
                  <a:pt x="5295" y="4438"/>
                  <a:pt x="5275" y="4377"/>
                </a:cubicBezTo>
                <a:cubicBezTo>
                  <a:pt x="5273" y="4362"/>
                  <a:pt x="5271" y="4347"/>
                  <a:pt x="5269" y="4332"/>
                </a:cubicBezTo>
              </a:path>
              <a:path w="4339" h="2409">
                <a:moveTo>
                  <a:pt x="5918" y="4035"/>
                </a:moveTo>
                <a:cubicBezTo>
                  <a:pt x="5922" y="4001"/>
                  <a:pt x="5923" y="3984"/>
                  <a:pt x="5914" y="3952"/>
                </a:cubicBezTo>
                <a:cubicBezTo>
                  <a:pt x="5869" y="3985"/>
                  <a:pt x="5850" y="4014"/>
                  <a:pt x="5826" y="4072"/>
                </a:cubicBezTo>
                <a:cubicBezTo>
                  <a:pt x="5773" y="4199"/>
                  <a:pt x="5739" y="4333"/>
                  <a:pt x="5715" y="4468"/>
                </a:cubicBezTo>
                <a:cubicBezTo>
                  <a:pt x="5698" y="4568"/>
                  <a:pt x="5678" y="4701"/>
                  <a:pt x="5732" y="4795"/>
                </a:cubicBezTo>
                <a:cubicBezTo>
                  <a:pt x="5759" y="4822"/>
                  <a:pt x="5766" y="4831"/>
                  <a:pt x="5793" y="4829"/>
                </a:cubicBezTo>
              </a:path>
              <a:path w="4339" h="2409">
                <a:moveTo>
                  <a:pt x="5982" y="4425"/>
                </a:moveTo>
                <a:cubicBezTo>
                  <a:pt x="5965" y="4489"/>
                  <a:pt x="5955" y="4554"/>
                  <a:pt x="5943" y="4619"/>
                </a:cubicBezTo>
                <a:cubicBezTo>
                  <a:pt x="5937" y="4655"/>
                  <a:pt x="5929" y="4690"/>
                  <a:pt x="5921" y="4725"/>
                </a:cubicBezTo>
                <a:cubicBezTo>
                  <a:pt x="5946" y="4639"/>
                  <a:pt x="5969" y="4514"/>
                  <a:pt x="6036" y="4450"/>
                </a:cubicBezTo>
                <a:cubicBezTo>
                  <a:pt x="6079" y="4410"/>
                  <a:pt x="6111" y="4463"/>
                  <a:pt x="6129" y="4497"/>
                </a:cubicBezTo>
                <a:cubicBezTo>
                  <a:pt x="6159" y="4553"/>
                  <a:pt x="6179" y="4615"/>
                  <a:pt x="6209" y="4672"/>
                </a:cubicBezTo>
                <a:cubicBezTo>
                  <a:pt x="6225" y="4701"/>
                  <a:pt x="6236" y="4725"/>
                  <a:pt x="6265" y="4705"/>
                </a:cubicBezTo>
              </a:path>
              <a:path w="4339" h="2409">
                <a:moveTo>
                  <a:pt x="6327" y="4572"/>
                </a:moveTo>
                <a:cubicBezTo>
                  <a:pt x="6340" y="4603"/>
                  <a:pt x="6346" y="4632"/>
                  <a:pt x="6351" y="4665"/>
                </a:cubicBezTo>
                <a:cubicBezTo>
                  <a:pt x="6358" y="4713"/>
                  <a:pt x="6360" y="4766"/>
                  <a:pt x="6349" y="4814"/>
                </a:cubicBezTo>
                <a:cubicBezTo>
                  <a:pt x="6342" y="4842"/>
                  <a:pt x="6328" y="4872"/>
                  <a:pt x="6312" y="4896"/>
                </a:cubicBezTo>
              </a:path>
              <a:path w="4339" h="2409">
                <a:moveTo>
                  <a:pt x="6502" y="4560"/>
                </a:moveTo>
                <a:cubicBezTo>
                  <a:pt x="6530" y="4572"/>
                  <a:pt x="6528" y="4597"/>
                  <a:pt x="6537" y="4630"/>
                </a:cubicBezTo>
                <a:cubicBezTo>
                  <a:pt x="6545" y="4658"/>
                  <a:pt x="6554" y="4687"/>
                  <a:pt x="6561" y="4715"/>
                </a:cubicBezTo>
                <a:cubicBezTo>
                  <a:pt x="6562" y="4678"/>
                  <a:pt x="6555" y="4642"/>
                  <a:pt x="6555" y="4605"/>
                </a:cubicBezTo>
                <a:cubicBezTo>
                  <a:pt x="6554" y="4554"/>
                  <a:pt x="6557" y="4500"/>
                  <a:pt x="6578" y="4453"/>
                </a:cubicBezTo>
                <a:cubicBezTo>
                  <a:pt x="6597" y="4409"/>
                  <a:pt x="6634" y="4394"/>
                  <a:pt x="6678" y="4389"/>
                </a:cubicBezTo>
                <a:cubicBezTo>
                  <a:pt x="6724" y="4384"/>
                  <a:pt x="6772" y="4388"/>
                  <a:pt x="6819" y="4387"/>
                </a:cubicBezTo>
              </a:path>
              <a:path w="4339" h="2409">
                <a:moveTo>
                  <a:pt x="6863" y="4142"/>
                </a:moveTo>
                <a:cubicBezTo>
                  <a:pt x="6871" y="4126"/>
                  <a:pt x="6873" y="4121"/>
                  <a:pt x="6884" y="4116"/>
                </a:cubicBezTo>
                <a:cubicBezTo>
                  <a:pt x="6920" y="4139"/>
                  <a:pt x="6927" y="4175"/>
                  <a:pt x="6942" y="4215"/>
                </a:cubicBezTo>
                <a:cubicBezTo>
                  <a:pt x="6974" y="4301"/>
                  <a:pt x="6995" y="4391"/>
                  <a:pt x="7009" y="4482"/>
                </a:cubicBezTo>
                <a:cubicBezTo>
                  <a:pt x="7021" y="4558"/>
                  <a:pt x="7037" y="4636"/>
                  <a:pt x="7036" y="4713"/>
                </a:cubicBezTo>
                <a:cubicBezTo>
                  <a:pt x="7033" y="4740"/>
                  <a:pt x="7034" y="4746"/>
                  <a:pt x="7027" y="4762"/>
                </a:cubicBezTo>
              </a:path>
              <a:path w="4339" h="2409">
                <a:moveTo>
                  <a:pt x="7395" y="4500"/>
                </a:moveTo>
                <a:cubicBezTo>
                  <a:pt x="7390" y="4503"/>
                  <a:pt x="7384" y="4507"/>
                  <a:pt x="7379" y="4510"/>
                </a:cubicBezTo>
                <a:cubicBezTo>
                  <a:pt x="7377" y="4545"/>
                  <a:pt x="7420" y="4543"/>
                  <a:pt x="7449" y="4544"/>
                </a:cubicBezTo>
                <a:cubicBezTo>
                  <a:pt x="7509" y="4545"/>
                  <a:pt x="7571" y="4538"/>
                  <a:pt x="7631" y="4533"/>
                </a:cubicBezTo>
                <a:cubicBezTo>
                  <a:pt x="7644" y="4532"/>
                  <a:pt x="7656" y="4531"/>
                  <a:pt x="7669" y="4530"/>
                </a:cubicBezTo>
              </a:path>
              <a:path w="4339" h="2409">
                <a:moveTo>
                  <a:pt x="7548" y="4700"/>
                </a:moveTo>
                <a:cubicBezTo>
                  <a:pt x="7539" y="4713"/>
                  <a:pt x="7536" y="4716"/>
                  <a:pt x="7539" y="4726"/>
                </a:cubicBezTo>
                <a:cubicBezTo>
                  <a:pt x="7583" y="4709"/>
                  <a:pt x="7627" y="4689"/>
                  <a:pt x="7670" y="4669"/>
                </a:cubicBezTo>
                <a:cubicBezTo>
                  <a:pt x="7717" y="4646"/>
                  <a:pt x="7734" y="4638"/>
                  <a:pt x="7766" y="4624"/>
                </a:cubicBezTo>
              </a:path>
              <a:path w="4339" h="2409">
                <a:moveTo>
                  <a:pt x="8325" y="3919"/>
                </a:moveTo>
                <a:cubicBezTo>
                  <a:pt x="8348" y="3960"/>
                  <a:pt x="8352" y="4004"/>
                  <a:pt x="8357" y="4051"/>
                </a:cubicBezTo>
                <a:cubicBezTo>
                  <a:pt x="8364" y="4118"/>
                  <a:pt x="8372" y="4185"/>
                  <a:pt x="8376" y="4252"/>
                </a:cubicBezTo>
                <a:cubicBezTo>
                  <a:pt x="8377" y="4280"/>
                  <a:pt x="8377" y="4287"/>
                  <a:pt x="8377" y="4304"/>
                </a:cubicBezTo>
                <a:cubicBezTo>
                  <a:pt x="8389" y="4254"/>
                  <a:pt x="8401" y="4203"/>
                  <a:pt x="8414" y="4153"/>
                </a:cubicBezTo>
                <a:cubicBezTo>
                  <a:pt x="8427" y="4100"/>
                  <a:pt x="8441" y="4042"/>
                  <a:pt x="8468" y="3994"/>
                </a:cubicBezTo>
                <a:cubicBezTo>
                  <a:pt x="8479" y="3979"/>
                  <a:pt x="8481" y="3974"/>
                  <a:pt x="8494" y="3975"/>
                </a:cubicBezTo>
                <a:cubicBezTo>
                  <a:pt x="8523" y="4007"/>
                  <a:pt x="8527" y="4045"/>
                  <a:pt x="8541" y="4086"/>
                </a:cubicBezTo>
                <a:cubicBezTo>
                  <a:pt x="8556" y="4129"/>
                  <a:pt x="8574" y="4204"/>
                  <a:pt x="8614" y="4233"/>
                </a:cubicBezTo>
                <a:cubicBezTo>
                  <a:pt x="8621" y="4235"/>
                  <a:pt x="8628" y="4238"/>
                  <a:pt x="8635" y="4240"/>
                </a:cubicBezTo>
              </a:path>
              <a:path w="4339" h="2409">
                <a:moveTo>
                  <a:pt x="8866" y="3880"/>
                </a:moveTo>
                <a:cubicBezTo>
                  <a:pt x="8884" y="3912"/>
                  <a:pt x="8887" y="3943"/>
                  <a:pt x="8897" y="3978"/>
                </a:cubicBezTo>
                <a:cubicBezTo>
                  <a:pt x="8912" y="4030"/>
                  <a:pt x="8934" y="4078"/>
                  <a:pt x="8949" y="4130"/>
                </a:cubicBezTo>
                <a:cubicBezTo>
                  <a:pt x="8956" y="4157"/>
                  <a:pt x="8958" y="4164"/>
                  <a:pt x="8961" y="4182"/>
                </a:cubicBezTo>
              </a:path>
              <a:path w="4339" h="2409">
                <a:moveTo>
                  <a:pt x="4726" y="3303"/>
                </a:moveTo>
                <a:cubicBezTo>
                  <a:pt x="4693" y="3315"/>
                  <a:pt x="4663" y="3329"/>
                  <a:pt x="4629" y="3335"/>
                </a:cubicBezTo>
                <a:cubicBezTo>
                  <a:pt x="4648" y="3304"/>
                  <a:pt x="4687" y="3260"/>
                  <a:pt x="4725" y="3227"/>
                </a:cubicBezTo>
                <a:cubicBezTo>
                  <a:pt x="4814" y="3148"/>
                  <a:pt x="4909" y="3075"/>
                  <a:pt x="5006" y="3007"/>
                </a:cubicBezTo>
                <a:cubicBezTo>
                  <a:pt x="5076" y="2958"/>
                  <a:pt x="5148" y="2914"/>
                  <a:pt x="5220" y="2869"/>
                </a:cubicBezTo>
                <a:cubicBezTo>
                  <a:pt x="5226" y="2864"/>
                  <a:pt x="5233" y="2860"/>
                  <a:pt x="5239" y="2855"/>
                </a:cubicBezTo>
              </a:path>
              <a:path w="4339" h="2409">
                <a:moveTo>
                  <a:pt x="4765" y="2566"/>
                </a:moveTo>
                <a:cubicBezTo>
                  <a:pt x="4760" y="2585"/>
                  <a:pt x="4766" y="2598"/>
                  <a:pt x="4773" y="2617"/>
                </a:cubicBezTo>
                <a:cubicBezTo>
                  <a:pt x="4785" y="2651"/>
                  <a:pt x="4795" y="2685"/>
                  <a:pt x="4805" y="2720"/>
                </a:cubicBezTo>
                <a:cubicBezTo>
                  <a:pt x="4814" y="2751"/>
                  <a:pt x="4823" y="2782"/>
                  <a:pt x="4830" y="2813"/>
                </a:cubicBezTo>
                <a:cubicBezTo>
                  <a:pt x="4831" y="2817"/>
                  <a:pt x="4831" y="2821"/>
                  <a:pt x="4832" y="2825"/>
                </a:cubicBezTo>
                <a:cubicBezTo>
                  <a:pt x="4833" y="2788"/>
                  <a:pt x="4833" y="2751"/>
                  <a:pt x="4838" y="2714"/>
                </a:cubicBezTo>
                <a:cubicBezTo>
                  <a:pt x="4845" y="2662"/>
                  <a:pt x="4857" y="2608"/>
                  <a:pt x="4880" y="2561"/>
                </a:cubicBezTo>
                <a:cubicBezTo>
                  <a:pt x="4900" y="2521"/>
                  <a:pt x="4941" y="2478"/>
                  <a:pt x="4991" y="2489"/>
                </a:cubicBezTo>
                <a:cubicBezTo>
                  <a:pt x="5027" y="2497"/>
                  <a:pt x="5060" y="2521"/>
                  <a:pt x="5088" y="2543"/>
                </a:cubicBezTo>
                <a:cubicBezTo>
                  <a:pt x="5107" y="2559"/>
                  <a:pt x="5113" y="2565"/>
                  <a:pt x="5127" y="2574"/>
                </a:cubicBezTo>
              </a:path>
              <a:path w="4339" h="2409">
                <a:moveTo>
                  <a:pt x="4685" y="3612"/>
                </a:moveTo>
                <a:cubicBezTo>
                  <a:pt x="4696" y="3635"/>
                  <a:pt x="4700" y="3653"/>
                  <a:pt x="4706" y="3678"/>
                </a:cubicBezTo>
                <a:cubicBezTo>
                  <a:pt x="4711" y="3700"/>
                  <a:pt x="4717" y="3723"/>
                  <a:pt x="4717" y="3746"/>
                </a:cubicBezTo>
                <a:cubicBezTo>
                  <a:pt x="4717" y="3749"/>
                  <a:pt x="4716" y="3753"/>
                  <a:pt x="4716" y="3756"/>
                </a:cubicBezTo>
                <a:cubicBezTo>
                  <a:pt x="4693" y="3745"/>
                  <a:pt x="4688" y="3726"/>
                  <a:pt x="4683" y="3699"/>
                </a:cubicBezTo>
                <a:cubicBezTo>
                  <a:pt x="4674" y="3650"/>
                  <a:pt x="4680" y="3603"/>
                  <a:pt x="4701" y="3559"/>
                </a:cubicBezTo>
                <a:cubicBezTo>
                  <a:pt x="4722" y="3515"/>
                  <a:pt x="4760" y="3477"/>
                  <a:pt x="4805" y="3458"/>
                </a:cubicBezTo>
                <a:cubicBezTo>
                  <a:pt x="4847" y="3440"/>
                  <a:pt x="4880" y="3448"/>
                  <a:pt x="4922" y="3456"/>
                </a:cubicBezTo>
                <a:cubicBezTo>
                  <a:pt x="4945" y="3461"/>
                  <a:pt x="4963" y="3469"/>
                  <a:pt x="4983" y="348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3921120" y="1227240"/>
            <a:ext cx="2273400" cy="387360"/>
          </a:xfrm>
          <a:custGeom>
            <a:avLst/>
            <a:gdLst/>
            <a:ahLst/>
            <a:rect l="l" t="t" r="r" b="b"/>
            <a:pathLst>
              <a:path w="6315" h="1077">
                <a:moveTo>
                  <a:pt x="10893" y="3508"/>
                </a:moveTo>
                <a:cubicBezTo>
                  <a:pt x="10892" y="3495"/>
                  <a:pt x="10891" y="3482"/>
                  <a:pt x="10890" y="3470"/>
                </a:cubicBezTo>
                <a:cubicBezTo>
                  <a:pt x="11046" y="3485"/>
                  <a:pt x="11201" y="3475"/>
                  <a:pt x="11358" y="3464"/>
                </a:cubicBezTo>
                <a:cubicBezTo>
                  <a:pt x="11927" y="3423"/>
                  <a:pt x="12492" y="3425"/>
                  <a:pt x="13062" y="3422"/>
                </a:cubicBezTo>
                <a:cubicBezTo>
                  <a:pt x="13416" y="3420"/>
                  <a:pt x="13760" y="3396"/>
                  <a:pt x="14113" y="3444"/>
                </a:cubicBezTo>
                <a:cubicBezTo>
                  <a:pt x="14336" y="3474"/>
                  <a:pt x="14567" y="3512"/>
                  <a:pt x="14792" y="3514"/>
                </a:cubicBezTo>
                <a:cubicBezTo>
                  <a:pt x="14807" y="3514"/>
                  <a:pt x="14821" y="3512"/>
                  <a:pt x="14836" y="3512"/>
                </a:cubicBezTo>
              </a:path>
              <a:path w="6315" h="1077">
                <a:moveTo>
                  <a:pt x="11664" y="3875"/>
                </a:moveTo>
                <a:cubicBezTo>
                  <a:pt x="11650" y="3899"/>
                  <a:pt x="11656" y="3912"/>
                  <a:pt x="11656" y="3941"/>
                </a:cubicBezTo>
                <a:cubicBezTo>
                  <a:pt x="11656" y="3989"/>
                  <a:pt x="11660" y="4038"/>
                  <a:pt x="11666" y="4086"/>
                </a:cubicBezTo>
                <a:cubicBezTo>
                  <a:pt x="11672" y="4131"/>
                  <a:pt x="11678" y="4188"/>
                  <a:pt x="11700" y="4229"/>
                </a:cubicBezTo>
                <a:cubicBezTo>
                  <a:pt x="11710" y="4241"/>
                  <a:pt x="11712" y="4245"/>
                  <a:pt x="11723" y="4245"/>
                </a:cubicBezTo>
                <a:cubicBezTo>
                  <a:pt x="11748" y="4212"/>
                  <a:pt x="11757" y="4179"/>
                  <a:pt x="11768" y="4139"/>
                </a:cubicBezTo>
                <a:cubicBezTo>
                  <a:pt x="11779" y="4099"/>
                  <a:pt x="11785" y="4059"/>
                  <a:pt x="11799" y="4021"/>
                </a:cubicBezTo>
                <a:cubicBezTo>
                  <a:pt x="11821" y="4047"/>
                  <a:pt x="11819" y="4080"/>
                  <a:pt x="11826" y="4114"/>
                </a:cubicBezTo>
                <a:cubicBezTo>
                  <a:pt x="11833" y="4146"/>
                  <a:pt x="11839" y="4179"/>
                  <a:pt x="11862" y="4201"/>
                </a:cubicBezTo>
                <a:cubicBezTo>
                  <a:pt x="11887" y="4189"/>
                  <a:pt x="11906" y="4162"/>
                  <a:pt x="11918" y="4136"/>
                </a:cubicBezTo>
                <a:cubicBezTo>
                  <a:pt x="11943" y="4081"/>
                  <a:pt x="11963" y="4036"/>
                  <a:pt x="12003" y="3990"/>
                </a:cubicBezTo>
              </a:path>
              <a:path w="6315" h="1077">
                <a:moveTo>
                  <a:pt x="12170" y="3946"/>
                </a:moveTo>
                <a:cubicBezTo>
                  <a:pt x="12161" y="4003"/>
                  <a:pt x="12159" y="4057"/>
                  <a:pt x="12155" y="4114"/>
                </a:cubicBezTo>
                <a:cubicBezTo>
                  <a:pt x="12152" y="4159"/>
                  <a:pt x="12152" y="4202"/>
                  <a:pt x="12153" y="4247"/>
                </a:cubicBezTo>
                <a:cubicBezTo>
                  <a:pt x="12170" y="4223"/>
                  <a:pt x="12170" y="4210"/>
                  <a:pt x="12174" y="4178"/>
                </a:cubicBezTo>
              </a:path>
              <a:path w="6315" h="1077">
                <a:moveTo>
                  <a:pt x="12177" y="3668"/>
                </a:moveTo>
                <a:cubicBezTo>
                  <a:pt x="12178" y="3630"/>
                  <a:pt x="12178" y="3595"/>
                  <a:pt x="12185" y="3557"/>
                </a:cubicBezTo>
                <a:cubicBezTo>
                  <a:pt x="12190" y="3530"/>
                  <a:pt x="12189" y="3531"/>
                  <a:pt x="12212" y="3523"/>
                </a:cubicBezTo>
                <a:cubicBezTo>
                  <a:pt x="12227" y="3551"/>
                  <a:pt x="12235" y="3570"/>
                  <a:pt x="12238" y="3605"/>
                </a:cubicBezTo>
                <a:cubicBezTo>
                  <a:pt x="12244" y="3676"/>
                  <a:pt x="12247" y="3748"/>
                  <a:pt x="12251" y="3819"/>
                </a:cubicBezTo>
                <a:cubicBezTo>
                  <a:pt x="12255" y="3909"/>
                  <a:pt x="12261" y="4002"/>
                  <a:pt x="12274" y="4091"/>
                </a:cubicBezTo>
                <a:cubicBezTo>
                  <a:pt x="12281" y="4138"/>
                  <a:pt x="12290" y="4182"/>
                  <a:pt x="12293" y="4230"/>
                </a:cubicBezTo>
              </a:path>
              <a:path w="6315" h="1077">
                <a:moveTo>
                  <a:pt x="12148" y="3902"/>
                </a:moveTo>
                <a:cubicBezTo>
                  <a:pt x="12180" y="3884"/>
                  <a:pt x="12217" y="3873"/>
                  <a:pt x="12252" y="3856"/>
                </a:cubicBezTo>
                <a:cubicBezTo>
                  <a:pt x="12305" y="3831"/>
                  <a:pt x="12352" y="3799"/>
                  <a:pt x="12391" y="3756"/>
                </a:cubicBezTo>
                <a:cubicBezTo>
                  <a:pt x="12414" y="3731"/>
                  <a:pt x="12427" y="3706"/>
                  <a:pt x="12441" y="3677"/>
                </a:cubicBezTo>
                <a:cubicBezTo>
                  <a:pt x="12439" y="3734"/>
                  <a:pt x="12436" y="3791"/>
                  <a:pt x="12439" y="3848"/>
                </a:cubicBezTo>
                <a:cubicBezTo>
                  <a:pt x="12443" y="3933"/>
                  <a:pt x="12447" y="4019"/>
                  <a:pt x="12451" y="4104"/>
                </a:cubicBezTo>
                <a:cubicBezTo>
                  <a:pt x="12452" y="4131"/>
                  <a:pt x="12456" y="4156"/>
                  <a:pt x="12460" y="4183"/>
                </a:cubicBezTo>
                <a:cubicBezTo>
                  <a:pt x="12468" y="4144"/>
                  <a:pt x="12473" y="4103"/>
                  <a:pt x="12484" y="4064"/>
                </a:cubicBezTo>
                <a:cubicBezTo>
                  <a:pt x="12492" y="4036"/>
                  <a:pt x="12498" y="4043"/>
                  <a:pt x="12515" y="4030"/>
                </a:cubicBezTo>
                <a:cubicBezTo>
                  <a:pt x="12548" y="4053"/>
                  <a:pt x="12568" y="4082"/>
                  <a:pt x="12596" y="4111"/>
                </a:cubicBezTo>
                <a:cubicBezTo>
                  <a:pt x="12622" y="4136"/>
                  <a:pt x="12632" y="4145"/>
                  <a:pt x="12653" y="4158"/>
                </a:cubicBezTo>
              </a:path>
              <a:path w="6315" h="1077">
                <a:moveTo>
                  <a:pt x="12801" y="4040"/>
                </a:moveTo>
                <a:cubicBezTo>
                  <a:pt x="12765" y="4051"/>
                  <a:pt x="12750" y="4075"/>
                  <a:pt x="12736" y="4112"/>
                </a:cubicBezTo>
                <a:cubicBezTo>
                  <a:pt x="12724" y="4143"/>
                  <a:pt x="12713" y="4199"/>
                  <a:pt x="12737" y="4228"/>
                </a:cubicBezTo>
                <a:cubicBezTo>
                  <a:pt x="12764" y="4260"/>
                  <a:pt x="12811" y="4226"/>
                  <a:pt x="12835" y="4210"/>
                </a:cubicBezTo>
                <a:cubicBezTo>
                  <a:pt x="12873" y="4185"/>
                  <a:pt x="12902" y="4152"/>
                  <a:pt x="12924" y="4112"/>
                </a:cubicBezTo>
                <a:cubicBezTo>
                  <a:pt x="12934" y="4095"/>
                  <a:pt x="12944" y="4068"/>
                  <a:pt x="12929" y="4050"/>
                </a:cubicBezTo>
                <a:cubicBezTo>
                  <a:pt x="12923" y="4045"/>
                  <a:pt x="12918" y="4040"/>
                  <a:pt x="12912" y="4035"/>
                </a:cubicBezTo>
              </a:path>
              <a:path w="6315" h="1077">
                <a:moveTo>
                  <a:pt x="13004" y="4038"/>
                </a:moveTo>
                <a:cubicBezTo>
                  <a:pt x="13014" y="4064"/>
                  <a:pt x="13011" y="4086"/>
                  <a:pt x="13016" y="4112"/>
                </a:cubicBezTo>
                <a:cubicBezTo>
                  <a:pt x="13021" y="4142"/>
                  <a:pt x="13025" y="4182"/>
                  <a:pt x="13047" y="4205"/>
                </a:cubicBezTo>
                <a:cubicBezTo>
                  <a:pt x="13068" y="4227"/>
                  <a:pt x="13091" y="4214"/>
                  <a:pt x="13111" y="4198"/>
                </a:cubicBezTo>
                <a:cubicBezTo>
                  <a:pt x="13133" y="4180"/>
                  <a:pt x="13146" y="4157"/>
                  <a:pt x="13163" y="4134"/>
                </a:cubicBezTo>
                <a:cubicBezTo>
                  <a:pt x="13171" y="4124"/>
                  <a:pt x="13174" y="4120"/>
                  <a:pt x="13182" y="4115"/>
                </a:cubicBezTo>
                <a:cubicBezTo>
                  <a:pt x="13193" y="4131"/>
                  <a:pt x="13201" y="4151"/>
                  <a:pt x="13213" y="4167"/>
                </a:cubicBezTo>
                <a:cubicBezTo>
                  <a:pt x="13228" y="4186"/>
                  <a:pt x="13243" y="4181"/>
                  <a:pt x="13264" y="4178"/>
                </a:cubicBezTo>
              </a:path>
              <a:path w="6315" h="1077">
                <a:moveTo>
                  <a:pt x="13414" y="3744"/>
                </a:moveTo>
                <a:cubicBezTo>
                  <a:pt x="13398" y="3800"/>
                  <a:pt x="13389" y="3854"/>
                  <a:pt x="13386" y="3913"/>
                </a:cubicBezTo>
                <a:cubicBezTo>
                  <a:pt x="13382" y="3999"/>
                  <a:pt x="13383" y="4081"/>
                  <a:pt x="13392" y="4167"/>
                </a:cubicBezTo>
                <a:cubicBezTo>
                  <a:pt x="13396" y="4203"/>
                  <a:pt x="13397" y="4213"/>
                  <a:pt x="13399" y="4236"/>
                </a:cubicBezTo>
              </a:path>
              <a:path w="6315" h="1077">
                <a:moveTo>
                  <a:pt x="13237" y="4000"/>
                </a:moveTo>
                <a:cubicBezTo>
                  <a:pt x="13279" y="3968"/>
                  <a:pt x="13320" y="3953"/>
                  <a:pt x="13373" y="3943"/>
                </a:cubicBezTo>
                <a:cubicBezTo>
                  <a:pt x="13436" y="3931"/>
                  <a:pt x="13500" y="3929"/>
                  <a:pt x="13563" y="3942"/>
                </a:cubicBezTo>
                <a:cubicBezTo>
                  <a:pt x="13574" y="3945"/>
                  <a:pt x="13586" y="3948"/>
                  <a:pt x="13597" y="3951"/>
                </a:cubicBezTo>
              </a:path>
              <a:path w="6315" h="1077">
                <a:moveTo>
                  <a:pt x="14158" y="4060"/>
                </a:moveTo>
                <a:cubicBezTo>
                  <a:pt x="14155" y="4106"/>
                  <a:pt x="14149" y="4156"/>
                  <a:pt x="14151" y="4202"/>
                </a:cubicBezTo>
                <a:cubicBezTo>
                  <a:pt x="14153" y="4232"/>
                  <a:pt x="14157" y="4263"/>
                  <a:pt x="14160" y="4293"/>
                </a:cubicBezTo>
                <a:cubicBezTo>
                  <a:pt x="14177" y="4246"/>
                  <a:pt x="14179" y="4198"/>
                  <a:pt x="14186" y="4149"/>
                </a:cubicBezTo>
                <a:cubicBezTo>
                  <a:pt x="14194" y="4091"/>
                  <a:pt x="14197" y="4018"/>
                  <a:pt x="14223" y="3965"/>
                </a:cubicBezTo>
                <a:cubicBezTo>
                  <a:pt x="14239" y="3932"/>
                  <a:pt x="14261" y="3925"/>
                  <a:pt x="14291" y="3934"/>
                </a:cubicBezTo>
              </a:path>
              <a:path w="6315" h="1077">
                <a:moveTo>
                  <a:pt x="14428" y="4080"/>
                </a:moveTo>
                <a:cubicBezTo>
                  <a:pt x="14448" y="4094"/>
                  <a:pt x="14464" y="4098"/>
                  <a:pt x="14484" y="4075"/>
                </a:cubicBezTo>
                <a:cubicBezTo>
                  <a:pt x="14506" y="4050"/>
                  <a:pt x="14529" y="4017"/>
                  <a:pt x="14539" y="3985"/>
                </a:cubicBezTo>
                <a:cubicBezTo>
                  <a:pt x="14542" y="3965"/>
                  <a:pt x="14544" y="3961"/>
                  <a:pt x="14543" y="3948"/>
                </a:cubicBezTo>
                <a:cubicBezTo>
                  <a:pt x="14503" y="3958"/>
                  <a:pt x="14482" y="3983"/>
                  <a:pt x="14462" y="4022"/>
                </a:cubicBezTo>
                <a:cubicBezTo>
                  <a:pt x="14439" y="4066"/>
                  <a:pt x="14424" y="4123"/>
                  <a:pt x="14443" y="4171"/>
                </a:cubicBezTo>
                <a:cubicBezTo>
                  <a:pt x="14462" y="4221"/>
                  <a:pt x="14522" y="4220"/>
                  <a:pt x="14565" y="4213"/>
                </a:cubicBezTo>
                <a:cubicBezTo>
                  <a:pt x="14612" y="4201"/>
                  <a:pt x="14628" y="4197"/>
                  <a:pt x="14657" y="4183"/>
                </a:cubicBezTo>
              </a:path>
              <a:path w="6315" h="1077">
                <a:moveTo>
                  <a:pt x="14797" y="4034"/>
                </a:moveTo>
                <a:cubicBezTo>
                  <a:pt x="14779" y="4049"/>
                  <a:pt x="14766" y="4070"/>
                  <a:pt x="14767" y="4096"/>
                </a:cubicBezTo>
                <a:cubicBezTo>
                  <a:pt x="14769" y="4142"/>
                  <a:pt x="14778" y="4190"/>
                  <a:pt x="14784" y="4236"/>
                </a:cubicBezTo>
                <a:cubicBezTo>
                  <a:pt x="14790" y="4280"/>
                  <a:pt x="14794" y="4324"/>
                  <a:pt x="14794" y="4369"/>
                </a:cubicBezTo>
                <a:cubicBezTo>
                  <a:pt x="14794" y="4389"/>
                  <a:pt x="14791" y="4408"/>
                  <a:pt x="14790" y="4427"/>
                </a:cubicBezTo>
                <a:cubicBezTo>
                  <a:pt x="14789" y="4456"/>
                  <a:pt x="14795" y="4459"/>
                  <a:pt x="14778" y="4483"/>
                </a:cubicBezTo>
                <a:cubicBezTo>
                  <a:pt x="14766" y="4462"/>
                  <a:pt x="14763" y="4451"/>
                  <a:pt x="14765" y="4419"/>
                </a:cubicBezTo>
                <a:cubicBezTo>
                  <a:pt x="14772" y="4291"/>
                  <a:pt x="14791" y="4163"/>
                  <a:pt x="14831" y="4040"/>
                </a:cubicBezTo>
                <a:cubicBezTo>
                  <a:pt x="14844" y="4000"/>
                  <a:pt x="14855" y="3979"/>
                  <a:pt x="14883" y="3951"/>
                </a:cubicBezTo>
                <a:cubicBezTo>
                  <a:pt x="14924" y="3963"/>
                  <a:pt x="14932" y="3993"/>
                  <a:pt x="14943" y="4036"/>
                </a:cubicBezTo>
                <a:cubicBezTo>
                  <a:pt x="14959" y="4100"/>
                  <a:pt x="14960" y="4178"/>
                  <a:pt x="14914" y="4231"/>
                </a:cubicBezTo>
                <a:cubicBezTo>
                  <a:pt x="14889" y="4259"/>
                  <a:pt x="14843" y="4273"/>
                  <a:pt x="14808" y="4256"/>
                </a:cubicBezTo>
                <a:cubicBezTo>
                  <a:pt x="14757" y="4232"/>
                  <a:pt x="14767" y="4174"/>
                  <a:pt x="14768" y="4128"/>
                </a:cubicBezTo>
              </a:path>
              <a:path w="6315" h="1077">
                <a:moveTo>
                  <a:pt x="14935" y="3783"/>
                </a:moveTo>
                <a:cubicBezTo>
                  <a:pt x="14966" y="3788"/>
                  <a:pt x="14959" y="3825"/>
                  <a:pt x="14961" y="3858"/>
                </a:cubicBezTo>
                <a:cubicBezTo>
                  <a:pt x="14966" y="3926"/>
                  <a:pt x="14974" y="3999"/>
                  <a:pt x="14989" y="4066"/>
                </a:cubicBezTo>
                <a:cubicBezTo>
                  <a:pt x="15000" y="4118"/>
                  <a:pt x="15016" y="4171"/>
                  <a:pt x="15036" y="4220"/>
                </a:cubicBezTo>
              </a:path>
              <a:path w="6315" h="1077">
                <a:moveTo>
                  <a:pt x="15345" y="4017"/>
                </a:moveTo>
                <a:cubicBezTo>
                  <a:pt x="15315" y="3995"/>
                  <a:pt x="15294" y="3981"/>
                  <a:pt x="15258" y="3974"/>
                </a:cubicBezTo>
                <a:cubicBezTo>
                  <a:pt x="15218" y="3966"/>
                  <a:pt x="15193" y="3979"/>
                  <a:pt x="15167" y="4011"/>
                </a:cubicBezTo>
                <a:cubicBezTo>
                  <a:pt x="15140" y="4044"/>
                  <a:pt x="15133" y="4084"/>
                  <a:pt x="15135" y="4126"/>
                </a:cubicBezTo>
                <a:cubicBezTo>
                  <a:pt x="15137" y="4153"/>
                  <a:pt x="15146" y="4189"/>
                  <a:pt x="15180" y="4189"/>
                </a:cubicBezTo>
                <a:cubicBezTo>
                  <a:pt x="15225" y="4189"/>
                  <a:pt x="15259" y="4140"/>
                  <a:pt x="15295" y="4120"/>
                </a:cubicBezTo>
                <a:cubicBezTo>
                  <a:pt x="15322" y="4105"/>
                  <a:pt x="15328" y="4133"/>
                  <a:pt x="15337" y="4154"/>
                </a:cubicBezTo>
                <a:cubicBezTo>
                  <a:pt x="15356" y="4202"/>
                  <a:pt x="15370" y="4261"/>
                  <a:pt x="15411" y="4296"/>
                </a:cubicBezTo>
                <a:cubicBezTo>
                  <a:pt x="15432" y="4308"/>
                  <a:pt x="15438" y="4313"/>
                  <a:pt x="15455" y="4310"/>
                </a:cubicBezTo>
              </a:path>
              <a:path w="6315" h="1077">
                <a:moveTo>
                  <a:pt x="15642" y="4030"/>
                </a:moveTo>
                <a:cubicBezTo>
                  <a:pt x="15641" y="4012"/>
                  <a:pt x="15641" y="4007"/>
                  <a:pt x="15638" y="3996"/>
                </a:cubicBezTo>
                <a:cubicBezTo>
                  <a:pt x="15602" y="3999"/>
                  <a:pt x="15592" y="4025"/>
                  <a:pt x="15576" y="4057"/>
                </a:cubicBezTo>
                <a:cubicBezTo>
                  <a:pt x="15550" y="4110"/>
                  <a:pt x="15518" y="4194"/>
                  <a:pt x="15525" y="4254"/>
                </a:cubicBezTo>
                <a:cubicBezTo>
                  <a:pt x="15530" y="4295"/>
                  <a:pt x="15557" y="4313"/>
                  <a:pt x="15597" y="4307"/>
                </a:cubicBezTo>
                <a:cubicBezTo>
                  <a:pt x="15607" y="4304"/>
                  <a:pt x="15617" y="4301"/>
                  <a:pt x="15627" y="4298"/>
                </a:cubicBezTo>
              </a:path>
              <a:path w="6315" h="1077">
                <a:moveTo>
                  <a:pt x="15787" y="4222"/>
                </a:moveTo>
                <a:cubicBezTo>
                  <a:pt x="15809" y="4210"/>
                  <a:pt x="15821" y="4202"/>
                  <a:pt x="15836" y="4178"/>
                </a:cubicBezTo>
                <a:cubicBezTo>
                  <a:pt x="15851" y="4153"/>
                  <a:pt x="15873" y="4124"/>
                  <a:pt x="15877" y="4094"/>
                </a:cubicBezTo>
                <a:cubicBezTo>
                  <a:pt x="15877" y="4089"/>
                  <a:pt x="15876" y="4083"/>
                  <a:pt x="15876" y="4078"/>
                </a:cubicBezTo>
                <a:cubicBezTo>
                  <a:pt x="15846" y="4070"/>
                  <a:pt x="15833" y="4083"/>
                  <a:pt x="15817" y="4113"/>
                </a:cubicBezTo>
                <a:cubicBezTo>
                  <a:pt x="15797" y="4150"/>
                  <a:pt x="15786" y="4198"/>
                  <a:pt x="15793" y="4240"/>
                </a:cubicBezTo>
                <a:cubicBezTo>
                  <a:pt x="15799" y="4277"/>
                  <a:pt x="15816" y="4308"/>
                  <a:pt x="15854" y="4314"/>
                </a:cubicBezTo>
                <a:cubicBezTo>
                  <a:pt x="15888" y="4319"/>
                  <a:pt x="15921" y="4297"/>
                  <a:pt x="15943" y="4273"/>
                </a:cubicBezTo>
                <a:cubicBezTo>
                  <a:pt x="15959" y="4256"/>
                  <a:pt x="15972" y="4237"/>
                  <a:pt x="15984" y="4218"/>
                </a:cubicBezTo>
                <a:cubicBezTo>
                  <a:pt x="15984" y="4237"/>
                  <a:pt x="15981" y="4254"/>
                  <a:pt x="15981" y="4273"/>
                </a:cubicBezTo>
                <a:cubicBezTo>
                  <a:pt x="15982" y="4285"/>
                  <a:pt x="15982" y="4290"/>
                  <a:pt x="15982" y="4298"/>
                </a:cubicBezTo>
                <a:cubicBezTo>
                  <a:pt x="16007" y="4273"/>
                  <a:pt x="16019" y="4244"/>
                  <a:pt x="16037" y="4214"/>
                </a:cubicBezTo>
                <a:cubicBezTo>
                  <a:pt x="16060" y="4175"/>
                  <a:pt x="16087" y="4123"/>
                  <a:pt x="16129" y="4101"/>
                </a:cubicBezTo>
                <a:cubicBezTo>
                  <a:pt x="16133" y="4100"/>
                  <a:pt x="16137" y="4099"/>
                  <a:pt x="16141" y="4098"/>
                </a:cubicBezTo>
                <a:cubicBezTo>
                  <a:pt x="16154" y="4116"/>
                  <a:pt x="16159" y="4124"/>
                  <a:pt x="16163" y="4149"/>
                </a:cubicBezTo>
                <a:cubicBezTo>
                  <a:pt x="16165" y="4164"/>
                  <a:pt x="16167" y="4178"/>
                  <a:pt x="16169" y="4193"/>
                </a:cubicBezTo>
                <a:cubicBezTo>
                  <a:pt x="16187" y="4178"/>
                  <a:pt x="16196" y="4161"/>
                  <a:pt x="16209" y="4140"/>
                </a:cubicBezTo>
                <a:cubicBezTo>
                  <a:pt x="16222" y="4120"/>
                  <a:pt x="16218" y="4121"/>
                  <a:pt x="16241" y="4118"/>
                </a:cubicBezTo>
                <a:cubicBezTo>
                  <a:pt x="16258" y="4151"/>
                  <a:pt x="16268" y="4231"/>
                  <a:pt x="16313" y="4235"/>
                </a:cubicBezTo>
                <a:cubicBezTo>
                  <a:pt x="16327" y="4236"/>
                  <a:pt x="16338" y="4230"/>
                  <a:pt x="16351" y="4226"/>
                </a:cubicBezTo>
              </a:path>
              <a:path w="6315" h="1077">
                <a:moveTo>
                  <a:pt x="16415" y="4208"/>
                </a:moveTo>
                <a:cubicBezTo>
                  <a:pt x="16430" y="4198"/>
                  <a:pt x="16456" y="4180"/>
                  <a:pt x="16466" y="4165"/>
                </a:cubicBezTo>
                <a:cubicBezTo>
                  <a:pt x="16482" y="4141"/>
                  <a:pt x="16503" y="4117"/>
                  <a:pt x="16516" y="4092"/>
                </a:cubicBezTo>
                <a:cubicBezTo>
                  <a:pt x="16518" y="4087"/>
                  <a:pt x="16519" y="4081"/>
                  <a:pt x="16521" y="4076"/>
                </a:cubicBezTo>
                <a:cubicBezTo>
                  <a:pt x="16491" y="4109"/>
                  <a:pt x="16472" y="4144"/>
                  <a:pt x="16455" y="4187"/>
                </a:cubicBezTo>
                <a:cubicBezTo>
                  <a:pt x="16442" y="4219"/>
                  <a:pt x="16409" y="4297"/>
                  <a:pt x="16444" y="4327"/>
                </a:cubicBezTo>
                <a:cubicBezTo>
                  <a:pt x="16460" y="4341"/>
                  <a:pt x="16505" y="4324"/>
                  <a:pt x="16518" y="4313"/>
                </a:cubicBezTo>
                <a:cubicBezTo>
                  <a:pt x="16538" y="4297"/>
                  <a:pt x="16568" y="4269"/>
                  <a:pt x="16581" y="4247"/>
                </a:cubicBezTo>
                <a:cubicBezTo>
                  <a:pt x="16582" y="4242"/>
                  <a:pt x="16584" y="4237"/>
                  <a:pt x="16585" y="4232"/>
                </a:cubicBezTo>
                <a:cubicBezTo>
                  <a:pt x="16581" y="4237"/>
                  <a:pt x="16560" y="4289"/>
                  <a:pt x="16570" y="4289"/>
                </a:cubicBezTo>
                <a:cubicBezTo>
                  <a:pt x="16582" y="4289"/>
                  <a:pt x="16592" y="4248"/>
                  <a:pt x="16596" y="4240"/>
                </a:cubicBezTo>
                <a:cubicBezTo>
                  <a:pt x="16607" y="4217"/>
                  <a:pt x="16620" y="4200"/>
                  <a:pt x="16646" y="4196"/>
                </a:cubicBezTo>
                <a:cubicBezTo>
                  <a:pt x="16663" y="4193"/>
                  <a:pt x="16690" y="4216"/>
                  <a:pt x="16701" y="4226"/>
                </a:cubicBezTo>
                <a:cubicBezTo>
                  <a:pt x="16722" y="4245"/>
                  <a:pt x="16739" y="4269"/>
                  <a:pt x="16752" y="4294"/>
                </a:cubicBezTo>
                <a:cubicBezTo>
                  <a:pt x="16762" y="4312"/>
                  <a:pt x="16768" y="4365"/>
                  <a:pt x="16774" y="4346"/>
                </a:cubicBezTo>
                <a:cubicBezTo>
                  <a:pt x="16775" y="4342"/>
                  <a:pt x="16777" y="4337"/>
                  <a:pt x="16778" y="4333"/>
                </a:cubicBezTo>
              </a:path>
              <a:path w="6315" h="1077">
                <a:moveTo>
                  <a:pt x="16855" y="3873"/>
                </a:moveTo>
                <a:cubicBezTo>
                  <a:pt x="16859" y="3845"/>
                  <a:pt x="16860" y="3839"/>
                  <a:pt x="16864" y="3822"/>
                </a:cubicBezTo>
                <a:cubicBezTo>
                  <a:pt x="16873" y="3886"/>
                  <a:pt x="16874" y="3951"/>
                  <a:pt x="16880" y="4016"/>
                </a:cubicBezTo>
                <a:cubicBezTo>
                  <a:pt x="16889" y="4111"/>
                  <a:pt x="16906" y="4204"/>
                  <a:pt x="16919" y="4298"/>
                </a:cubicBezTo>
                <a:cubicBezTo>
                  <a:pt x="16921" y="4315"/>
                  <a:pt x="16924" y="4332"/>
                  <a:pt x="16926" y="4349"/>
                </a:cubicBezTo>
              </a:path>
              <a:path w="6315" h="1077">
                <a:moveTo>
                  <a:pt x="16774" y="4090"/>
                </a:moveTo>
                <a:cubicBezTo>
                  <a:pt x="16781" y="4058"/>
                  <a:pt x="16797" y="4027"/>
                  <a:pt x="16828" y="4010"/>
                </a:cubicBezTo>
                <a:cubicBezTo>
                  <a:pt x="16893" y="3974"/>
                  <a:pt x="16983" y="3958"/>
                  <a:pt x="17056" y="3955"/>
                </a:cubicBezTo>
                <a:cubicBezTo>
                  <a:pt x="17110" y="3953"/>
                  <a:pt x="17154" y="3964"/>
                  <a:pt x="17204" y="3979"/>
                </a:cubicBezTo>
              </a:path>
              <a:path w="6315" h="1077">
                <a:moveTo>
                  <a:pt x="17148" y="4248"/>
                </a:moveTo>
                <a:cubicBezTo>
                  <a:pt x="17172" y="4266"/>
                  <a:pt x="17163" y="4270"/>
                  <a:pt x="17184" y="425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7359480" y="987480"/>
            <a:ext cx="1249560" cy="436680"/>
          </a:xfrm>
          <a:custGeom>
            <a:avLst/>
            <a:gdLst/>
            <a:ahLst/>
            <a:rect l="l" t="t" r="r" b="b"/>
            <a:pathLst>
              <a:path w="3472" h="1210">
                <a:moveTo>
                  <a:pt x="20529" y="3133"/>
                </a:moveTo>
                <a:cubicBezTo>
                  <a:pt x="20501" y="3106"/>
                  <a:pt x="20476" y="3083"/>
                  <a:pt x="20443" y="3067"/>
                </a:cubicBezTo>
                <a:cubicBezTo>
                  <a:pt x="20445" y="3085"/>
                  <a:pt x="20447" y="3104"/>
                  <a:pt x="20447" y="3122"/>
                </a:cubicBezTo>
                <a:cubicBezTo>
                  <a:pt x="20446" y="3171"/>
                  <a:pt x="20445" y="3220"/>
                  <a:pt x="20445" y="3270"/>
                </a:cubicBezTo>
                <a:cubicBezTo>
                  <a:pt x="20445" y="3351"/>
                  <a:pt x="20452" y="3431"/>
                  <a:pt x="20465" y="3511"/>
                </a:cubicBezTo>
                <a:cubicBezTo>
                  <a:pt x="20475" y="3574"/>
                  <a:pt x="20487" y="3635"/>
                  <a:pt x="20506" y="3696"/>
                </a:cubicBezTo>
                <a:cubicBezTo>
                  <a:pt x="20508" y="3703"/>
                  <a:pt x="20511" y="3709"/>
                  <a:pt x="20513" y="3716"/>
                </a:cubicBezTo>
                <a:cubicBezTo>
                  <a:pt x="20521" y="3667"/>
                  <a:pt x="20508" y="3615"/>
                  <a:pt x="20502" y="3564"/>
                </a:cubicBezTo>
                <a:cubicBezTo>
                  <a:pt x="20478" y="3368"/>
                  <a:pt x="20468" y="3168"/>
                  <a:pt x="20491" y="2971"/>
                </a:cubicBezTo>
                <a:cubicBezTo>
                  <a:pt x="20499" y="2904"/>
                  <a:pt x="20508" y="2808"/>
                  <a:pt x="20563" y="2759"/>
                </a:cubicBezTo>
                <a:cubicBezTo>
                  <a:pt x="20606" y="2721"/>
                  <a:pt x="20659" y="2760"/>
                  <a:pt x="20689" y="2792"/>
                </a:cubicBezTo>
                <a:cubicBezTo>
                  <a:pt x="20790" y="2899"/>
                  <a:pt x="20817" y="3074"/>
                  <a:pt x="20761" y="3209"/>
                </a:cubicBezTo>
                <a:cubicBezTo>
                  <a:pt x="20739" y="3262"/>
                  <a:pt x="20691" y="3322"/>
                  <a:pt x="20630" y="3332"/>
                </a:cubicBezTo>
                <a:cubicBezTo>
                  <a:pt x="20585" y="3339"/>
                  <a:pt x="20560" y="3314"/>
                  <a:pt x="20555" y="3273"/>
                </a:cubicBezTo>
                <a:cubicBezTo>
                  <a:pt x="20555" y="3262"/>
                  <a:pt x="20555" y="3250"/>
                  <a:pt x="20555" y="3239"/>
                </a:cubicBezTo>
              </a:path>
              <a:path w="3472" h="1210">
                <a:moveTo>
                  <a:pt x="20782" y="3390"/>
                </a:moveTo>
                <a:cubicBezTo>
                  <a:pt x="20806" y="3417"/>
                  <a:pt x="20805" y="3419"/>
                  <a:pt x="20835" y="3412"/>
                </a:cubicBezTo>
                <a:cubicBezTo>
                  <a:pt x="20876" y="3403"/>
                  <a:pt x="20906" y="3375"/>
                  <a:pt x="20938" y="3346"/>
                </a:cubicBezTo>
                <a:cubicBezTo>
                  <a:pt x="20972" y="3315"/>
                  <a:pt x="21006" y="3276"/>
                  <a:pt x="21026" y="3233"/>
                </a:cubicBezTo>
                <a:cubicBezTo>
                  <a:pt x="21033" y="3211"/>
                  <a:pt x="21036" y="3206"/>
                  <a:pt x="21032" y="3191"/>
                </a:cubicBezTo>
                <a:cubicBezTo>
                  <a:pt x="21004" y="3175"/>
                  <a:pt x="20983" y="3186"/>
                  <a:pt x="20956" y="3207"/>
                </a:cubicBezTo>
                <a:cubicBezTo>
                  <a:pt x="20909" y="3244"/>
                  <a:pt x="20872" y="3296"/>
                  <a:pt x="20849" y="3351"/>
                </a:cubicBezTo>
                <a:cubicBezTo>
                  <a:pt x="20823" y="3413"/>
                  <a:pt x="20814" y="3475"/>
                  <a:pt x="20827" y="3541"/>
                </a:cubicBezTo>
                <a:cubicBezTo>
                  <a:pt x="20837" y="3592"/>
                  <a:pt x="20860" y="3634"/>
                  <a:pt x="20908" y="3656"/>
                </a:cubicBezTo>
                <a:cubicBezTo>
                  <a:pt x="20941" y="3671"/>
                  <a:pt x="20957" y="3661"/>
                  <a:pt x="20987" y="3648"/>
                </a:cubicBezTo>
              </a:path>
              <a:path w="3472" h="1210">
                <a:moveTo>
                  <a:pt x="21092" y="3466"/>
                </a:moveTo>
                <a:cubicBezTo>
                  <a:pt x="21087" y="3491"/>
                  <a:pt x="21085" y="3518"/>
                  <a:pt x="21080" y="3542"/>
                </a:cubicBezTo>
                <a:cubicBezTo>
                  <a:pt x="21075" y="3564"/>
                  <a:pt x="21075" y="3582"/>
                  <a:pt x="21077" y="3605"/>
                </a:cubicBezTo>
                <a:cubicBezTo>
                  <a:pt x="21100" y="3593"/>
                  <a:pt x="21103" y="3555"/>
                  <a:pt x="21109" y="3528"/>
                </a:cubicBezTo>
                <a:cubicBezTo>
                  <a:pt x="21128" y="3448"/>
                  <a:pt x="21147" y="3365"/>
                  <a:pt x="21183" y="3290"/>
                </a:cubicBezTo>
                <a:cubicBezTo>
                  <a:pt x="21201" y="3251"/>
                  <a:pt x="21221" y="3215"/>
                  <a:pt x="21263" y="3207"/>
                </a:cubicBezTo>
                <a:cubicBezTo>
                  <a:pt x="21287" y="3202"/>
                  <a:pt x="21303" y="3224"/>
                  <a:pt x="21317" y="3239"/>
                </a:cubicBezTo>
                <a:cubicBezTo>
                  <a:pt x="21321" y="3243"/>
                  <a:pt x="21324" y="3247"/>
                  <a:pt x="21328" y="3251"/>
                </a:cubicBezTo>
              </a:path>
              <a:path w="3472" h="1210">
                <a:moveTo>
                  <a:pt x="21373" y="3282"/>
                </a:moveTo>
                <a:cubicBezTo>
                  <a:pt x="21386" y="3295"/>
                  <a:pt x="21386" y="3294"/>
                  <a:pt x="21392" y="3312"/>
                </a:cubicBezTo>
                <a:cubicBezTo>
                  <a:pt x="21398" y="3331"/>
                  <a:pt x="21400" y="3326"/>
                  <a:pt x="21402" y="3346"/>
                </a:cubicBezTo>
                <a:cubicBezTo>
                  <a:pt x="21405" y="3383"/>
                  <a:pt x="21410" y="3421"/>
                  <a:pt x="21413" y="3458"/>
                </a:cubicBezTo>
                <a:cubicBezTo>
                  <a:pt x="21418" y="3519"/>
                  <a:pt x="21422" y="3581"/>
                  <a:pt x="21429" y="3642"/>
                </a:cubicBezTo>
                <a:cubicBezTo>
                  <a:pt x="21445" y="3569"/>
                  <a:pt x="21445" y="3494"/>
                  <a:pt x="21458" y="3421"/>
                </a:cubicBezTo>
                <a:cubicBezTo>
                  <a:pt x="21468" y="3364"/>
                  <a:pt x="21480" y="3302"/>
                  <a:pt x="21502" y="3249"/>
                </a:cubicBezTo>
                <a:cubicBezTo>
                  <a:pt x="21513" y="3222"/>
                  <a:pt x="21519" y="3217"/>
                  <a:pt x="21544" y="3210"/>
                </a:cubicBezTo>
                <a:cubicBezTo>
                  <a:pt x="21571" y="3241"/>
                  <a:pt x="21577" y="3273"/>
                  <a:pt x="21584" y="3314"/>
                </a:cubicBezTo>
                <a:cubicBezTo>
                  <a:pt x="21599" y="3403"/>
                  <a:pt x="21595" y="3493"/>
                  <a:pt x="21585" y="3582"/>
                </a:cubicBezTo>
                <a:cubicBezTo>
                  <a:pt x="21583" y="3601"/>
                  <a:pt x="21583" y="3604"/>
                  <a:pt x="21580" y="3615"/>
                </a:cubicBezTo>
                <a:cubicBezTo>
                  <a:pt x="21582" y="3573"/>
                  <a:pt x="21589" y="3534"/>
                  <a:pt x="21596" y="3493"/>
                </a:cubicBezTo>
                <a:cubicBezTo>
                  <a:pt x="21606" y="3434"/>
                  <a:pt x="21619" y="3373"/>
                  <a:pt x="21644" y="3318"/>
                </a:cubicBezTo>
                <a:cubicBezTo>
                  <a:pt x="21658" y="3293"/>
                  <a:pt x="21661" y="3287"/>
                  <a:pt x="21675" y="3276"/>
                </a:cubicBezTo>
                <a:cubicBezTo>
                  <a:pt x="21716" y="3290"/>
                  <a:pt x="21719" y="3331"/>
                  <a:pt x="21729" y="3373"/>
                </a:cubicBezTo>
                <a:cubicBezTo>
                  <a:pt x="21747" y="3454"/>
                  <a:pt x="21752" y="3536"/>
                  <a:pt x="21766" y="3617"/>
                </a:cubicBezTo>
                <a:cubicBezTo>
                  <a:pt x="21775" y="3663"/>
                  <a:pt x="21777" y="3676"/>
                  <a:pt x="21788" y="3705"/>
                </a:cubicBezTo>
              </a:path>
              <a:path w="3472" h="1210">
                <a:moveTo>
                  <a:pt x="21962" y="3303"/>
                </a:moveTo>
                <a:cubicBezTo>
                  <a:pt x="21931" y="3292"/>
                  <a:pt x="21921" y="3315"/>
                  <a:pt x="21911" y="3353"/>
                </a:cubicBezTo>
                <a:cubicBezTo>
                  <a:pt x="21896" y="3409"/>
                  <a:pt x="21894" y="3475"/>
                  <a:pt x="21897" y="3533"/>
                </a:cubicBezTo>
                <a:cubicBezTo>
                  <a:pt x="21899" y="3566"/>
                  <a:pt x="21899" y="3630"/>
                  <a:pt x="21942" y="3637"/>
                </a:cubicBezTo>
                <a:cubicBezTo>
                  <a:pt x="21983" y="3644"/>
                  <a:pt x="22020" y="3596"/>
                  <a:pt x="22046" y="3572"/>
                </a:cubicBezTo>
                <a:cubicBezTo>
                  <a:pt x="22069" y="3550"/>
                  <a:pt x="22103" y="3500"/>
                  <a:pt x="22137" y="3495"/>
                </a:cubicBezTo>
                <a:cubicBezTo>
                  <a:pt x="22167" y="3491"/>
                  <a:pt x="22176" y="3565"/>
                  <a:pt x="22180" y="3581"/>
                </a:cubicBezTo>
                <a:cubicBezTo>
                  <a:pt x="22193" y="3627"/>
                  <a:pt x="22200" y="3685"/>
                  <a:pt x="22238" y="3719"/>
                </a:cubicBezTo>
                <a:cubicBezTo>
                  <a:pt x="22278" y="3755"/>
                  <a:pt x="22308" y="3687"/>
                  <a:pt x="22323" y="3663"/>
                </a:cubicBezTo>
              </a:path>
              <a:path w="3472" h="1210">
                <a:moveTo>
                  <a:pt x="22402" y="2916"/>
                </a:moveTo>
                <a:cubicBezTo>
                  <a:pt x="22401" y="2907"/>
                  <a:pt x="22399" y="2899"/>
                  <a:pt x="22398" y="2890"/>
                </a:cubicBezTo>
                <a:cubicBezTo>
                  <a:pt x="22369" y="2937"/>
                  <a:pt x="22374" y="3002"/>
                  <a:pt x="22375" y="3057"/>
                </a:cubicBezTo>
                <a:cubicBezTo>
                  <a:pt x="22377" y="3182"/>
                  <a:pt x="22388" y="3306"/>
                  <a:pt x="22399" y="3431"/>
                </a:cubicBezTo>
                <a:cubicBezTo>
                  <a:pt x="22405" y="3496"/>
                  <a:pt x="22432" y="3579"/>
                  <a:pt x="22423" y="3644"/>
                </a:cubicBezTo>
                <a:cubicBezTo>
                  <a:pt x="22419" y="3623"/>
                  <a:pt x="22417" y="3613"/>
                  <a:pt x="22413" y="3598"/>
                </a:cubicBezTo>
              </a:path>
              <a:path w="3472" h="1210">
                <a:moveTo>
                  <a:pt x="22287" y="3283"/>
                </a:moveTo>
                <a:cubicBezTo>
                  <a:pt x="22338" y="3292"/>
                  <a:pt x="22387" y="3304"/>
                  <a:pt x="22439" y="3311"/>
                </a:cubicBezTo>
                <a:cubicBezTo>
                  <a:pt x="22518" y="3321"/>
                  <a:pt x="22596" y="3320"/>
                  <a:pt x="22675" y="3324"/>
                </a:cubicBezTo>
                <a:cubicBezTo>
                  <a:pt x="22711" y="3326"/>
                  <a:pt x="22741" y="3329"/>
                  <a:pt x="22774" y="3339"/>
                </a:cubicBezTo>
                <a:cubicBezTo>
                  <a:pt x="22772" y="3370"/>
                  <a:pt x="22767" y="3372"/>
                  <a:pt x="22747" y="3399"/>
                </a:cubicBezTo>
                <a:cubicBezTo>
                  <a:pt x="22719" y="3436"/>
                  <a:pt x="22683" y="3460"/>
                  <a:pt x="22651" y="3492"/>
                </a:cubicBezTo>
                <a:cubicBezTo>
                  <a:pt x="22631" y="3512"/>
                  <a:pt x="22612" y="3528"/>
                  <a:pt x="22590" y="3545"/>
                </a:cubicBezTo>
                <a:cubicBezTo>
                  <a:pt x="22603" y="3522"/>
                  <a:pt x="22616" y="3502"/>
                  <a:pt x="22635" y="3482"/>
                </a:cubicBezTo>
                <a:cubicBezTo>
                  <a:pt x="22656" y="3460"/>
                  <a:pt x="22691" y="3427"/>
                  <a:pt x="22725" y="3440"/>
                </a:cubicBezTo>
                <a:cubicBezTo>
                  <a:pt x="22762" y="3454"/>
                  <a:pt x="22775" y="3520"/>
                  <a:pt x="22784" y="3552"/>
                </a:cubicBezTo>
                <a:cubicBezTo>
                  <a:pt x="22796" y="3594"/>
                  <a:pt x="22804" y="3630"/>
                  <a:pt x="22824" y="3669"/>
                </a:cubicBezTo>
                <a:cubicBezTo>
                  <a:pt x="22844" y="3650"/>
                  <a:pt x="22848" y="3650"/>
                  <a:pt x="22864" y="3619"/>
                </a:cubicBezTo>
              </a:path>
              <a:path w="3472" h="1210">
                <a:moveTo>
                  <a:pt x="22939" y="3000"/>
                </a:moveTo>
                <a:cubicBezTo>
                  <a:pt x="22917" y="2991"/>
                  <a:pt x="22926" y="3075"/>
                  <a:pt x="22926" y="3106"/>
                </a:cubicBezTo>
                <a:cubicBezTo>
                  <a:pt x="22925" y="3210"/>
                  <a:pt x="22933" y="3315"/>
                  <a:pt x="22944" y="3419"/>
                </a:cubicBezTo>
                <a:cubicBezTo>
                  <a:pt x="22952" y="3498"/>
                  <a:pt x="22957" y="3578"/>
                  <a:pt x="22973" y="3656"/>
                </a:cubicBezTo>
                <a:cubicBezTo>
                  <a:pt x="22975" y="3663"/>
                  <a:pt x="22976" y="3670"/>
                  <a:pt x="22978" y="3677"/>
                </a:cubicBezTo>
              </a:path>
              <a:path w="3472" h="1210">
                <a:moveTo>
                  <a:pt x="22853" y="3373"/>
                </a:moveTo>
                <a:cubicBezTo>
                  <a:pt x="22861" y="3335"/>
                  <a:pt x="22872" y="3341"/>
                  <a:pt x="22908" y="3332"/>
                </a:cubicBezTo>
                <a:cubicBezTo>
                  <a:pt x="22966" y="3318"/>
                  <a:pt x="23028" y="3312"/>
                  <a:pt x="23087" y="3318"/>
                </a:cubicBezTo>
                <a:cubicBezTo>
                  <a:pt x="23110" y="3320"/>
                  <a:pt x="23148" y="3329"/>
                  <a:pt x="23153" y="3358"/>
                </a:cubicBezTo>
                <a:cubicBezTo>
                  <a:pt x="23159" y="3391"/>
                  <a:pt x="23131" y="3438"/>
                  <a:pt x="23123" y="3469"/>
                </a:cubicBezTo>
                <a:cubicBezTo>
                  <a:pt x="23112" y="3509"/>
                  <a:pt x="23113" y="3549"/>
                  <a:pt x="23110" y="3590"/>
                </a:cubicBezTo>
                <a:cubicBezTo>
                  <a:pt x="23110" y="3592"/>
                  <a:pt x="23113" y="3683"/>
                  <a:pt x="23124" y="3671"/>
                </a:cubicBezTo>
                <a:cubicBezTo>
                  <a:pt x="23125" y="3664"/>
                  <a:pt x="23126" y="3657"/>
                  <a:pt x="23127" y="3650"/>
                </a:cubicBezTo>
              </a:path>
              <a:path w="3472" h="1210">
                <a:moveTo>
                  <a:pt x="23131" y="3377"/>
                </a:moveTo>
                <a:cubicBezTo>
                  <a:pt x="23128" y="3360"/>
                  <a:pt x="23109" y="3310"/>
                  <a:pt x="23113" y="3294"/>
                </a:cubicBezTo>
                <a:cubicBezTo>
                  <a:pt x="23117" y="3288"/>
                  <a:pt x="23122" y="3282"/>
                  <a:pt x="23126" y="3276"/>
                </a:cubicBezTo>
              </a:path>
              <a:path w="3472" h="1210">
                <a:moveTo>
                  <a:pt x="23291" y="3398"/>
                </a:moveTo>
                <a:cubicBezTo>
                  <a:pt x="23271" y="3437"/>
                  <a:pt x="23246" y="3476"/>
                  <a:pt x="23229" y="3516"/>
                </a:cubicBezTo>
                <a:cubicBezTo>
                  <a:pt x="23205" y="3571"/>
                  <a:pt x="23175" y="3628"/>
                  <a:pt x="23172" y="3689"/>
                </a:cubicBezTo>
                <a:cubicBezTo>
                  <a:pt x="23170" y="3730"/>
                  <a:pt x="23190" y="3767"/>
                  <a:pt x="23236" y="3760"/>
                </a:cubicBezTo>
                <a:cubicBezTo>
                  <a:pt x="23290" y="3751"/>
                  <a:pt x="23341" y="3710"/>
                  <a:pt x="23379" y="3674"/>
                </a:cubicBezTo>
                <a:cubicBezTo>
                  <a:pt x="23410" y="3644"/>
                  <a:pt x="23451" y="3597"/>
                  <a:pt x="23465" y="3555"/>
                </a:cubicBezTo>
                <a:cubicBezTo>
                  <a:pt x="23474" y="3528"/>
                  <a:pt x="23475" y="3505"/>
                  <a:pt x="23467" y="3479"/>
                </a:cubicBezTo>
                <a:cubicBezTo>
                  <a:pt x="23466" y="3476"/>
                  <a:pt x="23465" y="3472"/>
                  <a:pt x="23464" y="3469"/>
                </a:cubicBezTo>
              </a:path>
              <a:path w="3472" h="1210">
                <a:moveTo>
                  <a:pt x="23451" y="3570"/>
                </a:moveTo>
                <a:cubicBezTo>
                  <a:pt x="23450" y="3606"/>
                  <a:pt x="23448" y="3639"/>
                  <a:pt x="23458" y="3674"/>
                </a:cubicBezTo>
                <a:cubicBezTo>
                  <a:pt x="23460" y="3679"/>
                  <a:pt x="23462" y="3685"/>
                  <a:pt x="23464" y="3690"/>
                </a:cubicBezTo>
                <a:cubicBezTo>
                  <a:pt x="23498" y="3658"/>
                  <a:pt x="23520" y="3622"/>
                  <a:pt x="23548" y="3585"/>
                </a:cubicBezTo>
                <a:cubicBezTo>
                  <a:pt x="23567" y="3560"/>
                  <a:pt x="23601" y="3503"/>
                  <a:pt x="23636" y="3499"/>
                </a:cubicBezTo>
                <a:cubicBezTo>
                  <a:pt x="23672" y="3495"/>
                  <a:pt x="23678" y="3568"/>
                  <a:pt x="23681" y="3588"/>
                </a:cubicBezTo>
                <a:cubicBezTo>
                  <a:pt x="23689" y="3634"/>
                  <a:pt x="23696" y="3690"/>
                  <a:pt x="23719" y="3731"/>
                </a:cubicBezTo>
                <a:cubicBezTo>
                  <a:pt x="23734" y="3758"/>
                  <a:pt x="23747" y="3752"/>
                  <a:pt x="23772" y="3749"/>
                </a:cubicBezTo>
              </a:path>
              <a:path w="3472" h="1210">
                <a:moveTo>
                  <a:pt x="23914" y="3545"/>
                </a:moveTo>
                <a:cubicBezTo>
                  <a:pt x="23901" y="3514"/>
                  <a:pt x="23882" y="3528"/>
                  <a:pt x="23853" y="3533"/>
                </a:cubicBezTo>
                <a:cubicBezTo>
                  <a:pt x="23818" y="3539"/>
                  <a:pt x="23790" y="3548"/>
                  <a:pt x="23762" y="3570"/>
                </a:cubicBezTo>
                <a:cubicBezTo>
                  <a:pt x="23741" y="3586"/>
                  <a:pt x="23743" y="3595"/>
                  <a:pt x="23757" y="3616"/>
                </a:cubicBezTo>
                <a:cubicBezTo>
                  <a:pt x="23779" y="3650"/>
                  <a:pt x="23798" y="3681"/>
                  <a:pt x="23813" y="3719"/>
                </a:cubicBezTo>
                <a:cubicBezTo>
                  <a:pt x="23832" y="3768"/>
                  <a:pt x="23843" y="3818"/>
                  <a:pt x="23836" y="3871"/>
                </a:cubicBezTo>
                <a:cubicBezTo>
                  <a:pt x="23832" y="3904"/>
                  <a:pt x="23815" y="3944"/>
                  <a:pt x="23780" y="3953"/>
                </a:cubicBezTo>
                <a:cubicBezTo>
                  <a:pt x="23754" y="3960"/>
                  <a:pt x="23719" y="3948"/>
                  <a:pt x="23694" y="394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8110440" y="1820880"/>
            <a:ext cx="19080" cy="4680"/>
          </a:xfrm>
          <a:custGeom>
            <a:avLst/>
            <a:gdLst/>
            <a:ahLst/>
            <a:rect l="l" t="t" r="r" b="b"/>
            <a:pathLst>
              <a:path w="55" h="14">
                <a:moveTo>
                  <a:pt x="22528" y="5059"/>
                </a:moveTo>
                <a:cubicBezTo>
                  <a:pt x="22552" y="5070"/>
                  <a:pt x="22555" y="5074"/>
                  <a:pt x="22582" y="506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2894040" y="1619280"/>
            <a:ext cx="492120" cy="358920"/>
          </a:xfrm>
          <a:custGeom>
            <a:avLst/>
            <a:gdLst/>
            <a:ahLst/>
            <a:rect l="l" t="t" r="r" b="b"/>
            <a:pathLst>
              <a:path w="1367" h="996">
                <a:moveTo>
                  <a:pt x="8154" y="4499"/>
                </a:moveTo>
                <a:cubicBezTo>
                  <a:pt x="8193" y="4508"/>
                  <a:pt x="8228" y="4516"/>
                  <a:pt x="8268" y="4521"/>
                </a:cubicBezTo>
                <a:cubicBezTo>
                  <a:pt x="8376" y="4535"/>
                  <a:pt x="8484" y="4538"/>
                  <a:pt x="8593" y="4538"/>
                </a:cubicBezTo>
                <a:cubicBezTo>
                  <a:pt x="8739" y="4538"/>
                  <a:pt x="8886" y="4530"/>
                  <a:pt x="9031" y="4514"/>
                </a:cubicBezTo>
                <a:cubicBezTo>
                  <a:pt x="9063" y="4510"/>
                  <a:pt x="9094" y="4508"/>
                  <a:pt x="9126" y="4501"/>
                </a:cubicBezTo>
              </a:path>
              <a:path w="1367" h="996">
                <a:moveTo>
                  <a:pt x="8124" y="4754"/>
                </a:moveTo>
                <a:cubicBezTo>
                  <a:pt x="8108" y="4792"/>
                  <a:pt x="8108" y="4826"/>
                  <a:pt x="8109" y="4867"/>
                </a:cubicBezTo>
                <a:cubicBezTo>
                  <a:pt x="8111" y="4932"/>
                  <a:pt x="8112" y="4998"/>
                  <a:pt x="8112" y="5063"/>
                </a:cubicBezTo>
                <a:cubicBezTo>
                  <a:pt x="8112" y="5106"/>
                  <a:pt x="8111" y="5144"/>
                  <a:pt x="8095" y="5183"/>
                </a:cubicBezTo>
                <a:cubicBezTo>
                  <a:pt x="8068" y="5180"/>
                  <a:pt x="8058" y="5169"/>
                  <a:pt x="8048" y="5141"/>
                </a:cubicBezTo>
                <a:cubicBezTo>
                  <a:pt x="8039" y="5116"/>
                  <a:pt x="8037" y="5087"/>
                  <a:pt x="8037" y="5060"/>
                </a:cubicBezTo>
                <a:cubicBezTo>
                  <a:pt x="8037" y="5046"/>
                  <a:pt x="8040" y="5033"/>
                  <a:pt x="8042" y="5019"/>
                </a:cubicBezTo>
                <a:cubicBezTo>
                  <a:pt x="8045" y="4980"/>
                  <a:pt x="8042" y="5058"/>
                  <a:pt x="8043" y="5064"/>
                </a:cubicBezTo>
                <a:cubicBezTo>
                  <a:pt x="8048" y="5119"/>
                  <a:pt x="8066" y="5172"/>
                  <a:pt x="8081" y="5224"/>
                </a:cubicBezTo>
                <a:cubicBezTo>
                  <a:pt x="8102" y="5298"/>
                  <a:pt x="8125" y="5371"/>
                  <a:pt x="8152" y="5443"/>
                </a:cubicBezTo>
                <a:cubicBezTo>
                  <a:pt x="8158" y="5459"/>
                  <a:pt x="8165" y="5506"/>
                  <a:pt x="8189" y="5486"/>
                </a:cubicBezTo>
                <a:cubicBezTo>
                  <a:pt x="8200" y="5471"/>
                  <a:pt x="8204" y="5465"/>
                  <a:pt x="8206" y="5452"/>
                </a:cubicBezTo>
              </a:path>
              <a:path w="1367" h="996">
                <a:moveTo>
                  <a:pt x="8180" y="4754"/>
                </a:moveTo>
                <a:cubicBezTo>
                  <a:pt x="8164" y="4729"/>
                  <a:pt x="8176" y="4739"/>
                  <a:pt x="8153" y="4720"/>
                </a:cubicBezTo>
                <a:cubicBezTo>
                  <a:pt x="8139" y="4754"/>
                  <a:pt x="8129" y="4787"/>
                  <a:pt x="8124" y="4825"/>
                </a:cubicBezTo>
                <a:cubicBezTo>
                  <a:pt x="8112" y="4909"/>
                  <a:pt x="8105" y="4996"/>
                  <a:pt x="8102" y="5080"/>
                </a:cubicBezTo>
                <a:cubicBezTo>
                  <a:pt x="8099" y="5167"/>
                  <a:pt x="8104" y="5252"/>
                  <a:pt x="8120" y="5337"/>
                </a:cubicBezTo>
                <a:cubicBezTo>
                  <a:pt x="8127" y="5373"/>
                  <a:pt x="8135" y="5427"/>
                  <a:pt x="8178" y="5438"/>
                </a:cubicBezTo>
                <a:cubicBezTo>
                  <a:pt x="8185" y="5438"/>
                  <a:pt x="8193" y="5438"/>
                  <a:pt x="8200" y="5438"/>
                </a:cubicBezTo>
              </a:path>
              <a:path w="1367" h="996">
                <a:moveTo>
                  <a:pt x="8306" y="5009"/>
                </a:moveTo>
                <a:cubicBezTo>
                  <a:pt x="8303" y="5045"/>
                  <a:pt x="8305" y="5077"/>
                  <a:pt x="8307" y="5113"/>
                </a:cubicBezTo>
                <a:cubicBezTo>
                  <a:pt x="8310" y="5163"/>
                  <a:pt x="8314" y="5213"/>
                  <a:pt x="8323" y="5262"/>
                </a:cubicBezTo>
                <a:cubicBezTo>
                  <a:pt x="8327" y="5280"/>
                  <a:pt x="8328" y="5284"/>
                  <a:pt x="8333" y="5294"/>
                </a:cubicBezTo>
                <a:cubicBezTo>
                  <a:pt x="8355" y="5263"/>
                  <a:pt x="8361" y="5226"/>
                  <a:pt x="8373" y="5189"/>
                </a:cubicBezTo>
                <a:cubicBezTo>
                  <a:pt x="8387" y="5148"/>
                  <a:pt x="8400" y="5093"/>
                  <a:pt x="8429" y="5059"/>
                </a:cubicBezTo>
                <a:cubicBezTo>
                  <a:pt x="8443" y="5049"/>
                  <a:pt x="8446" y="5045"/>
                  <a:pt x="8458" y="5050"/>
                </a:cubicBezTo>
                <a:cubicBezTo>
                  <a:pt x="8484" y="5086"/>
                  <a:pt x="8493" y="5129"/>
                  <a:pt x="8500" y="5174"/>
                </a:cubicBezTo>
                <a:cubicBezTo>
                  <a:pt x="8508" y="5224"/>
                  <a:pt x="8514" y="5266"/>
                  <a:pt x="8535" y="5313"/>
                </a:cubicBezTo>
              </a:path>
              <a:path w="1367" h="996">
                <a:moveTo>
                  <a:pt x="8642" y="5155"/>
                </a:moveTo>
                <a:cubicBezTo>
                  <a:pt x="8668" y="5160"/>
                  <a:pt x="8697" y="5156"/>
                  <a:pt x="8724" y="5152"/>
                </a:cubicBezTo>
                <a:cubicBezTo>
                  <a:pt x="8764" y="5146"/>
                  <a:pt x="8804" y="5131"/>
                  <a:pt x="8843" y="5120"/>
                </a:cubicBezTo>
              </a:path>
              <a:path w="1367" h="996">
                <a:moveTo>
                  <a:pt x="8983" y="5003"/>
                </a:moveTo>
                <a:cubicBezTo>
                  <a:pt x="8990" y="5027"/>
                  <a:pt x="8998" y="5053"/>
                  <a:pt x="9002" y="5077"/>
                </a:cubicBezTo>
                <a:cubicBezTo>
                  <a:pt x="9010" y="5120"/>
                  <a:pt x="9017" y="5164"/>
                  <a:pt x="9023" y="5208"/>
                </a:cubicBezTo>
                <a:cubicBezTo>
                  <a:pt x="9026" y="5229"/>
                  <a:pt x="9028" y="5249"/>
                  <a:pt x="9029" y="5270"/>
                </a:cubicBezTo>
                <a:cubicBezTo>
                  <a:pt x="9018" y="5238"/>
                  <a:pt x="9017" y="5205"/>
                  <a:pt x="9017" y="5171"/>
                </a:cubicBezTo>
                <a:cubicBezTo>
                  <a:pt x="9017" y="5125"/>
                  <a:pt x="9019" y="5074"/>
                  <a:pt x="9037" y="5031"/>
                </a:cubicBezTo>
                <a:cubicBezTo>
                  <a:pt x="9051" y="4997"/>
                  <a:pt x="9075" y="4973"/>
                  <a:pt x="9112" y="4975"/>
                </a:cubicBezTo>
                <a:cubicBezTo>
                  <a:pt x="9135" y="4976"/>
                  <a:pt x="9159" y="4986"/>
                  <a:pt x="9181" y="4994"/>
                </a:cubicBezTo>
              </a:path>
              <a:path w="1367" h="996">
                <a:moveTo>
                  <a:pt x="9307" y="4809"/>
                </a:moveTo>
                <a:cubicBezTo>
                  <a:pt x="9306" y="4796"/>
                  <a:pt x="9305" y="4783"/>
                  <a:pt x="9304" y="4770"/>
                </a:cubicBezTo>
                <a:cubicBezTo>
                  <a:pt x="9324" y="4810"/>
                  <a:pt x="9336" y="4850"/>
                  <a:pt x="9348" y="4893"/>
                </a:cubicBezTo>
                <a:cubicBezTo>
                  <a:pt x="9381" y="5016"/>
                  <a:pt x="9397" y="5133"/>
                  <a:pt x="9400" y="5259"/>
                </a:cubicBezTo>
                <a:cubicBezTo>
                  <a:pt x="9401" y="5294"/>
                  <a:pt x="9409" y="5324"/>
                  <a:pt x="9382" y="534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3484440" y="1719360"/>
            <a:ext cx="27000" cy="204840"/>
          </a:xfrm>
          <a:custGeom>
            <a:avLst/>
            <a:gdLst/>
            <a:ahLst/>
            <a:rect l="l" t="t" r="r" b="b"/>
            <a:pathLst>
              <a:path w="75" h="568">
                <a:moveTo>
                  <a:pt x="9730" y="4776"/>
                </a:moveTo>
                <a:cubicBezTo>
                  <a:pt x="9733" y="4814"/>
                  <a:pt x="9733" y="4851"/>
                  <a:pt x="9735" y="4888"/>
                </a:cubicBezTo>
                <a:cubicBezTo>
                  <a:pt x="9737" y="4936"/>
                  <a:pt x="9742" y="4983"/>
                  <a:pt x="9746" y="5031"/>
                </a:cubicBezTo>
                <a:cubicBezTo>
                  <a:pt x="9748" y="5059"/>
                  <a:pt x="9748" y="5068"/>
                  <a:pt x="9752" y="5086"/>
                </a:cubicBezTo>
              </a:path>
              <a:path w="75" h="568">
                <a:moveTo>
                  <a:pt x="9678" y="5343"/>
                </a:moveTo>
                <a:cubicBezTo>
                  <a:pt x="9683" y="5318"/>
                  <a:pt x="9684" y="5296"/>
                  <a:pt x="9691" y="5272"/>
                </a:cubicBezTo>
                <a:cubicBezTo>
                  <a:pt x="9693" y="5262"/>
                  <a:pt x="9694" y="5258"/>
                  <a:pt x="9695" y="525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4083120" y="1690560"/>
            <a:ext cx="93600" cy="119160"/>
          </a:xfrm>
          <a:custGeom>
            <a:avLst/>
            <a:gdLst/>
            <a:ahLst/>
            <a:rect l="l" t="t" r="r" b="b"/>
            <a:pathLst>
              <a:path w="260" h="333">
                <a:moveTo>
                  <a:pt x="11344" y="4765"/>
                </a:moveTo>
                <a:cubicBezTo>
                  <a:pt x="11345" y="4753"/>
                  <a:pt x="11345" y="4749"/>
                  <a:pt x="11346" y="4741"/>
                </a:cubicBezTo>
                <a:cubicBezTo>
                  <a:pt x="11348" y="4769"/>
                  <a:pt x="11347" y="4797"/>
                  <a:pt x="11348" y="4826"/>
                </a:cubicBezTo>
                <a:cubicBezTo>
                  <a:pt x="11350" y="4869"/>
                  <a:pt x="11350" y="4912"/>
                  <a:pt x="11354" y="4955"/>
                </a:cubicBezTo>
                <a:cubicBezTo>
                  <a:pt x="11356" y="4976"/>
                  <a:pt x="11357" y="4980"/>
                  <a:pt x="11358" y="4992"/>
                </a:cubicBezTo>
                <a:cubicBezTo>
                  <a:pt x="11358" y="4958"/>
                  <a:pt x="11358" y="4923"/>
                  <a:pt x="11365" y="4889"/>
                </a:cubicBezTo>
                <a:cubicBezTo>
                  <a:pt x="11376" y="4831"/>
                  <a:pt x="11400" y="4759"/>
                  <a:pt x="11444" y="4717"/>
                </a:cubicBezTo>
                <a:cubicBezTo>
                  <a:pt x="11471" y="4691"/>
                  <a:pt x="11506" y="4687"/>
                  <a:pt x="11529" y="4719"/>
                </a:cubicBezTo>
                <a:cubicBezTo>
                  <a:pt x="11561" y="4764"/>
                  <a:pt x="11569" y="4830"/>
                  <a:pt x="11582" y="4882"/>
                </a:cubicBezTo>
                <a:cubicBezTo>
                  <a:pt x="11594" y="4927"/>
                  <a:pt x="11597" y="4971"/>
                  <a:pt x="11602" y="5017"/>
                </a:cubicBezTo>
                <a:cubicBezTo>
                  <a:pt x="11602" y="5020"/>
                  <a:pt x="11603" y="5024"/>
                  <a:pt x="11603" y="502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4408560" y="1714680"/>
            <a:ext cx="220680" cy="106200"/>
          </a:xfrm>
          <a:custGeom>
            <a:avLst/>
            <a:gdLst/>
            <a:ahLst/>
            <a:rect l="l" t="t" r="r" b="b"/>
            <a:pathLst>
              <a:path w="614" h="294">
                <a:moveTo>
                  <a:pt x="12244" y="4888"/>
                </a:moveTo>
                <a:cubicBezTo>
                  <a:pt x="12257" y="4881"/>
                  <a:pt x="12284" y="4864"/>
                  <a:pt x="12300" y="4876"/>
                </a:cubicBezTo>
                <a:cubicBezTo>
                  <a:pt x="12317" y="4889"/>
                  <a:pt x="12313" y="4919"/>
                  <a:pt x="12313" y="4937"/>
                </a:cubicBezTo>
                <a:cubicBezTo>
                  <a:pt x="12314" y="4962"/>
                  <a:pt x="12313" y="4988"/>
                  <a:pt x="12312" y="5013"/>
                </a:cubicBezTo>
                <a:cubicBezTo>
                  <a:pt x="12312" y="5016"/>
                  <a:pt x="12312" y="5020"/>
                  <a:pt x="12312" y="5023"/>
                </a:cubicBezTo>
                <a:cubicBezTo>
                  <a:pt x="12313" y="4980"/>
                  <a:pt x="12319" y="4936"/>
                  <a:pt x="12329" y="4894"/>
                </a:cubicBezTo>
                <a:cubicBezTo>
                  <a:pt x="12335" y="4868"/>
                  <a:pt x="12343" y="4823"/>
                  <a:pt x="12366" y="4805"/>
                </a:cubicBezTo>
                <a:cubicBezTo>
                  <a:pt x="12370" y="4804"/>
                  <a:pt x="12373" y="4803"/>
                  <a:pt x="12377" y="4802"/>
                </a:cubicBezTo>
                <a:cubicBezTo>
                  <a:pt x="12400" y="4825"/>
                  <a:pt x="12405" y="4852"/>
                  <a:pt x="12412" y="4884"/>
                </a:cubicBezTo>
                <a:cubicBezTo>
                  <a:pt x="12424" y="4936"/>
                  <a:pt x="12422" y="4994"/>
                  <a:pt x="12436" y="5045"/>
                </a:cubicBezTo>
                <a:cubicBezTo>
                  <a:pt x="12443" y="5056"/>
                  <a:pt x="12446" y="5059"/>
                  <a:pt x="12457" y="5048"/>
                </a:cubicBezTo>
              </a:path>
              <a:path w="614" h="294">
                <a:moveTo>
                  <a:pt x="12557" y="4952"/>
                </a:moveTo>
                <a:cubicBezTo>
                  <a:pt x="12563" y="4964"/>
                  <a:pt x="12585" y="4965"/>
                  <a:pt x="12605" y="4959"/>
                </a:cubicBezTo>
                <a:cubicBezTo>
                  <a:pt x="12642" y="4948"/>
                  <a:pt x="12681" y="4930"/>
                  <a:pt x="12716" y="4914"/>
                </a:cubicBezTo>
                <a:cubicBezTo>
                  <a:pt x="12727" y="4909"/>
                  <a:pt x="12737" y="4903"/>
                  <a:pt x="12748" y="4898"/>
                </a:cubicBezTo>
              </a:path>
              <a:path w="614" h="294">
                <a:moveTo>
                  <a:pt x="12826" y="4762"/>
                </a:moveTo>
                <a:cubicBezTo>
                  <a:pt x="12813" y="4806"/>
                  <a:pt x="12809" y="4851"/>
                  <a:pt x="12813" y="4897"/>
                </a:cubicBezTo>
                <a:cubicBezTo>
                  <a:pt x="12817" y="4943"/>
                  <a:pt x="12823" y="4996"/>
                  <a:pt x="12845" y="5037"/>
                </a:cubicBezTo>
                <a:cubicBezTo>
                  <a:pt x="12849" y="5043"/>
                  <a:pt x="12853" y="5048"/>
                  <a:pt x="12857" y="505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4824360" y="1717560"/>
            <a:ext cx="223920" cy="127080"/>
          </a:xfrm>
          <a:custGeom>
            <a:avLst/>
            <a:gdLst/>
            <a:ahLst/>
            <a:rect l="l" t="t" r="r" b="b"/>
            <a:pathLst>
              <a:path w="622" h="351">
                <a:moveTo>
                  <a:pt x="13448" y="4797"/>
                </a:moveTo>
                <a:cubicBezTo>
                  <a:pt x="13446" y="4781"/>
                  <a:pt x="13448" y="4776"/>
                  <a:pt x="13437" y="4771"/>
                </a:cubicBezTo>
                <a:cubicBezTo>
                  <a:pt x="13432" y="4796"/>
                  <a:pt x="13427" y="4821"/>
                  <a:pt x="13424" y="4847"/>
                </a:cubicBezTo>
                <a:cubicBezTo>
                  <a:pt x="13419" y="4893"/>
                  <a:pt x="13412" y="4940"/>
                  <a:pt x="13406" y="4986"/>
                </a:cubicBezTo>
                <a:cubicBezTo>
                  <a:pt x="13403" y="5010"/>
                  <a:pt x="13403" y="5016"/>
                  <a:pt x="13400" y="5031"/>
                </a:cubicBezTo>
                <a:cubicBezTo>
                  <a:pt x="13412" y="4998"/>
                  <a:pt x="13424" y="4964"/>
                  <a:pt x="13440" y="4933"/>
                </a:cubicBezTo>
                <a:cubicBezTo>
                  <a:pt x="13451" y="4912"/>
                  <a:pt x="13463" y="4898"/>
                  <a:pt x="13479" y="4882"/>
                </a:cubicBezTo>
                <a:cubicBezTo>
                  <a:pt x="13508" y="4883"/>
                  <a:pt x="13509" y="4905"/>
                  <a:pt x="13515" y="4934"/>
                </a:cubicBezTo>
                <a:cubicBezTo>
                  <a:pt x="13524" y="4980"/>
                  <a:pt x="13524" y="5028"/>
                  <a:pt x="13535" y="5073"/>
                </a:cubicBezTo>
                <a:cubicBezTo>
                  <a:pt x="13541" y="5097"/>
                  <a:pt x="13547" y="5107"/>
                  <a:pt x="13563" y="5121"/>
                </a:cubicBezTo>
              </a:path>
              <a:path w="622" h="351">
                <a:moveTo>
                  <a:pt x="13661" y="4935"/>
                </a:moveTo>
                <a:cubicBezTo>
                  <a:pt x="13676" y="4921"/>
                  <a:pt x="13691" y="4918"/>
                  <a:pt x="13711" y="4909"/>
                </a:cubicBezTo>
                <a:cubicBezTo>
                  <a:pt x="13739" y="4896"/>
                  <a:pt x="13773" y="4892"/>
                  <a:pt x="13803" y="4884"/>
                </a:cubicBezTo>
              </a:path>
              <a:path w="622" h="351">
                <a:moveTo>
                  <a:pt x="13857" y="4846"/>
                </a:moveTo>
                <a:cubicBezTo>
                  <a:pt x="13873" y="4832"/>
                  <a:pt x="13890" y="4828"/>
                  <a:pt x="13912" y="4835"/>
                </a:cubicBezTo>
                <a:cubicBezTo>
                  <a:pt x="13953" y="4849"/>
                  <a:pt x="13981" y="4887"/>
                  <a:pt x="13983" y="4930"/>
                </a:cubicBezTo>
                <a:cubicBezTo>
                  <a:pt x="13985" y="4968"/>
                  <a:pt x="13968" y="5004"/>
                  <a:pt x="13948" y="5036"/>
                </a:cubicBezTo>
                <a:cubicBezTo>
                  <a:pt x="13938" y="5051"/>
                  <a:pt x="13930" y="5061"/>
                  <a:pt x="13924" y="5078"/>
                </a:cubicBezTo>
                <a:cubicBezTo>
                  <a:pt x="13946" y="5082"/>
                  <a:pt x="13970" y="5078"/>
                  <a:pt x="13992" y="5070"/>
                </a:cubicBezTo>
                <a:cubicBezTo>
                  <a:pt x="14002" y="5066"/>
                  <a:pt x="14011" y="5062"/>
                  <a:pt x="14021" y="505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5467320" y="1741320"/>
            <a:ext cx="295200" cy="86040"/>
          </a:xfrm>
          <a:custGeom>
            <a:avLst/>
            <a:gdLst/>
            <a:ahLst/>
            <a:rect l="l" t="t" r="r" b="b"/>
            <a:pathLst>
              <a:path w="820" h="237">
                <a:moveTo>
                  <a:pt x="15188" y="4866"/>
                </a:moveTo>
                <a:cubicBezTo>
                  <a:pt x="15194" y="4838"/>
                  <a:pt x="15189" y="4891"/>
                  <a:pt x="15189" y="4899"/>
                </a:cubicBezTo>
                <a:cubicBezTo>
                  <a:pt x="15190" y="4929"/>
                  <a:pt x="15189" y="4960"/>
                  <a:pt x="15192" y="4989"/>
                </a:cubicBezTo>
                <a:cubicBezTo>
                  <a:pt x="15194" y="5011"/>
                  <a:pt x="15197" y="5033"/>
                  <a:pt x="15200" y="5055"/>
                </a:cubicBezTo>
                <a:cubicBezTo>
                  <a:pt x="15211" y="5032"/>
                  <a:pt x="15215" y="5006"/>
                  <a:pt x="15223" y="4981"/>
                </a:cubicBezTo>
                <a:cubicBezTo>
                  <a:pt x="15235" y="4944"/>
                  <a:pt x="15248" y="4908"/>
                  <a:pt x="15267" y="4874"/>
                </a:cubicBezTo>
                <a:cubicBezTo>
                  <a:pt x="15277" y="4856"/>
                  <a:pt x="15283" y="4848"/>
                  <a:pt x="15299" y="4838"/>
                </a:cubicBezTo>
                <a:cubicBezTo>
                  <a:pt x="15320" y="4865"/>
                  <a:pt x="15322" y="4887"/>
                  <a:pt x="15326" y="4922"/>
                </a:cubicBezTo>
                <a:cubicBezTo>
                  <a:pt x="15331" y="4960"/>
                  <a:pt x="15329" y="4998"/>
                  <a:pt x="15333" y="5036"/>
                </a:cubicBezTo>
                <a:cubicBezTo>
                  <a:pt x="15336" y="5058"/>
                  <a:pt x="15337" y="5062"/>
                  <a:pt x="15351" y="5074"/>
                </a:cubicBezTo>
              </a:path>
              <a:path w="820" h="237">
                <a:moveTo>
                  <a:pt x="15499" y="4966"/>
                </a:moveTo>
                <a:cubicBezTo>
                  <a:pt x="15527" y="4956"/>
                  <a:pt x="15552" y="4942"/>
                  <a:pt x="15581" y="4934"/>
                </a:cubicBezTo>
                <a:cubicBezTo>
                  <a:pt x="15610" y="4926"/>
                  <a:pt x="15640" y="4919"/>
                  <a:pt x="15669" y="4911"/>
                </a:cubicBezTo>
              </a:path>
              <a:path w="820" h="237">
                <a:moveTo>
                  <a:pt x="15764" y="4886"/>
                </a:moveTo>
                <a:cubicBezTo>
                  <a:pt x="15764" y="4914"/>
                  <a:pt x="15767" y="4943"/>
                  <a:pt x="15767" y="4971"/>
                </a:cubicBezTo>
                <a:cubicBezTo>
                  <a:pt x="15767" y="4989"/>
                  <a:pt x="15768" y="5006"/>
                  <a:pt x="15768" y="5024"/>
                </a:cubicBezTo>
                <a:cubicBezTo>
                  <a:pt x="15784" y="4997"/>
                  <a:pt x="15786" y="4969"/>
                  <a:pt x="15798" y="4940"/>
                </a:cubicBezTo>
                <a:cubicBezTo>
                  <a:pt x="15810" y="4910"/>
                  <a:pt x="15831" y="4877"/>
                  <a:pt x="15863" y="4865"/>
                </a:cubicBezTo>
                <a:cubicBezTo>
                  <a:pt x="15897" y="4852"/>
                  <a:pt x="15922" y="4858"/>
                  <a:pt x="15955" y="4868"/>
                </a:cubicBezTo>
                <a:cubicBezTo>
                  <a:pt x="15980" y="4875"/>
                  <a:pt x="15990" y="4878"/>
                  <a:pt x="16007" y="488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9240" bIns="39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6157800" y="1708200"/>
            <a:ext cx="633600" cy="223920"/>
          </a:xfrm>
          <a:custGeom>
            <a:avLst/>
            <a:gdLst/>
            <a:ahLst/>
            <a:rect l="l" t="t" r="r" b="b"/>
            <a:pathLst>
              <a:path w="1757" h="623">
                <a:moveTo>
                  <a:pt x="17165" y="4868"/>
                </a:moveTo>
                <a:cubicBezTo>
                  <a:pt x="17165" y="4904"/>
                  <a:pt x="17168" y="4939"/>
                  <a:pt x="17171" y="4975"/>
                </a:cubicBezTo>
                <a:cubicBezTo>
                  <a:pt x="17175" y="5038"/>
                  <a:pt x="17186" y="5100"/>
                  <a:pt x="17194" y="5163"/>
                </a:cubicBezTo>
                <a:cubicBezTo>
                  <a:pt x="17199" y="5201"/>
                  <a:pt x="17204" y="5238"/>
                  <a:pt x="17204" y="5277"/>
                </a:cubicBezTo>
                <a:cubicBezTo>
                  <a:pt x="17186" y="5264"/>
                  <a:pt x="17178" y="5259"/>
                  <a:pt x="17170" y="5225"/>
                </a:cubicBezTo>
                <a:cubicBezTo>
                  <a:pt x="17157" y="5172"/>
                  <a:pt x="17155" y="5114"/>
                  <a:pt x="17158" y="5060"/>
                </a:cubicBezTo>
                <a:cubicBezTo>
                  <a:pt x="17161" y="4996"/>
                  <a:pt x="17170" y="4935"/>
                  <a:pt x="17185" y="4873"/>
                </a:cubicBezTo>
                <a:cubicBezTo>
                  <a:pt x="17194" y="4835"/>
                  <a:pt x="17203" y="4795"/>
                  <a:pt x="17229" y="4764"/>
                </a:cubicBezTo>
                <a:cubicBezTo>
                  <a:pt x="17252" y="4736"/>
                  <a:pt x="17280" y="4747"/>
                  <a:pt x="17304" y="4766"/>
                </a:cubicBezTo>
                <a:cubicBezTo>
                  <a:pt x="17337" y="4792"/>
                  <a:pt x="17360" y="4829"/>
                  <a:pt x="17370" y="4870"/>
                </a:cubicBezTo>
                <a:cubicBezTo>
                  <a:pt x="17382" y="4917"/>
                  <a:pt x="17374" y="4974"/>
                  <a:pt x="17346" y="5014"/>
                </a:cubicBezTo>
                <a:cubicBezTo>
                  <a:pt x="17318" y="5056"/>
                  <a:pt x="17266" y="5082"/>
                  <a:pt x="17219" y="5097"/>
                </a:cubicBezTo>
                <a:cubicBezTo>
                  <a:pt x="17186" y="5107"/>
                  <a:pt x="17141" y="5117"/>
                  <a:pt x="17114" y="5090"/>
                </a:cubicBezTo>
                <a:cubicBezTo>
                  <a:pt x="17090" y="5067"/>
                  <a:pt x="17125" y="5032"/>
                  <a:pt x="17138" y="5016"/>
                </a:cubicBezTo>
              </a:path>
              <a:path w="1757" h="623">
                <a:moveTo>
                  <a:pt x="17649" y="4765"/>
                </a:moveTo>
                <a:cubicBezTo>
                  <a:pt x="17649" y="4760"/>
                  <a:pt x="17649" y="4755"/>
                  <a:pt x="17649" y="4750"/>
                </a:cubicBezTo>
                <a:cubicBezTo>
                  <a:pt x="17623" y="4744"/>
                  <a:pt x="17603" y="4791"/>
                  <a:pt x="17592" y="4816"/>
                </a:cubicBezTo>
                <a:cubicBezTo>
                  <a:pt x="17560" y="4891"/>
                  <a:pt x="17542" y="4977"/>
                  <a:pt x="17529" y="5057"/>
                </a:cubicBezTo>
                <a:cubicBezTo>
                  <a:pt x="17518" y="5122"/>
                  <a:pt x="17509" y="5199"/>
                  <a:pt x="17536" y="5261"/>
                </a:cubicBezTo>
                <a:cubicBezTo>
                  <a:pt x="17550" y="5294"/>
                  <a:pt x="17566" y="5290"/>
                  <a:pt x="17596" y="5291"/>
                </a:cubicBezTo>
              </a:path>
              <a:path w="1757" h="623">
                <a:moveTo>
                  <a:pt x="17755" y="5043"/>
                </a:moveTo>
                <a:cubicBezTo>
                  <a:pt x="17745" y="5072"/>
                  <a:pt x="17741" y="5103"/>
                  <a:pt x="17741" y="5133"/>
                </a:cubicBezTo>
                <a:cubicBezTo>
                  <a:pt x="17741" y="5163"/>
                  <a:pt x="17741" y="5194"/>
                  <a:pt x="17742" y="5224"/>
                </a:cubicBezTo>
                <a:cubicBezTo>
                  <a:pt x="17764" y="5207"/>
                  <a:pt x="17774" y="5174"/>
                  <a:pt x="17788" y="5147"/>
                </a:cubicBezTo>
                <a:cubicBezTo>
                  <a:pt x="17808" y="5107"/>
                  <a:pt x="17827" y="5066"/>
                  <a:pt x="17857" y="5032"/>
                </a:cubicBezTo>
                <a:cubicBezTo>
                  <a:pt x="17877" y="5010"/>
                  <a:pt x="17898" y="5005"/>
                  <a:pt x="17917" y="5030"/>
                </a:cubicBezTo>
                <a:cubicBezTo>
                  <a:pt x="17941" y="5062"/>
                  <a:pt x="17939" y="5099"/>
                  <a:pt x="17946" y="5136"/>
                </a:cubicBezTo>
                <a:cubicBezTo>
                  <a:pt x="17950" y="5160"/>
                  <a:pt x="17957" y="5179"/>
                  <a:pt x="17967" y="5201"/>
                </a:cubicBezTo>
              </a:path>
              <a:path w="1757" h="623">
                <a:moveTo>
                  <a:pt x="18177" y="5172"/>
                </a:moveTo>
                <a:cubicBezTo>
                  <a:pt x="18172" y="5192"/>
                  <a:pt x="18167" y="5220"/>
                  <a:pt x="18158" y="5238"/>
                </a:cubicBezTo>
                <a:cubicBezTo>
                  <a:pt x="18143" y="5270"/>
                  <a:pt x="18129" y="5302"/>
                  <a:pt x="18114" y="5333"/>
                </a:cubicBezTo>
                <a:cubicBezTo>
                  <a:pt x="18107" y="5351"/>
                  <a:pt x="18105" y="5356"/>
                  <a:pt x="18098" y="5366"/>
                </a:cubicBezTo>
              </a:path>
              <a:path w="1757" h="623">
                <a:moveTo>
                  <a:pt x="18356" y="5012"/>
                </a:moveTo>
                <a:cubicBezTo>
                  <a:pt x="18375" y="5035"/>
                  <a:pt x="18372" y="5062"/>
                  <a:pt x="18375" y="5092"/>
                </a:cubicBezTo>
                <a:cubicBezTo>
                  <a:pt x="18379" y="5135"/>
                  <a:pt x="18384" y="5180"/>
                  <a:pt x="18381" y="5223"/>
                </a:cubicBezTo>
                <a:cubicBezTo>
                  <a:pt x="18379" y="5239"/>
                  <a:pt x="18378" y="5242"/>
                  <a:pt x="18378" y="5251"/>
                </a:cubicBezTo>
                <a:cubicBezTo>
                  <a:pt x="18382" y="5214"/>
                  <a:pt x="18383" y="5175"/>
                  <a:pt x="18393" y="5139"/>
                </a:cubicBezTo>
                <a:cubicBezTo>
                  <a:pt x="18405" y="5095"/>
                  <a:pt x="18423" y="5050"/>
                  <a:pt x="18447" y="5012"/>
                </a:cubicBezTo>
                <a:cubicBezTo>
                  <a:pt x="18464" y="4984"/>
                  <a:pt x="18480" y="4967"/>
                  <a:pt x="18512" y="4967"/>
                </a:cubicBezTo>
                <a:cubicBezTo>
                  <a:pt x="18535" y="4967"/>
                  <a:pt x="18551" y="4979"/>
                  <a:pt x="18567" y="4995"/>
                </a:cubicBezTo>
                <a:cubicBezTo>
                  <a:pt x="18572" y="5000"/>
                  <a:pt x="18576" y="5005"/>
                  <a:pt x="18581" y="5010"/>
                </a:cubicBezTo>
              </a:path>
              <a:path w="1757" h="623">
                <a:moveTo>
                  <a:pt x="18821" y="4807"/>
                </a:moveTo>
                <a:cubicBezTo>
                  <a:pt x="18832" y="4845"/>
                  <a:pt x="18837" y="4885"/>
                  <a:pt x="18843" y="4925"/>
                </a:cubicBezTo>
                <a:cubicBezTo>
                  <a:pt x="18856" y="5007"/>
                  <a:pt x="18867" y="5094"/>
                  <a:pt x="18863" y="5177"/>
                </a:cubicBezTo>
                <a:cubicBezTo>
                  <a:pt x="18862" y="5206"/>
                  <a:pt x="18856" y="5227"/>
                  <a:pt x="18845" y="525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6899400" y="1700280"/>
            <a:ext cx="784080" cy="210960"/>
          </a:xfrm>
          <a:custGeom>
            <a:avLst/>
            <a:gdLst/>
            <a:ahLst/>
            <a:rect l="l" t="t" r="r" b="b"/>
            <a:pathLst>
              <a:path w="2178" h="585">
                <a:moveTo>
                  <a:pt x="19184" y="5047"/>
                </a:moveTo>
                <a:cubicBezTo>
                  <a:pt x="19171" y="5038"/>
                  <a:pt x="19167" y="5037"/>
                  <a:pt x="19163" y="5028"/>
                </a:cubicBezTo>
                <a:cubicBezTo>
                  <a:pt x="19202" y="5010"/>
                  <a:pt x="19234" y="5010"/>
                  <a:pt x="19277" y="5005"/>
                </a:cubicBezTo>
                <a:cubicBezTo>
                  <a:pt x="19329" y="4999"/>
                  <a:pt x="19380" y="4994"/>
                  <a:pt x="19432" y="4997"/>
                </a:cubicBezTo>
                <a:cubicBezTo>
                  <a:pt x="19440" y="4998"/>
                  <a:pt x="19449" y="4999"/>
                  <a:pt x="19457" y="5000"/>
                </a:cubicBezTo>
              </a:path>
              <a:path w="2178" h="585">
                <a:moveTo>
                  <a:pt x="19286" y="5110"/>
                </a:moveTo>
                <a:cubicBezTo>
                  <a:pt x="19264" y="5120"/>
                  <a:pt x="19258" y="5121"/>
                  <a:pt x="19250" y="5134"/>
                </a:cubicBezTo>
                <a:cubicBezTo>
                  <a:pt x="19280" y="5155"/>
                  <a:pt x="19325" y="5158"/>
                  <a:pt x="19363" y="5156"/>
                </a:cubicBezTo>
                <a:cubicBezTo>
                  <a:pt x="19415" y="5154"/>
                  <a:pt x="19465" y="5142"/>
                  <a:pt x="19516" y="5131"/>
                </a:cubicBezTo>
              </a:path>
              <a:path w="2178" h="585">
                <a:moveTo>
                  <a:pt x="19798" y="4945"/>
                </a:moveTo>
                <a:cubicBezTo>
                  <a:pt x="19788" y="4981"/>
                  <a:pt x="19785" y="5013"/>
                  <a:pt x="19780" y="5050"/>
                </a:cubicBezTo>
                <a:cubicBezTo>
                  <a:pt x="19774" y="5093"/>
                  <a:pt x="19770" y="5135"/>
                  <a:pt x="19769" y="5179"/>
                </a:cubicBezTo>
                <a:cubicBezTo>
                  <a:pt x="19769" y="5195"/>
                  <a:pt x="19768" y="5199"/>
                  <a:pt x="19773" y="5208"/>
                </a:cubicBezTo>
                <a:cubicBezTo>
                  <a:pt x="19798" y="5185"/>
                  <a:pt x="19809" y="5155"/>
                  <a:pt x="19828" y="5126"/>
                </a:cubicBezTo>
                <a:cubicBezTo>
                  <a:pt x="19855" y="5084"/>
                  <a:pt x="19886" y="5040"/>
                  <a:pt x="19922" y="5005"/>
                </a:cubicBezTo>
                <a:cubicBezTo>
                  <a:pt x="19944" y="4984"/>
                  <a:pt x="19978" y="4955"/>
                  <a:pt x="20003" y="4988"/>
                </a:cubicBezTo>
                <a:cubicBezTo>
                  <a:pt x="20032" y="5027"/>
                  <a:pt x="20028" y="5094"/>
                  <a:pt x="20036" y="5140"/>
                </a:cubicBezTo>
                <a:cubicBezTo>
                  <a:pt x="20038" y="5149"/>
                  <a:pt x="20040" y="5158"/>
                  <a:pt x="20042" y="5167"/>
                </a:cubicBezTo>
              </a:path>
              <a:path w="2178" h="585">
                <a:moveTo>
                  <a:pt x="20247" y="5107"/>
                </a:moveTo>
                <a:cubicBezTo>
                  <a:pt x="20232" y="5083"/>
                  <a:pt x="20232" y="5071"/>
                  <a:pt x="20250" y="5048"/>
                </a:cubicBezTo>
                <a:cubicBezTo>
                  <a:pt x="20269" y="5023"/>
                  <a:pt x="20297" y="5015"/>
                  <a:pt x="20325" y="5003"/>
                </a:cubicBezTo>
              </a:path>
              <a:path w="2178" h="585">
                <a:moveTo>
                  <a:pt x="20555" y="4815"/>
                </a:moveTo>
                <a:cubicBezTo>
                  <a:pt x="20561" y="4802"/>
                  <a:pt x="20563" y="4797"/>
                  <a:pt x="20562" y="4787"/>
                </a:cubicBezTo>
                <a:cubicBezTo>
                  <a:pt x="20560" y="4806"/>
                  <a:pt x="20561" y="4823"/>
                  <a:pt x="20564" y="4842"/>
                </a:cubicBezTo>
                <a:cubicBezTo>
                  <a:pt x="20567" y="4864"/>
                  <a:pt x="20569" y="4886"/>
                  <a:pt x="20570" y="4908"/>
                </a:cubicBezTo>
                <a:cubicBezTo>
                  <a:pt x="20571" y="4952"/>
                  <a:pt x="20570" y="4998"/>
                  <a:pt x="20569" y="5042"/>
                </a:cubicBezTo>
                <a:cubicBezTo>
                  <a:pt x="20568" y="5088"/>
                  <a:pt x="20565" y="5135"/>
                  <a:pt x="20563" y="5181"/>
                </a:cubicBezTo>
                <a:cubicBezTo>
                  <a:pt x="20562" y="5199"/>
                  <a:pt x="20562" y="5204"/>
                  <a:pt x="20562" y="5216"/>
                </a:cubicBezTo>
                <a:cubicBezTo>
                  <a:pt x="20574" y="5184"/>
                  <a:pt x="20583" y="5151"/>
                  <a:pt x="20595" y="5118"/>
                </a:cubicBezTo>
                <a:cubicBezTo>
                  <a:pt x="20616" y="5062"/>
                  <a:pt x="20644" y="5003"/>
                  <a:pt x="20681" y="4956"/>
                </a:cubicBezTo>
                <a:cubicBezTo>
                  <a:pt x="20696" y="4940"/>
                  <a:pt x="20699" y="4935"/>
                  <a:pt x="20713" y="4931"/>
                </a:cubicBezTo>
                <a:cubicBezTo>
                  <a:pt x="20740" y="4945"/>
                  <a:pt x="20743" y="4968"/>
                  <a:pt x="20751" y="4997"/>
                </a:cubicBezTo>
                <a:cubicBezTo>
                  <a:pt x="20763" y="5042"/>
                  <a:pt x="20778" y="5084"/>
                  <a:pt x="20791" y="5129"/>
                </a:cubicBezTo>
                <a:cubicBezTo>
                  <a:pt x="20798" y="5154"/>
                  <a:pt x="20799" y="5162"/>
                  <a:pt x="20803" y="5178"/>
                </a:cubicBezTo>
              </a:path>
              <a:path w="2178" h="585">
                <a:moveTo>
                  <a:pt x="20905" y="5067"/>
                </a:moveTo>
                <a:cubicBezTo>
                  <a:pt x="20928" y="5050"/>
                  <a:pt x="20946" y="5047"/>
                  <a:pt x="20973" y="5039"/>
                </a:cubicBezTo>
                <a:cubicBezTo>
                  <a:pt x="21011" y="5027"/>
                  <a:pt x="21048" y="5023"/>
                  <a:pt x="21087" y="5016"/>
                </a:cubicBezTo>
                <a:cubicBezTo>
                  <a:pt x="21096" y="5014"/>
                  <a:pt x="21105" y="5013"/>
                  <a:pt x="21114" y="5011"/>
                </a:cubicBezTo>
              </a:path>
              <a:path w="2178" h="585">
                <a:moveTo>
                  <a:pt x="21299" y="4827"/>
                </a:moveTo>
                <a:cubicBezTo>
                  <a:pt x="21294" y="4863"/>
                  <a:pt x="21292" y="4896"/>
                  <a:pt x="21290" y="4932"/>
                </a:cubicBezTo>
                <a:cubicBezTo>
                  <a:pt x="21287" y="4993"/>
                  <a:pt x="21295" y="5042"/>
                  <a:pt x="21310" y="5101"/>
                </a:cubicBezTo>
                <a:cubicBezTo>
                  <a:pt x="21318" y="5131"/>
                  <a:pt x="21327" y="5157"/>
                  <a:pt x="21340" y="5185"/>
                </a:cubicBezTo>
              </a:path>
              <a:path w="2178" h="585">
                <a:moveTo>
                  <a:pt x="20486" y="4724"/>
                </a:moveTo>
                <a:cubicBezTo>
                  <a:pt x="20450" y="4729"/>
                  <a:pt x="20417" y="4755"/>
                  <a:pt x="20395" y="4787"/>
                </a:cubicBezTo>
                <a:cubicBezTo>
                  <a:pt x="20354" y="4847"/>
                  <a:pt x="20324" y="4921"/>
                  <a:pt x="20306" y="4991"/>
                </a:cubicBezTo>
                <a:cubicBezTo>
                  <a:pt x="20286" y="5069"/>
                  <a:pt x="20286" y="5139"/>
                  <a:pt x="20321" y="5212"/>
                </a:cubicBezTo>
                <a:cubicBezTo>
                  <a:pt x="20355" y="5283"/>
                  <a:pt x="20410" y="5293"/>
                  <a:pt x="20481" y="530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7788240" y="1712880"/>
            <a:ext cx="30240" cy="181080"/>
          </a:xfrm>
          <a:custGeom>
            <a:avLst/>
            <a:gdLst/>
            <a:ahLst/>
            <a:rect l="l" t="t" r="r" b="b"/>
            <a:pathLst>
              <a:path w="85" h="503">
                <a:moveTo>
                  <a:pt x="21633" y="4757"/>
                </a:moveTo>
                <a:cubicBezTo>
                  <a:pt x="21664" y="4758"/>
                  <a:pt x="21679" y="4766"/>
                  <a:pt x="21692" y="4798"/>
                </a:cubicBezTo>
                <a:cubicBezTo>
                  <a:pt x="21714" y="4853"/>
                  <a:pt x="21717" y="4922"/>
                  <a:pt x="21717" y="4980"/>
                </a:cubicBezTo>
                <a:cubicBezTo>
                  <a:pt x="21717" y="5048"/>
                  <a:pt x="21712" y="5122"/>
                  <a:pt x="21702" y="5189"/>
                </a:cubicBezTo>
                <a:cubicBezTo>
                  <a:pt x="21699" y="5212"/>
                  <a:pt x="21693" y="5235"/>
                  <a:pt x="21690" y="525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7924680" y="1787400"/>
            <a:ext cx="160560" cy="30240"/>
          </a:xfrm>
          <a:custGeom>
            <a:avLst/>
            <a:gdLst/>
            <a:ahLst/>
            <a:rect l="l" t="t" r="r" b="b"/>
            <a:pathLst>
              <a:path w="444" h="82">
                <a:moveTo>
                  <a:pt x="22014" y="5044"/>
                </a:moveTo>
                <a:cubicBezTo>
                  <a:pt x="22025" y="5021"/>
                  <a:pt x="22033" y="5003"/>
                  <a:pt x="22055" y="4990"/>
                </a:cubicBezTo>
                <a:cubicBezTo>
                  <a:pt x="22084" y="4972"/>
                  <a:pt x="22120" y="4971"/>
                  <a:pt x="22153" y="4967"/>
                </a:cubicBezTo>
              </a:path>
              <a:path w="444" h="82">
                <a:moveTo>
                  <a:pt x="22284" y="5048"/>
                </a:moveTo>
                <a:cubicBezTo>
                  <a:pt x="22306" y="5046"/>
                  <a:pt x="22326" y="5039"/>
                  <a:pt x="22347" y="5034"/>
                </a:cubicBezTo>
                <a:cubicBezTo>
                  <a:pt x="22385" y="5025"/>
                  <a:pt x="22418" y="5023"/>
                  <a:pt x="22457" y="502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8194680" y="1709640"/>
            <a:ext cx="480960" cy="201600"/>
          </a:xfrm>
          <a:custGeom>
            <a:avLst/>
            <a:gdLst/>
            <a:ahLst/>
            <a:rect l="l" t="t" r="r" b="b"/>
            <a:pathLst>
              <a:path w="1336" h="558">
                <a:moveTo>
                  <a:pt x="22884" y="4760"/>
                </a:moveTo>
                <a:cubicBezTo>
                  <a:pt x="22882" y="4734"/>
                  <a:pt x="22857" y="4799"/>
                  <a:pt x="22854" y="4805"/>
                </a:cubicBezTo>
                <a:cubicBezTo>
                  <a:pt x="22821" y="4868"/>
                  <a:pt x="22801" y="4935"/>
                  <a:pt x="22784" y="5005"/>
                </a:cubicBezTo>
                <a:cubicBezTo>
                  <a:pt x="22768" y="5070"/>
                  <a:pt x="22755" y="5132"/>
                  <a:pt x="22781" y="5197"/>
                </a:cubicBezTo>
                <a:cubicBezTo>
                  <a:pt x="22794" y="5229"/>
                  <a:pt x="22811" y="5230"/>
                  <a:pt x="22840" y="5237"/>
                </a:cubicBezTo>
              </a:path>
              <a:path w="1336" h="558">
                <a:moveTo>
                  <a:pt x="23047" y="5018"/>
                </a:moveTo>
                <a:cubicBezTo>
                  <a:pt x="23027" y="5045"/>
                  <a:pt x="23025" y="5065"/>
                  <a:pt x="23012" y="5096"/>
                </a:cubicBezTo>
                <a:cubicBezTo>
                  <a:pt x="23001" y="5121"/>
                  <a:pt x="22994" y="5145"/>
                  <a:pt x="22988" y="5172"/>
                </a:cubicBezTo>
                <a:cubicBezTo>
                  <a:pt x="23018" y="5152"/>
                  <a:pt x="23029" y="5122"/>
                  <a:pt x="23051" y="5093"/>
                </a:cubicBezTo>
                <a:cubicBezTo>
                  <a:pt x="23082" y="5053"/>
                  <a:pt x="23115" y="5016"/>
                  <a:pt x="23154" y="4984"/>
                </a:cubicBezTo>
                <a:cubicBezTo>
                  <a:pt x="23175" y="4967"/>
                  <a:pt x="23182" y="4964"/>
                  <a:pt x="23206" y="4965"/>
                </a:cubicBezTo>
                <a:cubicBezTo>
                  <a:pt x="23215" y="4995"/>
                  <a:pt x="23212" y="5029"/>
                  <a:pt x="23203" y="5061"/>
                </a:cubicBezTo>
                <a:cubicBezTo>
                  <a:pt x="23193" y="5097"/>
                  <a:pt x="23180" y="5137"/>
                  <a:pt x="23184" y="5175"/>
                </a:cubicBezTo>
                <a:cubicBezTo>
                  <a:pt x="23186" y="5181"/>
                  <a:pt x="23188" y="5188"/>
                  <a:pt x="23190" y="5194"/>
                </a:cubicBezTo>
              </a:path>
              <a:path w="1336" h="558">
                <a:moveTo>
                  <a:pt x="23414" y="5078"/>
                </a:moveTo>
                <a:cubicBezTo>
                  <a:pt x="23429" y="5067"/>
                  <a:pt x="23443" y="5059"/>
                  <a:pt x="23461" y="5055"/>
                </a:cubicBezTo>
                <a:cubicBezTo>
                  <a:pt x="23487" y="5049"/>
                  <a:pt x="23519" y="5052"/>
                  <a:pt x="23545" y="5051"/>
                </a:cubicBezTo>
                <a:cubicBezTo>
                  <a:pt x="23568" y="5051"/>
                  <a:pt x="23576" y="5051"/>
                  <a:pt x="23592" y="5049"/>
                </a:cubicBezTo>
              </a:path>
              <a:path w="1336" h="558">
                <a:moveTo>
                  <a:pt x="23751" y="5082"/>
                </a:moveTo>
                <a:cubicBezTo>
                  <a:pt x="23752" y="5108"/>
                  <a:pt x="23750" y="5130"/>
                  <a:pt x="23745" y="5155"/>
                </a:cubicBezTo>
                <a:cubicBezTo>
                  <a:pt x="23742" y="5170"/>
                  <a:pt x="23743" y="5175"/>
                  <a:pt x="23730" y="5171"/>
                </a:cubicBezTo>
                <a:cubicBezTo>
                  <a:pt x="23726" y="5146"/>
                  <a:pt x="23727" y="5118"/>
                  <a:pt x="23733" y="5093"/>
                </a:cubicBezTo>
                <a:cubicBezTo>
                  <a:pt x="23741" y="5059"/>
                  <a:pt x="23754" y="5019"/>
                  <a:pt x="23778" y="4993"/>
                </a:cubicBezTo>
                <a:cubicBezTo>
                  <a:pt x="23799" y="4970"/>
                  <a:pt x="23817" y="4963"/>
                  <a:pt x="23846" y="4970"/>
                </a:cubicBezTo>
                <a:cubicBezTo>
                  <a:pt x="23874" y="4977"/>
                  <a:pt x="23896" y="5001"/>
                  <a:pt x="23918" y="5017"/>
                </a:cubicBezTo>
              </a:path>
              <a:path w="1336" h="558">
                <a:moveTo>
                  <a:pt x="24026" y="4774"/>
                </a:moveTo>
                <a:cubicBezTo>
                  <a:pt x="24114" y="4806"/>
                  <a:pt x="24093" y="4874"/>
                  <a:pt x="24095" y="4967"/>
                </a:cubicBezTo>
                <a:cubicBezTo>
                  <a:pt x="24097" y="5047"/>
                  <a:pt x="24093" y="5128"/>
                  <a:pt x="24080" y="5207"/>
                </a:cubicBezTo>
                <a:cubicBezTo>
                  <a:pt x="24069" y="5256"/>
                  <a:pt x="24065" y="5274"/>
                  <a:pt x="24055" y="530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3990960" y="1860480"/>
            <a:ext cx="1720800" cy="241200"/>
          </a:xfrm>
          <a:custGeom>
            <a:avLst/>
            <a:gdLst/>
            <a:ahLst/>
            <a:rect l="l" t="t" r="r" b="b"/>
            <a:pathLst>
              <a:path w="4779" h="668">
                <a:moveTo>
                  <a:pt x="11105" y="5224"/>
                </a:moveTo>
                <a:cubicBezTo>
                  <a:pt x="11106" y="5207"/>
                  <a:pt x="11107" y="5202"/>
                  <a:pt x="11102" y="5192"/>
                </a:cubicBezTo>
                <a:cubicBezTo>
                  <a:pt x="11096" y="5211"/>
                  <a:pt x="11091" y="5227"/>
                  <a:pt x="11090" y="5247"/>
                </a:cubicBezTo>
                <a:cubicBezTo>
                  <a:pt x="11088" y="5280"/>
                  <a:pt x="11086" y="5315"/>
                  <a:pt x="11088" y="5348"/>
                </a:cubicBezTo>
                <a:cubicBezTo>
                  <a:pt x="11090" y="5375"/>
                  <a:pt x="11096" y="5403"/>
                  <a:pt x="11101" y="5430"/>
                </a:cubicBezTo>
                <a:cubicBezTo>
                  <a:pt x="11105" y="5443"/>
                  <a:pt x="11106" y="5447"/>
                  <a:pt x="11106" y="5456"/>
                </a:cubicBezTo>
                <a:cubicBezTo>
                  <a:pt x="11127" y="5449"/>
                  <a:pt x="11148" y="5440"/>
                  <a:pt x="11170" y="5435"/>
                </a:cubicBezTo>
                <a:cubicBezTo>
                  <a:pt x="11308" y="5401"/>
                  <a:pt x="11468" y="5384"/>
                  <a:pt x="11610" y="5400"/>
                </a:cubicBezTo>
                <a:cubicBezTo>
                  <a:pt x="11636" y="5403"/>
                  <a:pt x="11665" y="5409"/>
                  <a:pt x="11687" y="5424"/>
                </a:cubicBezTo>
                <a:cubicBezTo>
                  <a:pt x="11702" y="5434"/>
                  <a:pt x="11716" y="5445"/>
                  <a:pt x="11731" y="5455"/>
                </a:cubicBezTo>
                <a:cubicBezTo>
                  <a:pt x="11742" y="5462"/>
                  <a:pt x="11761" y="5477"/>
                  <a:pt x="11776" y="5475"/>
                </a:cubicBezTo>
                <a:cubicBezTo>
                  <a:pt x="11795" y="5472"/>
                  <a:pt x="11801" y="5429"/>
                  <a:pt x="11804" y="5415"/>
                </a:cubicBezTo>
                <a:cubicBezTo>
                  <a:pt x="11810" y="5384"/>
                  <a:pt x="11813" y="5352"/>
                  <a:pt x="11812" y="5321"/>
                </a:cubicBezTo>
                <a:cubicBezTo>
                  <a:pt x="11810" y="5273"/>
                  <a:pt x="11801" y="5237"/>
                  <a:pt x="11773" y="5203"/>
                </a:cubicBezTo>
                <a:cubicBezTo>
                  <a:pt x="11763" y="5220"/>
                  <a:pt x="11753" y="5235"/>
                  <a:pt x="11742" y="5251"/>
                </a:cubicBezTo>
              </a:path>
              <a:path w="4779" h="668">
                <a:moveTo>
                  <a:pt x="11297" y="5571"/>
                </a:moveTo>
                <a:cubicBezTo>
                  <a:pt x="11304" y="5603"/>
                  <a:pt x="11317" y="5633"/>
                  <a:pt x="11324" y="5666"/>
                </a:cubicBezTo>
                <a:cubicBezTo>
                  <a:pt x="11335" y="5716"/>
                  <a:pt x="11338" y="5775"/>
                  <a:pt x="11365" y="5820"/>
                </a:cubicBezTo>
                <a:cubicBezTo>
                  <a:pt x="11379" y="5843"/>
                  <a:pt x="11389" y="5836"/>
                  <a:pt x="11404" y="5822"/>
                </a:cubicBezTo>
              </a:path>
              <a:path w="4779" h="668">
                <a:moveTo>
                  <a:pt x="12276" y="5227"/>
                </a:moveTo>
                <a:cubicBezTo>
                  <a:pt x="12297" y="5218"/>
                  <a:pt x="12287" y="5207"/>
                  <a:pt x="12289" y="5236"/>
                </a:cubicBezTo>
                <a:cubicBezTo>
                  <a:pt x="12291" y="5271"/>
                  <a:pt x="12278" y="5308"/>
                  <a:pt x="12274" y="5343"/>
                </a:cubicBezTo>
                <a:cubicBezTo>
                  <a:pt x="12269" y="5386"/>
                  <a:pt x="12263" y="5430"/>
                  <a:pt x="12260" y="5474"/>
                </a:cubicBezTo>
                <a:cubicBezTo>
                  <a:pt x="12259" y="5492"/>
                  <a:pt x="12261" y="5507"/>
                  <a:pt x="12262" y="5524"/>
                </a:cubicBezTo>
                <a:cubicBezTo>
                  <a:pt x="12282" y="5522"/>
                  <a:pt x="12296" y="5518"/>
                  <a:pt x="12319" y="5509"/>
                </a:cubicBezTo>
                <a:cubicBezTo>
                  <a:pt x="12373" y="5489"/>
                  <a:pt x="12428" y="5480"/>
                  <a:pt x="12485" y="5474"/>
                </a:cubicBezTo>
                <a:cubicBezTo>
                  <a:pt x="12535" y="5468"/>
                  <a:pt x="12584" y="5463"/>
                  <a:pt x="12634" y="5460"/>
                </a:cubicBezTo>
                <a:cubicBezTo>
                  <a:pt x="12666" y="5458"/>
                  <a:pt x="12701" y="5456"/>
                  <a:pt x="12733" y="5462"/>
                </a:cubicBezTo>
                <a:cubicBezTo>
                  <a:pt x="12752" y="5466"/>
                  <a:pt x="12769" y="5472"/>
                  <a:pt x="12788" y="5476"/>
                </a:cubicBezTo>
                <a:cubicBezTo>
                  <a:pt x="12814" y="5481"/>
                  <a:pt x="12836" y="5486"/>
                  <a:pt x="12858" y="5469"/>
                </a:cubicBezTo>
                <a:cubicBezTo>
                  <a:pt x="12873" y="5457"/>
                  <a:pt x="12875" y="5428"/>
                  <a:pt x="12877" y="5411"/>
                </a:cubicBezTo>
                <a:cubicBezTo>
                  <a:pt x="12885" y="5331"/>
                  <a:pt x="12860" y="5250"/>
                  <a:pt x="12809" y="5189"/>
                </a:cubicBezTo>
                <a:cubicBezTo>
                  <a:pt x="12789" y="5208"/>
                  <a:pt x="12795" y="5211"/>
                  <a:pt x="12791" y="5243"/>
                </a:cubicBezTo>
                <a:cubicBezTo>
                  <a:pt x="12789" y="5252"/>
                  <a:pt x="12788" y="5260"/>
                  <a:pt x="12786" y="5269"/>
                </a:cubicBezTo>
              </a:path>
              <a:path w="4779" h="668">
                <a:moveTo>
                  <a:pt x="12503" y="5595"/>
                </a:moveTo>
                <a:cubicBezTo>
                  <a:pt x="12524" y="5599"/>
                  <a:pt x="12551" y="5586"/>
                  <a:pt x="12576" y="5585"/>
                </a:cubicBezTo>
                <a:cubicBezTo>
                  <a:pt x="12604" y="5583"/>
                  <a:pt x="12653" y="5586"/>
                  <a:pt x="12671" y="5613"/>
                </a:cubicBezTo>
                <a:cubicBezTo>
                  <a:pt x="12692" y="5645"/>
                  <a:pt x="12660" y="5686"/>
                  <a:pt x="12642" y="5711"/>
                </a:cubicBezTo>
                <a:cubicBezTo>
                  <a:pt x="12620" y="5742"/>
                  <a:pt x="12593" y="5764"/>
                  <a:pt x="12568" y="5791"/>
                </a:cubicBezTo>
                <a:cubicBezTo>
                  <a:pt x="12566" y="5794"/>
                  <a:pt x="12563" y="5798"/>
                  <a:pt x="12561" y="5801"/>
                </a:cubicBezTo>
                <a:cubicBezTo>
                  <a:pt x="12590" y="5818"/>
                  <a:pt x="12621" y="5821"/>
                  <a:pt x="12656" y="5821"/>
                </a:cubicBezTo>
                <a:cubicBezTo>
                  <a:pt x="12704" y="5821"/>
                  <a:pt x="12748" y="5810"/>
                  <a:pt x="12793" y="5795"/>
                </a:cubicBezTo>
              </a:path>
              <a:path w="4779" h="668">
                <a:moveTo>
                  <a:pt x="13302" y="5249"/>
                </a:moveTo>
                <a:cubicBezTo>
                  <a:pt x="13312" y="5258"/>
                  <a:pt x="13317" y="5255"/>
                  <a:pt x="13310" y="5296"/>
                </a:cubicBezTo>
                <a:cubicBezTo>
                  <a:pt x="13303" y="5337"/>
                  <a:pt x="13298" y="5378"/>
                  <a:pt x="13293" y="5419"/>
                </a:cubicBezTo>
                <a:cubicBezTo>
                  <a:pt x="13291" y="5436"/>
                  <a:pt x="13282" y="5488"/>
                  <a:pt x="13304" y="5499"/>
                </a:cubicBezTo>
                <a:cubicBezTo>
                  <a:pt x="13327" y="5511"/>
                  <a:pt x="13355" y="5506"/>
                  <a:pt x="13380" y="5504"/>
                </a:cubicBezTo>
                <a:cubicBezTo>
                  <a:pt x="13428" y="5501"/>
                  <a:pt x="13476" y="5497"/>
                  <a:pt x="13524" y="5499"/>
                </a:cubicBezTo>
                <a:cubicBezTo>
                  <a:pt x="13592" y="5501"/>
                  <a:pt x="13661" y="5505"/>
                  <a:pt x="13729" y="5504"/>
                </a:cubicBezTo>
                <a:cubicBezTo>
                  <a:pt x="13752" y="5504"/>
                  <a:pt x="13776" y="5498"/>
                  <a:pt x="13798" y="5501"/>
                </a:cubicBezTo>
                <a:cubicBezTo>
                  <a:pt x="13823" y="5504"/>
                  <a:pt x="13859" y="5520"/>
                  <a:pt x="13884" y="5506"/>
                </a:cubicBezTo>
                <a:cubicBezTo>
                  <a:pt x="13913" y="5489"/>
                  <a:pt x="13909" y="5461"/>
                  <a:pt x="13903" y="5432"/>
                </a:cubicBezTo>
                <a:cubicBezTo>
                  <a:pt x="13892" y="5380"/>
                  <a:pt x="13873" y="5330"/>
                  <a:pt x="13854" y="5281"/>
                </a:cubicBezTo>
                <a:cubicBezTo>
                  <a:pt x="13852" y="5276"/>
                  <a:pt x="13824" y="5201"/>
                  <a:pt x="13818" y="5203"/>
                </a:cubicBezTo>
                <a:cubicBezTo>
                  <a:pt x="13797" y="5210"/>
                  <a:pt x="13799" y="5219"/>
                  <a:pt x="13792" y="5241"/>
                </a:cubicBezTo>
              </a:path>
              <a:path w="4779" h="668">
                <a:moveTo>
                  <a:pt x="13513" y="5607"/>
                </a:moveTo>
                <a:cubicBezTo>
                  <a:pt x="13502" y="5584"/>
                  <a:pt x="13500" y="5572"/>
                  <a:pt x="13523" y="5558"/>
                </a:cubicBezTo>
                <a:cubicBezTo>
                  <a:pt x="13546" y="5545"/>
                  <a:pt x="13573" y="5544"/>
                  <a:pt x="13598" y="5549"/>
                </a:cubicBezTo>
                <a:cubicBezTo>
                  <a:pt x="13621" y="5554"/>
                  <a:pt x="13648" y="5569"/>
                  <a:pt x="13651" y="5595"/>
                </a:cubicBezTo>
                <a:cubicBezTo>
                  <a:pt x="13654" y="5615"/>
                  <a:pt x="13641" y="5641"/>
                  <a:pt x="13628" y="5656"/>
                </a:cubicBezTo>
                <a:cubicBezTo>
                  <a:pt x="13618" y="5665"/>
                  <a:pt x="13614" y="5668"/>
                  <a:pt x="13609" y="5676"/>
                </a:cubicBezTo>
                <a:cubicBezTo>
                  <a:pt x="13629" y="5687"/>
                  <a:pt x="13652" y="5689"/>
                  <a:pt x="13674" y="5697"/>
                </a:cubicBezTo>
                <a:cubicBezTo>
                  <a:pt x="13703" y="5707"/>
                  <a:pt x="13734" y="5721"/>
                  <a:pt x="13755" y="5744"/>
                </a:cubicBezTo>
                <a:cubicBezTo>
                  <a:pt x="13773" y="5764"/>
                  <a:pt x="13768" y="5783"/>
                  <a:pt x="13747" y="5798"/>
                </a:cubicBezTo>
                <a:cubicBezTo>
                  <a:pt x="13719" y="5818"/>
                  <a:pt x="13687" y="5816"/>
                  <a:pt x="13655" y="5818"/>
                </a:cubicBezTo>
                <a:cubicBezTo>
                  <a:pt x="13635" y="5819"/>
                  <a:pt x="13604" y="5820"/>
                  <a:pt x="13607" y="5790"/>
                </a:cubicBezTo>
                <a:cubicBezTo>
                  <a:pt x="13609" y="5784"/>
                  <a:pt x="13611" y="5778"/>
                  <a:pt x="13613" y="5772"/>
                </a:cubicBezTo>
              </a:path>
              <a:path w="4779" h="668">
                <a:moveTo>
                  <a:pt x="14365" y="5402"/>
                </a:moveTo>
                <a:cubicBezTo>
                  <a:pt x="14352" y="5404"/>
                  <a:pt x="14347" y="5405"/>
                  <a:pt x="14338" y="5405"/>
                </a:cubicBezTo>
                <a:cubicBezTo>
                  <a:pt x="14366" y="5396"/>
                  <a:pt x="14388" y="5391"/>
                  <a:pt x="14418" y="5388"/>
                </a:cubicBezTo>
                <a:cubicBezTo>
                  <a:pt x="14444" y="5385"/>
                  <a:pt x="14453" y="5384"/>
                  <a:pt x="14471" y="5386"/>
                </a:cubicBezTo>
              </a:path>
              <a:path w="4779" h="668">
                <a:moveTo>
                  <a:pt x="14558" y="5424"/>
                </a:moveTo>
                <a:cubicBezTo>
                  <a:pt x="14577" y="5401"/>
                  <a:pt x="14592" y="5389"/>
                  <a:pt x="14623" y="5386"/>
                </a:cubicBezTo>
                <a:cubicBezTo>
                  <a:pt x="14631" y="5386"/>
                  <a:pt x="14640" y="5386"/>
                  <a:pt x="14648" y="5386"/>
                </a:cubicBezTo>
              </a:path>
              <a:path w="4779" h="668">
                <a:moveTo>
                  <a:pt x="14810" y="5421"/>
                </a:moveTo>
                <a:cubicBezTo>
                  <a:pt x="14821" y="5406"/>
                  <a:pt x="14828" y="5381"/>
                  <a:pt x="14846" y="5378"/>
                </a:cubicBezTo>
                <a:cubicBezTo>
                  <a:pt x="14853" y="5377"/>
                  <a:pt x="14860" y="5377"/>
                  <a:pt x="14867" y="5376"/>
                </a:cubicBezTo>
              </a:path>
              <a:path w="4779" h="668">
                <a:moveTo>
                  <a:pt x="15099" y="5272"/>
                </a:moveTo>
                <a:cubicBezTo>
                  <a:pt x="15103" y="5268"/>
                  <a:pt x="15106" y="5264"/>
                  <a:pt x="15110" y="5260"/>
                </a:cubicBezTo>
                <a:cubicBezTo>
                  <a:pt x="15116" y="5287"/>
                  <a:pt x="15112" y="5311"/>
                  <a:pt x="15109" y="5339"/>
                </a:cubicBezTo>
                <a:cubicBezTo>
                  <a:pt x="15105" y="5375"/>
                  <a:pt x="15099" y="5412"/>
                  <a:pt x="15091" y="5448"/>
                </a:cubicBezTo>
                <a:cubicBezTo>
                  <a:pt x="15088" y="5462"/>
                  <a:pt x="15085" y="5476"/>
                  <a:pt x="15082" y="5490"/>
                </a:cubicBezTo>
                <a:cubicBezTo>
                  <a:pt x="15103" y="5490"/>
                  <a:pt x="15123" y="5487"/>
                  <a:pt x="15146" y="5483"/>
                </a:cubicBezTo>
                <a:cubicBezTo>
                  <a:pt x="15238" y="5468"/>
                  <a:pt x="15332" y="5463"/>
                  <a:pt x="15425" y="5461"/>
                </a:cubicBezTo>
                <a:cubicBezTo>
                  <a:pt x="15491" y="5459"/>
                  <a:pt x="15558" y="5458"/>
                  <a:pt x="15624" y="5460"/>
                </a:cubicBezTo>
                <a:cubicBezTo>
                  <a:pt x="15648" y="5461"/>
                  <a:pt x="15671" y="5461"/>
                  <a:pt x="15695" y="5461"/>
                </a:cubicBezTo>
                <a:cubicBezTo>
                  <a:pt x="15718" y="5461"/>
                  <a:pt x="15742" y="5460"/>
                  <a:pt x="15765" y="5459"/>
                </a:cubicBezTo>
                <a:cubicBezTo>
                  <a:pt x="15795" y="5458"/>
                  <a:pt x="15826" y="5454"/>
                  <a:pt x="15856" y="5457"/>
                </a:cubicBezTo>
                <a:cubicBezTo>
                  <a:pt x="15859" y="5458"/>
                  <a:pt x="15862" y="5458"/>
                  <a:pt x="15865" y="5459"/>
                </a:cubicBezTo>
                <a:cubicBezTo>
                  <a:pt x="15861" y="5417"/>
                  <a:pt x="15852" y="5376"/>
                  <a:pt x="15844" y="5334"/>
                </a:cubicBezTo>
                <a:cubicBezTo>
                  <a:pt x="15836" y="5292"/>
                  <a:pt x="15827" y="5249"/>
                  <a:pt x="15815" y="5208"/>
                </a:cubicBezTo>
                <a:cubicBezTo>
                  <a:pt x="15811" y="5194"/>
                  <a:pt x="15806" y="5183"/>
                  <a:pt x="15800" y="5170"/>
                </a:cubicBezTo>
                <a:cubicBezTo>
                  <a:pt x="15795" y="5188"/>
                  <a:pt x="15791" y="5205"/>
                  <a:pt x="15787" y="5223"/>
                </a:cubicBezTo>
              </a:path>
              <a:path w="4779" h="668">
                <a:moveTo>
                  <a:pt x="15353" y="5533"/>
                </a:moveTo>
                <a:cubicBezTo>
                  <a:pt x="15355" y="5519"/>
                  <a:pt x="15356" y="5506"/>
                  <a:pt x="15357" y="5492"/>
                </a:cubicBezTo>
                <a:cubicBezTo>
                  <a:pt x="15362" y="5522"/>
                  <a:pt x="15367" y="5552"/>
                  <a:pt x="15371" y="5582"/>
                </a:cubicBezTo>
                <a:cubicBezTo>
                  <a:pt x="15375" y="5616"/>
                  <a:pt x="15380" y="5649"/>
                  <a:pt x="15380" y="5683"/>
                </a:cubicBezTo>
                <a:cubicBezTo>
                  <a:pt x="15380" y="5688"/>
                  <a:pt x="15380" y="5693"/>
                  <a:pt x="15380" y="5698"/>
                </a:cubicBezTo>
                <a:cubicBezTo>
                  <a:pt x="15397" y="5660"/>
                  <a:pt x="15414" y="5628"/>
                  <a:pt x="15442" y="5596"/>
                </a:cubicBezTo>
                <a:cubicBezTo>
                  <a:pt x="15472" y="5562"/>
                  <a:pt x="15501" y="5544"/>
                  <a:pt x="15542" y="5531"/>
                </a:cubicBezTo>
                <a:cubicBezTo>
                  <a:pt x="15560" y="5525"/>
                  <a:pt x="15571" y="5531"/>
                  <a:pt x="15587" y="5541"/>
                </a:cubicBezTo>
                <a:cubicBezTo>
                  <a:pt x="15590" y="5543"/>
                  <a:pt x="15594" y="5546"/>
                  <a:pt x="15597" y="554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5672160" y="2251080"/>
            <a:ext cx="14400" cy="71280"/>
          </a:xfrm>
          <a:custGeom>
            <a:avLst/>
            <a:gdLst/>
            <a:ahLst/>
            <a:rect l="l" t="t" r="r" b="b"/>
            <a:pathLst>
              <a:path w="43" h="196">
                <a:moveTo>
                  <a:pt x="15796" y="6265"/>
                </a:moveTo>
                <a:cubicBezTo>
                  <a:pt x="15779" y="6250"/>
                  <a:pt x="15789" y="6287"/>
                  <a:pt x="15789" y="6303"/>
                </a:cubicBezTo>
                <a:cubicBezTo>
                  <a:pt x="15790" y="6335"/>
                  <a:pt x="15788" y="6364"/>
                  <a:pt x="15784" y="6396"/>
                </a:cubicBezTo>
                <a:cubicBezTo>
                  <a:pt x="15781" y="6422"/>
                  <a:pt x="15776" y="6437"/>
                  <a:pt x="15754" y="645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5819760" y="2262240"/>
            <a:ext cx="19080" cy="68040"/>
          </a:xfrm>
          <a:custGeom>
            <a:avLst/>
            <a:gdLst/>
            <a:ahLst/>
            <a:rect l="l" t="t" r="r" b="b"/>
            <a:pathLst>
              <a:path w="51" h="189">
                <a:moveTo>
                  <a:pt x="16166" y="6303"/>
                </a:moveTo>
                <a:cubicBezTo>
                  <a:pt x="16182" y="6284"/>
                  <a:pt x="16191" y="6280"/>
                  <a:pt x="16202" y="6307"/>
                </a:cubicBezTo>
                <a:cubicBezTo>
                  <a:pt x="16214" y="6334"/>
                  <a:pt x="16216" y="6364"/>
                  <a:pt x="16215" y="6393"/>
                </a:cubicBezTo>
                <a:cubicBezTo>
                  <a:pt x="16214" y="6418"/>
                  <a:pt x="16217" y="6447"/>
                  <a:pt x="16197" y="6466"/>
                </a:cubicBezTo>
                <a:cubicBezTo>
                  <a:pt x="16193" y="6469"/>
                  <a:pt x="16189" y="6471"/>
                  <a:pt x="16185" y="647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5996160" y="2243160"/>
            <a:ext cx="20520" cy="81000"/>
          </a:xfrm>
          <a:custGeom>
            <a:avLst/>
            <a:gdLst/>
            <a:ahLst/>
            <a:rect l="l" t="t" r="r" b="b"/>
            <a:pathLst>
              <a:path w="58" h="223">
                <a:moveTo>
                  <a:pt x="16712" y="6243"/>
                </a:moveTo>
                <a:cubicBezTo>
                  <a:pt x="16713" y="6239"/>
                  <a:pt x="16713" y="6235"/>
                  <a:pt x="16714" y="6231"/>
                </a:cubicBezTo>
                <a:cubicBezTo>
                  <a:pt x="16708" y="6253"/>
                  <a:pt x="16708" y="6275"/>
                  <a:pt x="16703" y="6298"/>
                </a:cubicBezTo>
                <a:cubicBezTo>
                  <a:pt x="16695" y="6332"/>
                  <a:pt x="16686" y="6366"/>
                  <a:pt x="16676" y="6399"/>
                </a:cubicBezTo>
                <a:cubicBezTo>
                  <a:pt x="16670" y="6418"/>
                  <a:pt x="16666" y="6435"/>
                  <a:pt x="16657" y="645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6170760" y="2239920"/>
            <a:ext cx="15840" cy="71640"/>
          </a:xfrm>
          <a:custGeom>
            <a:avLst/>
            <a:gdLst/>
            <a:ahLst/>
            <a:rect l="l" t="t" r="r" b="b"/>
            <a:pathLst>
              <a:path w="46" h="201">
                <a:moveTo>
                  <a:pt x="17182" y="6221"/>
                </a:moveTo>
                <a:cubicBezTo>
                  <a:pt x="17181" y="6245"/>
                  <a:pt x="17183" y="6267"/>
                  <a:pt x="17180" y="6292"/>
                </a:cubicBezTo>
                <a:cubicBezTo>
                  <a:pt x="17176" y="6322"/>
                  <a:pt x="17173" y="6362"/>
                  <a:pt x="17160" y="6390"/>
                </a:cubicBezTo>
                <a:cubicBezTo>
                  <a:pt x="17149" y="6405"/>
                  <a:pt x="17146" y="6410"/>
                  <a:pt x="17140" y="642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6326280" y="2260440"/>
            <a:ext cx="114120" cy="92160"/>
          </a:xfrm>
          <a:custGeom>
            <a:avLst/>
            <a:gdLst/>
            <a:ahLst/>
            <a:rect l="l" t="t" r="r" b="b"/>
            <a:pathLst>
              <a:path w="315" h="255">
                <a:moveTo>
                  <a:pt x="17667" y="6281"/>
                </a:moveTo>
                <a:cubicBezTo>
                  <a:pt x="17649" y="6303"/>
                  <a:pt x="17635" y="6325"/>
                  <a:pt x="17623" y="6351"/>
                </a:cubicBezTo>
                <a:cubicBezTo>
                  <a:pt x="17605" y="6390"/>
                  <a:pt x="17586" y="6424"/>
                  <a:pt x="17580" y="6467"/>
                </a:cubicBezTo>
                <a:cubicBezTo>
                  <a:pt x="17577" y="6490"/>
                  <a:pt x="17575" y="6512"/>
                  <a:pt x="17574" y="6535"/>
                </a:cubicBezTo>
              </a:path>
              <a:path w="315" h="255">
                <a:moveTo>
                  <a:pt x="17888" y="6313"/>
                </a:moveTo>
                <a:cubicBezTo>
                  <a:pt x="17882" y="6340"/>
                  <a:pt x="17871" y="6361"/>
                  <a:pt x="17865" y="6390"/>
                </a:cubicBezTo>
                <a:cubicBezTo>
                  <a:pt x="17858" y="6422"/>
                  <a:pt x="17846" y="6455"/>
                  <a:pt x="17842" y="6487"/>
                </a:cubicBezTo>
                <a:cubicBezTo>
                  <a:pt x="17840" y="6502"/>
                  <a:pt x="17843" y="6514"/>
                  <a:pt x="17846" y="652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6595920" y="2235240"/>
            <a:ext cx="32040" cy="88920"/>
          </a:xfrm>
          <a:custGeom>
            <a:avLst/>
            <a:gdLst/>
            <a:ahLst/>
            <a:rect l="l" t="t" r="r" b="b"/>
            <a:pathLst>
              <a:path w="87" h="249">
                <a:moveTo>
                  <a:pt x="18393" y="6216"/>
                </a:moveTo>
                <a:cubicBezTo>
                  <a:pt x="18397" y="6213"/>
                  <a:pt x="18400" y="6210"/>
                  <a:pt x="18404" y="6207"/>
                </a:cubicBezTo>
                <a:cubicBezTo>
                  <a:pt x="18410" y="6239"/>
                  <a:pt x="18398" y="6272"/>
                  <a:pt x="18385" y="6303"/>
                </a:cubicBezTo>
                <a:cubicBezTo>
                  <a:pt x="18368" y="6341"/>
                  <a:pt x="18352" y="6378"/>
                  <a:pt x="18333" y="6414"/>
                </a:cubicBezTo>
                <a:cubicBezTo>
                  <a:pt x="18320" y="6438"/>
                  <a:pt x="18320" y="6438"/>
                  <a:pt x="18334" y="645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6797520" y="2257560"/>
            <a:ext cx="32040" cy="131760"/>
          </a:xfrm>
          <a:custGeom>
            <a:avLst/>
            <a:gdLst/>
            <a:ahLst/>
            <a:rect l="l" t="t" r="r" b="b"/>
            <a:pathLst>
              <a:path w="87" h="365">
                <a:moveTo>
                  <a:pt x="18970" y="6270"/>
                </a:moveTo>
                <a:cubicBezTo>
                  <a:pt x="18945" y="6279"/>
                  <a:pt x="18929" y="6305"/>
                  <a:pt x="18923" y="6334"/>
                </a:cubicBezTo>
                <a:cubicBezTo>
                  <a:pt x="18913" y="6385"/>
                  <a:pt x="18915" y="6439"/>
                  <a:pt x="18908" y="6490"/>
                </a:cubicBezTo>
                <a:cubicBezTo>
                  <a:pt x="18902" y="6538"/>
                  <a:pt x="18892" y="6586"/>
                  <a:pt x="18884" y="663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2521080" y="2495520"/>
            <a:ext cx="46080" cy="6480"/>
          </a:xfrm>
          <a:custGeom>
            <a:avLst/>
            <a:gdLst/>
            <a:ahLst/>
            <a:rect l="l" t="t" r="r" b="b"/>
            <a:pathLst>
              <a:path w="126" h="19">
                <a:moveTo>
                  <a:pt x="7004" y="6950"/>
                </a:moveTo>
                <a:cubicBezTo>
                  <a:pt x="7051" y="6935"/>
                  <a:pt x="7080" y="6932"/>
                  <a:pt x="7129" y="693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1685880" y="2455920"/>
            <a:ext cx="1573200" cy="255600"/>
          </a:xfrm>
          <a:custGeom>
            <a:avLst/>
            <a:gdLst/>
            <a:ahLst/>
            <a:rect l="l" t="t" r="r" b="b"/>
            <a:pathLst>
              <a:path w="4371" h="709">
                <a:moveTo>
                  <a:pt x="4768" y="6984"/>
                </a:moveTo>
                <a:cubicBezTo>
                  <a:pt x="4735" y="6988"/>
                  <a:pt x="4703" y="7014"/>
                  <a:pt x="4692" y="7051"/>
                </a:cubicBezTo>
                <a:cubicBezTo>
                  <a:pt x="4672" y="7120"/>
                  <a:pt x="4684" y="7205"/>
                  <a:pt x="4692" y="7275"/>
                </a:cubicBezTo>
                <a:cubicBezTo>
                  <a:pt x="4698" y="7331"/>
                  <a:pt x="4706" y="7391"/>
                  <a:pt x="4721" y="7446"/>
                </a:cubicBezTo>
                <a:cubicBezTo>
                  <a:pt x="4723" y="7450"/>
                  <a:pt x="4724" y="7453"/>
                  <a:pt x="4726" y="7457"/>
                </a:cubicBezTo>
                <a:cubicBezTo>
                  <a:pt x="4710" y="7359"/>
                  <a:pt x="4711" y="7261"/>
                  <a:pt x="4726" y="7163"/>
                </a:cubicBezTo>
                <a:cubicBezTo>
                  <a:pt x="4740" y="7072"/>
                  <a:pt x="4765" y="6980"/>
                  <a:pt x="4799" y="6894"/>
                </a:cubicBezTo>
                <a:cubicBezTo>
                  <a:pt x="4813" y="6863"/>
                  <a:pt x="4814" y="6855"/>
                  <a:pt x="4831" y="6842"/>
                </a:cubicBezTo>
                <a:cubicBezTo>
                  <a:pt x="4839" y="6880"/>
                  <a:pt x="4836" y="6915"/>
                  <a:pt x="4829" y="6961"/>
                </a:cubicBezTo>
                <a:cubicBezTo>
                  <a:pt x="4822" y="7007"/>
                  <a:pt x="4805" y="7069"/>
                  <a:pt x="4822" y="7114"/>
                </a:cubicBezTo>
                <a:cubicBezTo>
                  <a:pt x="4826" y="7119"/>
                  <a:pt x="4829" y="7124"/>
                  <a:pt x="4833" y="7129"/>
                </a:cubicBezTo>
                <a:cubicBezTo>
                  <a:pt x="4870" y="7132"/>
                  <a:pt x="4906" y="7120"/>
                  <a:pt x="4943" y="7123"/>
                </a:cubicBezTo>
                <a:cubicBezTo>
                  <a:pt x="4996" y="7128"/>
                  <a:pt x="5030" y="7161"/>
                  <a:pt x="5048" y="7210"/>
                </a:cubicBezTo>
                <a:cubicBezTo>
                  <a:pt x="5075" y="7287"/>
                  <a:pt x="5069" y="7390"/>
                  <a:pt x="5033" y="7463"/>
                </a:cubicBezTo>
                <a:cubicBezTo>
                  <a:pt x="5010" y="7509"/>
                  <a:pt x="4981" y="7522"/>
                  <a:pt x="4934" y="7532"/>
                </a:cubicBezTo>
                <a:cubicBezTo>
                  <a:pt x="4914" y="7497"/>
                  <a:pt x="4924" y="7467"/>
                  <a:pt x="4960" y="7438"/>
                </a:cubicBezTo>
                <a:cubicBezTo>
                  <a:pt x="4970" y="7432"/>
                  <a:pt x="4980" y="7426"/>
                  <a:pt x="4990" y="7420"/>
                </a:cubicBezTo>
              </a:path>
              <a:path w="4371" h="709">
                <a:moveTo>
                  <a:pt x="5100" y="7445"/>
                </a:moveTo>
                <a:cubicBezTo>
                  <a:pt x="5130" y="7469"/>
                  <a:pt x="5143" y="7492"/>
                  <a:pt x="5166" y="7522"/>
                </a:cubicBezTo>
                <a:cubicBezTo>
                  <a:pt x="5196" y="7464"/>
                  <a:pt x="5217" y="7402"/>
                  <a:pt x="5243" y="7342"/>
                </a:cubicBezTo>
                <a:cubicBezTo>
                  <a:pt x="5278" y="7261"/>
                  <a:pt x="5313" y="7178"/>
                  <a:pt x="5356" y="7100"/>
                </a:cubicBezTo>
                <a:cubicBezTo>
                  <a:pt x="5373" y="7069"/>
                  <a:pt x="5379" y="7055"/>
                  <a:pt x="5408" y="7046"/>
                </a:cubicBezTo>
                <a:cubicBezTo>
                  <a:pt x="5421" y="7100"/>
                  <a:pt x="5423" y="7157"/>
                  <a:pt x="5434" y="7212"/>
                </a:cubicBezTo>
                <a:cubicBezTo>
                  <a:pt x="5448" y="7280"/>
                  <a:pt x="5466" y="7347"/>
                  <a:pt x="5502" y="7407"/>
                </a:cubicBezTo>
                <a:cubicBezTo>
                  <a:pt x="5516" y="7430"/>
                  <a:pt x="5527" y="7433"/>
                  <a:pt x="5546" y="7448"/>
                </a:cubicBezTo>
              </a:path>
              <a:path w="4371" h="709">
                <a:moveTo>
                  <a:pt x="5325" y="7390"/>
                </a:moveTo>
                <a:cubicBezTo>
                  <a:pt x="5319" y="7389"/>
                  <a:pt x="5314" y="7389"/>
                  <a:pt x="5308" y="7388"/>
                </a:cubicBezTo>
                <a:cubicBezTo>
                  <a:pt x="5332" y="7352"/>
                  <a:pt x="5384" y="7333"/>
                  <a:pt x="5427" y="7318"/>
                </a:cubicBezTo>
                <a:cubicBezTo>
                  <a:pt x="5510" y="7288"/>
                  <a:pt x="5593" y="7265"/>
                  <a:pt x="5679" y="7245"/>
                </a:cubicBezTo>
                <a:cubicBezTo>
                  <a:pt x="5738" y="7231"/>
                  <a:pt x="5756" y="7227"/>
                  <a:pt x="5795" y="7220"/>
                </a:cubicBezTo>
              </a:path>
              <a:path w="4371" h="709">
                <a:moveTo>
                  <a:pt x="6033" y="7119"/>
                </a:moveTo>
                <a:cubicBezTo>
                  <a:pt x="5999" y="7105"/>
                  <a:pt x="5951" y="7122"/>
                  <a:pt x="5917" y="7143"/>
                </a:cubicBezTo>
                <a:cubicBezTo>
                  <a:pt x="5864" y="7176"/>
                  <a:pt x="5807" y="7231"/>
                  <a:pt x="5780" y="7288"/>
                </a:cubicBezTo>
                <a:cubicBezTo>
                  <a:pt x="5755" y="7341"/>
                  <a:pt x="5769" y="7391"/>
                  <a:pt x="5827" y="7410"/>
                </a:cubicBezTo>
                <a:cubicBezTo>
                  <a:pt x="5896" y="7432"/>
                  <a:pt x="5981" y="7429"/>
                  <a:pt x="6051" y="7418"/>
                </a:cubicBezTo>
                <a:cubicBezTo>
                  <a:pt x="6101" y="7407"/>
                  <a:pt x="6116" y="7404"/>
                  <a:pt x="6148" y="7393"/>
                </a:cubicBezTo>
              </a:path>
              <a:path w="4371" h="709">
                <a:moveTo>
                  <a:pt x="6358" y="7104"/>
                </a:moveTo>
                <a:cubicBezTo>
                  <a:pt x="6365" y="7090"/>
                  <a:pt x="6365" y="7084"/>
                  <a:pt x="6376" y="7085"/>
                </a:cubicBezTo>
                <a:cubicBezTo>
                  <a:pt x="6375" y="7121"/>
                  <a:pt x="6378" y="7158"/>
                  <a:pt x="6385" y="7193"/>
                </a:cubicBezTo>
                <a:cubicBezTo>
                  <a:pt x="6394" y="7239"/>
                  <a:pt x="6408" y="7288"/>
                  <a:pt x="6432" y="7329"/>
                </a:cubicBezTo>
                <a:cubicBezTo>
                  <a:pt x="6444" y="7345"/>
                  <a:pt x="6447" y="7349"/>
                  <a:pt x="6458" y="7355"/>
                </a:cubicBezTo>
              </a:path>
              <a:path w="4371" h="709">
                <a:moveTo>
                  <a:pt x="6390" y="7065"/>
                </a:moveTo>
                <a:cubicBezTo>
                  <a:pt x="6400" y="7024"/>
                  <a:pt x="6413" y="6957"/>
                  <a:pt x="6453" y="6931"/>
                </a:cubicBezTo>
                <a:cubicBezTo>
                  <a:pt x="6502" y="6899"/>
                  <a:pt x="6548" y="6940"/>
                  <a:pt x="6569" y="6983"/>
                </a:cubicBezTo>
                <a:cubicBezTo>
                  <a:pt x="6607" y="7063"/>
                  <a:pt x="6600" y="7158"/>
                  <a:pt x="6588" y="7242"/>
                </a:cubicBezTo>
                <a:cubicBezTo>
                  <a:pt x="6578" y="7310"/>
                  <a:pt x="6562" y="7394"/>
                  <a:pt x="6505" y="7440"/>
                </a:cubicBezTo>
                <a:cubicBezTo>
                  <a:pt x="6482" y="7451"/>
                  <a:pt x="6475" y="7455"/>
                  <a:pt x="6458" y="7453"/>
                </a:cubicBezTo>
                <a:cubicBezTo>
                  <a:pt x="6427" y="7426"/>
                  <a:pt x="6430" y="7400"/>
                  <a:pt x="6438" y="7356"/>
                </a:cubicBezTo>
                <a:cubicBezTo>
                  <a:pt x="6448" y="7317"/>
                  <a:pt x="6452" y="7303"/>
                  <a:pt x="6464" y="7279"/>
                </a:cubicBezTo>
              </a:path>
              <a:path w="4371" h="709">
                <a:moveTo>
                  <a:pt x="6825" y="7122"/>
                </a:moveTo>
                <a:cubicBezTo>
                  <a:pt x="6845" y="7092"/>
                  <a:pt x="6860" y="7046"/>
                  <a:pt x="6880" y="7020"/>
                </a:cubicBezTo>
                <a:cubicBezTo>
                  <a:pt x="6892" y="7004"/>
                  <a:pt x="6898" y="7008"/>
                  <a:pt x="6911" y="7008"/>
                </a:cubicBezTo>
                <a:cubicBezTo>
                  <a:pt x="6919" y="7039"/>
                  <a:pt x="6924" y="7065"/>
                  <a:pt x="6921" y="7099"/>
                </a:cubicBezTo>
                <a:cubicBezTo>
                  <a:pt x="6916" y="7165"/>
                  <a:pt x="6894" y="7228"/>
                  <a:pt x="6865" y="7287"/>
                </a:cubicBezTo>
                <a:cubicBezTo>
                  <a:pt x="6850" y="7318"/>
                  <a:pt x="6808" y="7366"/>
                  <a:pt x="6820" y="7404"/>
                </a:cubicBezTo>
                <a:cubicBezTo>
                  <a:pt x="6830" y="7433"/>
                  <a:pt x="6866" y="7438"/>
                  <a:pt x="6892" y="7440"/>
                </a:cubicBezTo>
                <a:cubicBezTo>
                  <a:pt x="6947" y="7445"/>
                  <a:pt x="7008" y="7442"/>
                  <a:pt x="7062" y="7432"/>
                </a:cubicBezTo>
                <a:cubicBezTo>
                  <a:pt x="7089" y="7427"/>
                  <a:pt x="7119" y="7425"/>
                  <a:pt x="7136" y="7401"/>
                </a:cubicBezTo>
                <a:cubicBezTo>
                  <a:pt x="7143" y="7386"/>
                  <a:pt x="7146" y="7381"/>
                  <a:pt x="7139" y="7369"/>
                </a:cubicBezTo>
              </a:path>
              <a:path w="4371" h="709">
                <a:moveTo>
                  <a:pt x="6927" y="7219"/>
                </a:moveTo>
                <a:cubicBezTo>
                  <a:pt x="6910" y="7199"/>
                  <a:pt x="6960" y="7199"/>
                  <a:pt x="6983" y="7195"/>
                </a:cubicBezTo>
                <a:cubicBezTo>
                  <a:pt x="7033" y="7187"/>
                  <a:pt x="7083" y="7185"/>
                  <a:pt x="7132" y="7179"/>
                </a:cubicBezTo>
                <a:cubicBezTo>
                  <a:pt x="7163" y="7175"/>
                  <a:pt x="7188" y="7172"/>
                  <a:pt x="7197" y="7144"/>
                </a:cubicBezTo>
              </a:path>
              <a:path w="4371" h="709">
                <a:moveTo>
                  <a:pt x="7519" y="6850"/>
                </a:moveTo>
                <a:cubicBezTo>
                  <a:pt x="7506" y="6904"/>
                  <a:pt x="7485" y="6958"/>
                  <a:pt x="7473" y="7012"/>
                </a:cubicBezTo>
                <a:cubicBezTo>
                  <a:pt x="7452" y="7106"/>
                  <a:pt x="7446" y="7200"/>
                  <a:pt x="7438" y="7295"/>
                </a:cubicBezTo>
                <a:cubicBezTo>
                  <a:pt x="7434" y="7346"/>
                  <a:pt x="7428" y="7388"/>
                  <a:pt x="7440" y="7438"/>
                </a:cubicBezTo>
              </a:path>
              <a:path w="4371" h="709">
                <a:moveTo>
                  <a:pt x="7381" y="6992"/>
                </a:moveTo>
                <a:cubicBezTo>
                  <a:pt x="7391" y="6954"/>
                  <a:pt x="7410" y="6915"/>
                  <a:pt x="7445" y="6892"/>
                </a:cubicBezTo>
                <a:cubicBezTo>
                  <a:pt x="7500" y="6856"/>
                  <a:pt x="7571" y="6839"/>
                  <a:pt x="7634" y="6831"/>
                </a:cubicBezTo>
                <a:cubicBezTo>
                  <a:pt x="7686" y="6824"/>
                  <a:pt x="7732" y="6823"/>
                  <a:pt x="7783" y="6834"/>
                </a:cubicBezTo>
              </a:path>
              <a:path w="4371" h="709">
                <a:moveTo>
                  <a:pt x="7498" y="7160"/>
                </a:moveTo>
                <a:cubicBezTo>
                  <a:pt x="7486" y="7174"/>
                  <a:pt x="7483" y="7177"/>
                  <a:pt x="7478" y="7187"/>
                </a:cubicBezTo>
                <a:cubicBezTo>
                  <a:pt x="7521" y="7185"/>
                  <a:pt x="7567" y="7173"/>
                  <a:pt x="7611" y="7162"/>
                </a:cubicBezTo>
                <a:cubicBezTo>
                  <a:pt x="7677" y="7146"/>
                  <a:pt x="7743" y="7133"/>
                  <a:pt x="7809" y="7120"/>
                </a:cubicBezTo>
              </a:path>
              <a:path w="4371" h="709">
                <a:moveTo>
                  <a:pt x="8141" y="6986"/>
                </a:moveTo>
                <a:cubicBezTo>
                  <a:pt x="8124" y="7026"/>
                  <a:pt x="8116" y="7061"/>
                  <a:pt x="8110" y="7105"/>
                </a:cubicBezTo>
                <a:cubicBezTo>
                  <a:pt x="8100" y="7183"/>
                  <a:pt x="8098" y="7261"/>
                  <a:pt x="8087" y="7339"/>
                </a:cubicBezTo>
                <a:cubicBezTo>
                  <a:pt x="8081" y="7383"/>
                  <a:pt x="8077" y="7427"/>
                  <a:pt x="8067" y="7470"/>
                </a:cubicBezTo>
              </a:path>
              <a:path w="4371" h="709">
                <a:moveTo>
                  <a:pt x="8075" y="7258"/>
                </a:moveTo>
                <a:cubicBezTo>
                  <a:pt x="8114" y="7228"/>
                  <a:pt x="8154" y="7211"/>
                  <a:pt x="8195" y="7185"/>
                </a:cubicBezTo>
                <a:cubicBezTo>
                  <a:pt x="8231" y="7162"/>
                  <a:pt x="8262" y="7136"/>
                  <a:pt x="8294" y="7108"/>
                </a:cubicBezTo>
              </a:path>
              <a:path w="4371" h="709">
                <a:moveTo>
                  <a:pt x="8337" y="7046"/>
                </a:moveTo>
                <a:cubicBezTo>
                  <a:pt x="8327" y="7087"/>
                  <a:pt x="8317" y="7133"/>
                  <a:pt x="8317" y="7176"/>
                </a:cubicBezTo>
                <a:cubicBezTo>
                  <a:pt x="8317" y="7230"/>
                  <a:pt x="8322" y="7294"/>
                  <a:pt x="8337" y="7346"/>
                </a:cubicBezTo>
                <a:cubicBezTo>
                  <a:pt x="8348" y="7371"/>
                  <a:pt x="8350" y="7378"/>
                  <a:pt x="8362" y="7390"/>
                </a:cubicBezTo>
              </a:path>
              <a:path w="4371" h="709">
                <a:moveTo>
                  <a:pt x="8821" y="6957"/>
                </a:moveTo>
                <a:cubicBezTo>
                  <a:pt x="8822" y="6936"/>
                  <a:pt x="8823" y="6930"/>
                  <a:pt x="8817" y="6917"/>
                </a:cubicBezTo>
                <a:cubicBezTo>
                  <a:pt x="8785" y="6905"/>
                  <a:pt x="8759" y="6923"/>
                  <a:pt x="8732" y="6945"/>
                </a:cubicBezTo>
                <a:cubicBezTo>
                  <a:pt x="8676" y="6990"/>
                  <a:pt x="8636" y="7051"/>
                  <a:pt x="8607" y="7116"/>
                </a:cubicBezTo>
                <a:cubicBezTo>
                  <a:pt x="8581" y="7176"/>
                  <a:pt x="8561" y="7241"/>
                  <a:pt x="8591" y="7303"/>
                </a:cubicBezTo>
                <a:cubicBezTo>
                  <a:pt x="8613" y="7349"/>
                  <a:pt x="8663" y="7363"/>
                  <a:pt x="8710" y="7357"/>
                </a:cubicBezTo>
                <a:cubicBezTo>
                  <a:pt x="8754" y="7351"/>
                  <a:pt x="8795" y="7328"/>
                  <a:pt x="8819" y="7291"/>
                </a:cubicBezTo>
                <a:cubicBezTo>
                  <a:pt x="8837" y="7264"/>
                  <a:pt x="8840" y="7232"/>
                  <a:pt x="8816" y="7207"/>
                </a:cubicBezTo>
                <a:cubicBezTo>
                  <a:pt x="8797" y="7188"/>
                  <a:pt x="8748" y="7177"/>
                  <a:pt x="8724" y="7193"/>
                </a:cubicBezTo>
                <a:cubicBezTo>
                  <a:pt x="8722" y="7196"/>
                  <a:pt x="8720" y="7199"/>
                  <a:pt x="8718" y="7202"/>
                </a:cubicBezTo>
                <a:cubicBezTo>
                  <a:pt x="8743" y="7223"/>
                  <a:pt x="8755" y="7230"/>
                  <a:pt x="8793" y="7232"/>
                </a:cubicBezTo>
                <a:cubicBezTo>
                  <a:pt x="8858" y="7236"/>
                  <a:pt x="8930" y="7227"/>
                  <a:pt x="8994" y="7216"/>
                </a:cubicBezTo>
                <a:cubicBezTo>
                  <a:pt x="9014" y="7213"/>
                  <a:pt x="9033" y="7207"/>
                  <a:pt x="9053" y="720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3454560" y="2523960"/>
            <a:ext cx="436320" cy="274680"/>
          </a:xfrm>
          <a:custGeom>
            <a:avLst/>
            <a:gdLst/>
            <a:ahLst/>
            <a:rect l="l" t="t" r="r" b="b"/>
            <a:pathLst>
              <a:path w="1213" h="763">
                <a:moveTo>
                  <a:pt x="9699" y="7201"/>
                </a:moveTo>
                <a:cubicBezTo>
                  <a:pt x="9675" y="7221"/>
                  <a:pt x="9683" y="7231"/>
                  <a:pt x="9679" y="7261"/>
                </a:cubicBezTo>
                <a:cubicBezTo>
                  <a:pt x="9673" y="7300"/>
                  <a:pt x="9667" y="7339"/>
                  <a:pt x="9658" y="7377"/>
                </a:cubicBezTo>
                <a:cubicBezTo>
                  <a:pt x="9653" y="7397"/>
                  <a:pt x="9659" y="7412"/>
                  <a:pt x="9646" y="7402"/>
                </a:cubicBezTo>
              </a:path>
              <a:path w="1213" h="763">
                <a:moveTo>
                  <a:pt x="9605" y="7104"/>
                </a:moveTo>
                <a:cubicBezTo>
                  <a:pt x="9599" y="7075"/>
                  <a:pt x="9593" y="7054"/>
                  <a:pt x="9601" y="7025"/>
                </a:cubicBezTo>
                <a:cubicBezTo>
                  <a:pt x="9609" y="6996"/>
                  <a:pt x="9654" y="7012"/>
                  <a:pt x="9677" y="7016"/>
                </a:cubicBezTo>
              </a:path>
              <a:path w="1213" h="763">
                <a:moveTo>
                  <a:pt x="9822" y="7226"/>
                </a:moveTo>
                <a:cubicBezTo>
                  <a:pt x="9798" y="7235"/>
                  <a:pt x="9774" y="7241"/>
                  <a:pt x="9751" y="7247"/>
                </a:cubicBezTo>
                <a:cubicBezTo>
                  <a:pt x="9747" y="7247"/>
                  <a:pt x="9744" y="7248"/>
                  <a:pt x="9740" y="7248"/>
                </a:cubicBezTo>
                <a:cubicBezTo>
                  <a:pt x="9775" y="7263"/>
                  <a:pt x="9807" y="7276"/>
                  <a:pt x="9836" y="7301"/>
                </a:cubicBezTo>
                <a:cubicBezTo>
                  <a:pt x="9867" y="7327"/>
                  <a:pt x="9888" y="7360"/>
                  <a:pt x="9883" y="7402"/>
                </a:cubicBezTo>
                <a:cubicBezTo>
                  <a:pt x="9879" y="7438"/>
                  <a:pt x="9850" y="7473"/>
                  <a:pt x="9817" y="7487"/>
                </a:cubicBezTo>
                <a:cubicBezTo>
                  <a:pt x="9787" y="7500"/>
                  <a:pt x="9770" y="7498"/>
                  <a:pt x="9753" y="7477"/>
                </a:cubicBezTo>
              </a:path>
              <a:path w="1213" h="763">
                <a:moveTo>
                  <a:pt x="10212" y="7299"/>
                </a:moveTo>
                <a:cubicBezTo>
                  <a:pt x="10211" y="7286"/>
                  <a:pt x="10210" y="7281"/>
                  <a:pt x="10207" y="7272"/>
                </a:cubicBezTo>
                <a:cubicBezTo>
                  <a:pt x="10181" y="7284"/>
                  <a:pt x="10173" y="7300"/>
                  <a:pt x="10158" y="7328"/>
                </a:cubicBezTo>
                <a:cubicBezTo>
                  <a:pt x="10143" y="7356"/>
                  <a:pt x="10127" y="7390"/>
                  <a:pt x="10127" y="7423"/>
                </a:cubicBezTo>
                <a:cubicBezTo>
                  <a:pt x="10127" y="7448"/>
                  <a:pt x="10140" y="7467"/>
                  <a:pt x="10164" y="7474"/>
                </a:cubicBezTo>
                <a:cubicBezTo>
                  <a:pt x="10185" y="7481"/>
                  <a:pt x="10206" y="7477"/>
                  <a:pt x="10226" y="7470"/>
                </a:cubicBezTo>
                <a:cubicBezTo>
                  <a:pt x="10237" y="7465"/>
                  <a:pt x="10242" y="7464"/>
                  <a:pt x="10251" y="7462"/>
                </a:cubicBezTo>
                <a:cubicBezTo>
                  <a:pt x="10259" y="7483"/>
                  <a:pt x="10257" y="7503"/>
                  <a:pt x="10254" y="7526"/>
                </a:cubicBezTo>
                <a:cubicBezTo>
                  <a:pt x="10248" y="7568"/>
                  <a:pt x="10234" y="7608"/>
                  <a:pt x="10212" y="7645"/>
                </a:cubicBezTo>
                <a:cubicBezTo>
                  <a:pt x="10188" y="7686"/>
                  <a:pt x="10152" y="7725"/>
                  <a:pt x="10110" y="7748"/>
                </a:cubicBezTo>
                <a:cubicBezTo>
                  <a:pt x="10085" y="7762"/>
                  <a:pt x="10033" y="7782"/>
                  <a:pt x="10005" y="7766"/>
                </a:cubicBezTo>
                <a:cubicBezTo>
                  <a:pt x="9981" y="7752"/>
                  <a:pt x="9983" y="7723"/>
                  <a:pt x="9980" y="7700"/>
                </a:cubicBezTo>
              </a:path>
              <a:path w="1213" h="763">
                <a:moveTo>
                  <a:pt x="10343" y="7323"/>
                </a:moveTo>
                <a:cubicBezTo>
                  <a:pt x="10348" y="7310"/>
                  <a:pt x="10349" y="7307"/>
                  <a:pt x="10349" y="7298"/>
                </a:cubicBezTo>
                <a:cubicBezTo>
                  <a:pt x="10328" y="7324"/>
                  <a:pt x="10316" y="7349"/>
                  <a:pt x="10306" y="7382"/>
                </a:cubicBezTo>
                <a:cubicBezTo>
                  <a:pt x="10298" y="7408"/>
                  <a:pt x="10286" y="7445"/>
                  <a:pt x="10302" y="7470"/>
                </a:cubicBezTo>
                <a:cubicBezTo>
                  <a:pt x="10315" y="7490"/>
                  <a:pt x="10343" y="7470"/>
                  <a:pt x="10355" y="7461"/>
                </a:cubicBezTo>
                <a:cubicBezTo>
                  <a:pt x="10379" y="7442"/>
                  <a:pt x="10395" y="7412"/>
                  <a:pt x="10401" y="7382"/>
                </a:cubicBezTo>
                <a:cubicBezTo>
                  <a:pt x="10407" y="7351"/>
                  <a:pt x="10403" y="7321"/>
                  <a:pt x="10386" y="7294"/>
                </a:cubicBezTo>
                <a:cubicBezTo>
                  <a:pt x="10375" y="7276"/>
                  <a:pt x="10362" y="7263"/>
                  <a:pt x="10342" y="7258"/>
                </a:cubicBezTo>
              </a:path>
              <a:path w="1213" h="763">
                <a:moveTo>
                  <a:pt x="10492" y="7316"/>
                </a:moveTo>
                <a:cubicBezTo>
                  <a:pt x="10510" y="7274"/>
                  <a:pt x="10467" y="7350"/>
                  <a:pt x="10463" y="7358"/>
                </a:cubicBezTo>
                <a:cubicBezTo>
                  <a:pt x="10448" y="7389"/>
                  <a:pt x="10427" y="7421"/>
                  <a:pt x="10417" y="7455"/>
                </a:cubicBezTo>
                <a:cubicBezTo>
                  <a:pt x="10414" y="7471"/>
                  <a:pt x="10413" y="7475"/>
                  <a:pt x="10415" y="7485"/>
                </a:cubicBezTo>
                <a:cubicBezTo>
                  <a:pt x="10445" y="7494"/>
                  <a:pt x="10462" y="7487"/>
                  <a:pt x="10490" y="7469"/>
                </a:cubicBezTo>
                <a:cubicBezTo>
                  <a:pt x="10515" y="7453"/>
                  <a:pt x="10545" y="7431"/>
                  <a:pt x="10560" y="7405"/>
                </a:cubicBezTo>
                <a:cubicBezTo>
                  <a:pt x="10573" y="7383"/>
                  <a:pt x="10572" y="7361"/>
                  <a:pt x="10565" y="7337"/>
                </a:cubicBezTo>
                <a:cubicBezTo>
                  <a:pt x="10559" y="7319"/>
                  <a:pt x="10548" y="7302"/>
                  <a:pt x="10537" y="7287"/>
                </a:cubicBezTo>
                <a:cubicBezTo>
                  <a:pt x="10533" y="7282"/>
                  <a:pt x="10529" y="7276"/>
                  <a:pt x="10525" y="7271"/>
                </a:cubicBezTo>
              </a:path>
              <a:path w="1213" h="763">
                <a:moveTo>
                  <a:pt x="10756" y="7293"/>
                </a:moveTo>
                <a:cubicBezTo>
                  <a:pt x="10741" y="7276"/>
                  <a:pt x="10746" y="7285"/>
                  <a:pt x="10724" y="7300"/>
                </a:cubicBezTo>
                <a:cubicBezTo>
                  <a:pt x="10697" y="7318"/>
                  <a:pt x="10678" y="7340"/>
                  <a:pt x="10664" y="7370"/>
                </a:cubicBezTo>
                <a:cubicBezTo>
                  <a:pt x="10658" y="7387"/>
                  <a:pt x="10655" y="7391"/>
                  <a:pt x="10658" y="7403"/>
                </a:cubicBezTo>
                <a:cubicBezTo>
                  <a:pt x="10696" y="7403"/>
                  <a:pt x="10713" y="7385"/>
                  <a:pt x="10737" y="7353"/>
                </a:cubicBezTo>
                <a:cubicBezTo>
                  <a:pt x="10775" y="7302"/>
                  <a:pt x="10794" y="7240"/>
                  <a:pt x="10799" y="7177"/>
                </a:cubicBezTo>
                <a:cubicBezTo>
                  <a:pt x="10801" y="7143"/>
                  <a:pt x="10799" y="7109"/>
                  <a:pt x="10792" y="7076"/>
                </a:cubicBezTo>
                <a:cubicBezTo>
                  <a:pt x="10766" y="7099"/>
                  <a:pt x="10766" y="7147"/>
                  <a:pt x="10763" y="7183"/>
                </a:cubicBezTo>
                <a:cubicBezTo>
                  <a:pt x="10755" y="7281"/>
                  <a:pt x="10761" y="7376"/>
                  <a:pt x="10777" y="7473"/>
                </a:cubicBezTo>
                <a:cubicBezTo>
                  <a:pt x="10783" y="7511"/>
                  <a:pt x="10792" y="7540"/>
                  <a:pt x="10807" y="757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4176720" y="2509920"/>
            <a:ext cx="520560" cy="271440"/>
          </a:xfrm>
          <a:custGeom>
            <a:avLst/>
            <a:gdLst/>
            <a:ahLst/>
            <a:rect l="l" t="t" r="r" b="b"/>
            <a:pathLst>
              <a:path w="1450" h="754">
                <a:moveTo>
                  <a:pt x="11615" y="7100"/>
                </a:moveTo>
                <a:cubicBezTo>
                  <a:pt x="11614" y="7101"/>
                  <a:pt x="11604" y="7099"/>
                  <a:pt x="11603" y="7147"/>
                </a:cubicBezTo>
                <a:cubicBezTo>
                  <a:pt x="11601" y="7219"/>
                  <a:pt x="11608" y="7291"/>
                  <a:pt x="11613" y="7363"/>
                </a:cubicBezTo>
                <a:cubicBezTo>
                  <a:pt x="11618" y="7431"/>
                  <a:pt x="11623" y="7499"/>
                  <a:pt x="11630" y="7567"/>
                </a:cubicBezTo>
                <a:cubicBezTo>
                  <a:pt x="11631" y="7573"/>
                  <a:pt x="11631" y="7579"/>
                  <a:pt x="11632" y="7585"/>
                </a:cubicBezTo>
                <a:cubicBezTo>
                  <a:pt x="11627" y="7541"/>
                  <a:pt x="11625" y="7498"/>
                  <a:pt x="11626" y="7453"/>
                </a:cubicBezTo>
                <a:cubicBezTo>
                  <a:pt x="11629" y="7360"/>
                  <a:pt x="11644" y="7270"/>
                  <a:pt x="11673" y="7181"/>
                </a:cubicBezTo>
                <a:cubicBezTo>
                  <a:pt x="11692" y="7123"/>
                  <a:pt x="11722" y="7031"/>
                  <a:pt x="11778" y="6996"/>
                </a:cubicBezTo>
                <a:cubicBezTo>
                  <a:pt x="11787" y="6994"/>
                  <a:pt x="11795" y="6992"/>
                  <a:pt x="11804" y="6990"/>
                </a:cubicBezTo>
                <a:cubicBezTo>
                  <a:pt x="11847" y="7028"/>
                  <a:pt x="11850" y="7070"/>
                  <a:pt x="11846" y="7130"/>
                </a:cubicBezTo>
                <a:cubicBezTo>
                  <a:pt x="11839" y="7230"/>
                  <a:pt x="11796" y="7345"/>
                  <a:pt x="11714" y="7408"/>
                </a:cubicBezTo>
                <a:cubicBezTo>
                  <a:pt x="11696" y="7418"/>
                  <a:pt x="11693" y="7421"/>
                  <a:pt x="11680" y="7422"/>
                </a:cubicBezTo>
                <a:cubicBezTo>
                  <a:pt x="11702" y="7393"/>
                  <a:pt x="11732" y="7384"/>
                  <a:pt x="11771" y="7386"/>
                </a:cubicBezTo>
                <a:cubicBezTo>
                  <a:pt x="11839" y="7390"/>
                  <a:pt x="11902" y="7442"/>
                  <a:pt x="11922" y="7507"/>
                </a:cubicBezTo>
                <a:cubicBezTo>
                  <a:pt x="11938" y="7561"/>
                  <a:pt x="11921" y="7618"/>
                  <a:pt x="11888" y="7661"/>
                </a:cubicBezTo>
                <a:cubicBezTo>
                  <a:pt x="11862" y="7695"/>
                  <a:pt x="11793" y="7740"/>
                  <a:pt x="11750" y="7715"/>
                </a:cubicBezTo>
                <a:cubicBezTo>
                  <a:pt x="11719" y="7697"/>
                  <a:pt x="11753" y="7648"/>
                  <a:pt x="11762" y="7630"/>
                </a:cubicBezTo>
              </a:path>
              <a:path w="1450" h="754">
                <a:moveTo>
                  <a:pt x="12167" y="7668"/>
                </a:moveTo>
                <a:cubicBezTo>
                  <a:pt x="12162" y="7642"/>
                  <a:pt x="12159" y="7620"/>
                  <a:pt x="12160" y="7592"/>
                </a:cubicBezTo>
                <a:cubicBezTo>
                  <a:pt x="12162" y="7527"/>
                  <a:pt x="12176" y="7459"/>
                  <a:pt x="12191" y="7395"/>
                </a:cubicBezTo>
                <a:cubicBezTo>
                  <a:pt x="12210" y="7316"/>
                  <a:pt x="12234" y="7238"/>
                  <a:pt x="12261" y="7161"/>
                </a:cubicBezTo>
                <a:cubicBezTo>
                  <a:pt x="12274" y="7125"/>
                  <a:pt x="12285" y="7104"/>
                  <a:pt x="12309" y="7075"/>
                </a:cubicBezTo>
                <a:cubicBezTo>
                  <a:pt x="12350" y="7086"/>
                  <a:pt x="12359" y="7127"/>
                  <a:pt x="12371" y="7168"/>
                </a:cubicBezTo>
                <a:cubicBezTo>
                  <a:pt x="12399" y="7265"/>
                  <a:pt x="12420" y="7367"/>
                  <a:pt x="12418" y="7468"/>
                </a:cubicBezTo>
                <a:cubicBezTo>
                  <a:pt x="12417" y="7505"/>
                  <a:pt x="12412" y="7527"/>
                  <a:pt x="12396" y="7558"/>
                </a:cubicBezTo>
              </a:path>
              <a:path w="1450" h="754">
                <a:moveTo>
                  <a:pt x="12223" y="7417"/>
                </a:moveTo>
                <a:cubicBezTo>
                  <a:pt x="12225" y="7394"/>
                  <a:pt x="12262" y="7391"/>
                  <a:pt x="12291" y="7386"/>
                </a:cubicBezTo>
                <a:cubicBezTo>
                  <a:pt x="12363" y="7375"/>
                  <a:pt x="12435" y="7362"/>
                  <a:pt x="12507" y="7351"/>
                </a:cubicBezTo>
                <a:cubicBezTo>
                  <a:pt x="12566" y="7342"/>
                  <a:pt x="12621" y="7331"/>
                  <a:pt x="12679" y="7317"/>
                </a:cubicBezTo>
              </a:path>
              <a:path w="1450" h="754">
                <a:moveTo>
                  <a:pt x="12818" y="7163"/>
                </a:moveTo>
                <a:cubicBezTo>
                  <a:pt x="12796" y="7193"/>
                  <a:pt x="12788" y="7232"/>
                  <a:pt x="12787" y="7270"/>
                </a:cubicBezTo>
                <a:cubicBezTo>
                  <a:pt x="12785" y="7333"/>
                  <a:pt x="12792" y="7396"/>
                  <a:pt x="12797" y="7459"/>
                </a:cubicBezTo>
                <a:cubicBezTo>
                  <a:pt x="12799" y="7484"/>
                  <a:pt x="12802" y="7508"/>
                  <a:pt x="12805" y="7533"/>
                </a:cubicBezTo>
                <a:cubicBezTo>
                  <a:pt x="12811" y="7492"/>
                  <a:pt x="12808" y="7464"/>
                  <a:pt x="12803" y="7422"/>
                </a:cubicBezTo>
              </a:path>
              <a:path w="1450" h="754">
                <a:moveTo>
                  <a:pt x="12761" y="7088"/>
                </a:moveTo>
                <a:cubicBezTo>
                  <a:pt x="12768" y="7043"/>
                  <a:pt x="12769" y="7024"/>
                  <a:pt x="12803" y="6995"/>
                </a:cubicBezTo>
                <a:cubicBezTo>
                  <a:pt x="12833" y="6969"/>
                  <a:pt x="12875" y="6964"/>
                  <a:pt x="12912" y="6981"/>
                </a:cubicBezTo>
                <a:cubicBezTo>
                  <a:pt x="12968" y="7007"/>
                  <a:pt x="13002" y="7072"/>
                  <a:pt x="13020" y="7127"/>
                </a:cubicBezTo>
                <a:cubicBezTo>
                  <a:pt x="13047" y="7210"/>
                  <a:pt x="13056" y="7301"/>
                  <a:pt x="13044" y="7388"/>
                </a:cubicBezTo>
                <a:cubicBezTo>
                  <a:pt x="13032" y="7477"/>
                  <a:pt x="12985" y="7569"/>
                  <a:pt x="12896" y="7601"/>
                </a:cubicBezTo>
                <a:cubicBezTo>
                  <a:pt x="12846" y="7619"/>
                  <a:pt x="12787" y="7613"/>
                  <a:pt x="12756" y="7566"/>
                </a:cubicBezTo>
                <a:cubicBezTo>
                  <a:pt x="12733" y="7532"/>
                  <a:pt x="12744" y="7499"/>
                  <a:pt x="12749" y="746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4984920" y="2340000"/>
            <a:ext cx="869760" cy="503280"/>
          </a:xfrm>
          <a:custGeom>
            <a:avLst/>
            <a:gdLst/>
            <a:ahLst/>
            <a:rect l="l" t="t" r="r" b="b"/>
            <a:pathLst>
              <a:path w="2416" h="1402">
                <a:moveTo>
                  <a:pt x="13876" y="7367"/>
                </a:moveTo>
                <a:cubicBezTo>
                  <a:pt x="13870" y="7363"/>
                  <a:pt x="13865" y="7359"/>
                  <a:pt x="13859" y="7355"/>
                </a:cubicBezTo>
                <a:cubicBezTo>
                  <a:pt x="13853" y="7386"/>
                  <a:pt x="13854" y="7415"/>
                  <a:pt x="13853" y="7446"/>
                </a:cubicBezTo>
                <a:cubicBezTo>
                  <a:pt x="13852" y="7484"/>
                  <a:pt x="13850" y="7521"/>
                  <a:pt x="13850" y="7559"/>
                </a:cubicBezTo>
                <a:cubicBezTo>
                  <a:pt x="13850" y="7577"/>
                  <a:pt x="13857" y="7547"/>
                  <a:pt x="13861" y="7530"/>
                </a:cubicBezTo>
              </a:path>
              <a:path w="2416" h="1402">
                <a:moveTo>
                  <a:pt x="13864" y="7227"/>
                </a:moveTo>
                <a:cubicBezTo>
                  <a:pt x="13862" y="7202"/>
                  <a:pt x="13856" y="7189"/>
                  <a:pt x="13887" y="7178"/>
                </a:cubicBezTo>
                <a:cubicBezTo>
                  <a:pt x="13929" y="7163"/>
                  <a:pt x="13982" y="7167"/>
                  <a:pt x="14025" y="7171"/>
                </a:cubicBezTo>
                <a:cubicBezTo>
                  <a:pt x="14064" y="7174"/>
                  <a:pt x="14116" y="7182"/>
                  <a:pt x="14137" y="7221"/>
                </a:cubicBezTo>
                <a:cubicBezTo>
                  <a:pt x="14159" y="7263"/>
                  <a:pt x="14124" y="7295"/>
                  <a:pt x="14103" y="7325"/>
                </a:cubicBezTo>
                <a:cubicBezTo>
                  <a:pt x="14081" y="7358"/>
                  <a:pt x="14055" y="7375"/>
                  <a:pt x="14028" y="7402"/>
                </a:cubicBezTo>
                <a:cubicBezTo>
                  <a:pt x="14026" y="7406"/>
                  <a:pt x="14023" y="7409"/>
                  <a:pt x="14021" y="7413"/>
                </a:cubicBezTo>
                <a:cubicBezTo>
                  <a:pt x="14055" y="7418"/>
                  <a:pt x="14086" y="7422"/>
                  <a:pt x="14116" y="7440"/>
                </a:cubicBezTo>
                <a:cubicBezTo>
                  <a:pt x="14149" y="7460"/>
                  <a:pt x="14170" y="7490"/>
                  <a:pt x="14167" y="7529"/>
                </a:cubicBezTo>
                <a:cubicBezTo>
                  <a:pt x="14164" y="7569"/>
                  <a:pt x="14141" y="7600"/>
                  <a:pt x="14108" y="7621"/>
                </a:cubicBezTo>
                <a:cubicBezTo>
                  <a:pt x="14086" y="7635"/>
                  <a:pt x="14049" y="7634"/>
                  <a:pt x="14038" y="7606"/>
                </a:cubicBezTo>
                <a:cubicBezTo>
                  <a:pt x="14035" y="7584"/>
                  <a:pt x="14034" y="7575"/>
                  <a:pt x="14039" y="7560"/>
                </a:cubicBezTo>
              </a:path>
              <a:path w="2416" h="1402">
                <a:moveTo>
                  <a:pt x="14987" y="7343"/>
                </a:moveTo>
                <a:cubicBezTo>
                  <a:pt x="15015" y="7328"/>
                  <a:pt x="15018" y="7350"/>
                  <a:pt x="15005" y="7307"/>
                </a:cubicBezTo>
                <a:cubicBezTo>
                  <a:pt x="15003" y="7300"/>
                  <a:pt x="15001" y="7293"/>
                  <a:pt x="14999" y="7286"/>
                </a:cubicBezTo>
                <a:cubicBezTo>
                  <a:pt x="14984" y="7255"/>
                  <a:pt x="14995" y="7301"/>
                  <a:pt x="14995" y="7317"/>
                </a:cubicBezTo>
                <a:cubicBezTo>
                  <a:pt x="14995" y="7386"/>
                  <a:pt x="14967" y="7513"/>
                  <a:pt x="14993" y="7577"/>
                </a:cubicBezTo>
                <a:cubicBezTo>
                  <a:pt x="14996" y="7578"/>
                  <a:pt x="15000" y="7580"/>
                  <a:pt x="15003" y="7581"/>
                </a:cubicBezTo>
                <a:cubicBezTo>
                  <a:pt x="15011" y="7556"/>
                  <a:pt x="15016" y="7534"/>
                  <a:pt x="15016" y="7507"/>
                </a:cubicBezTo>
                <a:cubicBezTo>
                  <a:pt x="15017" y="7451"/>
                  <a:pt x="15009" y="7395"/>
                  <a:pt x="15003" y="7340"/>
                </a:cubicBezTo>
                <a:cubicBezTo>
                  <a:pt x="14995" y="7265"/>
                  <a:pt x="14989" y="7190"/>
                  <a:pt x="14985" y="7114"/>
                </a:cubicBezTo>
                <a:cubicBezTo>
                  <a:pt x="14982" y="7064"/>
                  <a:pt x="14980" y="7013"/>
                  <a:pt x="14978" y="6963"/>
                </a:cubicBezTo>
                <a:cubicBezTo>
                  <a:pt x="14978" y="6959"/>
                  <a:pt x="14977" y="6955"/>
                  <a:pt x="14977" y="6951"/>
                </a:cubicBezTo>
                <a:cubicBezTo>
                  <a:pt x="14970" y="6997"/>
                  <a:pt x="14967" y="7043"/>
                  <a:pt x="14965" y="7089"/>
                </a:cubicBezTo>
                <a:cubicBezTo>
                  <a:pt x="14962" y="7171"/>
                  <a:pt x="14959" y="7255"/>
                  <a:pt x="14962" y="7337"/>
                </a:cubicBezTo>
                <a:cubicBezTo>
                  <a:pt x="14964" y="7389"/>
                  <a:pt x="14967" y="7442"/>
                  <a:pt x="14973" y="7494"/>
                </a:cubicBezTo>
                <a:cubicBezTo>
                  <a:pt x="14974" y="7499"/>
                  <a:pt x="14974" y="7503"/>
                  <a:pt x="14975" y="7508"/>
                </a:cubicBezTo>
                <a:cubicBezTo>
                  <a:pt x="14987" y="7481"/>
                  <a:pt x="14993" y="7450"/>
                  <a:pt x="15005" y="7422"/>
                </a:cubicBezTo>
                <a:cubicBezTo>
                  <a:pt x="15031" y="7359"/>
                  <a:pt x="15073" y="7280"/>
                  <a:pt x="15144" y="7259"/>
                </a:cubicBezTo>
                <a:cubicBezTo>
                  <a:pt x="15184" y="7247"/>
                  <a:pt x="15217" y="7278"/>
                  <a:pt x="15234" y="7311"/>
                </a:cubicBezTo>
                <a:cubicBezTo>
                  <a:pt x="15260" y="7361"/>
                  <a:pt x="15246" y="7418"/>
                  <a:pt x="15203" y="7453"/>
                </a:cubicBezTo>
                <a:cubicBezTo>
                  <a:pt x="15150" y="7496"/>
                  <a:pt x="15075" y="7513"/>
                  <a:pt x="15012" y="7492"/>
                </a:cubicBezTo>
                <a:cubicBezTo>
                  <a:pt x="15021" y="7457"/>
                  <a:pt x="15027" y="7444"/>
                  <a:pt x="15062" y="7418"/>
                </a:cubicBezTo>
                <a:cubicBezTo>
                  <a:pt x="15073" y="7410"/>
                  <a:pt x="15085" y="7403"/>
                  <a:pt x="15096" y="7395"/>
                </a:cubicBezTo>
              </a:path>
              <a:path w="2416" h="1402">
                <a:moveTo>
                  <a:pt x="15343" y="7297"/>
                </a:moveTo>
                <a:cubicBezTo>
                  <a:pt x="15347" y="7293"/>
                  <a:pt x="15350" y="7288"/>
                  <a:pt x="15354" y="7284"/>
                </a:cubicBezTo>
                <a:cubicBezTo>
                  <a:pt x="15327" y="7274"/>
                  <a:pt x="15314" y="7292"/>
                  <a:pt x="15290" y="7313"/>
                </a:cubicBezTo>
                <a:cubicBezTo>
                  <a:pt x="15255" y="7344"/>
                  <a:pt x="15227" y="7386"/>
                  <a:pt x="15221" y="7433"/>
                </a:cubicBezTo>
                <a:cubicBezTo>
                  <a:pt x="15214" y="7483"/>
                  <a:pt x="15245" y="7508"/>
                  <a:pt x="15290" y="7517"/>
                </a:cubicBezTo>
                <a:cubicBezTo>
                  <a:pt x="15346" y="7528"/>
                  <a:pt x="15403" y="7507"/>
                  <a:pt x="15451" y="7480"/>
                </a:cubicBezTo>
                <a:cubicBezTo>
                  <a:pt x="15487" y="7460"/>
                  <a:pt x="15529" y="7431"/>
                  <a:pt x="15536" y="7387"/>
                </a:cubicBezTo>
                <a:cubicBezTo>
                  <a:pt x="15541" y="7355"/>
                  <a:pt x="15510" y="7328"/>
                  <a:pt x="15486" y="7313"/>
                </a:cubicBezTo>
                <a:cubicBezTo>
                  <a:pt x="15460" y="7297"/>
                  <a:pt x="15431" y="7288"/>
                  <a:pt x="15403" y="7278"/>
                </a:cubicBezTo>
              </a:path>
              <a:path w="2416" h="1402">
                <a:moveTo>
                  <a:pt x="15620" y="7362"/>
                </a:moveTo>
                <a:cubicBezTo>
                  <a:pt x="15611" y="7379"/>
                  <a:pt x="15610" y="7379"/>
                  <a:pt x="15598" y="7394"/>
                </a:cubicBezTo>
                <a:cubicBezTo>
                  <a:pt x="15574" y="7425"/>
                  <a:pt x="15558" y="7470"/>
                  <a:pt x="15562" y="7509"/>
                </a:cubicBezTo>
                <a:cubicBezTo>
                  <a:pt x="15565" y="7540"/>
                  <a:pt x="15584" y="7555"/>
                  <a:pt x="15614" y="7555"/>
                </a:cubicBezTo>
                <a:cubicBezTo>
                  <a:pt x="15657" y="7555"/>
                  <a:pt x="15691" y="7520"/>
                  <a:pt x="15713" y="7487"/>
                </a:cubicBezTo>
                <a:cubicBezTo>
                  <a:pt x="15740" y="7446"/>
                  <a:pt x="15740" y="7401"/>
                  <a:pt x="15720" y="7357"/>
                </a:cubicBezTo>
                <a:cubicBezTo>
                  <a:pt x="15710" y="7336"/>
                  <a:pt x="15695" y="7323"/>
                  <a:pt x="15698" y="7299"/>
                </a:cubicBezTo>
                <a:cubicBezTo>
                  <a:pt x="15701" y="7281"/>
                  <a:pt x="15703" y="7263"/>
                  <a:pt x="15706" y="7244"/>
                </a:cubicBezTo>
                <a:cubicBezTo>
                  <a:pt x="15711" y="7205"/>
                  <a:pt x="15706" y="7168"/>
                  <a:pt x="15698" y="7129"/>
                </a:cubicBezTo>
                <a:cubicBezTo>
                  <a:pt x="15695" y="7113"/>
                  <a:pt x="15690" y="7096"/>
                  <a:pt x="15690" y="7080"/>
                </a:cubicBezTo>
                <a:cubicBezTo>
                  <a:pt x="15690" y="7057"/>
                  <a:pt x="15698" y="7040"/>
                  <a:pt x="15693" y="7017"/>
                </a:cubicBezTo>
                <a:cubicBezTo>
                  <a:pt x="15689" y="7004"/>
                  <a:pt x="15688" y="7000"/>
                  <a:pt x="15683" y="6992"/>
                </a:cubicBezTo>
                <a:cubicBezTo>
                  <a:pt x="15684" y="7017"/>
                  <a:pt x="15686" y="7040"/>
                  <a:pt x="15689" y="7065"/>
                </a:cubicBezTo>
                <a:cubicBezTo>
                  <a:pt x="15694" y="7118"/>
                  <a:pt x="15699" y="7168"/>
                  <a:pt x="15711" y="7220"/>
                </a:cubicBezTo>
                <a:cubicBezTo>
                  <a:pt x="15733" y="7314"/>
                  <a:pt x="15767" y="7406"/>
                  <a:pt x="15812" y="7491"/>
                </a:cubicBezTo>
                <a:cubicBezTo>
                  <a:pt x="15835" y="7534"/>
                  <a:pt x="15858" y="7568"/>
                  <a:pt x="15893" y="7600"/>
                </a:cubicBezTo>
                <a:cubicBezTo>
                  <a:pt x="15903" y="7571"/>
                  <a:pt x="15902" y="7571"/>
                  <a:pt x="15887" y="7540"/>
                </a:cubicBezTo>
              </a:path>
              <a:path w="2416" h="1402">
                <a:moveTo>
                  <a:pt x="15484" y="7334"/>
                </a:moveTo>
                <a:cubicBezTo>
                  <a:pt x="15487" y="7353"/>
                  <a:pt x="15488" y="7374"/>
                  <a:pt x="15492" y="7392"/>
                </a:cubicBezTo>
                <a:cubicBezTo>
                  <a:pt x="15501" y="7433"/>
                  <a:pt x="15509" y="7473"/>
                  <a:pt x="15511" y="7515"/>
                </a:cubicBezTo>
                <a:cubicBezTo>
                  <a:pt x="15512" y="7542"/>
                  <a:pt x="15511" y="7564"/>
                  <a:pt x="15521" y="7589"/>
                </a:cubicBezTo>
              </a:path>
              <a:path w="2416" h="1402">
                <a:moveTo>
                  <a:pt x="14651" y="7888"/>
                </a:moveTo>
                <a:cubicBezTo>
                  <a:pt x="14704" y="7904"/>
                  <a:pt x="14760" y="7894"/>
                  <a:pt x="14816" y="7888"/>
                </a:cubicBezTo>
                <a:cubicBezTo>
                  <a:pt x="14970" y="7872"/>
                  <a:pt x="15125" y="7857"/>
                  <a:pt x="15280" y="7847"/>
                </a:cubicBezTo>
                <a:cubicBezTo>
                  <a:pt x="15440" y="7837"/>
                  <a:pt x="15610" y="7820"/>
                  <a:pt x="15769" y="7847"/>
                </a:cubicBezTo>
                <a:cubicBezTo>
                  <a:pt x="15781" y="7850"/>
                  <a:pt x="15792" y="7854"/>
                  <a:pt x="15804" y="7857"/>
                </a:cubicBezTo>
              </a:path>
              <a:path w="2416" h="1402">
                <a:moveTo>
                  <a:pt x="15386" y="6565"/>
                </a:moveTo>
                <a:cubicBezTo>
                  <a:pt x="15375" y="6565"/>
                  <a:pt x="15366" y="6564"/>
                  <a:pt x="15355" y="6563"/>
                </a:cubicBezTo>
                <a:cubicBezTo>
                  <a:pt x="15397" y="6563"/>
                  <a:pt x="15438" y="6556"/>
                  <a:pt x="15480" y="6552"/>
                </a:cubicBezTo>
                <a:cubicBezTo>
                  <a:pt x="15574" y="6543"/>
                  <a:pt x="15669" y="6535"/>
                  <a:pt x="15764" y="6529"/>
                </a:cubicBezTo>
                <a:cubicBezTo>
                  <a:pt x="15888" y="6521"/>
                  <a:pt x="16012" y="6516"/>
                  <a:pt x="16136" y="6506"/>
                </a:cubicBezTo>
                <a:cubicBezTo>
                  <a:pt x="16161" y="6504"/>
                  <a:pt x="16185" y="6500"/>
                  <a:pt x="16209" y="6503"/>
                </a:cubicBezTo>
                <a:cubicBezTo>
                  <a:pt x="16230" y="6505"/>
                  <a:pt x="16241" y="6505"/>
                  <a:pt x="16262" y="649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7718400" y="2316240"/>
            <a:ext cx="550800" cy="19080"/>
          </a:xfrm>
          <a:custGeom>
            <a:avLst/>
            <a:gdLst/>
            <a:ahLst/>
            <a:rect l="l" t="t" r="r" b="b"/>
            <a:pathLst>
              <a:path w="1530" h="51">
                <a:moveTo>
                  <a:pt x="21489" y="6443"/>
                </a:moveTo>
                <a:cubicBezTo>
                  <a:pt x="21473" y="6444"/>
                  <a:pt x="21458" y="6444"/>
                  <a:pt x="21442" y="6446"/>
                </a:cubicBezTo>
                <a:cubicBezTo>
                  <a:pt x="21481" y="6454"/>
                  <a:pt x="21516" y="6456"/>
                  <a:pt x="21557" y="6457"/>
                </a:cubicBezTo>
                <a:cubicBezTo>
                  <a:pt x="21681" y="6460"/>
                  <a:pt x="21805" y="6462"/>
                  <a:pt x="21929" y="6465"/>
                </a:cubicBezTo>
                <a:cubicBezTo>
                  <a:pt x="22094" y="6470"/>
                  <a:pt x="22259" y="6471"/>
                  <a:pt x="22424" y="6477"/>
                </a:cubicBezTo>
                <a:cubicBezTo>
                  <a:pt x="22583" y="6482"/>
                  <a:pt x="22742" y="6491"/>
                  <a:pt x="22900" y="6469"/>
                </a:cubicBezTo>
                <a:cubicBezTo>
                  <a:pt x="22933" y="6465"/>
                  <a:pt x="22944" y="6457"/>
                  <a:pt x="22971" y="6445"/>
                </a:cubicBezTo>
                <a:cubicBezTo>
                  <a:pt x="22951" y="6440"/>
                  <a:pt x="22934" y="6436"/>
                  <a:pt x="22907" y="6435"/>
                </a:cubicBezTo>
                <a:cubicBezTo>
                  <a:pt x="22896" y="6435"/>
                  <a:pt x="22885" y="6434"/>
                  <a:pt x="22874" y="643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376200" y="2746440"/>
            <a:ext cx="7902720" cy="2251080"/>
          </a:xfrm>
          <a:custGeom>
            <a:avLst/>
            <a:gdLst/>
            <a:ahLst/>
            <a:rect l="l" t="t" r="r" b="b"/>
            <a:pathLst>
              <a:path w="21950" h="6256">
                <a:moveTo>
                  <a:pt x="4730" y="7930"/>
                </a:moveTo>
                <a:cubicBezTo>
                  <a:pt x="4708" y="7932"/>
                  <a:pt x="4686" y="7933"/>
                  <a:pt x="4666" y="7934"/>
                </a:cubicBezTo>
                <a:cubicBezTo>
                  <a:pt x="4704" y="7922"/>
                  <a:pt x="4743" y="7907"/>
                  <a:pt x="4785" y="7898"/>
                </a:cubicBezTo>
                <a:cubicBezTo>
                  <a:pt x="5178" y="7816"/>
                  <a:pt x="5585" y="7785"/>
                  <a:pt x="5984" y="7746"/>
                </a:cubicBezTo>
                <a:cubicBezTo>
                  <a:pt x="7044" y="7641"/>
                  <a:pt x="8060" y="7688"/>
                  <a:pt x="9117" y="7706"/>
                </a:cubicBezTo>
                <a:cubicBezTo>
                  <a:pt x="9132" y="7706"/>
                  <a:pt x="9232" y="7713"/>
                  <a:pt x="9235" y="7680"/>
                </a:cubicBezTo>
                <a:cubicBezTo>
                  <a:pt x="9239" y="7637"/>
                  <a:pt x="9194" y="7654"/>
                  <a:pt x="9176" y="7628"/>
                </a:cubicBezTo>
              </a:path>
              <a:path w="21950" h="6256">
                <a:moveTo>
                  <a:pt x="1177" y="13868"/>
                </a:moveTo>
                <a:cubicBezTo>
                  <a:pt x="1249" y="13843"/>
                  <a:pt x="1062" y="13865"/>
                  <a:pt x="1138" y="13856"/>
                </a:cubicBezTo>
                <a:cubicBezTo>
                  <a:pt x="3941" y="13510"/>
                  <a:pt x="6871" y="13776"/>
                  <a:pt x="9687" y="13760"/>
                </a:cubicBezTo>
                <a:cubicBezTo>
                  <a:pt x="11462" y="13750"/>
                  <a:pt x="13235" y="13727"/>
                  <a:pt x="15009" y="13788"/>
                </a:cubicBezTo>
              </a:path>
              <a:path w="21950" h="6256">
                <a:moveTo>
                  <a:pt x="15476" y="11875"/>
                </a:moveTo>
                <a:cubicBezTo>
                  <a:pt x="15508" y="11870"/>
                  <a:pt x="15540" y="11858"/>
                  <a:pt x="15573" y="11854"/>
                </a:cubicBezTo>
                <a:cubicBezTo>
                  <a:pt x="15937" y="11808"/>
                  <a:pt x="16319" y="11841"/>
                  <a:pt x="16685" y="11836"/>
                </a:cubicBezTo>
                <a:cubicBezTo>
                  <a:pt x="18121" y="11818"/>
                  <a:pt x="19557" y="11916"/>
                  <a:pt x="20992" y="11949"/>
                </a:cubicBezTo>
                <a:cubicBezTo>
                  <a:pt x="21418" y="11959"/>
                  <a:pt x="22613" y="11721"/>
                  <a:pt x="22982" y="11944"/>
                </a:cubicBezTo>
                <a:cubicBezTo>
                  <a:pt x="23023" y="11969"/>
                  <a:pt x="22904" y="11961"/>
                  <a:pt x="22901" y="1196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2065320" y="2889360"/>
            <a:ext cx="444600" cy="542880"/>
          </a:xfrm>
          <a:custGeom>
            <a:avLst/>
            <a:gdLst/>
            <a:ahLst/>
            <a:rect l="l" t="t" r="r" b="b"/>
            <a:pathLst>
              <a:path w="1236" h="1505">
                <a:moveTo>
                  <a:pt x="5888" y="8027"/>
                </a:moveTo>
                <a:cubicBezTo>
                  <a:pt x="5906" y="8078"/>
                  <a:pt x="5904" y="8134"/>
                  <a:pt x="5912" y="8188"/>
                </a:cubicBezTo>
                <a:cubicBezTo>
                  <a:pt x="5925" y="8278"/>
                  <a:pt x="5936" y="8369"/>
                  <a:pt x="5947" y="8460"/>
                </a:cubicBezTo>
                <a:cubicBezTo>
                  <a:pt x="5956" y="8537"/>
                  <a:pt x="5970" y="8619"/>
                  <a:pt x="5968" y="8697"/>
                </a:cubicBezTo>
                <a:cubicBezTo>
                  <a:pt x="5967" y="8701"/>
                  <a:pt x="5967" y="8705"/>
                  <a:pt x="5966" y="8709"/>
                </a:cubicBezTo>
                <a:cubicBezTo>
                  <a:pt x="5936" y="8694"/>
                  <a:pt x="5920" y="8667"/>
                  <a:pt x="5896" y="8642"/>
                </a:cubicBezTo>
                <a:cubicBezTo>
                  <a:pt x="5860" y="8605"/>
                  <a:pt x="5797" y="8524"/>
                  <a:pt x="5745" y="8509"/>
                </a:cubicBezTo>
                <a:cubicBezTo>
                  <a:pt x="5742" y="8510"/>
                  <a:pt x="5738" y="8511"/>
                  <a:pt x="5735" y="8512"/>
                </a:cubicBezTo>
                <a:cubicBezTo>
                  <a:pt x="5756" y="8541"/>
                  <a:pt x="5775" y="8573"/>
                  <a:pt x="5796" y="8602"/>
                </a:cubicBezTo>
                <a:cubicBezTo>
                  <a:pt x="5822" y="8638"/>
                  <a:pt x="5849" y="8684"/>
                  <a:pt x="5886" y="8710"/>
                </a:cubicBezTo>
                <a:cubicBezTo>
                  <a:pt x="5912" y="8728"/>
                  <a:pt x="5939" y="8685"/>
                  <a:pt x="5956" y="8672"/>
                </a:cubicBezTo>
                <a:cubicBezTo>
                  <a:pt x="6009" y="8630"/>
                  <a:pt x="6061" y="8597"/>
                  <a:pt x="6122" y="8566"/>
                </a:cubicBezTo>
                <a:cubicBezTo>
                  <a:pt x="6149" y="8552"/>
                  <a:pt x="6175" y="8542"/>
                  <a:pt x="6203" y="8531"/>
                </a:cubicBezTo>
              </a:path>
              <a:path w="1236" h="1505">
                <a:moveTo>
                  <a:pt x="5857" y="9000"/>
                </a:moveTo>
                <a:cubicBezTo>
                  <a:pt x="5833" y="8963"/>
                  <a:pt x="5831" y="8992"/>
                  <a:pt x="5828" y="9026"/>
                </a:cubicBezTo>
                <a:cubicBezTo>
                  <a:pt x="5823" y="9090"/>
                  <a:pt x="5820" y="9156"/>
                  <a:pt x="5819" y="9221"/>
                </a:cubicBezTo>
                <a:cubicBezTo>
                  <a:pt x="5818" y="9285"/>
                  <a:pt x="5820" y="9351"/>
                  <a:pt x="5827" y="9415"/>
                </a:cubicBezTo>
                <a:cubicBezTo>
                  <a:pt x="5830" y="9438"/>
                  <a:pt x="5831" y="9443"/>
                  <a:pt x="5833" y="9457"/>
                </a:cubicBezTo>
                <a:cubicBezTo>
                  <a:pt x="5838" y="9422"/>
                  <a:pt x="5835" y="9385"/>
                  <a:pt x="5835" y="9349"/>
                </a:cubicBezTo>
                <a:cubicBezTo>
                  <a:pt x="5836" y="9271"/>
                  <a:pt x="5840" y="9193"/>
                  <a:pt x="5855" y="9116"/>
                </a:cubicBezTo>
                <a:cubicBezTo>
                  <a:pt x="5864" y="9071"/>
                  <a:pt x="5877" y="8989"/>
                  <a:pt x="5919" y="8959"/>
                </a:cubicBezTo>
                <a:cubicBezTo>
                  <a:pt x="5926" y="8957"/>
                  <a:pt x="5934" y="8955"/>
                  <a:pt x="5941" y="8953"/>
                </a:cubicBezTo>
                <a:cubicBezTo>
                  <a:pt x="5977" y="8988"/>
                  <a:pt x="5991" y="9025"/>
                  <a:pt x="5997" y="9077"/>
                </a:cubicBezTo>
                <a:cubicBezTo>
                  <a:pt x="6004" y="9135"/>
                  <a:pt x="5996" y="9199"/>
                  <a:pt x="5957" y="9245"/>
                </a:cubicBezTo>
                <a:cubicBezTo>
                  <a:pt x="5934" y="9272"/>
                  <a:pt x="5885" y="9292"/>
                  <a:pt x="5850" y="9276"/>
                </a:cubicBezTo>
                <a:cubicBezTo>
                  <a:pt x="5810" y="9257"/>
                  <a:pt x="5825" y="9215"/>
                  <a:pt x="5833" y="9184"/>
                </a:cubicBezTo>
              </a:path>
              <a:path w="1236" h="1505">
                <a:moveTo>
                  <a:pt x="5878" y="8891"/>
                </a:moveTo>
                <a:cubicBezTo>
                  <a:pt x="5874" y="8875"/>
                  <a:pt x="5873" y="8871"/>
                  <a:pt x="5872" y="8861"/>
                </a:cubicBezTo>
                <a:cubicBezTo>
                  <a:pt x="5861" y="8891"/>
                  <a:pt x="5867" y="8901"/>
                  <a:pt x="5867" y="8933"/>
                </a:cubicBezTo>
                <a:cubicBezTo>
                  <a:pt x="5868" y="9021"/>
                  <a:pt x="5874" y="9110"/>
                  <a:pt x="5878" y="9198"/>
                </a:cubicBezTo>
                <a:cubicBezTo>
                  <a:pt x="5881" y="9276"/>
                  <a:pt x="5884" y="9353"/>
                  <a:pt x="5887" y="9431"/>
                </a:cubicBezTo>
                <a:cubicBezTo>
                  <a:pt x="5887" y="9439"/>
                  <a:pt x="5888" y="9447"/>
                  <a:pt x="5888" y="9455"/>
                </a:cubicBezTo>
                <a:cubicBezTo>
                  <a:pt x="5890" y="9382"/>
                  <a:pt x="5905" y="9307"/>
                  <a:pt x="5935" y="9240"/>
                </a:cubicBezTo>
                <a:cubicBezTo>
                  <a:pt x="5952" y="9203"/>
                  <a:pt x="5981" y="9138"/>
                  <a:pt x="6031" y="9138"/>
                </a:cubicBezTo>
                <a:cubicBezTo>
                  <a:pt x="6084" y="9138"/>
                  <a:pt x="6113" y="9215"/>
                  <a:pt x="6124" y="9256"/>
                </a:cubicBezTo>
                <a:cubicBezTo>
                  <a:pt x="6145" y="9334"/>
                  <a:pt x="6141" y="9435"/>
                  <a:pt x="6077" y="9493"/>
                </a:cubicBezTo>
                <a:cubicBezTo>
                  <a:pt x="6041" y="9526"/>
                  <a:pt x="5980" y="9540"/>
                  <a:pt x="5935" y="9521"/>
                </a:cubicBezTo>
                <a:cubicBezTo>
                  <a:pt x="5890" y="9502"/>
                  <a:pt x="5906" y="9447"/>
                  <a:pt x="5924" y="9415"/>
                </a:cubicBezTo>
                <a:cubicBezTo>
                  <a:pt x="5933" y="9402"/>
                  <a:pt x="5942" y="9390"/>
                  <a:pt x="5951" y="9377"/>
                </a:cubicBezTo>
              </a:path>
              <a:path w="1236" h="1505">
                <a:moveTo>
                  <a:pt x="6366" y="9166"/>
                </a:moveTo>
                <a:cubicBezTo>
                  <a:pt x="6371" y="9138"/>
                  <a:pt x="6326" y="9174"/>
                  <a:pt x="6308" y="9190"/>
                </a:cubicBezTo>
                <a:cubicBezTo>
                  <a:pt x="6275" y="9219"/>
                  <a:pt x="6244" y="9258"/>
                  <a:pt x="6224" y="9297"/>
                </a:cubicBezTo>
                <a:cubicBezTo>
                  <a:pt x="6217" y="9315"/>
                  <a:pt x="6214" y="9319"/>
                  <a:pt x="6217" y="9331"/>
                </a:cubicBezTo>
                <a:cubicBezTo>
                  <a:pt x="6244" y="9337"/>
                  <a:pt x="6261" y="9319"/>
                  <a:pt x="6282" y="9300"/>
                </a:cubicBezTo>
                <a:cubicBezTo>
                  <a:pt x="6313" y="9273"/>
                  <a:pt x="6336" y="9238"/>
                  <a:pt x="6372" y="9218"/>
                </a:cubicBezTo>
                <a:cubicBezTo>
                  <a:pt x="6398" y="9240"/>
                  <a:pt x="6403" y="9270"/>
                  <a:pt x="6414" y="9303"/>
                </a:cubicBezTo>
                <a:cubicBezTo>
                  <a:pt x="6426" y="9338"/>
                  <a:pt x="6435" y="9393"/>
                  <a:pt x="6459" y="9422"/>
                </a:cubicBezTo>
                <a:cubicBezTo>
                  <a:pt x="6476" y="9443"/>
                  <a:pt x="6492" y="9418"/>
                  <a:pt x="6504" y="9408"/>
                </a:cubicBezTo>
              </a:path>
              <a:path w="1236" h="1505">
                <a:moveTo>
                  <a:pt x="6726" y="9198"/>
                </a:moveTo>
                <a:cubicBezTo>
                  <a:pt x="6697" y="9236"/>
                  <a:pt x="6674" y="9268"/>
                  <a:pt x="6655" y="9313"/>
                </a:cubicBezTo>
                <a:cubicBezTo>
                  <a:pt x="6638" y="9354"/>
                  <a:pt x="6631" y="9385"/>
                  <a:pt x="6646" y="9426"/>
                </a:cubicBezTo>
                <a:cubicBezTo>
                  <a:pt x="6687" y="9424"/>
                  <a:pt x="6706" y="9399"/>
                  <a:pt x="6730" y="9364"/>
                </a:cubicBezTo>
                <a:cubicBezTo>
                  <a:pt x="6799" y="9264"/>
                  <a:pt x="6823" y="9135"/>
                  <a:pt x="6841" y="9017"/>
                </a:cubicBezTo>
                <a:cubicBezTo>
                  <a:pt x="6847" y="8978"/>
                  <a:pt x="6849" y="8940"/>
                  <a:pt x="6850" y="8901"/>
                </a:cubicBezTo>
                <a:cubicBezTo>
                  <a:pt x="6832" y="8966"/>
                  <a:pt x="6831" y="9027"/>
                  <a:pt x="6842" y="9095"/>
                </a:cubicBezTo>
                <a:cubicBezTo>
                  <a:pt x="6853" y="9166"/>
                  <a:pt x="6866" y="9260"/>
                  <a:pt x="6932" y="9304"/>
                </a:cubicBezTo>
                <a:cubicBezTo>
                  <a:pt x="6945" y="9308"/>
                  <a:pt x="6957" y="9313"/>
                  <a:pt x="6970" y="931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2941560" y="2876400"/>
            <a:ext cx="227160" cy="311400"/>
          </a:xfrm>
          <a:custGeom>
            <a:avLst/>
            <a:gdLst/>
            <a:ahLst/>
            <a:rect l="l" t="t" r="r" b="b"/>
            <a:pathLst>
              <a:path w="632" h="865">
                <a:moveTo>
                  <a:pt x="8176" y="8028"/>
                </a:moveTo>
                <a:cubicBezTo>
                  <a:pt x="8192" y="7955"/>
                  <a:pt x="8192" y="8043"/>
                  <a:pt x="8206" y="8085"/>
                </a:cubicBezTo>
                <a:cubicBezTo>
                  <a:pt x="8246" y="8202"/>
                  <a:pt x="8287" y="8319"/>
                  <a:pt x="8329" y="8436"/>
                </a:cubicBezTo>
                <a:cubicBezTo>
                  <a:pt x="8376" y="8567"/>
                  <a:pt x="8427" y="8694"/>
                  <a:pt x="8479" y="8823"/>
                </a:cubicBezTo>
                <a:cubicBezTo>
                  <a:pt x="8481" y="8829"/>
                  <a:pt x="8483" y="8834"/>
                  <a:pt x="8485" y="8840"/>
                </a:cubicBezTo>
                <a:cubicBezTo>
                  <a:pt x="8410" y="8763"/>
                  <a:pt x="8325" y="8712"/>
                  <a:pt x="8221" y="8682"/>
                </a:cubicBezTo>
                <a:cubicBezTo>
                  <a:pt x="8246" y="8709"/>
                  <a:pt x="8271" y="8728"/>
                  <a:pt x="8306" y="8751"/>
                </a:cubicBezTo>
                <a:cubicBezTo>
                  <a:pt x="8351" y="8780"/>
                  <a:pt x="8415" y="8838"/>
                  <a:pt x="8469" y="8849"/>
                </a:cubicBezTo>
                <a:cubicBezTo>
                  <a:pt x="8505" y="8856"/>
                  <a:pt x="8503" y="8843"/>
                  <a:pt x="8522" y="8813"/>
                </a:cubicBezTo>
                <a:cubicBezTo>
                  <a:pt x="8562" y="8750"/>
                  <a:pt x="8600" y="8683"/>
                  <a:pt x="8652" y="8628"/>
                </a:cubicBezTo>
                <a:cubicBezTo>
                  <a:pt x="8695" y="8583"/>
                  <a:pt x="8747" y="8554"/>
                  <a:pt x="8803" y="852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3289320" y="3052800"/>
            <a:ext cx="112680" cy="247680"/>
          </a:xfrm>
          <a:custGeom>
            <a:avLst/>
            <a:gdLst/>
            <a:ahLst/>
            <a:rect l="l" t="t" r="r" b="b"/>
            <a:pathLst>
              <a:path w="311" h="687">
                <a:moveTo>
                  <a:pt x="9193" y="8711"/>
                </a:moveTo>
                <a:cubicBezTo>
                  <a:pt x="9188" y="8686"/>
                  <a:pt x="9192" y="8680"/>
                  <a:pt x="9172" y="8671"/>
                </a:cubicBezTo>
                <a:cubicBezTo>
                  <a:pt x="9146" y="8699"/>
                  <a:pt x="9140" y="8741"/>
                  <a:pt x="9139" y="8782"/>
                </a:cubicBezTo>
                <a:cubicBezTo>
                  <a:pt x="9138" y="8819"/>
                  <a:pt x="9129" y="8889"/>
                  <a:pt x="9163" y="8917"/>
                </a:cubicBezTo>
                <a:cubicBezTo>
                  <a:pt x="9169" y="8919"/>
                  <a:pt x="9174" y="8920"/>
                  <a:pt x="9180" y="8922"/>
                </a:cubicBezTo>
              </a:path>
              <a:path w="311" h="687">
                <a:moveTo>
                  <a:pt x="9195" y="8559"/>
                </a:moveTo>
                <a:cubicBezTo>
                  <a:pt x="9187" y="8535"/>
                  <a:pt x="9166" y="8507"/>
                  <a:pt x="9190" y="8488"/>
                </a:cubicBezTo>
                <a:cubicBezTo>
                  <a:pt x="9210" y="8472"/>
                  <a:pt x="9240" y="8484"/>
                  <a:pt x="9264" y="8487"/>
                </a:cubicBezTo>
              </a:path>
              <a:path w="311" h="687">
                <a:moveTo>
                  <a:pt x="9449" y="8809"/>
                </a:moveTo>
                <a:cubicBezTo>
                  <a:pt x="9437" y="8834"/>
                  <a:pt x="9438" y="8841"/>
                  <a:pt x="9440" y="8865"/>
                </a:cubicBezTo>
                <a:cubicBezTo>
                  <a:pt x="9443" y="8891"/>
                  <a:pt x="9444" y="8918"/>
                  <a:pt x="9444" y="8945"/>
                </a:cubicBezTo>
                <a:cubicBezTo>
                  <a:pt x="9444" y="8985"/>
                  <a:pt x="9445" y="9028"/>
                  <a:pt x="9438" y="9068"/>
                </a:cubicBezTo>
                <a:cubicBezTo>
                  <a:pt x="9433" y="9100"/>
                  <a:pt x="9426" y="9134"/>
                  <a:pt x="9400" y="9156"/>
                </a:cubicBezTo>
                <a:cubicBezTo>
                  <a:pt x="9377" y="9176"/>
                  <a:pt x="9347" y="9161"/>
                  <a:pt x="9332" y="9138"/>
                </a:cubicBezTo>
                <a:cubicBezTo>
                  <a:pt x="9328" y="9130"/>
                  <a:pt x="9325" y="9122"/>
                  <a:pt x="9321" y="911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3554280" y="3130560"/>
            <a:ext cx="735120" cy="263520"/>
          </a:xfrm>
          <a:custGeom>
            <a:avLst/>
            <a:gdLst/>
            <a:ahLst/>
            <a:rect l="l" t="t" r="r" b="b"/>
            <a:pathLst>
              <a:path w="2044" h="733">
                <a:moveTo>
                  <a:pt x="9977" y="8827"/>
                </a:moveTo>
                <a:cubicBezTo>
                  <a:pt x="9983" y="8797"/>
                  <a:pt x="9987" y="8801"/>
                  <a:pt x="9968" y="8780"/>
                </a:cubicBezTo>
                <a:cubicBezTo>
                  <a:pt x="9942" y="8815"/>
                  <a:pt x="9922" y="8846"/>
                  <a:pt x="9907" y="8888"/>
                </a:cubicBezTo>
                <a:cubicBezTo>
                  <a:pt x="9887" y="8943"/>
                  <a:pt x="9853" y="9039"/>
                  <a:pt x="9878" y="9098"/>
                </a:cubicBezTo>
                <a:cubicBezTo>
                  <a:pt x="9882" y="9102"/>
                  <a:pt x="9886" y="9105"/>
                  <a:pt x="9890" y="9109"/>
                </a:cubicBezTo>
                <a:cubicBezTo>
                  <a:pt x="9934" y="9094"/>
                  <a:pt x="9956" y="9067"/>
                  <a:pt x="9985" y="9030"/>
                </a:cubicBezTo>
                <a:cubicBezTo>
                  <a:pt x="10007" y="9003"/>
                  <a:pt x="10035" y="8940"/>
                  <a:pt x="10072" y="8930"/>
                </a:cubicBezTo>
                <a:cubicBezTo>
                  <a:pt x="10105" y="8921"/>
                  <a:pt x="10128" y="9003"/>
                  <a:pt x="10135" y="9019"/>
                </a:cubicBezTo>
                <a:cubicBezTo>
                  <a:pt x="10157" y="9070"/>
                  <a:pt x="10175" y="9112"/>
                  <a:pt x="10211" y="9155"/>
                </a:cubicBezTo>
              </a:path>
              <a:path w="2044" h="733">
                <a:moveTo>
                  <a:pt x="10497" y="8868"/>
                </a:moveTo>
                <a:cubicBezTo>
                  <a:pt x="10502" y="8909"/>
                  <a:pt x="10507" y="8950"/>
                  <a:pt x="10514" y="8990"/>
                </a:cubicBezTo>
                <a:cubicBezTo>
                  <a:pt x="10530" y="9083"/>
                  <a:pt x="10545" y="9177"/>
                  <a:pt x="10557" y="9271"/>
                </a:cubicBezTo>
                <a:cubicBezTo>
                  <a:pt x="10563" y="9323"/>
                  <a:pt x="10572" y="9375"/>
                  <a:pt x="10564" y="9427"/>
                </a:cubicBezTo>
                <a:cubicBezTo>
                  <a:pt x="10533" y="9365"/>
                  <a:pt x="10526" y="9302"/>
                  <a:pt x="10518" y="9233"/>
                </a:cubicBezTo>
                <a:cubicBezTo>
                  <a:pt x="10503" y="9104"/>
                  <a:pt x="10504" y="8967"/>
                  <a:pt x="10535" y="8840"/>
                </a:cubicBezTo>
                <a:cubicBezTo>
                  <a:pt x="10552" y="8772"/>
                  <a:pt x="10571" y="8734"/>
                  <a:pt x="10636" y="8715"/>
                </a:cubicBezTo>
                <a:cubicBezTo>
                  <a:pt x="10684" y="8737"/>
                  <a:pt x="10712" y="8761"/>
                  <a:pt x="10720" y="8818"/>
                </a:cubicBezTo>
                <a:cubicBezTo>
                  <a:pt x="10729" y="8878"/>
                  <a:pt x="10701" y="8938"/>
                  <a:pt x="10656" y="8977"/>
                </a:cubicBezTo>
                <a:cubicBezTo>
                  <a:pt x="10629" y="9001"/>
                  <a:pt x="10568" y="9042"/>
                  <a:pt x="10531" y="9017"/>
                </a:cubicBezTo>
                <a:cubicBezTo>
                  <a:pt x="10520" y="8998"/>
                  <a:pt x="10516" y="8990"/>
                  <a:pt x="10521" y="8973"/>
                </a:cubicBezTo>
              </a:path>
              <a:path w="2044" h="733">
                <a:moveTo>
                  <a:pt x="10949" y="8830"/>
                </a:moveTo>
                <a:cubicBezTo>
                  <a:pt x="10972" y="8830"/>
                  <a:pt x="10987" y="8812"/>
                  <a:pt x="10999" y="8793"/>
                </a:cubicBezTo>
                <a:cubicBezTo>
                  <a:pt x="11010" y="8775"/>
                  <a:pt x="11026" y="8745"/>
                  <a:pt x="11026" y="8724"/>
                </a:cubicBezTo>
                <a:cubicBezTo>
                  <a:pt x="11023" y="8711"/>
                  <a:pt x="11023" y="8707"/>
                  <a:pt x="11016" y="8700"/>
                </a:cubicBezTo>
                <a:cubicBezTo>
                  <a:pt x="10983" y="8694"/>
                  <a:pt x="10962" y="8707"/>
                  <a:pt x="10938" y="8733"/>
                </a:cubicBezTo>
                <a:cubicBezTo>
                  <a:pt x="10896" y="8777"/>
                  <a:pt x="10872" y="8836"/>
                  <a:pt x="10865" y="8896"/>
                </a:cubicBezTo>
                <a:cubicBezTo>
                  <a:pt x="10859" y="8949"/>
                  <a:pt x="10865" y="9013"/>
                  <a:pt x="10906" y="9052"/>
                </a:cubicBezTo>
                <a:cubicBezTo>
                  <a:pt x="10934" y="9078"/>
                  <a:pt x="10985" y="9082"/>
                  <a:pt x="11019" y="9069"/>
                </a:cubicBezTo>
                <a:cubicBezTo>
                  <a:pt x="11047" y="9058"/>
                  <a:pt x="11064" y="9034"/>
                  <a:pt x="11083" y="9013"/>
                </a:cubicBezTo>
              </a:path>
              <a:path w="2044" h="733">
                <a:moveTo>
                  <a:pt x="11168" y="9007"/>
                </a:moveTo>
                <a:cubicBezTo>
                  <a:pt x="11174" y="9018"/>
                  <a:pt x="11177" y="9022"/>
                  <a:pt x="11186" y="9025"/>
                </a:cubicBezTo>
                <a:cubicBezTo>
                  <a:pt x="11189" y="9000"/>
                  <a:pt x="11194" y="8977"/>
                  <a:pt x="11197" y="8951"/>
                </a:cubicBezTo>
                <a:cubicBezTo>
                  <a:pt x="11202" y="8905"/>
                  <a:pt x="11207" y="8859"/>
                  <a:pt x="11217" y="8814"/>
                </a:cubicBezTo>
                <a:cubicBezTo>
                  <a:pt x="11224" y="8782"/>
                  <a:pt x="11234" y="8732"/>
                  <a:pt x="11264" y="8712"/>
                </a:cubicBezTo>
                <a:cubicBezTo>
                  <a:pt x="11292" y="8693"/>
                  <a:pt x="11343" y="8694"/>
                  <a:pt x="11375" y="8697"/>
                </a:cubicBezTo>
                <a:cubicBezTo>
                  <a:pt x="11385" y="8698"/>
                  <a:pt x="11394" y="8700"/>
                  <a:pt x="11404" y="8701"/>
                </a:cubicBezTo>
              </a:path>
              <a:path w="2044" h="733">
                <a:moveTo>
                  <a:pt x="11488" y="8860"/>
                </a:moveTo>
                <a:cubicBezTo>
                  <a:pt x="11477" y="8904"/>
                  <a:pt x="11462" y="8951"/>
                  <a:pt x="11457" y="8996"/>
                </a:cubicBezTo>
                <a:cubicBezTo>
                  <a:pt x="11454" y="9022"/>
                  <a:pt x="11454" y="9047"/>
                  <a:pt x="11456" y="9072"/>
                </a:cubicBezTo>
                <a:cubicBezTo>
                  <a:pt x="11476" y="9044"/>
                  <a:pt x="11483" y="9010"/>
                  <a:pt x="11493" y="8976"/>
                </a:cubicBezTo>
                <a:cubicBezTo>
                  <a:pt x="11507" y="8928"/>
                  <a:pt x="11515" y="8881"/>
                  <a:pt x="11551" y="8845"/>
                </a:cubicBezTo>
                <a:cubicBezTo>
                  <a:pt x="11580" y="8855"/>
                  <a:pt x="11583" y="8877"/>
                  <a:pt x="11589" y="8907"/>
                </a:cubicBezTo>
                <a:cubicBezTo>
                  <a:pt x="11596" y="8940"/>
                  <a:pt x="11598" y="8973"/>
                  <a:pt x="11599" y="9006"/>
                </a:cubicBezTo>
                <a:cubicBezTo>
                  <a:pt x="11623" y="8974"/>
                  <a:pt x="11632" y="8937"/>
                  <a:pt x="11648" y="8900"/>
                </a:cubicBezTo>
                <a:cubicBezTo>
                  <a:pt x="11659" y="8876"/>
                  <a:pt x="11677" y="8821"/>
                  <a:pt x="11711" y="8822"/>
                </a:cubicBezTo>
                <a:cubicBezTo>
                  <a:pt x="11745" y="8823"/>
                  <a:pt x="11763" y="8891"/>
                  <a:pt x="11773" y="8913"/>
                </a:cubicBezTo>
                <a:cubicBezTo>
                  <a:pt x="11798" y="8967"/>
                  <a:pt x="11819" y="9028"/>
                  <a:pt x="11861" y="9070"/>
                </a:cubicBezTo>
                <a:cubicBezTo>
                  <a:pt x="11887" y="9091"/>
                  <a:pt x="11894" y="9098"/>
                  <a:pt x="11916" y="910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4987800" y="2857680"/>
            <a:ext cx="514440" cy="342720"/>
          </a:xfrm>
          <a:custGeom>
            <a:avLst/>
            <a:gdLst/>
            <a:ahLst/>
            <a:rect l="l" t="t" r="r" b="b"/>
            <a:pathLst>
              <a:path w="1430" h="951">
                <a:moveTo>
                  <a:pt x="14172" y="8036"/>
                </a:moveTo>
                <a:cubicBezTo>
                  <a:pt x="14142" y="8028"/>
                  <a:pt x="14113" y="8018"/>
                  <a:pt x="14083" y="8010"/>
                </a:cubicBezTo>
                <a:cubicBezTo>
                  <a:pt x="14045" y="8000"/>
                  <a:pt x="14061" y="8030"/>
                  <a:pt x="14065" y="8051"/>
                </a:cubicBezTo>
                <a:cubicBezTo>
                  <a:pt x="14072" y="8091"/>
                  <a:pt x="14100" y="8135"/>
                  <a:pt x="14118" y="8170"/>
                </a:cubicBezTo>
                <a:cubicBezTo>
                  <a:pt x="14182" y="8291"/>
                  <a:pt x="14258" y="8414"/>
                  <a:pt x="14377" y="8488"/>
                </a:cubicBezTo>
                <a:cubicBezTo>
                  <a:pt x="14412" y="8509"/>
                  <a:pt x="14449" y="8525"/>
                  <a:pt x="14486" y="8542"/>
                </a:cubicBezTo>
                <a:cubicBezTo>
                  <a:pt x="14520" y="8558"/>
                  <a:pt x="14616" y="8591"/>
                  <a:pt x="14640" y="8619"/>
                </a:cubicBezTo>
                <a:cubicBezTo>
                  <a:pt x="14659" y="8642"/>
                  <a:pt x="14632" y="8643"/>
                  <a:pt x="14636" y="8667"/>
                </a:cubicBezTo>
                <a:cubicBezTo>
                  <a:pt x="14638" y="8679"/>
                  <a:pt x="14639" y="8683"/>
                  <a:pt x="14647" y="8688"/>
                </a:cubicBezTo>
                <a:cubicBezTo>
                  <a:pt x="14636" y="8661"/>
                  <a:pt x="14625" y="8641"/>
                  <a:pt x="14608" y="8616"/>
                </a:cubicBezTo>
              </a:path>
              <a:path w="1430" h="951">
                <a:moveTo>
                  <a:pt x="14149" y="7939"/>
                </a:moveTo>
                <a:cubicBezTo>
                  <a:pt x="14117" y="7942"/>
                  <a:pt x="14106" y="7948"/>
                  <a:pt x="14079" y="7964"/>
                </a:cubicBezTo>
                <a:cubicBezTo>
                  <a:pt x="14045" y="7985"/>
                  <a:pt x="14027" y="8014"/>
                  <a:pt x="14012" y="8051"/>
                </a:cubicBezTo>
                <a:cubicBezTo>
                  <a:pt x="13997" y="8087"/>
                  <a:pt x="13993" y="8125"/>
                  <a:pt x="13985" y="8163"/>
                </a:cubicBezTo>
                <a:cubicBezTo>
                  <a:pt x="13975" y="8214"/>
                  <a:pt x="13941" y="8260"/>
                  <a:pt x="13898" y="8290"/>
                </a:cubicBezTo>
                <a:cubicBezTo>
                  <a:pt x="13883" y="8300"/>
                  <a:pt x="13871" y="8310"/>
                  <a:pt x="13855" y="8318"/>
                </a:cubicBezTo>
                <a:cubicBezTo>
                  <a:pt x="13870" y="8299"/>
                  <a:pt x="13875" y="8292"/>
                  <a:pt x="13887" y="8281"/>
                </a:cubicBezTo>
              </a:path>
              <a:path w="1430" h="951">
                <a:moveTo>
                  <a:pt x="14021" y="8025"/>
                </a:moveTo>
                <a:cubicBezTo>
                  <a:pt x="14049" y="8006"/>
                  <a:pt x="14068" y="7996"/>
                  <a:pt x="14101" y="7986"/>
                </a:cubicBezTo>
                <a:cubicBezTo>
                  <a:pt x="14161" y="7967"/>
                  <a:pt x="14215" y="7961"/>
                  <a:pt x="14277" y="7963"/>
                </a:cubicBezTo>
                <a:cubicBezTo>
                  <a:pt x="14319" y="7965"/>
                  <a:pt x="14332" y="7966"/>
                  <a:pt x="14359" y="7974"/>
                </a:cubicBezTo>
              </a:path>
              <a:path w="1430" h="951">
                <a:moveTo>
                  <a:pt x="14940" y="8632"/>
                </a:moveTo>
                <a:cubicBezTo>
                  <a:pt x="14927" y="8654"/>
                  <a:pt x="14913" y="8685"/>
                  <a:pt x="14909" y="8711"/>
                </a:cubicBezTo>
                <a:cubicBezTo>
                  <a:pt x="14906" y="8727"/>
                  <a:pt x="14898" y="8784"/>
                  <a:pt x="14914" y="8797"/>
                </a:cubicBezTo>
                <a:cubicBezTo>
                  <a:pt x="14928" y="8801"/>
                  <a:pt x="14933" y="8803"/>
                  <a:pt x="14938" y="8791"/>
                </a:cubicBezTo>
              </a:path>
              <a:path w="1430" h="951">
                <a:moveTo>
                  <a:pt x="14958" y="8481"/>
                </a:moveTo>
                <a:cubicBezTo>
                  <a:pt x="14954" y="8456"/>
                  <a:pt x="14942" y="8415"/>
                  <a:pt x="14965" y="8395"/>
                </a:cubicBezTo>
                <a:cubicBezTo>
                  <a:pt x="14992" y="8371"/>
                  <a:pt x="15027" y="8367"/>
                  <a:pt x="15062" y="8361"/>
                </a:cubicBezTo>
              </a:path>
              <a:path w="1430" h="951">
                <a:moveTo>
                  <a:pt x="15211" y="8509"/>
                </a:moveTo>
                <a:cubicBezTo>
                  <a:pt x="15187" y="8539"/>
                  <a:pt x="15158" y="8569"/>
                  <a:pt x="15129" y="8593"/>
                </a:cubicBezTo>
                <a:cubicBezTo>
                  <a:pt x="15115" y="8605"/>
                  <a:pt x="15083" y="8624"/>
                  <a:pt x="15100" y="8648"/>
                </a:cubicBezTo>
                <a:cubicBezTo>
                  <a:pt x="15121" y="8677"/>
                  <a:pt x="15167" y="8694"/>
                  <a:pt x="15195" y="8715"/>
                </a:cubicBezTo>
                <a:cubicBezTo>
                  <a:pt x="15231" y="8742"/>
                  <a:pt x="15272" y="8774"/>
                  <a:pt x="15283" y="8820"/>
                </a:cubicBezTo>
                <a:cubicBezTo>
                  <a:pt x="15292" y="8856"/>
                  <a:pt x="15275" y="8883"/>
                  <a:pt x="15240" y="8889"/>
                </a:cubicBezTo>
                <a:cubicBezTo>
                  <a:pt x="15207" y="8895"/>
                  <a:pt x="15182" y="8876"/>
                  <a:pt x="15157" y="885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5702400" y="2955960"/>
            <a:ext cx="317520" cy="241200"/>
          </a:xfrm>
          <a:custGeom>
            <a:avLst/>
            <a:gdLst/>
            <a:ahLst/>
            <a:rect l="l" t="t" r="r" b="b"/>
            <a:pathLst>
              <a:path w="882" h="670">
                <a:moveTo>
                  <a:pt x="15846" y="8650"/>
                </a:moveTo>
                <a:cubicBezTo>
                  <a:pt x="15845" y="8624"/>
                  <a:pt x="15847" y="8600"/>
                  <a:pt x="15840" y="8575"/>
                </a:cubicBezTo>
                <a:cubicBezTo>
                  <a:pt x="15843" y="8614"/>
                  <a:pt x="15847" y="8654"/>
                  <a:pt x="15848" y="8693"/>
                </a:cubicBezTo>
                <a:cubicBezTo>
                  <a:pt x="15849" y="8747"/>
                  <a:pt x="15849" y="8803"/>
                  <a:pt x="15846" y="8857"/>
                </a:cubicBezTo>
                <a:cubicBezTo>
                  <a:pt x="15845" y="8864"/>
                  <a:pt x="15845" y="8872"/>
                  <a:pt x="15844" y="8879"/>
                </a:cubicBezTo>
                <a:cubicBezTo>
                  <a:pt x="15858" y="8839"/>
                  <a:pt x="15872" y="8798"/>
                  <a:pt x="15888" y="8759"/>
                </a:cubicBezTo>
                <a:cubicBezTo>
                  <a:pt x="15905" y="8718"/>
                  <a:pt x="15923" y="8657"/>
                  <a:pt x="15957" y="8626"/>
                </a:cubicBezTo>
                <a:cubicBezTo>
                  <a:pt x="15962" y="8624"/>
                  <a:pt x="15967" y="8621"/>
                  <a:pt x="15972" y="8619"/>
                </a:cubicBezTo>
                <a:cubicBezTo>
                  <a:pt x="16003" y="8639"/>
                  <a:pt x="16006" y="8669"/>
                  <a:pt x="16019" y="8703"/>
                </a:cubicBezTo>
                <a:cubicBezTo>
                  <a:pt x="16036" y="8747"/>
                  <a:pt x="16057" y="8827"/>
                  <a:pt x="16111" y="8841"/>
                </a:cubicBezTo>
                <a:cubicBezTo>
                  <a:pt x="16143" y="8849"/>
                  <a:pt x="16177" y="8823"/>
                  <a:pt x="16195" y="8800"/>
                </a:cubicBezTo>
                <a:cubicBezTo>
                  <a:pt x="16215" y="8774"/>
                  <a:pt x="16232" y="8736"/>
                  <a:pt x="16239" y="8703"/>
                </a:cubicBezTo>
                <a:cubicBezTo>
                  <a:pt x="16244" y="8678"/>
                  <a:pt x="16240" y="8673"/>
                  <a:pt x="16228" y="8654"/>
                </a:cubicBezTo>
                <a:cubicBezTo>
                  <a:pt x="16212" y="8681"/>
                  <a:pt x="16205" y="8708"/>
                  <a:pt x="16200" y="8740"/>
                </a:cubicBezTo>
                <a:cubicBezTo>
                  <a:pt x="16195" y="8771"/>
                  <a:pt x="16194" y="8811"/>
                  <a:pt x="16210" y="8840"/>
                </a:cubicBezTo>
                <a:cubicBezTo>
                  <a:pt x="16226" y="8867"/>
                  <a:pt x="16255" y="8861"/>
                  <a:pt x="16280" y="8854"/>
                </a:cubicBezTo>
                <a:cubicBezTo>
                  <a:pt x="16330" y="8839"/>
                  <a:pt x="16375" y="8808"/>
                  <a:pt x="16406" y="8768"/>
                </a:cubicBezTo>
                <a:cubicBezTo>
                  <a:pt x="16432" y="8735"/>
                  <a:pt x="16429" y="8705"/>
                  <a:pt x="16431" y="8664"/>
                </a:cubicBezTo>
              </a:path>
              <a:path w="882" h="670">
                <a:moveTo>
                  <a:pt x="16516" y="8210"/>
                </a:moveTo>
                <a:cubicBezTo>
                  <a:pt x="16527" y="8256"/>
                  <a:pt x="16523" y="8309"/>
                  <a:pt x="16522" y="8356"/>
                </a:cubicBezTo>
                <a:cubicBezTo>
                  <a:pt x="16520" y="8446"/>
                  <a:pt x="16518" y="8538"/>
                  <a:pt x="16523" y="8628"/>
                </a:cubicBezTo>
                <a:cubicBezTo>
                  <a:pt x="16526" y="8688"/>
                  <a:pt x="16532" y="8742"/>
                  <a:pt x="16525" y="8801"/>
                </a:cubicBezTo>
              </a:path>
              <a:path w="882" h="670">
                <a:moveTo>
                  <a:pt x="16384" y="8579"/>
                </a:moveTo>
                <a:cubicBezTo>
                  <a:pt x="16385" y="8553"/>
                  <a:pt x="16388" y="8522"/>
                  <a:pt x="16416" y="8507"/>
                </a:cubicBezTo>
                <a:cubicBezTo>
                  <a:pt x="16460" y="8484"/>
                  <a:pt x="16525" y="8471"/>
                  <a:pt x="16573" y="8464"/>
                </a:cubicBezTo>
                <a:cubicBezTo>
                  <a:pt x="16622" y="8457"/>
                  <a:pt x="16672" y="8453"/>
                  <a:pt x="16721" y="844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6138720" y="3071880"/>
            <a:ext cx="654120" cy="216000"/>
          </a:xfrm>
          <a:custGeom>
            <a:avLst/>
            <a:gdLst/>
            <a:ahLst/>
            <a:rect l="l" t="t" r="r" b="b"/>
            <a:pathLst>
              <a:path w="1816" h="598">
                <a:moveTo>
                  <a:pt x="17108" y="8776"/>
                </a:moveTo>
                <a:cubicBezTo>
                  <a:pt x="17114" y="8760"/>
                  <a:pt x="17118" y="8746"/>
                  <a:pt x="17123" y="8730"/>
                </a:cubicBezTo>
                <a:cubicBezTo>
                  <a:pt x="17137" y="8773"/>
                  <a:pt x="17142" y="8815"/>
                  <a:pt x="17150" y="8859"/>
                </a:cubicBezTo>
                <a:cubicBezTo>
                  <a:pt x="17162" y="8923"/>
                  <a:pt x="17177" y="8987"/>
                  <a:pt x="17181" y="9052"/>
                </a:cubicBezTo>
                <a:cubicBezTo>
                  <a:pt x="17183" y="9087"/>
                  <a:pt x="17186" y="9117"/>
                  <a:pt x="17154" y="9131"/>
                </a:cubicBezTo>
                <a:cubicBezTo>
                  <a:pt x="17114" y="9109"/>
                  <a:pt x="17091" y="9080"/>
                  <a:pt x="17076" y="9035"/>
                </a:cubicBezTo>
                <a:cubicBezTo>
                  <a:pt x="17051" y="8961"/>
                  <a:pt x="17049" y="8878"/>
                  <a:pt x="17059" y="8802"/>
                </a:cubicBezTo>
                <a:cubicBezTo>
                  <a:pt x="17068" y="8733"/>
                  <a:pt x="17089" y="8661"/>
                  <a:pt x="17131" y="8604"/>
                </a:cubicBezTo>
                <a:cubicBezTo>
                  <a:pt x="17158" y="8568"/>
                  <a:pt x="17195" y="8554"/>
                  <a:pt x="17236" y="8575"/>
                </a:cubicBezTo>
                <a:cubicBezTo>
                  <a:pt x="17282" y="8598"/>
                  <a:pt x="17308" y="8645"/>
                  <a:pt x="17320" y="8693"/>
                </a:cubicBezTo>
                <a:cubicBezTo>
                  <a:pt x="17336" y="8757"/>
                  <a:pt x="17320" y="8832"/>
                  <a:pt x="17262" y="8870"/>
                </a:cubicBezTo>
                <a:cubicBezTo>
                  <a:pt x="17226" y="8894"/>
                  <a:pt x="17173" y="8894"/>
                  <a:pt x="17136" y="8872"/>
                </a:cubicBezTo>
                <a:cubicBezTo>
                  <a:pt x="17100" y="8851"/>
                  <a:pt x="17081" y="8810"/>
                  <a:pt x="17081" y="8770"/>
                </a:cubicBezTo>
                <a:cubicBezTo>
                  <a:pt x="17081" y="8739"/>
                  <a:pt x="17096" y="8719"/>
                  <a:pt x="17111" y="8693"/>
                </a:cubicBezTo>
              </a:path>
              <a:path w="1816" h="598">
                <a:moveTo>
                  <a:pt x="17507" y="8695"/>
                </a:moveTo>
                <a:cubicBezTo>
                  <a:pt x="17519" y="8720"/>
                  <a:pt x="17516" y="8720"/>
                  <a:pt x="17548" y="8709"/>
                </a:cubicBezTo>
                <a:cubicBezTo>
                  <a:pt x="17586" y="8695"/>
                  <a:pt x="17617" y="8674"/>
                  <a:pt x="17647" y="8647"/>
                </a:cubicBezTo>
                <a:cubicBezTo>
                  <a:pt x="17669" y="8628"/>
                  <a:pt x="17694" y="8598"/>
                  <a:pt x="17685" y="8566"/>
                </a:cubicBezTo>
                <a:cubicBezTo>
                  <a:pt x="17682" y="8562"/>
                  <a:pt x="17680" y="8557"/>
                  <a:pt x="17677" y="8553"/>
                </a:cubicBezTo>
                <a:cubicBezTo>
                  <a:pt x="17640" y="8548"/>
                  <a:pt x="17610" y="8556"/>
                  <a:pt x="17580" y="8581"/>
                </a:cubicBezTo>
                <a:cubicBezTo>
                  <a:pt x="17527" y="8625"/>
                  <a:pt x="17496" y="8696"/>
                  <a:pt x="17493" y="8764"/>
                </a:cubicBezTo>
                <a:cubicBezTo>
                  <a:pt x="17491" y="8813"/>
                  <a:pt x="17509" y="8863"/>
                  <a:pt x="17557" y="8883"/>
                </a:cubicBezTo>
                <a:cubicBezTo>
                  <a:pt x="17594" y="8898"/>
                  <a:pt x="17649" y="8891"/>
                  <a:pt x="17683" y="8871"/>
                </a:cubicBezTo>
                <a:cubicBezTo>
                  <a:pt x="17715" y="8853"/>
                  <a:pt x="17750" y="8822"/>
                  <a:pt x="17776" y="8796"/>
                </a:cubicBezTo>
                <a:cubicBezTo>
                  <a:pt x="17781" y="8791"/>
                  <a:pt x="17813" y="8743"/>
                  <a:pt x="17803" y="8778"/>
                </a:cubicBezTo>
                <a:cubicBezTo>
                  <a:pt x="17801" y="8782"/>
                  <a:pt x="17798" y="8785"/>
                  <a:pt x="17796" y="8789"/>
                </a:cubicBezTo>
                <a:cubicBezTo>
                  <a:pt x="17792" y="8765"/>
                  <a:pt x="17793" y="8750"/>
                  <a:pt x="17801" y="8720"/>
                </a:cubicBezTo>
                <a:cubicBezTo>
                  <a:pt x="17815" y="8666"/>
                  <a:pt x="17833" y="8622"/>
                  <a:pt x="17872" y="8582"/>
                </a:cubicBezTo>
                <a:cubicBezTo>
                  <a:pt x="17902" y="8551"/>
                  <a:pt x="17947" y="8542"/>
                  <a:pt x="17989" y="8540"/>
                </a:cubicBezTo>
                <a:cubicBezTo>
                  <a:pt x="18020" y="8541"/>
                  <a:pt x="18029" y="8541"/>
                  <a:pt x="18049" y="8542"/>
                </a:cubicBezTo>
              </a:path>
              <a:path w="1816" h="598">
                <a:moveTo>
                  <a:pt x="18106" y="8636"/>
                </a:moveTo>
                <a:cubicBezTo>
                  <a:pt x="18096" y="8661"/>
                  <a:pt x="18096" y="8679"/>
                  <a:pt x="18107" y="8705"/>
                </a:cubicBezTo>
                <a:cubicBezTo>
                  <a:pt x="18113" y="8720"/>
                  <a:pt x="18122" y="8733"/>
                  <a:pt x="18129" y="8748"/>
                </a:cubicBezTo>
                <a:cubicBezTo>
                  <a:pt x="18131" y="8752"/>
                  <a:pt x="18132" y="8757"/>
                  <a:pt x="18134" y="8761"/>
                </a:cubicBezTo>
                <a:cubicBezTo>
                  <a:pt x="18144" y="8741"/>
                  <a:pt x="18154" y="8726"/>
                  <a:pt x="18168" y="8708"/>
                </a:cubicBezTo>
                <a:cubicBezTo>
                  <a:pt x="18181" y="8692"/>
                  <a:pt x="18192" y="8674"/>
                  <a:pt x="18202" y="8656"/>
                </a:cubicBezTo>
                <a:cubicBezTo>
                  <a:pt x="18212" y="8640"/>
                  <a:pt x="18222" y="8624"/>
                  <a:pt x="18233" y="8608"/>
                </a:cubicBezTo>
                <a:cubicBezTo>
                  <a:pt x="18242" y="8595"/>
                  <a:pt x="18248" y="8587"/>
                  <a:pt x="18262" y="8578"/>
                </a:cubicBezTo>
                <a:cubicBezTo>
                  <a:pt x="18287" y="8599"/>
                  <a:pt x="18295" y="8619"/>
                  <a:pt x="18300" y="8651"/>
                </a:cubicBezTo>
                <a:cubicBezTo>
                  <a:pt x="18305" y="8684"/>
                  <a:pt x="18303" y="8716"/>
                  <a:pt x="18298" y="8748"/>
                </a:cubicBezTo>
                <a:cubicBezTo>
                  <a:pt x="18294" y="8775"/>
                  <a:pt x="18288" y="8802"/>
                  <a:pt x="18279" y="8828"/>
                </a:cubicBezTo>
                <a:cubicBezTo>
                  <a:pt x="18277" y="8832"/>
                  <a:pt x="18276" y="8836"/>
                  <a:pt x="18274" y="8840"/>
                </a:cubicBezTo>
                <a:cubicBezTo>
                  <a:pt x="18271" y="8817"/>
                  <a:pt x="18271" y="8799"/>
                  <a:pt x="18275" y="8774"/>
                </a:cubicBezTo>
                <a:cubicBezTo>
                  <a:pt x="18286" y="8709"/>
                  <a:pt x="18316" y="8645"/>
                  <a:pt x="18357" y="8593"/>
                </a:cubicBezTo>
                <a:cubicBezTo>
                  <a:pt x="18374" y="8572"/>
                  <a:pt x="18394" y="8554"/>
                  <a:pt x="18418" y="8541"/>
                </a:cubicBezTo>
                <a:cubicBezTo>
                  <a:pt x="18447" y="8526"/>
                  <a:pt x="18473" y="8538"/>
                  <a:pt x="18489" y="8565"/>
                </a:cubicBezTo>
                <a:cubicBezTo>
                  <a:pt x="18503" y="8588"/>
                  <a:pt x="18507" y="8619"/>
                  <a:pt x="18509" y="8645"/>
                </a:cubicBezTo>
                <a:cubicBezTo>
                  <a:pt x="18514" y="8697"/>
                  <a:pt x="18511" y="8749"/>
                  <a:pt x="18512" y="8801"/>
                </a:cubicBezTo>
                <a:cubicBezTo>
                  <a:pt x="18513" y="8824"/>
                  <a:pt x="18513" y="8854"/>
                  <a:pt x="18539" y="8833"/>
                </a:cubicBezTo>
                <a:cubicBezTo>
                  <a:pt x="18543" y="8829"/>
                  <a:pt x="18548" y="8825"/>
                  <a:pt x="18552" y="8821"/>
                </a:cubicBezTo>
              </a:path>
              <a:path w="1816" h="598">
                <a:moveTo>
                  <a:pt x="18824" y="8813"/>
                </a:moveTo>
                <a:cubicBezTo>
                  <a:pt x="18847" y="8811"/>
                  <a:pt x="18840" y="8805"/>
                  <a:pt x="18849" y="8787"/>
                </a:cubicBezTo>
                <a:cubicBezTo>
                  <a:pt x="18858" y="8772"/>
                  <a:pt x="18860" y="8767"/>
                  <a:pt x="18869" y="875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5784840" y="4164120"/>
            <a:ext cx="1589040" cy="118800"/>
          </a:xfrm>
          <a:custGeom>
            <a:avLst/>
            <a:gdLst/>
            <a:ahLst/>
            <a:rect l="l" t="t" r="r" b="b"/>
            <a:pathLst>
              <a:path w="4412" h="333">
                <a:moveTo>
                  <a:pt x="16069" y="11565"/>
                </a:moveTo>
                <a:lnTo>
                  <a:pt x="16069" y="11565"/>
                </a:lnTo>
              </a:path>
              <a:path w="4412" h="333">
                <a:moveTo>
                  <a:pt x="17318" y="11897"/>
                </a:moveTo>
                <a:cubicBezTo>
                  <a:pt x="17328" y="11894"/>
                  <a:pt x="17332" y="11893"/>
                  <a:pt x="17331" y="11883"/>
                </a:cubicBezTo>
              </a:path>
              <a:path w="4412" h="333">
                <a:moveTo>
                  <a:pt x="19301" y="11803"/>
                </a:moveTo>
                <a:cubicBezTo>
                  <a:pt x="19279" y="11794"/>
                  <a:pt x="19268" y="11797"/>
                  <a:pt x="19288" y="11783"/>
                </a:cubicBezTo>
              </a:path>
              <a:path w="4412" h="333">
                <a:moveTo>
                  <a:pt x="20437" y="11682"/>
                </a:moveTo>
                <a:cubicBezTo>
                  <a:pt x="20451" y="11696"/>
                  <a:pt x="20462" y="11704"/>
                  <a:pt x="20480" y="1171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1244520" y="3760920"/>
            <a:ext cx="352440" cy="266400"/>
          </a:xfrm>
          <a:custGeom>
            <a:avLst/>
            <a:gdLst/>
            <a:ahLst/>
            <a:rect l="l" t="t" r="r" b="b"/>
            <a:pathLst>
              <a:path w="976" h="744">
                <a:moveTo>
                  <a:pt x="3559" y="10610"/>
                </a:moveTo>
                <a:cubicBezTo>
                  <a:pt x="3538" y="10583"/>
                  <a:pt x="3520" y="10570"/>
                  <a:pt x="3491" y="10556"/>
                </a:cubicBezTo>
                <a:cubicBezTo>
                  <a:pt x="3456" y="10571"/>
                  <a:pt x="3457" y="10604"/>
                  <a:pt x="3458" y="10644"/>
                </a:cubicBezTo>
                <a:cubicBezTo>
                  <a:pt x="3460" y="10732"/>
                  <a:pt x="3478" y="10821"/>
                  <a:pt x="3494" y="10907"/>
                </a:cubicBezTo>
                <a:cubicBezTo>
                  <a:pt x="3509" y="10987"/>
                  <a:pt x="3528" y="11067"/>
                  <a:pt x="3545" y="11146"/>
                </a:cubicBezTo>
                <a:cubicBezTo>
                  <a:pt x="3549" y="11170"/>
                  <a:pt x="3550" y="11174"/>
                  <a:pt x="3552" y="11188"/>
                </a:cubicBezTo>
                <a:cubicBezTo>
                  <a:pt x="3534" y="11074"/>
                  <a:pt x="3535" y="10956"/>
                  <a:pt x="3543" y="10842"/>
                </a:cubicBezTo>
                <a:cubicBezTo>
                  <a:pt x="3550" y="10733"/>
                  <a:pt x="3563" y="10617"/>
                  <a:pt x="3600" y="10514"/>
                </a:cubicBezTo>
                <a:cubicBezTo>
                  <a:pt x="3614" y="10476"/>
                  <a:pt x="3624" y="10465"/>
                  <a:pt x="3656" y="10445"/>
                </a:cubicBezTo>
                <a:cubicBezTo>
                  <a:pt x="3704" y="10469"/>
                  <a:pt x="3724" y="10506"/>
                  <a:pt x="3743" y="10558"/>
                </a:cubicBezTo>
                <a:cubicBezTo>
                  <a:pt x="3786" y="10678"/>
                  <a:pt x="3795" y="10835"/>
                  <a:pt x="3756" y="10957"/>
                </a:cubicBezTo>
                <a:cubicBezTo>
                  <a:pt x="3739" y="11010"/>
                  <a:pt x="3703" y="11064"/>
                  <a:pt x="3652" y="11089"/>
                </a:cubicBezTo>
                <a:cubicBezTo>
                  <a:pt x="3622" y="11104"/>
                  <a:pt x="3581" y="11092"/>
                  <a:pt x="3571" y="11058"/>
                </a:cubicBezTo>
                <a:cubicBezTo>
                  <a:pt x="3570" y="11033"/>
                  <a:pt x="3570" y="11024"/>
                  <a:pt x="3576" y="11007"/>
                </a:cubicBezTo>
              </a:path>
              <a:path w="976" h="744">
                <a:moveTo>
                  <a:pt x="4065" y="10630"/>
                </a:moveTo>
                <a:cubicBezTo>
                  <a:pt x="4079" y="10612"/>
                  <a:pt x="4063" y="10681"/>
                  <a:pt x="4061" y="10701"/>
                </a:cubicBezTo>
                <a:cubicBezTo>
                  <a:pt x="4056" y="10769"/>
                  <a:pt x="4047" y="10837"/>
                  <a:pt x="4037" y="10905"/>
                </a:cubicBezTo>
                <a:cubicBezTo>
                  <a:pt x="4028" y="10969"/>
                  <a:pt x="4014" y="11033"/>
                  <a:pt x="4005" y="11097"/>
                </a:cubicBezTo>
                <a:cubicBezTo>
                  <a:pt x="4003" y="11111"/>
                  <a:pt x="4002" y="11115"/>
                  <a:pt x="4007" y="11123"/>
                </a:cubicBezTo>
                <a:cubicBezTo>
                  <a:pt x="4038" y="11124"/>
                  <a:pt x="4062" y="11117"/>
                  <a:pt x="4093" y="11110"/>
                </a:cubicBezTo>
                <a:cubicBezTo>
                  <a:pt x="4141" y="11099"/>
                  <a:pt x="4184" y="11079"/>
                  <a:pt x="4230" y="11065"/>
                </a:cubicBezTo>
                <a:cubicBezTo>
                  <a:pt x="4265" y="11054"/>
                  <a:pt x="4284" y="11046"/>
                  <a:pt x="4291" y="11006"/>
                </a:cubicBezTo>
                <a:cubicBezTo>
                  <a:pt x="4291" y="10999"/>
                  <a:pt x="4292" y="10991"/>
                  <a:pt x="4292" y="10984"/>
                </a:cubicBezTo>
              </a:path>
              <a:path w="976" h="744">
                <a:moveTo>
                  <a:pt x="4114" y="10813"/>
                </a:moveTo>
                <a:cubicBezTo>
                  <a:pt x="4148" y="10816"/>
                  <a:pt x="4172" y="10812"/>
                  <a:pt x="4205" y="10803"/>
                </a:cubicBezTo>
                <a:cubicBezTo>
                  <a:pt x="4238" y="10795"/>
                  <a:pt x="4297" y="10780"/>
                  <a:pt x="4315" y="10748"/>
                </a:cubicBezTo>
                <a:cubicBezTo>
                  <a:pt x="4316" y="10743"/>
                  <a:pt x="4318" y="10739"/>
                  <a:pt x="4319" y="10734"/>
                </a:cubicBezTo>
              </a:path>
              <a:path w="976" h="744">
                <a:moveTo>
                  <a:pt x="4121" y="10632"/>
                </a:moveTo>
                <a:cubicBezTo>
                  <a:pt x="4141" y="10600"/>
                  <a:pt x="4165" y="10595"/>
                  <a:pt x="4198" y="10579"/>
                </a:cubicBezTo>
                <a:cubicBezTo>
                  <a:pt x="4266" y="10545"/>
                  <a:pt x="4322" y="10538"/>
                  <a:pt x="4397" y="10534"/>
                </a:cubicBezTo>
                <a:cubicBezTo>
                  <a:pt x="4409" y="10533"/>
                  <a:pt x="4421" y="10533"/>
                  <a:pt x="4433" y="1053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1716120" y="3755880"/>
            <a:ext cx="1147680" cy="238320"/>
          </a:xfrm>
          <a:custGeom>
            <a:avLst/>
            <a:gdLst/>
            <a:ahLst/>
            <a:rect l="l" t="t" r="r" b="b"/>
            <a:pathLst>
              <a:path w="3189" h="663">
                <a:moveTo>
                  <a:pt x="4767" y="10968"/>
                </a:moveTo>
                <a:cubicBezTo>
                  <a:pt x="4771" y="10990"/>
                  <a:pt x="4765" y="10994"/>
                  <a:pt x="4773" y="10971"/>
                </a:cubicBezTo>
                <a:cubicBezTo>
                  <a:pt x="4786" y="10933"/>
                  <a:pt x="4799" y="10895"/>
                  <a:pt x="4811" y="10856"/>
                </a:cubicBezTo>
                <a:cubicBezTo>
                  <a:pt x="4852" y="10729"/>
                  <a:pt x="4883" y="10591"/>
                  <a:pt x="4944" y="10472"/>
                </a:cubicBezTo>
                <a:cubicBezTo>
                  <a:pt x="4962" y="10438"/>
                  <a:pt x="4964" y="10434"/>
                  <a:pt x="4993" y="10443"/>
                </a:cubicBezTo>
                <a:cubicBezTo>
                  <a:pt x="5015" y="10514"/>
                  <a:pt x="5023" y="10587"/>
                  <a:pt x="5032" y="10661"/>
                </a:cubicBezTo>
                <a:cubicBezTo>
                  <a:pt x="5044" y="10766"/>
                  <a:pt x="5052" y="10872"/>
                  <a:pt x="5061" y="10977"/>
                </a:cubicBezTo>
                <a:cubicBezTo>
                  <a:pt x="5064" y="11016"/>
                  <a:pt x="5070" y="11054"/>
                  <a:pt x="5072" y="11093"/>
                </a:cubicBezTo>
              </a:path>
              <a:path w="3189" h="663">
                <a:moveTo>
                  <a:pt x="4874" y="10896"/>
                </a:moveTo>
                <a:cubicBezTo>
                  <a:pt x="4858" y="10896"/>
                  <a:pt x="4854" y="10896"/>
                  <a:pt x="4844" y="10898"/>
                </a:cubicBezTo>
                <a:cubicBezTo>
                  <a:pt x="4884" y="10873"/>
                  <a:pt x="4927" y="10864"/>
                  <a:pt x="4972" y="10850"/>
                </a:cubicBezTo>
                <a:cubicBezTo>
                  <a:pt x="5052" y="10824"/>
                  <a:pt x="5133" y="10810"/>
                  <a:pt x="5216" y="10794"/>
                </a:cubicBezTo>
              </a:path>
              <a:path w="3189" h="663">
                <a:moveTo>
                  <a:pt x="5277" y="10578"/>
                </a:moveTo>
                <a:cubicBezTo>
                  <a:pt x="5256" y="10570"/>
                  <a:pt x="5262" y="10574"/>
                  <a:pt x="5264" y="10611"/>
                </a:cubicBezTo>
                <a:cubicBezTo>
                  <a:pt x="5268" y="10674"/>
                  <a:pt x="5271" y="10736"/>
                  <a:pt x="5274" y="10799"/>
                </a:cubicBezTo>
                <a:cubicBezTo>
                  <a:pt x="5276" y="10846"/>
                  <a:pt x="5279" y="10891"/>
                  <a:pt x="5276" y="10938"/>
                </a:cubicBezTo>
                <a:cubicBezTo>
                  <a:pt x="5260" y="10889"/>
                  <a:pt x="5258" y="10843"/>
                  <a:pt x="5260" y="10791"/>
                </a:cubicBezTo>
                <a:cubicBezTo>
                  <a:pt x="5263" y="10704"/>
                  <a:pt x="5280" y="10616"/>
                  <a:pt x="5317" y="10536"/>
                </a:cubicBezTo>
                <a:cubicBezTo>
                  <a:pt x="5338" y="10490"/>
                  <a:pt x="5356" y="10467"/>
                  <a:pt x="5405" y="10466"/>
                </a:cubicBezTo>
                <a:cubicBezTo>
                  <a:pt x="5433" y="10510"/>
                  <a:pt x="5433" y="10544"/>
                  <a:pt x="5419" y="10596"/>
                </a:cubicBezTo>
                <a:cubicBezTo>
                  <a:pt x="5399" y="10672"/>
                  <a:pt x="5352" y="10742"/>
                  <a:pt x="5293" y="10793"/>
                </a:cubicBezTo>
                <a:cubicBezTo>
                  <a:pt x="5354" y="10774"/>
                  <a:pt x="5406" y="10775"/>
                  <a:pt x="5465" y="10803"/>
                </a:cubicBezTo>
                <a:cubicBezTo>
                  <a:pt x="5530" y="10833"/>
                  <a:pt x="5607" y="10916"/>
                  <a:pt x="5564" y="10993"/>
                </a:cubicBezTo>
                <a:cubicBezTo>
                  <a:pt x="5548" y="11022"/>
                  <a:pt x="5493" y="11052"/>
                  <a:pt x="5459" y="11046"/>
                </a:cubicBezTo>
                <a:cubicBezTo>
                  <a:pt x="5408" y="11037"/>
                  <a:pt x="5418" y="10982"/>
                  <a:pt x="5422" y="10948"/>
                </a:cubicBezTo>
              </a:path>
              <a:path w="3189" h="663">
                <a:moveTo>
                  <a:pt x="6006" y="10553"/>
                </a:moveTo>
                <a:cubicBezTo>
                  <a:pt x="5965" y="10580"/>
                  <a:pt x="5925" y="10611"/>
                  <a:pt x="5888" y="10644"/>
                </a:cubicBezTo>
                <a:cubicBezTo>
                  <a:pt x="5829" y="10697"/>
                  <a:pt x="5769" y="10759"/>
                  <a:pt x="5733" y="10831"/>
                </a:cubicBezTo>
                <a:cubicBezTo>
                  <a:pt x="5708" y="10882"/>
                  <a:pt x="5706" y="10936"/>
                  <a:pt x="5766" y="10959"/>
                </a:cubicBezTo>
                <a:cubicBezTo>
                  <a:pt x="5848" y="10991"/>
                  <a:pt x="5970" y="10980"/>
                  <a:pt x="6056" y="10974"/>
                </a:cubicBezTo>
                <a:cubicBezTo>
                  <a:pt x="6098" y="10971"/>
                  <a:pt x="6138" y="10963"/>
                  <a:pt x="6179" y="10955"/>
                </a:cubicBezTo>
              </a:path>
              <a:path w="3189" h="663">
                <a:moveTo>
                  <a:pt x="6509" y="10589"/>
                </a:moveTo>
                <a:cubicBezTo>
                  <a:pt x="6541" y="10597"/>
                  <a:pt x="6528" y="10631"/>
                  <a:pt x="6531" y="10660"/>
                </a:cubicBezTo>
                <a:cubicBezTo>
                  <a:pt x="6538" y="10735"/>
                  <a:pt x="6543" y="10810"/>
                  <a:pt x="6547" y="10886"/>
                </a:cubicBezTo>
                <a:cubicBezTo>
                  <a:pt x="6551" y="10950"/>
                  <a:pt x="6556" y="11013"/>
                  <a:pt x="6560" y="11077"/>
                </a:cubicBezTo>
                <a:cubicBezTo>
                  <a:pt x="6560" y="11083"/>
                  <a:pt x="6561" y="11090"/>
                  <a:pt x="6561" y="11096"/>
                </a:cubicBezTo>
              </a:path>
              <a:path w="3189" h="663">
                <a:moveTo>
                  <a:pt x="6473" y="10727"/>
                </a:moveTo>
                <a:cubicBezTo>
                  <a:pt x="6478" y="10681"/>
                  <a:pt x="6484" y="10663"/>
                  <a:pt x="6521" y="10634"/>
                </a:cubicBezTo>
                <a:cubicBezTo>
                  <a:pt x="6571" y="10594"/>
                  <a:pt x="6642" y="10573"/>
                  <a:pt x="6705" y="10563"/>
                </a:cubicBezTo>
                <a:cubicBezTo>
                  <a:pt x="6762" y="10554"/>
                  <a:pt x="6813" y="10561"/>
                  <a:pt x="6866" y="10580"/>
                </a:cubicBezTo>
              </a:path>
              <a:path w="3189" h="663">
                <a:moveTo>
                  <a:pt x="6666" y="10787"/>
                </a:moveTo>
                <a:cubicBezTo>
                  <a:pt x="6650" y="10796"/>
                  <a:pt x="6638" y="10803"/>
                  <a:pt x="6620" y="10808"/>
                </a:cubicBezTo>
                <a:cubicBezTo>
                  <a:pt x="6651" y="10782"/>
                  <a:pt x="6689" y="10773"/>
                  <a:pt x="6731" y="10766"/>
                </a:cubicBezTo>
                <a:cubicBezTo>
                  <a:pt x="6788" y="10756"/>
                  <a:pt x="6847" y="10754"/>
                  <a:pt x="6905" y="10748"/>
                </a:cubicBezTo>
              </a:path>
              <a:path w="3189" h="663">
                <a:moveTo>
                  <a:pt x="7249" y="10621"/>
                </a:moveTo>
                <a:cubicBezTo>
                  <a:pt x="7245" y="10606"/>
                  <a:pt x="7243" y="10602"/>
                  <a:pt x="7236" y="10589"/>
                </a:cubicBezTo>
                <a:cubicBezTo>
                  <a:pt x="7214" y="10612"/>
                  <a:pt x="7193" y="10634"/>
                  <a:pt x="7177" y="10663"/>
                </a:cubicBezTo>
                <a:cubicBezTo>
                  <a:pt x="7146" y="10721"/>
                  <a:pt x="7126" y="10784"/>
                  <a:pt x="7117" y="10850"/>
                </a:cubicBezTo>
                <a:cubicBezTo>
                  <a:pt x="7110" y="10903"/>
                  <a:pt x="7108" y="10969"/>
                  <a:pt x="7138" y="11016"/>
                </a:cubicBezTo>
                <a:cubicBezTo>
                  <a:pt x="7156" y="11045"/>
                  <a:pt x="7191" y="11051"/>
                  <a:pt x="7216" y="11028"/>
                </a:cubicBezTo>
                <a:cubicBezTo>
                  <a:pt x="7259" y="10988"/>
                  <a:pt x="7252" y="10917"/>
                  <a:pt x="7235" y="10868"/>
                </a:cubicBezTo>
                <a:cubicBezTo>
                  <a:pt x="7226" y="10841"/>
                  <a:pt x="7210" y="10821"/>
                  <a:pt x="7195" y="10798"/>
                </a:cubicBezTo>
                <a:cubicBezTo>
                  <a:pt x="7231" y="10799"/>
                  <a:pt x="7266" y="10808"/>
                  <a:pt x="7302" y="10811"/>
                </a:cubicBezTo>
                <a:cubicBezTo>
                  <a:pt x="7356" y="10816"/>
                  <a:pt x="7408" y="10825"/>
                  <a:pt x="7463" y="10819"/>
                </a:cubicBezTo>
                <a:cubicBezTo>
                  <a:pt x="7471" y="10818"/>
                  <a:pt x="7478" y="10816"/>
                  <a:pt x="7486" y="10815"/>
                </a:cubicBezTo>
              </a:path>
              <a:path w="3189" h="663">
                <a:moveTo>
                  <a:pt x="7677" y="10558"/>
                </a:moveTo>
                <a:cubicBezTo>
                  <a:pt x="7677" y="10599"/>
                  <a:pt x="7674" y="10637"/>
                  <a:pt x="7674" y="10678"/>
                </a:cubicBezTo>
                <a:cubicBezTo>
                  <a:pt x="7674" y="10740"/>
                  <a:pt x="7673" y="10804"/>
                  <a:pt x="7678" y="10866"/>
                </a:cubicBezTo>
                <a:cubicBezTo>
                  <a:pt x="7681" y="10904"/>
                  <a:pt x="7688" y="10941"/>
                  <a:pt x="7696" y="10978"/>
                </a:cubicBezTo>
              </a:path>
              <a:path w="3189" h="663">
                <a:moveTo>
                  <a:pt x="7636" y="10869"/>
                </a:moveTo>
                <a:cubicBezTo>
                  <a:pt x="7648" y="10851"/>
                  <a:pt x="7676" y="10831"/>
                  <a:pt x="7696" y="10823"/>
                </a:cubicBezTo>
                <a:cubicBezTo>
                  <a:pt x="7739" y="10806"/>
                  <a:pt x="7788" y="10793"/>
                  <a:pt x="7833" y="10781"/>
                </a:cubicBezTo>
                <a:cubicBezTo>
                  <a:pt x="7860" y="10774"/>
                  <a:pt x="7883" y="10766"/>
                  <a:pt x="7908" y="10755"/>
                </a:cubicBezTo>
              </a:path>
              <a:path w="3189" h="663">
                <a:moveTo>
                  <a:pt x="7924" y="10625"/>
                </a:moveTo>
                <a:cubicBezTo>
                  <a:pt x="7919" y="10648"/>
                  <a:pt x="7913" y="10675"/>
                  <a:pt x="7913" y="10698"/>
                </a:cubicBezTo>
                <a:cubicBezTo>
                  <a:pt x="7913" y="10746"/>
                  <a:pt x="7920" y="10795"/>
                  <a:pt x="7928" y="10842"/>
                </a:cubicBezTo>
                <a:cubicBezTo>
                  <a:pt x="7934" y="10878"/>
                  <a:pt x="7944" y="10910"/>
                  <a:pt x="7955" y="1094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3164040" y="3795840"/>
            <a:ext cx="180720" cy="201600"/>
          </a:xfrm>
          <a:custGeom>
            <a:avLst/>
            <a:gdLst/>
            <a:ahLst/>
            <a:rect l="l" t="t" r="r" b="b"/>
            <a:pathLst>
              <a:path w="506" h="560">
                <a:moveTo>
                  <a:pt x="8828" y="10708"/>
                </a:moveTo>
                <a:cubicBezTo>
                  <a:pt x="8800" y="10713"/>
                  <a:pt x="8804" y="10734"/>
                  <a:pt x="8803" y="10763"/>
                </a:cubicBezTo>
                <a:cubicBezTo>
                  <a:pt x="8802" y="10826"/>
                  <a:pt x="8801" y="10894"/>
                  <a:pt x="8822" y="10953"/>
                </a:cubicBezTo>
                <a:cubicBezTo>
                  <a:pt x="8830" y="10976"/>
                  <a:pt x="8832" y="10980"/>
                  <a:pt x="8851" y="10979"/>
                </a:cubicBezTo>
              </a:path>
              <a:path w="506" h="560">
                <a:moveTo>
                  <a:pt x="8813" y="10635"/>
                </a:moveTo>
                <a:cubicBezTo>
                  <a:pt x="8800" y="10608"/>
                  <a:pt x="8790" y="10588"/>
                  <a:pt x="8787" y="10558"/>
                </a:cubicBezTo>
                <a:cubicBezTo>
                  <a:pt x="8813" y="10552"/>
                  <a:pt x="8828" y="10548"/>
                  <a:pt x="8855" y="10545"/>
                </a:cubicBezTo>
              </a:path>
              <a:path w="506" h="560">
                <a:moveTo>
                  <a:pt x="9172" y="10721"/>
                </a:moveTo>
                <a:cubicBezTo>
                  <a:pt x="9142" y="10743"/>
                  <a:pt x="9116" y="10751"/>
                  <a:pt x="9084" y="10766"/>
                </a:cubicBezTo>
                <a:cubicBezTo>
                  <a:pt x="9073" y="10775"/>
                  <a:pt x="9070" y="10777"/>
                  <a:pt x="9062" y="10781"/>
                </a:cubicBezTo>
                <a:cubicBezTo>
                  <a:pt x="9093" y="10795"/>
                  <a:pt x="9126" y="10801"/>
                  <a:pt x="9156" y="10817"/>
                </a:cubicBezTo>
                <a:cubicBezTo>
                  <a:pt x="9205" y="10843"/>
                  <a:pt x="9252" y="10877"/>
                  <a:pt x="9276" y="10929"/>
                </a:cubicBezTo>
                <a:cubicBezTo>
                  <a:pt x="9297" y="10974"/>
                  <a:pt x="9298" y="11026"/>
                  <a:pt x="9268" y="11067"/>
                </a:cubicBezTo>
                <a:cubicBezTo>
                  <a:pt x="9240" y="11106"/>
                  <a:pt x="9197" y="11105"/>
                  <a:pt x="9155" y="11097"/>
                </a:cubicBezTo>
                <a:cubicBezTo>
                  <a:pt x="9118" y="11089"/>
                  <a:pt x="9098" y="11059"/>
                  <a:pt x="9090" y="11023"/>
                </a:cubicBezTo>
                <a:cubicBezTo>
                  <a:pt x="9089" y="11014"/>
                  <a:pt x="9089" y="11005"/>
                  <a:pt x="9088" y="1099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3614760" y="3776760"/>
            <a:ext cx="619200" cy="331560"/>
          </a:xfrm>
          <a:custGeom>
            <a:avLst/>
            <a:gdLst/>
            <a:ahLst/>
            <a:rect l="l" t="t" r="r" b="b"/>
            <a:pathLst>
              <a:path w="1719" h="919">
                <a:moveTo>
                  <a:pt x="10142" y="10840"/>
                </a:moveTo>
                <a:cubicBezTo>
                  <a:pt x="10113" y="10840"/>
                  <a:pt x="10117" y="10851"/>
                  <a:pt x="10108" y="10876"/>
                </a:cubicBezTo>
                <a:cubicBezTo>
                  <a:pt x="10094" y="10913"/>
                  <a:pt x="10091" y="10953"/>
                  <a:pt x="10095" y="10993"/>
                </a:cubicBezTo>
                <a:cubicBezTo>
                  <a:pt x="10097" y="11012"/>
                  <a:pt x="10097" y="11065"/>
                  <a:pt x="10127" y="11068"/>
                </a:cubicBezTo>
                <a:cubicBezTo>
                  <a:pt x="10131" y="11067"/>
                  <a:pt x="10136" y="11065"/>
                  <a:pt x="10140" y="11064"/>
                </a:cubicBezTo>
              </a:path>
              <a:path w="1719" h="919">
                <a:moveTo>
                  <a:pt x="10282" y="10844"/>
                </a:moveTo>
                <a:cubicBezTo>
                  <a:pt x="10293" y="10828"/>
                  <a:pt x="10311" y="10811"/>
                  <a:pt x="10319" y="10793"/>
                </a:cubicBezTo>
                <a:cubicBezTo>
                  <a:pt x="10319" y="10790"/>
                  <a:pt x="10318" y="10786"/>
                  <a:pt x="10318" y="10783"/>
                </a:cubicBezTo>
                <a:cubicBezTo>
                  <a:pt x="10299" y="10775"/>
                  <a:pt x="10294" y="10770"/>
                  <a:pt x="10272" y="10771"/>
                </a:cubicBezTo>
                <a:cubicBezTo>
                  <a:pt x="10246" y="10772"/>
                  <a:pt x="10214" y="10798"/>
                  <a:pt x="10197" y="10815"/>
                </a:cubicBezTo>
                <a:cubicBezTo>
                  <a:pt x="10164" y="10848"/>
                  <a:pt x="10139" y="10889"/>
                  <a:pt x="10124" y="10933"/>
                </a:cubicBezTo>
                <a:cubicBezTo>
                  <a:pt x="10110" y="10975"/>
                  <a:pt x="10102" y="11018"/>
                  <a:pt x="10125" y="11058"/>
                </a:cubicBezTo>
                <a:cubicBezTo>
                  <a:pt x="10146" y="11094"/>
                  <a:pt x="10184" y="11103"/>
                  <a:pt x="10222" y="11095"/>
                </a:cubicBezTo>
                <a:cubicBezTo>
                  <a:pt x="10267" y="11085"/>
                  <a:pt x="10300" y="11051"/>
                  <a:pt x="10325" y="11014"/>
                </a:cubicBezTo>
                <a:cubicBezTo>
                  <a:pt x="10347" y="10980"/>
                  <a:pt x="10358" y="10945"/>
                  <a:pt x="10366" y="10906"/>
                </a:cubicBezTo>
                <a:cubicBezTo>
                  <a:pt x="10358" y="10949"/>
                  <a:pt x="10354" y="10966"/>
                  <a:pt x="10349" y="11009"/>
                </a:cubicBezTo>
                <a:cubicBezTo>
                  <a:pt x="10339" y="11092"/>
                  <a:pt x="10333" y="11178"/>
                  <a:pt x="10310" y="11259"/>
                </a:cubicBezTo>
                <a:cubicBezTo>
                  <a:pt x="10294" y="11316"/>
                  <a:pt x="10269" y="11378"/>
                  <a:pt x="10210" y="11402"/>
                </a:cubicBezTo>
                <a:cubicBezTo>
                  <a:pt x="10166" y="11419"/>
                  <a:pt x="10111" y="11405"/>
                  <a:pt x="10078" y="11373"/>
                </a:cubicBezTo>
                <a:cubicBezTo>
                  <a:pt x="10032" y="11328"/>
                  <a:pt x="10036" y="11271"/>
                  <a:pt x="10058" y="11215"/>
                </a:cubicBezTo>
                <a:cubicBezTo>
                  <a:pt x="10067" y="11198"/>
                  <a:pt x="10075" y="11180"/>
                  <a:pt x="10084" y="11163"/>
                </a:cubicBezTo>
              </a:path>
              <a:path w="1719" h="919">
                <a:moveTo>
                  <a:pt x="10795" y="10728"/>
                </a:moveTo>
                <a:cubicBezTo>
                  <a:pt x="10767" y="10729"/>
                  <a:pt x="10725" y="10757"/>
                  <a:pt x="10702" y="10776"/>
                </a:cubicBezTo>
                <a:cubicBezTo>
                  <a:pt x="10660" y="10811"/>
                  <a:pt x="10617" y="10860"/>
                  <a:pt x="10594" y="10910"/>
                </a:cubicBezTo>
                <a:cubicBezTo>
                  <a:pt x="10583" y="10934"/>
                  <a:pt x="10569" y="10982"/>
                  <a:pt x="10607" y="10988"/>
                </a:cubicBezTo>
                <a:cubicBezTo>
                  <a:pt x="10645" y="10994"/>
                  <a:pt x="10688" y="10968"/>
                  <a:pt x="10716" y="10946"/>
                </a:cubicBezTo>
                <a:cubicBezTo>
                  <a:pt x="10754" y="10917"/>
                  <a:pt x="10786" y="10877"/>
                  <a:pt x="10794" y="10830"/>
                </a:cubicBezTo>
                <a:cubicBezTo>
                  <a:pt x="10798" y="10808"/>
                  <a:pt x="10793" y="10796"/>
                  <a:pt x="10782" y="10777"/>
                </a:cubicBezTo>
              </a:path>
              <a:path w="1719" h="919">
                <a:moveTo>
                  <a:pt x="11119" y="10791"/>
                </a:moveTo>
                <a:cubicBezTo>
                  <a:pt x="11114" y="10777"/>
                  <a:pt x="11091" y="10780"/>
                  <a:pt x="11073" y="10789"/>
                </a:cubicBezTo>
                <a:cubicBezTo>
                  <a:pt x="11041" y="10805"/>
                  <a:pt x="11005" y="10835"/>
                  <a:pt x="10982" y="10863"/>
                </a:cubicBezTo>
                <a:cubicBezTo>
                  <a:pt x="10966" y="10882"/>
                  <a:pt x="10944" y="10919"/>
                  <a:pt x="10961" y="10944"/>
                </a:cubicBezTo>
                <a:cubicBezTo>
                  <a:pt x="10977" y="10968"/>
                  <a:pt x="11025" y="10962"/>
                  <a:pt x="11048" y="10958"/>
                </a:cubicBezTo>
                <a:cubicBezTo>
                  <a:pt x="11086" y="10952"/>
                  <a:pt x="11120" y="10934"/>
                  <a:pt x="11152" y="10913"/>
                </a:cubicBezTo>
                <a:cubicBezTo>
                  <a:pt x="11170" y="10901"/>
                  <a:pt x="11190" y="10886"/>
                  <a:pt x="11196" y="10864"/>
                </a:cubicBezTo>
                <a:cubicBezTo>
                  <a:pt x="11199" y="10852"/>
                  <a:pt x="11194" y="10834"/>
                  <a:pt x="11188" y="10823"/>
                </a:cubicBezTo>
                <a:cubicBezTo>
                  <a:pt x="11178" y="10807"/>
                  <a:pt x="11163" y="10796"/>
                  <a:pt x="11151" y="10783"/>
                </a:cubicBezTo>
                <a:cubicBezTo>
                  <a:pt x="11138" y="10769"/>
                  <a:pt x="11138" y="10764"/>
                  <a:pt x="11141" y="10748"/>
                </a:cubicBezTo>
              </a:path>
              <a:path w="1719" h="919">
                <a:moveTo>
                  <a:pt x="11535" y="10789"/>
                </a:moveTo>
                <a:cubicBezTo>
                  <a:pt x="11490" y="10815"/>
                  <a:pt x="11449" y="10838"/>
                  <a:pt x="11410" y="10872"/>
                </a:cubicBezTo>
                <a:cubicBezTo>
                  <a:pt x="11380" y="10898"/>
                  <a:pt x="11325" y="10948"/>
                  <a:pt x="11331" y="10994"/>
                </a:cubicBezTo>
                <a:cubicBezTo>
                  <a:pt x="11335" y="10999"/>
                  <a:pt x="11338" y="11004"/>
                  <a:pt x="11342" y="11009"/>
                </a:cubicBezTo>
                <a:cubicBezTo>
                  <a:pt x="11391" y="11014"/>
                  <a:pt x="11429" y="10994"/>
                  <a:pt x="11468" y="10960"/>
                </a:cubicBezTo>
                <a:cubicBezTo>
                  <a:pt x="11522" y="10914"/>
                  <a:pt x="11563" y="10850"/>
                  <a:pt x="11586" y="10783"/>
                </a:cubicBezTo>
                <a:cubicBezTo>
                  <a:pt x="11608" y="10720"/>
                  <a:pt x="11614" y="10651"/>
                  <a:pt x="11616" y="10584"/>
                </a:cubicBezTo>
                <a:cubicBezTo>
                  <a:pt x="11617" y="10553"/>
                  <a:pt x="11615" y="10523"/>
                  <a:pt x="11612" y="10492"/>
                </a:cubicBezTo>
                <a:cubicBezTo>
                  <a:pt x="11600" y="10533"/>
                  <a:pt x="11593" y="10571"/>
                  <a:pt x="11596" y="10619"/>
                </a:cubicBezTo>
                <a:cubicBezTo>
                  <a:pt x="11600" y="10696"/>
                  <a:pt x="11613" y="10779"/>
                  <a:pt x="11655" y="10846"/>
                </a:cubicBezTo>
                <a:cubicBezTo>
                  <a:pt x="11684" y="10892"/>
                  <a:pt x="11712" y="10898"/>
                  <a:pt x="11760" y="1091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5300640" y="3765600"/>
            <a:ext cx="811080" cy="415800"/>
          </a:xfrm>
          <a:custGeom>
            <a:avLst/>
            <a:gdLst/>
            <a:ahLst/>
            <a:rect l="l" t="t" r="r" b="b"/>
            <a:pathLst>
              <a:path w="2250" h="1156">
                <a:moveTo>
                  <a:pt x="15109" y="10565"/>
                </a:moveTo>
                <a:cubicBezTo>
                  <a:pt x="15067" y="10561"/>
                  <a:pt x="15062" y="10566"/>
                  <a:pt x="15019" y="10587"/>
                </a:cubicBezTo>
                <a:cubicBezTo>
                  <a:pt x="14947" y="10622"/>
                  <a:pt x="14879" y="10664"/>
                  <a:pt x="14814" y="10712"/>
                </a:cubicBezTo>
                <a:cubicBezTo>
                  <a:pt x="14770" y="10745"/>
                  <a:pt x="14749" y="10770"/>
                  <a:pt x="14729" y="10812"/>
                </a:cubicBezTo>
                <a:cubicBezTo>
                  <a:pt x="14787" y="10817"/>
                  <a:pt x="14843" y="10808"/>
                  <a:pt x="14901" y="10800"/>
                </a:cubicBezTo>
                <a:cubicBezTo>
                  <a:pt x="14934" y="10796"/>
                  <a:pt x="15033" y="10769"/>
                  <a:pt x="15050" y="10819"/>
                </a:cubicBezTo>
                <a:cubicBezTo>
                  <a:pt x="15071" y="10880"/>
                  <a:pt x="14983" y="10974"/>
                  <a:pt x="14952" y="11015"/>
                </a:cubicBezTo>
                <a:cubicBezTo>
                  <a:pt x="14899" y="11085"/>
                  <a:pt x="14838" y="11153"/>
                  <a:pt x="14798" y="11231"/>
                </a:cubicBezTo>
                <a:cubicBezTo>
                  <a:pt x="14788" y="11257"/>
                  <a:pt x="14784" y="11262"/>
                  <a:pt x="14786" y="11279"/>
                </a:cubicBezTo>
                <a:cubicBezTo>
                  <a:pt x="14816" y="11290"/>
                  <a:pt x="14846" y="11295"/>
                  <a:pt x="14877" y="11305"/>
                </a:cubicBezTo>
                <a:cubicBezTo>
                  <a:pt x="14911" y="11316"/>
                  <a:pt x="14929" y="11339"/>
                  <a:pt x="14929" y="11375"/>
                </a:cubicBezTo>
                <a:cubicBezTo>
                  <a:pt x="14929" y="11420"/>
                  <a:pt x="14902" y="11462"/>
                  <a:pt x="14887" y="11503"/>
                </a:cubicBezTo>
                <a:cubicBezTo>
                  <a:pt x="14876" y="11532"/>
                  <a:pt x="14883" y="11535"/>
                  <a:pt x="14886" y="11558"/>
                </a:cubicBezTo>
                <a:cubicBezTo>
                  <a:pt x="14936" y="11549"/>
                  <a:pt x="14971" y="11538"/>
                  <a:pt x="15018" y="11514"/>
                </a:cubicBezTo>
                <a:cubicBezTo>
                  <a:pt x="15068" y="11487"/>
                  <a:pt x="15085" y="11478"/>
                  <a:pt x="15120" y="11461"/>
                </a:cubicBezTo>
              </a:path>
              <a:path w="2250" h="1156">
                <a:moveTo>
                  <a:pt x="15373" y="11477"/>
                </a:moveTo>
                <a:cubicBezTo>
                  <a:pt x="15347" y="11451"/>
                  <a:pt x="15332" y="11413"/>
                  <a:pt x="15331" y="11375"/>
                </a:cubicBezTo>
                <a:cubicBezTo>
                  <a:pt x="15329" y="11292"/>
                  <a:pt x="15358" y="11200"/>
                  <a:pt x="15385" y="11123"/>
                </a:cubicBezTo>
                <a:cubicBezTo>
                  <a:pt x="15418" y="11028"/>
                  <a:pt x="15459" y="10935"/>
                  <a:pt x="15507" y="10846"/>
                </a:cubicBezTo>
                <a:cubicBezTo>
                  <a:pt x="15527" y="10808"/>
                  <a:pt x="15533" y="10791"/>
                  <a:pt x="15568" y="10781"/>
                </a:cubicBezTo>
                <a:cubicBezTo>
                  <a:pt x="15577" y="10858"/>
                  <a:pt x="15568" y="10935"/>
                  <a:pt x="15564" y="11013"/>
                </a:cubicBezTo>
                <a:cubicBezTo>
                  <a:pt x="15558" y="11129"/>
                  <a:pt x="15558" y="11245"/>
                  <a:pt x="15554" y="11361"/>
                </a:cubicBezTo>
                <a:cubicBezTo>
                  <a:pt x="15552" y="11401"/>
                  <a:pt x="15549" y="11436"/>
                  <a:pt x="15540" y="11475"/>
                </a:cubicBezTo>
              </a:path>
              <a:path w="2250" h="1156">
                <a:moveTo>
                  <a:pt x="15380" y="11295"/>
                </a:moveTo>
                <a:cubicBezTo>
                  <a:pt x="15358" y="11240"/>
                  <a:pt x="15354" y="11216"/>
                  <a:pt x="15409" y="11187"/>
                </a:cubicBezTo>
                <a:cubicBezTo>
                  <a:pt x="15476" y="11152"/>
                  <a:pt x="15548" y="11136"/>
                  <a:pt x="15618" y="11109"/>
                </a:cubicBezTo>
                <a:cubicBezTo>
                  <a:pt x="15676" y="11087"/>
                  <a:pt x="15729" y="11059"/>
                  <a:pt x="15783" y="11029"/>
                </a:cubicBezTo>
              </a:path>
              <a:path w="2250" h="1156">
                <a:moveTo>
                  <a:pt x="15869" y="10900"/>
                </a:moveTo>
                <a:cubicBezTo>
                  <a:pt x="15849" y="10932"/>
                  <a:pt x="15849" y="10952"/>
                  <a:pt x="15843" y="11000"/>
                </a:cubicBezTo>
                <a:cubicBezTo>
                  <a:pt x="15833" y="11078"/>
                  <a:pt x="15832" y="11156"/>
                  <a:pt x="15833" y="11235"/>
                </a:cubicBezTo>
                <a:cubicBezTo>
                  <a:pt x="15834" y="11278"/>
                  <a:pt x="15836" y="11320"/>
                  <a:pt x="15840" y="11363"/>
                </a:cubicBezTo>
                <a:cubicBezTo>
                  <a:pt x="15853" y="11312"/>
                  <a:pt x="15853" y="11260"/>
                  <a:pt x="15859" y="11207"/>
                </a:cubicBezTo>
                <a:cubicBezTo>
                  <a:pt x="15875" y="11075"/>
                  <a:pt x="15894" y="10936"/>
                  <a:pt x="15940" y="10810"/>
                </a:cubicBezTo>
                <a:cubicBezTo>
                  <a:pt x="15958" y="10761"/>
                  <a:pt x="15964" y="10755"/>
                  <a:pt x="16000" y="10743"/>
                </a:cubicBezTo>
                <a:cubicBezTo>
                  <a:pt x="16010" y="10781"/>
                  <a:pt x="16006" y="10812"/>
                  <a:pt x="15991" y="10849"/>
                </a:cubicBezTo>
                <a:cubicBezTo>
                  <a:pt x="15971" y="10899"/>
                  <a:pt x="15918" y="10939"/>
                  <a:pt x="15902" y="10987"/>
                </a:cubicBezTo>
                <a:cubicBezTo>
                  <a:pt x="15903" y="10990"/>
                  <a:pt x="15904" y="10993"/>
                  <a:pt x="15905" y="10996"/>
                </a:cubicBezTo>
                <a:cubicBezTo>
                  <a:pt x="15970" y="10984"/>
                  <a:pt x="16032" y="10979"/>
                  <a:pt x="16096" y="10997"/>
                </a:cubicBezTo>
                <a:cubicBezTo>
                  <a:pt x="16158" y="11015"/>
                  <a:pt x="16222" y="11054"/>
                  <a:pt x="16246" y="11117"/>
                </a:cubicBezTo>
                <a:cubicBezTo>
                  <a:pt x="16269" y="11177"/>
                  <a:pt x="16252" y="11242"/>
                  <a:pt x="16210" y="11287"/>
                </a:cubicBezTo>
                <a:cubicBezTo>
                  <a:pt x="16184" y="11316"/>
                  <a:pt x="16119" y="11360"/>
                  <a:pt x="16076" y="11351"/>
                </a:cubicBezTo>
                <a:cubicBezTo>
                  <a:pt x="16067" y="11346"/>
                  <a:pt x="16059" y="11341"/>
                  <a:pt x="16050" y="11336"/>
                </a:cubicBezTo>
                <a:cubicBezTo>
                  <a:pt x="16034" y="11280"/>
                  <a:pt x="16059" y="11259"/>
                  <a:pt x="16092" y="11212"/>
                </a:cubicBezTo>
              </a:path>
              <a:path w="2250" h="1156">
                <a:moveTo>
                  <a:pt x="16637" y="10787"/>
                </a:moveTo>
                <a:cubicBezTo>
                  <a:pt x="16674" y="10742"/>
                  <a:pt x="16540" y="10871"/>
                  <a:pt x="16527" y="10885"/>
                </a:cubicBezTo>
                <a:cubicBezTo>
                  <a:pt x="16461" y="10956"/>
                  <a:pt x="16389" y="11039"/>
                  <a:pt x="16354" y="11131"/>
                </a:cubicBezTo>
                <a:cubicBezTo>
                  <a:pt x="16329" y="11196"/>
                  <a:pt x="16342" y="11247"/>
                  <a:pt x="16412" y="11265"/>
                </a:cubicBezTo>
                <a:cubicBezTo>
                  <a:pt x="16489" y="11285"/>
                  <a:pt x="16582" y="11269"/>
                  <a:pt x="16660" y="11259"/>
                </a:cubicBezTo>
                <a:cubicBezTo>
                  <a:pt x="16720" y="11249"/>
                  <a:pt x="16739" y="11246"/>
                  <a:pt x="16778" y="11240"/>
                </a:cubicBezTo>
              </a:path>
              <a:path w="2250" h="1156">
                <a:moveTo>
                  <a:pt x="16975" y="11297"/>
                </a:moveTo>
                <a:cubicBezTo>
                  <a:pt x="16972" y="11331"/>
                  <a:pt x="16967" y="11366"/>
                  <a:pt x="16960" y="11399"/>
                </a:cubicBezTo>
                <a:cubicBezTo>
                  <a:pt x="16950" y="11446"/>
                  <a:pt x="16937" y="11493"/>
                  <a:pt x="16925" y="11540"/>
                </a:cubicBezTo>
                <a:cubicBezTo>
                  <a:pt x="16920" y="11559"/>
                  <a:pt x="16916" y="11572"/>
                  <a:pt x="16906" y="11589"/>
                </a:cubicBezTo>
              </a:path>
              <a:path w="2250" h="1156">
                <a:moveTo>
                  <a:pt x="15134" y="10535"/>
                </a:moveTo>
                <a:cubicBezTo>
                  <a:pt x="15134" y="10533"/>
                  <a:pt x="15148" y="10490"/>
                  <a:pt x="15113" y="10530"/>
                </a:cubicBezTo>
                <a:cubicBezTo>
                  <a:pt x="15088" y="10558"/>
                  <a:pt x="15071" y="10601"/>
                  <a:pt x="15058" y="10636"/>
                </a:cubicBezTo>
                <a:cubicBezTo>
                  <a:pt x="15033" y="10705"/>
                  <a:pt x="15016" y="10776"/>
                  <a:pt x="15003" y="10848"/>
                </a:cubicBezTo>
                <a:cubicBezTo>
                  <a:pt x="14986" y="10941"/>
                  <a:pt x="14976" y="11038"/>
                  <a:pt x="14977" y="11132"/>
                </a:cubicBezTo>
                <a:cubicBezTo>
                  <a:pt x="14978" y="11243"/>
                  <a:pt x="14993" y="11355"/>
                  <a:pt x="15024" y="11462"/>
                </a:cubicBezTo>
                <a:cubicBezTo>
                  <a:pt x="15035" y="11501"/>
                  <a:pt x="15053" y="11539"/>
                  <a:pt x="15073" y="11575"/>
                </a:cubicBezTo>
                <a:cubicBezTo>
                  <a:pt x="15076" y="11579"/>
                  <a:pt x="15079" y="11583"/>
                  <a:pt x="15082" y="11587"/>
                </a:cubicBezTo>
                <a:cubicBezTo>
                  <a:pt x="15080" y="11566"/>
                  <a:pt x="15080" y="11546"/>
                  <a:pt x="15076" y="11525"/>
                </a:cubicBezTo>
                <a:cubicBezTo>
                  <a:pt x="15064" y="11464"/>
                  <a:pt x="15049" y="11405"/>
                  <a:pt x="15037" y="11344"/>
                </a:cubicBezTo>
                <a:cubicBezTo>
                  <a:pt x="15005" y="11175"/>
                  <a:pt x="14982" y="11006"/>
                  <a:pt x="14997" y="10834"/>
                </a:cubicBezTo>
                <a:cubicBezTo>
                  <a:pt x="15004" y="10756"/>
                  <a:pt x="15020" y="10680"/>
                  <a:pt x="15047" y="10607"/>
                </a:cubicBezTo>
                <a:cubicBezTo>
                  <a:pt x="15062" y="10566"/>
                  <a:pt x="15083" y="10524"/>
                  <a:pt x="15112" y="10491"/>
                </a:cubicBezTo>
                <a:cubicBezTo>
                  <a:pt x="15123" y="10478"/>
                  <a:pt x="15125" y="10475"/>
                  <a:pt x="15134" y="10469"/>
                </a:cubicBezTo>
                <a:cubicBezTo>
                  <a:pt x="15122" y="10485"/>
                  <a:pt x="15124" y="10478"/>
                  <a:pt x="15112" y="10494"/>
                </a:cubicBezTo>
                <a:cubicBezTo>
                  <a:pt x="15061" y="10559"/>
                  <a:pt x="15029" y="10645"/>
                  <a:pt x="15005" y="10723"/>
                </a:cubicBezTo>
                <a:cubicBezTo>
                  <a:pt x="14963" y="10859"/>
                  <a:pt x="14817" y="11498"/>
                  <a:pt x="14978" y="11605"/>
                </a:cubicBezTo>
                <a:cubicBezTo>
                  <a:pt x="15004" y="11622"/>
                  <a:pt x="15005" y="11572"/>
                  <a:pt x="15011" y="1154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6262560" y="3870360"/>
            <a:ext cx="187560" cy="262080"/>
          </a:xfrm>
          <a:custGeom>
            <a:avLst/>
            <a:gdLst/>
            <a:ahLst/>
            <a:rect l="l" t="t" r="r" b="b"/>
            <a:pathLst>
              <a:path w="520" h="727">
                <a:moveTo>
                  <a:pt x="17429" y="10872"/>
                </a:moveTo>
                <a:cubicBezTo>
                  <a:pt x="17424" y="10859"/>
                  <a:pt x="17422" y="10854"/>
                  <a:pt x="17413" y="10849"/>
                </a:cubicBezTo>
                <a:cubicBezTo>
                  <a:pt x="17403" y="10887"/>
                  <a:pt x="17395" y="10924"/>
                  <a:pt x="17395" y="10965"/>
                </a:cubicBezTo>
                <a:cubicBezTo>
                  <a:pt x="17396" y="11049"/>
                  <a:pt x="17404" y="11134"/>
                  <a:pt x="17408" y="11218"/>
                </a:cubicBezTo>
                <a:cubicBezTo>
                  <a:pt x="17410" y="11249"/>
                  <a:pt x="17405" y="11330"/>
                  <a:pt x="17441" y="11310"/>
                </a:cubicBezTo>
              </a:path>
              <a:path w="520" h="727">
                <a:moveTo>
                  <a:pt x="17443" y="10853"/>
                </a:moveTo>
                <a:cubicBezTo>
                  <a:pt x="17459" y="10814"/>
                  <a:pt x="17484" y="10763"/>
                  <a:pt x="17532" y="10751"/>
                </a:cubicBezTo>
                <a:cubicBezTo>
                  <a:pt x="17588" y="10737"/>
                  <a:pt x="17650" y="10760"/>
                  <a:pt x="17684" y="10806"/>
                </a:cubicBezTo>
                <a:cubicBezTo>
                  <a:pt x="17733" y="10874"/>
                  <a:pt x="17733" y="10975"/>
                  <a:pt x="17714" y="11053"/>
                </a:cubicBezTo>
                <a:cubicBezTo>
                  <a:pt x="17688" y="11159"/>
                  <a:pt x="17626" y="11251"/>
                  <a:pt x="17545" y="11321"/>
                </a:cubicBezTo>
                <a:cubicBezTo>
                  <a:pt x="17527" y="11336"/>
                  <a:pt x="17480" y="11366"/>
                  <a:pt x="17497" y="11319"/>
                </a:cubicBezTo>
                <a:cubicBezTo>
                  <a:pt x="17502" y="11311"/>
                  <a:pt x="17507" y="11303"/>
                  <a:pt x="17512" y="11295"/>
                </a:cubicBezTo>
              </a:path>
              <a:path w="520" h="727">
                <a:moveTo>
                  <a:pt x="17914" y="11266"/>
                </a:moveTo>
                <a:cubicBezTo>
                  <a:pt x="17908" y="11313"/>
                  <a:pt x="17892" y="11339"/>
                  <a:pt x="17872" y="11381"/>
                </a:cubicBezTo>
                <a:cubicBezTo>
                  <a:pt x="17870" y="11385"/>
                  <a:pt x="17812" y="11481"/>
                  <a:pt x="17810" y="11476"/>
                </a:cubicBezTo>
                <a:cubicBezTo>
                  <a:pt x="17813" y="11471"/>
                  <a:pt x="17817" y="11467"/>
                  <a:pt x="17820" y="1146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6581880" y="3851280"/>
            <a:ext cx="547560" cy="401760"/>
          </a:xfrm>
          <a:custGeom>
            <a:avLst/>
            <a:gdLst/>
            <a:ahLst/>
            <a:rect l="l" t="t" r="r" b="b"/>
            <a:pathLst>
              <a:path w="1520" h="1115">
                <a:moveTo>
                  <a:pt x="18370" y="10899"/>
                </a:moveTo>
                <a:cubicBezTo>
                  <a:pt x="18378" y="10884"/>
                  <a:pt x="18384" y="10871"/>
                  <a:pt x="18390" y="10856"/>
                </a:cubicBezTo>
                <a:cubicBezTo>
                  <a:pt x="18394" y="10885"/>
                  <a:pt x="18378" y="10917"/>
                  <a:pt x="18368" y="10947"/>
                </a:cubicBezTo>
                <a:cubicBezTo>
                  <a:pt x="18349" y="11008"/>
                  <a:pt x="18328" y="11068"/>
                  <a:pt x="18309" y="11129"/>
                </a:cubicBezTo>
                <a:cubicBezTo>
                  <a:pt x="18298" y="11163"/>
                  <a:pt x="18272" y="11230"/>
                  <a:pt x="18284" y="11267"/>
                </a:cubicBezTo>
                <a:cubicBezTo>
                  <a:pt x="18295" y="11301"/>
                  <a:pt x="18343" y="11285"/>
                  <a:pt x="18366" y="11280"/>
                </a:cubicBezTo>
                <a:cubicBezTo>
                  <a:pt x="18419" y="11267"/>
                  <a:pt x="18473" y="11250"/>
                  <a:pt x="18524" y="11230"/>
                </a:cubicBezTo>
                <a:cubicBezTo>
                  <a:pt x="18568" y="11213"/>
                  <a:pt x="18615" y="11211"/>
                  <a:pt x="18657" y="11188"/>
                </a:cubicBezTo>
                <a:cubicBezTo>
                  <a:pt x="18673" y="11177"/>
                  <a:pt x="18678" y="11173"/>
                  <a:pt x="18684" y="11161"/>
                </a:cubicBezTo>
              </a:path>
              <a:path w="1520" h="1115">
                <a:moveTo>
                  <a:pt x="18451" y="11099"/>
                </a:moveTo>
                <a:cubicBezTo>
                  <a:pt x="18434" y="11079"/>
                  <a:pt x="18476" y="11064"/>
                  <a:pt x="18497" y="11057"/>
                </a:cubicBezTo>
                <a:cubicBezTo>
                  <a:pt x="18541" y="11043"/>
                  <a:pt x="18589" y="11037"/>
                  <a:pt x="18632" y="11020"/>
                </a:cubicBezTo>
                <a:cubicBezTo>
                  <a:pt x="18640" y="11016"/>
                  <a:pt x="18649" y="11011"/>
                  <a:pt x="18657" y="11007"/>
                </a:cubicBezTo>
              </a:path>
              <a:path w="1520" h="1115">
                <a:moveTo>
                  <a:pt x="18456" y="10877"/>
                </a:moveTo>
                <a:cubicBezTo>
                  <a:pt x="18450" y="10848"/>
                  <a:pt x="18464" y="10823"/>
                  <a:pt x="18492" y="10806"/>
                </a:cubicBezTo>
                <a:cubicBezTo>
                  <a:pt x="18557" y="10767"/>
                  <a:pt x="18657" y="10767"/>
                  <a:pt x="18730" y="10769"/>
                </a:cubicBezTo>
                <a:cubicBezTo>
                  <a:pt x="18747" y="10770"/>
                  <a:pt x="18765" y="10771"/>
                  <a:pt x="18782" y="10772"/>
                </a:cubicBezTo>
              </a:path>
              <a:path w="1520" h="1115">
                <a:moveTo>
                  <a:pt x="19010" y="11103"/>
                </a:moveTo>
                <a:cubicBezTo>
                  <a:pt x="18993" y="11163"/>
                  <a:pt x="18979" y="11226"/>
                  <a:pt x="18959" y="11285"/>
                </a:cubicBezTo>
                <a:cubicBezTo>
                  <a:pt x="18946" y="11322"/>
                  <a:pt x="18940" y="11359"/>
                  <a:pt x="18929" y="11396"/>
                </a:cubicBezTo>
                <a:cubicBezTo>
                  <a:pt x="18921" y="11423"/>
                  <a:pt x="18948" y="11385"/>
                  <a:pt x="18948" y="11384"/>
                </a:cubicBezTo>
              </a:path>
              <a:path w="1520" h="1115">
                <a:moveTo>
                  <a:pt x="19324" y="10861"/>
                </a:moveTo>
                <a:cubicBezTo>
                  <a:pt x="19324" y="10856"/>
                  <a:pt x="19324" y="10850"/>
                  <a:pt x="19324" y="10845"/>
                </a:cubicBezTo>
                <a:cubicBezTo>
                  <a:pt x="19295" y="10869"/>
                  <a:pt x="19285" y="10910"/>
                  <a:pt x="19276" y="10947"/>
                </a:cubicBezTo>
                <a:cubicBezTo>
                  <a:pt x="19260" y="11011"/>
                  <a:pt x="19258" y="11066"/>
                  <a:pt x="19266" y="11130"/>
                </a:cubicBezTo>
                <a:cubicBezTo>
                  <a:pt x="19270" y="11166"/>
                  <a:pt x="19276" y="11181"/>
                  <a:pt x="19312" y="11187"/>
                </a:cubicBezTo>
              </a:path>
              <a:path w="1520" h="1115">
                <a:moveTo>
                  <a:pt x="19297" y="10772"/>
                </a:moveTo>
                <a:cubicBezTo>
                  <a:pt x="19306" y="10743"/>
                  <a:pt x="19324" y="10722"/>
                  <a:pt x="19357" y="10712"/>
                </a:cubicBezTo>
                <a:cubicBezTo>
                  <a:pt x="19416" y="10695"/>
                  <a:pt x="19482" y="10698"/>
                  <a:pt x="19541" y="10707"/>
                </a:cubicBezTo>
                <a:cubicBezTo>
                  <a:pt x="19590" y="10715"/>
                  <a:pt x="19629" y="10722"/>
                  <a:pt x="19667" y="10754"/>
                </a:cubicBezTo>
              </a:path>
              <a:path w="1520" h="1115">
                <a:moveTo>
                  <a:pt x="19266" y="11028"/>
                </a:moveTo>
                <a:cubicBezTo>
                  <a:pt x="19269" y="10991"/>
                  <a:pt x="19313" y="10983"/>
                  <a:pt x="19344" y="10966"/>
                </a:cubicBezTo>
                <a:cubicBezTo>
                  <a:pt x="19406" y="10933"/>
                  <a:pt x="19458" y="10925"/>
                  <a:pt x="19528" y="10928"/>
                </a:cubicBezTo>
                <a:cubicBezTo>
                  <a:pt x="19574" y="10930"/>
                  <a:pt x="19613" y="10940"/>
                  <a:pt x="19657" y="10952"/>
                </a:cubicBezTo>
              </a:path>
              <a:path w="1520" h="1115">
                <a:moveTo>
                  <a:pt x="19802" y="11092"/>
                </a:moveTo>
                <a:cubicBezTo>
                  <a:pt x="19780" y="11158"/>
                  <a:pt x="19755" y="11222"/>
                  <a:pt x="19741" y="11290"/>
                </a:cubicBezTo>
                <a:cubicBezTo>
                  <a:pt x="19734" y="11325"/>
                  <a:pt x="19730" y="11363"/>
                  <a:pt x="19738" y="11398"/>
                </a:cubicBezTo>
                <a:cubicBezTo>
                  <a:pt x="19739" y="11401"/>
                  <a:pt x="19740" y="11405"/>
                  <a:pt x="19741" y="11408"/>
                </a:cubicBezTo>
              </a:path>
              <a:path w="1520" h="1115">
                <a:moveTo>
                  <a:pt x="18368" y="11813"/>
                </a:moveTo>
                <a:cubicBezTo>
                  <a:pt x="18350" y="11807"/>
                  <a:pt x="18330" y="11804"/>
                  <a:pt x="18313" y="11795"/>
                </a:cubicBezTo>
                <a:cubicBezTo>
                  <a:pt x="18285" y="11780"/>
                  <a:pt x="18326" y="11809"/>
                  <a:pt x="18326" y="1180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7311960" y="3830760"/>
            <a:ext cx="204840" cy="199800"/>
          </a:xfrm>
          <a:custGeom>
            <a:avLst/>
            <a:gdLst/>
            <a:ahLst/>
            <a:rect l="l" t="t" r="r" b="b"/>
            <a:pathLst>
              <a:path w="569" h="558">
                <a:moveTo>
                  <a:pt x="20556" y="10680"/>
                </a:moveTo>
                <a:cubicBezTo>
                  <a:pt x="20559" y="10658"/>
                  <a:pt x="20559" y="10665"/>
                  <a:pt x="20554" y="10644"/>
                </a:cubicBezTo>
                <a:cubicBezTo>
                  <a:pt x="20525" y="10644"/>
                  <a:pt x="20512" y="10646"/>
                  <a:pt x="20485" y="10665"/>
                </a:cubicBezTo>
                <a:cubicBezTo>
                  <a:pt x="20442" y="10695"/>
                  <a:pt x="20409" y="10739"/>
                  <a:pt x="20380" y="10783"/>
                </a:cubicBezTo>
                <a:cubicBezTo>
                  <a:pt x="20334" y="10853"/>
                  <a:pt x="20299" y="10935"/>
                  <a:pt x="20312" y="11021"/>
                </a:cubicBezTo>
                <a:cubicBezTo>
                  <a:pt x="20328" y="11128"/>
                  <a:pt x="20424" y="11179"/>
                  <a:pt x="20521" y="11193"/>
                </a:cubicBezTo>
                <a:cubicBezTo>
                  <a:pt x="20573" y="11201"/>
                  <a:pt x="20628" y="11197"/>
                  <a:pt x="20670" y="11162"/>
                </a:cubicBezTo>
                <a:cubicBezTo>
                  <a:pt x="20704" y="11134"/>
                  <a:pt x="20695" y="11093"/>
                  <a:pt x="20677" y="11058"/>
                </a:cubicBezTo>
                <a:cubicBezTo>
                  <a:pt x="20656" y="11018"/>
                  <a:pt x="20619" y="10989"/>
                  <a:pt x="20581" y="10965"/>
                </a:cubicBezTo>
                <a:cubicBezTo>
                  <a:pt x="20562" y="10953"/>
                  <a:pt x="20549" y="10951"/>
                  <a:pt x="20530" y="10945"/>
                </a:cubicBezTo>
                <a:cubicBezTo>
                  <a:pt x="20561" y="10959"/>
                  <a:pt x="20587" y="10962"/>
                  <a:pt x="20627" y="10965"/>
                </a:cubicBezTo>
                <a:cubicBezTo>
                  <a:pt x="20684" y="10969"/>
                  <a:pt x="20739" y="10967"/>
                  <a:pt x="20796" y="10967"/>
                </a:cubicBezTo>
                <a:cubicBezTo>
                  <a:pt x="20823" y="10967"/>
                  <a:pt x="20850" y="10967"/>
                  <a:pt x="20877" y="1096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7624800" y="3956040"/>
            <a:ext cx="15840" cy="146160"/>
          </a:xfrm>
          <a:custGeom>
            <a:avLst/>
            <a:gdLst/>
            <a:ahLst/>
            <a:rect l="l" t="t" r="r" b="b"/>
            <a:pathLst>
              <a:path w="43" h="405">
                <a:moveTo>
                  <a:pt x="21205" y="10991"/>
                </a:moveTo>
                <a:cubicBezTo>
                  <a:pt x="21210" y="11016"/>
                  <a:pt x="21213" y="11041"/>
                  <a:pt x="21216" y="11066"/>
                </a:cubicBezTo>
                <a:cubicBezTo>
                  <a:pt x="21222" y="11118"/>
                  <a:pt x="21223" y="11166"/>
                  <a:pt x="21218" y="11218"/>
                </a:cubicBezTo>
                <a:cubicBezTo>
                  <a:pt x="21213" y="11270"/>
                  <a:pt x="21201" y="11321"/>
                  <a:pt x="21189" y="11371"/>
                </a:cubicBezTo>
                <a:cubicBezTo>
                  <a:pt x="21187" y="11379"/>
                  <a:pt x="21184" y="11387"/>
                  <a:pt x="21182" y="1139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7756560" y="3811680"/>
            <a:ext cx="358920" cy="558720"/>
          </a:xfrm>
          <a:custGeom>
            <a:avLst/>
            <a:gdLst/>
            <a:ahLst/>
            <a:rect l="l" t="t" r="r" b="b"/>
            <a:pathLst>
              <a:path w="1000" h="1552">
                <a:moveTo>
                  <a:pt x="21547" y="10659"/>
                </a:moveTo>
                <a:cubicBezTo>
                  <a:pt x="21576" y="10691"/>
                  <a:pt x="21564" y="10740"/>
                  <a:pt x="21566" y="10784"/>
                </a:cubicBezTo>
                <a:cubicBezTo>
                  <a:pt x="21571" y="10892"/>
                  <a:pt x="21572" y="10999"/>
                  <a:pt x="21569" y="11107"/>
                </a:cubicBezTo>
                <a:cubicBezTo>
                  <a:pt x="21569" y="11141"/>
                  <a:pt x="21569" y="11149"/>
                  <a:pt x="21570" y="11170"/>
                </a:cubicBezTo>
              </a:path>
              <a:path w="1000" h="1552">
                <a:moveTo>
                  <a:pt x="21544" y="11001"/>
                </a:moveTo>
                <a:cubicBezTo>
                  <a:pt x="21574" y="10984"/>
                  <a:pt x="21600" y="10967"/>
                  <a:pt x="21632" y="10954"/>
                </a:cubicBezTo>
                <a:cubicBezTo>
                  <a:pt x="21687" y="10931"/>
                  <a:pt x="21741" y="10907"/>
                  <a:pt x="21788" y="10871"/>
                </a:cubicBezTo>
                <a:cubicBezTo>
                  <a:pt x="21798" y="10862"/>
                  <a:pt x="21808" y="10853"/>
                  <a:pt x="21818" y="10844"/>
                </a:cubicBezTo>
              </a:path>
              <a:path w="1000" h="1552">
                <a:moveTo>
                  <a:pt x="21861" y="10635"/>
                </a:moveTo>
                <a:cubicBezTo>
                  <a:pt x="21843" y="10692"/>
                  <a:pt x="21844" y="10735"/>
                  <a:pt x="21846" y="10795"/>
                </a:cubicBezTo>
                <a:cubicBezTo>
                  <a:pt x="21849" y="10897"/>
                  <a:pt x="21853" y="11003"/>
                  <a:pt x="21872" y="11104"/>
                </a:cubicBezTo>
                <a:cubicBezTo>
                  <a:pt x="21885" y="11172"/>
                  <a:pt x="21899" y="11238"/>
                  <a:pt x="21932" y="11298"/>
                </a:cubicBezTo>
              </a:path>
              <a:path w="1000" h="1552">
                <a:moveTo>
                  <a:pt x="22237" y="10631"/>
                </a:moveTo>
                <a:cubicBezTo>
                  <a:pt x="22224" y="10614"/>
                  <a:pt x="22220" y="10605"/>
                  <a:pt x="22212" y="10587"/>
                </a:cubicBezTo>
                <a:cubicBezTo>
                  <a:pt x="22254" y="10590"/>
                  <a:pt x="22277" y="10593"/>
                  <a:pt x="22314" y="10620"/>
                </a:cubicBezTo>
                <a:cubicBezTo>
                  <a:pt x="22395" y="10680"/>
                  <a:pt x="22456" y="10765"/>
                  <a:pt x="22495" y="10858"/>
                </a:cubicBezTo>
                <a:cubicBezTo>
                  <a:pt x="22550" y="10990"/>
                  <a:pt x="22562" y="11146"/>
                  <a:pt x="22514" y="11282"/>
                </a:cubicBezTo>
                <a:cubicBezTo>
                  <a:pt x="22498" y="11328"/>
                  <a:pt x="22455" y="11410"/>
                  <a:pt x="22406" y="11430"/>
                </a:cubicBezTo>
                <a:cubicBezTo>
                  <a:pt x="22382" y="11440"/>
                  <a:pt x="22362" y="11424"/>
                  <a:pt x="22343" y="11413"/>
                </a:cubicBezTo>
              </a:path>
              <a:path w="1000" h="1552">
                <a:moveTo>
                  <a:pt x="22253" y="12118"/>
                </a:moveTo>
                <a:cubicBezTo>
                  <a:pt x="22237" y="12125"/>
                  <a:pt x="22202" y="12151"/>
                  <a:pt x="22188" y="12124"/>
                </a:cubicBezTo>
                <a:cubicBezTo>
                  <a:pt x="22187" y="12109"/>
                  <a:pt x="22187" y="12104"/>
                  <a:pt x="22197" y="1209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6621480" y="4821120"/>
            <a:ext cx="14400" cy="23760"/>
          </a:xfrm>
          <a:custGeom>
            <a:avLst/>
            <a:gdLst/>
            <a:ahLst/>
            <a:rect l="l" t="t" r="r" b="b"/>
            <a:pathLst>
              <a:path w="39" h="68">
                <a:moveTo>
                  <a:pt x="18424" y="13458"/>
                </a:moveTo>
                <a:cubicBezTo>
                  <a:pt x="18434" y="13436"/>
                  <a:pt x="18430" y="13424"/>
                  <a:pt x="18421" y="13401"/>
                </a:cubicBezTo>
                <a:cubicBezTo>
                  <a:pt x="18414" y="13387"/>
                  <a:pt x="18409" y="13386"/>
                  <a:pt x="18394" y="1340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2530440" y="4456080"/>
            <a:ext cx="638280" cy="417600"/>
          </a:xfrm>
          <a:custGeom>
            <a:avLst/>
            <a:gdLst/>
            <a:ahLst/>
            <a:rect l="l" t="t" r="r" b="b"/>
            <a:pathLst>
              <a:path w="1775" h="1163">
                <a:moveTo>
                  <a:pt x="7085" y="12563"/>
                </a:moveTo>
                <a:cubicBezTo>
                  <a:pt x="7075" y="12598"/>
                  <a:pt x="7080" y="12612"/>
                  <a:pt x="7085" y="12648"/>
                </a:cubicBezTo>
                <a:cubicBezTo>
                  <a:pt x="7098" y="12742"/>
                  <a:pt x="7114" y="12836"/>
                  <a:pt x="7125" y="12930"/>
                </a:cubicBezTo>
                <a:cubicBezTo>
                  <a:pt x="7137" y="13038"/>
                  <a:pt x="7146" y="13149"/>
                  <a:pt x="7152" y="13258"/>
                </a:cubicBezTo>
                <a:cubicBezTo>
                  <a:pt x="7153" y="13283"/>
                  <a:pt x="7154" y="13289"/>
                  <a:pt x="7151" y="13304"/>
                </a:cubicBezTo>
                <a:cubicBezTo>
                  <a:pt x="7130" y="13257"/>
                  <a:pt x="7117" y="13206"/>
                  <a:pt x="7108" y="13155"/>
                </a:cubicBezTo>
                <a:cubicBezTo>
                  <a:pt x="7090" y="13059"/>
                  <a:pt x="7079" y="12960"/>
                  <a:pt x="7074" y="12863"/>
                </a:cubicBezTo>
                <a:cubicBezTo>
                  <a:pt x="7068" y="12736"/>
                  <a:pt x="7055" y="12544"/>
                  <a:pt x="7127" y="12431"/>
                </a:cubicBezTo>
                <a:cubicBezTo>
                  <a:pt x="7149" y="12397"/>
                  <a:pt x="7186" y="12390"/>
                  <a:pt x="7222" y="12407"/>
                </a:cubicBezTo>
                <a:cubicBezTo>
                  <a:pt x="7277" y="12433"/>
                  <a:pt x="7321" y="12491"/>
                  <a:pt x="7345" y="12546"/>
                </a:cubicBezTo>
                <a:cubicBezTo>
                  <a:pt x="7377" y="12619"/>
                  <a:pt x="7377" y="12707"/>
                  <a:pt x="7349" y="12781"/>
                </a:cubicBezTo>
                <a:cubicBezTo>
                  <a:pt x="7320" y="12857"/>
                  <a:pt x="7260" y="12912"/>
                  <a:pt x="7190" y="12949"/>
                </a:cubicBezTo>
                <a:cubicBezTo>
                  <a:pt x="7156" y="12967"/>
                  <a:pt x="7089" y="12998"/>
                  <a:pt x="7049" y="12978"/>
                </a:cubicBezTo>
                <a:cubicBezTo>
                  <a:pt x="7023" y="12965"/>
                  <a:pt x="7036" y="12959"/>
                  <a:pt x="7034" y="12939"/>
                </a:cubicBezTo>
              </a:path>
              <a:path w="1775" h="1163">
                <a:moveTo>
                  <a:pt x="7849" y="12387"/>
                </a:moveTo>
                <a:cubicBezTo>
                  <a:pt x="7821" y="12384"/>
                  <a:pt x="7803" y="12377"/>
                  <a:pt x="7776" y="12409"/>
                </a:cubicBezTo>
                <a:cubicBezTo>
                  <a:pt x="7728" y="12465"/>
                  <a:pt x="7685" y="12539"/>
                  <a:pt x="7660" y="12608"/>
                </a:cubicBezTo>
                <a:cubicBezTo>
                  <a:pt x="7625" y="12705"/>
                  <a:pt x="7606" y="12812"/>
                  <a:pt x="7606" y="12915"/>
                </a:cubicBezTo>
                <a:cubicBezTo>
                  <a:pt x="7606" y="13017"/>
                  <a:pt x="7626" y="13119"/>
                  <a:pt x="7660" y="13215"/>
                </a:cubicBezTo>
                <a:cubicBezTo>
                  <a:pt x="7683" y="13280"/>
                  <a:pt x="7716" y="13351"/>
                  <a:pt x="7762" y="13404"/>
                </a:cubicBezTo>
                <a:cubicBezTo>
                  <a:pt x="7784" y="13430"/>
                  <a:pt x="7798" y="13434"/>
                  <a:pt x="7829" y="13441"/>
                </a:cubicBezTo>
              </a:path>
              <a:path w="1775" h="1163">
                <a:moveTo>
                  <a:pt x="8337" y="12568"/>
                </a:moveTo>
                <a:cubicBezTo>
                  <a:pt x="8340" y="12548"/>
                  <a:pt x="8341" y="12543"/>
                  <a:pt x="8338" y="12531"/>
                </a:cubicBezTo>
                <a:cubicBezTo>
                  <a:pt x="8286" y="12558"/>
                  <a:pt x="8260" y="12607"/>
                  <a:pt x="8227" y="12659"/>
                </a:cubicBezTo>
                <a:cubicBezTo>
                  <a:pt x="8172" y="12747"/>
                  <a:pt x="8126" y="12843"/>
                  <a:pt x="8106" y="12945"/>
                </a:cubicBezTo>
                <a:cubicBezTo>
                  <a:pt x="8091" y="13021"/>
                  <a:pt x="8095" y="13107"/>
                  <a:pt x="8160" y="13159"/>
                </a:cubicBezTo>
                <a:cubicBezTo>
                  <a:pt x="8216" y="13203"/>
                  <a:pt x="8298" y="13197"/>
                  <a:pt x="8361" y="13177"/>
                </a:cubicBezTo>
                <a:cubicBezTo>
                  <a:pt x="8418" y="13159"/>
                  <a:pt x="8470" y="13123"/>
                  <a:pt x="8488" y="13064"/>
                </a:cubicBezTo>
                <a:cubicBezTo>
                  <a:pt x="8503" y="13016"/>
                  <a:pt x="8478" y="12973"/>
                  <a:pt x="8436" y="12950"/>
                </a:cubicBezTo>
                <a:cubicBezTo>
                  <a:pt x="8370" y="12914"/>
                  <a:pt x="8294" y="12929"/>
                  <a:pt x="8228" y="12955"/>
                </a:cubicBezTo>
                <a:cubicBezTo>
                  <a:pt x="8209" y="12963"/>
                  <a:pt x="8151" y="12991"/>
                  <a:pt x="8185" y="13021"/>
                </a:cubicBezTo>
                <a:cubicBezTo>
                  <a:pt x="8193" y="13025"/>
                  <a:pt x="8201" y="13030"/>
                  <a:pt x="8209" y="13034"/>
                </a:cubicBezTo>
              </a:path>
              <a:path w="1775" h="1163">
                <a:moveTo>
                  <a:pt x="8758" y="13203"/>
                </a:moveTo>
                <a:cubicBezTo>
                  <a:pt x="8787" y="13245"/>
                  <a:pt x="8803" y="13265"/>
                  <a:pt x="8795" y="13315"/>
                </a:cubicBezTo>
                <a:cubicBezTo>
                  <a:pt x="8787" y="13364"/>
                  <a:pt x="8760" y="13394"/>
                  <a:pt x="8722" y="13425"/>
                </a:cubicBezTo>
                <a:cubicBezTo>
                  <a:pt x="8682" y="13458"/>
                  <a:pt x="8641" y="13481"/>
                  <a:pt x="8596" y="13505"/>
                </a:cubicBezTo>
                <a:cubicBezTo>
                  <a:pt x="8576" y="13516"/>
                  <a:pt x="8557" y="13527"/>
                  <a:pt x="8538" y="1353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3346560" y="4498920"/>
            <a:ext cx="141120" cy="252360"/>
          </a:xfrm>
          <a:custGeom>
            <a:avLst/>
            <a:gdLst/>
            <a:ahLst/>
            <a:rect l="l" t="t" r="r" b="b"/>
            <a:pathLst>
              <a:path w="393" h="699">
                <a:moveTo>
                  <a:pt x="9475" y="12498"/>
                </a:moveTo>
                <a:cubicBezTo>
                  <a:pt x="9434" y="12520"/>
                  <a:pt x="9399" y="12563"/>
                  <a:pt x="9377" y="12605"/>
                </a:cubicBezTo>
                <a:cubicBezTo>
                  <a:pt x="9334" y="12689"/>
                  <a:pt x="9307" y="12786"/>
                  <a:pt x="9303" y="12880"/>
                </a:cubicBezTo>
                <a:cubicBezTo>
                  <a:pt x="9299" y="12972"/>
                  <a:pt x="9317" y="13071"/>
                  <a:pt x="9381" y="13140"/>
                </a:cubicBezTo>
                <a:cubicBezTo>
                  <a:pt x="9442" y="13206"/>
                  <a:pt x="9542" y="13213"/>
                  <a:pt x="9615" y="13163"/>
                </a:cubicBezTo>
                <a:cubicBezTo>
                  <a:pt x="9661" y="13132"/>
                  <a:pt x="9692" y="13075"/>
                  <a:pt x="9688" y="13019"/>
                </a:cubicBezTo>
                <a:cubicBezTo>
                  <a:pt x="9684" y="12968"/>
                  <a:pt x="9649" y="12935"/>
                  <a:pt x="9599" y="12930"/>
                </a:cubicBezTo>
                <a:cubicBezTo>
                  <a:pt x="9512" y="12922"/>
                  <a:pt x="9428" y="12972"/>
                  <a:pt x="9362" y="13022"/>
                </a:cubicBezTo>
                <a:cubicBezTo>
                  <a:pt x="9323" y="13052"/>
                  <a:pt x="9294" y="13073"/>
                  <a:pt x="9301" y="1312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3646440" y="4403880"/>
            <a:ext cx="50760" cy="422280"/>
          </a:xfrm>
          <a:custGeom>
            <a:avLst/>
            <a:gdLst/>
            <a:ahLst/>
            <a:rect l="l" t="t" r="r" b="b"/>
            <a:pathLst>
              <a:path w="143" h="1172">
                <a:moveTo>
                  <a:pt x="10129" y="12250"/>
                </a:moveTo>
                <a:cubicBezTo>
                  <a:pt x="10135" y="12251"/>
                  <a:pt x="10149" y="12250"/>
                  <a:pt x="10167" y="12314"/>
                </a:cubicBezTo>
                <a:cubicBezTo>
                  <a:pt x="10199" y="12428"/>
                  <a:pt x="10228" y="12546"/>
                  <a:pt x="10245" y="12663"/>
                </a:cubicBezTo>
                <a:cubicBezTo>
                  <a:pt x="10267" y="12810"/>
                  <a:pt x="10276" y="12960"/>
                  <a:pt x="10268" y="13108"/>
                </a:cubicBezTo>
                <a:cubicBezTo>
                  <a:pt x="10264" y="13193"/>
                  <a:pt x="10252" y="13287"/>
                  <a:pt x="10205" y="13360"/>
                </a:cubicBezTo>
                <a:cubicBezTo>
                  <a:pt x="10187" y="13388"/>
                  <a:pt x="10168" y="13393"/>
                  <a:pt x="10139" y="1340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3889440" y="4602240"/>
            <a:ext cx="206280" cy="160200"/>
          </a:xfrm>
          <a:custGeom>
            <a:avLst/>
            <a:gdLst/>
            <a:ahLst/>
            <a:rect l="l" t="t" r="r" b="b"/>
            <a:pathLst>
              <a:path w="572" h="443">
                <a:moveTo>
                  <a:pt x="10804" y="12897"/>
                </a:moveTo>
                <a:cubicBezTo>
                  <a:pt x="10822" y="12864"/>
                  <a:pt x="10844" y="12856"/>
                  <a:pt x="10878" y="12841"/>
                </a:cubicBezTo>
                <a:cubicBezTo>
                  <a:pt x="10946" y="12811"/>
                  <a:pt x="11025" y="12793"/>
                  <a:pt x="11099" y="12785"/>
                </a:cubicBezTo>
                <a:cubicBezTo>
                  <a:pt x="11153" y="12779"/>
                  <a:pt x="11193" y="12785"/>
                  <a:pt x="11229" y="12823"/>
                </a:cubicBezTo>
              </a:path>
              <a:path w="572" h="443">
                <a:moveTo>
                  <a:pt x="10870" y="13187"/>
                </a:moveTo>
                <a:cubicBezTo>
                  <a:pt x="10858" y="13205"/>
                  <a:pt x="10854" y="13208"/>
                  <a:pt x="10855" y="13222"/>
                </a:cubicBezTo>
                <a:cubicBezTo>
                  <a:pt x="10908" y="13229"/>
                  <a:pt x="10953" y="13211"/>
                  <a:pt x="11006" y="13201"/>
                </a:cubicBezTo>
                <a:cubicBezTo>
                  <a:pt x="11096" y="13183"/>
                  <a:pt x="11183" y="13168"/>
                  <a:pt x="11275" y="13160"/>
                </a:cubicBezTo>
                <a:cubicBezTo>
                  <a:pt x="11326" y="13156"/>
                  <a:pt x="11342" y="13155"/>
                  <a:pt x="11375" y="1315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4307040" y="4506840"/>
            <a:ext cx="129960" cy="274680"/>
          </a:xfrm>
          <a:custGeom>
            <a:avLst/>
            <a:gdLst/>
            <a:ahLst/>
            <a:rect l="l" t="t" r="r" b="b"/>
            <a:pathLst>
              <a:path w="365" h="762">
                <a:moveTo>
                  <a:pt x="12276" y="12641"/>
                </a:moveTo>
                <a:cubicBezTo>
                  <a:pt x="12273" y="12605"/>
                  <a:pt x="12272" y="12566"/>
                  <a:pt x="12248" y="12536"/>
                </a:cubicBezTo>
                <a:cubicBezTo>
                  <a:pt x="12222" y="12503"/>
                  <a:pt x="12187" y="12521"/>
                  <a:pt x="12160" y="12543"/>
                </a:cubicBezTo>
                <a:cubicBezTo>
                  <a:pt x="12093" y="12598"/>
                  <a:pt x="12056" y="12687"/>
                  <a:pt x="12024" y="12765"/>
                </a:cubicBezTo>
                <a:cubicBezTo>
                  <a:pt x="11982" y="12869"/>
                  <a:pt x="11951" y="12982"/>
                  <a:pt x="11963" y="13095"/>
                </a:cubicBezTo>
                <a:cubicBezTo>
                  <a:pt x="11971" y="13175"/>
                  <a:pt x="12013" y="13246"/>
                  <a:pt x="12092" y="13272"/>
                </a:cubicBezTo>
                <a:cubicBezTo>
                  <a:pt x="12153" y="13292"/>
                  <a:pt x="12222" y="13278"/>
                  <a:pt x="12274" y="13241"/>
                </a:cubicBezTo>
                <a:cubicBezTo>
                  <a:pt x="12307" y="13218"/>
                  <a:pt x="12338" y="13173"/>
                  <a:pt x="12323" y="13131"/>
                </a:cubicBezTo>
                <a:cubicBezTo>
                  <a:pt x="12309" y="13090"/>
                  <a:pt x="12256" y="13088"/>
                  <a:pt x="12221" y="13090"/>
                </a:cubicBezTo>
                <a:cubicBezTo>
                  <a:pt x="12203" y="13091"/>
                  <a:pt x="12091" y="13129"/>
                  <a:pt x="12082" y="13123"/>
                </a:cubicBezTo>
                <a:cubicBezTo>
                  <a:pt x="12063" y="13123"/>
                  <a:pt x="12060" y="13119"/>
                  <a:pt x="12079" y="1309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4557600" y="4483080"/>
            <a:ext cx="1141560" cy="405000"/>
          </a:xfrm>
          <a:custGeom>
            <a:avLst/>
            <a:gdLst/>
            <a:ahLst/>
            <a:rect l="l" t="t" r="r" b="b"/>
            <a:pathLst>
              <a:path w="3170" h="1125">
                <a:moveTo>
                  <a:pt x="12660" y="12451"/>
                </a:moveTo>
                <a:cubicBezTo>
                  <a:pt x="12660" y="12494"/>
                  <a:pt x="12672" y="12535"/>
                  <a:pt x="12680" y="12578"/>
                </a:cubicBezTo>
                <a:cubicBezTo>
                  <a:pt x="12691" y="12641"/>
                  <a:pt x="12697" y="12704"/>
                  <a:pt x="12713" y="12766"/>
                </a:cubicBezTo>
                <a:cubicBezTo>
                  <a:pt x="12717" y="12779"/>
                  <a:pt x="12721" y="12791"/>
                  <a:pt x="12725" y="12804"/>
                </a:cubicBezTo>
              </a:path>
              <a:path w="3170" h="1125">
                <a:moveTo>
                  <a:pt x="12835" y="13219"/>
                </a:moveTo>
                <a:cubicBezTo>
                  <a:pt x="12801" y="13226"/>
                  <a:pt x="12777" y="13228"/>
                  <a:pt x="12751" y="13199"/>
                </a:cubicBezTo>
                <a:cubicBezTo>
                  <a:pt x="12730" y="13176"/>
                  <a:pt x="12748" y="13136"/>
                  <a:pt x="12761" y="13113"/>
                </a:cubicBezTo>
                <a:cubicBezTo>
                  <a:pt x="12767" y="13105"/>
                  <a:pt x="12772" y="13096"/>
                  <a:pt x="12778" y="13088"/>
                </a:cubicBezTo>
              </a:path>
              <a:path w="3170" h="1125">
                <a:moveTo>
                  <a:pt x="13433" y="12495"/>
                </a:moveTo>
                <a:cubicBezTo>
                  <a:pt x="13407" y="12530"/>
                  <a:pt x="13409" y="12551"/>
                  <a:pt x="13396" y="12593"/>
                </a:cubicBezTo>
                <a:cubicBezTo>
                  <a:pt x="13355" y="12721"/>
                  <a:pt x="13318" y="12850"/>
                  <a:pt x="13281" y="12980"/>
                </a:cubicBezTo>
                <a:cubicBezTo>
                  <a:pt x="13234" y="13144"/>
                  <a:pt x="13185" y="13308"/>
                  <a:pt x="13139" y="13472"/>
                </a:cubicBezTo>
                <a:cubicBezTo>
                  <a:pt x="13135" y="13487"/>
                  <a:pt x="13089" y="13603"/>
                  <a:pt x="13138" y="13560"/>
                </a:cubicBezTo>
                <a:cubicBezTo>
                  <a:pt x="13144" y="13551"/>
                  <a:pt x="13150" y="13542"/>
                  <a:pt x="13156" y="13533"/>
                </a:cubicBezTo>
              </a:path>
              <a:path w="3170" h="1125">
                <a:moveTo>
                  <a:pt x="13843" y="12539"/>
                </a:moveTo>
                <a:cubicBezTo>
                  <a:pt x="13818" y="12571"/>
                  <a:pt x="13812" y="12588"/>
                  <a:pt x="13799" y="12626"/>
                </a:cubicBezTo>
                <a:cubicBezTo>
                  <a:pt x="13763" y="12733"/>
                  <a:pt x="13734" y="12846"/>
                  <a:pt x="13712" y="12956"/>
                </a:cubicBezTo>
                <a:cubicBezTo>
                  <a:pt x="13690" y="13068"/>
                  <a:pt x="13673" y="13179"/>
                  <a:pt x="13682" y="13293"/>
                </a:cubicBezTo>
                <a:cubicBezTo>
                  <a:pt x="13685" y="13335"/>
                  <a:pt x="13698" y="13389"/>
                  <a:pt x="13751" y="13381"/>
                </a:cubicBezTo>
                <a:cubicBezTo>
                  <a:pt x="13761" y="13378"/>
                  <a:pt x="13770" y="13374"/>
                  <a:pt x="13780" y="13371"/>
                </a:cubicBezTo>
              </a:path>
              <a:path w="3170" h="1125">
                <a:moveTo>
                  <a:pt x="14208" y="12694"/>
                </a:moveTo>
                <a:cubicBezTo>
                  <a:pt x="14205" y="12647"/>
                  <a:pt x="14168" y="12732"/>
                  <a:pt x="14162" y="12742"/>
                </a:cubicBezTo>
                <a:cubicBezTo>
                  <a:pt x="14119" y="12814"/>
                  <a:pt x="14089" y="12887"/>
                  <a:pt x="14074" y="12970"/>
                </a:cubicBezTo>
                <a:cubicBezTo>
                  <a:pt x="14061" y="13043"/>
                  <a:pt x="14058" y="13125"/>
                  <a:pt x="14102" y="13189"/>
                </a:cubicBezTo>
                <a:cubicBezTo>
                  <a:pt x="14153" y="13264"/>
                  <a:pt x="14277" y="13272"/>
                  <a:pt x="14330" y="13195"/>
                </a:cubicBezTo>
                <a:cubicBezTo>
                  <a:pt x="14346" y="13172"/>
                  <a:pt x="14345" y="13149"/>
                  <a:pt x="14332" y="13125"/>
                </a:cubicBezTo>
                <a:cubicBezTo>
                  <a:pt x="14315" y="13093"/>
                  <a:pt x="14287" y="13064"/>
                  <a:pt x="14259" y="13041"/>
                </a:cubicBezTo>
                <a:cubicBezTo>
                  <a:pt x="14234" y="13020"/>
                  <a:pt x="14208" y="13000"/>
                  <a:pt x="14173" y="13004"/>
                </a:cubicBezTo>
                <a:cubicBezTo>
                  <a:pt x="14153" y="13006"/>
                  <a:pt x="14158" y="13014"/>
                  <a:pt x="14149" y="13026"/>
                </a:cubicBezTo>
              </a:path>
              <a:path w="3170" h="1125">
                <a:moveTo>
                  <a:pt x="14485" y="13092"/>
                </a:moveTo>
                <a:cubicBezTo>
                  <a:pt x="14502" y="13105"/>
                  <a:pt x="14523" y="13090"/>
                  <a:pt x="14550" y="13082"/>
                </a:cubicBezTo>
                <a:cubicBezTo>
                  <a:pt x="14596" y="13068"/>
                  <a:pt x="14643" y="13056"/>
                  <a:pt x="14690" y="13042"/>
                </a:cubicBezTo>
              </a:path>
              <a:path w="3170" h="1125">
                <a:moveTo>
                  <a:pt x="15004" y="12657"/>
                </a:moveTo>
                <a:cubicBezTo>
                  <a:pt x="14989" y="12693"/>
                  <a:pt x="14981" y="12727"/>
                  <a:pt x="14972" y="12765"/>
                </a:cubicBezTo>
                <a:cubicBezTo>
                  <a:pt x="14956" y="12834"/>
                  <a:pt x="14944" y="12904"/>
                  <a:pt x="14937" y="12974"/>
                </a:cubicBezTo>
                <a:cubicBezTo>
                  <a:pt x="14929" y="13053"/>
                  <a:pt x="14926" y="13133"/>
                  <a:pt x="14939" y="13212"/>
                </a:cubicBezTo>
                <a:cubicBezTo>
                  <a:pt x="14948" y="13265"/>
                  <a:pt x="14969" y="13354"/>
                  <a:pt x="15031" y="13370"/>
                </a:cubicBezTo>
                <a:cubicBezTo>
                  <a:pt x="15070" y="13380"/>
                  <a:pt x="15108" y="13347"/>
                  <a:pt x="15132" y="13322"/>
                </a:cubicBezTo>
                <a:cubicBezTo>
                  <a:pt x="15167" y="13284"/>
                  <a:pt x="15216" y="13211"/>
                  <a:pt x="15190" y="13157"/>
                </a:cubicBezTo>
                <a:cubicBezTo>
                  <a:pt x="15174" y="13125"/>
                  <a:pt x="15131" y="13133"/>
                  <a:pt x="15103" y="13138"/>
                </a:cubicBezTo>
                <a:cubicBezTo>
                  <a:pt x="15069" y="13145"/>
                  <a:pt x="15032" y="13160"/>
                  <a:pt x="14999" y="13172"/>
                </a:cubicBezTo>
                <a:cubicBezTo>
                  <a:pt x="14995" y="13174"/>
                  <a:pt x="14992" y="13175"/>
                  <a:pt x="14988" y="13177"/>
                </a:cubicBezTo>
              </a:path>
              <a:path w="3170" h="1125">
                <a:moveTo>
                  <a:pt x="15236" y="12669"/>
                </a:moveTo>
                <a:cubicBezTo>
                  <a:pt x="15278" y="12651"/>
                  <a:pt x="15297" y="12677"/>
                  <a:pt x="15318" y="12720"/>
                </a:cubicBezTo>
                <a:cubicBezTo>
                  <a:pt x="15358" y="12805"/>
                  <a:pt x="15378" y="12908"/>
                  <a:pt x="15390" y="13000"/>
                </a:cubicBezTo>
                <a:cubicBezTo>
                  <a:pt x="15403" y="13101"/>
                  <a:pt x="15406" y="13202"/>
                  <a:pt x="15397" y="13303"/>
                </a:cubicBezTo>
                <a:cubicBezTo>
                  <a:pt x="15394" y="13338"/>
                  <a:pt x="15393" y="13346"/>
                  <a:pt x="15388" y="13367"/>
                </a:cubicBezTo>
              </a:path>
              <a:path w="3170" h="1125">
                <a:moveTo>
                  <a:pt x="15711" y="12582"/>
                </a:moveTo>
                <a:cubicBezTo>
                  <a:pt x="15724" y="12639"/>
                  <a:pt x="15719" y="12697"/>
                  <a:pt x="15720" y="12757"/>
                </a:cubicBezTo>
                <a:cubicBezTo>
                  <a:pt x="15722" y="12854"/>
                  <a:pt x="15724" y="12954"/>
                  <a:pt x="15738" y="13050"/>
                </a:cubicBezTo>
                <a:cubicBezTo>
                  <a:pt x="15749" y="13111"/>
                  <a:pt x="15753" y="13128"/>
                  <a:pt x="15763" y="13167"/>
                </a:cubicBezTo>
              </a:path>
              <a:path w="3170" h="1125">
                <a:moveTo>
                  <a:pt x="15815" y="13395"/>
                </a:moveTo>
                <a:cubicBezTo>
                  <a:pt x="15799" y="13399"/>
                  <a:pt x="15760" y="13411"/>
                  <a:pt x="15749" y="13388"/>
                </a:cubicBezTo>
                <a:cubicBezTo>
                  <a:pt x="15737" y="13364"/>
                  <a:pt x="15777" y="13353"/>
                  <a:pt x="15788" y="13346"/>
                </a:cubicBezTo>
                <a:cubicBezTo>
                  <a:pt x="15807" y="13333"/>
                  <a:pt x="15814" y="13328"/>
                  <a:pt x="15828" y="1332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6012000" y="4535640"/>
            <a:ext cx="626760" cy="274320"/>
          </a:xfrm>
          <a:custGeom>
            <a:avLst/>
            <a:gdLst/>
            <a:ahLst/>
            <a:rect l="l" t="t" r="r" b="b"/>
            <a:pathLst>
              <a:path w="1741" h="763">
                <a:moveTo>
                  <a:pt x="16699" y="12856"/>
                </a:moveTo>
                <a:cubicBezTo>
                  <a:pt x="16728" y="12843"/>
                  <a:pt x="16765" y="12852"/>
                  <a:pt x="16800" y="12855"/>
                </a:cubicBezTo>
                <a:cubicBezTo>
                  <a:pt x="16874" y="12862"/>
                  <a:pt x="16949" y="12867"/>
                  <a:pt x="17022" y="12878"/>
                </a:cubicBezTo>
                <a:cubicBezTo>
                  <a:pt x="17071" y="12886"/>
                  <a:pt x="17122" y="12895"/>
                  <a:pt x="17166" y="12917"/>
                </a:cubicBezTo>
              </a:path>
              <a:path w="1741" h="763">
                <a:moveTo>
                  <a:pt x="16814" y="13178"/>
                </a:moveTo>
                <a:cubicBezTo>
                  <a:pt x="16803" y="13213"/>
                  <a:pt x="16823" y="13208"/>
                  <a:pt x="16860" y="13206"/>
                </a:cubicBezTo>
                <a:cubicBezTo>
                  <a:pt x="16932" y="13202"/>
                  <a:pt x="17006" y="13196"/>
                  <a:pt x="17078" y="13189"/>
                </a:cubicBezTo>
                <a:cubicBezTo>
                  <a:pt x="17138" y="13183"/>
                  <a:pt x="17196" y="13172"/>
                  <a:pt x="17255" y="13160"/>
                </a:cubicBezTo>
              </a:path>
              <a:path w="1741" h="763">
                <a:moveTo>
                  <a:pt x="17954" y="12690"/>
                </a:moveTo>
                <a:cubicBezTo>
                  <a:pt x="17915" y="12673"/>
                  <a:pt x="17919" y="12677"/>
                  <a:pt x="17873" y="12708"/>
                </a:cubicBezTo>
                <a:cubicBezTo>
                  <a:pt x="17792" y="12763"/>
                  <a:pt x="17736" y="12841"/>
                  <a:pt x="17683" y="12924"/>
                </a:cubicBezTo>
                <a:cubicBezTo>
                  <a:pt x="17635" y="13000"/>
                  <a:pt x="17577" y="13102"/>
                  <a:pt x="17601" y="13197"/>
                </a:cubicBezTo>
                <a:cubicBezTo>
                  <a:pt x="17622" y="13281"/>
                  <a:pt x="17716" y="13294"/>
                  <a:pt x="17788" y="13293"/>
                </a:cubicBezTo>
                <a:cubicBezTo>
                  <a:pt x="17883" y="13292"/>
                  <a:pt x="17997" y="13267"/>
                  <a:pt x="18073" y="13206"/>
                </a:cubicBezTo>
                <a:cubicBezTo>
                  <a:pt x="18078" y="13200"/>
                  <a:pt x="18083" y="13195"/>
                  <a:pt x="18088" y="13189"/>
                </a:cubicBezTo>
                <a:cubicBezTo>
                  <a:pt x="18046" y="13182"/>
                  <a:pt x="18007" y="13185"/>
                  <a:pt x="17954" y="13202"/>
                </a:cubicBezTo>
                <a:cubicBezTo>
                  <a:pt x="17869" y="13229"/>
                  <a:pt x="17775" y="13261"/>
                  <a:pt x="17696" y="13302"/>
                </a:cubicBezTo>
                <a:cubicBezTo>
                  <a:pt x="17662" y="13320"/>
                  <a:pt x="17631" y="13344"/>
                  <a:pt x="17596" y="13362"/>
                </a:cubicBezTo>
              </a:path>
              <a:path w="1741" h="763">
                <a:moveTo>
                  <a:pt x="18388" y="12631"/>
                </a:moveTo>
                <a:cubicBezTo>
                  <a:pt x="18387" y="12615"/>
                  <a:pt x="18387" y="12610"/>
                  <a:pt x="18386" y="12600"/>
                </a:cubicBezTo>
                <a:cubicBezTo>
                  <a:pt x="18384" y="12651"/>
                  <a:pt x="18389" y="12700"/>
                  <a:pt x="18395" y="12751"/>
                </a:cubicBezTo>
                <a:cubicBezTo>
                  <a:pt x="18405" y="12837"/>
                  <a:pt x="18415" y="12923"/>
                  <a:pt x="18426" y="13009"/>
                </a:cubicBezTo>
                <a:cubicBezTo>
                  <a:pt x="18432" y="13059"/>
                  <a:pt x="18436" y="13108"/>
                  <a:pt x="18439" y="1315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8442360" y="4327560"/>
            <a:ext cx="108000" cy="218880"/>
          </a:xfrm>
          <a:custGeom>
            <a:avLst/>
            <a:gdLst/>
            <a:ahLst/>
            <a:rect l="l" t="t" r="r" b="b"/>
            <a:pathLst>
              <a:path w="298" h="612">
                <a:moveTo>
                  <a:pt x="23673" y="12057"/>
                </a:moveTo>
                <a:cubicBezTo>
                  <a:pt x="23675" y="12053"/>
                  <a:pt x="23678" y="12050"/>
                  <a:pt x="23680" y="12046"/>
                </a:cubicBezTo>
                <a:cubicBezTo>
                  <a:pt x="23654" y="12024"/>
                  <a:pt x="23654" y="12016"/>
                  <a:pt x="23615" y="12031"/>
                </a:cubicBezTo>
                <a:cubicBezTo>
                  <a:pt x="23550" y="12056"/>
                  <a:pt x="23520" y="12101"/>
                  <a:pt x="23489" y="12161"/>
                </a:cubicBezTo>
                <a:cubicBezTo>
                  <a:pt x="23450" y="12236"/>
                  <a:pt x="23436" y="12333"/>
                  <a:pt x="23456" y="12417"/>
                </a:cubicBezTo>
                <a:cubicBezTo>
                  <a:pt x="23474" y="12494"/>
                  <a:pt x="23532" y="12576"/>
                  <a:pt x="23603" y="12613"/>
                </a:cubicBezTo>
                <a:cubicBezTo>
                  <a:pt x="23641" y="12633"/>
                  <a:pt x="23713" y="12644"/>
                  <a:pt x="23742" y="12601"/>
                </a:cubicBezTo>
                <a:cubicBezTo>
                  <a:pt x="23767" y="12564"/>
                  <a:pt x="23730" y="12519"/>
                  <a:pt x="23701" y="12500"/>
                </a:cubicBezTo>
                <a:cubicBezTo>
                  <a:pt x="23664" y="12476"/>
                  <a:pt x="23603" y="12459"/>
                  <a:pt x="23559" y="12469"/>
                </a:cubicBezTo>
                <a:cubicBezTo>
                  <a:pt x="23511" y="12480"/>
                  <a:pt x="23494" y="12521"/>
                  <a:pt x="23476" y="1256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932040" y="5245200"/>
            <a:ext cx="595080" cy="366480"/>
          </a:xfrm>
          <a:custGeom>
            <a:avLst/>
            <a:gdLst/>
            <a:ahLst/>
            <a:rect l="l" t="t" r="r" b="b"/>
            <a:pathLst>
              <a:path w="1652" h="1021">
                <a:moveTo>
                  <a:pt x="2698" y="14706"/>
                </a:moveTo>
                <a:cubicBezTo>
                  <a:pt x="2663" y="14766"/>
                  <a:pt x="2632" y="14840"/>
                  <a:pt x="2619" y="14909"/>
                </a:cubicBezTo>
                <a:cubicBezTo>
                  <a:pt x="2595" y="15039"/>
                  <a:pt x="2597" y="15176"/>
                  <a:pt x="2600" y="15308"/>
                </a:cubicBezTo>
                <a:cubicBezTo>
                  <a:pt x="2602" y="15398"/>
                  <a:pt x="2609" y="15484"/>
                  <a:pt x="2626" y="15572"/>
                </a:cubicBezTo>
                <a:cubicBezTo>
                  <a:pt x="2627" y="15578"/>
                  <a:pt x="2629" y="15583"/>
                  <a:pt x="2630" y="15589"/>
                </a:cubicBezTo>
                <a:cubicBezTo>
                  <a:pt x="2613" y="15504"/>
                  <a:pt x="2603" y="15423"/>
                  <a:pt x="2597" y="15336"/>
                </a:cubicBezTo>
                <a:cubicBezTo>
                  <a:pt x="2586" y="15183"/>
                  <a:pt x="2587" y="15034"/>
                  <a:pt x="2610" y="14882"/>
                </a:cubicBezTo>
                <a:cubicBezTo>
                  <a:pt x="2623" y="14794"/>
                  <a:pt x="2642" y="14644"/>
                  <a:pt x="2721" y="14584"/>
                </a:cubicBezTo>
                <a:cubicBezTo>
                  <a:pt x="2736" y="14579"/>
                  <a:pt x="2750" y="14574"/>
                  <a:pt x="2765" y="14569"/>
                </a:cubicBezTo>
                <a:cubicBezTo>
                  <a:pt x="2846" y="14599"/>
                  <a:pt x="2875" y="14650"/>
                  <a:pt x="2904" y="14735"/>
                </a:cubicBezTo>
                <a:cubicBezTo>
                  <a:pt x="2942" y="14849"/>
                  <a:pt x="2940" y="14966"/>
                  <a:pt x="2902" y="15080"/>
                </a:cubicBezTo>
                <a:cubicBezTo>
                  <a:pt x="2875" y="15161"/>
                  <a:pt x="2833" y="15235"/>
                  <a:pt x="2749" y="15263"/>
                </a:cubicBezTo>
                <a:cubicBezTo>
                  <a:pt x="2694" y="15281"/>
                  <a:pt x="2662" y="15248"/>
                  <a:pt x="2665" y="15194"/>
                </a:cubicBezTo>
                <a:cubicBezTo>
                  <a:pt x="2668" y="15179"/>
                  <a:pt x="2670" y="15165"/>
                  <a:pt x="2673" y="15150"/>
                </a:cubicBezTo>
              </a:path>
              <a:path w="1652" h="1021">
                <a:moveTo>
                  <a:pt x="3038" y="15170"/>
                </a:moveTo>
                <a:cubicBezTo>
                  <a:pt x="3055" y="15190"/>
                  <a:pt x="3062" y="15191"/>
                  <a:pt x="3082" y="15203"/>
                </a:cubicBezTo>
                <a:cubicBezTo>
                  <a:pt x="3118" y="15171"/>
                  <a:pt x="3141" y="15144"/>
                  <a:pt x="3165" y="15098"/>
                </a:cubicBezTo>
                <a:cubicBezTo>
                  <a:pt x="3207" y="15018"/>
                  <a:pt x="3245" y="14931"/>
                  <a:pt x="3271" y="14844"/>
                </a:cubicBezTo>
                <a:cubicBezTo>
                  <a:pt x="3290" y="14780"/>
                  <a:pt x="3288" y="14747"/>
                  <a:pt x="3273" y="14693"/>
                </a:cubicBezTo>
                <a:cubicBezTo>
                  <a:pt x="3217" y="14719"/>
                  <a:pt x="3186" y="14765"/>
                  <a:pt x="3157" y="14821"/>
                </a:cubicBezTo>
                <a:cubicBezTo>
                  <a:pt x="3120" y="14892"/>
                  <a:pt x="3091" y="14987"/>
                  <a:pt x="3103" y="15068"/>
                </a:cubicBezTo>
                <a:cubicBezTo>
                  <a:pt x="3112" y="15129"/>
                  <a:pt x="3145" y="15167"/>
                  <a:pt x="3205" y="15169"/>
                </a:cubicBezTo>
                <a:cubicBezTo>
                  <a:pt x="3264" y="15171"/>
                  <a:pt x="3298" y="15135"/>
                  <a:pt x="3341" y="15103"/>
                </a:cubicBezTo>
                <a:cubicBezTo>
                  <a:pt x="3360" y="15089"/>
                  <a:pt x="3371" y="15079"/>
                  <a:pt x="3387" y="15063"/>
                </a:cubicBezTo>
                <a:cubicBezTo>
                  <a:pt x="3390" y="15090"/>
                  <a:pt x="3385" y="15117"/>
                  <a:pt x="3390" y="15143"/>
                </a:cubicBezTo>
                <a:cubicBezTo>
                  <a:pt x="3397" y="15159"/>
                  <a:pt x="3398" y="15165"/>
                  <a:pt x="3411" y="15165"/>
                </a:cubicBezTo>
                <a:cubicBezTo>
                  <a:pt x="3457" y="15115"/>
                  <a:pt x="3476" y="15048"/>
                  <a:pt x="3501" y="14986"/>
                </a:cubicBezTo>
                <a:cubicBezTo>
                  <a:pt x="3528" y="14919"/>
                  <a:pt x="3558" y="14848"/>
                  <a:pt x="3595" y="14785"/>
                </a:cubicBezTo>
                <a:cubicBezTo>
                  <a:pt x="3615" y="14752"/>
                  <a:pt x="3622" y="14758"/>
                  <a:pt x="3646" y="14744"/>
                </a:cubicBezTo>
                <a:cubicBezTo>
                  <a:pt x="3668" y="14786"/>
                  <a:pt x="3672" y="14828"/>
                  <a:pt x="3673" y="14876"/>
                </a:cubicBezTo>
                <a:cubicBezTo>
                  <a:pt x="3674" y="14902"/>
                  <a:pt x="3666" y="14934"/>
                  <a:pt x="3670" y="14959"/>
                </a:cubicBezTo>
                <a:cubicBezTo>
                  <a:pt x="3672" y="14974"/>
                  <a:pt x="3686" y="14974"/>
                  <a:pt x="3692" y="14953"/>
                </a:cubicBezTo>
                <a:cubicBezTo>
                  <a:pt x="3696" y="14938"/>
                  <a:pt x="3688" y="14927"/>
                  <a:pt x="3687" y="14914"/>
                </a:cubicBezTo>
                <a:cubicBezTo>
                  <a:pt x="3682" y="14939"/>
                  <a:pt x="3678" y="14965"/>
                  <a:pt x="3674" y="14991"/>
                </a:cubicBezTo>
                <a:cubicBezTo>
                  <a:pt x="3667" y="15045"/>
                  <a:pt x="3657" y="15098"/>
                  <a:pt x="3649" y="15152"/>
                </a:cubicBezTo>
                <a:cubicBezTo>
                  <a:pt x="3643" y="15192"/>
                  <a:pt x="3638" y="15232"/>
                  <a:pt x="3630" y="15271"/>
                </a:cubicBezTo>
                <a:cubicBezTo>
                  <a:pt x="3629" y="15275"/>
                  <a:pt x="3628" y="15279"/>
                  <a:pt x="3627" y="15283"/>
                </a:cubicBezTo>
                <a:cubicBezTo>
                  <a:pt x="3622" y="15261"/>
                  <a:pt x="3618" y="15242"/>
                  <a:pt x="3616" y="15220"/>
                </a:cubicBezTo>
                <a:cubicBezTo>
                  <a:pt x="3614" y="15203"/>
                  <a:pt x="3615" y="15184"/>
                  <a:pt x="3613" y="15167"/>
                </a:cubicBezTo>
                <a:cubicBezTo>
                  <a:pt x="3610" y="15141"/>
                  <a:pt x="3611" y="15153"/>
                  <a:pt x="3630" y="15137"/>
                </a:cubicBezTo>
              </a:path>
              <a:path w="1652" h="1021">
                <a:moveTo>
                  <a:pt x="3722" y="15189"/>
                </a:moveTo>
                <a:cubicBezTo>
                  <a:pt x="3714" y="15199"/>
                  <a:pt x="3709" y="15206"/>
                  <a:pt x="3696" y="15216"/>
                </a:cubicBezTo>
                <a:cubicBezTo>
                  <a:pt x="3693" y="15180"/>
                  <a:pt x="3701" y="15148"/>
                  <a:pt x="3708" y="15111"/>
                </a:cubicBezTo>
                <a:cubicBezTo>
                  <a:pt x="3729" y="14998"/>
                  <a:pt x="3765" y="14881"/>
                  <a:pt x="3814" y="14777"/>
                </a:cubicBezTo>
                <a:cubicBezTo>
                  <a:pt x="3836" y="14730"/>
                  <a:pt x="3855" y="14696"/>
                  <a:pt x="3906" y="14691"/>
                </a:cubicBezTo>
                <a:cubicBezTo>
                  <a:pt x="3937" y="14737"/>
                  <a:pt x="3944" y="14784"/>
                  <a:pt x="3944" y="14841"/>
                </a:cubicBezTo>
                <a:cubicBezTo>
                  <a:pt x="3945" y="14924"/>
                  <a:pt x="3930" y="15001"/>
                  <a:pt x="3897" y="15075"/>
                </a:cubicBezTo>
                <a:cubicBezTo>
                  <a:pt x="3886" y="15024"/>
                  <a:pt x="3895" y="14984"/>
                  <a:pt x="3912" y="14933"/>
                </a:cubicBezTo>
                <a:cubicBezTo>
                  <a:pt x="3930" y="14877"/>
                  <a:pt x="3958" y="14809"/>
                  <a:pt x="4003" y="14769"/>
                </a:cubicBezTo>
                <a:cubicBezTo>
                  <a:pt x="4039" y="14737"/>
                  <a:pt x="4087" y="14738"/>
                  <a:pt x="4120" y="14774"/>
                </a:cubicBezTo>
                <a:cubicBezTo>
                  <a:pt x="4176" y="14835"/>
                  <a:pt x="4192" y="14928"/>
                  <a:pt x="4214" y="15004"/>
                </a:cubicBezTo>
                <a:cubicBezTo>
                  <a:pt x="4226" y="15046"/>
                  <a:pt x="4233" y="15085"/>
                  <a:pt x="4240" y="1512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1763640" y="5168880"/>
            <a:ext cx="352440" cy="285840"/>
          </a:xfrm>
          <a:custGeom>
            <a:avLst/>
            <a:gdLst/>
            <a:ahLst/>
            <a:rect l="l" t="t" r="r" b="b"/>
            <a:pathLst>
              <a:path w="978" h="797">
                <a:moveTo>
                  <a:pt x="5119" y="14737"/>
                </a:moveTo>
                <a:cubicBezTo>
                  <a:pt x="5075" y="14722"/>
                  <a:pt x="5067" y="14746"/>
                  <a:pt x="5035" y="14775"/>
                </a:cubicBezTo>
                <a:cubicBezTo>
                  <a:pt x="4979" y="14825"/>
                  <a:pt x="4948" y="14885"/>
                  <a:pt x="4921" y="14955"/>
                </a:cubicBezTo>
                <a:cubicBezTo>
                  <a:pt x="4909" y="14986"/>
                  <a:pt x="4873" y="15074"/>
                  <a:pt x="4921" y="15096"/>
                </a:cubicBezTo>
                <a:cubicBezTo>
                  <a:pt x="4967" y="15118"/>
                  <a:pt x="5032" y="15063"/>
                  <a:pt x="5063" y="15037"/>
                </a:cubicBezTo>
                <a:cubicBezTo>
                  <a:pt x="5116" y="14993"/>
                  <a:pt x="5148" y="14940"/>
                  <a:pt x="5184" y="14884"/>
                </a:cubicBezTo>
                <a:cubicBezTo>
                  <a:pt x="5197" y="14863"/>
                  <a:pt x="5211" y="14843"/>
                  <a:pt x="5225" y="14823"/>
                </a:cubicBezTo>
              </a:path>
              <a:path w="978" h="797">
                <a:moveTo>
                  <a:pt x="5418" y="15147"/>
                </a:moveTo>
                <a:cubicBezTo>
                  <a:pt x="5434" y="15127"/>
                  <a:pt x="5446" y="15100"/>
                  <a:pt x="5448" y="15054"/>
                </a:cubicBezTo>
                <a:cubicBezTo>
                  <a:pt x="5451" y="14962"/>
                  <a:pt x="5452" y="14869"/>
                  <a:pt x="5460" y="14777"/>
                </a:cubicBezTo>
                <a:cubicBezTo>
                  <a:pt x="5470" y="14658"/>
                  <a:pt x="5470" y="14484"/>
                  <a:pt x="5549" y="14385"/>
                </a:cubicBezTo>
                <a:cubicBezTo>
                  <a:pt x="5580" y="14346"/>
                  <a:pt x="5628" y="14353"/>
                  <a:pt x="5666" y="14377"/>
                </a:cubicBezTo>
                <a:cubicBezTo>
                  <a:pt x="5703" y="14401"/>
                  <a:pt x="5749" y="14444"/>
                  <a:pt x="5753" y="14491"/>
                </a:cubicBezTo>
                <a:cubicBezTo>
                  <a:pt x="5752" y="14501"/>
                  <a:pt x="5750" y="14510"/>
                  <a:pt x="5749" y="14520"/>
                </a:cubicBezTo>
              </a:path>
              <a:path w="978" h="797">
                <a:moveTo>
                  <a:pt x="5308" y="14832"/>
                </a:moveTo>
                <a:cubicBezTo>
                  <a:pt x="5286" y="14847"/>
                  <a:pt x="5282" y="14850"/>
                  <a:pt x="5269" y="14859"/>
                </a:cubicBezTo>
                <a:cubicBezTo>
                  <a:pt x="5320" y="14836"/>
                  <a:pt x="5374" y="14816"/>
                  <a:pt x="5429" y="14800"/>
                </a:cubicBezTo>
                <a:cubicBezTo>
                  <a:pt x="5526" y="14772"/>
                  <a:pt x="5618" y="14759"/>
                  <a:pt x="5718" y="14752"/>
                </a:cubicBezTo>
                <a:cubicBezTo>
                  <a:pt x="5771" y="14748"/>
                  <a:pt x="5823" y="14748"/>
                  <a:pt x="5876" y="1474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2341440" y="5122800"/>
            <a:ext cx="779760" cy="412920"/>
          </a:xfrm>
          <a:custGeom>
            <a:avLst/>
            <a:gdLst/>
            <a:ahLst/>
            <a:rect l="l" t="t" r="r" b="b"/>
            <a:pathLst>
              <a:path w="2164" h="1150">
                <a:moveTo>
                  <a:pt x="6515" y="14238"/>
                </a:moveTo>
                <a:cubicBezTo>
                  <a:pt x="6512" y="14293"/>
                  <a:pt x="6506" y="14326"/>
                  <a:pt x="6505" y="14381"/>
                </a:cubicBezTo>
                <a:cubicBezTo>
                  <a:pt x="6504" y="14505"/>
                  <a:pt x="6510" y="14632"/>
                  <a:pt x="6526" y="14754"/>
                </a:cubicBezTo>
                <a:cubicBezTo>
                  <a:pt x="6537" y="14834"/>
                  <a:pt x="6548" y="14907"/>
                  <a:pt x="6590" y="14975"/>
                </a:cubicBezTo>
              </a:path>
              <a:path w="2164" h="1150">
                <a:moveTo>
                  <a:pt x="6764" y="14866"/>
                </a:moveTo>
                <a:cubicBezTo>
                  <a:pt x="6814" y="14836"/>
                  <a:pt x="6869" y="14796"/>
                  <a:pt x="6910" y="14754"/>
                </a:cubicBezTo>
                <a:cubicBezTo>
                  <a:pt x="6969" y="14695"/>
                  <a:pt x="7030" y="14630"/>
                  <a:pt x="7079" y="14562"/>
                </a:cubicBezTo>
                <a:cubicBezTo>
                  <a:pt x="7098" y="14532"/>
                  <a:pt x="7103" y="14525"/>
                  <a:pt x="7111" y="14504"/>
                </a:cubicBezTo>
                <a:cubicBezTo>
                  <a:pt x="7067" y="14506"/>
                  <a:pt x="7036" y="14546"/>
                  <a:pt x="7006" y="14582"/>
                </a:cubicBezTo>
                <a:cubicBezTo>
                  <a:pt x="6946" y="14653"/>
                  <a:pt x="6869" y="14767"/>
                  <a:pt x="6894" y="14866"/>
                </a:cubicBezTo>
                <a:cubicBezTo>
                  <a:pt x="6908" y="14921"/>
                  <a:pt x="6988" y="14912"/>
                  <a:pt x="7027" y="14902"/>
                </a:cubicBezTo>
                <a:cubicBezTo>
                  <a:pt x="7042" y="14897"/>
                  <a:pt x="7058" y="14891"/>
                  <a:pt x="7073" y="14886"/>
                </a:cubicBezTo>
              </a:path>
              <a:path w="2164" h="1150">
                <a:moveTo>
                  <a:pt x="7288" y="14702"/>
                </a:moveTo>
                <a:cubicBezTo>
                  <a:pt x="7285" y="14717"/>
                  <a:pt x="7279" y="14747"/>
                  <a:pt x="7272" y="14760"/>
                </a:cubicBezTo>
                <a:cubicBezTo>
                  <a:pt x="7264" y="14775"/>
                  <a:pt x="7259" y="14781"/>
                  <a:pt x="7254" y="14798"/>
                </a:cubicBezTo>
                <a:cubicBezTo>
                  <a:pt x="7281" y="14768"/>
                  <a:pt x="7299" y="14733"/>
                  <a:pt x="7323" y="14701"/>
                </a:cubicBezTo>
                <a:cubicBezTo>
                  <a:pt x="7341" y="14676"/>
                  <a:pt x="7373" y="14628"/>
                  <a:pt x="7412" y="14635"/>
                </a:cubicBezTo>
                <a:cubicBezTo>
                  <a:pt x="7446" y="14641"/>
                  <a:pt x="7450" y="14711"/>
                  <a:pt x="7456" y="14736"/>
                </a:cubicBezTo>
                <a:cubicBezTo>
                  <a:pt x="7463" y="14768"/>
                  <a:pt x="7463" y="14827"/>
                  <a:pt x="7489" y="14850"/>
                </a:cubicBezTo>
                <a:cubicBezTo>
                  <a:pt x="7515" y="14874"/>
                  <a:pt x="7568" y="14827"/>
                  <a:pt x="7585" y="14815"/>
                </a:cubicBezTo>
                <a:cubicBezTo>
                  <a:pt x="7621" y="14788"/>
                  <a:pt x="7634" y="14778"/>
                  <a:pt x="7657" y="14758"/>
                </a:cubicBezTo>
              </a:path>
              <a:path w="2164" h="1150">
                <a:moveTo>
                  <a:pt x="7847" y="14651"/>
                </a:moveTo>
                <a:cubicBezTo>
                  <a:pt x="7817" y="14677"/>
                  <a:pt x="7790" y="14699"/>
                  <a:pt x="7764" y="14727"/>
                </a:cubicBezTo>
                <a:cubicBezTo>
                  <a:pt x="7734" y="14759"/>
                  <a:pt x="7706" y="14793"/>
                  <a:pt x="7690" y="14835"/>
                </a:cubicBezTo>
                <a:cubicBezTo>
                  <a:pt x="7686" y="14852"/>
                  <a:pt x="7684" y="14856"/>
                  <a:pt x="7687" y="14866"/>
                </a:cubicBezTo>
                <a:cubicBezTo>
                  <a:pt x="7713" y="14853"/>
                  <a:pt x="7730" y="14840"/>
                  <a:pt x="7752" y="14819"/>
                </a:cubicBezTo>
                <a:cubicBezTo>
                  <a:pt x="7773" y="14799"/>
                  <a:pt x="7809" y="14753"/>
                  <a:pt x="7843" y="14765"/>
                </a:cubicBezTo>
                <a:cubicBezTo>
                  <a:pt x="7892" y="14782"/>
                  <a:pt x="7904" y="14887"/>
                  <a:pt x="7910" y="14927"/>
                </a:cubicBezTo>
                <a:cubicBezTo>
                  <a:pt x="7928" y="15055"/>
                  <a:pt x="7931" y="15228"/>
                  <a:pt x="7845" y="15335"/>
                </a:cubicBezTo>
                <a:cubicBezTo>
                  <a:pt x="7808" y="15381"/>
                  <a:pt x="7749" y="15395"/>
                  <a:pt x="7710" y="15345"/>
                </a:cubicBezTo>
                <a:cubicBezTo>
                  <a:pt x="7657" y="15277"/>
                  <a:pt x="7663" y="15171"/>
                  <a:pt x="7658" y="15091"/>
                </a:cubicBezTo>
              </a:path>
              <a:path w="2164" h="1150">
                <a:moveTo>
                  <a:pt x="8091" y="14492"/>
                </a:moveTo>
                <a:cubicBezTo>
                  <a:pt x="8096" y="14464"/>
                  <a:pt x="8098" y="14457"/>
                  <a:pt x="8099" y="14439"/>
                </a:cubicBezTo>
                <a:cubicBezTo>
                  <a:pt x="8115" y="14485"/>
                  <a:pt x="8123" y="14543"/>
                  <a:pt x="8134" y="14593"/>
                </a:cubicBezTo>
                <a:cubicBezTo>
                  <a:pt x="8154" y="14685"/>
                  <a:pt x="8175" y="14776"/>
                  <a:pt x="8179" y="14870"/>
                </a:cubicBezTo>
                <a:cubicBezTo>
                  <a:pt x="8178" y="14906"/>
                  <a:pt x="8179" y="14915"/>
                  <a:pt x="8170" y="14936"/>
                </a:cubicBezTo>
              </a:path>
              <a:path w="2164" h="1150">
                <a:moveTo>
                  <a:pt x="7985" y="14720"/>
                </a:moveTo>
                <a:cubicBezTo>
                  <a:pt x="8023" y="14680"/>
                  <a:pt x="8051" y="14683"/>
                  <a:pt x="8104" y="14670"/>
                </a:cubicBezTo>
                <a:cubicBezTo>
                  <a:pt x="8166" y="14655"/>
                  <a:pt x="8226" y="14639"/>
                  <a:pt x="8287" y="14622"/>
                </a:cubicBezTo>
              </a:path>
              <a:path w="2164" h="1150">
                <a:moveTo>
                  <a:pt x="8375" y="14507"/>
                </a:moveTo>
                <a:cubicBezTo>
                  <a:pt x="8377" y="14555"/>
                  <a:pt x="8377" y="14604"/>
                  <a:pt x="8381" y="14652"/>
                </a:cubicBezTo>
                <a:cubicBezTo>
                  <a:pt x="8387" y="14725"/>
                  <a:pt x="8387" y="14799"/>
                  <a:pt x="8396" y="14872"/>
                </a:cubicBezTo>
                <a:cubicBezTo>
                  <a:pt x="8401" y="14897"/>
                  <a:pt x="8401" y="14901"/>
                  <a:pt x="8407" y="14915"/>
                </a:cubicBezTo>
                <a:cubicBezTo>
                  <a:pt x="8431" y="14870"/>
                  <a:pt x="8442" y="14823"/>
                  <a:pt x="8461" y="14776"/>
                </a:cubicBezTo>
                <a:cubicBezTo>
                  <a:pt x="8469" y="14757"/>
                  <a:pt x="8496" y="14685"/>
                  <a:pt x="8530" y="14701"/>
                </a:cubicBezTo>
                <a:cubicBezTo>
                  <a:pt x="8568" y="14719"/>
                  <a:pt x="8595" y="14788"/>
                  <a:pt x="8616" y="14821"/>
                </a:cubicBezTo>
                <a:cubicBezTo>
                  <a:pt x="8640" y="14858"/>
                  <a:pt x="8647" y="14869"/>
                  <a:pt x="8668" y="1489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3303720" y="5205240"/>
            <a:ext cx="133200" cy="246240"/>
          </a:xfrm>
          <a:custGeom>
            <a:avLst/>
            <a:gdLst/>
            <a:ahLst/>
            <a:rect l="l" t="t" r="r" b="b"/>
            <a:pathLst>
              <a:path w="370" h="686">
                <a:moveTo>
                  <a:pt x="9445" y="14592"/>
                </a:moveTo>
                <a:cubicBezTo>
                  <a:pt x="9455" y="14570"/>
                  <a:pt x="9472" y="14555"/>
                  <a:pt x="9452" y="14530"/>
                </a:cubicBezTo>
                <a:cubicBezTo>
                  <a:pt x="9425" y="14496"/>
                  <a:pt x="9380" y="14467"/>
                  <a:pt x="9337" y="14460"/>
                </a:cubicBezTo>
                <a:cubicBezTo>
                  <a:pt x="9265" y="14447"/>
                  <a:pt x="9201" y="14502"/>
                  <a:pt x="9182" y="14569"/>
                </a:cubicBezTo>
                <a:cubicBezTo>
                  <a:pt x="9168" y="14619"/>
                  <a:pt x="9185" y="14665"/>
                  <a:pt x="9225" y="14697"/>
                </a:cubicBezTo>
                <a:cubicBezTo>
                  <a:pt x="9278" y="14740"/>
                  <a:pt x="9349" y="14757"/>
                  <a:pt x="9407" y="14790"/>
                </a:cubicBezTo>
                <a:cubicBezTo>
                  <a:pt x="9470" y="14826"/>
                  <a:pt x="9520" y="14875"/>
                  <a:pt x="9540" y="14947"/>
                </a:cubicBezTo>
                <a:cubicBezTo>
                  <a:pt x="9556" y="15006"/>
                  <a:pt x="9538" y="15070"/>
                  <a:pt x="9491" y="15110"/>
                </a:cubicBezTo>
                <a:cubicBezTo>
                  <a:pt x="9446" y="15148"/>
                  <a:pt x="9393" y="15152"/>
                  <a:pt x="9344" y="15122"/>
                </a:cubicBezTo>
                <a:cubicBezTo>
                  <a:pt x="9306" y="15098"/>
                  <a:pt x="9295" y="15066"/>
                  <a:pt x="9276" y="1502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3843360" y="5127480"/>
            <a:ext cx="1157400" cy="403200"/>
          </a:xfrm>
          <a:custGeom>
            <a:avLst/>
            <a:gdLst/>
            <a:ahLst/>
            <a:rect l="l" t="t" r="r" b="b"/>
            <a:pathLst>
              <a:path w="3211" h="1122">
                <a:moveTo>
                  <a:pt x="11091" y="14672"/>
                </a:moveTo>
                <a:cubicBezTo>
                  <a:pt x="11067" y="14646"/>
                  <a:pt x="11040" y="14621"/>
                  <a:pt x="11000" y="14627"/>
                </a:cubicBezTo>
                <a:cubicBezTo>
                  <a:pt x="10934" y="14636"/>
                  <a:pt x="10869" y="14688"/>
                  <a:pt x="10823" y="14732"/>
                </a:cubicBezTo>
                <a:cubicBezTo>
                  <a:pt x="10763" y="14790"/>
                  <a:pt x="10697" y="14869"/>
                  <a:pt x="10679" y="14953"/>
                </a:cubicBezTo>
                <a:cubicBezTo>
                  <a:pt x="10663" y="15027"/>
                  <a:pt x="10714" y="15057"/>
                  <a:pt x="10780" y="15055"/>
                </a:cubicBezTo>
                <a:cubicBezTo>
                  <a:pt x="10850" y="15053"/>
                  <a:pt x="10911" y="15023"/>
                  <a:pt x="10975" y="14998"/>
                </a:cubicBezTo>
              </a:path>
              <a:path w="3211" h="1122">
                <a:moveTo>
                  <a:pt x="11235" y="14772"/>
                </a:moveTo>
                <a:cubicBezTo>
                  <a:pt x="11195" y="14771"/>
                  <a:pt x="11158" y="14791"/>
                  <a:pt x="11130" y="14825"/>
                </a:cubicBezTo>
                <a:cubicBezTo>
                  <a:pt x="11089" y="14873"/>
                  <a:pt x="11049" y="14937"/>
                  <a:pt x="11029" y="14997"/>
                </a:cubicBezTo>
                <a:cubicBezTo>
                  <a:pt x="11017" y="15035"/>
                  <a:pt x="11011" y="15091"/>
                  <a:pt x="11065" y="15092"/>
                </a:cubicBezTo>
                <a:cubicBezTo>
                  <a:pt x="11128" y="15093"/>
                  <a:pt x="11196" y="15043"/>
                  <a:pt x="11244" y="15009"/>
                </a:cubicBezTo>
                <a:cubicBezTo>
                  <a:pt x="11303" y="14967"/>
                  <a:pt x="11356" y="14913"/>
                  <a:pt x="11393" y="14850"/>
                </a:cubicBezTo>
                <a:cubicBezTo>
                  <a:pt x="11415" y="14813"/>
                  <a:pt x="11423" y="14773"/>
                  <a:pt x="11432" y="14733"/>
                </a:cubicBezTo>
                <a:cubicBezTo>
                  <a:pt x="11434" y="14720"/>
                  <a:pt x="11434" y="14716"/>
                  <a:pt x="11437" y="14708"/>
                </a:cubicBezTo>
              </a:path>
              <a:path w="3211" h="1122">
                <a:moveTo>
                  <a:pt x="11489" y="14811"/>
                </a:moveTo>
                <a:cubicBezTo>
                  <a:pt x="11496" y="14848"/>
                  <a:pt x="11504" y="14888"/>
                  <a:pt x="11503" y="14925"/>
                </a:cubicBezTo>
                <a:cubicBezTo>
                  <a:pt x="11500" y="14941"/>
                  <a:pt x="11499" y="14946"/>
                  <a:pt x="11506" y="14955"/>
                </a:cubicBezTo>
                <a:cubicBezTo>
                  <a:pt x="11538" y="14935"/>
                  <a:pt x="11551" y="14892"/>
                  <a:pt x="11572" y="14859"/>
                </a:cubicBezTo>
                <a:cubicBezTo>
                  <a:pt x="11601" y="14813"/>
                  <a:pt x="11639" y="14742"/>
                  <a:pt x="11689" y="14715"/>
                </a:cubicBezTo>
                <a:cubicBezTo>
                  <a:pt x="11698" y="14713"/>
                  <a:pt x="11707" y="14712"/>
                  <a:pt x="11716" y="14710"/>
                </a:cubicBezTo>
                <a:cubicBezTo>
                  <a:pt x="11764" y="14753"/>
                  <a:pt x="11768" y="14804"/>
                  <a:pt x="11779" y="14868"/>
                </a:cubicBezTo>
                <a:cubicBezTo>
                  <a:pt x="11788" y="14922"/>
                  <a:pt x="11788" y="15013"/>
                  <a:pt x="11826" y="15058"/>
                </a:cubicBezTo>
                <a:cubicBezTo>
                  <a:pt x="11833" y="15063"/>
                  <a:pt x="11841" y="15067"/>
                  <a:pt x="11848" y="15072"/>
                </a:cubicBezTo>
                <a:cubicBezTo>
                  <a:pt x="11890" y="15026"/>
                  <a:pt x="11906" y="14975"/>
                  <a:pt x="11927" y="14917"/>
                </a:cubicBezTo>
              </a:path>
              <a:path w="3211" h="1122">
                <a:moveTo>
                  <a:pt x="12045" y="14270"/>
                </a:moveTo>
                <a:cubicBezTo>
                  <a:pt x="12047" y="14185"/>
                  <a:pt x="12046" y="14366"/>
                  <a:pt x="12046" y="14371"/>
                </a:cubicBezTo>
                <a:cubicBezTo>
                  <a:pt x="12052" y="14501"/>
                  <a:pt x="12074" y="14628"/>
                  <a:pt x="12092" y="14757"/>
                </a:cubicBezTo>
                <a:cubicBezTo>
                  <a:pt x="12103" y="14840"/>
                  <a:pt x="12117" y="14923"/>
                  <a:pt x="12123" y="15007"/>
                </a:cubicBezTo>
              </a:path>
              <a:path w="3211" h="1122">
                <a:moveTo>
                  <a:pt x="11925" y="14785"/>
                </a:moveTo>
                <a:cubicBezTo>
                  <a:pt x="11926" y="14716"/>
                  <a:pt x="11938" y="14694"/>
                  <a:pt x="11999" y="14657"/>
                </a:cubicBezTo>
                <a:cubicBezTo>
                  <a:pt x="12100" y="14595"/>
                  <a:pt x="12218" y="14572"/>
                  <a:pt x="12333" y="14556"/>
                </a:cubicBezTo>
                <a:cubicBezTo>
                  <a:pt x="12376" y="14550"/>
                  <a:pt x="12464" y="14535"/>
                  <a:pt x="12494" y="14583"/>
                </a:cubicBezTo>
                <a:cubicBezTo>
                  <a:pt x="12519" y="14623"/>
                  <a:pt x="12470" y="14672"/>
                  <a:pt x="12452" y="14699"/>
                </a:cubicBezTo>
                <a:cubicBezTo>
                  <a:pt x="12417" y="14752"/>
                  <a:pt x="12372" y="14788"/>
                  <a:pt x="12328" y="14834"/>
                </a:cubicBezTo>
                <a:cubicBezTo>
                  <a:pt x="12300" y="14863"/>
                  <a:pt x="12280" y="14890"/>
                  <a:pt x="12260" y="14924"/>
                </a:cubicBezTo>
                <a:cubicBezTo>
                  <a:pt x="12308" y="14918"/>
                  <a:pt x="12338" y="14896"/>
                  <a:pt x="12378" y="14868"/>
                </a:cubicBezTo>
                <a:cubicBezTo>
                  <a:pt x="12424" y="14836"/>
                  <a:pt x="12461" y="14797"/>
                  <a:pt x="12503" y="14761"/>
                </a:cubicBezTo>
                <a:cubicBezTo>
                  <a:pt x="12523" y="14744"/>
                  <a:pt x="12525" y="14749"/>
                  <a:pt x="12543" y="14743"/>
                </a:cubicBezTo>
                <a:cubicBezTo>
                  <a:pt x="12556" y="14786"/>
                  <a:pt x="12562" y="14829"/>
                  <a:pt x="12571" y="14873"/>
                </a:cubicBezTo>
                <a:cubicBezTo>
                  <a:pt x="12580" y="14917"/>
                  <a:pt x="12590" y="14961"/>
                  <a:pt x="12604" y="15004"/>
                </a:cubicBezTo>
                <a:cubicBezTo>
                  <a:pt x="12623" y="15059"/>
                  <a:pt x="12614" y="15030"/>
                  <a:pt x="12632" y="15022"/>
                </a:cubicBezTo>
              </a:path>
              <a:path w="3211" h="1122">
                <a:moveTo>
                  <a:pt x="12725" y="14705"/>
                </a:moveTo>
                <a:cubicBezTo>
                  <a:pt x="12723" y="14737"/>
                  <a:pt x="12714" y="14771"/>
                  <a:pt x="12713" y="14803"/>
                </a:cubicBezTo>
                <a:cubicBezTo>
                  <a:pt x="12712" y="14849"/>
                  <a:pt x="12716" y="14899"/>
                  <a:pt x="12719" y="14945"/>
                </a:cubicBezTo>
                <a:cubicBezTo>
                  <a:pt x="12720" y="14951"/>
                  <a:pt x="12721" y="14958"/>
                  <a:pt x="12722" y="14964"/>
                </a:cubicBezTo>
              </a:path>
              <a:path w="3211" h="1122">
                <a:moveTo>
                  <a:pt x="12692" y="14565"/>
                </a:moveTo>
                <a:cubicBezTo>
                  <a:pt x="12695" y="14527"/>
                  <a:pt x="12696" y="14511"/>
                  <a:pt x="12714" y="14482"/>
                </a:cubicBezTo>
                <a:cubicBezTo>
                  <a:pt x="12724" y="14466"/>
                  <a:pt x="12727" y="14469"/>
                  <a:pt x="12748" y="14464"/>
                </a:cubicBezTo>
              </a:path>
              <a:path w="3211" h="1122">
                <a:moveTo>
                  <a:pt x="12911" y="14836"/>
                </a:moveTo>
                <a:cubicBezTo>
                  <a:pt x="12911" y="14857"/>
                  <a:pt x="12912" y="14878"/>
                  <a:pt x="12913" y="14899"/>
                </a:cubicBezTo>
                <a:cubicBezTo>
                  <a:pt x="12934" y="14857"/>
                  <a:pt x="12946" y="14814"/>
                  <a:pt x="12961" y="14769"/>
                </a:cubicBezTo>
                <a:cubicBezTo>
                  <a:pt x="12974" y="14730"/>
                  <a:pt x="12987" y="14687"/>
                  <a:pt x="13015" y="14658"/>
                </a:cubicBezTo>
                <a:cubicBezTo>
                  <a:pt x="13028" y="14716"/>
                  <a:pt x="13027" y="14775"/>
                  <a:pt x="13033" y="14835"/>
                </a:cubicBezTo>
                <a:cubicBezTo>
                  <a:pt x="13039" y="14897"/>
                  <a:pt x="13044" y="14943"/>
                  <a:pt x="13075" y="14997"/>
                </a:cubicBezTo>
              </a:path>
              <a:path w="3211" h="1122">
                <a:moveTo>
                  <a:pt x="13159" y="14678"/>
                </a:moveTo>
                <a:cubicBezTo>
                  <a:pt x="13182" y="14694"/>
                  <a:pt x="13191" y="14725"/>
                  <a:pt x="13196" y="14755"/>
                </a:cubicBezTo>
                <a:cubicBezTo>
                  <a:pt x="13203" y="14796"/>
                  <a:pt x="13205" y="14839"/>
                  <a:pt x="13207" y="14880"/>
                </a:cubicBezTo>
                <a:cubicBezTo>
                  <a:pt x="13210" y="14939"/>
                  <a:pt x="13206" y="14839"/>
                  <a:pt x="13208" y="14824"/>
                </a:cubicBezTo>
              </a:path>
              <a:path w="3211" h="1122">
                <a:moveTo>
                  <a:pt x="13279" y="14564"/>
                </a:moveTo>
                <a:cubicBezTo>
                  <a:pt x="13290" y="14533"/>
                  <a:pt x="13302" y="14494"/>
                  <a:pt x="13330" y="14472"/>
                </a:cubicBezTo>
                <a:cubicBezTo>
                  <a:pt x="13357" y="14450"/>
                  <a:pt x="13390" y="14460"/>
                  <a:pt x="13412" y="14482"/>
                </a:cubicBezTo>
                <a:cubicBezTo>
                  <a:pt x="13445" y="14516"/>
                  <a:pt x="13463" y="14572"/>
                  <a:pt x="13472" y="14618"/>
                </a:cubicBezTo>
                <a:cubicBezTo>
                  <a:pt x="13485" y="14680"/>
                  <a:pt x="13489" y="14750"/>
                  <a:pt x="13482" y="14813"/>
                </a:cubicBezTo>
                <a:cubicBezTo>
                  <a:pt x="13478" y="14831"/>
                  <a:pt x="13477" y="14835"/>
                  <a:pt x="13478" y="14847"/>
                </a:cubicBezTo>
                <a:cubicBezTo>
                  <a:pt x="13485" y="14826"/>
                  <a:pt x="13491" y="14801"/>
                  <a:pt x="13503" y="14782"/>
                </a:cubicBezTo>
                <a:cubicBezTo>
                  <a:pt x="13506" y="14778"/>
                  <a:pt x="13509" y="14775"/>
                  <a:pt x="13512" y="14771"/>
                </a:cubicBezTo>
                <a:cubicBezTo>
                  <a:pt x="13537" y="14781"/>
                  <a:pt x="13541" y="14802"/>
                  <a:pt x="13547" y="14830"/>
                </a:cubicBezTo>
                <a:cubicBezTo>
                  <a:pt x="13554" y="14861"/>
                  <a:pt x="13556" y="14895"/>
                  <a:pt x="13568" y="14925"/>
                </a:cubicBezTo>
                <a:cubicBezTo>
                  <a:pt x="13576" y="14939"/>
                  <a:pt x="13576" y="14944"/>
                  <a:pt x="13587" y="14945"/>
                </a:cubicBezTo>
                <a:cubicBezTo>
                  <a:pt x="13600" y="14925"/>
                  <a:pt x="13605" y="14917"/>
                  <a:pt x="13612" y="14895"/>
                </a:cubicBezTo>
              </a:path>
              <a:path w="3211" h="1122">
                <a:moveTo>
                  <a:pt x="13854" y="14723"/>
                </a:moveTo>
                <a:cubicBezTo>
                  <a:pt x="13857" y="14717"/>
                  <a:pt x="13860" y="14710"/>
                  <a:pt x="13863" y="14704"/>
                </a:cubicBezTo>
                <a:cubicBezTo>
                  <a:pt x="13836" y="14703"/>
                  <a:pt x="13825" y="14730"/>
                  <a:pt x="13810" y="14758"/>
                </a:cubicBezTo>
                <a:cubicBezTo>
                  <a:pt x="13785" y="14804"/>
                  <a:pt x="13759" y="14861"/>
                  <a:pt x="13760" y="14915"/>
                </a:cubicBezTo>
                <a:cubicBezTo>
                  <a:pt x="13761" y="14919"/>
                  <a:pt x="13762" y="14924"/>
                  <a:pt x="13763" y="14928"/>
                </a:cubicBezTo>
                <a:cubicBezTo>
                  <a:pt x="13787" y="14926"/>
                  <a:pt x="13801" y="14925"/>
                  <a:pt x="13824" y="14905"/>
                </a:cubicBezTo>
                <a:cubicBezTo>
                  <a:pt x="13841" y="14891"/>
                  <a:pt x="13853" y="14880"/>
                  <a:pt x="13872" y="14870"/>
                </a:cubicBezTo>
                <a:cubicBezTo>
                  <a:pt x="13896" y="14904"/>
                  <a:pt x="13887" y="14945"/>
                  <a:pt x="13882" y="14986"/>
                </a:cubicBezTo>
                <a:cubicBezTo>
                  <a:pt x="13873" y="15068"/>
                  <a:pt x="13860" y="15153"/>
                  <a:pt x="13835" y="15232"/>
                </a:cubicBezTo>
                <a:cubicBezTo>
                  <a:pt x="13823" y="15272"/>
                  <a:pt x="13808" y="15342"/>
                  <a:pt x="13764" y="15361"/>
                </a:cubicBezTo>
                <a:cubicBezTo>
                  <a:pt x="13757" y="15362"/>
                  <a:pt x="13751" y="15362"/>
                  <a:pt x="13744" y="1536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5251320" y="5187960"/>
            <a:ext cx="621000" cy="247680"/>
          </a:xfrm>
          <a:custGeom>
            <a:avLst/>
            <a:gdLst/>
            <a:ahLst/>
            <a:rect l="l" t="t" r="r" b="b"/>
            <a:pathLst>
              <a:path w="1724" h="684">
                <a:moveTo>
                  <a:pt x="14626" y="15026"/>
                </a:moveTo>
                <a:cubicBezTo>
                  <a:pt x="14584" y="15017"/>
                  <a:pt x="14583" y="14996"/>
                  <a:pt x="14597" y="14946"/>
                </a:cubicBezTo>
                <a:cubicBezTo>
                  <a:pt x="14622" y="14858"/>
                  <a:pt x="14667" y="14772"/>
                  <a:pt x="14707" y="14690"/>
                </a:cubicBezTo>
                <a:cubicBezTo>
                  <a:pt x="14739" y="14625"/>
                  <a:pt x="14810" y="14431"/>
                  <a:pt x="14894" y="14413"/>
                </a:cubicBezTo>
                <a:cubicBezTo>
                  <a:pt x="14900" y="14416"/>
                  <a:pt x="14906" y="14420"/>
                  <a:pt x="14912" y="14423"/>
                </a:cubicBezTo>
                <a:cubicBezTo>
                  <a:pt x="14928" y="14516"/>
                  <a:pt x="14922" y="14609"/>
                  <a:pt x="14916" y="14704"/>
                </a:cubicBezTo>
                <a:cubicBezTo>
                  <a:pt x="14909" y="14816"/>
                  <a:pt x="14905" y="14927"/>
                  <a:pt x="14890" y="15039"/>
                </a:cubicBezTo>
                <a:cubicBezTo>
                  <a:pt x="14885" y="15071"/>
                  <a:pt x="14885" y="15078"/>
                  <a:pt x="14877" y="15096"/>
                </a:cubicBezTo>
              </a:path>
              <a:path w="1724" h="684">
                <a:moveTo>
                  <a:pt x="14732" y="14816"/>
                </a:moveTo>
                <a:cubicBezTo>
                  <a:pt x="14719" y="14796"/>
                  <a:pt x="14710" y="14787"/>
                  <a:pt x="14707" y="14765"/>
                </a:cubicBezTo>
                <a:cubicBezTo>
                  <a:pt x="14742" y="14753"/>
                  <a:pt x="14793" y="14753"/>
                  <a:pt x="14832" y="14750"/>
                </a:cubicBezTo>
                <a:cubicBezTo>
                  <a:pt x="14921" y="14743"/>
                  <a:pt x="15008" y="14739"/>
                  <a:pt x="15095" y="14721"/>
                </a:cubicBezTo>
                <a:cubicBezTo>
                  <a:pt x="15115" y="14716"/>
                  <a:pt x="15134" y="14711"/>
                  <a:pt x="15154" y="14706"/>
                </a:cubicBezTo>
              </a:path>
              <a:path w="1724" h="684">
                <a:moveTo>
                  <a:pt x="15372" y="14504"/>
                </a:moveTo>
                <a:cubicBezTo>
                  <a:pt x="15345" y="14464"/>
                  <a:pt x="15341" y="14502"/>
                  <a:pt x="15335" y="14532"/>
                </a:cubicBezTo>
                <a:cubicBezTo>
                  <a:pt x="15319" y="14613"/>
                  <a:pt x="15317" y="14697"/>
                  <a:pt x="15312" y="14780"/>
                </a:cubicBezTo>
                <a:cubicBezTo>
                  <a:pt x="15306" y="14865"/>
                  <a:pt x="15306" y="14951"/>
                  <a:pt x="15294" y="15035"/>
                </a:cubicBezTo>
                <a:cubicBezTo>
                  <a:pt x="15292" y="15044"/>
                  <a:pt x="15290" y="15054"/>
                  <a:pt x="15288" y="15063"/>
                </a:cubicBezTo>
                <a:cubicBezTo>
                  <a:pt x="15279" y="15011"/>
                  <a:pt x="15279" y="14962"/>
                  <a:pt x="15287" y="14903"/>
                </a:cubicBezTo>
                <a:cubicBezTo>
                  <a:pt x="15302" y="14798"/>
                  <a:pt x="15328" y="14694"/>
                  <a:pt x="15368" y="14596"/>
                </a:cubicBezTo>
                <a:cubicBezTo>
                  <a:pt x="15391" y="14540"/>
                  <a:pt x="15425" y="14450"/>
                  <a:pt x="15486" y="14424"/>
                </a:cubicBezTo>
                <a:cubicBezTo>
                  <a:pt x="15494" y="14424"/>
                  <a:pt x="15501" y="14423"/>
                  <a:pt x="15509" y="14423"/>
                </a:cubicBezTo>
                <a:cubicBezTo>
                  <a:pt x="15538" y="14466"/>
                  <a:pt x="15536" y="14502"/>
                  <a:pt x="15524" y="14553"/>
                </a:cubicBezTo>
                <a:cubicBezTo>
                  <a:pt x="15510" y="14612"/>
                  <a:pt x="15479" y="14667"/>
                  <a:pt x="15441" y="14714"/>
                </a:cubicBezTo>
                <a:cubicBezTo>
                  <a:pt x="15426" y="14730"/>
                  <a:pt x="15423" y="14734"/>
                  <a:pt x="15411" y="14740"/>
                </a:cubicBezTo>
                <a:cubicBezTo>
                  <a:pt x="15440" y="14716"/>
                  <a:pt x="15460" y="14698"/>
                  <a:pt x="15501" y="14691"/>
                </a:cubicBezTo>
                <a:cubicBezTo>
                  <a:pt x="15547" y="14683"/>
                  <a:pt x="15601" y="14689"/>
                  <a:pt x="15634" y="14725"/>
                </a:cubicBezTo>
                <a:cubicBezTo>
                  <a:pt x="15668" y="14762"/>
                  <a:pt x="15666" y="14815"/>
                  <a:pt x="15647" y="14858"/>
                </a:cubicBezTo>
                <a:cubicBezTo>
                  <a:pt x="15623" y="14913"/>
                  <a:pt x="15569" y="14952"/>
                  <a:pt x="15517" y="14977"/>
                </a:cubicBezTo>
                <a:cubicBezTo>
                  <a:pt x="15491" y="14990"/>
                  <a:pt x="15430" y="15006"/>
                  <a:pt x="15425" y="14959"/>
                </a:cubicBezTo>
                <a:cubicBezTo>
                  <a:pt x="15430" y="14929"/>
                  <a:pt x="15433" y="14917"/>
                  <a:pt x="15445" y="14899"/>
                </a:cubicBezTo>
              </a:path>
              <a:path w="1724" h="684">
                <a:moveTo>
                  <a:pt x="16084" y="14551"/>
                </a:moveTo>
                <a:cubicBezTo>
                  <a:pt x="16061" y="14549"/>
                  <a:pt x="16027" y="14553"/>
                  <a:pt x="15996" y="14579"/>
                </a:cubicBezTo>
                <a:cubicBezTo>
                  <a:pt x="15943" y="14623"/>
                  <a:pt x="15887" y="14689"/>
                  <a:pt x="15866" y="14756"/>
                </a:cubicBezTo>
                <a:cubicBezTo>
                  <a:pt x="15844" y="14824"/>
                  <a:pt x="15862" y="14878"/>
                  <a:pt x="15917" y="14921"/>
                </a:cubicBezTo>
                <a:cubicBezTo>
                  <a:pt x="15973" y="14964"/>
                  <a:pt x="16045" y="14960"/>
                  <a:pt x="16111" y="14960"/>
                </a:cubicBezTo>
              </a:path>
              <a:path w="1724" h="684">
                <a:moveTo>
                  <a:pt x="16311" y="15022"/>
                </a:moveTo>
                <a:cubicBezTo>
                  <a:pt x="16301" y="15005"/>
                  <a:pt x="16299" y="14991"/>
                  <a:pt x="16292" y="14973"/>
                </a:cubicBezTo>
                <a:cubicBezTo>
                  <a:pt x="16291" y="14970"/>
                  <a:pt x="16289" y="14966"/>
                  <a:pt x="16288" y="1496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1171440" y="5792760"/>
            <a:ext cx="1032120" cy="652320"/>
          </a:xfrm>
          <a:custGeom>
            <a:avLst/>
            <a:gdLst/>
            <a:ahLst/>
            <a:rect l="l" t="t" r="r" b="b"/>
            <a:pathLst>
              <a:path w="2866" h="1811">
                <a:moveTo>
                  <a:pt x="3297" y="16802"/>
                </a:moveTo>
                <a:cubicBezTo>
                  <a:pt x="3271" y="16820"/>
                  <a:pt x="3263" y="16830"/>
                  <a:pt x="3253" y="16779"/>
                </a:cubicBezTo>
                <a:cubicBezTo>
                  <a:pt x="3240" y="16712"/>
                  <a:pt x="3265" y="16620"/>
                  <a:pt x="3275" y="16555"/>
                </a:cubicBezTo>
                <a:cubicBezTo>
                  <a:pt x="3291" y="16451"/>
                  <a:pt x="3307" y="16339"/>
                  <a:pt x="3339" y="16238"/>
                </a:cubicBezTo>
                <a:cubicBezTo>
                  <a:pt x="3352" y="16196"/>
                  <a:pt x="3361" y="16173"/>
                  <a:pt x="3394" y="16158"/>
                </a:cubicBezTo>
                <a:cubicBezTo>
                  <a:pt x="3432" y="16237"/>
                  <a:pt x="3443" y="16318"/>
                  <a:pt x="3461" y="16404"/>
                </a:cubicBezTo>
                <a:cubicBezTo>
                  <a:pt x="3484" y="16516"/>
                  <a:pt x="3499" y="16631"/>
                  <a:pt x="3531" y="16741"/>
                </a:cubicBezTo>
                <a:cubicBezTo>
                  <a:pt x="3543" y="16784"/>
                  <a:pt x="3540" y="16809"/>
                  <a:pt x="3573" y="16840"/>
                </a:cubicBezTo>
              </a:path>
              <a:path w="2866" h="1811">
                <a:moveTo>
                  <a:pt x="3308" y="16671"/>
                </a:moveTo>
                <a:cubicBezTo>
                  <a:pt x="3294" y="16690"/>
                  <a:pt x="3284" y="16702"/>
                  <a:pt x="3277" y="16724"/>
                </a:cubicBezTo>
                <a:cubicBezTo>
                  <a:pt x="3309" y="16737"/>
                  <a:pt x="3348" y="16728"/>
                  <a:pt x="3383" y="16715"/>
                </a:cubicBezTo>
                <a:cubicBezTo>
                  <a:pt x="3450" y="16691"/>
                  <a:pt x="3521" y="16665"/>
                  <a:pt x="3582" y="16628"/>
                </a:cubicBezTo>
                <a:cubicBezTo>
                  <a:pt x="3596" y="16618"/>
                  <a:pt x="3610" y="16609"/>
                  <a:pt x="3624" y="16599"/>
                </a:cubicBezTo>
              </a:path>
              <a:path w="2866" h="1811">
                <a:moveTo>
                  <a:pt x="3725" y="16313"/>
                </a:moveTo>
                <a:cubicBezTo>
                  <a:pt x="3716" y="16347"/>
                  <a:pt x="3718" y="16382"/>
                  <a:pt x="3720" y="16417"/>
                </a:cubicBezTo>
                <a:cubicBezTo>
                  <a:pt x="3724" y="16477"/>
                  <a:pt x="3731" y="16537"/>
                  <a:pt x="3738" y="16597"/>
                </a:cubicBezTo>
                <a:cubicBezTo>
                  <a:pt x="3741" y="16625"/>
                  <a:pt x="3742" y="16632"/>
                  <a:pt x="3744" y="16649"/>
                </a:cubicBezTo>
                <a:cubicBezTo>
                  <a:pt x="3748" y="16553"/>
                  <a:pt x="3748" y="16457"/>
                  <a:pt x="3755" y="16361"/>
                </a:cubicBezTo>
                <a:cubicBezTo>
                  <a:pt x="3761" y="16285"/>
                  <a:pt x="3758" y="16166"/>
                  <a:pt x="3803" y="16100"/>
                </a:cubicBezTo>
                <a:cubicBezTo>
                  <a:pt x="3807" y="16097"/>
                  <a:pt x="3812" y="16094"/>
                  <a:pt x="3816" y="16091"/>
                </a:cubicBezTo>
                <a:cubicBezTo>
                  <a:pt x="3835" y="16122"/>
                  <a:pt x="3841" y="16154"/>
                  <a:pt x="3844" y="16191"/>
                </a:cubicBezTo>
                <a:cubicBezTo>
                  <a:pt x="3847" y="16233"/>
                  <a:pt x="3840" y="16272"/>
                  <a:pt x="3838" y="16314"/>
                </a:cubicBezTo>
                <a:cubicBezTo>
                  <a:pt x="3837" y="16338"/>
                  <a:pt x="3841" y="16349"/>
                  <a:pt x="3862" y="16361"/>
                </a:cubicBezTo>
                <a:cubicBezTo>
                  <a:pt x="3896" y="16380"/>
                  <a:pt x="3941" y="16390"/>
                  <a:pt x="3977" y="16406"/>
                </a:cubicBezTo>
                <a:cubicBezTo>
                  <a:pt x="4021" y="16425"/>
                  <a:pt x="4073" y="16449"/>
                  <a:pt x="4100" y="16492"/>
                </a:cubicBezTo>
                <a:cubicBezTo>
                  <a:pt x="4127" y="16535"/>
                  <a:pt x="4112" y="16576"/>
                  <a:pt x="4079" y="16609"/>
                </a:cubicBezTo>
                <a:cubicBezTo>
                  <a:pt x="4042" y="16646"/>
                  <a:pt x="3993" y="16667"/>
                  <a:pt x="3942" y="16674"/>
                </a:cubicBezTo>
                <a:cubicBezTo>
                  <a:pt x="3908" y="16678"/>
                  <a:pt x="3872" y="16670"/>
                  <a:pt x="3878" y="16628"/>
                </a:cubicBezTo>
                <a:cubicBezTo>
                  <a:pt x="3888" y="16596"/>
                  <a:pt x="3893" y="16583"/>
                  <a:pt x="3909" y="16565"/>
                </a:cubicBezTo>
              </a:path>
              <a:path w="2866" h="1811">
                <a:moveTo>
                  <a:pt x="4384" y="16224"/>
                </a:moveTo>
                <a:cubicBezTo>
                  <a:pt x="4397" y="16189"/>
                  <a:pt x="4428" y="16135"/>
                  <a:pt x="4397" y="16107"/>
                </a:cubicBezTo>
                <a:cubicBezTo>
                  <a:pt x="4368" y="16161"/>
                  <a:pt x="4341" y="16216"/>
                  <a:pt x="4324" y="16276"/>
                </a:cubicBezTo>
                <a:cubicBezTo>
                  <a:pt x="4297" y="16368"/>
                  <a:pt x="4277" y="16467"/>
                  <a:pt x="4287" y="16563"/>
                </a:cubicBezTo>
                <a:cubicBezTo>
                  <a:pt x="4294" y="16631"/>
                  <a:pt x="4327" y="16691"/>
                  <a:pt x="4393" y="16719"/>
                </a:cubicBezTo>
                <a:cubicBezTo>
                  <a:pt x="4445" y="16741"/>
                  <a:pt x="4494" y="16723"/>
                  <a:pt x="4541" y="16701"/>
                </a:cubicBezTo>
              </a:path>
              <a:path w="2866" h="1811">
                <a:moveTo>
                  <a:pt x="4827" y="16588"/>
                </a:moveTo>
                <a:cubicBezTo>
                  <a:pt x="4799" y="16573"/>
                  <a:pt x="4803" y="16576"/>
                  <a:pt x="4806" y="16535"/>
                </a:cubicBezTo>
                <a:cubicBezTo>
                  <a:pt x="4812" y="16463"/>
                  <a:pt x="4830" y="16391"/>
                  <a:pt x="4849" y="16321"/>
                </a:cubicBezTo>
                <a:cubicBezTo>
                  <a:pt x="4865" y="16260"/>
                  <a:pt x="4877" y="16184"/>
                  <a:pt x="4911" y="16130"/>
                </a:cubicBezTo>
                <a:cubicBezTo>
                  <a:pt x="4915" y="16126"/>
                  <a:pt x="4920" y="16122"/>
                  <a:pt x="4924" y="16118"/>
                </a:cubicBezTo>
                <a:cubicBezTo>
                  <a:pt x="4951" y="16162"/>
                  <a:pt x="4952" y="16212"/>
                  <a:pt x="4958" y="16263"/>
                </a:cubicBezTo>
                <a:cubicBezTo>
                  <a:pt x="4968" y="16342"/>
                  <a:pt x="4977" y="16421"/>
                  <a:pt x="4988" y="16500"/>
                </a:cubicBezTo>
                <a:cubicBezTo>
                  <a:pt x="4992" y="16526"/>
                  <a:pt x="4995" y="16545"/>
                  <a:pt x="4993" y="16571"/>
                </a:cubicBezTo>
                <a:cubicBezTo>
                  <a:pt x="4959" y="16543"/>
                  <a:pt x="4928" y="16512"/>
                  <a:pt x="4894" y="16484"/>
                </a:cubicBezTo>
                <a:cubicBezTo>
                  <a:pt x="4849" y="16448"/>
                  <a:pt x="4784" y="16419"/>
                  <a:pt x="4755" y="16369"/>
                </a:cubicBezTo>
                <a:cubicBezTo>
                  <a:pt x="4777" y="16345"/>
                  <a:pt x="4806" y="16332"/>
                  <a:pt x="4835" y="16315"/>
                </a:cubicBezTo>
                <a:cubicBezTo>
                  <a:pt x="4874" y="16292"/>
                  <a:pt x="4916" y="16272"/>
                  <a:pt x="4953" y="16246"/>
                </a:cubicBezTo>
                <a:cubicBezTo>
                  <a:pt x="4974" y="16232"/>
                  <a:pt x="4984" y="16216"/>
                  <a:pt x="5007" y="16214"/>
                </a:cubicBezTo>
                <a:cubicBezTo>
                  <a:pt x="5013" y="16247"/>
                  <a:pt x="5009" y="16274"/>
                  <a:pt x="5000" y="16307"/>
                </a:cubicBezTo>
                <a:cubicBezTo>
                  <a:pt x="4983" y="16368"/>
                  <a:pt x="4952" y="16423"/>
                  <a:pt x="4919" y="16476"/>
                </a:cubicBezTo>
                <a:cubicBezTo>
                  <a:pt x="4895" y="16515"/>
                  <a:pt x="4815" y="16626"/>
                  <a:pt x="4841" y="16588"/>
                </a:cubicBezTo>
                <a:cubicBezTo>
                  <a:pt x="4855" y="16568"/>
                  <a:pt x="4860" y="16562"/>
                  <a:pt x="4878" y="16546"/>
                </a:cubicBezTo>
              </a:path>
              <a:path w="2866" h="1811">
                <a:moveTo>
                  <a:pt x="5300" y="16518"/>
                </a:moveTo>
                <a:cubicBezTo>
                  <a:pt x="5277" y="16505"/>
                  <a:pt x="5269" y="16507"/>
                  <a:pt x="5270" y="16469"/>
                </a:cubicBezTo>
                <a:cubicBezTo>
                  <a:pt x="5272" y="16415"/>
                  <a:pt x="5295" y="16363"/>
                  <a:pt x="5313" y="16313"/>
                </a:cubicBezTo>
                <a:cubicBezTo>
                  <a:pt x="5334" y="16254"/>
                  <a:pt x="5355" y="16194"/>
                  <a:pt x="5391" y="16142"/>
                </a:cubicBezTo>
                <a:cubicBezTo>
                  <a:pt x="5405" y="16125"/>
                  <a:pt x="5407" y="16118"/>
                  <a:pt x="5422" y="16123"/>
                </a:cubicBezTo>
                <a:cubicBezTo>
                  <a:pt x="5444" y="16177"/>
                  <a:pt x="5450" y="16233"/>
                  <a:pt x="5461" y="16290"/>
                </a:cubicBezTo>
                <a:cubicBezTo>
                  <a:pt x="5477" y="16372"/>
                  <a:pt x="5491" y="16456"/>
                  <a:pt x="5515" y="16536"/>
                </a:cubicBezTo>
                <a:cubicBezTo>
                  <a:pt x="5524" y="16565"/>
                  <a:pt x="5536" y="16591"/>
                  <a:pt x="5549" y="16618"/>
                </a:cubicBezTo>
                <a:cubicBezTo>
                  <a:pt x="5554" y="16587"/>
                  <a:pt x="5541" y="16561"/>
                  <a:pt x="5528" y="16531"/>
                </a:cubicBezTo>
                <a:cubicBezTo>
                  <a:pt x="5510" y="16489"/>
                  <a:pt x="5486" y="16449"/>
                  <a:pt x="5458" y="16412"/>
                </a:cubicBezTo>
                <a:cubicBezTo>
                  <a:pt x="5426" y="16371"/>
                  <a:pt x="5388" y="16336"/>
                  <a:pt x="5342" y="16312"/>
                </a:cubicBezTo>
                <a:cubicBezTo>
                  <a:pt x="5327" y="16305"/>
                  <a:pt x="5324" y="16302"/>
                  <a:pt x="5314" y="16305"/>
                </a:cubicBezTo>
                <a:cubicBezTo>
                  <a:pt x="5333" y="16325"/>
                  <a:pt x="5346" y="16334"/>
                  <a:pt x="5383" y="16342"/>
                </a:cubicBezTo>
                <a:cubicBezTo>
                  <a:pt x="5434" y="16354"/>
                  <a:pt x="5485" y="16355"/>
                  <a:pt x="5537" y="16357"/>
                </a:cubicBezTo>
                <a:cubicBezTo>
                  <a:pt x="5563" y="16358"/>
                  <a:pt x="5580" y="16360"/>
                  <a:pt x="5604" y="16369"/>
                </a:cubicBezTo>
                <a:cubicBezTo>
                  <a:pt x="5593" y="16397"/>
                  <a:pt x="5582" y="16411"/>
                  <a:pt x="5553" y="16433"/>
                </a:cubicBezTo>
                <a:cubicBezTo>
                  <a:pt x="5511" y="16465"/>
                  <a:pt x="5464" y="16484"/>
                  <a:pt x="5421" y="16512"/>
                </a:cubicBezTo>
                <a:cubicBezTo>
                  <a:pt x="5405" y="16522"/>
                  <a:pt x="5390" y="16540"/>
                  <a:pt x="5376" y="16552"/>
                </a:cubicBezTo>
              </a:path>
              <a:path w="2866" h="1811">
                <a:moveTo>
                  <a:pt x="5115" y="16922"/>
                </a:moveTo>
                <a:cubicBezTo>
                  <a:pt x="5103" y="16901"/>
                  <a:pt x="5105" y="16960"/>
                  <a:pt x="5105" y="16980"/>
                </a:cubicBezTo>
                <a:cubicBezTo>
                  <a:pt x="5104" y="17032"/>
                  <a:pt x="5098" y="17084"/>
                  <a:pt x="5097" y="17137"/>
                </a:cubicBezTo>
                <a:cubicBezTo>
                  <a:pt x="5096" y="17187"/>
                  <a:pt x="5101" y="17238"/>
                  <a:pt x="5105" y="17288"/>
                </a:cubicBezTo>
                <a:cubicBezTo>
                  <a:pt x="5106" y="17303"/>
                  <a:pt x="5119" y="17378"/>
                  <a:pt x="5119" y="17314"/>
                </a:cubicBezTo>
                <a:cubicBezTo>
                  <a:pt x="5119" y="17307"/>
                  <a:pt x="5118" y="17300"/>
                  <a:pt x="5118" y="17293"/>
                </a:cubicBezTo>
              </a:path>
              <a:path w="2866" h="1811">
                <a:moveTo>
                  <a:pt x="5089" y="16853"/>
                </a:moveTo>
                <a:cubicBezTo>
                  <a:pt x="5086" y="16835"/>
                  <a:pt x="5083" y="16824"/>
                  <a:pt x="5074" y="16807"/>
                </a:cubicBezTo>
                <a:cubicBezTo>
                  <a:pt x="5037" y="16822"/>
                  <a:pt x="5026" y="16846"/>
                  <a:pt x="5005" y="16883"/>
                </a:cubicBezTo>
                <a:cubicBezTo>
                  <a:pt x="4982" y="16923"/>
                  <a:pt x="4961" y="16963"/>
                  <a:pt x="4940" y="17004"/>
                </a:cubicBezTo>
                <a:cubicBezTo>
                  <a:pt x="4937" y="17010"/>
                  <a:pt x="4934" y="17015"/>
                  <a:pt x="4931" y="17021"/>
                </a:cubicBezTo>
                <a:cubicBezTo>
                  <a:pt x="4950" y="16987"/>
                  <a:pt x="4972" y="16956"/>
                  <a:pt x="4994" y="16924"/>
                </a:cubicBezTo>
                <a:cubicBezTo>
                  <a:pt x="5015" y="16894"/>
                  <a:pt x="5038" y="16853"/>
                  <a:pt x="5069" y="16832"/>
                </a:cubicBezTo>
                <a:cubicBezTo>
                  <a:pt x="5088" y="16819"/>
                  <a:pt x="5102" y="16826"/>
                  <a:pt x="5115" y="16842"/>
                </a:cubicBezTo>
                <a:cubicBezTo>
                  <a:pt x="5134" y="16866"/>
                  <a:pt x="5151" y="16894"/>
                  <a:pt x="5170" y="16918"/>
                </a:cubicBezTo>
                <a:cubicBezTo>
                  <a:pt x="5186" y="16938"/>
                  <a:pt x="5203" y="16958"/>
                  <a:pt x="5220" y="16978"/>
                </a:cubicBezTo>
              </a:path>
              <a:path w="2866" h="1811">
                <a:moveTo>
                  <a:pt x="5090" y="17537"/>
                </a:moveTo>
                <a:cubicBezTo>
                  <a:pt x="5075" y="17498"/>
                  <a:pt x="5084" y="17481"/>
                  <a:pt x="5070" y="17555"/>
                </a:cubicBezTo>
                <a:cubicBezTo>
                  <a:pt x="5061" y="17603"/>
                  <a:pt x="5011" y="17747"/>
                  <a:pt x="5063" y="17786"/>
                </a:cubicBezTo>
                <a:cubicBezTo>
                  <a:pt x="5112" y="17823"/>
                  <a:pt x="5216" y="17883"/>
                  <a:pt x="5060" y="17901"/>
                </a:cubicBezTo>
                <a:cubicBezTo>
                  <a:pt x="4979" y="17910"/>
                  <a:pt x="4965" y="17857"/>
                  <a:pt x="4932" y="17803"/>
                </a:cubicBezTo>
              </a:path>
              <a:path w="2866" h="1811">
                <a:moveTo>
                  <a:pt x="5070" y="17507"/>
                </a:moveTo>
                <a:cubicBezTo>
                  <a:pt x="5077" y="17478"/>
                  <a:pt x="5080" y="17469"/>
                  <a:pt x="5103" y="17452"/>
                </a:cubicBezTo>
                <a:cubicBezTo>
                  <a:pt x="5134" y="17430"/>
                  <a:pt x="5164" y="17436"/>
                  <a:pt x="5200" y="17429"/>
                </a:cubicBezTo>
                <a:cubicBezTo>
                  <a:pt x="5226" y="17422"/>
                  <a:pt x="5234" y="17420"/>
                  <a:pt x="5251" y="17414"/>
                </a:cubicBezTo>
              </a:path>
              <a:path w="2866" h="1811">
                <a:moveTo>
                  <a:pt x="5564" y="16972"/>
                </a:moveTo>
                <a:cubicBezTo>
                  <a:pt x="5573" y="16972"/>
                  <a:pt x="5594" y="17012"/>
                  <a:pt x="5606" y="17037"/>
                </a:cubicBezTo>
                <a:cubicBezTo>
                  <a:pt x="5636" y="17100"/>
                  <a:pt x="5666" y="17163"/>
                  <a:pt x="5702" y="17222"/>
                </a:cubicBezTo>
                <a:cubicBezTo>
                  <a:pt x="5715" y="17243"/>
                  <a:pt x="5726" y="17264"/>
                  <a:pt x="5739" y="17284"/>
                </a:cubicBezTo>
              </a:path>
              <a:path w="2866" h="1811">
                <a:moveTo>
                  <a:pt x="5560" y="16858"/>
                </a:moveTo>
                <a:cubicBezTo>
                  <a:pt x="5550" y="16838"/>
                  <a:pt x="5551" y="16836"/>
                  <a:pt x="5532" y="16827"/>
                </a:cubicBezTo>
                <a:cubicBezTo>
                  <a:pt x="5525" y="16863"/>
                  <a:pt x="5516" y="16898"/>
                  <a:pt x="5508" y="16933"/>
                </a:cubicBezTo>
                <a:cubicBezTo>
                  <a:pt x="5499" y="16973"/>
                  <a:pt x="5489" y="17012"/>
                  <a:pt x="5477" y="17051"/>
                </a:cubicBezTo>
                <a:cubicBezTo>
                  <a:pt x="5476" y="17054"/>
                  <a:pt x="5475" y="17058"/>
                  <a:pt x="5474" y="17061"/>
                </a:cubicBezTo>
                <a:cubicBezTo>
                  <a:pt x="5491" y="17030"/>
                  <a:pt x="5509" y="17000"/>
                  <a:pt x="5527" y="16969"/>
                </a:cubicBezTo>
                <a:cubicBezTo>
                  <a:pt x="5551" y="16927"/>
                  <a:pt x="5576" y="16885"/>
                  <a:pt x="5606" y="16847"/>
                </a:cubicBezTo>
                <a:cubicBezTo>
                  <a:pt x="5619" y="16830"/>
                  <a:pt x="5642" y="16800"/>
                  <a:pt x="5669" y="16806"/>
                </a:cubicBezTo>
                <a:cubicBezTo>
                  <a:pt x="5695" y="16812"/>
                  <a:pt x="5716" y="16843"/>
                  <a:pt x="5730" y="16863"/>
                </a:cubicBezTo>
                <a:cubicBezTo>
                  <a:pt x="5747" y="16888"/>
                  <a:pt x="5755" y="16910"/>
                  <a:pt x="5764" y="16938"/>
                </a:cubicBezTo>
              </a:path>
              <a:path w="2866" h="1811">
                <a:moveTo>
                  <a:pt x="5811" y="17537"/>
                </a:moveTo>
                <a:cubicBezTo>
                  <a:pt x="5812" y="17522"/>
                  <a:pt x="5813" y="17509"/>
                  <a:pt x="5815" y="17494"/>
                </a:cubicBezTo>
                <a:cubicBezTo>
                  <a:pt x="5819" y="17507"/>
                  <a:pt x="5834" y="17615"/>
                  <a:pt x="5850" y="17638"/>
                </a:cubicBezTo>
                <a:cubicBezTo>
                  <a:pt x="5899" y="17710"/>
                  <a:pt x="5943" y="17649"/>
                  <a:pt x="5990" y="17615"/>
                </a:cubicBezTo>
                <a:cubicBezTo>
                  <a:pt x="6023" y="17591"/>
                  <a:pt x="6053" y="17565"/>
                  <a:pt x="6079" y="17535"/>
                </a:cubicBezTo>
                <a:cubicBezTo>
                  <a:pt x="6102" y="17509"/>
                  <a:pt x="6098" y="17500"/>
                  <a:pt x="6095" y="17468"/>
                </a:cubicBezTo>
                <a:cubicBezTo>
                  <a:pt x="6092" y="17442"/>
                  <a:pt x="6087" y="17411"/>
                  <a:pt x="6078" y="17387"/>
                </a:cubicBezTo>
                <a:cubicBezTo>
                  <a:pt x="6076" y="17383"/>
                  <a:pt x="6074" y="17379"/>
                  <a:pt x="6072" y="17375"/>
                </a:cubicBezTo>
                <a:cubicBezTo>
                  <a:pt x="6084" y="17425"/>
                  <a:pt x="6084" y="17492"/>
                  <a:pt x="6089" y="17545"/>
                </a:cubicBezTo>
                <a:cubicBezTo>
                  <a:pt x="6097" y="17619"/>
                  <a:pt x="6105" y="17692"/>
                  <a:pt x="6118" y="1776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2503440" y="5788080"/>
            <a:ext cx="309600" cy="176040"/>
          </a:xfrm>
          <a:custGeom>
            <a:avLst/>
            <a:gdLst/>
            <a:ahLst/>
            <a:rect l="l" t="t" r="r" b="b"/>
            <a:pathLst>
              <a:path w="863" h="489">
                <a:moveTo>
                  <a:pt x="6979" y="16191"/>
                </a:moveTo>
                <a:cubicBezTo>
                  <a:pt x="6965" y="16179"/>
                  <a:pt x="6950" y="16182"/>
                  <a:pt x="6955" y="16158"/>
                </a:cubicBezTo>
                <a:cubicBezTo>
                  <a:pt x="6964" y="16117"/>
                  <a:pt x="7031" y="16100"/>
                  <a:pt x="7063" y="16090"/>
                </a:cubicBezTo>
                <a:cubicBezTo>
                  <a:pt x="7112" y="16075"/>
                  <a:pt x="7177" y="16070"/>
                  <a:pt x="7210" y="16120"/>
                </a:cubicBezTo>
                <a:cubicBezTo>
                  <a:pt x="7248" y="16179"/>
                  <a:pt x="7213" y="16266"/>
                  <a:pt x="7189" y="16322"/>
                </a:cubicBezTo>
                <a:cubicBezTo>
                  <a:pt x="7161" y="16388"/>
                  <a:pt x="7122" y="16449"/>
                  <a:pt x="7090" y="16513"/>
                </a:cubicBezTo>
                <a:cubicBezTo>
                  <a:pt x="7079" y="16537"/>
                  <a:pt x="7075" y="16542"/>
                  <a:pt x="7075" y="16559"/>
                </a:cubicBezTo>
                <a:cubicBezTo>
                  <a:pt x="7109" y="16566"/>
                  <a:pt x="7130" y="16562"/>
                  <a:pt x="7166" y="16558"/>
                </a:cubicBezTo>
                <a:cubicBezTo>
                  <a:pt x="7239" y="16551"/>
                  <a:pt x="7309" y="16535"/>
                  <a:pt x="7381" y="16518"/>
                </a:cubicBezTo>
              </a:path>
              <a:path w="863" h="489">
                <a:moveTo>
                  <a:pt x="7624" y="16137"/>
                </a:moveTo>
                <a:cubicBezTo>
                  <a:pt x="7579" y="16151"/>
                  <a:pt x="7572" y="16187"/>
                  <a:pt x="7550" y="16227"/>
                </a:cubicBezTo>
                <a:cubicBezTo>
                  <a:pt x="7516" y="16288"/>
                  <a:pt x="7484" y="16357"/>
                  <a:pt x="7493" y="16430"/>
                </a:cubicBezTo>
                <a:cubicBezTo>
                  <a:pt x="7500" y="16491"/>
                  <a:pt x="7548" y="16512"/>
                  <a:pt x="7604" y="16499"/>
                </a:cubicBezTo>
                <a:cubicBezTo>
                  <a:pt x="7672" y="16483"/>
                  <a:pt x="7733" y="16433"/>
                  <a:pt x="7771" y="16376"/>
                </a:cubicBezTo>
                <a:cubicBezTo>
                  <a:pt x="7806" y="16323"/>
                  <a:pt x="7822" y="16262"/>
                  <a:pt x="7807" y="16200"/>
                </a:cubicBezTo>
                <a:cubicBezTo>
                  <a:pt x="7797" y="16158"/>
                  <a:pt x="7756" y="16126"/>
                  <a:pt x="7714" y="16116"/>
                </a:cubicBezTo>
                <a:cubicBezTo>
                  <a:pt x="7703" y="16115"/>
                  <a:pt x="7691" y="16114"/>
                  <a:pt x="7680" y="1611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3746520" y="5749920"/>
            <a:ext cx="841320" cy="237960"/>
          </a:xfrm>
          <a:custGeom>
            <a:avLst/>
            <a:gdLst/>
            <a:ahLst/>
            <a:rect l="l" t="t" r="r" b="b"/>
            <a:pathLst>
              <a:path w="2340" h="663">
                <a:moveTo>
                  <a:pt x="10505" y="16317"/>
                </a:moveTo>
                <a:cubicBezTo>
                  <a:pt x="10485" y="16317"/>
                  <a:pt x="10491" y="16303"/>
                  <a:pt x="10472" y="16331"/>
                </a:cubicBezTo>
                <a:cubicBezTo>
                  <a:pt x="10456" y="16353"/>
                  <a:pt x="10461" y="16385"/>
                  <a:pt x="10461" y="16410"/>
                </a:cubicBezTo>
                <a:cubicBezTo>
                  <a:pt x="10461" y="16435"/>
                  <a:pt x="10462" y="16459"/>
                  <a:pt x="10468" y="16483"/>
                </a:cubicBezTo>
                <a:cubicBezTo>
                  <a:pt x="10469" y="16488"/>
                  <a:pt x="10471" y="16493"/>
                  <a:pt x="10472" y="16498"/>
                </a:cubicBezTo>
                <a:cubicBezTo>
                  <a:pt x="10478" y="16462"/>
                  <a:pt x="10484" y="16427"/>
                  <a:pt x="10489" y="16391"/>
                </a:cubicBezTo>
                <a:cubicBezTo>
                  <a:pt x="10499" y="16314"/>
                  <a:pt x="10507" y="16237"/>
                  <a:pt x="10517" y="16160"/>
                </a:cubicBezTo>
                <a:cubicBezTo>
                  <a:pt x="10524" y="16104"/>
                  <a:pt x="10529" y="16048"/>
                  <a:pt x="10544" y="15993"/>
                </a:cubicBezTo>
                <a:cubicBezTo>
                  <a:pt x="10579" y="16033"/>
                  <a:pt x="10584" y="16095"/>
                  <a:pt x="10598" y="16148"/>
                </a:cubicBezTo>
                <a:cubicBezTo>
                  <a:pt x="10620" y="16234"/>
                  <a:pt x="10638" y="16321"/>
                  <a:pt x="10660" y="16408"/>
                </a:cubicBezTo>
                <a:cubicBezTo>
                  <a:pt x="10668" y="16439"/>
                  <a:pt x="10675" y="16468"/>
                  <a:pt x="10679" y="16499"/>
                </a:cubicBezTo>
                <a:cubicBezTo>
                  <a:pt x="10654" y="16485"/>
                  <a:pt x="10640" y="16460"/>
                  <a:pt x="10619" y="16438"/>
                </a:cubicBezTo>
                <a:cubicBezTo>
                  <a:pt x="10572" y="16390"/>
                  <a:pt x="10515" y="16348"/>
                  <a:pt x="10449" y="16330"/>
                </a:cubicBezTo>
                <a:cubicBezTo>
                  <a:pt x="10427" y="16326"/>
                  <a:pt x="10420" y="16325"/>
                  <a:pt x="10406" y="16323"/>
                </a:cubicBezTo>
                <a:cubicBezTo>
                  <a:pt x="10464" y="16315"/>
                  <a:pt x="10520" y="16305"/>
                  <a:pt x="10578" y="16293"/>
                </a:cubicBezTo>
                <a:cubicBezTo>
                  <a:pt x="10630" y="16282"/>
                  <a:pt x="10700" y="16255"/>
                  <a:pt x="10754" y="16265"/>
                </a:cubicBezTo>
                <a:cubicBezTo>
                  <a:pt x="10760" y="16268"/>
                  <a:pt x="10767" y="16272"/>
                  <a:pt x="10773" y="16275"/>
                </a:cubicBezTo>
                <a:cubicBezTo>
                  <a:pt x="10772" y="16332"/>
                  <a:pt x="10738" y="16376"/>
                  <a:pt x="10705" y="16423"/>
                </a:cubicBezTo>
                <a:cubicBezTo>
                  <a:pt x="10677" y="16463"/>
                  <a:pt x="10510" y="16655"/>
                  <a:pt x="10571" y="16612"/>
                </a:cubicBezTo>
                <a:cubicBezTo>
                  <a:pt x="10609" y="16582"/>
                  <a:pt x="10623" y="16571"/>
                  <a:pt x="10649" y="16550"/>
                </a:cubicBezTo>
              </a:path>
              <a:path w="2340" h="663">
                <a:moveTo>
                  <a:pt x="11003" y="16497"/>
                </a:moveTo>
                <a:cubicBezTo>
                  <a:pt x="11012" y="16452"/>
                  <a:pt x="11022" y="16409"/>
                  <a:pt x="11033" y="16364"/>
                </a:cubicBezTo>
                <a:cubicBezTo>
                  <a:pt x="11054" y="16278"/>
                  <a:pt x="11081" y="16194"/>
                  <a:pt x="11115" y="16112"/>
                </a:cubicBezTo>
                <a:cubicBezTo>
                  <a:pt x="11127" y="16083"/>
                  <a:pt x="11161" y="15977"/>
                  <a:pt x="11204" y="15971"/>
                </a:cubicBezTo>
                <a:cubicBezTo>
                  <a:pt x="11209" y="15974"/>
                  <a:pt x="11214" y="15977"/>
                  <a:pt x="11219" y="15980"/>
                </a:cubicBezTo>
                <a:cubicBezTo>
                  <a:pt x="11237" y="16046"/>
                  <a:pt x="11237" y="16111"/>
                  <a:pt x="11243" y="16179"/>
                </a:cubicBezTo>
                <a:cubicBezTo>
                  <a:pt x="11249" y="16257"/>
                  <a:pt x="11259" y="16336"/>
                  <a:pt x="11258" y="16414"/>
                </a:cubicBezTo>
                <a:cubicBezTo>
                  <a:pt x="11255" y="16438"/>
                  <a:pt x="11254" y="16444"/>
                  <a:pt x="11259" y="16459"/>
                </a:cubicBezTo>
                <a:cubicBezTo>
                  <a:pt x="11242" y="16441"/>
                  <a:pt x="11227" y="16420"/>
                  <a:pt x="11213" y="16398"/>
                </a:cubicBezTo>
                <a:cubicBezTo>
                  <a:pt x="11174" y="16338"/>
                  <a:pt x="11126" y="16298"/>
                  <a:pt x="11068" y="16258"/>
                </a:cubicBezTo>
                <a:cubicBezTo>
                  <a:pt x="11103" y="16229"/>
                  <a:pt x="11156" y="16213"/>
                  <a:pt x="11201" y="16194"/>
                </a:cubicBezTo>
                <a:cubicBezTo>
                  <a:pt x="11279" y="16161"/>
                  <a:pt x="11351" y="16119"/>
                  <a:pt x="11423" y="16075"/>
                </a:cubicBezTo>
                <a:cubicBezTo>
                  <a:pt x="11460" y="16052"/>
                  <a:pt x="11486" y="16027"/>
                  <a:pt x="11520" y="16001"/>
                </a:cubicBezTo>
                <a:cubicBezTo>
                  <a:pt x="11528" y="15971"/>
                  <a:pt x="11531" y="15971"/>
                  <a:pt x="11513" y="15997"/>
                </a:cubicBezTo>
                <a:cubicBezTo>
                  <a:pt x="11486" y="16035"/>
                  <a:pt x="11491" y="16105"/>
                  <a:pt x="11489" y="16148"/>
                </a:cubicBezTo>
                <a:cubicBezTo>
                  <a:pt x="11485" y="16231"/>
                  <a:pt x="11494" y="16312"/>
                  <a:pt x="11511" y="16393"/>
                </a:cubicBezTo>
                <a:cubicBezTo>
                  <a:pt x="11519" y="16434"/>
                  <a:pt x="11531" y="16464"/>
                  <a:pt x="11550" y="16500"/>
                </a:cubicBezTo>
                <a:cubicBezTo>
                  <a:pt x="11583" y="16485"/>
                  <a:pt x="11585" y="16483"/>
                  <a:pt x="11596" y="16427"/>
                </a:cubicBezTo>
                <a:cubicBezTo>
                  <a:pt x="11611" y="16351"/>
                  <a:pt x="11621" y="16274"/>
                  <a:pt x="11634" y="16197"/>
                </a:cubicBezTo>
                <a:cubicBezTo>
                  <a:pt x="11642" y="16147"/>
                  <a:pt x="11654" y="16104"/>
                  <a:pt x="11671" y="16057"/>
                </a:cubicBezTo>
                <a:cubicBezTo>
                  <a:pt x="11677" y="16097"/>
                  <a:pt x="11668" y="16131"/>
                  <a:pt x="11656" y="16171"/>
                </a:cubicBezTo>
                <a:cubicBezTo>
                  <a:pt x="11647" y="16201"/>
                  <a:pt x="11634" y="16227"/>
                  <a:pt x="11619" y="16255"/>
                </a:cubicBezTo>
                <a:cubicBezTo>
                  <a:pt x="11640" y="16235"/>
                  <a:pt x="11638" y="16233"/>
                  <a:pt x="11666" y="16226"/>
                </a:cubicBezTo>
                <a:cubicBezTo>
                  <a:pt x="11708" y="16215"/>
                  <a:pt x="11749" y="16238"/>
                  <a:pt x="11774" y="16270"/>
                </a:cubicBezTo>
                <a:cubicBezTo>
                  <a:pt x="11806" y="16312"/>
                  <a:pt x="11817" y="16365"/>
                  <a:pt x="11806" y="16416"/>
                </a:cubicBezTo>
                <a:cubicBezTo>
                  <a:pt x="11796" y="16460"/>
                  <a:pt x="11770" y="16494"/>
                  <a:pt x="11726" y="16507"/>
                </a:cubicBezTo>
                <a:cubicBezTo>
                  <a:pt x="11685" y="16519"/>
                  <a:pt x="11662" y="16483"/>
                  <a:pt x="11663" y="16447"/>
                </a:cubicBezTo>
                <a:cubicBezTo>
                  <a:pt x="11669" y="16409"/>
                  <a:pt x="11672" y="16395"/>
                  <a:pt x="11685" y="16371"/>
                </a:cubicBezTo>
              </a:path>
              <a:path w="2340" h="663">
                <a:moveTo>
                  <a:pt x="12037" y="16134"/>
                </a:moveTo>
                <a:cubicBezTo>
                  <a:pt x="12056" y="16132"/>
                  <a:pt x="12060" y="16131"/>
                  <a:pt x="12071" y="16135"/>
                </a:cubicBezTo>
                <a:cubicBezTo>
                  <a:pt x="12070" y="16171"/>
                  <a:pt x="12047" y="16200"/>
                  <a:pt x="12031" y="16234"/>
                </a:cubicBezTo>
                <a:cubicBezTo>
                  <a:pt x="12005" y="16288"/>
                  <a:pt x="11973" y="16347"/>
                  <a:pt x="11966" y="16408"/>
                </a:cubicBezTo>
                <a:cubicBezTo>
                  <a:pt x="11960" y="16459"/>
                  <a:pt x="11991" y="16495"/>
                  <a:pt x="12041" y="16505"/>
                </a:cubicBezTo>
                <a:cubicBezTo>
                  <a:pt x="12102" y="16517"/>
                  <a:pt x="12178" y="16497"/>
                  <a:pt x="12236" y="16480"/>
                </a:cubicBezTo>
                <a:cubicBezTo>
                  <a:pt x="12251" y="16475"/>
                  <a:pt x="12267" y="16469"/>
                  <a:pt x="12282" y="16464"/>
                </a:cubicBezTo>
              </a:path>
              <a:path w="2340" h="663">
                <a:moveTo>
                  <a:pt x="12336" y="16474"/>
                </a:moveTo>
                <a:cubicBezTo>
                  <a:pt x="12339" y="16454"/>
                  <a:pt x="12344" y="16439"/>
                  <a:pt x="12355" y="16412"/>
                </a:cubicBezTo>
                <a:cubicBezTo>
                  <a:pt x="12379" y="16354"/>
                  <a:pt x="12404" y="16298"/>
                  <a:pt x="12434" y="16243"/>
                </a:cubicBezTo>
                <a:cubicBezTo>
                  <a:pt x="12458" y="16199"/>
                  <a:pt x="12486" y="16132"/>
                  <a:pt x="12535" y="16110"/>
                </a:cubicBezTo>
                <a:cubicBezTo>
                  <a:pt x="12541" y="16110"/>
                  <a:pt x="12548" y="16109"/>
                  <a:pt x="12554" y="16109"/>
                </a:cubicBezTo>
                <a:cubicBezTo>
                  <a:pt x="12587" y="16146"/>
                  <a:pt x="12587" y="16188"/>
                  <a:pt x="12592" y="16239"/>
                </a:cubicBezTo>
                <a:cubicBezTo>
                  <a:pt x="12598" y="16300"/>
                  <a:pt x="12594" y="16362"/>
                  <a:pt x="12602" y="16422"/>
                </a:cubicBezTo>
                <a:cubicBezTo>
                  <a:pt x="12606" y="16454"/>
                  <a:pt x="12611" y="16445"/>
                  <a:pt x="12626" y="16463"/>
                </a:cubicBezTo>
                <a:cubicBezTo>
                  <a:pt x="12649" y="16441"/>
                  <a:pt x="12662" y="16420"/>
                  <a:pt x="12679" y="16393"/>
                </a:cubicBezTo>
                <a:cubicBezTo>
                  <a:pt x="12687" y="16380"/>
                  <a:pt x="12691" y="16370"/>
                  <a:pt x="12697" y="16356"/>
                </a:cubicBezTo>
                <a:cubicBezTo>
                  <a:pt x="12660" y="16354"/>
                  <a:pt x="12626" y="16364"/>
                  <a:pt x="12590" y="16374"/>
                </a:cubicBezTo>
                <a:cubicBezTo>
                  <a:pt x="12527" y="16391"/>
                  <a:pt x="12463" y="16406"/>
                  <a:pt x="12401" y="16424"/>
                </a:cubicBezTo>
                <a:cubicBezTo>
                  <a:pt x="12376" y="16431"/>
                  <a:pt x="12354" y="16441"/>
                  <a:pt x="12330" y="16451"/>
                </a:cubicBezTo>
                <a:cubicBezTo>
                  <a:pt x="12378" y="16450"/>
                  <a:pt x="12420" y="16439"/>
                  <a:pt x="12467" y="16427"/>
                </a:cubicBezTo>
                <a:cubicBezTo>
                  <a:pt x="12524" y="16412"/>
                  <a:pt x="12591" y="16398"/>
                  <a:pt x="12641" y="16364"/>
                </a:cubicBezTo>
                <a:cubicBezTo>
                  <a:pt x="12656" y="16354"/>
                  <a:pt x="12668" y="16342"/>
                  <a:pt x="12681" y="16328"/>
                </a:cubicBezTo>
                <a:cubicBezTo>
                  <a:pt x="12694" y="16314"/>
                  <a:pt x="12706" y="16300"/>
                  <a:pt x="12718" y="16285"/>
                </a:cubicBezTo>
                <a:cubicBezTo>
                  <a:pt x="12731" y="16268"/>
                  <a:pt x="12725" y="16265"/>
                  <a:pt x="12744" y="16255"/>
                </a:cubicBezTo>
                <a:cubicBezTo>
                  <a:pt x="12716" y="16328"/>
                  <a:pt x="12673" y="16393"/>
                  <a:pt x="12631" y="16459"/>
                </a:cubicBezTo>
                <a:cubicBezTo>
                  <a:pt x="12602" y="16504"/>
                  <a:pt x="12569" y="16550"/>
                  <a:pt x="12531" y="16587"/>
                </a:cubicBezTo>
                <a:cubicBezTo>
                  <a:pt x="12528" y="16589"/>
                  <a:pt x="12525" y="16591"/>
                  <a:pt x="12522" y="1659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4943520" y="5803920"/>
            <a:ext cx="264960" cy="141120"/>
          </a:xfrm>
          <a:custGeom>
            <a:avLst/>
            <a:gdLst/>
            <a:ahLst/>
            <a:rect l="l" t="t" r="r" b="b"/>
            <a:pathLst>
              <a:path w="738" h="393">
                <a:moveTo>
                  <a:pt x="13761" y="16277"/>
                </a:moveTo>
                <a:cubicBezTo>
                  <a:pt x="13761" y="16247"/>
                  <a:pt x="13772" y="16225"/>
                  <a:pt x="13794" y="16203"/>
                </a:cubicBezTo>
                <a:cubicBezTo>
                  <a:pt x="13825" y="16173"/>
                  <a:pt x="13871" y="16139"/>
                  <a:pt x="13914" y="16130"/>
                </a:cubicBezTo>
                <a:cubicBezTo>
                  <a:pt x="13939" y="16129"/>
                  <a:pt x="13946" y="16128"/>
                  <a:pt x="13960" y="16137"/>
                </a:cubicBezTo>
                <a:cubicBezTo>
                  <a:pt x="13967" y="16194"/>
                  <a:pt x="13944" y="16232"/>
                  <a:pt x="13911" y="16281"/>
                </a:cubicBezTo>
                <a:cubicBezTo>
                  <a:pt x="13868" y="16344"/>
                  <a:pt x="13815" y="16398"/>
                  <a:pt x="13765" y="16455"/>
                </a:cubicBezTo>
                <a:cubicBezTo>
                  <a:pt x="13744" y="16479"/>
                  <a:pt x="13744" y="16487"/>
                  <a:pt x="13734" y="16510"/>
                </a:cubicBezTo>
                <a:cubicBezTo>
                  <a:pt x="13778" y="16515"/>
                  <a:pt x="13817" y="16506"/>
                  <a:pt x="13860" y="16503"/>
                </a:cubicBezTo>
                <a:cubicBezTo>
                  <a:pt x="13923" y="16498"/>
                  <a:pt x="13982" y="16495"/>
                  <a:pt x="14042" y="16472"/>
                </a:cubicBezTo>
                <a:cubicBezTo>
                  <a:pt x="14053" y="16467"/>
                  <a:pt x="14064" y="16461"/>
                  <a:pt x="14075" y="16456"/>
                </a:cubicBezTo>
              </a:path>
              <a:path w="738" h="393">
                <a:moveTo>
                  <a:pt x="14219" y="16224"/>
                </a:moveTo>
                <a:cubicBezTo>
                  <a:pt x="14193" y="16277"/>
                  <a:pt x="14164" y="16327"/>
                  <a:pt x="14150" y="16384"/>
                </a:cubicBezTo>
                <a:cubicBezTo>
                  <a:pt x="14142" y="16417"/>
                  <a:pt x="14130" y="16474"/>
                  <a:pt x="14179" y="16482"/>
                </a:cubicBezTo>
                <a:cubicBezTo>
                  <a:pt x="14241" y="16492"/>
                  <a:pt x="14309" y="16448"/>
                  <a:pt x="14355" y="16412"/>
                </a:cubicBezTo>
                <a:cubicBezTo>
                  <a:pt x="14404" y="16374"/>
                  <a:pt x="14461" y="16316"/>
                  <a:pt x="14469" y="16251"/>
                </a:cubicBezTo>
                <a:cubicBezTo>
                  <a:pt x="14476" y="16196"/>
                  <a:pt x="14433" y="16167"/>
                  <a:pt x="14392" y="16146"/>
                </a:cubicBezTo>
                <a:cubicBezTo>
                  <a:pt x="14358" y="16128"/>
                  <a:pt x="14331" y="16125"/>
                  <a:pt x="14293" y="1612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5932440" y="5780160"/>
            <a:ext cx="382680" cy="155520"/>
          </a:xfrm>
          <a:custGeom>
            <a:avLst/>
            <a:gdLst/>
            <a:ahLst/>
            <a:rect l="l" t="t" r="r" b="b"/>
            <a:pathLst>
              <a:path w="1062" h="431">
                <a:moveTo>
                  <a:pt x="16610" y="16390"/>
                </a:moveTo>
                <a:cubicBezTo>
                  <a:pt x="16590" y="16399"/>
                  <a:pt x="16582" y="16407"/>
                  <a:pt x="16573" y="16427"/>
                </a:cubicBezTo>
                <a:cubicBezTo>
                  <a:pt x="16566" y="16402"/>
                  <a:pt x="16569" y="16387"/>
                  <a:pt x="16573" y="16359"/>
                </a:cubicBezTo>
                <a:cubicBezTo>
                  <a:pt x="16582" y="16303"/>
                  <a:pt x="16598" y="16250"/>
                  <a:pt x="16618" y="16197"/>
                </a:cubicBezTo>
                <a:cubicBezTo>
                  <a:pt x="16634" y="16155"/>
                  <a:pt x="16648" y="16102"/>
                  <a:pt x="16681" y="16069"/>
                </a:cubicBezTo>
                <a:cubicBezTo>
                  <a:pt x="16685" y="16067"/>
                  <a:pt x="16688" y="16065"/>
                  <a:pt x="16692" y="16063"/>
                </a:cubicBezTo>
                <a:cubicBezTo>
                  <a:pt x="16709" y="16096"/>
                  <a:pt x="16703" y="16132"/>
                  <a:pt x="16702" y="16169"/>
                </a:cubicBezTo>
                <a:cubicBezTo>
                  <a:pt x="16701" y="16241"/>
                  <a:pt x="16699" y="16313"/>
                  <a:pt x="16696" y="16385"/>
                </a:cubicBezTo>
                <a:cubicBezTo>
                  <a:pt x="16694" y="16351"/>
                  <a:pt x="16686" y="16334"/>
                  <a:pt x="16655" y="16313"/>
                </a:cubicBezTo>
                <a:cubicBezTo>
                  <a:pt x="16617" y="16287"/>
                  <a:pt x="16560" y="16287"/>
                  <a:pt x="16516" y="16295"/>
                </a:cubicBezTo>
                <a:cubicBezTo>
                  <a:pt x="16496" y="16300"/>
                  <a:pt x="16491" y="16301"/>
                  <a:pt x="16481" y="16310"/>
                </a:cubicBezTo>
                <a:cubicBezTo>
                  <a:pt x="16532" y="16314"/>
                  <a:pt x="16584" y="16301"/>
                  <a:pt x="16634" y="16283"/>
                </a:cubicBezTo>
                <a:cubicBezTo>
                  <a:pt x="16707" y="16256"/>
                  <a:pt x="16783" y="16220"/>
                  <a:pt x="16848" y="16177"/>
                </a:cubicBezTo>
                <a:cubicBezTo>
                  <a:pt x="16862" y="16167"/>
                  <a:pt x="16866" y="16165"/>
                  <a:pt x="16874" y="16158"/>
                </a:cubicBezTo>
                <a:cubicBezTo>
                  <a:pt x="16862" y="16178"/>
                  <a:pt x="16852" y="16199"/>
                  <a:pt x="16846" y="16222"/>
                </a:cubicBezTo>
                <a:cubicBezTo>
                  <a:pt x="16837" y="16257"/>
                  <a:pt x="16828" y="16290"/>
                  <a:pt x="16814" y="16323"/>
                </a:cubicBezTo>
                <a:cubicBezTo>
                  <a:pt x="16804" y="16347"/>
                  <a:pt x="16794" y="16363"/>
                  <a:pt x="16778" y="16383"/>
                </a:cubicBezTo>
              </a:path>
              <a:path w="1062" h="431">
                <a:moveTo>
                  <a:pt x="17151" y="16399"/>
                </a:moveTo>
                <a:cubicBezTo>
                  <a:pt x="17164" y="16415"/>
                  <a:pt x="17167" y="16420"/>
                  <a:pt x="17177" y="16429"/>
                </a:cubicBezTo>
                <a:cubicBezTo>
                  <a:pt x="17180" y="16410"/>
                  <a:pt x="17184" y="16394"/>
                  <a:pt x="17193" y="16376"/>
                </a:cubicBezTo>
                <a:cubicBezTo>
                  <a:pt x="17214" y="16334"/>
                  <a:pt x="17236" y="16293"/>
                  <a:pt x="17257" y="16251"/>
                </a:cubicBezTo>
                <a:cubicBezTo>
                  <a:pt x="17281" y="16203"/>
                  <a:pt x="17305" y="16156"/>
                  <a:pt x="17329" y="16108"/>
                </a:cubicBezTo>
                <a:cubicBezTo>
                  <a:pt x="17343" y="16080"/>
                  <a:pt x="17350" y="16071"/>
                  <a:pt x="17371" y="16057"/>
                </a:cubicBezTo>
                <a:cubicBezTo>
                  <a:pt x="17392" y="16090"/>
                  <a:pt x="17400" y="16120"/>
                  <a:pt x="17407" y="16159"/>
                </a:cubicBezTo>
                <a:cubicBezTo>
                  <a:pt x="17418" y="16225"/>
                  <a:pt x="17428" y="16315"/>
                  <a:pt x="17388" y="16373"/>
                </a:cubicBezTo>
                <a:cubicBezTo>
                  <a:pt x="17370" y="16399"/>
                  <a:pt x="17337" y="16402"/>
                  <a:pt x="17308" y="16399"/>
                </a:cubicBezTo>
                <a:cubicBezTo>
                  <a:pt x="17251" y="16392"/>
                  <a:pt x="17184" y="16359"/>
                  <a:pt x="17142" y="16321"/>
                </a:cubicBezTo>
                <a:cubicBezTo>
                  <a:pt x="17124" y="16305"/>
                  <a:pt x="17124" y="16300"/>
                  <a:pt x="17127" y="16279"/>
                </a:cubicBezTo>
                <a:cubicBezTo>
                  <a:pt x="17161" y="16255"/>
                  <a:pt x="17195" y="16246"/>
                  <a:pt x="17235" y="16234"/>
                </a:cubicBezTo>
                <a:cubicBezTo>
                  <a:pt x="17308" y="16213"/>
                  <a:pt x="17381" y="16190"/>
                  <a:pt x="17455" y="16173"/>
                </a:cubicBezTo>
                <a:cubicBezTo>
                  <a:pt x="17488" y="16166"/>
                  <a:pt x="17512" y="16157"/>
                  <a:pt x="17539" y="16175"/>
                </a:cubicBezTo>
                <a:cubicBezTo>
                  <a:pt x="17541" y="16215"/>
                  <a:pt x="17531" y="16251"/>
                  <a:pt x="17515" y="16289"/>
                </a:cubicBezTo>
                <a:cubicBezTo>
                  <a:pt x="17491" y="16344"/>
                  <a:pt x="17454" y="16397"/>
                  <a:pt x="17410" y="16438"/>
                </a:cubicBezTo>
                <a:cubicBezTo>
                  <a:pt x="17383" y="16463"/>
                  <a:pt x="17348" y="16495"/>
                  <a:pt x="17307" y="16486"/>
                </a:cubicBezTo>
                <a:cubicBezTo>
                  <a:pt x="17296" y="16479"/>
                  <a:pt x="17293" y="16477"/>
                  <a:pt x="17293" y="1646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6470640" y="5753160"/>
            <a:ext cx="507960" cy="174600"/>
          </a:xfrm>
          <a:custGeom>
            <a:avLst/>
            <a:gdLst/>
            <a:ahLst/>
            <a:rect l="l" t="t" r="r" b="b"/>
            <a:pathLst>
              <a:path w="1412" h="484">
                <a:moveTo>
                  <a:pt x="18039" y="16452"/>
                </a:moveTo>
                <a:cubicBezTo>
                  <a:pt x="18013" y="16453"/>
                  <a:pt x="17996" y="16457"/>
                  <a:pt x="17973" y="16446"/>
                </a:cubicBezTo>
                <a:cubicBezTo>
                  <a:pt x="17977" y="16397"/>
                  <a:pt x="17997" y="16362"/>
                  <a:pt x="18020" y="16317"/>
                </a:cubicBezTo>
                <a:cubicBezTo>
                  <a:pt x="18058" y="16243"/>
                  <a:pt x="18099" y="16172"/>
                  <a:pt x="18145" y="16103"/>
                </a:cubicBezTo>
                <a:cubicBezTo>
                  <a:pt x="18178" y="16053"/>
                  <a:pt x="18204" y="16012"/>
                  <a:pt x="18260" y="15992"/>
                </a:cubicBezTo>
                <a:cubicBezTo>
                  <a:pt x="18295" y="16037"/>
                  <a:pt x="18298" y="16084"/>
                  <a:pt x="18302" y="16142"/>
                </a:cubicBezTo>
                <a:cubicBezTo>
                  <a:pt x="18308" y="16223"/>
                  <a:pt x="18303" y="16304"/>
                  <a:pt x="18307" y="16384"/>
                </a:cubicBezTo>
                <a:cubicBezTo>
                  <a:pt x="18309" y="16414"/>
                  <a:pt x="18334" y="16481"/>
                  <a:pt x="18294" y="16443"/>
                </a:cubicBezTo>
              </a:path>
              <a:path w="1412" h="484">
                <a:moveTo>
                  <a:pt x="18140" y="16274"/>
                </a:moveTo>
                <a:cubicBezTo>
                  <a:pt x="18117" y="16274"/>
                  <a:pt x="18183" y="16262"/>
                  <a:pt x="18192" y="16260"/>
                </a:cubicBezTo>
                <a:cubicBezTo>
                  <a:pt x="18281" y="16236"/>
                  <a:pt x="18362" y="16214"/>
                  <a:pt x="18443" y="16168"/>
                </a:cubicBezTo>
                <a:cubicBezTo>
                  <a:pt x="18458" y="16159"/>
                  <a:pt x="18472" y="16149"/>
                  <a:pt x="18487" y="16140"/>
                </a:cubicBezTo>
              </a:path>
              <a:path w="1412" h="484">
                <a:moveTo>
                  <a:pt x="18580" y="16052"/>
                </a:moveTo>
                <a:cubicBezTo>
                  <a:pt x="18574" y="16102"/>
                  <a:pt x="18586" y="16148"/>
                  <a:pt x="18584" y="16198"/>
                </a:cubicBezTo>
                <a:cubicBezTo>
                  <a:pt x="18582" y="16253"/>
                  <a:pt x="18584" y="16307"/>
                  <a:pt x="18587" y="16363"/>
                </a:cubicBezTo>
                <a:cubicBezTo>
                  <a:pt x="18588" y="16384"/>
                  <a:pt x="18588" y="16390"/>
                  <a:pt x="18588" y="16403"/>
                </a:cubicBezTo>
                <a:cubicBezTo>
                  <a:pt x="18599" y="16359"/>
                  <a:pt x="18603" y="16314"/>
                  <a:pt x="18613" y="16270"/>
                </a:cubicBezTo>
                <a:cubicBezTo>
                  <a:pt x="18631" y="16195"/>
                  <a:pt x="18656" y="16117"/>
                  <a:pt x="18693" y="16049"/>
                </a:cubicBezTo>
                <a:cubicBezTo>
                  <a:pt x="18712" y="16013"/>
                  <a:pt x="18730" y="15990"/>
                  <a:pt x="18769" y="15980"/>
                </a:cubicBezTo>
                <a:cubicBezTo>
                  <a:pt x="18791" y="16010"/>
                  <a:pt x="18781" y="16035"/>
                  <a:pt x="18766" y="16069"/>
                </a:cubicBezTo>
                <a:cubicBezTo>
                  <a:pt x="18744" y="16120"/>
                  <a:pt x="18711" y="16159"/>
                  <a:pt x="18678" y="16203"/>
                </a:cubicBezTo>
                <a:cubicBezTo>
                  <a:pt x="18674" y="16209"/>
                  <a:pt x="18670" y="16215"/>
                  <a:pt x="18666" y="16221"/>
                </a:cubicBezTo>
                <a:cubicBezTo>
                  <a:pt x="18710" y="16216"/>
                  <a:pt x="18750" y="16197"/>
                  <a:pt x="18795" y="16192"/>
                </a:cubicBezTo>
                <a:cubicBezTo>
                  <a:pt x="18838" y="16187"/>
                  <a:pt x="18898" y="16187"/>
                  <a:pt x="18926" y="16228"/>
                </a:cubicBezTo>
                <a:cubicBezTo>
                  <a:pt x="18951" y="16264"/>
                  <a:pt x="18936" y="16315"/>
                  <a:pt x="18915" y="16348"/>
                </a:cubicBezTo>
                <a:cubicBezTo>
                  <a:pt x="18898" y="16375"/>
                  <a:pt x="18857" y="16417"/>
                  <a:pt x="18821" y="16415"/>
                </a:cubicBezTo>
                <a:cubicBezTo>
                  <a:pt x="18795" y="16413"/>
                  <a:pt x="18808" y="16381"/>
                  <a:pt x="18820" y="16364"/>
                </a:cubicBezTo>
                <a:cubicBezTo>
                  <a:pt x="18828" y="16355"/>
                  <a:pt x="18837" y="16346"/>
                  <a:pt x="18845" y="16337"/>
                </a:cubicBezTo>
              </a:path>
              <a:path w="1412" h="484">
                <a:moveTo>
                  <a:pt x="19262" y="16084"/>
                </a:moveTo>
                <a:cubicBezTo>
                  <a:pt x="19219" y="16088"/>
                  <a:pt x="19184" y="16111"/>
                  <a:pt x="19151" y="16144"/>
                </a:cubicBezTo>
                <a:cubicBezTo>
                  <a:pt x="19112" y="16183"/>
                  <a:pt x="19086" y="16232"/>
                  <a:pt x="19087" y="16289"/>
                </a:cubicBezTo>
                <a:cubicBezTo>
                  <a:pt x="19088" y="16341"/>
                  <a:pt x="19127" y="16372"/>
                  <a:pt x="19171" y="16392"/>
                </a:cubicBezTo>
                <a:cubicBezTo>
                  <a:pt x="19215" y="16412"/>
                  <a:pt x="19264" y="16418"/>
                  <a:pt x="19311" y="16422"/>
                </a:cubicBezTo>
                <a:cubicBezTo>
                  <a:pt x="19335" y="16424"/>
                  <a:pt x="19359" y="16426"/>
                  <a:pt x="19383" y="1642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7321680" y="5786280"/>
            <a:ext cx="279360" cy="141480"/>
          </a:xfrm>
          <a:custGeom>
            <a:avLst/>
            <a:gdLst/>
            <a:ahLst/>
            <a:rect l="l" t="t" r="r" b="b"/>
            <a:pathLst>
              <a:path w="774" h="391">
                <a:moveTo>
                  <a:pt x="20349" y="16144"/>
                </a:moveTo>
                <a:cubicBezTo>
                  <a:pt x="20348" y="16129"/>
                  <a:pt x="20353" y="16111"/>
                  <a:pt x="20368" y="16102"/>
                </a:cubicBezTo>
                <a:cubicBezTo>
                  <a:pt x="20388" y="16091"/>
                  <a:pt x="20421" y="16074"/>
                  <a:pt x="20445" y="16073"/>
                </a:cubicBezTo>
                <a:cubicBezTo>
                  <a:pt x="20481" y="16072"/>
                  <a:pt x="20480" y="16106"/>
                  <a:pt x="20474" y="16132"/>
                </a:cubicBezTo>
                <a:cubicBezTo>
                  <a:pt x="20461" y="16190"/>
                  <a:pt x="20427" y="16242"/>
                  <a:pt x="20400" y="16294"/>
                </a:cubicBezTo>
                <a:cubicBezTo>
                  <a:pt x="20381" y="16331"/>
                  <a:pt x="20344" y="16373"/>
                  <a:pt x="20338" y="16415"/>
                </a:cubicBezTo>
                <a:cubicBezTo>
                  <a:pt x="20339" y="16419"/>
                  <a:pt x="20339" y="16423"/>
                  <a:pt x="20340" y="16427"/>
                </a:cubicBezTo>
                <a:cubicBezTo>
                  <a:pt x="20376" y="16428"/>
                  <a:pt x="20409" y="16421"/>
                  <a:pt x="20445" y="16415"/>
                </a:cubicBezTo>
                <a:cubicBezTo>
                  <a:pt x="20486" y="16408"/>
                  <a:pt x="20526" y="16407"/>
                  <a:pt x="20566" y="16403"/>
                </a:cubicBezTo>
                <a:cubicBezTo>
                  <a:pt x="20588" y="16401"/>
                  <a:pt x="20609" y="16401"/>
                  <a:pt x="20630" y="16397"/>
                </a:cubicBezTo>
              </a:path>
              <a:path w="774" h="391">
                <a:moveTo>
                  <a:pt x="20943" y="16201"/>
                </a:moveTo>
                <a:cubicBezTo>
                  <a:pt x="20907" y="16215"/>
                  <a:pt x="20877" y="16249"/>
                  <a:pt x="20852" y="16284"/>
                </a:cubicBezTo>
                <a:cubicBezTo>
                  <a:pt x="20824" y="16323"/>
                  <a:pt x="20792" y="16377"/>
                  <a:pt x="20804" y="16427"/>
                </a:cubicBezTo>
                <a:cubicBezTo>
                  <a:pt x="20816" y="16479"/>
                  <a:pt x="20883" y="16465"/>
                  <a:pt x="20919" y="16454"/>
                </a:cubicBezTo>
                <a:cubicBezTo>
                  <a:pt x="20979" y="16435"/>
                  <a:pt x="21033" y="16395"/>
                  <a:pt x="21072" y="16346"/>
                </a:cubicBezTo>
                <a:cubicBezTo>
                  <a:pt x="21102" y="16308"/>
                  <a:pt x="21118" y="16266"/>
                  <a:pt x="21105" y="16219"/>
                </a:cubicBezTo>
                <a:cubicBezTo>
                  <a:pt x="21097" y="16188"/>
                  <a:pt x="21083" y="16174"/>
                  <a:pt x="21053" y="1617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4414680" y="6159600"/>
            <a:ext cx="2141640" cy="220680"/>
          </a:xfrm>
          <a:custGeom>
            <a:avLst/>
            <a:gdLst/>
            <a:ahLst/>
            <a:rect l="l" t="t" r="r" b="b"/>
            <a:pathLst>
              <a:path w="5950" h="614">
                <a:moveTo>
                  <a:pt x="12301" y="17379"/>
                </a:moveTo>
                <a:cubicBezTo>
                  <a:pt x="12284" y="17387"/>
                  <a:pt x="12280" y="17385"/>
                  <a:pt x="12263" y="17387"/>
                </a:cubicBezTo>
                <a:cubicBezTo>
                  <a:pt x="12283" y="17346"/>
                  <a:pt x="12312" y="17330"/>
                  <a:pt x="12357" y="17314"/>
                </a:cubicBezTo>
                <a:cubicBezTo>
                  <a:pt x="12398" y="17299"/>
                  <a:pt x="12487" y="17280"/>
                  <a:pt x="12518" y="17327"/>
                </a:cubicBezTo>
                <a:cubicBezTo>
                  <a:pt x="12572" y="17408"/>
                  <a:pt x="12537" y="17486"/>
                  <a:pt x="12490" y="17560"/>
                </a:cubicBezTo>
                <a:cubicBezTo>
                  <a:pt x="12449" y="17624"/>
                  <a:pt x="12400" y="17669"/>
                  <a:pt x="12345" y="17722"/>
                </a:cubicBezTo>
                <a:cubicBezTo>
                  <a:pt x="12440" y="17699"/>
                  <a:pt x="12527" y="17669"/>
                  <a:pt x="12619" y="17635"/>
                </a:cubicBezTo>
                <a:cubicBezTo>
                  <a:pt x="12682" y="17612"/>
                  <a:pt x="12702" y="17604"/>
                  <a:pt x="12743" y="17587"/>
                </a:cubicBezTo>
              </a:path>
              <a:path w="5950" h="614">
                <a:moveTo>
                  <a:pt x="12859" y="17393"/>
                </a:moveTo>
                <a:cubicBezTo>
                  <a:pt x="12823" y="17425"/>
                  <a:pt x="12689" y="17526"/>
                  <a:pt x="12740" y="17589"/>
                </a:cubicBezTo>
                <a:cubicBezTo>
                  <a:pt x="12778" y="17636"/>
                  <a:pt x="12901" y="17600"/>
                  <a:pt x="12943" y="17581"/>
                </a:cubicBezTo>
                <a:cubicBezTo>
                  <a:pt x="12998" y="17556"/>
                  <a:pt x="13051" y="17513"/>
                  <a:pt x="13065" y="17452"/>
                </a:cubicBezTo>
                <a:cubicBezTo>
                  <a:pt x="13076" y="17403"/>
                  <a:pt x="13052" y="17358"/>
                  <a:pt x="13020" y="17323"/>
                </a:cubicBezTo>
                <a:cubicBezTo>
                  <a:pt x="13000" y="17301"/>
                  <a:pt x="12979" y="17287"/>
                  <a:pt x="12955" y="17272"/>
                </a:cubicBezTo>
              </a:path>
              <a:path w="5950" h="614">
                <a:moveTo>
                  <a:pt x="13230" y="17361"/>
                </a:moveTo>
                <a:cubicBezTo>
                  <a:pt x="13247" y="17416"/>
                  <a:pt x="13234" y="17468"/>
                  <a:pt x="13229" y="17524"/>
                </a:cubicBezTo>
                <a:cubicBezTo>
                  <a:pt x="13223" y="17584"/>
                  <a:pt x="13222" y="17601"/>
                  <a:pt x="13216" y="17639"/>
                </a:cubicBezTo>
              </a:path>
              <a:path w="5950" h="614">
                <a:moveTo>
                  <a:pt x="13130" y="17489"/>
                </a:moveTo>
                <a:cubicBezTo>
                  <a:pt x="13156" y="17459"/>
                  <a:pt x="13187" y="17432"/>
                  <a:pt x="13223" y="17414"/>
                </a:cubicBezTo>
                <a:cubicBezTo>
                  <a:pt x="13274" y="17388"/>
                  <a:pt x="13332" y="17380"/>
                  <a:pt x="13388" y="17369"/>
                </a:cubicBezTo>
                <a:cubicBezTo>
                  <a:pt x="13402" y="17366"/>
                  <a:pt x="13415" y="17364"/>
                  <a:pt x="13429" y="17361"/>
                </a:cubicBezTo>
              </a:path>
              <a:path w="5950" h="614">
                <a:moveTo>
                  <a:pt x="13441" y="17306"/>
                </a:moveTo>
                <a:cubicBezTo>
                  <a:pt x="13461" y="17266"/>
                  <a:pt x="13473" y="17245"/>
                  <a:pt x="13513" y="17222"/>
                </a:cubicBezTo>
                <a:cubicBezTo>
                  <a:pt x="13557" y="17196"/>
                  <a:pt x="13611" y="17217"/>
                  <a:pt x="13647" y="17250"/>
                </a:cubicBezTo>
                <a:cubicBezTo>
                  <a:pt x="13695" y="17295"/>
                  <a:pt x="13712" y="17366"/>
                  <a:pt x="13709" y="17430"/>
                </a:cubicBezTo>
                <a:cubicBezTo>
                  <a:pt x="13705" y="17510"/>
                  <a:pt x="13657" y="17569"/>
                  <a:pt x="13613" y="17632"/>
                </a:cubicBezTo>
                <a:cubicBezTo>
                  <a:pt x="13711" y="17637"/>
                  <a:pt x="13779" y="17620"/>
                  <a:pt x="13872" y="17584"/>
                </a:cubicBezTo>
                <a:cubicBezTo>
                  <a:pt x="13897" y="17574"/>
                  <a:pt x="13922" y="17563"/>
                  <a:pt x="13947" y="17553"/>
                </a:cubicBezTo>
              </a:path>
              <a:path w="5950" h="614">
                <a:moveTo>
                  <a:pt x="14202" y="17309"/>
                </a:moveTo>
                <a:cubicBezTo>
                  <a:pt x="14161" y="17312"/>
                  <a:pt x="14108" y="17323"/>
                  <a:pt x="14073" y="17346"/>
                </a:cubicBezTo>
                <a:cubicBezTo>
                  <a:pt x="14020" y="17381"/>
                  <a:pt x="13942" y="17443"/>
                  <a:pt x="13979" y="17513"/>
                </a:cubicBezTo>
                <a:cubicBezTo>
                  <a:pt x="13999" y="17551"/>
                  <a:pt x="14123" y="17520"/>
                  <a:pt x="14150" y="17513"/>
                </a:cubicBezTo>
                <a:cubicBezTo>
                  <a:pt x="14212" y="17498"/>
                  <a:pt x="14279" y="17473"/>
                  <a:pt x="14323" y="17425"/>
                </a:cubicBezTo>
                <a:cubicBezTo>
                  <a:pt x="14353" y="17393"/>
                  <a:pt x="14361" y="17359"/>
                  <a:pt x="14349" y="17318"/>
                </a:cubicBezTo>
                <a:cubicBezTo>
                  <a:pt x="14341" y="17292"/>
                  <a:pt x="14327" y="17270"/>
                  <a:pt x="14312" y="17248"/>
                </a:cubicBezTo>
              </a:path>
              <a:path w="5950" h="614">
                <a:moveTo>
                  <a:pt x="14575" y="17270"/>
                </a:moveTo>
                <a:cubicBezTo>
                  <a:pt x="14592" y="17286"/>
                  <a:pt x="14597" y="17315"/>
                  <a:pt x="14598" y="17340"/>
                </a:cubicBezTo>
                <a:cubicBezTo>
                  <a:pt x="14600" y="17412"/>
                  <a:pt x="14598" y="17483"/>
                  <a:pt x="14587" y="17554"/>
                </a:cubicBezTo>
              </a:path>
              <a:path w="5950" h="614">
                <a:moveTo>
                  <a:pt x="14491" y="17408"/>
                </a:moveTo>
                <a:cubicBezTo>
                  <a:pt x="14523" y="17379"/>
                  <a:pt x="14560" y="17351"/>
                  <a:pt x="14602" y="17336"/>
                </a:cubicBezTo>
                <a:cubicBezTo>
                  <a:pt x="14672" y="17311"/>
                  <a:pt x="14751" y="17298"/>
                  <a:pt x="14825" y="17288"/>
                </a:cubicBezTo>
                <a:cubicBezTo>
                  <a:pt x="14875" y="17281"/>
                  <a:pt x="14925" y="17277"/>
                  <a:pt x="14975" y="17271"/>
                </a:cubicBezTo>
              </a:path>
              <a:path w="5950" h="614">
                <a:moveTo>
                  <a:pt x="14996" y="17256"/>
                </a:moveTo>
                <a:cubicBezTo>
                  <a:pt x="15012" y="17238"/>
                  <a:pt x="15041" y="17196"/>
                  <a:pt x="15063" y="17187"/>
                </a:cubicBezTo>
                <a:cubicBezTo>
                  <a:pt x="15094" y="17175"/>
                  <a:pt x="15126" y="17190"/>
                  <a:pt x="15143" y="17216"/>
                </a:cubicBezTo>
                <a:cubicBezTo>
                  <a:pt x="15171" y="17258"/>
                  <a:pt x="15168" y="17313"/>
                  <a:pt x="15161" y="17361"/>
                </a:cubicBezTo>
                <a:cubicBezTo>
                  <a:pt x="15151" y="17429"/>
                  <a:pt x="15046" y="17576"/>
                  <a:pt x="15139" y="17603"/>
                </a:cubicBezTo>
                <a:cubicBezTo>
                  <a:pt x="15198" y="17620"/>
                  <a:pt x="15295" y="17585"/>
                  <a:pt x="15353" y="17564"/>
                </a:cubicBezTo>
                <a:cubicBezTo>
                  <a:pt x="15393" y="17550"/>
                  <a:pt x="15426" y="17529"/>
                  <a:pt x="15462" y="17507"/>
                </a:cubicBezTo>
              </a:path>
              <a:path w="5950" h="614">
                <a:moveTo>
                  <a:pt x="15665" y="17216"/>
                </a:moveTo>
                <a:cubicBezTo>
                  <a:pt x="15656" y="17187"/>
                  <a:pt x="15646" y="17159"/>
                  <a:pt x="15606" y="17173"/>
                </a:cubicBezTo>
                <a:cubicBezTo>
                  <a:pt x="15547" y="17194"/>
                  <a:pt x="15492" y="17250"/>
                  <a:pt x="15455" y="17298"/>
                </a:cubicBezTo>
                <a:cubicBezTo>
                  <a:pt x="15408" y="17359"/>
                  <a:pt x="15362" y="17439"/>
                  <a:pt x="15423" y="17509"/>
                </a:cubicBezTo>
                <a:cubicBezTo>
                  <a:pt x="15464" y="17557"/>
                  <a:pt x="15580" y="17522"/>
                  <a:pt x="15626" y="17506"/>
                </a:cubicBezTo>
                <a:cubicBezTo>
                  <a:pt x="15689" y="17484"/>
                  <a:pt x="15767" y="17437"/>
                  <a:pt x="15780" y="17365"/>
                </a:cubicBezTo>
                <a:cubicBezTo>
                  <a:pt x="15786" y="17332"/>
                  <a:pt x="15759" y="17288"/>
                  <a:pt x="15738" y="17265"/>
                </a:cubicBezTo>
                <a:cubicBezTo>
                  <a:pt x="15718" y="17243"/>
                  <a:pt x="15689" y="17233"/>
                  <a:pt x="15663" y="17221"/>
                </a:cubicBezTo>
              </a:path>
              <a:path w="5950" h="614">
                <a:moveTo>
                  <a:pt x="16188" y="17361"/>
                </a:moveTo>
                <a:cubicBezTo>
                  <a:pt x="16204" y="17346"/>
                  <a:pt x="16228" y="17325"/>
                  <a:pt x="16249" y="17319"/>
                </a:cubicBezTo>
                <a:cubicBezTo>
                  <a:pt x="16306" y="17302"/>
                  <a:pt x="16366" y="17302"/>
                  <a:pt x="16424" y="17298"/>
                </a:cubicBezTo>
                <a:cubicBezTo>
                  <a:pt x="16472" y="17295"/>
                  <a:pt x="16519" y="17298"/>
                  <a:pt x="16567" y="17301"/>
                </a:cubicBezTo>
              </a:path>
              <a:path w="5950" h="614">
                <a:moveTo>
                  <a:pt x="16277" y="17440"/>
                </a:moveTo>
                <a:cubicBezTo>
                  <a:pt x="16316" y="17437"/>
                  <a:pt x="16356" y="17431"/>
                  <a:pt x="16395" y="17425"/>
                </a:cubicBezTo>
                <a:cubicBezTo>
                  <a:pt x="16464" y="17414"/>
                  <a:pt x="16531" y="17410"/>
                  <a:pt x="16601" y="17404"/>
                </a:cubicBezTo>
                <a:cubicBezTo>
                  <a:pt x="16657" y="17399"/>
                  <a:pt x="16711" y="17389"/>
                  <a:pt x="16766" y="17379"/>
                </a:cubicBezTo>
              </a:path>
              <a:path w="5950" h="614">
                <a:moveTo>
                  <a:pt x="17192" y="17121"/>
                </a:moveTo>
                <a:cubicBezTo>
                  <a:pt x="17167" y="17116"/>
                  <a:pt x="17177" y="17101"/>
                  <a:pt x="17152" y="17129"/>
                </a:cubicBezTo>
                <a:cubicBezTo>
                  <a:pt x="17119" y="17166"/>
                  <a:pt x="17100" y="17218"/>
                  <a:pt x="17080" y="17262"/>
                </a:cubicBezTo>
                <a:cubicBezTo>
                  <a:pt x="17057" y="17312"/>
                  <a:pt x="17021" y="17396"/>
                  <a:pt x="17035" y="17453"/>
                </a:cubicBezTo>
                <a:cubicBezTo>
                  <a:pt x="17063" y="17564"/>
                  <a:pt x="17160" y="17586"/>
                  <a:pt x="17259" y="17589"/>
                </a:cubicBezTo>
                <a:cubicBezTo>
                  <a:pt x="17315" y="17591"/>
                  <a:pt x="17416" y="17592"/>
                  <a:pt x="17458" y="17546"/>
                </a:cubicBezTo>
                <a:cubicBezTo>
                  <a:pt x="17459" y="17542"/>
                  <a:pt x="17460" y="17539"/>
                  <a:pt x="17461" y="17535"/>
                </a:cubicBezTo>
                <a:cubicBezTo>
                  <a:pt x="17420" y="17515"/>
                  <a:pt x="17375" y="17514"/>
                  <a:pt x="17329" y="17516"/>
                </a:cubicBezTo>
                <a:cubicBezTo>
                  <a:pt x="17263" y="17519"/>
                  <a:pt x="17193" y="17521"/>
                  <a:pt x="17127" y="17529"/>
                </a:cubicBezTo>
                <a:cubicBezTo>
                  <a:pt x="17116" y="17530"/>
                  <a:pt x="17012" y="17549"/>
                  <a:pt x="17083" y="17527"/>
                </a:cubicBezTo>
                <a:cubicBezTo>
                  <a:pt x="17094" y="17525"/>
                  <a:pt x="17104" y="17522"/>
                  <a:pt x="17115" y="17520"/>
                </a:cubicBezTo>
              </a:path>
              <a:path w="5950" h="614">
                <a:moveTo>
                  <a:pt x="18005" y="17225"/>
                </a:moveTo>
                <a:cubicBezTo>
                  <a:pt x="18016" y="17203"/>
                  <a:pt x="18020" y="17197"/>
                  <a:pt x="18018" y="17180"/>
                </a:cubicBezTo>
                <a:cubicBezTo>
                  <a:pt x="17975" y="17159"/>
                  <a:pt x="17946" y="17184"/>
                  <a:pt x="17908" y="17214"/>
                </a:cubicBezTo>
                <a:cubicBezTo>
                  <a:pt x="17849" y="17261"/>
                  <a:pt x="17789" y="17326"/>
                  <a:pt x="17764" y="17399"/>
                </a:cubicBezTo>
                <a:cubicBezTo>
                  <a:pt x="17731" y="17497"/>
                  <a:pt x="17823" y="17528"/>
                  <a:pt x="17900" y="17528"/>
                </a:cubicBezTo>
                <a:cubicBezTo>
                  <a:pt x="17983" y="17528"/>
                  <a:pt x="18073" y="17499"/>
                  <a:pt x="18142" y="17452"/>
                </a:cubicBezTo>
                <a:cubicBezTo>
                  <a:pt x="18185" y="17423"/>
                  <a:pt x="18230" y="17378"/>
                  <a:pt x="18201" y="17324"/>
                </a:cubicBezTo>
                <a:cubicBezTo>
                  <a:pt x="18179" y="17284"/>
                  <a:pt x="18118" y="17263"/>
                  <a:pt x="18076" y="17257"/>
                </a:cubicBezTo>
                <a:cubicBezTo>
                  <a:pt x="18025" y="17249"/>
                  <a:pt x="17984" y="17262"/>
                  <a:pt x="17935" y="1727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"/>
          <p:cNvSpPr/>
          <p:nvPr/>
        </p:nvSpPr>
        <p:spPr>
          <a:xfrm>
            <a:off x="2819160" y="0"/>
            <a:ext cx="37393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0000"/>
                </a:solidFill>
                <a:latin typeface="Arial"/>
              </a:rPr>
              <a:t>Combination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614520" y="914400"/>
            <a:ext cx="7971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ing k objects from a set of size n.  C(n,r)=n!/[(n-r)!r!]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: How many ways  are there to select five players from a 10-me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nnis team to make a trip to another school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2379600" y="99216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6609" y="2758"/>
                </a:moveTo>
                <a:lnTo>
                  <a:pt x="6609" y="2758"/>
                </a:ln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3195720" y="161280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8876" y="4479"/>
                </a:moveTo>
                <a:lnTo>
                  <a:pt x="8876" y="4479"/>
                </a:ln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5211720" y="1933560"/>
            <a:ext cx="11160" cy="11160"/>
          </a:xfrm>
          <a:custGeom>
            <a:avLst/>
            <a:gdLst/>
            <a:ahLst/>
            <a:rect l="l" t="t" r="r" b="b"/>
            <a:pathLst>
              <a:path w="29" h="32">
                <a:moveTo>
                  <a:pt x="14482" y="5371"/>
                </a:moveTo>
                <a:cubicBezTo>
                  <a:pt x="14476" y="5395"/>
                  <a:pt x="14483" y="5395"/>
                  <a:pt x="14506" y="540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4243320" y="1738440"/>
            <a:ext cx="585720" cy="287280"/>
          </a:xfrm>
          <a:custGeom>
            <a:avLst/>
            <a:gdLst/>
            <a:ahLst/>
            <a:rect l="l" t="t" r="r" b="b"/>
            <a:pathLst>
              <a:path w="1624" h="799">
                <a:moveTo>
                  <a:pt x="11819" y="5037"/>
                </a:moveTo>
                <a:cubicBezTo>
                  <a:pt x="11830" y="5037"/>
                  <a:pt x="11838" y="5108"/>
                  <a:pt x="11842" y="5145"/>
                </a:cubicBezTo>
                <a:cubicBezTo>
                  <a:pt x="11849" y="5216"/>
                  <a:pt x="11854" y="5288"/>
                  <a:pt x="11856" y="5360"/>
                </a:cubicBezTo>
                <a:cubicBezTo>
                  <a:pt x="11856" y="5396"/>
                  <a:pt x="11856" y="5405"/>
                  <a:pt x="11856" y="5427"/>
                </a:cubicBezTo>
                <a:cubicBezTo>
                  <a:pt x="11844" y="5462"/>
                  <a:pt x="11863" y="5368"/>
                  <a:pt x="11865" y="5362"/>
                </a:cubicBezTo>
                <a:cubicBezTo>
                  <a:pt x="11880" y="5301"/>
                  <a:pt x="11900" y="5242"/>
                  <a:pt x="11926" y="5184"/>
                </a:cubicBezTo>
                <a:cubicBezTo>
                  <a:pt x="11940" y="5153"/>
                  <a:pt x="11951" y="5137"/>
                  <a:pt x="11976" y="5116"/>
                </a:cubicBezTo>
                <a:cubicBezTo>
                  <a:pt x="12009" y="5134"/>
                  <a:pt x="12004" y="5170"/>
                  <a:pt x="12009" y="5207"/>
                </a:cubicBezTo>
                <a:cubicBezTo>
                  <a:pt x="12016" y="5262"/>
                  <a:pt x="12028" y="5308"/>
                  <a:pt x="12053" y="5357"/>
                </a:cubicBezTo>
              </a:path>
              <a:path w="1624" h="799">
                <a:moveTo>
                  <a:pt x="12179" y="5292"/>
                </a:moveTo>
                <a:cubicBezTo>
                  <a:pt x="12204" y="5300"/>
                  <a:pt x="12222" y="5292"/>
                  <a:pt x="12247" y="5282"/>
                </a:cubicBezTo>
                <a:cubicBezTo>
                  <a:pt x="12286" y="5267"/>
                  <a:pt x="12323" y="5255"/>
                  <a:pt x="12361" y="5238"/>
                </a:cubicBezTo>
              </a:path>
              <a:path w="1624" h="799">
                <a:moveTo>
                  <a:pt x="12434" y="5193"/>
                </a:moveTo>
                <a:cubicBezTo>
                  <a:pt x="12434" y="5227"/>
                  <a:pt x="12436" y="5264"/>
                  <a:pt x="12442" y="5298"/>
                </a:cubicBezTo>
                <a:cubicBezTo>
                  <a:pt x="12448" y="5331"/>
                  <a:pt x="12455" y="5363"/>
                  <a:pt x="12461" y="5396"/>
                </a:cubicBezTo>
                <a:cubicBezTo>
                  <a:pt x="12473" y="5362"/>
                  <a:pt x="12477" y="5326"/>
                  <a:pt x="12488" y="5292"/>
                </a:cubicBezTo>
                <a:cubicBezTo>
                  <a:pt x="12506" y="5238"/>
                  <a:pt x="12526" y="5204"/>
                  <a:pt x="12568" y="5167"/>
                </a:cubicBezTo>
                <a:cubicBezTo>
                  <a:pt x="12602" y="5137"/>
                  <a:pt x="12638" y="5129"/>
                  <a:pt x="12683" y="5140"/>
                </a:cubicBezTo>
                <a:cubicBezTo>
                  <a:pt x="12693" y="5143"/>
                  <a:pt x="12702" y="5147"/>
                  <a:pt x="12712" y="5150"/>
                </a:cubicBezTo>
              </a:path>
              <a:path w="1624" h="799">
                <a:moveTo>
                  <a:pt x="12034" y="4953"/>
                </a:moveTo>
                <a:cubicBezTo>
                  <a:pt x="11958" y="5019"/>
                  <a:pt x="11909" y="5077"/>
                  <a:pt x="11859" y="5165"/>
                </a:cubicBezTo>
                <a:cubicBezTo>
                  <a:pt x="11811" y="5249"/>
                  <a:pt x="11774" y="5348"/>
                  <a:pt x="11793" y="5447"/>
                </a:cubicBezTo>
                <a:cubicBezTo>
                  <a:pt x="11811" y="5541"/>
                  <a:pt x="11871" y="5599"/>
                  <a:pt x="11963" y="5619"/>
                </a:cubicBezTo>
                <a:cubicBezTo>
                  <a:pt x="11986" y="5621"/>
                  <a:pt x="12009" y="5623"/>
                  <a:pt x="12032" y="5625"/>
                </a:cubicBezTo>
              </a:path>
              <a:path w="1624" h="799">
                <a:moveTo>
                  <a:pt x="12902" y="4846"/>
                </a:moveTo>
                <a:cubicBezTo>
                  <a:pt x="12957" y="4915"/>
                  <a:pt x="12979" y="4982"/>
                  <a:pt x="12990" y="5072"/>
                </a:cubicBezTo>
                <a:cubicBezTo>
                  <a:pt x="13002" y="5177"/>
                  <a:pt x="12999" y="5282"/>
                  <a:pt x="12992" y="5387"/>
                </a:cubicBezTo>
                <a:cubicBezTo>
                  <a:pt x="12989" y="5429"/>
                  <a:pt x="12985" y="5466"/>
                  <a:pt x="12974" y="5506"/>
                </a:cubicBezTo>
              </a:path>
              <a:path w="1624" h="799">
                <a:moveTo>
                  <a:pt x="13267" y="4833"/>
                </a:moveTo>
                <a:cubicBezTo>
                  <a:pt x="13294" y="4830"/>
                  <a:pt x="13288" y="4865"/>
                  <a:pt x="13295" y="4892"/>
                </a:cubicBezTo>
                <a:cubicBezTo>
                  <a:pt x="13311" y="4957"/>
                  <a:pt x="13319" y="5026"/>
                  <a:pt x="13329" y="5093"/>
                </a:cubicBezTo>
                <a:cubicBezTo>
                  <a:pt x="13336" y="5136"/>
                  <a:pt x="13338" y="5180"/>
                  <a:pt x="13343" y="5224"/>
                </a:cubicBezTo>
              </a:path>
              <a:path w="1624" h="799">
                <a:moveTo>
                  <a:pt x="13401" y="5431"/>
                </a:moveTo>
                <a:cubicBezTo>
                  <a:pt x="13373" y="5425"/>
                  <a:pt x="13356" y="5411"/>
                  <a:pt x="13390" y="5395"/>
                </a:cubicBezTo>
                <a:cubicBezTo>
                  <a:pt x="13401" y="5392"/>
                  <a:pt x="13405" y="5391"/>
                  <a:pt x="13412" y="538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4957920" y="1716120"/>
            <a:ext cx="237960" cy="214200"/>
          </a:xfrm>
          <a:custGeom>
            <a:avLst/>
            <a:gdLst/>
            <a:ahLst/>
            <a:rect l="l" t="t" r="r" b="b"/>
            <a:pathLst>
              <a:path w="663" h="594">
                <a:moveTo>
                  <a:pt x="13772" y="5067"/>
                </a:moveTo>
                <a:cubicBezTo>
                  <a:pt x="13769" y="5097"/>
                  <a:pt x="13775" y="5126"/>
                  <a:pt x="13782" y="5156"/>
                </a:cubicBezTo>
                <a:cubicBezTo>
                  <a:pt x="13796" y="5210"/>
                  <a:pt x="13810" y="5264"/>
                  <a:pt x="13828" y="5317"/>
                </a:cubicBezTo>
                <a:cubicBezTo>
                  <a:pt x="13837" y="5345"/>
                  <a:pt x="13836" y="5354"/>
                  <a:pt x="13859" y="5362"/>
                </a:cubicBezTo>
                <a:cubicBezTo>
                  <a:pt x="13866" y="5319"/>
                  <a:pt x="13869" y="5275"/>
                  <a:pt x="13875" y="5231"/>
                </a:cubicBezTo>
                <a:cubicBezTo>
                  <a:pt x="13883" y="5180"/>
                  <a:pt x="13889" y="5124"/>
                  <a:pt x="13908" y="5076"/>
                </a:cubicBezTo>
                <a:cubicBezTo>
                  <a:pt x="13921" y="5044"/>
                  <a:pt x="13939" y="5038"/>
                  <a:pt x="13969" y="5053"/>
                </a:cubicBezTo>
                <a:cubicBezTo>
                  <a:pt x="13995" y="5066"/>
                  <a:pt x="14018" y="5084"/>
                  <a:pt x="14044" y="5098"/>
                </a:cubicBezTo>
              </a:path>
              <a:path w="663" h="594">
                <a:moveTo>
                  <a:pt x="14355" y="4783"/>
                </a:moveTo>
                <a:cubicBezTo>
                  <a:pt x="14356" y="4778"/>
                  <a:pt x="14356" y="4774"/>
                  <a:pt x="14357" y="4769"/>
                </a:cubicBezTo>
                <a:cubicBezTo>
                  <a:pt x="14374" y="4807"/>
                  <a:pt x="14373" y="4842"/>
                  <a:pt x="14382" y="4882"/>
                </a:cubicBezTo>
                <a:cubicBezTo>
                  <a:pt x="14395" y="4942"/>
                  <a:pt x="14413" y="5002"/>
                  <a:pt x="14432" y="506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5470560" y="1665360"/>
            <a:ext cx="177840" cy="77760"/>
          </a:xfrm>
          <a:custGeom>
            <a:avLst/>
            <a:gdLst/>
            <a:ahLst/>
            <a:rect l="l" t="t" r="r" b="b"/>
            <a:pathLst>
              <a:path w="496" h="217">
                <a:moveTo>
                  <a:pt x="15204" y="4725"/>
                </a:moveTo>
                <a:cubicBezTo>
                  <a:pt x="15179" y="4727"/>
                  <a:pt x="15266" y="4697"/>
                  <a:pt x="15274" y="4694"/>
                </a:cubicBezTo>
                <a:cubicBezTo>
                  <a:pt x="15354" y="4668"/>
                  <a:pt x="15438" y="4650"/>
                  <a:pt x="15519" y="4631"/>
                </a:cubicBezTo>
                <a:cubicBezTo>
                  <a:pt x="15530" y="4629"/>
                  <a:pt x="15541" y="4626"/>
                  <a:pt x="15552" y="4624"/>
                </a:cubicBezTo>
              </a:path>
              <a:path w="496" h="217">
                <a:moveTo>
                  <a:pt x="15369" y="4814"/>
                </a:moveTo>
                <a:cubicBezTo>
                  <a:pt x="15373" y="4849"/>
                  <a:pt x="15409" y="4834"/>
                  <a:pt x="15445" y="4836"/>
                </a:cubicBezTo>
                <a:cubicBezTo>
                  <a:pt x="15511" y="4839"/>
                  <a:pt x="15576" y="4843"/>
                  <a:pt x="15641" y="4829"/>
                </a:cubicBezTo>
                <a:cubicBezTo>
                  <a:pt x="15657" y="4824"/>
                  <a:pt x="15674" y="4820"/>
                  <a:pt x="15690" y="481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5872320" y="1433520"/>
            <a:ext cx="626760" cy="569880"/>
          </a:xfrm>
          <a:custGeom>
            <a:avLst/>
            <a:gdLst/>
            <a:ahLst/>
            <a:rect l="l" t="t" r="r" b="b"/>
            <a:pathLst>
              <a:path w="1740" h="1580">
                <a:moveTo>
                  <a:pt x="16316" y="4505"/>
                </a:moveTo>
                <a:cubicBezTo>
                  <a:pt x="16315" y="4477"/>
                  <a:pt x="16315" y="4481"/>
                  <a:pt x="16322" y="4458"/>
                </a:cubicBezTo>
                <a:cubicBezTo>
                  <a:pt x="16353" y="4483"/>
                  <a:pt x="16357" y="4496"/>
                  <a:pt x="16368" y="4540"/>
                </a:cubicBezTo>
                <a:cubicBezTo>
                  <a:pt x="16382" y="4595"/>
                  <a:pt x="16391" y="4650"/>
                  <a:pt x="16400" y="4706"/>
                </a:cubicBezTo>
                <a:cubicBezTo>
                  <a:pt x="16404" y="4727"/>
                  <a:pt x="16405" y="4732"/>
                  <a:pt x="16409" y="4744"/>
                </a:cubicBezTo>
                <a:cubicBezTo>
                  <a:pt x="16417" y="4671"/>
                  <a:pt x="16417" y="4597"/>
                  <a:pt x="16419" y="4523"/>
                </a:cubicBezTo>
                <a:cubicBezTo>
                  <a:pt x="16423" y="4389"/>
                  <a:pt x="16423" y="4241"/>
                  <a:pt x="16475" y="4115"/>
                </a:cubicBezTo>
                <a:cubicBezTo>
                  <a:pt x="16499" y="4057"/>
                  <a:pt x="16541" y="3994"/>
                  <a:pt x="16608" y="3983"/>
                </a:cubicBezTo>
                <a:cubicBezTo>
                  <a:pt x="16665" y="3974"/>
                  <a:pt x="16713" y="4026"/>
                  <a:pt x="16729" y="4075"/>
                </a:cubicBezTo>
                <a:cubicBezTo>
                  <a:pt x="16755" y="4152"/>
                  <a:pt x="16727" y="4240"/>
                  <a:pt x="16689" y="4308"/>
                </a:cubicBezTo>
                <a:cubicBezTo>
                  <a:pt x="16653" y="4373"/>
                  <a:pt x="16589" y="4445"/>
                  <a:pt x="16515" y="4468"/>
                </a:cubicBezTo>
                <a:cubicBezTo>
                  <a:pt x="16472" y="4481"/>
                  <a:pt x="16411" y="4474"/>
                  <a:pt x="16412" y="4417"/>
                </a:cubicBezTo>
                <a:cubicBezTo>
                  <a:pt x="16415" y="4404"/>
                  <a:pt x="16418" y="4391"/>
                  <a:pt x="16421" y="4378"/>
                </a:cubicBezTo>
              </a:path>
              <a:path w="1740" h="1580">
                <a:moveTo>
                  <a:pt x="16838" y="4066"/>
                </a:moveTo>
                <a:cubicBezTo>
                  <a:pt x="16833" y="4105"/>
                  <a:pt x="16812" y="4147"/>
                  <a:pt x="16796" y="4183"/>
                </a:cubicBezTo>
                <a:cubicBezTo>
                  <a:pt x="16763" y="4256"/>
                  <a:pt x="16738" y="4331"/>
                  <a:pt x="16731" y="4412"/>
                </a:cubicBezTo>
                <a:cubicBezTo>
                  <a:pt x="16726" y="4471"/>
                  <a:pt x="16725" y="4540"/>
                  <a:pt x="16769" y="4586"/>
                </a:cubicBezTo>
                <a:cubicBezTo>
                  <a:pt x="16793" y="4611"/>
                  <a:pt x="16813" y="4601"/>
                  <a:pt x="16840" y="4595"/>
                </a:cubicBezTo>
              </a:path>
              <a:path w="1740" h="1580">
                <a:moveTo>
                  <a:pt x="16982" y="4345"/>
                </a:moveTo>
                <a:cubicBezTo>
                  <a:pt x="16975" y="4376"/>
                  <a:pt x="16973" y="4408"/>
                  <a:pt x="16966" y="4439"/>
                </a:cubicBezTo>
                <a:cubicBezTo>
                  <a:pt x="16954" y="4492"/>
                  <a:pt x="16953" y="4546"/>
                  <a:pt x="16952" y="4601"/>
                </a:cubicBezTo>
                <a:cubicBezTo>
                  <a:pt x="16952" y="4625"/>
                  <a:pt x="16953" y="4648"/>
                  <a:pt x="16954" y="4672"/>
                </a:cubicBezTo>
                <a:cubicBezTo>
                  <a:pt x="16976" y="4648"/>
                  <a:pt x="16981" y="4613"/>
                  <a:pt x="16992" y="4581"/>
                </a:cubicBezTo>
                <a:cubicBezTo>
                  <a:pt x="17009" y="4531"/>
                  <a:pt x="17026" y="4478"/>
                  <a:pt x="17052" y="4432"/>
                </a:cubicBezTo>
                <a:cubicBezTo>
                  <a:pt x="17066" y="4411"/>
                  <a:pt x="17070" y="4405"/>
                  <a:pt x="17083" y="4396"/>
                </a:cubicBezTo>
                <a:cubicBezTo>
                  <a:pt x="17115" y="4395"/>
                  <a:pt x="17119" y="4418"/>
                  <a:pt x="17130" y="4449"/>
                </a:cubicBezTo>
                <a:cubicBezTo>
                  <a:pt x="17144" y="4488"/>
                  <a:pt x="17152" y="4526"/>
                  <a:pt x="17172" y="4563"/>
                </a:cubicBezTo>
                <a:cubicBezTo>
                  <a:pt x="17183" y="4580"/>
                  <a:pt x="17186" y="4585"/>
                  <a:pt x="17198" y="4590"/>
                </a:cubicBezTo>
              </a:path>
              <a:path w="1740" h="1580">
                <a:moveTo>
                  <a:pt x="17321" y="4558"/>
                </a:moveTo>
                <a:cubicBezTo>
                  <a:pt x="17318" y="4583"/>
                  <a:pt x="17310" y="4611"/>
                  <a:pt x="17309" y="4636"/>
                </a:cubicBezTo>
                <a:cubicBezTo>
                  <a:pt x="17307" y="4668"/>
                  <a:pt x="17308" y="4705"/>
                  <a:pt x="17311" y="4737"/>
                </a:cubicBezTo>
                <a:cubicBezTo>
                  <a:pt x="17312" y="4742"/>
                  <a:pt x="17313" y="4747"/>
                  <a:pt x="17314" y="4752"/>
                </a:cubicBezTo>
              </a:path>
              <a:path w="1740" h="1580">
                <a:moveTo>
                  <a:pt x="17521" y="4423"/>
                </a:moveTo>
                <a:cubicBezTo>
                  <a:pt x="17520" y="4420"/>
                  <a:pt x="17519" y="4417"/>
                  <a:pt x="17518" y="4414"/>
                </a:cubicBezTo>
                <a:cubicBezTo>
                  <a:pt x="17511" y="4433"/>
                  <a:pt x="17516" y="4453"/>
                  <a:pt x="17519" y="4476"/>
                </a:cubicBezTo>
                <a:cubicBezTo>
                  <a:pt x="17523" y="4500"/>
                  <a:pt x="17522" y="4519"/>
                  <a:pt x="17539" y="4533"/>
                </a:cubicBezTo>
                <a:cubicBezTo>
                  <a:pt x="17554" y="4507"/>
                  <a:pt x="17564" y="4479"/>
                  <a:pt x="17576" y="4452"/>
                </a:cubicBezTo>
                <a:cubicBezTo>
                  <a:pt x="17594" y="4411"/>
                  <a:pt x="17616" y="4376"/>
                  <a:pt x="17645" y="4342"/>
                </a:cubicBezTo>
                <a:cubicBezTo>
                  <a:pt x="17664" y="4320"/>
                  <a:pt x="17683" y="4314"/>
                  <a:pt x="17711" y="4325"/>
                </a:cubicBezTo>
                <a:cubicBezTo>
                  <a:pt x="17726" y="4333"/>
                  <a:pt x="17730" y="4335"/>
                  <a:pt x="17740" y="4340"/>
                </a:cubicBezTo>
              </a:path>
              <a:path w="1740" h="1580">
                <a:moveTo>
                  <a:pt x="18044" y="4066"/>
                </a:moveTo>
                <a:cubicBezTo>
                  <a:pt x="18048" y="4053"/>
                  <a:pt x="18049" y="4049"/>
                  <a:pt x="18051" y="4041"/>
                </a:cubicBezTo>
                <a:cubicBezTo>
                  <a:pt x="18048" y="4073"/>
                  <a:pt x="18048" y="4105"/>
                  <a:pt x="18047" y="4138"/>
                </a:cubicBezTo>
                <a:cubicBezTo>
                  <a:pt x="18044" y="4206"/>
                  <a:pt x="18039" y="4273"/>
                  <a:pt x="18037" y="4341"/>
                </a:cubicBezTo>
                <a:cubicBezTo>
                  <a:pt x="18036" y="4385"/>
                  <a:pt x="18030" y="4427"/>
                  <a:pt x="18020" y="4470"/>
                </a:cubicBezTo>
              </a:path>
              <a:path w="1740" h="1580">
                <a:moveTo>
                  <a:pt x="17969" y="4148"/>
                </a:moveTo>
                <a:cubicBezTo>
                  <a:pt x="17971" y="4120"/>
                  <a:pt x="17977" y="4085"/>
                  <a:pt x="17973" y="4057"/>
                </a:cubicBezTo>
                <a:cubicBezTo>
                  <a:pt x="17971" y="4052"/>
                  <a:pt x="17970" y="4047"/>
                  <a:pt x="17968" y="4042"/>
                </a:cubicBezTo>
                <a:cubicBezTo>
                  <a:pt x="17996" y="4066"/>
                  <a:pt x="18004" y="4102"/>
                  <a:pt x="18014" y="4139"/>
                </a:cubicBezTo>
                <a:cubicBezTo>
                  <a:pt x="18035" y="4214"/>
                  <a:pt x="18045" y="4293"/>
                  <a:pt x="18046" y="4371"/>
                </a:cubicBezTo>
                <a:cubicBezTo>
                  <a:pt x="18047" y="4438"/>
                  <a:pt x="18043" y="4497"/>
                  <a:pt x="18020" y="4560"/>
                </a:cubicBezTo>
                <a:cubicBezTo>
                  <a:pt x="18012" y="4583"/>
                  <a:pt x="18004" y="4595"/>
                  <a:pt x="17988" y="4611"/>
                </a:cubicBezTo>
              </a:path>
              <a:path w="1740" h="1580">
                <a:moveTo>
                  <a:pt x="16652" y="4821"/>
                </a:moveTo>
                <a:cubicBezTo>
                  <a:pt x="16630" y="4826"/>
                  <a:pt x="16627" y="4828"/>
                  <a:pt x="16608" y="4837"/>
                </a:cubicBezTo>
                <a:cubicBezTo>
                  <a:pt x="16639" y="4852"/>
                  <a:pt x="16672" y="4860"/>
                  <a:pt x="16712" y="4866"/>
                </a:cubicBezTo>
                <a:cubicBezTo>
                  <a:pt x="16821" y="4881"/>
                  <a:pt x="16928" y="4873"/>
                  <a:pt x="17037" y="4865"/>
                </a:cubicBezTo>
                <a:cubicBezTo>
                  <a:pt x="17190" y="4853"/>
                  <a:pt x="17342" y="4833"/>
                  <a:pt x="17495" y="4821"/>
                </a:cubicBezTo>
                <a:cubicBezTo>
                  <a:pt x="17600" y="4813"/>
                  <a:pt x="17712" y="4805"/>
                  <a:pt x="17816" y="4823"/>
                </a:cubicBezTo>
                <a:cubicBezTo>
                  <a:pt x="17851" y="4829"/>
                  <a:pt x="17884" y="4841"/>
                  <a:pt x="17919" y="4847"/>
                </a:cubicBezTo>
              </a:path>
              <a:path w="1740" h="1580">
                <a:moveTo>
                  <a:pt x="16954" y="5308"/>
                </a:moveTo>
                <a:cubicBezTo>
                  <a:pt x="16967" y="5293"/>
                  <a:pt x="16967" y="5323"/>
                  <a:pt x="16972" y="5343"/>
                </a:cubicBezTo>
                <a:cubicBezTo>
                  <a:pt x="16982" y="5387"/>
                  <a:pt x="16993" y="5431"/>
                  <a:pt x="17006" y="5475"/>
                </a:cubicBezTo>
                <a:cubicBezTo>
                  <a:pt x="17015" y="5505"/>
                  <a:pt x="17025" y="5533"/>
                  <a:pt x="17036" y="5562"/>
                </a:cubicBezTo>
                <a:cubicBezTo>
                  <a:pt x="17038" y="5532"/>
                  <a:pt x="17034" y="5501"/>
                  <a:pt x="17034" y="5470"/>
                </a:cubicBezTo>
                <a:cubicBezTo>
                  <a:pt x="17033" y="5415"/>
                  <a:pt x="17036" y="5358"/>
                  <a:pt x="17052" y="5305"/>
                </a:cubicBezTo>
                <a:cubicBezTo>
                  <a:pt x="17065" y="5261"/>
                  <a:pt x="17088" y="5219"/>
                  <a:pt x="17126" y="5193"/>
                </a:cubicBezTo>
                <a:cubicBezTo>
                  <a:pt x="17154" y="5174"/>
                  <a:pt x="17189" y="5183"/>
                  <a:pt x="17218" y="5197"/>
                </a:cubicBezTo>
                <a:cubicBezTo>
                  <a:pt x="17238" y="5209"/>
                  <a:pt x="17244" y="5213"/>
                  <a:pt x="17257" y="5221"/>
                </a:cubicBezTo>
              </a:path>
              <a:path w="1740" h="1580">
                <a:moveTo>
                  <a:pt x="17458" y="5072"/>
                </a:moveTo>
                <a:cubicBezTo>
                  <a:pt x="17480" y="5064"/>
                  <a:pt x="17472" y="5126"/>
                  <a:pt x="17476" y="5162"/>
                </a:cubicBezTo>
                <a:cubicBezTo>
                  <a:pt x="17483" y="5229"/>
                  <a:pt x="17493" y="5296"/>
                  <a:pt x="17505" y="536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6807240" y="1079640"/>
            <a:ext cx="1487520" cy="360360"/>
          </a:xfrm>
          <a:custGeom>
            <a:avLst/>
            <a:gdLst/>
            <a:ahLst/>
            <a:rect l="l" t="t" r="r" b="b"/>
            <a:pathLst>
              <a:path w="4133" h="1000">
                <a:moveTo>
                  <a:pt x="19474" y="3156"/>
                </a:moveTo>
                <a:cubicBezTo>
                  <a:pt x="19463" y="3106"/>
                  <a:pt x="19453" y="3072"/>
                  <a:pt x="19416" y="3033"/>
                </a:cubicBezTo>
                <a:cubicBezTo>
                  <a:pt x="19379" y="2994"/>
                  <a:pt x="19329" y="2991"/>
                  <a:pt x="19281" y="3012"/>
                </a:cubicBezTo>
                <a:cubicBezTo>
                  <a:pt x="19191" y="3051"/>
                  <a:pt x="19116" y="3141"/>
                  <a:pt x="19057" y="3216"/>
                </a:cubicBezTo>
                <a:cubicBezTo>
                  <a:pt x="18971" y="3327"/>
                  <a:pt x="18890" y="3475"/>
                  <a:pt x="18909" y="3621"/>
                </a:cubicBezTo>
                <a:cubicBezTo>
                  <a:pt x="18925" y="3748"/>
                  <a:pt x="19045" y="3841"/>
                  <a:pt x="19159" y="3878"/>
                </a:cubicBezTo>
                <a:cubicBezTo>
                  <a:pt x="19251" y="3908"/>
                  <a:pt x="19353" y="3908"/>
                  <a:pt x="19445" y="3877"/>
                </a:cubicBezTo>
                <a:cubicBezTo>
                  <a:pt x="19503" y="3851"/>
                  <a:pt x="19522" y="3843"/>
                  <a:pt x="19556" y="3817"/>
                </a:cubicBezTo>
              </a:path>
              <a:path w="4133" h="1000">
                <a:moveTo>
                  <a:pt x="19689" y="3550"/>
                </a:moveTo>
                <a:cubicBezTo>
                  <a:pt x="19662" y="3547"/>
                  <a:pt x="19624" y="3556"/>
                  <a:pt x="19602" y="3573"/>
                </a:cubicBezTo>
                <a:cubicBezTo>
                  <a:pt x="19560" y="3606"/>
                  <a:pt x="19521" y="3661"/>
                  <a:pt x="19498" y="3709"/>
                </a:cubicBezTo>
                <a:cubicBezTo>
                  <a:pt x="19478" y="3752"/>
                  <a:pt x="19460" y="3809"/>
                  <a:pt x="19488" y="3852"/>
                </a:cubicBezTo>
                <a:cubicBezTo>
                  <a:pt x="19512" y="3889"/>
                  <a:pt x="19570" y="3887"/>
                  <a:pt x="19607" y="3877"/>
                </a:cubicBezTo>
                <a:cubicBezTo>
                  <a:pt x="19661" y="3862"/>
                  <a:pt x="19695" y="3819"/>
                  <a:pt x="19713" y="3768"/>
                </a:cubicBezTo>
                <a:cubicBezTo>
                  <a:pt x="19734" y="3710"/>
                  <a:pt x="19725" y="3651"/>
                  <a:pt x="19714" y="3592"/>
                </a:cubicBezTo>
                <a:cubicBezTo>
                  <a:pt x="19707" y="3551"/>
                  <a:pt x="19689" y="3513"/>
                  <a:pt x="19684" y="3473"/>
                </a:cubicBezTo>
                <a:cubicBezTo>
                  <a:pt x="19683" y="3461"/>
                  <a:pt x="19683" y="3457"/>
                  <a:pt x="19696" y="3458"/>
                </a:cubicBezTo>
              </a:path>
              <a:path w="4133" h="1000">
                <a:moveTo>
                  <a:pt x="19854" y="3692"/>
                </a:moveTo>
                <a:cubicBezTo>
                  <a:pt x="19860" y="3724"/>
                  <a:pt x="19858" y="3756"/>
                  <a:pt x="19862" y="3786"/>
                </a:cubicBezTo>
                <a:cubicBezTo>
                  <a:pt x="19864" y="3791"/>
                  <a:pt x="19865" y="3796"/>
                  <a:pt x="19867" y="3801"/>
                </a:cubicBezTo>
                <a:cubicBezTo>
                  <a:pt x="19891" y="3799"/>
                  <a:pt x="19900" y="3767"/>
                  <a:pt x="19914" y="3744"/>
                </a:cubicBezTo>
                <a:cubicBezTo>
                  <a:pt x="19942" y="3697"/>
                  <a:pt x="19971" y="3651"/>
                  <a:pt x="20003" y="3607"/>
                </a:cubicBezTo>
                <a:cubicBezTo>
                  <a:pt x="20024" y="3579"/>
                  <a:pt x="20023" y="3574"/>
                  <a:pt x="20051" y="3583"/>
                </a:cubicBezTo>
                <a:cubicBezTo>
                  <a:pt x="20060" y="3632"/>
                  <a:pt x="20058" y="3680"/>
                  <a:pt x="20058" y="3730"/>
                </a:cubicBezTo>
                <a:cubicBezTo>
                  <a:pt x="20058" y="3767"/>
                  <a:pt x="20058" y="3801"/>
                  <a:pt x="20063" y="3837"/>
                </a:cubicBezTo>
                <a:cubicBezTo>
                  <a:pt x="20104" y="3828"/>
                  <a:pt x="20114" y="3782"/>
                  <a:pt x="20134" y="3743"/>
                </a:cubicBezTo>
                <a:cubicBezTo>
                  <a:pt x="20158" y="3696"/>
                  <a:pt x="20178" y="3641"/>
                  <a:pt x="20211" y="3600"/>
                </a:cubicBezTo>
                <a:cubicBezTo>
                  <a:pt x="20223" y="3589"/>
                  <a:pt x="20224" y="3584"/>
                  <a:pt x="20234" y="3589"/>
                </a:cubicBezTo>
                <a:cubicBezTo>
                  <a:pt x="20242" y="3623"/>
                  <a:pt x="20242" y="3654"/>
                  <a:pt x="20244" y="3689"/>
                </a:cubicBezTo>
                <a:cubicBezTo>
                  <a:pt x="20246" y="3724"/>
                  <a:pt x="20249" y="3735"/>
                  <a:pt x="20267" y="3754"/>
                </a:cubicBezTo>
              </a:path>
              <a:path w="4133" h="1000">
                <a:moveTo>
                  <a:pt x="20398" y="3142"/>
                </a:moveTo>
                <a:cubicBezTo>
                  <a:pt x="20397" y="3111"/>
                  <a:pt x="20398" y="3105"/>
                  <a:pt x="20395" y="3087"/>
                </a:cubicBezTo>
                <a:cubicBezTo>
                  <a:pt x="20387" y="3145"/>
                  <a:pt x="20390" y="3207"/>
                  <a:pt x="20391" y="3266"/>
                </a:cubicBezTo>
                <a:cubicBezTo>
                  <a:pt x="20393" y="3400"/>
                  <a:pt x="20387" y="3543"/>
                  <a:pt x="20407" y="3676"/>
                </a:cubicBezTo>
                <a:cubicBezTo>
                  <a:pt x="20412" y="3695"/>
                  <a:pt x="20410" y="3700"/>
                  <a:pt x="20422" y="3705"/>
                </a:cubicBezTo>
                <a:cubicBezTo>
                  <a:pt x="20450" y="3674"/>
                  <a:pt x="20470" y="3638"/>
                  <a:pt x="20498" y="3607"/>
                </a:cubicBezTo>
                <a:cubicBezTo>
                  <a:pt x="20524" y="3578"/>
                  <a:pt x="20564" y="3534"/>
                  <a:pt x="20609" y="3546"/>
                </a:cubicBezTo>
                <a:cubicBezTo>
                  <a:pt x="20653" y="3557"/>
                  <a:pt x="20655" y="3621"/>
                  <a:pt x="20652" y="3656"/>
                </a:cubicBezTo>
                <a:cubicBezTo>
                  <a:pt x="20647" y="3716"/>
                  <a:pt x="20615" y="3782"/>
                  <a:pt x="20553" y="3798"/>
                </a:cubicBezTo>
                <a:cubicBezTo>
                  <a:pt x="20491" y="3814"/>
                  <a:pt x="20464" y="3749"/>
                  <a:pt x="20469" y="3698"/>
                </a:cubicBezTo>
                <a:cubicBezTo>
                  <a:pt x="20474" y="3645"/>
                  <a:pt x="20500" y="3607"/>
                  <a:pt x="20526" y="3563"/>
                </a:cubicBezTo>
              </a:path>
              <a:path w="4133" h="1000">
                <a:moveTo>
                  <a:pt x="20797" y="3575"/>
                </a:moveTo>
                <a:cubicBezTo>
                  <a:pt x="20795" y="3628"/>
                  <a:pt x="20784" y="3672"/>
                  <a:pt x="20772" y="3722"/>
                </a:cubicBezTo>
                <a:cubicBezTo>
                  <a:pt x="20765" y="3750"/>
                  <a:pt x="20750" y="3795"/>
                  <a:pt x="20769" y="3794"/>
                </a:cubicBezTo>
              </a:path>
              <a:path w="4133" h="1000">
                <a:moveTo>
                  <a:pt x="20841" y="3386"/>
                </a:moveTo>
                <a:cubicBezTo>
                  <a:pt x="20844" y="3334"/>
                  <a:pt x="20838" y="3272"/>
                  <a:pt x="20855" y="3222"/>
                </a:cubicBezTo>
                <a:cubicBezTo>
                  <a:pt x="20865" y="3193"/>
                  <a:pt x="20888" y="3214"/>
                  <a:pt x="20902" y="3225"/>
                </a:cubicBezTo>
              </a:path>
              <a:path w="4133" h="1000">
                <a:moveTo>
                  <a:pt x="21017" y="3638"/>
                </a:moveTo>
                <a:cubicBezTo>
                  <a:pt x="21016" y="3669"/>
                  <a:pt x="21014" y="3700"/>
                  <a:pt x="21016" y="3731"/>
                </a:cubicBezTo>
                <a:cubicBezTo>
                  <a:pt x="21033" y="3704"/>
                  <a:pt x="21047" y="3675"/>
                  <a:pt x="21063" y="3648"/>
                </a:cubicBezTo>
                <a:cubicBezTo>
                  <a:pt x="21077" y="3625"/>
                  <a:pt x="21096" y="3579"/>
                  <a:pt x="21124" y="3569"/>
                </a:cubicBezTo>
                <a:cubicBezTo>
                  <a:pt x="21128" y="3569"/>
                  <a:pt x="21132" y="3570"/>
                  <a:pt x="21136" y="3570"/>
                </a:cubicBezTo>
                <a:cubicBezTo>
                  <a:pt x="21149" y="3605"/>
                  <a:pt x="21146" y="3640"/>
                  <a:pt x="21154" y="3677"/>
                </a:cubicBezTo>
                <a:cubicBezTo>
                  <a:pt x="21163" y="3720"/>
                  <a:pt x="21175" y="3771"/>
                  <a:pt x="21220" y="3791"/>
                </a:cubicBezTo>
                <a:cubicBezTo>
                  <a:pt x="21254" y="3797"/>
                  <a:pt x="21266" y="3799"/>
                  <a:pt x="21290" y="3797"/>
                </a:cubicBezTo>
              </a:path>
              <a:path w="4133" h="1000">
                <a:moveTo>
                  <a:pt x="21541" y="3604"/>
                </a:moveTo>
                <a:cubicBezTo>
                  <a:pt x="21534" y="3574"/>
                  <a:pt x="21530" y="3571"/>
                  <a:pt x="21502" y="3578"/>
                </a:cubicBezTo>
                <a:cubicBezTo>
                  <a:pt x="21458" y="3589"/>
                  <a:pt x="21431" y="3627"/>
                  <a:pt x="21409" y="3666"/>
                </a:cubicBezTo>
                <a:cubicBezTo>
                  <a:pt x="21389" y="3701"/>
                  <a:pt x="21374" y="3746"/>
                  <a:pt x="21389" y="3786"/>
                </a:cubicBezTo>
                <a:cubicBezTo>
                  <a:pt x="21400" y="3814"/>
                  <a:pt x="21433" y="3818"/>
                  <a:pt x="21459" y="3814"/>
                </a:cubicBezTo>
                <a:cubicBezTo>
                  <a:pt x="21477" y="3811"/>
                  <a:pt x="21498" y="3796"/>
                  <a:pt x="21516" y="3797"/>
                </a:cubicBezTo>
                <a:cubicBezTo>
                  <a:pt x="21532" y="3798"/>
                  <a:pt x="21550" y="3814"/>
                  <a:pt x="21567" y="3817"/>
                </a:cubicBezTo>
              </a:path>
              <a:path w="4133" h="1000">
                <a:moveTo>
                  <a:pt x="21799" y="3302"/>
                </a:moveTo>
                <a:cubicBezTo>
                  <a:pt x="21804" y="3272"/>
                  <a:pt x="21807" y="3264"/>
                  <a:pt x="21803" y="3245"/>
                </a:cubicBezTo>
                <a:cubicBezTo>
                  <a:pt x="21791" y="3289"/>
                  <a:pt x="21785" y="3331"/>
                  <a:pt x="21780" y="3378"/>
                </a:cubicBezTo>
                <a:cubicBezTo>
                  <a:pt x="21770" y="3470"/>
                  <a:pt x="21769" y="3563"/>
                  <a:pt x="21764" y="3655"/>
                </a:cubicBezTo>
                <a:cubicBezTo>
                  <a:pt x="21761" y="3702"/>
                  <a:pt x="21758" y="3749"/>
                  <a:pt x="21755" y="3796"/>
                </a:cubicBezTo>
              </a:path>
              <a:path w="4133" h="1000">
                <a:moveTo>
                  <a:pt x="21671" y="3598"/>
                </a:moveTo>
                <a:cubicBezTo>
                  <a:pt x="21682" y="3569"/>
                  <a:pt x="21701" y="3522"/>
                  <a:pt x="21731" y="3505"/>
                </a:cubicBezTo>
                <a:cubicBezTo>
                  <a:pt x="21770" y="3483"/>
                  <a:pt x="21840" y="3484"/>
                  <a:pt x="21882" y="3490"/>
                </a:cubicBezTo>
                <a:cubicBezTo>
                  <a:pt x="21923" y="3496"/>
                  <a:pt x="21956" y="3512"/>
                  <a:pt x="21992" y="3529"/>
                </a:cubicBezTo>
              </a:path>
              <a:path w="4133" h="1000">
                <a:moveTo>
                  <a:pt x="22002" y="3690"/>
                </a:moveTo>
                <a:cubicBezTo>
                  <a:pt x="21982" y="3735"/>
                  <a:pt x="21965" y="3776"/>
                  <a:pt x="21952" y="3823"/>
                </a:cubicBezTo>
                <a:cubicBezTo>
                  <a:pt x="21947" y="3843"/>
                  <a:pt x="21924" y="3888"/>
                  <a:pt x="21937" y="3909"/>
                </a:cubicBezTo>
                <a:cubicBezTo>
                  <a:pt x="21941" y="3911"/>
                  <a:pt x="21944" y="3912"/>
                  <a:pt x="21948" y="3914"/>
                </a:cubicBezTo>
              </a:path>
              <a:path w="4133" h="1000">
                <a:moveTo>
                  <a:pt x="22061" y="3426"/>
                </a:moveTo>
                <a:cubicBezTo>
                  <a:pt x="22061" y="3398"/>
                  <a:pt x="22060" y="3369"/>
                  <a:pt x="22060" y="3342"/>
                </a:cubicBezTo>
                <a:cubicBezTo>
                  <a:pt x="22060" y="3311"/>
                  <a:pt x="22092" y="3333"/>
                  <a:pt x="22105" y="3341"/>
                </a:cubicBezTo>
              </a:path>
              <a:path w="4133" h="1000">
                <a:moveTo>
                  <a:pt x="22223" y="3642"/>
                </a:moveTo>
                <a:cubicBezTo>
                  <a:pt x="22208" y="3685"/>
                  <a:pt x="22182" y="3722"/>
                  <a:pt x="22166" y="3763"/>
                </a:cubicBezTo>
                <a:cubicBezTo>
                  <a:pt x="22155" y="3789"/>
                  <a:pt x="22140" y="3835"/>
                  <a:pt x="22144" y="3864"/>
                </a:cubicBezTo>
                <a:cubicBezTo>
                  <a:pt x="22146" y="3868"/>
                  <a:pt x="22147" y="3873"/>
                  <a:pt x="22149" y="3877"/>
                </a:cubicBezTo>
                <a:cubicBezTo>
                  <a:pt x="22174" y="3883"/>
                  <a:pt x="22188" y="3877"/>
                  <a:pt x="22206" y="3857"/>
                </a:cubicBezTo>
                <a:cubicBezTo>
                  <a:pt x="22238" y="3821"/>
                  <a:pt x="22257" y="3777"/>
                  <a:pt x="22278" y="3735"/>
                </a:cubicBezTo>
                <a:cubicBezTo>
                  <a:pt x="22305" y="3681"/>
                  <a:pt x="22318" y="3622"/>
                  <a:pt x="22340" y="3566"/>
                </a:cubicBezTo>
                <a:cubicBezTo>
                  <a:pt x="22351" y="3539"/>
                  <a:pt x="22354" y="3532"/>
                  <a:pt x="22362" y="3515"/>
                </a:cubicBezTo>
              </a:path>
              <a:path w="4133" h="1000">
                <a:moveTo>
                  <a:pt x="22382" y="3711"/>
                </a:moveTo>
                <a:cubicBezTo>
                  <a:pt x="22377" y="3746"/>
                  <a:pt x="22362" y="3785"/>
                  <a:pt x="22358" y="3819"/>
                </a:cubicBezTo>
                <a:cubicBezTo>
                  <a:pt x="22359" y="3826"/>
                  <a:pt x="22359" y="3832"/>
                  <a:pt x="22360" y="3839"/>
                </a:cubicBezTo>
                <a:cubicBezTo>
                  <a:pt x="22381" y="3844"/>
                  <a:pt x="22408" y="3805"/>
                  <a:pt x="22428" y="3779"/>
                </a:cubicBezTo>
                <a:cubicBezTo>
                  <a:pt x="22463" y="3733"/>
                  <a:pt x="22499" y="3688"/>
                  <a:pt x="22537" y="3644"/>
                </a:cubicBezTo>
                <a:cubicBezTo>
                  <a:pt x="22558" y="3619"/>
                  <a:pt x="22579" y="3594"/>
                  <a:pt x="22610" y="3587"/>
                </a:cubicBezTo>
                <a:cubicBezTo>
                  <a:pt x="22624" y="3612"/>
                  <a:pt x="22627" y="3637"/>
                  <a:pt x="22640" y="3664"/>
                </a:cubicBezTo>
                <a:cubicBezTo>
                  <a:pt x="22651" y="3687"/>
                  <a:pt x="22663" y="3702"/>
                  <a:pt x="22680" y="3720"/>
                </a:cubicBezTo>
              </a:path>
              <a:path w="4133" h="1000">
                <a:moveTo>
                  <a:pt x="23035" y="3623"/>
                </a:moveTo>
                <a:cubicBezTo>
                  <a:pt x="23041" y="3613"/>
                  <a:pt x="23043" y="3610"/>
                  <a:pt x="23038" y="3603"/>
                </a:cubicBezTo>
                <a:cubicBezTo>
                  <a:pt x="23012" y="3596"/>
                  <a:pt x="22986" y="3617"/>
                  <a:pt x="22963" y="3641"/>
                </a:cubicBezTo>
                <a:cubicBezTo>
                  <a:pt x="22935" y="3670"/>
                  <a:pt x="22906" y="3707"/>
                  <a:pt x="22897" y="3747"/>
                </a:cubicBezTo>
                <a:cubicBezTo>
                  <a:pt x="22888" y="3785"/>
                  <a:pt x="22902" y="3824"/>
                  <a:pt x="22915" y="3859"/>
                </a:cubicBezTo>
                <a:cubicBezTo>
                  <a:pt x="22927" y="3892"/>
                  <a:pt x="22939" y="3920"/>
                  <a:pt x="22932" y="3956"/>
                </a:cubicBezTo>
                <a:cubicBezTo>
                  <a:pt x="22927" y="3979"/>
                  <a:pt x="22914" y="3998"/>
                  <a:pt x="22888" y="3998"/>
                </a:cubicBezTo>
                <a:cubicBezTo>
                  <a:pt x="22834" y="3998"/>
                  <a:pt x="22782" y="3960"/>
                  <a:pt x="22732" y="3945"/>
                </a:cubicBezTo>
                <a:cubicBezTo>
                  <a:pt x="22697" y="3934"/>
                  <a:pt x="22660" y="3936"/>
                  <a:pt x="22624" y="393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1955880" y="1503360"/>
            <a:ext cx="193680" cy="384120"/>
          </a:xfrm>
          <a:custGeom>
            <a:avLst/>
            <a:gdLst/>
            <a:ahLst/>
            <a:rect l="l" t="t" r="r" b="b"/>
            <a:pathLst>
              <a:path w="538" h="1068">
                <a:moveTo>
                  <a:pt x="5970" y="4340"/>
                </a:moveTo>
                <a:cubicBezTo>
                  <a:pt x="5957" y="4294"/>
                  <a:pt x="5946" y="4243"/>
                  <a:pt x="5910" y="4209"/>
                </a:cubicBezTo>
                <a:cubicBezTo>
                  <a:pt x="5878" y="4179"/>
                  <a:pt x="5851" y="4162"/>
                  <a:pt x="5807" y="4184"/>
                </a:cubicBezTo>
                <a:cubicBezTo>
                  <a:pt x="5709" y="4233"/>
                  <a:pt x="5629" y="4361"/>
                  <a:pt x="5576" y="4451"/>
                </a:cubicBezTo>
                <a:cubicBezTo>
                  <a:pt x="5511" y="4562"/>
                  <a:pt x="5456" y="4688"/>
                  <a:pt x="5438" y="4816"/>
                </a:cubicBezTo>
                <a:cubicBezTo>
                  <a:pt x="5422" y="4924"/>
                  <a:pt x="5442" y="5030"/>
                  <a:pt x="5504" y="5121"/>
                </a:cubicBezTo>
                <a:cubicBezTo>
                  <a:pt x="5554" y="5195"/>
                  <a:pt x="5631" y="5240"/>
                  <a:pt x="5720" y="5242"/>
                </a:cubicBezTo>
                <a:cubicBezTo>
                  <a:pt x="5805" y="5244"/>
                  <a:pt x="5855" y="5207"/>
                  <a:pt x="5915" y="515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2152800" y="1468440"/>
            <a:ext cx="1582560" cy="414360"/>
          </a:xfrm>
          <a:custGeom>
            <a:avLst/>
            <a:gdLst/>
            <a:ahLst/>
            <a:rect l="l" t="t" r="r" b="b"/>
            <a:pathLst>
              <a:path w="4398" h="1152">
                <a:moveTo>
                  <a:pt x="6211" y="4409"/>
                </a:moveTo>
                <a:cubicBezTo>
                  <a:pt x="6210" y="4386"/>
                  <a:pt x="6207" y="4379"/>
                  <a:pt x="6201" y="4360"/>
                </a:cubicBezTo>
                <a:cubicBezTo>
                  <a:pt x="6160" y="4359"/>
                  <a:pt x="6136" y="4396"/>
                  <a:pt x="6111" y="4434"/>
                </a:cubicBezTo>
                <a:cubicBezTo>
                  <a:pt x="6054" y="4520"/>
                  <a:pt x="6016" y="4619"/>
                  <a:pt x="5995" y="4719"/>
                </a:cubicBezTo>
                <a:cubicBezTo>
                  <a:pt x="5975" y="4816"/>
                  <a:pt x="5966" y="4936"/>
                  <a:pt x="6011" y="5029"/>
                </a:cubicBezTo>
                <a:cubicBezTo>
                  <a:pt x="6040" y="5090"/>
                  <a:pt x="6100" y="5139"/>
                  <a:pt x="6171" y="5125"/>
                </a:cubicBezTo>
                <a:cubicBezTo>
                  <a:pt x="6184" y="5119"/>
                  <a:pt x="6197" y="5114"/>
                  <a:pt x="6210" y="5108"/>
                </a:cubicBezTo>
              </a:path>
              <a:path w="4398" h="1152">
                <a:moveTo>
                  <a:pt x="6336" y="4801"/>
                </a:moveTo>
                <a:cubicBezTo>
                  <a:pt x="6334" y="4853"/>
                  <a:pt x="6333" y="4905"/>
                  <a:pt x="6330" y="4957"/>
                </a:cubicBezTo>
                <a:cubicBezTo>
                  <a:pt x="6327" y="5002"/>
                  <a:pt x="6326" y="5045"/>
                  <a:pt x="6329" y="5090"/>
                </a:cubicBezTo>
                <a:cubicBezTo>
                  <a:pt x="6353" y="5061"/>
                  <a:pt x="6356" y="5013"/>
                  <a:pt x="6368" y="4976"/>
                </a:cubicBezTo>
                <a:cubicBezTo>
                  <a:pt x="6388" y="4914"/>
                  <a:pt x="6411" y="4848"/>
                  <a:pt x="6443" y="4791"/>
                </a:cubicBezTo>
                <a:cubicBezTo>
                  <a:pt x="6460" y="4760"/>
                  <a:pt x="6466" y="4755"/>
                  <a:pt x="6496" y="4751"/>
                </a:cubicBezTo>
                <a:cubicBezTo>
                  <a:pt x="6524" y="4793"/>
                  <a:pt x="6528" y="4839"/>
                  <a:pt x="6539" y="4889"/>
                </a:cubicBezTo>
                <a:cubicBezTo>
                  <a:pt x="6551" y="4945"/>
                  <a:pt x="6552" y="5007"/>
                  <a:pt x="6580" y="5059"/>
                </a:cubicBezTo>
                <a:cubicBezTo>
                  <a:pt x="6585" y="5065"/>
                  <a:pt x="6589" y="5072"/>
                  <a:pt x="6594" y="5078"/>
                </a:cubicBezTo>
              </a:path>
              <a:path w="4398" h="1152">
                <a:moveTo>
                  <a:pt x="6741" y="4924"/>
                </a:moveTo>
                <a:cubicBezTo>
                  <a:pt x="6762" y="4964"/>
                  <a:pt x="6763" y="4996"/>
                  <a:pt x="6768" y="5041"/>
                </a:cubicBezTo>
                <a:cubicBezTo>
                  <a:pt x="6773" y="5090"/>
                  <a:pt x="6775" y="5139"/>
                  <a:pt x="6769" y="5188"/>
                </a:cubicBezTo>
                <a:cubicBezTo>
                  <a:pt x="6765" y="5210"/>
                  <a:pt x="6764" y="5216"/>
                  <a:pt x="6757" y="5228"/>
                </a:cubicBezTo>
              </a:path>
              <a:path w="4398" h="1152">
                <a:moveTo>
                  <a:pt x="6970" y="4804"/>
                </a:moveTo>
                <a:cubicBezTo>
                  <a:pt x="6990" y="4837"/>
                  <a:pt x="6995" y="4875"/>
                  <a:pt x="7003" y="4914"/>
                </a:cubicBezTo>
                <a:cubicBezTo>
                  <a:pt x="7013" y="4961"/>
                  <a:pt x="7023" y="5007"/>
                  <a:pt x="7035" y="5053"/>
                </a:cubicBezTo>
                <a:cubicBezTo>
                  <a:pt x="7036" y="5057"/>
                  <a:pt x="7038" y="5062"/>
                  <a:pt x="7039" y="5066"/>
                </a:cubicBezTo>
                <a:cubicBezTo>
                  <a:pt x="7045" y="5018"/>
                  <a:pt x="7040" y="4969"/>
                  <a:pt x="7047" y="4920"/>
                </a:cubicBezTo>
                <a:cubicBezTo>
                  <a:pt x="7054" y="4868"/>
                  <a:pt x="7066" y="4807"/>
                  <a:pt x="7098" y="4764"/>
                </a:cubicBezTo>
                <a:cubicBezTo>
                  <a:pt x="7126" y="4727"/>
                  <a:pt x="7171" y="4727"/>
                  <a:pt x="7213" y="4734"/>
                </a:cubicBezTo>
                <a:cubicBezTo>
                  <a:pt x="7249" y="4742"/>
                  <a:pt x="7261" y="4745"/>
                  <a:pt x="7285" y="4748"/>
                </a:cubicBezTo>
              </a:path>
              <a:path w="4398" h="1152">
                <a:moveTo>
                  <a:pt x="7496" y="4497"/>
                </a:moveTo>
                <a:cubicBezTo>
                  <a:pt x="7509" y="4485"/>
                  <a:pt x="7513" y="4480"/>
                  <a:pt x="7526" y="4486"/>
                </a:cubicBezTo>
                <a:cubicBezTo>
                  <a:pt x="7563" y="4533"/>
                  <a:pt x="7575" y="4588"/>
                  <a:pt x="7589" y="4647"/>
                </a:cubicBezTo>
                <a:cubicBezTo>
                  <a:pt x="7617" y="4767"/>
                  <a:pt x="7628" y="4887"/>
                  <a:pt x="7625" y="5010"/>
                </a:cubicBezTo>
                <a:cubicBezTo>
                  <a:pt x="7624" y="5044"/>
                  <a:pt x="7622" y="5077"/>
                  <a:pt x="7617" y="5111"/>
                </a:cubicBezTo>
              </a:path>
              <a:path w="4398" h="1152">
                <a:moveTo>
                  <a:pt x="7954" y="4521"/>
                </a:moveTo>
                <a:cubicBezTo>
                  <a:pt x="7998" y="4516"/>
                  <a:pt x="8040" y="4526"/>
                  <a:pt x="8084" y="4532"/>
                </a:cubicBezTo>
                <a:cubicBezTo>
                  <a:pt x="8170" y="4544"/>
                  <a:pt x="8254" y="4552"/>
                  <a:pt x="8340" y="4561"/>
                </a:cubicBezTo>
                <a:cubicBezTo>
                  <a:pt x="8381" y="4565"/>
                  <a:pt x="8421" y="4572"/>
                  <a:pt x="8461" y="4581"/>
                </a:cubicBezTo>
              </a:path>
              <a:path w="4398" h="1152">
                <a:moveTo>
                  <a:pt x="8083" y="4768"/>
                </a:moveTo>
                <a:cubicBezTo>
                  <a:pt x="8132" y="4779"/>
                  <a:pt x="8187" y="4775"/>
                  <a:pt x="8237" y="4767"/>
                </a:cubicBezTo>
                <a:cubicBezTo>
                  <a:pt x="8315" y="4754"/>
                  <a:pt x="8393" y="4740"/>
                  <a:pt x="8471" y="4728"/>
                </a:cubicBezTo>
                <a:cubicBezTo>
                  <a:pt x="8510" y="4721"/>
                  <a:pt x="8522" y="4719"/>
                  <a:pt x="8547" y="4715"/>
                </a:cubicBezTo>
              </a:path>
              <a:path w="4398" h="1152">
                <a:moveTo>
                  <a:pt x="9184" y="4126"/>
                </a:moveTo>
                <a:cubicBezTo>
                  <a:pt x="9187" y="4102"/>
                  <a:pt x="9188" y="4096"/>
                  <a:pt x="9184" y="4081"/>
                </a:cubicBezTo>
                <a:cubicBezTo>
                  <a:pt x="9146" y="4107"/>
                  <a:pt x="9135" y="4127"/>
                  <a:pt x="9111" y="4182"/>
                </a:cubicBezTo>
                <a:cubicBezTo>
                  <a:pt x="9060" y="4297"/>
                  <a:pt x="9033" y="4415"/>
                  <a:pt x="9015" y="4539"/>
                </a:cubicBezTo>
                <a:cubicBezTo>
                  <a:pt x="8999" y="4653"/>
                  <a:pt x="8988" y="4784"/>
                  <a:pt x="9018" y="4897"/>
                </a:cubicBezTo>
                <a:cubicBezTo>
                  <a:pt x="9036" y="4964"/>
                  <a:pt x="9067" y="5004"/>
                  <a:pt x="9127" y="5031"/>
                </a:cubicBezTo>
              </a:path>
              <a:path w="4398" h="1152">
                <a:moveTo>
                  <a:pt x="9526" y="4122"/>
                </a:moveTo>
                <a:cubicBezTo>
                  <a:pt x="9522" y="4099"/>
                  <a:pt x="9526" y="4100"/>
                  <a:pt x="9506" y="4091"/>
                </a:cubicBezTo>
                <a:cubicBezTo>
                  <a:pt x="9484" y="4126"/>
                  <a:pt x="9469" y="4161"/>
                  <a:pt x="9462" y="4203"/>
                </a:cubicBezTo>
                <a:cubicBezTo>
                  <a:pt x="9452" y="4261"/>
                  <a:pt x="9444" y="4324"/>
                  <a:pt x="9443" y="4383"/>
                </a:cubicBezTo>
                <a:cubicBezTo>
                  <a:pt x="9444" y="4407"/>
                  <a:pt x="9442" y="4412"/>
                  <a:pt x="9449" y="4425"/>
                </a:cubicBezTo>
                <a:cubicBezTo>
                  <a:pt x="9478" y="4398"/>
                  <a:pt x="9498" y="4371"/>
                  <a:pt x="9521" y="4335"/>
                </a:cubicBezTo>
                <a:cubicBezTo>
                  <a:pt x="9556" y="4281"/>
                  <a:pt x="9594" y="4224"/>
                  <a:pt x="9638" y="4176"/>
                </a:cubicBezTo>
                <a:cubicBezTo>
                  <a:pt x="9658" y="4158"/>
                  <a:pt x="9661" y="4153"/>
                  <a:pt x="9677" y="4147"/>
                </a:cubicBezTo>
                <a:cubicBezTo>
                  <a:pt x="9703" y="4183"/>
                  <a:pt x="9694" y="4228"/>
                  <a:pt x="9694" y="4273"/>
                </a:cubicBezTo>
                <a:cubicBezTo>
                  <a:pt x="9694" y="4350"/>
                  <a:pt x="9697" y="4426"/>
                  <a:pt x="9696" y="4503"/>
                </a:cubicBezTo>
                <a:cubicBezTo>
                  <a:pt x="9695" y="4546"/>
                  <a:pt x="9695" y="4558"/>
                  <a:pt x="9692" y="4586"/>
                </a:cubicBezTo>
              </a:path>
              <a:path w="4398" h="1152">
                <a:moveTo>
                  <a:pt x="9602" y="4919"/>
                </a:moveTo>
                <a:cubicBezTo>
                  <a:pt x="9605" y="4965"/>
                  <a:pt x="9614" y="5011"/>
                  <a:pt x="9617" y="5057"/>
                </a:cubicBezTo>
                <a:cubicBezTo>
                  <a:pt x="9620" y="5096"/>
                  <a:pt x="9622" y="5136"/>
                  <a:pt x="9626" y="5175"/>
                </a:cubicBezTo>
                <a:cubicBezTo>
                  <a:pt x="9641" y="5106"/>
                  <a:pt x="9647" y="5036"/>
                  <a:pt x="9662" y="4967"/>
                </a:cubicBezTo>
                <a:cubicBezTo>
                  <a:pt x="9673" y="4916"/>
                  <a:pt x="9682" y="4854"/>
                  <a:pt x="9719" y="4815"/>
                </a:cubicBezTo>
                <a:cubicBezTo>
                  <a:pt x="9747" y="4786"/>
                  <a:pt x="9783" y="4806"/>
                  <a:pt x="9815" y="4816"/>
                </a:cubicBezTo>
                <a:cubicBezTo>
                  <a:pt x="9849" y="4827"/>
                  <a:pt x="9860" y="4831"/>
                  <a:pt x="9884" y="4835"/>
                </a:cubicBezTo>
              </a:path>
              <a:path w="4398" h="1152">
                <a:moveTo>
                  <a:pt x="10213" y="4241"/>
                </a:moveTo>
                <a:cubicBezTo>
                  <a:pt x="10240" y="4205"/>
                  <a:pt x="10240" y="4199"/>
                  <a:pt x="10281" y="4189"/>
                </a:cubicBezTo>
                <a:cubicBezTo>
                  <a:pt x="10332" y="4253"/>
                  <a:pt x="10347" y="4320"/>
                  <a:pt x="10360" y="4403"/>
                </a:cubicBezTo>
                <a:cubicBezTo>
                  <a:pt x="10386" y="4572"/>
                  <a:pt x="10379" y="4741"/>
                  <a:pt x="10364" y="4910"/>
                </a:cubicBezTo>
                <a:cubicBezTo>
                  <a:pt x="10357" y="4991"/>
                  <a:pt x="10349" y="5072"/>
                  <a:pt x="10347" y="515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3986280" y="1434960"/>
            <a:ext cx="735120" cy="312840"/>
          </a:xfrm>
          <a:custGeom>
            <a:avLst/>
            <a:gdLst/>
            <a:ahLst/>
            <a:rect l="l" t="t" r="r" b="b"/>
            <a:pathLst>
              <a:path w="2044" h="868">
                <a:moveTo>
                  <a:pt x="11082" y="4707"/>
                </a:moveTo>
                <a:cubicBezTo>
                  <a:pt x="11080" y="4677"/>
                  <a:pt x="11124" y="4671"/>
                  <a:pt x="11163" y="4667"/>
                </a:cubicBezTo>
                <a:cubicBezTo>
                  <a:pt x="11222" y="4661"/>
                  <a:pt x="11280" y="4658"/>
                  <a:pt x="11340" y="4660"/>
                </a:cubicBezTo>
                <a:cubicBezTo>
                  <a:pt x="11363" y="4661"/>
                  <a:pt x="11369" y="4660"/>
                  <a:pt x="11383" y="4667"/>
                </a:cubicBezTo>
              </a:path>
              <a:path w="2044" h="868">
                <a:moveTo>
                  <a:pt x="11128" y="4804"/>
                </a:moveTo>
                <a:cubicBezTo>
                  <a:pt x="11111" y="4820"/>
                  <a:pt x="11104" y="4822"/>
                  <a:pt x="11102" y="4843"/>
                </a:cubicBezTo>
                <a:cubicBezTo>
                  <a:pt x="11132" y="4858"/>
                  <a:pt x="11161" y="4845"/>
                  <a:pt x="11195" y="4841"/>
                </a:cubicBezTo>
                <a:cubicBezTo>
                  <a:pt x="11239" y="4835"/>
                  <a:pt x="11277" y="4825"/>
                  <a:pt x="11319" y="4812"/>
                </a:cubicBezTo>
              </a:path>
              <a:path w="2044" h="868">
                <a:moveTo>
                  <a:pt x="12174" y="4054"/>
                </a:moveTo>
                <a:cubicBezTo>
                  <a:pt x="12196" y="4025"/>
                  <a:pt x="12168" y="4093"/>
                  <a:pt x="12165" y="4109"/>
                </a:cubicBezTo>
                <a:cubicBezTo>
                  <a:pt x="12152" y="4174"/>
                  <a:pt x="12149" y="4238"/>
                  <a:pt x="12152" y="4305"/>
                </a:cubicBezTo>
                <a:cubicBezTo>
                  <a:pt x="12153" y="4341"/>
                  <a:pt x="12158" y="4368"/>
                  <a:pt x="12170" y="4401"/>
                </a:cubicBezTo>
                <a:cubicBezTo>
                  <a:pt x="12202" y="4393"/>
                  <a:pt x="12214" y="4351"/>
                  <a:pt x="12228" y="4321"/>
                </a:cubicBezTo>
                <a:cubicBezTo>
                  <a:pt x="12266" y="4240"/>
                  <a:pt x="12303" y="4161"/>
                  <a:pt x="12355" y="4088"/>
                </a:cubicBezTo>
                <a:cubicBezTo>
                  <a:pt x="12374" y="4061"/>
                  <a:pt x="12385" y="4051"/>
                  <a:pt x="12413" y="4040"/>
                </a:cubicBezTo>
                <a:cubicBezTo>
                  <a:pt x="12435" y="4077"/>
                  <a:pt x="12432" y="4113"/>
                  <a:pt x="12432" y="4156"/>
                </a:cubicBezTo>
                <a:cubicBezTo>
                  <a:pt x="12432" y="4194"/>
                  <a:pt x="12431" y="4255"/>
                  <a:pt x="12453" y="4289"/>
                </a:cubicBezTo>
                <a:cubicBezTo>
                  <a:pt x="12457" y="4292"/>
                  <a:pt x="12462" y="4295"/>
                  <a:pt x="12466" y="4298"/>
                </a:cubicBezTo>
              </a:path>
              <a:path w="2044" h="868">
                <a:moveTo>
                  <a:pt x="12704" y="3990"/>
                </a:moveTo>
                <a:cubicBezTo>
                  <a:pt x="12726" y="3991"/>
                  <a:pt x="12725" y="4039"/>
                  <a:pt x="12728" y="4065"/>
                </a:cubicBezTo>
                <a:cubicBezTo>
                  <a:pt x="12734" y="4132"/>
                  <a:pt x="12751" y="4189"/>
                  <a:pt x="12779" y="4251"/>
                </a:cubicBezTo>
                <a:cubicBezTo>
                  <a:pt x="12796" y="4290"/>
                  <a:pt x="12817" y="4319"/>
                  <a:pt x="12843" y="4352"/>
                </a:cubicBezTo>
              </a:path>
              <a:path w="2044" h="868">
                <a:moveTo>
                  <a:pt x="12808" y="4460"/>
                </a:moveTo>
                <a:cubicBezTo>
                  <a:pt x="12817" y="4443"/>
                  <a:pt x="12823" y="4446"/>
                  <a:pt x="12843" y="4447"/>
                </a:cubicBezTo>
              </a:path>
              <a:path w="2044" h="868">
                <a:moveTo>
                  <a:pt x="11747" y="4795"/>
                </a:moveTo>
                <a:cubicBezTo>
                  <a:pt x="11800" y="4770"/>
                  <a:pt x="11840" y="4766"/>
                  <a:pt x="11900" y="4754"/>
                </a:cubicBezTo>
                <a:cubicBezTo>
                  <a:pt x="12062" y="4722"/>
                  <a:pt x="12225" y="4704"/>
                  <a:pt x="12390" y="4688"/>
                </a:cubicBezTo>
                <a:cubicBezTo>
                  <a:pt x="12570" y="4671"/>
                  <a:pt x="12751" y="4654"/>
                  <a:pt x="12932" y="4646"/>
                </a:cubicBezTo>
                <a:cubicBezTo>
                  <a:pt x="12994" y="4643"/>
                  <a:pt x="13054" y="4646"/>
                  <a:pt x="13115" y="464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6302520" y="1994040"/>
            <a:ext cx="9360" cy="12600"/>
          </a:xfrm>
          <a:custGeom>
            <a:avLst/>
            <a:gdLst/>
            <a:ahLst/>
            <a:rect l="l" t="t" r="r" b="b"/>
            <a:pathLst>
              <a:path w="25" h="36">
                <a:moveTo>
                  <a:pt x="17530" y="5573"/>
                </a:moveTo>
                <a:cubicBezTo>
                  <a:pt x="17501" y="5562"/>
                  <a:pt x="17500" y="5559"/>
                  <a:pt x="17521" y="553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1689120" y="1039680"/>
            <a:ext cx="187200" cy="241560"/>
          </a:xfrm>
          <a:custGeom>
            <a:avLst/>
            <a:gdLst/>
            <a:ahLst/>
            <a:rect l="l" t="t" r="r" b="b"/>
            <a:pathLst>
              <a:path w="520" h="669">
                <a:moveTo>
                  <a:pt x="4695" y="3370"/>
                </a:moveTo>
                <a:cubicBezTo>
                  <a:pt x="4704" y="3400"/>
                  <a:pt x="4708" y="3375"/>
                  <a:pt x="4738" y="3353"/>
                </a:cubicBezTo>
                <a:cubicBezTo>
                  <a:pt x="4803" y="3305"/>
                  <a:pt x="4863" y="3254"/>
                  <a:pt x="4923" y="3200"/>
                </a:cubicBezTo>
                <a:cubicBezTo>
                  <a:pt x="4992" y="3137"/>
                  <a:pt x="5060" y="3073"/>
                  <a:pt x="5122" y="3004"/>
                </a:cubicBezTo>
                <a:cubicBezTo>
                  <a:pt x="5149" y="2974"/>
                  <a:pt x="5186" y="2938"/>
                  <a:pt x="5206" y="2903"/>
                </a:cubicBezTo>
                <a:cubicBezTo>
                  <a:pt x="5208" y="2898"/>
                  <a:pt x="5209" y="2893"/>
                  <a:pt x="5211" y="2888"/>
                </a:cubicBezTo>
              </a:path>
              <a:path w="520" h="669">
                <a:moveTo>
                  <a:pt x="4941" y="3422"/>
                </a:moveTo>
                <a:cubicBezTo>
                  <a:pt x="4952" y="3440"/>
                  <a:pt x="4955" y="3460"/>
                  <a:pt x="4958" y="3482"/>
                </a:cubicBezTo>
                <a:cubicBezTo>
                  <a:pt x="4961" y="3507"/>
                  <a:pt x="4963" y="3531"/>
                  <a:pt x="4959" y="3556"/>
                </a:cubicBezTo>
                <a:cubicBezTo>
                  <a:pt x="4946" y="3539"/>
                  <a:pt x="4943" y="3525"/>
                  <a:pt x="4944" y="3502"/>
                </a:cubicBezTo>
                <a:cubicBezTo>
                  <a:pt x="4945" y="3473"/>
                  <a:pt x="4953" y="3444"/>
                  <a:pt x="4969" y="3420"/>
                </a:cubicBezTo>
                <a:cubicBezTo>
                  <a:pt x="4983" y="3398"/>
                  <a:pt x="5008" y="3374"/>
                  <a:pt x="5033" y="3365"/>
                </a:cubicBezTo>
                <a:cubicBezTo>
                  <a:pt x="5044" y="3361"/>
                  <a:pt x="5084" y="3350"/>
                  <a:pt x="5091" y="3367"/>
                </a:cubicBezTo>
                <a:cubicBezTo>
                  <a:pt x="5097" y="3382"/>
                  <a:pt x="5090" y="3399"/>
                  <a:pt x="5085" y="341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7226280" y="2460600"/>
            <a:ext cx="1119240" cy="488880"/>
          </a:xfrm>
          <a:custGeom>
            <a:avLst/>
            <a:gdLst/>
            <a:ahLst/>
            <a:rect l="l" t="t" r="r" b="b"/>
            <a:pathLst>
              <a:path w="3111" h="1359">
                <a:moveTo>
                  <a:pt x="20193" y="6935"/>
                </a:moveTo>
                <a:cubicBezTo>
                  <a:pt x="20153" y="6927"/>
                  <a:pt x="20112" y="6918"/>
                  <a:pt x="20072" y="6911"/>
                </a:cubicBezTo>
                <a:cubicBezTo>
                  <a:pt x="20124" y="6907"/>
                  <a:pt x="20178" y="6900"/>
                  <a:pt x="20231" y="6897"/>
                </a:cubicBezTo>
                <a:cubicBezTo>
                  <a:pt x="20435" y="6884"/>
                  <a:pt x="20638" y="6869"/>
                  <a:pt x="20842" y="6860"/>
                </a:cubicBezTo>
                <a:cubicBezTo>
                  <a:pt x="21605" y="6826"/>
                  <a:pt x="22371" y="6829"/>
                  <a:pt x="23135" y="6849"/>
                </a:cubicBezTo>
                <a:cubicBezTo>
                  <a:pt x="23185" y="6850"/>
                  <a:pt x="23191" y="6848"/>
                  <a:pt x="23141" y="6858"/>
                </a:cubicBezTo>
                <a:cubicBezTo>
                  <a:pt x="23099" y="6864"/>
                  <a:pt x="23082" y="6866"/>
                  <a:pt x="23052" y="6869"/>
                </a:cubicBezTo>
              </a:path>
              <a:path w="3111" h="1359">
                <a:moveTo>
                  <a:pt x="20609" y="7927"/>
                </a:moveTo>
                <a:cubicBezTo>
                  <a:pt x="20582" y="7964"/>
                  <a:pt x="20566" y="8005"/>
                  <a:pt x="20556" y="8050"/>
                </a:cubicBezTo>
                <a:cubicBezTo>
                  <a:pt x="20547" y="8091"/>
                  <a:pt x="20537" y="8133"/>
                  <a:pt x="20534" y="8175"/>
                </a:cubicBezTo>
                <a:cubicBezTo>
                  <a:pt x="20534" y="8178"/>
                  <a:pt x="20534" y="8182"/>
                  <a:pt x="20534" y="8185"/>
                </a:cubicBezTo>
                <a:cubicBezTo>
                  <a:pt x="20555" y="8143"/>
                  <a:pt x="20573" y="8099"/>
                  <a:pt x="20595" y="8056"/>
                </a:cubicBezTo>
                <a:cubicBezTo>
                  <a:pt x="20630" y="7987"/>
                  <a:pt x="20669" y="7919"/>
                  <a:pt x="20714" y="7855"/>
                </a:cubicBezTo>
                <a:cubicBezTo>
                  <a:pt x="20732" y="7830"/>
                  <a:pt x="20743" y="7814"/>
                  <a:pt x="20769" y="7802"/>
                </a:cubicBezTo>
                <a:cubicBezTo>
                  <a:pt x="20773" y="7849"/>
                  <a:pt x="20756" y="7894"/>
                  <a:pt x="20746" y="7940"/>
                </a:cubicBezTo>
                <a:cubicBezTo>
                  <a:pt x="20732" y="8004"/>
                  <a:pt x="20711" y="8081"/>
                  <a:pt x="20714" y="8147"/>
                </a:cubicBezTo>
                <a:cubicBezTo>
                  <a:pt x="20716" y="8188"/>
                  <a:pt x="20730" y="8198"/>
                  <a:pt x="20761" y="8183"/>
                </a:cubicBezTo>
              </a:path>
              <a:path w="3111" h="1359">
                <a:moveTo>
                  <a:pt x="20896" y="7972"/>
                </a:moveTo>
                <a:cubicBezTo>
                  <a:pt x="20915" y="7961"/>
                  <a:pt x="20945" y="7953"/>
                  <a:pt x="20968" y="7951"/>
                </a:cubicBezTo>
                <a:cubicBezTo>
                  <a:pt x="21012" y="7948"/>
                  <a:pt x="21060" y="7948"/>
                  <a:pt x="21104" y="7950"/>
                </a:cubicBezTo>
                <a:cubicBezTo>
                  <a:pt x="21126" y="7951"/>
                  <a:pt x="21145" y="7953"/>
                  <a:pt x="21166" y="7959"/>
                </a:cubicBezTo>
              </a:path>
              <a:path w="3111" h="1359">
                <a:moveTo>
                  <a:pt x="20898" y="8063"/>
                </a:moveTo>
                <a:cubicBezTo>
                  <a:pt x="20874" y="8089"/>
                  <a:pt x="20947" y="8077"/>
                  <a:pt x="20979" y="8078"/>
                </a:cubicBezTo>
                <a:cubicBezTo>
                  <a:pt x="21042" y="8081"/>
                  <a:pt x="21103" y="8075"/>
                  <a:pt x="21166" y="8067"/>
                </a:cubicBezTo>
              </a:path>
              <a:path w="3111" h="1359">
                <a:moveTo>
                  <a:pt x="21493" y="7806"/>
                </a:moveTo>
                <a:cubicBezTo>
                  <a:pt x="21460" y="7839"/>
                  <a:pt x="21439" y="7873"/>
                  <a:pt x="21414" y="7912"/>
                </a:cubicBezTo>
                <a:cubicBezTo>
                  <a:pt x="21382" y="7960"/>
                  <a:pt x="21334" y="8019"/>
                  <a:pt x="21322" y="8077"/>
                </a:cubicBezTo>
                <a:cubicBezTo>
                  <a:pt x="21316" y="8106"/>
                  <a:pt x="21315" y="8161"/>
                  <a:pt x="21357" y="8164"/>
                </a:cubicBezTo>
                <a:cubicBezTo>
                  <a:pt x="21366" y="8162"/>
                  <a:pt x="21374" y="8161"/>
                  <a:pt x="21383" y="8159"/>
                </a:cubicBezTo>
              </a:path>
              <a:path w="3111" h="1359">
                <a:moveTo>
                  <a:pt x="21727" y="7865"/>
                </a:moveTo>
                <a:cubicBezTo>
                  <a:pt x="21679" y="7886"/>
                  <a:pt x="21658" y="7912"/>
                  <a:pt x="21628" y="7956"/>
                </a:cubicBezTo>
                <a:cubicBezTo>
                  <a:pt x="21597" y="8001"/>
                  <a:pt x="21567" y="8050"/>
                  <a:pt x="21585" y="8107"/>
                </a:cubicBezTo>
                <a:cubicBezTo>
                  <a:pt x="21599" y="8151"/>
                  <a:pt x="21643" y="8162"/>
                  <a:pt x="21684" y="8155"/>
                </a:cubicBezTo>
                <a:cubicBezTo>
                  <a:pt x="21726" y="8148"/>
                  <a:pt x="21767" y="8118"/>
                  <a:pt x="21786" y="8080"/>
                </a:cubicBezTo>
                <a:cubicBezTo>
                  <a:pt x="21803" y="8046"/>
                  <a:pt x="21804" y="7999"/>
                  <a:pt x="21788" y="7965"/>
                </a:cubicBezTo>
                <a:cubicBezTo>
                  <a:pt x="21773" y="7931"/>
                  <a:pt x="21749" y="7920"/>
                  <a:pt x="21720" y="790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4965840" y="2354400"/>
            <a:ext cx="599760" cy="679320"/>
          </a:xfrm>
          <a:custGeom>
            <a:avLst/>
            <a:gdLst/>
            <a:ahLst/>
            <a:rect l="l" t="t" r="r" b="b"/>
            <a:pathLst>
              <a:path w="1668" h="1889">
                <a:moveTo>
                  <a:pt x="14915" y="7612"/>
                </a:moveTo>
                <a:cubicBezTo>
                  <a:pt x="14899" y="7634"/>
                  <a:pt x="14899" y="7644"/>
                  <a:pt x="14874" y="7655"/>
                </a:cubicBezTo>
                <a:cubicBezTo>
                  <a:pt x="14866" y="7665"/>
                  <a:pt x="14862" y="7668"/>
                  <a:pt x="14851" y="7660"/>
                </a:cubicBezTo>
                <a:cubicBezTo>
                  <a:pt x="14841" y="7614"/>
                  <a:pt x="14841" y="7589"/>
                  <a:pt x="14856" y="7536"/>
                </a:cubicBezTo>
                <a:cubicBezTo>
                  <a:pt x="14918" y="7313"/>
                  <a:pt x="15011" y="7096"/>
                  <a:pt x="15106" y="6886"/>
                </a:cubicBezTo>
                <a:cubicBezTo>
                  <a:pt x="15152" y="6784"/>
                  <a:pt x="15201" y="6684"/>
                  <a:pt x="15248" y="6583"/>
                </a:cubicBezTo>
                <a:cubicBezTo>
                  <a:pt x="15259" y="6559"/>
                  <a:pt x="15264" y="6556"/>
                  <a:pt x="15261" y="6540"/>
                </a:cubicBezTo>
                <a:cubicBezTo>
                  <a:pt x="15194" y="6591"/>
                  <a:pt x="15130" y="6646"/>
                  <a:pt x="15066" y="6700"/>
                </a:cubicBezTo>
                <a:cubicBezTo>
                  <a:pt x="15015" y="6743"/>
                  <a:pt x="14965" y="6787"/>
                  <a:pt x="14911" y="6826"/>
                </a:cubicBezTo>
                <a:cubicBezTo>
                  <a:pt x="14955" y="6788"/>
                  <a:pt x="14998" y="6752"/>
                  <a:pt x="15047" y="6720"/>
                </a:cubicBezTo>
                <a:cubicBezTo>
                  <a:pt x="15116" y="6674"/>
                  <a:pt x="15215" y="6606"/>
                  <a:pt x="15304" y="6623"/>
                </a:cubicBezTo>
                <a:cubicBezTo>
                  <a:pt x="15373" y="6637"/>
                  <a:pt x="15404" y="6727"/>
                  <a:pt x="15427" y="6783"/>
                </a:cubicBezTo>
                <a:cubicBezTo>
                  <a:pt x="15447" y="6831"/>
                  <a:pt x="15453" y="6878"/>
                  <a:pt x="15461" y="6929"/>
                </a:cubicBezTo>
              </a:path>
              <a:path w="1668" h="1889">
                <a:moveTo>
                  <a:pt x="13800" y="7965"/>
                </a:moveTo>
                <a:cubicBezTo>
                  <a:pt x="13796" y="8025"/>
                  <a:pt x="13797" y="8082"/>
                  <a:pt x="13799" y="8142"/>
                </a:cubicBezTo>
                <a:cubicBezTo>
                  <a:pt x="13801" y="8212"/>
                  <a:pt x="13806" y="8282"/>
                  <a:pt x="13812" y="8352"/>
                </a:cubicBezTo>
                <a:cubicBezTo>
                  <a:pt x="13813" y="8360"/>
                  <a:pt x="13826" y="8472"/>
                  <a:pt x="13815" y="8402"/>
                </a:cubicBezTo>
                <a:cubicBezTo>
                  <a:pt x="13814" y="8335"/>
                  <a:pt x="13815" y="8269"/>
                  <a:pt x="13823" y="8202"/>
                </a:cubicBezTo>
                <a:cubicBezTo>
                  <a:pt x="13832" y="8127"/>
                  <a:pt x="13839" y="8027"/>
                  <a:pt x="13889" y="7965"/>
                </a:cubicBezTo>
                <a:cubicBezTo>
                  <a:pt x="13919" y="7927"/>
                  <a:pt x="13946" y="7942"/>
                  <a:pt x="13982" y="7959"/>
                </a:cubicBezTo>
                <a:cubicBezTo>
                  <a:pt x="14013" y="7974"/>
                  <a:pt x="14044" y="7990"/>
                  <a:pt x="14074" y="8006"/>
                </a:cubicBezTo>
              </a:path>
              <a:path w="1668" h="1889">
                <a:moveTo>
                  <a:pt x="14207" y="8096"/>
                </a:moveTo>
                <a:cubicBezTo>
                  <a:pt x="14193" y="8081"/>
                  <a:pt x="14190" y="8078"/>
                  <a:pt x="14189" y="8058"/>
                </a:cubicBezTo>
                <a:cubicBezTo>
                  <a:pt x="14234" y="8049"/>
                  <a:pt x="14272" y="8049"/>
                  <a:pt x="14318" y="8051"/>
                </a:cubicBezTo>
                <a:cubicBezTo>
                  <a:pt x="14383" y="8054"/>
                  <a:pt x="14439" y="8063"/>
                  <a:pt x="14497" y="8091"/>
                </a:cubicBezTo>
              </a:path>
              <a:path w="1668" h="1889">
                <a:moveTo>
                  <a:pt x="14299" y="8266"/>
                </a:moveTo>
                <a:cubicBezTo>
                  <a:pt x="14279" y="8278"/>
                  <a:pt x="14260" y="8290"/>
                  <a:pt x="14240" y="8303"/>
                </a:cubicBezTo>
                <a:cubicBezTo>
                  <a:pt x="14273" y="8299"/>
                  <a:pt x="14306" y="8292"/>
                  <a:pt x="14339" y="8286"/>
                </a:cubicBezTo>
                <a:cubicBezTo>
                  <a:pt x="14383" y="8279"/>
                  <a:pt x="14426" y="8272"/>
                  <a:pt x="14470" y="8266"/>
                </a:cubicBezTo>
              </a:path>
              <a:path w="1668" h="1889">
                <a:moveTo>
                  <a:pt x="14937" y="7981"/>
                </a:moveTo>
                <a:cubicBezTo>
                  <a:pt x="14942" y="7958"/>
                  <a:pt x="14947" y="7941"/>
                  <a:pt x="14943" y="7919"/>
                </a:cubicBezTo>
                <a:cubicBezTo>
                  <a:pt x="14914" y="7935"/>
                  <a:pt x="14893" y="7958"/>
                  <a:pt x="14869" y="7981"/>
                </a:cubicBezTo>
                <a:cubicBezTo>
                  <a:pt x="14839" y="8009"/>
                  <a:pt x="14793" y="8041"/>
                  <a:pt x="14785" y="8085"/>
                </a:cubicBezTo>
                <a:cubicBezTo>
                  <a:pt x="14778" y="8122"/>
                  <a:pt x="14840" y="8141"/>
                  <a:pt x="14863" y="8152"/>
                </a:cubicBezTo>
                <a:cubicBezTo>
                  <a:pt x="14926" y="8182"/>
                  <a:pt x="15001" y="8205"/>
                  <a:pt x="15047" y="8262"/>
                </a:cubicBezTo>
                <a:cubicBezTo>
                  <a:pt x="15070" y="8291"/>
                  <a:pt x="15077" y="8332"/>
                  <a:pt x="15050" y="8361"/>
                </a:cubicBezTo>
                <a:cubicBezTo>
                  <a:pt x="15026" y="8386"/>
                  <a:pt x="14986" y="8398"/>
                  <a:pt x="14954" y="8382"/>
                </a:cubicBezTo>
                <a:cubicBezTo>
                  <a:pt x="14919" y="8364"/>
                  <a:pt x="14910" y="8332"/>
                  <a:pt x="14894" y="8299"/>
                </a:cubicBezTo>
              </a:path>
              <a:path w="1668" h="1889">
                <a:moveTo>
                  <a:pt x="14914" y="7968"/>
                </a:moveTo>
                <a:cubicBezTo>
                  <a:pt x="14965" y="7944"/>
                  <a:pt x="15022" y="7921"/>
                  <a:pt x="15078" y="7913"/>
                </a:cubicBezTo>
                <a:cubicBezTo>
                  <a:pt x="15149" y="7903"/>
                  <a:pt x="15234" y="7905"/>
                  <a:pt x="15303" y="7925"/>
                </a:cubicBezTo>
                <a:cubicBezTo>
                  <a:pt x="15337" y="7935"/>
                  <a:pt x="15367" y="7954"/>
                  <a:pt x="15398" y="797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1890720" y="3127320"/>
            <a:ext cx="1652760" cy="704880"/>
          </a:xfrm>
          <a:custGeom>
            <a:avLst/>
            <a:gdLst/>
            <a:ahLst/>
            <a:rect l="l" t="t" r="r" b="b"/>
            <a:pathLst>
              <a:path w="4591" h="1955">
                <a:moveTo>
                  <a:pt x="5435" y="9023"/>
                </a:moveTo>
                <a:cubicBezTo>
                  <a:pt x="5412" y="9018"/>
                  <a:pt x="5402" y="9017"/>
                  <a:pt x="5380" y="9082"/>
                </a:cubicBezTo>
                <a:cubicBezTo>
                  <a:pt x="5338" y="9208"/>
                  <a:pt x="5315" y="9343"/>
                  <a:pt x="5295" y="9473"/>
                </a:cubicBezTo>
                <a:cubicBezTo>
                  <a:pt x="5258" y="9709"/>
                  <a:pt x="5242" y="9949"/>
                  <a:pt x="5259" y="10188"/>
                </a:cubicBezTo>
                <a:cubicBezTo>
                  <a:pt x="5262" y="10236"/>
                  <a:pt x="5266" y="10345"/>
                  <a:pt x="5317" y="10375"/>
                </a:cubicBezTo>
                <a:cubicBezTo>
                  <a:pt x="5324" y="10375"/>
                  <a:pt x="5331" y="10376"/>
                  <a:pt x="5338" y="10376"/>
                </a:cubicBezTo>
              </a:path>
              <a:path w="4591" h="1955">
                <a:moveTo>
                  <a:pt x="5851" y="9094"/>
                </a:moveTo>
                <a:cubicBezTo>
                  <a:pt x="5858" y="9145"/>
                  <a:pt x="5854" y="9196"/>
                  <a:pt x="5854" y="9248"/>
                </a:cubicBezTo>
                <a:cubicBezTo>
                  <a:pt x="5854" y="9327"/>
                  <a:pt x="5858" y="9405"/>
                  <a:pt x="5872" y="9483"/>
                </a:cubicBezTo>
                <a:cubicBezTo>
                  <a:pt x="5878" y="9517"/>
                  <a:pt x="5883" y="9537"/>
                  <a:pt x="5900" y="9564"/>
                </a:cubicBezTo>
              </a:path>
              <a:path w="4591" h="1955">
                <a:moveTo>
                  <a:pt x="6192" y="9068"/>
                </a:moveTo>
                <a:cubicBezTo>
                  <a:pt x="6137" y="9152"/>
                  <a:pt x="6070" y="9239"/>
                  <a:pt x="6037" y="9336"/>
                </a:cubicBezTo>
                <a:cubicBezTo>
                  <a:pt x="6020" y="9385"/>
                  <a:pt x="5994" y="9490"/>
                  <a:pt x="6066" y="9511"/>
                </a:cubicBezTo>
                <a:cubicBezTo>
                  <a:pt x="6132" y="9531"/>
                  <a:pt x="6216" y="9477"/>
                  <a:pt x="6264" y="9438"/>
                </a:cubicBezTo>
                <a:cubicBezTo>
                  <a:pt x="6313" y="9398"/>
                  <a:pt x="6360" y="9339"/>
                  <a:pt x="6366" y="9274"/>
                </a:cubicBezTo>
                <a:cubicBezTo>
                  <a:pt x="6369" y="9236"/>
                  <a:pt x="6351" y="9197"/>
                  <a:pt x="6316" y="9181"/>
                </a:cubicBezTo>
                <a:cubicBezTo>
                  <a:pt x="6289" y="9174"/>
                  <a:pt x="6279" y="9171"/>
                  <a:pt x="6259" y="9176"/>
                </a:cubicBezTo>
              </a:path>
              <a:path w="4591" h="1955">
                <a:moveTo>
                  <a:pt x="6032" y="10112"/>
                </a:moveTo>
                <a:cubicBezTo>
                  <a:pt x="6034" y="10083"/>
                  <a:pt x="6042" y="10042"/>
                  <a:pt x="6038" y="10013"/>
                </a:cubicBezTo>
                <a:cubicBezTo>
                  <a:pt x="6036" y="10010"/>
                  <a:pt x="6033" y="10006"/>
                  <a:pt x="6031" y="10003"/>
                </a:cubicBezTo>
                <a:cubicBezTo>
                  <a:pt x="6014" y="10024"/>
                  <a:pt x="6011" y="10045"/>
                  <a:pt x="6011" y="10073"/>
                </a:cubicBezTo>
                <a:cubicBezTo>
                  <a:pt x="6010" y="10123"/>
                  <a:pt x="6022" y="10171"/>
                  <a:pt x="6039" y="10217"/>
                </a:cubicBezTo>
                <a:cubicBezTo>
                  <a:pt x="6058" y="10270"/>
                  <a:pt x="6090" y="10317"/>
                  <a:pt x="6109" y="10370"/>
                </a:cubicBezTo>
                <a:cubicBezTo>
                  <a:pt x="6121" y="10403"/>
                  <a:pt x="6134" y="10446"/>
                  <a:pt x="6110" y="10478"/>
                </a:cubicBezTo>
                <a:cubicBezTo>
                  <a:pt x="6088" y="10508"/>
                  <a:pt x="6038" y="10521"/>
                  <a:pt x="6003" y="10523"/>
                </a:cubicBezTo>
                <a:cubicBezTo>
                  <a:pt x="5959" y="10526"/>
                  <a:pt x="5917" y="10510"/>
                  <a:pt x="5896" y="10470"/>
                </a:cubicBezTo>
                <a:cubicBezTo>
                  <a:pt x="5873" y="10425"/>
                  <a:pt x="5879" y="10379"/>
                  <a:pt x="5879" y="10330"/>
                </a:cubicBezTo>
              </a:path>
              <a:path w="4591" h="1955">
                <a:moveTo>
                  <a:pt x="6052" y="9961"/>
                </a:moveTo>
                <a:cubicBezTo>
                  <a:pt x="6077" y="9937"/>
                  <a:pt x="6092" y="9922"/>
                  <a:pt x="6124" y="9907"/>
                </a:cubicBezTo>
                <a:cubicBezTo>
                  <a:pt x="6168" y="9887"/>
                  <a:pt x="6221" y="9869"/>
                  <a:pt x="6269" y="9862"/>
                </a:cubicBezTo>
                <a:cubicBezTo>
                  <a:pt x="6314" y="9855"/>
                  <a:pt x="6360" y="9860"/>
                  <a:pt x="6405" y="9864"/>
                </a:cubicBezTo>
              </a:path>
              <a:path w="4591" h="1955">
                <a:moveTo>
                  <a:pt x="6619" y="8984"/>
                </a:moveTo>
                <a:cubicBezTo>
                  <a:pt x="6660" y="8986"/>
                  <a:pt x="6657" y="8984"/>
                  <a:pt x="6680" y="9042"/>
                </a:cubicBezTo>
                <a:cubicBezTo>
                  <a:pt x="6738" y="9189"/>
                  <a:pt x="6768" y="9349"/>
                  <a:pt x="6785" y="9506"/>
                </a:cubicBezTo>
                <a:cubicBezTo>
                  <a:pt x="6810" y="9733"/>
                  <a:pt x="6810" y="9969"/>
                  <a:pt x="6780" y="10196"/>
                </a:cubicBezTo>
                <a:cubicBezTo>
                  <a:pt x="6762" y="10335"/>
                  <a:pt x="6733" y="10490"/>
                  <a:pt x="6667" y="10616"/>
                </a:cubicBezTo>
                <a:cubicBezTo>
                  <a:pt x="6651" y="10636"/>
                  <a:pt x="6651" y="10647"/>
                  <a:pt x="6636" y="10638"/>
                </a:cubicBezTo>
              </a:path>
              <a:path w="4591" h="1955">
                <a:moveTo>
                  <a:pt x="7266" y="9708"/>
                </a:moveTo>
                <a:cubicBezTo>
                  <a:pt x="7295" y="9679"/>
                  <a:pt x="7333" y="9655"/>
                  <a:pt x="7372" y="9640"/>
                </a:cubicBezTo>
                <a:cubicBezTo>
                  <a:pt x="7455" y="9608"/>
                  <a:pt x="7550" y="9580"/>
                  <a:pt x="7638" y="9565"/>
                </a:cubicBezTo>
                <a:cubicBezTo>
                  <a:pt x="7689" y="9556"/>
                  <a:pt x="7739" y="9557"/>
                  <a:pt x="7790" y="9559"/>
                </a:cubicBezTo>
              </a:path>
              <a:path w="4591" h="1955">
                <a:moveTo>
                  <a:pt x="7407" y="9958"/>
                </a:moveTo>
                <a:cubicBezTo>
                  <a:pt x="7467" y="9941"/>
                  <a:pt x="7524" y="9917"/>
                  <a:pt x="7583" y="9896"/>
                </a:cubicBezTo>
                <a:cubicBezTo>
                  <a:pt x="7691" y="9857"/>
                  <a:pt x="7801" y="9843"/>
                  <a:pt x="7915" y="9829"/>
                </a:cubicBezTo>
              </a:path>
              <a:path w="4591" h="1955">
                <a:moveTo>
                  <a:pt x="8649" y="8978"/>
                </a:moveTo>
                <a:cubicBezTo>
                  <a:pt x="8651" y="8972"/>
                  <a:pt x="8652" y="8967"/>
                  <a:pt x="8654" y="8961"/>
                </a:cubicBezTo>
                <a:cubicBezTo>
                  <a:pt x="8629" y="8999"/>
                  <a:pt x="8620" y="9054"/>
                  <a:pt x="8613" y="9102"/>
                </a:cubicBezTo>
                <a:cubicBezTo>
                  <a:pt x="8600" y="9185"/>
                  <a:pt x="8589" y="9284"/>
                  <a:pt x="8608" y="9367"/>
                </a:cubicBezTo>
                <a:cubicBezTo>
                  <a:pt x="8623" y="9436"/>
                  <a:pt x="8656" y="9454"/>
                  <a:pt x="8718" y="9456"/>
                </a:cubicBezTo>
              </a:path>
              <a:path w="4591" h="1955">
                <a:moveTo>
                  <a:pt x="9042" y="8923"/>
                </a:moveTo>
                <a:cubicBezTo>
                  <a:pt x="9008" y="8904"/>
                  <a:pt x="8993" y="8961"/>
                  <a:pt x="8976" y="8987"/>
                </a:cubicBezTo>
                <a:cubicBezTo>
                  <a:pt x="8933" y="9052"/>
                  <a:pt x="8903" y="9121"/>
                  <a:pt x="8894" y="9200"/>
                </a:cubicBezTo>
                <a:cubicBezTo>
                  <a:pt x="8888" y="9253"/>
                  <a:pt x="8892" y="9318"/>
                  <a:pt x="8958" y="9325"/>
                </a:cubicBezTo>
                <a:cubicBezTo>
                  <a:pt x="9019" y="9332"/>
                  <a:pt x="9082" y="9289"/>
                  <a:pt x="9124" y="9250"/>
                </a:cubicBezTo>
                <a:cubicBezTo>
                  <a:pt x="9169" y="9209"/>
                  <a:pt x="9200" y="9160"/>
                  <a:pt x="9206" y="9099"/>
                </a:cubicBezTo>
                <a:cubicBezTo>
                  <a:pt x="9210" y="9058"/>
                  <a:pt x="9192" y="9012"/>
                  <a:pt x="9168" y="8979"/>
                </a:cubicBezTo>
                <a:cubicBezTo>
                  <a:pt x="9152" y="8961"/>
                  <a:pt x="9147" y="8956"/>
                  <a:pt x="9139" y="8943"/>
                </a:cubicBezTo>
              </a:path>
              <a:path w="4591" h="1955">
                <a:moveTo>
                  <a:pt x="9442" y="8704"/>
                </a:moveTo>
                <a:cubicBezTo>
                  <a:pt x="9459" y="8692"/>
                  <a:pt x="9479" y="8676"/>
                  <a:pt x="9492" y="8704"/>
                </a:cubicBezTo>
                <a:cubicBezTo>
                  <a:pt x="9513" y="8748"/>
                  <a:pt x="9513" y="8807"/>
                  <a:pt x="9521" y="8854"/>
                </a:cubicBezTo>
                <a:cubicBezTo>
                  <a:pt x="9537" y="8952"/>
                  <a:pt x="9554" y="9050"/>
                  <a:pt x="9576" y="9147"/>
                </a:cubicBezTo>
              </a:path>
              <a:path w="4591" h="1955">
                <a:moveTo>
                  <a:pt x="9539" y="9344"/>
                </a:moveTo>
                <a:cubicBezTo>
                  <a:pt x="9538" y="9323"/>
                  <a:pt x="9538" y="9294"/>
                  <a:pt x="9548" y="9274"/>
                </a:cubicBezTo>
                <a:cubicBezTo>
                  <a:pt x="9556" y="9257"/>
                  <a:pt x="9573" y="9253"/>
                  <a:pt x="9589" y="9251"/>
                </a:cubicBezTo>
              </a:path>
              <a:path w="4591" h="1955">
                <a:moveTo>
                  <a:pt x="8418" y="9631"/>
                </a:moveTo>
                <a:cubicBezTo>
                  <a:pt x="8418" y="9657"/>
                  <a:pt x="8422" y="9652"/>
                  <a:pt x="8474" y="9655"/>
                </a:cubicBezTo>
                <a:cubicBezTo>
                  <a:pt x="8599" y="9663"/>
                  <a:pt x="8725" y="9656"/>
                  <a:pt x="8851" y="9649"/>
                </a:cubicBezTo>
                <a:cubicBezTo>
                  <a:pt x="9109" y="9635"/>
                  <a:pt x="9364" y="9620"/>
                  <a:pt x="9623" y="9633"/>
                </a:cubicBezTo>
                <a:cubicBezTo>
                  <a:pt x="9706" y="9637"/>
                  <a:pt x="9768" y="9647"/>
                  <a:pt x="9841" y="968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2997360" y="3594240"/>
            <a:ext cx="245880" cy="260280"/>
          </a:xfrm>
          <a:custGeom>
            <a:avLst/>
            <a:gdLst/>
            <a:ahLst/>
            <a:rect l="l" t="t" r="r" b="b"/>
            <a:pathLst>
              <a:path w="682" h="726">
                <a:moveTo>
                  <a:pt x="8467" y="10055"/>
                </a:moveTo>
                <a:cubicBezTo>
                  <a:pt x="8459" y="10039"/>
                  <a:pt x="8453" y="10014"/>
                  <a:pt x="8425" y="10024"/>
                </a:cubicBezTo>
                <a:cubicBezTo>
                  <a:pt x="8397" y="10034"/>
                  <a:pt x="8370" y="10081"/>
                  <a:pt x="8362" y="10108"/>
                </a:cubicBezTo>
                <a:cubicBezTo>
                  <a:pt x="8345" y="10164"/>
                  <a:pt x="8361" y="10215"/>
                  <a:pt x="8386" y="10265"/>
                </a:cubicBezTo>
                <a:cubicBezTo>
                  <a:pt x="8421" y="10334"/>
                  <a:pt x="8476" y="10384"/>
                  <a:pt x="8529" y="10439"/>
                </a:cubicBezTo>
                <a:cubicBezTo>
                  <a:pt x="8576" y="10487"/>
                  <a:pt x="8688" y="10582"/>
                  <a:pt x="8666" y="10661"/>
                </a:cubicBezTo>
                <a:cubicBezTo>
                  <a:pt x="8655" y="10700"/>
                  <a:pt x="8600" y="10714"/>
                  <a:pt x="8565" y="10708"/>
                </a:cubicBezTo>
                <a:cubicBezTo>
                  <a:pt x="8505" y="10698"/>
                  <a:pt x="8452" y="10659"/>
                  <a:pt x="8419" y="10610"/>
                </a:cubicBezTo>
                <a:cubicBezTo>
                  <a:pt x="8410" y="10594"/>
                  <a:pt x="8402" y="10578"/>
                  <a:pt x="8393" y="10562"/>
                </a:cubicBezTo>
              </a:path>
              <a:path w="682" h="726">
                <a:moveTo>
                  <a:pt x="8327" y="10127"/>
                </a:moveTo>
                <a:cubicBezTo>
                  <a:pt x="8363" y="10109"/>
                  <a:pt x="8393" y="10102"/>
                  <a:pt x="8432" y="10094"/>
                </a:cubicBezTo>
                <a:cubicBezTo>
                  <a:pt x="8506" y="10079"/>
                  <a:pt x="8578" y="10074"/>
                  <a:pt x="8653" y="10072"/>
                </a:cubicBezTo>
                <a:cubicBezTo>
                  <a:pt x="8704" y="10071"/>
                  <a:pt x="8719" y="10071"/>
                  <a:pt x="8752" y="10070"/>
                </a:cubicBezTo>
              </a:path>
              <a:path w="682" h="726">
                <a:moveTo>
                  <a:pt x="8895" y="9983"/>
                </a:moveTo>
                <a:cubicBezTo>
                  <a:pt x="8908" y="10025"/>
                  <a:pt x="8916" y="10067"/>
                  <a:pt x="8924" y="10111"/>
                </a:cubicBezTo>
                <a:cubicBezTo>
                  <a:pt x="8936" y="10179"/>
                  <a:pt x="8939" y="10247"/>
                  <a:pt x="8942" y="10316"/>
                </a:cubicBezTo>
                <a:cubicBezTo>
                  <a:pt x="8944" y="10360"/>
                  <a:pt x="8942" y="10401"/>
                  <a:pt x="8939" y="10445"/>
                </a:cubicBezTo>
              </a:path>
              <a:path w="682" h="726">
                <a:moveTo>
                  <a:pt x="8977" y="10688"/>
                </a:moveTo>
                <a:cubicBezTo>
                  <a:pt x="8993" y="10669"/>
                  <a:pt x="8987" y="10660"/>
                  <a:pt x="8995" y="10636"/>
                </a:cubicBezTo>
                <a:cubicBezTo>
                  <a:pt x="9002" y="10618"/>
                  <a:pt x="9005" y="10611"/>
                  <a:pt x="9008" y="1059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3386160" y="3573360"/>
            <a:ext cx="274680" cy="262080"/>
          </a:xfrm>
          <a:custGeom>
            <a:avLst/>
            <a:gdLst/>
            <a:ahLst/>
            <a:rect l="l" t="t" r="r" b="b"/>
            <a:pathLst>
              <a:path w="761" h="730">
                <a:moveTo>
                  <a:pt x="9652" y="10094"/>
                </a:moveTo>
                <a:cubicBezTo>
                  <a:pt x="9658" y="10062"/>
                  <a:pt x="9658" y="10066"/>
                  <a:pt x="9625" y="10091"/>
                </a:cubicBezTo>
                <a:cubicBezTo>
                  <a:pt x="9572" y="10132"/>
                  <a:pt x="9523" y="10179"/>
                  <a:pt x="9479" y="10230"/>
                </a:cubicBezTo>
                <a:cubicBezTo>
                  <a:pt x="9456" y="10257"/>
                  <a:pt x="9390" y="10322"/>
                  <a:pt x="9407" y="10365"/>
                </a:cubicBezTo>
                <a:cubicBezTo>
                  <a:pt x="9423" y="10404"/>
                  <a:pt x="9497" y="10413"/>
                  <a:pt x="9530" y="10427"/>
                </a:cubicBezTo>
                <a:cubicBezTo>
                  <a:pt x="9590" y="10452"/>
                  <a:pt x="9650" y="10489"/>
                  <a:pt x="9664" y="10558"/>
                </a:cubicBezTo>
                <a:cubicBezTo>
                  <a:pt x="9674" y="10609"/>
                  <a:pt x="9645" y="10646"/>
                  <a:pt x="9597" y="10653"/>
                </a:cubicBezTo>
                <a:cubicBezTo>
                  <a:pt x="9555" y="10659"/>
                  <a:pt x="9529" y="10628"/>
                  <a:pt x="9511" y="10594"/>
                </a:cubicBezTo>
                <a:cubicBezTo>
                  <a:pt x="9506" y="10582"/>
                  <a:pt x="9500" y="10570"/>
                  <a:pt x="9495" y="10558"/>
                </a:cubicBezTo>
              </a:path>
              <a:path w="761" h="730">
                <a:moveTo>
                  <a:pt x="9485" y="10101"/>
                </a:moveTo>
                <a:cubicBezTo>
                  <a:pt x="9525" y="10072"/>
                  <a:pt x="9556" y="10059"/>
                  <a:pt x="9604" y="10046"/>
                </a:cubicBezTo>
                <a:cubicBezTo>
                  <a:pt x="9671" y="10027"/>
                  <a:pt x="9733" y="10024"/>
                  <a:pt x="9802" y="10023"/>
                </a:cubicBezTo>
                <a:cubicBezTo>
                  <a:pt x="9843" y="10022"/>
                  <a:pt x="9882" y="10024"/>
                  <a:pt x="9923" y="10025"/>
                </a:cubicBezTo>
              </a:path>
              <a:path w="761" h="730">
                <a:moveTo>
                  <a:pt x="10069" y="9925"/>
                </a:moveTo>
                <a:cubicBezTo>
                  <a:pt x="10094" y="9946"/>
                  <a:pt x="10086" y="9962"/>
                  <a:pt x="10088" y="9993"/>
                </a:cubicBezTo>
                <a:cubicBezTo>
                  <a:pt x="10091" y="10059"/>
                  <a:pt x="10092" y="10125"/>
                  <a:pt x="10094" y="10191"/>
                </a:cubicBezTo>
                <a:cubicBezTo>
                  <a:pt x="10096" y="10248"/>
                  <a:pt x="10100" y="10303"/>
                  <a:pt x="10110" y="10359"/>
                </a:cubicBezTo>
              </a:path>
              <a:path w="761" h="730">
                <a:moveTo>
                  <a:pt x="10141" y="10618"/>
                </a:moveTo>
                <a:cubicBezTo>
                  <a:pt x="10133" y="10596"/>
                  <a:pt x="10121" y="10573"/>
                  <a:pt x="10131" y="10549"/>
                </a:cubicBezTo>
                <a:cubicBezTo>
                  <a:pt x="10137" y="10535"/>
                  <a:pt x="10153" y="10527"/>
                  <a:pt x="10166" y="1052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984240" y="3375000"/>
            <a:ext cx="750960" cy="174600"/>
          </a:xfrm>
          <a:custGeom>
            <a:avLst/>
            <a:gdLst/>
            <a:ahLst/>
            <a:rect l="l" t="t" r="r" b="b"/>
            <a:pathLst>
              <a:path w="2083" h="484">
                <a:moveTo>
                  <a:pt x="2970" y="9702"/>
                </a:moveTo>
                <a:cubicBezTo>
                  <a:pt x="2916" y="9696"/>
                  <a:pt x="2845" y="9674"/>
                  <a:pt x="2791" y="9680"/>
                </a:cubicBezTo>
                <a:cubicBezTo>
                  <a:pt x="2764" y="9683"/>
                  <a:pt x="2757" y="9693"/>
                  <a:pt x="2736" y="9699"/>
                </a:cubicBezTo>
                <a:cubicBezTo>
                  <a:pt x="2784" y="9735"/>
                  <a:pt x="2812" y="9757"/>
                  <a:pt x="2881" y="9764"/>
                </a:cubicBezTo>
                <a:cubicBezTo>
                  <a:pt x="3216" y="9798"/>
                  <a:pt x="3582" y="9711"/>
                  <a:pt x="3909" y="9648"/>
                </a:cubicBezTo>
                <a:cubicBezTo>
                  <a:pt x="4159" y="9600"/>
                  <a:pt x="4405" y="9529"/>
                  <a:pt x="4655" y="9485"/>
                </a:cubicBezTo>
                <a:cubicBezTo>
                  <a:pt x="4676" y="9481"/>
                  <a:pt x="4696" y="9478"/>
                  <a:pt x="4717" y="9475"/>
                </a:cubicBezTo>
                <a:cubicBezTo>
                  <a:pt x="4680" y="9460"/>
                  <a:pt x="4643" y="9446"/>
                  <a:pt x="4600" y="9437"/>
                </a:cubicBezTo>
                <a:cubicBezTo>
                  <a:pt x="4472" y="9411"/>
                  <a:pt x="4343" y="9393"/>
                  <a:pt x="4213" y="9376"/>
                </a:cubicBezTo>
                <a:cubicBezTo>
                  <a:pt x="4306" y="9392"/>
                  <a:pt x="4398" y="9412"/>
                  <a:pt x="4489" y="9438"/>
                </a:cubicBezTo>
                <a:cubicBezTo>
                  <a:pt x="4586" y="9465"/>
                  <a:pt x="4783" y="9508"/>
                  <a:pt x="4818" y="9623"/>
                </a:cubicBezTo>
                <a:cubicBezTo>
                  <a:pt x="4838" y="9691"/>
                  <a:pt x="4747" y="9733"/>
                  <a:pt x="4701" y="9754"/>
                </a:cubicBezTo>
                <a:cubicBezTo>
                  <a:pt x="4641" y="9782"/>
                  <a:pt x="4569" y="9795"/>
                  <a:pt x="4513" y="9830"/>
                </a:cubicBezTo>
                <a:cubicBezTo>
                  <a:pt x="4494" y="9844"/>
                  <a:pt x="4488" y="9848"/>
                  <a:pt x="4477" y="985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758880" y="1319040"/>
            <a:ext cx="3879720" cy="73080"/>
          </a:xfrm>
          <a:custGeom>
            <a:avLst/>
            <a:gdLst/>
            <a:ahLst/>
            <a:rect l="l" t="t" r="r" b="b"/>
            <a:pathLst>
              <a:path w="10775" h="205">
                <a:moveTo>
                  <a:pt x="2213" y="3733"/>
                </a:moveTo>
                <a:cubicBezTo>
                  <a:pt x="2174" y="3712"/>
                  <a:pt x="2143" y="3687"/>
                  <a:pt x="2110" y="3665"/>
                </a:cubicBezTo>
                <a:cubicBezTo>
                  <a:pt x="2187" y="3669"/>
                  <a:pt x="2264" y="3675"/>
                  <a:pt x="2342" y="3677"/>
                </a:cubicBezTo>
                <a:cubicBezTo>
                  <a:pt x="2809" y="3686"/>
                  <a:pt x="3278" y="3670"/>
                  <a:pt x="3744" y="3690"/>
                </a:cubicBezTo>
                <a:cubicBezTo>
                  <a:pt x="4454" y="3721"/>
                  <a:pt x="5163" y="3737"/>
                  <a:pt x="5871" y="3801"/>
                </a:cubicBezTo>
                <a:cubicBezTo>
                  <a:pt x="6457" y="3854"/>
                  <a:pt x="7032" y="3871"/>
                  <a:pt x="7621" y="3859"/>
                </a:cubicBezTo>
                <a:cubicBezTo>
                  <a:pt x="9095" y="3829"/>
                  <a:pt x="10560" y="3775"/>
                  <a:pt x="12035" y="3792"/>
                </a:cubicBezTo>
                <a:cubicBezTo>
                  <a:pt x="12314" y="3795"/>
                  <a:pt x="12590" y="3785"/>
                  <a:pt x="12861" y="3845"/>
                </a:cubicBezTo>
                <a:cubicBezTo>
                  <a:pt x="12879" y="3854"/>
                  <a:pt x="12889" y="3853"/>
                  <a:pt x="12881" y="386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"/>
          <p:cNvSpPr/>
          <p:nvPr/>
        </p:nvSpPr>
        <p:spPr>
          <a:xfrm>
            <a:off x="2286000" y="0"/>
            <a:ext cx="483516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0000"/>
                </a:solidFill>
                <a:latin typeface="Arial"/>
              </a:rPr>
              <a:t>Binomial Theorem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612720" y="914400"/>
            <a:ext cx="32637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now it!  Binomial coefficie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binatorial proof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2379600" y="99216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6609" y="2758"/>
                </a:moveTo>
                <a:lnTo>
                  <a:pt x="6609" y="2758"/>
                </a:ln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5127480" y="3659040"/>
            <a:ext cx="109800" cy="174600"/>
          </a:xfrm>
          <a:custGeom>
            <a:avLst/>
            <a:gdLst/>
            <a:ahLst/>
            <a:rect l="l" t="t" r="r" b="b"/>
            <a:pathLst>
              <a:path w="305" h="483">
                <a:moveTo>
                  <a:pt x="14244" y="10407"/>
                </a:moveTo>
                <a:cubicBezTo>
                  <a:pt x="14249" y="10434"/>
                  <a:pt x="14253" y="10464"/>
                  <a:pt x="14257" y="10492"/>
                </a:cubicBezTo>
                <a:cubicBezTo>
                  <a:pt x="14262" y="10533"/>
                  <a:pt x="14271" y="10572"/>
                  <a:pt x="14281" y="10612"/>
                </a:cubicBezTo>
                <a:cubicBezTo>
                  <a:pt x="14285" y="10631"/>
                  <a:pt x="14285" y="10637"/>
                  <a:pt x="14294" y="10647"/>
                </a:cubicBezTo>
                <a:cubicBezTo>
                  <a:pt x="14303" y="10599"/>
                  <a:pt x="14297" y="10550"/>
                  <a:pt x="14299" y="10502"/>
                </a:cubicBezTo>
                <a:cubicBezTo>
                  <a:pt x="14302" y="10422"/>
                  <a:pt x="14310" y="10339"/>
                  <a:pt x="14329" y="10261"/>
                </a:cubicBezTo>
                <a:cubicBezTo>
                  <a:pt x="14337" y="10227"/>
                  <a:pt x="14348" y="10202"/>
                  <a:pt x="14365" y="10173"/>
                </a:cubicBezTo>
                <a:cubicBezTo>
                  <a:pt x="14399" y="10160"/>
                  <a:pt x="14407" y="10187"/>
                  <a:pt x="14424" y="10217"/>
                </a:cubicBezTo>
                <a:cubicBezTo>
                  <a:pt x="14455" y="10270"/>
                  <a:pt x="14476" y="10327"/>
                  <a:pt x="14497" y="10384"/>
                </a:cubicBezTo>
                <a:cubicBezTo>
                  <a:pt x="14515" y="10434"/>
                  <a:pt x="14535" y="10489"/>
                  <a:pt x="14545" y="10542"/>
                </a:cubicBezTo>
                <a:cubicBezTo>
                  <a:pt x="14549" y="10561"/>
                  <a:pt x="14548" y="10582"/>
                  <a:pt x="14548" y="10601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1846440" y="3843360"/>
            <a:ext cx="579240" cy="379440"/>
          </a:xfrm>
          <a:custGeom>
            <a:avLst/>
            <a:gdLst/>
            <a:ahLst/>
            <a:rect l="l" t="t" r="r" b="b"/>
            <a:pathLst>
              <a:path w="1609" h="1055">
                <a:moveTo>
                  <a:pt x="5501" y="10765"/>
                </a:moveTo>
                <a:cubicBezTo>
                  <a:pt x="5491" y="10729"/>
                  <a:pt x="5509" y="10735"/>
                  <a:pt x="5465" y="10710"/>
                </a:cubicBezTo>
                <a:cubicBezTo>
                  <a:pt x="5420" y="10684"/>
                  <a:pt x="5358" y="10666"/>
                  <a:pt x="5306" y="10678"/>
                </a:cubicBezTo>
                <a:cubicBezTo>
                  <a:pt x="5243" y="10692"/>
                  <a:pt x="5217" y="10758"/>
                  <a:pt x="5198" y="10812"/>
                </a:cubicBezTo>
                <a:cubicBezTo>
                  <a:pt x="5180" y="10863"/>
                  <a:pt x="5164" y="10915"/>
                  <a:pt x="5153" y="10968"/>
                </a:cubicBezTo>
                <a:cubicBezTo>
                  <a:pt x="5138" y="11036"/>
                  <a:pt x="5132" y="11105"/>
                  <a:pt x="5129" y="11175"/>
                </a:cubicBezTo>
                <a:cubicBezTo>
                  <a:pt x="5125" y="11258"/>
                  <a:pt x="5133" y="11343"/>
                  <a:pt x="5145" y="11425"/>
                </a:cubicBezTo>
                <a:cubicBezTo>
                  <a:pt x="5158" y="11512"/>
                  <a:pt x="5176" y="11606"/>
                  <a:pt x="5230" y="11679"/>
                </a:cubicBezTo>
                <a:cubicBezTo>
                  <a:pt x="5255" y="11713"/>
                  <a:pt x="5299" y="11742"/>
                  <a:pt x="5343" y="11726"/>
                </a:cubicBezTo>
                <a:cubicBezTo>
                  <a:pt x="5392" y="11709"/>
                  <a:pt x="5437" y="11656"/>
                  <a:pt x="5461" y="11612"/>
                </a:cubicBezTo>
                <a:cubicBezTo>
                  <a:pt x="5491" y="11556"/>
                  <a:pt x="5507" y="11490"/>
                  <a:pt x="5501" y="11427"/>
                </a:cubicBezTo>
                <a:cubicBezTo>
                  <a:pt x="5496" y="11371"/>
                  <a:pt x="5471" y="11316"/>
                  <a:pt x="5439" y="11270"/>
                </a:cubicBezTo>
                <a:cubicBezTo>
                  <a:pt x="5421" y="11245"/>
                  <a:pt x="5395" y="11213"/>
                  <a:pt x="5364" y="11204"/>
                </a:cubicBezTo>
                <a:cubicBezTo>
                  <a:pt x="5358" y="11205"/>
                  <a:pt x="5352" y="11206"/>
                  <a:pt x="5346" y="11207"/>
                </a:cubicBezTo>
                <a:cubicBezTo>
                  <a:pt x="5371" y="11230"/>
                  <a:pt x="5378" y="11247"/>
                  <a:pt x="5421" y="11258"/>
                </a:cubicBezTo>
                <a:cubicBezTo>
                  <a:pt x="5477" y="11272"/>
                  <a:pt x="5529" y="11261"/>
                  <a:pt x="5583" y="11255"/>
                </a:cubicBezTo>
                <a:cubicBezTo>
                  <a:pt x="5639" y="11249"/>
                  <a:pt x="5691" y="11246"/>
                  <a:pt x="5740" y="11214"/>
                </a:cubicBezTo>
                <a:cubicBezTo>
                  <a:pt x="5747" y="11207"/>
                  <a:pt x="5754" y="11201"/>
                  <a:pt x="5761" y="11194"/>
                </a:cubicBezTo>
              </a:path>
              <a:path w="1609" h="1055">
                <a:moveTo>
                  <a:pt x="5844" y="11129"/>
                </a:moveTo>
                <a:cubicBezTo>
                  <a:pt x="5837" y="11190"/>
                  <a:pt x="5831" y="11249"/>
                  <a:pt x="5829" y="11310"/>
                </a:cubicBezTo>
                <a:cubicBezTo>
                  <a:pt x="5827" y="11358"/>
                  <a:pt x="5829" y="11404"/>
                  <a:pt x="5835" y="11451"/>
                </a:cubicBezTo>
                <a:cubicBezTo>
                  <a:pt x="5838" y="11466"/>
                  <a:pt x="5839" y="11471"/>
                  <a:pt x="5851" y="11475"/>
                </a:cubicBezTo>
              </a:path>
              <a:path w="1609" h="1055">
                <a:moveTo>
                  <a:pt x="5831" y="10988"/>
                </a:moveTo>
                <a:cubicBezTo>
                  <a:pt x="5828" y="10969"/>
                  <a:pt x="5803" y="10889"/>
                  <a:pt x="5821" y="10873"/>
                </a:cubicBezTo>
                <a:cubicBezTo>
                  <a:pt x="5825" y="10875"/>
                  <a:pt x="5830" y="10878"/>
                  <a:pt x="5834" y="10880"/>
                </a:cubicBezTo>
              </a:path>
              <a:path w="1609" h="1055">
                <a:moveTo>
                  <a:pt x="6010" y="11328"/>
                </a:moveTo>
                <a:cubicBezTo>
                  <a:pt x="6027" y="11388"/>
                  <a:pt x="6040" y="11448"/>
                  <a:pt x="6061" y="11507"/>
                </a:cubicBezTo>
                <a:cubicBezTo>
                  <a:pt x="6071" y="11535"/>
                  <a:pt x="6078" y="11543"/>
                  <a:pt x="6101" y="11559"/>
                </a:cubicBezTo>
                <a:cubicBezTo>
                  <a:pt x="6119" y="11525"/>
                  <a:pt x="6124" y="11493"/>
                  <a:pt x="6131" y="11454"/>
                </a:cubicBezTo>
                <a:cubicBezTo>
                  <a:pt x="6140" y="11401"/>
                  <a:pt x="6145" y="11348"/>
                  <a:pt x="6157" y="11296"/>
                </a:cubicBezTo>
                <a:cubicBezTo>
                  <a:pt x="6165" y="11262"/>
                  <a:pt x="6170" y="11228"/>
                  <a:pt x="6178" y="11194"/>
                </a:cubicBezTo>
              </a:path>
              <a:path w="1609" h="1055">
                <a:moveTo>
                  <a:pt x="6324" y="11346"/>
                </a:moveTo>
                <a:cubicBezTo>
                  <a:pt x="6360" y="11361"/>
                  <a:pt x="6365" y="11362"/>
                  <a:pt x="6397" y="11342"/>
                </a:cubicBezTo>
                <a:cubicBezTo>
                  <a:pt x="6436" y="11317"/>
                  <a:pt x="6459" y="11278"/>
                  <a:pt x="6481" y="11237"/>
                </a:cubicBezTo>
                <a:cubicBezTo>
                  <a:pt x="6499" y="11204"/>
                  <a:pt x="6512" y="11174"/>
                  <a:pt x="6515" y="11137"/>
                </a:cubicBezTo>
                <a:cubicBezTo>
                  <a:pt x="6474" y="11157"/>
                  <a:pt x="6459" y="11206"/>
                  <a:pt x="6438" y="11248"/>
                </a:cubicBezTo>
                <a:cubicBezTo>
                  <a:pt x="6406" y="11311"/>
                  <a:pt x="6379" y="11383"/>
                  <a:pt x="6377" y="11455"/>
                </a:cubicBezTo>
                <a:cubicBezTo>
                  <a:pt x="6375" y="11512"/>
                  <a:pt x="6396" y="11550"/>
                  <a:pt x="6451" y="11566"/>
                </a:cubicBezTo>
                <a:cubicBezTo>
                  <a:pt x="6506" y="11582"/>
                  <a:pt x="6570" y="11576"/>
                  <a:pt x="6623" y="11562"/>
                </a:cubicBezTo>
                <a:cubicBezTo>
                  <a:pt x="6666" y="11550"/>
                  <a:pt x="6701" y="11536"/>
                  <a:pt x="6736" y="11509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2600280" y="3867120"/>
            <a:ext cx="704880" cy="308160"/>
          </a:xfrm>
          <a:custGeom>
            <a:avLst/>
            <a:gdLst/>
            <a:ahLst/>
            <a:rect l="l" t="t" r="r" b="b"/>
            <a:pathLst>
              <a:path w="1959" h="856">
                <a:moveTo>
                  <a:pt x="7515" y="11228"/>
                </a:moveTo>
                <a:cubicBezTo>
                  <a:pt x="7522" y="11196"/>
                  <a:pt x="7522" y="11157"/>
                  <a:pt x="7498" y="11129"/>
                </a:cubicBezTo>
                <a:cubicBezTo>
                  <a:pt x="7471" y="11098"/>
                  <a:pt x="7435" y="11129"/>
                  <a:pt x="7413" y="11150"/>
                </a:cubicBezTo>
                <a:cubicBezTo>
                  <a:pt x="7363" y="11198"/>
                  <a:pt x="7324" y="11265"/>
                  <a:pt x="7293" y="11326"/>
                </a:cubicBezTo>
                <a:cubicBezTo>
                  <a:pt x="7263" y="11384"/>
                  <a:pt x="7229" y="11452"/>
                  <a:pt x="7221" y="11518"/>
                </a:cubicBezTo>
                <a:cubicBezTo>
                  <a:pt x="7216" y="11558"/>
                  <a:pt x="7228" y="11594"/>
                  <a:pt x="7272" y="11597"/>
                </a:cubicBezTo>
                <a:cubicBezTo>
                  <a:pt x="7330" y="11601"/>
                  <a:pt x="7383" y="11579"/>
                  <a:pt x="7436" y="11560"/>
                </a:cubicBezTo>
              </a:path>
              <a:path w="1959" h="856">
                <a:moveTo>
                  <a:pt x="7733" y="11254"/>
                </a:moveTo>
                <a:cubicBezTo>
                  <a:pt x="7710" y="11287"/>
                  <a:pt x="7698" y="11322"/>
                  <a:pt x="7685" y="11361"/>
                </a:cubicBezTo>
                <a:cubicBezTo>
                  <a:pt x="7666" y="11420"/>
                  <a:pt x="7643" y="11501"/>
                  <a:pt x="7665" y="11563"/>
                </a:cubicBezTo>
                <a:cubicBezTo>
                  <a:pt x="7678" y="11600"/>
                  <a:pt x="7712" y="11591"/>
                  <a:pt x="7737" y="11575"/>
                </a:cubicBezTo>
                <a:cubicBezTo>
                  <a:pt x="7775" y="11550"/>
                  <a:pt x="7793" y="11504"/>
                  <a:pt x="7806" y="11462"/>
                </a:cubicBezTo>
                <a:cubicBezTo>
                  <a:pt x="7822" y="11410"/>
                  <a:pt x="7817" y="11363"/>
                  <a:pt x="7806" y="11311"/>
                </a:cubicBezTo>
                <a:cubicBezTo>
                  <a:pt x="7800" y="11283"/>
                  <a:pt x="7789" y="11257"/>
                  <a:pt x="7784" y="11229"/>
                </a:cubicBezTo>
              </a:path>
              <a:path w="1959" h="856">
                <a:moveTo>
                  <a:pt x="7958" y="11293"/>
                </a:moveTo>
                <a:cubicBezTo>
                  <a:pt x="7978" y="11334"/>
                  <a:pt x="7994" y="11377"/>
                  <a:pt x="8003" y="11422"/>
                </a:cubicBezTo>
                <a:cubicBezTo>
                  <a:pt x="8007" y="11443"/>
                  <a:pt x="8010" y="11465"/>
                  <a:pt x="8013" y="11486"/>
                </a:cubicBezTo>
                <a:cubicBezTo>
                  <a:pt x="8020" y="11436"/>
                  <a:pt x="8022" y="11387"/>
                  <a:pt x="8033" y="11337"/>
                </a:cubicBezTo>
                <a:cubicBezTo>
                  <a:pt x="8040" y="11307"/>
                  <a:pt x="8047" y="11251"/>
                  <a:pt x="8083" y="11240"/>
                </a:cubicBezTo>
                <a:cubicBezTo>
                  <a:pt x="8114" y="11231"/>
                  <a:pt x="8134" y="11294"/>
                  <a:pt x="8143" y="11313"/>
                </a:cubicBezTo>
                <a:cubicBezTo>
                  <a:pt x="8158" y="11347"/>
                  <a:pt x="8168" y="11381"/>
                  <a:pt x="8180" y="11416"/>
                </a:cubicBezTo>
                <a:cubicBezTo>
                  <a:pt x="8210" y="11404"/>
                  <a:pt x="8215" y="11374"/>
                  <a:pt x="8227" y="11340"/>
                </a:cubicBezTo>
                <a:cubicBezTo>
                  <a:pt x="8240" y="11304"/>
                  <a:pt x="8254" y="11252"/>
                  <a:pt x="8284" y="11225"/>
                </a:cubicBezTo>
                <a:cubicBezTo>
                  <a:pt x="8313" y="11199"/>
                  <a:pt x="8340" y="11236"/>
                  <a:pt x="8353" y="11257"/>
                </a:cubicBezTo>
                <a:cubicBezTo>
                  <a:pt x="8383" y="11306"/>
                  <a:pt x="8398" y="11362"/>
                  <a:pt x="8423" y="11413"/>
                </a:cubicBezTo>
                <a:cubicBezTo>
                  <a:pt x="8439" y="11445"/>
                  <a:pt x="8444" y="11428"/>
                  <a:pt x="8459" y="11408"/>
                </a:cubicBezTo>
              </a:path>
              <a:path w="1959" h="856">
                <a:moveTo>
                  <a:pt x="8565" y="10742"/>
                </a:moveTo>
                <a:cubicBezTo>
                  <a:pt x="8563" y="10801"/>
                  <a:pt x="8572" y="10860"/>
                  <a:pt x="8582" y="10918"/>
                </a:cubicBezTo>
                <a:cubicBezTo>
                  <a:pt x="8601" y="11031"/>
                  <a:pt x="8623" y="11143"/>
                  <a:pt x="8648" y="11254"/>
                </a:cubicBezTo>
                <a:cubicBezTo>
                  <a:pt x="8662" y="11317"/>
                  <a:pt x="8677" y="11380"/>
                  <a:pt x="8693" y="11443"/>
                </a:cubicBezTo>
                <a:cubicBezTo>
                  <a:pt x="8693" y="11387"/>
                  <a:pt x="8687" y="11328"/>
                  <a:pt x="8698" y="11272"/>
                </a:cubicBezTo>
                <a:cubicBezTo>
                  <a:pt x="8704" y="11242"/>
                  <a:pt x="8716" y="11202"/>
                  <a:pt x="8756" y="11220"/>
                </a:cubicBezTo>
                <a:cubicBezTo>
                  <a:pt x="8798" y="11239"/>
                  <a:pt x="8833" y="11288"/>
                  <a:pt x="8857" y="11325"/>
                </a:cubicBezTo>
                <a:cubicBezTo>
                  <a:pt x="8875" y="11352"/>
                  <a:pt x="8904" y="11399"/>
                  <a:pt x="8881" y="11433"/>
                </a:cubicBezTo>
                <a:cubicBezTo>
                  <a:pt x="8864" y="11459"/>
                  <a:pt x="8818" y="11464"/>
                  <a:pt x="8794" y="11449"/>
                </a:cubicBezTo>
                <a:cubicBezTo>
                  <a:pt x="8752" y="11423"/>
                  <a:pt x="8751" y="11367"/>
                  <a:pt x="8746" y="11325"/>
                </a:cubicBezTo>
              </a:path>
              <a:path w="1959" h="856">
                <a:moveTo>
                  <a:pt x="9106" y="11333"/>
                </a:moveTo>
                <a:cubicBezTo>
                  <a:pt x="9151" y="11330"/>
                  <a:pt x="9150" y="11309"/>
                  <a:pt x="9164" y="11267"/>
                </a:cubicBezTo>
                <a:cubicBezTo>
                  <a:pt x="9173" y="11240"/>
                  <a:pt x="9177" y="11230"/>
                  <a:pt x="9179" y="11211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3508200" y="3808440"/>
            <a:ext cx="698760" cy="500040"/>
          </a:xfrm>
          <a:custGeom>
            <a:avLst/>
            <a:gdLst/>
            <a:ahLst/>
            <a:rect l="l" t="t" r="r" b="b"/>
            <a:pathLst>
              <a:path w="1940" h="1389">
                <a:moveTo>
                  <a:pt x="9745" y="11307"/>
                </a:moveTo>
                <a:cubicBezTo>
                  <a:pt x="9753" y="11354"/>
                  <a:pt x="9759" y="11403"/>
                  <a:pt x="9772" y="11449"/>
                </a:cubicBezTo>
                <a:cubicBezTo>
                  <a:pt x="9800" y="11548"/>
                  <a:pt x="9825" y="11647"/>
                  <a:pt x="9847" y="11748"/>
                </a:cubicBezTo>
                <a:cubicBezTo>
                  <a:pt x="9860" y="11808"/>
                  <a:pt x="9888" y="11893"/>
                  <a:pt x="9869" y="11955"/>
                </a:cubicBezTo>
                <a:cubicBezTo>
                  <a:pt x="9866" y="11959"/>
                  <a:pt x="9862" y="11964"/>
                  <a:pt x="9859" y="11968"/>
                </a:cubicBezTo>
                <a:cubicBezTo>
                  <a:pt x="9825" y="11937"/>
                  <a:pt x="9812" y="11918"/>
                  <a:pt x="9800" y="11864"/>
                </a:cubicBezTo>
                <a:cubicBezTo>
                  <a:pt x="9746" y="11626"/>
                  <a:pt x="9751" y="11343"/>
                  <a:pt x="9788" y="11103"/>
                </a:cubicBezTo>
                <a:cubicBezTo>
                  <a:pt x="9795" y="11054"/>
                  <a:pt x="9802" y="11034"/>
                  <a:pt x="9833" y="11002"/>
                </a:cubicBezTo>
                <a:cubicBezTo>
                  <a:pt x="9886" y="11022"/>
                  <a:pt x="9910" y="11064"/>
                  <a:pt x="9935" y="11117"/>
                </a:cubicBezTo>
                <a:cubicBezTo>
                  <a:pt x="9978" y="11209"/>
                  <a:pt x="10000" y="11320"/>
                  <a:pt x="9974" y="11419"/>
                </a:cubicBezTo>
                <a:cubicBezTo>
                  <a:pt x="9959" y="11474"/>
                  <a:pt x="9936" y="11490"/>
                  <a:pt x="9886" y="11504"/>
                </a:cubicBezTo>
                <a:cubicBezTo>
                  <a:pt x="9843" y="11468"/>
                  <a:pt x="9830" y="11439"/>
                  <a:pt x="9829" y="11380"/>
                </a:cubicBezTo>
                <a:cubicBezTo>
                  <a:pt x="9830" y="11364"/>
                  <a:pt x="9831" y="11349"/>
                  <a:pt x="9832" y="11333"/>
                </a:cubicBezTo>
              </a:path>
              <a:path w="1940" h="1389">
                <a:moveTo>
                  <a:pt x="10072" y="11220"/>
                </a:moveTo>
                <a:cubicBezTo>
                  <a:pt x="10107" y="11283"/>
                  <a:pt x="10140" y="11348"/>
                  <a:pt x="10175" y="11411"/>
                </a:cubicBezTo>
                <a:cubicBezTo>
                  <a:pt x="10202" y="11461"/>
                  <a:pt x="10226" y="11523"/>
                  <a:pt x="10264" y="11566"/>
                </a:cubicBezTo>
                <a:cubicBezTo>
                  <a:pt x="10269" y="11570"/>
                  <a:pt x="10275" y="11574"/>
                  <a:pt x="10280" y="11578"/>
                </a:cubicBezTo>
                <a:cubicBezTo>
                  <a:pt x="10274" y="11542"/>
                  <a:pt x="10267" y="11507"/>
                  <a:pt x="10263" y="11471"/>
                </a:cubicBezTo>
                <a:cubicBezTo>
                  <a:pt x="10256" y="11410"/>
                  <a:pt x="10251" y="11340"/>
                  <a:pt x="10264" y="11279"/>
                </a:cubicBezTo>
                <a:cubicBezTo>
                  <a:pt x="10276" y="11222"/>
                  <a:pt x="10299" y="11186"/>
                  <a:pt x="10337" y="11144"/>
                </a:cubicBezTo>
                <a:cubicBezTo>
                  <a:pt x="10357" y="11121"/>
                  <a:pt x="10364" y="11113"/>
                  <a:pt x="10384" y="11106"/>
                </a:cubicBezTo>
              </a:path>
              <a:path w="1940" h="1389">
                <a:moveTo>
                  <a:pt x="10554" y="11064"/>
                </a:moveTo>
                <a:cubicBezTo>
                  <a:pt x="10555" y="11105"/>
                  <a:pt x="10549" y="11150"/>
                  <a:pt x="10543" y="11191"/>
                </a:cubicBezTo>
                <a:cubicBezTo>
                  <a:pt x="10532" y="11259"/>
                  <a:pt x="10523" y="11324"/>
                  <a:pt x="10519" y="11393"/>
                </a:cubicBezTo>
                <a:cubicBezTo>
                  <a:pt x="10518" y="11418"/>
                  <a:pt x="10504" y="11497"/>
                  <a:pt x="10547" y="11504"/>
                </a:cubicBezTo>
                <a:cubicBezTo>
                  <a:pt x="10586" y="11511"/>
                  <a:pt x="10635" y="11457"/>
                  <a:pt x="10658" y="11434"/>
                </a:cubicBezTo>
                <a:cubicBezTo>
                  <a:pt x="10698" y="11394"/>
                  <a:pt x="10734" y="11349"/>
                  <a:pt x="10755" y="11296"/>
                </a:cubicBezTo>
                <a:cubicBezTo>
                  <a:pt x="10772" y="11251"/>
                  <a:pt x="10758" y="11208"/>
                  <a:pt x="10731" y="11170"/>
                </a:cubicBezTo>
                <a:cubicBezTo>
                  <a:pt x="10720" y="11154"/>
                  <a:pt x="10703" y="11143"/>
                  <a:pt x="10687" y="11132"/>
                </a:cubicBezTo>
              </a:path>
              <a:path w="1940" h="1389">
                <a:moveTo>
                  <a:pt x="10923" y="11070"/>
                </a:moveTo>
                <a:cubicBezTo>
                  <a:pt x="10961" y="11103"/>
                  <a:pt x="10944" y="11126"/>
                  <a:pt x="10943" y="11173"/>
                </a:cubicBezTo>
                <a:cubicBezTo>
                  <a:pt x="10942" y="11239"/>
                  <a:pt x="10931" y="11303"/>
                  <a:pt x="10931" y="11370"/>
                </a:cubicBezTo>
                <a:cubicBezTo>
                  <a:pt x="10931" y="11407"/>
                  <a:pt x="10927" y="11466"/>
                  <a:pt x="10963" y="11490"/>
                </a:cubicBezTo>
                <a:cubicBezTo>
                  <a:pt x="10994" y="11511"/>
                  <a:pt x="11036" y="11490"/>
                  <a:pt x="11064" y="11474"/>
                </a:cubicBezTo>
                <a:cubicBezTo>
                  <a:pt x="11119" y="11442"/>
                  <a:pt x="11161" y="11385"/>
                  <a:pt x="11158" y="11319"/>
                </a:cubicBezTo>
                <a:cubicBezTo>
                  <a:pt x="11156" y="11269"/>
                  <a:pt x="11137" y="11212"/>
                  <a:pt x="11118" y="11166"/>
                </a:cubicBezTo>
                <a:cubicBezTo>
                  <a:pt x="11106" y="11137"/>
                  <a:pt x="11089" y="11116"/>
                  <a:pt x="11068" y="11094"/>
                </a:cubicBezTo>
              </a:path>
              <a:path w="1940" h="1389">
                <a:moveTo>
                  <a:pt x="11328" y="11600"/>
                </a:moveTo>
                <a:cubicBezTo>
                  <a:pt x="11349" y="11618"/>
                  <a:pt x="11352" y="11624"/>
                  <a:pt x="11370" y="11625"/>
                </a:cubicBezTo>
                <a:cubicBezTo>
                  <a:pt x="11391" y="11603"/>
                  <a:pt x="11410" y="11589"/>
                  <a:pt x="11410" y="11553"/>
                </a:cubicBezTo>
                <a:cubicBezTo>
                  <a:pt x="11411" y="11481"/>
                  <a:pt x="11400" y="11402"/>
                  <a:pt x="11388" y="11331"/>
                </a:cubicBezTo>
                <a:cubicBezTo>
                  <a:pt x="11356" y="11139"/>
                  <a:pt x="11297" y="10942"/>
                  <a:pt x="11314" y="10745"/>
                </a:cubicBezTo>
                <a:cubicBezTo>
                  <a:pt x="11318" y="10693"/>
                  <a:pt x="11334" y="10640"/>
                  <a:pt x="11370" y="10600"/>
                </a:cubicBezTo>
                <a:cubicBezTo>
                  <a:pt x="11402" y="10564"/>
                  <a:pt x="11433" y="10587"/>
                  <a:pt x="11458" y="10619"/>
                </a:cubicBezTo>
                <a:cubicBezTo>
                  <a:pt x="11505" y="10679"/>
                  <a:pt x="11529" y="10757"/>
                  <a:pt x="11545" y="10830"/>
                </a:cubicBezTo>
                <a:cubicBezTo>
                  <a:pt x="11558" y="10892"/>
                  <a:pt x="11559" y="10941"/>
                  <a:pt x="11552" y="11002"/>
                </a:cubicBezTo>
              </a:path>
              <a:path w="1940" h="1389">
                <a:moveTo>
                  <a:pt x="11185" y="11231"/>
                </a:moveTo>
                <a:cubicBezTo>
                  <a:pt x="11219" y="11209"/>
                  <a:pt x="11268" y="11179"/>
                  <a:pt x="11306" y="11167"/>
                </a:cubicBezTo>
                <a:cubicBezTo>
                  <a:pt x="11380" y="11144"/>
                  <a:pt x="11455" y="11137"/>
                  <a:pt x="11530" y="11128"/>
                </a:cubicBezTo>
                <a:cubicBezTo>
                  <a:pt x="11578" y="11122"/>
                  <a:pt x="11622" y="11117"/>
                  <a:pt x="11671" y="11119"/>
                </a:cubicBezTo>
                <a:cubicBezTo>
                  <a:pt x="11675" y="11119"/>
                  <a:pt x="11680" y="11120"/>
                  <a:pt x="11684" y="11120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4354560" y="3792600"/>
            <a:ext cx="247680" cy="365040"/>
          </a:xfrm>
          <a:custGeom>
            <a:avLst/>
            <a:gdLst/>
            <a:ahLst/>
            <a:rect l="l" t="t" r="r" b="b"/>
            <a:pathLst>
              <a:path w="687" h="1015">
                <a:moveTo>
                  <a:pt x="12295" y="11046"/>
                </a:moveTo>
                <a:cubicBezTo>
                  <a:pt x="12248" y="11096"/>
                  <a:pt x="12222" y="11142"/>
                  <a:pt x="12188" y="11202"/>
                </a:cubicBezTo>
                <a:cubicBezTo>
                  <a:pt x="12146" y="11277"/>
                  <a:pt x="12107" y="11355"/>
                  <a:pt x="12097" y="11442"/>
                </a:cubicBezTo>
                <a:cubicBezTo>
                  <a:pt x="12091" y="11492"/>
                  <a:pt x="12104" y="11548"/>
                  <a:pt x="12165" y="11548"/>
                </a:cubicBezTo>
                <a:cubicBezTo>
                  <a:pt x="12222" y="11548"/>
                  <a:pt x="12282" y="11505"/>
                  <a:pt x="12319" y="11465"/>
                </a:cubicBezTo>
                <a:cubicBezTo>
                  <a:pt x="12362" y="11419"/>
                  <a:pt x="12382" y="11368"/>
                  <a:pt x="12387" y="11307"/>
                </a:cubicBezTo>
                <a:cubicBezTo>
                  <a:pt x="12390" y="11268"/>
                  <a:pt x="12378" y="11221"/>
                  <a:pt x="12363" y="11185"/>
                </a:cubicBezTo>
                <a:cubicBezTo>
                  <a:pt x="12360" y="11179"/>
                  <a:pt x="12356" y="11172"/>
                  <a:pt x="12353" y="11166"/>
                </a:cubicBezTo>
              </a:path>
              <a:path w="687" h="1015">
                <a:moveTo>
                  <a:pt x="12565" y="11490"/>
                </a:moveTo>
                <a:cubicBezTo>
                  <a:pt x="12579" y="11510"/>
                  <a:pt x="12588" y="11513"/>
                  <a:pt x="12605" y="11525"/>
                </a:cubicBezTo>
                <a:cubicBezTo>
                  <a:pt x="12598" y="11477"/>
                  <a:pt x="12595" y="11429"/>
                  <a:pt x="12589" y="11380"/>
                </a:cubicBezTo>
                <a:cubicBezTo>
                  <a:pt x="12560" y="11146"/>
                  <a:pt x="12504" y="10888"/>
                  <a:pt x="12538" y="10653"/>
                </a:cubicBezTo>
                <a:cubicBezTo>
                  <a:pt x="12544" y="10609"/>
                  <a:pt x="12557" y="10557"/>
                  <a:pt x="12602" y="10539"/>
                </a:cubicBezTo>
                <a:cubicBezTo>
                  <a:pt x="12643" y="10522"/>
                  <a:pt x="12695" y="10554"/>
                  <a:pt x="12724" y="10580"/>
                </a:cubicBezTo>
                <a:cubicBezTo>
                  <a:pt x="12771" y="10622"/>
                  <a:pt x="12778" y="10668"/>
                  <a:pt x="12781" y="10727"/>
                </a:cubicBezTo>
              </a:path>
              <a:path w="687" h="1015">
                <a:moveTo>
                  <a:pt x="12341" y="11263"/>
                </a:moveTo>
                <a:cubicBezTo>
                  <a:pt x="12383" y="11284"/>
                  <a:pt x="12407" y="11267"/>
                  <a:pt x="12452" y="11263"/>
                </a:cubicBezTo>
                <a:cubicBezTo>
                  <a:pt x="12517" y="11257"/>
                  <a:pt x="12588" y="11258"/>
                  <a:pt x="12653" y="11246"/>
                </a:cubicBezTo>
                <a:cubicBezTo>
                  <a:pt x="12690" y="11239"/>
                  <a:pt x="12728" y="11229"/>
                  <a:pt x="12765" y="11222"/>
                </a:cubicBezTo>
                <a:cubicBezTo>
                  <a:pt x="12770" y="11221"/>
                  <a:pt x="12775" y="11220"/>
                  <a:pt x="12780" y="11219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5029200" y="3906720"/>
            <a:ext cx="357120" cy="816120"/>
          </a:xfrm>
          <a:custGeom>
            <a:avLst/>
            <a:gdLst/>
            <a:ahLst/>
            <a:rect l="l" t="t" r="r" b="b"/>
            <a:pathLst>
              <a:path w="992" h="2267">
                <a:moveTo>
                  <a:pt x="14824" y="10898"/>
                </a:moveTo>
                <a:cubicBezTo>
                  <a:pt x="14791" y="10883"/>
                  <a:pt x="14766" y="10870"/>
                  <a:pt x="14725" y="10865"/>
                </a:cubicBezTo>
                <a:cubicBezTo>
                  <a:pt x="14544" y="10841"/>
                  <a:pt x="14351" y="10844"/>
                  <a:pt x="14170" y="10854"/>
                </a:cubicBezTo>
                <a:cubicBezTo>
                  <a:pt x="14095" y="10858"/>
                  <a:pt x="14020" y="10859"/>
                  <a:pt x="13971" y="10897"/>
                </a:cubicBezTo>
                <a:cubicBezTo>
                  <a:pt x="14026" y="10940"/>
                  <a:pt x="14089" y="10973"/>
                  <a:pt x="14140" y="11021"/>
                </a:cubicBezTo>
                <a:cubicBezTo>
                  <a:pt x="14183" y="11061"/>
                  <a:pt x="14212" y="11107"/>
                  <a:pt x="14228" y="11163"/>
                </a:cubicBezTo>
                <a:cubicBezTo>
                  <a:pt x="14248" y="11232"/>
                  <a:pt x="14248" y="11311"/>
                  <a:pt x="14234" y="11381"/>
                </a:cubicBezTo>
                <a:cubicBezTo>
                  <a:pt x="14218" y="11464"/>
                  <a:pt x="14190" y="11544"/>
                  <a:pt x="14157" y="11622"/>
                </a:cubicBezTo>
                <a:cubicBezTo>
                  <a:pt x="14119" y="11712"/>
                  <a:pt x="14059" y="11799"/>
                  <a:pt x="14040" y="11896"/>
                </a:cubicBezTo>
                <a:cubicBezTo>
                  <a:pt x="14030" y="11948"/>
                  <a:pt x="14028" y="12028"/>
                  <a:pt x="14072" y="12067"/>
                </a:cubicBezTo>
                <a:cubicBezTo>
                  <a:pt x="14107" y="12098"/>
                  <a:pt x="14165" y="12091"/>
                  <a:pt x="14208" y="12091"/>
                </a:cubicBezTo>
                <a:cubicBezTo>
                  <a:pt x="14267" y="12091"/>
                  <a:pt x="14327" y="12088"/>
                  <a:pt x="14385" y="12084"/>
                </a:cubicBezTo>
                <a:cubicBezTo>
                  <a:pt x="14527" y="12075"/>
                  <a:pt x="14777" y="12043"/>
                  <a:pt x="14867" y="12044"/>
                </a:cubicBezTo>
                <a:cubicBezTo>
                  <a:pt x="14828" y="12037"/>
                  <a:pt x="14805" y="12032"/>
                  <a:pt x="14770" y="12011"/>
                </a:cubicBezTo>
                <a:cubicBezTo>
                  <a:pt x="14743" y="11995"/>
                  <a:pt x="14717" y="11976"/>
                  <a:pt x="14699" y="11950"/>
                </a:cubicBezTo>
                <a:cubicBezTo>
                  <a:pt x="14680" y="11922"/>
                  <a:pt x="14676" y="11892"/>
                  <a:pt x="14672" y="11859"/>
                </a:cubicBezTo>
                <a:cubicBezTo>
                  <a:pt x="14668" y="11824"/>
                  <a:pt x="14673" y="11783"/>
                  <a:pt x="14672" y="11747"/>
                </a:cubicBezTo>
              </a:path>
              <a:path w="992" h="2267">
                <a:moveTo>
                  <a:pt x="14767" y="11052"/>
                </a:moveTo>
                <a:cubicBezTo>
                  <a:pt x="14784" y="11109"/>
                  <a:pt x="14773" y="11146"/>
                  <a:pt x="14770" y="11204"/>
                </a:cubicBezTo>
                <a:cubicBezTo>
                  <a:pt x="14767" y="11266"/>
                  <a:pt x="14765" y="11331"/>
                  <a:pt x="14755" y="11392"/>
                </a:cubicBezTo>
                <a:cubicBezTo>
                  <a:pt x="14752" y="11403"/>
                  <a:pt x="14749" y="11413"/>
                  <a:pt x="14746" y="11424"/>
                </a:cubicBezTo>
              </a:path>
              <a:path w="992" h="2267">
                <a:moveTo>
                  <a:pt x="14100" y="12688"/>
                </a:moveTo>
                <a:cubicBezTo>
                  <a:pt x="14120" y="12731"/>
                  <a:pt x="14128" y="12777"/>
                  <a:pt x="14134" y="12824"/>
                </a:cubicBezTo>
                <a:cubicBezTo>
                  <a:pt x="14141" y="12880"/>
                  <a:pt x="14146" y="12935"/>
                  <a:pt x="14153" y="12991"/>
                </a:cubicBezTo>
                <a:cubicBezTo>
                  <a:pt x="14157" y="13014"/>
                  <a:pt x="14159" y="13026"/>
                  <a:pt x="14153" y="12999"/>
                </a:cubicBezTo>
              </a:path>
              <a:path w="992" h="2267">
                <a:moveTo>
                  <a:pt x="14063" y="12527"/>
                </a:moveTo>
                <a:cubicBezTo>
                  <a:pt x="14069" y="12496"/>
                  <a:pt x="14061" y="12476"/>
                  <a:pt x="14090" y="12462"/>
                </a:cubicBezTo>
                <a:cubicBezTo>
                  <a:pt x="14115" y="12450"/>
                  <a:pt x="14134" y="12451"/>
                  <a:pt x="14161" y="12450"/>
                </a:cubicBezTo>
              </a:path>
              <a:path w="992" h="2267">
                <a:moveTo>
                  <a:pt x="14318" y="12753"/>
                </a:moveTo>
                <a:cubicBezTo>
                  <a:pt x="14313" y="12759"/>
                  <a:pt x="14308" y="12764"/>
                  <a:pt x="14303" y="12770"/>
                </a:cubicBezTo>
                <a:cubicBezTo>
                  <a:pt x="14326" y="12759"/>
                  <a:pt x="14351" y="12751"/>
                  <a:pt x="14372" y="12735"/>
                </a:cubicBezTo>
                <a:cubicBezTo>
                  <a:pt x="14379" y="12728"/>
                  <a:pt x="14386" y="12722"/>
                  <a:pt x="14393" y="12715"/>
                </a:cubicBezTo>
              </a:path>
              <a:path w="992" h="2267">
                <a:moveTo>
                  <a:pt x="14343" y="13073"/>
                </a:moveTo>
                <a:cubicBezTo>
                  <a:pt x="14332" y="13088"/>
                  <a:pt x="14328" y="13094"/>
                  <a:pt x="14326" y="13107"/>
                </a:cubicBezTo>
                <a:cubicBezTo>
                  <a:pt x="14362" y="13119"/>
                  <a:pt x="14384" y="13113"/>
                  <a:pt x="14422" y="13108"/>
                </a:cubicBezTo>
                <a:cubicBezTo>
                  <a:pt x="14467" y="13102"/>
                  <a:pt x="14525" y="13083"/>
                  <a:pt x="14564" y="13058"/>
                </a:cubicBezTo>
                <a:cubicBezTo>
                  <a:pt x="14589" y="13035"/>
                  <a:pt x="14597" y="13028"/>
                  <a:pt x="14614" y="13014"/>
                </a:cubicBezTo>
              </a:path>
              <a:path w="992" h="2267">
                <a:moveTo>
                  <a:pt x="14804" y="12780"/>
                </a:moveTo>
                <a:cubicBezTo>
                  <a:pt x="14806" y="12774"/>
                  <a:pt x="14808" y="12768"/>
                  <a:pt x="14810" y="12762"/>
                </a:cubicBezTo>
                <a:cubicBezTo>
                  <a:pt x="14779" y="12774"/>
                  <a:pt x="14771" y="12807"/>
                  <a:pt x="14759" y="12838"/>
                </a:cubicBezTo>
                <a:cubicBezTo>
                  <a:pt x="14740" y="12889"/>
                  <a:pt x="14726" y="12948"/>
                  <a:pt x="14730" y="13002"/>
                </a:cubicBezTo>
                <a:cubicBezTo>
                  <a:pt x="14733" y="13047"/>
                  <a:pt x="14754" y="13073"/>
                  <a:pt x="14800" y="13064"/>
                </a:cubicBezTo>
                <a:cubicBezTo>
                  <a:pt x="14846" y="13055"/>
                  <a:pt x="14889" y="13019"/>
                  <a:pt x="14918" y="12984"/>
                </a:cubicBezTo>
                <a:cubicBezTo>
                  <a:pt x="14944" y="12953"/>
                  <a:pt x="14966" y="12914"/>
                  <a:pt x="14961" y="12873"/>
                </a:cubicBezTo>
                <a:cubicBezTo>
                  <a:pt x="14956" y="12832"/>
                  <a:pt x="14916" y="12820"/>
                  <a:pt x="14885" y="12803"/>
                </a:cubicBezTo>
                <a:cubicBezTo>
                  <a:pt x="14867" y="12793"/>
                  <a:pt x="14851" y="12780"/>
                  <a:pt x="14834" y="12768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5624640" y="3903840"/>
            <a:ext cx="528480" cy="529920"/>
          </a:xfrm>
          <a:custGeom>
            <a:avLst/>
            <a:gdLst/>
            <a:ahLst/>
            <a:rect l="l" t="t" r="r" b="b"/>
            <a:pathLst>
              <a:path w="1468" h="1471">
                <a:moveTo>
                  <a:pt x="15790" y="10847"/>
                </a:moveTo>
                <a:cubicBezTo>
                  <a:pt x="15777" y="10863"/>
                  <a:pt x="15762" y="10879"/>
                  <a:pt x="15749" y="10917"/>
                </a:cubicBezTo>
                <a:cubicBezTo>
                  <a:pt x="15718" y="11011"/>
                  <a:pt x="15698" y="11107"/>
                  <a:pt x="15679" y="11204"/>
                </a:cubicBezTo>
                <a:cubicBezTo>
                  <a:pt x="15650" y="11350"/>
                  <a:pt x="15628" y="11499"/>
                  <a:pt x="15622" y="11648"/>
                </a:cubicBezTo>
                <a:cubicBezTo>
                  <a:pt x="15614" y="11860"/>
                  <a:pt x="15647" y="12096"/>
                  <a:pt x="15787" y="12264"/>
                </a:cubicBezTo>
                <a:cubicBezTo>
                  <a:pt x="15813" y="12295"/>
                  <a:pt x="15869" y="12339"/>
                  <a:pt x="15903" y="12295"/>
                </a:cubicBezTo>
                <a:cubicBezTo>
                  <a:pt x="15908" y="12285"/>
                  <a:pt x="15912" y="12274"/>
                  <a:pt x="15917" y="12264"/>
                </a:cubicBezTo>
              </a:path>
              <a:path w="1468" h="1471">
                <a:moveTo>
                  <a:pt x="16136" y="10959"/>
                </a:moveTo>
                <a:cubicBezTo>
                  <a:pt x="16139" y="10950"/>
                  <a:pt x="16142" y="10942"/>
                  <a:pt x="16145" y="10933"/>
                </a:cubicBezTo>
                <a:cubicBezTo>
                  <a:pt x="16171" y="10958"/>
                  <a:pt x="16173" y="10984"/>
                  <a:pt x="16180" y="11021"/>
                </a:cubicBezTo>
                <a:cubicBezTo>
                  <a:pt x="16198" y="11121"/>
                  <a:pt x="16201" y="11223"/>
                  <a:pt x="16217" y="11323"/>
                </a:cubicBezTo>
                <a:cubicBezTo>
                  <a:pt x="16218" y="11329"/>
                  <a:pt x="16220" y="11334"/>
                  <a:pt x="16221" y="11340"/>
                </a:cubicBezTo>
                <a:cubicBezTo>
                  <a:pt x="16239" y="11297"/>
                  <a:pt x="16244" y="11254"/>
                  <a:pt x="16253" y="11208"/>
                </a:cubicBezTo>
                <a:cubicBezTo>
                  <a:pt x="16270" y="11123"/>
                  <a:pt x="16284" y="11031"/>
                  <a:pt x="16317" y="10950"/>
                </a:cubicBezTo>
                <a:cubicBezTo>
                  <a:pt x="16320" y="10944"/>
                  <a:pt x="16324" y="10938"/>
                  <a:pt x="16327" y="10932"/>
                </a:cubicBezTo>
                <a:cubicBezTo>
                  <a:pt x="16366" y="10945"/>
                  <a:pt x="16363" y="10981"/>
                  <a:pt x="16375" y="11023"/>
                </a:cubicBezTo>
                <a:cubicBezTo>
                  <a:pt x="16394" y="11093"/>
                  <a:pt x="16418" y="11165"/>
                  <a:pt x="16431" y="11237"/>
                </a:cubicBezTo>
                <a:cubicBezTo>
                  <a:pt x="16442" y="11294"/>
                  <a:pt x="16451" y="11349"/>
                  <a:pt x="16469" y="11405"/>
                </a:cubicBezTo>
              </a:path>
              <a:path w="1468" h="1471">
                <a:moveTo>
                  <a:pt x="16378" y="11862"/>
                </a:moveTo>
                <a:cubicBezTo>
                  <a:pt x="16386" y="11902"/>
                  <a:pt x="16377" y="11927"/>
                  <a:pt x="16372" y="11965"/>
                </a:cubicBezTo>
                <a:cubicBezTo>
                  <a:pt x="16366" y="12013"/>
                  <a:pt x="16361" y="12067"/>
                  <a:pt x="16365" y="12116"/>
                </a:cubicBezTo>
                <a:cubicBezTo>
                  <a:pt x="16369" y="12161"/>
                  <a:pt x="16381" y="12205"/>
                  <a:pt x="16405" y="12243"/>
                </a:cubicBezTo>
                <a:cubicBezTo>
                  <a:pt x="16417" y="12262"/>
                  <a:pt x="16455" y="12312"/>
                  <a:pt x="16473" y="12270"/>
                </a:cubicBezTo>
                <a:cubicBezTo>
                  <a:pt x="16474" y="12262"/>
                  <a:pt x="16475" y="12253"/>
                  <a:pt x="16476" y="12245"/>
                </a:cubicBezTo>
              </a:path>
              <a:path w="1468" h="1471">
                <a:moveTo>
                  <a:pt x="16364" y="11732"/>
                </a:moveTo>
                <a:cubicBezTo>
                  <a:pt x="16350" y="11707"/>
                  <a:pt x="16346" y="11686"/>
                  <a:pt x="16338" y="11660"/>
                </a:cubicBezTo>
                <a:cubicBezTo>
                  <a:pt x="16336" y="11655"/>
                  <a:pt x="16333" y="11649"/>
                  <a:pt x="16331" y="11644"/>
                </a:cubicBezTo>
              </a:path>
              <a:path w="1468" h="1471">
                <a:moveTo>
                  <a:pt x="16786" y="10962"/>
                </a:moveTo>
                <a:cubicBezTo>
                  <a:pt x="16789" y="10954"/>
                  <a:pt x="16792" y="10946"/>
                  <a:pt x="16795" y="10938"/>
                </a:cubicBezTo>
                <a:cubicBezTo>
                  <a:pt x="16829" y="10980"/>
                  <a:pt x="16842" y="11014"/>
                  <a:pt x="16862" y="11068"/>
                </a:cubicBezTo>
                <a:cubicBezTo>
                  <a:pt x="16911" y="11198"/>
                  <a:pt x="16952" y="11331"/>
                  <a:pt x="16987" y="11466"/>
                </a:cubicBezTo>
                <a:cubicBezTo>
                  <a:pt x="17036" y="11657"/>
                  <a:pt x="17070" y="11850"/>
                  <a:pt x="17084" y="12047"/>
                </a:cubicBezTo>
                <a:cubicBezTo>
                  <a:pt x="17089" y="12123"/>
                  <a:pt x="17093" y="12196"/>
                  <a:pt x="17072" y="12269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6370560" y="4148280"/>
            <a:ext cx="155520" cy="136440"/>
          </a:xfrm>
          <a:custGeom>
            <a:avLst/>
            <a:gdLst/>
            <a:ahLst/>
            <a:rect l="l" t="t" r="r" b="b"/>
            <a:pathLst>
              <a:path w="433" h="377">
                <a:moveTo>
                  <a:pt x="17695" y="11528"/>
                </a:moveTo>
                <a:cubicBezTo>
                  <a:pt x="17732" y="11545"/>
                  <a:pt x="17770" y="11546"/>
                  <a:pt x="17812" y="11548"/>
                </a:cubicBezTo>
                <a:cubicBezTo>
                  <a:pt x="17870" y="11550"/>
                  <a:pt x="17924" y="11548"/>
                  <a:pt x="17980" y="11537"/>
                </a:cubicBezTo>
                <a:cubicBezTo>
                  <a:pt x="18008" y="11532"/>
                  <a:pt x="18035" y="11528"/>
                  <a:pt x="18063" y="11524"/>
                </a:cubicBezTo>
              </a:path>
              <a:path w="433" h="377">
                <a:moveTo>
                  <a:pt x="17769" y="11888"/>
                </a:moveTo>
                <a:cubicBezTo>
                  <a:pt x="17813" y="11907"/>
                  <a:pt x="17827" y="11890"/>
                  <a:pt x="17870" y="11874"/>
                </a:cubicBezTo>
                <a:cubicBezTo>
                  <a:pt x="17928" y="11853"/>
                  <a:pt x="17980" y="11831"/>
                  <a:pt x="18036" y="11805"/>
                </a:cubicBezTo>
                <a:cubicBezTo>
                  <a:pt x="18068" y="11790"/>
                  <a:pt x="18096" y="11775"/>
                  <a:pt x="18127" y="11759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6708600" y="3921120"/>
            <a:ext cx="446400" cy="412920"/>
          </a:xfrm>
          <a:custGeom>
            <a:avLst/>
            <a:gdLst/>
            <a:ahLst/>
            <a:rect l="l" t="t" r="r" b="b"/>
            <a:pathLst>
              <a:path w="1238" h="1146">
                <a:moveTo>
                  <a:pt x="18663" y="11248"/>
                </a:moveTo>
                <a:cubicBezTo>
                  <a:pt x="18660" y="11245"/>
                  <a:pt x="18634" y="11253"/>
                  <a:pt x="18642" y="11205"/>
                </a:cubicBezTo>
                <a:cubicBezTo>
                  <a:pt x="18647" y="11175"/>
                  <a:pt x="18664" y="11138"/>
                  <a:pt x="18681" y="11114"/>
                </a:cubicBezTo>
                <a:cubicBezTo>
                  <a:pt x="18716" y="11065"/>
                  <a:pt x="18784" y="11007"/>
                  <a:pt x="18847" y="11006"/>
                </a:cubicBezTo>
                <a:cubicBezTo>
                  <a:pt x="18906" y="11005"/>
                  <a:pt x="18951" y="11052"/>
                  <a:pt x="18982" y="11097"/>
                </a:cubicBezTo>
                <a:cubicBezTo>
                  <a:pt x="19075" y="11233"/>
                  <a:pt x="19126" y="11411"/>
                  <a:pt x="19135" y="11574"/>
                </a:cubicBezTo>
                <a:cubicBezTo>
                  <a:pt x="19143" y="11719"/>
                  <a:pt x="19119" y="11898"/>
                  <a:pt x="18999" y="11996"/>
                </a:cubicBezTo>
                <a:cubicBezTo>
                  <a:pt x="18956" y="12031"/>
                  <a:pt x="18891" y="12054"/>
                  <a:pt x="18839" y="12025"/>
                </a:cubicBezTo>
                <a:cubicBezTo>
                  <a:pt x="18792" y="11999"/>
                  <a:pt x="18762" y="11937"/>
                  <a:pt x="18755" y="11886"/>
                </a:cubicBezTo>
                <a:cubicBezTo>
                  <a:pt x="18743" y="11804"/>
                  <a:pt x="18789" y="11719"/>
                  <a:pt x="18874" y="11704"/>
                </a:cubicBezTo>
                <a:cubicBezTo>
                  <a:pt x="18985" y="11685"/>
                  <a:pt x="19105" y="11765"/>
                  <a:pt x="19189" y="11826"/>
                </a:cubicBezTo>
                <a:cubicBezTo>
                  <a:pt x="19220" y="11848"/>
                  <a:pt x="19289" y="11928"/>
                  <a:pt x="19326" y="11934"/>
                </a:cubicBezTo>
                <a:cubicBezTo>
                  <a:pt x="19359" y="11939"/>
                  <a:pt x="19345" y="11910"/>
                  <a:pt x="19344" y="11886"/>
                </a:cubicBezTo>
              </a:path>
              <a:path w="1238" h="1146">
                <a:moveTo>
                  <a:pt x="19414" y="10895"/>
                </a:moveTo>
                <a:cubicBezTo>
                  <a:pt x="19443" y="10931"/>
                  <a:pt x="19446" y="10961"/>
                  <a:pt x="19457" y="11008"/>
                </a:cubicBezTo>
                <a:cubicBezTo>
                  <a:pt x="19474" y="11083"/>
                  <a:pt x="19491" y="11158"/>
                  <a:pt x="19495" y="11235"/>
                </a:cubicBezTo>
                <a:cubicBezTo>
                  <a:pt x="19495" y="11262"/>
                  <a:pt x="19495" y="11270"/>
                  <a:pt x="19495" y="11287"/>
                </a:cubicBezTo>
                <a:cubicBezTo>
                  <a:pt x="19501" y="11211"/>
                  <a:pt x="19514" y="11136"/>
                  <a:pt x="19532" y="11062"/>
                </a:cubicBezTo>
                <a:cubicBezTo>
                  <a:pt x="19542" y="11019"/>
                  <a:pt x="19561" y="10911"/>
                  <a:pt x="19613" y="10892"/>
                </a:cubicBezTo>
                <a:cubicBezTo>
                  <a:pt x="19656" y="10876"/>
                  <a:pt x="19693" y="10945"/>
                  <a:pt x="19709" y="10971"/>
                </a:cubicBezTo>
                <a:cubicBezTo>
                  <a:pt x="19765" y="11063"/>
                  <a:pt x="19804" y="11173"/>
                  <a:pt x="19830" y="11278"/>
                </a:cubicBezTo>
                <a:cubicBezTo>
                  <a:pt x="19835" y="11297"/>
                  <a:pt x="19846" y="11426"/>
                  <a:pt x="19874" y="11434"/>
                </a:cubicBezTo>
                <a:cubicBezTo>
                  <a:pt x="19873" y="11429"/>
                  <a:pt x="19872" y="11423"/>
                  <a:pt x="19871" y="11418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3976560" y="1440000"/>
            <a:ext cx="104760" cy="504720"/>
          </a:xfrm>
          <a:custGeom>
            <a:avLst/>
            <a:gdLst/>
            <a:ahLst/>
            <a:rect l="l" t="t" r="r" b="b"/>
            <a:pathLst>
              <a:path w="291" h="1403">
                <a:moveTo>
                  <a:pt x="11045" y="4044"/>
                </a:moveTo>
                <a:cubicBezTo>
                  <a:pt x="11048" y="4020"/>
                  <a:pt x="11048" y="4014"/>
                  <a:pt x="11051" y="4000"/>
                </a:cubicBezTo>
                <a:cubicBezTo>
                  <a:pt x="11110" y="4049"/>
                  <a:pt x="11132" y="4120"/>
                  <a:pt x="11162" y="4191"/>
                </a:cubicBezTo>
                <a:cubicBezTo>
                  <a:pt x="11232" y="4358"/>
                  <a:pt x="11287" y="4534"/>
                  <a:pt x="11316" y="4713"/>
                </a:cubicBezTo>
                <a:cubicBezTo>
                  <a:pt x="11348" y="4913"/>
                  <a:pt x="11352" y="5130"/>
                  <a:pt x="11274" y="5320"/>
                </a:cubicBezTo>
                <a:cubicBezTo>
                  <a:pt x="11247" y="5386"/>
                  <a:pt x="11236" y="5370"/>
                  <a:pt x="11193" y="540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1374840" y="1467000"/>
            <a:ext cx="1042920" cy="474480"/>
          </a:xfrm>
          <a:custGeom>
            <a:avLst/>
            <a:gdLst/>
            <a:ahLst/>
            <a:rect l="l" t="t" r="r" b="b"/>
            <a:pathLst>
              <a:path w="2895" h="1321">
                <a:moveTo>
                  <a:pt x="4107" y="4139"/>
                </a:moveTo>
                <a:cubicBezTo>
                  <a:pt x="4085" y="4104"/>
                  <a:pt x="4093" y="4098"/>
                  <a:pt x="4050" y="4110"/>
                </a:cubicBezTo>
                <a:cubicBezTo>
                  <a:pt x="3987" y="4127"/>
                  <a:pt x="3949" y="4259"/>
                  <a:pt x="3929" y="4309"/>
                </a:cubicBezTo>
                <a:cubicBezTo>
                  <a:pt x="3848" y="4511"/>
                  <a:pt x="3812" y="4730"/>
                  <a:pt x="3820" y="4947"/>
                </a:cubicBezTo>
                <a:cubicBezTo>
                  <a:pt x="3824" y="5052"/>
                  <a:pt x="3836" y="5197"/>
                  <a:pt x="3934" y="5262"/>
                </a:cubicBezTo>
                <a:cubicBezTo>
                  <a:pt x="3972" y="5287"/>
                  <a:pt x="3999" y="5271"/>
                  <a:pt x="4036" y="5258"/>
                </a:cubicBezTo>
              </a:path>
              <a:path w="2895" h="1321">
                <a:moveTo>
                  <a:pt x="4276" y="4607"/>
                </a:moveTo>
                <a:cubicBezTo>
                  <a:pt x="4313" y="4643"/>
                  <a:pt x="4329" y="4694"/>
                  <a:pt x="4352" y="4742"/>
                </a:cubicBezTo>
                <a:cubicBezTo>
                  <a:pt x="4407" y="4857"/>
                  <a:pt x="4466" y="4974"/>
                  <a:pt x="4546" y="5074"/>
                </a:cubicBezTo>
                <a:cubicBezTo>
                  <a:pt x="4583" y="5120"/>
                  <a:pt x="4617" y="5157"/>
                  <a:pt x="4675" y="5167"/>
                </a:cubicBezTo>
              </a:path>
              <a:path w="2895" h="1321">
                <a:moveTo>
                  <a:pt x="4649" y="4595"/>
                </a:moveTo>
                <a:cubicBezTo>
                  <a:pt x="4595" y="4640"/>
                  <a:pt x="4581" y="4701"/>
                  <a:pt x="4551" y="4764"/>
                </a:cubicBezTo>
                <a:cubicBezTo>
                  <a:pt x="4495" y="4880"/>
                  <a:pt x="4448" y="4997"/>
                  <a:pt x="4407" y="5120"/>
                </a:cubicBezTo>
                <a:cubicBezTo>
                  <a:pt x="4395" y="5155"/>
                  <a:pt x="4327" y="5297"/>
                  <a:pt x="4356" y="5339"/>
                </a:cubicBezTo>
                <a:cubicBezTo>
                  <a:pt x="4364" y="5350"/>
                  <a:pt x="4368" y="5353"/>
                  <a:pt x="4377" y="5342"/>
                </a:cubicBezTo>
              </a:path>
              <a:path w="2895" h="1321">
                <a:moveTo>
                  <a:pt x="4986" y="4675"/>
                </a:moveTo>
                <a:cubicBezTo>
                  <a:pt x="5000" y="4652"/>
                  <a:pt x="5000" y="4719"/>
                  <a:pt x="5002" y="4737"/>
                </a:cubicBezTo>
                <a:cubicBezTo>
                  <a:pt x="5012" y="4814"/>
                  <a:pt x="5023" y="4890"/>
                  <a:pt x="5037" y="4967"/>
                </a:cubicBezTo>
                <a:cubicBezTo>
                  <a:pt x="5047" y="5020"/>
                  <a:pt x="5066" y="5087"/>
                  <a:pt x="5063" y="5142"/>
                </a:cubicBezTo>
                <a:cubicBezTo>
                  <a:pt x="5061" y="5147"/>
                  <a:pt x="5060" y="5152"/>
                  <a:pt x="5058" y="5157"/>
                </a:cubicBezTo>
              </a:path>
              <a:path w="2895" h="1321">
                <a:moveTo>
                  <a:pt x="4890" y="4856"/>
                </a:moveTo>
                <a:cubicBezTo>
                  <a:pt x="4915" y="4843"/>
                  <a:pt x="4951" y="4827"/>
                  <a:pt x="4977" y="4820"/>
                </a:cubicBezTo>
                <a:cubicBezTo>
                  <a:pt x="5043" y="4802"/>
                  <a:pt x="5112" y="4793"/>
                  <a:pt x="5180" y="4782"/>
                </a:cubicBezTo>
                <a:cubicBezTo>
                  <a:pt x="5252" y="4770"/>
                  <a:pt x="5319" y="4771"/>
                  <a:pt x="5391" y="4779"/>
                </a:cubicBezTo>
              </a:path>
              <a:path w="2895" h="1321">
                <a:moveTo>
                  <a:pt x="5609" y="4655"/>
                </a:moveTo>
                <a:cubicBezTo>
                  <a:pt x="5610" y="4658"/>
                  <a:pt x="5617" y="4698"/>
                  <a:pt x="5615" y="4733"/>
                </a:cubicBezTo>
                <a:cubicBezTo>
                  <a:pt x="5610" y="4823"/>
                  <a:pt x="5612" y="4919"/>
                  <a:pt x="5642" y="5006"/>
                </a:cubicBezTo>
                <a:cubicBezTo>
                  <a:pt x="5659" y="5054"/>
                  <a:pt x="5692" y="5086"/>
                  <a:pt x="5741" y="5053"/>
                </a:cubicBezTo>
                <a:cubicBezTo>
                  <a:pt x="5800" y="5013"/>
                  <a:pt x="5832" y="4933"/>
                  <a:pt x="5867" y="4875"/>
                </a:cubicBezTo>
                <a:cubicBezTo>
                  <a:pt x="5888" y="4840"/>
                  <a:pt x="5906" y="4807"/>
                  <a:pt x="5932" y="4776"/>
                </a:cubicBezTo>
                <a:cubicBezTo>
                  <a:pt x="5938" y="4860"/>
                  <a:pt x="5910" y="4931"/>
                  <a:pt x="5888" y="5012"/>
                </a:cubicBezTo>
                <a:cubicBezTo>
                  <a:pt x="5859" y="5116"/>
                  <a:pt x="5832" y="5221"/>
                  <a:pt x="5801" y="5324"/>
                </a:cubicBezTo>
                <a:cubicBezTo>
                  <a:pt x="5788" y="5362"/>
                  <a:pt x="5786" y="5370"/>
                  <a:pt x="5776" y="5393"/>
                </a:cubicBezTo>
              </a:path>
              <a:path w="2895" h="1321">
                <a:moveTo>
                  <a:pt x="5927" y="4192"/>
                </a:moveTo>
                <a:cubicBezTo>
                  <a:pt x="5996" y="4186"/>
                  <a:pt x="6019" y="4249"/>
                  <a:pt x="6042" y="4315"/>
                </a:cubicBezTo>
                <a:cubicBezTo>
                  <a:pt x="6091" y="4453"/>
                  <a:pt x="6112" y="4604"/>
                  <a:pt x="6132" y="4748"/>
                </a:cubicBezTo>
                <a:cubicBezTo>
                  <a:pt x="6149" y="4876"/>
                  <a:pt x="6159" y="5004"/>
                  <a:pt x="6159" y="5132"/>
                </a:cubicBezTo>
                <a:cubicBezTo>
                  <a:pt x="6159" y="5165"/>
                  <a:pt x="6157" y="5194"/>
                  <a:pt x="6154" y="5226"/>
                </a:cubicBezTo>
              </a:path>
              <a:path w="2895" h="1321">
                <a:moveTo>
                  <a:pt x="6364" y="4112"/>
                </a:moveTo>
                <a:cubicBezTo>
                  <a:pt x="6335" y="4114"/>
                  <a:pt x="6348" y="4154"/>
                  <a:pt x="6351" y="4186"/>
                </a:cubicBezTo>
                <a:cubicBezTo>
                  <a:pt x="6355" y="4222"/>
                  <a:pt x="6358" y="4258"/>
                  <a:pt x="6364" y="4294"/>
                </a:cubicBezTo>
                <a:cubicBezTo>
                  <a:pt x="6365" y="4297"/>
                  <a:pt x="6365" y="4301"/>
                  <a:pt x="6366" y="4304"/>
                </a:cubicBezTo>
                <a:cubicBezTo>
                  <a:pt x="6378" y="4265"/>
                  <a:pt x="6385" y="4226"/>
                  <a:pt x="6399" y="4187"/>
                </a:cubicBezTo>
                <a:cubicBezTo>
                  <a:pt x="6416" y="4139"/>
                  <a:pt x="6433" y="4088"/>
                  <a:pt x="6483" y="4073"/>
                </a:cubicBezTo>
                <a:cubicBezTo>
                  <a:pt x="6522" y="4113"/>
                  <a:pt x="6532" y="4162"/>
                  <a:pt x="6549" y="4215"/>
                </a:cubicBezTo>
                <a:cubicBezTo>
                  <a:pt x="6577" y="4303"/>
                  <a:pt x="6599" y="4402"/>
                  <a:pt x="6658" y="4476"/>
                </a:cubicBezTo>
                <a:cubicBezTo>
                  <a:pt x="6683" y="4501"/>
                  <a:pt x="6691" y="4509"/>
                  <a:pt x="6713" y="451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2558880" y="1628640"/>
            <a:ext cx="198720" cy="95400"/>
          </a:xfrm>
          <a:custGeom>
            <a:avLst/>
            <a:gdLst/>
            <a:ahLst/>
            <a:rect l="l" t="t" r="r" b="b"/>
            <a:pathLst>
              <a:path w="553" h="263">
                <a:moveTo>
                  <a:pt x="7119" y="4560"/>
                </a:moveTo>
                <a:cubicBezTo>
                  <a:pt x="7099" y="4568"/>
                  <a:pt x="7195" y="4543"/>
                  <a:pt x="7209" y="4541"/>
                </a:cubicBezTo>
                <a:cubicBezTo>
                  <a:pt x="7278" y="4532"/>
                  <a:pt x="7347" y="4522"/>
                  <a:pt x="7416" y="4527"/>
                </a:cubicBezTo>
                <a:cubicBezTo>
                  <a:pt x="7455" y="4533"/>
                  <a:pt x="7466" y="4534"/>
                  <a:pt x="7490" y="4541"/>
                </a:cubicBezTo>
              </a:path>
              <a:path w="553" h="263">
                <a:moveTo>
                  <a:pt x="7187" y="4787"/>
                </a:moveTo>
                <a:cubicBezTo>
                  <a:pt x="7242" y="4773"/>
                  <a:pt x="7298" y="4760"/>
                  <a:pt x="7354" y="4754"/>
                </a:cubicBezTo>
                <a:cubicBezTo>
                  <a:pt x="7438" y="4745"/>
                  <a:pt x="7523" y="4746"/>
                  <a:pt x="7607" y="4754"/>
                </a:cubicBezTo>
                <a:cubicBezTo>
                  <a:pt x="7625" y="4756"/>
                  <a:pt x="7642" y="4759"/>
                  <a:pt x="7660" y="476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3032280" y="1363680"/>
            <a:ext cx="365040" cy="789120"/>
          </a:xfrm>
          <a:custGeom>
            <a:avLst/>
            <a:gdLst/>
            <a:ahLst/>
            <a:rect l="l" t="t" r="r" b="b"/>
            <a:pathLst>
              <a:path w="1016" h="2190">
                <a:moveTo>
                  <a:pt x="9063" y="4310"/>
                </a:moveTo>
                <a:cubicBezTo>
                  <a:pt x="9072" y="4302"/>
                  <a:pt x="9119" y="4272"/>
                  <a:pt x="9122" y="4260"/>
                </a:cubicBezTo>
                <a:cubicBezTo>
                  <a:pt x="9129" y="4229"/>
                  <a:pt x="9104" y="4213"/>
                  <a:pt x="9083" y="4200"/>
                </a:cubicBezTo>
                <a:cubicBezTo>
                  <a:pt x="9007" y="4153"/>
                  <a:pt x="8868" y="4198"/>
                  <a:pt x="8793" y="4220"/>
                </a:cubicBezTo>
                <a:cubicBezTo>
                  <a:pt x="8718" y="4242"/>
                  <a:pt x="8636" y="4271"/>
                  <a:pt x="8572" y="4318"/>
                </a:cubicBezTo>
                <a:cubicBezTo>
                  <a:pt x="8533" y="4347"/>
                  <a:pt x="8521" y="4376"/>
                  <a:pt x="8556" y="4411"/>
                </a:cubicBezTo>
                <a:cubicBezTo>
                  <a:pt x="8599" y="4454"/>
                  <a:pt x="8667" y="4476"/>
                  <a:pt x="8714" y="4515"/>
                </a:cubicBezTo>
                <a:cubicBezTo>
                  <a:pt x="8772" y="4563"/>
                  <a:pt x="8812" y="4622"/>
                  <a:pt x="8814" y="4700"/>
                </a:cubicBezTo>
                <a:cubicBezTo>
                  <a:pt x="8817" y="4812"/>
                  <a:pt x="8746" y="4921"/>
                  <a:pt x="8685" y="5009"/>
                </a:cubicBezTo>
                <a:cubicBezTo>
                  <a:pt x="8635" y="5082"/>
                  <a:pt x="8568" y="5143"/>
                  <a:pt x="8517" y="5213"/>
                </a:cubicBezTo>
                <a:cubicBezTo>
                  <a:pt x="8557" y="5222"/>
                  <a:pt x="8587" y="5225"/>
                  <a:pt x="8630" y="5225"/>
                </a:cubicBezTo>
                <a:cubicBezTo>
                  <a:pt x="8796" y="5224"/>
                  <a:pt x="8965" y="5226"/>
                  <a:pt x="9131" y="5214"/>
                </a:cubicBezTo>
                <a:cubicBezTo>
                  <a:pt x="9160" y="5212"/>
                  <a:pt x="9189" y="5207"/>
                  <a:pt x="9217" y="5202"/>
                </a:cubicBezTo>
                <a:cubicBezTo>
                  <a:pt x="9209" y="5185"/>
                  <a:pt x="9202" y="5174"/>
                  <a:pt x="9187" y="5155"/>
                </a:cubicBezTo>
                <a:cubicBezTo>
                  <a:pt x="9162" y="5123"/>
                  <a:pt x="9137" y="5096"/>
                  <a:pt x="9130" y="5055"/>
                </a:cubicBezTo>
                <a:cubicBezTo>
                  <a:pt x="9125" y="5027"/>
                  <a:pt x="9124" y="5000"/>
                  <a:pt x="9123" y="4972"/>
                </a:cubicBezTo>
              </a:path>
              <a:path w="1016" h="2190">
                <a:moveTo>
                  <a:pt x="9154" y="4336"/>
                </a:moveTo>
                <a:cubicBezTo>
                  <a:pt x="9176" y="4303"/>
                  <a:pt x="9161" y="4409"/>
                  <a:pt x="9161" y="4432"/>
                </a:cubicBezTo>
                <a:cubicBezTo>
                  <a:pt x="9162" y="4497"/>
                  <a:pt x="9160" y="4559"/>
                  <a:pt x="9156" y="4624"/>
                </a:cubicBezTo>
              </a:path>
              <a:path w="1016" h="2190">
                <a:moveTo>
                  <a:pt x="8465" y="5692"/>
                </a:moveTo>
                <a:cubicBezTo>
                  <a:pt x="8460" y="5679"/>
                  <a:pt x="8460" y="5674"/>
                  <a:pt x="8448" y="5677"/>
                </a:cubicBezTo>
                <a:cubicBezTo>
                  <a:pt x="8450" y="5717"/>
                  <a:pt x="8453" y="5753"/>
                  <a:pt x="8460" y="5792"/>
                </a:cubicBezTo>
                <a:cubicBezTo>
                  <a:pt x="8468" y="5833"/>
                  <a:pt x="8479" y="5881"/>
                  <a:pt x="8503" y="5916"/>
                </a:cubicBezTo>
                <a:cubicBezTo>
                  <a:pt x="8507" y="5920"/>
                  <a:pt x="8510" y="5923"/>
                  <a:pt x="8514" y="5927"/>
                </a:cubicBezTo>
              </a:path>
              <a:path w="1016" h="2190">
                <a:moveTo>
                  <a:pt x="8426" y="5462"/>
                </a:moveTo>
                <a:cubicBezTo>
                  <a:pt x="8421" y="5492"/>
                  <a:pt x="8427" y="5517"/>
                  <a:pt x="8429" y="5548"/>
                </a:cubicBezTo>
                <a:cubicBezTo>
                  <a:pt x="8432" y="5611"/>
                  <a:pt x="8444" y="5672"/>
                  <a:pt x="8453" y="5735"/>
                </a:cubicBezTo>
                <a:cubicBezTo>
                  <a:pt x="8462" y="5799"/>
                  <a:pt x="8471" y="5865"/>
                  <a:pt x="8487" y="5928"/>
                </a:cubicBezTo>
                <a:cubicBezTo>
                  <a:pt x="8496" y="5963"/>
                  <a:pt x="8490" y="5978"/>
                  <a:pt x="8511" y="5967"/>
                </a:cubicBezTo>
              </a:path>
              <a:path w="1016" h="2190">
                <a:moveTo>
                  <a:pt x="8630" y="5517"/>
                </a:moveTo>
                <a:cubicBezTo>
                  <a:pt x="8641" y="5503"/>
                  <a:pt x="8650" y="5490"/>
                  <a:pt x="8662" y="5478"/>
                </a:cubicBezTo>
                <a:cubicBezTo>
                  <a:pt x="8635" y="5516"/>
                  <a:pt x="8611" y="5554"/>
                  <a:pt x="8587" y="5595"/>
                </a:cubicBezTo>
                <a:cubicBezTo>
                  <a:pt x="8557" y="5647"/>
                  <a:pt x="8524" y="5699"/>
                  <a:pt x="8502" y="5754"/>
                </a:cubicBezTo>
                <a:cubicBezTo>
                  <a:pt x="8492" y="5778"/>
                  <a:pt x="8479" y="5807"/>
                  <a:pt x="8501" y="5828"/>
                </a:cubicBezTo>
                <a:cubicBezTo>
                  <a:pt x="8518" y="5844"/>
                  <a:pt x="8543" y="5852"/>
                  <a:pt x="8565" y="5857"/>
                </a:cubicBezTo>
                <a:cubicBezTo>
                  <a:pt x="8596" y="5865"/>
                  <a:pt x="8621" y="5862"/>
                  <a:pt x="8652" y="5855"/>
                </a:cubicBezTo>
                <a:cubicBezTo>
                  <a:pt x="8680" y="5848"/>
                  <a:pt x="8701" y="5835"/>
                  <a:pt x="8726" y="5821"/>
                </a:cubicBezTo>
              </a:path>
              <a:path w="1016" h="2190">
                <a:moveTo>
                  <a:pt x="8858" y="5662"/>
                </a:moveTo>
                <a:cubicBezTo>
                  <a:pt x="8853" y="5663"/>
                  <a:pt x="8848" y="5664"/>
                  <a:pt x="8843" y="5665"/>
                </a:cubicBezTo>
                <a:cubicBezTo>
                  <a:pt x="8869" y="5640"/>
                  <a:pt x="8893" y="5635"/>
                  <a:pt x="8929" y="5623"/>
                </a:cubicBezTo>
                <a:cubicBezTo>
                  <a:pt x="8960" y="5613"/>
                  <a:pt x="8984" y="5613"/>
                  <a:pt x="9015" y="5619"/>
                </a:cubicBezTo>
              </a:path>
              <a:path w="1016" h="2190">
                <a:moveTo>
                  <a:pt x="8866" y="5772"/>
                </a:moveTo>
                <a:cubicBezTo>
                  <a:pt x="8852" y="5789"/>
                  <a:pt x="8845" y="5794"/>
                  <a:pt x="8843" y="5813"/>
                </a:cubicBezTo>
                <a:cubicBezTo>
                  <a:pt x="8870" y="5822"/>
                  <a:pt x="8908" y="5805"/>
                  <a:pt x="8939" y="5799"/>
                </a:cubicBezTo>
                <a:cubicBezTo>
                  <a:pt x="8986" y="5790"/>
                  <a:pt x="9031" y="5777"/>
                  <a:pt x="9077" y="5765"/>
                </a:cubicBezTo>
              </a:path>
              <a:path w="1016" h="2190">
                <a:moveTo>
                  <a:pt x="9338" y="5652"/>
                </a:moveTo>
                <a:cubicBezTo>
                  <a:pt x="9303" y="5677"/>
                  <a:pt x="9290" y="5700"/>
                  <a:pt x="9267" y="5736"/>
                </a:cubicBezTo>
                <a:cubicBezTo>
                  <a:pt x="9247" y="5768"/>
                  <a:pt x="9234" y="5808"/>
                  <a:pt x="9263" y="5841"/>
                </a:cubicBezTo>
                <a:cubicBezTo>
                  <a:pt x="9289" y="5870"/>
                  <a:pt x="9340" y="5852"/>
                  <a:pt x="9368" y="5837"/>
                </a:cubicBezTo>
                <a:cubicBezTo>
                  <a:pt x="9401" y="5820"/>
                  <a:pt x="9435" y="5794"/>
                  <a:pt x="9437" y="5754"/>
                </a:cubicBezTo>
                <a:cubicBezTo>
                  <a:pt x="9439" y="5719"/>
                  <a:pt x="9410" y="5700"/>
                  <a:pt x="9385" y="5682"/>
                </a:cubicBezTo>
                <a:cubicBezTo>
                  <a:pt x="9359" y="5664"/>
                  <a:pt x="9335" y="5652"/>
                  <a:pt x="9306" y="5640"/>
                </a:cubicBezTo>
              </a:path>
              <a:path w="1016" h="2190">
                <a:moveTo>
                  <a:pt x="8797" y="3908"/>
                </a:moveTo>
                <a:cubicBezTo>
                  <a:pt x="8784" y="3942"/>
                  <a:pt x="8782" y="3975"/>
                  <a:pt x="8786" y="4010"/>
                </a:cubicBezTo>
                <a:cubicBezTo>
                  <a:pt x="8789" y="4038"/>
                  <a:pt x="8796" y="4065"/>
                  <a:pt x="8803" y="4092"/>
                </a:cubicBezTo>
                <a:cubicBezTo>
                  <a:pt x="8809" y="4058"/>
                  <a:pt x="8811" y="4022"/>
                  <a:pt x="8819" y="3988"/>
                </a:cubicBezTo>
                <a:cubicBezTo>
                  <a:pt x="8833" y="3927"/>
                  <a:pt x="8845" y="3847"/>
                  <a:pt x="8892" y="3801"/>
                </a:cubicBezTo>
                <a:cubicBezTo>
                  <a:pt x="8925" y="3768"/>
                  <a:pt x="8950" y="3808"/>
                  <a:pt x="8963" y="3836"/>
                </a:cubicBezTo>
                <a:cubicBezTo>
                  <a:pt x="8990" y="3892"/>
                  <a:pt x="9001" y="3953"/>
                  <a:pt x="9022" y="4011"/>
                </a:cubicBezTo>
                <a:cubicBezTo>
                  <a:pt x="9035" y="4046"/>
                  <a:pt x="9046" y="4081"/>
                  <a:pt x="9060" y="411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3587760" y="1407960"/>
            <a:ext cx="360360" cy="901800"/>
          </a:xfrm>
          <a:custGeom>
            <a:avLst/>
            <a:gdLst/>
            <a:ahLst/>
            <a:rect l="l" t="t" r="r" b="b"/>
            <a:pathLst>
              <a:path w="998" h="2506">
                <a:moveTo>
                  <a:pt x="10178" y="3986"/>
                </a:moveTo>
                <a:cubicBezTo>
                  <a:pt x="10170" y="3953"/>
                  <a:pt x="10163" y="3943"/>
                  <a:pt x="10149" y="3916"/>
                </a:cubicBezTo>
                <a:cubicBezTo>
                  <a:pt x="10101" y="3939"/>
                  <a:pt x="10092" y="3944"/>
                  <a:pt x="10069" y="4015"/>
                </a:cubicBezTo>
                <a:cubicBezTo>
                  <a:pt x="10024" y="4151"/>
                  <a:pt x="10003" y="4298"/>
                  <a:pt x="9988" y="4440"/>
                </a:cubicBezTo>
                <a:cubicBezTo>
                  <a:pt x="9969" y="4620"/>
                  <a:pt x="9962" y="4804"/>
                  <a:pt x="9972" y="4985"/>
                </a:cubicBezTo>
                <a:cubicBezTo>
                  <a:pt x="9976" y="5063"/>
                  <a:pt x="9977" y="5206"/>
                  <a:pt x="10037" y="5268"/>
                </a:cubicBezTo>
                <a:cubicBezTo>
                  <a:pt x="10078" y="5310"/>
                  <a:pt x="10119" y="5262"/>
                  <a:pt x="10144" y="5235"/>
                </a:cubicBezTo>
              </a:path>
              <a:path w="998" h="2506">
                <a:moveTo>
                  <a:pt x="10367" y="4040"/>
                </a:moveTo>
                <a:cubicBezTo>
                  <a:pt x="10368" y="4014"/>
                  <a:pt x="10376" y="3983"/>
                  <a:pt x="10366" y="4026"/>
                </a:cubicBezTo>
                <a:cubicBezTo>
                  <a:pt x="10375" y="4101"/>
                  <a:pt x="10380" y="4177"/>
                  <a:pt x="10388" y="4253"/>
                </a:cubicBezTo>
                <a:cubicBezTo>
                  <a:pt x="10396" y="4328"/>
                  <a:pt x="10402" y="4404"/>
                  <a:pt x="10410" y="4479"/>
                </a:cubicBezTo>
                <a:cubicBezTo>
                  <a:pt x="10411" y="4486"/>
                  <a:pt x="10411" y="4493"/>
                  <a:pt x="10412" y="4500"/>
                </a:cubicBezTo>
                <a:cubicBezTo>
                  <a:pt x="10426" y="4447"/>
                  <a:pt x="10432" y="4391"/>
                  <a:pt x="10442" y="4336"/>
                </a:cubicBezTo>
                <a:cubicBezTo>
                  <a:pt x="10458" y="4248"/>
                  <a:pt x="10467" y="4143"/>
                  <a:pt x="10507" y="4061"/>
                </a:cubicBezTo>
                <a:cubicBezTo>
                  <a:pt x="10512" y="4055"/>
                  <a:pt x="10517" y="4048"/>
                  <a:pt x="10522" y="4042"/>
                </a:cubicBezTo>
                <a:cubicBezTo>
                  <a:pt x="10563" y="4064"/>
                  <a:pt x="10562" y="4122"/>
                  <a:pt x="10570" y="4167"/>
                </a:cubicBezTo>
                <a:cubicBezTo>
                  <a:pt x="10588" y="4270"/>
                  <a:pt x="10606" y="4373"/>
                  <a:pt x="10612" y="4478"/>
                </a:cubicBezTo>
                <a:cubicBezTo>
                  <a:pt x="10615" y="4550"/>
                  <a:pt x="10616" y="4571"/>
                  <a:pt x="10614" y="4618"/>
                </a:cubicBezTo>
              </a:path>
              <a:path w="998" h="2506">
                <a:moveTo>
                  <a:pt x="10483" y="4968"/>
                </a:moveTo>
                <a:cubicBezTo>
                  <a:pt x="10480" y="4947"/>
                  <a:pt x="10480" y="4942"/>
                  <a:pt x="10479" y="4929"/>
                </a:cubicBezTo>
                <a:cubicBezTo>
                  <a:pt x="10472" y="4972"/>
                  <a:pt x="10484" y="5020"/>
                  <a:pt x="10489" y="5065"/>
                </a:cubicBezTo>
                <a:cubicBezTo>
                  <a:pt x="10498" y="5139"/>
                  <a:pt x="10508" y="5215"/>
                  <a:pt x="10522" y="5288"/>
                </a:cubicBezTo>
                <a:cubicBezTo>
                  <a:pt x="10528" y="5318"/>
                  <a:pt x="10531" y="5356"/>
                  <a:pt x="10564" y="5342"/>
                </a:cubicBezTo>
              </a:path>
              <a:path w="998" h="2506">
                <a:moveTo>
                  <a:pt x="10756" y="4904"/>
                </a:moveTo>
                <a:cubicBezTo>
                  <a:pt x="10767" y="4894"/>
                  <a:pt x="10769" y="4891"/>
                  <a:pt x="10778" y="4888"/>
                </a:cubicBezTo>
                <a:cubicBezTo>
                  <a:pt x="10758" y="4926"/>
                  <a:pt x="10726" y="4957"/>
                  <a:pt x="10697" y="4990"/>
                </a:cubicBezTo>
                <a:cubicBezTo>
                  <a:pt x="10644" y="5050"/>
                  <a:pt x="10579" y="5106"/>
                  <a:pt x="10537" y="5174"/>
                </a:cubicBezTo>
                <a:cubicBezTo>
                  <a:pt x="10534" y="5180"/>
                  <a:pt x="10531" y="5187"/>
                  <a:pt x="10528" y="5193"/>
                </a:cubicBezTo>
                <a:cubicBezTo>
                  <a:pt x="10553" y="5219"/>
                  <a:pt x="10595" y="5211"/>
                  <a:pt x="10632" y="5212"/>
                </a:cubicBezTo>
                <a:cubicBezTo>
                  <a:pt x="10704" y="5214"/>
                  <a:pt x="10775" y="5214"/>
                  <a:pt x="10846" y="5215"/>
                </a:cubicBezTo>
                <a:cubicBezTo>
                  <a:pt x="10887" y="5216"/>
                  <a:pt x="10924" y="5215"/>
                  <a:pt x="10965" y="5211"/>
                </a:cubicBezTo>
              </a:path>
              <a:path w="998" h="2506">
                <a:moveTo>
                  <a:pt x="10274" y="6415"/>
                </a:moveTo>
                <a:cubicBezTo>
                  <a:pt x="10271" y="6384"/>
                  <a:pt x="10269" y="6353"/>
                  <a:pt x="10270" y="6321"/>
                </a:cubicBezTo>
                <a:cubicBezTo>
                  <a:pt x="10272" y="6233"/>
                  <a:pt x="10286" y="6146"/>
                  <a:pt x="10309" y="6061"/>
                </a:cubicBezTo>
                <a:cubicBezTo>
                  <a:pt x="10327" y="5994"/>
                  <a:pt x="10357" y="5933"/>
                  <a:pt x="10377" y="5867"/>
                </a:cubicBezTo>
                <a:cubicBezTo>
                  <a:pt x="10380" y="5853"/>
                  <a:pt x="10382" y="5850"/>
                  <a:pt x="10380" y="5841"/>
                </a:cubicBezTo>
                <a:cubicBezTo>
                  <a:pt x="10345" y="5853"/>
                  <a:pt x="10317" y="5873"/>
                  <a:pt x="10286" y="5894"/>
                </a:cubicBezTo>
                <a:cubicBezTo>
                  <a:pt x="10253" y="5917"/>
                  <a:pt x="10217" y="5948"/>
                  <a:pt x="10179" y="5963"/>
                </a:cubicBezTo>
                <a:cubicBezTo>
                  <a:pt x="10173" y="5964"/>
                  <a:pt x="10168" y="5965"/>
                  <a:pt x="10162" y="5966"/>
                </a:cubicBezTo>
                <a:cubicBezTo>
                  <a:pt x="10159" y="5921"/>
                  <a:pt x="10178" y="5892"/>
                  <a:pt x="10203" y="5852"/>
                </a:cubicBezTo>
                <a:cubicBezTo>
                  <a:pt x="10232" y="5805"/>
                  <a:pt x="10269" y="5756"/>
                  <a:pt x="10315" y="5725"/>
                </a:cubicBezTo>
                <a:cubicBezTo>
                  <a:pt x="10355" y="5698"/>
                  <a:pt x="10390" y="5706"/>
                  <a:pt x="10423" y="5740"/>
                </a:cubicBezTo>
                <a:cubicBezTo>
                  <a:pt x="10464" y="5782"/>
                  <a:pt x="10486" y="5840"/>
                  <a:pt x="10511" y="5892"/>
                </a:cubicBezTo>
                <a:cubicBezTo>
                  <a:pt x="10529" y="5929"/>
                  <a:pt x="10535" y="5940"/>
                  <a:pt x="10540" y="596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4292640" y="1398600"/>
            <a:ext cx="1189080" cy="587520"/>
          </a:xfrm>
          <a:custGeom>
            <a:avLst/>
            <a:gdLst/>
            <a:ahLst/>
            <a:rect l="l" t="t" r="r" b="b"/>
            <a:pathLst>
              <a:path w="3306" h="1629">
                <a:moveTo>
                  <a:pt x="11968" y="4454"/>
                </a:moveTo>
                <a:cubicBezTo>
                  <a:pt x="11957" y="4441"/>
                  <a:pt x="11945" y="4429"/>
                  <a:pt x="11934" y="4416"/>
                </a:cubicBezTo>
                <a:cubicBezTo>
                  <a:pt x="11916" y="4449"/>
                  <a:pt x="11939" y="4486"/>
                  <a:pt x="11955" y="4523"/>
                </a:cubicBezTo>
                <a:cubicBezTo>
                  <a:pt x="11992" y="4611"/>
                  <a:pt x="12038" y="4696"/>
                  <a:pt x="12083" y="4780"/>
                </a:cubicBezTo>
                <a:cubicBezTo>
                  <a:pt x="12120" y="4849"/>
                  <a:pt x="12157" y="4933"/>
                  <a:pt x="12214" y="4988"/>
                </a:cubicBezTo>
                <a:cubicBezTo>
                  <a:pt x="12238" y="5011"/>
                  <a:pt x="12246" y="5004"/>
                  <a:pt x="12268" y="4990"/>
                </a:cubicBezTo>
              </a:path>
              <a:path w="3306" h="1629">
                <a:moveTo>
                  <a:pt x="12272" y="4472"/>
                </a:moveTo>
                <a:cubicBezTo>
                  <a:pt x="12228" y="4483"/>
                  <a:pt x="12231" y="4489"/>
                  <a:pt x="12202" y="4539"/>
                </a:cubicBezTo>
                <a:cubicBezTo>
                  <a:pt x="12153" y="4624"/>
                  <a:pt x="12121" y="4716"/>
                  <a:pt x="12087" y="4808"/>
                </a:cubicBezTo>
                <a:cubicBezTo>
                  <a:pt x="12056" y="4893"/>
                  <a:pt x="12017" y="4982"/>
                  <a:pt x="11995" y="5070"/>
                </a:cubicBezTo>
                <a:cubicBezTo>
                  <a:pt x="11986" y="5107"/>
                  <a:pt x="11974" y="5134"/>
                  <a:pt x="12003" y="5112"/>
                </a:cubicBezTo>
              </a:path>
              <a:path w="3306" h="1629">
                <a:moveTo>
                  <a:pt x="12558" y="4044"/>
                </a:moveTo>
                <a:cubicBezTo>
                  <a:pt x="12552" y="4021"/>
                  <a:pt x="12547" y="3997"/>
                  <a:pt x="12535" y="3976"/>
                </a:cubicBezTo>
                <a:cubicBezTo>
                  <a:pt x="12547" y="4010"/>
                  <a:pt x="12559" y="4045"/>
                  <a:pt x="12569" y="4080"/>
                </a:cubicBezTo>
                <a:cubicBezTo>
                  <a:pt x="12587" y="4146"/>
                  <a:pt x="12602" y="4212"/>
                  <a:pt x="12617" y="4279"/>
                </a:cubicBezTo>
                <a:cubicBezTo>
                  <a:pt x="12626" y="4320"/>
                  <a:pt x="12626" y="4360"/>
                  <a:pt x="12635" y="4400"/>
                </a:cubicBezTo>
              </a:path>
              <a:path w="3306" h="1629">
                <a:moveTo>
                  <a:pt x="12826" y="3968"/>
                </a:moveTo>
                <a:cubicBezTo>
                  <a:pt x="12849" y="3968"/>
                  <a:pt x="12814" y="4006"/>
                  <a:pt x="12801" y="4023"/>
                </a:cubicBezTo>
                <a:cubicBezTo>
                  <a:pt x="12764" y="4073"/>
                  <a:pt x="12725" y="4123"/>
                  <a:pt x="12693" y="4177"/>
                </a:cubicBezTo>
                <a:cubicBezTo>
                  <a:pt x="12678" y="4202"/>
                  <a:pt x="12634" y="4260"/>
                  <a:pt x="12672" y="4286"/>
                </a:cubicBezTo>
                <a:cubicBezTo>
                  <a:pt x="12705" y="4310"/>
                  <a:pt x="12768" y="4307"/>
                  <a:pt x="12806" y="4308"/>
                </a:cubicBezTo>
                <a:cubicBezTo>
                  <a:pt x="12851" y="4310"/>
                  <a:pt x="12895" y="4316"/>
                  <a:pt x="12940" y="4323"/>
                </a:cubicBezTo>
              </a:path>
              <a:path w="3306" h="1629">
                <a:moveTo>
                  <a:pt x="13267" y="4620"/>
                </a:moveTo>
                <a:cubicBezTo>
                  <a:pt x="13255" y="4572"/>
                  <a:pt x="13267" y="4608"/>
                  <a:pt x="13279" y="4633"/>
                </a:cubicBezTo>
                <a:cubicBezTo>
                  <a:pt x="13308" y="4695"/>
                  <a:pt x="13334" y="4758"/>
                  <a:pt x="13364" y="4819"/>
                </a:cubicBezTo>
                <a:cubicBezTo>
                  <a:pt x="13389" y="4869"/>
                  <a:pt x="13416" y="4956"/>
                  <a:pt x="13472" y="4982"/>
                </a:cubicBezTo>
                <a:cubicBezTo>
                  <a:pt x="13522" y="5005"/>
                  <a:pt x="13561" y="4929"/>
                  <a:pt x="13577" y="4896"/>
                </a:cubicBezTo>
                <a:cubicBezTo>
                  <a:pt x="13621" y="4806"/>
                  <a:pt x="13653" y="4704"/>
                  <a:pt x="13672" y="4606"/>
                </a:cubicBezTo>
                <a:cubicBezTo>
                  <a:pt x="13639" y="4684"/>
                  <a:pt x="13614" y="4768"/>
                  <a:pt x="13588" y="4849"/>
                </a:cubicBezTo>
                <a:cubicBezTo>
                  <a:pt x="13530" y="5027"/>
                  <a:pt x="13478" y="5207"/>
                  <a:pt x="13424" y="5386"/>
                </a:cubicBezTo>
                <a:cubicBezTo>
                  <a:pt x="13422" y="5392"/>
                  <a:pt x="13362" y="5571"/>
                  <a:pt x="13409" y="5486"/>
                </a:cubicBezTo>
                <a:cubicBezTo>
                  <a:pt x="13415" y="5472"/>
                  <a:pt x="13421" y="5457"/>
                  <a:pt x="13427" y="5443"/>
                </a:cubicBezTo>
              </a:path>
              <a:path w="3306" h="1629">
                <a:moveTo>
                  <a:pt x="13890" y="4108"/>
                </a:moveTo>
                <a:cubicBezTo>
                  <a:pt x="13885" y="4071"/>
                  <a:pt x="13893" y="4157"/>
                  <a:pt x="13893" y="4160"/>
                </a:cubicBezTo>
                <a:cubicBezTo>
                  <a:pt x="13893" y="4218"/>
                  <a:pt x="13890" y="4275"/>
                  <a:pt x="13884" y="4332"/>
                </a:cubicBezTo>
                <a:cubicBezTo>
                  <a:pt x="13881" y="4366"/>
                  <a:pt x="13876" y="4400"/>
                  <a:pt x="13871" y="4434"/>
                </a:cubicBezTo>
                <a:cubicBezTo>
                  <a:pt x="13908" y="4332"/>
                  <a:pt x="13956" y="4237"/>
                  <a:pt x="14010" y="4143"/>
                </a:cubicBezTo>
                <a:cubicBezTo>
                  <a:pt x="14044" y="4084"/>
                  <a:pt x="14074" y="4032"/>
                  <a:pt x="14127" y="3990"/>
                </a:cubicBezTo>
                <a:cubicBezTo>
                  <a:pt x="14168" y="4021"/>
                  <a:pt x="14156" y="4077"/>
                  <a:pt x="14156" y="4129"/>
                </a:cubicBezTo>
                <a:cubicBezTo>
                  <a:pt x="14156" y="4216"/>
                  <a:pt x="14157" y="4303"/>
                  <a:pt x="14155" y="4389"/>
                </a:cubicBezTo>
                <a:cubicBezTo>
                  <a:pt x="14154" y="4425"/>
                  <a:pt x="14151" y="4456"/>
                  <a:pt x="14156" y="4491"/>
                </a:cubicBezTo>
              </a:path>
              <a:path w="3306" h="1629">
                <a:moveTo>
                  <a:pt x="14288" y="4255"/>
                </a:moveTo>
                <a:cubicBezTo>
                  <a:pt x="14318" y="4255"/>
                  <a:pt x="14342" y="4243"/>
                  <a:pt x="14372" y="4237"/>
                </a:cubicBezTo>
                <a:cubicBezTo>
                  <a:pt x="14417" y="4228"/>
                  <a:pt x="14460" y="4219"/>
                  <a:pt x="14506" y="4215"/>
                </a:cubicBezTo>
                <a:cubicBezTo>
                  <a:pt x="14534" y="4213"/>
                  <a:pt x="14542" y="4213"/>
                  <a:pt x="14560" y="4209"/>
                </a:cubicBezTo>
              </a:path>
              <a:path w="3306" h="1629">
                <a:moveTo>
                  <a:pt x="14803" y="3887"/>
                </a:moveTo>
                <a:cubicBezTo>
                  <a:pt x="14817" y="3923"/>
                  <a:pt x="14813" y="3961"/>
                  <a:pt x="14817" y="4001"/>
                </a:cubicBezTo>
                <a:cubicBezTo>
                  <a:pt x="14824" y="4068"/>
                  <a:pt x="14838" y="4132"/>
                  <a:pt x="14851" y="4198"/>
                </a:cubicBezTo>
                <a:cubicBezTo>
                  <a:pt x="14859" y="4236"/>
                  <a:pt x="14868" y="4271"/>
                  <a:pt x="14882" y="4307"/>
                </a:cubicBezTo>
              </a:path>
              <a:path w="3306" h="1629">
                <a:moveTo>
                  <a:pt x="15054" y="3925"/>
                </a:moveTo>
                <a:cubicBezTo>
                  <a:pt x="15068" y="3911"/>
                  <a:pt x="15069" y="3908"/>
                  <a:pt x="15087" y="3904"/>
                </a:cubicBezTo>
                <a:cubicBezTo>
                  <a:pt x="15072" y="3939"/>
                  <a:pt x="15053" y="3971"/>
                  <a:pt x="15030" y="4002"/>
                </a:cubicBezTo>
                <a:cubicBezTo>
                  <a:pt x="15000" y="4044"/>
                  <a:pt x="14965" y="4086"/>
                  <a:pt x="14928" y="4122"/>
                </a:cubicBezTo>
                <a:cubicBezTo>
                  <a:pt x="14907" y="4142"/>
                  <a:pt x="14887" y="4154"/>
                  <a:pt x="14889" y="4182"/>
                </a:cubicBezTo>
                <a:cubicBezTo>
                  <a:pt x="14923" y="4198"/>
                  <a:pt x="14961" y="4200"/>
                  <a:pt x="14998" y="4208"/>
                </a:cubicBezTo>
                <a:cubicBezTo>
                  <a:pt x="15058" y="4220"/>
                  <a:pt x="15114" y="4240"/>
                  <a:pt x="15169" y="4266"/>
                </a:cubicBezTo>
                <a:cubicBezTo>
                  <a:pt x="15200" y="4283"/>
                  <a:pt x="15209" y="4287"/>
                  <a:pt x="15227" y="430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3519360" y="2371680"/>
            <a:ext cx="627120" cy="271440"/>
          </a:xfrm>
          <a:custGeom>
            <a:avLst/>
            <a:gdLst/>
            <a:ahLst/>
            <a:rect l="l" t="t" r="r" b="b"/>
            <a:pathLst>
              <a:path w="1744" h="753">
                <a:moveTo>
                  <a:pt x="10056" y="6763"/>
                </a:moveTo>
                <a:cubicBezTo>
                  <a:pt x="10059" y="6717"/>
                  <a:pt x="10069" y="6657"/>
                  <a:pt x="10046" y="6615"/>
                </a:cubicBezTo>
                <a:cubicBezTo>
                  <a:pt x="10019" y="6566"/>
                  <a:pt x="9982" y="6595"/>
                  <a:pt x="9952" y="6623"/>
                </a:cubicBezTo>
                <a:cubicBezTo>
                  <a:pt x="9894" y="6677"/>
                  <a:pt x="9853" y="6751"/>
                  <a:pt x="9821" y="6823"/>
                </a:cubicBezTo>
                <a:cubicBezTo>
                  <a:pt x="9788" y="6897"/>
                  <a:pt x="9769" y="6978"/>
                  <a:pt x="9781" y="7059"/>
                </a:cubicBezTo>
                <a:cubicBezTo>
                  <a:pt x="9791" y="7124"/>
                  <a:pt x="9826" y="7186"/>
                  <a:pt x="9886" y="7218"/>
                </a:cubicBezTo>
                <a:cubicBezTo>
                  <a:pt x="9930" y="7241"/>
                  <a:pt x="9974" y="7238"/>
                  <a:pt x="10021" y="7238"/>
                </a:cubicBezTo>
              </a:path>
              <a:path w="1744" h="753">
                <a:moveTo>
                  <a:pt x="10361" y="6651"/>
                </a:moveTo>
                <a:cubicBezTo>
                  <a:pt x="10360" y="6637"/>
                  <a:pt x="10360" y="6632"/>
                  <a:pt x="10357" y="6623"/>
                </a:cubicBezTo>
                <a:cubicBezTo>
                  <a:pt x="10321" y="6625"/>
                  <a:pt x="10309" y="6663"/>
                  <a:pt x="10292" y="6700"/>
                </a:cubicBezTo>
                <a:cubicBezTo>
                  <a:pt x="10257" y="6774"/>
                  <a:pt x="10235" y="6856"/>
                  <a:pt x="10228" y="6938"/>
                </a:cubicBezTo>
                <a:cubicBezTo>
                  <a:pt x="10222" y="7006"/>
                  <a:pt x="10225" y="7089"/>
                  <a:pt x="10260" y="7150"/>
                </a:cubicBezTo>
                <a:cubicBezTo>
                  <a:pt x="10278" y="7181"/>
                  <a:pt x="10299" y="7189"/>
                  <a:pt x="10329" y="7199"/>
                </a:cubicBezTo>
              </a:path>
              <a:path w="1744" h="753">
                <a:moveTo>
                  <a:pt x="10460" y="6924"/>
                </a:moveTo>
                <a:cubicBezTo>
                  <a:pt x="10464" y="6960"/>
                  <a:pt x="10463" y="6999"/>
                  <a:pt x="10461" y="7035"/>
                </a:cubicBezTo>
                <a:cubicBezTo>
                  <a:pt x="10458" y="7086"/>
                  <a:pt x="10453" y="7137"/>
                  <a:pt x="10454" y="7189"/>
                </a:cubicBezTo>
                <a:cubicBezTo>
                  <a:pt x="10454" y="7195"/>
                  <a:pt x="10455" y="7200"/>
                  <a:pt x="10455" y="7206"/>
                </a:cubicBezTo>
                <a:cubicBezTo>
                  <a:pt x="10475" y="7160"/>
                  <a:pt x="10485" y="7113"/>
                  <a:pt x="10501" y="7066"/>
                </a:cubicBezTo>
                <a:cubicBezTo>
                  <a:pt x="10515" y="7025"/>
                  <a:pt x="10528" y="6971"/>
                  <a:pt x="10558" y="6938"/>
                </a:cubicBezTo>
                <a:cubicBezTo>
                  <a:pt x="10563" y="6934"/>
                  <a:pt x="10569" y="6931"/>
                  <a:pt x="10574" y="6927"/>
                </a:cubicBezTo>
                <a:cubicBezTo>
                  <a:pt x="10604" y="6941"/>
                  <a:pt x="10612" y="6964"/>
                  <a:pt x="10627" y="6994"/>
                </a:cubicBezTo>
                <a:cubicBezTo>
                  <a:pt x="10647" y="7032"/>
                  <a:pt x="10664" y="7071"/>
                  <a:pt x="10686" y="7108"/>
                </a:cubicBezTo>
              </a:path>
              <a:path w="1744" h="753">
                <a:moveTo>
                  <a:pt x="10853" y="7100"/>
                </a:moveTo>
                <a:cubicBezTo>
                  <a:pt x="10830" y="7143"/>
                  <a:pt x="10804" y="7186"/>
                  <a:pt x="10788" y="7232"/>
                </a:cubicBezTo>
                <a:cubicBezTo>
                  <a:pt x="10777" y="7264"/>
                  <a:pt x="10763" y="7296"/>
                  <a:pt x="10761" y="7330"/>
                </a:cubicBezTo>
                <a:cubicBezTo>
                  <a:pt x="10761" y="7333"/>
                  <a:pt x="10761" y="7337"/>
                  <a:pt x="10761" y="7340"/>
                </a:cubicBezTo>
              </a:path>
              <a:path w="1744" h="753">
                <a:moveTo>
                  <a:pt x="11027" y="6829"/>
                </a:moveTo>
                <a:cubicBezTo>
                  <a:pt x="11036" y="6809"/>
                  <a:pt x="11038" y="6804"/>
                  <a:pt x="11043" y="6792"/>
                </a:cubicBezTo>
                <a:cubicBezTo>
                  <a:pt x="11037" y="6844"/>
                  <a:pt x="11034" y="6894"/>
                  <a:pt x="11037" y="6946"/>
                </a:cubicBezTo>
                <a:cubicBezTo>
                  <a:pt x="11040" y="7004"/>
                  <a:pt x="11041" y="7074"/>
                  <a:pt x="11062" y="7129"/>
                </a:cubicBezTo>
                <a:cubicBezTo>
                  <a:pt x="11073" y="7157"/>
                  <a:pt x="11080" y="7159"/>
                  <a:pt x="11104" y="7162"/>
                </a:cubicBezTo>
              </a:path>
              <a:path w="1744" h="753">
                <a:moveTo>
                  <a:pt x="11187" y="6761"/>
                </a:moveTo>
                <a:cubicBezTo>
                  <a:pt x="11179" y="6736"/>
                  <a:pt x="11165" y="6789"/>
                  <a:pt x="11152" y="6810"/>
                </a:cubicBezTo>
                <a:cubicBezTo>
                  <a:pt x="11127" y="6850"/>
                  <a:pt x="11097" y="6887"/>
                  <a:pt x="11074" y="6929"/>
                </a:cubicBezTo>
                <a:cubicBezTo>
                  <a:pt x="11061" y="6953"/>
                  <a:pt x="11045" y="6984"/>
                  <a:pt x="11079" y="6996"/>
                </a:cubicBezTo>
                <a:cubicBezTo>
                  <a:pt x="11119" y="7010"/>
                  <a:pt x="11174" y="7002"/>
                  <a:pt x="11215" y="6997"/>
                </a:cubicBezTo>
                <a:cubicBezTo>
                  <a:pt x="11250" y="6992"/>
                  <a:pt x="11279" y="6983"/>
                  <a:pt x="11312" y="6971"/>
                </a:cubicBezTo>
              </a:path>
              <a:path w="1744" h="753">
                <a:moveTo>
                  <a:pt x="11437" y="6702"/>
                </a:moveTo>
                <a:cubicBezTo>
                  <a:pt x="11466" y="6701"/>
                  <a:pt x="11465" y="6717"/>
                  <a:pt x="11474" y="6741"/>
                </a:cubicBezTo>
                <a:cubicBezTo>
                  <a:pt x="11497" y="6803"/>
                  <a:pt x="11508" y="6868"/>
                  <a:pt x="11513" y="6934"/>
                </a:cubicBezTo>
                <a:cubicBezTo>
                  <a:pt x="11519" y="7014"/>
                  <a:pt x="11518" y="7092"/>
                  <a:pt x="11512" y="7172"/>
                </a:cubicBezTo>
                <a:cubicBezTo>
                  <a:pt x="11509" y="7214"/>
                  <a:pt x="11503" y="7255"/>
                  <a:pt x="11497" y="729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6083280" y="993600"/>
            <a:ext cx="939960" cy="295560"/>
          </a:xfrm>
          <a:custGeom>
            <a:avLst/>
            <a:gdLst/>
            <a:ahLst/>
            <a:rect l="l" t="t" r="r" b="b"/>
            <a:pathLst>
              <a:path w="2608" h="819">
                <a:moveTo>
                  <a:pt x="16919" y="2935"/>
                </a:moveTo>
                <a:cubicBezTo>
                  <a:pt x="16917" y="2997"/>
                  <a:pt x="16915" y="3059"/>
                  <a:pt x="16912" y="3121"/>
                </a:cubicBezTo>
                <a:cubicBezTo>
                  <a:pt x="16907" y="3215"/>
                  <a:pt x="16913" y="3309"/>
                  <a:pt x="16914" y="3404"/>
                </a:cubicBezTo>
                <a:cubicBezTo>
                  <a:pt x="16914" y="3436"/>
                  <a:pt x="16928" y="3510"/>
                  <a:pt x="16914" y="3541"/>
                </a:cubicBezTo>
                <a:cubicBezTo>
                  <a:pt x="16913" y="3534"/>
                  <a:pt x="16911" y="3526"/>
                  <a:pt x="16910" y="3519"/>
                </a:cubicBezTo>
                <a:cubicBezTo>
                  <a:pt x="16911" y="3466"/>
                  <a:pt x="16907" y="3413"/>
                  <a:pt x="16906" y="3360"/>
                </a:cubicBezTo>
                <a:cubicBezTo>
                  <a:pt x="16904" y="3275"/>
                  <a:pt x="16902" y="3190"/>
                  <a:pt x="16901" y="3105"/>
                </a:cubicBezTo>
                <a:cubicBezTo>
                  <a:pt x="16900" y="3025"/>
                  <a:pt x="16899" y="2949"/>
                  <a:pt x="16915" y="2871"/>
                </a:cubicBezTo>
                <a:cubicBezTo>
                  <a:pt x="16925" y="2820"/>
                  <a:pt x="16943" y="2779"/>
                  <a:pt x="16997" y="2764"/>
                </a:cubicBezTo>
                <a:cubicBezTo>
                  <a:pt x="17047" y="2750"/>
                  <a:pt x="17095" y="2783"/>
                  <a:pt x="17121" y="2825"/>
                </a:cubicBezTo>
                <a:cubicBezTo>
                  <a:pt x="17162" y="2891"/>
                  <a:pt x="17159" y="2971"/>
                  <a:pt x="17147" y="3045"/>
                </a:cubicBezTo>
                <a:cubicBezTo>
                  <a:pt x="17136" y="3116"/>
                  <a:pt x="17108" y="3182"/>
                  <a:pt x="17083" y="3249"/>
                </a:cubicBezTo>
                <a:cubicBezTo>
                  <a:pt x="17104" y="3250"/>
                  <a:pt x="17128" y="3248"/>
                  <a:pt x="17151" y="3249"/>
                </a:cubicBezTo>
                <a:cubicBezTo>
                  <a:pt x="17204" y="3252"/>
                  <a:pt x="17223" y="3298"/>
                  <a:pt x="17219" y="3347"/>
                </a:cubicBezTo>
                <a:cubicBezTo>
                  <a:pt x="17213" y="3418"/>
                  <a:pt x="17175" y="3488"/>
                  <a:pt x="17134" y="3545"/>
                </a:cubicBezTo>
                <a:cubicBezTo>
                  <a:pt x="17105" y="3585"/>
                  <a:pt x="17077" y="3586"/>
                  <a:pt x="17106" y="3534"/>
                </a:cubicBezTo>
                <a:cubicBezTo>
                  <a:pt x="17114" y="3522"/>
                  <a:pt x="17121" y="3509"/>
                  <a:pt x="17129" y="3497"/>
                </a:cubicBezTo>
              </a:path>
              <a:path w="2608" h="819">
                <a:moveTo>
                  <a:pt x="17345" y="3297"/>
                </a:moveTo>
                <a:cubicBezTo>
                  <a:pt x="17353" y="3332"/>
                  <a:pt x="17351" y="3366"/>
                  <a:pt x="17355" y="3401"/>
                </a:cubicBezTo>
                <a:cubicBezTo>
                  <a:pt x="17358" y="3423"/>
                  <a:pt x="17361" y="3487"/>
                  <a:pt x="17381" y="3502"/>
                </a:cubicBezTo>
                <a:cubicBezTo>
                  <a:pt x="17393" y="3503"/>
                  <a:pt x="17397" y="3502"/>
                  <a:pt x="17402" y="3492"/>
                </a:cubicBezTo>
              </a:path>
              <a:path w="2608" h="819">
                <a:moveTo>
                  <a:pt x="17442" y="2980"/>
                </a:moveTo>
                <a:cubicBezTo>
                  <a:pt x="17445" y="2932"/>
                  <a:pt x="17440" y="2896"/>
                  <a:pt x="17470" y="2858"/>
                </a:cubicBezTo>
                <a:cubicBezTo>
                  <a:pt x="17483" y="2843"/>
                  <a:pt x="17489" y="2839"/>
                  <a:pt x="17506" y="2850"/>
                </a:cubicBezTo>
              </a:path>
              <a:path w="2608" h="819">
                <a:moveTo>
                  <a:pt x="17674" y="3351"/>
                </a:moveTo>
                <a:cubicBezTo>
                  <a:pt x="17673" y="3391"/>
                  <a:pt x="17667" y="3430"/>
                  <a:pt x="17666" y="3470"/>
                </a:cubicBezTo>
                <a:cubicBezTo>
                  <a:pt x="17670" y="3439"/>
                  <a:pt x="17678" y="3411"/>
                  <a:pt x="17689" y="3381"/>
                </a:cubicBezTo>
                <a:cubicBezTo>
                  <a:pt x="17701" y="3349"/>
                  <a:pt x="17714" y="3298"/>
                  <a:pt x="17745" y="3278"/>
                </a:cubicBezTo>
                <a:cubicBezTo>
                  <a:pt x="17750" y="3277"/>
                  <a:pt x="17754" y="3276"/>
                  <a:pt x="17759" y="3275"/>
                </a:cubicBezTo>
                <a:cubicBezTo>
                  <a:pt x="17786" y="3308"/>
                  <a:pt x="17794" y="3345"/>
                  <a:pt x="17810" y="3385"/>
                </a:cubicBezTo>
                <a:cubicBezTo>
                  <a:pt x="17826" y="3427"/>
                  <a:pt x="17842" y="3492"/>
                  <a:pt x="17886" y="3515"/>
                </a:cubicBezTo>
                <a:cubicBezTo>
                  <a:pt x="17912" y="3520"/>
                  <a:pt x="17922" y="3522"/>
                  <a:pt x="17940" y="3517"/>
                </a:cubicBezTo>
              </a:path>
              <a:path w="2608" h="819">
                <a:moveTo>
                  <a:pt x="18142" y="3276"/>
                </a:moveTo>
                <a:cubicBezTo>
                  <a:pt x="18112" y="3249"/>
                  <a:pt x="18090" y="3283"/>
                  <a:pt x="18064" y="3309"/>
                </a:cubicBezTo>
                <a:cubicBezTo>
                  <a:pt x="18026" y="3348"/>
                  <a:pt x="17991" y="3390"/>
                  <a:pt x="17973" y="3443"/>
                </a:cubicBezTo>
                <a:cubicBezTo>
                  <a:pt x="17961" y="3479"/>
                  <a:pt x="17968" y="3517"/>
                  <a:pt x="18011" y="3521"/>
                </a:cubicBezTo>
                <a:cubicBezTo>
                  <a:pt x="18062" y="3526"/>
                  <a:pt x="18109" y="3499"/>
                  <a:pt x="18149" y="3472"/>
                </a:cubicBezTo>
                <a:cubicBezTo>
                  <a:pt x="18187" y="3447"/>
                  <a:pt x="18224" y="3404"/>
                  <a:pt x="18243" y="3363"/>
                </a:cubicBezTo>
                <a:cubicBezTo>
                  <a:pt x="18253" y="3341"/>
                  <a:pt x="18259" y="3316"/>
                  <a:pt x="18265" y="3293"/>
                </a:cubicBezTo>
              </a:path>
              <a:path w="2608" h="819">
                <a:moveTo>
                  <a:pt x="18324" y="3336"/>
                </a:moveTo>
                <a:cubicBezTo>
                  <a:pt x="18326" y="3372"/>
                  <a:pt x="18318" y="3410"/>
                  <a:pt x="18320" y="3444"/>
                </a:cubicBezTo>
                <a:cubicBezTo>
                  <a:pt x="18321" y="3463"/>
                  <a:pt x="18326" y="3482"/>
                  <a:pt x="18333" y="3499"/>
                </a:cubicBezTo>
                <a:cubicBezTo>
                  <a:pt x="18363" y="3491"/>
                  <a:pt x="18369" y="3485"/>
                  <a:pt x="18392" y="3458"/>
                </a:cubicBezTo>
                <a:cubicBezTo>
                  <a:pt x="18427" y="3418"/>
                  <a:pt x="18463" y="3359"/>
                  <a:pt x="18512" y="3335"/>
                </a:cubicBezTo>
                <a:cubicBezTo>
                  <a:pt x="18542" y="3320"/>
                  <a:pt x="18557" y="3341"/>
                  <a:pt x="18566" y="3367"/>
                </a:cubicBezTo>
                <a:cubicBezTo>
                  <a:pt x="18574" y="3392"/>
                  <a:pt x="18575" y="3417"/>
                  <a:pt x="18585" y="3441"/>
                </a:cubicBezTo>
                <a:cubicBezTo>
                  <a:pt x="18618" y="3434"/>
                  <a:pt x="18628" y="3418"/>
                  <a:pt x="18651" y="3392"/>
                </a:cubicBezTo>
                <a:cubicBezTo>
                  <a:pt x="18659" y="3383"/>
                  <a:pt x="18693" y="3336"/>
                  <a:pt x="18711" y="3346"/>
                </a:cubicBezTo>
                <a:cubicBezTo>
                  <a:pt x="18739" y="3362"/>
                  <a:pt x="18744" y="3414"/>
                  <a:pt x="18769" y="3437"/>
                </a:cubicBezTo>
                <a:cubicBezTo>
                  <a:pt x="18787" y="3453"/>
                  <a:pt x="18800" y="3447"/>
                  <a:pt x="18820" y="3443"/>
                </a:cubicBezTo>
              </a:path>
              <a:path w="2608" h="819">
                <a:moveTo>
                  <a:pt x="18936" y="3280"/>
                </a:moveTo>
                <a:cubicBezTo>
                  <a:pt x="18922" y="3302"/>
                  <a:pt x="18913" y="3322"/>
                  <a:pt x="18915" y="3349"/>
                </a:cubicBezTo>
                <a:cubicBezTo>
                  <a:pt x="18917" y="3377"/>
                  <a:pt x="18918" y="3405"/>
                  <a:pt x="18926" y="3431"/>
                </a:cubicBezTo>
              </a:path>
              <a:path w="2608" h="819">
                <a:moveTo>
                  <a:pt x="18947" y="3303"/>
                </a:moveTo>
                <a:cubicBezTo>
                  <a:pt x="18950" y="3270"/>
                  <a:pt x="18959" y="3236"/>
                  <a:pt x="18963" y="3205"/>
                </a:cubicBezTo>
                <a:cubicBezTo>
                  <a:pt x="18961" y="3186"/>
                  <a:pt x="18959" y="3182"/>
                  <a:pt x="18968" y="3173"/>
                </a:cubicBezTo>
              </a:path>
              <a:path w="2608" h="819">
                <a:moveTo>
                  <a:pt x="19109" y="3225"/>
                </a:moveTo>
                <a:cubicBezTo>
                  <a:pt x="19113" y="3250"/>
                  <a:pt x="19107" y="3260"/>
                  <a:pt x="19098" y="3283"/>
                </a:cubicBezTo>
                <a:cubicBezTo>
                  <a:pt x="19085" y="3314"/>
                  <a:pt x="19073" y="3345"/>
                  <a:pt x="19063" y="3377"/>
                </a:cubicBezTo>
                <a:cubicBezTo>
                  <a:pt x="19058" y="3395"/>
                  <a:pt x="19041" y="3431"/>
                  <a:pt x="19068" y="3439"/>
                </a:cubicBezTo>
                <a:cubicBezTo>
                  <a:pt x="19082" y="3443"/>
                  <a:pt x="19111" y="3423"/>
                  <a:pt x="19123" y="3418"/>
                </a:cubicBezTo>
                <a:cubicBezTo>
                  <a:pt x="19150" y="3406"/>
                  <a:pt x="19161" y="3411"/>
                  <a:pt x="19184" y="3426"/>
                </a:cubicBezTo>
                <a:cubicBezTo>
                  <a:pt x="19213" y="3444"/>
                  <a:pt x="19224" y="3450"/>
                  <a:pt x="19256" y="3431"/>
                </a:cubicBezTo>
                <a:cubicBezTo>
                  <a:pt x="19270" y="3423"/>
                  <a:pt x="19276" y="3404"/>
                  <a:pt x="19284" y="3391"/>
                </a:cubicBezTo>
              </a:path>
              <a:path w="2608" h="819">
                <a:moveTo>
                  <a:pt x="19506" y="2915"/>
                </a:moveTo>
                <a:cubicBezTo>
                  <a:pt x="19504" y="2980"/>
                  <a:pt x="19486" y="3040"/>
                  <a:pt x="19476" y="3105"/>
                </a:cubicBezTo>
                <a:cubicBezTo>
                  <a:pt x="19462" y="3194"/>
                  <a:pt x="19447" y="3285"/>
                  <a:pt x="19439" y="3375"/>
                </a:cubicBezTo>
                <a:cubicBezTo>
                  <a:pt x="19436" y="3414"/>
                  <a:pt x="19437" y="3454"/>
                  <a:pt x="19438" y="349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7175520" y="966960"/>
            <a:ext cx="774720" cy="301320"/>
          </a:xfrm>
          <a:custGeom>
            <a:avLst/>
            <a:gdLst/>
            <a:ahLst/>
            <a:rect l="l" t="t" r="r" b="b"/>
            <a:pathLst>
              <a:path w="2154" h="839">
                <a:moveTo>
                  <a:pt x="20216" y="2809"/>
                </a:moveTo>
                <a:cubicBezTo>
                  <a:pt x="20188" y="2868"/>
                  <a:pt x="20171" y="2933"/>
                  <a:pt x="20158" y="2997"/>
                </a:cubicBezTo>
                <a:cubicBezTo>
                  <a:pt x="20136" y="3106"/>
                  <a:pt x="20114" y="3215"/>
                  <a:pt x="20107" y="3326"/>
                </a:cubicBezTo>
                <a:cubicBezTo>
                  <a:pt x="20104" y="3368"/>
                  <a:pt x="20102" y="3408"/>
                  <a:pt x="20097" y="3450"/>
                </a:cubicBezTo>
              </a:path>
              <a:path w="2154" h="839">
                <a:moveTo>
                  <a:pt x="19932" y="2857"/>
                </a:moveTo>
                <a:cubicBezTo>
                  <a:pt x="19953" y="2822"/>
                  <a:pt x="19989" y="2809"/>
                  <a:pt x="20031" y="2795"/>
                </a:cubicBezTo>
                <a:cubicBezTo>
                  <a:pt x="20100" y="2773"/>
                  <a:pt x="20169" y="2752"/>
                  <a:pt x="20238" y="2730"/>
                </a:cubicBezTo>
                <a:cubicBezTo>
                  <a:pt x="20280" y="2717"/>
                  <a:pt x="20316" y="2704"/>
                  <a:pt x="20355" y="2685"/>
                </a:cubicBezTo>
                <a:cubicBezTo>
                  <a:pt x="20336" y="2719"/>
                  <a:pt x="20321" y="2750"/>
                  <a:pt x="20310" y="2788"/>
                </a:cubicBezTo>
                <a:cubicBezTo>
                  <a:pt x="20287" y="2873"/>
                  <a:pt x="20290" y="2963"/>
                  <a:pt x="20290" y="3050"/>
                </a:cubicBezTo>
                <a:cubicBezTo>
                  <a:pt x="20290" y="3140"/>
                  <a:pt x="20295" y="3231"/>
                  <a:pt x="20300" y="3321"/>
                </a:cubicBezTo>
                <a:cubicBezTo>
                  <a:pt x="20302" y="3350"/>
                  <a:pt x="20307" y="3371"/>
                  <a:pt x="20312" y="3395"/>
                </a:cubicBezTo>
                <a:cubicBezTo>
                  <a:pt x="20324" y="3358"/>
                  <a:pt x="20337" y="3320"/>
                  <a:pt x="20349" y="3282"/>
                </a:cubicBezTo>
                <a:cubicBezTo>
                  <a:pt x="20364" y="3236"/>
                  <a:pt x="20382" y="3176"/>
                  <a:pt x="20417" y="3140"/>
                </a:cubicBezTo>
                <a:cubicBezTo>
                  <a:pt x="20422" y="3137"/>
                  <a:pt x="20428" y="3133"/>
                  <a:pt x="20433" y="3130"/>
                </a:cubicBezTo>
                <a:cubicBezTo>
                  <a:pt x="20451" y="3158"/>
                  <a:pt x="20457" y="3180"/>
                  <a:pt x="20466" y="3218"/>
                </a:cubicBezTo>
              </a:path>
              <a:path w="2154" h="839">
                <a:moveTo>
                  <a:pt x="20679" y="3243"/>
                </a:moveTo>
                <a:cubicBezTo>
                  <a:pt x="20701" y="3240"/>
                  <a:pt x="20731" y="3227"/>
                  <a:pt x="20750" y="3213"/>
                </a:cubicBezTo>
                <a:cubicBezTo>
                  <a:pt x="20777" y="3194"/>
                  <a:pt x="20811" y="3173"/>
                  <a:pt x="20834" y="3149"/>
                </a:cubicBezTo>
                <a:cubicBezTo>
                  <a:pt x="20856" y="3126"/>
                  <a:pt x="20865" y="3114"/>
                  <a:pt x="20848" y="3091"/>
                </a:cubicBezTo>
                <a:cubicBezTo>
                  <a:pt x="20809" y="3099"/>
                  <a:pt x="20773" y="3111"/>
                  <a:pt x="20738" y="3131"/>
                </a:cubicBezTo>
                <a:cubicBezTo>
                  <a:pt x="20705" y="3150"/>
                  <a:pt x="20623" y="3200"/>
                  <a:pt x="20631" y="3248"/>
                </a:cubicBezTo>
                <a:cubicBezTo>
                  <a:pt x="20638" y="3287"/>
                  <a:pt x="20708" y="3294"/>
                  <a:pt x="20737" y="3298"/>
                </a:cubicBezTo>
                <a:cubicBezTo>
                  <a:pt x="20781" y="3300"/>
                  <a:pt x="20798" y="3301"/>
                  <a:pt x="20828" y="3300"/>
                </a:cubicBezTo>
              </a:path>
              <a:path w="2154" h="839">
                <a:moveTo>
                  <a:pt x="21149" y="3123"/>
                </a:moveTo>
                <a:cubicBezTo>
                  <a:pt x="21124" y="3120"/>
                  <a:pt x="21098" y="3134"/>
                  <a:pt x="21079" y="3154"/>
                </a:cubicBezTo>
                <a:cubicBezTo>
                  <a:pt x="21057" y="3177"/>
                  <a:pt x="21036" y="3215"/>
                  <a:pt x="21029" y="3247"/>
                </a:cubicBezTo>
                <a:cubicBezTo>
                  <a:pt x="21024" y="3272"/>
                  <a:pt x="21031" y="3288"/>
                  <a:pt x="21058" y="3288"/>
                </a:cubicBezTo>
                <a:cubicBezTo>
                  <a:pt x="21093" y="3288"/>
                  <a:pt x="21126" y="3264"/>
                  <a:pt x="21151" y="3242"/>
                </a:cubicBezTo>
                <a:cubicBezTo>
                  <a:pt x="21186" y="3210"/>
                  <a:pt x="21204" y="3175"/>
                  <a:pt x="21222" y="3132"/>
                </a:cubicBezTo>
                <a:cubicBezTo>
                  <a:pt x="21232" y="3108"/>
                  <a:pt x="21233" y="3089"/>
                  <a:pt x="21235" y="3064"/>
                </a:cubicBezTo>
              </a:path>
              <a:path w="2154" h="839">
                <a:moveTo>
                  <a:pt x="21327" y="3263"/>
                </a:moveTo>
                <a:cubicBezTo>
                  <a:pt x="21331" y="3304"/>
                  <a:pt x="21335" y="3347"/>
                  <a:pt x="21335" y="3389"/>
                </a:cubicBezTo>
                <a:cubicBezTo>
                  <a:pt x="21333" y="3402"/>
                  <a:pt x="21332" y="3405"/>
                  <a:pt x="21339" y="3412"/>
                </a:cubicBezTo>
                <a:cubicBezTo>
                  <a:pt x="21357" y="3384"/>
                  <a:pt x="21366" y="3354"/>
                  <a:pt x="21379" y="3322"/>
                </a:cubicBezTo>
                <a:cubicBezTo>
                  <a:pt x="21393" y="3286"/>
                  <a:pt x="21402" y="3234"/>
                  <a:pt x="21424" y="3202"/>
                </a:cubicBezTo>
                <a:cubicBezTo>
                  <a:pt x="21434" y="3187"/>
                  <a:pt x="21446" y="3192"/>
                  <a:pt x="21460" y="3194"/>
                </a:cubicBezTo>
              </a:path>
              <a:path w="2154" h="839">
                <a:moveTo>
                  <a:pt x="21542" y="3301"/>
                </a:moveTo>
                <a:cubicBezTo>
                  <a:pt x="21553" y="3285"/>
                  <a:pt x="21557" y="3281"/>
                  <a:pt x="21578" y="3270"/>
                </a:cubicBezTo>
                <a:cubicBezTo>
                  <a:pt x="21605" y="3256"/>
                  <a:pt x="21633" y="3242"/>
                  <a:pt x="21661" y="3230"/>
                </a:cubicBezTo>
                <a:cubicBezTo>
                  <a:pt x="21683" y="3220"/>
                  <a:pt x="21709" y="3213"/>
                  <a:pt x="21726" y="3194"/>
                </a:cubicBezTo>
                <a:cubicBezTo>
                  <a:pt x="21727" y="3190"/>
                  <a:pt x="21729" y="3186"/>
                  <a:pt x="21730" y="3182"/>
                </a:cubicBezTo>
                <a:cubicBezTo>
                  <a:pt x="21702" y="3184"/>
                  <a:pt x="21684" y="3195"/>
                  <a:pt x="21662" y="3213"/>
                </a:cubicBezTo>
                <a:cubicBezTo>
                  <a:pt x="21633" y="3236"/>
                  <a:pt x="21582" y="3297"/>
                  <a:pt x="21606" y="3337"/>
                </a:cubicBezTo>
                <a:cubicBezTo>
                  <a:pt x="21623" y="3365"/>
                  <a:pt x="21660" y="3358"/>
                  <a:pt x="21685" y="3352"/>
                </a:cubicBezTo>
                <a:cubicBezTo>
                  <a:pt x="21725" y="3342"/>
                  <a:pt x="21761" y="3321"/>
                  <a:pt x="21796" y="3300"/>
                </a:cubicBezTo>
                <a:cubicBezTo>
                  <a:pt x="21812" y="3290"/>
                  <a:pt x="21825" y="3285"/>
                  <a:pt x="21842" y="3278"/>
                </a:cubicBezTo>
                <a:cubicBezTo>
                  <a:pt x="21844" y="3309"/>
                  <a:pt x="21836" y="3334"/>
                  <a:pt x="21824" y="3363"/>
                </a:cubicBezTo>
                <a:cubicBezTo>
                  <a:pt x="21816" y="3382"/>
                  <a:pt x="21810" y="3399"/>
                  <a:pt x="21803" y="3418"/>
                </a:cubicBezTo>
                <a:cubicBezTo>
                  <a:pt x="21826" y="3404"/>
                  <a:pt x="21845" y="3387"/>
                  <a:pt x="21867" y="3365"/>
                </a:cubicBezTo>
                <a:cubicBezTo>
                  <a:pt x="21891" y="3341"/>
                  <a:pt x="21938" y="3286"/>
                  <a:pt x="21979" y="3295"/>
                </a:cubicBezTo>
                <a:cubicBezTo>
                  <a:pt x="22010" y="3302"/>
                  <a:pt x="22011" y="3350"/>
                  <a:pt x="22016" y="3373"/>
                </a:cubicBezTo>
                <a:cubicBezTo>
                  <a:pt x="22024" y="3409"/>
                  <a:pt x="22026" y="3446"/>
                  <a:pt x="22037" y="3482"/>
                </a:cubicBezTo>
                <a:cubicBezTo>
                  <a:pt x="22047" y="3513"/>
                  <a:pt x="22058" y="3523"/>
                  <a:pt x="22085" y="351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687240" y="2909880"/>
            <a:ext cx="1968480" cy="60480"/>
          </a:xfrm>
          <a:custGeom>
            <a:avLst/>
            <a:gdLst/>
            <a:ahLst/>
            <a:rect l="l" t="t" r="r" b="b"/>
            <a:pathLst>
              <a:path w="5469" h="165">
                <a:moveTo>
                  <a:pt x="1953" y="8225"/>
                </a:moveTo>
                <a:cubicBezTo>
                  <a:pt x="1934" y="8224"/>
                  <a:pt x="1938" y="8220"/>
                  <a:pt x="1919" y="8215"/>
                </a:cubicBezTo>
                <a:cubicBezTo>
                  <a:pt x="2091" y="8248"/>
                  <a:pt x="2251" y="8251"/>
                  <a:pt x="2427" y="8235"/>
                </a:cubicBezTo>
                <a:cubicBezTo>
                  <a:pt x="2931" y="8190"/>
                  <a:pt x="3411" y="8132"/>
                  <a:pt x="3919" y="8144"/>
                </a:cubicBezTo>
                <a:cubicBezTo>
                  <a:pt x="4417" y="8156"/>
                  <a:pt x="4915" y="8125"/>
                  <a:pt x="5413" y="8137"/>
                </a:cubicBezTo>
                <a:cubicBezTo>
                  <a:pt x="5813" y="8146"/>
                  <a:pt x="6217" y="8160"/>
                  <a:pt x="6617" y="8156"/>
                </a:cubicBezTo>
                <a:cubicBezTo>
                  <a:pt x="6849" y="8154"/>
                  <a:pt x="7183" y="8116"/>
                  <a:pt x="7363" y="8084"/>
                </a:cubicBezTo>
                <a:cubicBezTo>
                  <a:pt x="7313" y="8089"/>
                  <a:pt x="7269" y="8093"/>
                  <a:pt x="7216" y="809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2155680" y="3168720"/>
            <a:ext cx="263520" cy="455400"/>
          </a:xfrm>
          <a:custGeom>
            <a:avLst/>
            <a:gdLst/>
            <a:ahLst/>
            <a:rect l="l" t="t" r="r" b="b"/>
            <a:pathLst>
              <a:path w="732" h="1266">
                <a:moveTo>
                  <a:pt x="6184" y="8857"/>
                </a:moveTo>
                <a:cubicBezTo>
                  <a:pt x="6169" y="8832"/>
                  <a:pt x="6160" y="8820"/>
                  <a:pt x="6142" y="8800"/>
                </a:cubicBezTo>
                <a:cubicBezTo>
                  <a:pt x="6145" y="8850"/>
                  <a:pt x="6150" y="8898"/>
                  <a:pt x="6160" y="8948"/>
                </a:cubicBezTo>
                <a:cubicBezTo>
                  <a:pt x="6229" y="9298"/>
                  <a:pt x="6302" y="9648"/>
                  <a:pt x="6378" y="9997"/>
                </a:cubicBezTo>
                <a:cubicBezTo>
                  <a:pt x="6379" y="10001"/>
                  <a:pt x="6379" y="10004"/>
                  <a:pt x="6380" y="10008"/>
                </a:cubicBezTo>
                <a:cubicBezTo>
                  <a:pt x="6359" y="9990"/>
                  <a:pt x="6339" y="9971"/>
                  <a:pt x="6318" y="9953"/>
                </a:cubicBezTo>
                <a:cubicBezTo>
                  <a:pt x="6217" y="9864"/>
                  <a:pt x="6112" y="9755"/>
                  <a:pt x="5991" y="9702"/>
                </a:cubicBezTo>
                <a:cubicBezTo>
                  <a:pt x="6015" y="9745"/>
                  <a:pt x="6045" y="9781"/>
                  <a:pt x="6081" y="9821"/>
                </a:cubicBezTo>
                <a:cubicBezTo>
                  <a:pt x="6116" y="9860"/>
                  <a:pt x="6273" y="10075"/>
                  <a:pt x="6337" y="10065"/>
                </a:cubicBezTo>
                <a:cubicBezTo>
                  <a:pt x="6381" y="10058"/>
                  <a:pt x="6428" y="9979"/>
                  <a:pt x="6451" y="9949"/>
                </a:cubicBezTo>
                <a:cubicBezTo>
                  <a:pt x="6511" y="9872"/>
                  <a:pt x="6571" y="9794"/>
                  <a:pt x="6631" y="9717"/>
                </a:cubicBezTo>
                <a:cubicBezTo>
                  <a:pt x="6664" y="9675"/>
                  <a:pt x="6693" y="9635"/>
                  <a:pt x="6721" y="959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1595520" y="4734000"/>
            <a:ext cx="1457280" cy="363600"/>
          </a:xfrm>
          <a:custGeom>
            <a:avLst/>
            <a:gdLst/>
            <a:ahLst/>
            <a:rect l="l" t="t" r="r" b="b"/>
            <a:pathLst>
              <a:path w="4047" h="1008">
                <a:moveTo>
                  <a:pt x="4832" y="13273"/>
                </a:moveTo>
                <a:cubicBezTo>
                  <a:pt x="4822" y="13248"/>
                  <a:pt x="4814" y="13213"/>
                  <a:pt x="4785" y="13201"/>
                </a:cubicBezTo>
                <a:cubicBezTo>
                  <a:pt x="4755" y="13188"/>
                  <a:pt x="4729" y="13199"/>
                  <a:pt x="4703" y="13217"/>
                </a:cubicBezTo>
                <a:cubicBezTo>
                  <a:pt x="4619" y="13278"/>
                  <a:pt x="4565" y="13385"/>
                  <a:pt x="4522" y="13475"/>
                </a:cubicBezTo>
                <a:cubicBezTo>
                  <a:pt x="4475" y="13573"/>
                  <a:pt x="4435" y="13678"/>
                  <a:pt x="4433" y="13788"/>
                </a:cubicBezTo>
                <a:cubicBezTo>
                  <a:pt x="4431" y="13868"/>
                  <a:pt x="4464" y="13945"/>
                  <a:pt x="4547" y="13970"/>
                </a:cubicBezTo>
                <a:cubicBezTo>
                  <a:pt x="4617" y="13991"/>
                  <a:pt x="4689" y="13969"/>
                  <a:pt x="4757" y="13956"/>
                </a:cubicBezTo>
              </a:path>
              <a:path w="4047" h="1008">
                <a:moveTo>
                  <a:pt x="5052" y="13622"/>
                </a:moveTo>
                <a:cubicBezTo>
                  <a:pt x="4989" y="13643"/>
                  <a:pt x="4951" y="13666"/>
                  <a:pt x="4907" y="13717"/>
                </a:cubicBezTo>
                <a:cubicBezTo>
                  <a:pt x="4868" y="13761"/>
                  <a:pt x="4833" y="13819"/>
                  <a:pt x="4844" y="13881"/>
                </a:cubicBezTo>
                <a:cubicBezTo>
                  <a:pt x="4853" y="13934"/>
                  <a:pt x="4902" y="13944"/>
                  <a:pt x="4947" y="13935"/>
                </a:cubicBezTo>
                <a:cubicBezTo>
                  <a:pt x="5011" y="13922"/>
                  <a:pt x="5057" y="13875"/>
                  <a:pt x="5092" y="13823"/>
                </a:cubicBezTo>
                <a:cubicBezTo>
                  <a:pt x="5129" y="13768"/>
                  <a:pt x="5146" y="13707"/>
                  <a:pt x="5160" y="13643"/>
                </a:cubicBezTo>
                <a:cubicBezTo>
                  <a:pt x="5168" y="13607"/>
                  <a:pt x="5171" y="13573"/>
                  <a:pt x="5174" y="13537"/>
                </a:cubicBezTo>
              </a:path>
              <a:path w="4047" h="1008">
                <a:moveTo>
                  <a:pt x="5196" y="13643"/>
                </a:moveTo>
                <a:cubicBezTo>
                  <a:pt x="5202" y="13692"/>
                  <a:pt x="5207" y="13741"/>
                  <a:pt x="5209" y="13791"/>
                </a:cubicBezTo>
                <a:cubicBezTo>
                  <a:pt x="5209" y="13813"/>
                  <a:pt x="5209" y="13821"/>
                  <a:pt x="5213" y="13835"/>
                </a:cubicBezTo>
                <a:cubicBezTo>
                  <a:pt x="5242" y="13807"/>
                  <a:pt x="5249" y="13762"/>
                  <a:pt x="5262" y="13722"/>
                </a:cubicBezTo>
                <a:cubicBezTo>
                  <a:pt x="5275" y="13682"/>
                  <a:pt x="5291" y="13606"/>
                  <a:pt x="5331" y="13582"/>
                </a:cubicBezTo>
                <a:cubicBezTo>
                  <a:pt x="5337" y="13582"/>
                  <a:pt x="5343" y="13581"/>
                  <a:pt x="5349" y="13581"/>
                </a:cubicBezTo>
                <a:cubicBezTo>
                  <a:pt x="5388" y="13636"/>
                  <a:pt x="5401" y="13697"/>
                  <a:pt x="5423" y="13761"/>
                </a:cubicBezTo>
                <a:cubicBezTo>
                  <a:pt x="5444" y="13820"/>
                  <a:pt x="5470" y="13922"/>
                  <a:pt x="5537" y="13946"/>
                </a:cubicBezTo>
                <a:cubicBezTo>
                  <a:pt x="5575" y="13948"/>
                  <a:pt x="5588" y="13948"/>
                  <a:pt x="5609" y="13929"/>
                </a:cubicBezTo>
              </a:path>
              <a:path w="4047" h="1008">
                <a:moveTo>
                  <a:pt x="5789" y="13518"/>
                </a:moveTo>
                <a:cubicBezTo>
                  <a:pt x="5770" y="13500"/>
                  <a:pt x="5778" y="13500"/>
                  <a:pt x="5750" y="13514"/>
                </a:cubicBezTo>
                <a:cubicBezTo>
                  <a:pt x="5721" y="13528"/>
                  <a:pt x="5698" y="13550"/>
                  <a:pt x="5674" y="13573"/>
                </a:cubicBezTo>
                <a:cubicBezTo>
                  <a:pt x="5655" y="13592"/>
                  <a:pt x="5654" y="13590"/>
                  <a:pt x="5660" y="13613"/>
                </a:cubicBezTo>
                <a:cubicBezTo>
                  <a:pt x="5698" y="13628"/>
                  <a:pt x="5736" y="13639"/>
                  <a:pt x="5771" y="13662"/>
                </a:cubicBezTo>
                <a:cubicBezTo>
                  <a:pt x="5826" y="13698"/>
                  <a:pt x="5867" y="13750"/>
                  <a:pt x="5888" y="13813"/>
                </a:cubicBezTo>
                <a:cubicBezTo>
                  <a:pt x="5906" y="13869"/>
                  <a:pt x="5907" y="13936"/>
                  <a:pt x="5873" y="13987"/>
                </a:cubicBezTo>
                <a:cubicBezTo>
                  <a:pt x="5849" y="14022"/>
                  <a:pt x="5804" y="14044"/>
                  <a:pt x="5772" y="14009"/>
                </a:cubicBezTo>
                <a:cubicBezTo>
                  <a:pt x="5725" y="13958"/>
                  <a:pt x="5751" y="13872"/>
                  <a:pt x="5758" y="13813"/>
                </a:cubicBezTo>
              </a:path>
              <a:path w="4047" h="1008">
                <a:moveTo>
                  <a:pt x="5956" y="13150"/>
                </a:moveTo>
                <a:cubicBezTo>
                  <a:pt x="5958" y="13218"/>
                  <a:pt x="5946" y="13285"/>
                  <a:pt x="5947" y="13352"/>
                </a:cubicBezTo>
                <a:cubicBezTo>
                  <a:pt x="5949" y="13477"/>
                  <a:pt x="5973" y="13598"/>
                  <a:pt x="5988" y="13721"/>
                </a:cubicBezTo>
                <a:cubicBezTo>
                  <a:pt x="5996" y="13788"/>
                  <a:pt x="6005" y="13851"/>
                  <a:pt x="6020" y="13917"/>
                </a:cubicBezTo>
              </a:path>
              <a:path w="4047" h="1008">
                <a:moveTo>
                  <a:pt x="5897" y="13585"/>
                </a:moveTo>
                <a:cubicBezTo>
                  <a:pt x="5898" y="13538"/>
                  <a:pt x="5899" y="13506"/>
                  <a:pt x="5946" y="13480"/>
                </a:cubicBezTo>
                <a:cubicBezTo>
                  <a:pt x="5993" y="13454"/>
                  <a:pt x="6054" y="13442"/>
                  <a:pt x="6108" y="13449"/>
                </a:cubicBezTo>
                <a:cubicBezTo>
                  <a:pt x="6122" y="13453"/>
                  <a:pt x="6137" y="13456"/>
                  <a:pt x="6151" y="13460"/>
                </a:cubicBezTo>
              </a:path>
              <a:path w="4047" h="1008">
                <a:moveTo>
                  <a:pt x="6253" y="13727"/>
                </a:moveTo>
                <a:cubicBezTo>
                  <a:pt x="6254" y="13761"/>
                  <a:pt x="6251" y="13806"/>
                  <a:pt x="6265" y="13838"/>
                </a:cubicBezTo>
                <a:cubicBezTo>
                  <a:pt x="6268" y="13840"/>
                  <a:pt x="6272" y="13842"/>
                  <a:pt x="6275" y="13844"/>
                </a:cubicBezTo>
                <a:cubicBezTo>
                  <a:pt x="6286" y="13811"/>
                  <a:pt x="6294" y="13778"/>
                  <a:pt x="6300" y="13742"/>
                </a:cubicBezTo>
                <a:cubicBezTo>
                  <a:pt x="6310" y="13675"/>
                  <a:pt x="6318" y="13594"/>
                  <a:pt x="6354" y="13534"/>
                </a:cubicBezTo>
                <a:cubicBezTo>
                  <a:pt x="6377" y="13497"/>
                  <a:pt x="6405" y="13505"/>
                  <a:pt x="6436" y="13523"/>
                </a:cubicBezTo>
                <a:cubicBezTo>
                  <a:pt x="6471" y="13543"/>
                  <a:pt x="6496" y="13577"/>
                  <a:pt x="6530" y="13600"/>
                </a:cubicBezTo>
                <a:cubicBezTo>
                  <a:pt x="6549" y="13613"/>
                  <a:pt x="6562" y="13608"/>
                  <a:pt x="6583" y="13618"/>
                </a:cubicBezTo>
                <a:cubicBezTo>
                  <a:pt x="6574" y="13612"/>
                  <a:pt x="6571" y="13610"/>
                  <a:pt x="6577" y="13622"/>
                </a:cubicBezTo>
                <a:cubicBezTo>
                  <a:pt x="6585" y="13651"/>
                  <a:pt x="6592" y="13680"/>
                  <a:pt x="6604" y="13708"/>
                </a:cubicBezTo>
                <a:cubicBezTo>
                  <a:pt x="6617" y="13737"/>
                  <a:pt x="6633" y="13771"/>
                  <a:pt x="6662" y="13787"/>
                </a:cubicBezTo>
                <a:cubicBezTo>
                  <a:pt x="6691" y="13802"/>
                  <a:pt x="6718" y="13777"/>
                  <a:pt x="6735" y="13757"/>
                </a:cubicBezTo>
                <a:cubicBezTo>
                  <a:pt x="6759" y="13728"/>
                  <a:pt x="6776" y="13694"/>
                  <a:pt x="6792" y="13661"/>
                </a:cubicBezTo>
                <a:cubicBezTo>
                  <a:pt x="6795" y="13656"/>
                  <a:pt x="6797" y="13651"/>
                  <a:pt x="6800" y="13646"/>
                </a:cubicBezTo>
                <a:cubicBezTo>
                  <a:pt x="6809" y="13684"/>
                  <a:pt x="6814" y="13723"/>
                  <a:pt x="6829" y="13760"/>
                </a:cubicBezTo>
                <a:cubicBezTo>
                  <a:pt x="6843" y="13793"/>
                  <a:pt x="6864" y="13823"/>
                  <a:pt x="6902" y="13815"/>
                </a:cubicBezTo>
                <a:cubicBezTo>
                  <a:pt x="6927" y="13805"/>
                  <a:pt x="6937" y="13802"/>
                  <a:pt x="6951" y="13789"/>
                </a:cubicBezTo>
              </a:path>
              <a:path w="4047" h="1008">
                <a:moveTo>
                  <a:pt x="7088" y="13557"/>
                </a:moveTo>
                <a:cubicBezTo>
                  <a:pt x="7089" y="13553"/>
                  <a:pt x="7091" y="13549"/>
                  <a:pt x="7092" y="13545"/>
                </a:cubicBezTo>
                <a:cubicBezTo>
                  <a:pt x="7062" y="13537"/>
                  <a:pt x="7048" y="13559"/>
                  <a:pt x="7027" y="13585"/>
                </a:cubicBezTo>
                <a:cubicBezTo>
                  <a:pt x="7006" y="13611"/>
                  <a:pt x="6980" y="13638"/>
                  <a:pt x="6979" y="13674"/>
                </a:cubicBezTo>
                <a:cubicBezTo>
                  <a:pt x="6978" y="13711"/>
                  <a:pt x="7031" y="13713"/>
                  <a:pt x="7057" y="13709"/>
                </a:cubicBezTo>
                <a:cubicBezTo>
                  <a:pt x="7109" y="13701"/>
                  <a:pt x="7166" y="13681"/>
                  <a:pt x="7215" y="13661"/>
                </a:cubicBezTo>
                <a:cubicBezTo>
                  <a:pt x="7228" y="13655"/>
                  <a:pt x="7242" y="13649"/>
                  <a:pt x="7255" y="13643"/>
                </a:cubicBezTo>
              </a:path>
              <a:path w="4047" h="1008">
                <a:moveTo>
                  <a:pt x="7302" y="13264"/>
                </a:moveTo>
                <a:cubicBezTo>
                  <a:pt x="7289" y="13230"/>
                  <a:pt x="7293" y="13224"/>
                  <a:pt x="7263" y="13212"/>
                </a:cubicBezTo>
                <a:cubicBezTo>
                  <a:pt x="7257" y="13276"/>
                  <a:pt x="7257" y="13337"/>
                  <a:pt x="7257" y="13401"/>
                </a:cubicBezTo>
                <a:cubicBezTo>
                  <a:pt x="7257" y="13497"/>
                  <a:pt x="7271" y="13591"/>
                  <a:pt x="7273" y="13687"/>
                </a:cubicBezTo>
                <a:cubicBezTo>
                  <a:pt x="7272" y="13731"/>
                  <a:pt x="7272" y="13742"/>
                  <a:pt x="7269" y="13770"/>
                </a:cubicBezTo>
              </a:path>
              <a:path w="4047" h="1008">
                <a:moveTo>
                  <a:pt x="7163" y="13520"/>
                </a:moveTo>
                <a:cubicBezTo>
                  <a:pt x="7180" y="13476"/>
                  <a:pt x="7200" y="13480"/>
                  <a:pt x="7245" y="13465"/>
                </a:cubicBezTo>
                <a:cubicBezTo>
                  <a:pt x="7362" y="13425"/>
                  <a:pt x="7475" y="13398"/>
                  <a:pt x="7599" y="13388"/>
                </a:cubicBezTo>
                <a:cubicBezTo>
                  <a:pt x="7622" y="13387"/>
                  <a:pt x="7646" y="13386"/>
                  <a:pt x="7669" y="13385"/>
                </a:cubicBezTo>
              </a:path>
              <a:path w="4047" h="1008">
                <a:moveTo>
                  <a:pt x="7559" y="13537"/>
                </a:moveTo>
                <a:cubicBezTo>
                  <a:pt x="7584" y="13588"/>
                  <a:pt x="7592" y="13642"/>
                  <a:pt x="7597" y="13698"/>
                </a:cubicBezTo>
                <a:cubicBezTo>
                  <a:pt x="7601" y="13741"/>
                  <a:pt x="7601" y="13784"/>
                  <a:pt x="7598" y="13827"/>
                </a:cubicBezTo>
                <a:cubicBezTo>
                  <a:pt x="7598" y="13831"/>
                  <a:pt x="7598" y="13834"/>
                  <a:pt x="7598" y="13838"/>
                </a:cubicBezTo>
                <a:cubicBezTo>
                  <a:pt x="7588" y="13795"/>
                  <a:pt x="7583" y="13750"/>
                  <a:pt x="7584" y="13705"/>
                </a:cubicBezTo>
                <a:cubicBezTo>
                  <a:pt x="7585" y="13636"/>
                  <a:pt x="7592" y="13567"/>
                  <a:pt x="7596" y="13498"/>
                </a:cubicBezTo>
                <a:cubicBezTo>
                  <a:pt x="7597" y="13476"/>
                  <a:pt x="7593" y="13393"/>
                  <a:pt x="7619" y="13377"/>
                </a:cubicBezTo>
                <a:cubicBezTo>
                  <a:pt x="7640" y="13374"/>
                  <a:pt x="7647" y="13373"/>
                  <a:pt x="7659" y="13382"/>
                </a:cubicBezTo>
              </a:path>
              <a:path w="4047" h="1008">
                <a:moveTo>
                  <a:pt x="7740" y="13489"/>
                </a:moveTo>
                <a:cubicBezTo>
                  <a:pt x="7735" y="13471"/>
                  <a:pt x="7728" y="13453"/>
                  <a:pt x="7723" y="13435"/>
                </a:cubicBezTo>
                <a:cubicBezTo>
                  <a:pt x="7722" y="13422"/>
                  <a:pt x="7721" y="13416"/>
                  <a:pt x="7718" y="13406"/>
                </a:cubicBezTo>
              </a:path>
              <a:path w="4047" h="1008">
                <a:moveTo>
                  <a:pt x="7883" y="13513"/>
                </a:moveTo>
                <a:cubicBezTo>
                  <a:pt x="7863" y="13553"/>
                  <a:pt x="7862" y="13585"/>
                  <a:pt x="7854" y="13628"/>
                </a:cubicBezTo>
                <a:cubicBezTo>
                  <a:pt x="7844" y="13683"/>
                  <a:pt x="7837" y="13737"/>
                  <a:pt x="7843" y="13793"/>
                </a:cubicBezTo>
                <a:cubicBezTo>
                  <a:pt x="7847" y="13817"/>
                  <a:pt x="7847" y="13822"/>
                  <a:pt x="7856" y="13835"/>
                </a:cubicBezTo>
                <a:cubicBezTo>
                  <a:pt x="7886" y="13824"/>
                  <a:pt x="7898" y="13788"/>
                  <a:pt x="7913" y="13760"/>
                </a:cubicBezTo>
                <a:cubicBezTo>
                  <a:pt x="7943" y="13705"/>
                  <a:pt x="7966" y="13645"/>
                  <a:pt x="7999" y="13592"/>
                </a:cubicBezTo>
                <a:cubicBezTo>
                  <a:pt x="8015" y="13565"/>
                  <a:pt x="8026" y="13554"/>
                  <a:pt x="8052" y="13547"/>
                </a:cubicBezTo>
                <a:cubicBezTo>
                  <a:pt x="8070" y="13591"/>
                  <a:pt x="8073" y="13640"/>
                  <a:pt x="8079" y="13687"/>
                </a:cubicBezTo>
                <a:cubicBezTo>
                  <a:pt x="8086" y="13745"/>
                  <a:pt x="8093" y="13790"/>
                  <a:pt x="8121" y="13841"/>
                </a:cubicBezTo>
              </a:path>
              <a:path w="4047" h="1008">
                <a:moveTo>
                  <a:pt x="8340" y="13641"/>
                </a:moveTo>
                <a:cubicBezTo>
                  <a:pt x="8338" y="13620"/>
                  <a:pt x="8335" y="13625"/>
                  <a:pt x="8324" y="13611"/>
                </a:cubicBezTo>
                <a:cubicBezTo>
                  <a:pt x="8312" y="13629"/>
                  <a:pt x="8298" y="13641"/>
                  <a:pt x="8291" y="13664"/>
                </a:cubicBezTo>
                <a:cubicBezTo>
                  <a:pt x="8283" y="13689"/>
                  <a:pt x="8287" y="13704"/>
                  <a:pt x="8305" y="13719"/>
                </a:cubicBezTo>
                <a:cubicBezTo>
                  <a:pt x="8337" y="13712"/>
                  <a:pt x="8362" y="13696"/>
                  <a:pt x="8392" y="13685"/>
                </a:cubicBezTo>
                <a:cubicBezTo>
                  <a:pt x="8432" y="13670"/>
                  <a:pt x="8455" y="13683"/>
                  <a:pt x="8468" y="13724"/>
                </a:cubicBezTo>
                <a:cubicBezTo>
                  <a:pt x="8491" y="13795"/>
                  <a:pt x="8480" y="13880"/>
                  <a:pt x="8467" y="13952"/>
                </a:cubicBezTo>
                <a:cubicBezTo>
                  <a:pt x="8456" y="14017"/>
                  <a:pt x="8436" y="14103"/>
                  <a:pt x="8376" y="14143"/>
                </a:cubicBezTo>
                <a:cubicBezTo>
                  <a:pt x="8335" y="14170"/>
                  <a:pt x="8291" y="14156"/>
                  <a:pt x="8265" y="14118"/>
                </a:cubicBezTo>
                <a:cubicBezTo>
                  <a:pt x="8245" y="14078"/>
                  <a:pt x="8238" y="14063"/>
                  <a:pt x="8231" y="1403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3368520" y="4835520"/>
            <a:ext cx="812880" cy="257040"/>
          </a:xfrm>
          <a:custGeom>
            <a:avLst/>
            <a:gdLst/>
            <a:ahLst/>
            <a:rect l="l" t="t" r="r" b="b"/>
            <a:pathLst>
              <a:path w="2255" h="716">
                <a:moveTo>
                  <a:pt x="9374" y="13538"/>
                </a:moveTo>
                <a:cubicBezTo>
                  <a:pt x="9364" y="13618"/>
                  <a:pt x="9360" y="13693"/>
                  <a:pt x="9362" y="13774"/>
                </a:cubicBezTo>
                <a:cubicBezTo>
                  <a:pt x="9364" y="13875"/>
                  <a:pt x="9380" y="13971"/>
                  <a:pt x="9400" y="14070"/>
                </a:cubicBezTo>
                <a:cubicBezTo>
                  <a:pt x="9408" y="14111"/>
                  <a:pt x="9410" y="14122"/>
                  <a:pt x="9418" y="14147"/>
                </a:cubicBezTo>
                <a:cubicBezTo>
                  <a:pt x="9424" y="14075"/>
                  <a:pt x="9413" y="14003"/>
                  <a:pt x="9417" y="13931"/>
                </a:cubicBezTo>
                <a:cubicBezTo>
                  <a:pt x="9423" y="13823"/>
                  <a:pt x="9440" y="13711"/>
                  <a:pt x="9480" y="13610"/>
                </a:cubicBezTo>
                <a:cubicBezTo>
                  <a:pt x="9500" y="13559"/>
                  <a:pt x="9519" y="13539"/>
                  <a:pt x="9561" y="13511"/>
                </a:cubicBezTo>
                <a:cubicBezTo>
                  <a:pt x="9611" y="13556"/>
                  <a:pt x="9624" y="13609"/>
                  <a:pt x="9628" y="13678"/>
                </a:cubicBezTo>
                <a:cubicBezTo>
                  <a:pt x="9633" y="13761"/>
                  <a:pt x="9615" y="13850"/>
                  <a:pt x="9559" y="13914"/>
                </a:cubicBezTo>
                <a:cubicBezTo>
                  <a:pt x="9524" y="13954"/>
                  <a:pt x="9453" y="13990"/>
                  <a:pt x="9402" y="13955"/>
                </a:cubicBezTo>
                <a:cubicBezTo>
                  <a:pt x="9335" y="13908"/>
                  <a:pt x="9398" y="13820"/>
                  <a:pt x="9422" y="13770"/>
                </a:cubicBezTo>
              </a:path>
              <a:path w="2255" h="716">
                <a:moveTo>
                  <a:pt x="9862" y="13500"/>
                </a:moveTo>
                <a:cubicBezTo>
                  <a:pt x="9844" y="13562"/>
                  <a:pt x="9813" y="13624"/>
                  <a:pt x="9780" y="13680"/>
                </a:cubicBezTo>
                <a:cubicBezTo>
                  <a:pt x="9745" y="13741"/>
                  <a:pt x="9693" y="13815"/>
                  <a:pt x="9708" y="13890"/>
                </a:cubicBezTo>
                <a:cubicBezTo>
                  <a:pt x="9721" y="13955"/>
                  <a:pt x="9802" y="13946"/>
                  <a:pt x="9848" y="13934"/>
                </a:cubicBezTo>
                <a:cubicBezTo>
                  <a:pt x="9917" y="13916"/>
                  <a:pt x="9989" y="13874"/>
                  <a:pt x="10033" y="13817"/>
                </a:cubicBezTo>
                <a:cubicBezTo>
                  <a:pt x="10067" y="13772"/>
                  <a:pt x="10067" y="13725"/>
                  <a:pt x="10032" y="13682"/>
                </a:cubicBezTo>
                <a:cubicBezTo>
                  <a:pt x="10002" y="13645"/>
                  <a:pt x="9956" y="13621"/>
                  <a:pt x="9917" y="13594"/>
                </a:cubicBezTo>
                <a:cubicBezTo>
                  <a:pt x="9900" y="13582"/>
                  <a:pt x="9896" y="13579"/>
                  <a:pt x="9886" y="13571"/>
                </a:cubicBezTo>
              </a:path>
              <a:path w="2255" h="716">
                <a:moveTo>
                  <a:pt x="10224" y="13525"/>
                </a:moveTo>
                <a:cubicBezTo>
                  <a:pt x="10193" y="13558"/>
                  <a:pt x="10172" y="13606"/>
                  <a:pt x="10169" y="13653"/>
                </a:cubicBezTo>
                <a:cubicBezTo>
                  <a:pt x="10165" y="13727"/>
                  <a:pt x="10180" y="13812"/>
                  <a:pt x="10213" y="13878"/>
                </a:cubicBezTo>
                <a:cubicBezTo>
                  <a:pt x="10234" y="13921"/>
                  <a:pt x="10270" y="13965"/>
                  <a:pt x="10323" y="13946"/>
                </a:cubicBezTo>
                <a:cubicBezTo>
                  <a:pt x="10374" y="13928"/>
                  <a:pt x="10396" y="13866"/>
                  <a:pt x="10416" y="13822"/>
                </a:cubicBezTo>
                <a:cubicBezTo>
                  <a:pt x="10430" y="13792"/>
                  <a:pt x="10442" y="13721"/>
                  <a:pt x="10468" y="13698"/>
                </a:cubicBezTo>
                <a:cubicBezTo>
                  <a:pt x="10472" y="13698"/>
                  <a:pt x="10475" y="13698"/>
                  <a:pt x="10479" y="13698"/>
                </a:cubicBezTo>
                <a:cubicBezTo>
                  <a:pt x="10488" y="13733"/>
                  <a:pt x="10490" y="13770"/>
                  <a:pt x="10496" y="13806"/>
                </a:cubicBezTo>
                <a:cubicBezTo>
                  <a:pt x="10500" y="13832"/>
                  <a:pt x="10508" y="13844"/>
                  <a:pt x="10517" y="13865"/>
                </a:cubicBezTo>
                <a:cubicBezTo>
                  <a:pt x="10539" y="13846"/>
                  <a:pt x="10554" y="13827"/>
                  <a:pt x="10571" y="13800"/>
                </a:cubicBezTo>
                <a:cubicBezTo>
                  <a:pt x="10607" y="13744"/>
                  <a:pt x="10650" y="13650"/>
                  <a:pt x="10719" y="13632"/>
                </a:cubicBezTo>
                <a:cubicBezTo>
                  <a:pt x="10744" y="13625"/>
                  <a:pt x="10749" y="13628"/>
                  <a:pt x="10772" y="13643"/>
                </a:cubicBezTo>
                <a:cubicBezTo>
                  <a:pt x="10776" y="13647"/>
                  <a:pt x="10781" y="13652"/>
                  <a:pt x="10785" y="13656"/>
                </a:cubicBezTo>
              </a:path>
              <a:path w="2255" h="716">
                <a:moveTo>
                  <a:pt x="10922" y="13724"/>
                </a:moveTo>
                <a:cubicBezTo>
                  <a:pt x="10943" y="13698"/>
                  <a:pt x="10971" y="13666"/>
                  <a:pt x="10987" y="13637"/>
                </a:cubicBezTo>
                <a:cubicBezTo>
                  <a:pt x="11002" y="13610"/>
                  <a:pt x="11022" y="13583"/>
                  <a:pt x="11031" y="13553"/>
                </a:cubicBezTo>
                <a:cubicBezTo>
                  <a:pt x="11032" y="13549"/>
                  <a:pt x="11032" y="13545"/>
                  <a:pt x="11033" y="13541"/>
                </a:cubicBezTo>
                <a:cubicBezTo>
                  <a:pt x="11000" y="13550"/>
                  <a:pt x="10976" y="13575"/>
                  <a:pt x="10952" y="13602"/>
                </a:cubicBezTo>
                <a:cubicBezTo>
                  <a:pt x="10916" y="13642"/>
                  <a:pt x="10880" y="13686"/>
                  <a:pt x="10865" y="13739"/>
                </a:cubicBezTo>
                <a:cubicBezTo>
                  <a:pt x="10854" y="13776"/>
                  <a:pt x="10864" y="13810"/>
                  <a:pt x="10906" y="13818"/>
                </a:cubicBezTo>
                <a:cubicBezTo>
                  <a:pt x="10938" y="13824"/>
                  <a:pt x="10974" y="13813"/>
                  <a:pt x="11005" y="13807"/>
                </a:cubicBezTo>
              </a:path>
              <a:path w="2255" h="716">
                <a:moveTo>
                  <a:pt x="11220" y="13636"/>
                </a:moveTo>
                <a:cubicBezTo>
                  <a:pt x="11243" y="13675"/>
                  <a:pt x="11249" y="13720"/>
                  <a:pt x="11263" y="13763"/>
                </a:cubicBezTo>
                <a:cubicBezTo>
                  <a:pt x="11271" y="13782"/>
                  <a:pt x="11272" y="13786"/>
                  <a:pt x="11278" y="13796"/>
                </a:cubicBezTo>
                <a:cubicBezTo>
                  <a:pt x="11300" y="13772"/>
                  <a:pt x="11297" y="13729"/>
                  <a:pt x="11304" y="13696"/>
                </a:cubicBezTo>
                <a:cubicBezTo>
                  <a:pt x="11318" y="13624"/>
                  <a:pt x="11341" y="13557"/>
                  <a:pt x="11387" y="13499"/>
                </a:cubicBezTo>
                <a:cubicBezTo>
                  <a:pt x="11424" y="13453"/>
                  <a:pt x="11467" y="13422"/>
                  <a:pt x="11528" y="13434"/>
                </a:cubicBezTo>
                <a:cubicBezTo>
                  <a:pt x="11561" y="13440"/>
                  <a:pt x="11587" y="13464"/>
                  <a:pt x="11613" y="1348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4324320" y="4753080"/>
            <a:ext cx="338040" cy="277560"/>
          </a:xfrm>
          <a:custGeom>
            <a:avLst/>
            <a:gdLst/>
            <a:ahLst/>
            <a:rect l="l" t="t" r="r" b="b"/>
            <a:pathLst>
              <a:path w="937" h="775">
                <a:moveTo>
                  <a:pt x="12284" y="13610"/>
                </a:moveTo>
                <a:cubicBezTo>
                  <a:pt x="12252" y="13565"/>
                  <a:pt x="12233" y="13549"/>
                  <a:pt x="12176" y="13546"/>
                </a:cubicBezTo>
                <a:cubicBezTo>
                  <a:pt x="12129" y="13543"/>
                  <a:pt x="12079" y="13555"/>
                  <a:pt x="12037" y="13576"/>
                </a:cubicBezTo>
                <a:cubicBezTo>
                  <a:pt x="12022" y="13586"/>
                  <a:pt x="12018" y="13587"/>
                  <a:pt x="12013" y="13597"/>
                </a:cubicBezTo>
                <a:cubicBezTo>
                  <a:pt x="12052" y="13618"/>
                  <a:pt x="12093" y="13632"/>
                  <a:pt x="12130" y="13657"/>
                </a:cubicBezTo>
                <a:cubicBezTo>
                  <a:pt x="12185" y="13694"/>
                  <a:pt x="12227" y="13737"/>
                  <a:pt x="12254" y="13798"/>
                </a:cubicBezTo>
                <a:cubicBezTo>
                  <a:pt x="12274" y="13842"/>
                  <a:pt x="12285" y="13901"/>
                  <a:pt x="12257" y="13945"/>
                </a:cubicBezTo>
                <a:cubicBezTo>
                  <a:pt x="12243" y="13967"/>
                  <a:pt x="12202" y="13992"/>
                  <a:pt x="12183" y="13961"/>
                </a:cubicBezTo>
                <a:cubicBezTo>
                  <a:pt x="12158" y="13922"/>
                  <a:pt x="12183" y="13870"/>
                  <a:pt x="12196" y="13833"/>
                </a:cubicBezTo>
              </a:path>
              <a:path w="937" h="775">
                <a:moveTo>
                  <a:pt x="12403" y="13761"/>
                </a:moveTo>
                <a:cubicBezTo>
                  <a:pt x="12433" y="13770"/>
                  <a:pt x="12467" y="13769"/>
                  <a:pt x="12494" y="13748"/>
                </a:cubicBezTo>
                <a:cubicBezTo>
                  <a:pt x="12534" y="13716"/>
                  <a:pt x="12575" y="13668"/>
                  <a:pt x="12601" y="13624"/>
                </a:cubicBezTo>
                <a:cubicBezTo>
                  <a:pt x="12624" y="13586"/>
                  <a:pt x="12638" y="13552"/>
                  <a:pt x="12631" y="13509"/>
                </a:cubicBezTo>
                <a:cubicBezTo>
                  <a:pt x="12586" y="13512"/>
                  <a:pt x="12561" y="13541"/>
                  <a:pt x="12534" y="13577"/>
                </a:cubicBezTo>
                <a:cubicBezTo>
                  <a:pt x="12485" y="13642"/>
                  <a:pt x="12439" y="13737"/>
                  <a:pt x="12464" y="13821"/>
                </a:cubicBezTo>
                <a:cubicBezTo>
                  <a:pt x="12481" y="13877"/>
                  <a:pt x="12558" y="13858"/>
                  <a:pt x="12595" y="13843"/>
                </a:cubicBezTo>
                <a:cubicBezTo>
                  <a:pt x="12611" y="13835"/>
                  <a:pt x="12627" y="13826"/>
                  <a:pt x="12643" y="13818"/>
                </a:cubicBezTo>
              </a:path>
              <a:path w="937" h="775">
                <a:moveTo>
                  <a:pt x="12764" y="13206"/>
                </a:moveTo>
                <a:cubicBezTo>
                  <a:pt x="12717" y="13205"/>
                  <a:pt x="12731" y="13292"/>
                  <a:pt x="12729" y="13325"/>
                </a:cubicBezTo>
                <a:cubicBezTo>
                  <a:pt x="12721" y="13443"/>
                  <a:pt x="12732" y="13563"/>
                  <a:pt x="12753" y="13680"/>
                </a:cubicBezTo>
                <a:cubicBezTo>
                  <a:pt x="12765" y="13749"/>
                  <a:pt x="12793" y="13830"/>
                  <a:pt x="12786" y="13890"/>
                </a:cubicBezTo>
              </a:path>
              <a:path w="937" h="775">
                <a:moveTo>
                  <a:pt x="12587" y="13600"/>
                </a:moveTo>
                <a:cubicBezTo>
                  <a:pt x="12577" y="13540"/>
                  <a:pt x="12561" y="13492"/>
                  <a:pt x="12618" y="13453"/>
                </a:cubicBezTo>
                <a:cubicBezTo>
                  <a:pt x="12677" y="13413"/>
                  <a:pt x="12760" y="13416"/>
                  <a:pt x="12827" y="13412"/>
                </a:cubicBezTo>
                <a:cubicBezTo>
                  <a:pt x="12888" y="13408"/>
                  <a:pt x="12908" y="13407"/>
                  <a:pt x="12949" y="1341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4950000" y="4776840"/>
            <a:ext cx="239400" cy="187200"/>
          </a:xfrm>
          <a:custGeom>
            <a:avLst/>
            <a:gdLst/>
            <a:ahLst/>
            <a:rect l="l" t="t" r="r" b="b"/>
            <a:pathLst>
              <a:path w="664" h="518">
                <a:moveTo>
                  <a:pt x="13892" y="13500"/>
                </a:moveTo>
                <a:cubicBezTo>
                  <a:pt x="13876" y="13478"/>
                  <a:pt x="13854" y="13450"/>
                  <a:pt x="13823" y="13476"/>
                </a:cubicBezTo>
                <a:cubicBezTo>
                  <a:pt x="13788" y="13505"/>
                  <a:pt x="13764" y="13561"/>
                  <a:pt x="13755" y="13604"/>
                </a:cubicBezTo>
                <a:cubicBezTo>
                  <a:pt x="13749" y="13631"/>
                  <a:pt x="13737" y="13702"/>
                  <a:pt x="13769" y="13721"/>
                </a:cubicBezTo>
                <a:cubicBezTo>
                  <a:pt x="13800" y="13739"/>
                  <a:pt x="13842" y="13692"/>
                  <a:pt x="13859" y="13674"/>
                </a:cubicBezTo>
                <a:cubicBezTo>
                  <a:pt x="13894" y="13636"/>
                  <a:pt x="13914" y="13596"/>
                  <a:pt x="13940" y="13553"/>
                </a:cubicBezTo>
                <a:cubicBezTo>
                  <a:pt x="13953" y="13532"/>
                  <a:pt x="13962" y="13514"/>
                  <a:pt x="13978" y="13496"/>
                </a:cubicBezTo>
              </a:path>
              <a:path w="664" h="518">
                <a:moveTo>
                  <a:pt x="14164" y="13747"/>
                </a:moveTo>
                <a:cubicBezTo>
                  <a:pt x="14167" y="13767"/>
                  <a:pt x="14170" y="13772"/>
                  <a:pt x="14165" y="13784"/>
                </a:cubicBezTo>
                <a:cubicBezTo>
                  <a:pt x="14132" y="13779"/>
                  <a:pt x="14119" y="13747"/>
                  <a:pt x="14107" y="13713"/>
                </a:cubicBezTo>
                <a:cubicBezTo>
                  <a:pt x="14084" y="13649"/>
                  <a:pt x="14072" y="13580"/>
                  <a:pt x="14073" y="13512"/>
                </a:cubicBezTo>
                <a:cubicBezTo>
                  <a:pt x="14074" y="13447"/>
                  <a:pt x="14090" y="13381"/>
                  <a:pt x="14128" y="13328"/>
                </a:cubicBezTo>
                <a:cubicBezTo>
                  <a:pt x="14155" y="13290"/>
                  <a:pt x="14199" y="13265"/>
                  <a:pt x="14246" y="13273"/>
                </a:cubicBezTo>
                <a:cubicBezTo>
                  <a:pt x="14278" y="13279"/>
                  <a:pt x="14294" y="13295"/>
                  <a:pt x="14303" y="13322"/>
                </a:cubicBezTo>
              </a:path>
              <a:path w="664" h="518">
                <a:moveTo>
                  <a:pt x="14016" y="13515"/>
                </a:moveTo>
                <a:cubicBezTo>
                  <a:pt x="13991" y="13536"/>
                  <a:pt x="13980" y="13543"/>
                  <a:pt x="13965" y="13570"/>
                </a:cubicBezTo>
                <a:cubicBezTo>
                  <a:pt x="14014" y="13582"/>
                  <a:pt x="14057" y="13572"/>
                  <a:pt x="14107" y="13567"/>
                </a:cubicBezTo>
                <a:cubicBezTo>
                  <a:pt x="14210" y="13558"/>
                  <a:pt x="14311" y="13538"/>
                  <a:pt x="14413" y="1352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5487840" y="4865760"/>
            <a:ext cx="122400" cy="95040"/>
          </a:xfrm>
          <a:custGeom>
            <a:avLst/>
            <a:gdLst/>
            <a:ahLst/>
            <a:rect l="l" t="t" r="r" b="b"/>
            <a:pathLst>
              <a:path w="340" h="265">
                <a:moveTo>
                  <a:pt x="15393" y="13530"/>
                </a:moveTo>
                <a:cubicBezTo>
                  <a:pt x="15361" y="13516"/>
                  <a:pt x="15321" y="13504"/>
                  <a:pt x="15290" y="13534"/>
                </a:cubicBezTo>
                <a:cubicBezTo>
                  <a:pt x="15258" y="13565"/>
                  <a:pt x="15243" y="13626"/>
                  <a:pt x="15243" y="13669"/>
                </a:cubicBezTo>
                <a:cubicBezTo>
                  <a:pt x="15243" y="13709"/>
                  <a:pt x="15257" y="13753"/>
                  <a:pt x="15302" y="13760"/>
                </a:cubicBezTo>
                <a:cubicBezTo>
                  <a:pt x="15350" y="13768"/>
                  <a:pt x="15396" y="13735"/>
                  <a:pt x="15434" y="13712"/>
                </a:cubicBezTo>
                <a:cubicBezTo>
                  <a:pt x="15458" y="13697"/>
                  <a:pt x="15499" y="13658"/>
                  <a:pt x="15530" y="13667"/>
                </a:cubicBezTo>
                <a:cubicBezTo>
                  <a:pt x="15556" y="13674"/>
                  <a:pt x="15555" y="13719"/>
                  <a:pt x="15562" y="13739"/>
                </a:cubicBezTo>
                <a:cubicBezTo>
                  <a:pt x="15570" y="13760"/>
                  <a:pt x="15572" y="13767"/>
                  <a:pt x="15582" y="1377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5851440" y="4749840"/>
            <a:ext cx="324000" cy="218880"/>
          </a:xfrm>
          <a:custGeom>
            <a:avLst/>
            <a:gdLst/>
            <a:ahLst/>
            <a:rect l="l" t="t" r="r" b="b"/>
            <a:pathLst>
              <a:path w="902" h="607">
                <a:moveTo>
                  <a:pt x="16398" y="13429"/>
                </a:moveTo>
                <a:cubicBezTo>
                  <a:pt x="16370" y="13414"/>
                  <a:pt x="16357" y="13412"/>
                  <a:pt x="16329" y="13434"/>
                </a:cubicBezTo>
                <a:cubicBezTo>
                  <a:pt x="16304" y="13454"/>
                  <a:pt x="16272" y="13480"/>
                  <a:pt x="16259" y="13511"/>
                </a:cubicBezTo>
                <a:cubicBezTo>
                  <a:pt x="16244" y="13546"/>
                  <a:pt x="16255" y="13579"/>
                  <a:pt x="16278" y="13607"/>
                </a:cubicBezTo>
                <a:cubicBezTo>
                  <a:pt x="16308" y="13642"/>
                  <a:pt x="16346" y="13670"/>
                  <a:pt x="16377" y="13705"/>
                </a:cubicBezTo>
                <a:cubicBezTo>
                  <a:pt x="16398" y="13729"/>
                  <a:pt x="16421" y="13761"/>
                  <a:pt x="16391" y="13786"/>
                </a:cubicBezTo>
                <a:cubicBezTo>
                  <a:pt x="16366" y="13807"/>
                  <a:pt x="16323" y="13806"/>
                  <a:pt x="16294" y="13794"/>
                </a:cubicBezTo>
                <a:cubicBezTo>
                  <a:pt x="16246" y="13775"/>
                  <a:pt x="16258" y="13732"/>
                  <a:pt x="16264" y="13692"/>
                </a:cubicBezTo>
              </a:path>
              <a:path w="902" h="607">
                <a:moveTo>
                  <a:pt x="16542" y="13698"/>
                </a:moveTo>
                <a:cubicBezTo>
                  <a:pt x="16577" y="13710"/>
                  <a:pt x="16612" y="13707"/>
                  <a:pt x="16646" y="13686"/>
                </a:cubicBezTo>
                <a:cubicBezTo>
                  <a:pt x="16693" y="13658"/>
                  <a:pt x="16742" y="13614"/>
                  <a:pt x="16776" y="13571"/>
                </a:cubicBezTo>
                <a:cubicBezTo>
                  <a:pt x="16800" y="13540"/>
                  <a:pt x="16816" y="13511"/>
                  <a:pt x="16805" y="13475"/>
                </a:cubicBezTo>
                <a:cubicBezTo>
                  <a:pt x="16763" y="13477"/>
                  <a:pt x="16734" y="13499"/>
                  <a:pt x="16704" y="13530"/>
                </a:cubicBezTo>
                <a:cubicBezTo>
                  <a:pt x="16669" y="13567"/>
                  <a:pt x="16623" y="13634"/>
                  <a:pt x="16624" y="13688"/>
                </a:cubicBezTo>
                <a:cubicBezTo>
                  <a:pt x="16625" y="13740"/>
                  <a:pt x="16671" y="13769"/>
                  <a:pt x="16719" y="13764"/>
                </a:cubicBezTo>
                <a:cubicBezTo>
                  <a:pt x="16733" y="13760"/>
                  <a:pt x="16747" y="13757"/>
                  <a:pt x="16761" y="13753"/>
                </a:cubicBezTo>
              </a:path>
              <a:path w="902" h="607">
                <a:moveTo>
                  <a:pt x="16948" y="13196"/>
                </a:moveTo>
                <a:cubicBezTo>
                  <a:pt x="16924" y="13257"/>
                  <a:pt x="16922" y="13326"/>
                  <a:pt x="16925" y="13393"/>
                </a:cubicBezTo>
                <a:cubicBezTo>
                  <a:pt x="16929" y="13495"/>
                  <a:pt x="16940" y="13599"/>
                  <a:pt x="16950" y="13701"/>
                </a:cubicBezTo>
                <a:cubicBezTo>
                  <a:pt x="16955" y="13746"/>
                  <a:pt x="16957" y="13757"/>
                  <a:pt x="16959" y="13785"/>
                </a:cubicBezTo>
              </a:path>
              <a:path w="902" h="607">
                <a:moveTo>
                  <a:pt x="16825" y="13543"/>
                </a:moveTo>
                <a:cubicBezTo>
                  <a:pt x="16826" y="13495"/>
                  <a:pt x="16832" y="13489"/>
                  <a:pt x="16873" y="13464"/>
                </a:cubicBezTo>
                <a:cubicBezTo>
                  <a:pt x="16931" y="13428"/>
                  <a:pt x="16984" y="13415"/>
                  <a:pt x="17050" y="13401"/>
                </a:cubicBezTo>
                <a:cubicBezTo>
                  <a:pt x="17101" y="13390"/>
                  <a:pt x="17119" y="13386"/>
                  <a:pt x="17154" y="1338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6384960" y="4722840"/>
            <a:ext cx="210960" cy="270000"/>
          </a:xfrm>
          <a:custGeom>
            <a:avLst/>
            <a:gdLst/>
            <a:ahLst/>
            <a:rect l="l" t="t" r="r" b="b"/>
            <a:pathLst>
              <a:path w="587" h="749">
                <a:moveTo>
                  <a:pt x="17866" y="13705"/>
                </a:moveTo>
                <a:cubicBezTo>
                  <a:pt x="17861" y="13687"/>
                  <a:pt x="17857" y="13648"/>
                  <a:pt x="17829" y="13647"/>
                </a:cubicBezTo>
                <a:cubicBezTo>
                  <a:pt x="17797" y="13646"/>
                  <a:pt x="17765" y="13690"/>
                  <a:pt x="17753" y="13715"/>
                </a:cubicBezTo>
                <a:cubicBezTo>
                  <a:pt x="17737" y="13747"/>
                  <a:pt x="17720" y="13809"/>
                  <a:pt x="17748" y="13840"/>
                </a:cubicBezTo>
                <a:cubicBezTo>
                  <a:pt x="17778" y="13874"/>
                  <a:pt x="17838" y="13848"/>
                  <a:pt x="17868" y="13830"/>
                </a:cubicBezTo>
                <a:cubicBezTo>
                  <a:pt x="17907" y="13806"/>
                  <a:pt x="17946" y="13757"/>
                  <a:pt x="17955" y="13711"/>
                </a:cubicBezTo>
                <a:cubicBezTo>
                  <a:pt x="17961" y="13680"/>
                  <a:pt x="17952" y="13656"/>
                  <a:pt x="17940" y="13629"/>
                </a:cubicBezTo>
              </a:path>
              <a:path w="587" h="749">
                <a:moveTo>
                  <a:pt x="18093" y="13836"/>
                </a:moveTo>
                <a:cubicBezTo>
                  <a:pt x="18094" y="13852"/>
                  <a:pt x="18094" y="13857"/>
                  <a:pt x="18097" y="13867"/>
                </a:cubicBezTo>
                <a:cubicBezTo>
                  <a:pt x="18106" y="13843"/>
                  <a:pt x="18113" y="13810"/>
                  <a:pt x="18116" y="13776"/>
                </a:cubicBezTo>
                <a:cubicBezTo>
                  <a:pt x="18124" y="13698"/>
                  <a:pt x="18120" y="13620"/>
                  <a:pt x="18120" y="13542"/>
                </a:cubicBezTo>
                <a:cubicBezTo>
                  <a:pt x="18120" y="13452"/>
                  <a:pt x="18118" y="13360"/>
                  <a:pt x="18129" y="13271"/>
                </a:cubicBezTo>
                <a:cubicBezTo>
                  <a:pt x="18136" y="13213"/>
                  <a:pt x="18148" y="13162"/>
                  <a:pt x="18198" y="13129"/>
                </a:cubicBezTo>
                <a:cubicBezTo>
                  <a:pt x="18232" y="13107"/>
                  <a:pt x="18272" y="13136"/>
                  <a:pt x="18290" y="13166"/>
                </a:cubicBezTo>
                <a:cubicBezTo>
                  <a:pt x="18302" y="13193"/>
                  <a:pt x="18306" y="13201"/>
                  <a:pt x="18301" y="13221"/>
                </a:cubicBezTo>
              </a:path>
              <a:path w="587" h="749">
                <a:moveTo>
                  <a:pt x="17935" y="13518"/>
                </a:moveTo>
                <a:cubicBezTo>
                  <a:pt x="17917" y="13534"/>
                  <a:pt x="17912" y="13535"/>
                  <a:pt x="17907" y="13548"/>
                </a:cubicBezTo>
                <a:cubicBezTo>
                  <a:pt x="17953" y="13545"/>
                  <a:pt x="18008" y="13520"/>
                  <a:pt x="18055" y="13506"/>
                </a:cubicBezTo>
                <a:cubicBezTo>
                  <a:pt x="18144" y="13479"/>
                  <a:pt x="18233" y="13448"/>
                  <a:pt x="18321" y="1341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>
            <a:off x="6799320" y="4719600"/>
            <a:ext cx="1173240" cy="331920"/>
          </a:xfrm>
          <a:custGeom>
            <a:avLst/>
            <a:gdLst/>
            <a:ahLst/>
            <a:rect l="l" t="t" r="r" b="b"/>
            <a:pathLst>
              <a:path w="3261" h="921">
                <a:moveTo>
                  <a:pt x="19152" y="13663"/>
                </a:moveTo>
                <a:cubicBezTo>
                  <a:pt x="19138" y="13624"/>
                  <a:pt x="19123" y="13592"/>
                  <a:pt x="19084" y="13573"/>
                </a:cubicBezTo>
                <a:cubicBezTo>
                  <a:pt x="19043" y="13552"/>
                  <a:pt x="19000" y="13561"/>
                  <a:pt x="18962" y="13587"/>
                </a:cubicBezTo>
                <a:cubicBezTo>
                  <a:pt x="18920" y="13616"/>
                  <a:pt x="18891" y="13665"/>
                  <a:pt x="18885" y="13715"/>
                </a:cubicBezTo>
                <a:cubicBezTo>
                  <a:pt x="18879" y="13764"/>
                  <a:pt x="18898" y="13808"/>
                  <a:pt x="18941" y="13833"/>
                </a:cubicBezTo>
                <a:cubicBezTo>
                  <a:pt x="18977" y="13854"/>
                  <a:pt x="19014" y="13852"/>
                  <a:pt x="19054" y="13853"/>
                </a:cubicBezTo>
              </a:path>
              <a:path w="3261" h="921">
                <a:moveTo>
                  <a:pt x="19318" y="13648"/>
                </a:moveTo>
                <a:cubicBezTo>
                  <a:pt x="19289" y="13681"/>
                  <a:pt x="19280" y="13711"/>
                  <a:pt x="19265" y="13752"/>
                </a:cubicBezTo>
                <a:cubicBezTo>
                  <a:pt x="19246" y="13804"/>
                  <a:pt x="19229" y="13858"/>
                  <a:pt x="19224" y="13914"/>
                </a:cubicBezTo>
                <a:cubicBezTo>
                  <a:pt x="19224" y="13937"/>
                  <a:pt x="19223" y="13944"/>
                  <a:pt x="19232" y="13956"/>
                </a:cubicBezTo>
                <a:cubicBezTo>
                  <a:pt x="19268" y="13951"/>
                  <a:pt x="19287" y="13926"/>
                  <a:pt x="19309" y="13896"/>
                </a:cubicBezTo>
                <a:cubicBezTo>
                  <a:pt x="19355" y="13834"/>
                  <a:pt x="19391" y="13764"/>
                  <a:pt x="19425" y="13695"/>
                </a:cubicBezTo>
                <a:cubicBezTo>
                  <a:pt x="19434" y="13673"/>
                  <a:pt x="19436" y="13667"/>
                  <a:pt x="19445" y="13655"/>
                </a:cubicBezTo>
                <a:cubicBezTo>
                  <a:pt x="19457" y="13685"/>
                  <a:pt x="19449" y="13723"/>
                  <a:pt x="19452" y="13757"/>
                </a:cubicBezTo>
                <a:cubicBezTo>
                  <a:pt x="19456" y="13803"/>
                  <a:pt x="19455" y="13859"/>
                  <a:pt x="19480" y="13900"/>
                </a:cubicBezTo>
                <a:cubicBezTo>
                  <a:pt x="19492" y="13912"/>
                  <a:pt x="19497" y="13917"/>
                  <a:pt x="19510" y="13917"/>
                </a:cubicBezTo>
              </a:path>
              <a:path w="3261" h="921">
                <a:moveTo>
                  <a:pt x="19618" y="13784"/>
                </a:moveTo>
                <a:cubicBezTo>
                  <a:pt x="19617" y="13819"/>
                  <a:pt x="19621" y="13855"/>
                  <a:pt x="19624" y="13890"/>
                </a:cubicBezTo>
                <a:cubicBezTo>
                  <a:pt x="19626" y="13916"/>
                  <a:pt x="19633" y="13940"/>
                  <a:pt x="19632" y="13964"/>
                </a:cubicBezTo>
                <a:cubicBezTo>
                  <a:pt x="19622" y="13947"/>
                  <a:pt x="19627" y="13941"/>
                  <a:pt x="19627" y="13922"/>
                </a:cubicBezTo>
                <a:cubicBezTo>
                  <a:pt x="19627" y="13897"/>
                  <a:pt x="19629" y="13879"/>
                  <a:pt x="19637" y="13855"/>
                </a:cubicBezTo>
                <a:cubicBezTo>
                  <a:pt x="19650" y="13819"/>
                  <a:pt x="19657" y="13780"/>
                  <a:pt x="19668" y="13743"/>
                </a:cubicBezTo>
                <a:cubicBezTo>
                  <a:pt x="19686" y="13682"/>
                  <a:pt x="19710" y="13613"/>
                  <a:pt x="19772" y="13588"/>
                </a:cubicBezTo>
                <a:cubicBezTo>
                  <a:pt x="19806" y="13574"/>
                  <a:pt x="19839" y="13575"/>
                  <a:pt x="19875" y="13574"/>
                </a:cubicBezTo>
              </a:path>
              <a:path w="3261" h="921">
                <a:moveTo>
                  <a:pt x="20088" y="13569"/>
                </a:moveTo>
                <a:cubicBezTo>
                  <a:pt x="20101" y="13535"/>
                  <a:pt x="20058" y="13626"/>
                  <a:pt x="20057" y="13629"/>
                </a:cubicBezTo>
                <a:cubicBezTo>
                  <a:pt x="20030" y="13685"/>
                  <a:pt x="20004" y="13742"/>
                  <a:pt x="19984" y="13800"/>
                </a:cubicBezTo>
                <a:cubicBezTo>
                  <a:pt x="19974" y="13828"/>
                  <a:pt x="19969" y="13850"/>
                  <a:pt x="19970" y="13878"/>
                </a:cubicBezTo>
                <a:cubicBezTo>
                  <a:pt x="19997" y="13867"/>
                  <a:pt x="20010" y="13858"/>
                  <a:pt x="20030" y="13826"/>
                </a:cubicBezTo>
                <a:cubicBezTo>
                  <a:pt x="20067" y="13769"/>
                  <a:pt x="20088" y="13705"/>
                  <a:pt x="20105" y="13640"/>
                </a:cubicBezTo>
                <a:cubicBezTo>
                  <a:pt x="20128" y="13551"/>
                  <a:pt x="20151" y="13459"/>
                  <a:pt x="20163" y="13368"/>
                </a:cubicBezTo>
                <a:cubicBezTo>
                  <a:pt x="20164" y="13359"/>
                  <a:pt x="20164" y="13349"/>
                  <a:pt x="20165" y="13340"/>
                </a:cubicBezTo>
                <a:cubicBezTo>
                  <a:pt x="20164" y="13415"/>
                  <a:pt x="20158" y="13490"/>
                  <a:pt x="20157" y="13566"/>
                </a:cubicBezTo>
                <a:cubicBezTo>
                  <a:pt x="20156" y="13651"/>
                  <a:pt x="20158" y="13741"/>
                  <a:pt x="20185" y="13822"/>
                </a:cubicBezTo>
                <a:cubicBezTo>
                  <a:pt x="20190" y="13833"/>
                  <a:pt x="20196" y="13844"/>
                  <a:pt x="20201" y="13855"/>
                </a:cubicBezTo>
              </a:path>
              <a:path w="3261" h="921">
                <a:moveTo>
                  <a:pt x="20352" y="13733"/>
                </a:moveTo>
                <a:cubicBezTo>
                  <a:pt x="20358" y="13764"/>
                  <a:pt x="20351" y="13791"/>
                  <a:pt x="20346" y="13822"/>
                </a:cubicBezTo>
                <a:cubicBezTo>
                  <a:pt x="20340" y="13857"/>
                  <a:pt x="20330" y="13889"/>
                  <a:pt x="20321" y="13923"/>
                </a:cubicBezTo>
                <a:cubicBezTo>
                  <a:pt x="20312" y="13869"/>
                  <a:pt x="20328" y="13831"/>
                  <a:pt x="20340" y="13776"/>
                </a:cubicBezTo>
                <a:cubicBezTo>
                  <a:pt x="20354" y="13711"/>
                  <a:pt x="20365" y="13645"/>
                  <a:pt x="20380" y="13580"/>
                </a:cubicBezTo>
                <a:cubicBezTo>
                  <a:pt x="20384" y="13561"/>
                  <a:pt x="20385" y="13498"/>
                  <a:pt x="20401" y="13485"/>
                </a:cubicBezTo>
                <a:cubicBezTo>
                  <a:pt x="20413" y="13484"/>
                  <a:pt x="20418" y="13484"/>
                  <a:pt x="20425" y="13490"/>
                </a:cubicBezTo>
              </a:path>
              <a:path w="3261" h="921">
                <a:moveTo>
                  <a:pt x="20517" y="13658"/>
                </a:moveTo>
                <a:cubicBezTo>
                  <a:pt x="20512" y="13689"/>
                  <a:pt x="20501" y="13726"/>
                  <a:pt x="20501" y="13757"/>
                </a:cubicBezTo>
                <a:cubicBezTo>
                  <a:pt x="20501" y="13779"/>
                  <a:pt x="20501" y="13797"/>
                  <a:pt x="20500" y="13818"/>
                </a:cubicBezTo>
                <a:cubicBezTo>
                  <a:pt x="20526" y="13803"/>
                  <a:pt x="20538" y="13772"/>
                  <a:pt x="20553" y="13746"/>
                </a:cubicBezTo>
                <a:cubicBezTo>
                  <a:pt x="20578" y="13701"/>
                  <a:pt x="20606" y="13655"/>
                  <a:pt x="20645" y="13620"/>
                </a:cubicBezTo>
                <a:cubicBezTo>
                  <a:pt x="20674" y="13594"/>
                  <a:pt x="20701" y="13597"/>
                  <a:pt x="20720" y="13631"/>
                </a:cubicBezTo>
                <a:cubicBezTo>
                  <a:pt x="20745" y="13675"/>
                  <a:pt x="20752" y="13728"/>
                  <a:pt x="20761" y="13776"/>
                </a:cubicBezTo>
                <a:cubicBezTo>
                  <a:pt x="20765" y="13800"/>
                  <a:pt x="20772" y="13823"/>
                  <a:pt x="20778" y="13847"/>
                </a:cubicBezTo>
              </a:path>
              <a:path w="3261" h="921">
                <a:moveTo>
                  <a:pt x="20901" y="13577"/>
                </a:moveTo>
                <a:cubicBezTo>
                  <a:pt x="20915" y="13555"/>
                  <a:pt x="20925" y="13530"/>
                  <a:pt x="20942" y="13512"/>
                </a:cubicBezTo>
                <a:cubicBezTo>
                  <a:pt x="20943" y="13545"/>
                  <a:pt x="20928" y="13582"/>
                  <a:pt x="20920" y="13615"/>
                </a:cubicBezTo>
                <a:cubicBezTo>
                  <a:pt x="20906" y="13671"/>
                  <a:pt x="20891" y="13726"/>
                  <a:pt x="20881" y="13782"/>
                </a:cubicBezTo>
                <a:cubicBezTo>
                  <a:pt x="20878" y="13803"/>
                  <a:pt x="20876" y="13808"/>
                  <a:pt x="20878" y="13821"/>
                </a:cubicBezTo>
                <a:cubicBezTo>
                  <a:pt x="20911" y="13804"/>
                  <a:pt x="20930" y="13778"/>
                  <a:pt x="20955" y="13749"/>
                </a:cubicBezTo>
                <a:cubicBezTo>
                  <a:pt x="20973" y="13728"/>
                  <a:pt x="21003" y="13686"/>
                  <a:pt x="21037" y="13696"/>
                </a:cubicBezTo>
                <a:cubicBezTo>
                  <a:pt x="21066" y="13705"/>
                  <a:pt x="21077" y="13750"/>
                  <a:pt x="21092" y="13773"/>
                </a:cubicBezTo>
                <a:cubicBezTo>
                  <a:pt x="21097" y="13779"/>
                  <a:pt x="21101" y="13786"/>
                  <a:pt x="21106" y="13792"/>
                </a:cubicBezTo>
              </a:path>
              <a:path w="3261" h="921">
                <a:moveTo>
                  <a:pt x="21350" y="13300"/>
                </a:moveTo>
                <a:cubicBezTo>
                  <a:pt x="21335" y="13357"/>
                  <a:pt x="21329" y="13412"/>
                  <a:pt x="21325" y="13471"/>
                </a:cubicBezTo>
                <a:cubicBezTo>
                  <a:pt x="21319" y="13554"/>
                  <a:pt x="21310" y="13637"/>
                  <a:pt x="21310" y="13720"/>
                </a:cubicBezTo>
                <a:cubicBezTo>
                  <a:pt x="21310" y="13755"/>
                  <a:pt x="21309" y="13779"/>
                  <a:pt x="21319" y="13811"/>
                </a:cubicBezTo>
              </a:path>
              <a:path w="3261" h="921">
                <a:moveTo>
                  <a:pt x="21530" y="13592"/>
                </a:moveTo>
                <a:cubicBezTo>
                  <a:pt x="21544" y="13632"/>
                  <a:pt x="21530" y="13656"/>
                  <a:pt x="21526" y="13698"/>
                </a:cubicBezTo>
                <a:cubicBezTo>
                  <a:pt x="21522" y="13739"/>
                  <a:pt x="21524" y="13787"/>
                  <a:pt x="21512" y="13827"/>
                </a:cubicBezTo>
                <a:cubicBezTo>
                  <a:pt x="21514" y="13804"/>
                  <a:pt x="21516" y="13794"/>
                  <a:pt x="21523" y="13778"/>
                </a:cubicBezTo>
              </a:path>
              <a:path w="3261" h="921">
                <a:moveTo>
                  <a:pt x="21610" y="13389"/>
                </a:moveTo>
                <a:cubicBezTo>
                  <a:pt x="21612" y="13343"/>
                  <a:pt x="21616" y="13300"/>
                  <a:pt x="21622" y="13255"/>
                </a:cubicBezTo>
                <a:cubicBezTo>
                  <a:pt x="21626" y="13223"/>
                  <a:pt x="21638" y="13185"/>
                  <a:pt x="21664" y="13162"/>
                </a:cubicBezTo>
                <a:cubicBezTo>
                  <a:pt x="21681" y="13147"/>
                  <a:pt x="21709" y="13119"/>
                  <a:pt x="21727" y="13110"/>
                </a:cubicBezTo>
                <a:cubicBezTo>
                  <a:pt x="21731" y="13110"/>
                  <a:pt x="21735" y="13109"/>
                  <a:pt x="21739" y="13109"/>
                </a:cubicBezTo>
                <a:cubicBezTo>
                  <a:pt x="21748" y="13149"/>
                  <a:pt x="21732" y="13181"/>
                  <a:pt x="21727" y="13224"/>
                </a:cubicBezTo>
                <a:cubicBezTo>
                  <a:pt x="21717" y="13306"/>
                  <a:pt x="21704" y="13387"/>
                  <a:pt x="21699" y="13470"/>
                </a:cubicBezTo>
                <a:cubicBezTo>
                  <a:pt x="21694" y="13546"/>
                  <a:pt x="21693" y="13623"/>
                  <a:pt x="21696" y="13699"/>
                </a:cubicBezTo>
                <a:cubicBezTo>
                  <a:pt x="21697" y="13723"/>
                  <a:pt x="21695" y="13742"/>
                  <a:pt x="21693" y="13765"/>
                </a:cubicBezTo>
              </a:path>
              <a:path w="3261" h="921">
                <a:moveTo>
                  <a:pt x="21597" y="13570"/>
                </a:moveTo>
                <a:cubicBezTo>
                  <a:pt x="21601" y="13536"/>
                  <a:pt x="21611" y="13496"/>
                  <a:pt x="21642" y="13474"/>
                </a:cubicBezTo>
                <a:cubicBezTo>
                  <a:pt x="21677" y="13449"/>
                  <a:pt x="21726" y="13431"/>
                  <a:pt x="21768" y="13419"/>
                </a:cubicBezTo>
                <a:cubicBezTo>
                  <a:pt x="21804" y="13409"/>
                  <a:pt x="21814" y="13410"/>
                  <a:pt x="21845" y="13420"/>
                </a:cubicBezTo>
                <a:cubicBezTo>
                  <a:pt x="21843" y="13476"/>
                  <a:pt x="21825" y="13529"/>
                  <a:pt x="21824" y="13585"/>
                </a:cubicBezTo>
                <a:cubicBezTo>
                  <a:pt x="21824" y="13617"/>
                  <a:pt x="21828" y="13657"/>
                  <a:pt x="21867" y="13663"/>
                </a:cubicBezTo>
                <a:cubicBezTo>
                  <a:pt x="21914" y="13670"/>
                  <a:pt x="21969" y="13630"/>
                  <a:pt x="22007" y="13608"/>
                </a:cubicBezTo>
                <a:cubicBezTo>
                  <a:pt x="22050" y="13583"/>
                  <a:pt x="22090" y="13556"/>
                  <a:pt x="22136" y="13538"/>
                </a:cubicBezTo>
                <a:cubicBezTo>
                  <a:pt x="22132" y="13586"/>
                  <a:pt x="22116" y="13623"/>
                  <a:pt x="22087" y="13674"/>
                </a:cubicBezTo>
                <a:cubicBezTo>
                  <a:pt x="22039" y="13758"/>
                  <a:pt x="21990" y="13841"/>
                  <a:pt x="21940" y="13924"/>
                </a:cubicBezTo>
                <a:cubicBezTo>
                  <a:pt x="21919" y="13959"/>
                  <a:pt x="21897" y="13994"/>
                  <a:pt x="21875" y="1402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8232840" y="4848120"/>
            <a:ext cx="125280" cy="160560"/>
          </a:xfrm>
          <a:custGeom>
            <a:avLst/>
            <a:gdLst/>
            <a:ahLst/>
            <a:rect l="l" t="t" r="r" b="b"/>
            <a:pathLst>
              <a:path w="346" h="444">
                <a:moveTo>
                  <a:pt x="22926" y="13478"/>
                </a:moveTo>
                <a:cubicBezTo>
                  <a:pt x="22899" y="13468"/>
                  <a:pt x="22901" y="13521"/>
                  <a:pt x="22896" y="13548"/>
                </a:cubicBezTo>
                <a:cubicBezTo>
                  <a:pt x="22885" y="13609"/>
                  <a:pt x="22879" y="13668"/>
                  <a:pt x="22874" y="13730"/>
                </a:cubicBezTo>
                <a:cubicBezTo>
                  <a:pt x="22872" y="13759"/>
                  <a:pt x="22870" y="13781"/>
                  <a:pt x="22876" y="13809"/>
                </a:cubicBezTo>
                <a:cubicBezTo>
                  <a:pt x="22901" y="13794"/>
                  <a:pt x="22919" y="13773"/>
                  <a:pt x="22941" y="13744"/>
                </a:cubicBezTo>
                <a:cubicBezTo>
                  <a:pt x="22993" y="13673"/>
                  <a:pt x="23040" y="13600"/>
                  <a:pt x="23103" y="13538"/>
                </a:cubicBezTo>
                <a:cubicBezTo>
                  <a:pt x="23129" y="13512"/>
                  <a:pt x="23170" y="13478"/>
                  <a:pt x="23195" y="13525"/>
                </a:cubicBezTo>
                <a:cubicBezTo>
                  <a:pt x="23225" y="13581"/>
                  <a:pt x="23214" y="13648"/>
                  <a:pt x="23211" y="13708"/>
                </a:cubicBezTo>
                <a:cubicBezTo>
                  <a:pt x="23208" y="13766"/>
                  <a:pt x="23194" y="13820"/>
                  <a:pt x="23191" y="13878"/>
                </a:cubicBezTo>
                <a:cubicBezTo>
                  <a:pt x="23191" y="13896"/>
                  <a:pt x="23191" y="13900"/>
                  <a:pt x="23191" y="1391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1797120" y="5145120"/>
            <a:ext cx="714240" cy="291960"/>
          </a:xfrm>
          <a:custGeom>
            <a:avLst/>
            <a:gdLst/>
            <a:ahLst/>
            <a:rect l="l" t="t" r="r" b="b"/>
            <a:pathLst>
              <a:path w="1987" h="808">
                <a:moveTo>
                  <a:pt x="5013" y="14407"/>
                </a:moveTo>
                <a:cubicBezTo>
                  <a:pt x="4987" y="14441"/>
                  <a:pt x="4993" y="14483"/>
                  <a:pt x="4992" y="14526"/>
                </a:cubicBezTo>
                <a:cubicBezTo>
                  <a:pt x="4991" y="14622"/>
                  <a:pt x="4998" y="14718"/>
                  <a:pt x="5009" y="14814"/>
                </a:cubicBezTo>
                <a:cubicBezTo>
                  <a:pt x="5016" y="14872"/>
                  <a:pt x="5011" y="14967"/>
                  <a:pt x="5054" y="15014"/>
                </a:cubicBezTo>
                <a:cubicBezTo>
                  <a:pt x="5070" y="15021"/>
                  <a:pt x="5075" y="15023"/>
                  <a:pt x="5085" y="15015"/>
                </a:cubicBezTo>
              </a:path>
              <a:path w="1987" h="808">
                <a:moveTo>
                  <a:pt x="5196" y="15048"/>
                </a:moveTo>
                <a:cubicBezTo>
                  <a:pt x="5188" y="15004"/>
                  <a:pt x="5195" y="14957"/>
                  <a:pt x="5201" y="14912"/>
                </a:cubicBezTo>
                <a:cubicBezTo>
                  <a:pt x="5214" y="14808"/>
                  <a:pt x="5242" y="14703"/>
                  <a:pt x="5274" y="14603"/>
                </a:cubicBezTo>
                <a:cubicBezTo>
                  <a:pt x="5299" y="14524"/>
                  <a:pt x="5327" y="14451"/>
                  <a:pt x="5378" y="14386"/>
                </a:cubicBezTo>
                <a:cubicBezTo>
                  <a:pt x="5442" y="14399"/>
                  <a:pt x="5437" y="14476"/>
                  <a:pt x="5450" y="14536"/>
                </a:cubicBezTo>
                <a:cubicBezTo>
                  <a:pt x="5476" y="14658"/>
                  <a:pt x="5498" y="14781"/>
                  <a:pt x="5520" y="14904"/>
                </a:cubicBezTo>
                <a:cubicBezTo>
                  <a:pt x="5529" y="14953"/>
                  <a:pt x="5540" y="15001"/>
                  <a:pt x="5552" y="15049"/>
                </a:cubicBezTo>
              </a:path>
              <a:path w="1987" h="808">
                <a:moveTo>
                  <a:pt x="5336" y="14746"/>
                </a:moveTo>
                <a:cubicBezTo>
                  <a:pt x="5315" y="14733"/>
                  <a:pt x="5305" y="14726"/>
                  <a:pt x="5282" y="14722"/>
                </a:cubicBezTo>
                <a:cubicBezTo>
                  <a:pt x="5330" y="14722"/>
                  <a:pt x="5370" y="14712"/>
                  <a:pt x="5417" y="14703"/>
                </a:cubicBezTo>
                <a:cubicBezTo>
                  <a:pt x="5522" y="14682"/>
                  <a:pt x="5609" y="14640"/>
                  <a:pt x="5700" y="14584"/>
                </a:cubicBezTo>
              </a:path>
              <a:path w="1987" h="808">
                <a:moveTo>
                  <a:pt x="5788" y="14294"/>
                </a:moveTo>
                <a:cubicBezTo>
                  <a:pt x="5773" y="14347"/>
                  <a:pt x="5762" y="14410"/>
                  <a:pt x="5759" y="14465"/>
                </a:cubicBezTo>
                <a:cubicBezTo>
                  <a:pt x="5751" y="14589"/>
                  <a:pt x="5750" y="14716"/>
                  <a:pt x="5751" y="14841"/>
                </a:cubicBezTo>
                <a:cubicBezTo>
                  <a:pt x="5752" y="14912"/>
                  <a:pt x="5747" y="15026"/>
                  <a:pt x="5786" y="15091"/>
                </a:cubicBezTo>
                <a:cubicBezTo>
                  <a:pt x="5791" y="15094"/>
                  <a:pt x="5797" y="15098"/>
                  <a:pt x="5802" y="15101"/>
                </a:cubicBezTo>
              </a:path>
              <a:path w="1987" h="808">
                <a:moveTo>
                  <a:pt x="5985" y="14547"/>
                </a:moveTo>
                <a:cubicBezTo>
                  <a:pt x="5996" y="14531"/>
                  <a:pt x="6017" y="14509"/>
                  <a:pt x="6035" y="14501"/>
                </a:cubicBezTo>
                <a:cubicBezTo>
                  <a:pt x="6090" y="14476"/>
                  <a:pt x="6151" y="14472"/>
                  <a:pt x="6209" y="14463"/>
                </a:cubicBezTo>
                <a:cubicBezTo>
                  <a:pt x="6257" y="14456"/>
                  <a:pt x="6313" y="14447"/>
                  <a:pt x="6359" y="14469"/>
                </a:cubicBezTo>
                <a:cubicBezTo>
                  <a:pt x="6364" y="14473"/>
                  <a:pt x="6368" y="14477"/>
                  <a:pt x="6373" y="14481"/>
                </a:cubicBezTo>
              </a:path>
              <a:path w="1987" h="808">
                <a:moveTo>
                  <a:pt x="6152" y="14687"/>
                </a:moveTo>
                <a:cubicBezTo>
                  <a:pt x="6129" y="14702"/>
                  <a:pt x="6112" y="14712"/>
                  <a:pt x="6095" y="14732"/>
                </a:cubicBezTo>
                <a:cubicBezTo>
                  <a:pt x="6143" y="14719"/>
                  <a:pt x="6192" y="14705"/>
                  <a:pt x="6238" y="14687"/>
                </a:cubicBezTo>
                <a:cubicBezTo>
                  <a:pt x="6305" y="14660"/>
                  <a:pt x="6373" y="14636"/>
                  <a:pt x="6439" y="14606"/>
                </a:cubicBezTo>
                <a:cubicBezTo>
                  <a:pt x="6452" y="14600"/>
                  <a:pt x="6465" y="14593"/>
                  <a:pt x="6478" y="14587"/>
                </a:cubicBezTo>
              </a:path>
              <a:path w="1987" h="808">
                <a:moveTo>
                  <a:pt x="6576" y="14470"/>
                </a:moveTo>
                <a:cubicBezTo>
                  <a:pt x="6574" y="14501"/>
                  <a:pt x="6574" y="14534"/>
                  <a:pt x="6573" y="14566"/>
                </a:cubicBezTo>
                <a:cubicBezTo>
                  <a:pt x="6571" y="14624"/>
                  <a:pt x="6571" y="14681"/>
                  <a:pt x="6574" y="14739"/>
                </a:cubicBezTo>
                <a:cubicBezTo>
                  <a:pt x="6575" y="14767"/>
                  <a:pt x="6575" y="14775"/>
                  <a:pt x="6578" y="14792"/>
                </a:cubicBezTo>
                <a:cubicBezTo>
                  <a:pt x="6595" y="14768"/>
                  <a:pt x="6608" y="14734"/>
                  <a:pt x="6619" y="14698"/>
                </a:cubicBezTo>
                <a:cubicBezTo>
                  <a:pt x="6635" y="14644"/>
                  <a:pt x="6657" y="14553"/>
                  <a:pt x="6708" y="14519"/>
                </a:cubicBezTo>
                <a:cubicBezTo>
                  <a:pt x="6746" y="14494"/>
                  <a:pt x="6781" y="14556"/>
                  <a:pt x="6798" y="14581"/>
                </a:cubicBezTo>
                <a:cubicBezTo>
                  <a:pt x="6833" y="14633"/>
                  <a:pt x="6859" y="14694"/>
                  <a:pt x="6897" y="14743"/>
                </a:cubicBezTo>
                <a:cubicBezTo>
                  <a:pt x="6920" y="14772"/>
                  <a:pt x="6943" y="14782"/>
                  <a:pt x="6976" y="1479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2820960" y="5076720"/>
            <a:ext cx="647640" cy="381240"/>
          </a:xfrm>
          <a:custGeom>
            <a:avLst/>
            <a:gdLst/>
            <a:ahLst/>
            <a:rect l="l" t="t" r="r" b="b"/>
            <a:pathLst>
              <a:path w="1800" h="1059">
                <a:moveTo>
                  <a:pt x="8150" y="14391"/>
                </a:moveTo>
                <a:cubicBezTo>
                  <a:pt x="8148" y="14425"/>
                  <a:pt x="8143" y="14462"/>
                  <a:pt x="8146" y="14496"/>
                </a:cubicBezTo>
                <a:cubicBezTo>
                  <a:pt x="8153" y="14575"/>
                  <a:pt x="8164" y="14654"/>
                  <a:pt x="8178" y="14732"/>
                </a:cubicBezTo>
                <a:cubicBezTo>
                  <a:pt x="8189" y="14794"/>
                  <a:pt x="8198" y="14857"/>
                  <a:pt x="8214" y="14918"/>
                </a:cubicBezTo>
                <a:cubicBezTo>
                  <a:pt x="8216" y="14923"/>
                  <a:pt x="8217" y="14927"/>
                  <a:pt x="8219" y="14932"/>
                </a:cubicBezTo>
                <a:cubicBezTo>
                  <a:pt x="8217" y="14881"/>
                  <a:pt x="8212" y="14832"/>
                  <a:pt x="8212" y="14781"/>
                </a:cubicBezTo>
                <a:cubicBezTo>
                  <a:pt x="8212" y="14679"/>
                  <a:pt x="8224" y="14578"/>
                  <a:pt x="8243" y="14477"/>
                </a:cubicBezTo>
                <a:cubicBezTo>
                  <a:pt x="8260" y="14392"/>
                  <a:pt x="8281" y="14300"/>
                  <a:pt x="8324" y="14223"/>
                </a:cubicBezTo>
                <a:cubicBezTo>
                  <a:pt x="8342" y="14198"/>
                  <a:pt x="8345" y="14190"/>
                  <a:pt x="8364" y="14185"/>
                </a:cubicBezTo>
                <a:cubicBezTo>
                  <a:pt x="8402" y="14224"/>
                  <a:pt x="8406" y="14266"/>
                  <a:pt x="8406" y="14323"/>
                </a:cubicBezTo>
                <a:cubicBezTo>
                  <a:pt x="8406" y="14396"/>
                  <a:pt x="8387" y="14478"/>
                  <a:pt x="8344" y="14539"/>
                </a:cubicBezTo>
                <a:cubicBezTo>
                  <a:pt x="8319" y="14574"/>
                  <a:pt x="8273" y="14615"/>
                  <a:pt x="8226" y="14614"/>
                </a:cubicBezTo>
                <a:cubicBezTo>
                  <a:pt x="8175" y="14613"/>
                  <a:pt x="8228" y="14550"/>
                  <a:pt x="8237" y="14536"/>
                </a:cubicBezTo>
              </a:path>
              <a:path w="1800" h="1059">
                <a:moveTo>
                  <a:pt x="8611" y="14243"/>
                </a:moveTo>
                <a:cubicBezTo>
                  <a:pt x="8578" y="14285"/>
                  <a:pt x="8549" y="14327"/>
                  <a:pt x="8527" y="14376"/>
                </a:cubicBezTo>
                <a:cubicBezTo>
                  <a:pt x="8487" y="14466"/>
                  <a:pt x="8435" y="14616"/>
                  <a:pt x="8484" y="14712"/>
                </a:cubicBezTo>
                <a:cubicBezTo>
                  <a:pt x="8512" y="14766"/>
                  <a:pt x="8580" y="14772"/>
                  <a:pt x="8632" y="14767"/>
                </a:cubicBezTo>
                <a:cubicBezTo>
                  <a:pt x="8675" y="14759"/>
                  <a:pt x="8689" y="14757"/>
                  <a:pt x="8716" y="14746"/>
                </a:cubicBezTo>
              </a:path>
              <a:path w="1800" h="1059">
                <a:moveTo>
                  <a:pt x="8758" y="14766"/>
                </a:moveTo>
                <a:cubicBezTo>
                  <a:pt x="8724" y="14770"/>
                  <a:pt x="8721" y="14751"/>
                  <a:pt x="8718" y="14717"/>
                </a:cubicBezTo>
                <a:cubicBezTo>
                  <a:pt x="8713" y="14652"/>
                  <a:pt x="8728" y="14589"/>
                  <a:pt x="8745" y="14527"/>
                </a:cubicBezTo>
                <a:cubicBezTo>
                  <a:pt x="8765" y="14455"/>
                  <a:pt x="8793" y="14370"/>
                  <a:pt x="8841" y="14311"/>
                </a:cubicBezTo>
                <a:cubicBezTo>
                  <a:pt x="8850" y="14303"/>
                  <a:pt x="8860" y="14295"/>
                  <a:pt x="8869" y="14287"/>
                </a:cubicBezTo>
                <a:cubicBezTo>
                  <a:pt x="8930" y="14291"/>
                  <a:pt x="8933" y="14337"/>
                  <a:pt x="8947" y="14396"/>
                </a:cubicBezTo>
                <a:cubicBezTo>
                  <a:pt x="8973" y="14506"/>
                  <a:pt x="8989" y="14619"/>
                  <a:pt x="9005" y="14731"/>
                </a:cubicBezTo>
                <a:cubicBezTo>
                  <a:pt x="9009" y="14757"/>
                  <a:pt x="9009" y="14774"/>
                  <a:pt x="9010" y="14798"/>
                </a:cubicBezTo>
                <a:cubicBezTo>
                  <a:pt x="8984" y="14770"/>
                  <a:pt x="8966" y="14737"/>
                  <a:pt x="8945" y="14705"/>
                </a:cubicBezTo>
                <a:cubicBezTo>
                  <a:pt x="8915" y="14660"/>
                  <a:pt x="8883" y="14619"/>
                  <a:pt x="8849" y="14577"/>
                </a:cubicBezTo>
                <a:cubicBezTo>
                  <a:pt x="8834" y="14558"/>
                  <a:pt x="8829" y="14551"/>
                  <a:pt x="8817" y="14540"/>
                </a:cubicBezTo>
                <a:cubicBezTo>
                  <a:pt x="8860" y="14542"/>
                  <a:pt x="8903" y="14549"/>
                  <a:pt x="8947" y="14550"/>
                </a:cubicBezTo>
                <a:cubicBezTo>
                  <a:pt x="9006" y="14551"/>
                  <a:pt x="9068" y="14549"/>
                  <a:pt x="9126" y="14542"/>
                </a:cubicBezTo>
                <a:cubicBezTo>
                  <a:pt x="9150" y="14538"/>
                  <a:pt x="9157" y="14537"/>
                  <a:pt x="9171" y="14531"/>
                </a:cubicBezTo>
              </a:path>
              <a:path w="1800" h="1059">
                <a:moveTo>
                  <a:pt x="9121" y="14235"/>
                </a:moveTo>
                <a:cubicBezTo>
                  <a:pt x="9163" y="14254"/>
                  <a:pt x="9179" y="14307"/>
                  <a:pt x="9197" y="14351"/>
                </a:cubicBezTo>
                <a:cubicBezTo>
                  <a:pt x="9239" y="14454"/>
                  <a:pt x="9264" y="14563"/>
                  <a:pt x="9275" y="14674"/>
                </a:cubicBezTo>
                <a:cubicBezTo>
                  <a:pt x="9283" y="14759"/>
                  <a:pt x="9292" y="14855"/>
                  <a:pt x="9252" y="14934"/>
                </a:cubicBezTo>
                <a:cubicBezTo>
                  <a:pt x="9233" y="14958"/>
                  <a:pt x="9228" y="14966"/>
                  <a:pt x="9209" y="14973"/>
                </a:cubicBezTo>
              </a:path>
              <a:path w="1800" h="1059">
                <a:moveTo>
                  <a:pt x="7939" y="14101"/>
                </a:moveTo>
                <a:cubicBezTo>
                  <a:pt x="7908" y="14153"/>
                  <a:pt x="7879" y="14206"/>
                  <a:pt x="7866" y="14269"/>
                </a:cubicBezTo>
                <a:cubicBezTo>
                  <a:pt x="7837" y="14414"/>
                  <a:pt x="7828" y="14566"/>
                  <a:pt x="7834" y="14714"/>
                </a:cubicBezTo>
                <a:cubicBezTo>
                  <a:pt x="7839" y="14835"/>
                  <a:pt x="7850" y="14982"/>
                  <a:pt x="7916" y="15088"/>
                </a:cubicBezTo>
                <a:cubicBezTo>
                  <a:pt x="7953" y="15148"/>
                  <a:pt x="7984" y="15149"/>
                  <a:pt x="8045" y="15159"/>
                </a:cubicBezTo>
              </a:path>
              <a:path w="1800" h="1059">
                <a:moveTo>
                  <a:pt x="9481" y="14267"/>
                </a:moveTo>
                <a:cubicBezTo>
                  <a:pt x="9494" y="14292"/>
                  <a:pt x="9506" y="14331"/>
                  <a:pt x="9509" y="14374"/>
                </a:cubicBezTo>
                <a:cubicBezTo>
                  <a:pt x="9517" y="14479"/>
                  <a:pt x="9528" y="14584"/>
                  <a:pt x="9543" y="14689"/>
                </a:cubicBezTo>
                <a:cubicBezTo>
                  <a:pt x="9557" y="14785"/>
                  <a:pt x="9572" y="14875"/>
                  <a:pt x="9606" y="14966"/>
                </a:cubicBezTo>
                <a:cubicBezTo>
                  <a:pt x="9618" y="14994"/>
                  <a:pt x="9619" y="15001"/>
                  <a:pt x="9633" y="1501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>
            <a:off x="3645000" y="5378400"/>
            <a:ext cx="9360" cy="57240"/>
          </a:xfrm>
          <a:custGeom>
            <a:avLst/>
            <a:gdLst/>
            <a:ahLst/>
            <a:rect l="l" t="t" r="r" b="b"/>
            <a:pathLst>
              <a:path w="25" h="163">
                <a:moveTo>
                  <a:pt x="10149" y="15100"/>
                </a:moveTo>
                <a:cubicBezTo>
                  <a:pt x="10149" y="15065"/>
                  <a:pt x="10139" y="15034"/>
                  <a:pt x="10132" y="14999"/>
                </a:cubicBezTo>
                <a:cubicBezTo>
                  <a:pt x="10128" y="14978"/>
                  <a:pt x="10129" y="14959"/>
                  <a:pt x="10126" y="1493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>
            <a:off x="3390840" y="5489640"/>
            <a:ext cx="181080" cy="162000"/>
          </a:xfrm>
          <a:custGeom>
            <a:avLst/>
            <a:gdLst/>
            <a:ahLst/>
            <a:rect l="l" t="t" r="r" b="b"/>
            <a:pathLst>
              <a:path w="504" h="451">
                <a:moveTo>
                  <a:pt x="9570" y="15258"/>
                </a:moveTo>
                <a:cubicBezTo>
                  <a:pt x="9537" y="15251"/>
                  <a:pt x="9541" y="15300"/>
                  <a:pt x="9535" y="15336"/>
                </a:cubicBezTo>
                <a:cubicBezTo>
                  <a:pt x="9524" y="15406"/>
                  <a:pt x="9521" y="15482"/>
                  <a:pt x="9527" y="15553"/>
                </a:cubicBezTo>
                <a:cubicBezTo>
                  <a:pt x="9531" y="15602"/>
                  <a:pt x="9541" y="15652"/>
                  <a:pt x="9559" y="15697"/>
                </a:cubicBezTo>
              </a:path>
              <a:path w="504" h="451">
                <a:moveTo>
                  <a:pt x="9437" y="15425"/>
                </a:moveTo>
                <a:cubicBezTo>
                  <a:pt x="9431" y="15422"/>
                  <a:pt x="9425" y="15419"/>
                  <a:pt x="9419" y="15416"/>
                </a:cubicBezTo>
                <a:cubicBezTo>
                  <a:pt x="9453" y="15426"/>
                  <a:pt x="9493" y="15426"/>
                  <a:pt x="9529" y="15423"/>
                </a:cubicBezTo>
                <a:cubicBezTo>
                  <a:pt x="9597" y="15418"/>
                  <a:pt x="9665" y="15407"/>
                  <a:pt x="9732" y="15396"/>
                </a:cubicBezTo>
                <a:cubicBezTo>
                  <a:pt x="9764" y="15391"/>
                  <a:pt x="9792" y="15388"/>
                  <a:pt x="9824" y="15387"/>
                </a:cubicBezTo>
                <a:cubicBezTo>
                  <a:pt x="9840" y="15410"/>
                  <a:pt x="9825" y="15432"/>
                  <a:pt x="9809" y="15456"/>
                </a:cubicBezTo>
                <a:cubicBezTo>
                  <a:pt x="9782" y="15497"/>
                  <a:pt x="9756" y="15534"/>
                  <a:pt x="9739" y="15580"/>
                </a:cubicBezTo>
                <a:cubicBezTo>
                  <a:pt x="9729" y="15607"/>
                  <a:pt x="9726" y="15648"/>
                  <a:pt x="9765" y="15651"/>
                </a:cubicBezTo>
                <a:cubicBezTo>
                  <a:pt x="9803" y="15654"/>
                  <a:pt x="9853" y="15623"/>
                  <a:pt x="9878" y="15597"/>
                </a:cubicBezTo>
                <a:cubicBezTo>
                  <a:pt x="9902" y="15573"/>
                  <a:pt x="9926" y="15535"/>
                  <a:pt x="9922" y="15500"/>
                </a:cubicBezTo>
                <a:cubicBezTo>
                  <a:pt x="9919" y="15475"/>
                  <a:pt x="9895" y="15467"/>
                  <a:pt x="9877" y="15457"/>
                </a:cubicBezTo>
                <a:cubicBezTo>
                  <a:pt x="9857" y="15446"/>
                  <a:pt x="9864" y="15438"/>
                  <a:pt x="9858" y="1542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3708360" y="5472000"/>
            <a:ext cx="534960" cy="147600"/>
          </a:xfrm>
          <a:custGeom>
            <a:avLst/>
            <a:gdLst/>
            <a:ahLst/>
            <a:rect l="l" t="t" r="r" b="b"/>
            <a:pathLst>
              <a:path w="1487" h="410">
                <a:moveTo>
                  <a:pt x="10331" y="15474"/>
                </a:moveTo>
                <a:cubicBezTo>
                  <a:pt x="10304" y="15471"/>
                  <a:pt x="10301" y="15481"/>
                  <a:pt x="10299" y="15510"/>
                </a:cubicBezTo>
                <a:cubicBezTo>
                  <a:pt x="10297" y="15538"/>
                  <a:pt x="10300" y="15569"/>
                  <a:pt x="10304" y="15596"/>
                </a:cubicBezTo>
                <a:cubicBezTo>
                  <a:pt x="10305" y="15600"/>
                  <a:pt x="10306" y="15604"/>
                  <a:pt x="10307" y="15608"/>
                </a:cubicBezTo>
                <a:cubicBezTo>
                  <a:pt x="10326" y="15582"/>
                  <a:pt x="10333" y="15551"/>
                  <a:pt x="10342" y="15519"/>
                </a:cubicBezTo>
                <a:cubicBezTo>
                  <a:pt x="10353" y="15480"/>
                  <a:pt x="10365" y="15437"/>
                  <a:pt x="10391" y="15405"/>
                </a:cubicBezTo>
                <a:cubicBezTo>
                  <a:pt x="10395" y="15402"/>
                  <a:pt x="10398" y="15398"/>
                  <a:pt x="10402" y="15395"/>
                </a:cubicBezTo>
                <a:cubicBezTo>
                  <a:pt x="10427" y="15409"/>
                  <a:pt x="10431" y="15434"/>
                  <a:pt x="10436" y="15464"/>
                </a:cubicBezTo>
                <a:cubicBezTo>
                  <a:pt x="10440" y="15490"/>
                  <a:pt x="10437" y="15492"/>
                  <a:pt x="10455" y="15506"/>
                </a:cubicBezTo>
                <a:cubicBezTo>
                  <a:pt x="10474" y="15486"/>
                  <a:pt x="10485" y="15464"/>
                  <a:pt x="10500" y="15441"/>
                </a:cubicBezTo>
                <a:cubicBezTo>
                  <a:pt x="10512" y="15423"/>
                  <a:pt x="10522" y="15411"/>
                  <a:pt x="10538" y="15399"/>
                </a:cubicBezTo>
                <a:cubicBezTo>
                  <a:pt x="10564" y="15404"/>
                  <a:pt x="10563" y="15420"/>
                  <a:pt x="10572" y="15444"/>
                </a:cubicBezTo>
                <a:cubicBezTo>
                  <a:pt x="10584" y="15475"/>
                  <a:pt x="10592" y="15512"/>
                  <a:pt x="10609" y="15541"/>
                </a:cubicBezTo>
                <a:cubicBezTo>
                  <a:pt x="10624" y="15566"/>
                  <a:pt x="10637" y="15572"/>
                  <a:pt x="10663" y="15567"/>
                </a:cubicBezTo>
              </a:path>
              <a:path w="1487" h="410">
                <a:moveTo>
                  <a:pt x="10758" y="15422"/>
                </a:moveTo>
                <a:cubicBezTo>
                  <a:pt x="10765" y="15403"/>
                  <a:pt x="10766" y="15401"/>
                  <a:pt x="10761" y="15382"/>
                </a:cubicBezTo>
                <a:cubicBezTo>
                  <a:pt x="10733" y="15390"/>
                  <a:pt x="10727" y="15410"/>
                  <a:pt x="10718" y="15441"/>
                </a:cubicBezTo>
                <a:cubicBezTo>
                  <a:pt x="10708" y="15476"/>
                  <a:pt x="10697" y="15525"/>
                  <a:pt x="10714" y="15560"/>
                </a:cubicBezTo>
                <a:cubicBezTo>
                  <a:pt x="10731" y="15595"/>
                  <a:pt x="10762" y="15580"/>
                  <a:pt x="10785" y="15563"/>
                </a:cubicBezTo>
                <a:cubicBezTo>
                  <a:pt x="10815" y="15541"/>
                  <a:pt x="10835" y="15513"/>
                  <a:pt x="10858" y="15485"/>
                </a:cubicBezTo>
                <a:cubicBezTo>
                  <a:pt x="10867" y="15475"/>
                  <a:pt x="10869" y="15472"/>
                  <a:pt x="10877" y="15468"/>
                </a:cubicBezTo>
                <a:cubicBezTo>
                  <a:pt x="10895" y="15483"/>
                  <a:pt x="10912" y="15518"/>
                  <a:pt x="10935" y="15525"/>
                </a:cubicBezTo>
                <a:cubicBezTo>
                  <a:pt x="10939" y="15525"/>
                  <a:pt x="10944" y="15525"/>
                  <a:pt x="10948" y="15525"/>
                </a:cubicBezTo>
              </a:path>
              <a:path w="1487" h="410">
                <a:moveTo>
                  <a:pt x="11101" y="15209"/>
                </a:moveTo>
                <a:cubicBezTo>
                  <a:pt x="11090" y="15204"/>
                  <a:pt x="11092" y="15264"/>
                  <a:pt x="11091" y="15290"/>
                </a:cubicBezTo>
                <a:cubicBezTo>
                  <a:pt x="11089" y="15351"/>
                  <a:pt x="11090" y="15415"/>
                  <a:pt x="11102" y="15475"/>
                </a:cubicBezTo>
                <a:cubicBezTo>
                  <a:pt x="11104" y="15485"/>
                  <a:pt x="11121" y="15567"/>
                  <a:pt x="11152" y="15552"/>
                </a:cubicBezTo>
                <a:cubicBezTo>
                  <a:pt x="11156" y="15547"/>
                  <a:pt x="11161" y="15542"/>
                  <a:pt x="11165" y="15537"/>
                </a:cubicBezTo>
              </a:path>
              <a:path w="1487" h="410">
                <a:moveTo>
                  <a:pt x="11250" y="15252"/>
                </a:moveTo>
                <a:cubicBezTo>
                  <a:pt x="11230" y="15235"/>
                  <a:pt x="11223" y="15263"/>
                  <a:pt x="11203" y="15282"/>
                </a:cubicBezTo>
                <a:cubicBezTo>
                  <a:pt x="11172" y="15312"/>
                  <a:pt x="11148" y="15341"/>
                  <a:pt x="11129" y="15380"/>
                </a:cubicBezTo>
                <a:cubicBezTo>
                  <a:pt x="11115" y="15408"/>
                  <a:pt x="11108" y="15443"/>
                  <a:pt x="11138" y="15465"/>
                </a:cubicBezTo>
                <a:cubicBezTo>
                  <a:pt x="11170" y="15488"/>
                  <a:pt x="11224" y="15486"/>
                  <a:pt x="11261" y="15481"/>
                </a:cubicBezTo>
                <a:cubicBezTo>
                  <a:pt x="11299" y="15475"/>
                  <a:pt x="11336" y="15466"/>
                  <a:pt x="11373" y="15456"/>
                </a:cubicBezTo>
              </a:path>
              <a:path w="1487" h="410">
                <a:moveTo>
                  <a:pt x="11557" y="15424"/>
                </a:moveTo>
                <a:cubicBezTo>
                  <a:pt x="11532" y="15406"/>
                  <a:pt x="11536" y="15411"/>
                  <a:pt x="11546" y="15393"/>
                </a:cubicBezTo>
                <a:cubicBezTo>
                  <a:pt x="11556" y="15375"/>
                  <a:pt x="11574" y="15363"/>
                  <a:pt x="11584" y="15344"/>
                </a:cubicBezTo>
                <a:cubicBezTo>
                  <a:pt x="11588" y="15330"/>
                  <a:pt x="11589" y="15324"/>
                  <a:pt x="11588" y="15314"/>
                </a:cubicBezTo>
                <a:cubicBezTo>
                  <a:pt x="11558" y="15337"/>
                  <a:pt x="11542" y="15361"/>
                  <a:pt x="11533" y="15400"/>
                </a:cubicBezTo>
                <a:cubicBezTo>
                  <a:pt x="11523" y="15440"/>
                  <a:pt x="11522" y="15486"/>
                  <a:pt x="11553" y="15518"/>
                </a:cubicBezTo>
                <a:cubicBezTo>
                  <a:pt x="11582" y="15548"/>
                  <a:pt x="11643" y="15546"/>
                  <a:pt x="11681" y="15542"/>
                </a:cubicBezTo>
                <a:cubicBezTo>
                  <a:pt x="11716" y="15538"/>
                  <a:pt x="11751" y="15529"/>
                  <a:pt x="11785" y="1552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4403880" y="5457960"/>
            <a:ext cx="120600" cy="95040"/>
          </a:xfrm>
          <a:custGeom>
            <a:avLst/>
            <a:gdLst/>
            <a:ahLst/>
            <a:rect l="l" t="t" r="r" b="b"/>
            <a:pathLst>
              <a:path w="336" h="263">
                <a:moveTo>
                  <a:pt x="12367" y="15179"/>
                </a:moveTo>
                <a:cubicBezTo>
                  <a:pt x="12338" y="15145"/>
                  <a:pt x="12326" y="15169"/>
                  <a:pt x="12300" y="15197"/>
                </a:cubicBezTo>
                <a:cubicBezTo>
                  <a:pt x="12269" y="15231"/>
                  <a:pt x="12249" y="15264"/>
                  <a:pt x="12237" y="15309"/>
                </a:cubicBezTo>
                <a:cubicBezTo>
                  <a:pt x="12233" y="15329"/>
                  <a:pt x="12231" y="15334"/>
                  <a:pt x="12238" y="15345"/>
                </a:cubicBezTo>
                <a:cubicBezTo>
                  <a:pt x="12267" y="15345"/>
                  <a:pt x="12284" y="15329"/>
                  <a:pt x="12307" y="15310"/>
                </a:cubicBezTo>
                <a:cubicBezTo>
                  <a:pt x="12332" y="15289"/>
                  <a:pt x="12360" y="15253"/>
                  <a:pt x="12392" y="15245"/>
                </a:cubicBezTo>
                <a:cubicBezTo>
                  <a:pt x="12421" y="15238"/>
                  <a:pt x="12437" y="15286"/>
                  <a:pt x="12444" y="15305"/>
                </a:cubicBezTo>
                <a:cubicBezTo>
                  <a:pt x="12460" y="15347"/>
                  <a:pt x="12469" y="15386"/>
                  <a:pt x="12510" y="15412"/>
                </a:cubicBezTo>
                <a:cubicBezTo>
                  <a:pt x="12537" y="15423"/>
                  <a:pt x="12547" y="15426"/>
                  <a:pt x="12568" y="1542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4632480" y="5402160"/>
            <a:ext cx="652320" cy="198720"/>
          </a:xfrm>
          <a:custGeom>
            <a:avLst/>
            <a:gdLst/>
            <a:ahLst/>
            <a:rect l="l" t="t" r="r" b="b"/>
            <a:pathLst>
              <a:path w="1810" h="553">
                <a:moveTo>
                  <a:pt x="13090" y="15172"/>
                </a:moveTo>
                <a:cubicBezTo>
                  <a:pt x="13068" y="15176"/>
                  <a:pt x="13051" y="15186"/>
                  <a:pt x="13030" y="15192"/>
                </a:cubicBezTo>
                <a:cubicBezTo>
                  <a:pt x="12993" y="15203"/>
                  <a:pt x="12963" y="15222"/>
                  <a:pt x="12929" y="15240"/>
                </a:cubicBezTo>
                <a:cubicBezTo>
                  <a:pt x="12908" y="15251"/>
                  <a:pt x="12889" y="15262"/>
                  <a:pt x="12869" y="15274"/>
                </a:cubicBezTo>
                <a:cubicBezTo>
                  <a:pt x="12905" y="15253"/>
                  <a:pt x="12931" y="15246"/>
                  <a:pt x="12974" y="15249"/>
                </a:cubicBezTo>
                <a:cubicBezTo>
                  <a:pt x="13018" y="15252"/>
                  <a:pt x="13050" y="15274"/>
                  <a:pt x="13065" y="15317"/>
                </a:cubicBezTo>
                <a:cubicBezTo>
                  <a:pt x="13078" y="15354"/>
                  <a:pt x="13073" y="15398"/>
                  <a:pt x="13053" y="15432"/>
                </a:cubicBezTo>
                <a:cubicBezTo>
                  <a:pt x="13040" y="15454"/>
                  <a:pt x="13025" y="15462"/>
                  <a:pt x="13005" y="15453"/>
                </a:cubicBezTo>
                <a:cubicBezTo>
                  <a:pt x="13004" y="15425"/>
                  <a:pt x="13009" y="15411"/>
                  <a:pt x="13019" y="15382"/>
                </a:cubicBezTo>
              </a:path>
              <a:path w="1810" h="553">
                <a:moveTo>
                  <a:pt x="13222" y="15270"/>
                </a:moveTo>
                <a:cubicBezTo>
                  <a:pt x="13233" y="15297"/>
                  <a:pt x="13241" y="15325"/>
                  <a:pt x="13252" y="15352"/>
                </a:cubicBezTo>
                <a:cubicBezTo>
                  <a:pt x="13260" y="15370"/>
                  <a:pt x="13269" y="15399"/>
                  <a:pt x="13294" y="15388"/>
                </a:cubicBezTo>
                <a:cubicBezTo>
                  <a:pt x="13320" y="15376"/>
                  <a:pt x="13335" y="15323"/>
                  <a:pt x="13348" y="15301"/>
                </a:cubicBezTo>
                <a:cubicBezTo>
                  <a:pt x="13357" y="15285"/>
                  <a:pt x="13368" y="15262"/>
                  <a:pt x="13387" y="15280"/>
                </a:cubicBezTo>
                <a:cubicBezTo>
                  <a:pt x="13413" y="15305"/>
                  <a:pt x="13414" y="15343"/>
                  <a:pt x="13428" y="15374"/>
                </a:cubicBezTo>
                <a:cubicBezTo>
                  <a:pt x="13441" y="15399"/>
                  <a:pt x="13444" y="15406"/>
                  <a:pt x="13456" y="15419"/>
                </a:cubicBezTo>
              </a:path>
              <a:path w="1810" h="553">
                <a:moveTo>
                  <a:pt x="13601" y="15037"/>
                </a:moveTo>
                <a:cubicBezTo>
                  <a:pt x="13600" y="15029"/>
                  <a:pt x="13599" y="15022"/>
                  <a:pt x="13598" y="15014"/>
                </a:cubicBezTo>
                <a:cubicBezTo>
                  <a:pt x="13583" y="15066"/>
                  <a:pt x="13589" y="15119"/>
                  <a:pt x="13590" y="15175"/>
                </a:cubicBezTo>
                <a:cubicBezTo>
                  <a:pt x="13592" y="15236"/>
                  <a:pt x="13593" y="15298"/>
                  <a:pt x="13605" y="15358"/>
                </a:cubicBezTo>
                <a:cubicBezTo>
                  <a:pt x="13610" y="15376"/>
                  <a:pt x="13610" y="15382"/>
                  <a:pt x="13623" y="15385"/>
                </a:cubicBezTo>
                <a:cubicBezTo>
                  <a:pt x="13638" y="15363"/>
                  <a:pt x="13650" y="15339"/>
                  <a:pt x="13669" y="15320"/>
                </a:cubicBezTo>
                <a:cubicBezTo>
                  <a:pt x="13681" y="15307"/>
                  <a:pt x="13704" y="15290"/>
                  <a:pt x="13720" y="15308"/>
                </a:cubicBezTo>
                <a:cubicBezTo>
                  <a:pt x="13743" y="15334"/>
                  <a:pt x="13731" y="15365"/>
                  <a:pt x="13718" y="15392"/>
                </a:cubicBezTo>
                <a:cubicBezTo>
                  <a:pt x="13706" y="15416"/>
                  <a:pt x="13686" y="15446"/>
                  <a:pt x="13656" y="15449"/>
                </a:cubicBezTo>
                <a:cubicBezTo>
                  <a:pt x="13625" y="15452"/>
                  <a:pt x="13624" y="15414"/>
                  <a:pt x="13621" y="15394"/>
                </a:cubicBezTo>
              </a:path>
              <a:path w="1810" h="553">
                <a:moveTo>
                  <a:pt x="13851" y="15253"/>
                </a:moveTo>
                <a:cubicBezTo>
                  <a:pt x="13880" y="15259"/>
                  <a:pt x="13898" y="15254"/>
                  <a:pt x="13925" y="15247"/>
                </a:cubicBezTo>
                <a:cubicBezTo>
                  <a:pt x="13953" y="15240"/>
                  <a:pt x="13979" y="15230"/>
                  <a:pt x="14002" y="15211"/>
                </a:cubicBezTo>
                <a:cubicBezTo>
                  <a:pt x="14005" y="15208"/>
                  <a:pt x="14009" y="15204"/>
                  <a:pt x="14012" y="15201"/>
                </a:cubicBezTo>
                <a:cubicBezTo>
                  <a:pt x="13998" y="15188"/>
                  <a:pt x="13983" y="15194"/>
                  <a:pt x="13963" y="15201"/>
                </a:cubicBezTo>
                <a:cubicBezTo>
                  <a:pt x="13936" y="15211"/>
                  <a:pt x="13911" y="15228"/>
                  <a:pt x="13889" y="15247"/>
                </a:cubicBezTo>
                <a:cubicBezTo>
                  <a:pt x="13869" y="15265"/>
                  <a:pt x="13855" y="15287"/>
                  <a:pt x="13849" y="15313"/>
                </a:cubicBezTo>
                <a:cubicBezTo>
                  <a:pt x="13845" y="15328"/>
                  <a:pt x="13849" y="15347"/>
                  <a:pt x="13855" y="15361"/>
                </a:cubicBezTo>
                <a:cubicBezTo>
                  <a:pt x="13863" y="15379"/>
                  <a:pt x="13877" y="15397"/>
                  <a:pt x="13889" y="15413"/>
                </a:cubicBezTo>
                <a:cubicBezTo>
                  <a:pt x="13900" y="15427"/>
                  <a:pt x="13931" y="15440"/>
                  <a:pt x="13933" y="15457"/>
                </a:cubicBezTo>
                <a:cubicBezTo>
                  <a:pt x="13935" y="15470"/>
                  <a:pt x="13930" y="15490"/>
                  <a:pt x="13925" y="15502"/>
                </a:cubicBezTo>
                <a:cubicBezTo>
                  <a:pt x="13918" y="15521"/>
                  <a:pt x="13905" y="15534"/>
                  <a:pt x="13887" y="15544"/>
                </a:cubicBezTo>
                <a:cubicBezTo>
                  <a:pt x="13864" y="15557"/>
                  <a:pt x="13842" y="15556"/>
                  <a:pt x="13816" y="15556"/>
                </a:cubicBezTo>
                <a:cubicBezTo>
                  <a:pt x="13797" y="15556"/>
                  <a:pt x="13784" y="15549"/>
                  <a:pt x="13781" y="15528"/>
                </a:cubicBezTo>
                <a:cubicBezTo>
                  <a:pt x="13781" y="15522"/>
                  <a:pt x="13781" y="15517"/>
                  <a:pt x="13781" y="15511"/>
                </a:cubicBezTo>
              </a:path>
              <a:path w="1810" h="553">
                <a:moveTo>
                  <a:pt x="14093" y="15347"/>
                </a:moveTo>
                <a:cubicBezTo>
                  <a:pt x="14107" y="15345"/>
                  <a:pt x="14124" y="15341"/>
                  <a:pt x="14137" y="15340"/>
                </a:cubicBezTo>
                <a:cubicBezTo>
                  <a:pt x="14162" y="15338"/>
                  <a:pt x="14177" y="15333"/>
                  <a:pt x="14198" y="15319"/>
                </a:cubicBezTo>
                <a:cubicBezTo>
                  <a:pt x="14219" y="15305"/>
                  <a:pt x="14231" y="15284"/>
                  <a:pt x="14232" y="15259"/>
                </a:cubicBezTo>
                <a:cubicBezTo>
                  <a:pt x="14231" y="15246"/>
                  <a:pt x="14231" y="15241"/>
                  <a:pt x="14225" y="15234"/>
                </a:cubicBezTo>
                <a:cubicBezTo>
                  <a:pt x="14193" y="15234"/>
                  <a:pt x="14183" y="15247"/>
                  <a:pt x="14175" y="15281"/>
                </a:cubicBezTo>
                <a:cubicBezTo>
                  <a:pt x="14167" y="15315"/>
                  <a:pt x="14166" y="15362"/>
                  <a:pt x="14182" y="15394"/>
                </a:cubicBezTo>
                <a:cubicBezTo>
                  <a:pt x="14197" y="15424"/>
                  <a:pt x="14230" y="15426"/>
                  <a:pt x="14256" y="15417"/>
                </a:cubicBezTo>
                <a:cubicBezTo>
                  <a:pt x="14294" y="15404"/>
                  <a:pt x="14321" y="15383"/>
                  <a:pt x="14350" y="15356"/>
                </a:cubicBezTo>
              </a:path>
              <a:path w="1810" h="553">
                <a:moveTo>
                  <a:pt x="14442" y="15047"/>
                </a:moveTo>
                <a:cubicBezTo>
                  <a:pt x="14446" y="15024"/>
                  <a:pt x="14446" y="15019"/>
                  <a:pt x="14452" y="15006"/>
                </a:cubicBezTo>
                <a:cubicBezTo>
                  <a:pt x="14448" y="15069"/>
                  <a:pt x="14445" y="15132"/>
                  <a:pt x="14443" y="15195"/>
                </a:cubicBezTo>
                <a:cubicBezTo>
                  <a:pt x="14441" y="15267"/>
                  <a:pt x="14440" y="15337"/>
                  <a:pt x="14443" y="15409"/>
                </a:cubicBezTo>
              </a:path>
              <a:path w="1810" h="553">
                <a:moveTo>
                  <a:pt x="14385" y="15271"/>
                </a:moveTo>
                <a:cubicBezTo>
                  <a:pt x="14396" y="15242"/>
                  <a:pt x="14417" y="15213"/>
                  <a:pt x="14450" y="15203"/>
                </a:cubicBezTo>
                <a:cubicBezTo>
                  <a:pt x="14518" y="15182"/>
                  <a:pt x="14608" y="15196"/>
                  <a:pt x="14678" y="1519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1784520" y="5700600"/>
            <a:ext cx="958680" cy="331920"/>
          </a:xfrm>
          <a:custGeom>
            <a:avLst/>
            <a:gdLst/>
            <a:ahLst/>
            <a:rect l="l" t="t" r="r" b="b"/>
            <a:pathLst>
              <a:path w="2665" h="922">
                <a:moveTo>
                  <a:pt x="4994" y="16143"/>
                </a:moveTo>
                <a:cubicBezTo>
                  <a:pt x="4980" y="16173"/>
                  <a:pt x="4977" y="16208"/>
                  <a:pt x="4979" y="16242"/>
                </a:cubicBezTo>
                <a:cubicBezTo>
                  <a:pt x="4985" y="16323"/>
                  <a:pt x="4994" y="16404"/>
                  <a:pt x="5002" y="16484"/>
                </a:cubicBezTo>
                <a:cubicBezTo>
                  <a:pt x="5010" y="16562"/>
                  <a:pt x="5016" y="16639"/>
                  <a:pt x="5019" y="16717"/>
                </a:cubicBezTo>
                <a:cubicBezTo>
                  <a:pt x="5020" y="16740"/>
                  <a:pt x="5021" y="16744"/>
                  <a:pt x="5018" y="16757"/>
                </a:cubicBezTo>
                <a:cubicBezTo>
                  <a:pt x="5011" y="16706"/>
                  <a:pt x="5008" y="16654"/>
                  <a:pt x="5006" y="16603"/>
                </a:cubicBezTo>
                <a:cubicBezTo>
                  <a:pt x="5002" y="16508"/>
                  <a:pt x="4998" y="16412"/>
                  <a:pt x="5002" y="16316"/>
                </a:cubicBezTo>
                <a:cubicBezTo>
                  <a:pt x="5005" y="16240"/>
                  <a:pt x="5007" y="16155"/>
                  <a:pt x="5035" y="16083"/>
                </a:cubicBezTo>
                <a:cubicBezTo>
                  <a:pt x="5049" y="16057"/>
                  <a:pt x="5051" y="16050"/>
                  <a:pt x="5069" y="16042"/>
                </a:cubicBezTo>
                <a:cubicBezTo>
                  <a:pt x="5109" y="16059"/>
                  <a:pt x="5123" y="16086"/>
                  <a:pt x="5132" y="16130"/>
                </a:cubicBezTo>
                <a:cubicBezTo>
                  <a:pt x="5146" y="16198"/>
                  <a:pt x="5136" y="16270"/>
                  <a:pt x="5110" y="16333"/>
                </a:cubicBezTo>
                <a:cubicBezTo>
                  <a:pt x="5088" y="16387"/>
                  <a:pt x="5052" y="16434"/>
                  <a:pt x="5002" y="16464"/>
                </a:cubicBezTo>
                <a:cubicBezTo>
                  <a:pt x="4971" y="16483"/>
                  <a:pt x="4947" y="16473"/>
                  <a:pt x="4965" y="16437"/>
                </a:cubicBezTo>
                <a:cubicBezTo>
                  <a:pt x="4982" y="16409"/>
                  <a:pt x="4989" y="16398"/>
                  <a:pt x="5006" y="16382"/>
                </a:cubicBezTo>
              </a:path>
              <a:path w="2665" h="922">
                <a:moveTo>
                  <a:pt x="5391" y="16109"/>
                </a:moveTo>
                <a:cubicBezTo>
                  <a:pt x="5350" y="16120"/>
                  <a:pt x="5344" y="16129"/>
                  <a:pt x="5317" y="16160"/>
                </a:cubicBezTo>
                <a:cubicBezTo>
                  <a:pt x="5281" y="16200"/>
                  <a:pt x="5266" y="16250"/>
                  <a:pt x="5267" y="16304"/>
                </a:cubicBezTo>
                <a:cubicBezTo>
                  <a:pt x="5268" y="16359"/>
                  <a:pt x="5296" y="16413"/>
                  <a:pt x="5356" y="16417"/>
                </a:cubicBezTo>
                <a:cubicBezTo>
                  <a:pt x="5401" y="16420"/>
                  <a:pt x="5431" y="16385"/>
                  <a:pt x="5453" y="16351"/>
                </a:cubicBezTo>
                <a:cubicBezTo>
                  <a:pt x="5478" y="16311"/>
                  <a:pt x="5484" y="16265"/>
                  <a:pt x="5483" y="16218"/>
                </a:cubicBezTo>
                <a:cubicBezTo>
                  <a:pt x="5482" y="16178"/>
                  <a:pt x="5479" y="16141"/>
                  <a:pt x="5486" y="16101"/>
                </a:cubicBezTo>
                <a:cubicBezTo>
                  <a:pt x="5487" y="16095"/>
                  <a:pt x="5489" y="16090"/>
                  <a:pt x="5490" y="16084"/>
                </a:cubicBezTo>
              </a:path>
              <a:path w="2665" h="922">
                <a:moveTo>
                  <a:pt x="5565" y="16230"/>
                </a:moveTo>
                <a:cubicBezTo>
                  <a:pt x="5569" y="16277"/>
                  <a:pt x="5570" y="16325"/>
                  <a:pt x="5570" y="16373"/>
                </a:cubicBezTo>
                <a:cubicBezTo>
                  <a:pt x="5570" y="16399"/>
                  <a:pt x="5569" y="16402"/>
                  <a:pt x="5587" y="16420"/>
                </a:cubicBezTo>
                <a:cubicBezTo>
                  <a:pt x="5607" y="16398"/>
                  <a:pt x="5621" y="16375"/>
                  <a:pt x="5635" y="16349"/>
                </a:cubicBezTo>
                <a:cubicBezTo>
                  <a:pt x="5651" y="16319"/>
                  <a:pt x="5664" y="16290"/>
                  <a:pt x="5685" y="16265"/>
                </a:cubicBezTo>
                <a:cubicBezTo>
                  <a:pt x="5709" y="16261"/>
                  <a:pt x="5716" y="16283"/>
                  <a:pt x="5728" y="16304"/>
                </a:cubicBezTo>
                <a:cubicBezTo>
                  <a:pt x="5743" y="16330"/>
                  <a:pt x="5769" y="16390"/>
                  <a:pt x="5804" y="16394"/>
                </a:cubicBezTo>
                <a:cubicBezTo>
                  <a:pt x="5837" y="16398"/>
                  <a:pt x="5854" y="16351"/>
                  <a:pt x="5863" y="16329"/>
                </a:cubicBezTo>
                <a:cubicBezTo>
                  <a:pt x="5878" y="16293"/>
                  <a:pt x="5886" y="16258"/>
                  <a:pt x="5901" y="16223"/>
                </a:cubicBezTo>
                <a:cubicBezTo>
                  <a:pt x="5908" y="16206"/>
                  <a:pt x="5909" y="16202"/>
                  <a:pt x="5914" y="16191"/>
                </a:cubicBezTo>
              </a:path>
              <a:path w="2665" h="922">
                <a:moveTo>
                  <a:pt x="5982" y="16206"/>
                </a:moveTo>
                <a:cubicBezTo>
                  <a:pt x="6004" y="16213"/>
                  <a:pt x="6019" y="16211"/>
                  <a:pt x="6038" y="16196"/>
                </a:cubicBezTo>
                <a:cubicBezTo>
                  <a:pt x="6049" y="16187"/>
                  <a:pt x="6059" y="16178"/>
                  <a:pt x="6069" y="16168"/>
                </a:cubicBezTo>
                <a:cubicBezTo>
                  <a:pt x="6041" y="16248"/>
                  <a:pt x="6015" y="16330"/>
                  <a:pt x="6026" y="16416"/>
                </a:cubicBezTo>
                <a:cubicBezTo>
                  <a:pt x="6030" y="16448"/>
                  <a:pt x="6049" y="16484"/>
                  <a:pt x="6087" y="16479"/>
                </a:cubicBezTo>
                <a:cubicBezTo>
                  <a:pt x="6117" y="16475"/>
                  <a:pt x="6145" y="16447"/>
                  <a:pt x="6162" y="16424"/>
                </a:cubicBezTo>
                <a:cubicBezTo>
                  <a:pt x="6174" y="16408"/>
                  <a:pt x="6180" y="16370"/>
                  <a:pt x="6187" y="16399"/>
                </a:cubicBezTo>
                <a:cubicBezTo>
                  <a:pt x="6187" y="16402"/>
                  <a:pt x="6187" y="16406"/>
                  <a:pt x="6187" y="16409"/>
                </a:cubicBezTo>
                <a:cubicBezTo>
                  <a:pt x="6186" y="16384"/>
                  <a:pt x="6185" y="16378"/>
                  <a:pt x="6190" y="16353"/>
                </a:cubicBezTo>
                <a:cubicBezTo>
                  <a:pt x="6201" y="16304"/>
                  <a:pt x="6222" y="16239"/>
                  <a:pt x="6255" y="16200"/>
                </a:cubicBezTo>
                <a:cubicBezTo>
                  <a:pt x="6286" y="16163"/>
                  <a:pt x="6329" y="16142"/>
                  <a:pt x="6373" y="16124"/>
                </a:cubicBezTo>
              </a:path>
              <a:path w="2665" h="922">
                <a:moveTo>
                  <a:pt x="6531" y="16131"/>
                </a:moveTo>
                <a:cubicBezTo>
                  <a:pt x="6516" y="16142"/>
                  <a:pt x="6498" y="16151"/>
                  <a:pt x="6485" y="16163"/>
                </a:cubicBezTo>
                <a:cubicBezTo>
                  <a:pt x="6468" y="16180"/>
                  <a:pt x="6455" y="16201"/>
                  <a:pt x="6454" y="16225"/>
                </a:cubicBezTo>
                <a:cubicBezTo>
                  <a:pt x="6452" y="16261"/>
                  <a:pt x="6470" y="16289"/>
                  <a:pt x="6489" y="16317"/>
                </a:cubicBezTo>
                <a:cubicBezTo>
                  <a:pt x="6518" y="16360"/>
                  <a:pt x="6552" y="16400"/>
                  <a:pt x="6580" y="16444"/>
                </a:cubicBezTo>
                <a:cubicBezTo>
                  <a:pt x="6597" y="16470"/>
                  <a:pt x="6628" y="16516"/>
                  <a:pt x="6626" y="16550"/>
                </a:cubicBezTo>
                <a:cubicBezTo>
                  <a:pt x="6624" y="16554"/>
                  <a:pt x="6622" y="16559"/>
                  <a:pt x="6620" y="16563"/>
                </a:cubicBezTo>
                <a:cubicBezTo>
                  <a:pt x="6589" y="16562"/>
                  <a:pt x="6579" y="16557"/>
                  <a:pt x="6557" y="16533"/>
                </a:cubicBezTo>
                <a:cubicBezTo>
                  <a:pt x="6543" y="16516"/>
                  <a:pt x="6538" y="16510"/>
                  <a:pt x="6528" y="16498"/>
                </a:cubicBezTo>
              </a:path>
              <a:path w="2665" h="922">
                <a:moveTo>
                  <a:pt x="6868" y="16236"/>
                </a:moveTo>
                <a:cubicBezTo>
                  <a:pt x="6842" y="16262"/>
                  <a:pt x="6796" y="16301"/>
                  <a:pt x="6793" y="16342"/>
                </a:cubicBezTo>
                <a:cubicBezTo>
                  <a:pt x="6795" y="16349"/>
                  <a:pt x="6797" y="16357"/>
                  <a:pt x="6799" y="16364"/>
                </a:cubicBezTo>
                <a:cubicBezTo>
                  <a:pt x="6838" y="16371"/>
                  <a:pt x="6869" y="16356"/>
                  <a:pt x="6902" y="16333"/>
                </a:cubicBezTo>
                <a:cubicBezTo>
                  <a:pt x="6941" y="16305"/>
                  <a:pt x="6985" y="16265"/>
                  <a:pt x="7002" y="16218"/>
                </a:cubicBezTo>
                <a:cubicBezTo>
                  <a:pt x="7005" y="16197"/>
                  <a:pt x="7006" y="16190"/>
                  <a:pt x="6984" y="16193"/>
                </a:cubicBezTo>
                <a:cubicBezTo>
                  <a:pt x="6941" y="16232"/>
                  <a:pt x="6905" y="16274"/>
                  <a:pt x="6878" y="16327"/>
                </a:cubicBezTo>
                <a:cubicBezTo>
                  <a:pt x="6851" y="16379"/>
                  <a:pt x="6823" y="16457"/>
                  <a:pt x="6846" y="16515"/>
                </a:cubicBezTo>
                <a:cubicBezTo>
                  <a:pt x="6869" y="16574"/>
                  <a:pt x="6943" y="16533"/>
                  <a:pt x="6976" y="16515"/>
                </a:cubicBezTo>
                <a:cubicBezTo>
                  <a:pt x="7037" y="16481"/>
                  <a:pt x="7069" y="16436"/>
                  <a:pt x="7112" y="16382"/>
                </a:cubicBezTo>
              </a:path>
              <a:path w="2665" h="922">
                <a:moveTo>
                  <a:pt x="7215" y="15836"/>
                </a:moveTo>
                <a:cubicBezTo>
                  <a:pt x="7187" y="15898"/>
                  <a:pt x="7169" y="15974"/>
                  <a:pt x="7168" y="16043"/>
                </a:cubicBezTo>
                <a:cubicBezTo>
                  <a:pt x="7166" y="16156"/>
                  <a:pt x="7187" y="16271"/>
                  <a:pt x="7217" y="16380"/>
                </a:cubicBezTo>
                <a:cubicBezTo>
                  <a:pt x="7231" y="16430"/>
                  <a:pt x="7246" y="16483"/>
                  <a:pt x="7285" y="16518"/>
                </a:cubicBezTo>
              </a:path>
              <a:path w="2665" h="922">
                <a:moveTo>
                  <a:pt x="7150" y="16257"/>
                </a:moveTo>
                <a:cubicBezTo>
                  <a:pt x="7134" y="16222"/>
                  <a:pt x="7119" y="16207"/>
                  <a:pt x="7152" y="16184"/>
                </a:cubicBezTo>
                <a:cubicBezTo>
                  <a:pt x="7205" y="16147"/>
                  <a:pt x="7288" y="16136"/>
                  <a:pt x="7351" y="16122"/>
                </a:cubicBezTo>
                <a:cubicBezTo>
                  <a:pt x="7440" y="16102"/>
                  <a:pt x="7531" y="16090"/>
                  <a:pt x="7621" y="1607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2857680" y="5751360"/>
            <a:ext cx="261720" cy="181080"/>
          </a:xfrm>
          <a:custGeom>
            <a:avLst/>
            <a:gdLst/>
            <a:ahLst/>
            <a:rect l="l" t="t" r="r" b="b"/>
            <a:pathLst>
              <a:path w="725" h="502">
                <a:moveTo>
                  <a:pt x="7984" y="16085"/>
                </a:moveTo>
                <a:cubicBezTo>
                  <a:pt x="7968" y="16098"/>
                  <a:pt x="7953" y="16110"/>
                  <a:pt x="7938" y="16124"/>
                </a:cubicBezTo>
                <a:cubicBezTo>
                  <a:pt x="7960" y="16172"/>
                  <a:pt x="8006" y="16171"/>
                  <a:pt x="8060" y="16173"/>
                </a:cubicBezTo>
                <a:cubicBezTo>
                  <a:pt x="8142" y="16176"/>
                  <a:pt x="8223" y="16166"/>
                  <a:pt x="8304" y="16163"/>
                </a:cubicBezTo>
                <a:cubicBezTo>
                  <a:pt x="8361" y="16161"/>
                  <a:pt x="8397" y="16152"/>
                  <a:pt x="8433" y="16194"/>
                </a:cubicBezTo>
                <a:cubicBezTo>
                  <a:pt x="8406" y="16216"/>
                  <a:pt x="8388" y="16233"/>
                  <a:pt x="8357" y="16250"/>
                </a:cubicBezTo>
                <a:cubicBezTo>
                  <a:pt x="8348" y="16255"/>
                  <a:pt x="8340" y="16260"/>
                  <a:pt x="8331" y="16265"/>
                </a:cubicBezTo>
              </a:path>
              <a:path w="725" h="502">
                <a:moveTo>
                  <a:pt x="8072" y="16363"/>
                </a:moveTo>
                <a:cubicBezTo>
                  <a:pt x="8052" y="16371"/>
                  <a:pt x="8046" y="16375"/>
                  <a:pt x="8029" y="16387"/>
                </a:cubicBezTo>
                <a:cubicBezTo>
                  <a:pt x="8074" y="16392"/>
                  <a:pt x="8124" y="16380"/>
                  <a:pt x="8169" y="16369"/>
                </a:cubicBezTo>
                <a:cubicBezTo>
                  <a:pt x="8255" y="16349"/>
                  <a:pt x="8329" y="16309"/>
                  <a:pt x="8404" y="16265"/>
                </a:cubicBezTo>
              </a:path>
              <a:path w="725" h="502">
                <a:moveTo>
                  <a:pt x="8398" y="15984"/>
                </a:moveTo>
                <a:cubicBezTo>
                  <a:pt x="8350" y="15972"/>
                  <a:pt x="8407" y="15986"/>
                  <a:pt x="8422" y="15994"/>
                </a:cubicBezTo>
                <a:cubicBezTo>
                  <a:pt x="8483" y="16025"/>
                  <a:pt x="8548" y="16070"/>
                  <a:pt x="8593" y="16122"/>
                </a:cubicBezTo>
                <a:cubicBezTo>
                  <a:pt x="8652" y="16190"/>
                  <a:pt x="8688" y="16290"/>
                  <a:pt x="8639" y="16374"/>
                </a:cubicBezTo>
                <a:cubicBezTo>
                  <a:pt x="8610" y="16425"/>
                  <a:pt x="8545" y="16467"/>
                  <a:pt x="8488" y="16478"/>
                </a:cubicBezTo>
                <a:cubicBezTo>
                  <a:pt x="8452" y="16485"/>
                  <a:pt x="8444" y="16473"/>
                  <a:pt x="8423" y="1645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3470400" y="5624640"/>
            <a:ext cx="736560" cy="244440"/>
          </a:xfrm>
          <a:custGeom>
            <a:avLst/>
            <a:gdLst/>
            <a:ahLst/>
            <a:rect l="l" t="t" r="r" b="b"/>
            <a:pathLst>
              <a:path w="2049" h="678">
                <a:moveTo>
                  <a:pt x="9665" y="15977"/>
                </a:moveTo>
                <a:cubicBezTo>
                  <a:pt x="9650" y="16040"/>
                  <a:pt x="9643" y="16093"/>
                  <a:pt x="9641" y="16157"/>
                </a:cubicBezTo>
                <a:cubicBezTo>
                  <a:pt x="9640" y="16198"/>
                  <a:pt x="9622" y="16299"/>
                  <a:pt x="9668" y="16291"/>
                </a:cubicBezTo>
              </a:path>
              <a:path w="2049" h="678">
                <a:moveTo>
                  <a:pt x="9656" y="15770"/>
                </a:moveTo>
                <a:cubicBezTo>
                  <a:pt x="9654" y="15751"/>
                  <a:pt x="9644" y="15692"/>
                  <a:pt x="9672" y="15682"/>
                </a:cubicBezTo>
                <a:cubicBezTo>
                  <a:pt x="9700" y="15673"/>
                  <a:pt x="9726" y="15704"/>
                  <a:pt x="9742" y="15717"/>
                </a:cubicBezTo>
              </a:path>
              <a:path w="2049" h="678">
                <a:moveTo>
                  <a:pt x="9855" y="16170"/>
                </a:moveTo>
                <a:cubicBezTo>
                  <a:pt x="9855" y="16213"/>
                  <a:pt x="9855" y="16257"/>
                  <a:pt x="9855" y="16300"/>
                </a:cubicBezTo>
                <a:cubicBezTo>
                  <a:pt x="9862" y="16243"/>
                  <a:pt x="9876" y="16188"/>
                  <a:pt x="9896" y="16134"/>
                </a:cubicBezTo>
                <a:cubicBezTo>
                  <a:pt x="9913" y="16087"/>
                  <a:pt x="9939" y="16009"/>
                  <a:pt x="9988" y="15984"/>
                </a:cubicBezTo>
                <a:cubicBezTo>
                  <a:pt x="10037" y="15959"/>
                  <a:pt x="10062" y="16033"/>
                  <a:pt x="10075" y="16063"/>
                </a:cubicBezTo>
                <a:cubicBezTo>
                  <a:pt x="10103" y="16124"/>
                  <a:pt x="10122" y="16190"/>
                  <a:pt x="10155" y="16249"/>
                </a:cubicBezTo>
                <a:cubicBezTo>
                  <a:pt x="10159" y="16255"/>
                  <a:pt x="10164" y="16262"/>
                  <a:pt x="10168" y="16268"/>
                </a:cubicBezTo>
              </a:path>
              <a:path w="2049" h="678">
                <a:moveTo>
                  <a:pt x="10312" y="15887"/>
                </a:moveTo>
                <a:cubicBezTo>
                  <a:pt x="10280" y="15901"/>
                  <a:pt x="10282" y="15928"/>
                  <a:pt x="10273" y="15961"/>
                </a:cubicBezTo>
                <a:cubicBezTo>
                  <a:pt x="10259" y="16013"/>
                  <a:pt x="10254" y="16060"/>
                  <a:pt x="10261" y="16113"/>
                </a:cubicBezTo>
                <a:cubicBezTo>
                  <a:pt x="10268" y="16166"/>
                  <a:pt x="10297" y="16162"/>
                  <a:pt x="10341" y="16158"/>
                </a:cubicBezTo>
              </a:path>
              <a:path w="2049" h="678">
                <a:moveTo>
                  <a:pt x="10610" y="15634"/>
                </a:moveTo>
                <a:cubicBezTo>
                  <a:pt x="10576" y="15626"/>
                  <a:pt x="10587" y="15630"/>
                  <a:pt x="10581" y="15675"/>
                </a:cubicBezTo>
                <a:cubicBezTo>
                  <a:pt x="10571" y="15752"/>
                  <a:pt x="10582" y="15834"/>
                  <a:pt x="10593" y="15910"/>
                </a:cubicBezTo>
                <a:cubicBezTo>
                  <a:pt x="10605" y="15995"/>
                  <a:pt x="10614" y="16083"/>
                  <a:pt x="10645" y="16163"/>
                </a:cubicBezTo>
                <a:cubicBezTo>
                  <a:pt x="10658" y="16190"/>
                  <a:pt x="10661" y="16198"/>
                  <a:pt x="10678" y="16207"/>
                </a:cubicBezTo>
              </a:path>
              <a:path w="2049" h="678">
                <a:moveTo>
                  <a:pt x="10759" y="15983"/>
                </a:moveTo>
                <a:cubicBezTo>
                  <a:pt x="10743" y="16003"/>
                  <a:pt x="10738" y="16041"/>
                  <a:pt x="10741" y="16070"/>
                </a:cubicBezTo>
                <a:cubicBezTo>
                  <a:pt x="10743" y="16091"/>
                  <a:pt x="10747" y="16145"/>
                  <a:pt x="10773" y="16153"/>
                </a:cubicBezTo>
                <a:cubicBezTo>
                  <a:pt x="10797" y="16160"/>
                  <a:pt x="10821" y="16113"/>
                  <a:pt x="10830" y="16098"/>
                </a:cubicBezTo>
                <a:cubicBezTo>
                  <a:pt x="10845" y="16073"/>
                  <a:pt x="10855" y="16048"/>
                  <a:pt x="10877" y="16029"/>
                </a:cubicBezTo>
                <a:cubicBezTo>
                  <a:pt x="10898" y="16044"/>
                  <a:pt x="10913" y="16066"/>
                  <a:pt x="10926" y="16089"/>
                </a:cubicBezTo>
                <a:cubicBezTo>
                  <a:pt x="10946" y="16123"/>
                  <a:pt x="10956" y="16135"/>
                  <a:pt x="10994" y="16142"/>
                </a:cubicBezTo>
              </a:path>
              <a:path w="2049" h="678">
                <a:moveTo>
                  <a:pt x="11133" y="15975"/>
                </a:moveTo>
                <a:cubicBezTo>
                  <a:pt x="11120" y="15958"/>
                  <a:pt x="11124" y="15947"/>
                  <a:pt x="11102" y="15965"/>
                </a:cubicBezTo>
                <a:cubicBezTo>
                  <a:pt x="11072" y="15990"/>
                  <a:pt x="11053" y="16026"/>
                  <a:pt x="11038" y="16062"/>
                </a:cubicBezTo>
                <a:cubicBezTo>
                  <a:pt x="11025" y="16092"/>
                  <a:pt x="11003" y="16146"/>
                  <a:pt x="11024" y="16177"/>
                </a:cubicBezTo>
                <a:cubicBezTo>
                  <a:pt x="11028" y="16180"/>
                  <a:pt x="11033" y="16182"/>
                  <a:pt x="11037" y="16185"/>
                </a:cubicBezTo>
                <a:cubicBezTo>
                  <a:pt x="11076" y="16173"/>
                  <a:pt x="11097" y="16149"/>
                  <a:pt x="11119" y="16114"/>
                </a:cubicBezTo>
                <a:cubicBezTo>
                  <a:pt x="11153" y="16060"/>
                  <a:pt x="11173" y="16001"/>
                  <a:pt x="11183" y="15938"/>
                </a:cubicBezTo>
                <a:cubicBezTo>
                  <a:pt x="11192" y="15881"/>
                  <a:pt x="11193" y="15823"/>
                  <a:pt x="11187" y="15766"/>
                </a:cubicBezTo>
                <a:cubicBezTo>
                  <a:pt x="11185" y="15743"/>
                  <a:pt x="11179" y="15725"/>
                  <a:pt x="11174" y="15704"/>
                </a:cubicBezTo>
                <a:cubicBezTo>
                  <a:pt x="11170" y="15769"/>
                  <a:pt x="11176" y="15840"/>
                  <a:pt x="11194" y="15903"/>
                </a:cubicBezTo>
                <a:cubicBezTo>
                  <a:pt x="11216" y="15979"/>
                  <a:pt x="11250" y="16065"/>
                  <a:pt x="11306" y="16123"/>
                </a:cubicBezTo>
                <a:cubicBezTo>
                  <a:pt x="11318" y="16133"/>
                  <a:pt x="11330" y="16142"/>
                  <a:pt x="11342" y="16152"/>
                </a:cubicBezTo>
              </a:path>
              <a:path w="2049" h="678">
                <a:moveTo>
                  <a:pt x="11476" y="16074"/>
                </a:moveTo>
                <a:cubicBezTo>
                  <a:pt x="11459" y="16047"/>
                  <a:pt x="11474" y="16050"/>
                  <a:pt x="11494" y="16032"/>
                </a:cubicBezTo>
                <a:cubicBezTo>
                  <a:pt x="11510" y="16018"/>
                  <a:pt x="11524" y="16003"/>
                  <a:pt x="11540" y="15989"/>
                </a:cubicBezTo>
                <a:cubicBezTo>
                  <a:pt x="11531" y="16020"/>
                  <a:pt x="11523" y="16048"/>
                  <a:pt x="11525" y="16081"/>
                </a:cubicBezTo>
                <a:cubicBezTo>
                  <a:pt x="11528" y="16119"/>
                  <a:pt x="11542" y="16150"/>
                  <a:pt x="11575" y="16171"/>
                </a:cubicBezTo>
                <a:cubicBezTo>
                  <a:pt x="11609" y="16192"/>
                  <a:pt x="11649" y="16183"/>
                  <a:pt x="11686" y="1617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4432320" y="5591160"/>
            <a:ext cx="479520" cy="239760"/>
          </a:xfrm>
          <a:custGeom>
            <a:avLst/>
            <a:gdLst/>
            <a:ahLst/>
            <a:rect l="l" t="t" r="r" b="b"/>
            <a:pathLst>
              <a:path w="1331" h="665">
                <a:moveTo>
                  <a:pt x="12322" y="15973"/>
                </a:moveTo>
                <a:cubicBezTo>
                  <a:pt x="12312" y="15992"/>
                  <a:pt x="12311" y="15990"/>
                  <a:pt x="12319" y="16009"/>
                </a:cubicBezTo>
                <a:cubicBezTo>
                  <a:pt x="12355" y="15999"/>
                  <a:pt x="12386" y="15985"/>
                  <a:pt x="12416" y="15960"/>
                </a:cubicBezTo>
                <a:cubicBezTo>
                  <a:pt x="12456" y="15927"/>
                  <a:pt x="12498" y="15885"/>
                  <a:pt x="12519" y="15837"/>
                </a:cubicBezTo>
                <a:cubicBezTo>
                  <a:pt x="12526" y="15813"/>
                  <a:pt x="12529" y="15808"/>
                  <a:pt x="12526" y="15792"/>
                </a:cubicBezTo>
                <a:cubicBezTo>
                  <a:pt x="12493" y="15783"/>
                  <a:pt x="12466" y="15812"/>
                  <a:pt x="12443" y="15839"/>
                </a:cubicBezTo>
                <a:cubicBezTo>
                  <a:pt x="12400" y="15889"/>
                  <a:pt x="12364" y="15953"/>
                  <a:pt x="12352" y="16019"/>
                </a:cubicBezTo>
                <a:cubicBezTo>
                  <a:pt x="12342" y="16074"/>
                  <a:pt x="12351" y="16130"/>
                  <a:pt x="12416" y="16138"/>
                </a:cubicBezTo>
                <a:cubicBezTo>
                  <a:pt x="12469" y="16145"/>
                  <a:pt x="12522" y="16117"/>
                  <a:pt x="12570" y="16100"/>
                </a:cubicBezTo>
              </a:path>
              <a:path w="1331" h="665">
                <a:moveTo>
                  <a:pt x="12811" y="15883"/>
                </a:moveTo>
                <a:cubicBezTo>
                  <a:pt x="12771" y="15863"/>
                  <a:pt x="12763" y="15873"/>
                  <a:pt x="12726" y="15895"/>
                </a:cubicBezTo>
                <a:cubicBezTo>
                  <a:pt x="12676" y="15925"/>
                  <a:pt x="12648" y="15967"/>
                  <a:pt x="12630" y="16023"/>
                </a:cubicBezTo>
                <a:cubicBezTo>
                  <a:pt x="12618" y="16061"/>
                  <a:pt x="12611" y="16125"/>
                  <a:pt x="12657" y="16143"/>
                </a:cubicBezTo>
                <a:cubicBezTo>
                  <a:pt x="12699" y="16160"/>
                  <a:pt x="12748" y="16121"/>
                  <a:pt x="12774" y="16094"/>
                </a:cubicBezTo>
                <a:cubicBezTo>
                  <a:pt x="12810" y="16058"/>
                  <a:pt x="12826" y="15979"/>
                  <a:pt x="12863" y="15952"/>
                </a:cubicBezTo>
                <a:cubicBezTo>
                  <a:pt x="12868" y="15951"/>
                  <a:pt x="12873" y="15951"/>
                  <a:pt x="12878" y="15950"/>
                </a:cubicBezTo>
                <a:cubicBezTo>
                  <a:pt x="12891" y="15992"/>
                  <a:pt x="12903" y="16035"/>
                  <a:pt x="12914" y="16078"/>
                </a:cubicBezTo>
                <a:cubicBezTo>
                  <a:pt x="12927" y="16130"/>
                  <a:pt x="12937" y="16160"/>
                  <a:pt x="12977" y="16196"/>
                </a:cubicBezTo>
              </a:path>
              <a:path w="1331" h="665">
                <a:moveTo>
                  <a:pt x="13177" y="15892"/>
                </a:moveTo>
                <a:cubicBezTo>
                  <a:pt x="13165" y="15865"/>
                  <a:pt x="13163" y="15852"/>
                  <a:pt x="13134" y="15861"/>
                </a:cubicBezTo>
                <a:cubicBezTo>
                  <a:pt x="13088" y="15875"/>
                  <a:pt x="13067" y="15927"/>
                  <a:pt x="13051" y="15970"/>
                </a:cubicBezTo>
                <a:cubicBezTo>
                  <a:pt x="13034" y="16017"/>
                  <a:pt x="13018" y="16087"/>
                  <a:pt x="13040" y="16135"/>
                </a:cubicBezTo>
                <a:cubicBezTo>
                  <a:pt x="13057" y="16172"/>
                  <a:pt x="13109" y="16172"/>
                  <a:pt x="13141" y="16159"/>
                </a:cubicBezTo>
                <a:cubicBezTo>
                  <a:pt x="13171" y="16147"/>
                  <a:pt x="13200" y="16121"/>
                  <a:pt x="13226" y="16102"/>
                </a:cubicBezTo>
              </a:path>
              <a:path w="1331" h="665">
                <a:moveTo>
                  <a:pt x="13343" y="15550"/>
                </a:moveTo>
                <a:cubicBezTo>
                  <a:pt x="13338" y="15511"/>
                  <a:pt x="13346" y="15592"/>
                  <a:pt x="13349" y="15631"/>
                </a:cubicBezTo>
                <a:cubicBezTo>
                  <a:pt x="13356" y="15729"/>
                  <a:pt x="13367" y="15826"/>
                  <a:pt x="13375" y="15924"/>
                </a:cubicBezTo>
                <a:cubicBezTo>
                  <a:pt x="13380" y="15986"/>
                  <a:pt x="13384" y="16046"/>
                  <a:pt x="13395" y="16107"/>
                </a:cubicBezTo>
                <a:cubicBezTo>
                  <a:pt x="13410" y="16070"/>
                  <a:pt x="13420" y="16022"/>
                  <a:pt x="13446" y="15990"/>
                </a:cubicBezTo>
                <a:cubicBezTo>
                  <a:pt x="13477" y="15952"/>
                  <a:pt x="13508" y="15966"/>
                  <a:pt x="13543" y="15986"/>
                </a:cubicBezTo>
                <a:cubicBezTo>
                  <a:pt x="13579" y="16006"/>
                  <a:pt x="13610" y="16031"/>
                  <a:pt x="13643" y="1605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5051520" y="5684760"/>
            <a:ext cx="201600" cy="173160"/>
          </a:xfrm>
          <a:custGeom>
            <a:avLst/>
            <a:gdLst/>
            <a:ahLst/>
            <a:rect l="l" t="t" r="r" b="b"/>
            <a:pathLst>
              <a:path w="559" h="479">
                <a:moveTo>
                  <a:pt x="14198" y="15875"/>
                </a:moveTo>
                <a:cubicBezTo>
                  <a:pt x="14214" y="15836"/>
                  <a:pt x="14216" y="15822"/>
                  <a:pt x="14192" y="15792"/>
                </a:cubicBezTo>
                <a:cubicBezTo>
                  <a:pt x="14148" y="15809"/>
                  <a:pt x="14121" y="15831"/>
                  <a:pt x="14093" y="15871"/>
                </a:cubicBezTo>
                <a:cubicBezTo>
                  <a:pt x="14055" y="15926"/>
                  <a:pt x="14024" y="15997"/>
                  <a:pt x="14032" y="16066"/>
                </a:cubicBezTo>
                <a:cubicBezTo>
                  <a:pt x="14039" y="16122"/>
                  <a:pt x="14079" y="16155"/>
                  <a:pt x="14134" y="16141"/>
                </a:cubicBezTo>
                <a:cubicBezTo>
                  <a:pt x="14198" y="16125"/>
                  <a:pt x="14246" y="16075"/>
                  <a:pt x="14289" y="16029"/>
                </a:cubicBezTo>
                <a:cubicBezTo>
                  <a:pt x="14306" y="16011"/>
                  <a:pt x="14342" y="15954"/>
                  <a:pt x="14373" y="15982"/>
                </a:cubicBezTo>
                <a:cubicBezTo>
                  <a:pt x="14404" y="16010"/>
                  <a:pt x="14407" y="16070"/>
                  <a:pt x="14418" y="16107"/>
                </a:cubicBezTo>
                <a:cubicBezTo>
                  <a:pt x="14422" y="16119"/>
                  <a:pt x="14426" y="16130"/>
                  <a:pt x="14430" y="16142"/>
                </a:cubicBezTo>
              </a:path>
              <a:path w="559" h="479">
                <a:moveTo>
                  <a:pt x="14560" y="16086"/>
                </a:moveTo>
                <a:cubicBezTo>
                  <a:pt x="14569" y="16115"/>
                  <a:pt x="14560" y="16137"/>
                  <a:pt x="14560" y="16166"/>
                </a:cubicBezTo>
                <a:cubicBezTo>
                  <a:pt x="14560" y="16174"/>
                  <a:pt x="14561" y="16268"/>
                  <a:pt x="14568" y="16270"/>
                </a:cubicBezTo>
                <a:cubicBezTo>
                  <a:pt x="14574" y="16268"/>
                  <a:pt x="14579" y="16265"/>
                  <a:pt x="14585" y="16263"/>
                </a:cubicBezTo>
              </a:path>
              <a:path w="559" h="479">
                <a:moveTo>
                  <a:pt x="14588" y="15903"/>
                </a:moveTo>
                <a:cubicBezTo>
                  <a:pt x="14581" y="15877"/>
                  <a:pt x="14577" y="15852"/>
                  <a:pt x="14572" y="15826"/>
                </a:cubicBezTo>
                <a:cubicBezTo>
                  <a:pt x="14567" y="15801"/>
                  <a:pt x="14568" y="15802"/>
                  <a:pt x="14590" y="1579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5533920" y="5680080"/>
            <a:ext cx="230400" cy="127080"/>
          </a:xfrm>
          <a:custGeom>
            <a:avLst/>
            <a:gdLst/>
            <a:ahLst/>
            <a:rect l="l" t="t" r="r" b="b"/>
            <a:pathLst>
              <a:path w="638" h="351">
                <a:moveTo>
                  <a:pt x="15576" y="15871"/>
                </a:moveTo>
                <a:cubicBezTo>
                  <a:pt x="15546" y="15841"/>
                  <a:pt x="15511" y="15805"/>
                  <a:pt x="15462" y="15820"/>
                </a:cubicBezTo>
                <a:cubicBezTo>
                  <a:pt x="15426" y="15831"/>
                  <a:pt x="15390" y="15874"/>
                  <a:pt x="15379" y="15909"/>
                </a:cubicBezTo>
                <a:cubicBezTo>
                  <a:pt x="15365" y="15953"/>
                  <a:pt x="15376" y="15992"/>
                  <a:pt x="15411" y="16021"/>
                </a:cubicBezTo>
                <a:cubicBezTo>
                  <a:pt x="15445" y="16048"/>
                  <a:pt x="15495" y="16045"/>
                  <a:pt x="15534" y="16034"/>
                </a:cubicBezTo>
                <a:cubicBezTo>
                  <a:pt x="15578" y="16021"/>
                  <a:pt x="15622" y="15996"/>
                  <a:pt x="15658" y="15969"/>
                </a:cubicBezTo>
                <a:cubicBezTo>
                  <a:pt x="15683" y="15951"/>
                  <a:pt x="15703" y="15923"/>
                  <a:pt x="15722" y="15899"/>
                </a:cubicBezTo>
              </a:path>
              <a:path w="638" h="351">
                <a:moveTo>
                  <a:pt x="15760" y="15894"/>
                </a:moveTo>
                <a:cubicBezTo>
                  <a:pt x="15769" y="15948"/>
                  <a:pt x="15782" y="16002"/>
                  <a:pt x="15798" y="16054"/>
                </a:cubicBezTo>
                <a:cubicBezTo>
                  <a:pt x="15807" y="16084"/>
                  <a:pt x="15812" y="16114"/>
                  <a:pt x="15839" y="16129"/>
                </a:cubicBezTo>
                <a:cubicBezTo>
                  <a:pt x="15861" y="16096"/>
                  <a:pt x="15866" y="16060"/>
                  <a:pt x="15872" y="16021"/>
                </a:cubicBezTo>
                <a:cubicBezTo>
                  <a:pt x="15883" y="15951"/>
                  <a:pt x="15892" y="15886"/>
                  <a:pt x="15918" y="15820"/>
                </a:cubicBezTo>
                <a:cubicBezTo>
                  <a:pt x="15932" y="15785"/>
                  <a:pt x="15944" y="15774"/>
                  <a:pt x="15984" y="15779"/>
                </a:cubicBezTo>
                <a:cubicBezTo>
                  <a:pt x="15993" y="15781"/>
                  <a:pt x="16001" y="15783"/>
                  <a:pt x="16010" y="1578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5969160" y="5580000"/>
            <a:ext cx="414000" cy="211320"/>
          </a:xfrm>
          <a:custGeom>
            <a:avLst/>
            <a:gdLst/>
            <a:ahLst/>
            <a:rect l="l" t="t" r="r" b="b"/>
            <a:pathLst>
              <a:path w="1150" h="586">
                <a:moveTo>
                  <a:pt x="16677" y="15659"/>
                </a:moveTo>
                <a:cubicBezTo>
                  <a:pt x="16633" y="15652"/>
                  <a:pt x="16633" y="15665"/>
                  <a:pt x="16612" y="15702"/>
                </a:cubicBezTo>
                <a:cubicBezTo>
                  <a:pt x="16581" y="15756"/>
                  <a:pt x="16582" y="15817"/>
                  <a:pt x="16582" y="15879"/>
                </a:cubicBezTo>
                <a:cubicBezTo>
                  <a:pt x="16582" y="15931"/>
                  <a:pt x="16584" y="15988"/>
                  <a:pt x="16599" y="16038"/>
                </a:cubicBezTo>
                <a:cubicBezTo>
                  <a:pt x="16604" y="16049"/>
                  <a:pt x="16605" y="16054"/>
                  <a:pt x="16614" y="16052"/>
                </a:cubicBezTo>
                <a:cubicBezTo>
                  <a:pt x="16636" y="16016"/>
                  <a:pt x="16647" y="15976"/>
                  <a:pt x="16662" y="15937"/>
                </a:cubicBezTo>
                <a:cubicBezTo>
                  <a:pt x="16679" y="15894"/>
                  <a:pt x="16697" y="15834"/>
                  <a:pt x="16731" y="15801"/>
                </a:cubicBezTo>
                <a:cubicBezTo>
                  <a:pt x="16736" y="15798"/>
                  <a:pt x="16741" y="15796"/>
                  <a:pt x="16746" y="15793"/>
                </a:cubicBezTo>
                <a:cubicBezTo>
                  <a:pt x="16774" y="15821"/>
                  <a:pt x="16783" y="15859"/>
                  <a:pt x="16799" y="15896"/>
                </a:cubicBezTo>
                <a:cubicBezTo>
                  <a:pt x="16816" y="15937"/>
                  <a:pt x="16834" y="15972"/>
                  <a:pt x="16857" y="16009"/>
                </a:cubicBezTo>
              </a:path>
              <a:path w="1150" h="586">
                <a:moveTo>
                  <a:pt x="17106" y="15847"/>
                </a:moveTo>
                <a:cubicBezTo>
                  <a:pt x="17069" y="15833"/>
                  <a:pt x="17049" y="15850"/>
                  <a:pt x="17023" y="15885"/>
                </a:cubicBezTo>
                <a:cubicBezTo>
                  <a:pt x="16998" y="15920"/>
                  <a:pt x="16973" y="15971"/>
                  <a:pt x="16974" y="16015"/>
                </a:cubicBezTo>
                <a:cubicBezTo>
                  <a:pt x="16975" y="16057"/>
                  <a:pt x="17009" y="16053"/>
                  <a:pt x="17038" y="16038"/>
                </a:cubicBezTo>
                <a:cubicBezTo>
                  <a:pt x="17083" y="16015"/>
                  <a:pt x="17119" y="15969"/>
                  <a:pt x="17146" y="15928"/>
                </a:cubicBezTo>
                <a:cubicBezTo>
                  <a:pt x="17164" y="15900"/>
                  <a:pt x="17196" y="15871"/>
                  <a:pt x="17195" y="15836"/>
                </a:cubicBezTo>
                <a:cubicBezTo>
                  <a:pt x="17192" y="15824"/>
                  <a:pt x="17190" y="15820"/>
                  <a:pt x="17180" y="15817"/>
                </a:cubicBezTo>
              </a:path>
              <a:path w="1150" h="586">
                <a:moveTo>
                  <a:pt x="17406" y="15521"/>
                </a:moveTo>
                <a:cubicBezTo>
                  <a:pt x="17369" y="15480"/>
                  <a:pt x="17370" y="15572"/>
                  <a:pt x="17364" y="15607"/>
                </a:cubicBezTo>
                <a:cubicBezTo>
                  <a:pt x="17349" y="15704"/>
                  <a:pt x="17346" y="15802"/>
                  <a:pt x="17346" y="15901"/>
                </a:cubicBezTo>
                <a:cubicBezTo>
                  <a:pt x="17346" y="15962"/>
                  <a:pt x="17402" y="16120"/>
                  <a:pt x="17352" y="16084"/>
                </a:cubicBezTo>
                <a:cubicBezTo>
                  <a:pt x="17343" y="16055"/>
                  <a:pt x="17340" y="16045"/>
                  <a:pt x="17334" y="16025"/>
                </a:cubicBezTo>
              </a:path>
              <a:path w="1150" h="586">
                <a:moveTo>
                  <a:pt x="17314" y="15965"/>
                </a:moveTo>
                <a:cubicBezTo>
                  <a:pt x="17298" y="15934"/>
                  <a:pt x="17269" y="15895"/>
                  <a:pt x="17263" y="15859"/>
                </a:cubicBezTo>
                <a:cubicBezTo>
                  <a:pt x="17255" y="15815"/>
                  <a:pt x="17317" y="15786"/>
                  <a:pt x="17348" y="15771"/>
                </a:cubicBezTo>
                <a:cubicBezTo>
                  <a:pt x="17444" y="15726"/>
                  <a:pt x="17546" y="15690"/>
                  <a:pt x="17646" y="15657"/>
                </a:cubicBezTo>
                <a:cubicBezTo>
                  <a:pt x="17674" y="15648"/>
                  <a:pt x="17702" y="15639"/>
                  <a:pt x="17730" y="1563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6583320" y="5559480"/>
            <a:ext cx="909720" cy="249120"/>
          </a:xfrm>
          <a:custGeom>
            <a:avLst/>
            <a:gdLst/>
            <a:ahLst/>
            <a:rect l="l" t="t" r="r" b="b"/>
            <a:pathLst>
              <a:path w="2528" h="690">
                <a:moveTo>
                  <a:pt x="18314" y="15852"/>
                </a:moveTo>
                <a:cubicBezTo>
                  <a:pt x="18292" y="15886"/>
                  <a:pt x="18288" y="15933"/>
                  <a:pt x="18288" y="15975"/>
                </a:cubicBezTo>
                <a:cubicBezTo>
                  <a:pt x="18288" y="16027"/>
                  <a:pt x="18292" y="16081"/>
                  <a:pt x="18303" y="16132"/>
                </a:cubicBezTo>
                <a:cubicBezTo>
                  <a:pt x="18336" y="16107"/>
                  <a:pt x="18336" y="16059"/>
                  <a:pt x="18345" y="16019"/>
                </a:cubicBezTo>
              </a:path>
              <a:path w="2528" h="690">
                <a:moveTo>
                  <a:pt x="18376" y="15609"/>
                </a:moveTo>
                <a:cubicBezTo>
                  <a:pt x="18375" y="15580"/>
                  <a:pt x="18374" y="15574"/>
                  <a:pt x="18393" y="15550"/>
                </a:cubicBezTo>
                <a:cubicBezTo>
                  <a:pt x="18411" y="15528"/>
                  <a:pt x="18441" y="15532"/>
                  <a:pt x="18460" y="15547"/>
                </a:cubicBezTo>
                <a:cubicBezTo>
                  <a:pt x="18496" y="15577"/>
                  <a:pt x="18496" y="15639"/>
                  <a:pt x="18500" y="15681"/>
                </a:cubicBezTo>
                <a:cubicBezTo>
                  <a:pt x="18507" y="15756"/>
                  <a:pt x="18504" y="15831"/>
                  <a:pt x="18506" y="15906"/>
                </a:cubicBezTo>
                <a:cubicBezTo>
                  <a:pt x="18507" y="15949"/>
                  <a:pt x="18512" y="15981"/>
                  <a:pt x="18524" y="16014"/>
                </a:cubicBezTo>
                <a:cubicBezTo>
                  <a:pt x="18564" y="15948"/>
                  <a:pt x="18600" y="15859"/>
                  <a:pt x="18669" y="15818"/>
                </a:cubicBezTo>
                <a:cubicBezTo>
                  <a:pt x="18712" y="15793"/>
                  <a:pt x="18743" y="15813"/>
                  <a:pt x="18770" y="15849"/>
                </a:cubicBezTo>
                <a:cubicBezTo>
                  <a:pt x="18817" y="15913"/>
                  <a:pt x="18831" y="16002"/>
                  <a:pt x="18883" y="16061"/>
                </a:cubicBezTo>
                <a:cubicBezTo>
                  <a:pt x="18889" y="16066"/>
                  <a:pt x="18894" y="16070"/>
                  <a:pt x="18900" y="16075"/>
                </a:cubicBezTo>
              </a:path>
              <a:path w="2528" h="690">
                <a:moveTo>
                  <a:pt x="19140" y="15766"/>
                </a:moveTo>
                <a:cubicBezTo>
                  <a:pt x="19111" y="15762"/>
                  <a:pt x="19097" y="15777"/>
                  <a:pt x="19085" y="15809"/>
                </a:cubicBezTo>
                <a:cubicBezTo>
                  <a:pt x="19068" y="15855"/>
                  <a:pt x="19053" y="15909"/>
                  <a:pt x="19056" y="15958"/>
                </a:cubicBezTo>
                <a:cubicBezTo>
                  <a:pt x="19058" y="15999"/>
                  <a:pt x="19072" y="16029"/>
                  <a:pt x="19117" y="16027"/>
                </a:cubicBezTo>
                <a:cubicBezTo>
                  <a:pt x="19153" y="16026"/>
                  <a:pt x="19181" y="16002"/>
                  <a:pt x="19210" y="15984"/>
                </a:cubicBezTo>
              </a:path>
              <a:path w="2528" h="690">
                <a:moveTo>
                  <a:pt x="19432" y="15443"/>
                </a:moveTo>
                <a:cubicBezTo>
                  <a:pt x="19438" y="15512"/>
                  <a:pt x="19437" y="15580"/>
                  <a:pt x="19437" y="15649"/>
                </a:cubicBezTo>
                <a:cubicBezTo>
                  <a:pt x="19437" y="15738"/>
                  <a:pt x="19429" y="15833"/>
                  <a:pt x="19441" y="15921"/>
                </a:cubicBezTo>
                <a:cubicBezTo>
                  <a:pt x="19442" y="15928"/>
                  <a:pt x="19454" y="16037"/>
                  <a:pt x="19486" y="16024"/>
                </a:cubicBezTo>
                <a:cubicBezTo>
                  <a:pt x="19491" y="16019"/>
                  <a:pt x="19495" y="16014"/>
                  <a:pt x="19500" y="16009"/>
                </a:cubicBezTo>
              </a:path>
              <a:path w="2528" h="690">
                <a:moveTo>
                  <a:pt x="19608" y="15728"/>
                </a:moveTo>
                <a:cubicBezTo>
                  <a:pt x="19615" y="15766"/>
                  <a:pt x="19619" y="15805"/>
                  <a:pt x="19624" y="15843"/>
                </a:cubicBezTo>
                <a:cubicBezTo>
                  <a:pt x="19628" y="15879"/>
                  <a:pt x="19637" y="15925"/>
                  <a:pt x="19660" y="15955"/>
                </a:cubicBezTo>
                <a:cubicBezTo>
                  <a:pt x="19682" y="15983"/>
                  <a:pt x="19707" y="15949"/>
                  <a:pt x="19720" y="15932"/>
                </a:cubicBezTo>
                <a:cubicBezTo>
                  <a:pt x="19755" y="15887"/>
                  <a:pt x="19774" y="15832"/>
                  <a:pt x="19811" y="15789"/>
                </a:cubicBezTo>
                <a:cubicBezTo>
                  <a:pt x="19825" y="15776"/>
                  <a:pt x="19828" y="15771"/>
                  <a:pt x="19841" y="15772"/>
                </a:cubicBezTo>
                <a:cubicBezTo>
                  <a:pt x="19863" y="15800"/>
                  <a:pt x="19873" y="15838"/>
                  <a:pt x="19878" y="15874"/>
                </a:cubicBezTo>
                <a:cubicBezTo>
                  <a:pt x="19885" y="15922"/>
                  <a:pt x="19894" y="15957"/>
                  <a:pt x="19918" y="15999"/>
                </a:cubicBezTo>
              </a:path>
              <a:path w="2528" h="690">
                <a:moveTo>
                  <a:pt x="20339" y="15822"/>
                </a:moveTo>
                <a:cubicBezTo>
                  <a:pt x="20315" y="15787"/>
                  <a:pt x="20291" y="15750"/>
                  <a:pt x="20256" y="15725"/>
                </a:cubicBezTo>
                <a:cubicBezTo>
                  <a:pt x="20216" y="15696"/>
                  <a:pt x="20169" y="15684"/>
                  <a:pt x="20123" y="15707"/>
                </a:cubicBezTo>
                <a:cubicBezTo>
                  <a:pt x="20072" y="15732"/>
                  <a:pt x="20040" y="15790"/>
                  <a:pt x="20033" y="15845"/>
                </a:cubicBezTo>
                <a:cubicBezTo>
                  <a:pt x="20027" y="15894"/>
                  <a:pt x="20038" y="15959"/>
                  <a:pt x="20086" y="15984"/>
                </a:cubicBezTo>
                <a:cubicBezTo>
                  <a:pt x="20133" y="16009"/>
                  <a:pt x="20195" y="15975"/>
                  <a:pt x="20229" y="15943"/>
                </a:cubicBezTo>
                <a:cubicBezTo>
                  <a:pt x="20282" y="15893"/>
                  <a:pt x="20315" y="15823"/>
                  <a:pt x="20340" y="15756"/>
                </a:cubicBezTo>
                <a:cubicBezTo>
                  <a:pt x="20350" y="15730"/>
                  <a:pt x="20387" y="15650"/>
                  <a:pt x="20374" y="15620"/>
                </a:cubicBezTo>
                <a:cubicBezTo>
                  <a:pt x="20372" y="15623"/>
                  <a:pt x="20370" y="15626"/>
                  <a:pt x="20368" y="15629"/>
                </a:cubicBezTo>
                <a:cubicBezTo>
                  <a:pt x="20360" y="15689"/>
                  <a:pt x="20359" y="15750"/>
                  <a:pt x="20369" y="15810"/>
                </a:cubicBezTo>
                <a:cubicBezTo>
                  <a:pt x="20379" y="15874"/>
                  <a:pt x="20399" y="15950"/>
                  <a:pt x="20442" y="16001"/>
                </a:cubicBezTo>
                <a:cubicBezTo>
                  <a:pt x="20449" y="16007"/>
                  <a:pt x="20457" y="16014"/>
                  <a:pt x="20464" y="16020"/>
                </a:cubicBezTo>
              </a:path>
              <a:path w="2528" h="690">
                <a:moveTo>
                  <a:pt x="20549" y="15909"/>
                </a:moveTo>
                <a:cubicBezTo>
                  <a:pt x="20567" y="15881"/>
                  <a:pt x="20591" y="15848"/>
                  <a:pt x="20618" y="15828"/>
                </a:cubicBezTo>
                <a:cubicBezTo>
                  <a:pt x="20664" y="15794"/>
                  <a:pt x="20707" y="15760"/>
                  <a:pt x="20749" y="15721"/>
                </a:cubicBezTo>
                <a:cubicBezTo>
                  <a:pt x="20772" y="15700"/>
                  <a:pt x="20789" y="15696"/>
                  <a:pt x="20772" y="15682"/>
                </a:cubicBezTo>
                <a:cubicBezTo>
                  <a:pt x="20705" y="15730"/>
                  <a:pt x="20636" y="15791"/>
                  <a:pt x="20600" y="15867"/>
                </a:cubicBezTo>
                <a:cubicBezTo>
                  <a:pt x="20582" y="15904"/>
                  <a:pt x="20578" y="15945"/>
                  <a:pt x="20615" y="15970"/>
                </a:cubicBezTo>
                <a:cubicBezTo>
                  <a:pt x="20651" y="15994"/>
                  <a:pt x="20703" y="15996"/>
                  <a:pt x="20744" y="15994"/>
                </a:cubicBezTo>
                <a:cubicBezTo>
                  <a:pt x="20779" y="15990"/>
                  <a:pt x="20791" y="15989"/>
                  <a:pt x="20815" y="1598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7702560" y="5632560"/>
            <a:ext cx="227160" cy="174600"/>
          </a:xfrm>
          <a:custGeom>
            <a:avLst/>
            <a:gdLst/>
            <a:ahLst/>
            <a:rect l="l" t="t" r="r" b="b"/>
            <a:pathLst>
              <a:path w="630" h="487">
                <a:moveTo>
                  <a:pt x="21587" y="15693"/>
                </a:moveTo>
                <a:cubicBezTo>
                  <a:pt x="21580" y="15669"/>
                  <a:pt x="21570" y="15643"/>
                  <a:pt x="21538" y="15645"/>
                </a:cubicBezTo>
                <a:cubicBezTo>
                  <a:pt x="21501" y="15647"/>
                  <a:pt x="21462" y="15678"/>
                  <a:pt x="21439" y="15705"/>
                </a:cubicBezTo>
                <a:cubicBezTo>
                  <a:pt x="21413" y="15736"/>
                  <a:pt x="21387" y="15782"/>
                  <a:pt x="21402" y="15824"/>
                </a:cubicBezTo>
                <a:cubicBezTo>
                  <a:pt x="21417" y="15866"/>
                  <a:pt x="21466" y="15855"/>
                  <a:pt x="21497" y="15844"/>
                </a:cubicBezTo>
                <a:cubicBezTo>
                  <a:pt x="21551" y="15824"/>
                  <a:pt x="21590" y="15783"/>
                  <a:pt x="21629" y="15743"/>
                </a:cubicBezTo>
                <a:cubicBezTo>
                  <a:pt x="21651" y="15721"/>
                  <a:pt x="21669" y="15692"/>
                  <a:pt x="21699" y="15693"/>
                </a:cubicBezTo>
                <a:cubicBezTo>
                  <a:pt x="21709" y="15728"/>
                  <a:pt x="21710" y="15766"/>
                  <a:pt x="21713" y="15803"/>
                </a:cubicBezTo>
                <a:cubicBezTo>
                  <a:pt x="21716" y="15839"/>
                  <a:pt x="21723" y="15894"/>
                  <a:pt x="21755" y="15918"/>
                </a:cubicBezTo>
                <a:cubicBezTo>
                  <a:pt x="21763" y="15921"/>
                  <a:pt x="21771" y="15925"/>
                  <a:pt x="21779" y="15928"/>
                </a:cubicBezTo>
              </a:path>
              <a:path w="630" h="487">
                <a:moveTo>
                  <a:pt x="21986" y="15962"/>
                </a:moveTo>
                <a:cubicBezTo>
                  <a:pt x="21981" y="15999"/>
                  <a:pt x="21971" y="16039"/>
                  <a:pt x="21970" y="16076"/>
                </a:cubicBezTo>
                <a:cubicBezTo>
                  <a:pt x="21969" y="16093"/>
                  <a:pt x="21975" y="16140"/>
                  <a:pt x="22002" y="16127"/>
                </a:cubicBezTo>
                <a:cubicBezTo>
                  <a:pt x="22018" y="16114"/>
                  <a:pt x="22024" y="16107"/>
                  <a:pt x="22027" y="16091"/>
                </a:cubicBezTo>
              </a:path>
              <a:path w="630" h="487">
                <a:moveTo>
                  <a:pt x="21989" y="15777"/>
                </a:moveTo>
                <a:cubicBezTo>
                  <a:pt x="21977" y="15770"/>
                  <a:pt x="21934" y="15756"/>
                  <a:pt x="21928" y="15743"/>
                </a:cubicBezTo>
                <a:cubicBezTo>
                  <a:pt x="21930" y="15728"/>
                  <a:pt x="21931" y="15723"/>
                  <a:pt x="21939" y="1571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3697200" y="6064200"/>
            <a:ext cx="227160" cy="220680"/>
          </a:xfrm>
          <a:custGeom>
            <a:avLst/>
            <a:gdLst/>
            <a:ahLst/>
            <a:rect l="l" t="t" r="r" b="b"/>
            <a:pathLst>
              <a:path w="633" h="616">
                <a:moveTo>
                  <a:pt x="10281" y="17059"/>
                </a:moveTo>
                <a:cubicBezTo>
                  <a:pt x="10272" y="17027"/>
                  <a:pt x="10267" y="17012"/>
                  <a:pt x="10291" y="16979"/>
                </a:cubicBezTo>
                <a:cubicBezTo>
                  <a:pt x="10325" y="16931"/>
                  <a:pt x="10382" y="16878"/>
                  <a:pt x="10438" y="16858"/>
                </a:cubicBezTo>
                <a:cubicBezTo>
                  <a:pt x="10513" y="16831"/>
                  <a:pt x="10595" y="16843"/>
                  <a:pt x="10658" y="16893"/>
                </a:cubicBezTo>
                <a:cubicBezTo>
                  <a:pt x="10737" y="16956"/>
                  <a:pt x="10759" y="17051"/>
                  <a:pt x="10763" y="17147"/>
                </a:cubicBezTo>
                <a:cubicBezTo>
                  <a:pt x="10767" y="17239"/>
                  <a:pt x="10742" y="17324"/>
                  <a:pt x="10679" y="17393"/>
                </a:cubicBezTo>
                <a:cubicBezTo>
                  <a:pt x="10636" y="17440"/>
                  <a:pt x="10555" y="17483"/>
                  <a:pt x="10492" y="17447"/>
                </a:cubicBezTo>
                <a:cubicBezTo>
                  <a:pt x="10429" y="17411"/>
                  <a:pt x="10461" y="17328"/>
                  <a:pt x="10511" y="17298"/>
                </a:cubicBezTo>
                <a:cubicBezTo>
                  <a:pt x="10587" y="17253"/>
                  <a:pt x="10683" y="17276"/>
                  <a:pt x="10758" y="17309"/>
                </a:cubicBezTo>
                <a:cubicBezTo>
                  <a:pt x="10802" y="17328"/>
                  <a:pt x="10835" y="17360"/>
                  <a:pt x="10882" y="17373"/>
                </a:cubicBezTo>
                <a:cubicBezTo>
                  <a:pt x="10889" y="17374"/>
                  <a:pt x="10895" y="17376"/>
                  <a:pt x="10902" y="1737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5365800" y="5991120"/>
            <a:ext cx="409680" cy="243000"/>
          </a:xfrm>
          <a:custGeom>
            <a:avLst/>
            <a:gdLst/>
            <a:ahLst/>
            <a:rect l="l" t="t" r="r" b="b"/>
            <a:pathLst>
              <a:path w="1135" h="674">
                <a:moveTo>
                  <a:pt x="14939" y="16892"/>
                </a:moveTo>
                <a:cubicBezTo>
                  <a:pt x="14927" y="16896"/>
                  <a:pt x="14923" y="16897"/>
                  <a:pt x="14914" y="16899"/>
                </a:cubicBezTo>
                <a:cubicBezTo>
                  <a:pt x="14915" y="16870"/>
                  <a:pt x="14903" y="16874"/>
                  <a:pt x="14933" y="16845"/>
                </a:cubicBezTo>
                <a:cubicBezTo>
                  <a:pt x="14997" y="16783"/>
                  <a:pt x="15116" y="16719"/>
                  <a:pt x="15207" y="16733"/>
                </a:cubicBezTo>
                <a:cubicBezTo>
                  <a:pt x="15271" y="16743"/>
                  <a:pt x="15299" y="16813"/>
                  <a:pt x="15309" y="16868"/>
                </a:cubicBezTo>
                <a:cubicBezTo>
                  <a:pt x="15324" y="16952"/>
                  <a:pt x="15310" y="17041"/>
                  <a:pt x="15283" y="17120"/>
                </a:cubicBezTo>
                <a:cubicBezTo>
                  <a:pt x="15259" y="17191"/>
                  <a:pt x="15218" y="17248"/>
                  <a:pt x="15153" y="17286"/>
                </a:cubicBezTo>
                <a:cubicBezTo>
                  <a:pt x="15117" y="17307"/>
                  <a:pt x="15065" y="17328"/>
                  <a:pt x="15023" y="17311"/>
                </a:cubicBezTo>
                <a:cubicBezTo>
                  <a:pt x="15010" y="17300"/>
                  <a:pt x="15005" y="17298"/>
                  <a:pt x="15003" y="17287"/>
                </a:cubicBezTo>
                <a:cubicBezTo>
                  <a:pt x="15025" y="17259"/>
                  <a:pt x="15035" y="17243"/>
                  <a:pt x="15075" y="17231"/>
                </a:cubicBezTo>
                <a:cubicBezTo>
                  <a:pt x="15127" y="17215"/>
                  <a:pt x="15183" y="17221"/>
                  <a:pt x="15235" y="17234"/>
                </a:cubicBezTo>
                <a:cubicBezTo>
                  <a:pt x="15293" y="17249"/>
                  <a:pt x="15348" y="17268"/>
                  <a:pt x="15404" y="17288"/>
                </a:cubicBezTo>
                <a:cubicBezTo>
                  <a:pt x="15439" y="17300"/>
                  <a:pt x="15449" y="17303"/>
                  <a:pt x="15473" y="17308"/>
                </a:cubicBezTo>
              </a:path>
              <a:path w="1135" h="674">
                <a:moveTo>
                  <a:pt x="15626" y="16657"/>
                </a:moveTo>
                <a:cubicBezTo>
                  <a:pt x="15632" y="16618"/>
                  <a:pt x="15621" y="16695"/>
                  <a:pt x="15620" y="16700"/>
                </a:cubicBezTo>
                <a:cubicBezTo>
                  <a:pt x="15616" y="16730"/>
                  <a:pt x="15612" y="16760"/>
                  <a:pt x="15610" y="16790"/>
                </a:cubicBezTo>
                <a:cubicBezTo>
                  <a:pt x="15610" y="16795"/>
                  <a:pt x="15610" y="16799"/>
                  <a:pt x="15610" y="16804"/>
                </a:cubicBezTo>
                <a:cubicBezTo>
                  <a:pt x="15640" y="16797"/>
                  <a:pt x="15654" y="16777"/>
                  <a:pt x="15678" y="16756"/>
                </a:cubicBezTo>
                <a:cubicBezTo>
                  <a:pt x="15708" y="16730"/>
                  <a:pt x="15742" y="16707"/>
                  <a:pt x="15781" y="16698"/>
                </a:cubicBezTo>
                <a:cubicBezTo>
                  <a:pt x="15818" y="16689"/>
                  <a:pt x="15846" y="16706"/>
                  <a:pt x="15872" y="16732"/>
                </a:cubicBezTo>
                <a:cubicBezTo>
                  <a:pt x="15908" y="16768"/>
                  <a:pt x="15942" y="16807"/>
                  <a:pt x="15976" y="16844"/>
                </a:cubicBezTo>
                <a:cubicBezTo>
                  <a:pt x="15998" y="16868"/>
                  <a:pt x="16020" y="16891"/>
                  <a:pt x="16040" y="1691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2852640" y="6300720"/>
            <a:ext cx="5329440" cy="316080"/>
          </a:xfrm>
          <a:custGeom>
            <a:avLst/>
            <a:gdLst/>
            <a:ahLst/>
            <a:rect l="l" t="t" r="r" b="b"/>
            <a:pathLst>
              <a:path w="14804" h="875">
                <a:moveTo>
                  <a:pt x="7936" y="17700"/>
                </a:moveTo>
                <a:cubicBezTo>
                  <a:pt x="7946" y="17616"/>
                  <a:pt x="7996" y="17601"/>
                  <a:pt x="8090" y="17585"/>
                </a:cubicBezTo>
                <a:cubicBezTo>
                  <a:pt x="8153" y="17576"/>
                  <a:pt x="8170" y="17572"/>
                  <a:pt x="8211" y="17578"/>
                </a:cubicBezTo>
              </a:path>
              <a:path w="14804" h="875">
                <a:moveTo>
                  <a:pt x="8971" y="17655"/>
                </a:moveTo>
                <a:cubicBezTo>
                  <a:pt x="8928" y="17686"/>
                  <a:pt x="8844" y="17782"/>
                  <a:pt x="8936" y="17834"/>
                </a:cubicBezTo>
                <a:cubicBezTo>
                  <a:pt x="8992" y="17838"/>
                  <a:pt x="9011" y="17839"/>
                  <a:pt x="9041" y="17808"/>
                </a:cubicBezTo>
              </a:path>
              <a:path w="14804" h="875">
                <a:moveTo>
                  <a:pt x="13190" y="17576"/>
                </a:moveTo>
                <a:cubicBezTo>
                  <a:pt x="13203" y="17554"/>
                  <a:pt x="13232" y="17536"/>
                  <a:pt x="13257" y="17528"/>
                </a:cubicBezTo>
                <a:cubicBezTo>
                  <a:pt x="13319" y="17507"/>
                  <a:pt x="13392" y="17502"/>
                  <a:pt x="13457" y="17504"/>
                </a:cubicBezTo>
                <a:cubicBezTo>
                  <a:pt x="13502" y="17508"/>
                  <a:pt x="13516" y="17509"/>
                  <a:pt x="13545" y="17515"/>
                </a:cubicBezTo>
              </a:path>
              <a:path w="14804" h="875">
                <a:moveTo>
                  <a:pt x="13564" y="17622"/>
                </a:moveTo>
                <a:cubicBezTo>
                  <a:pt x="13620" y="17619"/>
                  <a:pt x="13636" y="17605"/>
                  <a:pt x="13693" y="17580"/>
                </a:cubicBezTo>
              </a:path>
              <a:path w="14804" h="875">
                <a:moveTo>
                  <a:pt x="19376" y="17831"/>
                </a:moveTo>
                <a:cubicBezTo>
                  <a:pt x="19343" y="17926"/>
                  <a:pt x="19349" y="17975"/>
                  <a:pt x="19388" y="18069"/>
                </a:cubicBezTo>
              </a:path>
              <a:path w="14804" h="875">
                <a:moveTo>
                  <a:pt x="19467" y="17758"/>
                </a:moveTo>
                <a:cubicBezTo>
                  <a:pt x="19452" y="17744"/>
                  <a:pt x="19437" y="17729"/>
                  <a:pt x="19422" y="17715"/>
                </a:cubicBezTo>
              </a:path>
              <a:path w="14804" h="875">
                <a:moveTo>
                  <a:pt x="21240" y="18059"/>
                </a:moveTo>
                <a:cubicBezTo>
                  <a:pt x="21198" y="17950"/>
                  <a:pt x="21192" y="17945"/>
                  <a:pt x="21309" y="17971"/>
                </a:cubicBezTo>
              </a:path>
              <a:path w="14804" h="875">
                <a:moveTo>
                  <a:pt x="21543" y="18243"/>
                </a:moveTo>
                <a:cubicBezTo>
                  <a:pt x="21489" y="18288"/>
                  <a:pt x="21471" y="18299"/>
                  <a:pt x="21460" y="18346"/>
                </a:cubicBezTo>
                <a:cubicBezTo>
                  <a:pt x="21554" y="18379"/>
                  <a:pt x="21558" y="18375"/>
                  <a:pt x="21654" y="18341"/>
                </a:cubicBezTo>
              </a:path>
              <a:path w="14804" h="875">
                <a:moveTo>
                  <a:pt x="22727" y="17717"/>
                </a:moveTo>
                <a:cubicBezTo>
                  <a:pt x="22683" y="17684"/>
                  <a:pt x="22673" y="17671"/>
                  <a:pt x="22638" y="1769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2374920" y="6229440"/>
            <a:ext cx="966600" cy="249120"/>
          </a:xfrm>
          <a:custGeom>
            <a:avLst/>
            <a:gdLst/>
            <a:ahLst/>
            <a:rect l="l" t="t" r="r" b="b"/>
            <a:pathLst>
              <a:path w="2684" h="690">
                <a:moveTo>
                  <a:pt x="6822" y="17469"/>
                </a:moveTo>
                <a:cubicBezTo>
                  <a:pt x="6772" y="17506"/>
                  <a:pt x="6720" y="17539"/>
                  <a:pt x="6678" y="17587"/>
                </a:cubicBezTo>
                <a:cubicBezTo>
                  <a:pt x="6608" y="17667"/>
                  <a:pt x="6574" y="17748"/>
                  <a:pt x="6626" y="17847"/>
                </a:cubicBezTo>
                <a:cubicBezTo>
                  <a:pt x="6676" y="17942"/>
                  <a:pt x="6727" y="17946"/>
                  <a:pt x="6820" y="17969"/>
                </a:cubicBezTo>
              </a:path>
              <a:path w="2684" h="690">
                <a:moveTo>
                  <a:pt x="7060" y="17641"/>
                </a:moveTo>
                <a:cubicBezTo>
                  <a:pt x="7010" y="17740"/>
                  <a:pt x="7011" y="17789"/>
                  <a:pt x="7042" y="17897"/>
                </a:cubicBezTo>
                <a:cubicBezTo>
                  <a:pt x="7136" y="17862"/>
                  <a:pt x="7164" y="17815"/>
                  <a:pt x="7195" y="17710"/>
                </a:cubicBezTo>
                <a:cubicBezTo>
                  <a:pt x="7205" y="17665"/>
                  <a:pt x="7209" y="17647"/>
                  <a:pt x="7215" y="17616"/>
                </a:cubicBezTo>
                <a:cubicBezTo>
                  <a:pt x="7212" y="17632"/>
                  <a:pt x="7189" y="17862"/>
                  <a:pt x="7216" y="17850"/>
                </a:cubicBezTo>
                <a:cubicBezTo>
                  <a:pt x="7233" y="17799"/>
                  <a:pt x="7239" y="17786"/>
                  <a:pt x="7242" y="17752"/>
                </a:cubicBezTo>
              </a:path>
              <a:path w="2684" h="690">
                <a:moveTo>
                  <a:pt x="7383" y="17628"/>
                </a:moveTo>
                <a:cubicBezTo>
                  <a:pt x="7399" y="17704"/>
                  <a:pt x="7395" y="17771"/>
                  <a:pt x="7387" y="17850"/>
                </a:cubicBezTo>
                <a:cubicBezTo>
                  <a:pt x="7433" y="17761"/>
                  <a:pt x="7467" y="17690"/>
                  <a:pt x="7541" y="17624"/>
                </a:cubicBezTo>
                <a:cubicBezTo>
                  <a:pt x="7590" y="17729"/>
                  <a:pt x="7607" y="17803"/>
                  <a:pt x="7695" y="17878"/>
                </a:cubicBezTo>
              </a:path>
              <a:path w="2684" h="690">
                <a:moveTo>
                  <a:pt x="7931" y="17635"/>
                </a:moveTo>
                <a:cubicBezTo>
                  <a:pt x="7846" y="17619"/>
                  <a:pt x="7859" y="17619"/>
                  <a:pt x="7793" y="17679"/>
                </a:cubicBezTo>
                <a:cubicBezTo>
                  <a:pt x="7873" y="17747"/>
                  <a:pt x="7968" y="17798"/>
                  <a:pt x="8002" y="17905"/>
                </a:cubicBezTo>
                <a:cubicBezTo>
                  <a:pt x="8048" y="18048"/>
                  <a:pt x="7947" y="17958"/>
                  <a:pt x="7913" y="17924"/>
                </a:cubicBezTo>
              </a:path>
              <a:path w="2684" h="690">
                <a:moveTo>
                  <a:pt x="7993" y="17433"/>
                </a:moveTo>
                <a:cubicBezTo>
                  <a:pt x="8004" y="17500"/>
                  <a:pt x="8012" y="17570"/>
                  <a:pt x="8025" y="17636"/>
                </a:cubicBezTo>
                <a:cubicBezTo>
                  <a:pt x="8040" y="17709"/>
                  <a:pt x="8058" y="17782"/>
                  <a:pt x="8076" y="17854"/>
                </a:cubicBezTo>
                <a:cubicBezTo>
                  <a:pt x="8081" y="17875"/>
                  <a:pt x="8085" y="17895"/>
                  <a:pt x="8090" y="17916"/>
                </a:cubicBezTo>
              </a:path>
              <a:path w="2684" h="690">
                <a:moveTo>
                  <a:pt x="8227" y="17743"/>
                </a:moveTo>
                <a:cubicBezTo>
                  <a:pt x="8223" y="17807"/>
                  <a:pt x="8222" y="17824"/>
                  <a:pt x="8226" y="17864"/>
                </a:cubicBezTo>
                <a:cubicBezTo>
                  <a:pt x="8262" y="17773"/>
                  <a:pt x="8281" y="17698"/>
                  <a:pt x="8343" y="17624"/>
                </a:cubicBezTo>
              </a:path>
              <a:path w="2684" h="690">
                <a:moveTo>
                  <a:pt x="8532" y="17654"/>
                </a:moveTo>
                <a:cubicBezTo>
                  <a:pt x="8527" y="17681"/>
                  <a:pt x="8504" y="17889"/>
                  <a:pt x="8598" y="17853"/>
                </a:cubicBezTo>
                <a:cubicBezTo>
                  <a:pt x="8714" y="17808"/>
                  <a:pt x="8635" y="17693"/>
                  <a:pt x="8748" y="17791"/>
                </a:cubicBezTo>
                <a:cubicBezTo>
                  <a:pt x="8762" y="17800"/>
                  <a:pt x="8776" y="17810"/>
                  <a:pt x="8790" y="17819"/>
                </a:cubicBezTo>
              </a:path>
              <a:path w="2684" h="690">
                <a:moveTo>
                  <a:pt x="9132" y="17351"/>
                </a:moveTo>
                <a:cubicBezTo>
                  <a:pt x="9133" y="17341"/>
                  <a:pt x="9133" y="17331"/>
                  <a:pt x="9134" y="17321"/>
                </a:cubicBezTo>
                <a:cubicBezTo>
                  <a:pt x="9152" y="17283"/>
                  <a:pt x="9139" y="17441"/>
                  <a:pt x="9139" y="17468"/>
                </a:cubicBezTo>
                <a:cubicBezTo>
                  <a:pt x="9139" y="17565"/>
                  <a:pt x="9137" y="17661"/>
                  <a:pt x="9133" y="17758"/>
                </a:cubicBezTo>
                <a:cubicBezTo>
                  <a:pt x="9131" y="17811"/>
                  <a:pt x="9130" y="17830"/>
                  <a:pt x="9126" y="17866"/>
                </a:cubicBezTo>
              </a:path>
              <a:path w="2684" h="690">
                <a:moveTo>
                  <a:pt x="9027" y="17625"/>
                </a:moveTo>
                <a:cubicBezTo>
                  <a:pt x="9090" y="17601"/>
                  <a:pt x="9146" y="17591"/>
                  <a:pt x="9215" y="17608"/>
                </a:cubicBezTo>
                <a:cubicBezTo>
                  <a:pt x="9237" y="17615"/>
                  <a:pt x="9259" y="17621"/>
                  <a:pt x="9281" y="1762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3610080" y="6276960"/>
            <a:ext cx="264960" cy="173160"/>
          </a:xfrm>
          <a:custGeom>
            <a:avLst/>
            <a:gdLst/>
            <a:ahLst/>
            <a:rect l="l" t="t" r="r" b="b"/>
            <a:pathLst>
              <a:path w="735" h="481">
                <a:moveTo>
                  <a:pt x="10253" y="17706"/>
                </a:moveTo>
                <a:cubicBezTo>
                  <a:pt x="10179" y="17653"/>
                  <a:pt x="10124" y="17626"/>
                  <a:pt x="10055" y="17716"/>
                </a:cubicBezTo>
                <a:cubicBezTo>
                  <a:pt x="10046" y="17735"/>
                  <a:pt x="10036" y="17754"/>
                  <a:pt x="10027" y="17773"/>
                </a:cubicBezTo>
                <a:cubicBezTo>
                  <a:pt x="10148" y="17815"/>
                  <a:pt x="10148" y="17702"/>
                  <a:pt x="10260" y="17698"/>
                </a:cubicBezTo>
                <a:cubicBezTo>
                  <a:pt x="10306" y="17696"/>
                  <a:pt x="10330" y="17784"/>
                  <a:pt x="10347" y="17814"/>
                </a:cubicBezTo>
              </a:path>
              <a:path w="735" h="481">
                <a:moveTo>
                  <a:pt x="10502" y="17436"/>
                </a:moveTo>
                <a:cubicBezTo>
                  <a:pt x="10478" y="17526"/>
                  <a:pt x="10468" y="17607"/>
                  <a:pt x="10472" y="17700"/>
                </a:cubicBezTo>
                <a:cubicBezTo>
                  <a:pt x="10476" y="17788"/>
                  <a:pt x="10476" y="17841"/>
                  <a:pt x="10535" y="17895"/>
                </a:cubicBezTo>
              </a:path>
              <a:path w="735" h="481">
                <a:moveTo>
                  <a:pt x="10619" y="17629"/>
                </a:moveTo>
                <a:cubicBezTo>
                  <a:pt x="10622" y="17614"/>
                  <a:pt x="10624" y="17599"/>
                  <a:pt x="10627" y="17584"/>
                </a:cubicBezTo>
                <a:cubicBezTo>
                  <a:pt x="10655" y="17659"/>
                  <a:pt x="10678" y="17734"/>
                  <a:pt x="10704" y="17809"/>
                </a:cubicBezTo>
                <a:cubicBezTo>
                  <a:pt x="10723" y="17862"/>
                  <a:pt x="10734" y="17884"/>
                  <a:pt x="10761" y="1791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4156200" y="6297480"/>
            <a:ext cx="785520" cy="203400"/>
          </a:xfrm>
          <a:custGeom>
            <a:avLst/>
            <a:gdLst/>
            <a:ahLst/>
            <a:rect l="l" t="t" r="r" b="b"/>
            <a:pathLst>
              <a:path w="2182" h="565">
                <a:moveTo>
                  <a:pt x="11814" y="17743"/>
                </a:moveTo>
                <a:cubicBezTo>
                  <a:pt x="11721" y="17718"/>
                  <a:pt x="11643" y="17705"/>
                  <a:pt x="11546" y="17707"/>
                </a:cubicBezTo>
                <a:cubicBezTo>
                  <a:pt x="11623" y="17762"/>
                  <a:pt x="11713" y="17797"/>
                  <a:pt x="11731" y="17903"/>
                </a:cubicBezTo>
                <a:cubicBezTo>
                  <a:pt x="11745" y="17985"/>
                  <a:pt x="11705" y="18017"/>
                  <a:pt x="11652" y="18056"/>
                </a:cubicBezTo>
                <a:cubicBezTo>
                  <a:pt x="11618" y="18006"/>
                  <a:pt x="11612" y="17983"/>
                  <a:pt x="11655" y="17941"/>
                </a:cubicBezTo>
              </a:path>
              <a:path w="2182" h="565">
                <a:moveTo>
                  <a:pt x="12095" y="17682"/>
                </a:moveTo>
                <a:cubicBezTo>
                  <a:pt x="12101" y="17756"/>
                  <a:pt x="12092" y="17797"/>
                  <a:pt x="12069" y="17870"/>
                </a:cubicBezTo>
                <a:cubicBezTo>
                  <a:pt x="12161" y="17839"/>
                  <a:pt x="12216" y="17771"/>
                  <a:pt x="12292" y="17702"/>
                </a:cubicBezTo>
                <a:cubicBezTo>
                  <a:pt x="12334" y="17770"/>
                  <a:pt x="12336" y="17835"/>
                  <a:pt x="12366" y="17910"/>
                </a:cubicBezTo>
              </a:path>
              <a:path w="2182" h="565">
                <a:moveTo>
                  <a:pt x="12439" y="17508"/>
                </a:moveTo>
                <a:cubicBezTo>
                  <a:pt x="12423" y="17510"/>
                  <a:pt x="12431" y="17613"/>
                  <a:pt x="12430" y="17668"/>
                </a:cubicBezTo>
                <a:cubicBezTo>
                  <a:pt x="12429" y="17713"/>
                  <a:pt x="12426" y="17758"/>
                  <a:pt x="12424" y="17803"/>
                </a:cubicBezTo>
                <a:cubicBezTo>
                  <a:pt x="12498" y="17714"/>
                  <a:pt x="12576" y="17682"/>
                  <a:pt x="12547" y="17843"/>
                </a:cubicBezTo>
                <a:cubicBezTo>
                  <a:pt x="12531" y="17932"/>
                  <a:pt x="12492" y="17944"/>
                  <a:pt x="12421" y="17968"/>
                </a:cubicBezTo>
              </a:path>
              <a:path w="2182" h="565">
                <a:moveTo>
                  <a:pt x="12982" y="17670"/>
                </a:moveTo>
                <a:cubicBezTo>
                  <a:pt x="12914" y="17616"/>
                  <a:pt x="12874" y="17616"/>
                  <a:pt x="12783" y="17637"/>
                </a:cubicBezTo>
                <a:cubicBezTo>
                  <a:pt x="12729" y="17652"/>
                  <a:pt x="12706" y="17659"/>
                  <a:pt x="12668" y="17670"/>
                </a:cubicBezTo>
                <a:cubicBezTo>
                  <a:pt x="12762" y="17733"/>
                  <a:pt x="12868" y="17777"/>
                  <a:pt x="12894" y="17901"/>
                </a:cubicBezTo>
                <a:cubicBezTo>
                  <a:pt x="12891" y="17970"/>
                  <a:pt x="12896" y="17991"/>
                  <a:pt x="12849" y="18012"/>
                </a:cubicBezTo>
                <a:cubicBezTo>
                  <a:pt x="12848" y="17919"/>
                  <a:pt x="12859" y="17896"/>
                  <a:pt x="12909" y="17815"/>
                </a:cubicBezTo>
              </a:path>
              <a:path w="2182" h="565">
                <a:moveTo>
                  <a:pt x="12970" y="17768"/>
                </a:moveTo>
                <a:cubicBezTo>
                  <a:pt x="13057" y="17782"/>
                  <a:pt x="13128" y="17800"/>
                  <a:pt x="13198" y="17732"/>
                </a:cubicBezTo>
                <a:cubicBezTo>
                  <a:pt x="13230" y="17687"/>
                  <a:pt x="13241" y="17673"/>
                  <a:pt x="13226" y="17634"/>
                </a:cubicBezTo>
                <a:cubicBezTo>
                  <a:pt x="13162" y="17663"/>
                  <a:pt x="13096" y="17724"/>
                  <a:pt x="13147" y="17809"/>
                </a:cubicBezTo>
                <a:cubicBezTo>
                  <a:pt x="13192" y="17846"/>
                  <a:pt x="13208" y="17857"/>
                  <a:pt x="13247" y="17820"/>
                </a:cubicBezTo>
              </a:path>
              <a:path w="2182" h="565">
                <a:moveTo>
                  <a:pt x="13264" y="17631"/>
                </a:moveTo>
                <a:cubicBezTo>
                  <a:pt x="13261" y="17600"/>
                  <a:pt x="13260" y="17573"/>
                  <a:pt x="13260" y="17543"/>
                </a:cubicBezTo>
                <a:cubicBezTo>
                  <a:pt x="13295" y="17625"/>
                  <a:pt x="13308" y="17692"/>
                  <a:pt x="13321" y="17780"/>
                </a:cubicBezTo>
                <a:cubicBezTo>
                  <a:pt x="13332" y="17852"/>
                  <a:pt x="13332" y="17923"/>
                  <a:pt x="13332" y="17996"/>
                </a:cubicBezTo>
              </a:path>
              <a:path w="2182" h="565">
                <a:moveTo>
                  <a:pt x="13650" y="17593"/>
                </a:moveTo>
                <a:cubicBezTo>
                  <a:pt x="13594" y="17631"/>
                  <a:pt x="13548" y="17665"/>
                  <a:pt x="13501" y="17712"/>
                </a:cubicBezTo>
                <a:cubicBezTo>
                  <a:pt x="13584" y="17710"/>
                  <a:pt x="13640" y="17696"/>
                  <a:pt x="13716" y="17726"/>
                </a:cubicBezTo>
                <a:cubicBezTo>
                  <a:pt x="13718" y="17820"/>
                  <a:pt x="13672" y="17878"/>
                  <a:pt x="13574" y="17911"/>
                </a:cubicBezTo>
                <a:cubicBezTo>
                  <a:pt x="13554" y="17913"/>
                  <a:pt x="13534" y="17916"/>
                  <a:pt x="13514" y="1791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>
            <a:off x="5245200" y="6262560"/>
            <a:ext cx="266760" cy="200160"/>
          </a:xfrm>
          <a:custGeom>
            <a:avLst/>
            <a:gdLst/>
            <a:ahLst/>
            <a:rect l="l" t="t" r="r" b="b"/>
            <a:pathLst>
              <a:path w="743" h="555">
                <a:moveTo>
                  <a:pt x="14690" y="17579"/>
                </a:moveTo>
                <a:cubicBezTo>
                  <a:pt x="14638" y="17630"/>
                  <a:pt x="14612" y="17684"/>
                  <a:pt x="14586" y="17756"/>
                </a:cubicBezTo>
                <a:cubicBezTo>
                  <a:pt x="14558" y="17833"/>
                  <a:pt x="14602" y="17911"/>
                  <a:pt x="14681" y="17943"/>
                </a:cubicBezTo>
                <a:cubicBezTo>
                  <a:pt x="14768" y="17979"/>
                  <a:pt x="14853" y="17910"/>
                  <a:pt x="14877" y="17829"/>
                </a:cubicBezTo>
                <a:cubicBezTo>
                  <a:pt x="14906" y="17734"/>
                  <a:pt x="14832" y="17699"/>
                  <a:pt x="14761" y="17671"/>
                </a:cubicBezTo>
              </a:path>
              <a:path w="743" h="555">
                <a:moveTo>
                  <a:pt x="15104" y="17927"/>
                </a:moveTo>
                <a:cubicBezTo>
                  <a:pt x="15078" y="17852"/>
                  <a:pt x="15051" y="17780"/>
                  <a:pt x="15043" y="17700"/>
                </a:cubicBezTo>
                <a:cubicBezTo>
                  <a:pt x="15037" y="17641"/>
                  <a:pt x="15038" y="17576"/>
                  <a:pt x="15057" y="17519"/>
                </a:cubicBezTo>
                <a:cubicBezTo>
                  <a:pt x="15071" y="17478"/>
                  <a:pt x="15101" y="17421"/>
                  <a:pt x="15144" y="17403"/>
                </a:cubicBezTo>
                <a:cubicBezTo>
                  <a:pt x="15175" y="17390"/>
                  <a:pt x="15219" y="17395"/>
                  <a:pt x="15241" y="17421"/>
                </a:cubicBezTo>
                <a:cubicBezTo>
                  <a:pt x="15244" y="17427"/>
                  <a:pt x="15248" y="17434"/>
                  <a:pt x="15251" y="17440"/>
                </a:cubicBezTo>
              </a:path>
              <a:path w="743" h="555">
                <a:moveTo>
                  <a:pt x="14988" y="17655"/>
                </a:moveTo>
                <a:cubicBezTo>
                  <a:pt x="15082" y="17667"/>
                  <a:pt x="15148" y="17652"/>
                  <a:pt x="15241" y="17637"/>
                </a:cubicBezTo>
                <a:cubicBezTo>
                  <a:pt x="15264" y="17634"/>
                  <a:pt x="15288" y="17631"/>
                  <a:pt x="15311" y="1762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>
            <a:off x="5686560" y="6302520"/>
            <a:ext cx="503280" cy="164880"/>
          </a:xfrm>
          <a:custGeom>
            <a:avLst/>
            <a:gdLst/>
            <a:ahLst/>
            <a:rect l="l" t="t" r="r" b="b"/>
            <a:pathLst>
              <a:path w="1399" h="459">
                <a:moveTo>
                  <a:pt x="16037" y="17674"/>
                </a:moveTo>
                <a:cubicBezTo>
                  <a:pt x="15939" y="17645"/>
                  <a:pt x="15892" y="17646"/>
                  <a:pt x="15796" y="17681"/>
                </a:cubicBezTo>
                <a:cubicBezTo>
                  <a:pt x="15872" y="17708"/>
                  <a:pt x="15956" y="17720"/>
                  <a:pt x="16030" y="17753"/>
                </a:cubicBezTo>
                <a:cubicBezTo>
                  <a:pt x="16107" y="17788"/>
                  <a:pt x="16179" y="17884"/>
                  <a:pt x="16087" y="17950"/>
                </a:cubicBezTo>
                <a:cubicBezTo>
                  <a:pt x="15965" y="18037"/>
                  <a:pt x="16034" y="17851"/>
                  <a:pt x="16039" y="17833"/>
                </a:cubicBezTo>
              </a:path>
              <a:path w="1399" h="459">
                <a:moveTo>
                  <a:pt x="16333" y="17663"/>
                </a:moveTo>
                <a:cubicBezTo>
                  <a:pt x="16320" y="17726"/>
                  <a:pt x="16308" y="17784"/>
                  <a:pt x="16303" y="17848"/>
                </a:cubicBezTo>
              </a:path>
              <a:path w="1399" h="459">
                <a:moveTo>
                  <a:pt x="16285" y="17570"/>
                </a:moveTo>
                <a:cubicBezTo>
                  <a:pt x="16290" y="17553"/>
                  <a:pt x="16316" y="17528"/>
                  <a:pt x="16336" y="17518"/>
                </a:cubicBezTo>
                <a:cubicBezTo>
                  <a:pt x="16347" y="17514"/>
                  <a:pt x="16359" y="17511"/>
                  <a:pt x="16370" y="17507"/>
                </a:cubicBezTo>
              </a:path>
              <a:path w="1399" h="459">
                <a:moveTo>
                  <a:pt x="16502" y="17566"/>
                </a:moveTo>
                <a:cubicBezTo>
                  <a:pt x="16530" y="17625"/>
                  <a:pt x="16607" y="17656"/>
                  <a:pt x="16608" y="17729"/>
                </a:cubicBezTo>
                <a:cubicBezTo>
                  <a:pt x="16595" y="17780"/>
                  <a:pt x="16591" y="17796"/>
                  <a:pt x="16574" y="17827"/>
                </a:cubicBezTo>
                <a:cubicBezTo>
                  <a:pt x="16655" y="17825"/>
                  <a:pt x="16737" y="17809"/>
                  <a:pt x="16817" y="17790"/>
                </a:cubicBezTo>
                <a:cubicBezTo>
                  <a:pt x="16907" y="17769"/>
                  <a:pt x="16925" y="17713"/>
                  <a:pt x="16906" y="17641"/>
                </a:cubicBezTo>
                <a:cubicBezTo>
                  <a:pt x="16853" y="17666"/>
                  <a:pt x="16722" y="17735"/>
                  <a:pt x="16795" y="17817"/>
                </a:cubicBezTo>
                <a:cubicBezTo>
                  <a:pt x="16848" y="17877"/>
                  <a:pt x="16976" y="17869"/>
                  <a:pt x="17046" y="17867"/>
                </a:cubicBezTo>
                <a:cubicBezTo>
                  <a:pt x="17120" y="17861"/>
                  <a:pt x="17145" y="17859"/>
                  <a:pt x="17194" y="1785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6337440" y="6269040"/>
            <a:ext cx="60120" cy="173160"/>
          </a:xfrm>
          <a:custGeom>
            <a:avLst/>
            <a:gdLst/>
            <a:ahLst/>
            <a:rect l="l" t="t" r="r" b="b"/>
            <a:pathLst>
              <a:path w="164" h="478">
                <a:moveTo>
                  <a:pt x="17605" y="17653"/>
                </a:moveTo>
                <a:cubicBezTo>
                  <a:pt x="17617" y="17720"/>
                  <a:pt x="17615" y="17884"/>
                  <a:pt x="17714" y="17893"/>
                </a:cubicBezTo>
                <a:cubicBezTo>
                  <a:pt x="17728" y="17884"/>
                  <a:pt x="17742" y="17874"/>
                  <a:pt x="17756" y="17865"/>
                </a:cubicBezTo>
              </a:path>
              <a:path w="164" h="478">
                <a:moveTo>
                  <a:pt x="17749" y="17530"/>
                </a:moveTo>
                <a:cubicBezTo>
                  <a:pt x="17736" y="17508"/>
                  <a:pt x="17714" y="17478"/>
                  <a:pt x="17710" y="17452"/>
                </a:cubicBezTo>
                <a:cubicBezTo>
                  <a:pt x="17706" y="17430"/>
                  <a:pt x="17732" y="17423"/>
                  <a:pt x="17748" y="17419"/>
                </a:cubicBezTo>
                <a:cubicBezTo>
                  <a:pt x="17755" y="17418"/>
                  <a:pt x="17761" y="17417"/>
                  <a:pt x="17768" y="1741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6800760" y="6226200"/>
            <a:ext cx="333360" cy="236520"/>
          </a:xfrm>
          <a:custGeom>
            <a:avLst/>
            <a:gdLst/>
            <a:ahLst/>
            <a:rect l="l" t="t" r="r" b="b"/>
            <a:pathLst>
              <a:path w="928" h="655">
                <a:moveTo>
                  <a:pt x="19004" y="17314"/>
                </a:moveTo>
                <a:cubicBezTo>
                  <a:pt x="18989" y="17279"/>
                  <a:pt x="18972" y="17321"/>
                  <a:pt x="18963" y="17347"/>
                </a:cubicBezTo>
                <a:cubicBezTo>
                  <a:pt x="18936" y="17421"/>
                  <a:pt x="18919" y="17499"/>
                  <a:pt x="18906" y="17577"/>
                </a:cubicBezTo>
                <a:cubicBezTo>
                  <a:pt x="18893" y="17660"/>
                  <a:pt x="18862" y="17811"/>
                  <a:pt x="18909" y="17890"/>
                </a:cubicBezTo>
                <a:cubicBezTo>
                  <a:pt x="18952" y="17939"/>
                  <a:pt x="18962" y="17957"/>
                  <a:pt x="19010" y="17939"/>
                </a:cubicBezTo>
              </a:path>
              <a:path w="928" h="655">
                <a:moveTo>
                  <a:pt x="19192" y="17422"/>
                </a:moveTo>
                <a:cubicBezTo>
                  <a:pt x="19203" y="17363"/>
                  <a:pt x="19197" y="17410"/>
                  <a:pt x="19198" y="17455"/>
                </a:cubicBezTo>
                <a:cubicBezTo>
                  <a:pt x="19200" y="17529"/>
                  <a:pt x="19183" y="17602"/>
                  <a:pt x="19225" y="17649"/>
                </a:cubicBezTo>
                <a:cubicBezTo>
                  <a:pt x="19257" y="17605"/>
                  <a:pt x="19287" y="17559"/>
                  <a:pt x="19317" y="17513"/>
                </a:cubicBezTo>
                <a:cubicBezTo>
                  <a:pt x="19344" y="17472"/>
                  <a:pt x="19364" y="17434"/>
                  <a:pt x="19401" y="17402"/>
                </a:cubicBezTo>
                <a:cubicBezTo>
                  <a:pt x="19431" y="17420"/>
                  <a:pt x="19409" y="17485"/>
                  <a:pt x="19407" y="17519"/>
                </a:cubicBezTo>
                <a:cubicBezTo>
                  <a:pt x="19406" y="17543"/>
                  <a:pt x="19404" y="17566"/>
                  <a:pt x="19403" y="17590"/>
                </a:cubicBezTo>
              </a:path>
              <a:path w="928" h="655">
                <a:moveTo>
                  <a:pt x="19661" y="17338"/>
                </a:moveTo>
                <a:cubicBezTo>
                  <a:pt x="19713" y="17341"/>
                  <a:pt x="19727" y="17387"/>
                  <a:pt x="19751" y="17433"/>
                </a:cubicBezTo>
                <a:cubicBezTo>
                  <a:pt x="19796" y="17518"/>
                  <a:pt x="19809" y="17615"/>
                  <a:pt x="19813" y="17710"/>
                </a:cubicBezTo>
                <a:cubicBezTo>
                  <a:pt x="19817" y="17794"/>
                  <a:pt x="19815" y="17869"/>
                  <a:pt x="19798" y="1795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7607160" y="6102360"/>
            <a:ext cx="714600" cy="569880"/>
          </a:xfrm>
          <a:custGeom>
            <a:avLst/>
            <a:gdLst/>
            <a:ahLst/>
            <a:rect l="l" t="t" r="r" b="b"/>
            <a:pathLst>
              <a:path w="1982" h="1586">
                <a:moveTo>
                  <a:pt x="21701" y="17347"/>
                </a:moveTo>
                <a:cubicBezTo>
                  <a:pt x="21684" y="17329"/>
                  <a:pt x="21671" y="17316"/>
                  <a:pt x="21643" y="17308"/>
                </a:cubicBezTo>
                <a:cubicBezTo>
                  <a:pt x="21578" y="17290"/>
                  <a:pt x="21501" y="17303"/>
                  <a:pt x="21436" y="17310"/>
                </a:cubicBezTo>
                <a:cubicBezTo>
                  <a:pt x="21361" y="17318"/>
                  <a:pt x="21285" y="17329"/>
                  <a:pt x="21212" y="17349"/>
                </a:cubicBezTo>
                <a:cubicBezTo>
                  <a:pt x="21182" y="17357"/>
                  <a:pt x="21159" y="17370"/>
                  <a:pt x="21132" y="17382"/>
                </a:cubicBezTo>
                <a:cubicBezTo>
                  <a:pt x="21175" y="17412"/>
                  <a:pt x="21216" y="17416"/>
                  <a:pt x="21267" y="17429"/>
                </a:cubicBezTo>
                <a:cubicBezTo>
                  <a:pt x="21328" y="17444"/>
                  <a:pt x="21462" y="17471"/>
                  <a:pt x="21471" y="17549"/>
                </a:cubicBezTo>
                <a:cubicBezTo>
                  <a:pt x="21482" y="17646"/>
                  <a:pt x="21297" y="17725"/>
                  <a:pt x="21236" y="17771"/>
                </a:cubicBezTo>
                <a:cubicBezTo>
                  <a:pt x="21222" y="17783"/>
                  <a:pt x="21207" y="17795"/>
                  <a:pt x="21193" y="17807"/>
                </a:cubicBezTo>
                <a:cubicBezTo>
                  <a:pt x="21248" y="17874"/>
                  <a:pt x="21298" y="17880"/>
                  <a:pt x="21388" y="17891"/>
                </a:cubicBezTo>
                <a:cubicBezTo>
                  <a:pt x="21479" y="17902"/>
                  <a:pt x="21575" y="17913"/>
                  <a:pt x="21666" y="17901"/>
                </a:cubicBezTo>
                <a:cubicBezTo>
                  <a:pt x="21765" y="17887"/>
                  <a:pt x="21705" y="17807"/>
                  <a:pt x="21683" y="17744"/>
                </a:cubicBezTo>
              </a:path>
              <a:path w="1982" h="1586">
                <a:moveTo>
                  <a:pt x="21744" y="17385"/>
                </a:moveTo>
                <a:cubicBezTo>
                  <a:pt x="21723" y="17466"/>
                  <a:pt x="21712" y="17545"/>
                  <a:pt x="21704" y="17629"/>
                </a:cubicBezTo>
                <a:cubicBezTo>
                  <a:pt x="21703" y="17646"/>
                  <a:pt x="21701" y="17664"/>
                  <a:pt x="21700" y="17681"/>
                </a:cubicBezTo>
              </a:path>
              <a:path w="1982" h="1586">
                <a:moveTo>
                  <a:pt x="21247" y="18171"/>
                </a:moveTo>
                <a:cubicBezTo>
                  <a:pt x="21227" y="18249"/>
                  <a:pt x="21228" y="18317"/>
                  <a:pt x="21228" y="18397"/>
                </a:cubicBezTo>
                <a:cubicBezTo>
                  <a:pt x="21228" y="18416"/>
                  <a:pt x="21227" y="18436"/>
                  <a:pt x="21227" y="18455"/>
                </a:cubicBezTo>
              </a:path>
              <a:path w="1982" h="1586">
                <a:moveTo>
                  <a:pt x="21407" y="18160"/>
                </a:moveTo>
                <a:cubicBezTo>
                  <a:pt x="21472" y="18167"/>
                  <a:pt x="21526" y="18163"/>
                  <a:pt x="21592" y="18158"/>
                </a:cubicBezTo>
              </a:path>
              <a:path w="1982" h="1586">
                <a:moveTo>
                  <a:pt x="21765" y="18202"/>
                </a:moveTo>
                <a:cubicBezTo>
                  <a:pt x="21723" y="18155"/>
                  <a:pt x="21701" y="18242"/>
                  <a:pt x="21690" y="18320"/>
                </a:cubicBezTo>
                <a:cubicBezTo>
                  <a:pt x="21682" y="18374"/>
                  <a:pt x="21675" y="18506"/>
                  <a:pt x="21740" y="18534"/>
                </a:cubicBezTo>
                <a:cubicBezTo>
                  <a:pt x="21828" y="18572"/>
                  <a:pt x="21925" y="18465"/>
                  <a:pt x="21963" y="18404"/>
                </a:cubicBezTo>
                <a:cubicBezTo>
                  <a:pt x="22002" y="18341"/>
                  <a:pt x="21991" y="18301"/>
                  <a:pt x="21978" y="18237"/>
                </a:cubicBezTo>
              </a:path>
              <a:path w="1982" h="1586">
                <a:moveTo>
                  <a:pt x="21357" y="17065"/>
                </a:moveTo>
                <a:cubicBezTo>
                  <a:pt x="21342" y="17042"/>
                  <a:pt x="21331" y="17024"/>
                  <a:pt x="21308" y="17010"/>
                </a:cubicBezTo>
                <a:cubicBezTo>
                  <a:pt x="21298" y="17040"/>
                  <a:pt x="21297" y="17062"/>
                  <a:pt x="21298" y="17096"/>
                </a:cubicBezTo>
                <a:cubicBezTo>
                  <a:pt x="21300" y="17137"/>
                  <a:pt x="21300" y="17183"/>
                  <a:pt x="21319" y="17221"/>
                </a:cubicBezTo>
                <a:cubicBezTo>
                  <a:pt x="21338" y="17260"/>
                  <a:pt x="21365" y="17233"/>
                  <a:pt x="21386" y="17211"/>
                </a:cubicBezTo>
                <a:cubicBezTo>
                  <a:pt x="21426" y="17169"/>
                  <a:pt x="21452" y="17112"/>
                  <a:pt x="21482" y="17063"/>
                </a:cubicBezTo>
                <a:cubicBezTo>
                  <a:pt x="21506" y="17024"/>
                  <a:pt x="21527" y="16971"/>
                  <a:pt x="21568" y="16949"/>
                </a:cubicBezTo>
                <a:cubicBezTo>
                  <a:pt x="21585" y="16993"/>
                  <a:pt x="21589" y="17037"/>
                  <a:pt x="21599" y="17083"/>
                </a:cubicBezTo>
                <a:cubicBezTo>
                  <a:pt x="21609" y="17130"/>
                  <a:pt x="21620" y="17173"/>
                  <a:pt x="21638" y="17218"/>
                </a:cubicBezTo>
              </a:path>
              <a:path w="1982" h="1586">
                <a:moveTo>
                  <a:pt x="22388" y="17146"/>
                </a:moveTo>
                <a:cubicBezTo>
                  <a:pt x="22373" y="17135"/>
                  <a:pt x="22355" y="17112"/>
                  <a:pt x="22332" y="17123"/>
                </a:cubicBezTo>
                <a:cubicBezTo>
                  <a:pt x="22302" y="17137"/>
                  <a:pt x="22282" y="17195"/>
                  <a:pt x="22273" y="17222"/>
                </a:cubicBezTo>
                <a:cubicBezTo>
                  <a:pt x="22248" y="17301"/>
                  <a:pt x="22234" y="17384"/>
                  <a:pt x="22227" y="17466"/>
                </a:cubicBezTo>
                <a:cubicBezTo>
                  <a:pt x="22221" y="17539"/>
                  <a:pt x="22211" y="17630"/>
                  <a:pt x="22235" y="17701"/>
                </a:cubicBezTo>
                <a:cubicBezTo>
                  <a:pt x="22269" y="17802"/>
                  <a:pt x="22292" y="17796"/>
                  <a:pt x="22372" y="17774"/>
                </a:cubicBezTo>
              </a:path>
              <a:path w="1982" h="1586">
                <a:moveTo>
                  <a:pt x="22545" y="17205"/>
                </a:moveTo>
                <a:cubicBezTo>
                  <a:pt x="22563" y="17184"/>
                  <a:pt x="22541" y="17256"/>
                  <a:pt x="22538" y="17274"/>
                </a:cubicBezTo>
                <a:cubicBezTo>
                  <a:pt x="22527" y="17336"/>
                  <a:pt x="22514" y="17397"/>
                  <a:pt x="22503" y="17459"/>
                </a:cubicBezTo>
                <a:cubicBezTo>
                  <a:pt x="22494" y="17509"/>
                  <a:pt x="22491" y="17515"/>
                  <a:pt x="22490" y="17543"/>
                </a:cubicBezTo>
                <a:cubicBezTo>
                  <a:pt x="22513" y="17521"/>
                  <a:pt x="22530" y="17491"/>
                  <a:pt x="22546" y="17462"/>
                </a:cubicBezTo>
                <a:cubicBezTo>
                  <a:pt x="22570" y="17417"/>
                  <a:pt x="22594" y="17372"/>
                  <a:pt x="22623" y="17330"/>
                </a:cubicBezTo>
                <a:cubicBezTo>
                  <a:pt x="22637" y="17309"/>
                  <a:pt x="22648" y="17299"/>
                  <a:pt x="22668" y="17285"/>
                </a:cubicBezTo>
                <a:cubicBezTo>
                  <a:pt x="22695" y="17303"/>
                  <a:pt x="22700" y="17331"/>
                  <a:pt x="22707" y="17363"/>
                </a:cubicBezTo>
                <a:cubicBezTo>
                  <a:pt x="22720" y="17425"/>
                  <a:pt x="22736" y="17485"/>
                  <a:pt x="22750" y="17547"/>
                </a:cubicBezTo>
              </a:path>
              <a:path w="1982" h="1586">
                <a:moveTo>
                  <a:pt x="22655" y="17777"/>
                </a:moveTo>
                <a:cubicBezTo>
                  <a:pt x="22640" y="17851"/>
                  <a:pt x="22629" y="17919"/>
                  <a:pt x="22629" y="17994"/>
                </a:cubicBezTo>
              </a:path>
              <a:path w="1982" h="1586">
                <a:moveTo>
                  <a:pt x="23027" y="17121"/>
                </a:moveTo>
                <a:cubicBezTo>
                  <a:pt x="23057" y="17166"/>
                  <a:pt x="23059" y="17214"/>
                  <a:pt x="23069" y="17267"/>
                </a:cubicBezTo>
                <a:cubicBezTo>
                  <a:pt x="23091" y="17381"/>
                  <a:pt x="23109" y="17492"/>
                  <a:pt x="23112" y="17609"/>
                </a:cubicBezTo>
                <a:cubicBezTo>
                  <a:pt x="23114" y="17703"/>
                  <a:pt x="23124" y="17810"/>
                  <a:pt x="23089" y="17900"/>
                </a:cubicBezTo>
                <a:cubicBezTo>
                  <a:pt x="23078" y="17923"/>
                  <a:pt x="23066" y="17945"/>
                  <a:pt x="23055" y="1796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>
            <a:off x="6977160" y="3510000"/>
            <a:ext cx="133200" cy="268200"/>
          </a:xfrm>
          <a:custGeom>
            <a:avLst/>
            <a:gdLst/>
            <a:ahLst/>
            <a:rect l="l" t="t" r="r" b="b"/>
            <a:pathLst>
              <a:path w="370" h="744">
                <a:moveTo>
                  <a:pt x="19749" y="9751"/>
                </a:moveTo>
                <a:cubicBezTo>
                  <a:pt x="19718" y="9797"/>
                  <a:pt x="19694" y="9843"/>
                  <a:pt x="19671" y="9892"/>
                </a:cubicBezTo>
                <a:cubicBezTo>
                  <a:pt x="19642" y="9952"/>
                  <a:pt x="19619" y="10016"/>
                  <a:pt x="19600" y="10080"/>
                </a:cubicBezTo>
                <a:cubicBezTo>
                  <a:pt x="19581" y="10144"/>
                  <a:pt x="19569" y="10209"/>
                  <a:pt x="19557" y="10274"/>
                </a:cubicBezTo>
                <a:cubicBezTo>
                  <a:pt x="19549" y="10318"/>
                  <a:pt x="19541" y="10361"/>
                  <a:pt x="19534" y="10405"/>
                </a:cubicBezTo>
                <a:cubicBezTo>
                  <a:pt x="19531" y="10420"/>
                  <a:pt x="19530" y="10424"/>
                  <a:pt x="19529" y="10433"/>
                </a:cubicBezTo>
                <a:cubicBezTo>
                  <a:pt x="19515" y="10417"/>
                  <a:pt x="19504" y="10402"/>
                  <a:pt x="19491" y="10384"/>
                </a:cubicBezTo>
                <a:cubicBezTo>
                  <a:pt x="19471" y="10356"/>
                  <a:pt x="19447" y="10331"/>
                  <a:pt x="19423" y="10307"/>
                </a:cubicBezTo>
                <a:cubicBezTo>
                  <a:pt x="19408" y="10291"/>
                  <a:pt x="19401" y="10290"/>
                  <a:pt x="19384" y="10281"/>
                </a:cubicBezTo>
                <a:cubicBezTo>
                  <a:pt x="19383" y="10306"/>
                  <a:pt x="19386" y="10325"/>
                  <a:pt x="19394" y="10350"/>
                </a:cubicBezTo>
                <a:cubicBezTo>
                  <a:pt x="19407" y="10388"/>
                  <a:pt x="19419" y="10429"/>
                  <a:pt x="19438" y="10464"/>
                </a:cubicBezTo>
                <a:cubicBezTo>
                  <a:pt x="19448" y="10480"/>
                  <a:pt x="19451" y="10485"/>
                  <a:pt x="19460" y="10494"/>
                </a:cubicBezTo>
                <a:cubicBezTo>
                  <a:pt x="19497" y="10483"/>
                  <a:pt x="19508" y="10458"/>
                  <a:pt x="19537" y="10430"/>
                </a:cubicBezTo>
                <a:cubicBezTo>
                  <a:pt x="19572" y="10396"/>
                  <a:pt x="19610" y="10359"/>
                  <a:pt x="19650" y="10331"/>
                </a:cubicBezTo>
                <a:cubicBezTo>
                  <a:pt x="19670" y="10317"/>
                  <a:pt x="19692" y="10304"/>
                  <a:pt x="19712" y="1029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>
            <a:off x="5640480" y="3176640"/>
            <a:ext cx="350640" cy="463320"/>
          </a:xfrm>
          <a:custGeom>
            <a:avLst/>
            <a:gdLst/>
            <a:ahLst/>
            <a:rect l="l" t="t" r="r" b="b"/>
            <a:pathLst>
              <a:path w="978" h="1289">
                <a:moveTo>
                  <a:pt x="15949" y="9051"/>
                </a:moveTo>
                <a:cubicBezTo>
                  <a:pt x="15938" y="9015"/>
                  <a:pt x="15944" y="9076"/>
                  <a:pt x="15942" y="9093"/>
                </a:cubicBezTo>
                <a:cubicBezTo>
                  <a:pt x="15936" y="9156"/>
                  <a:pt x="15938" y="9220"/>
                  <a:pt x="15940" y="9284"/>
                </a:cubicBezTo>
                <a:cubicBezTo>
                  <a:pt x="15941" y="9326"/>
                  <a:pt x="15946" y="9364"/>
                  <a:pt x="15956" y="9404"/>
                </a:cubicBezTo>
                <a:cubicBezTo>
                  <a:pt x="15988" y="9341"/>
                  <a:pt x="16006" y="9275"/>
                  <a:pt x="16026" y="9207"/>
                </a:cubicBezTo>
                <a:cubicBezTo>
                  <a:pt x="16060" y="9093"/>
                  <a:pt x="16098" y="8978"/>
                  <a:pt x="16147" y="8870"/>
                </a:cubicBezTo>
                <a:cubicBezTo>
                  <a:pt x="16161" y="8842"/>
                  <a:pt x="16163" y="8835"/>
                  <a:pt x="16178" y="8823"/>
                </a:cubicBezTo>
                <a:cubicBezTo>
                  <a:pt x="16191" y="8868"/>
                  <a:pt x="16194" y="8912"/>
                  <a:pt x="16200" y="8961"/>
                </a:cubicBezTo>
                <a:cubicBezTo>
                  <a:pt x="16209" y="9036"/>
                  <a:pt x="16223" y="9111"/>
                  <a:pt x="16241" y="9185"/>
                </a:cubicBezTo>
                <a:cubicBezTo>
                  <a:pt x="16249" y="9217"/>
                  <a:pt x="16259" y="9243"/>
                  <a:pt x="16274" y="9272"/>
                </a:cubicBezTo>
              </a:path>
              <a:path w="978" h="1289">
                <a:moveTo>
                  <a:pt x="16162" y="9734"/>
                </a:moveTo>
                <a:cubicBezTo>
                  <a:pt x="16164" y="9720"/>
                  <a:pt x="16165" y="9716"/>
                  <a:pt x="16164" y="9707"/>
                </a:cubicBezTo>
                <a:cubicBezTo>
                  <a:pt x="16181" y="9736"/>
                  <a:pt x="16184" y="9765"/>
                  <a:pt x="16188" y="9799"/>
                </a:cubicBezTo>
                <a:cubicBezTo>
                  <a:pt x="16194" y="9842"/>
                  <a:pt x="16198" y="9886"/>
                  <a:pt x="16202" y="9929"/>
                </a:cubicBezTo>
                <a:cubicBezTo>
                  <a:pt x="16204" y="9954"/>
                  <a:pt x="16203" y="9981"/>
                  <a:pt x="16207" y="10005"/>
                </a:cubicBezTo>
                <a:cubicBezTo>
                  <a:pt x="16212" y="10038"/>
                  <a:pt x="16225" y="10008"/>
                  <a:pt x="16231" y="9997"/>
                </a:cubicBezTo>
              </a:path>
              <a:path w="978" h="1289">
                <a:moveTo>
                  <a:pt x="16181" y="9608"/>
                </a:moveTo>
                <a:cubicBezTo>
                  <a:pt x="16176" y="9591"/>
                  <a:pt x="16145" y="9577"/>
                  <a:pt x="16155" y="9562"/>
                </a:cubicBezTo>
                <a:cubicBezTo>
                  <a:pt x="16160" y="9563"/>
                  <a:pt x="16164" y="9564"/>
                  <a:pt x="16169" y="9565"/>
                </a:cubicBezTo>
              </a:path>
              <a:path w="978" h="1289">
                <a:moveTo>
                  <a:pt x="15809" y="8907"/>
                </a:moveTo>
                <a:cubicBezTo>
                  <a:pt x="15765" y="8866"/>
                  <a:pt x="15809" y="8887"/>
                  <a:pt x="15758" y="8883"/>
                </a:cubicBezTo>
                <a:cubicBezTo>
                  <a:pt x="15710" y="8956"/>
                  <a:pt x="15694" y="9037"/>
                  <a:pt x="15681" y="9125"/>
                </a:cubicBezTo>
                <a:cubicBezTo>
                  <a:pt x="15656" y="9293"/>
                  <a:pt x="15661" y="9464"/>
                  <a:pt x="15686" y="9631"/>
                </a:cubicBezTo>
                <a:cubicBezTo>
                  <a:pt x="15708" y="9774"/>
                  <a:pt x="15744" y="9926"/>
                  <a:pt x="15834" y="10043"/>
                </a:cubicBezTo>
                <a:cubicBezTo>
                  <a:pt x="15879" y="10085"/>
                  <a:pt x="15892" y="10099"/>
                  <a:pt x="15931" y="10111"/>
                </a:cubicBezTo>
              </a:path>
              <a:path w="978" h="1289">
                <a:moveTo>
                  <a:pt x="16358" y="8839"/>
                </a:moveTo>
                <a:cubicBezTo>
                  <a:pt x="16425" y="8816"/>
                  <a:pt x="16428" y="8905"/>
                  <a:pt x="16445" y="8959"/>
                </a:cubicBezTo>
                <a:cubicBezTo>
                  <a:pt x="16502" y="9136"/>
                  <a:pt x="16537" y="9320"/>
                  <a:pt x="16569" y="9503"/>
                </a:cubicBezTo>
                <a:cubicBezTo>
                  <a:pt x="16597" y="9660"/>
                  <a:pt x="16629" y="9822"/>
                  <a:pt x="16643" y="9981"/>
                </a:cubicBezTo>
                <a:cubicBezTo>
                  <a:pt x="16648" y="10033"/>
                  <a:pt x="16637" y="10035"/>
                  <a:pt x="16625" y="1007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2408400" y="550800"/>
            <a:ext cx="4684680" cy="73080"/>
          </a:xfrm>
          <a:custGeom>
            <a:avLst/>
            <a:gdLst/>
            <a:ahLst/>
            <a:rect l="l" t="t" r="r" b="b"/>
            <a:pathLst>
              <a:path w="13011" h="203">
                <a:moveTo>
                  <a:pt x="6782" y="1599"/>
                </a:moveTo>
                <a:cubicBezTo>
                  <a:pt x="6724" y="1602"/>
                  <a:pt x="6742" y="1612"/>
                  <a:pt x="6690" y="1629"/>
                </a:cubicBezTo>
                <a:cubicBezTo>
                  <a:pt x="6905" y="1704"/>
                  <a:pt x="7033" y="1725"/>
                  <a:pt x="7290" y="1720"/>
                </a:cubicBezTo>
                <a:cubicBezTo>
                  <a:pt x="7765" y="1711"/>
                  <a:pt x="8237" y="1722"/>
                  <a:pt x="8713" y="1702"/>
                </a:cubicBezTo>
                <a:cubicBezTo>
                  <a:pt x="9414" y="1672"/>
                  <a:pt x="10114" y="1631"/>
                  <a:pt x="10815" y="1600"/>
                </a:cubicBezTo>
                <a:cubicBezTo>
                  <a:pt x="12504" y="1524"/>
                  <a:pt x="14215" y="1531"/>
                  <a:pt x="15906" y="1556"/>
                </a:cubicBezTo>
                <a:cubicBezTo>
                  <a:pt x="17103" y="1574"/>
                  <a:pt x="18339" y="1446"/>
                  <a:pt x="19531" y="1540"/>
                </a:cubicBezTo>
                <a:cubicBezTo>
                  <a:pt x="19619" y="1554"/>
                  <a:pt x="19644" y="1558"/>
                  <a:pt x="19700" y="156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"/>
          <p:cNvSpPr/>
          <p:nvPr/>
        </p:nvSpPr>
        <p:spPr>
          <a:xfrm>
            <a:off x="3048480" y="0"/>
            <a:ext cx="29376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0000"/>
                </a:solidFill>
                <a:latin typeface="Arial"/>
              </a:rPr>
              <a:t>Probability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612360" y="914400"/>
            <a:ext cx="5753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form probability Pr(E)=|E|/|S|.  Reduces to count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(E)=1-Pr(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2379600" y="99216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6609" y="2758"/>
                </a:moveTo>
                <a:lnTo>
                  <a:pt x="6609" y="2758"/>
                </a:ln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3195720" y="161280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8876" y="4479"/>
                </a:moveTo>
                <a:lnTo>
                  <a:pt x="8876" y="4479"/>
                </a:ln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990720" y="1523880"/>
            <a:ext cx="152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700200" y="1916280"/>
            <a:ext cx="1716120" cy="482400"/>
          </a:xfrm>
          <a:custGeom>
            <a:avLst/>
            <a:gdLst/>
            <a:ahLst/>
            <a:rect l="l" t="t" r="r" b="b"/>
            <a:pathLst>
              <a:path w="4766" h="1341">
                <a:moveTo>
                  <a:pt x="3181" y="8358"/>
                </a:moveTo>
                <a:cubicBezTo>
                  <a:pt x="3166" y="8379"/>
                  <a:pt x="3152" y="8401"/>
                  <a:pt x="3150" y="8437"/>
                </a:cubicBezTo>
                <a:cubicBezTo>
                  <a:pt x="3147" y="8502"/>
                  <a:pt x="3159" y="8565"/>
                  <a:pt x="3172" y="8628"/>
                </a:cubicBezTo>
                <a:cubicBezTo>
                  <a:pt x="3187" y="8703"/>
                  <a:pt x="3204" y="8779"/>
                  <a:pt x="3220" y="8854"/>
                </a:cubicBezTo>
                <a:cubicBezTo>
                  <a:pt x="3231" y="8906"/>
                  <a:pt x="3246" y="8964"/>
                  <a:pt x="3244" y="9017"/>
                </a:cubicBezTo>
                <a:cubicBezTo>
                  <a:pt x="3243" y="9022"/>
                  <a:pt x="3242" y="9028"/>
                  <a:pt x="3241" y="9033"/>
                </a:cubicBezTo>
                <a:cubicBezTo>
                  <a:pt x="3214" y="8976"/>
                  <a:pt x="3197" y="8918"/>
                  <a:pt x="3181" y="8857"/>
                </a:cubicBezTo>
                <a:cubicBezTo>
                  <a:pt x="3155" y="8754"/>
                  <a:pt x="3140" y="8648"/>
                  <a:pt x="3133" y="8542"/>
                </a:cubicBezTo>
                <a:cubicBezTo>
                  <a:pt x="3125" y="8418"/>
                  <a:pt x="3122" y="8291"/>
                  <a:pt x="3133" y="8167"/>
                </a:cubicBezTo>
                <a:cubicBezTo>
                  <a:pt x="3139" y="8101"/>
                  <a:pt x="3147" y="8038"/>
                  <a:pt x="3181" y="7982"/>
                </a:cubicBezTo>
                <a:cubicBezTo>
                  <a:pt x="3217" y="8009"/>
                  <a:pt x="3236" y="8031"/>
                  <a:pt x="3260" y="8079"/>
                </a:cubicBezTo>
                <a:cubicBezTo>
                  <a:pt x="3335" y="8228"/>
                  <a:pt x="3397" y="8421"/>
                  <a:pt x="3393" y="8589"/>
                </a:cubicBezTo>
                <a:cubicBezTo>
                  <a:pt x="3391" y="8658"/>
                  <a:pt x="3368" y="8743"/>
                  <a:pt x="3298" y="8772"/>
                </a:cubicBezTo>
                <a:cubicBezTo>
                  <a:pt x="3257" y="8789"/>
                  <a:pt x="3217" y="8760"/>
                  <a:pt x="3191" y="8731"/>
                </a:cubicBezTo>
                <a:cubicBezTo>
                  <a:pt x="3166" y="8704"/>
                  <a:pt x="3151" y="8673"/>
                  <a:pt x="3153" y="8636"/>
                </a:cubicBezTo>
                <a:cubicBezTo>
                  <a:pt x="3154" y="8628"/>
                  <a:pt x="3156" y="8621"/>
                  <a:pt x="3157" y="8613"/>
                </a:cubicBezTo>
              </a:path>
              <a:path w="4766" h="1341">
                <a:moveTo>
                  <a:pt x="3523" y="8830"/>
                </a:moveTo>
                <a:cubicBezTo>
                  <a:pt x="3540" y="8870"/>
                  <a:pt x="3558" y="8911"/>
                  <a:pt x="3567" y="8954"/>
                </a:cubicBezTo>
                <a:cubicBezTo>
                  <a:pt x="3571" y="8973"/>
                  <a:pt x="3573" y="8989"/>
                  <a:pt x="3571" y="9007"/>
                </a:cubicBezTo>
                <a:cubicBezTo>
                  <a:pt x="3525" y="8889"/>
                  <a:pt x="3510" y="8760"/>
                  <a:pt x="3520" y="8634"/>
                </a:cubicBezTo>
                <a:cubicBezTo>
                  <a:pt x="3524" y="8587"/>
                  <a:pt x="3531" y="8516"/>
                  <a:pt x="3570" y="8482"/>
                </a:cubicBezTo>
                <a:cubicBezTo>
                  <a:pt x="3598" y="8457"/>
                  <a:pt x="3638" y="8482"/>
                  <a:pt x="3664" y="8496"/>
                </a:cubicBezTo>
                <a:cubicBezTo>
                  <a:pt x="3703" y="8517"/>
                  <a:pt x="3730" y="8551"/>
                  <a:pt x="3768" y="8572"/>
                </a:cubicBezTo>
                <a:cubicBezTo>
                  <a:pt x="3792" y="8583"/>
                  <a:pt x="3798" y="8586"/>
                  <a:pt x="3815" y="8589"/>
                </a:cubicBezTo>
              </a:path>
              <a:path w="4766" h="1341">
                <a:moveTo>
                  <a:pt x="4274" y="8264"/>
                </a:moveTo>
                <a:cubicBezTo>
                  <a:pt x="4268" y="8231"/>
                  <a:pt x="4266" y="8206"/>
                  <a:pt x="4246" y="8179"/>
                </a:cubicBezTo>
                <a:cubicBezTo>
                  <a:pt x="4242" y="8174"/>
                  <a:pt x="4237" y="8170"/>
                  <a:pt x="4233" y="8165"/>
                </a:cubicBezTo>
                <a:cubicBezTo>
                  <a:pt x="4201" y="8240"/>
                  <a:pt x="4199" y="8318"/>
                  <a:pt x="4192" y="8399"/>
                </a:cubicBezTo>
                <a:cubicBezTo>
                  <a:pt x="4182" y="8508"/>
                  <a:pt x="4170" y="8617"/>
                  <a:pt x="4169" y="8727"/>
                </a:cubicBezTo>
                <a:cubicBezTo>
                  <a:pt x="4168" y="8809"/>
                  <a:pt x="4169" y="8903"/>
                  <a:pt x="4204" y="8979"/>
                </a:cubicBezTo>
                <a:cubicBezTo>
                  <a:pt x="4223" y="9020"/>
                  <a:pt x="4257" y="9065"/>
                  <a:pt x="4305" y="9032"/>
                </a:cubicBezTo>
                <a:cubicBezTo>
                  <a:pt x="4313" y="9024"/>
                  <a:pt x="4320" y="9015"/>
                  <a:pt x="4328" y="9007"/>
                </a:cubicBezTo>
              </a:path>
              <a:path w="4766" h="1341">
                <a:moveTo>
                  <a:pt x="4461" y="8352"/>
                </a:moveTo>
                <a:cubicBezTo>
                  <a:pt x="4467" y="8410"/>
                  <a:pt x="4461" y="8468"/>
                  <a:pt x="4455" y="8526"/>
                </a:cubicBezTo>
                <a:cubicBezTo>
                  <a:pt x="4445" y="8619"/>
                  <a:pt x="4433" y="8711"/>
                  <a:pt x="4426" y="8804"/>
                </a:cubicBezTo>
                <a:cubicBezTo>
                  <a:pt x="4422" y="8858"/>
                  <a:pt x="4411" y="8930"/>
                  <a:pt x="4432" y="8982"/>
                </a:cubicBezTo>
                <a:cubicBezTo>
                  <a:pt x="4445" y="9013"/>
                  <a:pt x="4476" y="9022"/>
                  <a:pt x="4506" y="9024"/>
                </a:cubicBezTo>
                <a:cubicBezTo>
                  <a:pt x="4558" y="9028"/>
                  <a:pt x="4614" y="9009"/>
                  <a:pt x="4664" y="8997"/>
                </a:cubicBezTo>
                <a:cubicBezTo>
                  <a:pt x="4711" y="8986"/>
                  <a:pt x="4765" y="8980"/>
                  <a:pt x="4809" y="8963"/>
                </a:cubicBezTo>
                <a:cubicBezTo>
                  <a:pt x="4847" y="8948"/>
                  <a:pt x="4858" y="8924"/>
                  <a:pt x="4860" y="8888"/>
                </a:cubicBezTo>
              </a:path>
              <a:path w="4766" h="1341">
                <a:moveTo>
                  <a:pt x="4533" y="8718"/>
                </a:moveTo>
                <a:cubicBezTo>
                  <a:pt x="4496" y="8718"/>
                  <a:pt x="4584" y="8693"/>
                  <a:pt x="4594" y="8690"/>
                </a:cubicBezTo>
                <a:cubicBezTo>
                  <a:pt x="4649" y="8674"/>
                  <a:pt x="4712" y="8662"/>
                  <a:pt x="4764" y="8637"/>
                </a:cubicBezTo>
                <a:cubicBezTo>
                  <a:pt x="4798" y="8621"/>
                  <a:pt x="4812" y="8606"/>
                  <a:pt x="4830" y="8576"/>
                </a:cubicBezTo>
              </a:path>
              <a:path w="4766" h="1341">
                <a:moveTo>
                  <a:pt x="4453" y="8350"/>
                </a:moveTo>
                <a:cubicBezTo>
                  <a:pt x="4430" y="8336"/>
                  <a:pt x="4429" y="8334"/>
                  <a:pt x="4422" y="8308"/>
                </a:cubicBezTo>
                <a:cubicBezTo>
                  <a:pt x="4457" y="8292"/>
                  <a:pt x="4486" y="8275"/>
                  <a:pt x="4525" y="8265"/>
                </a:cubicBezTo>
                <a:cubicBezTo>
                  <a:pt x="4588" y="8249"/>
                  <a:pt x="4660" y="8261"/>
                  <a:pt x="4724" y="8267"/>
                </a:cubicBezTo>
                <a:cubicBezTo>
                  <a:pt x="4770" y="8273"/>
                  <a:pt x="4785" y="8275"/>
                  <a:pt x="4815" y="8281"/>
                </a:cubicBezTo>
              </a:path>
              <a:path w="4766" h="1341">
                <a:moveTo>
                  <a:pt x="5068" y="8630"/>
                </a:moveTo>
                <a:cubicBezTo>
                  <a:pt x="5082" y="8729"/>
                  <a:pt x="5081" y="8823"/>
                  <a:pt x="5085" y="8922"/>
                </a:cubicBezTo>
                <a:cubicBezTo>
                  <a:pt x="5089" y="9023"/>
                  <a:pt x="5094" y="9123"/>
                  <a:pt x="5095" y="9224"/>
                </a:cubicBezTo>
                <a:cubicBezTo>
                  <a:pt x="5095" y="9231"/>
                  <a:pt x="5102" y="9353"/>
                  <a:pt x="5101" y="9306"/>
                </a:cubicBezTo>
                <a:cubicBezTo>
                  <a:pt x="5100" y="9299"/>
                  <a:pt x="5100" y="9292"/>
                  <a:pt x="5099" y="9285"/>
                </a:cubicBezTo>
              </a:path>
              <a:path w="4766" h="1341">
                <a:moveTo>
                  <a:pt x="5501" y="8437"/>
                </a:moveTo>
                <a:cubicBezTo>
                  <a:pt x="5483" y="8423"/>
                  <a:pt x="5462" y="8404"/>
                  <a:pt x="5438" y="8399"/>
                </a:cubicBezTo>
                <a:cubicBezTo>
                  <a:pt x="5433" y="8400"/>
                  <a:pt x="5429" y="8401"/>
                  <a:pt x="5424" y="8402"/>
                </a:cubicBezTo>
                <a:cubicBezTo>
                  <a:pt x="5417" y="8433"/>
                  <a:pt x="5410" y="8462"/>
                  <a:pt x="5411" y="8495"/>
                </a:cubicBezTo>
                <a:cubicBezTo>
                  <a:pt x="5413" y="8550"/>
                  <a:pt x="5419" y="8609"/>
                  <a:pt x="5428" y="8663"/>
                </a:cubicBezTo>
                <a:cubicBezTo>
                  <a:pt x="5436" y="8712"/>
                  <a:pt x="5448" y="8756"/>
                  <a:pt x="5479" y="8795"/>
                </a:cubicBezTo>
                <a:cubicBezTo>
                  <a:pt x="5517" y="8843"/>
                  <a:pt x="5571" y="8857"/>
                  <a:pt x="5630" y="8848"/>
                </a:cubicBezTo>
                <a:cubicBezTo>
                  <a:pt x="5683" y="8840"/>
                  <a:pt x="5732" y="8808"/>
                  <a:pt x="5768" y="8769"/>
                </a:cubicBezTo>
                <a:cubicBezTo>
                  <a:pt x="5811" y="8722"/>
                  <a:pt x="5834" y="8663"/>
                  <a:pt x="5845" y="8601"/>
                </a:cubicBezTo>
                <a:cubicBezTo>
                  <a:pt x="5857" y="8533"/>
                  <a:pt x="5856" y="8463"/>
                  <a:pt x="5848" y="8394"/>
                </a:cubicBezTo>
                <a:cubicBezTo>
                  <a:pt x="5842" y="8342"/>
                  <a:pt x="5830" y="8294"/>
                  <a:pt x="5816" y="8244"/>
                </a:cubicBezTo>
                <a:cubicBezTo>
                  <a:pt x="5812" y="8228"/>
                  <a:pt x="5820" y="8238"/>
                  <a:pt x="5808" y="8226"/>
                </a:cubicBezTo>
              </a:path>
              <a:path w="4766" h="1341">
                <a:moveTo>
                  <a:pt x="6168" y="8296"/>
                </a:moveTo>
                <a:cubicBezTo>
                  <a:pt x="6146" y="8351"/>
                  <a:pt x="6136" y="8401"/>
                  <a:pt x="6131" y="8460"/>
                </a:cubicBezTo>
                <a:cubicBezTo>
                  <a:pt x="6124" y="8539"/>
                  <a:pt x="6118" y="8619"/>
                  <a:pt x="6114" y="8698"/>
                </a:cubicBezTo>
                <a:cubicBezTo>
                  <a:pt x="6111" y="8750"/>
                  <a:pt x="6106" y="8805"/>
                  <a:pt x="6112" y="8857"/>
                </a:cubicBezTo>
                <a:cubicBezTo>
                  <a:pt x="6117" y="8895"/>
                  <a:pt x="6122" y="8912"/>
                  <a:pt x="6162" y="8910"/>
                </a:cubicBezTo>
                <a:cubicBezTo>
                  <a:pt x="6197" y="8908"/>
                  <a:pt x="6240" y="8881"/>
                  <a:pt x="6272" y="8868"/>
                </a:cubicBezTo>
                <a:cubicBezTo>
                  <a:pt x="6339" y="8840"/>
                  <a:pt x="6404" y="8807"/>
                  <a:pt x="6468" y="8777"/>
                </a:cubicBezTo>
                <a:cubicBezTo>
                  <a:pt x="6508" y="8758"/>
                  <a:pt x="6537" y="8744"/>
                  <a:pt x="6532" y="8692"/>
                </a:cubicBezTo>
                <a:cubicBezTo>
                  <a:pt x="6530" y="8682"/>
                  <a:pt x="6527" y="8673"/>
                  <a:pt x="6525" y="8663"/>
                </a:cubicBezTo>
              </a:path>
              <a:path w="4766" h="1341">
                <a:moveTo>
                  <a:pt x="6216" y="8495"/>
                </a:moveTo>
                <a:cubicBezTo>
                  <a:pt x="6231" y="8466"/>
                  <a:pt x="6263" y="8456"/>
                  <a:pt x="6297" y="8441"/>
                </a:cubicBezTo>
                <a:cubicBezTo>
                  <a:pt x="6349" y="8419"/>
                  <a:pt x="6408" y="8395"/>
                  <a:pt x="6457" y="8365"/>
                </a:cubicBezTo>
                <a:cubicBezTo>
                  <a:pt x="6485" y="8348"/>
                  <a:pt x="6495" y="8336"/>
                  <a:pt x="6505" y="8309"/>
                </a:cubicBezTo>
              </a:path>
              <a:path w="4766" h="1341">
                <a:moveTo>
                  <a:pt x="6147" y="8282"/>
                </a:moveTo>
                <a:cubicBezTo>
                  <a:pt x="6164" y="8240"/>
                  <a:pt x="6181" y="8210"/>
                  <a:pt x="6209" y="8173"/>
                </a:cubicBezTo>
                <a:cubicBezTo>
                  <a:pt x="6255" y="8113"/>
                  <a:pt x="6302" y="8079"/>
                  <a:pt x="6370" y="8045"/>
                </a:cubicBezTo>
                <a:cubicBezTo>
                  <a:pt x="6411" y="8025"/>
                  <a:pt x="6446" y="8021"/>
                  <a:pt x="6491" y="8015"/>
                </a:cubicBezTo>
              </a:path>
              <a:path w="4766" h="1341">
                <a:moveTo>
                  <a:pt x="6640" y="8476"/>
                </a:moveTo>
                <a:cubicBezTo>
                  <a:pt x="6681" y="8492"/>
                  <a:pt x="6722" y="8488"/>
                  <a:pt x="6765" y="8484"/>
                </a:cubicBezTo>
                <a:cubicBezTo>
                  <a:pt x="6807" y="8480"/>
                  <a:pt x="6850" y="8478"/>
                  <a:pt x="6882" y="8511"/>
                </a:cubicBezTo>
                <a:cubicBezTo>
                  <a:pt x="6922" y="8552"/>
                  <a:pt x="6910" y="8621"/>
                  <a:pt x="6902" y="8671"/>
                </a:cubicBezTo>
                <a:cubicBezTo>
                  <a:pt x="6890" y="8746"/>
                  <a:pt x="6863" y="8818"/>
                  <a:pt x="6844" y="8891"/>
                </a:cubicBezTo>
                <a:cubicBezTo>
                  <a:pt x="6842" y="8898"/>
                  <a:pt x="6841" y="8905"/>
                  <a:pt x="6839" y="8912"/>
                </a:cubicBezTo>
                <a:cubicBezTo>
                  <a:pt x="6869" y="8925"/>
                  <a:pt x="6903" y="8918"/>
                  <a:pt x="6935" y="8900"/>
                </a:cubicBezTo>
                <a:cubicBezTo>
                  <a:pt x="6978" y="8876"/>
                  <a:pt x="7021" y="8857"/>
                  <a:pt x="7050" y="8816"/>
                </a:cubicBezTo>
                <a:cubicBezTo>
                  <a:pt x="7067" y="8787"/>
                  <a:pt x="7073" y="8777"/>
                  <a:pt x="7073" y="8753"/>
                </a:cubicBezTo>
              </a:path>
              <a:path w="4766" h="1341">
                <a:moveTo>
                  <a:pt x="6982" y="8059"/>
                </a:moveTo>
                <a:cubicBezTo>
                  <a:pt x="6996" y="8035"/>
                  <a:pt x="6999" y="8029"/>
                  <a:pt x="7009" y="8015"/>
                </a:cubicBezTo>
                <a:cubicBezTo>
                  <a:pt x="7060" y="8049"/>
                  <a:pt x="7072" y="8068"/>
                  <a:pt x="7101" y="8138"/>
                </a:cubicBezTo>
                <a:cubicBezTo>
                  <a:pt x="7155" y="8267"/>
                  <a:pt x="7202" y="8401"/>
                  <a:pt x="7241" y="8535"/>
                </a:cubicBezTo>
                <a:cubicBezTo>
                  <a:pt x="7273" y="8647"/>
                  <a:pt x="7295" y="8760"/>
                  <a:pt x="7316" y="8874"/>
                </a:cubicBezTo>
                <a:cubicBezTo>
                  <a:pt x="7327" y="8933"/>
                  <a:pt x="7320" y="8916"/>
                  <a:pt x="7312" y="8951"/>
                </a:cubicBezTo>
              </a:path>
              <a:path w="4766" h="1341">
                <a:moveTo>
                  <a:pt x="7569" y="8425"/>
                </a:moveTo>
                <a:cubicBezTo>
                  <a:pt x="7595" y="8438"/>
                  <a:pt x="7617" y="8446"/>
                  <a:pt x="7646" y="8449"/>
                </a:cubicBezTo>
                <a:cubicBezTo>
                  <a:pt x="7692" y="8453"/>
                  <a:pt x="7736" y="8444"/>
                  <a:pt x="7781" y="8444"/>
                </a:cubicBezTo>
                <a:cubicBezTo>
                  <a:pt x="7816" y="8444"/>
                  <a:pt x="7849" y="8445"/>
                  <a:pt x="7884" y="8443"/>
                </a:cubicBezTo>
              </a:path>
              <a:path w="4766" h="1341">
                <a:moveTo>
                  <a:pt x="7414" y="8611"/>
                </a:moveTo>
                <a:cubicBezTo>
                  <a:pt x="7401" y="8661"/>
                  <a:pt x="7449" y="8679"/>
                  <a:pt x="7497" y="8704"/>
                </a:cubicBezTo>
                <a:cubicBezTo>
                  <a:pt x="7559" y="8737"/>
                  <a:pt x="7627" y="8761"/>
                  <a:pt x="7695" y="8780"/>
                </a:cubicBezTo>
                <a:cubicBezTo>
                  <a:pt x="7734" y="8791"/>
                  <a:pt x="7809" y="8821"/>
                  <a:pt x="7851" y="8803"/>
                </a:cubicBezTo>
                <a:cubicBezTo>
                  <a:pt x="7879" y="8791"/>
                  <a:pt x="7891" y="8756"/>
                  <a:pt x="7891" y="8730"/>
                </a:cubicBezTo>
                <a:cubicBezTo>
                  <a:pt x="7891" y="8723"/>
                  <a:pt x="7890" y="8717"/>
                  <a:pt x="7890" y="8710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2617920" y="1933560"/>
            <a:ext cx="728640" cy="372960"/>
          </a:xfrm>
          <a:custGeom>
            <a:avLst/>
            <a:gdLst/>
            <a:ahLst/>
            <a:rect l="l" t="t" r="r" b="b"/>
            <a:pathLst>
              <a:path w="2025" h="1035">
                <a:moveTo>
                  <a:pt x="8474" y="8288"/>
                </a:moveTo>
                <a:cubicBezTo>
                  <a:pt x="8464" y="8338"/>
                  <a:pt x="8469" y="8374"/>
                  <a:pt x="8477" y="8425"/>
                </a:cubicBezTo>
                <a:cubicBezTo>
                  <a:pt x="8492" y="8516"/>
                  <a:pt x="8515" y="8606"/>
                  <a:pt x="8538" y="8696"/>
                </a:cubicBezTo>
                <a:cubicBezTo>
                  <a:pt x="8555" y="8765"/>
                  <a:pt x="8584" y="8838"/>
                  <a:pt x="8590" y="8909"/>
                </a:cubicBezTo>
                <a:cubicBezTo>
                  <a:pt x="8589" y="8915"/>
                  <a:pt x="8588" y="8920"/>
                  <a:pt x="8587" y="8926"/>
                </a:cubicBezTo>
                <a:cubicBezTo>
                  <a:pt x="8550" y="8893"/>
                  <a:pt x="8534" y="8849"/>
                  <a:pt x="8518" y="8801"/>
                </a:cubicBezTo>
                <a:cubicBezTo>
                  <a:pt x="8448" y="8592"/>
                  <a:pt x="8421" y="8331"/>
                  <a:pt x="8473" y="8115"/>
                </a:cubicBezTo>
                <a:cubicBezTo>
                  <a:pt x="8484" y="8067"/>
                  <a:pt x="8493" y="8053"/>
                  <a:pt x="8530" y="8030"/>
                </a:cubicBezTo>
                <a:cubicBezTo>
                  <a:pt x="8582" y="8065"/>
                  <a:pt x="8608" y="8108"/>
                  <a:pt x="8631" y="8168"/>
                </a:cubicBezTo>
                <a:cubicBezTo>
                  <a:pt x="8672" y="8273"/>
                  <a:pt x="8692" y="8393"/>
                  <a:pt x="8689" y="8505"/>
                </a:cubicBezTo>
                <a:cubicBezTo>
                  <a:pt x="8688" y="8543"/>
                  <a:pt x="8684" y="8619"/>
                  <a:pt x="8644" y="8643"/>
                </a:cubicBezTo>
                <a:cubicBezTo>
                  <a:pt x="8602" y="8668"/>
                  <a:pt x="8592" y="8608"/>
                  <a:pt x="8590" y="8584"/>
                </a:cubicBezTo>
                <a:cubicBezTo>
                  <a:pt x="8589" y="8574"/>
                  <a:pt x="8589" y="8564"/>
                  <a:pt x="8588" y="8554"/>
                </a:cubicBezTo>
              </a:path>
              <a:path w="2025" h="1035">
                <a:moveTo>
                  <a:pt x="8757" y="8692"/>
                </a:moveTo>
                <a:cubicBezTo>
                  <a:pt x="8781" y="8741"/>
                  <a:pt x="8804" y="8791"/>
                  <a:pt x="8834" y="8837"/>
                </a:cubicBezTo>
                <a:cubicBezTo>
                  <a:pt x="8850" y="8860"/>
                  <a:pt x="8851" y="8867"/>
                  <a:pt x="8867" y="8872"/>
                </a:cubicBezTo>
                <a:cubicBezTo>
                  <a:pt x="8855" y="8826"/>
                  <a:pt x="8845" y="8781"/>
                  <a:pt x="8836" y="8734"/>
                </a:cubicBezTo>
                <a:cubicBezTo>
                  <a:pt x="8824" y="8673"/>
                  <a:pt x="8817" y="8611"/>
                  <a:pt x="8824" y="8549"/>
                </a:cubicBezTo>
                <a:cubicBezTo>
                  <a:pt x="8829" y="8503"/>
                  <a:pt x="8845" y="8457"/>
                  <a:pt x="8881" y="8429"/>
                </a:cubicBezTo>
                <a:cubicBezTo>
                  <a:pt x="8911" y="8405"/>
                  <a:pt x="8945" y="8389"/>
                  <a:pt x="8974" y="8364"/>
                </a:cubicBezTo>
              </a:path>
              <a:path w="2025" h="1035">
                <a:moveTo>
                  <a:pt x="9245" y="8132"/>
                </a:moveTo>
                <a:cubicBezTo>
                  <a:pt x="9282" y="8134"/>
                  <a:pt x="9260" y="8186"/>
                  <a:pt x="9250" y="8230"/>
                </a:cubicBezTo>
                <a:cubicBezTo>
                  <a:pt x="9229" y="8325"/>
                  <a:pt x="9215" y="8420"/>
                  <a:pt x="9200" y="8516"/>
                </a:cubicBezTo>
                <a:cubicBezTo>
                  <a:pt x="9182" y="8636"/>
                  <a:pt x="9166" y="8763"/>
                  <a:pt x="9194" y="8883"/>
                </a:cubicBezTo>
                <a:cubicBezTo>
                  <a:pt x="9207" y="8941"/>
                  <a:pt x="9233" y="8999"/>
                  <a:pt x="9287" y="9030"/>
                </a:cubicBezTo>
                <a:cubicBezTo>
                  <a:pt x="9334" y="9057"/>
                  <a:pt x="9360" y="9009"/>
                  <a:pt x="9381" y="8977"/>
                </a:cubicBezTo>
              </a:path>
              <a:path w="2025" h="1035">
                <a:moveTo>
                  <a:pt x="9476" y="8420"/>
                </a:moveTo>
                <a:cubicBezTo>
                  <a:pt x="9502" y="8388"/>
                  <a:pt x="9497" y="8450"/>
                  <a:pt x="9496" y="8482"/>
                </a:cubicBezTo>
                <a:cubicBezTo>
                  <a:pt x="9493" y="8555"/>
                  <a:pt x="9491" y="8628"/>
                  <a:pt x="9489" y="8702"/>
                </a:cubicBezTo>
                <a:cubicBezTo>
                  <a:pt x="9487" y="8770"/>
                  <a:pt x="9477" y="8859"/>
                  <a:pt x="9504" y="8924"/>
                </a:cubicBezTo>
                <a:cubicBezTo>
                  <a:pt x="9516" y="8953"/>
                  <a:pt x="9541" y="8966"/>
                  <a:pt x="9571" y="8970"/>
                </a:cubicBezTo>
                <a:cubicBezTo>
                  <a:pt x="9604" y="8974"/>
                  <a:pt x="9646" y="8971"/>
                  <a:pt x="9678" y="8960"/>
                </a:cubicBezTo>
                <a:cubicBezTo>
                  <a:pt x="9712" y="8949"/>
                  <a:pt x="9742" y="8945"/>
                  <a:pt x="9768" y="8919"/>
                </a:cubicBezTo>
                <a:cubicBezTo>
                  <a:pt x="9782" y="8903"/>
                  <a:pt x="9787" y="8898"/>
                  <a:pt x="9785" y="8882"/>
                </a:cubicBezTo>
              </a:path>
              <a:path w="2025" h="1035">
                <a:moveTo>
                  <a:pt x="9504" y="8654"/>
                </a:moveTo>
                <a:cubicBezTo>
                  <a:pt x="9535" y="8638"/>
                  <a:pt x="9566" y="8623"/>
                  <a:pt x="9597" y="8607"/>
                </a:cubicBezTo>
                <a:cubicBezTo>
                  <a:pt x="9645" y="8582"/>
                  <a:pt x="9677" y="8559"/>
                  <a:pt x="9718" y="8525"/>
                </a:cubicBezTo>
                <a:cubicBezTo>
                  <a:pt x="9737" y="8512"/>
                  <a:pt x="9743" y="8509"/>
                  <a:pt x="9743" y="8493"/>
                </a:cubicBezTo>
              </a:path>
              <a:path w="2025" h="1035">
                <a:moveTo>
                  <a:pt x="9500" y="8473"/>
                </a:moveTo>
                <a:cubicBezTo>
                  <a:pt x="9510" y="8442"/>
                  <a:pt x="9532" y="8402"/>
                  <a:pt x="9558" y="8379"/>
                </a:cubicBezTo>
                <a:cubicBezTo>
                  <a:pt x="9607" y="8336"/>
                  <a:pt x="9658" y="8308"/>
                  <a:pt x="9716" y="8281"/>
                </a:cubicBezTo>
                <a:cubicBezTo>
                  <a:pt x="9766" y="8258"/>
                  <a:pt x="9809" y="8236"/>
                  <a:pt x="9866" y="8244"/>
                </a:cubicBezTo>
                <a:cubicBezTo>
                  <a:pt x="9877" y="8247"/>
                  <a:pt x="9888" y="8250"/>
                  <a:pt x="9899" y="8253"/>
                </a:cubicBezTo>
              </a:path>
              <a:path w="2025" h="1035">
                <a:moveTo>
                  <a:pt x="10027" y="8693"/>
                </a:moveTo>
                <a:cubicBezTo>
                  <a:pt x="10038" y="8749"/>
                  <a:pt x="10051" y="8808"/>
                  <a:pt x="10059" y="8865"/>
                </a:cubicBezTo>
                <a:cubicBezTo>
                  <a:pt x="10066" y="8914"/>
                  <a:pt x="10071" y="8967"/>
                  <a:pt x="10088" y="9015"/>
                </a:cubicBezTo>
                <a:cubicBezTo>
                  <a:pt x="10096" y="9039"/>
                  <a:pt x="10104" y="9051"/>
                  <a:pt x="10123" y="9064"/>
                </a:cubicBezTo>
              </a:path>
              <a:path w="2025" h="1035">
                <a:moveTo>
                  <a:pt x="10221" y="8111"/>
                </a:moveTo>
                <a:cubicBezTo>
                  <a:pt x="10257" y="8142"/>
                  <a:pt x="10277" y="8214"/>
                  <a:pt x="10293" y="8262"/>
                </a:cubicBezTo>
                <a:cubicBezTo>
                  <a:pt x="10333" y="8378"/>
                  <a:pt x="10373" y="8495"/>
                  <a:pt x="10406" y="8614"/>
                </a:cubicBezTo>
                <a:cubicBezTo>
                  <a:pt x="10436" y="8721"/>
                  <a:pt x="10456" y="8829"/>
                  <a:pt x="10469" y="8939"/>
                </a:cubicBezTo>
                <a:cubicBezTo>
                  <a:pt x="10474" y="8983"/>
                  <a:pt x="10475" y="9011"/>
                  <a:pt x="10469" y="9053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>
            <a:off x="3484440" y="1962000"/>
            <a:ext cx="366840" cy="320760"/>
          </a:xfrm>
          <a:custGeom>
            <a:avLst/>
            <a:gdLst/>
            <a:ahLst/>
            <a:rect l="l" t="t" r="r" b="b"/>
            <a:pathLst>
              <a:path w="1020" h="890">
                <a:moveTo>
                  <a:pt x="10949" y="8481"/>
                </a:moveTo>
                <a:cubicBezTo>
                  <a:pt x="10938" y="8538"/>
                  <a:pt x="10932" y="8600"/>
                  <a:pt x="10930" y="8658"/>
                </a:cubicBezTo>
                <a:cubicBezTo>
                  <a:pt x="10927" y="8738"/>
                  <a:pt x="10928" y="8818"/>
                  <a:pt x="10933" y="8898"/>
                </a:cubicBezTo>
                <a:cubicBezTo>
                  <a:pt x="10934" y="8928"/>
                  <a:pt x="10932" y="8935"/>
                  <a:pt x="10943" y="8951"/>
                </a:cubicBezTo>
                <a:cubicBezTo>
                  <a:pt x="10958" y="8922"/>
                  <a:pt x="10954" y="8917"/>
                  <a:pt x="10951" y="8882"/>
                </a:cubicBezTo>
              </a:path>
              <a:path w="1020" h="890">
                <a:moveTo>
                  <a:pt x="10860" y="8727"/>
                </a:moveTo>
                <a:cubicBezTo>
                  <a:pt x="10885" y="8700"/>
                  <a:pt x="10908" y="8680"/>
                  <a:pt x="10940" y="8661"/>
                </a:cubicBezTo>
                <a:cubicBezTo>
                  <a:pt x="10990" y="8632"/>
                  <a:pt x="11047" y="8608"/>
                  <a:pt x="11094" y="8576"/>
                </a:cubicBezTo>
                <a:cubicBezTo>
                  <a:pt x="11106" y="8566"/>
                  <a:pt x="11119" y="8555"/>
                  <a:pt x="11131" y="8545"/>
                </a:cubicBezTo>
              </a:path>
              <a:path w="1020" h="890">
                <a:moveTo>
                  <a:pt x="11269" y="8270"/>
                </a:moveTo>
                <a:cubicBezTo>
                  <a:pt x="11275" y="8335"/>
                  <a:pt x="11286" y="8399"/>
                  <a:pt x="11294" y="8464"/>
                </a:cubicBezTo>
                <a:cubicBezTo>
                  <a:pt x="11306" y="8565"/>
                  <a:pt x="11325" y="8663"/>
                  <a:pt x="11343" y="8763"/>
                </a:cubicBezTo>
                <a:cubicBezTo>
                  <a:pt x="11351" y="8810"/>
                  <a:pt x="11358" y="8857"/>
                  <a:pt x="11365" y="8904"/>
                </a:cubicBezTo>
                <a:cubicBezTo>
                  <a:pt x="11343" y="8818"/>
                  <a:pt x="11335" y="8730"/>
                  <a:pt x="11327" y="8642"/>
                </a:cubicBezTo>
                <a:cubicBezTo>
                  <a:pt x="11317" y="8531"/>
                  <a:pt x="11311" y="8419"/>
                  <a:pt x="11316" y="8308"/>
                </a:cubicBezTo>
                <a:cubicBezTo>
                  <a:pt x="11318" y="8255"/>
                  <a:pt x="11313" y="8159"/>
                  <a:pt x="11358" y="8118"/>
                </a:cubicBezTo>
                <a:cubicBezTo>
                  <a:pt x="11365" y="8116"/>
                  <a:pt x="11371" y="8113"/>
                  <a:pt x="11378" y="8111"/>
                </a:cubicBezTo>
                <a:cubicBezTo>
                  <a:pt x="11429" y="8130"/>
                  <a:pt x="11461" y="8158"/>
                  <a:pt x="11491" y="8206"/>
                </a:cubicBezTo>
                <a:cubicBezTo>
                  <a:pt x="11549" y="8298"/>
                  <a:pt x="11585" y="8417"/>
                  <a:pt x="11569" y="8525"/>
                </a:cubicBezTo>
                <a:cubicBezTo>
                  <a:pt x="11563" y="8569"/>
                  <a:pt x="11547" y="8623"/>
                  <a:pt x="11515" y="8655"/>
                </a:cubicBezTo>
                <a:cubicBezTo>
                  <a:pt x="11486" y="8685"/>
                  <a:pt x="11471" y="8656"/>
                  <a:pt x="11459" y="8634"/>
                </a:cubicBezTo>
                <a:cubicBezTo>
                  <a:pt x="11458" y="8629"/>
                  <a:pt x="11456" y="8624"/>
                  <a:pt x="11455" y="8619"/>
                </a:cubicBezTo>
              </a:path>
              <a:path w="1020" h="890">
                <a:moveTo>
                  <a:pt x="11619" y="8778"/>
                </a:moveTo>
                <a:cubicBezTo>
                  <a:pt x="11657" y="8839"/>
                  <a:pt x="11692" y="8900"/>
                  <a:pt x="11727" y="8962"/>
                </a:cubicBezTo>
                <a:cubicBezTo>
                  <a:pt x="11738" y="8982"/>
                  <a:pt x="11741" y="8988"/>
                  <a:pt x="11750" y="9000"/>
                </a:cubicBezTo>
                <a:cubicBezTo>
                  <a:pt x="11735" y="8957"/>
                  <a:pt x="11722" y="8914"/>
                  <a:pt x="11715" y="8869"/>
                </a:cubicBezTo>
                <a:cubicBezTo>
                  <a:pt x="11707" y="8815"/>
                  <a:pt x="11701" y="8753"/>
                  <a:pt x="11715" y="8699"/>
                </a:cubicBezTo>
                <a:cubicBezTo>
                  <a:pt x="11727" y="8655"/>
                  <a:pt x="11753" y="8627"/>
                  <a:pt x="11785" y="8598"/>
                </a:cubicBezTo>
                <a:cubicBezTo>
                  <a:pt x="11813" y="8572"/>
                  <a:pt x="11846" y="8555"/>
                  <a:pt x="11879" y="8537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3984480" y="1905120"/>
            <a:ext cx="2340000" cy="409320"/>
          </a:xfrm>
          <a:custGeom>
            <a:avLst/>
            <a:gdLst/>
            <a:ahLst/>
            <a:rect l="l" t="t" r="r" b="b"/>
            <a:pathLst>
              <a:path w="6503" h="1136">
                <a:moveTo>
                  <a:pt x="12306" y="8209"/>
                </a:moveTo>
                <a:cubicBezTo>
                  <a:pt x="12301" y="8188"/>
                  <a:pt x="12297" y="8170"/>
                  <a:pt x="12289" y="8150"/>
                </a:cubicBezTo>
                <a:cubicBezTo>
                  <a:pt x="12283" y="8190"/>
                  <a:pt x="12276" y="8231"/>
                  <a:pt x="12273" y="8273"/>
                </a:cubicBezTo>
                <a:cubicBezTo>
                  <a:pt x="12266" y="8372"/>
                  <a:pt x="12258" y="8471"/>
                  <a:pt x="12253" y="8570"/>
                </a:cubicBezTo>
                <a:cubicBezTo>
                  <a:pt x="12249" y="8659"/>
                  <a:pt x="12244" y="8751"/>
                  <a:pt x="12259" y="8839"/>
                </a:cubicBezTo>
                <a:cubicBezTo>
                  <a:pt x="12267" y="8886"/>
                  <a:pt x="12280" y="8937"/>
                  <a:pt x="12334" y="8941"/>
                </a:cubicBezTo>
                <a:cubicBezTo>
                  <a:pt x="12374" y="8944"/>
                  <a:pt x="12393" y="8918"/>
                  <a:pt x="12421" y="8895"/>
                </a:cubicBezTo>
              </a:path>
              <a:path w="6503" h="1136">
                <a:moveTo>
                  <a:pt x="12576" y="8250"/>
                </a:moveTo>
                <a:cubicBezTo>
                  <a:pt x="12592" y="8307"/>
                  <a:pt x="12586" y="8365"/>
                  <a:pt x="12578" y="8425"/>
                </a:cubicBezTo>
                <a:cubicBezTo>
                  <a:pt x="12566" y="8514"/>
                  <a:pt x="12555" y="8603"/>
                  <a:pt x="12543" y="8692"/>
                </a:cubicBezTo>
                <a:cubicBezTo>
                  <a:pt x="12538" y="8730"/>
                  <a:pt x="12517" y="8808"/>
                  <a:pt x="12542" y="8844"/>
                </a:cubicBezTo>
                <a:cubicBezTo>
                  <a:pt x="12563" y="8875"/>
                  <a:pt x="12596" y="8862"/>
                  <a:pt x="12625" y="8853"/>
                </a:cubicBezTo>
                <a:cubicBezTo>
                  <a:pt x="12661" y="8842"/>
                  <a:pt x="12711" y="8831"/>
                  <a:pt x="12743" y="8813"/>
                </a:cubicBezTo>
                <a:cubicBezTo>
                  <a:pt x="12774" y="8796"/>
                  <a:pt x="12813" y="8769"/>
                  <a:pt x="12835" y="8743"/>
                </a:cubicBezTo>
                <a:cubicBezTo>
                  <a:pt x="12839" y="8738"/>
                  <a:pt x="12843" y="8732"/>
                  <a:pt x="12847" y="8727"/>
                </a:cubicBezTo>
              </a:path>
              <a:path w="6503" h="1136">
                <a:moveTo>
                  <a:pt x="12562" y="8617"/>
                </a:moveTo>
                <a:cubicBezTo>
                  <a:pt x="12548" y="8589"/>
                  <a:pt x="12587" y="8572"/>
                  <a:pt x="12622" y="8551"/>
                </a:cubicBezTo>
                <a:cubicBezTo>
                  <a:pt x="12674" y="8519"/>
                  <a:pt x="12732" y="8486"/>
                  <a:pt x="12788" y="8464"/>
                </a:cubicBezTo>
                <a:cubicBezTo>
                  <a:pt x="12820" y="8451"/>
                  <a:pt x="12888" y="8438"/>
                  <a:pt x="12903" y="8397"/>
                </a:cubicBezTo>
                <a:cubicBezTo>
                  <a:pt x="12903" y="8390"/>
                  <a:pt x="12902" y="8383"/>
                  <a:pt x="12902" y="8376"/>
                </a:cubicBezTo>
              </a:path>
              <a:path w="6503" h="1136">
                <a:moveTo>
                  <a:pt x="12622" y="8294"/>
                </a:moveTo>
                <a:cubicBezTo>
                  <a:pt x="12605" y="8294"/>
                  <a:pt x="12601" y="8294"/>
                  <a:pt x="12590" y="8293"/>
                </a:cubicBezTo>
                <a:cubicBezTo>
                  <a:pt x="12609" y="8264"/>
                  <a:pt x="12642" y="8240"/>
                  <a:pt x="12676" y="8223"/>
                </a:cubicBezTo>
                <a:cubicBezTo>
                  <a:pt x="12736" y="8192"/>
                  <a:pt x="12792" y="8171"/>
                  <a:pt x="12858" y="8161"/>
                </a:cubicBezTo>
                <a:cubicBezTo>
                  <a:pt x="12900" y="8155"/>
                  <a:pt x="12914" y="8153"/>
                  <a:pt x="12942" y="8161"/>
                </a:cubicBezTo>
              </a:path>
              <a:path w="6503" h="1136">
                <a:moveTo>
                  <a:pt x="13083" y="8499"/>
                </a:moveTo>
                <a:cubicBezTo>
                  <a:pt x="13110" y="8528"/>
                  <a:pt x="13120" y="8529"/>
                  <a:pt x="13160" y="8535"/>
                </a:cubicBezTo>
                <a:cubicBezTo>
                  <a:pt x="13193" y="8540"/>
                  <a:pt x="13219" y="8556"/>
                  <a:pt x="13232" y="8590"/>
                </a:cubicBezTo>
                <a:cubicBezTo>
                  <a:pt x="13251" y="8640"/>
                  <a:pt x="13237" y="8707"/>
                  <a:pt x="13226" y="8757"/>
                </a:cubicBezTo>
                <a:cubicBezTo>
                  <a:pt x="13215" y="8808"/>
                  <a:pt x="13192" y="8858"/>
                  <a:pt x="13185" y="8910"/>
                </a:cubicBezTo>
                <a:cubicBezTo>
                  <a:pt x="13179" y="8956"/>
                  <a:pt x="13236" y="8952"/>
                  <a:pt x="13266" y="8945"/>
                </a:cubicBezTo>
                <a:cubicBezTo>
                  <a:pt x="13319" y="8932"/>
                  <a:pt x="13356" y="8917"/>
                  <a:pt x="13399" y="8883"/>
                </a:cubicBezTo>
                <a:cubicBezTo>
                  <a:pt x="13427" y="8860"/>
                  <a:pt x="13436" y="8852"/>
                  <a:pt x="13447" y="8830"/>
                </a:cubicBezTo>
              </a:path>
              <a:path w="6503" h="1136">
                <a:moveTo>
                  <a:pt x="13332" y="8106"/>
                </a:moveTo>
                <a:cubicBezTo>
                  <a:pt x="13341" y="8091"/>
                  <a:pt x="13344" y="8086"/>
                  <a:pt x="13359" y="8088"/>
                </a:cubicBezTo>
                <a:cubicBezTo>
                  <a:pt x="13397" y="8136"/>
                  <a:pt x="13424" y="8188"/>
                  <a:pt x="13451" y="8244"/>
                </a:cubicBezTo>
                <a:cubicBezTo>
                  <a:pt x="13508" y="8360"/>
                  <a:pt x="13563" y="8478"/>
                  <a:pt x="13611" y="8598"/>
                </a:cubicBezTo>
                <a:cubicBezTo>
                  <a:pt x="13659" y="8717"/>
                  <a:pt x="13697" y="8835"/>
                  <a:pt x="13706" y="8963"/>
                </a:cubicBezTo>
                <a:cubicBezTo>
                  <a:pt x="13709" y="9011"/>
                  <a:pt x="13706" y="9049"/>
                  <a:pt x="13668" y="9082"/>
                </a:cubicBezTo>
                <a:cubicBezTo>
                  <a:pt x="13662" y="9083"/>
                  <a:pt x="13656" y="9085"/>
                  <a:pt x="13650" y="9086"/>
                </a:cubicBezTo>
              </a:path>
              <a:path w="6503" h="1136">
                <a:moveTo>
                  <a:pt x="14049" y="8501"/>
                </a:moveTo>
                <a:cubicBezTo>
                  <a:pt x="14044" y="8484"/>
                  <a:pt x="14042" y="8477"/>
                  <a:pt x="14037" y="8466"/>
                </a:cubicBezTo>
                <a:cubicBezTo>
                  <a:pt x="14061" y="8460"/>
                  <a:pt x="14082" y="8461"/>
                  <a:pt x="14107" y="8464"/>
                </a:cubicBezTo>
                <a:cubicBezTo>
                  <a:pt x="14148" y="8468"/>
                  <a:pt x="14189" y="8481"/>
                  <a:pt x="14230" y="8488"/>
                </a:cubicBezTo>
                <a:cubicBezTo>
                  <a:pt x="14271" y="8495"/>
                  <a:pt x="14308" y="8498"/>
                  <a:pt x="14349" y="8499"/>
                </a:cubicBezTo>
                <a:cubicBezTo>
                  <a:pt x="14380" y="8499"/>
                  <a:pt x="14403" y="8491"/>
                  <a:pt x="14423" y="8464"/>
                </a:cubicBezTo>
                <a:cubicBezTo>
                  <a:pt x="14426" y="8458"/>
                  <a:pt x="14429" y="8452"/>
                  <a:pt x="14432" y="8446"/>
                </a:cubicBezTo>
              </a:path>
              <a:path w="6503" h="1136">
                <a:moveTo>
                  <a:pt x="14568" y="8297"/>
                </a:moveTo>
                <a:cubicBezTo>
                  <a:pt x="14581" y="8349"/>
                  <a:pt x="14596" y="8395"/>
                  <a:pt x="14619" y="8444"/>
                </a:cubicBezTo>
                <a:cubicBezTo>
                  <a:pt x="14690" y="8593"/>
                  <a:pt x="14783" y="8729"/>
                  <a:pt x="14834" y="8888"/>
                </a:cubicBezTo>
                <a:cubicBezTo>
                  <a:pt x="14843" y="8916"/>
                  <a:pt x="14845" y="8943"/>
                  <a:pt x="14850" y="8971"/>
                </a:cubicBezTo>
                <a:cubicBezTo>
                  <a:pt x="14828" y="8932"/>
                  <a:pt x="14814" y="8893"/>
                  <a:pt x="14801" y="8847"/>
                </a:cubicBezTo>
                <a:cubicBezTo>
                  <a:pt x="14743" y="8649"/>
                  <a:pt x="14700" y="8427"/>
                  <a:pt x="14718" y="8220"/>
                </a:cubicBezTo>
                <a:cubicBezTo>
                  <a:pt x="14722" y="8172"/>
                  <a:pt x="14731" y="8085"/>
                  <a:pt x="14794" y="8077"/>
                </a:cubicBezTo>
                <a:cubicBezTo>
                  <a:pt x="14853" y="8069"/>
                  <a:pt x="14906" y="8139"/>
                  <a:pt x="14934" y="8179"/>
                </a:cubicBezTo>
                <a:cubicBezTo>
                  <a:pt x="14997" y="8269"/>
                  <a:pt x="15030" y="8384"/>
                  <a:pt x="15032" y="8493"/>
                </a:cubicBezTo>
                <a:cubicBezTo>
                  <a:pt x="15033" y="8550"/>
                  <a:pt x="15018" y="8659"/>
                  <a:pt x="14948" y="8672"/>
                </a:cubicBezTo>
                <a:cubicBezTo>
                  <a:pt x="14910" y="8679"/>
                  <a:pt x="14914" y="8658"/>
                  <a:pt x="14893" y="8636"/>
                </a:cubicBezTo>
              </a:path>
              <a:path w="6503" h="1136">
                <a:moveTo>
                  <a:pt x="15028" y="8680"/>
                </a:moveTo>
                <a:cubicBezTo>
                  <a:pt x="15057" y="8751"/>
                  <a:pt x="15086" y="8822"/>
                  <a:pt x="15117" y="8892"/>
                </a:cubicBezTo>
                <a:cubicBezTo>
                  <a:pt x="15130" y="8918"/>
                  <a:pt x="15134" y="8927"/>
                  <a:pt x="15143" y="8944"/>
                </a:cubicBezTo>
                <a:cubicBezTo>
                  <a:pt x="15151" y="8901"/>
                  <a:pt x="15141" y="8850"/>
                  <a:pt x="15142" y="8803"/>
                </a:cubicBezTo>
                <a:cubicBezTo>
                  <a:pt x="15143" y="8736"/>
                  <a:pt x="15150" y="8667"/>
                  <a:pt x="15184" y="8607"/>
                </a:cubicBezTo>
                <a:cubicBezTo>
                  <a:pt x="15209" y="8562"/>
                  <a:pt x="15258" y="8522"/>
                  <a:pt x="15304" y="8501"/>
                </a:cubicBezTo>
                <a:cubicBezTo>
                  <a:pt x="15347" y="8481"/>
                  <a:pt x="15400" y="8473"/>
                  <a:pt x="15446" y="8466"/>
                </a:cubicBezTo>
              </a:path>
              <a:path w="6503" h="1136">
                <a:moveTo>
                  <a:pt x="15859" y="8121"/>
                </a:moveTo>
                <a:cubicBezTo>
                  <a:pt x="15857" y="8104"/>
                  <a:pt x="15856" y="8098"/>
                  <a:pt x="15847" y="8089"/>
                </a:cubicBezTo>
                <a:cubicBezTo>
                  <a:pt x="15814" y="8104"/>
                  <a:pt x="15817" y="8150"/>
                  <a:pt x="15810" y="8192"/>
                </a:cubicBezTo>
                <a:cubicBezTo>
                  <a:pt x="15793" y="8290"/>
                  <a:pt x="15784" y="8391"/>
                  <a:pt x="15773" y="8490"/>
                </a:cubicBezTo>
                <a:cubicBezTo>
                  <a:pt x="15761" y="8596"/>
                  <a:pt x="15749" y="8703"/>
                  <a:pt x="15743" y="8809"/>
                </a:cubicBezTo>
                <a:cubicBezTo>
                  <a:pt x="15741" y="8848"/>
                  <a:pt x="15728" y="8924"/>
                  <a:pt x="15753" y="8959"/>
                </a:cubicBezTo>
                <a:cubicBezTo>
                  <a:pt x="15768" y="8980"/>
                  <a:pt x="15819" y="8958"/>
                  <a:pt x="15836" y="8947"/>
                </a:cubicBezTo>
                <a:cubicBezTo>
                  <a:pt x="15872" y="8923"/>
                  <a:pt x="15895" y="8891"/>
                  <a:pt x="15921" y="8857"/>
                </a:cubicBezTo>
              </a:path>
              <a:path w="6503" h="1136">
                <a:moveTo>
                  <a:pt x="16092" y="8259"/>
                </a:moveTo>
                <a:cubicBezTo>
                  <a:pt x="16094" y="8255"/>
                  <a:pt x="16096" y="8250"/>
                  <a:pt x="16098" y="8246"/>
                </a:cubicBezTo>
                <a:cubicBezTo>
                  <a:pt x="16111" y="8288"/>
                  <a:pt x="16104" y="8333"/>
                  <a:pt x="16105" y="8378"/>
                </a:cubicBezTo>
                <a:cubicBezTo>
                  <a:pt x="16106" y="8473"/>
                  <a:pt x="16098" y="8566"/>
                  <a:pt x="16096" y="8661"/>
                </a:cubicBezTo>
                <a:cubicBezTo>
                  <a:pt x="16095" y="8728"/>
                  <a:pt x="16096" y="8798"/>
                  <a:pt x="16100" y="8865"/>
                </a:cubicBezTo>
                <a:cubicBezTo>
                  <a:pt x="16102" y="8893"/>
                  <a:pt x="16102" y="8922"/>
                  <a:pt x="16136" y="8926"/>
                </a:cubicBezTo>
                <a:cubicBezTo>
                  <a:pt x="16167" y="8929"/>
                  <a:pt x="16231" y="8903"/>
                  <a:pt x="16257" y="8889"/>
                </a:cubicBezTo>
                <a:cubicBezTo>
                  <a:pt x="16297" y="8867"/>
                  <a:pt x="16340" y="8848"/>
                  <a:pt x="16374" y="8816"/>
                </a:cubicBezTo>
                <a:cubicBezTo>
                  <a:pt x="16389" y="8799"/>
                  <a:pt x="16394" y="8792"/>
                  <a:pt x="16391" y="8775"/>
                </a:cubicBezTo>
              </a:path>
              <a:path w="6503" h="1136">
                <a:moveTo>
                  <a:pt x="16169" y="8715"/>
                </a:moveTo>
                <a:cubicBezTo>
                  <a:pt x="16189" y="8703"/>
                  <a:pt x="16218" y="8686"/>
                  <a:pt x="16237" y="8678"/>
                </a:cubicBezTo>
                <a:cubicBezTo>
                  <a:pt x="16284" y="8659"/>
                  <a:pt x="16330" y="8638"/>
                  <a:pt x="16375" y="8613"/>
                </a:cubicBezTo>
                <a:cubicBezTo>
                  <a:pt x="16419" y="8588"/>
                  <a:pt x="16438" y="8560"/>
                  <a:pt x="16449" y="8514"/>
                </a:cubicBezTo>
              </a:path>
              <a:path w="6503" h="1136">
                <a:moveTo>
                  <a:pt x="16088" y="8321"/>
                </a:moveTo>
                <a:cubicBezTo>
                  <a:pt x="16121" y="8300"/>
                  <a:pt x="16164" y="8278"/>
                  <a:pt x="16200" y="8265"/>
                </a:cubicBezTo>
                <a:cubicBezTo>
                  <a:pt x="16255" y="8245"/>
                  <a:pt x="16327" y="8219"/>
                  <a:pt x="16385" y="8212"/>
                </a:cubicBezTo>
                <a:cubicBezTo>
                  <a:pt x="16423" y="8207"/>
                  <a:pt x="16455" y="8214"/>
                  <a:pt x="16490" y="8224"/>
                </a:cubicBezTo>
              </a:path>
              <a:path w="6503" h="1136">
                <a:moveTo>
                  <a:pt x="16598" y="8573"/>
                </a:moveTo>
                <a:cubicBezTo>
                  <a:pt x="16617" y="8650"/>
                  <a:pt x="16627" y="8724"/>
                  <a:pt x="16640" y="8801"/>
                </a:cubicBezTo>
                <a:cubicBezTo>
                  <a:pt x="16651" y="8864"/>
                  <a:pt x="16656" y="8926"/>
                  <a:pt x="16668" y="8988"/>
                </a:cubicBezTo>
                <a:cubicBezTo>
                  <a:pt x="16669" y="8994"/>
                  <a:pt x="16670" y="9001"/>
                  <a:pt x="16671" y="9007"/>
                </a:cubicBezTo>
              </a:path>
              <a:path w="6503" h="1136">
                <a:moveTo>
                  <a:pt x="17025" y="8739"/>
                </a:moveTo>
                <a:cubicBezTo>
                  <a:pt x="17000" y="8728"/>
                  <a:pt x="16991" y="8692"/>
                  <a:pt x="16988" y="8660"/>
                </a:cubicBezTo>
                <a:cubicBezTo>
                  <a:pt x="16981" y="8581"/>
                  <a:pt x="16986" y="8493"/>
                  <a:pt x="16994" y="8414"/>
                </a:cubicBezTo>
                <a:cubicBezTo>
                  <a:pt x="17003" y="8330"/>
                  <a:pt x="17020" y="8239"/>
                  <a:pt x="17061" y="8164"/>
                </a:cubicBezTo>
                <a:cubicBezTo>
                  <a:pt x="17083" y="8133"/>
                  <a:pt x="17087" y="8124"/>
                  <a:pt x="17111" y="8117"/>
                </a:cubicBezTo>
                <a:cubicBezTo>
                  <a:pt x="17172" y="8151"/>
                  <a:pt x="17195" y="8203"/>
                  <a:pt x="17223" y="8268"/>
                </a:cubicBezTo>
                <a:cubicBezTo>
                  <a:pt x="17264" y="8364"/>
                  <a:pt x="17300" y="8471"/>
                  <a:pt x="17323" y="8573"/>
                </a:cubicBezTo>
                <a:cubicBezTo>
                  <a:pt x="17334" y="8621"/>
                  <a:pt x="17339" y="8672"/>
                  <a:pt x="17347" y="8721"/>
                </a:cubicBezTo>
              </a:path>
              <a:path w="6503" h="1136">
                <a:moveTo>
                  <a:pt x="17582" y="8205"/>
                </a:moveTo>
                <a:cubicBezTo>
                  <a:pt x="17610" y="8242"/>
                  <a:pt x="17613" y="8256"/>
                  <a:pt x="17616" y="8311"/>
                </a:cubicBezTo>
                <a:cubicBezTo>
                  <a:pt x="17621" y="8405"/>
                  <a:pt x="17609" y="8498"/>
                  <a:pt x="17603" y="8592"/>
                </a:cubicBezTo>
                <a:cubicBezTo>
                  <a:pt x="17598" y="8675"/>
                  <a:pt x="17572" y="8780"/>
                  <a:pt x="17593" y="8862"/>
                </a:cubicBezTo>
                <a:cubicBezTo>
                  <a:pt x="17601" y="8894"/>
                  <a:pt x="17625" y="8901"/>
                  <a:pt x="17653" y="8891"/>
                </a:cubicBezTo>
                <a:cubicBezTo>
                  <a:pt x="17723" y="8866"/>
                  <a:pt x="17783" y="8817"/>
                  <a:pt x="17841" y="8775"/>
                </a:cubicBezTo>
                <a:cubicBezTo>
                  <a:pt x="17886" y="8742"/>
                  <a:pt x="17920" y="8698"/>
                  <a:pt x="17937" y="8643"/>
                </a:cubicBezTo>
                <a:cubicBezTo>
                  <a:pt x="17944" y="8605"/>
                  <a:pt x="17946" y="8594"/>
                  <a:pt x="17940" y="8569"/>
                </a:cubicBezTo>
              </a:path>
              <a:path w="6503" h="1136">
                <a:moveTo>
                  <a:pt x="17714" y="8781"/>
                </a:moveTo>
                <a:cubicBezTo>
                  <a:pt x="17766" y="8790"/>
                  <a:pt x="17773" y="8778"/>
                  <a:pt x="17818" y="8756"/>
                </a:cubicBezTo>
                <a:cubicBezTo>
                  <a:pt x="17868" y="8732"/>
                  <a:pt x="17916" y="8704"/>
                  <a:pt x="17962" y="8672"/>
                </a:cubicBezTo>
                <a:cubicBezTo>
                  <a:pt x="18004" y="8643"/>
                  <a:pt x="18038" y="8601"/>
                  <a:pt x="18067" y="8560"/>
                </a:cubicBezTo>
              </a:path>
              <a:path w="6503" h="1136">
                <a:moveTo>
                  <a:pt x="17607" y="8425"/>
                </a:moveTo>
                <a:cubicBezTo>
                  <a:pt x="17593" y="8404"/>
                  <a:pt x="17577" y="8384"/>
                  <a:pt x="17606" y="8367"/>
                </a:cubicBezTo>
                <a:cubicBezTo>
                  <a:pt x="17631" y="8352"/>
                  <a:pt x="17661" y="8350"/>
                  <a:pt x="17687" y="8341"/>
                </a:cubicBezTo>
                <a:cubicBezTo>
                  <a:pt x="17715" y="8332"/>
                  <a:pt x="17745" y="8328"/>
                  <a:pt x="17774" y="8323"/>
                </a:cubicBezTo>
              </a:path>
              <a:path w="6503" h="1136">
                <a:moveTo>
                  <a:pt x="17673" y="8557"/>
                </a:moveTo>
                <a:cubicBezTo>
                  <a:pt x="17648" y="8553"/>
                  <a:pt x="17624" y="8551"/>
                  <a:pt x="17599" y="8548"/>
                </a:cubicBezTo>
                <a:cubicBezTo>
                  <a:pt x="17634" y="8542"/>
                  <a:pt x="17668" y="8531"/>
                  <a:pt x="17700" y="8517"/>
                </a:cubicBezTo>
                <a:cubicBezTo>
                  <a:pt x="17747" y="8495"/>
                  <a:pt x="17792" y="8467"/>
                  <a:pt x="17838" y="8443"/>
                </a:cubicBezTo>
                <a:cubicBezTo>
                  <a:pt x="17886" y="8418"/>
                  <a:pt x="17932" y="8387"/>
                  <a:pt x="17980" y="8364"/>
                </a:cubicBezTo>
                <a:cubicBezTo>
                  <a:pt x="18003" y="8353"/>
                  <a:pt x="18034" y="8346"/>
                  <a:pt x="18026" y="8311"/>
                </a:cubicBezTo>
                <a:cubicBezTo>
                  <a:pt x="18023" y="8305"/>
                  <a:pt x="18021" y="8299"/>
                  <a:pt x="18018" y="8293"/>
                </a:cubicBezTo>
              </a:path>
              <a:path w="6503" h="1136">
                <a:moveTo>
                  <a:pt x="17607" y="8168"/>
                </a:moveTo>
                <a:cubicBezTo>
                  <a:pt x="17592" y="8170"/>
                  <a:pt x="17586" y="8170"/>
                  <a:pt x="17576" y="8165"/>
                </a:cubicBezTo>
                <a:cubicBezTo>
                  <a:pt x="17623" y="8161"/>
                  <a:pt x="17666" y="8148"/>
                  <a:pt x="17710" y="8133"/>
                </a:cubicBezTo>
                <a:cubicBezTo>
                  <a:pt x="17781" y="8108"/>
                  <a:pt x="17848" y="8075"/>
                  <a:pt x="17916" y="8044"/>
                </a:cubicBezTo>
                <a:cubicBezTo>
                  <a:pt x="17960" y="8024"/>
                  <a:pt x="18016" y="8000"/>
                  <a:pt x="18051" y="7965"/>
                </a:cubicBezTo>
                <a:cubicBezTo>
                  <a:pt x="18054" y="7960"/>
                  <a:pt x="18057" y="7956"/>
                  <a:pt x="18060" y="7951"/>
                </a:cubicBezTo>
              </a:path>
              <a:path w="6503" h="1136">
                <a:moveTo>
                  <a:pt x="18105" y="8522"/>
                </a:moveTo>
                <a:cubicBezTo>
                  <a:pt x="18131" y="8510"/>
                  <a:pt x="18151" y="8485"/>
                  <a:pt x="18182" y="8476"/>
                </a:cubicBezTo>
                <a:cubicBezTo>
                  <a:pt x="18216" y="8466"/>
                  <a:pt x="18261" y="8465"/>
                  <a:pt x="18293" y="8481"/>
                </a:cubicBezTo>
                <a:cubicBezTo>
                  <a:pt x="18327" y="8498"/>
                  <a:pt x="18350" y="8532"/>
                  <a:pt x="18354" y="8569"/>
                </a:cubicBezTo>
                <a:cubicBezTo>
                  <a:pt x="18358" y="8603"/>
                  <a:pt x="18341" y="8635"/>
                  <a:pt x="18330" y="8666"/>
                </a:cubicBezTo>
                <a:cubicBezTo>
                  <a:pt x="18320" y="8695"/>
                  <a:pt x="18301" y="8727"/>
                  <a:pt x="18341" y="8743"/>
                </a:cubicBezTo>
                <a:cubicBezTo>
                  <a:pt x="18381" y="8759"/>
                  <a:pt x="18428" y="8713"/>
                  <a:pt x="18455" y="8695"/>
                </a:cubicBezTo>
                <a:cubicBezTo>
                  <a:pt x="18509" y="8660"/>
                  <a:pt x="18544" y="8612"/>
                  <a:pt x="18569" y="8551"/>
                </a:cubicBezTo>
                <a:cubicBezTo>
                  <a:pt x="18574" y="8536"/>
                  <a:pt x="18578" y="8522"/>
                  <a:pt x="18583" y="8507"/>
                </a:cubicBezTo>
              </a:path>
              <a:path w="6503" h="1136">
                <a:moveTo>
                  <a:pt x="18551" y="8051"/>
                </a:moveTo>
                <a:cubicBezTo>
                  <a:pt x="18575" y="8104"/>
                  <a:pt x="18589" y="8167"/>
                  <a:pt x="18599" y="8224"/>
                </a:cubicBezTo>
                <a:cubicBezTo>
                  <a:pt x="18622" y="8350"/>
                  <a:pt x="18646" y="8476"/>
                  <a:pt x="18670" y="8602"/>
                </a:cubicBezTo>
                <a:cubicBezTo>
                  <a:pt x="18690" y="8709"/>
                  <a:pt x="18720" y="8811"/>
                  <a:pt x="18744" y="8916"/>
                </a:cubicBezTo>
                <a:cubicBezTo>
                  <a:pt x="18750" y="8946"/>
                  <a:pt x="18752" y="8952"/>
                  <a:pt x="18751" y="8970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615240" y="2971800"/>
            <a:ext cx="826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: What is the probability that a postitive integer selected at random fr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et of postive integers not exceeding 100 is divisble by either 2 or 5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1219320" y="3176640"/>
            <a:ext cx="934920" cy="98280"/>
          </a:xfrm>
          <a:custGeom>
            <a:avLst/>
            <a:gdLst/>
            <a:ahLst/>
            <a:rect l="l" t="t" r="r" b="b"/>
            <a:pathLst>
              <a:path w="2595" h="274">
                <a:moveTo>
                  <a:pt x="5981" y="8822"/>
                </a:moveTo>
                <a:lnTo>
                  <a:pt x="5981" y="8822"/>
                </a:lnTo>
              </a:path>
              <a:path w="2595" h="274">
                <a:moveTo>
                  <a:pt x="3387" y="9095"/>
                </a:moveTo>
                <a:cubicBezTo>
                  <a:pt x="3396" y="9095"/>
                  <a:pt x="3405" y="9095"/>
                  <a:pt x="3414" y="9095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>
            <a:off x="2583000" y="1278000"/>
            <a:ext cx="1141200" cy="42840"/>
          </a:xfrm>
          <a:custGeom>
            <a:avLst/>
            <a:gdLst/>
            <a:ahLst/>
            <a:rect l="l" t="t" r="r" b="b"/>
            <a:pathLst>
              <a:path w="3172" h="117">
                <a:moveTo>
                  <a:pt x="7204" y="3561"/>
                </a:moveTo>
                <a:cubicBezTo>
                  <a:pt x="7190" y="3560"/>
                  <a:pt x="7188" y="3556"/>
                  <a:pt x="7173" y="3552"/>
                </a:cubicBezTo>
                <a:cubicBezTo>
                  <a:pt x="7243" y="3559"/>
                  <a:pt x="7314" y="3561"/>
                  <a:pt x="7385" y="3566"/>
                </a:cubicBezTo>
                <a:cubicBezTo>
                  <a:pt x="7630" y="3582"/>
                  <a:pt x="7872" y="3588"/>
                  <a:pt x="8115" y="3620"/>
                </a:cubicBezTo>
                <a:cubicBezTo>
                  <a:pt x="8341" y="3649"/>
                  <a:pt x="8572" y="3624"/>
                  <a:pt x="8799" y="3616"/>
                </a:cubicBezTo>
                <a:cubicBezTo>
                  <a:pt x="9137" y="3604"/>
                  <a:pt x="9474" y="3615"/>
                  <a:pt x="9812" y="3624"/>
                </a:cubicBezTo>
                <a:cubicBezTo>
                  <a:pt x="9969" y="3628"/>
                  <a:pt x="10131" y="3629"/>
                  <a:pt x="10286" y="3597"/>
                </a:cubicBezTo>
                <a:cubicBezTo>
                  <a:pt x="10306" y="3593"/>
                  <a:pt x="10324" y="3587"/>
                  <a:pt x="10344" y="3583"/>
                </a:cubicBezTo>
                <a:cubicBezTo>
                  <a:pt x="10319" y="3628"/>
                  <a:pt x="10318" y="3632"/>
                  <a:pt x="10276" y="366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>
            <a:off x="7008840" y="932040"/>
            <a:ext cx="1263600" cy="392040"/>
          </a:xfrm>
          <a:custGeom>
            <a:avLst/>
            <a:gdLst/>
            <a:ahLst/>
            <a:rect l="l" t="t" r="r" b="b"/>
            <a:pathLst>
              <a:path w="3509" h="1092">
                <a:moveTo>
                  <a:pt x="19479" y="2843"/>
                </a:moveTo>
                <a:cubicBezTo>
                  <a:pt x="19471" y="2878"/>
                  <a:pt x="19470" y="2917"/>
                  <a:pt x="19471" y="2953"/>
                </a:cubicBezTo>
                <a:cubicBezTo>
                  <a:pt x="19474" y="3030"/>
                  <a:pt x="19481" y="3106"/>
                  <a:pt x="19487" y="3183"/>
                </a:cubicBezTo>
                <a:cubicBezTo>
                  <a:pt x="19493" y="3258"/>
                  <a:pt x="19498" y="3333"/>
                  <a:pt x="19499" y="3408"/>
                </a:cubicBezTo>
                <a:cubicBezTo>
                  <a:pt x="19500" y="3460"/>
                  <a:pt x="19496" y="3463"/>
                  <a:pt x="19489" y="3466"/>
                </a:cubicBezTo>
                <a:cubicBezTo>
                  <a:pt x="19488" y="3418"/>
                  <a:pt x="19484" y="3370"/>
                  <a:pt x="19482" y="3322"/>
                </a:cubicBezTo>
                <a:cubicBezTo>
                  <a:pt x="19479" y="3241"/>
                  <a:pt x="19475" y="3161"/>
                  <a:pt x="19473" y="3080"/>
                </a:cubicBezTo>
                <a:cubicBezTo>
                  <a:pt x="19470" y="2992"/>
                  <a:pt x="19471" y="2907"/>
                  <a:pt x="19483" y="2820"/>
                </a:cubicBezTo>
                <a:cubicBezTo>
                  <a:pt x="19492" y="2754"/>
                  <a:pt x="19509" y="2696"/>
                  <a:pt x="19559" y="2650"/>
                </a:cubicBezTo>
                <a:cubicBezTo>
                  <a:pt x="19598" y="2613"/>
                  <a:pt x="19648" y="2603"/>
                  <a:pt x="19696" y="2629"/>
                </a:cubicBezTo>
                <a:cubicBezTo>
                  <a:pt x="19752" y="2659"/>
                  <a:pt x="19771" y="2729"/>
                  <a:pt x="19770" y="2788"/>
                </a:cubicBezTo>
                <a:cubicBezTo>
                  <a:pt x="19768" y="2869"/>
                  <a:pt x="19735" y="2952"/>
                  <a:pt x="19689" y="3018"/>
                </a:cubicBezTo>
                <a:cubicBezTo>
                  <a:pt x="19670" y="3046"/>
                  <a:pt x="19612" y="3120"/>
                  <a:pt x="19568" y="3105"/>
                </a:cubicBezTo>
                <a:cubicBezTo>
                  <a:pt x="19550" y="3101"/>
                  <a:pt x="19543" y="3098"/>
                  <a:pt x="19538" y="3083"/>
                </a:cubicBezTo>
                <a:cubicBezTo>
                  <a:pt x="19544" y="3034"/>
                  <a:pt x="19564" y="3004"/>
                  <a:pt x="19591" y="2963"/>
                </a:cubicBezTo>
              </a:path>
              <a:path w="3509" h="1092">
                <a:moveTo>
                  <a:pt x="19829" y="3136"/>
                </a:moveTo>
                <a:cubicBezTo>
                  <a:pt x="19828" y="3180"/>
                  <a:pt x="19820" y="3217"/>
                  <a:pt x="19814" y="3258"/>
                </a:cubicBezTo>
                <a:cubicBezTo>
                  <a:pt x="19810" y="3284"/>
                  <a:pt x="19809" y="3309"/>
                  <a:pt x="19803" y="3335"/>
                </a:cubicBezTo>
                <a:cubicBezTo>
                  <a:pt x="19811" y="3298"/>
                  <a:pt x="19816" y="3261"/>
                  <a:pt x="19823" y="3224"/>
                </a:cubicBezTo>
                <a:cubicBezTo>
                  <a:pt x="19833" y="3172"/>
                  <a:pt x="19848" y="3121"/>
                  <a:pt x="19871" y="3073"/>
                </a:cubicBezTo>
                <a:cubicBezTo>
                  <a:pt x="19888" y="3037"/>
                  <a:pt x="19921" y="3013"/>
                  <a:pt x="19959" y="3001"/>
                </a:cubicBezTo>
                <a:cubicBezTo>
                  <a:pt x="19985" y="2996"/>
                  <a:pt x="19993" y="2995"/>
                  <a:pt x="20011" y="2993"/>
                </a:cubicBezTo>
              </a:path>
              <a:path w="3509" h="1092">
                <a:moveTo>
                  <a:pt x="20187" y="3075"/>
                </a:moveTo>
                <a:cubicBezTo>
                  <a:pt x="20158" y="3109"/>
                  <a:pt x="20130" y="3145"/>
                  <a:pt x="20111" y="3186"/>
                </a:cubicBezTo>
                <a:cubicBezTo>
                  <a:pt x="20091" y="3230"/>
                  <a:pt x="20073" y="3285"/>
                  <a:pt x="20083" y="3334"/>
                </a:cubicBezTo>
                <a:cubicBezTo>
                  <a:pt x="20090" y="3372"/>
                  <a:pt x="20122" y="3386"/>
                  <a:pt x="20157" y="3372"/>
                </a:cubicBezTo>
                <a:cubicBezTo>
                  <a:pt x="20197" y="3356"/>
                  <a:pt x="20225" y="3316"/>
                  <a:pt x="20244" y="3280"/>
                </a:cubicBezTo>
                <a:cubicBezTo>
                  <a:pt x="20266" y="3238"/>
                  <a:pt x="20275" y="3180"/>
                  <a:pt x="20278" y="3132"/>
                </a:cubicBezTo>
                <a:cubicBezTo>
                  <a:pt x="20278" y="3091"/>
                  <a:pt x="20278" y="3077"/>
                  <a:pt x="20277" y="3049"/>
                </a:cubicBezTo>
              </a:path>
              <a:path w="3509" h="1092">
                <a:moveTo>
                  <a:pt x="20304" y="2659"/>
                </a:moveTo>
                <a:cubicBezTo>
                  <a:pt x="20325" y="2696"/>
                  <a:pt x="20331" y="2727"/>
                  <a:pt x="20338" y="2775"/>
                </a:cubicBezTo>
                <a:cubicBezTo>
                  <a:pt x="20353" y="2872"/>
                  <a:pt x="20366" y="2969"/>
                  <a:pt x="20376" y="3066"/>
                </a:cubicBezTo>
                <a:cubicBezTo>
                  <a:pt x="20383" y="3134"/>
                  <a:pt x="20388" y="3201"/>
                  <a:pt x="20393" y="3269"/>
                </a:cubicBezTo>
                <a:cubicBezTo>
                  <a:pt x="20407" y="3228"/>
                  <a:pt x="20419" y="3187"/>
                  <a:pt x="20437" y="3148"/>
                </a:cubicBezTo>
                <a:cubicBezTo>
                  <a:pt x="20462" y="3095"/>
                  <a:pt x="20502" y="3014"/>
                  <a:pt x="20565" y="2997"/>
                </a:cubicBezTo>
                <a:cubicBezTo>
                  <a:pt x="20608" y="2986"/>
                  <a:pt x="20643" y="3025"/>
                  <a:pt x="20661" y="3058"/>
                </a:cubicBezTo>
                <a:cubicBezTo>
                  <a:pt x="20693" y="3117"/>
                  <a:pt x="20687" y="3186"/>
                  <a:pt x="20661" y="3245"/>
                </a:cubicBezTo>
                <a:cubicBezTo>
                  <a:pt x="20644" y="3285"/>
                  <a:pt x="20615" y="3324"/>
                  <a:pt x="20575" y="3343"/>
                </a:cubicBezTo>
                <a:cubicBezTo>
                  <a:pt x="20546" y="3357"/>
                  <a:pt x="20526" y="3351"/>
                  <a:pt x="20511" y="3325"/>
                </a:cubicBezTo>
                <a:cubicBezTo>
                  <a:pt x="20499" y="3303"/>
                  <a:pt x="20499" y="3283"/>
                  <a:pt x="20498" y="3259"/>
                </a:cubicBezTo>
              </a:path>
              <a:path w="3509" h="1092">
                <a:moveTo>
                  <a:pt x="20919" y="3014"/>
                </a:moveTo>
                <a:cubicBezTo>
                  <a:pt x="20895" y="3003"/>
                  <a:pt x="20870" y="3013"/>
                  <a:pt x="20847" y="3035"/>
                </a:cubicBezTo>
                <a:cubicBezTo>
                  <a:pt x="20816" y="3065"/>
                  <a:pt x="20785" y="3107"/>
                  <a:pt x="20763" y="3144"/>
                </a:cubicBezTo>
                <a:cubicBezTo>
                  <a:pt x="20751" y="3164"/>
                  <a:pt x="20748" y="3172"/>
                  <a:pt x="20753" y="3192"/>
                </a:cubicBezTo>
                <a:cubicBezTo>
                  <a:pt x="20784" y="3190"/>
                  <a:pt x="20808" y="3178"/>
                  <a:pt x="20836" y="3163"/>
                </a:cubicBezTo>
                <a:cubicBezTo>
                  <a:pt x="20860" y="3150"/>
                  <a:pt x="20893" y="3122"/>
                  <a:pt x="20922" y="3123"/>
                </a:cubicBezTo>
                <a:cubicBezTo>
                  <a:pt x="20943" y="3124"/>
                  <a:pt x="20948" y="3164"/>
                  <a:pt x="20951" y="3179"/>
                </a:cubicBezTo>
                <a:cubicBezTo>
                  <a:pt x="20957" y="3206"/>
                  <a:pt x="20962" y="3227"/>
                  <a:pt x="20979" y="3248"/>
                </a:cubicBezTo>
              </a:path>
              <a:path w="3509" h="1092">
                <a:moveTo>
                  <a:pt x="21148" y="2640"/>
                </a:moveTo>
                <a:cubicBezTo>
                  <a:pt x="21143" y="2692"/>
                  <a:pt x="21131" y="2743"/>
                  <a:pt x="21125" y="2794"/>
                </a:cubicBezTo>
                <a:cubicBezTo>
                  <a:pt x="21114" y="2887"/>
                  <a:pt x="21107" y="2981"/>
                  <a:pt x="21102" y="3075"/>
                </a:cubicBezTo>
                <a:cubicBezTo>
                  <a:pt x="21099" y="3119"/>
                  <a:pt x="21100" y="3151"/>
                  <a:pt x="21109" y="3193"/>
                </a:cubicBezTo>
                <a:cubicBezTo>
                  <a:pt x="21135" y="3182"/>
                  <a:pt x="21154" y="3167"/>
                  <a:pt x="21179" y="3141"/>
                </a:cubicBezTo>
                <a:cubicBezTo>
                  <a:pt x="21205" y="3113"/>
                  <a:pt x="21234" y="3072"/>
                  <a:pt x="21275" y="3066"/>
                </a:cubicBezTo>
                <a:cubicBezTo>
                  <a:pt x="21312" y="3060"/>
                  <a:pt x="21326" y="3098"/>
                  <a:pt x="21330" y="3127"/>
                </a:cubicBezTo>
                <a:cubicBezTo>
                  <a:pt x="21336" y="3166"/>
                  <a:pt x="21325" y="3208"/>
                  <a:pt x="21298" y="3237"/>
                </a:cubicBezTo>
                <a:cubicBezTo>
                  <a:pt x="21270" y="3267"/>
                  <a:pt x="21236" y="3274"/>
                  <a:pt x="21197" y="3278"/>
                </a:cubicBezTo>
                <a:cubicBezTo>
                  <a:pt x="21173" y="3281"/>
                  <a:pt x="21133" y="3277"/>
                  <a:pt x="21139" y="3242"/>
                </a:cubicBezTo>
                <a:cubicBezTo>
                  <a:pt x="21142" y="3234"/>
                  <a:pt x="21145" y="3226"/>
                  <a:pt x="21148" y="3218"/>
                </a:cubicBezTo>
              </a:path>
              <a:path w="3509" h="1092">
                <a:moveTo>
                  <a:pt x="21492" y="3061"/>
                </a:moveTo>
                <a:cubicBezTo>
                  <a:pt x="21490" y="3096"/>
                  <a:pt x="21487" y="3139"/>
                  <a:pt x="21477" y="3172"/>
                </a:cubicBezTo>
                <a:cubicBezTo>
                  <a:pt x="21466" y="3208"/>
                  <a:pt x="21454" y="3245"/>
                  <a:pt x="21450" y="3283"/>
                </a:cubicBezTo>
                <a:cubicBezTo>
                  <a:pt x="21448" y="3307"/>
                  <a:pt x="21456" y="3302"/>
                  <a:pt x="21467" y="3293"/>
                </a:cubicBezTo>
              </a:path>
              <a:path w="3509" h="1092">
                <a:moveTo>
                  <a:pt x="21585" y="2765"/>
                </a:moveTo>
                <a:cubicBezTo>
                  <a:pt x="21597" y="2711"/>
                  <a:pt x="21603" y="2673"/>
                  <a:pt x="21632" y="2627"/>
                </a:cubicBezTo>
                <a:cubicBezTo>
                  <a:pt x="21648" y="2601"/>
                  <a:pt x="21652" y="2592"/>
                  <a:pt x="21674" y="2587"/>
                </a:cubicBezTo>
              </a:path>
              <a:path w="3509" h="1092">
                <a:moveTo>
                  <a:pt x="21997" y="2618"/>
                </a:moveTo>
                <a:cubicBezTo>
                  <a:pt x="21995" y="2664"/>
                  <a:pt x="21975" y="2692"/>
                  <a:pt x="21961" y="2735"/>
                </a:cubicBezTo>
                <a:cubicBezTo>
                  <a:pt x="21933" y="2822"/>
                  <a:pt x="21915" y="2915"/>
                  <a:pt x="21901" y="3005"/>
                </a:cubicBezTo>
                <a:cubicBezTo>
                  <a:pt x="21890" y="3078"/>
                  <a:pt x="21882" y="3159"/>
                  <a:pt x="21897" y="3232"/>
                </a:cubicBezTo>
                <a:cubicBezTo>
                  <a:pt x="21905" y="3258"/>
                  <a:pt x="21907" y="3265"/>
                  <a:pt x="21915" y="3280"/>
                </a:cubicBezTo>
              </a:path>
              <a:path w="3509" h="1092">
                <a:moveTo>
                  <a:pt x="22281" y="2927"/>
                </a:moveTo>
                <a:cubicBezTo>
                  <a:pt x="22296" y="2942"/>
                  <a:pt x="22283" y="2985"/>
                  <a:pt x="22277" y="3009"/>
                </a:cubicBezTo>
                <a:cubicBezTo>
                  <a:pt x="22261" y="3069"/>
                  <a:pt x="22235" y="3128"/>
                  <a:pt x="22227" y="3189"/>
                </a:cubicBezTo>
                <a:cubicBezTo>
                  <a:pt x="22222" y="3226"/>
                  <a:pt x="22216" y="3268"/>
                  <a:pt x="22235" y="3300"/>
                </a:cubicBezTo>
              </a:path>
              <a:path w="3509" h="1092">
                <a:moveTo>
                  <a:pt x="22328" y="2885"/>
                </a:moveTo>
                <a:cubicBezTo>
                  <a:pt x="22330" y="2866"/>
                  <a:pt x="22326" y="2827"/>
                  <a:pt x="22340" y="2811"/>
                </a:cubicBezTo>
                <a:cubicBezTo>
                  <a:pt x="22343" y="2809"/>
                  <a:pt x="22346" y="2808"/>
                  <a:pt x="22349" y="2806"/>
                </a:cubicBezTo>
              </a:path>
              <a:path w="3509" h="1092">
                <a:moveTo>
                  <a:pt x="22682" y="2636"/>
                </a:moveTo>
                <a:cubicBezTo>
                  <a:pt x="22663" y="2691"/>
                  <a:pt x="22643" y="2747"/>
                  <a:pt x="22629" y="2803"/>
                </a:cubicBezTo>
                <a:cubicBezTo>
                  <a:pt x="22597" y="2930"/>
                  <a:pt x="22576" y="3059"/>
                  <a:pt x="22557" y="3188"/>
                </a:cubicBezTo>
                <a:cubicBezTo>
                  <a:pt x="22555" y="3200"/>
                  <a:pt x="22553" y="3211"/>
                  <a:pt x="22551" y="3223"/>
                </a:cubicBezTo>
              </a:path>
              <a:path w="3509" h="1092">
                <a:moveTo>
                  <a:pt x="22467" y="2999"/>
                </a:moveTo>
                <a:cubicBezTo>
                  <a:pt x="22466" y="2980"/>
                  <a:pt x="22456" y="2928"/>
                  <a:pt x="22482" y="2916"/>
                </a:cubicBezTo>
                <a:cubicBezTo>
                  <a:pt x="22509" y="2904"/>
                  <a:pt x="22569" y="2943"/>
                  <a:pt x="22593" y="2953"/>
                </a:cubicBezTo>
                <a:cubicBezTo>
                  <a:pt x="22630" y="2969"/>
                  <a:pt x="22641" y="2974"/>
                  <a:pt x="22663" y="2989"/>
                </a:cubicBezTo>
              </a:path>
              <a:path w="3509" h="1092">
                <a:moveTo>
                  <a:pt x="22734" y="3149"/>
                </a:moveTo>
                <a:cubicBezTo>
                  <a:pt x="22732" y="3180"/>
                  <a:pt x="22723" y="3215"/>
                  <a:pt x="22755" y="3235"/>
                </a:cubicBezTo>
                <a:cubicBezTo>
                  <a:pt x="22781" y="3251"/>
                  <a:pt x="22835" y="3228"/>
                  <a:pt x="22859" y="3219"/>
                </a:cubicBezTo>
                <a:cubicBezTo>
                  <a:pt x="22896" y="3205"/>
                  <a:pt x="22928" y="3174"/>
                  <a:pt x="22965" y="3162"/>
                </a:cubicBezTo>
                <a:cubicBezTo>
                  <a:pt x="22969" y="3162"/>
                  <a:pt x="22974" y="3162"/>
                  <a:pt x="22978" y="3162"/>
                </a:cubicBezTo>
                <a:cubicBezTo>
                  <a:pt x="22963" y="3203"/>
                  <a:pt x="22942" y="3234"/>
                  <a:pt x="22917" y="3272"/>
                </a:cubicBezTo>
                <a:cubicBezTo>
                  <a:pt x="22866" y="3349"/>
                  <a:pt x="22817" y="3428"/>
                  <a:pt x="22763" y="3504"/>
                </a:cubicBezTo>
                <a:cubicBezTo>
                  <a:pt x="22726" y="3557"/>
                  <a:pt x="22689" y="3615"/>
                  <a:pt x="22647" y="3664"/>
                </a:cubicBezTo>
                <a:cubicBezTo>
                  <a:pt x="22642" y="3669"/>
                  <a:pt x="22637" y="3673"/>
                  <a:pt x="22632" y="367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>
            <a:off x="517680" y="1476360"/>
            <a:ext cx="5838840" cy="1147680"/>
          </a:xfrm>
          <a:custGeom>
            <a:avLst/>
            <a:gdLst/>
            <a:ahLst/>
            <a:rect l="l" t="t" r="r" b="b"/>
            <a:pathLst>
              <a:path w="16222" h="3192">
                <a:moveTo>
                  <a:pt x="1709" y="4200"/>
                </a:moveTo>
                <a:cubicBezTo>
                  <a:pt x="1694" y="4192"/>
                  <a:pt x="1689" y="4186"/>
                  <a:pt x="1675" y="4176"/>
                </a:cubicBezTo>
                <a:cubicBezTo>
                  <a:pt x="1703" y="4166"/>
                  <a:pt x="1730" y="4151"/>
                  <a:pt x="1764" y="4145"/>
                </a:cubicBezTo>
                <a:cubicBezTo>
                  <a:pt x="1979" y="4107"/>
                  <a:pt x="2214" y="4120"/>
                  <a:pt x="2431" y="4131"/>
                </a:cubicBezTo>
                <a:cubicBezTo>
                  <a:pt x="2936" y="4156"/>
                  <a:pt x="3436" y="4119"/>
                  <a:pt x="3941" y="4108"/>
                </a:cubicBezTo>
                <a:cubicBezTo>
                  <a:pt x="4265" y="4101"/>
                  <a:pt x="4589" y="4113"/>
                  <a:pt x="4913" y="4105"/>
                </a:cubicBezTo>
                <a:cubicBezTo>
                  <a:pt x="5141" y="4100"/>
                  <a:pt x="5369" y="4094"/>
                  <a:pt x="5596" y="4110"/>
                </a:cubicBezTo>
                <a:cubicBezTo>
                  <a:pt x="5647" y="4114"/>
                  <a:pt x="5660" y="4116"/>
                  <a:pt x="5712" y="4118"/>
                </a:cubicBezTo>
                <a:cubicBezTo>
                  <a:pt x="5703" y="4117"/>
                  <a:pt x="5695" y="4117"/>
                  <a:pt x="5686" y="4116"/>
                </a:cubicBezTo>
              </a:path>
              <a:path w="16222" h="3192">
                <a:moveTo>
                  <a:pt x="1588" y="4306"/>
                </a:moveTo>
                <a:cubicBezTo>
                  <a:pt x="1581" y="4289"/>
                  <a:pt x="1574" y="4272"/>
                  <a:pt x="1567" y="4255"/>
                </a:cubicBezTo>
                <a:cubicBezTo>
                  <a:pt x="1562" y="4272"/>
                  <a:pt x="1553" y="4291"/>
                  <a:pt x="1548" y="4310"/>
                </a:cubicBezTo>
                <a:cubicBezTo>
                  <a:pt x="1531" y="4381"/>
                  <a:pt x="1518" y="4454"/>
                  <a:pt x="1496" y="4523"/>
                </a:cubicBezTo>
                <a:cubicBezTo>
                  <a:pt x="1458" y="4645"/>
                  <a:pt x="1439" y="4718"/>
                  <a:pt x="1459" y="4841"/>
                </a:cubicBezTo>
                <a:cubicBezTo>
                  <a:pt x="1463" y="4867"/>
                  <a:pt x="1478" y="4885"/>
                  <a:pt x="1488" y="4908"/>
                </a:cubicBezTo>
                <a:cubicBezTo>
                  <a:pt x="1506" y="4951"/>
                  <a:pt x="1506" y="4979"/>
                  <a:pt x="1559" y="5011"/>
                </a:cubicBezTo>
                <a:cubicBezTo>
                  <a:pt x="1655" y="5068"/>
                  <a:pt x="1781" y="5045"/>
                  <a:pt x="1887" y="5044"/>
                </a:cubicBezTo>
                <a:cubicBezTo>
                  <a:pt x="2251" y="5040"/>
                  <a:pt x="2606" y="5055"/>
                  <a:pt x="2969" y="5073"/>
                </a:cubicBezTo>
                <a:cubicBezTo>
                  <a:pt x="3165" y="5083"/>
                  <a:pt x="3361" y="5079"/>
                  <a:pt x="3557" y="5087"/>
                </a:cubicBezTo>
                <a:cubicBezTo>
                  <a:pt x="3877" y="5100"/>
                  <a:pt x="4204" y="5105"/>
                  <a:pt x="4523" y="5087"/>
                </a:cubicBezTo>
                <a:cubicBezTo>
                  <a:pt x="4811" y="5071"/>
                  <a:pt x="5092" y="5053"/>
                  <a:pt x="5381" y="5062"/>
                </a:cubicBezTo>
                <a:cubicBezTo>
                  <a:pt x="5515" y="5066"/>
                  <a:pt x="5642" y="5056"/>
                  <a:pt x="5774" y="5039"/>
                </a:cubicBezTo>
                <a:cubicBezTo>
                  <a:pt x="5829" y="5032"/>
                  <a:pt x="6017" y="5036"/>
                  <a:pt x="6054" y="4981"/>
                </a:cubicBezTo>
                <a:cubicBezTo>
                  <a:pt x="6101" y="4911"/>
                  <a:pt x="6061" y="4738"/>
                  <a:pt x="6049" y="4665"/>
                </a:cubicBezTo>
                <a:cubicBezTo>
                  <a:pt x="6020" y="4489"/>
                  <a:pt x="5932" y="4333"/>
                  <a:pt x="5896" y="4160"/>
                </a:cubicBezTo>
                <a:cubicBezTo>
                  <a:pt x="5895" y="4148"/>
                  <a:pt x="5895" y="4145"/>
                  <a:pt x="5895" y="4137"/>
                </a:cubicBezTo>
                <a:cubicBezTo>
                  <a:pt x="5868" y="4203"/>
                  <a:pt x="5850" y="4251"/>
                  <a:pt x="5837" y="4326"/>
                </a:cubicBezTo>
              </a:path>
              <a:path w="16222" h="3192">
                <a:moveTo>
                  <a:pt x="7124" y="4283"/>
                </a:moveTo>
                <a:cubicBezTo>
                  <a:pt x="7119" y="4329"/>
                  <a:pt x="7120" y="4374"/>
                  <a:pt x="7122" y="4421"/>
                </a:cubicBezTo>
                <a:cubicBezTo>
                  <a:pt x="7125" y="4505"/>
                  <a:pt x="7130" y="4589"/>
                  <a:pt x="7134" y="4673"/>
                </a:cubicBezTo>
                <a:cubicBezTo>
                  <a:pt x="7136" y="4703"/>
                  <a:pt x="7140" y="4730"/>
                  <a:pt x="7144" y="4759"/>
                </a:cubicBezTo>
              </a:path>
              <a:path w="16222" h="3192">
                <a:moveTo>
                  <a:pt x="6925" y="4496"/>
                </a:moveTo>
                <a:cubicBezTo>
                  <a:pt x="6922" y="4499"/>
                  <a:pt x="6919" y="4501"/>
                  <a:pt x="6916" y="4504"/>
                </a:cubicBezTo>
                <a:cubicBezTo>
                  <a:pt x="6928" y="4523"/>
                  <a:pt x="6969" y="4512"/>
                  <a:pt x="6996" y="4509"/>
                </a:cubicBezTo>
                <a:cubicBezTo>
                  <a:pt x="7066" y="4502"/>
                  <a:pt x="7135" y="4492"/>
                  <a:pt x="7205" y="4484"/>
                </a:cubicBezTo>
                <a:cubicBezTo>
                  <a:pt x="7222" y="4482"/>
                  <a:pt x="7239" y="4481"/>
                  <a:pt x="7256" y="4479"/>
                </a:cubicBezTo>
              </a:path>
              <a:path w="16222" h="3192">
                <a:moveTo>
                  <a:pt x="7393" y="4607"/>
                </a:moveTo>
                <a:cubicBezTo>
                  <a:pt x="7398" y="4646"/>
                  <a:pt x="7399" y="4711"/>
                  <a:pt x="7431" y="4739"/>
                </a:cubicBezTo>
                <a:cubicBezTo>
                  <a:pt x="7434" y="4740"/>
                  <a:pt x="7438" y="4741"/>
                  <a:pt x="7441" y="4742"/>
                </a:cubicBezTo>
                <a:cubicBezTo>
                  <a:pt x="7462" y="4701"/>
                  <a:pt x="7465" y="4667"/>
                  <a:pt x="7471" y="4621"/>
                </a:cubicBezTo>
                <a:cubicBezTo>
                  <a:pt x="7476" y="4585"/>
                  <a:pt x="7477" y="4525"/>
                  <a:pt x="7502" y="4495"/>
                </a:cubicBezTo>
                <a:cubicBezTo>
                  <a:pt x="7520" y="4473"/>
                  <a:pt x="7554" y="4476"/>
                  <a:pt x="7577" y="4477"/>
                </a:cubicBezTo>
                <a:cubicBezTo>
                  <a:pt x="7584" y="4477"/>
                  <a:pt x="7590" y="4477"/>
                  <a:pt x="7597" y="4477"/>
                </a:cubicBezTo>
              </a:path>
              <a:path w="16222" h="3192">
                <a:moveTo>
                  <a:pt x="7713" y="4529"/>
                </a:moveTo>
                <a:cubicBezTo>
                  <a:pt x="7718" y="4576"/>
                  <a:pt x="7723" y="4617"/>
                  <a:pt x="7737" y="4661"/>
                </a:cubicBezTo>
                <a:cubicBezTo>
                  <a:pt x="7745" y="4684"/>
                  <a:pt x="7747" y="4699"/>
                  <a:pt x="7759" y="4720"/>
                </a:cubicBezTo>
                <a:cubicBezTo>
                  <a:pt x="7770" y="4693"/>
                  <a:pt x="7766" y="4673"/>
                  <a:pt x="7765" y="4645"/>
                </a:cubicBezTo>
                <a:cubicBezTo>
                  <a:pt x="7763" y="4602"/>
                  <a:pt x="7758" y="4556"/>
                  <a:pt x="7764" y="4513"/>
                </a:cubicBezTo>
                <a:cubicBezTo>
                  <a:pt x="7768" y="4488"/>
                  <a:pt x="7771" y="4485"/>
                  <a:pt x="7790" y="4480"/>
                </a:cubicBezTo>
              </a:path>
              <a:path w="16222" h="3192">
                <a:moveTo>
                  <a:pt x="7936" y="4511"/>
                </a:moveTo>
                <a:cubicBezTo>
                  <a:pt x="7943" y="4531"/>
                  <a:pt x="7941" y="4558"/>
                  <a:pt x="7936" y="4580"/>
                </a:cubicBezTo>
                <a:cubicBezTo>
                  <a:pt x="7929" y="4611"/>
                  <a:pt x="7922" y="4642"/>
                  <a:pt x="7936" y="4674"/>
                </a:cubicBezTo>
                <a:cubicBezTo>
                  <a:pt x="7950" y="4706"/>
                  <a:pt x="7987" y="4716"/>
                  <a:pt x="8020" y="4710"/>
                </a:cubicBezTo>
                <a:cubicBezTo>
                  <a:pt x="8050" y="4699"/>
                  <a:pt x="8060" y="4695"/>
                  <a:pt x="8079" y="4686"/>
                </a:cubicBezTo>
              </a:path>
              <a:path w="16222" h="3192">
                <a:moveTo>
                  <a:pt x="8194" y="4308"/>
                </a:moveTo>
                <a:cubicBezTo>
                  <a:pt x="8193" y="4357"/>
                  <a:pt x="8200" y="4409"/>
                  <a:pt x="8205" y="4459"/>
                </a:cubicBezTo>
                <a:cubicBezTo>
                  <a:pt x="8213" y="4530"/>
                  <a:pt x="8221" y="4604"/>
                  <a:pt x="8235" y="4674"/>
                </a:cubicBezTo>
                <a:cubicBezTo>
                  <a:pt x="8242" y="4708"/>
                  <a:pt x="8241" y="4718"/>
                  <a:pt x="8265" y="4718"/>
                </a:cubicBezTo>
              </a:path>
              <a:path w="16222" h="3192">
                <a:moveTo>
                  <a:pt x="8354" y="4347"/>
                </a:moveTo>
                <a:cubicBezTo>
                  <a:pt x="8358" y="4342"/>
                  <a:pt x="8361" y="4338"/>
                  <a:pt x="8365" y="4333"/>
                </a:cubicBezTo>
                <a:cubicBezTo>
                  <a:pt x="8371" y="4358"/>
                  <a:pt x="8356" y="4389"/>
                  <a:pt x="8343" y="4416"/>
                </a:cubicBezTo>
                <a:cubicBezTo>
                  <a:pt x="8324" y="4456"/>
                  <a:pt x="8304" y="4495"/>
                  <a:pt x="8288" y="4536"/>
                </a:cubicBezTo>
                <a:cubicBezTo>
                  <a:pt x="8280" y="4557"/>
                  <a:pt x="8265" y="4591"/>
                  <a:pt x="8295" y="4603"/>
                </a:cubicBezTo>
                <a:cubicBezTo>
                  <a:pt x="8328" y="4616"/>
                  <a:pt x="8381" y="4616"/>
                  <a:pt x="8416" y="4619"/>
                </a:cubicBezTo>
                <a:cubicBezTo>
                  <a:pt x="8449" y="4622"/>
                  <a:pt x="8481" y="4624"/>
                  <a:pt x="8514" y="4626"/>
                </a:cubicBezTo>
              </a:path>
              <a:path w="16222" h="3192">
                <a:moveTo>
                  <a:pt x="9119" y="4446"/>
                </a:moveTo>
                <a:cubicBezTo>
                  <a:pt x="9088" y="4467"/>
                  <a:pt x="9087" y="4503"/>
                  <a:pt x="9079" y="4540"/>
                </a:cubicBezTo>
                <a:cubicBezTo>
                  <a:pt x="9065" y="4601"/>
                  <a:pt x="9068" y="4661"/>
                  <a:pt x="9078" y="4723"/>
                </a:cubicBezTo>
                <a:cubicBezTo>
                  <a:pt x="9082" y="4748"/>
                  <a:pt x="9089" y="4766"/>
                  <a:pt x="9101" y="4787"/>
                </a:cubicBezTo>
              </a:path>
              <a:path w="16222" h="3192">
                <a:moveTo>
                  <a:pt x="8981" y="4614"/>
                </a:moveTo>
                <a:cubicBezTo>
                  <a:pt x="8969" y="4594"/>
                  <a:pt x="9022" y="4593"/>
                  <a:pt x="9053" y="4587"/>
                </a:cubicBezTo>
                <a:cubicBezTo>
                  <a:pt x="9119" y="4574"/>
                  <a:pt x="9185" y="4569"/>
                  <a:pt x="9252" y="4564"/>
                </a:cubicBezTo>
              </a:path>
              <a:path w="16222" h="3192">
                <a:moveTo>
                  <a:pt x="9279" y="4631"/>
                </a:moveTo>
                <a:cubicBezTo>
                  <a:pt x="9252" y="4660"/>
                  <a:pt x="9237" y="4677"/>
                  <a:pt x="9223" y="4713"/>
                </a:cubicBezTo>
                <a:cubicBezTo>
                  <a:pt x="9213" y="4738"/>
                  <a:pt x="9228" y="4759"/>
                  <a:pt x="9255" y="4766"/>
                </a:cubicBezTo>
                <a:cubicBezTo>
                  <a:pt x="9290" y="4775"/>
                  <a:pt x="9331" y="4763"/>
                  <a:pt x="9363" y="4750"/>
                </a:cubicBezTo>
                <a:cubicBezTo>
                  <a:pt x="9390" y="4739"/>
                  <a:pt x="9426" y="4720"/>
                  <a:pt x="9435" y="4689"/>
                </a:cubicBezTo>
                <a:cubicBezTo>
                  <a:pt x="9443" y="4663"/>
                  <a:pt x="9416" y="4642"/>
                  <a:pt x="9397" y="4632"/>
                </a:cubicBezTo>
                <a:cubicBezTo>
                  <a:pt x="9374" y="4619"/>
                  <a:pt x="9345" y="4616"/>
                  <a:pt x="9322" y="4602"/>
                </a:cubicBezTo>
                <a:cubicBezTo>
                  <a:pt x="9317" y="4598"/>
                  <a:pt x="9313" y="4595"/>
                  <a:pt x="9308" y="4591"/>
                </a:cubicBezTo>
              </a:path>
              <a:path w="16222" h="3192">
                <a:moveTo>
                  <a:pt x="10203" y="4355"/>
                </a:moveTo>
                <a:cubicBezTo>
                  <a:pt x="10196" y="4336"/>
                  <a:pt x="10197" y="4333"/>
                  <a:pt x="10182" y="4324"/>
                </a:cubicBezTo>
                <a:cubicBezTo>
                  <a:pt x="10156" y="4328"/>
                  <a:pt x="10140" y="4347"/>
                  <a:pt x="10121" y="4370"/>
                </a:cubicBezTo>
                <a:cubicBezTo>
                  <a:pt x="10101" y="4395"/>
                  <a:pt x="10075" y="4429"/>
                  <a:pt x="10073" y="4463"/>
                </a:cubicBezTo>
                <a:cubicBezTo>
                  <a:pt x="10071" y="4498"/>
                  <a:pt x="10105" y="4517"/>
                  <a:pt x="10130" y="4533"/>
                </a:cubicBezTo>
                <a:cubicBezTo>
                  <a:pt x="10180" y="4566"/>
                  <a:pt x="10228" y="4601"/>
                  <a:pt x="10257" y="4655"/>
                </a:cubicBezTo>
                <a:cubicBezTo>
                  <a:pt x="10275" y="4688"/>
                  <a:pt x="10281" y="4727"/>
                  <a:pt x="10253" y="4756"/>
                </a:cubicBezTo>
                <a:cubicBezTo>
                  <a:pt x="10229" y="4780"/>
                  <a:pt x="10177" y="4785"/>
                  <a:pt x="10146" y="4773"/>
                </a:cubicBezTo>
                <a:cubicBezTo>
                  <a:pt x="10099" y="4754"/>
                  <a:pt x="10103" y="4716"/>
                  <a:pt x="10105" y="4675"/>
                </a:cubicBezTo>
              </a:path>
              <a:path w="16222" h="3192">
                <a:moveTo>
                  <a:pt x="10462" y="4406"/>
                </a:moveTo>
                <a:cubicBezTo>
                  <a:pt x="10429" y="4439"/>
                  <a:pt x="10396" y="4465"/>
                  <a:pt x="10370" y="4504"/>
                </a:cubicBezTo>
                <a:cubicBezTo>
                  <a:pt x="10340" y="4550"/>
                  <a:pt x="10317" y="4600"/>
                  <a:pt x="10312" y="4655"/>
                </a:cubicBezTo>
                <a:cubicBezTo>
                  <a:pt x="10312" y="4677"/>
                  <a:pt x="10311" y="4684"/>
                  <a:pt x="10319" y="4696"/>
                </a:cubicBezTo>
                <a:cubicBezTo>
                  <a:pt x="10352" y="4700"/>
                  <a:pt x="10371" y="4685"/>
                  <a:pt x="10392" y="4657"/>
                </a:cubicBezTo>
                <a:cubicBezTo>
                  <a:pt x="10419" y="4621"/>
                  <a:pt x="10439" y="4575"/>
                  <a:pt x="10457" y="4533"/>
                </a:cubicBezTo>
                <a:cubicBezTo>
                  <a:pt x="10464" y="4514"/>
                  <a:pt x="10465" y="4509"/>
                  <a:pt x="10471" y="4498"/>
                </a:cubicBezTo>
                <a:cubicBezTo>
                  <a:pt x="10491" y="4521"/>
                  <a:pt x="10485" y="4561"/>
                  <a:pt x="10486" y="4592"/>
                </a:cubicBezTo>
                <a:cubicBezTo>
                  <a:pt x="10487" y="4640"/>
                  <a:pt x="10493" y="4700"/>
                  <a:pt x="10511" y="4745"/>
                </a:cubicBezTo>
                <a:cubicBezTo>
                  <a:pt x="10515" y="4752"/>
                  <a:pt x="10520" y="4759"/>
                  <a:pt x="10524" y="4766"/>
                </a:cubicBezTo>
              </a:path>
              <a:path w="16222" h="3192">
                <a:moveTo>
                  <a:pt x="10685" y="4500"/>
                </a:moveTo>
                <a:cubicBezTo>
                  <a:pt x="10692" y="4539"/>
                  <a:pt x="10697" y="4580"/>
                  <a:pt x="10702" y="4619"/>
                </a:cubicBezTo>
                <a:cubicBezTo>
                  <a:pt x="10706" y="4657"/>
                  <a:pt x="10702" y="4706"/>
                  <a:pt x="10719" y="4741"/>
                </a:cubicBezTo>
                <a:cubicBezTo>
                  <a:pt x="10728" y="4750"/>
                  <a:pt x="10730" y="4753"/>
                  <a:pt x="10738" y="4746"/>
                </a:cubicBezTo>
                <a:cubicBezTo>
                  <a:pt x="10761" y="4715"/>
                  <a:pt x="10776" y="4680"/>
                  <a:pt x="10792" y="4645"/>
                </a:cubicBezTo>
                <a:cubicBezTo>
                  <a:pt x="10814" y="4597"/>
                  <a:pt x="10837" y="4545"/>
                  <a:pt x="10865" y="4500"/>
                </a:cubicBezTo>
                <a:cubicBezTo>
                  <a:pt x="10880" y="4475"/>
                  <a:pt x="10901" y="4449"/>
                  <a:pt x="10924" y="4432"/>
                </a:cubicBezTo>
              </a:path>
              <a:path w="16222" h="3192">
                <a:moveTo>
                  <a:pt x="10985" y="4646"/>
                </a:moveTo>
                <a:cubicBezTo>
                  <a:pt x="11023" y="4626"/>
                  <a:pt x="11032" y="4606"/>
                  <a:pt x="11058" y="4575"/>
                </a:cubicBezTo>
                <a:cubicBezTo>
                  <a:pt x="11083" y="4545"/>
                  <a:pt x="11111" y="4518"/>
                  <a:pt x="11116" y="4478"/>
                </a:cubicBezTo>
                <a:cubicBezTo>
                  <a:pt x="11116" y="4475"/>
                  <a:pt x="11115" y="4471"/>
                  <a:pt x="11115" y="4468"/>
                </a:cubicBezTo>
                <a:cubicBezTo>
                  <a:pt x="11084" y="4473"/>
                  <a:pt x="11063" y="4499"/>
                  <a:pt x="11042" y="4523"/>
                </a:cubicBezTo>
                <a:cubicBezTo>
                  <a:pt x="11011" y="4560"/>
                  <a:pt x="10981" y="4606"/>
                  <a:pt x="10977" y="4656"/>
                </a:cubicBezTo>
                <a:cubicBezTo>
                  <a:pt x="10974" y="4697"/>
                  <a:pt x="11013" y="4715"/>
                  <a:pt x="11049" y="4714"/>
                </a:cubicBezTo>
                <a:cubicBezTo>
                  <a:pt x="11088" y="4713"/>
                  <a:pt x="11126" y="4693"/>
                  <a:pt x="11161" y="4679"/>
                </a:cubicBezTo>
              </a:path>
              <a:path w="16222" h="3192">
                <a:moveTo>
                  <a:pt x="11658" y="4492"/>
                </a:moveTo>
                <a:cubicBezTo>
                  <a:pt x="11658" y="4524"/>
                  <a:pt x="11656" y="4560"/>
                  <a:pt x="11663" y="4592"/>
                </a:cubicBezTo>
                <a:cubicBezTo>
                  <a:pt x="11672" y="4633"/>
                  <a:pt x="11697" y="4731"/>
                  <a:pt x="11746" y="4744"/>
                </a:cubicBezTo>
                <a:cubicBezTo>
                  <a:pt x="11787" y="4754"/>
                  <a:pt x="11824" y="4695"/>
                  <a:pt x="11839" y="4668"/>
                </a:cubicBezTo>
                <a:cubicBezTo>
                  <a:pt x="11866" y="4619"/>
                  <a:pt x="11885" y="4562"/>
                  <a:pt x="11903" y="4509"/>
                </a:cubicBezTo>
                <a:cubicBezTo>
                  <a:pt x="11910" y="4486"/>
                  <a:pt x="11911" y="4482"/>
                  <a:pt x="11915" y="4468"/>
                </a:cubicBezTo>
                <a:cubicBezTo>
                  <a:pt x="11891" y="4523"/>
                  <a:pt x="11871" y="4579"/>
                  <a:pt x="11850" y="4635"/>
                </a:cubicBezTo>
                <a:cubicBezTo>
                  <a:pt x="11808" y="4745"/>
                  <a:pt x="11769" y="4857"/>
                  <a:pt x="11727" y="4967"/>
                </a:cubicBezTo>
                <a:cubicBezTo>
                  <a:pt x="11704" y="5026"/>
                  <a:pt x="11688" y="5103"/>
                  <a:pt x="11652" y="5156"/>
                </a:cubicBezTo>
                <a:cubicBezTo>
                  <a:pt x="11654" y="5151"/>
                  <a:pt x="11656" y="5145"/>
                  <a:pt x="11658" y="5140"/>
                </a:cubicBezTo>
              </a:path>
              <a:path w="16222" h="3192">
                <a:moveTo>
                  <a:pt x="12116" y="4459"/>
                </a:moveTo>
                <a:cubicBezTo>
                  <a:pt x="12119" y="4443"/>
                  <a:pt x="12121" y="4440"/>
                  <a:pt x="12113" y="4432"/>
                </a:cubicBezTo>
                <a:cubicBezTo>
                  <a:pt x="12077" y="4448"/>
                  <a:pt x="12051" y="4478"/>
                  <a:pt x="12030" y="4513"/>
                </a:cubicBezTo>
                <a:cubicBezTo>
                  <a:pt x="11995" y="4570"/>
                  <a:pt x="11971" y="4636"/>
                  <a:pt x="11966" y="4703"/>
                </a:cubicBezTo>
                <a:cubicBezTo>
                  <a:pt x="11963" y="4746"/>
                  <a:pt x="11983" y="4774"/>
                  <a:pt x="12028" y="4754"/>
                </a:cubicBezTo>
                <a:cubicBezTo>
                  <a:pt x="12081" y="4731"/>
                  <a:pt x="12120" y="4676"/>
                  <a:pt x="12152" y="4630"/>
                </a:cubicBezTo>
                <a:cubicBezTo>
                  <a:pt x="12183" y="4585"/>
                  <a:pt x="12207" y="4541"/>
                  <a:pt x="12217" y="4488"/>
                </a:cubicBezTo>
                <a:cubicBezTo>
                  <a:pt x="12221" y="4468"/>
                  <a:pt x="12221" y="4462"/>
                  <a:pt x="12214" y="4445"/>
                </a:cubicBezTo>
              </a:path>
              <a:path w="16222" h="3192">
                <a:moveTo>
                  <a:pt x="12304" y="4497"/>
                </a:moveTo>
                <a:cubicBezTo>
                  <a:pt x="12306" y="4530"/>
                  <a:pt x="12300" y="4564"/>
                  <a:pt x="12302" y="4597"/>
                </a:cubicBezTo>
                <a:cubicBezTo>
                  <a:pt x="12303" y="4617"/>
                  <a:pt x="12303" y="4668"/>
                  <a:pt x="12324" y="4681"/>
                </a:cubicBezTo>
                <a:cubicBezTo>
                  <a:pt x="12328" y="4681"/>
                  <a:pt x="12331" y="4681"/>
                  <a:pt x="12335" y="4681"/>
                </a:cubicBezTo>
                <a:cubicBezTo>
                  <a:pt x="12364" y="4660"/>
                  <a:pt x="12379" y="4633"/>
                  <a:pt x="12397" y="4601"/>
                </a:cubicBezTo>
                <a:cubicBezTo>
                  <a:pt x="12413" y="4571"/>
                  <a:pt x="12426" y="4526"/>
                  <a:pt x="12449" y="4501"/>
                </a:cubicBezTo>
                <a:cubicBezTo>
                  <a:pt x="12453" y="4499"/>
                  <a:pt x="12457" y="4496"/>
                  <a:pt x="12461" y="4494"/>
                </a:cubicBezTo>
                <a:cubicBezTo>
                  <a:pt x="12467" y="4523"/>
                  <a:pt x="12462" y="4551"/>
                  <a:pt x="12462" y="4581"/>
                </a:cubicBezTo>
                <a:cubicBezTo>
                  <a:pt x="12462" y="4619"/>
                  <a:pt x="12460" y="4660"/>
                  <a:pt x="12467" y="4698"/>
                </a:cubicBezTo>
                <a:cubicBezTo>
                  <a:pt x="12471" y="4722"/>
                  <a:pt x="12478" y="4723"/>
                  <a:pt x="12497" y="4733"/>
                </a:cubicBezTo>
              </a:path>
              <a:path w="16222" h="3192">
                <a:moveTo>
                  <a:pt x="12632" y="4536"/>
                </a:moveTo>
                <a:cubicBezTo>
                  <a:pt x="12630" y="4533"/>
                  <a:pt x="12629" y="4529"/>
                  <a:pt x="12627" y="4526"/>
                </a:cubicBezTo>
                <a:cubicBezTo>
                  <a:pt x="12614" y="4536"/>
                  <a:pt x="12622" y="4562"/>
                  <a:pt x="12625" y="4585"/>
                </a:cubicBezTo>
                <a:cubicBezTo>
                  <a:pt x="12629" y="4615"/>
                  <a:pt x="12634" y="4644"/>
                  <a:pt x="12639" y="4674"/>
                </a:cubicBezTo>
                <a:cubicBezTo>
                  <a:pt x="12658" y="4647"/>
                  <a:pt x="12660" y="4613"/>
                  <a:pt x="12673" y="4581"/>
                </a:cubicBezTo>
                <a:cubicBezTo>
                  <a:pt x="12689" y="4539"/>
                  <a:pt x="12713" y="4495"/>
                  <a:pt x="12752" y="4470"/>
                </a:cubicBezTo>
                <a:cubicBezTo>
                  <a:pt x="12784" y="4449"/>
                  <a:pt x="12815" y="4446"/>
                  <a:pt x="12852" y="4454"/>
                </a:cubicBezTo>
                <a:cubicBezTo>
                  <a:pt x="12874" y="4461"/>
                  <a:pt x="12881" y="4463"/>
                  <a:pt x="12896" y="4467"/>
                </a:cubicBezTo>
              </a:path>
              <a:path w="16222" h="3192">
                <a:moveTo>
                  <a:pt x="13509" y="4178"/>
                </a:moveTo>
                <a:cubicBezTo>
                  <a:pt x="13491" y="4209"/>
                  <a:pt x="13486" y="4224"/>
                  <a:pt x="13482" y="4264"/>
                </a:cubicBezTo>
                <a:cubicBezTo>
                  <a:pt x="13474" y="4334"/>
                  <a:pt x="13481" y="4402"/>
                  <a:pt x="13486" y="4472"/>
                </a:cubicBezTo>
                <a:cubicBezTo>
                  <a:pt x="13489" y="4524"/>
                  <a:pt x="13494" y="4574"/>
                  <a:pt x="13505" y="4625"/>
                </a:cubicBezTo>
                <a:cubicBezTo>
                  <a:pt x="13518" y="4603"/>
                  <a:pt x="13534" y="4563"/>
                  <a:pt x="13547" y="4532"/>
                </a:cubicBezTo>
                <a:cubicBezTo>
                  <a:pt x="13568" y="4482"/>
                  <a:pt x="13592" y="4421"/>
                  <a:pt x="13634" y="4384"/>
                </a:cubicBezTo>
                <a:cubicBezTo>
                  <a:pt x="13673" y="4349"/>
                  <a:pt x="13700" y="4377"/>
                  <a:pt x="13718" y="4414"/>
                </a:cubicBezTo>
                <a:cubicBezTo>
                  <a:pt x="13751" y="4482"/>
                  <a:pt x="13752" y="4558"/>
                  <a:pt x="13769" y="4629"/>
                </a:cubicBezTo>
                <a:cubicBezTo>
                  <a:pt x="13777" y="4663"/>
                  <a:pt x="13781" y="4666"/>
                  <a:pt x="13808" y="4674"/>
                </a:cubicBezTo>
              </a:path>
              <a:path w="16222" h="3192">
                <a:moveTo>
                  <a:pt x="13957" y="4437"/>
                </a:moveTo>
                <a:cubicBezTo>
                  <a:pt x="13959" y="4419"/>
                  <a:pt x="13959" y="4408"/>
                  <a:pt x="13955" y="4390"/>
                </a:cubicBezTo>
                <a:cubicBezTo>
                  <a:pt x="13917" y="4395"/>
                  <a:pt x="13905" y="4415"/>
                  <a:pt x="13886" y="4453"/>
                </a:cubicBezTo>
                <a:cubicBezTo>
                  <a:pt x="13862" y="4500"/>
                  <a:pt x="13846" y="4553"/>
                  <a:pt x="13844" y="4606"/>
                </a:cubicBezTo>
                <a:cubicBezTo>
                  <a:pt x="13843" y="4634"/>
                  <a:pt x="13846" y="4674"/>
                  <a:pt x="13883" y="4666"/>
                </a:cubicBezTo>
                <a:cubicBezTo>
                  <a:pt x="13919" y="4658"/>
                  <a:pt x="13945" y="4614"/>
                  <a:pt x="13966" y="4588"/>
                </a:cubicBezTo>
                <a:cubicBezTo>
                  <a:pt x="13987" y="4561"/>
                  <a:pt x="14001" y="4539"/>
                  <a:pt x="14034" y="4531"/>
                </a:cubicBezTo>
                <a:cubicBezTo>
                  <a:pt x="14053" y="4554"/>
                  <a:pt x="14054" y="4578"/>
                  <a:pt x="14063" y="4605"/>
                </a:cubicBezTo>
                <a:cubicBezTo>
                  <a:pt x="14068" y="4620"/>
                  <a:pt x="14080" y="4673"/>
                  <a:pt x="14103" y="4674"/>
                </a:cubicBezTo>
                <a:cubicBezTo>
                  <a:pt x="14107" y="4672"/>
                  <a:pt x="14112" y="4671"/>
                  <a:pt x="14116" y="4669"/>
                </a:cubicBezTo>
              </a:path>
              <a:path w="16222" h="3192">
                <a:moveTo>
                  <a:pt x="14201" y="4541"/>
                </a:moveTo>
                <a:cubicBezTo>
                  <a:pt x="14215" y="4553"/>
                  <a:pt x="14211" y="4571"/>
                  <a:pt x="14213" y="4592"/>
                </a:cubicBezTo>
                <a:cubicBezTo>
                  <a:pt x="14215" y="4610"/>
                  <a:pt x="14216" y="4616"/>
                  <a:pt x="14227" y="4629"/>
                </a:cubicBezTo>
                <a:cubicBezTo>
                  <a:pt x="14246" y="4596"/>
                  <a:pt x="14256" y="4565"/>
                  <a:pt x="14269" y="4529"/>
                </a:cubicBezTo>
                <a:cubicBezTo>
                  <a:pt x="14276" y="4510"/>
                  <a:pt x="14285" y="4452"/>
                  <a:pt x="14303" y="4439"/>
                </a:cubicBezTo>
                <a:cubicBezTo>
                  <a:pt x="14309" y="4438"/>
                  <a:pt x="14314" y="4436"/>
                  <a:pt x="14320" y="4435"/>
                </a:cubicBezTo>
                <a:cubicBezTo>
                  <a:pt x="14338" y="4457"/>
                  <a:pt x="14353" y="4481"/>
                  <a:pt x="14371" y="4504"/>
                </a:cubicBezTo>
                <a:cubicBezTo>
                  <a:pt x="14391" y="4530"/>
                  <a:pt x="14417" y="4556"/>
                  <a:pt x="14449" y="4567"/>
                </a:cubicBezTo>
                <a:cubicBezTo>
                  <a:pt x="14470" y="4572"/>
                  <a:pt x="14477" y="4573"/>
                  <a:pt x="14491" y="4572"/>
                </a:cubicBezTo>
              </a:path>
              <a:path w="16222" h="3192">
                <a:moveTo>
                  <a:pt x="14692" y="4453"/>
                </a:moveTo>
                <a:cubicBezTo>
                  <a:pt x="14673" y="4427"/>
                  <a:pt x="14640" y="4430"/>
                  <a:pt x="14612" y="4449"/>
                </a:cubicBezTo>
                <a:cubicBezTo>
                  <a:pt x="14576" y="4473"/>
                  <a:pt x="14546" y="4515"/>
                  <a:pt x="14528" y="4554"/>
                </a:cubicBezTo>
                <a:cubicBezTo>
                  <a:pt x="14515" y="4582"/>
                  <a:pt x="14516" y="4590"/>
                  <a:pt x="14527" y="4615"/>
                </a:cubicBezTo>
                <a:cubicBezTo>
                  <a:pt x="14566" y="4613"/>
                  <a:pt x="14599" y="4594"/>
                  <a:pt x="14627" y="4565"/>
                </a:cubicBezTo>
                <a:cubicBezTo>
                  <a:pt x="14674" y="4517"/>
                  <a:pt x="14706" y="4451"/>
                  <a:pt x="14730" y="4389"/>
                </a:cubicBezTo>
                <a:cubicBezTo>
                  <a:pt x="14747" y="4344"/>
                  <a:pt x="14762" y="4296"/>
                  <a:pt x="14767" y="4248"/>
                </a:cubicBezTo>
                <a:cubicBezTo>
                  <a:pt x="14767" y="4244"/>
                  <a:pt x="14767" y="4239"/>
                  <a:pt x="14767" y="4235"/>
                </a:cubicBezTo>
                <a:cubicBezTo>
                  <a:pt x="14755" y="4280"/>
                  <a:pt x="14749" y="4326"/>
                  <a:pt x="14752" y="4373"/>
                </a:cubicBezTo>
                <a:cubicBezTo>
                  <a:pt x="14756" y="4442"/>
                  <a:pt x="14766" y="4506"/>
                  <a:pt x="14799" y="4568"/>
                </a:cubicBezTo>
                <a:cubicBezTo>
                  <a:pt x="14821" y="4601"/>
                  <a:pt x="14827" y="4612"/>
                  <a:pt x="14849" y="4628"/>
                </a:cubicBezTo>
              </a:path>
              <a:path w="16222" h="3192">
                <a:moveTo>
                  <a:pt x="15125" y="4667"/>
                </a:moveTo>
                <a:cubicBezTo>
                  <a:pt x="15131" y="4645"/>
                  <a:pt x="15129" y="4628"/>
                  <a:pt x="15120" y="4604"/>
                </a:cubicBezTo>
                <a:cubicBezTo>
                  <a:pt x="15113" y="4590"/>
                  <a:pt x="15111" y="4587"/>
                  <a:pt x="15103" y="4581"/>
                </a:cubicBezTo>
              </a:path>
              <a:path w="16222" h="3192">
                <a:moveTo>
                  <a:pt x="13000" y="6569"/>
                </a:moveTo>
                <a:cubicBezTo>
                  <a:pt x="12995" y="6586"/>
                  <a:pt x="12979" y="6588"/>
                  <a:pt x="12976" y="6605"/>
                </a:cubicBezTo>
                <a:cubicBezTo>
                  <a:pt x="12972" y="6629"/>
                  <a:pt x="12974" y="6653"/>
                  <a:pt x="12972" y="6677"/>
                </a:cubicBezTo>
                <a:cubicBezTo>
                  <a:pt x="12961" y="6834"/>
                  <a:pt x="12975" y="7069"/>
                  <a:pt x="13131" y="7153"/>
                </a:cubicBezTo>
                <a:cubicBezTo>
                  <a:pt x="13239" y="7211"/>
                  <a:pt x="13433" y="7168"/>
                  <a:pt x="13549" y="7165"/>
                </a:cubicBezTo>
                <a:cubicBezTo>
                  <a:pt x="13951" y="7155"/>
                  <a:pt x="14359" y="7160"/>
                  <a:pt x="14760" y="7177"/>
                </a:cubicBezTo>
                <a:cubicBezTo>
                  <a:pt x="15210" y="7196"/>
                  <a:pt x="15648" y="7307"/>
                  <a:pt x="16100" y="7288"/>
                </a:cubicBezTo>
                <a:cubicBezTo>
                  <a:pt x="16407" y="7275"/>
                  <a:pt x="16726" y="7272"/>
                  <a:pt x="17029" y="7216"/>
                </a:cubicBezTo>
                <a:cubicBezTo>
                  <a:pt x="17229" y="7179"/>
                  <a:pt x="17488" y="7097"/>
                  <a:pt x="17607" y="6920"/>
                </a:cubicBezTo>
                <a:cubicBezTo>
                  <a:pt x="17661" y="6840"/>
                  <a:pt x="17685" y="6696"/>
                  <a:pt x="17597" y="6625"/>
                </a:cubicBezTo>
                <a:cubicBezTo>
                  <a:pt x="17572" y="6605"/>
                  <a:pt x="17577" y="6603"/>
                  <a:pt x="17559" y="6602"/>
                </a:cubicBezTo>
                <a:cubicBezTo>
                  <a:pt x="17556" y="6602"/>
                  <a:pt x="17516" y="6642"/>
                  <a:pt x="17509" y="664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>
            <a:off x="6845400" y="1351080"/>
            <a:ext cx="1152360" cy="561960"/>
          </a:xfrm>
          <a:custGeom>
            <a:avLst/>
            <a:gdLst/>
            <a:ahLst/>
            <a:rect l="l" t="t" r="r" b="b"/>
            <a:pathLst>
              <a:path w="3201" h="1559">
                <a:moveTo>
                  <a:pt x="19066" y="3953"/>
                </a:moveTo>
                <a:cubicBezTo>
                  <a:pt x="19068" y="3993"/>
                  <a:pt x="19059" y="4029"/>
                  <a:pt x="19057" y="4068"/>
                </a:cubicBezTo>
                <a:cubicBezTo>
                  <a:pt x="19053" y="4152"/>
                  <a:pt x="19052" y="4237"/>
                  <a:pt x="19052" y="4321"/>
                </a:cubicBezTo>
                <a:cubicBezTo>
                  <a:pt x="19052" y="4404"/>
                  <a:pt x="19054" y="4488"/>
                  <a:pt x="19055" y="4571"/>
                </a:cubicBezTo>
                <a:cubicBezTo>
                  <a:pt x="19055" y="4596"/>
                  <a:pt x="19055" y="4620"/>
                  <a:pt x="19055" y="4644"/>
                </a:cubicBezTo>
                <a:cubicBezTo>
                  <a:pt x="19039" y="4566"/>
                  <a:pt x="19031" y="4485"/>
                  <a:pt x="19023" y="4406"/>
                </a:cubicBezTo>
                <a:cubicBezTo>
                  <a:pt x="19012" y="4298"/>
                  <a:pt x="19011" y="4189"/>
                  <a:pt x="19018" y="4080"/>
                </a:cubicBezTo>
                <a:cubicBezTo>
                  <a:pt x="19024" y="3990"/>
                  <a:pt x="19029" y="3906"/>
                  <a:pt x="19098" y="3846"/>
                </a:cubicBezTo>
                <a:cubicBezTo>
                  <a:pt x="19160" y="3848"/>
                  <a:pt x="19193" y="3876"/>
                  <a:pt x="19231" y="3928"/>
                </a:cubicBezTo>
                <a:cubicBezTo>
                  <a:pt x="19279" y="3994"/>
                  <a:pt x="19307" y="4080"/>
                  <a:pt x="19300" y="4162"/>
                </a:cubicBezTo>
                <a:cubicBezTo>
                  <a:pt x="19294" y="4232"/>
                  <a:pt x="19262" y="4290"/>
                  <a:pt x="19197" y="4319"/>
                </a:cubicBezTo>
                <a:cubicBezTo>
                  <a:pt x="19158" y="4336"/>
                  <a:pt x="19109" y="4338"/>
                  <a:pt x="19097" y="4289"/>
                </a:cubicBezTo>
                <a:cubicBezTo>
                  <a:pt x="19089" y="4255"/>
                  <a:pt x="19107" y="4236"/>
                  <a:pt x="19124" y="4210"/>
                </a:cubicBezTo>
              </a:path>
              <a:path w="3201" h="1559">
                <a:moveTo>
                  <a:pt x="19338" y="4340"/>
                </a:moveTo>
                <a:cubicBezTo>
                  <a:pt x="19360" y="4403"/>
                  <a:pt x="19379" y="4466"/>
                  <a:pt x="19396" y="4530"/>
                </a:cubicBezTo>
                <a:cubicBezTo>
                  <a:pt x="19398" y="4537"/>
                  <a:pt x="19401" y="4545"/>
                  <a:pt x="19403" y="4552"/>
                </a:cubicBezTo>
                <a:cubicBezTo>
                  <a:pt x="19391" y="4512"/>
                  <a:pt x="19392" y="4470"/>
                  <a:pt x="19395" y="4428"/>
                </a:cubicBezTo>
                <a:cubicBezTo>
                  <a:pt x="19400" y="4353"/>
                  <a:pt x="19414" y="4271"/>
                  <a:pt x="19453" y="4205"/>
                </a:cubicBezTo>
                <a:cubicBezTo>
                  <a:pt x="19488" y="4146"/>
                  <a:pt x="19532" y="4103"/>
                  <a:pt x="19597" y="4080"/>
                </a:cubicBezTo>
                <a:cubicBezTo>
                  <a:pt x="19641" y="4068"/>
                  <a:pt x="19655" y="4064"/>
                  <a:pt x="19685" y="4060"/>
                </a:cubicBezTo>
              </a:path>
              <a:path w="3201" h="1559">
                <a:moveTo>
                  <a:pt x="19873" y="3934"/>
                </a:moveTo>
                <a:cubicBezTo>
                  <a:pt x="19870" y="3922"/>
                  <a:pt x="19869" y="3919"/>
                  <a:pt x="19867" y="3911"/>
                </a:cubicBezTo>
                <a:cubicBezTo>
                  <a:pt x="19841" y="3942"/>
                  <a:pt x="19837" y="3989"/>
                  <a:pt x="19827" y="4031"/>
                </a:cubicBezTo>
                <a:cubicBezTo>
                  <a:pt x="19806" y="4117"/>
                  <a:pt x="19791" y="4207"/>
                  <a:pt x="19783" y="4295"/>
                </a:cubicBezTo>
                <a:cubicBezTo>
                  <a:pt x="19777" y="4364"/>
                  <a:pt x="19767" y="4446"/>
                  <a:pt x="19799" y="4511"/>
                </a:cubicBezTo>
                <a:cubicBezTo>
                  <a:pt x="19818" y="4536"/>
                  <a:pt x="19822" y="4544"/>
                  <a:pt x="19843" y="4549"/>
                </a:cubicBezTo>
              </a:path>
              <a:path w="3201" h="1559">
                <a:moveTo>
                  <a:pt x="20110" y="4110"/>
                </a:moveTo>
                <a:cubicBezTo>
                  <a:pt x="20111" y="4090"/>
                  <a:pt x="20112" y="4086"/>
                  <a:pt x="20109" y="4075"/>
                </a:cubicBezTo>
                <a:cubicBezTo>
                  <a:pt x="20077" y="4103"/>
                  <a:pt x="20065" y="4155"/>
                  <a:pt x="20052" y="4200"/>
                </a:cubicBezTo>
                <a:cubicBezTo>
                  <a:pt x="20025" y="4295"/>
                  <a:pt x="20002" y="4395"/>
                  <a:pt x="19995" y="4494"/>
                </a:cubicBezTo>
                <a:cubicBezTo>
                  <a:pt x="19993" y="4518"/>
                  <a:pt x="19988" y="4582"/>
                  <a:pt x="20027" y="4583"/>
                </a:cubicBezTo>
                <a:cubicBezTo>
                  <a:pt x="20057" y="4584"/>
                  <a:pt x="20099" y="4553"/>
                  <a:pt x="20123" y="4538"/>
                </a:cubicBezTo>
                <a:cubicBezTo>
                  <a:pt x="20158" y="4516"/>
                  <a:pt x="20194" y="4499"/>
                  <a:pt x="20226" y="4472"/>
                </a:cubicBezTo>
                <a:cubicBezTo>
                  <a:pt x="20245" y="4454"/>
                  <a:pt x="20251" y="4448"/>
                  <a:pt x="20259" y="4432"/>
                </a:cubicBezTo>
              </a:path>
              <a:path w="3201" h="1559">
                <a:moveTo>
                  <a:pt x="20080" y="4306"/>
                </a:moveTo>
                <a:cubicBezTo>
                  <a:pt x="20049" y="4308"/>
                  <a:pt x="20134" y="4295"/>
                  <a:pt x="20137" y="4295"/>
                </a:cubicBezTo>
                <a:cubicBezTo>
                  <a:pt x="20183" y="4292"/>
                  <a:pt x="20231" y="4298"/>
                  <a:pt x="20276" y="4281"/>
                </a:cubicBezTo>
                <a:cubicBezTo>
                  <a:pt x="20283" y="4277"/>
                  <a:pt x="20289" y="4273"/>
                  <a:pt x="20296" y="4269"/>
                </a:cubicBezTo>
              </a:path>
              <a:path w="3201" h="1559">
                <a:moveTo>
                  <a:pt x="20080" y="4188"/>
                </a:moveTo>
                <a:cubicBezTo>
                  <a:pt x="20056" y="4185"/>
                  <a:pt x="20050" y="4185"/>
                  <a:pt x="20037" y="4176"/>
                </a:cubicBezTo>
                <a:cubicBezTo>
                  <a:pt x="20068" y="4147"/>
                  <a:pt x="20105" y="4134"/>
                  <a:pt x="20147" y="4124"/>
                </a:cubicBezTo>
                <a:cubicBezTo>
                  <a:pt x="20189" y="4114"/>
                  <a:pt x="20233" y="4106"/>
                  <a:pt x="20276" y="4097"/>
                </a:cubicBezTo>
              </a:path>
              <a:path w="3201" h="1559">
                <a:moveTo>
                  <a:pt x="20310" y="3977"/>
                </a:moveTo>
                <a:cubicBezTo>
                  <a:pt x="20336" y="3961"/>
                  <a:pt x="20361" y="3977"/>
                  <a:pt x="20386" y="3999"/>
                </a:cubicBezTo>
                <a:cubicBezTo>
                  <a:pt x="20442" y="4049"/>
                  <a:pt x="20468" y="4120"/>
                  <a:pt x="20480" y="4192"/>
                </a:cubicBezTo>
                <a:cubicBezTo>
                  <a:pt x="20494" y="4281"/>
                  <a:pt x="20487" y="4378"/>
                  <a:pt x="20461" y="4464"/>
                </a:cubicBezTo>
                <a:cubicBezTo>
                  <a:pt x="20450" y="4502"/>
                  <a:pt x="20430" y="4533"/>
                  <a:pt x="20409" y="4566"/>
                </a:cubicBezTo>
              </a:path>
              <a:path w="3201" h="1559">
                <a:moveTo>
                  <a:pt x="20749" y="4271"/>
                </a:moveTo>
                <a:cubicBezTo>
                  <a:pt x="20743" y="4256"/>
                  <a:pt x="20738" y="4242"/>
                  <a:pt x="20731" y="4227"/>
                </a:cubicBezTo>
                <a:cubicBezTo>
                  <a:pt x="20762" y="4220"/>
                  <a:pt x="20783" y="4220"/>
                  <a:pt x="20816" y="4224"/>
                </a:cubicBezTo>
                <a:cubicBezTo>
                  <a:pt x="20868" y="4231"/>
                  <a:pt x="20920" y="4234"/>
                  <a:pt x="20973" y="4238"/>
                </a:cubicBezTo>
              </a:path>
              <a:path w="3201" h="1559">
                <a:moveTo>
                  <a:pt x="20752" y="4439"/>
                </a:moveTo>
                <a:cubicBezTo>
                  <a:pt x="20755" y="4467"/>
                  <a:pt x="20814" y="4434"/>
                  <a:pt x="20843" y="4427"/>
                </a:cubicBezTo>
                <a:cubicBezTo>
                  <a:pt x="20899" y="4413"/>
                  <a:pt x="20953" y="4397"/>
                  <a:pt x="21008" y="4380"/>
                </a:cubicBezTo>
              </a:path>
              <a:path w="3201" h="1559">
                <a:moveTo>
                  <a:pt x="21436" y="3852"/>
                </a:moveTo>
                <a:cubicBezTo>
                  <a:pt x="21445" y="3906"/>
                  <a:pt x="21434" y="3954"/>
                  <a:pt x="21429" y="4008"/>
                </a:cubicBezTo>
                <a:cubicBezTo>
                  <a:pt x="21418" y="4124"/>
                  <a:pt x="21410" y="4240"/>
                  <a:pt x="21421" y="4356"/>
                </a:cubicBezTo>
                <a:cubicBezTo>
                  <a:pt x="21426" y="4394"/>
                  <a:pt x="21427" y="4403"/>
                  <a:pt x="21436" y="4425"/>
                </a:cubicBezTo>
              </a:path>
              <a:path w="3201" h="1559">
                <a:moveTo>
                  <a:pt x="21688" y="3843"/>
                </a:moveTo>
                <a:cubicBezTo>
                  <a:pt x="21691" y="3879"/>
                  <a:pt x="21674" y="3915"/>
                  <a:pt x="21665" y="3952"/>
                </a:cubicBezTo>
                <a:cubicBezTo>
                  <a:pt x="21649" y="4018"/>
                  <a:pt x="21633" y="4084"/>
                  <a:pt x="21618" y="4151"/>
                </a:cubicBezTo>
                <a:cubicBezTo>
                  <a:pt x="21607" y="4198"/>
                  <a:pt x="21597" y="4246"/>
                  <a:pt x="21594" y="4294"/>
                </a:cubicBezTo>
                <a:cubicBezTo>
                  <a:pt x="21593" y="4311"/>
                  <a:pt x="21589" y="4347"/>
                  <a:pt x="21610" y="4355"/>
                </a:cubicBezTo>
                <a:cubicBezTo>
                  <a:pt x="21640" y="4367"/>
                  <a:pt x="21682" y="4350"/>
                  <a:pt x="21711" y="4344"/>
                </a:cubicBezTo>
                <a:cubicBezTo>
                  <a:pt x="21757" y="4334"/>
                  <a:pt x="21806" y="4326"/>
                  <a:pt x="21851" y="4311"/>
                </a:cubicBezTo>
                <a:cubicBezTo>
                  <a:pt x="21880" y="4301"/>
                  <a:pt x="21890" y="4291"/>
                  <a:pt x="21891" y="4263"/>
                </a:cubicBezTo>
              </a:path>
              <a:path w="3201" h="1559">
                <a:moveTo>
                  <a:pt x="21630" y="4137"/>
                </a:moveTo>
                <a:cubicBezTo>
                  <a:pt x="21596" y="4149"/>
                  <a:pt x="21689" y="4133"/>
                  <a:pt x="21700" y="4132"/>
                </a:cubicBezTo>
                <a:cubicBezTo>
                  <a:pt x="21740" y="4129"/>
                  <a:pt x="21791" y="4125"/>
                  <a:pt x="21829" y="4109"/>
                </a:cubicBezTo>
                <a:cubicBezTo>
                  <a:pt x="21840" y="4101"/>
                  <a:pt x="21844" y="4099"/>
                  <a:pt x="21847" y="4090"/>
                </a:cubicBezTo>
              </a:path>
              <a:path w="3201" h="1559">
                <a:moveTo>
                  <a:pt x="21677" y="3988"/>
                </a:moveTo>
                <a:cubicBezTo>
                  <a:pt x="21670" y="3966"/>
                  <a:pt x="21681" y="3944"/>
                  <a:pt x="21704" y="3930"/>
                </a:cubicBezTo>
                <a:cubicBezTo>
                  <a:pt x="21735" y="3911"/>
                  <a:pt x="21776" y="3895"/>
                  <a:pt x="21811" y="3889"/>
                </a:cubicBezTo>
                <a:cubicBezTo>
                  <a:pt x="21838" y="3884"/>
                  <a:pt x="21860" y="3881"/>
                  <a:pt x="21883" y="3868"/>
                </a:cubicBezTo>
              </a:path>
              <a:path w="3201" h="1559">
                <a:moveTo>
                  <a:pt x="22019" y="3754"/>
                </a:moveTo>
                <a:cubicBezTo>
                  <a:pt x="22033" y="3790"/>
                  <a:pt x="22029" y="3818"/>
                  <a:pt x="22033" y="3855"/>
                </a:cubicBezTo>
                <a:cubicBezTo>
                  <a:pt x="22040" y="3921"/>
                  <a:pt x="22048" y="3990"/>
                  <a:pt x="22043" y="4057"/>
                </a:cubicBezTo>
                <a:cubicBezTo>
                  <a:pt x="22039" y="4109"/>
                  <a:pt x="22033" y="4160"/>
                  <a:pt x="22035" y="4213"/>
                </a:cubicBezTo>
                <a:cubicBezTo>
                  <a:pt x="22036" y="4221"/>
                  <a:pt x="22036" y="4228"/>
                  <a:pt x="22037" y="4236"/>
                </a:cubicBezTo>
              </a:path>
              <a:path w="3201" h="1559">
                <a:moveTo>
                  <a:pt x="21339" y="4561"/>
                </a:moveTo>
                <a:cubicBezTo>
                  <a:pt x="21385" y="4570"/>
                  <a:pt x="21423" y="4562"/>
                  <a:pt x="21469" y="4560"/>
                </a:cubicBezTo>
                <a:cubicBezTo>
                  <a:pt x="21573" y="4556"/>
                  <a:pt x="21678" y="4555"/>
                  <a:pt x="21782" y="4551"/>
                </a:cubicBezTo>
                <a:cubicBezTo>
                  <a:pt x="21885" y="4547"/>
                  <a:pt x="21987" y="4541"/>
                  <a:pt x="22090" y="4537"/>
                </a:cubicBezTo>
                <a:cubicBezTo>
                  <a:pt x="22132" y="4535"/>
                  <a:pt x="22172" y="4533"/>
                  <a:pt x="22214" y="4528"/>
                </a:cubicBezTo>
              </a:path>
              <a:path w="3201" h="1559">
                <a:moveTo>
                  <a:pt x="21327" y="4809"/>
                </a:moveTo>
                <a:cubicBezTo>
                  <a:pt x="21323" y="4791"/>
                  <a:pt x="21321" y="4787"/>
                  <a:pt x="21321" y="4776"/>
                </a:cubicBezTo>
                <a:cubicBezTo>
                  <a:pt x="21329" y="4825"/>
                  <a:pt x="21331" y="4875"/>
                  <a:pt x="21336" y="4924"/>
                </a:cubicBezTo>
                <a:cubicBezTo>
                  <a:pt x="21345" y="5007"/>
                  <a:pt x="21353" y="5090"/>
                  <a:pt x="21364" y="5173"/>
                </a:cubicBezTo>
                <a:cubicBezTo>
                  <a:pt x="21367" y="5192"/>
                  <a:pt x="21373" y="5282"/>
                  <a:pt x="21405" y="5282"/>
                </a:cubicBezTo>
                <a:cubicBezTo>
                  <a:pt x="21422" y="5274"/>
                  <a:pt x="21429" y="5270"/>
                  <a:pt x="21438" y="5258"/>
                </a:cubicBezTo>
              </a:path>
              <a:path w="3201" h="1559">
                <a:moveTo>
                  <a:pt x="21766" y="4782"/>
                </a:moveTo>
                <a:cubicBezTo>
                  <a:pt x="21769" y="4778"/>
                  <a:pt x="21772" y="4773"/>
                  <a:pt x="21775" y="4769"/>
                </a:cubicBezTo>
                <a:cubicBezTo>
                  <a:pt x="21745" y="4758"/>
                  <a:pt x="21710" y="4783"/>
                  <a:pt x="21679" y="4803"/>
                </a:cubicBezTo>
                <a:cubicBezTo>
                  <a:pt x="21634" y="4831"/>
                  <a:pt x="21583" y="4864"/>
                  <a:pt x="21555" y="4910"/>
                </a:cubicBezTo>
                <a:cubicBezTo>
                  <a:pt x="21529" y="4953"/>
                  <a:pt x="21580" y="4978"/>
                  <a:pt x="21611" y="4996"/>
                </a:cubicBezTo>
                <a:cubicBezTo>
                  <a:pt x="21663" y="5027"/>
                  <a:pt x="21721" y="5047"/>
                  <a:pt x="21768" y="5087"/>
                </a:cubicBezTo>
                <a:cubicBezTo>
                  <a:pt x="21796" y="5111"/>
                  <a:pt x="21826" y="5149"/>
                  <a:pt x="21808" y="5188"/>
                </a:cubicBezTo>
                <a:cubicBezTo>
                  <a:pt x="21795" y="5215"/>
                  <a:pt x="21759" y="5229"/>
                  <a:pt x="21731" y="5228"/>
                </a:cubicBezTo>
                <a:cubicBezTo>
                  <a:pt x="21698" y="5227"/>
                  <a:pt x="21690" y="5202"/>
                  <a:pt x="21690" y="5174"/>
                </a:cubicBezTo>
                <a:cubicBezTo>
                  <a:pt x="21692" y="5148"/>
                  <a:pt x="21693" y="5138"/>
                  <a:pt x="21700" y="5121"/>
                </a:cubicBezTo>
              </a:path>
              <a:path w="3201" h="1559">
                <a:moveTo>
                  <a:pt x="22040" y="4748"/>
                </a:moveTo>
                <a:cubicBezTo>
                  <a:pt x="22052" y="4762"/>
                  <a:pt x="22042" y="4802"/>
                  <a:pt x="22040" y="4826"/>
                </a:cubicBezTo>
                <a:cubicBezTo>
                  <a:pt x="22035" y="4899"/>
                  <a:pt x="22034" y="4972"/>
                  <a:pt x="22037" y="5046"/>
                </a:cubicBezTo>
                <a:cubicBezTo>
                  <a:pt x="22040" y="5114"/>
                  <a:pt x="22042" y="5189"/>
                  <a:pt x="22059" y="5255"/>
                </a:cubicBezTo>
                <a:cubicBezTo>
                  <a:pt x="22065" y="5279"/>
                  <a:pt x="22076" y="5294"/>
                  <a:pt x="22091" y="531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1461960" y="3797280"/>
            <a:ext cx="133560" cy="74520"/>
          </a:xfrm>
          <a:custGeom>
            <a:avLst/>
            <a:gdLst/>
            <a:ahLst/>
            <a:rect l="l" t="t" r="r" b="b"/>
            <a:pathLst>
              <a:path w="370" h="205">
                <a:moveTo>
                  <a:pt x="4083" y="10753"/>
                </a:moveTo>
                <a:cubicBezTo>
                  <a:pt x="4053" y="10703"/>
                  <a:pt x="4068" y="10685"/>
                  <a:pt x="4109" y="10644"/>
                </a:cubicBezTo>
                <a:cubicBezTo>
                  <a:pt x="4162" y="10591"/>
                  <a:pt x="4229" y="10560"/>
                  <a:pt x="4304" y="10550"/>
                </a:cubicBezTo>
                <a:cubicBezTo>
                  <a:pt x="4354" y="10544"/>
                  <a:pt x="4387" y="10557"/>
                  <a:pt x="4432" y="1057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1413000" y="3794040"/>
            <a:ext cx="272880" cy="290520"/>
          </a:xfrm>
          <a:custGeom>
            <a:avLst/>
            <a:gdLst/>
            <a:ahLst/>
            <a:rect l="l" t="t" r="r" b="b"/>
            <a:pathLst>
              <a:path w="756" h="806">
                <a:moveTo>
                  <a:pt x="4010" y="10540"/>
                </a:moveTo>
                <a:cubicBezTo>
                  <a:pt x="4014" y="10566"/>
                  <a:pt x="4011" y="10602"/>
                  <a:pt x="4003" y="10628"/>
                </a:cubicBezTo>
                <a:cubicBezTo>
                  <a:pt x="3985" y="10688"/>
                  <a:pt x="3971" y="10748"/>
                  <a:pt x="3957" y="10810"/>
                </a:cubicBezTo>
                <a:cubicBezTo>
                  <a:pt x="3940" y="10885"/>
                  <a:pt x="3899" y="11000"/>
                  <a:pt x="3938" y="11074"/>
                </a:cubicBezTo>
                <a:cubicBezTo>
                  <a:pt x="3962" y="11119"/>
                  <a:pt x="4023" y="11123"/>
                  <a:pt x="4068" y="11123"/>
                </a:cubicBezTo>
                <a:cubicBezTo>
                  <a:pt x="4135" y="11123"/>
                  <a:pt x="4200" y="11112"/>
                  <a:pt x="4265" y="11101"/>
                </a:cubicBezTo>
                <a:cubicBezTo>
                  <a:pt x="4307" y="11094"/>
                  <a:pt x="4339" y="11092"/>
                  <a:pt x="4372" y="11065"/>
                </a:cubicBezTo>
              </a:path>
              <a:path w="756" h="806">
                <a:moveTo>
                  <a:pt x="4145" y="10970"/>
                </a:moveTo>
                <a:cubicBezTo>
                  <a:pt x="4180" y="10939"/>
                  <a:pt x="4224" y="10918"/>
                  <a:pt x="4270" y="10903"/>
                </a:cubicBezTo>
                <a:cubicBezTo>
                  <a:pt x="4320" y="10886"/>
                  <a:pt x="4377" y="10881"/>
                  <a:pt x="4425" y="10859"/>
                </a:cubicBezTo>
                <a:cubicBezTo>
                  <a:pt x="4429" y="10856"/>
                  <a:pt x="4434" y="10853"/>
                  <a:pt x="4438" y="10850"/>
                </a:cubicBezTo>
              </a:path>
              <a:path w="756" h="806">
                <a:moveTo>
                  <a:pt x="4678" y="10938"/>
                </a:moveTo>
                <a:cubicBezTo>
                  <a:pt x="4679" y="10999"/>
                  <a:pt x="4680" y="11064"/>
                  <a:pt x="4672" y="11124"/>
                </a:cubicBezTo>
                <a:cubicBezTo>
                  <a:pt x="4665" y="11180"/>
                  <a:pt x="4649" y="11236"/>
                  <a:pt x="4641" y="11291"/>
                </a:cubicBezTo>
                <a:cubicBezTo>
                  <a:pt x="4638" y="11310"/>
                  <a:pt x="4640" y="11327"/>
                  <a:pt x="4641" y="1134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1878120" y="3846600"/>
            <a:ext cx="110880" cy="120600"/>
          </a:xfrm>
          <a:custGeom>
            <a:avLst/>
            <a:gdLst/>
            <a:ahLst/>
            <a:rect l="l" t="t" r="r" b="b"/>
            <a:pathLst>
              <a:path w="310" h="335">
                <a:moveTo>
                  <a:pt x="5265" y="10683"/>
                </a:moveTo>
                <a:cubicBezTo>
                  <a:pt x="5306" y="10692"/>
                  <a:pt x="5349" y="10688"/>
                  <a:pt x="5392" y="10693"/>
                </a:cubicBezTo>
                <a:cubicBezTo>
                  <a:pt x="5438" y="10699"/>
                  <a:pt x="5482" y="10707"/>
                  <a:pt x="5526" y="10721"/>
                </a:cubicBezTo>
              </a:path>
              <a:path w="310" h="335">
                <a:moveTo>
                  <a:pt x="5258" y="10981"/>
                </a:moveTo>
                <a:cubicBezTo>
                  <a:pt x="5235" y="10999"/>
                  <a:pt x="5229" y="11004"/>
                  <a:pt x="5217" y="11017"/>
                </a:cubicBezTo>
                <a:cubicBezTo>
                  <a:pt x="5272" y="11013"/>
                  <a:pt x="5329" y="11007"/>
                  <a:pt x="5384" y="11006"/>
                </a:cubicBezTo>
                <a:cubicBezTo>
                  <a:pt x="5436" y="11008"/>
                  <a:pt x="5453" y="11009"/>
                  <a:pt x="5487" y="1100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2281320" y="3781440"/>
            <a:ext cx="106200" cy="245880"/>
          </a:xfrm>
          <a:custGeom>
            <a:avLst/>
            <a:gdLst/>
            <a:ahLst/>
            <a:rect l="l" t="t" r="r" b="b"/>
            <a:pathLst>
              <a:path w="297" h="685">
                <a:moveTo>
                  <a:pt x="6583" y="10523"/>
                </a:moveTo>
                <a:cubicBezTo>
                  <a:pt x="6549" y="10501"/>
                  <a:pt x="6510" y="10498"/>
                  <a:pt x="6468" y="10505"/>
                </a:cubicBezTo>
                <a:cubicBezTo>
                  <a:pt x="6430" y="10511"/>
                  <a:pt x="6380" y="10524"/>
                  <a:pt x="6347" y="10546"/>
                </a:cubicBezTo>
                <a:cubicBezTo>
                  <a:pt x="6344" y="10549"/>
                  <a:pt x="6340" y="10553"/>
                  <a:pt x="6337" y="10556"/>
                </a:cubicBezTo>
                <a:cubicBezTo>
                  <a:pt x="6372" y="10573"/>
                  <a:pt x="6409" y="10574"/>
                  <a:pt x="6447" y="10586"/>
                </a:cubicBezTo>
                <a:cubicBezTo>
                  <a:pt x="6490" y="10599"/>
                  <a:pt x="6536" y="10622"/>
                  <a:pt x="6548" y="10669"/>
                </a:cubicBezTo>
                <a:cubicBezTo>
                  <a:pt x="6563" y="10726"/>
                  <a:pt x="6531" y="10785"/>
                  <a:pt x="6505" y="10833"/>
                </a:cubicBezTo>
                <a:cubicBezTo>
                  <a:pt x="6481" y="10878"/>
                  <a:pt x="6450" y="10920"/>
                  <a:pt x="6438" y="10964"/>
                </a:cubicBezTo>
                <a:cubicBezTo>
                  <a:pt x="6468" y="10959"/>
                  <a:pt x="6499" y="10953"/>
                  <a:pt x="6530" y="10956"/>
                </a:cubicBezTo>
                <a:cubicBezTo>
                  <a:pt x="6578" y="10961"/>
                  <a:pt x="6595" y="11002"/>
                  <a:pt x="6587" y="11047"/>
                </a:cubicBezTo>
                <a:cubicBezTo>
                  <a:pt x="6580" y="11086"/>
                  <a:pt x="6559" y="11117"/>
                  <a:pt x="6542" y="11152"/>
                </a:cubicBezTo>
                <a:cubicBezTo>
                  <a:pt x="6528" y="11182"/>
                  <a:pt x="6538" y="11165"/>
                  <a:pt x="6542" y="11185"/>
                </a:cubicBezTo>
                <a:cubicBezTo>
                  <a:pt x="6573" y="11185"/>
                  <a:pt x="6602" y="11178"/>
                  <a:pt x="6633" y="1117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2600280" y="3738600"/>
            <a:ext cx="300240" cy="225360"/>
          </a:xfrm>
          <a:custGeom>
            <a:avLst/>
            <a:gdLst/>
            <a:ahLst/>
            <a:rect l="l" t="t" r="r" b="b"/>
            <a:pathLst>
              <a:path w="831" h="628">
                <a:moveTo>
                  <a:pt x="7363" y="10715"/>
                </a:moveTo>
                <a:cubicBezTo>
                  <a:pt x="7338" y="10702"/>
                  <a:pt x="7335" y="10691"/>
                  <a:pt x="7306" y="10707"/>
                </a:cubicBezTo>
                <a:cubicBezTo>
                  <a:pt x="7282" y="10721"/>
                  <a:pt x="7263" y="10743"/>
                  <a:pt x="7250" y="10767"/>
                </a:cubicBezTo>
                <a:cubicBezTo>
                  <a:pt x="7237" y="10792"/>
                  <a:pt x="7227" y="10824"/>
                  <a:pt x="7224" y="10852"/>
                </a:cubicBezTo>
                <a:cubicBezTo>
                  <a:pt x="7222" y="10871"/>
                  <a:pt x="7226" y="10885"/>
                  <a:pt x="7231" y="10903"/>
                </a:cubicBezTo>
                <a:cubicBezTo>
                  <a:pt x="7269" y="10911"/>
                  <a:pt x="7281" y="10898"/>
                  <a:pt x="7308" y="10867"/>
                </a:cubicBezTo>
                <a:cubicBezTo>
                  <a:pt x="7349" y="10820"/>
                  <a:pt x="7371" y="10759"/>
                  <a:pt x="7385" y="10699"/>
                </a:cubicBezTo>
                <a:cubicBezTo>
                  <a:pt x="7402" y="10627"/>
                  <a:pt x="7405" y="10552"/>
                  <a:pt x="7394" y="10478"/>
                </a:cubicBezTo>
                <a:cubicBezTo>
                  <a:pt x="7388" y="10440"/>
                  <a:pt x="7383" y="10398"/>
                  <a:pt x="7348" y="10384"/>
                </a:cubicBezTo>
                <a:cubicBezTo>
                  <a:pt x="7327" y="10437"/>
                  <a:pt x="7327" y="10485"/>
                  <a:pt x="7334" y="10543"/>
                </a:cubicBezTo>
                <a:cubicBezTo>
                  <a:pt x="7346" y="10644"/>
                  <a:pt x="7376" y="10739"/>
                  <a:pt x="7424" y="10829"/>
                </a:cubicBezTo>
                <a:cubicBezTo>
                  <a:pt x="7460" y="10896"/>
                  <a:pt x="7497" y="10926"/>
                  <a:pt x="7567" y="10945"/>
                </a:cubicBezTo>
              </a:path>
              <a:path w="831" h="628">
                <a:moveTo>
                  <a:pt x="7689" y="10759"/>
                </a:moveTo>
                <a:cubicBezTo>
                  <a:pt x="7670" y="10738"/>
                  <a:pt x="7676" y="10791"/>
                  <a:pt x="7676" y="10802"/>
                </a:cubicBezTo>
                <a:cubicBezTo>
                  <a:pt x="7677" y="10837"/>
                  <a:pt x="7679" y="10876"/>
                  <a:pt x="7690" y="10909"/>
                </a:cubicBezTo>
                <a:cubicBezTo>
                  <a:pt x="7698" y="10927"/>
                  <a:pt x="7700" y="10931"/>
                  <a:pt x="7707" y="10940"/>
                </a:cubicBezTo>
              </a:path>
              <a:path w="831" h="628">
                <a:moveTo>
                  <a:pt x="7670" y="10757"/>
                </a:moveTo>
                <a:cubicBezTo>
                  <a:pt x="7662" y="10726"/>
                  <a:pt x="7645" y="10677"/>
                  <a:pt x="7662" y="10646"/>
                </a:cubicBezTo>
                <a:cubicBezTo>
                  <a:pt x="7675" y="10624"/>
                  <a:pt x="7692" y="10619"/>
                  <a:pt x="7711" y="10637"/>
                </a:cubicBezTo>
                <a:cubicBezTo>
                  <a:pt x="7715" y="10642"/>
                  <a:pt x="7718" y="10646"/>
                  <a:pt x="7722" y="10651"/>
                </a:cubicBezTo>
              </a:path>
              <a:path w="831" h="628">
                <a:moveTo>
                  <a:pt x="7787" y="10833"/>
                </a:moveTo>
                <a:cubicBezTo>
                  <a:pt x="7800" y="10877"/>
                  <a:pt x="7812" y="10925"/>
                  <a:pt x="7838" y="10964"/>
                </a:cubicBezTo>
                <a:cubicBezTo>
                  <a:pt x="7857" y="10992"/>
                  <a:pt x="7882" y="11017"/>
                  <a:pt x="7916" y="11004"/>
                </a:cubicBezTo>
                <a:cubicBezTo>
                  <a:pt x="7953" y="10990"/>
                  <a:pt x="7970" y="10938"/>
                  <a:pt x="7984" y="10905"/>
                </a:cubicBezTo>
                <a:cubicBezTo>
                  <a:pt x="8001" y="10863"/>
                  <a:pt x="8010" y="10820"/>
                  <a:pt x="8027" y="10778"/>
                </a:cubicBezTo>
                <a:cubicBezTo>
                  <a:pt x="8035" y="10759"/>
                  <a:pt x="8038" y="10754"/>
                  <a:pt x="8054" y="1074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3032280" y="3936960"/>
            <a:ext cx="12600" cy="42840"/>
          </a:xfrm>
          <a:custGeom>
            <a:avLst/>
            <a:gdLst/>
            <a:ahLst/>
            <a:rect l="l" t="t" r="r" b="b"/>
            <a:pathLst>
              <a:path w="36" h="118">
                <a:moveTo>
                  <a:pt x="8457" y="11020"/>
                </a:moveTo>
                <a:cubicBezTo>
                  <a:pt x="8445" y="11035"/>
                  <a:pt x="8441" y="11046"/>
                  <a:pt x="8424" y="11053"/>
                </a:cubicBezTo>
                <a:cubicBezTo>
                  <a:pt x="8424" y="11024"/>
                  <a:pt x="8438" y="10998"/>
                  <a:pt x="8447" y="10970"/>
                </a:cubicBezTo>
                <a:cubicBezTo>
                  <a:pt x="8450" y="10959"/>
                  <a:pt x="8454" y="10947"/>
                  <a:pt x="8457" y="1093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3249720" y="3745080"/>
            <a:ext cx="250560" cy="341280"/>
          </a:xfrm>
          <a:custGeom>
            <a:avLst/>
            <a:gdLst/>
            <a:ahLst/>
            <a:rect l="l" t="t" r="r" b="b"/>
            <a:pathLst>
              <a:path w="694" h="951">
                <a:moveTo>
                  <a:pt x="9028" y="10401"/>
                </a:moveTo>
                <a:cubicBezTo>
                  <a:pt x="9048" y="10452"/>
                  <a:pt x="9054" y="10507"/>
                  <a:pt x="9061" y="10561"/>
                </a:cubicBezTo>
                <a:cubicBezTo>
                  <a:pt x="9074" y="10655"/>
                  <a:pt x="9086" y="10749"/>
                  <a:pt x="9098" y="10844"/>
                </a:cubicBezTo>
                <a:cubicBezTo>
                  <a:pt x="9104" y="10891"/>
                  <a:pt x="9110" y="10937"/>
                  <a:pt x="9115" y="10984"/>
                </a:cubicBezTo>
                <a:cubicBezTo>
                  <a:pt x="9123" y="10932"/>
                  <a:pt x="9136" y="10882"/>
                  <a:pt x="9158" y="10834"/>
                </a:cubicBezTo>
                <a:cubicBezTo>
                  <a:pt x="9180" y="10786"/>
                  <a:pt x="9220" y="10729"/>
                  <a:pt x="9272" y="10710"/>
                </a:cubicBezTo>
                <a:cubicBezTo>
                  <a:pt x="9318" y="10694"/>
                  <a:pt x="9342" y="10738"/>
                  <a:pt x="9344" y="10777"/>
                </a:cubicBezTo>
                <a:cubicBezTo>
                  <a:pt x="9347" y="10835"/>
                  <a:pt x="9312" y="10896"/>
                  <a:pt x="9274" y="10937"/>
                </a:cubicBezTo>
                <a:cubicBezTo>
                  <a:pt x="9252" y="10960"/>
                  <a:pt x="9197" y="11003"/>
                  <a:pt x="9161" y="10984"/>
                </a:cubicBezTo>
                <a:cubicBezTo>
                  <a:pt x="9122" y="10963"/>
                  <a:pt x="9150" y="10904"/>
                  <a:pt x="9159" y="10877"/>
                </a:cubicBezTo>
              </a:path>
              <a:path w="694" h="951">
                <a:moveTo>
                  <a:pt x="9509" y="10825"/>
                </a:moveTo>
                <a:cubicBezTo>
                  <a:pt x="9510" y="10870"/>
                  <a:pt x="9507" y="10914"/>
                  <a:pt x="9517" y="10958"/>
                </a:cubicBezTo>
                <a:cubicBezTo>
                  <a:pt x="9524" y="10988"/>
                  <a:pt x="9545" y="11000"/>
                  <a:pt x="9574" y="10985"/>
                </a:cubicBezTo>
                <a:cubicBezTo>
                  <a:pt x="9625" y="10958"/>
                  <a:pt x="9658" y="10908"/>
                  <a:pt x="9700" y="10872"/>
                </a:cubicBezTo>
                <a:cubicBezTo>
                  <a:pt x="9705" y="10869"/>
                  <a:pt x="9709" y="10867"/>
                  <a:pt x="9714" y="10864"/>
                </a:cubicBezTo>
                <a:cubicBezTo>
                  <a:pt x="9720" y="10929"/>
                  <a:pt x="9695" y="10983"/>
                  <a:pt x="9674" y="11046"/>
                </a:cubicBezTo>
                <a:cubicBezTo>
                  <a:pt x="9646" y="11129"/>
                  <a:pt x="9623" y="11212"/>
                  <a:pt x="9591" y="11294"/>
                </a:cubicBezTo>
                <a:cubicBezTo>
                  <a:pt x="9579" y="11325"/>
                  <a:pt x="9577" y="11332"/>
                  <a:pt x="9569" y="1135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>
            <a:off x="3697200" y="3774960"/>
            <a:ext cx="360360" cy="204840"/>
          </a:xfrm>
          <a:custGeom>
            <a:avLst/>
            <a:gdLst/>
            <a:ahLst/>
            <a:rect l="l" t="t" r="r" b="b"/>
            <a:pathLst>
              <a:path w="1000" h="567">
                <a:moveTo>
                  <a:pt x="10299" y="10534"/>
                </a:moveTo>
                <a:cubicBezTo>
                  <a:pt x="10335" y="10511"/>
                  <a:pt x="10358" y="10490"/>
                  <a:pt x="10402" y="10498"/>
                </a:cubicBezTo>
                <a:cubicBezTo>
                  <a:pt x="10446" y="10506"/>
                  <a:pt x="10443" y="10573"/>
                  <a:pt x="10437" y="10605"/>
                </a:cubicBezTo>
                <a:cubicBezTo>
                  <a:pt x="10422" y="10680"/>
                  <a:pt x="10377" y="10749"/>
                  <a:pt x="10334" y="10810"/>
                </a:cubicBezTo>
                <a:cubicBezTo>
                  <a:pt x="10309" y="10846"/>
                  <a:pt x="10288" y="10873"/>
                  <a:pt x="10275" y="10910"/>
                </a:cubicBezTo>
                <a:cubicBezTo>
                  <a:pt x="10326" y="10899"/>
                  <a:pt x="10376" y="10883"/>
                  <a:pt x="10426" y="10869"/>
                </a:cubicBezTo>
                <a:cubicBezTo>
                  <a:pt x="10495" y="10850"/>
                  <a:pt x="10563" y="10828"/>
                  <a:pt x="10631" y="10806"/>
                </a:cubicBezTo>
                <a:cubicBezTo>
                  <a:pt x="10660" y="10795"/>
                  <a:pt x="10668" y="10792"/>
                  <a:pt x="10687" y="10785"/>
                </a:cubicBezTo>
              </a:path>
              <a:path w="1000" h="567">
                <a:moveTo>
                  <a:pt x="10975" y="10497"/>
                </a:moveTo>
                <a:cubicBezTo>
                  <a:pt x="11001" y="10494"/>
                  <a:pt x="11026" y="10488"/>
                  <a:pt x="11053" y="10487"/>
                </a:cubicBezTo>
                <a:cubicBezTo>
                  <a:pt x="11085" y="10486"/>
                  <a:pt x="11136" y="10487"/>
                  <a:pt x="11163" y="10508"/>
                </a:cubicBezTo>
                <a:cubicBezTo>
                  <a:pt x="11201" y="10537"/>
                  <a:pt x="11176" y="10589"/>
                  <a:pt x="11157" y="10620"/>
                </a:cubicBezTo>
                <a:cubicBezTo>
                  <a:pt x="11131" y="10663"/>
                  <a:pt x="11095" y="10698"/>
                  <a:pt x="11065" y="10738"/>
                </a:cubicBezTo>
                <a:cubicBezTo>
                  <a:pt x="11062" y="10742"/>
                  <a:pt x="11060" y="10747"/>
                  <a:pt x="11057" y="10751"/>
                </a:cubicBezTo>
                <a:cubicBezTo>
                  <a:pt x="11096" y="10761"/>
                  <a:pt x="11132" y="10754"/>
                  <a:pt x="11173" y="10758"/>
                </a:cubicBezTo>
                <a:cubicBezTo>
                  <a:pt x="11212" y="10761"/>
                  <a:pt x="11259" y="10771"/>
                  <a:pt x="11270" y="10815"/>
                </a:cubicBezTo>
                <a:cubicBezTo>
                  <a:pt x="11280" y="10854"/>
                  <a:pt x="11259" y="10899"/>
                  <a:pt x="11238" y="10930"/>
                </a:cubicBezTo>
                <a:cubicBezTo>
                  <a:pt x="11213" y="10967"/>
                  <a:pt x="11173" y="11002"/>
                  <a:pt x="11138" y="11029"/>
                </a:cubicBezTo>
                <a:cubicBezTo>
                  <a:pt x="11126" y="11038"/>
                  <a:pt x="11111" y="11045"/>
                  <a:pt x="11098" y="1105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4935600" y="3746520"/>
            <a:ext cx="372960" cy="271440"/>
          </a:xfrm>
          <a:custGeom>
            <a:avLst/>
            <a:gdLst/>
            <a:ahLst/>
            <a:rect l="l" t="t" r="r" b="b"/>
            <a:pathLst>
              <a:path w="1036" h="756">
                <a:moveTo>
                  <a:pt x="13739" y="10452"/>
                </a:moveTo>
                <a:cubicBezTo>
                  <a:pt x="13736" y="10436"/>
                  <a:pt x="13735" y="10421"/>
                  <a:pt x="13731" y="10406"/>
                </a:cubicBezTo>
                <a:cubicBezTo>
                  <a:pt x="13704" y="10434"/>
                  <a:pt x="13713" y="10478"/>
                  <a:pt x="13715" y="10522"/>
                </a:cubicBezTo>
                <a:cubicBezTo>
                  <a:pt x="13720" y="10643"/>
                  <a:pt x="13734" y="10763"/>
                  <a:pt x="13748" y="10883"/>
                </a:cubicBezTo>
                <a:cubicBezTo>
                  <a:pt x="13757" y="10959"/>
                  <a:pt x="13764" y="11036"/>
                  <a:pt x="13774" y="11112"/>
                </a:cubicBezTo>
                <a:cubicBezTo>
                  <a:pt x="13776" y="11132"/>
                  <a:pt x="13772" y="11140"/>
                  <a:pt x="13787" y="11138"/>
                </a:cubicBezTo>
              </a:path>
              <a:path w="1036" h="756">
                <a:moveTo>
                  <a:pt x="14053" y="10558"/>
                </a:moveTo>
                <a:cubicBezTo>
                  <a:pt x="14087" y="10554"/>
                  <a:pt x="14072" y="10554"/>
                  <a:pt x="14071" y="10595"/>
                </a:cubicBezTo>
                <a:cubicBezTo>
                  <a:pt x="14068" y="10667"/>
                  <a:pt x="14056" y="10737"/>
                  <a:pt x="14045" y="10808"/>
                </a:cubicBezTo>
                <a:cubicBezTo>
                  <a:pt x="14033" y="10890"/>
                  <a:pt x="14004" y="10988"/>
                  <a:pt x="14016" y="11071"/>
                </a:cubicBezTo>
                <a:cubicBezTo>
                  <a:pt x="14022" y="11114"/>
                  <a:pt x="14058" y="11106"/>
                  <a:pt x="14088" y="11093"/>
                </a:cubicBezTo>
                <a:cubicBezTo>
                  <a:pt x="14157" y="11063"/>
                  <a:pt x="14224" y="11008"/>
                  <a:pt x="14299" y="10993"/>
                </a:cubicBezTo>
                <a:cubicBezTo>
                  <a:pt x="14326" y="10988"/>
                  <a:pt x="14357" y="10990"/>
                  <a:pt x="14384" y="10986"/>
                </a:cubicBezTo>
              </a:path>
              <a:path w="1036" h="756">
                <a:moveTo>
                  <a:pt x="14149" y="10851"/>
                </a:moveTo>
                <a:cubicBezTo>
                  <a:pt x="14137" y="10835"/>
                  <a:pt x="14136" y="10815"/>
                  <a:pt x="14159" y="10801"/>
                </a:cubicBezTo>
                <a:cubicBezTo>
                  <a:pt x="14205" y="10773"/>
                  <a:pt x="14263" y="10767"/>
                  <a:pt x="14313" y="10754"/>
                </a:cubicBezTo>
                <a:cubicBezTo>
                  <a:pt x="14356" y="10743"/>
                  <a:pt x="14397" y="10736"/>
                  <a:pt x="14440" y="10729"/>
                </a:cubicBezTo>
                <a:cubicBezTo>
                  <a:pt x="14444" y="10728"/>
                  <a:pt x="14447" y="10728"/>
                  <a:pt x="14451" y="10727"/>
                </a:cubicBezTo>
              </a:path>
              <a:path w="1036" h="756">
                <a:moveTo>
                  <a:pt x="14116" y="10618"/>
                </a:moveTo>
                <a:cubicBezTo>
                  <a:pt x="14105" y="10587"/>
                  <a:pt x="14127" y="10561"/>
                  <a:pt x="14158" y="10543"/>
                </a:cubicBezTo>
                <a:cubicBezTo>
                  <a:pt x="14216" y="10510"/>
                  <a:pt x="14299" y="10491"/>
                  <a:pt x="14365" y="10487"/>
                </a:cubicBezTo>
                <a:cubicBezTo>
                  <a:pt x="14413" y="10484"/>
                  <a:pt x="14453" y="10494"/>
                  <a:pt x="14498" y="10505"/>
                </a:cubicBezTo>
              </a:path>
              <a:path w="1036" h="756">
                <a:moveTo>
                  <a:pt x="14730" y="10786"/>
                </a:moveTo>
                <a:cubicBezTo>
                  <a:pt x="14710" y="10854"/>
                  <a:pt x="14686" y="10923"/>
                  <a:pt x="14682" y="10993"/>
                </a:cubicBezTo>
                <a:cubicBezTo>
                  <a:pt x="14679" y="11043"/>
                  <a:pt x="14686" y="11093"/>
                  <a:pt x="14708" y="11138"/>
                </a:cubicBezTo>
                <a:cubicBezTo>
                  <a:pt x="14718" y="11158"/>
                  <a:pt x="14727" y="11158"/>
                  <a:pt x="14745" y="1116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>
            <a:off x="5430960" y="3759120"/>
            <a:ext cx="58680" cy="241560"/>
          </a:xfrm>
          <a:custGeom>
            <a:avLst/>
            <a:gdLst/>
            <a:ahLst/>
            <a:rect l="l" t="t" r="r" b="b"/>
            <a:pathLst>
              <a:path w="165" h="670">
                <a:moveTo>
                  <a:pt x="15084" y="10518"/>
                </a:moveTo>
                <a:cubicBezTo>
                  <a:pt x="15092" y="10491"/>
                  <a:pt x="15097" y="10467"/>
                  <a:pt x="15109" y="10443"/>
                </a:cubicBezTo>
                <a:cubicBezTo>
                  <a:pt x="15132" y="10472"/>
                  <a:pt x="15130" y="10509"/>
                  <a:pt x="15135" y="10547"/>
                </a:cubicBezTo>
                <a:cubicBezTo>
                  <a:pt x="15147" y="10645"/>
                  <a:pt x="15160" y="10744"/>
                  <a:pt x="15171" y="10842"/>
                </a:cubicBezTo>
                <a:cubicBezTo>
                  <a:pt x="15179" y="10912"/>
                  <a:pt x="15179" y="11050"/>
                  <a:pt x="15232" y="11106"/>
                </a:cubicBezTo>
                <a:cubicBezTo>
                  <a:pt x="15237" y="11108"/>
                  <a:pt x="15243" y="11110"/>
                  <a:pt x="15248" y="1111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>
            <a:off x="5664240" y="3813120"/>
            <a:ext cx="152280" cy="98640"/>
          </a:xfrm>
          <a:custGeom>
            <a:avLst/>
            <a:gdLst/>
            <a:ahLst/>
            <a:rect l="l" t="t" r="r" b="b"/>
            <a:pathLst>
              <a:path w="423" h="274">
                <a:moveTo>
                  <a:pt x="15823" y="10616"/>
                </a:moveTo>
                <a:cubicBezTo>
                  <a:pt x="15850" y="10618"/>
                  <a:pt x="15868" y="10613"/>
                  <a:pt x="15894" y="10608"/>
                </a:cubicBezTo>
                <a:cubicBezTo>
                  <a:pt x="15951" y="10597"/>
                  <a:pt x="16007" y="10592"/>
                  <a:pt x="16065" y="10594"/>
                </a:cubicBezTo>
                <a:cubicBezTo>
                  <a:pt x="16097" y="10595"/>
                  <a:pt x="16124" y="10597"/>
                  <a:pt x="16155" y="10604"/>
                </a:cubicBezTo>
              </a:path>
              <a:path w="423" h="274">
                <a:moveTo>
                  <a:pt x="15747" y="10817"/>
                </a:moveTo>
                <a:cubicBezTo>
                  <a:pt x="15742" y="10822"/>
                  <a:pt x="15738" y="10826"/>
                  <a:pt x="15733" y="10831"/>
                </a:cubicBezTo>
                <a:cubicBezTo>
                  <a:pt x="15780" y="10841"/>
                  <a:pt x="15824" y="10829"/>
                  <a:pt x="15872" y="10828"/>
                </a:cubicBezTo>
                <a:cubicBezTo>
                  <a:pt x="15937" y="10826"/>
                  <a:pt x="15995" y="10834"/>
                  <a:pt x="16058" y="10846"/>
                </a:cubicBezTo>
                <a:cubicBezTo>
                  <a:pt x="16084" y="10851"/>
                  <a:pt x="16108" y="10858"/>
                  <a:pt x="16134" y="1086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>
            <a:off x="5954760" y="3733920"/>
            <a:ext cx="293760" cy="257040"/>
          </a:xfrm>
          <a:custGeom>
            <a:avLst/>
            <a:gdLst/>
            <a:ahLst/>
            <a:rect l="l" t="t" r="r" b="b"/>
            <a:pathLst>
              <a:path w="815" h="713">
                <a:moveTo>
                  <a:pt x="16861" y="10672"/>
                </a:moveTo>
                <a:cubicBezTo>
                  <a:pt x="16867" y="10655"/>
                  <a:pt x="16871" y="10650"/>
                  <a:pt x="16858" y="10622"/>
                </a:cubicBezTo>
                <a:cubicBezTo>
                  <a:pt x="16845" y="10594"/>
                  <a:pt x="16820" y="10562"/>
                  <a:pt x="16802" y="10538"/>
                </a:cubicBezTo>
                <a:cubicBezTo>
                  <a:pt x="16776" y="10503"/>
                  <a:pt x="16747" y="10469"/>
                  <a:pt x="16720" y="10435"/>
                </a:cubicBezTo>
                <a:cubicBezTo>
                  <a:pt x="16712" y="10425"/>
                  <a:pt x="16674" y="10363"/>
                  <a:pt x="16653" y="10373"/>
                </a:cubicBezTo>
                <a:cubicBezTo>
                  <a:pt x="16622" y="10388"/>
                  <a:pt x="16611" y="10432"/>
                  <a:pt x="16603" y="10462"/>
                </a:cubicBezTo>
                <a:cubicBezTo>
                  <a:pt x="16587" y="10520"/>
                  <a:pt x="16573" y="10582"/>
                  <a:pt x="16574" y="10642"/>
                </a:cubicBezTo>
                <a:cubicBezTo>
                  <a:pt x="16575" y="10688"/>
                  <a:pt x="16584" y="10730"/>
                  <a:pt x="16616" y="10764"/>
                </a:cubicBezTo>
                <a:cubicBezTo>
                  <a:pt x="16643" y="10793"/>
                  <a:pt x="16676" y="10818"/>
                  <a:pt x="16704" y="10846"/>
                </a:cubicBezTo>
                <a:cubicBezTo>
                  <a:pt x="16727" y="10869"/>
                  <a:pt x="16755" y="10900"/>
                  <a:pt x="16766" y="10932"/>
                </a:cubicBezTo>
                <a:cubicBezTo>
                  <a:pt x="16775" y="10958"/>
                  <a:pt x="16766" y="10982"/>
                  <a:pt x="16742" y="10995"/>
                </a:cubicBezTo>
                <a:cubicBezTo>
                  <a:pt x="16711" y="11012"/>
                  <a:pt x="16667" y="11009"/>
                  <a:pt x="16634" y="11002"/>
                </a:cubicBezTo>
                <a:cubicBezTo>
                  <a:pt x="16593" y="10993"/>
                  <a:pt x="16547" y="10971"/>
                  <a:pt x="16542" y="10923"/>
                </a:cubicBezTo>
                <a:cubicBezTo>
                  <a:pt x="16536" y="10863"/>
                  <a:pt x="16587" y="10818"/>
                  <a:pt x="16623" y="10780"/>
                </a:cubicBezTo>
              </a:path>
              <a:path w="815" h="713">
                <a:moveTo>
                  <a:pt x="17089" y="10633"/>
                </a:moveTo>
                <a:cubicBezTo>
                  <a:pt x="17137" y="10644"/>
                  <a:pt x="17122" y="10656"/>
                  <a:pt x="17108" y="10699"/>
                </a:cubicBezTo>
                <a:cubicBezTo>
                  <a:pt x="17084" y="10771"/>
                  <a:pt x="17044" y="10835"/>
                  <a:pt x="17022" y="10908"/>
                </a:cubicBezTo>
                <a:cubicBezTo>
                  <a:pt x="17009" y="10951"/>
                  <a:pt x="16985" y="11036"/>
                  <a:pt x="17026" y="11073"/>
                </a:cubicBezTo>
                <a:cubicBezTo>
                  <a:pt x="17064" y="11108"/>
                  <a:pt x="17139" y="11069"/>
                  <a:pt x="17174" y="11049"/>
                </a:cubicBezTo>
                <a:cubicBezTo>
                  <a:pt x="17237" y="11012"/>
                  <a:pt x="17284" y="10951"/>
                  <a:pt x="17322" y="10889"/>
                </a:cubicBezTo>
                <a:cubicBezTo>
                  <a:pt x="17359" y="10828"/>
                  <a:pt x="17375" y="10749"/>
                  <a:pt x="17331" y="10687"/>
                </a:cubicBezTo>
                <a:cubicBezTo>
                  <a:pt x="17303" y="10647"/>
                  <a:pt x="17254" y="10633"/>
                  <a:pt x="17208" y="10627"/>
                </a:cubicBezTo>
                <a:cubicBezTo>
                  <a:pt x="17172" y="10623"/>
                  <a:pt x="17145" y="10636"/>
                  <a:pt x="17116" y="1065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7002360" y="3700440"/>
            <a:ext cx="633600" cy="282600"/>
          </a:xfrm>
          <a:custGeom>
            <a:avLst/>
            <a:gdLst/>
            <a:ahLst/>
            <a:rect l="l" t="t" r="r" b="b"/>
            <a:pathLst>
              <a:path w="1758" h="785">
                <a:moveTo>
                  <a:pt x="19503" y="10479"/>
                </a:moveTo>
                <a:cubicBezTo>
                  <a:pt x="19465" y="10472"/>
                  <a:pt x="19462" y="10485"/>
                  <a:pt x="19456" y="10523"/>
                </a:cubicBezTo>
                <a:cubicBezTo>
                  <a:pt x="19446" y="10588"/>
                  <a:pt x="19464" y="10660"/>
                  <a:pt x="19476" y="10723"/>
                </a:cubicBezTo>
                <a:cubicBezTo>
                  <a:pt x="19487" y="10777"/>
                  <a:pt x="19500" y="10830"/>
                  <a:pt x="19517" y="10883"/>
                </a:cubicBezTo>
                <a:cubicBezTo>
                  <a:pt x="19514" y="10814"/>
                  <a:pt x="19502" y="10747"/>
                  <a:pt x="19497" y="10679"/>
                </a:cubicBezTo>
                <a:cubicBezTo>
                  <a:pt x="19490" y="10591"/>
                  <a:pt x="19486" y="10502"/>
                  <a:pt x="19496" y="10415"/>
                </a:cubicBezTo>
                <a:cubicBezTo>
                  <a:pt x="19501" y="10371"/>
                  <a:pt x="19509" y="10349"/>
                  <a:pt x="19533" y="10314"/>
                </a:cubicBezTo>
                <a:cubicBezTo>
                  <a:pt x="19583" y="10318"/>
                  <a:pt x="19600" y="10350"/>
                  <a:pt x="19626" y="10394"/>
                </a:cubicBezTo>
                <a:cubicBezTo>
                  <a:pt x="19664" y="10458"/>
                  <a:pt x="19692" y="10526"/>
                  <a:pt x="19709" y="10598"/>
                </a:cubicBezTo>
                <a:cubicBezTo>
                  <a:pt x="19722" y="10654"/>
                  <a:pt x="19733" y="10732"/>
                  <a:pt x="19692" y="10780"/>
                </a:cubicBezTo>
                <a:cubicBezTo>
                  <a:pt x="19674" y="10801"/>
                  <a:pt x="19644" y="10810"/>
                  <a:pt x="19617" y="10803"/>
                </a:cubicBezTo>
                <a:cubicBezTo>
                  <a:pt x="19593" y="10796"/>
                  <a:pt x="19570" y="10777"/>
                  <a:pt x="19560" y="10754"/>
                </a:cubicBezTo>
                <a:cubicBezTo>
                  <a:pt x="19548" y="10726"/>
                  <a:pt x="19559" y="10698"/>
                  <a:pt x="19568" y="10671"/>
                </a:cubicBezTo>
              </a:path>
              <a:path w="1758" h="785">
                <a:moveTo>
                  <a:pt x="19795" y="10685"/>
                </a:moveTo>
                <a:cubicBezTo>
                  <a:pt x="19802" y="10717"/>
                  <a:pt x="19809" y="10752"/>
                  <a:pt x="19812" y="10785"/>
                </a:cubicBezTo>
                <a:cubicBezTo>
                  <a:pt x="19816" y="10821"/>
                  <a:pt x="19824" y="10857"/>
                  <a:pt x="19837" y="10891"/>
                </a:cubicBezTo>
                <a:cubicBezTo>
                  <a:pt x="19839" y="10894"/>
                  <a:pt x="19840" y="10898"/>
                  <a:pt x="19842" y="10901"/>
                </a:cubicBezTo>
                <a:cubicBezTo>
                  <a:pt x="19858" y="10855"/>
                  <a:pt x="19856" y="10815"/>
                  <a:pt x="19861" y="10766"/>
                </a:cubicBezTo>
                <a:cubicBezTo>
                  <a:pt x="19866" y="10717"/>
                  <a:pt x="19872" y="10661"/>
                  <a:pt x="19897" y="10618"/>
                </a:cubicBezTo>
                <a:cubicBezTo>
                  <a:pt x="19913" y="10591"/>
                  <a:pt x="19947" y="10567"/>
                  <a:pt x="19979" y="10569"/>
                </a:cubicBezTo>
                <a:cubicBezTo>
                  <a:pt x="20006" y="10571"/>
                  <a:pt x="20037" y="10584"/>
                  <a:pt x="20063" y="10592"/>
                </a:cubicBezTo>
              </a:path>
              <a:path w="1758" h="785">
                <a:moveTo>
                  <a:pt x="20384" y="10340"/>
                </a:moveTo>
                <a:cubicBezTo>
                  <a:pt x="20382" y="10322"/>
                  <a:pt x="20379" y="10310"/>
                  <a:pt x="20380" y="10291"/>
                </a:cubicBezTo>
                <a:cubicBezTo>
                  <a:pt x="20380" y="10287"/>
                  <a:pt x="20380" y="10284"/>
                  <a:pt x="20380" y="10280"/>
                </a:cubicBezTo>
                <a:cubicBezTo>
                  <a:pt x="20368" y="10305"/>
                  <a:pt x="20358" y="10330"/>
                  <a:pt x="20349" y="10357"/>
                </a:cubicBezTo>
                <a:cubicBezTo>
                  <a:pt x="20328" y="10416"/>
                  <a:pt x="20310" y="10475"/>
                  <a:pt x="20294" y="10536"/>
                </a:cubicBezTo>
                <a:cubicBezTo>
                  <a:pt x="20275" y="10611"/>
                  <a:pt x="20260" y="10684"/>
                  <a:pt x="20258" y="10761"/>
                </a:cubicBezTo>
                <a:cubicBezTo>
                  <a:pt x="20257" y="10828"/>
                  <a:pt x="20266" y="10903"/>
                  <a:pt x="20295" y="10965"/>
                </a:cubicBezTo>
                <a:cubicBezTo>
                  <a:pt x="20310" y="10997"/>
                  <a:pt x="20349" y="11055"/>
                  <a:pt x="20392" y="11050"/>
                </a:cubicBezTo>
                <a:cubicBezTo>
                  <a:pt x="20425" y="11046"/>
                  <a:pt x="20442" y="11011"/>
                  <a:pt x="20459" y="10988"/>
                </a:cubicBezTo>
              </a:path>
              <a:path w="1758" h="785">
                <a:moveTo>
                  <a:pt x="20575" y="10544"/>
                </a:moveTo>
                <a:cubicBezTo>
                  <a:pt x="20564" y="10580"/>
                  <a:pt x="20543" y="10609"/>
                  <a:pt x="20527" y="10642"/>
                </a:cubicBezTo>
                <a:cubicBezTo>
                  <a:pt x="20502" y="10694"/>
                  <a:pt x="20477" y="10754"/>
                  <a:pt x="20468" y="10812"/>
                </a:cubicBezTo>
                <a:cubicBezTo>
                  <a:pt x="20463" y="10842"/>
                  <a:pt x="20464" y="10882"/>
                  <a:pt x="20502" y="10887"/>
                </a:cubicBezTo>
                <a:cubicBezTo>
                  <a:pt x="20539" y="10892"/>
                  <a:pt x="20584" y="10862"/>
                  <a:pt x="20614" y="10845"/>
                </a:cubicBezTo>
                <a:cubicBezTo>
                  <a:pt x="20658" y="10820"/>
                  <a:pt x="20702" y="10796"/>
                  <a:pt x="20746" y="10773"/>
                </a:cubicBezTo>
                <a:cubicBezTo>
                  <a:pt x="20765" y="10763"/>
                  <a:pt x="20783" y="10750"/>
                  <a:pt x="20801" y="10738"/>
                </a:cubicBezTo>
              </a:path>
              <a:path w="1758" h="785">
                <a:moveTo>
                  <a:pt x="20504" y="10673"/>
                </a:moveTo>
                <a:cubicBezTo>
                  <a:pt x="20531" y="10639"/>
                  <a:pt x="20559" y="10630"/>
                  <a:pt x="20602" y="10619"/>
                </a:cubicBezTo>
                <a:cubicBezTo>
                  <a:pt x="20661" y="10604"/>
                  <a:pt x="20719" y="10596"/>
                  <a:pt x="20779" y="10586"/>
                </a:cubicBezTo>
                <a:cubicBezTo>
                  <a:pt x="20804" y="10581"/>
                  <a:pt x="20811" y="10579"/>
                  <a:pt x="20827" y="10579"/>
                </a:cubicBezTo>
              </a:path>
              <a:path w="1758" h="785">
                <a:moveTo>
                  <a:pt x="20483" y="10516"/>
                </a:moveTo>
                <a:cubicBezTo>
                  <a:pt x="20498" y="10494"/>
                  <a:pt x="20533" y="10479"/>
                  <a:pt x="20559" y="10469"/>
                </a:cubicBezTo>
                <a:cubicBezTo>
                  <a:pt x="20608" y="10450"/>
                  <a:pt x="20666" y="10443"/>
                  <a:pt x="20718" y="10440"/>
                </a:cubicBezTo>
                <a:cubicBezTo>
                  <a:pt x="20745" y="10440"/>
                  <a:pt x="20751" y="10440"/>
                  <a:pt x="20768" y="10439"/>
                </a:cubicBezTo>
              </a:path>
              <a:path w="1758" h="785">
                <a:moveTo>
                  <a:pt x="20875" y="10819"/>
                </a:moveTo>
                <a:cubicBezTo>
                  <a:pt x="20895" y="10842"/>
                  <a:pt x="20903" y="10861"/>
                  <a:pt x="20901" y="10894"/>
                </a:cubicBezTo>
                <a:cubicBezTo>
                  <a:pt x="20898" y="10934"/>
                  <a:pt x="20890" y="10975"/>
                  <a:pt x="20893" y="11016"/>
                </a:cubicBezTo>
                <a:cubicBezTo>
                  <a:pt x="20896" y="11060"/>
                  <a:pt x="20904" y="11076"/>
                  <a:pt x="20937" y="11047"/>
                </a:cubicBezTo>
              </a:path>
              <a:path w="1758" h="785">
                <a:moveTo>
                  <a:pt x="21086" y="10452"/>
                </a:moveTo>
                <a:cubicBezTo>
                  <a:pt x="21121" y="10439"/>
                  <a:pt x="21134" y="10460"/>
                  <a:pt x="21153" y="10492"/>
                </a:cubicBezTo>
                <a:cubicBezTo>
                  <a:pt x="21209" y="10588"/>
                  <a:pt x="21209" y="10707"/>
                  <a:pt x="21200" y="10813"/>
                </a:cubicBezTo>
                <a:cubicBezTo>
                  <a:pt x="21197" y="10849"/>
                  <a:pt x="21187" y="10896"/>
                  <a:pt x="21191" y="1093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7770960" y="3679920"/>
            <a:ext cx="718920" cy="357120"/>
          </a:xfrm>
          <a:custGeom>
            <a:avLst/>
            <a:gdLst/>
            <a:ahLst/>
            <a:rect l="l" t="t" r="r" b="b"/>
            <a:pathLst>
              <a:path w="1996" h="991">
                <a:moveTo>
                  <a:pt x="21597" y="10566"/>
                </a:moveTo>
                <a:cubicBezTo>
                  <a:pt x="21572" y="10550"/>
                  <a:pt x="21652" y="10555"/>
                  <a:pt x="21665" y="10555"/>
                </a:cubicBezTo>
                <a:cubicBezTo>
                  <a:pt x="21731" y="10558"/>
                  <a:pt x="21798" y="10562"/>
                  <a:pt x="21862" y="10581"/>
                </a:cubicBezTo>
                <a:cubicBezTo>
                  <a:pt x="21895" y="10594"/>
                  <a:pt x="21904" y="10597"/>
                  <a:pt x="21924" y="10608"/>
                </a:cubicBezTo>
              </a:path>
              <a:path w="1996" h="991">
                <a:moveTo>
                  <a:pt x="21605" y="10747"/>
                </a:moveTo>
                <a:cubicBezTo>
                  <a:pt x="21575" y="10726"/>
                  <a:pt x="21637" y="10715"/>
                  <a:pt x="21662" y="10707"/>
                </a:cubicBezTo>
                <a:cubicBezTo>
                  <a:pt x="21726" y="10685"/>
                  <a:pt x="21791" y="10664"/>
                  <a:pt x="21855" y="10642"/>
                </a:cubicBezTo>
              </a:path>
              <a:path w="1996" h="991">
                <a:moveTo>
                  <a:pt x="22192" y="10304"/>
                </a:moveTo>
                <a:cubicBezTo>
                  <a:pt x="22180" y="10297"/>
                  <a:pt x="22184" y="10350"/>
                  <a:pt x="22186" y="10376"/>
                </a:cubicBezTo>
                <a:cubicBezTo>
                  <a:pt x="22190" y="10425"/>
                  <a:pt x="22197" y="10473"/>
                  <a:pt x="22203" y="10522"/>
                </a:cubicBezTo>
                <a:cubicBezTo>
                  <a:pt x="22206" y="10550"/>
                  <a:pt x="22207" y="10557"/>
                  <a:pt x="22206" y="10575"/>
                </a:cubicBezTo>
              </a:path>
              <a:path w="1996" h="991">
                <a:moveTo>
                  <a:pt x="22076" y="10627"/>
                </a:moveTo>
                <a:cubicBezTo>
                  <a:pt x="22092" y="10608"/>
                  <a:pt x="22110" y="10581"/>
                  <a:pt x="22139" y="10575"/>
                </a:cubicBezTo>
                <a:cubicBezTo>
                  <a:pt x="22193" y="10565"/>
                  <a:pt x="22254" y="10590"/>
                  <a:pt x="22300" y="10616"/>
                </a:cubicBezTo>
                <a:cubicBezTo>
                  <a:pt x="22351" y="10644"/>
                  <a:pt x="22398" y="10695"/>
                  <a:pt x="22382" y="10758"/>
                </a:cubicBezTo>
                <a:cubicBezTo>
                  <a:pt x="22372" y="10799"/>
                  <a:pt x="22332" y="10826"/>
                  <a:pt x="22298" y="10845"/>
                </a:cubicBezTo>
                <a:cubicBezTo>
                  <a:pt x="22271" y="10861"/>
                  <a:pt x="22242" y="10869"/>
                  <a:pt x="22211" y="10874"/>
                </a:cubicBezTo>
                <a:cubicBezTo>
                  <a:pt x="22200" y="10875"/>
                  <a:pt x="22197" y="10875"/>
                  <a:pt x="22190" y="10875"/>
                </a:cubicBezTo>
                <a:cubicBezTo>
                  <a:pt x="22208" y="10894"/>
                  <a:pt x="22214" y="10902"/>
                  <a:pt x="22214" y="10931"/>
                </a:cubicBezTo>
                <a:cubicBezTo>
                  <a:pt x="22214" y="10952"/>
                  <a:pt x="22206" y="10967"/>
                  <a:pt x="22196" y="10985"/>
                </a:cubicBezTo>
                <a:cubicBezTo>
                  <a:pt x="22184" y="11006"/>
                  <a:pt x="22169" y="11021"/>
                  <a:pt x="22152" y="11038"/>
                </a:cubicBezTo>
                <a:cubicBezTo>
                  <a:pt x="22138" y="11051"/>
                  <a:pt x="22134" y="11060"/>
                  <a:pt x="22125" y="11076"/>
                </a:cubicBezTo>
                <a:cubicBezTo>
                  <a:pt x="22148" y="11090"/>
                  <a:pt x="22155" y="11094"/>
                  <a:pt x="22184" y="11094"/>
                </a:cubicBezTo>
                <a:cubicBezTo>
                  <a:pt x="22238" y="11093"/>
                  <a:pt x="22291" y="11084"/>
                  <a:pt x="22346" y="11090"/>
                </a:cubicBezTo>
                <a:cubicBezTo>
                  <a:pt x="22387" y="11095"/>
                  <a:pt x="22420" y="11108"/>
                  <a:pt x="22457" y="11123"/>
                </a:cubicBezTo>
                <a:cubicBezTo>
                  <a:pt x="22473" y="11129"/>
                  <a:pt x="22487" y="11132"/>
                  <a:pt x="22502" y="11136"/>
                </a:cubicBezTo>
              </a:path>
              <a:path w="1996" h="991">
                <a:moveTo>
                  <a:pt x="22101" y="10389"/>
                </a:moveTo>
                <a:cubicBezTo>
                  <a:pt x="22060" y="10362"/>
                  <a:pt x="22047" y="10353"/>
                  <a:pt x="22060" y="10313"/>
                </a:cubicBezTo>
                <a:cubicBezTo>
                  <a:pt x="22074" y="10272"/>
                  <a:pt x="22142" y="10285"/>
                  <a:pt x="22169" y="10298"/>
                </a:cubicBezTo>
                <a:cubicBezTo>
                  <a:pt x="22227" y="10326"/>
                  <a:pt x="22249" y="10397"/>
                  <a:pt x="22251" y="10457"/>
                </a:cubicBezTo>
                <a:cubicBezTo>
                  <a:pt x="22254" y="10559"/>
                  <a:pt x="22206" y="10673"/>
                  <a:pt x="22143" y="10752"/>
                </a:cubicBezTo>
                <a:cubicBezTo>
                  <a:pt x="22131" y="10765"/>
                  <a:pt x="22126" y="10773"/>
                  <a:pt x="22127" y="10754"/>
                </a:cubicBezTo>
                <a:cubicBezTo>
                  <a:pt x="22151" y="10717"/>
                  <a:pt x="22177" y="10681"/>
                  <a:pt x="22204" y="10646"/>
                </a:cubicBezTo>
                <a:cubicBezTo>
                  <a:pt x="22227" y="10617"/>
                  <a:pt x="22248" y="10599"/>
                  <a:pt x="22278" y="10579"/>
                </a:cubicBezTo>
                <a:cubicBezTo>
                  <a:pt x="22278" y="10608"/>
                  <a:pt x="22277" y="10632"/>
                  <a:pt x="22264" y="10662"/>
                </a:cubicBezTo>
                <a:cubicBezTo>
                  <a:pt x="22242" y="10712"/>
                  <a:pt x="22210" y="10762"/>
                  <a:pt x="22199" y="10812"/>
                </a:cubicBezTo>
                <a:cubicBezTo>
                  <a:pt x="22234" y="10796"/>
                  <a:pt x="22262" y="10784"/>
                  <a:pt x="22300" y="10780"/>
                </a:cubicBezTo>
                <a:cubicBezTo>
                  <a:pt x="22305" y="10808"/>
                  <a:pt x="22306" y="10820"/>
                  <a:pt x="22291" y="10850"/>
                </a:cubicBezTo>
                <a:cubicBezTo>
                  <a:pt x="22276" y="10880"/>
                  <a:pt x="22254" y="10911"/>
                  <a:pt x="22228" y="10933"/>
                </a:cubicBezTo>
                <a:cubicBezTo>
                  <a:pt x="22224" y="10935"/>
                  <a:pt x="22221" y="10938"/>
                  <a:pt x="22217" y="10940"/>
                </a:cubicBezTo>
                <a:cubicBezTo>
                  <a:pt x="22211" y="10909"/>
                  <a:pt x="22210" y="10893"/>
                  <a:pt x="22220" y="10855"/>
                </a:cubicBezTo>
                <a:cubicBezTo>
                  <a:pt x="22229" y="10821"/>
                  <a:pt x="22242" y="10784"/>
                  <a:pt x="22262" y="10755"/>
                </a:cubicBezTo>
                <a:cubicBezTo>
                  <a:pt x="22265" y="10752"/>
                  <a:pt x="22268" y="10748"/>
                  <a:pt x="22271" y="10745"/>
                </a:cubicBezTo>
                <a:cubicBezTo>
                  <a:pt x="22296" y="10762"/>
                  <a:pt x="22311" y="10776"/>
                  <a:pt x="22333" y="10804"/>
                </a:cubicBezTo>
                <a:cubicBezTo>
                  <a:pt x="22366" y="10846"/>
                  <a:pt x="22405" y="10877"/>
                  <a:pt x="22446" y="10910"/>
                </a:cubicBezTo>
                <a:cubicBezTo>
                  <a:pt x="22484" y="10941"/>
                  <a:pt x="22547" y="10970"/>
                  <a:pt x="22552" y="11024"/>
                </a:cubicBezTo>
                <a:cubicBezTo>
                  <a:pt x="22554" y="11045"/>
                  <a:pt x="22543" y="11064"/>
                  <a:pt x="22537" y="11083"/>
                </a:cubicBezTo>
                <a:cubicBezTo>
                  <a:pt x="22522" y="11054"/>
                  <a:pt x="22523" y="11037"/>
                  <a:pt x="22522" y="11001"/>
                </a:cubicBezTo>
                <a:cubicBezTo>
                  <a:pt x="22522" y="10990"/>
                  <a:pt x="22521" y="10979"/>
                  <a:pt x="22521" y="10968"/>
                </a:cubicBezTo>
              </a:path>
              <a:path w="1996" h="991">
                <a:moveTo>
                  <a:pt x="22878" y="10223"/>
                </a:moveTo>
                <a:cubicBezTo>
                  <a:pt x="22899" y="10234"/>
                  <a:pt x="22898" y="10270"/>
                  <a:pt x="22899" y="10299"/>
                </a:cubicBezTo>
                <a:cubicBezTo>
                  <a:pt x="22901" y="10363"/>
                  <a:pt x="22907" y="10425"/>
                  <a:pt x="22915" y="10489"/>
                </a:cubicBezTo>
                <a:cubicBezTo>
                  <a:pt x="22922" y="10545"/>
                  <a:pt x="22934" y="10592"/>
                  <a:pt x="22953" y="10645"/>
                </a:cubicBezTo>
                <a:cubicBezTo>
                  <a:pt x="22959" y="10662"/>
                  <a:pt x="22960" y="10666"/>
                  <a:pt x="22964" y="10677"/>
                </a:cubicBezTo>
              </a:path>
              <a:path w="1996" h="991">
                <a:moveTo>
                  <a:pt x="22744" y="10681"/>
                </a:moveTo>
                <a:cubicBezTo>
                  <a:pt x="22788" y="10650"/>
                  <a:pt x="22826" y="10640"/>
                  <a:pt x="22879" y="10630"/>
                </a:cubicBezTo>
                <a:cubicBezTo>
                  <a:pt x="22944" y="10618"/>
                  <a:pt x="23014" y="10614"/>
                  <a:pt x="23079" y="10620"/>
                </a:cubicBezTo>
                <a:cubicBezTo>
                  <a:pt x="23113" y="10623"/>
                  <a:pt x="23140" y="10630"/>
                  <a:pt x="23171" y="10641"/>
                </a:cubicBezTo>
              </a:path>
              <a:path w="1996" h="991">
                <a:moveTo>
                  <a:pt x="22882" y="10795"/>
                </a:moveTo>
                <a:cubicBezTo>
                  <a:pt x="22918" y="10809"/>
                  <a:pt x="22957" y="10805"/>
                  <a:pt x="22996" y="10814"/>
                </a:cubicBezTo>
                <a:cubicBezTo>
                  <a:pt x="23033" y="10822"/>
                  <a:pt x="23082" y="10839"/>
                  <a:pt x="23101" y="10875"/>
                </a:cubicBezTo>
                <a:cubicBezTo>
                  <a:pt x="23121" y="10911"/>
                  <a:pt x="23084" y="10959"/>
                  <a:pt x="23063" y="10985"/>
                </a:cubicBezTo>
                <a:cubicBezTo>
                  <a:pt x="23052" y="10999"/>
                  <a:pt x="23025" y="11017"/>
                  <a:pt x="23023" y="11036"/>
                </a:cubicBezTo>
                <a:cubicBezTo>
                  <a:pt x="23020" y="11063"/>
                  <a:pt x="23067" y="11084"/>
                  <a:pt x="23086" y="11091"/>
                </a:cubicBezTo>
                <a:cubicBezTo>
                  <a:pt x="23141" y="11111"/>
                  <a:pt x="23201" y="11118"/>
                  <a:pt x="23258" y="11129"/>
                </a:cubicBezTo>
                <a:cubicBezTo>
                  <a:pt x="23361" y="11149"/>
                  <a:pt x="23464" y="11168"/>
                  <a:pt x="23562" y="11205"/>
                </a:cubicBezTo>
                <a:cubicBezTo>
                  <a:pt x="23608" y="11222"/>
                  <a:pt x="23553" y="11201"/>
                  <a:pt x="23547" y="1119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5100480" y="4226040"/>
            <a:ext cx="3721320" cy="74520"/>
          </a:xfrm>
          <a:custGeom>
            <a:avLst/>
            <a:gdLst/>
            <a:ahLst/>
            <a:rect l="l" t="t" r="r" b="b"/>
            <a:pathLst>
              <a:path w="10335" h="205">
                <a:moveTo>
                  <a:pt x="14200" y="11788"/>
                </a:moveTo>
                <a:cubicBezTo>
                  <a:pt x="14183" y="11781"/>
                  <a:pt x="14179" y="11779"/>
                  <a:pt x="14168" y="11775"/>
                </a:cubicBezTo>
              </a:path>
              <a:path w="10335" h="205">
                <a:moveTo>
                  <a:pt x="24473" y="11782"/>
                </a:moveTo>
                <a:cubicBezTo>
                  <a:pt x="24387" y="11732"/>
                  <a:pt x="24310" y="11732"/>
                  <a:pt x="24241" y="11832"/>
                </a:cubicBezTo>
                <a:cubicBezTo>
                  <a:pt x="24234" y="11851"/>
                  <a:pt x="24228" y="11870"/>
                  <a:pt x="24221" y="11889"/>
                </a:cubicBezTo>
                <a:cubicBezTo>
                  <a:pt x="24297" y="11957"/>
                  <a:pt x="24357" y="11952"/>
                  <a:pt x="24457" y="11908"/>
                </a:cubicBezTo>
                <a:cubicBezTo>
                  <a:pt x="24472" y="11899"/>
                  <a:pt x="24487" y="11891"/>
                  <a:pt x="24502" y="1188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1441440" y="4211640"/>
            <a:ext cx="622440" cy="279360"/>
          </a:xfrm>
          <a:custGeom>
            <a:avLst/>
            <a:gdLst/>
            <a:ahLst/>
            <a:rect l="l" t="t" r="r" b="b"/>
            <a:pathLst>
              <a:path w="1729" h="777">
                <a:moveTo>
                  <a:pt x="4079" y="11820"/>
                </a:moveTo>
                <a:cubicBezTo>
                  <a:pt x="4057" y="11846"/>
                  <a:pt x="4050" y="11861"/>
                  <a:pt x="4039" y="11896"/>
                </a:cubicBezTo>
                <a:cubicBezTo>
                  <a:pt x="4019" y="11958"/>
                  <a:pt x="4021" y="12026"/>
                  <a:pt x="4015" y="12091"/>
                </a:cubicBezTo>
                <a:cubicBezTo>
                  <a:pt x="4008" y="12165"/>
                  <a:pt x="4000" y="12241"/>
                  <a:pt x="4002" y="12316"/>
                </a:cubicBezTo>
                <a:cubicBezTo>
                  <a:pt x="4003" y="12362"/>
                  <a:pt x="4009" y="12409"/>
                  <a:pt x="4063" y="12418"/>
                </a:cubicBezTo>
                <a:cubicBezTo>
                  <a:pt x="4152" y="12433"/>
                  <a:pt x="4269" y="12393"/>
                  <a:pt x="4353" y="12369"/>
                </a:cubicBezTo>
                <a:cubicBezTo>
                  <a:pt x="4403" y="12354"/>
                  <a:pt x="4439" y="12344"/>
                  <a:pt x="4479" y="12310"/>
                </a:cubicBezTo>
              </a:path>
              <a:path w="1729" h="777">
                <a:moveTo>
                  <a:pt x="4148" y="12209"/>
                </a:moveTo>
                <a:cubicBezTo>
                  <a:pt x="4122" y="12185"/>
                  <a:pt x="4162" y="12168"/>
                  <a:pt x="4191" y="12154"/>
                </a:cubicBezTo>
                <a:cubicBezTo>
                  <a:pt x="4267" y="12119"/>
                  <a:pt x="4349" y="12098"/>
                  <a:pt x="4427" y="12068"/>
                </a:cubicBezTo>
                <a:cubicBezTo>
                  <a:pt x="4444" y="12061"/>
                  <a:pt x="4460" y="12055"/>
                  <a:pt x="4477" y="12048"/>
                </a:cubicBezTo>
              </a:path>
              <a:path w="1729" h="777">
                <a:moveTo>
                  <a:pt x="4295" y="11828"/>
                </a:moveTo>
                <a:cubicBezTo>
                  <a:pt x="4270" y="11805"/>
                  <a:pt x="4244" y="11784"/>
                  <a:pt x="4272" y="11749"/>
                </a:cubicBezTo>
                <a:cubicBezTo>
                  <a:pt x="4301" y="11713"/>
                  <a:pt x="4360" y="11708"/>
                  <a:pt x="4402" y="11700"/>
                </a:cubicBezTo>
              </a:path>
              <a:path w="1729" h="777">
                <a:moveTo>
                  <a:pt x="4765" y="12152"/>
                </a:moveTo>
                <a:cubicBezTo>
                  <a:pt x="4786" y="12133"/>
                  <a:pt x="4820" y="12116"/>
                  <a:pt x="4849" y="12107"/>
                </a:cubicBezTo>
                <a:cubicBezTo>
                  <a:pt x="4878" y="12098"/>
                  <a:pt x="4921" y="12088"/>
                  <a:pt x="4949" y="12105"/>
                </a:cubicBezTo>
                <a:cubicBezTo>
                  <a:pt x="4974" y="12120"/>
                  <a:pt x="4971" y="12153"/>
                  <a:pt x="4971" y="12178"/>
                </a:cubicBezTo>
                <a:cubicBezTo>
                  <a:pt x="4972" y="12217"/>
                  <a:pt x="4967" y="12255"/>
                  <a:pt x="4963" y="12293"/>
                </a:cubicBezTo>
                <a:cubicBezTo>
                  <a:pt x="4959" y="12334"/>
                  <a:pt x="4950" y="12364"/>
                  <a:pt x="4933" y="12400"/>
                </a:cubicBezTo>
                <a:cubicBezTo>
                  <a:pt x="4922" y="12425"/>
                  <a:pt x="4907" y="12445"/>
                  <a:pt x="4892" y="12467"/>
                </a:cubicBezTo>
                <a:cubicBezTo>
                  <a:pt x="4920" y="12482"/>
                  <a:pt x="4949" y="12464"/>
                  <a:pt x="4980" y="12454"/>
                </a:cubicBezTo>
                <a:cubicBezTo>
                  <a:pt x="5038" y="12434"/>
                  <a:pt x="5091" y="12413"/>
                  <a:pt x="5146" y="12387"/>
                </a:cubicBezTo>
              </a:path>
              <a:path w="1729" h="777">
                <a:moveTo>
                  <a:pt x="5442" y="11958"/>
                </a:moveTo>
                <a:cubicBezTo>
                  <a:pt x="5447" y="11930"/>
                  <a:pt x="5446" y="11929"/>
                  <a:pt x="5475" y="11923"/>
                </a:cubicBezTo>
                <a:cubicBezTo>
                  <a:pt x="5521" y="11914"/>
                  <a:pt x="5565" y="11912"/>
                  <a:pt x="5612" y="11907"/>
                </a:cubicBezTo>
                <a:cubicBezTo>
                  <a:pt x="5641" y="11904"/>
                  <a:pt x="5668" y="11901"/>
                  <a:pt x="5697" y="11900"/>
                </a:cubicBezTo>
              </a:path>
              <a:path w="1729" h="777">
                <a:moveTo>
                  <a:pt x="5482" y="12116"/>
                </a:moveTo>
                <a:cubicBezTo>
                  <a:pt x="5470" y="12135"/>
                  <a:pt x="5466" y="12139"/>
                  <a:pt x="5464" y="12153"/>
                </a:cubicBezTo>
                <a:cubicBezTo>
                  <a:pt x="5499" y="12169"/>
                  <a:pt x="5529" y="12160"/>
                  <a:pt x="5566" y="12150"/>
                </a:cubicBezTo>
                <a:cubicBezTo>
                  <a:pt x="5621" y="12135"/>
                  <a:pt x="5676" y="12121"/>
                  <a:pt x="5730" y="1210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2322360" y="4210200"/>
            <a:ext cx="109800" cy="226800"/>
          </a:xfrm>
          <a:custGeom>
            <a:avLst/>
            <a:gdLst/>
            <a:ahLst/>
            <a:rect l="l" t="t" r="r" b="b"/>
            <a:pathLst>
              <a:path w="301" h="632">
                <a:moveTo>
                  <a:pt x="6561" y="11740"/>
                </a:moveTo>
                <a:cubicBezTo>
                  <a:pt x="6557" y="11723"/>
                  <a:pt x="6558" y="11695"/>
                  <a:pt x="6530" y="11695"/>
                </a:cubicBezTo>
                <a:cubicBezTo>
                  <a:pt x="6508" y="11695"/>
                  <a:pt x="6489" y="11711"/>
                  <a:pt x="6474" y="11726"/>
                </a:cubicBezTo>
                <a:cubicBezTo>
                  <a:pt x="6450" y="11750"/>
                  <a:pt x="6448" y="11779"/>
                  <a:pt x="6462" y="11809"/>
                </a:cubicBezTo>
                <a:cubicBezTo>
                  <a:pt x="6476" y="11841"/>
                  <a:pt x="6503" y="11866"/>
                  <a:pt x="6520" y="11896"/>
                </a:cubicBezTo>
                <a:cubicBezTo>
                  <a:pt x="6541" y="11932"/>
                  <a:pt x="6551" y="11970"/>
                  <a:pt x="6565" y="12008"/>
                </a:cubicBezTo>
                <a:cubicBezTo>
                  <a:pt x="6573" y="12030"/>
                  <a:pt x="6581" y="12036"/>
                  <a:pt x="6604" y="12041"/>
                </a:cubicBezTo>
                <a:cubicBezTo>
                  <a:pt x="6624" y="12046"/>
                  <a:pt x="6658" y="12039"/>
                  <a:pt x="6674" y="12055"/>
                </a:cubicBezTo>
                <a:cubicBezTo>
                  <a:pt x="6696" y="12076"/>
                  <a:pt x="6687" y="12095"/>
                  <a:pt x="6672" y="12120"/>
                </a:cubicBezTo>
                <a:cubicBezTo>
                  <a:pt x="6650" y="12157"/>
                  <a:pt x="6556" y="12225"/>
                  <a:pt x="6567" y="12273"/>
                </a:cubicBezTo>
                <a:cubicBezTo>
                  <a:pt x="6573" y="12299"/>
                  <a:pt x="6613" y="12306"/>
                  <a:pt x="6632" y="12312"/>
                </a:cubicBezTo>
                <a:cubicBezTo>
                  <a:pt x="6659" y="12321"/>
                  <a:pt x="6692" y="12326"/>
                  <a:pt x="6721" y="12326"/>
                </a:cubicBezTo>
                <a:cubicBezTo>
                  <a:pt x="6737" y="12324"/>
                  <a:pt x="6742" y="12323"/>
                  <a:pt x="6753" y="1232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2590920" y="4219560"/>
            <a:ext cx="393480" cy="179280"/>
          </a:xfrm>
          <a:custGeom>
            <a:avLst/>
            <a:gdLst/>
            <a:ahLst/>
            <a:rect l="l" t="t" r="r" b="b"/>
            <a:pathLst>
              <a:path w="1095" h="495">
                <a:moveTo>
                  <a:pt x="7373" y="12045"/>
                </a:moveTo>
                <a:cubicBezTo>
                  <a:pt x="7335" y="12035"/>
                  <a:pt x="7288" y="12023"/>
                  <a:pt x="7250" y="12043"/>
                </a:cubicBezTo>
                <a:cubicBezTo>
                  <a:pt x="7219" y="12060"/>
                  <a:pt x="7199" y="12097"/>
                  <a:pt x="7196" y="12131"/>
                </a:cubicBezTo>
                <a:cubicBezTo>
                  <a:pt x="7193" y="12164"/>
                  <a:pt x="7206" y="12208"/>
                  <a:pt x="7242" y="12217"/>
                </a:cubicBezTo>
                <a:cubicBezTo>
                  <a:pt x="7290" y="12230"/>
                  <a:pt x="7333" y="12177"/>
                  <a:pt x="7357" y="12145"/>
                </a:cubicBezTo>
                <a:cubicBezTo>
                  <a:pt x="7407" y="12080"/>
                  <a:pt x="7434" y="11998"/>
                  <a:pt x="7453" y="11919"/>
                </a:cubicBezTo>
                <a:cubicBezTo>
                  <a:pt x="7466" y="11865"/>
                  <a:pt x="7482" y="11791"/>
                  <a:pt x="7465" y="11736"/>
                </a:cubicBezTo>
                <a:cubicBezTo>
                  <a:pt x="7462" y="11732"/>
                  <a:pt x="7459" y="11727"/>
                  <a:pt x="7456" y="11723"/>
                </a:cubicBezTo>
                <a:cubicBezTo>
                  <a:pt x="7429" y="11753"/>
                  <a:pt x="7416" y="11774"/>
                  <a:pt x="7413" y="11826"/>
                </a:cubicBezTo>
                <a:cubicBezTo>
                  <a:pt x="7408" y="11905"/>
                  <a:pt x="7424" y="11995"/>
                  <a:pt x="7457" y="12067"/>
                </a:cubicBezTo>
                <a:cubicBezTo>
                  <a:pt x="7479" y="12116"/>
                  <a:pt x="7520" y="12178"/>
                  <a:pt x="7582" y="12177"/>
                </a:cubicBezTo>
                <a:cubicBezTo>
                  <a:pt x="7592" y="12174"/>
                  <a:pt x="7601" y="12171"/>
                  <a:pt x="7611" y="12168"/>
                </a:cubicBezTo>
              </a:path>
              <a:path w="1095" h="495">
                <a:moveTo>
                  <a:pt x="7693" y="11975"/>
                </a:moveTo>
                <a:cubicBezTo>
                  <a:pt x="7703" y="12015"/>
                  <a:pt x="7714" y="12050"/>
                  <a:pt x="7731" y="12088"/>
                </a:cubicBezTo>
                <a:cubicBezTo>
                  <a:pt x="7743" y="12114"/>
                  <a:pt x="7757" y="12131"/>
                  <a:pt x="7783" y="12142"/>
                </a:cubicBezTo>
              </a:path>
              <a:path w="1095" h="495">
                <a:moveTo>
                  <a:pt x="7742" y="11875"/>
                </a:moveTo>
                <a:cubicBezTo>
                  <a:pt x="7739" y="11856"/>
                  <a:pt x="7724" y="11791"/>
                  <a:pt x="7733" y="11773"/>
                </a:cubicBezTo>
                <a:cubicBezTo>
                  <a:pt x="7747" y="11768"/>
                  <a:pt x="7754" y="11766"/>
                  <a:pt x="7765" y="11765"/>
                </a:cubicBezTo>
              </a:path>
              <a:path w="1095" h="495">
                <a:moveTo>
                  <a:pt x="7983" y="12087"/>
                </a:moveTo>
                <a:cubicBezTo>
                  <a:pt x="8008" y="12124"/>
                  <a:pt x="8033" y="12160"/>
                  <a:pt x="8071" y="12185"/>
                </a:cubicBezTo>
                <a:cubicBezTo>
                  <a:pt x="8097" y="12202"/>
                  <a:pt x="8134" y="12207"/>
                  <a:pt x="8160" y="12185"/>
                </a:cubicBezTo>
                <a:cubicBezTo>
                  <a:pt x="8195" y="12155"/>
                  <a:pt x="8210" y="12105"/>
                  <a:pt x="8227" y="12064"/>
                </a:cubicBezTo>
                <a:cubicBezTo>
                  <a:pt x="8242" y="12027"/>
                  <a:pt x="8251" y="11989"/>
                  <a:pt x="8272" y="11956"/>
                </a:cubicBezTo>
                <a:cubicBezTo>
                  <a:pt x="8280" y="11945"/>
                  <a:pt x="8281" y="11941"/>
                  <a:pt x="8290" y="1193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3173400" y="4191120"/>
            <a:ext cx="331920" cy="312480"/>
          </a:xfrm>
          <a:custGeom>
            <a:avLst/>
            <a:gdLst/>
            <a:ahLst/>
            <a:rect l="l" t="t" r="r" b="b"/>
            <a:pathLst>
              <a:path w="921" h="869">
                <a:moveTo>
                  <a:pt x="8816" y="11743"/>
                </a:moveTo>
                <a:cubicBezTo>
                  <a:pt x="8815" y="11708"/>
                  <a:pt x="8815" y="11676"/>
                  <a:pt x="8818" y="11641"/>
                </a:cubicBezTo>
                <a:cubicBezTo>
                  <a:pt x="8846" y="11670"/>
                  <a:pt x="8868" y="11695"/>
                  <a:pt x="8888" y="11732"/>
                </a:cubicBezTo>
                <a:cubicBezTo>
                  <a:pt x="8915" y="11781"/>
                  <a:pt x="8941" y="11832"/>
                  <a:pt x="8954" y="11887"/>
                </a:cubicBezTo>
                <a:cubicBezTo>
                  <a:pt x="8959" y="11909"/>
                  <a:pt x="8955" y="11946"/>
                  <a:pt x="8967" y="11966"/>
                </a:cubicBezTo>
                <a:cubicBezTo>
                  <a:pt x="8978" y="11983"/>
                  <a:pt x="8986" y="11991"/>
                  <a:pt x="8993" y="12012"/>
                </a:cubicBezTo>
                <a:cubicBezTo>
                  <a:pt x="9003" y="12041"/>
                  <a:pt x="9011" y="12074"/>
                  <a:pt x="9018" y="12104"/>
                </a:cubicBezTo>
                <a:cubicBezTo>
                  <a:pt x="9025" y="12135"/>
                  <a:pt x="9032" y="12166"/>
                  <a:pt x="9037" y="12197"/>
                </a:cubicBezTo>
                <a:cubicBezTo>
                  <a:pt x="9033" y="12176"/>
                  <a:pt x="9030" y="12155"/>
                  <a:pt x="9029" y="12133"/>
                </a:cubicBezTo>
                <a:cubicBezTo>
                  <a:pt x="9027" y="12090"/>
                  <a:pt x="9026" y="12050"/>
                  <a:pt x="9038" y="12008"/>
                </a:cubicBezTo>
                <a:cubicBezTo>
                  <a:pt x="9049" y="11969"/>
                  <a:pt x="9068" y="11927"/>
                  <a:pt x="9105" y="11906"/>
                </a:cubicBezTo>
                <a:cubicBezTo>
                  <a:pt x="9139" y="11886"/>
                  <a:pt x="9180" y="11904"/>
                  <a:pt x="9203" y="11933"/>
                </a:cubicBezTo>
                <a:cubicBezTo>
                  <a:pt x="9232" y="11969"/>
                  <a:pt x="9237" y="12017"/>
                  <a:pt x="9221" y="12060"/>
                </a:cubicBezTo>
                <a:cubicBezTo>
                  <a:pt x="9196" y="12126"/>
                  <a:pt x="9124" y="12172"/>
                  <a:pt x="9058" y="12190"/>
                </a:cubicBezTo>
                <a:cubicBezTo>
                  <a:pt x="9030" y="12197"/>
                  <a:pt x="8962" y="12212"/>
                  <a:pt x="8953" y="12171"/>
                </a:cubicBezTo>
                <a:cubicBezTo>
                  <a:pt x="8956" y="12145"/>
                  <a:pt x="8959" y="12135"/>
                  <a:pt x="8970" y="12120"/>
                </a:cubicBezTo>
              </a:path>
              <a:path w="921" h="869">
                <a:moveTo>
                  <a:pt x="9483" y="11975"/>
                </a:moveTo>
                <a:cubicBezTo>
                  <a:pt x="9478" y="12014"/>
                  <a:pt x="9475" y="12045"/>
                  <a:pt x="9480" y="12085"/>
                </a:cubicBezTo>
                <a:cubicBezTo>
                  <a:pt x="9484" y="12118"/>
                  <a:pt x="9499" y="12157"/>
                  <a:pt x="9540" y="12157"/>
                </a:cubicBezTo>
                <a:cubicBezTo>
                  <a:pt x="9597" y="12156"/>
                  <a:pt x="9647" y="12092"/>
                  <a:pt x="9683" y="12057"/>
                </a:cubicBezTo>
                <a:cubicBezTo>
                  <a:pt x="9704" y="12036"/>
                  <a:pt x="9715" y="12034"/>
                  <a:pt x="9733" y="12025"/>
                </a:cubicBezTo>
                <a:cubicBezTo>
                  <a:pt x="9732" y="12085"/>
                  <a:pt x="9717" y="12137"/>
                  <a:pt x="9703" y="12196"/>
                </a:cubicBezTo>
                <a:cubicBezTo>
                  <a:pt x="9683" y="12280"/>
                  <a:pt x="9658" y="12366"/>
                  <a:pt x="9625" y="12446"/>
                </a:cubicBezTo>
                <a:cubicBezTo>
                  <a:pt x="9608" y="12480"/>
                  <a:pt x="9605" y="12488"/>
                  <a:pt x="9593" y="1250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>
            <a:off x="3713040" y="4181400"/>
            <a:ext cx="117720" cy="231840"/>
          </a:xfrm>
          <a:custGeom>
            <a:avLst/>
            <a:gdLst/>
            <a:ahLst/>
            <a:rect l="l" t="t" r="r" b="b"/>
            <a:pathLst>
              <a:path w="327" h="646">
                <a:moveTo>
                  <a:pt x="10513" y="11845"/>
                </a:moveTo>
                <a:cubicBezTo>
                  <a:pt x="10519" y="11833"/>
                  <a:pt x="10533" y="11806"/>
                  <a:pt x="10544" y="11798"/>
                </a:cubicBezTo>
                <a:cubicBezTo>
                  <a:pt x="10568" y="11781"/>
                  <a:pt x="10563" y="11790"/>
                  <a:pt x="10550" y="11754"/>
                </a:cubicBezTo>
                <a:cubicBezTo>
                  <a:pt x="10539" y="11723"/>
                  <a:pt x="10521" y="11694"/>
                  <a:pt x="10504" y="11667"/>
                </a:cubicBezTo>
                <a:cubicBezTo>
                  <a:pt x="10489" y="11644"/>
                  <a:pt x="10465" y="11604"/>
                  <a:pt x="10431" y="11616"/>
                </a:cubicBezTo>
                <a:cubicBezTo>
                  <a:pt x="10387" y="11632"/>
                  <a:pt x="10358" y="11703"/>
                  <a:pt x="10344" y="11742"/>
                </a:cubicBezTo>
                <a:cubicBezTo>
                  <a:pt x="10323" y="11801"/>
                  <a:pt x="10306" y="11876"/>
                  <a:pt x="10320" y="11939"/>
                </a:cubicBezTo>
                <a:cubicBezTo>
                  <a:pt x="10331" y="11988"/>
                  <a:pt x="10370" y="12002"/>
                  <a:pt x="10414" y="12011"/>
                </a:cubicBezTo>
                <a:cubicBezTo>
                  <a:pt x="10463" y="12021"/>
                  <a:pt x="10511" y="12020"/>
                  <a:pt x="10557" y="12041"/>
                </a:cubicBezTo>
                <a:cubicBezTo>
                  <a:pt x="10598" y="12060"/>
                  <a:pt x="10634" y="12092"/>
                  <a:pt x="10641" y="12139"/>
                </a:cubicBezTo>
                <a:cubicBezTo>
                  <a:pt x="10647" y="12182"/>
                  <a:pt x="10618" y="12221"/>
                  <a:pt x="10581" y="12239"/>
                </a:cubicBezTo>
                <a:cubicBezTo>
                  <a:pt x="10539" y="12260"/>
                  <a:pt x="10475" y="12269"/>
                  <a:pt x="10430" y="12254"/>
                </a:cubicBezTo>
                <a:cubicBezTo>
                  <a:pt x="10392" y="12242"/>
                  <a:pt x="10362" y="12205"/>
                  <a:pt x="10373" y="12164"/>
                </a:cubicBezTo>
                <a:cubicBezTo>
                  <a:pt x="10378" y="12154"/>
                  <a:pt x="10382" y="12144"/>
                  <a:pt x="10387" y="1213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3946680" y="4197240"/>
            <a:ext cx="93600" cy="258840"/>
          </a:xfrm>
          <a:custGeom>
            <a:avLst/>
            <a:gdLst/>
            <a:ahLst/>
            <a:rect l="l" t="t" r="r" b="b"/>
            <a:pathLst>
              <a:path w="261" h="718">
                <a:moveTo>
                  <a:pt x="10972" y="11707"/>
                </a:moveTo>
                <a:cubicBezTo>
                  <a:pt x="10963" y="11680"/>
                  <a:pt x="10965" y="11667"/>
                  <a:pt x="10999" y="11660"/>
                </a:cubicBezTo>
                <a:cubicBezTo>
                  <a:pt x="11030" y="11653"/>
                  <a:pt x="11062" y="11665"/>
                  <a:pt x="11075" y="11695"/>
                </a:cubicBezTo>
                <a:cubicBezTo>
                  <a:pt x="11096" y="11742"/>
                  <a:pt x="11071" y="11799"/>
                  <a:pt x="11055" y="11843"/>
                </a:cubicBezTo>
                <a:cubicBezTo>
                  <a:pt x="11040" y="11884"/>
                  <a:pt x="11011" y="11925"/>
                  <a:pt x="11003" y="11968"/>
                </a:cubicBezTo>
                <a:cubicBezTo>
                  <a:pt x="11003" y="11972"/>
                  <a:pt x="11004" y="11976"/>
                  <a:pt x="11004" y="11980"/>
                </a:cubicBezTo>
                <a:cubicBezTo>
                  <a:pt x="11029" y="11978"/>
                  <a:pt x="11056" y="11974"/>
                  <a:pt x="11082" y="11971"/>
                </a:cubicBezTo>
                <a:cubicBezTo>
                  <a:pt x="11115" y="11968"/>
                  <a:pt x="11152" y="11966"/>
                  <a:pt x="11177" y="11991"/>
                </a:cubicBezTo>
                <a:cubicBezTo>
                  <a:pt x="11201" y="12014"/>
                  <a:pt x="11205" y="12058"/>
                  <a:pt x="11207" y="12089"/>
                </a:cubicBezTo>
                <a:cubicBezTo>
                  <a:pt x="11209" y="12122"/>
                  <a:pt x="11203" y="12159"/>
                  <a:pt x="11211" y="12191"/>
                </a:cubicBezTo>
                <a:cubicBezTo>
                  <a:pt x="11217" y="12214"/>
                  <a:pt x="11222" y="12228"/>
                  <a:pt x="11221" y="12252"/>
                </a:cubicBezTo>
                <a:cubicBezTo>
                  <a:pt x="11220" y="12289"/>
                  <a:pt x="11198" y="12323"/>
                  <a:pt x="11175" y="12346"/>
                </a:cubicBezTo>
                <a:cubicBezTo>
                  <a:pt x="11152" y="12368"/>
                  <a:pt x="11137" y="12371"/>
                  <a:pt x="11106" y="1237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>
            <a:off x="4995720" y="4206960"/>
            <a:ext cx="503280" cy="215640"/>
          </a:xfrm>
          <a:custGeom>
            <a:avLst/>
            <a:gdLst/>
            <a:ahLst/>
            <a:rect l="l" t="t" r="r" b="b"/>
            <a:pathLst>
              <a:path w="1401" h="600">
                <a:moveTo>
                  <a:pt x="13882" y="11774"/>
                </a:moveTo>
                <a:cubicBezTo>
                  <a:pt x="13874" y="11774"/>
                  <a:pt x="13880" y="11844"/>
                  <a:pt x="13881" y="11874"/>
                </a:cubicBezTo>
                <a:cubicBezTo>
                  <a:pt x="13884" y="11959"/>
                  <a:pt x="13883" y="12043"/>
                  <a:pt x="13881" y="12128"/>
                </a:cubicBezTo>
                <a:cubicBezTo>
                  <a:pt x="13880" y="12156"/>
                  <a:pt x="13860" y="12257"/>
                  <a:pt x="13876" y="12283"/>
                </a:cubicBezTo>
                <a:cubicBezTo>
                  <a:pt x="13889" y="12304"/>
                  <a:pt x="13930" y="12224"/>
                  <a:pt x="13932" y="12220"/>
                </a:cubicBezTo>
              </a:path>
              <a:path w="1401" h="600">
                <a:moveTo>
                  <a:pt x="14126" y="11895"/>
                </a:moveTo>
                <a:cubicBezTo>
                  <a:pt x="14132" y="11881"/>
                  <a:pt x="14135" y="11876"/>
                  <a:pt x="14147" y="11874"/>
                </a:cubicBezTo>
                <a:cubicBezTo>
                  <a:pt x="14167" y="11905"/>
                  <a:pt x="14162" y="11927"/>
                  <a:pt x="14159" y="11964"/>
                </a:cubicBezTo>
                <a:cubicBezTo>
                  <a:pt x="14154" y="12023"/>
                  <a:pt x="14141" y="12080"/>
                  <a:pt x="14133" y="12138"/>
                </a:cubicBezTo>
                <a:cubicBezTo>
                  <a:pt x="14128" y="12178"/>
                  <a:pt x="14115" y="12231"/>
                  <a:pt x="14147" y="12264"/>
                </a:cubicBezTo>
                <a:cubicBezTo>
                  <a:pt x="14174" y="12293"/>
                  <a:pt x="14230" y="12276"/>
                  <a:pt x="14262" y="12267"/>
                </a:cubicBezTo>
                <a:cubicBezTo>
                  <a:pt x="14313" y="12253"/>
                  <a:pt x="14364" y="12232"/>
                  <a:pt x="14411" y="12209"/>
                </a:cubicBezTo>
                <a:cubicBezTo>
                  <a:pt x="14438" y="12196"/>
                  <a:pt x="14479" y="12180"/>
                  <a:pt x="14498" y="12157"/>
                </a:cubicBezTo>
                <a:cubicBezTo>
                  <a:pt x="14514" y="12138"/>
                  <a:pt x="14498" y="12117"/>
                  <a:pt x="14489" y="12101"/>
                </a:cubicBezTo>
              </a:path>
              <a:path w="1401" h="600">
                <a:moveTo>
                  <a:pt x="14349" y="12031"/>
                </a:moveTo>
                <a:cubicBezTo>
                  <a:pt x="14332" y="12029"/>
                  <a:pt x="14315" y="12030"/>
                  <a:pt x="14298" y="12028"/>
                </a:cubicBezTo>
                <a:cubicBezTo>
                  <a:pt x="14315" y="12028"/>
                  <a:pt x="14339" y="12023"/>
                  <a:pt x="14322" y="12039"/>
                </a:cubicBezTo>
              </a:path>
              <a:path w="1401" h="600">
                <a:moveTo>
                  <a:pt x="14170" y="11965"/>
                </a:moveTo>
                <a:cubicBezTo>
                  <a:pt x="14164" y="11951"/>
                  <a:pt x="14153" y="11925"/>
                  <a:pt x="14173" y="11913"/>
                </a:cubicBezTo>
                <a:cubicBezTo>
                  <a:pt x="14210" y="11892"/>
                  <a:pt x="14256" y="11874"/>
                  <a:pt x="14299" y="11864"/>
                </a:cubicBezTo>
                <a:cubicBezTo>
                  <a:pt x="14360" y="11849"/>
                  <a:pt x="14423" y="11842"/>
                  <a:pt x="14484" y="11830"/>
                </a:cubicBezTo>
                <a:cubicBezTo>
                  <a:pt x="14514" y="11824"/>
                  <a:pt x="14539" y="11821"/>
                  <a:pt x="14569" y="11819"/>
                </a:cubicBezTo>
              </a:path>
              <a:path w="1401" h="600">
                <a:moveTo>
                  <a:pt x="14340" y="12026"/>
                </a:moveTo>
                <a:cubicBezTo>
                  <a:pt x="14339" y="12041"/>
                  <a:pt x="14325" y="12046"/>
                  <a:pt x="14308" y="12057"/>
                </a:cubicBezTo>
                <a:cubicBezTo>
                  <a:pt x="14283" y="12073"/>
                  <a:pt x="14255" y="12084"/>
                  <a:pt x="14227" y="12092"/>
                </a:cubicBezTo>
                <a:cubicBezTo>
                  <a:pt x="14211" y="12096"/>
                  <a:pt x="14167" y="12109"/>
                  <a:pt x="14152" y="12095"/>
                </a:cubicBezTo>
                <a:cubicBezTo>
                  <a:pt x="14144" y="12080"/>
                  <a:pt x="14140" y="12077"/>
                  <a:pt x="14149" y="12068"/>
                </a:cubicBezTo>
              </a:path>
              <a:path w="1401" h="600">
                <a:moveTo>
                  <a:pt x="14630" y="12074"/>
                </a:moveTo>
                <a:cubicBezTo>
                  <a:pt x="14625" y="12073"/>
                  <a:pt x="14621" y="12073"/>
                  <a:pt x="14616" y="12072"/>
                </a:cubicBezTo>
                <a:cubicBezTo>
                  <a:pt x="14626" y="12051"/>
                  <a:pt x="14648" y="12045"/>
                  <a:pt x="14672" y="12044"/>
                </a:cubicBezTo>
                <a:cubicBezTo>
                  <a:pt x="14705" y="12043"/>
                  <a:pt x="14739" y="12054"/>
                  <a:pt x="14757" y="12083"/>
                </a:cubicBezTo>
                <a:cubicBezTo>
                  <a:pt x="14776" y="12113"/>
                  <a:pt x="14763" y="12152"/>
                  <a:pt x="14750" y="12182"/>
                </a:cubicBezTo>
                <a:cubicBezTo>
                  <a:pt x="14742" y="12202"/>
                  <a:pt x="14730" y="12217"/>
                  <a:pt x="14723" y="12237"/>
                </a:cubicBezTo>
                <a:cubicBezTo>
                  <a:pt x="14751" y="12247"/>
                  <a:pt x="14788" y="12239"/>
                  <a:pt x="14818" y="12227"/>
                </a:cubicBezTo>
                <a:cubicBezTo>
                  <a:pt x="14867" y="12208"/>
                  <a:pt x="14918" y="12182"/>
                  <a:pt x="14962" y="12153"/>
                </a:cubicBezTo>
                <a:cubicBezTo>
                  <a:pt x="14973" y="12145"/>
                  <a:pt x="14983" y="12138"/>
                  <a:pt x="14994" y="12130"/>
                </a:cubicBezTo>
              </a:path>
              <a:path w="1401" h="600">
                <a:moveTo>
                  <a:pt x="15170" y="11687"/>
                </a:moveTo>
                <a:cubicBezTo>
                  <a:pt x="15172" y="11733"/>
                  <a:pt x="15177" y="11779"/>
                  <a:pt x="15183" y="11825"/>
                </a:cubicBezTo>
                <a:cubicBezTo>
                  <a:pt x="15194" y="11906"/>
                  <a:pt x="15204" y="11988"/>
                  <a:pt x="15222" y="12068"/>
                </a:cubicBezTo>
                <a:cubicBezTo>
                  <a:pt x="15232" y="12114"/>
                  <a:pt x="15239" y="12171"/>
                  <a:pt x="15265" y="12212"/>
                </a:cubicBezTo>
                <a:cubicBezTo>
                  <a:pt x="15269" y="12216"/>
                  <a:pt x="15272" y="12220"/>
                  <a:pt x="15276" y="1222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>
            <a:off x="5648400" y="4192560"/>
            <a:ext cx="657000" cy="219240"/>
          </a:xfrm>
          <a:custGeom>
            <a:avLst/>
            <a:gdLst/>
            <a:ahLst/>
            <a:rect l="l" t="t" r="r" b="b"/>
            <a:pathLst>
              <a:path w="1826" h="605">
                <a:moveTo>
                  <a:pt x="15699" y="11835"/>
                </a:moveTo>
                <a:cubicBezTo>
                  <a:pt x="15687" y="11812"/>
                  <a:pt x="15735" y="11803"/>
                  <a:pt x="15763" y="11797"/>
                </a:cubicBezTo>
                <a:cubicBezTo>
                  <a:pt x="15826" y="11784"/>
                  <a:pt x="15890" y="11784"/>
                  <a:pt x="15954" y="11788"/>
                </a:cubicBezTo>
                <a:cubicBezTo>
                  <a:pt x="16006" y="11791"/>
                  <a:pt x="16064" y="11802"/>
                  <a:pt x="16111" y="11827"/>
                </a:cubicBezTo>
                <a:cubicBezTo>
                  <a:pt x="16121" y="11835"/>
                  <a:pt x="16125" y="11838"/>
                  <a:pt x="16116" y="11846"/>
                </a:cubicBezTo>
              </a:path>
              <a:path w="1826" h="605">
                <a:moveTo>
                  <a:pt x="15767" y="11992"/>
                </a:moveTo>
                <a:cubicBezTo>
                  <a:pt x="15791" y="12009"/>
                  <a:pt x="15839" y="11998"/>
                  <a:pt x="15872" y="11998"/>
                </a:cubicBezTo>
                <a:cubicBezTo>
                  <a:pt x="15941" y="11998"/>
                  <a:pt x="16010" y="12004"/>
                  <a:pt x="16078" y="12014"/>
                </a:cubicBezTo>
                <a:cubicBezTo>
                  <a:pt x="16126" y="12021"/>
                  <a:pt x="16173" y="12034"/>
                  <a:pt x="16220" y="12048"/>
                </a:cubicBezTo>
              </a:path>
              <a:path w="1826" h="605">
                <a:moveTo>
                  <a:pt x="16590" y="11804"/>
                </a:moveTo>
                <a:cubicBezTo>
                  <a:pt x="16572" y="11787"/>
                  <a:pt x="16559" y="11774"/>
                  <a:pt x="16548" y="11753"/>
                </a:cubicBezTo>
                <a:cubicBezTo>
                  <a:pt x="16533" y="11725"/>
                  <a:pt x="16552" y="11700"/>
                  <a:pt x="16574" y="11681"/>
                </a:cubicBezTo>
                <a:cubicBezTo>
                  <a:pt x="16610" y="11650"/>
                  <a:pt x="16658" y="11645"/>
                  <a:pt x="16703" y="11655"/>
                </a:cubicBezTo>
                <a:cubicBezTo>
                  <a:pt x="16775" y="11671"/>
                  <a:pt x="16819" y="11738"/>
                  <a:pt x="16818" y="11810"/>
                </a:cubicBezTo>
                <a:cubicBezTo>
                  <a:pt x="16816" y="11946"/>
                  <a:pt x="16701" y="12032"/>
                  <a:pt x="16581" y="12059"/>
                </a:cubicBezTo>
                <a:cubicBezTo>
                  <a:pt x="16595" y="12087"/>
                  <a:pt x="16610" y="12102"/>
                  <a:pt x="16643" y="12126"/>
                </a:cubicBezTo>
                <a:cubicBezTo>
                  <a:pt x="16702" y="12169"/>
                  <a:pt x="16768" y="12206"/>
                  <a:pt x="16837" y="12231"/>
                </a:cubicBezTo>
                <a:cubicBezTo>
                  <a:pt x="16886" y="12249"/>
                  <a:pt x="16923" y="12250"/>
                  <a:pt x="16973" y="12248"/>
                </a:cubicBezTo>
              </a:path>
              <a:path w="1826" h="605">
                <a:moveTo>
                  <a:pt x="17209" y="11755"/>
                </a:moveTo>
                <a:cubicBezTo>
                  <a:pt x="17191" y="11735"/>
                  <a:pt x="17181" y="11720"/>
                  <a:pt x="17147" y="11747"/>
                </a:cubicBezTo>
                <a:cubicBezTo>
                  <a:pt x="17104" y="11782"/>
                  <a:pt x="17070" y="11847"/>
                  <a:pt x="17057" y="11900"/>
                </a:cubicBezTo>
                <a:cubicBezTo>
                  <a:pt x="17041" y="11965"/>
                  <a:pt x="17044" y="12042"/>
                  <a:pt x="17095" y="12091"/>
                </a:cubicBezTo>
                <a:cubicBezTo>
                  <a:pt x="17148" y="12142"/>
                  <a:pt x="17242" y="12135"/>
                  <a:pt x="17307" y="12116"/>
                </a:cubicBezTo>
                <a:cubicBezTo>
                  <a:pt x="17381" y="12095"/>
                  <a:pt x="17445" y="12042"/>
                  <a:pt x="17486" y="11978"/>
                </a:cubicBezTo>
                <a:cubicBezTo>
                  <a:pt x="17517" y="11929"/>
                  <a:pt x="17522" y="11876"/>
                  <a:pt x="17495" y="11824"/>
                </a:cubicBezTo>
                <a:cubicBezTo>
                  <a:pt x="17466" y="11770"/>
                  <a:pt x="17406" y="11737"/>
                  <a:pt x="17348" y="11726"/>
                </a:cubicBezTo>
                <a:cubicBezTo>
                  <a:pt x="17319" y="11722"/>
                  <a:pt x="17311" y="11721"/>
                  <a:pt x="17292" y="1172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>
            <a:off x="6966000" y="4111560"/>
            <a:ext cx="576360" cy="306360"/>
          </a:xfrm>
          <a:custGeom>
            <a:avLst/>
            <a:gdLst/>
            <a:ahLst/>
            <a:rect l="l" t="t" r="r" b="b"/>
            <a:pathLst>
              <a:path w="1604" h="854">
                <a:moveTo>
                  <a:pt x="19533" y="11757"/>
                </a:moveTo>
                <a:cubicBezTo>
                  <a:pt x="19496" y="11732"/>
                  <a:pt x="19496" y="11752"/>
                  <a:pt x="19481" y="11786"/>
                </a:cubicBezTo>
                <a:cubicBezTo>
                  <a:pt x="19458" y="11838"/>
                  <a:pt x="19455" y="11897"/>
                  <a:pt x="19454" y="11953"/>
                </a:cubicBezTo>
                <a:cubicBezTo>
                  <a:pt x="19453" y="12019"/>
                  <a:pt x="19461" y="12084"/>
                  <a:pt x="19470" y="12149"/>
                </a:cubicBezTo>
                <a:cubicBezTo>
                  <a:pt x="19474" y="12176"/>
                  <a:pt x="19481" y="12195"/>
                  <a:pt x="19489" y="12220"/>
                </a:cubicBezTo>
                <a:cubicBezTo>
                  <a:pt x="19506" y="12179"/>
                  <a:pt x="19507" y="12132"/>
                  <a:pt x="19511" y="12087"/>
                </a:cubicBezTo>
                <a:cubicBezTo>
                  <a:pt x="19519" y="11988"/>
                  <a:pt x="19520" y="11888"/>
                  <a:pt x="19533" y="11789"/>
                </a:cubicBezTo>
                <a:cubicBezTo>
                  <a:pt x="19546" y="11692"/>
                  <a:pt x="19555" y="11555"/>
                  <a:pt x="19621" y="11477"/>
                </a:cubicBezTo>
                <a:cubicBezTo>
                  <a:pt x="19660" y="11431"/>
                  <a:pt x="19705" y="11466"/>
                  <a:pt x="19733" y="11504"/>
                </a:cubicBezTo>
                <a:cubicBezTo>
                  <a:pt x="19781" y="11570"/>
                  <a:pt x="19793" y="11652"/>
                  <a:pt x="19779" y="11731"/>
                </a:cubicBezTo>
                <a:cubicBezTo>
                  <a:pt x="19761" y="11833"/>
                  <a:pt x="19694" y="11917"/>
                  <a:pt x="19612" y="11976"/>
                </a:cubicBezTo>
                <a:cubicBezTo>
                  <a:pt x="19562" y="12012"/>
                  <a:pt x="19415" y="12092"/>
                  <a:pt x="19354" y="12034"/>
                </a:cubicBezTo>
                <a:cubicBezTo>
                  <a:pt x="19317" y="11999"/>
                  <a:pt x="19391" y="11948"/>
                  <a:pt x="19409" y="11932"/>
                </a:cubicBezTo>
              </a:path>
              <a:path w="1604" h="854">
                <a:moveTo>
                  <a:pt x="19741" y="11975"/>
                </a:moveTo>
                <a:cubicBezTo>
                  <a:pt x="19765" y="12025"/>
                  <a:pt x="19785" y="12080"/>
                  <a:pt x="19797" y="12134"/>
                </a:cubicBezTo>
                <a:cubicBezTo>
                  <a:pt x="19799" y="12154"/>
                  <a:pt x="19799" y="12160"/>
                  <a:pt x="19805" y="12172"/>
                </a:cubicBezTo>
                <a:cubicBezTo>
                  <a:pt x="19807" y="12140"/>
                  <a:pt x="19806" y="12107"/>
                  <a:pt x="19811" y="12075"/>
                </a:cubicBezTo>
                <a:cubicBezTo>
                  <a:pt x="19821" y="12002"/>
                  <a:pt x="19846" y="11897"/>
                  <a:pt x="19906" y="11846"/>
                </a:cubicBezTo>
                <a:cubicBezTo>
                  <a:pt x="19937" y="11820"/>
                  <a:pt x="19985" y="11808"/>
                  <a:pt x="20024" y="11805"/>
                </a:cubicBezTo>
                <a:cubicBezTo>
                  <a:pt x="20035" y="11805"/>
                  <a:pt x="20045" y="11804"/>
                  <a:pt x="20056" y="11804"/>
                </a:cubicBezTo>
              </a:path>
              <a:path w="1604" h="854">
                <a:moveTo>
                  <a:pt x="20269" y="11617"/>
                </a:moveTo>
                <a:cubicBezTo>
                  <a:pt x="20281" y="11605"/>
                  <a:pt x="20284" y="11602"/>
                  <a:pt x="20292" y="11594"/>
                </a:cubicBezTo>
                <a:cubicBezTo>
                  <a:pt x="20304" y="11622"/>
                  <a:pt x="20303" y="11639"/>
                  <a:pt x="20297" y="11677"/>
                </a:cubicBezTo>
                <a:cubicBezTo>
                  <a:pt x="20283" y="11758"/>
                  <a:pt x="20257" y="11838"/>
                  <a:pt x="20231" y="11916"/>
                </a:cubicBezTo>
                <a:cubicBezTo>
                  <a:pt x="20209" y="11982"/>
                  <a:pt x="20177" y="12056"/>
                  <a:pt x="20179" y="12128"/>
                </a:cubicBezTo>
                <a:cubicBezTo>
                  <a:pt x="20180" y="12179"/>
                  <a:pt x="20218" y="12191"/>
                  <a:pt x="20262" y="12188"/>
                </a:cubicBezTo>
                <a:cubicBezTo>
                  <a:pt x="20321" y="12184"/>
                  <a:pt x="20385" y="12163"/>
                  <a:pt x="20439" y="12141"/>
                </a:cubicBezTo>
                <a:cubicBezTo>
                  <a:pt x="20480" y="12124"/>
                  <a:pt x="20532" y="12108"/>
                  <a:pt x="20563" y="12075"/>
                </a:cubicBezTo>
                <a:cubicBezTo>
                  <a:pt x="20567" y="12070"/>
                  <a:pt x="20570" y="12064"/>
                  <a:pt x="20574" y="12059"/>
                </a:cubicBezTo>
              </a:path>
              <a:path w="1604" h="854">
                <a:moveTo>
                  <a:pt x="20278" y="11963"/>
                </a:moveTo>
                <a:cubicBezTo>
                  <a:pt x="20299" y="11982"/>
                  <a:pt x="20340" y="11977"/>
                  <a:pt x="20370" y="11976"/>
                </a:cubicBezTo>
                <a:cubicBezTo>
                  <a:pt x="20417" y="11974"/>
                  <a:pt x="20460" y="11961"/>
                  <a:pt x="20503" y="11944"/>
                </a:cubicBezTo>
              </a:path>
              <a:path w="1604" h="854">
                <a:moveTo>
                  <a:pt x="20217" y="11721"/>
                </a:moveTo>
                <a:cubicBezTo>
                  <a:pt x="20212" y="11704"/>
                  <a:pt x="20218" y="11679"/>
                  <a:pt x="20237" y="11667"/>
                </a:cubicBezTo>
                <a:cubicBezTo>
                  <a:pt x="20282" y="11639"/>
                  <a:pt x="20339" y="11620"/>
                  <a:pt x="20390" y="11607"/>
                </a:cubicBezTo>
                <a:cubicBezTo>
                  <a:pt x="20452" y="11591"/>
                  <a:pt x="20521" y="11590"/>
                  <a:pt x="20584" y="11598"/>
                </a:cubicBezTo>
                <a:cubicBezTo>
                  <a:pt x="20621" y="11605"/>
                  <a:pt x="20631" y="11607"/>
                  <a:pt x="20655" y="11613"/>
                </a:cubicBezTo>
              </a:path>
              <a:path w="1604" h="854">
                <a:moveTo>
                  <a:pt x="20726" y="11964"/>
                </a:moveTo>
                <a:cubicBezTo>
                  <a:pt x="20752" y="11956"/>
                  <a:pt x="20778" y="11941"/>
                  <a:pt x="20805" y="11938"/>
                </a:cubicBezTo>
                <a:cubicBezTo>
                  <a:pt x="20833" y="11935"/>
                  <a:pt x="20869" y="11936"/>
                  <a:pt x="20882" y="11966"/>
                </a:cubicBezTo>
                <a:cubicBezTo>
                  <a:pt x="20895" y="11997"/>
                  <a:pt x="20870" y="12036"/>
                  <a:pt x="20854" y="12060"/>
                </a:cubicBezTo>
                <a:cubicBezTo>
                  <a:pt x="20835" y="12087"/>
                  <a:pt x="20805" y="12108"/>
                  <a:pt x="20788" y="12137"/>
                </a:cubicBezTo>
                <a:cubicBezTo>
                  <a:pt x="20787" y="12141"/>
                  <a:pt x="20786" y="12144"/>
                  <a:pt x="20785" y="12148"/>
                </a:cubicBezTo>
                <a:cubicBezTo>
                  <a:pt x="20814" y="12159"/>
                  <a:pt x="20846" y="12160"/>
                  <a:pt x="20878" y="12158"/>
                </a:cubicBezTo>
                <a:cubicBezTo>
                  <a:pt x="20914" y="12156"/>
                  <a:pt x="20932" y="12144"/>
                  <a:pt x="20951" y="12117"/>
                </a:cubicBezTo>
              </a:path>
              <a:path w="1604" h="854">
                <a:moveTo>
                  <a:pt x="20423" y="11426"/>
                </a:moveTo>
                <a:cubicBezTo>
                  <a:pt x="20370" y="11421"/>
                  <a:pt x="20320" y="11456"/>
                  <a:pt x="20282" y="11496"/>
                </a:cubicBezTo>
                <a:cubicBezTo>
                  <a:pt x="20207" y="11577"/>
                  <a:pt x="20142" y="11686"/>
                  <a:pt x="20109" y="11791"/>
                </a:cubicBezTo>
                <a:cubicBezTo>
                  <a:pt x="20071" y="11910"/>
                  <a:pt x="20069" y="12063"/>
                  <a:pt x="20138" y="12173"/>
                </a:cubicBezTo>
                <a:cubicBezTo>
                  <a:pt x="20172" y="12226"/>
                  <a:pt x="20217" y="12247"/>
                  <a:pt x="20270" y="1227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7691400" y="4165560"/>
            <a:ext cx="49320" cy="277920"/>
          </a:xfrm>
          <a:custGeom>
            <a:avLst/>
            <a:gdLst/>
            <a:ahLst/>
            <a:rect l="l" t="t" r="r" b="b"/>
            <a:pathLst>
              <a:path w="140" h="773">
                <a:moveTo>
                  <a:pt x="21364" y="11572"/>
                </a:moveTo>
                <a:cubicBezTo>
                  <a:pt x="21390" y="11608"/>
                  <a:pt x="21391" y="11628"/>
                  <a:pt x="21400" y="11676"/>
                </a:cubicBezTo>
                <a:cubicBezTo>
                  <a:pt x="21421" y="11783"/>
                  <a:pt x="21439" y="11889"/>
                  <a:pt x="21450" y="11998"/>
                </a:cubicBezTo>
                <a:cubicBezTo>
                  <a:pt x="21460" y="12094"/>
                  <a:pt x="21465" y="12189"/>
                  <a:pt x="21485" y="12283"/>
                </a:cubicBezTo>
                <a:cubicBezTo>
                  <a:pt x="21493" y="12317"/>
                  <a:pt x="21494" y="12325"/>
                  <a:pt x="21503" y="1234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7931160" y="4224240"/>
            <a:ext cx="155520" cy="123840"/>
          </a:xfrm>
          <a:custGeom>
            <a:avLst/>
            <a:gdLst/>
            <a:ahLst/>
            <a:rect l="l" t="t" r="r" b="b"/>
            <a:pathLst>
              <a:path w="429" h="342">
                <a:moveTo>
                  <a:pt x="22067" y="11763"/>
                </a:moveTo>
                <a:cubicBezTo>
                  <a:pt x="22056" y="11742"/>
                  <a:pt x="22095" y="11753"/>
                  <a:pt x="22117" y="11751"/>
                </a:cubicBezTo>
                <a:cubicBezTo>
                  <a:pt x="22180" y="11746"/>
                  <a:pt x="22243" y="11741"/>
                  <a:pt x="22307" y="11738"/>
                </a:cubicBezTo>
                <a:cubicBezTo>
                  <a:pt x="22352" y="11736"/>
                  <a:pt x="22402" y="11731"/>
                  <a:pt x="22443" y="11750"/>
                </a:cubicBezTo>
              </a:path>
              <a:path w="429" h="342">
                <a:moveTo>
                  <a:pt x="22033" y="12075"/>
                </a:moveTo>
                <a:cubicBezTo>
                  <a:pt x="22093" y="12075"/>
                  <a:pt x="22143" y="12062"/>
                  <a:pt x="22201" y="12049"/>
                </a:cubicBezTo>
                <a:cubicBezTo>
                  <a:pt x="22268" y="12034"/>
                  <a:pt x="22338" y="12028"/>
                  <a:pt x="22406" y="12018"/>
                </a:cubicBezTo>
                <a:cubicBezTo>
                  <a:pt x="22435" y="12014"/>
                  <a:pt x="22443" y="12014"/>
                  <a:pt x="22461" y="1201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8242200" y="4157640"/>
            <a:ext cx="149400" cy="355680"/>
          </a:xfrm>
          <a:custGeom>
            <a:avLst/>
            <a:gdLst/>
            <a:ahLst/>
            <a:rect l="l" t="t" r="r" b="b"/>
            <a:pathLst>
              <a:path w="413" h="989">
                <a:moveTo>
                  <a:pt x="23058" y="11615"/>
                </a:moveTo>
                <a:cubicBezTo>
                  <a:pt x="23047" y="11604"/>
                  <a:pt x="23024" y="11584"/>
                  <a:pt x="23034" y="11564"/>
                </a:cubicBezTo>
                <a:cubicBezTo>
                  <a:pt x="23055" y="11520"/>
                  <a:pt x="23084" y="11576"/>
                  <a:pt x="23089" y="11595"/>
                </a:cubicBezTo>
                <a:cubicBezTo>
                  <a:pt x="23102" y="11643"/>
                  <a:pt x="23098" y="11704"/>
                  <a:pt x="23096" y="11753"/>
                </a:cubicBezTo>
                <a:cubicBezTo>
                  <a:pt x="23094" y="11797"/>
                  <a:pt x="23091" y="11840"/>
                  <a:pt x="23097" y="11883"/>
                </a:cubicBezTo>
                <a:cubicBezTo>
                  <a:pt x="23098" y="11887"/>
                  <a:pt x="23098" y="11890"/>
                  <a:pt x="23099" y="11894"/>
                </a:cubicBezTo>
              </a:path>
              <a:path w="413" h="989">
                <a:moveTo>
                  <a:pt x="22905" y="12005"/>
                </a:moveTo>
                <a:cubicBezTo>
                  <a:pt x="22891" y="12022"/>
                  <a:pt x="22945" y="12012"/>
                  <a:pt x="22964" y="12011"/>
                </a:cubicBezTo>
                <a:cubicBezTo>
                  <a:pt x="23021" y="12008"/>
                  <a:pt x="23078" y="12003"/>
                  <a:pt x="23134" y="11997"/>
                </a:cubicBezTo>
                <a:cubicBezTo>
                  <a:pt x="23176" y="11992"/>
                  <a:pt x="23217" y="11980"/>
                  <a:pt x="23258" y="11976"/>
                </a:cubicBezTo>
                <a:cubicBezTo>
                  <a:pt x="23262" y="11976"/>
                  <a:pt x="23265" y="11976"/>
                  <a:pt x="23269" y="11976"/>
                </a:cubicBezTo>
              </a:path>
              <a:path w="413" h="989">
                <a:moveTo>
                  <a:pt x="23075" y="12070"/>
                </a:moveTo>
                <a:cubicBezTo>
                  <a:pt x="23050" y="12062"/>
                  <a:pt x="23034" y="12083"/>
                  <a:pt x="23018" y="12109"/>
                </a:cubicBezTo>
                <a:cubicBezTo>
                  <a:pt x="22994" y="12147"/>
                  <a:pt x="22975" y="12194"/>
                  <a:pt x="22966" y="12238"/>
                </a:cubicBezTo>
                <a:cubicBezTo>
                  <a:pt x="22958" y="12279"/>
                  <a:pt x="22959" y="12311"/>
                  <a:pt x="22994" y="12337"/>
                </a:cubicBezTo>
                <a:cubicBezTo>
                  <a:pt x="23042" y="12373"/>
                  <a:pt x="23109" y="12369"/>
                  <a:pt x="23157" y="12405"/>
                </a:cubicBezTo>
                <a:cubicBezTo>
                  <a:pt x="23179" y="12422"/>
                  <a:pt x="23200" y="12451"/>
                  <a:pt x="23187" y="12480"/>
                </a:cubicBezTo>
                <a:cubicBezTo>
                  <a:pt x="23174" y="12510"/>
                  <a:pt x="23138" y="12531"/>
                  <a:pt x="23107" y="12536"/>
                </a:cubicBezTo>
                <a:cubicBezTo>
                  <a:pt x="23067" y="12543"/>
                  <a:pt x="23032" y="12530"/>
                  <a:pt x="23006" y="12498"/>
                </a:cubicBezTo>
                <a:cubicBezTo>
                  <a:pt x="22982" y="12469"/>
                  <a:pt x="22981" y="12435"/>
                  <a:pt x="22975" y="12400"/>
                </a:cubicBezTo>
              </a:path>
              <a:path w="413" h="989">
                <a:moveTo>
                  <a:pt x="23054" y="12150"/>
                </a:moveTo>
                <a:cubicBezTo>
                  <a:pt x="23084" y="12163"/>
                  <a:pt x="23103" y="12159"/>
                  <a:pt x="23133" y="12157"/>
                </a:cubicBezTo>
                <a:cubicBezTo>
                  <a:pt x="23176" y="12154"/>
                  <a:pt x="23218" y="12152"/>
                  <a:pt x="23260" y="12153"/>
                </a:cubicBezTo>
                <a:cubicBezTo>
                  <a:pt x="23285" y="12153"/>
                  <a:pt x="23291" y="12153"/>
                  <a:pt x="23307" y="1215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8501040" y="3762360"/>
            <a:ext cx="347760" cy="546120"/>
          </a:xfrm>
          <a:custGeom>
            <a:avLst/>
            <a:gdLst/>
            <a:ahLst/>
            <a:rect l="l" t="t" r="r" b="b"/>
            <a:pathLst>
              <a:path w="962" h="1518">
                <a:moveTo>
                  <a:pt x="23616" y="10596"/>
                </a:moveTo>
                <a:cubicBezTo>
                  <a:pt x="23654" y="10595"/>
                  <a:pt x="23685" y="10595"/>
                  <a:pt x="23723" y="10601"/>
                </a:cubicBezTo>
                <a:cubicBezTo>
                  <a:pt x="23752" y="10605"/>
                  <a:pt x="23799" y="10607"/>
                  <a:pt x="23820" y="10632"/>
                </a:cubicBezTo>
                <a:cubicBezTo>
                  <a:pt x="23822" y="10637"/>
                  <a:pt x="23823" y="10641"/>
                  <a:pt x="23825" y="10646"/>
                </a:cubicBezTo>
              </a:path>
              <a:path w="962" h="1518">
                <a:moveTo>
                  <a:pt x="23634" y="10867"/>
                </a:moveTo>
                <a:cubicBezTo>
                  <a:pt x="23673" y="10859"/>
                  <a:pt x="23708" y="10839"/>
                  <a:pt x="23747" y="10825"/>
                </a:cubicBezTo>
                <a:cubicBezTo>
                  <a:pt x="23772" y="10815"/>
                  <a:pt x="23796" y="10805"/>
                  <a:pt x="23821" y="10795"/>
                </a:cubicBezTo>
              </a:path>
              <a:path w="962" h="1518">
                <a:moveTo>
                  <a:pt x="24080" y="10481"/>
                </a:moveTo>
                <a:cubicBezTo>
                  <a:pt x="24033" y="10461"/>
                  <a:pt x="23997" y="10439"/>
                  <a:pt x="23958" y="10494"/>
                </a:cubicBezTo>
                <a:cubicBezTo>
                  <a:pt x="23949" y="10510"/>
                  <a:pt x="23940" y="10526"/>
                  <a:pt x="23931" y="10542"/>
                </a:cubicBezTo>
                <a:cubicBezTo>
                  <a:pt x="24006" y="10577"/>
                  <a:pt x="24105" y="10593"/>
                  <a:pt x="24082" y="10691"/>
                </a:cubicBezTo>
                <a:cubicBezTo>
                  <a:pt x="24059" y="10736"/>
                  <a:pt x="24054" y="10752"/>
                  <a:pt x="24013" y="10740"/>
                </a:cubicBezTo>
              </a:path>
              <a:path w="962" h="1518">
                <a:moveTo>
                  <a:pt x="23975" y="10532"/>
                </a:moveTo>
                <a:cubicBezTo>
                  <a:pt x="24045" y="10496"/>
                  <a:pt x="24101" y="10463"/>
                  <a:pt x="24178" y="10454"/>
                </a:cubicBezTo>
              </a:path>
              <a:path w="962" h="1518">
                <a:moveTo>
                  <a:pt x="24317" y="10478"/>
                </a:moveTo>
                <a:cubicBezTo>
                  <a:pt x="24211" y="10540"/>
                  <a:pt x="24174" y="10583"/>
                  <a:pt x="24144" y="10703"/>
                </a:cubicBezTo>
                <a:cubicBezTo>
                  <a:pt x="24219" y="10746"/>
                  <a:pt x="24297" y="10772"/>
                  <a:pt x="24377" y="10703"/>
                </a:cubicBezTo>
                <a:cubicBezTo>
                  <a:pt x="24454" y="10637"/>
                  <a:pt x="24380" y="10573"/>
                  <a:pt x="24328" y="10536"/>
                </a:cubicBezTo>
              </a:path>
              <a:path w="962" h="1518">
                <a:moveTo>
                  <a:pt x="23892" y="10960"/>
                </a:moveTo>
                <a:cubicBezTo>
                  <a:pt x="23975" y="10928"/>
                  <a:pt x="24055" y="10892"/>
                  <a:pt x="24141" y="10867"/>
                </a:cubicBezTo>
                <a:cubicBezTo>
                  <a:pt x="24216" y="10845"/>
                  <a:pt x="24293" y="10821"/>
                  <a:pt x="24371" y="10812"/>
                </a:cubicBezTo>
                <a:cubicBezTo>
                  <a:pt x="24389" y="10811"/>
                  <a:pt x="24406" y="10810"/>
                  <a:pt x="24424" y="10809"/>
                </a:cubicBezTo>
              </a:path>
              <a:path w="962" h="1518">
                <a:moveTo>
                  <a:pt x="24025" y="10972"/>
                </a:moveTo>
                <a:cubicBezTo>
                  <a:pt x="24027" y="11062"/>
                  <a:pt x="23992" y="11125"/>
                  <a:pt x="23972" y="11213"/>
                </a:cubicBezTo>
                <a:cubicBezTo>
                  <a:pt x="23971" y="11228"/>
                  <a:pt x="23969" y="11244"/>
                  <a:pt x="23968" y="11259"/>
                </a:cubicBezTo>
              </a:path>
              <a:path w="962" h="1518">
                <a:moveTo>
                  <a:pt x="24153" y="11139"/>
                </a:moveTo>
                <a:cubicBezTo>
                  <a:pt x="24089" y="11162"/>
                  <a:pt x="24049" y="11231"/>
                  <a:pt x="24153" y="11248"/>
                </a:cubicBezTo>
                <a:cubicBezTo>
                  <a:pt x="24231" y="11260"/>
                  <a:pt x="24295" y="11208"/>
                  <a:pt x="24278" y="11126"/>
                </a:cubicBezTo>
                <a:cubicBezTo>
                  <a:pt x="24270" y="11111"/>
                  <a:pt x="24262" y="11097"/>
                  <a:pt x="24254" y="11082"/>
                </a:cubicBezTo>
              </a:path>
              <a:path w="962" h="1518">
                <a:moveTo>
                  <a:pt x="24351" y="11074"/>
                </a:moveTo>
                <a:cubicBezTo>
                  <a:pt x="24353" y="11121"/>
                  <a:pt x="24287" y="11229"/>
                  <a:pt x="24343" y="11256"/>
                </a:cubicBezTo>
                <a:cubicBezTo>
                  <a:pt x="24409" y="11288"/>
                  <a:pt x="24550" y="11224"/>
                  <a:pt x="24576" y="11159"/>
                </a:cubicBezTo>
                <a:cubicBezTo>
                  <a:pt x="24577" y="11104"/>
                  <a:pt x="24574" y="11085"/>
                  <a:pt x="24531" y="11065"/>
                </a:cubicBezTo>
              </a:path>
              <a:path w="962" h="1518">
                <a:moveTo>
                  <a:pt x="23701" y="11702"/>
                </a:moveTo>
                <a:cubicBezTo>
                  <a:pt x="23687" y="11712"/>
                  <a:pt x="23672" y="11715"/>
                  <a:pt x="23663" y="11728"/>
                </a:cubicBezTo>
                <a:cubicBezTo>
                  <a:pt x="23667" y="11752"/>
                  <a:pt x="23699" y="11753"/>
                  <a:pt x="23726" y="11758"/>
                </a:cubicBezTo>
                <a:cubicBezTo>
                  <a:pt x="23775" y="11767"/>
                  <a:pt x="23826" y="11772"/>
                  <a:pt x="23874" y="11786"/>
                </a:cubicBezTo>
                <a:cubicBezTo>
                  <a:pt x="23878" y="11788"/>
                  <a:pt x="23882" y="11790"/>
                  <a:pt x="23886" y="11792"/>
                </a:cubicBezTo>
              </a:path>
              <a:path w="962" h="1518">
                <a:moveTo>
                  <a:pt x="23710" y="11909"/>
                </a:moveTo>
                <a:cubicBezTo>
                  <a:pt x="23693" y="11919"/>
                  <a:pt x="23691" y="11927"/>
                  <a:pt x="23684" y="11913"/>
                </a:cubicBezTo>
                <a:cubicBezTo>
                  <a:pt x="23738" y="11897"/>
                  <a:pt x="23780" y="11895"/>
                  <a:pt x="23838" y="11889"/>
                </a:cubicBezTo>
                <a:cubicBezTo>
                  <a:pt x="23861" y="11886"/>
                  <a:pt x="23884" y="11884"/>
                  <a:pt x="23907" y="11881"/>
                </a:cubicBezTo>
              </a:path>
              <a:path w="962" h="1518">
                <a:moveTo>
                  <a:pt x="24013" y="11783"/>
                </a:moveTo>
                <a:cubicBezTo>
                  <a:pt x="24042" y="11735"/>
                  <a:pt x="24055" y="11719"/>
                  <a:pt x="24096" y="11707"/>
                </a:cubicBezTo>
                <a:cubicBezTo>
                  <a:pt x="24139" y="11793"/>
                  <a:pt x="24110" y="11808"/>
                  <a:pt x="24056" y="11887"/>
                </a:cubicBezTo>
                <a:cubicBezTo>
                  <a:pt x="24047" y="11902"/>
                  <a:pt x="24037" y="11916"/>
                  <a:pt x="24028" y="11931"/>
                </a:cubicBezTo>
                <a:cubicBezTo>
                  <a:pt x="24122" y="11970"/>
                  <a:pt x="24186" y="11967"/>
                  <a:pt x="24288" y="1195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8626320" y="4346640"/>
            <a:ext cx="325440" cy="199800"/>
          </a:xfrm>
          <a:custGeom>
            <a:avLst/>
            <a:gdLst/>
            <a:ahLst/>
            <a:rect l="l" t="t" r="r" b="b"/>
            <a:pathLst>
              <a:path w="905" h="557">
                <a:moveTo>
                  <a:pt x="23961" y="12138"/>
                </a:moveTo>
                <a:cubicBezTo>
                  <a:pt x="24034" y="12132"/>
                  <a:pt x="24105" y="12117"/>
                  <a:pt x="24178" y="12108"/>
                </a:cubicBezTo>
                <a:cubicBezTo>
                  <a:pt x="24252" y="12099"/>
                  <a:pt x="24326" y="12095"/>
                  <a:pt x="24399" y="12084"/>
                </a:cubicBezTo>
                <a:cubicBezTo>
                  <a:pt x="24418" y="12081"/>
                  <a:pt x="24436" y="12077"/>
                  <a:pt x="24455" y="12074"/>
                </a:cubicBezTo>
              </a:path>
              <a:path w="905" h="557">
                <a:moveTo>
                  <a:pt x="24077" y="12423"/>
                </a:moveTo>
                <a:cubicBezTo>
                  <a:pt x="24076" y="12373"/>
                  <a:pt x="24077" y="12358"/>
                  <a:pt x="24060" y="12329"/>
                </a:cubicBezTo>
                <a:cubicBezTo>
                  <a:pt x="24048" y="12362"/>
                  <a:pt x="23981" y="12513"/>
                  <a:pt x="24019" y="12545"/>
                </a:cubicBezTo>
                <a:cubicBezTo>
                  <a:pt x="24037" y="12547"/>
                  <a:pt x="24054" y="12549"/>
                  <a:pt x="24072" y="12551"/>
                </a:cubicBezTo>
              </a:path>
              <a:path w="905" h="557">
                <a:moveTo>
                  <a:pt x="24319" y="12315"/>
                </a:moveTo>
                <a:cubicBezTo>
                  <a:pt x="24232" y="12315"/>
                  <a:pt x="24181" y="12359"/>
                  <a:pt x="24156" y="12454"/>
                </a:cubicBezTo>
                <a:cubicBezTo>
                  <a:pt x="24131" y="12552"/>
                  <a:pt x="24192" y="12613"/>
                  <a:pt x="24285" y="12629"/>
                </a:cubicBezTo>
                <a:cubicBezTo>
                  <a:pt x="24381" y="12645"/>
                  <a:pt x="24457" y="12619"/>
                  <a:pt x="24434" y="12517"/>
                </a:cubicBezTo>
                <a:cubicBezTo>
                  <a:pt x="24423" y="12468"/>
                  <a:pt x="24399" y="12418"/>
                  <a:pt x="24384" y="12370"/>
                </a:cubicBezTo>
              </a:path>
              <a:path w="905" h="557">
                <a:moveTo>
                  <a:pt x="24656" y="12405"/>
                </a:moveTo>
                <a:cubicBezTo>
                  <a:pt x="24585" y="12466"/>
                  <a:pt x="24543" y="12500"/>
                  <a:pt x="24519" y="12589"/>
                </a:cubicBezTo>
                <a:cubicBezTo>
                  <a:pt x="24597" y="12621"/>
                  <a:pt x="24650" y="12624"/>
                  <a:pt x="24732" y="12589"/>
                </a:cubicBezTo>
                <a:cubicBezTo>
                  <a:pt x="24799" y="12560"/>
                  <a:pt x="24900" y="12489"/>
                  <a:pt x="24846" y="12408"/>
                </a:cubicBezTo>
                <a:cubicBezTo>
                  <a:pt x="24794" y="12362"/>
                  <a:pt x="24776" y="12347"/>
                  <a:pt x="24730" y="1233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1260360" y="4770360"/>
            <a:ext cx="30240" cy="368280"/>
          </a:xfrm>
          <a:custGeom>
            <a:avLst/>
            <a:gdLst/>
            <a:ahLst/>
            <a:rect l="l" t="t" r="r" b="b"/>
            <a:pathLst>
              <a:path w="86" h="1025">
                <a:moveTo>
                  <a:pt x="3500" y="13250"/>
                </a:moveTo>
                <a:cubicBezTo>
                  <a:pt x="3512" y="13280"/>
                  <a:pt x="3522" y="13323"/>
                  <a:pt x="3524" y="13365"/>
                </a:cubicBezTo>
                <a:cubicBezTo>
                  <a:pt x="3531" y="13484"/>
                  <a:pt x="3544" y="13602"/>
                  <a:pt x="3553" y="13721"/>
                </a:cubicBezTo>
                <a:cubicBezTo>
                  <a:pt x="3562" y="13853"/>
                  <a:pt x="3568" y="13985"/>
                  <a:pt x="3577" y="14117"/>
                </a:cubicBezTo>
                <a:cubicBezTo>
                  <a:pt x="3581" y="14171"/>
                  <a:pt x="3585" y="14221"/>
                  <a:pt x="3583" y="1427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1430280" y="4727520"/>
            <a:ext cx="1182600" cy="349200"/>
          </a:xfrm>
          <a:custGeom>
            <a:avLst/>
            <a:gdLst/>
            <a:ahLst/>
            <a:rect l="l" t="t" r="r" b="b"/>
            <a:pathLst>
              <a:path w="3285" h="972">
                <a:moveTo>
                  <a:pt x="4199" y="13556"/>
                </a:moveTo>
                <a:cubicBezTo>
                  <a:pt x="4194" y="13502"/>
                  <a:pt x="4192" y="13445"/>
                  <a:pt x="4182" y="13392"/>
                </a:cubicBezTo>
                <a:cubicBezTo>
                  <a:pt x="4177" y="13368"/>
                  <a:pt x="4171" y="13349"/>
                  <a:pt x="4163" y="13327"/>
                </a:cubicBezTo>
                <a:cubicBezTo>
                  <a:pt x="4127" y="13359"/>
                  <a:pt x="4113" y="13412"/>
                  <a:pt x="4095" y="13459"/>
                </a:cubicBezTo>
                <a:cubicBezTo>
                  <a:pt x="4059" y="13553"/>
                  <a:pt x="4029" y="13649"/>
                  <a:pt x="4004" y="13747"/>
                </a:cubicBezTo>
                <a:cubicBezTo>
                  <a:pt x="3987" y="13814"/>
                  <a:pt x="3963" y="13892"/>
                  <a:pt x="3974" y="13962"/>
                </a:cubicBezTo>
                <a:cubicBezTo>
                  <a:pt x="3983" y="14019"/>
                  <a:pt x="4038" y="14030"/>
                  <a:pt x="4087" y="14030"/>
                </a:cubicBezTo>
                <a:cubicBezTo>
                  <a:pt x="4188" y="14031"/>
                  <a:pt x="4287" y="14007"/>
                  <a:pt x="4386" y="13996"/>
                </a:cubicBezTo>
                <a:cubicBezTo>
                  <a:pt x="4420" y="13992"/>
                  <a:pt x="4444" y="13997"/>
                  <a:pt x="4450" y="13958"/>
                </a:cubicBezTo>
                <a:cubicBezTo>
                  <a:pt x="4448" y="13951"/>
                  <a:pt x="4447" y="13943"/>
                  <a:pt x="4445" y="13936"/>
                </a:cubicBezTo>
              </a:path>
              <a:path w="3285" h="972">
                <a:moveTo>
                  <a:pt x="4126" y="13823"/>
                </a:moveTo>
                <a:cubicBezTo>
                  <a:pt x="4173" y="13796"/>
                  <a:pt x="4223" y="13773"/>
                  <a:pt x="4275" y="13755"/>
                </a:cubicBezTo>
                <a:cubicBezTo>
                  <a:pt x="4329" y="13736"/>
                  <a:pt x="4385" y="13723"/>
                  <a:pt x="4440" y="13708"/>
                </a:cubicBezTo>
              </a:path>
              <a:path w="3285" h="972">
                <a:moveTo>
                  <a:pt x="4090" y="13589"/>
                </a:moveTo>
                <a:cubicBezTo>
                  <a:pt x="4066" y="13570"/>
                  <a:pt x="4043" y="13541"/>
                  <a:pt x="4072" y="13508"/>
                </a:cubicBezTo>
                <a:cubicBezTo>
                  <a:pt x="4116" y="13458"/>
                  <a:pt x="4197" y="13432"/>
                  <a:pt x="4258" y="13414"/>
                </a:cubicBezTo>
                <a:cubicBezTo>
                  <a:pt x="4331" y="13392"/>
                  <a:pt x="4412" y="13384"/>
                  <a:pt x="4488" y="13397"/>
                </a:cubicBezTo>
                <a:cubicBezTo>
                  <a:pt x="4501" y="13401"/>
                  <a:pt x="4513" y="13404"/>
                  <a:pt x="4526" y="13408"/>
                </a:cubicBezTo>
              </a:path>
              <a:path w="3285" h="972">
                <a:moveTo>
                  <a:pt x="4824" y="13746"/>
                </a:moveTo>
                <a:cubicBezTo>
                  <a:pt x="4824" y="13779"/>
                  <a:pt x="4807" y="13802"/>
                  <a:pt x="4801" y="13833"/>
                </a:cubicBezTo>
                <a:cubicBezTo>
                  <a:pt x="4791" y="13887"/>
                  <a:pt x="4788" y="13943"/>
                  <a:pt x="4780" y="13998"/>
                </a:cubicBezTo>
                <a:cubicBezTo>
                  <a:pt x="4776" y="14030"/>
                  <a:pt x="4773" y="14060"/>
                  <a:pt x="4773" y="14092"/>
                </a:cubicBezTo>
                <a:cubicBezTo>
                  <a:pt x="4773" y="14095"/>
                  <a:pt x="4774" y="14099"/>
                  <a:pt x="4774" y="14102"/>
                </a:cubicBezTo>
              </a:path>
              <a:path w="3285" h="972">
                <a:moveTo>
                  <a:pt x="5176" y="13970"/>
                </a:moveTo>
                <a:cubicBezTo>
                  <a:pt x="5149" y="13960"/>
                  <a:pt x="5150" y="13959"/>
                  <a:pt x="5153" y="13910"/>
                </a:cubicBezTo>
                <a:cubicBezTo>
                  <a:pt x="5158" y="13813"/>
                  <a:pt x="5179" y="13716"/>
                  <a:pt x="5205" y="13622"/>
                </a:cubicBezTo>
                <a:cubicBezTo>
                  <a:pt x="5231" y="13527"/>
                  <a:pt x="5262" y="13415"/>
                  <a:pt x="5323" y="13336"/>
                </a:cubicBezTo>
                <a:cubicBezTo>
                  <a:pt x="5332" y="13328"/>
                  <a:pt x="5342" y="13319"/>
                  <a:pt x="5351" y="13311"/>
                </a:cubicBezTo>
                <a:cubicBezTo>
                  <a:pt x="5419" y="13344"/>
                  <a:pt x="5422" y="13419"/>
                  <a:pt x="5436" y="13493"/>
                </a:cubicBezTo>
                <a:cubicBezTo>
                  <a:pt x="5466" y="13653"/>
                  <a:pt x="5469" y="13830"/>
                  <a:pt x="5527" y="13982"/>
                </a:cubicBezTo>
                <a:cubicBezTo>
                  <a:pt x="5545" y="14028"/>
                  <a:pt x="5543" y="14004"/>
                  <a:pt x="5563" y="14014"/>
                </a:cubicBezTo>
              </a:path>
              <a:path w="3285" h="972">
                <a:moveTo>
                  <a:pt x="5863" y="13434"/>
                </a:moveTo>
                <a:cubicBezTo>
                  <a:pt x="5870" y="13459"/>
                  <a:pt x="5866" y="13466"/>
                  <a:pt x="5866" y="13492"/>
                </a:cubicBezTo>
                <a:cubicBezTo>
                  <a:pt x="5865" y="13558"/>
                  <a:pt x="5854" y="13624"/>
                  <a:pt x="5839" y="13689"/>
                </a:cubicBezTo>
                <a:cubicBezTo>
                  <a:pt x="5822" y="13764"/>
                  <a:pt x="5795" y="13837"/>
                  <a:pt x="5780" y="13912"/>
                </a:cubicBezTo>
                <a:cubicBezTo>
                  <a:pt x="5774" y="13939"/>
                  <a:pt x="5759" y="14000"/>
                  <a:pt x="5794" y="14017"/>
                </a:cubicBezTo>
                <a:cubicBezTo>
                  <a:pt x="5828" y="14034"/>
                  <a:pt x="5887" y="14010"/>
                  <a:pt x="5919" y="14001"/>
                </a:cubicBezTo>
                <a:cubicBezTo>
                  <a:pt x="5967" y="13987"/>
                  <a:pt x="6021" y="13974"/>
                  <a:pt x="6067" y="13956"/>
                </a:cubicBezTo>
                <a:cubicBezTo>
                  <a:pt x="6091" y="13947"/>
                  <a:pt x="6123" y="13933"/>
                  <a:pt x="6140" y="13915"/>
                </a:cubicBezTo>
                <a:cubicBezTo>
                  <a:pt x="6140" y="13912"/>
                  <a:pt x="6141" y="13909"/>
                  <a:pt x="6141" y="13906"/>
                </a:cubicBezTo>
              </a:path>
              <a:path w="3285" h="972">
                <a:moveTo>
                  <a:pt x="5861" y="13777"/>
                </a:moveTo>
                <a:cubicBezTo>
                  <a:pt x="5861" y="13755"/>
                  <a:pt x="5894" y="13732"/>
                  <a:pt x="5917" y="13720"/>
                </a:cubicBezTo>
                <a:cubicBezTo>
                  <a:pt x="5976" y="13688"/>
                  <a:pt x="6046" y="13655"/>
                  <a:pt x="6109" y="13634"/>
                </a:cubicBezTo>
                <a:cubicBezTo>
                  <a:pt x="6142" y="13623"/>
                  <a:pt x="6175" y="13614"/>
                  <a:pt x="6208" y="13604"/>
                </a:cubicBezTo>
              </a:path>
              <a:path w="3285" h="972">
                <a:moveTo>
                  <a:pt x="5852" y="13471"/>
                </a:moveTo>
                <a:cubicBezTo>
                  <a:pt x="5844" y="13428"/>
                  <a:pt x="5859" y="13387"/>
                  <a:pt x="5895" y="13354"/>
                </a:cubicBezTo>
                <a:cubicBezTo>
                  <a:pt x="5951" y="13303"/>
                  <a:pt x="6039" y="13262"/>
                  <a:pt x="6113" y="13250"/>
                </a:cubicBezTo>
                <a:cubicBezTo>
                  <a:pt x="6167" y="13241"/>
                  <a:pt x="6213" y="13251"/>
                  <a:pt x="6264" y="13263"/>
                </a:cubicBezTo>
              </a:path>
              <a:path w="3285" h="972">
                <a:moveTo>
                  <a:pt x="6376" y="13697"/>
                </a:moveTo>
                <a:cubicBezTo>
                  <a:pt x="6418" y="13686"/>
                  <a:pt x="6460" y="13661"/>
                  <a:pt x="6502" y="13652"/>
                </a:cubicBezTo>
                <a:cubicBezTo>
                  <a:pt x="6552" y="13642"/>
                  <a:pt x="6627" y="13635"/>
                  <a:pt x="6664" y="13680"/>
                </a:cubicBezTo>
                <a:cubicBezTo>
                  <a:pt x="6707" y="13732"/>
                  <a:pt x="6672" y="13810"/>
                  <a:pt x="6647" y="13860"/>
                </a:cubicBezTo>
                <a:cubicBezTo>
                  <a:pt x="6608" y="13936"/>
                  <a:pt x="6544" y="13993"/>
                  <a:pt x="6500" y="14065"/>
                </a:cubicBezTo>
                <a:cubicBezTo>
                  <a:pt x="6498" y="14070"/>
                  <a:pt x="6497" y="14074"/>
                  <a:pt x="6495" y="14079"/>
                </a:cubicBezTo>
                <a:cubicBezTo>
                  <a:pt x="6547" y="14075"/>
                  <a:pt x="6596" y="14059"/>
                  <a:pt x="6647" y="14047"/>
                </a:cubicBezTo>
                <a:cubicBezTo>
                  <a:pt x="6708" y="14032"/>
                  <a:pt x="6764" y="14023"/>
                  <a:pt x="6826" y="14017"/>
                </a:cubicBezTo>
                <a:cubicBezTo>
                  <a:pt x="6849" y="14014"/>
                  <a:pt x="6855" y="14014"/>
                  <a:pt x="6869" y="14013"/>
                </a:cubicBezTo>
              </a:path>
              <a:path w="3285" h="972">
                <a:moveTo>
                  <a:pt x="7172" y="13140"/>
                </a:moveTo>
                <a:cubicBezTo>
                  <a:pt x="7185" y="13150"/>
                  <a:pt x="7184" y="13159"/>
                  <a:pt x="7189" y="13204"/>
                </a:cubicBezTo>
                <a:cubicBezTo>
                  <a:pt x="7201" y="13311"/>
                  <a:pt x="7213" y="13418"/>
                  <a:pt x="7223" y="13525"/>
                </a:cubicBezTo>
                <a:cubicBezTo>
                  <a:pt x="7236" y="13665"/>
                  <a:pt x="7244" y="13805"/>
                  <a:pt x="7252" y="13945"/>
                </a:cubicBezTo>
                <a:cubicBezTo>
                  <a:pt x="7254" y="13978"/>
                  <a:pt x="7255" y="14009"/>
                  <a:pt x="7255" y="1404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2774880" y="4834080"/>
            <a:ext cx="123840" cy="137880"/>
          </a:xfrm>
          <a:custGeom>
            <a:avLst/>
            <a:gdLst/>
            <a:ahLst/>
            <a:rect l="l" t="t" r="r" b="b"/>
            <a:pathLst>
              <a:path w="346" h="385">
                <a:moveTo>
                  <a:pt x="7737" y="13433"/>
                </a:moveTo>
                <a:cubicBezTo>
                  <a:pt x="7706" y="13425"/>
                  <a:pt x="7774" y="13442"/>
                  <a:pt x="7784" y="13442"/>
                </a:cubicBezTo>
                <a:cubicBezTo>
                  <a:pt x="7837" y="13442"/>
                  <a:pt x="7892" y="13440"/>
                  <a:pt x="7945" y="13437"/>
                </a:cubicBezTo>
                <a:cubicBezTo>
                  <a:pt x="7972" y="13435"/>
                  <a:pt x="7996" y="13434"/>
                  <a:pt x="8022" y="13436"/>
                </a:cubicBezTo>
              </a:path>
              <a:path w="346" h="385">
                <a:moveTo>
                  <a:pt x="7718" y="13764"/>
                </a:moveTo>
                <a:cubicBezTo>
                  <a:pt x="7710" y="13784"/>
                  <a:pt x="7707" y="13788"/>
                  <a:pt x="7708" y="13802"/>
                </a:cubicBezTo>
                <a:cubicBezTo>
                  <a:pt x="7739" y="13814"/>
                  <a:pt x="7776" y="13802"/>
                  <a:pt x="7811" y="13796"/>
                </a:cubicBezTo>
                <a:cubicBezTo>
                  <a:pt x="7869" y="13785"/>
                  <a:pt x="7927" y="13779"/>
                  <a:pt x="7984" y="13766"/>
                </a:cubicBezTo>
                <a:cubicBezTo>
                  <a:pt x="8020" y="13757"/>
                  <a:pt x="8031" y="13755"/>
                  <a:pt x="8053" y="1374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>
            <a:off x="3192480" y="4722840"/>
            <a:ext cx="318960" cy="336600"/>
          </a:xfrm>
          <a:custGeom>
            <a:avLst/>
            <a:gdLst/>
            <a:ahLst/>
            <a:rect l="l" t="t" r="r" b="b"/>
            <a:pathLst>
              <a:path w="886" h="932">
                <a:moveTo>
                  <a:pt x="8903" y="13186"/>
                </a:moveTo>
                <a:cubicBezTo>
                  <a:pt x="8902" y="13166"/>
                  <a:pt x="8901" y="13150"/>
                  <a:pt x="8893" y="13131"/>
                </a:cubicBezTo>
                <a:cubicBezTo>
                  <a:pt x="8891" y="13127"/>
                  <a:pt x="8889" y="13124"/>
                  <a:pt x="8887" y="13120"/>
                </a:cubicBezTo>
                <a:cubicBezTo>
                  <a:pt x="8874" y="13155"/>
                  <a:pt x="8879" y="13192"/>
                  <a:pt x="8878" y="13230"/>
                </a:cubicBezTo>
                <a:cubicBezTo>
                  <a:pt x="8874" y="13336"/>
                  <a:pt x="8876" y="13442"/>
                  <a:pt x="8873" y="13548"/>
                </a:cubicBezTo>
                <a:cubicBezTo>
                  <a:pt x="8869" y="13690"/>
                  <a:pt x="8867" y="13832"/>
                  <a:pt x="8868" y="13974"/>
                </a:cubicBezTo>
                <a:cubicBezTo>
                  <a:pt x="8868" y="13983"/>
                  <a:pt x="8863" y="14091"/>
                  <a:pt x="8882" y="14028"/>
                </a:cubicBezTo>
                <a:cubicBezTo>
                  <a:pt x="8883" y="14019"/>
                  <a:pt x="8884" y="14011"/>
                  <a:pt x="8885" y="14002"/>
                </a:cubicBezTo>
              </a:path>
              <a:path w="886" h="932">
                <a:moveTo>
                  <a:pt x="9465" y="13142"/>
                </a:moveTo>
                <a:cubicBezTo>
                  <a:pt x="9416" y="13150"/>
                  <a:pt x="9398" y="13154"/>
                  <a:pt x="9359" y="13188"/>
                </a:cubicBezTo>
                <a:cubicBezTo>
                  <a:pt x="9298" y="13241"/>
                  <a:pt x="9262" y="13320"/>
                  <a:pt x="9237" y="13396"/>
                </a:cubicBezTo>
                <a:cubicBezTo>
                  <a:pt x="9200" y="13508"/>
                  <a:pt x="9192" y="13640"/>
                  <a:pt x="9270" y="13738"/>
                </a:cubicBezTo>
                <a:cubicBezTo>
                  <a:pt x="9342" y="13828"/>
                  <a:pt x="9467" y="13830"/>
                  <a:pt x="9564" y="13784"/>
                </a:cubicBezTo>
                <a:cubicBezTo>
                  <a:pt x="9646" y="13745"/>
                  <a:pt x="9707" y="13668"/>
                  <a:pt x="9737" y="13584"/>
                </a:cubicBezTo>
                <a:cubicBezTo>
                  <a:pt x="9761" y="13515"/>
                  <a:pt x="9759" y="13430"/>
                  <a:pt x="9718" y="13368"/>
                </a:cubicBezTo>
                <a:cubicBezTo>
                  <a:pt x="9675" y="13303"/>
                  <a:pt x="9593" y="13261"/>
                  <a:pt x="9520" y="13242"/>
                </a:cubicBezTo>
                <a:cubicBezTo>
                  <a:pt x="9438" y="13220"/>
                  <a:pt x="9362" y="13233"/>
                  <a:pt x="9287" y="1326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4387680" y="4707000"/>
            <a:ext cx="354240" cy="301680"/>
          </a:xfrm>
          <a:custGeom>
            <a:avLst/>
            <a:gdLst/>
            <a:ahLst/>
            <a:rect l="l" t="t" r="r" b="b"/>
            <a:pathLst>
              <a:path w="983" h="838">
                <a:moveTo>
                  <a:pt x="12239" y="13319"/>
                </a:moveTo>
                <a:cubicBezTo>
                  <a:pt x="12217" y="13355"/>
                  <a:pt x="12206" y="13402"/>
                  <a:pt x="12205" y="13446"/>
                </a:cubicBezTo>
                <a:cubicBezTo>
                  <a:pt x="12204" y="13528"/>
                  <a:pt x="12217" y="13610"/>
                  <a:pt x="12231" y="13690"/>
                </a:cubicBezTo>
                <a:cubicBezTo>
                  <a:pt x="12238" y="13729"/>
                  <a:pt x="12246" y="13767"/>
                  <a:pt x="12254" y="13806"/>
                </a:cubicBezTo>
                <a:cubicBezTo>
                  <a:pt x="12231" y="13740"/>
                  <a:pt x="12213" y="13672"/>
                  <a:pt x="12202" y="13603"/>
                </a:cubicBezTo>
                <a:cubicBezTo>
                  <a:pt x="12179" y="13460"/>
                  <a:pt x="12174" y="13274"/>
                  <a:pt x="12245" y="13142"/>
                </a:cubicBezTo>
                <a:cubicBezTo>
                  <a:pt x="12274" y="13088"/>
                  <a:pt x="12330" y="13050"/>
                  <a:pt x="12387" y="13092"/>
                </a:cubicBezTo>
                <a:cubicBezTo>
                  <a:pt x="12505" y="13179"/>
                  <a:pt x="12517" y="13400"/>
                  <a:pt x="12413" y="13500"/>
                </a:cubicBezTo>
                <a:cubicBezTo>
                  <a:pt x="12381" y="13531"/>
                  <a:pt x="12318" y="13555"/>
                  <a:pt x="12276" y="13531"/>
                </a:cubicBezTo>
                <a:cubicBezTo>
                  <a:pt x="12235" y="13508"/>
                  <a:pt x="12260" y="13471"/>
                  <a:pt x="12277" y="13444"/>
                </a:cubicBezTo>
              </a:path>
              <a:path w="983" h="838">
                <a:moveTo>
                  <a:pt x="12565" y="13620"/>
                </a:moveTo>
                <a:cubicBezTo>
                  <a:pt x="12575" y="13683"/>
                  <a:pt x="12583" y="13749"/>
                  <a:pt x="12575" y="13812"/>
                </a:cubicBezTo>
                <a:cubicBezTo>
                  <a:pt x="12570" y="13827"/>
                  <a:pt x="12568" y="13831"/>
                  <a:pt x="12568" y="13841"/>
                </a:cubicBezTo>
                <a:cubicBezTo>
                  <a:pt x="12552" y="13808"/>
                  <a:pt x="12557" y="13767"/>
                  <a:pt x="12558" y="13730"/>
                </a:cubicBezTo>
                <a:cubicBezTo>
                  <a:pt x="12561" y="13660"/>
                  <a:pt x="12569" y="13590"/>
                  <a:pt x="12594" y="13525"/>
                </a:cubicBezTo>
                <a:cubicBezTo>
                  <a:pt x="12611" y="13480"/>
                  <a:pt x="12644" y="13437"/>
                  <a:pt x="12698" y="13438"/>
                </a:cubicBezTo>
                <a:cubicBezTo>
                  <a:pt x="12733" y="13445"/>
                  <a:pt x="12744" y="13447"/>
                  <a:pt x="12767" y="13453"/>
                </a:cubicBezTo>
              </a:path>
              <a:path w="983" h="838">
                <a:moveTo>
                  <a:pt x="13171" y="13169"/>
                </a:moveTo>
                <a:cubicBezTo>
                  <a:pt x="13169" y="13151"/>
                  <a:pt x="13169" y="13147"/>
                  <a:pt x="13164" y="13137"/>
                </a:cubicBezTo>
                <a:cubicBezTo>
                  <a:pt x="13128" y="13183"/>
                  <a:pt x="13124" y="13241"/>
                  <a:pt x="13114" y="13301"/>
                </a:cubicBezTo>
                <a:cubicBezTo>
                  <a:pt x="13096" y="13414"/>
                  <a:pt x="13087" y="13532"/>
                  <a:pt x="13090" y="13647"/>
                </a:cubicBezTo>
                <a:cubicBezTo>
                  <a:pt x="13092" y="13723"/>
                  <a:pt x="13090" y="13819"/>
                  <a:pt x="13128" y="13888"/>
                </a:cubicBezTo>
                <a:cubicBezTo>
                  <a:pt x="13143" y="13905"/>
                  <a:pt x="13146" y="13911"/>
                  <a:pt x="13162" y="1391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>
            <a:off x="4871880" y="4730760"/>
            <a:ext cx="1014480" cy="306360"/>
          </a:xfrm>
          <a:custGeom>
            <a:avLst/>
            <a:gdLst/>
            <a:ahLst/>
            <a:rect l="l" t="t" r="r" b="b"/>
            <a:pathLst>
              <a:path w="2816" h="850">
                <a:moveTo>
                  <a:pt x="13591" y="13344"/>
                </a:moveTo>
                <a:cubicBezTo>
                  <a:pt x="13563" y="13320"/>
                  <a:pt x="13563" y="13366"/>
                  <a:pt x="13556" y="13394"/>
                </a:cubicBezTo>
                <a:cubicBezTo>
                  <a:pt x="13541" y="13455"/>
                  <a:pt x="13538" y="13515"/>
                  <a:pt x="13536" y="13578"/>
                </a:cubicBezTo>
                <a:cubicBezTo>
                  <a:pt x="13534" y="13635"/>
                  <a:pt x="13530" y="13694"/>
                  <a:pt x="13547" y="13749"/>
                </a:cubicBezTo>
                <a:cubicBezTo>
                  <a:pt x="13563" y="13801"/>
                  <a:pt x="13602" y="13802"/>
                  <a:pt x="13649" y="13798"/>
                </a:cubicBezTo>
                <a:cubicBezTo>
                  <a:pt x="13698" y="13794"/>
                  <a:pt x="13751" y="13791"/>
                  <a:pt x="13800" y="13783"/>
                </a:cubicBezTo>
                <a:cubicBezTo>
                  <a:pt x="13834" y="13777"/>
                  <a:pt x="13862" y="13776"/>
                  <a:pt x="13876" y="13747"/>
                </a:cubicBezTo>
              </a:path>
              <a:path w="2816" h="850">
                <a:moveTo>
                  <a:pt x="13579" y="13671"/>
                </a:moveTo>
                <a:cubicBezTo>
                  <a:pt x="13541" y="13643"/>
                  <a:pt x="13597" y="13622"/>
                  <a:pt x="13628" y="13607"/>
                </a:cubicBezTo>
                <a:cubicBezTo>
                  <a:pt x="13690" y="13576"/>
                  <a:pt x="13751" y="13558"/>
                  <a:pt x="13816" y="13536"/>
                </a:cubicBezTo>
                <a:cubicBezTo>
                  <a:pt x="13844" y="13526"/>
                  <a:pt x="13858" y="13520"/>
                  <a:pt x="13876" y="13499"/>
                </a:cubicBezTo>
              </a:path>
              <a:path w="2816" h="850">
                <a:moveTo>
                  <a:pt x="13564" y="13449"/>
                </a:moveTo>
                <a:cubicBezTo>
                  <a:pt x="13539" y="13425"/>
                  <a:pt x="13545" y="13396"/>
                  <a:pt x="13576" y="13368"/>
                </a:cubicBezTo>
                <a:cubicBezTo>
                  <a:pt x="13624" y="13325"/>
                  <a:pt x="13701" y="13291"/>
                  <a:pt x="13765" y="13283"/>
                </a:cubicBezTo>
                <a:cubicBezTo>
                  <a:pt x="13813" y="13277"/>
                  <a:pt x="13848" y="13290"/>
                  <a:pt x="13892" y="13305"/>
                </a:cubicBezTo>
              </a:path>
              <a:path w="2816" h="850">
                <a:moveTo>
                  <a:pt x="14065" y="13722"/>
                </a:moveTo>
                <a:cubicBezTo>
                  <a:pt x="14058" y="13776"/>
                  <a:pt x="14045" y="13831"/>
                  <a:pt x="14040" y="13885"/>
                </a:cubicBezTo>
                <a:cubicBezTo>
                  <a:pt x="14039" y="13900"/>
                  <a:pt x="14031" y="13977"/>
                  <a:pt x="14044" y="13990"/>
                </a:cubicBezTo>
                <a:cubicBezTo>
                  <a:pt x="14058" y="13992"/>
                  <a:pt x="14063" y="13992"/>
                  <a:pt x="14066" y="13979"/>
                </a:cubicBezTo>
              </a:path>
              <a:path w="2816" h="850">
                <a:moveTo>
                  <a:pt x="14407" y="13282"/>
                </a:moveTo>
                <a:cubicBezTo>
                  <a:pt x="14391" y="13268"/>
                  <a:pt x="14388" y="13264"/>
                  <a:pt x="14375" y="13262"/>
                </a:cubicBezTo>
                <a:cubicBezTo>
                  <a:pt x="14341" y="13285"/>
                  <a:pt x="14337" y="13316"/>
                  <a:pt x="14339" y="13358"/>
                </a:cubicBezTo>
                <a:cubicBezTo>
                  <a:pt x="14342" y="13438"/>
                  <a:pt x="14366" y="13518"/>
                  <a:pt x="14399" y="13590"/>
                </a:cubicBezTo>
                <a:cubicBezTo>
                  <a:pt x="14422" y="13639"/>
                  <a:pt x="14460" y="13706"/>
                  <a:pt x="14524" y="13699"/>
                </a:cubicBezTo>
                <a:cubicBezTo>
                  <a:pt x="14586" y="13693"/>
                  <a:pt x="14623" y="13610"/>
                  <a:pt x="14646" y="13563"/>
                </a:cubicBezTo>
                <a:cubicBezTo>
                  <a:pt x="14682" y="13489"/>
                  <a:pt x="14708" y="13409"/>
                  <a:pt x="14729" y="13329"/>
                </a:cubicBezTo>
                <a:cubicBezTo>
                  <a:pt x="14735" y="13306"/>
                  <a:pt x="14767" y="13226"/>
                  <a:pt x="14740" y="13202"/>
                </a:cubicBezTo>
                <a:cubicBezTo>
                  <a:pt x="14734" y="13201"/>
                  <a:pt x="14728" y="13199"/>
                  <a:pt x="14722" y="13198"/>
                </a:cubicBezTo>
              </a:path>
              <a:path w="2816" h="850">
                <a:moveTo>
                  <a:pt x="14985" y="13290"/>
                </a:moveTo>
                <a:cubicBezTo>
                  <a:pt x="14978" y="13323"/>
                  <a:pt x="14977" y="13349"/>
                  <a:pt x="14974" y="13382"/>
                </a:cubicBezTo>
                <a:cubicBezTo>
                  <a:pt x="14968" y="13453"/>
                  <a:pt x="14965" y="13524"/>
                  <a:pt x="14964" y="13595"/>
                </a:cubicBezTo>
                <a:cubicBezTo>
                  <a:pt x="14963" y="13650"/>
                  <a:pt x="14955" y="13713"/>
                  <a:pt x="14965" y="13768"/>
                </a:cubicBezTo>
                <a:cubicBezTo>
                  <a:pt x="14967" y="13773"/>
                  <a:pt x="14969" y="13779"/>
                  <a:pt x="14971" y="13784"/>
                </a:cubicBezTo>
                <a:cubicBezTo>
                  <a:pt x="15005" y="13787"/>
                  <a:pt x="15022" y="13767"/>
                  <a:pt x="15052" y="13750"/>
                </a:cubicBezTo>
                <a:cubicBezTo>
                  <a:pt x="15102" y="13722"/>
                  <a:pt x="15154" y="13704"/>
                  <a:pt x="15207" y="13684"/>
                </a:cubicBezTo>
                <a:cubicBezTo>
                  <a:pt x="15243" y="13670"/>
                  <a:pt x="15274" y="13653"/>
                  <a:pt x="15302" y="13628"/>
                </a:cubicBezTo>
              </a:path>
              <a:path w="2816" h="850">
                <a:moveTo>
                  <a:pt x="15063" y="13513"/>
                </a:moveTo>
                <a:cubicBezTo>
                  <a:pt x="15055" y="13514"/>
                  <a:pt x="15048" y="13514"/>
                  <a:pt x="15040" y="13515"/>
                </a:cubicBezTo>
                <a:cubicBezTo>
                  <a:pt x="15055" y="13494"/>
                  <a:pt x="15098" y="13480"/>
                  <a:pt x="15127" y="13471"/>
                </a:cubicBezTo>
                <a:cubicBezTo>
                  <a:pt x="15163" y="13460"/>
                  <a:pt x="15195" y="13448"/>
                  <a:pt x="15229" y="13432"/>
                </a:cubicBezTo>
              </a:path>
              <a:path w="2816" h="850">
                <a:moveTo>
                  <a:pt x="14963" y="13411"/>
                </a:moveTo>
                <a:cubicBezTo>
                  <a:pt x="14932" y="13400"/>
                  <a:pt x="14899" y="13385"/>
                  <a:pt x="14929" y="13344"/>
                </a:cubicBezTo>
                <a:cubicBezTo>
                  <a:pt x="14968" y="13291"/>
                  <a:pt x="15040" y="13253"/>
                  <a:pt x="15097" y="13227"/>
                </a:cubicBezTo>
                <a:cubicBezTo>
                  <a:pt x="15165" y="13196"/>
                  <a:pt x="15232" y="13176"/>
                  <a:pt x="15305" y="13160"/>
                </a:cubicBezTo>
              </a:path>
              <a:path w="2816" h="850">
                <a:moveTo>
                  <a:pt x="15427" y="13481"/>
                </a:moveTo>
                <a:cubicBezTo>
                  <a:pt x="15427" y="13497"/>
                  <a:pt x="15420" y="13527"/>
                  <a:pt x="15437" y="13538"/>
                </a:cubicBezTo>
                <a:cubicBezTo>
                  <a:pt x="15457" y="13551"/>
                  <a:pt x="15491" y="13546"/>
                  <a:pt x="15514" y="13550"/>
                </a:cubicBezTo>
                <a:cubicBezTo>
                  <a:pt x="15543" y="13555"/>
                  <a:pt x="15572" y="13566"/>
                  <a:pt x="15576" y="13599"/>
                </a:cubicBezTo>
                <a:cubicBezTo>
                  <a:pt x="15579" y="13630"/>
                  <a:pt x="15563" y="13659"/>
                  <a:pt x="15549" y="13684"/>
                </a:cubicBezTo>
                <a:cubicBezTo>
                  <a:pt x="15544" y="13693"/>
                  <a:pt x="15517" y="13735"/>
                  <a:pt x="15526" y="13746"/>
                </a:cubicBezTo>
                <a:cubicBezTo>
                  <a:pt x="15547" y="13772"/>
                  <a:pt x="15583" y="13757"/>
                  <a:pt x="15609" y="13752"/>
                </a:cubicBezTo>
                <a:cubicBezTo>
                  <a:pt x="15656" y="13743"/>
                  <a:pt x="15685" y="13726"/>
                  <a:pt x="15712" y="13685"/>
                </a:cubicBezTo>
                <a:cubicBezTo>
                  <a:pt x="15718" y="13674"/>
                  <a:pt x="15724" y="13663"/>
                  <a:pt x="15730" y="13652"/>
                </a:cubicBezTo>
              </a:path>
              <a:path w="2816" h="850">
                <a:moveTo>
                  <a:pt x="15692" y="13143"/>
                </a:moveTo>
                <a:cubicBezTo>
                  <a:pt x="15723" y="13187"/>
                  <a:pt x="15739" y="13238"/>
                  <a:pt x="15753" y="13290"/>
                </a:cubicBezTo>
                <a:cubicBezTo>
                  <a:pt x="15779" y="13388"/>
                  <a:pt x="15790" y="13487"/>
                  <a:pt x="15801" y="13587"/>
                </a:cubicBezTo>
                <a:cubicBezTo>
                  <a:pt x="15808" y="13648"/>
                  <a:pt x="15815" y="13709"/>
                  <a:pt x="15820" y="13770"/>
                </a:cubicBezTo>
              </a:path>
              <a:path w="2816" h="850">
                <a:moveTo>
                  <a:pt x="16054" y="13378"/>
                </a:moveTo>
                <a:cubicBezTo>
                  <a:pt x="16085" y="13371"/>
                  <a:pt x="16111" y="13362"/>
                  <a:pt x="16142" y="13358"/>
                </a:cubicBezTo>
                <a:cubicBezTo>
                  <a:pt x="16189" y="13352"/>
                  <a:pt x="16241" y="13347"/>
                  <a:pt x="16288" y="13349"/>
                </a:cubicBezTo>
                <a:cubicBezTo>
                  <a:pt x="16319" y="13350"/>
                  <a:pt x="16345" y="13353"/>
                  <a:pt x="16347" y="13384"/>
                </a:cubicBezTo>
              </a:path>
              <a:path w="2816" h="850">
                <a:moveTo>
                  <a:pt x="16100" y="13588"/>
                </a:moveTo>
                <a:cubicBezTo>
                  <a:pt x="16090" y="13603"/>
                  <a:pt x="16086" y="13606"/>
                  <a:pt x="16085" y="13617"/>
                </a:cubicBezTo>
                <a:cubicBezTo>
                  <a:pt x="16121" y="13627"/>
                  <a:pt x="16140" y="13620"/>
                  <a:pt x="16176" y="13611"/>
                </a:cubicBezTo>
                <a:cubicBezTo>
                  <a:pt x="16221" y="13600"/>
                  <a:pt x="16264" y="13593"/>
                  <a:pt x="16308" y="1357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"/>
          <p:cNvSpPr/>
          <p:nvPr/>
        </p:nvSpPr>
        <p:spPr>
          <a:xfrm>
            <a:off x="6087960" y="4673520"/>
            <a:ext cx="171720" cy="355680"/>
          </a:xfrm>
          <a:custGeom>
            <a:avLst/>
            <a:gdLst/>
            <a:ahLst/>
            <a:rect l="l" t="t" r="r" b="b"/>
            <a:pathLst>
              <a:path w="478" h="988">
                <a:moveTo>
                  <a:pt x="17157" y="12998"/>
                </a:moveTo>
                <a:cubicBezTo>
                  <a:pt x="17157" y="12993"/>
                  <a:pt x="17157" y="12989"/>
                  <a:pt x="17157" y="12984"/>
                </a:cubicBezTo>
                <a:cubicBezTo>
                  <a:pt x="17125" y="12995"/>
                  <a:pt x="17119" y="13027"/>
                  <a:pt x="17115" y="13068"/>
                </a:cubicBezTo>
                <a:cubicBezTo>
                  <a:pt x="17109" y="13126"/>
                  <a:pt x="17110" y="13193"/>
                  <a:pt x="17127" y="13249"/>
                </a:cubicBezTo>
                <a:cubicBezTo>
                  <a:pt x="17142" y="13298"/>
                  <a:pt x="17170" y="13339"/>
                  <a:pt x="17189" y="13385"/>
                </a:cubicBezTo>
                <a:cubicBezTo>
                  <a:pt x="17190" y="13391"/>
                  <a:pt x="17192" y="13396"/>
                  <a:pt x="17193" y="13402"/>
                </a:cubicBezTo>
              </a:path>
              <a:path w="478" h="988">
                <a:moveTo>
                  <a:pt x="16920" y="13609"/>
                </a:moveTo>
                <a:cubicBezTo>
                  <a:pt x="16892" y="13605"/>
                  <a:pt x="16956" y="13567"/>
                  <a:pt x="16968" y="13560"/>
                </a:cubicBezTo>
                <a:cubicBezTo>
                  <a:pt x="17025" y="13527"/>
                  <a:pt x="17078" y="13503"/>
                  <a:pt x="17143" y="13489"/>
                </a:cubicBezTo>
                <a:cubicBezTo>
                  <a:pt x="17183" y="13481"/>
                  <a:pt x="17195" y="13478"/>
                  <a:pt x="17222" y="13485"/>
                </a:cubicBezTo>
              </a:path>
              <a:path w="478" h="988">
                <a:moveTo>
                  <a:pt x="17117" y="13707"/>
                </a:moveTo>
                <a:cubicBezTo>
                  <a:pt x="17113" y="13710"/>
                  <a:pt x="17110" y="13712"/>
                  <a:pt x="17106" y="13715"/>
                </a:cubicBezTo>
                <a:cubicBezTo>
                  <a:pt x="17095" y="13699"/>
                  <a:pt x="17148" y="13686"/>
                  <a:pt x="17170" y="13682"/>
                </a:cubicBezTo>
                <a:cubicBezTo>
                  <a:pt x="17220" y="13673"/>
                  <a:pt x="17282" y="13674"/>
                  <a:pt x="17326" y="13703"/>
                </a:cubicBezTo>
                <a:cubicBezTo>
                  <a:pt x="17371" y="13733"/>
                  <a:pt x="17361" y="13785"/>
                  <a:pt x="17334" y="13824"/>
                </a:cubicBezTo>
                <a:cubicBezTo>
                  <a:pt x="17302" y="13871"/>
                  <a:pt x="17252" y="13904"/>
                  <a:pt x="17212" y="13943"/>
                </a:cubicBezTo>
                <a:cubicBezTo>
                  <a:pt x="17197" y="13958"/>
                  <a:pt x="17194" y="13962"/>
                  <a:pt x="17185" y="13971"/>
                </a:cubicBezTo>
                <a:cubicBezTo>
                  <a:pt x="17237" y="13965"/>
                  <a:pt x="17285" y="13950"/>
                  <a:pt x="17334" y="13931"/>
                </a:cubicBezTo>
                <a:cubicBezTo>
                  <a:pt x="17352" y="13924"/>
                  <a:pt x="17369" y="13916"/>
                  <a:pt x="17387" y="1390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"/>
          <p:cNvSpPr/>
          <p:nvPr/>
        </p:nvSpPr>
        <p:spPr>
          <a:xfrm>
            <a:off x="6402240" y="4714920"/>
            <a:ext cx="427320" cy="363600"/>
          </a:xfrm>
          <a:custGeom>
            <a:avLst/>
            <a:gdLst/>
            <a:ahLst/>
            <a:rect l="l" t="t" r="r" b="b"/>
            <a:pathLst>
              <a:path w="1183" h="1011">
                <a:moveTo>
                  <a:pt x="17952" y="13409"/>
                </a:moveTo>
                <a:cubicBezTo>
                  <a:pt x="17922" y="13410"/>
                  <a:pt x="17922" y="13432"/>
                  <a:pt x="17924" y="13464"/>
                </a:cubicBezTo>
                <a:cubicBezTo>
                  <a:pt x="17928" y="13520"/>
                  <a:pt x="17949" y="13567"/>
                  <a:pt x="17970" y="13618"/>
                </a:cubicBezTo>
                <a:cubicBezTo>
                  <a:pt x="17983" y="13650"/>
                  <a:pt x="17988" y="13671"/>
                  <a:pt x="17988" y="13704"/>
                </a:cubicBezTo>
              </a:path>
              <a:path w="1183" h="1011">
                <a:moveTo>
                  <a:pt x="17786" y="13662"/>
                </a:moveTo>
                <a:cubicBezTo>
                  <a:pt x="17810" y="13629"/>
                  <a:pt x="17847" y="13607"/>
                  <a:pt x="17884" y="13589"/>
                </a:cubicBezTo>
                <a:cubicBezTo>
                  <a:pt x="17965" y="13549"/>
                  <a:pt x="18051" y="13519"/>
                  <a:pt x="18135" y="13488"/>
                </a:cubicBezTo>
                <a:cubicBezTo>
                  <a:pt x="18157" y="13480"/>
                  <a:pt x="18179" y="13473"/>
                  <a:pt x="18201" y="13465"/>
                </a:cubicBezTo>
              </a:path>
              <a:path w="1183" h="1011">
                <a:moveTo>
                  <a:pt x="18588" y="13104"/>
                </a:moveTo>
                <a:cubicBezTo>
                  <a:pt x="18607" y="13103"/>
                  <a:pt x="18595" y="13146"/>
                  <a:pt x="18599" y="13175"/>
                </a:cubicBezTo>
                <a:cubicBezTo>
                  <a:pt x="18606" y="13227"/>
                  <a:pt x="18623" y="13279"/>
                  <a:pt x="18641" y="13327"/>
                </a:cubicBezTo>
                <a:cubicBezTo>
                  <a:pt x="18655" y="13363"/>
                  <a:pt x="18665" y="13396"/>
                  <a:pt x="18673" y="13434"/>
                </a:cubicBezTo>
              </a:path>
              <a:path w="1183" h="1011">
                <a:moveTo>
                  <a:pt x="18402" y="13682"/>
                </a:moveTo>
                <a:cubicBezTo>
                  <a:pt x="18390" y="13672"/>
                  <a:pt x="18426" y="13637"/>
                  <a:pt x="18444" y="13626"/>
                </a:cubicBezTo>
                <a:cubicBezTo>
                  <a:pt x="18497" y="13592"/>
                  <a:pt x="18560" y="13576"/>
                  <a:pt x="18620" y="13558"/>
                </a:cubicBezTo>
                <a:cubicBezTo>
                  <a:pt x="18669" y="13544"/>
                  <a:pt x="18729" y="13532"/>
                  <a:pt x="18779" y="13550"/>
                </a:cubicBezTo>
                <a:cubicBezTo>
                  <a:pt x="18784" y="13553"/>
                  <a:pt x="18788" y="13557"/>
                  <a:pt x="18793" y="13560"/>
                </a:cubicBezTo>
              </a:path>
              <a:path w="1183" h="1011">
                <a:moveTo>
                  <a:pt x="18605" y="13705"/>
                </a:moveTo>
                <a:cubicBezTo>
                  <a:pt x="18561" y="13728"/>
                  <a:pt x="18501" y="13750"/>
                  <a:pt x="18463" y="13780"/>
                </a:cubicBezTo>
                <a:cubicBezTo>
                  <a:pt x="18449" y="13791"/>
                  <a:pt x="18418" y="13816"/>
                  <a:pt x="18426" y="13838"/>
                </a:cubicBezTo>
                <a:cubicBezTo>
                  <a:pt x="18441" y="13881"/>
                  <a:pt x="18498" y="13909"/>
                  <a:pt x="18531" y="13935"/>
                </a:cubicBezTo>
                <a:cubicBezTo>
                  <a:pt x="18571" y="13967"/>
                  <a:pt x="18613" y="13993"/>
                  <a:pt x="18658" y="14018"/>
                </a:cubicBezTo>
                <a:cubicBezTo>
                  <a:pt x="18678" y="14029"/>
                  <a:pt x="18714" y="14041"/>
                  <a:pt x="18725" y="14063"/>
                </a:cubicBezTo>
                <a:cubicBezTo>
                  <a:pt x="18725" y="14067"/>
                  <a:pt x="18726" y="14070"/>
                  <a:pt x="18726" y="14074"/>
                </a:cubicBezTo>
                <a:cubicBezTo>
                  <a:pt x="18704" y="14094"/>
                  <a:pt x="18676" y="14099"/>
                  <a:pt x="18646" y="14103"/>
                </a:cubicBezTo>
                <a:cubicBezTo>
                  <a:pt x="18597" y="14110"/>
                  <a:pt x="18547" y="14103"/>
                  <a:pt x="18500" y="14088"/>
                </a:cubicBezTo>
                <a:cubicBezTo>
                  <a:pt x="18444" y="14070"/>
                  <a:pt x="18417" y="14047"/>
                  <a:pt x="18386" y="13999"/>
                </a:cubicBezTo>
              </a:path>
              <a:path w="1183" h="1011">
                <a:moveTo>
                  <a:pt x="18508" y="13762"/>
                </a:moveTo>
                <a:cubicBezTo>
                  <a:pt x="18570" y="13738"/>
                  <a:pt x="18630" y="13706"/>
                  <a:pt x="18692" y="13684"/>
                </a:cubicBezTo>
                <a:cubicBezTo>
                  <a:pt x="18753" y="13663"/>
                  <a:pt x="18827" y="13641"/>
                  <a:pt x="18892" y="13639"/>
                </a:cubicBezTo>
                <a:cubicBezTo>
                  <a:pt x="18921" y="13638"/>
                  <a:pt x="18942" y="13647"/>
                  <a:pt x="18968" y="1365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>
            <a:off x="7004160" y="4707000"/>
            <a:ext cx="393480" cy="315720"/>
          </a:xfrm>
          <a:custGeom>
            <a:avLst/>
            <a:gdLst/>
            <a:ahLst/>
            <a:rect l="l" t="t" r="r" b="b"/>
            <a:pathLst>
              <a:path w="1096" h="878">
                <a:moveTo>
                  <a:pt x="19459" y="13524"/>
                </a:moveTo>
                <a:cubicBezTo>
                  <a:pt x="19453" y="13497"/>
                  <a:pt x="19460" y="13469"/>
                  <a:pt x="19486" y="13450"/>
                </a:cubicBezTo>
                <a:cubicBezTo>
                  <a:pt x="19536" y="13414"/>
                  <a:pt x="19605" y="13410"/>
                  <a:pt x="19663" y="13409"/>
                </a:cubicBezTo>
                <a:cubicBezTo>
                  <a:pt x="19715" y="13408"/>
                  <a:pt x="19767" y="13411"/>
                  <a:pt x="19819" y="13414"/>
                </a:cubicBezTo>
              </a:path>
              <a:path w="1096" h="878">
                <a:moveTo>
                  <a:pt x="20347" y="13083"/>
                </a:moveTo>
                <a:cubicBezTo>
                  <a:pt x="20361" y="13078"/>
                  <a:pt x="20345" y="13125"/>
                  <a:pt x="20341" y="13153"/>
                </a:cubicBezTo>
                <a:cubicBezTo>
                  <a:pt x="20331" y="13217"/>
                  <a:pt x="20326" y="13280"/>
                  <a:pt x="20320" y="13344"/>
                </a:cubicBezTo>
                <a:cubicBezTo>
                  <a:pt x="20315" y="13398"/>
                  <a:pt x="20319" y="13449"/>
                  <a:pt x="20312" y="13503"/>
                </a:cubicBezTo>
              </a:path>
              <a:path w="1096" h="878">
                <a:moveTo>
                  <a:pt x="20108" y="13534"/>
                </a:moveTo>
                <a:cubicBezTo>
                  <a:pt x="20116" y="13515"/>
                  <a:pt x="20139" y="13498"/>
                  <a:pt x="20158" y="13488"/>
                </a:cubicBezTo>
                <a:cubicBezTo>
                  <a:pt x="20201" y="13465"/>
                  <a:pt x="20249" y="13456"/>
                  <a:pt x="20297" y="13452"/>
                </a:cubicBezTo>
                <a:cubicBezTo>
                  <a:pt x="20338" y="13449"/>
                  <a:pt x="20374" y="13454"/>
                  <a:pt x="20410" y="13475"/>
                </a:cubicBezTo>
                <a:cubicBezTo>
                  <a:pt x="20415" y="13479"/>
                  <a:pt x="20421" y="13483"/>
                  <a:pt x="20426" y="13487"/>
                </a:cubicBezTo>
              </a:path>
              <a:path w="1096" h="878">
                <a:moveTo>
                  <a:pt x="20223" y="13673"/>
                </a:moveTo>
                <a:cubicBezTo>
                  <a:pt x="20185" y="13715"/>
                  <a:pt x="20134" y="13753"/>
                  <a:pt x="20099" y="13795"/>
                </a:cubicBezTo>
                <a:cubicBezTo>
                  <a:pt x="20071" y="13828"/>
                  <a:pt x="20044" y="13875"/>
                  <a:pt x="20043" y="13919"/>
                </a:cubicBezTo>
                <a:cubicBezTo>
                  <a:pt x="20042" y="13951"/>
                  <a:pt x="20091" y="13951"/>
                  <a:pt x="20113" y="13949"/>
                </a:cubicBezTo>
                <a:cubicBezTo>
                  <a:pt x="20123" y="13947"/>
                  <a:pt x="20134" y="13946"/>
                  <a:pt x="20144" y="13944"/>
                </a:cubicBezTo>
              </a:path>
              <a:path w="1096" h="878">
                <a:moveTo>
                  <a:pt x="20412" y="13753"/>
                </a:moveTo>
                <a:cubicBezTo>
                  <a:pt x="20385" y="13760"/>
                  <a:pt x="20360" y="13780"/>
                  <a:pt x="20341" y="13801"/>
                </a:cubicBezTo>
                <a:cubicBezTo>
                  <a:pt x="20324" y="13819"/>
                  <a:pt x="20292" y="13855"/>
                  <a:pt x="20298" y="13882"/>
                </a:cubicBezTo>
                <a:cubicBezTo>
                  <a:pt x="20305" y="13910"/>
                  <a:pt x="20360" y="13894"/>
                  <a:pt x="20376" y="13890"/>
                </a:cubicBezTo>
                <a:cubicBezTo>
                  <a:pt x="20421" y="13878"/>
                  <a:pt x="20462" y="13859"/>
                  <a:pt x="20502" y="13836"/>
                </a:cubicBezTo>
                <a:cubicBezTo>
                  <a:pt x="20521" y="13825"/>
                  <a:pt x="20534" y="13816"/>
                  <a:pt x="20549" y="13801"/>
                </a:cubicBezTo>
                <a:cubicBezTo>
                  <a:pt x="20546" y="13780"/>
                  <a:pt x="20533" y="13774"/>
                  <a:pt x="20513" y="13762"/>
                </a:cubicBezTo>
                <a:cubicBezTo>
                  <a:pt x="20488" y="13747"/>
                  <a:pt x="20463" y="13733"/>
                  <a:pt x="20439" y="1371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7645320" y="4795920"/>
            <a:ext cx="157320" cy="100080"/>
          </a:xfrm>
          <a:custGeom>
            <a:avLst/>
            <a:gdLst/>
            <a:ahLst/>
            <a:rect l="l" t="t" r="r" b="b"/>
            <a:pathLst>
              <a:path w="437" h="277">
                <a:moveTo>
                  <a:pt x="21274" y="13340"/>
                </a:moveTo>
                <a:cubicBezTo>
                  <a:pt x="21299" y="13351"/>
                  <a:pt x="21324" y="13342"/>
                  <a:pt x="21354" y="13339"/>
                </a:cubicBezTo>
                <a:cubicBezTo>
                  <a:pt x="21418" y="13332"/>
                  <a:pt x="21481" y="13326"/>
                  <a:pt x="21546" y="13324"/>
                </a:cubicBezTo>
                <a:cubicBezTo>
                  <a:pt x="21580" y="13323"/>
                  <a:pt x="21637" y="13317"/>
                  <a:pt x="21666" y="13341"/>
                </a:cubicBezTo>
                <a:cubicBezTo>
                  <a:pt x="21668" y="13344"/>
                  <a:pt x="21670" y="13348"/>
                  <a:pt x="21672" y="13351"/>
                </a:cubicBezTo>
              </a:path>
              <a:path w="437" h="277">
                <a:moveTo>
                  <a:pt x="21255" y="13594"/>
                </a:moveTo>
                <a:cubicBezTo>
                  <a:pt x="21203" y="13580"/>
                  <a:pt x="21335" y="13567"/>
                  <a:pt x="21356" y="13564"/>
                </a:cubicBezTo>
                <a:cubicBezTo>
                  <a:pt x="21427" y="13555"/>
                  <a:pt x="21498" y="13565"/>
                  <a:pt x="21568" y="13580"/>
                </a:cubicBezTo>
                <a:cubicBezTo>
                  <a:pt x="21606" y="13590"/>
                  <a:pt x="21616" y="13593"/>
                  <a:pt x="21641" y="1359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7972560" y="4664160"/>
            <a:ext cx="182520" cy="420480"/>
          </a:xfrm>
          <a:custGeom>
            <a:avLst/>
            <a:gdLst/>
            <a:ahLst/>
            <a:rect l="l" t="t" r="r" b="b"/>
            <a:pathLst>
              <a:path w="505" h="1170">
                <a:moveTo>
                  <a:pt x="22236" y="13021"/>
                </a:moveTo>
                <a:cubicBezTo>
                  <a:pt x="22211" y="12992"/>
                  <a:pt x="22232" y="12989"/>
                  <a:pt x="22266" y="12980"/>
                </a:cubicBezTo>
                <a:cubicBezTo>
                  <a:pt x="22345" y="12959"/>
                  <a:pt x="22447" y="12940"/>
                  <a:pt x="22528" y="12960"/>
                </a:cubicBezTo>
                <a:cubicBezTo>
                  <a:pt x="22554" y="12971"/>
                  <a:pt x="22562" y="12972"/>
                  <a:pt x="22571" y="12988"/>
                </a:cubicBezTo>
                <a:cubicBezTo>
                  <a:pt x="22557" y="13035"/>
                  <a:pt x="22530" y="13058"/>
                  <a:pt x="22490" y="13089"/>
                </a:cubicBezTo>
                <a:cubicBezTo>
                  <a:pt x="22446" y="13123"/>
                  <a:pt x="22397" y="13145"/>
                  <a:pt x="22352" y="13176"/>
                </a:cubicBezTo>
                <a:cubicBezTo>
                  <a:pt x="22340" y="13187"/>
                  <a:pt x="22336" y="13188"/>
                  <a:pt x="22336" y="13198"/>
                </a:cubicBezTo>
                <a:cubicBezTo>
                  <a:pt x="22377" y="13215"/>
                  <a:pt x="22422" y="13225"/>
                  <a:pt x="22463" y="13242"/>
                </a:cubicBezTo>
                <a:cubicBezTo>
                  <a:pt x="22503" y="13259"/>
                  <a:pt x="22549" y="13282"/>
                  <a:pt x="22564" y="13326"/>
                </a:cubicBezTo>
                <a:cubicBezTo>
                  <a:pt x="22577" y="13365"/>
                  <a:pt x="22548" y="13395"/>
                  <a:pt x="22517" y="13413"/>
                </a:cubicBezTo>
                <a:cubicBezTo>
                  <a:pt x="22475" y="13438"/>
                  <a:pt x="22422" y="13443"/>
                  <a:pt x="22375" y="13435"/>
                </a:cubicBezTo>
                <a:cubicBezTo>
                  <a:pt x="22366" y="13433"/>
                  <a:pt x="22358" y="13431"/>
                  <a:pt x="22349" y="13429"/>
                </a:cubicBezTo>
              </a:path>
              <a:path w="505" h="1170">
                <a:moveTo>
                  <a:pt x="22146" y="13508"/>
                </a:moveTo>
                <a:cubicBezTo>
                  <a:pt x="22184" y="13516"/>
                  <a:pt x="22227" y="13510"/>
                  <a:pt x="22267" y="13512"/>
                </a:cubicBezTo>
                <a:cubicBezTo>
                  <a:pt x="22340" y="13516"/>
                  <a:pt x="22412" y="13519"/>
                  <a:pt x="22484" y="13528"/>
                </a:cubicBezTo>
                <a:cubicBezTo>
                  <a:pt x="22525" y="13533"/>
                  <a:pt x="22565" y="13539"/>
                  <a:pt x="22606" y="13544"/>
                </a:cubicBezTo>
              </a:path>
              <a:path w="505" h="1170">
                <a:moveTo>
                  <a:pt x="22328" y="13733"/>
                </a:moveTo>
                <a:cubicBezTo>
                  <a:pt x="22321" y="13712"/>
                  <a:pt x="22302" y="13740"/>
                  <a:pt x="22288" y="13758"/>
                </a:cubicBezTo>
                <a:cubicBezTo>
                  <a:pt x="22265" y="13787"/>
                  <a:pt x="22230" y="13821"/>
                  <a:pt x="22232" y="13862"/>
                </a:cubicBezTo>
                <a:cubicBezTo>
                  <a:pt x="22234" y="13905"/>
                  <a:pt x="22276" y="13937"/>
                  <a:pt x="22306" y="13962"/>
                </a:cubicBezTo>
                <a:cubicBezTo>
                  <a:pt x="22330" y="13981"/>
                  <a:pt x="22362" y="14001"/>
                  <a:pt x="22377" y="14029"/>
                </a:cubicBezTo>
                <a:cubicBezTo>
                  <a:pt x="22386" y="14046"/>
                  <a:pt x="22382" y="14078"/>
                  <a:pt x="22370" y="14093"/>
                </a:cubicBezTo>
                <a:cubicBezTo>
                  <a:pt x="22354" y="14113"/>
                  <a:pt x="22315" y="14125"/>
                  <a:pt x="22290" y="14124"/>
                </a:cubicBezTo>
                <a:cubicBezTo>
                  <a:pt x="22259" y="14123"/>
                  <a:pt x="22228" y="14112"/>
                  <a:pt x="22207" y="14088"/>
                </a:cubicBezTo>
                <a:cubicBezTo>
                  <a:pt x="22194" y="14067"/>
                  <a:pt x="22190" y="14059"/>
                  <a:pt x="22187" y="14042"/>
                </a:cubicBezTo>
              </a:path>
              <a:path w="505" h="1170">
                <a:moveTo>
                  <a:pt x="22236" y="13735"/>
                </a:moveTo>
                <a:cubicBezTo>
                  <a:pt x="22249" y="13714"/>
                  <a:pt x="22263" y="13719"/>
                  <a:pt x="22286" y="13714"/>
                </a:cubicBezTo>
                <a:cubicBezTo>
                  <a:pt x="22337" y="13703"/>
                  <a:pt x="22389" y="13696"/>
                  <a:pt x="22441" y="13688"/>
                </a:cubicBezTo>
                <a:cubicBezTo>
                  <a:pt x="22498" y="13679"/>
                  <a:pt x="22555" y="13670"/>
                  <a:pt x="22612" y="13666"/>
                </a:cubicBezTo>
                <a:cubicBezTo>
                  <a:pt x="22633" y="13666"/>
                  <a:pt x="22637" y="13666"/>
                  <a:pt x="22650" y="1366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1409760" y="5111640"/>
            <a:ext cx="1574640" cy="317520"/>
          </a:xfrm>
          <a:custGeom>
            <a:avLst/>
            <a:gdLst/>
            <a:ahLst/>
            <a:rect l="l" t="t" r="r" b="b"/>
            <a:pathLst>
              <a:path w="4375" h="882">
                <a:moveTo>
                  <a:pt x="3929" y="14721"/>
                </a:moveTo>
                <a:cubicBezTo>
                  <a:pt x="3932" y="14752"/>
                  <a:pt x="3936" y="14754"/>
                  <a:pt x="3942" y="14784"/>
                </a:cubicBezTo>
                <a:cubicBezTo>
                  <a:pt x="3954" y="14840"/>
                  <a:pt x="3969" y="14896"/>
                  <a:pt x="3980" y="14953"/>
                </a:cubicBezTo>
                <a:cubicBezTo>
                  <a:pt x="3988" y="14996"/>
                  <a:pt x="3996" y="15039"/>
                  <a:pt x="4001" y="15082"/>
                </a:cubicBezTo>
                <a:cubicBezTo>
                  <a:pt x="3968" y="15058"/>
                  <a:pt x="3961" y="15021"/>
                  <a:pt x="3950" y="14980"/>
                </a:cubicBezTo>
                <a:cubicBezTo>
                  <a:pt x="3930" y="14906"/>
                  <a:pt x="3922" y="14830"/>
                  <a:pt x="3917" y="14753"/>
                </a:cubicBezTo>
                <a:cubicBezTo>
                  <a:pt x="3912" y="14673"/>
                  <a:pt x="3909" y="14585"/>
                  <a:pt x="3927" y="14506"/>
                </a:cubicBezTo>
                <a:cubicBezTo>
                  <a:pt x="3938" y="14459"/>
                  <a:pt x="3959" y="14395"/>
                  <a:pt x="4016" y="14391"/>
                </a:cubicBezTo>
                <a:cubicBezTo>
                  <a:pt x="4072" y="14387"/>
                  <a:pt x="4117" y="14443"/>
                  <a:pt x="4140" y="14486"/>
                </a:cubicBezTo>
                <a:cubicBezTo>
                  <a:pt x="4170" y="14543"/>
                  <a:pt x="4179" y="14615"/>
                  <a:pt x="4156" y="14676"/>
                </a:cubicBezTo>
                <a:cubicBezTo>
                  <a:pt x="4136" y="14727"/>
                  <a:pt x="4075" y="14786"/>
                  <a:pt x="4017" y="14787"/>
                </a:cubicBezTo>
                <a:cubicBezTo>
                  <a:pt x="3965" y="14788"/>
                  <a:pt x="3980" y="14745"/>
                  <a:pt x="4007" y="14724"/>
                </a:cubicBezTo>
                <a:cubicBezTo>
                  <a:pt x="4016" y="14718"/>
                  <a:pt x="4025" y="14713"/>
                  <a:pt x="4034" y="14707"/>
                </a:cubicBezTo>
              </a:path>
              <a:path w="4375" h="882">
                <a:moveTo>
                  <a:pt x="4283" y="14830"/>
                </a:moveTo>
                <a:cubicBezTo>
                  <a:pt x="4297" y="14876"/>
                  <a:pt x="4317" y="14933"/>
                  <a:pt x="4313" y="14982"/>
                </a:cubicBezTo>
                <a:cubicBezTo>
                  <a:pt x="4311" y="14985"/>
                  <a:pt x="4310" y="14988"/>
                  <a:pt x="4308" y="14991"/>
                </a:cubicBezTo>
                <a:cubicBezTo>
                  <a:pt x="4294" y="14948"/>
                  <a:pt x="4292" y="14910"/>
                  <a:pt x="4294" y="14864"/>
                </a:cubicBezTo>
                <a:cubicBezTo>
                  <a:pt x="4296" y="14812"/>
                  <a:pt x="4306" y="14759"/>
                  <a:pt x="4327" y="14711"/>
                </a:cubicBezTo>
                <a:cubicBezTo>
                  <a:pt x="4339" y="14684"/>
                  <a:pt x="4365" y="14654"/>
                  <a:pt x="4397" y="14651"/>
                </a:cubicBezTo>
                <a:cubicBezTo>
                  <a:pt x="4420" y="14649"/>
                  <a:pt x="4448" y="14657"/>
                  <a:pt x="4471" y="14661"/>
                </a:cubicBezTo>
              </a:path>
              <a:path w="4375" h="882">
                <a:moveTo>
                  <a:pt x="4764" y="14389"/>
                </a:moveTo>
                <a:cubicBezTo>
                  <a:pt x="4766" y="14343"/>
                  <a:pt x="4775" y="14319"/>
                  <a:pt x="4739" y="14294"/>
                </a:cubicBezTo>
                <a:cubicBezTo>
                  <a:pt x="4708" y="14340"/>
                  <a:pt x="4685" y="14383"/>
                  <a:pt x="4668" y="14437"/>
                </a:cubicBezTo>
                <a:cubicBezTo>
                  <a:pt x="4634" y="14541"/>
                  <a:pt x="4608" y="14659"/>
                  <a:pt x="4624" y="14769"/>
                </a:cubicBezTo>
                <a:cubicBezTo>
                  <a:pt x="4634" y="14837"/>
                  <a:pt x="4659" y="14902"/>
                  <a:pt x="4719" y="14940"/>
                </a:cubicBezTo>
                <a:cubicBezTo>
                  <a:pt x="4752" y="14961"/>
                  <a:pt x="4777" y="14953"/>
                  <a:pt x="4812" y="14947"/>
                </a:cubicBezTo>
              </a:path>
              <a:path w="4375" h="882">
                <a:moveTo>
                  <a:pt x="4992" y="14489"/>
                </a:moveTo>
                <a:cubicBezTo>
                  <a:pt x="4964" y="14509"/>
                  <a:pt x="4953" y="14549"/>
                  <a:pt x="4940" y="14586"/>
                </a:cubicBezTo>
                <a:cubicBezTo>
                  <a:pt x="4912" y="14668"/>
                  <a:pt x="4878" y="14763"/>
                  <a:pt x="4885" y="14851"/>
                </a:cubicBezTo>
                <a:cubicBezTo>
                  <a:pt x="4888" y="14883"/>
                  <a:pt x="4903" y="14895"/>
                  <a:pt x="4934" y="14887"/>
                </a:cubicBezTo>
                <a:cubicBezTo>
                  <a:pt x="4969" y="14878"/>
                  <a:pt x="4998" y="14854"/>
                  <a:pt x="5030" y="14838"/>
                </a:cubicBezTo>
                <a:cubicBezTo>
                  <a:pt x="5057" y="14825"/>
                  <a:pt x="5092" y="14817"/>
                  <a:pt x="5115" y="14800"/>
                </a:cubicBezTo>
                <a:cubicBezTo>
                  <a:pt x="5131" y="14788"/>
                  <a:pt x="5131" y="14780"/>
                  <a:pt x="5132" y="14763"/>
                </a:cubicBezTo>
              </a:path>
              <a:path w="4375" h="882">
                <a:moveTo>
                  <a:pt x="4963" y="14701"/>
                </a:moveTo>
                <a:cubicBezTo>
                  <a:pt x="4992" y="14692"/>
                  <a:pt x="5016" y="14676"/>
                  <a:pt x="5045" y="14664"/>
                </a:cubicBezTo>
                <a:cubicBezTo>
                  <a:pt x="5086" y="14646"/>
                  <a:pt x="5132" y="14626"/>
                  <a:pt x="5167" y="14599"/>
                </a:cubicBezTo>
                <a:cubicBezTo>
                  <a:pt x="5173" y="14593"/>
                  <a:pt x="5178" y="14587"/>
                  <a:pt x="5184" y="14581"/>
                </a:cubicBezTo>
              </a:path>
              <a:path w="4375" h="882">
                <a:moveTo>
                  <a:pt x="5018" y="14513"/>
                </a:moveTo>
                <a:cubicBezTo>
                  <a:pt x="5008" y="14485"/>
                  <a:pt x="5017" y="14464"/>
                  <a:pt x="5045" y="14443"/>
                </a:cubicBezTo>
                <a:cubicBezTo>
                  <a:pt x="5078" y="14419"/>
                  <a:pt x="5131" y="14396"/>
                  <a:pt x="5171" y="14393"/>
                </a:cubicBezTo>
                <a:cubicBezTo>
                  <a:pt x="5206" y="14391"/>
                  <a:pt x="5222" y="14401"/>
                  <a:pt x="5249" y="14418"/>
                </a:cubicBezTo>
              </a:path>
              <a:path w="4375" h="882">
                <a:moveTo>
                  <a:pt x="5290" y="14694"/>
                </a:moveTo>
                <a:cubicBezTo>
                  <a:pt x="5286" y="14731"/>
                  <a:pt x="5275" y="14766"/>
                  <a:pt x="5269" y="14801"/>
                </a:cubicBezTo>
                <a:cubicBezTo>
                  <a:pt x="5264" y="14828"/>
                  <a:pt x="5260" y="14865"/>
                  <a:pt x="5262" y="14892"/>
                </a:cubicBezTo>
                <a:cubicBezTo>
                  <a:pt x="5263" y="14897"/>
                  <a:pt x="5264" y="14901"/>
                  <a:pt x="5265" y="14906"/>
                </a:cubicBezTo>
              </a:path>
              <a:path w="4375" h="882">
                <a:moveTo>
                  <a:pt x="5559" y="14682"/>
                </a:moveTo>
                <a:cubicBezTo>
                  <a:pt x="5556" y="14673"/>
                  <a:pt x="5555" y="14662"/>
                  <a:pt x="5567" y="14632"/>
                </a:cubicBezTo>
                <a:cubicBezTo>
                  <a:pt x="5588" y="14582"/>
                  <a:pt x="5613" y="14532"/>
                  <a:pt x="5642" y="14486"/>
                </a:cubicBezTo>
                <a:cubicBezTo>
                  <a:pt x="5662" y="14454"/>
                  <a:pt x="5701" y="14389"/>
                  <a:pt x="5749" y="14403"/>
                </a:cubicBezTo>
                <a:cubicBezTo>
                  <a:pt x="5799" y="14418"/>
                  <a:pt x="5812" y="14516"/>
                  <a:pt x="5822" y="14555"/>
                </a:cubicBezTo>
                <a:cubicBezTo>
                  <a:pt x="5841" y="14626"/>
                  <a:pt x="5843" y="14700"/>
                  <a:pt x="5870" y="14769"/>
                </a:cubicBezTo>
                <a:cubicBezTo>
                  <a:pt x="5874" y="14777"/>
                  <a:pt x="5878" y="14784"/>
                  <a:pt x="5882" y="14792"/>
                </a:cubicBezTo>
              </a:path>
              <a:path w="4375" h="882">
                <a:moveTo>
                  <a:pt x="6176" y="14505"/>
                </a:moveTo>
                <a:cubicBezTo>
                  <a:pt x="6154" y="14533"/>
                  <a:pt x="6151" y="14567"/>
                  <a:pt x="6148" y="14603"/>
                </a:cubicBezTo>
                <a:cubicBezTo>
                  <a:pt x="6142" y="14668"/>
                  <a:pt x="6139" y="14734"/>
                  <a:pt x="6140" y="14800"/>
                </a:cubicBezTo>
                <a:cubicBezTo>
                  <a:pt x="6141" y="14831"/>
                  <a:pt x="6137" y="14889"/>
                  <a:pt x="6169" y="14909"/>
                </a:cubicBezTo>
                <a:cubicBezTo>
                  <a:pt x="6193" y="14924"/>
                  <a:pt x="6245" y="14902"/>
                  <a:pt x="6267" y="14892"/>
                </a:cubicBezTo>
                <a:cubicBezTo>
                  <a:pt x="6304" y="14875"/>
                  <a:pt x="6342" y="14850"/>
                  <a:pt x="6376" y="14828"/>
                </a:cubicBezTo>
              </a:path>
              <a:path w="4375" h="882">
                <a:moveTo>
                  <a:pt x="6214" y="14697"/>
                </a:moveTo>
                <a:cubicBezTo>
                  <a:pt x="6239" y="14662"/>
                  <a:pt x="6274" y="14640"/>
                  <a:pt x="6310" y="14615"/>
                </a:cubicBezTo>
                <a:cubicBezTo>
                  <a:pt x="6353" y="14586"/>
                  <a:pt x="6401" y="14566"/>
                  <a:pt x="6448" y="14545"/>
                </a:cubicBezTo>
              </a:path>
              <a:path w="4375" h="882">
                <a:moveTo>
                  <a:pt x="6273" y="14510"/>
                </a:moveTo>
                <a:cubicBezTo>
                  <a:pt x="6252" y="14482"/>
                  <a:pt x="6250" y="14466"/>
                  <a:pt x="6270" y="14434"/>
                </a:cubicBezTo>
                <a:cubicBezTo>
                  <a:pt x="6301" y="14383"/>
                  <a:pt x="6354" y="14367"/>
                  <a:pt x="6410" y="14361"/>
                </a:cubicBezTo>
                <a:cubicBezTo>
                  <a:pt x="6453" y="14359"/>
                  <a:pt x="6468" y="14358"/>
                  <a:pt x="6496" y="14368"/>
                </a:cubicBezTo>
              </a:path>
              <a:path w="4375" h="882">
                <a:moveTo>
                  <a:pt x="6635" y="14696"/>
                </a:moveTo>
                <a:cubicBezTo>
                  <a:pt x="6657" y="14693"/>
                  <a:pt x="6685" y="14675"/>
                  <a:pt x="6705" y="14659"/>
                </a:cubicBezTo>
                <a:cubicBezTo>
                  <a:pt x="6724" y="14644"/>
                  <a:pt x="6753" y="14618"/>
                  <a:pt x="6780" y="14637"/>
                </a:cubicBezTo>
                <a:cubicBezTo>
                  <a:pt x="6803" y="14653"/>
                  <a:pt x="6778" y="14711"/>
                  <a:pt x="6773" y="14729"/>
                </a:cubicBezTo>
                <a:cubicBezTo>
                  <a:pt x="6765" y="14756"/>
                  <a:pt x="6737" y="14801"/>
                  <a:pt x="6747" y="14831"/>
                </a:cubicBezTo>
                <a:cubicBezTo>
                  <a:pt x="6759" y="14867"/>
                  <a:pt x="6812" y="14836"/>
                  <a:pt x="6829" y="14829"/>
                </a:cubicBezTo>
                <a:cubicBezTo>
                  <a:pt x="6873" y="14810"/>
                  <a:pt x="6907" y="14791"/>
                  <a:pt x="6943" y="14761"/>
                </a:cubicBezTo>
              </a:path>
              <a:path w="4375" h="882">
                <a:moveTo>
                  <a:pt x="6939" y="14435"/>
                </a:moveTo>
                <a:cubicBezTo>
                  <a:pt x="6967" y="14439"/>
                  <a:pt x="6971" y="14459"/>
                  <a:pt x="6980" y="14484"/>
                </a:cubicBezTo>
                <a:cubicBezTo>
                  <a:pt x="7002" y="14543"/>
                  <a:pt x="7011" y="14607"/>
                  <a:pt x="7013" y="14670"/>
                </a:cubicBezTo>
                <a:cubicBezTo>
                  <a:pt x="7015" y="14728"/>
                  <a:pt x="7015" y="14785"/>
                  <a:pt x="7017" y="14843"/>
                </a:cubicBezTo>
                <a:cubicBezTo>
                  <a:pt x="7019" y="14859"/>
                  <a:pt x="7019" y="14862"/>
                  <a:pt x="7020" y="14872"/>
                </a:cubicBezTo>
              </a:path>
              <a:path w="4375" h="882">
                <a:moveTo>
                  <a:pt x="7274" y="14460"/>
                </a:moveTo>
                <a:cubicBezTo>
                  <a:pt x="7280" y="14443"/>
                  <a:pt x="7295" y="14423"/>
                  <a:pt x="7310" y="14415"/>
                </a:cubicBezTo>
                <a:cubicBezTo>
                  <a:pt x="7348" y="14395"/>
                  <a:pt x="7398" y="14386"/>
                  <a:pt x="7439" y="14376"/>
                </a:cubicBezTo>
                <a:cubicBezTo>
                  <a:pt x="7492" y="14363"/>
                  <a:pt x="7554" y="14352"/>
                  <a:pt x="7608" y="14355"/>
                </a:cubicBezTo>
                <a:cubicBezTo>
                  <a:pt x="7638" y="14357"/>
                  <a:pt x="7646" y="14360"/>
                  <a:pt x="7660" y="14381"/>
                </a:cubicBezTo>
              </a:path>
              <a:path w="4375" h="882">
                <a:moveTo>
                  <a:pt x="7341" y="14640"/>
                </a:moveTo>
                <a:cubicBezTo>
                  <a:pt x="7378" y="14633"/>
                  <a:pt x="7408" y="14608"/>
                  <a:pt x="7443" y="14592"/>
                </a:cubicBezTo>
                <a:cubicBezTo>
                  <a:pt x="7500" y="14567"/>
                  <a:pt x="7553" y="14555"/>
                  <a:pt x="7614" y="14544"/>
                </a:cubicBezTo>
                <a:cubicBezTo>
                  <a:pt x="7649" y="14538"/>
                  <a:pt x="7684" y="14531"/>
                  <a:pt x="7719" y="14524"/>
                </a:cubicBezTo>
              </a:path>
              <a:path w="4375" h="882">
                <a:moveTo>
                  <a:pt x="8021" y="14213"/>
                </a:moveTo>
                <a:cubicBezTo>
                  <a:pt x="8034" y="14186"/>
                  <a:pt x="8024" y="14256"/>
                  <a:pt x="8024" y="14270"/>
                </a:cubicBezTo>
                <a:cubicBezTo>
                  <a:pt x="8025" y="14324"/>
                  <a:pt x="8023" y="14376"/>
                  <a:pt x="8023" y="14430"/>
                </a:cubicBezTo>
                <a:cubicBezTo>
                  <a:pt x="8024" y="14466"/>
                  <a:pt x="8024" y="14477"/>
                  <a:pt x="8022" y="14501"/>
                </a:cubicBezTo>
              </a:path>
              <a:path w="4375" h="882">
                <a:moveTo>
                  <a:pt x="7877" y="14638"/>
                </a:moveTo>
                <a:cubicBezTo>
                  <a:pt x="7880" y="14615"/>
                  <a:pt x="7890" y="14601"/>
                  <a:pt x="7904" y="14582"/>
                </a:cubicBezTo>
                <a:cubicBezTo>
                  <a:pt x="7925" y="14554"/>
                  <a:pt x="7960" y="14527"/>
                  <a:pt x="7995" y="14518"/>
                </a:cubicBezTo>
                <a:cubicBezTo>
                  <a:pt x="8023" y="14511"/>
                  <a:pt x="8063" y="14501"/>
                  <a:pt x="8090" y="14517"/>
                </a:cubicBezTo>
                <a:cubicBezTo>
                  <a:pt x="8100" y="14528"/>
                  <a:pt x="8103" y="14532"/>
                  <a:pt x="8105" y="14542"/>
                </a:cubicBezTo>
              </a:path>
              <a:path w="4375" h="882">
                <a:moveTo>
                  <a:pt x="7909" y="14726"/>
                </a:moveTo>
                <a:cubicBezTo>
                  <a:pt x="7891" y="14742"/>
                  <a:pt x="7882" y="14758"/>
                  <a:pt x="7873" y="14780"/>
                </a:cubicBezTo>
                <a:cubicBezTo>
                  <a:pt x="7865" y="14799"/>
                  <a:pt x="7859" y="14834"/>
                  <a:pt x="7863" y="14855"/>
                </a:cubicBezTo>
                <a:cubicBezTo>
                  <a:pt x="7865" y="14859"/>
                  <a:pt x="7866" y="14863"/>
                  <a:pt x="7868" y="14867"/>
                </a:cubicBezTo>
              </a:path>
              <a:path w="4375" h="882">
                <a:moveTo>
                  <a:pt x="8069" y="14689"/>
                </a:moveTo>
                <a:cubicBezTo>
                  <a:pt x="8072" y="14704"/>
                  <a:pt x="8072" y="14729"/>
                  <a:pt x="8079" y="14741"/>
                </a:cubicBezTo>
                <a:cubicBezTo>
                  <a:pt x="8092" y="14765"/>
                  <a:pt x="8121" y="14776"/>
                  <a:pt x="8146" y="14782"/>
                </a:cubicBezTo>
                <a:cubicBezTo>
                  <a:pt x="8178" y="14789"/>
                  <a:pt x="8214" y="14790"/>
                  <a:pt x="8246" y="14783"/>
                </a:cubicBezTo>
                <a:cubicBezTo>
                  <a:pt x="8264" y="14779"/>
                  <a:pt x="8299" y="14770"/>
                  <a:pt x="8288" y="14743"/>
                </a:cubicBezTo>
                <a:cubicBezTo>
                  <a:pt x="8280" y="14722"/>
                  <a:pt x="8249" y="14710"/>
                  <a:pt x="8231" y="1470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2008080" y="5424480"/>
            <a:ext cx="352440" cy="330120"/>
          </a:xfrm>
          <a:custGeom>
            <a:avLst/>
            <a:gdLst/>
            <a:ahLst/>
            <a:rect l="l" t="t" r="r" b="b"/>
            <a:pathLst>
              <a:path w="979" h="918">
                <a:moveTo>
                  <a:pt x="5579" y="15082"/>
                </a:moveTo>
                <a:cubicBezTo>
                  <a:pt x="5600" y="15050"/>
                  <a:pt x="5584" y="15160"/>
                  <a:pt x="5583" y="15175"/>
                </a:cubicBezTo>
                <a:cubicBezTo>
                  <a:pt x="5579" y="15293"/>
                  <a:pt x="5581" y="15410"/>
                  <a:pt x="5586" y="15528"/>
                </a:cubicBezTo>
                <a:cubicBezTo>
                  <a:pt x="5589" y="15588"/>
                  <a:pt x="5570" y="15815"/>
                  <a:pt x="5620" y="15862"/>
                </a:cubicBezTo>
                <a:cubicBezTo>
                  <a:pt x="5643" y="15883"/>
                  <a:pt x="5656" y="15812"/>
                  <a:pt x="5662" y="15795"/>
                </a:cubicBezTo>
              </a:path>
              <a:path w="979" h="918">
                <a:moveTo>
                  <a:pt x="6142" y="15238"/>
                </a:moveTo>
                <a:cubicBezTo>
                  <a:pt x="6095" y="15232"/>
                  <a:pt x="6062" y="15264"/>
                  <a:pt x="6027" y="15297"/>
                </a:cubicBezTo>
                <a:cubicBezTo>
                  <a:pt x="5973" y="15348"/>
                  <a:pt x="5919" y="15408"/>
                  <a:pt x="5883" y="15473"/>
                </a:cubicBezTo>
                <a:cubicBezTo>
                  <a:pt x="5855" y="15524"/>
                  <a:pt x="5856" y="15565"/>
                  <a:pt x="5907" y="15598"/>
                </a:cubicBezTo>
                <a:cubicBezTo>
                  <a:pt x="5996" y="15655"/>
                  <a:pt x="6107" y="15665"/>
                  <a:pt x="6194" y="15728"/>
                </a:cubicBezTo>
                <a:cubicBezTo>
                  <a:pt x="6229" y="15754"/>
                  <a:pt x="6254" y="15785"/>
                  <a:pt x="6225" y="15825"/>
                </a:cubicBezTo>
                <a:cubicBezTo>
                  <a:pt x="6189" y="15874"/>
                  <a:pt x="6124" y="15876"/>
                  <a:pt x="6070" y="15873"/>
                </a:cubicBezTo>
                <a:cubicBezTo>
                  <a:pt x="6033" y="15871"/>
                  <a:pt x="6003" y="15849"/>
                  <a:pt x="5996" y="15810"/>
                </a:cubicBezTo>
                <a:cubicBezTo>
                  <a:pt x="5996" y="15799"/>
                  <a:pt x="5996" y="15788"/>
                  <a:pt x="5996" y="15777"/>
                </a:cubicBezTo>
              </a:path>
              <a:path w="979" h="918">
                <a:moveTo>
                  <a:pt x="6463" y="15207"/>
                </a:moveTo>
                <a:cubicBezTo>
                  <a:pt x="6523" y="15216"/>
                  <a:pt x="6518" y="15245"/>
                  <a:pt x="6528" y="15303"/>
                </a:cubicBezTo>
                <a:cubicBezTo>
                  <a:pt x="6547" y="15413"/>
                  <a:pt x="6551" y="15526"/>
                  <a:pt x="6554" y="15637"/>
                </a:cubicBezTo>
                <a:cubicBezTo>
                  <a:pt x="6557" y="15734"/>
                  <a:pt x="6559" y="15830"/>
                  <a:pt x="6548" y="15926"/>
                </a:cubicBezTo>
                <a:cubicBezTo>
                  <a:pt x="6543" y="15958"/>
                  <a:pt x="6543" y="15966"/>
                  <a:pt x="6533" y="1598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2496960" y="5505480"/>
            <a:ext cx="168480" cy="123840"/>
          </a:xfrm>
          <a:custGeom>
            <a:avLst/>
            <a:gdLst/>
            <a:ahLst/>
            <a:rect l="l" t="t" r="r" b="b"/>
            <a:pathLst>
              <a:path w="465" h="348">
                <a:moveTo>
                  <a:pt x="6964" y="15351"/>
                </a:moveTo>
                <a:cubicBezTo>
                  <a:pt x="6949" y="15353"/>
                  <a:pt x="6946" y="15353"/>
                  <a:pt x="6937" y="15355"/>
                </a:cubicBezTo>
                <a:cubicBezTo>
                  <a:pt x="6964" y="15342"/>
                  <a:pt x="6991" y="15340"/>
                  <a:pt x="7021" y="15333"/>
                </a:cubicBezTo>
                <a:cubicBezTo>
                  <a:pt x="7066" y="15322"/>
                  <a:pt x="7112" y="15312"/>
                  <a:pt x="7158" y="15305"/>
                </a:cubicBezTo>
                <a:cubicBezTo>
                  <a:pt x="7195" y="15299"/>
                  <a:pt x="7235" y="15289"/>
                  <a:pt x="7273" y="15291"/>
                </a:cubicBezTo>
                <a:cubicBezTo>
                  <a:pt x="7306" y="15292"/>
                  <a:pt x="7321" y="15305"/>
                  <a:pt x="7310" y="15332"/>
                </a:cubicBezTo>
              </a:path>
              <a:path w="465" h="348">
                <a:moveTo>
                  <a:pt x="7017" y="15615"/>
                </a:moveTo>
                <a:cubicBezTo>
                  <a:pt x="7010" y="15626"/>
                  <a:pt x="7007" y="15629"/>
                  <a:pt x="7010" y="15638"/>
                </a:cubicBezTo>
                <a:cubicBezTo>
                  <a:pt x="7047" y="15630"/>
                  <a:pt x="7082" y="15625"/>
                  <a:pt x="7119" y="15617"/>
                </a:cubicBezTo>
                <a:cubicBezTo>
                  <a:pt x="7173" y="15606"/>
                  <a:pt x="7230" y="15590"/>
                  <a:pt x="7286" y="15590"/>
                </a:cubicBezTo>
                <a:cubicBezTo>
                  <a:pt x="7327" y="15590"/>
                  <a:pt x="7364" y="15602"/>
                  <a:pt x="7401" y="1561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2801880" y="5472000"/>
            <a:ext cx="376200" cy="209520"/>
          </a:xfrm>
          <a:custGeom>
            <a:avLst/>
            <a:gdLst/>
            <a:ahLst/>
            <a:rect l="l" t="t" r="r" b="b"/>
            <a:pathLst>
              <a:path w="1043" h="579">
                <a:moveTo>
                  <a:pt x="7802" y="15202"/>
                </a:moveTo>
                <a:cubicBezTo>
                  <a:pt x="7793" y="15229"/>
                  <a:pt x="7789" y="15267"/>
                  <a:pt x="7787" y="15306"/>
                </a:cubicBezTo>
                <a:cubicBezTo>
                  <a:pt x="7784" y="15395"/>
                  <a:pt x="7790" y="15484"/>
                  <a:pt x="7795" y="15573"/>
                </a:cubicBezTo>
                <a:cubicBezTo>
                  <a:pt x="7799" y="15638"/>
                  <a:pt x="7799" y="15704"/>
                  <a:pt x="7813" y="15768"/>
                </a:cubicBezTo>
                <a:cubicBezTo>
                  <a:pt x="7819" y="15781"/>
                  <a:pt x="7821" y="15785"/>
                  <a:pt x="7833" y="15772"/>
                </a:cubicBezTo>
              </a:path>
              <a:path w="1043" h="579">
                <a:moveTo>
                  <a:pt x="8103" y="15406"/>
                </a:moveTo>
                <a:cubicBezTo>
                  <a:pt x="8087" y="15436"/>
                  <a:pt x="8072" y="15466"/>
                  <a:pt x="8056" y="15496"/>
                </a:cubicBezTo>
                <a:cubicBezTo>
                  <a:pt x="8034" y="15537"/>
                  <a:pt x="8012" y="15584"/>
                  <a:pt x="8032" y="15631"/>
                </a:cubicBezTo>
                <a:cubicBezTo>
                  <a:pt x="8052" y="15678"/>
                  <a:pt x="8109" y="15673"/>
                  <a:pt x="8148" y="15657"/>
                </a:cubicBezTo>
                <a:cubicBezTo>
                  <a:pt x="8209" y="15632"/>
                  <a:pt x="8263" y="15577"/>
                  <a:pt x="8295" y="15520"/>
                </a:cubicBezTo>
                <a:cubicBezTo>
                  <a:pt x="8323" y="15472"/>
                  <a:pt x="8335" y="15417"/>
                  <a:pt x="8310" y="15365"/>
                </a:cubicBezTo>
                <a:cubicBezTo>
                  <a:pt x="8289" y="15321"/>
                  <a:pt x="8240" y="15297"/>
                  <a:pt x="8194" y="15287"/>
                </a:cubicBezTo>
                <a:cubicBezTo>
                  <a:pt x="8168" y="15281"/>
                  <a:pt x="8140" y="15286"/>
                  <a:pt x="8114" y="15286"/>
                </a:cubicBezTo>
              </a:path>
              <a:path w="1043" h="579">
                <a:moveTo>
                  <a:pt x="8493" y="15397"/>
                </a:moveTo>
                <a:cubicBezTo>
                  <a:pt x="8468" y="15449"/>
                  <a:pt x="8443" y="15501"/>
                  <a:pt x="8420" y="15554"/>
                </a:cubicBezTo>
                <a:cubicBezTo>
                  <a:pt x="8402" y="15596"/>
                  <a:pt x="8387" y="15645"/>
                  <a:pt x="8437" y="15672"/>
                </a:cubicBezTo>
                <a:cubicBezTo>
                  <a:pt x="8494" y="15703"/>
                  <a:pt x="8578" y="15672"/>
                  <a:pt x="8632" y="15649"/>
                </a:cubicBezTo>
                <a:cubicBezTo>
                  <a:pt x="8698" y="15621"/>
                  <a:pt x="8771" y="15577"/>
                  <a:pt x="8810" y="15514"/>
                </a:cubicBezTo>
                <a:cubicBezTo>
                  <a:pt x="8838" y="15468"/>
                  <a:pt x="8828" y="15432"/>
                  <a:pt x="8785" y="15403"/>
                </a:cubicBezTo>
                <a:cubicBezTo>
                  <a:pt x="8738" y="15372"/>
                  <a:pt x="8677" y="15361"/>
                  <a:pt x="8623" y="15351"/>
                </a:cubicBezTo>
                <a:cubicBezTo>
                  <a:pt x="8588" y="15345"/>
                  <a:pt x="8554" y="15342"/>
                  <a:pt x="8519" y="1534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368280" y="2581200"/>
            <a:ext cx="325440" cy="392040"/>
          </a:xfrm>
          <a:custGeom>
            <a:avLst/>
            <a:gdLst/>
            <a:ahLst/>
            <a:rect l="l" t="t" r="r" b="b"/>
            <a:pathLst>
              <a:path w="904" h="1089">
                <a:moveTo>
                  <a:pt x="1060" y="8257"/>
                </a:moveTo>
                <a:cubicBezTo>
                  <a:pt x="1013" y="8162"/>
                  <a:pt x="1036" y="8143"/>
                  <a:pt x="1099" y="8053"/>
                </a:cubicBezTo>
                <a:cubicBezTo>
                  <a:pt x="1184" y="7932"/>
                  <a:pt x="1278" y="7821"/>
                  <a:pt x="1370" y="7706"/>
                </a:cubicBezTo>
                <a:cubicBezTo>
                  <a:pt x="1473" y="7578"/>
                  <a:pt x="1577" y="7451"/>
                  <a:pt x="1680" y="7323"/>
                </a:cubicBezTo>
                <a:cubicBezTo>
                  <a:pt x="1719" y="7274"/>
                  <a:pt x="1759" y="7227"/>
                  <a:pt x="1797" y="7177"/>
                </a:cubicBezTo>
                <a:cubicBezTo>
                  <a:pt x="1718" y="7223"/>
                  <a:pt x="1642" y="7272"/>
                  <a:pt x="1565" y="7321"/>
                </a:cubicBezTo>
                <a:cubicBezTo>
                  <a:pt x="1447" y="7396"/>
                  <a:pt x="1312" y="7488"/>
                  <a:pt x="1174" y="7502"/>
                </a:cubicBezTo>
                <a:cubicBezTo>
                  <a:pt x="1267" y="7428"/>
                  <a:pt x="1363" y="7364"/>
                  <a:pt x="1469" y="7308"/>
                </a:cubicBezTo>
                <a:cubicBezTo>
                  <a:pt x="1566" y="7257"/>
                  <a:pt x="1773" y="7120"/>
                  <a:pt x="1891" y="7179"/>
                </a:cubicBezTo>
                <a:cubicBezTo>
                  <a:pt x="1954" y="7211"/>
                  <a:pt x="1916" y="7325"/>
                  <a:pt x="1906" y="7371"/>
                </a:cubicBezTo>
                <a:cubicBezTo>
                  <a:pt x="1883" y="7472"/>
                  <a:pt x="1858" y="7571"/>
                  <a:pt x="1831" y="767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682560" y="2468520"/>
            <a:ext cx="5934240" cy="46080"/>
          </a:xfrm>
          <a:custGeom>
            <a:avLst/>
            <a:gdLst/>
            <a:ahLst/>
            <a:rect l="l" t="t" r="r" b="b"/>
            <a:pathLst>
              <a:path w="16483" h="127">
                <a:moveTo>
                  <a:pt x="1903" y="6961"/>
                </a:moveTo>
                <a:cubicBezTo>
                  <a:pt x="1916" y="6961"/>
                  <a:pt x="2024" y="6955"/>
                  <a:pt x="2074" y="6954"/>
                </a:cubicBezTo>
                <a:cubicBezTo>
                  <a:pt x="2962" y="6930"/>
                  <a:pt x="3851" y="6881"/>
                  <a:pt x="4738" y="6871"/>
                </a:cubicBezTo>
                <a:cubicBezTo>
                  <a:pt x="5895" y="6858"/>
                  <a:pt x="7052" y="6857"/>
                  <a:pt x="8209" y="6857"/>
                </a:cubicBezTo>
                <a:cubicBezTo>
                  <a:pt x="10106" y="6856"/>
                  <a:pt x="12003" y="6931"/>
                  <a:pt x="13900" y="6932"/>
                </a:cubicBezTo>
                <a:cubicBezTo>
                  <a:pt x="15229" y="6933"/>
                  <a:pt x="16561" y="6840"/>
                  <a:pt x="17889" y="6877"/>
                </a:cubicBezTo>
                <a:cubicBezTo>
                  <a:pt x="18053" y="6882"/>
                  <a:pt x="18216" y="6888"/>
                  <a:pt x="18379" y="689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"/>
          <p:cNvSpPr/>
          <p:nvPr/>
        </p:nvSpPr>
        <p:spPr>
          <a:xfrm>
            <a:off x="1598400" y="0"/>
            <a:ext cx="60206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0000"/>
                </a:solidFill>
                <a:latin typeface="Arial"/>
              </a:rPr>
              <a:t>Conditional Probability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>
            <a:off x="841320" y="873000"/>
            <a:ext cx="358920" cy="457200"/>
          </a:xfrm>
          <a:custGeom>
            <a:avLst/>
            <a:gdLst/>
            <a:ahLst/>
            <a:rect l="l" t="t" r="r" b="b"/>
            <a:pathLst>
              <a:path w="1000" h="1268">
                <a:moveTo>
                  <a:pt x="2497" y="2846"/>
                </a:moveTo>
                <a:cubicBezTo>
                  <a:pt x="2465" y="2815"/>
                  <a:pt x="2470" y="2830"/>
                  <a:pt x="2469" y="2868"/>
                </a:cubicBezTo>
                <a:cubicBezTo>
                  <a:pt x="2468" y="2921"/>
                  <a:pt x="2469" y="2977"/>
                  <a:pt x="2474" y="3029"/>
                </a:cubicBezTo>
                <a:cubicBezTo>
                  <a:pt x="2482" y="3114"/>
                  <a:pt x="2493" y="3198"/>
                  <a:pt x="2503" y="3283"/>
                </a:cubicBezTo>
                <a:cubicBezTo>
                  <a:pt x="2512" y="3359"/>
                  <a:pt x="2523" y="3436"/>
                  <a:pt x="2531" y="3512"/>
                </a:cubicBezTo>
                <a:cubicBezTo>
                  <a:pt x="2536" y="3559"/>
                  <a:pt x="2539" y="3606"/>
                  <a:pt x="2541" y="3653"/>
                </a:cubicBezTo>
                <a:cubicBezTo>
                  <a:pt x="2541" y="3673"/>
                  <a:pt x="2541" y="3680"/>
                  <a:pt x="2538" y="3694"/>
                </a:cubicBezTo>
                <a:cubicBezTo>
                  <a:pt x="2520" y="3653"/>
                  <a:pt x="2513" y="3614"/>
                  <a:pt x="2507" y="3570"/>
                </a:cubicBezTo>
                <a:cubicBezTo>
                  <a:pt x="2499" y="3512"/>
                  <a:pt x="2493" y="3453"/>
                  <a:pt x="2486" y="3395"/>
                </a:cubicBezTo>
              </a:path>
              <a:path w="1000" h="1268">
                <a:moveTo>
                  <a:pt x="2396" y="2861"/>
                </a:moveTo>
                <a:cubicBezTo>
                  <a:pt x="2385" y="2837"/>
                  <a:pt x="2373" y="2816"/>
                  <a:pt x="2359" y="2793"/>
                </a:cubicBezTo>
                <a:cubicBezTo>
                  <a:pt x="2342" y="2766"/>
                  <a:pt x="2332" y="2744"/>
                  <a:pt x="2335" y="2712"/>
                </a:cubicBezTo>
                <a:cubicBezTo>
                  <a:pt x="2338" y="2683"/>
                  <a:pt x="2349" y="2654"/>
                  <a:pt x="2359" y="2627"/>
                </a:cubicBezTo>
                <a:cubicBezTo>
                  <a:pt x="2377" y="2577"/>
                  <a:pt x="2407" y="2528"/>
                  <a:pt x="2443" y="2489"/>
                </a:cubicBezTo>
                <a:cubicBezTo>
                  <a:pt x="2472" y="2457"/>
                  <a:pt x="2510" y="2431"/>
                  <a:pt x="2554" y="2427"/>
                </a:cubicBezTo>
                <a:cubicBezTo>
                  <a:pt x="2607" y="2422"/>
                  <a:pt x="2656" y="2452"/>
                  <a:pt x="2695" y="2485"/>
                </a:cubicBezTo>
                <a:cubicBezTo>
                  <a:pt x="2749" y="2531"/>
                  <a:pt x="2793" y="2599"/>
                  <a:pt x="2824" y="2662"/>
                </a:cubicBezTo>
                <a:cubicBezTo>
                  <a:pt x="2856" y="2727"/>
                  <a:pt x="2881" y="2803"/>
                  <a:pt x="2883" y="2876"/>
                </a:cubicBezTo>
                <a:cubicBezTo>
                  <a:pt x="2885" y="2938"/>
                  <a:pt x="2871" y="2994"/>
                  <a:pt x="2827" y="3040"/>
                </a:cubicBezTo>
                <a:cubicBezTo>
                  <a:pt x="2785" y="3084"/>
                  <a:pt x="2728" y="3117"/>
                  <a:pt x="2674" y="3143"/>
                </a:cubicBezTo>
                <a:cubicBezTo>
                  <a:pt x="2640" y="3159"/>
                  <a:pt x="2577" y="3187"/>
                  <a:pt x="2538" y="3178"/>
                </a:cubicBezTo>
                <a:cubicBezTo>
                  <a:pt x="2493" y="3168"/>
                  <a:pt x="2511" y="3159"/>
                  <a:pt x="2517" y="3122"/>
                </a:cubicBezTo>
              </a:path>
              <a:path w="1000" h="1268">
                <a:moveTo>
                  <a:pt x="2968" y="3221"/>
                </a:moveTo>
                <a:cubicBezTo>
                  <a:pt x="2979" y="3263"/>
                  <a:pt x="2989" y="3310"/>
                  <a:pt x="2991" y="3354"/>
                </a:cubicBezTo>
                <a:cubicBezTo>
                  <a:pt x="2993" y="3401"/>
                  <a:pt x="2998" y="3447"/>
                  <a:pt x="3001" y="3494"/>
                </a:cubicBezTo>
                <a:cubicBezTo>
                  <a:pt x="3002" y="3517"/>
                  <a:pt x="3002" y="3540"/>
                  <a:pt x="3001" y="3562"/>
                </a:cubicBezTo>
                <a:cubicBezTo>
                  <a:pt x="2992" y="3520"/>
                  <a:pt x="2993" y="3477"/>
                  <a:pt x="2996" y="3433"/>
                </a:cubicBezTo>
                <a:cubicBezTo>
                  <a:pt x="3002" y="3347"/>
                  <a:pt x="3011" y="3249"/>
                  <a:pt x="3046" y="3169"/>
                </a:cubicBezTo>
                <a:cubicBezTo>
                  <a:pt x="3065" y="3125"/>
                  <a:pt x="3097" y="3072"/>
                  <a:pt x="3144" y="3054"/>
                </a:cubicBezTo>
                <a:cubicBezTo>
                  <a:pt x="3186" y="3038"/>
                  <a:pt x="3231" y="3054"/>
                  <a:pt x="3267" y="3075"/>
                </a:cubicBezTo>
                <a:cubicBezTo>
                  <a:pt x="3290" y="3089"/>
                  <a:pt x="3309" y="3105"/>
                  <a:pt x="3334" y="3116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1459080" y="917640"/>
            <a:ext cx="312480" cy="384120"/>
          </a:xfrm>
          <a:custGeom>
            <a:avLst/>
            <a:gdLst/>
            <a:ahLst/>
            <a:rect l="l" t="t" r="r" b="b"/>
            <a:pathLst>
              <a:path w="870" h="1065">
                <a:moveTo>
                  <a:pt x="4162" y="2550"/>
                </a:moveTo>
                <a:cubicBezTo>
                  <a:pt x="4143" y="2601"/>
                  <a:pt x="4130" y="2649"/>
                  <a:pt x="4119" y="2703"/>
                </a:cubicBezTo>
                <a:cubicBezTo>
                  <a:pt x="4078" y="2896"/>
                  <a:pt x="4049" y="3095"/>
                  <a:pt x="4051" y="3293"/>
                </a:cubicBezTo>
                <a:cubicBezTo>
                  <a:pt x="4052" y="3389"/>
                  <a:pt x="4059" y="3497"/>
                  <a:pt x="4108" y="3582"/>
                </a:cubicBezTo>
                <a:cubicBezTo>
                  <a:pt x="4127" y="3615"/>
                  <a:pt x="4173" y="3624"/>
                  <a:pt x="4203" y="3602"/>
                </a:cubicBezTo>
                <a:cubicBezTo>
                  <a:pt x="4211" y="3594"/>
                  <a:pt x="4219" y="3585"/>
                  <a:pt x="4227" y="3577"/>
                </a:cubicBezTo>
              </a:path>
              <a:path w="870" h="1065">
                <a:moveTo>
                  <a:pt x="4472" y="2796"/>
                </a:moveTo>
                <a:cubicBezTo>
                  <a:pt x="4476" y="2779"/>
                  <a:pt x="4476" y="2774"/>
                  <a:pt x="4483" y="2764"/>
                </a:cubicBezTo>
                <a:cubicBezTo>
                  <a:pt x="4479" y="2799"/>
                  <a:pt x="4475" y="2837"/>
                  <a:pt x="4473" y="2873"/>
                </a:cubicBezTo>
                <a:cubicBezTo>
                  <a:pt x="4469" y="2954"/>
                  <a:pt x="4463" y="3035"/>
                  <a:pt x="4456" y="3116"/>
                </a:cubicBezTo>
                <a:cubicBezTo>
                  <a:pt x="4450" y="3192"/>
                  <a:pt x="4443" y="3268"/>
                  <a:pt x="4438" y="3344"/>
                </a:cubicBezTo>
                <a:cubicBezTo>
                  <a:pt x="4436" y="3369"/>
                  <a:pt x="4428" y="3430"/>
                  <a:pt x="4446" y="3453"/>
                </a:cubicBezTo>
                <a:cubicBezTo>
                  <a:pt x="4469" y="3482"/>
                  <a:pt x="4502" y="3483"/>
                  <a:pt x="4537" y="3483"/>
                </a:cubicBezTo>
                <a:cubicBezTo>
                  <a:pt x="4588" y="3483"/>
                  <a:pt x="4638" y="3477"/>
                  <a:pt x="4688" y="3469"/>
                </a:cubicBezTo>
                <a:cubicBezTo>
                  <a:pt x="4738" y="3461"/>
                  <a:pt x="4777" y="3452"/>
                  <a:pt x="4806" y="3413"/>
                </a:cubicBezTo>
                <a:cubicBezTo>
                  <a:pt x="4836" y="3373"/>
                  <a:pt x="4828" y="3339"/>
                  <a:pt x="4821" y="3293"/>
                </a:cubicBezTo>
              </a:path>
              <a:path w="870" h="1065">
                <a:moveTo>
                  <a:pt x="4472" y="3061"/>
                </a:moveTo>
                <a:cubicBezTo>
                  <a:pt x="4456" y="3066"/>
                  <a:pt x="4440" y="3071"/>
                  <a:pt x="4424" y="3076"/>
                </a:cubicBezTo>
                <a:cubicBezTo>
                  <a:pt x="4472" y="3081"/>
                  <a:pt x="4518" y="3072"/>
                  <a:pt x="4566" y="3067"/>
                </a:cubicBezTo>
                <a:cubicBezTo>
                  <a:pt x="4641" y="3059"/>
                  <a:pt x="4718" y="3052"/>
                  <a:pt x="4789" y="3026"/>
                </a:cubicBezTo>
                <a:cubicBezTo>
                  <a:pt x="4824" y="3013"/>
                  <a:pt x="4855" y="3007"/>
                  <a:pt x="4858" y="2969"/>
                </a:cubicBezTo>
              </a:path>
              <a:path w="870" h="1065">
                <a:moveTo>
                  <a:pt x="4522" y="2835"/>
                </a:moveTo>
                <a:cubicBezTo>
                  <a:pt x="4505" y="2827"/>
                  <a:pt x="4492" y="2819"/>
                  <a:pt x="4476" y="2808"/>
                </a:cubicBezTo>
                <a:cubicBezTo>
                  <a:pt x="4517" y="2794"/>
                  <a:pt x="4558" y="2785"/>
                  <a:pt x="4600" y="2777"/>
                </a:cubicBezTo>
                <a:cubicBezTo>
                  <a:pt x="4659" y="2765"/>
                  <a:pt x="4726" y="2747"/>
                  <a:pt x="4786" y="2744"/>
                </a:cubicBezTo>
                <a:cubicBezTo>
                  <a:pt x="4825" y="2742"/>
                  <a:pt x="4868" y="2746"/>
                  <a:pt x="4907" y="2749"/>
                </a:cubicBezTo>
                <a:cubicBezTo>
                  <a:pt x="4911" y="2749"/>
                  <a:pt x="4916" y="2750"/>
                  <a:pt x="4920" y="2750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"/>
          <p:cNvSpPr/>
          <p:nvPr/>
        </p:nvSpPr>
        <p:spPr>
          <a:xfrm>
            <a:off x="1903320" y="939960"/>
            <a:ext cx="424080" cy="372960"/>
          </a:xfrm>
          <a:custGeom>
            <a:avLst/>
            <a:gdLst/>
            <a:ahLst/>
            <a:rect l="l" t="t" r="r" b="b"/>
            <a:pathLst>
              <a:path w="1176" h="1038">
                <a:moveTo>
                  <a:pt x="5321" y="2632"/>
                </a:moveTo>
                <a:cubicBezTo>
                  <a:pt x="5316" y="2571"/>
                  <a:pt x="5307" y="2682"/>
                  <a:pt x="5306" y="2686"/>
                </a:cubicBezTo>
                <a:cubicBezTo>
                  <a:pt x="5292" y="2783"/>
                  <a:pt x="5293" y="2882"/>
                  <a:pt x="5291" y="2981"/>
                </a:cubicBezTo>
                <a:cubicBezTo>
                  <a:pt x="5289" y="3111"/>
                  <a:pt x="5295" y="3241"/>
                  <a:pt x="5300" y="3371"/>
                </a:cubicBezTo>
                <a:cubicBezTo>
                  <a:pt x="5303" y="3437"/>
                  <a:pt x="5353" y="3611"/>
                  <a:pt x="5304" y="3567"/>
                </a:cubicBezTo>
                <a:cubicBezTo>
                  <a:pt x="5293" y="3536"/>
                  <a:pt x="5289" y="3526"/>
                  <a:pt x="5289" y="3504"/>
                </a:cubicBezTo>
              </a:path>
              <a:path w="1176" h="1038">
                <a:moveTo>
                  <a:pt x="5617" y="2847"/>
                </a:moveTo>
                <a:cubicBezTo>
                  <a:pt x="5678" y="2859"/>
                  <a:pt x="5657" y="2903"/>
                  <a:pt x="5660" y="2963"/>
                </a:cubicBezTo>
                <a:cubicBezTo>
                  <a:pt x="5664" y="3048"/>
                  <a:pt x="5665" y="3133"/>
                  <a:pt x="5667" y="3219"/>
                </a:cubicBezTo>
                <a:cubicBezTo>
                  <a:pt x="5669" y="3283"/>
                  <a:pt x="5681" y="3357"/>
                  <a:pt x="5674" y="3421"/>
                </a:cubicBezTo>
                <a:cubicBezTo>
                  <a:pt x="5670" y="3459"/>
                  <a:pt x="5666" y="3457"/>
                  <a:pt x="5644" y="3441"/>
                </a:cubicBezTo>
              </a:path>
              <a:path w="1176" h="1038">
                <a:moveTo>
                  <a:pt x="5558" y="2934"/>
                </a:moveTo>
                <a:cubicBezTo>
                  <a:pt x="5553" y="2902"/>
                  <a:pt x="5564" y="2899"/>
                  <a:pt x="5597" y="2894"/>
                </a:cubicBezTo>
                <a:cubicBezTo>
                  <a:pt x="5652" y="2886"/>
                  <a:pt x="5704" y="2873"/>
                  <a:pt x="5758" y="2858"/>
                </a:cubicBezTo>
                <a:cubicBezTo>
                  <a:pt x="5816" y="2842"/>
                  <a:pt x="5880" y="2833"/>
                  <a:pt x="5936" y="2811"/>
                </a:cubicBezTo>
                <a:cubicBezTo>
                  <a:pt x="5963" y="2801"/>
                  <a:pt x="5980" y="2797"/>
                  <a:pt x="6007" y="2791"/>
                </a:cubicBezTo>
              </a:path>
              <a:path w="1176" h="1038">
                <a:moveTo>
                  <a:pt x="5688" y="3145"/>
                </a:moveTo>
                <a:cubicBezTo>
                  <a:pt x="5676" y="3175"/>
                  <a:pt x="5663" y="3203"/>
                  <a:pt x="5710" y="3207"/>
                </a:cubicBezTo>
                <a:cubicBezTo>
                  <a:pt x="5754" y="3210"/>
                  <a:pt x="5811" y="3197"/>
                  <a:pt x="5855" y="3192"/>
                </a:cubicBezTo>
                <a:cubicBezTo>
                  <a:pt x="5914" y="3185"/>
                  <a:pt x="5971" y="3174"/>
                  <a:pt x="6024" y="3151"/>
                </a:cubicBezTo>
                <a:cubicBezTo>
                  <a:pt x="6061" y="3135"/>
                  <a:pt x="6080" y="3123"/>
                  <a:pt x="6100" y="3090"/>
                </a:cubicBezTo>
              </a:path>
              <a:path w="1176" h="1038">
                <a:moveTo>
                  <a:pt x="6138" y="2647"/>
                </a:moveTo>
                <a:cubicBezTo>
                  <a:pt x="6153" y="2644"/>
                  <a:pt x="6155" y="2634"/>
                  <a:pt x="6184" y="2679"/>
                </a:cubicBezTo>
                <a:cubicBezTo>
                  <a:pt x="6232" y="2753"/>
                  <a:pt x="6264" y="2837"/>
                  <a:pt x="6295" y="2919"/>
                </a:cubicBezTo>
                <a:cubicBezTo>
                  <a:pt x="6342" y="3042"/>
                  <a:pt x="6379" y="3167"/>
                  <a:pt x="6411" y="3295"/>
                </a:cubicBezTo>
                <a:cubicBezTo>
                  <a:pt x="6433" y="3384"/>
                  <a:pt x="6454" y="3474"/>
                  <a:pt x="6462" y="3565"/>
                </a:cubicBezTo>
                <a:cubicBezTo>
                  <a:pt x="6465" y="3603"/>
                  <a:pt x="6466" y="3615"/>
                  <a:pt x="6451" y="3647"/>
                </a:cubicBezTo>
                <a:cubicBezTo>
                  <a:pt x="6424" y="3626"/>
                  <a:pt x="6412" y="3610"/>
                  <a:pt x="6393" y="3576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"/>
          <p:cNvSpPr/>
          <p:nvPr/>
        </p:nvSpPr>
        <p:spPr>
          <a:xfrm>
            <a:off x="2490840" y="1100160"/>
            <a:ext cx="152280" cy="112680"/>
          </a:xfrm>
          <a:custGeom>
            <a:avLst/>
            <a:gdLst/>
            <a:ahLst/>
            <a:rect l="l" t="t" r="r" b="b"/>
            <a:pathLst>
              <a:path w="422" h="312">
                <a:moveTo>
                  <a:pt x="6933" y="3082"/>
                </a:moveTo>
                <a:cubicBezTo>
                  <a:pt x="6928" y="3083"/>
                  <a:pt x="6923" y="3085"/>
                  <a:pt x="6918" y="3086"/>
                </a:cubicBezTo>
                <a:cubicBezTo>
                  <a:pt x="6938" y="3114"/>
                  <a:pt x="6973" y="3106"/>
                  <a:pt x="7012" y="3105"/>
                </a:cubicBezTo>
                <a:cubicBezTo>
                  <a:pt x="7077" y="3103"/>
                  <a:pt x="7134" y="3097"/>
                  <a:pt x="7197" y="3079"/>
                </a:cubicBezTo>
                <a:cubicBezTo>
                  <a:pt x="7227" y="3070"/>
                  <a:pt x="7235" y="3069"/>
                  <a:pt x="7251" y="3058"/>
                </a:cubicBezTo>
              </a:path>
              <a:path w="422" h="312">
                <a:moveTo>
                  <a:pt x="6992" y="3316"/>
                </a:moveTo>
                <a:cubicBezTo>
                  <a:pt x="6992" y="3360"/>
                  <a:pt x="6998" y="3368"/>
                  <a:pt x="7044" y="3366"/>
                </a:cubicBezTo>
                <a:cubicBezTo>
                  <a:pt x="7110" y="3363"/>
                  <a:pt x="7174" y="3357"/>
                  <a:pt x="7238" y="3340"/>
                </a:cubicBezTo>
                <a:cubicBezTo>
                  <a:pt x="7290" y="3324"/>
                  <a:pt x="7307" y="3319"/>
                  <a:pt x="7339" y="3303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"/>
          <p:cNvSpPr/>
          <p:nvPr/>
        </p:nvSpPr>
        <p:spPr>
          <a:xfrm>
            <a:off x="2874960" y="890640"/>
            <a:ext cx="1284120" cy="349200"/>
          </a:xfrm>
          <a:custGeom>
            <a:avLst/>
            <a:gdLst/>
            <a:ahLst/>
            <a:rect l="l" t="t" r="r" b="b"/>
            <a:pathLst>
              <a:path w="3566" h="971">
                <a:moveTo>
                  <a:pt x="8040" y="2890"/>
                </a:moveTo>
                <a:cubicBezTo>
                  <a:pt x="8045" y="2932"/>
                  <a:pt x="8039" y="2976"/>
                  <a:pt x="8046" y="3017"/>
                </a:cubicBezTo>
                <a:cubicBezTo>
                  <a:pt x="8057" y="3085"/>
                  <a:pt x="8074" y="3152"/>
                  <a:pt x="8092" y="3218"/>
                </a:cubicBezTo>
                <a:cubicBezTo>
                  <a:pt x="8100" y="3248"/>
                  <a:pt x="8108" y="3278"/>
                  <a:pt x="8114" y="3309"/>
                </a:cubicBezTo>
                <a:cubicBezTo>
                  <a:pt x="8080" y="3284"/>
                  <a:pt x="8062" y="3248"/>
                  <a:pt x="8047" y="3207"/>
                </a:cubicBezTo>
                <a:cubicBezTo>
                  <a:pt x="8020" y="3135"/>
                  <a:pt x="8005" y="3055"/>
                  <a:pt x="7996" y="2979"/>
                </a:cubicBezTo>
                <a:cubicBezTo>
                  <a:pt x="7981" y="2848"/>
                  <a:pt x="7982" y="2710"/>
                  <a:pt x="8012" y="2582"/>
                </a:cubicBezTo>
                <a:cubicBezTo>
                  <a:pt x="8025" y="2528"/>
                  <a:pt x="8035" y="2495"/>
                  <a:pt x="8086" y="2475"/>
                </a:cubicBezTo>
                <a:cubicBezTo>
                  <a:pt x="8142" y="2511"/>
                  <a:pt x="8175" y="2557"/>
                  <a:pt x="8205" y="2618"/>
                </a:cubicBezTo>
                <a:cubicBezTo>
                  <a:pt x="8248" y="2705"/>
                  <a:pt x="8275" y="2803"/>
                  <a:pt x="8279" y="2900"/>
                </a:cubicBezTo>
                <a:cubicBezTo>
                  <a:pt x="8282" y="2971"/>
                  <a:pt x="8272" y="3035"/>
                  <a:pt x="8215" y="3082"/>
                </a:cubicBezTo>
                <a:cubicBezTo>
                  <a:pt x="8190" y="3103"/>
                  <a:pt x="8136" y="3115"/>
                  <a:pt x="8110" y="3086"/>
                </a:cubicBezTo>
                <a:cubicBezTo>
                  <a:pt x="8088" y="3061"/>
                  <a:pt x="8095" y="3020"/>
                  <a:pt x="8096" y="2991"/>
                </a:cubicBezTo>
              </a:path>
              <a:path w="3566" h="971">
                <a:moveTo>
                  <a:pt x="8406" y="3045"/>
                </a:moveTo>
                <a:cubicBezTo>
                  <a:pt x="8435" y="3104"/>
                  <a:pt x="8467" y="3165"/>
                  <a:pt x="8487" y="3228"/>
                </a:cubicBezTo>
                <a:cubicBezTo>
                  <a:pt x="8496" y="3255"/>
                  <a:pt x="8505" y="3280"/>
                  <a:pt x="8511" y="3307"/>
                </a:cubicBezTo>
                <a:cubicBezTo>
                  <a:pt x="8480" y="3250"/>
                  <a:pt x="8463" y="3187"/>
                  <a:pt x="8453" y="3122"/>
                </a:cubicBezTo>
                <a:cubicBezTo>
                  <a:pt x="8441" y="3048"/>
                  <a:pt x="8438" y="2970"/>
                  <a:pt x="8461" y="2897"/>
                </a:cubicBezTo>
                <a:cubicBezTo>
                  <a:pt x="8477" y="2844"/>
                  <a:pt x="8506" y="2802"/>
                  <a:pt x="8561" y="2788"/>
                </a:cubicBezTo>
                <a:cubicBezTo>
                  <a:pt x="8601" y="2778"/>
                  <a:pt x="8659" y="2786"/>
                  <a:pt x="8699" y="2794"/>
                </a:cubicBezTo>
                <a:cubicBezTo>
                  <a:pt x="8730" y="2800"/>
                  <a:pt x="8762" y="2810"/>
                  <a:pt x="8793" y="2817"/>
                </a:cubicBezTo>
              </a:path>
              <a:path w="3566" h="971">
                <a:moveTo>
                  <a:pt x="9107" y="2533"/>
                </a:moveTo>
                <a:cubicBezTo>
                  <a:pt x="9125" y="2486"/>
                  <a:pt x="9078" y="2586"/>
                  <a:pt x="9076" y="2592"/>
                </a:cubicBezTo>
                <a:cubicBezTo>
                  <a:pt x="9047" y="2681"/>
                  <a:pt x="9026" y="2778"/>
                  <a:pt x="9011" y="2870"/>
                </a:cubicBezTo>
                <a:cubicBezTo>
                  <a:pt x="8992" y="2985"/>
                  <a:pt x="8981" y="3102"/>
                  <a:pt x="8992" y="3219"/>
                </a:cubicBezTo>
                <a:cubicBezTo>
                  <a:pt x="8998" y="3289"/>
                  <a:pt x="9012" y="3374"/>
                  <a:pt x="9063" y="3427"/>
                </a:cubicBezTo>
                <a:cubicBezTo>
                  <a:pt x="9106" y="3472"/>
                  <a:pt x="9142" y="3430"/>
                  <a:pt x="9174" y="3400"/>
                </a:cubicBezTo>
              </a:path>
              <a:path w="3566" h="971">
                <a:moveTo>
                  <a:pt x="9453" y="2674"/>
                </a:moveTo>
                <a:cubicBezTo>
                  <a:pt x="9452" y="2670"/>
                  <a:pt x="9451" y="2665"/>
                  <a:pt x="9450" y="2661"/>
                </a:cubicBezTo>
                <a:cubicBezTo>
                  <a:pt x="9423" y="2687"/>
                  <a:pt x="9418" y="2731"/>
                  <a:pt x="9410" y="2773"/>
                </a:cubicBezTo>
                <a:cubicBezTo>
                  <a:pt x="9395" y="2850"/>
                  <a:pt x="9385" y="2929"/>
                  <a:pt x="9378" y="3007"/>
                </a:cubicBezTo>
                <a:cubicBezTo>
                  <a:pt x="9372" y="3072"/>
                  <a:pt x="9368" y="3137"/>
                  <a:pt x="9376" y="3202"/>
                </a:cubicBezTo>
                <a:cubicBezTo>
                  <a:pt x="9382" y="3246"/>
                  <a:pt x="9391" y="3301"/>
                  <a:pt x="9420" y="3337"/>
                </a:cubicBezTo>
                <a:cubicBezTo>
                  <a:pt x="9443" y="3366"/>
                  <a:pt x="9469" y="3371"/>
                  <a:pt x="9504" y="3372"/>
                </a:cubicBezTo>
                <a:cubicBezTo>
                  <a:pt x="9544" y="3373"/>
                  <a:pt x="9589" y="3368"/>
                  <a:pt x="9628" y="3359"/>
                </a:cubicBezTo>
                <a:cubicBezTo>
                  <a:pt x="9677" y="3347"/>
                  <a:pt x="9709" y="3328"/>
                  <a:pt x="9745" y="3296"/>
                </a:cubicBezTo>
                <a:cubicBezTo>
                  <a:pt x="9780" y="3265"/>
                  <a:pt x="9787" y="3222"/>
                  <a:pt x="9778" y="3175"/>
                </a:cubicBezTo>
                <a:cubicBezTo>
                  <a:pt x="9774" y="3162"/>
                  <a:pt x="9770" y="3150"/>
                  <a:pt x="9766" y="3137"/>
                </a:cubicBezTo>
              </a:path>
              <a:path w="3566" h="971">
                <a:moveTo>
                  <a:pt x="9519" y="2979"/>
                </a:moveTo>
                <a:cubicBezTo>
                  <a:pt x="9504" y="2987"/>
                  <a:pt x="9499" y="2989"/>
                  <a:pt x="9500" y="3002"/>
                </a:cubicBezTo>
                <a:cubicBezTo>
                  <a:pt x="9531" y="3017"/>
                  <a:pt x="9560" y="3019"/>
                  <a:pt x="9595" y="3016"/>
                </a:cubicBezTo>
                <a:cubicBezTo>
                  <a:pt x="9654" y="3011"/>
                  <a:pt x="9712" y="3008"/>
                  <a:pt x="9770" y="3002"/>
                </a:cubicBezTo>
                <a:cubicBezTo>
                  <a:pt x="9805" y="2999"/>
                  <a:pt x="9814" y="3000"/>
                  <a:pt x="9834" y="2990"/>
                </a:cubicBezTo>
              </a:path>
              <a:path w="3566" h="971">
                <a:moveTo>
                  <a:pt x="9462" y="2739"/>
                </a:moveTo>
                <a:cubicBezTo>
                  <a:pt x="9494" y="2754"/>
                  <a:pt x="9527" y="2761"/>
                  <a:pt x="9563" y="2767"/>
                </a:cubicBezTo>
                <a:cubicBezTo>
                  <a:pt x="9620" y="2777"/>
                  <a:pt x="9679" y="2783"/>
                  <a:pt x="9736" y="2780"/>
                </a:cubicBezTo>
                <a:cubicBezTo>
                  <a:pt x="9786" y="2777"/>
                  <a:pt x="9813" y="2756"/>
                  <a:pt x="9843" y="2720"/>
                </a:cubicBezTo>
              </a:path>
              <a:path w="3566" h="971">
                <a:moveTo>
                  <a:pt x="10103" y="3303"/>
                </a:moveTo>
                <a:cubicBezTo>
                  <a:pt x="10105" y="3319"/>
                  <a:pt x="10106" y="3325"/>
                  <a:pt x="10108" y="3336"/>
                </a:cubicBezTo>
                <a:cubicBezTo>
                  <a:pt x="10076" y="3307"/>
                  <a:pt x="10069" y="3272"/>
                  <a:pt x="10066" y="3225"/>
                </a:cubicBezTo>
                <a:cubicBezTo>
                  <a:pt x="10061" y="3149"/>
                  <a:pt x="10065" y="3068"/>
                  <a:pt x="10086" y="2994"/>
                </a:cubicBezTo>
                <a:cubicBezTo>
                  <a:pt x="10103" y="2933"/>
                  <a:pt x="10134" y="2866"/>
                  <a:pt x="10186" y="2828"/>
                </a:cubicBezTo>
                <a:cubicBezTo>
                  <a:pt x="10234" y="2793"/>
                  <a:pt x="10281" y="2835"/>
                  <a:pt x="10313" y="2870"/>
                </a:cubicBezTo>
                <a:cubicBezTo>
                  <a:pt x="10371" y="2933"/>
                  <a:pt x="10409" y="3018"/>
                  <a:pt x="10441" y="3096"/>
                </a:cubicBezTo>
                <a:cubicBezTo>
                  <a:pt x="10472" y="3171"/>
                  <a:pt x="10489" y="3247"/>
                  <a:pt x="10509" y="3324"/>
                </a:cubicBezTo>
                <a:cubicBezTo>
                  <a:pt x="10517" y="3349"/>
                  <a:pt x="10521" y="3355"/>
                  <a:pt x="10519" y="3371"/>
                </a:cubicBezTo>
              </a:path>
              <a:path w="3566" h="971">
                <a:moveTo>
                  <a:pt x="10813" y="2800"/>
                </a:moveTo>
                <a:cubicBezTo>
                  <a:pt x="10834" y="2776"/>
                  <a:pt x="10819" y="2847"/>
                  <a:pt x="10818" y="2870"/>
                </a:cubicBezTo>
                <a:cubicBezTo>
                  <a:pt x="10815" y="2954"/>
                  <a:pt x="10818" y="3036"/>
                  <a:pt x="10822" y="3120"/>
                </a:cubicBezTo>
                <a:cubicBezTo>
                  <a:pt x="10826" y="3194"/>
                  <a:pt x="10833" y="3267"/>
                  <a:pt x="10840" y="3340"/>
                </a:cubicBezTo>
                <a:cubicBezTo>
                  <a:pt x="10843" y="3360"/>
                  <a:pt x="10843" y="3369"/>
                  <a:pt x="10846" y="3345"/>
                </a:cubicBezTo>
              </a:path>
              <a:path w="3566" h="971">
                <a:moveTo>
                  <a:pt x="10717" y="2782"/>
                </a:moveTo>
                <a:cubicBezTo>
                  <a:pt x="10720" y="2749"/>
                  <a:pt x="10715" y="2743"/>
                  <a:pt x="10746" y="2739"/>
                </a:cubicBezTo>
                <a:cubicBezTo>
                  <a:pt x="10787" y="2734"/>
                  <a:pt x="10834" y="2742"/>
                  <a:pt x="10876" y="2744"/>
                </a:cubicBezTo>
                <a:cubicBezTo>
                  <a:pt x="10948" y="2747"/>
                  <a:pt x="11020" y="2746"/>
                  <a:pt x="11092" y="2749"/>
                </a:cubicBezTo>
                <a:cubicBezTo>
                  <a:pt x="11130" y="2751"/>
                  <a:pt x="11217" y="2711"/>
                  <a:pt x="11205" y="2747"/>
                </a:cubicBezTo>
                <a:cubicBezTo>
                  <a:pt x="11200" y="2751"/>
                  <a:pt x="11194" y="2754"/>
                  <a:pt x="11189" y="2758"/>
                </a:cubicBezTo>
              </a:path>
              <a:path w="3566" h="971">
                <a:moveTo>
                  <a:pt x="10849" y="3007"/>
                </a:moveTo>
                <a:cubicBezTo>
                  <a:pt x="10856" y="3046"/>
                  <a:pt x="10879" y="3037"/>
                  <a:pt x="10917" y="3040"/>
                </a:cubicBezTo>
                <a:cubicBezTo>
                  <a:pt x="10972" y="3044"/>
                  <a:pt x="11036" y="3045"/>
                  <a:pt x="11091" y="3035"/>
                </a:cubicBezTo>
                <a:cubicBezTo>
                  <a:pt x="11143" y="3025"/>
                  <a:pt x="11197" y="3008"/>
                  <a:pt x="11243" y="2982"/>
                </a:cubicBezTo>
                <a:cubicBezTo>
                  <a:pt x="11250" y="2978"/>
                  <a:pt x="11257" y="2973"/>
                  <a:pt x="11264" y="2969"/>
                </a:cubicBezTo>
              </a:path>
              <a:path w="3566" h="971">
                <a:moveTo>
                  <a:pt x="11274" y="2676"/>
                </a:moveTo>
                <a:cubicBezTo>
                  <a:pt x="11279" y="2661"/>
                  <a:pt x="11281" y="2656"/>
                  <a:pt x="11287" y="2647"/>
                </a:cubicBezTo>
                <a:cubicBezTo>
                  <a:pt x="11328" y="2674"/>
                  <a:pt x="11356" y="2707"/>
                  <a:pt x="11384" y="2747"/>
                </a:cubicBezTo>
                <a:cubicBezTo>
                  <a:pt x="11455" y="2848"/>
                  <a:pt x="11517" y="2957"/>
                  <a:pt x="11543" y="3079"/>
                </a:cubicBezTo>
                <a:cubicBezTo>
                  <a:pt x="11559" y="3155"/>
                  <a:pt x="11566" y="3251"/>
                  <a:pt x="11508" y="3310"/>
                </a:cubicBezTo>
                <a:cubicBezTo>
                  <a:pt x="11476" y="3343"/>
                  <a:pt x="11445" y="3351"/>
                  <a:pt x="11402" y="3351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2948040" y="1317600"/>
            <a:ext cx="1077840" cy="469800"/>
          </a:xfrm>
          <a:custGeom>
            <a:avLst/>
            <a:gdLst/>
            <a:ahLst/>
            <a:rect l="l" t="t" r="r" b="b"/>
            <a:pathLst>
              <a:path w="2996" h="1305">
                <a:moveTo>
                  <a:pt x="8201" y="3659"/>
                </a:moveTo>
                <a:cubicBezTo>
                  <a:pt x="8221" y="3671"/>
                  <a:pt x="8216" y="3675"/>
                  <a:pt x="8238" y="3683"/>
                </a:cubicBezTo>
                <a:cubicBezTo>
                  <a:pt x="8277" y="3697"/>
                  <a:pt x="8312" y="3701"/>
                  <a:pt x="8353" y="3702"/>
                </a:cubicBezTo>
                <a:cubicBezTo>
                  <a:pt x="8416" y="3704"/>
                  <a:pt x="8477" y="3699"/>
                  <a:pt x="8540" y="3696"/>
                </a:cubicBezTo>
                <a:cubicBezTo>
                  <a:pt x="8742" y="3687"/>
                  <a:pt x="8938" y="3704"/>
                  <a:pt x="9140" y="3711"/>
                </a:cubicBezTo>
                <a:cubicBezTo>
                  <a:pt x="9229" y="3714"/>
                  <a:pt x="9317" y="3712"/>
                  <a:pt x="9406" y="3711"/>
                </a:cubicBezTo>
                <a:cubicBezTo>
                  <a:pt x="9614" y="3709"/>
                  <a:pt x="9818" y="3726"/>
                  <a:pt x="10025" y="3741"/>
                </a:cubicBezTo>
                <a:cubicBezTo>
                  <a:pt x="10208" y="3754"/>
                  <a:pt x="10392" y="3772"/>
                  <a:pt x="10576" y="3778"/>
                </a:cubicBezTo>
                <a:cubicBezTo>
                  <a:pt x="10739" y="3783"/>
                  <a:pt x="11025" y="3826"/>
                  <a:pt x="11176" y="3744"/>
                </a:cubicBezTo>
                <a:cubicBezTo>
                  <a:pt x="11221" y="3719"/>
                  <a:pt x="11110" y="3678"/>
                  <a:pt x="11104" y="3674"/>
                </a:cubicBezTo>
              </a:path>
              <a:path w="2996" h="1305">
                <a:moveTo>
                  <a:pt x="8927" y="4203"/>
                </a:moveTo>
                <a:cubicBezTo>
                  <a:pt x="8923" y="4245"/>
                  <a:pt x="8927" y="4279"/>
                  <a:pt x="8930" y="4321"/>
                </a:cubicBezTo>
                <a:cubicBezTo>
                  <a:pt x="8935" y="4402"/>
                  <a:pt x="8951" y="4481"/>
                  <a:pt x="8964" y="4561"/>
                </a:cubicBezTo>
                <a:cubicBezTo>
                  <a:pt x="8977" y="4639"/>
                  <a:pt x="8990" y="4717"/>
                  <a:pt x="8998" y="4796"/>
                </a:cubicBezTo>
                <a:cubicBezTo>
                  <a:pt x="9001" y="4823"/>
                  <a:pt x="9002" y="4851"/>
                  <a:pt x="9004" y="4878"/>
                </a:cubicBezTo>
                <a:cubicBezTo>
                  <a:pt x="8983" y="4847"/>
                  <a:pt x="8974" y="4815"/>
                  <a:pt x="8965" y="4778"/>
                </a:cubicBezTo>
                <a:cubicBezTo>
                  <a:pt x="8949" y="4714"/>
                  <a:pt x="8935" y="4648"/>
                  <a:pt x="8928" y="4582"/>
                </a:cubicBezTo>
                <a:cubicBezTo>
                  <a:pt x="8915" y="4461"/>
                  <a:pt x="8904" y="4337"/>
                  <a:pt x="8905" y="4215"/>
                </a:cubicBezTo>
                <a:cubicBezTo>
                  <a:pt x="8905" y="4180"/>
                  <a:pt x="8903" y="4122"/>
                  <a:pt x="8921" y="4090"/>
                </a:cubicBezTo>
                <a:cubicBezTo>
                  <a:pt x="8945" y="4049"/>
                  <a:pt x="8973" y="4031"/>
                  <a:pt x="9021" y="4048"/>
                </a:cubicBezTo>
                <a:cubicBezTo>
                  <a:pt x="9094" y="4074"/>
                  <a:pt x="9148" y="4140"/>
                  <a:pt x="9187" y="4203"/>
                </a:cubicBezTo>
                <a:cubicBezTo>
                  <a:pt x="9218" y="4252"/>
                  <a:pt x="9235" y="4302"/>
                  <a:pt x="9235" y="4359"/>
                </a:cubicBezTo>
                <a:cubicBezTo>
                  <a:pt x="9235" y="4406"/>
                  <a:pt x="9216" y="4446"/>
                  <a:pt x="9177" y="4474"/>
                </a:cubicBezTo>
                <a:cubicBezTo>
                  <a:pt x="9121" y="4514"/>
                  <a:pt x="9000" y="4550"/>
                  <a:pt x="8934" y="4517"/>
                </a:cubicBezTo>
                <a:cubicBezTo>
                  <a:pt x="8905" y="4502"/>
                  <a:pt x="8900" y="4496"/>
                  <a:pt x="8915" y="4465"/>
                </a:cubicBezTo>
                <a:cubicBezTo>
                  <a:pt x="8931" y="4448"/>
                  <a:pt x="8936" y="4442"/>
                  <a:pt x="8952" y="4438"/>
                </a:cubicBezTo>
              </a:path>
              <a:path w="2996" h="1305">
                <a:moveTo>
                  <a:pt x="9327" y="4656"/>
                </a:moveTo>
                <a:cubicBezTo>
                  <a:pt x="9346" y="4691"/>
                  <a:pt x="9366" y="4730"/>
                  <a:pt x="9376" y="4769"/>
                </a:cubicBezTo>
                <a:cubicBezTo>
                  <a:pt x="9384" y="4800"/>
                  <a:pt x="9396" y="4832"/>
                  <a:pt x="9401" y="4864"/>
                </a:cubicBezTo>
                <a:cubicBezTo>
                  <a:pt x="9401" y="4869"/>
                  <a:pt x="9401" y="4873"/>
                  <a:pt x="9401" y="4878"/>
                </a:cubicBezTo>
                <a:cubicBezTo>
                  <a:pt x="9372" y="4842"/>
                  <a:pt x="9358" y="4807"/>
                  <a:pt x="9349" y="4760"/>
                </a:cubicBezTo>
                <a:cubicBezTo>
                  <a:pt x="9331" y="4669"/>
                  <a:pt x="9334" y="4574"/>
                  <a:pt x="9372" y="4489"/>
                </a:cubicBezTo>
                <a:cubicBezTo>
                  <a:pt x="9385" y="4461"/>
                  <a:pt x="9410" y="4426"/>
                  <a:pt x="9442" y="4418"/>
                </a:cubicBezTo>
                <a:cubicBezTo>
                  <a:pt x="9463" y="4413"/>
                  <a:pt x="9488" y="4416"/>
                  <a:pt x="9509" y="4409"/>
                </a:cubicBezTo>
                <a:cubicBezTo>
                  <a:pt x="9526" y="4403"/>
                  <a:pt x="9540" y="4389"/>
                  <a:pt x="9553" y="4377"/>
                </a:cubicBezTo>
              </a:path>
              <a:path w="2996" h="1305">
                <a:moveTo>
                  <a:pt x="9904" y="4051"/>
                </a:moveTo>
                <a:cubicBezTo>
                  <a:pt x="9906" y="4044"/>
                  <a:pt x="9908" y="4038"/>
                  <a:pt x="9910" y="4031"/>
                </a:cubicBezTo>
                <a:cubicBezTo>
                  <a:pt x="9901" y="4076"/>
                  <a:pt x="9895" y="4121"/>
                  <a:pt x="9886" y="4166"/>
                </a:cubicBezTo>
                <a:cubicBezTo>
                  <a:pt x="9868" y="4262"/>
                  <a:pt x="9853" y="4359"/>
                  <a:pt x="9842" y="4456"/>
                </a:cubicBezTo>
                <a:cubicBezTo>
                  <a:pt x="9831" y="4550"/>
                  <a:pt x="9821" y="4656"/>
                  <a:pt x="9856" y="4747"/>
                </a:cubicBezTo>
                <a:cubicBezTo>
                  <a:pt x="9870" y="4784"/>
                  <a:pt x="9883" y="4781"/>
                  <a:pt x="9917" y="4787"/>
                </a:cubicBezTo>
                <a:cubicBezTo>
                  <a:pt x="9925" y="4760"/>
                  <a:pt x="9935" y="4741"/>
                  <a:pt x="9933" y="4711"/>
                </a:cubicBezTo>
                <a:cubicBezTo>
                  <a:pt x="9932" y="4704"/>
                  <a:pt x="9931" y="4698"/>
                  <a:pt x="9930" y="4691"/>
                </a:cubicBezTo>
              </a:path>
              <a:path w="2996" h="1305">
                <a:moveTo>
                  <a:pt x="10162" y="4166"/>
                </a:moveTo>
                <a:cubicBezTo>
                  <a:pt x="10169" y="4148"/>
                  <a:pt x="10169" y="4140"/>
                  <a:pt x="10184" y="4146"/>
                </a:cubicBezTo>
                <a:cubicBezTo>
                  <a:pt x="10200" y="4194"/>
                  <a:pt x="10205" y="4240"/>
                  <a:pt x="10213" y="4291"/>
                </a:cubicBezTo>
                <a:cubicBezTo>
                  <a:pt x="10227" y="4386"/>
                  <a:pt x="10233" y="4480"/>
                  <a:pt x="10236" y="4576"/>
                </a:cubicBezTo>
                <a:cubicBezTo>
                  <a:pt x="10239" y="4657"/>
                  <a:pt x="10243" y="4742"/>
                  <a:pt x="10236" y="4823"/>
                </a:cubicBezTo>
                <a:cubicBezTo>
                  <a:pt x="10230" y="4895"/>
                  <a:pt x="10238" y="4879"/>
                  <a:pt x="10241" y="4816"/>
                </a:cubicBezTo>
              </a:path>
              <a:path w="2996" h="1305">
                <a:moveTo>
                  <a:pt x="10175" y="4157"/>
                </a:moveTo>
                <a:cubicBezTo>
                  <a:pt x="10178" y="4130"/>
                  <a:pt x="10207" y="4133"/>
                  <a:pt x="10239" y="4130"/>
                </a:cubicBezTo>
                <a:cubicBezTo>
                  <a:pt x="10292" y="4125"/>
                  <a:pt x="10346" y="4124"/>
                  <a:pt x="10399" y="4116"/>
                </a:cubicBezTo>
                <a:cubicBezTo>
                  <a:pt x="10444" y="4110"/>
                  <a:pt x="10490" y="4101"/>
                  <a:pt x="10534" y="4119"/>
                </a:cubicBezTo>
                <a:cubicBezTo>
                  <a:pt x="10541" y="4123"/>
                  <a:pt x="10547" y="4127"/>
                  <a:pt x="10554" y="4131"/>
                </a:cubicBezTo>
              </a:path>
              <a:path w="2996" h="1305">
                <a:moveTo>
                  <a:pt x="10287" y="4433"/>
                </a:moveTo>
                <a:cubicBezTo>
                  <a:pt x="10280" y="4450"/>
                  <a:pt x="10257" y="4480"/>
                  <a:pt x="10274" y="4498"/>
                </a:cubicBezTo>
                <a:cubicBezTo>
                  <a:pt x="10300" y="4526"/>
                  <a:pt x="10353" y="4541"/>
                  <a:pt x="10389" y="4549"/>
                </a:cubicBezTo>
                <a:cubicBezTo>
                  <a:pt x="10445" y="4561"/>
                  <a:pt x="10503" y="4562"/>
                  <a:pt x="10560" y="4553"/>
                </a:cubicBezTo>
                <a:cubicBezTo>
                  <a:pt x="10611" y="4545"/>
                  <a:pt x="10644" y="4517"/>
                  <a:pt x="10677" y="4482"/>
                </a:cubicBezTo>
              </a:path>
              <a:path w="2996" h="1305">
                <a:moveTo>
                  <a:pt x="10731" y="4014"/>
                </a:moveTo>
                <a:cubicBezTo>
                  <a:pt x="10745" y="4056"/>
                  <a:pt x="10755" y="4099"/>
                  <a:pt x="10768" y="4143"/>
                </a:cubicBezTo>
                <a:cubicBezTo>
                  <a:pt x="10797" y="4238"/>
                  <a:pt x="10823" y="4334"/>
                  <a:pt x="10843" y="4432"/>
                </a:cubicBezTo>
                <a:cubicBezTo>
                  <a:pt x="10864" y="4535"/>
                  <a:pt x="10880" y="4638"/>
                  <a:pt x="10867" y="4743"/>
                </a:cubicBezTo>
                <a:cubicBezTo>
                  <a:pt x="10860" y="4799"/>
                  <a:pt x="10839" y="4892"/>
                  <a:pt x="10798" y="4936"/>
                </a:cubicBezTo>
                <a:cubicBezTo>
                  <a:pt x="10777" y="4958"/>
                  <a:pt x="10735" y="4974"/>
                  <a:pt x="10711" y="4951"/>
                </a:cubicBezTo>
                <a:cubicBezTo>
                  <a:pt x="10707" y="4945"/>
                  <a:pt x="10704" y="4940"/>
                  <a:pt x="10700" y="4934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610920" y="1981080"/>
            <a:ext cx="8207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: What is the conditional probability that a family with two childr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s two boys, given that they have at least one boy?  Assume BB, BG, GB, G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 equally like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5915160" y="1020600"/>
            <a:ext cx="1042920" cy="354240"/>
          </a:xfrm>
          <a:custGeom>
            <a:avLst/>
            <a:gdLst/>
            <a:ahLst/>
            <a:rect l="l" t="t" r="r" b="b"/>
            <a:pathLst>
              <a:path w="2900" h="986">
                <a:moveTo>
                  <a:pt x="16890" y="2977"/>
                </a:moveTo>
                <a:cubicBezTo>
                  <a:pt x="16896" y="2934"/>
                  <a:pt x="16906" y="2900"/>
                  <a:pt x="16865" y="2871"/>
                </a:cubicBezTo>
                <a:cubicBezTo>
                  <a:pt x="16825" y="2843"/>
                  <a:pt x="16765" y="2864"/>
                  <a:pt x="16728" y="2886"/>
                </a:cubicBezTo>
                <a:cubicBezTo>
                  <a:pt x="16648" y="2933"/>
                  <a:pt x="16580" y="3012"/>
                  <a:pt x="16530" y="3089"/>
                </a:cubicBezTo>
                <a:cubicBezTo>
                  <a:pt x="16446" y="3217"/>
                  <a:pt x="16402" y="3376"/>
                  <a:pt x="16453" y="3525"/>
                </a:cubicBezTo>
                <a:cubicBezTo>
                  <a:pt x="16514" y="3702"/>
                  <a:pt x="16671" y="3794"/>
                  <a:pt x="16845" y="3820"/>
                </a:cubicBezTo>
              </a:path>
              <a:path w="2900" h="986">
                <a:moveTo>
                  <a:pt x="17083" y="3330"/>
                </a:moveTo>
                <a:cubicBezTo>
                  <a:pt x="17041" y="3341"/>
                  <a:pt x="16994" y="3370"/>
                  <a:pt x="16968" y="3407"/>
                </a:cubicBezTo>
                <a:cubicBezTo>
                  <a:pt x="16930" y="3461"/>
                  <a:pt x="16909" y="3534"/>
                  <a:pt x="16911" y="3600"/>
                </a:cubicBezTo>
                <a:cubicBezTo>
                  <a:pt x="16912" y="3652"/>
                  <a:pt x="16935" y="3708"/>
                  <a:pt x="16991" y="3722"/>
                </a:cubicBezTo>
                <a:cubicBezTo>
                  <a:pt x="17049" y="3737"/>
                  <a:pt x="17099" y="3688"/>
                  <a:pt x="17132" y="3647"/>
                </a:cubicBezTo>
                <a:cubicBezTo>
                  <a:pt x="17188" y="3577"/>
                  <a:pt x="17208" y="3491"/>
                  <a:pt x="17224" y="3405"/>
                </a:cubicBezTo>
                <a:cubicBezTo>
                  <a:pt x="17232" y="3363"/>
                  <a:pt x="17229" y="3325"/>
                  <a:pt x="17225" y="3282"/>
                </a:cubicBezTo>
                <a:cubicBezTo>
                  <a:pt x="17224" y="3275"/>
                  <a:pt x="17224" y="3268"/>
                  <a:pt x="17223" y="3261"/>
                </a:cubicBezTo>
              </a:path>
              <a:path w="2900" h="986">
                <a:moveTo>
                  <a:pt x="17329" y="3393"/>
                </a:moveTo>
                <a:cubicBezTo>
                  <a:pt x="17332" y="3452"/>
                  <a:pt x="17333" y="3511"/>
                  <a:pt x="17338" y="3570"/>
                </a:cubicBezTo>
                <a:cubicBezTo>
                  <a:pt x="17342" y="3611"/>
                  <a:pt x="17342" y="3648"/>
                  <a:pt x="17359" y="3685"/>
                </a:cubicBezTo>
                <a:cubicBezTo>
                  <a:pt x="17398" y="3676"/>
                  <a:pt x="17403" y="3633"/>
                  <a:pt x="17418" y="3597"/>
                </a:cubicBezTo>
                <a:cubicBezTo>
                  <a:pt x="17444" y="3533"/>
                  <a:pt x="17469" y="3464"/>
                  <a:pt x="17505" y="3405"/>
                </a:cubicBezTo>
                <a:cubicBezTo>
                  <a:pt x="17524" y="3374"/>
                  <a:pt x="17529" y="3371"/>
                  <a:pt x="17558" y="3375"/>
                </a:cubicBezTo>
                <a:cubicBezTo>
                  <a:pt x="17578" y="3432"/>
                  <a:pt x="17583" y="3487"/>
                  <a:pt x="17591" y="3547"/>
                </a:cubicBezTo>
                <a:cubicBezTo>
                  <a:pt x="17598" y="3600"/>
                  <a:pt x="17597" y="3668"/>
                  <a:pt x="17635" y="3711"/>
                </a:cubicBezTo>
                <a:cubicBezTo>
                  <a:pt x="17655" y="3722"/>
                  <a:pt x="17662" y="3726"/>
                  <a:pt x="17678" y="3717"/>
                </a:cubicBezTo>
              </a:path>
              <a:path w="2900" h="986">
                <a:moveTo>
                  <a:pt x="18055" y="3369"/>
                </a:moveTo>
                <a:cubicBezTo>
                  <a:pt x="18016" y="3346"/>
                  <a:pt x="17975" y="3334"/>
                  <a:pt x="17928" y="3344"/>
                </a:cubicBezTo>
                <a:cubicBezTo>
                  <a:pt x="17869" y="3357"/>
                  <a:pt x="17814" y="3396"/>
                  <a:pt x="17778" y="3444"/>
                </a:cubicBezTo>
                <a:cubicBezTo>
                  <a:pt x="17743" y="3491"/>
                  <a:pt x="17736" y="3532"/>
                  <a:pt x="17752" y="3585"/>
                </a:cubicBezTo>
                <a:cubicBezTo>
                  <a:pt x="17802" y="3608"/>
                  <a:pt x="17839" y="3602"/>
                  <a:pt x="17889" y="3571"/>
                </a:cubicBezTo>
                <a:cubicBezTo>
                  <a:pt x="17961" y="3527"/>
                  <a:pt x="18006" y="3448"/>
                  <a:pt x="18036" y="3372"/>
                </a:cubicBezTo>
                <a:cubicBezTo>
                  <a:pt x="18093" y="3228"/>
                  <a:pt x="18115" y="3061"/>
                  <a:pt x="18110" y="2907"/>
                </a:cubicBezTo>
                <a:cubicBezTo>
                  <a:pt x="18107" y="2866"/>
                  <a:pt x="18109" y="2857"/>
                  <a:pt x="18096" y="2835"/>
                </a:cubicBezTo>
                <a:cubicBezTo>
                  <a:pt x="18061" y="2882"/>
                  <a:pt x="18035" y="2927"/>
                  <a:pt x="18023" y="2995"/>
                </a:cubicBezTo>
                <a:cubicBezTo>
                  <a:pt x="17996" y="3151"/>
                  <a:pt x="18003" y="3353"/>
                  <a:pt x="18080" y="3495"/>
                </a:cubicBezTo>
                <a:cubicBezTo>
                  <a:pt x="18106" y="3543"/>
                  <a:pt x="18132" y="3559"/>
                  <a:pt x="18178" y="3579"/>
                </a:cubicBezTo>
              </a:path>
              <a:path w="2900" h="986">
                <a:moveTo>
                  <a:pt x="18372" y="3371"/>
                </a:moveTo>
                <a:cubicBezTo>
                  <a:pt x="18390" y="3402"/>
                  <a:pt x="18365" y="3438"/>
                  <a:pt x="18360" y="3475"/>
                </a:cubicBezTo>
                <a:cubicBezTo>
                  <a:pt x="18351" y="3541"/>
                  <a:pt x="18354" y="3608"/>
                  <a:pt x="18352" y="3675"/>
                </a:cubicBezTo>
                <a:cubicBezTo>
                  <a:pt x="18351" y="3719"/>
                  <a:pt x="18357" y="3728"/>
                  <a:pt x="18372" y="3680"/>
                </a:cubicBezTo>
              </a:path>
              <a:path w="2900" h="986">
                <a:moveTo>
                  <a:pt x="18402" y="3207"/>
                </a:moveTo>
                <a:cubicBezTo>
                  <a:pt x="18402" y="3142"/>
                  <a:pt x="18403" y="3079"/>
                  <a:pt x="18408" y="3014"/>
                </a:cubicBezTo>
                <a:cubicBezTo>
                  <a:pt x="18412" y="2970"/>
                  <a:pt x="18422" y="2949"/>
                  <a:pt x="18441" y="2910"/>
                </a:cubicBezTo>
              </a:path>
              <a:path w="2900" h="986">
                <a:moveTo>
                  <a:pt x="18659" y="2884"/>
                </a:moveTo>
                <a:cubicBezTo>
                  <a:pt x="18657" y="2961"/>
                  <a:pt x="18644" y="3040"/>
                  <a:pt x="18644" y="3117"/>
                </a:cubicBezTo>
                <a:cubicBezTo>
                  <a:pt x="18644" y="3230"/>
                  <a:pt x="18656" y="3341"/>
                  <a:pt x="18662" y="3453"/>
                </a:cubicBezTo>
                <a:cubicBezTo>
                  <a:pt x="18665" y="3510"/>
                  <a:pt x="18668" y="3574"/>
                  <a:pt x="18651" y="3628"/>
                </a:cubicBezTo>
              </a:path>
              <a:path w="2900" h="986">
                <a:moveTo>
                  <a:pt x="18511" y="3388"/>
                </a:moveTo>
                <a:cubicBezTo>
                  <a:pt x="18522" y="3332"/>
                  <a:pt x="18530" y="3323"/>
                  <a:pt x="18578" y="3293"/>
                </a:cubicBezTo>
                <a:cubicBezTo>
                  <a:pt x="18633" y="3259"/>
                  <a:pt x="18694" y="3242"/>
                  <a:pt x="18757" y="3226"/>
                </a:cubicBezTo>
                <a:cubicBezTo>
                  <a:pt x="18788" y="3218"/>
                  <a:pt x="18866" y="3194"/>
                  <a:pt x="18898" y="3212"/>
                </a:cubicBezTo>
                <a:cubicBezTo>
                  <a:pt x="18927" y="3228"/>
                  <a:pt x="18908" y="3297"/>
                  <a:pt x="18903" y="3320"/>
                </a:cubicBezTo>
                <a:cubicBezTo>
                  <a:pt x="18888" y="3390"/>
                  <a:pt x="18875" y="3456"/>
                  <a:pt x="18867" y="3527"/>
                </a:cubicBezTo>
                <a:cubicBezTo>
                  <a:pt x="18863" y="3562"/>
                  <a:pt x="18850" y="3636"/>
                  <a:pt x="18874" y="3668"/>
                </a:cubicBezTo>
                <a:cubicBezTo>
                  <a:pt x="18894" y="3695"/>
                  <a:pt x="18898" y="3647"/>
                  <a:pt x="18902" y="3634"/>
                </a:cubicBezTo>
              </a:path>
              <a:path w="2900" h="986">
                <a:moveTo>
                  <a:pt x="18899" y="3285"/>
                </a:moveTo>
                <a:cubicBezTo>
                  <a:pt x="18903" y="3240"/>
                  <a:pt x="18900" y="3207"/>
                  <a:pt x="18925" y="3171"/>
                </a:cubicBezTo>
                <a:cubicBezTo>
                  <a:pt x="18939" y="3151"/>
                  <a:pt x="18944" y="3145"/>
                  <a:pt x="18963" y="3146"/>
                </a:cubicBezTo>
              </a:path>
              <a:path w="2900" h="986">
                <a:moveTo>
                  <a:pt x="19216" y="3395"/>
                </a:moveTo>
                <a:cubicBezTo>
                  <a:pt x="19174" y="3447"/>
                  <a:pt x="19118" y="3501"/>
                  <a:pt x="19082" y="3556"/>
                </a:cubicBezTo>
                <a:cubicBezTo>
                  <a:pt x="19067" y="3579"/>
                  <a:pt x="19028" y="3650"/>
                  <a:pt x="19057" y="3676"/>
                </a:cubicBezTo>
                <a:cubicBezTo>
                  <a:pt x="19083" y="3700"/>
                  <a:pt x="19136" y="3661"/>
                  <a:pt x="19155" y="3646"/>
                </a:cubicBezTo>
                <a:cubicBezTo>
                  <a:pt x="19193" y="3615"/>
                  <a:pt x="19230" y="3563"/>
                  <a:pt x="19249" y="3517"/>
                </a:cubicBezTo>
                <a:cubicBezTo>
                  <a:pt x="19269" y="3470"/>
                  <a:pt x="19278" y="3424"/>
                  <a:pt x="19307" y="3380"/>
                </a:cubicBezTo>
                <a:cubicBezTo>
                  <a:pt x="19314" y="3370"/>
                  <a:pt x="19322" y="3360"/>
                  <a:pt x="19329" y="335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7062840" y="1071720"/>
            <a:ext cx="233280" cy="291960"/>
          </a:xfrm>
          <a:custGeom>
            <a:avLst/>
            <a:gdLst/>
            <a:ahLst/>
            <a:rect l="l" t="t" r="r" b="b"/>
            <a:pathLst>
              <a:path w="645" h="811">
                <a:moveTo>
                  <a:pt x="19654" y="3493"/>
                </a:moveTo>
                <a:cubicBezTo>
                  <a:pt x="19652" y="3511"/>
                  <a:pt x="19651" y="3559"/>
                  <a:pt x="19636" y="3573"/>
                </a:cubicBezTo>
                <a:cubicBezTo>
                  <a:pt x="19632" y="3573"/>
                  <a:pt x="19629" y="3574"/>
                  <a:pt x="19625" y="3574"/>
                </a:cubicBezTo>
                <a:cubicBezTo>
                  <a:pt x="19621" y="3547"/>
                  <a:pt x="19626" y="3529"/>
                  <a:pt x="19642" y="3505"/>
                </a:cubicBezTo>
                <a:cubicBezTo>
                  <a:pt x="19652" y="3489"/>
                  <a:pt x="19671" y="3472"/>
                  <a:pt x="19688" y="3491"/>
                </a:cubicBezTo>
                <a:cubicBezTo>
                  <a:pt x="19710" y="3514"/>
                  <a:pt x="19717" y="3553"/>
                  <a:pt x="19731" y="3581"/>
                </a:cubicBezTo>
                <a:cubicBezTo>
                  <a:pt x="19744" y="3607"/>
                  <a:pt x="19764" y="3634"/>
                  <a:pt x="19798" y="3631"/>
                </a:cubicBezTo>
                <a:cubicBezTo>
                  <a:pt x="19832" y="3628"/>
                  <a:pt x="19860" y="3588"/>
                  <a:pt x="19880" y="3566"/>
                </a:cubicBezTo>
              </a:path>
              <a:path w="645" h="811">
                <a:moveTo>
                  <a:pt x="20038" y="3379"/>
                </a:moveTo>
                <a:cubicBezTo>
                  <a:pt x="20008" y="3385"/>
                  <a:pt x="19980" y="3404"/>
                  <a:pt x="19955" y="3428"/>
                </a:cubicBezTo>
                <a:cubicBezTo>
                  <a:pt x="19925" y="3456"/>
                  <a:pt x="19897" y="3495"/>
                  <a:pt x="19890" y="3536"/>
                </a:cubicBezTo>
                <a:cubicBezTo>
                  <a:pt x="19884" y="3572"/>
                  <a:pt x="19908" y="3586"/>
                  <a:pt x="19940" y="3587"/>
                </a:cubicBezTo>
                <a:cubicBezTo>
                  <a:pt x="19978" y="3588"/>
                  <a:pt x="20012" y="3570"/>
                  <a:pt x="20047" y="3560"/>
                </a:cubicBezTo>
                <a:cubicBezTo>
                  <a:pt x="20065" y="3555"/>
                  <a:pt x="20092" y="3546"/>
                  <a:pt x="20100" y="3570"/>
                </a:cubicBezTo>
                <a:cubicBezTo>
                  <a:pt x="20105" y="3586"/>
                  <a:pt x="20098" y="3606"/>
                  <a:pt x="20100" y="3622"/>
                </a:cubicBezTo>
                <a:cubicBezTo>
                  <a:pt x="20101" y="3627"/>
                  <a:pt x="20103" y="3631"/>
                  <a:pt x="20104" y="3636"/>
                </a:cubicBezTo>
              </a:path>
              <a:path w="645" h="811">
                <a:moveTo>
                  <a:pt x="20256" y="3015"/>
                </a:moveTo>
                <a:cubicBezTo>
                  <a:pt x="20259" y="2999"/>
                  <a:pt x="20257" y="3004"/>
                  <a:pt x="20263" y="2989"/>
                </a:cubicBezTo>
                <a:cubicBezTo>
                  <a:pt x="20260" y="3066"/>
                  <a:pt x="20247" y="3143"/>
                  <a:pt x="20239" y="3220"/>
                </a:cubicBezTo>
                <a:cubicBezTo>
                  <a:pt x="20226" y="3344"/>
                  <a:pt x="20215" y="3471"/>
                  <a:pt x="20215" y="3595"/>
                </a:cubicBezTo>
                <a:cubicBezTo>
                  <a:pt x="20215" y="3659"/>
                  <a:pt x="20221" y="3724"/>
                  <a:pt x="20226" y="378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7512120" y="987480"/>
            <a:ext cx="981000" cy="426960"/>
          </a:xfrm>
          <a:custGeom>
            <a:avLst/>
            <a:gdLst/>
            <a:ahLst/>
            <a:rect l="l" t="t" r="r" b="b"/>
            <a:pathLst>
              <a:path w="2721" h="1185">
                <a:moveTo>
                  <a:pt x="20902" y="3054"/>
                </a:moveTo>
                <a:cubicBezTo>
                  <a:pt x="20894" y="3121"/>
                  <a:pt x="20894" y="3187"/>
                  <a:pt x="20897" y="3255"/>
                </a:cubicBezTo>
                <a:cubicBezTo>
                  <a:pt x="20904" y="3392"/>
                  <a:pt x="20924" y="3530"/>
                  <a:pt x="20928" y="3667"/>
                </a:cubicBezTo>
                <a:cubicBezTo>
                  <a:pt x="20928" y="3672"/>
                  <a:pt x="20927" y="3677"/>
                  <a:pt x="20927" y="3682"/>
                </a:cubicBezTo>
                <a:cubicBezTo>
                  <a:pt x="20912" y="3623"/>
                  <a:pt x="20902" y="3562"/>
                  <a:pt x="20892" y="3502"/>
                </a:cubicBezTo>
                <a:cubicBezTo>
                  <a:pt x="20875" y="3399"/>
                  <a:pt x="20868" y="3295"/>
                  <a:pt x="20869" y="3190"/>
                </a:cubicBezTo>
                <a:cubicBezTo>
                  <a:pt x="20870" y="3062"/>
                  <a:pt x="20867" y="2878"/>
                  <a:pt x="20951" y="2771"/>
                </a:cubicBezTo>
                <a:cubicBezTo>
                  <a:pt x="20977" y="2750"/>
                  <a:pt x="20984" y="2742"/>
                  <a:pt x="21007" y="2745"/>
                </a:cubicBezTo>
                <a:cubicBezTo>
                  <a:pt x="21071" y="2790"/>
                  <a:pt x="21093" y="2842"/>
                  <a:pt x="21110" y="2921"/>
                </a:cubicBezTo>
                <a:cubicBezTo>
                  <a:pt x="21133" y="3029"/>
                  <a:pt x="21127" y="3141"/>
                  <a:pt x="21098" y="3247"/>
                </a:cubicBezTo>
                <a:cubicBezTo>
                  <a:pt x="21083" y="3303"/>
                  <a:pt x="21033" y="3447"/>
                  <a:pt x="20952" y="3437"/>
                </a:cubicBezTo>
                <a:cubicBezTo>
                  <a:pt x="20907" y="3431"/>
                  <a:pt x="20940" y="3348"/>
                  <a:pt x="20945" y="3330"/>
                </a:cubicBezTo>
              </a:path>
              <a:path w="2721" h="1185">
                <a:moveTo>
                  <a:pt x="21228" y="3394"/>
                </a:moveTo>
                <a:cubicBezTo>
                  <a:pt x="21237" y="3471"/>
                  <a:pt x="21249" y="3549"/>
                  <a:pt x="21252" y="3626"/>
                </a:cubicBezTo>
                <a:cubicBezTo>
                  <a:pt x="21250" y="3646"/>
                  <a:pt x="21250" y="3651"/>
                  <a:pt x="21250" y="3664"/>
                </a:cubicBezTo>
                <a:cubicBezTo>
                  <a:pt x="21234" y="3622"/>
                  <a:pt x="21234" y="3574"/>
                  <a:pt x="21234" y="3529"/>
                </a:cubicBezTo>
                <a:cubicBezTo>
                  <a:pt x="21233" y="3437"/>
                  <a:pt x="21230" y="3306"/>
                  <a:pt x="21285" y="3227"/>
                </a:cubicBezTo>
                <a:cubicBezTo>
                  <a:pt x="21289" y="3224"/>
                  <a:pt x="21293" y="3220"/>
                  <a:pt x="21297" y="3217"/>
                </a:cubicBezTo>
                <a:cubicBezTo>
                  <a:pt x="21328" y="3252"/>
                  <a:pt x="21342" y="3293"/>
                  <a:pt x="21362" y="3336"/>
                </a:cubicBezTo>
                <a:cubicBezTo>
                  <a:pt x="21382" y="3378"/>
                  <a:pt x="21388" y="3391"/>
                  <a:pt x="21401" y="3419"/>
                </a:cubicBezTo>
              </a:path>
              <a:path w="2721" h="1185">
                <a:moveTo>
                  <a:pt x="21521" y="3355"/>
                </a:moveTo>
                <a:cubicBezTo>
                  <a:pt x="21523" y="3328"/>
                  <a:pt x="21527" y="3307"/>
                  <a:pt x="21518" y="3282"/>
                </a:cubicBezTo>
                <a:cubicBezTo>
                  <a:pt x="21501" y="3315"/>
                  <a:pt x="21485" y="3347"/>
                  <a:pt x="21474" y="3385"/>
                </a:cubicBezTo>
                <a:cubicBezTo>
                  <a:pt x="21455" y="3450"/>
                  <a:pt x="21442" y="3523"/>
                  <a:pt x="21448" y="3591"/>
                </a:cubicBezTo>
                <a:cubicBezTo>
                  <a:pt x="21451" y="3629"/>
                  <a:pt x="21469" y="3683"/>
                  <a:pt x="21518" y="3666"/>
                </a:cubicBezTo>
                <a:cubicBezTo>
                  <a:pt x="21572" y="3647"/>
                  <a:pt x="21604" y="3573"/>
                  <a:pt x="21614" y="3523"/>
                </a:cubicBezTo>
                <a:cubicBezTo>
                  <a:pt x="21621" y="3487"/>
                  <a:pt x="21621" y="3455"/>
                  <a:pt x="21618" y="3419"/>
                </a:cubicBezTo>
              </a:path>
              <a:path w="2721" h="1185">
                <a:moveTo>
                  <a:pt x="21720" y="2908"/>
                </a:moveTo>
                <a:cubicBezTo>
                  <a:pt x="21691" y="2946"/>
                  <a:pt x="21688" y="2958"/>
                  <a:pt x="21683" y="3012"/>
                </a:cubicBezTo>
                <a:cubicBezTo>
                  <a:pt x="21674" y="3097"/>
                  <a:pt x="21690" y="3184"/>
                  <a:pt x="21708" y="3268"/>
                </a:cubicBezTo>
                <a:cubicBezTo>
                  <a:pt x="21722" y="3337"/>
                  <a:pt x="21735" y="3414"/>
                  <a:pt x="21775" y="3472"/>
                </a:cubicBezTo>
                <a:cubicBezTo>
                  <a:pt x="21795" y="3451"/>
                  <a:pt x="21808" y="3426"/>
                  <a:pt x="21825" y="3397"/>
                </a:cubicBezTo>
                <a:cubicBezTo>
                  <a:pt x="21845" y="3362"/>
                  <a:pt x="21870" y="3310"/>
                  <a:pt x="21913" y="3299"/>
                </a:cubicBezTo>
                <a:cubicBezTo>
                  <a:pt x="21962" y="3287"/>
                  <a:pt x="21991" y="3345"/>
                  <a:pt x="22000" y="3382"/>
                </a:cubicBezTo>
                <a:cubicBezTo>
                  <a:pt x="22021" y="3467"/>
                  <a:pt x="22011" y="3587"/>
                  <a:pt x="21940" y="3647"/>
                </a:cubicBezTo>
                <a:cubicBezTo>
                  <a:pt x="21913" y="3669"/>
                  <a:pt x="21873" y="3682"/>
                  <a:pt x="21854" y="3644"/>
                </a:cubicBezTo>
                <a:cubicBezTo>
                  <a:pt x="21819" y="3572"/>
                  <a:pt x="21853" y="3493"/>
                  <a:pt x="21876" y="3423"/>
                </a:cubicBezTo>
              </a:path>
              <a:path w="2721" h="1185">
                <a:moveTo>
                  <a:pt x="22088" y="3245"/>
                </a:moveTo>
                <a:cubicBezTo>
                  <a:pt x="22111" y="3260"/>
                  <a:pt x="22113" y="3270"/>
                  <a:pt x="22115" y="3296"/>
                </a:cubicBezTo>
                <a:cubicBezTo>
                  <a:pt x="22119" y="3338"/>
                  <a:pt x="22108" y="3379"/>
                  <a:pt x="22101" y="3421"/>
                </a:cubicBezTo>
                <a:cubicBezTo>
                  <a:pt x="22095" y="3457"/>
                  <a:pt x="22087" y="3494"/>
                  <a:pt x="22088" y="3531"/>
                </a:cubicBezTo>
                <a:cubicBezTo>
                  <a:pt x="22088" y="3535"/>
                  <a:pt x="22089" y="3538"/>
                  <a:pt x="22089" y="3542"/>
                </a:cubicBezTo>
                <a:cubicBezTo>
                  <a:pt x="22109" y="3518"/>
                  <a:pt x="22117" y="3491"/>
                  <a:pt x="22125" y="3460"/>
                </a:cubicBezTo>
                <a:cubicBezTo>
                  <a:pt x="22134" y="3424"/>
                  <a:pt x="22139" y="3385"/>
                  <a:pt x="22154" y="3350"/>
                </a:cubicBezTo>
                <a:cubicBezTo>
                  <a:pt x="22160" y="3340"/>
                  <a:pt x="22162" y="3337"/>
                  <a:pt x="22170" y="3335"/>
                </a:cubicBezTo>
                <a:cubicBezTo>
                  <a:pt x="22192" y="3358"/>
                  <a:pt x="22208" y="3386"/>
                  <a:pt x="22229" y="3410"/>
                </a:cubicBezTo>
                <a:cubicBezTo>
                  <a:pt x="22247" y="3430"/>
                  <a:pt x="22276" y="3454"/>
                  <a:pt x="22306" y="3444"/>
                </a:cubicBezTo>
                <a:cubicBezTo>
                  <a:pt x="22311" y="3441"/>
                  <a:pt x="22317" y="3437"/>
                  <a:pt x="22322" y="3434"/>
                </a:cubicBezTo>
              </a:path>
              <a:path w="2721" h="1185">
                <a:moveTo>
                  <a:pt x="22391" y="2881"/>
                </a:moveTo>
                <a:cubicBezTo>
                  <a:pt x="22388" y="2852"/>
                  <a:pt x="22389" y="2846"/>
                  <a:pt x="22380" y="2830"/>
                </a:cubicBezTo>
                <a:cubicBezTo>
                  <a:pt x="22362" y="2896"/>
                  <a:pt x="22358" y="2959"/>
                  <a:pt x="22357" y="3028"/>
                </a:cubicBezTo>
                <a:cubicBezTo>
                  <a:pt x="22355" y="3145"/>
                  <a:pt x="22356" y="3262"/>
                  <a:pt x="22358" y="3379"/>
                </a:cubicBezTo>
                <a:cubicBezTo>
                  <a:pt x="22359" y="3434"/>
                  <a:pt x="22361" y="3487"/>
                  <a:pt x="22367" y="3541"/>
                </a:cubicBezTo>
                <a:cubicBezTo>
                  <a:pt x="22382" y="3492"/>
                  <a:pt x="22395" y="3442"/>
                  <a:pt x="22417" y="3395"/>
                </a:cubicBezTo>
                <a:cubicBezTo>
                  <a:pt x="22434" y="3360"/>
                  <a:pt x="22463" y="3298"/>
                  <a:pt x="22511" y="3301"/>
                </a:cubicBezTo>
                <a:cubicBezTo>
                  <a:pt x="22557" y="3304"/>
                  <a:pt x="22570" y="3373"/>
                  <a:pt x="22571" y="3407"/>
                </a:cubicBezTo>
                <a:cubicBezTo>
                  <a:pt x="22573" y="3460"/>
                  <a:pt x="22563" y="3509"/>
                  <a:pt x="22521" y="3544"/>
                </a:cubicBezTo>
                <a:cubicBezTo>
                  <a:pt x="22494" y="3566"/>
                  <a:pt x="22449" y="3579"/>
                  <a:pt x="22421" y="3553"/>
                </a:cubicBezTo>
                <a:cubicBezTo>
                  <a:pt x="22393" y="3527"/>
                  <a:pt x="22402" y="3491"/>
                  <a:pt x="22409" y="3460"/>
                </a:cubicBezTo>
              </a:path>
              <a:path w="2721" h="1185">
                <a:moveTo>
                  <a:pt x="22743" y="3334"/>
                </a:moveTo>
                <a:cubicBezTo>
                  <a:pt x="22755" y="3355"/>
                  <a:pt x="22746" y="3379"/>
                  <a:pt x="22741" y="3404"/>
                </a:cubicBezTo>
                <a:cubicBezTo>
                  <a:pt x="22733" y="3446"/>
                  <a:pt x="22725" y="3486"/>
                  <a:pt x="22708" y="3525"/>
                </a:cubicBezTo>
                <a:cubicBezTo>
                  <a:pt x="22698" y="3548"/>
                  <a:pt x="22697" y="3547"/>
                  <a:pt x="22688" y="3529"/>
                </a:cubicBezTo>
              </a:path>
              <a:path w="2721" h="1185">
                <a:moveTo>
                  <a:pt x="22736" y="3014"/>
                </a:moveTo>
                <a:cubicBezTo>
                  <a:pt x="22741" y="2954"/>
                  <a:pt x="22751" y="2897"/>
                  <a:pt x="22760" y="2838"/>
                </a:cubicBezTo>
              </a:path>
              <a:path w="2721" h="1185">
                <a:moveTo>
                  <a:pt x="22966" y="2950"/>
                </a:moveTo>
                <a:cubicBezTo>
                  <a:pt x="22955" y="3050"/>
                  <a:pt x="22950" y="3145"/>
                  <a:pt x="22949" y="3245"/>
                </a:cubicBezTo>
                <a:cubicBezTo>
                  <a:pt x="22948" y="3343"/>
                  <a:pt x="22948" y="3441"/>
                  <a:pt x="22950" y="3539"/>
                </a:cubicBezTo>
                <a:cubicBezTo>
                  <a:pt x="22951" y="3568"/>
                  <a:pt x="22950" y="3574"/>
                  <a:pt x="22953" y="3591"/>
                </a:cubicBezTo>
              </a:path>
              <a:path w="2721" h="1185">
                <a:moveTo>
                  <a:pt x="23035" y="3344"/>
                </a:moveTo>
                <a:cubicBezTo>
                  <a:pt x="23039" y="3402"/>
                  <a:pt x="23032" y="3456"/>
                  <a:pt x="23030" y="3514"/>
                </a:cubicBezTo>
                <a:cubicBezTo>
                  <a:pt x="23029" y="3548"/>
                  <a:pt x="23000" y="3636"/>
                  <a:pt x="23026" y="3615"/>
                </a:cubicBezTo>
                <a:cubicBezTo>
                  <a:pt x="23028" y="3609"/>
                  <a:pt x="23031" y="3604"/>
                  <a:pt x="23033" y="3598"/>
                </a:cubicBezTo>
              </a:path>
              <a:path w="2721" h="1185">
                <a:moveTo>
                  <a:pt x="23087" y="3124"/>
                </a:moveTo>
                <a:cubicBezTo>
                  <a:pt x="23083" y="3100"/>
                  <a:pt x="23082" y="3078"/>
                  <a:pt x="23080" y="3054"/>
                </a:cubicBezTo>
                <a:cubicBezTo>
                  <a:pt x="23078" y="3032"/>
                  <a:pt x="23088" y="3025"/>
                  <a:pt x="23103" y="3008"/>
                </a:cubicBezTo>
              </a:path>
              <a:path w="2721" h="1185">
                <a:moveTo>
                  <a:pt x="23175" y="3036"/>
                </a:moveTo>
                <a:cubicBezTo>
                  <a:pt x="23175" y="3090"/>
                  <a:pt x="23177" y="3145"/>
                  <a:pt x="23176" y="3199"/>
                </a:cubicBezTo>
                <a:cubicBezTo>
                  <a:pt x="23175" y="3269"/>
                  <a:pt x="23181" y="3336"/>
                  <a:pt x="23195" y="3405"/>
                </a:cubicBezTo>
                <a:cubicBezTo>
                  <a:pt x="23201" y="3436"/>
                  <a:pt x="23235" y="3509"/>
                  <a:pt x="23228" y="3539"/>
                </a:cubicBezTo>
                <a:cubicBezTo>
                  <a:pt x="23216" y="3544"/>
                  <a:pt x="23211" y="3543"/>
                  <a:pt x="23207" y="3527"/>
                </a:cubicBezTo>
              </a:path>
              <a:path w="2721" h="1185">
                <a:moveTo>
                  <a:pt x="23134" y="3338"/>
                </a:moveTo>
                <a:cubicBezTo>
                  <a:pt x="23160" y="3318"/>
                  <a:pt x="23175" y="3311"/>
                  <a:pt x="23209" y="3301"/>
                </a:cubicBezTo>
                <a:cubicBezTo>
                  <a:pt x="23253" y="3288"/>
                  <a:pt x="23299" y="3277"/>
                  <a:pt x="23345" y="3280"/>
                </a:cubicBezTo>
                <a:cubicBezTo>
                  <a:pt x="23391" y="3283"/>
                  <a:pt x="23416" y="3306"/>
                  <a:pt x="23432" y="3348"/>
                </a:cubicBezTo>
                <a:cubicBezTo>
                  <a:pt x="23449" y="3393"/>
                  <a:pt x="23449" y="3441"/>
                  <a:pt x="23462" y="3487"/>
                </a:cubicBezTo>
                <a:cubicBezTo>
                  <a:pt x="23473" y="3523"/>
                  <a:pt x="23474" y="3530"/>
                  <a:pt x="23504" y="3526"/>
                </a:cubicBezTo>
                <a:cubicBezTo>
                  <a:pt x="23531" y="3523"/>
                  <a:pt x="23543" y="3473"/>
                  <a:pt x="23560" y="3457"/>
                </a:cubicBezTo>
                <a:cubicBezTo>
                  <a:pt x="23570" y="3447"/>
                  <a:pt x="23571" y="3443"/>
                  <a:pt x="23581" y="3444"/>
                </a:cubicBezTo>
                <a:cubicBezTo>
                  <a:pt x="23587" y="3492"/>
                  <a:pt x="23585" y="3528"/>
                  <a:pt x="23578" y="3578"/>
                </a:cubicBezTo>
                <a:cubicBezTo>
                  <a:pt x="23567" y="3655"/>
                  <a:pt x="23553" y="3731"/>
                  <a:pt x="23530" y="3805"/>
                </a:cubicBezTo>
                <a:cubicBezTo>
                  <a:pt x="23516" y="3850"/>
                  <a:pt x="23497" y="3888"/>
                  <a:pt x="23475" y="392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885960" y="1276200"/>
            <a:ext cx="4906800" cy="1362240"/>
          </a:xfrm>
          <a:custGeom>
            <a:avLst/>
            <a:gdLst/>
            <a:ahLst/>
            <a:rect l="l" t="t" r="r" b="b"/>
            <a:pathLst>
              <a:path w="13632" h="3781">
                <a:moveTo>
                  <a:pt x="13226" y="3713"/>
                </a:moveTo>
                <a:cubicBezTo>
                  <a:pt x="13251" y="3715"/>
                  <a:pt x="13271" y="3717"/>
                  <a:pt x="13293" y="3720"/>
                </a:cubicBezTo>
                <a:cubicBezTo>
                  <a:pt x="13284" y="3758"/>
                  <a:pt x="13282" y="3775"/>
                  <a:pt x="13250" y="3808"/>
                </a:cubicBezTo>
                <a:cubicBezTo>
                  <a:pt x="13177" y="3884"/>
                  <a:pt x="13074" y="3911"/>
                  <a:pt x="12972" y="3923"/>
                </a:cubicBezTo>
                <a:cubicBezTo>
                  <a:pt x="12766" y="3947"/>
                  <a:pt x="12554" y="3923"/>
                  <a:pt x="12349" y="3897"/>
                </a:cubicBezTo>
                <a:cubicBezTo>
                  <a:pt x="12327" y="3894"/>
                  <a:pt x="12305" y="3891"/>
                  <a:pt x="12283" y="3888"/>
                </a:cubicBezTo>
                <a:cubicBezTo>
                  <a:pt x="12309" y="3892"/>
                  <a:pt x="12329" y="3901"/>
                  <a:pt x="12347" y="3877"/>
                </a:cubicBezTo>
                <a:cubicBezTo>
                  <a:pt x="12369" y="3848"/>
                  <a:pt x="12361" y="3777"/>
                  <a:pt x="12360" y="3744"/>
                </a:cubicBezTo>
                <a:cubicBezTo>
                  <a:pt x="12358" y="3682"/>
                  <a:pt x="12355" y="3620"/>
                  <a:pt x="12359" y="3558"/>
                </a:cubicBezTo>
                <a:cubicBezTo>
                  <a:pt x="12362" y="3586"/>
                  <a:pt x="12359" y="3589"/>
                  <a:pt x="12350" y="3616"/>
                </a:cubicBezTo>
                <a:cubicBezTo>
                  <a:pt x="12315" y="3724"/>
                  <a:pt x="12221" y="3880"/>
                  <a:pt x="12275" y="3996"/>
                </a:cubicBezTo>
                <a:cubicBezTo>
                  <a:pt x="12292" y="4033"/>
                  <a:pt x="12333" y="4057"/>
                  <a:pt x="12369" y="4071"/>
                </a:cubicBezTo>
                <a:cubicBezTo>
                  <a:pt x="12402" y="4084"/>
                  <a:pt x="12440" y="4090"/>
                  <a:pt x="12475" y="4096"/>
                </a:cubicBezTo>
                <a:cubicBezTo>
                  <a:pt x="12499" y="4100"/>
                  <a:pt x="12493" y="4091"/>
                  <a:pt x="12513" y="4087"/>
                </a:cubicBezTo>
              </a:path>
              <a:path w="13632" h="3781">
                <a:moveTo>
                  <a:pt x="2527" y="3977"/>
                </a:moveTo>
                <a:cubicBezTo>
                  <a:pt x="2505" y="3966"/>
                  <a:pt x="2482" y="3956"/>
                  <a:pt x="2460" y="3946"/>
                </a:cubicBezTo>
                <a:cubicBezTo>
                  <a:pt x="2491" y="3951"/>
                  <a:pt x="2518" y="3957"/>
                  <a:pt x="2550" y="3959"/>
                </a:cubicBezTo>
                <a:cubicBezTo>
                  <a:pt x="2868" y="3975"/>
                  <a:pt x="3189" y="3947"/>
                  <a:pt x="3507" y="3941"/>
                </a:cubicBezTo>
                <a:cubicBezTo>
                  <a:pt x="4123" y="3929"/>
                  <a:pt x="4740" y="3940"/>
                  <a:pt x="5356" y="3937"/>
                </a:cubicBezTo>
                <a:cubicBezTo>
                  <a:pt x="5505" y="3936"/>
                  <a:pt x="5654" y="3895"/>
                  <a:pt x="5796" y="3891"/>
                </a:cubicBezTo>
                <a:cubicBezTo>
                  <a:pt x="5834" y="3890"/>
                  <a:pt x="5845" y="3905"/>
                  <a:pt x="5878" y="3920"/>
                </a:cubicBezTo>
              </a:path>
              <a:path w="13632" h="3781">
                <a:moveTo>
                  <a:pt x="6281" y="7211"/>
                </a:moveTo>
                <a:cubicBezTo>
                  <a:pt x="6267" y="7204"/>
                  <a:pt x="6255" y="7198"/>
                  <a:pt x="6240" y="7192"/>
                </a:cubicBezTo>
                <a:cubicBezTo>
                  <a:pt x="6249" y="7206"/>
                  <a:pt x="6249" y="7205"/>
                  <a:pt x="6265" y="7205"/>
                </a:cubicBezTo>
                <a:cubicBezTo>
                  <a:pt x="6309" y="7205"/>
                  <a:pt x="6356" y="7196"/>
                  <a:pt x="6400" y="7189"/>
                </a:cubicBezTo>
                <a:cubicBezTo>
                  <a:pt x="6489" y="7175"/>
                  <a:pt x="6578" y="7164"/>
                  <a:pt x="6668" y="7157"/>
                </a:cubicBezTo>
                <a:cubicBezTo>
                  <a:pt x="6916" y="7138"/>
                  <a:pt x="7169" y="7130"/>
                  <a:pt x="7417" y="7126"/>
                </a:cubicBezTo>
                <a:cubicBezTo>
                  <a:pt x="7462" y="7125"/>
                  <a:pt x="7498" y="7134"/>
                  <a:pt x="7540" y="7146"/>
                </a:cubicBezTo>
              </a:path>
              <a:path w="13632" h="3781">
                <a:moveTo>
                  <a:pt x="9243" y="7309"/>
                </a:moveTo>
                <a:cubicBezTo>
                  <a:pt x="9270" y="7304"/>
                  <a:pt x="9270" y="7299"/>
                  <a:pt x="9297" y="7296"/>
                </a:cubicBezTo>
                <a:cubicBezTo>
                  <a:pt x="9369" y="7288"/>
                  <a:pt x="9440" y="7285"/>
                  <a:pt x="9513" y="7284"/>
                </a:cubicBezTo>
                <a:cubicBezTo>
                  <a:pt x="10331" y="7277"/>
                  <a:pt x="11149" y="7281"/>
                  <a:pt x="11967" y="7276"/>
                </a:cubicBezTo>
                <a:cubicBezTo>
                  <a:pt x="13227" y="7268"/>
                  <a:pt x="14477" y="7257"/>
                  <a:pt x="15736" y="7296"/>
                </a:cubicBezTo>
                <a:cubicBezTo>
                  <a:pt x="15854" y="7300"/>
                  <a:pt x="16204" y="7272"/>
                  <a:pt x="16091" y="7308"/>
                </a:cubicBezTo>
                <a:cubicBezTo>
                  <a:pt x="16042" y="7323"/>
                  <a:pt x="16019" y="7315"/>
                  <a:pt x="15960" y="731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4594320" y="2693880"/>
            <a:ext cx="282600" cy="646200"/>
          </a:xfrm>
          <a:custGeom>
            <a:avLst/>
            <a:gdLst/>
            <a:ahLst/>
            <a:rect l="l" t="t" r="r" b="b"/>
            <a:pathLst>
              <a:path w="786" h="1797">
                <a:moveTo>
                  <a:pt x="12958" y="7678"/>
                </a:moveTo>
                <a:cubicBezTo>
                  <a:pt x="12962" y="7658"/>
                  <a:pt x="12966" y="7638"/>
                  <a:pt x="12970" y="7618"/>
                </a:cubicBezTo>
                <a:cubicBezTo>
                  <a:pt x="12968" y="7676"/>
                  <a:pt x="12970" y="7735"/>
                  <a:pt x="12970" y="7794"/>
                </a:cubicBezTo>
                <a:cubicBezTo>
                  <a:pt x="12970" y="7916"/>
                  <a:pt x="12972" y="8037"/>
                  <a:pt x="12974" y="8159"/>
                </a:cubicBezTo>
                <a:cubicBezTo>
                  <a:pt x="12976" y="8253"/>
                  <a:pt x="12977" y="8346"/>
                  <a:pt x="12978" y="8440"/>
                </a:cubicBezTo>
                <a:cubicBezTo>
                  <a:pt x="12978" y="8450"/>
                  <a:pt x="12979" y="8459"/>
                  <a:pt x="12979" y="8469"/>
                </a:cubicBezTo>
                <a:cubicBezTo>
                  <a:pt x="12974" y="8398"/>
                  <a:pt x="12976" y="8327"/>
                  <a:pt x="12977" y="8256"/>
                </a:cubicBezTo>
                <a:cubicBezTo>
                  <a:pt x="12977" y="8231"/>
                  <a:pt x="12978" y="8207"/>
                  <a:pt x="12978" y="8182"/>
                </a:cubicBezTo>
              </a:path>
              <a:path w="786" h="1797">
                <a:moveTo>
                  <a:pt x="12987" y="7545"/>
                </a:moveTo>
                <a:cubicBezTo>
                  <a:pt x="12984" y="7521"/>
                  <a:pt x="12982" y="7505"/>
                  <a:pt x="12973" y="7483"/>
                </a:cubicBezTo>
                <a:cubicBezTo>
                  <a:pt x="12938" y="7500"/>
                  <a:pt x="12919" y="7532"/>
                  <a:pt x="12895" y="7564"/>
                </a:cubicBezTo>
                <a:cubicBezTo>
                  <a:pt x="12861" y="7609"/>
                  <a:pt x="12827" y="7654"/>
                  <a:pt x="12789" y="7696"/>
                </a:cubicBezTo>
                <a:cubicBezTo>
                  <a:pt x="12775" y="7712"/>
                  <a:pt x="12773" y="7716"/>
                  <a:pt x="12761" y="7721"/>
                </a:cubicBezTo>
                <a:cubicBezTo>
                  <a:pt x="12774" y="7684"/>
                  <a:pt x="12794" y="7653"/>
                  <a:pt x="12817" y="7621"/>
                </a:cubicBezTo>
                <a:cubicBezTo>
                  <a:pt x="12840" y="7589"/>
                  <a:pt x="12866" y="7552"/>
                  <a:pt x="12902" y="7533"/>
                </a:cubicBezTo>
                <a:cubicBezTo>
                  <a:pt x="12932" y="7517"/>
                  <a:pt x="12962" y="7527"/>
                  <a:pt x="12990" y="7542"/>
                </a:cubicBezTo>
                <a:cubicBezTo>
                  <a:pt x="13029" y="7563"/>
                  <a:pt x="13061" y="7597"/>
                  <a:pt x="13090" y="7630"/>
                </a:cubicBezTo>
                <a:cubicBezTo>
                  <a:pt x="13114" y="7657"/>
                  <a:pt x="13134" y="7685"/>
                  <a:pt x="13155" y="7715"/>
                </a:cubicBezTo>
              </a:path>
              <a:path w="786" h="1797">
                <a:moveTo>
                  <a:pt x="13012" y="8831"/>
                </a:moveTo>
                <a:cubicBezTo>
                  <a:pt x="13018" y="8804"/>
                  <a:pt x="13019" y="8771"/>
                  <a:pt x="13037" y="8753"/>
                </a:cubicBezTo>
                <a:cubicBezTo>
                  <a:pt x="13056" y="8810"/>
                  <a:pt x="13060" y="8873"/>
                  <a:pt x="13067" y="8934"/>
                </a:cubicBezTo>
                <a:cubicBezTo>
                  <a:pt x="13077" y="9026"/>
                  <a:pt x="13085" y="9118"/>
                  <a:pt x="13090" y="9210"/>
                </a:cubicBezTo>
                <a:cubicBezTo>
                  <a:pt x="13093" y="9268"/>
                  <a:pt x="13102" y="9303"/>
                  <a:pt x="13104" y="9222"/>
                </a:cubicBezTo>
              </a:path>
              <a:path w="786" h="1797">
                <a:moveTo>
                  <a:pt x="13036" y="8735"/>
                </a:moveTo>
                <a:cubicBezTo>
                  <a:pt x="13029" y="8716"/>
                  <a:pt x="13080" y="8723"/>
                  <a:pt x="13107" y="8721"/>
                </a:cubicBezTo>
                <a:cubicBezTo>
                  <a:pt x="13203" y="8715"/>
                  <a:pt x="13303" y="8706"/>
                  <a:pt x="13399" y="8711"/>
                </a:cubicBezTo>
                <a:cubicBezTo>
                  <a:pt x="13436" y="8713"/>
                  <a:pt x="13465" y="8718"/>
                  <a:pt x="13498" y="8732"/>
                </a:cubicBezTo>
              </a:path>
              <a:path w="786" h="1797">
                <a:moveTo>
                  <a:pt x="13105" y="9028"/>
                </a:moveTo>
                <a:cubicBezTo>
                  <a:pt x="13085" y="9054"/>
                  <a:pt x="13173" y="9008"/>
                  <a:pt x="13200" y="9002"/>
                </a:cubicBezTo>
                <a:cubicBezTo>
                  <a:pt x="13284" y="8983"/>
                  <a:pt x="13363" y="8975"/>
                  <a:pt x="13448" y="8995"/>
                </a:cubicBezTo>
                <a:cubicBezTo>
                  <a:pt x="13490" y="9005"/>
                  <a:pt x="13514" y="9023"/>
                  <a:pt x="13546" y="904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555480" y="2540160"/>
            <a:ext cx="1484280" cy="892080"/>
          </a:xfrm>
          <a:custGeom>
            <a:avLst/>
            <a:gdLst/>
            <a:ahLst/>
            <a:rect l="l" t="t" r="r" b="b"/>
            <a:pathLst>
              <a:path w="4125" h="2480">
                <a:moveTo>
                  <a:pt x="1875" y="7172"/>
                </a:moveTo>
                <a:cubicBezTo>
                  <a:pt x="1892" y="7169"/>
                  <a:pt x="1855" y="7167"/>
                  <a:pt x="1872" y="7165"/>
                </a:cubicBezTo>
                <a:cubicBezTo>
                  <a:pt x="1912" y="7160"/>
                  <a:pt x="1955" y="7159"/>
                  <a:pt x="1996" y="7157"/>
                </a:cubicBezTo>
                <a:cubicBezTo>
                  <a:pt x="2451" y="7138"/>
                  <a:pt x="2905" y="7115"/>
                  <a:pt x="3360" y="7094"/>
                </a:cubicBezTo>
                <a:cubicBezTo>
                  <a:pt x="3920" y="7068"/>
                  <a:pt x="4484" y="7083"/>
                  <a:pt x="5045" y="7078"/>
                </a:cubicBezTo>
                <a:cubicBezTo>
                  <a:pt x="5234" y="7076"/>
                  <a:pt x="5469" y="7028"/>
                  <a:pt x="5654" y="7058"/>
                </a:cubicBezTo>
                <a:cubicBezTo>
                  <a:pt x="5666" y="7064"/>
                  <a:pt x="5671" y="7066"/>
                  <a:pt x="5655" y="7068"/>
                </a:cubicBezTo>
              </a:path>
              <a:path w="4125" h="2480">
                <a:moveTo>
                  <a:pt x="1992" y="7330"/>
                </a:moveTo>
                <a:cubicBezTo>
                  <a:pt x="1978" y="7333"/>
                  <a:pt x="1955" y="7343"/>
                  <a:pt x="1932" y="7387"/>
                </a:cubicBezTo>
                <a:cubicBezTo>
                  <a:pt x="1878" y="7490"/>
                  <a:pt x="1831" y="7601"/>
                  <a:pt x="1785" y="7708"/>
                </a:cubicBezTo>
                <a:cubicBezTo>
                  <a:pt x="1708" y="7886"/>
                  <a:pt x="1646" y="8066"/>
                  <a:pt x="1593" y="8252"/>
                </a:cubicBezTo>
                <a:cubicBezTo>
                  <a:pt x="1572" y="8325"/>
                  <a:pt x="1541" y="8409"/>
                  <a:pt x="1543" y="8486"/>
                </a:cubicBezTo>
                <a:cubicBezTo>
                  <a:pt x="1545" y="8494"/>
                  <a:pt x="1547" y="8502"/>
                  <a:pt x="1549" y="8510"/>
                </a:cubicBezTo>
                <a:cubicBezTo>
                  <a:pt x="1577" y="8487"/>
                  <a:pt x="1592" y="8460"/>
                  <a:pt x="1613" y="8415"/>
                </a:cubicBezTo>
              </a:path>
              <a:path w="4125" h="2480">
                <a:moveTo>
                  <a:pt x="2009" y="7375"/>
                </a:moveTo>
                <a:cubicBezTo>
                  <a:pt x="1990" y="7348"/>
                  <a:pt x="1968" y="7339"/>
                  <a:pt x="1932" y="7342"/>
                </a:cubicBezTo>
                <a:cubicBezTo>
                  <a:pt x="1873" y="7346"/>
                  <a:pt x="1815" y="7374"/>
                  <a:pt x="1762" y="7397"/>
                </a:cubicBezTo>
                <a:cubicBezTo>
                  <a:pt x="1706" y="7421"/>
                  <a:pt x="1649" y="7457"/>
                  <a:pt x="1591" y="7475"/>
                </a:cubicBezTo>
                <a:cubicBezTo>
                  <a:pt x="1585" y="7476"/>
                  <a:pt x="1578" y="7476"/>
                  <a:pt x="1572" y="7477"/>
                </a:cubicBezTo>
                <a:cubicBezTo>
                  <a:pt x="1610" y="7436"/>
                  <a:pt x="1655" y="7412"/>
                  <a:pt x="1706" y="7387"/>
                </a:cubicBezTo>
                <a:cubicBezTo>
                  <a:pt x="1752" y="7365"/>
                  <a:pt x="1823" y="7329"/>
                  <a:pt x="1877" y="7343"/>
                </a:cubicBezTo>
                <a:cubicBezTo>
                  <a:pt x="1924" y="7355"/>
                  <a:pt x="1948" y="7407"/>
                  <a:pt x="1962" y="7448"/>
                </a:cubicBezTo>
                <a:cubicBezTo>
                  <a:pt x="1983" y="7507"/>
                  <a:pt x="1998" y="7569"/>
                  <a:pt x="2017" y="7628"/>
                </a:cubicBezTo>
                <a:cubicBezTo>
                  <a:pt x="2030" y="7669"/>
                  <a:pt x="2033" y="7682"/>
                  <a:pt x="2039" y="7710"/>
                </a:cubicBezTo>
              </a:path>
              <a:path w="4125" h="2480">
                <a:moveTo>
                  <a:pt x="1775" y="8896"/>
                </a:moveTo>
                <a:cubicBezTo>
                  <a:pt x="1759" y="8862"/>
                  <a:pt x="1755" y="8878"/>
                  <a:pt x="1745" y="8922"/>
                </a:cubicBezTo>
                <a:cubicBezTo>
                  <a:pt x="1727" y="8999"/>
                  <a:pt x="1717" y="9079"/>
                  <a:pt x="1702" y="9157"/>
                </a:cubicBezTo>
                <a:cubicBezTo>
                  <a:pt x="1683" y="9257"/>
                  <a:pt x="1636" y="9382"/>
                  <a:pt x="1657" y="9485"/>
                </a:cubicBezTo>
                <a:cubicBezTo>
                  <a:pt x="1667" y="9533"/>
                  <a:pt x="1713" y="9535"/>
                  <a:pt x="1754" y="9535"/>
                </a:cubicBezTo>
                <a:cubicBezTo>
                  <a:pt x="1848" y="9534"/>
                  <a:pt x="1937" y="9503"/>
                  <a:pt x="2028" y="9485"/>
                </a:cubicBezTo>
                <a:cubicBezTo>
                  <a:pt x="2076" y="9475"/>
                  <a:pt x="2137" y="9474"/>
                  <a:pt x="2179" y="9443"/>
                </a:cubicBezTo>
                <a:cubicBezTo>
                  <a:pt x="2183" y="9439"/>
                  <a:pt x="2186" y="9434"/>
                  <a:pt x="2190" y="9430"/>
                </a:cubicBezTo>
              </a:path>
              <a:path w="4125" h="2480">
                <a:moveTo>
                  <a:pt x="1792" y="9276"/>
                </a:moveTo>
                <a:cubicBezTo>
                  <a:pt x="1798" y="9241"/>
                  <a:pt x="1823" y="9205"/>
                  <a:pt x="1857" y="9186"/>
                </a:cubicBezTo>
                <a:cubicBezTo>
                  <a:pt x="1921" y="9150"/>
                  <a:pt x="2017" y="9132"/>
                  <a:pt x="2089" y="9123"/>
                </a:cubicBezTo>
                <a:cubicBezTo>
                  <a:pt x="2139" y="9117"/>
                  <a:pt x="2191" y="9115"/>
                  <a:pt x="2241" y="9113"/>
                </a:cubicBezTo>
              </a:path>
              <a:path w="4125" h="2480">
                <a:moveTo>
                  <a:pt x="1755" y="8965"/>
                </a:moveTo>
                <a:cubicBezTo>
                  <a:pt x="1746" y="8930"/>
                  <a:pt x="1776" y="8899"/>
                  <a:pt x="1813" y="8881"/>
                </a:cubicBezTo>
                <a:cubicBezTo>
                  <a:pt x="1904" y="8836"/>
                  <a:pt x="2018" y="8826"/>
                  <a:pt x="2117" y="8828"/>
                </a:cubicBezTo>
                <a:cubicBezTo>
                  <a:pt x="2220" y="8830"/>
                  <a:pt x="2296" y="8855"/>
                  <a:pt x="2385" y="890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1400040" y="3621240"/>
            <a:ext cx="1197000" cy="334800"/>
          </a:xfrm>
          <a:custGeom>
            <a:avLst/>
            <a:gdLst/>
            <a:ahLst/>
            <a:rect l="l" t="t" r="r" b="b"/>
            <a:pathLst>
              <a:path w="3327" h="932">
                <a:moveTo>
                  <a:pt x="3925" y="10408"/>
                </a:moveTo>
                <a:cubicBezTo>
                  <a:pt x="3901" y="10446"/>
                  <a:pt x="3895" y="10459"/>
                  <a:pt x="3892" y="10507"/>
                </a:cubicBezTo>
                <a:cubicBezTo>
                  <a:pt x="3887" y="10584"/>
                  <a:pt x="3902" y="10658"/>
                  <a:pt x="3917" y="10734"/>
                </a:cubicBezTo>
                <a:cubicBezTo>
                  <a:pt x="3931" y="10801"/>
                  <a:pt x="3953" y="10867"/>
                  <a:pt x="3964" y="10935"/>
                </a:cubicBezTo>
                <a:cubicBezTo>
                  <a:pt x="3965" y="10954"/>
                  <a:pt x="3966" y="10963"/>
                  <a:pt x="3955" y="10943"/>
                </a:cubicBezTo>
                <a:cubicBezTo>
                  <a:pt x="3939" y="10873"/>
                  <a:pt x="3922" y="10805"/>
                  <a:pt x="3918" y="10733"/>
                </a:cubicBezTo>
                <a:cubicBezTo>
                  <a:pt x="3906" y="10537"/>
                  <a:pt x="3923" y="10292"/>
                  <a:pt x="4025" y="10119"/>
                </a:cubicBezTo>
                <a:cubicBezTo>
                  <a:pt x="4063" y="10055"/>
                  <a:pt x="4115" y="10038"/>
                  <a:pt x="4166" y="10100"/>
                </a:cubicBezTo>
                <a:cubicBezTo>
                  <a:pt x="4224" y="10170"/>
                  <a:pt x="4253" y="10281"/>
                  <a:pt x="4256" y="10370"/>
                </a:cubicBezTo>
                <a:cubicBezTo>
                  <a:pt x="4260" y="10473"/>
                  <a:pt x="4227" y="10576"/>
                  <a:pt x="4153" y="10649"/>
                </a:cubicBezTo>
                <a:cubicBezTo>
                  <a:pt x="4105" y="10697"/>
                  <a:pt x="4023" y="10737"/>
                  <a:pt x="3954" y="10724"/>
                </a:cubicBezTo>
                <a:cubicBezTo>
                  <a:pt x="3893" y="10713"/>
                  <a:pt x="3923" y="10660"/>
                  <a:pt x="3939" y="10628"/>
                </a:cubicBezTo>
              </a:path>
              <a:path w="3327" h="932">
                <a:moveTo>
                  <a:pt x="4362" y="10710"/>
                </a:moveTo>
                <a:cubicBezTo>
                  <a:pt x="4377" y="10778"/>
                  <a:pt x="4392" y="10847"/>
                  <a:pt x="4389" y="10918"/>
                </a:cubicBezTo>
                <a:cubicBezTo>
                  <a:pt x="4384" y="10947"/>
                  <a:pt x="4383" y="10954"/>
                  <a:pt x="4383" y="10973"/>
                </a:cubicBezTo>
                <a:cubicBezTo>
                  <a:pt x="4375" y="10920"/>
                  <a:pt x="4384" y="10870"/>
                  <a:pt x="4394" y="10817"/>
                </a:cubicBezTo>
                <a:cubicBezTo>
                  <a:pt x="4408" y="10741"/>
                  <a:pt x="4433" y="10663"/>
                  <a:pt x="4477" y="10598"/>
                </a:cubicBezTo>
                <a:cubicBezTo>
                  <a:pt x="4512" y="10547"/>
                  <a:pt x="4552" y="10515"/>
                  <a:pt x="4614" y="10507"/>
                </a:cubicBezTo>
                <a:cubicBezTo>
                  <a:pt x="4648" y="10503"/>
                  <a:pt x="4674" y="10511"/>
                  <a:pt x="4706" y="10519"/>
                </a:cubicBezTo>
              </a:path>
              <a:path w="3327" h="932">
                <a:moveTo>
                  <a:pt x="5161" y="10235"/>
                </a:moveTo>
                <a:cubicBezTo>
                  <a:pt x="5140" y="10186"/>
                  <a:pt x="5144" y="10205"/>
                  <a:pt x="5121" y="10262"/>
                </a:cubicBezTo>
                <a:cubicBezTo>
                  <a:pt x="5084" y="10356"/>
                  <a:pt x="5061" y="10454"/>
                  <a:pt x="5043" y="10553"/>
                </a:cubicBezTo>
                <a:cubicBezTo>
                  <a:pt x="5023" y="10661"/>
                  <a:pt x="5010" y="10775"/>
                  <a:pt x="5017" y="10885"/>
                </a:cubicBezTo>
                <a:cubicBezTo>
                  <a:pt x="5021" y="10948"/>
                  <a:pt x="5033" y="10982"/>
                  <a:pt x="5093" y="10987"/>
                </a:cubicBezTo>
              </a:path>
              <a:path w="3327" h="932">
                <a:moveTo>
                  <a:pt x="5455" y="10336"/>
                </a:moveTo>
                <a:cubicBezTo>
                  <a:pt x="5460" y="10335"/>
                  <a:pt x="5461" y="10405"/>
                  <a:pt x="5462" y="10432"/>
                </a:cubicBezTo>
                <a:cubicBezTo>
                  <a:pt x="5467" y="10521"/>
                  <a:pt x="5466" y="10612"/>
                  <a:pt x="5475" y="10701"/>
                </a:cubicBezTo>
                <a:cubicBezTo>
                  <a:pt x="5481" y="10759"/>
                  <a:pt x="5489" y="10815"/>
                  <a:pt x="5492" y="10873"/>
                </a:cubicBezTo>
              </a:path>
              <a:path w="3327" h="932">
                <a:moveTo>
                  <a:pt x="5312" y="10416"/>
                </a:moveTo>
                <a:cubicBezTo>
                  <a:pt x="5338" y="10386"/>
                  <a:pt x="5382" y="10375"/>
                  <a:pt x="5421" y="10364"/>
                </a:cubicBezTo>
                <a:cubicBezTo>
                  <a:pt x="5492" y="10343"/>
                  <a:pt x="5568" y="10325"/>
                  <a:pt x="5642" y="10324"/>
                </a:cubicBezTo>
                <a:cubicBezTo>
                  <a:pt x="5684" y="10323"/>
                  <a:pt x="5721" y="10321"/>
                  <a:pt x="5735" y="10361"/>
                </a:cubicBezTo>
              </a:path>
              <a:path w="3327" h="932">
                <a:moveTo>
                  <a:pt x="5313" y="10684"/>
                </a:moveTo>
                <a:cubicBezTo>
                  <a:pt x="5304" y="10699"/>
                  <a:pt x="5300" y="10702"/>
                  <a:pt x="5308" y="10711"/>
                </a:cubicBezTo>
                <a:cubicBezTo>
                  <a:pt x="5370" y="10703"/>
                  <a:pt x="5434" y="10689"/>
                  <a:pt x="5496" y="10675"/>
                </a:cubicBezTo>
                <a:cubicBezTo>
                  <a:pt x="5578" y="10656"/>
                  <a:pt x="5661" y="10643"/>
                  <a:pt x="5742" y="10621"/>
                </a:cubicBezTo>
                <a:cubicBezTo>
                  <a:pt x="5755" y="10617"/>
                  <a:pt x="5769" y="10612"/>
                  <a:pt x="5782" y="10608"/>
                </a:cubicBezTo>
              </a:path>
              <a:path w="3327" h="932">
                <a:moveTo>
                  <a:pt x="5901" y="10163"/>
                </a:moveTo>
                <a:cubicBezTo>
                  <a:pt x="5945" y="10143"/>
                  <a:pt x="5965" y="10154"/>
                  <a:pt x="5998" y="10192"/>
                </a:cubicBezTo>
                <a:cubicBezTo>
                  <a:pt x="6065" y="10269"/>
                  <a:pt x="6109" y="10372"/>
                  <a:pt x="6141" y="10468"/>
                </a:cubicBezTo>
                <a:cubicBezTo>
                  <a:pt x="6182" y="10590"/>
                  <a:pt x="6216" y="10736"/>
                  <a:pt x="6201" y="10866"/>
                </a:cubicBezTo>
                <a:cubicBezTo>
                  <a:pt x="6196" y="10909"/>
                  <a:pt x="6184" y="10929"/>
                  <a:pt x="6158" y="10960"/>
                </a:cubicBezTo>
              </a:path>
              <a:path w="3327" h="932">
                <a:moveTo>
                  <a:pt x="6638" y="10485"/>
                </a:moveTo>
                <a:cubicBezTo>
                  <a:pt x="6666" y="10491"/>
                  <a:pt x="6702" y="10470"/>
                  <a:pt x="6733" y="10463"/>
                </a:cubicBezTo>
                <a:cubicBezTo>
                  <a:pt x="6808" y="10445"/>
                  <a:pt x="6883" y="10435"/>
                  <a:pt x="6959" y="10422"/>
                </a:cubicBezTo>
                <a:cubicBezTo>
                  <a:pt x="7006" y="10414"/>
                  <a:pt x="7050" y="10405"/>
                  <a:pt x="7098" y="10409"/>
                </a:cubicBezTo>
              </a:path>
              <a:path w="3327" h="932">
                <a:moveTo>
                  <a:pt x="6766" y="10579"/>
                </a:moveTo>
                <a:cubicBezTo>
                  <a:pt x="6760" y="10584"/>
                  <a:pt x="6755" y="10589"/>
                  <a:pt x="6749" y="10594"/>
                </a:cubicBezTo>
                <a:cubicBezTo>
                  <a:pt x="6797" y="10613"/>
                  <a:pt x="6856" y="10599"/>
                  <a:pt x="6911" y="10596"/>
                </a:cubicBezTo>
                <a:cubicBezTo>
                  <a:pt x="6986" y="10592"/>
                  <a:pt x="7068" y="10584"/>
                  <a:pt x="7142" y="10597"/>
                </a:cubicBezTo>
                <a:cubicBezTo>
                  <a:pt x="7171" y="10602"/>
                  <a:pt x="7191" y="10614"/>
                  <a:pt x="7215" y="1062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"/>
          <p:cNvSpPr/>
          <p:nvPr/>
        </p:nvSpPr>
        <p:spPr>
          <a:xfrm>
            <a:off x="2793960" y="3478320"/>
            <a:ext cx="311040" cy="625320"/>
          </a:xfrm>
          <a:custGeom>
            <a:avLst/>
            <a:gdLst/>
            <a:ahLst/>
            <a:rect l="l" t="t" r="r" b="b"/>
            <a:pathLst>
              <a:path w="866" h="1738">
                <a:moveTo>
                  <a:pt x="8091" y="9959"/>
                </a:moveTo>
                <a:cubicBezTo>
                  <a:pt x="8078" y="9938"/>
                  <a:pt x="8049" y="9898"/>
                  <a:pt x="8057" y="9871"/>
                </a:cubicBezTo>
                <a:cubicBezTo>
                  <a:pt x="8070" y="9827"/>
                  <a:pt x="8135" y="9788"/>
                  <a:pt x="8169" y="9766"/>
                </a:cubicBezTo>
                <a:cubicBezTo>
                  <a:pt x="8227" y="9729"/>
                  <a:pt x="8293" y="9689"/>
                  <a:pt x="8359" y="9667"/>
                </a:cubicBezTo>
                <a:cubicBezTo>
                  <a:pt x="8369" y="9665"/>
                  <a:pt x="8379" y="9663"/>
                  <a:pt x="8389" y="9661"/>
                </a:cubicBezTo>
                <a:cubicBezTo>
                  <a:pt x="8394" y="9696"/>
                  <a:pt x="8389" y="9713"/>
                  <a:pt x="8347" y="9756"/>
                </a:cubicBezTo>
                <a:cubicBezTo>
                  <a:pt x="8283" y="9821"/>
                  <a:pt x="8205" y="9873"/>
                  <a:pt x="8148" y="9945"/>
                </a:cubicBezTo>
                <a:cubicBezTo>
                  <a:pt x="8144" y="9952"/>
                  <a:pt x="8139" y="9959"/>
                  <a:pt x="8135" y="9966"/>
                </a:cubicBezTo>
                <a:cubicBezTo>
                  <a:pt x="8168" y="9990"/>
                  <a:pt x="8192" y="9996"/>
                  <a:pt x="8240" y="10006"/>
                </a:cubicBezTo>
                <a:cubicBezTo>
                  <a:pt x="8300" y="10018"/>
                  <a:pt x="8363" y="10026"/>
                  <a:pt x="8412" y="10067"/>
                </a:cubicBezTo>
                <a:cubicBezTo>
                  <a:pt x="8469" y="10116"/>
                  <a:pt x="8447" y="10187"/>
                  <a:pt x="8414" y="10243"/>
                </a:cubicBezTo>
                <a:cubicBezTo>
                  <a:pt x="8384" y="10293"/>
                  <a:pt x="8339" y="10336"/>
                  <a:pt x="8287" y="10363"/>
                </a:cubicBezTo>
                <a:cubicBezTo>
                  <a:pt x="8259" y="10377"/>
                  <a:pt x="8229" y="10383"/>
                  <a:pt x="8199" y="10384"/>
                </a:cubicBezTo>
                <a:cubicBezTo>
                  <a:pt x="8196" y="10383"/>
                  <a:pt x="8192" y="10383"/>
                  <a:pt x="8189" y="10382"/>
                </a:cubicBezTo>
              </a:path>
              <a:path w="866" h="1738">
                <a:moveTo>
                  <a:pt x="7797" y="10554"/>
                </a:moveTo>
                <a:cubicBezTo>
                  <a:pt x="7778" y="10558"/>
                  <a:pt x="7772" y="10559"/>
                  <a:pt x="7759" y="10557"/>
                </a:cubicBezTo>
                <a:cubicBezTo>
                  <a:pt x="7813" y="10549"/>
                  <a:pt x="7871" y="10545"/>
                  <a:pt x="7928" y="10542"/>
                </a:cubicBezTo>
                <a:cubicBezTo>
                  <a:pt x="8053" y="10535"/>
                  <a:pt x="8177" y="10529"/>
                  <a:pt x="8302" y="10526"/>
                </a:cubicBezTo>
                <a:cubicBezTo>
                  <a:pt x="8396" y="10524"/>
                  <a:pt x="8491" y="10519"/>
                  <a:pt x="8585" y="10518"/>
                </a:cubicBezTo>
                <a:cubicBezTo>
                  <a:pt x="8607" y="10517"/>
                  <a:pt x="8611" y="10517"/>
                  <a:pt x="8624" y="10517"/>
                </a:cubicBezTo>
              </a:path>
              <a:path w="866" h="1738">
                <a:moveTo>
                  <a:pt x="8116" y="10760"/>
                </a:moveTo>
                <a:cubicBezTo>
                  <a:pt x="8110" y="10744"/>
                  <a:pt x="8106" y="10733"/>
                  <a:pt x="8096" y="10720"/>
                </a:cubicBezTo>
                <a:cubicBezTo>
                  <a:pt x="8093" y="10741"/>
                  <a:pt x="8090" y="10764"/>
                  <a:pt x="8087" y="10786"/>
                </a:cubicBezTo>
                <a:cubicBezTo>
                  <a:pt x="8078" y="10850"/>
                  <a:pt x="8055" y="10928"/>
                  <a:pt x="8069" y="10992"/>
                </a:cubicBezTo>
                <a:cubicBezTo>
                  <a:pt x="8079" y="11037"/>
                  <a:pt x="8120" y="11064"/>
                  <a:pt x="8163" y="11074"/>
                </a:cubicBezTo>
                <a:cubicBezTo>
                  <a:pt x="8218" y="11086"/>
                  <a:pt x="8287" y="11075"/>
                  <a:pt x="8340" y="11057"/>
                </a:cubicBezTo>
                <a:cubicBezTo>
                  <a:pt x="8394" y="11039"/>
                  <a:pt x="8426" y="11003"/>
                  <a:pt x="8458" y="10959"/>
                </a:cubicBezTo>
              </a:path>
              <a:path w="866" h="1738">
                <a:moveTo>
                  <a:pt x="8501" y="10760"/>
                </a:moveTo>
                <a:cubicBezTo>
                  <a:pt x="8500" y="10804"/>
                  <a:pt x="8496" y="10847"/>
                  <a:pt x="8495" y="10891"/>
                </a:cubicBezTo>
                <a:cubicBezTo>
                  <a:pt x="8493" y="10986"/>
                  <a:pt x="8494" y="11080"/>
                  <a:pt x="8498" y="11175"/>
                </a:cubicBezTo>
                <a:cubicBezTo>
                  <a:pt x="8501" y="11249"/>
                  <a:pt x="8505" y="11324"/>
                  <a:pt x="8510" y="1139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"/>
          <p:cNvSpPr/>
          <p:nvPr/>
        </p:nvSpPr>
        <p:spPr>
          <a:xfrm>
            <a:off x="7626240" y="4432320"/>
            <a:ext cx="9720" cy="25560"/>
          </a:xfrm>
          <a:custGeom>
            <a:avLst/>
            <a:gdLst/>
            <a:ahLst/>
            <a:rect l="l" t="t" r="r" b="b"/>
            <a:pathLst>
              <a:path w="24" h="72">
                <a:moveTo>
                  <a:pt x="21209" y="12382"/>
                </a:moveTo>
                <a:cubicBezTo>
                  <a:pt x="21191" y="12367"/>
                  <a:pt x="21176" y="12348"/>
                  <a:pt x="21190" y="12323"/>
                </a:cubicBezTo>
                <a:cubicBezTo>
                  <a:pt x="21194" y="12319"/>
                  <a:pt x="21199" y="12315"/>
                  <a:pt x="21203" y="1231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"/>
          <p:cNvSpPr/>
          <p:nvPr/>
        </p:nvSpPr>
        <p:spPr>
          <a:xfrm>
            <a:off x="1295280" y="4254480"/>
            <a:ext cx="1994040" cy="455760"/>
          </a:xfrm>
          <a:custGeom>
            <a:avLst/>
            <a:gdLst/>
            <a:ahLst/>
            <a:rect l="l" t="t" r="r" b="b"/>
            <a:pathLst>
              <a:path w="5540" h="1266">
                <a:moveTo>
                  <a:pt x="3617" y="11941"/>
                </a:moveTo>
                <a:cubicBezTo>
                  <a:pt x="3613" y="11926"/>
                  <a:pt x="3597" y="11850"/>
                  <a:pt x="3600" y="11918"/>
                </a:cubicBezTo>
                <a:cubicBezTo>
                  <a:pt x="3603" y="11999"/>
                  <a:pt x="3632" y="12083"/>
                  <a:pt x="3649" y="12161"/>
                </a:cubicBezTo>
                <a:cubicBezTo>
                  <a:pt x="3689" y="12350"/>
                  <a:pt x="3740" y="12552"/>
                  <a:pt x="3745" y="12746"/>
                </a:cubicBezTo>
                <a:cubicBezTo>
                  <a:pt x="3744" y="12755"/>
                  <a:pt x="3744" y="12764"/>
                  <a:pt x="3743" y="12773"/>
                </a:cubicBezTo>
                <a:cubicBezTo>
                  <a:pt x="3717" y="12737"/>
                  <a:pt x="3705" y="12700"/>
                  <a:pt x="3693" y="12646"/>
                </a:cubicBezTo>
                <a:cubicBezTo>
                  <a:pt x="3668" y="12529"/>
                  <a:pt x="3658" y="12409"/>
                  <a:pt x="3655" y="12290"/>
                </a:cubicBezTo>
                <a:cubicBezTo>
                  <a:pt x="3652" y="12175"/>
                  <a:pt x="3654" y="12048"/>
                  <a:pt x="3687" y="11937"/>
                </a:cubicBezTo>
                <a:cubicBezTo>
                  <a:pt x="3703" y="11882"/>
                  <a:pt x="3724" y="11861"/>
                  <a:pt x="3766" y="11828"/>
                </a:cubicBezTo>
                <a:cubicBezTo>
                  <a:pt x="3829" y="11838"/>
                  <a:pt x="3861" y="11868"/>
                  <a:pt x="3892" y="11928"/>
                </a:cubicBezTo>
                <a:cubicBezTo>
                  <a:pt x="3935" y="12012"/>
                  <a:pt x="3938" y="12116"/>
                  <a:pt x="3921" y="12207"/>
                </a:cubicBezTo>
                <a:cubicBezTo>
                  <a:pt x="3907" y="12285"/>
                  <a:pt x="3858" y="12418"/>
                  <a:pt x="3783" y="12462"/>
                </a:cubicBezTo>
                <a:cubicBezTo>
                  <a:pt x="3739" y="12488"/>
                  <a:pt x="3750" y="12441"/>
                  <a:pt x="3763" y="12423"/>
                </a:cubicBezTo>
                <a:cubicBezTo>
                  <a:pt x="3770" y="12416"/>
                  <a:pt x="3778" y="12409"/>
                  <a:pt x="3785" y="12402"/>
                </a:cubicBezTo>
              </a:path>
              <a:path w="5540" h="1266">
                <a:moveTo>
                  <a:pt x="3983" y="12555"/>
                </a:moveTo>
                <a:cubicBezTo>
                  <a:pt x="4000" y="12605"/>
                  <a:pt x="4014" y="12656"/>
                  <a:pt x="4031" y="12705"/>
                </a:cubicBezTo>
                <a:cubicBezTo>
                  <a:pt x="4043" y="12733"/>
                  <a:pt x="4046" y="12739"/>
                  <a:pt x="4050" y="12757"/>
                </a:cubicBezTo>
                <a:cubicBezTo>
                  <a:pt x="4043" y="12718"/>
                  <a:pt x="4042" y="12706"/>
                  <a:pt x="4042" y="12666"/>
                </a:cubicBezTo>
                <a:cubicBezTo>
                  <a:pt x="4043" y="12587"/>
                  <a:pt x="4059" y="12515"/>
                  <a:pt x="4102" y="12447"/>
                </a:cubicBezTo>
                <a:cubicBezTo>
                  <a:pt x="4156" y="12363"/>
                  <a:pt x="4249" y="12291"/>
                  <a:pt x="4350" y="12277"/>
                </a:cubicBezTo>
                <a:cubicBezTo>
                  <a:pt x="4410" y="12268"/>
                  <a:pt x="4484" y="12275"/>
                  <a:pt x="4543" y="12290"/>
                </a:cubicBezTo>
                <a:cubicBezTo>
                  <a:pt x="4554" y="12294"/>
                  <a:pt x="4565" y="12297"/>
                  <a:pt x="4576" y="12301"/>
                </a:cubicBezTo>
              </a:path>
              <a:path w="5540" h="1266">
                <a:moveTo>
                  <a:pt x="4822" y="11962"/>
                </a:moveTo>
                <a:cubicBezTo>
                  <a:pt x="4824" y="11954"/>
                  <a:pt x="4846" y="11833"/>
                  <a:pt x="4836" y="11894"/>
                </a:cubicBezTo>
                <a:cubicBezTo>
                  <a:pt x="4824" y="11991"/>
                  <a:pt x="4806" y="12088"/>
                  <a:pt x="4794" y="12185"/>
                </a:cubicBezTo>
                <a:cubicBezTo>
                  <a:pt x="4776" y="12329"/>
                  <a:pt x="4763" y="12474"/>
                  <a:pt x="4778" y="12619"/>
                </a:cubicBezTo>
                <a:cubicBezTo>
                  <a:pt x="4784" y="12679"/>
                  <a:pt x="4800" y="12803"/>
                  <a:pt x="4868" y="12832"/>
                </a:cubicBezTo>
                <a:cubicBezTo>
                  <a:pt x="4899" y="12833"/>
                  <a:pt x="4910" y="12833"/>
                  <a:pt x="4926" y="12815"/>
                </a:cubicBezTo>
              </a:path>
              <a:path w="5540" h="1266">
                <a:moveTo>
                  <a:pt x="5182" y="12090"/>
                </a:moveTo>
                <a:cubicBezTo>
                  <a:pt x="5187" y="12072"/>
                  <a:pt x="5191" y="12062"/>
                  <a:pt x="5182" y="12079"/>
                </a:cubicBezTo>
                <a:cubicBezTo>
                  <a:pt x="5179" y="12153"/>
                  <a:pt x="5169" y="12227"/>
                  <a:pt x="5165" y="12302"/>
                </a:cubicBezTo>
                <a:cubicBezTo>
                  <a:pt x="5160" y="12392"/>
                  <a:pt x="5154" y="12484"/>
                  <a:pt x="5165" y="12574"/>
                </a:cubicBezTo>
                <a:cubicBezTo>
                  <a:pt x="5170" y="12614"/>
                  <a:pt x="5177" y="12664"/>
                  <a:pt x="5227" y="12663"/>
                </a:cubicBezTo>
                <a:cubicBezTo>
                  <a:pt x="5281" y="12662"/>
                  <a:pt x="5344" y="12631"/>
                  <a:pt x="5393" y="12612"/>
                </a:cubicBezTo>
                <a:cubicBezTo>
                  <a:pt x="5452" y="12589"/>
                  <a:pt x="5507" y="12566"/>
                  <a:pt x="5563" y="12538"/>
                </a:cubicBezTo>
                <a:cubicBezTo>
                  <a:pt x="5591" y="12524"/>
                  <a:pt x="5597" y="12520"/>
                  <a:pt x="5610" y="12494"/>
                </a:cubicBezTo>
              </a:path>
              <a:path w="5540" h="1266">
                <a:moveTo>
                  <a:pt x="5238" y="12434"/>
                </a:moveTo>
                <a:cubicBezTo>
                  <a:pt x="5201" y="12408"/>
                  <a:pt x="5262" y="12383"/>
                  <a:pt x="5291" y="12366"/>
                </a:cubicBezTo>
                <a:cubicBezTo>
                  <a:pt x="5353" y="12330"/>
                  <a:pt x="5410" y="12315"/>
                  <a:pt x="5479" y="12298"/>
                </a:cubicBezTo>
                <a:cubicBezTo>
                  <a:pt x="5506" y="12291"/>
                  <a:pt x="5532" y="12285"/>
                  <a:pt x="5560" y="12280"/>
                </a:cubicBezTo>
              </a:path>
              <a:path w="5540" h="1266">
                <a:moveTo>
                  <a:pt x="5301" y="12195"/>
                </a:moveTo>
                <a:cubicBezTo>
                  <a:pt x="5284" y="12159"/>
                  <a:pt x="5287" y="12124"/>
                  <a:pt x="5317" y="12090"/>
                </a:cubicBezTo>
                <a:cubicBezTo>
                  <a:pt x="5363" y="12039"/>
                  <a:pt x="5430" y="12003"/>
                  <a:pt x="5495" y="11986"/>
                </a:cubicBezTo>
                <a:cubicBezTo>
                  <a:pt x="5546" y="11973"/>
                  <a:pt x="5588" y="11974"/>
                  <a:pt x="5637" y="11987"/>
                </a:cubicBezTo>
              </a:path>
              <a:path w="5540" h="1266">
                <a:moveTo>
                  <a:pt x="5834" y="12647"/>
                </a:moveTo>
                <a:cubicBezTo>
                  <a:pt x="5812" y="12636"/>
                  <a:pt x="5804" y="12652"/>
                  <a:pt x="5796" y="12608"/>
                </a:cubicBezTo>
                <a:cubicBezTo>
                  <a:pt x="5784" y="12544"/>
                  <a:pt x="5809" y="12453"/>
                  <a:pt x="5823" y="12392"/>
                </a:cubicBezTo>
                <a:cubicBezTo>
                  <a:pt x="5852" y="12267"/>
                  <a:pt x="5896" y="12128"/>
                  <a:pt x="5964" y="12019"/>
                </a:cubicBezTo>
                <a:cubicBezTo>
                  <a:pt x="5989" y="11988"/>
                  <a:pt x="5994" y="11978"/>
                  <a:pt x="6020" y="11972"/>
                </a:cubicBezTo>
                <a:cubicBezTo>
                  <a:pt x="6080" y="12015"/>
                  <a:pt x="6087" y="12080"/>
                  <a:pt x="6103" y="12153"/>
                </a:cubicBezTo>
                <a:cubicBezTo>
                  <a:pt x="6123" y="12241"/>
                  <a:pt x="6128" y="12573"/>
                  <a:pt x="6201" y="12631"/>
                </a:cubicBezTo>
                <a:cubicBezTo>
                  <a:pt x="6220" y="12646"/>
                  <a:pt x="6209" y="12604"/>
                  <a:pt x="6210" y="12584"/>
                </a:cubicBezTo>
              </a:path>
              <a:path w="5540" h="1266">
                <a:moveTo>
                  <a:pt x="6389" y="12030"/>
                </a:moveTo>
                <a:cubicBezTo>
                  <a:pt x="6433" y="12022"/>
                  <a:pt x="6412" y="12075"/>
                  <a:pt x="6412" y="12108"/>
                </a:cubicBezTo>
                <a:cubicBezTo>
                  <a:pt x="6413" y="12204"/>
                  <a:pt x="6419" y="12300"/>
                  <a:pt x="6425" y="12396"/>
                </a:cubicBezTo>
                <a:cubicBezTo>
                  <a:pt x="6430" y="12478"/>
                  <a:pt x="6440" y="12561"/>
                  <a:pt x="6461" y="12641"/>
                </a:cubicBezTo>
              </a:path>
              <a:path w="5540" h="1266">
                <a:moveTo>
                  <a:pt x="6382" y="12162"/>
                </a:moveTo>
                <a:cubicBezTo>
                  <a:pt x="6379" y="12140"/>
                  <a:pt x="6381" y="12113"/>
                  <a:pt x="6405" y="12100"/>
                </a:cubicBezTo>
                <a:cubicBezTo>
                  <a:pt x="6459" y="12071"/>
                  <a:pt x="6531" y="12062"/>
                  <a:pt x="6590" y="12050"/>
                </a:cubicBezTo>
                <a:cubicBezTo>
                  <a:pt x="6644" y="12039"/>
                  <a:pt x="6716" y="12022"/>
                  <a:pt x="6769" y="12048"/>
                </a:cubicBezTo>
                <a:cubicBezTo>
                  <a:pt x="6774" y="12053"/>
                  <a:pt x="6780" y="12057"/>
                  <a:pt x="6785" y="12062"/>
                </a:cubicBezTo>
              </a:path>
              <a:path w="5540" h="1266">
                <a:moveTo>
                  <a:pt x="6552" y="12336"/>
                </a:moveTo>
                <a:cubicBezTo>
                  <a:pt x="6532" y="12356"/>
                  <a:pt x="6528" y="12361"/>
                  <a:pt x="6517" y="12374"/>
                </a:cubicBezTo>
                <a:cubicBezTo>
                  <a:pt x="6569" y="12358"/>
                  <a:pt x="6619" y="12345"/>
                  <a:pt x="6673" y="12335"/>
                </a:cubicBezTo>
                <a:cubicBezTo>
                  <a:pt x="6737" y="12323"/>
                  <a:pt x="6801" y="12330"/>
                  <a:pt x="6866" y="12329"/>
                </a:cubicBezTo>
                <a:cubicBezTo>
                  <a:pt x="6899" y="12328"/>
                  <a:pt x="6909" y="12328"/>
                  <a:pt x="6930" y="12322"/>
                </a:cubicBezTo>
              </a:path>
              <a:path w="5540" h="1266">
                <a:moveTo>
                  <a:pt x="7064" y="11930"/>
                </a:moveTo>
                <a:cubicBezTo>
                  <a:pt x="7066" y="11910"/>
                  <a:pt x="7069" y="11902"/>
                  <a:pt x="7074" y="11885"/>
                </a:cubicBezTo>
                <a:cubicBezTo>
                  <a:pt x="7112" y="11933"/>
                  <a:pt x="7133" y="11990"/>
                  <a:pt x="7154" y="12048"/>
                </a:cubicBezTo>
                <a:cubicBezTo>
                  <a:pt x="7230" y="12255"/>
                  <a:pt x="7275" y="12477"/>
                  <a:pt x="7282" y="12697"/>
                </a:cubicBezTo>
                <a:cubicBezTo>
                  <a:pt x="7283" y="12726"/>
                  <a:pt x="7290" y="12804"/>
                  <a:pt x="7261" y="12804"/>
                </a:cubicBezTo>
                <a:cubicBezTo>
                  <a:pt x="7257" y="12784"/>
                  <a:pt x="7255" y="12776"/>
                  <a:pt x="7254" y="12761"/>
                </a:cubicBezTo>
              </a:path>
              <a:path w="5540" h="1266">
                <a:moveTo>
                  <a:pt x="7706" y="12233"/>
                </a:moveTo>
                <a:cubicBezTo>
                  <a:pt x="7703" y="12207"/>
                  <a:pt x="7737" y="12204"/>
                  <a:pt x="7765" y="12196"/>
                </a:cubicBezTo>
                <a:cubicBezTo>
                  <a:pt x="7829" y="12178"/>
                  <a:pt x="7899" y="12162"/>
                  <a:pt x="7965" y="12154"/>
                </a:cubicBezTo>
                <a:cubicBezTo>
                  <a:pt x="7994" y="12150"/>
                  <a:pt x="8081" y="12125"/>
                  <a:pt x="8109" y="12146"/>
                </a:cubicBezTo>
                <a:cubicBezTo>
                  <a:pt x="8109" y="12159"/>
                  <a:pt x="8106" y="12165"/>
                  <a:pt x="8095" y="12171"/>
                </a:cubicBezTo>
              </a:path>
              <a:path w="5540" h="1266">
                <a:moveTo>
                  <a:pt x="7768" y="12375"/>
                </a:moveTo>
                <a:cubicBezTo>
                  <a:pt x="7762" y="12378"/>
                  <a:pt x="7755" y="12382"/>
                  <a:pt x="7749" y="12385"/>
                </a:cubicBezTo>
                <a:cubicBezTo>
                  <a:pt x="7797" y="12383"/>
                  <a:pt x="7846" y="12371"/>
                  <a:pt x="7895" y="12367"/>
                </a:cubicBezTo>
                <a:cubicBezTo>
                  <a:pt x="7968" y="12361"/>
                  <a:pt x="8040" y="12356"/>
                  <a:pt x="8112" y="12371"/>
                </a:cubicBezTo>
                <a:cubicBezTo>
                  <a:pt x="8148" y="12378"/>
                  <a:pt x="8178" y="12392"/>
                  <a:pt x="8206" y="12415"/>
                </a:cubicBezTo>
              </a:path>
              <a:path w="5540" h="1266">
                <a:moveTo>
                  <a:pt x="8808" y="11860"/>
                </a:moveTo>
                <a:cubicBezTo>
                  <a:pt x="8807" y="11845"/>
                  <a:pt x="8806" y="11834"/>
                  <a:pt x="8802" y="11819"/>
                </a:cubicBezTo>
                <a:cubicBezTo>
                  <a:pt x="8814" y="11857"/>
                  <a:pt x="8825" y="11893"/>
                  <a:pt x="8833" y="11932"/>
                </a:cubicBezTo>
                <a:cubicBezTo>
                  <a:pt x="8844" y="11985"/>
                  <a:pt x="8846" y="12039"/>
                  <a:pt x="8853" y="12092"/>
                </a:cubicBezTo>
                <a:cubicBezTo>
                  <a:pt x="8858" y="12128"/>
                  <a:pt x="8860" y="12156"/>
                  <a:pt x="8853" y="12191"/>
                </a:cubicBezTo>
              </a:path>
              <a:path w="5540" h="1266">
                <a:moveTo>
                  <a:pt x="8588" y="12278"/>
                </a:moveTo>
                <a:cubicBezTo>
                  <a:pt x="8575" y="12283"/>
                  <a:pt x="8573" y="12285"/>
                  <a:pt x="8564" y="12285"/>
                </a:cubicBezTo>
                <a:cubicBezTo>
                  <a:pt x="8583" y="12257"/>
                  <a:pt x="8619" y="12249"/>
                  <a:pt x="8653" y="12237"/>
                </a:cubicBezTo>
                <a:cubicBezTo>
                  <a:pt x="8724" y="12212"/>
                  <a:pt x="8798" y="12201"/>
                  <a:pt x="8873" y="12196"/>
                </a:cubicBezTo>
                <a:cubicBezTo>
                  <a:pt x="8937" y="12191"/>
                  <a:pt x="8997" y="12192"/>
                  <a:pt x="9061" y="12201"/>
                </a:cubicBezTo>
                <a:cubicBezTo>
                  <a:pt x="9067" y="12202"/>
                  <a:pt x="9074" y="12203"/>
                  <a:pt x="9080" y="12204"/>
                </a:cubicBezTo>
              </a:path>
              <a:path w="5540" h="1266">
                <a:moveTo>
                  <a:pt x="8742" y="12492"/>
                </a:moveTo>
                <a:cubicBezTo>
                  <a:pt x="8753" y="12483"/>
                  <a:pt x="8762" y="12475"/>
                  <a:pt x="8774" y="12469"/>
                </a:cubicBezTo>
                <a:cubicBezTo>
                  <a:pt x="8792" y="12484"/>
                  <a:pt x="8783" y="12502"/>
                  <a:pt x="8777" y="12529"/>
                </a:cubicBezTo>
                <a:cubicBezTo>
                  <a:pt x="8769" y="12564"/>
                  <a:pt x="8758" y="12596"/>
                  <a:pt x="8753" y="12632"/>
                </a:cubicBezTo>
                <a:cubicBezTo>
                  <a:pt x="8748" y="12667"/>
                  <a:pt x="8748" y="12703"/>
                  <a:pt x="8763" y="12736"/>
                </a:cubicBezTo>
                <a:cubicBezTo>
                  <a:pt x="8789" y="12795"/>
                  <a:pt x="8856" y="12817"/>
                  <a:pt x="8914" y="12793"/>
                </a:cubicBezTo>
                <a:cubicBezTo>
                  <a:pt x="8962" y="12773"/>
                  <a:pt x="8995" y="12738"/>
                  <a:pt x="9027" y="12698"/>
                </a:cubicBezTo>
                <a:cubicBezTo>
                  <a:pt x="9052" y="12666"/>
                  <a:pt x="9067" y="12630"/>
                  <a:pt x="9084" y="12594"/>
                </a:cubicBezTo>
              </a:path>
              <a:path w="5540" h="1266">
                <a:moveTo>
                  <a:pt x="9111" y="12439"/>
                </a:moveTo>
                <a:cubicBezTo>
                  <a:pt x="9097" y="12477"/>
                  <a:pt x="9098" y="12514"/>
                  <a:pt x="9092" y="12553"/>
                </a:cubicBezTo>
                <a:cubicBezTo>
                  <a:pt x="9081" y="12627"/>
                  <a:pt x="9079" y="12703"/>
                  <a:pt x="9084" y="12779"/>
                </a:cubicBezTo>
                <a:cubicBezTo>
                  <a:pt x="9089" y="12855"/>
                  <a:pt x="9101" y="12925"/>
                  <a:pt x="9119" y="12998"/>
                </a:cubicBezTo>
                <a:cubicBezTo>
                  <a:pt x="9126" y="13027"/>
                  <a:pt x="9131" y="13055"/>
                  <a:pt x="9138" y="1308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"/>
          <p:cNvSpPr/>
          <p:nvPr/>
        </p:nvSpPr>
        <p:spPr>
          <a:xfrm>
            <a:off x="4373640" y="4019400"/>
            <a:ext cx="1060200" cy="514440"/>
          </a:xfrm>
          <a:custGeom>
            <a:avLst/>
            <a:gdLst/>
            <a:ahLst/>
            <a:rect l="l" t="t" r="r" b="b"/>
            <a:pathLst>
              <a:path w="2946" h="1430">
                <a:moveTo>
                  <a:pt x="12214" y="11569"/>
                </a:moveTo>
                <a:cubicBezTo>
                  <a:pt x="12197" y="11630"/>
                  <a:pt x="12179" y="11696"/>
                  <a:pt x="12173" y="11759"/>
                </a:cubicBezTo>
                <a:cubicBezTo>
                  <a:pt x="12162" y="11883"/>
                  <a:pt x="12159" y="12009"/>
                  <a:pt x="12159" y="12134"/>
                </a:cubicBezTo>
                <a:cubicBezTo>
                  <a:pt x="12159" y="12204"/>
                  <a:pt x="12161" y="12274"/>
                  <a:pt x="12173" y="12343"/>
                </a:cubicBezTo>
                <a:cubicBezTo>
                  <a:pt x="12183" y="12281"/>
                  <a:pt x="12182" y="12223"/>
                  <a:pt x="12182" y="12160"/>
                </a:cubicBezTo>
                <a:cubicBezTo>
                  <a:pt x="12182" y="12059"/>
                  <a:pt x="12179" y="11957"/>
                  <a:pt x="12168" y="11856"/>
                </a:cubicBezTo>
                <a:cubicBezTo>
                  <a:pt x="12158" y="11764"/>
                  <a:pt x="12146" y="11676"/>
                  <a:pt x="12157" y="11584"/>
                </a:cubicBezTo>
                <a:cubicBezTo>
                  <a:pt x="12165" y="11515"/>
                  <a:pt x="12194" y="11460"/>
                  <a:pt x="12257" y="11428"/>
                </a:cubicBezTo>
                <a:cubicBezTo>
                  <a:pt x="12324" y="11393"/>
                  <a:pt x="12403" y="11408"/>
                  <a:pt x="12463" y="11450"/>
                </a:cubicBezTo>
                <a:cubicBezTo>
                  <a:pt x="12534" y="11500"/>
                  <a:pt x="12569" y="11595"/>
                  <a:pt x="12564" y="11681"/>
                </a:cubicBezTo>
                <a:cubicBezTo>
                  <a:pt x="12558" y="11777"/>
                  <a:pt x="12508" y="11863"/>
                  <a:pt x="12439" y="11927"/>
                </a:cubicBezTo>
                <a:cubicBezTo>
                  <a:pt x="12405" y="11959"/>
                  <a:pt x="12329" y="12015"/>
                  <a:pt x="12277" y="11999"/>
                </a:cubicBezTo>
                <a:cubicBezTo>
                  <a:pt x="12236" y="11986"/>
                  <a:pt x="12255" y="11973"/>
                  <a:pt x="12267" y="11946"/>
                </a:cubicBezTo>
              </a:path>
              <a:path w="2946" h="1430">
                <a:moveTo>
                  <a:pt x="12584" y="12255"/>
                </a:moveTo>
                <a:cubicBezTo>
                  <a:pt x="12599" y="12302"/>
                  <a:pt x="12611" y="12346"/>
                  <a:pt x="12621" y="12394"/>
                </a:cubicBezTo>
                <a:cubicBezTo>
                  <a:pt x="12640" y="12459"/>
                  <a:pt x="12615" y="12314"/>
                  <a:pt x="12616" y="12294"/>
                </a:cubicBezTo>
                <a:cubicBezTo>
                  <a:pt x="12619" y="12211"/>
                  <a:pt x="12630" y="12124"/>
                  <a:pt x="12657" y="12045"/>
                </a:cubicBezTo>
                <a:cubicBezTo>
                  <a:pt x="12678" y="11983"/>
                  <a:pt x="12708" y="11923"/>
                  <a:pt x="12769" y="11895"/>
                </a:cubicBezTo>
                <a:cubicBezTo>
                  <a:pt x="12813" y="11875"/>
                  <a:pt x="12860" y="11895"/>
                  <a:pt x="12903" y="11907"/>
                </a:cubicBezTo>
              </a:path>
              <a:path w="2946" h="1430">
                <a:moveTo>
                  <a:pt x="13308" y="11610"/>
                </a:moveTo>
                <a:cubicBezTo>
                  <a:pt x="13322" y="11579"/>
                  <a:pt x="13335" y="11545"/>
                  <a:pt x="13350" y="11515"/>
                </a:cubicBezTo>
                <a:cubicBezTo>
                  <a:pt x="13360" y="11502"/>
                  <a:pt x="13363" y="11496"/>
                  <a:pt x="13355" y="11484"/>
                </a:cubicBezTo>
                <a:cubicBezTo>
                  <a:pt x="13321" y="11527"/>
                  <a:pt x="13305" y="11575"/>
                  <a:pt x="13289" y="11629"/>
                </a:cubicBezTo>
                <a:cubicBezTo>
                  <a:pt x="13263" y="11715"/>
                  <a:pt x="13241" y="11803"/>
                  <a:pt x="13230" y="11893"/>
                </a:cubicBezTo>
                <a:cubicBezTo>
                  <a:pt x="13218" y="11995"/>
                  <a:pt x="13218" y="12105"/>
                  <a:pt x="13272" y="12196"/>
                </a:cubicBezTo>
                <a:cubicBezTo>
                  <a:pt x="13315" y="12268"/>
                  <a:pt x="13380" y="12248"/>
                  <a:pt x="13439" y="12216"/>
                </a:cubicBezTo>
              </a:path>
              <a:path w="2946" h="1430">
                <a:moveTo>
                  <a:pt x="13659" y="11617"/>
                </a:moveTo>
                <a:cubicBezTo>
                  <a:pt x="13665" y="11603"/>
                  <a:pt x="13667" y="11599"/>
                  <a:pt x="13670" y="11590"/>
                </a:cubicBezTo>
                <a:cubicBezTo>
                  <a:pt x="13663" y="11634"/>
                  <a:pt x="13654" y="11677"/>
                  <a:pt x="13642" y="11721"/>
                </a:cubicBezTo>
                <a:cubicBezTo>
                  <a:pt x="13624" y="11789"/>
                  <a:pt x="13604" y="11856"/>
                  <a:pt x="13593" y="11926"/>
                </a:cubicBezTo>
                <a:cubicBezTo>
                  <a:pt x="13586" y="11969"/>
                  <a:pt x="13578" y="12025"/>
                  <a:pt x="13612" y="12060"/>
                </a:cubicBezTo>
                <a:cubicBezTo>
                  <a:pt x="13639" y="12088"/>
                  <a:pt x="13687" y="12090"/>
                  <a:pt x="13723" y="12089"/>
                </a:cubicBezTo>
                <a:cubicBezTo>
                  <a:pt x="13761" y="12088"/>
                  <a:pt x="13813" y="12077"/>
                  <a:pt x="13843" y="12054"/>
                </a:cubicBezTo>
                <a:cubicBezTo>
                  <a:pt x="13868" y="12035"/>
                  <a:pt x="13875" y="12010"/>
                  <a:pt x="13885" y="11982"/>
                </a:cubicBezTo>
              </a:path>
              <a:path w="2946" h="1430">
                <a:moveTo>
                  <a:pt x="13659" y="11860"/>
                </a:moveTo>
                <a:cubicBezTo>
                  <a:pt x="13687" y="11849"/>
                  <a:pt x="13718" y="11842"/>
                  <a:pt x="13747" y="11835"/>
                </a:cubicBezTo>
                <a:cubicBezTo>
                  <a:pt x="13787" y="11825"/>
                  <a:pt x="13825" y="11822"/>
                  <a:pt x="13866" y="11819"/>
                </a:cubicBezTo>
                <a:cubicBezTo>
                  <a:pt x="13871" y="11819"/>
                  <a:pt x="13877" y="11818"/>
                  <a:pt x="13882" y="11818"/>
                </a:cubicBezTo>
              </a:path>
              <a:path w="2946" h="1430">
                <a:moveTo>
                  <a:pt x="13674" y="11672"/>
                </a:moveTo>
                <a:cubicBezTo>
                  <a:pt x="13696" y="11628"/>
                  <a:pt x="13722" y="11608"/>
                  <a:pt x="13767" y="11585"/>
                </a:cubicBezTo>
                <a:cubicBezTo>
                  <a:pt x="13825" y="11555"/>
                  <a:pt x="13885" y="11541"/>
                  <a:pt x="13950" y="11538"/>
                </a:cubicBezTo>
                <a:cubicBezTo>
                  <a:pt x="13963" y="11538"/>
                  <a:pt x="13976" y="11538"/>
                  <a:pt x="13989" y="11538"/>
                </a:cubicBezTo>
              </a:path>
              <a:path w="2946" h="1430">
                <a:moveTo>
                  <a:pt x="14188" y="11487"/>
                </a:moveTo>
                <a:cubicBezTo>
                  <a:pt x="14182" y="11563"/>
                  <a:pt x="14174" y="11638"/>
                  <a:pt x="14172" y="11714"/>
                </a:cubicBezTo>
                <a:cubicBezTo>
                  <a:pt x="14170" y="11807"/>
                  <a:pt x="14171" y="11903"/>
                  <a:pt x="14183" y="11995"/>
                </a:cubicBezTo>
                <a:cubicBezTo>
                  <a:pt x="14188" y="12031"/>
                  <a:pt x="14196" y="12063"/>
                  <a:pt x="14207" y="12097"/>
                </a:cubicBezTo>
              </a:path>
              <a:path w="2946" h="1430">
                <a:moveTo>
                  <a:pt x="14481" y="11447"/>
                </a:moveTo>
                <a:cubicBezTo>
                  <a:pt x="14462" y="11489"/>
                  <a:pt x="14453" y="11538"/>
                  <a:pt x="14450" y="11583"/>
                </a:cubicBezTo>
                <a:cubicBezTo>
                  <a:pt x="14443" y="11674"/>
                  <a:pt x="14449" y="11767"/>
                  <a:pt x="14455" y="11858"/>
                </a:cubicBezTo>
                <a:cubicBezTo>
                  <a:pt x="14459" y="11928"/>
                  <a:pt x="14474" y="11995"/>
                  <a:pt x="14479" y="12065"/>
                </a:cubicBezTo>
                <a:cubicBezTo>
                  <a:pt x="14479" y="12073"/>
                  <a:pt x="14480" y="12080"/>
                  <a:pt x="14480" y="12088"/>
                </a:cubicBezTo>
              </a:path>
              <a:path w="2946" h="1430">
                <a:moveTo>
                  <a:pt x="14427" y="11542"/>
                </a:moveTo>
                <a:cubicBezTo>
                  <a:pt x="14426" y="11522"/>
                  <a:pt x="14419" y="11468"/>
                  <a:pt x="14438" y="11452"/>
                </a:cubicBezTo>
                <a:cubicBezTo>
                  <a:pt x="14473" y="11421"/>
                  <a:pt x="14549" y="11426"/>
                  <a:pt x="14591" y="11426"/>
                </a:cubicBezTo>
                <a:cubicBezTo>
                  <a:pt x="14668" y="11426"/>
                  <a:pt x="14743" y="11434"/>
                  <a:pt x="14813" y="11467"/>
                </a:cubicBezTo>
                <a:cubicBezTo>
                  <a:pt x="14824" y="11474"/>
                  <a:pt x="14835" y="11480"/>
                  <a:pt x="14846" y="11487"/>
                </a:cubicBezTo>
              </a:path>
              <a:path w="2946" h="1430">
                <a:moveTo>
                  <a:pt x="14462" y="11827"/>
                </a:moveTo>
                <a:cubicBezTo>
                  <a:pt x="14438" y="11862"/>
                  <a:pt x="14519" y="11811"/>
                  <a:pt x="14547" y="11803"/>
                </a:cubicBezTo>
                <a:cubicBezTo>
                  <a:pt x="14613" y="11783"/>
                  <a:pt x="14682" y="11777"/>
                  <a:pt x="14749" y="11762"/>
                </a:cubicBezTo>
                <a:cubicBezTo>
                  <a:pt x="14788" y="11752"/>
                  <a:pt x="14800" y="11750"/>
                  <a:pt x="14824" y="11737"/>
                </a:cubicBezTo>
              </a:path>
              <a:path w="2946" h="1430">
                <a:moveTo>
                  <a:pt x="14938" y="11425"/>
                </a:moveTo>
                <a:cubicBezTo>
                  <a:pt x="14988" y="11412"/>
                  <a:pt x="15007" y="11446"/>
                  <a:pt x="15026" y="11495"/>
                </a:cubicBezTo>
                <a:cubicBezTo>
                  <a:pt x="15082" y="11636"/>
                  <a:pt x="15092" y="11813"/>
                  <a:pt x="15095" y="11962"/>
                </a:cubicBezTo>
                <a:cubicBezTo>
                  <a:pt x="15097" y="12059"/>
                  <a:pt x="15099" y="12165"/>
                  <a:pt x="15080" y="12261"/>
                </a:cubicBezTo>
                <a:cubicBezTo>
                  <a:pt x="15072" y="12284"/>
                  <a:pt x="15072" y="12290"/>
                  <a:pt x="15060" y="12299"/>
                </a:cubicBezTo>
              </a:path>
              <a:path w="2946" h="1430">
                <a:moveTo>
                  <a:pt x="14252" y="11371"/>
                </a:moveTo>
                <a:cubicBezTo>
                  <a:pt x="14250" y="11344"/>
                  <a:pt x="14248" y="11317"/>
                  <a:pt x="14244" y="11290"/>
                </a:cubicBezTo>
                <a:cubicBezTo>
                  <a:pt x="14239" y="11261"/>
                  <a:pt x="14236" y="11232"/>
                  <a:pt x="14230" y="11203"/>
                </a:cubicBezTo>
                <a:cubicBezTo>
                  <a:pt x="14227" y="11190"/>
                  <a:pt x="14222" y="11178"/>
                  <a:pt x="14219" y="11165"/>
                </a:cubicBezTo>
                <a:cubicBezTo>
                  <a:pt x="14214" y="11194"/>
                  <a:pt x="14213" y="11220"/>
                  <a:pt x="14212" y="11250"/>
                </a:cubicBezTo>
                <a:cubicBezTo>
                  <a:pt x="14208" y="11417"/>
                  <a:pt x="14212" y="11583"/>
                  <a:pt x="14220" y="11750"/>
                </a:cubicBezTo>
                <a:cubicBezTo>
                  <a:pt x="14231" y="11987"/>
                  <a:pt x="14220" y="12220"/>
                  <a:pt x="14205" y="12456"/>
                </a:cubicBezTo>
                <a:cubicBezTo>
                  <a:pt x="14202" y="12503"/>
                  <a:pt x="14201" y="12547"/>
                  <a:pt x="14205" y="12594"/>
                </a:cubicBezTo>
                <a:cubicBezTo>
                  <a:pt x="14200" y="12563"/>
                  <a:pt x="14197" y="12530"/>
                  <a:pt x="14188" y="12500"/>
                </a:cubicBezTo>
                <a:cubicBezTo>
                  <a:pt x="14184" y="12489"/>
                  <a:pt x="14181" y="12479"/>
                  <a:pt x="14177" y="1246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"/>
          <p:cNvSpPr/>
          <p:nvPr/>
        </p:nvSpPr>
        <p:spPr>
          <a:xfrm>
            <a:off x="5634000" y="4222800"/>
            <a:ext cx="214200" cy="123840"/>
          </a:xfrm>
          <a:custGeom>
            <a:avLst/>
            <a:gdLst/>
            <a:ahLst/>
            <a:rect l="l" t="t" r="r" b="b"/>
            <a:pathLst>
              <a:path w="595" h="345">
                <a:moveTo>
                  <a:pt x="15651" y="11762"/>
                </a:moveTo>
                <a:cubicBezTo>
                  <a:pt x="15725" y="11746"/>
                  <a:pt x="15796" y="11740"/>
                  <a:pt x="15872" y="11735"/>
                </a:cubicBezTo>
                <a:cubicBezTo>
                  <a:pt x="15973" y="11728"/>
                  <a:pt x="16075" y="11727"/>
                  <a:pt x="16176" y="11729"/>
                </a:cubicBezTo>
                <a:cubicBezTo>
                  <a:pt x="16214" y="11731"/>
                  <a:pt x="16222" y="11730"/>
                  <a:pt x="16245" y="11734"/>
                </a:cubicBezTo>
              </a:path>
              <a:path w="595" h="345">
                <a:moveTo>
                  <a:pt x="15674" y="12030"/>
                </a:moveTo>
                <a:cubicBezTo>
                  <a:pt x="15671" y="12036"/>
                  <a:pt x="15667" y="12042"/>
                  <a:pt x="15664" y="12048"/>
                </a:cubicBezTo>
                <a:cubicBezTo>
                  <a:pt x="15695" y="12073"/>
                  <a:pt x="15738" y="12062"/>
                  <a:pt x="15779" y="12060"/>
                </a:cubicBezTo>
                <a:cubicBezTo>
                  <a:pt x="15849" y="12057"/>
                  <a:pt x="15918" y="12055"/>
                  <a:pt x="15988" y="12062"/>
                </a:cubicBezTo>
                <a:cubicBezTo>
                  <a:pt x="16018" y="12065"/>
                  <a:pt x="16049" y="12074"/>
                  <a:pt x="16079" y="1206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>
            <a:off x="6022800" y="3992400"/>
            <a:ext cx="381240" cy="870120"/>
          </a:xfrm>
          <a:custGeom>
            <a:avLst/>
            <a:gdLst/>
            <a:ahLst/>
            <a:rect l="l" t="t" r="r" b="b"/>
            <a:pathLst>
              <a:path w="1061" h="2417">
                <a:moveTo>
                  <a:pt x="17115" y="11127"/>
                </a:moveTo>
                <a:cubicBezTo>
                  <a:pt x="17117" y="11109"/>
                  <a:pt x="17117" y="11104"/>
                  <a:pt x="17118" y="11092"/>
                </a:cubicBezTo>
                <a:cubicBezTo>
                  <a:pt x="17128" y="11133"/>
                  <a:pt x="17133" y="11176"/>
                  <a:pt x="17139" y="11218"/>
                </a:cubicBezTo>
                <a:cubicBezTo>
                  <a:pt x="17148" y="11278"/>
                  <a:pt x="17159" y="11336"/>
                  <a:pt x="17161" y="11397"/>
                </a:cubicBezTo>
                <a:cubicBezTo>
                  <a:pt x="17162" y="11431"/>
                  <a:pt x="17159" y="11447"/>
                  <a:pt x="17144" y="11476"/>
                </a:cubicBezTo>
              </a:path>
              <a:path w="1061" h="2417">
                <a:moveTo>
                  <a:pt x="16844" y="11569"/>
                </a:moveTo>
                <a:cubicBezTo>
                  <a:pt x="16891" y="11551"/>
                  <a:pt x="16933" y="11528"/>
                  <a:pt x="16981" y="11511"/>
                </a:cubicBezTo>
                <a:cubicBezTo>
                  <a:pt x="17043" y="11489"/>
                  <a:pt x="17111" y="11471"/>
                  <a:pt x="17176" y="11464"/>
                </a:cubicBezTo>
                <a:cubicBezTo>
                  <a:pt x="17211" y="11461"/>
                  <a:pt x="17242" y="11463"/>
                  <a:pt x="17273" y="11479"/>
                </a:cubicBezTo>
              </a:path>
              <a:path w="1061" h="2417">
                <a:moveTo>
                  <a:pt x="17027" y="11667"/>
                </a:moveTo>
                <a:cubicBezTo>
                  <a:pt x="17012" y="11687"/>
                  <a:pt x="17012" y="11696"/>
                  <a:pt x="17001" y="11721"/>
                </a:cubicBezTo>
                <a:cubicBezTo>
                  <a:pt x="16990" y="11746"/>
                  <a:pt x="16989" y="11776"/>
                  <a:pt x="16995" y="11803"/>
                </a:cubicBezTo>
                <a:cubicBezTo>
                  <a:pt x="17001" y="11831"/>
                  <a:pt x="17015" y="11865"/>
                  <a:pt x="17044" y="11876"/>
                </a:cubicBezTo>
                <a:cubicBezTo>
                  <a:pt x="17078" y="11889"/>
                  <a:pt x="17118" y="11862"/>
                  <a:pt x="17142" y="11842"/>
                </a:cubicBezTo>
                <a:cubicBezTo>
                  <a:pt x="17184" y="11808"/>
                  <a:pt x="17220" y="11762"/>
                  <a:pt x="17252" y="11719"/>
                </a:cubicBezTo>
                <a:cubicBezTo>
                  <a:pt x="17267" y="11699"/>
                  <a:pt x="17280" y="11678"/>
                  <a:pt x="17295" y="11658"/>
                </a:cubicBezTo>
                <a:cubicBezTo>
                  <a:pt x="17281" y="11703"/>
                  <a:pt x="17264" y="11746"/>
                  <a:pt x="17251" y="11791"/>
                </a:cubicBezTo>
                <a:cubicBezTo>
                  <a:pt x="17234" y="11854"/>
                  <a:pt x="17227" y="11921"/>
                  <a:pt x="17223" y="11987"/>
                </a:cubicBezTo>
                <a:cubicBezTo>
                  <a:pt x="17223" y="12002"/>
                  <a:pt x="17222" y="12017"/>
                  <a:pt x="17222" y="12032"/>
                </a:cubicBezTo>
              </a:path>
              <a:path w="1061" h="2417">
                <a:moveTo>
                  <a:pt x="16730" y="12457"/>
                </a:moveTo>
                <a:cubicBezTo>
                  <a:pt x="16788" y="12410"/>
                  <a:pt x="16854" y="12362"/>
                  <a:pt x="16918" y="12324"/>
                </a:cubicBezTo>
                <a:cubicBezTo>
                  <a:pt x="17056" y="12243"/>
                  <a:pt x="17200" y="12171"/>
                  <a:pt x="17342" y="12098"/>
                </a:cubicBezTo>
                <a:cubicBezTo>
                  <a:pt x="17463" y="12035"/>
                  <a:pt x="17590" y="11991"/>
                  <a:pt x="17712" y="11930"/>
                </a:cubicBezTo>
                <a:cubicBezTo>
                  <a:pt x="17755" y="11906"/>
                  <a:pt x="17766" y="11901"/>
                  <a:pt x="17790" y="11882"/>
                </a:cubicBezTo>
              </a:path>
              <a:path w="1061" h="2417">
                <a:moveTo>
                  <a:pt x="17067" y="12566"/>
                </a:moveTo>
                <a:cubicBezTo>
                  <a:pt x="17077" y="12543"/>
                  <a:pt x="17081" y="12527"/>
                  <a:pt x="17095" y="12510"/>
                </a:cubicBezTo>
                <a:cubicBezTo>
                  <a:pt x="17118" y="12482"/>
                  <a:pt x="17150" y="12469"/>
                  <a:pt x="17184" y="12456"/>
                </a:cubicBezTo>
                <a:cubicBezTo>
                  <a:pt x="17219" y="12443"/>
                  <a:pt x="17263" y="12427"/>
                  <a:pt x="17301" y="12434"/>
                </a:cubicBezTo>
                <a:cubicBezTo>
                  <a:pt x="17306" y="12436"/>
                  <a:pt x="17312" y="12439"/>
                  <a:pt x="17317" y="12441"/>
                </a:cubicBezTo>
                <a:cubicBezTo>
                  <a:pt x="17323" y="12472"/>
                  <a:pt x="17305" y="12490"/>
                  <a:pt x="17282" y="12513"/>
                </a:cubicBezTo>
                <a:cubicBezTo>
                  <a:pt x="17261" y="12534"/>
                  <a:pt x="17236" y="12554"/>
                  <a:pt x="17213" y="12573"/>
                </a:cubicBezTo>
                <a:cubicBezTo>
                  <a:pt x="17252" y="12580"/>
                  <a:pt x="17290" y="12574"/>
                  <a:pt x="17330" y="12575"/>
                </a:cubicBezTo>
                <a:cubicBezTo>
                  <a:pt x="17373" y="12576"/>
                  <a:pt x="17429" y="12579"/>
                  <a:pt x="17461" y="12612"/>
                </a:cubicBezTo>
                <a:cubicBezTo>
                  <a:pt x="17489" y="12641"/>
                  <a:pt x="17462" y="12676"/>
                  <a:pt x="17440" y="12697"/>
                </a:cubicBezTo>
                <a:cubicBezTo>
                  <a:pt x="17414" y="12721"/>
                  <a:pt x="17380" y="12736"/>
                  <a:pt x="17346" y="12739"/>
                </a:cubicBezTo>
                <a:cubicBezTo>
                  <a:pt x="17327" y="12741"/>
                  <a:pt x="17310" y="12736"/>
                  <a:pt x="17292" y="12731"/>
                </a:cubicBezTo>
              </a:path>
              <a:path w="1061" h="2417">
                <a:moveTo>
                  <a:pt x="17104" y="13089"/>
                </a:moveTo>
                <a:cubicBezTo>
                  <a:pt x="17109" y="13065"/>
                  <a:pt x="17113" y="13047"/>
                  <a:pt x="17141" y="13025"/>
                </a:cubicBezTo>
                <a:cubicBezTo>
                  <a:pt x="17197" y="12981"/>
                  <a:pt x="17266" y="12945"/>
                  <a:pt x="17330" y="12914"/>
                </a:cubicBezTo>
                <a:cubicBezTo>
                  <a:pt x="17409" y="12876"/>
                  <a:pt x="17487" y="12847"/>
                  <a:pt x="17571" y="12826"/>
                </a:cubicBezTo>
                <a:cubicBezTo>
                  <a:pt x="17614" y="12815"/>
                  <a:pt x="17656" y="12803"/>
                  <a:pt x="17699" y="12794"/>
                </a:cubicBezTo>
              </a:path>
              <a:path w="1061" h="2417">
                <a:moveTo>
                  <a:pt x="17461" y="13007"/>
                </a:moveTo>
                <a:cubicBezTo>
                  <a:pt x="17458" y="13038"/>
                  <a:pt x="17449" y="13067"/>
                  <a:pt x="17441" y="13097"/>
                </a:cubicBezTo>
                <a:cubicBezTo>
                  <a:pt x="17434" y="13125"/>
                  <a:pt x="17424" y="13161"/>
                  <a:pt x="17440" y="13188"/>
                </a:cubicBezTo>
                <a:cubicBezTo>
                  <a:pt x="17458" y="13219"/>
                  <a:pt x="17507" y="13209"/>
                  <a:pt x="17534" y="13201"/>
                </a:cubicBezTo>
                <a:cubicBezTo>
                  <a:pt x="17605" y="13179"/>
                  <a:pt x="17667" y="13122"/>
                  <a:pt x="17716" y="13068"/>
                </a:cubicBezTo>
                <a:cubicBezTo>
                  <a:pt x="17706" y="13114"/>
                  <a:pt x="17688" y="13159"/>
                  <a:pt x="17676" y="13205"/>
                </a:cubicBezTo>
                <a:cubicBezTo>
                  <a:pt x="17659" y="13273"/>
                  <a:pt x="17646" y="13341"/>
                  <a:pt x="17648" y="13411"/>
                </a:cubicBezTo>
                <a:cubicBezTo>
                  <a:pt x="17649" y="13446"/>
                  <a:pt x="17653" y="13475"/>
                  <a:pt x="17662" y="1350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"/>
          <p:cNvSpPr/>
          <p:nvPr/>
        </p:nvSpPr>
        <p:spPr>
          <a:xfrm>
            <a:off x="6757920" y="4260960"/>
            <a:ext cx="220680" cy="102960"/>
          </a:xfrm>
          <a:custGeom>
            <a:avLst/>
            <a:gdLst/>
            <a:ahLst/>
            <a:rect l="l" t="t" r="r" b="b"/>
            <a:pathLst>
              <a:path w="609" h="287">
                <a:moveTo>
                  <a:pt x="18774" y="11888"/>
                </a:moveTo>
                <a:cubicBezTo>
                  <a:pt x="18798" y="11869"/>
                  <a:pt x="18838" y="11864"/>
                  <a:pt x="18872" y="11858"/>
                </a:cubicBezTo>
                <a:cubicBezTo>
                  <a:pt x="18951" y="11844"/>
                  <a:pt x="19034" y="11838"/>
                  <a:pt x="19114" y="11834"/>
                </a:cubicBezTo>
                <a:cubicBezTo>
                  <a:pt x="19174" y="11831"/>
                  <a:pt x="19233" y="11835"/>
                  <a:pt x="19292" y="11845"/>
                </a:cubicBezTo>
              </a:path>
              <a:path w="609" h="287">
                <a:moveTo>
                  <a:pt x="18888" y="12099"/>
                </a:moveTo>
                <a:cubicBezTo>
                  <a:pt x="18883" y="12104"/>
                  <a:pt x="18879" y="12109"/>
                  <a:pt x="18874" y="12114"/>
                </a:cubicBezTo>
                <a:cubicBezTo>
                  <a:pt x="18927" y="12118"/>
                  <a:pt x="18989" y="12101"/>
                  <a:pt x="19043" y="12090"/>
                </a:cubicBezTo>
                <a:cubicBezTo>
                  <a:pt x="19137" y="12072"/>
                  <a:pt x="19230" y="12054"/>
                  <a:pt x="19324" y="12037"/>
                </a:cubicBezTo>
                <a:cubicBezTo>
                  <a:pt x="19343" y="12033"/>
                  <a:pt x="19363" y="12030"/>
                  <a:pt x="19382" y="1202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7218360" y="4111560"/>
            <a:ext cx="192240" cy="468360"/>
          </a:xfrm>
          <a:custGeom>
            <a:avLst/>
            <a:gdLst/>
            <a:ahLst/>
            <a:rect l="l" t="t" r="r" b="b"/>
            <a:pathLst>
              <a:path w="530" h="1302">
                <a:moveTo>
                  <a:pt x="20339" y="11435"/>
                </a:moveTo>
                <a:cubicBezTo>
                  <a:pt x="20342" y="11430"/>
                  <a:pt x="20345" y="11426"/>
                  <a:pt x="20348" y="11421"/>
                </a:cubicBezTo>
                <a:cubicBezTo>
                  <a:pt x="20364" y="11435"/>
                  <a:pt x="20354" y="11482"/>
                  <a:pt x="20352" y="11507"/>
                </a:cubicBezTo>
                <a:cubicBezTo>
                  <a:pt x="20345" y="11583"/>
                  <a:pt x="20342" y="11658"/>
                  <a:pt x="20342" y="11734"/>
                </a:cubicBezTo>
                <a:cubicBezTo>
                  <a:pt x="20342" y="11781"/>
                  <a:pt x="20340" y="11829"/>
                  <a:pt x="20338" y="11876"/>
                </a:cubicBezTo>
              </a:path>
              <a:path w="530" h="1302">
                <a:moveTo>
                  <a:pt x="20053" y="12117"/>
                </a:moveTo>
                <a:cubicBezTo>
                  <a:pt x="20092" y="12086"/>
                  <a:pt x="20121" y="12061"/>
                  <a:pt x="20169" y="12045"/>
                </a:cubicBezTo>
                <a:cubicBezTo>
                  <a:pt x="20244" y="12019"/>
                  <a:pt x="20318" y="12006"/>
                  <a:pt x="20398" y="12002"/>
                </a:cubicBezTo>
                <a:cubicBezTo>
                  <a:pt x="20449" y="12001"/>
                  <a:pt x="20465" y="12001"/>
                  <a:pt x="20499" y="12004"/>
                </a:cubicBezTo>
              </a:path>
              <a:path w="530" h="1302">
                <a:moveTo>
                  <a:pt x="20278" y="12257"/>
                </a:moveTo>
                <a:cubicBezTo>
                  <a:pt x="20302" y="12256"/>
                  <a:pt x="20325" y="12249"/>
                  <a:pt x="20355" y="12243"/>
                </a:cubicBezTo>
                <a:cubicBezTo>
                  <a:pt x="20407" y="12232"/>
                  <a:pt x="20463" y="12225"/>
                  <a:pt x="20516" y="12235"/>
                </a:cubicBezTo>
                <a:cubicBezTo>
                  <a:pt x="20559" y="12243"/>
                  <a:pt x="20593" y="12268"/>
                  <a:pt x="20579" y="12316"/>
                </a:cubicBezTo>
                <a:cubicBezTo>
                  <a:pt x="20565" y="12367"/>
                  <a:pt x="20513" y="12410"/>
                  <a:pt x="20473" y="12442"/>
                </a:cubicBezTo>
                <a:cubicBezTo>
                  <a:pt x="20444" y="12465"/>
                  <a:pt x="20413" y="12483"/>
                  <a:pt x="20382" y="12502"/>
                </a:cubicBezTo>
                <a:cubicBezTo>
                  <a:pt x="20422" y="12505"/>
                  <a:pt x="20458" y="12507"/>
                  <a:pt x="20494" y="12527"/>
                </a:cubicBezTo>
                <a:cubicBezTo>
                  <a:pt x="20537" y="12551"/>
                  <a:pt x="20577" y="12600"/>
                  <a:pt x="20567" y="12652"/>
                </a:cubicBezTo>
                <a:cubicBezTo>
                  <a:pt x="20558" y="12701"/>
                  <a:pt x="20511" y="12715"/>
                  <a:pt x="20469" y="12720"/>
                </a:cubicBezTo>
                <a:cubicBezTo>
                  <a:pt x="20400" y="12729"/>
                  <a:pt x="20314" y="12714"/>
                  <a:pt x="20257" y="12672"/>
                </a:cubicBezTo>
                <a:cubicBezTo>
                  <a:pt x="20217" y="12642"/>
                  <a:pt x="20199" y="12605"/>
                  <a:pt x="20185" y="1256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"/>
          <p:cNvSpPr/>
          <p:nvPr/>
        </p:nvSpPr>
        <p:spPr>
          <a:xfrm>
            <a:off x="6977160" y="2644920"/>
            <a:ext cx="215640" cy="36360"/>
          </a:xfrm>
          <a:custGeom>
            <a:avLst/>
            <a:gdLst/>
            <a:ahLst/>
            <a:rect l="l" t="t" r="r" b="b"/>
            <a:pathLst>
              <a:path w="602" h="102">
                <a:moveTo>
                  <a:pt x="19391" y="7442"/>
                </a:moveTo>
                <a:cubicBezTo>
                  <a:pt x="19357" y="7463"/>
                  <a:pt x="19458" y="7423"/>
                  <a:pt x="19460" y="7423"/>
                </a:cubicBezTo>
                <a:cubicBezTo>
                  <a:pt x="19549" y="7403"/>
                  <a:pt x="19643" y="7389"/>
                  <a:pt x="19734" y="7377"/>
                </a:cubicBezTo>
                <a:cubicBezTo>
                  <a:pt x="19816" y="7367"/>
                  <a:pt x="19898" y="7357"/>
                  <a:pt x="19980" y="734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"/>
          <p:cNvSpPr/>
          <p:nvPr/>
        </p:nvSpPr>
        <p:spPr>
          <a:xfrm>
            <a:off x="7494480" y="2595600"/>
            <a:ext cx="223920" cy="9360"/>
          </a:xfrm>
          <a:custGeom>
            <a:avLst/>
            <a:gdLst/>
            <a:ahLst/>
            <a:rect l="l" t="t" r="r" b="b"/>
            <a:pathLst>
              <a:path w="620" h="24">
                <a:moveTo>
                  <a:pt x="20833" y="7234"/>
                </a:moveTo>
                <a:cubicBezTo>
                  <a:pt x="20826" y="7221"/>
                  <a:pt x="20904" y="7221"/>
                  <a:pt x="20937" y="7219"/>
                </a:cubicBezTo>
                <a:cubicBezTo>
                  <a:pt x="21035" y="7213"/>
                  <a:pt x="21130" y="7215"/>
                  <a:pt x="21228" y="7218"/>
                </a:cubicBezTo>
                <a:cubicBezTo>
                  <a:pt x="21298" y="7220"/>
                  <a:pt x="21369" y="7221"/>
                  <a:pt x="21439" y="722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"/>
          <p:cNvSpPr/>
          <p:nvPr/>
        </p:nvSpPr>
        <p:spPr>
          <a:xfrm>
            <a:off x="7977240" y="2606760"/>
            <a:ext cx="133200" cy="22320"/>
          </a:xfrm>
          <a:custGeom>
            <a:avLst/>
            <a:gdLst/>
            <a:ahLst/>
            <a:rect l="l" t="t" r="r" b="b"/>
            <a:pathLst>
              <a:path w="373" h="62">
                <a:moveTo>
                  <a:pt x="22158" y="7240"/>
                </a:moveTo>
                <a:cubicBezTo>
                  <a:pt x="22192" y="7255"/>
                  <a:pt x="22231" y="7251"/>
                  <a:pt x="22269" y="7252"/>
                </a:cubicBezTo>
                <a:cubicBezTo>
                  <a:pt x="22330" y="7253"/>
                  <a:pt x="22383" y="7263"/>
                  <a:pt x="22442" y="7277"/>
                </a:cubicBezTo>
                <a:cubicBezTo>
                  <a:pt x="22472" y="7284"/>
                  <a:pt x="22501" y="7292"/>
                  <a:pt x="22530" y="730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"/>
          <p:cNvSpPr/>
          <p:nvPr/>
        </p:nvSpPr>
        <p:spPr>
          <a:xfrm>
            <a:off x="8326440" y="2646360"/>
            <a:ext cx="162000" cy="12600"/>
          </a:xfrm>
          <a:custGeom>
            <a:avLst/>
            <a:gdLst/>
            <a:ahLst/>
            <a:rect l="l" t="t" r="r" b="b"/>
            <a:pathLst>
              <a:path w="450" h="39">
                <a:moveTo>
                  <a:pt x="23129" y="7349"/>
                </a:moveTo>
                <a:cubicBezTo>
                  <a:pt x="23170" y="7363"/>
                  <a:pt x="23218" y="7364"/>
                  <a:pt x="23262" y="7367"/>
                </a:cubicBezTo>
                <a:cubicBezTo>
                  <a:pt x="23350" y="7374"/>
                  <a:pt x="23439" y="7384"/>
                  <a:pt x="23527" y="7387"/>
                </a:cubicBezTo>
                <a:cubicBezTo>
                  <a:pt x="23544" y="7387"/>
                  <a:pt x="23561" y="7386"/>
                  <a:pt x="23578" y="738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"/>
          <p:cNvSpPr/>
          <p:nvPr/>
        </p:nvSpPr>
        <p:spPr>
          <a:xfrm>
            <a:off x="2438280" y="0"/>
            <a:ext cx="43610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0000"/>
                </a:solidFill>
                <a:latin typeface="Arial"/>
              </a:rPr>
              <a:t>More Probability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"/>
          <p:cNvSpPr/>
          <p:nvPr/>
        </p:nvSpPr>
        <p:spPr>
          <a:xfrm>
            <a:off x="537480" y="914400"/>
            <a:ext cx="162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pend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"/>
          <p:cNvSpPr/>
          <p:nvPr/>
        </p:nvSpPr>
        <p:spPr>
          <a:xfrm>
            <a:off x="613080" y="2286000"/>
            <a:ext cx="161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rnoulli tri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"/>
          <p:cNvSpPr/>
          <p:nvPr/>
        </p:nvSpPr>
        <p:spPr>
          <a:xfrm>
            <a:off x="613080" y="365760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rthday parad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>
            <a:off x="612000" y="5105520"/>
            <a:ext cx="179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yes Theor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>
            <a:off x="1771560" y="1457280"/>
            <a:ext cx="1944720" cy="277920"/>
          </a:xfrm>
          <a:custGeom>
            <a:avLst/>
            <a:gdLst/>
            <a:ahLst/>
            <a:rect l="l" t="t" r="r" b="b"/>
            <a:pathLst>
              <a:path w="5402" h="775">
                <a:moveTo>
                  <a:pt x="4940" y="4269"/>
                </a:moveTo>
                <a:cubicBezTo>
                  <a:pt x="4921" y="4221"/>
                  <a:pt x="4911" y="4175"/>
                  <a:pt x="4954" y="4132"/>
                </a:cubicBezTo>
                <a:cubicBezTo>
                  <a:pt x="5011" y="4075"/>
                  <a:pt x="5099" y="4054"/>
                  <a:pt x="5176" y="4047"/>
                </a:cubicBezTo>
                <a:cubicBezTo>
                  <a:pt x="5251" y="4041"/>
                  <a:pt x="5313" y="4060"/>
                  <a:pt x="5382" y="4086"/>
                </a:cubicBezTo>
              </a:path>
              <a:path w="5402" h="775">
                <a:moveTo>
                  <a:pt x="10118" y="4139"/>
                </a:moveTo>
                <a:cubicBezTo>
                  <a:pt x="10150" y="4107"/>
                  <a:pt x="10171" y="4125"/>
                  <a:pt x="10199" y="4161"/>
                </a:cubicBezTo>
                <a:cubicBezTo>
                  <a:pt x="10257" y="4235"/>
                  <a:pt x="10292" y="4337"/>
                  <a:pt x="10309" y="4429"/>
                </a:cubicBezTo>
                <a:cubicBezTo>
                  <a:pt x="10328" y="4532"/>
                  <a:pt x="10328" y="4638"/>
                  <a:pt x="10300" y="4738"/>
                </a:cubicBezTo>
                <a:cubicBezTo>
                  <a:pt x="10298" y="4744"/>
                  <a:pt x="10263" y="4857"/>
                  <a:pt x="10230" y="4814"/>
                </a:cubicBezTo>
                <a:cubicBezTo>
                  <a:pt x="10227" y="4806"/>
                  <a:pt x="10225" y="4798"/>
                  <a:pt x="10222" y="479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"/>
          <p:cNvSpPr/>
          <p:nvPr/>
        </p:nvSpPr>
        <p:spPr>
          <a:xfrm>
            <a:off x="1181160" y="1427040"/>
            <a:ext cx="716040" cy="351000"/>
          </a:xfrm>
          <a:custGeom>
            <a:avLst/>
            <a:gdLst/>
            <a:ahLst/>
            <a:rect l="l" t="t" r="r" b="b"/>
            <a:pathLst>
              <a:path w="1985" h="973">
                <a:moveTo>
                  <a:pt x="3345" y="4328"/>
                </a:moveTo>
                <a:cubicBezTo>
                  <a:pt x="3312" y="4355"/>
                  <a:pt x="3306" y="4367"/>
                  <a:pt x="3294" y="4419"/>
                </a:cubicBezTo>
                <a:cubicBezTo>
                  <a:pt x="3274" y="4504"/>
                  <a:pt x="3288" y="4594"/>
                  <a:pt x="3298" y="4680"/>
                </a:cubicBezTo>
                <a:cubicBezTo>
                  <a:pt x="3307" y="4759"/>
                  <a:pt x="3323" y="4840"/>
                  <a:pt x="3326" y="4919"/>
                </a:cubicBezTo>
                <a:cubicBezTo>
                  <a:pt x="3328" y="4939"/>
                  <a:pt x="3328" y="4943"/>
                  <a:pt x="3323" y="4912"/>
                </a:cubicBezTo>
                <a:cubicBezTo>
                  <a:pt x="3313" y="4814"/>
                  <a:pt x="3306" y="4716"/>
                  <a:pt x="3304" y="4618"/>
                </a:cubicBezTo>
                <a:cubicBezTo>
                  <a:pt x="3301" y="4439"/>
                  <a:pt x="3285" y="4229"/>
                  <a:pt x="3345" y="4057"/>
                </a:cubicBezTo>
                <a:cubicBezTo>
                  <a:pt x="3367" y="3994"/>
                  <a:pt x="3416" y="3958"/>
                  <a:pt x="3479" y="3995"/>
                </a:cubicBezTo>
                <a:cubicBezTo>
                  <a:pt x="3558" y="4041"/>
                  <a:pt x="3607" y="4133"/>
                  <a:pt x="3637" y="4215"/>
                </a:cubicBezTo>
                <a:cubicBezTo>
                  <a:pt x="3671" y="4309"/>
                  <a:pt x="3676" y="4413"/>
                  <a:pt x="3627" y="4503"/>
                </a:cubicBezTo>
                <a:cubicBezTo>
                  <a:pt x="3586" y="4579"/>
                  <a:pt x="3492" y="4632"/>
                  <a:pt x="3408" y="4600"/>
                </a:cubicBezTo>
                <a:cubicBezTo>
                  <a:pt x="3329" y="4570"/>
                  <a:pt x="3381" y="4490"/>
                  <a:pt x="3410" y="4448"/>
                </a:cubicBezTo>
              </a:path>
              <a:path w="1985" h="973">
                <a:moveTo>
                  <a:pt x="3776" y="4545"/>
                </a:moveTo>
                <a:cubicBezTo>
                  <a:pt x="3778" y="4607"/>
                  <a:pt x="3768" y="4661"/>
                  <a:pt x="3761" y="4722"/>
                </a:cubicBezTo>
                <a:cubicBezTo>
                  <a:pt x="3755" y="4776"/>
                  <a:pt x="3748" y="4830"/>
                  <a:pt x="3741" y="4884"/>
                </a:cubicBezTo>
                <a:cubicBezTo>
                  <a:pt x="3740" y="4889"/>
                  <a:pt x="3740" y="4894"/>
                  <a:pt x="3739" y="4899"/>
                </a:cubicBezTo>
                <a:cubicBezTo>
                  <a:pt x="3747" y="4849"/>
                  <a:pt x="3754" y="4799"/>
                  <a:pt x="3765" y="4749"/>
                </a:cubicBezTo>
                <a:cubicBezTo>
                  <a:pt x="3783" y="4663"/>
                  <a:pt x="3801" y="4572"/>
                  <a:pt x="3836" y="4490"/>
                </a:cubicBezTo>
                <a:cubicBezTo>
                  <a:pt x="3863" y="4427"/>
                  <a:pt x="3900" y="4378"/>
                  <a:pt x="3964" y="4355"/>
                </a:cubicBezTo>
                <a:cubicBezTo>
                  <a:pt x="4019" y="4335"/>
                  <a:pt x="4082" y="4359"/>
                  <a:pt x="4136" y="4373"/>
                </a:cubicBezTo>
                <a:cubicBezTo>
                  <a:pt x="4150" y="4377"/>
                  <a:pt x="4164" y="4380"/>
                  <a:pt x="4178" y="4384"/>
                </a:cubicBezTo>
              </a:path>
              <a:path w="1985" h="973">
                <a:moveTo>
                  <a:pt x="4463" y="4082"/>
                </a:moveTo>
                <a:cubicBezTo>
                  <a:pt x="4474" y="4044"/>
                  <a:pt x="4485" y="4006"/>
                  <a:pt x="4495" y="3968"/>
                </a:cubicBezTo>
                <a:cubicBezTo>
                  <a:pt x="4479" y="3993"/>
                  <a:pt x="4455" y="4051"/>
                  <a:pt x="4441" y="4092"/>
                </a:cubicBezTo>
                <a:cubicBezTo>
                  <a:pt x="4402" y="4211"/>
                  <a:pt x="4369" y="4336"/>
                  <a:pt x="4354" y="4461"/>
                </a:cubicBezTo>
                <a:cubicBezTo>
                  <a:pt x="4340" y="4578"/>
                  <a:pt x="4334" y="4708"/>
                  <a:pt x="4373" y="4821"/>
                </a:cubicBezTo>
                <a:cubicBezTo>
                  <a:pt x="4392" y="4876"/>
                  <a:pt x="4413" y="4888"/>
                  <a:pt x="4460" y="4909"/>
                </a:cubicBezTo>
              </a:path>
              <a:path w="1985" h="973">
                <a:moveTo>
                  <a:pt x="4770" y="4198"/>
                </a:moveTo>
                <a:cubicBezTo>
                  <a:pt x="4782" y="4179"/>
                  <a:pt x="4784" y="4177"/>
                  <a:pt x="4798" y="4164"/>
                </a:cubicBezTo>
                <a:cubicBezTo>
                  <a:pt x="4825" y="4228"/>
                  <a:pt x="4825" y="4289"/>
                  <a:pt x="4826" y="4360"/>
                </a:cubicBezTo>
                <a:cubicBezTo>
                  <a:pt x="4827" y="4466"/>
                  <a:pt x="4815" y="4572"/>
                  <a:pt x="4797" y="4676"/>
                </a:cubicBezTo>
                <a:cubicBezTo>
                  <a:pt x="4790" y="4717"/>
                  <a:pt x="4755" y="4793"/>
                  <a:pt x="4768" y="4836"/>
                </a:cubicBezTo>
                <a:cubicBezTo>
                  <a:pt x="4771" y="4839"/>
                  <a:pt x="4774" y="4842"/>
                  <a:pt x="4777" y="4845"/>
                </a:cubicBezTo>
                <a:cubicBezTo>
                  <a:pt x="4822" y="4842"/>
                  <a:pt x="4861" y="4828"/>
                  <a:pt x="4904" y="4817"/>
                </a:cubicBezTo>
                <a:cubicBezTo>
                  <a:pt x="4974" y="4799"/>
                  <a:pt x="5043" y="4777"/>
                  <a:pt x="5112" y="4758"/>
                </a:cubicBezTo>
                <a:cubicBezTo>
                  <a:pt x="5151" y="4748"/>
                  <a:pt x="5210" y="4741"/>
                  <a:pt x="5224" y="4694"/>
                </a:cubicBezTo>
                <a:cubicBezTo>
                  <a:pt x="5224" y="4686"/>
                  <a:pt x="5224" y="4678"/>
                  <a:pt x="5224" y="4670"/>
                </a:cubicBezTo>
              </a:path>
              <a:path w="1985" h="973">
                <a:moveTo>
                  <a:pt x="4981" y="4524"/>
                </a:moveTo>
                <a:cubicBezTo>
                  <a:pt x="4973" y="4522"/>
                  <a:pt x="4966" y="4521"/>
                  <a:pt x="4958" y="4519"/>
                </a:cubicBezTo>
                <a:cubicBezTo>
                  <a:pt x="4991" y="4493"/>
                  <a:pt x="5046" y="4493"/>
                  <a:pt x="5092" y="4491"/>
                </a:cubicBezTo>
                <a:cubicBezTo>
                  <a:pt x="5145" y="4488"/>
                  <a:pt x="5202" y="4492"/>
                  <a:pt x="5254" y="4477"/>
                </a:cubicBezTo>
                <a:cubicBezTo>
                  <a:pt x="5258" y="4475"/>
                  <a:pt x="5263" y="4472"/>
                  <a:pt x="5267" y="447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"/>
          <p:cNvSpPr/>
          <p:nvPr/>
        </p:nvSpPr>
        <p:spPr>
          <a:xfrm>
            <a:off x="2013120" y="1554120"/>
            <a:ext cx="134640" cy="208080"/>
          </a:xfrm>
          <a:custGeom>
            <a:avLst/>
            <a:gdLst/>
            <a:ahLst/>
            <a:rect l="l" t="t" r="r" b="b"/>
            <a:pathLst>
              <a:path w="372" h="580">
                <a:moveTo>
                  <a:pt x="5593" y="4754"/>
                </a:moveTo>
                <a:cubicBezTo>
                  <a:pt x="5603" y="4742"/>
                  <a:pt x="5599" y="4745"/>
                  <a:pt x="5599" y="4730"/>
                </a:cubicBezTo>
                <a:cubicBezTo>
                  <a:pt x="5599" y="4708"/>
                  <a:pt x="5601" y="4686"/>
                  <a:pt x="5604" y="4664"/>
                </a:cubicBezTo>
                <a:cubicBezTo>
                  <a:pt x="5616" y="4576"/>
                  <a:pt x="5649" y="4481"/>
                  <a:pt x="5695" y="4405"/>
                </a:cubicBezTo>
                <a:cubicBezTo>
                  <a:pt x="5716" y="4370"/>
                  <a:pt x="5746" y="4328"/>
                  <a:pt x="5788" y="4318"/>
                </a:cubicBezTo>
                <a:cubicBezTo>
                  <a:pt x="5820" y="4310"/>
                  <a:pt x="5848" y="4330"/>
                  <a:pt x="5866" y="4355"/>
                </a:cubicBezTo>
                <a:cubicBezTo>
                  <a:pt x="5915" y="4422"/>
                  <a:pt x="5927" y="4527"/>
                  <a:pt x="5935" y="4607"/>
                </a:cubicBezTo>
                <a:cubicBezTo>
                  <a:pt x="5942" y="4673"/>
                  <a:pt x="5945" y="4740"/>
                  <a:pt x="5949" y="4806"/>
                </a:cubicBezTo>
                <a:cubicBezTo>
                  <a:pt x="5951" y="4836"/>
                  <a:pt x="5955" y="4865"/>
                  <a:pt x="5960" y="4895"/>
                </a:cubicBezTo>
                <a:cubicBezTo>
                  <a:pt x="5965" y="4869"/>
                  <a:pt x="5962" y="4846"/>
                  <a:pt x="5959" y="481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"/>
          <p:cNvSpPr/>
          <p:nvPr/>
        </p:nvSpPr>
        <p:spPr>
          <a:xfrm>
            <a:off x="2266920" y="1469880"/>
            <a:ext cx="281160" cy="322560"/>
          </a:xfrm>
          <a:custGeom>
            <a:avLst/>
            <a:gdLst/>
            <a:ahLst/>
            <a:rect l="l" t="t" r="r" b="b"/>
            <a:pathLst>
              <a:path w="781" h="894">
                <a:moveTo>
                  <a:pt x="6357" y="4221"/>
                </a:moveTo>
                <a:cubicBezTo>
                  <a:pt x="6350" y="4204"/>
                  <a:pt x="6348" y="4200"/>
                  <a:pt x="6346" y="4188"/>
                </a:cubicBezTo>
                <a:cubicBezTo>
                  <a:pt x="6355" y="4244"/>
                  <a:pt x="6360" y="4300"/>
                  <a:pt x="6366" y="4357"/>
                </a:cubicBezTo>
                <a:cubicBezTo>
                  <a:pt x="6378" y="4475"/>
                  <a:pt x="6389" y="4592"/>
                  <a:pt x="6398" y="4710"/>
                </a:cubicBezTo>
                <a:cubicBezTo>
                  <a:pt x="6398" y="4716"/>
                  <a:pt x="6417" y="4900"/>
                  <a:pt x="6420" y="4899"/>
                </a:cubicBezTo>
                <a:cubicBezTo>
                  <a:pt x="6424" y="4876"/>
                  <a:pt x="6424" y="4867"/>
                  <a:pt x="6422" y="4850"/>
                </a:cubicBezTo>
              </a:path>
              <a:path w="781" h="894">
                <a:moveTo>
                  <a:pt x="6299" y="4246"/>
                </a:moveTo>
                <a:cubicBezTo>
                  <a:pt x="6306" y="4215"/>
                  <a:pt x="6345" y="4209"/>
                  <a:pt x="6378" y="4201"/>
                </a:cubicBezTo>
                <a:cubicBezTo>
                  <a:pt x="6447" y="4184"/>
                  <a:pt x="6517" y="4175"/>
                  <a:pt x="6587" y="4167"/>
                </a:cubicBezTo>
                <a:cubicBezTo>
                  <a:pt x="6615" y="4164"/>
                  <a:pt x="6697" y="4146"/>
                  <a:pt x="6710" y="4190"/>
                </a:cubicBezTo>
                <a:cubicBezTo>
                  <a:pt x="6709" y="4198"/>
                  <a:pt x="6708" y="4205"/>
                  <a:pt x="6707" y="4213"/>
                </a:cubicBezTo>
              </a:path>
              <a:path w="781" h="894">
                <a:moveTo>
                  <a:pt x="6430" y="4593"/>
                </a:moveTo>
                <a:cubicBezTo>
                  <a:pt x="6428" y="4600"/>
                  <a:pt x="6425" y="4608"/>
                  <a:pt x="6423" y="4615"/>
                </a:cubicBezTo>
                <a:cubicBezTo>
                  <a:pt x="6466" y="4621"/>
                  <a:pt x="6510" y="4592"/>
                  <a:pt x="6554" y="4571"/>
                </a:cubicBezTo>
                <a:cubicBezTo>
                  <a:pt x="6615" y="4543"/>
                  <a:pt x="6678" y="4521"/>
                  <a:pt x="6735" y="4485"/>
                </a:cubicBezTo>
                <a:cubicBezTo>
                  <a:pt x="6763" y="4465"/>
                  <a:pt x="6772" y="4459"/>
                  <a:pt x="6786" y="4441"/>
                </a:cubicBezTo>
              </a:path>
              <a:path w="781" h="894">
                <a:moveTo>
                  <a:pt x="6836" y="4083"/>
                </a:moveTo>
                <a:cubicBezTo>
                  <a:pt x="6891" y="4102"/>
                  <a:pt x="6907" y="4140"/>
                  <a:pt x="6934" y="4191"/>
                </a:cubicBezTo>
                <a:cubicBezTo>
                  <a:pt x="6993" y="4304"/>
                  <a:pt x="7022" y="4422"/>
                  <a:pt x="7048" y="4546"/>
                </a:cubicBezTo>
                <a:cubicBezTo>
                  <a:pt x="7070" y="4652"/>
                  <a:pt x="7090" y="4769"/>
                  <a:pt x="7075" y="4878"/>
                </a:cubicBezTo>
                <a:cubicBezTo>
                  <a:pt x="7069" y="4921"/>
                  <a:pt x="7053" y="4945"/>
                  <a:pt x="7028" y="497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"/>
          <p:cNvSpPr/>
          <p:nvPr/>
        </p:nvSpPr>
        <p:spPr>
          <a:xfrm>
            <a:off x="2693880" y="1441440"/>
            <a:ext cx="901800" cy="290520"/>
          </a:xfrm>
          <a:custGeom>
            <a:avLst/>
            <a:gdLst/>
            <a:ahLst/>
            <a:rect l="l" t="t" r="r" b="b"/>
            <a:pathLst>
              <a:path w="2506" h="806">
                <a:moveTo>
                  <a:pt x="7508" y="4382"/>
                </a:moveTo>
                <a:cubicBezTo>
                  <a:pt x="7495" y="4390"/>
                  <a:pt x="7490" y="4392"/>
                  <a:pt x="7483" y="4399"/>
                </a:cubicBezTo>
                <a:cubicBezTo>
                  <a:pt x="7521" y="4406"/>
                  <a:pt x="7567" y="4397"/>
                  <a:pt x="7606" y="4394"/>
                </a:cubicBezTo>
                <a:cubicBezTo>
                  <a:pt x="7670" y="4389"/>
                  <a:pt x="7741" y="4387"/>
                  <a:pt x="7804" y="4399"/>
                </a:cubicBezTo>
                <a:cubicBezTo>
                  <a:pt x="7831" y="4407"/>
                  <a:pt x="7838" y="4408"/>
                  <a:pt x="7852" y="4420"/>
                </a:cubicBezTo>
              </a:path>
              <a:path w="2506" h="806">
                <a:moveTo>
                  <a:pt x="7677" y="4594"/>
                </a:moveTo>
                <a:cubicBezTo>
                  <a:pt x="7656" y="4605"/>
                  <a:pt x="7652" y="4607"/>
                  <a:pt x="7640" y="4616"/>
                </a:cubicBezTo>
                <a:cubicBezTo>
                  <a:pt x="7691" y="4593"/>
                  <a:pt x="7740" y="4586"/>
                  <a:pt x="7795" y="4577"/>
                </a:cubicBezTo>
                <a:cubicBezTo>
                  <a:pt x="7877" y="4564"/>
                  <a:pt x="7960" y="4552"/>
                  <a:pt x="8042" y="4540"/>
                </a:cubicBezTo>
              </a:path>
              <a:path w="2506" h="806">
                <a:moveTo>
                  <a:pt x="8318" y="4260"/>
                </a:moveTo>
                <a:cubicBezTo>
                  <a:pt x="8322" y="4309"/>
                  <a:pt x="8328" y="4356"/>
                  <a:pt x="8334" y="4404"/>
                </a:cubicBezTo>
                <a:cubicBezTo>
                  <a:pt x="8346" y="4501"/>
                  <a:pt x="8362" y="4602"/>
                  <a:pt x="8355" y="4700"/>
                </a:cubicBezTo>
                <a:cubicBezTo>
                  <a:pt x="8352" y="4726"/>
                  <a:pt x="8352" y="4733"/>
                  <a:pt x="8344" y="4747"/>
                </a:cubicBezTo>
                <a:cubicBezTo>
                  <a:pt x="8325" y="4714"/>
                  <a:pt x="8313" y="4680"/>
                  <a:pt x="8308" y="4635"/>
                </a:cubicBezTo>
                <a:cubicBezTo>
                  <a:pt x="8292" y="4501"/>
                  <a:pt x="8301" y="4359"/>
                  <a:pt x="8326" y="4227"/>
                </a:cubicBezTo>
                <a:cubicBezTo>
                  <a:pt x="8338" y="4164"/>
                  <a:pt x="8353" y="4048"/>
                  <a:pt x="8415" y="4009"/>
                </a:cubicBezTo>
                <a:cubicBezTo>
                  <a:pt x="8424" y="4008"/>
                  <a:pt x="8432" y="4006"/>
                  <a:pt x="8441" y="4005"/>
                </a:cubicBezTo>
                <a:cubicBezTo>
                  <a:pt x="8495" y="4054"/>
                  <a:pt x="8507" y="4107"/>
                  <a:pt x="8513" y="4182"/>
                </a:cubicBezTo>
                <a:cubicBezTo>
                  <a:pt x="8521" y="4278"/>
                  <a:pt x="8509" y="4376"/>
                  <a:pt x="8471" y="4465"/>
                </a:cubicBezTo>
                <a:cubicBezTo>
                  <a:pt x="8455" y="4503"/>
                  <a:pt x="8415" y="4580"/>
                  <a:pt x="8362" y="4580"/>
                </a:cubicBezTo>
                <a:cubicBezTo>
                  <a:pt x="8321" y="4580"/>
                  <a:pt x="8346" y="4507"/>
                  <a:pt x="8350" y="4493"/>
                </a:cubicBezTo>
              </a:path>
              <a:path w="2506" h="806">
                <a:moveTo>
                  <a:pt x="8669" y="4541"/>
                </a:moveTo>
                <a:cubicBezTo>
                  <a:pt x="8690" y="4592"/>
                  <a:pt x="8710" y="4645"/>
                  <a:pt x="8712" y="4700"/>
                </a:cubicBezTo>
                <a:cubicBezTo>
                  <a:pt x="8711" y="4705"/>
                  <a:pt x="8710" y="4709"/>
                  <a:pt x="8709" y="4714"/>
                </a:cubicBezTo>
                <a:cubicBezTo>
                  <a:pt x="8691" y="4677"/>
                  <a:pt x="8688" y="4638"/>
                  <a:pt x="8687" y="4595"/>
                </a:cubicBezTo>
                <a:cubicBezTo>
                  <a:pt x="8685" y="4534"/>
                  <a:pt x="8690" y="4471"/>
                  <a:pt x="8721" y="4417"/>
                </a:cubicBezTo>
                <a:cubicBezTo>
                  <a:pt x="8752" y="4363"/>
                  <a:pt x="8798" y="4342"/>
                  <a:pt x="8856" y="4328"/>
                </a:cubicBezTo>
                <a:cubicBezTo>
                  <a:pt x="8916" y="4313"/>
                  <a:pt x="8983" y="4324"/>
                  <a:pt x="9045" y="4331"/>
                </a:cubicBezTo>
                <a:cubicBezTo>
                  <a:pt x="9084" y="4337"/>
                  <a:pt x="9096" y="4339"/>
                  <a:pt x="9122" y="4340"/>
                </a:cubicBezTo>
              </a:path>
              <a:path w="2506" h="806">
                <a:moveTo>
                  <a:pt x="9353" y="4193"/>
                </a:moveTo>
                <a:cubicBezTo>
                  <a:pt x="9355" y="4164"/>
                  <a:pt x="9354" y="4145"/>
                  <a:pt x="9345" y="4117"/>
                </a:cubicBezTo>
                <a:cubicBezTo>
                  <a:pt x="9337" y="4153"/>
                  <a:pt x="9333" y="4191"/>
                  <a:pt x="9326" y="4228"/>
                </a:cubicBezTo>
                <a:cubicBezTo>
                  <a:pt x="9310" y="4309"/>
                  <a:pt x="9291" y="4389"/>
                  <a:pt x="9276" y="4470"/>
                </a:cubicBezTo>
                <a:cubicBezTo>
                  <a:pt x="9262" y="4544"/>
                  <a:pt x="9248" y="4621"/>
                  <a:pt x="9262" y="4696"/>
                </a:cubicBezTo>
                <a:cubicBezTo>
                  <a:pt x="9271" y="4742"/>
                  <a:pt x="9294" y="4791"/>
                  <a:pt x="9342" y="4805"/>
                </a:cubicBezTo>
                <a:cubicBezTo>
                  <a:pt x="9373" y="4814"/>
                  <a:pt x="9396" y="4799"/>
                  <a:pt x="9422" y="4787"/>
                </a:cubicBezTo>
              </a:path>
              <a:path w="2506" h="806">
                <a:moveTo>
                  <a:pt x="9596" y="4262"/>
                </a:moveTo>
                <a:cubicBezTo>
                  <a:pt x="9607" y="4312"/>
                  <a:pt x="9600" y="4360"/>
                  <a:pt x="9595" y="4412"/>
                </a:cubicBezTo>
                <a:cubicBezTo>
                  <a:pt x="9587" y="4495"/>
                  <a:pt x="9581" y="4578"/>
                  <a:pt x="9579" y="4662"/>
                </a:cubicBezTo>
                <a:cubicBezTo>
                  <a:pt x="9578" y="4701"/>
                  <a:pt x="9569" y="4773"/>
                  <a:pt x="9602" y="4804"/>
                </a:cubicBezTo>
                <a:cubicBezTo>
                  <a:pt x="9625" y="4826"/>
                  <a:pt x="9669" y="4793"/>
                  <a:pt x="9688" y="4782"/>
                </a:cubicBezTo>
                <a:cubicBezTo>
                  <a:pt x="9723" y="4763"/>
                  <a:pt x="9766" y="4734"/>
                  <a:pt x="9792" y="4704"/>
                </a:cubicBezTo>
                <a:cubicBezTo>
                  <a:pt x="9809" y="4685"/>
                  <a:pt x="9817" y="4666"/>
                  <a:pt x="9824" y="4643"/>
                </a:cubicBezTo>
              </a:path>
              <a:path w="2506" h="806">
                <a:moveTo>
                  <a:pt x="9615" y="4546"/>
                </a:moveTo>
                <a:cubicBezTo>
                  <a:pt x="9645" y="4526"/>
                  <a:pt x="9680" y="4514"/>
                  <a:pt x="9715" y="4502"/>
                </a:cubicBezTo>
                <a:cubicBezTo>
                  <a:pt x="9762" y="4486"/>
                  <a:pt x="9812" y="4478"/>
                  <a:pt x="9857" y="4458"/>
                </a:cubicBezTo>
                <a:cubicBezTo>
                  <a:pt x="9875" y="4449"/>
                  <a:pt x="9881" y="4448"/>
                  <a:pt x="9881" y="4434"/>
                </a:cubicBezTo>
              </a:path>
              <a:path w="2506" h="806">
                <a:moveTo>
                  <a:pt x="9629" y="4299"/>
                </a:moveTo>
                <a:cubicBezTo>
                  <a:pt x="9647" y="4258"/>
                  <a:pt x="9674" y="4255"/>
                  <a:pt x="9711" y="4232"/>
                </a:cubicBezTo>
                <a:cubicBezTo>
                  <a:pt x="9764" y="4200"/>
                  <a:pt x="9826" y="4171"/>
                  <a:pt x="9889" y="4164"/>
                </a:cubicBezTo>
                <a:cubicBezTo>
                  <a:pt x="9936" y="4159"/>
                  <a:pt x="9961" y="4175"/>
                  <a:pt x="9988" y="420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"/>
          <p:cNvSpPr/>
          <p:nvPr/>
        </p:nvSpPr>
        <p:spPr>
          <a:xfrm>
            <a:off x="3816360" y="1452600"/>
            <a:ext cx="692280" cy="288720"/>
          </a:xfrm>
          <a:custGeom>
            <a:avLst/>
            <a:gdLst/>
            <a:ahLst/>
            <a:rect l="l" t="t" r="r" b="b"/>
            <a:pathLst>
              <a:path w="1920" h="806">
                <a:moveTo>
                  <a:pt x="10608" y="4144"/>
                </a:moveTo>
                <a:cubicBezTo>
                  <a:pt x="10629" y="4187"/>
                  <a:pt x="10630" y="4217"/>
                  <a:pt x="10637" y="4268"/>
                </a:cubicBezTo>
                <a:cubicBezTo>
                  <a:pt x="10651" y="4372"/>
                  <a:pt x="10662" y="4476"/>
                  <a:pt x="10673" y="4581"/>
                </a:cubicBezTo>
                <a:cubicBezTo>
                  <a:pt x="10680" y="4645"/>
                  <a:pt x="10698" y="4723"/>
                  <a:pt x="10692" y="4787"/>
                </a:cubicBezTo>
                <a:cubicBezTo>
                  <a:pt x="10690" y="4791"/>
                  <a:pt x="10688" y="4794"/>
                  <a:pt x="10686" y="4798"/>
                </a:cubicBezTo>
                <a:cubicBezTo>
                  <a:pt x="10667" y="4763"/>
                  <a:pt x="10660" y="4725"/>
                  <a:pt x="10651" y="4686"/>
                </a:cubicBezTo>
                <a:cubicBezTo>
                  <a:pt x="10635" y="4619"/>
                  <a:pt x="10624" y="4551"/>
                  <a:pt x="10618" y="4482"/>
                </a:cubicBezTo>
                <a:cubicBezTo>
                  <a:pt x="10612" y="4416"/>
                  <a:pt x="10603" y="4347"/>
                  <a:pt x="10603" y="4281"/>
                </a:cubicBezTo>
                <a:cubicBezTo>
                  <a:pt x="10603" y="4234"/>
                  <a:pt x="10601" y="4172"/>
                  <a:pt x="10620" y="4128"/>
                </a:cubicBezTo>
                <a:cubicBezTo>
                  <a:pt x="10638" y="4086"/>
                  <a:pt x="10675" y="4047"/>
                  <a:pt x="10721" y="4036"/>
                </a:cubicBezTo>
                <a:cubicBezTo>
                  <a:pt x="10781" y="4022"/>
                  <a:pt x="10846" y="4047"/>
                  <a:pt x="10890" y="4088"/>
                </a:cubicBezTo>
                <a:cubicBezTo>
                  <a:pt x="10947" y="4141"/>
                  <a:pt x="10981" y="4219"/>
                  <a:pt x="10990" y="4295"/>
                </a:cubicBezTo>
                <a:cubicBezTo>
                  <a:pt x="11000" y="4373"/>
                  <a:pt x="10979" y="4459"/>
                  <a:pt x="10904" y="4499"/>
                </a:cubicBezTo>
                <a:cubicBezTo>
                  <a:pt x="10868" y="4518"/>
                  <a:pt x="10808" y="4519"/>
                  <a:pt x="10775" y="4494"/>
                </a:cubicBezTo>
                <a:cubicBezTo>
                  <a:pt x="10746" y="4472"/>
                  <a:pt x="10747" y="4445"/>
                  <a:pt x="10742" y="4413"/>
                </a:cubicBezTo>
              </a:path>
              <a:path w="1920" h="806">
                <a:moveTo>
                  <a:pt x="11098" y="4444"/>
                </a:moveTo>
                <a:cubicBezTo>
                  <a:pt x="11123" y="4496"/>
                  <a:pt x="11143" y="4547"/>
                  <a:pt x="11146" y="4605"/>
                </a:cubicBezTo>
                <a:cubicBezTo>
                  <a:pt x="11148" y="4647"/>
                  <a:pt x="11147" y="4697"/>
                  <a:pt x="11137" y="4738"/>
                </a:cubicBezTo>
                <a:cubicBezTo>
                  <a:pt x="11135" y="4743"/>
                  <a:pt x="11133" y="4748"/>
                  <a:pt x="11131" y="4753"/>
                </a:cubicBezTo>
                <a:cubicBezTo>
                  <a:pt x="11112" y="4732"/>
                  <a:pt x="11115" y="4699"/>
                  <a:pt x="11118" y="4669"/>
                </a:cubicBezTo>
                <a:cubicBezTo>
                  <a:pt x="11122" y="4621"/>
                  <a:pt x="11132" y="4568"/>
                  <a:pt x="11153" y="4525"/>
                </a:cubicBezTo>
                <a:cubicBezTo>
                  <a:pt x="11170" y="4490"/>
                  <a:pt x="11200" y="4455"/>
                  <a:pt x="11235" y="4437"/>
                </a:cubicBezTo>
                <a:cubicBezTo>
                  <a:pt x="11281" y="4414"/>
                  <a:pt x="11340" y="4406"/>
                  <a:pt x="11389" y="4393"/>
                </a:cubicBezTo>
              </a:path>
              <a:path w="1920" h="806">
                <a:moveTo>
                  <a:pt x="11654" y="4165"/>
                </a:moveTo>
                <a:cubicBezTo>
                  <a:pt x="11657" y="4149"/>
                  <a:pt x="11659" y="4137"/>
                  <a:pt x="11659" y="4121"/>
                </a:cubicBezTo>
                <a:cubicBezTo>
                  <a:pt x="11634" y="4172"/>
                  <a:pt x="11616" y="4222"/>
                  <a:pt x="11601" y="4277"/>
                </a:cubicBezTo>
                <a:cubicBezTo>
                  <a:pt x="11577" y="4364"/>
                  <a:pt x="11560" y="4449"/>
                  <a:pt x="11553" y="4539"/>
                </a:cubicBezTo>
                <a:cubicBezTo>
                  <a:pt x="11548" y="4601"/>
                  <a:pt x="11550" y="4678"/>
                  <a:pt x="11590" y="4730"/>
                </a:cubicBezTo>
                <a:cubicBezTo>
                  <a:pt x="11614" y="4751"/>
                  <a:pt x="11622" y="4758"/>
                  <a:pt x="11643" y="4764"/>
                </a:cubicBezTo>
              </a:path>
              <a:path w="1920" h="806">
                <a:moveTo>
                  <a:pt x="11923" y="4246"/>
                </a:moveTo>
                <a:cubicBezTo>
                  <a:pt x="11918" y="4222"/>
                  <a:pt x="11917" y="4216"/>
                  <a:pt x="11910" y="4202"/>
                </a:cubicBezTo>
                <a:cubicBezTo>
                  <a:pt x="11889" y="4204"/>
                  <a:pt x="11879" y="4239"/>
                  <a:pt x="11872" y="4264"/>
                </a:cubicBezTo>
                <a:cubicBezTo>
                  <a:pt x="11838" y="4383"/>
                  <a:pt x="11813" y="4537"/>
                  <a:pt x="11833" y="4660"/>
                </a:cubicBezTo>
                <a:cubicBezTo>
                  <a:pt x="11838" y="4693"/>
                  <a:pt x="11849" y="4726"/>
                  <a:pt x="11856" y="4759"/>
                </a:cubicBezTo>
              </a:path>
              <a:path w="1920" h="806">
                <a:moveTo>
                  <a:pt x="11859" y="4258"/>
                </a:moveTo>
                <a:cubicBezTo>
                  <a:pt x="11864" y="4223"/>
                  <a:pt x="11881" y="4220"/>
                  <a:pt x="11914" y="4208"/>
                </a:cubicBezTo>
                <a:cubicBezTo>
                  <a:pt x="11961" y="4191"/>
                  <a:pt x="12015" y="4181"/>
                  <a:pt x="12066" y="4185"/>
                </a:cubicBezTo>
                <a:cubicBezTo>
                  <a:pt x="12100" y="4187"/>
                  <a:pt x="12162" y="4198"/>
                  <a:pt x="12181" y="4232"/>
                </a:cubicBezTo>
                <a:cubicBezTo>
                  <a:pt x="12182" y="4238"/>
                  <a:pt x="12183" y="4245"/>
                  <a:pt x="12184" y="4251"/>
                </a:cubicBezTo>
              </a:path>
              <a:path w="1920" h="806">
                <a:moveTo>
                  <a:pt x="11840" y="4511"/>
                </a:moveTo>
                <a:cubicBezTo>
                  <a:pt x="11844" y="4542"/>
                  <a:pt x="11886" y="4505"/>
                  <a:pt x="11909" y="4497"/>
                </a:cubicBezTo>
                <a:cubicBezTo>
                  <a:pt x="11967" y="4476"/>
                  <a:pt x="12025" y="4465"/>
                  <a:pt x="12084" y="4452"/>
                </a:cubicBezTo>
                <a:cubicBezTo>
                  <a:pt x="12129" y="4442"/>
                  <a:pt x="12170" y="4441"/>
                  <a:pt x="12215" y="4436"/>
                </a:cubicBezTo>
                <a:cubicBezTo>
                  <a:pt x="12221" y="4435"/>
                  <a:pt x="12228" y="4434"/>
                  <a:pt x="12234" y="4433"/>
                </a:cubicBezTo>
              </a:path>
              <a:path w="1920" h="806">
                <a:moveTo>
                  <a:pt x="12394" y="4100"/>
                </a:moveTo>
                <a:cubicBezTo>
                  <a:pt x="12405" y="4068"/>
                  <a:pt x="12410" y="4078"/>
                  <a:pt x="12430" y="4115"/>
                </a:cubicBezTo>
                <a:cubicBezTo>
                  <a:pt x="12471" y="4193"/>
                  <a:pt x="12485" y="4285"/>
                  <a:pt x="12499" y="4371"/>
                </a:cubicBezTo>
                <a:cubicBezTo>
                  <a:pt x="12517" y="4479"/>
                  <a:pt x="12525" y="4588"/>
                  <a:pt x="12520" y="4697"/>
                </a:cubicBezTo>
                <a:cubicBezTo>
                  <a:pt x="12518" y="4730"/>
                  <a:pt x="12522" y="4810"/>
                  <a:pt x="12493" y="4836"/>
                </a:cubicBezTo>
                <a:cubicBezTo>
                  <a:pt x="12489" y="4837"/>
                  <a:pt x="12485" y="4837"/>
                  <a:pt x="12481" y="483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"/>
          <p:cNvSpPr/>
          <p:nvPr/>
        </p:nvSpPr>
        <p:spPr>
          <a:xfrm>
            <a:off x="1281240" y="2774880"/>
            <a:ext cx="95040" cy="249480"/>
          </a:xfrm>
          <a:custGeom>
            <a:avLst/>
            <a:gdLst/>
            <a:ahLst/>
            <a:rect l="l" t="t" r="r" b="b"/>
            <a:pathLst>
              <a:path w="264" h="694">
                <a:moveTo>
                  <a:pt x="3562" y="7840"/>
                </a:moveTo>
                <a:cubicBezTo>
                  <a:pt x="3544" y="7790"/>
                  <a:pt x="3567" y="7876"/>
                  <a:pt x="3568" y="7879"/>
                </a:cubicBezTo>
                <a:cubicBezTo>
                  <a:pt x="3579" y="7946"/>
                  <a:pt x="3591" y="8014"/>
                  <a:pt x="3599" y="8081"/>
                </a:cubicBezTo>
                <a:cubicBezTo>
                  <a:pt x="3608" y="8159"/>
                  <a:pt x="3616" y="8238"/>
                  <a:pt x="3616" y="8317"/>
                </a:cubicBezTo>
                <a:cubicBezTo>
                  <a:pt x="3616" y="8345"/>
                  <a:pt x="3611" y="8372"/>
                  <a:pt x="3608" y="8399"/>
                </a:cubicBezTo>
                <a:cubicBezTo>
                  <a:pt x="3576" y="8367"/>
                  <a:pt x="3573" y="8328"/>
                  <a:pt x="3570" y="8282"/>
                </a:cubicBezTo>
                <a:cubicBezTo>
                  <a:pt x="3564" y="8192"/>
                  <a:pt x="3567" y="8100"/>
                  <a:pt x="3582" y="8011"/>
                </a:cubicBezTo>
                <a:cubicBezTo>
                  <a:pt x="3600" y="7907"/>
                  <a:pt x="3623" y="7780"/>
                  <a:pt x="3701" y="7706"/>
                </a:cubicBezTo>
                <a:cubicBezTo>
                  <a:pt x="3751" y="7717"/>
                  <a:pt x="3765" y="7748"/>
                  <a:pt x="3785" y="7796"/>
                </a:cubicBezTo>
                <a:cubicBezTo>
                  <a:pt x="3815" y="7869"/>
                  <a:pt x="3837" y="7964"/>
                  <a:pt x="3813" y="8041"/>
                </a:cubicBezTo>
                <a:cubicBezTo>
                  <a:pt x="3795" y="8098"/>
                  <a:pt x="3739" y="8125"/>
                  <a:pt x="3683" y="8106"/>
                </a:cubicBezTo>
                <a:cubicBezTo>
                  <a:pt x="3631" y="8088"/>
                  <a:pt x="3597" y="8023"/>
                  <a:pt x="3595" y="7971"/>
                </a:cubicBezTo>
                <a:cubicBezTo>
                  <a:pt x="3598" y="7944"/>
                  <a:pt x="3599" y="7936"/>
                  <a:pt x="3604" y="791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"/>
          <p:cNvSpPr/>
          <p:nvPr/>
        </p:nvSpPr>
        <p:spPr>
          <a:xfrm>
            <a:off x="1611360" y="2719440"/>
            <a:ext cx="163440" cy="214200"/>
          </a:xfrm>
          <a:custGeom>
            <a:avLst/>
            <a:gdLst/>
            <a:ahLst/>
            <a:rect l="l" t="t" r="r" b="b"/>
            <a:pathLst>
              <a:path w="454" h="599">
                <a:moveTo>
                  <a:pt x="4521" y="7561"/>
                </a:moveTo>
                <a:cubicBezTo>
                  <a:pt x="4545" y="7569"/>
                  <a:pt x="4547" y="7639"/>
                  <a:pt x="4547" y="7680"/>
                </a:cubicBezTo>
                <a:cubicBezTo>
                  <a:pt x="4548" y="7785"/>
                  <a:pt x="4544" y="7890"/>
                  <a:pt x="4549" y="7995"/>
                </a:cubicBezTo>
                <a:cubicBezTo>
                  <a:pt x="4550" y="8025"/>
                  <a:pt x="4550" y="8052"/>
                  <a:pt x="4548" y="8082"/>
                </a:cubicBezTo>
              </a:path>
              <a:path w="454" h="599">
                <a:moveTo>
                  <a:pt x="4476" y="7906"/>
                </a:moveTo>
                <a:cubicBezTo>
                  <a:pt x="4490" y="7890"/>
                  <a:pt x="4485" y="7880"/>
                  <a:pt x="4520" y="7874"/>
                </a:cubicBezTo>
                <a:cubicBezTo>
                  <a:pt x="4593" y="7862"/>
                  <a:pt x="4660" y="7849"/>
                  <a:pt x="4726" y="7813"/>
                </a:cubicBezTo>
                <a:cubicBezTo>
                  <a:pt x="4779" y="7784"/>
                  <a:pt x="4804" y="7754"/>
                  <a:pt x="4818" y="7697"/>
                </a:cubicBezTo>
                <a:cubicBezTo>
                  <a:pt x="4827" y="7661"/>
                  <a:pt x="4822" y="7634"/>
                  <a:pt x="4812" y="7599"/>
                </a:cubicBezTo>
                <a:cubicBezTo>
                  <a:pt x="4810" y="7594"/>
                  <a:pt x="4809" y="7590"/>
                  <a:pt x="4807" y="7585"/>
                </a:cubicBezTo>
                <a:cubicBezTo>
                  <a:pt x="4827" y="7626"/>
                  <a:pt x="4842" y="7663"/>
                  <a:pt x="4855" y="7708"/>
                </a:cubicBezTo>
                <a:cubicBezTo>
                  <a:pt x="4880" y="7795"/>
                  <a:pt x="4895" y="7881"/>
                  <a:pt x="4909" y="7970"/>
                </a:cubicBezTo>
                <a:cubicBezTo>
                  <a:pt x="4919" y="8030"/>
                  <a:pt x="4922" y="8089"/>
                  <a:pt x="4927" y="815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>
            <a:off x="2265480" y="2724120"/>
            <a:ext cx="668160" cy="244440"/>
          </a:xfrm>
          <a:custGeom>
            <a:avLst/>
            <a:gdLst/>
            <a:ahLst/>
            <a:rect l="l" t="t" r="r" b="b"/>
            <a:pathLst>
              <a:path w="1859" h="680">
                <a:moveTo>
                  <a:pt x="6339" y="7584"/>
                </a:moveTo>
                <a:cubicBezTo>
                  <a:pt x="6336" y="7579"/>
                  <a:pt x="6332" y="7573"/>
                  <a:pt x="6329" y="7568"/>
                </a:cubicBezTo>
                <a:cubicBezTo>
                  <a:pt x="6302" y="7592"/>
                  <a:pt x="6301" y="7631"/>
                  <a:pt x="6298" y="7667"/>
                </a:cubicBezTo>
                <a:cubicBezTo>
                  <a:pt x="6290" y="7756"/>
                  <a:pt x="6290" y="7847"/>
                  <a:pt x="6291" y="7936"/>
                </a:cubicBezTo>
                <a:cubicBezTo>
                  <a:pt x="6292" y="7978"/>
                  <a:pt x="6285" y="8087"/>
                  <a:pt x="6325" y="8117"/>
                </a:cubicBezTo>
                <a:cubicBezTo>
                  <a:pt x="6344" y="8117"/>
                  <a:pt x="6352" y="8115"/>
                  <a:pt x="6361" y="8100"/>
                </a:cubicBezTo>
              </a:path>
              <a:path w="1859" h="680">
                <a:moveTo>
                  <a:pt x="6469" y="7793"/>
                </a:moveTo>
                <a:cubicBezTo>
                  <a:pt x="6463" y="7813"/>
                  <a:pt x="6456" y="7824"/>
                  <a:pt x="6476" y="7839"/>
                </a:cubicBezTo>
                <a:cubicBezTo>
                  <a:pt x="6502" y="7858"/>
                  <a:pt x="6552" y="7841"/>
                  <a:pt x="6578" y="7836"/>
                </a:cubicBezTo>
                <a:cubicBezTo>
                  <a:pt x="6633" y="7825"/>
                  <a:pt x="6681" y="7809"/>
                  <a:pt x="6732" y="7786"/>
                </a:cubicBezTo>
              </a:path>
              <a:path w="1859" h="680">
                <a:moveTo>
                  <a:pt x="6771" y="7835"/>
                </a:moveTo>
                <a:cubicBezTo>
                  <a:pt x="6767" y="7889"/>
                  <a:pt x="6767" y="7940"/>
                  <a:pt x="6782" y="7993"/>
                </a:cubicBezTo>
                <a:cubicBezTo>
                  <a:pt x="6800" y="8057"/>
                  <a:pt x="6824" y="8120"/>
                  <a:pt x="6849" y="8182"/>
                </a:cubicBezTo>
                <a:cubicBezTo>
                  <a:pt x="6858" y="8204"/>
                  <a:pt x="6868" y="8225"/>
                  <a:pt x="6877" y="8247"/>
                </a:cubicBezTo>
                <a:cubicBezTo>
                  <a:pt x="6867" y="8204"/>
                  <a:pt x="6855" y="8161"/>
                  <a:pt x="6847" y="8117"/>
                </a:cubicBezTo>
                <a:cubicBezTo>
                  <a:pt x="6832" y="8039"/>
                  <a:pt x="6831" y="7961"/>
                  <a:pt x="6841" y="7882"/>
                </a:cubicBezTo>
                <a:cubicBezTo>
                  <a:pt x="6848" y="7828"/>
                  <a:pt x="6859" y="7759"/>
                  <a:pt x="6915" y="7734"/>
                </a:cubicBezTo>
                <a:cubicBezTo>
                  <a:pt x="6961" y="7713"/>
                  <a:pt x="7005" y="7754"/>
                  <a:pt x="7027" y="7790"/>
                </a:cubicBezTo>
                <a:cubicBezTo>
                  <a:pt x="7059" y="7842"/>
                  <a:pt x="7067" y="7906"/>
                  <a:pt x="7045" y="7963"/>
                </a:cubicBezTo>
                <a:cubicBezTo>
                  <a:pt x="7022" y="8023"/>
                  <a:pt x="6959" y="8070"/>
                  <a:pt x="6894" y="8058"/>
                </a:cubicBezTo>
                <a:cubicBezTo>
                  <a:pt x="6855" y="8051"/>
                  <a:pt x="6845" y="8006"/>
                  <a:pt x="6854" y="7973"/>
                </a:cubicBezTo>
                <a:cubicBezTo>
                  <a:pt x="6859" y="7962"/>
                  <a:pt x="6863" y="7952"/>
                  <a:pt x="6868" y="7941"/>
                </a:cubicBezTo>
              </a:path>
              <a:path w="1859" h="680">
                <a:moveTo>
                  <a:pt x="7782" y="7569"/>
                </a:moveTo>
                <a:cubicBezTo>
                  <a:pt x="7805" y="7598"/>
                  <a:pt x="7780" y="7655"/>
                  <a:pt x="7776" y="7694"/>
                </a:cubicBezTo>
                <a:cubicBezTo>
                  <a:pt x="7765" y="7794"/>
                  <a:pt x="7766" y="7892"/>
                  <a:pt x="7767" y="7992"/>
                </a:cubicBezTo>
                <a:cubicBezTo>
                  <a:pt x="7767" y="8044"/>
                  <a:pt x="7766" y="8085"/>
                  <a:pt x="7794" y="8130"/>
                </a:cubicBezTo>
              </a:path>
              <a:path w="1859" h="680">
                <a:moveTo>
                  <a:pt x="7537" y="7602"/>
                </a:moveTo>
                <a:cubicBezTo>
                  <a:pt x="7518" y="7600"/>
                  <a:pt x="7512" y="7598"/>
                  <a:pt x="7514" y="7616"/>
                </a:cubicBezTo>
                <a:cubicBezTo>
                  <a:pt x="7568" y="7636"/>
                  <a:pt x="7623" y="7632"/>
                  <a:pt x="7682" y="7634"/>
                </a:cubicBezTo>
                <a:cubicBezTo>
                  <a:pt x="7782" y="7638"/>
                  <a:pt x="7880" y="7641"/>
                  <a:pt x="7978" y="7660"/>
                </a:cubicBezTo>
                <a:cubicBezTo>
                  <a:pt x="8040" y="7672"/>
                  <a:pt x="8094" y="7688"/>
                  <a:pt x="8149" y="771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"/>
          <p:cNvSpPr/>
          <p:nvPr/>
        </p:nvSpPr>
        <p:spPr>
          <a:xfrm>
            <a:off x="3506760" y="2611440"/>
            <a:ext cx="2081160" cy="441360"/>
          </a:xfrm>
          <a:custGeom>
            <a:avLst/>
            <a:gdLst/>
            <a:ahLst/>
            <a:rect l="l" t="t" r="r" b="b"/>
            <a:pathLst>
              <a:path w="5779" h="1227">
                <a:moveTo>
                  <a:pt x="10872" y="7837"/>
                </a:moveTo>
                <a:cubicBezTo>
                  <a:pt x="10842" y="7869"/>
                  <a:pt x="10818" y="7895"/>
                  <a:pt x="10796" y="7932"/>
                </a:cubicBezTo>
                <a:cubicBezTo>
                  <a:pt x="10786" y="7947"/>
                  <a:pt x="10783" y="7953"/>
                  <a:pt x="10796" y="7964"/>
                </a:cubicBezTo>
                <a:cubicBezTo>
                  <a:pt x="10838" y="7975"/>
                  <a:pt x="10878" y="7967"/>
                  <a:pt x="10919" y="7950"/>
                </a:cubicBezTo>
                <a:cubicBezTo>
                  <a:pt x="10987" y="7921"/>
                  <a:pt x="11069" y="7865"/>
                  <a:pt x="11096" y="7793"/>
                </a:cubicBezTo>
                <a:cubicBezTo>
                  <a:pt x="11101" y="7765"/>
                  <a:pt x="11103" y="7757"/>
                  <a:pt x="11092" y="7741"/>
                </a:cubicBezTo>
                <a:cubicBezTo>
                  <a:pt x="11035" y="7722"/>
                  <a:pt x="10991" y="7738"/>
                  <a:pt x="10936" y="7765"/>
                </a:cubicBezTo>
                <a:cubicBezTo>
                  <a:pt x="10870" y="7797"/>
                  <a:pt x="10801" y="7847"/>
                  <a:pt x="10773" y="7918"/>
                </a:cubicBezTo>
                <a:cubicBezTo>
                  <a:pt x="10748" y="7982"/>
                  <a:pt x="10788" y="8037"/>
                  <a:pt x="10845" y="8065"/>
                </a:cubicBezTo>
                <a:cubicBezTo>
                  <a:pt x="10939" y="8111"/>
                  <a:pt x="11048" y="8099"/>
                  <a:pt x="11146" y="8084"/>
                </a:cubicBezTo>
              </a:path>
              <a:path w="5779" h="1227">
                <a:moveTo>
                  <a:pt x="11273" y="7822"/>
                </a:moveTo>
                <a:cubicBezTo>
                  <a:pt x="11266" y="7869"/>
                  <a:pt x="11286" y="7902"/>
                  <a:pt x="11317" y="7940"/>
                </a:cubicBezTo>
                <a:cubicBezTo>
                  <a:pt x="11362" y="7995"/>
                  <a:pt x="11417" y="8040"/>
                  <a:pt x="11481" y="8071"/>
                </a:cubicBezTo>
                <a:cubicBezTo>
                  <a:pt x="11522" y="8088"/>
                  <a:pt x="11534" y="8093"/>
                  <a:pt x="11563" y="8095"/>
                </a:cubicBezTo>
              </a:path>
              <a:path w="5779" h="1227">
                <a:moveTo>
                  <a:pt x="11581" y="7854"/>
                </a:moveTo>
                <a:cubicBezTo>
                  <a:pt x="11499" y="7879"/>
                  <a:pt x="11450" y="7919"/>
                  <a:pt x="11386" y="7977"/>
                </a:cubicBezTo>
                <a:cubicBezTo>
                  <a:pt x="11314" y="8041"/>
                  <a:pt x="11239" y="8115"/>
                  <a:pt x="11192" y="8201"/>
                </a:cubicBezTo>
                <a:cubicBezTo>
                  <a:pt x="11159" y="8260"/>
                  <a:pt x="11177" y="8274"/>
                  <a:pt x="11232" y="8270"/>
                </a:cubicBezTo>
              </a:path>
              <a:path w="5779" h="1227">
                <a:moveTo>
                  <a:pt x="11802" y="7838"/>
                </a:moveTo>
                <a:cubicBezTo>
                  <a:pt x="11752" y="7838"/>
                  <a:pt x="11731" y="7857"/>
                  <a:pt x="11693" y="7890"/>
                </a:cubicBezTo>
                <a:cubicBezTo>
                  <a:pt x="11648" y="7928"/>
                  <a:pt x="11600" y="7975"/>
                  <a:pt x="11594" y="8037"/>
                </a:cubicBezTo>
                <a:cubicBezTo>
                  <a:pt x="11588" y="8097"/>
                  <a:pt x="11650" y="8081"/>
                  <a:pt x="11684" y="8067"/>
                </a:cubicBezTo>
                <a:cubicBezTo>
                  <a:pt x="11748" y="8040"/>
                  <a:pt x="11803" y="7996"/>
                  <a:pt x="11855" y="7951"/>
                </a:cubicBezTo>
                <a:cubicBezTo>
                  <a:pt x="11878" y="7930"/>
                  <a:pt x="11899" y="7910"/>
                  <a:pt x="11924" y="7892"/>
                </a:cubicBezTo>
                <a:cubicBezTo>
                  <a:pt x="11930" y="7932"/>
                  <a:pt x="11914" y="7965"/>
                  <a:pt x="11913" y="8006"/>
                </a:cubicBezTo>
                <a:cubicBezTo>
                  <a:pt x="11912" y="8037"/>
                  <a:pt x="11909" y="8099"/>
                  <a:pt x="11951" y="8106"/>
                </a:cubicBezTo>
                <a:cubicBezTo>
                  <a:pt x="11960" y="8105"/>
                  <a:pt x="11970" y="8105"/>
                  <a:pt x="11979" y="8104"/>
                </a:cubicBezTo>
              </a:path>
              <a:path w="5779" h="1227">
                <a:moveTo>
                  <a:pt x="12235" y="7823"/>
                </a:moveTo>
                <a:cubicBezTo>
                  <a:pt x="12233" y="7800"/>
                  <a:pt x="12233" y="7793"/>
                  <a:pt x="12224" y="7781"/>
                </a:cubicBezTo>
                <a:cubicBezTo>
                  <a:pt x="12188" y="7774"/>
                  <a:pt x="12173" y="7798"/>
                  <a:pt x="12152" y="7828"/>
                </a:cubicBezTo>
                <a:cubicBezTo>
                  <a:pt x="12120" y="7873"/>
                  <a:pt x="12094" y="7935"/>
                  <a:pt x="12096" y="7992"/>
                </a:cubicBezTo>
                <a:cubicBezTo>
                  <a:pt x="12098" y="8035"/>
                  <a:pt x="12118" y="8071"/>
                  <a:pt x="12162" y="8079"/>
                </a:cubicBezTo>
                <a:cubicBezTo>
                  <a:pt x="12190" y="8079"/>
                  <a:pt x="12200" y="8079"/>
                  <a:pt x="12218" y="8072"/>
                </a:cubicBezTo>
              </a:path>
              <a:path w="5779" h="1227">
                <a:moveTo>
                  <a:pt x="12407" y="7506"/>
                </a:moveTo>
                <a:cubicBezTo>
                  <a:pt x="12378" y="7480"/>
                  <a:pt x="12380" y="7566"/>
                  <a:pt x="12378" y="7584"/>
                </a:cubicBezTo>
                <a:cubicBezTo>
                  <a:pt x="12367" y="7675"/>
                  <a:pt x="12365" y="7768"/>
                  <a:pt x="12368" y="7859"/>
                </a:cubicBezTo>
                <a:cubicBezTo>
                  <a:pt x="12370" y="7921"/>
                  <a:pt x="12377" y="7986"/>
                  <a:pt x="12372" y="8048"/>
                </a:cubicBezTo>
                <a:cubicBezTo>
                  <a:pt x="12371" y="8051"/>
                  <a:pt x="12370" y="8054"/>
                  <a:pt x="12369" y="8057"/>
                </a:cubicBezTo>
              </a:path>
              <a:path w="5779" h="1227">
                <a:moveTo>
                  <a:pt x="12232" y="7781"/>
                </a:moveTo>
                <a:cubicBezTo>
                  <a:pt x="12242" y="7747"/>
                  <a:pt x="12267" y="7739"/>
                  <a:pt x="12304" y="7731"/>
                </a:cubicBezTo>
                <a:cubicBezTo>
                  <a:pt x="12367" y="7717"/>
                  <a:pt x="12430" y="7716"/>
                  <a:pt x="12492" y="7700"/>
                </a:cubicBezTo>
                <a:cubicBezTo>
                  <a:pt x="12534" y="7690"/>
                  <a:pt x="12547" y="7687"/>
                  <a:pt x="12571" y="7673"/>
                </a:cubicBezTo>
              </a:path>
              <a:path w="5779" h="1227">
                <a:moveTo>
                  <a:pt x="12636" y="7510"/>
                </a:moveTo>
                <a:cubicBezTo>
                  <a:pt x="12616" y="7544"/>
                  <a:pt x="12616" y="7567"/>
                  <a:pt x="12610" y="7613"/>
                </a:cubicBezTo>
                <a:cubicBezTo>
                  <a:pt x="12599" y="7694"/>
                  <a:pt x="12595" y="7776"/>
                  <a:pt x="12594" y="7858"/>
                </a:cubicBezTo>
                <a:cubicBezTo>
                  <a:pt x="12593" y="7909"/>
                  <a:pt x="12579" y="7985"/>
                  <a:pt x="12599" y="8034"/>
                </a:cubicBezTo>
                <a:cubicBezTo>
                  <a:pt x="12603" y="8039"/>
                  <a:pt x="12608" y="8045"/>
                  <a:pt x="12612" y="8050"/>
                </a:cubicBezTo>
                <a:cubicBezTo>
                  <a:pt x="12639" y="8035"/>
                  <a:pt x="12655" y="8023"/>
                  <a:pt x="12676" y="7996"/>
                </a:cubicBezTo>
                <a:cubicBezTo>
                  <a:pt x="12706" y="7959"/>
                  <a:pt x="12734" y="7918"/>
                  <a:pt x="12768" y="7887"/>
                </a:cubicBezTo>
                <a:cubicBezTo>
                  <a:pt x="12783" y="7911"/>
                  <a:pt x="12793" y="7932"/>
                  <a:pt x="12804" y="7961"/>
                </a:cubicBezTo>
                <a:cubicBezTo>
                  <a:pt x="12820" y="8001"/>
                  <a:pt x="12839" y="8037"/>
                  <a:pt x="12880" y="8052"/>
                </a:cubicBezTo>
                <a:cubicBezTo>
                  <a:pt x="12911" y="8063"/>
                  <a:pt x="12945" y="8023"/>
                  <a:pt x="12962" y="8004"/>
                </a:cubicBezTo>
                <a:cubicBezTo>
                  <a:pt x="12983" y="7981"/>
                  <a:pt x="13000" y="7954"/>
                  <a:pt x="13017" y="7928"/>
                </a:cubicBezTo>
                <a:cubicBezTo>
                  <a:pt x="13002" y="7977"/>
                  <a:pt x="12982" y="8024"/>
                  <a:pt x="12962" y="8072"/>
                </a:cubicBezTo>
                <a:cubicBezTo>
                  <a:pt x="12926" y="8158"/>
                  <a:pt x="12890" y="8244"/>
                  <a:pt x="12866" y="8334"/>
                </a:cubicBezTo>
                <a:cubicBezTo>
                  <a:pt x="12853" y="8383"/>
                  <a:pt x="12842" y="8432"/>
                  <a:pt x="12831" y="8481"/>
                </a:cubicBezTo>
              </a:path>
              <a:path w="5779" h="1227">
                <a:moveTo>
                  <a:pt x="9758" y="7729"/>
                </a:moveTo>
                <a:cubicBezTo>
                  <a:pt x="9741" y="7757"/>
                  <a:pt x="9746" y="7768"/>
                  <a:pt x="9748" y="7801"/>
                </a:cubicBezTo>
                <a:cubicBezTo>
                  <a:pt x="9753" y="7883"/>
                  <a:pt x="9764" y="7965"/>
                  <a:pt x="9770" y="8047"/>
                </a:cubicBezTo>
                <a:cubicBezTo>
                  <a:pt x="9772" y="8081"/>
                  <a:pt x="9772" y="8113"/>
                  <a:pt x="9769" y="8147"/>
                </a:cubicBezTo>
                <a:cubicBezTo>
                  <a:pt x="9745" y="8089"/>
                  <a:pt x="9740" y="8029"/>
                  <a:pt x="9742" y="7966"/>
                </a:cubicBezTo>
                <a:cubicBezTo>
                  <a:pt x="9746" y="7850"/>
                  <a:pt x="9771" y="7733"/>
                  <a:pt x="9812" y="7625"/>
                </a:cubicBezTo>
                <a:cubicBezTo>
                  <a:pt x="9842" y="7547"/>
                  <a:pt x="9889" y="7441"/>
                  <a:pt x="9970" y="7404"/>
                </a:cubicBezTo>
                <a:cubicBezTo>
                  <a:pt x="10040" y="7373"/>
                  <a:pt x="10087" y="7447"/>
                  <a:pt x="10107" y="7501"/>
                </a:cubicBezTo>
                <a:cubicBezTo>
                  <a:pt x="10139" y="7587"/>
                  <a:pt x="10135" y="7684"/>
                  <a:pt x="10104" y="7769"/>
                </a:cubicBezTo>
                <a:cubicBezTo>
                  <a:pt x="10081" y="7831"/>
                  <a:pt x="10033" y="7900"/>
                  <a:pt x="9963" y="7914"/>
                </a:cubicBezTo>
                <a:cubicBezTo>
                  <a:pt x="9923" y="7922"/>
                  <a:pt x="9882" y="7908"/>
                  <a:pt x="9870" y="7868"/>
                </a:cubicBezTo>
                <a:cubicBezTo>
                  <a:pt x="9868" y="7846"/>
                  <a:pt x="9867" y="7839"/>
                  <a:pt x="9877" y="7826"/>
                </a:cubicBezTo>
              </a:path>
              <a:path w="5779" h="1227">
                <a:moveTo>
                  <a:pt x="10230" y="7935"/>
                </a:moveTo>
                <a:cubicBezTo>
                  <a:pt x="10202" y="7956"/>
                  <a:pt x="10208" y="7971"/>
                  <a:pt x="10204" y="8005"/>
                </a:cubicBezTo>
                <a:cubicBezTo>
                  <a:pt x="10199" y="8050"/>
                  <a:pt x="10202" y="8094"/>
                  <a:pt x="10208" y="8139"/>
                </a:cubicBezTo>
                <a:cubicBezTo>
                  <a:pt x="10211" y="8153"/>
                  <a:pt x="10209" y="8158"/>
                  <a:pt x="10220" y="8158"/>
                </a:cubicBezTo>
                <a:cubicBezTo>
                  <a:pt x="10234" y="8113"/>
                  <a:pt x="10243" y="8066"/>
                  <a:pt x="10257" y="8021"/>
                </a:cubicBezTo>
                <a:cubicBezTo>
                  <a:pt x="10276" y="7959"/>
                  <a:pt x="10298" y="7901"/>
                  <a:pt x="10340" y="7851"/>
                </a:cubicBezTo>
                <a:cubicBezTo>
                  <a:pt x="10365" y="7822"/>
                  <a:pt x="10405" y="7799"/>
                  <a:pt x="10444" y="7802"/>
                </a:cubicBezTo>
                <a:cubicBezTo>
                  <a:pt x="10466" y="7804"/>
                  <a:pt x="10488" y="7814"/>
                  <a:pt x="10508" y="7823"/>
                </a:cubicBezTo>
              </a:path>
              <a:path w="5779" h="1227">
                <a:moveTo>
                  <a:pt x="10807" y="7330"/>
                </a:moveTo>
                <a:cubicBezTo>
                  <a:pt x="10809" y="7302"/>
                  <a:pt x="10807" y="7282"/>
                  <a:pt x="10804" y="7255"/>
                </a:cubicBezTo>
                <a:cubicBezTo>
                  <a:pt x="10768" y="7300"/>
                  <a:pt x="10744" y="7344"/>
                  <a:pt x="10725" y="7403"/>
                </a:cubicBezTo>
                <a:cubicBezTo>
                  <a:pt x="10682" y="7537"/>
                  <a:pt x="10656" y="7678"/>
                  <a:pt x="10648" y="7818"/>
                </a:cubicBezTo>
                <a:cubicBezTo>
                  <a:pt x="10641" y="7940"/>
                  <a:pt x="10652" y="8075"/>
                  <a:pt x="10707" y="8187"/>
                </a:cubicBezTo>
                <a:cubicBezTo>
                  <a:pt x="10718" y="8203"/>
                  <a:pt x="10728" y="8219"/>
                  <a:pt x="10739" y="8235"/>
                </a:cubicBezTo>
              </a:path>
              <a:path w="5779" h="1227">
                <a:moveTo>
                  <a:pt x="13661" y="7397"/>
                </a:moveTo>
                <a:cubicBezTo>
                  <a:pt x="13661" y="7380"/>
                  <a:pt x="13661" y="7375"/>
                  <a:pt x="13659" y="7364"/>
                </a:cubicBezTo>
                <a:cubicBezTo>
                  <a:pt x="13636" y="7410"/>
                  <a:pt x="13643" y="7468"/>
                  <a:pt x="13643" y="7522"/>
                </a:cubicBezTo>
                <a:cubicBezTo>
                  <a:pt x="13643" y="7630"/>
                  <a:pt x="13645" y="7739"/>
                  <a:pt x="13657" y="7846"/>
                </a:cubicBezTo>
                <a:cubicBezTo>
                  <a:pt x="13661" y="7880"/>
                  <a:pt x="13661" y="8010"/>
                  <a:pt x="13703" y="8031"/>
                </a:cubicBezTo>
                <a:cubicBezTo>
                  <a:pt x="13721" y="8025"/>
                  <a:pt x="13728" y="8020"/>
                  <a:pt x="13733" y="8004"/>
                </a:cubicBezTo>
              </a:path>
              <a:path w="5779" h="1227">
                <a:moveTo>
                  <a:pt x="13907" y="7472"/>
                </a:moveTo>
                <a:cubicBezTo>
                  <a:pt x="13907" y="7504"/>
                  <a:pt x="13905" y="7547"/>
                  <a:pt x="13889" y="7582"/>
                </a:cubicBezTo>
                <a:cubicBezTo>
                  <a:pt x="13860" y="7646"/>
                  <a:pt x="13820" y="7707"/>
                  <a:pt x="13778" y="7762"/>
                </a:cubicBezTo>
                <a:cubicBezTo>
                  <a:pt x="13757" y="7789"/>
                  <a:pt x="13703" y="7826"/>
                  <a:pt x="13693" y="7860"/>
                </a:cubicBezTo>
                <a:cubicBezTo>
                  <a:pt x="13694" y="7863"/>
                  <a:pt x="13695" y="7866"/>
                  <a:pt x="13696" y="7869"/>
                </a:cubicBezTo>
                <a:cubicBezTo>
                  <a:pt x="13737" y="7879"/>
                  <a:pt x="13779" y="7880"/>
                  <a:pt x="13821" y="7882"/>
                </a:cubicBezTo>
                <a:cubicBezTo>
                  <a:pt x="13892" y="7885"/>
                  <a:pt x="13962" y="7883"/>
                  <a:pt x="14033" y="7881"/>
                </a:cubicBezTo>
                <a:cubicBezTo>
                  <a:pt x="14068" y="7880"/>
                  <a:pt x="14101" y="7878"/>
                  <a:pt x="14136" y="7874"/>
                </a:cubicBezTo>
              </a:path>
              <a:path w="5779" h="1227">
                <a:moveTo>
                  <a:pt x="14501" y="7467"/>
                </a:moveTo>
                <a:cubicBezTo>
                  <a:pt x="14506" y="7529"/>
                  <a:pt x="14507" y="7591"/>
                  <a:pt x="14512" y="7653"/>
                </a:cubicBezTo>
                <a:cubicBezTo>
                  <a:pt x="14519" y="7742"/>
                  <a:pt x="14528" y="7830"/>
                  <a:pt x="14536" y="7919"/>
                </a:cubicBezTo>
                <a:cubicBezTo>
                  <a:pt x="14538" y="7945"/>
                  <a:pt x="14542" y="7971"/>
                  <a:pt x="14545" y="7997"/>
                </a:cubicBezTo>
              </a:path>
              <a:path w="5779" h="1227">
                <a:moveTo>
                  <a:pt x="14505" y="7771"/>
                </a:moveTo>
                <a:cubicBezTo>
                  <a:pt x="14510" y="7745"/>
                  <a:pt x="14523" y="7730"/>
                  <a:pt x="14553" y="7724"/>
                </a:cubicBezTo>
                <a:cubicBezTo>
                  <a:pt x="14607" y="7713"/>
                  <a:pt x="14657" y="7706"/>
                  <a:pt x="14710" y="7687"/>
                </a:cubicBezTo>
                <a:cubicBezTo>
                  <a:pt x="14753" y="7672"/>
                  <a:pt x="14778" y="7652"/>
                  <a:pt x="14812" y="7623"/>
                </a:cubicBezTo>
              </a:path>
              <a:path w="5779" h="1227">
                <a:moveTo>
                  <a:pt x="14820" y="7401"/>
                </a:moveTo>
                <a:cubicBezTo>
                  <a:pt x="14786" y="7375"/>
                  <a:pt x="14801" y="7467"/>
                  <a:pt x="14800" y="7490"/>
                </a:cubicBezTo>
                <a:cubicBezTo>
                  <a:pt x="14798" y="7587"/>
                  <a:pt x="14801" y="7683"/>
                  <a:pt x="14809" y="7779"/>
                </a:cubicBezTo>
                <a:cubicBezTo>
                  <a:pt x="14814" y="7845"/>
                  <a:pt x="14813" y="7916"/>
                  <a:pt x="14830" y="7981"/>
                </a:cubicBezTo>
                <a:cubicBezTo>
                  <a:pt x="14832" y="7985"/>
                  <a:pt x="14833" y="7988"/>
                  <a:pt x="14835" y="7992"/>
                </a:cubicBezTo>
              </a:path>
              <a:path w="5779" h="1227">
                <a:moveTo>
                  <a:pt x="15088" y="7325"/>
                </a:moveTo>
                <a:cubicBezTo>
                  <a:pt x="15092" y="7306"/>
                  <a:pt x="15093" y="7301"/>
                  <a:pt x="15098" y="7290"/>
                </a:cubicBezTo>
                <a:cubicBezTo>
                  <a:pt x="15110" y="7312"/>
                  <a:pt x="15106" y="7344"/>
                  <a:pt x="15106" y="7371"/>
                </a:cubicBezTo>
                <a:cubicBezTo>
                  <a:pt x="15107" y="7410"/>
                  <a:pt x="15108" y="7445"/>
                  <a:pt x="15117" y="7483"/>
                </a:cubicBezTo>
              </a:path>
              <a:path w="5779" h="1227">
                <a:moveTo>
                  <a:pt x="15520" y="7507"/>
                </a:moveTo>
                <a:cubicBezTo>
                  <a:pt x="15451" y="7527"/>
                  <a:pt x="15382" y="7544"/>
                  <a:pt x="15314" y="7565"/>
                </a:cubicBezTo>
                <a:cubicBezTo>
                  <a:pt x="15284" y="7574"/>
                  <a:pt x="15260" y="7582"/>
                  <a:pt x="15232" y="7596"/>
                </a:cubicBezTo>
                <a:cubicBezTo>
                  <a:pt x="15262" y="7620"/>
                  <a:pt x="15300" y="7631"/>
                  <a:pt x="15334" y="7652"/>
                </a:cubicBezTo>
                <a:cubicBezTo>
                  <a:pt x="15407" y="7698"/>
                  <a:pt x="15459" y="7771"/>
                  <a:pt x="15451" y="7860"/>
                </a:cubicBezTo>
                <a:cubicBezTo>
                  <a:pt x="15448" y="7899"/>
                  <a:pt x="15428" y="7944"/>
                  <a:pt x="15396" y="7968"/>
                </a:cubicBezTo>
                <a:cubicBezTo>
                  <a:pt x="15366" y="7991"/>
                  <a:pt x="15355" y="7959"/>
                  <a:pt x="15352" y="7934"/>
                </a:cubicBezTo>
                <a:cubicBezTo>
                  <a:pt x="15351" y="7902"/>
                  <a:pt x="15351" y="7889"/>
                  <a:pt x="15355" y="7867"/>
                </a:cubicBezTo>
              </a:path>
              <a:path w="5779" h="1227">
                <a:moveTo>
                  <a:pt x="13390" y="8239"/>
                </a:moveTo>
                <a:cubicBezTo>
                  <a:pt x="13386" y="8218"/>
                  <a:pt x="13382" y="8211"/>
                  <a:pt x="13382" y="8189"/>
                </a:cubicBezTo>
                <a:cubicBezTo>
                  <a:pt x="13383" y="8186"/>
                  <a:pt x="13385" y="8182"/>
                  <a:pt x="13386" y="8179"/>
                </a:cubicBezTo>
                <a:cubicBezTo>
                  <a:pt x="13399" y="8189"/>
                  <a:pt x="13408" y="8209"/>
                  <a:pt x="13452" y="8214"/>
                </a:cubicBezTo>
                <a:cubicBezTo>
                  <a:pt x="13554" y="8226"/>
                  <a:pt x="13657" y="8219"/>
                  <a:pt x="13759" y="8215"/>
                </a:cubicBezTo>
                <a:cubicBezTo>
                  <a:pt x="13916" y="8209"/>
                  <a:pt x="14074" y="8199"/>
                  <a:pt x="14231" y="8190"/>
                </a:cubicBezTo>
                <a:cubicBezTo>
                  <a:pt x="14391" y="8180"/>
                  <a:pt x="14552" y="8170"/>
                  <a:pt x="14712" y="8158"/>
                </a:cubicBezTo>
                <a:cubicBezTo>
                  <a:pt x="14849" y="8148"/>
                  <a:pt x="14987" y="8137"/>
                  <a:pt x="15124" y="8126"/>
                </a:cubicBezTo>
                <a:cubicBezTo>
                  <a:pt x="15190" y="8121"/>
                  <a:pt x="15256" y="8117"/>
                  <a:pt x="15322" y="8115"/>
                </a:cubicBezTo>
                <a:cubicBezTo>
                  <a:pt x="15277" y="8132"/>
                  <a:pt x="15247" y="8138"/>
                  <a:pt x="15195" y="814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"/>
          <p:cNvSpPr/>
          <p:nvPr/>
        </p:nvSpPr>
        <p:spPr>
          <a:xfrm>
            <a:off x="7126200" y="2443320"/>
            <a:ext cx="308160" cy="311040"/>
          </a:xfrm>
          <a:custGeom>
            <a:avLst/>
            <a:gdLst/>
            <a:ahLst/>
            <a:rect l="l" t="t" r="r" b="b"/>
            <a:pathLst>
              <a:path w="858" h="863">
                <a:moveTo>
                  <a:pt x="20194" y="6891"/>
                </a:moveTo>
                <a:cubicBezTo>
                  <a:pt x="20166" y="6893"/>
                  <a:pt x="20165" y="6880"/>
                  <a:pt x="20141" y="6914"/>
                </a:cubicBezTo>
                <a:cubicBezTo>
                  <a:pt x="20101" y="6971"/>
                  <a:pt x="20060" y="7036"/>
                  <a:pt x="20028" y="7098"/>
                </a:cubicBezTo>
                <a:cubicBezTo>
                  <a:pt x="19981" y="7187"/>
                  <a:pt x="19943" y="7284"/>
                  <a:pt x="19922" y="7383"/>
                </a:cubicBezTo>
                <a:cubicBezTo>
                  <a:pt x="19906" y="7457"/>
                  <a:pt x="19899" y="7559"/>
                  <a:pt x="19939" y="7628"/>
                </a:cubicBezTo>
                <a:cubicBezTo>
                  <a:pt x="19943" y="7630"/>
                  <a:pt x="19947" y="7633"/>
                  <a:pt x="19951" y="7635"/>
                </a:cubicBezTo>
                <a:cubicBezTo>
                  <a:pt x="19946" y="7611"/>
                  <a:pt x="19943" y="7594"/>
                  <a:pt x="19932" y="7571"/>
                </a:cubicBezTo>
                <a:cubicBezTo>
                  <a:pt x="19917" y="7540"/>
                  <a:pt x="19899" y="7509"/>
                  <a:pt x="19877" y="7483"/>
                </a:cubicBezTo>
                <a:cubicBezTo>
                  <a:pt x="19848" y="7450"/>
                  <a:pt x="19831" y="7446"/>
                  <a:pt x="19797" y="7436"/>
                </a:cubicBezTo>
                <a:cubicBezTo>
                  <a:pt x="19796" y="7460"/>
                  <a:pt x="19795" y="7483"/>
                  <a:pt x="19800" y="7508"/>
                </a:cubicBezTo>
                <a:cubicBezTo>
                  <a:pt x="19806" y="7540"/>
                  <a:pt x="19810" y="7573"/>
                  <a:pt x="19819" y="7605"/>
                </a:cubicBezTo>
                <a:cubicBezTo>
                  <a:pt x="19825" y="7626"/>
                  <a:pt x="19828" y="7633"/>
                  <a:pt x="19842" y="7649"/>
                </a:cubicBezTo>
                <a:cubicBezTo>
                  <a:pt x="19874" y="7632"/>
                  <a:pt x="19891" y="7611"/>
                  <a:pt x="19918" y="7585"/>
                </a:cubicBezTo>
                <a:cubicBezTo>
                  <a:pt x="19957" y="7548"/>
                  <a:pt x="19996" y="7511"/>
                  <a:pt x="20033" y="7472"/>
                </a:cubicBezTo>
                <a:cubicBezTo>
                  <a:pt x="20051" y="7454"/>
                  <a:pt x="20069" y="7438"/>
                  <a:pt x="20088" y="7422"/>
                </a:cubicBezTo>
              </a:path>
              <a:path w="858" h="863">
                <a:moveTo>
                  <a:pt x="20566" y="6844"/>
                </a:moveTo>
                <a:cubicBezTo>
                  <a:pt x="20576" y="6824"/>
                  <a:pt x="20576" y="6810"/>
                  <a:pt x="20576" y="6787"/>
                </a:cubicBezTo>
                <a:cubicBezTo>
                  <a:pt x="20546" y="6804"/>
                  <a:pt x="20536" y="6830"/>
                  <a:pt x="20523" y="6862"/>
                </a:cubicBezTo>
                <a:cubicBezTo>
                  <a:pt x="20498" y="6923"/>
                  <a:pt x="20475" y="6986"/>
                  <a:pt x="20455" y="7049"/>
                </a:cubicBezTo>
                <a:cubicBezTo>
                  <a:pt x="20439" y="7099"/>
                  <a:pt x="20424" y="7149"/>
                  <a:pt x="20410" y="7199"/>
                </a:cubicBezTo>
                <a:cubicBezTo>
                  <a:pt x="20406" y="7215"/>
                  <a:pt x="20405" y="7219"/>
                  <a:pt x="20401" y="7229"/>
                </a:cubicBezTo>
                <a:cubicBezTo>
                  <a:pt x="20390" y="7217"/>
                  <a:pt x="20379" y="7205"/>
                  <a:pt x="20371" y="7186"/>
                </a:cubicBezTo>
                <a:cubicBezTo>
                  <a:pt x="20364" y="7170"/>
                  <a:pt x="20358" y="7152"/>
                  <a:pt x="20356" y="7134"/>
                </a:cubicBezTo>
                <a:cubicBezTo>
                  <a:pt x="20355" y="7124"/>
                  <a:pt x="20358" y="7114"/>
                  <a:pt x="20358" y="7104"/>
                </a:cubicBezTo>
                <a:cubicBezTo>
                  <a:pt x="20368" y="7135"/>
                  <a:pt x="20366" y="7145"/>
                  <a:pt x="20364" y="7177"/>
                </a:cubicBezTo>
                <a:cubicBezTo>
                  <a:pt x="20362" y="7205"/>
                  <a:pt x="20357" y="7233"/>
                  <a:pt x="20354" y="7261"/>
                </a:cubicBezTo>
                <a:cubicBezTo>
                  <a:pt x="20351" y="7294"/>
                  <a:pt x="20372" y="7294"/>
                  <a:pt x="20397" y="7293"/>
                </a:cubicBezTo>
                <a:cubicBezTo>
                  <a:pt x="20444" y="7291"/>
                  <a:pt x="20489" y="7275"/>
                  <a:pt x="20535" y="7266"/>
                </a:cubicBezTo>
                <a:cubicBezTo>
                  <a:pt x="20575" y="7259"/>
                  <a:pt x="20614" y="7251"/>
                  <a:pt x="20651" y="723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"/>
          <p:cNvSpPr/>
          <p:nvPr/>
        </p:nvSpPr>
        <p:spPr>
          <a:xfrm>
            <a:off x="1190520" y="3086280"/>
            <a:ext cx="735120" cy="39600"/>
          </a:xfrm>
          <a:custGeom>
            <a:avLst/>
            <a:gdLst/>
            <a:ahLst/>
            <a:rect l="l" t="t" r="r" b="b"/>
            <a:pathLst>
              <a:path w="2038" h="110">
                <a:moveTo>
                  <a:pt x="3358" y="8682"/>
                </a:moveTo>
                <a:cubicBezTo>
                  <a:pt x="3339" y="8677"/>
                  <a:pt x="3324" y="8670"/>
                  <a:pt x="3309" y="8665"/>
                </a:cubicBezTo>
                <a:cubicBezTo>
                  <a:pt x="3336" y="8648"/>
                  <a:pt x="3350" y="8630"/>
                  <a:pt x="3387" y="8620"/>
                </a:cubicBezTo>
                <a:cubicBezTo>
                  <a:pt x="3470" y="8597"/>
                  <a:pt x="3563" y="8594"/>
                  <a:pt x="3648" y="8589"/>
                </a:cubicBezTo>
                <a:cubicBezTo>
                  <a:pt x="3828" y="8579"/>
                  <a:pt x="4009" y="8575"/>
                  <a:pt x="4190" y="8574"/>
                </a:cubicBezTo>
                <a:cubicBezTo>
                  <a:pt x="4415" y="8572"/>
                  <a:pt x="4639" y="8573"/>
                  <a:pt x="4864" y="8577"/>
                </a:cubicBezTo>
                <a:cubicBezTo>
                  <a:pt x="5010" y="8580"/>
                  <a:pt x="5161" y="8594"/>
                  <a:pt x="5307" y="8584"/>
                </a:cubicBezTo>
                <a:cubicBezTo>
                  <a:pt x="5361" y="8580"/>
                  <a:pt x="5340" y="8582"/>
                  <a:pt x="5304" y="857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"/>
          <p:cNvSpPr/>
          <p:nvPr/>
        </p:nvSpPr>
        <p:spPr>
          <a:xfrm>
            <a:off x="4019400" y="2998800"/>
            <a:ext cx="181080" cy="193680"/>
          </a:xfrm>
          <a:custGeom>
            <a:avLst/>
            <a:gdLst/>
            <a:ahLst/>
            <a:rect l="l" t="t" r="r" b="b"/>
            <a:pathLst>
              <a:path w="502" h="536">
                <a:moveTo>
                  <a:pt x="11222" y="8590"/>
                </a:moveTo>
                <a:cubicBezTo>
                  <a:pt x="11210" y="8613"/>
                  <a:pt x="11189" y="8645"/>
                  <a:pt x="11183" y="8669"/>
                </a:cubicBezTo>
                <a:cubicBezTo>
                  <a:pt x="11173" y="8707"/>
                  <a:pt x="11167" y="8751"/>
                  <a:pt x="11166" y="8791"/>
                </a:cubicBezTo>
                <a:cubicBezTo>
                  <a:pt x="11166" y="8817"/>
                  <a:pt x="11167" y="8842"/>
                  <a:pt x="11176" y="8866"/>
                </a:cubicBezTo>
                <a:cubicBezTo>
                  <a:pt x="11186" y="8849"/>
                  <a:pt x="11187" y="8839"/>
                  <a:pt x="11190" y="8819"/>
                </a:cubicBezTo>
              </a:path>
              <a:path w="502" h="536">
                <a:moveTo>
                  <a:pt x="11208" y="8454"/>
                </a:moveTo>
                <a:cubicBezTo>
                  <a:pt x="11205" y="8424"/>
                  <a:pt x="11195" y="8383"/>
                  <a:pt x="11201" y="8353"/>
                </a:cubicBezTo>
                <a:cubicBezTo>
                  <a:pt x="11206" y="8327"/>
                  <a:pt x="11227" y="8328"/>
                  <a:pt x="11249" y="8331"/>
                </a:cubicBezTo>
                <a:cubicBezTo>
                  <a:pt x="11256" y="8333"/>
                  <a:pt x="11263" y="8334"/>
                  <a:pt x="11270" y="8336"/>
                </a:cubicBezTo>
              </a:path>
              <a:path w="502" h="536">
                <a:moveTo>
                  <a:pt x="11427" y="8613"/>
                </a:moveTo>
                <a:cubicBezTo>
                  <a:pt x="11418" y="8654"/>
                  <a:pt x="11411" y="8698"/>
                  <a:pt x="11401" y="8738"/>
                </a:cubicBezTo>
                <a:cubicBezTo>
                  <a:pt x="11399" y="8742"/>
                  <a:pt x="11397" y="8746"/>
                  <a:pt x="11395" y="8750"/>
                </a:cubicBezTo>
                <a:cubicBezTo>
                  <a:pt x="11423" y="8735"/>
                  <a:pt x="11436" y="8700"/>
                  <a:pt x="11454" y="8672"/>
                </a:cubicBezTo>
                <a:cubicBezTo>
                  <a:pt x="11479" y="8632"/>
                  <a:pt x="11505" y="8588"/>
                  <a:pt x="11544" y="8561"/>
                </a:cubicBezTo>
                <a:cubicBezTo>
                  <a:pt x="11580" y="8536"/>
                  <a:pt x="11604" y="8565"/>
                  <a:pt x="11619" y="8598"/>
                </a:cubicBezTo>
                <a:cubicBezTo>
                  <a:pt x="11644" y="8652"/>
                  <a:pt x="11650" y="8713"/>
                  <a:pt x="11656" y="8771"/>
                </a:cubicBezTo>
                <a:cubicBezTo>
                  <a:pt x="11659" y="8801"/>
                  <a:pt x="11663" y="8832"/>
                  <a:pt x="11667" y="886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"/>
          <p:cNvSpPr/>
          <p:nvPr/>
        </p:nvSpPr>
        <p:spPr>
          <a:xfrm>
            <a:off x="4411800" y="3076560"/>
            <a:ext cx="79200" cy="111240"/>
          </a:xfrm>
          <a:custGeom>
            <a:avLst/>
            <a:gdLst/>
            <a:ahLst/>
            <a:rect l="l" t="t" r="r" b="b"/>
            <a:pathLst>
              <a:path w="221" h="311">
                <a:moveTo>
                  <a:pt x="12300" y="8575"/>
                </a:moveTo>
                <a:cubicBezTo>
                  <a:pt x="12267" y="8571"/>
                  <a:pt x="12267" y="8582"/>
                  <a:pt x="12261" y="8613"/>
                </a:cubicBezTo>
                <a:cubicBezTo>
                  <a:pt x="12256" y="8640"/>
                  <a:pt x="12256" y="8665"/>
                  <a:pt x="12257" y="8692"/>
                </a:cubicBezTo>
                <a:cubicBezTo>
                  <a:pt x="12257" y="8706"/>
                  <a:pt x="12257" y="8710"/>
                  <a:pt x="12259" y="8719"/>
                </a:cubicBezTo>
                <a:cubicBezTo>
                  <a:pt x="12276" y="8688"/>
                  <a:pt x="12292" y="8656"/>
                  <a:pt x="12311" y="8626"/>
                </a:cubicBezTo>
                <a:cubicBezTo>
                  <a:pt x="12328" y="8599"/>
                  <a:pt x="12352" y="8556"/>
                  <a:pt x="12384" y="8545"/>
                </a:cubicBezTo>
                <a:cubicBezTo>
                  <a:pt x="12415" y="8534"/>
                  <a:pt x="12425" y="8586"/>
                  <a:pt x="12429" y="8604"/>
                </a:cubicBezTo>
                <a:cubicBezTo>
                  <a:pt x="12439" y="8656"/>
                  <a:pt x="12443" y="8710"/>
                  <a:pt x="12449" y="8762"/>
                </a:cubicBezTo>
                <a:cubicBezTo>
                  <a:pt x="12450" y="8774"/>
                  <a:pt x="12450" y="8848"/>
                  <a:pt x="12462" y="8855"/>
                </a:cubicBezTo>
                <a:cubicBezTo>
                  <a:pt x="12466" y="8855"/>
                  <a:pt x="12470" y="8854"/>
                  <a:pt x="12474" y="885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"/>
          <p:cNvSpPr/>
          <p:nvPr/>
        </p:nvSpPr>
        <p:spPr>
          <a:xfrm>
            <a:off x="4697280" y="2944800"/>
            <a:ext cx="573120" cy="233280"/>
          </a:xfrm>
          <a:custGeom>
            <a:avLst/>
            <a:gdLst/>
            <a:ahLst/>
            <a:rect l="l" t="t" r="r" b="b"/>
            <a:pathLst>
              <a:path w="1590" h="648">
                <a:moveTo>
                  <a:pt x="13164" y="8382"/>
                </a:moveTo>
                <a:cubicBezTo>
                  <a:pt x="13163" y="8367"/>
                  <a:pt x="13164" y="8363"/>
                  <a:pt x="13158" y="8355"/>
                </a:cubicBezTo>
                <a:cubicBezTo>
                  <a:pt x="13148" y="8401"/>
                  <a:pt x="13148" y="8446"/>
                  <a:pt x="13150" y="8493"/>
                </a:cubicBezTo>
                <a:cubicBezTo>
                  <a:pt x="13154" y="8569"/>
                  <a:pt x="13167" y="8644"/>
                  <a:pt x="13176" y="8719"/>
                </a:cubicBezTo>
                <a:cubicBezTo>
                  <a:pt x="13177" y="8727"/>
                  <a:pt x="13195" y="8825"/>
                  <a:pt x="13183" y="8828"/>
                </a:cubicBezTo>
                <a:cubicBezTo>
                  <a:pt x="13177" y="8826"/>
                  <a:pt x="13171" y="8824"/>
                  <a:pt x="13165" y="8822"/>
                </a:cubicBezTo>
              </a:path>
              <a:path w="1590" h="648">
                <a:moveTo>
                  <a:pt x="13059" y="8656"/>
                </a:moveTo>
                <a:cubicBezTo>
                  <a:pt x="13048" y="8618"/>
                  <a:pt x="13055" y="8613"/>
                  <a:pt x="13091" y="8598"/>
                </a:cubicBezTo>
                <a:cubicBezTo>
                  <a:pt x="13143" y="8576"/>
                  <a:pt x="13203" y="8569"/>
                  <a:pt x="13259" y="8562"/>
                </a:cubicBezTo>
                <a:cubicBezTo>
                  <a:pt x="13279" y="8559"/>
                  <a:pt x="13330" y="8549"/>
                  <a:pt x="13347" y="8567"/>
                </a:cubicBezTo>
                <a:cubicBezTo>
                  <a:pt x="13369" y="8589"/>
                  <a:pt x="13357" y="8639"/>
                  <a:pt x="13359" y="8667"/>
                </a:cubicBezTo>
                <a:cubicBezTo>
                  <a:pt x="13361" y="8703"/>
                  <a:pt x="13363" y="8740"/>
                  <a:pt x="13369" y="8776"/>
                </a:cubicBezTo>
                <a:cubicBezTo>
                  <a:pt x="13373" y="8802"/>
                  <a:pt x="13372" y="8804"/>
                  <a:pt x="13391" y="8815"/>
                </a:cubicBezTo>
                <a:cubicBezTo>
                  <a:pt x="13404" y="8787"/>
                  <a:pt x="13414" y="8759"/>
                  <a:pt x="13424" y="8729"/>
                </a:cubicBezTo>
                <a:cubicBezTo>
                  <a:pt x="13439" y="8681"/>
                  <a:pt x="13453" y="8618"/>
                  <a:pt x="13486" y="8577"/>
                </a:cubicBezTo>
                <a:cubicBezTo>
                  <a:pt x="13503" y="8556"/>
                  <a:pt x="13529" y="8552"/>
                  <a:pt x="13553" y="8554"/>
                </a:cubicBezTo>
                <a:cubicBezTo>
                  <a:pt x="13558" y="8555"/>
                  <a:pt x="13563" y="8555"/>
                  <a:pt x="13568" y="8556"/>
                </a:cubicBezTo>
              </a:path>
              <a:path w="1590" h="648">
                <a:moveTo>
                  <a:pt x="13683" y="8590"/>
                </a:moveTo>
                <a:cubicBezTo>
                  <a:pt x="13681" y="8621"/>
                  <a:pt x="13677" y="8653"/>
                  <a:pt x="13675" y="8684"/>
                </a:cubicBezTo>
                <a:cubicBezTo>
                  <a:pt x="13673" y="8711"/>
                  <a:pt x="13678" y="8740"/>
                  <a:pt x="13675" y="8766"/>
                </a:cubicBezTo>
              </a:path>
              <a:path w="1590" h="648">
                <a:moveTo>
                  <a:pt x="13920" y="8587"/>
                </a:moveTo>
                <a:cubicBezTo>
                  <a:pt x="13906" y="8611"/>
                  <a:pt x="13882" y="8637"/>
                  <a:pt x="13871" y="8661"/>
                </a:cubicBezTo>
                <a:cubicBezTo>
                  <a:pt x="13860" y="8685"/>
                  <a:pt x="13853" y="8712"/>
                  <a:pt x="13849" y="8738"/>
                </a:cubicBezTo>
                <a:cubicBezTo>
                  <a:pt x="13875" y="8725"/>
                  <a:pt x="13884" y="8708"/>
                  <a:pt x="13903" y="8685"/>
                </a:cubicBezTo>
                <a:cubicBezTo>
                  <a:pt x="13915" y="8670"/>
                  <a:pt x="13937" y="8635"/>
                  <a:pt x="13960" y="8636"/>
                </a:cubicBezTo>
                <a:cubicBezTo>
                  <a:pt x="13990" y="8638"/>
                  <a:pt x="14017" y="8682"/>
                  <a:pt x="14043" y="8694"/>
                </a:cubicBezTo>
                <a:cubicBezTo>
                  <a:pt x="14085" y="8714"/>
                  <a:pt x="14111" y="8710"/>
                  <a:pt x="14155" y="8700"/>
                </a:cubicBezTo>
              </a:path>
              <a:path w="1590" h="648">
                <a:moveTo>
                  <a:pt x="14287" y="8202"/>
                </a:moveTo>
                <a:cubicBezTo>
                  <a:pt x="14272" y="8148"/>
                  <a:pt x="14279" y="8293"/>
                  <a:pt x="14279" y="8305"/>
                </a:cubicBezTo>
                <a:cubicBezTo>
                  <a:pt x="14279" y="8389"/>
                  <a:pt x="14283" y="8475"/>
                  <a:pt x="14289" y="8559"/>
                </a:cubicBezTo>
                <a:cubicBezTo>
                  <a:pt x="14292" y="8604"/>
                  <a:pt x="14301" y="8646"/>
                  <a:pt x="14311" y="8690"/>
                </a:cubicBezTo>
              </a:path>
              <a:path w="1590" h="648">
                <a:moveTo>
                  <a:pt x="14631" y="8485"/>
                </a:moveTo>
                <a:cubicBezTo>
                  <a:pt x="14634" y="8472"/>
                  <a:pt x="14635" y="8468"/>
                  <a:pt x="14633" y="8460"/>
                </a:cubicBezTo>
                <a:cubicBezTo>
                  <a:pt x="14595" y="8455"/>
                  <a:pt x="14576" y="8468"/>
                  <a:pt x="14543" y="8493"/>
                </a:cubicBezTo>
                <a:cubicBezTo>
                  <a:pt x="14516" y="8513"/>
                  <a:pt x="14497" y="8533"/>
                  <a:pt x="14486" y="8564"/>
                </a:cubicBezTo>
                <a:cubicBezTo>
                  <a:pt x="14508" y="8584"/>
                  <a:pt x="14532" y="8586"/>
                  <a:pt x="14561" y="8595"/>
                </a:cubicBezTo>
                <a:cubicBezTo>
                  <a:pt x="14592" y="8605"/>
                  <a:pt x="14629" y="8621"/>
                  <a:pt x="14638" y="8656"/>
                </a:cubicBezTo>
                <a:cubicBezTo>
                  <a:pt x="14645" y="8684"/>
                  <a:pt x="14629" y="8717"/>
                  <a:pt x="14609" y="8735"/>
                </a:cubicBezTo>
                <a:cubicBezTo>
                  <a:pt x="14594" y="8749"/>
                  <a:pt x="14564" y="8759"/>
                  <a:pt x="14545" y="8751"/>
                </a:cubicBezTo>
                <a:cubicBezTo>
                  <a:pt x="14530" y="8745"/>
                  <a:pt x="14519" y="8733"/>
                  <a:pt x="14508" y="872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"/>
          <p:cNvSpPr/>
          <p:nvPr/>
        </p:nvSpPr>
        <p:spPr>
          <a:xfrm>
            <a:off x="5756400" y="2668680"/>
            <a:ext cx="47520" cy="455400"/>
          </a:xfrm>
          <a:custGeom>
            <a:avLst/>
            <a:gdLst/>
            <a:ahLst/>
            <a:rect l="l" t="t" r="r" b="b"/>
            <a:pathLst>
              <a:path w="133" h="1267">
                <a:moveTo>
                  <a:pt x="15991" y="7412"/>
                </a:moveTo>
                <a:cubicBezTo>
                  <a:pt x="16028" y="7439"/>
                  <a:pt x="16038" y="7454"/>
                  <a:pt x="16057" y="7504"/>
                </a:cubicBezTo>
                <a:cubicBezTo>
                  <a:pt x="16101" y="7623"/>
                  <a:pt x="16114" y="7747"/>
                  <a:pt x="16120" y="7873"/>
                </a:cubicBezTo>
                <a:cubicBezTo>
                  <a:pt x="16127" y="8033"/>
                  <a:pt x="16116" y="8194"/>
                  <a:pt x="16097" y="8353"/>
                </a:cubicBezTo>
                <a:cubicBezTo>
                  <a:pt x="16086" y="8447"/>
                  <a:pt x="16072" y="8539"/>
                  <a:pt x="16053" y="8631"/>
                </a:cubicBezTo>
                <a:cubicBezTo>
                  <a:pt x="16047" y="8657"/>
                  <a:pt x="16046" y="8663"/>
                  <a:pt x="16039" y="867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"/>
          <p:cNvSpPr/>
          <p:nvPr/>
        </p:nvSpPr>
        <p:spPr>
          <a:xfrm>
            <a:off x="6010200" y="2824200"/>
            <a:ext cx="160560" cy="98280"/>
          </a:xfrm>
          <a:custGeom>
            <a:avLst/>
            <a:gdLst/>
            <a:ahLst/>
            <a:rect l="l" t="t" r="r" b="b"/>
            <a:pathLst>
              <a:path w="444" h="274">
                <a:moveTo>
                  <a:pt x="16717" y="7844"/>
                </a:moveTo>
                <a:cubicBezTo>
                  <a:pt x="16707" y="7854"/>
                  <a:pt x="16704" y="7857"/>
                  <a:pt x="16698" y="7865"/>
                </a:cubicBezTo>
                <a:cubicBezTo>
                  <a:pt x="16746" y="7885"/>
                  <a:pt x="16794" y="7872"/>
                  <a:pt x="16848" y="7870"/>
                </a:cubicBezTo>
                <a:cubicBezTo>
                  <a:pt x="16924" y="7867"/>
                  <a:pt x="17005" y="7859"/>
                  <a:pt x="17081" y="7863"/>
                </a:cubicBezTo>
                <a:cubicBezTo>
                  <a:pt x="17108" y="7864"/>
                  <a:pt x="17126" y="7865"/>
                  <a:pt x="17140" y="7883"/>
                </a:cubicBezTo>
              </a:path>
              <a:path w="444" h="274">
                <a:moveTo>
                  <a:pt x="16705" y="8091"/>
                </a:moveTo>
                <a:cubicBezTo>
                  <a:pt x="16711" y="8130"/>
                  <a:pt x="16773" y="8113"/>
                  <a:pt x="16818" y="8109"/>
                </a:cubicBezTo>
                <a:cubicBezTo>
                  <a:pt x="16892" y="8102"/>
                  <a:pt x="16968" y="8088"/>
                  <a:pt x="17042" y="8076"/>
                </a:cubicBezTo>
                <a:cubicBezTo>
                  <a:pt x="17086" y="8067"/>
                  <a:pt x="17101" y="8064"/>
                  <a:pt x="17130" y="805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"/>
          <p:cNvSpPr/>
          <p:nvPr/>
        </p:nvSpPr>
        <p:spPr>
          <a:xfrm>
            <a:off x="6411960" y="2622600"/>
            <a:ext cx="2101680" cy="411120"/>
          </a:xfrm>
          <a:custGeom>
            <a:avLst/>
            <a:gdLst/>
            <a:ahLst/>
            <a:rect l="l" t="t" r="r" b="b"/>
            <a:pathLst>
              <a:path w="5837" h="1144">
                <a:moveTo>
                  <a:pt x="18090" y="7321"/>
                </a:moveTo>
                <a:cubicBezTo>
                  <a:pt x="18088" y="7300"/>
                  <a:pt x="18089" y="7295"/>
                  <a:pt x="18081" y="7285"/>
                </a:cubicBezTo>
                <a:cubicBezTo>
                  <a:pt x="18036" y="7323"/>
                  <a:pt x="18005" y="7361"/>
                  <a:pt x="17978" y="7420"/>
                </a:cubicBezTo>
                <a:cubicBezTo>
                  <a:pt x="17917" y="7551"/>
                  <a:pt x="17874" y="7693"/>
                  <a:pt x="17845" y="7834"/>
                </a:cubicBezTo>
                <a:cubicBezTo>
                  <a:pt x="17816" y="7974"/>
                  <a:pt x="17802" y="8115"/>
                  <a:pt x="17822" y="8257"/>
                </a:cubicBezTo>
                <a:cubicBezTo>
                  <a:pt x="17828" y="8303"/>
                  <a:pt x="17850" y="8407"/>
                  <a:pt x="17915" y="8410"/>
                </a:cubicBezTo>
                <a:cubicBezTo>
                  <a:pt x="17926" y="8407"/>
                  <a:pt x="17938" y="8403"/>
                  <a:pt x="17949" y="8400"/>
                </a:cubicBezTo>
              </a:path>
              <a:path w="5837" h="1144">
                <a:moveTo>
                  <a:pt x="18379" y="7319"/>
                </a:moveTo>
                <a:cubicBezTo>
                  <a:pt x="18359" y="7367"/>
                  <a:pt x="18350" y="7412"/>
                  <a:pt x="18337" y="7462"/>
                </a:cubicBezTo>
                <a:cubicBezTo>
                  <a:pt x="18321" y="7527"/>
                  <a:pt x="18303" y="7593"/>
                  <a:pt x="18296" y="7660"/>
                </a:cubicBezTo>
                <a:cubicBezTo>
                  <a:pt x="18296" y="7668"/>
                  <a:pt x="18295" y="7676"/>
                  <a:pt x="18295" y="7684"/>
                </a:cubicBezTo>
                <a:cubicBezTo>
                  <a:pt x="18330" y="7671"/>
                  <a:pt x="18347" y="7615"/>
                  <a:pt x="18369" y="7581"/>
                </a:cubicBezTo>
                <a:cubicBezTo>
                  <a:pt x="18412" y="7515"/>
                  <a:pt x="18457" y="7448"/>
                  <a:pt x="18509" y="7388"/>
                </a:cubicBezTo>
                <a:cubicBezTo>
                  <a:pt x="18535" y="7358"/>
                  <a:pt x="18549" y="7347"/>
                  <a:pt x="18585" y="7336"/>
                </a:cubicBezTo>
                <a:cubicBezTo>
                  <a:pt x="18609" y="7381"/>
                  <a:pt x="18595" y="7441"/>
                  <a:pt x="18589" y="7494"/>
                </a:cubicBezTo>
                <a:cubicBezTo>
                  <a:pt x="18578" y="7589"/>
                  <a:pt x="18564" y="7681"/>
                  <a:pt x="18543" y="7774"/>
                </a:cubicBezTo>
                <a:cubicBezTo>
                  <a:pt x="18530" y="7827"/>
                  <a:pt x="18526" y="7842"/>
                  <a:pt x="18518" y="7876"/>
                </a:cubicBezTo>
              </a:path>
              <a:path w="5837" h="1144">
                <a:moveTo>
                  <a:pt x="18439" y="8088"/>
                </a:moveTo>
                <a:cubicBezTo>
                  <a:pt x="18416" y="8078"/>
                  <a:pt x="18418" y="8130"/>
                  <a:pt x="18416" y="8156"/>
                </a:cubicBezTo>
                <a:cubicBezTo>
                  <a:pt x="18412" y="8207"/>
                  <a:pt x="18409" y="8262"/>
                  <a:pt x="18416" y="8313"/>
                </a:cubicBezTo>
                <a:cubicBezTo>
                  <a:pt x="18419" y="8337"/>
                  <a:pt x="18425" y="8354"/>
                  <a:pt x="18435" y="8375"/>
                </a:cubicBezTo>
              </a:path>
              <a:path w="5837" h="1144">
                <a:moveTo>
                  <a:pt x="18696" y="8100"/>
                </a:moveTo>
                <a:cubicBezTo>
                  <a:pt x="18708" y="8093"/>
                  <a:pt x="18712" y="8091"/>
                  <a:pt x="18721" y="8093"/>
                </a:cubicBezTo>
                <a:cubicBezTo>
                  <a:pt x="18721" y="8136"/>
                  <a:pt x="18698" y="8160"/>
                  <a:pt x="18667" y="8191"/>
                </a:cubicBezTo>
                <a:cubicBezTo>
                  <a:pt x="18617" y="8242"/>
                  <a:pt x="18559" y="8286"/>
                  <a:pt x="18504" y="8332"/>
                </a:cubicBezTo>
                <a:cubicBezTo>
                  <a:pt x="18479" y="8353"/>
                  <a:pt x="18462" y="8369"/>
                  <a:pt x="18445" y="8396"/>
                </a:cubicBezTo>
                <a:cubicBezTo>
                  <a:pt x="18484" y="8409"/>
                  <a:pt x="18528" y="8401"/>
                  <a:pt x="18569" y="8396"/>
                </a:cubicBezTo>
                <a:cubicBezTo>
                  <a:pt x="18634" y="8388"/>
                  <a:pt x="18699" y="8389"/>
                  <a:pt x="18765" y="8384"/>
                </a:cubicBezTo>
                <a:cubicBezTo>
                  <a:pt x="18798" y="8382"/>
                  <a:pt x="18808" y="8382"/>
                  <a:pt x="18829" y="8374"/>
                </a:cubicBezTo>
              </a:path>
              <a:path w="5837" h="1144">
                <a:moveTo>
                  <a:pt x="19002" y="7428"/>
                </a:moveTo>
                <a:cubicBezTo>
                  <a:pt x="19025" y="7403"/>
                  <a:pt x="19024" y="7399"/>
                  <a:pt x="19056" y="7395"/>
                </a:cubicBezTo>
                <a:cubicBezTo>
                  <a:pt x="19106" y="7456"/>
                  <a:pt x="19130" y="7522"/>
                  <a:pt x="19155" y="7598"/>
                </a:cubicBezTo>
                <a:cubicBezTo>
                  <a:pt x="19201" y="7738"/>
                  <a:pt x="19223" y="7883"/>
                  <a:pt x="19230" y="8031"/>
                </a:cubicBezTo>
                <a:cubicBezTo>
                  <a:pt x="19235" y="8141"/>
                  <a:pt x="19233" y="8251"/>
                  <a:pt x="19216" y="8360"/>
                </a:cubicBezTo>
                <a:cubicBezTo>
                  <a:pt x="19209" y="8396"/>
                  <a:pt x="19207" y="8405"/>
                  <a:pt x="19202" y="8428"/>
                </a:cubicBezTo>
              </a:path>
              <a:path w="5837" h="1144">
                <a:moveTo>
                  <a:pt x="19725" y="7898"/>
                </a:moveTo>
                <a:cubicBezTo>
                  <a:pt x="19709" y="7865"/>
                  <a:pt x="19716" y="7890"/>
                  <a:pt x="19720" y="7914"/>
                </a:cubicBezTo>
                <a:cubicBezTo>
                  <a:pt x="19730" y="7983"/>
                  <a:pt x="19738" y="8052"/>
                  <a:pt x="19745" y="8121"/>
                </a:cubicBezTo>
                <a:cubicBezTo>
                  <a:pt x="19754" y="8203"/>
                  <a:pt x="19760" y="8284"/>
                  <a:pt x="19768" y="8366"/>
                </a:cubicBezTo>
                <a:cubicBezTo>
                  <a:pt x="19771" y="8397"/>
                  <a:pt x="19772" y="8403"/>
                  <a:pt x="19775" y="8422"/>
                </a:cubicBezTo>
                <a:cubicBezTo>
                  <a:pt x="19788" y="8377"/>
                  <a:pt x="19790" y="8330"/>
                  <a:pt x="19799" y="8284"/>
                </a:cubicBezTo>
                <a:cubicBezTo>
                  <a:pt x="19815" y="8202"/>
                  <a:pt x="19842" y="8119"/>
                  <a:pt x="19884" y="8046"/>
                </a:cubicBezTo>
                <a:cubicBezTo>
                  <a:pt x="19908" y="8004"/>
                  <a:pt x="19950" y="7935"/>
                  <a:pt x="20007" y="7935"/>
                </a:cubicBezTo>
                <a:cubicBezTo>
                  <a:pt x="20015" y="7938"/>
                  <a:pt x="20022" y="7940"/>
                  <a:pt x="20030" y="7943"/>
                </a:cubicBezTo>
                <a:cubicBezTo>
                  <a:pt x="20055" y="7988"/>
                  <a:pt x="20059" y="8021"/>
                  <a:pt x="20037" y="8071"/>
                </a:cubicBezTo>
                <a:cubicBezTo>
                  <a:pt x="20005" y="8145"/>
                  <a:pt x="19925" y="8192"/>
                  <a:pt x="19844" y="8182"/>
                </a:cubicBezTo>
                <a:cubicBezTo>
                  <a:pt x="19798" y="8176"/>
                  <a:pt x="19782" y="8150"/>
                  <a:pt x="19766" y="8112"/>
                </a:cubicBezTo>
              </a:path>
              <a:path w="5837" h="1144">
                <a:moveTo>
                  <a:pt x="20301" y="7448"/>
                </a:moveTo>
                <a:cubicBezTo>
                  <a:pt x="20289" y="7415"/>
                  <a:pt x="20294" y="7505"/>
                  <a:pt x="20294" y="7515"/>
                </a:cubicBezTo>
                <a:cubicBezTo>
                  <a:pt x="20293" y="7570"/>
                  <a:pt x="20293" y="7629"/>
                  <a:pt x="20300" y="7684"/>
                </a:cubicBezTo>
                <a:cubicBezTo>
                  <a:pt x="20301" y="7694"/>
                  <a:pt x="20301" y="7770"/>
                  <a:pt x="20331" y="7745"/>
                </a:cubicBezTo>
                <a:cubicBezTo>
                  <a:pt x="20334" y="7740"/>
                  <a:pt x="20337" y="7735"/>
                  <a:pt x="20340" y="7730"/>
                </a:cubicBezTo>
              </a:path>
              <a:path w="5837" h="1144">
                <a:moveTo>
                  <a:pt x="20658" y="7528"/>
                </a:moveTo>
                <a:cubicBezTo>
                  <a:pt x="20648" y="7500"/>
                  <a:pt x="20629" y="7503"/>
                  <a:pt x="20599" y="7516"/>
                </a:cubicBezTo>
                <a:cubicBezTo>
                  <a:pt x="20546" y="7538"/>
                  <a:pt x="20495" y="7572"/>
                  <a:pt x="20448" y="7604"/>
                </a:cubicBezTo>
                <a:cubicBezTo>
                  <a:pt x="20401" y="7636"/>
                  <a:pt x="20352" y="7670"/>
                  <a:pt x="20309" y="7708"/>
                </a:cubicBezTo>
                <a:cubicBezTo>
                  <a:pt x="20294" y="7723"/>
                  <a:pt x="20290" y="7726"/>
                  <a:pt x="20284" y="7738"/>
                </a:cubicBezTo>
                <a:cubicBezTo>
                  <a:pt x="20320" y="7752"/>
                  <a:pt x="20355" y="7758"/>
                  <a:pt x="20393" y="7766"/>
                </a:cubicBezTo>
                <a:cubicBezTo>
                  <a:pt x="20448" y="7778"/>
                  <a:pt x="20503" y="7790"/>
                  <a:pt x="20557" y="7807"/>
                </a:cubicBezTo>
                <a:cubicBezTo>
                  <a:pt x="20591" y="7818"/>
                  <a:pt x="20681" y="7815"/>
                  <a:pt x="20658" y="7842"/>
                </a:cubicBezTo>
                <a:cubicBezTo>
                  <a:pt x="20661" y="7856"/>
                  <a:pt x="20657" y="7859"/>
                  <a:pt x="20635" y="7852"/>
                </a:cubicBezTo>
              </a:path>
              <a:path w="5837" h="1144">
                <a:moveTo>
                  <a:pt x="21326" y="7587"/>
                </a:moveTo>
                <a:cubicBezTo>
                  <a:pt x="21324" y="7570"/>
                  <a:pt x="21324" y="7565"/>
                  <a:pt x="21314" y="7558"/>
                </a:cubicBezTo>
                <a:cubicBezTo>
                  <a:pt x="21269" y="7570"/>
                  <a:pt x="21256" y="7609"/>
                  <a:pt x="21232" y="7650"/>
                </a:cubicBezTo>
                <a:cubicBezTo>
                  <a:pt x="21183" y="7733"/>
                  <a:pt x="21150" y="7828"/>
                  <a:pt x="21129" y="7922"/>
                </a:cubicBezTo>
                <a:cubicBezTo>
                  <a:pt x="21110" y="8009"/>
                  <a:pt x="21097" y="8111"/>
                  <a:pt x="21114" y="8199"/>
                </a:cubicBezTo>
                <a:cubicBezTo>
                  <a:pt x="21126" y="8261"/>
                  <a:pt x="21154" y="8280"/>
                  <a:pt x="21209" y="8289"/>
                </a:cubicBezTo>
              </a:path>
              <a:path w="5837" h="1144">
                <a:moveTo>
                  <a:pt x="21488" y="7830"/>
                </a:moveTo>
                <a:cubicBezTo>
                  <a:pt x="21488" y="7825"/>
                  <a:pt x="21487" y="7819"/>
                  <a:pt x="21487" y="7814"/>
                </a:cubicBezTo>
                <a:cubicBezTo>
                  <a:pt x="21466" y="7831"/>
                  <a:pt x="21457" y="7881"/>
                  <a:pt x="21452" y="7914"/>
                </a:cubicBezTo>
                <a:cubicBezTo>
                  <a:pt x="21442" y="7975"/>
                  <a:pt x="21431" y="8042"/>
                  <a:pt x="21430" y="8104"/>
                </a:cubicBezTo>
                <a:cubicBezTo>
                  <a:pt x="21430" y="8142"/>
                  <a:pt x="21422" y="8183"/>
                  <a:pt x="21461" y="8171"/>
                </a:cubicBezTo>
              </a:path>
              <a:path w="5837" h="1144">
                <a:moveTo>
                  <a:pt x="21644" y="7935"/>
                </a:moveTo>
                <a:cubicBezTo>
                  <a:pt x="21650" y="7960"/>
                  <a:pt x="21665" y="7958"/>
                  <a:pt x="21692" y="7957"/>
                </a:cubicBezTo>
                <a:cubicBezTo>
                  <a:pt x="21731" y="7956"/>
                  <a:pt x="21768" y="7953"/>
                  <a:pt x="21805" y="7941"/>
                </a:cubicBezTo>
                <a:cubicBezTo>
                  <a:pt x="21839" y="7930"/>
                  <a:pt x="21868" y="7920"/>
                  <a:pt x="21899" y="7903"/>
                </a:cubicBezTo>
              </a:path>
              <a:path w="5837" h="1144">
                <a:moveTo>
                  <a:pt x="21954" y="7889"/>
                </a:moveTo>
                <a:cubicBezTo>
                  <a:pt x="21946" y="7930"/>
                  <a:pt x="21943" y="7971"/>
                  <a:pt x="21937" y="8012"/>
                </a:cubicBezTo>
                <a:cubicBezTo>
                  <a:pt x="21929" y="8067"/>
                  <a:pt x="21924" y="8121"/>
                  <a:pt x="21921" y="8176"/>
                </a:cubicBezTo>
                <a:cubicBezTo>
                  <a:pt x="21920" y="8196"/>
                  <a:pt x="21918" y="8216"/>
                  <a:pt x="21917" y="8236"/>
                </a:cubicBezTo>
                <a:cubicBezTo>
                  <a:pt x="21920" y="8201"/>
                  <a:pt x="21924" y="8166"/>
                  <a:pt x="21930" y="8132"/>
                </a:cubicBezTo>
                <a:cubicBezTo>
                  <a:pt x="21944" y="8052"/>
                  <a:pt x="21974" y="7980"/>
                  <a:pt x="22030" y="7920"/>
                </a:cubicBezTo>
                <a:cubicBezTo>
                  <a:pt x="22066" y="7881"/>
                  <a:pt x="22112" y="7852"/>
                  <a:pt x="22167" y="7864"/>
                </a:cubicBezTo>
                <a:cubicBezTo>
                  <a:pt x="22211" y="7874"/>
                  <a:pt x="22250" y="7917"/>
                  <a:pt x="22268" y="7957"/>
                </a:cubicBezTo>
                <a:cubicBezTo>
                  <a:pt x="22285" y="7996"/>
                  <a:pt x="22284" y="8048"/>
                  <a:pt x="22254" y="8080"/>
                </a:cubicBezTo>
                <a:cubicBezTo>
                  <a:pt x="22211" y="8125"/>
                  <a:pt x="22130" y="8118"/>
                  <a:pt x="22077" y="8105"/>
                </a:cubicBezTo>
                <a:cubicBezTo>
                  <a:pt x="22040" y="8096"/>
                  <a:pt x="22009" y="8081"/>
                  <a:pt x="22001" y="8041"/>
                </a:cubicBezTo>
                <a:cubicBezTo>
                  <a:pt x="22001" y="8033"/>
                  <a:pt x="22000" y="8026"/>
                  <a:pt x="22000" y="8018"/>
                </a:cubicBezTo>
              </a:path>
              <a:path w="5837" h="1144">
                <a:moveTo>
                  <a:pt x="22313" y="7613"/>
                </a:moveTo>
                <a:cubicBezTo>
                  <a:pt x="22326" y="7597"/>
                  <a:pt x="22347" y="7559"/>
                  <a:pt x="22375" y="7570"/>
                </a:cubicBezTo>
                <a:cubicBezTo>
                  <a:pt x="22411" y="7584"/>
                  <a:pt x="22414" y="7679"/>
                  <a:pt x="22417" y="7707"/>
                </a:cubicBezTo>
                <a:cubicBezTo>
                  <a:pt x="22426" y="7789"/>
                  <a:pt x="22422" y="7875"/>
                  <a:pt x="22408" y="7956"/>
                </a:cubicBezTo>
                <a:cubicBezTo>
                  <a:pt x="22401" y="7997"/>
                  <a:pt x="22394" y="8065"/>
                  <a:pt x="22367" y="8099"/>
                </a:cubicBezTo>
                <a:cubicBezTo>
                  <a:pt x="22362" y="8102"/>
                  <a:pt x="22358" y="8105"/>
                  <a:pt x="22353" y="8108"/>
                </a:cubicBezTo>
              </a:path>
              <a:path w="5837" h="1144">
                <a:moveTo>
                  <a:pt x="22812" y="7503"/>
                </a:moveTo>
                <a:cubicBezTo>
                  <a:pt x="22800" y="7533"/>
                  <a:pt x="22796" y="7567"/>
                  <a:pt x="22786" y="7600"/>
                </a:cubicBezTo>
                <a:cubicBezTo>
                  <a:pt x="22772" y="7646"/>
                  <a:pt x="22758" y="7691"/>
                  <a:pt x="22743" y="7737"/>
                </a:cubicBezTo>
                <a:cubicBezTo>
                  <a:pt x="22737" y="7754"/>
                  <a:pt x="22735" y="7758"/>
                  <a:pt x="22733" y="7769"/>
                </a:cubicBezTo>
                <a:cubicBezTo>
                  <a:pt x="22759" y="7735"/>
                  <a:pt x="22784" y="7701"/>
                  <a:pt x="22809" y="7666"/>
                </a:cubicBezTo>
                <a:cubicBezTo>
                  <a:pt x="22837" y="7627"/>
                  <a:pt x="22865" y="7586"/>
                  <a:pt x="22896" y="7549"/>
                </a:cubicBezTo>
                <a:cubicBezTo>
                  <a:pt x="22908" y="7536"/>
                  <a:pt x="22910" y="7532"/>
                  <a:pt x="22921" y="7531"/>
                </a:cubicBezTo>
                <a:cubicBezTo>
                  <a:pt x="22935" y="7576"/>
                  <a:pt x="22928" y="7615"/>
                  <a:pt x="22924" y="7663"/>
                </a:cubicBezTo>
                <a:cubicBezTo>
                  <a:pt x="22919" y="7716"/>
                  <a:pt x="22915" y="7770"/>
                  <a:pt x="22916" y="7823"/>
                </a:cubicBezTo>
                <a:cubicBezTo>
                  <a:pt x="22918" y="7844"/>
                  <a:pt x="22918" y="7850"/>
                  <a:pt x="22923" y="7862"/>
                </a:cubicBezTo>
              </a:path>
              <a:path w="5837" h="1144">
                <a:moveTo>
                  <a:pt x="23015" y="7710"/>
                </a:moveTo>
                <a:cubicBezTo>
                  <a:pt x="23025" y="7690"/>
                  <a:pt x="23043" y="7691"/>
                  <a:pt x="23070" y="7689"/>
                </a:cubicBezTo>
                <a:cubicBezTo>
                  <a:pt x="23115" y="7686"/>
                  <a:pt x="23162" y="7682"/>
                  <a:pt x="23206" y="7674"/>
                </a:cubicBezTo>
                <a:cubicBezTo>
                  <a:pt x="23233" y="7667"/>
                  <a:pt x="23241" y="7665"/>
                  <a:pt x="23259" y="7660"/>
                </a:cubicBezTo>
              </a:path>
              <a:path w="5837" h="1144">
                <a:moveTo>
                  <a:pt x="23398" y="7491"/>
                </a:moveTo>
                <a:cubicBezTo>
                  <a:pt x="23392" y="7522"/>
                  <a:pt x="23381" y="7556"/>
                  <a:pt x="23377" y="7586"/>
                </a:cubicBezTo>
                <a:cubicBezTo>
                  <a:pt x="23370" y="7639"/>
                  <a:pt x="23375" y="7688"/>
                  <a:pt x="23377" y="7741"/>
                </a:cubicBezTo>
                <a:cubicBezTo>
                  <a:pt x="23378" y="7773"/>
                  <a:pt x="23381" y="7796"/>
                  <a:pt x="23394" y="7826"/>
                </a:cubicBezTo>
              </a:path>
              <a:path w="5837" h="1144">
                <a:moveTo>
                  <a:pt x="23599" y="7480"/>
                </a:moveTo>
                <a:cubicBezTo>
                  <a:pt x="23614" y="7478"/>
                  <a:pt x="23642" y="7469"/>
                  <a:pt x="23648" y="7491"/>
                </a:cubicBezTo>
                <a:cubicBezTo>
                  <a:pt x="23656" y="7524"/>
                  <a:pt x="23620" y="7560"/>
                  <a:pt x="23599" y="7581"/>
                </a:cubicBezTo>
                <a:cubicBezTo>
                  <a:pt x="23568" y="7613"/>
                  <a:pt x="23524" y="7631"/>
                  <a:pt x="23484" y="7650"/>
                </a:cubicBezTo>
                <a:cubicBezTo>
                  <a:pt x="23463" y="7660"/>
                  <a:pt x="23442" y="7665"/>
                  <a:pt x="23434" y="7687"/>
                </a:cubicBezTo>
                <a:cubicBezTo>
                  <a:pt x="23458" y="7708"/>
                  <a:pt x="23495" y="7723"/>
                  <a:pt x="23525" y="7736"/>
                </a:cubicBezTo>
                <a:cubicBezTo>
                  <a:pt x="23564" y="7753"/>
                  <a:pt x="23602" y="7772"/>
                  <a:pt x="23632" y="7804"/>
                </a:cubicBezTo>
                <a:cubicBezTo>
                  <a:pt x="23636" y="7810"/>
                  <a:pt x="23640" y="7815"/>
                  <a:pt x="23644" y="782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"/>
          <p:cNvSpPr/>
          <p:nvPr/>
        </p:nvSpPr>
        <p:spPr>
          <a:xfrm>
            <a:off x="1295280" y="4105440"/>
            <a:ext cx="806400" cy="388800"/>
          </a:xfrm>
          <a:custGeom>
            <a:avLst/>
            <a:gdLst/>
            <a:ahLst/>
            <a:rect l="l" t="t" r="r" b="b"/>
            <a:pathLst>
              <a:path w="2237" h="1079">
                <a:moveTo>
                  <a:pt x="3634" y="11631"/>
                </a:moveTo>
                <a:cubicBezTo>
                  <a:pt x="3621" y="11630"/>
                  <a:pt x="3616" y="11608"/>
                  <a:pt x="3610" y="11649"/>
                </a:cubicBezTo>
                <a:cubicBezTo>
                  <a:pt x="3602" y="11705"/>
                  <a:pt x="3604" y="11770"/>
                  <a:pt x="3606" y="11826"/>
                </a:cubicBezTo>
                <a:cubicBezTo>
                  <a:pt x="3611" y="11943"/>
                  <a:pt x="3623" y="12059"/>
                  <a:pt x="3636" y="12175"/>
                </a:cubicBezTo>
                <a:cubicBezTo>
                  <a:pt x="3646" y="12268"/>
                  <a:pt x="3659" y="12360"/>
                  <a:pt x="3667" y="12453"/>
                </a:cubicBezTo>
                <a:cubicBezTo>
                  <a:pt x="3668" y="12463"/>
                  <a:pt x="3668" y="12472"/>
                  <a:pt x="3669" y="12482"/>
                </a:cubicBezTo>
                <a:cubicBezTo>
                  <a:pt x="3647" y="12439"/>
                  <a:pt x="3632" y="12395"/>
                  <a:pt x="3622" y="12340"/>
                </a:cubicBezTo>
                <a:cubicBezTo>
                  <a:pt x="3602" y="12228"/>
                  <a:pt x="3598" y="12114"/>
                  <a:pt x="3601" y="12000"/>
                </a:cubicBezTo>
                <a:cubicBezTo>
                  <a:pt x="3606" y="11830"/>
                  <a:pt x="3621" y="11636"/>
                  <a:pt x="3697" y="11480"/>
                </a:cubicBezTo>
                <a:cubicBezTo>
                  <a:pt x="3721" y="11431"/>
                  <a:pt x="3737" y="11421"/>
                  <a:pt x="3783" y="11404"/>
                </a:cubicBezTo>
                <a:cubicBezTo>
                  <a:pt x="3840" y="11447"/>
                  <a:pt x="3856" y="11494"/>
                  <a:pt x="3868" y="11567"/>
                </a:cubicBezTo>
                <a:cubicBezTo>
                  <a:pt x="3884" y="11666"/>
                  <a:pt x="3871" y="11767"/>
                  <a:pt x="3833" y="11860"/>
                </a:cubicBezTo>
                <a:cubicBezTo>
                  <a:pt x="3807" y="11923"/>
                  <a:pt x="3764" y="11986"/>
                  <a:pt x="3700" y="12016"/>
                </a:cubicBezTo>
                <a:cubicBezTo>
                  <a:pt x="3676" y="12027"/>
                  <a:pt x="3632" y="12031"/>
                  <a:pt x="3623" y="11997"/>
                </a:cubicBezTo>
                <a:cubicBezTo>
                  <a:pt x="3617" y="11976"/>
                  <a:pt x="3655" y="11941"/>
                  <a:pt x="3665" y="11928"/>
                </a:cubicBezTo>
              </a:path>
              <a:path w="2237" h="1079">
                <a:moveTo>
                  <a:pt x="3832" y="11964"/>
                </a:moveTo>
                <a:cubicBezTo>
                  <a:pt x="3847" y="12021"/>
                  <a:pt x="3855" y="12079"/>
                  <a:pt x="3864" y="12138"/>
                </a:cubicBezTo>
                <a:cubicBezTo>
                  <a:pt x="3871" y="12185"/>
                  <a:pt x="3882" y="12237"/>
                  <a:pt x="3904" y="12280"/>
                </a:cubicBezTo>
                <a:cubicBezTo>
                  <a:pt x="3912" y="12291"/>
                  <a:pt x="3913" y="12294"/>
                  <a:pt x="3922" y="12296"/>
                </a:cubicBezTo>
                <a:cubicBezTo>
                  <a:pt x="3934" y="12261"/>
                  <a:pt x="3931" y="12225"/>
                  <a:pt x="3933" y="12188"/>
                </a:cubicBezTo>
                <a:cubicBezTo>
                  <a:pt x="3936" y="12126"/>
                  <a:pt x="3938" y="12060"/>
                  <a:pt x="3958" y="12000"/>
                </a:cubicBezTo>
                <a:cubicBezTo>
                  <a:pt x="3967" y="11972"/>
                  <a:pt x="3995" y="11913"/>
                  <a:pt x="4030" y="11907"/>
                </a:cubicBezTo>
                <a:cubicBezTo>
                  <a:pt x="4056" y="11903"/>
                  <a:pt x="4093" y="11922"/>
                  <a:pt x="4117" y="11931"/>
                </a:cubicBezTo>
              </a:path>
              <a:path w="2237" h="1079">
                <a:moveTo>
                  <a:pt x="4469" y="11515"/>
                </a:moveTo>
                <a:cubicBezTo>
                  <a:pt x="4478" y="11482"/>
                  <a:pt x="4485" y="11453"/>
                  <a:pt x="4489" y="11419"/>
                </a:cubicBezTo>
                <a:cubicBezTo>
                  <a:pt x="4472" y="11472"/>
                  <a:pt x="4453" y="11527"/>
                  <a:pt x="4438" y="11582"/>
                </a:cubicBezTo>
                <a:cubicBezTo>
                  <a:pt x="4405" y="11704"/>
                  <a:pt x="4379" y="11830"/>
                  <a:pt x="4366" y="11956"/>
                </a:cubicBezTo>
                <a:cubicBezTo>
                  <a:pt x="4356" y="12048"/>
                  <a:pt x="4344" y="12169"/>
                  <a:pt x="4382" y="12258"/>
                </a:cubicBezTo>
                <a:cubicBezTo>
                  <a:pt x="4401" y="12302"/>
                  <a:pt x="4441" y="12334"/>
                  <a:pt x="4481" y="12294"/>
                </a:cubicBezTo>
                <a:cubicBezTo>
                  <a:pt x="4488" y="12284"/>
                  <a:pt x="4496" y="12273"/>
                  <a:pt x="4503" y="12263"/>
                </a:cubicBezTo>
              </a:path>
              <a:path w="2237" h="1079">
                <a:moveTo>
                  <a:pt x="4572" y="11864"/>
                </a:moveTo>
                <a:cubicBezTo>
                  <a:pt x="4572" y="11849"/>
                  <a:pt x="4573" y="11839"/>
                  <a:pt x="4571" y="11825"/>
                </a:cubicBezTo>
                <a:cubicBezTo>
                  <a:pt x="4572" y="11864"/>
                  <a:pt x="4566" y="11900"/>
                  <a:pt x="4559" y="11939"/>
                </a:cubicBezTo>
                <a:cubicBezTo>
                  <a:pt x="4547" y="12000"/>
                  <a:pt x="4532" y="12060"/>
                  <a:pt x="4524" y="12122"/>
                </a:cubicBezTo>
                <a:cubicBezTo>
                  <a:pt x="4519" y="12160"/>
                  <a:pt x="4513" y="12210"/>
                  <a:pt x="4538" y="12243"/>
                </a:cubicBezTo>
                <a:cubicBezTo>
                  <a:pt x="4556" y="12266"/>
                  <a:pt x="4590" y="12265"/>
                  <a:pt x="4616" y="12262"/>
                </a:cubicBezTo>
                <a:cubicBezTo>
                  <a:pt x="4651" y="12258"/>
                  <a:pt x="4675" y="12244"/>
                  <a:pt x="4703" y="12228"/>
                </a:cubicBezTo>
                <a:cubicBezTo>
                  <a:pt x="4732" y="12212"/>
                  <a:pt x="4745" y="12205"/>
                  <a:pt x="4766" y="12180"/>
                </a:cubicBezTo>
              </a:path>
              <a:path w="2237" h="1079">
                <a:moveTo>
                  <a:pt x="4597" y="12046"/>
                </a:moveTo>
                <a:cubicBezTo>
                  <a:pt x="4585" y="12027"/>
                  <a:pt x="4588" y="12010"/>
                  <a:pt x="4610" y="11994"/>
                </a:cubicBezTo>
                <a:cubicBezTo>
                  <a:pt x="4653" y="11963"/>
                  <a:pt x="4708" y="11948"/>
                  <a:pt x="4757" y="11931"/>
                </a:cubicBezTo>
                <a:cubicBezTo>
                  <a:pt x="4795" y="11918"/>
                  <a:pt x="4834" y="11910"/>
                  <a:pt x="4871" y="11898"/>
                </a:cubicBezTo>
              </a:path>
              <a:path w="2237" h="1079">
                <a:moveTo>
                  <a:pt x="4538" y="11838"/>
                </a:moveTo>
                <a:cubicBezTo>
                  <a:pt x="4539" y="11811"/>
                  <a:pt x="4585" y="11780"/>
                  <a:pt x="4611" y="11767"/>
                </a:cubicBezTo>
                <a:cubicBezTo>
                  <a:pt x="4671" y="11737"/>
                  <a:pt x="4748" y="11708"/>
                  <a:pt x="4814" y="11699"/>
                </a:cubicBezTo>
                <a:cubicBezTo>
                  <a:pt x="4849" y="11694"/>
                  <a:pt x="4875" y="11698"/>
                  <a:pt x="4908" y="11706"/>
                </a:cubicBezTo>
              </a:path>
              <a:path w="2237" h="1079">
                <a:moveTo>
                  <a:pt x="5018" y="11520"/>
                </a:moveTo>
                <a:cubicBezTo>
                  <a:pt x="5016" y="11501"/>
                  <a:pt x="5014" y="11496"/>
                  <a:pt x="5021" y="11486"/>
                </a:cubicBezTo>
                <a:cubicBezTo>
                  <a:pt x="5056" y="11529"/>
                  <a:pt x="5081" y="11573"/>
                  <a:pt x="5099" y="11637"/>
                </a:cubicBezTo>
                <a:cubicBezTo>
                  <a:pt x="5133" y="11757"/>
                  <a:pt x="5152" y="11884"/>
                  <a:pt x="5154" y="12008"/>
                </a:cubicBezTo>
                <a:cubicBezTo>
                  <a:pt x="5156" y="12111"/>
                  <a:pt x="5147" y="12217"/>
                  <a:pt x="5107" y="12312"/>
                </a:cubicBezTo>
                <a:cubicBezTo>
                  <a:pt x="5092" y="12348"/>
                  <a:pt x="5080" y="12352"/>
                  <a:pt x="5057" y="12376"/>
                </a:cubicBezTo>
                <a:cubicBezTo>
                  <a:pt x="5046" y="12326"/>
                  <a:pt x="5068" y="12287"/>
                  <a:pt x="5086" y="12239"/>
                </a:cubicBezTo>
              </a:path>
              <a:path w="2237" h="1079">
                <a:moveTo>
                  <a:pt x="5547" y="11835"/>
                </a:moveTo>
                <a:cubicBezTo>
                  <a:pt x="5583" y="11803"/>
                  <a:pt x="5631" y="11790"/>
                  <a:pt x="5681" y="11782"/>
                </a:cubicBezTo>
                <a:cubicBezTo>
                  <a:pt x="5735" y="11773"/>
                  <a:pt x="5781" y="11776"/>
                  <a:pt x="5829" y="11799"/>
                </a:cubicBezTo>
              </a:path>
              <a:path w="2237" h="1079">
                <a:moveTo>
                  <a:pt x="5534" y="12057"/>
                </a:moveTo>
                <a:cubicBezTo>
                  <a:pt x="5512" y="12073"/>
                  <a:pt x="5505" y="12076"/>
                  <a:pt x="5498" y="12092"/>
                </a:cubicBezTo>
                <a:cubicBezTo>
                  <a:pt x="5513" y="12110"/>
                  <a:pt x="5564" y="12098"/>
                  <a:pt x="5591" y="12095"/>
                </a:cubicBezTo>
                <a:cubicBezTo>
                  <a:pt x="5660" y="12087"/>
                  <a:pt x="5727" y="12072"/>
                  <a:pt x="5793" y="12050"/>
                </a:cubicBezTo>
                <a:cubicBezTo>
                  <a:pt x="5807" y="12045"/>
                  <a:pt x="5822" y="12040"/>
                  <a:pt x="5836" y="1203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"/>
          <p:cNvSpPr/>
          <p:nvPr/>
        </p:nvSpPr>
        <p:spPr>
          <a:xfrm>
            <a:off x="2327400" y="4100400"/>
            <a:ext cx="1135080" cy="630360"/>
          </a:xfrm>
          <a:custGeom>
            <a:avLst/>
            <a:gdLst/>
            <a:ahLst/>
            <a:rect l="l" t="t" r="r" b="b"/>
            <a:pathLst>
              <a:path w="3153" h="1750">
                <a:moveTo>
                  <a:pt x="6502" y="11612"/>
                </a:moveTo>
                <a:cubicBezTo>
                  <a:pt x="6495" y="11577"/>
                  <a:pt x="6489" y="11552"/>
                  <a:pt x="6474" y="11521"/>
                </a:cubicBezTo>
                <a:cubicBezTo>
                  <a:pt x="6461" y="11573"/>
                  <a:pt x="6469" y="11633"/>
                  <a:pt x="6473" y="11688"/>
                </a:cubicBezTo>
                <a:cubicBezTo>
                  <a:pt x="6481" y="11800"/>
                  <a:pt x="6487" y="11911"/>
                  <a:pt x="6495" y="12023"/>
                </a:cubicBezTo>
                <a:cubicBezTo>
                  <a:pt x="6497" y="12058"/>
                  <a:pt x="6485" y="12213"/>
                  <a:pt x="6518" y="12241"/>
                </a:cubicBezTo>
                <a:cubicBezTo>
                  <a:pt x="6523" y="12238"/>
                  <a:pt x="6527" y="12235"/>
                  <a:pt x="6532" y="12232"/>
                </a:cubicBezTo>
              </a:path>
              <a:path w="3153" h="1750">
                <a:moveTo>
                  <a:pt x="6762" y="11858"/>
                </a:moveTo>
                <a:cubicBezTo>
                  <a:pt x="6765" y="11886"/>
                  <a:pt x="6814" y="11879"/>
                  <a:pt x="6842" y="11880"/>
                </a:cubicBezTo>
                <a:cubicBezTo>
                  <a:pt x="6915" y="11884"/>
                  <a:pt x="6987" y="11888"/>
                  <a:pt x="7060" y="11887"/>
                </a:cubicBezTo>
                <a:cubicBezTo>
                  <a:pt x="7113" y="11886"/>
                  <a:pt x="7129" y="11886"/>
                  <a:pt x="7163" y="11881"/>
                </a:cubicBezTo>
              </a:path>
              <a:path w="3153" h="1750">
                <a:moveTo>
                  <a:pt x="7488" y="11701"/>
                </a:moveTo>
                <a:cubicBezTo>
                  <a:pt x="7498" y="11726"/>
                  <a:pt x="7506" y="11761"/>
                  <a:pt x="7515" y="11790"/>
                </a:cubicBezTo>
                <a:cubicBezTo>
                  <a:pt x="7541" y="11872"/>
                  <a:pt x="7565" y="11955"/>
                  <a:pt x="7587" y="12039"/>
                </a:cubicBezTo>
                <a:cubicBezTo>
                  <a:pt x="7603" y="12100"/>
                  <a:pt x="7623" y="12160"/>
                  <a:pt x="7631" y="12222"/>
                </a:cubicBezTo>
                <a:cubicBezTo>
                  <a:pt x="7615" y="12199"/>
                  <a:pt x="7619" y="12185"/>
                  <a:pt x="7614" y="12157"/>
                </a:cubicBezTo>
                <a:cubicBezTo>
                  <a:pt x="7599" y="12068"/>
                  <a:pt x="7588" y="11978"/>
                  <a:pt x="7589" y="11888"/>
                </a:cubicBezTo>
                <a:cubicBezTo>
                  <a:pt x="7590" y="11789"/>
                  <a:pt x="7596" y="11683"/>
                  <a:pt x="7628" y="11589"/>
                </a:cubicBezTo>
                <a:cubicBezTo>
                  <a:pt x="7645" y="11539"/>
                  <a:pt x="7661" y="11524"/>
                  <a:pt x="7701" y="11498"/>
                </a:cubicBezTo>
                <a:cubicBezTo>
                  <a:pt x="7754" y="11540"/>
                  <a:pt x="7773" y="11595"/>
                  <a:pt x="7783" y="11664"/>
                </a:cubicBezTo>
                <a:cubicBezTo>
                  <a:pt x="7797" y="11765"/>
                  <a:pt x="7784" y="11869"/>
                  <a:pt x="7741" y="11962"/>
                </a:cubicBezTo>
                <a:cubicBezTo>
                  <a:pt x="7716" y="12017"/>
                  <a:pt x="7671" y="12076"/>
                  <a:pt x="7606" y="12073"/>
                </a:cubicBezTo>
                <a:cubicBezTo>
                  <a:pt x="7600" y="12071"/>
                  <a:pt x="7593" y="12068"/>
                  <a:pt x="7587" y="12066"/>
                </a:cubicBezTo>
                <a:cubicBezTo>
                  <a:pt x="7572" y="12009"/>
                  <a:pt x="7583" y="11987"/>
                  <a:pt x="7612" y="11936"/>
                </a:cubicBezTo>
              </a:path>
              <a:path w="3153" h="1750">
                <a:moveTo>
                  <a:pt x="7888" y="11965"/>
                </a:moveTo>
                <a:cubicBezTo>
                  <a:pt x="7901" y="12004"/>
                  <a:pt x="7916" y="12042"/>
                  <a:pt x="7935" y="12078"/>
                </a:cubicBezTo>
                <a:cubicBezTo>
                  <a:pt x="7942" y="12092"/>
                  <a:pt x="7948" y="12106"/>
                  <a:pt x="7954" y="12120"/>
                </a:cubicBezTo>
                <a:cubicBezTo>
                  <a:pt x="7956" y="12089"/>
                  <a:pt x="7953" y="12058"/>
                  <a:pt x="7959" y="12026"/>
                </a:cubicBezTo>
                <a:cubicBezTo>
                  <a:pt x="7969" y="11968"/>
                  <a:pt x="7998" y="11919"/>
                  <a:pt x="8040" y="11879"/>
                </a:cubicBezTo>
                <a:cubicBezTo>
                  <a:pt x="8078" y="11842"/>
                  <a:pt x="8131" y="11820"/>
                  <a:pt x="8184" y="11821"/>
                </a:cubicBezTo>
                <a:cubicBezTo>
                  <a:pt x="8221" y="11822"/>
                  <a:pt x="8253" y="11835"/>
                  <a:pt x="8287" y="11847"/>
                </a:cubicBezTo>
              </a:path>
              <a:path w="3153" h="1750">
                <a:moveTo>
                  <a:pt x="8714" y="11694"/>
                </a:moveTo>
                <a:cubicBezTo>
                  <a:pt x="8712" y="11637"/>
                  <a:pt x="8707" y="11581"/>
                  <a:pt x="8689" y="11526"/>
                </a:cubicBezTo>
                <a:cubicBezTo>
                  <a:pt x="8680" y="11498"/>
                  <a:pt x="8672" y="11483"/>
                  <a:pt x="8654" y="11464"/>
                </a:cubicBezTo>
                <a:cubicBezTo>
                  <a:pt x="8624" y="11507"/>
                  <a:pt x="8611" y="11538"/>
                  <a:pt x="8598" y="11591"/>
                </a:cubicBezTo>
                <a:cubicBezTo>
                  <a:pt x="8560" y="11749"/>
                  <a:pt x="8552" y="11913"/>
                  <a:pt x="8592" y="12072"/>
                </a:cubicBezTo>
                <a:cubicBezTo>
                  <a:pt x="8612" y="12153"/>
                  <a:pt x="8655" y="12235"/>
                  <a:pt x="8720" y="12290"/>
                </a:cubicBezTo>
                <a:cubicBezTo>
                  <a:pt x="8731" y="12297"/>
                  <a:pt x="8742" y="12304"/>
                  <a:pt x="8753" y="12311"/>
                </a:cubicBezTo>
              </a:path>
              <a:path w="3153" h="1750">
                <a:moveTo>
                  <a:pt x="8986" y="11709"/>
                </a:moveTo>
                <a:cubicBezTo>
                  <a:pt x="8989" y="11691"/>
                  <a:pt x="8990" y="11686"/>
                  <a:pt x="8989" y="11675"/>
                </a:cubicBezTo>
                <a:cubicBezTo>
                  <a:pt x="8978" y="11718"/>
                  <a:pt x="8972" y="11762"/>
                  <a:pt x="8966" y="11806"/>
                </a:cubicBezTo>
                <a:cubicBezTo>
                  <a:pt x="8956" y="11879"/>
                  <a:pt x="8947" y="11956"/>
                  <a:pt x="8957" y="12030"/>
                </a:cubicBezTo>
                <a:cubicBezTo>
                  <a:pt x="8964" y="12077"/>
                  <a:pt x="8985" y="12130"/>
                  <a:pt x="9037" y="12139"/>
                </a:cubicBezTo>
                <a:cubicBezTo>
                  <a:pt x="9082" y="12147"/>
                  <a:pt x="9124" y="12122"/>
                  <a:pt x="9161" y="12102"/>
                </a:cubicBezTo>
                <a:cubicBezTo>
                  <a:pt x="9192" y="12085"/>
                  <a:pt x="9224" y="12062"/>
                  <a:pt x="9250" y="12038"/>
                </a:cubicBezTo>
                <a:cubicBezTo>
                  <a:pt x="9265" y="12024"/>
                  <a:pt x="9265" y="12018"/>
                  <a:pt x="9265" y="11999"/>
                </a:cubicBezTo>
              </a:path>
              <a:path w="3153" h="1750">
                <a:moveTo>
                  <a:pt x="9061" y="11887"/>
                </a:moveTo>
                <a:cubicBezTo>
                  <a:pt x="9051" y="11882"/>
                  <a:pt x="9018" y="11866"/>
                  <a:pt x="9034" y="11847"/>
                </a:cubicBezTo>
                <a:cubicBezTo>
                  <a:pt x="9056" y="11822"/>
                  <a:pt x="9111" y="11818"/>
                  <a:pt x="9141" y="11814"/>
                </a:cubicBezTo>
                <a:cubicBezTo>
                  <a:pt x="9186" y="11808"/>
                  <a:pt x="9231" y="11814"/>
                  <a:pt x="9275" y="11824"/>
                </a:cubicBezTo>
                <a:cubicBezTo>
                  <a:pt x="9280" y="11825"/>
                  <a:pt x="9284" y="11827"/>
                  <a:pt x="9289" y="11828"/>
                </a:cubicBezTo>
              </a:path>
              <a:path w="3153" h="1750">
                <a:moveTo>
                  <a:pt x="9066" y="11835"/>
                </a:moveTo>
                <a:cubicBezTo>
                  <a:pt x="9071" y="11810"/>
                  <a:pt x="9104" y="11789"/>
                  <a:pt x="9130" y="11778"/>
                </a:cubicBezTo>
                <a:cubicBezTo>
                  <a:pt x="9178" y="11758"/>
                  <a:pt x="9239" y="11743"/>
                  <a:pt x="9290" y="11739"/>
                </a:cubicBezTo>
                <a:cubicBezTo>
                  <a:pt x="9311" y="11737"/>
                  <a:pt x="9333" y="11738"/>
                  <a:pt x="9354" y="11738"/>
                </a:cubicBezTo>
              </a:path>
              <a:path w="3153" h="1750">
                <a:moveTo>
                  <a:pt x="8990" y="11492"/>
                </a:moveTo>
                <a:cubicBezTo>
                  <a:pt x="8991" y="11454"/>
                  <a:pt x="9009" y="11444"/>
                  <a:pt x="9042" y="11426"/>
                </a:cubicBezTo>
                <a:cubicBezTo>
                  <a:pt x="9097" y="11395"/>
                  <a:pt x="9167" y="11386"/>
                  <a:pt x="9230" y="11391"/>
                </a:cubicBezTo>
                <a:cubicBezTo>
                  <a:pt x="9294" y="11396"/>
                  <a:pt x="9350" y="11417"/>
                  <a:pt x="9407" y="11444"/>
                </a:cubicBezTo>
              </a:path>
              <a:path w="3153" h="1750">
                <a:moveTo>
                  <a:pt x="9033" y="11643"/>
                </a:moveTo>
                <a:cubicBezTo>
                  <a:pt x="9058" y="11630"/>
                  <a:pt x="9079" y="11622"/>
                  <a:pt x="9106" y="11612"/>
                </a:cubicBezTo>
                <a:cubicBezTo>
                  <a:pt x="9154" y="11593"/>
                  <a:pt x="9204" y="11580"/>
                  <a:pt x="9256" y="11575"/>
                </a:cubicBezTo>
                <a:cubicBezTo>
                  <a:pt x="9296" y="11571"/>
                  <a:pt x="9332" y="11568"/>
                  <a:pt x="9372" y="11574"/>
                </a:cubicBezTo>
                <a:cubicBezTo>
                  <a:pt x="9389" y="11577"/>
                  <a:pt x="9393" y="11578"/>
                  <a:pt x="9404" y="11578"/>
                </a:cubicBezTo>
              </a:path>
              <a:path w="3153" h="1750">
                <a:moveTo>
                  <a:pt x="9581" y="11442"/>
                </a:moveTo>
                <a:cubicBezTo>
                  <a:pt x="9579" y="11487"/>
                  <a:pt x="9589" y="11528"/>
                  <a:pt x="9596" y="11573"/>
                </a:cubicBezTo>
                <a:cubicBezTo>
                  <a:pt x="9612" y="11669"/>
                  <a:pt x="9619" y="11768"/>
                  <a:pt x="9617" y="11866"/>
                </a:cubicBezTo>
                <a:cubicBezTo>
                  <a:pt x="9615" y="11961"/>
                  <a:pt x="9607" y="12069"/>
                  <a:pt x="9577" y="12160"/>
                </a:cubicBezTo>
                <a:cubicBezTo>
                  <a:pt x="9558" y="12217"/>
                  <a:pt x="9527" y="12266"/>
                  <a:pt x="9488" y="12310"/>
                </a:cubicBezTo>
              </a:path>
              <a:path w="3153" h="1750">
                <a:moveTo>
                  <a:pt x="7770" y="12672"/>
                </a:moveTo>
                <a:cubicBezTo>
                  <a:pt x="7780" y="12646"/>
                  <a:pt x="7762" y="12654"/>
                  <a:pt x="7789" y="12631"/>
                </a:cubicBezTo>
                <a:cubicBezTo>
                  <a:pt x="7843" y="12584"/>
                  <a:pt x="7965" y="12579"/>
                  <a:pt x="8030" y="12568"/>
                </a:cubicBezTo>
                <a:cubicBezTo>
                  <a:pt x="8218" y="12535"/>
                  <a:pt x="8408" y="12522"/>
                  <a:pt x="8598" y="12510"/>
                </a:cubicBezTo>
                <a:cubicBezTo>
                  <a:pt x="8828" y="12495"/>
                  <a:pt x="9068" y="12479"/>
                  <a:pt x="9297" y="12513"/>
                </a:cubicBezTo>
                <a:cubicBezTo>
                  <a:pt x="9315" y="12516"/>
                  <a:pt x="9418" y="12525"/>
                  <a:pt x="9422" y="12558"/>
                </a:cubicBezTo>
                <a:cubicBezTo>
                  <a:pt x="9425" y="12585"/>
                  <a:pt x="9405" y="12566"/>
                  <a:pt x="9397" y="12584"/>
                </a:cubicBezTo>
              </a:path>
              <a:path w="3153" h="1750">
                <a:moveTo>
                  <a:pt x="7945" y="13105"/>
                </a:moveTo>
                <a:cubicBezTo>
                  <a:pt x="7933" y="13118"/>
                  <a:pt x="7930" y="13121"/>
                  <a:pt x="7922" y="13128"/>
                </a:cubicBezTo>
                <a:cubicBezTo>
                  <a:pt x="7996" y="13147"/>
                  <a:pt x="8067" y="13131"/>
                  <a:pt x="8144" y="13123"/>
                </a:cubicBezTo>
                <a:cubicBezTo>
                  <a:pt x="8308" y="13106"/>
                  <a:pt x="8471" y="13080"/>
                  <a:pt x="8635" y="13057"/>
                </a:cubicBezTo>
                <a:cubicBezTo>
                  <a:pt x="8780" y="13036"/>
                  <a:pt x="8925" y="13016"/>
                  <a:pt x="9070" y="12992"/>
                </a:cubicBezTo>
                <a:cubicBezTo>
                  <a:pt x="9114" y="12985"/>
                  <a:pt x="9190" y="12989"/>
                  <a:pt x="9230" y="12968"/>
                </a:cubicBezTo>
                <a:cubicBezTo>
                  <a:pt x="9226" y="12966"/>
                  <a:pt x="9221" y="12964"/>
                  <a:pt x="9217" y="1296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"/>
          <p:cNvSpPr/>
          <p:nvPr/>
        </p:nvSpPr>
        <p:spPr>
          <a:xfrm>
            <a:off x="1700280" y="5510160"/>
            <a:ext cx="679320" cy="308160"/>
          </a:xfrm>
          <a:custGeom>
            <a:avLst/>
            <a:gdLst/>
            <a:ahLst/>
            <a:rect l="l" t="t" r="r" b="b"/>
            <a:pathLst>
              <a:path w="1888" h="853">
                <a:moveTo>
                  <a:pt x="4838" y="15512"/>
                </a:moveTo>
                <a:cubicBezTo>
                  <a:pt x="4832" y="15490"/>
                  <a:pt x="4825" y="15439"/>
                  <a:pt x="4799" y="15428"/>
                </a:cubicBezTo>
                <a:cubicBezTo>
                  <a:pt x="4792" y="15429"/>
                  <a:pt x="4786" y="15429"/>
                  <a:pt x="4779" y="15430"/>
                </a:cubicBezTo>
                <a:cubicBezTo>
                  <a:pt x="4758" y="15484"/>
                  <a:pt x="4747" y="15538"/>
                  <a:pt x="4738" y="15595"/>
                </a:cubicBezTo>
                <a:cubicBezTo>
                  <a:pt x="4723" y="15696"/>
                  <a:pt x="4717" y="15798"/>
                  <a:pt x="4726" y="15900"/>
                </a:cubicBezTo>
                <a:cubicBezTo>
                  <a:pt x="4733" y="15976"/>
                  <a:pt x="4744" y="16062"/>
                  <a:pt x="4788" y="16126"/>
                </a:cubicBezTo>
                <a:cubicBezTo>
                  <a:pt x="4811" y="16159"/>
                  <a:pt x="4821" y="16158"/>
                  <a:pt x="4854" y="16152"/>
                </a:cubicBezTo>
              </a:path>
              <a:path w="1888" h="853">
                <a:moveTo>
                  <a:pt x="6424" y="15308"/>
                </a:moveTo>
                <a:cubicBezTo>
                  <a:pt x="6493" y="15325"/>
                  <a:pt x="6534" y="15355"/>
                  <a:pt x="6566" y="15424"/>
                </a:cubicBezTo>
                <a:cubicBezTo>
                  <a:pt x="6610" y="15518"/>
                  <a:pt x="6612" y="15631"/>
                  <a:pt x="6605" y="15732"/>
                </a:cubicBezTo>
                <a:cubicBezTo>
                  <a:pt x="6598" y="15827"/>
                  <a:pt x="6575" y="15904"/>
                  <a:pt x="6531" y="1598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"/>
          <p:cNvSpPr/>
          <p:nvPr/>
        </p:nvSpPr>
        <p:spPr>
          <a:xfrm>
            <a:off x="1363680" y="5522760"/>
            <a:ext cx="271440" cy="368280"/>
          </a:xfrm>
          <a:custGeom>
            <a:avLst/>
            <a:gdLst/>
            <a:ahLst/>
            <a:rect l="l" t="t" r="r" b="b"/>
            <a:pathLst>
              <a:path w="754" h="1021">
                <a:moveTo>
                  <a:pt x="3806" y="15904"/>
                </a:moveTo>
                <a:cubicBezTo>
                  <a:pt x="3803" y="15935"/>
                  <a:pt x="3796" y="15968"/>
                  <a:pt x="3798" y="15999"/>
                </a:cubicBezTo>
                <a:cubicBezTo>
                  <a:pt x="3803" y="16064"/>
                  <a:pt x="3818" y="16129"/>
                  <a:pt x="3834" y="16192"/>
                </a:cubicBezTo>
                <a:cubicBezTo>
                  <a:pt x="3848" y="16249"/>
                  <a:pt x="3863" y="16306"/>
                  <a:pt x="3878" y="16363"/>
                </a:cubicBezTo>
                <a:cubicBezTo>
                  <a:pt x="3856" y="16315"/>
                  <a:pt x="3848" y="16263"/>
                  <a:pt x="3837" y="16211"/>
                </a:cubicBezTo>
                <a:cubicBezTo>
                  <a:pt x="3813" y="16099"/>
                  <a:pt x="3797" y="15987"/>
                  <a:pt x="3791" y="15872"/>
                </a:cubicBezTo>
                <a:cubicBezTo>
                  <a:pt x="3784" y="15750"/>
                  <a:pt x="3785" y="15622"/>
                  <a:pt x="3814" y="15503"/>
                </a:cubicBezTo>
                <a:cubicBezTo>
                  <a:pt x="3831" y="15434"/>
                  <a:pt x="3861" y="15353"/>
                  <a:pt x="3941" y="15343"/>
                </a:cubicBezTo>
                <a:cubicBezTo>
                  <a:pt x="4011" y="15334"/>
                  <a:pt x="4071" y="15409"/>
                  <a:pt x="4099" y="15463"/>
                </a:cubicBezTo>
                <a:cubicBezTo>
                  <a:pt x="4158" y="15576"/>
                  <a:pt x="4153" y="15720"/>
                  <a:pt x="4106" y="15835"/>
                </a:cubicBezTo>
                <a:cubicBezTo>
                  <a:pt x="4085" y="15888"/>
                  <a:pt x="4002" y="16029"/>
                  <a:pt x="3923" y="16005"/>
                </a:cubicBezTo>
                <a:cubicBezTo>
                  <a:pt x="3881" y="15992"/>
                  <a:pt x="3881" y="15957"/>
                  <a:pt x="3896" y="15918"/>
                </a:cubicBezTo>
                <a:cubicBezTo>
                  <a:pt x="3902" y="15908"/>
                  <a:pt x="3907" y="15897"/>
                  <a:pt x="3913" y="15887"/>
                </a:cubicBezTo>
              </a:path>
              <a:path w="754" h="1021">
                <a:moveTo>
                  <a:pt x="4212" y="16017"/>
                </a:moveTo>
                <a:cubicBezTo>
                  <a:pt x="4236" y="16065"/>
                  <a:pt x="4264" y="16116"/>
                  <a:pt x="4274" y="16169"/>
                </a:cubicBezTo>
                <a:cubicBezTo>
                  <a:pt x="4278" y="16191"/>
                  <a:pt x="4281" y="16213"/>
                  <a:pt x="4284" y="16235"/>
                </a:cubicBezTo>
                <a:cubicBezTo>
                  <a:pt x="4267" y="16182"/>
                  <a:pt x="4259" y="16130"/>
                  <a:pt x="4257" y="16074"/>
                </a:cubicBezTo>
                <a:cubicBezTo>
                  <a:pt x="4254" y="15985"/>
                  <a:pt x="4263" y="15884"/>
                  <a:pt x="4304" y="15803"/>
                </a:cubicBezTo>
                <a:cubicBezTo>
                  <a:pt x="4328" y="15756"/>
                  <a:pt x="4376" y="15723"/>
                  <a:pt x="4428" y="15713"/>
                </a:cubicBezTo>
                <a:cubicBezTo>
                  <a:pt x="4464" y="15706"/>
                  <a:pt x="4504" y="15709"/>
                  <a:pt x="4541" y="1570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"/>
          <p:cNvSpPr/>
          <p:nvPr/>
        </p:nvSpPr>
        <p:spPr>
          <a:xfrm>
            <a:off x="1805040" y="5527800"/>
            <a:ext cx="204840" cy="306360"/>
          </a:xfrm>
          <a:custGeom>
            <a:avLst/>
            <a:gdLst/>
            <a:ahLst/>
            <a:rect l="l" t="t" r="r" b="b"/>
            <a:pathLst>
              <a:path w="569" h="854">
                <a:moveTo>
                  <a:pt x="5024" y="15475"/>
                </a:moveTo>
                <a:cubicBezTo>
                  <a:pt x="5052" y="15449"/>
                  <a:pt x="5041" y="15535"/>
                  <a:pt x="5040" y="15564"/>
                </a:cubicBezTo>
                <a:cubicBezTo>
                  <a:pt x="5038" y="15656"/>
                  <a:pt x="5031" y="15748"/>
                  <a:pt x="5028" y="15840"/>
                </a:cubicBezTo>
                <a:cubicBezTo>
                  <a:pt x="5025" y="15915"/>
                  <a:pt x="5022" y="15989"/>
                  <a:pt x="5016" y="16063"/>
                </a:cubicBezTo>
                <a:cubicBezTo>
                  <a:pt x="5014" y="16084"/>
                  <a:pt x="5016" y="16102"/>
                  <a:pt x="5019" y="16122"/>
                </a:cubicBezTo>
              </a:path>
              <a:path w="569" h="854">
                <a:moveTo>
                  <a:pt x="5038" y="15505"/>
                </a:moveTo>
                <a:cubicBezTo>
                  <a:pt x="5037" y="15487"/>
                  <a:pt x="5035" y="15474"/>
                  <a:pt x="5031" y="15457"/>
                </a:cubicBezTo>
                <a:cubicBezTo>
                  <a:pt x="5061" y="15457"/>
                  <a:pt x="5091" y="15455"/>
                  <a:pt x="5121" y="15454"/>
                </a:cubicBezTo>
                <a:cubicBezTo>
                  <a:pt x="5174" y="15453"/>
                  <a:pt x="5233" y="15454"/>
                  <a:pt x="5285" y="15464"/>
                </a:cubicBezTo>
                <a:cubicBezTo>
                  <a:pt x="5313" y="15472"/>
                  <a:pt x="5321" y="15473"/>
                  <a:pt x="5332" y="15488"/>
                </a:cubicBezTo>
              </a:path>
              <a:path w="569" h="854">
                <a:moveTo>
                  <a:pt x="5044" y="15842"/>
                </a:moveTo>
                <a:cubicBezTo>
                  <a:pt x="5089" y="15816"/>
                  <a:pt x="5130" y="15789"/>
                  <a:pt x="5178" y="15764"/>
                </a:cubicBezTo>
                <a:cubicBezTo>
                  <a:pt x="5234" y="15735"/>
                  <a:pt x="5290" y="15714"/>
                  <a:pt x="5349" y="15692"/>
                </a:cubicBezTo>
              </a:path>
              <a:path w="569" h="854">
                <a:moveTo>
                  <a:pt x="5553" y="15365"/>
                </a:moveTo>
                <a:cubicBezTo>
                  <a:pt x="5571" y="15354"/>
                  <a:pt x="5570" y="15443"/>
                  <a:pt x="5571" y="15470"/>
                </a:cubicBezTo>
                <a:cubicBezTo>
                  <a:pt x="5575" y="15629"/>
                  <a:pt x="5579" y="15789"/>
                  <a:pt x="5583" y="15948"/>
                </a:cubicBezTo>
                <a:cubicBezTo>
                  <a:pt x="5585" y="16034"/>
                  <a:pt x="5580" y="16120"/>
                  <a:pt x="5575" y="1620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"/>
          <p:cNvSpPr/>
          <p:nvPr/>
        </p:nvSpPr>
        <p:spPr>
          <a:xfrm>
            <a:off x="2130480" y="5576760"/>
            <a:ext cx="147600" cy="193680"/>
          </a:xfrm>
          <a:custGeom>
            <a:avLst/>
            <a:gdLst/>
            <a:ahLst/>
            <a:rect l="l" t="t" r="r" b="b"/>
            <a:pathLst>
              <a:path w="409" h="540">
                <a:moveTo>
                  <a:pt x="5950" y="15555"/>
                </a:moveTo>
                <a:cubicBezTo>
                  <a:pt x="5951" y="15538"/>
                  <a:pt x="5951" y="15534"/>
                  <a:pt x="5953" y="15524"/>
                </a:cubicBezTo>
                <a:cubicBezTo>
                  <a:pt x="5937" y="15541"/>
                  <a:pt x="5933" y="15594"/>
                  <a:pt x="5930" y="15626"/>
                </a:cubicBezTo>
                <a:cubicBezTo>
                  <a:pt x="5920" y="15734"/>
                  <a:pt x="5894" y="15877"/>
                  <a:pt x="5925" y="15982"/>
                </a:cubicBezTo>
                <a:cubicBezTo>
                  <a:pt x="5935" y="16017"/>
                  <a:pt x="5956" y="16031"/>
                  <a:pt x="5991" y="16029"/>
                </a:cubicBezTo>
                <a:cubicBezTo>
                  <a:pt x="6035" y="16026"/>
                  <a:pt x="6092" y="16015"/>
                  <a:pt x="6132" y="15996"/>
                </a:cubicBezTo>
                <a:cubicBezTo>
                  <a:pt x="6178" y="15974"/>
                  <a:pt x="6229" y="15949"/>
                  <a:pt x="6266" y="15913"/>
                </a:cubicBezTo>
              </a:path>
              <a:path w="409" h="540">
                <a:moveTo>
                  <a:pt x="6007" y="15809"/>
                </a:moveTo>
                <a:cubicBezTo>
                  <a:pt x="5985" y="15786"/>
                  <a:pt x="6071" y="15778"/>
                  <a:pt x="6101" y="15769"/>
                </a:cubicBezTo>
                <a:cubicBezTo>
                  <a:pt x="6165" y="15750"/>
                  <a:pt x="6229" y="15732"/>
                  <a:pt x="6295" y="15721"/>
                </a:cubicBezTo>
                <a:cubicBezTo>
                  <a:pt x="6305" y="15720"/>
                  <a:pt x="6315" y="15718"/>
                  <a:pt x="6325" y="15717"/>
                </a:cubicBezTo>
              </a:path>
              <a:path w="409" h="540">
                <a:moveTo>
                  <a:pt x="5982" y="15686"/>
                </a:moveTo>
                <a:cubicBezTo>
                  <a:pt x="5946" y="15657"/>
                  <a:pt x="5948" y="15629"/>
                  <a:pt x="5990" y="15593"/>
                </a:cubicBezTo>
                <a:cubicBezTo>
                  <a:pt x="6043" y="15548"/>
                  <a:pt x="6128" y="15523"/>
                  <a:pt x="6194" y="15506"/>
                </a:cubicBezTo>
                <a:cubicBezTo>
                  <a:pt x="6239" y="15498"/>
                  <a:pt x="6251" y="15496"/>
                  <a:pt x="6279" y="1549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"/>
          <p:cNvSpPr/>
          <p:nvPr/>
        </p:nvSpPr>
        <p:spPr>
          <a:xfrm>
            <a:off x="2425680" y="5619600"/>
            <a:ext cx="176400" cy="69840"/>
          </a:xfrm>
          <a:custGeom>
            <a:avLst/>
            <a:gdLst/>
            <a:ahLst/>
            <a:rect l="l" t="t" r="r" b="b"/>
            <a:pathLst>
              <a:path w="488" h="194">
                <a:moveTo>
                  <a:pt x="6738" y="15671"/>
                </a:moveTo>
                <a:cubicBezTo>
                  <a:pt x="6788" y="15667"/>
                  <a:pt x="6834" y="15660"/>
                  <a:pt x="6884" y="15654"/>
                </a:cubicBezTo>
                <a:cubicBezTo>
                  <a:pt x="6963" y="15644"/>
                  <a:pt x="7040" y="15626"/>
                  <a:pt x="7118" y="15615"/>
                </a:cubicBezTo>
                <a:cubicBezTo>
                  <a:pt x="7150" y="15611"/>
                  <a:pt x="7158" y="15609"/>
                  <a:pt x="7178" y="15610"/>
                </a:cubicBezTo>
              </a:path>
              <a:path w="488" h="194">
                <a:moveTo>
                  <a:pt x="6920" y="15803"/>
                </a:moveTo>
                <a:cubicBezTo>
                  <a:pt x="6965" y="15791"/>
                  <a:pt x="7010" y="15780"/>
                  <a:pt x="7056" y="15770"/>
                </a:cubicBezTo>
                <a:cubicBezTo>
                  <a:pt x="7112" y="15757"/>
                  <a:pt x="7169" y="15746"/>
                  <a:pt x="7225" y="1573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"/>
          <p:cNvSpPr/>
          <p:nvPr/>
        </p:nvSpPr>
        <p:spPr>
          <a:xfrm>
            <a:off x="3041640" y="5338800"/>
            <a:ext cx="630360" cy="336600"/>
          </a:xfrm>
          <a:custGeom>
            <a:avLst/>
            <a:gdLst/>
            <a:ahLst/>
            <a:rect l="l" t="t" r="r" b="b"/>
            <a:pathLst>
              <a:path w="1749" h="937">
                <a:moveTo>
                  <a:pt x="8496" y="15319"/>
                </a:moveTo>
                <a:cubicBezTo>
                  <a:pt x="8474" y="15330"/>
                  <a:pt x="8456" y="15337"/>
                  <a:pt x="8453" y="15375"/>
                </a:cubicBezTo>
                <a:cubicBezTo>
                  <a:pt x="8448" y="15443"/>
                  <a:pt x="8465" y="15516"/>
                  <a:pt x="8477" y="15582"/>
                </a:cubicBezTo>
                <a:cubicBezTo>
                  <a:pt x="8486" y="15631"/>
                  <a:pt x="8503" y="15677"/>
                  <a:pt x="8513" y="15725"/>
                </a:cubicBezTo>
                <a:cubicBezTo>
                  <a:pt x="8512" y="15721"/>
                  <a:pt x="8510" y="15717"/>
                  <a:pt x="8509" y="15713"/>
                </a:cubicBezTo>
                <a:cubicBezTo>
                  <a:pt x="8492" y="15650"/>
                  <a:pt x="8474" y="15587"/>
                  <a:pt x="8464" y="15522"/>
                </a:cubicBezTo>
                <a:cubicBezTo>
                  <a:pt x="8447" y="15412"/>
                  <a:pt x="8444" y="15298"/>
                  <a:pt x="8458" y="15187"/>
                </a:cubicBezTo>
                <a:cubicBezTo>
                  <a:pt x="8468" y="15109"/>
                  <a:pt x="8490" y="14995"/>
                  <a:pt x="8560" y="14946"/>
                </a:cubicBezTo>
                <a:cubicBezTo>
                  <a:pt x="8621" y="14903"/>
                  <a:pt x="8670" y="14989"/>
                  <a:pt x="8687" y="15034"/>
                </a:cubicBezTo>
                <a:cubicBezTo>
                  <a:pt x="8743" y="15186"/>
                  <a:pt x="8696" y="15371"/>
                  <a:pt x="8585" y="15485"/>
                </a:cubicBezTo>
                <a:cubicBezTo>
                  <a:pt x="8574" y="15497"/>
                  <a:pt x="8505" y="15558"/>
                  <a:pt x="8491" y="15514"/>
                </a:cubicBezTo>
                <a:cubicBezTo>
                  <a:pt x="8481" y="15484"/>
                  <a:pt x="8534" y="15439"/>
                  <a:pt x="8548" y="15422"/>
                </a:cubicBezTo>
              </a:path>
              <a:path w="1749" h="937">
                <a:moveTo>
                  <a:pt x="8784" y="15389"/>
                </a:moveTo>
                <a:cubicBezTo>
                  <a:pt x="8816" y="15455"/>
                  <a:pt x="8829" y="15513"/>
                  <a:pt x="8842" y="15586"/>
                </a:cubicBezTo>
                <a:cubicBezTo>
                  <a:pt x="8851" y="15637"/>
                  <a:pt x="8857" y="15686"/>
                  <a:pt x="8866" y="15737"/>
                </a:cubicBezTo>
                <a:cubicBezTo>
                  <a:pt x="8865" y="15695"/>
                  <a:pt x="8862" y="15650"/>
                  <a:pt x="8861" y="15607"/>
                </a:cubicBezTo>
                <a:cubicBezTo>
                  <a:pt x="8859" y="15517"/>
                  <a:pt x="8860" y="15415"/>
                  <a:pt x="8903" y="15333"/>
                </a:cubicBezTo>
                <a:cubicBezTo>
                  <a:pt x="8926" y="15290"/>
                  <a:pt x="8972" y="15260"/>
                  <a:pt x="9020" y="15259"/>
                </a:cubicBezTo>
                <a:cubicBezTo>
                  <a:pt x="9053" y="15258"/>
                  <a:pt x="9084" y="15271"/>
                  <a:pt x="9115" y="15280"/>
                </a:cubicBezTo>
              </a:path>
              <a:path w="1749" h="937">
                <a:moveTo>
                  <a:pt x="9430" y="14895"/>
                </a:moveTo>
                <a:cubicBezTo>
                  <a:pt x="9427" y="14868"/>
                  <a:pt x="9422" y="14854"/>
                  <a:pt x="9415" y="14831"/>
                </a:cubicBezTo>
                <a:cubicBezTo>
                  <a:pt x="9379" y="14845"/>
                  <a:pt x="9373" y="14915"/>
                  <a:pt x="9362" y="14958"/>
                </a:cubicBezTo>
                <a:cubicBezTo>
                  <a:pt x="9333" y="15076"/>
                  <a:pt x="9315" y="15196"/>
                  <a:pt x="9306" y="15318"/>
                </a:cubicBezTo>
                <a:cubicBezTo>
                  <a:pt x="9298" y="15431"/>
                  <a:pt x="9282" y="15578"/>
                  <a:pt x="9347" y="15678"/>
                </a:cubicBezTo>
                <a:cubicBezTo>
                  <a:pt x="9369" y="15711"/>
                  <a:pt x="9381" y="15710"/>
                  <a:pt x="9414" y="15708"/>
                </a:cubicBezTo>
              </a:path>
              <a:path w="1749" h="937">
                <a:moveTo>
                  <a:pt x="9650" y="15183"/>
                </a:moveTo>
                <a:cubicBezTo>
                  <a:pt x="9642" y="15164"/>
                  <a:pt x="9634" y="15149"/>
                  <a:pt x="9623" y="15131"/>
                </a:cubicBezTo>
                <a:cubicBezTo>
                  <a:pt x="9622" y="15163"/>
                  <a:pt x="9627" y="15189"/>
                  <a:pt x="9635" y="15223"/>
                </a:cubicBezTo>
                <a:cubicBezTo>
                  <a:pt x="9651" y="15289"/>
                  <a:pt x="9661" y="15355"/>
                  <a:pt x="9669" y="15422"/>
                </a:cubicBezTo>
                <a:cubicBezTo>
                  <a:pt x="9679" y="15510"/>
                  <a:pt x="9675" y="15597"/>
                  <a:pt x="9673" y="15685"/>
                </a:cubicBezTo>
                <a:cubicBezTo>
                  <a:pt x="9672" y="15706"/>
                  <a:pt x="9669" y="15735"/>
                  <a:pt x="9682" y="15753"/>
                </a:cubicBezTo>
                <a:cubicBezTo>
                  <a:pt x="9695" y="15771"/>
                  <a:pt x="9722" y="15765"/>
                  <a:pt x="9740" y="15762"/>
                </a:cubicBezTo>
                <a:cubicBezTo>
                  <a:pt x="9774" y="15755"/>
                  <a:pt x="9808" y="15747"/>
                  <a:pt x="9841" y="15739"/>
                </a:cubicBezTo>
                <a:cubicBezTo>
                  <a:pt x="9881" y="15730"/>
                  <a:pt x="9925" y="15714"/>
                  <a:pt x="9960" y="15692"/>
                </a:cubicBezTo>
                <a:cubicBezTo>
                  <a:pt x="9976" y="15679"/>
                  <a:pt x="9981" y="15675"/>
                  <a:pt x="9985" y="15662"/>
                </a:cubicBezTo>
              </a:path>
              <a:path w="1749" h="937">
                <a:moveTo>
                  <a:pt x="9693" y="15504"/>
                </a:moveTo>
                <a:cubicBezTo>
                  <a:pt x="9735" y="15487"/>
                  <a:pt x="9775" y="15469"/>
                  <a:pt x="9818" y="15454"/>
                </a:cubicBezTo>
                <a:cubicBezTo>
                  <a:pt x="9881" y="15432"/>
                  <a:pt x="9944" y="15414"/>
                  <a:pt x="10008" y="15396"/>
                </a:cubicBezTo>
                <a:cubicBezTo>
                  <a:pt x="10011" y="15395"/>
                  <a:pt x="10014" y="15394"/>
                  <a:pt x="10017" y="15393"/>
                </a:cubicBezTo>
              </a:path>
              <a:path w="1749" h="937">
                <a:moveTo>
                  <a:pt x="9702" y="15332"/>
                </a:moveTo>
                <a:cubicBezTo>
                  <a:pt x="9663" y="15306"/>
                  <a:pt x="9691" y="15294"/>
                  <a:pt x="9719" y="15267"/>
                </a:cubicBezTo>
                <a:cubicBezTo>
                  <a:pt x="9777" y="15212"/>
                  <a:pt x="9841" y="15182"/>
                  <a:pt x="9911" y="15146"/>
                </a:cubicBezTo>
                <a:cubicBezTo>
                  <a:pt x="9957" y="15122"/>
                  <a:pt x="9971" y="15114"/>
                  <a:pt x="10004" y="15105"/>
                </a:cubicBezTo>
              </a:path>
              <a:path w="1749" h="937">
                <a:moveTo>
                  <a:pt x="10118" y="14972"/>
                </a:moveTo>
                <a:cubicBezTo>
                  <a:pt x="10142" y="15013"/>
                  <a:pt x="10146" y="15056"/>
                  <a:pt x="10155" y="15103"/>
                </a:cubicBezTo>
                <a:cubicBezTo>
                  <a:pt x="10175" y="15210"/>
                  <a:pt x="10187" y="15320"/>
                  <a:pt x="10192" y="15429"/>
                </a:cubicBezTo>
                <a:cubicBezTo>
                  <a:pt x="10196" y="15521"/>
                  <a:pt x="10195" y="15614"/>
                  <a:pt x="10198" y="1570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"/>
          <p:cNvSpPr/>
          <p:nvPr/>
        </p:nvSpPr>
        <p:spPr>
          <a:xfrm>
            <a:off x="3780000" y="5370480"/>
            <a:ext cx="223560" cy="291960"/>
          </a:xfrm>
          <a:custGeom>
            <a:avLst/>
            <a:gdLst/>
            <a:ahLst/>
            <a:rect l="l" t="t" r="r" b="b"/>
            <a:pathLst>
              <a:path w="619" h="812">
                <a:moveTo>
                  <a:pt x="10514" y="15197"/>
                </a:moveTo>
                <a:cubicBezTo>
                  <a:pt x="10509" y="15168"/>
                  <a:pt x="10500" y="15134"/>
                  <a:pt x="10501" y="15104"/>
                </a:cubicBezTo>
                <a:cubicBezTo>
                  <a:pt x="10504" y="15090"/>
                  <a:pt x="10505" y="15085"/>
                  <a:pt x="10502" y="15075"/>
                </a:cubicBezTo>
                <a:cubicBezTo>
                  <a:pt x="10520" y="15116"/>
                  <a:pt x="10530" y="15155"/>
                  <a:pt x="10534" y="15205"/>
                </a:cubicBezTo>
                <a:cubicBezTo>
                  <a:pt x="10544" y="15335"/>
                  <a:pt x="10548" y="15473"/>
                  <a:pt x="10539" y="15603"/>
                </a:cubicBezTo>
                <a:cubicBezTo>
                  <a:pt x="10538" y="15616"/>
                  <a:pt x="10530" y="15746"/>
                  <a:pt x="10527" y="15715"/>
                </a:cubicBezTo>
              </a:path>
              <a:path w="619" h="812">
                <a:moveTo>
                  <a:pt x="10516" y="15202"/>
                </a:moveTo>
                <a:cubicBezTo>
                  <a:pt x="10521" y="15176"/>
                  <a:pt x="10533" y="15145"/>
                  <a:pt x="10558" y="15129"/>
                </a:cubicBezTo>
                <a:cubicBezTo>
                  <a:pt x="10605" y="15099"/>
                  <a:pt x="10660" y="15078"/>
                  <a:pt x="10714" y="15065"/>
                </a:cubicBezTo>
                <a:cubicBezTo>
                  <a:pt x="10757" y="15055"/>
                  <a:pt x="10786" y="15051"/>
                  <a:pt x="10820" y="15078"/>
                </a:cubicBezTo>
              </a:path>
              <a:path w="619" h="812">
                <a:moveTo>
                  <a:pt x="10574" y="15486"/>
                </a:moveTo>
                <a:cubicBezTo>
                  <a:pt x="10566" y="15504"/>
                  <a:pt x="10563" y="15507"/>
                  <a:pt x="10566" y="15519"/>
                </a:cubicBezTo>
                <a:cubicBezTo>
                  <a:pt x="10601" y="15495"/>
                  <a:pt x="10635" y="15471"/>
                  <a:pt x="10671" y="15446"/>
                </a:cubicBezTo>
                <a:cubicBezTo>
                  <a:pt x="10725" y="15408"/>
                  <a:pt x="10779" y="15370"/>
                  <a:pt x="10833" y="15331"/>
                </a:cubicBezTo>
                <a:cubicBezTo>
                  <a:pt x="10861" y="15308"/>
                  <a:pt x="10869" y="15302"/>
                  <a:pt x="10888" y="15288"/>
                </a:cubicBezTo>
              </a:path>
              <a:path w="619" h="812">
                <a:moveTo>
                  <a:pt x="10897" y="14936"/>
                </a:moveTo>
                <a:cubicBezTo>
                  <a:pt x="10938" y="14906"/>
                  <a:pt x="10961" y="14926"/>
                  <a:pt x="10992" y="14969"/>
                </a:cubicBezTo>
                <a:cubicBezTo>
                  <a:pt x="11053" y="15055"/>
                  <a:pt x="11080" y="15170"/>
                  <a:pt x="11097" y="15272"/>
                </a:cubicBezTo>
                <a:cubicBezTo>
                  <a:pt x="11116" y="15383"/>
                  <a:pt x="11126" y="15507"/>
                  <a:pt x="11114" y="15619"/>
                </a:cubicBezTo>
                <a:cubicBezTo>
                  <a:pt x="11105" y="15664"/>
                  <a:pt x="11103" y="15676"/>
                  <a:pt x="11094" y="1570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"/>
          <p:cNvSpPr/>
          <p:nvPr/>
        </p:nvSpPr>
        <p:spPr>
          <a:xfrm>
            <a:off x="4183200" y="5326200"/>
            <a:ext cx="603000" cy="333360"/>
          </a:xfrm>
          <a:custGeom>
            <a:avLst/>
            <a:gdLst/>
            <a:ahLst/>
            <a:rect l="l" t="t" r="r" b="b"/>
            <a:pathLst>
              <a:path w="1676" h="926">
                <a:moveTo>
                  <a:pt x="11637" y="15154"/>
                </a:moveTo>
                <a:cubicBezTo>
                  <a:pt x="11621" y="15211"/>
                  <a:pt x="11621" y="15260"/>
                  <a:pt x="11620" y="15320"/>
                </a:cubicBezTo>
                <a:cubicBezTo>
                  <a:pt x="11619" y="15412"/>
                  <a:pt x="11622" y="15507"/>
                  <a:pt x="11638" y="15598"/>
                </a:cubicBezTo>
                <a:cubicBezTo>
                  <a:pt x="11646" y="15644"/>
                  <a:pt x="11646" y="15749"/>
                  <a:pt x="11682" y="15720"/>
                </a:cubicBezTo>
                <a:cubicBezTo>
                  <a:pt x="11684" y="15714"/>
                  <a:pt x="11687" y="15708"/>
                  <a:pt x="11689" y="15702"/>
                </a:cubicBezTo>
              </a:path>
              <a:path w="1676" h="926">
                <a:moveTo>
                  <a:pt x="11647" y="15154"/>
                </a:moveTo>
                <a:cubicBezTo>
                  <a:pt x="11642" y="15070"/>
                  <a:pt x="11636" y="14998"/>
                  <a:pt x="11662" y="14916"/>
                </a:cubicBezTo>
                <a:cubicBezTo>
                  <a:pt x="11681" y="14858"/>
                  <a:pt x="11726" y="14793"/>
                  <a:pt x="11795" y="14801"/>
                </a:cubicBezTo>
                <a:cubicBezTo>
                  <a:pt x="11878" y="14810"/>
                  <a:pt x="11913" y="14914"/>
                  <a:pt x="11926" y="14981"/>
                </a:cubicBezTo>
                <a:cubicBezTo>
                  <a:pt x="11951" y="15112"/>
                  <a:pt x="11925" y="15259"/>
                  <a:pt x="11854" y="15371"/>
                </a:cubicBezTo>
                <a:cubicBezTo>
                  <a:pt x="11817" y="15429"/>
                  <a:pt x="11778" y="15456"/>
                  <a:pt x="11713" y="15464"/>
                </a:cubicBezTo>
                <a:cubicBezTo>
                  <a:pt x="11677" y="15430"/>
                  <a:pt x="11671" y="15401"/>
                  <a:pt x="11687" y="15349"/>
                </a:cubicBezTo>
                <a:cubicBezTo>
                  <a:pt x="11692" y="15337"/>
                  <a:pt x="11698" y="15325"/>
                  <a:pt x="11703" y="15313"/>
                </a:cubicBezTo>
              </a:path>
              <a:path w="1676" h="926">
                <a:moveTo>
                  <a:pt x="12023" y="15414"/>
                </a:moveTo>
                <a:cubicBezTo>
                  <a:pt x="12028" y="15446"/>
                  <a:pt x="12040" y="15482"/>
                  <a:pt x="12043" y="15514"/>
                </a:cubicBezTo>
                <a:cubicBezTo>
                  <a:pt x="12046" y="15551"/>
                  <a:pt x="12053" y="15592"/>
                  <a:pt x="12053" y="15630"/>
                </a:cubicBezTo>
                <a:cubicBezTo>
                  <a:pt x="12051" y="15644"/>
                  <a:pt x="12051" y="15649"/>
                  <a:pt x="12039" y="15641"/>
                </a:cubicBezTo>
                <a:cubicBezTo>
                  <a:pt x="12023" y="15596"/>
                  <a:pt x="12015" y="15550"/>
                  <a:pt x="12016" y="15502"/>
                </a:cubicBezTo>
                <a:cubicBezTo>
                  <a:pt x="12017" y="15431"/>
                  <a:pt x="12038" y="15369"/>
                  <a:pt x="12078" y="15311"/>
                </a:cubicBezTo>
                <a:cubicBezTo>
                  <a:pt x="12113" y="15260"/>
                  <a:pt x="12162" y="15234"/>
                  <a:pt x="12222" y="15219"/>
                </a:cubicBezTo>
                <a:cubicBezTo>
                  <a:pt x="12234" y="15217"/>
                  <a:pt x="12245" y="15215"/>
                  <a:pt x="12257" y="15213"/>
                </a:cubicBezTo>
              </a:path>
              <a:path w="1676" h="926">
                <a:moveTo>
                  <a:pt x="12554" y="14954"/>
                </a:moveTo>
                <a:cubicBezTo>
                  <a:pt x="12550" y="14932"/>
                  <a:pt x="12546" y="14918"/>
                  <a:pt x="12536" y="14899"/>
                </a:cubicBezTo>
                <a:cubicBezTo>
                  <a:pt x="12511" y="14935"/>
                  <a:pt x="12503" y="14971"/>
                  <a:pt x="12494" y="15015"/>
                </a:cubicBezTo>
                <a:cubicBezTo>
                  <a:pt x="12466" y="15159"/>
                  <a:pt x="12454" y="15307"/>
                  <a:pt x="12469" y="15453"/>
                </a:cubicBezTo>
                <a:cubicBezTo>
                  <a:pt x="12476" y="15520"/>
                  <a:pt x="12486" y="15548"/>
                  <a:pt x="12544" y="15577"/>
                </a:cubicBezTo>
              </a:path>
              <a:path w="1676" h="926">
                <a:moveTo>
                  <a:pt x="12803" y="14968"/>
                </a:moveTo>
                <a:cubicBezTo>
                  <a:pt x="12802" y="14962"/>
                  <a:pt x="12802" y="14957"/>
                  <a:pt x="12801" y="14951"/>
                </a:cubicBezTo>
                <a:cubicBezTo>
                  <a:pt x="12779" y="14997"/>
                  <a:pt x="12780" y="15048"/>
                  <a:pt x="12775" y="15098"/>
                </a:cubicBezTo>
                <a:cubicBezTo>
                  <a:pt x="12766" y="15197"/>
                  <a:pt x="12763" y="15297"/>
                  <a:pt x="12754" y="15395"/>
                </a:cubicBezTo>
                <a:cubicBezTo>
                  <a:pt x="12748" y="15455"/>
                  <a:pt x="12744" y="15507"/>
                  <a:pt x="12751" y="15567"/>
                </a:cubicBezTo>
              </a:path>
              <a:path w="1676" h="926">
                <a:moveTo>
                  <a:pt x="12716" y="15008"/>
                </a:moveTo>
                <a:cubicBezTo>
                  <a:pt x="12729" y="14982"/>
                  <a:pt x="12751" y="14953"/>
                  <a:pt x="12778" y="14939"/>
                </a:cubicBezTo>
                <a:cubicBezTo>
                  <a:pt x="12831" y="14913"/>
                  <a:pt x="12891" y="14908"/>
                  <a:pt x="12948" y="14903"/>
                </a:cubicBezTo>
                <a:cubicBezTo>
                  <a:pt x="13000" y="14898"/>
                  <a:pt x="13058" y="14902"/>
                  <a:pt x="13101" y="14936"/>
                </a:cubicBezTo>
                <a:cubicBezTo>
                  <a:pt x="13117" y="14954"/>
                  <a:pt x="13123" y="14960"/>
                  <a:pt x="13121" y="14978"/>
                </a:cubicBezTo>
              </a:path>
              <a:path w="1676" h="926">
                <a:moveTo>
                  <a:pt x="12784" y="15262"/>
                </a:moveTo>
                <a:cubicBezTo>
                  <a:pt x="12760" y="15276"/>
                  <a:pt x="12755" y="15280"/>
                  <a:pt x="12739" y="15285"/>
                </a:cubicBezTo>
                <a:cubicBezTo>
                  <a:pt x="12750" y="15252"/>
                  <a:pt x="12791" y="15233"/>
                  <a:pt x="12829" y="15216"/>
                </a:cubicBezTo>
                <a:cubicBezTo>
                  <a:pt x="12889" y="15190"/>
                  <a:pt x="12948" y="15171"/>
                  <a:pt x="13012" y="15158"/>
                </a:cubicBezTo>
                <a:cubicBezTo>
                  <a:pt x="13025" y="15156"/>
                  <a:pt x="13037" y="15153"/>
                  <a:pt x="13050" y="15151"/>
                </a:cubicBezTo>
              </a:path>
              <a:path w="1676" h="926">
                <a:moveTo>
                  <a:pt x="13186" y="14795"/>
                </a:moveTo>
                <a:cubicBezTo>
                  <a:pt x="13175" y="14838"/>
                  <a:pt x="13185" y="14865"/>
                  <a:pt x="13201" y="14907"/>
                </a:cubicBezTo>
                <a:cubicBezTo>
                  <a:pt x="13246" y="15029"/>
                  <a:pt x="13283" y="15145"/>
                  <a:pt x="13289" y="15277"/>
                </a:cubicBezTo>
                <a:cubicBezTo>
                  <a:pt x="13293" y="15355"/>
                  <a:pt x="13293" y="15432"/>
                  <a:pt x="13284" y="15510"/>
                </a:cubicBezTo>
                <a:cubicBezTo>
                  <a:pt x="13280" y="15537"/>
                  <a:pt x="13280" y="15544"/>
                  <a:pt x="13276" y="1556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"/>
          <p:cNvSpPr/>
          <p:nvPr/>
        </p:nvSpPr>
        <p:spPr>
          <a:xfrm>
            <a:off x="3038400" y="5730840"/>
            <a:ext cx="3597480" cy="409680"/>
          </a:xfrm>
          <a:custGeom>
            <a:avLst/>
            <a:gdLst/>
            <a:ahLst/>
            <a:rect l="l" t="t" r="r" b="b"/>
            <a:pathLst>
              <a:path w="9990" h="1138">
                <a:moveTo>
                  <a:pt x="8451" y="16410"/>
                </a:moveTo>
                <a:cubicBezTo>
                  <a:pt x="8448" y="16455"/>
                  <a:pt x="8454" y="16495"/>
                  <a:pt x="8465" y="16543"/>
                </a:cubicBezTo>
                <a:cubicBezTo>
                  <a:pt x="8488" y="16642"/>
                  <a:pt x="8510" y="16742"/>
                  <a:pt x="8535" y="16841"/>
                </a:cubicBezTo>
                <a:cubicBezTo>
                  <a:pt x="8548" y="16894"/>
                  <a:pt x="8559" y="16946"/>
                  <a:pt x="8570" y="16999"/>
                </a:cubicBezTo>
                <a:cubicBezTo>
                  <a:pt x="8544" y="16936"/>
                  <a:pt x="8520" y="16872"/>
                  <a:pt x="8501" y="16806"/>
                </a:cubicBezTo>
                <a:cubicBezTo>
                  <a:pt x="8453" y="16637"/>
                  <a:pt x="8415" y="16441"/>
                  <a:pt x="8455" y="16266"/>
                </a:cubicBezTo>
                <a:cubicBezTo>
                  <a:pt x="8467" y="16214"/>
                  <a:pt x="8487" y="16190"/>
                  <a:pt x="8521" y="16154"/>
                </a:cubicBezTo>
                <a:cubicBezTo>
                  <a:pt x="8581" y="16158"/>
                  <a:pt x="8610" y="16188"/>
                  <a:pt x="8639" y="16244"/>
                </a:cubicBezTo>
                <a:cubicBezTo>
                  <a:pt x="8680" y="16323"/>
                  <a:pt x="8695" y="16418"/>
                  <a:pt x="8687" y="16506"/>
                </a:cubicBezTo>
                <a:cubicBezTo>
                  <a:pt x="8681" y="16574"/>
                  <a:pt x="8656" y="16646"/>
                  <a:pt x="8599" y="16687"/>
                </a:cubicBezTo>
                <a:cubicBezTo>
                  <a:pt x="8574" y="16705"/>
                  <a:pt x="8524" y="16718"/>
                  <a:pt x="8503" y="16687"/>
                </a:cubicBezTo>
                <a:cubicBezTo>
                  <a:pt x="8487" y="16663"/>
                  <a:pt x="8498" y="16640"/>
                  <a:pt x="8504" y="16616"/>
                </a:cubicBezTo>
              </a:path>
              <a:path w="9990" h="1138">
                <a:moveTo>
                  <a:pt x="8809" y="16774"/>
                </a:moveTo>
                <a:cubicBezTo>
                  <a:pt x="8831" y="16797"/>
                  <a:pt x="8835" y="16803"/>
                  <a:pt x="8844" y="16834"/>
                </a:cubicBezTo>
                <a:cubicBezTo>
                  <a:pt x="8854" y="16866"/>
                  <a:pt x="8866" y="16897"/>
                  <a:pt x="8876" y="16929"/>
                </a:cubicBezTo>
                <a:cubicBezTo>
                  <a:pt x="8877" y="16934"/>
                  <a:pt x="8879" y="16939"/>
                  <a:pt x="8880" y="16944"/>
                </a:cubicBezTo>
                <a:cubicBezTo>
                  <a:pt x="8885" y="16902"/>
                  <a:pt x="8879" y="16859"/>
                  <a:pt x="8879" y="16816"/>
                </a:cubicBezTo>
                <a:cubicBezTo>
                  <a:pt x="8879" y="16745"/>
                  <a:pt x="8885" y="16675"/>
                  <a:pt x="8908" y="16607"/>
                </a:cubicBezTo>
                <a:cubicBezTo>
                  <a:pt x="8924" y="16560"/>
                  <a:pt x="8951" y="16517"/>
                  <a:pt x="9000" y="16501"/>
                </a:cubicBezTo>
                <a:cubicBezTo>
                  <a:pt x="9027" y="16492"/>
                  <a:pt x="9058" y="16499"/>
                  <a:pt x="9085" y="16502"/>
                </a:cubicBezTo>
              </a:path>
              <a:path w="9990" h="1138">
                <a:moveTo>
                  <a:pt x="9372" y="16123"/>
                </a:moveTo>
                <a:cubicBezTo>
                  <a:pt x="9338" y="16164"/>
                  <a:pt x="9326" y="16193"/>
                  <a:pt x="9313" y="16245"/>
                </a:cubicBezTo>
                <a:cubicBezTo>
                  <a:pt x="9284" y="16362"/>
                  <a:pt x="9266" y="16486"/>
                  <a:pt x="9258" y="16606"/>
                </a:cubicBezTo>
                <a:cubicBezTo>
                  <a:pt x="9250" y="16722"/>
                  <a:pt x="9261" y="16827"/>
                  <a:pt x="9298" y="16937"/>
                </a:cubicBezTo>
                <a:cubicBezTo>
                  <a:pt x="9320" y="17002"/>
                  <a:pt x="9344" y="17031"/>
                  <a:pt x="9405" y="17056"/>
                </a:cubicBezTo>
              </a:path>
              <a:path w="9990" h="1138">
                <a:moveTo>
                  <a:pt x="9606" y="16423"/>
                </a:moveTo>
                <a:cubicBezTo>
                  <a:pt x="9603" y="16409"/>
                  <a:pt x="9600" y="16395"/>
                  <a:pt x="9598" y="16381"/>
                </a:cubicBezTo>
                <a:cubicBezTo>
                  <a:pt x="9601" y="16435"/>
                  <a:pt x="9599" y="16489"/>
                  <a:pt x="9598" y="16543"/>
                </a:cubicBezTo>
                <a:cubicBezTo>
                  <a:pt x="9596" y="16620"/>
                  <a:pt x="9588" y="16696"/>
                  <a:pt x="9583" y="16773"/>
                </a:cubicBezTo>
                <a:cubicBezTo>
                  <a:pt x="9582" y="16793"/>
                  <a:pt x="9568" y="16862"/>
                  <a:pt x="9592" y="16877"/>
                </a:cubicBezTo>
                <a:cubicBezTo>
                  <a:pt x="9612" y="16890"/>
                  <a:pt x="9659" y="16858"/>
                  <a:pt x="9676" y="16851"/>
                </a:cubicBezTo>
                <a:cubicBezTo>
                  <a:pt x="9719" y="16833"/>
                  <a:pt x="9762" y="16814"/>
                  <a:pt x="9806" y="16798"/>
                </a:cubicBezTo>
                <a:cubicBezTo>
                  <a:pt x="9833" y="16788"/>
                  <a:pt x="9876" y="16785"/>
                  <a:pt x="9897" y="16763"/>
                </a:cubicBezTo>
                <a:cubicBezTo>
                  <a:pt x="9909" y="16759"/>
                  <a:pt x="9913" y="16756"/>
                  <a:pt x="9910" y="16744"/>
                </a:cubicBezTo>
              </a:path>
              <a:path w="9990" h="1138">
                <a:moveTo>
                  <a:pt x="9683" y="16672"/>
                </a:moveTo>
                <a:cubicBezTo>
                  <a:pt x="9660" y="16661"/>
                  <a:pt x="9726" y="16635"/>
                  <a:pt x="9750" y="16622"/>
                </a:cubicBezTo>
                <a:cubicBezTo>
                  <a:pt x="9802" y="16593"/>
                  <a:pt x="9861" y="16577"/>
                  <a:pt x="9918" y="16558"/>
                </a:cubicBezTo>
                <a:cubicBezTo>
                  <a:pt x="9940" y="16551"/>
                  <a:pt x="9945" y="16551"/>
                  <a:pt x="9957" y="16543"/>
                </a:cubicBezTo>
              </a:path>
              <a:path w="9990" h="1138">
                <a:moveTo>
                  <a:pt x="9698" y="16472"/>
                </a:moveTo>
                <a:cubicBezTo>
                  <a:pt x="9671" y="16447"/>
                  <a:pt x="9687" y="16442"/>
                  <a:pt x="9714" y="16425"/>
                </a:cubicBezTo>
                <a:cubicBezTo>
                  <a:pt x="9764" y="16394"/>
                  <a:pt x="9810" y="16372"/>
                  <a:pt x="9865" y="16352"/>
                </a:cubicBezTo>
                <a:cubicBezTo>
                  <a:pt x="9907" y="16336"/>
                  <a:pt x="9921" y="16331"/>
                  <a:pt x="9950" y="16325"/>
                </a:cubicBezTo>
              </a:path>
              <a:path w="9990" h="1138">
                <a:moveTo>
                  <a:pt x="10043" y="16264"/>
                </a:moveTo>
                <a:cubicBezTo>
                  <a:pt x="10032" y="16306"/>
                  <a:pt x="10037" y="16344"/>
                  <a:pt x="10037" y="16388"/>
                </a:cubicBezTo>
                <a:cubicBezTo>
                  <a:pt x="10036" y="16466"/>
                  <a:pt x="10043" y="16544"/>
                  <a:pt x="10058" y="16620"/>
                </a:cubicBezTo>
                <a:cubicBezTo>
                  <a:pt x="10069" y="16677"/>
                  <a:pt x="10084" y="16734"/>
                  <a:pt x="10099" y="16790"/>
                </a:cubicBezTo>
                <a:cubicBezTo>
                  <a:pt x="10101" y="16795"/>
                  <a:pt x="10102" y="16801"/>
                  <a:pt x="10104" y="16806"/>
                </a:cubicBezTo>
              </a:path>
              <a:path w="9990" h="1138">
                <a:moveTo>
                  <a:pt x="10299" y="16268"/>
                </a:moveTo>
                <a:cubicBezTo>
                  <a:pt x="10306" y="16315"/>
                  <a:pt x="10295" y="16362"/>
                  <a:pt x="10293" y="16410"/>
                </a:cubicBezTo>
                <a:cubicBezTo>
                  <a:pt x="10289" y="16508"/>
                  <a:pt x="10296" y="16604"/>
                  <a:pt x="10299" y="16701"/>
                </a:cubicBezTo>
                <a:cubicBezTo>
                  <a:pt x="10301" y="16765"/>
                  <a:pt x="10306" y="16824"/>
                  <a:pt x="10319" y="16887"/>
                </a:cubicBezTo>
              </a:path>
              <a:path w="9990" h="1138">
                <a:moveTo>
                  <a:pt x="10281" y="16336"/>
                </a:moveTo>
                <a:cubicBezTo>
                  <a:pt x="10277" y="16312"/>
                  <a:pt x="10289" y="16309"/>
                  <a:pt x="10313" y="16303"/>
                </a:cubicBezTo>
                <a:cubicBezTo>
                  <a:pt x="10367" y="16290"/>
                  <a:pt x="10421" y="16291"/>
                  <a:pt x="10475" y="16285"/>
                </a:cubicBezTo>
                <a:cubicBezTo>
                  <a:pt x="10528" y="16279"/>
                  <a:pt x="10579" y="16269"/>
                  <a:pt x="10630" y="16291"/>
                </a:cubicBezTo>
                <a:cubicBezTo>
                  <a:pt x="10635" y="16295"/>
                  <a:pt x="10641" y="16298"/>
                  <a:pt x="10646" y="16302"/>
                </a:cubicBezTo>
              </a:path>
              <a:path w="9990" h="1138">
                <a:moveTo>
                  <a:pt x="10409" y="16565"/>
                </a:moveTo>
                <a:cubicBezTo>
                  <a:pt x="10407" y="16578"/>
                  <a:pt x="10406" y="16582"/>
                  <a:pt x="10412" y="16590"/>
                </a:cubicBezTo>
                <a:cubicBezTo>
                  <a:pt x="10435" y="16597"/>
                  <a:pt x="10466" y="16583"/>
                  <a:pt x="10492" y="16575"/>
                </a:cubicBezTo>
                <a:cubicBezTo>
                  <a:pt x="10539" y="16560"/>
                  <a:pt x="10588" y="16548"/>
                  <a:pt x="10636" y="16535"/>
                </a:cubicBezTo>
                <a:cubicBezTo>
                  <a:pt x="10646" y="16533"/>
                  <a:pt x="10656" y="16530"/>
                  <a:pt x="10666" y="16528"/>
                </a:cubicBezTo>
              </a:path>
              <a:path w="9990" h="1138">
                <a:moveTo>
                  <a:pt x="10877" y="16247"/>
                </a:moveTo>
                <a:cubicBezTo>
                  <a:pt x="10905" y="16281"/>
                  <a:pt x="10907" y="16322"/>
                  <a:pt x="10915" y="16366"/>
                </a:cubicBezTo>
                <a:cubicBezTo>
                  <a:pt x="10933" y="16461"/>
                  <a:pt x="10945" y="16557"/>
                  <a:pt x="10947" y="16654"/>
                </a:cubicBezTo>
                <a:cubicBezTo>
                  <a:pt x="10949" y="16730"/>
                  <a:pt x="10947" y="16809"/>
                  <a:pt x="10925" y="16883"/>
                </a:cubicBezTo>
                <a:cubicBezTo>
                  <a:pt x="10921" y="16893"/>
                  <a:pt x="10918" y="16902"/>
                  <a:pt x="10914" y="16912"/>
                </a:cubicBezTo>
              </a:path>
              <a:path w="9990" h="1138">
                <a:moveTo>
                  <a:pt x="11451" y="16390"/>
                </a:moveTo>
                <a:cubicBezTo>
                  <a:pt x="11431" y="16414"/>
                  <a:pt x="11431" y="16419"/>
                  <a:pt x="11439" y="16475"/>
                </a:cubicBezTo>
                <a:cubicBezTo>
                  <a:pt x="11449" y="16550"/>
                  <a:pt x="11464" y="16623"/>
                  <a:pt x="11476" y="16698"/>
                </a:cubicBezTo>
                <a:cubicBezTo>
                  <a:pt x="11484" y="16744"/>
                  <a:pt x="11494" y="16792"/>
                  <a:pt x="11489" y="16838"/>
                </a:cubicBezTo>
                <a:cubicBezTo>
                  <a:pt x="11461" y="16807"/>
                  <a:pt x="11453" y="16775"/>
                  <a:pt x="11445" y="16733"/>
                </a:cubicBezTo>
                <a:cubicBezTo>
                  <a:pt x="11429" y="16655"/>
                  <a:pt x="11426" y="16579"/>
                  <a:pt x="11431" y="16500"/>
                </a:cubicBezTo>
                <a:cubicBezTo>
                  <a:pt x="11436" y="16419"/>
                  <a:pt x="11447" y="16335"/>
                  <a:pt x="11478" y="16260"/>
                </a:cubicBezTo>
                <a:cubicBezTo>
                  <a:pt x="11492" y="16227"/>
                  <a:pt x="11523" y="16163"/>
                  <a:pt x="11570" y="16181"/>
                </a:cubicBezTo>
                <a:cubicBezTo>
                  <a:pt x="11617" y="16199"/>
                  <a:pt x="11639" y="16275"/>
                  <a:pt x="11648" y="16318"/>
                </a:cubicBezTo>
                <a:cubicBezTo>
                  <a:pt x="11663" y="16387"/>
                  <a:pt x="11657" y="16460"/>
                  <a:pt x="11628" y="16524"/>
                </a:cubicBezTo>
                <a:cubicBezTo>
                  <a:pt x="11610" y="16564"/>
                  <a:pt x="11573" y="16607"/>
                  <a:pt x="11534" y="16628"/>
                </a:cubicBezTo>
                <a:cubicBezTo>
                  <a:pt x="11497" y="16648"/>
                  <a:pt x="11511" y="16607"/>
                  <a:pt x="11517" y="16592"/>
                </a:cubicBezTo>
              </a:path>
              <a:path w="9990" h="1138">
                <a:moveTo>
                  <a:pt x="11743" y="16667"/>
                </a:moveTo>
                <a:cubicBezTo>
                  <a:pt x="11766" y="16727"/>
                  <a:pt x="11791" y="16787"/>
                  <a:pt x="11799" y="16851"/>
                </a:cubicBezTo>
                <a:cubicBezTo>
                  <a:pt x="11800" y="16858"/>
                  <a:pt x="11801" y="16865"/>
                  <a:pt x="11802" y="16872"/>
                </a:cubicBezTo>
                <a:cubicBezTo>
                  <a:pt x="11778" y="16852"/>
                  <a:pt x="11776" y="16813"/>
                  <a:pt x="11773" y="16780"/>
                </a:cubicBezTo>
                <a:cubicBezTo>
                  <a:pt x="11765" y="16702"/>
                  <a:pt x="11769" y="16611"/>
                  <a:pt x="11806" y="16540"/>
                </a:cubicBezTo>
                <a:cubicBezTo>
                  <a:pt x="11831" y="16492"/>
                  <a:pt x="11868" y="16453"/>
                  <a:pt x="11915" y="16428"/>
                </a:cubicBezTo>
                <a:cubicBezTo>
                  <a:pt x="11925" y="16423"/>
                  <a:pt x="11936" y="16419"/>
                  <a:pt x="11946" y="16414"/>
                </a:cubicBezTo>
              </a:path>
              <a:path w="9990" h="1138">
                <a:moveTo>
                  <a:pt x="12209" y="16074"/>
                </a:moveTo>
                <a:cubicBezTo>
                  <a:pt x="12183" y="16113"/>
                  <a:pt x="12179" y="16142"/>
                  <a:pt x="12165" y="16193"/>
                </a:cubicBezTo>
                <a:cubicBezTo>
                  <a:pt x="12139" y="16291"/>
                  <a:pt x="12116" y="16387"/>
                  <a:pt x="12104" y="16488"/>
                </a:cubicBezTo>
                <a:cubicBezTo>
                  <a:pt x="12095" y="16563"/>
                  <a:pt x="12085" y="16650"/>
                  <a:pt x="12110" y="16724"/>
                </a:cubicBezTo>
                <a:cubicBezTo>
                  <a:pt x="12128" y="16776"/>
                  <a:pt x="12158" y="16780"/>
                  <a:pt x="12205" y="16776"/>
                </a:cubicBezTo>
              </a:path>
              <a:path w="9990" h="1138">
                <a:moveTo>
                  <a:pt x="12403" y="16244"/>
                </a:moveTo>
                <a:cubicBezTo>
                  <a:pt x="12417" y="16297"/>
                  <a:pt x="12414" y="16356"/>
                  <a:pt x="12414" y="16411"/>
                </a:cubicBezTo>
                <a:cubicBezTo>
                  <a:pt x="12414" y="16495"/>
                  <a:pt x="12416" y="16577"/>
                  <a:pt x="12419" y="16661"/>
                </a:cubicBezTo>
                <a:cubicBezTo>
                  <a:pt x="12420" y="16696"/>
                  <a:pt x="12421" y="16730"/>
                  <a:pt x="12424" y="16765"/>
                </a:cubicBezTo>
              </a:path>
              <a:path w="9990" h="1138">
                <a:moveTo>
                  <a:pt x="12347" y="16182"/>
                </a:moveTo>
                <a:cubicBezTo>
                  <a:pt x="12354" y="16143"/>
                  <a:pt x="12359" y="16128"/>
                  <a:pt x="12392" y="16107"/>
                </a:cubicBezTo>
                <a:cubicBezTo>
                  <a:pt x="12433" y="16081"/>
                  <a:pt x="12480" y="16078"/>
                  <a:pt x="12528" y="16079"/>
                </a:cubicBezTo>
                <a:cubicBezTo>
                  <a:pt x="12587" y="16081"/>
                  <a:pt x="12623" y="16099"/>
                  <a:pt x="12667" y="16135"/>
                </a:cubicBezTo>
              </a:path>
              <a:path w="9990" h="1138">
                <a:moveTo>
                  <a:pt x="12435" y="16496"/>
                </a:moveTo>
                <a:cubicBezTo>
                  <a:pt x="12449" y="16519"/>
                  <a:pt x="12485" y="16495"/>
                  <a:pt x="12513" y="16484"/>
                </a:cubicBezTo>
                <a:cubicBezTo>
                  <a:pt x="12562" y="16465"/>
                  <a:pt x="12608" y="16444"/>
                  <a:pt x="12659" y="16430"/>
                </a:cubicBezTo>
                <a:cubicBezTo>
                  <a:pt x="12694" y="16420"/>
                  <a:pt x="12704" y="16417"/>
                  <a:pt x="12728" y="16415"/>
                </a:cubicBezTo>
              </a:path>
              <a:path w="9990" h="1138">
                <a:moveTo>
                  <a:pt x="12758" y="16131"/>
                </a:moveTo>
                <a:cubicBezTo>
                  <a:pt x="12799" y="16115"/>
                  <a:pt x="12811" y="16135"/>
                  <a:pt x="12834" y="16172"/>
                </a:cubicBezTo>
                <a:cubicBezTo>
                  <a:pt x="12884" y="16253"/>
                  <a:pt x="12905" y="16348"/>
                  <a:pt x="12918" y="16442"/>
                </a:cubicBezTo>
                <a:cubicBezTo>
                  <a:pt x="12932" y="16547"/>
                  <a:pt x="12931" y="16647"/>
                  <a:pt x="12914" y="16752"/>
                </a:cubicBezTo>
                <a:cubicBezTo>
                  <a:pt x="12904" y="16800"/>
                  <a:pt x="12902" y="16813"/>
                  <a:pt x="12888" y="16841"/>
                </a:cubicBezTo>
              </a:path>
              <a:path w="9990" h="1138">
                <a:moveTo>
                  <a:pt x="13490" y="16429"/>
                </a:moveTo>
                <a:cubicBezTo>
                  <a:pt x="13462" y="16440"/>
                  <a:pt x="13434" y="16482"/>
                  <a:pt x="13425" y="16513"/>
                </a:cubicBezTo>
                <a:cubicBezTo>
                  <a:pt x="13406" y="16584"/>
                  <a:pt x="13400" y="16668"/>
                  <a:pt x="13413" y="16740"/>
                </a:cubicBezTo>
                <a:cubicBezTo>
                  <a:pt x="13419" y="16774"/>
                  <a:pt x="13426" y="16815"/>
                  <a:pt x="13459" y="16826"/>
                </a:cubicBezTo>
              </a:path>
              <a:path w="9990" h="1138">
                <a:moveTo>
                  <a:pt x="13381" y="16641"/>
                </a:moveTo>
                <a:cubicBezTo>
                  <a:pt x="13370" y="16600"/>
                  <a:pt x="13398" y="16594"/>
                  <a:pt x="13431" y="16571"/>
                </a:cubicBezTo>
                <a:cubicBezTo>
                  <a:pt x="13499" y="16524"/>
                  <a:pt x="13568" y="16489"/>
                  <a:pt x="13642" y="16454"/>
                </a:cubicBezTo>
                <a:cubicBezTo>
                  <a:pt x="13698" y="16427"/>
                  <a:pt x="13716" y="16418"/>
                  <a:pt x="13755" y="16406"/>
                </a:cubicBezTo>
              </a:path>
              <a:path w="9990" h="1138">
                <a:moveTo>
                  <a:pt x="13869" y="16330"/>
                </a:moveTo>
                <a:cubicBezTo>
                  <a:pt x="13862" y="16388"/>
                  <a:pt x="13868" y="16442"/>
                  <a:pt x="13877" y="16499"/>
                </a:cubicBezTo>
                <a:cubicBezTo>
                  <a:pt x="13886" y="16559"/>
                  <a:pt x="13900" y="16619"/>
                  <a:pt x="13910" y="16679"/>
                </a:cubicBezTo>
                <a:cubicBezTo>
                  <a:pt x="13893" y="16629"/>
                  <a:pt x="13884" y="16578"/>
                  <a:pt x="13879" y="16525"/>
                </a:cubicBezTo>
                <a:cubicBezTo>
                  <a:pt x="13867" y="16390"/>
                  <a:pt x="13867" y="16210"/>
                  <a:pt x="13947" y="16093"/>
                </a:cubicBezTo>
                <a:cubicBezTo>
                  <a:pt x="13982" y="16042"/>
                  <a:pt x="14036" y="16031"/>
                  <a:pt x="14094" y="16046"/>
                </a:cubicBezTo>
                <a:cubicBezTo>
                  <a:pt x="14163" y="16065"/>
                  <a:pt x="14227" y="16126"/>
                  <a:pt x="14236" y="16198"/>
                </a:cubicBezTo>
                <a:cubicBezTo>
                  <a:pt x="14247" y="16282"/>
                  <a:pt x="14184" y="16353"/>
                  <a:pt x="14118" y="16395"/>
                </a:cubicBezTo>
                <a:cubicBezTo>
                  <a:pt x="14081" y="16419"/>
                  <a:pt x="14014" y="16449"/>
                  <a:pt x="13968" y="16440"/>
                </a:cubicBezTo>
                <a:cubicBezTo>
                  <a:pt x="13944" y="16435"/>
                  <a:pt x="13934" y="16420"/>
                  <a:pt x="13921" y="16402"/>
                </a:cubicBezTo>
              </a:path>
              <a:path w="9990" h="1138">
                <a:moveTo>
                  <a:pt x="14129" y="16572"/>
                </a:moveTo>
                <a:cubicBezTo>
                  <a:pt x="14161" y="16574"/>
                  <a:pt x="14171" y="16586"/>
                  <a:pt x="14183" y="16618"/>
                </a:cubicBezTo>
                <a:cubicBezTo>
                  <a:pt x="14194" y="16649"/>
                  <a:pt x="14201" y="16683"/>
                  <a:pt x="14205" y="16716"/>
                </a:cubicBezTo>
                <a:cubicBezTo>
                  <a:pt x="14205" y="16721"/>
                  <a:pt x="14206" y="16726"/>
                  <a:pt x="14206" y="16731"/>
                </a:cubicBezTo>
                <a:cubicBezTo>
                  <a:pt x="14204" y="16681"/>
                  <a:pt x="14203" y="16631"/>
                  <a:pt x="14211" y="16582"/>
                </a:cubicBezTo>
                <a:cubicBezTo>
                  <a:pt x="14218" y="16539"/>
                  <a:pt x="14231" y="16472"/>
                  <a:pt x="14268" y="16443"/>
                </a:cubicBezTo>
                <a:cubicBezTo>
                  <a:pt x="14306" y="16413"/>
                  <a:pt x="14359" y="16420"/>
                  <a:pt x="14403" y="16423"/>
                </a:cubicBezTo>
              </a:path>
              <a:path w="9990" h="1138">
                <a:moveTo>
                  <a:pt x="14596" y="16230"/>
                </a:moveTo>
                <a:cubicBezTo>
                  <a:pt x="14597" y="16212"/>
                  <a:pt x="14597" y="16207"/>
                  <a:pt x="14597" y="16195"/>
                </a:cubicBezTo>
                <a:cubicBezTo>
                  <a:pt x="14574" y="16210"/>
                  <a:pt x="14567" y="16267"/>
                  <a:pt x="14561" y="16302"/>
                </a:cubicBezTo>
                <a:cubicBezTo>
                  <a:pt x="14546" y="16384"/>
                  <a:pt x="14528" y="16473"/>
                  <a:pt x="14531" y="16557"/>
                </a:cubicBezTo>
                <a:cubicBezTo>
                  <a:pt x="14533" y="16618"/>
                  <a:pt x="14542" y="16692"/>
                  <a:pt x="14576" y="16744"/>
                </a:cubicBezTo>
                <a:cubicBezTo>
                  <a:pt x="14582" y="16751"/>
                  <a:pt x="14589" y="16758"/>
                  <a:pt x="14595" y="16765"/>
                </a:cubicBezTo>
              </a:path>
              <a:path w="9990" h="1138">
                <a:moveTo>
                  <a:pt x="14966" y="16239"/>
                </a:moveTo>
                <a:cubicBezTo>
                  <a:pt x="14953" y="16222"/>
                  <a:pt x="14940" y="16207"/>
                  <a:pt x="14925" y="16191"/>
                </a:cubicBezTo>
                <a:cubicBezTo>
                  <a:pt x="14913" y="16236"/>
                  <a:pt x="14915" y="16286"/>
                  <a:pt x="14913" y="16334"/>
                </a:cubicBezTo>
                <a:cubicBezTo>
                  <a:pt x="14906" y="16489"/>
                  <a:pt x="14880" y="16647"/>
                  <a:pt x="14885" y="16802"/>
                </a:cubicBezTo>
                <a:cubicBezTo>
                  <a:pt x="14886" y="16842"/>
                  <a:pt x="14893" y="16874"/>
                  <a:pt x="14937" y="16857"/>
                </a:cubicBezTo>
                <a:cubicBezTo>
                  <a:pt x="14984" y="16839"/>
                  <a:pt x="15033" y="16807"/>
                  <a:pt x="15076" y="16780"/>
                </a:cubicBezTo>
                <a:cubicBezTo>
                  <a:pt x="15110" y="16759"/>
                  <a:pt x="15155" y="16741"/>
                  <a:pt x="15181" y="16709"/>
                </a:cubicBezTo>
                <a:cubicBezTo>
                  <a:pt x="15196" y="16691"/>
                  <a:pt x="15183" y="16682"/>
                  <a:pt x="15179" y="16663"/>
                </a:cubicBezTo>
              </a:path>
              <a:path w="9990" h="1138">
                <a:moveTo>
                  <a:pt x="14950" y="16527"/>
                </a:moveTo>
                <a:cubicBezTo>
                  <a:pt x="14992" y="16514"/>
                  <a:pt x="15034" y="16508"/>
                  <a:pt x="15078" y="16503"/>
                </a:cubicBezTo>
                <a:cubicBezTo>
                  <a:pt x="15124" y="16498"/>
                  <a:pt x="15170" y="16489"/>
                  <a:pt x="15215" y="16481"/>
                </a:cubicBezTo>
                <a:cubicBezTo>
                  <a:pt x="15220" y="16480"/>
                  <a:pt x="15224" y="16478"/>
                  <a:pt x="15229" y="16477"/>
                </a:cubicBezTo>
              </a:path>
              <a:path w="9990" h="1138">
                <a:moveTo>
                  <a:pt x="14960" y="16358"/>
                </a:moveTo>
                <a:cubicBezTo>
                  <a:pt x="14943" y="16321"/>
                  <a:pt x="14952" y="16315"/>
                  <a:pt x="14971" y="16281"/>
                </a:cubicBezTo>
                <a:cubicBezTo>
                  <a:pt x="15002" y="16227"/>
                  <a:pt x="15055" y="16179"/>
                  <a:pt x="15115" y="16157"/>
                </a:cubicBezTo>
                <a:cubicBezTo>
                  <a:pt x="15172" y="16136"/>
                  <a:pt x="15251" y="16128"/>
                  <a:pt x="15310" y="16146"/>
                </a:cubicBezTo>
                <a:cubicBezTo>
                  <a:pt x="15320" y="16151"/>
                  <a:pt x="15330" y="16155"/>
                  <a:pt x="15340" y="16160"/>
                </a:cubicBezTo>
              </a:path>
              <a:path w="9990" h="1138">
                <a:moveTo>
                  <a:pt x="15482" y="16307"/>
                </a:moveTo>
                <a:cubicBezTo>
                  <a:pt x="15488" y="16368"/>
                  <a:pt x="15488" y="16431"/>
                  <a:pt x="15496" y="16491"/>
                </a:cubicBezTo>
                <a:cubicBezTo>
                  <a:pt x="15506" y="16566"/>
                  <a:pt x="15520" y="16641"/>
                  <a:pt x="15540" y="16714"/>
                </a:cubicBezTo>
                <a:cubicBezTo>
                  <a:pt x="15548" y="16744"/>
                  <a:pt x="15557" y="16772"/>
                  <a:pt x="15568" y="16801"/>
                </a:cubicBezTo>
              </a:path>
              <a:path w="9990" h="1138">
                <a:moveTo>
                  <a:pt x="15730" y="16230"/>
                </a:moveTo>
                <a:cubicBezTo>
                  <a:pt x="15747" y="16243"/>
                  <a:pt x="15746" y="16319"/>
                  <a:pt x="15746" y="16346"/>
                </a:cubicBezTo>
                <a:cubicBezTo>
                  <a:pt x="15745" y="16437"/>
                  <a:pt x="15743" y="16530"/>
                  <a:pt x="15751" y="16621"/>
                </a:cubicBezTo>
                <a:cubicBezTo>
                  <a:pt x="15756" y="16679"/>
                  <a:pt x="15761" y="16747"/>
                  <a:pt x="15782" y="16802"/>
                </a:cubicBezTo>
                <a:cubicBezTo>
                  <a:pt x="15784" y="16806"/>
                  <a:pt x="15787" y="16810"/>
                  <a:pt x="15789" y="16814"/>
                </a:cubicBezTo>
              </a:path>
              <a:path w="9990" h="1138">
                <a:moveTo>
                  <a:pt x="15735" y="16199"/>
                </a:moveTo>
                <a:cubicBezTo>
                  <a:pt x="15730" y="16188"/>
                  <a:pt x="15716" y="16164"/>
                  <a:pt x="15734" y="16155"/>
                </a:cubicBezTo>
                <a:cubicBezTo>
                  <a:pt x="15765" y="16140"/>
                  <a:pt x="15815" y="16140"/>
                  <a:pt x="15849" y="16138"/>
                </a:cubicBezTo>
                <a:cubicBezTo>
                  <a:pt x="15897" y="16136"/>
                  <a:pt x="15958" y="16134"/>
                  <a:pt x="16003" y="16152"/>
                </a:cubicBezTo>
                <a:cubicBezTo>
                  <a:pt x="16032" y="16163"/>
                  <a:pt x="16035" y="16175"/>
                  <a:pt x="16044" y="16201"/>
                </a:cubicBezTo>
              </a:path>
              <a:path w="9990" h="1138">
                <a:moveTo>
                  <a:pt x="15785" y="16558"/>
                </a:moveTo>
                <a:cubicBezTo>
                  <a:pt x="15777" y="16596"/>
                  <a:pt x="15789" y="16585"/>
                  <a:pt x="15815" y="16575"/>
                </a:cubicBezTo>
                <a:cubicBezTo>
                  <a:pt x="15863" y="16557"/>
                  <a:pt x="15911" y="16539"/>
                  <a:pt x="15960" y="16524"/>
                </a:cubicBezTo>
                <a:cubicBezTo>
                  <a:pt x="16006" y="16510"/>
                  <a:pt x="16054" y="16499"/>
                  <a:pt x="16101" y="16489"/>
                </a:cubicBezTo>
                <a:cubicBezTo>
                  <a:pt x="16116" y="16485"/>
                  <a:pt x="16121" y="16486"/>
                  <a:pt x="16124" y="16475"/>
                </a:cubicBezTo>
              </a:path>
              <a:path w="9990" h="1138">
                <a:moveTo>
                  <a:pt x="15535" y="16020"/>
                </a:moveTo>
                <a:cubicBezTo>
                  <a:pt x="15501" y="16018"/>
                  <a:pt x="15618" y="16001"/>
                  <a:pt x="15629" y="16000"/>
                </a:cubicBezTo>
                <a:cubicBezTo>
                  <a:pt x="15720" y="15990"/>
                  <a:pt x="15812" y="15984"/>
                  <a:pt x="15904" y="15983"/>
                </a:cubicBezTo>
                <a:cubicBezTo>
                  <a:pt x="15977" y="15982"/>
                  <a:pt x="16047" y="15989"/>
                  <a:pt x="16119" y="16000"/>
                </a:cubicBezTo>
              </a:path>
              <a:path w="9990" h="1138">
                <a:moveTo>
                  <a:pt x="16281" y="16081"/>
                </a:moveTo>
                <a:cubicBezTo>
                  <a:pt x="16318" y="16125"/>
                  <a:pt x="16339" y="16174"/>
                  <a:pt x="16359" y="16229"/>
                </a:cubicBezTo>
                <a:cubicBezTo>
                  <a:pt x="16395" y="16328"/>
                  <a:pt x="16421" y="16433"/>
                  <a:pt x="16431" y="16538"/>
                </a:cubicBezTo>
                <a:cubicBezTo>
                  <a:pt x="16438" y="16616"/>
                  <a:pt x="16442" y="16707"/>
                  <a:pt x="16425" y="16785"/>
                </a:cubicBezTo>
                <a:cubicBezTo>
                  <a:pt x="16416" y="16806"/>
                  <a:pt x="16415" y="16810"/>
                  <a:pt x="16408" y="16822"/>
                </a:cubicBezTo>
              </a:path>
              <a:path w="9990" h="1138">
                <a:moveTo>
                  <a:pt x="16966" y="16212"/>
                </a:moveTo>
                <a:cubicBezTo>
                  <a:pt x="16936" y="16209"/>
                  <a:pt x="16919" y="16238"/>
                  <a:pt x="16914" y="16272"/>
                </a:cubicBezTo>
                <a:cubicBezTo>
                  <a:pt x="16904" y="16344"/>
                  <a:pt x="16906" y="16420"/>
                  <a:pt x="16912" y="16492"/>
                </a:cubicBezTo>
                <a:cubicBezTo>
                  <a:pt x="16915" y="16528"/>
                  <a:pt x="16936" y="16679"/>
                  <a:pt x="16931" y="16670"/>
                </a:cubicBezTo>
                <a:cubicBezTo>
                  <a:pt x="16904" y="16522"/>
                  <a:pt x="16902" y="16363"/>
                  <a:pt x="16932" y="16216"/>
                </a:cubicBezTo>
                <a:cubicBezTo>
                  <a:pt x="16944" y="16156"/>
                  <a:pt x="16960" y="16106"/>
                  <a:pt x="17002" y="16062"/>
                </a:cubicBezTo>
                <a:cubicBezTo>
                  <a:pt x="17049" y="16084"/>
                  <a:pt x="17073" y="16124"/>
                  <a:pt x="17093" y="16174"/>
                </a:cubicBezTo>
                <a:cubicBezTo>
                  <a:pt x="17123" y="16250"/>
                  <a:pt x="17140" y="16333"/>
                  <a:pt x="17141" y="16414"/>
                </a:cubicBezTo>
                <a:cubicBezTo>
                  <a:pt x="17141" y="16473"/>
                  <a:pt x="17133" y="16532"/>
                  <a:pt x="17085" y="16571"/>
                </a:cubicBezTo>
                <a:cubicBezTo>
                  <a:pt x="17058" y="16593"/>
                  <a:pt x="17016" y="16603"/>
                  <a:pt x="16987" y="16582"/>
                </a:cubicBezTo>
                <a:cubicBezTo>
                  <a:pt x="16958" y="16561"/>
                  <a:pt x="16969" y="16532"/>
                  <a:pt x="16978" y="16505"/>
                </a:cubicBezTo>
              </a:path>
              <a:path w="9990" h="1138">
                <a:moveTo>
                  <a:pt x="17210" y="16584"/>
                </a:moveTo>
                <a:cubicBezTo>
                  <a:pt x="17238" y="16628"/>
                  <a:pt x="17267" y="16671"/>
                  <a:pt x="17294" y="16716"/>
                </a:cubicBezTo>
                <a:cubicBezTo>
                  <a:pt x="17311" y="16744"/>
                  <a:pt x="17325" y="16771"/>
                  <a:pt x="17339" y="16800"/>
                </a:cubicBezTo>
                <a:cubicBezTo>
                  <a:pt x="17315" y="16784"/>
                  <a:pt x="17308" y="16746"/>
                  <a:pt x="17302" y="16717"/>
                </a:cubicBezTo>
                <a:cubicBezTo>
                  <a:pt x="17288" y="16654"/>
                  <a:pt x="17288" y="16593"/>
                  <a:pt x="17304" y="16530"/>
                </a:cubicBezTo>
                <a:cubicBezTo>
                  <a:pt x="17315" y="16485"/>
                  <a:pt x="17336" y="16432"/>
                  <a:pt x="17369" y="16398"/>
                </a:cubicBezTo>
                <a:cubicBezTo>
                  <a:pt x="17390" y="16376"/>
                  <a:pt x="17429" y="16370"/>
                  <a:pt x="17457" y="16362"/>
                </a:cubicBezTo>
              </a:path>
              <a:path w="9990" h="1138">
                <a:moveTo>
                  <a:pt x="17595" y="15974"/>
                </a:moveTo>
                <a:cubicBezTo>
                  <a:pt x="17587" y="15940"/>
                  <a:pt x="17591" y="15937"/>
                  <a:pt x="17565" y="15919"/>
                </a:cubicBezTo>
                <a:cubicBezTo>
                  <a:pt x="17550" y="15972"/>
                  <a:pt x="17535" y="16022"/>
                  <a:pt x="17526" y="16078"/>
                </a:cubicBezTo>
                <a:cubicBezTo>
                  <a:pt x="17509" y="16182"/>
                  <a:pt x="17501" y="16285"/>
                  <a:pt x="17501" y="16390"/>
                </a:cubicBezTo>
                <a:cubicBezTo>
                  <a:pt x="17501" y="16470"/>
                  <a:pt x="17506" y="16552"/>
                  <a:pt x="17539" y="16626"/>
                </a:cubicBezTo>
                <a:cubicBezTo>
                  <a:pt x="17554" y="16659"/>
                  <a:pt x="17566" y="16671"/>
                  <a:pt x="17594" y="16689"/>
                </a:cubicBezTo>
              </a:path>
              <a:path w="9990" h="1138">
                <a:moveTo>
                  <a:pt x="17850" y="16187"/>
                </a:moveTo>
                <a:cubicBezTo>
                  <a:pt x="17872" y="16228"/>
                  <a:pt x="17871" y="16262"/>
                  <a:pt x="17877" y="16308"/>
                </a:cubicBezTo>
                <a:cubicBezTo>
                  <a:pt x="17887" y="16383"/>
                  <a:pt x="17896" y="16460"/>
                  <a:pt x="17896" y="16536"/>
                </a:cubicBezTo>
                <a:cubicBezTo>
                  <a:pt x="17896" y="16587"/>
                  <a:pt x="17896" y="16640"/>
                  <a:pt x="17892" y="16690"/>
                </a:cubicBezTo>
                <a:cubicBezTo>
                  <a:pt x="17891" y="16694"/>
                  <a:pt x="17891" y="16699"/>
                  <a:pt x="17890" y="16703"/>
                </a:cubicBezTo>
              </a:path>
              <a:path w="9990" h="1138">
                <a:moveTo>
                  <a:pt x="17822" y="16282"/>
                </a:moveTo>
                <a:cubicBezTo>
                  <a:pt x="17822" y="16247"/>
                  <a:pt x="17829" y="16245"/>
                  <a:pt x="17858" y="16232"/>
                </a:cubicBezTo>
                <a:cubicBezTo>
                  <a:pt x="17897" y="16215"/>
                  <a:pt x="17939" y="16205"/>
                  <a:pt x="17982" y="16202"/>
                </a:cubicBezTo>
                <a:cubicBezTo>
                  <a:pt x="18039" y="16199"/>
                  <a:pt x="18097" y="16199"/>
                  <a:pt x="18152" y="16214"/>
                </a:cubicBezTo>
              </a:path>
              <a:path w="9990" h="1138">
                <a:moveTo>
                  <a:pt x="17871" y="16502"/>
                </a:moveTo>
                <a:cubicBezTo>
                  <a:pt x="17893" y="16517"/>
                  <a:pt x="17929" y="16499"/>
                  <a:pt x="17958" y="16490"/>
                </a:cubicBezTo>
                <a:cubicBezTo>
                  <a:pt x="18008" y="16475"/>
                  <a:pt x="18059" y="16465"/>
                  <a:pt x="18109" y="16450"/>
                </a:cubicBezTo>
                <a:cubicBezTo>
                  <a:pt x="18134" y="16442"/>
                  <a:pt x="18155" y="16432"/>
                  <a:pt x="18176" y="16418"/>
                </a:cubicBezTo>
              </a:path>
              <a:path w="9990" h="1138">
                <a:moveTo>
                  <a:pt x="17725" y="16052"/>
                </a:moveTo>
                <a:cubicBezTo>
                  <a:pt x="17713" y="16047"/>
                  <a:pt x="17709" y="16044"/>
                  <a:pt x="17712" y="16032"/>
                </a:cubicBezTo>
                <a:cubicBezTo>
                  <a:pt x="17732" y="16006"/>
                  <a:pt x="17775" y="16005"/>
                  <a:pt x="17810" y="16001"/>
                </a:cubicBezTo>
                <a:cubicBezTo>
                  <a:pt x="17880" y="15994"/>
                  <a:pt x="17955" y="15994"/>
                  <a:pt x="18025" y="16000"/>
                </a:cubicBezTo>
                <a:cubicBezTo>
                  <a:pt x="18076" y="16004"/>
                  <a:pt x="18126" y="16017"/>
                  <a:pt x="18175" y="16031"/>
                </a:cubicBezTo>
              </a:path>
              <a:path w="9990" h="1138">
                <a:moveTo>
                  <a:pt x="18276" y="15962"/>
                </a:moveTo>
                <a:cubicBezTo>
                  <a:pt x="18319" y="15957"/>
                  <a:pt x="18323" y="16004"/>
                  <a:pt x="18335" y="16041"/>
                </a:cubicBezTo>
                <a:cubicBezTo>
                  <a:pt x="18373" y="16154"/>
                  <a:pt x="18392" y="16271"/>
                  <a:pt x="18406" y="16389"/>
                </a:cubicBezTo>
                <a:cubicBezTo>
                  <a:pt x="18421" y="16514"/>
                  <a:pt x="18429" y="16640"/>
                  <a:pt x="18430" y="16766"/>
                </a:cubicBezTo>
                <a:cubicBezTo>
                  <a:pt x="18430" y="16806"/>
                  <a:pt x="18425" y="16839"/>
                  <a:pt x="18421" y="1687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"/>
          <p:cNvSpPr/>
          <p:nvPr/>
        </p:nvSpPr>
        <p:spPr>
          <a:xfrm>
            <a:off x="6923160" y="5278320"/>
            <a:ext cx="1793880" cy="466920"/>
          </a:xfrm>
          <a:custGeom>
            <a:avLst/>
            <a:gdLst/>
            <a:ahLst/>
            <a:rect l="l" t="t" r="r" b="b"/>
            <a:pathLst>
              <a:path w="4982" h="1297">
                <a:moveTo>
                  <a:pt x="19246" y="15787"/>
                </a:moveTo>
                <a:cubicBezTo>
                  <a:pt x="19215" y="15816"/>
                  <a:pt x="19317" y="15783"/>
                  <a:pt x="19336" y="15780"/>
                </a:cubicBezTo>
                <a:cubicBezTo>
                  <a:pt x="19420" y="15768"/>
                  <a:pt x="19508" y="15764"/>
                  <a:pt x="19593" y="15759"/>
                </a:cubicBezTo>
                <a:cubicBezTo>
                  <a:pt x="19644" y="15757"/>
                  <a:pt x="19658" y="15757"/>
                  <a:pt x="19690" y="15757"/>
                </a:cubicBezTo>
              </a:path>
              <a:path w="4982" h="1297">
                <a:moveTo>
                  <a:pt x="19401" y="15895"/>
                </a:moveTo>
                <a:cubicBezTo>
                  <a:pt x="19434" y="15900"/>
                  <a:pt x="19482" y="15898"/>
                  <a:pt x="19514" y="15889"/>
                </a:cubicBezTo>
                <a:cubicBezTo>
                  <a:pt x="19578" y="15871"/>
                  <a:pt x="19641" y="15851"/>
                  <a:pt x="19706" y="15834"/>
                </a:cubicBezTo>
                <a:cubicBezTo>
                  <a:pt x="19742" y="15825"/>
                  <a:pt x="19776" y="15814"/>
                  <a:pt x="19811" y="15802"/>
                </a:cubicBezTo>
              </a:path>
              <a:path w="4982" h="1297">
                <a:moveTo>
                  <a:pt x="20009" y="15267"/>
                </a:moveTo>
                <a:cubicBezTo>
                  <a:pt x="19999" y="15314"/>
                  <a:pt x="19998" y="15348"/>
                  <a:pt x="20000" y="15397"/>
                </a:cubicBezTo>
                <a:cubicBezTo>
                  <a:pt x="20002" y="15457"/>
                  <a:pt x="20017" y="15510"/>
                  <a:pt x="20039" y="15566"/>
                </a:cubicBezTo>
                <a:cubicBezTo>
                  <a:pt x="20049" y="15590"/>
                  <a:pt x="20051" y="15597"/>
                  <a:pt x="20061" y="15610"/>
                </a:cubicBezTo>
                <a:cubicBezTo>
                  <a:pt x="20066" y="15568"/>
                  <a:pt x="20064" y="15524"/>
                  <a:pt x="20061" y="15478"/>
                </a:cubicBezTo>
                <a:cubicBezTo>
                  <a:pt x="20055" y="15376"/>
                  <a:pt x="20061" y="15276"/>
                  <a:pt x="20077" y="15175"/>
                </a:cubicBezTo>
                <a:cubicBezTo>
                  <a:pt x="20095" y="15063"/>
                  <a:pt x="20114" y="14865"/>
                  <a:pt x="20201" y="14780"/>
                </a:cubicBezTo>
                <a:cubicBezTo>
                  <a:pt x="20208" y="14777"/>
                  <a:pt x="20216" y="14774"/>
                  <a:pt x="20223" y="14771"/>
                </a:cubicBezTo>
                <a:cubicBezTo>
                  <a:pt x="20264" y="14823"/>
                  <a:pt x="20266" y="14883"/>
                  <a:pt x="20271" y="14949"/>
                </a:cubicBezTo>
                <a:cubicBezTo>
                  <a:pt x="20281" y="15081"/>
                  <a:pt x="20274" y="15224"/>
                  <a:pt x="20220" y="15347"/>
                </a:cubicBezTo>
                <a:cubicBezTo>
                  <a:pt x="20196" y="15402"/>
                  <a:pt x="20149" y="15462"/>
                  <a:pt x="20082" y="15457"/>
                </a:cubicBezTo>
                <a:cubicBezTo>
                  <a:pt x="20042" y="15454"/>
                  <a:pt x="20000" y="15422"/>
                  <a:pt x="20005" y="15379"/>
                </a:cubicBezTo>
                <a:cubicBezTo>
                  <a:pt x="20016" y="15349"/>
                  <a:pt x="20021" y="15339"/>
                  <a:pt x="20039" y="15325"/>
                </a:cubicBezTo>
              </a:path>
              <a:path w="4982" h="1297">
                <a:moveTo>
                  <a:pt x="20422" y="15355"/>
                </a:moveTo>
                <a:cubicBezTo>
                  <a:pt x="20426" y="15385"/>
                  <a:pt x="20430" y="15418"/>
                  <a:pt x="20432" y="15447"/>
                </a:cubicBezTo>
                <a:cubicBezTo>
                  <a:pt x="20435" y="15500"/>
                  <a:pt x="20436" y="15554"/>
                  <a:pt x="20440" y="15607"/>
                </a:cubicBezTo>
                <a:cubicBezTo>
                  <a:pt x="20442" y="15633"/>
                  <a:pt x="20442" y="15640"/>
                  <a:pt x="20444" y="15656"/>
                </a:cubicBezTo>
                <a:cubicBezTo>
                  <a:pt x="20433" y="15569"/>
                  <a:pt x="20432" y="15480"/>
                  <a:pt x="20440" y="15392"/>
                </a:cubicBezTo>
                <a:cubicBezTo>
                  <a:pt x="20446" y="15323"/>
                  <a:pt x="20455" y="15246"/>
                  <a:pt x="20507" y="15197"/>
                </a:cubicBezTo>
                <a:cubicBezTo>
                  <a:pt x="20536" y="15169"/>
                  <a:pt x="20579" y="15188"/>
                  <a:pt x="20614" y="15197"/>
                </a:cubicBezTo>
                <a:cubicBezTo>
                  <a:pt x="20626" y="15201"/>
                  <a:pt x="20638" y="15204"/>
                  <a:pt x="20650" y="15208"/>
                </a:cubicBezTo>
              </a:path>
              <a:path w="4982" h="1297">
                <a:moveTo>
                  <a:pt x="20983" y="14731"/>
                </a:moveTo>
                <a:cubicBezTo>
                  <a:pt x="20953" y="14795"/>
                  <a:pt x="20947" y="14861"/>
                  <a:pt x="20930" y="14930"/>
                </a:cubicBezTo>
                <a:cubicBezTo>
                  <a:pt x="20900" y="15057"/>
                  <a:pt x="20874" y="15184"/>
                  <a:pt x="20857" y="15313"/>
                </a:cubicBezTo>
                <a:cubicBezTo>
                  <a:pt x="20844" y="15407"/>
                  <a:pt x="20827" y="15521"/>
                  <a:pt x="20860" y="15614"/>
                </a:cubicBezTo>
                <a:cubicBezTo>
                  <a:pt x="20878" y="15666"/>
                  <a:pt x="20913" y="15699"/>
                  <a:pt x="20969" y="15678"/>
                </a:cubicBezTo>
                <a:cubicBezTo>
                  <a:pt x="20980" y="15672"/>
                  <a:pt x="20991" y="15665"/>
                  <a:pt x="21002" y="15659"/>
                </a:cubicBezTo>
              </a:path>
              <a:path w="4982" h="1297">
                <a:moveTo>
                  <a:pt x="21282" y="15025"/>
                </a:moveTo>
                <a:cubicBezTo>
                  <a:pt x="21272" y="15033"/>
                  <a:pt x="21246" y="15068"/>
                  <a:pt x="21229" y="15106"/>
                </a:cubicBezTo>
                <a:cubicBezTo>
                  <a:pt x="21196" y="15179"/>
                  <a:pt x="21168" y="15252"/>
                  <a:pt x="21151" y="15331"/>
                </a:cubicBezTo>
                <a:cubicBezTo>
                  <a:pt x="21139" y="15388"/>
                  <a:pt x="21130" y="15455"/>
                  <a:pt x="21172" y="15503"/>
                </a:cubicBezTo>
                <a:cubicBezTo>
                  <a:pt x="21217" y="15554"/>
                  <a:pt x="21297" y="15554"/>
                  <a:pt x="21358" y="15542"/>
                </a:cubicBezTo>
                <a:cubicBezTo>
                  <a:pt x="21401" y="15533"/>
                  <a:pt x="21437" y="15523"/>
                  <a:pt x="21467" y="15490"/>
                </a:cubicBezTo>
                <a:cubicBezTo>
                  <a:pt x="21485" y="15470"/>
                  <a:pt x="21485" y="15455"/>
                  <a:pt x="21488" y="15430"/>
                </a:cubicBezTo>
              </a:path>
              <a:path w="4982" h="1297">
                <a:moveTo>
                  <a:pt x="21216" y="15304"/>
                </a:moveTo>
                <a:cubicBezTo>
                  <a:pt x="21223" y="15270"/>
                  <a:pt x="21246" y="15267"/>
                  <a:pt x="21276" y="15255"/>
                </a:cubicBezTo>
                <a:cubicBezTo>
                  <a:pt x="21337" y="15231"/>
                  <a:pt x="21404" y="15216"/>
                  <a:pt x="21470" y="15213"/>
                </a:cubicBezTo>
                <a:cubicBezTo>
                  <a:pt x="21496" y="15212"/>
                  <a:pt x="21512" y="15211"/>
                  <a:pt x="21536" y="15204"/>
                </a:cubicBezTo>
              </a:path>
              <a:path w="4982" h="1297">
                <a:moveTo>
                  <a:pt x="21189" y="15062"/>
                </a:moveTo>
                <a:cubicBezTo>
                  <a:pt x="21193" y="15010"/>
                  <a:pt x="21218" y="15000"/>
                  <a:pt x="21261" y="14971"/>
                </a:cubicBezTo>
                <a:cubicBezTo>
                  <a:pt x="21319" y="14932"/>
                  <a:pt x="21384" y="14913"/>
                  <a:pt x="21452" y="14898"/>
                </a:cubicBezTo>
                <a:cubicBezTo>
                  <a:pt x="21504" y="14886"/>
                  <a:pt x="21554" y="14891"/>
                  <a:pt x="21606" y="14898"/>
                </a:cubicBezTo>
              </a:path>
              <a:path w="4982" h="1297">
                <a:moveTo>
                  <a:pt x="21700" y="14823"/>
                </a:moveTo>
                <a:cubicBezTo>
                  <a:pt x="21709" y="14872"/>
                  <a:pt x="21717" y="14927"/>
                  <a:pt x="21717" y="14976"/>
                </a:cubicBezTo>
                <a:cubicBezTo>
                  <a:pt x="21718" y="15072"/>
                  <a:pt x="21709" y="15170"/>
                  <a:pt x="21713" y="15266"/>
                </a:cubicBezTo>
                <a:cubicBezTo>
                  <a:pt x="21716" y="15339"/>
                  <a:pt x="21722" y="15413"/>
                  <a:pt x="21728" y="15486"/>
                </a:cubicBezTo>
              </a:path>
              <a:path w="4982" h="1297">
                <a:moveTo>
                  <a:pt x="21981" y="14887"/>
                </a:moveTo>
                <a:cubicBezTo>
                  <a:pt x="21973" y="14951"/>
                  <a:pt x="21967" y="15012"/>
                  <a:pt x="21963" y="15076"/>
                </a:cubicBezTo>
                <a:cubicBezTo>
                  <a:pt x="21957" y="15174"/>
                  <a:pt x="21958" y="15276"/>
                  <a:pt x="21975" y="15373"/>
                </a:cubicBezTo>
                <a:cubicBezTo>
                  <a:pt x="21979" y="15398"/>
                  <a:pt x="21989" y="15502"/>
                  <a:pt x="22026" y="15512"/>
                </a:cubicBezTo>
                <a:cubicBezTo>
                  <a:pt x="22039" y="15505"/>
                  <a:pt x="22044" y="15500"/>
                  <a:pt x="22046" y="15487"/>
                </a:cubicBezTo>
              </a:path>
              <a:path w="4982" h="1297">
                <a:moveTo>
                  <a:pt x="21972" y="14917"/>
                </a:moveTo>
                <a:cubicBezTo>
                  <a:pt x="21969" y="14890"/>
                  <a:pt x="21966" y="14857"/>
                  <a:pt x="21998" y="14842"/>
                </a:cubicBezTo>
                <a:cubicBezTo>
                  <a:pt x="22043" y="14821"/>
                  <a:pt x="22103" y="14819"/>
                  <a:pt x="22151" y="14821"/>
                </a:cubicBezTo>
                <a:cubicBezTo>
                  <a:pt x="22202" y="14823"/>
                  <a:pt x="22260" y="14838"/>
                  <a:pt x="22290" y="14883"/>
                </a:cubicBezTo>
                <a:cubicBezTo>
                  <a:pt x="22301" y="14908"/>
                  <a:pt x="22304" y="14916"/>
                  <a:pt x="22302" y="14935"/>
                </a:cubicBezTo>
              </a:path>
              <a:path w="4982" h="1297">
                <a:moveTo>
                  <a:pt x="21995" y="15189"/>
                </a:moveTo>
                <a:cubicBezTo>
                  <a:pt x="21971" y="15217"/>
                  <a:pt x="22069" y="15168"/>
                  <a:pt x="22094" y="15160"/>
                </a:cubicBezTo>
                <a:cubicBezTo>
                  <a:pt x="22159" y="15138"/>
                  <a:pt x="22226" y="15120"/>
                  <a:pt x="22291" y="15099"/>
                </a:cubicBezTo>
                <a:cubicBezTo>
                  <a:pt x="22339" y="15083"/>
                  <a:pt x="22367" y="15058"/>
                  <a:pt x="22397" y="15019"/>
                </a:cubicBezTo>
              </a:path>
              <a:path w="4982" h="1297">
                <a:moveTo>
                  <a:pt x="22464" y="14701"/>
                </a:moveTo>
                <a:cubicBezTo>
                  <a:pt x="22503" y="14698"/>
                  <a:pt x="22517" y="14734"/>
                  <a:pt x="22530" y="14775"/>
                </a:cubicBezTo>
                <a:cubicBezTo>
                  <a:pt x="22560" y="14866"/>
                  <a:pt x="22575" y="14978"/>
                  <a:pt x="22574" y="15073"/>
                </a:cubicBezTo>
                <a:cubicBezTo>
                  <a:pt x="22573" y="15179"/>
                  <a:pt x="22555" y="15302"/>
                  <a:pt x="22525" y="15403"/>
                </a:cubicBezTo>
                <a:cubicBezTo>
                  <a:pt x="22512" y="15446"/>
                  <a:pt x="22490" y="15486"/>
                  <a:pt x="22469" y="15525"/>
                </a:cubicBezTo>
              </a:path>
              <a:path w="4982" h="1297">
                <a:moveTo>
                  <a:pt x="22919" y="14855"/>
                </a:moveTo>
                <a:cubicBezTo>
                  <a:pt x="22894" y="14867"/>
                  <a:pt x="22890" y="14869"/>
                  <a:pt x="22877" y="14918"/>
                </a:cubicBezTo>
                <a:cubicBezTo>
                  <a:pt x="22860" y="14985"/>
                  <a:pt x="22862" y="15051"/>
                  <a:pt x="22867" y="15120"/>
                </a:cubicBezTo>
                <a:cubicBezTo>
                  <a:pt x="22872" y="15187"/>
                  <a:pt x="22882" y="15253"/>
                  <a:pt x="22896" y="15319"/>
                </a:cubicBezTo>
                <a:cubicBezTo>
                  <a:pt x="22902" y="15346"/>
                  <a:pt x="22904" y="15353"/>
                  <a:pt x="22905" y="15371"/>
                </a:cubicBezTo>
                <a:cubicBezTo>
                  <a:pt x="22890" y="15322"/>
                  <a:pt x="22887" y="15273"/>
                  <a:pt x="22884" y="15222"/>
                </a:cubicBezTo>
                <a:cubicBezTo>
                  <a:pt x="22878" y="15127"/>
                  <a:pt x="22887" y="15022"/>
                  <a:pt x="22909" y="14929"/>
                </a:cubicBezTo>
                <a:cubicBezTo>
                  <a:pt x="22927" y="14850"/>
                  <a:pt x="22957" y="14759"/>
                  <a:pt x="23007" y="14693"/>
                </a:cubicBezTo>
                <a:cubicBezTo>
                  <a:pt x="23029" y="14672"/>
                  <a:pt x="23033" y="14665"/>
                  <a:pt x="23053" y="14663"/>
                </a:cubicBezTo>
                <a:cubicBezTo>
                  <a:pt x="23103" y="14699"/>
                  <a:pt x="23109" y="14740"/>
                  <a:pt x="23109" y="14804"/>
                </a:cubicBezTo>
                <a:cubicBezTo>
                  <a:pt x="23108" y="14904"/>
                  <a:pt x="23089" y="15015"/>
                  <a:pt x="23041" y="15103"/>
                </a:cubicBezTo>
                <a:cubicBezTo>
                  <a:pt x="23028" y="15126"/>
                  <a:pt x="22993" y="15188"/>
                  <a:pt x="22957" y="15184"/>
                </a:cubicBezTo>
                <a:cubicBezTo>
                  <a:pt x="22948" y="15167"/>
                  <a:pt x="22945" y="15162"/>
                  <a:pt x="22952" y="15149"/>
                </a:cubicBezTo>
              </a:path>
              <a:path w="4982" h="1297">
                <a:moveTo>
                  <a:pt x="23225" y="15210"/>
                </a:moveTo>
                <a:cubicBezTo>
                  <a:pt x="23225" y="15228"/>
                  <a:pt x="23229" y="15272"/>
                  <a:pt x="23220" y="15288"/>
                </a:cubicBezTo>
                <a:cubicBezTo>
                  <a:pt x="23206" y="15312"/>
                  <a:pt x="23177" y="15304"/>
                  <a:pt x="23167" y="15283"/>
                </a:cubicBezTo>
                <a:cubicBezTo>
                  <a:pt x="23151" y="15250"/>
                  <a:pt x="23157" y="15201"/>
                  <a:pt x="23168" y="15168"/>
                </a:cubicBezTo>
                <a:cubicBezTo>
                  <a:pt x="23187" y="15113"/>
                  <a:pt x="23218" y="15074"/>
                  <a:pt x="23262" y="15038"/>
                </a:cubicBezTo>
                <a:cubicBezTo>
                  <a:pt x="23303" y="15004"/>
                  <a:pt x="23345" y="14999"/>
                  <a:pt x="23397" y="15009"/>
                </a:cubicBezTo>
                <a:cubicBezTo>
                  <a:pt x="23406" y="15012"/>
                  <a:pt x="23416" y="15014"/>
                  <a:pt x="23425" y="15017"/>
                </a:cubicBezTo>
              </a:path>
              <a:path w="4982" h="1297">
                <a:moveTo>
                  <a:pt x="23716" y="14709"/>
                </a:moveTo>
                <a:cubicBezTo>
                  <a:pt x="23698" y="14675"/>
                  <a:pt x="23716" y="14699"/>
                  <a:pt x="23692" y="14684"/>
                </a:cubicBezTo>
                <a:cubicBezTo>
                  <a:pt x="23645" y="14718"/>
                  <a:pt x="23617" y="14779"/>
                  <a:pt x="23590" y="14834"/>
                </a:cubicBezTo>
                <a:cubicBezTo>
                  <a:pt x="23544" y="14929"/>
                  <a:pt x="23509" y="15035"/>
                  <a:pt x="23495" y="15140"/>
                </a:cubicBezTo>
                <a:cubicBezTo>
                  <a:pt x="23484" y="15221"/>
                  <a:pt x="23478" y="15309"/>
                  <a:pt x="23517" y="15383"/>
                </a:cubicBezTo>
                <a:cubicBezTo>
                  <a:pt x="23536" y="15420"/>
                  <a:pt x="23574" y="15470"/>
                  <a:pt x="23622" y="15469"/>
                </a:cubicBezTo>
                <a:cubicBezTo>
                  <a:pt x="23629" y="15467"/>
                  <a:pt x="23636" y="15464"/>
                  <a:pt x="23643" y="15462"/>
                </a:cubicBezTo>
              </a:path>
              <a:path w="4982" h="1297">
                <a:moveTo>
                  <a:pt x="23799" y="14927"/>
                </a:moveTo>
                <a:cubicBezTo>
                  <a:pt x="23797" y="14893"/>
                  <a:pt x="23780" y="14992"/>
                  <a:pt x="23777" y="15003"/>
                </a:cubicBezTo>
                <a:cubicBezTo>
                  <a:pt x="23755" y="15092"/>
                  <a:pt x="23733" y="15180"/>
                  <a:pt x="23720" y="15270"/>
                </a:cubicBezTo>
                <a:cubicBezTo>
                  <a:pt x="23714" y="15316"/>
                  <a:pt x="23703" y="15364"/>
                  <a:pt x="23713" y="15410"/>
                </a:cubicBezTo>
                <a:cubicBezTo>
                  <a:pt x="23717" y="15429"/>
                  <a:pt x="23730" y="15451"/>
                  <a:pt x="23749" y="15459"/>
                </a:cubicBezTo>
                <a:cubicBezTo>
                  <a:pt x="23765" y="15463"/>
                  <a:pt x="23769" y="15465"/>
                  <a:pt x="23779" y="15462"/>
                </a:cubicBezTo>
                <a:cubicBezTo>
                  <a:pt x="23779" y="15442"/>
                  <a:pt x="23766" y="15442"/>
                  <a:pt x="23749" y="15426"/>
                </a:cubicBezTo>
              </a:path>
              <a:path w="4982" h="1297">
                <a:moveTo>
                  <a:pt x="23744" y="15020"/>
                </a:moveTo>
                <a:cubicBezTo>
                  <a:pt x="23752" y="14994"/>
                  <a:pt x="23761" y="14980"/>
                  <a:pt x="23775" y="14958"/>
                </a:cubicBezTo>
                <a:cubicBezTo>
                  <a:pt x="23802" y="14915"/>
                  <a:pt x="23876" y="14905"/>
                  <a:pt x="23925" y="14910"/>
                </a:cubicBezTo>
                <a:cubicBezTo>
                  <a:pt x="23945" y="14915"/>
                  <a:pt x="23965" y="14921"/>
                  <a:pt x="23985" y="14926"/>
                </a:cubicBezTo>
              </a:path>
              <a:path w="4982" h="1297">
                <a:moveTo>
                  <a:pt x="23699" y="15264"/>
                </a:moveTo>
                <a:cubicBezTo>
                  <a:pt x="23730" y="15256"/>
                  <a:pt x="23752" y="15242"/>
                  <a:pt x="23780" y="15231"/>
                </a:cubicBezTo>
                <a:cubicBezTo>
                  <a:pt x="23854" y="15201"/>
                  <a:pt x="23933" y="15180"/>
                  <a:pt x="24009" y="15155"/>
                </a:cubicBezTo>
              </a:path>
              <a:path w="4982" h="1297">
                <a:moveTo>
                  <a:pt x="24057" y="14783"/>
                </a:moveTo>
                <a:cubicBezTo>
                  <a:pt x="24114" y="14876"/>
                  <a:pt x="24136" y="14953"/>
                  <a:pt x="24163" y="15061"/>
                </a:cubicBezTo>
                <a:cubicBezTo>
                  <a:pt x="24193" y="15180"/>
                  <a:pt x="24212" y="15299"/>
                  <a:pt x="24212" y="15422"/>
                </a:cubicBezTo>
                <a:cubicBezTo>
                  <a:pt x="24212" y="15504"/>
                  <a:pt x="24208" y="15574"/>
                  <a:pt x="24189" y="15654"/>
                </a:cubicBezTo>
              </a:path>
              <a:path w="4982" h="1297">
                <a:moveTo>
                  <a:pt x="20952" y="15905"/>
                </a:moveTo>
                <a:cubicBezTo>
                  <a:pt x="20883" y="15906"/>
                  <a:pt x="20814" y="15902"/>
                  <a:pt x="20745" y="15902"/>
                </a:cubicBezTo>
                <a:cubicBezTo>
                  <a:pt x="20698" y="15902"/>
                  <a:pt x="20663" y="15899"/>
                  <a:pt x="20619" y="15915"/>
                </a:cubicBezTo>
                <a:cubicBezTo>
                  <a:pt x="20602" y="15919"/>
                  <a:pt x="20596" y="15919"/>
                  <a:pt x="20596" y="15933"/>
                </a:cubicBezTo>
                <a:cubicBezTo>
                  <a:pt x="20625" y="15942"/>
                  <a:pt x="20665" y="15958"/>
                  <a:pt x="20714" y="15959"/>
                </a:cubicBezTo>
                <a:cubicBezTo>
                  <a:pt x="21206" y="15972"/>
                  <a:pt x="21708" y="15909"/>
                  <a:pt x="22198" y="15881"/>
                </a:cubicBezTo>
                <a:cubicBezTo>
                  <a:pt x="22733" y="15850"/>
                  <a:pt x="23269" y="15816"/>
                  <a:pt x="23804" y="15800"/>
                </a:cubicBezTo>
                <a:cubicBezTo>
                  <a:pt x="23869" y="15798"/>
                  <a:pt x="23989" y="15776"/>
                  <a:pt x="24034" y="15827"/>
                </a:cubicBezTo>
                <a:cubicBezTo>
                  <a:pt x="24023" y="15829"/>
                  <a:pt x="24013" y="15832"/>
                  <a:pt x="24002" y="1583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"/>
          <p:cNvSpPr/>
          <p:nvPr/>
        </p:nvSpPr>
        <p:spPr>
          <a:xfrm>
            <a:off x="7647120" y="5818320"/>
            <a:ext cx="739800" cy="264960"/>
          </a:xfrm>
          <a:custGeom>
            <a:avLst/>
            <a:gdLst/>
            <a:ahLst/>
            <a:rect l="l" t="t" r="r" b="b"/>
            <a:pathLst>
              <a:path w="2055" h="736">
                <a:moveTo>
                  <a:pt x="21271" y="16450"/>
                </a:moveTo>
                <a:cubicBezTo>
                  <a:pt x="21254" y="16474"/>
                  <a:pt x="21249" y="16502"/>
                  <a:pt x="21251" y="16532"/>
                </a:cubicBezTo>
                <a:cubicBezTo>
                  <a:pt x="21255" y="16582"/>
                  <a:pt x="21272" y="16633"/>
                  <a:pt x="21287" y="16681"/>
                </a:cubicBezTo>
                <a:cubicBezTo>
                  <a:pt x="21295" y="16708"/>
                  <a:pt x="21305" y="16734"/>
                  <a:pt x="21316" y="16760"/>
                </a:cubicBezTo>
                <a:cubicBezTo>
                  <a:pt x="21305" y="16719"/>
                  <a:pt x="21296" y="16677"/>
                  <a:pt x="21285" y="16636"/>
                </a:cubicBezTo>
                <a:cubicBezTo>
                  <a:pt x="21270" y="16582"/>
                  <a:pt x="21255" y="16528"/>
                  <a:pt x="21248" y="16472"/>
                </a:cubicBezTo>
                <a:cubicBezTo>
                  <a:pt x="21241" y="16420"/>
                  <a:pt x="21237" y="16366"/>
                  <a:pt x="21258" y="16316"/>
                </a:cubicBezTo>
                <a:cubicBezTo>
                  <a:pt x="21283" y="16257"/>
                  <a:pt x="21347" y="16209"/>
                  <a:pt x="21413" y="16211"/>
                </a:cubicBezTo>
                <a:cubicBezTo>
                  <a:pt x="21495" y="16214"/>
                  <a:pt x="21543" y="16286"/>
                  <a:pt x="21552" y="16360"/>
                </a:cubicBezTo>
                <a:cubicBezTo>
                  <a:pt x="21561" y="16429"/>
                  <a:pt x="21541" y="16507"/>
                  <a:pt x="21501" y="16564"/>
                </a:cubicBezTo>
                <a:cubicBezTo>
                  <a:pt x="21474" y="16603"/>
                  <a:pt x="21425" y="16644"/>
                  <a:pt x="21375" y="16645"/>
                </a:cubicBezTo>
                <a:cubicBezTo>
                  <a:pt x="21349" y="16646"/>
                  <a:pt x="21322" y="16631"/>
                  <a:pt x="21334" y="16602"/>
                </a:cubicBezTo>
                <a:cubicBezTo>
                  <a:pt x="21349" y="16582"/>
                  <a:pt x="21354" y="16575"/>
                  <a:pt x="21366" y="16564"/>
                </a:cubicBezTo>
              </a:path>
              <a:path w="2055" h="736">
                <a:moveTo>
                  <a:pt x="21597" y="16621"/>
                </a:moveTo>
                <a:cubicBezTo>
                  <a:pt x="21605" y="16661"/>
                  <a:pt x="21618" y="16704"/>
                  <a:pt x="21623" y="16744"/>
                </a:cubicBezTo>
                <a:cubicBezTo>
                  <a:pt x="21626" y="16773"/>
                  <a:pt x="21627" y="16802"/>
                  <a:pt x="21630" y="16831"/>
                </a:cubicBezTo>
                <a:cubicBezTo>
                  <a:pt x="21615" y="16795"/>
                  <a:pt x="21612" y="16760"/>
                  <a:pt x="21610" y="16720"/>
                </a:cubicBezTo>
                <a:cubicBezTo>
                  <a:pt x="21608" y="16665"/>
                  <a:pt x="21612" y="16606"/>
                  <a:pt x="21636" y="16555"/>
                </a:cubicBezTo>
                <a:cubicBezTo>
                  <a:pt x="21655" y="16513"/>
                  <a:pt x="21680" y="16483"/>
                  <a:pt x="21726" y="16472"/>
                </a:cubicBezTo>
                <a:cubicBezTo>
                  <a:pt x="21758" y="16468"/>
                  <a:pt x="21769" y="16467"/>
                  <a:pt x="21791" y="16468"/>
                </a:cubicBezTo>
              </a:path>
              <a:path w="2055" h="736">
                <a:moveTo>
                  <a:pt x="22178" y="16215"/>
                </a:moveTo>
                <a:cubicBezTo>
                  <a:pt x="22164" y="16271"/>
                  <a:pt x="22146" y="16325"/>
                  <a:pt x="22132" y="16381"/>
                </a:cubicBezTo>
                <a:cubicBezTo>
                  <a:pt x="22110" y="16469"/>
                  <a:pt x="22091" y="16557"/>
                  <a:pt x="22086" y="16648"/>
                </a:cubicBezTo>
                <a:cubicBezTo>
                  <a:pt x="22083" y="16700"/>
                  <a:pt x="22082" y="16769"/>
                  <a:pt x="22117" y="16812"/>
                </a:cubicBezTo>
                <a:cubicBezTo>
                  <a:pt x="22136" y="16835"/>
                  <a:pt x="22156" y="16836"/>
                  <a:pt x="22183" y="16840"/>
                </a:cubicBezTo>
              </a:path>
              <a:path w="2055" h="736">
                <a:moveTo>
                  <a:pt x="22439" y="16335"/>
                </a:moveTo>
                <a:cubicBezTo>
                  <a:pt x="22437" y="16323"/>
                  <a:pt x="22436" y="16312"/>
                  <a:pt x="22435" y="16299"/>
                </a:cubicBezTo>
                <a:cubicBezTo>
                  <a:pt x="22448" y="16337"/>
                  <a:pt x="22457" y="16367"/>
                  <a:pt x="22458" y="16408"/>
                </a:cubicBezTo>
                <a:cubicBezTo>
                  <a:pt x="22460" y="16483"/>
                  <a:pt x="22453" y="16558"/>
                  <a:pt x="22442" y="16632"/>
                </a:cubicBezTo>
                <a:cubicBezTo>
                  <a:pt x="22432" y="16702"/>
                  <a:pt x="22395" y="16800"/>
                  <a:pt x="22413" y="16871"/>
                </a:cubicBezTo>
                <a:cubicBezTo>
                  <a:pt x="22424" y="16915"/>
                  <a:pt x="22487" y="16890"/>
                  <a:pt x="22513" y="16882"/>
                </a:cubicBezTo>
                <a:cubicBezTo>
                  <a:pt x="22618" y="16848"/>
                  <a:pt x="22715" y="16789"/>
                  <a:pt x="22820" y="16759"/>
                </a:cubicBezTo>
                <a:cubicBezTo>
                  <a:pt x="22861" y="16747"/>
                  <a:pt x="22852" y="16748"/>
                  <a:pt x="22819" y="16729"/>
                </a:cubicBezTo>
              </a:path>
              <a:path w="2055" h="736">
                <a:moveTo>
                  <a:pt x="22422" y="16581"/>
                </a:moveTo>
                <a:cubicBezTo>
                  <a:pt x="22400" y="16568"/>
                  <a:pt x="22460" y="16571"/>
                  <a:pt x="22470" y="16570"/>
                </a:cubicBezTo>
                <a:cubicBezTo>
                  <a:pt x="22531" y="16563"/>
                  <a:pt x="22590" y="16562"/>
                  <a:pt x="22651" y="16560"/>
                </a:cubicBezTo>
                <a:cubicBezTo>
                  <a:pt x="22708" y="16558"/>
                  <a:pt x="22766" y="16557"/>
                  <a:pt x="22820" y="16545"/>
                </a:cubicBezTo>
                <a:cubicBezTo>
                  <a:pt x="22846" y="16539"/>
                  <a:pt x="22863" y="16540"/>
                  <a:pt x="22860" y="16512"/>
                </a:cubicBezTo>
              </a:path>
              <a:path w="2055" h="736">
                <a:moveTo>
                  <a:pt x="22422" y="16382"/>
                </a:moveTo>
                <a:cubicBezTo>
                  <a:pt x="22403" y="16380"/>
                  <a:pt x="22340" y="16387"/>
                  <a:pt x="22327" y="16367"/>
                </a:cubicBezTo>
                <a:cubicBezTo>
                  <a:pt x="22327" y="16363"/>
                  <a:pt x="22328" y="16359"/>
                  <a:pt x="22328" y="16355"/>
                </a:cubicBezTo>
                <a:cubicBezTo>
                  <a:pt x="22378" y="16334"/>
                  <a:pt x="22427" y="16317"/>
                  <a:pt x="22480" y="16304"/>
                </a:cubicBezTo>
                <a:cubicBezTo>
                  <a:pt x="22560" y="16285"/>
                  <a:pt x="22642" y="16269"/>
                  <a:pt x="22724" y="16271"/>
                </a:cubicBezTo>
                <a:cubicBezTo>
                  <a:pt x="22775" y="16272"/>
                  <a:pt x="22826" y="16280"/>
                  <a:pt x="22878" y="16281"/>
                </a:cubicBezTo>
              </a:path>
              <a:path w="2055" h="736">
                <a:moveTo>
                  <a:pt x="23031" y="16161"/>
                </a:moveTo>
                <a:cubicBezTo>
                  <a:pt x="23052" y="16173"/>
                  <a:pt x="23069" y="16187"/>
                  <a:pt x="23088" y="16205"/>
                </a:cubicBezTo>
                <a:cubicBezTo>
                  <a:pt x="23147" y="16261"/>
                  <a:pt x="23195" y="16323"/>
                  <a:pt x="23233" y="16395"/>
                </a:cubicBezTo>
                <a:cubicBezTo>
                  <a:pt x="23274" y="16472"/>
                  <a:pt x="23301" y="16559"/>
                  <a:pt x="23296" y="16647"/>
                </a:cubicBezTo>
                <a:cubicBezTo>
                  <a:pt x="23293" y="16706"/>
                  <a:pt x="23272" y="16757"/>
                  <a:pt x="23219" y="16787"/>
                </a:cubicBezTo>
                <a:cubicBezTo>
                  <a:pt x="23193" y="16797"/>
                  <a:pt x="23184" y="16800"/>
                  <a:pt x="23165" y="1680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"/>
          <p:cNvSpPr/>
          <p:nvPr/>
        </p:nvSpPr>
        <p:spPr>
          <a:xfrm>
            <a:off x="3005280" y="5699160"/>
            <a:ext cx="1623960" cy="55440"/>
          </a:xfrm>
          <a:custGeom>
            <a:avLst/>
            <a:gdLst/>
            <a:ahLst/>
            <a:rect l="l" t="t" r="r" b="b"/>
            <a:pathLst>
              <a:path w="4513" h="156">
                <a:moveTo>
                  <a:pt x="8359" y="15979"/>
                </a:moveTo>
                <a:cubicBezTo>
                  <a:pt x="8386" y="15978"/>
                  <a:pt x="8387" y="15983"/>
                  <a:pt x="8414" y="15981"/>
                </a:cubicBezTo>
                <a:cubicBezTo>
                  <a:pt x="8494" y="15974"/>
                  <a:pt x="8574" y="15959"/>
                  <a:pt x="8654" y="15950"/>
                </a:cubicBezTo>
                <a:cubicBezTo>
                  <a:pt x="8793" y="15934"/>
                  <a:pt x="8932" y="15920"/>
                  <a:pt x="9072" y="15912"/>
                </a:cubicBezTo>
                <a:cubicBezTo>
                  <a:pt x="9768" y="15871"/>
                  <a:pt x="10468" y="15927"/>
                  <a:pt x="11164" y="15878"/>
                </a:cubicBezTo>
                <a:cubicBezTo>
                  <a:pt x="11565" y="15850"/>
                  <a:pt x="11940" y="15816"/>
                  <a:pt x="12339" y="15878"/>
                </a:cubicBezTo>
                <a:cubicBezTo>
                  <a:pt x="12472" y="15899"/>
                  <a:pt x="12727" y="15992"/>
                  <a:pt x="12857" y="15958"/>
                </a:cubicBezTo>
                <a:cubicBezTo>
                  <a:pt x="12858" y="15944"/>
                  <a:pt x="12856" y="15938"/>
                  <a:pt x="12843" y="1593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"/>
          <p:cNvSpPr/>
          <p:nvPr/>
        </p:nvSpPr>
        <p:spPr>
          <a:xfrm>
            <a:off x="4591080" y="5645160"/>
            <a:ext cx="1873080" cy="114120"/>
          </a:xfrm>
          <a:custGeom>
            <a:avLst/>
            <a:gdLst/>
            <a:ahLst/>
            <a:rect l="l" t="t" r="r" b="b"/>
            <a:pathLst>
              <a:path w="5207" h="319">
                <a:moveTo>
                  <a:pt x="12751" y="15994"/>
                </a:moveTo>
                <a:cubicBezTo>
                  <a:pt x="12769" y="15993"/>
                  <a:pt x="12764" y="15966"/>
                  <a:pt x="12788" y="15967"/>
                </a:cubicBezTo>
                <a:cubicBezTo>
                  <a:pt x="13069" y="15979"/>
                  <a:pt x="13339" y="15965"/>
                  <a:pt x="13624" y="15956"/>
                </a:cubicBezTo>
                <a:cubicBezTo>
                  <a:pt x="13858" y="15948"/>
                  <a:pt x="14090" y="15936"/>
                  <a:pt x="14324" y="15919"/>
                </a:cubicBezTo>
                <a:cubicBezTo>
                  <a:pt x="14540" y="15903"/>
                  <a:pt x="14755" y="15887"/>
                  <a:pt x="14971" y="15862"/>
                </a:cubicBezTo>
                <a:cubicBezTo>
                  <a:pt x="15465" y="15804"/>
                  <a:pt x="15958" y="15743"/>
                  <a:pt x="16456" y="15741"/>
                </a:cubicBezTo>
                <a:cubicBezTo>
                  <a:pt x="16794" y="15740"/>
                  <a:pt x="17128" y="15784"/>
                  <a:pt x="17466" y="15776"/>
                </a:cubicBezTo>
                <a:cubicBezTo>
                  <a:pt x="17592" y="15773"/>
                  <a:pt x="17846" y="15796"/>
                  <a:pt x="17952" y="15714"/>
                </a:cubicBezTo>
                <a:cubicBezTo>
                  <a:pt x="17963" y="15706"/>
                  <a:pt x="17933" y="15686"/>
                  <a:pt x="17944" y="1567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"/>
          <p:cNvSpPr/>
          <p:nvPr/>
        </p:nvSpPr>
        <p:spPr>
          <a:xfrm>
            <a:off x="68040" y="0"/>
            <a:ext cx="907776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0000"/>
                </a:solidFill>
                <a:latin typeface="Arial"/>
              </a:rPr>
              <a:t>Random Variables, Expected Valu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"/>
          <p:cNvSpPr/>
          <p:nvPr/>
        </p:nvSpPr>
        <p:spPr>
          <a:xfrm>
            <a:off x="540360" y="914400"/>
            <a:ext cx="752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is a random variable?  Two views (function or induced distribution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"/>
          <p:cNvSpPr/>
          <p:nvPr/>
        </p:nvSpPr>
        <p:spPr>
          <a:xfrm>
            <a:off x="616680" y="2286000"/>
            <a:ext cx="775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ected value of random variable.  Variance.  Linearity of expected valu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pendent random variab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"/>
          <p:cNvSpPr/>
          <p:nvPr/>
        </p:nvSpPr>
        <p:spPr>
          <a:xfrm>
            <a:off x="690840" y="3809880"/>
            <a:ext cx="820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:  A coin is flipped until it comes up tails.  What is the expected nu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 flips until this coin comes up tai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"/>
          <p:cNvSpPr/>
          <p:nvPr/>
        </p:nvSpPr>
        <p:spPr>
          <a:xfrm>
            <a:off x="3006720" y="1731960"/>
            <a:ext cx="5845320" cy="27000"/>
          </a:xfrm>
          <a:custGeom>
            <a:avLst/>
            <a:gdLst/>
            <a:ahLst/>
            <a:rect l="l" t="t" r="r" b="b"/>
            <a:pathLst>
              <a:path w="16234" h="78">
                <a:moveTo>
                  <a:pt x="8354" y="4886"/>
                </a:moveTo>
                <a:cubicBezTo>
                  <a:pt x="8369" y="4878"/>
                  <a:pt x="8376" y="4841"/>
                  <a:pt x="8367" y="4846"/>
                </a:cubicBezTo>
                <a:cubicBezTo>
                  <a:pt x="8363" y="4852"/>
                  <a:pt x="8360" y="4857"/>
                  <a:pt x="8356" y="4863"/>
                </a:cubicBezTo>
              </a:path>
              <a:path w="16234" h="78">
                <a:moveTo>
                  <a:pt x="24587" y="4809"/>
                </a:moveTo>
                <a:lnTo>
                  <a:pt x="24587" y="4809"/>
                </a:lnTo>
                <a:lnTo>
                  <a:pt x="24587" y="4809"/>
                </a:lnTo>
                <a:lnTo>
                  <a:pt x="24587" y="4809"/>
                </a:lnTo>
                <a:lnTo>
                  <a:pt x="24587" y="4809"/>
                </a:lnTo>
                <a:lnTo>
                  <a:pt x="24587" y="4809"/>
                </a:lnTo>
                <a:lnTo>
                  <a:pt x="24587" y="4809"/>
                </a:lnTo>
                <a:lnTo>
                  <a:pt x="24587" y="4809"/>
                </a:lnTo>
                <a:lnTo>
                  <a:pt x="24587" y="4809"/>
                </a:lnTo>
                <a:lnTo>
                  <a:pt x="24587" y="4809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"/>
          <p:cNvSpPr/>
          <p:nvPr/>
        </p:nvSpPr>
        <p:spPr>
          <a:xfrm>
            <a:off x="1035000" y="1476360"/>
            <a:ext cx="1347840" cy="430200"/>
          </a:xfrm>
          <a:custGeom>
            <a:avLst/>
            <a:gdLst/>
            <a:ahLst/>
            <a:rect l="l" t="t" r="r" b="b"/>
            <a:pathLst>
              <a:path w="3744" h="1199">
                <a:moveTo>
                  <a:pt x="3773" y="5022"/>
                </a:moveTo>
                <a:cubicBezTo>
                  <a:pt x="3781" y="5051"/>
                  <a:pt x="3787" y="5070"/>
                  <a:pt x="3798" y="5095"/>
                </a:cubicBezTo>
                <a:cubicBezTo>
                  <a:pt x="3835" y="5064"/>
                  <a:pt x="3843" y="5031"/>
                  <a:pt x="3856" y="4982"/>
                </a:cubicBezTo>
                <a:cubicBezTo>
                  <a:pt x="3881" y="4891"/>
                  <a:pt x="3883" y="4796"/>
                  <a:pt x="3878" y="4702"/>
                </a:cubicBezTo>
                <a:cubicBezTo>
                  <a:pt x="3867" y="4503"/>
                  <a:pt x="3774" y="4327"/>
                  <a:pt x="3752" y="4134"/>
                </a:cubicBezTo>
                <a:cubicBezTo>
                  <a:pt x="3747" y="4090"/>
                  <a:pt x="3806" y="4098"/>
                  <a:pt x="3833" y="4100"/>
                </a:cubicBezTo>
                <a:cubicBezTo>
                  <a:pt x="3909" y="4106"/>
                  <a:pt x="3991" y="4128"/>
                  <a:pt x="4052" y="4174"/>
                </a:cubicBezTo>
                <a:cubicBezTo>
                  <a:pt x="4127" y="4231"/>
                  <a:pt x="4130" y="4292"/>
                  <a:pt x="4126" y="4377"/>
                </a:cubicBezTo>
              </a:path>
              <a:path w="3744" h="1199">
                <a:moveTo>
                  <a:pt x="3767" y="4749"/>
                </a:moveTo>
                <a:cubicBezTo>
                  <a:pt x="3744" y="4762"/>
                  <a:pt x="3740" y="4764"/>
                  <a:pt x="3726" y="4771"/>
                </a:cubicBezTo>
                <a:cubicBezTo>
                  <a:pt x="3759" y="4733"/>
                  <a:pt x="3817" y="4719"/>
                  <a:pt x="3867" y="4703"/>
                </a:cubicBezTo>
                <a:cubicBezTo>
                  <a:pt x="3953" y="4676"/>
                  <a:pt x="4042" y="4668"/>
                  <a:pt x="4131" y="4662"/>
                </a:cubicBezTo>
              </a:path>
              <a:path w="3744" h="1199">
                <a:moveTo>
                  <a:pt x="4388" y="4940"/>
                </a:moveTo>
                <a:cubicBezTo>
                  <a:pt x="4383" y="4953"/>
                  <a:pt x="4383" y="4958"/>
                  <a:pt x="4372" y="4958"/>
                </a:cubicBezTo>
                <a:cubicBezTo>
                  <a:pt x="4350" y="4919"/>
                  <a:pt x="4356" y="4896"/>
                  <a:pt x="4366" y="4851"/>
                </a:cubicBezTo>
                <a:cubicBezTo>
                  <a:pt x="4369" y="4839"/>
                  <a:pt x="4372" y="4827"/>
                  <a:pt x="4375" y="4815"/>
                </a:cubicBezTo>
              </a:path>
              <a:path w="3744" h="1199">
                <a:moveTo>
                  <a:pt x="4352" y="4479"/>
                </a:moveTo>
                <a:cubicBezTo>
                  <a:pt x="4340" y="4459"/>
                  <a:pt x="4324" y="4440"/>
                  <a:pt x="4332" y="4416"/>
                </a:cubicBezTo>
                <a:cubicBezTo>
                  <a:pt x="4338" y="4397"/>
                  <a:pt x="4355" y="4402"/>
                  <a:pt x="4372" y="4401"/>
                </a:cubicBezTo>
              </a:path>
              <a:path w="3744" h="1199">
                <a:moveTo>
                  <a:pt x="5055" y="4240"/>
                </a:moveTo>
                <a:cubicBezTo>
                  <a:pt x="5014" y="4218"/>
                  <a:pt x="5017" y="4219"/>
                  <a:pt x="4967" y="4249"/>
                </a:cubicBezTo>
                <a:cubicBezTo>
                  <a:pt x="4885" y="4299"/>
                  <a:pt x="4813" y="4366"/>
                  <a:pt x="4746" y="4434"/>
                </a:cubicBezTo>
                <a:cubicBezTo>
                  <a:pt x="4700" y="4481"/>
                  <a:pt x="4671" y="4523"/>
                  <a:pt x="4641" y="4580"/>
                </a:cubicBezTo>
                <a:cubicBezTo>
                  <a:pt x="4698" y="4611"/>
                  <a:pt x="4731" y="4611"/>
                  <a:pt x="4817" y="4608"/>
                </a:cubicBezTo>
                <a:cubicBezTo>
                  <a:pt x="4929" y="4604"/>
                  <a:pt x="5059" y="4600"/>
                  <a:pt x="5164" y="4646"/>
                </a:cubicBezTo>
                <a:cubicBezTo>
                  <a:pt x="5260" y="4688"/>
                  <a:pt x="5286" y="4778"/>
                  <a:pt x="5253" y="4872"/>
                </a:cubicBezTo>
                <a:cubicBezTo>
                  <a:pt x="5209" y="5000"/>
                  <a:pt x="5083" y="5098"/>
                  <a:pt x="4977" y="5172"/>
                </a:cubicBezTo>
                <a:cubicBezTo>
                  <a:pt x="4876" y="5242"/>
                  <a:pt x="4756" y="5312"/>
                  <a:pt x="4634" y="5282"/>
                </a:cubicBezTo>
                <a:cubicBezTo>
                  <a:pt x="4633" y="5212"/>
                  <a:pt x="4649" y="5193"/>
                  <a:pt x="4684" y="5127"/>
                </a:cubicBezTo>
              </a:path>
              <a:path w="3744" h="1199">
                <a:moveTo>
                  <a:pt x="5641" y="4695"/>
                </a:moveTo>
                <a:cubicBezTo>
                  <a:pt x="5630" y="4719"/>
                  <a:pt x="5612" y="4711"/>
                  <a:pt x="5647" y="4726"/>
                </a:cubicBezTo>
                <a:cubicBezTo>
                  <a:pt x="5705" y="4751"/>
                  <a:pt x="5793" y="4743"/>
                  <a:pt x="5853" y="4745"/>
                </a:cubicBezTo>
                <a:cubicBezTo>
                  <a:pt x="6017" y="4749"/>
                  <a:pt x="6181" y="4738"/>
                  <a:pt x="6345" y="4725"/>
                </a:cubicBezTo>
                <a:cubicBezTo>
                  <a:pt x="6436" y="4718"/>
                  <a:pt x="6527" y="4707"/>
                  <a:pt x="6618" y="4695"/>
                </a:cubicBezTo>
                <a:cubicBezTo>
                  <a:pt x="6561" y="4695"/>
                  <a:pt x="6504" y="4695"/>
                  <a:pt x="6447" y="4693"/>
                </a:cubicBezTo>
                <a:cubicBezTo>
                  <a:pt x="6370" y="4690"/>
                  <a:pt x="6284" y="4688"/>
                  <a:pt x="6211" y="4658"/>
                </a:cubicBezTo>
                <a:cubicBezTo>
                  <a:pt x="6180" y="4640"/>
                  <a:pt x="6171" y="4636"/>
                  <a:pt x="6161" y="4615"/>
                </a:cubicBezTo>
                <a:cubicBezTo>
                  <a:pt x="6171" y="4554"/>
                  <a:pt x="6211" y="4532"/>
                  <a:pt x="6274" y="4514"/>
                </a:cubicBezTo>
                <a:cubicBezTo>
                  <a:pt x="6350" y="4492"/>
                  <a:pt x="6439" y="4490"/>
                  <a:pt x="6509" y="4532"/>
                </a:cubicBezTo>
                <a:cubicBezTo>
                  <a:pt x="6585" y="4577"/>
                  <a:pt x="6592" y="4659"/>
                  <a:pt x="6574" y="4738"/>
                </a:cubicBezTo>
                <a:cubicBezTo>
                  <a:pt x="6546" y="4861"/>
                  <a:pt x="6465" y="4960"/>
                  <a:pt x="6384" y="5051"/>
                </a:cubicBezTo>
                <a:cubicBezTo>
                  <a:pt x="6360" y="5078"/>
                  <a:pt x="6338" y="5105"/>
                  <a:pt x="6316" y="5133"/>
                </a:cubicBezTo>
              </a:path>
              <a:path w="3744" h="1199">
                <a:moveTo>
                  <a:pt x="3557" y="4706"/>
                </a:moveTo>
                <a:cubicBezTo>
                  <a:pt x="3569" y="4659"/>
                  <a:pt x="3591" y="4618"/>
                  <a:pt x="3618" y="4577"/>
                </a:cubicBezTo>
                <a:cubicBezTo>
                  <a:pt x="3670" y="4496"/>
                  <a:pt x="3729" y="4419"/>
                  <a:pt x="3788" y="4342"/>
                </a:cubicBezTo>
                <a:cubicBezTo>
                  <a:pt x="3840" y="4273"/>
                  <a:pt x="3897" y="4214"/>
                  <a:pt x="3958" y="4154"/>
                </a:cubicBezTo>
                <a:cubicBezTo>
                  <a:pt x="3996" y="4116"/>
                  <a:pt x="3995" y="4103"/>
                  <a:pt x="4023" y="4128"/>
                </a:cubicBezTo>
              </a:path>
              <a:path w="3744" h="1199">
                <a:moveTo>
                  <a:pt x="3566" y="4895"/>
                </a:moveTo>
                <a:cubicBezTo>
                  <a:pt x="3589" y="4875"/>
                  <a:pt x="3591" y="4860"/>
                  <a:pt x="3606" y="4833"/>
                </a:cubicBezTo>
                <a:cubicBezTo>
                  <a:pt x="3651" y="4753"/>
                  <a:pt x="3703" y="4677"/>
                  <a:pt x="3756" y="4602"/>
                </a:cubicBezTo>
                <a:cubicBezTo>
                  <a:pt x="3814" y="4520"/>
                  <a:pt x="3875" y="4427"/>
                  <a:pt x="3948" y="4357"/>
                </a:cubicBezTo>
                <a:cubicBezTo>
                  <a:pt x="3970" y="4336"/>
                  <a:pt x="4022" y="4284"/>
                  <a:pt x="4053" y="4304"/>
                </a:cubicBezTo>
                <a:cubicBezTo>
                  <a:pt x="4054" y="4311"/>
                  <a:pt x="4056" y="4319"/>
                  <a:pt x="4057" y="4326"/>
                </a:cubicBezTo>
              </a:path>
              <a:path w="3744" h="1199">
                <a:moveTo>
                  <a:pt x="3679" y="5124"/>
                </a:moveTo>
                <a:cubicBezTo>
                  <a:pt x="3702" y="5078"/>
                  <a:pt x="3722" y="5027"/>
                  <a:pt x="3747" y="4983"/>
                </a:cubicBezTo>
                <a:cubicBezTo>
                  <a:pt x="3797" y="4895"/>
                  <a:pt x="3854" y="4808"/>
                  <a:pt x="3919" y="4730"/>
                </a:cubicBezTo>
                <a:cubicBezTo>
                  <a:pt x="3970" y="4669"/>
                  <a:pt x="4032" y="4599"/>
                  <a:pt x="4098" y="4554"/>
                </a:cubicBezTo>
                <a:cubicBezTo>
                  <a:pt x="4124" y="4536"/>
                  <a:pt x="4143" y="4532"/>
                  <a:pt x="4172" y="4529"/>
                </a:cubicBezTo>
              </a:path>
              <a:path w="3744" h="1199">
                <a:moveTo>
                  <a:pt x="2875" y="4405"/>
                </a:moveTo>
                <a:cubicBezTo>
                  <a:pt x="2885" y="4378"/>
                  <a:pt x="2892" y="4356"/>
                  <a:pt x="2897" y="4329"/>
                </a:cubicBezTo>
                <a:cubicBezTo>
                  <a:pt x="2916" y="4354"/>
                  <a:pt x="2928" y="4378"/>
                  <a:pt x="2941" y="4408"/>
                </a:cubicBezTo>
                <a:cubicBezTo>
                  <a:pt x="2978" y="4498"/>
                  <a:pt x="3018" y="4587"/>
                  <a:pt x="3058" y="4676"/>
                </a:cubicBezTo>
                <a:cubicBezTo>
                  <a:pt x="3127" y="4831"/>
                  <a:pt x="3191" y="4988"/>
                  <a:pt x="3262" y="5142"/>
                </a:cubicBezTo>
                <a:cubicBezTo>
                  <a:pt x="3276" y="5172"/>
                  <a:pt x="3290" y="5192"/>
                  <a:pt x="3307" y="5218"/>
                </a:cubicBezTo>
                <a:cubicBezTo>
                  <a:pt x="3319" y="5197"/>
                  <a:pt x="3323" y="5188"/>
                  <a:pt x="3319" y="5169"/>
                </a:cubicBezTo>
              </a:path>
              <a:path w="3744" h="1199">
                <a:moveTo>
                  <a:pt x="3338" y="4359"/>
                </a:moveTo>
                <a:cubicBezTo>
                  <a:pt x="3347" y="4332"/>
                  <a:pt x="3349" y="4325"/>
                  <a:pt x="3359" y="4310"/>
                </a:cubicBezTo>
                <a:cubicBezTo>
                  <a:pt x="3346" y="4355"/>
                  <a:pt x="3327" y="4411"/>
                  <a:pt x="3306" y="4458"/>
                </a:cubicBezTo>
                <a:cubicBezTo>
                  <a:pt x="3250" y="4583"/>
                  <a:pt x="3186" y="4703"/>
                  <a:pt x="3120" y="4823"/>
                </a:cubicBezTo>
                <a:cubicBezTo>
                  <a:pt x="3058" y="4937"/>
                  <a:pt x="2985" y="5045"/>
                  <a:pt x="2922" y="5158"/>
                </a:cubicBezTo>
                <a:cubicBezTo>
                  <a:pt x="2915" y="5171"/>
                  <a:pt x="2858" y="5271"/>
                  <a:pt x="2889" y="5287"/>
                </a:cubicBezTo>
                <a:cubicBezTo>
                  <a:pt x="2904" y="5286"/>
                  <a:pt x="2911" y="5284"/>
                  <a:pt x="2920" y="527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"/>
          <p:cNvSpPr/>
          <p:nvPr/>
        </p:nvSpPr>
        <p:spPr>
          <a:xfrm>
            <a:off x="2620800" y="1487520"/>
            <a:ext cx="303480" cy="377640"/>
          </a:xfrm>
          <a:custGeom>
            <a:avLst/>
            <a:gdLst/>
            <a:ahLst/>
            <a:rect l="l" t="t" r="r" b="b"/>
            <a:pathLst>
              <a:path w="841" h="1048">
                <a:moveTo>
                  <a:pt x="7320" y="4347"/>
                </a:moveTo>
                <a:cubicBezTo>
                  <a:pt x="7281" y="4389"/>
                  <a:pt x="7282" y="4396"/>
                  <a:pt x="7281" y="4463"/>
                </a:cubicBezTo>
                <a:cubicBezTo>
                  <a:pt x="7280" y="4569"/>
                  <a:pt x="7310" y="4671"/>
                  <a:pt x="7337" y="4772"/>
                </a:cubicBezTo>
                <a:cubicBezTo>
                  <a:pt x="7358" y="4851"/>
                  <a:pt x="7387" y="4927"/>
                  <a:pt x="7413" y="5004"/>
                </a:cubicBezTo>
                <a:cubicBezTo>
                  <a:pt x="7415" y="5010"/>
                  <a:pt x="7416" y="5015"/>
                  <a:pt x="7418" y="5021"/>
                </a:cubicBezTo>
                <a:cubicBezTo>
                  <a:pt x="7389" y="4930"/>
                  <a:pt x="7366" y="4841"/>
                  <a:pt x="7359" y="4745"/>
                </a:cubicBezTo>
                <a:cubicBezTo>
                  <a:pt x="7345" y="4570"/>
                  <a:pt x="7351" y="4350"/>
                  <a:pt x="7448" y="4196"/>
                </a:cubicBezTo>
                <a:cubicBezTo>
                  <a:pt x="7490" y="4130"/>
                  <a:pt x="7547" y="4114"/>
                  <a:pt x="7606" y="4167"/>
                </a:cubicBezTo>
                <a:cubicBezTo>
                  <a:pt x="7752" y="4298"/>
                  <a:pt x="7802" y="4608"/>
                  <a:pt x="7639" y="4744"/>
                </a:cubicBezTo>
                <a:cubicBezTo>
                  <a:pt x="7596" y="4780"/>
                  <a:pt x="7450" y="4836"/>
                  <a:pt x="7411" y="4761"/>
                </a:cubicBezTo>
                <a:cubicBezTo>
                  <a:pt x="7411" y="4747"/>
                  <a:pt x="7412" y="4742"/>
                  <a:pt x="7425" y="4740"/>
                </a:cubicBezTo>
                <a:cubicBezTo>
                  <a:pt x="7489" y="4742"/>
                  <a:pt x="7544" y="4758"/>
                  <a:pt x="7604" y="4781"/>
                </a:cubicBezTo>
                <a:cubicBezTo>
                  <a:pt x="7757" y="4841"/>
                  <a:pt x="7913" y="4958"/>
                  <a:pt x="8073" y="4992"/>
                </a:cubicBezTo>
                <a:cubicBezTo>
                  <a:pt x="8133" y="5005"/>
                  <a:pt x="8103" y="4991"/>
                  <a:pt x="8114" y="4962"/>
                </a:cubicBezTo>
              </a:path>
              <a:path w="841" h="1048">
                <a:moveTo>
                  <a:pt x="7484" y="4249"/>
                </a:moveTo>
                <a:cubicBezTo>
                  <a:pt x="7453" y="4301"/>
                  <a:pt x="7457" y="4368"/>
                  <a:pt x="7469" y="4429"/>
                </a:cubicBezTo>
                <a:cubicBezTo>
                  <a:pt x="7496" y="4564"/>
                  <a:pt x="7545" y="4697"/>
                  <a:pt x="7585" y="4828"/>
                </a:cubicBezTo>
                <a:cubicBezTo>
                  <a:pt x="7616" y="4931"/>
                  <a:pt x="7645" y="5037"/>
                  <a:pt x="7685" y="5137"/>
                </a:cubicBezTo>
                <a:cubicBezTo>
                  <a:pt x="7699" y="5164"/>
                  <a:pt x="7698" y="5172"/>
                  <a:pt x="7715" y="517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"/>
          <p:cNvSpPr/>
          <p:nvPr/>
        </p:nvSpPr>
        <p:spPr>
          <a:xfrm>
            <a:off x="3902040" y="1539720"/>
            <a:ext cx="887400" cy="235080"/>
          </a:xfrm>
          <a:custGeom>
            <a:avLst/>
            <a:gdLst/>
            <a:ahLst/>
            <a:rect l="l" t="t" r="r" b="b"/>
            <a:pathLst>
              <a:path w="2466" h="650">
                <a:moveTo>
                  <a:pt x="10909" y="4543"/>
                </a:moveTo>
                <a:cubicBezTo>
                  <a:pt x="10918" y="4580"/>
                  <a:pt x="10925" y="4618"/>
                  <a:pt x="10935" y="4654"/>
                </a:cubicBezTo>
                <a:cubicBezTo>
                  <a:pt x="10951" y="4710"/>
                  <a:pt x="10964" y="4766"/>
                  <a:pt x="10977" y="4823"/>
                </a:cubicBezTo>
                <a:cubicBezTo>
                  <a:pt x="10982" y="4844"/>
                  <a:pt x="10984" y="4847"/>
                  <a:pt x="10982" y="4860"/>
                </a:cubicBezTo>
              </a:path>
              <a:path w="2466" h="650">
                <a:moveTo>
                  <a:pt x="10855" y="4331"/>
                </a:moveTo>
                <a:cubicBezTo>
                  <a:pt x="10846" y="4310"/>
                  <a:pt x="10843" y="4304"/>
                  <a:pt x="10837" y="4290"/>
                </a:cubicBezTo>
                <a:cubicBezTo>
                  <a:pt x="10869" y="4287"/>
                  <a:pt x="10888" y="4295"/>
                  <a:pt x="10916" y="4313"/>
                </a:cubicBezTo>
                <a:cubicBezTo>
                  <a:pt x="10923" y="4318"/>
                  <a:pt x="10931" y="4323"/>
                  <a:pt x="10938" y="4328"/>
                </a:cubicBezTo>
              </a:path>
              <a:path w="2466" h="650">
                <a:moveTo>
                  <a:pt x="11112" y="4730"/>
                </a:moveTo>
                <a:cubicBezTo>
                  <a:pt x="11120" y="4768"/>
                  <a:pt x="11124" y="4812"/>
                  <a:pt x="11134" y="4848"/>
                </a:cubicBezTo>
                <a:cubicBezTo>
                  <a:pt x="11136" y="4852"/>
                  <a:pt x="11138" y="4855"/>
                  <a:pt x="11140" y="4859"/>
                </a:cubicBezTo>
                <a:cubicBezTo>
                  <a:pt x="11141" y="4817"/>
                  <a:pt x="11141" y="4775"/>
                  <a:pt x="11142" y="4733"/>
                </a:cubicBezTo>
                <a:cubicBezTo>
                  <a:pt x="11143" y="4679"/>
                  <a:pt x="11144" y="4620"/>
                  <a:pt x="11164" y="4569"/>
                </a:cubicBezTo>
                <a:cubicBezTo>
                  <a:pt x="11174" y="4552"/>
                  <a:pt x="11175" y="4547"/>
                  <a:pt x="11189" y="4545"/>
                </a:cubicBezTo>
                <a:cubicBezTo>
                  <a:pt x="11226" y="4581"/>
                  <a:pt x="11248" y="4623"/>
                  <a:pt x="11272" y="4669"/>
                </a:cubicBezTo>
                <a:cubicBezTo>
                  <a:pt x="11302" y="4728"/>
                  <a:pt x="11332" y="4789"/>
                  <a:pt x="11366" y="4846"/>
                </a:cubicBezTo>
                <a:cubicBezTo>
                  <a:pt x="11380" y="4867"/>
                  <a:pt x="11382" y="4872"/>
                  <a:pt x="11394" y="4882"/>
                </a:cubicBezTo>
              </a:path>
              <a:path w="2466" h="650">
                <a:moveTo>
                  <a:pt x="11654" y="4490"/>
                </a:moveTo>
                <a:cubicBezTo>
                  <a:pt x="11609" y="4488"/>
                  <a:pt x="11594" y="4498"/>
                  <a:pt x="11560" y="4530"/>
                </a:cubicBezTo>
                <a:cubicBezTo>
                  <a:pt x="11510" y="4577"/>
                  <a:pt x="11486" y="4640"/>
                  <a:pt x="11478" y="4707"/>
                </a:cubicBezTo>
                <a:cubicBezTo>
                  <a:pt x="11470" y="4768"/>
                  <a:pt x="11478" y="4806"/>
                  <a:pt x="11524" y="4842"/>
                </a:cubicBezTo>
                <a:cubicBezTo>
                  <a:pt x="11579" y="4828"/>
                  <a:pt x="11606" y="4798"/>
                  <a:pt x="11626" y="4741"/>
                </a:cubicBezTo>
                <a:cubicBezTo>
                  <a:pt x="11656" y="4656"/>
                  <a:pt x="11653" y="4559"/>
                  <a:pt x="11647" y="4471"/>
                </a:cubicBezTo>
                <a:cubicBezTo>
                  <a:pt x="11642" y="4405"/>
                  <a:pt x="11633" y="4341"/>
                  <a:pt x="11616" y="4278"/>
                </a:cubicBezTo>
                <a:cubicBezTo>
                  <a:pt x="11602" y="4348"/>
                  <a:pt x="11616" y="4420"/>
                  <a:pt x="11629" y="4491"/>
                </a:cubicBezTo>
                <a:cubicBezTo>
                  <a:pt x="11649" y="4603"/>
                  <a:pt x="11674" y="4717"/>
                  <a:pt x="11714" y="4823"/>
                </a:cubicBezTo>
                <a:cubicBezTo>
                  <a:pt x="11731" y="4868"/>
                  <a:pt x="11746" y="4895"/>
                  <a:pt x="11778" y="4927"/>
                </a:cubicBezTo>
              </a:path>
              <a:path w="2466" h="650">
                <a:moveTo>
                  <a:pt x="11852" y="4614"/>
                </a:moveTo>
                <a:cubicBezTo>
                  <a:pt x="11851" y="4655"/>
                  <a:pt x="11851" y="4699"/>
                  <a:pt x="11857" y="4740"/>
                </a:cubicBezTo>
                <a:cubicBezTo>
                  <a:pt x="11862" y="4771"/>
                  <a:pt x="11867" y="4851"/>
                  <a:pt x="11897" y="4871"/>
                </a:cubicBezTo>
                <a:cubicBezTo>
                  <a:pt x="11906" y="4873"/>
                  <a:pt x="11914" y="4874"/>
                  <a:pt x="11923" y="4876"/>
                </a:cubicBezTo>
                <a:cubicBezTo>
                  <a:pt x="11939" y="4838"/>
                  <a:pt x="11955" y="4799"/>
                  <a:pt x="11962" y="4758"/>
                </a:cubicBezTo>
                <a:cubicBezTo>
                  <a:pt x="11967" y="4729"/>
                  <a:pt x="11962" y="4674"/>
                  <a:pt x="11978" y="4648"/>
                </a:cubicBezTo>
                <a:cubicBezTo>
                  <a:pt x="11982" y="4645"/>
                  <a:pt x="11987" y="4641"/>
                  <a:pt x="11991" y="4638"/>
                </a:cubicBezTo>
                <a:cubicBezTo>
                  <a:pt x="12011" y="4656"/>
                  <a:pt x="12031" y="4676"/>
                  <a:pt x="12046" y="4698"/>
                </a:cubicBezTo>
                <a:cubicBezTo>
                  <a:pt x="12061" y="4720"/>
                  <a:pt x="12071" y="4745"/>
                  <a:pt x="12083" y="4768"/>
                </a:cubicBezTo>
                <a:cubicBezTo>
                  <a:pt x="12095" y="4793"/>
                  <a:pt x="12108" y="4816"/>
                  <a:pt x="12126" y="4837"/>
                </a:cubicBezTo>
                <a:cubicBezTo>
                  <a:pt x="12137" y="4849"/>
                  <a:pt x="12159" y="4872"/>
                  <a:pt x="12172" y="4849"/>
                </a:cubicBezTo>
                <a:cubicBezTo>
                  <a:pt x="12174" y="4842"/>
                  <a:pt x="12176" y="4834"/>
                  <a:pt x="12178" y="4827"/>
                </a:cubicBezTo>
              </a:path>
              <a:path w="2466" h="650">
                <a:moveTo>
                  <a:pt x="12441" y="4544"/>
                </a:moveTo>
                <a:cubicBezTo>
                  <a:pt x="12412" y="4529"/>
                  <a:pt x="12393" y="4550"/>
                  <a:pt x="12370" y="4576"/>
                </a:cubicBezTo>
                <a:cubicBezTo>
                  <a:pt x="12336" y="4615"/>
                  <a:pt x="12307" y="4665"/>
                  <a:pt x="12293" y="4715"/>
                </a:cubicBezTo>
                <a:cubicBezTo>
                  <a:pt x="12283" y="4752"/>
                  <a:pt x="12277" y="4798"/>
                  <a:pt x="12315" y="4820"/>
                </a:cubicBezTo>
                <a:cubicBezTo>
                  <a:pt x="12349" y="4840"/>
                  <a:pt x="12398" y="4809"/>
                  <a:pt x="12429" y="4796"/>
                </a:cubicBezTo>
              </a:path>
              <a:path w="2466" h="650">
                <a:moveTo>
                  <a:pt x="12714" y="4591"/>
                </a:moveTo>
                <a:cubicBezTo>
                  <a:pt x="12706" y="4580"/>
                  <a:pt x="12703" y="4578"/>
                  <a:pt x="12705" y="4569"/>
                </a:cubicBezTo>
                <a:cubicBezTo>
                  <a:pt x="12690" y="4585"/>
                  <a:pt x="12676" y="4603"/>
                  <a:pt x="12669" y="4625"/>
                </a:cubicBezTo>
                <a:cubicBezTo>
                  <a:pt x="12657" y="4659"/>
                  <a:pt x="12651" y="4700"/>
                  <a:pt x="12658" y="4736"/>
                </a:cubicBezTo>
                <a:cubicBezTo>
                  <a:pt x="12665" y="4770"/>
                  <a:pt x="12685" y="4803"/>
                  <a:pt x="12720" y="4813"/>
                </a:cubicBezTo>
                <a:cubicBezTo>
                  <a:pt x="12755" y="4823"/>
                  <a:pt x="12788" y="4802"/>
                  <a:pt x="12811" y="4777"/>
                </a:cubicBezTo>
                <a:cubicBezTo>
                  <a:pt x="12839" y="4747"/>
                  <a:pt x="12854" y="4708"/>
                  <a:pt x="12867" y="4670"/>
                </a:cubicBezTo>
                <a:cubicBezTo>
                  <a:pt x="12873" y="4652"/>
                  <a:pt x="12875" y="4639"/>
                  <a:pt x="12875" y="4620"/>
                </a:cubicBezTo>
                <a:cubicBezTo>
                  <a:pt x="12849" y="4619"/>
                  <a:pt x="12825" y="4643"/>
                  <a:pt x="12806" y="4663"/>
                </a:cubicBezTo>
                <a:cubicBezTo>
                  <a:pt x="12770" y="4701"/>
                  <a:pt x="12735" y="4749"/>
                  <a:pt x="12717" y="4798"/>
                </a:cubicBezTo>
                <a:cubicBezTo>
                  <a:pt x="12701" y="4842"/>
                  <a:pt x="12705" y="4886"/>
                  <a:pt x="12751" y="4908"/>
                </a:cubicBezTo>
                <a:cubicBezTo>
                  <a:pt x="12786" y="4925"/>
                  <a:pt x="12824" y="4915"/>
                  <a:pt x="12859" y="4910"/>
                </a:cubicBezTo>
              </a:path>
              <a:path w="2466" h="650">
                <a:moveTo>
                  <a:pt x="13140" y="4606"/>
                </a:moveTo>
                <a:cubicBezTo>
                  <a:pt x="13093" y="4635"/>
                  <a:pt x="13061" y="4669"/>
                  <a:pt x="13043" y="4724"/>
                </a:cubicBezTo>
                <a:cubicBezTo>
                  <a:pt x="13035" y="4750"/>
                  <a:pt x="13038" y="4769"/>
                  <a:pt x="13044" y="4794"/>
                </a:cubicBezTo>
                <a:cubicBezTo>
                  <a:pt x="13081" y="4793"/>
                  <a:pt x="13097" y="4765"/>
                  <a:pt x="13114" y="4731"/>
                </a:cubicBezTo>
                <a:cubicBezTo>
                  <a:pt x="13159" y="4643"/>
                  <a:pt x="13168" y="4539"/>
                  <a:pt x="13177" y="4442"/>
                </a:cubicBezTo>
                <a:cubicBezTo>
                  <a:pt x="13181" y="4402"/>
                  <a:pt x="13181" y="4362"/>
                  <a:pt x="13182" y="4322"/>
                </a:cubicBezTo>
                <a:cubicBezTo>
                  <a:pt x="13183" y="4388"/>
                  <a:pt x="13190" y="4452"/>
                  <a:pt x="13200" y="4518"/>
                </a:cubicBezTo>
                <a:cubicBezTo>
                  <a:pt x="13220" y="4648"/>
                  <a:pt x="13252" y="4768"/>
                  <a:pt x="13302" y="488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"/>
          <p:cNvSpPr/>
          <p:nvPr/>
        </p:nvSpPr>
        <p:spPr>
          <a:xfrm>
            <a:off x="5070600" y="1474920"/>
            <a:ext cx="501480" cy="344520"/>
          </a:xfrm>
          <a:custGeom>
            <a:avLst/>
            <a:gdLst/>
            <a:ahLst/>
            <a:rect l="l" t="t" r="r" b="b"/>
            <a:pathLst>
              <a:path w="1393" h="957">
                <a:moveTo>
                  <a:pt x="14160" y="4572"/>
                </a:moveTo>
                <a:cubicBezTo>
                  <a:pt x="14156" y="4634"/>
                  <a:pt x="14163" y="4689"/>
                  <a:pt x="14170" y="4751"/>
                </a:cubicBezTo>
                <a:cubicBezTo>
                  <a:pt x="14179" y="4832"/>
                  <a:pt x="14197" y="4912"/>
                  <a:pt x="14207" y="4993"/>
                </a:cubicBezTo>
                <a:cubicBezTo>
                  <a:pt x="14210" y="5025"/>
                  <a:pt x="14211" y="5033"/>
                  <a:pt x="14210" y="5053"/>
                </a:cubicBezTo>
                <a:cubicBezTo>
                  <a:pt x="14171" y="5020"/>
                  <a:pt x="14155" y="4970"/>
                  <a:pt x="14138" y="4921"/>
                </a:cubicBezTo>
                <a:cubicBezTo>
                  <a:pt x="14101" y="4816"/>
                  <a:pt x="14086" y="4707"/>
                  <a:pt x="14085" y="4596"/>
                </a:cubicBezTo>
                <a:cubicBezTo>
                  <a:pt x="14084" y="4473"/>
                  <a:pt x="14098" y="4346"/>
                  <a:pt x="14135" y="4229"/>
                </a:cubicBezTo>
                <a:cubicBezTo>
                  <a:pt x="14154" y="4169"/>
                  <a:pt x="14175" y="4137"/>
                  <a:pt x="14218" y="4097"/>
                </a:cubicBezTo>
                <a:cubicBezTo>
                  <a:pt x="14277" y="4125"/>
                  <a:pt x="14286" y="4177"/>
                  <a:pt x="14292" y="4243"/>
                </a:cubicBezTo>
                <a:cubicBezTo>
                  <a:pt x="14302" y="4342"/>
                  <a:pt x="14291" y="4446"/>
                  <a:pt x="14256" y="4540"/>
                </a:cubicBezTo>
                <a:cubicBezTo>
                  <a:pt x="14235" y="4598"/>
                  <a:pt x="14198" y="4671"/>
                  <a:pt x="14136" y="4696"/>
                </a:cubicBezTo>
                <a:cubicBezTo>
                  <a:pt x="14128" y="4697"/>
                  <a:pt x="14119" y="4698"/>
                  <a:pt x="14111" y="4699"/>
                </a:cubicBezTo>
                <a:cubicBezTo>
                  <a:pt x="14083" y="4666"/>
                  <a:pt x="14078" y="4657"/>
                  <a:pt x="14098" y="4606"/>
                </a:cubicBezTo>
                <a:cubicBezTo>
                  <a:pt x="14117" y="4565"/>
                  <a:pt x="14124" y="4551"/>
                  <a:pt x="14144" y="4527"/>
                </a:cubicBezTo>
              </a:path>
              <a:path w="1393" h="957">
                <a:moveTo>
                  <a:pt x="14440" y="4684"/>
                </a:moveTo>
                <a:cubicBezTo>
                  <a:pt x="14452" y="4739"/>
                  <a:pt x="14457" y="4785"/>
                  <a:pt x="14457" y="4840"/>
                </a:cubicBezTo>
                <a:cubicBezTo>
                  <a:pt x="14457" y="4875"/>
                  <a:pt x="14457" y="4901"/>
                  <a:pt x="14441" y="4932"/>
                </a:cubicBezTo>
                <a:cubicBezTo>
                  <a:pt x="14408" y="4908"/>
                  <a:pt x="14409" y="4872"/>
                  <a:pt x="14405" y="4830"/>
                </a:cubicBezTo>
                <a:cubicBezTo>
                  <a:pt x="14398" y="4763"/>
                  <a:pt x="14396" y="4693"/>
                  <a:pt x="14409" y="4626"/>
                </a:cubicBezTo>
                <a:cubicBezTo>
                  <a:pt x="14417" y="4585"/>
                  <a:pt x="14435" y="4533"/>
                  <a:pt x="14477" y="4514"/>
                </a:cubicBezTo>
                <a:cubicBezTo>
                  <a:pt x="14515" y="4497"/>
                  <a:pt x="14568" y="4515"/>
                  <a:pt x="14605" y="4524"/>
                </a:cubicBezTo>
              </a:path>
              <a:path w="1393" h="957">
                <a:moveTo>
                  <a:pt x="14819" y="4561"/>
                </a:moveTo>
                <a:cubicBezTo>
                  <a:pt x="14782" y="4577"/>
                  <a:pt x="14773" y="4591"/>
                  <a:pt x="14749" y="4623"/>
                </a:cubicBezTo>
                <a:cubicBezTo>
                  <a:pt x="14714" y="4669"/>
                  <a:pt x="14687" y="4721"/>
                  <a:pt x="14680" y="4779"/>
                </a:cubicBezTo>
                <a:cubicBezTo>
                  <a:pt x="14675" y="4818"/>
                  <a:pt x="14684" y="4867"/>
                  <a:pt x="14733" y="4866"/>
                </a:cubicBezTo>
                <a:cubicBezTo>
                  <a:pt x="14799" y="4865"/>
                  <a:pt x="14860" y="4806"/>
                  <a:pt x="14898" y="4759"/>
                </a:cubicBezTo>
                <a:cubicBezTo>
                  <a:pt x="14925" y="4726"/>
                  <a:pt x="14947" y="4684"/>
                  <a:pt x="14955" y="4642"/>
                </a:cubicBezTo>
                <a:cubicBezTo>
                  <a:pt x="14963" y="4600"/>
                  <a:pt x="14953" y="4552"/>
                  <a:pt x="14948" y="4511"/>
                </a:cubicBezTo>
              </a:path>
              <a:path w="1393" h="957">
                <a:moveTo>
                  <a:pt x="14965" y="4133"/>
                </a:moveTo>
                <a:cubicBezTo>
                  <a:pt x="14976" y="4188"/>
                  <a:pt x="14986" y="4242"/>
                  <a:pt x="14999" y="4297"/>
                </a:cubicBezTo>
                <a:cubicBezTo>
                  <a:pt x="15025" y="4408"/>
                  <a:pt x="15049" y="4520"/>
                  <a:pt x="15075" y="4631"/>
                </a:cubicBezTo>
                <a:cubicBezTo>
                  <a:pt x="15083" y="4664"/>
                  <a:pt x="15084" y="4671"/>
                  <a:pt x="15089" y="4691"/>
                </a:cubicBezTo>
                <a:cubicBezTo>
                  <a:pt x="15104" y="4643"/>
                  <a:pt x="15110" y="4586"/>
                  <a:pt x="15143" y="4546"/>
                </a:cubicBezTo>
                <a:cubicBezTo>
                  <a:pt x="15173" y="4510"/>
                  <a:pt x="15212" y="4517"/>
                  <a:pt x="15247" y="4541"/>
                </a:cubicBezTo>
                <a:cubicBezTo>
                  <a:pt x="15305" y="4581"/>
                  <a:pt x="15344" y="4669"/>
                  <a:pt x="15298" y="4733"/>
                </a:cubicBezTo>
                <a:cubicBezTo>
                  <a:pt x="15274" y="4766"/>
                  <a:pt x="15210" y="4798"/>
                  <a:pt x="15169" y="4798"/>
                </a:cubicBezTo>
                <a:cubicBezTo>
                  <a:pt x="15134" y="4798"/>
                  <a:pt x="15124" y="4779"/>
                  <a:pt x="15107" y="4755"/>
                </a:cubicBezTo>
              </a:path>
              <a:path w="1393" h="957">
                <a:moveTo>
                  <a:pt x="15421" y="4713"/>
                </a:moveTo>
                <a:cubicBezTo>
                  <a:pt x="15438" y="4718"/>
                  <a:pt x="15455" y="4724"/>
                  <a:pt x="15473" y="4728"/>
                </a:cubicBezTo>
                <a:cubicBezTo>
                  <a:pt x="15475" y="4710"/>
                  <a:pt x="15468" y="4690"/>
                  <a:pt x="15467" y="4669"/>
                </a:cubicBezTo>
                <a:cubicBezTo>
                  <a:pt x="15466" y="4649"/>
                  <a:pt x="15466" y="4642"/>
                  <a:pt x="15466" y="462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"/>
          <p:cNvSpPr/>
          <p:nvPr/>
        </p:nvSpPr>
        <p:spPr>
          <a:xfrm>
            <a:off x="5821200" y="1450800"/>
            <a:ext cx="1278000" cy="331920"/>
          </a:xfrm>
          <a:custGeom>
            <a:avLst/>
            <a:gdLst/>
            <a:ahLst/>
            <a:rect l="l" t="t" r="r" b="b"/>
            <a:pathLst>
              <a:path w="3549" h="923">
                <a:moveTo>
                  <a:pt x="16351" y="4560"/>
                </a:moveTo>
                <a:cubicBezTo>
                  <a:pt x="16334" y="4533"/>
                  <a:pt x="16332" y="4509"/>
                  <a:pt x="16287" y="4522"/>
                </a:cubicBezTo>
                <a:cubicBezTo>
                  <a:pt x="16250" y="4533"/>
                  <a:pt x="16215" y="4579"/>
                  <a:pt x="16198" y="4611"/>
                </a:cubicBezTo>
                <a:cubicBezTo>
                  <a:pt x="16178" y="4649"/>
                  <a:pt x="16162" y="4704"/>
                  <a:pt x="16175" y="4747"/>
                </a:cubicBezTo>
                <a:cubicBezTo>
                  <a:pt x="16185" y="4766"/>
                  <a:pt x="16188" y="4772"/>
                  <a:pt x="16202" y="4776"/>
                </a:cubicBezTo>
                <a:cubicBezTo>
                  <a:pt x="16249" y="4764"/>
                  <a:pt x="16274" y="4737"/>
                  <a:pt x="16298" y="4693"/>
                </a:cubicBezTo>
                <a:cubicBezTo>
                  <a:pt x="16367" y="4569"/>
                  <a:pt x="16389" y="4410"/>
                  <a:pt x="16397" y="4271"/>
                </a:cubicBezTo>
                <a:cubicBezTo>
                  <a:pt x="16399" y="4240"/>
                  <a:pt x="16397" y="4210"/>
                  <a:pt x="16396" y="4180"/>
                </a:cubicBezTo>
                <a:cubicBezTo>
                  <a:pt x="16380" y="4316"/>
                  <a:pt x="16390" y="4457"/>
                  <a:pt x="16410" y="4592"/>
                </a:cubicBezTo>
                <a:cubicBezTo>
                  <a:pt x="16425" y="4692"/>
                  <a:pt x="16449" y="4785"/>
                  <a:pt x="16483" y="4880"/>
                </a:cubicBezTo>
                <a:cubicBezTo>
                  <a:pt x="16498" y="4918"/>
                  <a:pt x="16501" y="4929"/>
                  <a:pt x="16516" y="4951"/>
                </a:cubicBezTo>
              </a:path>
              <a:path w="3549" h="923">
                <a:moveTo>
                  <a:pt x="16794" y="4619"/>
                </a:moveTo>
                <a:cubicBezTo>
                  <a:pt x="16816" y="4631"/>
                  <a:pt x="16804" y="4646"/>
                  <a:pt x="16805" y="4670"/>
                </a:cubicBezTo>
                <a:cubicBezTo>
                  <a:pt x="16807" y="4700"/>
                  <a:pt x="16818" y="4739"/>
                  <a:pt x="16814" y="4769"/>
                </a:cubicBezTo>
                <a:cubicBezTo>
                  <a:pt x="16806" y="4784"/>
                  <a:pt x="16802" y="4785"/>
                  <a:pt x="16792" y="4762"/>
                </a:cubicBezTo>
              </a:path>
              <a:path w="3549" h="923">
                <a:moveTo>
                  <a:pt x="16733" y="4344"/>
                </a:moveTo>
                <a:cubicBezTo>
                  <a:pt x="16730" y="4329"/>
                  <a:pt x="16709" y="4262"/>
                  <a:pt x="16717" y="4247"/>
                </a:cubicBezTo>
                <a:cubicBezTo>
                  <a:pt x="16721" y="4246"/>
                  <a:pt x="16725" y="4244"/>
                  <a:pt x="16729" y="4243"/>
                </a:cubicBezTo>
              </a:path>
              <a:path w="3549" h="923">
                <a:moveTo>
                  <a:pt x="17162" y="4564"/>
                </a:moveTo>
                <a:cubicBezTo>
                  <a:pt x="17141" y="4582"/>
                  <a:pt x="17114" y="4597"/>
                  <a:pt x="17088" y="4610"/>
                </a:cubicBezTo>
                <a:cubicBezTo>
                  <a:pt x="17058" y="4625"/>
                  <a:pt x="17027" y="4641"/>
                  <a:pt x="17010" y="4672"/>
                </a:cubicBezTo>
                <a:cubicBezTo>
                  <a:pt x="17007" y="4684"/>
                  <a:pt x="17006" y="4687"/>
                  <a:pt x="17012" y="4694"/>
                </a:cubicBezTo>
                <a:cubicBezTo>
                  <a:pt x="17042" y="4702"/>
                  <a:pt x="17070" y="4698"/>
                  <a:pt x="17101" y="4695"/>
                </a:cubicBezTo>
                <a:cubicBezTo>
                  <a:pt x="17134" y="4692"/>
                  <a:pt x="17176" y="4682"/>
                  <a:pt x="17208" y="4695"/>
                </a:cubicBezTo>
                <a:cubicBezTo>
                  <a:pt x="17238" y="4708"/>
                  <a:pt x="17237" y="4747"/>
                  <a:pt x="17229" y="4774"/>
                </a:cubicBezTo>
                <a:cubicBezTo>
                  <a:pt x="17216" y="4814"/>
                  <a:pt x="17185" y="4849"/>
                  <a:pt x="17149" y="4870"/>
                </a:cubicBezTo>
                <a:cubicBezTo>
                  <a:pt x="17120" y="4887"/>
                  <a:pt x="17078" y="4896"/>
                  <a:pt x="17051" y="4868"/>
                </a:cubicBezTo>
                <a:cubicBezTo>
                  <a:pt x="17038" y="4846"/>
                  <a:pt x="17033" y="4838"/>
                  <a:pt x="17034" y="4820"/>
                </a:cubicBezTo>
              </a:path>
              <a:path w="3549" h="923">
                <a:moveTo>
                  <a:pt x="17478" y="4029"/>
                </a:moveTo>
                <a:cubicBezTo>
                  <a:pt x="17471" y="4078"/>
                  <a:pt x="17463" y="4134"/>
                  <a:pt x="17462" y="4183"/>
                </a:cubicBezTo>
                <a:cubicBezTo>
                  <a:pt x="17459" y="4321"/>
                  <a:pt x="17470" y="4459"/>
                  <a:pt x="17453" y="4597"/>
                </a:cubicBezTo>
                <a:cubicBezTo>
                  <a:pt x="17442" y="4659"/>
                  <a:pt x="17439" y="4678"/>
                  <a:pt x="17424" y="4716"/>
                </a:cubicBezTo>
              </a:path>
              <a:path w="3549" h="923">
                <a:moveTo>
                  <a:pt x="17227" y="4625"/>
                </a:moveTo>
                <a:cubicBezTo>
                  <a:pt x="17249" y="4589"/>
                  <a:pt x="17268" y="4569"/>
                  <a:pt x="17301" y="4543"/>
                </a:cubicBezTo>
                <a:cubicBezTo>
                  <a:pt x="17346" y="4507"/>
                  <a:pt x="17386" y="4493"/>
                  <a:pt x="17441" y="4477"/>
                </a:cubicBezTo>
                <a:cubicBezTo>
                  <a:pt x="17471" y="4468"/>
                  <a:pt x="17499" y="4466"/>
                  <a:pt x="17530" y="4464"/>
                </a:cubicBezTo>
              </a:path>
              <a:path w="3549" h="923">
                <a:moveTo>
                  <a:pt x="17624" y="4707"/>
                </a:moveTo>
                <a:cubicBezTo>
                  <a:pt x="17628" y="4753"/>
                  <a:pt x="17634" y="4800"/>
                  <a:pt x="17632" y="4846"/>
                </a:cubicBezTo>
                <a:cubicBezTo>
                  <a:pt x="17631" y="4849"/>
                  <a:pt x="17631" y="4853"/>
                  <a:pt x="17630" y="4856"/>
                </a:cubicBezTo>
                <a:cubicBezTo>
                  <a:pt x="17644" y="4817"/>
                  <a:pt x="17650" y="4777"/>
                  <a:pt x="17659" y="4736"/>
                </a:cubicBezTo>
                <a:cubicBezTo>
                  <a:pt x="17671" y="4683"/>
                  <a:pt x="17685" y="4628"/>
                  <a:pt x="17714" y="4582"/>
                </a:cubicBezTo>
                <a:cubicBezTo>
                  <a:pt x="17732" y="4554"/>
                  <a:pt x="17753" y="4536"/>
                  <a:pt x="17778" y="4515"/>
                </a:cubicBezTo>
              </a:path>
              <a:path w="3549" h="923">
                <a:moveTo>
                  <a:pt x="17962" y="4557"/>
                </a:moveTo>
                <a:cubicBezTo>
                  <a:pt x="17952" y="4596"/>
                  <a:pt x="17935" y="4639"/>
                  <a:pt x="17931" y="4679"/>
                </a:cubicBezTo>
                <a:cubicBezTo>
                  <a:pt x="17929" y="4702"/>
                  <a:pt x="17929" y="4733"/>
                  <a:pt x="17936" y="4755"/>
                </a:cubicBezTo>
              </a:path>
              <a:path w="3549" h="923">
                <a:moveTo>
                  <a:pt x="18113" y="4206"/>
                </a:moveTo>
                <a:cubicBezTo>
                  <a:pt x="18117" y="4296"/>
                  <a:pt x="18122" y="4385"/>
                  <a:pt x="18131" y="4474"/>
                </a:cubicBezTo>
                <a:cubicBezTo>
                  <a:pt x="18143" y="4592"/>
                  <a:pt x="18154" y="4710"/>
                  <a:pt x="18167" y="4828"/>
                </a:cubicBezTo>
                <a:cubicBezTo>
                  <a:pt x="18180" y="4774"/>
                  <a:pt x="18189" y="4719"/>
                  <a:pt x="18209" y="4667"/>
                </a:cubicBezTo>
                <a:cubicBezTo>
                  <a:pt x="18227" y="4619"/>
                  <a:pt x="18255" y="4552"/>
                  <a:pt x="18305" y="4529"/>
                </a:cubicBezTo>
                <a:cubicBezTo>
                  <a:pt x="18351" y="4508"/>
                  <a:pt x="18376" y="4557"/>
                  <a:pt x="18386" y="4592"/>
                </a:cubicBezTo>
                <a:cubicBezTo>
                  <a:pt x="18405" y="4658"/>
                  <a:pt x="18376" y="4727"/>
                  <a:pt x="18328" y="4772"/>
                </a:cubicBezTo>
                <a:cubicBezTo>
                  <a:pt x="18297" y="4801"/>
                  <a:pt x="18252" y="4819"/>
                  <a:pt x="18211" y="4799"/>
                </a:cubicBezTo>
                <a:cubicBezTo>
                  <a:pt x="18186" y="4787"/>
                  <a:pt x="18197" y="4756"/>
                  <a:pt x="18199" y="4736"/>
                </a:cubicBezTo>
              </a:path>
              <a:path w="3549" h="923">
                <a:moveTo>
                  <a:pt x="18532" y="4576"/>
                </a:moveTo>
                <a:cubicBezTo>
                  <a:pt x="18534" y="4620"/>
                  <a:pt x="18528" y="4666"/>
                  <a:pt x="18515" y="4709"/>
                </a:cubicBezTo>
                <a:cubicBezTo>
                  <a:pt x="18507" y="4736"/>
                  <a:pt x="18485" y="4788"/>
                  <a:pt x="18511" y="4814"/>
                </a:cubicBezTo>
                <a:cubicBezTo>
                  <a:pt x="18537" y="4841"/>
                  <a:pt x="18599" y="4812"/>
                  <a:pt x="18624" y="4800"/>
                </a:cubicBezTo>
                <a:cubicBezTo>
                  <a:pt x="18671" y="4777"/>
                  <a:pt x="18709" y="4742"/>
                  <a:pt x="18754" y="4717"/>
                </a:cubicBezTo>
                <a:cubicBezTo>
                  <a:pt x="18790" y="4697"/>
                  <a:pt x="18799" y="4715"/>
                  <a:pt x="18806" y="4750"/>
                </a:cubicBezTo>
                <a:cubicBezTo>
                  <a:pt x="18809" y="4765"/>
                  <a:pt x="18807" y="4806"/>
                  <a:pt x="18824" y="4814"/>
                </a:cubicBezTo>
                <a:cubicBezTo>
                  <a:pt x="18834" y="4813"/>
                  <a:pt x="18837" y="4812"/>
                  <a:pt x="18837" y="4803"/>
                </a:cubicBezTo>
              </a:path>
              <a:path w="3549" h="923">
                <a:moveTo>
                  <a:pt x="18905" y="4138"/>
                </a:moveTo>
                <a:cubicBezTo>
                  <a:pt x="18908" y="4186"/>
                  <a:pt x="18907" y="4236"/>
                  <a:pt x="18909" y="4285"/>
                </a:cubicBezTo>
                <a:cubicBezTo>
                  <a:pt x="18915" y="4399"/>
                  <a:pt x="18922" y="4514"/>
                  <a:pt x="18929" y="4628"/>
                </a:cubicBezTo>
                <a:cubicBezTo>
                  <a:pt x="18935" y="4710"/>
                  <a:pt x="18937" y="4735"/>
                  <a:pt x="18938" y="4789"/>
                </a:cubicBezTo>
              </a:path>
              <a:path w="3549" h="923">
                <a:moveTo>
                  <a:pt x="18785" y="4692"/>
                </a:moveTo>
                <a:cubicBezTo>
                  <a:pt x="18785" y="4641"/>
                  <a:pt x="18785" y="4626"/>
                  <a:pt x="18829" y="4600"/>
                </a:cubicBezTo>
                <a:cubicBezTo>
                  <a:pt x="18872" y="4575"/>
                  <a:pt x="18926" y="4563"/>
                  <a:pt x="18975" y="4557"/>
                </a:cubicBezTo>
                <a:cubicBezTo>
                  <a:pt x="19025" y="4551"/>
                  <a:pt x="19083" y="4538"/>
                  <a:pt x="19134" y="4539"/>
                </a:cubicBezTo>
                <a:cubicBezTo>
                  <a:pt x="19155" y="4539"/>
                  <a:pt x="19191" y="4542"/>
                  <a:pt x="19186" y="4573"/>
                </a:cubicBezTo>
                <a:cubicBezTo>
                  <a:pt x="19180" y="4607"/>
                  <a:pt x="19158" y="4652"/>
                  <a:pt x="19147" y="4685"/>
                </a:cubicBezTo>
                <a:cubicBezTo>
                  <a:pt x="19132" y="4728"/>
                  <a:pt x="19129" y="4770"/>
                  <a:pt x="19124" y="4816"/>
                </a:cubicBezTo>
                <a:cubicBezTo>
                  <a:pt x="19122" y="4835"/>
                  <a:pt x="19121" y="4840"/>
                  <a:pt x="19127" y="4852"/>
                </a:cubicBezTo>
              </a:path>
              <a:path w="3549" h="923">
                <a:moveTo>
                  <a:pt x="19151" y="4533"/>
                </a:moveTo>
                <a:cubicBezTo>
                  <a:pt x="19154" y="4507"/>
                  <a:pt x="19151" y="4451"/>
                  <a:pt x="19162" y="4427"/>
                </a:cubicBezTo>
                <a:cubicBezTo>
                  <a:pt x="19166" y="4424"/>
                  <a:pt x="19169" y="4422"/>
                  <a:pt x="19173" y="4419"/>
                </a:cubicBezTo>
              </a:path>
              <a:path w="3549" h="923">
                <a:moveTo>
                  <a:pt x="19375" y="4620"/>
                </a:moveTo>
                <a:cubicBezTo>
                  <a:pt x="19358" y="4650"/>
                  <a:pt x="19340" y="4679"/>
                  <a:pt x="19323" y="4709"/>
                </a:cubicBezTo>
                <a:cubicBezTo>
                  <a:pt x="19307" y="4737"/>
                  <a:pt x="19280" y="4775"/>
                  <a:pt x="19284" y="4810"/>
                </a:cubicBezTo>
                <a:cubicBezTo>
                  <a:pt x="19286" y="4814"/>
                  <a:pt x="19288" y="4817"/>
                  <a:pt x="19290" y="4821"/>
                </a:cubicBezTo>
                <a:cubicBezTo>
                  <a:pt x="19319" y="4827"/>
                  <a:pt x="19341" y="4819"/>
                  <a:pt x="19367" y="4803"/>
                </a:cubicBezTo>
                <a:cubicBezTo>
                  <a:pt x="19397" y="4784"/>
                  <a:pt x="19435" y="4752"/>
                  <a:pt x="19456" y="4723"/>
                </a:cubicBezTo>
                <a:cubicBezTo>
                  <a:pt x="19473" y="4699"/>
                  <a:pt x="19488" y="4675"/>
                  <a:pt x="19503" y="4649"/>
                </a:cubicBezTo>
                <a:cubicBezTo>
                  <a:pt x="19509" y="4639"/>
                  <a:pt x="19511" y="4636"/>
                  <a:pt x="19513" y="4629"/>
                </a:cubicBezTo>
              </a:path>
              <a:path w="3549" h="923">
                <a:moveTo>
                  <a:pt x="19482" y="4802"/>
                </a:moveTo>
                <a:cubicBezTo>
                  <a:pt x="19477" y="4831"/>
                  <a:pt x="19452" y="4893"/>
                  <a:pt x="19465" y="4923"/>
                </a:cubicBezTo>
                <a:cubicBezTo>
                  <a:pt x="19469" y="4925"/>
                  <a:pt x="19473" y="4928"/>
                  <a:pt x="19477" y="4930"/>
                </a:cubicBezTo>
                <a:cubicBezTo>
                  <a:pt x="19504" y="4893"/>
                  <a:pt x="19532" y="4857"/>
                  <a:pt x="19558" y="4819"/>
                </a:cubicBezTo>
                <a:cubicBezTo>
                  <a:pt x="19586" y="4778"/>
                  <a:pt x="19616" y="4721"/>
                  <a:pt x="19661" y="4696"/>
                </a:cubicBezTo>
                <a:cubicBezTo>
                  <a:pt x="19667" y="4695"/>
                  <a:pt x="19672" y="4693"/>
                  <a:pt x="19678" y="4692"/>
                </a:cubicBezTo>
                <a:cubicBezTo>
                  <a:pt x="19703" y="4724"/>
                  <a:pt x="19700" y="4755"/>
                  <a:pt x="19699" y="4796"/>
                </a:cubicBezTo>
                <a:cubicBezTo>
                  <a:pt x="19698" y="4836"/>
                  <a:pt x="19693" y="4882"/>
                  <a:pt x="19709" y="4920"/>
                </a:cubicBezTo>
                <a:cubicBezTo>
                  <a:pt x="19712" y="4924"/>
                  <a:pt x="19715" y="4929"/>
                  <a:pt x="19718" y="493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"/>
          <p:cNvSpPr/>
          <p:nvPr/>
        </p:nvSpPr>
        <p:spPr>
          <a:xfrm>
            <a:off x="7354800" y="1447920"/>
            <a:ext cx="1077840" cy="314280"/>
          </a:xfrm>
          <a:custGeom>
            <a:avLst/>
            <a:gdLst/>
            <a:ahLst/>
            <a:rect l="l" t="t" r="r" b="b"/>
            <a:pathLst>
              <a:path w="2993" h="874">
                <a:moveTo>
                  <a:pt x="20662" y="4381"/>
                </a:moveTo>
                <a:cubicBezTo>
                  <a:pt x="20654" y="4407"/>
                  <a:pt x="20617" y="4425"/>
                  <a:pt x="20590" y="4440"/>
                </a:cubicBezTo>
                <a:cubicBezTo>
                  <a:pt x="20548" y="4463"/>
                  <a:pt x="20504" y="4486"/>
                  <a:pt x="20461" y="4507"/>
                </a:cubicBezTo>
                <a:cubicBezTo>
                  <a:pt x="20444" y="4514"/>
                  <a:pt x="20441" y="4515"/>
                  <a:pt x="20431" y="4521"/>
                </a:cubicBezTo>
                <a:cubicBezTo>
                  <a:pt x="20472" y="4518"/>
                  <a:pt x="20507" y="4520"/>
                  <a:pt x="20542" y="4544"/>
                </a:cubicBezTo>
                <a:cubicBezTo>
                  <a:pt x="20601" y="4584"/>
                  <a:pt x="20616" y="4654"/>
                  <a:pt x="20604" y="4721"/>
                </a:cubicBezTo>
                <a:cubicBezTo>
                  <a:pt x="20595" y="4771"/>
                  <a:pt x="20569" y="4838"/>
                  <a:pt x="20528" y="4871"/>
                </a:cubicBezTo>
                <a:cubicBezTo>
                  <a:pt x="20489" y="4903"/>
                  <a:pt x="20482" y="4885"/>
                  <a:pt x="20499" y="4850"/>
                </a:cubicBezTo>
              </a:path>
              <a:path w="2993" h="874">
                <a:moveTo>
                  <a:pt x="20894" y="4627"/>
                </a:moveTo>
                <a:cubicBezTo>
                  <a:pt x="20915" y="4656"/>
                  <a:pt x="20918" y="4684"/>
                  <a:pt x="20910" y="4721"/>
                </a:cubicBezTo>
                <a:cubicBezTo>
                  <a:pt x="20902" y="4757"/>
                  <a:pt x="20890" y="4794"/>
                  <a:pt x="20877" y="4829"/>
                </a:cubicBezTo>
                <a:cubicBezTo>
                  <a:pt x="20876" y="4832"/>
                  <a:pt x="20874" y="4835"/>
                  <a:pt x="20873" y="4838"/>
                </a:cubicBezTo>
                <a:cubicBezTo>
                  <a:pt x="20896" y="4803"/>
                  <a:pt x="20916" y="4766"/>
                  <a:pt x="20938" y="4731"/>
                </a:cubicBezTo>
                <a:cubicBezTo>
                  <a:pt x="20963" y="4691"/>
                  <a:pt x="20988" y="4643"/>
                  <a:pt x="21024" y="4611"/>
                </a:cubicBezTo>
                <a:cubicBezTo>
                  <a:pt x="21028" y="4609"/>
                  <a:pt x="21032" y="4606"/>
                  <a:pt x="21036" y="4604"/>
                </a:cubicBezTo>
                <a:cubicBezTo>
                  <a:pt x="21050" y="4630"/>
                  <a:pt x="21048" y="4662"/>
                  <a:pt x="21046" y="4693"/>
                </a:cubicBezTo>
                <a:cubicBezTo>
                  <a:pt x="21045" y="4710"/>
                  <a:pt x="21042" y="4783"/>
                  <a:pt x="21082" y="4750"/>
                </a:cubicBezTo>
                <a:cubicBezTo>
                  <a:pt x="21087" y="4742"/>
                  <a:pt x="21092" y="4734"/>
                  <a:pt x="21097" y="4726"/>
                </a:cubicBezTo>
              </a:path>
              <a:path w="2993" h="874">
                <a:moveTo>
                  <a:pt x="21197" y="4157"/>
                </a:moveTo>
                <a:cubicBezTo>
                  <a:pt x="21200" y="4122"/>
                  <a:pt x="21203" y="4191"/>
                  <a:pt x="21203" y="4227"/>
                </a:cubicBezTo>
                <a:cubicBezTo>
                  <a:pt x="21203" y="4309"/>
                  <a:pt x="21202" y="4392"/>
                  <a:pt x="21196" y="4473"/>
                </a:cubicBezTo>
                <a:cubicBezTo>
                  <a:pt x="21192" y="4536"/>
                  <a:pt x="21183" y="4599"/>
                  <a:pt x="21177" y="4662"/>
                </a:cubicBezTo>
                <a:cubicBezTo>
                  <a:pt x="21208" y="4630"/>
                  <a:pt x="21233" y="4593"/>
                  <a:pt x="21268" y="4564"/>
                </a:cubicBezTo>
                <a:cubicBezTo>
                  <a:pt x="21300" y="4537"/>
                  <a:pt x="21350" y="4511"/>
                  <a:pt x="21391" y="4536"/>
                </a:cubicBezTo>
                <a:cubicBezTo>
                  <a:pt x="21435" y="4563"/>
                  <a:pt x="21437" y="4628"/>
                  <a:pt x="21428" y="4672"/>
                </a:cubicBezTo>
                <a:cubicBezTo>
                  <a:pt x="21417" y="4729"/>
                  <a:pt x="21381" y="4778"/>
                  <a:pt x="21331" y="4806"/>
                </a:cubicBezTo>
                <a:cubicBezTo>
                  <a:pt x="21293" y="4827"/>
                  <a:pt x="21239" y="4832"/>
                  <a:pt x="21213" y="4790"/>
                </a:cubicBezTo>
                <a:cubicBezTo>
                  <a:pt x="21209" y="4780"/>
                  <a:pt x="21206" y="4769"/>
                  <a:pt x="21202" y="4759"/>
                </a:cubicBezTo>
              </a:path>
              <a:path w="2993" h="874">
                <a:moveTo>
                  <a:pt x="21725" y="4584"/>
                </a:moveTo>
                <a:cubicBezTo>
                  <a:pt x="21754" y="4577"/>
                  <a:pt x="21781" y="4570"/>
                  <a:pt x="21809" y="4560"/>
                </a:cubicBezTo>
                <a:cubicBezTo>
                  <a:pt x="21824" y="4558"/>
                  <a:pt x="21759" y="4592"/>
                  <a:pt x="21746" y="4600"/>
                </a:cubicBezTo>
                <a:cubicBezTo>
                  <a:pt x="21704" y="4628"/>
                  <a:pt x="21662" y="4656"/>
                  <a:pt x="21622" y="4687"/>
                </a:cubicBezTo>
                <a:cubicBezTo>
                  <a:pt x="21607" y="4699"/>
                  <a:pt x="21604" y="4701"/>
                  <a:pt x="21597" y="4711"/>
                </a:cubicBezTo>
                <a:cubicBezTo>
                  <a:pt x="21619" y="4717"/>
                  <a:pt x="21641" y="4718"/>
                  <a:pt x="21661" y="4729"/>
                </a:cubicBezTo>
                <a:cubicBezTo>
                  <a:pt x="21689" y="4744"/>
                  <a:pt x="21707" y="4766"/>
                  <a:pt x="21714" y="4798"/>
                </a:cubicBezTo>
                <a:cubicBezTo>
                  <a:pt x="21721" y="4832"/>
                  <a:pt x="21712" y="4853"/>
                  <a:pt x="21693" y="4879"/>
                </a:cubicBezTo>
                <a:cubicBezTo>
                  <a:pt x="21676" y="4902"/>
                  <a:pt x="21669" y="4890"/>
                  <a:pt x="21657" y="4870"/>
                </a:cubicBezTo>
              </a:path>
              <a:path w="2993" h="874">
                <a:moveTo>
                  <a:pt x="21798" y="4731"/>
                </a:moveTo>
                <a:cubicBezTo>
                  <a:pt x="21839" y="4744"/>
                  <a:pt x="21848" y="4736"/>
                  <a:pt x="21887" y="4720"/>
                </a:cubicBezTo>
                <a:cubicBezTo>
                  <a:pt x="21940" y="4698"/>
                  <a:pt x="21978" y="4661"/>
                  <a:pt x="22014" y="4616"/>
                </a:cubicBezTo>
                <a:cubicBezTo>
                  <a:pt x="22044" y="4579"/>
                  <a:pt x="22075" y="4532"/>
                  <a:pt x="22077" y="4482"/>
                </a:cubicBezTo>
                <a:cubicBezTo>
                  <a:pt x="22074" y="4464"/>
                  <a:pt x="22074" y="4458"/>
                  <a:pt x="22063" y="4451"/>
                </a:cubicBezTo>
                <a:cubicBezTo>
                  <a:pt x="22022" y="4466"/>
                  <a:pt x="22001" y="4497"/>
                  <a:pt x="21980" y="4536"/>
                </a:cubicBezTo>
                <a:cubicBezTo>
                  <a:pt x="21950" y="4592"/>
                  <a:pt x="21927" y="4659"/>
                  <a:pt x="21935" y="4723"/>
                </a:cubicBezTo>
                <a:cubicBezTo>
                  <a:pt x="21941" y="4768"/>
                  <a:pt x="21977" y="4806"/>
                  <a:pt x="22025" y="4802"/>
                </a:cubicBezTo>
                <a:cubicBezTo>
                  <a:pt x="22072" y="4798"/>
                  <a:pt x="22117" y="4739"/>
                  <a:pt x="22140" y="4705"/>
                </a:cubicBezTo>
                <a:cubicBezTo>
                  <a:pt x="22148" y="4690"/>
                  <a:pt x="22157" y="4676"/>
                  <a:pt x="22165" y="4661"/>
                </a:cubicBezTo>
              </a:path>
              <a:path w="2993" h="874">
                <a:moveTo>
                  <a:pt x="22296" y="4153"/>
                </a:moveTo>
                <a:cubicBezTo>
                  <a:pt x="22262" y="4132"/>
                  <a:pt x="22254" y="4226"/>
                  <a:pt x="22247" y="4262"/>
                </a:cubicBezTo>
                <a:cubicBezTo>
                  <a:pt x="22226" y="4375"/>
                  <a:pt x="22217" y="4492"/>
                  <a:pt x="22211" y="4607"/>
                </a:cubicBezTo>
                <a:cubicBezTo>
                  <a:pt x="22207" y="4694"/>
                  <a:pt x="22205" y="4780"/>
                  <a:pt x="22207" y="4867"/>
                </a:cubicBezTo>
                <a:cubicBezTo>
                  <a:pt x="22207" y="4873"/>
                  <a:pt x="22206" y="4880"/>
                  <a:pt x="22206" y="4886"/>
                </a:cubicBezTo>
              </a:path>
              <a:path w="2993" h="874">
                <a:moveTo>
                  <a:pt x="22116" y="4528"/>
                </a:moveTo>
                <a:cubicBezTo>
                  <a:pt x="22159" y="4510"/>
                  <a:pt x="22198" y="4522"/>
                  <a:pt x="22246" y="4520"/>
                </a:cubicBezTo>
                <a:cubicBezTo>
                  <a:pt x="22325" y="4517"/>
                  <a:pt x="22405" y="4510"/>
                  <a:pt x="22484" y="4506"/>
                </a:cubicBezTo>
                <a:cubicBezTo>
                  <a:pt x="22506" y="4505"/>
                  <a:pt x="22529" y="4504"/>
                  <a:pt x="22551" y="4503"/>
                </a:cubicBezTo>
              </a:path>
              <a:path w="2993" h="874">
                <a:moveTo>
                  <a:pt x="22882" y="4436"/>
                </a:moveTo>
                <a:cubicBezTo>
                  <a:pt x="22866" y="4468"/>
                  <a:pt x="22852" y="4501"/>
                  <a:pt x="22837" y="4534"/>
                </a:cubicBezTo>
                <a:cubicBezTo>
                  <a:pt x="22821" y="4570"/>
                  <a:pt x="22799" y="4610"/>
                  <a:pt x="22804" y="4651"/>
                </a:cubicBezTo>
                <a:cubicBezTo>
                  <a:pt x="22808" y="4683"/>
                  <a:pt x="22842" y="4682"/>
                  <a:pt x="22866" y="4675"/>
                </a:cubicBezTo>
                <a:cubicBezTo>
                  <a:pt x="22902" y="4664"/>
                  <a:pt x="22926" y="4638"/>
                  <a:pt x="22947" y="4608"/>
                </a:cubicBezTo>
                <a:cubicBezTo>
                  <a:pt x="22965" y="4581"/>
                  <a:pt x="22975" y="4545"/>
                  <a:pt x="22981" y="4513"/>
                </a:cubicBezTo>
                <a:cubicBezTo>
                  <a:pt x="22984" y="4495"/>
                  <a:pt x="22984" y="4490"/>
                  <a:pt x="22988" y="4479"/>
                </a:cubicBezTo>
              </a:path>
              <a:path w="2993" h="874">
                <a:moveTo>
                  <a:pt x="23174" y="4700"/>
                </a:moveTo>
                <a:cubicBezTo>
                  <a:pt x="23195" y="4732"/>
                  <a:pt x="23195" y="4734"/>
                  <a:pt x="23189" y="4751"/>
                </a:cubicBezTo>
                <a:cubicBezTo>
                  <a:pt x="23152" y="4732"/>
                  <a:pt x="23129" y="4706"/>
                  <a:pt x="23105" y="4670"/>
                </a:cubicBezTo>
                <a:cubicBezTo>
                  <a:pt x="23069" y="4616"/>
                  <a:pt x="23053" y="4547"/>
                  <a:pt x="23043" y="4483"/>
                </a:cubicBezTo>
                <a:cubicBezTo>
                  <a:pt x="23031" y="4406"/>
                  <a:pt x="23033" y="4321"/>
                  <a:pt x="23047" y="4244"/>
                </a:cubicBezTo>
                <a:cubicBezTo>
                  <a:pt x="23059" y="4178"/>
                  <a:pt x="23078" y="4116"/>
                  <a:pt x="23124" y="4066"/>
                </a:cubicBezTo>
                <a:cubicBezTo>
                  <a:pt x="23161" y="4026"/>
                  <a:pt x="23212" y="4013"/>
                  <a:pt x="23265" y="4024"/>
                </a:cubicBezTo>
                <a:cubicBezTo>
                  <a:pt x="23325" y="4036"/>
                  <a:pt x="23376" y="4070"/>
                  <a:pt x="23406" y="4123"/>
                </a:cubicBezTo>
                <a:cubicBezTo>
                  <a:pt x="23443" y="4189"/>
                  <a:pt x="23413" y="4270"/>
                  <a:pt x="23351" y="4311"/>
                </a:cubicBezTo>
                <a:cubicBezTo>
                  <a:pt x="23301" y="4344"/>
                  <a:pt x="23224" y="4367"/>
                  <a:pt x="23165" y="4373"/>
                </a:cubicBezTo>
                <a:cubicBezTo>
                  <a:pt x="23137" y="4376"/>
                  <a:pt x="23107" y="4375"/>
                  <a:pt x="23078" y="4377"/>
                </a:cubicBezTo>
                <a:cubicBezTo>
                  <a:pt x="23091" y="4391"/>
                  <a:pt x="23110" y="4408"/>
                  <a:pt x="23130" y="4421"/>
                </a:cubicBezTo>
                <a:cubicBezTo>
                  <a:pt x="23174" y="4449"/>
                  <a:pt x="23220" y="4473"/>
                  <a:pt x="23267" y="4495"/>
                </a:cubicBezTo>
                <a:cubicBezTo>
                  <a:pt x="23276" y="4499"/>
                  <a:pt x="23347" y="4540"/>
                  <a:pt x="23358" y="4533"/>
                </a:cubicBezTo>
                <a:cubicBezTo>
                  <a:pt x="23374" y="4522"/>
                  <a:pt x="23347" y="4511"/>
                  <a:pt x="23331" y="4497"/>
                </a:cubicBezTo>
                <a:cubicBezTo>
                  <a:pt x="23317" y="4485"/>
                  <a:pt x="23312" y="4481"/>
                  <a:pt x="23305" y="4470"/>
                </a:cubicBezTo>
              </a:path>
              <a:path w="2993" h="874">
                <a:moveTo>
                  <a:pt x="23054" y="4330"/>
                </a:moveTo>
                <a:cubicBezTo>
                  <a:pt x="23039" y="4303"/>
                  <a:pt x="23022" y="4296"/>
                  <a:pt x="22993" y="4287"/>
                </a:cubicBezTo>
                <a:cubicBezTo>
                  <a:pt x="22957" y="4276"/>
                  <a:pt x="22923" y="4275"/>
                  <a:pt x="22886" y="4275"/>
                </a:cubicBezTo>
                <a:cubicBezTo>
                  <a:pt x="22865" y="4275"/>
                  <a:pt x="22850" y="4277"/>
                  <a:pt x="22830" y="4282"/>
                </a:cubicBezTo>
                <a:cubicBezTo>
                  <a:pt x="22851" y="4292"/>
                  <a:pt x="22871" y="4286"/>
                  <a:pt x="22894" y="4290"/>
                </a:cubicBezTo>
                <a:cubicBezTo>
                  <a:pt x="22932" y="4296"/>
                  <a:pt x="22967" y="4307"/>
                  <a:pt x="23001" y="4326"/>
                </a:cubicBezTo>
                <a:cubicBezTo>
                  <a:pt x="23044" y="4349"/>
                  <a:pt x="23083" y="4378"/>
                  <a:pt x="23123" y="4406"/>
                </a:cubicBezTo>
                <a:cubicBezTo>
                  <a:pt x="23159" y="4431"/>
                  <a:pt x="23195" y="4457"/>
                  <a:pt x="23232" y="4481"/>
                </a:cubicBezTo>
                <a:cubicBezTo>
                  <a:pt x="23246" y="4490"/>
                  <a:pt x="23288" y="4530"/>
                  <a:pt x="23307" y="4522"/>
                </a:cubicBezTo>
                <a:cubicBezTo>
                  <a:pt x="23308" y="4518"/>
                  <a:pt x="23309" y="4514"/>
                  <a:pt x="23310" y="451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"/>
          <p:cNvSpPr/>
          <p:nvPr/>
        </p:nvSpPr>
        <p:spPr>
          <a:xfrm>
            <a:off x="8607600" y="1498680"/>
            <a:ext cx="171360" cy="252360"/>
          </a:xfrm>
          <a:custGeom>
            <a:avLst/>
            <a:gdLst/>
            <a:ahLst/>
            <a:rect l="l" t="t" r="r" b="b"/>
            <a:pathLst>
              <a:path w="474" h="698">
                <a:moveTo>
                  <a:pt x="23984" y="4275"/>
                </a:moveTo>
                <a:cubicBezTo>
                  <a:pt x="23960" y="4152"/>
                  <a:pt x="23966" y="4362"/>
                  <a:pt x="23964" y="4393"/>
                </a:cubicBezTo>
                <a:cubicBezTo>
                  <a:pt x="23960" y="4480"/>
                  <a:pt x="23965" y="4568"/>
                  <a:pt x="23970" y="4655"/>
                </a:cubicBezTo>
                <a:cubicBezTo>
                  <a:pt x="23972" y="4682"/>
                  <a:pt x="23966" y="4768"/>
                  <a:pt x="23966" y="4774"/>
                </a:cubicBezTo>
                <a:cubicBezTo>
                  <a:pt x="23953" y="4731"/>
                  <a:pt x="23938" y="4687"/>
                  <a:pt x="23932" y="4643"/>
                </a:cubicBezTo>
                <a:cubicBezTo>
                  <a:pt x="23922" y="4570"/>
                  <a:pt x="23922" y="4490"/>
                  <a:pt x="23934" y="4417"/>
                </a:cubicBezTo>
                <a:cubicBezTo>
                  <a:pt x="23945" y="4356"/>
                  <a:pt x="23970" y="4226"/>
                  <a:pt x="24018" y="4182"/>
                </a:cubicBezTo>
                <a:cubicBezTo>
                  <a:pt x="24035" y="4176"/>
                  <a:pt x="24051" y="4170"/>
                  <a:pt x="24068" y="4164"/>
                </a:cubicBezTo>
                <a:cubicBezTo>
                  <a:pt x="24103" y="4231"/>
                  <a:pt x="24142" y="4301"/>
                  <a:pt x="24131" y="4381"/>
                </a:cubicBezTo>
                <a:cubicBezTo>
                  <a:pt x="24122" y="4450"/>
                  <a:pt x="24076" y="4528"/>
                  <a:pt x="24024" y="4571"/>
                </a:cubicBezTo>
                <a:cubicBezTo>
                  <a:pt x="23995" y="4595"/>
                  <a:pt x="23957" y="4597"/>
                  <a:pt x="23922" y="4603"/>
                </a:cubicBezTo>
                <a:cubicBezTo>
                  <a:pt x="23918" y="4604"/>
                  <a:pt x="23914" y="4604"/>
                  <a:pt x="23910" y="4605"/>
                </a:cubicBezTo>
                <a:cubicBezTo>
                  <a:pt x="23982" y="4672"/>
                  <a:pt x="24062" y="4719"/>
                  <a:pt x="24150" y="4764"/>
                </a:cubicBezTo>
                <a:cubicBezTo>
                  <a:pt x="24228" y="4803"/>
                  <a:pt x="24298" y="4841"/>
                  <a:pt x="24383" y="4860"/>
                </a:cubicBezTo>
              </a:path>
              <a:path w="474" h="698">
                <a:moveTo>
                  <a:pt x="24040" y="4273"/>
                </a:moveTo>
                <a:cubicBezTo>
                  <a:pt x="24072" y="4365"/>
                  <a:pt x="24097" y="4457"/>
                  <a:pt x="24108" y="4554"/>
                </a:cubicBezTo>
                <a:cubicBezTo>
                  <a:pt x="24117" y="4628"/>
                  <a:pt x="24129" y="4702"/>
                  <a:pt x="24125" y="4777"/>
                </a:cubicBezTo>
                <a:cubicBezTo>
                  <a:pt x="24121" y="4819"/>
                  <a:pt x="24120" y="4833"/>
                  <a:pt x="24116" y="486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"/>
          <p:cNvSpPr/>
          <p:nvPr/>
        </p:nvSpPr>
        <p:spPr>
          <a:xfrm>
            <a:off x="3083040" y="1689120"/>
            <a:ext cx="1077840" cy="758880"/>
          </a:xfrm>
          <a:custGeom>
            <a:avLst/>
            <a:gdLst/>
            <a:ahLst/>
            <a:rect l="l" t="t" r="r" b="b"/>
            <a:pathLst>
              <a:path w="2996" h="2106">
                <a:moveTo>
                  <a:pt x="8731" y="5555"/>
                </a:moveTo>
                <a:cubicBezTo>
                  <a:pt x="8668" y="5590"/>
                  <a:pt x="8659" y="5601"/>
                  <a:pt x="8629" y="5682"/>
                </a:cubicBezTo>
                <a:cubicBezTo>
                  <a:pt x="8578" y="5820"/>
                  <a:pt x="8566" y="5970"/>
                  <a:pt x="8564" y="6117"/>
                </a:cubicBezTo>
                <a:cubicBezTo>
                  <a:pt x="8562" y="6245"/>
                  <a:pt x="8562" y="6411"/>
                  <a:pt x="8644" y="6519"/>
                </a:cubicBezTo>
                <a:cubicBezTo>
                  <a:pt x="8712" y="6610"/>
                  <a:pt x="8819" y="6574"/>
                  <a:pt x="8899" y="6522"/>
                </a:cubicBezTo>
                <a:cubicBezTo>
                  <a:pt x="9071" y="6411"/>
                  <a:pt x="9195" y="6212"/>
                  <a:pt x="9284" y="6033"/>
                </a:cubicBezTo>
                <a:cubicBezTo>
                  <a:pt x="9360" y="5882"/>
                  <a:pt x="9414" y="5715"/>
                  <a:pt x="9408" y="5544"/>
                </a:cubicBezTo>
                <a:cubicBezTo>
                  <a:pt x="9404" y="5430"/>
                  <a:pt x="9364" y="5319"/>
                  <a:pt x="9265" y="5255"/>
                </a:cubicBezTo>
                <a:cubicBezTo>
                  <a:pt x="9202" y="5214"/>
                  <a:pt x="9106" y="5201"/>
                  <a:pt x="9033" y="5221"/>
                </a:cubicBezTo>
                <a:cubicBezTo>
                  <a:pt x="8995" y="5238"/>
                  <a:pt x="8984" y="5243"/>
                  <a:pt x="8963" y="5260"/>
                </a:cubicBezTo>
              </a:path>
              <a:path w="2996" h="2106">
                <a:moveTo>
                  <a:pt x="9219" y="4931"/>
                </a:moveTo>
                <a:cubicBezTo>
                  <a:pt x="9219" y="4860"/>
                  <a:pt x="9229" y="4782"/>
                  <a:pt x="9178" y="4725"/>
                </a:cubicBezTo>
                <a:cubicBezTo>
                  <a:pt x="9142" y="4685"/>
                  <a:pt x="9096" y="4687"/>
                  <a:pt x="9049" y="4703"/>
                </a:cubicBezTo>
                <a:cubicBezTo>
                  <a:pt x="9019" y="4713"/>
                  <a:pt x="8975" y="4734"/>
                  <a:pt x="8961" y="4765"/>
                </a:cubicBezTo>
                <a:cubicBezTo>
                  <a:pt x="8961" y="4769"/>
                  <a:pt x="8960" y="4772"/>
                  <a:pt x="8960" y="4776"/>
                </a:cubicBezTo>
                <a:cubicBezTo>
                  <a:pt x="8999" y="4799"/>
                  <a:pt x="9040" y="4816"/>
                  <a:pt x="9077" y="4844"/>
                </a:cubicBezTo>
                <a:cubicBezTo>
                  <a:pt x="9127" y="4882"/>
                  <a:pt x="9169" y="4931"/>
                  <a:pt x="9191" y="4991"/>
                </a:cubicBezTo>
                <a:cubicBezTo>
                  <a:pt x="9210" y="5043"/>
                  <a:pt x="9209" y="5106"/>
                  <a:pt x="9179" y="5153"/>
                </a:cubicBezTo>
                <a:cubicBezTo>
                  <a:pt x="9161" y="5181"/>
                  <a:pt x="9112" y="5223"/>
                  <a:pt x="9076" y="5224"/>
                </a:cubicBezTo>
                <a:cubicBezTo>
                  <a:pt x="9052" y="5224"/>
                  <a:pt x="9044" y="5208"/>
                  <a:pt x="9033" y="5192"/>
                </a:cubicBezTo>
              </a:path>
              <a:path w="2996" h="2106">
                <a:moveTo>
                  <a:pt x="10813" y="5627"/>
                </a:moveTo>
                <a:cubicBezTo>
                  <a:pt x="10792" y="5606"/>
                  <a:pt x="10780" y="5587"/>
                  <a:pt x="10766" y="5639"/>
                </a:cubicBezTo>
                <a:cubicBezTo>
                  <a:pt x="10743" y="5723"/>
                  <a:pt x="10742" y="5814"/>
                  <a:pt x="10743" y="5901"/>
                </a:cubicBezTo>
                <a:cubicBezTo>
                  <a:pt x="10744" y="6000"/>
                  <a:pt x="10759" y="6099"/>
                  <a:pt x="10762" y="6198"/>
                </a:cubicBezTo>
                <a:cubicBezTo>
                  <a:pt x="10762" y="6202"/>
                  <a:pt x="10761" y="6205"/>
                  <a:pt x="10761" y="6209"/>
                </a:cubicBezTo>
                <a:cubicBezTo>
                  <a:pt x="10737" y="6150"/>
                  <a:pt x="10725" y="6088"/>
                  <a:pt x="10720" y="6024"/>
                </a:cubicBezTo>
                <a:cubicBezTo>
                  <a:pt x="10711" y="5908"/>
                  <a:pt x="10723" y="5791"/>
                  <a:pt x="10752" y="5678"/>
                </a:cubicBezTo>
                <a:cubicBezTo>
                  <a:pt x="10779" y="5573"/>
                  <a:pt x="10822" y="5466"/>
                  <a:pt x="10889" y="5380"/>
                </a:cubicBezTo>
                <a:cubicBezTo>
                  <a:pt x="10922" y="5338"/>
                  <a:pt x="10976" y="5288"/>
                  <a:pt x="11033" y="5318"/>
                </a:cubicBezTo>
                <a:cubicBezTo>
                  <a:pt x="11082" y="5344"/>
                  <a:pt x="11096" y="5429"/>
                  <a:pt x="11101" y="5477"/>
                </a:cubicBezTo>
                <a:cubicBezTo>
                  <a:pt x="11108" y="5544"/>
                  <a:pt x="11098" y="5619"/>
                  <a:pt x="11072" y="5682"/>
                </a:cubicBezTo>
                <a:cubicBezTo>
                  <a:pt x="11049" y="5738"/>
                  <a:pt x="11010" y="5770"/>
                  <a:pt x="10950" y="5769"/>
                </a:cubicBezTo>
                <a:cubicBezTo>
                  <a:pt x="10926" y="5769"/>
                  <a:pt x="10905" y="5761"/>
                  <a:pt x="10882" y="5755"/>
                </a:cubicBezTo>
                <a:cubicBezTo>
                  <a:pt x="10875" y="5806"/>
                  <a:pt x="10866" y="5854"/>
                  <a:pt x="10845" y="5901"/>
                </a:cubicBezTo>
                <a:cubicBezTo>
                  <a:pt x="10836" y="5921"/>
                  <a:pt x="10830" y="5940"/>
                  <a:pt x="10813" y="5954"/>
                </a:cubicBezTo>
                <a:cubicBezTo>
                  <a:pt x="10788" y="5974"/>
                  <a:pt x="10787" y="5963"/>
                  <a:pt x="10789" y="5941"/>
                </a:cubicBezTo>
                <a:cubicBezTo>
                  <a:pt x="10793" y="5927"/>
                  <a:pt x="10795" y="5921"/>
                  <a:pt x="10799" y="5911"/>
                </a:cubicBezTo>
              </a:path>
              <a:path w="2996" h="2106">
                <a:moveTo>
                  <a:pt x="10890" y="5765"/>
                </a:moveTo>
                <a:cubicBezTo>
                  <a:pt x="10885" y="5747"/>
                  <a:pt x="10876" y="5727"/>
                  <a:pt x="10880" y="5708"/>
                </a:cubicBezTo>
                <a:cubicBezTo>
                  <a:pt x="10886" y="5677"/>
                  <a:pt x="10928" y="5697"/>
                  <a:pt x="10943" y="5704"/>
                </a:cubicBezTo>
                <a:cubicBezTo>
                  <a:pt x="11000" y="5730"/>
                  <a:pt x="11053" y="5776"/>
                  <a:pt x="11097" y="5820"/>
                </a:cubicBezTo>
                <a:cubicBezTo>
                  <a:pt x="11154" y="5877"/>
                  <a:pt x="11207" y="5941"/>
                  <a:pt x="11240" y="6015"/>
                </a:cubicBezTo>
                <a:cubicBezTo>
                  <a:pt x="11258" y="6056"/>
                  <a:pt x="11272" y="6105"/>
                  <a:pt x="11247" y="6146"/>
                </a:cubicBezTo>
                <a:cubicBezTo>
                  <a:pt x="11232" y="6171"/>
                  <a:pt x="11201" y="6165"/>
                  <a:pt x="11182" y="6147"/>
                </a:cubicBezTo>
                <a:cubicBezTo>
                  <a:pt x="11170" y="6131"/>
                  <a:pt x="11166" y="6125"/>
                  <a:pt x="11160" y="6113"/>
                </a:cubicBezTo>
              </a:path>
              <a:path w="2996" h="2106">
                <a:moveTo>
                  <a:pt x="10873" y="5522"/>
                </a:moveTo>
                <a:cubicBezTo>
                  <a:pt x="10849" y="5564"/>
                  <a:pt x="10846" y="5599"/>
                  <a:pt x="10839" y="5647"/>
                </a:cubicBezTo>
                <a:cubicBezTo>
                  <a:pt x="10826" y="5736"/>
                  <a:pt x="10830" y="5827"/>
                  <a:pt x="10837" y="5917"/>
                </a:cubicBezTo>
                <a:cubicBezTo>
                  <a:pt x="10843" y="5991"/>
                  <a:pt x="10854" y="6063"/>
                  <a:pt x="10865" y="6136"/>
                </a:cubicBezTo>
                <a:cubicBezTo>
                  <a:pt x="10869" y="6165"/>
                  <a:pt x="10870" y="6173"/>
                  <a:pt x="10870" y="6191"/>
                </a:cubicBezTo>
              </a:path>
              <a:path w="2996" h="2106">
                <a:moveTo>
                  <a:pt x="10863" y="5083"/>
                </a:moveTo>
                <a:cubicBezTo>
                  <a:pt x="10823" y="5068"/>
                  <a:pt x="10789" y="5056"/>
                  <a:pt x="10746" y="5051"/>
                </a:cubicBezTo>
                <a:cubicBezTo>
                  <a:pt x="10721" y="5048"/>
                  <a:pt x="10705" y="5042"/>
                  <a:pt x="10682" y="5055"/>
                </a:cubicBezTo>
                <a:cubicBezTo>
                  <a:pt x="10645" y="5076"/>
                  <a:pt x="10633" y="5121"/>
                  <a:pt x="10613" y="5155"/>
                </a:cubicBezTo>
                <a:cubicBezTo>
                  <a:pt x="10571" y="5229"/>
                  <a:pt x="10535" y="5308"/>
                  <a:pt x="10501" y="5385"/>
                </a:cubicBezTo>
                <a:cubicBezTo>
                  <a:pt x="10388" y="5640"/>
                  <a:pt x="10328" y="5899"/>
                  <a:pt x="10341" y="6178"/>
                </a:cubicBezTo>
                <a:cubicBezTo>
                  <a:pt x="10348" y="6339"/>
                  <a:pt x="10349" y="6554"/>
                  <a:pt x="10454" y="6687"/>
                </a:cubicBezTo>
                <a:cubicBezTo>
                  <a:pt x="10532" y="6786"/>
                  <a:pt x="10652" y="6814"/>
                  <a:pt x="10772" y="6791"/>
                </a:cubicBezTo>
                <a:cubicBezTo>
                  <a:pt x="10935" y="6760"/>
                  <a:pt x="11085" y="6650"/>
                  <a:pt x="11207" y="6543"/>
                </a:cubicBezTo>
                <a:cubicBezTo>
                  <a:pt x="11403" y="6371"/>
                  <a:pt x="11562" y="6152"/>
                  <a:pt x="11559" y="5880"/>
                </a:cubicBezTo>
                <a:cubicBezTo>
                  <a:pt x="11556" y="5628"/>
                  <a:pt x="11287" y="5087"/>
                  <a:pt x="10967" y="5116"/>
                </a:cubicBezTo>
                <a:cubicBezTo>
                  <a:pt x="10905" y="5122"/>
                  <a:pt x="10891" y="5140"/>
                  <a:pt x="10866" y="5189"/>
                </a:cubicBezTo>
                <a:cubicBezTo>
                  <a:pt x="10864" y="5201"/>
                  <a:pt x="10863" y="5213"/>
                  <a:pt x="10861" y="5225"/>
                </a:cubicBezTo>
              </a:path>
              <a:path w="2996" h="2106">
                <a:moveTo>
                  <a:pt x="9049" y="5352"/>
                </a:moveTo>
                <a:cubicBezTo>
                  <a:pt x="9023" y="5336"/>
                  <a:pt x="9028" y="5332"/>
                  <a:pt x="8993" y="5354"/>
                </a:cubicBezTo>
                <a:cubicBezTo>
                  <a:pt x="8933" y="5392"/>
                  <a:pt x="8886" y="5449"/>
                  <a:pt x="8844" y="5506"/>
                </a:cubicBezTo>
                <a:cubicBezTo>
                  <a:pt x="8790" y="5579"/>
                  <a:pt x="8738" y="5658"/>
                  <a:pt x="8708" y="5744"/>
                </a:cubicBezTo>
                <a:cubicBezTo>
                  <a:pt x="8687" y="5804"/>
                  <a:pt x="8706" y="5823"/>
                  <a:pt x="8758" y="5838"/>
                </a:cubicBezTo>
              </a:path>
              <a:path w="2996" h="2106">
                <a:moveTo>
                  <a:pt x="9324" y="5595"/>
                </a:moveTo>
                <a:cubicBezTo>
                  <a:pt x="9360" y="5609"/>
                  <a:pt x="9385" y="5616"/>
                  <a:pt x="9427" y="5618"/>
                </a:cubicBezTo>
                <a:cubicBezTo>
                  <a:pt x="9504" y="5621"/>
                  <a:pt x="9580" y="5626"/>
                  <a:pt x="9657" y="5631"/>
                </a:cubicBezTo>
                <a:cubicBezTo>
                  <a:pt x="9820" y="5641"/>
                  <a:pt x="9981" y="5666"/>
                  <a:pt x="10144" y="5674"/>
                </a:cubicBezTo>
                <a:cubicBezTo>
                  <a:pt x="10187" y="5676"/>
                  <a:pt x="10231" y="5676"/>
                  <a:pt x="10274" y="5676"/>
                </a:cubicBezTo>
                <a:cubicBezTo>
                  <a:pt x="10323" y="5676"/>
                  <a:pt x="10365" y="5674"/>
                  <a:pt x="10409" y="5659"/>
                </a:cubicBezTo>
                <a:cubicBezTo>
                  <a:pt x="10399" y="5639"/>
                  <a:pt x="10390" y="5626"/>
                  <a:pt x="10376" y="5607"/>
                </a:cubicBezTo>
                <a:cubicBezTo>
                  <a:pt x="10353" y="5576"/>
                  <a:pt x="10322" y="5548"/>
                  <a:pt x="10291" y="5524"/>
                </a:cubicBezTo>
                <a:cubicBezTo>
                  <a:pt x="10251" y="5494"/>
                  <a:pt x="10202" y="5470"/>
                  <a:pt x="10174" y="5438"/>
                </a:cubicBezTo>
                <a:cubicBezTo>
                  <a:pt x="10231" y="5428"/>
                  <a:pt x="10294" y="5425"/>
                  <a:pt x="10337" y="5475"/>
                </a:cubicBezTo>
                <a:cubicBezTo>
                  <a:pt x="10381" y="5527"/>
                  <a:pt x="10366" y="5608"/>
                  <a:pt x="10348" y="5666"/>
                </a:cubicBezTo>
                <a:cubicBezTo>
                  <a:pt x="10322" y="5749"/>
                  <a:pt x="10271" y="5811"/>
                  <a:pt x="10219" y="5879"/>
                </a:cubicBezTo>
                <a:cubicBezTo>
                  <a:pt x="10184" y="5925"/>
                  <a:pt x="10167" y="5937"/>
                  <a:pt x="10118" y="5955"/>
                </a:cubicBezTo>
              </a:path>
              <a:path w="2996" h="2106">
                <a:moveTo>
                  <a:pt x="9018" y="5986"/>
                </a:moveTo>
                <a:cubicBezTo>
                  <a:pt x="9044" y="6022"/>
                  <a:pt x="9067" y="6032"/>
                  <a:pt x="9114" y="6041"/>
                </a:cubicBezTo>
                <a:cubicBezTo>
                  <a:pt x="9190" y="6056"/>
                  <a:pt x="9267" y="6063"/>
                  <a:pt x="9344" y="6067"/>
                </a:cubicBezTo>
                <a:cubicBezTo>
                  <a:pt x="9442" y="6072"/>
                  <a:pt x="9539" y="6073"/>
                  <a:pt x="9637" y="6072"/>
                </a:cubicBezTo>
                <a:cubicBezTo>
                  <a:pt x="9810" y="6071"/>
                  <a:pt x="9984" y="6079"/>
                  <a:pt x="10157" y="6078"/>
                </a:cubicBezTo>
                <a:cubicBezTo>
                  <a:pt x="10162" y="6078"/>
                  <a:pt x="10166" y="6077"/>
                  <a:pt x="10171" y="6077"/>
                </a:cubicBezTo>
                <a:cubicBezTo>
                  <a:pt x="10156" y="6060"/>
                  <a:pt x="10148" y="6047"/>
                  <a:pt x="10121" y="6033"/>
                </a:cubicBezTo>
                <a:cubicBezTo>
                  <a:pt x="10084" y="6014"/>
                  <a:pt x="10034" y="6002"/>
                  <a:pt x="10002" y="5976"/>
                </a:cubicBezTo>
                <a:cubicBezTo>
                  <a:pt x="9987" y="5967"/>
                  <a:pt x="9982" y="5964"/>
                  <a:pt x="9978" y="5952"/>
                </a:cubicBezTo>
                <a:cubicBezTo>
                  <a:pt x="10008" y="5942"/>
                  <a:pt x="10026" y="5934"/>
                  <a:pt x="10059" y="5945"/>
                </a:cubicBezTo>
                <a:cubicBezTo>
                  <a:pt x="10106" y="5961"/>
                  <a:pt x="10116" y="6008"/>
                  <a:pt x="10106" y="6051"/>
                </a:cubicBezTo>
                <a:cubicBezTo>
                  <a:pt x="10097" y="6090"/>
                  <a:pt x="10071" y="6135"/>
                  <a:pt x="10047" y="6165"/>
                </a:cubicBezTo>
                <a:cubicBezTo>
                  <a:pt x="10030" y="6186"/>
                  <a:pt x="10010" y="6202"/>
                  <a:pt x="9990" y="6218"/>
                </a:cubicBezTo>
              </a:path>
              <a:path w="2996" h="2106">
                <a:moveTo>
                  <a:pt x="8850" y="6406"/>
                </a:moveTo>
                <a:cubicBezTo>
                  <a:pt x="8884" y="6418"/>
                  <a:pt x="8919" y="6431"/>
                  <a:pt x="8954" y="6440"/>
                </a:cubicBezTo>
                <a:cubicBezTo>
                  <a:pt x="9037" y="6461"/>
                  <a:pt x="9126" y="6463"/>
                  <a:pt x="9211" y="6461"/>
                </a:cubicBezTo>
                <a:cubicBezTo>
                  <a:pt x="9336" y="6459"/>
                  <a:pt x="9461" y="6445"/>
                  <a:pt x="9585" y="6425"/>
                </a:cubicBezTo>
                <a:cubicBezTo>
                  <a:pt x="9745" y="6399"/>
                  <a:pt x="9931" y="6381"/>
                  <a:pt x="10081" y="6320"/>
                </a:cubicBezTo>
                <a:cubicBezTo>
                  <a:pt x="10058" y="6309"/>
                  <a:pt x="10038" y="6297"/>
                  <a:pt x="10014" y="6289"/>
                </a:cubicBezTo>
                <a:cubicBezTo>
                  <a:pt x="9970" y="6274"/>
                  <a:pt x="9910" y="6273"/>
                  <a:pt x="9870" y="6250"/>
                </a:cubicBezTo>
                <a:cubicBezTo>
                  <a:pt x="9870" y="6247"/>
                  <a:pt x="9871" y="6244"/>
                  <a:pt x="9871" y="6241"/>
                </a:cubicBezTo>
                <a:cubicBezTo>
                  <a:pt x="9903" y="6236"/>
                  <a:pt x="9934" y="6229"/>
                  <a:pt x="9966" y="6232"/>
                </a:cubicBezTo>
                <a:cubicBezTo>
                  <a:pt x="10025" y="6237"/>
                  <a:pt x="10098" y="6242"/>
                  <a:pt x="10143" y="6287"/>
                </a:cubicBezTo>
                <a:cubicBezTo>
                  <a:pt x="10188" y="6333"/>
                  <a:pt x="10152" y="6386"/>
                  <a:pt x="10120" y="6425"/>
                </a:cubicBezTo>
                <a:cubicBezTo>
                  <a:pt x="10090" y="6461"/>
                  <a:pt x="10047" y="6495"/>
                  <a:pt x="10004" y="6515"/>
                </a:cubicBezTo>
                <a:cubicBezTo>
                  <a:pt x="9996" y="6518"/>
                  <a:pt x="9988" y="6520"/>
                  <a:pt x="9980" y="652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"/>
          <p:cNvSpPr/>
          <p:nvPr/>
        </p:nvSpPr>
        <p:spPr>
          <a:xfrm>
            <a:off x="1093680" y="2617920"/>
            <a:ext cx="7529760" cy="1679400"/>
          </a:xfrm>
          <a:custGeom>
            <a:avLst/>
            <a:gdLst/>
            <a:ahLst/>
            <a:rect l="l" t="t" r="r" b="b"/>
            <a:pathLst>
              <a:path w="20914" h="4664">
                <a:moveTo>
                  <a:pt x="3091" y="8491"/>
                </a:moveTo>
                <a:cubicBezTo>
                  <a:pt x="3093" y="8481"/>
                  <a:pt x="3094" y="8478"/>
                  <a:pt x="3095" y="8472"/>
                </a:cubicBezTo>
                <a:cubicBezTo>
                  <a:pt x="3096" y="8509"/>
                  <a:pt x="3096" y="8546"/>
                  <a:pt x="3094" y="8584"/>
                </a:cubicBezTo>
                <a:cubicBezTo>
                  <a:pt x="3089" y="8674"/>
                  <a:pt x="3076" y="8763"/>
                  <a:pt x="3065" y="8853"/>
                </a:cubicBezTo>
                <a:cubicBezTo>
                  <a:pt x="3055" y="8932"/>
                  <a:pt x="3040" y="9012"/>
                  <a:pt x="3038" y="9092"/>
                </a:cubicBezTo>
                <a:cubicBezTo>
                  <a:pt x="3037" y="9123"/>
                  <a:pt x="3037" y="9154"/>
                  <a:pt x="3064" y="9174"/>
                </a:cubicBezTo>
                <a:cubicBezTo>
                  <a:pt x="3080" y="9186"/>
                  <a:pt x="3125" y="9182"/>
                  <a:pt x="3143" y="9182"/>
                </a:cubicBezTo>
                <a:cubicBezTo>
                  <a:pt x="3184" y="9181"/>
                  <a:pt x="3225" y="9176"/>
                  <a:pt x="3266" y="9175"/>
                </a:cubicBezTo>
                <a:cubicBezTo>
                  <a:pt x="3313" y="9173"/>
                  <a:pt x="3360" y="9177"/>
                  <a:pt x="3406" y="9177"/>
                </a:cubicBezTo>
                <a:cubicBezTo>
                  <a:pt x="3451" y="9177"/>
                  <a:pt x="3447" y="9170"/>
                  <a:pt x="3457" y="9137"/>
                </a:cubicBezTo>
              </a:path>
              <a:path w="20914" h="4664">
                <a:moveTo>
                  <a:pt x="3112" y="8937"/>
                </a:moveTo>
                <a:cubicBezTo>
                  <a:pt x="3151" y="8934"/>
                  <a:pt x="3188" y="8916"/>
                  <a:pt x="3224" y="8901"/>
                </a:cubicBezTo>
                <a:cubicBezTo>
                  <a:pt x="3288" y="8875"/>
                  <a:pt x="3348" y="8861"/>
                  <a:pt x="3414" y="8843"/>
                </a:cubicBezTo>
                <a:cubicBezTo>
                  <a:pt x="3440" y="8836"/>
                  <a:pt x="3466" y="8827"/>
                  <a:pt x="3490" y="8815"/>
                </a:cubicBezTo>
              </a:path>
              <a:path w="20914" h="4664">
                <a:moveTo>
                  <a:pt x="3163" y="8757"/>
                </a:moveTo>
                <a:cubicBezTo>
                  <a:pt x="3135" y="8736"/>
                  <a:pt x="3120" y="8713"/>
                  <a:pt x="3141" y="8675"/>
                </a:cubicBezTo>
                <a:cubicBezTo>
                  <a:pt x="3172" y="8619"/>
                  <a:pt x="3239" y="8592"/>
                  <a:pt x="3295" y="8572"/>
                </a:cubicBezTo>
                <a:cubicBezTo>
                  <a:pt x="3363" y="8547"/>
                  <a:pt x="3429" y="8538"/>
                  <a:pt x="3500" y="8532"/>
                </a:cubicBezTo>
              </a:path>
              <a:path w="20914" h="4664">
                <a:moveTo>
                  <a:pt x="3917" y="8498"/>
                </a:moveTo>
                <a:cubicBezTo>
                  <a:pt x="3919" y="8483"/>
                  <a:pt x="3923" y="8479"/>
                  <a:pt x="3905" y="8453"/>
                </a:cubicBezTo>
                <a:cubicBezTo>
                  <a:pt x="3894" y="8436"/>
                  <a:pt x="3884" y="8419"/>
                  <a:pt x="3872" y="8402"/>
                </a:cubicBezTo>
                <a:cubicBezTo>
                  <a:pt x="3861" y="8386"/>
                  <a:pt x="3853" y="8374"/>
                  <a:pt x="3838" y="8367"/>
                </a:cubicBezTo>
                <a:cubicBezTo>
                  <a:pt x="3822" y="8359"/>
                  <a:pt x="3774" y="8343"/>
                  <a:pt x="3757" y="8349"/>
                </a:cubicBezTo>
                <a:cubicBezTo>
                  <a:pt x="3734" y="8357"/>
                  <a:pt x="3742" y="8409"/>
                  <a:pt x="3742" y="8424"/>
                </a:cubicBezTo>
                <a:cubicBezTo>
                  <a:pt x="3742" y="8529"/>
                  <a:pt x="3746" y="8633"/>
                  <a:pt x="3746" y="8738"/>
                </a:cubicBezTo>
                <a:cubicBezTo>
                  <a:pt x="3746" y="8831"/>
                  <a:pt x="3745" y="8925"/>
                  <a:pt x="3745" y="9018"/>
                </a:cubicBezTo>
                <a:cubicBezTo>
                  <a:pt x="3745" y="9049"/>
                  <a:pt x="3738" y="9094"/>
                  <a:pt x="3750" y="9124"/>
                </a:cubicBezTo>
                <a:cubicBezTo>
                  <a:pt x="3760" y="9147"/>
                  <a:pt x="3768" y="9149"/>
                  <a:pt x="3795" y="9154"/>
                </a:cubicBezTo>
                <a:cubicBezTo>
                  <a:pt x="3820" y="9158"/>
                  <a:pt x="3858" y="9165"/>
                  <a:pt x="3883" y="9160"/>
                </a:cubicBezTo>
                <a:cubicBezTo>
                  <a:pt x="3911" y="9155"/>
                  <a:pt x="3899" y="9148"/>
                  <a:pt x="3905" y="9124"/>
                </a:cubicBezTo>
              </a:path>
              <a:path w="20914" h="4664">
                <a:moveTo>
                  <a:pt x="4131" y="8479"/>
                </a:moveTo>
                <a:cubicBezTo>
                  <a:pt x="4112" y="8469"/>
                  <a:pt x="4098" y="8462"/>
                  <a:pt x="4078" y="8455"/>
                </a:cubicBezTo>
                <a:cubicBezTo>
                  <a:pt x="4098" y="8492"/>
                  <a:pt x="4120" y="8527"/>
                  <a:pt x="4144" y="8562"/>
                </a:cubicBezTo>
                <a:cubicBezTo>
                  <a:pt x="4213" y="8662"/>
                  <a:pt x="4273" y="8766"/>
                  <a:pt x="4332" y="8872"/>
                </a:cubicBezTo>
                <a:cubicBezTo>
                  <a:pt x="4385" y="8967"/>
                  <a:pt x="4430" y="9065"/>
                  <a:pt x="4479" y="9162"/>
                </a:cubicBezTo>
                <a:cubicBezTo>
                  <a:pt x="4512" y="9227"/>
                  <a:pt x="4491" y="9201"/>
                  <a:pt x="4512" y="9181"/>
                </a:cubicBezTo>
              </a:path>
              <a:path w="20914" h="4664">
                <a:moveTo>
                  <a:pt x="4455" y="8561"/>
                </a:moveTo>
                <a:cubicBezTo>
                  <a:pt x="4409" y="8594"/>
                  <a:pt x="4405" y="8639"/>
                  <a:pt x="4388" y="8694"/>
                </a:cubicBezTo>
                <a:cubicBezTo>
                  <a:pt x="4354" y="8806"/>
                  <a:pt x="4325" y="8920"/>
                  <a:pt x="4301" y="9035"/>
                </a:cubicBezTo>
                <a:cubicBezTo>
                  <a:pt x="4294" y="9068"/>
                  <a:pt x="4234" y="9241"/>
                  <a:pt x="4263" y="9274"/>
                </a:cubicBezTo>
                <a:cubicBezTo>
                  <a:pt x="4274" y="9284"/>
                  <a:pt x="4279" y="9286"/>
                  <a:pt x="4287" y="9272"/>
                </a:cubicBezTo>
              </a:path>
              <a:path w="20914" h="4664">
                <a:moveTo>
                  <a:pt x="4584" y="8562"/>
                </a:moveTo>
                <a:cubicBezTo>
                  <a:pt x="4584" y="8548"/>
                  <a:pt x="4584" y="8543"/>
                  <a:pt x="4582" y="8534"/>
                </a:cubicBezTo>
                <a:cubicBezTo>
                  <a:pt x="4604" y="8532"/>
                  <a:pt x="4625" y="8530"/>
                  <a:pt x="4647" y="8529"/>
                </a:cubicBezTo>
                <a:cubicBezTo>
                  <a:pt x="4695" y="8526"/>
                  <a:pt x="4743" y="8522"/>
                  <a:pt x="4791" y="8519"/>
                </a:cubicBezTo>
                <a:cubicBezTo>
                  <a:pt x="4831" y="8516"/>
                  <a:pt x="4882" y="8509"/>
                  <a:pt x="4920" y="8527"/>
                </a:cubicBezTo>
                <a:cubicBezTo>
                  <a:pt x="4973" y="8552"/>
                  <a:pt x="4991" y="8624"/>
                  <a:pt x="5004" y="8674"/>
                </a:cubicBezTo>
                <a:cubicBezTo>
                  <a:pt x="5044" y="8822"/>
                  <a:pt x="5069" y="8985"/>
                  <a:pt x="5072" y="9138"/>
                </a:cubicBezTo>
                <a:cubicBezTo>
                  <a:pt x="5073" y="9178"/>
                  <a:pt x="5077" y="9240"/>
                  <a:pt x="5047" y="9271"/>
                </a:cubicBezTo>
                <a:cubicBezTo>
                  <a:pt x="5007" y="9312"/>
                  <a:pt x="4937" y="9318"/>
                  <a:pt x="4884" y="9322"/>
                </a:cubicBezTo>
                <a:cubicBezTo>
                  <a:pt x="4848" y="9325"/>
                  <a:pt x="4791" y="9334"/>
                  <a:pt x="4758" y="9316"/>
                </a:cubicBezTo>
                <a:cubicBezTo>
                  <a:pt x="4727" y="9299"/>
                  <a:pt x="4740" y="9292"/>
                  <a:pt x="4749" y="9264"/>
                </a:cubicBezTo>
              </a:path>
              <a:path w="20914" h="4664">
                <a:moveTo>
                  <a:pt x="5548" y="8745"/>
                </a:moveTo>
                <a:cubicBezTo>
                  <a:pt x="5532" y="8753"/>
                  <a:pt x="5498" y="8769"/>
                  <a:pt x="5518" y="8794"/>
                </a:cubicBezTo>
                <a:cubicBezTo>
                  <a:pt x="5544" y="8826"/>
                  <a:pt x="5634" y="8818"/>
                  <a:pt x="5668" y="8821"/>
                </a:cubicBezTo>
                <a:cubicBezTo>
                  <a:pt x="5736" y="8827"/>
                  <a:pt x="5805" y="8827"/>
                  <a:pt x="5872" y="8835"/>
                </a:cubicBezTo>
                <a:cubicBezTo>
                  <a:pt x="5881" y="8837"/>
                  <a:pt x="5890" y="8838"/>
                  <a:pt x="5899" y="8840"/>
                </a:cubicBezTo>
              </a:path>
              <a:path w="20914" h="4664">
                <a:moveTo>
                  <a:pt x="5687" y="9024"/>
                </a:moveTo>
                <a:cubicBezTo>
                  <a:pt x="5723" y="9009"/>
                  <a:pt x="5770" y="8987"/>
                  <a:pt x="5809" y="8982"/>
                </a:cubicBezTo>
                <a:cubicBezTo>
                  <a:pt x="5858" y="8976"/>
                  <a:pt x="5918" y="8983"/>
                  <a:pt x="5962" y="9006"/>
                </a:cubicBezTo>
                <a:cubicBezTo>
                  <a:pt x="5971" y="9012"/>
                  <a:pt x="5979" y="9018"/>
                  <a:pt x="5988" y="9024"/>
                </a:cubicBezTo>
              </a:path>
              <a:path w="20914" h="4664">
                <a:moveTo>
                  <a:pt x="6985" y="8396"/>
                </a:moveTo>
                <a:cubicBezTo>
                  <a:pt x="7021" y="8386"/>
                  <a:pt x="7051" y="8378"/>
                  <a:pt x="7086" y="8374"/>
                </a:cubicBezTo>
                <a:cubicBezTo>
                  <a:pt x="7099" y="8368"/>
                  <a:pt x="7104" y="8366"/>
                  <a:pt x="7114" y="8372"/>
                </a:cubicBezTo>
                <a:cubicBezTo>
                  <a:pt x="7071" y="8370"/>
                  <a:pt x="7029" y="8369"/>
                  <a:pt x="6986" y="8373"/>
                </a:cubicBezTo>
                <a:cubicBezTo>
                  <a:pt x="6871" y="8383"/>
                  <a:pt x="6756" y="8405"/>
                  <a:pt x="6645" y="8434"/>
                </a:cubicBezTo>
                <a:cubicBezTo>
                  <a:pt x="6596" y="8447"/>
                  <a:pt x="6516" y="8461"/>
                  <a:pt x="6481" y="8502"/>
                </a:cubicBezTo>
                <a:cubicBezTo>
                  <a:pt x="6479" y="8507"/>
                  <a:pt x="6478" y="8511"/>
                  <a:pt x="6476" y="8516"/>
                </a:cubicBezTo>
                <a:cubicBezTo>
                  <a:pt x="6503" y="8543"/>
                  <a:pt x="6531" y="8567"/>
                  <a:pt x="6562" y="8592"/>
                </a:cubicBezTo>
                <a:cubicBezTo>
                  <a:pt x="6628" y="8644"/>
                  <a:pt x="6673" y="8704"/>
                  <a:pt x="6674" y="8791"/>
                </a:cubicBezTo>
                <a:cubicBezTo>
                  <a:pt x="6675" y="8877"/>
                  <a:pt x="6636" y="8953"/>
                  <a:pt x="6592" y="9024"/>
                </a:cubicBezTo>
                <a:cubicBezTo>
                  <a:pt x="6551" y="9089"/>
                  <a:pt x="6486" y="9149"/>
                  <a:pt x="6458" y="9221"/>
                </a:cubicBezTo>
                <a:cubicBezTo>
                  <a:pt x="6457" y="9226"/>
                  <a:pt x="6456" y="9231"/>
                  <a:pt x="6455" y="9236"/>
                </a:cubicBezTo>
                <a:cubicBezTo>
                  <a:pt x="6482" y="9248"/>
                  <a:pt x="6505" y="9253"/>
                  <a:pt x="6540" y="9255"/>
                </a:cubicBezTo>
                <a:cubicBezTo>
                  <a:pt x="6702" y="9262"/>
                  <a:pt x="6902" y="9281"/>
                  <a:pt x="7059" y="9232"/>
                </a:cubicBezTo>
                <a:cubicBezTo>
                  <a:pt x="7076" y="9227"/>
                  <a:pt x="7080" y="9226"/>
                  <a:pt x="7089" y="9220"/>
                </a:cubicBezTo>
                <a:cubicBezTo>
                  <a:pt x="7075" y="9198"/>
                  <a:pt x="7066" y="9190"/>
                  <a:pt x="7044" y="9168"/>
                </a:cubicBezTo>
                <a:cubicBezTo>
                  <a:pt x="7011" y="9135"/>
                  <a:pt x="6987" y="9095"/>
                  <a:pt x="6972" y="9051"/>
                </a:cubicBezTo>
                <a:cubicBezTo>
                  <a:pt x="6960" y="9007"/>
                  <a:pt x="6955" y="8991"/>
                  <a:pt x="6952" y="8960"/>
                </a:cubicBezTo>
              </a:path>
              <a:path w="20914" h="4664">
                <a:moveTo>
                  <a:pt x="7025" y="8486"/>
                </a:moveTo>
                <a:cubicBezTo>
                  <a:pt x="7013" y="8528"/>
                  <a:pt x="7011" y="8567"/>
                  <a:pt x="7013" y="8611"/>
                </a:cubicBezTo>
                <a:cubicBezTo>
                  <a:pt x="7017" y="8682"/>
                  <a:pt x="7027" y="8754"/>
                  <a:pt x="7033" y="8825"/>
                </a:cubicBezTo>
              </a:path>
              <a:path w="20914" h="4664">
                <a:moveTo>
                  <a:pt x="6570" y="9709"/>
                </a:moveTo>
                <a:cubicBezTo>
                  <a:pt x="6554" y="9686"/>
                  <a:pt x="6540" y="9667"/>
                  <a:pt x="6513" y="9656"/>
                </a:cubicBezTo>
                <a:cubicBezTo>
                  <a:pt x="6482" y="9643"/>
                  <a:pt x="6458" y="9647"/>
                  <a:pt x="6428" y="9662"/>
                </a:cubicBezTo>
                <a:cubicBezTo>
                  <a:pt x="6396" y="9678"/>
                  <a:pt x="6367" y="9707"/>
                  <a:pt x="6347" y="9737"/>
                </a:cubicBezTo>
                <a:cubicBezTo>
                  <a:pt x="6335" y="9755"/>
                  <a:pt x="6330" y="9770"/>
                  <a:pt x="6327" y="9791"/>
                </a:cubicBezTo>
                <a:cubicBezTo>
                  <a:pt x="6356" y="9807"/>
                  <a:pt x="6384" y="9808"/>
                  <a:pt x="6415" y="9820"/>
                </a:cubicBezTo>
                <a:cubicBezTo>
                  <a:pt x="6455" y="9836"/>
                  <a:pt x="6483" y="9867"/>
                  <a:pt x="6494" y="9909"/>
                </a:cubicBezTo>
                <a:cubicBezTo>
                  <a:pt x="6507" y="9959"/>
                  <a:pt x="6493" y="10011"/>
                  <a:pt x="6465" y="10053"/>
                </a:cubicBezTo>
                <a:cubicBezTo>
                  <a:pt x="6439" y="10093"/>
                  <a:pt x="6399" y="10121"/>
                  <a:pt x="6351" y="10128"/>
                </a:cubicBezTo>
                <a:cubicBezTo>
                  <a:pt x="6328" y="10132"/>
                  <a:pt x="6274" y="10126"/>
                  <a:pt x="6265" y="10096"/>
                </a:cubicBezTo>
                <a:cubicBezTo>
                  <a:pt x="6257" y="10069"/>
                  <a:pt x="6282" y="10044"/>
                  <a:pt x="6294" y="10024"/>
                </a:cubicBezTo>
              </a:path>
              <a:path w="20914" h="4664">
                <a:moveTo>
                  <a:pt x="6849" y="9687"/>
                </a:moveTo>
                <a:cubicBezTo>
                  <a:pt x="6859" y="9664"/>
                  <a:pt x="6874" y="9625"/>
                  <a:pt x="6828" y="9623"/>
                </a:cubicBezTo>
                <a:cubicBezTo>
                  <a:pt x="6795" y="9621"/>
                  <a:pt x="6744" y="9685"/>
                  <a:pt x="6728" y="9706"/>
                </a:cubicBezTo>
                <a:cubicBezTo>
                  <a:pt x="6681" y="9767"/>
                  <a:pt x="6641" y="9861"/>
                  <a:pt x="6653" y="9940"/>
                </a:cubicBezTo>
                <a:cubicBezTo>
                  <a:pt x="6661" y="9994"/>
                  <a:pt x="6701" y="10033"/>
                  <a:pt x="6752" y="10048"/>
                </a:cubicBezTo>
                <a:cubicBezTo>
                  <a:pt x="6782" y="10056"/>
                  <a:pt x="6808" y="10048"/>
                  <a:pt x="6836" y="10041"/>
                </a:cubicBezTo>
              </a:path>
              <a:path w="20914" h="4664">
                <a:moveTo>
                  <a:pt x="6746" y="9878"/>
                </a:moveTo>
                <a:cubicBezTo>
                  <a:pt x="6742" y="9883"/>
                  <a:pt x="6739" y="9887"/>
                  <a:pt x="6735" y="9892"/>
                </a:cubicBezTo>
                <a:cubicBezTo>
                  <a:pt x="6754" y="9916"/>
                  <a:pt x="6766" y="9916"/>
                  <a:pt x="6798" y="9911"/>
                </a:cubicBezTo>
                <a:cubicBezTo>
                  <a:pt x="6846" y="9904"/>
                  <a:pt x="6888" y="9890"/>
                  <a:pt x="6933" y="9873"/>
                </a:cubicBezTo>
              </a:path>
              <a:path w="20914" h="4664">
                <a:moveTo>
                  <a:pt x="7265" y="9593"/>
                </a:moveTo>
                <a:cubicBezTo>
                  <a:pt x="7246" y="9575"/>
                  <a:pt x="7241" y="9562"/>
                  <a:pt x="7208" y="9568"/>
                </a:cubicBezTo>
                <a:cubicBezTo>
                  <a:pt x="7162" y="9576"/>
                  <a:pt x="7121" y="9605"/>
                  <a:pt x="7085" y="9634"/>
                </a:cubicBezTo>
                <a:cubicBezTo>
                  <a:pt x="7059" y="9655"/>
                  <a:pt x="7016" y="9691"/>
                  <a:pt x="7029" y="9730"/>
                </a:cubicBezTo>
                <a:cubicBezTo>
                  <a:pt x="7041" y="9767"/>
                  <a:pt x="7107" y="9793"/>
                  <a:pt x="7136" y="9813"/>
                </a:cubicBezTo>
                <a:cubicBezTo>
                  <a:pt x="7188" y="9849"/>
                  <a:pt x="7238" y="9886"/>
                  <a:pt x="7271" y="9940"/>
                </a:cubicBezTo>
                <a:cubicBezTo>
                  <a:pt x="7290" y="9971"/>
                  <a:pt x="7308" y="10018"/>
                  <a:pt x="7278" y="10049"/>
                </a:cubicBezTo>
                <a:cubicBezTo>
                  <a:pt x="7255" y="10072"/>
                  <a:pt x="7211" y="10065"/>
                  <a:pt x="7186" y="10053"/>
                </a:cubicBezTo>
                <a:cubicBezTo>
                  <a:pt x="7158" y="10039"/>
                  <a:pt x="7132" y="10018"/>
                  <a:pt x="7107" y="10001"/>
                </a:cubicBezTo>
              </a:path>
              <a:path w="20914" h="4664">
                <a:moveTo>
                  <a:pt x="7892" y="8531"/>
                </a:moveTo>
                <a:cubicBezTo>
                  <a:pt x="7864" y="8554"/>
                  <a:pt x="7867" y="8600"/>
                  <a:pt x="7873" y="8639"/>
                </a:cubicBezTo>
                <a:cubicBezTo>
                  <a:pt x="7886" y="8727"/>
                  <a:pt x="7911" y="8818"/>
                  <a:pt x="7938" y="8903"/>
                </a:cubicBezTo>
                <a:cubicBezTo>
                  <a:pt x="7953" y="8952"/>
                  <a:pt x="7972" y="8999"/>
                  <a:pt x="7988" y="9048"/>
                </a:cubicBezTo>
                <a:cubicBezTo>
                  <a:pt x="7963" y="8987"/>
                  <a:pt x="7942" y="8927"/>
                  <a:pt x="7926" y="8863"/>
                </a:cubicBezTo>
                <a:cubicBezTo>
                  <a:pt x="7889" y="8717"/>
                  <a:pt x="7878" y="8556"/>
                  <a:pt x="7907" y="8408"/>
                </a:cubicBezTo>
                <a:cubicBezTo>
                  <a:pt x="7919" y="8349"/>
                  <a:pt x="7931" y="8306"/>
                  <a:pt x="7984" y="8283"/>
                </a:cubicBezTo>
                <a:cubicBezTo>
                  <a:pt x="8034" y="8323"/>
                  <a:pt x="8060" y="8370"/>
                  <a:pt x="8078" y="8433"/>
                </a:cubicBezTo>
                <a:cubicBezTo>
                  <a:pt x="8100" y="8511"/>
                  <a:pt x="8101" y="8605"/>
                  <a:pt x="8068" y="8681"/>
                </a:cubicBezTo>
                <a:cubicBezTo>
                  <a:pt x="8043" y="8738"/>
                  <a:pt x="7971" y="8810"/>
                  <a:pt x="7902" y="8801"/>
                </a:cubicBezTo>
                <a:cubicBezTo>
                  <a:pt x="7858" y="8795"/>
                  <a:pt x="7869" y="8758"/>
                  <a:pt x="7893" y="8737"/>
                </a:cubicBezTo>
                <a:cubicBezTo>
                  <a:pt x="7902" y="8731"/>
                  <a:pt x="7912" y="8724"/>
                  <a:pt x="7921" y="8718"/>
                </a:cubicBezTo>
              </a:path>
              <a:path w="20914" h="4664">
                <a:moveTo>
                  <a:pt x="8260" y="8822"/>
                </a:moveTo>
                <a:cubicBezTo>
                  <a:pt x="8270" y="8868"/>
                  <a:pt x="8268" y="8892"/>
                  <a:pt x="8259" y="8936"/>
                </a:cubicBezTo>
                <a:cubicBezTo>
                  <a:pt x="8256" y="8958"/>
                  <a:pt x="8258" y="8964"/>
                  <a:pt x="8245" y="8972"/>
                </a:cubicBezTo>
                <a:cubicBezTo>
                  <a:pt x="8217" y="8973"/>
                  <a:pt x="8226" y="8945"/>
                  <a:pt x="8228" y="8918"/>
                </a:cubicBezTo>
                <a:cubicBezTo>
                  <a:pt x="8231" y="8863"/>
                  <a:pt x="8240" y="8809"/>
                  <a:pt x="8259" y="8757"/>
                </a:cubicBezTo>
                <a:cubicBezTo>
                  <a:pt x="8274" y="8715"/>
                  <a:pt x="8301" y="8655"/>
                  <a:pt x="8347" y="8639"/>
                </a:cubicBezTo>
                <a:cubicBezTo>
                  <a:pt x="8392" y="8623"/>
                  <a:pt x="8450" y="8640"/>
                  <a:pt x="8494" y="8649"/>
                </a:cubicBezTo>
                <a:cubicBezTo>
                  <a:pt x="8506" y="8652"/>
                  <a:pt x="8519" y="8654"/>
                  <a:pt x="8531" y="8657"/>
                </a:cubicBezTo>
              </a:path>
              <a:path w="20914" h="4664">
                <a:moveTo>
                  <a:pt x="8719" y="8425"/>
                </a:moveTo>
                <a:cubicBezTo>
                  <a:pt x="8715" y="8399"/>
                  <a:pt x="8713" y="8382"/>
                  <a:pt x="8702" y="8358"/>
                </a:cubicBezTo>
                <a:cubicBezTo>
                  <a:pt x="8667" y="8378"/>
                  <a:pt x="8659" y="8389"/>
                  <a:pt x="8642" y="8432"/>
                </a:cubicBezTo>
                <a:cubicBezTo>
                  <a:pt x="8612" y="8505"/>
                  <a:pt x="8591" y="8584"/>
                  <a:pt x="8582" y="8663"/>
                </a:cubicBezTo>
                <a:cubicBezTo>
                  <a:pt x="8572" y="8746"/>
                  <a:pt x="8578" y="8828"/>
                  <a:pt x="8608" y="8906"/>
                </a:cubicBezTo>
                <a:cubicBezTo>
                  <a:pt x="8626" y="8953"/>
                  <a:pt x="8649" y="8984"/>
                  <a:pt x="8680" y="9022"/>
                </a:cubicBezTo>
              </a:path>
              <a:path w="20914" h="4664">
                <a:moveTo>
                  <a:pt x="9075" y="8673"/>
                </a:moveTo>
                <a:cubicBezTo>
                  <a:pt x="9077" y="8649"/>
                  <a:pt x="9082" y="8634"/>
                  <a:pt x="9078" y="8611"/>
                </a:cubicBezTo>
                <a:cubicBezTo>
                  <a:pt x="9044" y="8602"/>
                  <a:pt x="9019" y="8632"/>
                  <a:pt x="8987" y="8659"/>
                </a:cubicBezTo>
                <a:cubicBezTo>
                  <a:pt x="8948" y="8691"/>
                  <a:pt x="8898" y="8730"/>
                  <a:pt x="8875" y="8776"/>
                </a:cubicBezTo>
                <a:cubicBezTo>
                  <a:pt x="8874" y="8780"/>
                  <a:pt x="8873" y="8784"/>
                  <a:pt x="8872" y="8788"/>
                </a:cubicBezTo>
                <a:cubicBezTo>
                  <a:pt x="8900" y="8804"/>
                  <a:pt x="8932" y="8813"/>
                  <a:pt x="8960" y="8831"/>
                </a:cubicBezTo>
                <a:cubicBezTo>
                  <a:pt x="9011" y="8864"/>
                  <a:pt x="9046" y="8914"/>
                  <a:pt x="9062" y="8972"/>
                </a:cubicBezTo>
                <a:cubicBezTo>
                  <a:pt x="9069" y="8998"/>
                  <a:pt x="9076" y="9049"/>
                  <a:pt x="9047" y="9066"/>
                </a:cubicBezTo>
                <a:cubicBezTo>
                  <a:pt x="9015" y="9085"/>
                  <a:pt x="8989" y="9060"/>
                  <a:pt x="8972" y="9036"/>
                </a:cubicBezTo>
                <a:cubicBezTo>
                  <a:pt x="8954" y="9011"/>
                  <a:pt x="8949" y="8986"/>
                  <a:pt x="8942" y="8957"/>
                </a:cubicBezTo>
              </a:path>
              <a:path w="20914" h="4664">
                <a:moveTo>
                  <a:pt x="9198" y="8302"/>
                </a:moveTo>
                <a:cubicBezTo>
                  <a:pt x="9246" y="8342"/>
                  <a:pt x="9249" y="8389"/>
                  <a:pt x="9263" y="8450"/>
                </a:cubicBezTo>
                <a:cubicBezTo>
                  <a:pt x="9290" y="8566"/>
                  <a:pt x="9307" y="8684"/>
                  <a:pt x="9322" y="8802"/>
                </a:cubicBezTo>
                <a:cubicBezTo>
                  <a:pt x="9333" y="8891"/>
                  <a:pt x="9344" y="8980"/>
                  <a:pt x="9334" y="9069"/>
                </a:cubicBezTo>
                <a:cubicBezTo>
                  <a:pt x="9330" y="9101"/>
                  <a:pt x="9325" y="9118"/>
                  <a:pt x="9308" y="9143"/>
                </a:cubicBezTo>
              </a:path>
              <a:path w="20914" h="4664">
                <a:moveTo>
                  <a:pt x="9819" y="8435"/>
                </a:moveTo>
                <a:cubicBezTo>
                  <a:pt x="9818" y="8420"/>
                  <a:pt x="9816" y="8405"/>
                  <a:pt x="9815" y="8390"/>
                </a:cubicBezTo>
                <a:cubicBezTo>
                  <a:pt x="9839" y="8428"/>
                  <a:pt x="9861" y="8471"/>
                  <a:pt x="9885" y="8511"/>
                </a:cubicBezTo>
                <a:cubicBezTo>
                  <a:pt x="9943" y="8609"/>
                  <a:pt x="10009" y="8702"/>
                  <a:pt x="10074" y="8796"/>
                </a:cubicBezTo>
                <a:cubicBezTo>
                  <a:pt x="10130" y="8878"/>
                  <a:pt x="10188" y="8959"/>
                  <a:pt x="10239" y="9044"/>
                </a:cubicBezTo>
                <a:cubicBezTo>
                  <a:pt x="10246" y="9056"/>
                  <a:pt x="10280" y="9144"/>
                  <a:pt x="10274" y="9098"/>
                </a:cubicBezTo>
                <a:cubicBezTo>
                  <a:pt x="10272" y="9090"/>
                  <a:pt x="10271" y="9081"/>
                  <a:pt x="10269" y="9073"/>
                </a:cubicBezTo>
              </a:path>
              <a:path w="20914" h="4664">
                <a:moveTo>
                  <a:pt x="10356" y="8322"/>
                </a:moveTo>
                <a:cubicBezTo>
                  <a:pt x="10330" y="8386"/>
                  <a:pt x="10300" y="8446"/>
                  <a:pt x="10266" y="8507"/>
                </a:cubicBezTo>
                <a:cubicBezTo>
                  <a:pt x="10175" y="8670"/>
                  <a:pt x="10070" y="8824"/>
                  <a:pt x="9979" y="8986"/>
                </a:cubicBezTo>
                <a:cubicBezTo>
                  <a:pt x="9970" y="9002"/>
                  <a:pt x="9900" y="9096"/>
                  <a:pt x="9936" y="9119"/>
                </a:cubicBezTo>
                <a:cubicBezTo>
                  <a:pt x="9954" y="9119"/>
                  <a:pt x="9962" y="9118"/>
                  <a:pt x="9974" y="9111"/>
                </a:cubicBezTo>
              </a:path>
              <a:path w="20914" h="4664">
                <a:moveTo>
                  <a:pt x="10727" y="8355"/>
                </a:moveTo>
                <a:cubicBezTo>
                  <a:pt x="10727" y="8334"/>
                  <a:pt x="10727" y="8333"/>
                  <a:pt x="10722" y="8313"/>
                </a:cubicBezTo>
                <a:cubicBezTo>
                  <a:pt x="10680" y="8317"/>
                  <a:pt x="10664" y="8346"/>
                  <a:pt x="10638" y="8384"/>
                </a:cubicBezTo>
                <a:cubicBezTo>
                  <a:pt x="10592" y="8452"/>
                  <a:pt x="10558" y="8528"/>
                  <a:pt x="10533" y="8606"/>
                </a:cubicBezTo>
                <a:cubicBezTo>
                  <a:pt x="10495" y="8728"/>
                  <a:pt x="10470" y="8885"/>
                  <a:pt x="10540" y="9000"/>
                </a:cubicBezTo>
                <a:cubicBezTo>
                  <a:pt x="10559" y="9031"/>
                  <a:pt x="10574" y="9039"/>
                  <a:pt x="10605" y="9052"/>
                </a:cubicBezTo>
              </a:path>
              <a:path w="20914" h="4664">
                <a:moveTo>
                  <a:pt x="10941" y="8663"/>
                </a:moveTo>
                <a:cubicBezTo>
                  <a:pt x="10951" y="8645"/>
                  <a:pt x="10954" y="8644"/>
                  <a:pt x="10952" y="8626"/>
                </a:cubicBezTo>
                <a:cubicBezTo>
                  <a:pt x="10936" y="8648"/>
                  <a:pt x="10907" y="8670"/>
                  <a:pt x="10885" y="8692"/>
                </a:cubicBezTo>
                <a:cubicBezTo>
                  <a:pt x="10850" y="8728"/>
                  <a:pt x="10808" y="8764"/>
                  <a:pt x="10781" y="8806"/>
                </a:cubicBezTo>
                <a:cubicBezTo>
                  <a:pt x="10774" y="8823"/>
                  <a:pt x="10771" y="8827"/>
                  <a:pt x="10776" y="8838"/>
                </a:cubicBezTo>
                <a:cubicBezTo>
                  <a:pt x="10808" y="8850"/>
                  <a:pt x="10841" y="8847"/>
                  <a:pt x="10875" y="8852"/>
                </a:cubicBezTo>
                <a:cubicBezTo>
                  <a:pt x="10915" y="8857"/>
                  <a:pt x="10958" y="8868"/>
                  <a:pt x="10981" y="8905"/>
                </a:cubicBezTo>
                <a:cubicBezTo>
                  <a:pt x="11004" y="8941"/>
                  <a:pt x="10995" y="8983"/>
                  <a:pt x="10976" y="9018"/>
                </a:cubicBezTo>
                <a:cubicBezTo>
                  <a:pt x="10957" y="9053"/>
                  <a:pt x="10908" y="9103"/>
                  <a:pt x="10864" y="9082"/>
                </a:cubicBezTo>
                <a:cubicBezTo>
                  <a:pt x="10831" y="9066"/>
                  <a:pt x="10839" y="9017"/>
                  <a:pt x="10840" y="8990"/>
                </a:cubicBezTo>
              </a:path>
              <a:path w="20914" h="4664">
                <a:moveTo>
                  <a:pt x="11153" y="8417"/>
                </a:moveTo>
                <a:cubicBezTo>
                  <a:pt x="11192" y="8428"/>
                  <a:pt x="11208" y="8456"/>
                  <a:pt x="11225" y="8495"/>
                </a:cubicBezTo>
                <a:cubicBezTo>
                  <a:pt x="11258" y="8569"/>
                  <a:pt x="11277" y="8651"/>
                  <a:pt x="11290" y="8731"/>
                </a:cubicBezTo>
                <a:cubicBezTo>
                  <a:pt x="11303" y="8815"/>
                  <a:pt x="11307" y="8894"/>
                  <a:pt x="11292" y="8977"/>
                </a:cubicBezTo>
                <a:cubicBezTo>
                  <a:pt x="11286" y="9011"/>
                  <a:pt x="11277" y="9033"/>
                  <a:pt x="11261" y="9063"/>
                </a:cubicBezTo>
              </a:path>
              <a:path w="20914" h="4664">
                <a:moveTo>
                  <a:pt x="11974" y="8610"/>
                </a:moveTo>
                <a:cubicBezTo>
                  <a:pt x="11964" y="8604"/>
                  <a:pt x="11961" y="8602"/>
                  <a:pt x="11963" y="8592"/>
                </a:cubicBezTo>
                <a:cubicBezTo>
                  <a:pt x="11999" y="8582"/>
                  <a:pt x="12034" y="8576"/>
                  <a:pt x="12072" y="8574"/>
                </a:cubicBezTo>
                <a:cubicBezTo>
                  <a:pt x="12146" y="8569"/>
                  <a:pt x="12219" y="8571"/>
                  <a:pt x="12293" y="8571"/>
                </a:cubicBezTo>
                <a:cubicBezTo>
                  <a:pt x="12341" y="8571"/>
                  <a:pt x="12389" y="8571"/>
                  <a:pt x="12437" y="8571"/>
                </a:cubicBezTo>
                <a:cubicBezTo>
                  <a:pt x="12441" y="8571"/>
                  <a:pt x="12445" y="8571"/>
                  <a:pt x="12449" y="8571"/>
                </a:cubicBezTo>
              </a:path>
              <a:path w="20914" h="4664">
                <a:moveTo>
                  <a:pt x="12063" y="8731"/>
                </a:moveTo>
                <a:cubicBezTo>
                  <a:pt x="12037" y="8747"/>
                  <a:pt x="12013" y="8763"/>
                  <a:pt x="11990" y="8782"/>
                </a:cubicBezTo>
                <a:cubicBezTo>
                  <a:pt x="11992" y="8810"/>
                  <a:pt x="12038" y="8800"/>
                  <a:pt x="12065" y="8801"/>
                </a:cubicBezTo>
                <a:cubicBezTo>
                  <a:pt x="12126" y="8804"/>
                  <a:pt x="12187" y="8808"/>
                  <a:pt x="12248" y="8813"/>
                </a:cubicBezTo>
                <a:cubicBezTo>
                  <a:pt x="12289" y="8816"/>
                  <a:pt x="12333" y="8827"/>
                  <a:pt x="12374" y="8822"/>
                </a:cubicBezTo>
                <a:cubicBezTo>
                  <a:pt x="12382" y="8820"/>
                  <a:pt x="12390" y="8819"/>
                  <a:pt x="12398" y="8817"/>
                </a:cubicBezTo>
              </a:path>
              <a:path w="20914" h="4664">
                <a:moveTo>
                  <a:pt x="13464" y="8432"/>
                </a:moveTo>
                <a:cubicBezTo>
                  <a:pt x="13491" y="8417"/>
                  <a:pt x="13519" y="8405"/>
                  <a:pt x="13545" y="8387"/>
                </a:cubicBezTo>
                <a:cubicBezTo>
                  <a:pt x="13560" y="8377"/>
                  <a:pt x="13571" y="8370"/>
                  <a:pt x="13587" y="8361"/>
                </a:cubicBezTo>
                <a:cubicBezTo>
                  <a:pt x="13564" y="8349"/>
                  <a:pt x="13549" y="8340"/>
                  <a:pt x="13509" y="8339"/>
                </a:cubicBezTo>
                <a:cubicBezTo>
                  <a:pt x="13416" y="8338"/>
                  <a:pt x="13321" y="8363"/>
                  <a:pt x="13231" y="8384"/>
                </a:cubicBezTo>
                <a:cubicBezTo>
                  <a:pt x="13159" y="8401"/>
                  <a:pt x="13081" y="8417"/>
                  <a:pt x="13013" y="8446"/>
                </a:cubicBezTo>
                <a:cubicBezTo>
                  <a:pt x="12984" y="8459"/>
                  <a:pt x="13000" y="8459"/>
                  <a:pt x="12984" y="8476"/>
                </a:cubicBezTo>
                <a:cubicBezTo>
                  <a:pt x="13023" y="8503"/>
                  <a:pt x="13066" y="8521"/>
                  <a:pt x="13107" y="8546"/>
                </a:cubicBezTo>
                <a:cubicBezTo>
                  <a:pt x="13157" y="8576"/>
                  <a:pt x="13194" y="8618"/>
                  <a:pt x="13181" y="8681"/>
                </a:cubicBezTo>
                <a:cubicBezTo>
                  <a:pt x="13146" y="8853"/>
                  <a:pt x="12926" y="8958"/>
                  <a:pt x="12901" y="9121"/>
                </a:cubicBezTo>
                <a:cubicBezTo>
                  <a:pt x="12894" y="9165"/>
                  <a:pt x="12912" y="9181"/>
                  <a:pt x="12947" y="9204"/>
                </a:cubicBezTo>
                <a:cubicBezTo>
                  <a:pt x="12994" y="9235"/>
                  <a:pt x="13078" y="9227"/>
                  <a:pt x="13130" y="9225"/>
                </a:cubicBezTo>
                <a:cubicBezTo>
                  <a:pt x="13271" y="9220"/>
                  <a:pt x="13412" y="9212"/>
                  <a:pt x="13552" y="9202"/>
                </a:cubicBezTo>
                <a:cubicBezTo>
                  <a:pt x="13561" y="9201"/>
                  <a:pt x="13564" y="9201"/>
                  <a:pt x="13570" y="9200"/>
                </a:cubicBezTo>
                <a:cubicBezTo>
                  <a:pt x="13558" y="9178"/>
                  <a:pt x="13546" y="9156"/>
                  <a:pt x="13536" y="9132"/>
                </a:cubicBezTo>
                <a:cubicBezTo>
                  <a:pt x="13511" y="9073"/>
                  <a:pt x="13482" y="9016"/>
                  <a:pt x="13445" y="8964"/>
                </a:cubicBezTo>
                <a:cubicBezTo>
                  <a:pt x="13419" y="8927"/>
                  <a:pt x="13361" y="8874"/>
                  <a:pt x="13371" y="8860"/>
                </a:cubicBezTo>
                <a:cubicBezTo>
                  <a:pt x="13375" y="8861"/>
                  <a:pt x="13380" y="8861"/>
                  <a:pt x="13384" y="8862"/>
                </a:cubicBezTo>
              </a:path>
              <a:path w="20914" h="4664">
                <a:moveTo>
                  <a:pt x="13582" y="8382"/>
                </a:moveTo>
                <a:cubicBezTo>
                  <a:pt x="13555" y="8405"/>
                  <a:pt x="13544" y="8434"/>
                  <a:pt x="13525" y="8467"/>
                </a:cubicBezTo>
                <a:cubicBezTo>
                  <a:pt x="13497" y="8515"/>
                  <a:pt x="13466" y="8565"/>
                  <a:pt x="13443" y="8616"/>
                </a:cubicBezTo>
                <a:cubicBezTo>
                  <a:pt x="13427" y="8652"/>
                  <a:pt x="13417" y="8693"/>
                  <a:pt x="13409" y="8731"/>
                </a:cubicBezTo>
              </a:path>
              <a:path w="20914" h="4664">
                <a:moveTo>
                  <a:pt x="14175" y="8570"/>
                </a:moveTo>
                <a:cubicBezTo>
                  <a:pt x="14160" y="8599"/>
                  <a:pt x="14157" y="8626"/>
                  <a:pt x="14157" y="8659"/>
                </a:cubicBezTo>
                <a:cubicBezTo>
                  <a:pt x="14157" y="8727"/>
                  <a:pt x="14163" y="8795"/>
                  <a:pt x="14170" y="8863"/>
                </a:cubicBezTo>
                <a:cubicBezTo>
                  <a:pt x="14175" y="8919"/>
                  <a:pt x="14188" y="8976"/>
                  <a:pt x="14189" y="9032"/>
                </a:cubicBezTo>
                <a:cubicBezTo>
                  <a:pt x="14188" y="9036"/>
                  <a:pt x="14188" y="9039"/>
                  <a:pt x="14187" y="9043"/>
                </a:cubicBezTo>
                <a:cubicBezTo>
                  <a:pt x="14162" y="8986"/>
                  <a:pt x="14150" y="8929"/>
                  <a:pt x="14144" y="8866"/>
                </a:cubicBezTo>
                <a:cubicBezTo>
                  <a:pt x="14135" y="8769"/>
                  <a:pt x="14144" y="8672"/>
                  <a:pt x="14167" y="8577"/>
                </a:cubicBezTo>
                <a:cubicBezTo>
                  <a:pt x="14182" y="8514"/>
                  <a:pt x="14204" y="8432"/>
                  <a:pt x="14257" y="8389"/>
                </a:cubicBezTo>
                <a:cubicBezTo>
                  <a:pt x="14265" y="8385"/>
                  <a:pt x="14273" y="8382"/>
                  <a:pt x="14281" y="8378"/>
                </a:cubicBezTo>
                <a:cubicBezTo>
                  <a:pt x="14324" y="8401"/>
                  <a:pt x="14333" y="8439"/>
                  <a:pt x="14338" y="8489"/>
                </a:cubicBezTo>
                <a:cubicBezTo>
                  <a:pt x="14345" y="8560"/>
                  <a:pt x="14329" y="8633"/>
                  <a:pt x="14300" y="8698"/>
                </a:cubicBezTo>
                <a:cubicBezTo>
                  <a:pt x="14285" y="8732"/>
                  <a:pt x="14248" y="8803"/>
                  <a:pt x="14206" y="8811"/>
                </a:cubicBezTo>
                <a:cubicBezTo>
                  <a:pt x="14176" y="8817"/>
                  <a:pt x="14227" y="8778"/>
                  <a:pt x="14238" y="8768"/>
                </a:cubicBezTo>
              </a:path>
              <a:path w="20914" h="4664">
                <a:moveTo>
                  <a:pt x="14434" y="8791"/>
                </a:moveTo>
                <a:cubicBezTo>
                  <a:pt x="14442" y="8844"/>
                  <a:pt x="14446" y="8895"/>
                  <a:pt x="14450" y="8948"/>
                </a:cubicBezTo>
                <a:cubicBezTo>
                  <a:pt x="14452" y="8974"/>
                  <a:pt x="14454" y="8997"/>
                  <a:pt x="14455" y="9023"/>
                </a:cubicBezTo>
                <a:cubicBezTo>
                  <a:pt x="14449" y="8977"/>
                  <a:pt x="14446" y="8931"/>
                  <a:pt x="14452" y="8884"/>
                </a:cubicBezTo>
                <a:cubicBezTo>
                  <a:pt x="14458" y="8838"/>
                  <a:pt x="14475" y="8780"/>
                  <a:pt x="14513" y="8750"/>
                </a:cubicBezTo>
                <a:cubicBezTo>
                  <a:pt x="14552" y="8719"/>
                  <a:pt x="14614" y="8718"/>
                  <a:pt x="14661" y="8712"/>
                </a:cubicBezTo>
              </a:path>
              <a:path w="20914" h="4664">
                <a:moveTo>
                  <a:pt x="14962" y="8332"/>
                </a:moveTo>
                <a:cubicBezTo>
                  <a:pt x="14948" y="8323"/>
                  <a:pt x="14941" y="8342"/>
                  <a:pt x="14921" y="8385"/>
                </a:cubicBezTo>
                <a:cubicBezTo>
                  <a:pt x="14879" y="8475"/>
                  <a:pt x="14834" y="8564"/>
                  <a:pt x="14799" y="8657"/>
                </a:cubicBezTo>
                <a:cubicBezTo>
                  <a:pt x="14761" y="8758"/>
                  <a:pt x="14735" y="8860"/>
                  <a:pt x="14747" y="8969"/>
                </a:cubicBezTo>
                <a:cubicBezTo>
                  <a:pt x="14756" y="9049"/>
                  <a:pt x="14795" y="9072"/>
                  <a:pt x="14863" y="9099"/>
                </a:cubicBezTo>
              </a:path>
              <a:path w="20914" h="4664">
                <a:moveTo>
                  <a:pt x="15165" y="8563"/>
                </a:moveTo>
                <a:cubicBezTo>
                  <a:pt x="15161" y="8537"/>
                  <a:pt x="15160" y="8510"/>
                  <a:pt x="15151" y="8485"/>
                </a:cubicBezTo>
                <a:cubicBezTo>
                  <a:pt x="15151" y="8475"/>
                  <a:pt x="15150" y="8471"/>
                  <a:pt x="15143" y="8466"/>
                </a:cubicBezTo>
                <a:cubicBezTo>
                  <a:pt x="15136" y="8498"/>
                  <a:pt x="15143" y="8530"/>
                  <a:pt x="15150" y="8563"/>
                </a:cubicBezTo>
                <a:cubicBezTo>
                  <a:pt x="15167" y="8637"/>
                  <a:pt x="15192" y="8711"/>
                  <a:pt x="15219" y="8782"/>
                </a:cubicBezTo>
                <a:cubicBezTo>
                  <a:pt x="15241" y="8841"/>
                  <a:pt x="15263" y="8912"/>
                  <a:pt x="15306" y="8960"/>
                </a:cubicBezTo>
                <a:cubicBezTo>
                  <a:pt x="15324" y="8974"/>
                  <a:pt x="15327" y="8979"/>
                  <a:pt x="15342" y="8977"/>
                </a:cubicBezTo>
              </a:path>
              <a:path w="20914" h="4664">
                <a:moveTo>
                  <a:pt x="15493" y="8480"/>
                </a:moveTo>
                <a:cubicBezTo>
                  <a:pt x="15450" y="8476"/>
                  <a:pt x="15409" y="8515"/>
                  <a:pt x="15381" y="8551"/>
                </a:cubicBezTo>
                <a:cubicBezTo>
                  <a:pt x="15314" y="8637"/>
                  <a:pt x="15263" y="8739"/>
                  <a:pt x="15217" y="8837"/>
                </a:cubicBezTo>
                <a:cubicBezTo>
                  <a:pt x="15184" y="8908"/>
                  <a:pt x="15139" y="8998"/>
                  <a:pt x="15134" y="9077"/>
                </a:cubicBezTo>
                <a:cubicBezTo>
                  <a:pt x="15131" y="9125"/>
                  <a:pt x="15147" y="9100"/>
                  <a:pt x="15171" y="9105"/>
                </a:cubicBezTo>
              </a:path>
              <a:path w="20914" h="4664">
                <a:moveTo>
                  <a:pt x="15767" y="8542"/>
                </a:moveTo>
                <a:cubicBezTo>
                  <a:pt x="15762" y="8530"/>
                  <a:pt x="15760" y="8526"/>
                  <a:pt x="15750" y="8524"/>
                </a:cubicBezTo>
                <a:cubicBezTo>
                  <a:pt x="15713" y="8537"/>
                  <a:pt x="15692" y="8569"/>
                  <a:pt x="15672" y="8604"/>
                </a:cubicBezTo>
                <a:cubicBezTo>
                  <a:pt x="15636" y="8667"/>
                  <a:pt x="15615" y="8742"/>
                  <a:pt x="15611" y="8814"/>
                </a:cubicBezTo>
                <a:cubicBezTo>
                  <a:pt x="15608" y="8865"/>
                  <a:pt x="15602" y="8940"/>
                  <a:pt x="15646" y="8978"/>
                </a:cubicBezTo>
                <a:cubicBezTo>
                  <a:pt x="15654" y="8981"/>
                  <a:pt x="15661" y="8985"/>
                  <a:pt x="15669" y="8988"/>
                </a:cubicBezTo>
              </a:path>
              <a:path w="20914" h="4664">
                <a:moveTo>
                  <a:pt x="15862" y="8696"/>
                </a:moveTo>
                <a:cubicBezTo>
                  <a:pt x="15834" y="8686"/>
                  <a:pt x="15805" y="8687"/>
                  <a:pt x="15777" y="8701"/>
                </a:cubicBezTo>
                <a:cubicBezTo>
                  <a:pt x="15759" y="8710"/>
                  <a:pt x="15729" y="8736"/>
                  <a:pt x="15732" y="8760"/>
                </a:cubicBezTo>
                <a:cubicBezTo>
                  <a:pt x="15735" y="8784"/>
                  <a:pt x="15779" y="8795"/>
                  <a:pt x="15796" y="8803"/>
                </a:cubicBezTo>
                <a:cubicBezTo>
                  <a:pt x="15830" y="8819"/>
                  <a:pt x="15865" y="8836"/>
                  <a:pt x="15885" y="8869"/>
                </a:cubicBezTo>
                <a:cubicBezTo>
                  <a:pt x="15906" y="8903"/>
                  <a:pt x="15904" y="8952"/>
                  <a:pt x="15879" y="8984"/>
                </a:cubicBezTo>
                <a:cubicBezTo>
                  <a:pt x="15869" y="8996"/>
                  <a:pt x="15836" y="9014"/>
                  <a:pt x="15823" y="8996"/>
                </a:cubicBezTo>
                <a:cubicBezTo>
                  <a:pt x="15809" y="8977"/>
                  <a:pt x="15818" y="8940"/>
                  <a:pt x="15819" y="8919"/>
                </a:cubicBezTo>
              </a:path>
              <a:path w="20914" h="4664">
                <a:moveTo>
                  <a:pt x="15995" y="8505"/>
                </a:moveTo>
                <a:cubicBezTo>
                  <a:pt x="16031" y="8503"/>
                  <a:pt x="16023" y="8545"/>
                  <a:pt x="16029" y="8577"/>
                </a:cubicBezTo>
                <a:cubicBezTo>
                  <a:pt x="16042" y="8651"/>
                  <a:pt x="16055" y="8725"/>
                  <a:pt x="16058" y="8800"/>
                </a:cubicBezTo>
                <a:cubicBezTo>
                  <a:pt x="16061" y="8861"/>
                  <a:pt x="16064" y="8920"/>
                  <a:pt x="16066" y="8981"/>
                </a:cubicBezTo>
                <a:cubicBezTo>
                  <a:pt x="16066" y="8988"/>
                  <a:pt x="16067" y="8994"/>
                  <a:pt x="16067" y="9001"/>
                </a:cubicBezTo>
              </a:path>
              <a:path w="20914" h="4664">
                <a:moveTo>
                  <a:pt x="16350" y="8619"/>
                </a:moveTo>
                <a:cubicBezTo>
                  <a:pt x="16378" y="8615"/>
                  <a:pt x="16398" y="8612"/>
                  <a:pt x="16427" y="8618"/>
                </a:cubicBezTo>
                <a:cubicBezTo>
                  <a:pt x="16460" y="8625"/>
                  <a:pt x="16494" y="8633"/>
                  <a:pt x="16526" y="8644"/>
                </a:cubicBezTo>
              </a:path>
              <a:path w="20914" h="4664">
                <a:moveTo>
                  <a:pt x="16436" y="8767"/>
                </a:moveTo>
                <a:cubicBezTo>
                  <a:pt x="16424" y="8778"/>
                  <a:pt x="16421" y="8780"/>
                  <a:pt x="16412" y="8786"/>
                </a:cubicBezTo>
                <a:cubicBezTo>
                  <a:pt x="16448" y="8787"/>
                  <a:pt x="16486" y="8784"/>
                  <a:pt x="16522" y="8787"/>
                </a:cubicBezTo>
                <a:cubicBezTo>
                  <a:pt x="16576" y="8792"/>
                  <a:pt x="16627" y="8811"/>
                  <a:pt x="16678" y="8828"/>
                </a:cubicBezTo>
              </a:path>
              <a:path w="20914" h="4664">
                <a:moveTo>
                  <a:pt x="17394" y="8425"/>
                </a:moveTo>
                <a:cubicBezTo>
                  <a:pt x="17365" y="8405"/>
                  <a:pt x="17337" y="8389"/>
                  <a:pt x="17305" y="8374"/>
                </a:cubicBezTo>
                <a:cubicBezTo>
                  <a:pt x="17337" y="8420"/>
                  <a:pt x="17380" y="8457"/>
                  <a:pt x="17415" y="8501"/>
                </a:cubicBezTo>
                <a:cubicBezTo>
                  <a:pt x="17481" y="8584"/>
                  <a:pt x="17535" y="8677"/>
                  <a:pt x="17563" y="8780"/>
                </a:cubicBezTo>
                <a:cubicBezTo>
                  <a:pt x="17586" y="8865"/>
                  <a:pt x="17592" y="8966"/>
                  <a:pt x="17561" y="9051"/>
                </a:cubicBezTo>
                <a:cubicBezTo>
                  <a:pt x="17542" y="9102"/>
                  <a:pt x="17508" y="9122"/>
                  <a:pt x="17460" y="9134"/>
                </a:cubicBezTo>
              </a:path>
              <a:path w="20914" h="4664">
                <a:moveTo>
                  <a:pt x="18109" y="8833"/>
                </a:moveTo>
                <a:cubicBezTo>
                  <a:pt x="18073" y="8829"/>
                  <a:pt x="18042" y="8816"/>
                  <a:pt x="18015" y="8790"/>
                </a:cubicBezTo>
                <a:cubicBezTo>
                  <a:pt x="17997" y="8773"/>
                  <a:pt x="17977" y="8747"/>
                  <a:pt x="17971" y="8723"/>
                </a:cubicBezTo>
                <a:cubicBezTo>
                  <a:pt x="17965" y="8695"/>
                  <a:pt x="17998" y="8706"/>
                  <a:pt x="18013" y="8710"/>
                </a:cubicBezTo>
                <a:cubicBezTo>
                  <a:pt x="18019" y="8712"/>
                  <a:pt x="18025" y="8714"/>
                  <a:pt x="18031" y="8716"/>
                </a:cubicBezTo>
              </a:path>
              <a:path w="20914" h="4664">
                <a:moveTo>
                  <a:pt x="16949" y="8435"/>
                </a:moveTo>
                <a:cubicBezTo>
                  <a:pt x="16938" y="8481"/>
                  <a:pt x="16936" y="8524"/>
                  <a:pt x="16937" y="8571"/>
                </a:cubicBezTo>
                <a:cubicBezTo>
                  <a:pt x="16939" y="8657"/>
                  <a:pt x="16946" y="8744"/>
                  <a:pt x="16961" y="8828"/>
                </a:cubicBezTo>
                <a:cubicBezTo>
                  <a:pt x="16972" y="8890"/>
                  <a:pt x="16980" y="8957"/>
                  <a:pt x="17005" y="9016"/>
                </a:cubicBezTo>
                <a:cubicBezTo>
                  <a:pt x="17013" y="9031"/>
                  <a:pt x="17013" y="9035"/>
                  <a:pt x="17024" y="9038"/>
                </a:cubicBezTo>
              </a:path>
              <a:path w="20914" h="4664">
                <a:moveTo>
                  <a:pt x="17209" y="8494"/>
                </a:moveTo>
                <a:cubicBezTo>
                  <a:pt x="17242" y="8505"/>
                  <a:pt x="17208" y="8538"/>
                  <a:pt x="17191" y="8566"/>
                </a:cubicBezTo>
                <a:cubicBezTo>
                  <a:pt x="17158" y="8621"/>
                  <a:pt x="17117" y="8670"/>
                  <a:pt x="17078" y="8721"/>
                </a:cubicBezTo>
                <a:cubicBezTo>
                  <a:pt x="17056" y="8750"/>
                  <a:pt x="17013" y="8792"/>
                  <a:pt x="17016" y="8832"/>
                </a:cubicBezTo>
                <a:cubicBezTo>
                  <a:pt x="17019" y="8864"/>
                  <a:pt x="17070" y="8866"/>
                  <a:pt x="17093" y="8868"/>
                </a:cubicBezTo>
                <a:cubicBezTo>
                  <a:pt x="17139" y="8872"/>
                  <a:pt x="17183" y="8872"/>
                  <a:pt x="17229" y="8877"/>
                </a:cubicBezTo>
                <a:cubicBezTo>
                  <a:pt x="17239" y="8878"/>
                  <a:pt x="17249" y="8879"/>
                  <a:pt x="17259" y="8880"/>
                </a:cubicBezTo>
              </a:path>
              <a:path w="20914" h="4664">
                <a:moveTo>
                  <a:pt x="18048" y="8534"/>
                </a:moveTo>
                <a:cubicBezTo>
                  <a:pt x="18045" y="8508"/>
                  <a:pt x="18039" y="8490"/>
                  <a:pt x="18026" y="8467"/>
                </a:cubicBezTo>
                <a:cubicBezTo>
                  <a:pt x="18013" y="8499"/>
                  <a:pt x="18014" y="8531"/>
                  <a:pt x="18015" y="8566"/>
                </a:cubicBezTo>
                <a:cubicBezTo>
                  <a:pt x="18018" y="8643"/>
                  <a:pt x="18031" y="8721"/>
                  <a:pt x="18044" y="8797"/>
                </a:cubicBezTo>
                <a:cubicBezTo>
                  <a:pt x="18056" y="8867"/>
                  <a:pt x="18067" y="8941"/>
                  <a:pt x="18088" y="9009"/>
                </a:cubicBezTo>
                <a:cubicBezTo>
                  <a:pt x="18100" y="9049"/>
                  <a:pt x="18109" y="9075"/>
                  <a:pt x="18128" y="9031"/>
                </a:cubicBezTo>
              </a:path>
              <a:path w="20914" h="4664">
                <a:moveTo>
                  <a:pt x="18279" y="8583"/>
                </a:moveTo>
                <a:cubicBezTo>
                  <a:pt x="18285" y="8579"/>
                  <a:pt x="18290" y="8574"/>
                  <a:pt x="18296" y="8570"/>
                </a:cubicBezTo>
                <a:cubicBezTo>
                  <a:pt x="18292" y="8601"/>
                  <a:pt x="18276" y="8621"/>
                  <a:pt x="18258" y="8647"/>
                </a:cubicBezTo>
                <a:cubicBezTo>
                  <a:pt x="18219" y="8703"/>
                  <a:pt x="18165" y="8751"/>
                  <a:pt x="18131" y="8810"/>
                </a:cubicBezTo>
                <a:cubicBezTo>
                  <a:pt x="18116" y="8836"/>
                  <a:pt x="18127" y="8858"/>
                  <a:pt x="18150" y="8876"/>
                </a:cubicBezTo>
                <a:cubicBezTo>
                  <a:pt x="18180" y="8900"/>
                  <a:pt x="18223" y="8922"/>
                  <a:pt x="18258" y="8938"/>
                </a:cubicBezTo>
                <a:cubicBezTo>
                  <a:pt x="18294" y="8954"/>
                  <a:pt x="18336" y="8971"/>
                  <a:pt x="18374" y="8976"/>
                </a:cubicBezTo>
                <a:cubicBezTo>
                  <a:pt x="18396" y="8979"/>
                  <a:pt x="18406" y="8976"/>
                  <a:pt x="18423" y="8966"/>
                </a:cubicBezTo>
              </a:path>
              <a:path w="20914" h="4664">
                <a:moveTo>
                  <a:pt x="18587" y="9035"/>
                </a:moveTo>
                <a:cubicBezTo>
                  <a:pt x="18595" y="9017"/>
                  <a:pt x="18599" y="9002"/>
                  <a:pt x="18578" y="8990"/>
                </a:cubicBezTo>
                <a:cubicBezTo>
                  <a:pt x="18568" y="8988"/>
                  <a:pt x="18564" y="8987"/>
                  <a:pt x="18558" y="8982"/>
                </a:cubicBezTo>
              </a:path>
              <a:path w="20914" h="4664">
                <a:moveTo>
                  <a:pt x="12424" y="9586"/>
                </a:moveTo>
                <a:cubicBezTo>
                  <a:pt x="12398" y="9552"/>
                  <a:pt x="12390" y="9561"/>
                  <a:pt x="12359" y="9583"/>
                </a:cubicBezTo>
                <a:cubicBezTo>
                  <a:pt x="12312" y="9616"/>
                  <a:pt x="12280" y="9668"/>
                  <a:pt x="12254" y="9719"/>
                </a:cubicBezTo>
                <a:cubicBezTo>
                  <a:pt x="12230" y="9767"/>
                  <a:pt x="12204" y="9826"/>
                  <a:pt x="12213" y="9882"/>
                </a:cubicBezTo>
                <a:cubicBezTo>
                  <a:pt x="12220" y="9924"/>
                  <a:pt x="12262" y="9906"/>
                  <a:pt x="12285" y="9890"/>
                </a:cubicBezTo>
                <a:cubicBezTo>
                  <a:pt x="12329" y="9858"/>
                  <a:pt x="12360" y="9808"/>
                  <a:pt x="12388" y="9762"/>
                </a:cubicBezTo>
                <a:cubicBezTo>
                  <a:pt x="12407" y="9732"/>
                  <a:pt x="12421" y="9701"/>
                  <a:pt x="12446" y="9676"/>
                </a:cubicBezTo>
                <a:cubicBezTo>
                  <a:pt x="12456" y="9711"/>
                  <a:pt x="12455" y="9745"/>
                  <a:pt x="12454" y="9782"/>
                </a:cubicBezTo>
                <a:cubicBezTo>
                  <a:pt x="12453" y="9817"/>
                  <a:pt x="12453" y="9841"/>
                  <a:pt x="12477" y="9864"/>
                </a:cubicBezTo>
              </a:path>
              <a:path w="20914" h="4664">
                <a:moveTo>
                  <a:pt x="12558" y="9428"/>
                </a:moveTo>
                <a:cubicBezTo>
                  <a:pt x="12558" y="9422"/>
                  <a:pt x="12559" y="9415"/>
                  <a:pt x="12559" y="9409"/>
                </a:cubicBezTo>
                <a:cubicBezTo>
                  <a:pt x="12564" y="9461"/>
                  <a:pt x="12561" y="9515"/>
                  <a:pt x="12563" y="9568"/>
                </a:cubicBezTo>
                <a:cubicBezTo>
                  <a:pt x="12566" y="9653"/>
                  <a:pt x="12566" y="9743"/>
                  <a:pt x="12583" y="9826"/>
                </a:cubicBezTo>
                <a:cubicBezTo>
                  <a:pt x="12590" y="9860"/>
                  <a:pt x="12597" y="9882"/>
                  <a:pt x="12617" y="9907"/>
                </a:cubicBezTo>
              </a:path>
              <a:path w="20914" h="4664">
                <a:moveTo>
                  <a:pt x="12741" y="9542"/>
                </a:moveTo>
                <a:cubicBezTo>
                  <a:pt x="12748" y="9507"/>
                  <a:pt x="12749" y="9499"/>
                  <a:pt x="12755" y="9478"/>
                </a:cubicBezTo>
                <a:cubicBezTo>
                  <a:pt x="12750" y="9548"/>
                  <a:pt x="12743" y="9615"/>
                  <a:pt x="12744" y="9686"/>
                </a:cubicBezTo>
                <a:cubicBezTo>
                  <a:pt x="12744" y="9751"/>
                  <a:pt x="12747" y="9818"/>
                  <a:pt x="12763" y="9882"/>
                </a:cubicBezTo>
                <a:cubicBezTo>
                  <a:pt x="12766" y="9889"/>
                  <a:pt x="12768" y="9897"/>
                  <a:pt x="12771" y="9904"/>
                </a:cubicBezTo>
              </a:path>
              <a:path w="20914" h="4664">
                <a:moveTo>
                  <a:pt x="13274" y="9672"/>
                </a:moveTo>
                <a:cubicBezTo>
                  <a:pt x="13254" y="9645"/>
                  <a:pt x="13260" y="9641"/>
                  <a:pt x="13262" y="9668"/>
                </a:cubicBezTo>
                <a:cubicBezTo>
                  <a:pt x="13261" y="9655"/>
                  <a:pt x="13261" y="9651"/>
                  <a:pt x="13255" y="9640"/>
                </a:cubicBezTo>
                <a:cubicBezTo>
                  <a:pt x="13251" y="9665"/>
                  <a:pt x="13255" y="9690"/>
                  <a:pt x="13259" y="9716"/>
                </a:cubicBezTo>
                <a:cubicBezTo>
                  <a:pt x="13265" y="9758"/>
                  <a:pt x="13274" y="9800"/>
                  <a:pt x="13286" y="9840"/>
                </a:cubicBezTo>
                <a:cubicBezTo>
                  <a:pt x="13295" y="9869"/>
                  <a:pt x="13309" y="9915"/>
                  <a:pt x="13335" y="9931"/>
                </a:cubicBezTo>
                <a:cubicBezTo>
                  <a:pt x="13350" y="9909"/>
                  <a:pt x="13362" y="9885"/>
                  <a:pt x="13370" y="9859"/>
                </a:cubicBezTo>
                <a:cubicBezTo>
                  <a:pt x="13384" y="9810"/>
                  <a:pt x="13398" y="9761"/>
                  <a:pt x="13411" y="9712"/>
                </a:cubicBezTo>
                <a:cubicBezTo>
                  <a:pt x="13421" y="9674"/>
                  <a:pt x="13427" y="9631"/>
                  <a:pt x="13440" y="9595"/>
                </a:cubicBezTo>
                <a:cubicBezTo>
                  <a:pt x="13447" y="9575"/>
                  <a:pt x="13456" y="9584"/>
                  <a:pt x="13466" y="9592"/>
                </a:cubicBezTo>
              </a:path>
              <a:path w="20914" h="4664">
                <a:moveTo>
                  <a:pt x="13575" y="9582"/>
                </a:moveTo>
                <a:cubicBezTo>
                  <a:pt x="13543" y="9581"/>
                  <a:pt x="13540" y="9600"/>
                  <a:pt x="13523" y="9625"/>
                </a:cubicBezTo>
                <a:cubicBezTo>
                  <a:pt x="13497" y="9665"/>
                  <a:pt x="13486" y="9710"/>
                  <a:pt x="13488" y="9759"/>
                </a:cubicBezTo>
                <a:cubicBezTo>
                  <a:pt x="13489" y="9784"/>
                  <a:pt x="13495" y="9833"/>
                  <a:pt x="13532" y="9829"/>
                </a:cubicBezTo>
                <a:cubicBezTo>
                  <a:pt x="13565" y="9825"/>
                  <a:pt x="13594" y="9786"/>
                  <a:pt x="13613" y="9762"/>
                </a:cubicBezTo>
                <a:cubicBezTo>
                  <a:pt x="13624" y="9748"/>
                  <a:pt x="13644" y="9706"/>
                  <a:pt x="13668" y="9709"/>
                </a:cubicBezTo>
                <a:cubicBezTo>
                  <a:pt x="13688" y="9712"/>
                  <a:pt x="13694" y="9752"/>
                  <a:pt x="13699" y="9766"/>
                </a:cubicBezTo>
                <a:cubicBezTo>
                  <a:pt x="13707" y="9789"/>
                  <a:pt x="13712" y="9794"/>
                  <a:pt x="13730" y="9807"/>
                </a:cubicBezTo>
              </a:path>
              <a:path w="20914" h="4664">
                <a:moveTo>
                  <a:pt x="13794" y="9431"/>
                </a:moveTo>
                <a:cubicBezTo>
                  <a:pt x="13766" y="9459"/>
                  <a:pt x="13775" y="9497"/>
                  <a:pt x="13774" y="9536"/>
                </a:cubicBezTo>
                <a:cubicBezTo>
                  <a:pt x="13771" y="9629"/>
                  <a:pt x="13779" y="9719"/>
                  <a:pt x="13795" y="9810"/>
                </a:cubicBezTo>
                <a:cubicBezTo>
                  <a:pt x="13803" y="9846"/>
                  <a:pt x="13804" y="9854"/>
                  <a:pt x="13811" y="9876"/>
                </a:cubicBezTo>
              </a:path>
              <a:path w="20914" h="4664">
                <a:moveTo>
                  <a:pt x="13967" y="9649"/>
                </a:moveTo>
                <a:cubicBezTo>
                  <a:pt x="13977" y="9678"/>
                  <a:pt x="13979" y="9709"/>
                  <a:pt x="13977" y="9742"/>
                </a:cubicBezTo>
                <a:cubicBezTo>
                  <a:pt x="13975" y="9779"/>
                  <a:pt x="13977" y="9812"/>
                  <a:pt x="13982" y="9849"/>
                </a:cubicBezTo>
                <a:cubicBezTo>
                  <a:pt x="13983" y="9854"/>
                  <a:pt x="13983" y="9858"/>
                  <a:pt x="13984" y="9863"/>
                </a:cubicBezTo>
                <a:cubicBezTo>
                  <a:pt x="14011" y="9859"/>
                  <a:pt x="14015" y="9830"/>
                  <a:pt x="14024" y="9803"/>
                </a:cubicBezTo>
                <a:cubicBezTo>
                  <a:pt x="14037" y="9763"/>
                  <a:pt x="14047" y="9721"/>
                  <a:pt x="14068" y="9684"/>
                </a:cubicBezTo>
                <a:cubicBezTo>
                  <a:pt x="14077" y="9672"/>
                  <a:pt x="14079" y="9667"/>
                  <a:pt x="14089" y="9677"/>
                </a:cubicBezTo>
                <a:cubicBezTo>
                  <a:pt x="14094" y="9715"/>
                  <a:pt x="14098" y="9756"/>
                  <a:pt x="14099" y="9795"/>
                </a:cubicBezTo>
                <a:cubicBezTo>
                  <a:pt x="14100" y="9826"/>
                  <a:pt x="14093" y="9851"/>
                  <a:pt x="14121" y="9866"/>
                </a:cubicBezTo>
              </a:path>
              <a:path w="20914" h="4664">
                <a:moveTo>
                  <a:pt x="14257" y="9695"/>
                </a:moveTo>
                <a:cubicBezTo>
                  <a:pt x="14277" y="9684"/>
                  <a:pt x="14297" y="9685"/>
                  <a:pt x="14319" y="9680"/>
                </a:cubicBezTo>
                <a:cubicBezTo>
                  <a:pt x="14340" y="9675"/>
                  <a:pt x="14368" y="9672"/>
                  <a:pt x="14387" y="9661"/>
                </a:cubicBezTo>
                <a:cubicBezTo>
                  <a:pt x="14396" y="9653"/>
                  <a:pt x="14400" y="9649"/>
                  <a:pt x="14401" y="9640"/>
                </a:cubicBezTo>
                <a:cubicBezTo>
                  <a:pt x="14369" y="9637"/>
                  <a:pt x="14351" y="9651"/>
                  <a:pt x="14325" y="9672"/>
                </a:cubicBezTo>
                <a:cubicBezTo>
                  <a:pt x="14285" y="9704"/>
                  <a:pt x="14249" y="9737"/>
                  <a:pt x="14222" y="9782"/>
                </a:cubicBezTo>
                <a:cubicBezTo>
                  <a:pt x="14205" y="9810"/>
                  <a:pt x="14203" y="9820"/>
                  <a:pt x="14209" y="9849"/>
                </a:cubicBezTo>
                <a:cubicBezTo>
                  <a:pt x="14250" y="9853"/>
                  <a:pt x="14285" y="9845"/>
                  <a:pt x="14325" y="9836"/>
                </a:cubicBezTo>
                <a:cubicBezTo>
                  <a:pt x="14341" y="9833"/>
                  <a:pt x="14356" y="9829"/>
                  <a:pt x="14372" y="9826"/>
                </a:cubicBezTo>
              </a:path>
              <a:path w="20914" h="4664">
                <a:moveTo>
                  <a:pt x="14638" y="9668"/>
                </a:moveTo>
                <a:cubicBezTo>
                  <a:pt x="14625" y="9647"/>
                  <a:pt x="14609" y="9627"/>
                  <a:pt x="14598" y="9605"/>
                </a:cubicBezTo>
                <a:cubicBezTo>
                  <a:pt x="14590" y="9586"/>
                  <a:pt x="14587" y="9580"/>
                  <a:pt x="14599" y="9569"/>
                </a:cubicBezTo>
                <a:cubicBezTo>
                  <a:pt x="14630" y="9570"/>
                  <a:pt x="14656" y="9577"/>
                  <a:pt x="14680" y="9600"/>
                </a:cubicBezTo>
                <a:cubicBezTo>
                  <a:pt x="14750" y="9667"/>
                  <a:pt x="14745" y="9782"/>
                  <a:pt x="14701" y="9862"/>
                </a:cubicBezTo>
                <a:cubicBezTo>
                  <a:pt x="14681" y="9898"/>
                  <a:pt x="14657" y="9920"/>
                  <a:pt x="14619" y="9933"/>
                </a:cubicBezTo>
                <a:cubicBezTo>
                  <a:pt x="14600" y="9940"/>
                  <a:pt x="14580" y="9932"/>
                  <a:pt x="14568" y="9916"/>
                </a:cubicBezTo>
                <a:cubicBezTo>
                  <a:pt x="14567" y="9913"/>
                  <a:pt x="14565" y="9909"/>
                  <a:pt x="14564" y="9906"/>
                </a:cubicBezTo>
              </a:path>
              <a:path w="20914" h="4664">
                <a:moveTo>
                  <a:pt x="22372" y="9077"/>
                </a:moveTo>
                <a:cubicBezTo>
                  <a:pt x="22367" y="9064"/>
                  <a:pt x="22361" y="9051"/>
                  <a:pt x="22356" y="9038"/>
                </a:cubicBezTo>
                <a:cubicBezTo>
                  <a:pt x="22351" y="9076"/>
                  <a:pt x="22344" y="9113"/>
                  <a:pt x="22336" y="9150"/>
                </a:cubicBezTo>
                <a:cubicBezTo>
                  <a:pt x="22322" y="9219"/>
                  <a:pt x="22301" y="9285"/>
                  <a:pt x="22281" y="9352"/>
                </a:cubicBezTo>
                <a:cubicBezTo>
                  <a:pt x="22264" y="9409"/>
                  <a:pt x="22244" y="9465"/>
                  <a:pt x="22234" y="9524"/>
                </a:cubicBezTo>
                <a:cubicBezTo>
                  <a:pt x="22229" y="9551"/>
                  <a:pt x="22231" y="9576"/>
                  <a:pt x="22264" y="9576"/>
                </a:cubicBezTo>
                <a:cubicBezTo>
                  <a:pt x="22302" y="9576"/>
                  <a:pt x="22343" y="9550"/>
                  <a:pt x="22377" y="9536"/>
                </a:cubicBezTo>
                <a:cubicBezTo>
                  <a:pt x="22433" y="9512"/>
                  <a:pt x="22491" y="9492"/>
                  <a:pt x="22546" y="9466"/>
                </a:cubicBezTo>
                <a:cubicBezTo>
                  <a:pt x="22568" y="9456"/>
                  <a:pt x="22591" y="9441"/>
                  <a:pt x="22596" y="9416"/>
                </a:cubicBezTo>
                <a:cubicBezTo>
                  <a:pt x="22589" y="9401"/>
                  <a:pt x="22586" y="9395"/>
                  <a:pt x="22578" y="9386"/>
                </a:cubicBezTo>
              </a:path>
              <a:path w="20914" h="4664">
                <a:moveTo>
                  <a:pt x="22356" y="9365"/>
                </a:moveTo>
                <a:cubicBezTo>
                  <a:pt x="22390" y="9375"/>
                  <a:pt x="22430" y="9372"/>
                  <a:pt x="22465" y="9360"/>
                </a:cubicBezTo>
                <a:cubicBezTo>
                  <a:pt x="22495" y="9350"/>
                  <a:pt x="22554" y="9329"/>
                  <a:pt x="22575" y="9304"/>
                </a:cubicBezTo>
                <a:cubicBezTo>
                  <a:pt x="22593" y="9283"/>
                  <a:pt x="22578" y="9269"/>
                  <a:pt x="22568" y="9252"/>
                </a:cubicBezTo>
              </a:path>
              <a:path w="20914" h="4664">
                <a:moveTo>
                  <a:pt x="22347" y="9178"/>
                </a:moveTo>
                <a:cubicBezTo>
                  <a:pt x="22350" y="9152"/>
                  <a:pt x="22376" y="9129"/>
                  <a:pt x="22401" y="9115"/>
                </a:cubicBezTo>
                <a:cubicBezTo>
                  <a:pt x="22446" y="9089"/>
                  <a:pt x="22508" y="9061"/>
                  <a:pt x="22558" y="9047"/>
                </a:cubicBezTo>
                <a:cubicBezTo>
                  <a:pt x="22589" y="9038"/>
                  <a:pt x="22622" y="9040"/>
                  <a:pt x="22653" y="9040"/>
                </a:cubicBezTo>
              </a:path>
              <a:path w="20914" h="4664">
                <a:moveTo>
                  <a:pt x="23006" y="9274"/>
                </a:moveTo>
                <a:cubicBezTo>
                  <a:pt x="23008" y="9252"/>
                  <a:pt x="23010" y="9235"/>
                  <a:pt x="23007" y="9213"/>
                </a:cubicBezTo>
                <a:cubicBezTo>
                  <a:pt x="23003" y="9187"/>
                  <a:pt x="22987" y="9159"/>
                  <a:pt x="22974" y="9137"/>
                </a:cubicBezTo>
                <a:cubicBezTo>
                  <a:pt x="22956" y="9107"/>
                  <a:pt x="22935" y="9077"/>
                  <a:pt x="22909" y="9052"/>
                </a:cubicBezTo>
                <a:cubicBezTo>
                  <a:pt x="22885" y="9029"/>
                  <a:pt x="22870" y="9037"/>
                  <a:pt x="22855" y="9064"/>
                </a:cubicBezTo>
                <a:cubicBezTo>
                  <a:pt x="22827" y="9115"/>
                  <a:pt x="22823" y="9180"/>
                  <a:pt x="22817" y="9237"/>
                </a:cubicBezTo>
                <a:cubicBezTo>
                  <a:pt x="22807" y="9323"/>
                  <a:pt x="22803" y="9407"/>
                  <a:pt x="22807" y="9494"/>
                </a:cubicBezTo>
                <a:cubicBezTo>
                  <a:pt x="22808" y="9519"/>
                  <a:pt x="22809" y="9556"/>
                  <a:pt x="22821" y="9579"/>
                </a:cubicBezTo>
                <a:cubicBezTo>
                  <a:pt x="22830" y="9597"/>
                  <a:pt x="22865" y="9586"/>
                  <a:pt x="22879" y="9583"/>
                </a:cubicBezTo>
                <a:cubicBezTo>
                  <a:pt x="22913" y="9575"/>
                  <a:pt x="22948" y="9565"/>
                  <a:pt x="22979" y="9550"/>
                </a:cubicBezTo>
                <a:cubicBezTo>
                  <a:pt x="23013" y="9533"/>
                  <a:pt x="23041" y="9518"/>
                  <a:pt x="23067" y="9491"/>
                </a:cubicBezTo>
              </a:path>
              <a:path w="20914" h="4664">
                <a:moveTo>
                  <a:pt x="23125" y="9204"/>
                </a:moveTo>
                <a:cubicBezTo>
                  <a:pt x="23139" y="9231"/>
                  <a:pt x="23151" y="9262"/>
                  <a:pt x="23163" y="9290"/>
                </a:cubicBezTo>
                <a:cubicBezTo>
                  <a:pt x="23183" y="9339"/>
                  <a:pt x="23199" y="9389"/>
                  <a:pt x="23226" y="9435"/>
                </a:cubicBezTo>
                <a:cubicBezTo>
                  <a:pt x="23236" y="9453"/>
                  <a:pt x="23264" y="9516"/>
                  <a:pt x="23295" y="9513"/>
                </a:cubicBezTo>
                <a:cubicBezTo>
                  <a:pt x="23301" y="9510"/>
                  <a:pt x="23307" y="9508"/>
                  <a:pt x="23313" y="9505"/>
                </a:cubicBezTo>
              </a:path>
              <a:path w="20914" h="4664">
                <a:moveTo>
                  <a:pt x="23378" y="9187"/>
                </a:moveTo>
                <a:cubicBezTo>
                  <a:pt x="23329" y="9189"/>
                  <a:pt x="23322" y="9213"/>
                  <a:pt x="23291" y="9248"/>
                </a:cubicBezTo>
                <a:cubicBezTo>
                  <a:pt x="23251" y="9294"/>
                  <a:pt x="23233" y="9344"/>
                  <a:pt x="23218" y="9403"/>
                </a:cubicBezTo>
                <a:cubicBezTo>
                  <a:pt x="23210" y="9432"/>
                  <a:pt x="23186" y="9486"/>
                  <a:pt x="23215" y="9512"/>
                </a:cubicBezTo>
                <a:cubicBezTo>
                  <a:pt x="23227" y="9514"/>
                  <a:pt x="23231" y="9514"/>
                  <a:pt x="23236" y="9505"/>
                </a:cubicBezTo>
              </a:path>
              <a:path w="20914" h="4664">
                <a:moveTo>
                  <a:pt x="20145" y="7551"/>
                </a:moveTo>
                <a:cubicBezTo>
                  <a:pt x="20105" y="7561"/>
                  <a:pt x="20078" y="7549"/>
                  <a:pt x="20025" y="7583"/>
                </a:cubicBezTo>
                <a:cubicBezTo>
                  <a:pt x="19962" y="7624"/>
                  <a:pt x="19909" y="7680"/>
                  <a:pt x="19860" y="7735"/>
                </a:cubicBezTo>
                <a:cubicBezTo>
                  <a:pt x="19798" y="7805"/>
                  <a:pt x="19744" y="7870"/>
                  <a:pt x="19812" y="7952"/>
                </a:cubicBezTo>
                <a:cubicBezTo>
                  <a:pt x="19912" y="8072"/>
                  <a:pt x="20128" y="7992"/>
                  <a:pt x="20174" y="8184"/>
                </a:cubicBezTo>
                <a:cubicBezTo>
                  <a:pt x="20207" y="8324"/>
                  <a:pt x="20133" y="8412"/>
                  <a:pt x="20251" y="8523"/>
                </a:cubicBezTo>
                <a:cubicBezTo>
                  <a:pt x="20362" y="8627"/>
                  <a:pt x="20511" y="8705"/>
                  <a:pt x="20628" y="8812"/>
                </a:cubicBezTo>
                <a:cubicBezTo>
                  <a:pt x="20870" y="9035"/>
                  <a:pt x="21233" y="9163"/>
                  <a:pt x="21527" y="9311"/>
                </a:cubicBezTo>
                <a:cubicBezTo>
                  <a:pt x="21750" y="9423"/>
                  <a:pt x="21967" y="9563"/>
                  <a:pt x="22194" y="9664"/>
                </a:cubicBezTo>
                <a:cubicBezTo>
                  <a:pt x="22447" y="9777"/>
                  <a:pt x="22714" y="9843"/>
                  <a:pt x="22965" y="9965"/>
                </a:cubicBezTo>
                <a:cubicBezTo>
                  <a:pt x="23025" y="9994"/>
                  <a:pt x="23076" y="10007"/>
                  <a:pt x="23139" y="10025"/>
                </a:cubicBezTo>
              </a:path>
              <a:path w="20914" h="4664">
                <a:moveTo>
                  <a:pt x="21344" y="10251"/>
                </a:moveTo>
                <a:cubicBezTo>
                  <a:pt x="21344" y="10293"/>
                  <a:pt x="21342" y="10341"/>
                  <a:pt x="21337" y="10385"/>
                </a:cubicBezTo>
                <a:cubicBezTo>
                  <a:pt x="21320" y="10529"/>
                  <a:pt x="21310" y="10674"/>
                  <a:pt x="21297" y="10819"/>
                </a:cubicBezTo>
                <a:cubicBezTo>
                  <a:pt x="21280" y="11018"/>
                  <a:pt x="21269" y="11218"/>
                  <a:pt x="21254" y="11418"/>
                </a:cubicBezTo>
                <a:cubicBezTo>
                  <a:pt x="21248" y="11501"/>
                  <a:pt x="21169" y="11860"/>
                  <a:pt x="21232" y="11935"/>
                </a:cubicBezTo>
                <a:cubicBezTo>
                  <a:pt x="21254" y="11961"/>
                  <a:pt x="21255" y="11878"/>
                  <a:pt x="21259" y="11844"/>
                </a:cubicBezTo>
              </a:path>
              <a:path w="20914" h="4664">
                <a:moveTo>
                  <a:pt x="21438" y="10406"/>
                </a:moveTo>
                <a:cubicBezTo>
                  <a:pt x="21426" y="10380"/>
                  <a:pt x="21411" y="10346"/>
                  <a:pt x="21373" y="10355"/>
                </a:cubicBezTo>
                <a:cubicBezTo>
                  <a:pt x="21312" y="10370"/>
                  <a:pt x="21253" y="10437"/>
                  <a:pt x="21210" y="10478"/>
                </a:cubicBezTo>
                <a:cubicBezTo>
                  <a:pt x="21150" y="10537"/>
                  <a:pt x="21092" y="10598"/>
                  <a:pt x="21041" y="10665"/>
                </a:cubicBezTo>
                <a:cubicBezTo>
                  <a:pt x="21035" y="10673"/>
                  <a:pt x="21030" y="10681"/>
                  <a:pt x="21024" y="10689"/>
                </a:cubicBezTo>
                <a:cubicBezTo>
                  <a:pt x="21074" y="10645"/>
                  <a:pt x="21118" y="10591"/>
                  <a:pt x="21164" y="10542"/>
                </a:cubicBezTo>
                <a:cubicBezTo>
                  <a:pt x="21232" y="10471"/>
                  <a:pt x="21296" y="10397"/>
                  <a:pt x="21365" y="10327"/>
                </a:cubicBezTo>
                <a:cubicBezTo>
                  <a:pt x="21398" y="10294"/>
                  <a:pt x="21410" y="10284"/>
                  <a:pt x="21452" y="10279"/>
                </a:cubicBezTo>
                <a:cubicBezTo>
                  <a:pt x="21478" y="10319"/>
                  <a:pt x="21485" y="10358"/>
                  <a:pt x="21497" y="10404"/>
                </a:cubicBezTo>
                <a:cubicBezTo>
                  <a:pt x="21514" y="10470"/>
                  <a:pt x="21532" y="10536"/>
                  <a:pt x="21546" y="10603"/>
                </a:cubicBezTo>
              </a:path>
              <a:path w="20914" h="4664">
                <a:moveTo>
                  <a:pt x="21299" y="11799"/>
                </a:moveTo>
                <a:cubicBezTo>
                  <a:pt x="21297" y="11776"/>
                  <a:pt x="21295" y="11785"/>
                  <a:pt x="21293" y="11762"/>
                </a:cubicBezTo>
                <a:cubicBezTo>
                  <a:pt x="21268" y="11494"/>
                  <a:pt x="21308" y="11231"/>
                  <a:pt x="21321" y="10963"/>
                </a:cubicBezTo>
                <a:cubicBezTo>
                  <a:pt x="21334" y="10684"/>
                  <a:pt x="21280" y="10386"/>
                  <a:pt x="21171" y="10129"/>
                </a:cubicBezTo>
                <a:cubicBezTo>
                  <a:pt x="21101" y="9963"/>
                  <a:pt x="21006" y="9797"/>
                  <a:pt x="20900" y="9651"/>
                </a:cubicBezTo>
                <a:cubicBezTo>
                  <a:pt x="20716" y="9398"/>
                  <a:pt x="20444" y="9197"/>
                  <a:pt x="20230" y="8968"/>
                </a:cubicBezTo>
                <a:cubicBezTo>
                  <a:pt x="19998" y="8720"/>
                  <a:pt x="19801" y="8456"/>
                  <a:pt x="19585" y="8196"/>
                </a:cubicBezTo>
                <a:cubicBezTo>
                  <a:pt x="19395" y="7967"/>
                  <a:pt x="19190" y="7791"/>
                  <a:pt x="19033" y="7536"/>
                </a:cubicBezTo>
                <a:cubicBezTo>
                  <a:pt x="18978" y="7446"/>
                  <a:pt x="18954" y="7383"/>
                  <a:pt x="18927" y="7285"/>
                </a:cubicBezTo>
                <a:cubicBezTo>
                  <a:pt x="18926" y="7281"/>
                  <a:pt x="18926" y="7276"/>
                  <a:pt x="18925" y="7272"/>
                </a:cubicBezTo>
                <a:cubicBezTo>
                  <a:pt x="18932" y="7307"/>
                  <a:pt x="18939" y="7344"/>
                  <a:pt x="18947" y="7380"/>
                </a:cubicBezTo>
                <a:cubicBezTo>
                  <a:pt x="18949" y="7390"/>
                  <a:pt x="18952" y="7401"/>
                  <a:pt x="18954" y="7411"/>
                </a:cubicBezTo>
              </a:path>
              <a:path w="20914" h="4664">
                <a:moveTo>
                  <a:pt x="18861" y="7415"/>
                </a:moveTo>
                <a:cubicBezTo>
                  <a:pt x="18872" y="7405"/>
                  <a:pt x="18880" y="7398"/>
                  <a:pt x="18890" y="7386"/>
                </a:cubicBezTo>
                <a:cubicBezTo>
                  <a:pt x="18897" y="7421"/>
                  <a:pt x="18892" y="7452"/>
                  <a:pt x="18885" y="7487"/>
                </a:cubicBezTo>
                <a:cubicBezTo>
                  <a:pt x="18871" y="7556"/>
                  <a:pt x="18855" y="7625"/>
                  <a:pt x="18835" y="7693"/>
                </a:cubicBezTo>
                <a:cubicBezTo>
                  <a:pt x="18823" y="7734"/>
                  <a:pt x="18810" y="7774"/>
                  <a:pt x="18797" y="7814"/>
                </a:cubicBezTo>
                <a:cubicBezTo>
                  <a:pt x="18813" y="7773"/>
                  <a:pt x="18827" y="7731"/>
                  <a:pt x="18843" y="7690"/>
                </a:cubicBezTo>
                <a:cubicBezTo>
                  <a:pt x="18870" y="7620"/>
                  <a:pt x="18898" y="7549"/>
                  <a:pt x="18931" y="7481"/>
                </a:cubicBezTo>
                <a:cubicBezTo>
                  <a:pt x="18945" y="7453"/>
                  <a:pt x="18973" y="7396"/>
                  <a:pt x="19013" y="7424"/>
                </a:cubicBezTo>
                <a:cubicBezTo>
                  <a:pt x="19058" y="7456"/>
                  <a:pt x="19097" y="7526"/>
                  <a:pt x="19132" y="7568"/>
                </a:cubicBezTo>
                <a:cubicBezTo>
                  <a:pt x="19183" y="7630"/>
                  <a:pt x="19238" y="7680"/>
                  <a:pt x="19300" y="7731"/>
                </a:cubicBezTo>
              </a:path>
              <a:path w="20914" h="4664">
                <a:moveTo>
                  <a:pt x="23424" y="9243"/>
                </a:moveTo>
                <a:cubicBezTo>
                  <a:pt x="23411" y="9242"/>
                  <a:pt x="23406" y="9242"/>
                  <a:pt x="23398" y="9245"/>
                </a:cubicBezTo>
                <a:cubicBezTo>
                  <a:pt x="23418" y="9230"/>
                  <a:pt x="23439" y="9218"/>
                  <a:pt x="23461" y="9206"/>
                </a:cubicBezTo>
                <a:cubicBezTo>
                  <a:pt x="23493" y="9189"/>
                  <a:pt x="23545" y="9148"/>
                  <a:pt x="23582" y="9145"/>
                </a:cubicBezTo>
                <a:cubicBezTo>
                  <a:pt x="23601" y="9143"/>
                  <a:pt x="23610" y="9155"/>
                  <a:pt x="23611" y="9179"/>
                </a:cubicBezTo>
                <a:cubicBezTo>
                  <a:pt x="23612" y="9219"/>
                  <a:pt x="23607" y="9260"/>
                  <a:pt x="23608" y="9301"/>
                </a:cubicBezTo>
                <a:cubicBezTo>
                  <a:pt x="23609" y="9344"/>
                  <a:pt x="23613" y="9388"/>
                  <a:pt x="23621" y="9430"/>
                </a:cubicBezTo>
                <a:cubicBezTo>
                  <a:pt x="23626" y="9458"/>
                  <a:pt x="23633" y="9488"/>
                  <a:pt x="23642" y="9515"/>
                </a:cubicBezTo>
                <a:cubicBezTo>
                  <a:pt x="23649" y="9536"/>
                  <a:pt x="23641" y="9547"/>
                  <a:pt x="23627" y="9562"/>
                </a:cubicBezTo>
                <a:cubicBezTo>
                  <a:pt x="23614" y="9575"/>
                  <a:pt x="23596" y="9579"/>
                  <a:pt x="23578" y="9579"/>
                </a:cubicBezTo>
                <a:cubicBezTo>
                  <a:pt x="23557" y="9579"/>
                  <a:pt x="23542" y="9572"/>
                  <a:pt x="23523" y="9565"/>
                </a:cubicBezTo>
                <a:cubicBezTo>
                  <a:pt x="23494" y="9554"/>
                  <a:pt x="23487" y="9535"/>
                  <a:pt x="23491" y="9504"/>
                </a:cubicBezTo>
                <a:cubicBezTo>
                  <a:pt x="23497" y="9478"/>
                  <a:pt x="23500" y="9469"/>
                  <a:pt x="23504" y="9451"/>
                </a:cubicBezTo>
              </a:path>
              <a:path w="20914" h="4664">
                <a:moveTo>
                  <a:pt x="23744" y="9140"/>
                </a:moveTo>
                <a:cubicBezTo>
                  <a:pt x="23758" y="9126"/>
                  <a:pt x="23783" y="9103"/>
                  <a:pt x="23804" y="9099"/>
                </a:cubicBezTo>
                <a:cubicBezTo>
                  <a:pt x="23824" y="9095"/>
                  <a:pt x="23869" y="9098"/>
                  <a:pt x="23875" y="9126"/>
                </a:cubicBezTo>
                <a:cubicBezTo>
                  <a:pt x="23883" y="9164"/>
                  <a:pt x="23846" y="9214"/>
                  <a:pt x="23827" y="9242"/>
                </a:cubicBezTo>
                <a:cubicBezTo>
                  <a:pt x="23802" y="9279"/>
                  <a:pt x="23780" y="9307"/>
                  <a:pt x="23770" y="9351"/>
                </a:cubicBezTo>
                <a:cubicBezTo>
                  <a:pt x="23824" y="9380"/>
                  <a:pt x="23890" y="9356"/>
                  <a:pt x="23951" y="9343"/>
                </a:cubicBezTo>
              </a:path>
              <a:path w="20914" h="4664">
                <a:moveTo>
                  <a:pt x="21904" y="9200"/>
                </a:moveTo>
                <a:cubicBezTo>
                  <a:pt x="21889" y="9207"/>
                  <a:pt x="21876" y="9212"/>
                  <a:pt x="21862" y="9221"/>
                </a:cubicBezTo>
                <a:cubicBezTo>
                  <a:pt x="21911" y="9209"/>
                  <a:pt x="21959" y="9192"/>
                  <a:pt x="22008" y="9182"/>
                </a:cubicBezTo>
                <a:cubicBezTo>
                  <a:pt x="22056" y="9172"/>
                  <a:pt x="22111" y="9166"/>
                  <a:pt x="22156" y="9145"/>
                </a:cubicBezTo>
                <a:cubicBezTo>
                  <a:pt x="22160" y="9142"/>
                  <a:pt x="22165" y="9138"/>
                  <a:pt x="22169" y="9135"/>
                </a:cubicBezTo>
              </a:path>
              <a:path w="20914" h="4664">
                <a:moveTo>
                  <a:pt x="23155" y="8262"/>
                </a:moveTo>
                <a:cubicBezTo>
                  <a:pt x="23142" y="8272"/>
                  <a:pt x="23134" y="8278"/>
                  <a:pt x="23124" y="8291"/>
                </a:cubicBezTo>
                <a:cubicBezTo>
                  <a:pt x="23121" y="8258"/>
                  <a:pt x="23148" y="8232"/>
                  <a:pt x="23168" y="8201"/>
                </a:cubicBezTo>
                <a:cubicBezTo>
                  <a:pt x="23207" y="8140"/>
                  <a:pt x="23249" y="8079"/>
                  <a:pt x="23285" y="8016"/>
                </a:cubicBezTo>
                <a:cubicBezTo>
                  <a:pt x="23306" y="7979"/>
                  <a:pt x="23360" y="7918"/>
                  <a:pt x="23359" y="7873"/>
                </a:cubicBezTo>
                <a:cubicBezTo>
                  <a:pt x="23359" y="7852"/>
                  <a:pt x="23350" y="7876"/>
                  <a:pt x="23344" y="7885"/>
                </a:cubicBezTo>
              </a:path>
              <a:path w="20914" h="4664">
                <a:moveTo>
                  <a:pt x="23474" y="7840"/>
                </a:moveTo>
                <a:cubicBezTo>
                  <a:pt x="23452" y="7835"/>
                  <a:pt x="23460" y="7829"/>
                  <a:pt x="23469" y="7812"/>
                </a:cubicBezTo>
                <a:cubicBezTo>
                  <a:pt x="23481" y="7789"/>
                  <a:pt x="23496" y="7774"/>
                  <a:pt x="23516" y="7757"/>
                </a:cubicBezTo>
                <a:cubicBezTo>
                  <a:pt x="23533" y="7743"/>
                  <a:pt x="23555" y="7723"/>
                  <a:pt x="23578" y="7722"/>
                </a:cubicBezTo>
                <a:cubicBezTo>
                  <a:pt x="23607" y="7721"/>
                  <a:pt x="23605" y="7754"/>
                  <a:pt x="23603" y="7775"/>
                </a:cubicBezTo>
                <a:cubicBezTo>
                  <a:pt x="23598" y="7821"/>
                  <a:pt x="23580" y="7868"/>
                  <a:pt x="23562" y="7911"/>
                </a:cubicBezTo>
                <a:cubicBezTo>
                  <a:pt x="23546" y="7951"/>
                  <a:pt x="23521" y="7986"/>
                  <a:pt x="23502" y="8024"/>
                </a:cubicBezTo>
                <a:cubicBezTo>
                  <a:pt x="23500" y="8028"/>
                  <a:pt x="23499" y="8033"/>
                  <a:pt x="23497" y="8037"/>
                </a:cubicBezTo>
                <a:cubicBezTo>
                  <a:pt x="23518" y="8040"/>
                  <a:pt x="23531" y="8027"/>
                  <a:pt x="23553" y="8017"/>
                </a:cubicBezTo>
                <a:cubicBezTo>
                  <a:pt x="23576" y="8006"/>
                  <a:pt x="23602" y="7996"/>
                  <a:pt x="23627" y="7991"/>
                </a:cubicBezTo>
                <a:cubicBezTo>
                  <a:pt x="23639" y="7988"/>
                  <a:pt x="23651" y="7986"/>
                  <a:pt x="23663" y="7983"/>
                </a:cubicBezTo>
              </a:path>
              <a:path w="20914" h="4664">
                <a:moveTo>
                  <a:pt x="23742" y="7818"/>
                </a:moveTo>
                <a:cubicBezTo>
                  <a:pt x="23732" y="7812"/>
                  <a:pt x="23739" y="7815"/>
                  <a:pt x="23728" y="7810"/>
                </a:cubicBezTo>
                <a:cubicBezTo>
                  <a:pt x="23747" y="7799"/>
                  <a:pt x="23766" y="7789"/>
                  <a:pt x="23788" y="7784"/>
                </a:cubicBezTo>
                <a:cubicBezTo>
                  <a:pt x="23812" y="7778"/>
                  <a:pt x="23878" y="7755"/>
                  <a:pt x="23894" y="7786"/>
                </a:cubicBezTo>
                <a:cubicBezTo>
                  <a:pt x="23905" y="7807"/>
                  <a:pt x="23923" y="7849"/>
                  <a:pt x="23928" y="7873"/>
                </a:cubicBezTo>
                <a:cubicBezTo>
                  <a:pt x="23936" y="7915"/>
                  <a:pt x="23921" y="7951"/>
                  <a:pt x="23919" y="7992"/>
                </a:cubicBezTo>
                <a:cubicBezTo>
                  <a:pt x="23916" y="8048"/>
                  <a:pt x="23908" y="8098"/>
                  <a:pt x="23913" y="8155"/>
                </a:cubicBezTo>
                <a:cubicBezTo>
                  <a:pt x="23916" y="8189"/>
                  <a:pt x="23936" y="8242"/>
                  <a:pt x="23920" y="8277"/>
                </a:cubicBezTo>
                <a:cubicBezTo>
                  <a:pt x="23908" y="8302"/>
                  <a:pt x="23911" y="8300"/>
                  <a:pt x="23913" y="8328"/>
                </a:cubicBezTo>
                <a:cubicBezTo>
                  <a:pt x="23895" y="8330"/>
                  <a:pt x="23877" y="8334"/>
                  <a:pt x="23859" y="8336"/>
                </a:cubicBezTo>
                <a:cubicBezTo>
                  <a:pt x="23841" y="8338"/>
                  <a:pt x="23822" y="8336"/>
                  <a:pt x="23804" y="8333"/>
                </a:cubicBezTo>
                <a:cubicBezTo>
                  <a:pt x="23779" y="8329"/>
                  <a:pt x="23754" y="8328"/>
                  <a:pt x="23730" y="8322"/>
                </a:cubicBezTo>
                <a:cubicBezTo>
                  <a:pt x="23716" y="8318"/>
                  <a:pt x="23701" y="8314"/>
                  <a:pt x="23687" y="8310"/>
                </a:cubicBezTo>
                <a:cubicBezTo>
                  <a:pt x="23702" y="8292"/>
                  <a:pt x="23716" y="8280"/>
                  <a:pt x="23736" y="826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"/>
          <p:cNvSpPr/>
          <p:nvPr/>
        </p:nvSpPr>
        <p:spPr>
          <a:xfrm>
            <a:off x="7378560" y="2714760"/>
            <a:ext cx="1043280" cy="299880"/>
          </a:xfrm>
          <a:custGeom>
            <a:avLst/>
            <a:gdLst/>
            <a:ahLst/>
            <a:rect l="l" t="t" r="r" b="b"/>
            <a:pathLst>
              <a:path w="2896" h="834">
                <a:moveTo>
                  <a:pt x="20497" y="7623"/>
                </a:moveTo>
                <a:cubicBezTo>
                  <a:pt x="20509" y="7671"/>
                  <a:pt x="20512" y="7721"/>
                  <a:pt x="20515" y="7771"/>
                </a:cubicBezTo>
                <a:cubicBezTo>
                  <a:pt x="20522" y="7868"/>
                  <a:pt x="20534" y="7965"/>
                  <a:pt x="20552" y="8061"/>
                </a:cubicBezTo>
                <a:cubicBezTo>
                  <a:pt x="20563" y="8117"/>
                  <a:pt x="20571" y="8210"/>
                  <a:pt x="20613" y="8253"/>
                </a:cubicBezTo>
                <a:cubicBezTo>
                  <a:pt x="20619" y="8255"/>
                  <a:pt x="20624" y="8258"/>
                  <a:pt x="20630" y="8260"/>
                </a:cubicBezTo>
                <a:cubicBezTo>
                  <a:pt x="20667" y="8224"/>
                  <a:pt x="20676" y="8172"/>
                  <a:pt x="20690" y="8121"/>
                </a:cubicBezTo>
                <a:cubicBezTo>
                  <a:pt x="20719" y="8018"/>
                  <a:pt x="20741" y="7914"/>
                  <a:pt x="20763" y="7809"/>
                </a:cubicBezTo>
                <a:cubicBezTo>
                  <a:pt x="20780" y="7727"/>
                  <a:pt x="20802" y="7644"/>
                  <a:pt x="20816" y="7562"/>
                </a:cubicBezTo>
                <a:cubicBezTo>
                  <a:pt x="20817" y="7539"/>
                  <a:pt x="20817" y="7531"/>
                  <a:pt x="20823" y="7561"/>
                </a:cubicBezTo>
              </a:path>
              <a:path w="2896" h="834">
                <a:moveTo>
                  <a:pt x="21046" y="7678"/>
                </a:moveTo>
                <a:cubicBezTo>
                  <a:pt x="21056" y="7664"/>
                  <a:pt x="21071" y="7635"/>
                  <a:pt x="21083" y="7625"/>
                </a:cubicBezTo>
                <a:cubicBezTo>
                  <a:pt x="21093" y="7623"/>
                  <a:pt x="21098" y="7621"/>
                  <a:pt x="21103" y="7615"/>
                </a:cubicBezTo>
                <a:cubicBezTo>
                  <a:pt x="21088" y="7597"/>
                  <a:pt x="21077" y="7582"/>
                  <a:pt x="21055" y="7571"/>
                </a:cubicBezTo>
                <a:cubicBezTo>
                  <a:pt x="21033" y="7559"/>
                  <a:pt x="21015" y="7551"/>
                  <a:pt x="20992" y="7564"/>
                </a:cubicBezTo>
                <a:cubicBezTo>
                  <a:pt x="20958" y="7583"/>
                  <a:pt x="20946" y="7655"/>
                  <a:pt x="20939" y="7688"/>
                </a:cubicBezTo>
                <a:cubicBezTo>
                  <a:pt x="20908" y="7833"/>
                  <a:pt x="20895" y="7986"/>
                  <a:pt x="20888" y="8134"/>
                </a:cubicBezTo>
                <a:cubicBezTo>
                  <a:pt x="20886" y="8167"/>
                  <a:pt x="20880" y="8207"/>
                  <a:pt x="20889" y="8239"/>
                </a:cubicBezTo>
                <a:cubicBezTo>
                  <a:pt x="20896" y="8263"/>
                  <a:pt x="20906" y="8263"/>
                  <a:pt x="20928" y="8270"/>
                </a:cubicBezTo>
                <a:cubicBezTo>
                  <a:pt x="20951" y="8278"/>
                  <a:pt x="20981" y="8277"/>
                  <a:pt x="21005" y="8278"/>
                </a:cubicBezTo>
                <a:cubicBezTo>
                  <a:pt x="21041" y="8280"/>
                  <a:pt x="21078" y="8270"/>
                  <a:pt x="21108" y="8249"/>
                </a:cubicBezTo>
                <a:cubicBezTo>
                  <a:pt x="21130" y="8229"/>
                  <a:pt x="21138" y="8222"/>
                  <a:pt x="21150" y="8205"/>
                </a:cubicBezTo>
              </a:path>
              <a:path w="2896" h="834">
                <a:moveTo>
                  <a:pt x="21188" y="7738"/>
                </a:moveTo>
                <a:cubicBezTo>
                  <a:pt x="21207" y="7768"/>
                  <a:pt x="21208" y="7796"/>
                  <a:pt x="21219" y="7829"/>
                </a:cubicBezTo>
                <a:cubicBezTo>
                  <a:pt x="21239" y="7892"/>
                  <a:pt x="21263" y="7953"/>
                  <a:pt x="21295" y="8011"/>
                </a:cubicBezTo>
                <a:cubicBezTo>
                  <a:pt x="21315" y="8048"/>
                  <a:pt x="21339" y="8105"/>
                  <a:pt x="21379" y="8124"/>
                </a:cubicBezTo>
                <a:cubicBezTo>
                  <a:pt x="21397" y="8128"/>
                  <a:pt x="21402" y="8130"/>
                  <a:pt x="21413" y="8122"/>
                </a:cubicBezTo>
              </a:path>
              <a:path w="2896" h="834">
                <a:moveTo>
                  <a:pt x="21500" y="7701"/>
                </a:moveTo>
                <a:cubicBezTo>
                  <a:pt x="21498" y="7696"/>
                  <a:pt x="21495" y="7690"/>
                  <a:pt x="21493" y="7685"/>
                </a:cubicBezTo>
                <a:cubicBezTo>
                  <a:pt x="21456" y="7706"/>
                  <a:pt x="21440" y="7724"/>
                  <a:pt x="21412" y="7762"/>
                </a:cubicBezTo>
                <a:cubicBezTo>
                  <a:pt x="21360" y="7832"/>
                  <a:pt x="21313" y="7908"/>
                  <a:pt x="21275" y="7987"/>
                </a:cubicBezTo>
                <a:cubicBezTo>
                  <a:pt x="21249" y="8042"/>
                  <a:pt x="21213" y="8102"/>
                  <a:pt x="21213" y="8165"/>
                </a:cubicBezTo>
                <a:cubicBezTo>
                  <a:pt x="21217" y="8179"/>
                  <a:pt x="21218" y="8184"/>
                  <a:pt x="21229" y="8186"/>
                </a:cubicBezTo>
              </a:path>
              <a:path w="2896" h="834">
                <a:moveTo>
                  <a:pt x="21530" y="7698"/>
                </a:moveTo>
                <a:cubicBezTo>
                  <a:pt x="21535" y="7684"/>
                  <a:pt x="21543" y="7653"/>
                  <a:pt x="21554" y="7643"/>
                </a:cubicBezTo>
                <a:cubicBezTo>
                  <a:pt x="21569" y="7629"/>
                  <a:pt x="21619" y="7631"/>
                  <a:pt x="21637" y="7634"/>
                </a:cubicBezTo>
                <a:cubicBezTo>
                  <a:pt x="21698" y="7645"/>
                  <a:pt x="21753" y="7677"/>
                  <a:pt x="21784" y="7731"/>
                </a:cubicBezTo>
                <a:cubicBezTo>
                  <a:pt x="21809" y="7775"/>
                  <a:pt x="21821" y="7830"/>
                  <a:pt x="21836" y="7878"/>
                </a:cubicBezTo>
                <a:cubicBezTo>
                  <a:pt x="21858" y="7951"/>
                  <a:pt x="21887" y="8021"/>
                  <a:pt x="21909" y="8094"/>
                </a:cubicBezTo>
                <a:cubicBezTo>
                  <a:pt x="21928" y="8156"/>
                  <a:pt x="21949" y="8217"/>
                  <a:pt x="21916" y="8278"/>
                </a:cubicBezTo>
                <a:cubicBezTo>
                  <a:pt x="21898" y="8312"/>
                  <a:pt x="21869" y="8339"/>
                  <a:pt x="21834" y="8356"/>
                </a:cubicBezTo>
                <a:cubicBezTo>
                  <a:pt x="21795" y="8375"/>
                  <a:pt x="21751" y="8373"/>
                  <a:pt x="21710" y="8366"/>
                </a:cubicBezTo>
                <a:cubicBezTo>
                  <a:pt x="21668" y="8359"/>
                  <a:pt x="21644" y="8346"/>
                  <a:pt x="21629" y="8305"/>
                </a:cubicBezTo>
                <a:cubicBezTo>
                  <a:pt x="21627" y="8296"/>
                  <a:pt x="21624" y="8287"/>
                  <a:pt x="21622" y="8278"/>
                </a:cubicBezTo>
              </a:path>
              <a:path w="2896" h="834">
                <a:moveTo>
                  <a:pt x="22103" y="7875"/>
                </a:moveTo>
                <a:cubicBezTo>
                  <a:pt x="22113" y="7887"/>
                  <a:pt x="22138" y="7889"/>
                  <a:pt x="22159" y="7893"/>
                </a:cubicBezTo>
                <a:cubicBezTo>
                  <a:pt x="22201" y="7900"/>
                  <a:pt x="22243" y="7908"/>
                  <a:pt x="22285" y="7916"/>
                </a:cubicBezTo>
                <a:cubicBezTo>
                  <a:pt x="22306" y="7921"/>
                  <a:pt x="22310" y="7922"/>
                  <a:pt x="22323" y="7924"/>
                </a:cubicBezTo>
              </a:path>
              <a:path w="2896" h="834">
                <a:moveTo>
                  <a:pt x="22124" y="8033"/>
                </a:moveTo>
                <a:cubicBezTo>
                  <a:pt x="22131" y="8057"/>
                  <a:pt x="22171" y="8043"/>
                  <a:pt x="22199" y="8042"/>
                </a:cubicBezTo>
                <a:cubicBezTo>
                  <a:pt x="22249" y="8041"/>
                  <a:pt x="22298" y="8034"/>
                  <a:pt x="22347" y="8028"/>
                </a:cubicBezTo>
              </a:path>
              <a:path w="2896" h="834">
                <a:moveTo>
                  <a:pt x="22471" y="7758"/>
                </a:moveTo>
                <a:cubicBezTo>
                  <a:pt x="22474" y="7755"/>
                  <a:pt x="22478" y="7752"/>
                  <a:pt x="22481" y="7749"/>
                </a:cubicBezTo>
                <a:cubicBezTo>
                  <a:pt x="22502" y="7766"/>
                  <a:pt x="22493" y="7804"/>
                  <a:pt x="22487" y="7838"/>
                </a:cubicBezTo>
                <a:cubicBezTo>
                  <a:pt x="22476" y="7898"/>
                  <a:pt x="22461" y="7957"/>
                  <a:pt x="22449" y="8017"/>
                </a:cubicBezTo>
                <a:cubicBezTo>
                  <a:pt x="22436" y="8082"/>
                  <a:pt x="22421" y="8147"/>
                  <a:pt x="22415" y="8213"/>
                </a:cubicBezTo>
                <a:cubicBezTo>
                  <a:pt x="22414" y="8231"/>
                  <a:pt x="22413" y="8235"/>
                  <a:pt x="22418" y="8245"/>
                </a:cubicBezTo>
                <a:cubicBezTo>
                  <a:pt x="22445" y="8250"/>
                  <a:pt x="22464" y="8238"/>
                  <a:pt x="22491" y="8226"/>
                </a:cubicBezTo>
                <a:cubicBezTo>
                  <a:pt x="22528" y="8209"/>
                  <a:pt x="22566" y="8197"/>
                  <a:pt x="22606" y="8187"/>
                </a:cubicBezTo>
                <a:cubicBezTo>
                  <a:pt x="22637" y="8179"/>
                  <a:pt x="22671" y="8176"/>
                  <a:pt x="22694" y="8155"/>
                </a:cubicBezTo>
                <a:cubicBezTo>
                  <a:pt x="22717" y="8134"/>
                  <a:pt x="22708" y="8115"/>
                  <a:pt x="22698" y="8090"/>
                </a:cubicBezTo>
              </a:path>
              <a:path w="2896" h="834">
                <a:moveTo>
                  <a:pt x="22474" y="7966"/>
                </a:moveTo>
                <a:cubicBezTo>
                  <a:pt x="22470" y="7964"/>
                  <a:pt x="22466" y="7961"/>
                  <a:pt x="22462" y="7959"/>
                </a:cubicBezTo>
                <a:cubicBezTo>
                  <a:pt x="22483" y="7942"/>
                  <a:pt x="22518" y="7942"/>
                  <a:pt x="22550" y="7946"/>
                </a:cubicBezTo>
                <a:cubicBezTo>
                  <a:pt x="22587" y="7951"/>
                  <a:pt x="22617" y="7955"/>
                  <a:pt x="22654" y="7953"/>
                </a:cubicBezTo>
              </a:path>
              <a:path w="2896" h="834">
                <a:moveTo>
                  <a:pt x="22458" y="7794"/>
                </a:moveTo>
                <a:cubicBezTo>
                  <a:pt x="22485" y="7767"/>
                  <a:pt x="22513" y="7767"/>
                  <a:pt x="22551" y="7762"/>
                </a:cubicBezTo>
                <a:cubicBezTo>
                  <a:pt x="22594" y="7757"/>
                  <a:pt x="22633" y="7763"/>
                  <a:pt x="22675" y="7773"/>
                </a:cubicBezTo>
                <a:cubicBezTo>
                  <a:pt x="22684" y="7775"/>
                  <a:pt x="22692" y="7778"/>
                  <a:pt x="22701" y="7780"/>
                </a:cubicBezTo>
              </a:path>
              <a:path w="2896" h="834">
                <a:moveTo>
                  <a:pt x="23012" y="7796"/>
                </a:moveTo>
                <a:cubicBezTo>
                  <a:pt x="23011" y="7791"/>
                  <a:pt x="23004" y="7773"/>
                  <a:pt x="22985" y="7750"/>
                </a:cubicBezTo>
                <a:cubicBezTo>
                  <a:pt x="22968" y="7729"/>
                  <a:pt x="22953" y="7704"/>
                  <a:pt x="22939" y="7680"/>
                </a:cubicBezTo>
                <a:cubicBezTo>
                  <a:pt x="22932" y="7668"/>
                  <a:pt x="22917" y="7633"/>
                  <a:pt x="22896" y="7637"/>
                </a:cubicBezTo>
                <a:cubicBezTo>
                  <a:pt x="22868" y="7643"/>
                  <a:pt x="22863" y="7686"/>
                  <a:pt x="22860" y="7707"/>
                </a:cubicBezTo>
                <a:cubicBezTo>
                  <a:pt x="22850" y="7793"/>
                  <a:pt x="22854" y="7884"/>
                  <a:pt x="22852" y="7970"/>
                </a:cubicBezTo>
                <a:cubicBezTo>
                  <a:pt x="22850" y="8069"/>
                  <a:pt x="22846" y="8168"/>
                  <a:pt x="22841" y="8267"/>
                </a:cubicBezTo>
                <a:cubicBezTo>
                  <a:pt x="22840" y="8289"/>
                  <a:pt x="22830" y="8341"/>
                  <a:pt x="22841" y="8363"/>
                </a:cubicBezTo>
                <a:cubicBezTo>
                  <a:pt x="22850" y="8381"/>
                  <a:pt x="22894" y="8371"/>
                  <a:pt x="22908" y="8369"/>
                </a:cubicBezTo>
                <a:cubicBezTo>
                  <a:pt x="22937" y="8365"/>
                  <a:pt x="22966" y="8360"/>
                  <a:pt x="22994" y="8351"/>
                </a:cubicBezTo>
                <a:cubicBezTo>
                  <a:pt x="23008" y="8347"/>
                  <a:pt x="23039" y="8342"/>
                  <a:pt x="23049" y="8330"/>
                </a:cubicBezTo>
                <a:cubicBezTo>
                  <a:pt x="23052" y="8317"/>
                  <a:pt x="23053" y="8313"/>
                  <a:pt x="23050" y="8304"/>
                </a:cubicBezTo>
              </a:path>
              <a:path w="2896" h="834">
                <a:moveTo>
                  <a:pt x="23080" y="7797"/>
                </a:moveTo>
                <a:cubicBezTo>
                  <a:pt x="23075" y="7785"/>
                  <a:pt x="23073" y="7782"/>
                  <a:pt x="23076" y="7773"/>
                </a:cubicBezTo>
                <a:cubicBezTo>
                  <a:pt x="23105" y="7796"/>
                  <a:pt x="23127" y="7825"/>
                  <a:pt x="23148" y="7855"/>
                </a:cubicBezTo>
                <a:cubicBezTo>
                  <a:pt x="23193" y="7921"/>
                  <a:pt x="23238" y="7990"/>
                  <a:pt x="23276" y="8060"/>
                </a:cubicBezTo>
                <a:cubicBezTo>
                  <a:pt x="23300" y="8104"/>
                  <a:pt x="23321" y="8173"/>
                  <a:pt x="23360" y="8206"/>
                </a:cubicBezTo>
                <a:cubicBezTo>
                  <a:pt x="23380" y="8223"/>
                  <a:pt x="23385" y="8201"/>
                  <a:pt x="23392" y="818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"/>
          <p:cNvSpPr/>
          <p:nvPr/>
        </p:nvSpPr>
        <p:spPr>
          <a:xfrm>
            <a:off x="2362320" y="2917800"/>
            <a:ext cx="3954240" cy="2629080"/>
          </a:xfrm>
          <a:custGeom>
            <a:avLst/>
            <a:gdLst/>
            <a:ahLst/>
            <a:rect l="l" t="t" r="r" b="b"/>
            <a:pathLst>
              <a:path w="10986" h="7304">
                <a:moveTo>
                  <a:pt x="12931" y="8229"/>
                </a:moveTo>
                <a:cubicBezTo>
                  <a:pt x="12961" y="8224"/>
                  <a:pt x="12962" y="8223"/>
                  <a:pt x="12992" y="8219"/>
                </a:cubicBezTo>
                <a:cubicBezTo>
                  <a:pt x="13100" y="8203"/>
                  <a:pt x="13208" y="8189"/>
                  <a:pt x="13316" y="8177"/>
                </a:cubicBezTo>
                <a:cubicBezTo>
                  <a:pt x="14245" y="8070"/>
                  <a:pt x="15188" y="8081"/>
                  <a:pt x="16116" y="8194"/>
                </a:cubicBezTo>
                <a:cubicBezTo>
                  <a:pt x="16538" y="8246"/>
                  <a:pt x="16997" y="8386"/>
                  <a:pt x="17425" y="8347"/>
                </a:cubicBezTo>
                <a:cubicBezTo>
                  <a:pt x="17482" y="8342"/>
                  <a:pt x="17509" y="8314"/>
                  <a:pt x="17545" y="8299"/>
                </a:cubicBezTo>
                <a:cubicBezTo>
                  <a:pt x="17501" y="8288"/>
                  <a:pt x="17458" y="8278"/>
                  <a:pt x="17412" y="8270"/>
                </a:cubicBezTo>
              </a:path>
              <a:path w="10986" h="7304">
                <a:moveTo>
                  <a:pt x="6560" y="8376"/>
                </a:moveTo>
                <a:cubicBezTo>
                  <a:pt x="6575" y="8359"/>
                  <a:pt x="6574" y="8329"/>
                  <a:pt x="6599" y="8312"/>
                </a:cubicBezTo>
                <a:cubicBezTo>
                  <a:pt x="6635" y="8287"/>
                  <a:pt x="6681" y="8274"/>
                  <a:pt x="6723" y="8265"/>
                </a:cubicBezTo>
                <a:cubicBezTo>
                  <a:pt x="6837" y="8241"/>
                  <a:pt x="6960" y="8240"/>
                  <a:pt x="7076" y="8237"/>
                </a:cubicBezTo>
                <a:cubicBezTo>
                  <a:pt x="7525" y="8224"/>
                  <a:pt x="7970" y="8236"/>
                  <a:pt x="8419" y="8196"/>
                </a:cubicBezTo>
                <a:cubicBezTo>
                  <a:pt x="9190" y="8127"/>
                  <a:pt x="10003" y="8057"/>
                  <a:pt x="10778" y="8109"/>
                </a:cubicBezTo>
                <a:cubicBezTo>
                  <a:pt x="10876" y="8116"/>
                  <a:pt x="10963" y="8144"/>
                  <a:pt x="11056" y="8171"/>
                </a:cubicBezTo>
              </a:path>
              <a:path w="10986" h="7304">
                <a:moveTo>
                  <a:pt x="12552" y="14728"/>
                </a:moveTo>
                <a:cubicBezTo>
                  <a:pt x="12540" y="14713"/>
                  <a:pt x="12533" y="14712"/>
                  <a:pt x="12514" y="14708"/>
                </a:cubicBezTo>
                <a:cubicBezTo>
                  <a:pt x="12537" y="14715"/>
                  <a:pt x="12545" y="14724"/>
                  <a:pt x="12560" y="14742"/>
                </a:cubicBezTo>
              </a:path>
              <a:path w="10986" h="7304">
                <a:moveTo>
                  <a:pt x="12556" y="15038"/>
                </a:moveTo>
                <a:cubicBezTo>
                  <a:pt x="12542" y="15060"/>
                  <a:pt x="12548" y="15061"/>
                  <a:pt x="12525" y="15055"/>
                </a:cubicBezTo>
                <a:cubicBezTo>
                  <a:pt x="12531" y="15041"/>
                  <a:pt x="12541" y="15029"/>
                  <a:pt x="12560" y="15037"/>
                </a:cubicBezTo>
                <a:cubicBezTo>
                  <a:pt x="12565" y="15040"/>
                  <a:pt x="12569" y="15042"/>
                  <a:pt x="12574" y="15045"/>
                </a:cubicBezTo>
              </a:path>
              <a:path w="10986" h="7304">
                <a:moveTo>
                  <a:pt x="12603" y="15292"/>
                </a:moveTo>
                <a:cubicBezTo>
                  <a:pt x="12588" y="15314"/>
                  <a:pt x="12586" y="15306"/>
                  <a:pt x="12580" y="15283"/>
                </a:cubicBezTo>
                <a:cubicBezTo>
                  <a:pt x="12579" y="15306"/>
                  <a:pt x="12572" y="15323"/>
                  <a:pt x="12563" y="15344"/>
                </a:cubicBezTo>
                <a:cubicBezTo>
                  <a:pt x="12554" y="15364"/>
                  <a:pt x="12526" y="15419"/>
                  <a:pt x="12545" y="15407"/>
                </a:cubicBezTo>
                <a:cubicBezTo>
                  <a:pt x="12547" y="15403"/>
                  <a:pt x="12549" y="15398"/>
                  <a:pt x="12551" y="1539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"/>
          <p:cNvSpPr/>
          <p:nvPr/>
        </p:nvSpPr>
        <p:spPr>
          <a:xfrm>
            <a:off x="6859440" y="3618000"/>
            <a:ext cx="14400" cy="12600"/>
          </a:xfrm>
          <a:custGeom>
            <a:avLst/>
            <a:gdLst/>
            <a:ahLst/>
            <a:rect l="l" t="t" r="r" b="b"/>
            <a:pathLst>
              <a:path w="41" h="39">
                <a:moveTo>
                  <a:pt x="19055" y="10086"/>
                </a:moveTo>
                <a:cubicBezTo>
                  <a:pt x="19067" y="10060"/>
                  <a:pt x="19068" y="10052"/>
                  <a:pt x="19095" y="1005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"/>
          <p:cNvSpPr/>
          <p:nvPr/>
        </p:nvSpPr>
        <p:spPr>
          <a:xfrm>
            <a:off x="2637000" y="3589200"/>
            <a:ext cx="147600" cy="238320"/>
          </a:xfrm>
          <a:custGeom>
            <a:avLst/>
            <a:gdLst/>
            <a:ahLst/>
            <a:rect l="l" t="t" r="r" b="b"/>
            <a:pathLst>
              <a:path w="411" h="661">
                <a:moveTo>
                  <a:pt x="7403" y="10628"/>
                </a:moveTo>
                <a:cubicBezTo>
                  <a:pt x="7381" y="10627"/>
                  <a:pt x="7352" y="10636"/>
                  <a:pt x="7335" y="10616"/>
                </a:cubicBezTo>
                <a:cubicBezTo>
                  <a:pt x="7315" y="10593"/>
                  <a:pt x="7337" y="10566"/>
                  <a:pt x="7350" y="10545"/>
                </a:cubicBezTo>
                <a:cubicBezTo>
                  <a:pt x="7384" y="10490"/>
                  <a:pt x="7423" y="10438"/>
                  <a:pt x="7457" y="10383"/>
                </a:cubicBezTo>
                <a:cubicBezTo>
                  <a:pt x="7513" y="10291"/>
                  <a:pt x="7566" y="10198"/>
                  <a:pt x="7616" y="10103"/>
                </a:cubicBezTo>
                <a:cubicBezTo>
                  <a:pt x="7633" y="10071"/>
                  <a:pt x="7647" y="10040"/>
                  <a:pt x="7660" y="10007"/>
                </a:cubicBezTo>
                <a:cubicBezTo>
                  <a:pt x="7626" y="10021"/>
                  <a:pt x="7594" y="10037"/>
                  <a:pt x="7561" y="10055"/>
                </a:cubicBezTo>
                <a:cubicBezTo>
                  <a:pt x="7497" y="10089"/>
                  <a:pt x="7433" y="10123"/>
                  <a:pt x="7364" y="10143"/>
                </a:cubicBezTo>
                <a:cubicBezTo>
                  <a:pt x="7369" y="10126"/>
                  <a:pt x="7392" y="10103"/>
                  <a:pt x="7431" y="10078"/>
                </a:cubicBezTo>
                <a:cubicBezTo>
                  <a:pt x="7492" y="10039"/>
                  <a:pt x="7558" y="10000"/>
                  <a:pt x="7627" y="9978"/>
                </a:cubicBezTo>
                <a:cubicBezTo>
                  <a:pt x="7656" y="9969"/>
                  <a:pt x="7696" y="9959"/>
                  <a:pt x="7708" y="9995"/>
                </a:cubicBezTo>
                <a:cubicBezTo>
                  <a:pt x="7717" y="10022"/>
                  <a:pt x="7722" y="10052"/>
                  <a:pt x="7729" y="10080"/>
                </a:cubicBezTo>
                <a:cubicBezTo>
                  <a:pt x="7731" y="10088"/>
                  <a:pt x="7733" y="10095"/>
                  <a:pt x="7735" y="1010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"/>
          <p:cNvSpPr/>
          <p:nvPr/>
        </p:nvSpPr>
        <p:spPr>
          <a:xfrm>
            <a:off x="4121280" y="3622680"/>
            <a:ext cx="488880" cy="208080"/>
          </a:xfrm>
          <a:custGeom>
            <a:avLst/>
            <a:gdLst/>
            <a:ahLst/>
            <a:rect l="l" t="t" r="r" b="b"/>
            <a:pathLst>
              <a:path w="1358" h="579">
                <a:moveTo>
                  <a:pt x="11627" y="10116"/>
                </a:moveTo>
                <a:cubicBezTo>
                  <a:pt x="11635" y="10085"/>
                  <a:pt x="11632" y="10185"/>
                  <a:pt x="11633" y="10195"/>
                </a:cubicBezTo>
                <a:cubicBezTo>
                  <a:pt x="11639" y="10286"/>
                  <a:pt x="11645" y="10376"/>
                  <a:pt x="11648" y="10467"/>
                </a:cubicBezTo>
                <a:cubicBezTo>
                  <a:pt x="11650" y="10525"/>
                  <a:pt x="11656" y="10584"/>
                  <a:pt x="11652" y="10641"/>
                </a:cubicBezTo>
              </a:path>
              <a:path w="1358" h="579">
                <a:moveTo>
                  <a:pt x="11467" y="10461"/>
                </a:moveTo>
                <a:cubicBezTo>
                  <a:pt x="11455" y="10452"/>
                  <a:pt x="11451" y="10449"/>
                  <a:pt x="11447" y="10440"/>
                </a:cubicBezTo>
                <a:cubicBezTo>
                  <a:pt x="11465" y="10406"/>
                  <a:pt x="11493" y="10393"/>
                  <a:pt x="11528" y="10374"/>
                </a:cubicBezTo>
                <a:cubicBezTo>
                  <a:pt x="11604" y="10334"/>
                  <a:pt x="11681" y="10318"/>
                  <a:pt x="11764" y="10296"/>
                </a:cubicBezTo>
                <a:cubicBezTo>
                  <a:pt x="11821" y="10281"/>
                  <a:pt x="11877" y="10269"/>
                  <a:pt x="11935" y="10258"/>
                </a:cubicBezTo>
              </a:path>
              <a:path w="1358" h="579">
                <a:moveTo>
                  <a:pt x="12017" y="10266"/>
                </a:moveTo>
                <a:cubicBezTo>
                  <a:pt x="11992" y="10287"/>
                  <a:pt x="11957" y="10316"/>
                  <a:pt x="11941" y="10345"/>
                </a:cubicBezTo>
                <a:cubicBezTo>
                  <a:pt x="11918" y="10387"/>
                  <a:pt x="11897" y="10435"/>
                  <a:pt x="11887" y="10483"/>
                </a:cubicBezTo>
                <a:cubicBezTo>
                  <a:pt x="11881" y="10510"/>
                  <a:pt x="11882" y="10521"/>
                  <a:pt x="11893" y="10543"/>
                </a:cubicBezTo>
                <a:cubicBezTo>
                  <a:pt x="11923" y="10540"/>
                  <a:pt x="11941" y="10523"/>
                  <a:pt x="11962" y="10500"/>
                </a:cubicBezTo>
                <a:cubicBezTo>
                  <a:pt x="11991" y="10469"/>
                  <a:pt x="12013" y="10433"/>
                  <a:pt x="12044" y="10404"/>
                </a:cubicBezTo>
                <a:cubicBezTo>
                  <a:pt x="12070" y="10420"/>
                  <a:pt x="12063" y="10438"/>
                  <a:pt x="12069" y="10468"/>
                </a:cubicBezTo>
                <a:cubicBezTo>
                  <a:pt x="12074" y="10494"/>
                  <a:pt x="12077" y="10521"/>
                  <a:pt x="12101" y="10537"/>
                </a:cubicBezTo>
                <a:cubicBezTo>
                  <a:pt x="12113" y="10541"/>
                  <a:pt x="12118" y="10542"/>
                  <a:pt x="12127" y="10539"/>
                </a:cubicBezTo>
              </a:path>
              <a:path w="1358" h="579">
                <a:moveTo>
                  <a:pt x="12266" y="10121"/>
                </a:moveTo>
                <a:cubicBezTo>
                  <a:pt x="12283" y="10158"/>
                  <a:pt x="12286" y="10211"/>
                  <a:pt x="12291" y="10252"/>
                </a:cubicBezTo>
                <a:cubicBezTo>
                  <a:pt x="12299" y="10329"/>
                  <a:pt x="12308" y="10407"/>
                  <a:pt x="12313" y="10484"/>
                </a:cubicBezTo>
                <a:cubicBezTo>
                  <a:pt x="12314" y="10523"/>
                  <a:pt x="12314" y="10533"/>
                  <a:pt x="12320" y="10557"/>
                </a:cubicBezTo>
              </a:path>
              <a:path w="1358" h="579">
                <a:moveTo>
                  <a:pt x="12427" y="10083"/>
                </a:moveTo>
                <a:cubicBezTo>
                  <a:pt x="12438" y="10068"/>
                  <a:pt x="12440" y="10063"/>
                  <a:pt x="12453" y="10063"/>
                </a:cubicBezTo>
                <a:cubicBezTo>
                  <a:pt x="12462" y="10114"/>
                  <a:pt x="12451" y="10150"/>
                  <a:pt x="12432" y="10199"/>
                </a:cubicBezTo>
                <a:cubicBezTo>
                  <a:pt x="12405" y="10267"/>
                  <a:pt x="12369" y="10330"/>
                  <a:pt x="12334" y="10393"/>
                </a:cubicBezTo>
                <a:cubicBezTo>
                  <a:pt x="12322" y="10415"/>
                  <a:pt x="12277" y="10475"/>
                  <a:pt x="12299" y="10504"/>
                </a:cubicBezTo>
                <a:cubicBezTo>
                  <a:pt x="12315" y="10526"/>
                  <a:pt x="12377" y="10510"/>
                  <a:pt x="12398" y="10506"/>
                </a:cubicBezTo>
                <a:cubicBezTo>
                  <a:pt x="12427" y="10499"/>
                  <a:pt x="12437" y="10497"/>
                  <a:pt x="12456" y="10492"/>
                </a:cubicBezTo>
              </a:path>
              <a:path w="1358" h="579">
                <a:moveTo>
                  <a:pt x="12587" y="10464"/>
                </a:moveTo>
                <a:cubicBezTo>
                  <a:pt x="12621" y="10439"/>
                  <a:pt x="12653" y="10409"/>
                  <a:pt x="12687" y="10385"/>
                </a:cubicBezTo>
                <a:cubicBezTo>
                  <a:pt x="12724" y="10359"/>
                  <a:pt x="12757" y="10335"/>
                  <a:pt x="12789" y="10302"/>
                </a:cubicBezTo>
                <a:cubicBezTo>
                  <a:pt x="12816" y="10275"/>
                  <a:pt x="12742" y="10335"/>
                  <a:pt x="12737" y="10339"/>
                </a:cubicBezTo>
                <a:cubicBezTo>
                  <a:pt x="12705" y="10366"/>
                  <a:pt x="12640" y="10414"/>
                  <a:pt x="12647" y="10463"/>
                </a:cubicBezTo>
                <a:cubicBezTo>
                  <a:pt x="12652" y="10499"/>
                  <a:pt x="12702" y="10505"/>
                  <a:pt x="12729" y="10508"/>
                </a:cubicBezTo>
                <a:cubicBezTo>
                  <a:pt x="12766" y="10511"/>
                  <a:pt x="12779" y="10512"/>
                  <a:pt x="12804" y="1050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"/>
          <p:cNvSpPr/>
          <p:nvPr/>
        </p:nvSpPr>
        <p:spPr>
          <a:xfrm>
            <a:off x="4764240" y="3595680"/>
            <a:ext cx="212400" cy="336600"/>
          </a:xfrm>
          <a:custGeom>
            <a:avLst/>
            <a:gdLst/>
            <a:ahLst/>
            <a:rect l="l" t="t" r="r" b="b"/>
            <a:pathLst>
              <a:path w="592" h="934">
                <a:moveTo>
                  <a:pt x="13302" y="10093"/>
                </a:moveTo>
                <a:cubicBezTo>
                  <a:pt x="13282" y="10055"/>
                  <a:pt x="13267" y="10021"/>
                  <a:pt x="13240" y="9989"/>
                </a:cubicBezTo>
                <a:cubicBezTo>
                  <a:pt x="13230" y="10039"/>
                  <a:pt x="13244" y="10093"/>
                  <a:pt x="13251" y="10145"/>
                </a:cubicBezTo>
                <a:cubicBezTo>
                  <a:pt x="13263" y="10237"/>
                  <a:pt x="13275" y="10333"/>
                  <a:pt x="13296" y="10424"/>
                </a:cubicBezTo>
                <a:cubicBezTo>
                  <a:pt x="13303" y="10446"/>
                  <a:pt x="13302" y="10454"/>
                  <a:pt x="13320" y="10451"/>
                </a:cubicBezTo>
                <a:cubicBezTo>
                  <a:pt x="13345" y="10411"/>
                  <a:pt x="13369" y="10371"/>
                  <a:pt x="13399" y="10334"/>
                </a:cubicBezTo>
                <a:cubicBezTo>
                  <a:pt x="13425" y="10302"/>
                  <a:pt x="13466" y="10248"/>
                  <a:pt x="13513" y="10249"/>
                </a:cubicBezTo>
                <a:cubicBezTo>
                  <a:pt x="13561" y="10250"/>
                  <a:pt x="13552" y="10332"/>
                  <a:pt x="13547" y="10359"/>
                </a:cubicBezTo>
                <a:cubicBezTo>
                  <a:pt x="13534" y="10429"/>
                  <a:pt x="13503" y="10495"/>
                  <a:pt x="13460" y="10552"/>
                </a:cubicBezTo>
                <a:cubicBezTo>
                  <a:pt x="13433" y="10588"/>
                  <a:pt x="13407" y="10613"/>
                  <a:pt x="13366" y="10601"/>
                </a:cubicBezTo>
                <a:cubicBezTo>
                  <a:pt x="13363" y="10558"/>
                  <a:pt x="13388" y="10531"/>
                  <a:pt x="13413" y="10496"/>
                </a:cubicBezTo>
              </a:path>
              <a:path w="592" h="934">
                <a:moveTo>
                  <a:pt x="13624" y="10302"/>
                </a:moveTo>
                <a:cubicBezTo>
                  <a:pt x="13628" y="10336"/>
                  <a:pt x="13626" y="10372"/>
                  <a:pt x="13631" y="10405"/>
                </a:cubicBezTo>
                <a:cubicBezTo>
                  <a:pt x="13637" y="10439"/>
                  <a:pt x="13641" y="10486"/>
                  <a:pt x="13666" y="10513"/>
                </a:cubicBezTo>
                <a:cubicBezTo>
                  <a:pt x="13690" y="10538"/>
                  <a:pt x="13719" y="10515"/>
                  <a:pt x="13737" y="10495"/>
                </a:cubicBezTo>
                <a:cubicBezTo>
                  <a:pt x="13765" y="10463"/>
                  <a:pt x="13783" y="10423"/>
                  <a:pt x="13803" y="10386"/>
                </a:cubicBezTo>
                <a:cubicBezTo>
                  <a:pt x="13811" y="10372"/>
                  <a:pt x="13812" y="10365"/>
                  <a:pt x="13823" y="10371"/>
                </a:cubicBezTo>
                <a:cubicBezTo>
                  <a:pt x="13809" y="10461"/>
                  <a:pt x="13784" y="10549"/>
                  <a:pt x="13761" y="10637"/>
                </a:cubicBezTo>
                <a:cubicBezTo>
                  <a:pt x="13738" y="10721"/>
                  <a:pt x="13714" y="10802"/>
                  <a:pt x="13685" y="10884"/>
                </a:cubicBezTo>
                <a:cubicBezTo>
                  <a:pt x="13678" y="10906"/>
                  <a:pt x="13678" y="10910"/>
                  <a:pt x="13671" y="1092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"/>
          <p:cNvSpPr/>
          <p:nvPr/>
        </p:nvSpPr>
        <p:spPr>
          <a:xfrm>
            <a:off x="5160960" y="3662280"/>
            <a:ext cx="271440" cy="173160"/>
          </a:xfrm>
          <a:custGeom>
            <a:avLst/>
            <a:gdLst/>
            <a:ahLst/>
            <a:rect l="l" t="t" r="r" b="b"/>
            <a:pathLst>
              <a:path w="754" h="480">
                <a:moveTo>
                  <a:pt x="14470" y="10190"/>
                </a:moveTo>
                <a:cubicBezTo>
                  <a:pt x="14456" y="10149"/>
                  <a:pt x="14463" y="10271"/>
                  <a:pt x="14463" y="10276"/>
                </a:cubicBezTo>
                <a:cubicBezTo>
                  <a:pt x="14465" y="10351"/>
                  <a:pt x="14471" y="10427"/>
                  <a:pt x="14479" y="10502"/>
                </a:cubicBezTo>
                <a:cubicBezTo>
                  <a:pt x="14481" y="10518"/>
                  <a:pt x="14503" y="10618"/>
                  <a:pt x="14485" y="10635"/>
                </a:cubicBezTo>
                <a:cubicBezTo>
                  <a:pt x="14480" y="10635"/>
                  <a:pt x="14476" y="10634"/>
                  <a:pt x="14471" y="10634"/>
                </a:cubicBezTo>
              </a:path>
              <a:path w="754" h="480">
                <a:moveTo>
                  <a:pt x="14352" y="10524"/>
                </a:moveTo>
                <a:cubicBezTo>
                  <a:pt x="14346" y="10526"/>
                  <a:pt x="14340" y="10528"/>
                  <a:pt x="14334" y="10530"/>
                </a:cubicBezTo>
                <a:cubicBezTo>
                  <a:pt x="14360" y="10557"/>
                  <a:pt x="14384" y="10558"/>
                  <a:pt x="14422" y="10553"/>
                </a:cubicBezTo>
                <a:cubicBezTo>
                  <a:pt x="14475" y="10546"/>
                  <a:pt x="14525" y="10525"/>
                  <a:pt x="14569" y="10497"/>
                </a:cubicBezTo>
                <a:cubicBezTo>
                  <a:pt x="14580" y="10490"/>
                  <a:pt x="14590" y="10482"/>
                  <a:pt x="14601" y="10475"/>
                </a:cubicBezTo>
              </a:path>
              <a:path w="754" h="480">
                <a:moveTo>
                  <a:pt x="14642" y="10318"/>
                </a:moveTo>
                <a:cubicBezTo>
                  <a:pt x="14641" y="10300"/>
                  <a:pt x="14641" y="10294"/>
                  <a:pt x="14635" y="10283"/>
                </a:cubicBezTo>
                <a:cubicBezTo>
                  <a:pt x="14625" y="10258"/>
                  <a:pt x="14634" y="10332"/>
                  <a:pt x="14635" y="10343"/>
                </a:cubicBezTo>
                <a:cubicBezTo>
                  <a:pt x="14640" y="10407"/>
                  <a:pt x="14644" y="10470"/>
                  <a:pt x="14644" y="10534"/>
                </a:cubicBezTo>
                <a:cubicBezTo>
                  <a:pt x="14644" y="10570"/>
                  <a:pt x="14642" y="10605"/>
                  <a:pt x="14640" y="10641"/>
                </a:cubicBezTo>
                <a:cubicBezTo>
                  <a:pt x="14625" y="10671"/>
                  <a:pt x="14653" y="10575"/>
                  <a:pt x="14656" y="10564"/>
                </a:cubicBezTo>
                <a:cubicBezTo>
                  <a:pt x="14666" y="10529"/>
                  <a:pt x="14683" y="10462"/>
                  <a:pt x="14723" y="10448"/>
                </a:cubicBezTo>
                <a:cubicBezTo>
                  <a:pt x="14750" y="10438"/>
                  <a:pt x="14770" y="10481"/>
                  <a:pt x="14780" y="10498"/>
                </a:cubicBezTo>
                <a:cubicBezTo>
                  <a:pt x="14795" y="10524"/>
                  <a:pt x="14809" y="10553"/>
                  <a:pt x="14837" y="10567"/>
                </a:cubicBezTo>
                <a:cubicBezTo>
                  <a:pt x="14843" y="10569"/>
                  <a:pt x="14849" y="10571"/>
                  <a:pt x="14855" y="10573"/>
                </a:cubicBezTo>
              </a:path>
              <a:path w="754" h="480">
                <a:moveTo>
                  <a:pt x="14974" y="10499"/>
                </a:moveTo>
                <a:cubicBezTo>
                  <a:pt x="14996" y="10480"/>
                  <a:pt x="15019" y="10452"/>
                  <a:pt x="15032" y="10425"/>
                </a:cubicBezTo>
                <a:cubicBezTo>
                  <a:pt x="15045" y="10399"/>
                  <a:pt x="15071" y="10357"/>
                  <a:pt x="15071" y="10327"/>
                </a:cubicBezTo>
                <a:cubicBezTo>
                  <a:pt x="15069" y="10323"/>
                  <a:pt x="15068" y="10320"/>
                  <a:pt x="15066" y="10316"/>
                </a:cubicBezTo>
                <a:cubicBezTo>
                  <a:pt x="15028" y="10350"/>
                  <a:pt x="15008" y="10384"/>
                  <a:pt x="14990" y="10433"/>
                </a:cubicBezTo>
                <a:cubicBezTo>
                  <a:pt x="14976" y="10472"/>
                  <a:pt x="14956" y="10531"/>
                  <a:pt x="14982" y="10569"/>
                </a:cubicBezTo>
                <a:cubicBezTo>
                  <a:pt x="15001" y="10597"/>
                  <a:pt x="15036" y="10601"/>
                  <a:pt x="15067" y="10594"/>
                </a:cubicBezTo>
                <a:cubicBezTo>
                  <a:pt x="15074" y="10591"/>
                  <a:pt x="15080" y="10589"/>
                  <a:pt x="15087" y="1058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"/>
          <p:cNvSpPr/>
          <p:nvPr/>
        </p:nvSpPr>
        <p:spPr>
          <a:xfrm>
            <a:off x="5616720" y="3610080"/>
            <a:ext cx="723600" cy="217440"/>
          </a:xfrm>
          <a:custGeom>
            <a:avLst/>
            <a:gdLst/>
            <a:ahLst/>
            <a:rect l="l" t="t" r="r" b="b"/>
            <a:pathLst>
              <a:path w="2008" h="605">
                <a:moveTo>
                  <a:pt x="15632" y="10371"/>
                </a:moveTo>
                <a:cubicBezTo>
                  <a:pt x="15616" y="10415"/>
                  <a:pt x="15603" y="10464"/>
                  <a:pt x="15603" y="10512"/>
                </a:cubicBezTo>
                <a:cubicBezTo>
                  <a:pt x="15603" y="10543"/>
                  <a:pt x="15602" y="10602"/>
                  <a:pt x="15625" y="10628"/>
                </a:cubicBezTo>
                <a:cubicBezTo>
                  <a:pt x="15628" y="10630"/>
                  <a:pt x="15632" y="10631"/>
                  <a:pt x="15635" y="10633"/>
                </a:cubicBezTo>
                <a:cubicBezTo>
                  <a:pt x="15660" y="10606"/>
                  <a:pt x="15669" y="10573"/>
                  <a:pt x="15680" y="10538"/>
                </a:cubicBezTo>
                <a:cubicBezTo>
                  <a:pt x="15700" y="10474"/>
                  <a:pt x="15716" y="10410"/>
                  <a:pt x="15740" y="10347"/>
                </a:cubicBezTo>
                <a:cubicBezTo>
                  <a:pt x="15749" y="10322"/>
                  <a:pt x="15770" y="10249"/>
                  <a:pt x="15800" y="10236"/>
                </a:cubicBezTo>
                <a:cubicBezTo>
                  <a:pt x="15826" y="10225"/>
                  <a:pt x="15854" y="10263"/>
                  <a:pt x="15868" y="10277"/>
                </a:cubicBezTo>
                <a:cubicBezTo>
                  <a:pt x="15872" y="10281"/>
                  <a:pt x="15877" y="10286"/>
                  <a:pt x="15881" y="10290"/>
                </a:cubicBezTo>
              </a:path>
              <a:path w="2008" h="605">
                <a:moveTo>
                  <a:pt x="16017" y="10285"/>
                </a:moveTo>
                <a:cubicBezTo>
                  <a:pt x="15989" y="10284"/>
                  <a:pt x="15975" y="10300"/>
                  <a:pt x="15956" y="10322"/>
                </a:cubicBezTo>
                <a:cubicBezTo>
                  <a:pt x="15925" y="10359"/>
                  <a:pt x="15906" y="10402"/>
                  <a:pt x="15889" y="10447"/>
                </a:cubicBezTo>
                <a:cubicBezTo>
                  <a:pt x="15877" y="10479"/>
                  <a:pt x="15869" y="10508"/>
                  <a:pt x="15871" y="10542"/>
                </a:cubicBezTo>
                <a:cubicBezTo>
                  <a:pt x="15907" y="10539"/>
                  <a:pt x="15922" y="10520"/>
                  <a:pt x="15948" y="10492"/>
                </a:cubicBezTo>
                <a:cubicBezTo>
                  <a:pt x="15977" y="10461"/>
                  <a:pt x="16005" y="10426"/>
                  <a:pt x="16039" y="10400"/>
                </a:cubicBezTo>
                <a:cubicBezTo>
                  <a:pt x="16055" y="10391"/>
                  <a:pt x="16059" y="10387"/>
                  <a:pt x="16071" y="10392"/>
                </a:cubicBezTo>
                <a:cubicBezTo>
                  <a:pt x="16092" y="10427"/>
                  <a:pt x="16094" y="10463"/>
                  <a:pt x="16100" y="10504"/>
                </a:cubicBezTo>
                <a:cubicBezTo>
                  <a:pt x="16105" y="10540"/>
                  <a:pt x="16115" y="10595"/>
                  <a:pt x="16147" y="10619"/>
                </a:cubicBezTo>
                <a:cubicBezTo>
                  <a:pt x="16153" y="10621"/>
                  <a:pt x="16159" y="10624"/>
                  <a:pt x="16165" y="10626"/>
                </a:cubicBezTo>
              </a:path>
              <a:path w="2008" h="605">
                <a:moveTo>
                  <a:pt x="16289" y="10327"/>
                </a:moveTo>
                <a:cubicBezTo>
                  <a:pt x="16279" y="10361"/>
                  <a:pt x="16271" y="10398"/>
                  <a:pt x="16266" y="10433"/>
                </a:cubicBezTo>
                <a:cubicBezTo>
                  <a:pt x="16262" y="10463"/>
                  <a:pt x="16261" y="10493"/>
                  <a:pt x="16257" y="10523"/>
                </a:cubicBezTo>
                <a:cubicBezTo>
                  <a:pt x="16269" y="10488"/>
                  <a:pt x="16277" y="10453"/>
                  <a:pt x="16289" y="10418"/>
                </a:cubicBezTo>
                <a:cubicBezTo>
                  <a:pt x="16307" y="10366"/>
                  <a:pt x="16327" y="10312"/>
                  <a:pt x="16359" y="10268"/>
                </a:cubicBezTo>
                <a:cubicBezTo>
                  <a:pt x="16378" y="10241"/>
                  <a:pt x="16405" y="10232"/>
                  <a:pt x="16422" y="10267"/>
                </a:cubicBezTo>
                <a:cubicBezTo>
                  <a:pt x="16442" y="10307"/>
                  <a:pt x="16447" y="10359"/>
                  <a:pt x="16454" y="10402"/>
                </a:cubicBezTo>
                <a:cubicBezTo>
                  <a:pt x="16458" y="10425"/>
                  <a:pt x="16464" y="10447"/>
                  <a:pt x="16470" y="10469"/>
                </a:cubicBezTo>
              </a:path>
              <a:path w="2008" h="605">
                <a:moveTo>
                  <a:pt x="16754" y="10254"/>
                </a:moveTo>
                <a:cubicBezTo>
                  <a:pt x="16741" y="10236"/>
                  <a:pt x="16719" y="10226"/>
                  <a:pt x="16695" y="10242"/>
                </a:cubicBezTo>
                <a:cubicBezTo>
                  <a:pt x="16658" y="10267"/>
                  <a:pt x="16628" y="10319"/>
                  <a:pt x="16610" y="10358"/>
                </a:cubicBezTo>
                <a:cubicBezTo>
                  <a:pt x="16598" y="10383"/>
                  <a:pt x="16572" y="10442"/>
                  <a:pt x="16593" y="10470"/>
                </a:cubicBezTo>
                <a:cubicBezTo>
                  <a:pt x="16597" y="10472"/>
                  <a:pt x="16601" y="10473"/>
                  <a:pt x="16605" y="10475"/>
                </a:cubicBezTo>
                <a:cubicBezTo>
                  <a:pt x="16643" y="10453"/>
                  <a:pt x="16666" y="10423"/>
                  <a:pt x="16689" y="10385"/>
                </a:cubicBezTo>
                <a:cubicBezTo>
                  <a:pt x="16733" y="10312"/>
                  <a:pt x="16761" y="10231"/>
                  <a:pt x="16782" y="10149"/>
                </a:cubicBezTo>
                <a:cubicBezTo>
                  <a:pt x="16793" y="10108"/>
                  <a:pt x="16797" y="10071"/>
                  <a:pt x="16797" y="10029"/>
                </a:cubicBezTo>
                <a:cubicBezTo>
                  <a:pt x="16774" y="10065"/>
                  <a:pt x="16773" y="10102"/>
                  <a:pt x="16772" y="10146"/>
                </a:cubicBezTo>
                <a:cubicBezTo>
                  <a:pt x="16771" y="10214"/>
                  <a:pt x="16778" y="10280"/>
                  <a:pt x="16792" y="10346"/>
                </a:cubicBezTo>
                <a:cubicBezTo>
                  <a:pt x="16801" y="10388"/>
                  <a:pt x="16817" y="10437"/>
                  <a:pt x="16842" y="10473"/>
                </a:cubicBezTo>
                <a:cubicBezTo>
                  <a:pt x="16846" y="10477"/>
                  <a:pt x="16850" y="10481"/>
                  <a:pt x="16854" y="10485"/>
                </a:cubicBezTo>
              </a:path>
              <a:path w="2008" h="605">
                <a:moveTo>
                  <a:pt x="17135" y="10246"/>
                </a:moveTo>
                <a:cubicBezTo>
                  <a:pt x="17099" y="10243"/>
                  <a:pt x="17058" y="10257"/>
                  <a:pt x="17028" y="10283"/>
                </a:cubicBezTo>
                <a:cubicBezTo>
                  <a:pt x="16990" y="10316"/>
                  <a:pt x="16953" y="10363"/>
                  <a:pt x="16934" y="10410"/>
                </a:cubicBezTo>
                <a:cubicBezTo>
                  <a:pt x="16928" y="10433"/>
                  <a:pt x="16925" y="10438"/>
                  <a:pt x="16931" y="10452"/>
                </a:cubicBezTo>
                <a:cubicBezTo>
                  <a:pt x="16965" y="10463"/>
                  <a:pt x="16992" y="10450"/>
                  <a:pt x="17023" y="10430"/>
                </a:cubicBezTo>
                <a:cubicBezTo>
                  <a:pt x="17063" y="10404"/>
                  <a:pt x="17105" y="10367"/>
                  <a:pt x="17134" y="10329"/>
                </a:cubicBezTo>
                <a:cubicBezTo>
                  <a:pt x="17145" y="10315"/>
                  <a:pt x="17176" y="10283"/>
                  <a:pt x="17169" y="10262"/>
                </a:cubicBezTo>
                <a:cubicBezTo>
                  <a:pt x="17166" y="10258"/>
                  <a:pt x="17164" y="10254"/>
                  <a:pt x="17161" y="10250"/>
                </a:cubicBezTo>
              </a:path>
              <a:path w="2008" h="605">
                <a:moveTo>
                  <a:pt x="17202" y="10341"/>
                </a:moveTo>
                <a:cubicBezTo>
                  <a:pt x="17210" y="10369"/>
                  <a:pt x="17210" y="10383"/>
                  <a:pt x="17236" y="10394"/>
                </a:cubicBezTo>
                <a:cubicBezTo>
                  <a:pt x="17253" y="10374"/>
                  <a:pt x="17266" y="10351"/>
                  <a:pt x="17281" y="10328"/>
                </a:cubicBezTo>
                <a:cubicBezTo>
                  <a:pt x="17297" y="10304"/>
                  <a:pt x="17316" y="10271"/>
                  <a:pt x="17344" y="10259"/>
                </a:cubicBezTo>
                <a:cubicBezTo>
                  <a:pt x="17370" y="10248"/>
                  <a:pt x="17381" y="10277"/>
                  <a:pt x="17385" y="10296"/>
                </a:cubicBezTo>
                <a:cubicBezTo>
                  <a:pt x="17392" y="10325"/>
                  <a:pt x="17390" y="10355"/>
                  <a:pt x="17386" y="10384"/>
                </a:cubicBezTo>
                <a:cubicBezTo>
                  <a:pt x="17385" y="10387"/>
                  <a:pt x="17385" y="10391"/>
                  <a:pt x="17384" y="10394"/>
                </a:cubicBezTo>
                <a:cubicBezTo>
                  <a:pt x="17395" y="10363"/>
                  <a:pt x="17407" y="10333"/>
                  <a:pt x="17424" y="10305"/>
                </a:cubicBezTo>
                <a:cubicBezTo>
                  <a:pt x="17436" y="10285"/>
                  <a:pt x="17456" y="10250"/>
                  <a:pt x="17484" y="10255"/>
                </a:cubicBezTo>
                <a:cubicBezTo>
                  <a:pt x="17513" y="10260"/>
                  <a:pt x="17527" y="10303"/>
                  <a:pt x="17541" y="10324"/>
                </a:cubicBezTo>
                <a:cubicBezTo>
                  <a:pt x="17563" y="10358"/>
                  <a:pt x="17582" y="10390"/>
                  <a:pt x="17610" y="1041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"/>
          <p:cNvSpPr/>
          <p:nvPr/>
        </p:nvSpPr>
        <p:spPr>
          <a:xfrm>
            <a:off x="6510240" y="3578400"/>
            <a:ext cx="847800" cy="199800"/>
          </a:xfrm>
          <a:custGeom>
            <a:avLst/>
            <a:gdLst/>
            <a:ahLst/>
            <a:rect l="l" t="t" r="r" b="b"/>
            <a:pathLst>
              <a:path w="2355" h="556">
                <a:moveTo>
                  <a:pt x="18083" y="10246"/>
                </a:moveTo>
                <a:cubicBezTo>
                  <a:pt x="18090" y="10285"/>
                  <a:pt x="18090" y="10327"/>
                  <a:pt x="18099" y="10365"/>
                </a:cubicBezTo>
                <a:cubicBezTo>
                  <a:pt x="18107" y="10401"/>
                  <a:pt x="18118" y="10462"/>
                  <a:pt x="18150" y="10486"/>
                </a:cubicBezTo>
                <a:cubicBezTo>
                  <a:pt x="18180" y="10509"/>
                  <a:pt x="18210" y="10473"/>
                  <a:pt x="18225" y="10450"/>
                </a:cubicBezTo>
                <a:cubicBezTo>
                  <a:pt x="18269" y="10383"/>
                  <a:pt x="18307" y="10299"/>
                  <a:pt x="18335" y="10225"/>
                </a:cubicBezTo>
                <a:cubicBezTo>
                  <a:pt x="18346" y="10196"/>
                  <a:pt x="18351" y="10182"/>
                  <a:pt x="18370" y="10159"/>
                </a:cubicBezTo>
              </a:path>
              <a:path w="2355" h="556">
                <a:moveTo>
                  <a:pt x="18508" y="10217"/>
                </a:moveTo>
                <a:cubicBezTo>
                  <a:pt x="18481" y="10199"/>
                  <a:pt x="18470" y="10218"/>
                  <a:pt x="18452" y="10246"/>
                </a:cubicBezTo>
                <a:cubicBezTo>
                  <a:pt x="18428" y="10284"/>
                  <a:pt x="18412" y="10327"/>
                  <a:pt x="18401" y="10371"/>
                </a:cubicBezTo>
                <a:cubicBezTo>
                  <a:pt x="18395" y="10394"/>
                  <a:pt x="18395" y="10410"/>
                  <a:pt x="18399" y="10432"/>
                </a:cubicBezTo>
                <a:cubicBezTo>
                  <a:pt x="18432" y="10428"/>
                  <a:pt x="18443" y="10413"/>
                  <a:pt x="18467" y="10388"/>
                </a:cubicBezTo>
                <a:cubicBezTo>
                  <a:pt x="18482" y="10373"/>
                  <a:pt x="18504" y="10341"/>
                  <a:pt x="18528" y="10339"/>
                </a:cubicBezTo>
                <a:cubicBezTo>
                  <a:pt x="18555" y="10336"/>
                  <a:pt x="18563" y="10383"/>
                  <a:pt x="18574" y="10399"/>
                </a:cubicBezTo>
                <a:cubicBezTo>
                  <a:pt x="18585" y="10413"/>
                  <a:pt x="18587" y="10417"/>
                  <a:pt x="18598" y="10421"/>
                </a:cubicBezTo>
              </a:path>
              <a:path w="2355" h="556">
                <a:moveTo>
                  <a:pt x="18741" y="10308"/>
                </a:moveTo>
                <a:cubicBezTo>
                  <a:pt x="18739" y="10328"/>
                  <a:pt x="18736" y="10352"/>
                  <a:pt x="18737" y="10372"/>
                </a:cubicBezTo>
                <a:cubicBezTo>
                  <a:pt x="18738" y="10386"/>
                  <a:pt x="18739" y="10401"/>
                  <a:pt x="18740" y="10415"/>
                </a:cubicBezTo>
                <a:cubicBezTo>
                  <a:pt x="18755" y="10392"/>
                  <a:pt x="18762" y="10368"/>
                  <a:pt x="18773" y="10342"/>
                </a:cubicBezTo>
                <a:cubicBezTo>
                  <a:pt x="18785" y="10312"/>
                  <a:pt x="18800" y="10289"/>
                  <a:pt x="18818" y="10263"/>
                </a:cubicBezTo>
                <a:cubicBezTo>
                  <a:pt x="18835" y="10238"/>
                  <a:pt x="18844" y="10234"/>
                  <a:pt x="18872" y="10225"/>
                </a:cubicBezTo>
              </a:path>
              <a:path w="2355" h="556">
                <a:moveTo>
                  <a:pt x="19005" y="10231"/>
                </a:moveTo>
                <a:cubicBezTo>
                  <a:pt x="19013" y="10262"/>
                  <a:pt x="19008" y="10284"/>
                  <a:pt x="19009" y="10314"/>
                </a:cubicBezTo>
                <a:cubicBezTo>
                  <a:pt x="19010" y="10346"/>
                  <a:pt x="19006" y="10372"/>
                  <a:pt x="19004" y="10403"/>
                </a:cubicBezTo>
                <a:cubicBezTo>
                  <a:pt x="19004" y="10406"/>
                  <a:pt x="19005" y="10409"/>
                  <a:pt x="19005" y="10412"/>
                </a:cubicBezTo>
              </a:path>
              <a:path w="2355" h="556">
                <a:moveTo>
                  <a:pt x="19304" y="10190"/>
                </a:moveTo>
                <a:cubicBezTo>
                  <a:pt x="19270" y="10220"/>
                  <a:pt x="19247" y="10247"/>
                  <a:pt x="19220" y="10283"/>
                </a:cubicBezTo>
                <a:cubicBezTo>
                  <a:pt x="19204" y="10304"/>
                  <a:pt x="19175" y="10342"/>
                  <a:pt x="19191" y="10371"/>
                </a:cubicBezTo>
                <a:cubicBezTo>
                  <a:pt x="19206" y="10398"/>
                  <a:pt x="19249" y="10368"/>
                  <a:pt x="19263" y="10359"/>
                </a:cubicBezTo>
                <a:cubicBezTo>
                  <a:pt x="19295" y="10338"/>
                  <a:pt x="19322" y="10310"/>
                  <a:pt x="19354" y="10290"/>
                </a:cubicBezTo>
                <a:cubicBezTo>
                  <a:pt x="19369" y="10283"/>
                  <a:pt x="19373" y="10280"/>
                  <a:pt x="19384" y="10280"/>
                </a:cubicBezTo>
                <a:cubicBezTo>
                  <a:pt x="19399" y="10302"/>
                  <a:pt x="19400" y="10319"/>
                  <a:pt x="19398" y="10347"/>
                </a:cubicBezTo>
                <a:cubicBezTo>
                  <a:pt x="19397" y="10352"/>
                  <a:pt x="19397" y="10356"/>
                  <a:pt x="19396" y="10361"/>
                </a:cubicBezTo>
              </a:path>
              <a:path w="2355" h="556">
                <a:moveTo>
                  <a:pt x="19485" y="9939"/>
                </a:moveTo>
                <a:cubicBezTo>
                  <a:pt x="19498" y="9988"/>
                  <a:pt x="19488" y="10033"/>
                  <a:pt x="19484" y="10084"/>
                </a:cubicBezTo>
                <a:cubicBezTo>
                  <a:pt x="19477" y="10166"/>
                  <a:pt x="19471" y="10249"/>
                  <a:pt x="19469" y="10331"/>
                </a:cubicBezTo>
                <a:cubicBezTo>
                  <a:pt x="19468" y="10368"/>
                  <a:pt x="19469" y="10402"/>
                  <a:pt x="19472" y="10439"/>
                </a:cubicBezTo>
              </a:path>
              <a:path w="2355" h="556">
                <a:moveTo>
                  <a:pt x="19429" y="10369"/>
                </a:moveTo>
                <a:cubicBezTo>
                  <a:pt x="19444" y="10328"/>
                  <a:pt x="19459" y="10307"/>
                  <a:pt x="19489" y="10276"/>
                </a:cubicBezTo>
                <a:cubicBezTo>
                  <a:pt x="19512" y="10252"/>
                  <a:pt x="19553" y="10221"/>
                  <a:pt x="19591" y="10230"/>
                </a:cubicBezTo>
                <a:cubicBezTo>
                  <a:pt x="19627" y="10238"/>
                  <a:pt x="19646" y="10272"/>
                  <a:pt x="19646" y="10307"/>
                </a:cubicBezTo>
                <a:cubicBezTo>
                  <a:pt x="19645" y="10313"/>
                  <a:pt x="19643" y="10320"/>
                  <a:pt x="19642" y="10326"/>
                </a:cubicBezTo>
              </a:path>
              <a:path w="2355" h="556">
                <a:moveTo>
                  <a:pt x="19672" y="10360"/>
                </a:moveTo>
                <a:cubicBezTo>
                  <a:pt x="19653" y="10368"/>
                  <a:pt x="19626" y="10389"/>
                  <a:pt x="19611" y="10404"/>
                </a:cubicBezTo>
                <a:cubicBezTo>
                  <a:pt x="19584" y="10431"/>
                  <a:pt x="19562" y="10455"/>
                  <a:pt x="19529" y="10475"/>
                </a:cubicBezTo>
                <a:cubicBezTo>
                  <a:pt x="19506" y="10489"/>
                  <a:pt x="19481" y="10495"/>
                  <a:pt x="19468" y="10465"/>
                </a:cubicBezTo>
                <a:cubicBezTo>
                  <a:pt x="19465" y="10447"/>
                  <a:pt x="19464" y="10441"/>
                  <a:pt x="19470" y="10430"/>
                </a:cubicBezTo>
              </a:path>
              <a:path w="2355" h="556">
                <a:moveTo>
                  <a:pt x="19818" y="9970"/>
                </a:moveTo>
                <a:cubicBezTo>
                  <a:pt x="19809" y="9937"/>
                  <a:pt x="19801" y="10022"/>
                  <a:pt x="19801" y="10023"/>
                </a:cubicBezTo>
                <a:cubicBezTo>
                  <a:pt x="19789" y="10091"/>
                  <a:pt x="19780" y="10161"/>
                  <a:pt x="19779" y="10231"/>
                </a:cubicBezTo>
                <a:cubicBezTo>
                  <a:pt x="19778" y="10289"/>
                  <a:pt x="19776" y="10344"/>
                  <a:pt x="19797" y="10399"/>
                </a:cubicBezTo>
                <a:cubicBezTo>
                  <a:pt x="19805" y="10415"/>
                  <a:pt x="19807" y="10420"/>
                  <a:pt x="19819" y="10422"/>
                </a:cubicBezTo>
              </a:path>
              <a:path w="2355" h="556">
                <a:moveTo>
                  <a:pt x="19909" y="10307"/>
                </a:moveTo>
                <a:cubicBezTo>
                  <a:pt x="19928" y="10289"/>
                  <a:pt x="19940" y="10288"/>
                  <a:pt x="19959" y="10277"/>
                </a:cubicBezTo>
                <a:cubicBezTo>
                  <a:pt x="19983" y="10263"/>
                  <a:pt x="20008" y="10256"/>
                  <a:pt x="20034" y="10244"/>
                </a:cubicBezTo>
                <a:cubicBezTo>
                  <a:pt x="20047" y="10236"/>
                  <a:pt x="20051" y="10234"/>
                  <a:pt x="20061" y="10232"/>
                </a:cubicBezTo>
                <a:cubicBezTo>
                  <a:pt x="20021" y="10268"/>
                  <a:pt x="19985" y="10304"/>
                  <a:pt x="19967" y="10356"/>
                </a:cubicBezTo>
                <a:cubicBezTo>
                  <a:pt x="19953" y="10395"/>
                  <a:pt x="19960" y="10433"/>
                  <a:pt x="19998" y="10453"/>
                </a:cubicBezTo>
                <a:cubicBezTo>
                  <a:pt x="20037" y="10474"/>
                  <a:pt x="20096" y="10471"/>
                  <a:pt x="20139" y="10469"/>
                </a:cubicBezTo>
                <a:cubicBezTo>
                  <a:pt x="20171" y="10466"/>
                  <a:pt x="20181" y="10465"/>
                  <a:pt x="20202" y="10461"/>
                </a:cubicBezTo>
              </a:path>
              <a:path w="2355" h="556">
                <a:moveTo>
                  <a:pt x="20437" y="10411"/>
                </a:moveTo>
                <a:cubicBezTo>
                  <a:pt x="20410" y="10418"/>
                  <a:pt x="20423" y="10389"/>
                  <a:pt x="20423" y="10366"/>
                </a:cubicBezTo>
                <a:cubicBezTo>
                  <a:pt x="20421" y="10341"/>
                  <a:pt x="20420" y="10332"/>
                  <a:pt x="20421" y="1031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"/>
          <p:cNvSpPr/>
          <p:nvPr/>
        </p:nvSpPr>
        <p:spPr>
          <a:xfrm>
            <a:off x="228600" y="6076800"/>
            <a:ext cx="130320" cy="325440"/>
          </a:xfrm>
          <a:custGeom>
            <a:avLst/>
            <a:gdLst/>
            <a:ahLst/>
            <a:rect l="l" t="t" r="r" b="b"/>
            <a:pathLst>
              <a:path w="359" h="903">
                <a:moveTo>
                  <a:pt x="949" y="16900"/>
                </a:moveTo>
                <a:cubicBezTo>
                  <a:pt x="964" y="16894"/>
                  <a:pt x="979" y="16887"/>
                  <a:pt x="994" y="16881"/>
                </a:cubicBezTo>
                <a:cubicBezTo>
                  <a:pt x="914" y="16906"/>
                  <a:pt x="833" y="16929"/>
                  <a:pt x="754" y="16956"/>
                </a:cubicBezTo>
                <a:cubicBezTo>
                  <a:pt x="693" y="16978"/>
                  <a:pt x="676" y="16984"/>
                  <a:pt x="638" y="17002"/>
                </a:cubicBezTo>
                <a:cubicBezTo>
                  <a:pt x="662" y="17076"/>
                  <a:pt x="752" y="17062"/>
                  <a:pt x="768" y="17156"/>
                </a:cubicBezTo>
                <a:cubicBezTo>
                  <a:pt x="784" y="17245"/>
                  <a:pt x="693" y="17341"/>
                  <a:pt x="656" y="17412"/>
                </a:cubicBezTo>
                <a:cubicBezTo>
                  <a:pt x="650" y="17428"/>
                  <a:pt x="643" y="17444"/>
                  <a:pt x="637" y="17460"/>
                </a:cubicBezTo>
                <a:cubicBezTo>
                  <a:pt x="706" y="17466"/>
                  <a:pt x="761" y="17446"/>
                  <a:pt x="831" y="17436"/>
                </a:cubicBezTo>
                <a:cubicBezTo>
                  <a:pt x="907" y="17425"/>
                  <a:pt x="973" y="17469"/>
                  <a:pt x="949" y="17383"/>
                </a:cubicBezTo>
                <a:cubicBezTo>
                  <a:pt x="943" y="17367"/>
                  <a:pt x="936" y="17350"/>
                  <a:pt x="930" y="17334"/>
                </a:cubicBezTo>
              </a:path>
              <a:path w="359" h="903">
                <a:moveTo>
                  <a:pt x="739" y="17719"/>
                </a:moveTo>
                <a:cubicBezTo>
                  <a:pt x="654" y="17668"/>
                  <a:pt x="654" y="17657"/>
                  <a:pt x="675" y="17757"/>
                </a:cubicBezTo>
              </a:path>
              <a:path w="359" h="903">
                <a:moveTo>
                  <a:pt x="938" y="17667"/>
                </a:moveTo>
                <a:cubicBezTo>
                  <a:pt x="896" y="17709"/>
                  <a:pt x="882" y="17723"/>
                  <a:pt x="856" y="17753"/>
                </a:cubicBezTo>
                <a:cubicBezTo>
                  <a:pt x="911" y="17772"/>
                  <a:pt x="932" y="17777"/>
                  <a:pt x="988" y="1777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"/>
          <p:cNvSpPr/>
          <p:nvPr/>
        </p:nvSpPr>
        <p:spPr>
          <a:xfrm>
            <a:off x="1812960" y="5791320"/>
            <a:ext cx="12600" cy="9360"/>
          </a:xfrm>
          <a:custGeom>
            <a:avLst/>
            <a:gdLst/>
            <a:ahLst/>
            <a:rect l="l" t="t" r="r" b="b"/>
            <a:pathLst>
              <a:path w="34" h="30">
                <a:moveTo>
                  <a:pt x="5069" y="16103"/>
                </a:moveTo>
                <a:cubicBezTo>
                  <a:pt x="5054" y="16120"/>
                  <a:pt x="5050" y="16102"/>
                  <a:pt x="5036" y="16085"/>
                </a:cubicBezTo>
                <a:cubicBezTo>
                  <a:pt x="5045" y="16101"/>
                  <a:pt x="5048" y="16105"/>
                  <a:pt x="5055" y="1611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"/>
          <p:cNvSpPr/>
          <p:nvPr/>
        </p:nvSpPr>
        <p:spPr>
          <a:xfrm>
            <a:off x="1428840" y="4513320"/>
            <a:ext cx="520560" cy="554040"/>
          </a:xfrm>
          <a:custGeom>
            <a:avLst/>
            <a:gdLst/>
            <a:ahLst/>
            <a:rect l="l" t="t" r="r" b="b"/>
            <a:pathLst>
              <a:path w="1448" h="1536">
                <a:moveTo>
                  <a:pt x="4176" y="12608"/>
                </a:moveTo>
                <a:cubicBezTo>
                  <a:pt x="4176" y="12585"/>
                  <a:pt x="4170" y="12559"/>
                  <a:pt x="4144" y="12549"/>
                </a:cubicBezTo>
                <a:cubicBezTo>
                  <a:pt x="4124" y="12542"/>
                  <a:pt x="4098" y="12551"/>
                  <a:pt x="4081" y="12562"/>
                </a:cubicBezTo>
                <a:cubicBezTo>
                  <a:pt x="4054" y="12579"/>
                  <a:pt x="4027" y="12604"/>
                  <a:pt x="4007" y="12629"/>
                </a:cubicBezTo>
                <a:cubicBezTo>
                  <a:pt x="3995" y="12644"/>
                  <a:pt x="3989" y="12657"/>
                  <a:pt x="3983" y="12674"/>
                </a:cubicBezTo>
                <a:cubicBezTo>
                  <a:pt x="4006" y="12687"/>
                  <a:pt x="4024" y="12687"/>
                  <a:pt x="4050" y="12693"/>
                </a:cubicBezTo>
                <a:cubicBezTo>
                  <a:pt x="4075" y="12699"/>
                  <a:pt x="4099" y="12708"/>
                  <a:pt x="4105" y="12735"/>
                </a:cubicBezTo>
                <a:cubicBezTo>
                  <a:pt x="4113" y="12769"/>
                  <a:pt x="4093" y="12801"/>
                  <a:pt x="4076" y="12828"/>
                </a:cubicBezTo>
                <a:cubicBezTo>
                  <a:pt x="4063" y="12849"/>
                  <a:pt x="4046" y="12870"/>
                  <a:pt x="4032" y="12890"/>
                </a:cubicBezTo>
                <a:cubicBezTo>
                  <a:pt x="4059" y="12898"/>
                  <a:pt x="4087" y="12899"/>
                  <a:pt x="4113" y="12911"/>
                </a:cubicBezTo>
                <a:cubicBezTo>
                  <a:pt x="4142" y="12925"/>
                  <a:pt x="4165" y="12946"/>
                  <a:pt x="4164" y="12981"/>
                </a:cubicBezTo>
                <a:cubicBezTo>
                  <a:pt x="4163" y="13036"/>
                  <a:pt x="4126" y="13090"/>
                  <a:pt x="4100" y="13136"/>
                </a:cubicBezTo>
                <a:cubicBezTo>
                  <a:pt x="4086" y="13162"/>
                  <a:pt x="4078" y="13168"/>
                  <a:pt x="4103" y="13183"/>
                </a:cubicBezTo>
                <a:cubicBezTo>
                  <a:pt x="4138" y="13204"/>
                  <a:pt x="4179" y="13180"/>
                  <a:pt x="4210" y="13164"/>
                </a:cubicBezTo>
              </a:path>
              <a:path w="1448" h="1536">
                <a:moveTo>
                  <a:pt x="4507" y="12614"/>
                </a:moveTo>
                <a:cubicBezTo>
                  <a:pt x="4509" y="12611"/>
                  <a:pt x="4510" y="12607"/>
                  <a:pt x="4512" y="12604"/>
                </a:cubicBezTo>
                <a:cubicBezTo>
                  <a:pt x="4534" y="12622"/>
                  <a:pt x="4528" y="12658"/>
                  <a:pt x="4531" y="12689"/>
                </a:cubicBezTo>
                <a:cubicBezTo>
                  <a:pt x="4537" y="12752"/>
                  <a:pt x="4539" y="12814"/>
                  <a:pt x="4543" y="12877"/>
                </a:cubicBezTo>
                <a:cubicBezTo>
                  <a:pt x="4545" y="12910"/>
                  <a:pt x="4543" y="12935"/>
                  <a:pt x="4538" y="12967"/>
                </a:cubicBezTo>
              </a:path>
              <a:path w="1448" h="1536">
                <a:moveTo>
                  <a:pt x="4370" y="12658"/>
                </a:moveTo>
                <a:cubicBezTo>
                  <a:pt x="4357" y="12649"/>
                  <a:pt x="4352" y="12646"/>
                  <a:pt x="4347" y="12636"/>
                </a:cubicBezTo>
                <a:cubicBezTo>
                  <a:pt x="4362" y="12619"/>
                  <a:pt x="4401" y="12623"/>
                  <a:pt x="4427" y="12622"/>
                </a:cubicBezTo>
                <a:cubicBezTo>
                  <a:pt x="4482" y="12620"/>
                  <a:pt x="4537" y="12627"/>
                  <a:pt x="4591" y="12632"/>
                </a:cubicBezTo>
              </a:path>
              <a:path w="1448" h="1536">
                <a:moveTo>
                  <a:pt x="4897" y="12559"/>
                </a:moveTo>
                <a:cubicBezTo>
                  <a:pt x="4916" y="12553"/>
                  <a:pt x="4935" y="12547"/>
                  <a:pt x="4955" y="12543"/>
                </a:cubicBezTo>
                <a:cubicBezTo>
                  <a:pt x="4974" y="12539"/>
                  <a:pt x="4986" y="12540"/>
                  <a:pt x="5002" y="12555"/>
                </a:cubicBezTo>
                <a:cubicBezTo>
                  <a:pt x="5022" y="12573"/>
                  <a:pt x="5013" y="12587"/>
                  <a:pt x="5000" y="12606"/>
                </a:cubicBezTo>
                <a:cubicBezTo>
                  <a:pt x="4982" y="12631"/>
                  <a:pt x="4957" y="12648"/>
                  <a:pt x="4934" y="12668"/>
                </a:cubicBezTo>
                <a:cubicBezTo>
                  <a:pt x="4920" y="12680"/>
                  <a:pt x="4913" y="12690"/>
                  <a:pt x="4902" y="12703"/>
                </a:cubicBezTo>
                <a:cubicBezTo>
                  <a:pt x="4927" y="12702"/>
                  <a:pt x="4953" y="12700"/>
                  <a:pt x="4978" y="12697"/>
                </a:cubicBezTo>
                <a:cubicBezTo>
                  <a:pt x="5002" y="12694"/>
                  <a:pt x="5041" y="12691"/>
                  <a:pt x="5054" y="12719"/>
                </a:cubicBezTo>
                <a:cubicBezTo>
                  <a:pt x="5069" y="12752"/>
                  <a:pt x="5049" y="12801"/>
                  <a:pt x="5041" y="12833"/>
                </a:cubicBezTo>
                <a:cubicBezTo>
                  <a:pt x="5030" y="12876"/>
                  <a:pt x="5018" y="12920"/>
                  <a:pt x="5021" y="12965"/>
                </a:cubicBezTo>
                <a:cubicBezTo>
                  <a:pt x="5025" y="13012"/>
                  <a:pt x="5065" y="13031"/>
                  <a:pt x="5079" y="13072"/>
                </a:cubicBezTo>
                <a:cubicBezTo>
                  <a:pt x="5089" y="13101"/>
                  <a:pt x="5072" y="13129"/>
                  <a:pt x="5054" y="13151"/>
                </a:cubicBezTo>
                <a:cubicBezTo>
                  <a:pt x="5031" y="13180"/>
                  <a:pt x="5013" y="13200"/>
                  <a:pt x="4975" y="13204"/>
                </a:cubicBezTo>
                <a:cubicBezTo>
                  <a:pt x="4955" y="13204"/>
                  <a:pt x="4947" y="13204"/>
                  <a:pt x="4935" y="13196"/>
                </a:cubicBezTo>
              </a:path>
              <a:path w="1448" h="1536">
                <a:moveTo>
                  <a:pt x="4073" y="13573"/>
                </a:moveTo>
                <a:cubicBezTo>
                  <a:pt x="4044" y="13572"/>
                  <a:pt x="4034" y="13585"/>
                  <a:pt x="4011" y="13608"/>
                </a:cubicBezTo>
                <a:cubicBezTo>
                  <a:pt x="3992" y="13628"/>
                  <a:pt x="3978" y="13645"/>
                  <a:pt x="3968" y="13671"/>
                </a:cubicBezTo>
                <a:cubicBezTo>
                  <a:pt x="3995" y="13685"/>
                  <a:pt x="4013" y="13680"/>
                  <a:pt x="4044" y="13681"/>
                </a:cubicBezTo>
                <a:cubicBezTo>
                  <a:pt x="4068" y="13681"/>
                  <a:pt x="4103" y="13679"/>
                  <a:pt x="4111" y="13709"/>
                </a:cubicBezTo>
                <a:cubicBezTo>
                  <a:pt x="4119" y="13740"/>
                  <a:pt x="4091" y="13780"/>
                  <a:pt x="4076" y="13804"/>
                </a:cubicBezTo>
                <a:cubicBezTo>
                  <a:pt x="4057" y="13835"/>
                  <a:pt x="4026" y="13859"/>
                  <a:pt x="4011" y="13892"/>
                </a:cubicBezTo>
                <a:cubicBezTo>
                  <a:pt x="4010" y="13896"/>
                  <a:pt x="4010" y="13899"/>
                  <a:pt x="4009" y="13903"/>
                </a:cubicBezTo>
                <a:cubicBezTo>
                  <a:pt x="4022" y="13911"/>
                  <a:pt x="4045" y="13912"/>
                  <a:pt x="4056" y="13921"/>
                </a:cubicBezTo>
                <a:cubicBezTo>
                  <a:pt x="4079" y="13940"/>
                  <a:pt x="4057" y="13958"/>
                  <a:pt x="4044" y="13975"/>
                </a:cubicBezTo>
                <a:cubicBezTo>
                  <a:pt x="4028" y="13996"/>
                  <a:pt x="4006" y="14014"/>
                  <a:pt x="3997" y="14040"/>
                </a:cubicBezTo>
                <a:cubicBezTo>
                  <a:pt x="3988" y="14065"/>
                  <a:pt x="4023" y="14076"/>
                  <a:pt x="4042" y="14074"/>
                </a:cubicBezTo>
                <a:cubicBezTo>
                  <a:pt x="4080" y="14071"/>
                  <a:pt x="4112" y="14053"/>
                  <a:pt x="4145" y="14038"/>
                </a:cubicBezTo>
              </a:path>
              <a:path w="1448" h="1536">
                <a:moveTo>
                  <a:pt x="4435" y="13546"/>
                </a:moveTo>
                <a:cubicBezTo>
                  <a:pt x="4420" y="13527"/>
                  <a:pt x="4412" y="13579"/>
                  <a:pt x="4410" y="13595"/>
                </a:cubicBezTo>
                <a:cubicBezTo>
                  <a:pt x="4403" y="13658"/>
                  <a:pt x="4409" y="13723"/>
                  <a:pt x="4406" y="13787"/>
                </a:cubicBezTo>
                <a:cubicBezTo>
                  <a:pt x="4404" y="13835"/>
                  <a:pt x="4403" y="13878"/>
                  <a:pt x="4407" y="13926"/>
                </a:cubicBezTo>
              </a:path>
              <a:path w="1448" h="1536">
                <a:moveTo>
                  <a:pt x="4371" y="13815"/>
                </a:moveTo>
                <a:cubicBezTo>
                  <a:pt x="4392" y="13789"/>
                  <a:pt x="4414" y="13775"/>
                  <a:pt x="4443" y="13757"/>
                </a:cubicBezTo>
                <a:cubicBezTo>
                  <a:pt x="4484" y="13731"/>
                  <a:pt x="4525" y="13708"/>
                  <a:pt x="4566" y="13683"/>
                </a:cubicBezTo>
              </a:path>
              <a:path w="1448" h="1536">
                <a:moveTo>
                  <a:pt x="4626" y="13590"/>
                </a:moveTo>
                <a:cubicBezTo>
                  <a:pt x="4614" y="13612"/>
                  <a:pt x="4605" y="13650"/>
                  <a:pt x="4603" y="13676"/>
                </a:cubicBezTo>
                <a:cubicBezTo>
                  <a:pt x="4599" y="13727"/>
                  <a:pt x="4600" y="13784"/>
                  <a:pt x="4610" y="13834"/>
                </a:cubicBezTo>
                <a:cubicBezTo>
                  <a:pt x="4616" y="13861"/>
                  <a:pt x="4625" y="13881"/>
                  <a:pt x="4638" y="13905"/>
                </a:cubicBezTo>
              </a:path>
              <a:path w="1448" h="1536">
                <a:moveTo>
                  <a:pt x="4926" y="13556"/>
                </a:moveTo>
                <a:cubicBezTo>
                  <a:pt x="4930" y="13599"/>
                  <a:pt x="4930" y="13640"/>
                  <a:pt x="4931" y="13683"/>
                </a:cubicBezTo>
                <a:cubicBezTo>
                  <a:pt x="4932" y="13738"/>
                  <a:pt x="4934" y="13792"/>
                  <a:pt x="4936" y="13847"/>
                </a:cubicBezTo>
                <a:cubicBezTo>
                  <a:pt x="4936" y="13854"/>
                  <a:pt x="4937" y="13860"/>
                  <a:pt x="4937" y="13867"/>
                </a:cubicBezTo>
              </a:path>
              <a:path w="1448" h="1536">
                <a:moveTo>
                  <a:pt x="4802" y="13587"/>
                </a:moveTo>
                <a:cubicBezTo>
                  <a:pt x="4825" y="13563"/>
                  <a:pt x="4857" y="13537"/>
                  <a:pt x="4889" y="13525"/>
                </a:cubicBezTo>
                <a:cubicBezTo>
                  <a:pt x="4927" y="13511"/>
                  <a:pt x="4980" y="13511"/>
                  <a:pt x="5019" y="13519"/>
                </a:cubicBezTo>
                <a:cubicBezTo>
                  <a:pt x="5028" y="13522"/>
                  <a:pt x="5036" y="13524"/>
                  <a:pt x="5045" y="13527"/>
                </a:cubicBezTo>
              </a:path>
              <a:path w="1448" h="1536">
                <a:moveTo>
                  <a:pt x="5263" y="13536"/>
                </a:moveTo>
                <a:cubicBezTo>
                  <a:pt x="5279" y="13520"/>
                  <a:pt x="5287" y="13511"/>
                  <a:pt x="5308" y="13503"/>
                </a:cubicBezTo>
                <a:cubicBezTo>
                  <a:pt x="5332" y="13493"/>
                  <a:pt x="5345" y="13508"/>
                  <a:pt x="5341" y="13534"/>
                </a:cubicBezTo>
                <a:cubicBezTo>
                  <a:pt x="5336" y="13563"/>
                  <a:pt x="5316" y="13594"/>
                  <a:pt x="5300" y="13618"/>
                </a:cubicBezTo>
                <a:cubicBezTo>
                  <a:pt x="5290" y="13633"/>
                  <a:pt x="5281" y="13645"/>
                  <a:pt x="5274" y="13662"/>
                </a:cubicBezTo>
                <a:cubicBezTo>
                  <a:pt x="5289" y="13661"/>
                  <a:pt x="5305" y="13658"/>
                  <a:pt x="5320" y="13664"/>
                </a:cubicBezTo>
                <a:cubicBezTo>
                  <a:pt x="5342" y="13673"/>
                  <a:pt x="5351" y="13696"/>
                  <a:pt x="5359" y="13716"/>
                </a:cubicBezTo>
                <a:cubicBezTo>
                  <a:pt x="5369" y="13742"/>
                  <a:pt x="5379" y="13768"/>
                  <a:pt x="5389" y="13794"/>
                </a:cubicBezTo>
                <a:cubicBezTo>
                  <a:pt x="5395" y="13809"/>
                  <a:pt x="5410" y="13826"/>
                  <a:pt x="5413" y="13842"/>
                </a:cubicBezTo>
                <a:cubicBezTo>
                  <a:pt x="5416" y="13858"/>
                  <a:pt x="5414" y="13877"/>
                  <a:pt x="5409" y="13893"/>
                </a:cubicBezTo>
                <a:cubicBezTo>
                  <a:pt x="5398" y="13928"/>
                  <a:pt x="5382" y="13957"/>
                  <a:pt x="5377" y="13992"/>
                </a:cubicBezTo>
                <a:cubicBezTo>
                  <a:pt x="5374" y="14012"/>
                  <a:pt x="5367" y="14027"/>
                  <a:pt x="5360" y="1404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"/>
          <p:cNvSpPr/>
          <p:nvPr/>
        </p:nvSpPr>
        <p:spPr>
          <a:xfrm>
            <a:off x="227160" y="6099120"/>
            <a:ext cx="215640" cy="284040"/>
          </a:xfrm>
          <a:custGeom>
            <a:avLst/>
            <a:gdLst/>
            <a:ahLst/>
            <a:rect l="l" t="t" r="r" b="b"/>
            <a:pathLst>
              <a:path w="602" h="789">
                <a:moveTo>
                  <a:pt x="936" y="16944"/>
                </a:moveTo>
                <a:cubicBezTo>
                  <a:pt x="971" y="17020"/>
                  <a:pt x="975" y="17059"/>
                  <a:pt x="978" y="17145"/>
                </a:cubicBezTo>
              </a:path>
              <a:path w="602" h="789">
                <a:moveTo>
                  <a:pt x="635" y="17606"/>
                </a:moveTo>
                <a:cubicBezTo>
                  <a:pt x="633" y="17590"/>
                  <a:pt x="632" y="17575"/>
                  <a:pt x="630" y="17559"/>
                </a:cubicBezTo>
              </a:path>
              <a:path w="602" h="789">
                <a:moveTo>
                  <a:pt x="836" y="17673"/>
                </a:moveTo>
                <a:cubicBezTo>
                  <a:pt x="887" y="17670"/>
                  <a:pt x="904" y="17669"/>
                  <a:pt x="938" y="17667"/>
                </a:cubicBezTo>
              </a:path>
              <a:path w="602" h="789">
                <a:moveTo>
                  <a:pt x="1170" y="17598"/>
                </a:moveTo>
                <a:cubicBezTo>
                  <a:pt x="1191" y="17642"/>
                  <a:pt x="1211" y="17687"/>
                  <a:pt x="1231" y="1773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"/>
          <p:cNvSpPr/>
          <p:nvPr/>
        </p:nvSpPr>
        <p:spPr>
          <a:xfrm>
            <a:off x="2584440" y="4497480"/>
            <a:ext cx="860400" cy="230040"/>
          </a:xfrm>
          <a:custGeom>
            <a:avLst/>
            <a:gdLst/>
            <a:ahLst/>
            <a:rect l="l" t="t" r="r" b="b"/>
            <a:pathLst>
              <a:path w="2390" h="640">
                <a:moveTo>
                  <a:pt x="7184" y="12495"/>
                </a:moveTo>
                <a:cubicBezTo>
                  <a:pt x="7179" y="12522"/>
                  <a:pt x="7181" y="12543"/>
                  <a:pt x="7189" y="12573"/>
                </a:cubicBezTo>
                <a:cubicBezTo>
                  <a:pt x="7209" y="12643"/>
                  <a:pt x="7236" y="12714"/>
                  <a:pt x="7264" y="12781"/>
                </a:cubicBezTo>
                <a:cubicBezTo>
                  <a:pt x="7293" y="12850"/>
                  <a:pt x="7324" y="12919"/>
                  <a:pt x="7362" y="12983"/>
                </a:cubicBezTo>
                <a:cubicBezTo>
                  <a:pt x="7373" y="13001"/>
                  <a:pt x="7391" y="13030"/>
                  <a:pt x="7408" y="13005"/>
                </a:cubicBezTo>
                <a:cubicBezTo>
                  <a:pt x="7411" y="12999"/>
                  <a:pt x="7414" y="12994"/>
                  <a:pt x="7417" y="12988"/>
                </a:cubicBezTo>
              </a:path>
              <a:path w="2390" h="640">
                <a:moveTo>
                  <a:pt x="7491" y="12518"/>
                </a:moveTo>
                <a:cubicBezTo>
                  <a:pt x="7455" y="12490"/>
                  <a:pt x="7448" y="12527"/>
                  <a:pt x="7432" y="12557"/>
                </a:cubicBezTo>
                <a:cubicBezTo>
                  <a:pt x="7394" y="12627"/>
                  <a:pt x="7365" y="12700"/>
                  <a:pt x="7338" y="12775"/>
                </a:cubicBezTo>
                <a:cubicBezTo>
                  <a:pt x="7311" y="12850"/>
                  <a:pt x="7277" y="12933"/>
                  <a:pt x="7261" y="13012"/>
                </a:cubicBezTo>
                <a:cubicBezTo>
                  <a:pt x="7255" y="13039"/>
                  <a:pt x="7247" y="13086"/>
                  <a:pt x="7273" y="13090"/>
                </a:cubicBezTo>
              </a:path>
              <a:path w="2390" h="640">
                <a:moveTo>
                  <a:pt x="7736" y="12506"/>
                </a:moveTo>
                <a:cubicBezTo>
                  <a:pt x="7710" y="12488"/>
                  <a:pt x="7719" y="12503"/>
                  <a:pt x="7704" y="12537"/>
                </a:cubicBezTo>
                <a:cubicBezTo>
                  <a:pt x="7676" y="12599"/>
                  <a:pt x="7661" y="12665"/>
                  <a:pt x="7648" y="12732"/>
                </a:cubicBezTo>
                <a:cubicBezTo>
                  <a:pt x="7634" y="12806"/>
                  <a:pt x="7616" y="12889"/>
                  <a:pt x="7623" y="12965"/>
                </a:cubicBezTo>
                <a:cubicBezTo>
                  <a:pt x="7626" y="13000"/>
                  <a:pt x="7638" y="13069"/>
                  <a:pt x="7673" y="13089"/>
                </a:cubicBezTo>
                <a:cubicBezTo>
                  <a:pt x="7679" y="13090"/>
                  <a:pt x="7685" y="13091"/>
                  <a:pt x="7691" y="13092"/>
                </a:cubicBezTo>
              </a:path>
              <a:path w="2390" h="640">
                <a:moveTo>
                  <a:pt x="8036" y="12606"/>
                </a:moveTo>
                <a:cubicBezTo>
                  <a:pt x="8030" y="12585"/>
                  <a:pt x="8027" y="12581"/>
                  <a:pt x="8008" y="12588"/>
                </a:cubicBezTo>
                <a:cubicBezTo>
                  <a:pt x="7977" y="12598"/>
                  <a:pt x="7957" y="12626"/>
                  <a:pt x="7938" y="12652"/>
                </a:cubicBezTo>
                <a:cubicBezTo>
                  <a:pt x="7929" y="12664"/>
                  <a:pt x="7894" y="12707"/>
                  <a:pt x="7900" y="12725"/>
                </a:cubicBezTo>
                <a:cubicBezTo>
                  <a:pt x="7906" y="12742"/>
                  <a:pt x="7939" y="12723"/>
                  <a:pt x="7951" y="12721"/>
                </a:cubicBezTo>
                <a:cubicBezTo>
                  <a:pt x="7947" y="12745"/>
                  <a:pt x="7937" y="12761"/>
                  <a:pt x="7926" y="12783"/>
                </a:cubicBezTo>
                <a:cubicBezTo>
                  <a:pt x="7921" y="12794"/>
                  <a:pt x="7895" y="12831"/>
                  <a:pt x="7908" y="12844"/>
                </a:cubicBezTo>
                <a:cubicBezTo>
                  <a:pt x="7922" y="12858"/>
                  <a:pt x="7941" y="12851"/>
                  <a:pt x="7951" y="12873"/>
                </a:cubicBezTo>
                <a:cubicBezTo>
                  <a:pt x="7963" y="12900"/>
                  <a:pt x="7954" y="12934"/>
                  <a:pt x="7950" y="12962"/>
                </a:cubicBezTo>
                <a:cubicBezTo>
                  <a:pt x="7946" y="12989"/>
                  <a:pt x="7939" y="13015"/>
                  <a:pt x="7945" y="13040"/>
                </a:cubicBezTo>
                <a:cubicBezTo>
                  <a:pt x="7964" y="13041"/>
                  <a:pt x="7990" y="13020"/>
                  <a:pt x="8008" y="13006"/>
                </a:cubicBezTo>
                <a:cubicBezTo>
                  <a:pt x="8031" y="12985"/>
                  <a:pt x="8039" y="12977"/>
                  <a:pt x="8056" y="12964"/>
                </a:cubicBezTo>
              </a:path>
              <a:path w="2390" h="640">
                <a:moveTo>
                  <a:pt x="8187" y="12713"/>
                </a:moveTo>
                <a:cubicBezTo>
                  <a:pt x="8211" y="12748"/>
                  <a:pt x="8225" y="12785"/>
                  <a:pt x="8239" y="12825"/>
                </a:cubicBezTo>
                <a:cubicBezTo>
                  <a:pt x="8255" y="12869"/>
                  <a:pt x="8268" y="12919"/>
                  <a:pt x="8275" y="12966"/>
                </a:cubicBezTo>
                <a:cubicBezTo>
                  <a:pt x="8275" y="12973"/>
                  <a:pt x="8276" y="12981"/>
                  <a:pt x="8276" y="12988"/>
                </a:cubicBezTo>
              </a:path>
              <a:path w="2390" h="640">
                <a:moveTo>
                  <a:pt x="8155" y="12743"/>
                </a:moveTo>
                <a:cubicBezTo>
                  <a:pt x="8153" y="12715"/>
                  <a:pt x="8148" y="12670"/>
                  <a:pt x="8168" y="12645"/>
                </a:cubicBezTo>
                <a:cubicBezTo>
                  <a:pt x="8187" y="12621"/>
                  <a:pt x="8236" y="12599"/>
                  <a:pt x="8265" y="12595"/>
                </a:cubicBezTo>
                <a:cubicBezTo>
                  <a:pt x="8294" y="12591"/>
                  <a:pt x="8325" y="12598"/>
                  <a:pt x="8354" y="12602"/>
                </a:cubicBezTo>
              </a:path>
              <a:path w="2390" h="640">
                <a:moveTo>
                  <a:pt x="8519" y="12628"/>
                </a:moveTo>
                <a:cubicBezTo>
                  <a:pt x="8505" y="12632"/>
                  <a:pt x="8501" y="12633"/>
                  <a:pt x="8494" y="12640"/>
                </a:cubicBezTo>
                <a:cubicBezTo>
                  <a:pt x="8505" y="12653"/>
                  <a:pt x="8518" y="12659"/>
                  <a:pt x="8530" y="12671"/>
                </a:cubicBezTo>
                <a:cubicBezTo>
                  <a:pt x="8544" y="12685"/>
                  <a:pt x="8549" y="12701"/>
                  <a:pt x="8549" y="12720"/>
                </a:cubicBezTo>
                <a:cubicBezTo>
                  <a:pt x="8549" y="12737"/>
                  <a:pt x="8541" y="12753"/>
                  <a:pt x="8536" y="12769"/>
                </a:cubicBezTo>
                <a:cubicBezTo>
                  <a:pt x="8551" y="12769"/>
                  <a:pt x="8568" y="12767"/>
                  <a:pt x="8583" y="12771"/>
                </a:cubicBezTo>
                <a:cubicBezTo>
                  <a:pt x="8609" y="12778"/>
                  <a:pt x="8609" y="12807"/>
                  <a:pt x="8609" y="12828"/>
                </a:cubicBezTo>
                <a:cubicBezTo>
                  <a:pt x="8609" y="12841"/>
                  <a:pt x="8598" y="12872"/>
                  <a:pt x="8604" y="12883"/>
                </a:cubicBezTo>
                <a:cubicBezTo>
                  <a:pt x="8616" y="12904"/>
                  <a:pt x="8637" y="12897"/>
                  <a:pt x="8656" y="12904"/>
                </a:cubicBezTo>
                <a:cubicBezTo>
                  <a:pt x="8679" y="12912"/>
                  <a:pt x="8699" y="12923"/>
                  <a:pt x="8704" y="12948"/>
                </a:cubicBezTo>
                <a:cubicBezTo>
                  <a:pt x="8711" y="12984"/>
                  <a:pt x="8682" y="13033"/>
                  <a:pt x="8657" y="13057"/>
                </a:cubicBezTo>
                <a:cubicBezTo>
                  <a:pt x="8639" y="13074"/>
                  <a:pt x="8614" y="13100"/>
                  <a:pt x="8587" y="13098"/>
                </a:cubicBezTo>
                <a:cubicBezTo>
                  <a:pt x="8576" y="13094"/>
                  <a:pt x="8572" y="13092"/>
                  <a:pt x="8569" y="13083"/>
                </a:cubicBezTo>
              </a:path>
              <a:path w="2390" h="640">
                <a:moveTo>
                  <a:pt x="8738" y="12607"/>
                </a:moveTo>
                <a:cubicBezTo>
                  <a:pt x="8761" y="12594"/>
                  <a:pt x="8779" y="12599"/>
                  <a:pt x="8796" y="12624"/>
                </a:cubicBezTo>
                <a:cubicBezTo>
                  <a:pt x="8833" y="12677"/>
                  <a:pt x="8844" y="12749"/>
                  <a:pt x="8852" y="12811"/>
                </a:cubicBezTo>
                <a:cubicBezTo>
                  <a:pt x="8860" y="12877"/>
                  <a:pt x="8859" y="12938"/>
                  <a:pt x="8849" y="13003"/>
                </a:cubicBezTo>
                <a:cubicBezTo>
                  <a:pt x="8845" y="13028"/>
                  <a:pt x="8839" y="13048"/>
                  <a:pt x="8830" y="13071"/>
                </a:cubicBezTo>
              </a:path>
              <a:path w="2390" h="640">
                <a:moveTo>
                  <a:pt x="9124" y="12739"/>
                </a:moveTo>
                <a:cubicBezTo>
                  <a:pt x="9136" y="12709"/>
                  <a:pt x="9154" y="12717"/>
                  <a:pt x="9184" y="12713"/>
                </a:cubicBezTo>
                <a:cubicBezTo>
                  <a:pt x="9222" y="12708"/>
                  <a:pt x="9260" y="12703"/>
                  <a:pt x="9297" y="12718"/>
                </a:cubicBezTo>
                <a:cubicBezTo>
                  <a:pt x="9303" y="12722"/>
                  <a:pt x="9309" y="12725"/>
                  <a:pt x="9315" y="12729"/>
                </a:cubicBezTo>
              </a:path>
              <a:path w="2390" h="640">
                <a:moveTo>
                  <a:pt x="9153" y="12911"/>
                </a:moveTo>
                <a:cubicBezTo>
                  <a:pt x="9198" y="12902"/>
                  <a:pt x="9238" y="12885"/>
                  <a:pt x="9282" y="12869"/>
                </a:cubicBezTo>
                <a:cubicBezTo>
                  <a:pt x="9327" y="12854"/>
                  <a:pt x="9341" y="12850"/>
                  <a:pt x="9368" y="12835"/>
                </a:cubicBezTo>
              </a:path>
              <a:path w="2390" h="640">
                <a:moveTo>
                  <a:pt x="9552" y="12710"/>
                </a:moveTo>
                <a:cubicBezTo>
                  <a:pt x="9540" y="12737"/>
                  <a:pt x="9524" y="12772"/>
                  <a:pt x="9522" y="12801"/>
                </a:cubicBezTo>
                <a:cubicBezTo>
                  <a:pt x="9517" y="12864"/>
                  <a:pt x="9532" y="12926"/>
                  <a:pt x="9541" y="12987"/>
                </a:cubicBezTo>
                <a:cubicBezTo>
                  <a:pt x="9548" y="13036"/>
                  <a:pt x="9557" y="13084"/>
                  <a:pt x="9566" y="1313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"/>
          <p:cNvSpPr/>
          <p:nvPr/>
        </p:nvSpPr>
        <p:spPr>
          <a:xfrm>
            <a:off x="4135320" y="4502160"/>
            <a:ext cx="939960" cy="222120"/>
          </a:xfrm>
          <a:custGeom>
            <a:avLst/>
            <a:gdLst/>
            <a:ahLst/>
            <a:rect l="l" t="t" r="r" b="b"/>
            <a:pathLst>
              <a:path w="2613" h="619">
                <a:moveTo>
                  <a:pt x="11501" y="12745"/>
                </a:moveTo>
                <a:cubicBezTo>
                  <a:pt x="11506" y="12706"/>
                  <a:pt x="11514" y="12795"/>
                  <a:pt x="11514" y="12801"/>
                </a:cubicBezTo>
                <a:cubicBezTo>
                  <a:pt x="11518" y="12859"/>
                  <a:pt x="11516" y="12919"/>
                  <a:pt x="11512" y="12977"/>
                </a:cubicBezTo>
                <a:cubicBezTo>
                  <a:pt x="11509" y="13020"/>
                  <a:pt x="11506" y="13062"/>
                  <a:pt x="11498" y="13104"/>
                </a:cubicBezTo>
                <a:cubicBezTo>
                  <a:pt x="11490" y="13066"/>
                  <a:pt x="11488" y="13025"/>
                  <a:pt x="11487" y="12986"/>
                </a:cubicBezTo>
                <a:cubicBezTo>
                  <a:pt x="11485" y="12913"/>
                  <a:pt x="11489" y="12840"/>
                  <a:pt x="11498" y="12768"/>
                </a:cubicBezTo>
                <a:cubicBezTo>
                  <a:pt x="11508" y="12689"/>
                  <a:pt x="11527" y="12565"/>
                  <a:pt x="11599" y="12514"/>
                </a:cubicBezTo>
                <a:cubicBezTo>
                  <a:pt x="11630" y="12492"/>
                  <a:pt x="11660" y="12512"/>
                  <a:pt x="11673" y="12543"/>
                </a:cubicBezTo>
                <a:cubicBezTo>
                  <a:pt x="11703" y="12613"/>
                  <a:pt x="11673" y="12704"/>
                  <a:pt x="11635" y="12764"/>
                </a:cubicBezTo>
                <a:cubicBezTo>
                  <a:pt x="11628" y="12774"/>
                  <a:pt x="11579" y="12845"/>
                  <a:pt x="11558" y="12834"/>
                </a:cubicBezTo>
                <a:cubicBezTo>
                  <a:pt x="11538" y="12823"/>
                  <a:pt x="11577" y="12800"/>
                  <a:pt x="11591" y="12788"/>
                </a:cubicBezTo>
              </a:path>
              <a:path w="2613" h="619">
                <a:moveTo>
                  <a:pt x="11779" y="12866"/>
                </a:moveTo>
                <a:cubicBezTo>
                  <a:pt x="11776" y="12902"/>
                  <a:pt x="11770" y="12940"/>
                  <a:pt x="11770" y="12977"/>
                </a:cubicBezTo>
                <a:cubicBezTo>
                  <a:pt x="11770" y="13008"/>
                  <a:pt x="11771" y="13042"/>
                  <a:pt x="11762" y="13072"/>
                </a:cubicBezTo>
                <a:cubicBezTo>
                  <a:pt x="11760" y="13076"/>
                  <a:pt x="11758" y="13081"/>
                  <a:pt x="11756" y="13085"/>
                </a:cubicBezTo>
                <a:cubicBezTo>
                  <a:pt x="11741" y="13053"/>
                  <a:pt x="11750" y="13026"/>
                  <a:pt x="11762" y="12991"/>
                </a:cubicBezTo>
                <a:cubicBezTo>
                  <a:pt x="11778" y="12942"/>
                  <a:pt x="11803" y="12895"/>
                  <a:pt x="11835" y="12855"/>
                </a:cubicBezTo>
                <a:cubicBezTo>
                  <a:pt x="11858" y="12826"/>
                  <a:pt x="11896" y="12789"/>
                  <a:pt x="11933" y="12777"/>
                </a:cubicBezTo>
                <a:cubicBezTo>
                  <a:pt x="11962" y="12768"/>
                  <a:pt x="12002" y="12769"/>
                  <a:pt x="12031" y="12775"/>
                </a:cubicBezTo>
                <a:cubicBezTo>
                  <a:pt x="12036" y="12776"/>
                  <a:pt x="12040" y="12778"/>
                  <a:pt x="12045" y="12779"/>
                </a:cubicBezTo>
              </a:path>
              <a:path w="2613" h="619">
                <a:moveTo>
                  <a:pt x="12375" y="12518"/>
                </a:moveTo>
                <a:cubicBezTo>
                  <a:pt x="12341" y="12524"/>
                  <a:pt x="12340" y="12544"/>
                  <a:pt x="12326" y="12574"/>
                </a:cubicBezTo>
                <a:cubicBezTo>
                  <a:pt x="12298" y="12634"/>
                  <a:pt x="12295" y="12698"/>
                  <a:pt x="12289" y="12763"/>
                </a:cubicBezTo>
                <a:cubicBezTo>
                  <a:pt x="12282" y="12839"/>
                  <a:pt x="12281" y="12914"/>
                  <a:pt x="12294" y="12990"/>
                </a:cubicBezTo>
                <a:cubicBezTo>
                  <a:pt x="12300" y="13025"/>
                  <a:pt x="12306" y="13086"/>
                  <a:pt x="12351" y="13096"/>
                </a:cubicBezTo>
                <a:cubicBezTo>
                  <a:pt x="12371" y="13092"/>
                  <a:pt x="12378" y="13090"/>
                  <a:pt x="12391" y="13084"/>
                </a:cubicBezTo>
              </a:path>
              <a:path w="2613" h="619">
                <a:moveTo>
                  <a:pt x="12724" y="12569"/>
                </a:moveTo>
                <a:cubicBezTo>
                  <a:pt x="12703" y="12554"/>
                  <a:pt x="12678" y="12555"/>
                  <a:pt x="12652" y="12568"/>
                </a:cubicBezTo>
                <a:cubicBezTo>
                  <a:pt x="12617" y="12585"/>
                  <a:pt x="12582" y="12610"/>
                  <a:pt x="12552" y="12635"/>
                </a:cubicBezTo>
                <a:cubicBezTo>
                  <a:pt x="12540" y="12647"/>
                  <a:pt x="12536" y="12648"/>
                  <a:pt x="12533" y="12658"/>
                </a:cubicBezTo>
                <a:cubicBezTo>
                  <a:pt x="12565" y="12666"/>
                  <a:pt x="12590" y="12659"/>
                  <a:pt x="12624" y="12660"/>
                </a:cubicBezTo>
                <a:cubicBezTo>
                  <a:pt x="12653" y="12661"/>
                  <a:pt x="12679" y="12669"/>
                  <a:pt x="12677" y="12702"/>
                </a:cubicBezTo>
                <a:cubicBezTo>
                  <a:pt x="12675" y="12747"/>
                  <a:pt x="12644" y="12793"/>
                  <a:pt x="12628" y="12834"/>
                </a:cubicBezTo>
                <a:cubicBezTo>
                  <a:pt x="12621" y="12853"/>
                  <a:pt x="12613" y="12878"/>
                  <a:pt x="12641" y="12882"/>
                </a:cubicBezTo>
                <a:cubicBezTo>
                  <a:pt x="12665" y="12886"/>
                  <a:pt x="12689" y="12878"/>
                  <a:pt x="12714" y="12885"/>
                </a:cubicBezTo>
                <a:cubicBezTo>
                  <a:pt x="12741" y="12892"/>
                  <a:pt x="12737" y="12917"/>
                  <a:pt x="12728" y="12939"/>
                </a:cubicBezTo>
                <a:cubicBezTo>
                  <a:pt x="12716" y="12968"/>
                  <a:pt x="12698" y="12996"/>
                  <a:pt x="12684" y="13024"/>
                </a:cubicBezTo>
                <a:cubicBezTo>
                  <a:pt x="12713" y="13025"/>
                  <a:pt x="12737" y="13016"/>
                  <a:pt x="12765" y="13007"/>
                </a:cubicBezTo>
                <a:cubicBezTo>
                  <a:pt x="12774" y="13004"/>
                  <a:pt x="12782" y="13002"/>
                  <a:pt x="12791" y="12999"/>
                </a:cubicBezTo>
              </a:path>
              <a:path w="2613" h="619">
                <a:moveTo>
                  <a:pt x="12983" y="12708"/>
                </a:moveTo>
                <a:cubicBezTo>
                  <a:pt x="12993" y="12747"/>
                  <a:pt x="12985" y="12780"/>
                  <a:pt x="12984" y="12821"/>
                </a:cubicBezTo>
                <a:cubicBezTo>
                  <a:pt x="12983" y="12873"/>
                  <a:pt x="12985" y="12927"/>
                  <a:pt x="12979" y="12979"/>
                </a:cubicBezTo>
                <a:cubicBezTo>
                  <a:pt x="12977" y="12987"/>
                  <a:pt x="12976" y="12995"/>
                  <a:pt x="12974" y="13003"/>
                </a:cubicBezTo>
              </a:path>
              <a:path w="2613" h="619">
                <a:moveTo>
                  <a:pt x="12874" y="12754"/>
                </a:moveTo>
                <a:cubicBezTo>
                  <a:pt x="12884" y="12723"/>
                  <a:pt x="12899" y="12680"/>
                  <a:pt x="12926" y="12658"/>
                </a:cubicBezTo>
                <a:cubicBezTo>
                  <a:pt x="12957" y="12633"/>
                  <a:pt x="13008" y="12623"/>
                  <a:pt x="13047" y="12624"/>
                </a:cubicBezTo>
                <a:cubicBezTo>
                  <a:pt x="13072" y="12628"/>
                  <a:pt x="13079" y="12629"/>
                  <a:pt x="13095" y="12631"/>
                </a:cubicBezTo>
              </a:path>
              <a:path w="2613" h="619">
                <a:moveTo>
                  <a:pt x="13225" y="12710"/>
                </a:moveTo>
                <a:cubicBezTo>
                  <a:pt x="13226" y="12689"/>
                  <a:pt x="13232" y="12685"/>
                  <a:pt x="13255" y="12686"/>
                </a:cubicBezTo>
                <a:cubicBezTo>
                  <a:pt x="13298" y="12688"/>
                  <a:pt x="13268" y="12706"/>
                  <a:pt x="13279" y="12718"/>
                </a:cubicBezTo>
                <a:cubicBezTo>
                  <a:pt x="13286" y="12726"/>
                  <a:pt x="13283" y="12731"/>
                  <a:pt x="13269" y="12748"/>
                </a:cubicBezTo>
                <a:cubicBezTo>
                  <a:pt x="13258" y="12762"/>
                  <a:pt x="13252" y="12768"/>
                  <a:pt x="13250" y="12784"/>
                </a:cubicBezTo>
                <a:cubicBezTo>
                  <a:pt x="13267" y="12790"/>
                  <a:pt x="13286" y="12794"/>
                  <a:pt x="13299" y="12807"/>
                </a:cubicBezTo>
                <a:cubicBezTo>
                  <a:pt x="13319" y="12826"/>
                  <a:pt x="13330" y="12854"/>
                  <a:pt x="13332" y="12881"/>
                </a:cubicBezTo>
                <a:cubicBezTo>
                  <a:pt x="13334" y="12912"/>
                  <a:pt x="13323" y="12947"/>
                  <a:pt x="13310" y="12975"/>
                </a:cubicBezTo>
                <a:cubicBezTo>
                  <a:pt x="13302" y="12992"/>
                  <a:pt x="13288" y="13014"/>
                  <a:pt x="13273" y="13027"/>
                </a:cubicBezTo>
                <a:cubicBezTo>
                  <a:pt x="13251" y="13046"/>
                  <a:pt x="13254" y="13023"/>
                  <a:pt x="13249" y="13006"/>
                </a:cubicBezTo>
              </a:path>
              <a:path w="2613" h="619">
                <a:moveTo>
                  <a:pt x="13517" y="12587"/>
                </a:moveTo>
                <a:cubicBezTo>
                  <a:pt x="13522" y="12570"/>
                  <a:pt x="13524" y="12562"/>
                  <a:pt x="13536" y="12549"/>
                </a:cubicBezTo>
                <a:cubicBezTo>
                  <a:pt x="13566" y="12572"/>
                  <a:pt x="13572" y="12603"/>
                  <a:pt x="13582" y="12640"/>
                </a:cubicBezTo>
                <a:cubicBezTo>
                  <a:pt x="13603" y="12721"/>
                  <a:pt x="13608" y="12804"/>
                  <a:pt x="13610" y="12887"/>
                </a:cubicBezTo>
                <a:cubicBezTo>
                  <a:pt x="13611" y="12955"/>
                  <a:pt x="13606" y="13024"/>
                  <a:pt x="13588" y="13090"/>
                </a:cubicBezTo>
                <a:cubicBezTo>
                  <a:pt x="13580" y="13121"/>
                  <a:pt x="13572" y="13121"/>
                  <a:pt x="13549" y="13117"/>
                </a:cubicBezTo>
              </a:path>
              <a:path w="2613" h="619">
                <a:moveTo>
                  <a:pt x="13851" y="12744"/>
                </a:moveTo>
                <a:cubicBezTo>
                  <a:pt x="13867" y="12729"/>
                  <a:pt x="13879" y="12732"/>
                  <a:pt x="13902" y="12732"/>
                </a:cubicBezTo>
                <a:cubicBezTo>
                  <a:pt x="13945" y="12731"/>
                  <a:pt x="13982" y="12734"/>
                  <a:pt x="14024" y="12743"/>
                </a:cubicBezTo>
                <a:cubicBezTo>
                  <a:pt x="14046" y="12748"/>
                  <a:pt x="14052" y="12749"/>
                  <a:pt x="14064" y="12759"/>
                </a:cubicBezTo>
              </a:path>
              <a:path w="2613" h="619">
                <a:moveTo>
                  <a:pt x="13839" y="12884"/>
                </a:moveTo>
                <a:cubicBezTo>
                  <a:pt x="13873" y="12879"/>
                  <a:pt x="13906" y="12869"/>
                  <a:pt x="13941" y="12863"/>
                </a:cubicBezTo>
                <a:cubicBezTo>
                  <a:pt x="13993" y="12854"/>
                  <a:pt x="14046" y="12854"/>
                  <a:pt x="14099" y="1285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"/>
          <p:cNvSpPr/>
          <p:nvPr/>
        </p:nvSpPr>
        <p:spPr>
          <a:xfrm>
            <a:off x="5199120" y="4470480"/>
            <a:ext cx="137880" cy="293760"/>
          </a:xfrm>
          <a:custGeom>
            <a:avLst/>
            <a:gdLst/>
            <a:ahLst/>
            <a:rect l="l" t="t" r="r" b="b"/>
            <a:pathLst>
              <a:path w="384" h="815">
                <a:moveTo>
                  <a:pt x="14494" y="12432"/>
                </a:moveTo>
                <a:cubicBezTo>
                  <a:pt x="14497" y="12427"/>
                  <a:pt x="14499" y="12422"/>
                  <a:pt x="14502" y="12417"/>
                </a:cubicBezTo>
                <a:cubicBezTo>
                  <a:pt x="14507" y="12447"/>
                  <a:pt x="14494" y="12484"/>
                  <a:pt x="14492" y="12517"/>
                </a:cubicBezTo>
                <a:cubicBezTo>
                  <a:pt x="14489" y="12580"/>
                  <a:pt x="14492" y="12643"/>
                  <a:pt x="14503" y="12705"/>
                </a:cubicBezTo>
                <a:cubicBezTo>
                  <a:pt x="14510" y="12745"/>
                  <a:pt x="14517" y="12785"/>
                  <a:pt x="14526" y="12825"/>
                </a:cubicBezTo>
              </a:path>
              <a:path w="384" h="815">
                <a:moveTo>
                  <a:pt x="14441" y="12844"/>
                </a:moveTo>
                <a:cubicBezTo>
                  <a:pt x="14448" y="12814"/>
                  <a:pt x="14454" y="12796"/>
                  <a:pt x="14481" y="12779"/>
                </a:cubicBezTo>
                <a:cubicBezTo>
                  <a:pt x="14516" y="12756"/>
                  <a:pt x="14546" y="12760"/>
                  <a:pt x="14585" y="12766"/>
                </a:cubicBezTo>
                <a:cubicBezTo>
                  <a:pt x="14612" y="12770"/>
                  <a:pt x="14624" y="12777"/>
                  <a:pt x="14644" y="12794"/>
                </a:cubicBezTo>
              </a:path>
              <a:path w="384" h="815">
                <a:moveTo>
                  <a:pt x="14509" y="12959"/>
                </a:moveTo>
                <a:cubicBezTo>
                  <a:pt x="14501" y="12969"/>
                  <a:pt x="14498" y="12972"/>
                  <a:pt x="14495" y="12980"/>
                </a:cubicBezTo>
                <a:cubicBezTo>
                  <a:pt x="14521" y="12987"/>
                  <a:pt x="14548" y="12985"/>
                  <a:pt x="14575" y="12991"/>
                </a:cubicBezTo>
                <a:cubicBezTo>
                  <a:pt x="14604" y="12997"/>
                  <a:pt x="14642" y="13007"/>
                  <a:pt x="14656" y="13037"/>
                </a:cubicBezTo>
                <a:cubicBezTo>
                  <a:pt x="14672" y="13069"/>
                  <a:pt x="14650" y="13103"/>
                  <a:pt x="14632" y="13129"/>
                </a:cubicBezTo>
                <a:cubicBezTo>
                  <a:pt x="14613" y="13156"/>
                  <a:pt x="14585" y="13177"/>
                  <a:pt x="14566" y="13204"/>
                </a:cubicBezTo>
                <a:cubicBezTo>
                  <a:pt x="14564" y="13208"/>
                  <a:pt x="14562" y="13213"/>
                  <a:pt x="14560" y="13217"/>
                </a:cubicBezTo>
                <a:cubicBezTo>
                  <a:pt x="14587" y="13236"/>
                  <a:pt x="14611" y="13232"/>
                  <a:pt x="14645" y="13229"/>
                </a:cubicBezTo>
                <a:cubicBezTo>
                  <a:pt x="14691" y="13226"/>
                  <a:pt x="14734" y="13216"/>
                  <a:pt x="14779" y="13206"/>
                </a:cubicBezTo>
                <a:cubicBezTo>
                  <a:pt x="14803" y="13201"/>
                  <a:pt x="14809" y="13198"/>
                  <a:pt x="14824" y="1318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"/>
          <p:cNvSpPr/>
          <p:nvPr/>
        </p:nvSpPr>
        <p:spPr>
          <a:xfrm>
            <a:off x="7062840" y="4565520"/>
            <a:ext cx="1233360" cy="298440"/>
          </a:xfrm>
          <a:custGeom>
            <a:avLst/>
            <a:gdLst/>
            <a:ahLst/>
            <a:rect l="l" t="t" r="r" b="b"/>
            <a:pathLst>
              <a:path w="3427" h="829">
                <a:moveTo>
                  <a:pt x="19837" y="12896"/>
                </a:moveTo>
                <a:cubicBezTo>
                  <a:pt x="19826" y="12863"/>
                  <a:pt x="19822" y="12863"/>
                  <a:pt x="19807" y="12843"/>
                </a:cubicBezTo>
                <a:cubicBezTo>
                  <a:pt x="19787" y="12873"/>
                  <a:pt x="19775" y="12904"/>
                  <a:pt x="19763" y="12947"/>
                </a:cubicBezTo>
                <a:cubicBezTo>
                  <a:pt x="19740" y="13029"/>
                  <a:pt x="19714" y="13110"/>
                  <a:pt x="19687" y="13191"/>
                </a:cubicBezTo>
                <a:cubicBezTo>
                  <a:pt x="19664" y="13258"/>
                  <a:pt x="19602" y="13362"/>
                  <a:pt x="19617" y="13436"/>
                </a:cubicBezTo>
                <a:cubicBezTo>
                  <a:pt x="19628" y="13490"/>
                  <a:pt x="19704" y="13483"/>
                  <a:pt x="19742" y="13481"/>
                </a:cubicBezTo>
                <a:cubicBezTo>
                  <a:pt x="19830" y="13475"/>
                  <a:pt x="19920" y="13452"/>
                  <a:pt x="20004" y="13425"/>
                </a:cubicBezTo>
                <a:cubicBezTo>
                  <a:pt x="20047" y="13411"/>
                  <a:pt x="20129" y="13396"/>
                  <a:pt x="20153" y="13350"/>
                </a:cubicBezTo>
                <a:cubicBezTo>
                  <a:pt x="20155" y="13328"/>
                  <a:pt x="20155" y="13320"/>
                  <a:pt x="20143" y="13308"/>
                </a:cubicBezTo>
              </a:path>
              <a:path w="3427" h="829">
                <a:moveTo>
                  <a:pt x="19752" y="13218"/>
                </a:moveTo>
                <a:cubicBezTo>
                  <a:pt x="19725" y="13192"/>
                  <a:pt x="19773" y="13171"/>
                  <a:pt x="19799" y="13155"/>
                </a:cubicBezTo>
                <a:cubicBezTo>
                  <a:pt x="19849" y="13123"/>
                  <a:pt x="19898" y="13108"/>
                  <a:pt x="19952" y="13085"/>
                </a:cubicBezTo>
                <a:cubicBezTo>
                  <a:pt x="19978" y="13074"/>
                  <a:pt x="19996" y="13063"/>
                  <a:pt x="20014" y="13043"/>
                </a:cubicBezTo>
              </a:path>
              <a:path w="3427" h="829">
                <a:moveTo>
                  <a:pt x="19787" y="12970"/>
                </a:moveTo>
                <a:cubicBezTo>
                  <a:pt x="19822" y="12909"/>
                  <a:pt x="19867" y="12851"/>
                  <a:pt x="19919" y="12802"/>
                </a:cubicBezTo>
                <a:cubicBezTo>
                  <a:pt x="19965" y="12759"/>
                  <a:pt x="20027" y="12714"/>
                  <a:pt x="20087" y="12694"/>
                </a:cubicBezTo>
                <a:cubicBezTo>
                  <a:pt x="20116" y="12688"/>
                  <a:pt x="20124" y="12686"/>
                  <a:pt x="20142" y="12682"/>
                </a:cubicBezTo>
              </a:path>
              <a:path w="3427" h="829">
                <a:moveTo>
                  <a:pt x="20538" y="12851"/>
                </a:moveTo>
                <a:cubicBezTo>
                  <a:pt x="20556" y="12839"/>
                  <a:pt x="20550" y="12842"/>
                  <a:pt x="20573" y="12840"/>
                </a:cubicBezTo>
                <a:cubicBezTo>
                  <a:pt x="20559" y="12821"/>
                  <a:pt x="20545" y="12805"/>
                  <a:pt x="20526" y="12790"/>
                </a:cubicBezTo>
                <a:cubicBezTo>
                  <a:pt x="20509" y="12777"/>
                  <a:pt x="20490" y="12762"/>
                  <a:pt x="20467" y="12760"/>
                </a:cubicBezTo>
                <a:cubicBezTo>
                  <a:pt x="20439" y="12758"/>
                  <a:pt x="20427" y="12812"/>
                  <a:pt x="20422" y="12829"/>
                </a:cubicBezTo>
                <a:cubicBezTo>
                  <a:pt x="20394" y="12929"/>
                  <a:pt x="20389" y="13038"/>
                  <a:pt x="20381" y="13141"/>
                </a:cubicBezTo>
                <a:cubicBezTo>
                  <a:pt x="20376" y="13205"/>
                  <a:pt x="20370" y="13268"/>
                  <a:pt x="20365" y="13332"/>
                </a:cubicBezTo>
                <a:cubicBezTo>
                  <a:pt x="20363" y="13362"/>
                  <a:pt x="20351" y="13421"/>
                  <a:pt x="20371" y="13448"/>
                </a:cubicBezTo>
                <a:cubicBezTo>
                  <a:pt x="20387" y="13469"/>
                  <a:pt x="20416" y="13468"/>
                  <a:pt x="20439" y="13470"/>
                </a:cubicBezTo>
                <a:cubicBezTo>
                  <a:pt x="20474" y="13473"/>
                  <a:pt x="20553" y="13488"/>
                  <a:pt x="20585" y="13470"/>
                </a:cubicBezTo>
                <a:cubicBezTo>
                  <a:pt x="20604" y="13459"/>
                  <a:pt x="20598" y="13455"/>
                  <a:pt x="20608" y="13440"/>
                </a:cubicBezTo>
              </a:path>
              <a:path w="3427" h="829">
                <a:moveTo>
                  <a:pt x="20836" y="12903"/>
                </a:moveTo>
                <a:cubicBezTo>
                  <a:pt x="20835" y="12887"/>
                  <a:pt x="20832" y="12873"/>
                  <a:pt x="20830" y="12858"/>
                </a:cubicBezTo>
                <a:cubicBezTo>
                  <a:pt x="20846" y="12897"/>
                  <a:pt x="20857" y="12939"/>
                  <a:pt x="20875" y="12978"/>
                </a:cubicBezTo>
                <a:cubicBezTo>
                  <a:pt x="20906" y="13046"/>
                  <a:pt x="20941" y="13114"/>
                  <a:pt x="20981" y="13177"/>
                </a:cubicBezTo>
                <a:cubicBezTo>
                  <a:pt x="21002" y="13211"/>
                  <a:pt x="21035" y="13271"/>
                  <a:pt x="21081" y="13274"/>
                </a:cubicBezTo>
                <a:cubicBezTo>
                  <a:pt x="21098" y="13269"/>
                  <a:pt x="21104" y="13266"/>
                  <a:pt x="21109" y="13253"/>
                </a:cubicBezTo>
              </a:path>
              <a:path w="3427" h="829">
                <a:moveTo>
                  <a:pt x="21168" y="12786"/>
                </a:moveTo>
                <a:cubicBezTo>
                  <a:pt x="21133" y="12797"/>
                  <a:pt x="21098" y="12849"/>
                  <a:pt x="21080" y="12884"/>
                </a:cubicBezTo>
                <a:cubicBezTo>
                  <a:pt x="21037" y="12970"/>
                  <a:pt x="21001" y="13063"/>
                  <a:pt x="20969" y="13153"/>
                </a:cubicBezTo>
                <a:cubicBezTo>
                  <a:pt x="20949" y="13210"/>
                  <a:pt x="20919" y="13284"/>
                  <a:pt x="20919" y="13345"/>
                </a:cubicBezTo>
                <a:cubicBezTo>
                  <a:pt x="20923" y="13357"/>
                  <a:pt x="20923" y="13361"/>
                  <a:pt x="20933" y="13360"/>
                </a:cubicBezTo>
              </a:path>
              <a:path w="3427" h="829">
                <a:moveTo>
                  <a:pt x="21357" y="13155"/>
                </a:moveTo>
                <a:cubicBezTo>
                  <a:pt x="21385" y="13214"/>
                  <a:pt x="21393" y="13270"/>
                  <a:pt x="21384" y="13335"/>
                </a:cubicBezTo>
                <a:cubicBezTo>
                  <a:pt x="21378" y="13374"/>
                  <a:pt x="21359" y="13408"/>
                  <a:pt x="21342" y="13443"/>
                </a:cubicBezTo>
              </a:path>
              <a:path w="3427" h="829">
                <a:moveTo>
                  <a:pt x="21715" y="12904"/>
                </a:moveTo>
                <a:cubicBezTo>
                  <a:pt x="21709" y="12882"/>
                  <a:pt x="21704" y="12861"/>
                  <a:pt x="21696" y="12840"/>
                </a:cubicBezTo>
                <a:cubicBezTo>
                  <a:pt x="21677" y="12886"/>
                  <a:pt x="21672" y="12929"/>
                  <a:pt x="21670" y="12980"/>
                </a:cubicBezTo>
                <a:cubicBezTo>
                  <a:pt x="21667" y="13050"/>
                  <a:pt x="21668" y="13120"/>
                  <a:pt x="21672" y="13190"/>
                </a:cubicBezTo>
                <a:cubicBezTo>
                  <a:pt x="21674" y="13217"/>
                  <a:pt x="21675" y="13222"/>
                  <a:pt x="21671" y="13238"/>
                </a:cubicBezTo>
              </a:path>
              <a:path w="3427" h="829">
                <a:moveTo>
                  <a:pt x="21579" y="13102"/>
                </a:moveTo>
                <a:cubicBezTo>
                  <a:pt x="21605" y="13088"/>
                  <a:pt x="21640" y="13080"/>
                  <a:pt x="21668" y="13073"/>
                </a:cubicBezTo>
                <a:cubicBezTo>
                  <a:pt x="21735" y="13056"/>
                  <a:pt x="21794" y="13037"/>
                  <a:pt x="21858" y="13010"/>
                </a:cubicBezTo>
                <a:cubicBezTo>
                  <a:pt x="21898" y="12993"/>
                  <a:pt x="21930" y="12976"/>
                  <a:pt x="21966" y="12952"/>
                </a:cubicBezTo>
              </a:path>
              <a:path w="3427" h="829">
                <a:moveTo>
                  <a:pt x="21971" y="12818"/>
                </a:moveTo>
                <a:cubicBezTo>
                  <a:pt x="21960" y="12853"/>
                  <a:pt x="21964" y="12896"/>
                  <a:pt x="21975" y="12932"/>
                </a:cubicBezTo>
                <a:cubicBezTo>
                  <a:pt x="22010" y="13046"/>
                  <a:pt x="22075" y="13190"/>
                  <a:pt x="22169" y="13269"/>
                </a:cubicBezTo>
                <a:cubicBezTo>
                  <a:pt x="22193" y="13290"/>
                  <a:pt x="22196" y="13280"/>
                  <a:pt x="22209" y="13261"/>
                </a:cubicBezTo>
              </a:path>
              <a:path w="3427" h="829">
                <a:moveTo>
                  <a:pt x="22169" y="12862"/>
                </a:moveTo>
                <a:cubicBezTo>
                  <a:pt x="22133" y="12903"/>
                  <a:pt x="22132" y="12951"/>
                  <a:pt x="22113" y="13003"/>
                </a:cubicBezTo>
                <a:cubicBezTo>
                  <a:pt x="22077" y="13101"/>
                  <a:pt x="22034" y="13196"/>
                  <a:pt x="22008" y="13297"/>
                </a:cubicBezTo>
                <a:cubicBezTo>
                  <a:pt x="21994" y="13349"/>
                  <a:pt x="21950" y="13447"/>
                  <a:pt x="21968" y="13503"/>
                </a:cubicBezTo>
                <a:cubicBezTo>
                  <a:pt x="21971" y="13505"/>
                  <a:pt x="21975" y="13508"/>
                  <a:pt x="21978" y="13510"/>
                </a:cubicBezTo>
              </a:path>
              <a:path w="3427" h="829">
                <a:moveTo>
                  <a:pt x="22190" y="13152"/>
                </a:moveTo>
                <a:cubicBezTo>
                  <a:pt x="22223" y="13135"/>
                  <a:pt x="22263" y="13120"/>
                  <a:pt x="22300" y="13115"/>
                </a:cubicBezTo>
                <a:cubicBezTo>
                  <a:pt x="22336" y="13110"/>
                  <a:pt x="22397" y="13107"/>
                  <a:pt x="22424" y="13138"/>
                </a:cubicBezTo>
                <a:cubicBezTo>
                  <a:pt x="22453" y="13170"/>
                  <a:pt x="22423" y="13228"/>
                  <a:pt x="22406" y="13257"/>
                </a:cubicBezTo>
                <a:cubicBezTo>
                  <a:pt x="22380" y="13301"/>
                  <a:pt x="22345" y="13340"/>
                  <a:pt x="22316" y="13383"/>
                </a:cubicBezTo>
                <a:cubicBezTo>
                  <a:pt x="22306" y="13400"/>
                  <a:pt x="22304" y="13403"/>
                  <a:pt x="22301" y="13415"/>
                </a:cubicBezTo>
                <a:cubicBezTo>
                  <a:pt x="22332" y="13431"/>
                  <a:pt x="22352" y="13422"/>
                  <a:pt x="22387" y="13415"/>
                </a:cubicBezTo>
                <a:cubicBezTo>
                  <a:pt x="22425" y="13407"/>
                  <a:pt x="22458" y="13387"/>
                  <a:pt x="22490" y="13365"/>
                </a:cubicBezTo>
                <a:cubicBezTo>
                  <a:pt x="22513" y="13349"/>
                  <a:pt x="22521" y="13343"/>
                  <a:pt x="22534" y="13329"/>
                </a:cubicBezTo>
              </a:path>
              <a:path w="3427" h="829">
                <a:moveTo>
                  <a:pt x="22755" y="12722"/>
                </a:moveTo>
                <a:cubicBezTo>
                  <a:pt x="22727" y="12730"/>
                  <a:pt x="22693" y="12741"/>
                  <a:pt x="22665" y="12743"/>
                </a:cubicBezTo>
                <a:cubicBezTo>
                  <a:pt x="22658" y="12742"/>
                  <a:pt x="22652" y="12742"/>
                  <a:pt x="22645" y="12741"/>
                </a:cubicBezTo>
                <a:cubicBezTo>
                  <a:pt x="22690" y="12723"/>
                  <a:pt x="22731" y="12710"/>
                  <a:pt x="22779" y="12704"/>
                </a:cubicBezTo>
                <a:cubicBezTo>
                  <a:pt x="22824" y="12698"/>
                  <a:pt x="22867" y="12697"/>
                  <a:pt x="22901" y="12731"/>
                </a:cubicBezTo>
                <a:cubicBezTo>
                  <a:pt x="22942" y="12771"/>
                  <a:pt x="22948" y="12832"/>
                  <a:pt x="22962" y="12885"/>
                </a:cubicBezTo>
                <a:cubicBezTo>
                  <a:pt x="22984" y="12970"/>
                  <a:pt x="23006" y="13055"/>
                  <a:pt x="23023" y="13142"/>
                </a:cubicBezTo>
                <a:cubicBezTo>
                  <a:pt x="23033" y="13192"/>
                  <a:pt x="23046" y="13236"/>
                  <a:pt x="23040" y="13287"/>
                </a:cubicBezTo>
                <a:cubicBezTo>
                  <a:pt x="23034" y="13337"/>
                  <a:pt x="23003" y="13367"/>
                  <a:pt x="22960" y="13390"/>
                </a:cubicBezTo>
                <a:cubicBezTo>
                  <a:pt x="22936" y="13403"/>
                  <a:pt x="22895" y="13419"/>
                  <a:pt x="22867" y="13408"/>
                </a:cubicBezTo>
                <a:cubicBezTo>
                  <a:pt x="22850" y="13401"/>
                  <a:pt x="22845" y="13387"/>
                  <a:pt x="22836" y="1337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"/>
          <p:cNvSpPr/>
          <p:nvPr/>
        </p:nvSpPr>
        <p:spPr>
          <a:xfrm>
            <a:off x="192240" y="5037120"/>
            <a:ext cx="7140600" cy="836640"/>
          </a:xfrm>
          <a:custGeom>
            <a:avLst/>
            <a:gdLst/>
            <a:ahLst/>
            <a:rect l="l" t="t" r="r" b="b"/>
            <a:pathLst>
              <a:path w="19837" h="2325">
                <a:moveTo>
                  <a:pt x="20111" y="14161"/>
                </a:moveTo>
                <a:cubicBezTo>
                  <a:pt x="20111" y="14129"/>
                  <a:pt x="20137" y="14096"/>
                  <a:pt x="20166" y="14075"/>
                </a:cubicBezTo>
                <a:cubicBezTo>
                  <a:pt x="20211" y="14041"/>
                  <a:pt x="20278" y="14014"/>
                  <a:pt x="20332" y="13999"/>
                </a:cubicBezTo>
                <a:cubicBezTo>
                  <a:pt x="20344" y="13997"/>
                  <a:pt x="20357" y="13995"/>
                  <a:pt x="20369" y="13993"/>
                </a:cubicBezTo>
              </a:path>
              <a:path w="19837" h="2325">
                <a:moveTo>
                  <a:pt x="8621" y="15357"/>
                </a:moveTo>
                <a:cubicBezTo>
                  <a:pt x="8613" y="15366"/>
                  <a:pt x="8610" y="15370"/>
                  <a:pt x="8601" y="15369"/>
                </a:cubicBezTo>
              </a:path>
              <a:path w="19837" h="2325">
                <a:moveTo>
                  <a:pt x="817" y="15440"/>
                </a:moveTo>
                <a:cubicBezTo>
                  <a:pt x="829" y="15425"/>
                  <a:pt x="840" y="15410"/>
                  <a:pt x="852" y="15395"/>
                </a:cubicBezTo>
                <a:cubicBezTo>
                  <a:pt x="759" y="15382"/>
                  <a:pt x="704" y="15431"/>
                  <a:pt x="622" y="15488"/>
                </a:cubicBezTo>
                <a:cubicBezTo>
                  <a:pt x="607" y="15499"/>
                  <a:pt x="593" y="15510"/>
                  <a:pt x="578" y="15521"/>
                </a:cubicBezTo>
                <a:cubicBezTo>
                  <a:pt x="655" y="15574"/>
                  <a:pt x="718" y="15583"/>
                  <a:pt x="710" y="15687"/>
                </a:cubicBezTo>
                <a:cubicBezTo>
                  <a:pt x="706" y="15739"/>
                  <a:pt x="666" y="15817"/>
                  <a:pt x="641" y="15862"/>
                </a:cubicBezTo>
                <a:cubicBezTo>
                  <a:pt x="606" y="15920"/>
                  <a:pt x="597" y="15933"/>
                  <a:pt x="579" y="15971"/>
                </a:cubicBezTo>
                <a:cubicBezTo>
                  <a:pt x="656" y="15984"/>
                  <a:pt x="709" y="15966"/>
                  <a:pt x="787" y="15955"/>
                </a:cubicBezTo>
                <a:cubicBezTo>
                  <a:pt x="897" y="15940"/>
                  <a:pt x="933" y="15950"/>
                  <a:pt x="882" y="15843"/>
                </a:cubicBezTo>
              </a:path>
              <a:path w="19837" h="2325">
                <a:moveTo>
                  <a:pt x="870" y="15367"/>
                </a:moveTo>
                <a:cubicBezTo>
                  <a:pt x="796" y="15256"/>
                  <a:pt x="859" y="15389"/>
                  <a:pt x="868" y="15419"/>
                </a:cubicBezTo>
              </a:path>
              <a:path w="19837" h="2325">
                <a:moveTo>
                  <a:pt x="681" y="16153"/>
                </a:moveTo>
                <a:cubicBezTo>
                  <a:pt x="665" y="16068"/>
                  <a:pt x="654" y="16050"/>
                  <a:pt x="726" y="16002"/>
                </a:cubicBezTo>
              </a:path>
              <a:path w="19837" h="2325">
                <a:moveTo>
                  <a:pt x="831" y="16184"/>
                </a:moveTo>
                <a:cubicBezTo>
                  <a:pt x="896" y="16176"/>
                  <a:pt x="920" y="16172"/>
                  <a:pt x="955" y="16137"/>
                </a:cubicBezTo>
              </a:path>
              <a:path w="19837" h="2325">
                <a:moveTo>
                  <a:pt x="857" y="16274"/>
                </a:moveTo>
                <a:cubicBezTo>
                  <a:pt x="800" y="16372"/>
                  <a:pt x="902" y="16286"/>
                  <a:pt x="941" y="16268"/>
                </a:cubicBezTo>
              </a:path>
              <a:path w="19837" h="2325">
                <a:moveTo>
                  <a:pt x="1131" y="16130"/>
                </a:moveTo>
                <a:cubicBezTo>
                  <a:pt x="1126" y="16116"/>
                  <a:pt x="1121" y="16101"/>
                  <a:pt x="1116" y="16087"/>
                </a:cubicBezTo>
                <a:cubicBezTo>
                  <a:pt x="1121" y="16172"/>
                  <a:pt x="1128" y="16218"/>
                  <a:pt x="1190" y="16267"/>
                </a:cubicBezTo>
              </a:path>
              <a:path w="19837" h="2325">
                <a:moveTo>
                  <a:pt x="533" y="14959"/>
                </a:moveTo>
                <a:cubicBezTo>
                  <a:pt x="583" y="15011"/>
                  <a:pt x="565" y="14984"/>
                  <a:pt x="593" y="14913"/>
                </a:cubicBezTo>
                <a:cubicBezTo>
                  <a:pt x="670" y="14946"/>
                  <a:pt x="685" y="14983"/>
                  <a:pt x="687" y="15076"/>
                </a:cubicBezTo>
                <a:cubicBezTo>
                  <a:pt x="686" y="15129"/>
                  <a:pt x="686" y="15145"/>
                  <a:pt x="686" y="15179"/>
                </a:cubicBezTo>
                <a:cubicBezTo>
                  <a:pt x="685" y="15111"/>
                  <a:pt x="658" y="15053"/>
                  <a:pt x="664" y="14985"/>
                </a:cubicBezTo>
                <a:cubicBezTo>
                  <a:pt x="673" y="14934"/>
                  <a:pt x="676" y="14917"/>
                  <a:pt x="692" y="14886"/>
                </a:cubicBezTo>
                <a:cubicBezTo>
                  <a:pt x="768" y="14931"/>
                  <a:pt x="795" y="14968"/>
                  <a:pt x="814" y="15057"/>
                </a:cubicBezTo>
                <a:cubicBezTo>
                  <a:pt x="817" y="15072"/>
                  <a:pt x="819" y="15088"/>
                  <a:pt x="822" y="15103"/>
                </a:cubicBezTo>
              </a:path>
              <a:path w="19837" h="2325">
                <a:moveTo>
                  <a:pt x="1398" y="15282"/>
                </a:moveTo>
                <a:cubicBezTo>
                  <a:pt x="1335" y="15374"/>
                  <a:pt x="1322" y="15426"/>
                  <a:pt x="1353" y="15538"/>
                </a:cubicBezTo>
                <a:cubicBezTo>
                  <a:pt x="1363" y="15575"/>
                  <a:pt x="1395" y="15603"/>
                  <a:pt x="1432" y="15614"/>
                </a:cubicBezTo>
                <a:cubicBezTo>
                  <a:pt x="1459" y="15623"/>
                  <a:pt x="1497" y="15625"/>
                  <a:pt x="1517" y="15601"/>
                </a:cubicBezTo>
                <a:cubicBezTo>
                  <a:pt x="1525" y="15584"/>
                  <a:pt x="1527" y="15577"/>
                  <a:pt x="1526" y="15563"/>
                </a:cubicBezTo>
              </a:path>
              <a:path w="19837" h="2325">
                <a:moveTo>
                  <a:pt x="1389" y="15197"/>
                </a:moveTo>
                <a:cubicBezTo>
                  <a:pt x="1368" y="15148"/>
                  <a:pt x="1349" y="15101"/>
                  <a:pt x="1334" y="1505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"/>
          <p:cNvSpPr/>
          <p:nvPr/>
        </p:nvSpPr>
        <p:spPr>
          <a:xfrm>
            <a:off x="615960" y="4888080"/>
            <a:ext cx="631800" cy="884160"/>
          </a:xfrm>
          <a:custGeom>
            <a:avLst/>
            <a:gdLst/>
            <a:ahLst/>
            <a:rect l="l" t="t" r="r" b="b"/>
            <a:pathLst>
              <a:path w="1757" h="2455">
                <a:moveTo>
                  <a:pt x="2762" y="13702"/>
                </a:moveTo>
                <a:cubicBezTo>
                  <a:pt x="2761" y="13679"/>
                  <a:pt x="2756" y="13658"/>
                  <a:pt x="2751" y="13635"/>
                </a:cubicBezTo>
                <a:cubicBezTo>
                  <a:pt x="2768" y="13668"/>
                  <a:pt x="2787" y="13701"/>
                  <a:pt x="2803" y="13735"/>
                </a:cubicBezTo>
                <a:cubicBezTo>
                  <a:pt x="2838" y="13809"/>
                  <a:pt x="2870" y="13883"/>
                  <a:pt x="2907" y="13956"/>
                </a:cubicBezTo>
                <a:cubicBezTo>
                  <a:pt x="2935" y="14010"/>
                  <a:pt x="2960" y="14078"/>
                  <a:pt x="2998" y="14126"/>
                </a:cubicBezTo>
                <a:cubicBezTo>
                  <a:pt x="3015" y="14143"/>
                  <a:pt x="3017" y="14149"/>
                  <a:pt x="3033" y="14146"/>
                </a:cubicBezTo>
                <a:cubicBezTo>
                  <a:pt x="3052" y="14119"/>
                  <a:pt x="3055" y="14102"/>
                  <a:pt x="3063" y="14068"/>
                </a:cubicBezTo>
              </a:path>
              <a:path w="1757" h="2455">
                <a:moveTo>
                  <a:pt x="3082" y="13578"/>
                </a:moveTo>
                <a:cubicBezTo>
                  <a:pt x="3039" y="13599"/>
                  <a:pt x="3028" y="13655"/>
                  <a:pt x="3007" y="13702"/>
                </a:cubicBezTo>
                <a:cubicBezTo>
                  <a:pt x="2962" y="13800"/>
                  <a:pt x="2916" y="13899"/>
                  <a:pt x="2873" y="13998"/>
                </a:cubicBezTo>
                <a:cubicBezTo>
                  <a:pt x="2846" y="14060"/>
                  <a:pt x="2799" y="14137"/>
                  <a:pt x="2793" y="14207"/>
                </a:cubicBezTo>
                <a:cubicBezTo>
                  <a:pt x="2790" y="14238"/>
                  <a:pt x="2821" y="14215"/>
                  <a:pt x="2829" y="14213"/>
                </a:cubicBezTo>
              </a:path>
              <a:path w="1757" h="2455">
                <a:moveTo>
                  <a:pt x="1719" y="15419"/>
                </a:moveTo>
                <a:cubicBezTo>
                  <a:pt x="1707" y="15434"/>
                  <a:pt x="1753" y="15408"/>
                  <a:pt x="1773" y="15406"/>
                </a:cubicBezTo>
                <a:cubicBezTo>
                  <a:pt x="1817" y="15402"/>
                  <a:pt x="1860" y="15399"/>
                  <a:pt x="1904" y="15392"/>
                </a:cubicBezTo>
                <a:cubicBezTo>
                  <a:pt x="1913" y="15390"/>
                  <a:pt x="1921" y="15389"/>
                  <a:pt x="1930" y="15387"/>
                </a:cubicBezTo>
              </a:path>
              <a:path w="1757" h="2455">
                <a:moveTo>
                  <a:pt x="1822" y="15630"/>
                </a:moveTo>
                <a:cubicBezTo>
                  <a:pt x="1831" y="15660"/>
                  <a:pt x="1855" y="15652"/>
                  <a:pt x="1887" y="15644"/>
                </a:cubicBezTo>
                <a:cubicBezTo>
                  <a:pt x="1926" y="15635"/>
                  <a:pt x="1964" y="15621"/>
                  <a:pt x="2002" y="15608"/>
                </a:cubicBezTo>
              </a:path>
              <a:path w="1757" h="2455">
                <a:moveTo>
                  <a:pt x="2267" y="15150"/>
                </a:moveTo>
                <a:cubicBezTo>
                  <a:pt x="2254" y="15128"/>
                  <a:pt x="2252" y="15134"/>
                  <a:pt x="2246" y="15157"/>
                </a:cubicBezTo>
                <a:cubicBezTo>
                  <a:pt x="2235" y="15198"/>
                  <a:pt x="2233" y="15240"/>
                  <a:pt x="2231" y="15282"/>
                </a:cubicBezTo>
                <a:cubicBezTo>
                  <a:pt x="2229" y="15320"/>
                  <a:pt x="2224" y="15368"/>
                  <a:pt x="2229" y="15405"/>
                </a:cubicBezTo>
                <a:cubicBezTo>
                  <a:pt x="2231" y="15408"/>
                  <a:pt x="2232" y="15412"/>
                  <a:pt x="2234" y="15415"/>
                </a:cubicBezTo>
                <a:cubicBezTo>
                  <a:pt x="2254" y="15389"/>
                  <a:pt x="2259" y="15358"/>
                  <a:pt x="2264" y="15326"/>
                </a:cubicBezTo>
                <a:cubicBezTo>
                  <a:pt x="2275" y="15262"/>
                  <a:pt x="2294" y="15201"/>
                  <a:pt x="2307" y="15137"/>
                </a:cubicBezTo>
                <a:cubicBezTo>
                  <a:pt x="2316" y="15095"/>
                  <a:pt x="2320" y="15056"/>
                  <a:pt x="2345" y="15022"/>
                </a:cubicBezTo>
                <a:cubicBezTo>
                  <a:pt x="2381" y="15044"/>
                  <a:pt x="2379" y="15087"/>
                  <a:pt x="2391" y="15128"/>
                </a:cubicBezTo>
                <a:cubicBezTo>
                  <a:pt x="2410" y="15194"/>
                  <a:pt x="2430" y="15261"/>
                  <a:pt x="2437" y="15330"/>
                </a:cubicBezTo>
                <a:cubicBezTo>
                  <a:pt x="2438" y="15340"/>
                  <a:pt x="2432" y="15412"/>
                  <a:pt x="2446" y="15380"/>
                </a:cubicBezTo>
              </a:path>
              <a:path w="1757" h="2455">
                <a:moveTo>
                  <a:pt x="2585" y="14854"/>
                </a:moveTo>
                <a:cubicBezTo>
                  <a:pt x="2577" y="14821"/>
                  <a:pt x="2570" y="14910"/>
                  <a:pt x="2569" y="14923"/>
                </a:cubicBezTo>
                <a:cubicBezTo>
                  <a:pt x="2561" y="14997"/>
                  <a:pt x="2556" y="15072"/>
                  <a:pt x="2559" y="15146"/>
                </a:cubicBezTo>
                <a:cubicBezTo>
                  <a:pt x="2562" y="15206"/>
                  <a:pt x="2565" y="15281"/>
                  <a:pt x="2587" y="15337"/>
                </a:cubicBezTo>
                <a:cubicBezTo>
                  <a:pt x="2597" y="15364"/>
                  <a:pt x="2606" y="15369"/>
                  <a:pt x="2629" y="15377"/>
                </a:cubicBezTo>
              </a:path>
              <a:path w="1757" h="2455">
                <a:moveTo>
                  <a:pt x="2784" y="15057"/>
                </a:moveTo>
                <a:cubicBezTo>
                  <a:pt x="2806" y="15040"/>
                  <a:pt x="2781" y="15058"/>
                  <a:pt x="2781" y="15074"/>
                </a:cubicBezTo>
                <a:cubicBezTo>
                  <a:pt x="2782" y="15091"/>
                  <a:pt x="2784" y="15108"/>
                  <a:pt x="2784" y="15126"/>
                </a:cubicBezTo>
                <a:cubicBezTo>
                  <a:pt x="2784" y="15149"/>
                  <a:pt x="2788" y="15168"/>
                  <a:pt x="2791" y="15190"/>
                </a:cubicBezTo>
                <a:cubicBezTo>
                  <a:pt x="2794" y="15215"/>
                  <a:pt x="2797" y="15241"/>
                  <a:pt x="2799" y="15266"/>
                </a:cubicBezTo>
                <a:cubicBezTo>
                  <a:pt x="2799" y="15278"/>
                  <a:pt x="2799" y="15281"/>
                  <a:pt x="2801" y="15289"/>
                </a:cubicBezTo>
                <a:cubicBezTo>
                  <a:pt x="2784" y="15269"/>
                  <a:pt x="2785" y="15250"/>
                  <a:pt x="2785" y="15222"/>
                </a:cubicBezTo>
                <a:cubicBezTo>
                  <a:pt x="2785" y="15179"/>
                  <a:pt x="2790" y="15142"/>
                  <a:pt x="2807" y="15103"/>
                </a:cubicBezTo>
                <a:cubicBezTo>
                  <a:pt x="2814" y="15086"/>
                  <a:pt x="2832" y="15043"/>
                  <a:pt x="2856" y="15044"/>
                </a:cubicBezTo>
                <a:cubicBezTo>
                  <a:pt x="2883" y="15045"/>
                  <a:pt x="2897" y="15090"/>
                  <a:pt x="2903" y="15110"/>
                </a:cubicBezTo>
                <a:cubicBezTo>
                  <a:pt x="2917" y="15154"/>
                  <a:pt x="2928" y="15201"/>
                  <a:pt x="2936" y="15246"/>
                </a:cubicBezTo>
                <a:cubicBezTo>
                  <a:pt x="2940" y="15268"/>
                  <a:pt x="2940" y="15274"/>
                  <a:pt x="2946" y="15287"/>
                </a:cubicBezTo>
              </a:path>
              <a:path w="1757" h="2455">
                <a:moveTo>
                  <a:pt x="3008" y="15122"/>
                </a:moveTo>
                <a:cubicBezTo>
                  <a:pt x="3031" y="15131"/>
                  <a:pt x="3056" y="15130"/>
                  <a:pt x="3081" y="15123"/>
                </a:cubicBezTo>
                <a:cubicBezTo>
                  <a:pt x="3107" y="15116"/>
                  <a:pt x="3131" y="15106"/>
                  <a:pt x="3156" y="15095"/>
                </a:cubicBezTo>
              </a:path>
              <a:path w="1757" h="2455">
                <a:moveTo>
                  <a:pt x="3273" y="14895"/>
                </a:moveTo>
                <a:cubicBezTo>
                  <a:pt x="3273" y="14928"/>
                  <a:pt x="3274" y="14964"/>
                  <a:pt x="3276" y="14997"/>
                </a:cubicBezTo>
                <a:cubicBezTo>
                  <a:pt x="3280" y="15049"/>
                  <a:pt x="3285" y="15098"/>
                  <a:pt x="3294" y="15149"/>
                </a:cubicBezTo>
                <a:cubicBezTo>
                  <a:pt x="3297" y="15168"/>
                  <a:pt x="3298" y="15186"/>
                  <a:pt x="3301" y="15205"/>
                </a:cubicBezTo>
              </a:path>
              <a:path w="1757" h="2455">
                <a:moveTo>
                  <a:pt x="3381" y="14818"/>
                </a:moveTo>
                <a:cubicBezTo>
                  <a:pt x="3412" y="14826"/>
                  <a:pt x="3425" y="14851"/>
                  <a:pt x="3434" y="14884"/>
                </a:cubicBezTo>
                <a:cubicBezTo>
                  <a:pt x="3450" y="14946"/>
                  <a:pt x="3456" y="15010"/>
                  <a:pt x="3461" y="15074"/>
                </a:cubicBezTo>
                <a:cubicBezTo>
                  <a:pt x="3466" y="15127"/>
                  <a:pt x="3475" y="15190"/>
                  <a:pt x="3450" y="15240"/>
                </a:cubicBezTo>
                <a:cubicBezTo>
                  <a:pt x="3445" y="15246"/>
                  <a:pt x="3441" y="15252"/>
                  <a:pt x="3436" y="15258"/>
                </a:cubicBezTo>
              </a:path>
              <a:path w="1757" h="2455">
                <a:moveTo>
                  <a:pt x="2349" y="15523"/>
                </a:moveTo>
                <a:cubicBezTo>
                  <a:pt x="2336" y="15530"/>
                  <a:pt x="2332" y="15533"/>
                  <a:pt x="2323" y="15535"/>
                </a:cubicBezTo>
                <a:cubicBezTo>
                  <a:pt x="2348" y="15571"/>
                  <a:pt x="2388" y="15578"/>
                  <a:pt x="2435" y="15583"/>
                </a:cubicBezTo>
                <a:cubicBezTo>
                  <a:pt x="2515" y="15591"/>
                  <a:pt x="2597" y="15585"/>
                  <a:pt x="2676" y="15578"/>
                </a:cubicBezTo>
                <a:cubicBezTo>
                  <a:pt x="2770" y="15569"/>
                  <a:pt x="2863" y="15554"/>
                  <a:pt x="2957" y="15544"/>
                </a:cubicBezTo>
                <a:cubicBezTo>
                  <a:pt x="3027" y="15537"/>
                  <a:pt x="3097" y="15526"/>
                  <a:pt x="3166" y="15511"/>
                </a:cubicBezTo>
                <a:cubicBezTo>
                  <a:pt x="3202" y="15502"/>
                  <a:pt x="3212" y="15499"/>
                  <a:pt x="3236" y="15495"/>
                </a:cubicBezTo>
              </a:path>
              <a:path w="1757" h="2455">
                <a:moveTo>
                  <a:pt x="2829" y="15808"/>
                </a:moveTo>
                <a:cubicBezTo>
                  <a:pt x="2835" y="15779"/>
                  <a:pt x="2855" y="15766"/>
                  <a:pt x="2885" y="15755"/>
                </a:cubicBezTo>
                <a:cubicBezTo>
                  <a:pt x="2916" y="15744"/>
                  <a:pt x="2957" y="15741"/>
                  <a:pt x="2981" y="15767"/>
                </a:cubicBezTo>
                <a:cubicBezTo>
                  <a:pt x="3013" y="15801"/>
                  <a:pt x="2999" y="15851"/>
                  <a:pt x="2988" y="15890"/>
                </a:cubicBezTo>
                <a:cubicBezTo>
                  <a:pt x="2982" y="15909"/>
                  <a:pt x="2933" y="16002"/>
                  <a:pt x="2947" y="16021"/>
                </a:cubicBezTo>
                <a:cubicBezTo>
                  <a:pt x="2968" y="16048"/>
                  <a:pt x="3019" y="16022"/>
                  <a:pt x="3043" y="16017"/>
                </a:cubicBezTo>
                <a:cubicBezTo>
                  <a:pt x="3073" y="16010"/>
                  <a:pt x="3101" y="16001"/>
                  <a:pt x="3131" y="1599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"/>
          <p:cNvSpPr/>
          <p:nvPr/>
        </p:nvSpPr>
        <p:spPr>
          <a:xfrm>
            <a:off x="1447920" y="5114880"/>
            <a:ext cx="1015920" cy="565200"/>
          </a:xfrm>
          <a:custGeom>
            <a:avLst/>
            <a:gdLst/>
            <a:ahLst/>
            <a:rect l="l" t="t" r="r" b="b"/>
            <a:pathLst>
              <a:path w="2822" h="1569">
                <a:moveTo>
                  <a:pt x="4286" y="14250"/>
                </a:moveTo>
                <a:cubicBezTo>
                  <a:pt x="4285" y="14236"/>
                  <a:pt x="4282" y="14223"/>
                  <a:pt x="4280" y="14210"/>
                </a:cubicBezTo>
                <a:cubicBezTo>
                  <a:pt x="4251" y="14219"/>
                  <a:pt x="4230" y="14239"/>
                  <a:pt x="4206" y="14259"/>
                </a:cubicBezTo>
                <a:cubicBezTo>
                  <a:pt x="4168" y="14291"/>
                  <a:pt x="4121" y="14322"/>
                  <a:pt x="4092" y="14363"/>
                </a:cubicBezTo>
                <a:cubicBezTo>
                  <a:pt x="4090" y="14367"/>
                  <a:pt x="4089" y="14370"/>
                  <a:pt x="4087" y="14374"/>
                </a:cubicBezTo>
                <a:cubicBezTo>
                  <a:pt x="4120" y="14388"/>
                  <a:pt x="4151" y="14388"/>
                  <a:pt x="4186" y="14397"/>
                </a:cubicBezTo>
                <a:cubicBezTo>
                  <a:pt x="4220" y="14405"/>
                  <a:pt x="4251" y="14418"/>
                  <a:pt x="4258" y="14455"/>
                </a:cubicBezTo>
                <a:cubicBezTo>
                  <a:pt x="4266" y="14495"/>
                  <a:pt x="4235" y="14535"/>
                  <a:pt x="4213" y="14566"/>
                </a:cubicBezTo>
                <a:cubicBezTo>
                  <a:pt x="4194" y="14593"/>
                  <a:pt x="4171" y="14618"/>
                  <a:pt x="4150" y="14644"/>
                </a:cubicBezTo>
                <a:cubicBezTo>
                  <a:pt x="4170" y="14632"/>
                  <a:pt x="4180" y="14628"/>
                  <a:pt x="4200" y="14625"/>
                </a:cubicBezTo>
                <a:cubicBezTo>
                  <a:pt x="4188" y="14653"/>
                  <a:pt x="4171" y="14676"/>
                  <a:pt x="4158" y="14703"/>
                </a:cubicBezTo>
                <a:cubicBezTo>
                  <a:pt x="4149" y="14721"/>
                  <a:pt x="4139" y="14745"/>
                  <a:pt x="4153" y="14763"/>
                </a:cubicBezTo>
                <a:cubicBezTo>
                  <a:pt x="4167" y="14781"/>
                  <a:pt x="4207" y="14782"/>
                  <a:pt x="4227" y="14777"/>
                </a:cubicBezTo>
                <a:cubicBezTo>
                  <a:pt x="4249" y="14768"/>
                  <a:pt x="4256" y="14764"/>
                  <a:pt x="4270" y="14756"/>
                </a:cubicBezTo>
              </a:path>
              <a:path w="2822" h="1569">
                <a:moveTo>
                  <a:pt x="4599" y="14247"/>
                </a:moveTo>
                <a:cubicBezTo>
                  <a:pt x="4580" y="14222"/>
                  <a:pt x="4575" y="14307"/>
                  <a:pt x="4571" y="14335"/>
                </a:cubicBezTo>
                <a:cubicBezTo>
                  <a:pt x="4561" y="14410"/>
                  <a:pt x="4553" y="14486"/>
                  <a:pt x="4553" y="14562"/>
                </a:cubicBezTo>
                <a:cubicBezTo>
                  <a:pt x="4553" y="14599"/>
                  <a:pt x="4552" y="14635"/>
                  <a:pt x="4559" y="14671"/>
                </a:cubicBezTo>
              </a:path>
              <a:path w="2822" h="1569">
                <a:moveTo>
                  <a:pt x="4531" y="14545"/>
                </a:moveTo>
                <a:cubicBezTo>
                  <a:pt x="4562" y="14529"/>
                  <a:pt x="4595" y="14520"/>
                  <a:pt x="4629" y="14511"/>
                </a:cubicBezTo>
                <a:cubicBezTo>
                  <a:pt x="4680" y="14498"/>
                  <a:pt x="4723" y="14478"/>
                  <a:pt x="4768" y="14452"/>
                </a:cubicBezTo>
              </a:path>
              <a:path w="2822" h="1569">
                <a:moveTo>
                  <a:pt x="4826" y="14260"/>
                </a:moveTo>
                <a:cubicBezTo>
                  <a:pt x="4830" y="14298"/>
                  <a:pt x="4830" y="14339"/>
                  <a:pt x="4829" y="14377"/>
                </a:cubicBezTo>
                <a:cubicBezTo>
                  <a:pt x="4828" y="14441"/>
                  <a:pt x="4828" y="14501"/>
                  <a:pt x="4833" y="14565"/>
                </a:cubicBezTo>
                <a:cubicBezTo>
                  <a:pt x="4835" y="14593"/>
                  <a:pt x="4835" y="14600"/>
                  <a:pt x="4839" y="14617"/>
                </a:cubicBezTo>
              </a:path>
              <a:path w="2822" h="1569">
                <a:moveTo>
                  <a:pt x="5088" y="14256"/>
                </a:moveTo>
                <a:cubicBezTo>
                  <a:pt x="5073" y="14295"/>
                  <a:pt x="5060" y="14324"/>
                  <a:pt x="5051" y="14365"/>
                </a:cubicBezTo>
                <a:cubicBezTo>
                  <a:pt x="5035" y="14436"/>
                  <a:pt x="5028" y="14504"/>
                  <a:pt x="5026" y="14576"/>
                </a:cubicBezTo>
                <a:cubicBezTo>
                  <a:pt x="5025" y="14601"/>
                  <a:pt x="5027" y="14624"/>
                  <a:pt x="5030" y="14648"/>
                </a:cubicBezTo>
              </a:path>
              <a:path w="2822" h="1569">
                <a:moveTo>
                  <a:pt x="5054" y="14444"/>
                </a:moveTo>
                <a:cubicBezTo>
                  <a:pt x="5075" y="14427"/>
                  <a:pt x="5108" y="14409"/>
                  <a:pt x="5133" y="14400"/>
                </a:cubicBezTo>
                <a:cubicBezTo>
                  <a:pt x="5143" y="14398"/>
                  <a:pt x="5154" y="14396"/>
                  <a:pt x="5164" y="14394"/>
                </a:cubicBezTo>
              </a:path>
              <a:path w="2822" h="1569">
                <a:moveTo>
                  <a:pt x="5213" y="14295"/>
                </a:moveTo>
                <a:cubicBezTo>
                  <a:pt x="5210" y="14347"/>
                  <a:pt x="5214" y="14395"/>
                  <a:pt x="5215" y="14447"/>
                </a:cubicBezTo>
                <a:cubicBezTo>
                  <a:pt x="5217" y="14511"/>
                  <a:pt x="5210" y="14579"/>
                  <a:pt x="5244" y="14636"/>
                </a:cubicBezTo>
              </a:path>
              <a:path w="2822" h="1569">
                <a:moveTo>
                  <a:pt x="5636" y="14289"/>
                </a:moveTo>
                <a:cubicBezTo>
                  <a:pt x="5626" y="14329"/>
                  <a:pt x="5613" y="14376"/>
                  <a:pt x="5612" y="14418"/>
                </a:cubicBezTo>
                <a:cubicBezTo>
                  <a:pt x="5611" y="14455"/>
                  <a:pt x="5612" y="14501"/>
                  <a:pt x="5625" y="14537"/>
                </a:cubicBezTo>
                <a:cubicBezTo>
                  <a:pt x="5627" y="14542"/>
                  <a:pt x="5630" y="14546"/>
                  <a:pt x="5632" y="14551"/>
                </a:cubicBezTo>
              </a:path>
              <a:path w="2822" h="1569">
                <a:moveTo>
                  <a:pt x="5523" y="14309"/>
                </a:moveTo>
                <a:cubicBezTo>
                  <a:pt x="5509" y="14282"/>
                  <a:pt x="5547" y="14280"/>
                  <a:pt x="5577" y="14270"/>
                </a:cubicBezTo>
                <a:cubicBezTo>
                  <a:pt x="5622" y="14254"/>
                  <a:pt x="5670" y="14243"/>
                  <a:pt x="5717" y="14232"/>
                </a:cubicBezTo>
                <a:cubicBezTo>
                  <a:pt x="5751" y="14224"/>
                  <a:pt x="5761" y="14222"/>
                  <a:pt x="5783" y="14217"/>
                </a:cubicBezTo>
              </a:path>
              <a:path w="2822" h="1569">
                <a:moveTo>
                  <a:pt x="5968" y="14271"/>
                </a:moveTo>
                <a:cubicBezTo>
                  <a:pt x="5955" y="14276"/>
                  <a:pt x="5950" y="14275"/>
                  <a:pt x="5946" y="14259"/>
                </a:cubicBezTo>
                <a:cubicBezTo>
                  <a:pt x="5964" y="14247"/>
                  <a:pt x="5980" y="14235"/>
                  <a:pt x="6003" y="14233"/>
                </a:cubicBezTo>
                <a:cubicBezTo>
                  <a:pt x="6031" y="14230"/>
                  <a:pt x="6057" y="14241"/>
                  <a:pt x="6063" y="14271"/>
                </a:cubicBezTo>
                <a:cubicBezTo>
                  <a:pt x="6070" y="14305"/>
                  <a:pt x="6047" y="14344"/>
                  <a:pt x="6030" y="14371"/>
                </a:cubicBezTo>
                <a:cubicBezTo>
                  <a:pt x="6019" y="14389"/>
                  <a:pt x="6004" y="14404"/>
                  <a:pt x="5991" y="14421"/>
                </a:cubicBezTo>
                <a:cubicBezTo>
                  <a:pt x="6023" y="14433"/>
                  <a:pt x="6057" y="14431"/>
                  <a:pt x="6091" y="14438"/>
                </a:cubicBezTo>
                <a:cubicBezTo>
                  <a:pt x="6130" y="14446"/>
                  <a:pt x="6175" y="14460"/>
                  <a:pt x="6203" y="14490"/>
                </a:cubicBezTo>
                <a:cubicBezTo>
                  <a:pt x="6227" y="14516"/>
                  <a:pt x="6222" y="14544"/>
                  <a:pt x="6207" y="14573"/>
                </a:cubicBezTo>
                <a:cubicBezTo>
                  <a:pt x="6193" y="14599"/>
                  <a:pt x="6160" y="14624"/>
                  <a:pt x="6134" y="14638"/>
                </a:cubicBezTo>
                <a:cubicBezTo>
                  <a:pt x="6114" y="14646"/>
                  <a:pt x="6108" y="14648"/>
                  <a:pt x="6094" y="14651"/>
                </a:cubicBezTo>
              </a:path>
              <a:path w="2822" h="1569">
                <a:moveTo>
                  <a:pt x="4235" y="15328"/>
                </a:moveTo>
                <a:cubicBezTo>
                  <a:pt x="4210" y="15320"/>
                  <a:pt x="4182" y="15282"/>
                  <a:pt x="4165" y="15289"/>
                </a:cubicBezTo>
                <a:cubicBezTo>
                  <a:pt x="4133" y="15302"/>
                  <a:pt x="4104" y="15347"/>
                  <a:pt x="4083" y="15372"/>
                </a:cubicBezTo>
                <a:cubicBezTo>
                  <a:pt x="4059" y="15399"/>
                  <a:pt x="4040" y="15424"/>
                  <a:pt x="4022" y="15454"/>
                </a:cubicBezTo>
                <a:cubicBezTo>
                  <a:pt x="4057" y="15446"/>
                  <a:pt x="4091" y="15433"/>
                  <a:pt x="4126" y="15419"/>
                </a:cubicBezTo>
                <a:cubicBezTo>
                  <a:pt x="4170" y="15401"/>
                  <a:pt x="4222" y="15371"/>
                  <a:pt x="4271" y="15376"/>
                </a:cubicBezTo>
                <a:cubicBezTo>
                  <a:pt x="4277" y="15378"/>
                  <a:pt x="4282" y="15381"/>
                  <a:pt x="4288" y="15383"/>
                </a:cubicBezTo>
                <a:cubicBezTo>
                  <a:pt x="4296" y="15429"/>
                  <a:pt x="4281" y="15458"/>
                  <a:pt x="4260" y="15500"/>
                </a:cubicBezTo>
                <a:cubicBezTo>
                  <a:pt x="4238" y="15544"/>
                  <a:pt x="4211" y="15585"/>
                  <a:pt x="4188" y="15628"/>
                </a:cubicBezTo>
                <a:cubicBezTo>
                  <a:pt x="4180" y="15645"/>
                  <a:pt x="4178" y="15649"/>
                  <a:pt x="4174" y="15660"/>
                </a:cubicBezTo>
                <a:cubicBezTo>
                  <a:pt x="4189" y="15671"/>
                  <a:pt x="4204" y="15675"/>
                  <a:pt x="4222" y="15684"/>
                </a:cubicBezTo>
                <a:cubicBezTo>
                  <a:pt x="4248" y="15697"/>
                  <a:pt x="4267" y="15716"/>
                  <a:pt x="4285" y="15738"/>
                </a:cubicBezTo>
                <a:cubicBezTo>
                  <a:pt x="4295" y="15750"/>
                  <a:pt x="4313" y="15787"/>
                  <a:pt x="4334" y="15778"/>
                </a:cubicBezTo>
                <a:cubicBezTo>
                  <a:pt x="4345" y="15773"/>
                  <a:pt x="4369" y="15742"/>
                  <a:pt x="4378" y="15732"/>
                </a:cubicBezTo>
              </a:path>
              <a:path w="2822" h="1569">
                <a:moveTo>
                  <a:pt x="4639" y="15279"/>
                </a:moveTo>
                <a:cubicBezTo>
                  <a:pt x="4638" y="15334"/>
                  <a:pt x="4621" y="15386"/>
                  <a:pt x="4611" y="15441"/>
                </a:cubicBezTo>
                <a:cubicBezTo>
                  <a:pt x="4599" y="15508"/>
                  <a:pt x="4592" y="15574"/>
                  <a:pt x="4586" y="15641"/>
                </a:cubicBezTo>
                <a:cubicBezTo>
                  <a:pt x="4582" y="15663"/>
                  <a:pt x="4581" y="15669"/>
                  <a:pt x="4586" y="15682"/>
                </a:cubicBezTo>
                <a:cubicBezTo>
                  <a:pt x="4596" y="15651"/>
                  <a:pt x="4596" y="15631"/>
                  <a:pt x="4590" y="15598"/>
                </a:cubicBezTo>
                <a:cubicBezTo>
                  <a:pt x="4585" y="15572"/>
                  <a:pt x="4571" y="15546"/>
                  <a:pt x="4570" y="15520"/>
                </a:cubicBezTo>
                <a:cubicBezTo>
                  <a:pt x="4569" y="15486"/>
                  <a:pt x="4596" y="15465"/>
                  <a:pt x="4620" y="15446"/>
                </a:cubicBezTo>
                <a:cubicBezTo>
                  <a:pt x="4661" y="15414"/>
                  <a:pt x="4709" y="15387"/>
                  <a:pt x="4752" y="15357"/>
                </a:cubicBezTo>
                <a:cubicBezTo>
                  <a:pt x="4784" y="15337"/>
                  <a:pt x="4794" y="15332"/>
                  <a:pt x="4808" y="15310"/>
                </a:cubicBezTo>
              </a:path>
              <a:path w="2822" h="1569">
                <a:moveTo>
                  <a:pt x="4810" y="15240"/>
                </a:moveTo>
                <a:cubicBezTo>
                  <a:pt x="4799" y="15269"/>
                  <a:pt x="4797" y="15288"/>
                  <a:pt x="4796" y="15320"/>
                </a:cubicBezTo>
                <a:cubicBezTo>
                  <a:pt x="4794" y="15367"/>
                  <a:pt x="4799" y="15419"/>
                  <a:pt x="4808" y="15465"/>
                </a:cubicBezTo>
                <a:cubicBezTo>
                  <a:pt x="4815" y="15500"/>
                  <a:pt x="4827" y="15528"/>
                  <a:pt x="4853" y="15550"/>
                </a:cubicBezTo>
              </a:path>
              <a:path w="2822" h="1569">
                <a:moveTo>
                  <a:pt x="5142" y="15110"/>
                </a:moveTo>
                <a:cubicBezTo>
                  <a:pt x="5152" y="15141"/>
                  <a:pt x="5144" y="15178"/>
                  <a:pt x="5140" y="15212"/>
                </a:cubicBezTo>
                <a:cubicBezTo>
                  <a:pt x="5133" y="15271"/>
                  <a:pt x="5126" y="15330"/>
                  <a:pt x="5113" y="15388"/>
                </a:cubicBezTo>
                <a:cubicBezTo>
                  <a:pt x="5105" y="15421"/>
                  <a:pt x="5098" y="15454"/>
                  <a:pt x="5094" y="15486"/>
                </a:cubicBezTo>
              </a:path>
              <a:path w="2822" h="1569">
                <a:moveTo>
                  <a:pt x="5106" y="15397"/>
                </a:moveTo>
                <a:cubicBezTo>
                  <a:pt x="5125" y="15368"/>
                  <a:pt x="5150" y="15345"/>
                  <a:pt x="5178" y="15322"/>
                </a:cubicBezTo>
                <a:cubicBezTo>
                  <a:pt x="5215" y="15291"/>
                  <a:pt x="5246" y="15257"/>
                  <a:pt x="5278" y="15223"/>
                </a:cubicBezTo>
                <a:cubicBezTo>
                  <a:pt x="5286" y="15216"/>
                  <a:pt x="5293" y="15210"/>
                  <a:pt x="5301" y="15203"/>
                </a:cubicBezTo>
              </a:path>
              <a:path w="2822" h="1569">
                <a:moveTo>
                  <a:pt x="5293" y="15136"/>
                </a:moveTo>
                <a:cubicBezTo>
                  <a:pt x="5287" y="15175"/>
                  <a:pt x="5282" y="15210"/>
                  <a:pt x="5280" y="15251"/>
                </a:cubicBezTo>
                <a:cubicBezTo>
                  <a:pt x="5278" y="15307"/>
                  <a:pt x="5292" y="15357"/>
                  <a:pt x="5301" y="15412"/>
                </a:cubicBezTo>
                <a:cubicBezTo>
                  <a:pt x="5305" y="15435"/>
                  <a:pt x="5310" y="15451"/>
                  <a:pt x="5319" y="15472"/>
                </a:cubicBezTo>
              </a:path>
              <a:path w="2822" h="1569">
                <a:moveTo>
                  <a:pt x="5550" y="15118"/>
                </a:moveTo>
                <a:cubicBezTo>
                  <a:pt x="5557" y="15152"/>
                  <a:pt x="5555" y="15196"/>
                  <a:pt x="5552" y="15231"/>
                </a:cubicBezTo>
                <a:cubicBezTo>
                  <a:pt x="5545" y="15313"/>
                  <a:pt x="5533" y="15394"/>
                  <a:pt x="5522" y="15476"/>
                </a:cubicBezTo>
                <a:cubicBezTo>
                  <a:pt x="5519" y="15509"/>
                  <a:pt x="5520" y="15517"/>
                  <a:pt x="5512" y="15536"/>
                </a:cubicBezTo>
              </a:path>
              <a:path w="2822" h="1569">
                <a:moveTo>
                  <a:pt x="5502" y="15429"/>
                </a:moveTo>
                <a:cubicBezTo>
                  <a:pt x="5520" y="15404"/>
                  <a:pt x="5544" y="15385"/>
                  <a:pt x="5569" y="15365"/>
                </a:cubicBezTo>
                <a:cubicBezTo>
                  <a:pt x="5609" y="15333"/>
                  <a:pt x="5647" y="15306"/>
                  <a:pt x="5684" y="15271"/>
                </a:cubicBezTo>
                <a:cubicBezTo>
                  <a:pt x="5714" y="15245"/>
                  <a:pt x="5724" y="15237"/>
                  <a:pt x="5735" y="15212"/>
                </a:cubicBezTo>
              </a:path>
              <a:path w="2822" h="1569">
                <a:moveTo>
                  <a:pt x="5801" y="15048"/>
                </a:moveTo>
                <a:cubicBezTo>
                  <a:pt x="5790" y="15084"/>
                  <a:pt x="5793" y="15114"/>
                  <a:pt x="5791" y="15152"/>
                </a:cubicBezTo>
                <a:cubicBezTo>
                  <a:pt x="5789" y="15206"/>
                  <a:pt x="5790" y="15260"/>
                  <a:pt x="5801" y="15314"/>
                </a:cubicBezTo>
                <a:cubicBezTo>
                  <a:pt x="5808" y="15347"/>
                  <a:pt x="5816" y="15377"/>
                  <a:pt x="5837" y="15402"/>
                </a:cubicBezTo>
              </a:path>
              <a:path w="2822" h="1569">
                <a:moveTo>
                  <a:pt x="6253" y="15044"/>
                </a:moveTo>
                <a:cubicBezTo>
                  <a:pt x="6230" y="15082"/>
                  <a:pt x="6207" y="15126"/>
                  <a:pt x="6201" y="15171"/>
                </a:cubicBezTo>
                <a:cubicBezTo>
                  <a:pt x="6192" y="15244"/>
                  <a:pt x="6197" y="15323"/>
                  <a:pt x="6202" y="15396"/>
                </a:cubicBezTo>
                <a:cubicBezTo>
                  <a:pt x="6206" y="15452"/>
                  <a:pt x="6214" y="15507"/>
                  <a:pt x="6221" y="15562"/>
                </a:cubicBezTo>
                <a:cubicBezTo>
                  <a:pt x="6223" y="15582"/>
                  <a:pt x="6222" y="15541"/>
                  <a:pt x="6222" y="15521"/>
                </a:cubicBezTo>
              </a:path>
              <a:path w="2822" h="1569">
                <a:moveTo>
                  <a:pt x="6102" y="15075"/>
                </a:moveTo>
                <a:cubicBezTo>
                  <a:pt x="6086" y="15071"/>
                  <a:pt x="6070" y="15070"/>
                  <a:pt x="6054" y="15065"/>
                </a:cubicBezTo>
                <a:cubicBezTo>
                  <a:pt x="6086" y="15073"/>
                  <a:pt x="6118" y="15067"/>
                  <a:pt x="6152" y="15061"/>
                </a:cubicBezTo>
                <a:cubicBezTo>
                  <a:pt x="6207" y="15052"/>
                  <a:pt x="6263" y="15046"/>
                  <a:pt x="6318" y="15039"/>
                </a:cubicBezTo>
                <a:cubicBezTo>
                  <a:pt x="6357" y="15034"/>
                  <a:pt x="6369" y="15033"/>
                  <a:pt x="6394" y="15031"/>
                </a:cubicBezTo>
              </a:path>
              <a:path w="2822" h="1569">
                <a:moveTo>
                  <a:pt x="6569" y="15070"/>
                </a:moveTo>
                <a:cubicBezTo>
                  <a:pt x="6572" y="15059"/>
                  <a:pt x="6573" y="15048"/>
                  <a:pt x="6575" y="15037"/>
                </a:cubicBezTo>
                <a:cubicBezTo>
                  <a:pt x="6590" y="15037"/>
                  <a:pt x="6607" y="15035"/>
                  <a:pt x="6620" y="15046"/>
                </a:cubicBezTo>
                <a:cubicBezTo>
                  <a:pt x="6650" y="15070"/>
                  <a:pt x="6644" y="15117"/>
                  <a:pt x="6636" y="15149"/>
                </a:cubicBezTo>
                <a:cubicBezTo>
                  <a:pt x="6626" y="15188"/>
                  <a:pt x="6580" y="15241"/>
                  <a:pt x="6598" y="15276"/>
                </a:cubicBezTo>
                <a:cubicBezTo>
                  <a:pt x="6624" y="15266"/>
                  <a:pt x="6649" y="15256"/>
                  <a:pt x="6677" y="15252"/>
                </a:cubicBezTo>
                <a:cubicBezTo>
                  <a:pt x="6703" y="15248"/>
                  <a:pt x="6731" y="15247"/>
                  <a:pt x="6747" y="15271"/>
                </a:cubicBezTo>
                <a:cubicBezTo>
                  <a:pt x="6760" y="15291"/>
                  <a:pt x="6749" y="15314"/>
                  <a:pt x="6746" y="15335"/>
                </a:cubicBezTo>
                <a:cubicBezTo>
                  <a:pt x="6742" y="15361"/>
                  <a:pt x="6749" y="15364"/>
                  <a:pt x="6769" y="15377"/>
                </a:cubicBezTo>
                <a:cubicBezTo>
                  <a:pt x="6786" y="15388"/>
                  <a:pt x="6810" y="15382"/>
                  <a:pt x="6827" y="15396"/>
                </a:cubicBezTo>
                <a:cubicBezTo>
                  <a:pt x="6844" y="15410"/>
                  <a:pt x="6843" y="15414"/>
                  <a:pt x="6839" y="15434"/>
                </a:cubicBezTo>
                <a:cubicBezTo>
                  <a:pt x="6834" y="15458"/>
                  <a:pt x="6808" y="15479"/>
                  <a:pt x="6791" y="15494"/>
                </a:cubicBezTo>
                <a:cubicBezTo>
                  <a:pt x="6765" y="15517"/>
                  <a:pt x="6740" y="15535"/>
                  <a:pt x="6710" y="15552"/>
                </a:cubicBezTo>
                <a:cubicBezTo>
                  <a:pt x="6688" y="15565"/>
                  <a:pt x="6668" y="15576"/>
                  <a:pt x="6644" y="1558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"/>
          <p:cNvSpPr/>
          <p:nvPr/>
        </p:nvSpPr>
        <p:spPr>
          <a:xfrm>
            <a:off x="2611440" y="4606920"/>
            <a:ext cx="1393920" cy="763560"/>
          </a:xfrm>
          <a:custGeom>
            <a:avLst/>
            <a:gdLst/>
            <a:ahLst/>
            <a:rect l="l" t="t" r="r" b="b"/>
            <a:pathLst>
              <a:path w="3870" h="2125">
                <a:moveTo>
                  <a:pt x="7276" y="13582"/>
                </a:moveTo>
                <a:cubicBezTo>
                  <a:pt x="7245" y="13590"/>
                  <a:pt x="7257" y="13614"/>
                  <a:pt x="7265" y="13643"/>
                </a:cubicBezTo>
                <a:cubicBezTo>
                  <a:pt x="7285" y="13711"/>
                  <a:pt x="7316" y="13777"/>
                  <a:pt x="7354" y="13837"/>
                </a:cubicBezTo>
                <a:cubicBezTo>
                  <a:pt x="7388" y="13891"/>
                  <a:pt x="7429" y="13958"/>
                  <a:pt x="7499" y="13966"/>
                </a:cubicBezTo>
                <a:cubicBezTo>
                  <a:pt x="7509" y="13965"/>
                  <a:pt x="7520" y="13963"/>
                  <a:pt x="7530" y="13962"/>
                </a:cubicBezTo>
              </a:path>
              <a:path w="3870" h="2125">
                <a:moveTo>
                  <a:pt x="7575" y="13609"/>
                </a:moveTo>
                <a:cubicBezTo>
                  <a:pt x="7530" y="13649"/>
                  <a:pt x="7490" y="13702"/>
                  <a:pt x="7461" y="13755"/>
                </a:cubicBezTo>
                <a:cubicBezTo>
                  <a:pt x="7417" y="13834"/>
                  <a:pt x="7378" y="13916"/>
                  <a:pt x="7339" y="13997"/>
                </a:cubicBezTo>
                <a:cubicBezTo>
                  <a:pt x="7311" y="14055"/>
                  <a:pt x="7322" y="14063"/>
                  <a:pt x="7375" y="14035"/>
                </a:cubicBezTo>
              </a:path>
              <a:path w="3870" h="2125">
                <a:moveTo>
                  <a:pt x="7866" y="13568"/>
                </a:moveTo>
                <a:cubicBezTo>
                  <a:pt x="7873" y="13545"/>
                  <a:pt x="7875" y="13536"/>
                  <a:pt x="7872" y="13513"/>
                </a:cubicBezTo>
                <a:cubicBezTo>
                  <a:pt x="7833" y="13536"/>
                  <a:pt x="7809" y="13568"/>
                  <a:pt x="7784" y="13608"/>
                </a:cubicBezTo>
                <a:cubicBezTo>
                  <a:pt x="7757" y="13652"/>
                  <a:pt x="7732" y="13702"/>
                  <a:pt x="7715" y="13751"/>
                </a:cubicBezTo>
                <a:cubicBezTo>
                  <a:pt x="7714" y="13755"/>
                  <a:pt x="7696" y="13817"/>
                  <a:pt x="7722" y="13792"/>
                </a:cubicBezTo>
                <a:cubicBezTo>
                  <a:pt x="7724" y="13788"/>
                  <a:pt x="7727" y="13785"/>
                  <a:pt x="7729" y="13781"/>
                </a:cubicBezTo>
                <a:cubicBezTo>
                  <a:pt x="7727" y="13800"/>
                  <a:pt x="7725" y="13818"/>
                  <a:pt x="7728" y="13837"/>
                </a:cubicBezTo>
                <a:cubicBezTo>
                  <a:pt x="7733" y="13866"/>
                  <a:pt x="7735" y="13895"/>
                  <a:pt x="7744" y="13923"/>
                </a:cubicBezTo>
                <a:cubicBezTo>
                  <a:pt x="7752" y="13950"/>
                  <a:pt x="7766" y="13977"/>
                  <a:pt x="7778" y="14003"/>
                </a:cubicBezTo>
                <a:cubicBezTo>
                  <a:pt x="7788" y="14026"/>
                  <a:pt x="7801" y="14045"/>
                  <a:pt x="7828" y="14044"/>
                </a:cubicBezTo>
                <a:cubicBezTo>
                  <a:pt x="7841" y="14044"/>
                  <a:pt x="7845" y="14039"/>
                  <a:pt x="7857" y="14035"/>
                </a:cubicBezTo>
              </a:path>
              <a:path w="3870" h="2125">
                <a:moveTo>
                  <a:pt x="8261" y="13563"/>
                </a:moveTo>
                <a:cubicBezTo>
                  <a:pt x="8252" y="13543"/>
                  <a:pt x="8247" y="13539"/>
                  <a:pt x="8226" y="13540"/>
                </a:cubicBezTo>
                <a:cubicBezTo>
                  <a:pt x="8190" y="13542"/>
                  <a:pt x="8161" y="13571"/>
                  <a:pt x="8135" y="13596"/>
                </a:cubicBezTo>
                <a:cubicBezTo>
                  <a:pt x="8112" y="13618"/>
                  <a:pt x="8080" y="13646"/>
                  <a:pt x="8075" y="13680"/>
                </a:cubicBezTo>
                <a:cubicBezTo>
                  <a:pt x="8076" y="13683"/>
                  <a:pt x="8076" y="13687"/>
                  <a:pt x="8077" y="13690"/>
                </a:cubicBezTo>
                <a:cubicBezTo>
                  <a:pt x="8100" y="13695"/>
                  <a:pt x="8120" y="13689"/>
                  <a:pt x="8143" y="13685"/>
                </a:cubicBezTo>
                <a:cubicBezTo>
                  <a:pt x="8162" y="13682"/>
                  <a:pt x="8192" y="13675"/>
                  <a:pt x="8205" y="13695"/>
                </a:cubicBezTo>
                <a:cubicBezTo>
                  <a:pt x="8218" y="13714"/>
                  <a:pt x="8209" y="13749"/>
                  <a:pt x="8204" y="13769"/>
                </a:cubicBezTo>
                <a:cubicBezTo>
                  <a:pt x="8198" y="13791"/>
                  <a:pt x="8187" y="13809"/>
                  <a:pt x="8177" y="13829"/>
                </a:cubicBezTo>
                <a:cubicBezTo>
                  <a:pt x="8176" y="13832"/>
                  <a:pt x="8174" y="13835"/>
                  <a:pt x="8173" y="13838"/>
                </a:cubicBezTo>
                <a:cubicBezTo>
                  <a:pt x="8199" y="13850"/>
                  <a:pt x="8208" y="13862"/>
                  <a:pt x="8210" y="13892"/>
                </a:cubicBezTo>
                <a:cubicBezTo>
                  <a:pt x="8211" y="13919"/>
                  <a:pt x="8199" y="13946"/>
                  <a:pt x="8185" y="13968"/>
                </a:cubicBezTo>
                <a:cubicBezTo>
                  <a:pt x="8211" y="13949"/>
                  <a:pt x="8231" y="13928"/>
                  <a:pt x="8257" y="13909"/>
                </a:cubicBezTo>
                <a:cubicBezTo>
                  <a:pt x="8283" y="13891"/>
                  <a:pt x="8308" y="13872"/>
                  <a:pt x="8333" y="13853"/>
                </a:cubicBezTo>
              </a:path>
              <a:path w="3870" h="2125">
                <a:moveTo>
                  <a:pt x="8454" y="13656"/>
                </a:moveTo>
                <a:cubicBezTo>
                  <a:pt x="8458" y="13641"/>
                  <a:pt x="8458" y="13637"/>
                  <a:pt x="8469" y="13635"/>
                </a:cubicBezTo>
                <a:cubicBezTo>
                  <a:pt x="8475" y="13667"/>
                  <a:pt x="8471" y="13696"/>
                  <a:pt x="8470" y="13730"/>
                </a:cubicBezTo>
                <a:cubicBezTo>
                  <a:pt x="8469" y="13769"/>
                  <a:pt x="8465" y="13810"/>
                  <a:pt x="8468" y="13848"/>
                </a:cubicBezTo>
                <a:cubicBezTo>
                  <a:pt x="8471" y="13866"/>
                  <a:pt x="8471" y="13870"/>
                  <a:pt x="8474" y="13880"/>
                </a:cubicBezTo>
              </a:path>
              <a:path w="3870" h="2125">
                <a:moveTo>
                  <a:pt x="8482" y="13766"/>
                </a:moveTo>
                <a:cubicBezTo>
                  <a:pt x="8499" y="13739"/>
                  <a:pt x="8513" y="13722"/>
                  <a:pt x="8537" y="13701"/>
                </a:cubicBezTo>
                <a:cubicBezTo>
                  <a:pt x="8570" y="13672"/>
                  <a:pt x="8603" y="13644"/>
                  <a:pt x="8637" y="13616"/>
                </a:cubicBezTo>
                <a:cubicBezTo>
                  <a:pt x="8658" y="13599"/>
                  <a:pt x="8678" y="13580"/>
                  <a:pt x="8694" y="13559"/>
                </a:cubicBezTo>
                <a:cubicBezTo>
                  <a:pt x="8689" y="13583"/>
                  <a:pt x="8678" y="13608"/>
                  <a:pt x="8674" y="13633"/>
                </a:cubicBezTo>
                <a:cubicBezTo>
                  <a:pt x="8667" y="13680"/>
                  <a:pt x="8663" y="13729"/>
                  <a:pt x="8667" y="13776"/>
                </a:cubicBezTo>
                <a:cubicBezTo>
                  <a:pt x="8669" y="13800"/>
                  <a:pt x="8676" y="13855"/>
                  <a:pt x="8710" y="13858"/>
                </a:cubicBezTo>
                <a:cubicBezTo>
                  <a:pt x="8713" y="13856"/>
                  <a:pt x="8717" y="13853"/>
                  <a:pt x="8720" y="13851"/>
                </a:cubicBezTo>
              </a:path>
              <a:path w="3870" h="2125">
                <a:moveTo>
                  <a:pt x="8933" y="13505"/>
                </a:moveTo>
                <a:cubicBezTo>
                  <a:pt x="8950" y="13522"/>
                  <a:pt x="8941" y="13562"/>
                  <a:pt x="8940" y="13589"/>
                </a:cubicBezTo>
                <a:cubicBezTo>
                  <a:pt x="8939" y="13652"/>
                  <a:pt x="8938" y="13716"/>
                  <a:pt x="8936" y="13779"/>
                </a:cubicBezTo>
                <a:cubicBezTo>
                  <a:pt x="8935" y="13820"/>
                  <a:pt x="8937" y="13860"/>
                  <a:pt x="8934" y="13901"/>
                </a:cubicBezTo>
              </a:path>
              <a:path w="3870" h="2125">
                <a:moveTo>
                  <a:pt x="8797" y="13616"/>
                </a:moveTo>
                <a:cubicBezTo>
                  <a:pt x="8797" y="13598"/>
                  <a:pt x="8801" y="13572"/>
                  <a:pt x="8821" y="13562"/>
                </a:cubicBezTo>
                <a:cubicBezTo>
                  <a:pt x="8863" y="13541"/>
                  <a:pt x="8913" y="13536"/>
                  <a:pt x="8958" y="13532"/>
                </a:cubicBezTo>
                <a:cubicBezTo>
                  <a:pt x="9011" y="13527"/>
                  <a:pt x="9061" y="13527"/>
                  <a:pt x="9114" y="13531"/>
                </a:cubicBezTo>
              </a:path>
              <a:path w="3870" h="2125">
                <a:moveTo>
                  <a:pt x="9142" y="13611"/>
                </a:moveTo>
                <a:cubicBezTo>
                  <a:pt x="9127" y="13621"/>
                  <a:pt x="9123" y="13624"/>
                  <a:pt x="9113" y="13629"/>
                </a:cubicBezTo>
                <a:cubicBezTo>
                  <a:pt x="9130" y="13651"/>
                  <a:pt x="9146" y="13671"/>
                  <a:pt x="9155" y="13698"/>
                </a:cubicBezTo>
                <a:cubicBezTo>
                  <a:pt x="9164" y="13726"/>
                  <a:pt x="9164" y="13752"/>
                  <a:pt x="9154" y="13780"/>
                </a:cubicBezTo>
                <a:cubicBezTo>
                  <a:pt x="9177" y="13791"/>
                  <a:pt x="9193" y="13798"/>
                  <a:pt x="9201" y="13824"/>
                </a:cubicBezTo>
                <a:cubicBezTo>
                  <a:pt x="9208" y="13846"/>
                  <a:pt x="9200" y="13863"/>
                  <a:pt x="9221" y="13878"/>
                </a:cubicBezTo>
                <a:cubicBezTo>
                  <a:pt x="9239" y="13891"/>
                  <a:pt x="9259" y="13898"/>
                  <a:pt x="9253" y="13924"/>
                </a:cubicBezTo>
                <a:cubicBezTo>
                  <a:pt x="9248" y="13946"/>
                  <a:pt x="9227" y="13960"/>
                  <a:pt x="9209" y="13970"/>
                </a:cubicBezTo>
                <a:cubicBezTo>
                  <a:pt x="9194" y="13978"/>
                  <a:pt x="9175" y="13976"/>
                  <a:pt x="9159" y="13969"/>
                </a:cubicBezTo>
                <a:cubicBezTo>
                  <a:pt x="9156" y="13967"/>
                  <a:pt x="9152" y="13965"/>
                  <a:pt x="9149" y="13963"/>
                </a:cubicBezTo>
              </a:path>
              <a:path w="3870" h="2125">
                <a:moveTo>
                  <a:pt x="9392" y="13483"/>
                </a:moveTo>
                <a:cubicBezTo>
                  <a:pt x="9420" y="13479"/>
                  <a:pt x="9429" y="13492"/>
                  <a:pt x="9446" y="13517"/>
                </a:cubicBezTo>
                <a:cubicBezTo>
                  <a:pt x="9482" y="13571"/>
                  <a:pt x="9511" y="13631"/>
                  <a:pt x="9531" y="13693"/>
                </a:cubicBezTo>
                <a:cubicBezTo>
                  <a:pt x="9551" y="13757"/>
                  <a:pt x="9572" y="13848"/>
                  <a:pt x="9545" y="13913"/>
                </a:cubicBezTo>
                <a:cubicBezTo>
                  <a:pt x="9534" y="13940"/>
                  <a:pt x="9528" y="13928"/>
                  <a:pt x="9516" y="13915"/>
                </a:cubicBezTo>
              </a:path>
              <a:path w="3870" h="2125">
                <a:moveTo>
                  <a:pt x="9752" y="13627"/>
                </a:moveTo>
                <a:cubicBezTo>
                  <a:pt x="9781" y="13610"/>
                  <a:pt x="9796" y="13606"/>
                  <a:pt x="9828" y="13600"/>
                </a:cubicBezTo>
                <a:cubicBezTo>
                  <a:pt x="9871" y="13592"/>
                  <a:pt x="9904" y="13593"/>
                  <a:pt x="9948" y="13596"/>
                </a:cubicBezTo>
                <a:cubicBezTo>
                  <a:pt x="9975" y="13598"/>
                  <a:pt x="9991" y="13601"/>
                  <a:pt x="10015" y="13612"/>
                </a:cubicBezTo>
              </a:path>
              <a:path w="3870" h="2125">
                <a:moveTo>
                  <a:pt x="9850" y="13759"/>
                </a:moveTo>
                <a:cubicBezTo>
                  <a:pt x="9838" y="13769"/>
                  <a:pt x="9836" y="13772"/>
                  <a:pt x="9827" y="13775"/>
                </a:cubicBezTo>
                <a:cubicBezTo>
                  <a:pt x="9870" y="13766"/>
                  <a:pt x="9916" y="13753"/>
                  <a:pt x="9958" y="13740"/>
                </a:cubicBezTo>
                <a:cubicBezTo>
                  <a:pt x="10004" y="13724"/>
                  <a:pt x="10019" y="13718"/>
                  <a:pt x="10051" y="13712"/>
                </a:cubicBezTo>
              </a:path>
              <a:path w="3870" h="2125">
                <a:moveTo>
                  <a:pt x="10310" y="13623"/>
                </a:moveTo>
                <a:cubicBezTo>
                  <a:pt x="10348" y="13605"/>
                  <a:pt x="10376" y="13592"/>
                  <a:pt x="10418" y="13589"/>
                </a:cubicBezTo>
                <a:cubicBezTo>
                  <a:pt x="10457" y="13586"/>
                  <a:pt x="10474" y="13618"/>
                  <a:pt x="10468" y="13655"/>
                </a:cubicBezTo>
                <a:cubicBezTo>
                  <a:pt x="10459" y="13709"/>
                  <a:pt x="10425" y="13766"/>
                  <a:pt x="10400" y="13813"/>
                </a:cubicBezTo>
                <a:cubicBezTo>
                  <a:pt x="10387" y="13837"/>
                  <a:pt x="10350" y="13885"/>
                  <a:pt x="10369" y="13914"/>
                </a:cubicBezTo>
                <a:cubicBezTo>
                  <a:pt x="10386" y="13939"/>
                  <a:pt x="10437" y="13935"/>
                  <a:pt x="10462" y="13939"/>
                </a:cubicBezTo>
                <a:cubicBezTo>
                  <a:pt x="10493" y="13944"/>
                  <a:pt x="10523" y="13954"/>
                  <a:pt x="10554" y="13962"/>
                </a:cubicBezTo>
              </a:path>
              <a:path w="3870" h="2125">
                <a:moveTo>
                  <a:pt x="8505" y="14458"/>
                </a:moveTo>
                <a:cubicBezTo>
                  <a:pt x="8515" y="14487"/>
                  <a:pt x="8533" y="14484"/>
                  <a:pt x="8559" y="14500"/>
                </a:cubicBezTo>
                <a:cubicBezTo>
                  <a:pt x="8564" y="14504"/>
                  <a:pt x="8568" y="14507"/>
                  <a:pt x="8573" y="14511"/>
                </a:cubicBezTo>
              </a:path>
              <a:path w="3870" h="2125">
                <a:moveTo>
                  <a:pt x="8535" y="14852"/>
                </a:moveTo>
                <a:cubicBezTo>
                  <a:pt x="8532" y="14867"/>
                  <a:pt x="8517" y="14905"/>
                  <a:pt x="8540" y="14911"/>
                </a:cubicBezTo>
                <a:cubicBezTo>
                  <a:pt x="8560" y="14916"/>
                  <a:pt x="8557" y="14904"/>
                  <a:pt x="8573" y="14919"/>
                </a:cubicBezTo>
              </a:path>
              <a:path w="3870" h="2125">
                <a:moveTo>
                  <a:pt x="9912" y="12999"/>
                </a:moveTo>
                <a:cubicBezTo>
                  <a:pt x="9882" y="12989"/>
                  <a:pt x="9941" y="12977"/>
                  <a:pt x="9960" y="12972"/>
                </a:cubicBezTo>
                <a:cubicBezTo>
                  <a:pt x="10017" y="12957"/>
                  <a:pt x="10076" y="12948"/>
                  <a:pt x="10134" y="12942"/>
                </a:cubicBezTo>
                <a:cubicBezTo>
                  <a:pt x="10176" y="12937"/>
                  <a:pt x="10218" y="12933"/>
                  <a:pt x="10260" y="12939"/>
                </a:cubicBezTo>
                <a:cubicBezTo>
                  <a:pt x="10236" y="12944"/>
                  <a:pt x="10213" y="12945"/>
                  <a:pt x="10188" y="12948"/>
                </a:cubicBezTo>
              </a:path>
              <a:path w="3870" h="2125">
                <a:moveTo>
                  <a:pt x="9784" y="13003"/>
                </a:moveTo>
                <a:cubicBezTo>
                  <a:pt x="9799" y="12981"/>
                  <a:pt x="9817" y="12964"/>
                  <a:pt x="9833" y="12944"/>
                </a:cubicBezTo>
                <a:cubicBezTo>
                  <a:pt x="9856" y="12916"/>
                  <a:pt x="9880" y="12891"/>
                  <a:pt x="9905" y="12865"/>
                </a:cubicBezTo>
                <a:cubicBezTo>
                  <a:pt x="9924" y="12846"/>
                  <a:pt x="9945" y="12826"/>
                  <a:pt x="9962" y="12805"/>
                </a:cubicBezTo>
                <a:cubicBezTo>
                  <a:pt x="9964" y="12802"/>
                  <a:pt x="9966" y="12798"/>
                  <a:pt x="9968" y="12795"/>
                </a:cubicBezTo>
                <a:cubicBezTo>
                  <a:pt x="9941" y="12802"/>
                  <a:pt x="9918" y="12816"/>
                  <a:pt x="9894" y="12831"/>
                </a:cubicBezTo>
                <a:cubicBezTo>
                  <a:pt x="9852" y="12856"/>
                  <a:pt x="9806" y="12881"/>
                  <a:pt x="9773" y="12917"/>
                </a:cubicBezTo>
                <a:cubicBezTo>
                  <a:pt x="9748" y="12944"/>
                  <a:pt x="9734" y="12974"/>
                  <a:pt x="9755" y="13006"/>
                </a:cubicBezTo>
                <a:cubicBezTo>
                  <a:pt x="9775" y="13038"/>
                  <a:pt x="9816" y="13054"/>
                  <a:pt x="9850" y="13067"/>
                </a:cubicBezTo>
                <a:cubicBezTo>
                  <a:pt x="9881" y="13078"/>
                  <a:pt x="9916" y="13092"/>
                  <a:pt x="9948" y="13096"/>
                </a:cubicBezTo>
                <a:cubicBezTo>
                  <a:pt x="9953" y="13096"/>
                  <a:pt x="9959" y="13095"/>
                  <a:pt x="9964" y="13095"/>
                </a:cubicBezTo>
              </a:path>
              <a:path w="3870" h="2125">
                <a:moveTo>
                  <a:pt x="11114" y="13723"/>
                </a:moveTo>
                <a:cubicBezTo>
                  <a:pt x="11129" y="13706"/>
                  <a:pt x="11100" y="13717"/>
                  <a:pt x="11086" y="13719"/>
                </a:cubicBezTo>
                <a:cubicBezTo>
                  <a:pt x="11046" y="13725"/>
                  <a:pt x="11007" y="13728"/>
                  <a:pt x="10967" y="13733"/>
                </a:cubicBezTo>
                <a:cubicBezTo>
                  <a:pt x="10917" y="13739"/>
                  <a:pt x="10867" y="13744"/>
                  <a:pt x="10817" y="13746"/>
                </a:cubicBezTo>
                <a:cubicBezTo>
                  <a:pt x="10790" y="13747"/>
                  <a:pt x="10764" y="13749"/>
                  <a:pt x="10737" y="13747"/>
                </a:cubicBezTo>
                <a:cubicBezTo>
                  <a:pt x="10776" y="13726"/>
                  <a:pt x="10820" y="13719"/>
                  <a:pt x="10857" y="13696"/>
                </a:cubicBezTo>
                <a:cubicBezTo>
                  <a:pt x="10872" y="13686"/>
                  <a:pt x="10875" y="13682"/>
                  <a:pt x="10883" y="13667"/>
                </a:cubicBezTo>
                <a:cubicBezTo>
                  <a:pt x="10851" y="13659"/>
                  <a:pt x="10826" y="13659"/>
                  <a:pt x="10793" y="13666"/>
                </a:cubicBezTo>
                <a:cubicBezTo>
                  <a:pt x="10766" y="13672"/>
                  <a:pt x="10728" y="13681"/>
                  <a:pt x="10710" y="13705"/>
                </a:cubicBezTo>
                <a:cubicBezTo>
                  <a:pt x="10692" y="13731"/>
                  <a:pt x="10728" y="13748"/>
                  <a:pt x="10745" y="13757"/>
                </a:cubicBezTo>
                <a:cubicBezTo>
                  <a:pt x="10785" y="13777"/>
                  <a:pt x="10828" y="13787"/>
                  <a:pt x="10869" y="13803"/>
                </a:cubicBezTo>
                <a:cubicBezTo>
                  <a:pt x="10893" y="13813"/>
                  <a:pt x="10917" y="13822"/>
                  <a:pt x="10943" y="1382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"/>
          <p:cNvSpPr/>
          <p:nvPr/>
        </p:nvSpPr>
        <p:spPr>
          <a:xfrm>
            <a:off x="4165560" y="4883040"/>
            <a:ext cx="949320" cy="268560"/>
          </a:xfrm>
          <a:custGeom>
            <a:avLst/>
            <a:gdLst/>
            <a:ahLst/>
            <a:rect l="l" t="t" r="r" b="b"/>
            <a:pathLst>
              <a:path w="2639" h="744">
                <a:moveTo>
                  <a:pt x="11570" y="13730"/>
                </a:moveTo>
                <a:cubicBezTo>
                  <a:pt x="11573" y="13764"/>
                  <a:pt x="11579" y="13797"/>
                  <a:pt x="11585" y="13831"/>
                </a:cubicBezTo>
                <a:cubicBezTo>
                  <a:pt x="11595" y="13890"/>
                  <a:pt x="11603" y="13949"/>
                  <a:pt x="11611" y="14009"/>
                </a:cubicBezTo>
                <a:cubicBezTo>
                  <a:pt x="11615" y="14041"/>
                  <a:pt x="11618" y="14071"/>
                  <a:pt x="11619" y="14103"/>
                </a:cubicBezTo>
                <a:cubicBezTo>
                  <a:pt x="11592" y="14069"/>
                  <a:pt x="11593" y="14028"/>
                  <a:pt x="11590" y="13983"/>
                </a:cubicBezTo>
                <a:cubicBezTo>
                  <a:pt x="11585" y="13903"/>
                  <a:pt x="11591" y="13822"/>
                  <a:pt x="11604" y="13743"/>
                </a:cubicBezTo>
                <a:cubicBezTo>
                  <a:pt x="11613" y="13691"/>
                  <a:pt x="11622" y="13617"/>
                  <a:pt x="11656" y="13574"/>
                </a:cubicBezTo>
                <a:cubicBezTo>
                  <a:pt x="11661" y="13571"/>
                  <a:pt x="11665" y="13568"/>
                  <a:pt x="11670" y="13565"/>
                </a:cubicBezTo>
                <a:cubicBezTo>
                  <a:pt x="11703" y="13595"/>
                  <a:pt x="11716" y="13634"/>
                  <a:pt x="11726" y="13678"/>
                </a:cubicBezTo>
                <a:cubicBezTo>
                  <a:pt x="11742" y="13744"/>
                  <a:pt x="11753" y="13815"/>
                  <a:pt x="11751" y="13883"/>
                </a:cubicBezTo>
                <a:cubicBezTo>
                  <a:pt x="11750" y="13917"/>
                  <a:pt x="11744" y="13960"/>
                  <a:pt x="11717" y="13983"/>
                </a:cubicBezTo>
                <a:cubicBezTo>
                  <a:pt x="11714" y="13985"/>
                  <a:pt x="11710" y="13986"/>
                  <a:pt x="11707" y="13988"/>
                </a:cubicBezTo>
                <a:cubicBezTo>
                  <a:pt x="11689" y="13972"/>
                  <a:pt x="11681" y="13958"/>
                  <a:pt x="11680" y="13932"/>
                </a:cubicBezTo>
                <a:cubicBezTo>
                  <a:pt x="11680" y="13925"/>
                  <a:pt x="11681" y="13919"/>
                  <a:pt x="11681" y="13912"/>
                </a:cubicBezTo>
              </a:path>
              <a:path w="2639" h="744">
                <a:moveTo>
                  <a:pt x="11807" y="13895"/>
                </a:moveTo>
                <a:cubicBezTo>
                  <a:pt x="11820" y="13924"/>
                  <a:pt x="11834" y="13952"/>
                  <a:pt x="11848" y="13980"/>
                </a:cubicBezTo>
                <a:cubicBezTo>
                  <a:pt x="11862" y="14009"/>
                  <a:pt x="11874" y="14039"/>
                  <a:pt x="11885" y="14069"/>
                </a:cubicBezTo>
                <a:cubicBezTo>
                  <a:pt x="11887" y="14074"/>
                  <a:pt x="11889" y="14079"/>
                  <a:pt x="11891" y="14084"/>
                </a:cubicBezTo>
                <a:cubicBezTo>
                  <a:pt x="11870" y="14053"/>
                  <a:pt x="11867" y="14024"/>
                  <a:pt x="11867" y="13985"/>
                </a:cubicBezTo>
                <a:cubicBezTo>
                  <a:pt x="11867" y="13946"/>
                  <a:pt x="11870" y="13906"/>
                  <a:pt x="11901" y="13879"/>
                </a:cubicBezTo>
                <a:cubicBezTo>
                  <a:pt x="11933" y="13851"/>
                  <a:pt x="11972" y="13853"/>
                  <a:pt x="12012" y="13849"/>
                </a:cubicBezTo>
              </a:path>
              <a:path w="2639" h="744">
                <a:moveTo>
                  <a:pt x="12398" y="13722"/>
                </a:moveTo>
                <a:cubicBezTo>
                  <a:pt x="12396" y="13673"/>
                  <a:pt x="12371" y="13737"/>
                  <a:pt x="12364" y="13755"/>
                </a:cubicBezTo>
                <a:cubicBezTo>
                  <a:pt x="12336" y="13826"/>
                  <a:pt x="12313" y="13901"/>
                  <a:pt x="12299" y="13977"/>
                </a:cubicBezTo>
                <a:cubicBezTo>
                  <a:pt x="12285" y="14054"/>
                  <a:pt x="12273" y="14130"/>
                  <a:pt x="12297" y="14206"/>
                </a:cubicBezTo>
                <a:cubicBezTo>
                  <a:pt x="12313" y="14257"/>
                  <a:pt x="12338" y="14284"/>
                  <a:pt x="12383" y="14308"/>
                </a:cubicBezTo>
              </a:path>
              <a:path w="2639" h="744">
                <a:moveTo>
                  <a:pt x="12763" y="13745"/>
                </a:moveTo>
                <a:cubicBezTo>
                  <a:pt x="12755" y="13727"/>
                  <a:pt x="12753" y="13708"/>
                  <a:pt x="12736" y="13696"/>
                </a:cubicBezTo>
                <a:cubicBezTo>
                  <a:pt x="12711" y="13679"/>
                  <a:pt x="12688" y="13707"/>
                  <a:pt x="12670" y="13720"/>
                </a:cubicBezTo>
                <a:cubicBezTo>
                  <a:pt x="12641" y="13740"/>
                  <a:pt x="12615" y="13765"/>
                  <a:pt x="12590" y="13791"/>
                </a:cubicBezTo>
                <a:cubicBezTo>
                  <a:pt x="12576" y="13806"/>
                  <a:pt x="12575" y="13813"/>
                  <a:pt x="12568" y="13827"/>
                </a:cubicBezTo>
                <a:cubicBezTo>
                  <a:pt x="12592" y="13822"/>
                  <a:pt x="12616" y="13816"/>
                  <a:pt x="12640" y="13813"/>
                </a:cubicBezTo>
                <a:cubicBezTo>
                  <a:pt x="12665" y="13809"/>
                  <a:pt x="12701" y="13803"/>
                  <a:pt x="12722" y="13822"/>
                </a:cubicBezTo>
                <a:cubicBezTo>
                  <a:pt x="12744" y="13842"/>
                  <a:pt x="12737" y="13876"/>
                  <a:pt x="12728" y="13900"/>
                </a:cubicBezTo>
                <a:cubicBezTo>
                  <a:pt x="12716" y="13933"/>
                  <a:pt x="12694" y="13958"/>
                  <a:pt x="12673" y="13985"/>
                </a:cubicBezTo>
                <a:cubicBezTo>
                  <a:pt x="12693" y="13992"/>
                  <a:pt x="12713" y="13992"/>
                  <a:pt x="12733" y="13999"/>
                </a:cubicBezTo>
                <a:cubicBezTo>
                  <a:pt x="12756" y="14007"/>
                  <a:pt x="12779" y="14023"/>
                  <a:pt x="12788" y="14047"/>
                </a:cubicBezTo>
                <a:cubicBezTo>
                  <a:pt x="12799" y="14074"/>
                  <a:pt x="12789" y="14104"/>
                  <a:pt x="12777" y="14129"/>
                </a:cubicBezTo>
                <a:cubicBezTo>
                  <a:pt x="12763" y="14157"/>
                  <a:pt x="12741" y="14182"/>
                  <a:pt x="12724" y="14208"/>
                </a:cubicBezTo>
                <a:cubicBezTo>
                  <a:pt x="12712" y="14226"/>
                  <a:pt x="12703" y="14246"/>
                  <a:pt x="12720" y="14265"/>
                </a:cubicBezTo>
                <a:cubicBezTo>
                  <a:pt x="12730" y="14277"/>
                  <a:pt x="12750" y="14280"/>
                  <a:pt x="12764" y="14284"/>
                </a:cubicBezTo>
              </a:path>
              <a:path w="2639" h="744">
                <a:moveTo>
                  <a:pt x="13018" y="13775"/>
                </a:moveTo>
                <a:cubicBezTo>
                  <a:pt x="13055" y="13793"/>
                  <a:pt x="13049" y="13826"/>
                  <a:pt x="13054" y="13867"/>
                </a:cubicBezTo>
                <a:cubicBezTo>
                  <a:pt x="13062" y="13938"/>
                  <a:pt x="13065" y="14012"/>
                  <a:pt x="13061" y="14084"/>
                </a:cubicBezTo>
                <a:cubicBezTo>
                  <a:pt x="13058" y="14129"/>
                  <a:pt x="13064" y="14180"/>
                  <a:pt x="13053" y="14224"/>
                </a:cubicBezTo>
                <a:cubicBezTo>
                  <a:pt x="13052" y="14228"/>
                  <a:pt x="13050" y="14231"/>
                  <a:pt x="13049" y="14235"/>
                </a:cubicBezTo>
              </a:path>
              <a:path w="2639" h="744">
                <a:moveTo>
                  <a:pt x="12993" y="14082"/>
                </a:moveTo>
                <a:cubicBezTo>
                  <a:pt x="13010" y="14064"/>
                  <a:pt x="13023" y="14052"/>
                  <a:pt x="13046" y="14041"/>
                </a:cubicBezTo>
                <a:cubicBezTo>
                  <a:pt x="13077" y="14026"/>
                  <a:pt x="13111" y="14023"/>
                  <a:pt x="13142" y="14009"/>
                </a:cubicBezTo>
                <a:cubicBezTo>
                  <a:pt x="13148" y="14006"/>
                  <a:pt x="13154" y="14002"/>
                  <a:pt x="13160" y="13999"/>
                </a:cubicBezTo>
              </a:path>
              <a:path w="2639" h="744">
                <a:moveTo>
                  <a:pt x="13256" y="13863"/>
                </a:moveTo>
                <a:cubicBezTo>
                  <a:pt x="13258" y="13896"/>
                  <a:pt x="13256" y="13928"/>
                  <a:pt x="13256" y="13961"/>
                </a:cubicBezTo>
                <a:cubicBezTo>
                  <a:pt x="13256" y="14016"/>
                  <a:pt x="13259" y="14069"/>
                  <a:pt x="13272" y="14122"/>
                </a:cubicBezTo>
                <a:cubicBezTo>
                  <a:pt x="13278" y="14147"/>
                  <a:pt x="13285" y="14169"/>
                  <a:pt x="13296" y="14193"/>
                </a:cubicBezTo>
              </a:path>
              <a:path w="2639" h="744">
                <a:moveTo>
                  <a:pt x="13543" y="13790"/>
                </a:moveTo>
                <a:cubicBezTo>
                  <a:pt x="13546" y="13823"/>
                  <a:pt x="13541" y="13857"/>
                  <a:pt x="13540" y="13892"/>
                </a:cubicBezTo>
                <a:cubicBezTo>
                  <a:pt x="13539" y="13942"/>
                  <a:pt x="13540" y="13991"/>
                  <a:pt x="13544" y="14041"/>
                </a:cubicBezTo>
                <a:cubicBezTo>
                  <a:pt x="13545" y="14060"/>
                  <a:pt x="13544" y="14078"/>
                  <a:pt x="13544" y="14097"/>
                </a:cubicBezTo>
              </a:path>
              <a:path w="2639" h="744">
                <a:moveTo>
                  <a:pt x="13405" y="13796"/>
                </a:moveTo>
                <a:cubicBezTo>
                  <a:pt x="13410" y="13765"/>
                  <a:pt x="13416" y="13763"/>
                  <a:pt x="13440" y="13744"/>
                </a:cubicBezTo>
                <a:cubicBezTo>
                  <a:pt x="13471" y="13720"/>
                  <a:pt x="13513" y="13711"/>
                  <a:pt x="13553" y="13709"/>
                </a:cubicBezTo>
                <a:cubicBezTo>
                  <a:pt x="13598" y="13706"/>
                  <a:pt x="13640" y="13720"/>
                  <a:pt x="13682" y="13734"/>
                </a:cubicBezTo>
              </a:path>
              <a:path w="2639" h="744">
                <a:moveTo>
                  <a:pt x="13875" y="13780"/>
                </a:moveTo>
                <a:cubicBezTo>
                  <a:pt x="13871" y="13781"/>
                  <a:pt x="13866" y="13781"/>
                  <a:pt x="13862" y="13782"/>
                </a:cubicBezTo>
                <a:cubicBezTo>
                  <a:pt x="13864" y="13760"/>
                  <a:pt x="13871" y="13754"/>
                  <a:pt x="13896" y="13748"/>
                </a:cubicBezTo>
                <a:cubicBezTo>
                  <a:pt x="13918" y="13743"/>
                  <a:pt x="13938" y="13750"/>
                  <a:pt x="13943" y="13774"/>
                </a:cubicBezTo>
                <a:cubicBezTo>
                  <a:pt x="13949" y="13806"/>
                  <a:pt x="13929" y="13845"/>
                  <a:pt x="13914" y="13872"/>
                </a:cubicBezTo>
                <a:cubicBezTo>
                  <a:pt x="13900" y="13896"/>
                  <a:pt x="13883" y="13917"/>
                  <a:pt x="13866" y="13938"/>
                </a:cubicBezTo>
                <a:cubicBezTo>
                  <a:pt x="13888" y="13934"/>
                  <a:pt x="13906" y="13932"/>
                  <a:pt x="13928" y="13940"/>
                </a:cubicBezTo>
                <a:cubicBezTo>
                  <a:pt x="13954" y="13950"/>
                  <a:pt x="13971" y="13973"/>
                  <a:pt x="13982" y="13997"/>
                </a:cubicBezTo>
                <a:cubicBezTo>
                  <a:pt x="13994" y="14024"/>
                  <a:pt x="13992" y="14050"/>
                  <a:pt x="13979" y="14077"/>
                </a:cubicBezTo>
                <a:cubicBezTo>
                  <a:pt x="13966" y="14104"/>
                  <a:pt x="13944" y="14129"/>
                  <a:pt x="13920" y="14148"/>
                </a:cubicBezTo>
                <a:cubicBezTo>
                  <a:pt x="13905" y="14159"/>
                  <a:pt x="13877" y="14183"/>
                  <a:pt x="13856" y="14175"/>
                </a:cubicBezTo>
                <a:cubicBezTo>
                  <a:pt x="13853" y="14172"/>
                  <a:pt x="13850" y="14169"/>
                  <a:pt x="13847" y="14166"/>
                </a:cubicBezTo>
              </a:path>
              <a:path w="2639" h="744">
                <a:moveTo>
                  <a:pt x="14056" y="13733"/>
                </a:moveTo>
                <a:cubicBezTo>
                  <a:pt x="14084" y="13721"/>
                  <a:pt x="14088" y="13723"/>
                  <a:pt x="14104" y="13749"/>
                </a:cubicBezTo>
                <a:cubicBezTo>
                  <a:pt x="14127" y="13786"/>
                  <a:pt x="14135" y="13827"/>
                  <a:pt x="14147" y="13869"/>
                </a:cubicBezTo>
                <a:cubicBezTo>
                  <a:pt x="14161" y="13917"/>
                  <a:pt x="14169" y="13965"/>
                  <a:pt x="14180" y="14014"/>
                </a:cubicBezTo>
                <a:cubicBezTo>
                  <a:pt x="14187" y="14048"/>
                  <a:pt x="14197" y="14083"/>
                  <a:pt x="14200" y="14118"/>
                </a:cubicBezTo>
                <a:cubicBezTo>
                  <a:pt x="14202" y="14137"/>
                  <a:pt x="14200" y="14157"/>
                  <a:pt x="14202" y="14176"/>
                </a:cubicBezTo>
                <a:cubicBezTo>
                  <a:pt x="14204" y="14193"/>
                  <a:pt x="14204" y="14199"/>
                  <a:pt x="14207" y="1421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"/>
          <p:cNvSpPr/>
          <p:nvPr/>
        </p:nvSpPr>
        <p:spPr>
          <a:xfrm>
            <a:off x="5222880" y="4829040"/>
            <a:ext cx="357120" cy="343080"/>
          </a:xfrm>
          <a:custGeom>
            <a:avLst/>
            <a:gdLst/>
            <a:ahLst/>
            <a:rect l="l" t="t" r="r" b="b"/>
            <a:pathLst>
              <a:path w="995" h="953">
                <a:moveTo>
                  <a:pt x="14507" y="13876"/>
                </a:moveTo>
                <a:cubicBezTo>
                  <a:pt x="14537" y="13860"/>
                  <a:pt x="14564" y="13865"/>
                  <a:pt x="14598" y="13866"/>
                </a:cubicBezTo>
                <a:cubicBezTo>
                  <a:pt x="14654" y="13868"/>
                  <a:pt x="14711" y="13869"/>
                  <a:pt x="14767" y="13875"/>
                </a:cubicBezTo>
                <a:cubicBezTo>
                  <a:pt x="14777" y="13877"/>
                  <a:pt x="14787" y="13878"/>
                  <a:pt x="14797" y="13880"/>
                </a:cubicBezTo>
              </a:path>
              <a:path w="995" h="953">
                <a:moveTo>
                  <a:pt x="14571" y="14001"/>
                </a:moveTo>
                <a:cubicBezTo>
                  <a:pt x="14567" y="14003"/>
                  <a:pt x="14563" y="14006"/>
                  <a:pt x="14559" y="14008"/>
                </a:cubicBezTo>
                <a:cubicBezTo>
                  <a:pt x="14581" y="14022"/>
                  <a:pt x="14617" y="14011"/>
                  <a:pt x="14648" y="14009"/>
                </a:cubicBezTo>
                <a:cubicBezTo>
                  <a:pt x="14701" y="14006"/>
                  <a:pt x="14760" y="14014"/>
                  <a:pt x="14812" y="14025"/>
                </a:cubicBezTo>
                <a:cubicBezTo>
                  <a:pt x="14841" y="14033"/>
                  <a:pt x="14849" y="14036"/>
                  <a:pt x="14867" y="14044"/>
                </a:cubicBezTo>
              </a:path>
              <a:path w="995" h="953">
                <a:moveTo>
                  <a:pt x="15294" y="13495"/>
                </a:moveTo>
                <a:cubicBezTo>
                  <a:pt x="15296" y="13467"/>
                  <a:pt x="15298" y="13443"/>
                  <a:pt x="15294" y="13415"/>
                </a:cubicBezTo>
                <a:cubicBezTo>
                  <a:pt x="15296" y="13456"/>
                  <a:pt x="15300" y="13497"/>
                  <a:pt x="15304" y="13538"/>
                </a:cubicBezTo>
                <a:cubicBezTo>
                  <a:pt x="15309" y="13588"/>
                  <a:pt x="15316" y="13638"/>
                  <a:pt x="15321" y="13688"/>
                </a:cubicBezTo>
                <a:cubicBezTo>
                  <a:pt x="15323" y="13709"/>
                  <a:pt x="15324" y="13723"/>
                  <a:pt x="15320" y="13743"/>
                </a:cubicBezTo>
              </a:path>
              <a:path w="995" h="953">
                <a:moveTo>
                  <a:pt x="15078" y="13885"/>
                </a:moveTo>
                <a:cubicBezTo>
                  <a:pt x="15064" y="13887"/>
                  <a:pt x="15059" y="13888"/>
                  <a:pt x="15050" y="13886"/>
                </a:cubicBezTo>
                <a:cubicBezTo>
                  <a:pt x="15091" y="13875"/>
                  <a:pt x="15132" y="13873"/>
                  <a:pt x="15174" y="13870"/>
                </a:cubicBezTo>
                <a:cubicBezTo>
                  <a:pt x="15253" y="13864"/>
                  <a:pt x="15333" y="13860"/>
                  <a:pt x="15412" y="13853"/>
                </a:cubicBezTo>
                <a:cubicBezTo>
                  <a:pt x="15441" y="13850"/>
                  <a:pt x="15472" y="13850"/>
                  <a:pt x="15501" y="13853"/>
                </a:cubicBezTo>
              </a:path>
              <a:path w="995" h="953">
                <a:moveTo>
                  <a:pt x="15204" y="14014"/>
                </a:moveTo>
                <a:cubicBezTo>
                  <a:pt x="15215" y="13989"/>
                  <a:pt x="15209" y="13989"/>
                  <a:pt x="15233" y="13986"/>
                </a:cubicBezTo>
                <a:cubicBezTo>
                  <a:pt x="15237" y="14013"/>
                  <a:pt x="15238" y="14039"/>
                  <a:pt x="15237" y="14066"/>
                </a:cubicBezTo>
                <a:cubicBezTo>
                  <a:pt x="15235" y="14105"/>
                  <a:pt x="15228" y="14144"/>
                  <a:pt x="15224" y="14183"/>
                </a:cubicBezTo>
                <a:cubicBezTo>
                  <a:pt x="15222" y="14202"/>
                  <a:pt x="15221" y="14206"/>
                  <a:pt x="15224" y="14218"/>
                </a:cubicBezTo>
                <a:cubicBezTo>
                  <a:pt x="15264" y="14220"/>
                  <a:pt x="15300" y="14197"/>
                  <a:pt x="15336" y="14174"/>
                </a:cubicBezTo>
                <a:cubicBezTo>
                  <a:pt x="15376" y="14149"/>
                  <a:pt x="15412" y="14117"/>
                  <a:pt x="15449" y="14087"/>
                </a:cubicBezTo>
              </a:path>
              <a:path w="995" h="953">
                <a:moveTo>
                  <a:pt x="15484" y="13991"/>
                </a:moveTo>
                <a:cubicBezTo>
                  <a:pt x="15477" y="14040"/>
                  <a:pt x="15475" y="14087"/>
                  <a:pt x="15472" y="14136"/>
                </a:cubicBezTo>
                <a:cubicBezTo>
                  <a:pt x="15468" y="14193"/>
                  <a:pt x="15474" y="14247"/>
                  <a:pt x="15478" y="14304"/>
                </a:cubicBezTo>
                <a:cubicBezTo>
                  <a:pt x="15479" y="14336"/>
                  <a:pt x="15479" y="14346"/>
                  <a:pt x="15483" y="1436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"/>
          <p:cNvSpPr/>
          <p:nvPr/>
        </p:nvSpPr>
        <p:spPr>
          <a:xfrm>
            <a:off x="6910560" y="5040360"/>
            <a:ext cx="718920" cy="260280"/>
          </a:xfrm>
          <a:custGeom>
            <a:avLst/>
            <a:gdLst/>
            <a:ahLst/>
            <a:rect l="l" t="t" r="r" b="b"/>
            <a:pathLst>
              <a:path w="1994" h="725">
                <a:moveTo>
                  <a:pt x="19241" y="14283"/>
                </a:moveTo>
                <a:cubicBezTo>
                  <a:pt x="19224" y="14282"/>
                  <a:pt x="19213" y="14281"/>
                  <a:pt x="19197" y="14276"/>
                </a:cubicBezTo>
                <a:cubicBezTo>
                  <a:pt x="19215" y="14255"/>
                  <a:pt x="19278" y="14249"/>
                  <a:pt x="19311" y="14245"/>
                </a:cubicBezTo>
                <a:cubicBezTo>
                  <a:pt x="19390" y="14234"/>
                  <a:pt x="19479" y="14220"/>
                  <a:pt x="19559" y="14232"/>
                </a:cubicBezTo>
                <a:cubicBezTo>
                  <a:pt x="19595" y="14237"/>
                  <a:pt x="19669" y="14254"/>
                  <a:pt x="19663" y="14306"/>
                </a:cubicBezTo>
                <a:cubicBezTo>
                  <a:pt x="19660" y="14315"/>
                  <a:pt x="19656" y="14323"/>
                  <a:pt x="19653" y="14332"/>
                </a:cubicBezTo>
              </a:path>
              <a:path w="1994" h="725">
                <a:moveTo>
                  <a:pt x="19399" y="14578"/>
                </a:moveTo>
                <a:cubicBezTo>
                  <a:pt x="19382" y="14595"/>
                  <a:pt x="19366" y="14612"/>
                  <a:pt x="19351" y="14630"/>
                </a:cubicBezTo>
                <a:cubicBezTo>
                  <a:pt x="19380" y="14629"/>
                  <a:pt x="19420" y="14601"/>
                  <a:pt x="19451" y="14588"/>
                </a:cubicBezTo>
                <a:cubicBezTo>
                  <a:pt x="19512" y="14562"/>
                  <a:pt x="19573" y="14538"/>
                  <a:pt x="19633" y="14511"/>
                </a:cubicBezTo>
                <a:cubicBezTo>
                  <a:pt x="19673" y="14493"/>
                  <a:pt x="19686" y="14487"/>
                  <a:pt x="19711" y="14473"/>
                </a:cubicBezTo>
              </a:path>
              <a:path w="1994" h="725">
                <a:moveTo>
                  <a:pt x="20130" y="14054"/>
                </a:moveTo>
                <a:cubicBezTo>
                  <a:pt x="20114" y="14071"/>
                  <a:pt x="20096" y="14090"/>
                  <a:pt x="20091" y="14126"/>
                </a:cubicBezTo>
                <a:cubicBezTo>
                  <a:pt x="20079" y="14210"/>
                  <a:pt x="20067" y="14293"/>
                  <a:pt x="20051" y="14377"/>
                </a:cubicBezTo>
                <a:cubicBezTo>
                  <a:pt x="20035" y="14463"/>
                  <a:pt x="20018" y="14548"/>
                  <a:pt x="19995" y="14633"/>
                </a:cubicBezTo>
                <a:cubicBezTo>
                  <a:pt x="19987" y="14664"/>
                  <a:pt x="19979" y="14687"/>
                  <a:pt x="19979" y="14718"/>
                </a:cubicBezTo>
                <a:cubicBezTo>
                  <a:pt x="20022" y="14724"/>
                  <a:pt x="20049" y="14708"/>
                  <a:pt x="20091" y="14690"/>
                </a:cubicBezTo>
                <a:cubicBezTo>
                  <a:pt x="20145" y="14667"/>
                  <a:pt x="20199" y="14647"/>
                  <a:pt x="20254" y="14628"/>
                </a:cubicBezTo>
                <a:cubicBezTo>
                  <a:pt x="20273" y="14621"/>
                  <a:pt x="20338" y="14615"/>
                  <a:pt x="20346" y="14588"/>
                </a:cubicBezTo>
                <a:cubicBezTo>
                  <a:pt x="20352" y="14567"/>
                  <a:pt x="20341" y="14569"/>
                  <a:pt x="20329" y="14553"/>
                </a:cubicBezTo>
              </a:path>
              <a:path w="1994" h="725">
                <a:moveTo>
                  <a:pt x="20119" y="14485"/>
                </a:moveTo>
                <a:cubicBezTo>
                  <a:pt x="20141" y="14458"/>
                  <a:pt x="20168" y="14428"/>
                  <a:pt x="20200" y="14412"/>
                </a:cubicBezTo>
                <a:cubicBezTo>
                  <a:pt x="20245" y="14389"/>
                  <a:pt x="20296" y="14369"/>
                  <a:pt x="20344" y="14354"/>
                </a:cubicBezTo>
                <a:cubicBezTo>
                  <a:pt x="20375" y="14345"/>
                  <a:pt x="20398" y="14341"/>
                  <a:pt x="20397" y="14312"/>
                </a:cubicBezTo>
              </a:path>
              <a:path w="1994" h="725">
                <a:moveTo>
                  <a:pt x="20742" y="14056"/>
                </a:moveTo>
                <a:cubicBezTo>
                  <a:pt x="20729" y="14040"/>
                  <a:pt x="20706" y="14013"/>
                  <a:pt x="20684" y="14007"/>
                </a:cubicBezTo>
                <a:cubicBezTo>
                  <a:pt x="20658" y="14000"/>
                  <a:pt x="20654" y="14018"/>
                  <a:pt x="20630" y="14030"/>
                </a:cubicBezTo>
                <a:cubicBezTo>
                  <a:pt x="20603" y="14043"/>
                  <a:pt x="20573" y="14045"/>
                  <a:pt x="20544" y="14049"/>
                </a:cubicBezTo>
                <a:cubicBezTo>
                  <a:pt x="20509" y="14054"/>
                  <a:pt x="20499" y="14081"/>
                  <a:pt x="20497" y="14113"/>
                </a:cubicBezTo>
                <a:cubicBezTo>
                  <a:pt x="20493" y="14165"/>
                  <a:pt x="20503" y="14217"/>
                  <a:pt x="20508" y="14268"/>
                </a:cubicBezTo>
                <a:cubicBezTo>
                  <a:pt x="20514" y="14329"/>
                  <a:pt x="20520" y="14391"/>
                  <a:pt x="20515" y="14453"/>
                </a:cubicBezTo>
                <a:cubicBezTo>
                  <a:pt x="20511" y="14505"/>
                  <a:pt x="20499" y="14554"/>
                  <a:pt x="20480" y="14602"/>
                </a:cubicBezTo>
                <a:cubicBezTo>
                  <a:pt x="20469" y="14630"/>
                  <a:pt x="20459" y="14657"/>
                  <a:pt x="20451" y="14685"/>
                </a:cubicBezTo>
                <a:cubicBezTo>
                  <a:pt x="20477" y="14699"/>
                  <a:pt x="20486" y="14699"/>
                  <a:pt x="20520" y="14693"/>
                </a:cubicBezTo>
                <a:cubicBezTo>
                  <a:pt x="20553" y="14687"/>
                  <a:pt x="20587" y="14681"/>
                  <a:pt x="20619" y="14671"/>
                </a:cubicBezTo>
                <a:cubicBezTo>
                  <a:pt x="20645" y="14663"/>
                  <a:pt x="20657" y="14648"/>
                  <a:pt x="20675" y="14630"/>
                </a:cubicBezTo>
              </a:path>
              <a:path w="1994" h="725">
                <a:moveTo>
                  <a:pt x="20822" y="14103"/>
                </a:moveTo>
                <a:cubicBezTo>
                  <a:pt x="20818" y="14141"/>
                  <a:pt x="20822" y="14178"/>
                  <a:pt x="20833" y="14215"/>
                </a:cubicBezTo>
                <a:cubicBezTo>
                  <a:pt x="20853" y="14280"/>
                  <a:pt x="20887" y="14341"/>
                  <a:pt x="20923" y="14399"/>
                </a:cubicBezTo>
                <a:cubicBezTo>
                  <a:pt x="20947" y="14437"/>
                  <a:pt x="20976" y="14491"/>
                  <a:pt x="21021" y="14509"/>
                </a:cubicBezTo>
                <a:cubicBezTo>
                  <a:pt x="21049" y="14520"/>
                  <a:pt x="21055" y="14503"/>
                  <a:pt x="21068" y="14484"/>
                </a:cubicBezTo>
              </a:path>
              <a:path w="1994" h="725">
                <a:moveTo>
                  <a:pt x="21124" y="14125"/>
                </a:moveTo>
                <a:cubicBezTo>
                  <a:pt x="21096" y="14096"/>
                  <a:pt x="21090" y="14167"/>
                  <a:pt x="21081" y="14191"/>
                </a:cubicBezTo>
                <a:cubicBezTo>
                  <a:pt x="21051" y="14269"/>
                  <a:pt x="21021" y="14346"/>
                  <a:pt x="20993" y="14425"/>
                </a:cubicBezTo>
                <a:cubicBezTo>
                  <a:pt x="20970" y="14489"/>
                  <a:pt x="20944" y="14551"/>
                  <a:pt x="20929" y="14618"/>
                </a:cubicBezTo>
                <a:cubicBezTo>
                  <a:pt x="20926" y="14636"/>
                  <a:pt x="20926" y="14641"/>
                  <a:pt x="20944" y="14625"/>
                </a:cubicBezTo>
              </a:path>
              <a:path w="1994" h="725">
                <a:moveTo>
                  <a:pt x="21189" y="14436"/>
                </a:moveTo>
                <a:cubicBezTo>
                  <a:pt x="21190" y="14478"/>
                  <a:pt x="21182" y="14509"/>
                  <a:pt x="21174" y="14549"/>
                </a:cubicBezTo>
                <a:cubicBezTo>
                  <a:pt x="21166" y="14591"/>
                  <a:pt x="21155" y="14628"/>
                  <a:pt x="21146" y="14669"/>
                </a:cubicBezTo>
                <a:cubicBezTo>
                  <a:pt x="21144" y="14686"/>
                  <a:pt x="21143" y="14690"/>
                  <a:pt x="21142" y="1470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"/>
          <p:cNvSpPr/>
          <p:nvPr/>
        </p:nvSpPr>
        <p:spPr>
          <a:xfrm>
            <a:off x="7764480" y="5054760"/>
            <a:ext cx="907920" cy="290520"/>
          </a:xfrm>
          <a:custGeom>
            <a:avLst/>
            <a:gdLst/>
            <a:ahLst/>
            <a:rect l="l" t="t" r="r" b="b"/>
            <a:pathLst>
              <a:path w="2523" h="805">
                <a:moveTo>
                  <a:pt x="21625" y="14174"/>
                </a:moveTo>
                <a:cubicBezTo>
                  <a:pt x="21613" y="14182"/>
                  <a:pt x="21588" y="14202"/>
                  <a:pt x="21580" y="14206"/>
                </a:cubicBezTo>
                <a:cubicBezTo>
                  <a:pt x="21576" y="14206"/>
                  <a:pt x="21573" y="14205"/>
                  <a:pt x="21569" y="14205"/>
                </a:cubicBezTo>
                <a:cubicBezTo>
                  <a:pt x="21587" y="14181"/>
                  <a:pt x="21607" y="14160"/>
                  <a:pt x="21630" y="14141"/>
                </a:cubicBezTo>
                <a:cubicBezTo>
                  <a:pt x="21655" y="14121"/>
                  <a:pt x="21689" y="14102"/>
                  <a:pt x="21713" y="14135"/>
                </a:cubicBezTo>
                <a:cubicBezTo>
                  <a:pt x="21747" y="14182"/>
                  <a:pt x="21743" y="14271"/>
                  <a:pt x="21746" y="14324"/>
                </a:cubicBezTo>
                <a:cubicBezTo>
                  <a:pt x="21751" y="14414"/>
                  <a:pt x="21750" y="14506"/>
                  <a:pt x="21740" y="14596"/>
                </a:cubicBezTo>
                <a:cubicBezTo>
                  <a:pt x="21734" y="14645"/>
                  <a:pt x="21731" y="14708"/>
                  <a:pt x="21710" y="14754"/>
                </a:cubicBezTo>
                <a:cubicBezTo>
                  <a:pt x="21699" y="14777"/>
                  <a:pt x="21683" y="14779"/>
                  <a:pt x="21661" y="14774"/>
                </a:cubicBezTo>
                <a:cubicBezTo>
                  <a:pt x="21637" y="14768"/>
                  <a:pt x="21608" y="14751"/>
                  <a:pt x="21592" y="14732"/>
                </a:cubicBezTo>
                <a:cubicBezTo>
                  <a:pt x="21569" y="14705"/>
                  <a:pt x="21574" y="14681"/>
                  <a:pt x="21580" y="14649"/>
                </a:cubicBezTo>
              </a:path>
              <a:path w="2523" h="805">
                <a:moveTo>
                  <a:pt x="22221" y="14345"/>
                </a:moveTo>
                <a:cubicBezTo>
                  <a:pt x="22199" y="14360"/>
                  <a:pt x="22181" y="14388"/>
                  <a:pt x="22174" y="14416"/>
                </a:cubicBezTo>
                <a:cubicBezTo>
                  <a:pt x="22161" y="14467"/>
                  <a:pt x="22160" y="14520"/>
                  <a:pt x="22150" y="14572"/>
                </a:cubicBezTo>
                <a:cubicBezTo>
                  <a:pt x="22147" y="14589"/>
                  <a:pt x="22148" y="14639"/>
                  <a:pt x="22123" y="14638"/>
                </a:cubicBezTo>
                <a:cubicBezTo>
                  <a:pt x="22119" y="14636"/>
                  <a:pt x="22116" y="14635"/>
                  <a:pt x="22112" y="14633"/>
                </a:cubicBezTo>
              </a:path>
              <a:path w="2523" h="805">
                <a:moveTo>
                  <a:pt x="22038" y="14527"/>
                </a:moveTo>
                <a:cubicBezTo>
                  <a:pt x="22071" y="14536"/>
                  <a:pt x="22098" y="14530"/>
                  <a:pt x="22132" y="14526"/>
                </a:cubicBezTo>
                <a:cubicBezTo>
                  <a:pt x="22181" y="14520"/>
                  <a:pt x="22230" y="14518"/>
                  <a:pt x="22278" y="14508"/>
                </a:cubicBezTo>
                <a:cubicBezTo>
                  <a:pt x="22287" y="14505"/>
                  <a:pt x="22296" y="14503"/>
                  <a:pt x="22305" y="14500"/>
                </a:cubicBezTo>
              </a:path>
              <a:path w="2523" h="805">
                <a:moveTo>
                  <a:pt x="22464" y="14161"/>
                </a:moveTo>
                <a:cubicBezTo>
                  <a:pt x="22461" y="14162"/>
                  <a:pt x="22442" y="14173"/>
                  <a:pt x="22435" y="14213"/>
                </a:cubicBezTo>
                <a:cubicBezTo>
                  <a:pt x="22422" y="14289"/>
                  <a:pt x="22414" y="14368"/>
                  <a:pt x="22403" y="14445"/>
                </a:cubicBezTo>
                <a:cubicBezTo>
                  <a:pt x="22391" y="14527"/>
                  <a:pt x="22378" y="14609"/>
                  <a:pt x="22369" y="14691"/>
                </a:cubicBezTo>
                <a:cubicBezTo>
                  <a:pt x="22365" y="14725"/>
                  <a:pt x="22353" y="14770"/>
                  <a:pt x="22379" y="14798"/>
                </a:cubicBezTo>
                <a:cubicBezTo>
                  <a:pt x="22395" y="14815"/>
                  <a:pt x="22470" y="14773"/>
                  <a:pt x="22483" y="14767"/>
                </a:cubicBezTo>
                <a:cubicBezTo>
                  <a:pt x="22531" y="14745"/>
                  <a:pt x="22578" y="14721"/>
                  <a:pt x="22627" y="14702"/>
                </a:cubicBezTo>
                <a:cubicBezTo>
                  <a:pt x="22654" y="14692"/>
                  <a:pt x="22696" y="14684"/>
                  <a:pt x="22719" y="14666"/>
                </a:cubicBezTo>
                <a:cubicBezTo>
                  <a:pt x="22722" y="14662"/>
                  <a:pt x="22725" y="14657"/>
                  <a:pt x="22728" y="14653"/>
                </a:cubicBezTo>
              </a:path>
              <a:path w="2523" h="805">
                <a:moveTo>
                  <a:pt x="22388" y="14464"/>
                </a:moveTo>
                <a:cubicBezTo>
                  <a:pt x="22381" y="14436"/>
                  <a:pt x="22408" y="14433"/>
                  <a:pt x="22434" y="14427"/>
                </a:cubicBezTo>
                <a:cubicBezTo>
                  <a:pt x="22473" y="14418"/>
                  <a:pt x="22510" y="14414"/>
                  <a:pt x="22545" y="14398"/>
                </a:cubicBezTo>
                <a:cubicBezTo>
                  <a:pt x="22572" y="14386"/>
                  <a:pt x="22571" y="14384"/>
                  <a:pt x="22559" y="14358"/>
                </a:cubicBezTo>
              </a:path>
              <a:path w="2523" h="805">
                <a:moveTo>
                  <a:pt x="22407" y="14236"/>
                </a:moveTo>
                <a:cubicBezTo>
                  <a:pt x="22406" y="14197"/>
                  <a:pt x="22421" y="14164"/>
                  <a:pt x="22452" y="14137"/>
                </a:cubicBezTo>
                <a:cubicBezTo>
                  <a:pt x="22495" y="14100"/>
                  <a:pt x="22567" y="14060"/>
                  <a:pt x="22622" y="14047"/>
                </a:cubicBezTo>
                <a:cubicBezTo>
                  <a:pt x="22663" y="14037"/>
                  <a:pt x="22691" y="14045"/>
                  <a:pt x="22730" y="14055"/>
                </a:cubicBezTo>
              </a:path>
              <a:path w="2523" h="805">
                <a:moveTo>
                  <a:pt x="23071" y="14328"/>
                </a:moveTo>
                <a:cubicBezTo>
                  <a:pt x="23090" y="14304"/>
                  <a:pt x="23120" y="14269"/>
                  <a:pt x="23125" y="14236"/>
                </a:cubicBezTo>
                <a:cubicBezTo>
                  <a:pt x="23130" y="14203"/>
                  <a:pt x="23120" y="14170"/>
                  <a:pt x="23101" y="14143"/>
                </a:cubicBezTo>
                <a:cubicBezTo>
                  <a:pt x="23082" y="14116"/>
                  <a:pt x="23055" y="14093"/>
                  <a:pt x="23023" y="14082"/>
                </a:cubicBezTo>
                <a:cubicBezTo>
                  <a:pt x="22990" y="14070"/>
                  <a:pt x="22954" y="14075"/>
                  <a:pt x="22927" y="14099"/>
                </a:cubicBezTo>
                <a:cubicBezTo>
                  <a:pt x="22860" y="14160"/>
                  <a:pt x="22847" y="14282"/>
                  <a:pt x="22834" y="14365"/>
                </a:cubicBezTo>
                <a:cubicBezTo>
                  <a:pt x="22823" y="14438"/>
                  <a:pt x="22822" y="14516"/>
                  <a:pt x="22825" y="14589"/>
                </a:cubicBezTo>
                <a:cubicBezTo>
                  <a:pt x="22827" y="14638"/>
                  <a:pt x="22830" y="14700"/>
                  <a:pt x="22868" y="14736"/>
                </a:cubicBezTo>
                <a:cubicBezTo>
                  <a:pt x="22898" y="14764"/>
                  <a:pt x="22942" y="14760"/>
                  <a:pt x="22980" y="14763"/>
                </a:cubicBezTo>
                <a:cubicBezTo>
                  <a:pt x="23005" y="14765"/>
                  <a:pt x="23031" y="14769"/>
                  <a:pt x="23051" y="14755"/>
                </a:cubicBezTo>
                <a:cubicBezTo>
                  <a:pt x="23074" y="14739"/>
                  <a:pt x="23091" y="14718"/>
                  <a:pt x="23108" y="14696"/>
                </a:cubicBezTo>
              </a:path>
              <a:path w="2523" h="805">
                <a:moveTo>
                  <a:pt x="23169" y="14173"/>
                </a:moveTo>
                <a:cubicBezTo>
                  <a:pt x="23197" y="14190"/>
                  <a:pt x="23198" y="14239"/>
                  <a:pt x="23208" y="14273"/>
                </a:cubicBezTo>
                <a:cubicBezTo>
                  <a:pt x="23230" y="14350"/>
                  <a:pt x="23267" y="14422"/>
                  <a:pt x="23298" y="14495"/>
                </a:cubicBezTo>
                <a:cubicBezTo>
                  <a:pt x="23323" y="14554"/>
                  <a:pt x="23343" y="14624"/>
                  <a:pt x="23389" y="14671"/>
                </a:cubicBezTo>
                <a:cubicBezTo>
                  <a:pt x="23410" y="14686"/>
                  <a:pt x="23414" y="14691"/>
                  <a:pt x="23431" y="14692"/>
                </a:cubicBezTo>
              </a:path>
              <a:path w="2523" h="805">
                <a:moveTo>
                  <a:pt x="23483" y="14208"/>
                </a:moveTo>
                <a:cubicBezTo>
                  <a:pt x="23440" y="14181"/>
                  <a:pt x="23435" y="14214"/>
                  <a:pt x="23411" y="14251"/>
                </a:cubicBezTo>
                <a:cubicBezTo>
                  <a:pt x="23360" y="14330"/>
                  <a:pt x="23327" y="14414"/>
                  <a:pt x="23299" y="14504"/>
                </a:cubicBezTo>
                <a:cubicBezTo>
                  <a:pt x="23270" y="14595"/>
                  <a:pt x="23234" y="14683"/>
                  <a:pt x="23229" y="14779"/>
                </a:cubicBezTo>
                <a:cubicBezTo>
                  <a:pt x="23230" y="14815"/>
                  <a:pt x="23229" y="14824"/>
                  <a:pt x="23235" y="14846"/>
                </a:cubicBezTo>
              </a:path>
              <a:path w="2523" h="805">
                <a:moveTo>
                  <a:pt x="23544" y="14556"/>
                </a:moveTo>
                <a:cubicBezTo>
                  <a:pt x="23580" y="14530"/>
                  <a:pt x="23608" y="14516"/>
                  <a:pt x="23649" y="14503"/>
                </a:cubicBezTo>
                <a:cubicBezTo>
                  <a:pt x="23666" y="14495"/>
                  <a:pt x="23673" y="14494"/>
                  <a:pt x="23685" y="14505"/>
                </a:cubicBezTo>
                <a:cubicBezTo>
                  <a:pt x="23693" y="14539"/>
                  <a:pt x="23684" y="14562"/>
                  <a:pt x="23666" y="14593"/>
                </a:cubicBezTo>
                <a:cubicBezTo>
                  <a:pt x="23641" y="14636"/>
                  <a:pt x="23608" y="14674"/>
                  <a:pt x="23585" y="14718"/>
                </a:cubicBezTo>
                <a:cubicBezTo>
                  <a:pt x="23595" y="14736"/>
                  <a:pt x="23618" y="14730"/>
                  <a:pt x="23638" y="14721"/>
                </a:cubicBezTo>
                <a:cubicBezTo>
                  <a:pt x="23679" y="14703"/>
                  <a:pt x="23707" y="14661"/>
                  <a:pt x="23731" y="14627"/>
                </a:cubicBezTo>
              </a:path>
              <a:path w="2523" h="805">
                <a:moveTo>
                  <a:pt x="23789" y="14253"/>
                </a:moveTo>
                <a:cubicBezTo>
                  <a:pt x="23794" y="14237"/>
                  <a:pt x="23803" y="14213"/>
                  <a:pt x="23814" y="14202"/>
                </a:cubicBezTo>
                <a:cubicBezTo>
                  <a:pt x="23823" y="14193"/>
                  <a:pt x="23840" y="14183"/>
                  <a:pt x="23853" y="14180"/>
                </a:cubicBezTo>
                <a:cubicBezTo>
                  <a:pt x="23868" y="14176"/>
                  <a:pt x="23863" y="14184"/>
                  <a:pt x="23879" y="14185"/>
                </a:cubicBezTo>
                <a:cubicBezTo>
                  <a:pt x="23893" y="14186"/>
                  <a:pt x="23916" y="14182"/>
                  <a:pt x="23902" y="14178"/>
                </a:cubicBezTo>
                <a:cubicBezTo>
                  <a:pt x="23888" y="14174"/>
                  <a:pt x="23881" y="14191"/>
                  <a:pt x="23875" y="14199"/>
                </a:cubicBezTo>
              </a:path>
              <a:path w="2523" h="805">
                <a:moveTo>
                  <a:pt x="23770" y="14193"/>
                </a:moveTo>
                <a:cubicBezTo>
                  <a:pt x="23756" y="14184"/>
                  <a:pt x="23753" y="14181"/>
                  <a:pt x="23742" y="14183"/>
                </a:cubicBezTo>
                <a:cubicBezTo>
                  <a:pt x="23796" y="14156"/>
                  <a:pt x="23872" y="14137"/>
                  <a:pt x="23931" y="14122"/>
                </a:cubicBezTo>
                <a:cubicBezTo>
                  <a:pt x="24063" y="14089"/>
                  <a:pt x="24077" y="14131"/>
                  <a:pt x="24081" y="14255"/>
                </a:cubicBezTo>
                <a:cubicBezTo>
                  <a:pt x="24083" y="14323"/>
                  <a:pt x="24070" y="14394"/>
                  <a:pt x="24073" y="14462"/>
                </a:cubicBezTo>
                <a:cubicBezTo>
                  <a:pt x="24076" y="14530"/>
                  <a:pt x="24093" y="14599"/>
                  <a:pt x="24091" y="14668"/>
                </a:cubicBezTo>
                <a:cubicBezTo>
                  <a:pt x="24089" y="14744"/>
                  <a:pt x="24029" y="14738"/>
                  <a:pt x="23972" y="14740"/>
                </a:cubicBezTo>
                <a:cubicBezTo>
                  <a:pt x="23940" y="14741"/>
                  <a:pt x="23902" y="14733"/>
                  <a:pt x="23873" y="14719"/>
                </a:cubicBezTo>
                <a:cubicBezTo>
                  <a:pt x="23854" y="14707"/>
                  <a:pt x="23847" y="14703"/>
                  <a:pt x="23835" y="1469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"/>
          <p:cNvSpPr/>
          <p:nvPr/>
        </p:nvSpPr>
        <p:spPr>
          <a:xfrm>
            <a:off x="5388120" y="5369040"/>
            <a:ext cx="134640" cy="98280"/>
          </a:xfrm>
          <a:custGeom>
            <a:avLst/>
            <a:gdLst/>
            <a:ahLst/>
            <a:rect l="l" t="t" r="r" b="b"/>
            <a:pathLst>
              <a:path w="376" h="270">
                <a:moveTo>
                  <a:pt x="14983" y="14966"/>
                </a:moveTo>
                <a:cubicBezTo>
                  <a:pt x="14977" y="14966"/>
                  <a:pt x="14971" y="14967"/>
                  <a:pt x="14965" y="14967"/>
                </a:cubicBezTo>
                <a:cubicBezTo>
                  <a:pt x="14987" y="14948"/>
                  <a:pt x="15012" y="14944"/>
                  <a:pt x="15042" y="14937"/>
                </a:cubicBezTo>
                <a:cubicBezTo>
                  <a:pt x="15089" y="14925"/>
                  <a:pt x="15139" y="14922"/>
                  <a:pt x="15187" y="14917"/>
                </a:cubicBezTo>
                <a:cubicBezTo>
                  <a:pt x="15220" y="14914"/>
                  <a:pt x="15250" y="14914"/>
                  <a:pt x="15274" y="14935"/>
                </a:cubicBezTo>
              </a:path>
              <a:path w="376" h="270">
                <a:moveTo>
                  <a:pt x="15053" y="15132"/>
                </a:moveTo>
                <a:cubicBezTo>
                  <a:pt x="15034" y="15153"/>
                  <a:pt x="15026" y="15159"/>
                  <a:pt x="15017" y="15184"/>
                </a:cubicBezTo>
                <a:cubicBezTo>
                  <a:pt x="15089" y="15176"/>
                  <a:pt x="15160" y="15159"/>
                  <a:pt x="15231" y="15144"/>
                </a:cubicBezTo>
                <a:cubicBezTo>
                  <a:pt x="15285" y="15131"/>
                  <a:pt x="15304" y="15127"/>
                  <a:pt x="15340" y="1511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"/>
          <p:cNvSpPr/>
          <p:nvPr/>
        </p:nvSpPr>
        <p:spPr>
          <a:xfrm>
            <a:off x="5653080" y="5289480"/>
            <a:ext cx="144360" cy="270000"/>
          </a:xfrm>
          <a:custGeom>
            <a:avLst/>
            <a:gdLst/>
            <a:ahLst/>
            <a:rect l="l" t="t" r="r" b="b"/>
            <a:pathLst>
              <a:path w="403" h="753">
                <a:moveTo>
                  <a:pt x="15843" y="14702"/>
                </a:moveTo>
                <a:cubicBezTo>
                  <a:pt x="15844" y="14699"/>
                  <a:pt x="15845" y="14695"/>
                  <a:pt x="15846" y="14692"/>
                </a:cubicBezTo>
                <a:cubicBezTo>
                  <a:pt x="15849" y="14718"/>
                  <a:pt x="15848" y="14745"/>
                  <a:pt x="15852" y="14773"/>
                </a:cubicBezTo>
                <a:cubicBezTo>
                  <a:pt x="15857" y="14813"/>
                  <a:pt x="15864" y="14857"/>
                  <a:pt x="15876" y="14895"/>
                </a:cubicBezTo>
                <a:cubicBezTo>
                  <a:pt x="15882" y="14913"/>
                  <a:pt x="15890" y="14930"/>
                  <a:pt x="15899" y="14947"/>
                </a:cubicBezTo>
              </a:path>
              <a:path w="403" h="753">
                <a:moveTo>
                  <a:pt x="15747" y="15034"/>
                </a:moveTo>
                <a:cubicBezTo>
                  <a:pt x="15720" y="15027"/>
                  <a:pt x="15685" y="15013"/>
                  <a:pt x="15717" y="14982"/>
                </a:cubicBezTo>
                <a:cubicBezTo>
                  <a:pt x="15737" y="14962"/>
                  <a:pt x="15796" y="14961"/>
                  <a:pt x="15821" y="14958"/>
                </a:cubicBezTo>
                <a:cubicBezTo>
                  <a:pt x="15873" y="14952"/>
                  <a:pt x="15925" y="14948"/>
                  <a:pt x="15977" y="14942"/>
                </a:cubicBezTo>
                <a:cubicBezTo>
                  <a:pt x="16006" y="14939"/>
                  <a:pt x="16035" y="14936"/>
                  <a:pt x="16064" y="14933"/>
                </a:cubicBezTo>
              </a:path>
              <a:path w="403" h="753">
                <a:moveTo>
                  <a:pt x="15874" y="15148"/>
                </a:moveTo>
                <a:cubicBezTo>
                  <a:pt x="15848" y="15163"/>
                  <a:pt x="15810" y="15174"/>
                  <a:pt x="15787" y="15190"/>
                </a:cubicBezTo>
                <a:cubicBezTo>
                  <a:pt x="15786" y="15193"/>
                  <a:pt x="15784" y="15196"/>
                  <a:pt x="15783" y="15199"/>
                </a:cubicBezTo>
                <a:cubicBezTo>
                  <a:pt x="15826" y="15200"/>
                  <a:pt x="15865" y="15202"/>
                  <a:pt x="15907" y="15214"/>
                </a:cubicBezTo>
                <a:cubicBezTo>
                  <a:pt x="15947" y="15225"/>
                  <a:pt x="15995" y="15245"/>
                  <a:pt x="16011" y="15287"/>
                </a:cubicBezTo>
                <a:cubicBezTo>
                  <a:pt x="16031" y="15340"/>
                  <a:pt x="15990" y="15394"/>
                  <a:pt x="15950" y="15423"/>
                </a:cubicBezTo>
                <a:cubicBezTo>
                  <a:pt x="15925" y="15441"/>
                  <a:pt x="15912" y="15442"/>
                  <a:pt x="15884" y="15441"/>
                </a:cubicBezTo>
                <a:cubicBezTo>
                  <a:pt x="15865" y="15407"/>
                  <a:pt x="15883" y="15380"/>
                  <a:pt x="15905" y="15347"/>
                </a:cubicBezTo>
                <a:cubicBezTo>
                  <a:pt x="15942" y="15291"/>
                  <a:pt x="15992" y="15247"/>
                  <a:pt x="16038" y="15199"/>
                </a:cubicBezTo>
                <a:cubicBezTo>
                  <a:pt x="16061" y="15175"/>
                  <a:pt x="16112" y="15131"/>
                  <a:pt x="16105" y="15091"/>
                </a:cubicBezTo>
                <a:cubicBezTo>
                  <a:pt x="16099" y="15058"/>
                  <a:pt x="16049" y="15039"/>
                  <a:pt x="16023" y="15029"/>
                </a:cubicBezTo>
                <a:cubicBezTo>
                  <a:pt x="15990" y="15016"/>
                  <a:pt x="15957" y="15007"/>
                  <a:pt x="15923" y="1499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"/>
          <p:cNvSpPr/>
          <p:nvPr/>
        </p:nvSpPr>
        <p:spPr>
          <a:xfrm>
            <a:off x="246240" y="5853240"/>
            <a:ext cx="6202080" cy="637920"/>
          </a:xfrm>
          <a:custGeom>
            <a:avLst/>
            <a:gdLst/>
            <a:ahLst/>
            <a:rect l="l" t="t" r="r" b="b"/>
            <a:pathLst>
              <a:path w="17227" h="1772">
                <a:moveTo>
                  <a:pt x="17910" y="16620"/>
                </a:moveTo>
                <a:cubicBezTo>
                  <a:pt x="17905" y="16620"/>
                  <a:pt x="17901" y="16621"/>
                  <a:pt x="17896" y="16621"/>
                </a:cubicBezTo>
              </a:path>
              <a:path w="17227" h="1772">
                <a:moveTo>
                  <a:pt x="710" y="16258"/>
                </a:moveTo>
                <a:cubicBezTo>
                  <a:pt x="686" y="16322"/>
                  <a:pt x="689" y="16348"/>
                  <a:pt x="696" y="16420"/>
                </a:cubicBezTo>
              </a:path>
              <a:path w="17227" h="1772">
                <a:moveTo>
                  <a:pt x="772" y="16603"/>
                </a:moveTo>
                <a:cubicBezTo>
                  <a:pt x="743" y="16670"/>
                  <a:pt x="743" y="16706"/>
                  <a:pt x="753" y="16779"/>
                </a:cubicBezTo>
                <a:cubicBezTo>
                  <a:pt x="772" y="16693"/>
                  <a:pt x="782" y="16656"/>
                  <a:pt x="850" y="16604"/>
                </a:cubicBezTo>
                <a:cubicBezTo>
                  <a:pt x="876" y="16664"/>
                  <a:pt x="893" y="16716"/>
                  <a:pt x="908" y="16780"/>
                </a:cubicBezTo>
              </a:path>
              <a:path w="17227" h="1772">
                <a:moveTo>
                  <a:pt x="4341" y="17578"/>
                </a:moveTo>
                <a:cubicBezTo>
                  <a:pt x="4276" y="17614"/>
                  <a:pt x="4289" y="17603"/>
                  <a:pt x="4297" y="17683"/>
                </a:cubicBezTo>
              </a:path>
              <a:path w="17227" h="1772">
                <a:moveTo>
                  <a:pt x="4559" y="17603"/>
                </a:moveTo>
                <a:cubicBezTo>
                  <a:pt x="4538" y="17652"/>
                  <a:pt x="4534" y="17666"/>
                  <a:pt x="4596" y="17628"/>
                </a:cubicBezTo>
              </a:path>
              <a:path w="17227" h="1772">
                <a:moveTo>
                  <a:pt x="4735" y="17538"/>
                </a:moveTo>
                <a:cubicBezTo>
                  <a:pt x="4738" y="17592"/>
                  <a:pt x="4738" y="17642"/>
                  <a:pt x="4734" y="17696"/>
                </a:cubicBezTo>
              </a:path>
              <a:path w="17227" h="1772">
                <a:moveTo>
                  <a:pt x="7453" y="17825"/>
                </a:moveTo>
                <a:cubicBezTo>
                  <a:pt x="7390" y="17871"/>
                  <a:pt x="7328" y="17919"/>
                  <a:pt x="7281" y="17982"/>
                </a:cubicBezTo>
                <a:cubicBezTo>
                  <a:pt x="7271" y="17998"/>
                  <a:pt x="7262" y="18013"/>
                  <a:pt x="7252" y="18029"/>
                </a:cubicBezTo>
              </a:path>
              <a:path w="17227" h="1772">
                <a:moveTo>
                  <a:pt x="8785" y="17700"/>
                </a:moveTo>
                <a:cubicBezTo>
                  <a:pt x="8841" y="17679"/>
                  <a:pt x="8856" y="17672"/>
                  <a:pt x="8895" y="1767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"/>
          <p:cNvSpPr/>
          <p:nvPr/>
        </p:nvSpPr>
        <p:spPr>
          <a:xfrm>
            <a:off x="469800" y="5943600"/>
            <a:ext cx="173160" cy="271440"/>
          </a:xfrm>
          <a:custGeom>
            <a:avLst/>
            <a:gdLst/>
            <a:ahLst/>
            <a:rect l="l" t="t" r="r" b="b"/>
            <a:pathLst>
              <a:path w="484" h="753">
                <a:moveTo>
                  <a:pt x="1436" y="16965"/>
                </a:moveTo>
                <a:cubicBezTo>
                  <a:pt x="1355" y="16915"/>
                  <a:pt x="1332" y="16972"/>
                  <a:pt x="1311" y="17053"/>
                </a:cubicBezTo>
                <a:cubicBezTo>
                  <a:pt x="1296" y="17108"/>
                  <a:pt x="1278" y="17229"/>
                  <a:pt x="1359" y="17230"/>
                </a:cubicBezTo>
                <a:cubicBezTo>
                  <a:pt x="1388" y="17231"/>
                  <a:pt x="1432" y="17159"/>
                  <a:pt x="1446" y="17141"/>
                </a:cubicBezTo>
                <a:cubicBezTo>
                  <a:pt x="1468" y="17113"/>
                  <a:pt x="1491" y="17074"/>
                  <a:pt x="1517" y="17049"/>
                </a:cubicBezTo>
                <a:cubicBezTo>
                  <a:pt x="1521" y="17046"/>
                  <a:pt x="1526" y="17044"/>
                  <a:pt x="1530" y="17041"/>
                </a:cubicBezTo>
                <a:cubicBezTo>
                  <a:pt x="1539" y="17072"/>
                  <a:pt x="1540" y="17095"/>
                  <a:pt x="1540" y="17127"/>
                </a:cubicBezTo>
                <a:cubicBezTo>
                  <a:pt x="1540" y="17164"/>
                  <a:pt x="1540" y="17213"/>
                  <a:pt x="1554" y="17247"/>
                </a:cubicBezTo>
                <a:cubicBezTo>
                  <a:pt x="1563" y="17261"/>
                  <a:pt x="1567" y="17266"/>
                  <a:pt x="1580" y="17255"/>
                </a:cubicBezTo>
              </a:path>
              <a:path w="484" h="753">
                <a:moveTo>
                  <a:pt x="1739" y="16717"/>
                </a:moveTo>
                <a:cubicBezTo>
                  <a:pt x="1733" y="16705"/>
                  <a:pt x="1730" y="16700"/>
                  <a:pt x="1720" y="16697"/>
                </a:cubicBezTo>
                <a:cubicBezTo>
                  <a:pt x="1715" y="16723"/>
                  <a:pt x="1703" y="16748"/>
                  <a:pt x="1696" y="16775"/>
                </a:cubicBezTo>
                <a:cubicBezTo>
                  <a:pt x="1686" y="16815"/>
                  <a:pt x="1682" y="16859"/>
                  <a:pt x="1678" y="16900"/>
                </a:cubicBezTo>
                <a:cubicBezTo>
                  <a:pt x="1676" y="16917"/>
                  <a:pt x="1670" y="16960"/>
                  <a:pt x="1694" y="16968"/>
                </a:cubicBezTo>
                <a:cubicBezTo>
                  <a:pt x="1722" y="16977"/>
                  <a:pt x="1742" y="16946"/>
                  <a:pt x="1756" y="16930"/>
                </a:cubicBezTo>
                <a:cubicBezTo>
                  <a:pt x="1776" y="16907"/>
                  <a:pt x="1783" y="16900"/>
                  <a:pt x="1787" y="16879"/>
                </a:cubicBezTo>
              </a:path>
              <a:path w="484" h="753">
                <a:moveTo>
                  <a:pt x="1627" y="16560"/>
                </a:moveTo>
                <a:cubicBezTo>
                  <a:pt x="1621" y="16551"/>
                  <a:pt x="1604" y="16526"/>
                  <a:pt x="1612" y="16514"/>
                </a:cubicBezTo>
                <a:cubicBezTo>
                  <a:pt x="1622" y="16509"/>
                  <a:pt x="1625" y="16508"/>
                  <a:pt x="1632" y="1650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"/>
          <p:cNvSpPr/>
          <p:nvPr/>
        </p:nvSpPr>
        <p:spPr>
          <a:xfrm>
            <a:off x="773280" y="5819760"/>
            <a:ext cx="3590640" cy="819000"/>
          </a:xfrm>
          <a:custGeom>
            <a:avLst/>
            <a:gdLst/>
            <a:ahLst/>
            <a:rect l="l" t="t" r="r" b="b"/>
            <a:pathLst>
              <a:path w="9977" h="2278">
                <a:moveTo>
                  <a:pt x="5121" y="16260"/>
                </a:moveTo>
                <a:cubicBezTo>
                  <a:pt x="5114" y="16290"/>
                  <a:pt x="5102" y="16312"/>
                  <a:pt x="5092" y="16338"/>
                </a:cubicBezTo>
                <a:cubicBezTo>
                  <a:pt x="5085" y="16356"/>
                  <a:pt x="5070" y="16384"/>
                  <a:pt x="5076" y="16403"/>
                </a:cubicBezTo>
                <a:cubicBezTo>
                  <a:pt x="5081" y="16419"/>
                  <a:pt x="5091" y="16429"/>
                  <a:pt x="5101" y="16442"/>
                </a:cubicBezTo>
              </a:path>
              <a:path w="9977" h="2278">
                <a:moveTo>
                  <a:pt x="5122" y="16641"/>
                </a:moveTo>
                <a:cubicBezTo>
                  <a:pt x="5114" y="16656"/>
                  <a:pt x="5090" y="16663"/>
                  <a:pt x="5091" y="16680"/>
                </a:cubicBezTo>
                <a:cubicBezTo>
                  <a:pt x="5094" y="16683"/>
                  <a:pt x="5097" y="16686"/>
                  <a:pt x="5100" y="16689"/>
                </a:cubicBezTo>
              </a:path>
              <a:path w="9977" h="2278">
                <a:moveTo>
                  <a:pt x="7287" y="16435"/>
                </a:moveTo>
                <a:cubicBezTo>
                  <a:pt x="7290" y="16468"/>
                  <a:pt x="7281" y="16508"/>
                  <a:pt x="7272" y="16540"/>
                </a:cubicBezTo>
                <a:cubicBezTo>
                  <a:pt x="7254" y="16603"/>
                  <a:pt x="7241" y="16666"/>
                  <a:pt x="7228" y="16731"/>
                </a:cubicBezTo>
                <a:cubicBezTo>
                  <a:pt x="7214" y="16800"/>
                  <a:pt x="7200" y="16869"/>
                  <a:pt x="7193" y="16939"/>
                </a:cubicBezTo>
                <a:cubicBezTo>
                  <a:pt x="7190" y="16973"/>
                  <a:pt x="7179" y="17028"/>
                  <a:pt x="7213" y="17051"/>
                </a:cubicBezTo>
                <a:cubicBezTo>
                  <a:pt x="7245" y="17073"/>
                  <a:pt x="7311" y="17058"/>
                  <a:pt x="7345" y="17055"/>
                </a:cubicBezTo>
                <a:cubicBezTo>
                  <a:pt x="7414" y="17048"/>
                  <a:pt x="7481" y="17035"/>
                  <a:pt x="7550" y="17028"/>
                </a:cubicBezTo>
                <a:cubicBezTo>
                  <a:pt x="7584" y="17024"/>
                  <a:pt x="7662" y="17021"/>
                  <a:pt x="7690" y="16997"/>
                </a:cubicBezTo>
                <a:cubicBezTo>
                  <a:pt x="7702" y="16988"/>
                  <a:pt x="7706" y="16985"/>
                  <a:pt x="7705" y="16973"/>
                </a:cubicBezTo>
              </a:path>
              <a:path w="9977" h="2278">
                <a:moveTo>
                  <a:pt x="7403" y="16802"/>
                </a:moveTo>
                <a:cubicBezTo>
                  <a:pt x="7420" y="16778"/>
                  <a:pt x="7468" y="16759"/>
                  <a:pt x="7497" y="16746"/>
                </a:cubicBezTo>
                <a:cubicBezTo>
                  <a:pt x="7556" y="16720"/>
                  <a:pt x="7618" y="16695"/>
                  <a:pt x="7679" y="16673"/>
                </a:cubicBezTo>
                <a:cubicBezTo>
                  <a:pt x="7707" y="16664"/>
                  <a:pt x="7713" y="16663"/>
                  <a:pt x="7729" y="16655"/>
                </a:cubicBezTo>
              </a:path>
              <a:path w="9977" h="2278">
                <a:moveTo>
                  <a:pt x="7402" y="16513"/>
                </a:moveTo>
                <a:cubicBezTo>
                  <a:pt x="7397" y="16476"/>
                  <a:pt x="7427" y="16444"/>
                  <a:pt x="7462" y="16422"/>
                </a:cubicBezTo>
                <a:cubicBezTo>
                  <a:pt x="7528" y="16381"/>
                  <a:pt x="7620" y="16362"/>
                  <a:pt x="7695" y="16344"/>
                </a:cubicBezTo>
                <a:cubicBezTo>
                  <a:pt x="7754" y="16331"/>
                  <a:pt x="7773" y="16327"/>
                  <a:pt x="7812" y="16319"/>
                </a:cubicBezTo>
              </a:path>
              <a:path w="9977" h="2278">
                <a:moveTo>
                  <a:pt x="8282" y="16343"/>
                </a:moveTo>
                <a:cubicBezTo>
                  <a:pt x="8276" y="16316"/>
                  <a:pt x="8269" y="16292"/>
                  <a:pt x="8257" y="16267"/>
                </a:cubicBezTo>
                <a:cubicBezTo>
                  <a:pt x="8244" y="16240"/>
                  <a:pt x="8230" y="16217"/>
                  <a:pt x="8210" y="16195"/>
                </a:cubicBezTo>
                <a:cubicBezTo>
                  <a:pt x="8189" y="16172"/>
                  <a:pt x="8168" y="16159"/>
                  <a:pt x="8138" y="16173"/>
                </a:cubicBezTo>
                <a:cubicBezTo>
                  <a:pt x="8096" y="16193"/>
                  <a:pt x="8084" y="16297"/>
                  <a:pt x="8076" y="16333"/>
                </a:cubicBezTo>
                <a:cubicBezTo>
                  <a:pt x="8047" y="16465"/>
                  <a:pt x="8028" y="16602"/>
                  <a:pt x="8018" y="16736"/>
                </a:cubicBezTo>
                <a:cubicBezTo>
                  <a:pt x="8010" y="16840"/>
                  <a:pt x="8001" y="16955"/>
                  <a:pt x="8037" y="17055"/>
                </a:cubicBezTo>
                <a:cubicBezTo>
                  <a:pt x="8051" y="17096"/>
                  <a:pt x="8080" y="17128"/>
                  <a:pt x="8122" y="17140"/>
                </a:cubicBezTo>
                <a:cubicBezTo>
                  <a:pt x="8180" y="17156"/>
                  <a:pt x="8252" y="17132"/>
                  <a:pt x="8299" y="17097"/>
                </a:cubicBezTo>
                <a:cubicBezTo>
                  <a:pt x="8354" y="17056"/>
                  <a:pt x="8384" y="16992"/>
                  <a:pt x="8415" y="16934"/>
                </a:cubicBezTo>
              </a:path>
              <a:path w="9977" h="2278">
                <a:moveTo>
                  <a:pt x="8480" y="16472"/>
                </a:moveTo>
                <a:cubicBezTo>
                  <a:pt x="8492" y="16507"/>
                  <a:pt x="8502" y="16544"/>
                  <a:pt x="8516" y="16579"/>
                </a:cubicBezTo>
                <a:cubicBezTo>
                  <a:pt x="8551" y="16665"/>
                  <a:pt x="8598" y="16756"/>
                  <a:pt x="8681" y="16805"/>
                </a:cubicBezTo>
                <a:cubicBezTo>
                  <a:pt x="8743" y="16842"/>
                  <a:pt x="8796" y="16844"/>
                  <a:pt x="8863" y="16831"/>
                </a:cubicBezTo>
              </a:path>
              <a:path w="9977" h="2278">
                <a:moveTo>
                  <a:pt x="8852" y="16459"/>
                </a:moveTo>
                <a:cubicBezTo>
                  <a:pt x="8816" y="16516"/>
                  <a:pt x="8780" y="16578"/>
                  <a:pt x="8751" y="16639"/>
                </a:cubicBezTo>
                <a:cubicBezTo>
                  <a:pt x="8690" y="16768"/>
                  <a:pt x="8632" y="16900"/>
                  <a:pt x="8575" y="17030"/>
                </a:cubicBezTo>
                <a:cubicBezTo>
                  <a:pt x="8562" y="17061"/>
                  <a:pt x="8554" y="17092"/>
                  <a:pt x="8544" y="17123"/>
                </a:cubicBezTo>
              </a:path>
              <a:path w="9977" h="2278">
                <a:moveTo>
                  <a:pt x="8975" y="16411"/>
                </a:moveTo>
                <a:cubicBezTo>
                  <a:pt x="9000" y="16388"/>
                  <a:pt x="9020" y="16375"/>
                  <a:pt x="9051" y="16358"/>
                </a:cubicBezTo>
                <a:cubicBezTo>
                  <a:pt x="9093" y="16335"/>
                  <a:pt x="9134" y="16304"/>
                  <a:pt x="9180" y="16289"/>
                </a:cubicBezTo>
                <a:cubicBezTo>
                  <a:pt x="9221" y="16275"/>
                  <a:pt x="9242" y="16288"/>
                  <a:pt x="9256" y="16327"/>
                </a:cubicBezTo>
                <a:cubicBezTo>
                  <a:pt x="9279" y="16390"/>
                  <a:pt x="9278" y="16463"/>
                  <a:pt x="9284" y="16529"/>
                </a:cubicBezTo>
                <a:cubicBezTo>
                  <a:pt x="9292" y="16614"/>
                  <a:pt x="9300" y="16699"/>
                  <a:pt x="9312" y="16784"/>
                </a:cubicBezTo>
                <a:cubicBezTo>
                  <a:pt x="9320" y="16844"/>
                  <a:pt x="9335" y="16906"/>
                  <a:pt x="9334" y="16966"/>
                </a:cubicBezTo>
                <a:cubicBezTo>
                  <a:pt x="9333" y="17001"/>
                  <a:pt x="9318" y="17025"/>
                  <a:pt x="9285" y="17039"/>
                </a:cubicBezTo>
                <a:cubicBezTo>
                  <a:pt x="9239" y="17058"/>
                  <a:pt x="9177" y="17052"/>
                  <a:pt x="9132" y="17035"/>
                </a:cubicBezTo>
                <a:cubicBezTo>
                  <a:pt x="9087" y="17018"/>
                  <a:pt x="9069" y="16991"/>
                  <a:pt x="9068" y="16943"/>
                </a:cubicBezTo>
                <a:cubicBezTo>
                  <a:pt x="9069" y="16931"/>
                  <a:pt x="9070" y="16918"/>
                  <a:pt x="9071" y="16906"/>
                </a:cubicBezTo>
              </a:path>
              <a:path w="9977" h="2278">
                <a:moveTo>
                  <a:pt x="9583" y="16542"/>
                </a:moveTo>
                <a:cubicBezTo>
                  <a:pt x="9612" y="16561"/>
                  <a:pt x="9634" y="16559"/>
                  <a:pt x="9670" y="16556"/>
                </a:cubicBezTo>
                <a:cubicBezTo>
                  <a:pt x="9718" y="16552"/>
                  <a:pt x="9765" y="16544"/>
                  <a:pt x="9813" y="16542"/>
                </a:cubicBezTo>
                <a:cubicBezTo>
                  <a:pt x="9834" y="16542"/>
                  <a:pt x="9840" y="16542"/>
                  <a:pt x="9853" y="16547"/>
                </a:cubicBezTo>
              </a:path>
              <a:path w="9977" h="2278">
                <a:moveTo>
                  <a:pt x="9693" y="16742"/>
                </a:moveTo>
                <a:cubicBezTo>
                  <a:pt x="9684" y="16756"/>
                  <a:pt x="9680" y="16758"/>
                  <a:pt x="9680" y="16769"/>
                </a:cubicBezTo>
                <a:cubicBezTo>
                  <a:pt x="9719" y="16765"/>
                  <a:pt x="9752" y="16758"/>
                  <a:pt x="9791" y="16750"/>
                </a:cubicBezTo>
                <a:cubicBezTo>
                  <a:pt x="9849" y="16738"/>
                  <a:pt x="9907" y="16734"/>
                  <a:pt x="9966" y="16730"/>
                </a:cubicBezTo>
              </a:path>
              <a:path w="9977" h="2278">
                <a:moveTo>
                  <a:pt x="10619" y="16222"/>
                </a:moveTo>
                <a:cubicBezTo>
                  <a:pt x="10607" y="16193"/>
                  <a:pt x="10612" y="16188"/>
                  <a:pt x="10586" y="16184"/>
                </a:cubicBezTo>
                <a:cubicBezTo>
                  <a:pt x="10582" y="16244"/>
                  <a:pt x="10579" y="16302"/>
                  <a:pt x="10579" y="16362"/>
                </a:cubicBezTo>
                <a:cubicBezTo>
                  <a:pt x="10580" y="16493"/>
                  <a:pt x="10581" y="16624"/>
                  <a:pt x="10584" y="16754"/>
                </a:cubicBezTo>
                <a:cubicBezTo>
                  <a:pt x="10585" y="16804"/>
                  <a:pt x="10582" y="16860"/>
                  <a:pt x="10613" y="16899"/>
                </a:cubicBezTo>
              </a:path>
              <a:path w="9977" h="2278">
                <a:moveTo>
                  <a:pt x="10870" y="16645"/>
                </a:moveTo>
                <a:cubicBezTo>
                  <a:pt x="10868" y="16622"/>
                  <a:pt x="10861" y="16603"/>
                  <a:pt x="10864" y="16580"/>
                </a:cubicBezTo>
                <a:cubicBezTo>
                  <a:pt x="10868" y="16550"/>
                  <a:pt x="10877" y="16526"/>
                  <a:pt x="10894" y="16500"/>
                </a:cubicBezTo>
                <a:cubicBezTo>
                  <a:pt x="10900" y="16492"/>
                  <a:pt x="10906" y="16483"/>
                  <a:pt x="10912" y="16475"/>
                </a:cubicBezTo>
              </a:path>
              <a:path w="9977" h="2278">
                <a:moveTo>
                  <a:pt x="11236" y="16188"/>
                </a:moveTo>
                <a:cubicBezTo>
                  <a:pt x="11270" y="16198"/>
                  <a:pt x="11255" y="16225"/>
                  <a:pt x="11255" y="16254"/>
                </a:cubicBezTo>
                <a:cubicBezTo>
                  <a:pt x="11255" y="16308"/>
                  <a:pt x="11257" y="16362"/>
                  <a:pt x="11264" y="16415"/>
                </a:cubicBezTo>
                <a:cubicBezTo>
                  <a:pt x="11268" y="16446"/>
                  <a:pt x="11273" y="16477"/>
                  <a:pt x="11274" y="16508"/>
                </a:cubicBezTo>
              </a:path>
              <a:path w="9977" h="2278">
                <a:moveTo>
                  <a:pt x="11147" y="16628"/>
                </a:moveTo>
                <a:cubicBezTo>
                  <a:pt x="11117" y="16615"/>
                  <a:pt x="11174" y="16598"/>
                  <a:pt x="11192" y="16588"/>
                </a:cubicBezTo>
                <a:cubicBezTo>
                  <a:pt x="11227" y="16568"/>
                  <a:pt x="11263" y="16549"/>
                  <a:pt x="11306" y="16553"/>
                </a:cubicBezTo>
                <a:cubicBezTo>
                  <a:pt x="11313" y="16555"/>
                  <a:pt x="11319" y="16557"/>
                  <a:pt x="11326" y="16559"/>
                </a:cubicBezTo>
              </a:path>
              <a:path w="9977" h="2278">
                <a:moveTo>
                  <a:pt x="11233" y="16787"/>
                </a:moveTo>
                <a:cubicBezTo>
                  <a:pt x="11221" y="16815"/>
                  <a:pt x="11271" y="16772"/>
                  <a:pt x="11298" y="16766"/>
                </a:cubicBezTo>
                <a:cubicBezTo>
                  <a:pt x="11338" y="16757"/>
                  <a:pt x="11393" y="16750"/>
                  <a:pt x="11428" y="16777"/>
                </a:cubicBezTo>
                <a:cubicBezTo>
                  <a:pt x="11467" y="16808"/>
                  <a:pt x="11455" y="16862"/>
                  <a:pt x="11439" y="16901"/>
                </a:cubicBezTo>
                <a:cubicBezTo>
                  <a:pt x="11412" y="16965"/>
                  <a:pt x="11359" y="17012"/>
                  <a:pt x="11321" y="17068"/>
                </a:cubicBezTo>
                <a:cubicBezTo>
                  <a:pt x="11312" y="17084"/>
                  <a:pt x="11307" y="17087"/>
                  <a:pt x="11312" y="17099"/>
                </a:cubicBezTo>
                <a:cubicBezTo>
                  <a:pt x="11349" y="17095"/>
                  <a:pt x="11389" y="17069"/>
                  <a:pt x="11423" y="17051"/>
                </a:cubicBezTo>
                <a:cubicBezTo>
                  <a:pt x="11475" y="17022"/>
                  <a:pt x="11493" y="17012"/>
                  <a:pt x="11526" y="16988"/>
                </a:cubicBezTo>
              </a:path>
              <a:path w="9977" h="2278">
                <a:moveTo>
                  <a:pt x="11932" y="16524"/>
                </a:moveTo>
                <a:cubicBezTo>
                  <a:pt x="11942" y="16507"/>
                  <a:pt x="11952" y="16491"/>
                  <a:pt x="11964" y="16475"/>
                </a:cubicBezTo>
                <a:cubicBezTo>
                  <a:pt x="11983" y="16497"/>
                  <a:pt x="11974" y="16534"/>
                  <a:pt x="11969" y="16566"/>
                </a:cubicBezTo>
                <a:cubicBezTo>
                  <a:pt x="11954" y="16671"/>
                  <a:pt x="11928" y="16775"/>
                  <a:pt x="11912" y="16879"/>
                </a:cubicBezTo>
                <a:cubicBezTo>
                  <a:pt x="11906" y="16907"/>
                  <a:pt x="11904" y="16913"/>
                  <a:pt x="11903" y="16930"/>
                </a:cubicBezTo>
              </a:path>
              <a:path w="9977" h="2278">
                <a:moveTo>
                  <a:pt x="11779" y="16684"/>
                </a:moveTo>
                <a:cubicBezTo>
                  <a:pt x="11812" y="16694"/>
                  <a:pt x="11829" y="16690"/>
                  <a:pt x="11863" y="16683"/>
                </a:cubicBezTo>
                <a:cubicBezTo>
                  <a:pt x="11917" y="16672"/>
                  <a:pt x="11972" y="16665"/>
                  <a:pt x="12027" y="16656"/>
                </a:cubicBezTo>
                <a:cubicBezTo>
                  <a:pt x="12074" y="16648"/>
                  <a:pt x="12090" y="16645"/>
                  <a:pt x="12122" y="16639"/>
                </a:cubicBezTo>
              </a:path>
              <a:path w="9977" h="2278">
                <a:moveTo>
                  <a:pt x="2171" y="17034"/>
                </a:moveTo>
                <a:cubicBezTo>
                  <a:pt x="2162" y="17040"/>
                  <a:pt x="2159" y="17042"/>
                  <a:pt x="2152" y="17038"/>
                </a:cubicBezTo>
                <a:cubicBezTo>
                  <a:pt x="2177" y="17031"/>
                  <a:pt x="2200" y="17027"/>
                  <a:pt x="2226" y="17024"/>
                </a:cubicBezTo>
                <a:cubicBezTo>
                  <a:pt x="2265" y="17019"/>
                  <a:pt x="2306" y="17010"/>
                  <a:pt x="2345" y="17008"/>
                </a:cubicBezTo>
                <a:cubicBezTo>
                  <a:pt x="2369" y="17007"/>
                  <a:pt x="2397" y="17002"/>
                  <a:pt x="2393" y="17024"/>
                </a:cubicBezTo>
              </a:path>
              <a:path w="9977" h="2278">
                <a:moveTo>
                  <a:pt x="2151" y="17154"/>
                </a:moveTo>
                <a:cubicBezTo>
                  <a:pt x="2153" y="17183"/>
                  <a:pt x="2184" y="17169"/>
                  <a:pt x="2215" y="17169"/>
                </a:cubicBezTo>
                <a:cubicBezTo>
                  <a:pt x="2259" y="17169"/>
                  <a:pt x="2303" y="17169"/>
                  <a:pt x="2347" y="17170"/>
                </a:cubicBezTo>
                <a:cubicBezTo>
                  <a:pt x="2380" y="17171"/>
                  <a:pt x="2405" y="17177"/>
                  <a:pt x="2435" y="17190"/>
                </a:cubicBezTo>
                <a:cubicBezTo>
                  <a:pt x="2439" y="17192"/>
                  <a:pt x="2443" y="17194"/>
                  <a:pt x="2447" y="17196"/>
                </a:cubicBezTo>
              </a:path>
              <a:path w="9977" h="2278">
                <a:moveTo>
                  <a:pt x="2853" y="16886"/>
                </a:moveTo>
                <a:cubicBezTo>
                  <a:pt x="2855" y="16866"/>
                  <a:pt x="2848" y="16839"/>
                  <a:pt x="2821" y="16835"/>
                </a:cubicBezTo>
                <a:cubicBezTo>
                  <a:pt x="2800" y="16832"/>
                  <a:pt x="2773" y="16863"/>
                  <a:pt x="2764" y="16878"/>
                </a:cubicBezTo>
                <a:cubicBezTo>
                  <a:pt x="2729" y="16935"/>
                  <a:pt x="2726" y="17020"/>
                  <a:pt x="2738" y="17084"/>
                </a:cubicBezTo>
                <a:cubicBezTo>
                  <a:pt x="2744" y="17116"/>
                  <a:pt x="2760" y="17161"/>
                  <a:pt x="2793" y="17175"/>
                </a:cubicBezTo>
                <a:cubicBezTo>
                  <a:pt x="2820" y="17186"/>
                  <a:pt x="2845" y="17160"/>
                  <a:pt x="2857" y="17139"/>
                </a:cubicBezTo>
                <a:cubicBezTo>
                  <a:pt x="2879" y="17102"/>
                  <a:pt x="2885" y="17056"/>
                  <a:pt x="2896" y="17015"/>
                </a:cubicBezTo>
                <a:cubicBezTo>
                  <a:pt x="2901" y="16995"/>
                  <a:pt x="2907" y="16975"/>
                  <a:pt x="2913" y="16956"/>
                </a:cubicBezTo>
                <a:cubicBezTo>
                  <a:pt x="2925" y="17000"/>
                  <a:pt x="2929" y="17044"/>
                  <a:pt x="2938" y="17088"/>
                </a:cubicBezTo>
                <a:cubicBezTo>
                  <a:pt x="2947" y="17136"/>
                  <a:pt x="2954" y="17185"/>
                  <a:pt x="2988" y="17222"/>
                </a:cubicBezTo>
                <a:cubicBezTo>
                  <a:pt x="3007" y="17243"/>
                  <a:pt x="3017" y="17226"/>
                  <a:pt x="3033" y="17214"/>
                </a:cubicBezTo>
              </a:path>
              <a:path w="9977" h="2278">
                <a:moveTo>
                  <a:pt x="3173" y="16866"/>
                </a:moveTo>
                <a:cubicBezTo>
                  <a:pt x="3174" y="16892"/>
                  <a:pt x="3178" y="16922"/>
                  <a:pt x="3177" y="16948"/>
                </a:cubicBezTo>
                <a:cubicBezTo>
                  <a:pt x="3175" y="16990"/>
                  <a:pt x="3175" y="17031"/>
                  <a:pt x="3176" y="17074"/>
                </a:cubicBezTo>
                <a:cubicBezTo>
                  <a:pt x="3177" y="17094"/>
                  <a:pt x="3178" y="17109"/>
                  <a:pt x="3173" y="17127"/>
                </a:cubicBezTo>
              </a:path>
              <a:path w="9977" h="2278">
                <a:moveTo>
                  <a:pt x="3063" y="17064"/>
                </a:moveTo>
                <a:cubicBezTo>
                  <a:pt x="3092" y="17039"/>
                  <a:pt x="3107" y="17037"/>
                  <a:pt x="3142" y="17023"/>
                </a:cubicBezTo>
                <a:cubicBezTo>
                  <a:pt x="3182" y="17007"/>
                  <a:pt x="3218" y="17001"/>
                  <a:pt x="3261" y="16999"/>
                </a:cubicBezTo>
                <a:cubicBezTo>
                  <a:pt x="3272" y="16999"/>
                  <a:pt x="3284" y="16999"/>
                  <a:pt x="3295" y="16999"/>
                </a:cubicBezTo>
              </a:path>
              <a:path w="9977" h="2278">
                <a:moveTo>
                  <a:pt x="3580" y="16913"/>
                </a:moveTo>
                <a:cubicBezTo>
                  <a:pt x="3572" y="16891"/>
                  <a:pt x="3568" y="16884"/>
                  <a:pt x="3548" y="16872"/>
                </a:cubicBezTo>
                <a:cubicBezTo>
                  <a:pt x="3522" y="16900"/>
                  <a:pt x="3502" y="16921"/>
                  <a:pt x="3485" y="16957"/>
                </a:cubicBezTo>
                <a:cubicBezTo>
                  <a:pt x="3461" y="17007"/>
                  <a:pt x="3441" y="17063"/>
                  <a:pt x="3437" y="17118"/>
                </a:cubicBezTo>
                <a:cubicBezTo>
                  <a:pt x="3435" y="17148"/>
                  <a:pt x="3443" y="17187"/>
                  <a:pt x="3481" y="17169"/>
                </a:cubicBezTo>
                <a:cubicBezTo>
                  <a:pt x="3516" y="17152"/>
                  <a:pt x="3548" y="17112"/>
                  <a:pt x="3572" y="17083"/>
                </a:cubicBezTo>
                <a:cubicBezTo>
                  <a:pt x="3591" y="17060"/>
                  <a:pt x="3601" y="17038"/>
                  <a:pt x="3629" y="17045"/>
                </a:cubicBezTo>
                <a:cubicBezTo>
                  <a:pt x="3640" y="17079"/>
                  <a:pt x="3643" y="17119"/>
                  <a:pt x="3642" y="17156"/>
                </a:cubicBezTo>
                <a:cubicBezTo>
                  <a:pt x="3641" y="17192"/>
                  <a:pt x="3639" y="17228"/>
                  <a:pt x="3637" y="17264"/>
                </a:cubicBezTo>
              </a:path>
              <a:path w="9977" h="2278">
                <a:moveTo>
                  <a:pt x="3992" y="16679"/>
                </a:moveTo>
                <a:cubicBezTo>
                  <a:pt x="3948" y="16691"/>
                  <a:pt x="3948" y="16693"/>
                  <a:pt x="3924" y="16737"/>
                </a:cubicBezTo>
                <a:cubicBezTo>
                  <a:pt x="3884" y="16811"/>
                  <a:pt x="3873" y="16895"/>
                  <a:pt x="3866" y="16978"/>
                </a:cubicBezTo>
                <a:cubicBezTo>
                  <a:pt x="3858" y="17074"/>
                  <a:pt x="3864" y="17170"/>
                  <a:pt x="3886" y="17264"/>
                </a:cubicBezTo>
                <a:cubicBezTo>
                  <a:pt x="3899" y="17320"/>
                  <a:pt x="3916" y="17377"/>
                  <a:pt x="3966" y="17410"/>
                </a:cubicBezTo>
                <a:cubicBezTo>
                  <a:pt x="3988" y="17420"/>
                  <a:pt x="3995" y="17423"/>
                  <a:pt x="4011" y="17417"/>
                </a:cubicBezTo>
              </a:path>
              <a:path w="9977" h="2278">
                <a:moveTo>
                  <a:pt x="4440" y="16848"/>
                </a:moveTo>
                <a:cubicBezTo>
                  <a:pt x="4447" y="16824"/>
                  <a:pt x="4449" y="16813"/>
                  <a:pt x="4468" y="16802"/>
                </a:cubicBezTo>
                <a:cubicBezTo>
                  <a:pt x="4487" y="16791"/>
                  <a:pt x="4485" y="16800"/>
                  <a:pt x="4501" y="16803"/>
                </a:cubicBezTo>
                <a:cubicBezTo>
                  <a:pt x="4482" y="16801"/>
                  <a:pt x="4469" y="16800"/>
                  <a:pt x="4449" y="16801"/>
                </a:cubicBezTo>
                <a:cubicBezTo>
                  <a:pt x="4381" y="16805"/>
                  <a:pt x="4317" y="16821"/>
                  <a:pt x="4256" y="16851"/>
                </a:cubicBezTo>
                <a:cubicBezTo>
                  <a:pt x="4229" y="16864"/>
                  <a:pt x="4223" y="16873"/>
                  <a:pt x="4210" y="16896"/>
                </a:cubicBezTo>
                <a:cubicBezTo>
                  <a:pt x="4226" y="16909"/>
                  <a:pt x="4235" y="16913"/>
                  <a:pt x="4258" y="16918"/>
                </a:cubicBezTo>
                <a:cubicBezTo>
                  <a:pt x="4288" y="16924"/>
                  <a:pt x="4324" y="16931"/>
                  <a:pt x="4350" y="16950"/>
                </a:cubicBezTo>
                <a:cubicBezTo>
                  <a:pt x="4407" y="16993"/>
                  <a:pt x="4406" y="17075"/>
                  <a:pt x="4392" y="17137"/>
                </a:cubicBezTo>
                <a:cubicBezTo>
                  <a:pt x="4381" y="17186"/>
                  <a:pt x="4362" y="17232"/>
                  <a:pt x="4337" y="17276"/>
                </a:cubicBezTo>
                <a:cubicBezTo>
                  <a:pt x="4320" y="17305"/>
                  <a:pt x="4297" y="17329"/>
                  <a:pt x="4281" y="17358"/>
                </a:cubicBezTo>
                <a:cubicBezTo>
                  <a:pt x="4299" y="17358"/>
                  <a:pt x="4316" y="17357"/>
                  <a:pt x="4335" y="17354"/>
                </a:cubicBezTo>
                <a:cubicBezTo>
                  <a:pt x="4370" y="17348"/>
                  <a:pt x="4406" y="17342"/>
                  <a:pt x="4442" y="17348"/>
                </a:cubicBezTo>
                <a:cubicBezTo>
                  <a:pt x="4471" y="17353"/>
                  <a:pt x="4504" y="17362"/>
                  <a:pt x="4531" y="17373"/>
                </a:cubicBezTo>
                <a:cubicBezTo>
                  <a:pt x="4544" y="17378"/>
                  <a:pt x="4558" y="17385"/>
                  <a:pt x="4571" y="17391"/>
                </a:cubicBezTo>
                <a:cubicBezTo>
                  <a:pt x="4569" y="17368"/>
                  <a:pt x="4562" y="17355"/>
                  <a:pt x="4550" y="17334"/>
                </a:cubicBezTo>
                <a:cubicBezTo>
                  <a:pt x="4541" y="17319"/>
                  <a:pt x="4531" y="17299"/>
                  <a:pt x="4529" y="17282"/>
                </a:cubicBezTo>
                <a:cubicBezTo>
                  <a:pt x="4527" y="17264"/>
                  <a:pt x="4535" y="17241"/>
                  <a:pt x="4537" y="17223"/>
                </a:cubicBezTo>
              </a:path>
              <a:path w="9977" h="2278">
                <a:moveTo>
                  <a:pt x="4551" y="16819"/>
                </a:moveTo>
                <a:cubicBezTo>
                  <a:pt x="4532" y="16861"/>
                  <a:pt x="4525" y="16894"/>
                  <a:pt x="4523" y="16941"/>
                </a:cubicBezTo>
                <a:cubicBezTo>
                  <a:pt x="4520" y="17003"/>
                  <a:pt x="4522" y="17066"/>
                  <a:pt x="4522" y="17128"/>
                </a:cubicBezTo>
              </a:path>
              <a:path w="9977" h="2278">
                <a:moveTo>
                  <a:pt x="4314" y="17453"/>
                </a:moveTo>
                <a:cubicBezTo>
                  <a:pt x="4304" y="17438"/>
                  <a:pt x="4285" y="17418"/>
                  <a:pt x="4307" y="17403"/>
                </a:cubicBezTo>
                <a:cubicBezTo>
                  <a:pt x="4320" y="17394"/>
                  <a:pt x="4343" y="17393"/>
                  <a:pt x="4358" y="17390"/>
                </a:cubicBezTo>
              </a:path>
              <a:path w="9977" h="2278">
                <a:moveTo>
                  <a:pt x="4480" y="17541"/>
                </a:moveTo>
                <a:cubicBezTo>
                  <a:pt x="4479" y="17546"/>
                  <a:pt x="4478" y="17552"/>
                  <a:pt x="4477" y="17557"/>
                </a:cubicBezTo>
                <a:cubicBezTo>
                  <a:pt x="4495" y="17547"/>
                  <a:pt x="4508" y="17532"/>
                  <a:pt x="4527" y="17523"/>
                </a:cubicBezTo>
                <a:cubicBezTo>
                  <a:pt x="4544" y="17515"/>
                  <a:pt x="4561" y="17508"/>
                  <a:pt x="4578" y="17499"/>
                </a:cubicBezTo>
              </a:path>
              <a:path w="9977" h="2278">
                <a:moveTo>
                  <a:pt x="4359" y="16593"/>
                </a:moveTo>
                <a:cubicBezTo>
                  <a:pt x="4348" y="16610"/>
                  <a:pt x="4332" y="16631"/>
                  <a:pt x="4326" y="16650"/>
                </a:cubicBezTo>
                <a:cubicBezTo>
                  <a:pt x="4321" y="16667"/>
                  <a:pt x="4315" y="16688"/>
                  <a:pt x="4313" y="16706"/>
                </a:cubicBezTo>
                <a:cubicBezTo>
                  <a:pt x="4313" y="16709"/>
                  <a:pt x="4313" y="16713"/>
                  <a:pt x="4313" y="16716"/>
                </a:cubicBezTo>
                <a:cubicBezTo>
                  <a:pt x="4323" y="16690"/>
                  <a:pt x="4331" y="16663"/>
                  <a:pt x="4340" y="16636"/>
                </a:cubicBezTo>
                <a:cubicBezTo>
                  <a:pt x="4349" y="16609"/>
                  <a:pt x="4361" y="16559"/>
                  <a:pt x="4386" y="16541"/>
                </a:cubicBezTo>
                <a:cubicBezTo>
                  <a:pt x="4418" y="16518"/>
                  <a:pt x="4437" y="16578"/>
                  <a:pt x="4443" y="16595"/>
                </a:cubicBezTo>
                <a:cubicBezTo>
                  <a:pt x="4463" y="16650"/>
                  <a:pt x="4478" y="16708"/>
                  <a:pt x="4495" y="16764"/>
                </a:cubicBezTo>
                <a:cubicBezTo>
                  <a:pt x="4503" y="16791"/>
                  <a:pt x="4510" y="16811"/>
                  <a:pt x="4524" y="16835"/>
                </a:cubicBezTo>
              </a:path>
              <a:path w="9977" h="2278">
                <a:moveTo>
                  <a:pt x="4882" y="17133"/>
                </a:moveTo>
                <a:cubicBezTo>
                  <a:pt x="4882" y="17116"/>
                  <a:pt x="4887" y="17081"/>
                  <a:pt x="4879" y="17067"/>
                </a:cubicBezTo>
                <a:cubicBezTo>
                  <a:pt x="4876" y="17066"/>
                  <a:pt x="4873" y="17065"/>
                  <a:pt x="4870" y="17064"/>
                </a:cubicBezTo>
                <a:cubicBezTo>
                  <a:pt x="4846" y="17081"/>
                  <a:pt x="4837" y="17105"/>
                  <a:pt x="4825" y="17133"/>
                </a:cubicBezTo>
                <a:cubicBezTo>
                  <a:pt x="4807" y="17175"/>
                  <a:pt x="4792" y="17219"/>
                  <a:pt x="4791" y="17265"/>
                </a:cubicBezTo>
                <a:cubicBezTo>
                  <a:pt x="4790" y="17289"/>
                  <a:pt x="4794" y="17298"/>
                  <a:pt x="4809" y="17313"/>
                </a:cubicBezTo>
                <a:cubicBezTo>
                  <a:pt x="4841" y="17297"/>
                  <a:pt x="4857" y="17273"/>
                  <a:pt x="4877" y="17242"/>
                </a:cubicBezTo>
                <a:cubicBezTo>
                  <a:pt x="4901" y="17204"/>
                  <a:pt x="4918" y="17162"/>
                  <a:pt x="4941" y="17123"/>
                </a:cubicBezTo>
                <a:cubicBezTo>
                  <a:pt x="4951" y="17108"/>
                  <a:pt x="4953" y="17104"/>
                  <a:pt x="4963" y="17100"/>
                </a:cubicBezTo>
                <a:cubicBezTo>
                  <a:pt x="4981" y="17140"/>
                  <a:pt x="4983" y="17178"/>
                  <a:pt x="4987" y="17222"/>
                </a:cubicBezTo>
                <a:cubicBezTo>
                  <a:pt x="4990" y="17256"/>
                  <a:pt x="4984" y="17327"/>
                  <a:pt x="5009" y="17355"/>
                </a:cubicBezTo>
                <a:cubicBezTo>
                  <a:pt x="5013" y="17355"/>
                  <a:pt x="5017" y="17355"/>
                  <a:pt x="5021" y="17355"/>
                </a:cubicBezTo>
              </a:path>
              <a:path w="9977" h="2278">
                <a:moveTo>
                  <a:pt x="5135" y="16936"/>
                </a:moveTo>
                <a:cubicBezTo>
                  <a:pt x="5138" y="16958"/>
                  <a:pt x="5141" y="16981"/>
                  <a:pt x="5142" y="17003"/>
                </a:cubicBezTo>
                <a:cubicBezTo>
                  <a:pt x="5143" y="17027"/>
                  <a:pt x="5144" y="17047"/>
                  <a:pt x="5148" y="17071"/>
                </a:cubicBezTo>
              </a:path>
              <a:path w="9977" h="2278">
                <a:moveTo>
                  <a:pt x="5148" y="16846"/>
                </a:moveTo>
                <a:cubicBezTo>
                  <a:pt x="5142" y="16828"/>
                  <a:pt x="5138" y="16804"/>
                  <a:pt x="5124" y="16789"/>
                </a:cubicBezTo>
                <a:cubicBezTo>
                  <a:pt x="5120" y="16786"/>
                  <a:pt x="5116" y="16782"/>
                  <a:pt x="5112" y="16779"/>
                </a:cubicBezTo>
              </a:path>
              <a:path w="9977" h="2278">
                <a:moveTo>
                  <a:pt x="5339" y="16831"/>
                </a:moveTo>
                <a:cubicBezTo>
                  <a:pt x="5333" y="16771"/>
                  <a:pt x="5351" y="16842"/>
                  <a:pt x="5356" y="16862"/>
                </a:cubicBezTo>
                <a:cubicBezTo>
                  <a:pt x="5375" y="16941"/>
                  <a:pt x="5395" y="17022"/>
                  <a:pt x="5408" y="17102"/>
                </a:cubicBezTo>
                <a:cubicBezTo>
                  <a:pt x="5422" y="17188"/>
                  <a:pt x="5436" y="17285"/>
                  <a:pt x="5430" y="17372"/>
                </a:cubicBezTo>
                <a:cubicBezTo>
                  <a:pt x="5424" y="17411"/>
                  <a:pt x="5423" y="17421"/>
                  <a:pt x="5413" y="17443"/>
                </a:cubicBezTo>
              </a:path>
              <a:path w="9977" h="2278">
                <a:moveTo>
                  <a:pt x="5620" y="17159"/>
                </a:moveTo>
                <a:cubicBezTo>
                  <a:pt x="5599" y="17188"/>
                  <a:pt x="5614" y="17193"/>
                  <a:pt x="5648" y="17200"/>
                </a:cubicBezTo>
                <a:cubicBezTo>
                  <a:pt x="5680" y="17207"/>
                  <a:pt x="5717" y="17210"/>
                  <a:pt x="5749" y="17212"/>
                </a:cubicBezTo>
                <a:cubicBezTo>
                  <a:pt x="5776" y="17214"/>
                  <a:pt x="5802" y="17209"/>
                  <a:pt x="5829" y="17203"/>
                </a:cubicBezTo>
              </a:path>
              <a:path w="9977" h="2278">
                <a:moveTo>
                  <a:pt x="6169" y="17030"/>
                </a:moveTo>
                <a:cubicBezTo>
                  <a:pt x="6155" y="17016"/>
                  <a:pt x="6135" y="16999"/>
                  <a:pt x="6113" y="17015"/>
                </a:cubicBezTo>
                <a:cubicBezTo>
                  <a:pt x="6076" y="17043"/>
                  <a:pt x="6058" y="17092"/>
                  <a:pt x="6046" y="17135"/>
                </a:cubicBezTo>
                <a:cubicBezTo>
                  <a:pt x="6032" y="17185"/>
                  <a:pt x="6023" y="17245"/>
                  <a:pt x="6031" y="17297"/>
                </a:cubicBezTo>
                <a:cubicBezTo>
                  <a:pt x="6033" y="17304"/>
                  <a:pt x="6036" y="17311"/>
                  <a:pt x="6038" y="17318"/>
                </a:cubicBezTo>
                <a:cubicBezTo>
                  <a:pt x="6068" y="17333"/>
                  <a:pt x="6079" y="17307"/>
                  <a:pt x="6095" y="17279"/>
                </a:cubicBezTo>
                <a:cubicBezTo>
                  <a:pt x="6120" y="17236"/>
                  <a:pt x="6139" y="17190"/>
                  <a:pt x="6161" y="17146"/>
                </a:cubicBezTo>
                <a:cubicBezTo>
                  <a:pt x="6173" y="17122"/>
                  <a:pt x="6176" y="17116"/>
                  <a:pt x="6183" y="17101"/>
                </a:cubicBezTo>
                <a:cubicBezTo>
                  <a:pt x="6212" y="17107"/>
                  <a:pt x="6204" y="17137"/>
                  <a:pt x="6206" y="17169"/>
                </a:cubicBezTo>
                <a:cubicBezTo>
                  <a:pt x="6208" y="17208"/>
                  <a:pt x="6209" y="17259"/>
                  <a:pt x="6226" y="17294"/>
                </a:cubicBezTo>
                <a:cubicBezTo>
                  <a:pt x="6236" y="17307"/>
                  <a:pt x="6237" y="17312"/>
                  <a:pt x="6248" y="17313"/>
                </a:cubicBezTo>
              </a:path>
              <a:path w="9977" h="2278">
                <a:moveTo>
                  <a:pt x="6332" y="16797"/>
                </a:moveTo>
                <a:cubicBezTo>
                  <a:pt x="6328" y="16783"/>
                  <a:pt x="6327" y="16778"/>
                  <a:pt x="6315" y="16777"/>
                </a:cubicBezTo>
                <a:cubicBezTo>
                  <a:pt x="6313" y="16804"/>
                  <a:pt x="6308" y="16831"/>
                  <a:pt x="6307" y="16859"/>
                </a:cubicBezTo>
                <a:cubicBezTo>
                  <a:pt x="6306" y="16898"/>
                  <a:pt x="6306" y="16937"/>
                  <a:pt x="6306" y="16976"/>
                </a:cubicBezTo>
                <a:cubicBezTo>
                  <a:pt x="6306" y="16982"/>
                  <a:pt x="6306" y="16989"/>
                  <a:pt x="6306" y="16995"/>
                </a:cubicBezTo>
                <a:cubicBezTo>
                  <a:pt x="6325" y="16962"/>
                  <a:pt x="6330" y="16927"/>
                  <a:pt x="6341" y="16890"/>
                </a:cubicBezTo>
                <a:cubicBezTo>
                  <a:pt x="6353" y="16849"/>
                  <a:pt x="6362" y="16804"/>
                  <a:pt x="6379" y="16765"/>
                </a:cubicBezTo>
                <a:cubicBezTo>
                  <a:pt x="6388" y="16750"/>
                  <a:pt x="6389" y="16746"/>
                  <a:pt x="6399" y="16741"/>
                </a:cubicBezTo>
                <a:cubicBezTo>
                  <a:pt x="6424" y="16756"/>
                  <a:pt x="6423" y="16784"/>
                  <a:pt x="6428" y="16812"/>
                </a:cubicBezTo>
                <a:cubicBezTo>
                  <a:pt x="6438" y="16863"/>
                  <a:pt x="6447" y="16915"/>
                  <a:pt x="6455" y="16967"/>
                </a:cubicBezTo>
                <a:cubicBezTo>
                  <a:pt x="6459" y="16993"/>
                  <a:pt x="6460" y="17004"/>
                  <a:pt x="6474" y="17025"/>
                </a:cubicBezTo>
              </a:path>
              <a:path w="9977" h="2278">
                <a:moveTo>
                  <a:pt x="6650" y="16831"/>
                </a:moveTo>
                <a:cubicBezTo>
                  <a:pt x="6638" y="16863"/>
                  <a:pt x="6640" y="16898"/>
                  <a:pt x="6638" y="16934"/>
                </a:cubicBezTo>
                <a:cubicBezTo>
                  <a:pt x="6636" y="16974"/>
                  <a:pt x="6637" y="17011"/>
                  <a:pt x="6638" y="17050"/>
                </a:cubicBezTo>
              </a:path>
              <a:path w="9977" h="2278">
                <a:moveTo>
                  <a:pt x="6632" y="16903"/>
                </a:moveTo>
                <a:cubicBezTo>
                  <a:pt x="6630" y="16906"/>
                  <a:pt x="6629" y="16910"/>
                  <a:pt x="6627" y="16913"/>
                </a:cubicBezTo>
                <a:cubicBezTo>
                  <a:pt x="6646" y="16918"/>
                  <a:pt x="6669" y="16921"/>
                  <a:pt x="6688" y="16912"/>
                </a:cubicBezTo>
                <a:cubicBezTo>
                  <a:pt x="6711" y="16901"/>
                  <a:pt x="6732" y="16885"/>
                  <a:pt x="6753" y="16870"/>
                </a:cubicBezTo>
              </a:path>
              <a:path w="9977" h="2278">
                <a:moveTo>
                  <a:pt x="6865" y="16700"/>
                </a:moveTo>
                <a:cubicBezTo>
                  <a:pt x="6884" y="16726"/>
                  <a:pt x="6872" y="16742"/>
                  <a:pt x="6872" y="16772"/>
                </a:cubicBezTo>
                <a:cubicBezTo>
                  <a:pt x="6872" y="16820"/>
                  <a:pt x="6867" y="16870"/>
                  <a:pt x="6854" y="16917"/>
                </a:cubicBezTo>
                <a:cubicBezTo>
                  <a:pt x="6844" y="16952"/>
                  <a:pt x="6834" y="16984"/>
                  <a:pt x="6828" y="17020"/>
                </a:cubicBezTo>
                <a:cubicBezTo>
                  <a:pt x="6827" y="17025"/>
                  <a:pt x="6827" y="17030"/>
                  <a:pt x="6826" y="17035"/>
                </a:cubicBezTo>
              </a:path>
              <a:path w="9977" h="2278">
                <a:moveTo>
                  <a:pt x="6852" y="17430"/>
                </a:moveTo>
                <a:cubicBezTo>
                  <a:pt x="6827" y="17430"/>
                  <a:pt x="6804" y="17432"/>
                  <a:pt x="6779" y="17435"/>
                </a:cubicBezTo>
                <a:cubicBezTo>
                  <a:pt x="6756" y="17437"/>
                  <a:pt x="6754" y="17444"/>
                  <a:pt x="6736" y="17456"/>
                </a:cubicBezTo>
                <a:cubicBezTo>
                  <a:pt x="6743" y="17508"/>
                  <a:pt x="6763" y="17537"/>
                  <a:pt x="6801" y="17580"/>
                </a:cubicBezTo>
                <a:cubicBezTo>
                  <a:pt x="6861" y="17647"/>
                  <a:pt x="6930" y="17712"/>
                  <a:pt x="7002" y="17767"/>
                </a:cubicBezTo>
                <a:cubicBezTo>
                  <a:pt x="7063" y="17814"/>
                  <a:pt x="7125" y="17842"/>
                  <a:pt x="7196" y="17869"/>
                </a:cubicBezTo>
                <a:cubicBezTo>
                  <a:pt x="7278" y="17900"/>
                  <a:pt x="7306" y="17909"/>
                  <a:pt x="7315" y="17809"/>
                </a:cubicBezTo>
                <a:cubicBezTo>
                  <a:pt x="7324" y="17712"/>
                  <a:pt x="7278" y="17677"/>
                  <a:pt x="7358" y="17638"/>
                </a:cubicBezTo>
              </a:path>
              <a:path w="9977" h="2278">
                <a:moveTo>
                  <a:pt x="8355" y="17596"/>
                </a:moveTo>
                <a:cubicBezTo>
                  <a:pt x="8358" y="17573"/>
                  <a:pt x="8365" y="17552"/>
                  <a:pt x="8361" y="17529"/>
                </a:cubicBezTo>
                <a:cubicBezTo>
                  <a:pt x="8355" y="17500"/>
                  <a:pt x="8348" y="17494"/>
                  <a:pt x="8317" y="17487"/>
                </a:cubicBezTo>
                <a:cubicBezTo>
                  <a:pt x="8268" y="17476"/>
                  <a:pt x="8186" y="17539"/>
                  <a:pt x="8154" y="17564"/>
                </a:cubicBezTo>
                <a:cubicBezTo>
                  <a:pt x="8084" y="17619"/>
                  <a:pt x="8008" y="17694"/>
                  <a:pt x="8102" y="17756"/>
                </a:cubicBezTo>
                <a:cubicBezTo>
                  <a:pt x="8152" y="17789"/>
                  <a:pt x="8273" y="17772"/>
                  <a:pt x="8286" y="17853"/>
                </a:cubicBezTo>
                <a:cubicBezTo>
                  <a:pt x="8294" y="17904"/>
                  <a:pt x="8321" y="17972"/>
                  <a:pt x="8328" y="18031"/>
                </a:cubicBezTo>
                <a:cubicBezTo>
                  <a:pt x="8340" y="18128"/>
                  <a:pt x="8237" y="18123"/>
                  <a:pt x="8169" y="18133"/>
                </a:cubicBezTo>
                <a:cubicBezTo>
                  <a:pt x="8074" y="18146"/>
                  <a:pt x="7997" y="18183"/>
                  <a:pt x="7977" y="18094"/>
                </a:cubicBezTo>
              </a:path>
              <a:path w="9977" h="2278">
                <a:moveTo>
                  <a:pt x="8715" y="17842"/>
                </a:moveTo>
                <a:cubicBezTo>
                  <a:pt x="8782" y="17853"/>
                  <a:pt x="8847" y="17843"/>
                  <a:pt x="8915" y="17851"/>
                </a:cubicBezTo>
              </a:path>
              <a:path w="9977" h="2278">
                <a:moveTo>
                  <a:pt x="9921" y="17510"/>
                </a:moveTo>
                <a:cubicBezTo>
                  <a:pt x="9906" y="17494"/>
                  <a:pt x="9891" y="17477"/>
                  <a:pt x="9872" y="17466"/>
                </a:cubicBezTo>
                <a:cubicBezTo>
                  <a:pt x="9850" y="17454"/>
                  <a:pt x="9815" y="17445"/>
                  <a:pt x="9794" y="17466"/>
                </a:cubicBezTo>
                <a:cubicBezTo>
                  <a:pt x="9760" y="17500"/>
                  <a:pt x="9653" y="17663"/>
                  <a:pt x="9735" y="17710"/>
                </a:cubicBezTo>
                <a:cubicBezTo>
                  <a:pt x="9809" y="17752"/>
                  <a:pt x="9870" y="17618"/>
                  <a:pt x="9899" y="17575"/>
                </a:cubicBezTo>
                <a:cubicBezTo>
                  <a:pt x="9928" y="17631"/>
                  <a:pt x="9940" y="17648"/>
                  <a:pt x="9990" y="17685"/>
                </a:cubicBezTo>
              </a:path>
              <a:path w="9977" h="2278">
                <a:moveTo>
                  <a:pt x="10092" y="17628"/>
                </a:moveTo>
                <a:cubicBezTo>
                  <a:pt x="10165" y="17651"/>
                  <a:pt x="10210" y="17640"/>
                  <a:pt x="10288" y="17632"/>
                </a:cubicBezTo>
              </a:path>
              <a:path w="9977" h="2278">
                <a:moveTo>
                  <a:pt x="10608" y="17548"/>
                </a:moveTo>
                <a:cubicBezTo>
                  <a:pt x="10574" y="17486"/>
                  <a:pt x="10523" y="17529"/>
                  <a:pt x="10497" y="17583"/>
                </a:cubicBezTo>
                <a:cubicBezTo>
                  <a:pt x="10455" y="17672"/>
                  <a:pt x="10543" y="17648"/>
                  <a:pt x="10577" y="17602"/>
                </a:cubicBezTo>
                <a:cubicBezTo>
                  <a:pt x="10589" y="17586"/>
                  <a:pt x="10598" y="17568"/>
                  <a:pt x="10609" y="17552"/>
                </a:cubicBezTo>
                <a:cubicBezTo>
                  <a:pt x="10635" y="17609"/>
                  <a:pt x="10643" y="17623"/>
                  <a:pt x="10644" y="17663"/>
                </a:cubicBezTo>
              </a:path>
              <a:path w="9977" h="2278">
                <a:moveTo>
                  <a:pt x="10801" y="17429"/>
                </a:moveTo>
                <a:cubicBezTo>
                  <a:pt x="10833" y="17444"/>
                  <a:pt x="10816" y="17519"/>
                  <a:pt x="10816" y="17552"/>
                </a:cubicBezTo>
                <a:cubicBezTo>
                  <a:pt x="10816" y="17555"/>
                  <a:pt x="10816" y="17559"/>
                  <a:pt x="10816" y="17562"/>
                </a:cubicBezTo>
                <a:cubicBezTo>
                  <a:pt x="10823" y="17541"/>
                  <a:pt x="10828" y="17519"/>
                  <a:pt x="10835" y="17497"/>
                </a:cubicBezTo>
                <a:cubicBezTo>
                  <a:pt x="10845" y="17465"/>
                  <a:pt x="10857" y="17432"/>
                  <a:pt x="10871" y="17402"/>
                </a:cubicBezTo>
                <a:cubicBezTo>
                  <a:pt x="10878" y="17388"/>
                  <a:pt x="10881" y="17384"/>
                  <a:pt x="10893" y="17382"/>
                </a:cubicBezTo>
                <a:cubicBezTo>
                  <a:pt x="10907" y="17406"/>
                  <a:pt x="10912" y="17426"/>
                  <a:pt x="10920" y="17452"/>
                </a:cubicBezTo>
                <a:cubicBezTo>
                  <a:pt x="10925" y="17469"/>
                  <a:pt x="10932" y="17483"/>
                  <a:pt x="10941" y="17498"/>
                </a:cubicBezTo>
              </a:path>
              <a:path w="9977" h="2278">
                <a:moveTo>
                  <a:pt x="11091" y="17368"/>
                </a:moveTo>
                <a:cubicBezTo>
                  <a:pt x="11106" y="17389"/>
                  <a:pt x="11110" y="17409"/>
                  <a:pt x="11114" y="17435"/>
                </a:cubicBezTo>
                <a:cubicBezTo>
                  <a:pt x="11117" y="17457"/>
                  <a:pt x="11137" y="17599"/>
                  <a:pt x="11121" y="17559"/>
                </a:cubicBezTo>
              </a:path>
              <a:path w="9977" h="2278">
                <a:moveTo>
                  <a:pt x="11104" y="17430"/>
                </a:moveTo>
                <a:cubicBezTo>
                  <a:pt x="11130" y="17433"/>
                  <a:pt x="11156" y="17441"/>
                  <a:pt x="11182" y="17439"/>
                </a:cubicBezTo>
                <a:cubicBezTo>
                  <a:pt x="11225" y="17436"/>
                  <a:pt x="11270" y="17425"/>
                  <a:pt x="11310" y="17412"/>
                </a:cubicBezTo>
                <a:cubicBezTo>
                  <a:pt x="11322" y="17408"/>
                  <a:pt x="11333" y="17403"/>
                  <a:pt x="11345" y="17399"/>
                </a:cubicBezTo>
              </a:path>
              <a:path w="9977" h="2278">
                <a:moveTo>
                  <a:pt x="11459" y="17297"/>
                </a:moveTo>
                <a:cubicBezTo>
                  <a:pt x="11464" y="17287"/>
                  <a:pt x="11465" y="17284"/>
                  <a:pt x="11468" y="17277"/>
                </a:cubicBezTo>
                <a:cubicBezTo>
                  <a:pt x="11491" y="17285"/>
                  <a:pt x="11490" y="17309"/>
                  <a:pt x="11494" y="17337"/>
                </a:cubicBezTo>
                <a:cubicBezTo>
                  <a:pt x="11502" y="17396"/>
                  <a:pt x="11507" y="17453"/>
                  <a:pt x="11519" y="17511"/>
                </a:cubicBezTo>
              </a:path>
              <a:path w="9977" h="2278">
                <a:moveTo>
                  <a:pt x="9925" y="17831"/>
                </a:moveTo>
                <a:cubicBezTo>
                  <a:pt x="9821" y="17859"/>
                  <a:pt x="10043" y="17828"/>
                  <a:pt x="10080" y="17823"/>
                </a:cubicBezTo>
                <a:cubicBezTo>
                  <a:pt x="10213" y="17806"/>
                  <a:pt x="10343" y="17791"/>
                  <a:pt x="10478" y="17792"/>
                </a:cubicBezTo>
                <a:cubicBezTo>
                  <a:pt x="10633" y="17794"/>
                  <a:pt x="10782" y="17814"/>
                  <a:pt x="10936" y="17828"/>
                </a:cubicBezTo>
                <a:cubicBezTo>
                  <a:pt x="11026" y="17836"/>
                  <a:pt x="11118" y="17848"/>
                  <a:pt x="11209" y="17845"/>
                </a:cubicBezTo>
                <a:cubicBezTo>
                  <a:pt x="11254" y="17842"/>
                  <a:pt x="11272" y="17841"/>
                  <a:pt x="11303" y="17846"/>
                </a:cubicBezTo>
              </a:path>
              <a:path w="9977" h="2278">
                <a:moveTo>
                  <a:pt x="10188" y="17968"/>
                </a:moveTo>
                <a:cubicBezTo>
                  <a:pt x="10178" y="18044"/>
                  <a:pt x="10178" y="18113"/>
                  <a:pt x="10180" y="18189"/>
                </a:cubicBezTo>
                <a:cubicBezTo>
                  <a:pt x="10182" y="18245"/>
                  <a:pt x="10184" y="18302"/>
                  <a:pt x="10187" y="18358"/>
                </a:cubicBezTo>
              </a:path>
              <a:path w="9977" h="2278">
                <a:moveTo>
                  <a:pt x="10425" y="18171"/>
                </a:moveTo>
                <a:cubicBezTo>
                  <a:pt x="10506" y="18159"/>
                  <a:pt x="10587" y="18133"/>
                  <a:pt x="10670" y="18142"/>
                </a:cubicBezTo>
                <a:cubicBezTo>
                  <a:pt x="10686" y="18146"/>
                  <a:pt x="10701" y="18149"/>
                  <a:pt x="10717" y="18153"/>
                </a:cubicBezTo>
              </a:path>
              <a:path w="9977" h="2278">
                <a:moveTo>
                  <a:pt x="10973" y="18086"/>
                </a:moveTo>
                <a:cubicBezTo>
                  <a:pt x="10973" y="18071"/>
                  <a:pt x="10974" y="18056"/>
                  <a:pt x="10974" y="18041"/>
                </a:cubicBezTo>
                <a:cubicBezTo>
                  <a:pt x="10900" y="18053"/>
                  <a:pt x="10858" y="18139"/>
                  <a:pt x="10873" y="18235"/>
                </a:cubicBezTo>
                <a:cubicBezTo>
                  <a:pt x="10881" y="18249"/>
                  <a:pt x="10889" y="18263"/>
                  <a:pt x="10897" y="18277"/>
                </a:cubicBezTo>
                <a:cubicBezTo>
                  <a:pt x="10951" y="18225"/>
                  <a:pt x="11007" y="18107"/>
                  <a:pt x="11057" y="18202"/>
                </a:cubicBezTo>
                <a:cubicBezTo>
                  <a:pt x="11094" y="18273"/>
                  <a:pt x="11095" y="18366"/>
                  <a:pt x="11088" y="1844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"/>
          <p:cNvSpPr/>
          <p:nvPr/>
        </p:nvSpPr>
        <p:spPr>
          <a:xfrm>
            <a:off x="4524480" y="5791320"/>
            <a:ext cx="695160" cy="396720"/>
          </a:xfrm>
          <a:custGeom>
            <a:avLst/>
            <a:gdLst/>
            <a:ahLst/>
            <a:rect l="l" t="t" r="r" b="b"/>
            <a:pathLst>
              <a:path w="1934" h="1103">
                <a:moveTo>
                  <a:pt x="12583" y="16452"/>
                </a:moveTo>
                <a:cubicBezTo>
                  <a:pt x="12558" y="16409"/>
                  <a:pt x="12557" y="16380"/>
                  <a:pt x="12601" y="16352"/>
                </a:cubicBezTo>
                <a:cubicBezTo>
                  <a:pt x="12649" y="16322"/>
                  <a:pt x="12715" y="16330"/>
                  <a:pt x="12762" y="16361"/>
                </a:cubicBezTo>
                <a:cubicBezTo>
                  <a:pt x="12829" y="16405"/>
                  <a:pt x="12850" y="16488"/>
                  <a:pt x="12844" y="16563"/>
                </a:cubicBezTo>
                <a:cubicBezTo>
                  <a:pt x="12836" y="16665"/>
                  <a:pt x="12775" y="16768"/>
                  <a:pt x="12716" y="16849"/>
                </a:cubicBezTo>
                <a:cubicBezTo>
                  <a:pt x="12700" y="16871"/>
                  <a:pt x="12680" y="16893"/>
                  <a:pt x="12663" y="16914"/>
                </a:cubicBezTo>
                <a:cubicBezTo>
                  <a:pt x="12711" y="16908"/>
                  <a:pt x="12753" y="16891"/>
                  <a:pt x="12800" y="16879"/>
                </a:cubicBezTo>
                <a:cubicBezTo>
                  <a:pt x="12847" y="16867"/>
                  <a:pt x="12890" y="16852"/>
                  <a:pt x="12935" y="16836"/>
                </a:cubicBezTo>
              </a:path>
              <a:path w="1934" h="1103">
                <a:moveTo>
                  <a:pt x="13104" y="16601"/>
                </a:moveTo>
                <a:cubicBezTo>
                  <a:pt x="13104" y="16581"/>
                  <a:pt x="13101" y="16559"/>
                  <a:pt x="13105" y="16540"/>
                </a:cubicBezTo>
                <a:cubicBezTo>
                  <a:pt x="13109" y="16518"/>
                  <a:pt x="13118" y="16491"/>
                  <a:pt x="13134" y="16475"/>
                </a:cubicBezTo>
                <a:cubicBezTo>
                  <a:pt x="13139" y="16471"/>
                  <a:pt x="13143" y="16468"/>
                  <a:pt x="13148" y="16464"/>
                </a:cubicBezTo>
              </a:path>
              <a:path w="1934" h="1103">
                <a:moveTo>
                  <a:pt x="13721" y="16102"/>
                </a:moveTo>
                <a:cubicBezTo>
                  <a:pt x="13726" y="16072"/>
                  <a:pt x="13730" y="16133"/>
                  <a:pt x="13729" y="16164"/>
                </a:cubicBezTo>
                <a:cubicBezTo>
                  <a:pt x="13727" y="16236"/>
                  <a:pt x="13729" y="16309"/>
                  <a:pt x="13728" y="16382"/>
                </a:cubicBezTo>
                <a:cubicBezTo>
                  <a:pt x="13727" y="16441"/>
                  <a:pt x="13730" y="16500"/>
                  <a:pt x="13730" y="16559"/>
                </a:cubicBezTo>
              </a:path>
              <a:path w="1934" h="1103">
                <a:moveTo>
                  <a:pt x="13493" y="16666"/>
                </a:moveTo>
                <a:cubicBezTo>
                  <a:pt x="13475" y="16673"/>
                  <a:pt x="13462" y="16679"/>
                  <a:pt x="13444" y="16681"/>
                </a:cubicBezTo>
                <a:cubicBezTo>
                  <a:pt x="13444" y="16661"/>
                  <a:pt x="13479" y="16650"/>
                  <a:pt x="13504" y="16642"/>
                </a:cubicBezTo>
                <a:cubicBezTo>
                  <a:pt x="13558" y="16625"/>
                  <a:pt x="13621" y="16608"/>
                  <a:pt x="13677" y="16600"/>
                </a:cubicBezTo>
                <a:cubicBezTo>
                  <a:pt x="13717" y="16594"/>
                  <a:pt x="13755" y="16597"/>
                  <a:pt x="13793" y="16611"/>
                </a:cubicBezTo>
              </a:path>
              <a:path w="1934" h="1103">
                <a:moveTo>
                  <a:pt x="13691" y="16858"/>
                </a:moveTo>
                <a:cubicBezTo>
                  <a:pt x="13681" y="16889"/>
                  <a:pt x="13649" y="16953"/>
                  <a:pt x="13654" y="16986"/>
                </a:cubicBezTo>
                <a:cubicBezTo>
                  <a:pt x="13660" y="17023"/>
                  <a:pt x="13693" y="17018"/>
                  <a:pt x="13717" y="17007"/>
                </a:cubicBezTo>
                <a:cubicBezTo>
                  <a:pt x="13760" y="16987"/>
                  <a:pt x="13797" y="16949"/>
                  <a:pt x="13828" y="16914"/>
                </a:cubicBezTo>
                <a:cubicBezTo>
                  <a:pt x="13849" y="16891"/>
                  <a:pt x="13864" y="16865"/>
                  <a:pt x="13892" y="16853"/>
                </a:cubicBezTo>
                <a:cubicBezTo>
                  <a:pt x="13904" y="16889"/>
                  <a:pt x="13899" y="16925"/>
                  <a:pt x="13897" y="16963"/>
                </a:cubicBezTo>
                <a:cubicBezTo>
                  <a:pt x="13894" y="17023"/>
                  <a:pt x="13891" y="17082"/>
                  <a:pt x="13889" y="17142"/>
                </a:cubicBezTo>
                <a:cubicBezTo>
                  <a:pt x="13888" y="17179"/>
                  <a:pt x="13878" y="17183"/>
                  <a:pt x="13907" y="17185"/>
                </a:cubicBezTo>
              </a:path>
              <a:path w="1934" h="1103">
                <a:moveTo>
                  <a:pt x="14348" y="16584"/>
                </a:moveTo>
                <a:cubicBezTo>
                  <a:pt x="14367" y="16632"/>
                  <a:pt x="14359" y="16663"/>
                  <a:pt x="14354" y="16714"/>
                </a:cubicBezTo>
                <a:cubicBezTo>
                  <a:pt x="14349" y="16770"/>
                  <a:pt x="14349" y="16827"/>
                  <a:pt x="14328" y="16881"/>
                </a:cubicBezTo>
                <a:cubicBezTo>
                  <a:pt x="14325" y="16887"/>
                  <a:pt x="14321" y="16894"/>
                  <a:pt x="14318" y="16900"/>
                </a:cubicBezTo>
              </a:path>
              <a:path w="1934" h="1103">
                <a:moveTo>
                  <a:pt x="14213" y="16774"/>
                </a:moveTo>
                <a:cubicBezTo>
                  <a:pt x="14229" y="16794"/>
                  <a:pt x="14252" y="16780"/>
                  <a:pt x="14277" y="16772"/>
                </a:cubicBezTo>
                <a:cubicBezTo>
                  <a:pt x="14327" y="16756"/>
                  <a:pt x="14375" y="16738"/>
                  <a:pt x="14426" y="16724"/>
                </a:cubicBezTo>
                <a:cubicBezTo>
                  <a:pt x="14463" y="16713"/>
                  <a:pt x="14475" y="16710"/>
                  <a:pt x="14499" y="1670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"/>
          <p:cNvSpPr/>
          <p:nvPr/>
        </p:nvSpPr>
        <p:spPr>
          <a:xfrm>
            <a:off x="5445000" y="5815080"/>
            <a:ext cx="419400" cy="352440"/>
          </a:xfrm>
          <a:custGeom>
            <a:avLst/>
            <a:gdLst/>
            <a:ahLst/>
            <a:rect l="l" t="t" r="r" b="b"/>
            <a:pathLst>
              <a:path w="1164" h="977">
                <a:moveTo>
                  <a:pt x="15632" y="16683"/>
                </a:moveTo>
                <a:cubicBezTo>
                  <a:pt x="15639" y="16713"/>
                  <a:pt x="15618" y="16660"/>
                  <a:pt x="15621" y="16649"/>
                </a:cubicBezTo>
                <a:cubicBezTo>
                  <a:pt x="15627" y="16623"/>
                  <a:pt x="15660" y="16592"/>
                  <a:pt x="15675" y="16571"/>
                </a:cubicBezTo>
              </a:path>
              <a:path w="1164" h="977">
                <a:moveTo>
                  <a:pt x="16043" y="16154"/>
                </a:moveTo>
                <a:cubicBezTo>
                  <a:pt x="16073" y="16164"/>
                  <a:pt x="16064" y="16195"/>
                  <a:pt x="16068" y="16226"/>
                </a:cubicBezTo>
                <a:cubicBezTo>
                  <a:pt x="16077" y="16289"/>
                  <a:pt x="16087" y="16351"/>
                  <a:pt x="16094" y="16414"/>
                </a:cubicBezTo>
                <a:cubicBezTo>
                  <a:pt x="16098" y="16452"/>
                  <a:pt x="16110" y="16499"/>
                  <a:pt x="16105" y="16537"/>
                </a:cubicBezTo>
                <a:cubicBezTo>
                  <a:pt x="16103" y="16541"/>
                  <a:pt x="16102" y="16546"/>
                  <a:pt x="16100" y="16550"/>
                </a:cubicBezTo>
              </a:path>
              <a:path w="1164" h="977">
                <a:moveTo>
                  <a:pt x="15909" y="16613"/>
                </a:moveTo>
                <a:cubicBezTo>
                  <a:pt x="15915" y="16629"/>
                  <a:pt x="15952" y="16611"/>
                  <a:pt x="15980" y="16604"/>
                </a:cubicBezTo>
                <a:cubicBezTo>
                  <a:pt x="16027" y="16593"/>
                  <a:pt x="16077" y="16577"/>
                  <a:pt x="16124" y="16570"/>
                </a:cubicBezTo>
                <a:cubicBezTo>
                  <a:pt x="16147" y="16567"/>
                  <a:pt x="16170" y="16568"/>
                  <a:pt x="16192" y="16571"/>
                </a:cubicBezTo>
              </a:path>
              <a:path w="1164" h="977">
                <a:moveTo>
                  <a:pt x="16111" y="16674"/>
                </a:moveTo>
                <a:cubicBezTo>
                  <a:pt x="16087" y="16700"/>
                  <a:pt x="16061" y="16729"/>
                  <a:pt x="16035" y="16753"/>
                </a:cubicBezTo>
                <a:cubicBezTo>
                  <a:pt x="16012" y="16774"/>
                  <a:pt x="16009" y="16790"/>
                  <a:pt x="16034" y="16815"/>
                </a:cubicBezTo>
                <a:cubicBezTo>
                  <a:pt x="16079" y="16859"/>
                  <a:pt x="16148" y="16879"/>
                  <a:pt x="16195" y="16922"/>
                </a:cubicBezTo>
                <a:cubicBezTo>
                  <a:pt x="16232" y="16955"/>
                  <a:pt x="16260" y="17001"/>
                  <a:pt x="16256" y="17052"/>
                </a:cubicBezTo>
                <a:cubicBezTo>
                  <a:pt x="16253" y="17089"/>
                  <a:pt x="16223" y="17120"/>
                  <a:pt x="16187" y="17129"/>
                </a:cubicBezTo>
                <a:cubicBezTo>
                  <a:pt x="16156" y="17137"/>
                  <a:pt x="16125" y="17121"/>
                  <a:pt x="16120" y="17088"/>
                </a:cubicBezTo>
                <a:cubicBezTo>
                  <a:pt x="16113" y="17042"/>
                  <a:pt x="16145" y="16988"/>
                  <a:pt x="16167" y="16951"/>
                </a:cubicBezTo>
                <a:cubicBezTo>
                  <a:pt x="16197" y="16900"/>
                  <a:pt x="16236" y="16855"/>
                  <a:pt x="16266" y="16804"/>
                </a:cubicBezTo>
                <a:cubicBezTo>
                  <a:pt x="16280" y="16780"/>
                  <a:pt x="16303" y="16741"/>
                  <a:pt x="16284" y="16713"/>
                </a:cubicBezTo>
                <a:cubicBezTo>
                  <a:pt x="16270" y="16692"/>
                  <a:pt x="16227" y="16681"/>
                  <a:pt x="16205" y="16673"/>
                </a:cubicBezTo>
                <a:cubicBezTo>
                  <a:pt x="16182" y="16665"/>
                  <a:pt x="16159" y="16660"/>
                  <a:pt x="16137" y="16651"/>
                </a:cubicBezTo>
              </a:path>
              <a:path w="1164" h="977">
                <a:moveTo>
                  <a:pt x="15224" y="16474"/>
                </a:moveTo>
                <a:cubicBezTo>
                  <a:pt x="15200" y="16467"/>
                  <a:pt x="15176" y="16464"/>
                  <a:pt x="15152" y="16459"/>
                </a:cubicBezTo>
                <a:cubicBezTo>
                  <a:pt x="15135" y="16456"/>
                  <a:pt x="15129" y="16458"/>
                  <a:pt x="15127" y="16446"/>
                </a:cubicBezTo>
                <a:cubicBezTo>
                  <a:pt x="15148" y="16420"/>
                  <a:pt x="15166" y="16403"/>
                  <a:pt x="15198" y="16390"/>
                </a:cubicBezTo>
                <a:cubicBezTo>
                  <a:pt x="15226" y="16378"/>
                  <a:pt x="15261" y="16373"/>
                  <a:pt x="15285" y="16396"/>
                </a:cubicBezTo>
                <a:cubicBezTo>
                  <a:pt x="15313" y="16423"/>
                  <a:pt x="15309" y="16474"/>
                  <a:pt x="15304" y="16509"/>
                </a:cubicBezTo>
                <a:cubicBezTo>
                  <a:pt x="15299" y="16545"/>
                  <a:pt x="15287" y="16579"/>
                  <a:pt x="15275" y="16613"/>
                </a:cubicBezTo>
                <a:cubicBezTo>
                  <a:pt x="15273" y="16617"/>
                  <a:pt x="15272" y="16622"/>
                  <a:pt x="15270" y="16626"/>
                </a:cubicBezTo>
                <a:cubicBezTo>
                  <a:pt x="15298" y="16616"/>
                  <a:pt x="15324" y="16604"/>
                  <a:pt x="15355" y="16611"/>
                </a:cubicBezTo>
                <a:cubicBezTo>
                  <a:pt x="15398" y="16621"/>
                  <a:pt x="15435" y="16653"/>
                  <a:pt x="15455" y="16692"/>
                </a:cubicBezTo>
                <a:cubicBezTo>
                  <a:pt x="15478" y="16736"/>
                  <a:pt x="15486" y="16794"/>
                  <a:pt x="15458" y="16838"/>
                </a:cubicBezTo>
                <a:cubicBezTo>
                  <a:pt x="15430" y="16883"/>
                  <a:pt x="15372" y="16902"/>
                  <a:pt x="15323" y="16907"/>
                </a:cubicBezTo>
                <a:cubicBezTo>
                  <a:pt x="15283" y="16911"/>
                  <a:pt x="15223" y="16908"/>
                  <a:pt x="15188" y="16886"/>
                </a:cubicBezTo>
                <a:cubicBezTo>
                  <a:pt x="15170" y="16875"/>
                  <a:pt x="15168" y="16858"/>
                  <a:pt x="15165" y="1684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"/>
          <p:cNvSpPr/>
          <p:nvPr/>
        </p:nvSpPr>
        <p:spPr>
          <a:xfrm>
            <a:off x="6059520" y="5935680"/>
            <a:ext cx="369720" cy="135000"/>
          </a:xfrm>
          <a:custGeom>
            <a:avLst/>
            <a:gdLst/>
            <a:ahLst/>
            <a:rect l="l" t="t" r="r" b="b"/>
            <a:pathLst>
              <a:path w="1030" h="375">
                <a:moveTo>
                  <a:pt x="16935" y="16489"/>
                </a:moveTo>
                <a:cubicBezTo>
                  <a:pt x="16922" y="16527"/>
                  <a:pt x="16922" y="16549"/>
                  <a:pt x="16923" y="16590"/>
                </a:cubicBezTo>
                <a:cubicBezTo>
                  <a:pt x="16924" y="16655"/>
                  <a:pt x="16934" y="16715"/>
                  <a:pt x="16942" y="16779"/>
                </a:cubicBezTo>
                <a:cubicBezTo>
                  <a:pt x="16946" y="16807"/>
                  <a:pt x="16947" y="16835"/>
                  <a:pt x="16947" y="16863"/>
                </a:cubicBezTo>
              </a:path>
              <a:path w="1030" h="375">
                <a:moveTo>
                  <a:pt x="16830" y="16700"/>
                </a:moveTo>
                <a:cubicBezTo>
                  <a:pt x="16869" y="16680"/>
                  <a:pt x="16906" y="16670"/>
                  <a:pt x="16948" y="16658"/>
                </a:cubicBezTo>
                <a:cubicBezTo>
                  <a:pt x="17016" y="16638"/>
                  <a:pt x="17085" y="16622"/>
                  <a:pt x="17154" y="16605"/>
                </a:cubicBezTo>
              </a:path>
              <a:path w="1030" h="375">
                <a:moveTo>
                  <a:pt x="17342" y="16640"/>
                </a:moveTo>
                <a:cubicBezTo>
                  <a:pt x="17370" y="16631"/>
                  <a:pt x="17392" y="16620"/>
                  <a:pt x="17418" y="16608"/>
                </a:cubicBezTo>
                <a:cubicBezTo>
                  <a:pt x="17441" y="16599"/>
                  <a:pt x="17449" y="16596"/>
                  <a:pt x="17464" y="16587"/>
                </a:cubicBezTo>
              </a:path>
              <a:path w="1030" h="375">
                <a:moveTo>
                  <a:pt x="17535" y="16639"/>
                </a:moveTo>
                <a:cubicBezTo>
                  <a:pt x="17561" y="16637"/>
                  <a:pt x="17576" y="16626"/>
                  <a:pt x="17601" y="16612"/>
                </a:cubicBezTo>
              </a:path>
              <a:path w="1030" h="375">
                <a:moveTo>
                  <a:pt x="17768" y="16601"/>
                </a:moveTo>
                <a:cubicBezTo>
                  <a:pt x="17787" y="16604"/>
                  <a:pt x="17804" y="16603"/>
                  <a:pt x="17823" y="16604"/>
                </a:cubicBezTo>
                <a:cubicBezTo>
                  <a:pt x="17843" y="16606"/>
                  <a:pt x="17847" y="16607"/>
                  <a:pt x="17859" y="1660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"/>
          <p:cNvSpPr/>
          <p:nvPr/>
        </p:nvSpPr>
        <p:spPr>
          <a:xfrm>
            <a:off x="6626160" y="5938920"/>
            <a:ext cx="85680" cy="71280"/>
          </a:xfrm>
          <a:custGeom>
            <a:avLst/>
            <a:gdLst/>
            <a:ahLst/>
            <a:rect l="l" t="t" r="r" b="b"/>
            <a:pathLst>
              <a:path w="238" h="201">
                <a:moveTo>
                  <a:pt x="18418" y="16495"/>
                </a:moveTo>
                <a:cubicBezTo>
                  <a:pt x="18407" y="16524"/>
                  <a:pt x="18433" y="16515"/>
                  <a:pt x="18461" y="16515"/>
                </a:cubicBezTo>
                <a:cubicBezTo>
                  <a:pt x="18501" y="16515"/>
                  <a:pt x="18540" y="16507"/>
                  <a:pt x="18580" y="16504"/>
                </a:cubicBezTo>
                <a:cubicBezTo>
                  <a:pt x="18600" y="16502"/>
                  <a:pt x="18605" y="16502"/>
                  <a:pt x="18617" y="16502"/>
                </a:cubicBezTo>
              </a:path>
              <a:path w="238" h="201">
                <a:moveTo>
                  <a:pt x="18475" y="16684"/>
                </a:moveTo>
                <a:cubicBezTo>
                  <a:pt x="18473" y="16709"/>
                  <a:pt x="18507" y="16689"/>
                  <a:pt x="18531" y="16679"/>
                </a:cubicBezTo>
                <a:cubicBezTo>
                  <a:pt x="18569" y="16664"/>
                  <a:pt x="18607" y="16649"/>
                  <a:pt x="18645" y="1663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"/>
          <p:cNvSpPr/>
          <p:nvPr/>
        </p:nvSpPr>
        <p:spPr>
          <a:xfrm>
            <a:off x="6932520" y="5581800"/>
            <a:ext cx="990720" cy="934920"/>
          </a:xfrm>
          <a:custGeom>
            <a:avLst/>
            <a:gdLst/>
            <a:ahLst/>
            <a:rect l="l" t="t" r="r" b="b"/>
            <a:pathLst>
              <a:path w="2749" h="2596">
                <a:moveTo>
                  <a:pt x="19640" y="16265"/>
                </a:moveTo>
                <a:cubicBezTo>
                  <a:pt x="19647" y="16247"/>
                  <a:pt x="19660" y="16224"/>
                  <a:pt x="19670" y="16211"/>
                </a:cubicBezTo>
                <a:cubicBezTo>
                  <a:pt x="19676" y="16203"/>
                  <a:pt x="19681" y="16207"/>
                  <a:pt x="19688" y="16191"/>
                </a:cubicBezTo>
                <a:cubicBezTo>
                  <a:pt x="19666" y="16166"/>
                  <a:pt x="19648" y="16153"/>
                  <a:pt x="19613" y="16147"/>
                </a:cubicBezTo>
                <a:cubicBezTo>
                  <a:pt x="19518" y="16130"/>
                  <a:pt x="19404" y="16156"/>
                  <a:pt x="19318" y="16195"/>
                </a:cubicBezTo>
                <a:cubicBezTo>
                  <a:pt x="19290" y="16208"/>
                  <a:pt x="19253" y="16224"/>
                  <a:pt x="19262" y="16259"/>
                </a:cubicBezTo>
                <a:cubicBezTo>
                  <a:pt x="19270" y="16291"/>
                  <a:pt x="19379" y="16316"/>
                  <a:pt x="19405" y="16330"/>
                </a:cubicBezTo>
                <a:cubicBezTo>
                  <a:pt x="19442" y="16350"/>
                  <a:pt x="19485" y="16380"/>
                  <a:pt x="19487" y="16427"/>
                </a:cubicBezTo>
                <a:cubicBezTo>
                  <a:pt x="19490" y="16492"/>
                  <a:pt x="19432" y="16560"/>
                  <a:pt x="19394" y="16607"/>
                </a:cubicBezTo>
                <a:cubicBezTo>
                  <a:pt x="19366" y="16641"/>
                  <a:pt x="19297" y="16692"/>
                  <a:pt x="19288" y="16736"/>
                </a:cubicBezTo>
                <a:cubicBezTo>
                  <a:pt x="19290" y="16741"/>
                  <a:pt x="19291" y="16747"/>
                  <a:pt x="19293" y="16752"/>
                </a:cubicBezTo>
                <a:cubicBezTo>
                  <a:pt x="19324" y="16764"/>
                  <a:pt x="19353" y="16771"/>
                  <a:pt x="19386" y="16774"/>
                </a:cubicBezTo>
                <a:cubicBezTo>
                  <a:pt x="19445" y="16780"/>
                  <a:pt x="19504" y="16780"/>
                  <a:pt x="19562" y="16786"/>
                </a:cubicBezTo>
                <a:cubicBezTo>
                  <a:pt x="19596" y="16790"/>
                  <a:pt x="19627" y="16793"/>
                  <a:pt x="19659" y="16789"/>
                </a:cubicBezTo>
                <a:cubicBezTo>
                  <a:pt x="19662" y="16772"/>
                  <a:pt x="19663" y="16754"/>
                  <a:pt x="19666" y="16736"/>
                </a:cubicBezTo>
                <a:cubicBezTo>
                  <a:pt x="19670" y="16717"/>
                  <a:pt x="19681" y="16701"/>
                  <a:pt x="19686" y="16684"/>
                </a:cubicBezTo>
                <a:cubicBezTo>
                  <a:pt x="19686" y="16681"/>
                  <a:pt x="19686" y="16677"/>
                  <a:pt x="19686" y="16674"/>
                </a:cubicBezTo>
              </a:path>
              <a:path w="2749" h="2596">
                <a:moveTo>
                  <a:pt x="19671" y="16135"/>
                </a:moveTo>
                <a:cubicBezTo>
                  <a:pt x="19658" y="16131"/>
                  <a:pt x="19654" y="16166"/>
                  <a:pt x="19651" y="16190"/>
                </a:cubicBezTo>
                <a:cubicBezTo>
                  <a:pt x="19644" y="16238"/>
                  <a:pt x="19635" y="16285"/>
                  <a:pt x="19630" y="16334"/>
                </a:cubicBezTo>
                <a:cubicBezTo>
                  <a:pt x="19629" y="16345"/>
                  <a:pt x="19628" y="16355"/>
                  <a:pt x="19627" y="16366"/>
                </a:cubicBezTo>
              </a:path>
              <a:path w="2749" h="2596">
                <a:moveTo>
                  <a:pt x="19374" y="17046"/>
                </a:moveTo>
                <a:cubicBezTo>
                  <a:pt x="19368" y="17076"/>
                  <a:pt x="19369" y="17098"/>
                  <a:pt x="19367" y="17128"/>
                </a:cubicBezTo>
                <a:cubicBezTo>
                  <a:pt x="19365" y="17163"/>
                  <a:pt x="19363" y="17203"/>
                  <a:pt x="19373" y="17238"/>
                </a:cubicBezTo>
                <a:cubicBezTo>
                  <a:pt x="19385" y="17279"/>
                  <a:pt x="19398" y="17277"/>
                  <a:pt x="19410" y="17243"/>
                </a:cubicBezTo>
              </a:path>
              <a:path w="2749" h="2596">
                <a:moveTo>
                  <a:pt x="19346" y="16955"/>
                </a:moveTo>
                <a:cubicBezTo>
                  <a:pt x="19333" y="16936"/>
                  <a:pt x="19318" y="16922"/>
                  <a:pt x="19328" y="16902"/>
                </a:cubicBezTo>
                <a:cubicBezTo>
                  <a:pt x="19339" y="16879"/>
                  <a:pt x="19367" y="16882"/>
                  <a:pt x="19388" y="16881"/>
                </a:cubicBezTo>
              </a:path>
              <a:path w="2749" h="2596">
                <a:moveTo>
                  <a:pt x="19592" y="17089"/>
                </a:moveTo>
                <a:cubicBezTo>
                  <a:pt x="19609" y="17100"/>
                  <a:pt x="19615" y="17092"/>
                  <a:pt x="19634" y="17083"/>
                </a:cubicBezTo>
                <a:cubicBezTo>
                  <a:pt x="19653" y="17074"/>
                  <a:pt x="19673" y="17067"/>
                  <a:pt x="19692" y="17059"/>
                </a:cubicBezTo>
                <a:cubicBezTo>
                  <a:pt x="19706" y="17054"/>
                  <a:pt x="19710" y="17052"/>
                  <a:pt x="19719" y="17048"/>
                </a:cubicBezTo>
              </a:path>
              <a:path w="2749" h="2596">
                <a:moveTo>
                  <a:pt x="19602" y="17201"/>
                </a:moveTo>
                <a:cubicBezTo>
                  <a:pt x="19600" y="17205"/>
                  <a:pt x="19599" y="17208"/>
                  <a:pt x="19597" y="17212"/>
                </a:cubicBezTo>
                <a:cubicBezTo>
                  <a:pt x="19625" y="17212"/>
                  <a:pt x="19639" y="17203"/>
                  <a:pt x="19665" y="17194"/>
                </a:cubicBezTo>
                <a:cubicBezTo>
                  <a:pt x="19693" y="17184"/>
                  <a:pt x="19719" y="17176"/>
                  <a:pt x="19746" y="17163"/>
                </a:cubicBezTo>
              </a:path>
              <a:path w="2749" h="2596">
                <a:moveTo>
                  <a:pt x="19977" y="17066"/>
                </a:moveTo>
                <a:cubicBezTo>
                  <a:pt x="19990" y="17088"/>
                  <a:pt x="20002" y="17111"/>
                  <a:pt x="20013" y="17134"/>
                </a:cubicBezTo>
                <a:cubicBezTo>
                  <a:pt x="20024" y="17158"/>
                  <a:pt x="20032" y="17183"/>
                  <a:pt x="20043" y="17207"/>
                </a:cubicBezTo>
                <a:cubicBezTo>
                  <a:pt x="20054" y="17202"/>
                  <a:pt x="20058" y="17200"/>
                  <a:pt x="20057" y="17188"/>
                </a:cubicBezTo>
              </a:path>
              <a:path w="2749" h="2596">
                <a:moveTo>
                  <a:pt x="19414" y="15784"/>
                </a:moveTo>
                <a:cubicBezTo>
                  <a:pt x="19421" y="15765"/>
                  <a:pt x="19421" y="15766"/>
                  <a:pt x="19409" y="15748"/>
                </a:cubicBezTo>
                <a:cubicBezTo>
                  <a:pt x="19385" y="15755"/>
                  <a:pt x="19369" y="15766"/>
                  <a:pt x="19352" y="15785"/>
                </a:cubicBezTo>
                <a:cubicBezTo>
                  <a:pt x="19328" y="15811"/>
                  <a:pt x="19311" y="15844"/>
                  <a:pt x="19302" y="15878"/>
                </a:cubicBezTo>
                <a:cubicBezTo>
                  <a:pt x="19294" y="15907"/>
                  <a:pt x="19293" y="15942"/>
                  <a:pt x="19319" y="15962"/>
                </a:cubicBezTo>
                <a:cubicBezTo>
                  <a:pt x="19348" y="15984"/>
                  <a:pt x="19385" y="15970"/>
                  <a:pt x="19413" y="15954"/>
                </a:cubicBezTo>
                <a:cubicBezTo>
                  <a:pt x="19451" y="15932"/>
                  <a:pt x="19481" y="15899"/>
                  <a:pt x="19499" y="15860"/>
                </a:cubicBezTo>
                <a:cubicBezTo>
                  <a:pt x="19515" y="15825"/>
                  <a:pt x="19520" y="15790"/>
                  <a:pt x="19518" y="15752"/>
                </a:cubicBezTo>
                <a:cubicBezTo>
                  <a:pt x="19517" y="15733"/>
                  <a:pt x="19509" y="15706"/>
                  <a:pt x="19495" y="15692"/>
                </a:cubicBezTo>
                <a:cubicBezTo>
                  <a:pt x="19483" y="15682"/>
                  <a:pt x="19476" y="15680"/>
                  <a:pt x="19491" y="15676"/>
                </a:cubicBezTo>
              </a:path>
              <a:path w="2749" h="2596">
                <a:moveTo>
                  <a:pt x="19529" y="15678"/>
                </a:moveTo>
                <a:cubicBezTo>
                  <a:pt x="19531" y="15704"/>
                  <a:pt x="19520" y="15726"/>
                  <a:pt x="19517" y="15752"/>
                </a:cubicBezTo>
                <a:cubicBezTo>
                  <a:pt x="19512" y="15796"/>
                  <a:pt x="19508" y="15842"/>
                  <a:pt x="19514" y="15887"/>
                </a:cubicBezTo>
                <a:cubicBezTo>
                  <a:pt x="19519" y="15925"/>
                  <a:pt x="19533" y="15968"/>
                  <a:pt x="19571" y="15984"/>
                </a:cubicBezTo>
                <a:cubicBezTo>
                  <a:pt x="19608" y="16000"/>
                  <a:pt x="19648" y="15978"/>
                  <a:pt x="19676" y="15956"/>
                </a:cubicBezTo>
                <a:cubicBezTo>
                  <a:pt x="19706" y="15932"/>
                  <a:pt x="19727" y="15901"/>
                  <a:pt x="19729" y="15862"/>
                </a:cubicBezTo>
                <a:cubicBezTo>
                  <a:pt x="19730" y="15830"/>
                  <a:pt x="19713" y="15805"/>
                  <a:pt x="19685" y="15793"/>
                </a:cubicBezTo>
                <a:cubicBezTo>
                  <a:pt x="19660" y="15782"/>
                  <a:pt x="19636" y="15780"/>
                  <a:pt x="19609" y="15781"/>
                </a:cubicBezTo>
              </a:path>
              <a:path w="2749" h="2596">
                <a:moveTo>
                  <a:pt x="20250" y="16477"/>
                </a:moveTo>
                <a:cubicBezTo>
                  <a:pt x="20250" y="16474"/>
                  <a:pt x="20247" y="16436"/>
                  <a:pt x="20252" y="16460"/>
                </a:cubicBezTo>
                <a:cubicBezTo>
                  <a:pt x="20243" y="16497"/>
                  <a:pt x="20234" y="16533"/>
                  <a:pt x="20231" y="16572"/>
                </a:cubicBezTo>
                <a:cubicBezTo>
                  <a:pt x="20227" y="16616"/>
                  <a:pt x="20221" y="16667"/>
                  <a:pt x="20238" y="16709"/>
                </a:cubicBezTo>
                <a:cubicBezTo>
                  <a:pt x="20251" y="16743"/>
                  <a:pt x="20284" y="16762"/>
                  <a:pt x="20320" y="16757"/>
                </a:cubicBezTo>
                <a:cubicBezTo>
                  <a:pt x="20366" y="16750"/>
                  <a:pt x="20383" y="16705"/>
                  <a:pt x="20400" y="16669"/>
                </a:cubicBezTo>
              </a:path>
              <a:path w="2749" h="2596">
                <a:moveTo>
                  <a:pt x="20278" y="16223"/>
                </a:moveTo>
                <a:cubicBezTo>
                  <a:pt x="20266" y="16201"/>
                  <a:pt x="20249" y="16178"/>
                  <a:pt x="20254" y="16151"/>
                </a:cubicBezTo>
                <a:cubicBezTo>
                  <a:pt x="20257" y="16132"/>
                  <a:pt x="20278" y="16131"/>
                  <a:pt x="20293" y="16130"/>
                </a:cubicBezTo>
                <a:cubicBezTo>
                  <a:pt x="20298" y="16130"/>
                  <a:pt x="20302" y="16129"/>
                  <a:pt x="20307" y="16129"/>
                </a:cubicBezTo>
              </a:path>
              <a:path w="2749" h="2596">
                <a:moveTo>
                  <a:pt x="20801" y="16527"/>
                </a:moveTo>
                <a:cubicBezTo>
                  <a:pt x="20792" y="16539"/>
                  <a:pt x="20790" y="16544"/>
                  <a:pt x="20779" y="16544"/>
                </a:cubicBezTo>
                <a:cubicBezTo>
                  <a:pt x="20793" y="16524"/>
                  <a:pt x="20804" y="16504"/>
                  <a:pt x="20816" y="16482"/>
                </a:cubicBezTo>
              </a:path>
              <a:path w="2749" h="2596">
                <a:moveTo>
                  <a:pt x="21191" y="16128"/>
                </a:moveTo>
                <a:cubicBezTo>
                  <a:pt x="21202" y="16149"/>
                  <a:pt x="21205" y="16181"/>
                  <a:pt x="21207" y="16207"/>
                </a:cubicBezTo>
                <a:cubicBezTo>
                  <a:pt x="21210" y="16254"/>
                  <a:pt x="21212" y="16300"/>
                  <a:pt x="21220" y="16346"/>
                </a:cubicBezTo>
                <a:cubicBezTo>
                  <a:pt x="21226" y="16377"/>
                  <a:pt x="21232" y="16414"/>
                  <a:pt x="21228" y="16446"/>
                </a:cubicBezTo>
                <a:cubicBezTo>
                  <a:pt x="21227" y="16450"/>
                  <a:pt x="21225" y="16453"/>
                  <a:pt x="21224" y="16457"/>
                </a:cubicBezTo>
              </a:path>
              <a:path w="2749" h="2596">
                <a:moveTo>
                  <a:pt x="21067" y="16567"/>
                </a:moveTo>
                <a:cubicBezTo>
                  <a:pt x="21065" y="16570"/>
                  <a:pt x="21062" y="16573"/>
                  <a:pt x="21060" y="16576"/>
                </a:cubicBezTo>
                <a:cubicBezTo>
                  <a:pt x="21066" y="16557"/>
                  <a:pt x="21097" y="16544"/>
                  <a:pt x="21121" y="16533"/>
                </a:cubicBezTo>
                <a:cubicBezTo>
                  <a:pt x="21163" y="16514"/>
                  <a:pt x="21198" y="16497"/>
                  <a:pt x="21245" y="16491"/>
                </a:cubicBezTo>
                <a:cubicBezTo>
                  <a:pt x="21269" y="16489"/>
                  <a:pt x="21275" y="16488"/>
                  <a:pt x="21290" y="16490"/>
                </a:cubicBezTo>
              </a:path>
              <a:path w="2749" h="2596">
                <a:moveTo>
                  <a:pt x="21122" y="16682"/>
                </a:moveTo>
                <a:cubicBezTo>
                  <a:pt x="21123" y="16705"/>
                  <a:pt x="21161" y="16687"/>
                  <a:pt x="21193" y="16684"/>
                </a:cubicBezTo>
                <a:cubicBezTo>
                  <a:pt x="21227" y="16681"/>
                  <a:pt x="21275" y="16682"/>
                  <a:pt x="21293" y="16717"/>
                </a:cubicBezTo>
                <a:cubicBezTo>
                  <a:pt x="21315" y="16760"/>
                  <a:pt x="21281" y="16816"/>
                  <a:pt x="21258" y="16851"/>
                </a:cubicBezTo>
                <a:cubicBezTo>
                  <a:pt x="21229" y="16896"/>
                  <a:pt x="21190" y="16935"/>
                  <a:pt x="21159" y="16979"/>
                </a:cubicBezTo>
                <a:cubicBezTo>
                  <a:pt x="21150" y="16995"/>
                  <a:pt x="21147" y="16998"/>
                  <a:pt x="21145" y="17009"/>
                </a:cubicBezTo>
                <a:cubicBezTo>
                  <a:pt x="21182" y="17011"/>
                  <a:pt x="21225" y="17009"/>
                  <a:pt x="21261" y="16997"/>
                </a:cubicBezTo>
                <a:cubicBezTo>
                  <a:pt x="21305" y="16982"/>
                  <a:pt x="21341" y="16952"/>
                  <a:pt x="21374" y="16922"/>
                </a:cubicBezTo>
              </a:path>
              <a:path w="2749" h="2596">
                <a:moveTo>
                  <a:pt x="21016" y="16074"/>
                </a:moveTo>
                <a:cubicBezTo>
                  <a:pt x="20975" y="16111"/>
                  <a:pt x="20933" y="16167"/>
                  <a:pt x="20912" y="16219"/>
                </a:cubicBezTo>
                <a:cubicBezTo>
                  <a:pt x="20870" y="16325"/>
                  <a:pt x="20847" y="16449"/>
                  <a:pt x="20846" y="16562"/>
                </a:cubicBezTo>
                <a:cubicBezTo>
                  <a:pt x="20844" y="16698"/>
                  <a:pt x="20871" y="16833"/>
                  <a:pt x="20949" y="16946"/>
                </a:cubicBezTo>
                <a:cubicBezTo>
                  <a:pt x="20988" y="17002"/>
                  <a:pt x="21020" y="17019"/>
                  <a:pt x="21082" y="17004"/>
                </a:cubicBezTo>
              </a:path>
              <a:path w="2749" h="2596">
                <a:moveTo>
                  <a:pt x="21457" y="16049"/>
                </a:moveTo>
                <a:cubicBezTo>
                  <a:pt x="21475" y="16026"/>
                  <a:pt x="21480" y="16028"/>
                  <a:pt x="21503" y="16015"/>
                </a:cubicBezTo>
                <a:cubicBezTo>
                  <a:pt x="21542" y="16059"/>
                  <a:pt x="21564" y="16094"/>
                  <a:pt x="21584" y="16157"/>
                </a:cubicBezTo>
                <a:cubicBezTo>
                  <a:pt x="21624" y="16283"/>
                  <a:pt x="21649" y="16417"/>
                  <a:pt x="21664" y="16548"/>
                </a:cubicBezTo>
                <a:cubicBezTo>
                  <a:pt x="21678" y="16671"/>
                  <a:pt x="21684" y="16792"/>
                  <a:pt x="21665" y="16915"/>
                </a:cubicBezTo>
                <a:cubicBezTo>
                  <a:pt x="21660" y="16948"/>
                  <a:pt x="21642" y="17025"/>
                  <a:pt x="21593" y="17026"/>
                </a:cubicBezTo>
                <a:cubicBezTo>
                  <a:pt x="21572" y="17018"/>
                  <a:pt x="21564" y="17014"/>
                  <a:pt x="21556" y="16999"/>
                </a:cubicBezTo>
              </a:path>
              <a:path w="2749" h="2596">
                <a:moveTo>
                  <a:pt x="21854" y="15998"/>
                </a:moveTo>
                <a:cubicBezTo>
                  <a:pt x="21866" y="15986"/>
                  <a:pt x="21868" y="15976"/>
                  <a:pt x="21867" y="15958"/>
                </a:cubicBezTo>
                <a:cubicBezTo>
                  <a:pt x="21858" y="15985"/>
                  <a:pt x="21853" y="16012"/>
                  <a:pt x="21851" y="16040"/>
                </a:cubicBezTo>
                <a:cubicBezTo>
                  <a:pt x="21848" y="16072"/>
                  <a:pt x="21846" y="16115"/>
                  <a:pt x="21859" y="16145"/>
                </a:cubicBezTo>
                <a:cubicBezTo>
                  <a:pt x="21872" y="16175"/>
                  <a:pt x="21894" y="16192"/>
                  <a:pt x="21925" y="16190"/>
                </a:cubicBezTo>
                <a:cubicBezTo>
                  <a:pt x="21960" y="16188"/>
                  <a:pt x="21980" y="16171"/>
                  <a:pt x="22006" y="16150"/>
                </a:cubicBezTo>
              </a:path>
              <a:path w="2749" h="2596">
                <a:moveTo>
                  <a:pt x="21884" y="15817"/>
                </a:moveTo>
                <a:cubicBezTo>
                  <a:pt x="21867" y="15789"/>
                  <a:pt x="21848" y="15756"/>
                  <a:pt x="21842" y="15723"/>
                </a:cubicBezTo>
                <a:cubicBezTo>
                  <a:pt x="21836" y="15693"/>
                  <a:pt x="21850" y="15696"/>
                  <a:pt x="21868" y="15709"/>
                </a:cubicBezTo>
              </a:path>
              <a:path w="2749" h="2596">
                <a:moveTo>
                  <a:pt x="20272" y="15732"/>
                </a:moveTo>
                <a:cubicBezTo>
                  <a:pt x="20233" y="15694"/>
                  <a:pt x="20195" y="15649"/>
                  <a:pt x="20157" y="15618"/>
                </a:cubicBezTo>
                <a:cubicBezTo>
                  <a:pt x="20141" y="15644"/>
                  <a:pt x="20125" y="15665"/>
                  <a:pt x="20113" y="15695"/>
                </a:cubicBezTo>
                <a:cubicBezTo>
                  <a:pt x="20085" y="15764"/>
                  <a:pt x="20063" y="15837"/>
                  <a:pt x="20046" y="15910"/>
                </a:cubicBezTo>
                <a:cubicBezTo>
                  <a:pt x="20008" y="16078"/>
                  <a:pt x="19992" y="16248"/>
                  <a:pt x="20015" y="16420"/>
                </a:cubicBezTo>
                <a:cubicBezTo>
                  <a:pt x="20040" y="16602"/>
                  <a:pt x="20106" y="16800"/>
                  <a:pt x="20215" y="16950"/>
                </a:cubicBezTo>
                <a:cubicBezTo>
                  <a:pt x="20247" y="16994"/>
                  <a:pt x="20299" y="17055"/>
                  <a:pt x="20361" y="17049"/>
                </a:cubicBezTo>
                <a:cubicBezTo>
                  <a:pt x="20425" y="17043"/>
                  <a:pt x="20472" y="16982"/>
                  <a:pt x="20499" y="16930"/>
                </a:cubicBezTo>
                <a:cubicBezTo>
                  <a:pt x="20580" y="16775"/>
                  <a:pt x="20587" y="16569"/>
                  <a:pt x="20584" y="16398"/>
                </a:cubicBezTo>
                <a:cubicBezTo>
                  <a:pt x="20581" y="16214"/>
                  <a:pt x="20563" y="16024"/>
                  <a:pt x="20510" y="15847"/>
                </a:cubicBezTo>
                <a:cubicBezTo>
                  <a:pt x="20480" y="15748"/>
                  <a:pt x="20407" y="15549"/>
                  <a:pt x="20291" y="15514"/>
                </a:cubicBezTo>
                <a:cubicBezTo>
                  <a:pt x="20246" y="15501"/>
                  <a:pt x="20254" y="15521"/>
                  <a:pt x="20220" y="15527"/>
                </a:cubicBezTo>
              </a:path>
              <a:path w="2749" h="2596">
                <a:moveTo>
                  <a:pt x="20237" y="18101"/>
                </a:moveTo>
                <a:cubicBezTo>
                  <a:pt x="20226" y="18020"/>
                  <a:pt x="20224" y="17943"/>
                  <a:pt x="20230" y="17862"/>
                </a:cubicBezTo>
                <a:cubicBezTo>
                  <a:pt x="20237" y="17769"/>
                  <a:pt x="20251" y="17676"/>
                  <a:pt x="20268" y="17585"/>
                </a:cubicBezTo>
                <a:cubicBezTo>
                  <a:pt x="20282" y="17512"/>
                  <a:pt x="20297" y="17440"/>
                  <a:pt x="20314" y="17368"/>
                </a:cubicBezTo>
                <a:cubicBezTo>
                  <a:pt x="20320" y="17344"/>
                  <a:pt x="20322" y="17338"/>
                  <a:pt x="20322" y="17323"/>
                </a:cubicBezTo>
                <a:cubicBezTo>
                  <a:pt x="20303" y="17352"/>
                  <a:pt x="20288" y="17381"/>
                  <a:pt x="20272" y="17414"/>
                </a:cubicBezTo>
                <a:cubicBezTo>
                  <a:pt x="20253" y="17453"/>
                  <a:pt x="20246" y="17468"/>
                  <a:pt x="20227" y="17507"/>
                </a:cubicBezTo>
                <a:cubicBezTo>
                  <a:pt x="20247" y="17466"/>
                  <a:pt x="20270" y="17427"/>
                  <a:pt x="20298" y="17391"/>
                </a:cubicBezTo>
                <a:cubicBezTo>
                  <a:pt x="20321" y="17362"/>
                  <a:pt x="20351" y="17320"/>
                  <a:pt x="20393" y="17324"/>
                </a:cubicBezTo>
                <a:cubicBezTo>
                  <a:pt x="20439" y="17328"/>
                  <a:pt x="20503" y="17428"/>
                  <a:pt x="20521" y="17454"/>
                </a:cubicBezTo>
                <a:cubicBezTo>
                  <a:pt x="20537" y="17480"/>
                  <a:pt x="20553" y="17507"/>
                  <a:pt x="20569" y="1753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"/>
          <p:cNvSpPr/>
          <p:nvPr/>
        </p:nvSpPr>
        <p:spPr>
          <a:xfrm>
            <a:off x="8094600" y="5919840"/>
            <a:ext cx="139680" cy="82440"/>
          </a:xfrm>
          <a:custGeom>
            <a:avLst/>
            <a:gdLst/>
            <a:ahLst/>
            <a:rect l="l" t="t" r="r" b="b"/>
            <a:pathLst>
              <a:path w="390" h="232">
                <a:moveTo>
                  <a:pt x="22529" y="16443"/>
                </a:moveTo>
                <a:cubicBezTo>
                  <a:pt x="22509" y="16461"/>
                  <a:pt x="22560" y="16455"/>
                  <a:pt x="22584" y="16457"/>
                </a:cubicBezTo>
                <a:cubicBezTo>
                  <a:pt x="22642" y="16463"/>
                  <a:pt x="22701" y="16468"/>
                  <a:pt x="22759" y="16475"/>
                </a:cubicBezTo>
                <a:cubicBezTo>
                  <a:pt x="22798" y="16480"/>
                  <a:pt x="22833" y="16485"/>
                  <a:pt x="22872" y="16484"/>
                </a:cubicBezTo>
              </a:path>
              <a:path w="390" h="232">
                <a:moveTo>
                  <a:pt x="22488" y="16633"/>
                </a:moveTo>
                <a:cubicBezTo>
                  <a:pt x="22484" y="16648"/>
                  <a:pt x="22482" y="16651"/>
                  <a:pt x="22485" y="16660"/>
                </a:cubicBezTo>
                <a:cubicBezTo>
                  <a:pt x="22527" y="16675"/>
                  <a:pt x="22561" y="16671"/>
                  <a:pt x="22606" y="16672"/>
                </a:cubicBezTo>
                <a:cubicBezTo>
                  <a:pt x="22668" y="16673"/>
                  <a:pt x="22730" y="16671"/>
                  <a:pt x="22792" y="1666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"/>
          <p:cNvSpPr/>
          <p:nvPr/>
        </p:nvSpPr>
        <p:spPr>
          <a:xfrm>
            <a:off x="8443800" y="5921280"/>
            <a:ext cx="168480" cy="233280"/>
          </a:xfrm>
          <a:custGeom>
            <a:avLst/>
            <a:gdLst/>
            <a:ahLst/>
            <a:rect l="l" t="t" r="r" b="b"/>
            <a:pathLst>
              <a:path w="467" h="648">
                <a:moveTo>
                  <a:pt x="23508" y="16501"/>
                </a:moveTo>
                <a:cubicBezTo>
                  <a:pt x="23535" y="16474"/>
                  <a:pt x="23548" y="16468"/>
                  <a:pt x="23590" y="16458"/>
                </a:cubicBezTo>
                <a:cubicBezTo>
                  <a:pt x="23659" y="16441"/>
                  <a:pt x="23730" y="16451"/>
                  <a:pt x="23788" y="16495"/>
                </a:cubicBezTo>
                <a:cubicBezTo>
                  <a:pt x="23858" y="16547"/>
                  <a:pt x="23853" y="16639"/>
                  <a:pt x="23820" y="16712"/>
                </a:cubicBezTo>
                <a:cubicBezTo>
                  <a:pt x="23771" y="16817"/>
                  <a:pt x="23677" y="16897"/>
                  <a:pt x="23588" y="16966"/>
                </a:cubicBezTo>
                <a:cubicBezTo>
                  <a:pt x="23545" y="16999"/>
                  <a:pt x="23501" y="17028"/>
                  <a:pt x="23455" y="17056"/>
                </a:cubicBezTo>
                <a:cubicBezTo>
                  <a:pt x="23522" y="17057"/>
                  <a:pt x="23588" y="17046"/>
                  <a:pt x="23656" y="17049"/>
                </a:cubicBezTo>
                <a:cubicBezTo>
                  <a:pt x="23733" y="17052"/>
                  <a:pt x="23801" y="17068"/>
                  <a:pt x="23874" y="17085"/>
                </a:cubicBezTo>
                <a:cubicBezTo>
                  <a:pt x="23899" y="17089"/>
                  <a:pt x="23906" y="17089"/>
                  <a:pt x="23921" y="1709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886560" y="0"/>
            <a:ext cx="142596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0000"/>
                </a:solidFill>
                <a:latin typeface="Arial"/>
              </a:rPr>
              <a:t>Fina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0080" y="914400"/>
            <a:ext cx="70934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hour, 50 minut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osed book.  (You can bring a calculator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 Proble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~3 problems from before midterm material.  Rest from after midter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6520" y="4405320"/>
            <a:ext cx="206280" cy="117360"/>
          </a:xfrm>
          <a:custGeom>
            <a:avLst/>
            <a:gdLst/>
            <a:ahLst/>
            <a:rect l="l" t="t" r="r" b="b"/>
            <a:pathLst>
              <a:path w="574" h="328">
                <a:moveTo>
                  <a:pt x="3906" y="12563"/>
                </a:moveTo>
                <a:lnTo>
                  <a:pt x="3906" y="12563"/>
                </a:lnTo>
              </a:path>
              <a:path w="574" h="328">
                <a:moveTo>
                  <a:pt x="4479" y="12236"/>
                </a:moveTo>
                <a:lnTo>
                  <a:pt x="4479" y="12236"/>
                </a:ln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187960" y="1467000"/>
            <a:ext cx="523800" cy="341280"/>
          </a:xfrm>
          <a:custGeom>
            <a:avLst/>
            <a:gdLst/>
            <a:ahLst/>
            <a:rect l="l" t="t" r="r" b="b"/>
            <a:pathLst>
              <a:path w="1455" h="945">
                <a:moveTo>
                  <a:pt x="14546" y="4141"/>
                </a:moveTo>
                <a:cubicBezTo>
                  <a:pt x="14545" y="4129"/>
                  <a:pt x="14544" y="4119"/>
                  <a:pt x="14542" y="4107"/>
                </a:cubicBezTo>
                <a:cubicBezTo>
                  <a:pt x="14525" y="4134"/>
                  <a:pt x="14512" y="4160"/>
                  <a:pt x="14501" y="4193"/>
                </a:cubicBezTo>
                <a:cubicBezTo>
                  <a:pt x="14475" y="4270"/>
                  <a:pt x="14460" y="4348"/>
                  <a:pt x="14443" y="4427"/>
                </a:cubicBezTo>
                <a:cubicBezTo>
                  <a:pt x="14418" y="4547"/>
                  <a:pt x="14400" y="4669"/>
                  <a:pt x="14420" y="4792"/>
                </a:cubicBezTo>
                <a:cubicBezTo>
                  <a:pt x="14430" y="4853"/>
                  <a:pt x="14448" y="4920"/>
                  <a:pt x="14500" y="4959"/>
                </a:cubicBezTo>
                <a:cubicBezTo>
                  <a:pt x="14535" y="4985"/>
                  <a:pt x="14575" y="4982"/>
                  <a:pt x="14604" y="4951"/>
                </a:cubicBezTo>
                <a:cubicBezTo>
                  <a:pt x="14624" y="4924"/>
                  <a:pt x="14631" y="4914"/>
                  <a:pt x="14639" y="4892"/>
                </a:cubicBezTo>
              </a:path>
              <a:path w="1455" h="945">
                <a:moveTo>
                  <a:pt x="15069" y="4168"/>
                </a:moveTo>
                <a:cubicBezTo>
                  <a:pt x="15088" y="4161"/>
                  <a:pt x="15098" y="4154"/>
                  <a:pt x="15117" y="4157"/>
                </a:cubicBezTo>
                <a:cubicBezTo>
                  <a:pt x="15107" y="4141"/>
                  <a:pt x="15095" y="4127"/>
                  <a:pt x="15080" y="4114"/>
                </a:cubicBezTo>
                <a:cubicBezTo>
                  <a:pt x="15057" y="4094"/>
                  <a:pt x="15023" y="4072"/>
                  <a:pt x="14991" y="4076"/>
                </a:cubicBezTo>
                <a:cubicBezTo>
                  <a:pt x="14968" y="4079"/>
                  <a:pt x="14947" y="4099"/>
                  <a:pt x="14934" y="4117"/>
                </a:cubicBezTo>
                <a:cubicBezTo>
                  <a:pt x="14919" y="4138"/>
                  <a:pt x="14908" y="4165"/>
                  <a:pt x="14902" y="4191"/>
                </a:cubicBezTo>
                <a:cubicBezTo>
                  <a:pt x="14897" y="4215"/>
                  <a:pt x="14901" y="4227"/>
                  <a:pt x="14923" y="4237"/>
                </a:cubicBezTo>
                <a:cubicBezTo>
                  <a:pt x="14944" y="4246"/>
                  <a:pt x="14960" y="4253"/>
                  <a:pt x="14973" y="4274"/>
                </a:cubicBezTo>
                <a:cubicBezTo>
                  <a:pt x="14986" y="4295"/>
                  <a:pt x="14992" y="4321"/>
                  <a:pt x="14987" y="4345"/>
                </a:cubicBezTo>
                <a:cubicBezTo>
                  <a:pt x="14983" y="4367"/>
                  <a:pt x="14968" y="4388"/>
                  <a:pt x="14948" y="4397"/>
                </a:cubicBezTo>
                <a:cubicBezTo>
                  <a:pt x="14924" y="4408"/>
                  <a:pt x="14901" y="4400"/>
                  <a:pt x="14877" y="4403"/>
                </a:cubicBezTo>
                <a:cubicBezTo>
                  <a:pt x="14851" y="4406"/>
                  <a:pt x="14847" y="4400"/>
                  <a:pt x="14849" y="4374"/>
                </a:cubicBezTo>
              </a:path>
              <a:path w="1455" h="945">
                <a:moveTo>
                  <a:pt x="15236" y="4169"/>
                </a:moveTo>
                <a:cubicBezTo>
                  <a:pt x="15252" y="4151"/>
                  <a:pt x="15266" y="4130"/>
                  <a:pt x="15292" y="4129"/>
                </a:cubicBezTo>
                <a:cubicBezTo>
                  <a:pt x="15317" y="4128"/>
                  <a:pt x="15326" y="4151"/>
                  <a:pt x="15327" y="4172"/>
                </a:cubicBezTo>
                <a:cubicBezTo>
                  <a:pt x="15330" y="4214"/>
                  <a:pt x="15313" y="4259"/>
                  <a:pt x="15301" y="4298"/>
                </a:cubicBezTo>
                <a:cubicBezTo>
                  <a:pt x="15292" y="4329"/>
                  <a:pt x="15279" y="4358"/>
                  <a:pt x="15266" y="4388"/>
                </a:cubicBezTo>
                <a:cubicBezTo>
                  <a:pt x="15287" y="4396"/>
                  <a:pt x="15303" y="4385"/>
                  <a:pt x="15326" y="4378"/>
                </a:cubicBezTo>
                <a:cubicBezTo>
                  <a:pt x="15355" y="4369"/>
                  <a:pt x="15388" y="4358"/>
                  <a:pt x="15417" y="4353"/>
                </a:cubicBezTo>
                <a:cubicBezTo>
                  <a:pt x="15433" y="4353"/>
                  <a:pt x="15437" y="4353"/>
                  <a:pt x="15447" y="4354"/>
                </a:cubicBezTo>
              </a:path>
              <a:path w="1455" h="945">
                <a:moveTo>
                  <a:pt x="15057" y="4758"/>
                </a:moveTo>
                <a:cubicBezTo>
                  <a:pt x="15058" y="4728"/>
                  <a:pt x="15065" y="4719"/>
                  <a:pt x="15083" y="4698"/>
                </a:cubicBezTo>
                <a:cubicBezTo>
                  <a:pt x="15093" y="4687"/>
                  <a:pt x="15118" y="4664"/>
                  <a:pt x="15132" y="4685"/>
                </a:cubicBezTo>
                <a:cubicBezTo>
                  <a:pt x="15152" y="4714"/>
                  <a:pt x="15134" y="4770"/>
                  <a:pt x="15125" y="4799"/>
                </a:cubicBezTo>
                <a:cubicBezTo>
                  <a:pt x="15112" y="4840"/>
                  <a:pt x="15095" y="4882"/>
                  <a:pt x="15076" y="4920"/>
                </a:cubicBezTo>
                <a:cubicBezTo>
                  <a:pt x="15073" y="4925"/>
                  <a:pt x="15071" y="4929"/>
                  <a:pt x="15068" y="4934"/>
                </a:cubicBezTo>
                <a:cubicBezTo>
                  <a:pt x="15105" y="4926"/>
                  <a:pt x="15141" y="4910"/>
                  <a:pt x="15177" y="4897"/>
                </a:cubicBezTo>
                <a:cubicBezTo>
                  <a:pt x="15243" y="4873"/>
                  <a:pt x="15311" y="4860"/>
                  <a:pt x="15380" y="4846"/>
                </a:cubicBezTo>
              </a:path>
              <a:path w="1455" h="945">
                <a:moveTo>
                  <a:pt x="15761" y="4292"/>
                </a:moveTo>
                <a:cubicBezTo>
                  <a:pt x="15757" y="4280"/>
                  <a:pt x="15752" y="4268"/>
                  <a:pt x="15747" y="4256"/>
                </a:cubicBezTo>
                <a:cubicBezTo>
                  <a:pt x="15771" y="4314"/>
                  <a:pt x="15793" y="4373"/>
                  <a:pt x="15808" y="4434"/>
                </a:cubicBezTo>
                <a:cubicBezTo>
                  <a:pt x="15837" y="4550"/>
                  <a:pt x="15857" y="4667"/>
                  <a:pt x="15864" y="4786"/>
                </a:cubicBezTo>
                <a:cubicBezTo>
                  <a:pt x="15868" y="4860"/>
                  <a:pt x="15870" y="4936"/>
                  <a:pt x="15849" y="5006"/>
                </a:cubicBezTo>
                <a:cubicBezTo>
                  <a:pt x="15845" y="5020"/>
                  <a:pt x="15844" y="5025"/>
                  <a:pt x="15836" y="500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78520" y="1562040"/>
            <a:ext cx="392040" cy="179280"/>
          </a:xfrm>
          <a:custGeom>
            <a:avLst/>
            <a:gdLst/>
            <a:ahLst/>
            <a:rect l="l" t="t" r="r" b="b"/>
            <a:pathLst>
              <a:path w="1089" h="498">
                <a:moveTo>
                  <a:pt x="16822" y="4425"/>
                </a:moveTo>
                <a:cubicBezTo>
                  <a:pt x="16796" y="4422"/>
                  <a:pt x="16791" y="4424"/>
                  <a:pt x="16768" y="4434"/>
                </a:cubicBezTo>
                <a:cubicBezTo>
                  <a:pt x="16728" y="4451"/>
                  <a:pt x="16702" y="4487"/>
                  <a:pt x="16676" y="4522"/>
                </a:cubicBezTo>
                <a:cubicBezTo>
                  <a:pt x="16641" y="4568"/>
                  <a:pt x="16612" y="4620"/>
                  <a:pt x="16606" y="4679"/>
                </a:cubicBezTo>
                <a:cubicBezTo>
                  <a:pt x="16601" y="4728"/>
                  <a:pt x="16621" y="4769"/>
                  <a:pt x="16671" y="4783"/>
                </a:cubicBezTo>
                <a:cubicBezTo>
                  <a:pt x="16725" y="4798"/>
                  <a:pt x="16788" y="4773"/>
                  <a:pt x="16833" y="4745"/>
                </a:cubicBezTo>
                <a:cubicBezTo>
                  <a:pt x="16878" y="4717"/>
                  <a:pt x="16918" y="4677"/>
                  <a:pt x="16934" y="4625"/>
                </a:cubicBezTo>
                <a:cubicBezTo>
                  <a:pt x="16946" y="4586"/>
                  <a:pt x="16935" y="4550"/>
                  <a:pt x="16906" y="4523"/>
                </a:cubicBezTo>
                <a:cubicBezTo>
                  <a:pt x="16892" y="4511"/>
                  <a:pt x="16888" y="4508"/>
                  <a:pt x="16876" y="4507"/>
                </a:cubicBezTo>
              </a:path>
              <a:path w="1089" h="498">
                <a:moveTo>
                  <a:pt x="17099" y="4383"/>
                </a:moveTo>
                <a:cubicBezTo>
                  <a:pt x="17099" y="4376"/>
                  <a:pt x="17094" y="4319"/>
                  <a:pt x="17100" y="4355"/>
                </a:cubicBezTo>
                <a:cubicBezTo>
                  <a:pt x="17096" y="4414"/>
                  <a:pt x="17102" y="4473"/>
                  <a:pt x="17106" y="4533"/>
                </a:cubicBezTo>
                <a:cubicBezTo>
                  <a:pt x="17112" y="4627"/>
                  <a:pt x="17124" y="4720"/>
                  <a:pt x="17135" y="4813"/>
                </a:cubicBezTo>
                <a:cubicBezTo>
                  <a:pt x="17136" y="4833"/>
                  <a:pt x="17131" y="4843"/>
                  <a:pt x="17146" y="4835"/>
                </a:cubicBezTo>
              </a:path>
              <a:path w="1089" h="498">
                <a:moveTo>
                  <a:pt x="17263" y="4449"/>
                </a:moveTo>
                <a:cubicBezTo>
                  <a:pt x="17263" y="4427"/>
                  <a:pt x="17264" y="4425"/>
                  <a:pt x="17252" y="4408"/>
                </a:cubicBezTo>
                <a:cubicBezTo>
                  <a:pt x="17240" y="4437"/>
                  <a:pt x="17220" y="4465"/>
                  <a:pt x="17206" y="4495"/>
                </a:cubicBezTo>
                <a:cubicBezTo>
                  <a:pt x="17180" y="4550"/>
                  <a:pt x="17142" y="4612"/>
                  <a:pt x="17136" y="4673"/>
                </a:cubicBezTo>
                <a:cubicBezTo>
                  <a:pt x="17132" y="4713"/>
                  <a:pt x="17160" y="4720"/>
                  <a:pt x="17193" y="4721"/>
                </a:cubicBezTo>
                <a:cubicBezTo>
                  <a:pt x="17240" y="4723"/>
                  <a:pt x="17294" y="4715"/>
                  <a:pt x="17341" y="4706"/>
                </a:cubicBezTo>
                <a:cubicBezTo>
                  <a:pt x="17374" y="4700"/>
                  <a:pt x="17406" y="4692"/>
                  <a:pt x="17439" y="4684"/>
                </a:cubicBezTo>
              </a:path>
              <a:path w="1089" h="498">
                <a:moveTo>
                  <a:pt x="17686" y="4773"/>
                </a:moveTo>
                <a:cubicBezTo>
                  <a:pt x="17689" y="4776"/>
                  <a:pt x="17691" y="4779"/>
                  <a:pt x="17694" y="4782"/>
                </a:cubicBezTo>
                <a:cubicBezTo>
                  <a:pt x="17686" y="4775"/>
                  <a:pt x="17657" y="4746"/>
                  <a:pt x="17658" y="4733"/>
                </a:cubicBezTo>
                <a:cubicBezTo>
                  <a:pt x="17661" y="4730"/>
                  <a:pt x="17665" y="4726"/>
                  <a:pt x="17668" y="472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24520" y="1460520"/>
            <a:ext cx="621000" cy="396720"/>
          </a:xfrm>
          <a:custGeom>
            <a:avLst/>
            <a:gdLst/>
            <a:ahLst/>
            <a:rect l="l" t="t" r="r" b="b"/>
            <a:pathLst>
              <a:path w="1725" h="1102">
                <a:moveTo>
                  <a:pt x="19320" y="4108"/>
                </a:moveTo>
                <a:cubicBezTo>
                  <a:pt x="19340" y="4107"/>
                  <a:pt x="19356" y="4100"/>
                  <a:pt x="19369" y="4095"/>
                </a:cubicBezTo>
                <a:cubicBezTo>
                  <a:pt x="19355" y="4079"/>
                  <a:pt x="19341" y="4071"/>
                  <a:pt x="19320" y="4064"/>
                </a:cubicBezTo>
                <a:cubicBezTo>
                  <a:pt x="19293" y="4055"/>
                  <a:pt x="19264" y="4056"/>
                  <a:pt x="19237" y="4062"/>
                </a:cubicBezTo>
                <a:cubicBezTo>
                  <a:pt x="19200" y="4070"/>
                  <a:pt x="19161" y="4089"/>
                  <a:pt x="19131" y="4113"/>
                </a:cubicBezTo>
                <a:cubicBezTo>
                  <a:pt x="19111" y="4129"/>
                  <a:pt x="19065" y="4173"/>
                  <a:pt x="19072" y="4204"/>
                </a:cubicBezTo>
                <a:cubicBezTo>
                  <a:pt x="19076" y="4223"/>
                  <a:pt x="19091" y="4234"/>
                  <a:pt x="19106" y="4246"/>
                </a:cubicBezTo>
                <a:cubicBezTo>
                  <a:pt x="19130" y="4266"/>
                  <a:pt x="19150" y="4287"/>
                  <a:pt x="19169" y="4312"/>
                </a:cubicBezTo>
                <a:cubicBezTo>
                  <a:pt x="19207" y="4363"/>
                  <a:pt x="19235" y="4434"/>
                  <a:pt x="19195" y="4492"/>
                </a:cubicBezTo>
                <a:cubicBezTo>
                  <a:pt x="19181" y="4513"/>
                  <a:pt x="19152" y="4528"/>
                  <a:pt x="19126" y="4524"/>
                </a:cubicBezTo>
                <a:cubicBezTo>
                  <a:pt x="19100" y="4520"/>
                  <a:pt x="19091" y="4509"/>
                  <a:pt x="19094" y="4480"/>
                </a:cubicBezTo>
                <a:cubicBezTo>
                  <a:pt x="19096" y="4471"/>
                  <a:pt x="19098" y="4463"/>
                  <a:pt x="19100" y="4454"/>
                </a:cubicBezTo>
              </a:path>
              <a:path w="1725" h="1102">
                <a:moveTo>
                  <a:pt x="19450" y="4196"/>
                </a:moveTo>
                <a:cubicBezTo>
                  <a:pt x="19469" y="4161"/>
                  <a:pt x="19484" y="4139"/>
                  <a:pt x="19523" y="4128"/>
                </a:cubicBezTo>
                <a:cubicBezTo>
                  <a:pt x="19555" y="4119"/>
                  <a:pt x="19592" y="4123"/>
                  <a:pt x="19618" y="4147"/>
                </a:cubicBezTo>
                <a:cubicBezTo>
                  <a:pt x="19651" y="4178"/>
                  <a:pt x="19652" y="4230"/>
                  <a:pt x="19642" y="4271"/>
                </a:cubicBezTo>
                <a:cubicBezTo>
                  <a:pt x="19629" y="4326"/>
                  <a:pt x="19597" y="4375"/>
                  <a:pt x="19562" y="4419"/>
                </a:cubicBezTo>
                <a:cubicBezTo>
                  <a:pt x="19559" y="4423"/>
                  <a:pt x="19555" y="4427"/>
                  <a:pt x="19552" y="4431"/>
                </a:cubicBezTo>
                <a:cubicBezTo>
                  <a:pt x="19582" y="4419"/>
                  <a:pt x="19610" y="4403"/>
                  <a:pt x="19640" y="4390"/>
                </a:cubicBezTo>
                <a:cubicBezTo>
                  <a:pt x="19650" y="4386"/>
                  <a:pt x="19661" y="4381"/>
                  <a:pt x="19671" y="4377"/>
                </a:cubicBezTo>
              </a:path>
              <a:path w="1725" h="1102">
                <a:moveTo>
                  <a:pt x="19826" y="4348"/>
                </a:moveTo>
                <a:cubicBezTo>
                  <a:pt x="19827" y="4330"/>
                  <a:pt x="19823" y="4311"/>
                  <a:pt x="19825" y="4294"/>
                </a:cubicBezTo>
                <a:cubicBezTo>
                  <a:pt x="19827" y="4270"/>
                  <a:pt x="19841" y="4260"/>
                  <a:pt x="19862" y="4250"/>
                </a:cubicBezTo>
                <a:cubicBezTo>
                  <a:pt x="19868" y="4248"/>
                  <a:pt x="19873" y="4245"/>
                  <a:pt x="19879" y="4243"/>
                </a:cubicBezTo>
              </a:path>
              <a:path w="1725" h="1102">
                <a:moveTo>
                  <a:pt x="20224" y="4138"/>
                </a:moveTo>
                <a:cubicBezTo>
                  <a:pt x="20224" y="4118"/>
                  <a:pt x="20206" y="4132"/>
                  <a:pt x="20194" y="4148"/>
                </a:cubicBezTo>
                <a:cubicBezTo>
                  <a:pt x="20180" y="4167"/>
                  <a:pt x="20177" y="4187"/>
                  <a:pt x="20183" y="4209"/>
                </a:cubicBezTo>
                <a:cubicBezTo>
                  <a:pt x="20191" y="4238"/>
                  <a:pt x="20214" y="4261"/>
                  <a:pt x="20234" y="4283"/>
                </a:cubicBezTo>
                <a:cubicBezTo>
                  <a:pt x="20255" y="4306"/>
                  <a:pt x="20275" y="4329"/>
                  <a:pt x="20285" y="4360"/>
                </a:cubicBezTo>
                <a:cubicBezTo>
                  <a:pt x="20291" y="4379"/>
                  <a:pt x="20293" y="4406"/>
                  <a:pt x="20276" y="4420"/>
                </a:cubicBezTo>
                <a:cubicBezTo>
                  <a:pt x="20259" y="4435"/>
                  <a:pt x="20235" y="4426"/>
                  <a:pt x="20218" y="4415"/>
                </a:cubicBezTo>
                <a:cubicBezTo>
                  <a:pt x="20190" y="4396"/>
                  <a:pt x="20169" y="4369"/>
                  <a:pt x="20151" y="4341"/>
                </a:cubicBezTo>
                <a:cubicBezTo>
                  <a:pt x="20147" y="4334"/>
                  <a:pt x="20144" y="4328"/>
                  <a:pt x="20140" y="4321"/>
                </a:cubicBezTo>
              </a:path>
              <a:path w="1725" h="1102">
                <a:moveTo>
                  <a:pt x="20184" y="4174"/>
                </a:moveTo>
                <a:cubicBezTo>
                  <a:pt x="20203" y="4155"/>
                  <a:pt x="20215" y="4140"/>
                  <a:pt x="20240" y="4130"/>
                </a:cubicBezTo>
                <a:cubicBezTo>
                  <a:pt x="20270" y="4119"/>
                  <a:pt x="20294" y="4114"/>
                  <a:pt x="20327" y="4114"/>
                </a:cubicBezTo>
                <a:cubicBezTo>
                  <a:pt x="20352" y="4114"/>
                  <a:pt x="20360" y="4114"/>
                  <a:pt x="20377" y="4116"/>
                </a:cubicBezTo>
              </a:path>
              <a:path w="1725" h="1102">
                <a:moveTo>
                  <a:pt x="20593" y="4066"/>
                </a:moveTo>
                <a:cubicBezTo>
                  <a:pt x="20589" y="4103"/>
                  <a:pt x="20587" y="4140"/>
                  <a:pt x="20583" y="4177"/>
                </a:cubicBezTo>
                <a:cubicBezTo>
                  <a:pt x="20577" y="4228"/>
                  <a:pt x="20567" y="4293"/>
                  <a:pt x="20587" y="4343"/>
                </a:cubicBezTo>
                <a:cubicBezTo>
                  <a:pt x="20605" y="4388"/>
                  <a:pt x="20639" y="4408"/>
                  <a:pt x="20681" y="4424"/>
                </a:cubicBezTo>
              </a:path>
              <a:path w="1725" h="1102">
                <a:moveTo>
                  <a:pt x="18997" y="4736"/>
                </a:moveTo>
                <a:cubicBezTo>
                  <a:pt x="18981" y="4735"/>
                  <a:pt x="18920" y="4739"/>
                  <a:pt x="18988" y="4734"/>
                </a:cubicBezTo>
                <a:cubicBezTo>
                  <a:pt x="19084" y="4727"/>
                  <a:pt x="19180" y="4723"/>
                  <a:pt x="19275" y="4715"/>
                </a:cubicBezTo>
                <a:cubicBezTo>
                  <a:pt x="19562" y="4691"/>
                  <a:pt x="19847" y="4647"/>
                  <a:pt x="20133" y="4617"/>
                </a:cubicBezTo>
                <a:cubicBezTo>
                  <a:pt x="20195" y="4611"/>
                  <a:pt x="20273" y="4593"/>
                  <a:pt x="20336" y="4604"/>
                </a:cubicBezTo>
                <a:cubicBezTo>
                  <a:pt x="20374" y="4610"/>
                  <a:pt x="20384" y="4627"/>
                  <a:pt x="20406" y="4645"/>
                </a:cubicBezTo>
              </a:path>
              <a:path w="1725" h="1102">
                <a:moveTo>
                  <a:pt x="19767" y="4848"/>
                </a:moveTo>
                <a:cubicBezTo>
                  <a:pt x="19749" y="4845"/>
                  <a:pt x="19747" y="4846"/>
                  <a:pt x="19731" y="4839"/>
                </a:cubicBezTo>
                <a:cubicBezTo>
                  <a:pt x="19763" y="4834"/>
                  <a:pt x="19795" y="4830"/>
                  <a:pt x="19828" y="4831"/>
                </a:cubicBezTo>
                <a:cubicBezTo>
                  <a:pt x="19882" y="4833"/>
                  <a:pt x="19946" y="4838"/>
                  <a:pt x="19991" y="4873"/>
                </a:cubicBezTo>
                <a:cubicBezTo>
                  <a:pt x="20036" y="4908"/>
                  <a:pt x="20034" y="4958"/>
                  <a:pt x="20015" y="5006"/>
                </a:cubicBezTo>
                <a:cubicBezTo>
                  <a:pt x="19995" y="5054"/>
                  <a:pt x="19960" y="5094"/>
                  <a:pt x="19925" y="5131"/>
                </a:cubicBezTo>
                <a:cubicBezTo>
                  <a:pt x="19911" y="5145"/>
                  <a:pt x="19908" y="5148"/>
                  <a:pt x="19900" y="5156"/>
                </a:cubicBezTo>
                <a:cubicBezTo>
                  <a:pt x="19933" y="5157"/>
                  <a:pt x="19966" y="5145"/>
                  <a:pt x="20000" y="5141"/>
                </a:cubicBezTo>
                <a:cubicBezTo>
                  <a:pt x="20054" y="5135"/>
                  <a:pt x="20111" y="5130"/>
                  <a:pt x="20164" y="5116"/>
                </a:cubicBezTo>
                <a:cubicBezTo>
                  <a:pt x="20176" y="5112"/>
                  <a:pt x="20187" y="5108"/>
                  <a:pt x="20199" y="510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675560" y="1473120"/>
            <a:ext cx="890640" cy="223920"/>
          </a:xfrm>
          <a:custGeom>
            <a:avLst/>
            <a:gdLst/>
            <a:ahLst/>
            <a:rect l="l" t="t" r="r" b="b"/>
            <a:pathLst>
              <a:path w="2475" h="620">
                <a:moveTo>
                  <a:pt x="21331" y="4588"/>
                </a:moveTo>
                <a:cubicBezTo>
                  <a:pt x="21327" y="4584"/>
                  <a:pt x="21324" y="4579"/>
                  <a:pt x="21320" y="4575"/>
                </a:cubicBezTo>
                <a:cubicBezTo>
                  <a:pt x="21350" y="4575"/>
                  <a:pt x="21381" y="4574"/>
                  <a:pt x="21411" y="4578"/>
                </a:cubicBezTo>
                <a:cubicBezTo>
                  <a:pt x="21460" y="4585"/>
                  <a:pt x="21509" y="4584"/>
                  <a:pt x="21558" y="4590"/>
                </a:cubicBezTo>
                <a:cubicBezTo>
                  <a:pt x="21581" y="4594"/>
                  <a:pt x="21586" y="4594"/>
                  <a:pt x="21600" y="4599"/>
                </a:cubicBezTo>
              </a:path>
              <a:path w="2475" h="620">
                <a:moveTo>
                  <a:pt x="21397" y="4707"/>
                </a:moveTo>
                <a:cubicBezTo>
                  <a:pt x="21380" y="4710"/>
                  <a:pt x="21377" y="4711"/>
                  <a:pt x="21367" y="4712"/>
                </a:cubicBezTo>
                <a:cubicBezTo>
                  <a:pt x="21385" y="4699"/>
                  <a:pt x="21429" y="4696"/>
                  <a:pt x="21456" y="4693"/>
                </a:cubicBezTo>
                <a:cubicBezTo>
                  <a:pt x="21526" y="4685"/>
                  <a:pt x="21594" y="4672"/>
                  <a:pt x="21663" y="4657"/>
                </a:cubicBezTo>
              </a:path>
              <a:path w="2475" h="620">
                <a:moveTo>
                  <a:pt x="22159" y="4142"/>
                </a:moveTo>
                <a:cubicBezTo>
                  <a:pt x="22164" y="4119"/>
                  <a:pt x="22178" y="4114"/>
                  <a:pt x="22203" y="4108"/>
                </a:cubicBezTo>
                <a:cubicBezTo>
                  <a:pt x="22224" y="4103"/>
                  <a:pt x="22258" y="4099"/>
                  <a:pt x="22275" y="4118"/>
                </a:cubicBezTo>
                <a:cubicBezTo>
                  <a:pt x="22299" y="4146"/>
                  <a:pt x="22269" y="4194"/>
                  <a:pt x="22254" y="4217"/>
                </a:cubicBezTo>
                <a:cubicBezTo>
                  <a:pt x="22223" y="4265"/>
                  <a:pt x="22185" y="4307"/>
                  <a:pt x="22151" y="4353"/>
                </a:cubicBezTo>
                <a:cubicBezTo>
                  <a:pt x="22139" y="4369"/>
                  <a:pt x="22099" y="4410"/>
                  <a:pt x="22123" y="4431"/>
                </a:cubicBezTo>
                <a:cubicBezTo>
                  <a:pt x="22146" y="4451"/>
                  <a:pt x="22206" y="4442"/>
                  <a:pt x="22232" y="4437"/>
                </a:cubicBezTo>
                <a:cubicBezTo>
                  <a:pt x="22270" y="4427"/>
                  <a:pt x="22284" y="4423"/>
                  <a:pt x="22308" y="4411"/>
                </a:cubicBezTo>
              </a:path>
              <a:path w="2475" h="620">
                <a:moveTo>
                  <a:pt x="22662" y="4093"/>
                </a:moveTo>
                <a:cubicBezTo>
                  <a:pt x="22619" y="4108"/>
                  <a:pt x="22599" y="4129"/>
                  <a:pt x="22570" y="4166"/>
                </a:cubicBezTo>
                <a:cubicBezTo>
                  <a:pt x="22534" y="4212"/>
                  <a:pt x="22493" y="4278"/>
                  <a:pt x="22500" y="4339"/>
                </a:cubicBezTo>
                <a:cubicBezTo>
                  <a:pt x="22503" y="4369"/>
                  <a:pt x="22529" y="4389"/>
                  <a:pt x="22558" y="4387"/>
                </a:cubicBezTo>
                <a:cubicBezTo>
                  <a:pt x="22579" y="4386"/>
                  <a:pt x="22600" y="4369"/>
                  <a:pt x="22606" y="4349"/>
                </a:cubicBezTo>
                <a:cubicBezTo>
                  <a:pt x="22612" y="4328"/>
                  <a:pt x="22594" y="4311"/>
                  <a:pt x="22577" y="4301"/>
                </a:cubicBezTo>
                <a:cubicBezTo>
                  <a:pt x="22561" y="4292"/>
                  <a:pt x="22505" y="4285"/>
                  <a:pt x="22524" y="4288"/>
                </a:cubicBezTo>
                <a:cubicBezTo>
                  <a:pt x="22531" y="4288"/>
                  <a:pt x="22538" y="4289"/>
                  <a:pt x="22545" y="4289"/>
                </a:cubicBezTo>
              </a:path>
              <a:path w="2475" h="620">
                <a:moveTo>
                  <a:pt x="22877" y="4277"/>
                </a:moveTo>
                <a:cubicBezTo>
                  <a:pt x="22879" y="4256"/>
                  <a:pt x="22873" y="4244"/>
                  <a:pt x="22898" y="4247"/>
                </a:cubicBezTo>
                <a:cubicBezTo>
                  <a:pt x="22912" y="4249"/>
                  <a:pt x="22917" y="4250"/>
                  <a:pt x="22927" y="4252"/>
                </a:cubicBezTo>
              </a:path>
              <a:path w="2475" h="620">
                <a:moveTo>
                  <a:pt x="23101" y="4247"/>
                </a:moveTo>
                <a:cubicBezTo>
                  <a:pt x="23097" y="4235"/>
                  <a:pt x="23097" y="4232"/>
                  <a:pt x="23095" y="4224"/>
                </a:cubicBezTo>
                <a:cubicBezTo>
                  <a:pt x="23093" y="4244"/>
                  <a:pt x="23095" y="4264"/>
                  <a:pt x="23094" y="4284"/>
                </a:cubicBezTo>
                <a:cubicBezTo>
                  <a:pt x="23092" y="4320"/>
                  <a:pt x="23090" y="4355"/>
                  <a:pt x="23097" y="4391"/>
                </a:cubicBezTo>
                <a:cubicBezTo>
                  <a:pt x="23103" y="4421"/>
                  <a:pt x="23113" y="4450"/>
                  <a:pt x="23132" y="4474"/>
                </a:cubicBezTo>
                <a:cubicBezTo>
                  <a:pt x="23140" y="4485"/>
                  <a:pt x="23150" y="4495"/>
                  <a:pt x="23159" y="4505"/>
                </a:cubicBezTo>
                <a:cubicBezTo>
                  <a:pt x="23137" y="4508"/>
                  <a:pt x="23119" y="4504"/>
                  <a:pt x="23098" y="4496"/>
                </a:cubicBezTo>
                <a:cubicBezTo>
                  <a:pt x="23074" y="4487"/>
                  <a:pt x="23060" y="4468"/>
                  <a:pt x="23054" y="4444"/>
                </a:cubicBezTo>
                <a:cubicBezTo>
                  <a:pt x="23051" y="4425"/>
                  <a:pt x="23050" y="4419"/>
                  <a:pt x="23053" y="4406"/>
                </a:cubicBezTo>
              </a:path>
              <a:path w="2475" h="620">
                <a:moveTo>
                  <a:pt x="23126" y="4196"/>
                </a:moveTo>
                <a:cubicBezTo>
                  <a:pt x="23147" y="4171"/>
                  <a:pt x="23169" y="4168"/>
                  <a:pt x="23203" y="4164"/>
                </a:cubicBezTo>
                <a:cubicBezTo>
                  <a:pt x="23258" y="4158"/>
                  <a:pt x="23309" y="4161"/>
                  <a:pt x="23363" y="4170"/>
                </a:cubicBezTo>
                <a:cubicBezTo>
                  <a:pt x="23395" y="4175"/>
                  <a:pt x="23423" y="4182"/>
                  <a:pt x="23453" y="4194"/>
                </a:cubicBezTo>
              </a:path>
              <a:path w="2475" h="620">
                <a:moveTo>
                  <a:pt x="23747" y="4109"/>
                </a:moveTo>
                <a:cubicBezTo>
                  <a:pt x="23763" y="4124"/>
                  <a:pt x="23757" y="4140"/>
                  <a:pt x="23757" y="4164"/>
                </a:cubicBezTo>
                <a:cubicBezTo>
                  <a:pt x="23756" y="4217"/>
                  <a:pt x="23759" y="4269"/>
                  <a:pt x="23764" y="4322"/>
                </a:cubicBezTo>
                <a:cubicBezTo>
                  <a:pt x="23769" y="4378"/>
                  <a:pt x="23778" y="4432"/>
                  <a:pt x="23787" y="4488"/>
                </a:cubicBezTo>
                <a:cubicBezTo>
                  <a:pt x="23790" y="4504"/>
                  <a:pt x="23791" y="4521"/>
                  <a:pt x="23794" y="453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47560" y="2340000"/>
            <a:ext cx="1179720" cy="39600"/>
          </a:xfrm>
          <a:custGeom>
            <a:avLst/>
            <a:gdLst/>
            <a:ahLst/>
            <a:rect l="l" t="t" r="r" b="b"/>
            <a:pathLst>
              <a:path w="3276" h="111">
                <a:moveTo>
                  <a:pt x="1549" y="6608"/>
                </a:moveTo>
                <a:cubicBezTo>
                  <a:pt x="1540" y="6591"/>
                  <a:pt x="1531" y="6574"/>
                  <a:pt x="1523" y="6558"/>
                </a:cubicBezTo>
                <a:cubicBezTo>
                  <a:pt x="1553" y="6552"/>
                  <a:pt x="1582" y="6540"/>
                  <a:pt x="1616" y="6537"/>
                </a:cubicBezTo>
                <a:cubicBezTo>
                  <a:pt x="2229" y="6491"/>
                  <a:pt x="2856" y="6501"/>
                  <a:pt x="3470" y="6509"/>
                </a:cubicBezTo>
                <a:cubicBezTo>
                  <a:pt x="3869" y="6514"/>
                  <a:pt x="4264" y="6502"/>
                  <a:pt x="4662" y="6498"/>
                </a:cubicBezTo>
                <a:cubicBezTo>
                  <a:pt x="4704" y="6498"/>
                  <a:pt x="4742" y="6502"/>
                  <a:pt x="4783" y="6509"/>
                </a:cubicBezTo>
                <a:cubicBezTo>
                  <a:pt x="4797" y="6516"/>
                  <a:pt x="4803" y="6518"/>
                  <a:pt x="4784" y="651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605040" y="2881440"/>
            <a:ext cx="3749760" cy="479160"/>
          </a:xfrm>
          <a:custGeom>
            <a:avLst/>
            <a:gdLst/>
            <a:ahLst/>
            <a:rect l="l" t="t" r="r" b="b"/>
            <a:pathLst>
              <a:path w="10415" h="1330">
                <a:moveTo>
                  <a:pt x="13968" y="8074"/>
                </a:moveTo>
                <a:cubicBezTo>
                  <a:pt x="13981" y="8074"/>
                  <a:pt x="13958" y="8074"/>
                  <a:pt x="13971" y="8074"/>
                </a:cubicBezTo>
                <a:cubicBezTo>
                  <a:pt x="14121" y="8070"/>
                  <a:pt x="14271" y="8069"/>
                  <a:pt x="14422" y="8058"/>
                </a:cubicBezTo>
                <a:cubicBezTo>
                  <a:pt x="14715" y="8037"/>
                  <a:pt x="15003" y="8039"/>
                  <a:pt x="15297" y="8038"/>
                </a:cubicBezTo>
                <a:cubicBezTo>
                  <a:pt x="15862" y="8036"/>
                  <a:pt x="16426" y="8007"/>
                  <a:pt x="16991" y="8005"/>
                </a:cubicBezTo>
                <a:cubicBezTo>
                  <a:pt x="17654" y="8003"/>
                  <a:pt x="18314" y="8050"/>
                  <a:pt x="18976" y="8063"/>
                </a:cubicBezTo>
                <a:cubicBezTo>
                  <a:pt x="19440" y="8072"/>
                  <a:pt x="19920" y="8025"/>
                  <a:pt x="20382" y="8069"/>
                </a:cubicBezTo>
                <a:cubicBezTo>
                  <a:pt x="20398" y="8070"/>
                  <a:pt x="20414" y="8079"/>
                  <a:pt x="20428" y="8081"/>
                </a:cubicBezTo>
                <a:cubicBezTo>
                  <a:pt x="20401" y="8079"/>
                  <a:pt x="20377" y="8079"/>
                  <a:pt x="20350" y="8075"/>
                </a:cubicBezTo>
              </a:path>
              <a:path w="10415" h="1330">
                <a:moveTo>
                  <a:pt x="10154" y="9331"/>
                </a:moveTo>
                <a:cubicBezTo>
                  <a:pt x="10156" y="9325"/>
                  <a:pt x="10158" y="9305"/>
                  <a:pt x="10158" y="9281"/>
                </a:cubicBezTo>
                <a:cubicBezTo>
                  <a:pt x="10157" y="9237"/>
                  <a:pt x="10158" y="9191"/>
                  <a:pt x="10160" y="9147"/>
                </a:cubicBezTo>
                <a:cubicBezTo>
                  <a:pt x="10163" y="9077"/>
                  <a:pt x="10165" y="9006"/>
                  <a:pt x="10168" y="8936"/>
                </a:cubicBezTo>
                <a:cubicBezTo>
                  <a:pt x="10172" y="8855"/>
                  <a:pt x="10178" y="8773"/>
                  <a:pt x="10183" y="8692"/>
                </a:cubicBezTo>
                <a:cubicBezTo>
                  <a:pt x="10188" y="8611"/>
                  <a:pt x="10203" y="8519"/>
                  <a:pt x="10186" y="8439"/>
                </a:cubicBezTo>
                <a:cubicBezTo>
                  <a:pt x="10184" y="8436"/>
                  <a:pt x="10183" y="8432"/>
                  <a:pt x="10181" y="8429"/>
                </a:cubicBezTo>
                <a:cubicBezTo>
                  <a:pt x="10157" y="8444"/>
                  <a:pt x="10140" y="8457"/>
                  <a:pt x="10118" y="8477"/>
                </a:cubicBezTo>
                <a:cubicBezTo>
                  <a:pt x="10087" y="8506"/>
                  <a:pt x="10060" y="8533"/>
                  <a:pt x="10023" y="8552"/>
                </a:cubicBezTo>
                <a:cubicBezTo>
                  <a:pt x="10011" y="8510"/>
                  <a:pt x="10023" y="8475"/>
                  <a:pt x="10034" y="8432"/>
                </a:cubicBezTo>
                <a:cubicBezTo>
                  <a:pt x="10058" y="8340"/>
                  <a:pt x="10092" y="8254"/>
                  <a:pt x="10140" y="8172"/>
                </a:cubicBezTo>
                <a:cubicBezTo>
                  <a:pt x="10158" y="8192"/>
                  <a:pt x="10163" y="8201"/>
                  <a:pt x="10172" y="8235"/>
                </a:cubicBezTo>
                <a:cubicBezTo>
                  <a:pt x="10189" y="8297"/>
                  <a:pt x="10202" y="8359"/>
                  <a:pt x="10229" y="8418"/>
                </a:cubicBezTo>
                <a:cubicBezTo>
                  <a:pt x="10236" y="8432"/>
                  <a:pt x="10237" y="8436"/>
                  <a:pt x="10243" y="844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905040" y="2943360"/>
            <a:ext cx="190440" cy="372960"/>
          </a:xfrm>
          <a:custGeom>
            <a:avLst/>
            <a:gdLst/>
            <a:ahLst/>
            <a:rect l="l" t="t" r="r" b="b"/>
            <a:pathLst>
              <a:path w="530" h="1036">
                <a:moveTo>
                  <a:pt x="2710" y="9207"/>
                </a:moveTo>
                <a:cubicBezTo>
                  <a:pt x="2696" y="9211"/>
                  <a:pt x="2692" y="9212"/>
                  <a:pt x="2683" y="9210"/>
                </a:cubicBezTo>
                <a:cubicBezTo>
                  <a:pt x="2676" y="9181"/>
                  <a:pt x="2672" y="9174"/>
                  <a:pt x="2677" y="9139"/>
                </a:cubicBezTo>
                <a:cubicBezTo>
                  <a:pt x="2689" y="9062"/>
                  <a:pt x="2704" y="8986"/>
                  <a:pt x="2716" y="8910"/>
                </a:cubicBezTo>
                <a:cubicBezTo>
                  <a:pt x="2736" y="8787"/>
                  <a:pt x="2752" y="8662"/>
                  <a:pt x="2754" y="8537"/>
                </a:cubicBezTo>
                <a:cubicBezTo>
                  <a:pt x="2755" y="8481"/>
                  <a:pt x="2757" y="8415"/>
                  <a:pt x="2737" y="8362"/>
                </a:cubicBezTo>
                <a:cubicBezTo>
                  <a:pt x="2722" y="8321"/>
                  <a:pt x="2693" y="8322"/>
                  <a:pt x="2657" y="8336"/>
                </a:cubicBezTo>
                <a:cubicBezTo>
                  <a:pt x="2615" y="8352"/>
                  <a:pt x="2579" y="8390"/>
                  <a:pt x="2545" y="8418"/>
                </a:cubicBezTo>
                <a:cubicBezTo>
                  <a:pt x="2526" y="8432"/>
                  <a:pt x="2522" y="8435"/>
                  <a:pt x="2512" y="8445"/>
                </a:cubicBezTo>
                <a:cubicBezTo>
                  <a:pt x="2528" y="8404"/>
                  <a:pt x="2544" y="8375"/>
                  <a:pt x="2571" y="8338"/>
                </a:cubicBezTo>
                <a:cubicBezTo>
                  <a:pt x="2608" y="8287"/>
                  <a:pt x="2651" y="8236"/>
                  <a:pt x="2705" y="8202"/>
                </a:cubicBezTo>
                <a:cubicBezTo>
                  <a:pt x="2763" y="8165"/>
                  <a:pt x="2818" y="8171"/>
                  <a:pt x="2874" y="8207"/>
                </a:cubicBezTo>
                <a:cubicBezTo>
                  <a:pt x="2928" y="8242"/>
                  <a:pt x="2979" y="8300"/>
                  <a:pt x="3017" y="8352"/>
                </a:cubicBezTo>
                <a:cubicBezTo>
                  <a:pt x="3030" y="8372"/>
                  <a:pt x="3035" y="8378"/>
                  <a:pt x="3041" y="839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"/>
          <p:cNvSpPr/>
          <p:nvPr/>
        </p:nvSpPr>
        <p:spPr>
          <a:xfrm>
            <a:off x="3206880" y="0"/>
            <a:ext cx="2584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0000"/>
                </a:solidFill>
                <a:latin typeface="Arial"/>
              </a:rPr>
              <a:t>Relation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"/>
          <p:cNvSpPr/>
          <p:nvPr/>
        </p:nvSpPr>
        <p:spPr>
          <a:xfrm>
            <a:off x="536400" y="914400"/>
            <a:ext cx="49402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inition.  Digraph for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flexive, symmetric, anti-symmetric, transi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quivalence relation, equivalence clas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"/>
          <p:cNvSpPr/>
          <p:nvPr/>
        </p:nvSpPr>
        <p:spPr>
          <a:xfrm>
            <a:off x="536040" y="3276720"/>
            <a:ext cx="114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osur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537840" y="4114800"/>
            <a:ext cx="8506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: Let R be a relation on integers, such that (x,y) in R iff x does not equal 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R reflexive?  Symmetric?  Transitiv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"/>
          <p:cNvSpPr/>
          <p:nvPr/>
        </p:nvSpPr>
        <p:spPr>
          <a:xfrm>
            <a:off x="4260960" y="950760"/>
            <a:ext cx="1293840" cy="371520"/>
          </a:xfrm>
          <a:custGeom>
            <a:avLst/>
            <a:gdLst/>
            <a:ahLst/>
            <a:rect l="l" t="t" r="r" b="b"/>
            <a:pathLst>
              <a:path w="3593" h="1033">
                <a:moveTo>
                  <a:pt x="11883" y="2908"/>
                </a:moveTo>
                <a:cubicBezTo>
                  <a:pt x="11846" y="2914"/>
                  <a:pt x="11851" y="2878"/>
                  <a:pt x="11840" y="2945"/>
                </a:cubicBezTo>
                <a:cubicBezTo>
                  <a:pt x="11829" y="3017"/>
                  <a:pt x="11851" y="3095"/>
                  <a:pt x="11860" y="3166"/>
                </a:cubicBezTo>
                <a:cubicBezTo>
                  <a:pt x="11870" y="3247"/>
                  <a:pt x="11881" y="3329"/>
                  <a:pt x="11885" y="3411"/>
                </a:cubicBezTo>
                <a:cubicBezTo>
                  <a:pt x="11888" y="3461"/>
                  <a:pt x="11885" y="3508"/>
                  <a:pt x="11878" y="3557"/>
                </a:cubicBezTo>
                <a:cubicBezTo>
                  <a:pt x="11877" y="3525"/>
                  <a:pt x="11874" y="3493"/>
                  <a:pt x="11872" y="3461"/>
                </a:cubicBezTo>
                <a:cubicBezTo>
                  <a:pt x="11861" y="3254"/>
                  <a:pt x="11865" y="3044"/>
                  <a:pt x="11923" y="2844"/>
                </a:cubicBezTo>
                <a:cubicBezTo>
                  <a:pt x="11943" y="2776"/>
                  <a:pt x="11971" y="2688"/>
                  <a:pt x="12038" y="2651"/>
                </a:cubicBezTo>
                <a:cubicBezTo>
                  <a:pt x="12087" y="2624"/>
                  <a:pt x="12136" y="2670"/>
                  <a:pt x="12162" y="2708"/>
                </a:cubicBezTo>
                <a:cubicBezTo>
                  <a:pt x="12223" y="2797"/>
                  <a:pt x="12241" y="2924"/>
                  <a:pt x="12227" y="3029"/>
                </a:cubicBezTo>
                <a:cubicBezTo>
                  <a:pt x="12216" y="3111"/>
                  <a:pt x="12174" y="3194"/>
                  <a:pt x="12104" y="3241"/>
                </a:cubicBezTo>
                <a:cubicBezTo>
                  <a:pt x="12038" y="3286"/>
                  <a:pt x="11968" y="3277"/>
                  <a:pt x="11898" y="3255"/>
                </a:cubicBezTo>
                <a:cubicBezTo>
                  <a:pt x="11934" y="3290"/>
                  <a:pt x="11970" y="3327"/>
                  <a:pt x="12008" y="3360"/>
                </a:cubicBezTo>
                <a:cubicBezTo>
                  <a:pt x="12081" y="3423"/>
                  <a:pt x="12157" y="3484"/>
                  <a:pt x="12233" y="3543"/>
                </a:cubicBezTo>
                <a:cubicBezTo>
                  <a:pt x="12266" y="3569"/>
                  <a:pt x="12299" y="3586"/>
                  <a:pt x="12336" y="3604"/>
                </a:cubicBezTo>
              </a:path>
              <a:path w="3593" h="1033">
                <a:moveTo>
                  <a:pt x="12376" y="3561"/>
                </a:moveTo>
                <a:cubicBezTo>
                  <a:pt x="12398" y="3535"/>
                  <a:pt x="12420" y="3514"/>
                  <a:pt x="12442" y="3490"/>
                </a:cubicBezTo>
                <a:cubicBezTo>
                  <a:pt x="12486" y="3442"/>
                  <a:pt x="12531" y="3395"/>
                  <a:pt x="12567" y="3341"/>
                </a:cubicBezTo>
                <a:cubicBezTo>
                  <a:pt x="12594" y="3301"/>
                  <a:pt x="12614" y="3266"/>
                  <a:pt x="12611" y="3219"/>
                </a:cubicBezTo>
                <a:cubicBezTo>
                  <a:pt x="12567" y="3216"/>
                  <a:pt x="12540" y="3241"/>
                  <a:pt x="12509" y="3272"/>
                </a:cubicBezTo>
                <a:cubicBezTo>
                  <a:pt x="12464" y="3318"/>
                  <a:pt x="12430" y="3380"/>
                  <a:pt x="12424" y="3445"/>
                </a:cubicBezTo>
                <a:cubicBezTo>
                  <a:pt x="12419" y="3506"/>
                  <a:pt x="12445" y="3555"/>
                  <a:pt x="12496" y="3587"/>
                </a:cubicBezTo>
                <a:cubicBezTo>
                  <a:pt x="12551" y="3621"/>
                  <a:pt x="12626" y="3627"/>
                  <a:pt x="12688" y="3611"/>
                </a:cubicBezTo>
                <a:cubicBezTo>
                  <a:pt x="12739" y="3591"/>
                  <a:pt x="12757" y="3583"/>
                  <a:pt x="12787" y="3562"/>
                </a:cubicBezTo>
              </a:path>
              <a:path w="3593" h="1033">
                <a:moveTo>
                  <a:pt x="12845" y="2751"/>
                </a:moveTo>
                <a:cubicBezTo>
                  <a:pt x="12835" y="2723"/>
                  <a:pt x="12834" y="2717"/>
                  <a:pt x="12823" y="2702"/>
                </a:cubicBezTo>
                <a:cubicBezTo>
                  <a:pt x="12813" y="2790"/>
                  <a:pt x="12821" y="2872"/>
                  <a:pt x="12831" y="2961"/>
                </a:cubicBezTo>
                <a:cubicBezTo>
                  <a:pt x="12848" y="3110"/>
                  <a:pt x="12872" y="3258"/>
                  <a:pt x="12893" y="3406"/>
                </a:cubicBezTo>
                <a:cubicBezTo>
                  <a:pt x="12905" y="3492"/>
                  <a:pt x="12915" y="3578"/>
                  <a:pt x="12934" y="3663"/>
                </a:cubicBezTo>
              </a:path>
              <a:path w="3593" h="1033">
                <a:moveTo>
                  <a:pt x="13202" y="3175"/>
                </a:moveTo>
                <a:cubicBezTo>
                  <a:pt x="13206" y="3155"/>
                  <a:pt x="13210" y="3150"/>
                  <a:pt x="13201" y="3140"/>
                </a:cubicBezTo>
                <a:cubicBezTo>
                  <a:pt x="13164" y="3150"/>
                  <a:pt x="13141" y="3180"/>
                  <a:pt x="13119" y="3213"/>
                </a:cubicBezTo>
                <a:cubicBezTo>
                  <a:pt x="13083" y="3266"/>
                  <a:pt x="13053" y="3326"/>
                  <a:pt x="13042" y="3389"/>
                </a:cubicBezTo>
                <a:cubicBezTo>
                  <a:pt x="13036" y="3422"/>
                  <a:pt x="13036" y="3467"/>
                  <a:pt x="13079" y="3467"/>
                </a:cubicBezTo>
                <a:cubicBezTo>
                  <a:pt x="13125" y="3467"/>
                  <a:pt x="13164" y="3416"/>
                  <a:pt x="13208" y="3421"/>
                </a:cubicBezTo>
                <a:cubicBezTo>
                  <a:pt x="13240" y="3425"/>
                  <a:pt x="13254" y="3461"/>
                  <a:pt x="13274" y="3480"/>
                </a:cubicBezTo>
                <a:cubicBezTo>
                  <a:pt x="13307" y="3510"/>
                  <a:pt x="13336" y="3527"/>
                  <a:pt x="13379" y="3539"/>
                </a:cubicBezTo>
              </a:path>
              <a:path w="3593" h="1033">
                <a:moveTo>
                  <a:pt x="13628" y="2947"/>
                </a:moveTo>
                <a:cubicBezTo>
                  <a:pt x="13632" y="2908"/>
                  <a:pt x="13640" y="2824"/>
                  <a:pt x="13632" y="2863"/>
                </a:cubicBezTo>
                <a:cubicBezTo>
                  <a:pt x="13616" y="2939"/>
                  <a:pt x="13616" y="3017"/>
                  <a:pt x="13617" y="3095"/>
                </a:cubicBezTo>
                <a:cubicBezTo>
                  <a:pt x="13619" y="3206"/>
                  <a:pt x="13621" y="3317"/>
                  <a:pt x="13620" y="3428"/>
                </a:cubicBezTo>
                <a:cubicBezTo>
                  <a:pt x="13618" y="3486"/>
                  <a:pt x="13618" y="3503"/>
                  <a:pt x="13612" y="3540"/>
                </a:cubicBezTo>
              </a:path>
              <a:path w="3593" h="1033">
                <a:moveTo>
                  <a:pt x="13418" y="3426"/>
                </a:moveTo>
                <a:cubicBezTo>
                  <a:pt x="13435" y="3385"/>
                  <a:pt x="13461" y="3346"/>
                  <a:pt x="13504" y="3325"/>
                </a:cubicBezTo>
                <a:cubicBezTo>
                  <a:pt x="13560" y="3298"/>
                  <a:pt x="13638" y="3285"/>
                  <a:pt x="13699" y="3283"/>
                </a:cubicBezTo>
                <a:cubicBezTo>
                  <a:pt x="13740" y="3281"/>
                  <a:pt x="13781" y="3286"/>
                  <a:pt x="13821" y="3289"/>
                </a:cubicBezTo>
              </a:path>
              <a:path w="3593" h="1033">
                <a:moveTo>
                  <a:pt x="13919" y="3347"/>
                </a:moveTo>
                <a:cubicBezTo>
                  <a:pt x="13918" y="3382"/>
                  <a:pt x="13918" y="3417"/>
                  <a:pt x="13912" y="3452"/>
                </a:cubicBezTo>
                <a:cubicBezTo>
                  <a:pt x="13903" y="3500"/>
                  <a:pt x="13909" y="3530"/>
                  <a:pt x="13918" y="3577"/>
                </a:cubicBezTo>
                <a:cubicBezTo>
                  <a:pt x="13922" y="3599"/>
                  <a:pt x="13923" y="3604"/>
                  <a:pt x="13925" y="3618"/>
                </a:cubicBezTo>
              </a:path>
              <a:path w="3593" h="1033">
                <a:moveTo>
                  <a:pt x="14008" y="3227"/>
                </a:moveTo>
                <a:cubicBezTo>
                  <a:pt x="14021" y="3197"/>
                  <a:pt x="14032" y="3169"/>
                  <a:pt x="14045" y="3143"/>
                </a:cubicBezTo>
                <a:cubicBezTo>
                  <a:pt x="14046" y="3139"/>
                  <a:pt x="14046" y="3135"/>
                  <a:pt x="14047" y="3131"/>
                </a:cubicBezTo>
              </a:path>
              <a:path w="3593" h="1033">
                <a:moveTo>
                  <a:pt x="14346" y="3284"/>
                </a:moveTo>
                <a:cubicBezTo>
                  <a:pt x="14340" y="3315"/>
                  <a:pt x="14320" y="3355"/>
                  <a:pt x="14301" y="3381"/>
                </a:cubicBezTo>
                <a:cubicBezTo>
                  <a:pt x="14267" y="3429"/>
                  <a:pt x="14239" y="3476"/>
                  <a:pt x="14227" y="3535"/>
                </a:cubicBezTo>
                <a:cubicBezTo>
                  <a:pt x="14220" y="3568"/>
                  <a:pt x="14223" y="3612"/>
                  <a:pt x="14262" y="3621"/>
                </a:cubicBezTo>
                <a:cubicBezTo>
                  <a:pt x="14301" y="3630"/>
                  <a:pt x="14344" y="3598"/>
                  <a:pt x="14370" y="3574"/>
                </a:cubicBezTo>
                <a:cubicBezTo>
                  <a:pt x="14403" y="3544"/>
                  <a:pt x="14424" y="3505"/>
                  <a:pt x="14434" y="3462"/>
                </a:cubicBezTo>
                <a:cubicBezTo>
                  <a:pt x="14442" y="3428"/>
                  <a:pt x="14433" y="3402"/>
                  <a:pt x="14426" y="3370"/>
                </a:cubicBezTo>
                <a:cubicBezTo>
                  <a:pt x="14420" y="3342"/>
                  <a:pt x="14427" y="3329"/>
                  <a:pt x="14444" y="3308"/>
                </a:cubicBezTo>
              </a:path>
              <a:path w="3593" h="1033">
                <a:moveTo>
                  <a:pt x="14546" y="3319"/>
                </a:moveTo>
                <a:cubicBezTo>
                  <a:pt x="14560" y="3354"/>
                  <a:pt x="14569" y="3388"/>
                  <a:pt x="14565" y="3427"/>
                </a:cubicBezTo>
                <a:cubicBezTo>
                  <a:pt x="14562" y="3460"/>
                  <a:pt x="14558" y="3492"/>
                  <a:pt x="14559" y="3526"/>
                </a:cubicBezTo>
                <a:cubicBezTo>
                  <a:pt x="14559" y="3531"/>
                  <a:pt x="14560" y="3535"/>
                  <a:pt x="14560" y="3540"/>
                </a:cubicBezTo>
                <a:cubicBezTo>
                  <a:pt x="14591" y="3534"/>
                  <a:pt x="14601" y="3508"/>
                  <a:pt x="14620" y="3482"/>
                </a:cubicBezTo>
                <a:cubicBezTo>
                  <a:pt x="14644" y="3449"/>
                  <a:pt x="14669" y="3413"/>
                  <a:pt x="14701" y="3387"/>
                </a:cubicBezTo>
                <a:cubicBezTo>
                  <a:pt x="14726" y="3367"/>
                  <a:pt x="14734" y="3386"/>
                  <a:pt x="14746" y="3407"/>
                </a:cubicBezTo>
                <a:cubicBezTo>
                  <a:pt x="14764" y="3440"/>
                  <a:pt x="14779" y="3474"/>
                  <a:pt x="14809" y="3499"/>
                </a:cubicBezTo>
                <a:cubicBezTo>
                  <a:pt x="14848" y="3532"/>
                  <a:pt x="14891" y="3539"/>
                  <a:pt x="14940" y="3547"/>
                </a:cubicBezTo>
              </a:path>
              <a:path w="3593" h="1033">
                <a:moveTo>
                  <a:pt x="15311" y="3298"/>
                </a:moveTo>
                <a:cubicBezTo>
                  <a:pt x="15266" y="3283"/>
                  <a:pt x="15220" y="3290"/>
                  <a:pt x="15173" y="3299"/>
                </a:cubicBezTo>
                <a:cubicBezTo>
                  <a:pt x="15121" y="3309"/>
                  <a:pt x="15060" y="3321"/>
                  <a:pt x="15013" y="3347"/>
                </a:cubicBezTo>
                <a:cubicBezTo>
                  <a:pt x="14999" y="3358"/>
                  <a:pt x="14994" y="3358"/>
                  <a:pt x="14995" y="3370"/>
                </a:cubicBezTo>
                <a:cubicBezTo>
                  <a:pt x="15036" y="3386"/>
                  <a:pt x="15078" y="3397"/>
                  <a:pt x="15119" y="3416"/>
                </a:cubicBezTo>
                <a:cubicBezTo>
                  <a:pt x="15170" y="3439"/>
                  <a:pt x="15220" y="3466"/>
                  <a:pt x="15238" y="3523"/>
                </a:cubicBezTo>
                <a:cubicBezTo>
                  <a:pt x="15253" y="3570"/>
                  <a:pt x="15227" y="3613"/>
                  <a:pt x="15192" y="3642"/>
                </a:cubicBezTo>
                <a:cubicBezTo>
                  <a:pt x="15160" y="3668"/>
                  <a:pt x="15112" y="3686"/>
                  <a:pt x="15071" y="3669"/>
                </a:cubicBezTo>
                <a:cubicBezTo>
                  <a:pt x="15032" y="3653"/>
                  <a:pt x="15031" y="3609"/>
                  <a:pt x="15042" y="3575"/>
                </a:cubicBezTo>
                <a:cubicBezTo>
                  <a:pt x="15046" y="3565"/>
                  <a:pt x="15051" y="3555"/>
                  <a:pt x="15055" y="3545"/>
                </a:cubicBezTo>
              </a:path>
              <a:path w="3593" h="1033">
                <a:moveTo>
                  <a:pt x="15429" y="3633"/>
                </a:moveTo>
                <a:cubicBezTo>
                  <a:pt x="15425" y="3634"/>
                  <a:pt x="15421" y="3634"/>
                  <a:pt x="15417" y="3635"/>
                </a:cubicBezTo>
                <a:cubicBezTo>
                  <a:pt x="15412" y="3614"/>
                  <a:pt x="15418" y="3604"/>
                  <a:pt x="15426" y="358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"/>
          <p:cNvSpPr/>
          <p:nvPr/>
        </p:nvSpPr>
        <p:spPr>
          <a:xfrm>
            <a:off x="550800" y="1279440"/>
            <a:ext cx="5248440" cy="2548080"/>
          </a:xfrm>
          <a:custGeom>
            <a:avLst/>
            <a:gdLst/>
            <a:ahLst/>
            <a:rect l="l" t="t" r="r" b="b"/>
            <a:pathLst>
              <a:path w="14581" h="7077">
                <a:moveTo>
                  <a:pt x="4834" y="3840"/>
                </a:moveTo>
                <a:cubicBezTo>
                  <a:pt x="4828" y="3798"/>
                  <a:pt x="4793" y="3779"/>
                  <a:pt x="4843" y="3750"/>
                </a:cubicBezTo>
                <a:cubicBezTo>
                  <a:pt x="4951" y="3686"/>
                  <a:pt x="5101" y="3672"/>
                  <a:pt x="5222" y="3656"/>
                </a:cubicBezTo>
                <a:cubicBezTo>
                  <a:pt x="6031" y="3546"/>
                  <a:pt x="6862" y="3574"/>
                  <a:pt x="7677" y="3566"/>
                </a:cubicBezTo>
                <a:cubicBezTo>
                  <a:pt x="7777" y="3565"/>
                  <a:pt x="7874" y="3567"/>
                  <a:pt x="7973" y="3555"/>
                </a:cubicBezTo>
              </a:path>
              <a:path w="14581" h="7077">
                <a:moveTo>
                  <a:pt x="5192" y="5442"/>
                </a:moveTo>
                <a:cubicBezTo>
                  <a:pt x="5181" y="5417"/>
                  <a:pt x="5170" y="5391"/>
                  <a:pt x="5159" y="5366"/>
                </a:cubicBezTo>
                <a:cubicBezTo>
                  <a:pt x="5210" y="5347"/>
                  <a:pt x="5255" y="5340"/>
                  <a:pt x="5312" y="5335"/>
                </a:cubicBezTo>
                <a:cubicBezTo>
                  <a:pt x="5576" y="5313"/>
                  <a:pt x="5841" y="5305"/>
                  <a:pt x="6106" y="5298"/>
                </a:cubicBezTo>
                <a:cubicBezTo>
                  <a:pt x="6294" y="5293"/>
                  <a:pt x="6484" y="5278"/>
                  <a:pt x="6672" y="5280"/>
                </a:cubicBezTo>
                <a:cubicBezTo>
                  <a:pt x="6756" y="5281"/>
                  <a:pt x="6841" y="5291"/>
                  <a:pt x="6924" y="5301"/>
                </a:cubicBezTo>
              </a:path>
              <a:path w="14581" h="7077">
                <a:moveTo>
                  <a:pt x="8273" y="5236"/>
                </a:moveTo>
                <a:cubicBezTo>
                  <a:pt x="8232" y="5230"/>
                  <a:pt x="8192" y="5223"/>
                  <a:pt x="8151" y="5216"/>
                </a:cubicBezTo>
                <a:cubicBezTo>
                  <a:pt x="8257" y="5214"/>
                  <a:pt x="8363" y="5210"/>
                  <a:pt x="8469" y="5205"/>
                </a:cubicBezTo>
                <a:cubicBezTo>
                  <a:pt x="9629" y="5147"/>
                  <a:pt x="10799" y="5084"/>
                  <a:pt x="11960" y="5163"/>
                </a:cubicBezTo>
                <a:cubicBezTo>
                  <a:pt x="12015" y="5167"/>
                  <a:pt x="12075" y="5167"/>
                  <a:pt x="12125" y="5167"/>
                </a:cubicBezTo>
              </a:path>
              <a:path w="14581" h="7077">
                <a:moveTo>
                  <a:pt x="12786" y="5254"/>
                </a:moveTo>
                <a:cubicBezTo>
                  <a:pt x="12771" y="5240"/>
                  <a:pt x="12754" y="5225"/>
                  <a:pt x="12737" y="5211"/>
                </a:cubicBezTo>
                <a:cubicBezTo>
                  <a:pt x="12734" y="5208"/>
                  <a:pt x="12731" y="5205"/>
                  <a:pt x="12728" y="5202"/>
                </a:cubicBezTo>
                <a:cubicBezTo>
                  <a:pt x="12781" y="5199"/>
                  <a:pt x="12835" y="5194"/>
                  <a:pt x="12889" y="5193"/>
                </a:cubicBezTo>
                <a:cubicBezTo>
                  <a:pt x="13109" y="5187"/>
                  <a:pt x="13328" y="5183"/>
                  <a:pt x="13548" y="5181"/>
                </a:cubicBezTo>
                <a:cubicBezTo>
                  <a:pt x="14402" y="5174"/>
                  <a:pt x="15256" y="5184"/>
                  <a:pt x="16109" y="5219"/>
                </a:cubicBezTo>
              </a:path>
              <a:path w="14581" h="7077">
                <a:moveTo>
                  <a:pt x="1770" y="7744"/>
                </a:moveTo>
                <a:cubicBezTo>
                  <a:pt x="1806" y="7726"/>
                  <a:pt x="1796" y="7700"/>
                  <a:pt x="1835" y="7691"/>
                </a:cubicBezTo>
                <a:cubicBezTo>
                  <a:pt x="2986" y="7413"/>
                  <a:pt x="4270" y="7635"/>
                  <a:pt x="5430" y="7716"/>
                </a:cubicBezTo>
                <a:cubicBezTo>
                  <a:pt x="5839" y="7744"/>
                  <a:pt x="6694" y="8190"/>
                  <a:pt x="6657" y="7782"/>
                </a:cubicBezTo>
                <a:cubicBezTo>
                  <a:pt x="6628" y="7781"/>
                  <a:pt x="6613" y="7778"/>
                  <a:pt x="6593" y="7768"/>
                </a:cubicBezTo>
              </a:path>
              <a:path w="14581" h="7077">
                <a:moveTo>
                  <a:pt x="6788" y="6568"/>
                </a:moveTo>
                <a:cubicBezTo>
                  <a:pt x="6820" y="6557"/>
                  <a:pt x="6852" y="6544"/>
                  <a:pt x="6884" y="6533"/>
                </a:cubicBezTo>
                <a:cubicBezTo>
                  <a:pt x="7864" y="6197"/>
                  <a:pt x="8876" y="6098"/>
                  <a:pt x="9901" y="5992"/>
                </a:cubicBezTo>
                <a:cubicBezTo>
                  <a:pt x="10960" y="5882"/>
                  <a:pt x="12034" y="5743"/>
                  <a:pt x="13079" y="5538"/>
                </a:cubicBezTo>
                <a:cubicBezTo>
                  <a:pt x="13093" y="5535"/>
                  <a:pt x="13107" y="5532"/>
                  <a:pt x="13121" y="5529"/>
                </a:cubicBezTo>
                <a:cubicBezTo>
                  <a:pt x="12941" y="5519"/>
                  <a:pt x="12779" y="5498"/>
                  <a:pt x="12611" y="5447"/>
                </a:cubicBezTo>
                <a:cubicBezTo>
                  <a:pt x="12635" y="5431"/>
                  <a:pt x="12644" y="5380"/>
                  <a:pt x="12695" y="5364"/>
                </a:cubicBezTo>
                <a:cubicBezTo>
                  <a:pt x="12790" y="5335"/>
                  <a:pt x="12807" y="5360"/>
                  <a:pt x="12840" y="5437"/>
                </a:cubicBezTo>
                <a:cubicBezTo>
                  <a:pt x="12875" y="5520"/>
                  <a:pt x="12819" y="5654"/>
                  <a:pt x="12806" y="5733"/>
                </a:cubicBezTo>
              </a:path>
              <a:path w="14581" h="7077">
                <a:moveTo>
                  <a:pt x="8288" y="7651"/>
                </a:moveTo>
                <a:cubicBezTo>
                  <a:pt x="8256" y="7642"/>
                  <a:pt x="8222" y="7634"/>
                  <a:pt x="8192" y="7626"/>
                </a:cubicBezTo>
                <a:cubicBezTo>
                  <a:pt x="8179" y="7620"/>
                  <a:pt x="8176" y="7618"/>
                  <a:pt x="8167" y="7618"/>
                </a:cubicBezTo>
                <a:cubicBezTo>
                  <a:pt x="8202" y="7621"/>
                  <a:pt x="8236" y="7626"/>
                  <a:pt x="8271" y="7628"/>
                </a:cubicBezTo>
                <a:cubicBezTo>
                  <a:pt x="9515" y="7692"/>
                  <a:pt x="13197" y="7870"/>
                  <a:pt x="11987" y="7576"/>
                </a:cubicBezTo>
                <a:cubicBezTo>
                  <a:pt x="11945" y="7566"/>
                  <a:pt x="11893" y="7582"/>
                  <a:pt x="11850" y="7583"/>
                </a:cubicBezTo>
              </a:path>
              <a:path w="14581" h="7077">
                <a:moveTo>
                  <a:pt x="3514" y="8969"/>
                </a:moveTo>
                <a:cubicBezTo>
                  <a:pt x="3541" y="8940"/>
                  <a:pt x="3566" y="8907"/>
                  <a:pt x="3593" y="8878"/>
                </a:cubicBezTo>
                <a:cubicBezTo>
                  <a:pt x="3598" y="8875"/>
                  <a:pt x="3603" y="8871"/>
                  <a:pt x="3608" y="8868"/>
                </a:cubicBezTo>
                <a:cubicBezTo>
                  <a:pt x="3600" y="8865"/>
                  <a:pt x="3600" y="8836"/>
                  <a:pt x="3569" y="8832"/>
                </a:cubicBezTo>
                <a:cubicBezTo>
                  <a:pt x="3321" y="8798"/>
                  <a:pt x="3049" y="8851"/>
                  <a:pt x="2803" y="8880"/>
                </a:cubicBezTo>
                <a:cubicBezTo>
                  <a:pt x="2468" y="8919"/>
                  <a:pt x="2117" y="8947"/>
                  <a:pt x="1850" y="9176"/>
                </a:cubicBezTo>
                <a:cubicBezTo>
                  <a:pt x="1684" y="9319"/>
                  <a:pt x="1521" y="9510"/>
                  <a:pt x="1529" y="9741"/>
                </a:cubicBezTo>
                <a:cubicBezTo>
                  <a:pt x="1537" y="9982"/>
                  <a:pt x="1727" y="10230"/>
                  <a:pt x="1915" y="10364"/>
                </a:cubicBezTo>
                <a:cubicBezTo>
                  <a:pt x="2373" y="10690"/>
                  <a:pt x="3033" y="10667"/>
                  <a:pt x="3561" y="10585"/>
                </a:cubicBezTo>
                <a:cubicBezTo>
                  <a:pt x="4041" y="10510"/>
                  <a:pt x="4601" y="10360"/>
                  <a:pt x="4995" y="10062"/>
                </a:cubicBezTo>
                <a:cubicBezTo>
                  <a:pt x="5158" y="9939"/>
                  <a:pt x="5231" y="9764"/>
                  <a:pt x="5169" y="9565"/>
                </a:cubicBezTo>
                <a:cubicBezTo>
                  <a:pt x="5108" y="9368"/>
                  <a:pt x="4941" y="9256"/>
                  <a:pt x="4755" y="9189"/>
                </a:cubicBezTo>
                <a:cubicBezTo>
                  <a:pt x="4323" y="9034"/>
                  <a:pt x="3793" y="9024"/>
                  <a:pt x="3343" y="9085"/>
                </a:cubicBezTo>
                <a:cubicBezTo>
                  <a:pt x="3138" y="9113"/>
                  <a:pt x="3000" y="9191"/>
                  <a:pt x="2857" y="933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"/>
          <p:cNvSpPr/>
          <p:nvPr/>
        </p:nvSpPr>
        <p:spPr>
          <a:xfrm>
            <a:off x="539640" y="1855800"/>
            <a:ext cx="1741680" cy="507960"/>
          </a:xfrm>
          <a:custGeom>
            <a:avLst/>
            <a:gdLst/>
            <a:ahLst/>
            <a:rect l="l" t="t" r="r" b="b"/>
            <a:pathLst>
              <a:path w="4838" h="1408">
                <a:moveTo>
                  <a:pt x="1594" y="5277"/>
                </a:moveTo>
                <a:cubicBezTo>
                  <a:pt x="1562" y="5277"/>
                  <a:pt x="1530" y="5277"/>
                  <a:pt x="1499" y="5276"/>
                </a:cubicBezTo>
                <a:cubicBezTo>
                  <a:pt x="1585" y="5267"/>
                  <a:pt x="1671" y="5257"/>
                  <a:pt x="1758" y="5251"/>
                </a:cubicBezTo>
                <a:cubicBezTo>
                  <a:pt x="2486" y="5197"/>
                  <a:pt x="3227" y="5136"/>
                  <a:pt x="3957" y="5159"/>
                </a:cubicBezTo>
                <a:cubicBezTo>
                  <a:pt x="4079" y="5163"/>
                  <a:pt x="4232" y="5154"/>
                  <a:pt x="4350" y="5194"/>
                </a:cubicBezTo>
                <a:cubicBezTo>
                  <a:pt x="4435" y="5222"/>
                  <a:pt x="4359" y="5213"/>
                  <a:pt x="4364" y="5226"/>
                </a:cubicBezTo>
              </a:path>
              <a:path w="4838" h="1408">
                <a:moveTo>
                  <a:pt x="3614" y="6540"/>
                </a:moveTo>
                <a:cubicBezTo>
                  <a:pt x="3614" y="6515"/>
                  <a:pt x="3609" y="6512"/>
                  <a:pt x="3599" y="6489"/>
                </a:cubicBezTo>
                <a:cubicBezTo>
                  <a:pt x="3491" y="6247"/>
                  <a:pt x="3510" y="5975"/>
                  <a:pt x="3475" y="5718"/>
                </a:cubicBezTo>
                <a:cubicBezTo>
                  <a:pt x="3470" y="5678"/>
                  <a:pt x="3462" y="5679"/>
                  <a:pt x="3447" y="5653"/>
                </a:cubicBezTo>
                <a:cubicBezTo>
                  <a:pt x="3414" y="5693"/>
                  <a:pt x="3385" y="5735"/>
                  <a:pt x="3354" y="5778"/>
                </a:cubicBezTo>
                <a:cubicBezTo>
                  <a:pt x="3310" y="5839"/>
                  <a:pt x="3265" y="5894"/>
                  <a:pt x="3212" y="5946"/>
                </a:cubicBezTo>
                <a:cubicBezTo>
                  <a:pt x="3221" y="5908"/>
                  <a:pt x="3238" y="5872"/>
                  <a:pt x="3272" y="5831"/>
                </a:cubicBezTo>
                <a:cubicBezTo>
                  <a:pt x="3325" y="5767"/>
                  <a:pt x="3394" y="5700"/>
                  <a:pt x="3472" y="5668"/>
                </a:cubicBezTo>
                <a:cubicBezTo>
                  <a:pt x="3556" y="5634"/>
                  <a:pt x="3618" y="5668"/>
                  <a:pt x="3679" y="5726"/>
                </a:cubicBezTo>
                <a:cubicBezTo>
                  <a:pt x="3754" y="5797"/>
                  <a:pt x="3804" y="5887"/>
                  <a:pt x="3897" y="5939"/>
                </a:cubicBezTo>
                <a:cubicBezTo>
                  <a:pt x="3924" y="5950"/>
                  <a:pt x="3950" y="5962"/>
                  <a:pt x="3977" y="5973"/>
                </a:cubicBezTo>
              </a:path>
              <a:path w="4838" h="1408">
                <a:moveTo>
                  <a:pt x="5601" y="6564"/>
                </a:moveTo>
                <a:cubicBezTo>
                  <a:pt x="5611" y="6521"/>
                  <a:pt x="5618" y="6470"/>
                  <a:pt x="5630" y="6424"/>
                </a:cubicBezTo>
                <a:cubicBezTo>
                  <a:pt x="5658" y="6314"/>
                  <a:pt x="5702" y="6212"/>
                  <a:pt x="5753" y="6111"/>
                </a:cubicBezTo>
                <a:cubicBezTo>
                  <a:pt x="5836" y="5947"/>
                  <a:pt x="5939" y="5796"/>
                  <a:pt x="6045" y="5646"/>
                </a:cubicBezTo>
                <a:cubicBezTo>
                  <a:pt x="5994" y="5684"/>
                  <a:pt x="5943" y="5722"/>
                  <a:pt x="5890" y="5757"/>
                </a:cubicBezTo>
                <a:cubicBezTo>
                  <a:pt x="5779" y="5830"/>
                  <a:pt x="5659" y="5903"/>
                  <a:pt x="5529" y="5933"/>
                </a:cubicBezTo>
                <a:cubicBezTo>
                  <a:pt x="5591" y="5899"/>
                  <a:pt x="5650" y="5873"/>
                  <a:pt x="5725" y="5858"/>
                </a:cubicBezTo>
                <a:cubicBezTo>
                  <a:pt x="5868" y="5830"/>
                  <a:pt x="6013" y="5838"/>
                  <a:pt x="6149" y="5887"/>
                </a:cubicBezTo>
                <a:cubicBezTo>
                  <a:pt x="6221" y="5913"/>
                  <a:pt x="6278" y="5950"/>
                  <a:pt x="6336" y="599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"/>
          <p:cNvSpPr/>
          <p:nvPr/>
        </p:nvSpPr>
        <p:spPr>
          <a:xfrm>
            <a:off x="6135840" y="895320"/>
            <a:ext cx="744480" cy="585720"/>
          </a:xfrm>
          <a:custGeom>
            <a:avLst/>
            <a:gdLst/>
            <a:ahLst/>
            <a:rect l="l" t="t" r="r" b="b"/>
            <a:pathLst>
              <a:path w="2068" h="1624">
                <a:moveTo>
                  <a:pt x="17680" y="4024"/>
                </a:moveTo>
                <a:cubicBezTo>
                  <a:pt x="17650" y="4046"/>
                  <a:pt x="17625" y="4061"/>
                  <a:pt x="17590" y="4072"/>
                </a:cubicBezTo>
                <a:cubicBezTo>
                  <a:pt x="17578" y="4076"/>
                  <a:pt x="17573" y="4077"/>
                  <a:pt x="17567" y="4068"/>
                </a:cubicBezTo>
                <a:cubicBezTo>
                  <a:pt x="17570" y="4028"/>
                  <a:pt x="17592" y="4002"/>
                  <a:pt x="17620" y="3973"/>
                </a:cubicBezTo>
                <a:cubicBezTo>
                  <a:pt x="17652" y="3940"/>
                  <a:pt x="17697" y="3894"/>
                  <a:pt x="17747" y="3894"/>
                </a:cubicBezTo>
                <a:cubicBezTo>
                  <a:pt x="17799" y="3894"/>
                  <a:pt x="17791" y="3951"/>
                  <a:pt x="17779" y="3983"/>
                </a:cubicBezTo>
                <a:cubicBezTo>
                  <a:pt x="17762" y="4029"/>
                  <a:pt x="17727" y="4079"/>
                  <a:pt x="17683" y="4103"/>
                </a:cubicBezTo>
                <a:cubicBezTo>
                  <a:pt x="17652" y="4120"/>
                  <a:pt x="17613" y="4118"/>
                  <a:pt x="17598" y="4084"/>
                </a:cubicBezTo>
                <a:cubicBezTo>
                  <a:pt x="17581" y="4047"/>
                  <a:pt x="17594" y="4001"/>
                  <a:pt x="17616" y="3970"/>
                </a:cubicBezTo>
                <a:cubicBezTo>
                  <a:pt x="17636" y="3941"/>
                  <a:pt x="17661" y="3931"/>
                  <a:pt x="17691" y="3916"/>
                </a:cubicBezTo>
              </a:path>
              <a:path w="2068" h="1624">
                <a:moveTo>
                  <a:pt x="17741" y="3963"/>
                </a:moveTo>
                <a:cubicBezTo>
                  <a:pt x="17714" y="3969"/>
                  <a:pt x="17690" y="3973"/>
                  <a:pt x="17663" y="3977"/>
                </a:cubicBezTo>
                <a:cubicBezTo>
                  <a:pt x="17694" y="3937"/>
                  <a:pt x="17725" y="3897"/>
                  <a:pt x="17758" y="3858"/>
                </a:cubicBezTo>
                <a:cubicBezTo>
                  <a:pt x="18011" y="3557"/>
                  <a:pt x="18283" y="3239"/>
                  <a:pt x="18621" y="3032"/>
                </a:cubicBezTo>
                <a:cubicBezTo>
                  <a:pt x="18670" y="3002"/>
                  <a:pt x="18715" y="2981"/>
                  <a:pt x="18771" y="2975"/>
                </a:cubicBezTo>
                <a:cubicBezTo>
                  <a:pt x="18782" y="2974"/>
                  <a:pt x="18773" y="2979"/>
                  <a:pt x="18784" y="2978"/>
                </a:cubicBezTo>
                <a:cubicBezTo>
                  <a:pt x="18749" y="2976"/>
                  <a:pt x="18714" y="2973"/>
                  <a:pt x="18678" y="2972"/>
                </a:cubicBezTo>
                <a:cubicBezTo>
                  <a:pt x="18625" y="2970"/>
                  <a:pt x="18573" y="2969"/>
                  <a:pt x="18520" y="2960"/>
                </a:cubicBezTo>
                <a:cubicBezTo>
                  <a:pt x="18480" y="2954"/>
                  <a:pt x="18449" y="2947"/>
                  <a:pt x="18423" y="2916"/>
                </a:cubicBezTo>
                <a:cubicBezTo>
                  <a:pt x="18424" y="2911"/>
                  <a:pt x="18425" y="2906"/>
                  <a:pt x="18426" y="2901"/>
                </a:cubicBezTo>
                <a:cubicBezTo>
                  <a:pt x="18464" y="2877"/>
                  <a:pt x="18489" y="2857"/>
                  <a:pt x="18539" y="2854"/>
                </a:cubicBezTo>
                <a:cubicBezTo>
                  <a:pt x="18594" y="2850"/>
                  <a:pt x="18655" y="2873"/>
                  <a:pt x="18693" y="2914"/>
                </a:cubicBezTo>
                <a:cubicBezTo>
                  <a:pt x="18741" y="2966"/>
                  <a:pt x="18749" y="3053"/>
                  <a:pt x="18745" y="3121"/>
                </a:cubicBezTo>
                <a:cubicBezTo>
                  <a:pt x="18742" y="3139"/>
                  <a:pt x="18741" y="3143"/>
                  <a:pt x="18739" y="3154"/>
                </a:cubicBezTo>
              </a:path>
              <a:path w="2068" h="1624">
                <a:moveTo>
                  <a:pt x="17209" y="3637"/>
                </a:moveTo>
                <a:cubicBezTo>
                  <a:pt x="17214" y="3615"/>
                  <a:pt x="17218" y="3608"/>
                  <a:pt x="17211" y="3588"/>
                </a:cubicBezTo>
                <a:cubicBezTo>
                  <a:pt x="17180" y="3594"/>
                  <a:pt x="17159" y="3631"/>
                  <a:pt x="17138" y="3658"/>
                </a:cubicBezTo>
                <a:cubicBezTo>
                  <a:pt x="17099" y="3710"/>
                  <a:pt x="17064" y="3764"/>
                  <a:pt x="17047" y="3827"/>
                </a:cubicBezTo>
                <a:cubicBezTo>
                  <a:pt x="17043" y="3855"/>
                  <a:pt x="17040" y="3861"/>
                  <a:pt x="17047" y="3878"/>
                </a:cubicBezTo>
                <a:cubicBezTo>
                  <a:pt x="17086" y="3884"/>
                  <a:pt x="17115" y="3862"/>
                  <a:pt x="17147" y="3838"/>
                </a:cubicBezTo>
                <a:cubicBezTo>
                  <a:pt x="17184" y="3811"/>
                  <a:pt x="17215" y="3774"/>
                  <a:pt x="17253" y="3748"/>
                </a:cubicBezTo>
                <a:cubicBezTo>
                  <a:pt x="17281" y="3729"/>
                  <a:pt x="17289" y="3751"/>
                  <a:pt x="17303" y="3773"/>
                </a:cubicBezTo>
                <a:cubicBezTo>
                  <a:pt x="17322" y="3803"/>
                  <a:pt x="17341" y="3838"/>
                  <a:pt x="17377" y="3850"/>
                </a:cubicBezTo>
                <a:cubicBezTo>
                  <a:pt x="17407" y="3853"/>
                  <a:pt x="17418" y="3854"/>
                  <a:pt x="17437" y="3843"/>
                </a:cubicBezTo>
              </a:path>
              <a:path w="2068" h="1624">
                <a:moveTo>
                  <a:pt x="18887" y="2528"/>
                </a:moveTo>
                <a:cubicBezTo>
                  <a:pt x="18884" y="2515"/>
                  <a:pt x="18880" y="2502"/>
                  <a:pt x="18876" y="2489"/>
                </a:cubicBezTo>
                <a:cubicBezTo>
                  <a:pt x="18873" y="2518"/>
                  <a:pt x="18872" y="2546"/>
                  <a:pt x="18871" y="2575"/>
                </a:cubicBezTo>
                <a:cubicBezTo>
                  <a:pt x="18870" y="2622"/>
                  <a:pt x="18868" y="2669"/>
                  <a:pt x="18863" y="2716"/>
                </a:cubicBezTo>
                <a:cubicBezTo>
                  <a:pt x="18861" y="2736"/>
                  <a:pt x="18861" y="2741"/>
                  <a:pt x="18860" y="2754"/>
                </a:cubicBezTo>
                <a:cubicBezTo>
                  <a:pt x="18889" y="2724"/>
                  <a:pt x="18914" y="2691"/>
                  <a:pt x="18945" y="2664"/>
                </a:cubicBezTo>
                <a:cubicBezTo>
                  <a:pt x="18972" y="2640"/>
                  <a:pt x="19019" y="2600"/>
                  <a:pt x="19059" y="2616"/>
                </a:cubicBezTo>
                <a:cubicBezTo>
                  <a:pt x="19105" y="2634"/>
                  <a:pt x="19108" y="2707"/>
                  <a:pt x="19109" y="2747"/>
                </a:cubicBezTo>
                <a:cubicBezTo>
                  <a:pt x="19110" y="2800"/>
                  <a:pt x="19102" y="2861"/>
                  <a:pt x="19064" y="2901"/>
                </a:cubicBezTo>
                <a:cubicBezTo>
                  <a:pt x="19040" y="2927"/>
                  <a:pt x="18998" y="2935"/>
                  <a:pt x="18968" y="2915"/>
                </a:cubicBezTo>
                <a:cubicBezTo>
                  <a:pt x="18953" y="2899"/>
                  <a:pt x="18947" y="2893"/>
                  <a:pt x="18942" y="287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"/>
          <p:cNvSpPr/>
          <p:nvPr/>
        </p:nvSpPr>
        <p:spPr>
          <a:xfrm>
            <a:off x="7415280" y="1022400"/>
            <a:ext cx="495360" cy="271440"/>
          </a:xfrm>
          <a:custGeom>
            <a:avLst/>
            <a:gdLst/>
            <a:ahLst/>
            <a:rect l="l" t="t" r="r" b="b"/>
            <a:pathLst>
              <a:path w="1376" h="753">
                <a:moveTo>
                  <a:pt x="20848" y="3241"/>
                </a:moveTo>
                <a:cubicBezTo>
                  <a:pt x="20845" y="3219"/>
                  <a:pt x="20845" y="3214"/>
                  <a:pt x="20831" y="3199"/>
                </a:cubicBezTo>
                <a:cubicBezTo>
                  <a:pt x="20788" y="3220"/>
                  <a:pt x="20761" y="3247"/>
                  <a:pt x="20731" y="3287"/>
                </a:cubicBezTo>
                <a:cubicBezTo>
                  <a:pt x="20683" y="3351"/>
                  <a:pt x="20637" y="3426"/>
                  <a:pt x="20609" y="3501"/>
                </a:cubicBezTo>
                <a:cubicBezTo>
                  <a:pt x="20594" y="3541"/>
                  <a:pt x="20592" y="3558"/>
                  <a:pt x="20609" y="3591"/>
                </a:cubicBezTo>
                <a:cubicBezTo>
                  <a:pt x="20668" y="3587"/>
                  <a:pt x="20706" y="3557"/>
                  <a:pt x="20749" y="3514"/>
                </a:cubicBezTo>
                <a:cubicBezTo>
                  <a:pt x="20803" y="3461"/>
                  <a:pt x="20844" y="3385"/>
                  <a:pt x="20902" y="3337"/>
                </a:cubicBezTo>
                <a:cubicBezTo>
                  <a:pt x="20905" y="3336"/>
                  <a:pt x="20909" y="3335"/>
                  <a:pt x="20912" y="3334"/>
                </a:cubicBezTo>
                <a:cubicBezTo>
                  <a:pt x="20918" y="3374"/>
                  <a:pt x="20917" y="3416"/>
                  <a:pt x="20923" y="3456"/>
                </a:cubicBezTo>
                <a:cubicBezTo>
                  <a:pt x="20929" y="3496"/>
                  <a:pt x="20933" y="3559"/>
                  <a:pt x="20977" y="3579"/>
                </a:cubicBezTo>
                <a:cubicBezTo>
                  <a:pt x="21002" y="3582"/>
                  <a:pt x="21011" y="3583"/>
                  <a:pt x="21027" y="3572"/>
                </a:cubicBezTo>
              </a:path>
              <a:path w="1376" h="753">
                <a:moveTo>
                  <a:pt x="21166" y="2958"/>
                </a:moveTo>
                <a:cubicBezTo>
                  <a:pt x="21187" y="2894"/>
                  <a:pt x="21175" y="2979"/>
                  <a:pt x="21178" y="3010"/>
                </a:cubicBezTo>
                <a:cubicBezTo>
                  <a:pt x="21187" y="3105"/>
                  <a:pt x="21195" y="3199"/>
                  <a:pt x="21197" y="3294"/>
                </a:cubicBezTo>
                <a:cubicBezTo>
                  <a:pt x="21198" y="3357"/>
                  <a:pt x="21198" y="3417"/>
                  <a:pt x="21183" y="3478"/>
                </a:cubicBezTo>
                <a:cubicBezTo>
                  <a:pt x="21167" y="3427"/>
                  <a:pt x="21175" y="3375"/>
                  <a:pt x="21180" y="3321"/>
                </a:cubicBezTo>
                <a:cubicBezTo>
                  <a:pt x="21190" y="3217"/>
                  <a:pt x="21213" y="3117"/>
                  <a:pt x="21245" y="3018"/>
                </a:cubicBezTo>
                <a:cubicBezTo>
                  <a:pt x="21261" y="2969"/>
                  <a:pt x="21286" y="2864"/>
                  <a:pt x="21343" y="2841"/>
                </a:cubicBezTo>
                <a:cubicBezTo>
                  <a:pt x="21350" y="2842"/>
                  <a:pt x="21356" y="2843"/>
                  <a:pt x="21363" y="2844"/>
                </a:cubicBezTo>
                <a:cubicBezTo>
                  <a:pt x="21389" y="2904"/>
                  <a:pt x="21381" y="2958"/>
                  <a:pt x="21365" y="3023"/>
                </a:cubicBezTo>
                <a:cubicBezTo>
                  <a:pt x="21329" y="3164"/>
                  <a:pt x="21232" y="3259"/>
                  <a:pt x="21175" y="3386"/>
                </a:cubicBezTo>
                <a:cubicBezTo>
                  <a:pt x="21174" y="3391"/>
                  <a:pt x="21173" y="3397"/>
                  <a:pt x="21172" y="3402"/>
                </a:cubicBezTo>
                <a:cubicBezTo>
                  <a:pt x="21212" y="3413"/>
                  <a:pt x="21254" y="3420"/>
                  <a:pt x="21298" y="3425"/>
                </a:cubicBezTo>
                <a:cubicBezTo>
                  <a:pt x="21370" y="3433"/>
                  <a:pt x="21442" y="3442"/>
                  <a:pt x="21515" y="3447"/>
                </a:cubicBezTo>
                <a:cubicBezTo>
                  <a:pt x="21560" y="3449"/>
                  <a:pt x="21573" y="3450"/>
                  <a:pt x="21602" y="3449"/>
                </a:cubicBezTo>
              </a:path>
              <a:path w="1376" h="753">
                <a:moveTo>
                  <a:pt x="21711" y="2997"/>
                </a:moveTo>
                <a:cubicBezTo>
                  <a:pt x="21715" y="2976"/>
                  <a:pt x="21718" y="2959"/>
                  <a:pt x="21718" y="2937"/>
                </a:cubicBezTo>
                <a:cubicBezTo>
                  <a:pt x="21723" y="2986"/>
                  <a:pt x="21715" y="3037"/>
                  <a:pt x="21711" y="3086"/>
                </a:cubicBezTo>
                <a:cubicBezTo>
                  <a:pt x="21701" y="3202"/>
                  <a:pt x="21690" y="3318"/>
                  <a:pt x="21680" y="3434"/>
                </a:cubicBezTo>
                <a:cubicBezTo>
                  <a:pt x="21677" y="3467"/>
                  <a:pt x="21676" y="3474"/>
                  <a:pt x="21677" y="3494"/>
                </a:cubicBezTo>
                <a:cubicBezTo>
                  <a:pt x="21708" y="3449"/>
                  <a:pt x="21729" y="3398"/>
                  <a:pt x="21757" y="3350"/>
                </a:cubicBezTo>
                <a:cubicBezTo>
                  <a:pt x="21791" y="3292"/>
                  <a:pt x="21842" y="3196"/>
                  <a:pt x="21917" y="3183"/>
                </a:cubicBezTo>
                <a:cubicBezTo>
                  <a:pt x="21962" y="3175"/>
                  <a:pt x="21977" y="3222"/>
                  <a:pt x="21970" y="3257"/>
                </a:cubicBezTo>
                <a:cubicBezTo>
                  <a:pt x="21960" y="3310"/>
                  <a:pt x="21918" y="3348"/>
                  <a:pt x="21871" y="3368"/>
                </a:cubicBezTo>
                <a:cubicBezTo>
                  <a:pt x="21826" y="3388"/>
                  <a:pt x="21773" y="3385"/>
                  <a:pt x="21731" y="3359"/>
                </a:cubicBezTo>
                <a:cubicBezTo>
                  <a:pt x="21712" y="3343"/>
                  <a:pt x="21706" y="3338"/>
                  <a:pt x="21698" y="332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"/>
          <p:cNvSpPr/>
          <p:nvPr/>
        </p:nvSpPr>
        <p:spPr>
          <a:xfrm>
            <a:off x="7248600" y="1397160"/>
            <a:ext cx="1079280" cy="255600"/>
          </a:xfrm>
          <a:custGeom>
            <a:avLst/>
            <a:gdLst/>
            <a:ahLst/>
            <a:rect l="l" t="t" r="r" b="b"/>
            <a:pathLst>
              <a:path w="3001" h="710">
                <a:moveTo>
                  <a:pt x="20484" y="3924"/>
                </a:moveTo>
                <a:cubicBezTo>
                  <a:pt x="20449" y="3918"/>
                  <a:pt x="20410" y="3932"/>
                  <a:pt x="20380" y="3956"/>
                </a:cubicBezTo>
                <a:cubicBezTo>
                  <a:pt x="20320" y="4003"/>
                  <a:pt x="20262" y="4069"/>
                  <a:pt x="20219" y="4132"/>
                </a:cubicBezTo>
                <a:cubicBezTo>
                  <a:pt x="20173" y="4201"/>
                  <a:pt x="20136" y="4281"/>
                  <a:pt x="20133" y="4365"/>
                </a:cubicBezTo>
                <a:cubicBezTo>
                  <a:pt x="20131" y="4424"/>
                  <a:pt x="20155" y="4476"/>
                  <a:pt x="20212" y="4498"/>
                </a:cubicBezTo>
                <a:cubicBezTo>
                  <a:pt x="20256" y="4515"/>
                  <a:pt x="20296" y="4503"/>
                  <a:pt x="20340" y="4496"/>
                </a:cubicBezTo>
              </a:path>
              <a:path w="3001" h="710">
                <a:moveTo>
                  <a:pt x="20612" y="4145"/>
                </a:moveTo>
                <a:cubicBezTo>
                  <a:pt x="20571" y="4139"/>
                  <a:pt x="20526" y="4154"/>
                  <a:pt x="20493" y="4184"/>
                </a:cubicBezTo>
                <a:cubicBezTo>
                  <a:pt x="20448" y="4225"/>
                  <a:pt x="20411" y="4292"/>
                  <a:pt x="20394" y="4350"/>
                </a:cubicBezTo>
                <a:cubicBezTo>
                  <a:pt x="20385" y="4381"/>
                  <a:pt x="20379" y="4436"/>
                  <a:pt x="20429" y="4428"/>
                </a:cubicBezTo>
                <a:cubicBezTo>
                  <a:pt x="20496" y="4417"/>
                  <a:pt x="20544" y="4349"/>
                  <a:pt x="20593" y="4308"/>
                </a:cubicBezTo>
                <a:cubicBezTo>
                  <a:pt x="20607" y="4297"/>
                  <a:pt x="20610" y="4294"/>
                  <a:pt x="20621" y="4292"/>
                </a:cubicBezTo>
                <a:cubicBezTo>
                  <a:pt x="20634" y="4312"/>
                  <a:pt x="20644" y="4337"/>
                  <a:pt x="20652" y="4360"/>
                </a:cubicBezTo>
                <a:cubicBezTo>
                  <a:pt x="20664" y="4393"/>
                  <a:pt x="20675" y="4407"/>
                  <a:pt x="20705" y="4425"/>
                </a:cubicBezTo>
              </a:path>
              <a:path w="3001" h="710">
                <a:moveTo>
                  <a:pt x="20895" y="4379"/>
                </a:moveTo>
                <a:cubicBezTo>
                  <a:pt x="20896" y="4409"/>
                  <a:pt x="20888" y="4431"/>
                  <a:pt x="20883" y="4459"/>
                </a:cubicBezTo>
                <a:cubicBezTo>
                  <a:pt x="20876" y="4497"/>
                  <a:pt x="20873" y="4542"/>
                  <a:pt x="20853" y="4577"/>
                </a:cubicBezTo>
                <a:cubicBezTo>
                  <a:pt x="20828" y="4623"/>
                  <a:pt x="20832" y="4552"/>
                  <a:pt x="20833" y="4543"/>
                </a:cubicBezTo>
              </a:path>
              <a:path w="3001" h="710">
                <a:moveTo>
                  <a:pt x="21103" y="3986"/>
                </a:moveTo>
                <a:cubicBezTo>
                  <a:pt x="21108" y="4032"/>
                  <a:pt x="21097" y="4077"/>
                  <a:pt x="21094" y="4124"/>
                </a:cubicBezTo>
                <a:cubicBezTo>
                  <a:pt x="21089" y="4198"/>
                  <a:pt x="21085" y="4273"/>
                  <a:pt x="21084" y="4347"/>
                </a:cubicBezTo>
                <a:cubicBezTo>
                  <a:pt x="21084" y="4377"/>
                  <a:pt x="21084" y="4384"/>
                  <a:pt x="21086" y="4403"/>
                </a:cubicBezTo>
                <a:cubicBezTo>
                  <a:pt x="21114" y="4368"/>
                  <a:pt x="21126" y="4319"/>
                  <a:pt x="21147" y="4278"/>
                </a:cubicBezTo>
                <a:cubicBezTo>
                  <a:pt x="21174" y="4225"/>
                  <a:pt x="21211" y="4163"/>
                  <a:pt x="21266" y="4134"/>
                </a:cubicBezTo>
                <a:cubicBezTo>
                  <a:pt x="21311" y="4110"/>
                  <a:pt x="21351" y="4131"/>
                  <a:pt x="21364" y="4178"/>
                </a:cubicBezTo>
                <a:cubicBezTo>
                  <a:pt x="21383" y="4246"/>
                  <a:pt x="21352" y="4317"/>
                  <a:pt x="21298" y="4358"/>
                </a:cubicBezTo>
                <a:cubicBezTo>
                  <a:pt x="21259" y="4388"/>
                  <a:pt x="21206" y="4399"/>
                  <a:pt x="21165" y="4370"/>
                </a:cubicBezTo>
                <a:cubicBezTo>
                  <a:pt x="21121" y="4339"/>
                  <a:pt x="21143" y="4294"/>
                  <a:pt x="21156" y="4254"/>
                </a:cubicBezTo>
              </a:path>
              <a:path w="3001" h="710">
                <a:moveTo>
                  <a:pt x="21531" y="3954"/>
                </a:moveTo>
                <a:cubicBezTo>
                  <a:pt x="21535" y="3917"/>
                  <a:pt x="21549" y="3938"/>
                  <a:pt x="21561" y="3963"/>
                </a:cubicBezTo>
                <a:cubicBezTo>
                  <a:pt x="21593" y="4030"/>
                  <a:pt x="21605" y="4107"/>
                  <a:pt x="21612" y="4180"/>
                </a:cubicBezTo>
                <a:cubicBezTo>
                  <a:pt x="21620" y="4272"/>
                  <a:pt x="21624" y="4377"/>
                  <a:pt x="21576" y="4457"/>
                </a:cubicBezTo>
                <a:cubicBezTo>
                  <a:pt x="21557" y="4489"/>
                  <a:pt x="21553" y="4487"/>
                  <a:pt x="21533" y="4472"/>
                </a:cubicBezTo>
              </a:path>
              <a:path w="3001" h="710">
                <a:moveTo>
                  <a:pt x="22177" y="4020"/>
                </a:moveTo>
                <a:cubicBezTo>
                  <a:pt x="22178" y="3999"/>
                  <a:pt x="22178" y="3990"/>
                  <a:pt x="22169" y="3972"/>
                </a:cubicBezTo>
                <a:cubicBezTo>
                  <a:pt x="22133" y="3962"/>
                  <a:pt x="22103" y="3987"/>
                  <a:pt x="22070" y="4012"/>
                </a:cubicBezTo>
                <a:cubicBezTo>
                  <a:pt x="22014" y="4054"/>
                  <a:pt x="21959" y="4106"/>
                  <a:pt x="21924" y="4167"/>
                </a:cubicBezTo>
                <a:cubicBezTo>
                  <a:pt x="21898" y="4213"/>
                  <a:pt x="21894" y="4259"/>
                  <a:pt x="21949" y="4282"/>
                </a:cubicBezTo>
                <a:cubicBezTo>
                  <a:pt x="22004" y="4305"/>
                  <a:pt x="22074" y="4306"/>
                  <a:pt x="22131" y="4295"/>
                </a:cubicBezTo>
                <a:cubicBezTo>
                  <a:pt x="22174" y="4287"/>
                  <a:pt x="22206" y="4281"/>
                  <a:pt x="22232" y="4247"/>
                </a:cubicBezTo>
              </a:path>
              <a:path w="3001" h="710">
                <a:moveTo>
                  <a:pt x="22046" y="4216"/>
                </a:moveTo>
                <a:cubicBezTo>
                  <a:pt x="22031" y="4219"/>
                  <a:pt x="22028" y="4220"/>
                  <a:pt x="22020" y="4224"/>
                </a:cubicBezTo>
                <a:cubicBezTo>
                  <a:pt x="22075" y="4219"/>
                  <a:pt x="22130" y="4212"/>
                  <a:pt x="22185" y="4206"/>
                </a:cubicBezTo>
                <a:cubicBezTo>
                  <a:pt x="22248" y="4199"/>
                  <a:pt x="22308" y="4185"/>
                  <a:pt x="22368" y="4168"/>
                </a:cubicBezTo>
              </a:path>
              <a:path w="3001" h="710">
                <a:moveTo>
                  <a:pt x="22496" y="3963"/>
                </a:moveTo>
                <a:cubicBezTo>
                  <a:pt x="22509" y="3980"/>
                  <a:pt x="22501" y="3985"/>
                  <a:pt x="22505" y="4006"/>
                </a:cubicBezTo>
                <a:cubicBezTo>
                  <a:pt x="22519" y="4074"/>
                  <a:pt x="22527" y="4141"/>
                  <a:pt x="22533" y="4210"/>
                </a:cubicBezTo>
                <a:cubicBezTo>
                  <a:pt x="22537" y="4262"/>
                  <a:pt x="22546" y="4330"/>
                  <a:pt x="22530" y="4381"/>
                </a:cubicBezTo>
                <a:cubicBezTo>
                  <a:pt x="22527" y="4385"/>
                  <a:pt x="22525" y="4390"/>
                  <a:pt x="22522" y="4394"/>
                </a:cubicBezTo>
                <a:cubicBezTo>
                  <a:pt x="22505" y="4368"/>
                  <a:pt x="22497" y="4348"/>
                  <a:pt x="22498" y="4309"/>
                </a:cubicBezTo>
                <a:cubicBezTo>
                  <a:pt x="22500" y="4236"/>
                  <a:pt x="22519" y="4165"/>
                  <a:pt x="22549" y="4099"/>
                </a:cubicBezTo>
                <a:cubicBezTo>
                  <a:pt x="22586" y="4017"/>
                  <a:pt x="22656" y="3894"/>
                  <a:pt x="22756" y="3881"/>
                </a:cubicBezTo>
                <a:cubicBezTo>
                  <a:pt x="22801" y="3875"/>
                  <a:pt x="22824" y="3917"/>
                  <a:pt x="22826" y="3955"/>
                </a:cubicBezTo>
                <a:cubicBezTo>
                  <a:pt x="22828" y="3997"/>
                  <a:pt x="22808" y="4042"/>
                  <a:pt x="22786" y="4076"/>
                </a:cubicBezTo>
                <a:cubicBezTo>
                  <a:pt x="22774" y="4095"/>
                  <a:pt x="22756" y="4111"/>
                  <a:pt x="22742" y="4129"/>
                </a:cubicBezTo>
                <a:cubicBezTo>
                  <a:pt x="22760" y="4152"/>
                  <a:pt x="22776" y="4168"/>
                  <a:pt x="22803" y="4185"/>
                </a:cubicBezTo>
                <a:cubicBezTo>
                  <a:pt x="22908" y="4251"/>
                  <a:pt x="23022" y="4296"/>
                  <a:pt x="23133" y="435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"/>
          <p:cNvSpPr/>
          <p:nvPr/>
        </p:nvSpPr>
        <p:spPr>
          <a:xfrm>
            <a:off x="3902040" y="4346640"/>
            <a:ext cx="755640" cy="73080"/>
          </a:xfrm>
          <a:custGeom>
            <a:avLst/>
            <a:gdLst/>
            <a:ahLst/>
            <a:rect l="l" t="t" r="r" b="b"/>
            <a:pathLst>
              <a:path w="2099" h="205">
                <a:moveTo>
                  <a:pt x="10993" y="12215"/>
                </a:moveTo>
                <a:cubicBezTo>
                  <a:pt x="10960" y="12220"/>
                  <a:pt x="10926" y="12229"/>
                  <a:pt x="10894" y="12234"/>
                </a:cubicBezTo>
                <a:cubicBezTo>
                  <a:pt x="10875" y="12237"/>
                  <a:pt x="10857" y="12236"/>
                  <a:pt x="10838" y="12239"/>
                </a:cubicBezTo>
                <a:cubicBezTo>
                  <a:pt x="10898" y="12240"/>
                  <a:pt x="10955" y="12235"/>
                  <a:pt x="11015" y="12232"/>
                </a:cubicBezTo>
                <a:cubicBezTo>
                  <a:pt x="11150" y="12224"/>
                  <a:pt x="11285" y="12219"/>
                  <a:pt x="11420" y="12217"/>
                </a:cubicBezTo>
                <a:cubicBezTo>
                  <a:pt x="11757" y="12213"/>
                  <a:pt x="12090" y="12240"/>
                  <a:pt x="12425" y="12270"/>
                </a:cubicBezTo>
                <a:cubicBezTo>
                  <a:pt x="12515" y="12278"/>
                  <a:pt x="12611" y="12286"/>
                  <a:pt x="12700" y="12267"/>
                </a:cubicBezTo>
                <a:cubicBezTo>
                  <a:pt x="12731" y="12260"/>
                  <a:pt x="12977" y="12088"/>
                  <a:pt x="12936" y="12073"/>
                </a:cubicBezTo>
                <a:cubicBezTo>
                  <a:pt x="12923" y="12068"/>
                  <a:pt x="12890" y="12113"/>
                  <a:pt x="12884" y="1211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"/>
          <p:cNvSpPr/>
          <p:nvPr/>
        </p:nvSpPr>
        <p:spPr>
          <a:xfrm>
            <a:off x="5789520" y="4457880"/>
            <a:ext cx="1006560" cy="31680"/>
          </a:xfrm>
          <a:custGeom>
            <a:avLst/>
            <a:gdLst/>
            <a:ahLst/>
            <a:rect l="l" t="t" r="r" b="b"/>
            <a:pathLst>
              <a:path w="2793" h="85">
                <a:moveTo>
                  <a:pt x="16129" y="12447"/>
                </a:moveTo>
                <a:cubicBezTo>
                  <a:pt x="16122" y="12442"/>
                  <a:pt x="16059" y="12428"/>
                  <a:pt x="16099" y="12429"/>
                </a:cubicBezTo>
                <a:cubicBezTo>
                  <a:pt x="16151" y="12430"/>
                  <a:pt x="16206" y="12448"/>
                  <a:pt x="16258" y="12453"/>
                </a:cubicBezTo>
                <a:cubicBezTo>
                  <a:pt x="16413" y="12468"/>
                  <a:pt x="16569" y="12468"/>
                  <a:pt x="16725" y="12467"/>
                </a:cubicBezTo>
                <a:cubicBezTo>
                  <a:pt x="17258" y="12464"/>
                  <a:pt x="17788" y="12392"/>
                  <a:pt x="18320" y="12384"/>
                </a:cubicBezTo>
                <a:cubicBezTo>
                  <a:pt x="18491" y="12381"/>
                  <a:pt x="18667" y="12392"/>
                  <a:pt x="18837" y="12412"/>
                </a:cubicBezTo>
                <a:cubicBezTo>
                  <a:pt x="18858" y="12414"/>
                  <a:pt x="18833" y="12414"/>
                  <a:pt x="18854" y="1241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"/>
          <p:cNvSpPr/>
          <p:nvPr/>
        </p:nvSpPr>
        <p:spPr>
          <a:xfrm>
            <a:off x="7656480" y="4478400"/>
            <a:ext cx="539640" cy="284040"/>
          </a:xfrm>
          <a:custGeom>
            <a:avLst/>
            <a:gdLst/>
            <a:ahLst/>
            <a:rect l="l" t="t" r="r" b="b"/>
            <a:pathLst>
              <a:path w="1498" h="789">
                <a:moveTo>
                  <a:pt x="21270" y="12440"/>
                </a:moveTo>
                <a:cubicBezTo>
                  <a:pt x="21286" y="12480"/>
                  <a:pt x="21310" y="12515"/>
                  <a:pt x="21331" y="12554"/>
                </a:cubicBezTo>
                <a:cubicBezTo>
                  <a:pt x="21373" y="12631"/>
                  <a:pt x="21414" y="12709"/>
                  <a:pt x="21457" y="12786"/>
                </a:cubicBezTo>
                <a:cubicBezTo>
                  <a:pt x="21478" y="12824"/>
                  <a:pt x="21522" y="12922"/>
                  <a:pt x="21575" y="12928"/>
                </a:cubicBezTo>
                <a:cubicBezTo>
                  <a:pt x="21598" y="12931"/>
                  <a:pt x="21612" y="12902"/>
                  <a:pt x="21622" y="12888"/>
                </a:cubicBezTo>
              </a:path>
              <a:path w="1498" h="789">
                <a:moveTo>
                  <a:pt x="21726" y="12604"/>
                </a:moveTo>
                <a:cubicBezTo>
                  <a:pt x="21726" y="12599"/>
                  <a:pt x="21727" y="12594"/>
                  <a:pt x="21727" y="12589"/>
                </a:cubicBezTo>
                <a:cubicBezTo>
                  <a:pt x="21679" y="12592"/>
                  <a:pt x="21651" y="12628"/>
                  <a:pt x="21615" y="12666"/>
                </a:cubicBezTo>
                <a:cubicBezTo>
                  <a:pt x="21552" y="12732"/>
                  <a:pt x="21489" y="12805"/>
                  <a:pt x="21441" y="12884"/>
                </a:cubicBezTo>
                <a:cubicBezTo>
                  <a:pt x="21439" y="12888"/>
                  <a:pt x="21352" y="13027"/>
                  <a:pt x="21360" y="13030"/>
                </a:cubicBezTo>
                <a:cubicBezTo>
                  <a:pt x="21367" y="13027"/>
                  <a:pt x="21375" y="13023"/>
                  <a:pt x="21382" y="13020"/>
                </a:cubicBezTo>
              </a:path>
              <a:path w="1498" h="789">
                <a:moveTo>
                  <a:pt x="21846" y="12588"/>
                </a:moveTo>
                <a:cubicBezTo>
                  <a:pt x="21882" y="12574"/>
                  <a:pt x="21898" y="12577"/>
                  <a:pt x="21935" y="12579"/>
                </a:cubicBezTo>
                <a:cubicBezTo>
                  <a:pt x="21988" y="12582"/>
                  <a:pt x="22039" y="12597"/>
                  <a:pt x="22090" y="12615"/>
                </a:cubicBezTo>
                <a:cubicBezTo>
                  <a:pt x="22125" y="12627"/>
                  <a:pt x="22160" y="12642"/>
                  <a:pt x="22184" y="12670"/>
                </a:cubicBezTo>
              </a:path>
              <a:path w="1498" h="789">
                <a:moveTo>
                  <a:pt x="21757" y="12798"/>
                </a:moveTo>
                <a:cubicBezTo>
                  <a:pt x="21818" y="12801"/>
                  <a:pt x="21878" y="12796"/>
                  <a:pt x="21939" y="12791"/>
                </a:cubicBezTo>
                <a:cubicBezTo>
                  <a:pt x="22004" y="12785"/>
                  <a:pt x="22073" y="12784"/>
                  <a:pt x="22136" y="12768"/>
                </a:cubicBezTo>
                <a:cubicBezTo>
                  <a:pt x="22179" y="12757"/>
                  <a:pt x="22190" y="12744"/>
                  <a:pt x="22206" y="12706"/>
                </a:cubicBezTo>
              </a:path>
              <a:path w="1498" h="789">
                <a:moveTo>
                  <a:pt x="22149" y="12489"/>
                </a:moveTo>
                <a:cubicBezTo>
                  <a:pt x="22133" y="12516"/>
                  <a:pt x="22124" y="12552"/>
                  <a:pt x="22115" y="12582"/>
                </a:cubicBezTo>
                <a:cubicBezTo>
                  <a:pt x="22094" y="12654"/>
                  <a:pt x="22077" y="12729"/>
                  <a:pt x="22052" y="12800"/>
                </a:cubicBezTo>
                <a:cubicBezTo>
                  <a:pt x="22033" y="12854"/>
                  <a:pt x="22011" y="12907"/>
                  <a:pt x="22002" y="12965"/>
                </a:cubicBezTo>
                <a:cubicBezTo>
                  <a:pt x="22002" y="12971"/>
                  <a:pt x="22001" y="12977"/>
                  <a:pt x="22001" y="12983"/>
                </a:cubicBezTo>
              </a:path>
              <a:path w="1498" h="789">
                <a:moveTo>
                  <a:pt x="22419" y="12582"/>
                </a:moveTo>
                <a:cubicBezTo>
                  <a:pt x="22448" y="12554"/>
                  <a:pt x="22428" y="12597"/>
                  <a:pt x="22423" y="12620"/>
                </a:cubicBezTo>
                <a:cubicBezTo>
                  <a:pt x="22410" y="12675"/>
                  <a:pt x="22397" y="12729"/>
                  <a:pt x="22393" y="12786"/>
                </a:cubicBezTo>
                <a:cubicBezTo>
                  <a:pt x="22391" y="12815"/>
                  <a:pt x="22384" y="12880"/>
                  <a:pt x="22428" y="12885"/>
                </a:cubicBezTo>
                <a:cubicBezTo>
                  <a:pt x="22475" y="12890"/>
                  <a:pt x="22546" y="12823"/>
                  <a:pt x="22578" y="12797"/>
                </a:cubicBezTo>
                <a:cubicBezTo>
                  <a:pt x="22632" y="12752"/>
                  <a:pt x="22685" y="12705"/>
                  <a:pt x="22737" y="12657"/>
                </a:cubicBezTo>
                <a:cubicBezTo>
                  <a:pt x="22753" y="12641"/>
                  <a:pt x="22756" y="12638"/>
                  <a:pt x="22767" y="12630"/>
                </a:cubicBezTo>
                <a:cubicBezTo>
                  <a:pt x="22716" y="12673"/>
                  <a:pt x="22675" y="12718"/>
                  <a:pt x="22636" y="12772"/>
                </a:cubicBezTo>
                <a:cubicBezTo>
                  <a:pt x="22579" y="12853"/>
                  <a:pt x="22534" y="12940"/>
                  <a:pt x="22491" y="13029"/>
                </a:cubicBezTo>
                <a:cubicBezTo>
                  <a:pt x="22463" y="13086"/>
                  <a:pt x="22451" y="13145"/>
                  <a:pt x="22434" y="13206"/>
                </a:cubicBezTo>
                <a:cubicBezTo>
                  <a:pt x="22432" y="13213"/>
                  <a:pt x="22430" y="13221"/>
                  <a:pt x="22428" y="1322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"/>
          <p:cNvSpPr/>
          <p:nvPr/>
        </p:nvSpPr>
        <p:spPr>
          <a:xfrm>
            <a:off x="1054080" y="4846680"/>
            <a:ext cx="353880" cy="301680"/>
          </a:xfrm>
          <a:custGeom>
            <a:avLst/>
            <a:gdLst/>
            <a:ahLst/>
            <a:rect l="l" t="t" r="r" b="b"/>
            <a:pathLst>
              <a:path w="982" h="836">
                <a:moveTo>
                  <a:pt x="2933" y="14113"/>
                </a:moveTo>
                <a:cubicBezTo>
                  <a:pt x="2932" y="14160"/>
                  <a:pt x="2939" y="14198"/>
                  <a:pt x="2947" y="14245"/>
                </a:cubicBezTo>
                <a:cubicBezTo>
                  <a:pt x="2953" y="14280"/>
                  <a:pt x="2953" y="14281"/>
                  <a:pt x="2982" y="14299"/>
                </a:cubicBezTo>
                <a:cubicBezTo>
                  <a:pt x="3010" y="14251"/>
                  <a:pt x="3021" y="14204"/>
                  <a:pt x="3032" y="14149"/>
                </a:cubicBezTo>
                <a:cubicBezTo>
                  <a:pt x="3064" y="13983"/>
                  <a:pt x="3082" y="13813"/>
                  <a:pt x="3100" y="13645"/>
                </a:cubicBezTo>
                <a:cubicBezTo>
                  <a:pt x="3107" y="13584"/>
                  <a:pt x="3114" y="13524"/>
                  <a:pt x="3123" y="13464"/>
                </a:cubicBezTo>
                <a:cubicBezTo>
                  <a:pt x="3128" y="13514"/>
                  <a:pt x="3130" y="13565"/>
                  <a:pt x="3134" y="13615"/>
                </a:cubicBezTo>
                <a:cubicBezTo>
                  <a:pt x="3143" y="13725"/>
                  <a:pt x="3150" y="13835"/>
                  <a:pt x="3165" y="13945"/>
                </a:cubicBezTo>
                <a:cubicBezTo>
                  <a:pt x="3176" y="14026"/>
                  <a:pt x="3181" y="14118"/>
                  <a:pt x="3216" y="14194"/>
                </a:cubicBezTo>
                <a:cubicBezTo>
                  <a:pt x="3221" y="14202"/>
                  <a:pt x="3227" y="14209"/>
                  <a:pt x="3232" y="14217"/>
                </a:cubicBezTo>
                <a:cubicBezTo>
                  <a:pt x="3274" y="14201"/>
                  <a:pt x="3279" y="14195"/>
                  <a:pt x="3305" y="14139"/>
                </a:cubicBezTo>
                <a:cubicBezTo>
                  <a:pt x="3360" y="14018"/>
                  <a:pt x="3393" y="13886"/>
                  <a:pt x="3431" y="13759"/>
                </a:cubicBezTo>
                <a:cubicBezTo>
                  <a:pt x="3454" y="13681"/>
                  <a:pt x="3468" y="13601"/>
                  <a:pt x="3488" y="13523"/>
                </a:cubicBezTo>
                <a:cubicBezTo>
                  <a:pt x="3491" y="13506"/>
                  <a:pt x="3492" y="13500"/>
                  <a:pt x="3492" y="13523"/>
                </a:cubicBezTo>
              </a:path>
              <a:path w="982" h="836">
                <a:moveTo>
                  <a:pt x="3742" y="13934"/>
                </a:moveTo>
                <a:cubicBezTo>
                  <a:pt x="3726" y="13972"/>
                  <a:pt x="3699" y="13995"/>
                  <a:pt x="3677" y="14028"/>
                </a:cubicBezTo>
                <a:cubicBezTo>
                  <a:pt x="3649" y="14070"/>
                  <a:pt x="3615" y="14129"/>
                  <a:pt x="3615" y="14181"/>
                </a:cubicBezTo>
                <a:cubicBezTo>
                  <a:pt x="3615" y="14234"/>
                  <a:pt x="3658" y="14247"/>
                  <a:pt x="3703" y="14243"/>
                </a:cubicBezTo>
                <a:cubicBezTo>
                  <a:pt x="3762" y="14237"/>
                  <a:pt x="3815" y="14203"/>
                  <a:pt x="3854" y="14160"/>
                </a:cubicBezTo>
                <a:cubicBezTo>
                  <a:pt x="3890" y="14120"/>
                  <a:pt x="3912" y="14069"/>
                  <a:pt x="3910" y="14015"/>
                </a:cubicBezTo>
                <a:cubicBezTo>
                  <a:pt x="3908" y="13945"/>
                  <a:pt x="3853" y="13910"/>
                  <a:pt x="3789" y="13903"/>
                </a:cubicBezTo>
                <a:cubicBezTo>
                  <a:pt x="3764" y="13903"/>
                  <a:pt x="3756" y="13903"/>
                  <a:pt x="3739" y="1390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"/>
          <p:cNvSpPr/>
          <p:nvPr/>
        </p:nvSpPr>
        <p:spPr>
          <a:xfrm>
            <a:off x="1725480" y="4819680"/>
            <a:ext cx="927360" cy="325440"/>
          </a:xfrm>
          <a:custGeom>
            <a:avLst/>
            <a:gdLst/>
            <a:ahLst/>
            <a:rect l="l" t="t" r="r" b="b"/>
            <a:pathLst>
              <a:path w="2573" h="901">
                <a:moveTo>
                  <a:pt x="5049" y="13410"/>
                </a:moveTo>
                <a:cubicBezTo>
                  <a:pt x="5038" y="13402"/>
                  <a:pt x="5034" y="13397"/>
                  <a:pt x="5028" y="13389"/>
                </a:cubicBezTo>
                <a:cubicBezTo>
                  <a:pt x="5008" y="13414"/>
                  <a:pt x="4996" y="13439"/>
                  <a:pt x="4981" y="13472"/>
                </a:cubicBezTo>
                <a:cubicBezTo>
                  <a:pt x="4944" y="13555"/>
                  <a:pt x="4907" y="13637"/>
                  <a:pt x="4872" y="13720"/>
                </a:cubicBezTo>
                <a:cubicBezTo>
                  <a:pt x="4830" y="13819"/>
                  <a:pt x="4782" y="13932"/>
                  <a:pt x="4797" y="14042"/>
                </a:cubicBezTo>
                <a:cubicBezTo>
                  <a:pt x="4807" y="14115"/>
                  <a:pt x="4871" y="14160"/>
                  <a:pt x="4943" y="14157"/>
                </a:cubicBezTo>
                <a:cubicBezTo>
                  <a:pt x="4954" y="14155"/>
                  <a:pt x="4966" y="14152"/>
                  <a:pt x="4977" y="14150"/>
                </a:cubicBezTo>
              </a:path>
              <a:path w="2573" h="901">
                <a:moveTo>
                  <a:pt x="5106" y="13782"/>
                </a:moveTo>
                <a:cubicBezTo>
                  <a:pt x="5095" y="13823"/>
                  <a:pt x="5104" y="13863"/>
                  <a:pt x="5115" y="13904"/>
                </a:cubicBezTo>
                <a:cubicBezTo>
                  <a:pt x="5134" y="13973"/>
                  <a:pt x="5162" y="14045"/>
                  <a:pt x="5205" y="14103"/>
                </a:cubicBezTo>
                <a:cubicBezTo>
                  <a:pt x="5232" y="14140"/>
                  <a:pt x="5277" y="14161"/>
                  <a:pt x="5321" y="14140"/>
                </a:cubicBezTo>
                <a:cubicBezTo>
                  <a:pt x="5330" y="14133"/>
                  <a:pt x="5340" y="14127"/>
                  <a:pt x="5349" y="14120"/>
                </a:cubicBezTo>
              </a:path>
              <a:path w="2573" h="901">
                <a:moveTo>
                  <a:pt x="5434" y="13751"/>
                </a:moveTo>
                <a:cubicBezTo>
                  <a:pt x="5392" y="13754"/>
                  <a:pt x="5393" y="13789"/>
                  <a:pt x="5374" y="13823"/>
                </a:cubicBezTo>
                <a:cubicBezTo>
                  <a:pt x="5336" y="13892"/>
                  <a:pt x="5306" y="13963"/>
                  <a:pt x="5272" y="14035"/>
                </a:cubicBezTo>
                <a:cubicBezTo>
                  <a:pt x="5247" y="14087"/>
                  <a:pt x="5221" y="14148"/>
                  <a:pt x="5186" y="14194"/>
                </a:cubicBezTo>
                <a:cubicBezTo>
                  <a:pt x="5175" y="14205"/>
                  <a:pt x="5173" y="14209"/>
                  <a:pt x="5163" y="14209"/>
                </a:cubicBezTo>
              </a:path>
              <a:path w="2573" h="901">
                <a:moveTo>
                  <a:pt x="5642" y="14042"/>
                </a:moveTo>
                <a:cubicBezTo>
                  <a:pt x="5636" y="14082"/>
                  <a:pt x="5626" y="14112"/>
                  <a:pt x="5613" y="14149"/>
                </a:cubicBezTo>
                <a:cubicBezTo>
                  <a:pt x="5597" y="14194"/>
                  <a:pt x="5584" y="14231"/>
                  <a:pt x="5556" y="14270"/>
                </a:cubicBezTo>
                <a:cubicBezTo>
                  <a:pt x="5546" y="14283"/>
                  <a:pt x="5544" y="14287"/>
                  <a:pt x="5534" y="14289"/>
                </a:cubicBezTo>
              </a:path>
              <a:path w="2573" h="901">
                <a:moveTo>
                  <a:pt x="5848" y="13808"/>
                </a:moveTo>
                <a:cubicBezTo>
                  <a:pt x="5815" y="13825"/>
                  <a:pt x="5794" y="13853"/>
                  <a:pt x="5778" y="13890"/>
                </a:cubicBezTo>
                <a:cubicBezTo>
                  <a:pt x="5760" y="13932"/>
                  <a:pt x="5746" y="13986"/>
                  <a:pt x="5753" y="14032"/>
                </a:cubicBezTo>
                <a:cubicBezTo>
                  <a:pt x="5758" y="14062"/>
                  <a:pt x="5778" y="14079"/>
                  <a:pt x="5807" y="14068"/>
                </a:cubicBezTo>
                <a:cubicBezTo>
                  <a:pt x="5834" y="14058"/>
                  <a:pt x="5854" y="14029"/>
                  <a:pt x="5863" y="14004"/>
                </a:cubicBezTo>
                <a:cubicBezTo>
                  <a:pt x="5870" y="13984"/>
                  <a:pt x="5874" y="13953"/>
                  <a:pt x="5863" y="13933"/>
                </a:cubicBezTo>
                <a:cubicBezTo>
                  <a:pt x="5859" y="13928"/>
                  <a:pt x="5854" y="13923"/>
                  <a:pt x="5850" y="13918"/>
                </a:cubicBezTo>
              </a:path>
              <a:path w="2573" h="901">
                <a:moveTo>
                  <a:pt x="5736" y="13768"/>
                </a:moveTo>
                <a:cubicBezTo>
                  <a:pt x="5732" y="13749"/>
                  <a:pt x="5727" y="13732"/>
                  <a:pt x="5724" y="13713"/>
                </a:cubicBezTo>
                <a:cubicBezTo>
                  <a:pt x="5740" y="13742"/>
                  <a:pt x="5751" y="13774"/>
                  <a:pt x="5766" y="13805"/>
                </a:cubicBezTo>
                <a:cubicBezTo>
                  <a:pt x="5798" y="13872"/>
                  <a:pt x="5830" y="13939"/>
                  <a:pt x="5867" y="14003"/>
                </a:cubicBezTo>
                <a:cubicBezTo>
                  <a:pt x="5896" y="14053"/>
                  <a:pt x="5958" y="14175"/>
                  <a:pt x="6026" y="14181"/>
                </a:cubicBezTo>
                <a:cubicBezTo>
                  <a:pt x="6043" y="14178"/>
                  <a:pt x="6049" y="14176"/>
                  <a:pt x="6055" y="14164"/>
                </a:cubicBezTo>
              </a:path>
              <a:path w="2573" h="901">
                <a:moveTo>
                  <a:pt x="6024" y="13754"/>
                </a:moveTo>
                <a:cubicBezTo>
                  <a:pt x="5975" y="13774"/>
                  <a:pt x="5965" y="13804"/>
                  <a:pt x="5933" y="13844"/>
                </a:cubicBezTo>
                <a:cubicBezTo>
                  <a:pt x="5886" y="13903"/>
                  <a:pt x="5837" y="13968"/>
                  <a:pt x="5808" y="14039"/>
                </a:cubicBezTo>
                <a:cubicBezTo>
                  <a:pt x="5795" y="14072"/>
                  <a:pt x="5761" y="14142"/>
                  <a:pt x="5796" y="14137"/>
                </a:cubicBezTo>
                <a:cubicBezTo>
                  <a:pt x="5802" y="14134"/>
                  <a:pt x="5808" y="14131"/>
                  <a:pt x="5814" y="14128"/>
                </a:cubicBezTo>
              </a:path>
              <a:path w="2573" h="901">
                <a:moveTo>
                  <a:pt x="6097" y="13435"/>
                </a:moveTo>
                <a:cubicBezTo>
                  <a:pt x="6107" y="13417"/>
                  <a:pt x="6108" y="13411"/>
                  <a:pt x="6120" y="13406"/>
                </a:cubicBezTo>
                <a:cubicBezTo>
                  <a:pt x="6166" y="13442"/>
                  <a:pt x="6175" y="13497"/>
                  <a:pt x="6190" y="13553"/>
                </a:cubicBezTo>
                <a:cubicBezTo>
                  <a:pt x="6220" y="13665"/>
                  <a:pt x="6236" y="13782"/>
                  <a:pt x="6238" y="13898"/>
                </a:cubicBezTo>
                <a:cubicBezTo>
                  <a:pt x="6240" y="13977"/>
                  <a:pt x="6242" y="14061"/>
                  <a:pt x="6215" y="14137"/>
                </a:cubicBezTo>
                <a:cubicBezTo>
                  <a:pt x="6206" y="14153"/>
                  <a:pt x="6206" y="14158"/>
                  <a:pt x="6194" y="14161"/>
                </a:cubicBezTo>
              </a:path>
              <a:path w="2573" h="901">
                <a:moveTo>
                  <a:pt x="6552" y="13649"/>
                </a:moveTo>
                <a:cubicBezTo>
                  <a:pt x="6550" y="13637"/>
                  <a:pt x="6550" y="13633"/>
                  <a:pt x="6543" y="13628"/>
                </a:cubicBezTo>
                <a:cubicBezTo>
                  <a:pt x="6511" y="13636"/>
                  <a:pt x="6501" y="13658"/>
                  <a:pt x="6483" y="13685"/>
                </a:cubicBezTo>
                <a:cubicBezTo>
                  <a:pt x="6447" y="13738"/>
                  <a:pt x="6420" y="13795"/>
                  <a:pt x="6400" y="13856"/>
                </a:cubicBezTo>
                <a:cubicBezTo>
                  <a:pt x="6386" y="13899"/>
                  <a:pt x="6370" y="13952"/>
                  <a:pt x="6402" y="13991"/>
                </a:cubicBezTo>
                <a:cubicBezTo>
                  <a:pt x="6428" y="14023"/>
                  <a:pt x="6485" y="14030"/>
                  <a:pt x="6523" y="14031"/>
                </a:cubicBezTo>
                <a:cubicBezTo>
                  <a:pt x="6553" y="14028"/>
                  <a:pt x="6563" y="14027"/>
                  <a:pt x="6583" y="14023"/>
                </a:cubicBezTo>
              </a:path>
              <a:path w="2573" h="901">
                <a:moveTo>
                  <a:pt x="6465" y="13935"/>
                </a:moveTo>
                <a:cubicBezTo>
                  <a:pt x="6440" y="13962"/>
                  <a:pt x="6503" y="13922"/>
                  <a:pt x="6518" y="13917"/>
                </a:cubicBezTo>
                <a:cubicBezTo>
                  <a:pt x="6567" y="13902"/>
                  <a:pt x="6613" y="13888"/>
                  <a:pt x="6664" y="13879"/>
                </a:cubicBezTo>
                <a:cubicBezTo>
                  <a:pt x="6691" y="13873"/>
                  <a:pt x="6699" y="13872"/>
                  <a:pt x="6716" y="13869"/>
                </a:cubicBezTo>
              </a:path>
              <a:path w="2573" h="901">
                <a:moveTo>
                  <a:pt x="6588" y="13538"/>
                </a:moveTo>
                <a:cubicBezTo>
                  <a:pt x="6569" y="13514"/>
                  <a:pt x="6571" y="13584"/>
                  <a:pt x="6570" y="13594"/>
                </a:cubicBezTo>
                <a:cubicBezTo>
                  <a:pt x="6559" y="13673"/>
                  <a:pt x="6557" y="13752"/>
                  <a:pt x="6558" y="13832"/>
                </a:cubicBezTo>
                <a:cubicBezTo>
                  <a:pt x="6559" y="13913"/>
                  <a:pt x="6564" y="13990"/>
                  <a:pt x="6571" y="14070"/>
                </a:cubicBezTo>
                <a:cubicBezTo>
                  <a:pt x="6574" y="14102"/>
                  <a:pt x="6574" y="14110"/>
                  <a:pt x="6579" y="14130"/>
                </a:cubicBezTo>
              </a:path>
              <a:path w="2573" h="901">
                <a:moveTo>
                  <a:pt x="6933" y="13532"/>
                </a:moveTo>
                <a:cubicBezTo>
                  <a:pt x="6940" y="13579"/>
                  <a:pt x="6943" y="13626"/>
                  <a:pt x="6947" y="13673"/>
                </a:cubicBezTo>
                <a:cubicBezTo>
                  <a:pt x="6955" y="13756"/>
                  <a:pt x="6961" y="13839"/>
                  <a:pt x="6966" y="13922"/>
                </a:cubicBezTo>
                <a:cubicBezTo>
                  <a:pt x="6969" y="13972"/>
                  <a:pt x="6980" y="14034"/>
                  <a:pt x="6966" y="14083"/>
                </a:cubicBezTo>
                <a:cubicBezTo>
                  <a:pt x="6964" y="14086"/>
                  <a:pt x="6962" y="14089"/>
                  <a:pt x="6960" y="14092"/>
                </a:cubicBezTo>
                <a:cubicBezTo>
                  <a:pt x="6940" y="14042"/>
                  <a:pt x="6935" y="13994"/>
                  <a:pt x="6933" y="13939"/>
                </a:cubicBezTo>
                <a:cubicBezTo>
                  <a:pt x="6929" y="13789"/>
                  <a:pt x="6949" y="13627"/>
                  <a:pt x="7018" y="13492"/>
                </a:cubicBezTo>
                <a:cubicBezTo>
                  <a:pt x="7038" y="13453"/>
                  <a:pt x="7054" y="13439"/>
                  <a:pt x="7089" y="13418"/>
                </a:cubicBezTo>
                <a:cubicBezTo>
                  <a:pt x="7128" y="13443"/>
                  <a:pt x="7126" y="13474"/>
                  <a:pt x="7119" y="13520"/>
                </a:cubicBezTo>
                <a:cubicBezTo>
                  <a:pt x="7108" y="13593"/>
                  <a:pt x="7076" y="13659"/>
                  <a:pt x="7041" y="13723"/>
                </a:cubicBezTo>
                <a:cubicBezTo>
                  <a:pt x="7022" y="13758"/>
                  <a:pt x="6989" y="13797"/>
                  <a:pt x="6986" y="13838"/>
                </a:cubicBezTo>
                <a:cubicBezTo>
                  <a:pt x="6989" y="13841"/>
                  <a:pt x="6992" y="13845"/>
                  <a:pt x="6995" y="13848"/>
                </a:cubicBezTo>
                <a:cubicBezTo>
                  <a:pt x="7068" y="13871"/>
                  <a:pt x="7144" y="13882"/>
                  <a:pt x="7217" y="13900"/>
                </a:cubicBezTo>
                <a:cubicBezTo>
                  <a:pt x="7267" y="13912"/>
                  <a:pt x="7315" y="13931"/>
                  <a:pt x="7366" y="1394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"/>
          <p:cNvSpPr/>
          <p:nvPr/>
        </p:nvSpPr>
        <p:spPr>
          <a:xfrm>
            <a:off x="2970360" y="4762440"/>
            <a:ext cx="523800" cy="561960"/>
          </a:xfrm>
          <a:custGeom>
            <a:avLst/>
            <a:gdLst/>
            <a:ahLst/>
            <a:rect l="l" t="t" r="r" b="b"/>
            <a:pathLst>
              <a:path w="1455" h="1563">
                <a:moveTo>
                  <a:pt x="8448" y="13511"/>
                </a:moveTo>
                <a:cubicBezTo>
                  <a:pt x="8452" y="13556"/>
                  <a:pt x="8459" y="13590"/>
                  <a:pt x="8473" y="13633"/>
                </a:cubicBezTo>
                <a:cubicBezTo>
                  <a:pt x="8493" y="13694"/>
                  <a:pt x="8514" y="13755"/>
                  <a:pt x="8536" y="13815"/>
                </a:cubicBezTo>
                <a:cubicBezTo>
                  <a:pt x="8546" y="13844"/>
                  <a:pt x="8559" y="13871"/>
                  <a:pt x="8572" y="13899"/>
                </a:cubicBezTo>
                <a:cubicBezTo>
                  <a:pt x="8565" y="13849"/>
                  <a:pt x="8549" y="13800"/>
                  <a:pt x="8537" y="13751"/>
                </a:cubicBezTo>
                <a:cubicBezTo>
                  <a:pt x="8510" y="13644"/>
                  <a:pt x="8488" y="13536"/>
                  <a:pt x="8472" y="13426"/>
                </a:cubicBezTo>
                <a:cubicBezTo>
                  <a:pt x="8463" y="13360"/>
                  <a:pt x="8455" y="13295"/>
                  <a:pt x="8446" y="13229"/>
                </a:cubicBezTo>
                <a:cubicBezTo>
                  <a:pt x="8421" y="13282"/>
                  <a:pt x="8404" y="13337"/>
                  <a:pt x="8381" y="13391"/>
                </a:cubicBezTo>
                <a:cubicBezTo>
                  <a:pt x="8349" y="13465"/>
                  <a:pt x="8317" y="13537"/>
                  <a:pt x="8262" y="13597"/>
                </a:cubicBezTo>
                <a:cubicBezTo>
                  <a:pt x="8254" y="13571"/>
                  <a:pt x="8257" y="13547"/>
                  <a:pt x="8275" y="13506"/>
                </a:cubicBezTo>
                <a:cubicBezTo>
                  <a:pt x="8304" y="13442"/>
                  <a:pt x="8340" y="13377"/>
                  <a:pt x="8393" y="13329"/>
                </a:cubicBezTo>
                <a:cubicBezTo>
                  <a:pt x="8433" y="13293"/>
                  <a:pt x="8482" y="13279"/>
                  <a:pt x="8530" y="13309"/>
                </a:cubicBezTo>
                <a:cubicBezTo>
                  <a:pt x="8584" y="13343"/>
                  <a:pt x="8610" y="13417"/>
                  <a:pt x="8632" y="13473"/>
                </a:cubicBezTo>
                <a:cubicBezTo>
                  <a:pt x="8648" y="13518"/>
                  <a:pt x="8654" y="13532"/>
                  <a:pt x="8660" y="13563"/>
                </a:cubicBezTo>
              </a:path>
              <a:path w="1455" h="1563">
                <a:moveTo>
                  <a:pt x="8694" y="14121"/>
                </a:moveTo>
                <a:cubicBezTo>
                  <a:pt x="8652" y="14104"/>
                  <a:pt x="8675" y="14173"/>
                  <a:pt x="8681" y="14206"/>
                </a:cubicBezTo>
                <a:cubicBezTo>
                  <a:pt x="8695" y="14284"/>
                  <a:pt x="8719" y="14360"/>
                  <a:pt x="8752" y="14432"/>
                </a:cubicBezTo>
                <a:cubicBezTo>
                  <a:pt x="8768" y="14467"/>
                  <a:pt x="8803" y="14548"/>
                  <a:pt x="8857" y="14521"/>
                </a:cubicBezTo>
                <a:cubicBezTo>
                  <a:pt x="8914" y="14493"/>
                  <a:pt x="8944" y="14388"/>
                  <a:pt x="8963" y="14335"/>
                </a:cubicBezTo>
                <a:cubicBezTo>
                  <a:pt x="8996" y="14244"/>
                  <a:pt x="9019" y="14152"/>
                  <a:pt x="9047" y="14060"/>
                </a:cubicBezTo>
                <a:cubicBezTo>
                  <a:pt x="9053" y="14039"/>
                  <a:pt x="9093" y="13953"/>
                  <a:pt x="9053" y="14010"/>
                </a:cubicBezTo>
              </a:path>
              <a:path w="1455" h="1563">
                <a:moveTo>
                  <a:pt x="8894" y="14408"/>
                </a:moveTo>
                <a:cubicBezTo>
                  <a:pt x="8875" y="14461"/>
                  <a:pt x="8853" y="14522"/>
                  <a:pt x="8848" y="14579"/>
                </a:cubicBezTo>
                <a:cubicBezTo>
                  <a:pt x="8843" y="14637"/>
                  <a:pt x="8847" y="14698"/>
                  <a:pt x="8857" y="14755"/>
                </a:cubicBezTo>
                <a:cubicBezTo>
                  <a:pt x="8862" y="14775"/>
                  <a:pt x="8862" y="14782"/>
                  <a:pt x="8873" y="14791"/>
                </a:cubicBezTo>
                <a:cubicBezTo>
                  <a:pt x="8900" y="14784"/>
                  <a:pt x="8900" y="14778"/>
                  <a:pt x="8919" y="14753"/>
                </a:cubicBezTo>
              </a:path>
              <a:path w="1455" h="1563">
                <a:moveTo>
                  <a:pt x="9070" y="14503"/>
                </a:moveTo>
                <a:cubicBezTo>
                  <a:pt x="9090" y="14508"/>
                  <a:pt x="9117" y="14516"/>
                  <a:pt x="9138" y="14513"/>
                </a:cubicBezTo>
                <a:cubicBezTo>
                  <a:pt x="9185" y="14507"/>
                  <a:pt x="9234" y="14488"/>
                  <a:pt x="9276" y="14466"/>
                </a:cubicBezTo>
                <a:cubicBezTo>
                  <a:pt x="9320" y="14443"/>
                  <a:pt x="9369" y="14415"/>
                  <a:pt x="9399" y="14374"/>
                </a:cubicBezTo>
                <a:cubicBezTo>
                  <a:pt x="9413" y="14354"/>
                  <a:pt x="9410" y="14348"/>
                  <a:pt x="9398" y="14333"/>
                </a:cubicBezTo>
                <a:cubicBezTo>
                  <a:pt x="9354" y="14340"/>
                  <a:pt x="9322" y="14361"/>
                  <a:pt x="9286" y="14389"/>
                </a:cubicBezTo>
                <a:cubicBezTo>
                  <a:pt x="9229" y="14434"/>
                  <a:pt x="9170" y="14489"/>
                  <a:pt x="9127" y="14548"/>
                </a:cubicBezTo>
                <a:cubicBezTo>
                  <a:pt x="9103" y="14581"/>
                  <a:pt x="9093" y="14607"/>
                  <a:pt x="9086" y="14645"/>
                </a:cubicBezTo>
                <a:cubicBezTo>
                  <a:pt x="9124" y="14681"/>
                  <a:pt x="9176" y="14663"/>
                  <a:pt x="9226" y="14648"/>
                </a:cubicBezTo>
                <a:cubicBezTo>
                  <a:pt x="9289" y="14630"/>
                  <a:pt x="9347" y="14601"/>
                  <a:pt x="9406" y="14574"/>
                </a:cubicBezTo>
              </a:path>
              <a:path w="1455" h="1563">
                <a:moveTo>
                  <a:pt x="9623" y="14382"/>
                </a:moveTo>
                <a:cubicBezTo>
                  <a:pt x="9624" y="14371"/>
                  <a:pt x="9621" y="14339"/>
                  <a:pt x="9598" y="14354"/>
                </a:cubicBezTo>
                <a:cubicBezTo>
                  <a:pt x="9581" y="14365"/>
                  <a:pt x="9569" y="14392"/>
                  <a:pt x="9567" y="14411"/>
                </a:cubicBezTo>
                <a:cubicBezTo>
                  <a:pt x="9563" y="14443"/>
                  <a:pt x="9580" y="14463"/>
                  <a:pt x="9598" y="14486"/>
                </a:cubicBezTo>
                <a:cubicBezTo>
                  <a:pt x="9625" y="14521"/>
                  <a:pt x="9657" y="14552"/>
                  <a:pt x="9679" y="14591"/>
                </a:cubicBezTo>
                <a:cubicBezTo>
                  <a:pt x="9697" y="14622"/>
                  <a:pt x="9716" y="14666"/>
                  <a:pt x="9699" y="14702"/>
                </a:cubicBezTo>
                <a:cubicBezTo>
                  <a:pt x="9685" y="14731"/>
                  <a:pt x="9646" y="14734"/>
                  <a:pt x="9619" y="14729"/>
                </a:cubicBezTo>
                <a:cubicBezTo>
                  <a:pt x="9591" y="14724"/>
                  <a:pt x="9558" y="14705"/>
                  <a:pt x="9542" y="14681"/>
                </a:cubicBezTo>
                <a:cubicBezTo>
                  <a:pt x="9527" y="14658"/>
                  <a:pt x="9531" y="14645"/>
                  <a:pt x="9542" y="1462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"/>
          <p:cNvSpPr/>
          <p:nvPr/>
        </p:nvSpPr>
        <p:spPr>
          <a:xfrm>
            <a:off x="4122720" y="4732200"/>
            <a:ext cx="584280" cy="560520"/>
          </a:xfrm>
          <a:custGeom>
            <a:avLst/>
            <a:gdLst/>
            <a:ahLst/>
            <a:rect l="l" t="t" r="r" b="b"/>
            <a:pathLst>
              <a:path w="1621" h="1554">
                <a:moveTo>
                  <a:pt x="11719" y="13823"/>
                </a:moveTo>
                <a:cubicBezTo>
                  <a:pt x="11736" y="13854"/>
                  <a:pt x="11729" y="13850"/>
                  <a:pt x="11725" y="13811"/>
                </a:cubicBezTo>
                <a:cubicBezTo>
                  <a:pt x="11719" y="13747"/>
                  <a:pt x="11708" y="13683"/>
                  <a:pt x="11704" y="13618"/>
                </a:cubicBezTo>
                <a:cubicBezTo>
                  <a:pt x="11697" y="13518"/>
                  <a:pt x="11696" y="13417"/>
                  <a:pt x="11699" y="13317"/>
                </a:cubicBezTo>
                <a:cubicBezTo>
                  <a:pt x="11701" y="13260"/>
                  <a:pt x="11703" y="13203"/>
                  <a:pt x="11701" y="13147"/>
                </a:cubicBezTo>
                <a:cubicBezTo>
                  <a:pt x="11662" y="13201"/>
                  <a:pt x="11628" y="13257"/>
                  <a:pt x="11591" y="13312"/>
                </a:cubicBezTo>
                <a:cubicBezTo>
                  <a:pt x="11555" y="13366"/>
                  <a:pt x="11519" y="13428"/>
                  <a:pt x="11468" y="13469"/>
                </a:cubicBezTo>
                <a:cubicBezTo>
                  <a:pt x="11464" y="13471"/>
                  <a:pt x="11459" y="13474"/>
                  <a:pt x="11455" y="13476"/>
                </a:cubicBezTo>
                <a:cubicBezTo>
                  <a:pt x="11470" y="13439"/>
                  <a:pt x="11489" y="13403"/>
                  <a:pt x="11512" y="13367"/>
                </a:cubicBezTo>
                <a:cubicBezTo>
                  <a:pt x="11555" y="13300"/>
                  <a:pt x="11609" y="13223"/>
                  <a:pt x="11681" y="13184"/>
                </a:cubicBezTo>
                <a:cubicBezTo>
                  <a:pt x="11734" y="13155"/>
                  <a:pt x="11777" y="13198"/>
                  <a:pt x="11812" y="13235"/>
                </a:cubicBezTo>
                <a:cubicBezTo>
                  <a:pt x="11867" y="13294"/>
                  <a:pt x="11906" y="13363"/>
                  <a:pt x="11945" y="13433"/>
                </a:cubicBezTo>
                <a:cubicBezTo>
                  <a:pt x="11968" y="13474"/>
                  <a:pt x="11989" y="13513"/>
                  <a:pt x="12008" y="13556"/>
                </a:cubicBezTo>
              </a:path>
              <a:path w="1621" h="1554">
                <a:moveTo>
                  <a:pt x="11812" y="14179"/>
                </a:moveTo>
                <a:cubicBezTo>
                  <a:pt x="11840" y="14178"/>
                  <a:pt x="11845" y="14219"/>
                  <a:pt x="11857" y="14254"/>
                </a:cubicBezTo>
                <a:cubicBezTo>
                  <a:pt x="11879" y="14318"/>
                  <a:pt x="11905" y="14382"/>
                  <a:pt x="11940" y="14440"/>
                </a:cubicBezTo>
                <a:cubicBezTo>
                  <a:pt x="11964" y="14481"/>
                  <a:pt x="12001" y="14534"/>
                  <a:pt x="12058" y="14526"/>
                </a:cubicBezTo>
                <a:cubicBezTo>
                  <a:pt x="12085" y="14513"/>
                  <a:pt x="12095" y="14509"/>
                  <a:pt x="12107" y="14491"/>
                </a:cubicBezTo>
              </a:path>
              <a:path w="1621" h="1554">
                <a:moveTo>
                  <a:pt x="12177" y="14124"/>
                </a:moveTo>
                <a:cubicBezTo>
                  <a:pt x="12153" y="14161"/>
                  <a:pt x="12146" y="14205"/>
                  <a:pt x="12125" y="14243"/>
                </a:cubicBezTo>
                <a:cubicBezTo>
                  <a:pt x="12088" y="14310"/>
                  <a:pt x="12045" y="14375"/>
                  <a:pt x="12000" y="14437"/>
                </a:cubicBezTo>
                <a:cubicBezTo>
                  <a:pt x="11975" y="14472"/>
                  <a:pt x="11916" y="14566"/>
                  <a:pt x="11906" y="14524"/>
                </a:cubicBezTo>
                <a:cubicBezTo>
                  <a:pt x="11902" y="14511"/>
                  <a:pt x="11902" y="14504"/>
                  <a:pt x="11911" y="14495"/>
                </a:cubicBezTo>
              </a:path>
              <a:path w="1621" h="1554">
                <a:moveTo>
                  <a:pt x="12325" y="14098"/>
                </a:moveTo>
                <a:cubicBezTo>
                  <a:pt x="12342" y="14138"/>
                  <a:pt x="12334" y="14165"/>
                  <a:pt x="12336" y="14208"/>
                </a:cubicBezTo>
                <a:cubicBezTo>
                  <a:pt x="12340" y="14277"/>
                  <a:pt x="12342" y="14346"/>
                  <a:pt x="12346" y="14415"/>
                </a:cubicBezTo>
                <a:cubicBezTo>
                  <a:pt x="12348" y="14454"/>
                  <a:pt x="12351" y="14491"/>
                  <a:pt x="12350" y="14530"/>
                </a:cubicBezTo>
                <a:cubicBezTo>
                  <a:pt x="12343" y="14463"/>
                  <a:pt x="12341" y="14394"/>
                  <a:pt x="12345" y="14327"/>
                </a:cubicBezTo>
                <a:cubicBezTo>
                  <a:pt x="12353" y="14206"/>
                  <a:pt x="12360" y="14058"/>
                  <a:pt x="12430" y="13954"/>
                </a:cubicBezTo>
                <a:cubicBezTo>
                  <a:pt x="12449" y="13926"/>
                  <a:pt x="12459" y="13927"/>
                  <a:pt x="12487" y="13928"/>
                </a:cubicBezTo>
                <a:cubicBezTo>
                  <a:pt x="12513" y="13967"/>
                  <a:pt x="12513" y="14001"/>
                  <a:pt x="12504" y="14049"/>
                </a:cubicBezTo>
                <a:cubicBezTo>
                  <a:pt x="12490" y="14122"/>
                  <a:pt x="12456" y="14193"/>
                  <a:pt x="12421" y="14258"/>
                </a:cubicBezTo>
                <a:cubicBezTo>
                  <a:pt x="12407" y="14285"/>
                  <a:pt x="12408" y="14289"/>
                  <a:pt x="12404" y="14314"/>
                </a:cubicBezTo>
                <a:cubicBezTo>
                  <a:pt x="12430" y="14326"/>
                  <a:pt x="12455" y="14337"/>
                  <a:pt x="12485" y="14342"/>
                </a:cubicBezTo>
                <a:cubicBezTo>
                  <a:pt x="12525" y="14349"/>
                  <a:pt x="12566" y="14356"/>
                  <a:pt x="12606" y="14364"/>
                </a:cubicBezTo>
                <a:cubicBezTo>
                  <a:pt x="12616" y="14366"/>
                  <a:pt x="12625" y="14367"/>
                  <a:pt x="12635" y="14369"/>
                </a:cubicBezTo>
              </a:path>
              <a:path w="1621" h="1554">
                <a:moveTo>
                  <a:pt x="12762" y="14238"/>
                </a:moveTo>
                <a:cubicBezTo>
                  <a:pt x="12782" y="14271"/>
                  <a:pt x="12790" y="14303"/>
                  <a:pt x="12805" y="14339"/>
                </a:cubicBezTo>
                <a:cubicBezTo>
                  <a:pt x="12819" y="14372"/>
                  <a:pt x="12839" y="14418"/>
                  <a:pt x="12879" y="14427"/>
                </a:cubicBezTo>
                <a:cubicBezTo>
                  <a:pt x="12923" y="14437"/>
                  <a:pt x="12965" y="14395"/>
                  <a:pt x="12992" y="14367"/>
                </a:cubicBezTo>
                <a:cubicBezTo>
                  <a:pt x="13013" y="14345"/>
                  <a:pt x="13044" y="14273"/>
                  <a:pt x="13070" y="14262"/>
                </a:cubicBezTo>
                <a:cubicBezTo>
                  <a:pt x="13071" y="14265"/>
                  <a:pt x="13073" y="14268"/>
                  <a:pt x="13074" y="14271"/>
                </a:cubicBezTo>
                <a:cubicBezTo>
                  <a:pt x="13044" y="14373"/>
                  <a:pt x="13003" y="14472"/>
                  <a:pt x="12971" y="14574"/>
                </a:cubicBezTo>
                <a:cubicBezTo>
                  <a:pt x="12957" y="14618"/>
                  <a:pt x="12948" y="14660"/>
                  <a:pt x="12925" y="1470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"/>
          <p:cNvSpPr/>
          <p:nvPr/>
        </p:nvSpPr>
        <p:spPr>
          <a:xfrm>
            <a:off x="4898880" y="5062680"/>
            <a:ext cx="117720" cy="149040"/>
          </a:xfrm>
          <a:custGeom>
            <a:avLst/>
            <a:gdLst/>
            <a:ahLst/>
            <a:rect l="l" t="t" r="r" b="b"/>
            <a:pathLst>
              <a:path w="325" h="414">
                <a:moveTo>
                  <a:pt x="13652" y="14406"/>
                </a:moveTo>
                <a:cubicBezTo>
                  <a:pt x="13637" y="14429"/>
                  <a:pt x="13623" y="14453"/>
                  <a:pt x="13610" y="14477"/>
                </a:cubicBezTo>
                <a:cubicBezTo>
                  <a:pt x="13637" y="14420"/>
                  <a:pt x="13672" y="14367"/>
                  <a:pt x="13702" y="14312"/>
                </a:cubicBezTo>
                <a:cubicBezTo>
                  <a:pt x="13741" y="14241"/>
                  <a:pt x="13777" y="14170"/>
                  <a:pt x="13821" y="14102"/>
                </a:cubicBezTo>
                <a:cubicBezTo>
                  <a:pt x="13837" y="14079"/>
                  <a:pt x="13840" y="14072"/>
                  <a:pt x="13856" y="14064"/>
                </a:cubicBezTo>
                <a:cubicBezTo>
                  <a:pt x="13882" y="14090"/>
                  <a:pt x="13877" y="14137"/>
                  <a:pt x="13879" y="14174"/>
                </a:cubicBezTo>
                <a:cubicBezTo>
                  <a:pt x="13883" y="14240"/>
                  <a:pt x="13881" y="14311"/>
                  <a:pt x="13894" y="14376"/>
                </a:cubicBezTo>
                <a:cubicBezTo>
                  <a:pt x="13900" y="14406"/>
                  <a:pt x="13908" y="14441"/>
                  <a:pt x="13934" y="1445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"/>
          <p:cNvSpPr/>
          <p:nvPr/>
        </p:nvSpPr>
        <p:spPr>
          <a:xfrm>
            <a:off x="5189400" y="5006880"/>
            <a:ext cx="541440" cy="328680"/>
          </a:xfrm>
          <a:custGeom>
            <a:avLst/>
            <a:gdLst/>
            <a:ahLst/>
            <a:rect l="l" t="t" r="r" b="b"/>
            <a:pathLst>
              <a:path w="1505" h="915">
                <a:moveTo>
                  <a:pt x="14434" y="14217"/>
                </a:moveTo>
                <a:cubicBezTo>
                  <a:pt x="14420" y="14243"/>
                  <a:pt x="14410" y="14258"/>
                  <a:pt x="14415" y="14292"/>
                </a:cubicBezTo>
                <a:cubicBezTo>
                  <a:pt x="14420" y="14331"/>
                  <a:pt x="14436" y="14380"/>
                  <a:pt x="14468" y="14405"/>
                </a:cubicBezTo>
                <a:cubicBezTo>
                  <a:pt x="14507" y="14436"/>
                  <a:pt x="14554" y="14409"/>
                  <a:pt x="14587" y="14383"/>
                </a:cubicBezTo>
                <a:cubicBezTo>
                  <a:pt x="14635" y="14345"/>
                  <a:pt x="14671" y="14293"/>
                  <a:pt x="14709" y="14245"/>
                </a:cubicBezTo>
                <a:cubicBezTo>
                  <a:pt x="14728" y="14221"/>
                  <a:pt x="14737" y="14218"/>
                  <a:pt x="14755" y="14206"/>
                </a:cubicBezTo>
                <a:cubicBezTo>
                  <a:pt x="14749" y="14269"/>
                  <a:pt x="14724" y="14330"/>
                  <a:pt x="14701" y="14389"/>
                </a:cubicBezTo>
                <a:cubicBezTo>
                  <a:pt x="14652" y="14516"/>
                  <a:pt x="14606" y="14649"/>
                  <a:pt x="14544" y="14770"/>
                </a:cubicBezTo>
                <a:cubicBezTo>
                  <a:pt x="14505" y="14845"/>
                  <a:pt x="14516" y="14815"/>
                  <a:pt x="14543" y="14759"/>
                </a:cubicBezTo>
              </a:path>
              <a:path w="1505" h="915">
                <a:moveTo>
                  <a:pt x="14937" y="14042"/>
                </a:moveTo>
                <a:cubicBezTo>
                  <a:pt x="14965" y="14027"/>
                  <a:pt x="14958" y="14106"/>
                  <a:pt x="14959" y="14146"/>
                </a:cubicBezTo>
                <a:cubicBezTo>
                  <a:pt x="14961" y="14212"/>
                  <a:pt x="14963" y="14277"/>
                  <a:pt x="14958" y="14343"/>
                </a:cubicBezTo>
                <a:cubicBezTo>
                  <a:pt x="14955" y="14368"/>
                  <a:pt x="14955" y="14373"/>
                  <a:pt x="14951" y="14388"/>
                </a:cubicBezTo>
                <a:cubicBezTo>
                  <a:pt x="14940" y="14339"/>
                  <a:pt x="14942" y="14291"/>
                  <a:pt x="14948" y="14241"/>
                </a:cubicBezTo>
                <a:cubicBezTo>
                  <a:pt x="14957" y="14168"/>
                  <a:pt x="14975" y="14096"/>
                  <a:pt x="15001" y="14027"/>
                </a:cubicBezTo>
                <a:cubicBezTo>
                  <a:pt x="15015" y="13991"/>
                  <a:pt x="15036" y="13927"/>
                  <a:pt x="15075" y="13909"/>
                </a:cubicBezTo>
                <a:cubicBezTo>
                  <a:pt x="15081" y="13909"/>
                  <a:pt x="15087" y="13908"/>
                  <a:pt x="15093" y="13908"/>
                </a:cubicBezTo>
                <a:cubicBezTo>
                  <a:pt x="15118" y="13940"/>
                  <a:pt x="15120" y="13969"/>
                  <a:pt x="15117" y="14011"/>
                </a:cubicBezTo>
                <a:cubicBezTo>
                  <a:pt x="15109" y="14106"/>
                  <a:pt x="15059" y="14175"/>
                  <a:pt x="15028" y="14261"/>
                </a:cubicBezTo>
                <a:cubicBezTo>
                  <a:pt x="15027" y="14266"/>
                  <a:pt x="15026" y="14271"/>
                  <a:pt x="15025" y="14276"/>
                </a:cubicBezTo>
                <a:cubicBezTo>
                  <a:pt x="15043" y="14299"/>
                  <a:pt x="15048" y="14301"/>
                  <a:pt x="15078" y="14312"/>
                </a:cubicBezTo>
                <a:cubicBezTo>
                  <a:pt x="15123" y="14328"/>
                  <a:pt x="15172" y="14339"/>
                  <a:pt x="15219" y="14345"/>
                </a:cubicBezTo>
                <a:cubicBezTo>
                  <a:pt x="15258" y="14350"/>
                  <a:pt x="15295" y="14349"/>
                  <a:pt x="15334" y="14347"/>
                </a:cubicBezTo>
              </a:path>
              <a:path w="1505" h="915">
                <a:moveTo>
                  <a:pt x="15513" y="14105"/>
                </a:moveTo>
                <a:cubicBezTo>
                  <a:pt x="15544" y="14084"/>
                  <a:pt x="15575" y="14077"/>
                  <a:pt x="15613" y="14069"/>
                </a:cubicBezTo>
                <a:cubicBezTo>
                  <a:pt x="15661" y="14059"/>
                  <a:pt x="15721" y="14050"/>
                  <a:pt x="15764" y="14081"/>
                </a:cubicBezTo>
                <a:cubicBezTo>
                  <a:pt x="15814" y="14117"/>
                  <a:pt x="15790" y="14187"/>
                  <a:pt x="15769" y="14232"/>
                </a:cubicBezTo>
                <a:cubicBezTo>
                  <a:pt x="15741" y="14291"/>
                  <a:pt x="15700" y="14343"/>
                  <a:pt x="15659" y="14393"/>
                </a:cubicBezTo>
                <a:cubicBezTo>
                  <a:pt x="15654" y="14399"/>
                  <a:pt x="15649" y="14405"/>
                  <a:pt x="15644" y="14411"/>
                </a:cubicBezTo>
                <a:cubicBezTo>
                  <a:pt x="15674" y="14398"/>
                  <a:pt x="15708" y="14380"/>
                  <a:pt x="15739" y="14365"/>
                </a:cubicBezTo>
                <a:cubicBezTo>
                  <a:pt x="15784" y="14344"/>
                  <a:pt x="15830" y="14321"/>
                  <a:pt x="15879" y="14312"/>
                </a:cubicBezTo>
                <a:cubicBezTo>
                  <a:pt x="15900" y="14310"/>
                  <a:pt x="15906" y="14310"/>
                  <a:pt x="15919" y="1430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"/>
          <p:cNvSpPr/>
          <p:nvPr/>
        </p:nvSpPr>
        <p:spPr>
          <a:xfrm>
            <a:off x="5962680" y="4781520"/>
            <a:ext cx="276120" cy="466920"/>
          </a:xfrm>
          <a:custGeom>
            <a:avLst/>
            <a:gdLst/>
            <a:ahLst/>
            <a:rect l="l" t="t" r="r" b="b"/>
            <a:pathLst>
              <a:path w="768" h="1297">
                <a:moveTo>
                  <a:pt x="16645" y="14227"/>
                </a:moveTo>
                <a:cubicBezTo>
                  <a:pt x="16623" y="14223"/>
                  <a:pt x="16602" y="14221"/>
                  <a:pt x="16581" y="14216"/>
                </a:cubicBezTo>
                <a:cubicBezTo>
                  <a:pt x="16575" y="14214"/>
                  <a:pt x="16568" y="14213"/>
                  <a:pt x="16562" y="14211"/>
                </a:cubicBezTo>
                <a:cubicBezTo>
                  <a:pt x="16611" y="14214"/>
                  <a:pt x="16659" y="14216"/>
                  <a:pt x="16708" y="14219"/>
                </a:cubicBezTo>
                <a:cubicBezTo>
                  <a:pt x="16780" y="14224"/>
                  <a:pt x="16854" y="14230"/>
                  <a:pt x="16926" y="14239"/>
                </a:cubicBezTo>
                <a:cubicBezTo>
                  <a:pt x="16957" y="14243"/>
                  <a:pt x="16980" y="14247"/>
                  <a:pt x="17008" y="14258"/>
                </a:cubicBezTo>
              </a:path>
              <a:path w="768" h="1297">
                <a:moveTo>
                  <a:pt x="16579" y="14445"/>
                </a:moveTo>
                <a:cubicBezTo>
                  <a:pt x="16537" y="14466"/>
                  <a:pt x="16656" y="14433"/>
                  <a:pt x="16670" y="14431"/>
                </a:cubicBezTo>
                <a:cubicBezTo>
                  <a:pt x="16744" y="14419"/>
                  <a:pt x="16813" y="14418"/>
                  <a:pt x="16887" y="14415"/>
                </a:cubicBezTo>
                <a:cubicBezTo>
                  <a:pt x="16921" y="14414"/>
                  <a:pt x="16955" y="14412"/>
                  <a:pt x="16989" y="14408"/>
                </a:cubicBezTo>
              </a:path>
              <a:path w="768" h="1297">
                <a:moveTo>
                  <a:pt x="16911" y="14124"/>
                </a:moveTo>
                <a:cubicBezTo>
                  <a:pt x="16906" y="14090"/>
                  <a:pt x="16968" y="14118"/>
                  <a:pt x="16999" y="14128"/>
                </a:cubicBezTo>
                <a:cubicBezTo>
                  <a:pt x="17106" y="14164"/>
                  <a:pt x="17246" y="14215"/>
                  <a:pt x="17310" y="14315"/>
                </a:cubicBezTo>
                <a:cubicBezTo>
                  <a:pt x="17349" y="14376"/>
                  <a:pt x="17320" y="14434"/>
                  <a:pt x="17270" y="14476"/>
                </a:cubicBezTo>
                <a:cubicBezTo>
                  <a:pt x="17216" y="14522"/>
                  <a:pt x="17132" y="14560"/>
                  <a:pt x="17062" y="14574"/>
                </a:cubicBezTo>
                <a:cubicBezTo>
                  <a:pt x="17047" y="14577"/>
                  <a:pt x="16957" y="14593"/>
                  <a:pt x="16959" y="14555"/>
                </a:cubicBezTo>
                <a:cubicBezTo>
                  <a:pt x="16962" y="14549"/>
                  <a:pt x="16965" y="14543"/>
                  <a:pt x="16968" y="14537"/>
                </a:cubicBezTo>
              </a:path>
              <a:path w="768" h="1297">
                <a:moveTo>
                  <a:pt x="16912" y="13771"/>
                </a:moveTo>
                <a:cubicBezTo>
                  <a:pt x="16902" y="13790"/>
                  <a:pt x="16878" y="13821"/>
                  <a:pt x="16872" y="13838"/>
                </a:cubicBezTo>
                <a:cubicBezTo>
                  <a:pt x="16872" y="13842"/>
                  <a:pt x="16873" y="13846"/>
                  <a:pt x="16873" y="13850"/>
                </a:cubicBezTo>
                <a:cubicBezTo>
                  <a:pt x="16887" y="13837"/>
                  <a:pt x="16888" y="13818"/>
                  <a:pt x="16892" y="13796"/>
                </a:cubicBezTo>
                <a:cubicBezTo>
                  <a:pt x="16893" y="13788"/>
                  <a:pt x="16895" y="13781"/>
                  <a:pt x="16896" y="13773"/>
                </a:cubicBezTo>
              </a:path>
              <a:path w="768" h="1297">
                <a:moveTo>
                  <a:pt x="16868" y="13533"/>
                </a:moveTo>
                <a:cubicBezTo>
                  <a:pt x="16857" y="13516"/>
                  <a:pt x="16880" y="13512"/>
                  <a:pt x="16899" y="13500"/>
                </a:cubicBezTo>
                <a:cubicBezTo>
                  <a:pt x="16933" y="13478"/>
                  <a:pt x="16971" y="13460"/>
                  <a:pt x="17004" y="13436"/>
                </a:cubicBezTo>
                <a:cubicBezTo>
                  <a:pt x="17028" y="13418"/>
                  <a:pt x="17077" y="13381"/>
                  <a:pt x="17065" y="13346"/>
                </a:cubicBezTo>
                <a:cubicBezTo>
                  <a:pt x="17055" y="13316"/>
                  <a:pt x="17011" y="13297"/>
                  <a:pt x="16984" y="13290"/>
                </a:cubicBezTo>
                <a:cubicBezTo>
                  <a:pt x="16914" y="13271"/>
                  <a:pt x="16831" y="13279"/>
                  <a:pt x="16761" y="13290"/>
                </a:cubicBezTo>
                <a:cubicBezTo>
                  <a:pt x="16750" y="13292"/>
                  <a:pt x="16640" y="13308"/>
                  <a:pt x="16642" y="13332"/>
                </a:cubicBezTo>
                <a:cubicBezTo>
                  <a:pt x="16658" y="13343"/>
                  <a:pt x="16664" y="13347"/>
                  <a:pt x="16679" y="1334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"/>
          <p:cNvSpPr/>
          <p:nvPr/>
        </p:nvSpPr>
        <p:spPr>
          <a:xfrm>
            <a:off x="6437160" y="4943520"/>
            <a:ext cx="527040" cy="282600"/>
          </a:xfrm>
          <a:custGeom>
            <a:avLst/>
            <a:gdLst/>
            <a:ahLst/>
            <a:rect l="l" t="t" r="r" b="b"/>
            <a:pathLst>
              <a:path w="1464" h="787">
                <a:moveTo>
                  <a:pt x="17923" y="14099"/>
                </a:moveTo>
                <a:cubicBezTo>
                  <a:pt x="17910" y="14084"/>
                  <a:pt x="17897" y="14071"/>
                  <a:pt x="17882" y="14058"/>
                </a:cubicBezTo>
                <a:cubicBezTo>
                  <a:pt x="17904" y="14090"/>
                  <a:pt x="17928" y="14117"/>
                  <a:pt x="17953" y="14147"/>
                </a:cubicBezTo>
                <a:cubicBezTo>
                  <a:pt x="17993" y="14194"/>
                  <a:pt x="18032" y="14242"/>
                  <a:pt x="18074" y="14287"/>
                </a:cubicBezTo>
                <a:cubicBezTo>
                  <a:pt x="18100" y="14315"/>
                  <a:pt x="18132" y="14358"/>
                  <a:pt x="18171" y="14369"/>
                </a:cubicBezTo>
                <a:cubicBezTo>
                  <a:pt x="18195" y="14376"/>
                  <a:pt x="18212" y="14341"/>
                  <a:pt x="18221" y="14326"/>
                </a:cubicBezTo>
              </a:path>
              <a:path w="1464" h="787">
                <a:moveTo>
                  <a:pt x="18266" y="14026"/>
                </a:moveTo>
                <a:cubicBezTo>
                  <a:pt x="18246" y="14074"/>
                  <a:pt x="18220" y="14118"/>
                  <a:pt x="18198" y="14164"/>
                </a:cubicBezTo>
                <a:cubicBezTo>
                  <a:pt x="18161" y="14243"/>
                  <a:pt x="18122" y="14322"/>
                  <a:pt x="18076" y="14397"/>
                </a:cubicBezTo>
                <a:cubicBezTo>
                  <a:pt x="18052" y="14437"/>
                  <a:pt x="17971" y="14547"/>
                  <a:pt x="18005" y="14516"/>
                </a:cubicBezTo>
                <a:cubicBezTo>
                  <a:pt x="18009" y="14511"/>
                  <a:pt x="18014" y="14506"/>
                  <a:pt x="18018" y="14501"/>
                </a:cubicBezTo>
              </a:path>
              <a:path w="1464" h="787">
                <a:moveTo>
                  <a:pt x="18445" y="14428"/>
                </a:moveTo>
                <a:cubicBezTo>
                  <a:pt x="18422" y="14416"/>
                  <a:pt x="18415" y="14423"/>
                  <a:pt x="18400" y="14390"/>
                </a:cubicBezTo>
                <a:cubicBezTo>
                  <a:pt x="18387" y="14360"/>
                  <a:pt x="18383" y="14323"/>
                  <a:pt x="18378" y="14291"/>
                </a:cubicBezTo>
                <a:cubicBezTo>
                  <a:pt x="18367" y="14223"/>
                  <a:pt x="18376" y="14161"/>
                  <a:pt x="18386" y="14093"/>
                </a:cubicBezTo>
                <a:cubicBezTo>
                  <a:pt x="18392" y="14050"/>
                  <a:pt x="18395" y="14006"/>
                  <a:pt x="18397" y="13962"/>
                </a:cubicBezTo>
                <a:cubicBezTo>
                  <a:pt x="18400" y="13909"/>
                  <a:pt x="18398" y="13857"/>
                  <a:pt x="18419" y="13807"/>
                </a:cubicBezTo>
                <a:cubicBezTo>
                  <a:pt x="18431" y="13780"/>
                  <a:pt x="18452" y="13761"/>
                  <a:pt x="18479" y="13749"/>
                </a:cubicBezTo>
                <a:cubicBezTo>
                  <a:pt x="18517" y="13732"/>
                  <a:pt x="18569" y="13717"/>
                  <a:pt x="18606" y="13745"/>
                </a:cubicBezTo>
                <a:cubicBezTo>
                  <a:pt x="18639" y="13769"/>
                  <a:pt x="18651" y="13818"/>
                  <a:pt x="18656" y="13856"/>
                </a:cubicBezTo>
                <a:cubicBezTo>
                  <a:pt x="18663" y="13914"/>
                  <a:pt x="18659" y="13976"/>
                  <a:pt x="18636" y="14030"/>
                </a:cubicBezTo>
                <a:cubicBezTo>
                  <a:pt x="18606" y="14102"/>
                  <a:pt x="18539" y="14151"/>
                  <a:pt x="18460" y="14146"/>
                </a:cubicBezTo>
                <a:cubicBezTo>
                  <a:pt x="18428" y="14144"/>
                  <a:pt x="18394" y="14130"/>
                  <a:pt x="18368" y="14112"/>
                </a:cubicBezTo>
                <a:cubicBezTo>
                  <a:pt x="18365" y="14109"/>
                  <a:pt x="18361" y="14106"/>
                  <a:pt x="18358" y="14103"/>
                </a:cubicBezTo>
                <a:cubicBezTo>
                  <a:pt x="18385" y="14118"/>
                  <a:pt x="18411" y="14135"/>
                  <a:pt x="18437" y="14152"/>
                </a:cubicBezTo>
                <a:cubicBezTo>
                  <a:pt x="18491" y="14188"/>
                  <a:pt x="18539" y="14230"/>
                  <a:pt x="18588" y="14272"/>
                </a:cubicBezTo>
                <a:cubicBezTo>
                  <a:pt x="18633" y="14310"/>
                  <a:pt x="18677" y="14348"/>
                  <a:pt x="18722" y="14387"/>
                </a:cubicBezTo>
                <a:cubicBezTo>
                  <a:pt x="18738" y="14401"/>
                  <a:pt x="18761" y="14426"/>
                  <a:pt x="18786" y="14418"/>
                </a:cubicBezTo>
                <a:cubicBezTo>
                  <a:pt x="18802" y="14413"/>
                  <a:pt x="18801" y="14402"/>
                  <a:pt x="18811" y="14391"/>
                </a:cubicBezTo>
              </a:path>
              <a:path w="1464" h="787">
                <a:moveTo>
                  <a:pt x="18860" y="14143"/>
                </a:moveTo>
                <a:cubicBezTo>
                  <a:pt x="18875" y="14131"/>
                  <a:pt x="18889" y="14120"/>
                  <a:pt x="18916" y="14116"/>
                </a:cubicBezTo>
                <a:cubicBezTo>
                  <a:pt x="18943" y="14112"/>
                  <a:pt x="18971" y="14110"/>
                  <a:pt x="18999" y="14107"/>
                </a:cubicBezTo>
                <a:cubicBezTo>
                  <a:pt x="19017" y="14105"/>
                  <a:pt x="19036" y="14099"/>
                  <a:pt x="19054" y="14101"/>
                </a:cubicBezTo>
                <a:cubicBezTo>
                  <a:pt x="19070" y="14103"/>
                  <a:pt x="19087" y="14108"/>
                  <a:pt x="19102" y="14113"/>
                </a:cubicBezTo>
                <a:cubicBezTo>
                  <a:pt x="19126" y="14121"/>
                  <a:pt x="19164" y="14128"/>
                  <a:pt x="19176" y="14154"/>
                </a:cubicBezTo>
                <a:cubicBezTo>
                  <a:pt x="19186" y="14176"/>
                  <a:pt x="19165" y="14206"/>
                  <a:pt x="19155" y="14223"/>
                </a:cubicBezTo>
                <a:cubicBezTo>
                  <a:pt x="19136" y="14257"/>
                  <a:pt x="19051" y="14333"/>
                  <a:pt x="19061" y="14375"/>
                </a:cubicBezTo>
                <a:cubicBezTo>
                  <a:pt x="19067" y="14400"/>
                  <a:pt x="19090" y="14407"/>
                  <a:pt x="19113" y="14414"/>
                </a:cubicBezTo>
                <a:cubicBezTo>
                  <a:pt x="19150" y="14426"/>
                  <a:pt x="19189" y="14430"/>
                  <a:pt x="19227" y="14435"/>
                </a:cubicBezTo>
                <a:cubicBezTo>
                  <a:pt x="19258" y="14439"/>
                  <a:pt x="19287" y="14439"/>
                  <a:pt x="19316" y="14438"/>
                </a:cubicBezTo>
                <a:cubicBezTo>
                  <a:pt x="19347" y="14437"/>
                  <a:pt x="19345" y="14437"/>
                  <a:pt x="19333" y="1441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"/>
          <p:cNvSpPr/>
          <p:nvPr/>
        </p:nvSpPr>
        <p:spPr>
          <a:xfrm>
            <a:off x="4148280" y="5481720"/>
            <a:ext cx="420480" cy="183960"/>
          </a:xfrm>
          <a:custGeom>
            <a:avLst/>
            <a:gdLst/>
            <a:ahLst/>
            <a:rect l="l" t="t" r="r" b="b"/>
            <a:pathLst>
              <a:path w="1167" h="514">
                <a:moveTo>
                  <a:pt x="11544" y="15323"/>
                </a:moveTo>
                <a:cubicBezTo>
                  <a:pt x="11525" y="15363"/>
                  <a:pt x="11526" y="15379"/>
                  <a:pt x="11531" y="15424"/>
                </a:cubicBezTo>
                <a:cubicBezTo>
                  <a:pt x="11538" y="15481"/>
                  <a:pt x="11552" y="15541"/>
                  <a:pt x="11575" y="15594"/>
                </a:cubicBezTo>
                <a:cubicBezTo>
                  <a:pt x="11588" y="15625"/>
                  <a:pt x="11613" y="15693"/>
                  <a:pt x="11655" y="15698"/>
                </a:cubicBezTo>
                <a:cubicBezTo>
                  <a:pt x="11661" y="15696"/>
                  <a:pt x="11668" y="15693"/>
                  <a:pt x="11674" y="15691"/>
                </a:cubicBezTo>
              </a:path>
              <a:path w="1167" h="514">
                <a:moveTo>
                  <a:pt x="11763" y="15338"/>
                </a:moveTo>
                <a:cubicBezTo>
                  <a:pt x="11715" y="15329"/>
                  <a:pt x="11706" y="15350"/>
                  <a:pt x="11674" y="15384"/>
                </a:cubicBezTo>
                <a:cubicBezTo>
                  <a:pt x="11626" y="15436"/>
                  <a:pt x="11591" y="15502"/>
                  <a:pt x="11565" y="15568"/>
                </a:cubicBezTo>
                <a:cubicBezTo>
                  <a:pt x="11560" y="15580"/>
                  <a:pt x="11506" y="15692"/>
                  <a:pt x="11524" y="15707"/>
                </a:cubicBezTo>
                <a:cubicBezTo>
                  <a:pt x="11532" y="15707"/>
                  <a:pt x="11539" y="15707"/>
                  <a:pt x="11547" y="15707"/>
                </a:cubicBezTo>
              </a:path>
              <a:path w="1167" h="514">
                <a:moveTo>
                  <a:pt x="11817" y="15443"/>
                </a:moveTo>
                <a:cubicBezTo>
                  <a:pt x="11841" y="15424"/>
                  <a:pt x="11874" y="15399"/>
                  <a:pt x="11903" y="15389"/>
                </a:cubicBezTo>
                <a:cubicBezTo>
                  <a:pt x="11950" y="15372"/>
                  <a:pt x="12004" y="15365"/>
                  <a:pt x="12053" y="15372"/>
                </a:cubicBezTo>
                <a:cubicBezTo>
                  <a:pt x="12088" y="15377"/>
                  <a:pt x="12108" y="15396"/>
                  <a:pt x="12096" y="15431"/>
                </a:cubicBezTo>
                <a:cubicBezTo>
                  <a:pt x="12092" y="15439"/>
                  <a:pt x="12088" y="15448"/>
                  <a:pt x="12084" y="15456"/>
                </a:cubicBezTo>
              </a:path>
              <a:path w="1167" h="514">
                <a:moveTo>
                  <a:pt x="11927" y="15567"/>
                </a:moveTo>
                <a:cubicBezTo>
                  <a:pt x="11906" y="15579"/>
                  <a:pt x="11887" y="15583"/>
                  <a:pt x="11866" y="15595"/>
                </a:cubicBezTo>
                <a:cubicBezTo>
                  <a:pt x="11885" y="15613"/>
                  <a:pt x="11916" y="15624"/>
                  <a:pt x="11943" y="15629"/>
                </a:cubicBezTo>
                <a:cubicBezTo>
                  <a:pt x="11999" y="15640"/>
                  <a:pt x="12050" y="15642"/>
                  <a:pt x="12106" y="15632"/>
                </a:cubicBezTo>
                <a:cubicBezTo>
                  <a:pt x="12169" y="15621"/>
                  <a:pt x="12212" y="15602"/>
                  <a:pt x="12265" y="15567"/>
                </a:cubicBezTo>
              </a:path>
              <a:path w="1167" h="514">
                <a:moveTo>
                  <a:pt x="12324" y="15247"/>
                </a:moveTo>
                <a:cubicBezTo>
                  <a:pt x="12354" y="15234"/>
                  <a:pt x="12397" y="15215"/>
                  <a:pt x="12432" y="15226"/>
                </a:cubicBezTo>
                <a:cubicBezTo>
                  <a:pt x="12483" y="15242"/>
                  <a:pt x="12500" y="15288"/>
                  <a:pt x="12500" y="15337"/>
                </a:cubicBezTo>
                <a:cubicBezTo>
                  <a:pt x="12499" y="15413"/>
                  <a:pt x="12462" y="15486"/>
                  <a:pt x="12428" y="15552"/>
                </a:cubicBezTo>
                <a:cubicBezTo>
                  <a:pt x="12398" y="15611"/>
                  <a:pt x="12354" y="15666"/>
                  <a:pt x="12337" y="15730"/>
                </a:cubicBezTo>
                <a:cubicBezTo>
                  <a:pt x="12372" y="15749"/>
                  <a:pt x="12399" y="15727"/>
                  <a:pt x="12436" y="15717"/>
                </a:cubicBezTo>
                <a:cubicBezTo>
                  <a:pt x="12530" y="15692"/>
                  <a:pt x="12606" y="15652"/>
                  <a:pt x="12689" y="1560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"/>
          <p:cNvSpPr/>
          <p:nvPr/>
        </p:nvSpPr>
        <p:spPr>
          <a:xfrm>
            <a:off x="4822920" y="5446800"/>
            <a:ext cx="490320" cy="311040"/>
          </a:xfrm>
          <a:custGeom>
            <a:avLst/>
            <a:gdLst/>
            <a:ahLst/>
            <a:rect l="l" t="t" r="r" b="b"/>
            <a:pathLst>
              <a:path w="1362" h="861">
                <a:moveTo>
                  <a:pt x="13404" y="15528"/>
                </a:moveTo>
                <a:cubicBezTo>
                  <a:pt x="13408" y="15563"/>
                  <a:pt x="13401" y="15593"/>
                  <a:pt x="13404" y="15629"/>
                </a:cubicBezTo>
                <a:cubicBezTo>
                  <a:pt x="13407" y="15666"/>
                  <a:pt x="13410" y="15729"/>
                  <a:pt x="13442" y="15755"/>
                </a:cubicBezTo>
                <a:cubicBezTo>
                  <a:pt x="13481" y="15786"/>
                  <a:pt x="13532" y="15720"/>
                  <a:pt x="13551" y="15697"/>
                </a:cubicBezTo>
                <a:cubicBezTo>
                  <a:pt x="13598" y="15639"/>
                  <a:pt x="13636" y="15572"/>
                  <a:pt x="13677" y="15509"/>
                </a:cubicBezTo>
                <a:cubicBezTo>
                  <a:pt x="13696" y="15480"/>
                  <a:pt x="13700" y="15474"/>
                  <a:pt x="13710" y="15455"/>
                </a:cubicBezTo>
                <a:cubicBezTo>
                  <a:pt x="13693" y="15509"/>
                  <a:pt x="13659" y="15559"/>
                  <a:pt x="13632" y="15610"/>
                </a:cubicBezTo>
                <a:cubicBezTo>
                  <a:pt x="13575" y="15716"/>
                  <a:pt x="13519" y="15824"/>
                  <a:pt x="13467" y="15932"/>
                </a:cubicBezTo>
                <a:cubicBezTo>
                  <a:pt x="13455" y="15964"/>
                  <a:pt x="13452" y="15971"/>
                  <a:pt x="13444" y="15991"/>
                </a:cubicBezTo>
              </a:path>
              <a:path w="1362" h="861">
                <a:moveTo>
                  <a:pt x="13900" y="15404"/>
                </a:moveTo>
                <a:cubicBezTo>
                  <a:pt x="13924" y="15398"/>
                  <a:pt x="13946" y="15387"/>
                  <a:pt x="13969" y="15381"/>
                </a:cubicBezTo>
                <a:cubicBezTo>
                  <a:pt x="14021" y="15367"/>
                  <a:pt x="14073" y="15354"/>
                  <a:pt x="14125" y="15337"/>
                </a:cubicBezTo>
                <a:cubicBezTo>
                  <a:pt x="14157" y="15327"/>
                  <a:pt x="14188" y="15314"/>
                  <a:pt x="14219" y="15303"/>
                </a:cubicBezTo>
                <a:cubicBezTo>
                  <a:pt x="14189" y="15288"/>
                  <a:pt x="14160" y="15288"/>
                  <a:pt x="14126" y="15301"/>
                </a:cubicBezTo>
                <a:cubicBezTo>
                  <a:pt x="14052" y="15329"/>
                  <a:pt x="13985" y="15369"/>
                  <a:pt x="13927" y="15423"/>
                </a:cubicBezTo>
                <a:cubicBezTo>
                  <a:pt x="13898" y="15450"/>
                  <a:pt x="13875" y="15473"/>
                  <a:pt x="13874" y="15512"/>
                </a:cubicBezTo>
                <a:cubicBezTo>
                  <a:pt x="13919" y="15529"/>
                  <a:pt x="13970" y="15536"/>
                  <a:pt x="14020" y="15529"/>
                </a:cubicBezTo>
                <a:cubicBezTo>
                  <a:pt x="14072" y="15522"/>
                  <a:pt x="14132" y="15507"/>
                  <a:pt x="14181" y="15489"/>
                </a:cubicBezTo>
                <a:cubicBezTo>
                  <a:pt x="14191" y="15485"/>
                  <a:pt x="14200" y="15480"/>
                  <a:pt x="14210" y="15476"/>
                </a:cubicBezTo>
              </a:path>
              <a:path w="1362" h="861">
                <a:moveTo>
                  <a:pt x="14284" y="15181"/>
                </a:moveTo>
                <a:cubicBezTo>
                  <a:pt x="14305" y="15167"/>
                  <a:pt x="14339" y="15149"/>
                  <a:pt x="14364" y="15144"/>
                </a:cubicBezTo>
                <a:cubicBezTo>
                  <a:pt x="14404" y="15136"/>
                  <a:pt x="14459" y="15124"/>
                  <a:pt x="14499" y="15131"/>
                </a:cubicBezTo>
                <a:cubicBezTo>
                  <a:pt x="14543" y="15138"/>
                  <a:pt x="14543" y="15174"/>
                  <a:pt x="14528" y="15208"/>
                </a:cubicBezTo>
                <a:cubicBezTo>
                  <a:pt x="14505" y="15261"/>
                  <a:pt x="14458" y="15302"/>
                  <a:pt x="14423" y="15346"/>
                </a:cubicBezTo>
                <a:cubicBezTo>
                  <a:pt x="14405" y="15369"/>
                  <a:pt x="14398" y="15388"/>
                  <a:pt x="14387" y="15411"/>
                </a:cubicBezTo>
                <a:cubicBezTo>
                  <a:pt x="14429" y="15426"/>
                  <a:pt x="14466" y="15430"/>
                  <a:pt x="14512" y="15436"/>
                </a:cubicBezTo>
                <a:cubicBezTo>
                  <a:pt x="14590" y="15446"/>
                  <a:pt x="14692" y="15461"/>
                  <a:pt x="14743" y="15529"/>
                </a:cubicBezTo>
                <a:cubicBezTo>
                  <a:pt x="14779" y="15576"/>
                  <a:pt x="14753" y="15631"/>
                  <a:pt x="14719" y="15669"/>
                </a:cubicBezTo>
                <a:cubicBezTo>
                  <a:pt x="14682" y="15711"/>
                  <a:pt x="14618" y="15744"/>
                  <a:pt x="14562" y="15755"/>
                </a:cubicBezTo>
                <a:cubicBezTo>
                  <a:pt x="14521" y="15763"/>
                  <a:pt x="14494" y="15752"/>
                  <a:pt x="14471" y="1572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"/>
          <p:cNvSpPr/>
          <p:nvPr/>
        </p:nvSpPr>
        <p:spPr>
          <a:xfrm>
            <a:off x="5614920" y="5472000"/>
            <a:ext cx="558720" cy="168480"/>
          </a:xfrm>
          <a:custGeom>
            <a:avLst/>
            <a:gdLst/>
            <a:ahLst/>
            <a:rect l="l" t="t" r="r" b="b"/>
            <a:pathLst>
              <a:path w="1551" h="467">
                <a:moveTo>
                  <a:pt x="15630" y="15347"/>
                </a:moveTo>
                <a:cubicBezTo>
                  <a:pt x="15610" y="15333"/>
                  <a:pt x="15591" y="15323"/>
                  <a:pt x="15603" y="15297"/>
                </a:cubicBezTo>
                <a:cubicBezTo>
                  <a:pt x="15618" y="15264"/>
                  <a:pt x="15659" y="15265"/>
                  <a:pt x="15689" y="15270"/>
                </a:cubicBezTo>
                <a:cubicBezTo>
                  <a:pt x="15734" y="15278"/>
                  <a:pt x="15762" y="15313"/>
                  <a:pt x="15767" y="15358"/>
                </a:cubicBezTo>
                <a:cubicBezTo>
                  <a:pt x="15774" y="15415"/>
                  <a:pt x="15748" y="15475"/>
                  <a:pt x="15726" y="15526"/>
                </a:cubicBezTo>
                <a:cubicBezTo>
                  <a:pt x="15711" y="15561"/>
                  <a:pt x="15683" y="15599"/>
                  <a:pt x="15679" y="15637"/>
                </a:cubicBezTo>
                <a:cubicBezTo>
                  <a:pt x="15677" y="15663"/>
                  <a:pt x="15716" y="15667"/>
                  <a:pt x="15734" y="15667"/>
                </a:cubicBezTo>
                <a:cubicBezTo>
                  <a:pt x="15783" y="15668"/>
                  <a:pt x="15830" y="15658"/>
                  <a:pt x="15878" y="15653"/>
                </a:cubicBezTo>
                <a:cubicBezTo>
                  <a:pt x="15933" y="15648"/>
                  <a:pt x="15980" y="15637"/>
                  <a:pt x="16029" y="15610"/>
                </a:cubicBezTo>
                <a:cubicBezTo>
                  <a:pt x="16040" y="15603"/>
                  <a:pt x="16050" y="15596"/>
                  <a:pt x="16061" y="15589"/>
                </a:cubicBezTo>
              </a:path>
              <a:path w="1551" h="467">
                <a:moveTo>
                  <a:pt x="16185" y="15423"/>
                </a:moveTo>
                <a:cubicBezTo>
                  <a:pt x="16225" y="15409"/>
                  <a:pt x="16267" y="15403"/>
                  <a:pt x="16310" y="15399"/>
                </a:cubicBezTo>
                <a:cubicBezTo>
                  <a:pt x="16362" y="15394"/>
                  <a:pt x="16413" y="15382"/>
                  <a:pt x="16465" y="15374"/>
                </a:cubicBezTo>
                <a:cubicBezTo>
                  <a:pt x="16484" y="15371"/>
                  <a:pt x="16488" y="15370"/>
                  <a:pt x="16499" y="15367"/>
                </a:cubicBezTo>
              </a:path>
              <a:path w="1551" h="467">
                <a:moveTo>
                  <a:pt x="16195" y="15531"/>
                </a:moveTo>
                <a:cubicBezTo>
                  <a:pt x="16187" y="15545"/>
                  <a:pt x="16183" y="15547"/>
                  <a:pt x="16186" y="15557"/>
                </a:cubicBezTo>
                <a:cubicBezTo>
                  <a:pt x="16234" y="15553"/>
                  <a:pt x="16272" y="15545"/>
                  <a:pt x="16317" y="15527"/>
                </a:cubicBezTo>
                <a:cubicBezTo>
                  <a:pt x="16368" y="15507"/>
                  <a:pt x="16417" y="15487"/>
                  <a:pt x="16467" y="15463"/>
                </a:cubicBezTo>
              </a:path>
              <a:path w="1551" h="467">
                <a:moveTo>
                  <a:pt x="16734" y="15233"/>
                </a:moveTo>
                <a:cubicBezTo>
                  <a:pt x="16763" y="15218"/>
                  <a:pt x="16806" y="15199"/>
                  <a:pt x="16839" y="15201"/>
                </a:cubicBezTo>
                <a:cubicBezTo>
                  <a:pt x="16878" y="15203"/>
                  <a:pt x="16931" y="15219"/>
                  <a:pt x="16949" y="15257"/>
                </a:cubicBezTo>
                <a:cubicBezTo>
                  <a:pt x="16970" y="15304"/>
                  <a:pt x="16937" y="15354"/>
                  <a:pt x="16913" y="15392"/>
                </a:cubicBezTo>
                <a:cubicBezTo>
                  <a:pt x="16884" y="15436"/>
                  <a:pt x="16846" y="15474"/>
                  <a:pt x="16820" y="15519"/>
                </a:cubicBezTo>
                <a:cubicBezTo>
                  <a:pt x="16811" y="15537"/>
                  <a:pt x="16808" y="15541"/>
                  <a:pt x="16808" y="15554"/>
                </a:cubicBezTo>
                <a:cubicBezTo>
                  <a:pt x="16840" y="15567"/>
                  <a:pt x="16872" y="15558"/>
                  <a:pt x="16906" y="15551"/>
                </a:cubicBezTo>
                <a:cubicBezTo>
                  <a:pt x="16962" y="15540"/>
                  <a:pt x="17017" y="15526"/>
                  <a:pt x="17073" y="15517"/>
                </a:cubicBezTo>
                <a:cubicBezTo>
                  <a:pt x="17098" y="15513"/>
                  <a:pt x="17122" y="15507"/>
                  <a:pt x="17147" y="1550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"/>
          <p:cNvSpPr/>
          <p:nvPr/>
        </p:nvSpPr>
        <p:spPr>
          <a:xfrm>
            <a:off x="6415200" y="5943600"/>
            <a:ext cx="571320" cy="647640"/>
          </a:xfrm>
          <a:custGeom>
            <a:avLst/>
            <a:gdLst/>
            <a:ahLst/>
            <a:rect l="l" t="t" r="r" b="b"/>
            <a:pathLst>
              <a:path w="1587" h="1801">
                <a:moveTo>
                  <a:pt x="17949" y="16657"/>
                </a:moveTo>
                <a:cubicBezTo>
                  <a:pt x="17911" y="16671"/>
                  <a:pt x="17870" y="16680"/>
                  <a:pt x="17834" y="16696"/>
                </a:cubicBezTo>
                <a:cubicBezTo>
                  <a:pt x="17873" y="16685"/>
                  <a:pt x="17885" y="16683"/>
                  <a:pt x="17925" y="16680"/>
                </a:cubicBezTo>
                <a:cubicBezTo>
                  <a:pt x="17988" y="16675"/>
                  <a:pt x="18063" y="16671"/>
                  <a:pt x="18121" y="16701"/>
                </a:cubicBezTo>
                <a:cubicBezTo>
                  <a:pt x="18176" y="16730"/>
                  <a:pt x="18186" y="16781"/>
                  <a:pt x="18177" y="16837"/>
                </a:cubicBezTo>
                <a:cubicBezTo>
                  <a:pt x="18169" y="16887"/>
                  <a:pt x="18140" y="16927"/>
                  <a:pt x="18121" y="16973"/>
                </a:cubicBezTo>
                <a:cubicBezTo>
                  <a:pt x="18119" y="16980"/>
                  <a:pt x="18117" y="16986"/>
                  <a:pt x="18115" y="16993"/>
                </a:cubicBezTo>
                <a:cubicBezTo>
                  <a:pt x="18140" y="17008"/>
                  <a:pt x="18146" y="17006"/>
                  <a:pt x="18184" y="16997"/>
                </a:cubicBezTo>
                <a:cubicBezTo>
                  <a:pt x="18237" y="16984"/>
                  <a:pt x="18293" y="16964"/>
                  <a:pt x="18340" y="16938"/>
                </a:cubicBezTo>
                <a:cubicBezTo>
                  <a:pt x="18375" y="16919"/>
                  <a:pt x="18403" y="16897"/>
                  <a:pt x="18433" y="16872"/>
                </a:cubicBezTo>
              </a:path>
              <a:path w="1587" h="1801">
                <a:moveTo>
                  <a:pt x="18587" y="16675"/>
                </a:moveTo>
                <a:cubicBezTo>
                  <a:pt x="18583" y="16707"/>
                  <a:pt x="18582" y="16741"/>
                  <a:pt x="18578" y="16772"/>
                </a:cubicBezTo>
                <a:cubicBezTo>
                  <a:pt x="18574" y="16800"/>
                  <a:pt x="18576" y="16830"/>
                  <a:pt x="18570" y="16858"/>
                </a:cubicBezTo>
                <a:cubicBezTo>
                  <a:pt x="18569" y="16862"/>
                  <a:pt x="18567" y="16866"/>
                  <a:pt x="18566" y="16870"/>
                </a:cubicBezTo>
                <a:cubicBezTo>
                  <a:pt x="18540" y="16859"/>
                  <a:pt x="18541" y="16836"/>
                  <a:pt x="18534" y="16808"/>
                </a:cubicBezTo>
                <a:cubicBezTo>
                  <a:pt x="18522" y="16757"/>
                  <a:pt x="18521" y="16705"/>
                  <a:pt x="18528" y="16653"/>
                </a:cubicBezTo>
                <a:cubicBezTo>
                  <a:pt x="18534" y="16608"/>
                  <a:pt x="18548" y="16537"/>
                  <a:pt x="18593" y="16513"/>
                </a:cubicBezTo>
                <a:cubicBezTo>
                  <a:pt x="18623" y="16497"/>
                  <a:pt x="18651" y="16528"/>
                  <a:pt x="18661" y="16553"/>
                </a:cubicBezTo>
                <a:cubicBezTo>
                  <a:pt x="18686" y="16614"/>
                  <a:pt x="18659" y="16678"/>
                  <a:pt x="18626" y="16729"/>
                </a:cubicBezTo>
                <a:cubicBezTo>
                  <a:pt x="18609" y="16754"/>
                  <a:pt x="18596" y="16768"/>
                  <a:pt x="18597" y="16798"/>
                </a:cubicBezTo>
                <a:cubicBezTo>
                  <a:pt x="18628" y="16816"/>
                  <a:pt x="18664" y="16824"/>
                  <a:pt x="18701" y="16820"/>
                </a:cubicBezTo>
                <a:cubicBezTo>
                  <a:pt x="18746" y="16815"/>
                  <a:pt x="18799" y="16800"/>
                  <a:pt x="18839" y="16781"/>
                </a:cubicBezTo>
                <a:cubicBezTo>
                  <a:pt x="18847" y="16776"/>
                  <a:pt x="18856" y="16771"/>
                  <a:pt x="18864" y="16766"/>
                </a:cubicBezTo>
              </a:path>
              <a:path w="1587" h="1801">
                <a:moveTo>
                  <a:pt x="19062" y="16600"/>
                </a:moveTo>
                <a:cubicBezTo>
                  <a:pt x="19065" y="16596"/>
                  <a:pt x="19067" y="16592"/>
                  <a:pt x="19070" y="16588"/>
                </a:cubicBezTo>
                <a:cubicBezTo>
                  <a:pt x="19068" y="16592"/>
                  <a:pt x="19045" y="16635"/>
                  <a:pt x="19037" y="16623"/>
                </a:cubicBezTo>
                <a:cubicBezTo>
                  <a:pt x="19035" y="16619"/>
                  <a:pt x="19077" y="16584"/>
                  <a:pt x="19080" y="16582"/>
                </a:cubicBezTo>
                <a:cubicBezTo>
                  <a:pt x="19104" y="16568"/>
                  <a:pt x="19135" y="16555"/>
                  <a:pt x="19163" y="16556"/>
                </a:cubicBezTo>
                <a:cubicBezTo>
                  <a:pt x="19198" y="16557"/>
                  <a:pt x="19224" y="16572"/>
                  <a:pt x="19236" y="16606"/>
                </a:cubicBezTo>
                <a:cubicBezTo>
                  <a:pt x="19250" y="16646"/>
                  <a:pt x="19231" y="16692"/>
                  <a:pt x="19213" y="16728"/>
                </a:cubicBezTo>
                <a:cubicBezTo>
                  <a:pt x="19194" y="16767"/>
                  <a:pt x="19164" y="16796"/>
                  <a:pt x="19140" y="16831"/>
                </a:cubicBezTo>
                <a:cubicBezTo>
                  <a:pt x="19168" y="16822"/>
                  <a:pt x="19194" y="16807"/>
                  <a:pt x="19221" y="16795"/>
                </a:cubicBezTo>
                <a:cubicBezTo>
                  <a:pt x="19262" y="16776"/>
                  <a:pt x="19308" y="16767"/>
                  <a:pt x="19352" y="16754"/>
                </a:cubicBezTo>
                <a:cubicBezTo>
                  <a:pt x="19379" y="16746"/>
                  <a:pt x="19388" y="16744"/>
                  <a:pt x="19406" y="16737"/>
                </a:cubicBezTo>
              </a:path>
              <a:path w="1587" h="1801">
                <a:moveTo>
                  <a:pt x="18684" y="17235"/>
                </a:moveTo>
                <a:cubicBezTo>
                  <a:pt x="18679" y="17216"/>
                  <a:pt x="18681" y="17201"/>
                  <a:pt x="18679" y="17182"/>
                </a:cubicBezTo>
                <a:cubicBezTo>
                  <a:pt x="18687" y="17203"/>
                  <a:pt x="18687" y="17224"/>
                  <a:pt x="18687" y="17247"/>
                </a:cubicBezTo>
                <a:cubicBezTo>
                  <a:pt x="18687" y="17291"/>
                  <a:pt x="18686" y="17336"/>
                  <a:pt x="18694" y="17380"/>
                </a:cubicBezTo>
                <a:cubicBezTo>
                  <a:pt x="18709" y="17469"/>
                  <a:pt x="18738" y="17549"/>
                  <a:pt x="18774" y="17631"/>
                </a:cubicBezTo>
                <a:cubicBezTo>
                  <a:pt x="18757" y="17633"/>
                  <a:pt x="18556" y="17599"/>
                  <a:pt x="18569" y="17585"/>
                </a:cubicBezTo>
                <a:cubicBezTo>
                  <a:pt x="18586" y="17585"/>
                  <a:pt x="18603" y="17586"/>
                  <a:pt x="18620" y="17586"/>
                </a:cubicBezTo>
              </a:path>
              <a:path w="1587" h="1801">
                <a:moveTo>
                  <a:pt x="18773" y="17650"/>
                </a:moveTo>
                <a:cubicBezTo>
                  <a:pt x="18824" y="17633"/>
                  <a:pt x="18859" y="17614"/>
                  <a:pt x="18905" y="17584"/>
                </a:cubicBezTo>
                <a:cubicBezTo>
                  <a:pt x="18943" y="17559"/>
                  <a:pt x="18984" y="17537"/>
                  <a:pt x="19026" y="17519"/>
                </a:cubicBezTo>
                <a:cubicBezTo>
                  <a:pt x="19043" y="17513"/>
                  <a:pt x="19047" y="17511"/>
                  <a:pt x="19059" y="17510"/>
                </a:cubicBezTo>
              </a:path>
              <a:path w="1587" h="1801">
                <a:moveTo>
                  <a:pt x="18878" y="17967"/>
                </a:moveTo>
                <a:cubicBezTo>
                  <a:pt x="18876" y="17952"/>
                  <a:pt x="18875" y="17937"/>
                  <a:pt x="18873" y="17922"/>
                </a:cubicBezTo>
                <a:cubicBezTo>
                  <a:pt x="18853" y="18004"/>
                  <a:pt x="18859" y="18078"/>
                  <a:pt x="18860" y="18163"/>
                </a:cubicBezTo>
                <a:cubicBezTo>
                  <a:pt x="18861" y="18212"/>
                  <a:pt x="18865" y="18259"/>
                  <a:pt x="18869" y="1830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"/>
          <p:cNvSpPr/>
          <p:nvPr/>
        </p:nvSpPr>
        <p:spPr>
          <a:xfrm>
            <a:off x="4114800" y="5969160"/>
            <a:ext cx="531720" cy="603000"/>
          </a:xfrm>
          <a:custGeom>
            <a:avLst/>
            <a:gdLst/>
            <a:ahLst/>
            <a:rect l="l" t="t" r="r" b="b"/>
            <a:pathLst>
              <a:path w="1476" h="1673">
                <a:moveTo>
                  <a:pt x="11514" y="16698"/>
                </a:moveTo>
                <a:cubicBezTo>
                  <a:pt x="11511" y="16690"/>
                  <a:pt x="11482" y="16644"/>
                  <a:pt x="11501" y="16673"/>
                </a:cubicBezTo>
              </a:path>
              <a:path w="1476" h="1673">
                <a:moveTo>
                  <a:pt x="11477" y="16772"/>
                </a:moveTo>
                <a:cubicBezTo>
                  <a:pt x="11461" y="16764"/>
                  <a:pt x="11432" y="16759"/>
                  <a:pt x="11432" y="16734"/>
                </a:cubicBezTo>
                <a:cubicBezTo>
                  <a:pt x="11432" y="16708"/>
                  <a:pt x="11470" y="16679"/>
                  <a:pt x="11490" y="16667"/>
                </a:cubicBezTo>
                <a:cubicBezTo>
                  <a:pt x="11523" y="16647"/>
                  <a:pt x="11577" y="16624"/>
                  <a:pt x="11617" y="16638"/>
                </a:cubicBezTo>
                <a:cubicBezTo>
                  <a:pt x="11666" y="16655"/>
                  <a:pt x="11658" y="16718"/>
                  <a:pt x="11651" y="16757"/>
                </a:cubicBezTo>
                <a:cubicBezTo>
                  <a:pt x="11638" y="16828"/>
                  <a:pt x="11607" y="16894"/>
                  <a:pt x="11575" y="16958"/>
                </a:cubicBezTo>
                <a:cubicBezTo>
                  <a:pt x="11555" y="16998"/>
                  <a:pt x="11524" y="17036"/>
                  <a:pt x="11509" y="17078"/>
                </a:cubicBezTo>
                <a:cubicBezTo>
                  <a:pt x="11508" y="17082"/>
                  <a:pt x="11508" y="17086"/>
                  <a:pt x="11507" y="17090"/>
                </a:cubicBezTo>
                <a:cubicBezTo>
                  <a:pt x="11545" y="17107"/>
                  <a:pt x="11587" y="17113"/>
                  <a:pt x="11630" y="17113"/>
                </a:cubicBezTo>
                <a:cubicBezTo>
                  <a:pt x="11691" y="17113"/>
                  <a:pt x="11754" y="17109"/>
                  <a:pt x="11814" y="17096"/>
                </a:cubicBezTo>
                <a:cubicBezTo>
                  <a:pt x="11828" y="17092"/>
                  <a:pt x="11842" y="17089"/>
                  <a:pt x="11856" y="17085"/>
                </a:cubicBezTo>
              </a:path>
              <a:path w="1476" h="1673">
                <a:moveTo>
                  <a:pt x="12034" y="16745"/>
                </a:moveTo>
                <a:cubicBezTo>
                  <a:pt x="12047" y="16802"/>
                  <a:pt x="12058" y="16861"/>
                  <a:pt x="12062" y="16919"/>
                </a:cubicBezTo>
                <a:cubicBezTo>
                  <a:pt x="12066" y="16972"/>
                  <a:pt x="12070" y="17031"/>
                  <a:pt x="12065" y="17084"/>
                </a:cubicBezTo>
                <a:cubicBezTo>
                  <a:pt x="12064" y="17090"/>
                  <a:pt x="12062" y="17095"/>
                  <a:pt x="12061" y="17101"/>
                </a:cubicBezTo>
                <a:cubicBezTo>
                  <a:pt x="12027" y="17082"/>
                  <a:pt x="12030" y="17041"/>
                  <a:pt x="12028" y="17001"/>
                </a:cubicBezTo>
                <a:cubicBezTo>
                  <a:pt x="12023" y="16907"/>
                  <a:pt x="12035" y="16814"/>
                  <a:pt x="12060" y="16723"/>
                </a:cubicBezTo>
                <a:cubicBezTo>
                  <a:pt x="12072" y="16681"/>
                  <a:pt x="12088" y="16615"/>
                  <a:pt x="12127" y="16588"/>
                </a:cubicBezTo>
                <a:cubicBezTo>
                  <a:pt x="12133" y="16586"/>
                  <a:pt x="12139" y="16584"/>
                  <a:pt x="12145" y="16582"/>
                </a:cubicBezTo>
                <a:cubicBezTo>
                  <a:pt x="12177" y="16601"/>
                  <a:pt x="12184" y="16625"/>
                  <a:pt x="12183" y="16664"/>
                </a:cubicBezTo>
                <a:cubicBezTo>
                  <a:pt x="12182" y="16717"/>
                  <a:pt x="12163" y="16766"/>
                  <a:pt x="12142" y="16814"/>
                </a:cubicBezTo>
                <a:cubicBezTo>
                  <a:pt x="12127" y="16848"/>
                  <a:pt x="12118" y="16870"/>
                  <a:pt x="12113" y="16905"/>
                </a:cubicBezTo>
                <a:cubicBezTo>
                  <a:pt x="12143" y="16919"/>
                  <a:pt x="12175" y="16923"/>
                  <a:pt x="12208" y="16929"/>
                </a:cubicBezTo>
                <a:cubicBezTo>
                  <a:pt x="12253" y="16937"/>
                  <a:pt x="12298" y="16948"/>
                  <a:pt x="12343" y="16955"/>
                </a:cubicBezTo>
                <a:cubicBezTo>
                  <a:pt x="12368" y="16959"/>
                  <a:pt x="12387" y="16954"/>
                  <a:pt x="12410" y="16947"/>
                </a:cubicBezTo>
              </a:path>
              <a:path w="1476" h="1673">
                <a:moveTo>
                  <a:pt x="12492" y="16834"/>
                </a:moveTo>
                <a:cubicBezTo>
                  <a:pt x="12494" y="16818"/>
                  <a:pt x="12494" y="16803"/>
                  <a:pt x="12495" y="16787"/>
                </a:cubicBezTo>
                <a:cubicBezTo>
                  <a:pt x="12496" y="16770"/>
                  <a:pt x="12503" y="16749"/>
                  <a:pt x="12511" y="16734"/>
                </a:cubicBezTo>
                <a:cubicBezTo>
                  <a:pt x="12535" y="16688"/>
                  <a:pt x="12593" y="16667"/>
                  <a:pt x="12640" y="16657"/>
                </a:cubicBezTo>
                <a:cubicBezTo>
                  <a:pt x="12686" y="16647"/>
                  <a:pt x="12753" y="16640"/>
                  <a:pt x="12788" y="16679"/>
                </a:cubicBezTo>
                <a:cubicBezTo>
                  <a:pt x="12811" y="16704"/>
                  <a:pt x="12800" y="16748"/>
                  <a:pt x="12787" y="16775"/>
                </a:cubicBezTo>
                <a:cubicBezTo>
                  <a:pt x="12770" y="16810"/>
                  <a:pt x="12738" y="16853"/>
                  <a:pt x="12707" y="16877"/>
                </a:cubicBezTo>
                <a:cubicBezTo>
                  <a:pt x="12704" y="16878"/>
                  <a:pt x="12701" y="16880"/>
                  <a:pt x="12698" y="16881"/>
                </a:cubicBezTo>
                <a:cubicBezTo>
                  <a:pt x="12740" y="16863"/>
                  <a:pt x="12781" y="16857"/>
                  <a:pt x="12824" y="16881"/>
                </a:cubicBezTo>
                <a:cubicBezTo>
                  <a:pt x="12861" y="16901"/>
                  <a:pt x="12894" y="16941"/>
                  <a:pt x="12904" y="16982"/>
                </a:cubicBezTo>
                <a:cubicBezTo>
                  <a:pt x="12916" y="17031"/>
                  <a:pt x="12895" y="17069"/>
                  <a:pt x="12854" y="17095"/>
                </a:cubicBezTo>
                <a:cubicBezTo>
                  <a:pt x="12817" y="17119"/>
                  <a:pt x="12757" y="17132"/>
                  <a:pt x="12713" y="17129"/>
                </a:cubicBezTo>
                <a:cubicBezTo>
                  <a:pt x="12681" y="17127"/>
                  <a:pt x="12666" y="17116"/>
                  <a:pt x="12642" y="17098"/>
                </a:cubicBezTo>
              </a:path>
              <a:path w="1476" h="1673">
                <a:moveTo>
                  <a:pt x="12260" y="17388"/>
                </a:moveTo>
                <a:cubicBezTo>
                  <a:pt x="12242" y="17380"/>
                  <a:pt x="12242" y="17388"/>
                  <a:pt x="12243" y="17409"/>
                </a:cubicBezTo>
                <a:cubicBezTo>
                  <a:pt x="12246" y="17475"/>
                  <a:pt x="12258" y="17540"/>
                  <a:pt x="12269" y="17605"/>
                </a:cubicBezTo>
                <a:cubicBezTo>
                  <a:pt x="12278" y="17660"/>
                  <a:pt x="12281" y="17675"/>
                  <a:pt x="12284" y="17711"/>
                </a:cubicBezTo>
                <a:cubicBezTo>
                  <a:pt x="12228" y="17696"/>
                  <a:pt x="12184" y="17676"/>
                  <a:pt x="12131" y="17650"/>
                </a:cubicBezTo>
                <a:cubicBezTo>
                  <a:pt x="12196" y="17650"/>
                  <a:pt x="12263" y="17695"/>
                  <a:pt x="12325" y="17692"/>
                </a:cubicBezTo>
                <a:cubicBezTo>
                  <a:pt x="12382" y="17689"/>
                  <a:pt x="12456" y="17621"/>
                  <a:pt x="12506" y="17597"/>
                </a:cubicBezTo>
              </a:path>
              <a:path w="1476" h="1673">
                <a:moveTo>
                  <a:pt x="12358" y="17823"/>
                </a:moveTo>
                <a:cubicBezTo>
                  <a:pt x="12347" y="17911"/>
                  <a:pt x="12344" y="17999"/>
                  <a:pt x="12347" y="18088"/>
                </a:cubicBezTo>
                <a:cubicBezTo>
                  <a:pt x="12349" y="18155"/>
                  <a:pt x="12378" y="18280"/>
                  <a:pt x="12316" y="18213"/>
                </a:cubicBezTo>
              </a:path>
              <a:path w="1476" h="1673">
                <a:moveTo>
                  <a:pt x="12266" y="17892"/>
                </a:moveTo>
                <a:cubicBezTo>
                  <a:pt x="12258" y="17877"/>
                  <a:pt x="12249" y="17861"/>
                  <a:pt x="12241" y="17846"/>
                </a:cubicBezTo>
                <a:cubicBezTo>
                  <a:pt x="12327" y="17808"/>
                  <a:pt x="12389" y="17807"/>
                  <a:pt x="12480" y="17794"/>
                </a:cubicBezTo>
                <a:cubicBezTo>
                  <a:pt x="12525" y="17785"/>
                  <a:pt x="12540" y="17782"/>
                  <a:pt x="12571" y="1778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"/>
          <p:cNvSpPr/>
          <p:nvPr/>
        </p:nvSpPr>
        <p:spPr>
          <a:xfrm>
            <a:off x="5164200" y="5994360"/>
            <a:ext cx="525240" cy="581040"/>
          </a:xfrm>
          <a:custGeom>
            <a:avLst/>
            <a:gdLst/>
            <a:ahLst/>
            <a:rect l="l" t="t" r="r" b="b"/>
            <a:pathLst>
              <a:path w="1460" h="1615">
                <a:moveTo>
                  <a:pt x="14382" y="16794"/>
                </a:moveTo>
                <a:cubicBezTo>
                  <a:pt x="14357" y="16789"/>
                  <a:pt x="14366" y="16794"/>
                  <a:pt x="14344" y="16781"/>
                </a:cubicBezTo>
                <a:cubicBezTo>
                  <a:pt x="14366" y="16760"/>
                  <a:pt x="14387" y="16744"/>
                  <a:pt x="14417" y="16730"/>
                </a:cubicBezTo>
                <a:cubicBezTo>
                  <a:pt x="14452" y="16713"/>
                  <a:pt x="14504" y="16684"/>
                  <a:pt x="14545" y="16697"/>
                </a:cubicBezTo>
                <a:cubicBezTo>
                  <a:pt x="14592" y="16712"/>
                  <a:pt x="14573" y="16768"/>
                  <a:pt x="14562" y="16800"/>
                </a:cubicBezTo>
                <a:cubicBezTo>
                  <a:pt x="14540" y="16864"/>
                  <a:pt x="14501" y="16920"/>
                  <a:pt x="14472" y="16981"/>
                </a:cubicBezTo>
                <a:cubicBezTo>
                  <a:pt x="14465" y="16996"/>
                  <a:pt x="14462" y="16999"/>
                  <a:pt x="14465" y="17009"/>
                </a:cubicBezTo>
                <a:cubicBezTo>
                  <a:pt x="14491" y="17009"/>
                  <a:pt x="14519" y="17006"/>
                  <a:pt x="14546" y="17004"/>
                </a:cubicBezTo>
                <a:cubicBezTo>
                  <a:pt x="14591" y="17001"/>
                  <a:pt x="14657" y="16995"/>
                  <a:pt x="14689" y="17036"/>
                </a:cubicBezTo>
                <a:cubicBezTo>
                  <a:pt x="14711" y="17065"/>
                  <a:pt x="14695" y="17098"/>
                  <a:pt x="14675" y="17121"/>
                </a:cubicBezTo>
                <a:cubicBezTo>
                  <a:pt x="14643" y="17157"/>
                  <a:pt x="14598" y="17174"/>
                  <a:pt x="14552" y="17177"/>
                </a:cubicBezTo>
                <a:cubicBezTo>
                  <a:pt x="14539" y="17178"/>
                  <a:pt x="14535" y="17179"/>
                  <a:pt x="14531" y="17169"/>
                </a:cubicBezTo>
                <a:cubicBezTo>
                  <a:pt x="14533" y="17139"/>
                  <a:pt x="14538" y="17132"/>
                  <a:pt x="14555" y="17106"/>
                </a:cubicBezTo>
              </a:path>
              <a:path w="1460" h="1615">
                <a:moveTo>
                  <a:pt x="14941" y="16859"/>
                </a:moveTo>
                <a:cubicBezTo>
                  <a:pt x="14953" y="16890"/>
                  <a:pt x="14953" y="16912"/>
                  <a:pt x="14956" y="16944"/>
                </a:cubicBezTo>
                <a:cubicBezTo>
                  <a:pt x="14959" y="16987"/>
                  <a:pt x="14961" y="17027"/>
                  <a:pt x="14953" y="17070"/>
                </a:cubicBezTo>
                <a:cubicBezTo>
                  <a:pt x="14949" y="17087"/>
                  <a:pt x="14949" y="17091"/>
                  <a:pt x="14942" y="17099"/>
                </a:cubicBezTo>
                <a:cubicBezTo>
                  <a:pt x="14921" y="17075"/>
                  <a:pt x="14928" y="17044"/>
                  <a:pt x="14930" y="17010"/>
                </a:cubicBezTo>
                <a:cubicBezTo>
                  <a:pt x="14934" y="16947"/>
                  <a:pt x="14945" y="16886"/>
                  <a:pt x="14964" y="16826"/>
                </a:cubicBezTo>
                <a:cubicBezTo>
                  <a:pt x="14982" y="16771"/>
                  <a:pt x="15007" y="16694"/>
                  <a:pt x="15057" y="16660"/>
                </a:cubicBezTo>
                <a:cubicBezTo>
                  <a:pt x="15075" y="16653"/>
                  <a:pt x="15079" y="16650"/>
                  <a:pt x="15092" y="16652"/>
                </a:cubicBezTo>
                <a:cubicBezTo>
                  <a:pt x="15118" y="16677"/>
                  <a:pt x="15112" y="16693"/>
                  <a:pt x="15100" y="16727"/>
                </a:cubicBezTo>
                <a:cubicBezTo>
                  <a:pt x="15081" y="16780"/>
                  <a:pt x="15047" y="16829"/>
                  <a:pt x="15016" y="16875"/>
                </a:cubicBezTo>
                <a:cubicBezTo>
                  <a:pt x="14998" y="16901"/>
                  <a:pt x="14953" y="16947"/>
                  <a:pt x="14971" y="16984"/>
                </a:cubicBezTo>
                <a:cubicBezTo>
                  <a:pt x="14985" y="17014"/>
                  <a:pt x="15050" y="17010"/>
                  <a:pt x="15075" y="17011"/>
                </a:cubicBezTo>
                <a:cubicBezTo>
                  <a:pt x="15126" y="17013"/>
                  <a:pt x="15178" y="17020"/>
                  <a:pt x="15229" y="17014"/>
                </a:cubicBezTo>
                <a:cubicBezTo>
                  <a:pt x="15259" y="17008"/>
                  <a:pt x="15268" y="17007"/>
                  <a:pt x="15288" y="17003"/>
                </a:cubicBezTo>
              </a:path>
              <a:path w="1460" h="1615">
                <a:moveTo>
                  <a:pt x="15452" y="16750"/>
                </a:moveTo>
                <a:cubicBezTo>
                  <a:pt x="15485" y="16737"/>
                  <a:pt x="15513" y="16734"/>
                  <a:pt x="15547" y="16727"/>
                </a:cubicBezTo>
                <a:cubicBezTo>
                  <a:pt x="15576" y="16721"/>
                  <a:pt x="15616" y="16716"/>
                  <a:pt x="15637" y="16745"/>
                </a:cubicBezTo>
                <a:cubicBezTo>
                  <a:pt x="15660" y="16776"/>
                  <a:pt x="15639" y="16831"/>
                  <a:pt x="15627" y="16861"/>
                </a:cubicBezTo>
                <a:cubicBezTo>
                  <a:pt x="15609" y="16906"/>
                  <a:pt x="15546" y="16984"/>
                  <a:pt x="15563" y="17036"/>
                </a:cubicBezTo>
                <a:cubicBezTo>
                  <a:pt x="15573" y="17066"/>
                  <a:pt x="15620" y="17061"/>
                  <a:pt x="15644" y="17062"/>
                </a:cubicBezTo>
                <a:cubicBezTo>
                  <a:pt x="15685" y="17065"/>
                  <a:pt x="15725" y="17059"/>
                  <a:pt x="15766" y="17055"/>
                </a:cubicBezTo>
                <a:cubicBezTo>
                  <a:pt x="15786" y="17052"/>
                  <a:pt x="15791" y="17052"/>
                  <a:pt x="15803" y="17049"/>
                </a:cubicBezTo>
              </a:path>
              <a:path w="1460" h="1615">
                <a:moveTo>
                  <a:pt x="15016" y="17462"/>
                </a:moveTo>
                <a:cubicBezTo>
                  <a:pt x="15017" y="17441"/>
                  <a:pt x="15020" y="17423"/>
                  <a:pt x="15019" y="17402"/>
                </a:cubicBezTo>
                <a:cubicBezTo>
                  <a:pt x="15019" y="17397"/>
                  <a:pt x="15018" y="17391"/>
                  <a:pt x="15018" y="17386"/>
                </a:cubicBezTo>
                <a:cubicBezTo>
                  <a:pt x="15036" y="17433"/>
                  <a:pt x="15046" y="17485"/>
                  <a:pt x="15055" y="17535"/>
                </a:cubicBezTo>
                <a:cubicBezTo>
                  <a:pt x="15066" y="17596"/>
                  <a:pt x="15071" y="17640"/>
                  <a:pt x="15065" y="17700"/>
                </a:cubicBezTo>
                <a:cubicBezTo>
                  <a:pt x="14987" y="17688"/>
                  <a:pt x="14988" y="17682"/>
                  <a:pt x="14936" y="17618"/>
                </a:cubicBezTo>
                <a:cubicBezTo>
                  <a:pt x="15024" y="17611"/>
                  <a:pt x="15078" y="17680"/>
                  <a:pt x="15143" y="17682"/>
                </a:cubicBezTo>
                <a:cubicBezTo>
                  <a:pt x="15188" y="17683"/>
                  <a:pt x="15257" y="17631"/>
                  <a:pt x="15296" y="17609"/>
                </a:cubicBezTo>
              </a:path>
              <a:path w="1460" h="1615">
                <a:moveTo>
                  <a:pt x="15141" y="18029"/>
                </a:moveTo>
                <a:cubicBezTo>
                  <a:pt x="15141" y="18011"/>
                  <a:pt x="15142" y="17994"/>
                  <a:pt x="15142" y="17976"/>
                </a:cubicBezTo>
                <a:cubicBezTo>
                  <a:pt x="15145" y="18048"/>
                  <a:pt x="15145" y="18120"/>
                  <a:pt x="15144" y="18192"/>
                </a:cubicBezTo>
                <a:cubicBezTo>
                  <a:pt x="15144" y="18217"/>
                  <a:pt x="15143" y="18241"/>
                  <a:pt x="15143" y="18266"/>
                </a:cubicBezTo>
              </a:path>
              <a:path w="1460" h="1615">
                <a:moveTo>
                  <a:pt x="15038" y="18021"/>
                </a:moveTo>
                <a:cubicBezTo>
                  <a:pt x="15025" y="18006"/>
                  <a:pt x="15013" y="17990"/>
                  <a:pt x="15000" y="17975"/>
                </a:cubicBezTo>
                <a:cubicBezTo>
                  <a:pt x="15097" y="17932"/>
                  <a:pt x="15158" y="17925"/>
                  <a:pt x="15264" y="17930"/>
                </a:cubicBezTo>
                <a:cubicBezTo>
                  <a:pt x="15279" y="17930"/>
                  <a:pt x="15293" y="17931"/>
                  <a:pt x="15308" y="1793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"/>
          <p:cNvSpPr/>
          <p:nvPr/>
        </p:nvSpPr>
        <p:spPr>
          <a:xfrm>
            <a:off x="6788160" y="6435720"/>
            <a:ext cx="111240" cy="123840"/>
          </a:xfrm>
          <a:custGeom>
            <a:avLst/>
            <a:gdLst/>
            <a:ahLst/>
            <a:rect l="l" t="t" r="r" b="b"/>
            <a:pathLst>
              <a:path w="310" h="340">
                <a:moveTo>
                  <a:pt x="18854" y="17941"/>
                </a:moveTo>
                <a:cubicBezTo>
                  <a:pt x="18950" y="17898"/>
                  <a:pt x="19014" y="17883"/>
                  <a:pt x="19119" y="17887"/>
                </a:cubicBezTo>
              </a:path>
              <a:path w="310" h="340">
                <a:moveTo>
                  <a:pt x="18951" y="18218"/>
                </a:moveTo>
                <a:cubicBezTo>
                  <a:pt x="19025" y="18211"/>
                  <a:pt x="19088" y="18189"/>
                  <a:pt x="19163" y="1818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"/>
          <p:cNvSpPr/>
          <p:nvPr/>
        </p:nvSpPr>
        <p:spPr>
          <a:xfrm>
            <a:off x="3429720" y="0"/>
            <a:ext cx="20491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0000"/>
                </a:solidFill>
                <a:latin typeface="Arial"/>
              </a:rPr>
              <a:t>Graph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"/>
          <p:cNvSpPr/>
          <p:nvPr/>
        </p:nvSpPr>
        <p:spPr>
          <a:xfrm>
            <a:off x="536760" y="914400"/>
            <a:ext cx="7848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ic definitions.  Directed, undirected.  Simple.  Multigraph.  Psuedograp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gree of vertex.  Handshaking theorem.  Bipartite graphs. Connectivit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ths.  Simple paths.  Euler paths.  Circuits.  Euler circuits.  Hamilton path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milton circui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tructive algorithm for Euler circuits/path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"/>
          <p:cNvSpPr/>
          <p:nvPr/>
        </p:nvSpPr>
        <p:spPr>
          <a:xfrm>
            <a:off x="539280" y="4114800"/>
            <a:ext cx="789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: Does the following graph have a Euler circuit?  If so construct o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"/>
          <p:cNvSpPr/>
          <p:nvPr/>
        </p:nvSpPr>
        <p:spPr>
          <a:xfrm>
            <a:off x="1455840" y="5172120"/>
            <a:ext cx="52200" cy="101520"/>
          </a:xfrm>
          <a:custGeom>
            <a:avLst/>
            <a:gdLst/>
            <a:ahLst/>
            <a:rect l="l" t="t" r="r" b="b"/>
            <a:pathLst>
              <a:path w="143" h="282">
                <a:moveTo>
                  <a:pt x="4122" y="14552"/>
                </a:moveTo>
                <a:cubicBezTo>
                  <a:pt x="4089" y="14518"/>
                  <a:pt x="4089" y="14507"/>
                  <a:pt x="4093" y="14460"/>
                </a:cubicBezTo>
                <a:cubicBezTo>
                  <a:pt x="4096" y="14428"/>
                  <a:pt x="4097" y="14396"/>
                  <a:pt x="4113" y="14368"/>
                </a:cubicBezTo>
                <a:cubicBezTo>
                  <a:pt x="4137" y="14390"/>
                  <a:pt x="4153" y="14420"/>
                  <a:pt x="4159" y="14454"/>
                </a:cubicBezTo>
                <a:cubicBezTo>
                  <a:pt x="4165" y="14489"/>
                  <a:pt x="4164" y="14528"/>
                  <a:pt x="4150" y="14561"/>
                </a:cubicBezTo>
                <a:cubicBezTo>
                  <a:pt x="4140" y="14577"/>
                  <a:pt x="4137" y="14582"/>
                  <a:pt x="4128" y="14591"/>
                </a:cubicBezTo>
                <a:cubicBezTo>
                  <a:pt x="4092" y="14593"/>
                  <a:pt x="4078" y="14571"/>
                  <a:pt x="4066" y="14536"/>
                </a:cubicBezTo>
                <a:cubicBezTo>
                  <a:pt x="4056" y="14507"/>
                  <a:pt x="4056" y="14472"/>
                  <a:pt x="4068" y="14444"/>
                </a:cubicBezTo>
                <a:cubicBezTo>
                  <a:pt x="4071" y="14439"/>
                  <a:pt x="4073" y="14435"/>
                  <a:pt x="4076" y="14430"/>
                </a:cubicBezTo>
                <a:cubicBezTo>
                  <a:pt x="4102" y="14420"/>
                  <a:pt x="4117" y="14422"/>
                  <a:pt x="4140" y="14441"/>
                </a:cubicBezTo>
                <a:cubicBezTo>
                  <a:pt x="4168" y="14464"/>
                  <a:pt x="4183" y="14499"/>
                  <a:pt x="4187" y="14535"/>
                </a:cubicBezTo>
                <a:cubicBezTo>
                  <a:pt x="4190" y="14567"/>
                  <a:pt x="4183" y="14608"/>
                  <a:pt x="4160" y="14632"/>
                </a:cubicBezTo>
                <a:cubicBezTo>
                  <a:pt x="4143" y="14650"/>
                  <a:pt x="4107" y="14657"/>
                  <a:pt x="4086" y="14641"/>
                </a:cubicBezTo>
                <a:cubicBezTo>
                  <a:pt x="4061" y="14622"/>
                  <a:pt x="4048" y="14579"/>
                  <a:pt x="4045" y="14550"/>
                </a:cubicBezTo>
                <a:cubicBezTo>
                  <a:pt x="4044" y="14543"/>
                  <a:pt x="4047" y="14441"/>
                  <a:pt x="4071" y="14451"/>
                </a:cubicBezTo>
                <a:cubicBezTo>
                  <a:pt x="4076" y="14457"/>
                  <a:pt x="4081" y="14464"/>
                  <a:pt x="4086" y="14470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"/>
          <p:cNvSpPr/>
          <p:nvPr/>
        </p:nvSpPr>
        <p:spPr>
          <a:xfrm>
            <a:off x="1816200" y="4826160"/>
            <a:ext cx="58680" cy="110880"/>
          </a:xfrm>
          <a:custGeom>
            <a:avLst/>
            <a:gdLst/>
            <a:ahLst/>
            <a:rect l="l" t="t" r="r" b="b"/>
            <a:pathLst>
              <a:path w="166" h="309">
                <a:moveTo>
                  <a:pt x="5088" y="13550"/>
                </a:moveTo>
                <a:cubicBezTo>
                  <a:pt x="5060" y="13539"/>
                  <a:pt x="5055" y="13535"/>
                  <a:pt x="5055" y="13504"/>
                </a:cubicBezTo>
                <a:cubicBezTo>
                  <a:pt x="5055" y="13478"/>
                  <a:pt x="5063" y="13452"/>
                  <a:pt x="5081" y="13431"/>
                </a:cubicBezTo>
                <a:cubicBezTo>
                  <a:pt x="5099" y="13410"/>
                  <a:pt x="5124" y="13402"/>
                  <a:pt x="5149" y="13415"/>
                </a:cubicBezTo>
                <a:cubicBezTo>
                  <a:pt x="5177" y="13430"/>
                  <a:pt x="5190" y="13482"/>
                  <a:pt x="5190" y="13510"/>
                </a:cubicBezTo>
                <a:cubicBezTo>
                  <a:pt x="5190" y="13549"/>
                  <a:pt x="5177" y="13599"/>
                  <a:pt x="5156" y="13632"/>
                </a:cubicBezTo>
                <a:cubicBezTo>
                  <a:pt x="5142" y="13648"/>
                  <a:pt x="5139" y="13652"/>
                  <a:pt x="5126" y="13658"/>
                </a:cubicBezTo>
                <a:cubicBezTo>
                  <a:pt x="5098" y="13642"/>
                  <a:pt x="5090" y="13628"/>
                  <a:pt x="5091" y="13594"/>
                </a:cubicBezTo>
                <a:cubicBezTo>
                  <a:pt x="5092" y="13561"/>
                  <a:pt x="5098" y="13520"/>
                  <a:pt x="5121" y="13495"/>
                </a:cubicBezTo>
                <a:cubicBezTo>
                  <a:pt x="5137" y="13477"/>
                  <a:pt x="5169" y="13469"/>
                  <a:pt x="5188" y="13489"/>
                </a:cubicBezTo>
                <a:cubicBezTo>
                  <a:pt x="5215" y="13518"/>
                  <a:pt x="5213" y="13566"/>
                  <a:pt x="5202" y="13601"/>
                </a:cubicBezTo>
                <a:cubicBezTo>
                  <a:pt x="5190" y="13640"/>
                  <a:pt x="5161" y="13688"/>
                  <a:pt x="5124" y="13708"/>
                </a:cubicBezTo>
                <a:cubicBezTo>
                  <a:pt x="5090" y="13726"/>
                  <a:pt x="5052" y="13710"/>
                  <a:pt x="5044" y="13673"/>
                </a:cubicBezTo>
                <a:cubicBezTo>
                  <a:pt x="5045" y="13654"/>
                  <a:pt x="5046" y="13647"/>
                  <a:pt x="5050" y="13635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"/>
          <p:cNvSpPr/>
          <p:nvPr/>
        </p:nvSpPr>
        <p:spPr>
          <a:xfrm>
            <a:off x="1793880" y="5621400"/>
            <a:ext cx="58680" cy="87120"/>
          </a:xfrm>
          <a:custGeom>
            <a:avLst/>
            <a:gdLst/>
            <a:ahLst/>
            <a:rect l="l" t="t" r="r" b="b"/>
            <a:pathLst>
              <a:path w="163" h="239">
                <a:moveTo>
                  <a:pt x="4986" y="15667"/>
                </a:moveTo>
                <a:cubicBezTo>
                  <a:pt x="4984" y="15639"/>
                  <a:pt x="4984" y="15641"/>
                  <a:pt x="5003" y="15620"/>
                </a:cubicBezTo>
                <a:cubicBezTo>
                  <a:pt x="5039" y="15620"/>
                  <a:pt x="5056" y="15633"/>
                  <a:pt x="5070" y="15670"/>
                </a:cubicBezTo>
                <a:cubicBezTo>
                  <a:pt x="5084" y="15707"/>
                  <a:pt x="5083" y="15749"/>
                  <a:pt x="5075" y="15787"/>
                </a:cubicBezTo>
                <a:cubicBezTo>
                  <a:pt x="5069" y="15816"/>
                  <a:pt x="5060" y="15828"/>
                  <a:pt x="5042" y="15849"/>
                </a:cubicBezTo>
                <a:cubicBezTo>
                  <a:pt x="5005" y="15859"/>
                  <a:pt x="4997" y="15831"/>
                  <a:pt x="4990" y="15796"/>
                </a:cubicBezTo>
                <a:cubicBezTo>
                  <a:pt x="4984" y="15765"/>
                  <a:pt x="4988" y="15719"/>
                  <a:pt x="5004" y="15691"/>
                </a:cubicBezTo>
                <a:cubicBezTo>
                  <a:pt x="5019" y="15664"/>
                  <a:pt x="5042" y="15668"/>
                  <a:pt x="5065" y="15681"/>
                </a:cubicBezTo>
                <a:cubicBezTo>
                  <a:pt x="5102" y="15702"/>
                  <a:pt x="5129" y="15739"/>
                  <a:pt x="5142" y="15779"/>
                </a:cubicBezTo>
                <a:cubicBezTo>
                  <a:pt x="5145" y="15795"/>
                  <a:pt x="5146" y="15800"/>
                  <a:pt x="5144" y="15811"/>
                </a:cubicBezTo>
                <a:cubicBezTo>
                  <a:pt x="5118" y="15829"/>
                  <a:pt x="5107" y="15834"/>
                  <a:pt x="5079" y="15814"/>
                </a:cubicBezTo>
                <a:cubicBezTo>
                  <a:pt x="5052" y="15794"/>
                  <a:pt x="5034" y="15762"/>
                  <a:pt x="5024" y="15731"/>
                </a:cubicBezTo>
                <a:cubicBezTo>
                  <a:pt x="5014" y="15699"/>
                  <a:pt x="5018" y="15670"/>
                  <a:pt x="5020" y="15638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"/>
          <p:cNvSpPr/>
          <p:nvPr/>
        </p:nvSpPr>
        <p:spPr>
          <a:xfrm>
            <a:off x="2112840" y="5257800"/>
            <a:ext cx="57240" cy="68400"/>
          </a:xfrm>
          <a:custGeom>
            <a:avLst/>
            <a:gdLst/>
            <a:ahLst/>
            <a:rect l="l" t="t" r="r" b="b"/>
            <a:pathLst>
              <a:path w="160" h="192">
                <a:moveTo>
                  <a:pt x="5963" y="14670"/>
                </a:moveTo>
                <a:cubicBezTo>
                  <a:pt x="5986" y="14653"/>
                  <a:pt x="5951" y="14645"/>
                  <a:pt x="5967" y="14618"/>
                </a:cubicBezTo>
                <a:cubicBezTo>
                  <a:pt x="5973" y="14613"/>
                  <a:pt x="5978" y="14608"/>
                  <a:pt x="5984" y="14603"/>
                </a:cubicBezTo>
                <a:cubicBezTo>
                  <a:pt x="6009" y="14620"/>
                  <a:pt x="6021" y="14634"/>
                  <a:pt x="6026" y="14665"/>
                </a:cubicBezTo>
                <a:cubicBezTo>
                  <a:pt x="6031" y="14696"/>
                  <a:pt x="6028" y="14733"/>
                  <a:pt x="6013" y="14761"/>
                </a:cubicBezTo>
                <a:cubicBezTo>
                  <a:pt x="6001" y="14783"/>
                  <a:pt x="5975" y="14802"/>
                  <a:pt x="5950" y="14790"/>
                </a:cubicBezTo>
                <a:cubicBezTo>
                  <a:pt x="5916" y="14774"/>
                  <a:pt x="5905" y="14725"/>
                  <a:pt x="5908" y="14691"/>
                </a:cubicBezTo>
                <a:cubicBezTo>
                  <a:pt x="5911" y="14659"/>
                  <a:pt x="5931" y="14632"/>
                  <a:pt x="5966" y="14637"/>
                </a:cubicBezTo>
                <a:cubicBezTo>
                  <a:pt x="5993" y="14641"/>
                  <a:pt x="6009" y="14673"/>
                  <a:pt x="6016" y="14696"/>
                </a:cubicBezTo>
                <a:cubicBezTo>
                  <a:pt x="6024" y="14723"/>
                  <a:pt x="6021" y="14757"/>
                  <a:pt x="5999" y="14778"/>
                </a:cubicBezTo>
                <a:cubicBezTo>
                  <a:pt x="5976" y="14800"/>
                  <a:pt x="5948" y="14793"/>
                  <a:pt x="5922" y="14785"/>
                </a:cubicBezTo>
                <a:cubicBezTo>
                  <a:pt x="5895" y="14777"/>
                  <a:pt x="5883" y="14748"/>
                  <a:pt x="5875" y="14722"/>
                </a:cubicBezTo>
                <a:cubicBezTo>
                  <a:pt x="5873" y="14713"/>
                  <a:pt x="5870" y="14703"/>
                  <a:pt x="5868" y="14694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"/>
          <p:cNvSpPr/>
          <p:nvPr/>
        </p:nvSpPr>
        <p:spPr>
          <a:xfrm>
            <a:off x="1486080" y="5227560"/>
            <a:ext cx="311040" cy="452520"/>
          </a:xfrm>
          <a:custGeom>
            <a:avLst/>
            <a:gdLst/>
            <a:ahLst/>
            <a:rect l="l" t="t" r="r" b="b"/>
            <a:pathLst>
              <a:path w="863" h="1256">
                <a:moveTo>
                  <a:pt x="4128" y="14523"/>
                </a:moveTo>
                <a:cubicBezTo>
                  <a:pt x="4135" y="14558"/>
                  <a:pt x="4139" y="14583"/>
                  <a:pt x="4155" y="14618"/>
                </a:cubicBezTo>
                <a:cubicBezTo>
                  <a:pt x="4176" y="14665"/>
                  <a:pt x="4202" y="14709"/>
                  <a:pt x="4227" y="14755"/>
                </a:cubicBezTo>
                <a:cubicBezTo>
                  <a:pt x="4263" y="14821"/>
                  <a:pt x="4300" y="14887"/>
                  <a:pt x="4338" y="14952"/>
                </a:cubicBezTo>
                <a:cubicBezTo>
                  <a:pt x="4378" y="15022"/>
                  <a:pt x="4417" y="15091"/>
                  <a:pt x="4463" y="15157"/>
                </a:cubicBezTo>
                <a:cubicBezTo>
                  <a:pt x="4517" y="15234"/>
                  <a:pt x="4577" y="15306"/>
                  <a:pt x="4634" y="15380"/>
                </a:cubicBezTo>
                <a:cubicBezTo>
                  <a:pt x="4726" y="15500"/>
                  <a:pt x="4804" y="15628"/>
                  <a:pt x="4916" y="15731"/>
                </a:cubicBezTo>
                <a:cubicBezTo>
                  <a:pt x="4936" y="15749"/>
                  <a:pt x="4956" y="15763"/>
                  <a:pt x="4977" y="15778"/>
                </a:cubicBezTo>
                <a:cubicBezTo>
                  <a:pt x="4981" y="15756"/>
                  <a:pt x="4985" y="15743"/>
                  <a:pt x="4984" y="15710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"/>
          <p:cNvSpPr/>
          <p:nvPr/>
        </p:nvSpPr>
        <p:spPr>
          <a:xfrm>
            <a:off x="1839960" y="5276880"/>
            <a:ext cx="318960" cy="399960"/>
          </a:xfrm>
          <a:custGeom>
            <a:avLst/>
            <a:gdLst/>
            <a:ahLst/>
            <a:rect l="l" t="t" r="r" b="b"/>
            <a:pathLst>
              <a:path w="886" h="1111">
                <a:moveTo>
                  <a:pt x="5125" y="15766"/>
                </a:moveTo>
                <a:cubicBezTo>
                  <a:pt x="5142" y="15740"/>
                  <a:pt x="5145" y="15737"/>
                  <a:pt x="5165" y="15713"/>
                </a:cubicBezTo>
                <a:cubicBezTo>
                  <a:pt x="5203" y="15666"/>
                  <a:pt x="5241" y="15618"/>
                  <a:pt x="5279" y="15571"/>
                </a:cubicBezTo>
                <a:cubicBezTo>
                  <a:pt x="5417" y="15399"/>
                  <a:pt x="5571" y="15247"/>
                  <a:pt x="5723" y="15087"/>
                </a:cubicBezTo>
                <a:cubicBezTo>
                  <a:pt x="5771" y="15036"/>
                  <a:pt x="5815" y="14985"/>
                  <a:pt x="5858" y="14929"/>
                </a:cubicBezTo>
                <a:cubicBezTo>
                  <a:pt x="5891" y="14885"/>
                  <a:pt x="5921" y="14840"/>
                  <a:pt x="5950" y="14793"/>
                </a:cubicBezTo>
                <a:cubicBezTo>
                  <a:pt x="5970" y="14761"/>
                  <a:pt x="5996" y="14732"/>
                  <a:pt x="5994" y="14693"/>
                </a:cubicBezTo>
                <a:cubicBezTo>
                  <a:pt x="5993" y="14676"/>
                  <a:pt x="5991" y="14669"/>
                  <a:pt x="5984" y="14659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"/>
          <p:cNvSpPr/>
          <p:nvPr/>
        </p:nvSpPr>
        <p:spPr>
          <a:xfrm>
            <a:off x="1876320" y="4900680"/>
            <a:ext cx="289080" cy="396720"/>
          </a:xfrm>
          <a:custGeom>
            <a:avLst/>
            <a:gdLst/>
            <a:ahLst/>
            <a:rect l="l" t="t" r="r" b="b"/>
            <a:pathLst>
              <a:path w="801" h="1104">
                <a:moveTo>
                  <a:pt x="5236" y="13638"/>
                </a:moveTo>
                <a:cubicBezTo>
                  <a:pt x="5226" y="13623"/>
                  <a:pt x="5223" y="13618"/>
                  <a:pt x="5213" y="13611"/>
                </a:cubicBezTo>
                <a:cubicBezTo>
                  <a:pt x="5238" y="13655"/>
                  <a:pt x="5261" y="13700"/>
                  <a:pt x="5282" y="13747"/>
                </a:cubicBezTo>
                <a:cubicBezTo>
                  <a:pt x="5314" y="13818"/>
                  <a:pt x="5348" y="13887"/>
                  <a:pt x="5387" y="13954"/>
                </a:cubicBezTo>
                <a:cubicBezTo>
                  <a:pt x="5451" y="14063"/>
                  <a:pt x="5525" y="14164"/>
                  <a:pt x="5602" y="14263"/>
                </a:cubicBezTo>
                <a:cubicBezTo>
                  <a:pt x="5698" y="14386"/>
                  <a:pt x="5785" y="14523"/>
                  <a:pt x="5899" y="14632"/>
                </a:cubicBezTo>
                <a:cubicBezTo>
                  <a:pt x="5934" y="14665"/>
                  <a:pt x="5973" y="14689"/>
                  <a:pt x="6013" y="14714"/>
                </a:cubicBezTo>
                <a:cubicBezTo>
                  <a:pt x="5999" y="14670"/>
                  <a:pt x="5987" y="14644"/>
                  <a:pt x="5957" y="14603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"/>
          <p:cNvSpPr/>
          <p:nvPr/>
        </p:nvSpPr>
        <p:spPr>
          <a:xfrm>
            <a:off x="1482840" y="4849920"/>
            <a:ext cx="336600" cy="344520"/>
          </a:xfrm>
          <a:custGeom>
            <a:avLst/>
            <a:gdLst/>
            <a:ahLst/>
            <a:rect l="l" t="t" r="r" b="b"/>
            <a:pathLst>
              <a:path w="934" h="956">
                <a:moveTo>
                  <a:pt x="4129" y="14389"/>
                </a:moveTo>
                <a:cubicBezTo>
                  <a:pt x="4122" y="14408"/>
                  <a:pt x="4120" y="14413"/>
                  <a:pt x="4119" y="14426"/>
                </a:cubicBezTo>
                <a:cubicBezTo>
                  <a:pt x="4157" y="14412"/>
                  <a:pt x="4182" y="14401"/>
                  <a:pt x="4212" y="14368"/>
                </a:cubicBezTo>
                <a:cubicBezTo>
                  <a:pt x="4270" y="14305"/>
                  <a:pt x="4324" y="14234"/>
                  <a:pt x="4377" y="14166"/>
                </a:cubicBezTo>
                <a:cubicBezTo>
                  <a:pt x="4439" y="14086"/>
                  <a:pt x="4500" y="14004"/>
                  <a:pt x="4567" y="13929"/>
                </a:cubicBezTo>
                <a:cubicBezTo>
                  <a:pt x="4637" y="13850"/>
                  <a:pt x="4720" y="13780"/>
                  <a:pt x="4798" y="13708"/>
                </a:cubicBezTo>
                <a:cubicBezTo>
                  <a:pt x="4878" y="13634"/>
                  <a:pt x="4954" y="13547"/>
                  <a:pt x="5037" y="13477"/>
                </a:cubicBezTo>
                <a:cubicBezTo>
                  <a:pt x="5042" y="13475"/>
                  <a:pt x="5047" y="13473"/>
                  <a:pt x="5052" y="13471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"/>
          <p:cNvSpPr/>
          <p:nvPr/>
        </p:nvSpPr>
        <p:spPr>
          <a:xfrm>
            <a:off x="1895400" y="4830840"/>
            <a:ext cx="631800" cy="50760"/>
          </a:xfrm>
          <a:custGeom>
            <a:avLst/>
            <a:gdLst/>
            <a:ahLst/>
            <a:rect l="l" t="t" r="r" b="b"/>
            <a:pathLst>
              <a:path w="1756" h="142">
                <a:moveTo>
                  <a:pt x="5264" y="13419"/>
                </a:moveTo>
                <a:cubicBezTo>
                  <a:pt x="5289" y="13424"/>
                  <a:pt x="5311" y="13429"/>
                  <a:pt x="5336" y="13431"/>
                </a:cubicBezTo>
                <a:cubicBezTo>
                  <a:pt x="5374" y="13434"/>
                  <a:pt x="5411" y="13434"/>
                  <a:pt x="5449" y="13436"/>
                </a:cubicBezTo>
                <a:cubicBezTo>
                  <a:pt x="5639" y="13444"/>
                  <a:pt x="5827" y="13471"/>
                  <a:pt x="6016" y="13488"/>
                </a:cubicBezTo>
                <a:cubicBezTo>
                  <a:pt x="6124" y="13498"/>
                  <a:pt x="6231" y="13506"/>
                  <a:pt x="6339" y="13510"/>
                </a:cubicBezTo>
                <a:cubicBezTo>
                  <a:pt x="6404" y="13513"/>
                  <a:pt x="6469" y="13515"/>
                  <a:pt x="6534" y="13524"/>
                </a:cubicBezTo>
                <a:cubicBezTo>
                  <a:pt x="6642" y="13538"/>
                  <a:pt x="6743" y="13542"/>
                  <a:pt x="6851" y="13538"/>
                </a:cubicBezTo>
                <a:cubicBezTo>
                  <a:pt x="6888" y="13537"/>
                  <a:pt x="6927" y="13535"/>
                  <a:pt x="6963" y="13545"/>
                </a:cubicBezTo>
                <a:cubicBezTo>
                  <a:pt x="6977" y="13549"/>
                  <a:pt x="6992" y="13556"/>
                  <a:pt x="7006" y="13560"/>
                </a:cubicBezTo>
                <a:cubicBezTo>
                  <a:pt x="7010" y="13529"/>
                  <a:pt x="7011" y="13522"/>
                  <a:pt x="7003" y="13488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"/>
          <p:cNvSpPr/>
          <p:nvPr/>
        </p:nvSpPr>
        <p:spPr>
          <a:xfrm>
            <a:off x="2451240" y="4851360"/>
            <a:ext cx="87120" cy="138240"/>
          </a:xfrm>
          <a:custGeom>
            <a:avLst/>
            <a:gdLst/>
            <a:ahLst/>
            <a:rect l="l" t="t" r="r" b="b"/>
            <a:pathLst>
              <a:path w="242" h="384">
                <a:moveTo>
                  <a:pt x="6955" y="13589"/>
                </a:moveTo>
                <a:cubicBezTo>
                  <a:pt x="6945" y="13565"/>
                  <a:pt x="6932" y="13530"/>
                  <a:pt x="6946" y="13503"/>
                </a:cubicBezTo>
                <a:cubicBezTo>
                  <a:pt x="6959" y="13477"/>
                  <a:pt x="6988" y="13463"/>
                  <a:pt x="7010" y="13486"/>
                </a:cubicBezTo>
                <a:cubicBezTo>
                  <a:pt x="7037" y="13514"/>
                  <a:pt x="7047" y="13576"/>
                  <a:pt x="7049" y="13612"/>
                </a:cubicBezTo>
                <a:cubicBezTo>
                  <a:pt x="7052" y="13660"/>
                  <a:pt x="7050" y="13719"/>
                  <a:pt x="7024" y="13762"/>
                </a:cubicBezTo>
                <a:cubicBezTo>
                  <a:pt x="7006" y="13791"/>
                  <a:pt x="6973" y="13803"/>
                  <a:pt x="6942" y="13788"/>
                </a:cubicBezTo>
                <a:cubicBezTo>
                  <a:pt x="6914" y="13774"/>
                  <a:pt x="6890" y="13742"/>
                  <a:pt x="6885" y="13711"/>
                </a:cubicBezTo>
                <a:cubicBezTo>
                  <a:pt x="6879" y="13678"/>
                  <a:pt x="6887" y="13647"/>
                  <a:pt x="6921" y="13633"/>
                </a:cubicBezTo>
                <a:cubicBezTo>
                  <a:pt x="6943" y="13624"/>
                  <a:pt x="6970" y="13648"/>
                  <a:pt x="6980" y="13664"/>
                </a:cubicBezTo>
                <a:cubicBezTo>
                  <a:pt x="6999" y="13693"/>
                  <a:pt x="6988" y="13723"/>
                  <a:pt x="6972" y="13750"/>
                </a:cubicBezTo>
                <a:cubicBezTo>
                  <a:pt x="6951" y="13786"/>
                  <a:pt x="6921" y="13814"/>
                  <a:pt x="6885" y="13835"/>
                </a:cubicBezTo>
                <a:cubicBezTo>
                  <a:pt x="6879" y="13838"/>
                  <a:pt x="6814" y="13876"/>
                  <a:pt x="6808" y="13858"/>
                </a:cubicBezTo>
                <a:cubicBezTo>
                  <a:pt x="6813" y="13839"/>
                  <a:pt x="6815" y="13833"/>
                  <a:pt x="6822" y="13823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"/>
          <p:cNvSpPr/>
          <p:nvPr/>
        </p:nvSpPr>
        <p:spPr>
          <a:xfrm>
            <a:off x="2201760" y="4950000"/>
            <a:ext cx="352440" cy="357120"/>
          </a:xfrm>
          <a:custGeom>
            <a:avLst/>
            <a:gdLst/>
            <a:ahLst/>
            <a:rect l="l" t="t" r="r" b="b"/>
            <a:pathLst>
              <a:path w="982" h="993">
                <a:moveTo>
                  <a:pt x="6164" y="14720"/>
                </a:moveTo>
                <a:cubicBezTo>
                  <a:pt x="6146" y="14727"/>
                  <a:pt x="6133" y="14732"/>
                  <a:pt x="6115" y="14741"/>
                </a:cubicBezTo>
                <a:cubicBezTo>
                  <a:pt x="6135" y="14713"/>
                  <a:pt x="6154" y="14686"/>
                  <a:pt x="6176" y="14659"/>
                </a:cubicBezTo>
                <a:cubicBezTo>
                  <a:pt x="6254" y="14563"/>
                  <a:pt x="6339" y="14473"/>
                  <a:pt x="6430" y="14389"/>
                </a:cubicBezTo>
                <a:cubicBezTo>
                  <a:pt x="6537" y="14289"/>
                  <a:pt x="6659" y="14206"/>
                  <a:pt x="6764" y="14104"/>
                </a:cubicBezTo>
                <a:cubicBezTo>
                  <a:pt x="6849" y="14021"/>
                  <a:pt x="6930" y="13933"/>
                  <a:pt x="7012" y="13847"/>
                </a:cubicBezTo>
                <a:cubicBezTo>
                  <a:pt x="7035" y="13823"/>
                  <a:pt x="7082" y="13790"/>
                  <a:pt x="7096" y="13762"/>
                </a:cubicBezTo>
                <a:cubicBezTo>
                  <a:pt x="7094" y="13758"/>
                  <a:pt x="7093" y="13753"/>
                  <a:pt x="7091" y="13749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"/>
          <p:cNvSpPr/>
          <p:nvPr/>
        </p:nvSpPr>
        <p:spPr>
          <a:xfrm>
            <a:off x="2203560" y="5310360"/>
            <a:ext cx="282600" cy="312480"/>
          </a:xfrm>
          <a:custGeom>
            <a:avLst/>
            <a:gdLst/>
            <a:ahLst/>
            <a:rect l="l" t="t" r="r" b="b"/>
            <a:pathLst>
              <a:path w="784" h="868">
                <a:moveTo>
                  <a:pt x="6134" y="14750"/>
                </a:moveTo>
                <a:cubicBezTo>
                  <a:pt x="6131" y="14799"/>
                  <a:pt x="6118" y="14789"/>
                  <a:pt x="6147" y="14837"/>
                </a:cubicBezTo>
                <a:cubicBezTo>
                  <a:pt x="6163" y="14863"/>
                  <a:pt x="6182" y="14888"/>
                  <a:pt x="6201" y="14913"/>
                </a:cubicBezTo>
                <a:cubicBezTo>
                  <a:pt x="6256" y="14986"/>
                  <a:pt x="6304" y="15063"/>
                  <a:pt x="6363" y="15133"/>
                </a:cubicBezTo>
                <a:cubicBezTo>
                  <a:pt x="6459" y="15248"/>
                  <a:pt x="6590" y="15311"/>
                  <a:pt x="6697" y="15411"/>
                </a:cubicBezTo>
                <a:cubicBezTo>
                  <a:pt x="6731" y="15443"/>
                  <a:pt x="6756" y="15483"/>
                  <a:pt x="6788" y="15517"/>
                </a:cubicBezTo>
                <a:cubicBezTo>
                  <a:pt x="6820" y="15552"/>
                  <a:pt x="6857" y="15584"/>
                  <a:pt x="6891" y="15617"/>
                </a:cubicBezTo>
                <a:cubicBezTo>
                  <a:pt x="6899" y="15588"/>
                  <a:pt x="6905" y="15582"/>
                  <a:pt x="6899" y="15549"/>
                </a:cubicBezTo>
                <a:cubicBezTo>
                  <a:pt x="6896" y="15541"/>
                  <a:pt x="6894" y="15534"/>
                  <a:pt x="6891" y="15526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"/>
          <p:cNvSpPr/>
          <p:nvPr/>
        </p:nvSpPr>
        <p:spPr>
          <a:xfrm>
            <a:off x="2451240" y="5602320"/>
            <a:ext cx="72720" cy="108000"/>
          </a:xfrm>
          <a:custGeom>
            <a:avLst/>
            <a:gdLst/>
            <a:ahLst/>
            <a:rect l="l" t="t" r="r" b="b"/>
            <a:pathLst>
              <a:path w="201" h="300">
                <a:moveTo>
                  <a:pt x="6864" y="15685"/>
                </a:moveTo>
                <a:cubicBezTo>
                  <a:pt x="6856" y="15662"/>
                  <a:pt x="6852" y="15639"/>
                  <a:pt x="6852" y="15614"/>
                </a:cubicBezTo>
                <a:cubicBezTo>
                  <a:pt x="6852" y="15592"/>
                  <a:pt x="6859" y="15581"/>
                  <a:pt x="6869" y="15562"/>
                </a:cubicBezTo>
                <a:cubicBezTo>
                  <a:pt x="6906" y="15565"/>
                  <a:pt x="6918" y="15571"/>
                  <a:pt x="6943" y="15599"/>
                </a:cubicBezTo>
                <a:cubicBezTo>
                  <a:pt x="6962" y="15621"/>
                  <a:pt x="6984" y="15654"/>
                  <a:pt x="6980" y="15685"/>
                </a:cubicBezTo>
                <a:cubicBezTo>
                  <a:pt x="6977" y="15711"/>
                  <a:pt x="6950" y="15736"/>
                  <a:pt x="6925" y="15741"/>
                </a:cubicBezTo>
                <a:cubicBezTo>
                  <a:pt x="6893" y="15747"/>
                  <a:pt x="6857" y="15736"/>
                  <a:pt x="6834" y="15713"/>
                </a:cubicBezTo>
                <a:cubicBezTo>
                  <a:pt x="6815" y="15694"/>
                  <a:pt x="6802" y="15659"/>
                  <a:pt x="6812" y="15632"/>
                </a:cubicBezTo>
                <a:cubicBezTo>
                  <a:pt x="6822" y="15604"/>
                  <a:pt x="6851" y="15590"/>
                  <a:pt x="6879" y="15593"/>
                </a:cubicBezTo>
                <a:cubicBezTo>
                  <a:pt x="6919" y="15598"/>
                  <a:pt x="6957" y="15623"/>
                  <a:pt x="6980" y="15655"/>
                </a:cubicBezTo>
                <a:cubicBezTo>
                  <a:pt x="7005" y="15689"/>
                  <a:pt x="7021" y="15738"/>
                  <a:pt x="7005" y="15779"/>
                </a:cubicBezTo>
                <a:cubicBezTo>
                  <a:pt x="6993" y="15811"/>
                  <a:pt x="6959" y="15851"/>
                  <a:pt x="6925" y="15860"/>
                </a:cubicBezTo>
                <a:cubicBezTo>
                  <a:pt x="6892" y="15869"/>
                  <a:pt x="6862" y="15852"/>
                  <a:pt x="6847" y="15823"/>
                </a:cubicBezTo>
                <a:cubicBezTo>
                  <a:pt x="6832" y="15793"/>
                  <a:pt x="6828" y="15755"/>
                  <a:pt x="6832" y="15722"/>
                </a:cubicBezTo>
                <a:cubicBezTo>
                  <a:pt x="6837" y="15685"/>
                  <a:pt x="6853" y="15672"/>
                  <a:pt x="6876" y="15653"/>
                </a:cubicBezTo>
                <a:cubicBezTo>
                  <a:pt x="6890" y="15637"/>
                  <a:pt x="6896" y="15630"/>
                  <a:pt x="6908" y="15621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"/>
          <p:cNvSpPr/>
          <p:nvPr/>
        </p:nvSpPr>
        <p:spPr>
          <a:xfrm>
            <a:off x="1893960" y="5686560"/>
            <a:ext cx="595080" cy="44280"/>
          </a:xfrm>
          <a:custGeom>
            <a:avLst/>
            <a:gdLst/>
            <a:ahLst/>
            <a:rect l="l" t="t" r="r" b="b"/>
            <a:pathLst>
              <a:path w="1654" h="127">
                <a:moveTo>
                  <a:pt x="5259" y="15794"/>
                </a:moveTo>
                <a:cubicBezTo>
                  <a:pt x="5286" y="15807"/>
                  <a:pt x="5305" y="15821"/>
                  <a:pt x="5337" y="15826"/>
                </a:cubicBezTo>
                <a:cubicBezTo>
                  <a:pt x="5433" y="15841"/>
                  <a:pt x="5530" y="15835"/>
                  <a:pt x="5626" y="15832"/>
                </a:cubicBezTo>
                <a:cubicBezTo>
                  <a:pt x="5770" y="15828"/>
                  <a:pt x="5914" y="15831"/>
                  <a:pt x="6057" y="15826"/>
                </a:cubicBezTo>
                <a:cubicBezTo>
                  <a:pt x="6107" y="15824"/>
                  <a:pt x="6158" y="15820"/>
                  <a:pt x="6208" y="15816"/>
                </a:cubicBezTo>
                <a:cubicBezTo>
                  <a:pt x="6292" y="15809"/>
                  <a:pt x="6359" y="15811"/>
                  <a:pt x="6437" y="15846"/>
                </a:cubicBezTo>
                <a:cubicBezTo>
                  <a:pt x="6476" y="15864"/>
                  <a:pt x="6512" y="15890"/>
                  <a:pt x="6552" y="15905"/>
                </a:cubicBezTo>
                <a:cubicBezTo>
                  <a:pt x="6588" y="15918"/>
                  <a:pt x="6634" y="15926"/>
                  <a:pt x="6672" y="15919"/>
                </a:cubicBezTo>
                <a:cubicBezTo>
                  <a:pt x="6706" y="15913"/>
                  <a:pt x="6738" y="15898"/>
                  <a:pt x="6774" y="15898"/>
                </a:cubicBezTo>
                <a:cubicBezTo>
                  <a:pt x="6801" y="15898"/>
                  <a:pt x="6832" y="15914"/>
                  <a:pt x="6858" y="15911"/>
                </a:cubicBezTo>
                <a:cubicBezTo>
                  <a:pt x="6891" y="15907"/>
                  <a:pt x="6889" y="15895"/>
                  <a:pt x="6912" y="15873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"/>
          <p:cNvSpPr/>
          <p:nvPr/>
        </p:nvSpPr>
        <p:spPr>
          <a:xfrm>
            <a:off x="2517840" y="4984920"/>
            <a:ext cx="39600" cy="688680"/>
          </a:xfrm>
          <a:custGeom>
            <a:avLst/>
            <a:gdLst/>
            <a:ahLst/>
            <a:rect l="l" t="t" r="r" b="b"/>
            <a:pathLst>
              <a:path w="112" h="1914">
                <a:moveTo>
                  <a:pt x="6997" y="15760"/>
                </a:moveTo>
                <a:cubicBezTo>
                  <a:pt x="6998" y="15734"/>
                  <a:pt x="7000" y="15710"/>
                  <a:pt x="7002" y="15684"/>
                </a:cubicBezTo>
                <a:cubicBezTo>
                  <a:pt x="7006" y="15639"/>
                  <a:pt x="7007" y="15593"/>
                  <a:pt x="7007" y="15547"/>
                </a:cubicBezTo>
                <a:cubicBezTo>
                  <a:pt x="7007" y="15391"/>
                  <a:pt x="7013" y="15238"/>
                  <a:pt x="7022" y="15083"/>
                </a:cubicBezTo>
                <a:cubicBezTo>
                  <a:pt x="7031" y="14936"/>
                  <a:pt x="7031" y="14789"/>
                  <a:pt x="7042" y="14643"/>
                </a:cubicBezTo>
                <a:cubicBezTo>
                  <a:pt x="7052" y="14519"/>
                  <a:pt x="7076" y="14396"/>
                  <a:pt x="7077" y="14272"/>
                </a:cubicBezTo>
                <a:cubicBezTo>
                  <a:pt x="7078" y="14188"/>
                  <a:pt x="7076" y="14106"/>
                  <a:pt x="7088" y="14022"/>
                </a:cubicBezTo>
                <a:cubicBezTo>
                  <a:pt x="7095" y="13970"/>
                  <a:pt x="7087" y="13937"/>
                  <a:pt x="7086" y="13888"/>
                </a:cubicBezTo>
                <a:cubicBezTo>
                  <a:pt x="7085" y="13855"/>
                  <a:pt x="7091" y="13869"/>
                  <a:pt x="7104" y="13847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"/>
          <p:cNvSpPr/>
          <p:nvPr/>
        </p:nvSpPr>
        <p:spPr>
          <a:xfrm>
            <a:off x="2174760" y="4527720"/>
            <a:ext cx="57240" cy="68040"/>
          </a:xfrm>
          <a:custGeom>
            <a:avLst/>
            <a:gdLst/>
            <a:ahLst/>
            <a:rect l="l" t="t" r="r" b="b"/>
            <a:pathLst>
              <a:path w="162" h="190">
                <a:moveTo>
                  <a:pt x="6134" y="12588"/>
                </a:moveTo>
                <a:cubicBezTo>
                  <a:pt x="6168" y="12573"/>
                  <a:pt x="6174" y="12594"/>
                  <a:pt x="6189" y="12629"/>
                </a:cubicBezTo>
                <a:cubicBezTo>
                  <a:pt x="6200" y="12654"/>
                  <a:pt x="6207" y="12684"/>
                  <a:pt x="6199" y="12711"/>
                </a:cubicBezTo>
                <a:cubicBezTo>
                  <a:pt x="6193" y="12731"/>
                  <a:pt x="6174" y="12749"/>
                  <a:pt x="6154" y="12753"/>
                </a:cubicBezTo>
                <a:cubicBezTo>
                  <a:pt x="6124" y="12758"/>
                  <a:pt x="6100" y="12741"/>
                  <a:pt x="6081" y="12720"/>
                </a:cubicBezTo>
                <a:cubicBezTo>
                  <a:pt x="6059" y="12695"/>
                  <a:pt x="6053" y="12669"/>
                  <a:pt x="6057" y="12636"/>
                </a:cubicBezTo>
                <a:cubicBezTo>
                  <a:pt x="6060" y="12607"/>
                  <a:pt x="6080" y="12581"/>
                  <a:pt x="6110" y="12576"/>
                </a:cubicBezTo>
                <a:cubicBezTo>
                  <a:pt x="6135" y="12572"/>
                  <a:pt x="6151" y="12596"/>
                  <a:pt x="6161" y="12615"/>
                </a:cubicBezTo>
                <a:cubicBezTo>
                  <a:pt x="6175" y="12643"/>
                  <a:pt x="6181" y="12668"/>
                  <a:pt x="6178" y="12698"/>
                </a:cubicBezTo>
                <a:cubicBezTo>
                  <a:pt x="6175" y="12726"/>
                  <a:pt x="6164" y="12749"/>
                  <a:pt x="6137" y="12761"/>
                </a:cubicBezTo>
                <a:cubicBezTo>
                  <a:pt x="6116" y="12770"/>
                  <a:pt x="6086" y="12765"/>
                  <a:pt x="6068" y="12750"/>
                </a:cubicBezTo>
                <a:cubicBezTo>
                  <a:pt x="6052" y="12737"/>
                  <a:pt x="6038" y="12715"/>
                  <a:pt x="6040" y="12694"/>
                </a:cubicBezTo>
                <a:cubicBezTo>
                  <a:pt x="6042" y="12671"/>
                  <a:pt x="6067" y="12637"/>
                  <a:pt x="6088" y="12627"/>
                </a:cubicBezTo>
                <a:cubicBezTo>
                  <a:pt x="6116" y="12614"/>
                  <a:pt x="6125" y="12612"/>
                  <a:pt x="6149" y="12589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"/>
          <p:cNvSpPr/>
          <p:nvPr/>
        </p:nvSpPr>
        <p:spPr>
          <a:xfrm>
            <a:off x="1871640" y="4589640"/>
            <a:ext cx="304920" cy="245880"/>
          </a:xfrm>
          <a:custGeom>
            <a:avLst/>
            <a:gdLst/>
            <a:ahLst/>
            <a:rect l="l" t="t" r="r" b="b"/>
            <a:pathLst>
              <a:path w="846" h="683">
                <a:moveTo>
                  <a:pt x="6031" y="12749"/>
                </a:moveTo>
                <a:cubicBezTo>
                  <a:pt x="6020" y="12770"/>
                  <a:pt x="6018" y="12769"/>
                  <a:pt x="6001" y="12785"/>
                </a:cubicBezTo>
                <a:cubicBezTo>
                  <a:pt x="5979" y="12804"/>
                  <a:pt x="5954" y="12825"/>
                  <a:pt x="5930" y="12844"/>
                </a:cubicBezTo>
                <a:cubicBezTo>
                  <a:pt x="5887" y="12879"/>
                  <a:pt x="5847" y="12917"/>
                  <a:pt x="5802" y="12950"/>
                </a:cubicBezTo>
                <a:cubicBezTo>
                  <a:pt x="5694" y="13030"/>
                  <a:pt x="5581" y="13096"/>
                  <a:pt x="5465" y="13163"/>
                </a:cubicBezTo>
                <a:cubicBezTo>
                  <a:pt x="5438" y="13179"/>
                  <a:pt x="5414" y="13196"/>
                  <a:pt x="5390" y="13216"/>
                </a:cubicBezTo>
                <a:cubicBezTo>
                  <a:pt x="5369" y="13234"/>
                  <a:pt x="5350" y="13255"/>
                  <a:pt x="5331" y="13275"/>
                </a:cubicBezTo>
                <a:cubicBezTo>
                  <a:pt x="5283" y="13326"/>
                  <a:pt x="5235" y="13371"/>
                  <a:pt x="5199" y="13431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"/>
          <p:cNvSpPr/>
          <p:nvPr/>
        </p:nvSpPr>
        <p:spPr>
          <a:xfrm>
            <a:off x="2239920" y="4583160"/>
            <a:ext cx="276120" cy="311040"/>
          </a:xfrm>
          <a:custGeom>
            <a:avLst/>
            <a:gdLst/>
            <a:ahLst/>
            <a:rect l="l" t="t" r="r" b="b"/>
            <a:pathLst>
              <a:path w="768" h="864">
                <a:moveTo>
                  <a:pt x="6236" y="12730"/>
                </a:moveTo>
                <a:cubicBezTo>
                  <a:pt x="6256" y="12757"/>
                  <a:pt x="6266" y="12762"/>
                  <a:pt x="6290" y="12786"/>
                </a:cubicBezTo>
                <a:cubicBezTo>
                  <a:pt x="6373" y="12869"/>
                  <a:pt x="6439" y="12971"/>
                  <a:pt x="6511" y="13064"/>
                </a:cubicBezTo>
                <a:cubicBezTo>
                  <a:pt x="6571" y="13141"/>
                  <a:pt x="6637" y="13213"/>
                  <a:pt x="6697" y="13290"/>
                </a:cubicBezTo>
                <a:cubicBezTo>
                  <a:pt x="6716" y="13313"/>
                  <a:pt x="6734" y="13338"/>
                  <a:pt x="6754" y="13360"/>
                </a:cubicBezTo>
                <a:cubicBezTo>
                  <a:pt x="6776" y="13384"/>
                  <a:pt x="6799" y="13405"/>
                  <a:pt x="6822" y="13427"/>
                </a:cubicBezTo>
                <a:cubicBezTo>
                  <a:pt x="6863" y="13466"/>
                  <a:pt x="6892" y="13516"/>
                  <a:pt x="6932" y="13554"/>
                </a:cubicBezTo>
                <a:cubicBezTo>
                  <a:pt x="6950" y="13571"/>
                  <a:pt x="6969" y="13579"/>
                  <a:pt x="6989" y="13592"/>
                </a:cubicBezTo>
                <a:cubicBezTo>
                  <a:pt x="6979" y="13572"/>
                  <a:pt x="6970" y="13553"/>
                  <a:pt x="6955" y="13532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"/>
          <p:cNvSpPr/>
          <p:nvPr/>
        </p:nvSpPr>
        <p:spPr>
          <a:xfrm>
            <a:off x="1847880" y="5746680"/>
            <a:ext cx="255600" cy="312840"/>
          </a:xfrm>
          <a:custGeom>
            <a:avLst/>
            <a:gdLst/>
            <a:ahLst/>
            <a:rect l="l" t="t" r="r" b="b"/>
            <a:pathLst>
              <a:path w="710" h="868">
                <a:moveTo>
                  <a:pt x="5135" y="15964"/>
                </a:moveTo>
                <a:cubicBezTo>
                  <a:pt x="5172" y="15993"/>
                  <a:pt x="5199" y="16026"/>
                  <a:pt x="5230" y="16062"/>
                </a:cubicBezTo>
                <a:cubicBezTo>
                  <a:pt x="5269" y="16107"/>
                  <a:pt x="5309" y="16152"/>
                  <a:pt x="5348" y="16197"/>
                </a:cubicBezTo>
                <a:cubicBezTo>
                  <a:pt x="5382" y="16236"/>
                  <a:pt x="5417" y="16273"/>
                  <a:pt x="5452" y="16311"/>
                </a:cubicBezTo>
                <a:cubicBezTo>
                  <a:pt x="5492" y="16355"/>
                  <a:pt x="5525" y="16404"/>
                  <a:pt x="5559" y="16452"/>
                </a:cubicBezTo>
                <a:cubicBezTo>
                  <a:pt x="5583" y="16487"/>
                  <a:pt x="5608" y="16524"/>
                  <a:pt x="5637" y="16555"/>
                </a:cubicBezTo>
                <a:cubicBezTo>
                  <a:pt x="5657" y="16576"/>
                  <a:pt x="5682" y="16595"/>
                  <a:pt x="5704" y="16613"/>
                </a:cubicBezTo>
                <a:cubicBezTo>
                  <a:pt x="5753" y="16653"/>
                  <a:pt x="5765" y="16710"/>
                  <a:pt x="5802" y="16760"/>
                </a:cubicBezTo>
                <a:cubicBezTo>
                  <a:pt x="5815" y="16777"/>
                  <a:pt x="5860" y="16805"/>
                  <a:pt x="5836" y="16828"/>
                </a:cubicBezTo>
                <a:cubicBezTo>
                  <a:pt x="5820" y="16831"/>
                  <a:pt x="5816" y="16832"/>
                  <a:pt x="5807" y="16825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"/>
          <p:cNvSpPr/>
          <p:nvPr/>
        </p:nvSpPr>
        <p:spPr>
          <a:xfrm>
            <a:off x="2068560" y="6019920"/>
            <a:ext cx="54000" cy="82440"/>
          </a:xfrm>
          <a:custGeom>
            <a:avLst/>
            <a:gdLst/>
            <a:ahLst/>
            <a:rect l="l" t="t" r="r" b="b"/>
            <a:pathLst>
              <a:path w="146" h="227">
                <a:moveTo>
                  <a:pt x="5807" y="16825"/>
                </a:moveTo>
                <a:cubicBezTo>
                  <a:pt x="5803" y="16802"/>
                  <a:pt x="5805" y="16779"/>
                  <a:pt x="5815" y="16755"/>
                </a:cubicBezTo>
                <a:cubicBezTo>
                  <a:pt x="5824" y="16739"/>
                  <a:pt x="5829" y="16731"/>
                  <a:pt x="5839" y="16722"/>
                </a:cubicBezTo>
                <a:cubicBezTo>
                  <a:pt x="5874" y="16736"/>
                  <a:pt x="5882" y="16749"/>
                  <a:pt x="5889" y="16789"/>
                </a:cubicBezTo>
                <a:cubicBezTo>
                  <a:pt x="5896" y="16827"/>
                  <a:pt x="5894" y="16871"/>
                  <a:pt x="5876" y="16905"/>
                </a:cubicBezTo>
                <a:cubicBezTo>
                  <a:pt x="5862" y="16932"/>
                  <a:pt x="5834" y="16954"/>
                  <a:pt x="5802" y="16945"/>
                </a:cubicBezTo>
                <a:cubicBezTo>
                  <a:pt x="5777" y="16938"/>
                  <a:pt x="5756" y="16908"/>
                  <a:pt x="5750" y="16884"/>
                </a:cubicBezTo>
                <a:cubicBezTo>
                  <a:pt x="5743" y="16856"/>
                  <a:pt x="5757" y="16829"/>
                  <a:pt x="5778" y="16811"/>
                </a:cubicBezTo>
                <a:cubicBezTo>
                  <a:pt x="5797" y="16795"/>
                  <a:pt x="5828" y="16790"/>
                  <a:pt x="5851" y="16799"/>
                </a:cubicBezTo>
                <a:cubicBezTo>
                  <a:pt x="5864" y="16804"/>
                  <a:pt x="5893" y="16845"/>
                  <a:pt x="5882" y="16858"/>
                </a:cubicBezTo>
                <a:cubicBezTo>
                  <a:pt x="5877" y="16860"/>
                  <a:pt x="5871" y="16861"/>
                  <a:pt x="5866" y="16863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"/>
          <p:cNvSpPr/>
          <p:nvPr/>
        </p:nvSpPr>
        <p:spPr>
          <a:xfrm>
            <a:off x="2155680" y="5691240"/>
            <a:ext cx="343080" cy="387360"/>
          </a:xfrm>
          <a:custGeom>
            <a:avLst/>
            <a:gdLst/>
            <a:ahLst/>
            <a:rect l="l" t="t" r="r" b="b"/>
            <a:pathLst>
              <a:path w="954" h="1078">
                <a:moveTo>
                  <a:pt x="5989" y="16884"/>
                </a:moveTo>
                <a:cubicBezTo>
                  <a:pt x="6012" y="16859"/>
                  <a:pt x="6034" y="16835"/>
                  <a:pt x="6057" y="16810"/>
                </a:cubicBezTo>
                <a:cubicBezTo>
                  <a:pt x="6091" y="16772"/>
                  <a:pt x="6123" y="16732"/>
                  <a:pt x="6158" y="16696"/>
                </a:cubicBezTo>
                <a:cubicBezTo>
                  <a:pt x="6196" y="16656"/>
                  <a:pt x="6239" y="16624"/>
                  <a:pt x="6280" y="16587"/>
                </a:cubicBezTo>
                <a:cubicBezTo>
                  <a:pt x="6326" y="16545"/>
                  <a:pt x="6371" y="16500"/>
                  <a:pt x="6414" y="16455"/>
                </a:cubicBezTo>
                <a:cubicBezTo>
                  <a:pt x="6496" y="16370"/>
                  <a:pt x="6565" y="16274"/>
                  <a:pt x="6640" y="16183"/>
                </a:cubicBezTo>
                <a:cubicBezTo>
                  <a:pt x="6662" y="16157"/>
                  <a:pt x="6683" y="16131"/>
                  <a:pt x="6704" y="16104"/>
                </a:cubicBezTo>
                <a:cubicBezTo>
                  <a:pt x="6726" y="16075"/>
                  <a:pt x="6749" y="16045"/>
                  <a:pt x="6771" y="16016"/>
                </a:cubicBezTo>
                <a:cubicBezTo>
                  <a:pt x="6800" y="15978"/>
                  <a:pt x="6907" y="15897"/>
                  <a:pt x="6911" y="15890"/>
                </a:cubicBezTo>
                <a:cubicBezTo>
                  <a:pt x="6909" y="15872"/>
                  <a:pt x="6908" y="15866"/>
                  <a:pt x="6915" y="15855"/>
                </a:cubicBezTo>
                <a:cubicBezTo>
                  <a:pt x="6929" y="15873"/>
                  <a:pt x="6945" y="15872"/>
                  <a:pt x="6942" y="15907"/>
                </a:cubicBezTo>
                <a:cubicBezTo>
                  <a:pt x="6940" y="15926"/>
                  <a:pt x="6925" y="15955"/>
                  <a:pt x="6905" y="15961"/>
                </a:cubicBezTo>
                <a:cubicBezTo>
                  <a:pt x="6878" y="15970"/>
                  <a:pt x="6855" y="15970"/>
                  <a:pt x="6839" y="15939"/>
                </a:cubicBezTo>
                <a:cubicBezTo>
                  <a:pt x="6826" y="15914"/>
                  <a:pt x="6835" y="15889"/>
                  <a:pt x="6845" y="15866"/>
                </a:cubicBezTo>
                <a:cubicBezTo>
                  <a:pt x="6853" y="15849"/>
                  <a:pt x="6929" y="15781"/>
                  <a:pt x="6916" y="15823"/>
                </a:cubicBezTo>
                <a:cubicBezTo>
                  <a:pt x="6909" y="15826"/>
                  <a:pt x="6901" y="15828"/>
                  <a:pt x="6894" y="15831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"/>
          <p:cNvSpPr/>
          <p:nvPr/>
        </p:nvSpPr>
        <p:spPr>
          <a:xfrm>
            <a:off x="2570040" y="4873680"/>
            <a:ext cx="586080" cy="111240"/>
          </a:xfrm>
          <a:custGeom>
            <a:avLst/>
            <a:gdLst/>
            <a:ahLst/>
            <a:rect l="l" t="t" r="r" b="b"/>
            <a:pathLst>
              <a:path w="1626" h="310">
                <a:moveTo>
                  <a:pt x="7147" y="13538"/>
                </a:moveTo>
                <a:cubicBezTo>
                  <a:pt x="7162" y="13566"/>
                  <a:pt x="7141" y="13567"/>
                  <a:pt x="7185" y="13574"/>
                </a:cubicBezTo>
                <a:cubicBezTo>
                  <a:pt x="7209" y="13578"/>
                  <a:pt x="7237" y="13574"/>
                  <a:pt x="7261" y="13574"/>
                </a:cubicBezTo>
                <a:cubicBezTo>
                  <a:pt x="7356" y="13572"/>
                  <a:pt x="7447" y="13581"/>
                  <a:pt x="7541" y="13583"/>
                </a:cubicBezTo>
                <a:cubicBezTo>
                  <a:pt x="7590" y="13584"/>
                  <a:pt x="7632" y="13589"/>
                  <a:pt x="7680" y="13597"/>
                </a:cubicBezTo>
                <a:cubicBezTo>
                  <a:pt x="7709" y="13602"/>
                  <a:pt x="7736" y="13598"/>
                  <a:pt x="7764" y="13601"/>
                </a:cubicBezTo>
                <a:cubicBezTo>
                  <a:pt x="7848" y="13610"/>
                  <a:pt x="7933" y="13622"/>
                  <a:pt x="8016" y="13633"/>
                </a:cubicBezTo>
                <a:cubicBezTo>
                  <a:pt x="8040" y="13636"/>
                  <a:pt x="8065" y="13639"/>
                  <a:pt x="8089" y="13642"/>
                </a:cubicBezTo>
                <a:cubicBezTo>
                  <a:pt x="8198" y="13655"/>
                  <a:pt x="8307" y="13656"/>
                  <a:pt x="8416" y="13645"/>
                </a:cubicBezTo>
                <a:cubicBezTo>
                  <a:pt x="8489" y="13637"/>
                  <a:pt x="8564" y="13642"/>
                  <a:pt x="8635" y="13659"/>
                </a:cubicBezTo>
                <a:cubicBezTo>
                  <a:pt x="8667" y="13667"/>
                  <a:pt x="8691" y="13671"/>
                  <a:pt x="8723" y="13673"/>
                </a:cubicBezTo>
                <a:cubicBezTo>
                  <a:pt x="8725" y="13647"/>
                  <a:pt x="8726" y="13623"/>
                  <a:pt x="8732" y="13597"/>
                </a:cubicBezTo>
                <a:cubicBezTo>
                  <a:pt x="8734" y="13592"/>
                  <a:pt x="8735" y="13588"/>
                  <a:pt x="8737" y="13583"/>
                </a:cubicBezTo>
                <a:cubicBezTo>
                  <a:pt x="8751" y="13605"/>
                  <a:pt x="8767" y="13609"/>
                  <a:pt x="8765" y="13649"/>
                </a:cubicBezTo>
                <a:cubicBezTo>
                  <a:pt x="8763" y="13681"/>
                  <a:pt x="8755" y="13713"/>
                  <a:pt x="8735" y="13738"/>
                </a:cubicBezTo>
                <a:cubicBezTo>
                  <a:pt x="8720" y="13757"/>
                  <a:pt x="8698" y="13772"/>
                  <a:pt x="8672" y="13764"/>
                </a:cubicBezTo>
                <a:cubicBezTo>
                  <a:pt x="8627" y="13750"/>
                  <a:pt x="8608" y="13674"/>
                  <a:pt x="8628" y="13635"/>
                </a:cubicBezTo>
                <a:cubicBezTo>
                  <a:pt x="8645" y="13602"/>
                  <a:pt x="8676" y="13583"/>
                  <a:pt x="8706" y="13612"/>
                </a:cubicBezTo>
                <a:cubicBezTo>
                  <a:pt x="8735" y="13641"/>
                  <a:pt x="8746" y="13701"/>
                  <a:pt x="8737" y="13740"/>
                </a:cubicBezTo>
                <a:cubicBezTo>
                  <a:pt x="8728" y="13776"/>
                  <a:pt x="8718" y="13807"/>
                  <a:pt x="8689" y="13832"/>
                </a:cubicBezTo>
                <a:cubicBezTo>
                  <a:pt x="8641" y="13873"/>
                  <a:pt x="8598" y="13834"/>
                  <a:pt x="8604" y="13782"/>
                </a:cubicBezTo>
                <a:cubicBezTo>
                  <a:pt x="8607" y="13758"/>
                  <a:pt x="8629" y="13758"/>
                  <a:pt x="8644" y="13743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"/>
          <p:cNvSpPr/>
          <p:nvPr/>
        </p:nvSpPr>
        <p:spPr>
          <a:xfrm>
            <a:off x="2530440" y="5632560"/>
            <a:ext cx="604800" cy="69840"/>
          </a:xfrm>
          <a:custGeom>
            <a:avLst/>
            <a:gdLst/>
            <a:ahLst/>
            <a:rect l="l" t="t" r="r" b="b"/>
            <a:pathLst>
              <a:path w="1677" h="194">
                <a:moveTo>
                  <a:pt x="7030" y="15817"/>
                </a:moveTo>
                <a:cubicBezTo>
                  <a:pt x="7053" y="15809"/>
                  <a:pt x="7072" y="15797"/>
                  <a:pt x="7096" y="15793"/>
                </a:cubicBezTo>
                <a:cubicBezTo>
                  <a:pt x="7129" y="15787"/>
                  <a:pt x="7168" y="15789"/>
                  <a:pt x="7201" y="15788"/>
                </a:cubicBezTo>
                <a:cubicBezTo>
                  <a:pt x="7257" y="15787"/>
                  <a:pt x="7311" y="15779"/>
                  <a:pt x="7366" y="15773"/>
                </a:cubicBezTo>
                <a:cubicBezTo>
                  <a:pt x="7424" y="15766"/>
                  <a:pt x="7483" y="15756"/>
                  <a:pt x="7541" y="15750"/>
                </a:cubicBezTo>
                <a:cubicBezTo>
                  <a:pt x="7639" y="15739"/>
                  <a:pt x="7740" y="15748"/>
                  <a:pt x="7838" y="15752"/>
                </a:cubicBezTo>
                <a:cubicBezTo>
                  <a:pt x="7895" y="15754"/>
                  <a:pt x="7952" y="15752"/>
                  <a:pt x="8009" y="15747"/>
                </a:cubicBezTo>
                <a:cubicBezTo>
                  <a:pt x="8058" y="15743"/>
                  <a:pt x="8107" y="15738"/>
                  <a:pt x="8156" y="15732"/>
                </a:cubicBezTo>
                <a:cubicBezTo>
                  <a:pt x="8204" y="15726"/>
                  <a:pt x="8251" y="15719"/>
                  <a:pt x="8299" y="15719"/>
                </a:cubicBezTo>
                <a:cubicBezTo>
                  <a:pt x="8363" y="15719"/>
                  <a:pt x="8423" y="15730"/>
                  <a:pt x="8483" y="15752"/>
                </a:cubicBezTo>
                <a:cubicBezTo>
                  <a:pt x="8544" y="15774"/>
                  <a:pt x="8605" y="15794"/>
                  <a:pt x="8669" y="15805"/>
                </a:cubicBezTo>
                <a:cubicBezTo>
                  <a:pt x="8656" y="15784"/>
                  <a:pt x="8643" y="15769"/>
                  <a:pt x="8636" y="15744"/>
                </a:cubicBezTo>
                <a:cubicBezTo>
                  <a:pt x="8629" y="15719"/>
                  <a:pt x="8630" y="15689"/>
                  <a:pt x="8641" y="15665"/>
                </a:cubicBezTo>
                <a:cubicBezTo>
                  <a:pt x="8646" y="15659"/>
                  <a:pt x="8650" y="15653"/>
                  <a:pt x="8655" y="15647"/>
                </a:cubicBezTo>
                <a:cubicBezTo>
                  <a:pt x="8681" y="15665"/>
                  <a:pt x="8692" y="15658"/>
                  <a:pt x="8702" y="15697"/>
                </a:cubicBezTo>
                <a:cubicBezTo>
                  <a:pt x="8713" y="15741"/>
                  <a:pt x="8708" y="15820"/>
                  <a:pt x="8658" y="15839"/>
                </a:cubicBezTo>
                <a:cubicBezTo>
                  <a:pt x="8619" y="15854"/>
                  <a:pt x="8596" y="15795"/>
                  <a:pt x="8590" y="15769"/>
                </a:cubicBezTo>
                <a:cubicBezTo>
                  <a:pt x="8583" y="15735"/>
                  <a:pt x="8586" y="15695"/>
                  <a:pt x="8624" y="15684"/>
                </a:cubicBezTo>
                <a:cubicBezTo>
                  <a:pt x="8653" y="15676"/>
                  <a:pt x="8672" y="15724"/>
                  <a:pt x="8678" y="15743"/>
                </a:cubicBezTo>
                <a:cubicBezTo>
                  <a:pt x="8685" y="15764"/>
                  <a:pt x="8679" y="15806"/>
                  <a:pt x="8659" y="15820"/>
                </a:cubicBezTo>
                <a:cubicBezTo>
                  <a:pt x="8627" y="15842"/>
                  <a:pt x="8637" y="15804"/>
                  <a:pt x="8621" y="15791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"/>
          <p:cNvSpPr/>
          <p:nvPr/>
        </p:nvSpPr>
        <p:spPr>
          <a:xfrm>
            <a:off x="2570040" y="4925880"/>
            <a:ext cx="568440" cy="700200"/>
          </a:xfrm>
          <a:custGeom>
            <a:avLst/>
            <a:gdLst/>
            <a:ahLst/>
            <a:rect l="l" t="t" r="r" b="b"/>
            <a:pathLst>
              <a:path w="1576" h="1943">
                <a:moveTo>
                  <a:pt x="7154" y="13696"/>
                </a:moveTo>
                <a:cubicBezTo>
                  <a:pt x="7150" y="13692"/>
                  <a:pt x="7145" y="13687"/>
                  <a:pt x="7141" y="13683"/>
                </a:cubicBezTo>
                <a:cubicBezTo>
                  <a:pt x="7154" y="13718"/>
                  <a:pt x="7164" y="13750"/>
                  <a:pt x="7182" y="13784"/>
                </a:cubicBezTo>
                <a:cubicBezTo>
                  <a:pt x="7234" y="13884"/>
                  <a:pt x="7303" y="13974"/>
                  <a:pt x="7362" y="14070"/>
                </a:cubicBezTo>
                <a:cubicBezTo>
                  <a:pt x="7433" y="14185"/>
                  <a:pt x="7503" y="14296"/>
                  <a:pt x="7594" y="14397"/>
                </a:cubicBezTo>
                <a:cubicBezTo>
                  <a:pt x="7662" y="14472"/>
                  <a:pt x="7725" y="14544"/>
                  <a:pt x="7786" y="14624"/>
                </a:cubicBezTo>
                <a:cubicBezTo>
                  <a:pt x="7827" y="14677"/>
                  <a:pt x="7868" y="14727"/>
                  <a:pt x="7914" y="14776"/>
                </a:cubicBezTo>
                <a:cubicBezTo>
                  <a:pt x="7986" y="14853"/>
                  <a:pt x="8055" y="14932"/>
                  <a:pt x="8126" y="15010"/>
                </a:cubicBezTo>
                <a:cubicBezTo>
                  <a:pt x="8170" y="15059"/>
                  <a:pt x="8214" y="15109"/>
                  <a:pt x="8254" y="15162"/>
                </a:cubicBezTo>
                <a:cubicBezTo>
                  <a:pt x="8284" y="15201"/>
                  <a:pt x="8312" y="15236"/>
                  <a:pt x="8349" y="15269"/>
                </a:cubicBezTo>
                <a:cubicBezTo>
                  <a:pt x="8404" y="15318"/>
                  <a:pt x="8454" y="15368"/>
                  <a:pt x="8507" y="15418"/>
                </a:cubicBezTo>
                <a:cubicBezTo>
                  <a:pt x="8557" y="15466"/>
                  <a:pt x="8606" y="15514"/>
                  <a:pt x="8654" y="15565"/>
                </a:cubicBezTo>
                <a:cubicBezTo>
                  <a:pt x="8678" y="15591"/>
                  <a:pt x="8675" y="15589"/>
                  <a:pt x="8699" y="15615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"/>
          <p:cNvSpPr/>
          <p:nvPr/>
        </p:nvSpPr>
        <p:spPr>
          <a:xfrm>
            <a:off x="2552760" y="4924440"/>
            <a:ext cx="617400" cy="733320"/>
          </a:xfrm>
          <a:custGeom>
            <a:avLst/>
            <a:gdLst/>
            <a:ahLst/>
            <a:rect l="l" t="t" r="r" b="b"/>
            <a:pathLst>
              <a:path w="1715" h="2037">
                <a:moveTo>
                  <a:pt x="7090" y="15716"/>
                </a:moveTo>
                <a:cubicBezTo>
                  <a:pt x="7108" y="15691"/>
                  <a:pt x="7129" y="15667"/>
                  <a:pt x="7147" y="15641"/>
                </a:cubicBezTo>
                <a:cubicBezTo>
                  <a:pt x="7222" y="15531"/>
                  <a:pt x="7310" y="15433"/>
                  <a:pt x="7404" y="15338"/>
                </a:cubicBezTo>
                <a:cubicBezTo>
                  <a:pt x="7570" y="15171"/>
                  <a:pt x="7729" y="14997"/>
                  <a:pt x="7878" y="14814"/>
                </a:cubicBezTo>
                <a:cubicBezTo>
                  <a:pt x="8020" y="14640"/>
                  <a:pt x="8137" y="14445"/>
                  <a:pt x="8284" y="14275"/>
                </a:cubicBezTo>
                <a:cubicBezTo>
                  <a:pt x="8382" y="14163"/>
                  <a:pt x="8484" y="14053"/>
                  <a:pt x="8588" y="13947"/>
                </a:cubicBezTo>
                <a:cubicBezTo>
                  <a:pt x="8658" y="13875"/>
                  <a:pt x="8714" y="13802"/>
                  <a:pt x="8767" y="13718"/>
                </a:cubicBezTo>
                <a:cubicBezTo>
                  <a:pt x="8782" y="13695"/>
                  <a:pt x="8764" y="13708"/>
                  <a:pt x="8773" y="13682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"/>
          <p:cNvSpPr/>
          <p:nvPr/>
        </p:nvSpPr>
        <p:spPr>
          <a:xfrm>
            <a:off x="600120" y="1182600"/>
            <a:ext cx="7994520" cy="649440"/>
          </a:xfrm>
          <a:custGeom>
            <a:avLst/>
            <a:gdLst/>
            <a:ahLst/>
            <a:rect l="l" t="t" r="r" b="b"/>
            <a:pathLst>
              <a:path w="22209" h="1802">
                <a:moveTo>
                  <a:pt x="22450" y="3819"/>
                </a:moveTo>
                <a:cubicBezTo>
                  <a:pt x="22467" y="3818"/>
                  <a:pt x="22472" y="3818"/>
                  <a:pt x="22483" y="3818"/>
                </a:cubicBezTo>
                <a:cubicBezTo>
                  <a:pt x="22471" y="3795"/>
                  <a:pt x="22457" y="3774"/>
                  <a:pt x="22442" y="3753"/>
                </a:cubicBezTo>
                <a:cubicBezTo>
                  <a:pt x="22425" y="3729"/>
                  <a:pt x="22405" y="3703"/>
                  <a:pt x="22373" y="3700"/>
                </a:cubicBezTo>
                <a:cubicBezTo>
                  <a:pt x="22336" y="3697"/>
                  <a:pt x="22303" y="3724"/>
                  <a:pt x="22278" y="3749"/>
                </a:cubicBezTo>
                <a:cubicBezTo>
                  <a:pt x="22222" y="3805"/>
                  <a:pt x="22187" y="3881"/>
                  <a:pt x="22173" y="3958"/>
                </a:cubicBezTo>
                <a:cubicBezTo>
                  <a:pt x="22163" y="4016"/>
                  <a:pt x="22168" y="4071"/>
                  <a:pt x="22192" y="4124"/>
                </a:cubicBezTo>
                <a:cubicBezTo>
                  <a:pt x="22208" y="4158"/>
                  <a:pt x="22235" y="4192"/>
                  <a:pt x="22275" y="4197"/>
                </a:cubicBezTo>
                <a:cubicBezTo>
                  <a:pt x="22311" y="4201"/>
                  <a:pt x="22330" y="4173"/>
                  <a:pt x="22347" y="4147"/>
                </a:cubicBezTo>
                <a:cubicBezTo>
                  <a:pt x="22369" y="4113"/>
                  <a:pt x="22379" y="4074"/>
                  <a:pt x="22387" y="4035"/>
                </a:cubicBezTo>
                <a:cubicBezTo>
                  <a:pt x="22392" y="4013"/>
                  <a:pt x="22393" y="3990"/>
                  <a:pt x="22396" y="3967"/>
                </a:cubicBezTo>
                <a:cubicBezTo>
                  <a:pt x="22417" y="3966"/>
                  <a:pt x="22437" y="3970"/>
                  <a:pt x="22459" y="3970"/>
                </a:cubicBezTo>
                <a:cubicBezTo>
                  <a:pt x="22493" y="3971"/>
                  <a:pt x="22524" y="3969"/>
                  <a:pt x="22558" y="3964"/>
                </a:cubicBezTo>
                <a:cubicBezTo>
                  <a:pt x="22581" y="3961"/>
                  <a:pt x="22588" y="3960"/>
                  <a:pt x="22602" y="3957"/>
                </a:cubicBezTo>
              </a:path>
              <a:path w="22209" h="1802">
                <a:moveTo>
                  <a:pt x="22636" y="4005"/>
                </a:moveTo>
                <a:cubicBezTo>
                  <a:pt x="22623" y="4020"/>
                  <a:pt x="22599" y="4047"/>
                  <a:pt x="22595" y="4068"/>
                </a:cubicBezTo>
                <a:cubicBezTo>
                  <a:pt x="22589" y="4100"/>
                  <a:pt x="22591" y="4141"/>
                  <a:pt x="22599" y="4173"/>
                </a:cubicBezTo>
                <a:cubicBezTo>
                  <a:pt x="22604" y="4194"/>
                  <a:pt x="22612" y="4209"/>
                  <a:pt x="22623" y="4226"/>
                </a:cubicBezTo>
                <a:cubicBezTo>
                  <a:pt x="22650" y="4206"/>
                  <a:pt x="22648" y="4181"/>
                  <a:pt x="22657" y="4147"/>
                </a:cubicBezTo>
                <a:cubicBezTo>
                  <a:pt x="22668" y="4106"/>
                  <a:pt x="22676" y="4065"/>
                  <a:pt x="22693" y="4025"/>
                </a:cubicBezTo>
                <a:cubicBezTo>
                  <a:pt x="22705" y="3998"/>
                  <a:pt x="22720" y="3976"/>
                  <a:pt x="22749" y="3972"/>
                </a:cubicBezTo>
                <a:cubicBezTo>
                  <a:pt x="22769" y="3969"/>
                  <a:pt x="22785" y="3975"/>
                  <a:pt x="22804" y="3981"/>
                </a:cubicBezTo>
              </a:path>
              <a:path w="22209" h="1802">
                <a:moveTo>
                  <a:pt x="22872" y="3937"/>
                </a:moveTo>
                <a:cubicBezTo>
                  <a:pt x="22872" y="3912"/>
                  <a:pt x="22870" y="3906"/>
                  <a:pt x="22879" y="3883"/>
                </a:cubicBezTo>
                <a:cubicBezTo>
                  <a:pt x="22873" y="3926"/>
                  <a:pt x="22864" y="3968"/>
                  <a:pt x="22859" y="4011"/>
                </a:cubicBezTo>
                <a:cubicBezTo>
                  <a:pt x="22853" y="4058"/>
                  <a:pt x="22850" y="4100"/>
                  <a:pt x="22857" y="4144"/>
                </a:cubicBezTo>
                <a:cubicBezTo>
                  <a:pt x="22890" y="4130"/>
                  <a:pt x="22900" y="4114"/>
                  <a:pt x="22916" y="4081"/>
                </a:cubicBezTo>
                <a:cubicBezTo>
                  <a:pt x="22928" y="4056"/>
                  <a:pt x="22941" y="4032"/>
                  <a:pt x="22954" y="4008"/>
                </a:cubicBezTo>
                <a:cubicBezTo>
                  <a:pt x="22957" y="4046"/>
                  <a:pt x="22950" y="4093"/>
                  <a:pt x="22961" y="4130"/>
                </a:cubicBezTo>
                <a:cubicBezTo>
                  <a:pt x="22970" y="4160"/>
                  <a:pt x="22992" y="4190"/>
                  <a:pt x="23026" y="4173"/>
                </a:cubicBezTo>
                <a:cubicBezTo>
                  <a:pt x="23044" y="4164"/>
                  <a:pt x="23056" y="4128"/>
                  <a:pt x="23062" y="4111"/>
                </a:cubicBezTo>
                <a:cubicBezTo>
                  <a:pt x="23063" y="4107"/>
                  <a:pt x="23065" y="4102"/>
                  <a:pt x="23066" y="4098"/>
                </a:cubicBezTo>
                <a:cubicBezTo>
                  <a:pt x="23067" y="4086"/>
                  <a:pt x="23067" y="4083"/>
                  <a:pt x="23066" y="4076"/>
                </a:cubicBezTo>
                <a:cubicBezTo>
                  <a:pt x="23061" y="4103"/>
                  <a:pt x="23057" y="4132"/>
                  <a:pt x="23056" y="4161"/>
                </a:cubicBezTo>
                <a:cubicBezTo>
                  <a:pt x="23055" y="4227"/>
                  <a:pt x="23055" y="4295"/>
                  <a:pt x="23056" y="4361"/>
                </a:cubicBezTo>
                <a:cubicBezTo>
                  <a:pt x="23057" y="4403"/>
                  <a:pt x="23059" y="4445"/>
                  <a:pt x="23057" y="4486"/>
                </a:cubicBezTo>
                <a:cubicBezTo>
                  <a:pt x="23042" y="4443"/>
                  <a:pt x="23044" y="4398"/>
                  <a:pt x="23043" y="4352"/>
                </a:cubicBezTo>
                <a:cubicBezTo>
                  <a:pt x="23041" y="4263"/>
                  <a:pt x="23047" y="4175"/>
                  <a:pt x="23061" y="4087"/>
                </a:cubicBezTo>
                <a:cubicBezTo>
                  <a:pt x="23071" y="4024"/>
                  <a:pt x="23084" y="3951"/>
                  <a:pt x="23116" y="3894"/>
                </a:cubicBezTo>
                <a:cubicBezTo>
                  <a:pt x="23130" y="3875"/>
                  <a:pt x="23133" y="3869"/>
                  <a:pt x="23149" y="3869"/>
                </a:cubicBezTo>
                <a:cubicBezTo>
                  <a:pt x="23178" y="3890"/>
                  <a:pt x="23193" y="3917"/>
                  <a:pt x="23199" y="3954"/>
                </a:cubicBezTo>
                <a:cubicBezTo>
                  <a:pt x="23208" y="4013"/>
                  <a:pt x="23196" y="4070"/>
                  <a:pt x="23171" y="4123"/>
                </a:cubicBezTo>
                <a:cubicBezTo>
                  <a:pt x="23151" y="4167"/>
                  <a:pt x="23123" y="4196"/>
                  <a:pt x="23075" y="4203"/>
                </a:cubicBezTo>
                <a:cubicBezTo>
                  <a:pt x="23032" y="4210"/>
                  <a:pt x="23029" y="4171"/>
                  <a:pt x="23032" y="4139"/>
                </a:cubicBezTo>
                <a:cubicBezTo>
                  <a:pt x="23034" y="4127"/>
                  <a:pt x="23036" y="4116"/>
                  <a:pt x="23038" y="4104"/>
                </a:cubicBezTo>
              </a:path>
              <a:path w="22209" h="1802">
                <a:moveTo>
                  <a:pt x="23274" y="3703"/>
                </a:moveTo>
                <a:cubicBezTo>
                  <a:pt x="23291" y="3744"/>
                  <a:pt x="23287" y="3801"/>
                  <a:pt x="23287" y="3848"/>
                </a:cubicBezTo>
                <a:cubicBezTo>
                  <a:pt x="23288" y="3938"/>
                  <a:pt x="23293" y="4028"/>
                  <a:pt x="23293" y="4118"/>
                </a:cubicBezTo>
                <a:cubicBezTo>
                  <a:pt x="23293" y="4168"/>
                  <a:pt x="23292" y="4218"/>
                  <a:pt x="23288" y="4267"/>
                </a:cubicBezTo>
                <a:cubicBezTo>
                  <a:pt x="23304" y="4222"/>
                  <a:pt x="23322" y="4180"/>
                  <a:pt x="23345" y="4138"/>
                </a:cubicBezTo>
                <a:cubicBezTo>
                  <a:pt x="23368" y="4095"/>
                  <a:pt x="23393" y="4042"/>
                  <a:pt x="23433" y="4012"/>
                </a:cubicBezTo>
                <a:cubicBezTo>
                  <a:pt x="23438" y="4010"/>
                  <a:pt x="23443" y="4008"/>
                  <a:pt x="23448" y="4006"/>
                </a:cubicBezTo>
                <a:cubicBezTo>
                  <a:pt x="23464" y="4042"/>
                  <a:pt x="23463" y="4068"/>
                  <a:pt x="23460" y="4109"/>
                </a:cubicBezTo>
                <a:cubicBezTo>
                  <a:pt x="23458" y="4138"/>
                  <a:pt x="23460" y="4151"/>
                  <a:pt x="23473" y="4173"/>
                </a:cubicBezTo>
                <a:cubicBezTo>
                  <a:pt x="23494" y="4161"/>
                  <a:pt x="23509" y="4148"/>
                  <a:pt x="23528" y="4129"/>
                </a:cubicBezTo>
              </a:path>
              <a:path w="22209" h="1802">
                <a:moveTo>
                  <a:pt x="23626" y="3976"/>
                </a:moveTo>
                <a:cubicBezTo>
                  <a:pt x="23628" y="3964"/>
                  <a:pt x="23627" y="3957"/>
                  <a:pt x="23626" y="3945"/>
                </a:cubicBezTo>
                <a:cubicBezTo>
                  <a:pt x="23608" y="3945"/>
                  <a:pt x="23596" y="3955"/>
                  <a:pt x="23582" y="3972"/>
                </a:cubicBezTo>
                <a:cubicBezTo>
                  <a:pt x="23569" y="3988"/>
                  <a:pt x="23556" y="4014"/>
                  <a:pt x="23558" y="4035"/>
                </a:cubicBezTo>
                <a:cubicBezTo>
                  <a:pt x="23560" y="4062"/>
                  <a:pt x="23585" y="4072"/>
                  <a:pt x="23605" y="4084"/>
                </a:cubicBezTo>
                <a:cubicBezTo>
                  <a:pt x="23633" y="4101"/>
                  <a:pt x="23664" y="4117"/>
                  <a:pt x="23684" y="4144"/>
                </a:cubicBezTo>
                <a:cubicBezTo>
                  <a:pt x="23700" y="4165"/>
                  <a:pt x="23705" y="4191"/>
                  <a:pt x="23694" y="4215"/>
                </a:cubicBezTo>
                <a:cubicBezTo>
                  <a:pt x="23686" y="4232"/>
                  <a:pt x="23668" y="4240"/>
                  <a:pt x="23650" y="4236"/>
                </a:cubicBezTo>
                <a:cubicBezTo>
                  <a:pt x="23625" y="4231"/>
                  <a:pt x="23629" y="4208"/>
                  <a:pt x="23649" y="4199"/>
                </a:cubicBezTo>
                <a:cubicBezTo>
                  <a:pt x="23653" y="4199"/>
                  <a:pt x="23657" y="4198"/>
                  <a:pt x="23661" y="4198"/>
                </a:cubicBezTo>
              </a:path>
              <a:path w="22209" h="1802">
                <a:moveTo>
                  <a:pt x="23862" y="4290"/>
                </a:moveTo>
                <a:cubicBezTo>
                  <a:pt x="23874" y="4268"/>
                  <a:pt x="23875" y="4265"/>
                  <a:pt x="23867" y="4240"/>
                </a:cubicBezTo>
              </a:path>
              <a:path w="22209" h="1802">
                <a:moveTo>
                  <a:pt x="7060" y="3430"/>
                </a:moveTo>
                <a:cubicBezTo>
                  <a:pt x="7038" y="3422"/>
                  <a:pt x="7018" y="3415"/>
                  <a:pt x="6997" y="3406"/>
                </a:cubicBezTo>
                <a:cubicBezTo>
                  <a:pt x="6992" y="3403"/>
                  <a:pt x="6986" y="3401"/>
                  <a:pt x="6981" y="3398"/>
                </a:cubicBezTo>
                <a:cubicBezTo>
                  <a:pt x="7006" y="3398"/>
                  <a:pt x="7032" y="3399"/>
                  <a:pt x="7058" y="3399"/>
                </a:cubicBezTo>
                <a:cubicBezTo>
                  <a:pt x="7136" y="3399"/>
                  <a:pt x="7214" y="3394"/>
                  <a:pt x="7292" y="3391"/>
                </a:cubicBezTo>
                <a:cubicBezTo>
                  <a:pt x="7696" y="3375"/>
                  <a:pt x="8100" y="3359"/>
                  <a:pt x="8503" y="3322"/>
                </a:cubicBezTo>
                <a:cubicBezTo>
                  <a:pt x="8618" y="3311"/>
                  <a:pt x="8788" y="3332"/>
                  <a:pt x="8898" y="3301"/>
                </a:cubicBezTo>
                <a:cubicBezTo>
                  <a:pt x="8903" y="3296"/>
                  <a:pt x="8908" y="3292"/>
                  <a:pt x="8913" y="3287"/>
                </a:cubicBezTo>
              </a:path>
              <a:path w="22209" h="1802">
                <a:moveTo>
                  <a:pt x="9875" y="3410"/>
                </a:moveTo>
                <a:cubicBezTo>
                  <a:pt x="9843" y="3400"/>
                  <a:pt x="9811" y="3390"/>
                  <a:pt x="9779" y="3381"/>
                </a:cubicBezTo>
                <a:cubicBezTo>
                  <a:pt x="9809" y="3384"/>
                  <a:pt x="9819" y="3386"/>
                  <a:pt x="9849" y="3387"/>
                </a:cubicBezTo>
                <a:cubicBezTo>
                  <a:pt x="9952" y="3391"/>
                  <a:pt x="10055" y="3387"/>
                  <a:pt x="10158" y="3386"/>
                </a:cubicBezTo>
                <a:cubicBezTo>
                  <a:pt x="10689" y="3381"/>
                  <a:pt x="11223" y="3409"/>
                  <a:pt x="11753" y="3374"/>
                </a:cubicBezTo>
                <a:cubicBezTo>
                  <a:pt x="11873" y="3366"/>
                  <a:pt x="12096" y="3283"/>
                  <a:pt x="12212" y="3313"/>
                </a:cubicBezTo>
                <a:cubicBezTo>
                  <a:pt x="12242" y="3321"/>
                  <a:pt x="12227" y="3321"/>
                  <a:pt x="12240" y="3337"/>
                </a:cubicBezTo>
                <a:cubicBezTo>
                  <a:pt x="12241" y="3348"/>
                  <a:pt x="12241" y="3352"/>
                  <a:pt x="12244" y="3359"/>
                </a:cubicBezTo>
              </a:path>
              <a:path w="22209" h="1802">
                <a:moveTo>
                  <a:pt x="1788" y="4484"/>
                </a:moveTo>
                <a:cubicBezTo>
                  <a:pt x="1743" y="4481"/>
                  <a:pt x="1692" y="4484"/>
                  <a:pt x="1666" y="4486"/>
                </a:cubicBezTo>
                <a:cubicBezTo>
                  <a:pt x="1731" y="4505"/>
                  <a:pt x="1780" y="4522"/>
                  <a:pt x="1852" y="4526"/>
                </a:cubicBezTo>
                <a:cubicBezTo>
                  <a:pt x="3022" y="4584"/>
                  <a:pt x="4182" y="4287"/>
                  <a:pt x="5358" y="4349"/>
                </a:cubicBezTo>
                <a:cubicBezTo>
                  <a:pt x="5407" y="4352"/>
                  <a:pt x="5516" y="4403"/>
                  <a:pt x="5504" y="4356"/>
                </a:cubicBezTo>
                <a:cubicBezTo>
                  <a:pt x="5499" y="4337"/>
                  <a:pt x="5462" y="4354"/>
                  <a:pt x="5447" y="4342"/>
                </a:cubicBezTo>
              </a:path>
              <a:path w="22209" h="1802">
                <a:moveTo>
                  <a:pt x="1963" y="4773"/>
                </a:moveTo>
                <a:cubicBezTo>
                  <a:pt x="1900" y="4787"/>
                  <a:pt x="1839" y="4801"/>
                  <a:pt x="1779" y="4822"/>
                </a:cubicBezTo>
                <a:cubicBezTo>
                  <a:pt x="1753" y="4831"/>
                  <a:pt x="1734" y="4848"/>
                  <a:pt x="1715" y="4857"/>
                </a:cubicBezTo>
                <a:cubicBezTo>
                  <a:pt x="1782" y="4868"/>
                  <a:pt x="1844" y="4870"/>
                  <a:pt x="1915" y="4867"/>
                </a:cubicBezTo>
                <a:cubicBezTo>
                  <a:pt x="2332" y="4852"/>
                  <a:pt x="2749" y="4812"/>
                  <a:pt x="3166" y="4783"/>
                </a:cubicBezTo>
                <a:cubicBezTo>
                  <a:pt x="3772" y="4741"/>
                  <a:pt x="4387" y="4672"/>
                  <a:pt x="4996" y="4698"/>
                </a:cubicBezTo>
                <a:cubicBezTo>
                  <a:pt x="5047" y="4700"/>
                  <a:pt x="5183" y="4723"/>
                  <a:pt x="5229" y="4685"/>
                </a:cubicBezTo>
                <a:cubicBezTo>
                  <a:pt x="5262" y="4658"/>
                  <a:pt x="5229" y="4647"/>
                  <a:pt x="5238" y="4632"/>
                </a:cubicBezTo>
              </a:path>
              <a:path w="22209" h="1802">
                <a:moveTo>
                  <a:pt x="5373" y="4431"/>
                </a:moveTo>
                <a:cubicBezTo>
                  <a:pt x="5331" y="4441"/>
                  <a:pt x="5467" y="4426"/>
                  <a:pt x="5479" y="4425"/>
                </a:cubicBezTo>
                <a:cubicBezTo>
                  <a:pt x="5567" y="4419"/>
                  <a:pt x="5655" y="4411"/>
                  <a:pt x="5743" y="4404"/>
                </a:cubicBezTo>
                <a:cubicBezTo>
                  <a:pt x="5793" y="4400"/>
                  <a:pt x="5852" y="4392"/>
                  <a:pt x="5903" y="4400"/>
                </a:cubicBezTo>
                <a:cubicBezTo>
                  <a:pt x="5916" y="4405"/>
                  <a:pt x="5921" y="4405"/>
                  <a:pt x="5915" y="4416"/>
                </a:cubicBezTo>
              </a:path>
              <a:path w="22209" h="1802">
                <a:moveTo>
                  <a:pt x="5240" y="4750"/>
                </a:moveTo>
                <a:cubicBezTo>
                  <a:pt x="5277" y="4750"/>
                  <a:pt x="5314" y="4731"/>
                  <a:pt x="5350" y="4719"/>
                </a:cubicBezTo>
                <a:cubicBezTo>
                  <a:pt x="5441" y="4688"/>
                  <a:pt x="5538" y="4662"/>
                  <a:pt x="5634" y="4653"/>
                </a:cubicBezTo>
                <a:cubicBezTo>
                  <a:pt x="5692" y="4647"/>
                  <a:pt x="5751" y="4645"/>
                  <a:pt x="5809" y="4641"/>
                </a:cubicBezTo>
              </a:path>
              <a:path w="22209" h="1802">
                <a:moveTo>
                  <a:pt x="6987" y="4191"/>
                </a:moveTo>
                <a:cubicBezTo>
                  <a:pt x="6962" y="4201"/>
                  <a:pt x="6919" y="4180"/>
                  <a:pt x="6886" y="4199"/>
                </a:cubicBezTo>
                <a:cubicBezTo>
                  <a:pt x="6830" y="4231"/>
                  <a:pt x="6786" y="4280"/>
                  <a:pt x="6745" y="4330"/>
                </a:cubicBezTo>
                <a:cubicBezTo>
                  <a:pt x="6642" y="4455"/>
                  <a:pt x="6663" y="4597"/>
                  <a:pt x="6783" y="4692"/>
                </a:cubicBezTo>
                <a:cubicBezTo>
                  <a:pt x="6977" y="4844"/>
                  <a:pt x="7401" y="4734"/>
                  <a:pt x="7618" y="4719"/>
                </a:cubicBezTo>
                <a:cubicBezTo>
                  <a:pt x="8269" y="4673"/>
                  <a:pt x="8922" y="4655"/>
                  <a:pt x="9574" y="4663"/>
                </a:cubicBezTo>
                <a:cubicBezTo>
                  <a:pt x="10663" y="4676"/>
                  <a:pt x="11754" y="4648"/>
                  <a:pt x="12842" y="4623"/>
                </a:cubicBezTo>
                <a:cubicBezTo>
                  <a:pt x="12988" y="4620"/>
                  <a:pt x="13319" y="4627"/>
                  <a:pt x="13372" y="4435"/>
                </a:cubicBezTo>
                <a:cubicBezTo>
                  <a:pt x="13391" y="4367"/>
                  <a:pt x="13349" y="4343"/>
                  <a:pt x="13328" y="4275"/>
                </a:cubicBezTo>
              </a:path>
              <a:path w="22209" h="1802">
                <a:moveTo>
                  <a:pt x="14296" y="4273"/>
                </a:moveTo>
                <a:cubicBezTo>
                  <a:pt x="14240" y="4289"/>
                  <a:pt x="14204" y="4284"/>
                  <a:pt x="14156" y="4330"/>
                </a:cubicBezTo>
                <a:cubicBezTo>
                  <a:pt x="14109" y="4375"/>
                  <a:pt x="14075" y="4446"/>
                  <a:pt x="14055" y="4507"/>
                </a:cubicBezTo>
                <a:cubicBezTo>
                  <a:pt x="14027" y="4590"/>
                  <a:pt x="14011" y="4700"/>
                  <a:pt x="14054" y="4781"/>
                </a:cubicBezTo>
                <a:cubicBezTo>
                  <a:pt x="14128" y="4920"/>
                  <a:pt x="14333" y="4923"/>
                  <a:pt x="14468" y="4927"/>
                </a:cubicBezTo>
                <a:cubicBezTo>
                  <a:pt x="15056" y="4943"/>
                  <a:pt x="15647" y="4854"/>
                  <a:pt x="16238" y="4863"/>
                </a:cubicBezTo>
                <a:cubicBezTo>
                  <a:pt x="16717" y="4870"/>
                  <a:pt x="17198" y="4891"/>
                  <a:pt x="17677" y="4889"/>
                </a:cubicBezTo>
                <a:cubicBezTo>
                  <a:pt x="17799" y="4889"/>
                  <a:pt x="17985" y="4914"/>
                  <a:pt x="18097" y="4852"/>
                </a:cubicBezTo>
                <a:cubicBezTo>
                  <a:pt x="18169" y="4812"/>
                  <a:pt x="18222" y="4718"/>
                  <a:pt x="18245" y="4641"/>
                </a:cubicBezTo>
                <a:cubicBezTo>
                  <a:pt x="18263" y="4581"/>
                  <a:pt x="18213" y="4434"/>
                  <a:pt x="18235" y="4397"/>
                </a:cubicBezTo>
                <a:cubicBezTo>
                  <a:pt x="18262" y="4352"/>
                  <a:pt x="18318" y="4354"/>
                  <a:pt x="18356" y="4328"/>
                </a:cubicBezTo>
              </a:path>
              <a:path w="22209" h="1802">
                <a:moveTo>
                  <a:pt x="18788" y="4532"/>
                </a:moveTo>
                <a:cubicBezTo>
                  <a:pt x="18796" y="4553"/>
                  <a:pt x="18805" y="4560"/>
                  <a:pt x="18810" y="4582"/>
                </a:cubicBezTo>
                <a:cubicBezTo>
                  <a:pt x="18826" y="4645"/>
                  <a:pt x="18829" y="4710"/>
                  <a:pt x="18849" y="4773"/>
                </a:cubicBezTo>
                <a:cubicBezTo>
                  <a:pt x="18898" y="4929"/>
                  <a:pt x="19002" y="4993"/>
                  <a:pt x="19159" y="5029"/>
                </a:cubicBezTo>
                <a:cubicBezTo>
                  <a:pt x="19450" y="5096"/>
                  <a:pt x="19769" y="5074"/>
                  <a:pt x="20066" y="5082"/>
                </a:cubicBezTo>
                <a:cubicBezTo>
                  <a:pt x="20449" y="5093"/>
                  <a:pt x="20825" y="5092"/>
                  <a:pt x="21202" y="5015"/>
                </a:cubicBezTo>
                <a:cubicBezTo>
                  <a:pt x="21465" y="4961"/>
                  <a:pt x="21768" y="4935"/>
                  <a:pt x="22015" y="4827"/>
                </a:cubicBezTo>
                <a:cubicBezTo>
                  <a:pt x="22062" y="4806"/>
                  <a:pt x="22063" y="4783"/>
                  <a:pt x="22090" y="4756"/>
                </a:cubicBezTo>
                <a:cubicBezTo>
                  <a:pt x="22071" y="4766"/>
                  <a:pt x="22077" y="4767"/>
                  <a:pt x="22057" y="4775"/>
                </a:cubicBezTo>
                <a:cubicBezTo>
                  <a:pt x="22042" y="4780"/>
                  <a:pt x="22037" y="4781"/>
                  <a:pt x="22027" y="4783"/>
                </a:cubicBezTo>
              </a:path>
              <a:path w="22209" h="1802">
                <a:moveTo>
                  <a:pt x="21823" y="4794"/>
                </a:moveTo>
                <a:cubicBezTo>
                  <a:pt x="21809" y="4796"/>
                  <a:pt x="21795" y="4798"/>
                  <a:pt x="21781" y="4798"/>
                </a:cubicBezTo>
                <a:cubicBezTo>
                  <a:pt x="21782" y="4777"/>
                  <a:pt x="21791" y="4775"/>
                  <a:pt x="21793" y="4756"/>
                </a:cubicBezTo>
                <a:cubicBezTo>
                  <a:pt x="21793" y="4752"/>
                  <a:pt x="21794" y="4748"/>
                  <a:pt x="21794" y="474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"/>
          <p:cNvSpPr/>
          <p:nvPr/>
        </p:nvSpPr>
        <p:spPr>
          <a:xfrm>
            <a:off x="1303200" y="5086440"/>
            <a:ext cx="765360" cy="936360"/>
          </a:xfrm>
          <a:custGeom>
            <a:avLst/>
            <a:gdLst/>
            <a:ahLst/>
            <a:rect l="l" t="t" r="r" b="b"/>
            <a:pathLst>
              <a:path w="2128" h="2602">
                <a:moveTo>
                  <a:pt x="5743" y="16730"/>
                </a:moveTo>
                <a:cubicBezTo>
                  <a:pt x="5738" y="16706"/>
                  <a:pt x="5735" y="16692"/>
                  <a:pt x="5725" y="16667"/>
                </a:cubicBezTo>
                <a:cubicBezTo>
                  <a:pt x="5708" y="16626"/>
                  <a:pt x="5687" y="16585"/>
                  <a:pt x="5667" y="16545"/>
                </a:cubicBezTo>
                <a:cubicBezTo>
                  <a:pt x="5558" y="16325"/>
                  <a:pt x="5437" y="16107"/>
                  <a:pt x="5266" y="15928"/>
                </a:cubicBezTo>
                <a:cubicBezTo>
                  <a:pt x="5256" y="15917"/>
                  <a:pt x="5245" y="15907"/>
                  <a:pt x="5234" y="15897"/>
                </a:cubicBezTo>
                <a:cubicBezTo>
                  <a:pt x="5241" y="15915"/>
                  <a:pt x="5247" y="15926"/>
                  <a:pt x="5257" y="15943"/>
                </a:cubicBezTo>
              </a:path>
              <a:path w="2128" h="2602">
                <a:moveTo>
                  <a:pt x="5415" y="16262"/>
                </a:moveTo>
                <a:cubicBezTo>
                  <a:pt x="5417" y="16245"/>
                  <a:pt x="5418" y="16233"/>
                  <a:pt x="5418" y="16216"/>
                </a:cubicBezTo>
                <a:cubicBezTo>
                  <a:pt x="5413" y="16248"/>
                  <a:pt x="5410" y="16281"/>
                  <a:pt x="5402" y="16312"/>
                </a:cubicBezTo>
                <a:cubicBezTo>
                  <a:pt x="5390" y="16359"/>
                  <a:pt x="5375" y="16406"/>
                  <a:pt x="5361" y="16453"/>
                </a:cubicBezTo>
                <a:cubicBezTo>
                  <a:pt x="5352" y="16484"/>
                  <a:pt x="5297" y="16531"/>
                  <a:pt x="5327" y="16542"/>
                </a:cubicBezTo>
                <a:cubicBezTo>
                  <a:pt x="5341" y="16535"/>
                  <a:pt x="5346" y="16532"/>
                  <a:pt x="5351" y="16522"/>
                </a:cubicBezTo>
              </a:path>
              <a:path w="2128" h="2602">
                <a:moveTo>
                  <a:pt x="5491" y="16214"/>
                </a:moveTo>
                <a:cubicBezTo>
                  <a:pt x="5511" y="16224"/>
                  <a:pt x="5531" y="16236"/>
                  <a:pt x="5551" y="16247"/>
                </a:cubicBezTo>
                <a:cubicBezTo>
                  <a:pt x="5580" y="16263"/>
                  <a:pt x="5611" y="16274"/>
                  <a:pt x="5644" y="16281"/>
                </a:cubicBezTo>
                <a:cubicBezTo>
                  <a:pt x="5677" y="16288"/>
                  <a:pt x="5695" y="16283"/>
                  <a:pt x="5719" y="16262"/>
                </a:cubicBezTo>
              </a:path>
              <a:path w="2128" h="2602">
                <a:moveTo>
                  <a:pt x="4839" y="15569"/>
                </a:moveTo>
                <a:cubicBezTo>
                  <a:pt x="4821" y="15555"/>
                  <a:pt x="4805" y="15544"/>
                  <a:pt x="4790" y="15526"/>
                </a:cubicBezTo>
                <a:cubicBezTo>
                  <a:pt x="4762" y="15492"/>
                  <a:pt x="4736" y="15454"/>
                  <a:pt x="4712" y="15417"/>
                </a:cubicBezTo>
                <a:cubicBezTo>
                  <a:pt x="4586" y="15222"/>
                  <a:pt x="4498" y="15003"/>
                  <a:pt x="4382" y="14802"/>
                </a:cubicBezTo>
                <a:cubicBezTo>
                  <a:pt x="4327" y="14706"/>
                  <a:pt x="4263" y="14611"/>
                  <a:pt x="4192" y="14527"/>
                </a:cubicBezTo>
                <a:cubicBezTo>
                  <a:pt x="4202" y="14556"/>
                  <a:pt x="4214" y="14581"/>
                  <a:pt x="4228" y="14609"/>
                </a:cubicBezTo>
                <a:cubicBezTo>
                  <a:pt x="4233" y="14619"/>
                  <a:pt x="4237" y="14629"/>
                  <a:pt x="4242" y="14639"/>
                </a:cubicBezTo>
              </a:path>
              <a:path w="2128" h="2602">
                <a:moveTo>
                  <a:pt x="4492" y="15039"/>
                </a:moveTo>
                <a:cubicBezTo>
                  <a:pt x="4482" y="15014"/>
                  <a:pt x="4478" y="15001"/>
                  <a:pt x="4459" y="15019"/>
                </a:cubicBezTo>
                <a:cubicBezTo>
                  <a:pt x="4432" y="15044"/>
                  <a:pt x="4427" y="15087"/>
                  <a:pt x="4416" y="15121"/>
                </a:cubicBezTo>
                <a:cubicBezTo>
                  <a:pt x="4401" y="15167"/>
                  <a:pt x="4388" y="15213"/>
                  <a:pt x="4372" y="15259"/>
                </a:cubicBezTo>
                <a:cubicBezTo>
                  <a:pt x="4359" y="15296"/>
                  <a:pt x="4346" y="15299"/>
                  <a:pt x="4351" y="15259"/>
                </a:cubicBezTo>
              </a:path>
              <a:path w="2128" h="2602">
                <a:moveTo>
                  <a:pt x="4491" y="14959"/>
                </a:moveTo>
                <a:cubicBezTo>
                  <a:pt x="4526" y="14965"/>
                  <a:pt x="4534" y="14981"/>
                  <a:pt x="4563" y="15002"/>
                </a:cubicBezTo>
                <a:cubicBezTo>
                  <a:pt x="4596" y="15026"/>
                  <a:pt x="4630" y="15048"/>
                  <a:pt x="4665" y="15070"/>
                </a:cubicBezTo>
                <a:cubicBezTo>
                  <a:pt x="4691" y="15086"/>
                  <a:pt x="4716" y="15096"/>
                  <a:pt x="4744" y="15106"/>
                </a:cubicBezTo>
              </a:path>
              <a:path w="2128" h="2602">
                <a:moveTo>
                  <a:pt x="3809" y="14133"/>
                </a:moveTo>
                <a:cubicBezTo>
                  <a:pt x="3788" y="14130"/>
                  <a:pt x="3769" y="14126"/>
                  <a:pt x="3748" y="14136"/>
                </a:cubicBezTo>
                <a:cubicBezTo>
                  <a:pt x="3731" y="14144"/>
                  <a:pt x="3713" y="14154"/>
                  <a:pt x="3699" y="14167"/>
                </a:cubicBezTo>
                <a:cubicBezTo>
                  <a:pt x="3679" y="14184"/>
                  <a:pt x="3667" y="14201"/>
                  <a:pt x="3676" y="14227"/>
                </a:cubicBezTo>
                <a:cubicBezTo>
                  <a:pt x="3682" y="14246"/>
                  <a:pt x="3700" y="14265"/>
                  <a:pt x="3710" y="14283"/>
                </a:cubicBezTo>
                <a:cubicBezTo>
                  <a:pt x="3722" y="14305"/>
                  <a:pt x="3736" y="14332"/>
                  <a:pt x="3736" y="14358"/>
                </a:cubicBezTo>
                <a:cubicBezTo>
                  <a:pt x="3736" y="14381"/>
                  <a:pt x="3719" y="14398"/>
                  <a:pt x="3699" y="14405"/>
                </a:cubicBezTo>
                <a:cubicBezTo>
                  <a:pt x="3676" y="14413"/>
                  <a:pt x="3652" y="14412"/>
                  <a:pt x="3631" y="14401"/>
                </a:cubicBezTo>
                <a:cubicBezTo>
                  <a:pt x="3618" y="14392"/>
                  <a:pt x="3614" y="14388"/>
                  <a:pt x="3619" y="14374"/>
                </a:cubicBezTo>
              </a:path>
              <a:path w="2128" h="2602">
                <a:moveTo>
                  <a:pt x="3666" y="14658"/>
                </a:moveTo>
                <a:cubicBezTo>
                  <a:pt x="3655" y="14683"/>
                  <a:pt x="3650" y="14690"/>
                  <a:pt x="3667" y="14711"/>
                </a:cubicBezTo>
                <a:cubicBezTo>
                  <a:pt x="3689" y="14701"/>
                  <a:pt x="3694" y="14691"/>
                  <a:pt x="3705" y="14670"/>
                </a:cubicBezTo>
                <a:cubicBezTo>
                  <a:pt x="3716" y="14648"/>
                  <a:pt x="3725" y="14625"/>
                  <a:pt x="3730" y="14601"/>
                </a:cubicBezTo>
                <a:cubicBezTo>
                  <a:pt x="3734" y="14582"/>
                  <a:pt x="3731" y="14580"/>
                  <a:pt x="3721" y="14565"/>
                </a:cubicBezTo>
                <a:cubicBezTo>
                  <a:pt x="3693" y="14579"/>
                  <a:pt x="3679" y="14593"/>
                  <a:pt x="3663" y="14622"/>
                </a:cubicBezTo>
                <a:cubicBezTo>
                  <a:pt x="3642" y="14660"/>
                  <a:pt x="3629" y="14706"/>
                  <a:pt x="3628" y="14750"/>
                </a:cubicBezTo>
                <a:cubicBezTo>
                  <a:pt x="3627" y="14787"/>
                  <a:pt x="3631" y="14826"/>
                  <a:pt x="3648" y="14859"/>
                </a:cubicBezTo>
                <a:cubicBezTo>
                  <a:pt x="3660" y="14882"/>
                  <a:pt x="3677" y="14895"/>
                  <a:pt x="3702" y="14898"/>
                </a:cubicBezTo>
                <a:cubicBezTo>
                  <a:pt x="3728" y="14901"/>
                  <a:pt x="3749" y="14900"/>
                  <a:pt x="3775" y="14897"/>
                </a:cubicBezTo>
              </a:path>
            </a:pathLst>
          </a:custGeom>
          <a:noFill/>
          <a:ln cap="rnd" w="1908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"/>
          <p:cNvSpPr/>
          <p:nvPr/>
        </p:nvSpPr>
        <p:spPr>
          <a:xfrm>
            <a:off x="633240" y="2855880"/>
            <a:ext cx="5016600" cy="1160640"/>
          </a:xfrm>
          <a:custGeom>
            <a:avLst/>
            <a:gdLst/>
            <a:ahLst/>
            <a:rect l="l" t="t" r="r" b="b"/>
            <a:pathLst>
              <a:path w="13938" h="3223">
                <a:moveTo>
                  <a:pt x="8305" y="8069"/>
                </a:moveTo>
                <a:cubicBezTo>
                  <a:pt x="8302" y="8019"/>
                  <a:pt x="8270" y="8029"/>
                  <a:pt x="8331" y="7997"/>
                </a:cubicBezTo>
                <a:cubicBezTo>
                  <a:pt x="8414" y="7954"/>
                  <a:pt x="8559" y="7964"/>
                  <a:pt x="8648" y="7956"/>
                </a:cubicBezTo>
                <a:cubicBezTo>
                  <a:pt x="8999" y="7926"/>
                  <a:pt x="9354" y="7930"/>
                  <a:pt x="9706" y="7945"/>
                </a:cubicBezTo>
                <a:cubicBezTo>
                  <a:pt x="10165" y="7965"/>
                  <a:pt x="10624" y="8002"/>
                  <a:pt x="11082" y="8039"/>
                </a:cubicBezTo>
                <a:cubicBezTo>
                  <a:pt x="11111" y="8041"/>
                  <a:pt x="11091" y="8038"/>
                  <a:pt x="11120" y="8037"/>
                </a:cubicBezTo>
              </a:path>
              <a:path w="13938" h="3223">
                <a:moveTo>
                  <a:pt x="1766" y="10748"/>
                </a:moveTo>
                <a:cubicBezTo>
                  <a:pt x="1771" y="10750"/>
                  <a:pt x="1755" y="10822"/>
                  <a:pt x="1810" y="10836"/>
                </a:cubicBezTo>
                <a:cubicBezTo>
                  <a:pt x="2051" y="10897"/>
                  <a:pt x="2350" y="10827"/>
                  <a:pt x="2595" y="10819"/>
                </a:cubicBezTo>
                <a:cubicBezTo>
                  <a:pt x="3369" y="10795"/>
                  <a:pt x="4155" y="10802"/>
                  <a:pt x="4929" y="10820"/>
                </a:cubicBezTo>
                <a:cubicBezTo>
                  <a:pt x="7037" y="10868"/>
                  <a:pt x="9151" y="10903"/>
                  <a:pt x="11258" y="10983"/>
                </a:cubicBezTo>
                <a:cubicBezTo>
                  <a:pt x="12736" y="11039"/>
                  <a:pt x="14219" y="11075"/>
                  <a:pt x="15695" y="11157"/>
                </a:cubicBezTo>
              </a:path>
              <a:path w="13938" h="3223">
                <a:moveTo>
                  <a:pt x="2050" y="8876"/>
                </a:moveTo>
                <a:cubicBezTo>
                  <a:pt x="2000" y="8885"/>
                  <a:pt x="1950" y="8896"/>
                  <a:pt x="1901" y="8905"/>
                </a:cubicBezTo>
                <a:cubicBezTo>
                  <a:pt x="1880" y="8909"/>
                  <a:pt x="1846" y="8923"/>
                  <a:pt x="1837" y="8926"/>
                </a:cubicBezTo>
                <a:cubicBezTo>
                  <a:pt x="1927" y="8927"/>
                  <a:pt x="2015" y="8923"/>
                  <a:pt x="2105" y="8917"/>
                </a:cubicBezTo>
                <a:cubicBezTo>
                  <a:pt x="2341" y="8901"/>
                  <a:pt x="2576" y="8876"/>
                  <a:pt x="2812" y="8857"/>
                </a:cubicBezTo>
                <a:cubicBezTo>
                  <a:pt x="3849" y="8774"/>
                  <a:pt x="4927" y="8695"/>
                  <a:pt x="5967" y="8746"/>
                </a:cubicBezTo>
                <a:cubicBezTo>
                  <a:pt x="6008" y="8748"/>
                  <a:pt x="6048" y="8749"/>
                  <a:pt x="6089" y="875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"/>
          <p:cNvSpPr/>
          <p:nvPr/>
        </p:nvSpPr>
        <p:spPr>
          <a:xfrm>
            <a:off x="6705720" y="2889360"/>
            <a:ext cx="1473120" cy="29880"/>
          </a:xfrm>
          <a:custGeom>
            <a:avLst/>
            <a:gdLst/>
            <a:ahLst/>
            <a:rect l="l" t="t" r="r" b="b"/>
            <a:pathLst>
              <a:path w="4095" h="85">
                <a:moveTo>
                  <a:pt x="18685" y="8106"/>
                </a:moveTo>
                <a:cubicBezTo>
                  <a:pt x="18685" y="8106"/>
                  <a:pt x="18600" y="8111"/>
                  <a:pt x="18639" y="8110"/>
                </a:cubicBezTo>
                <a:cubicBezTo>
                  <a:pt x="18741" y="8108"/>
                  <a:pt x="18842" y="8101"/>
                  <a:pt x="18944" y="8098"/>
                </a:cubicBezTo>
                <a:cubicBezTo>
                  <a:pt x="20154" y="8062"/>
                  <a:pt x="21366" y="8052"/>
                  <a:pt x="22576" y="8029"/>
                </a:cubicBezTo>
                <a:cubicBezTo>
                  <a:pt x="22634" y="8028"/>
                  <a:pt x="22644" y="8035"/>
                  <a:pt x="22698" y="8058"/>
                </a:cubicBezTo>
              </a:path>
            </a:pathLst>
          </a:custGeom>
          <a:noFill/>
          <a:ln cap="rnd" w="1908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"/>
          <p:cNvSpPr/>
          <p:nvPr/>
        </p:nvSpPr>
        <p:spPr>
          <a:xfrm>
            <a:off x="1541520" y="4870440"/>
            <a:ext cx="309600" cy="333360"/>
          </a:xfrm>
          <a:custGeom>
            <a:avLst/>
            <a:gdLst/>
            <a:ahLst/>
            <a:rect l="l" t="t" r="r" b="b"/>
            <a:pathLst>
              <a:path w="860" h="927">
                <a:moveTo>
                  <a:pt x="4288" y="14437"/>
                </a:moveTo>
                <a:cubicBezTo>
                  <a:pt x="4286" y="14447"/>
                  <a:pt x="4285" y="14450"/>
                  <a:pt x="4283" y="14456"/>
                </a:cubicBezTo>
                <a:cubicBezTo>
                  <a:pt x="4293" y="14438"/>
                  <a:pt x="4304" y="14421"/>
                  <a:pt x="4315" y="14404"/>
                </a:cubicBezTo>
                <a:cubicBezTo>
                  <a:pt x="4346" y="14356"/>
                  <a:pt x="4375" y="14307"/>
                  <a:pt x="4410" y="14262"/>
                </a:cubicBezTo>
                <a:cubicBezTo>
                  <a:pt x="4459" y="14199"/>
                  <a:pt x="4511" y="14141"/>
                  <a:pt x="4570" y="14088"/>
                </a:cubicBezTo>
                <a:cubicBezTo>
                  <a:pt x="4710" y="13965"/>
                  <a:pt x="4859" y="13850"/>
                  <a:pt x="4976" y="13704"/>
                </a:cubicBezTo>
                <a:cubicBezTo>
                  <a:pt x="5010" y="13662"/>
                  <a:pt x="5034" y="13608"/>
                  <a:pt x="5070" y="13569"/>
                </a:cubicBezTo>
                <a:cubicBezTo>
                  <a:pt x="5083" y="13555"/>
                  <a:pt x="5093" y="13545"/>
                  <a:pt x="5108" y="13539"/>
                </a:cubicBezTo>
                <a:cubicBezTo>
                  <a:pt x="5120" y="13534"/>
                  <a:pt x="5131" y="13535"/>
                  <a:pt x="5142" y="13532"/>
                </a:cubicBezTo>
              </a:path>
            </a:pathLst>
          </a:custGeom>
          <a:noFill/>
          <a:ln cap="rnd" w="1908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"/>
          <p:cNvSpPr/>
          <p:nvPr/>
        </p:nvSpPr>
        <p:spPr>
          <a:xfrm>
            <a:off x="1625760" y="4975200"/>
            <a:ext cx="122040" cy="101520"/>
          </a:xfrm>
          <a:custGeom>
            <a:avLst/>
            <a:gdLst/>
            <a:ahLst/>
            <a:rect l="l" t="t" r="r" b="b"/>
            <a:pathLst>
              <a:path w="340" h="282">
                <a:moveTo>
                  <a:pt x="4819" y="13901"/>
                </a:moveTo>
                <a:cubicBezTo>
                  <a:pt x="4830" y="13888"/>
                  <a:pt x="4846" y="13863"/>
                  <a:pt x="4851" y="13848"/>
                </a:cubicBezTo>
                <a:cubicBezTo>
                  <a:pt x="4851" y="13834"/>
                  <a:pt x="4851" y="13829"/>
                  <a:pt x="4856" y="13820"/>
                </a:cubicBezTo>
                <a:cubicBezTo>
                  <a:pt x="4819" y="13821"/>
                  <a:pt x="4786" y="13833"/>
                  <a:pt x="4750" y="13844"/>
                </a:cubicBezTo>
                <a:cubicBezTo>
                  <a:pt x="4697" y="13860"/>
                  <a:pt x="4644" y="13878"/>
                  <a:pt x="4591" y="13895"/>
                </a:cubicBezTo>
                <a:cubicBezTo>
                  <a:pt x="4566" y="13903"/>
                  <a:pt x="4542" y="13910"/>
                  <a:pt x="4517" y="13915"/>
                </a:cubicBezTo>
                <a:cubicBezTo>
                  <a:pt x="4537" y="13884"/>
                  <a:pt x="4566" y="13871"/>
                  <a:pt x="4600" y="13855"/>
                </a:cubicBezTo>
                <a:cubicBezTo>
                  <a:pt x="4640" y="13836"/>
                  <a:pt x="4688" y="13819"/>
                  <a:pt x="4733" y="13821"/>
                </a:cubicBezTo>
                <a:cubicBezTo>
                  <a:pt x="4772" y="13823"/>
                  <a:pt x="4792" y="13849"/>
                  <a:pt x="4799" y="13885"/>
                </a:cubicBezTo>
                <a:cubicBezTo>
                  <a:pt x="4807" y="13925"/>
                  <a:pt x="4795" y="13968"/>
                  <a:pt x="4786" y="14007"/>
                </a:cubicBezTo>
                <a:cubicBezTo>
                  <a:pt x="4780" y="14031"/>
                  <a:pt x="4763" y="14073"/>
                  <a:pt x="4787" y="14094"/>
                </a:cubicBezTo>
                <a:cubicBezTo>
                  <a:pt x="4802" y="14107"/>
                  <a:pt x="4826" y="14097"/>
                  <a:pt x="4841" y="14094"/>
                </a:cubicBezTo>
              </a:path>
            </a:pathLst>
          </a:custGeom>
          <a:noFill/>
          <a:ln cap="rnd" w="1908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"/>
          <p:cNvSpPr/>
          <p:nvPr/>
        </p:nvSpPr>
        <p:spPr>
          <a:xfrm>
            <a:off x="1887480" y="4578480"/>
            <a:ext cx="252360" cy="239760"/>
          </a:xfrm>
          <a:custGeom>
            <a:avLst/>
            <a:gdLst/>
            <a:ahLst/>
            <a:rect l="l" t="t" r="r" b="b"/>
            <a:pathLst>
              <a:path w="699" h="666">
                <a:moveTo>
                  <a:pt x="5297" y="13359"/>
                </a:moveTo>
                <a:cubicBezTo>
                  <a:pt x="5281" y="13368"/>
                  <a:pt x="5272" y="13375"/>
                  <a:pt x="5254" y="13382"/>
                </a:cubicBezTo>
                <a:cubicBezTo>
                  <a:pt x="5258" y="13369"/>
                  <a:pt x="5273" y="13336"/>
                  <a:pt x="5297" y="13313"/>
                </a:cubicBezTo>
                <a:cubicBezTo>
                  <a:pt x="5344" y="13268"/>
                  <a:pt x="5395" y="13225"/>
                  <a:pt x="5445" y="13184"/>
                </a:cubicBezTo>
                <a:cubicBezTo>
                  <a:pt x="5515" y="13127"/>
                  <a:pt x="5586" y="13070"/>
                  <a:pt x="5656" y="13012"/>
                </a:cubicBezTo>
                <a:cubicBezTo>
                  <a:pt x="5738" y="12944"/>
                  <a:pt x="5833" y="12882"/>
                  <a:pt x="5911" y="12811"/>
                </a:cubicBezTo>
                <a:cubicBezTo>
                  <a:pt x="5926" y="12797"/>
                  <a:pt x="5931" y="12780"/>
                  <a:pt x="5936" y="12761"/>
                </a:cubicBezTo>
                <a:cubicBezTo>
                  <a:pt x="5940" y="12746"/>
                  <a:pt x="5939" y="12732"/>
                  <a:pt x="5941" y="12717"/>
                </a:cubicBezTo>
              </a:path>
            </a:pathLst>
          </a:custGeom>
          <a:noFill/>
          <a:ln cap="rnd" w="1908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"/>
          <p:cNvSpPr/>
          <p:nvPr/>
        </p:nvSpPr>
        <p:spPr>
          <a:xfrm>
            <a:off x="1938240" y="4645080"/>
            <a:ext cx="127080" cy="117360"/>
          </a:xfrm>
          <a:custGeom>
            <a:avLst/>
            <a:gdLst/>
            <a:ahLst/>
            <a:rect l="l" t="t" r="r" b="b"/>
            <a:pathLst>
              <a:path w="351" h="324">
                <a:moveTo>
                  <a:pt x="5733" y="12951"/>
                </a:moveTo>
                <a:cubicBezTo>
                  <a:pt x="5733" y="12929"/>
                  <a:pt x="5732" y="12906"/>
                  <a:pt x="5702" y="12904"/>
                </a:cubicBezTo>
                <a:cubicBezTo>
                  <a:pt x="5667" y="12902"/>
                  <a:pt x="5613" y="12921"/>
                  <a:pt x="5578" y="12928"/>
                </a:cubicBezTo>
                <a:cubicBezTo>
                  <a:pt x="5526" y="12938"/>
                  <a:pt x="5474" y="12950"/>
                  <a:pt x="5422" y="12957"/>
                </a:cubicBezTo>
                <a:cubicBezTo>
                  <a:pt x="5401" y="12959"/>
                  <a:pt x="5397" y="12959"/>
                  <a:pt x="5385" y="12959"/>
                </a:cubicBezTo>
                <a:cubicBezTo>
                  <a:pt x="5425" y="12946"/>
                  <a:pt x="5467" y="12937"/>
                  <a:pt x="5509" y="12938"/>
                </a:cubicBezTo>
                <a:cubicBezTo>
                  <a:pt x="5558" y="12939"/>
                  <a:pt x="5620" y="12946"/>
                  <a:pt x="5656" y="12984"/>
                </a:cubicBezTo>
                <a:cubicBezTo>
                  <a:pt x="5689" y="13019"/>
                  <a:pt x="5687" y="13070"/>
                  <a:pt x="5690" y="13114"/>
                </a:cubicBezTo>
                <a:cubicBezTo>
                  <a:pt x="5693" y="13148"/>
                  <a:pt x="5684" y="13200"/>
                  <a:pt x="5717" y="13222"/>
                </a:cubicBezTo>
                <a:cubicBezTo>
                  <a:pt x="5723" y="13224"/>
                  <a:pt x="5729" y="13225"/>
                  <a:pt x="5735" y="13227"/>
                </a:cubicBezTo>
              </a:path>
            </a:pathLst>
          </a:custGeom>
          <a:noFill/>
          <a:ln cap="rnd" w="1908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"/>
          <p:cNvSpPr/>
          <p:nvPr/>
        </p:nvSpPr>
        <p:spPr>
          <a:xfrm>
            <a:off x="2278080" y="4573440"/>
            <a:ext cx="255600" cy="271440"/>
          </a:xfrm>
          <a:custGeom>
            <a:avLst/>
            <a:gdLst/>
            <a:ahLst/>
            <a:rect l="l" t="t" r="r" b="b"/>
            <a:pathLst>
              <a:path w="709" h="753">
                <a:moveTo>
                  <a:pt x="6450" y="12739"/>
                </a:moveTo>
                <a:cubicBezTo>
                  <a:pt x="6417" y="12726"/>
                  <a:pt x="6386" y="12711"/>
                  <a:pt x="6351" y="12705"/>
                </a:cubicBezTo>
                <a:cubicBezTo>
                  <a:pt x="6340" y="12706"/>
                  <a:pt x="6337" y="12706"/>
                  <a:pt x="6330" y="12705"/>
                </a:cubicBezTo>
                <a:cubicBezTo>
                  <a:pt x="6338" y="12721"/>
                  <a:pt x="6342" y="12734"/>
                  <a:pt x="6355" y="12752"/>
                </a:cubicBezTo>
                <a:cubicBezTo>
                  <a:pt x="6382" y="12788"/>
                  <a:pt x="6416" y="12820"/>
                  <a:pt x="6446" y="12853"/>
                </a:cubicBezTo>
                <a:cubicBezTo>
                  <a:pt x="6503" y="12916"/>
                  <a:pt x="6560" y="12979"/>
                  <a:pt x="6614" y="13044"/>
                </a:cubicBezTo>
                <a:cubicBezTo>
                  <a:pt x="6671" y="13112"/>
                  <a:pt x="6720" y="13185"/>
                  <a:pt x="6773" y="13255"/>
                </a:cubicBezTo>
                <a:cubicBezTo>
                  <a:pt x="6809" y="13303"/>
                  <a:pt x="6847" y="13350"/>
                  <a:pt x="6892" y="13391"/>
                </a:cubicBezTo>
                <a:cubicBezTo>
                  <a:pt x="6912" y="13409"/>
                  <a:pt x="6973" y="13465"/>
                  <a:pt x="7005" y="13457"/>
                </a:cubicBezTo>
                <a:cubicBezTo>
                  <a:pt x="7026" y="13452"/>
                  <a:pt x="7036" y="13428"/>
                  <a:pt x="7036" y="13407"/>
                </a:cubicBezTo>
                <a:cubicBezTo>
                  <a:pt x="7036" y="13384"/>
                  <a:pt x="7029" y="13363"/>
                  <a:pt x="7022" y="13342"/>
                </a:cubicBezTo>
              </a:path>
            </a:pathLst>
          </a:custGeom>
          <a:noFill/>
          <a:ln cap="rnd" w="1908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"/>
          <p:cNvSpPr/>
          <p:nvPr/>
        </p:nvSpPr>
        <p:spPr>
          <a:xfrm>
            <a:off x="2340000" y="4743360"/>
            <a:ext cx="106200" cy="36720"/>
          </a:xfrm>
          <a:custGeom>
            <a:avLst/>
            <a:gdLst/>
            <a:ahLst/>
            <a:rect l="l" t="t" r="r" b="b"/>
            <a:pathLst>
              <a:path w="296" h="102">
                <a:moveTo>
                  <a:pt x="6795" y="13278"/>
                </a:moveTo>
                <a:cubicBezTo>
                  <a:pt x="6774" y="13269"/>
                  <a:pt x="6757" y="13259"/>
                  <a:pt x="6738" y="13245"/>
                </a:cubicBezTo>
                <a:cubicBezTo>
                  <a:pt x="6718" y="13230"/>
                  <a:pt x="6695" y="13219"/>
                  <a:pt x="6671" y="13211"/>
                </a:cubicBezTo>
                <a:cubicBezTo>
                  <a:pt x="6642" y="13202"/>
                  <a:pt x="6612" y="13195"/>
                  <a:pt x="6582" y="13188"/>
                </a:cubicBezTo>
                <a:cubicBezTo>
                  <a:pt x="6558" y="13182"/>
                  <a:pt x="6535" y="13176"/>
                  <a:pt x="6510" y="13177"/>
                </a:cubicBezTo>
                <a:cubicBezTo>
                  <a:pt x="6507" y="13177"/>
                  <a:pt x="6503" y="13178"/>
                  <a:pt x="6500" y="13178"/>
                </a:cubicBezTo>
                <a:cubicBezTo>
                  <a:pt x="6521" y="13199"/>
                  <a:pt x="6541" y="13201"/>
                  <a:pt x="6572" y="13207"/>
                </a:cubicBezTo>
                <a:cubicBezTo>
                  <a:pt x="6580" y="13208"/>
                  <a:pt x="6589" y="13210"/>
                  <a:pt x="6597" y="13211"/>
                </a:cubicBezTo>
              </a:path>
            </a:pathLst>
          </a:custGeom>
          <a:noFill/>
          <a:ln cap="rnd" w="1908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"/>
          <p:cNvSpPr/>
          <p:nvPr/>
        </p:nvSpPr>
        <p:spPr>
          <a:xfrm>
            <a:off x="2436840" y="4726080"/>
            <a:ext cx="74520" cy="42840"/>
          </a:xfrm>
          <a:custGeom>
            <a:avLst/>
            <a:gdLst/>
            <a:ahLst/>
            <a:rect l="l" t="t" r="r" b="b"/>
            <a:pathLst>
              <a:path w="206" h="122">
                <a:moveTo>
                  <a:pt x="6768" y="13248"/>
                </a:moveTo>
                <a:cubicBezTo>
                  <a:pt x="6801" y="13230"/>
                  <a:pt x="6832" y="13207"/>
                  <a:pt x="6863" y="13186"/>
                </a:cubicBezTo>
                <a:cubicBezTo>
                  <a:pt x="6896" y="13163"/>
                  <a:pt x="6922" y="13139"/>
                  <a:pt x="6961" y="13129"/>
                </a:cubicBezTo>
                <a:cubicBezTo>
                  <a:pt x="6965" y="13128"/>
                  <a:pt x="6969" y="13128"/>
                  <a:pt x="6973" y="13127"/>
                </a:cubicBezTo>
              </a:path>
            </a:pathLst>
          </a:custGeom>
          <a:noFill/>
          <a:ln cap="rnd" w="1908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"/>
          <p:cNvSpPr/>
          <p:nvPr/>
        </p:nvSpPr>
        <p:spPr>
          <a:xfrm>
            <a:off x="2487600" y="4954680"/>
            <a:ext cx="46080" cy="655560"/>
          </a:xfrm>
          <a:custGeom>
            <a:avLst/>
            <a:gdLst/>
            <a:ahLst/>
            <a:rect l="l" t="t" r="r" b="b"/>
            <a:pathLst>
              <a:path w="127" h="1823">
                <a:moveTo>
                  <a:pt x="7035" y="13778"/>
                </a:moveTo>
                <a:cubicBezTo>
                  <a:pt x="7034" y="13774"/>
                  <a:pt x="7033" y="13769"/>
                  <a:pt x="7032" y="13765"/>
                </a:cubicBezTo>
                <a:cubicBezTo>
                  <a:pt x="7029" y="13770"/>
                  <a:pt x="7018" y="13790"/>
                  <a:pt x="7012" y="13810"/>
                </a:cubicBezTo>
                <a:cubicBezTo>
                  <a:pt x="6996" y="13867"/>
                  <a:pt x="6994" y="13929"/>
                  <a:pt x="6988" y="13987"/>
                </a:cubicBezTo>
                <a:cubicBezTo>
                  <a:pt x="6976" y="14093"/>
                  <a:pt x="6975" y="14199"/>
                  <a:pt x="6971" y="14306"/>
                </a:cubicBezTo>
                <a:cubicBezTo>
                  <a:pt x="6966" y="14423"/>
                  <a:pt x="6965" y="14540"/>
                  <a:pt x="6960" y="14657"/>
                </a:cubicBezTo>
                <a:cubicBezTo>
                  <a:pt x="6952" y="14831"/>
                  <a:pt x="6927" y="15006"/>
                  <a:pt x="6929" y="15181"/>
                </a:cubicBezTo>
                <a:cubicBezTo>
                  <a:pt x="6930" y="15245"/>
                  <a:pt x="6940" y="15308"/>
                  <a:pt x="6930" y="15371"/>
                </a:cubicBezTo>
                <a:cubicBezTo>
                  <a:pt x="6921" y="15424"/>
                  <a:pt x="6907" y="15460"/>
                  <a:pt x="6914" y="15515"/>
                </a:cubicBezTo>
                <a:cubicBezTo>
                  <a:pt x="6917" y="15539"/>
                  <a:pt x="6924" y="15561"/>
                  <a:pt x="6929" y="15584"/>
                </a:cubicBezTo>
                <a:cubicBezTo>
                  <a:pt x="6931" y="15554"/>
                  <a:pt x="6932" y="15523"/>
                  <a:pt x="6935" y="15493"/>
                </a:cubicBezTo>
              </a:path>
            </a:pathLst>
          </a:custGeom>
          <a:noFill/>
          <a:ln cap="rnd" w="1908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"/>
          <p:cNvSpPr/>
          <p:nvPr/>
        </p:nvSpPr>
        <p:spPr>
          <a:xfrm>
            <a:off x="2455920" y="5349960"/>
            <a:ext cx="55440" cy="93600"/>
          </a:xfrm>
          <a:custGeom>
            <a:avLst/>
            <a:gdLst/>
            <a:ahLst/>
            <a:rect l="l" t="t" r="r" b="b"/>
            <a:pathLst>
              <a:path w="155" h="258">
                <a:moveTo>
                  <a:pt x="6975" y="15106"/>
                </a:moveTo>
                <a:cubicBezTo>
                  <a:pt x="6951" y="15123"/>
                  <a:pt x="6943" y="15117"/>
                  <a:pt x="6921" y="15092"/>
                </a:cubicBezTo>
                <a:cubicBezTo>
                  <a:pt x="6896" y="15064"/>
                  <a:pt x="6879" y="15021"/>
                  <a:pt x="6862" y="14988"/>
                </a:cubicBezTo>
                <a:cubicBezTo>
                  <a:pt x="6846" y="14956"/>
                  <a:pt x="6825" y="14922"/>
                  <a:pt x="6821" y="14886"/>
                </a:cubicBezTo>
                <a:cubicBezTo>
                  <a:pt x="6818" y="14860"/>
                  <a:pt x="6839" y="14858"/>
                  <a:pt x="6858" y="14868"/>
                </a:cubicBezTo>
                <a:cubicBezTo>
                  <a:pt x="6884" y="14881"/>
                  <a:pt x="6898" y="14903"/>
                  <a:pt x="6916" y="14925"/>
                </a:cubicBezTo>
              </a:path>
            </a:pathLst>
          </a:custGeom>
          <a:noFill/>
          <a:ln cap="rnd" w="1908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"/>
          <p:cNvSpPr/>
          <p:nvPr/>
        </p:nvSpPr>
        <p:spPr>
          <a:xfrm>
            <a:off x="2498760" y="5353200"/>
            <a:ext cx="84240" cy="85680"/>
          </a:xfrm>
          <a:custGeom>
            <a:avLst/>
            <a:gdLst/>
            <a:ahLst/>
            <a:rect l="l" t="t" r="r" b="b"/>
            <a:pathLst>
              <a:path w="232" h="239">
                <a:moveTo>
                  <a:pt x="6943" y="15090"/>
                </a:moveTo>
                <a:cubicBezTo>
                  <a:pt x="6943" y="15095"/>
                  <a:pt x="6943" y="15099"/>
                  <a:pt x="6943" y="15104"/>
                </a:cubicBezTo>
                <a:cubicBezTo>
                  <a:pt x="6970" y="15099"/>
                  <a:pt x="6987" y="15058"/>
                  <a:pt x="7009" y="15033"/>
                </a:cubicBezTo>
                <a:cubicBezTo>
                  <a:pt x="7047" y="14990"/>
                  <a:pt x="7084" y="14942"/>
                  <a:pt x="7125" y="14902"/>
                </a:cubicBezTo>
                <a:cubicBezTo>
                  <a:pt x="7141" y="14886"/>
                  <a:pt x="7154" y="14876"/>
                  <a:pt x="7174" y="14870"/>
                </a:cubicBezTo>
              </a:path>
            </a:pathLst>
          </a:custGeom>
          <a:noFill/>
          <a:ln cap="rnd" w="1908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"/>
          <p:cNvSpPr/>
          <p:nvPr/>
        </p:nvSpPr>
        <p:spPr>
          <a:xfrm>
            <a:off x="2173320" y="5708520"/>
            <a:ext cx="322200" cy="331920"/>
          </a:xfrm>
          <a:custGeom>
            <a:avLst/>
            <a:gdLst/>
            <a:ahLst/>
            <a:rect l="l" t="t" r="r" b="b"/>
            <a:pathLst>
              <a:path w="898" h="921">
                <a:moveTo>
                  <a:pt x="6926" y="15871"/>
                </a:moveTo>
                <a:cubicBezTo>
                  <a:pt x="6928" y="15867"/>
                  <a:pt x="6931" y="15862"/>
                  <a:pt x="6933" y="15858"/>
                </a:cubicBezTo>
                <a:cubicBezTo>
                  <a:pt x="6920" y="15881"/>
                  <a:pt x="6907" y="15903"/>
                  <a:pt x="6891" y="15925"/>
                </a:cubicBezTo>
                <a:cubicBezTo>
                  <a:pt x="6853" y="15978"/>
                  <a:pt x="6811" y="16026"/>
                  <a:pt x="6769" y="16076"/>
                </a:cubicBezTo>
                <a:cubicBezTo>
                  <a:pt x="6705" y="16152"/>
                  <a:pt x="6640" y="16227"/>
                  <a:pt x="6575" y="16302"/>
                </a:cubicBezTo>
                <a:cubicBezTo>
                  <a:pt x="6468" y="16426"/>
                  <a:pt x="6366" y="16563"/>
                  <a:pt x="6223" y="16648"/>
                </a:cubicBezTo>
                <a:cubicBezTo>
                  <a:pt x="6208" y="16657"/>
                  <a:pt x="6030" y="16755"/>
                  <a:pt x="6036" y="16766"/>
                </a:cubicBezTo>
                <a:cubicBezTo>
                  <a:pt x="6053" y="16795"/>
                  <a:pt x="6049" y="16761"/>
                  <a:pt x="6071" y="16772"/>
                </a:cubicBezTo>
              </a:path>
            </a:pathLst>
          </a:custGeom>
          <a:noFill/>
          <a:ln cap="rnd" w="1908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"/>
          <p:cNvSpPr/>
          <p:nvPr/>
        </p:nvSpPr>
        <p:spPr>
          <a:xfrm>
            <a:off x="2270160" y="5850000"/>
            <a:ext cx="42840" cy="104760"/>
          </a:xfrm>
          <a:custGeom>
            <a:avLst/>
            <a:gdLst/>
            <a:ahLst/>
            <a:rect l="l" t="t" r="r" b="b"/>
            <a:pathLst>
              <a:path w="119" h="293">
                <a:moveTo>
                  <a:pt x="6324" y="16541"/>
                </a:moveTo>
                <a:cubicBezTo>
                  <a:pt x="6306" y="16520"/>
                  <a:pt x="6306" y="16513"/>
                  <a:pt x="6314" y="16486"/>
                </a:cubicBezTo>
                <a:cubicBezTo>
                  <a:pt x="6327" y="16446"/>
                  <a:pt x="6341" y="16405"/>
                  <a:pt x="6358" y="16366"/>
                </a:cubicBezTo>
                <a:cubicBezTo>
                  <a:pt x="6374" y="16330"/>
                  <a:pt x="6390" y="16286"/>
                  <a:pt x="6412" y="16255"/>
                </a:cubicBezTo>
                <a:cubicBezTo>
                  <a:pt x="6422" y="16241"/>
                  <a:pt x="6423" y="16272"/>
                  <a:pt x="6423" y="16289"/>
                </a:cubicBezTo>
              </a:path>
            </a:pathLst>
          </a:custGeom>
          <a:noFill/>
          <a:ln cap="rnd" w="1908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"/>
          <p:cNvSpPr/>
          <p:nvPr/>
        </p:nvSpPr>
        <p:spPr>
          <a:xfrm>
            <a:off x="2273400" y="5956200"/>
            <a:ext cx="102960" cy="30240"/>
          </a:xfrm>
          <a:custGeom>
            <a:avLst/>
            <a:gdLst/>
            <a:ahLst/>
            <a:rect l="l" t="t" r="r" b="b"/>
            <a:pathLst>
              <a:path w="284" h="84">
                <a:moveTo>
                  <a:pt x="6320" y="16544"/>
                </a:moveTo>
                <a:cubicBezTo>
                  <a:pt x="6318" y="16569"/>
                  <a:pt x="6306" y="16612"/>
                  <a:pt x="6340" y="16624"/>
                </a:cubicBezTo>
                <a:cubicBezTo>
                  <a:pt x="6376" y="16637"/>
                  <a:pt x="6422" y="16616"/>
                  <a:pt x="6456" y="16607"/>
                </a:cubicBezTo>
                <a:cubicBezTo>
                  <a:pt x="6496" y="16596"/>
                  <a:pt x="6527" y="16579"/>
                  <a:pt x="6569" y="16575"/>
                </a:cubicBezTo>
                <a:cubicBezTo>
                  <a:pt x="6584" y="16574"/>
                  <a:pt x="6590" y="16574"/>
                  <a:pt x="6599" y="16579"/>
                </a:cubicBezTo>
              </a:path>
            </a:pathLst>
          </a:custGeom>
          <a:noFill/>
          <a:ln cap="rnd" w="1908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"/>
          <p:cNvSpPr/>
          <p:nvPr/>
        </p:nvSpPr>
        <p:spPr>
          <a:xfrm>
            <a:off x="2516040" y="5675400"/>
            <a:ext cx="66960" cy="48960"/>
          </a:xfrm>
          <a:custGeom>
            <a:avLst/>
            <a:gdLst/>
            <a:ahLst/>
            <a:rect l="l" t="t" r="r" b="b"/>
            <a:pathLst>
              <a:path w="185" h="139">
                <a:moveTo>
                  <a:pt x="6991" y="15816"/>
                </a:moveTo>
                <a:cubicBezTo>
                  <a:pt x="7006" y="15803"/>
                  <a:pt x="7020" y="15779"/>
                  <a:pt x="7037" y="15770"/>
                </a:cubicBezTo>
                <a:cubicBezTo>
                  <a:pt x="7054" y="15761"/>
                  <a:pt x="7077" y="15763"/>
                  <a:pt x="7094" y="15773"/>
                </a:cubicBezTo>
                <a:cubicBezTo>
                  <a:pt x="7109" y="15782"/>
                  <a:pt x="7123" y="15800"/>
                  <a:pt x="7124" y="15816"/>
                </a:cubicBezTo>
                <a:cubicBezTo>
                  <a:pt x="7125" y="15838"/>
                  <a:pt x="7105" y="15848"/>
                  <a:pt x="7086" y="15852"/>
                </a:cubicBezTo>
                <a:cubicBezTo>
                  <a:pt x="7064" y="15857"/>
                  <a:pt x="7041" y="15851"/>
                  <a:pt x="7026" y="15835"/>
                </a:cubicBezTo>
                <a:cubicBezTo>
                  <a:pt x="7010" y="15818"/>
                  <a:pt x="7022" y="15803"/>
                  <a:pt x="7037" y="15792"/>
                </a:cubicBezTo>
                <a:cubicBezTo>
                  <a:pt x="7058" y="15777"/>
                  <a:pt x="7087" y="15776"/>
                  <a:pt x="7111" y="15783"/>
                </a:cubicBezTo>
                <a:cubicBezTo>
                  <a:pt x="7134" y="15790"/>
                  <a:pt x="7160" y="15804"/>
                  <a:pt x="7171" y="15827"/>
                </a:cubicBezTo>
                <a:cubicBezTo>
                  <a:pt x="7181" y="15848"/>
                  <a:pt x="7172" y="15869"/>
                  <a:pt x="7156" y="15883"/>
                </a:cubicBezTo>
                <a:cubicBezTo>
                  <a:pt x="7143" y="15895"/>
                  <a:pt x="7113" y="15910"/>
                  <a:pt x="7094" y="15902"/>
                </a:cubicBezTo>
                <a:cubicBezTo>
                  <a:pt x="7069" y="15892"/>
                  <a:pt x="7070" y="15872"/>
                  <a:pt x="7080" y="15851"/>
                </a:cubicBezTo>
                <a:cubicBezTo>
                  <a:pt x="7083" y="15845"/>
                  <a:pt x="7087" y="15840"/>
                  <a:pt x="7090" y="15834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"/>
          <p:cNvSpPr/>
          <p:nvPr/>
        </p:nvSpPr>
        <p:spPr>
          <a:xfrm>
            <a:off x="2544840" y="5765760"/>
            <a:ext cx="34920" cy="88920"/>
          </a:xfrm>
          <a:custGeom>
            <a:avLst/>
            <a:gdLst/>
            <a:ahLst/>
            <a:rect l="l" t="t" r="r" b="b"/>
            <a:pathLst>
              <a:path w="97" h="244">
                <a:moveTo>
                  <a:pt x="7153" y="16028"/>
                </a:moveTo>
                <a:cubicBezTo>
                  <a:pt x="7153" y="16025"/>
                  <a:pt x="7153" y="16021"/>
                  <a:pt x="7153" y="16018"/>
                </a:cubicBezTo>
                <a:cubicBezTo>
                  <a:pt x="7139" y="16024"/>
                  <a:pt x="7131" y="16035"/>
                  <a:pt x="7127" y="16053"/>
                </a:cubicBezTo>
                <a:cubicBezTo>
                  <a:pt x="7122" y="16078"/>
                  <a:pt x="7136" y="16105"/>
                  <a:pt x="7145" y="16128"/>
                </a:cubicBezTo>
                <a:cubicBezTo>
                  <a:pt x="7154" y="16153"/>
                  <a:pt x="7166" y="16178"/>
                  <a:pt x="7166" y="16205"/>
                </a:cubicBezTo>
                <a:cubicBezTo>
                  <a:pt x="7166" y="16231"/>
                  <a:pt x="7158" y="16255"/>
                  <a:pt x="7131" y="16261"/>
                </a:cubicBezTo>
                <a:cubicBezTo>
                  <a:pt x="7110" y="16265"/>
                  <a:pt x="7092" y="16242"/>
                  <a:pt x="7082" y="16228"/>
                </a:cubicBezTo>
                <a:cubicBezTo>
                  <a:pt x="7063" y="16200"/>
                  <a:pt x="7072" y="16177"/>
                  <a:pt x="7081" y="16148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"/>
          <p:cNvSpPr/>
          <p:nvPr/>
        </p:nvSpPr>
        <p:spPr>
          <a:xfrm>
            <a:off x="2583000" y="5770440"/>
            <a:ext cx="28440" cy="7920"/>
          </a:xfrm>
          <a:custGeom>
            <a:avLst/>
            <a:gdLst/>
            <a:ahLst/>
            <a:rect l="l" t="t" r="r" b="b"/>
            <a:pathLst>
              <a:path w="80" h="19">
                <a:moveTo>
                  <a:pt x="7175" y="16049"/>
                </a:moveTo>
                <a:cubicBezTo>
                  <a:pt x="7186" y="16035"/>
                  <a:pt x="7199" y="16033"/>
                  <a:pt x="7218" y="16034"/>
                </a:cubicBezTo>
                <a:cubicBezTo>
                  <a:pt x="7232" y="16035"/>
                  <a:pt x="7240" y="16033"/>
                  <a:pt x="7254" y="16031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"/>
          <p:cNvSpPr/>
          <p:nvPr/>
        </p:nvSpPr>
        <p:spPr>
          <a:xfrm>
            <a:off x="2617920" y="5676840"/>
            <a:ext cx="493560" cy="20520"/>
          </a:xfrm>
          <a:custGeom>
            <a:avLst/>
            <a:gdLst/>
            <a:ahLst/>
            <a:rect l="l" t="t" r="r" b="b"/>
            <a:pathLst>
              <a:path w="1375" h="56">
                <a:moveTo>
                  <a:pt x="7279" y="15781"/>
                </a:moveTo>
                <a:cubicBezTo>
                  <a:pt x="7296" y="15770"/>
                  <a:pt x="7299" y="15771"/>
                  <a:pt x="7319" y="15771"/>
                </a:cubicBezTo>
                <a:cubicBezTo>
                  <a:pt x="7370" y="15772"/>
                  <a:pt x="7420" y="15772"/>
                  <a:pt x="7471" y="15772"/>
                </a:cubicBezTo>
                <a:cubicBezTo>
                  <a:pt x="7541" y="15773"/>
                  <a:pt x="7612" y="15772"/>
                  <a:pt x="7682" y="15778"/>
                </a:cubicBezTo>
                <a:cubicBezTo>
                  <a:pt x="7853" y="15793"/>
                  <a:pt x="8016" y="15827"/>
                  <a:pt x="8189" y="15823"/>
                </a:cubicBezTo>
                <a:cubicBezTo>
                  <a:pt x="8318" y="15820"/>
                  <a:pt x="8445" y="15818"/>
                  <a:pt x="8574" y="15820"/>
                </a:cubicBezTo>
                <a:cubicBezTo>
                  <a:pt x="8593" y="15820"/>
                  <a:pt x="8614" y="15820"/>
                  <a:pt x="8632" y="15813"/>
                </a:cubicBezTo>
                <a:cubicBezTo>
                  <a:pt x="8657" y="15803"/>
                  <a:pt x="8626" y="15811"/>
                  <a:pt x="8614" y="15808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"/>
          <p:cNvSpPr/>
          <p:nvPr/>
        </p:nvSpPr>
        <p:spPr>
          <a:xfrm>
            <a:off x="2868480" y="5632560"/>
            <a:ext cx="66960" cy="129960"/>
          </a:xfrm>
          <a:custGeom>
            <a:avLst/>
            <a:gdLst/>
            <a:ahLst/>
            <a:rect l="l" t="t" r="r" b="b"/>
            <a:pathLst>
              <a:path w="186" h="364">
                <a:moveTo>
                  <a:pt x="8139" y="15903"/>
                </a:moveTo>
                <a:cubicBezTo>
                  <a:pt x="8153" y="15880"/>
                  <a:pt x="8154" y="15863"/>
                  <a:pt x="8149" y="15836"/>
                </a:cubicBezTo>
                <a:cubicBezTo>
                  <a:pt x="8142" y="15799"/>
                  <a:pt x="8109" y="15768"/>
                  <a:pt x="8090" y="15737"/>
                </a:cubicBezTo>
                <a:cubicBezTo>
                  <a:pt x="8074" y="15712"/>
                  <a:pt x="8056" y="15688"/>
                  <a:pt x="8037" y="15665"/>
                </a:cubicBezTo>
                <a:cubicBezTo>
                  <a:pt x="8028" y="15655"/>
                  <a:pt x="8025" y="15653"/>
                  <a:pt x="8025" y="15644"/>
                </a:cubicBezTo>
                <a:cubicBezTo>
                  <a:pt x="8047" y="15663"/>
                  <a:pt x="8063" y="15680"/>
                  <a:pt x="8076" y="15707"/>
                </a:cubicBezTo>
                <a:cubicBezTo>
                  <a:pt x="8092" y="15738"/>
                  <a:pt x="8103" y="15774"/>
                  <a:pt x="8099" y="15809"/>
                </a:cubicBezTo>
                <a:cubicBezTo>
                  <a:pt x="8095" y="15852"/>
                  <a:pt x="8077" y="15891"/>
                  <a:pt x="8051" y="15925"/>
                </a:cubicBezTo>
                <a:cubicBezTo>
                  <a:pt x="8030" y="15953"/>
                  <a:pt x="8009" y="15983"/>
                  <a:pt x="7979" y="16002"/>
                </a:cubicBezTo>
                <a:cubicBezTo>
                  <a:pt x="7975" y="16004"/>
                  <a:pt x="7972" y="16005"/>
                  <a:pt x="7968" y="16007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"/>
          <p:cNvSpPr/>
          <p:nvPr/>
        </p:nvSpPr>
        <p:spPr>
          <a:xfrm>
            <a:off x="2608200" y="4956120"/>
            <a:ext cx="452520" cy="650880"/>
          </a:xfrm>
          <a:custGeom>
            <a:avLst/>
            <a:gdLst/>
            <a:ahLst/>
            <a:rect l="l" t="t" r="r" b="b"/>
            <a:pathLst>
              <a:path w="1255" h="1812">
                <a:moveTo>
                  <a:pt x="8499" y="15576"/>
                </a:moveTo>
                <a:cubicBezTo>
                  <a:pt x="8479" y="15545"/>
                  <a:pt x="8460" y="15513"/>
                  <a:pt x="8440" y="15481"/>
                </a:cubicBezTo>
                <a:cubicBezTo>
                  <a:pt x="8409" y="15430"/>
                  <a:pt x="8373" y="15383"/>
                  <a:pt x="8340" y="15333"/>
                </a:cubicBezTo>
                <a:cubicBezTo>
                  <a:pt x="8210" y="15134"/>
                  <a:pt x="8083" y="14934"/>
                  <a:pt x="7957" y="14733"/>
                </a:cubicBezTo>
                <a:cubicBezTo>
                  <a:pt x="7888" y="14623"/>
                  <a:pt x="7811" y="14521"/>
                  <a:pt x="7736" y="14416"/>
                </a:cubicBezTo>
                <a:cubicBezTo>
                  <a:pt x="7678" y="14335"/>
                  <a:pt x="7628" y="14250"/>
                  <a:pt x="7573" y="14167"/>
                </a:cubicBezTo>
                <a:cubicBezTo>
                  <a:pt x="7504" y="14062"/>
                  <a:pt x="7436" y="13949"/>
                  <a:pt x="7361" y="13849"/>
                </a:cubicBezTo>
                <a:cubicBezTo>
                  <a:pt x="7327" y="13804"/>
                  <a:pt x="7294" y="13788"/>
                  <a:pt x="7245" y="13765"/>
                </a:cubicBezTo>
                <a:cubicBezTo>
                  <a:pt x="7266" y="13787"/>
                  <a:pt x="7287" y="13809"/>
                  <a:pt x="7307" y="13831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"/>
          <p:cNvSpPr/>
          <p:nvPr/>
        </p:nvSpPr>
        <p:spPr>
          <a:xfrm>
            <a:off x="2701800" y="5078520"/>
            <a:ext cx="38160" cy="87120"/>
          </a:xfrm>
          <a:custGeom>
            <a:avLst/>
            <a:gdLst/>
            <a:ahLst/>
            <a:rect l="l" t="t" r="r" b="b"/>
            <a:pathLst>
              <a:path w="104" h="244">
                <a:moveTo>
                  <a:pt x="7608" y="14177"/>
                </a:moveTo>
                <a:cubicBezTo>
                  <a:pt x="7605" y="14158"/>
                  <a:pt x="7600" y="14136"/>
                  <a:pt x="7590" y="14119"/>
                </a:cubicBezTo>
                <a:cubicBezTo>
                  <a:pt x="7587" y="14115"/>
                  <a:pt x="7583" y="14110"/>
                  <a:pt x="7580" y="14106"/>
                </a:cubicBezTo>
                <a:cubicBezTo>
                  <a:pt x="7549" y="14112"/>
                  <a:pt x="7544" y="14136"/>
                  <a:pt x="7533" y="14169"/>
                </a:cubicBezTo>
                <a:cubicBezTo>
                  <a:pt x="7519" y="14211"/>
                  <a:pt x="7506" y="14260"/>
                  <a:pt x="7505" y="14304"/>
                </a:cubicBezTo>
                <a:cubicBezTo>
                  <a:pt x="7504" y="14329"/>
                  <a:pt x="7503" y="14336"/>
                  <a:pt x="7517" y="14348"/>
                </a:cubicBezTo>
                <a:cubicBezTo>
                  <a:pt x="7533" y="14336"/>
                  <a:pt x="7537" y="14326"/>
                  <a:pt x="7548" y="14308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"/>
          <p:cNvSpPr/>
          <p:nvPr/>
        </p:nvSpPr>
        <p:spPr>
          <a:xfrm>
            <a:off x="2722680" y="5075280"/>
            <a:ext cx="77760" cy="12600"/>
          </a:xfrm>
          <a:custGeom>
            <a:avLst/>
            <a:gdLst/>
            <a:ahLst/>
            <a:rect l="l" t="t" r="r" b="b"/>
            <a:pathLst>
              <a:path w="215" h="36">
                <a:moveTo>
                  <a:pt x="7563" y="14130"/>
                </a:moveTo>
                <a:cubicBezTo>
                  <a:pt x="7576" y="14100"/>
                  <a:pt x="7584" y="14100"/>
                  <a:pt x="7616" y="14098"/>
                </a:cubicBezTo>
                <a:cubicBezTo>
                  <a:pt x="7646" y="14096"/>
                  <a:pt x="7673" y="14105"/>
                  <a:pt x="7702" y="14113"/>
                </a:cubicBezTo>
                <a:cubicBezTo>
                  <a:pt x="7728" y="14120"/>
                  <a:pt x="7751" y="14127"/>
                  <a:pt x="7777" y="14131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"/>
          <p:cNvSpPr/>
          <p:nvPr/>
        </p:nvSpPr>
        <p:spPr>
          <a:xfrm>
            <a:off x="1960560" y="4829040"/>
            <a:ext cx="600120" cy="104760"/>
          </a:xfrm>
          <a:custGeom>
            <a:avLst/>
            <a:gdLst/>
            <a:ahLst/>
            <a:rect l="l" t="t" r="r" b="b"/>
            <a:pathLst>
              <a:path w="1665" h="291">
                <a:moveTo>
                  <a:pt x="7111" y="13705"/>
                </a:moveTo>
                <a:cubicBezTo>
                  <a:pt x="7081" y="13683"/>
                  <a:pt x="7094" y="13681"/>
                  <a:pt x="7049" y="13684"/>
                </a:cubicBezTo>
                <a:cubicBezTo>
                  <a:pt x="7011" y="13686"/>
                  <a:pt x="6977" y="13691"/>
                  <a:pt x="6939" y="13689"/>
                </a:cubicBezTo>
                <a:cubicBezTo>
                  <a:pt x="6910" y="13688"/>
                  <a:pt x="6880" y="13686"/>
                  <a:pt x="6851" y="13681"/>
                </a:cubicBezTo>
                <a:cubicBezTo>
                  <a:pt x="6813" y="13675"/>
                  <a:pt x="6778" y="13666"/>
                  <a:pt x="6742" y="13653"/>
                </a:cubicBezTo>
                <a:cubicBezTo>
                  <a:pt x="6699" y="13638"/>
                  <a:pt x="6658" y="13618"/>
                  <a:pt x="6615" y="13605"/>
                </a:cubicBezTo>
                <a:cubicBezTo>
                  <a:pt x="6546" y="13584"/>
                  <a:pt x="6477" y="13574"/>
                  <a:pt x="6406" y="13566"/>
                </a:cubicBezTo>
                <a:cubicBezTo>
                  <a:pt x="6331" y="13558"/>
                  <a:pt x="6255" y="13554"/>
                  <a:pt x="6180" y="13541"/>
                </a:cubicBezTo>
                <a:cubicBezTo>
                  <a:pt x="6064" y="13522"/>
                  <a:pt x="5953" y="13499"/>
                  <a:pt x="5835" y="13496"/>
                </a:cubicBezTo>
                <a:cubicBezTo>
                  <a:pt x="5766" y="13494"/>
                  <a:pt x="5689" y="13500"/>
                  <a:pt x="5622" y="13481"/>
                </a:cubicBezTo>
                <a:cubicBezTo>
                  <a:pt x="5554" y="13462"/>
                  <a:pt x="5521" y="13417"/>
                  <a:pt x="5447" y="13420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"/>
          <p:cNvSpPr/>
          <p:nvPr/>
        </p:nvSpPr>
        <p:spPr>
          <a:xfrm>
            <a:off x="2122560" y="4775040"/>
            <a:ext cx="95040" cy="79560"/>
          </a:xfrm>
          <a:custGeom>
            <a:avLst/>
            <a:gdLst/>
            <a:ahLst/>
            <a:rect l="l" t="t" r="r" b="b"/>
            <a:pathLst>
              <a:path w="264" h="223">
                <a:moveTo>
                  <a:pt x="5918" y="13473"/>
                </a:moveTo>
                <a:cubicBezTo>
                  <a:pt x="5906" y="13480"/>
                  <a:pt x="5903" y="13482"/>
                  <a:pt x="5895" y="13486"/>
                </a:cubicBezTo>
                <a:cubicBezTo>
                  <a:pt x="5917" y="13456"/>
                  <a:pt x="5949" y="13438"/>
                  <a:pt x="5978" y="13414"/>
                </a:cubicBezTo>
                <a:cubicBezTo>
                  <a:pt x="6025" y="13375"/>
                  <a:pt x="6071" y="13330"/>
                  <a:pt x="6121" y="13295"/>
                </a:cubicBezTo>
                <a:cubicBezTo>
                  <a:pt x="6130" y="13290"/>
                  <a:pt x="6139" y="13285"/>
                  <a:pt x="6148" y="13280"/>
                </a:cubicBezTo>
                <a:cubicBezTo>
                  <a:pt x="6166" y="13241"/>
                  <a:pt x="6110" y="13311"/>
                  <a:pt x="6096" y="13323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"/>
          <p:cNvSpPr/>
          <p:nvPr/>
        </p:nvSpPr>
        <p:spPr>
          <a:xfrm>
            <a:off x="2127240" y="4842000"/>
            <a:ext cx="88920" cy="79200"/>
          </a:xfrm>
          <a:custGeom>
            <a:avLst/>
            <a:gdLst/>
            <a:ahLst/>
            <a:rect l="l" t="t" r="r" b="b"/>
            <a:pathLst>
              <a:path w="245" h="220">
                <a:moveTo>
                  <a:pt x="5925" y="13448"/>
                </a:moveTo>
                <a:cubicBezTo>
                  <a:pt x="5903" y="13465"/>
                  <a:pt x="5906" y="13475"/>
                  <a:pt x="5930" y="13497"/>
                </a:cubicBezTo>
                <a:cubicBezTo>
                  <a:pt x="5957" y="13523"/>
                  <a:pt x="5996" y="13542"/>
                  <a:pt x="6027" y="13563"/>
                </a:cubicBezTo>
                <a:cubicBezTo>
                  <a:pt x="6067" y="13591"/>
                  <a:pt x="6109" y="13618"/>
                  <a:pt x="6143" y="13653"/>
                </a:cubicBezTo>
                <a:cubicBezTo>
                  <a:pt x="6147" y="13658"/>
                  <a:pt x="6150" y="13662"/>
                  <a:pt x="6154" y="13667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"/>
          <p:cNvSpPr/>
          <p:nvPr/>
        </p:nvSpPr>
        <p:spPr>
          <a:xfrm>
            <a:off x="1905120" y="4863960"/>
            <a:ext cx="241200" cy="408240"/>
          </a:xfrm>
          <a:custGeom>
            <a:avLst/>
            <a:gdLst/>
            <a:ahLst/>
            <a:rect l="l" t="t" r="r" b="b"/>
            <a:pathLst>
              <a:path w="671" h="1134">
                <a:moveTo>
                  <a:pt x="5315" y="13526"/>
                </a:moveTo>
                <a:cubicBezTo>
                  <a:pt x="5303" y="13513"/>
                  <a:pt x="5301" y="13507"/>
                  <a:pt x="5290" y="13516"/>
                </a:cubicBezTo>
                <a:cubicBezTo>
                  <a:pt x="5303" y="13551"/>
                  <a:pt x="5316" y="13586"/>
                  <a:pt x="5332" y="13620"/>
                </a:cubicBezTo>
                <a:cubicBezTo>
                  <a:pt x="5436" y="13838"/>
                  <a:pt x="5567" y="14047"/>
                  <a:pt x="5682" y="14260"/>
                </a:cubicBezTo>
                <a:cubicBezTo>
                  <a:pt x="5735" y="14358"/>
                  <a:pt x="5794" y="14443"/>
                  <a:pt x="5867" y="14527"/>
                </a:cubicBezTo>
                <a:cubicBezTo>
                  <a:pt x="5900" y="14566"/>
                  <a:pt x="5932" y="14602"/>
                  <a:pt x="5960" y="14644"/>
                </a:cubicBezTo>
                <a:cubicBezTo>
                  <a:pt x="5947" y="14635"/>
                  <a:pt x="5933" y="14625"/>
                  <a:pt x="5918" y="14612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"/>
          <p:cNvSpPr/>
          <p:nvPr/>
        </p:nvSpPr>
        <p:spPr>
          <a:xfrm>
            <a:off x="1925640" y="5126040"/>
            <a:ext cx="127080" cy="46080"/>
          </a:xfrm>
          <a:custGeom>
            <a:avLst/>
            <a:gdLst/>
            <a:ahLst/>
            <a:rect l="l" t="t" r="r" b="b"/>
            <a:pathLst>
              <a:path w="351" h="128">
                <a:moveTo>
                  <a:pt x="5698" y="14328"/>
                </a:moveTo>
                <a:cubicBezTo>
                  <a:pt x="5698" y="14344"/>
                  <a:pt x="5699" y="14350"/>
                  <a:pt x="5693" y="14364"/>
                </a:cubicBezTo>
                <a:cubicBezTo>
                  <a:pt x="5671" y="14359"/>
                  <a:pt x="5650" y="14353"/>
                  <a:pt x="5627" y="14346"/>
                </a:cubicBezTo>
                <a:cubicBezTo>
                  <a:pt x="5578" y="14330"/>
                  <a:pt x="5528" y="14317"/>
                  <a:pt x="5478" y="14304"/>
                </a:cubicBezTo>
                <a:cubicBezTo>
                  <a:pt x="5445" y="14295"/>
                  <a:pt x="5382" y="14294"/>
                  <a:pt x="5354" y="14274"/>
                </a:cubicBezTo>
                <a:cubicBezTo>
                  <a:pt x="5352" y="14270"/>
                  <a:pt x="5351" y="14266"/>
                  <a:pt x="5349" y="14262"/>
                </a:cubicBezTo>
                <a:cubicBezTo>
                  <a:pt x="5383" y="14245"/>
                  <a:pt x="5415" y="14241"/>
                  <a:pt x="5453" y="14237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"/>
          <p:cNvSpPr/>
          <p:nvPr/>
        </p:nvSpPr>
        <p:spPr>
          <a:xfrm>
            <a:off x="2025720" y="5068800"/>
            <a:ext cx="66600" cy="85680"/>
          </a:xfrm>
          <a:custGeom>
            <a:avLst/>
            <a:gdLst/>
            <a:ahLst/>
            <a:rect l="l" t="t" r="r" b="b"/>
            <a:pathLst>
              <a:path w="185" h="235">
                <a:moveTo>
                  <a:pt x="5628" y="14316"/>
                </a:moveTo>
                <a:cubicBezTo>
                  <a:pt x="5647" y="14290"/>
                  <a:pt x="5660" y="14261"/>
                  <a:pt x="5679" y="14235"/>
                </a:cubicBezTo>
                <a:cubicBezTo>
                  <a:pt x="5708" y="14196"/>
                  <a:pt x="5741" y="14154"/>
                  <a:pt x="5775" y="14118"/>
                </a:cubicBezTo>
                <a:cubicBezTo>
                  <a:pt x="5795" y="14100"/>
                  <a:pt x="5801" y="14095"/>
                  <a:pt x="5812" y="14082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"/>
          <p:cNvSpPr/>
          <p:nvPr/>
        </p:nvSpPr>
        <p:spPr>
          <a:xfrm>
            <a:off x="1890720" y="5313240"/>
            <a:ext cx="247680" cy="336600"/>
          </a:xfrm>
          <a:custGeom>
            <a:avLst/>
            <a:gdLst/>
            <a:ahLst/>
            <a:rect l="l" t="t" r="r" b="b"/>
            <a:pathLst>
              <a:path w="692" h="937">
                <a:moveTo>
                  <a:pt x="5893" y="14793"/>
                </a:moveTo>
                <a:cubicBezTo>
                  <a:pt x="5908" y="14780"/>
                  <a:pt x="5922" y="14769"/>
                  <a:pt x="5938" y="14758"/>
                </a:cubicBezTo>
                <a:cubicBezTo>
                  <a:pt x="5937" y="14781"/>
                  <a:pt x="5937" y="14794"/>
                  <a:pt x="5928" y="14818"/>
                </a:cubicBezTo>
                <a:cubicBezTo>
                  <a:pt x="5911" y="14866"/>
                  <a:pt x="5887" y="14915"/>
                  <a:pt x="5862" y="14959"/>
                </a:cubicBezTo>
                <a:cubicBezTo>
                  <a:pt x="5820" y="15033"/>
                  <a:pt x="5769" y="15107"/>
                  <a:pt x="5716" y="15174"/>
                </a:cubicBezTo>
                <a:cubicBezTo>
                  <a:pt x="5651" y="15255"/>
                  <a:pt x="5579" y="15332"/>
                  <a:pt x="5510" y="15410"/>
                </a:cubicBezTo>
                <a:cubicBezTo>
                  <a:pt x="5456" y="15472"/>
                  <a:pt x="5401" y="15534"/>
                  <a:pt x="5350" y="15598"/>
                </a:cubicBezTo>
                <a:cubicBezTo>
                  <a:pt x="5330" y="15623"/>
                  <a:pt x="5309" y="15664"/>
                  <a:pt x="5282" y="15682"/>
                </a:cubicBezTo>
                <a:cubicBezTo>
                  <a:pt x="5271" y="15689"/>
                  <a:pt x="5259" y="15689"/>
                  <a:pt x="5250" y="15694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"/>
          <p:cNvSpPr/>
          <p:nvPr/>
        </p:nvSpPr>
        <p:spPr>
          <a:xfrm>
            <a:off x="1928880" y="5440320"/>
            <a:ext cx="28440" cy="93600"/>
          </a:xfrm>
          <a:custGeom>
            <a:avLst/>
            <a:gdLst/>
            <a:ahLst/>
            <a:rect l="l" t="t" r="r" b="b"/>
            <a:pathLst>
              <a:path w="79" h="263">
                <a:moveTo>
                  <a:pt x="5438" y="15367"/>
                </a:moveTo>
                <a:cubicBezTo>
                  <a:pt x="5414" y="15370"/>
                  <a:pt x="5420" y="15360"/>
                  <a:pt x="5414" y="15337"/>
                </a:cubicBezTo>
                <a:cubicBezTo>
                  <a:pt x="5406" y="15307"/>
                  <a:pt x="5400" y="15277"/>
                  <a:pt x="5393" y="15247"/>
                </a:cubicBezTo>
                <a:cubicBezTo>
                  <a:pt x="5385" y="15212"/>
                  <a:pt x="5377" y="15176"/>
                  <a:pt x="5368" y="15141"/>
                </a:cubicBezTo>
                <a:cubicBezTo>
                  <a:pt x="5363" y="15125"/>
                  <a:pt x="5362" y="15121"/>
                  <a:pt x="5360" y="15110"/>
                </a:cubicBezTo>
                <a:cubicBezTo>
                  <a:pt x="5375" y="15147"/>
                  <a:pt x="5386" y="15181"/>
                  <a:pt x="5396" y="15220"/>
                </a:cubicBezTo>
                <a:cubicBezTo>
                  <a:pt x="5407" y="15260"/>
                  <a:pt x="5411" y="15273"/>
                  <a:pt x="5415" y="15300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"/>
          <p:cNvSpPr/>
          <p:nvPr/>
        </p:nvSpPr>
        <p:spPr>
          <a:xfrm>
            <a:off x="1963800" y="5537160"/>
            <a:ext cx="95040" cy="30240"/>
          </a:xfrm>
          <a:custGeom>
            <a:avLst/>
            <a:gdLst/>
            <a:ahLst/>
            <a:rect l="l" t="t" r="r" b="b"/>
            <a:pathLst>
              <a:path w="263" h="85">
                <a:moveTo>
                  <a:pt x="5456" y="15463"/>
                </a:moveTo>
                <a:cubicBezTo>
                  <a:pt x="5485" y="15458"/>
                  <a:pt x="5515" y="15446"/>
                  <a:pt x="5540" y="15430"/>
                </a:cubicBezTo>
                <a:cubicBezTo>
                  <a:pt x="5574" y="15408"/>
                  <a:pt x="5610" y="15387"/>
                  <a:pt x="5651" y="15380"/>
                </a:cubicBezTo>
                <a:cubicBezTo>
                  <a:pt x="5676" y="15376"/>
                  <a:pt x="5697" y="15382"/>
                  <a:pt x="5718" y="15393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"/>
          <p:cNvSpPr/>
          <p:nvPr/>
        </p:nvSpPr>
        <p:spPr>
          <a:xfrm>
            <a:off x="1903320" y="5697360"/>
            <a:ext cx="568440" cy="39960"/>
          </a:xfrm>
          <a:custGeom>
            <a:avLst/>
            <a:gdLst/>
            <a:ahLst/>
            <a:rect l="l" t="t" r="r" b="b"/>
            <a:pathLst>
              <a:path w="1575" h="112">
                <a:moveTo>
                  <a:pt x="5289" y="15825"/>
                </a:moveTo>
                <a:cubicBezTo>
                  <a:pt x="5294" y="15826"/>
                  <a:pt x="5307" y="15832"/>
                  <a:pt x="5323" y="15833"/>
                </a:cubicBezTo>
                <a:cubicBezTo>
                  <a:pt x="5359" y="15835"/>
                  <a:pt x="5395" y="15837"/>
                  <a:pt x="5431" y="15840"/>
                </a:cubicBezTo>
                <a:cubicBezTo>
                  <a:pt x="5490" y="15845"/>
                  <a:pt x="5548" y="15846"/>
                  <a:pt x="5607" y="15849"/>
                </a:cubicBezTo>
                <a:cubicBezTo>
                  <a:pt x="5727" y="15854"/>
                  <a:pt x="5846" y="15849"/>
                  <a:pt x="5966" y="15851"/>
                </a:cubicBezTo>
                <a:cubicBezTo>
                  <a:pt x="6148" y="15853"/>
                  <a:pt x="6322" y="15876"/>
                  <a:pt x="6500" y="15908"/>
                </a:cubicBezTo>
                <a:cubicBezTo>
                  <a:pt x="6600" y="15926"/>
                  <a:pt x="6741" y="15962"/>
                  <a:pt x="6841" y="15926"/>
                </a:cubicBezTo>
                <a:cubicBezTo>
                  <a:pt x="6877" y="15913"/>
                  <a:pt x="6853" y="15909"/>
                  <a:pt x="6848" y="15890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"/>
          <p:cNvSpPr/>
          <p:nvPr/>
        </p:nvSpPr>
        <p:spPr>
          <a:xfrm>
            <a:off x="2205000" y="5651640"/>
            <a:ext cx="68400" cy="126720"/>
          </a:xfrm>
          <a:custGeom>
            <a:avLst/>
            <a:gdLst/>
            <a:ahLst/>
            <a:rect l="l" t="t" r="r" b="b"/>
            <a:pathLst>
              <a:path w="190" h="356">
                <a:moveTo>
                  <a:pt x="6140" y="15862"/>
                </a:moveTo>
                <a:cubicBezTo>
                  <a:pt x="6146" y="15845"/>
                  <a:pt x="6152" y="15827"/>
                  <a:pt x="6162" y="15812"/>
                </a:cubicBezTo>
                <a:cubicBezTo>
                  <a:pt x="6175" y="15793"/>
                  <a:pt x="6187" y="15776"/>
                  <a:pt x="6199" y="15756"/>
                </a:cubicBezTo>
                <a:cubicBezTo>
                  <a:pt x="6207" y="15743"/>
                  <a:pt x="6215" y="15718"/>
                  <a:pt x="6201" y="15706"/>
                </a:cubicBezTo>
                <a:cubicBezTo>
                  <a:pt x="6187" y="15694"/>
                  <a:pt x="6160" y="15695"/>
                  <a:pt x="6144" y="15701"/>
                </a:cubicBezTo>
                <a:cubicBezTo>
                  <a:pt x="6118" y="15711"/>
                  <a:pt x="6120" y="15732"/>
                  <a:pt x="6137" y="15748"/>
                </a:cubicBezTo>
                <a:cubicBezTo>
                  <a:pt x="6165" y="15775"/>
                  <a:pt x="6203" y="15787"/>
                  <a:pt x="6236" y="15806"/>
                </a:cubicBezTo>
                <a:cubicBezTo>
                  <a:pt x="6258" y="15819"/>
                  <a:pt x="6280" y="15834"/>
                  <a:pt x="6292" y="15857"/>
                </a:cubicBezTo>
                <a:cubicBezTo>
                  <a:pt x="6304" y="15879"/>
                  <a:pt x="6308" y="15909"/>
                  <a:pt x="6311" y="15933"/>
                </a:cubicBezTo>
                <a:cubicBezTo>
                  <a:pt x="6314" y="15957"/>
                  <a:pt x="6311" y="15988"/>
                  <a:pt x="6297" y="16008"/>
                </a:cubicBezTo>
                <a:cubicBezTo>
                  <a:pt x="6280" y="16032"/>
                  <a:pt x="6252" y="16038"/>
                  <a:pt x="6226" y="16046"/>
                </a:cubicBezTo>
                <a:cubicBezTo>
                  <a:pt x="6200" y="16054"/>
                  <a:pt x="6169" y="16055"/>
                  <a:pt x="6142" y="16051"/>
                </a:cubicBezTo>
                <a:cubicBezTo>
                  <a:pt x="6137" y="16050"/>
                  <a:pt x="6131" y="16048"/>
                  <a:pt x="6126" y="16047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"/>
          <p:cNvSpPr/>
          <p:nvPr/>
        </p:nvSpPr>
        <p:spPr>
          <a:xfrm>
            <a:off x="2351160" y="5767560"/>
            <a:ext cx="71280" cy="82440"/>
          </a:xfrm>
          <a:custGeom>
            <a:avLst/>
            <a:gdLst/>
            <a:ahLst/>
            <a:rect l="l" t="t" r="r" b="b"/>
            <a:pathLst>
              <a:path w="199" h="228">
                <a:moveTo>
                  <a:pt x="6596" y="16050"/>
                </a:moveTo>
                <a:cubicBezTo>
                  <a:pt x="6593" y="16050"/>
                  <a:pt x="6589" y="16051"/>
                  <a:pt x="6586" y="16051"/>
                </a:cubicBezTo>
                <a:cubicBezTo>
                  <a:pt x="6604" y="16062"/>
                  <a:pt x="6616" y="16059"/>
                  <a:pt x="6638" y="16058"/>
                </a:cubicBezTo>
                <a:cubicBezTo>
                  <a:pt x="6662" y="16057"/>
                  <a:pt x="6685" y="16053"/>
                  <a:pt x="6708" y="16045"/>
                </a:cubicBezTo>
                <a:cubicBezTo>
                  <a:pt x="6720" y="16040"/>
                  <a:pt x="6724" y="16038"/>
                  <a:pt x="6727" y="16028"/>
                </a:cubicBezTo>
                <a:cubicBezTo>
                  <a:pt x="6703" y="16020"/>
                  <a:pt x="6686" y="16022"/>
                  <a:pt x="6661" y="16029"/>
                </a:cubicBezTo>
                <a:cubicBezTo>
                  <a:pt x="6619" y="16041"/>
                  <a:pt x="6570" y="16062"/>
                  <a:pt x="6540" y="16096"/>
                </a:cubicBezTo>
                <a:cubicBezTo>
                  <a:pt x="6525" y="16112"/>
                  <a:pt x="6527" y="16123"/>
                  <a:pt x="6542" y="16137"/>
                </a:cubicBezTo>
                <a:cubicBezTo>
                  <a:pt x="6563" y="16157"/>
                  <a:pt x="6588" y="16170"/>
                  <a:pt x="6611" y="16188"/>
                </a:cubicBezTo>
                <a:cubicBezTo>
                  <a:pt x="6634" y="16206"/>
                  <a:pt x="6652" y="16226"/>
                  <a:pt x="6670" y="16249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"/>
          <p:cNvSpPr/>
          <p:nvPr/>
        </p:nvSpPr>
        <p:spPr>
          <a:xfrm>
            <a:off x="2602080" y="4718160"/>
            <a:ext cx="52200" cy="68040"/>
          </a:xfrm>
          <a:custGeom>
            <a:avLst/>
            <a:gdLst/>
            <a:ahLst/>
            <a:rect l="l" t="t" r="r" b="b"/>
            <a:pathLst>
              <a:path w="146" h="190">
                <a:moveTo>
                  <a:pt x="7359" y="13133"/>
                </a:moveTo>
                <a:cubicBezTo>
                  <a:pt x="7371" y="13124"/>
                  <a:pt x="7369" y="13123"/>
                  <a:pt x="7372" y="13107"/>
                </a:cubicBezTo>
                <a:cubicBezTo>
                  <a:pt x="7364" y="13123"/>
                  <a:pt x="7356" y="13140"/>
                  <a:pt x="7347" y="13155"/>
                </a:cubicBezTo>
                <a:cubicBezTo>
                  <a:pt x="7339" y="13168"/>
                  <a:pt x="7329" y="13184"/>
                  <a:pt x="7318" y="13195"/>
                </a:cubicBezTo>
                <a:cubicBezTo>
                  <a:pt x="7304" y="13211"/>
                  <a:pt x="7288" y="13224"/>
                  <a:pt x="7274" y="13240"/>
                </a:cubicBezTo>
                <a:cubicBezTo>
                  <a:pt x="7265" y="13251"/>
                  <a:pt x="7249" y="13293"/>
                  <a:pt x="7236" y="13296"/>
                </a:cubicBezTo>
                <a:cubicBezTo>
                  <a:pt x="7233" y="13295"/>
                  <a:pt x="7230" y="13293"/>
                  <a:pt x="7227" y="13292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"/>
          <p:cNvSpPr/>
          <p:nvPr/>
        </p:nvSpPr>
        <p:spPr>
          <a:xfrm>
            <a:off x="2592360" y="4767120"/>
            <a:ext cx="41400" cy="44640"/>
          </a:xfrm>
          <a:custGeom>
            <a:avLst/>
            <a:gdLst/>
            <a:ahLst/>
            <a:rect l="l" t="t" r="r" b="b"/>
            <a:pathLst>
              <a:path w="113" h="125">
                <a:moveTo>
                  <a:pt x="7216" y="13313"/>
                </a:moveTo>
                <a:cubicBezTo>
                  <a:pt x="7211" y="13315"/>
                  <a:pt x="7207" y="13317"/>
                  <a:pt x="7202" y="13319"/>
                </a:cubicBezTo>
                <a:cubicBezTo>
                  <a:pt x="7202" y="13304"/>
                  <a:pt x="7205" y="13290"/>
                  <a:pt x="7208" y="13275"/>
                </a:cubicBezTo>
                <a:cubicBezTo>
                  <a:pt x="7210" y="13264"/>
                  <a:pt x="7213" y="13254"/>
                  <a:pt x="7214" y="13243"/>
                </a:cubicBezTo>
                <a:cubicBezTo>
                  <a:pt x="7215" y="13266"/>
                  <a:pt x="7212" y="13287"/>
                  <a:pt x="7210" y="13310"/>
                </a:cubicBezTo>
                <a:cubicBezTo>
                  <a:pt x="7208" y="13332"/>
                  <a:pt x="7203" y="13347"/>
                  <a:pt x="7211" y="13367"/>
                </a:cubicBezTo>
                <a:cubicBezTo>
                  <a:pt x="7226" y="13361"/>
                  <a:pt x="7248" y="13346"/>
                  <a:pt x="7263" y="13343"/>
                </a:cubicBezTo>
                <a:cubicBezTo>
                  <a:pt x="7281" y="13340"/>
                  <a:pt x="7297" y="13341"/>
                  <a:pt x="7314" y="13343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"/>
          <p:cNvSpPr/>
          <p:nvPr/>
        </p:nvSpPr>
        <p:spPr>
          <a:xfrm>
            <a:off x="2593800" y="4871880"/>
            <a:ext cx="544680" cy="43200"/>
          </a:xfrm>
          <a:custGeom>
            <a:avLst/>
            <a:gdLst/>
            <a:ahLst/>
            <a:rect l="l" t="t" r="r" b="b"/>
            <a:pathLst>
              <a:path w="1512" h="117">
                <a:moveTo>
                  <a:pt x="7297" y="13537"/>
                </a:moveTo>
                <a:cubicBezTo>
                  <a:pt x="7271" y="13543"/>
                  <a:pt x="7255" y="13546"/>
                  <a:pt x="7229" y="13561"/>
                </a:cubicBezTo>
                <a:cubicBezTo>
                  <a:pt x="7216" y="13569"/>
                  <a:pt x="7213" y="13572"/>
                  <a:pt x="7204" y="13576"/>
                </a:cubicBezTo>
                <a:cubicBezTo>
                  <a:pt x="7245" y="13574"/>
                  <a:pt x="7285" y="13578"/>
                  <a:pt x="7326" y="13579"/>
                </a:cubicBezTo>
                <a:cubicBezTo>
                  <a:pt x="7515" y="13586"/>
                  <a:pt x="7704" y="13555"/>
                  <a:pt x="7892" y="13572"/>
                </a:cubicBezTo>
                <a:cubicBezTo>
                  <a:pt x="7977" y="13580"/>
                  <a:pt x="8063" y="13592"/>
                  <a:pt x="8148" y="13603"/>
                </a:cubicBezTo>
                <a:cubicBezTo>
                  <a:pt x="8277" y="13620"/>
                  <a:pt x="8406" y="13645"/>
                  <a:pt x="8536" y="13649"/>
                </a:cubicBezTo>
                <a:cubicBezTo>
                  <a:pt x="8571" y="13650"/>
                  <a:pt x="8606" y="13649"/>
                  <a:pt x="8641" y="13648"/>
                </a:cubicBezTo>
                <a:cubicBezTo>
                  <a:pt x="8666" y="13647"/>
                  <a:pt x="8690" y="13647"/>
                  <a:pt x="8715" y="13647"/>
                </a:cubicBezTo>
                <a:cubicBezTo>
                  <a:pt x="8690" y="13628"/>
                  <a:pt x="8680" y="13617"/>
                  <a:pt x="8644" y="13608"/>
                </a:cubicBezTo>
                <a:cubicBezTo>
                  <a:pt x="8632" y="13606"/>
                  <a:pt x="8621" y="13604"/>
                  <a:pt x="8609" y="13602"/>
                </a:cubicBezTo>
              </a:path>
            </a:pathLst>
          </a:custGeom>
          <a:noFill/>
          <a:ln cap="rnd" w="1908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"/>
          <p:cNvSpPr/>
          <p:nvPr/>
        </p:nvSpPr>
        <p:spPr>
          <a:xfrm>
            <a:off x="2897280" y="4827600"/>
            <a:ext cx="50760" cy="152280"/>
          </a:xfrm>
          <a:custGeom>
            <a:avLst/>
            <a:gdLst/>
            <a:ahLst/>
            <a:rect l="l" t="t" r="r" b="b"/>
            <a:pathLst>
              <a:path w="140" h="424">
                <a:moveTo>
                  <a:pt x="8093" y="13713"/>
                </a:moveTo>
                <a:cubicBezTo>
                  <a:pt x="8098" y="13693"/>
                  <a:pt x="8104" y="13669"/>
                  <a:pt x="8105" y="13650"/>
                </a:cubicBezTo>
                <a:cubicBezTo>
                  <a:pt x="8107" y="13618"/>
                  <a:pt x="8108" y="13587"/>
                  <a:pt x="8113" y="13555"/>
                </a:cubicBezTo>
                <a:cubicBezTo>
                  <a:pt x="8117" y="13525"/>
                  <a:pt x="8126" y="13493"/>
                  <a:pt x="8122" y="13463"/>
                </a:cubicBezTo>
                <a:cubicBezTo>
                  <a:pt x="8119" y="13440"/>
                  <a:pt x="8111" y="13425"/>
                  <a:pt x="8097" y="13408"/>
                </a:cubicBezTo>
                <a:cubicBezTo>
                  <a:pt x="8105" y="13440"/>
                  <a:pt x="8124" y="13459"/>
                  <a:pt x="8141" y="13488"/>
                </a:cubicBezTo>
                <a:cubicBezTo>
                  <a:pt x="8171" y="13539"/>
                  <a:pt x="8192" y="13602"/>
                  <a:pt x="8185" y="13661"/>
                </a:cubicBezTo>
                <a:cubicBezTo>
                  <a:pt x="8179" y="13709"/>
                  <a:pt x="8147" y="13765"/>
                  <a:pt x="8109" y="13795"/>
                </a:cubicBezTo>
                <a:cubicBezTo>
                  <a:pt x="8090" y="13810"/>
                  <a:pt x="8069" y="13820"/>
                  <a:pt x="8048" y="13831"/>
                </a:cubicBezTo>
              </a:path>
            </a:pathLst>
          </a:custGeom>
          <a:noFill/>
          <a:ln cap="rnd" w="1908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"/>
          <p:cNvSpPr/>
          <p:nvPr/>
        </p:nvSpPr>
        <p:spPr>
          <a:xfrm>
            <a:off x="2608200" y="4970520"/>
            <a:ext cx="528840" cy="606240"/>
          </a:xfrm>
          <a:custGeom>
            <a:avLst/>
            <a:gdLst/>
            <a:ahLst/>
            <a:rect l="l" t="t" r="r" b="b"/>
            <a:pathLst>
              <a:path w="1468" h="1685">
                <a:moveTo>
                  <a:pt x="8689" y="13840"/>
                </a:moveTo>
                <a:cubicBezTo>
                  <a:pt x="8700" y="13828"/>
                  <a:pt x="8704" y="13820"/>
                  <a:pt x="8714" y="13806"/>
                </a:cubicBezTo>
                <a:cubicBezTo>
                  <a:pt x="8661" y="13863"/>
                  <a:pt x="8613" y="13922"/>
                  <a:pt x="8563" y="13983"/>
                </a:cubicBezTo>
                <a:cubicBezTo>
                  <a:pt x="8392" y="14192"/>
                  <a:pt x="8242" y="14405"/>
                  <a:pt x="8041" y="14587"/>
                </a:cubicBezTo>
                <a:cubicBezTo>
                  <a:pt x="7936" y="14682"/>
                  <a:pt x="7826" y="14771"/>
                  <a:pt x="7731" y="14876"/>
                </a:cubicBezTo>
                <a:cubicBezTo>
                  <a:pt x="7632" y="14985"/>
                  <a:pt x="7552" y="15105"/>
                  <a:pt x="7467" y="15225"/>
                </a:cubicBezTo>
                <a:cubicBezTo>
                  <a:pt x="7423" y="15288"/>
                  <a:pt x="7378" y="15348"/>
                  <a:pt x="7326" y="15405"/>
                </a:cubicBezTo>
                <a:cubicBezTo>
                  <a:pt x="7300" y="15433"/>
                  <a:pt x="7276" y="15461"/>
                  <a:pt x="7252" y="15490"/>
                </a:cubicBezTo>
                <a:cubicBezTo>
                  <a:pt x="7256" y="15465"/>
                  <a:pt x="7261" y="15438"/>
                  <a:pt x="7269" y="15410"/>
                </a:cubicBezTo>
              </a:path>
            </a:pathLst>
          </a:custGeom>
          <a:noFill/>
          <a:ln cap="rnd" w="1908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"/>
          <p:cNvSpPr/>
          <p:nvPr/>
        </p:nvSpPr>
        <p:spPr>
          <a:xfrm>
            <a:off x="2673360" y="5400720"/>
            <a:ext cx="90360" cy="112680"/>
          </a:xfrm>
          <a:custGeom>
            <a:avLst/>
            <a:gdLst/>
            <a:ahLst/>
            <a:rect l="l" t="t" r="r" b="b"/>
            <a:pathLst>
              <a:path w="251" h="310">
                <a:moveTo>
                  <a:pt x="7492" y="15239"/>
                </a:moveTo>
                <a:cubicBezTo>
                  <a:pt x="7480" y="15219"/>
                  <a:pt x="7463" y="15206"/>
                  <a:pt x="7453" y="15182"/>
                </a:cubicBezTo>
                <a:cubicBezTo>
                  <a:pt x="7442" y="15157"/>
                  <a:pt x="7441" y="15129"/>
                  <a:pt x="7444" y="15103"/>
                </a:cubicBezTo>
                <a:cubicBezTo>
                  <a:pt x="7447" y="15072"/>
                  <a:pt x="7456" y="15043"/>
                  <a:pt x="7468" y="15015"/>
                </a:cubicBezTo>
                <a:cubicBezTo>
                  <a:pt x="7470" y="15011"/>
                  <a:pt x="7471" y="15008"/>
                  <a:pt x="7473" y="15004"/>
                </a:cubicBezTo>
                <a:cubicBezTo>
                  <a:pt x="7478" y="15041"/>
                  <a:pt x="7468" y="15072"/>
                  <a:pt x="7459" y="15110"/>
                </a:cubicBezTo>
                <a:cubicBezTo>
                  <a:pt x="7448" y="15156"/>
                  <a:pt x="7432" y="15201"/>
                  <a:pt x="7427" y="15248"/>
                </a:cubicBezTo>
                <a:cubicBezTo>
                  <a:pt x="7424" y="15274"/>
                  <a:pt x="7429" y="15307"/>
                  <a:pt x="7460" y="15313"/>
                </a:cubicBezTo>
                <a:cubicBezTo>
                  <a:pt x="7515" y="15323"/>
                  <a:pt x="7565" y="15284"/>
                  <a:pt x="7612" y="15266"/>
                </a:cubicBezTo>
                <a:cubicBezTo>
                  <a:pt x="7634" y="15257"/>
                  <a:pt x="7654" y="15250"/>
                  <a:pt x="7676" y="15241"/>
                </a:cubicBezTo>
              </a:path>
            </a:pathLst>
          </a:custGeom>
          <a:noFill/>
          <a:ln cap="rnd" w="1908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"/>
          <p:cNvSpPr/>
          <p:nvPr/>
        </p:nvSpPr>
        <p:spPr>
          <a:xfrm>
            <a:off x="2241720" y="5354640"/>
            <a:ext cx="183960" cy="260280"/>
          </a:xfrm>
          <a:custGeom>
            <a:avLst/>
            <a:gdLst/>
            <a:ahLst/>
            <a:rect l="l" t="t" r="r" b="b"/>
            <a:pathLst>
              <a:path w="513" h="721">
                <a:moveTo>
                  <a:pt x="6273" y="14875"/>
                </a:moveTo>
                <a:cubicBezTo>
                  <a:pt x="6245" y="14882"/>
                  <a:pt x="6228" y="14888"/>
                  <a:pt x="6227" y="14923"/>
                </a:cubicBezTo>
                <a:cubicBezTo>
                  <a:pt x="6226" y="14946"/>
                  <a:pt x="6247" y="14983"/>
                  <a:pt x="6257" y="15002"/>
                </a:cubicBezTo>
                <a:cubicBezTo>
                  <a:pt x="6281" y="15048"/>
                  <a:pt x="6308" y="15095"/>
                  <a:pt x="6335" y="15139"/>
                </a:cubicBezTo>
                <a:cubicBezTo>
                  <a:pt x="6414" y="15266"/>
                  <a:pt x="6510" y="15382"/>
                  <a:pt x="6616" y="15487"/>
                </a:cubicBezTo>
                <a:cubicBezTo>
                  <a:pt x="6652" y="15523"/>
                  <a:pt x="6690" y="15555"/>
                  <a:pt x="6729" y="15587"/>
                </a:cubicBezTo>
                <a:cubicBezTo>
                  <a:pt x="6757" y="15610"/>
                  <a:pt x="6717" y="15558"/>
                  <a:pt x="6714" y="15554"/>
                </a:cubicBezTo>
              </a:path>
            </a:pathLst>
          </a:custGeom>
          <a:noFill/>
          <a:ln cap="rnd" w="1908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"/>
          <p:cNvSpPr/>
          <p:nvPr/>
        </p:nvSpPr>
        <p:spPr>
          <a:xfrm>
            <a:off x="2263680" y="5440320"/>
            <a:ext cx="36720" cy="115920"/>
          </a:xfrm>
          <a:custGeom>
            <a:avLst/>
            <a:gdLst/>
            <a:ahLst/>
            <a:rect l="l" t="t" r="r" b="b"/>
            <a:pathLst>
              <a:path w="98" h="324">
                <a:moveTo>
                  <a:pt x="6387" y="15110"/>
                </a:moveTo>
                <a:cubicBezTo>
                  <a:pt x="6380" y="15143"/>
                  <a:pt x="6371" y="15175"/>
                  <a:pt x="6364" y="15208"/>
                </a:cubicBezTo>
                <a:cubicBezTo>
                  <a:pt x="6353" y="15255"/>
                  <a:pt x="6338" y="15300"/>
                  <a:pt x="6322" y="15346"/>
                </a:cubicBezTo>
                <a:cubicBezTo>
                  <a:pt x="6312" y="15375"/>
                  <a:pt x="6298" y="15403"/>
                  <a:pt x="6292" y="15433"/>
                </a:cubicBezTo>
                <a:cubicBezTo>
                  <a:pt x="6290" y="15415"/>
                  <a:pt x="6292" y="15407"/>
                  <a:pt x="6296" y="15389"/>
                </a:cubicBezTo>
              </a:path>
            </a:pathLst>
          </a:custGeom>
          <a:noFill/>
          <a:ln cap="rnd" w="1908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"/>
          <p:cNvSpPr/>
          <p:nvPr/>
        </p:nvSpPr>
        <p:spPr>
          <a:xfrm>
            <a:off x="2290680" y="5456160"/>
            <a:ext cx="100080" cy="12600"/>
          </a:xfrm>
          <a:custGeom>
            <a:avLst/>
            <a:gdLst/>
            <a:ahLst/>
            <a:rect l="l" t="t" r="r" b="b"/>
            <a:pathLst>
              <a:path w="276" h="35">
                <a:moveTo>
                  <a:pt x="6364" y="15190"/>
                </a:moveTo>
                <a:cubicBezTo>
                  <a:pt x="6413" y="15182"/>
                  <a:pt x="6462" y="15177"/>
                  <a:pt x="6511" y="15172"/>
                </a:cubicBezTo>
                <a:cubicBezTo>
                  <a:pt x="6549" y="15168"/>
                  <a:pt x="6590" y="15171"/>
                  <a:pt x="6627" y="15162"/>
                </a:cubicBezTo>
                <a:cubicBezTo>
                  <a:pt x="6631" y="15160"/>
                  <a:pt x="6635" y="15158"/>
                  <a:pt x="6639" y="15156"/>
                </a:cubicBezTo>
              </a:path>
            </a:pathLst>
          </a:custGeom>
          <a:noFill/>
          <a:ln cap="rnd" w="1908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"/>
          <p:cNvSpPr/>
          <p:nvPr/>
        </p:nvSpPr>
        <p:spPr>
          <a:xfrm>
            <a:off x="2179800" y="5021280"/>
            <a:ext cx="306360" cy="252360"/>
          </a:xfrm>
          <a:custGeom>
            <a:avLst/>
            <a:gdLst/>
            <a:ahLst/>
            <a:rect l="l" t="t" r="r" b="b"/>
            <a:pathLst>
              <a:path w="853" h="698">
                <a:moveTo>
                  <a:pt x="6137" y="14580"/>
                </a:moveTo>
                <a:cubicBezTo>
                  <a:pt x="6122" y="14590"/>
                  <a:pt x="6106" y="14599"/>
                  <a:pt x="6090" y="14611"/>
                </a:cubicBezTo>
                <a:cubicBezTo>
                  <a:pt x="6075" y="14622"/>
                  <a:pt x="6065" y="14635"/>
                  <a:pt x="6054" y="14647"/>
                </a:cubicBezTo>
                <a:cubicBezTo>
                  <a:pt x="6074" y="14625"/>
                  <a:pt x="6095" y="14605"/>
                  <a:pt x="6118" y="14585"/>
                </a:cubicBezTo>
                <a:cubicBezTo>
                  <a:pt x="6178" y="14535"/>
                  <a:pt x="6235" y="14481"/>
                  <a:pt x="6294" y="14431"/>
                </a:cubicBezTo>
                <a:cubicBezTo>
                  <a:pt x="6368" y="14368"/>
                  <a:pt x="6440" y="14302"/>
                  <a:pt x="6514" y="14238"/>
                </a:cubicBezTo>
                <a:cubicBezTo>
                  <a:pt x="6623" y="14144"/>
                  <a:pt x="6743" y="14079"/>
                  <a:pt x="6860" y="13997"/>
                </a:cubicBezTo>
                <a:cubicBezTo>
                  <a:pt x="6880" y="13983"/>
                  <a:pt x="6892" y="13966"/>
                  <a:pt x="6906" y="13950"/>
                </a:cubicBezTo>
                <a:cubicBezTo>
                  <a:pt x="6884" y="13960"/>
                  <a:pt x="6862" y="13970"/>
                  <a:pt x="6839" y="13980"/>
                </a:cubicBezTo>
              </a:path>
            </a:pathLst>
          </a:custGeom>
          <a:noFill/>
          <a:ln cap="rnd" w="1908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"/>
          <p:cNvSpPr/>
          <p:nvPr/>
        </p:nvSpPr>
        <p:spPr>
          <a:xfrm>
            <a:off x="2260440" y="5086440"/>
            <a:ext cx="144720" cy="125280"/>
          </a:xfrm>
          <a:custGeom>
            <a:avLst/>
            <a:gdLst/>
            <a:ahLst/>
            <a:rect l="l" t="t" r="r" b="b"/>
            <a:pathLst>
              <a:path w="400" h="351">
                <a:moveTo>
                  <a:pt x="6679" y="14127"/>
                </a:moveTo>
                <a:cubicBezTo>
                  <a:pt x="6659" y="14133"/>
                  <a:pt x="6638" y="14138"/>
                  <a:pt x="6618" y="14146"/>
                </a:cubicBezTo>
                <a:cubicBezTo>
                  <a:pt x="6563" y="14168"/>
                  <a:pt x="6507" y="14186"/>
                  <a:pt x="6449" y="14202"/>
                </a:cubicBezTo>
                <a:cubicBezTo>
                  <a:pt x="6401" y="14215"/>
                  <a:pt x="6345" y="14234"/>
                  <a:pt x="6294" y="14231"/>
                </a:cubicBezTo>
                <a:cubicBezTo>
                  <a:pt x="6289" y="14230"/>
                  <a:pt x="6285" y="14228"/>
                  <a:pt x="6280" y="14227"/>
                </a:cubicBezTo>
                <a:cubicBezTo>
                  <a:pt x="6307" y="14193"/>
                  <a:pt x="6336" y="14183"/>
                  <a:pt x="6378" y="14169"/>
                </a:cubicBezTo>
                <a:cubicBezTo>
                  <a:pt x="6413" y="14157"/>
                  <a:pt x="6463" y="14139"/>
                  <a:pt x="6500" y="14156"/>
                </a:cubicBezTo>
                <a:cubicBezTo>
                  <a:pt x="6540" y="14175"/>
                  <a:pt x="6536" y="14227"/>
                  <a:pt x="6539" y="14264"/>
                </a:cubicBezTo>
                <a:cubicBezTo>
                  <a:pt x="6543" y="14318"/>
                  <a:pt x="6542" y="14371"/>
                  <a:pt x="6556" y="14424"/>
                </a:cubicBezTo>
                <a:cubicBezTo>
                  <a:pt x="6566" y="14462"/>
                  <a:pt x="6581" y="14473"/>
                  <a:pt x="6618" y="14476"/>
                </a:cubicBezTo>
              </a:path>
            </a:pathLst>
          </a:custGeom>
          <a:noFill/>
          <a:ln cap="rnd" w="1908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995560" y="76320"/>
            <a:ext cx="31770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0000"/>
                </a:solidFill>
                <a:latin typeface="Arial"/>
              </a:rPr>
              <a:t>Basic Logic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43960" y="914400"/>
            <a:ext cx="5718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ic boolean logi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ditional, converse, contrapositive, inve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utology, contradiction, conting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 will be given a list of logical equivale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 problem: Show that (p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)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) is a taut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406520" y="4405320"/>
            <a:ext cx="206280" cy="117360"/>
          </a:xfrm>
          <a:custGeom>
            <a:avLst/>
            <a:gdLst/>
            <a:ahLst/>
            <a:rect l="l" t="t" r="r" b="b"/>
            <a:pathLst>
              <a:path w="574" h="328">
                <a:moveTo>
                  <a:pt x="3906" y="12563"/>
                </a:moveTo>
                <a:lnTo>
                  <a:pt x="3906" y="12563"/>
                </a:lnTo>
              </a:path>
              <a:path w="574" h="328">
                <a:moveTo>
                  <a:pt x="4479" y="12236"/>
                </a:moveTo>
                <a:lnTo>
                  <a:pt x="4479" y="12236"/>
                </a:ln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73080" y="1397160"/>
            <a:ext cx="546120" cy="352440"/>
          </a:xfrm>
          <a:custGeom>
            <a:avLst/>
            <a:gdLst/>
            <a:ahLst/>
            <a:rect l="l" t="t" r="r" b="b"/>
            <a:pathLst>
              <a:path w="1518" h="979">
                <a:moveTo>
                  <a:pt x="2715" y="4146"/>
                </a:moveTo>
                <a:cubicBezTo>
                  <a:pt x="2707" y="4134"/>
                  <a:pt x="2701" y="4110"/>
                  <a:pt x="2705" y="4142"/>
                </a:cubicBezTo>
                <a:cubicBezTo>
                  <a:pt x="2712" y="4194"/>
                  <a:pt x="2715" y="4247"/>
                  <a:pt x="2721" y="4300"/>
                </a:cubicBezTo>
                <a:cubicBezTo>
                  <a:pt x="2731" y="4391"/>
                  <a:pt x="2744" y="4481"/>
                  <a:pt x="2758" y="4571"/>
                </a:cubicBezTo>
                <a:cubicBezTo>
                  <a:pt x="2767" y="4631"/>
                  <a:pt x="2775" y="4699"/>
                  <a:pt x="2793" y="4757"/>
                </a:cubicBezTo>
                <a:cubicBezTo>
                  <a:pt x="2796" y="4764"/>
                  <a:pt x="2800" y="4770"/>
                  <a:pt x="2803" y="4777"/>
                </a:cubicBezTo>
                <a:cubicBezTo>
                  <a:pt x="2801" y="4739"/>
                  <a:pt x="2794" y="4702"/>
                  <a:pt x="2790" y="4664"/>
                </a:cubicBezTo>
                <a:cubicBezTo>
                  <a:pt x="2781" y="4566"/>
                  <a:pt x="2773" y="4469"/>
                  <a:pt x="2777" y="4370"/>
                </a:cubicBezTo>
                <a:cubicBezTo>
                  <a:pt x="2782" y="4249"/>
                  <a:pt x="2793" y="4117"/>
                  <a:pt x="2836" y="4003"/>
                </a:cubicBezTo>
                <a:cubicBezTo>
                  <a:pt x="2851" y="3964"/>
                  <a:pt x="2863" y="3952"/>
                  <a:pt x="2895" y="3931"/>
                </a:cubicBezTo>
                <a:cubicBezTo>
                  <a:pt x="2933" y="3946"/>
                  <a:pt x="2953" y="3974"/>
                  <a:pt x="2969" y="4014"/>
                </a:cubicBezTo>
                <a:cubicBezTo>
                  <a:pt x="3004" y="4102"/>
                  <a:pt x="3002" y="4223"/>
                  <a:pt x="2943" y="4301"/>
                </a:cubicBezTo>
                <a:cubicBezTo>
                  <a:pt x="2911" y="4343"/>
                  <a:pt x="2863" y="4373"/>
                  <a:pt x="2809" y="4366"/>
                </a:cubicBezTo>
                <a:cubicBezTo>
                  <a:pt x="2765" y="4360"/>
                  <a:pt x="2738" y="4327"/>
                  <a:pt x="2735" y="4284"/>
                </a:cubicBezTo>
                <a:cubicBezTo>
                  <a:pt x="2736" y="4275"/>
                  <a:pt x="2737" y="4267"/>
                  <a:pt x="2738" y="4258"/>
                </a:cubicBezTo>
              </a:path>
              <a:path w="1518" h="979">
                <a:moveTo>
                  <a:pt x="3153" y="4276"/>
                </a:moveTo>
                <a:cubicBezTo>
                  <a:pt x="3164" y="4260"/>
                  <a:pt x="3179" y="4232"/>
                  <a:pt x="3186" y="4200"/>
                </a:cubicBezTo>
                <a:cubicBezTo>
                  <a:pt x="3199" y="4142"/>
                  <a:pt x="3216" y="4085"/>
                  <a:pt x="3235" y="4029"/>
                </a:cubicBezTo>
                <a:cubicBezTo>
                  <a:pt x="3250" y="3986"/>
                  <a:pt x="3265" y="3924"/>
                  <a:pt x="3299" y="3891"/>
                </a:cubicBezTo>
                <a:cubicBezTo>
                  <a:pt x="3332" y="3860"/>
                  <a:pt x="3352" y="3908"/>
                  <a:pt x="3360" y="3932"/>
                </a:cubicBezTo>
                <a:cubicBezTo>
                  <a:pt x="3392" y="4032"/>
                  <a:pt x="3399" y="4141"/>
                  <a:pt x="3419" y="4243"/>
                </a:cubicBezTo>
                <a:cubicBezTo>
                  <a:pt x="3423" y="4261"/>
                  <a:pt x="3429" y="4324"/>
                  <a:pt x="3458" y="4318"/>
                </a:cubicBezTo>
                <a:cubicBezTo>
                  <a:pt x="3466" y="4300"/>
                  <a:pt x="3469" y="4292"/>
                  <a:pt x="3470" y="4277"/>
                </a:cubicBezTo>
              </a:path>
              <a:path w="1518" h="979">
                <a:moveTo>
                  <a:pt x="3852" y="4087"/>
                </a:moveTo>
                <a:cubicBezTo>
                  <a:pt x="3855" y="4064"/>
                  <a:pt x="3861" y="4039"/>
                  <a:pt x="3858" y="4015"/>
                </a:cubicBezTo>
                <a:cubicBezTo>
                  <a:pt x="3854" y="3988"/>
                  <a:pt x="3845" y="3992"/>
                  <a:pt x="3832" y="3977"/>
                </a:cubicBezTo>
                <a:cubicBezTo>
                  <a:pt x="3802" y="4007"/>
                  <a:pt x="3782" y="4032"/>
                  <a:pt x="3763" y="4073"/>
                </a:cubicBezTo>
                <a:cubicBezTo>
                  <a:pt x="3735" y="4133"/>
                  <a:pt x="3700" y="4222"/>
                  <a:pt x="3720" y="4289"/>
                </a:cubicBezTo>
                <a:cubicBezTo>
                  <a:pt x="3724" y="4295"/>
                  <a:pt x="3727" y="4300"/>
                  <a:pt x="3731" y="4306"/>
                </a:cubicBezTo>
                <a:cubicBezTo>
                  <a:pt x="3773" y="4288"/>
                  <a:pt x="3792" y="4276"/>
                  <a:pt x="3825" y="4236"/>
                </a:cubicBezTo>
                <a:cubicBezTo>
                  <a:pt x="3859" y="4195"/>
                  <a:pt x="3882" y="4144"/>
                  <a:pt x="3917" y="4105"/>
                </a:cubicBezTo>
                <a:cubicBezTo>
                  <a:pt x="3931" y="4093"/>
                  <a:pt x="3934" y="4089"/>
                  <a:pt x="3946" y="4090"/>
                </a:cubicBezTo>
                <a:cubicBezTo>
                  <a:pt x="3957" y="4146"/>
                  <a:pt x="3958" y="4189"/>
                  <a:pt x="3952" y="4249"/>
                </a:cubicBezTo>
                <a:cubicBezTo>
                  <a:pt x="3934" y="4432"/>
                  <a:pt x="3893" y="4612"/>
                  <a:pt x="3865" y="4794"/>
                </a:cubicBezTo>
                <a:cubicBezTo>
                  <a:pt x="3861" y="4830"/>
                  <a:pt x="3860" y="4838"/>
                  <a:pt x="3857" y="4860"/>
                </a:cubicBezTo>
                <a:cubicBezTo>
                  <a:pt x="3879" y="4813"/>
                  <a:pt x="3894" y="4764"/>
                  <a:pt x="3915" y="4716"/>
                </a:cubicBezTo>
                <a:cubicBezTo>
                  <a:pt x="3947" y="4643"/>
                  <a:pt x="3988" y="4566"/>
                  <a:pt x="4041" y="4506"/>
                </a:cubicBezTo>
                <a:cubicBezTo>
                  <a:pt x="4091" y="4449"/>
                  <a:pt x="4156" y="4406"/>
                  <a:pt x="4220" y="436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198520" y="1403280"/>
            <a:ext cx="438480" cy="301680"/>
          </a:xfrm>
          <a:custGeom>
            <a:avLst/>
            <a:gdLst/>
            <a:ahLst/>
            <a:rect l="l" t="t" r="r" b="b"/>
            <a:pathLst>
              <a:path w="1218" h="838">
                <a:moveTo>
                  <a:pt x="6107" y="4076"/>
                </a:moveTo>
                <a:cubicBezTo>
                  <a:pt x="6125" y="4138"/>
                  <a:pt x="6136" y="4201"/>
                  <a:pt x="6148" y="4265"/>
                </a:cubicBezTo>
                <a:cubicBezTo>
                  <a:pt x="6167" y="4370"/>
                  <a:pt x="6188" y="4475"/>
                  <a:pt x="6200" y="4581"/>
                </a:cubicBezTo>
                <a:cubicBezTo>
                  <a:pt x="6206" y="4633"/>
                  <a:pt x="6211" y="4684"/>
                  <a:pt x="6199" y="4734"/>
                </a:cubicBezTo>
                <a:cubicBezTo>
                  <a:pt x="6176" y="4702"/>
                  <a:pt x="6165" y="4678"/>
                  <a:pt x="6159" y="4633"/>
                </a:cubicBezTo>
                <a:cubicBezTo>
                  <a:pt x="6134" y="4458"/>
                  <a:pt x="6133" y="4190"/>
                  <a:pt x="6232" y="4035"/>
                </a:cubicBezTo>
                <a:cubicBezTo>
                  <a:pt x="6255" y="3999"/>
                  <a:pt x="6287" y="3984"/>
                  <a:pt x="6324" y="4011"/>
                </a:cubicBezTo>
                <a:cubicBezTo>
                  <a:pt x="6370" y="4044"/>
                  <a:pt x="6389" y="4102"/>
                  <a:pt x="6395" y="4156"/>
                </a:cubicBezTo>
                <a:cubicBezTo>
                  <a:pt x="6402" y="4224"/>
                  <a:pt x="6385" y="4296"/>
                  <a:pt x="6337" y="4346"/>
                </a:cubicBezTo>
                <a:cubicBezTo>
                  <a:pt x="6292" y="4394"/>
                  <a:pt x="6202" y="4422"/>
                  <a:pt x="6153" y="4363"/>
                </a:cubicBezTo>
                <a:cubicBezTo>
                  <a:pt x="6125" y="4330"/>
                  <a:pt x="6133" y="4290"/>
                  <a:pt x="6135" y="4252"/>
                </a:cubicBezTo>
              </a:path>
              <a:path w="1218" h="838">
                <a:moveTo>
                  <a:pt x="6543" y="4129"/>
                </a:moveTo>
                <a:cubicBezTo>
                  <a:pt x="6554" y="4154"/>
                  <a:pt x="6530" y="4153"/>
                  <a:pt x="6579" y="4155"/>
                </a:cubicBezTo>
                <a:cubicBezTo>
                  <a:pt x="6690" y="4160"/>
                  <a:pt x="6810" y="4140"/>
                  <a:pt x="6919" y="4126"/>
                </a:cubicBezTo>
                <a:cubicBezTo>
                  <a:pt x="7026" y="4112"/>
                  <a:pt x="7134" y="4098"/>
                  <a:pt x="7240" y="4079"/>
                </a:cubicBezTo>
                <a:cubicBezTo>
                  <a:pt x="7278" y="4072"/>
                  <a:pt x="7286" y="4071"/>
                  <a:pt x="7306" y="4046"/>
                </a:cubicBezTo>
                <a:cubicBezTo>
                  <a:pt x="7274" y="4019"/>
                  <a:pt x="7243" y="4000"/>
                  <a:pt x="7206" y="3981"/>
                </a:cubicBezTo>
                <a:cubicBezTo>
                  <a:pt x="7166" y="3960"/>
                  <a:pt x="7126" y="3942"/>
                  <a:pt x="7085" y="3924"/>
                </a:cubicBezTo>
                <a:cubicBezTo>
                  <a:pt x="7066" y="3915"/>
                  <a:pt x="7056" y="3909"/>
                  <a:pt x="7041" y="3898"/>
                </a:cubicBezTo>
                <a:cubicBezTo>
                  <a:pt x="7067" y="3898"/>
                  <a:pt x="7092" y="3900"/>
                  <a:pt x="7118" y="3906"/>
                </a:cubicBezTo>
                <a:cubicBezTo>
                  <a:pt x="7161" y="3917"/>
                  <a:pt x="7203" y="3928"/>
                  <a:pt x="7244" y="3946"/>
                </a:cubicBezTo>
                <a:cubicBezTo>
                  <a:pt x="7268" y="3956"/>
                  <a:pt x="7310" y="3980"/>
                  <a:pt x="7319" y="4007"/>
                </a:cubicBezTo>
                <a:cubicBezTo>
                  <a:pt x="7328" y="4034"/>
                  <a:pt x="7319" y="4061"/>
                  <a:pt x="7305" y="4085"/>
                </a:cubicBezTo>
                <a:cubicBezTo>
                  <a:pt x="7280" y="4129"/>
                  <a:pt x="7245" y="4169"/>
                  <a:pt x="7215" y="4209"/>
                </a:cubicBezTo>
                <a:cubicBezTo>
                  <a:pt x="7192" y="4240"/>
                  <a:pt x="7173" y="4266"/>
                  <a:pt x="7155" y="429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760840" y="1433520"/>
            <a:ext cx="153720" cy="298440"/>
          </a:xfrm>
          <a:custGeom>
            <a:avLst/>
            <a:gdLst/>
            <a:ahLst/>
            <a:rect l="l" t="t" r="r" b="b"/>
            <a:pathLst>
              <a:path w="426" h="831">
                <a:moveTo>
                  <a:pt x="7800" y="4085"/>
                </a:moveTo>
                <a:cubicBezTo>
                  <a:pt x="7801" y="4060"/>
                  <a:pt x="7803" y="4029"/>
                  <a:pt x="7796" y="4005"/>
                </a:cubicBezTo>
                <a:cubicBezTo>
                  <a:pt x="7785" y="3987"/>
                  <a:pt x="7782" y="3981"/>
                  <a:pt x="7766" y="3981"/>
                </a:cubicBezTo>
                <a:cubicBezTo>
                  <a:pt x="7737" y="4019"/>
                  <a:pt x="7718" y="4049"/>
                  <a:pt x="7702" y="4097"/>
                </a:cubicBezTo>
                <a:cubicBezTo>
                  <a:pt x="7676" y="4173"/>
                  <a:pt x="7653" y="4263"/>
                  <a:pt x="7684" y="4339"/>
                </a:cubicBezTo>
                <a:cubicBezTo>
                  <a:pt x="7720" y="4325"/>
                  <a:pt x="7735" y="4318"/>
                  <a:pt x="7761" y="4276"/>
                </a:cubicBezTo>
                <a:cubicBezTo>
                  <a:pt x="7793" y="4225"/>
                  <a:pt x="7812" y="4148"/>
                  <a:pt x="7854" y="4105"/>
                </a:cubicBezTo>
                <a:cubicBezTo>
                  <a:pt x="7865" y="4094"/>
                  <a:pt x="7867" y="4090"/>
                  <a:pt x="7877" y="4091"/>
                </a:cubicBezTo>
                <a:cubicBezTo>
                  <a:pt x="7888" y="4144"/>
                  <a:pt x="7892" y="4190"/>
                  <a:pt x="7889" y="4247"/>
                </a:cubicBezTo>
                <a:cubicBezTo>
                  <a:pt x="7882" y="4382"/>
                  <a:pt x="7867" y="4515"/>
                  <a:pt x="7848" y="4649"/>
                </a:cubicBezTo>
                <a:cubicBezTo>
                  <a:pt x="7840" y="4703"/>
                  <a:pt x="7833" y="4757"/>
                  <a:pt x="7827" y="4811"/>
                </a:cubicBezTo>
                <a:cubicBezTo>
                  <a:pt x="7849" y="4753"/>
                  <a:pt x="7869" y="4694"/>
                  <a:pt x="7893" y="4637"/>
                </a:cubicBezTo>
                <a:cubicBezTo>
                  <a:pt x="7926" y="4559"/>
                  <a:pt x="7960" y="4468"/>
                  <a:pt x="8009" y="4398"/>
                </a:cubicBezTo>
                <a:cubicBezTo>
                  <a:pt x="8038" y="4356"/>
                  <a:pt x="8058" y="4348"/>
                  <a:pt x="8095" y="433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444840" y="1424160"/>
            <a:ext cx="176400" cy="96840"/>
          </a:xfrm>
          <a:custGeom>
            <a:avLst/>
            <a:gdLst/>
            <a:ahLst/>
            <a:rect l="l" t="t" r="r" b="b"/>
            <a:pathLst>
              <a:path w="493" h="268">
                <a:moveTo>
                  <a:pt x="9589" y="4041"/>
                </a:moveTo>
                <a:cubicBezTo>
                  <a:pt x="9577" y="4052"/>
                  <a:pt x="9575" y="4050"/>
                  <a:pt x="9567" y="4067"/>
                </a:cubicBezTo>
                <a:cubicBezTo>
                  <a:pt x="9603" y="4087"/>
                  <a:pt x="9634" y="4075"/>
                  <a:pt x="9674" y="4065"/>
                </a:cubicBezTo>
                <a:cubicBezTo>
                  <a:pt x="9767" y="4041"/>
                  <a:pt x="9857" y="4006"/>
                  <a:pt x="9948" y="3976"/>
                </a:cubicBezTo>
                <a:cubicBezTo>
                  <a:pt x="9974" y="3967"/>
                  <a:pt x="10035" y="3935"/>
                  <a:pt x="10056" y="3972"/>
                </a:cubicBezTo>
                <a:cubicBezTo>
                  <a:pt x="10069" y="3996"/>
                  <a:pt x="10051" y="4038"/>
                  <a:pt x="10044" y="4060"/>
                </a:cubicBezTo>
                <a:cubicBezTo>
                  <a:pt x="10033" y="4094"/>
                  <a:pt x="10014" y="4127"/>
                  <a:pt x="10007" y="4162"/>
                </a:cubicBezTo>
                <a:cubicBezTo>
                  <a:pt x="10003" y="4182"/>
                  <a:pt x="9990" y="4212"/>
                  <a:pt x="10018" y="4222"/>
                </a:cubicBezTo>
                <a:cubicBezTo>
                  <a:pt x="10022" y="4221"/>
                  <a:pt x="10026" y="4221"/>
                  <a:pt x="10030" y="422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778200" y="1441440"/>
            <a:ext cx="92160" cy="255600"/>
          </a:xfrm>
          <a:custGeom>
            <a:avLst/>
            <a:gdLst/>
            <a:ahLst/>
            <a:rect l="l" t="t" r="r" b="b"/>
            <a:pathLst>
              <a:path w="259" h="708">
                <a:moveTo>
                  <a:pt x="10513" y="4014"/>
                </a:moveTo>
                <a:cubicBezTo>
                  <a:pt x="10499" y="4031"/>
                  <a:pt x="10493" y="4009"/>
                  <a:pt x="10499" y="4063"/>
                </a:cubicBezTo>
                <a:cubicBezTo>
                  <a:pt x="10507" y="4139"/>
                  <a:pt x="10522" y="4215"/>
                  <a:pt x="10533" y="4291"/>
                </a:cubicBezTo>
                <a:cubicBezTo>
                  <a:pt x="10547" y="4393"/>
                  <a:pt x="10558" y="4495"/>
                  <a:pt x="10559" y="4598"/>
                </a:cubicBezTo>
                <a:cubicBezTo>
                  <a:pt x="10560" y="4639"/>
                  <a:pt x="10557" y="4674"/>
                  <a:pt x="10547" y="4713"/>
                </a:cubicBezTo>
                <a:cubicBezTo>
                  <a:pt x="10512" y="4675"/>
                  <a:pt x="10519" y="4618"/>
                  <a:pt x="10519" y="4565"/>
                </a:cubicBezTo>
                <a:cubicBezTo>
                  <a:pt x="10520" y="4415"/>
                  <a:pt x="10532" y="4206"/>
                  <a:pt x="10624" y="4079"/>
                </a:cubicBezTo>
                <a:cubicBezTo>
                  <a:pt x="10649" y="4055"/>
                  <a:pt x="10655" y="4048"/>
                  <a:pt x="10679" y="4046"/>
                </a:cubicBezTo>
                <a:cubicBezTo>
                  <a:pt x="10726" y="4066"/>
                  <a:pt x="10745" y="4088"/>
                  <a:pt x="10751" y="4143"/>
                </a:cubicBezTo>
                <a:cubicBezTo>
                  <a:pt x="10763" y="4256"/>
                  <a:pt x="10677" y="4338"/>
                  <a:pt x="10578" y="4367"/>
                </a:cubicBezTo>
                <a:cubicBezTo>
                  <a:pt x="10542" y="4378"/>
                  <a:pt x="10512" y="4365"/>
                  <a:pt x="10519" y="4321"/>
                </a:cubicBezTo>
                <a:cubicBezTo>
                  <a:pt x="10523" y="4310"/>
                  <a:pt x="10526" y="4300"/>
                  <a:pt x="10530" y="428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057560" y="1563840"/>
            <a:ext cx="39600" cy="114120"/>
          </a:xfrm>
          <a:custGeom>
            <a:avLst/>
            <a:gdLst/>
            <a:ahLst/>
            <a:rect l="l" t="t" r="r" b="b"/>
            <a:pathLst>
              <a:path w="109" h="320">
                <a:moveTo>
                  <a:pt x="11370" y="4352"/>
                </a:moveTo>
                <a:cubicBezTo>
                  <a:pt x="11384" y="4355"/>
                  <a:pt x="11374" y="4401"/>
                  <a:pt x="11366" y="4432"/>
                </a:cubicBezTo>
                <a:cubicBezTo>
                  <a:pt x="11351" y="4488"/>
                  <a:pt x="11327" y="4539"/>
                  <a:pt x="11307" y="4593"/>
                </a:cubicBezTo>
                <a:cubicBezTo>
                  <a:pt x="11305" y="4599"/>
                  <a:pt x="11275" y="4688"/>
                  <a:pt x="11275" y="465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317840" y="1368360"/>
            <a:ext cx="351000" cy="255600"/>
          </a:xfrm>
          <a:custGeom>
            <a:avLst/>
            <a:gdLst/>
            <a:ahLst/>
            <a:rect l="l" t="t" r="r" b="b"/>
            <a:pathLst>
              <a:path w="973" h="710">
                <a:moveTo>
                  <a:pt x="12006" y="4266"/>
                </a:moveTo>
                <a:cubicBezTo>
                  <a:pt x="12000" y="4282"/>
                  <a:pt x="11997" y="4292"/>
                  <a:pt x="11996" y="4308"/>
                </a:cubicBezTo>
                <a:cubicBezTo>
                  <a:pt x="12035" y="4306"/>
                  <a:pt x="12061" y="4286"/>
                  <a:pt x="12090" y="4258"/>
                </a:cubicBezTo>
                <a:cubicBezTo>
                  <a:pt x="12125" y="4224"/>
                  <a:pt x="12162" y="4182"/>
                  <a:pt x="12179" y="4136"/>
                </a:cubicBezTo>
                <a:cubicBezTo>
                  <a:pt x="12189" y="4110"/>
                  <a:pt x="12187" y="4098"/>
                  <a:pt x="12175" y="4078"/>
                </a:cubicBezTo>
                <a:cubicBezTo>
                  <a:pt x="12134" y="4084"/>
                  <a:pt x="12108" y="4108"/>
                  <a:pt x="12083" y="4142"/>
                </a:cubicBezTo>
                <a:cubicBezTo>
                  <a:pt x="12040" y="4200"/>
                  <a:pt x="12010" y="4273"/>
                  <a:pt x="12001" y="4345"/>
                </a:cubicBezTo>
                <a:cubicBezTo>
                  <a:pt x="11994" y="4405"/>
                  <a:pt x="12008" y="4477"/>
                  <a:pt x="12070" y="4504"/>
                </a:cubicBezTo>
                <a:cubicBezTo>
                  <a:pt x="12153" y="4541"/>
                  <a:pt x="12251" y="4487"/>
                  <a:pt x="12322" y="4451"/>
                </a:cubicBezTo>
              </a:path>
              <a:path w="973" h="710">
                <a:moveTo>
                  <a:pt x="12625" y="4229"/>
                </a:moveTo>
                <a:cubicBezTo>
                  <a:pt x="12625" y="4192"/>
                  <a:pt x="12621" y="4174"/>
                  <a:pt x="12605" y="4140"/>
                </a:cubicBezTo>
                <a:cubicBezTo>
                  <a:pt x="12595" y="4117"/>
                  <a:pt x="12578" y="4109"/>
                  <a:pt x="12555" y="4124"/>
                </a:cubicBezTo>
                <a:cubicBezTo>
                  <a:pt x="12523" y="4146"/>
                  <a:pt x="12508" y="4193"/>
                  <a:pt x="12497" y="4227"/>
                </a:cubicBezTo>
                <a:cubicBezTo>
                  <a:pt x="12485" y="4266"/>
                  <a:pt x="12477" y="4316"/>
                  <a:pt x="12481" y="4357"/>
                </a:cubicBezTo>
                <a:cubicBezTo>
                  <a:pt x="12483" y="4376"/>
                  <a:pt x="12491" y="4397"/>
                  <a:pt x="12511" y="4404"/>
                </a:cubicBezTo>
                <a:cubicBezTo>
                  <a:pt x="12525" y="4409"/>
                  <a:pt x="12545" y="4402"/>
                  <a:pt x="12559" y="4399"/>
                </a:cubicBezTo>
                <a:cubicBezTo>
                  <a:pt x="12577" y="4395"/>
                  <a:pt x="12595" y="4393"/>
                  <a:pt x="12613" y="4390"/>
                </a:cubicBezTo>
                <a:cubicBezTo>
                  <a:pt x="12626" y="4388"/>
                  <a:pt x="12653" y="4390"/>
                  <a:pt x="12664" y="4383"/>
                </a:cubicBezTo>
                <a:cubicBezTo>
                  <a:pt x="12677" y="4375"/>
                  <a:pt x="12694" y="4364"/>
                  <a:pt x="12706" y="4353"/>
                </a:cubicBezTo>
                <a:cubicBezTo>
                  <a:pt x="12710" y="4349"/>
                  <a:pt x="12713" y="4345"/>
                  <a:pt x="12717" y="4341"/>
                </a:cubicBezTo>
              </a:path>
              <a:path w="973" h="710">
                <a:moveTo>
                  <a:pt x="12436" y="3855"/>
                </a:moveTo>
                <a:cubicBezTo>
                  <a:pt x="12432" y="3836"/>
                  <a:pt x="12429" y="3820"/>
                  <a:pt x="12422" y="3802"/>
                </a:cubicBezTo>
                <a:cubicBezTo>
                  <a:pt x="12408" y="3853"/>
                  <a:pt x="12412" y="3906"/>
                  <a:pt x="12413" y="3959"/>
                </a:cubicBezTo>
                <a:cubicBezTo>
                  <a:pt x="12416" y="4066"/>
                  <a:pt x="12424" y="4173"/>
                  <a:pt x="12430" y="4280"/>
                </a:cubicBezTo>
                <a:cubicBezTo>
                  <a:pt x="12432" y="4315"/>
                  <a:pt x="12463" y="4431"/>
                  <a:pt x="12441" y="4463"/>
                </a:cubicBezTo>
                <a:cubicBezTo>
                  <a:pt x="12437" y="4462"/>
                  <a:pt x="12434" y="4460"/>
                  <a:pt x="12430" y="4459"/>
                </a:cubicBezTo>
              </a:path>
              <a:path w="973" h="710">
                <a:moveTo>
                  <a:pt x="12273" y="4108"/>
                </a:moveTo>
                <a:cubicBezTo>
                  <a:pt x="12297" y="4087"/>
                  <a:pt x="12323" y="4082"/>
                  <a:pt x="12354" y="4074"/>
                </a:cubicBezTo>
                <a:cubicBezTo>
                  <a:pt x="12413" y="4059"/>
                  <a:pt x="12468" y="4048"/>
                  <a:pt x="12529" y="4046"/>
                </a:cubicBezTo>
                <a:cubicBezTo>
                  <a:pt x="12572" y="4046"/>
                  <a:pt x="12586" y="4046"/>
                  <a:pt x="12614" y="4051"/>
                </a:cubicBezTo>
              </a:path>
              <a:path w="973" h="710">
                <a:moveTo>
                  <a:pt x="12955" y="4418"/>
                </a:moveTo>
                <a:cubicBezTo>
                  <a:pt x="12967" y="4385"/>
                  <a:pt x="12960" y="4377"/>
                  <a:pt x="12957" y="4342"/>
                </a:cubicBezTo>
                <a:cubicBezTo>
                  <a:pt x="12955" y="4322"/>
                  <a:pt x="12961" y="4299"/>
                  <a:pt x="12967" y="428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816440" y="1392120"/>
            <a:ext cx="500040" cy="268560"/>
          </a:xfrm>
          <a:custGeom>
            <a:avLst/>
            <a:gdLst/>
            <a:ahLst/>
            <a:rect l="l" t="t" r="r" b="b"/>
            <a:pathLst>
              <a:path w="1389" h="743">
                <a:moveTo>
                  <a:pt x="13381" y="4336"/>
                </a:moveTo>
                <a:cubicBezTo>
                  <a:pt x="13379" y="4357"/>
                  <a:pt x="13379" y="4360"/>
                  <a:pt x="13391" y="4378"/>
                </a:cubicBezTo>
                <a:cubicBezTo>
                  <a:pt x="13423" y="4368"/>
                  <a:pt x="13448" y="4359"/>
                  <a:pt x="13475" y="4336"/>
                </a:cubicBezTo>
                <a:cubicBezTo>
                  <a:pt x="13516" y="4301"/>
                  <a:pt x="13557" y="4256"/>
                  <a:pt x="13584" y="4209"/>
                </a:cubicBezTo>
                <a:cubicBezTo>
                  <a:pt x="13600" y="4181"/>
                  <a:pt x="13623" y="4135"/>
                  <a:pt x="13612" y="4101"/>
                </a:cubicBezTo>
                <a:cubicBezTo>
                  <a:pt x="13602" y="4070"/>
                  <a:pt x="13569" y="4079"/>
                  <a:pt x="13550" y="4093"/>
                </a:cubicBezTo>
                <a:cubicBezTo>
                  <a:pt x="13498" y="4131"/>
                  <a:pt x="13470" y="4202"/>
                  <a:pt x="13462" y="4264"/>
                </a:cubicBezTo>
                <a:cubicBezTo>
                  <a:pt x="13455" y="4315"/>
                  <a:pt x="13460" y="4373"/>
                  <a:pt x="13500" y="4410"/>
                </a:cubicBezTo>
                <a:cubicBezTo>
                  <a:pt x="13538" y="4445"/>
                  <a:pt x="13593" y="4449"/>
                  <a:pt x="13642" y="4446"/>
                </a:cubicBezTo>
                <a:cubicBezTo>
                  <a:pt x="13682" y="4441"/>
                  <a:pt x="13695" y="4440"/>
                  <a:pt x="13720" y="4432"/>
                </a:cubicBezTo>
              </a:path>
              <a:path w="1389" h="743">
                <a:moveTo>
                  <a:pt x="14021" y="3921"/>
                </a:moveTo>
                <a:cubicBezTo>
                  <a:pt x="14011" y="3901"/>
                  <a:pt x="14000" y="3885"/>
                  <a:pt x="13986" y="3868"/>
                </a:cubicBezTo>
                <a:cubicBezTo>
                  <a:pt x="13984" y="3916"/>
                  <a:pt x="13992" y="3965"/>
                  <a:pt x="13996" y="4014"/>
                </a:cubicBezTo>
                <a:cubicBezTo>
                  <a:pt x="14003" y="4109"/>
                  <a:pt x="14007" y="4204"/>
                  <a:pt x="14012" y="4299"/>
                </a:cubicBezTo>
                <a:cubicBezTo>
                  <a:pt x="14014" y="4336"/>
                  <a:pt x="14038" y="4447"/>
                  <a:pt x="14025" y="4482"/>
                </a:cubicBezTo>
                <a:cubicBezTo>
                  <a:pt x="14023" y="4476"/>
                  <a:pt x="14022" y="4471"/>
                  <a:pt x="14020" y="4465"/>
                </a:cubicBezTo>
              </a:path>
              <a:path w="1389" h="743">
                <a:moveTo>
                  <a:pt x="13867" y="4164"/>
                </a:moveTo>
                <a:cubicBezTo>
                  <a:pt x="13865" y="4151"/>
                  <a:pt x="13930" y="4147"/>
                  <a:pt x="13964" y="4145"/>
                </a:cubicBezTo>
                <a:cubicBezTo>
                  <a:pt x="14021" y="4141"/>
                  <a:pt x="14078" y="4141"/>
                  <a:pt x="14135" y="4141"/>
                </a:cubicBezTo>
              </a:path>
              <a:path w="1389" h="743">
                <a:moveTo>
                  <a:pt x="14480" y="4348"/>
                </a:moveTo>
                <a:cubicBezTo>
                  <a:pt x="14469" y="4330"/>
                  <a:pt x="14467" y="4313"/>
                  <a:pt x="14443" y="4325"/>
                </a:cubicBezTo>
                <a:cubicBezTo>
                  <a:pt x="14425" y="4334"/>
                  <a:pt x="14408" y="4352"/>
                  <a:pt x="14392" y="4365"/>
                </a:cubicBezTo>
                <a:cubicBezTo>
                  <a:pt x="14370" y="4383"/>
                  <a:pt x="14346" y="4401"/>
                  <a:pt x="14326" y="4422"/>
                </a:cubicBezTo>
                <a:cubicBezTo>
                  <a:pt x="14309" y="4440"/>
                  <a:pt x="14291" y="4463"/>
                  <a:pt x="14285" y="4488"/>
                </a:cubicBezTo>
                <a:cubicBezTo>
                  <a:pt x="14279" y="4512"/>
                  <a:pt x="14287" y="4542"/>
                  <a:pt x="14302" y="4562"/>
                </a:cubicBezTo>
                <a:cubicBezTo>
                  <a:pt x="14323" y="4591"/>
                  <a:pt x="14362" y="4606"/>
                  <a:pt x="14397" y="4610"/>
                </a:cubicBezTo>
                <a:cubicBezTo>
                  <a:pt x="14441" y="4615"/>
                  <a:pt x="14488" y="4596"/>
                  <a:pt x="14525" y="4573"/>
                </a:cubicBezTo>
                <a:cubicBezTo>
                  <a:pt x="14551" y="4557"/>
                  <a:pt x="14566" y="4534"/>
                  <a:pt x="14584" y="4511"/>
                </a:cubicBezTo>
              </a:path>
              <a:path w="1389" h="743">
                <a:moveTo>
                  <a:pt x="14690" y="4547"/>
                </a:moveTo>
                <a:cubicBezTo>
                  <a:pt x="14712" y="4538"/>
                  <a:pt x="14714" y="4525"/>
                  <a:pt x="14730" y="4510"/>
                </a:cubicBezTo>
                <a:cubicBezTo>
                  <a:pt x="14742" y="4498"/>
                  <a:pt x="14751" y="4498"/>
                  <a:pt x="14765" y="449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938920" y="1490760"/>
            <a:ext cx="519120" cy="280800"/>
          </a:xfrm>
          <a:custGeom>
            <a:avLst/>
            <a:gdLst/>
            <a:ahLst/>
            <a:rect l="l" t="t" r="r" b="b"/>
            <a:pathLst>
              <a:path w="1440" h="778">
                <a:moveTo>
                  <a:pt x="16521" y="4389"/>
                </a:moveTo>
                <a:cubicBezTo>
                  <a:pt x="16516" y="4361"/>
                  <a:pt x="16509" y="4337"/>
                  <a:pt x="16498" y="4311"/>
                </a:cubicBezTo>
                <a:cubicBezTo>
                  <a:pt x="16501" y="4349"/>
                  <a:pt x="16505" y="4387"/>
                  <a:pt x="16508" y="4425"/>
                </a:cubicBezTo>
                <a:cubicBezTo>
                  <a:pt x="16522" y="4589"/>
                  <a:pt x="16528" y="4753"/>
                  <a:pt x="16524" y="4917"/>
                </a:cubicBezTo>
                <a:cubicBezTo>
                  <a:pt x="16509" y="4872"/>
                  <a:pt x="16506" y="4826"/>
                  <a:pt x="16505" y="4778"/>
                </a:cubicBezTo>
                <a:cubicBezTo>
                  <a:pt x="16503" y="4683"/>
                  <a:pt x="16509" y="4588"/>
                  <a:pt x="16529" y="4495"/>
                </a:cubicBezTo>
                <a:cubicBezTo>
                  <a:pt x="16551" y="4391"/>
                  <a:pt x="16592" y="4270"/>
                  <a:pt x="16668" y="4192"/>
                </a:cubicBezTo>
                <a:cubicBezTo>
                  <a:pt x="16699" y="4160"/>
                  <a:pt x="16752" y="4133"/>
                  <a:pt x="16791" y="4169"/>
                </a:cubicBezTo>
                <a:cubicBezTo>
                  <a:pt x="16830" y="4205"/>
                  <a:pt x="16832" y="4270"/>
                  <a:pt x="16818" y="4316"/>
                </a:cubicBezTo>
                <a:cubicBezTo>
                  <a:pt x="16798" y="4383"/>
                  <a:pt x="16752" y="4441"/>
                  <a:pt x="16696" y="4481"/>
                </a:cubicBezTo>
                <a:cubicBezTo>
                  <a:pt x="16674" y="4497"/>
                  <a:pt x="16605" y="4539"/>
                  <a:pt x="16574" y="4522"/>
                </a:cubicBezTo>
                <a:cubicBezTo>
                  <a:pt x="16546" y="4506"/>
                  <a:pt x="16583" y="4454"/>
                  <a:pt x="16590" y="4440"/>
                </a:cubicBezTo>
              </a:path>
              <a:path w="1440" h="778">
                <a:moveTo>
                  <a:pt x="16932" y="4167"/>
                </a:moveTo>
                <a:cubicBezTo>
                  <a:pt x="16951" y="4201"/>
                  <a:pt x="16951" y="4240"/>
                  <a:pt x="16961" y="4279"/>
                </a:cubicBezTo>
                <a:cubicBezTo>
                  <a:pt x="16975" y="4332"/>
                  <a:pt x="16989" y="4392"/>
                  <a:pt x="17017" y="4440"/>
                </a:cubicBezTo>
                <a:cubicBezTo>
                  <a:pt x="17031" y="4459"/>
                  <a:pt x="17034" y="4464"/>
                  <a:pt x="17048" y="4469"/>
                </a:cubicBezTo>
                <a:cubicBezTo>
                  <a:pt x="17086" y="4450"/>
                  <a:pt x="17094" y="4421"/>
                  <a:pt x="17111" y="4381"/>
                </a:cubicBezTo>
                <a:cubicBezTo>
                  <a:pt x="17132" y="4330"/>
                  <a:pt x="17156" y="4273"/>
                  <a:pt x="17169" y="4219"/>
                </a:cubicBezTo>
                <a:cubicBezTo>
                  <a:pt x="17175" y="4195"/>
                  <a:pt x="17177" y="4172"/>
                  <a:pt x="17184" y="4148"/>
                </a:cubicBezTo>
              </a:path>
              <a:path w="1440" h="778">
                <a:moveTo>
                  <a:pt x="17574" y="4189"/>
                </a:moveTo>
                <a:cubicBezTo>
                  <a:pt x="17577" y="4169"/>
                  <a:pt x="17577" y="4161"/>
                  <a:pt x="17576" y="4142"/>
                </a:cubicBezTo>
                <a:cubicBezTo>
                  <a:pt x="17554" y="4170"/>
                  <a:pt x="17530" y="4198"/>
                  <a:pt x="17512" y="4231"/>
                </a:cubicBezTo>
                <a:cubicBezTo>
                  <a:pt x="17474" y="4301"/>
                  <a:pt x="17450" y="4366"/>
                  <a:pt x="17449" y="4444"/>
                </a:cubicBezTo>
                <a:cubicBezTo>
                  <a:pt x="17488" y="4435"/>
                  <a:pt x="17504" y="4431"/>
                  <a:pt x="17536" y="4396"/>
                </a:cubicBezTo>
                <a:cubicBezTo>
                  <a:pt x="17575" y="4352"/>
                  <a:pt x="17610" y="4284"/>
                  <a:pt x="17659" y="4250"/>
                </a:cubicBezTo>
                <a:cubicBezTo>
                  <a:pt x="17664" y="4248"/>
                  <a:pt x="17670" y="4247"/>
                  <a:pt x="17675" y="4245"/>
                </a:cubicBezTo>
                <a:cubicBezTo>
                  <a:pt x="17695" y="4313"/>
                  <a:pt x="17675" y="4365"/>
                  <a:pt x="17660" y="4436"/>
                </a:cubicBezTo>
                <a:cubicBezTo>
                  <a:pt x="17630" y="4580"/>
                  <a:pt x="17598" y="4726"/>
                  <a:pt x="17576" y="4871"/>
                </a:cubicBezTo>
                <a:cubicBezTo>
                  <a:pt x="17573" y="4898"/>
                  <a:pt x="17570" y="4904"/>
                  <a:pt x="17576" y="4919"/>
                </a:cubicBezTo>
                <a:cubicBezTo>
                  <a:pt x="17618" y="4859"/>
                  <a:pt x="17652" y="4796"/>
                  <a:pt x="17695" y="4736"/>
                </a:cubicBezTo>
                <a:cubicBezTo>
                  <a:pt x="17753" y="4654"/>
                  <a:pt x="17818" y="4566"/>
                  <a:pt x="17897" y="4503"/>
                </a:cubicBezTo>
                <a:cubicBezTo>
                  <a:pt x="17918" y="4489"/>
                  <a:pt x="17922" y="4485"/>
                  <a:pt x="17937" y="448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60240" y="2448000"/>
            <a:ext cx="508320" cy="341280"/>
          </a:xfrm>
          <a:custGeom>
            <a:avLst/>
            <a:gdLst/>
            <a:ahLst/>
            <a:rect l="l" t="t" r="r" b="b"/>
            <a:pathLst>
              <a:path w="1411" h="947">
                <a:moveTo>
                  <a:pt x="1887" y="6904"/>
                </a:moveTo>
                <a:cubicBezTo>
                  <a:pt x="1882" y="6928"/>
                  <a:pt x="1880" y="6956"/>
                  <a:pt x="1883" y="6989"/>
                </a:cubicBezTo>
                <a:cubicBezTo>
                  <a:pt x="1896" y="7162"/>
                  <a:pt x="1888" y="7336"/>
                  <a:pt x="1892" y="7509"/>
                </a:cubicBezTo>
                <a:cubicBezTo>
                  <a:pt x="1894" y="7576"/>
                  <a:pt x="1894" y="7642"/>
                  <a:pt x="1896" y="7709"/>
                </a:cubicBezTo>
                <a:cubicBezTo>
                  <a:pt x="1896" y="7715"/>
                  <a:pt x="1896" y="7720"/>
                  <a:pt x="1896" y="7726"/>
                </a:cubicBezTo>
                <a:cubicBezTo>
                  <a:pt x="1889" y="7690"/>
                  <a:pt x="1881" y="7653"/>
                  <a:pt x="1875" y="7617"/>
                </a:cubicBezTo>
                <a:cubicBezTo>
                  <a:pt x="1860" y="7531"/>
                  <a:pt x="1855" y="7447"/>
                  <a:pt x="1847" y="7361"/>
                </a:cubicBezTo>
                <a:cubicBezTo>
                  <a:pt x="1838" y="7262"/>
                  <a:pt x="1827" y="7158"/>
                  <a:pt x="1836" y="7059"/>
                </a:cubicBezTo>
                <a:cubicBezTo>
                  <a:pt x="1841" y="7008"/>
                  <a:pt x="1848" y="6917"/>
                  <a:pt x="1874" y="6871"/>
                </a:cubicBezTo>
                <a:cubicBezTo>
                  <a:pt x="1890" y="6856"/>
                  <a:pt x="1895" y="6851"/>
                  <a:pt x="1910" y="6848"/>
                </a:cubicBezTo>
                <a:cubicBezTo>
                  <a:pt x="1964" y="6863"/>
                  <a:pt x="1996" y="6895"/>
                  <a:pt x="2030" y="6942"/>
                </a:cubicBezTo>
                <a:cubicBezTo>
                  <a:pt x="2078" y="7010"/>
                  <a:pt x="2109" y="7083"/>
                  <a:pt x="2118" y="7166"/>
                </a:cubicBezTo>
                <a:cubicBezTo>
                  <a:pt x="2125" y="7230"/>
                  <a:pt x="2112" y="7289"/>
                  <a:pt x="2051" y="7321"/>
                </a:cubicBezTo>
                <a:cubicBezTo>
                  <a:pt x="2009" y="7343"/>
                  <a:pt x="1967" y="7330"/>
                  <a:pt x="1935" y="7302"/>
                </a:cubicBezTo>
                <a:cubicBezTo>
                  <a:pt x="1905" y="7276"/>
                  <a:pt x="1900" y="7232"/>
                  <a:pt x="1910" y="7195"/>
                </a:cubicBezTo>
                <a:cubicBezTo>
                  <a:pt x="1914" y="7186"/>
                  <a:pt x="1918" y="7177"/>
                  <a:pt x="1922" y="7168"/>
                </a:cubicBezTo>
              </a:path>
              <a:path w="1411" h="947">
                <a:moveTo>
                  <a:pt x="2151" y="7107"/>
                </a:moveTo>
                <a:cubicBezTo>
                  <a:pt x="2163" y="7089"/>
                  <a:pt x="2186" y="7095"/>
                  <a:pt x="2212" y="7092"/>
                </a:cubicBezTo>
                <a:cubicBezTo>
                  <a:pt x="2266" y="7086"/>
                  <a:pt x="2318" y="7078"/>
                  <a:pt x="2371" y="7069"/>
                </a:cubicBezTo>
                <a:cubicBezTo>
                  <a:pt x="2429" y="7060"/>
                  <a:pt x="2482" y="7042"/>
                  <a:pt x="2537" y="7021"/>
                </a:cubicBezTo>
                <a:cubicBezTo>
                  <a:pt x="2570" y="7008"/>
                  <a:pt x="2580" y="7004"/>
                  <a:pt x="2601" y="6994"/>
                </a:cubicBezTo>
              </a:path>
              <a:path w="1411" h="947">
                <a:moveTo>
                  <a:pt x="2695" y="6991"/>
                </a:moveTo>
                <a:cubicBezTo>
                  <a:pt x="2693" y="6967"/>
                  <a:pt x="2683" y="6953"/>
                  <a:pt x="2667" y="6934"/>
                </a:cubicBezTo>
                <a:cubicBezTo>
                  <a:pt x="2638" y="6898"/>
                  <a:pt x="2607" y="6863"/>
                  <a:pt x="2569" y="6837"/>
                </a:cubicBezTo>
                <a:cubicBezTo>
                  <a:pt x="2549" y="6823"/>
                  <a:pt x="2529" y="6811"/>
                  <a:pt x="2508" y="6800"/>
                </a:cubicBezTo>
                <a:cubicBezTo>
                  <a:pt x="2516" y="6823"/>
                  <a:pt x="2535" y="6828"/>
                  <a:pt x="2557" y="6841"/>
                </a:cubicBezTo>
              </a:path>
              <a:path w="1411" h="947">
                <a:moveTo>
                  <a:pt x="2736" y="6939"/>
                </a:moveTo>
                <a:cubicBezTo>
                  <a:pt x="2727" y="6932"/>
                  <a:pt x="2724" y="6930"/>
                  <a:pt x="2716" y="6933"/>
                </a:cubicBezTo>
                <a:cubicBezTo>
                  <a:pt x="2697" y="6964"/>
                  <a:pt x="2675" y="6992"/>
                  <a:pt x="2657" y="7026"/>
                </a:cubicBezTo>
                <a:cubicBezTo>
                  <a:pt x="2630" y="7077"/>
                  <a:pt x="2613" y="7134"/>
                  <a:pt x="2588" y="7184"/>
                </a:cubicBezTo>
                <a:cubicBezTo>
                  <a:pt x="2577" y="7205"/>
                  <a:pt x="2547" y="7236"/>
                  <a:pt x="2590" y="7216"/>
                </a:cubicBezTo>
              </a:path>
              <a:path w="1411" h="947">
                <a:moveTo>
                  <a:pt x="3036" y="6939"/>
                </a:moveTo>
                <a:cubicBezTo>
                  <a:pt x="3038" y="6912"/>
                  <a:pt x="3037" y="6892"/>
                  <a:pt x="3033" y="6866"/>
                </a:cubicBezTo>
                <a:cubicBezTo>
                  <a:pt x="3016" y="6897"/>
                  <a:pt x="3007" y="6923"/>
                  <a:pt x="2996" y="6958"/>
                </a:cubicBezTo>
                <a:cubicBezTo>
                  <a:pt x="2965" y="7055"/>
                  <a:pt x="2931" y="7156"/>
                  <a:pt x="2914" y="7256"/>
                </a:cubicBezTo>
                <a:cubicBezTo>
                  <a:pt x="2933" y="7224"/>
                  <a:pt x="2950" y="7190"/>
                  <a:pt x="2967" y="7155"/>
                </a:cubicBezTo>
                <a:cubicBezTo>
                  <a:pt x="2988" y="7112"/>
                  <a:pt x="3004" y="7062"/>
                  <a:pt x="3035" y="7024"/>
                </a:cubicBezTo>
                <a:cubicBezTo>
                  <a:pt x="3048" y="7013"/>
                  <a:pt x="3050" y="7009"/>
                  <a:pt x="3061" y="7009"/>
                </a:cubicBezTo>
                <a:cubicBezTo>
                  <a:pt x="3081" y="7060"/>
                  <a:pt x="3090" y="7102"/>
                  <a:pt x="3094" y="7161"/>
                </a:cubicBezTo>
                <a:cubicBezTo>
                  <a:pt x="3101" y="7272"/>
                  <a:pt x="3093" y="7383"/>
                  <a:pt x="3087" y="7494"/>
                </a:cubicBezTo>
                <a:cubicBezTo>
                  <a:pt x="3083" y="7572"/>
                  <a:pt x="3076" y="7651"/>
                  <a:pt x="3069" y="7729"/>
                </a:cubicBezTo>
                <a:cubicBezTo>
                  <a:pt x="3068" y="7735"/>
                  <a:pt x="3068" y="7740"/>
                  <a:pt x="3067" y="7746"/>
                </a:cubicBezTo>
                <a:cubicBezTo>
                  <a:pt x="3091" y="7698"/>
                  <a:pt x="3104" y="7647"/>
                  <a:pt x="3122" y="7596"/>
                </a:cubicBezTo>
                <a:cubicBezTo>
                  <a:pt x="3144" y="7533"/>
                  <a:pt x="3173" y="7476"/>
                  <a:pt x="3208" y="7419"/>
                </a:cubicBezTo>
                <a:cubicBezTo>
                  <a:pt x="3227" y="7390"/>
                  <a:pt x="3233" y="7380"/>
                  <a:pt x="3245" y="736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343160" y="2584440"/>
            <a:ext cx="48960" cy="101520"/>
          </a:xfrm>
          <a:custGeom>
            <a:avLst/>
            <a:gdLst/>
            <a:ahLst/>
            <a:rect l="l" t="t" r="r" b="b"/>
            <a:pathLst>
              <a:path w="135" h="279">
                <a:moveTo>
                  <a:pt x="3799" y="7239"/>
                </a:moveTo>
                <a:cubicBezTo>
                  <a:pt x="3784" y="7230"/>
                  <a:pt x="3773" y="7223"/>
                  <a:pt x="3756" y="7222"/>
                </a:cubicBezTo>
                <a:cubicBezTo>
                  <a:pt x="3756" y="7210"/>
                  <a:pt x="3762" y="7179"/>
                  <a:pt x="3782" y="7181"/>
                </a:cubicBezTo>
                <a:cubicBezTo>
                  <a:pt x="3798" y="7182"/>
                  <a:pt x="3800" y="7208"/>
                  <a:pt x="3798" y="7219"/>
                </a:cubicBezTo>
                <a:cubicBezTo>
                  <a:pt x="3795" y="7234"/>
                  <a:pt x="3785" y="7246"/>
                  <a:pt x="3770" y="7250"/>
                </a:cubicBezTo>
                <a:cubicBezTo>
                  <a:pt x="3750" y="7255"/>
                  <a:pt x="3733" y="7241"/>
                  <a:pt x="3732" y="7221"/>
                </a:cubicBezTo>
                <a:cubicBezTo>
                  <a:pt x="3732" y="7204"/>
                  <a:pt x="3745" y="7196"/>
                  <a:pt x="3756" y="7186"/>
                </a:cubicBezTo>
              </a:path>
              <a:path w="135" h="279">
                <a:moveTo>
                  <a:pt x="3802" y="7221"/>
                </a:moveTo>
                <a:cubicBezTo>
                  <a:pt x="3812" y="7199"/>
                  <a:pt x="3828" y="7247"/>
                  <a:pt x="3837" y="7267"/>
                </a:cubicBezTo>
                <a:cubicBezTo>
                  <a:pt x="3852" y="7302"/>
                  <a:pt x="3862" y="7337"/>
                  <a:pt x="3865" y="7375"/>
                </a:cubicBezTo>
                <a:cubicBezTo>
                  <a:pt x="3867" y="7395"/>
                  <a:pt x="3868" y="7437"/>
                  <a:pt x="3850" y="7453"/>
                </a:cubicBezTo>
                <a:cubicBezTo>
                  <a:pt x="3833" y="7468"/>
                  <a:pt x="3827" y="7453"/>
                  <a:pt x="3819" y="744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633680" y="2454120"/>
            <a:ext cx="595080" cy="362160"/>
          </a:xfrm>
          <a:custGeom>
            <a:avLst/>
            <a:gdLst/>
            <a:ahLst/>
            <a:rect l="l" t="t" r="r" b="b"/>
            <a:pathLst>
              <a:path w="1654" h="1002">
                <a:moveTo>
                  <a:pt x="4695" y="6955"/>
                </a:moveTo>
                <a:cubicBezTo>
                  <a:pt x="4693" y="6919"/>
                  <a:pt x="4694" y="6871"/>
                  <a:pt x="4674" y="6840"/>
                </a:cubicBezTo>
                <a:cubicBezTo>
                  <a:pt x="4663" y="6823"/>
                  <a:pt x="4654" y="6828"/>
                  <a:pt x="4642" y="6821"/>
                </a:cubicBezTo>
                <a:cubicBezTo>
                  <a:pt x="4611" y="6847"/>
                  <a:pt x="4589" y="6865"/>
                  <a:pt x="4572" y="6908"/>
                </a:cubicBezTo>
                <a:cubicBezTo>
                  <a:pt x="4549" y="6966"/>
                  <a:pt x="4502" y="7126"/>
                  <a:pt x="4560" y="7178"/>
                </a:cubicBezTo>
                <a:cubicBezTo>
                  <a:pt x="4566" y="7180"/>
                  <a:pt x="4572" y="7182"/>
                  <a:pt x="4578" y="7184"/>
                </a:cubicBezTo>
                <a:cubicBezTo>
                  <a:pt x="4631" y="7145"/>
                  <a:pt x="4658" y="7108"/>
                  <a:pt x="4691" y="7049"/>
                </a:cubicBezTo>
                <a:cubicBezTo>
                  <a:pt x="4713" y="7010"/>
                  <a:pt x="4733" y="6970"/>
                  <a:pt x="4753" y="6930"/>
                </a:cubicBezTo>
                <a:cubicBezTo>
                  <a:pt x="4763" y="6980"/>
                  <a:pt x="4765" y="7028"/>
                  <a:pt x="4763" y="7085"/>
                </a:cubicBezTo>
                <a:cubicBezTo>
                  <a:pt x="4759" y="7231"/>
                  <a:pt x="4757" y="7377"/>
                  <a:pt x="4756" y="7523"/>
                </a:cubicBezTo>
                <a:cubicBezTo>
                  <a:pt x="4756" y="7606"/>
                  <a:pt x="4759" y="7689"/>
                  <a:pt x="4762" y="7772"/>
                </a:cubicBezTo>
                <a:cubicBezTo>
                  <a:pt x="4763" y="7798"/>
                  <a:pt x="4763" y="7804"/>
                  <a:pt x="4763" y="7820"/>
                </a:cubicBezTo>
                <a:cubicBezTo>
                  <a:pt x="4772" y="7776"/>
                  <a:pt x="4784" y="7733"/>
                  <a:pt x="4796" y="7690"/>
                </a:cubicBezTo>
                <a:cubicBezTo>
                  <a:pt x="4831" y="7567"/>
                  <a:pt x="4878" y="7449"/>
                  <a:pt x="4922" y="7329"/>
                </a:cubicBezTo>
                <a:cubicBezTo>
                  <a:pt x="4936" y="7290"/>
                  <a:pt x="4956" y="7257"/>
                  <a:pt x="4974" y="7220"/>
                </a:cubicBezTo>
                <a:cubicBezTo>
                  <a:pt x="4981" y="7202"/>
                  <a:pt x="4983" y="7196"/>
                  <a:pt x="4990" y="7185"/>
                </a:cubicBezTo>
              </a:path>
              <a:path w="1654" h="1002">
                <a:moveTo>
                  <a:pt x="5090" y="7176"/>
                </a:moveTo>
                <a:cubicBezTo>
                  <a:pt x="5115" y="7168"/>
                  <a:pt x="5121" y="7167"/>
                  <a:pt x="5147" y="7162"/>
                </a:cubicBezTo>
                <a:cubicBezTo>
                  <a:pt x="5203" y="7151"/>
                  <a:pt x="5259" y="7141"/>
                  <a:pt x="5316" y="7135"/>
                </a:cubicBezTo>
                <a:cubicBezTo>
                  <a:pt x="5388" y="7128"/>
                  <a:pt x="5461" y="7122"/>
                  <a:pt x="5534" y="7125"/>
                </a:cubicBezTo>
                <a:cubicBezTo>
                  <a:pt x="5559" y="7126"/>
                  <a:pt x="5583" y="7127"/>
                  <a:pt x="5608" y="7126"/>
                </a:cubicBezTo>
                <a:cubicBezTo>
                  <a:pt x="5605" y="7105"/>
                  <a:pt x="5603" y="7096"/>
                  <a:pt x="5587" y="7075"/>
                </a:cubicBezTo>
                <a:cubicBezTo>
                  <a:pt x="5561" y="7041"/>
                  <a:pt x="5530" y="7011"/>
                  <a:pt x="5500" y="6981"/>
                </a:cubicBezTo>
                <a:cubicBezTo>
                  <a:pt x="5471" y="6953"/>
                  <a:pt x="5441" y="6922"/>
                  <a:pt x="5409" y="6897"/>
                </a:cubicBezTo>
                <a:cubicBezTo>
                  <a:pt x="5404" y="6894"/>
                  <a:pt x="5400" y="6891"/>
                  <a:pt x="5395" y="6888"/>
                </a:cubicBezTo>
                <a:cubicBezTo>
                  <a:pt x="5416" y="6917"/>
                  <a:pt x="5443" y="6935"/>
                  <a:pt x="5474" y="6955"/>
                </a:cubicBezTo>
                <a:cubicBezTo>
                  <a:pt x="5485" y="6962"/>
                  <a:pt x="5496" y="6968"/>
                  <a:pt x="5507" y="6975"/>
                </a:cubicBezTo>
              </a:path>
              <a:path w="1654" h="1002">
                <a:moveTo>
                  <a:pt x="5665" y="7066"/>
                </a:moveTo>
                <a:cubicBezTo>
                  <a:pt x="5654" y="7097"/>
                  <a:pt x="5640" y="7128"/>
                  <a:pt x="5624" y="7155"/>
                </a:cubicBezTo>
                <a:cubicBezTo>
                  <a:pt x="5600" y="7196"/>
                  <a:pt x="5576" y="7238"/>
                  <a:pt x="5559" y="7283"/>
                </a:cubicBezTo>
                <a:cubicBezTo>
                  <a:pt x="5554" y="7297"/>
                  <a:pt x="5526" y="7346"/>
                  <a:pt x="5544" y="7361"/>
                </a:cubicBezTo>
                <a:cubicBezTo>
                  <a:pt x="5548" y="7362"/>
                  <a:pt x="5551" y="7363"/>
                  <a:pt x="5555" y="7364"/>
                </a:cubicBezTo>
              </a:path>
              <a:path w="1654" h="1002">
                <a:moveTo>
                  <a:pt x="5836" y="7083"/>
                </a:moveTo>
                <a:cubicBezTo>
                  <a:pt x="5859" y="7124"/>
                  <a:pt x="5866" y="7167"/>
                  <a:pt x="5876" y="7214"/>
                </a:cubicBezTo>
                <a:cubicBezTo>
                  <a:pt x="5896" y="7313"/>
                  <a:pt x="5916" y="7416"/>
                  <a:pt x="5914" y="7518"/>
                </a:cubicBezTo>
                <a:cubicBezTo>
                  <a:pt x="5913" y="7526"/>
                  <a:pt x="5913" y="7534"/>
                  <a:pt x="5912" y="7542"/>
                </a:cubicBezTo>
                <a:cubicBezTo>
                  <a:pt x="5891" y="7504"/>
                  <a:pt x="5893" y="7460"/>
                  <a:pt x="5893" y="7416"/>
                </a:cubicBezTo>
                <a:cubicBezTo>
                  <a:pt x="5893" y="7285"/>
                  <a:pt x="5903" y="7122"/>
                  <a:pt x="5982" y="7011"/>
                </a:cubicBezTo>
                <a:cubicBezTo>
                  <a:pt x="6015" y="6965"/>
                  <a:pt x="6057" y="6949"/>
                  <a:pt x="6104" y="6984"/>
                </a:cubicBezTo>
                <a:cubicBezTo>
                  <a:pt x="6150" y="7019"/>
                  <a:pt x="6179" y="7081"/>
                  <a:pt x="6188" y="7137"/>
                </a:cubicBezTo>
                <a:cubicBezTo>
                  <a:pt x="6196" y="7185"/>
                  <a:pt x="6192" y="7243"/>
                  <a:pt x="6150" y="7275"/>
                </a:cubicBezTo>
                <a:cubicBezTo>
                  <a:pt x="6118" y="7299"/>
                  <a:pt x="6080" y="7294"/>
                  <a:pt x="6050" y="7273"/>
                </a:cubicBezTo>
                <a:cubicBezTo>
                  <a:pt x="6030" y="7259"/>
                  <a:pt x="6024" y="7247"/>
                  <a:pt x="6016" y="722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357280" y="2600280"/>
            <a:ext cx="78120" cy="196920"/>
          </a:xfrm>
          <a:custGeom>
            <a:avLst/>
            <a:gdLst/>
            <a:ahLst/>
            <a:rect l="l" t="t" r="r" b="b"/>
            <a:pathLst>
              <a:path w="216" h="551">
                <a:moveTo>
                  <a:pt x="6621" y="7382"/>
                </a:moveTo>
                <a:cubicBezTo>
                  <a:pt x="6598" y="7378"/>
                  <a:pt x="6588" y="7370"/>
                  <a:pt x="6588" y="7346"/>
                </a:cubicBezTo>
                <a:cubicBezTo>
                  <a:pt x="6588" y="7315"/>
                  <a:pt x="6605" y="7286"/>
                  <a:pt x="6619" y="7259"/>
                </a:cubicBezTo>
                <a:cubicBezTo>
                  <a:pt x="6629" y="7241"/>
                  <a:pt x="6634" y="7232"/>
                  <a:pt x="6650" y="7221"/>
                </a:cubicBezTo>
                <a:cubicBezTo>
                  <a:pt x="6657" y="7259"/>
                  <a:pt x="6646" y="7291"/>
                  <a:pt x="6632" y="7328"/>
                </a:cubicBezTo>
                <a:cubicBezTo>
                  <a:pt x="6617" y="7366"/>
                  <a:pt x="6602" y="7406"/>
                  <a:pt x="6576" y="7438"/>
                </a:cubicBezTo>
                <a:cubicBezTo>
                  <a:pt x="6566" y="7447"/>
                  <a:pt x="6563" y="7450"/>
                  <a:pt x="6553" y="7443"/>
                </a:cubicBezTo>
                <a:cubicBezTo>
                  <a:pt x="6549" y="7419"/>
                  <a:pt x="6552" y="7402"/>
                  <a:pt x="6561" y="7379"/>
                </a:cubicBezTo>
                <a:cubicBezTo>
                  <a:pt x="6571" y="7353"/>
                  <a:pt x="6587" y="7328"/>
                  <a:pt x="6612" y="7317"/>
                </a:cubicBezTo>
                <a:cubicBezTo>
                  <a:pt x="6628" y="7310"/>
                  <a:pt x="6636" y="7313"/>
                  <a:pt x="6651" y="7318"/>
                </a:cubicBezTo>
              </a:path>
              <a:path w="216" h="551">
                <a:moveTo>
                  <a:pt x="6654" y="7351"/>
                </a:moveTo>
                <a:cubicBezTo>
                  <a:pt x="6649" y="7330"/>
                  <a:pt x="6644" y="7318"/>
                  <a:pt x="6652" y="7300"/>
                </a:cubicBezTo>
                <a:cubicBezTo>
                  <a:pt x="6677" y="7309"/>
                  <a:pt x="6692" y="7323"/>
                  <a:pt x="6708" y="7345"/>
                </a:cubicBezTo>
                <a:cubicBezTo>
                  <a:pt x="6743" y="7393"/>
                  <a:pt x="6759" y="7450"/>
                  <a:pt x="6764" y="7509"/>
                </a:cubicBezTo>
                <a:cubicBezTo>
                  <a:pt x="6769" y="7576"/>
                  <a:pt x="6763" y="7643"/>
                  <a:pt x="6727" y="7701"/>
                </a:cubicBezTo>
                <a:cubicBezTo>
                  <a:pt x="6711" y="7727"/>
                  <a:pt x="6682" y="7773"/>
                  <a:pt x="6646" y="7771"/>
                </a:cubicBezTo>
                <a:cubicBezTo>
                  <a:pt x="6633" y="7765"/>
                  <a:pt x="6628" y="7763"/>
                  <a:pt x="6624" y="775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606760" y="2502000"/>
            <a:ext cx="650880" cy="303120"/>
          </a:xfrm>
          <a:custGeom>
            <a:avLst/>
            <a:gdLst/>
            <a:ahLst/>
            <a:rect l="l" t="t" r="r" b="b"/>
            <a:pathLst>
              <a:path w="1810" h="845">
                <a:moveTo>
                  <a:pt x="7278" y="7127"/>
                </a:moveTo>
                <a:cubicBezTo>
                  <a:pt x="7264" y="7126"/>
                  <a:pt x="7254" y="7127"/>
                  <a:pt x="7240" y="7130"/>
                </a:cubicBezTo>
                <a:cubicBezTo>
                  <a:pt x="7261" y="7136"/>
                  <a:pt x="7279" y="7136"/>
                  <a:pt x="7301" y="7133"/>
                </a:cubicBezTo>
                <a:cubicBezTo>
                  <a:pt x="7327" y="7129"/>
                  <a:pt x="7354" y="7124"/>
                  <a:pt x="7380" y="7120"/>
                </a:cubicBezTo>
                <a:cubicBezTo>
                  <a:pt x="7414" y="7115"/>
                  <a:pt x="7447" y="7111"/>
                  <a:pt x="7481" y="7106"/>
                </a:cubicBezTo>
                <a:cubicBezTo>
                  <a:pt x="7513" y="7101"/>
                  <a:pt x="7546" y="7098"/>
                  <a:pt x="7577" y="7091"/>
                </a:cubicBezTo>
                <a:cubicBezTo>
                  <a:pt x="7597" y="7086"/>
                  <a:pt x="7616" y="7083"/>
                  <a:pt x="7637" y="7081"/>
                </a:cubicBezTo>
                <a:cubicBezTo>
                  <a:pt x="7649" y="7080"/>
                  <a:pt x="7660" y="7079"/>
                  <a:pt x="7672" y="7077"/>
                </a:cubicBezTo>
                <a:cubicBezTo>
                  <a:pt x="7665" y="7051"/>
                  <a:pt x="7658" y="7103"/>
                  <a:pt x="7655" y="7115"/>
                </a:cubicBezTo>
                <a:cubicBezTo>
                  <a:pt x="7647" y="7152"/>
                  <a:pt x="7636" y="7189"/>
                  <a:pt x="7627" y="7226"/>
                </a:cubicBezTo>
                <a:cubicBezTo>
                  <a:pt x="7620" y="7254"/>
                  <a:pt x="7614" y="7283"/>
                  <a:pt x="7604" y="7310"/>
                </a:cubicBezTo>
                <a:cubicBezTo>
                  <a:pt x="7603" y="7314"/>
                  <a:pt x="7601" y="7317"/>
                  <a:pt x="7600" y="7321"/>
                </a:cubicBezTo>
                <a:cubicBezTo>
                  <a:pt x="7611" y="7307"/>
                  <a:pt x="7621" y="7293"/>
                  <a:pt x="7632" y="7280"/>
                </a:cubicBezTo>
              </a:path>
              <a:path w="1810" h="845">
                <a:moveTo>
                  <a:pt x="8088" y="7046"/>
                </a:moveTo>
                <a:cubicBezTo>
                  <a:pt x="8093" y="7030"/>
                  <a:pt x="8105" y="7011"/>
                  <a:pt x="8100" y="6993"/>
                </a:cubicBezTo>
                <a:cubicBezTo>
                  <a:pt x="8092" y="6978"/>
                  <a:pt x="8089" y="6971"/>
                  <a:pt x="8083" y="6961"/>
                </a:cubicBezTo>
                <a:cubicBezTo>
                  <a:pt x="8057" y="6985"/>
                  <a:pt x="8043" y="7005"/>
                  <a:pt x="8025" y="7041"/>
                </a:cubicBezTo>
                <a:cubicBezTo>
                  <a:pt x="7987" y="7116"/>
                  <a:pt x="7958" y="7197"/>
                  <a:pt x="7937" y="7279"/>
                </a:cubicBezTo>
                <a:cubicBezTo>
                  <a:pt x="7930" y="7308"/>
                  <a:pt x="7930" y="7330"/>
                  <a:pt x="7929" y="7357"/>
                </a:cubicBezTo>
                <a:cubicBezTo>
                  <a:pt x="7957" y="7340"/>
                  <a:pt x="7973" y="7324"/>
                  <a:pt x="7995" y="7294"/>
                </a:cubicBezTo>
                <a:cubicBezTo>
                  <a:pt x="8039" y="7233"/>
                  <a:pt x="8072" y="7154"/>
                  <a:pt x="8127" y="7102"/>
                </a:cubicBezTo>
                <a:cubicBezTo>
                  <a:pt x="8131" y="7099"/>
                  <a:pt x="8136" y="7096"/>
                  <a:pt x="8140" y="7093"/>
                </a:cubicBezTo>
                <a:cubicBezTo>
                  <a:pt x="8158" y="7126"/>
                  <a:pt x="8158" y="7146"/>
                  <a:pt x="8155" y="7193"/>
                </a:cubicBezTo>
                <a:cubicBezTo>
                  <a:pt x="8150" y="7289"/>
                  <a:pt x="8141" y="7384"/>
                  <a:pt x="8129" y="7480"/>
                </a:cubicBezTo>
                <a:cubicBezTo>
                  <a:pt x="8119" y="7565"/>
                  <a:pt x="8103" y="7650"/>
                  <a:pt x="8097" y="7736"/>
                </a:cubicBezTo>
                <a:cubicBezTo>
                  <a:pt x="8096" y="7767"/>
                  <a:pt x="8097" y="7774"/>
                  <a:pt x="8092" y="7793"/>
                </a:cubicBezTo>
                <a:cubicBezTo>
                  <a:pt x="8109" y="7751"/>
                  <a:pt x="8125" y="7708"/>
                  <a:pt x="8139" y="7664"/>
                </a:cubicBezTo>
                <a:cubicBezTo>
                  <a:pt x="8159" y="7600"/>
                  <a:pt x="8182" y="7542"/>
                  <a:pt x="8208" y="7481"/>
                </a:cubicBezTo>
                <a:cubicBezTo>
                  <a:pt x="8224" y="7444"/>
                  <a:pt x="8239" y="7411"/>
                  <a:pt x="8260" y="7377"/>
                </a:cubicBezTo>
              </a:path>
              <a:path w="1810" h="845">
                <a:moveTo>
                  <a:pt x="8417" y="7153"/>
                </a:moveTo>
                <a:cubicBezTo>
                  <a:pt x="8409" y="7132"/>
                  <a:pt x="8462" y="7153"/>
                  <a:pt x="8491" y="7156"/>
                </a:cubicBezTo>
                <a:cubicBezTo>
                  <a:pt x="8567" y="7163"/>
                  <a:pt x="8643" y="7161"/>
                  <a:pt x="8719" y="7155"/>
                </a:cubicBezTo>
                <a:cubicBezTo>
                  <a:pt x="8803" y="7148"/>
                  <a:pt x="8886" y="7136"/>
                  <a:pt x="8968" y="7118"/>
                </a:cubicBezTo>
                <a:cubicBezTo>
                  <a:pt x="8984" y="7114"/>
                  <a:pt x="8999" y="7111"/>
                  <a:pt x="9015" y="7108"/>
                </a:cubicBezTo>
                <a:cubicBezTo>
                  <a:pt x="8994" y="7099"/>
                  <a:pt x="8973" y="7088"/>
                  <a:pt x="8952" y="7078"/>
                </a:cubicBezTo>
                <a:cubicBezTo>
                  <a:pt x="8917" y="7062"/>
                  <a:pt x="8883" y="7043"/>
                  <a:pt x="8850" y="7022"/>
                </a:cubicBezTo>
                <a:cubicBezTo>
                  <a:pt x="8829" y="7009"/>
                  <a:pt x="8794" y="6994"/>
                  <a:pt x="8781" y="6972"/>
                </a:cubicBezTo>
                <a:cubicBezTo>
                  <a:pt x="8780" y="6968"/>
                  <a:pt x="8779" y="6964"/>
                  <a:pt x="8778" y="6960"/>
                </a:cubicBezTo>
                <a:cubicBezTo>
                  <a:pt x="8808" y="6948"/>
                  <a:pt x="8841" y="6949"/>
                  <a:pt x="8876" y="6950"/>
                </a:cubicBezTo>
                <a:cubicBezTo>
                  <a:pt x="8910" y="6952"/>
                  <a:pt x="8922" y="6953"/>
                  <a:pt x="8944" y="6957"/>
                </a:cubicBezTo>
              </a:path>
              <a:path w="1810" h="845">
                <a:moveTo>
                  <a:pt x="9049" y="7019"/>
                </a:moveTo>
                <a:cubicBezTo>
                  <a:pt x="9042" y="7064"/>
                  <a:pt x="9023" y="7092"/>
                  <a:pt x="9006" y="7132"/>
                </a:cubicBezTo>
                <a:cubicBezTo>
                  <a:pt x="8983" y="7186"/>
                  <a:pt x="8959" y="7239"/>
                  <a:pt x="8936" y="7293"/>
                </a:cubicBezTo>
                <a:cubicBezTo>
                  <a:pt x="8932" y="7303"/>
                  <a:pt x="8902" y="7374"/>
                  <a:pt x="8923" y="7384"/>
                </a:cubicBezTo>
                <a:cubicBezTo>
                  <a:pt x="8929" y="7384"/>
                  <a:pt x="8934" y="7383"/>
                  <a:pt x="8940" y="738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417840" y="2541600"/>
            <a:ext cx="441360" cy="249120"/>
          </a:xfrm>
          <a:custGeom>
            <a:avLst/>
            <a:gdLst/>
            <a:ahLst/>
            <a:rect l="l" t="t" r="r" b="b"/>
            <a:pathLst>
              <a:path w="1224" h="694">
                <a:moveTo>
                  <a:pt x="9548" y="7092"/>
                </a:moveTo>
                <a:cubicBezTo>
                  <a:pt x="9528" y="7095"/>
                  <a:pt x="9513" y="7101"/>
                  <a:pt x="9494" y="7107"/>
                </a:cubicBezTo>
                <a:cubicBezTo>
                  <a:pt x="9519" y="7126"/>
                  <a:pt x="9551" y="7119"/>
                  <a:pt x="9584" y="7114"/>
                </a:cubicBezTo>
                <a:cubicBezTo>
                  <a:pt x="9636" y="7106"/>
                  <a:pt x="9685" y="7090"/>
                  <a:pt x="9736" y="7077"/>
                </a:cubicBezTo>
                <a:cubicBezTo>
                  <a:pt x="9762" y="7070"/>
                  <a:pt x="9807" y="7051"/>
                  <a:pt x="9834" y="7061"/>
                </a:cubicBezTo>
                <a:cubicBezTo>
                  <a:pt x="9859" y="7070"/>
                  <a:pt x="9847" y="7107"/>
                  <a:pt x="9841" y="7124"/>
                </a:cubicBezTo>
                <a:cubicBezTo>
                  <a:pt x="9817" y="7191"/>
                  <a:pt x="9767" y="7247"/>
                  <a:pt x="9741" y="7313"/>
                </a:cubicBezTo>
                <a:cubicBezTo>
                  <a:pt x="9736" y="7333"/>
                  <a:pt x="9736" y="7337"/>
                  <a:pt x="9730" y="7347"/>
                </a:cubicBezTo>
                <a:cubicBezTo>
                  <a:pt x="9760" y="7345"/>
                  <a:pt x="9766" y="7340"/>
                  <a:pt x="9793" y="7323"/>
                </a:cubicBezTo>
              </a:path>
              <a:path w="1224" h="694">
                <a:moveTo>
                  <a:pt x="10119" y="7162"/>
                </a:moveTo>
                <a:cubicBezTo>
                  <a:pt x="10103" y="7205"/>
                  <a:pt x="10105" y="7239"/>
                  <a:pt x="10103" y="7285"/>
                </a:cubicBezTo>
                <a:cubicBezTo>
                  <a:pt x="10099" y="7374"/>
                  <a:pt x="10101" y="7462"/>
                  <a:pt x="10101" y="7551"/>
                </a:cubicBezTo>
                <a:cubicBezTo>
                  <a:pt x="10101" y="7613"/>
                  <a:pt x="10107" y="7678"/>
                  <a:pt x="10101" y="7740"/>
                </a:cubicBezTo>
                <a:cubicBezTo>
                  <a:pt x="10100" y="7744"/>
                  <a:pt x="10099" y="7747"/>
                  <a:pt x="10098" y="7751"/>
                </a:cubicBezTo>
                <a:cubicBezTo>
                  <a:pt x="10090" y="7697"/>
                  <a:pt x="10090" y="7644"/>
                  <a:pt x="10094" y="7589"/>
                </a:cubicBezTo>
                <a:cubicBezTo>
                  <a:pt x="10101" y="7495"/>
                  <a:pt x="10119" y="7402"/>
                  <a:pt x="10148" y="7312"/>
                </a:cubicBezTo>
                <a:cubicBezTo>
                  <a:pt x="10166" y="7255"/>
                  <a:pt x="10190" y="7175"/>
                  <a:pt x="10243" y="7139"/>
                </a:cubicBezTo>
                <a:cubicBezTo>
                  <a:pt x="10251" y="7137"/>
                  <a:pt x="10258" y="7134"/>
                  <a:pt x="10266" y="7132"/>
                </a:cubicBezTo>
                <a:cubicBezTo>
                  <a:pt x="10307" y="7154"/>
                  <a:pt x="10321" y="7177"/>
                  <a:pt x="10323" y="7226"/>
                </a:cubicBezTo>
                <a:cubicBezTo>
                  <a:pt x="10326" y="7285"/>
                  <a:pt x="10302" y="7343"/>
                  <a:pt x="10256" y="7381"/>
                </a:cubicBezTo>
                <a:cubicBezTo>
                  <a:pt x="10216" y="7414"/>
                  <a:pt x="10162" y="7429"/>
                  <a:pt x="10112" y="7413"/>
                </a:cubicBezTo>
                <a:cubicBezTo>
                  <a:pt x="10079" y="7402"/>
                  <a:pt x="10077" y="7384"/>
                  <a:pt x="10069" y="7356"/>
                </a:cubicBezTo>
              </a:path>
              <a:path w="1224" h="694">
                <a:moveTo>
                  <a:pt x="10701" y="7434"/>
                </a:moveTo>
                <a:cubicBezTo>
                  <a:pt x="10703" y="7419"/>
                  <a:pt x="10704" y="7415"/>
                  <a:pt x="10702" y="7405"/>
                </a:cubicBezTo>
                <a:cubicBezTo>
                  <a:pt x="10716" y="7432"/>
                  <a:pt x="10718" y="7452"/>
                  <a:pt x="10717" y="7483"/>
                </a:cubicBezTo>
                <a:cubicBezTo>
                  <a:pt x="10715" y="7524"/>
                  <a:pt x="10704" y="7562"/>
                  <a:pt x="10683" y="7597"/>
                </a:cubicBezTo>
                <a:cubicBezTo>
                  <a:pt x="10673" y="7613"/>
                  <a:pt x="10668" y="7618"/>
                  <a:pt x="10652" y="7620"/>
                </a:cubicBezTo>
                <a:cubicBezTo>
                  <a:pt x="10655" y="7604"/>
                  <a:pt x="10662" y="7593"/>
                  <a:pt x="10671" y="7578"/>
                </a:cubicBezTo>
              </a:path>
              <a:path w="1224" h="694">
                <a:moveTo>
                  <a:pt x="10685" y="7456"/>
                </a:moveTo>
                <a:cubicBezTo>
                  <a:pt x="10670" y="7443"/>
                  <a:pt x="10661" y="7424"/>
                  <a:pt x="10649" y="7407"/>
                </a:cubicBezTo>
                <a:cubicBezTo>
                  <a:pt x="10641" y="7396"/>
                  <a:pt x="10629" y="7382"/>
                  <a:pt x="10614" y="7380"/>
                </a:cubicBezTo>
                <a:cubicBezTo>
                  <a:pt x="10591" y="7376"/>
                  <a:pt x="10595" y="7396"/>
                  <a:pt x="10594" y="741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119480" y="2543040"/>
            <a:ext cx="558720" cy="219240"/>
          </a:xfrm>
          <a:custGeom>
            <a:avLst/>
            <a:gdLst/>
            <a:ahLst/>
            <a:rect l="l" t="t" r="r" b="b"/>
            <a:pathLst>
              <a:path w="1550" h="611">
                <a:moveTo>
                  <a:pt x="11445" y="7174"/>
                </a:moveTo>
                <a:cubicBezTo>
                  <a:pt x="11464" y="7185"/>
                  <a:pt x="11478" y="7186"/>
                  <a:pt x="11501" y="7186"/>
                </a:cubicBezTo>
                <a:cubicBezTo>
                  <a:pt x="11536" y="7185"/>
                  <a:pt x="11570" y="7177"/>
                  <a:pt x="11605" y="7171"/>
                </a:cubicBezTo>
                <a:cubicBezTo>
                  <a:pt x="11644" y="7164"/>
                  <a:pt x="11682" y="7155"/>
                  <a:pt x="11720" y="7147"/>
                </a:cubicBezTo>
                <a:cubicBezTo>
                  <a:pt x="11749" y="7141"/>
                  <a:pt x="11777" y="7139"/>
                  <a:pt x="11806" y="7134"/>
                </a:cubicBezTo>
                <a:cubicBezTo>
                  <a:pt x="11801" y="7158"/>
                  <a:pt x="11795" y="7181"/>
                  <a:pt x="11788" y="7204"/>
                </a:cubicBezTo>
                <a:cubicBezTo>
                  <a:pt x="11779" y="7237"/>
                  <a:pt x="11767" y="7269"/>
                  <a:pt x="11753" y="7300"/>
                </a:cubicBezTo>
                <a:cubicBezTo>
                  <a:pt x="11745" y="7319"/>
                  <a:pt x="11716" y="7369"/>
                  <a:pt x="11718" y="7349"/>
                </a:cubicBezTo>
                <a:cubicBezTo>
                  <a:pt x="11726" y="7335"/>
                  <a:pt x="11727" y="7332"/>
                  <a:pt x="11732" y="7324"/>
                </a:cubicBezTo>
              </a:path>
              <a:path w="1550" h="611">
                <a:moveTo>
                  <a:pt x="12029" y="7226"/>
                </a:moveTo>
                <a:cubicBezTo>
                  <a:pt x="12004" y="7200"/>
                  <a:pt x="12016" y="7244"/>
                  <a:pt x="12018" y="7262"/>
                </a:cubicBezTo>
                <a:cubicBezTo>
                  <a:pt x="12025" y="7316"/>
                  <a:pt x="12037" y="7369"/>
                  <a:pt x="12047" y="7422"/>
                </a:cubicBezTo>
                <a:cubicBezTo>
                  <a:pt x="12060" y="7491"/>
                  <a:pt x="12074" y="7563"/>
                  <a:pt x="12079" y="7633"/>
                </a:cubicBezTo>
                <a:cubicBezTo>
                  <a:pt x="12080" y="7655"/>
                  <a:pt x="12081" y="7660"/>
                  <a:pt x="12077" y="7673"/>
                </a:cubicBezTo>
                <a:cubicBezTo>
                  <a:pt x="12059" y="7654"/>
                  <a:pt x="12053" y="7640"/>
                  <a:pt x="12045" y="7605"/>
                </a:cubicBezTo>
                <a:cubicBezTo>
                  <a:pt x="12031" y="7543"/>
                  <a:pt x="12030" y="7481"/>
                  <a:pt x="12036" y="7418"/>
                </a:cubicBezTo>
                <a:cubicBezTo>
                  <a:pt x="12043" y="7337"/>
                  <a:pt x="12061" y="7253"/>
                  <a:pt x="12110" y="7186"/>
                </a:cubicBezTo>
                <a:cubicBezTo>
                  <a:pt x="12136" y="7150"/>
                  <a:pt x="12172" y="7136"/>
                  <a:pt x="12212" y="7162"/>
                </a:cubicBezTo>
                <a:cubicBezTo>
                  <a:pt x="12273" y="7202"/>
                  <a:pt x="12299" y="7298"/>
                  <a:pt x="12283" y="7364"/>
                </a:cubicBezTo>
                <a:cubicBezTo>
                  <a:pt x="12272" y="7409"/>
                  <a:pt x="12240" y="7447"/>
                  <a:pt x="12196" y="7463"/>
                </a:cubicBezTo>
                <a:cubicBezTo>
                  <a:pt x="12170" y="7472"/>
                  <a:pt x="12126" y="7484"/>
                  <a:pt x="12115" y="7448"/>
                </a:cubicBezTo>
                <a:cubicBezTo>
                  <a:pt x="12114" y="7423"/>
                  <a:pt x="12114" y="7413"/>
                  <a:pt x="12122" y="7397"/>
                </a:cubicBezTo>
              </a:path>
              <a:path w="1550" h="611">
                <a:moveTo>
                  <a:pt x="12432" y="7275"/>
                </a:moveTo>
                <a:cubicBezTo>
                  <a:pt x="12458" y="7288"/>
                  <a:pt x="12473" y="7281"/>
                  <a:pt x="12502" y="7278"/>
                </a:cubicBezTo>
                <a:cubicBezTo>
                  <a:pt x="12553" y="7273"/>
                  <a:pt x="12604" y="7272"/>
                  <a:pt x="12655" y="7269"/>
                </a:cubicBezTo>
                <a:cubicBezTo>
                  <a:pt x="12723" y="7265"/>
                  <a:pt x="12791" y="7262"/>
                  <a:pt x="12859" y="7254"/>
                </a:cubicBezTo>
                <a:cubicBezTo>
                  <a:pt x="12890" y="7251"/>
                  <a:pt x="12909" y="7247"/>
                  <a:pt x="12934" y="7230"/>
                </a:cubicBezTo>
                <a:cubicBezTo>
                  <a:pt x="12925" y="7203"/>
                  <a:pt x="12914" y="7197"/>
                  <a:pt x="12889" y="7183"/>
                </a:cubicBezTo>
                <a:cubicBezTo>
                  <a:pt x="12855" y="7164"/>
                  <a:pt x="12819" y="7149"/>
                  <a:pt x="12783" y="7134"/>
                </a:cubicBezTo>
                <a:cubicBezTo>
                  <a:pt x="12763" y="7126"/>
                  <a:pt x="12718" y="7115"/>
                  <a:pt x="12709" y="7091"/>
                </a:cubicBezTo>
                <a:cubicBezTo>
                  <a:pt x="12709" y="7088"/>
                  <a:pt x="12710" y="7084"/>
                  <a:pt x="12710" y="7081"/>
                </a:cubicBezTo>
                <a:cubicBezTo>
                  <a:pt x="12741" y="7069"/>
                  <a:pt x="12772" y="7064"/>
                  <a:pt x="12806" y="7063"/>
                </a:cubicBezTo>
                <a:cubicBezTo>
                  <a:pt x="12859" y="7062"/>
                  <a:pt x="12940" y="7066"/>
                  <a:pt x="12977" y="7111"/>
                </a:cubicBezTo>
                <a:cubicBezTo>
                  <a:pt x="12996" y="7135"/>
                  <a:pt x="12997" y="7166"/>
                  <a:pt x="12989" y="7194"/>
                </a:cubicBezTo>
                <a:cubicBezTo>
                  <a:pt x="12978" y="7230"/>
                  <a:pt x="12956" y="7264"/>
                  <a:pt x="12934" y="7294"/>
                </a:cubicBezTo>
                <a:cubicBezTo>
                  <a:pt x="12917" y="7317"/>
                  <a:pt x="12900" y="7337"/>
                  <a:pt x="12884" y="7361"/>
                </a:cubicBezTo>
                <a:cubicBezTo>
                  <a:pt x="12881" y="7365"/>
                  <a:pt x="12879" y="7368"/>
                  <a:pt x="12876" y="737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792680" y="2554200"/>
            <a:ext cx="361800" cy="222480"/>
          </a:xfrm>
          <a:custGeom>
            <a:avLst/>
            <a:gdLst/>
            <a:ahLst/>
            <a:rect l="l" t="t" r="r" b="b"/>
            <a:pathLst>
              <a:path w="1007" h="617">
                <a:moveTo>
                  <a:pt x="13325" y="7126"/>
                </a:moveTo>
                <a:cubicBezTo>
                  <a:pt x="13322" y="7126"/>
                  <a:pt x="13319" y="7126"/>
                  <a:pt x="13316" y="7126"/>
                </a:cubicBezTo>
                <a:cubicBezTo>
                  <a:pt x="13316" y="7150"/>
                  <a:pt x="13328" y="7152"/>
                  <a:pt x="13354" y="7158"/>
                </a:cubicBezTo>
                <a:cubicBezTo>
                  <a:pt x="13393" y="7167"/>
                  <a:pt x="13434" y="7170"/>
                  <a:pt x="13474" y="7170"/>
                </a:cubicBezTo>
                <a:cubicBezTo>
                  <a:pt x="13520" y="7170"/>
                  <a:pt x="13569" y="7170"/>
                  <a:pt x="13615" y="7162"/>
                </a:cubicBezTo>
                <a:cubicBezTo>
                  <a:pt x="13640" y="7158"/>
                  <a:pt x="13664" y="7151"/>
                  <a:pt x="13688" y="7143"/>
                </a:cubicBezTo>
                <a:cubicBezTo>
                  <a:pt x="13673" y="7164"/>
                  <a:pt x="13659" y="7184"/>
                  <a:pt x="13646" y="7206"/>
                </a:cubicBezTo>
                <a:cubicBezTo>
                  <a:pt x="13633" y="7228"/>
                  <a:pt x="13620" y="7246"/>
                  <a:pt x="13615" y="7271"/>
                </a:cubicBezTo>
                <a:cubicBezTo>
                  <a:pt x="13614" y="7278"/>
                  <a:pt x="13613" y="7285"/>
                  <a:pt x="13612" y="7292"/>
                </a:cubicBezTo>
              </a:path>
              <a:path w="1007" h="617">
                <a:moveTo>
                  <a:pt x="13974" y="7132"/>
                </a:moveTo>
                <a:cubicBezTo>
                  <a:pt x="13982" y="7119"/>
                  <a:pt x="13989" y="7108"/>
                  <a:pt x="13996" y="7095"/>
                </a:cubicBezTo>
                <a:cubicBezTo>
                  <a:pt x="13966" y="7106"/>
                  <a:pt x="13960" y="7130"/>
                  <a:pt x="13946" y="7161"/>
                </a:cubicBezTo>
                <a:cubicBezTo>
                  <a:pt x="13931" y="7195"/>
                  <a:pt x="13883" y="7297"/>
                  <a:pt x="13925" y="7330"/>
                </a:cubicBezTo>
                <a:cubicBezTo>
                  <a:pt x="13951" y="7350"/>
                  <a:pt x="13996" y="7309"/>
                  <a:pt x="14012" y="7296"/>
                </a:cubicBezTo>
                <a:cubicBezTo>
                  <a:pt x="14052" y="7263"/>
                  <a:pt x="14101" y="7180"/>
                  <a:pt x="14153" y="7167"/>
                </a:cubicBezTo>
                <a:cubicBezTo>
                  <a:pt x="14166" y="7164"/>
                  <a:pt x="14169" y="7163"/>
                  <a:pt x="14177" y="7167"/>
                </a:cubicBezTo>
                <a:cubicBezTo>
                  <a:pt x="14184" y="7206"/>
                  <a:pt x="14184" y="7228"/>
                  <a:pt x="14173" y="7269"/>
                </a:cubicBezTo>
                <a:cubicBezTo>
                  <a:pt x="14146" y="7376"/>
                  <a:pt x="14094" y="7473"/>
                  <a:pt x="14049" y="7573"/>
                </a:cubicBezTo>
                <a:cubicBezTo>
                  <a:pt x="14038" y="7598"/>
                  <a:pt x="13998" y="7659"/>
                  <a:pt x="14004" y="7690"/>
                </a:cubicBezTo>
                <a:cubicBezTo>
                  <a:pt x="14005" y="7702"/>
                  <a:pt x="14006" y="7707"/>
                  <a:pt x="14015" y="7711"/>
                </a:cubicBezTo>
                <a:cubicBezTo>
                  <a:pt x="14035" y="7701"/>
                  <a:pt x="14050" y="7693"/>
                  <a:pt x="14066" y="7674"/>
                </a:cubicBezTo>
                <a:cubicBezTo>
                  <a:pt x="14097" y="7638"/>
                  <a:pt x="14127" y="7599"/>
                  <a:pt x="14155" y="7561"/>
                </a:cubicBezTo>
                <a:cubicBezTo>
                  <a:pt x="14203" y="7496"/>
                  <a:pt x="14256" y="7434"/>
                  <a:pt x="14301" y="7367"/>
                </a:cubicBezTo>
                <a:cubicBezTo>
                  <a:pt x="14324" y="7333"/>
                  <a:pt x="14319" y="7340"/>
                  <a:pt x="14288" y="735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74840" y="2698920"/>
            <a:ext cx="4687560" cy="1579320"/>
          </a:xfrm>
          <a:custGeom>
            <a:avLst/>
            <a:gdLst/>
            <a:ahLst/>
            <a:rect l="l" t="t" r="r" b="b"/>
            <a:pathLst>
              <a:path w="13023" h="4384">
                <a:moveTo>
                  <a:pt x="1356" y="7643"/>
                </a:moveTo>
                <a:cubicBezTo>
                  <a:pt x="1345" y="7728"/>
                  <a:pt x="1327" y="7813"/>
                  <a:pt x="1320" y="7899"/>
                </a:cubicBezTo>
                <a:cubicBezTo>
                  <a:pt x="1315" y="7963"/>
                  <a:pt x="1347" y="7987"/>
                  <a:pt x="1405" y="7986"/>
                </a:cubicBezTo>
                <a:cubicBezTo>
                  <a:pt x="1459" y="7985"/>
                  <a:pt x="1513" y="7967"/>
                  <a:pt x="1566" y="7958"/>
                </a:cubicBezTo>
                <a:cubicBezTo>
                  <a:pt x="1833" y="7914"/>
                  <a:pt x="2109" y="7905"/>
                  <a:pt x="2379" y="7907"/>
                </a:cubicBezTo>
                <a:cubicBezTo>
                  <a:pt x="2583" y="7909"/>
                  <a:pt x="2786" y="7940"/>
                  <a:pt x="2989" y="7959"/>
                </a:cubicBezTo>
                <a:cubicBezTo>
                  <a:pt x="3036" y="7963"/>
                  <a:pt x="3074" y="7960"/>
                  <a:pt x="3120" y="7958"/>
                </a:cubicBezTo>
                <a:cubicBezTo>
                  <a:pt x="3172" y="7955"/>
                  <a:pt x="3211" y="7954"/>
                  <a:pt x="3261" y="7940"/>
                </a:cubicBezTo>
                <a:cubicBezTo>
                  <a:pt x="3299" y="7930"/>
                  <a:pt x="3339" y="7932"/>
                  <a:pt x="3376" y="7922"/>
                </a:cubicBezTo>
                <a:cubicBezTo>
                  <a:pt x="3398" y="7916"/>
                  <a:pt x="3410" y="7917"/>
                  <a:pt x="3425" y="7896"/>
                </a:cubicBezTo>
                <a:cubicBezTo>
                  <a:pt x="3452" y="7857"/>
                  <a:pt x="3436" y="7793"/>
                  <a:pt x="3436" y="7751"/>
                </a:cubicBezTo>
                <a:cubicBezTo>
                  <a:pt x="3435" y="7667"/>
                  <a:pt x="3436" y="7582"/>
                  <a:pt x="3432" y="7498"/>
                </a:cubicBezTo>
                <a:cubicBezTo>
                  <a:pt x="3408" y="7522"/>
                  <a:pt x="3386" y="7545"/>
                  <a:pt x="3363" y="7572"/>
                </a:cubicBezTo>
              </a:path>
              <a:path w="13023" h="4384">
                <a:moveTo>
                  <a:pt x="3395" y="8107"/>
                </a:moveTo>
                <a:cubicBezTo>
                  <a:pt x="3390" y="8096"/>
                  <a:pt x="3389" y="8092"/>
                  <a:pt x="3386" y="8085"/>
                </a:cubicBezTo>
                <a:cubicBezTo>
                  <a:pt x="3403" y="8116"/>
                  <a:pt x="3410" y="8160"/>
                  <a:pt x="3433" y="8189"/>
                </a:cubicBezTo>
                <a:cubicBezTo>
                  <a:pt x="3510" y="8284"/>
                  <a:pt x="3622" y="8279"/>
                  <a:pt x="3733" y="8275"/>
                </a:cubicBezTo>
                <a:cubicBezTo>
                  <a:pt x="4388" y="8252"/>
                  <a:pt x="5042" y="8302"/>
                  <a:pt x="5698" y="8287"/>
                </a:cubicBezTo>
                <a:cubicBezTo>
                  <a:pt x="6018" y="8280"/>
                  <a:pt x="6334" y="8291"/>
                  <a:pt x="6654" y="8298"/>
                </a:cubicBezTo>
                <a:cubicBezTo>
                  <a:pt x="6960" y="8304"/>
                  <a:pt x="7270" y="8267"/>
                  <a:pt x="7576" y="8252"/>
                </a:cubicBezTo>
                <a:cubicBezTo>
                  <a:pt x="7706" y="8246"/>
                  <a:pt x="7817" y="8254"/>
                  <a:pt x="7944" y="8272"/>
                </a:cubicBezTo>
                <a:cubicBezTo>
                  <a:pt x="8048" y="8287"/>
                  <a:pt x="8158" y="8291"/>
                  <a:pt x="8263" y="8287"/>
                </a:cubicBezTo>
                <a:cubicBezTo>
                  <a:pt x="8336" y="8284"/>
                  <a:pt x="8434" y="8284"/>
                  <a:pt x="8485" y="8226"/>
                </a:cubicBezTo>
                <a:cubicBezTo>
                  <a:pt x="8530" y="8176"/>
                  <a:pt x="8503" y="8150"/>
                  <a:pt x="8506" y="8094"/>
                </a:cubicBezTo>
                <a:cubicBezTo>
                  <a:pt x="8506" y="8085"/>
                  <a:pt x="8506" y="8082"/>
                  <a:pt x="8504" y="8076"/>
                </a:cubicBezTo>
                <a:cubicBezTo>
                  <a:pt x="8474" y="8079"/>
                  <a:pt x="8435" y="8078"/>
                  <a:pt x="8402" y="8081"/>
                </a:cubicBezTo>
              </a:path>
              <a:path w="13023" h="4384">
                <a:moveTo>
                  <a:pt x="7361" y="7749"/>
                </a:moveTo>
                <a:cubicBezTo>
                  <a:pt x="7349" y="7786"/>
                  <a:pt x="7335" y="7824"/>
                  <a:pt x="7326" y="7863"/>
                </a:cubicBezTo>
                <a:cubicBezTo>
                  <a:pt x="7311" y="7929"/>
                  <a:pt x="7301" y="8025"/>
                  <a:pt x="7382" y="8041"/>
                </a:cubicBezTo>
                <a:cubicBezTo>
                  <a:pt x="7484" y="8061"/>
                  <a:pt x="7648" y="7985"/>
                  <a:pt x="7751" y="7972"/>
                </a:cubicBezTo>
                <a:cubicBezTo>
                  <a:pt x="7902" y="7952"/>
                  <a:pt x="8064" y="7958"/>
                  <a:pt x="8215" y="7980"/>
                </a:cubicBezTo>
                <a:cubicBezTo>
                  <a:pt x="8329" y="7996"/>
                  <a:pt x="8435" y="8009"/>
                  <a:pt x="8551" y="8005"/>
                </a:cubicBezTo>
                <a:cubicBezTo>
                  <a:pt x="8712" y="7999"/>
                  <a:pt x="8869" y="8014"/>
                  <a:pt x="9030" y="8027"/>
                </a:cubicBezTo>
                <a:cubicBezTo>
                  <a:pt x="9196" y="8040"/>
                  <a:pt x="9360" y="8052"/>
                  <a:pt x="9526" y="8061"/>
                </a:cubicBezTo>
                <a:cubicBezTo>
                  <a:pt x="9689" y="8070"/>
                  <a:pt x="9853" y="8081"/>
                  <a:pt x="10015" y="8094"/>
                </a:cubicBezTo>
                <a:cubicBezTo>
                  <a:pt x="10118" y="8102"/>
                  <a:pt x="10221" y="8126"/>
                  <a:pt x="10324" y="8125"/>
                </a:cubicBezTo>
                <a:cubicBezTo>
                  <a:pt x="10396" y="8124"/>
                  <a:pt x="10506" y="8121"/>
                  <a:pt x="10575" y="8096"/>
                </a:cubicBezTo>
                <a:cubicBezTo>
                  <a:pt x="10615" y="8082"/>
                  <a:pt x="10616" y="8084"/>
                  <a:pt x="10640" y="8046"/>
                </a:cubicBezTo>
                <a:cubicBezTo>
                  <a:pt x="10650" y="8031"/>
                  <a:pt x="10645" y="8009"/>
                  <a:pt x="10652" y="7994"/>
                </a:cubicBezTo>
                <a:cubicBezTo>
                  <a:pt x="10634" y="8001"/>
                  <a:pt x="10607" y="8013"/>
                  <a:pt x="10585" y="8022"/>
                </a:cubicBezTo>
                <a:cubicBezTo>
                  <a:pt x="10552" y="8033"/>
                  <a:pt x="10539" y="8037"/>
                  <a:pt x="10516" y="8044"/>
                </a:cubicBezTo>
              </a:path>
              <a:path w="13023" h="4384">
                <a:moveTo>
                  <a:pt x="6944" y="11831"/>
                </a:moveTo>
                <a:cubicBezTo>
                  <a:pt x="6964" y="11826"/>
                  <a:pt x="6959" y="11816"/>
                  <a:pt x="6979" y="11812"/>
                </a:cubicBezTo>
                <a:cubicBezTo>
                  <a:pt x="7159" y="11772"/>
                  <a:pt x="7354" y="11781"/>
                  <a:pt x="7538" y="11762"/>
                </a:cubicBezTo>
                <a:cubicBezTo>
                  <a:pt x="7794" y="11735"/>
                  <a:pt x="8062" y="11753"/>
                  <a:pt x="8319" y="11764"/>
                </a:cubicBezTo>
                <a:cubicBezTo>
                  <a:pt x="8736" y="11781"/>
                  <a:pt x="9134" y="11761"/>
                  <a:pt x="9550" y="11744"/>
                </a:cubicBezTo>
                <a:cubicBezTo>
                  <a:pt x="9815" y="11733"/>
                  <a:pt x="10083" y="11740"/>
                  <a:pt x="10348" y="11736"/>
                </a:cubicBezTo>
                <a:cubicBezTo>
                  <a:pt x="10689" y="11731"/>
                  <a:pt x="11036" y="11722"/>
                  <a:pt x="11377" y="11727"/>
                </a:cubicBezTo>
                <a:cubicBezTo>
                  <a:pt x="11797" y="11733"/>
                  <a:pt x="12205" y="11826"/>
                  <a:pt x="12629" y="11819"/>
                </a:cubicBezTo>
                <a:cubicBezTo>
                  <a:pt x="13066" y="11811"/>
                  <a:pt x="13474" y="11891"/>
                  <a:pt x="13910" y="11836"/>
                </a:cubicBezTo>
                <a:cubicBezTo>
                  <a:pt x="14046" y="11819"/>
                  <a:pt x="14200" y="11841"/>
                  <a:pt x="14331" y="11816"/>
                </a:cubicBezTo>
                <a:cubicBezTo>
                  <a:pt x="14334" y="11809"/>
                  <a:pt x="14338" y="11803"/>
                  <a:pt x="14341" y="11796"/>
                </a:cubicBezTo>
              </a:path>
              <a:path w="13023" h="4384">
                <a:moveTo>
                  <a:pt x="2890" y="9577"/>
                </a:moveTo>
                <a:cubicBezTo>
                  <a:pt x="2889" y="9560"/>
                  <a:pt x="2889" y="9554"/>
                  <a:pt x="2883" y="9544"/>
                </a:cubicBezTo>
                <a:cubicBezTo>
                  <a:pt x="2878" y="9580"/>
                  <a:pt x="2881" y="9618"/>
                  <a:pt x="2882" y="9655"/>
                </a:cubicBezTo>
                <a:cubicBezTo>
                  <a:pt x="2884" y="9718"/>
                  <a:pt x="2890" y="9780"/>
                  <a:pt x="2896" y="9843"/>
                </a:cubicBezTo>
                <a:cubicBezTo>
                  <a:pt x="2902" y="9900"/>
                  <a:pt x="2909" y="9958"/>
                  <a:pt x="2914" y="10015"/>
                </a:cubicBezTo>
                <a:cubicBezTo>
                  <a:pt x="2915" y="10021"/>
                  <a:pt x="2915" y="10026"/>
                  <a:pt x="2916" y="10032"/>
                </a:cubicBezTo>
                <a:cubicBezTo>
                  <a:pt x="2885" y="10029"/>
                  <a:pt x="2874" y="10008"/>
                  <a:pt x="2849" y="9985"/>
                </a:cubicBezTo>
                <a:cubicBezTo>
                  <a:pt x="2816" y="9955"/>
                  <a:pt x="2779" y="9923"/>
                  <a:pt x="2741" y="9898"/>
                </a:cubicBezTo>
                <a:cubicBezTo>
                  <a:pt x="2721" y="9887"/>
                  <a:pt x="2716" y="9885"/>
                  <a:pt x="2705" y="9875"/>
                </a:cubicBezTo>
                <a:cubicBezTo>
                  <a:pt x="2730" y="9889"/>
                  <a:pt x="2755" y="9901"/>
                  <a:pt x="2781" y="9914"/>
                </a:cubicBezTo>
              </a:path>
              <a:path w="13023" h="4384">
                <a:moveTo>
                  <a:pt x="2942" y="10001"/>
                </a:moveTo>
                <a:cubicBezTo>
                  <a:pt x="2959" y="9983"/>
                  <a:pt x="2958" y="9962"/>
                  <a:pt x="2970" y="9942"/>
                </a:cubicBezTo>
                <a:cubicBezTo>
                  <a:pt x="2988" y="9912"/>
                  <a:pt x="3018" y="9881"/>
                  <a:pt x="3048" y="9865"/>
                </a:cubicBezTo>
                <a:cubicBezTo>
                  <a:pt x="3070" y="9854"/>
                  <a:pt x="3091" y="9854"/>
                  <a:pt x="3114" y="9852"/>
                </a:cubicBezTo>
              </a:path>
              <a:path w="13023" h="4384">
                <a:moveTo>
                  <a:pt x="2904" y="10285"/>
                </a:moveTo>
                <a:cubicBezTo>
                  <a:pt x="2905" y="10267"/>
                  <a:pt x="2906" y="10253"/>
                  <a:pt x="2904" y="10236"/>
                </a:cubicBezTo>
                <a:cubicBezTo>
                  <a:pt x="2917" y="10272"/>
                  <a:pt x="2922" y="10307"/>
                  <a:pt x="2928" y="10345"/>
                </a:cubicBezTo>
                <a:cubicBezTo>
                  <a:pt x="2935" y="10387"/>
                  <a:pt x="2940" y="10429"/>
                  <a:pt x="2942" y="10472"/>
                </a:cubicBezTo>
                <a:cubicBezTo>
                  <a:pt x="2942" y="10477"/>
                  <a:pt x="2943" y="10481"/>
                  <a:pt x="2943" y="10486"/>
                </a:cubicBezTo>
              </a:path>
              <a:path w="13023" h="4384">
                <a:moveTo>
                  <a:pt x="2774" y="10217"/>
                </a:moveTo>
                <a:cubicBezTo>
                  <a:pt x="2755" y="10212"/>
                  <a:pt x="2737" y="10210"/>
                  <a:pt x="2719" y="10204"/>
                </a:cubicBezTo>
                <a:cubicBezTo>
                  <a:pt x="2761" y="10199"/>
                  <a:pt x="2802" y="10193"/>
                  <a:pt x="2844" y="10188"/>
                </a:cubicBezTo>
                <a:cubicBezTo>
                  <a:pt x="2901" y="10182"/>
                  <a:pt x="2961" y="10174"/>
                  <a:pt x="3019" y="10177"/>
                </a:cubicBezTo>
                <a:cubicBezTo>
                  <a:pt x="3049" y="10178"/>
                  <a:pt x="3078" y="10184"/>
                  <a:pt x="3108" y="10185"/>
                </a:cubicBezTo>
              </a:path>
              <a:path w="13023" h="4384">
                <a:moveTo>
                  <a:pt x="6162" y="9668"/>
                </a:moveTo>
                <a:cubicBezTo>
                  <a:pt x="6160" y="9652"/>
                  <a:pt x="6158" y="9637"/>
                  <a:pt x="6155" y="9621"/>
                </a:cubicBezTo>
                <a:cubicBezTo>
                  <a:pt x="6136" y="9651"/>
                  <a:pt x="6147" y="9685"/>
                  <a:pt x="6150" y="9723"/>
                </a:cubicBezTo>
                <a:cubicBezTo>
                  <a:pt x="6155" y="9790"/>
                  <a:pt x="6156" y="9856"/>
                  <a:pt x="6159" y="9923"/>
                </a:cubicBezTo>
                <a:cubicBezTo>
                  <a:pt x="6161" y="9972"/>
                  <a:pt x="6161" y="10020"/>
                  <a:pt x="6160" y="10069"/>
                </a:cubicBezTo>
                <a:cubicBezTo>
                  <a:pt x="6160" y="10084"/>
                  <a:pt x="6159" y="10098"/>
                  <a:pt x="6160" y="10112"/>
                </a:cubicBezTo>
                <a:cubicBezTo>
                  <a:pt x="6138" y="10085"/>
                  <a:pt x="6117" y="10057"/>
                  <a:pt x="6096" y="10029"/>
                </a:cubicBezTo>
                <a:cubicBezTo>
                  <a:pt x="6079" y="10005"/>
                  <a:pt x="6061" y="9984"/>
                  <a:pt x="6047" y="9958"/>
                </a:cubicBezTo>
                <a:cubicBezTo>
                  <a:pt x="6029" y="9938"/>
                  <a:pt x="6072" y="10012"/>
                  <a:pt x="6077" y="10025"/>
                </a:cubicBezTo>
                <a:cubicBezTo>
                  <a:pt x="6082" y="10037"/>
                  <a:pt x="6086" y="10050"/>
                  <a:pt x="6091" y="10062"/>
                </a:cubicBezTo>
              </a:path>
              <a:path w="13023" h="4384">
                <a:moveTo>
                  <a:pt x="6188" y="10242"/>
                </a:moveTo>
                <a:cubicBezTo>
                  <a:pt x="6209" y="10204"/>
                  <a:pt x="6222" y="10157"/>
                  <a:pt x="6245" y="10121"/>
                </a:cubicBezTo>
                <a:cubicBezTo>
                  <a:pt x="6277" y="10069"/>
                  <a:pt x="6317" y="10021"/>
                  <a:pt x="6368" y="9988"/>
                </a:cubicBezTo>
                <a:cubicBezTo>
                  <a:pt x="6397" y="9969"/>
                  <a:pt x="6420" y="9955"/>
                  <a:pt x="6452" y="9966"/>
                </a:cubicBezTo>
              </a:path>
              <a:path w="13023" h="4384">
                <a:moveTo>
                  <a:pt x="6091" y="10508"/>
                </a:moveTo>
                <a:cubicBezTo>
                  <a:pt x="6111" y="10494"/>
                  <a:pt x="6109" y="10543"/>
                  <a:pt x="6111" y="10567"/>
                </a:cubicBezTo>
                <a:cubicBezTo>
                  <a:pt x="6116" y="10612"/>
                  <a:pt x="6117" y="10657"/>
                  <a:pt x="6121" y="10702"/>
                </a:cubicBezTo>
                <a:cubicBezTo>
                  <a:pt x="6124" y="10729"/>
                  <a:pt x="6126" y="10735"/>
                  <a:pt x="6124" y="10752"/>
                </a:cubicBezTo>
              </a:path>
              <a:path w="13023" h="4384">
                <a:moveTo>
                  <a:pt x="6096" y="10472"/>
                </a:moveTo>
                <a:cubicBezTo>
                  <a:pt x="6099" y="10448"/>
                  <a:pt x="6110" y="10412"/>
                  <a:pt x="6128" y="10395"/>
                </a:cubicBezTo>
                <a:cubicBezTo>
                  <a:pt x="6164" y="10362"/>
                  <a:pt x="6220" y="10344"/>
                  <a:pt x="6266" y="10333"/>
                </a:cubicBezTo>
                <a:cubicBezTo>
                  <a:pt x="6312" y="10322"/>
                  <a:pt x="6360" y="10326"/>
                  <a:pt x="6403" y="10344"/>
                </a:cubicBezTo>
                <a:cubicBezTo>
                  <a:pt x="6420" y="10353"/>
                  <a:pt x="6426" y="10354"/>
                  <a:pt x="6428" y="10368"/>
                </a:cubicBezTo>
              </a:path>
              <a:path w="13023" h="4384">
                <a:moveTo>
                  <a:pt x="6201" y="10547"/>
                </a:moveTo>
                <a:cubicBezTo>
                  <a:pt x="6197" y="10551"/>
                  <a:pt x="6192" y="10554"/>
                  <a:pt x="6188" y="10558"/>
                </a:cubicBezTo>
                <a:cubicBezTo>
                  <a:pt x="6212" y="10563"/>
                  <a:pt x="6243" y="10553"/>
                  <a:pt x="6271" y="10549"/>
                </a:cubicBezTo>
                <a:cubicBezTo>
                  <a:pt x="6315" y="10543"/>
                  <a:pt x="6357" y="10548"/>
                  <a:pt x="6400" y="10545"/>
                </a:cubicBezTo>
                <a:cubicBezTo>
                  <a:pt x="6409" y="10544"/>
                  <a:pt x="6418" y="10542"/>
                  <a:pt x="6427" y="10541"/>
                </a:cubicBezTo>
              </a:path>
              <a:path w="13023" h="4384">
                <a:moveTo>
                  <a:pt x="10199" y="9899"/>
                </a:moveTo>
                <a:cubicBezTo>
                  <a:pt x="10201" y="9866"/>
                  <a:pt x="10197" y="9836"/>
                  <a:pt x="10197" y="9804"/>
                </a:cubicBezTo>
                <a:cubicBezTo>
                  <a:pt x="10197" y="9768"/>
                  <a:pt x="10191" y="9736"/>
                  <a:pt x="10187" y="9701"/>
                </a:cubicBezTo>
                <a:cubicBezTo>
                  <a:pt x="10187" y="9684"/>
                  <a:pt x="10187" y="9679"/>
                  <a:pt x="10183" y="9669"/>
                </a:cubicBezTo>
                <a:cubicBezTo>
                  <a:pt x="10184" y="9703"/>
                  <a:pt x="10188" y="9737"/>
                  <a:pt x="10191" y="9771"/>
                </a:cubicBezTo>
                <a:cubicBezTo>
                  <a:pt x="10199" y="9879"/>
                  <a:pt x="10195" y="9987"/>
                  <a:pt x="10194" y="10096"/>
                </a:cubicBezTo>
                <a:cubicBezTo>
                  <a:pt x="10194" y="10111"/>
                  <a:pt x="10194" y="10115"/>
                  <a:pt x="10195" y="10125"/>
                </a:cubicBezTo>
                <a:cubicBezTo>
                  <a:pt x="10186" y="10099"/>
                  <a:pt x="10177" y="10074"/>
                  <a:pt x="10164" y="10050"/>
                </a:cubicBezTo>
                <a:cubicBezTo>
                  <a:pt x="10148" y="10019"/>
                  <a:pt x="10126" y="9989"/>
                  <a:pt x="10101" y="9964"/>
                </a:cubicBezTo>
                <a:cubicBezTo>
                  <a:pt x="10092" y="9955"/>
                  <a:pt x="10052" y="9912"/>
                  <a:pt x="10052" y="9948"/>
                </a:cubicBezTo>
                <a:cubicBezTo>
                  <a:pt x="10060" y="9964"/>
                  <a:pt x="10063" y="9970"/>
                  <a:pt x="10067" y="9982"/>
                </a:cubicBezTo>
              </a:path>
              <a:path w="13023" h="4384">
                <a:moveTo>
                  <a:pt x="10190" y="10156"/>
                </a:moveTo>
                <a:cubicBezTo>
                  <a:pt x="10204" y="10114"/>
                  <a:pt x="10218" y="10070"/>
                  <a:pt x="10247" y="10036"/>
                </a:cubicBezTo>
                <a:cubicBezTo>
                  <a:pt x="10274" y="10004"/>
                  <a:pt x="10304" y="9978"/>
                  <a:pt x="10338" y="9955"/>
                </a:cubicBezTo>
                <a:cubicBezTo>
                  <a:pt x="10346" y="9950"/>
                  <a:pt x="10355" y="9944"/>
                  <a:pt x="10363" y="9939"/>
                </a:cubicBezTo>
              </a:path>
              <a:path w="13023" h="4384">
                <a:moveTo>
                  <a:pt x="9014" y="10529"/>
                </a:moveTo>
                <a:cubicBezTo>
                  <a:pt x="9024" y="10542"/>
                  <a:pt x="9024" y="10553"/>
                  <a:pt x="9051" y="10561"/>
                </a:cubicBezTo>
                <a:cubicBezTo>
                  <a:pt x="9082" y="10570"/>
                  <a:pt x="9119" y="10555"/>
                  <a:pt x="9146" y="10540"/>
                </a:cubicBezTo>
                <a:cubicBezTo>
                  <a:pt x="9188" y="10517"/>
                  <a:pt x="9221" y="10482"/>
                  <a:pt x="9242" y="10439"/>
                </a:cubicBezTo>
                <a:cubicBezTo>
                  <a:pt x="9257" y="10408"/>
                  <a:pt x="9273" y="10365"/>
                  <a:pt x="9254" y="10333"/>
                </a:cubicBezTo>
                <a:cubicBezTo>
                  <a:pt x="9236" y="10302"/>
                  <a:pt x="9203" y="10328"/>
                  <a:pt x="9187" y="10345"/>
                </a:cubicBezTo>
                <a:cubicBezTo>
                  <a:pt x="9151" y="10383"/>
                  <a:pt x="9133" y="10435"/>
                  <a:pt x="9125" y="10486"/>
                </a:cubicBezTo>
                <a:cubicBezTo>
                  <a:pt x="9118" y="10532"/>
                  <a:pt x="9114" y="10593"/>
                  <a:pt x="9150" y="10629"/>
                </a:cubicBezTo>
                <a:cubicBezTo>
                  <a:pt x="9187" y="10666"/>
                  <a:pt x="9251" y="10662"/>
                  <a:pt x="9296" y="10649"/>
                </a:cubicBezTo>
                <a:cubicBezTo>
                  <a:pt x="9340" y="10636"/>
                  <a:pt x="9377" y="10610"/>
                  <a:pt x="9415" y="10585"/>
                </a:cubicBezTo>
              </a:path>
              <a:path w="13023" h="4384">
                <a:moveTo>
                  <a:pt x="9488" y="10480"/>
                </a:moveTo>
                <a:cubicBezTo>
                  <a:pt x="9476" y="10502"/>
                  <a:pt x="9460" y="10532"/>
                  <a:pt x="9458" y="10557"/>
                </a:cubicBezTo>
                <a:cubicBezTo>
                  <a:pt x="9456" y="10584"/>
                  <a:pt x="9459" y="10615"/>
                  <a:pt x="9476" y="10636"/>
                </a:cubicBezTo>
                <a:cubicBezTo>
                  <a:pt x="9487" y="10646"/>
                  <a:pt x="9490" y="10649"/>
                  <a:pt x="9501" y="10644"/>
                </a:cubicBezTo>
              </a:path>
              <a:path w="13023" h="4384">
                <a:moveTo>
                  <a:pt x="9505" y="10266"/>
                </a:moveTo>
                <a:cubicBezTo>
                  <a:pt x="9491" y="10223"/>
                  <a:pt x="9477" y="10180"/>
                  <a:pt x="9463" y="10137"/>
                </a:cubicBezTo>
                <a:cubicBezTo>
                  <a:pt x="9456" y="10117"/>
                  <a:pt x="9453" y="10120"/>
                  <a:pt x="9465" y="10105"/>
                </a:cubicBezTo>
              </a:path>
              <a:path w="13023" h="4384">
                <a:moveTo>
                  <a:pt x="9645" y="10140"/>
                </a:moveTo>
                <a:cubicBezTo>
                  <a:pt x="9652" y="10191"/>
                  <a:pt x="9660" y="10243"/>
                  <a:pt x="9664" y="10294"/>
                </a:cubicBezTo>
                <a:cubicBezTo>
                  <a:pt x="9669" y="10364"/>
                  <a:pt x="9672" y="10434"/>
                  <a:pt x="9673" y="10504"/>
                </a:cubicBezTo>
                <a:cubicBezTo>
                  <a:pt x="9673" y="10532"/>
                  <a:pt x="9675" y="10561"/>
                  <a:pt x="9675" y="10589"/>
                </a:cubicBezTo>
              </a:path>
              <a:path w="13023" h="4384">
                <a:moveTo>
                  <a:pt x="9618" y="10430"/>
                </a:moveTo>
                <a:cubicBezTo>
                  <a:pt x="9619" y="10400"/>
                  <a:pt x="9623" y="10395"/>
                  <a:pt x="9646" y="10376"/>
                </a:cubicBezTo>
                <a:cubicBezTo>
                  <a:pt x="9686" y="10344"/>
                  <a:pt x="9731" y="10319"/>
                  <a:pt x="9773" y="10290"/>
                </a:cubicBezTo>
                <a:cubicBezTo>
                  <a:pt x="9782" y="10284"/>
                  <a:pt x="9791" y="10277"/>
                  <a:pt x="9800" y="10271"/>
                </a:cubicBezTo>
              </a:path>
              <a:path w="13023" h="4384">
                <a:moveTo>
                  <a:pt x="9877" y="10138"/>
                </a:moveTo>
                <a:cubicBezTo>
                  <a:pt x="9873" y="10180"/>
                  <a:pt x="9870" y="10223"/>
                  <a:pt x="9871" y="10265"/>
                </a:cubicBezTo>
                <a:cubicBezTo>
                  <a:pt x="9874" y="10340"/>
                  <a:pt x="9873" y="10415"/>
                  <a:pt x="9876" y="10491"/>
                </a:cubicBezTo>
                <a:cubicBezTo>
                  <a:pt x="9877" y="10526"/>
                  <a:pt x="9879" y="10561"/>
                  <a:pt x="9881" y="10596"/>
                </a:cubicBezTo>
                <a:cubicBezTo>
                  <a:pt x="9899" y="10569"/>
                  <a:pt x="9906" y="10536"/>
                  <a:pt x="9922" y="10506"/>
                </a:cubicBezTo>
                <a:cubicBezTo>
                  <a:pt x="9933" y="10484"/>
                  <a:pt x="9958" y="10444"/>
                  <a:pt x="9989" y="10453"/>
                </a:cubicBezTo>
                <a:cubicBezTo>
                  <a:pt x="10041" y="10468"/>
                  <a:pt x="10074" y="10533"/>
                  <a:pt x="10108" y="10570"/>
                </a:cubicBezTo>
                <a:cubicBezTo>
                  <a:pt x="10132" y="10595"/>
                  <a:pt x="10138" y="10602"/>
                  <a:pt x="10158" y="10613"/>
                </a:cubicBezTo>
              </a:path>
              <a:path w="13023" h="4384">
                <a:moveTo>
                  <a:pt x="10274" y="10541"/>
                </a:moveTo>
                <a:cubicBezTo>
                  <a:pt x="10289" y="10525"/>
                  <a:pt x="10311" y="10500"/>
                  <a:pt x="10329" y="10488"/>
                </a:cubicBezTo>
                <a:cubicBezTo>
                  <a:pt x="10360" y="10468"/>
                  <a:pt x="10386" y="10450"/>
                  <a:pt x="10414" y="10425"/>
                </a:cubicBezTo>
                <a:cubicBezTo>
                  <a:pt x="10430" y="10410"/>
                  <a:pt x="10438" y="10399"/>
                  <a:pt x="10449" y="10381"/>
                </a:cubicBezTo>
                <a:cubicBezTo>
                  <a:pt x="10416" y="10375"/>
                  <a:pt x="10399" y="10392"/>
                  <a:pt x="10374" y="10416"/>
                </a:cubicBezTo>
                <a:cubicBezTo>
                  <a:pt x="10341" y="10447"/>
                  <a:pt x="10312" y="10487"/>
                  <a:pt x="10302" y="10532"/>
                </a:cubicBezTo>
                <a:cubicBezTo>
                  <a:pt x="10293" y="10570"/>
                  <a:pt x="10303" y="10604"/>
                  <a:pt x="10336" y="10626"/>
                </a:cubicBezTo>
                <a:cubicBezTo>
                  <a:pt x="10367" y="10647"/>
                  <a:pt x="10402" y="10637"/>
                  <a:pt x="10435" y="10629"/>
                </a:cubicBezTo>
              </a:path>
              <a:path w="13023" h="4384">
                <a:moveTo>
                  <a:pt x="10515" y="10611"/>
                </a:moveTo>
                <a:cubicBezTo>
                  <a:pt x="10511" y="10620"/>
                  <a:pt x="10510" y="10623"/>
                  <a:pt x="10510" y="10630"/>
                </a:cubicBezTo>
                <a:cubicBezTo>
                  <a:pt x="10513" y="10613"/>
                  <a:pt x="10526" y="10592"/>
                  <a:pt x="10535" y="10572"/>
                </a:cubicBezTo>
                <a:cubicBezTo>
                  <a:pt x="10553" y="10531"/>
                  <a:pt x="10574" y="10487"/>
                  <a:pt x="10603" y="10453"/>
                </a:cubicBezTo>
                <a:cubicBezTo>
                  <a:pt x="10627" y="10425"/>
                  <a:pt x="10653" y="10405"/>
                  <a:pt x="10691" y="10410"/>
                </a:cubicBezTo>
                <a:cubicBezTo>
                  <a:pt x="10713" y="10416"/>
                  <a:pt x="10721" y="10418"/>
                  <a:pt x="10734" y="10426"/>
                </a:cubicBezTo>
              </a:path>
              <a:path w="13023" h="4384">
                <a:moveTo>
                  <a:pt x="11286" y="10222"/>
                </a:moveTo>
                <a:cubicBezTo>
                  <a:pt x="11299" y="10252"/>
                  <a:pt x="11289" y="10305"/>
                  <a:pt x="11288" y="10340"/>
                </a:cubicBezTo>
                <a:cubicBezTo>
                  <a:pt x="11285" y="10434"/>
                  <a:pt x="11285" y="10530"/>
                  <a:pt x="11302" y="10623"/>
                </a:cubicBezTo>
                <a:cubicBezTo>
                  <a:pt x="11309" y="10652"/>
                  <a:pt x="11310" y="10659"/>
                  <a:pt x="11316" y="10676"/>
                </a:cubicBezTo>
              </a:path>
              <a:path w="13023" h="4384">
                <a:moveTo>
                  <a:pt x="11104" y="10261"/>
                </a:moveTo>
                <a:cubicBezTo>
                  <a:pt x="11084" y="10246"/>
                  <a:pt x="11079" y="10246"/>
                  <a:pt x="11074" y="10225"/>
                </a:cubicBezTo>
                <a:cubicBezTo>
                  <a:pt x="11123" y="10220"/>
                  <a:pt x="11171" y="10216"/>
                  <a:pt x="11221" y="10217"/>
                </a:cubicBezTo>
                <a:cubicBezTo>
                  <a:pt x="11303" y="10218"/>
                  <a:pt x="11386" y="10227"/>
                  <a:pt x="11467" y="10240"/>
                </a:cubicBezTo>
                <a:cubicBezTo>
                  <a:pt x="11521" y="10250"/>
                  <a:pt x="11537" y="10254"/>
                  <a:pt x="11572" y="10260"/>
                </a:cubicBezTo>
              </a:path>
              <a:path w="13023" h="4384">
                <a:moveTo>
                  <a:pt x="11867" y="10472"/>
                </a:moveTo>
                <a:cubicBezTo>
                  <a:pt x="11837" y="10488"/>
                  <a:pt x="11800" y="10500"/>
                  <a:pt x="11772" y="10517"/>
                </a:cubicBezTo>
                <a:cubicBezTo>
                  <a:pt x="11756" y="10527"/>
                  <a:pt x="11724" y="10553"/>
                  <a:pt x="11740" y="10575"/>
                </a:cubicBezTo>
                <a:cubicBezTo>
                  <a:pt x="11760" y="10602"/>
                  <a:pt x="11815" y="10595"/>
                  <a:pt x="11842" y="10590"/>
                </a:cubicBezTo>
                <a:cubicBezTo>
                  <a:pt x="11891" y="10581"/>
                  <a:pt x="11937" y="10559"/>
                  <a:pt x="11973" y="10524"/>
                </a:cubicBezTo>
                <a:cubicBezTo>
                  <a:pt x="11991" y="10507"/>
                  <a:pt x="12018" y="10473"/>
                  <a:pt x="12001" y="10447"/>
                </a:cubicBezTo>
                <a:cubicBezTo>
                  <a:pt x="11990" y="10429"/>
                  <a:pt x="11955" y="10436"/>
                  <a:pt x="11938" y="10439"/>
                </a:cubicBezTo>
                <a:cubicBezTo>
                  <a:pt x="11925" y="10443"/>
                  <a:pt x="11921" y="10444"/>
                  <a:pt x="11912" y="10447"/>
                </a:cubicBezTo>
              </a:path>
              <a:path w="13023" h="4384">
                <a:moveTo>
                  <a:pt x="12125" y="10504"/>
                </a:moveTo>
                <a:cubicBezTo>
                  <a:pt x="12133" y="10526"/>
                  <a:pt x="12136" y="10549"/>
                  <a:pt x="12143" y="10571"/>
                </a:cubicBezTo>
                <a:cubicBezTo>
                  <a:pt x="12151" y="10597"/>
                  <a:pt x="12154" y="10619"/>
                  <a:pt x="12174" y="10638"/>
                </a:cubicBezTo>
                <a:cubicBezTo>
                  <a:pt x="12179" y="10611"/>
                  <a:pt x="12180" y="10584"/>
                  <a:pt x="12182" y="10556"/>
                </a:cubicBezTo>
                <a:cubicBezTo>
                  <a:pt x="12184" y="10518"/>
                  <a:pt x="12180" y="10473"/>
                  <a:pt x="12194" y="10437"/>
                </a:cubicBezTo>
                <a:cubicBezTo>
                  <a:pt x="12204" y="10411"/>
                  <a:pt x="12217" y="10401"/>
                  <a:pt x="12245" y="10410"/>
                </a:cubicBezTo>
                <a:cubicBezTo>
                  <a:pt x="12265" y="10416"/>
                  <a:pt x="12285" y="10432"/>
                  <a:pt x="12304" y="10442"/>
                </a:cubicBezTo>
              </a:path>
              <a:path w="13023" h="4384">
                <a:moveTo>
                  <a:pt x="12767" y="10257"/>
                </a:moveTo>
                <a:cubicBezTo>
                  <a:pt x="12765" y="10244"/>
                  <a:pt x="12765" y="10240"/>
                  <a:pt x="12764" y="10232"/>
                </a:cubicBezTo>
                <a:cubicBezTo>
                  <a:pt x="12762" y="10272"/>
                  <a:pt x="12765" y="10309"/>
                  <a:pt x="12771" y="10348"/>
                </a:cubicBezTo>
                <a:cubicBezTo>
                  <a:pt x="12780" y="10408"/>
                  <a:pt x="12790" y="10464"/>
                  <a:pt x="12810" y="10521"/>
                </a:cubicBezTo>
                <a:cubicBezTo>
                  <a:pt x="12820" y="10548"/>
                  <a:pt x="12821" y="10554"/>
                  <a:pt x="12829" y="10570"/>
                </a:cubicBezTo>
              </a:path>
              <a:path w="13023" h="4384">
                <a:moveTo>
                  <a:pt x="12738" y="10227"/>
                </a:moveTo>
                <a:cubicBezTo>
                  <a:pt x="12735" y="10201"/>
                  <a:pt x="12733" y="10167"/>
                  <a:pt x="12761" y="10151"/>
                </a:cubicBezTo>
                <a:cubicBezTo>
                  <a:pt x="12807" y="10124"/>
                  <a:pt x="12876" y="10125"/>
                  <a:pt x="12927" y="10124"/>
                </a:cubicBezTo>
                <a:cubicBezTo>
                  <a:pt x="12985" y="10123"/>
                  <a:pt x="13046" y="10130"/>
                  <a:pt x="13099" y="10155"/>
                </a:cubicBezTo>
                <a:cubicBezTo>
                  <a:pt x="13119" y="10167"/>
                  <a:pt x="13125" y="10170"/>
                  <a:pt x="13134" y="10182"/>
                </a:cubicBezTo>
              </a:path>
              <a:path w="13023" h="4384">
                <a:moveTo>
                  <a:pt x="12801" y="10375"/>
                </a:moveTo>
                <a:cubicBezTo>
                  <a:pt x="12796" y="10380"/>
                  <a:pt x="12790" y="10384"/>
                  <a:pt x="12785" y="10389"/>
                </a:cubicBezTo>
                <a:cubicBezTo>
                  <a:pt x="12823" y="10380"/>
                  <a:pt x="12866" y="10368"/>
                  <a:pt x="12905" y="10366"/>
                </a:cubicBezTo>
                <a:cubicBezTo>
                  <a:pt x="12954" y="10364"/>
                  <a:pt x="13006" y="10372"/>
                  <a:pt x="13054" y="10381"/>
                </a:cubicBezTo>
                <a:cubicBezTo>
                  <a:pt x="13063" y="10383"/>
                  <a:pt x="13072" y="10385"/>
                  <a:pt x="13081" y="10387"/>
                </a:cubicBezTo>
              </a:path>
              <a:path w="13023" h="4384">
                <a:moveTo>
                  <a:pt x="13267" y="10587"/>
                </a:moveTo>
                <a:cubicBezTo>
                  <a:pt x="13286" y="10587"/>
                  <a:pt x="13307" y="10582"/>
                  <a:pt x="13320" y="10566"/>
                </a:cubicBezTo>
                <a:cubicBezTo>
                  <a:pt x="13330" y="10555"/>
                  <a:pt x="13337" y="10545"/>
                  <a:pt x="13348" y="1053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064040" y="5052960"/>
            <a:ext cx="141120" cy="41400"/>
          </a:xfrm>
          <a:custGeom>
            <a:avLst/>
            <a:gdLst/>
            <a:ahLst/>
            <a:rect l="l" t="t" r="r" b="b"/>
            <a:pathLst>
              <a:path w="395" h="114">
                <a:moveTo>
                  <a:pt x="11296" y="14076"/>
                </a:moveTo>
                <a:cubicBezTo>
                  <a:pt x="11290" y="14049"/>
                  <a:pt x="11319" y="14055"/>
                  <a:pt x="11350" y="14050"/>
                </a:cubicBezTo>
                <a:cubicBezTo>
                  <a:pt x="11401" y="14042"/>
                  <a:pt x="11452" y="14038"/>
                  <a:pt x="11503" y="14035"/>
                </a:cubicBezTo>
              </a:path>
              <a:path w="395" h="114">
                <a:moveTo>
                  <a:pt x="11681" y="14143"/>
                </a:moveTo>
                <a:cubicBezTo>
                  <a:pt x="11661" y="14153"/>
                  <a:pt x="11669" y="14137"/>
                  <a:pt x="11671" y="1412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012680" y="4894200"/>
            <a:ext cx="2111400" cy="320760"/>
          </a:xfrm>
          <a:custGeom>
            <a:avLst/>
            <a:gdLst/>
            <a:ahLst/>
            <a:rect l="l" t="t" r="r" b="b"/>
            <a:pathLst>
              <a:path w="5865" h="892">
                <a:moveTo>
                  <a:pt x="2825" y="13799"/>
                </a:moveTo>
                <a:cubicBezTo>
                  <a:pt x="2827" y="13785"/>
                  <a:pt x="2825" y="13779"/>
                  <a:pt x="2822" y="13764"/>
                </a:cubicBezTo>
                <a:cubicBezTo>
                  <a:pt x="2813" y="13786"/>
                  <a:pt x="2816" y="13802"/>
                  <a:pt x="2820" y="13826"/>
                </a:cubicBezTo>
                <a:cubicBezTo>
                  <a:pt x="2827" y="13867"/>
                  <a:pt x="2836" y="13908"/>
                  <a:pt x="2840" y="13950"/>
                </a:cubicBezTo>
                <a:cubicBezTo>
                  <a:pt x="2845" y="13999"/>
                  <a:pt x="2849" y="14050"/>
                  <a:pt x="2848" y="14099"/>
                </a:cubicBezTo>
                <a:cubicBezTo>
                  <a:pt x="2847" y="14138"/>
                  <a:pt x="2839" y="14177"/>
                  <a:pt x="2843" y="14216"/>
                </a:cubicBezTo>
                <a:cubicBezTo>
                  <a:pt x="2846" y="14232"/>
                  <a:pt x="2846" y="14237"/>
                  <a:pt x="2853" y="14245"/>
                </a:cubicBezTo>
              </a:path>
              <a:path w="5865" h="892">
                <a:moveTo>
                  <a:pt x="3075" y="14255"/>
                </a:moveTo>
                <a:cubicBezTo>
                  <a:pt x="3071" y="14231"/>
                  <a:pt x="3066" y="14215"/>
                  <a:pt x="3065" y="14190"/>
                </a:cubicBezTo>
                <a:cubicBezTo>
                  <a:pt x="3064" y="14168"/>
                  <a:pt x="3072" y="14150"/>
                  <a:pt x="3074" y="14128"/>
                </a:cubicBezTo>
                <a:cubicBezTo>
                  <a:pt x="3074" y="14117"/>
                  <a:pt x="3074" y="14113"/>
                  <a:pt x="3071" y="14106"/>
                </a:cubicBezTo>
              </a:path>
              <a:path w="5865" h="892">
                <a:moveTo>
                  <a:pt x="3656" y="14050"/>
                </a:moveTo>
                <a:cubicBezTo>
                  <a:pt x="3640" y="14045"/>
                  <a:pt x="3636" y="14043"/>
                  <a:pt x="3624" y="14032"/>
                </a:cubicBezTo>
                <a:cubicBezTo>
                  <a:pt x="3657" y="14028"/>
                  <a:pt x="3690" y="14020"/>
                  <a:pt x="3723" y="14014"/>
                </a:cubicBezTo>
                <a:cubicBezTo>
                  <a:pt x="3789" y="14002"/>
                  <a:pt x="3854" y="13991"/>
                  <a:pt x="3921" y="13987"/>
                </a:cubicBezTo>
                <a:cubicBezTo>
                  <a:pt x="3954" y="13985"/>
                  <a:pt x="3988" y="13986"/>
                  <a:pt x="4021" y="13987"/>
                </a:cubicBezTo>
                <a:cubicBezTo>
                  <a:pt x="4051" y="13988"/>
                  <a:pt x="4038" y="14013"/>
                  <a:pt x="4032" y="14033"/>
                </a:cubicBezTo>
                <a:cubicBezTo>
                  <a:pt x="4024" y="14060"/>
                  <a:pt x="4014" y="14087"/>
                  <a:pt x="4003" y="14113"/>
                </a:cubicBezTo>
                <a:cubicBezTo>
                  <a:pt x="3997" y="14129"/>
                  <a:pt x="3986" y="14156"/>
                  <a:pt x="3971" y="14166"/>
                </a:cubicBezTo>
                <a:cubicBezTo>
                  <a:pt x="3967" y="14167"/>
                  <a:pt x="3964" y="14169"/>
                  <a:pt x="3960" y="14170"/>
                </a:cubicBezTo>
              </a:path>
              <a:path w="5865" h="892">
                <a:moveTo>
                  <a:pt x="4419" y="13738"/>
                </a:moveTo>
                <a:cubicBezTo>
                  <a:pt x="4417" y="13723"/>
                  <a:pt x="4417" y="13709"/>
                  <a:pt x="4413" y="13694"/>
                </a:cubicBezTo>
                <a:cubicBezTo>
                  <a:pt x="4412" y="13691"/>
                  <a:pt x="4411" y="13687"/>
                  <a:pt x="4410" y="13684"/>
                </a:cubicBezTo>
                <a:cubicBezTo>
                  <a:pt x="4407" y="13700"/>
                  <a:pt x="4407" y="13717"/>
                  <a:pt x="4404" y="13733"/>
                </a:cubicBezTo>
                <a:cubicBezTo>
                  <a:pt x="4397" y="13774"/>
                  <a:pt x="4386" y="13814"/>
                  <a:pt x="4380" y="13855"/>
                </a:cubicBezTo>
                <a:cubicBezTo>
                  <a:pt x="4370" y="13923"/>
                  <a:pt x="4363" y="13992"/>
                  <a:pt x="4366" y="14061"/>
                </a:cubicBezTo>
                <a:cubicBezTo>
                  <a:pt x="4368" y="14110"/>
                  <a:pt x="4373" y="14158"/>
                  <a:pt x="4395" y="14202"/>
                </a:cubicBezTo>
                <a:cubicBezTo>
                  <a:pt x="4407" y="14226"/>
                  <a:pt x="4415" y="14230"/>
                  <a:pt x="4438" y="14240"/>
                </a:cubicBezTo>
              </a:path>
              <a:path w="5865" h="892">
                <a:moveTo>
                  <a:pt x="4589" y="13996"/>
                </a:moveTo>
                <a:cubicBezTo>
                  <a:pt x="4599" y="14021"/>
                  <a:pt x="4605" y="14051"/>
                  <a:pt x="4607" y="14078"/>
                </a:cubicBezTo>
                <a:cubicBezTo>
                  <a:pt x="4611" y="14132"/>
                  <a:pt x="4617" y="14187"/>
                  <a:pt x="4621" y="14241"/>
                </a:cubicBezTo>
                <a:cubicBezTo>
                  <a:pt x="4624" y="14285"/>
                  <a:pt x="4628" y="14330"/>
                  <a:pt x="4627" y="14375"/>
                </a:cubicBezTo>
                <a:cubicBezTo>
                  <a:pt x="4627" y="14379"/>
                  <a:pt x="4626" y="14383"/>
                  <a:pt x="4626" y="14387"/>
                </a:cubicBezTo>
                <a:cubicBezTo>
                  <a:pt x="4616" y="14357"/>
                  <a:pt x="4615" y="14324"/>
                  <a:pt x="4613" y="14292"/>
                </a:cubicBezTo>
                <a:cubicBezTo>
                  <a:pt x="4608" y="14184"/>
                  <a:pt x="4616" y="14066"/>
                  <a:pt x="4662" y="13967"/>
                </a:cubicBezTo>
                <a:cubicBezTo>
                  <a:pt x="4675" y="13939"/>
                  <a:pt x="4699" y="13895"/>
                  <a:pt x="4738" y="13900"/>
                </a:cubicBezTo>
                <a:cubicBezTo>
                  <a:pt x="4785" y="13906"/>
                  <a:pt x="4794" y="13976"/>
                  <a:pt x="4790" y="14011"/>
                </a:cubicBezTo>
                <a:cubicBezTo>
                  <a:pt x="4785" y="14061"/>
                  <a:pt x="4760" y="14108"/>
                  <a:pt x="4722" y="14141"/>
                </a:cubicBezTo>
                <a:cubicBezTo>
                  <a:pt x="4692" y="14167"/>
                  <a:pt x="4659" y="14181"/>
                  <a:pt x="4625" y="14159"/>
                </a:cubicBezTo>
                <a:cubicBezTo>
                  <a:pt x="4599" y="14142"/>
                  <a:pt x="4603" y="14114"/>
                  <a:pt x="4605" y="14088"/>
                </a:cubicBezTo>
              </a:path>
              <a:path w="5865" h="892">
                <a:moveTo>
                  <a:pt x="5013" y="14052"/>
                </a:moveTo>
                <a:cubicBezTo>
                  <a:pt x="5002" y="14092"/>
                  <a:pt x="5008" y="14027"/>
                  <a:pt x="5009" y="14020"/>
                </a:cubicBezTo>
                <a:cubicBezTo>
                  <a:pt x="5017" y="13959"/>
                  <a:pt x="5032" y="13901"/>
                  <a:pt x="5059" y="13845"/>
                </a:cubicBezTo>
                <a:cubicBezTo>
                  <a:pt x="5078" y="13806"/>
                  <a:pt x="5094" y="13781"/>
                  <a:pt x="5133" y="13764"/>
                </a:cubicBezTo>
                <a:cubicBezTo>
                  <a:pt x="5167" y="13795"/>
                  <a:pt x="5172" y="13829"/>
                  <a:pt x="5181" y="13875"/>
                </a:cubicBezTo>
                <a:cubicBezTo>
                  <a:pt x="5194" y="13943"/>
                  <a:pt x="5181" y="14049"/>
                  <a:pt x="5211" y="14111"/>
                </a:cubicBezTo>
                <a:cubicBezTo>
                  <a:pt x="5224" y="14138"/>
                  <a:pt x="5237" y="14111"/>
                  <a:pt x="5244" y="14101"/>
                </a:cubicBezTo>
              </a:path>
              <a:path w="5865" h="892">
                <a:moveTo>
                  <a:pt x="5553" y="13912"/>
                </a:moveTo>
                <a:cubicBezTo>
                  <a:pt x="5554" y="13887"/>
                  <a:pt x="5558" y="13891"/>
                  <a:pt x="5548" y="13865"/>
                </a:cubicBezTo>
                <a:cubicBezTo>
                  <a:pt x="5524" y="13880"/>
                  <a:pt x="5508" y="13894"/>
                  <a:pt x="5490" y="13923"/>
                </a:cubicBezTo>
                <a:cubicBezTo>
                  <a:pt x="5465" y="13964"/>
                  <a:pt x="5446" y="14008"/>
                  <a:pt x="5434" y="14054"/>
                </a:cubicBezTo>
                <a:cubicBezTo>
                  <a:pt x="5430" y="14076"/>
                  <a:pt x="5427" y="14081"/>
                  <a:pt x="5433" y="14094"/>
                </a:cubicBezTo>
                <a:cubicBezTo>
                  <a:pt x="5459" y="14089"/>
                  <a:pt x="5469" y="14086"/>
                  <a:pt x="5491" y="14062"/>
                </a:cubicBezTo>
                <a:cubicBezTo>
                  <a:pt x="5516" y="14035"/>
                  <a:pt x="5542" y="13980"/>
                  <a:pt x="5575" y="13964"/>
                </a:cubicBezTo>
                <a:cubicBezTo>
                  <a:pt x="5579" y="13964"/>
                  <a:pt x="5583" y="13963"/>
                  <a:pt x="5587" y="13963"/>
                </a:cubicBezTo>
                <a:cubicBezTo>
                  <a:pt x="5601" y="14002"/>
                  <a:pt x="5605" y="14033"/>
                  <a:pt x="5605" y="14079"/>
                </a:cubicBezTo>
                <a:cubicBezTo>
                  <a:pt x="5604" y="14164"/>
                  <a:pt x="5601" y="14249"/>
                  <a:pt x="5597" y="14334"/>
                </a:cubicBezTo>
                <a:cubicBezTo>
                  <a:pt x="5594" y="14384"/>
                  <a:pt x="5593" y="14434"/>
                  <a:pt x="5591" y="14484"/>
                </a:cubicBezTo>
                <a:cubicBezTo>
                  <a:pt x="5601" y="14441"/>
                  <a:pt x="5610" y="14399"/>
                  <a:pt x="5622" y="14357"/>
                </a:cubicBezTo>
                <a:cubicBezTo>
                  <a:pt x="5637" y="14304"/>
                  <a:pt x="5654" y="14254"/>
                  <a:pt x="5678" y="14204"/>
                </a:cubicBezTo>
                <a:cubicBezTo>
                  <a:pt x="5689" y="14181"/>
                  <a:pt x="5703" y="14156"/>
                  <a:pt x="5719" y="14138"/>
                </a:cubicBezTo>
                <a:cubicBezTo>
                  <a:pt x="5733" y="14123"/>
                  <a:pt x="5742" y="14116"/>
                  <a:pt x="5752" y="14099"/>
                </a:cubicBezTo>
              </a:path>
              <a:path w="5865" h="892">
                <a:moveTo>
                  <a:pt x="5763" y="13762"/>
                </a:moveTo>
                <a:cubicBezTo>
                  <a:pt x="5762" y="13750"/>
                  <a:pt x="5760" y="13738"/>
                  <a:pt x="5758" y="13726"/>
                </a:cubicBezTo>
                <a:cubicBezTo>
                  <a:pt x="5799" y="13737"/>
                  <a:pt x="5814" y="13764"/>
                  <a:pt x="5838" y="13800"/>
                </a:cubicBezTo>
                <a:cubicBezTo>
                  <a:pt x="5883" y="13867"/>
                  <a:pt x="5916" y="13937"/>
                  <a:pt x="5936" y="14016"/>
                </a:cubicBezTo>
                <a:cubicBezTo>
                  <a:pt x="5952" y="14081"/>
                  <a:pt x="5967" y="14160"/>
                  <a:pt x="5945" y="14225"/>
                </a:cubicBezTo>
                <a:cubicBezTo>
                  <a:pt x="5933" y="14259"/>
                  <a:pt x="5914" y="14280"/>
                  <a:pt x="5884" y="14264"/>
                </a:cubicBezTo>
              </a:path>
              <a:path w="5865" h="892">
                <a:moveTo>
                  <a:pt x="6266" y="13901"/>
                </a:moveTo>
                <a:cubicBezTo>
                  <a:pt x="6233" y="13867"/>
                  <a:pt x="6296" y="13940"/>
                  <a:pt x="6301" y="13946"/>
                </a:cubicBezTo>
                <a:cubicBezTo>
                  <a:pt x="6338" y="13989"/>
                  <a:pt x="6371" y="14035"/>
                  <a:pt x="6407" y="14078"/>
                </a:cubicBezTo>
                <a:cubicBezTo>
                  <a:pt x="6429" y="14104"/>
                  <a:pt x="6465" y="14149"/>
                  <a:pt x="6505" y="14147"/>
                </a:cubicBezTo>
                <a:cubicBezTo>
                  <a:pt x="6541" y="14145"/>
                  <a:pt x="6560" y="14085"/>
                  <a:pt x="6571" y="14060"/>
                </a:cubicBezTo>
                <a:cubicBezTo>
                  <a:pt x="6588" y="14023"/>
                  <a:pt x="6610" y="13979"/>
                  <a:pt x="6618" y="13940"/>
                </a:cubicBezTo>
                <a:cubicBezTo>
                  <a:pt x="6618" y="13924"/>
                  <a:pt x="6618" y="13916"/>
                  <a:pt x="6617" y="13934"/>
                </a:cubicBezTo>
              </a:path>
              <a:path w="5865" h="892">
                <a:moveTo>
                  <a:pt x="7288" y="13659"/>
                </a:moveTo>
                <a:cubicBezTo>
                  <a:pt x="7283" y="13627"/>
                  <a:pt x="7281" y="13615"/>
                  <a:pt x="7258" y="13593"/>
                </a:cubicBezTo>
                <a:cubicBezTo>
                  <a:pt x="7233" y="13622"/>
                  <a:pt x="7221" y="13650"/>
                  <a:pt x="7210" y="13687"/>
                </a:cubicBezTo>
                <a:cubicBezTo>
                  <a:pt x="7188" y="13761"/>
                  <a:pt x="7171" y="13840"/>
                  <a:pt x="7165" y="13917"/>
                </a:cubicBezTo>
                <a:cubicBezTo>
                  <a:pt x="7159" y="13991"/>
                  <a:pt x="7160" y="14066"/>
                  <a:pt x="7185" y="14136"/>
                </a:cubicBezTo>
                <a:cubicBezTo>
                  <a:pt x="7197" y="14170"/>
                  <a:pt x="7210" y="14183"/>
                  <a:pt x="7236" y="14204"/>
                </a:cubicBezTo>
              </a:path>
              <a:path w="5865" h="892">
                <a:moveTo>
                  <a:pt x="7417" y="13932"/>
                </a:moveTo>
                <a:cubicBezTo>
                  <a:pt x="7417" y="13932"/>
                  <a:pt x="7408" y="13952"/>
                  <a:pt x="7407" y="13983"/>
                </a:cubicBezTo>
                <a:cubicBezTo>
                  <a:pt x="7406" y="14046"/>
                  <a:pt x="7407" y="14108"/>
                  <a:pt x="7407" y="14171"/>
                </a:cubicBezTo>
                <a:cubicBezTo>
                  <a:pt x="7407" y="14230"/>
                  <a:pt x="7405" y="14288"/>
                  <a:pt x="7406" y="14347"/>
                </a:cubicBezTo>
                <a:cubicBezTo>
                  <a:pt x="7407" y="14365"/>
                  <a:pt x="7407" y="14368"/>
                  <a:pt x="7407" y="14378"/>
                </a:cubicBezTo>
                <a:cubicBezTo>
                  <a:pt x="7418" y="14297"/>
                  <a:pt x="7427" y="14215"/>
                  <a:pt x="7437" y="14133"/>
                </a:cubicBezTo>
                <a:cubicBezTo>
                  <a:pt x="7446" y="14058"/>
                  <a:pt x="7461" y="13985"/>
                  <a:pt x="7486" y="13914"/>
                </a:cubicBezTo>
                <a:cubicBezTo>
                  <a:pt x="7501" y="13873"/>
                  <a:pt x="7513" y="13845"/>
                  <a:pt x="7554" y="13833"/>
                </a:cubicBezTo>
                <a:cubicBezTo>
                  <a:pt x="7590" y="13854"/>
                  <a:pt x="7606" y="13879"/>
                  <a:pt x="7617" y="13922"/>
                </a:cubicBezTo>
                <a:cubicBezTo>
                  <a:pt x="7629" y="13970"/>
                  <a:pt x="7626" y="14023"/>
                  <a:pt x="7600" y="14066"/>
                </a:cubicBezTo>
                <a:cubicBezTo>
                  <a:pt x="7578" y="14103"/>
                  <a:pt x="7519" y="14133"/>
                  <a:pt x="7477" y="14109"/>
                </a:cubicBezTo>
                <a:cubicBezTo>
                  <a:pt x="7443" y="14090"/>
                  <a:pt x="7455" y="14053"/>
                  <a:pt x="7462" y="14025"/>
                </a:cubicBezTo>
              </a:path>
              <a:path w="5865" h="892">
                <a:moveTo>
                  <a:pt x="7730" y="13868"/>
                </a:moveTo>
                <a:cubicBezTo>
                  <a:pt x="7738" y="13889"/>
                  <a:pt x="7741" y="13913"/>
                  <a:pt x="7749" y="13937"/>
                </a:cubicBezTo>
                <a:cubicBezTo>
                  <a:pt x="7759" y="13965"/>
                  <a:pt x="7769" y="14004"/>
                  <a:pt x="7789" y="14027"/>
                </a:cubicBezTo>
                <a:cubicBezTo>
                  <a:pt x="7809" y="14049"/>
                  <a:pt x="7827" y="14020"/>
                  <a:pt x="7835" y="14005"/>
                </a:cubicBezTo>
                <a:cubicBezTo>
                  <a:pt x="7853" y="13971"/>
                  <a:pt x="7870" y="13932"/>
                  <a:pt x="7882" y="13896"/>
                </a:cubicBezTo>
                <a:cubicBezTo>
                  <a:pt x="7891" y="13871"/>
                  <a:pt x="7897" y="13844"/>
                  <a:pt x="7904" y="13819"/>
                </a:cubicBezTo>
              </a:path>
              <a:path w="5865" h="892">
                <a:moveTo>
                  <a:pt x="8244" y="13913"/>
                </a:moveTo>
                <a:cubicBezTo>
                  <a:pt x="8246" y="13899"/>
                  <a:pt x="8247" y="13894"/>
                  <a:pt x="8246" y="13884"/>
                </a:cubicBezTo>
                <a:cubicBezTo>
                  <a:pt x="8219" y="13885"/>
                  <a:pt x="8216" y="13893"/>
                  <a:pt x="8192" y="13919"/>
                </a:cubicBezTo>
                <a:cubicBezTo>
                  <a:pt x="8164" y="13949"/>
                  <a:pt x="8149" y="13979"/>
                  <a:pt x="8131" y="14015"/>
                </a:cubicBezTo>
                <a:cubicBezTo>
                  <a:pt x="8123" y="14031"/>
                  <a:pt x="8121" y="14035"/>
                  <a:pt x="8121" y="14046"/>
                </a:cubicBezTo>
                <a:cubicBezTo>
                  <a:pt x="8153" y="14043"/>
                  <a:pt x="8165" y="14030"/>
                  <a:pt x="8188" y="14008"/>
                </a:cubicBezTo>
                <a:cubicBezTo>
                  <a:pt x="8209" y="13987"/>
                  <a:pt x="8233" y="13958"/>
                  <a:pt x="8259" y="13944"/>
                </a:cubicBezTo>
                <a:cubicBezTo>
                  <a:pt x="8271" y="13941"/>
                  <a:pt x="8274" y="13940"/>
                  <a:pt x="8282" y="13944"/>
                </a:cubicBezTo>
                <a:cubicBezTo>
                  <a:pt x="8299" y="13977"/>
                  <a:pt x="8298" y="14009"/>
                  <a:pt x="8296" y="14047"/>
                </a:cubicBezTo>
                <a:cubicBezTo>
                  <a:pt x="8293" y="14125"/>
                  <a:pt x="8281" y="14202"/>
                  <a:pt x="8269" y="14279"/>
                </a:cubicBezTo>
                <a:cubicBezTo>
                  <a:pt x="8264" y="14312"/>
                  <a:pt x="8259" y="14345"/>
                  <a:pt x="8254" y="14378"/>
                </a:cubicBezTo>
                <a:cubicBezTo>
                  <a:pt x="8264" y="14352"/>
                  <a:pt x="8276" y="14328"/>
                  <a:pt x="8288" y="14303"/>
                </a:cubicBezTo>
                <a:cubicBezTo>
                  <a:pt x="8313" y="14249"/>
                  <a:pt x="8348" y="14198"/>
                  <a:pt x="8371" y="14145"/>
                </a:cubicBezTo>
                <a:cubicBezTo>
                  <a:pt x="8383" y="14117"/>
                  <a:pt x="8393" y="14088"/>
                  <a:pt x="8407" y="14060"/>
                </a:cubicBezTo>
                <a:cubicBezTo>
                  <a:pt x="8409" y="14055"/>
                  <a:pt x="8412" y="14051"/>
                  <a:pt x="8414" y="14046"/>
                </a:cubicBezTo>
              </a:path>
              <a:path w="5865" h="892">
                <a:moveTo>
                  <a:pt x="8509" y="13690"/>
                </a:moveTo>
                <a:cubicBezTo>
                  <a:pt x="8510" y="13686"/>
                  <a:pt x="8510" y="13681"/>
                  <a:pt x="8511" y="13677"/>
                </a:cubicBezTo>
                <a:cubicBezTo>
                  <a:pt x="8544" y="13677"/>
                  <a:pt x="8571" y="13726"/>
                  <a:pt x="8590" y="13761"/>
                </a:cubicBezTo>
                <a:cubicBezTo>
                  <a:pt x="8627" y="13832"/>
                  <a:pt x="8654" y="13911"/>
                  <a:pt x="8668" y="13990"/>
                </a:cubicBezTo>
                <a:cubicBezTo>
                  <a:pt x="8678" y="14050"/>
                  <a:pt x="8689" y="14124"/>
                  <a:pt x="8664" y="14182"/>
                </a:cubicBezTo>
                <a:cubicBezTo>
                  <a:pt x="8652" y="14210"/>
                  <a:pt x="8643" y="14202"/>
                  <a:pt x="8623" y="1419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490920" y="4780080"/>
            <a:ext cx="3816360" cy="399960"/>
          </a:xfrm>
          <a:custGeom>
            <a:avLst/>
            <a:gdLst/>
            <a:ahLst/>
            <a:rect l="l" t="t" r="r" b="b"/>
            <a:pathLst>
              <a:path w="10599" h="1112">
                <a:moveTo>
                  <a:pt x="9714" y="13328"/>
                </a:moveTo>
                <a:cubicBezTo>
                  <a:pt x="9713" y="13346"/>
                  <a:pt x="9698" y="13346"/>
                  <a:pt x="9700" y="13364"/>
                </a:cubicBezTo>
                <a:cubicBezTo>
                  <a:pt x="9703" y="13385"/>
                  <a:pt x="9719" y="13471"/>
                  <a:pt x="9736" y="13484"/>
                </a:cubicBezTo>
                <a:cubicBezTo>
                  <a:pt x="9778" y="13517"/>
                  <a:pt x="9897" y="13507"/>
                  <a:pt x="9946" y="13511"/>
                </a:cubicBezTo>
                <a:cubicBezTo>
                  <a:pt x="10185" y="13530"/>
                  <a:pt x="10433" y="13518"/>
                  <a:pt x="10672" y="13513"/>
                </a:cubicBezTo>
                <a:cubicBezTo>
                  <a:pt x="11027" y="13505"/>
                  <a:pt x="11377" y="13410"/>
                  <a:pt x="11732" y="13405"/>
                </a:cubicBezTo>
                <a:cubicBezTo>
                  <a:pt x="12159" y="13399"/>
                  <a:pt x="12610" y="13390"/>
                  <a:pt x="13036" y="13424"/>
                </a:cubicBezTo>
                <a:cubicBezTo>
                  <a:pt x="13149" y="13433"/>
                  <a:pt x="13259" y="13420"/>
                  <a:pt x="13372" y="13419"/>
                </a:cubicBezTo>
                <a:cubicBezTo>
                  <a:pt x="13407" y="13419"/>
                  <a:pt x="13428" y="13418"/>
                  <a:pt x="13459" y="13406"/>
                </a:cubicBezTo>
                <a:cubicBezTo>
                  <a:pt x="13491" y="13394"/>
                  <a:pt x="13538" y="13366"/>
                  <a:pt x="13551" y="13333"/>
                </a:cubicBezTo>
                <a:cubicBezTo>
                  <a:pt x="13559" y="13314"/>
                  <a:pt x="13541" y="13298"/>
                  <a:pt x="13546" y="13284"/>
                </a:cubicBezTo>
                <a:cubicBezTo>
                  <a:pt x="13526" y="13294"/>
                  <a:pt x="13494" y="13310"/>
                  <a:pt x="13468" y="13326"/>
                </a:cubicBezTo>
                <a:cubicBezTo>
                  <a:pt x="13436" y="13346"/>
                  <a:pt x="13426" y="13352"/>
                  <a:pt x="13404" y="13365"/>
                </a:cubicBezTo>
              </a:path>
              <a:path w="10599" h="1112">
                <a:moveTo>
                  <a:pt x="10624" y="13900"/>
                </a:moveTo>
                <a:cubicBezTo>
                  <a:pt x="10613" y="13889"/>
                  <a:pt x="10596" y="13875"/>
                  <a:pt x="10580" y="13863"/>
                </a:cubicBezTo>
                <a:cubicBezTo>
                  <a:pt x="10566" y="13852"/>
                  <a:pt x="10548" y="13831"/>
                  <a:pt x="10531" y="13826"/>
                </a:cubicBezTo>
                <a:cubicBezTo>
                  <a:pt x="10510" y="13819"/>
                  <a:pt x="10502" y="13825"/>
                  <a:pt x="10493" y="13845"/>
                </a:cubicBezTo>
                <a:cubicBezTo>
                  <a:pt x="10475" y="13886"/>
                  <a:pt x="10474" y="13941"/>
                  <a:pt x="10471" y="13985"/>
                </a:cubicBezTo>
                <a:cubicBezTo>
                  <a:pt x="10466" y="14059"/>
                  <a:pt x="10470" y="14133"/>
                  <a:pt x="10475" y="14207"/>
                </a:cubicBezTo>
                <a:cubicBezTo>
                  <a:pt x="10478" y="14259"/>
                  <a:pt x="10483" y="14311"/>
                  <a:pt x="10495" y="14362"/>
                </a:cubicBezTo>
                <a:cubicBezTo>
                  <a:pt x="10499" y="14378"/>
                  <a:pt x="10499" y="14382"/>
                  <a:pt x="10505" y="14390"/>
                </a:cubicBezTo>
                <a:cubicBezTo>
                  <a:pt x="10525" y="14384"/>
                  <a:pt x="10535" y="14376"/>
                  <a:pt x="10554" y="14365"/>
                </a:cubicBezTo>
                <a:cubicBezTo>
                  <a:pt x="10576" y="14352"/>
                  <a:pt x="10605" y="14339"/>
                  <a:pt x="10630" y="14335"/>
                </a:cubicBezTo>
                <a:cubicBezTo>
                  <a:pt x="10656" y="14331"/>
                  <a:pt x="10684" y="14330"/>
                  <a:pt x="10711" y="14327"/>
                </a:cubicBezTo>
              </a:path>
              <a:path w="10599" h="1112">
                <a:moveTo>
                  <a:pt x="10988" y="14109"/>
                </a:moveTo>
                <a:cubicBezTo>
                  <a:pt x="10973" y="14088"/>
                  <a:pt x="10950" y="14061"/>
                  <a:pt x="10919" y="14068"/>
                </a:cubicBezTo>
                <a:cubicBezTo>
                  <a:pt x="10890" y="14074"/>
                  <a:pt x="10865" y="14115"/>
                  <a:pt x="10853" y="14138"/>
                </a:cubicBezTo>
                <a:cubicBezTo>
                  <a:pt x="10839" y="14166"/>
                  <a:pt x="10834" y="14188"/>
                  <a:pt x="10842" y="14217"/>
                </a:cubicBezTo>
                <a:cubicBezTo>
                  <a:pt x="10874" y="14209"/>
                  <a:pt x="10885" y="14194"/>
                  <a:pt x="10907" y="14168"/>
                </a:cubicBezTo>
                <a:cubicBezTo>
                  <a:pt x="10918" y="14155"/>
                  <a:pt x="10942" y="14112"/>
                  <a:pt x="10965" y="14123"/>
                </a:cubicBezTo>
                <a:cubicBezTo>
                  <a:pt x="10991" y="14135"/>
                  <a:pt x="10997" y="14193"/>
                  <a:pt x="11004" y="14216"/>
                </a:cubicBezTo>
                <a:cubicBezTo>
                  <a:pt x="11012" y="14243"/>
                  <a:pt x="11018" y="14294"/>
                  <a:pt x="11040" y="14314"/>
                </a:cubicBezTo>
                <a:cubicBezTo>
                  <a:pt x="11054" y="14326"/>
                  <a:pt x="11067" y="14286"/>
                  <a:pt x="11068" y="14284"/>
                </a:cubicBezTo>
              </a:path>
              <a:path w="10599" h="1112">
                <a:moveTo>
                  <a:pt x="11117" y="13880"/>
                </a:moveTo>
                <a:cubicBezTo>
                  <a:pt x="11119" y="13865"/>
                  <a:pt x="11119" y="13862"/>
                  <a:pt x="11122" y="13853"/>
                </a:cubicBezTo>
                <a:cubicBezTo>
                  <a:pt x="11144" y="13898"/>
                  <a:pt x="11151" y="13946"/>
                  <a:pt x="11161" y="13996"/>
                </a:cubicBezTo>
                <a:cubicBezTo>
                  <a:pt x="11176" y="14075"/>
                  <a:pt x="11187" y="14155"/>
                  <a:pt x="11198" y="14235"/>
                </a:cubicBezTo>
                <a:cubicBezTo>
                  <a:pt x="11202" y="14267"/>
                  <a:pt x="11204" y="14298"/>
                  <a:pt x="11209" y="14330"/>
                </a:cubicBezTo>
              </a:path>
              <a:path w="10599" h="1112">
                <a:moveTo>
                  <a:pt x="11361" y="13831"/>
                </a:moveTo>
                <a:cubicBezTo>
                  <a:pt x="11379" y="13868"/>
                  <a:pt x="11383" y="13913"/>
                  <a:pt x="11388" y="13954"/>
                </a:cubicBezTo>
                <a:cubicBezTo>
                  <a:pt x="11396" y="14025"/>
                  <a:pt x="11404" y="14097"/>
                  <a:pt x="11416" y="14167"/>
                </a:cubicBezTo>
                <a:cubicBezTo>
                  <a:pt x="11422" y="14201"/>
                  <a:pt x="11427" y="14219"/>
                  <a:pt x="11423" y="14253"/>
                </a:cubicBezTo>
              </a:path>
              <a:path w="10599" h="1112">
                <a:moveTo>
                  <a:pt x="12251" y="14097"/>
                </a:moveTo>
                <a:cubicBezTo>
                  <a:pt x="12251" y="14069"/>
                  <a:pt x="12255" y="14024"/>
                  <a:pt x="12229" y="14004"/>
                </a:cubicBezTo>
                <a:cubicBezTo>
                  <a:pt x="12222" y="14001"/>
                  <a:pt x="12215" y="13997"/>
                  <a:pt x="12208" y="13994"/>
                </a:cubicBezTo>
                <a:cubicBezTo>
                  <a:pt x="12167" y="14014"/>
                  <a:pt x="12145" y="14045"/>
                  <a:pt x="12129" y="14089"/>
                </a:cubicBezTo>
                <a:cubicBezTo>
                  <a:pt x="12109" y="14143"/>
                  <a:pt x="12084" y="14254"/>
                  <a:pt x="12132" y="14302"/>
                </a:cubicBezTo>
                <a:cubicBezTo>
                  <a:pt x="12139" y="14305"/>
                  <a:pt x="12147" y="14308"/>
                  <a:pt x="12154" y="14311"/>
                </a:cubicBezTo>
                <a:cubicBezTo>
                  <a:pt x="12208" y="14296"/>
                  <a:pt x="12233" y="14265"/>
                  <a:pt x="12258" y="14212"/>
                </a:cubicBezTo>
                <a:cubicBezTo>
                  <a:pt x="12297" y="14130"/>
                  <a:pt x="12316" y="14037"/>
                  <a:pt x="12336" y="13949"/>
                </a:cubicBezTo>
                <a:cubicBezTo>
                  <a:pt x="12343" y="13918"/>
                  <a:pt x="12344" y="13911"/>
                  <a:pt x="12352" y="13893"/>
                </a:cubicBezTo>
                <a:cubicBezTo>
                  <a:pt x="12357" y="13946"/>
                  <a:pt x="12351" y="14001"/>
                  <a:pt x="12351" y="14054"/>
                </a:cubicBezTo>
                <a:cubicBezTo>
                  <a:pt x="12351" y="14132"/>
                  <a:pt x="12356" y="14220"/>
                  <a:pt x="12383" y="14294"/>
                </a:cubicBezTo>
                <a:cubicBezTo>
                  <a:pt x="12397" y="14323"/>
                  <a:pt x="12400" y="14332"/>
                  <a:pt x="12419" y="14342"/>
                </a:cubicBezTo>
              </a:path>
              <a:path w="10599" h="1112">
                <a:moveTo>
                  <a:pt x="12527" y="14198"/>
                </a:moveTo>
                <a:cubicBezTo>
                  <a:pt x="12551" y="14197"/>
                  <a:pt x="12568" y="14189"/>
                  <a:pt x="12591" y="14178"/>
                </a:cubicBezTo>
                <a:cubicBezTo>
                  <a:pt x="12636" y="14156"/>
                  <a:pt x="12682" y="14134"/>
                  <a:pt x="12726" y="14109"/>
                </a:cubicBezTo>
                <a:cubicBezTo>
                  <a:pt x="12757" y="14091"/>
                  <a:pt x="12783" y="14076"/>
                  <a:pt x="12804" y="14048"/>
                </a:cubicBezTo>
                <a:cubicBezTo>
                  <a:pt x="12771" y="14031"/>
                  <a:pt x="12748" y="14037"/>
                  <a:pt x="12711" y="14049"/>
                </a:cubicBezTo>
                <a:cubicBezTo>
                  <a:pt x="12669" y="14063"/>
                  <a:pt x="12630" y="14085"/>
                  <a:pt x="12606" y="14124"/>
                </a:cubicBezTo>
                <a:cubicBezTo>
                  <a:pt x="12582" y="14163"/>
                  <a:pt x="12594" y="14198"/>
                  <a:pt x="12627" y="14227"/>
                </a:cubicBezTo>
                <a:cubicBezTo>
                  <a:pt x="12664" y="14259"/>
                  <a:pt x="12723" y="14265"/>
                  <a:pt x="12769" y="14276"/>
                </a:cubicBezTo>
              </a:path>
              <a:path w="10599" h="1112">
                <a:moveTo>
                  <a:pt x="12957" y="14302"/>
                </a:moveTo>
                <a:cubicBezTo>
                  <a:pt x="12979" y="14270"/>
                  <a:pt x="12972" y="14260"/>
                  <a:pt x="12970" y="14221"/>
                </a:cubicBezTo>
                <a:cubicBezTo>
                  <a:pt x="12967" y="14175"/>
                  <a:pt x="12956" y="14130"/>
                  <a:pt x="12950" y="14084"/>
                </a:cubicBezTo>
                <a:cubicBezTo>
                  <a:pt x="12943" y="14029"/>
                  <a:pt x="12937" y="13974"/>
                  <a:pt x="12942" y="13919"/>
                </a:cubicBezTo>
                <a:cubicBezTo>
                  <a:pt x="12946" y="13880"/>
                  <a:pt x="12954" y="13837"/>
                  <a:pt x="12990" y="13815"/>
                </a:cubicBezTo>
                <a:cubicBezTo>
                  <a:pt x="13024" y="13794"/>
                  <a:pt x="13071" y="13813"/>
                  <a:pt x="13103" y="13826"/>
                </a:cubicBezTo>
                <a:cubicBezTo>
                  <a:pt x="13133" y="13838"/>
                  <a:pt x="13147" y="13849"/>
                  <a:pt x="13166" y="13870"/>
                </a:cubicBezTo>
              </a:path>
              <a:path w="10599" h="1112">
                <a:moveTo>
                  <a:pt x="12878" y="14016"/>
                </a:moveTo>
                <a:cubicBezTo>
                  <a:pt x="12873" y="14020"/>
                  <a:pt x="12868" y="14025"/>
                  <a:pt x="12863" y="14029"/>
                </a:cubicBezTo>
                <a:cubicBezTo>
                  <a:pt x="12897" y="14048"/>
                  <a:pt x="12935" y="14035"/>
                  <a:pt x="12975" y="14035"/>
                </a:cubicBezTo>
                <a:cubicBezTo>
                  <a:pt x="13044" y="14035"/>
                  <a:pt x="13114" y="14038"/>
                  <a:pt x="13183" y="14040"/>
                </a:cubicBezTo>
                <a:cubicBezTo>
                  <a:pt x="13201" y="14040"/>
                  <a:pt x="13219" y="14041"/>
                  <a:pt x="13237" y="14041"/>
                </a:cubicBezTo>
              </a:path>
              <a:path w="10599" h="1112">
                <a:moveTo>
                  <a:pt x="13922" y="14096"/>
                </a:moveTo>
                <a:cubicBezTo>
                  <a:pt x="13886" y="14075"/>
                  <a:pt x="13846" y="14053"/>
                  <a:pt x="13802" y="14055"/>
                </a:cubicBezTo>
                <a:cubicBezTo>
                  <a:pt x="13759" y="14057"/>
                  <a:pt x="13712" y="14081"/>
                  <a:pt x="13686" y="14115"/>
                </a:cubicBezTo>
                <a:cubicBezTo>
                  <a:pt x="13667" y="14140"/>
                  <a:pt x="13653" y="14183"/>
                  <a:pt x="13687" y="14204"/>
                </a:cubicBezTo>
                <a:cubicBezTo>
                  <a:pt x="13727" y="14228"/>
                  <a:pt x="13779" y="14205"/>
                  <a:pt x="13814" y="14186"/>
                </a:cubicBezTo>
                <a:cubicBezTo>
                  <a:pt x="13857" y="14163"/>
                  <a:pt x="13900" y="14129"/>
                  <a:pt x="13922" y="14084"/>
                </a:cubicBezTo>
                <a:cubicBezTo>
                  <a:pt x="13933" y="14062"/>
                  <a:pt x="13938" y="14034"/>
                  <a:pt x="13948" y="14011"/>
                </a:cubicBezTo>
              </a:path>
              <a:path w="10599" h="1112">
                <a:moveTo>
                  <a:pt x="14155" y="14205"/>
                </a:moveTo>
                <a:cubicBezTo>
                  <a:pt x="14158" y="14216"/>
                  <a:pt x="14159" y="14220"/>
                  <a:pt x="14168" y="14223"/>
                </a:cubicBezTo>
                <a:cubicBezTo>
                  <a:pt x="14167" y="14196"/>
                  <a:pt x="14168" y="14169"/>
                  <a:pt x="14164" y="14142"/>
                </a:cubicBezTo>
                <a:cubicBezTo>
                  <a:pt x="14156" y="14082"/>
                  <a:pt x="14139" y="14025"/>
                  <a:pt x="14122" y="13967"/>
                </a:cubicBezTo>
                <a:cubicBezTo>
                  <a:pt x="14104" y="13906"/>
                  <a:pt x="14081" y="13841"/>
                  <a:pt x="14073" y="13778"/>
                </a:cubicBezTo>
                <a:cubicBezTo>
                  <a:pt x="14068" y="13739"/>
                  <a:pt x="14075" y="13703"/>
                  <a:pt x="14121" y="13701"/>
                </a:cubicBezTo>
                <a:cubicBezTo>
                  <a:pt x="14176" y="13699"/>
                  <a:pt x="14246" y="13722"/>
                  <a:pt x="14297" y="13741"/>
                </a:cubicBezTo>
                <a:cubicBezTo>
                  <a:pt x="14327" y="13752"/>
                  <a:pt x="14405" y="13774"/>
                  <a:pt x="14419" y="13809"/>
                </a:cubicBezTo>
                <a:cubicBezTo>
                  <a:pt x="14419" y="13814"/>
                  <a:pt x="14418" y="13820"/>
                  <a:pt x="14418" y="13825"/>
                </a:cubicBezTo>
              </a:path>
              <a:path w="10599" h="1112">
                <a:moveTo>
                  <a:pt x="14077" y="14029"/>
                </a:moveTo>
                <a:cubicBezTo>
                  <a:pt x="14036" y="14062"/>
                  <a:pt x="14135" y="14013"/>
                  <a:pt x="14153" y="14009"/>
                </a:cubicBezTo>
                <a:cubicBezTo>
                  <a:pt x="14216" y="13994"/>
                  <a:pt x="14282" y="13987"/>
                  <a:pt x="14347" y="13982"/>
                </a:cubicBezTo>
                <a:cubicBezTo>
                  <a:pt x="14361" y="13981"/>
                  <a:pt x="14376" y="13981"/>
                  <a:pt x="14390" y="13980"/>
                </a:cubicBezTo>
              </a:path>
              <a:path w="10599" h="1112">
                <a:moveTo>
                  <a:pt x="15074" y="13931"/>
                </a:moveTo>
                <a:cubicBezTo>
                  <a:pt x="15068" y="13905"/>
                  <a:pt x="15062" y="13878"/>
                  <a:pt x="15039" y="13861"/>
                </a:cubicBezTo>
                <a:cubicBezTo>
                  <a:pt x="15033" y="13858"/>
                  <a:pt x="15028" y="13854"/>
                  <a:pt x="15022" y="13851"/>
                </a:cubicBezTo>
                <a:cubicBezTo>
                  <a:pt x="14991" y="13886"/>
                  <a:pt x="14972" y="13921"/>
                  <a:pt x="14962" y="13968"/>
                </a:cubicBezTo>
                <a:cubicBezTo>
                  <a:pt x="14943" y="14057"/>
                  <a:pt x="14934" y="14171"/>
                  <a:pt x="14966" y="14258"/>
                </a:cubicBezTo>
                <a:cubicBezTo>
                  <a:pt x="14983" y="14305"/>
                  <a:pt x="15020" y="14308"/>
                  <a:pt x="15051" y="14273"/>
                </a:cubicBezTo>
                <a:cubicBezTo>
                  <a:pt x="15107" y="14211"/>
                  <a:pt x="15116" y="14058"/>
                  <a:pt x="15180" y="14014"/>
                </a:cubicBezTo>
                <a:cubicBezTo>
                  <a:pt x="15185" y="14014"/>
                  <a:pt x="15190" y="14015"/>
                  <a:pt x="15195" y="14015"/>
                </a:cubicBezTo>
                <a:cubicBezTo>
                  <a:pt x="15197" y="14063"/>
                  <a:pt x="15202" y="14111"/>
                  <a:pt x="15206" y="14159"/>
                </a:cubicBezTo>
                <a:cubicBezTo>
                  <a:pt x="15210" y="14206"/>
                  <a:pt x="15214" y="14259"/>
                  <a:pt x="15268" y="14274"/>
                </a:cubicBezTo>
                <a:cubicBezTo>
                  <a:pt x="15278" y="14274"/>
                  <a:pt x="15287" y="14275"/>
                  <a:pt x="15297" y="14275"/>
                </a:cubicBezTo>
              </a:path>
              <a:path w="10599" h="1112">
                <a:moveTo>
                  <a:pt x="15462" y="14113"/>
                </a:moveTo>
                <a:cubicBezTo>
                  <a:pt x="15458" y="14113"/>
                  <a:pt x="15453" y="14113"/>
                  <a:pt x="15449" y="14113"/>
                </a:cubicBezTo>
                <a:cubicBezTo>
                  <a:pt x="15480" y="14092"/>
                  <a:pt x="15513" y="14085"/>
                  <a:pt x="15549" y="14074"/>
                </a:cubicBezTo>
                <a:cubicBezTo>
                  <a:pt x="15617" y="14054"/>
                  <a:pt x="15683" y="14037"/>
                  <a:pt x="15753" y="14030"/>
                </a:cubicBezTo>
                <a:cubicBezTo>
                  <a:pt x="15778" y="14027"/>
                  <a:pt x="15802" y="14028"/>
                  <a:pt x="15827" y="14030"/>
                </a:cubicBezTo>
                <a:cubicBezTo>
                  <a:pt x="15810" y="14012"/>
                  <a:pt x="15794" y="14000"/>
                  <a:pt x="15773" y="13986"/>
                </a:cubicBezTo>
                <a:cubicBezTo>
                  <a:pt x="15745" y="13968"/>
                  <a:pt x="15716" y="13950"/>
                  <a:pt x="15686" y="13934"/>
                </a:cubicBezTo>
                <a:cubicBezTo>
                  <a:pt x="15668" y="13925"/>
                  <a:pt x="15650" y="13918"/>
                  <a:pt x="15632" y="13909"/>
                </a:cubicBezTo>
                <a:cubicBezTo>
                  <a:pt x="15654" y="13916"/>
                  <a:pt x="15674" y="13924"/>
                  <a:pt x="15696" y="13932"/>
                </a:cubicBezTo>
              </a:path>
              <a:path w="10599" h="1112">
                <a:moveTo>
                  <a:pt x="15814" y="14000"/>
                </a:moveTo>
                <a:cubicBezTo>
                  <a:pt x="15815" y="14027"/>
                  <a:pt x="15802" y="14046"/>
                  <a:pt x="15798" y="14071"/>
                </a:cubicBezTo>
                <a:cubicBezTo>
                  <a:pt x="15791" y="14117"/>
                  <a:pt x="15788" y="14164"/>
                  <a:pt x="15783" y="14210"/>
                </a:cubicBezTo>
                <a:cubicBezTo>
                  <a:pt x="15779" y="14243"/>
                  <a:pt x="15777" y="14266"/>
                  <a:pt x="15795" y="14292"/>
                </a:cubicBezTo>
              </a:path>
              <a:path w="10599" h="1112">
                <a:moveTo>
                  <a:pt x="16107" y="13770"/>
                </a:moveTo>
                <a:cubicBezTo>
                  <a:pt x="16103" y="13751"/>
                  <a:pt x="16098" y="13733"/>
                  <a:pt x="16092" y="13714"/>
                </a:cubicBezTo>
                <a:cubicBezTo>
                  <a:pt x="16111" y="13757"/>
                  <a:pt x="16119" y="13806"/>
                  <a:pt x="16129" y="13852"/>
                </a:cubicBezTo>
                <a:cubicBezTo>
                  <a:pt x="16145" y="13928"/>
                  <a:pt x="16158" y="14004"/>
                  <a:pt x="16165" y="14082"/>
                </a:cubicBezTo>
                <a:cubicBezTo>
                  <a:pt x="16167" y="14109"/>
                  <a:pt x="16168" y="14135"/>
                  <a:pt x="16169" y="14162"/>
                </a:cubicBezTo>
                <a:cubicBezTo>
                  <a:pt x="16188" y="14136"/>
                  <a:pt x="16203" y="14106"/>
                  <a:pt x="16224" y="14082"/>
                </a:cubicBezTo>
                <a:cubicBezTo>
                  <a:pt x="16250" y="14052"/>
                  <a:pt x="16289" y="14023"/>
                  <a:pt x="16331" y="14030"/>
                </a:cubicBezTo>
                <a:cubicBezTo>
                  <a:pt x="16401" y="14042"/>
                  <a:pt x="16397" y="14130"/>
                  <a:pt x="16366" y="14175"/>
                </a:cubicBezTo>
                <a:cubicBezTo>
                  <a:pt x="16342" y="14209"/>
                  <a:pt x="16287" y="14239"/>
                  <a:pt x="16244" y="14232"/>
                </a:cubicBezTo>
                <a:cubicBezTo>
                  <a:pt x="16206" y="14226"/>
                  <a:pt x="16167" y="14201"/>
                  <a:pt x="16156" y="14163"/>
                </a:cubicBezTo>
                <a:cubicBezTo>
                  <a:pt x="16155" y="14156"/>
                  <a:pt x="16155" y="14148"/>
                  <a:pt x="16154" y="14141"/>
                </a:cubicBezTo>
              </a:path>
              <a:path w="10599" h="1112">
                <a:moveTo>
                  <a:pt x="16942" y="13989"/>
                </a:moveTo>
                <a:cubicBezTo>
                  <a:pt x="16918" y="13995"/>
                  <a:pt x="16978" y="13999"/>
                  <a:pt x="16986" y="14001"/>
                </a:cubicBezTo>
                <a:cubicBezTo>
                  <a:pt x="17039" y="14012"/>
                  <a:pt x="17090" y="14017"/>
                  <a:pt x="17144" y="14022"/>
                </a:cubicBezTo>
                <a:cubicBezTo>
                  <a:pt x="17200" y="14028"/>
                  <a:pt x="17257" y="14031"/>
                  <a:pt x="17313" y="14030"/>
                </a:cubicBezTo>
                <a:cubicBezTo>
                  <a:pt x="17339" y="14028"/>
                  <a:pt x="17346" y="14028"/>
                  <a:pt x="17362" y="14028"/>
                </a:cubicBezTo>
              </a:path>
              <a:path w="10599" h="1112">
                <a:moveTo>
                  <a:pt x="17102" y="14135"/>
                </a:moveTo>
                <a:cubicBezTo>
                  <a:pt x="17090" y="14141"/>
                  <a:pt x="17087" y="14143"/>
                  <a:pt x="17079" y="14145"/>
                </a:cubicBezTo>
                <a:cubicBezTo>
                  <a:pt x="17110" y="14138"/>
                  <a:pt x="17142" y="14134"/>
                  <a:pt x="17174" y="14132"/>
                </a:cubicBezTo>
                <a:cubicBezTo>
                  <a:pt x="17237" y="14128"/>
                  <a:pt x="17297" y="14130"/>
                  <a:pt x="17360" y="14133"/>
                </a:cubicBezTo>
                <a:cubicBezTo>
                  <a:pt x="17402" y="14135"/>
                  <a:pt x="17441" y="14135"/>
                  <a:pt x="17482" y="14132"/>
                </a:cubicBezTo>
              </a:path>
              <a:path w="10599" h="1112">
                <a:moveTo>
                  <a:pt x="17087" y="14327"/>
                </a:moveTo>
                <a:cubicBezTo>
                  <a:pt x="17127" y="14311"/>
                  <a:pt x="17169" y="14288"/>
                  <a:pt x="17210" y="14277"/>
                </a:cubicBezTo>
                <a:cubicBezTo>
                  <a:pt x="17281" y="14258"/>
                  <a:pt x="17357" y="14244"/>
                  <a:pt x="17431" y="14236"/>
                </a:cubicBezTo>
                <a:cubicBezTo>
                  <a:pt x="17467" y="14232"/>
                  <a:pt x="17504" y="14231"/>
                  <a:pt x="17540" y="14229"/>
                </a:cubicBezTo>
              </a:path>
              <a:path w="10599" h="1112">
                <a:moveTo>
                  <a:pt x="18150" y="14008"/>
                </a:moveTo>
                <a:cubicBezTo>
                  <a:pt x="18150" y="14033"/>
                  <a:pt x="18182" y="14013"/>
                  <a:pt x="18210" y="14005"/>
                </a:cubicBezTo>
                <a:cubicBezTo>
                  <a:pt x="18259" y="13991"/>
                  <a:pt x="18307" y="13978"/>
                  <a:pt x="18357" y="13970"/>
                </a:cubicBezTo>
                <a:cubicBezTo>
                  <a:pt x="18392" y="13964"/>
                  <a:pt x="18443" y="13954"/>
                  <a:pt x="18475" y="13977"/>
                </a:cubicBezTo>
                <a:cubicBezTo>
                  <a:pt x="18503" y="13997"/>
                  <a:pt x="18500" y="14041"/>
                  <a:pt x="18497" y="14070"/>
                </a:cubicBezTo>
                <a:cubicBezTo>
                  <a:pt x="18492" y="14122"/>
                  <a:pt x="18481" y="14181"/>
                  <a:pt x="18464" y="14230"/>
                </a:cubicBezTo>
                <a:cubicBezTo>
                  <a:pt x="18457" y="14242"/>
                  <a:pt x="18455" y="14245"/>
                  <a:pt x="18453" y="14254"/>
                </a:cubicBezTo>
              </a:path>
              <a:path w="10599" h="1112">
                <a:moveTo>
                  <a:pt x="18944" y="14070"/>
                </a:moveTo>
                <a:cubicBezTo>
                  <a:pt x="18943" y="14054"/>
                  <a:pt x="18945" y="14026"/>
                  <a:pt x="18930" y="14014"/>
                </a:cubicBezTo>
                <a:cubicBezTo>
                  <a:pt x="18897" y="13988"/>
                  <a:pt x="18868" y="14023"/>
                  <a:pt x="18844" y="14045"/>
                </a:cubicBezTo>
                <a:cubicBezTo>
                  <a:pt x="18804" y="14083"/>
                  <a:pt x="18775" y="14131"/>
                  <a:pt x="18762" y="14185"/>
                </a:cubicBezTo>
                <a:cubicBezTo>
                  <a:pt x="18758" y="14215"/>
                  <a:pt x="18757" y="14223"/>
                  <a:pt x="18761" y="14242"/>
                </a:cubicBezTo>
                <a:cubicBezTo>
                  <a:pt x="18792" y="14264"/>
                  <a:pt x="18813" y="14253"/>
                  <a:pt x="18843" y="14228"/>
                </a:cubicBezTo>
                <a:cubicBezTo>
                  <a:pt x="18893" y="14186"/>
                  <a:pt x="18920" y="14100"/>
                  <a:pt x="18976" y="14069"/>
                </a:cubicBezTo>
                <a:cubicBezTo>
                  <a:pt x="18980" y="14069"/>
                  <a:pt x="18984" y="14068"/>
                  <a:pt x="18988" y="14068"/>
                </a:cubicBezTo>
                <a:cubicBezTo>
                  <a:pt x="19005" y="14098"/>
                  <a:pt x="19008" y="14141"/>
                  <a:pt x="19006" y="14177"/>
                </a:cubicBezTo>
                <a:cubicBezTo>
                  <a:pt x="19003" y="14231"/>
                  <a:pt x="18997" y="14285"/>
                  <a:pt x="18995" y="14339"/>
                </a:cubicBezTo>
              </a:path>
              <a:path w="10599" h="1112">
                <a:moveTo>
                  <a:pt x="19299" y="14000"/>
                </a:moveTo>
                <a:cubicBezTo>
                  <a:pt x="19302" y="13969"/>
                  <a:pt x="19325" y="14032"/>
                  <a:pt x="19335" y="14048"/>
                </a:cubicBezTo>
                <a:cubicBezTo>
                  <a:pt x="19360" y="14085"/>
                  <a:pt x="19386" y="14123"/>
                  <a:pt x="19414" y="14158"/>
                </a:cubicBezTo>
                <a:cubicBezTo>
                  <a:pt x="19433" y="14181"/>
                  <a:pt x="19457" y="14201"/>
                  <a:pt x="19484" y="14176"/>
                </a:cubicBezTo>
                <a:cubicBezTo>
                  <a:pt x="19516" y="14146"/>
                  <a:pt x="19531" y="14092"/>
                  <a:pt x="19549" y="14054"/>
                </a:cubicBezTo>
                <a:cubicBezTo>
                  <a:pt x="19568" y="14013"/>
                  <a:pt x="19580" y="13967"/>
                  <a:pt x="19599" y="13927"/>
                </a:cubicBezTo>
                <a:cubicBezTo>
                  <a:pt x="19602" y="13924"/>
                  <a:pt x="19604" y="13920"/>
                  <a:pt x="19607" y="13917"/>
                </a:cubicBezTo>
              </a:path>
              <a:path w="10599" h="1112">
                <a:moveTo>
                  <a:pt x="19936" y="13750"/>
                </a:moveTo>
                <a:cubicBezTo>
                  <a:pt x="19927" y="13734"/>
                  <a:pt x="19922" y="13726"/>
                  <a:pt x="19911" y="13711"/>
                </a:cubicBezTo>
                <a:cubicBezTo>
                  <a:pt x="19924" y="13745"/>
                  <a:pt x="19936" y="13780"/>
                  <a:pt x="19948" y="13815"/>
                </a:cubicBezTo>
                <a:cubicBezTo>
                  <a:pt x="19976" y="13896"/>
                  <a:pt x="19992" y="13981"/>
                  <a:pt x="20006" y="14065"/>
                </a:cubicBezTo>
                <a:cubicBezTo>
                  <a:pt x="20010" y="14092"/>
                  <a:pt x="20013" y="14119"/>
                  <a:pt x="20018" y="14146"/>
                </a:cubicBezTo>
                <a:cubicBezTo>
                  <a:pt x="20040" y="14134"/>
                  <a:pt x="20050" y="14125"/>
                  <a:pt x="20068" y="14100"/>
                </a:cubicBezTo>
                <a:cubicBezTo>
                  <a:pt x="20097" y="14059"/>
                  <a:pt x="20127" y="14010"/>
                  <a:pt x="20170" y="13982"/>
                </a:cubicBezTo>
                <a:cubicBezTo>
                  <a:pt x="20209" y="13956"/>
                  <a:pt x="20233" y="13983"/>
                  <a:pt x="20254" y="14017"/>
                </a:cubicBezTo>
                <a:cubicBezTo>
                  <a:pt x="20300" y="14092"/>
                  <a:pt x="20319" y="14214"/>
                  <a:pt x="20276" y="14293"/>
                </a:cubicBezTo>
                <a:cubicBezTo>
                  <a:pt x="20249" y="14342"/>
                  <a:pt x="20188" y="14347"/>
                  <a:pt x="20139" y="14335"/>
                </a:cubicBezTo>
                <a:cubicBezTo>
                  <a:pt x="20079" y="14321"/>
                  <a:pt x="20050" y="14280"/>
                  <a:pt x="20016" y="1423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023840" y="5299200"/>
            <a:ext cx="152640" cy="163440"/>
          </a:xfrm>
          <a:custGeom>
            <a:avLst/>
            <a:gdLst/>
            <a:ahLst/>
            <a:rect l="l" t="t" r="r" b="b"/>
            <a:pathLst>
              <a:path w="423" h="454">
                <a:moveTo>
                  <a:pt x="2894" y="14793"/>
                </a:moveTo>
                <a:cubicBezTo>
                  <a:pt x="2882" y="14790"/>
                  <a:pt x="2860" y="14789"/>
                  <a:pt x="2851" y="14779"/>
                </a:cubicBezTo>
                <a:cubicBezTo>
                  <a:pt x="2849" y="14774"/>
                  <a:pt x="2846" y="14769"/>
                  <a:pt x="2844" y="14764"/>
                </a:cubicBezTo>
                <a:cubicBezTo>
                  <a:pt x="2875" y="14737"/>
                  <a:pt x="2912" y="14719"/>
                  <a:pt x="2955" y="14720"/>
                </a:cubicBezTo>
                <a:cubicBezTo>
                  <a:pt x="2996" y="14721"/>
                  <a:pt x="3010" y="14748"/>
                  <a:pt x="3010" y="14785"/>
                </a:cubicBezTo>
                <a:cubicBezTo>
                  <a:pt x="3011" y="14847"/>
                  <a:pt x="2977" y="14908"/>
                  <a:pt x="2950" y="14962"/>
                </a:cubicBezTo>
                <a:cubicBezTo>
                  <a:pt x="2925" y="15012"/>
                  <a:pt x="2894" y="15058"/>
                  <a:pt x="2870" y="15109"/>
                </a:cubicBezTo>
                <a:cubicBezTo>
                  <a:pt x="2856" y="15138"/>
                  <a:pt x="2866" y="15153"/>
                  <a:pt x="2898" y="15158"/>
                </a:cubicBezTo>
                <a:cubicBezTo>
                  <a:pt x="2943" y="15165"/>
                  <a:pt x="2989" y="15160"/>
                  <a:pt x="3034" y="15154"/>
                </a:cubicBezTo>
                <a:cubicBezTo>
                  <a:pt x="3068" y="15149"/>
                  <a:pt x="3078" y="15148"/>
                  <a:pt x="3099" y="15143"/>
                </a:cubicBezTo>
              </a:path>
              <a:path w="423" h="454">
                <a:moveTo>
                  <a:pt x="3257" y="15173"/>
                </a:moveTo>
                <a:cubicBezTo>
                  <a:pt x="3266" y="15150"/>
                  <a:pt x="3265" y="15141"/>
                  <a:pt x="3260" y="1511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322280" y="5283360"/>
            <a:ext cx="297000" cy="287280"/>
          </a:xfrm>
          <a:custGeom>
            <a:avLst/>
            <a:gdLst/>
            <a:ahLst/>
            <a:rect l="l" t="t" r="r" b="b"/>
            <a:pathLst>
              <a:path w="823" h="799">
                <a:moveTo>
                  <a:pt x="3767" y="15043"/>
                </a:moveTo>
                <a:cubicBezTo>
                  <a:pt x="3741" y="15047"/>
                  <a:pt x="3716" y="15047"/>
                  <a:pt x="3692" y="15050"/>
                </a:cubicBezTo>
                <a:cubicBezTo>
                  <a:pt x="3686" y="15052"/>
                  <a:pt x="3681" y="15053"/>
                  <a:pt x="3675" y="15055"/>
                </a:cubicBezTo>
                <a:cubicBezTo>
                  <a:pt x="3696" y="15058"/>
                  <a:pt x="3719" y="15059"/>
                  <a:pt x="3740" y="15058"/>
                </a:cubicBezTo>
                <a:cubicBezTo>
                  <a:pt x="3788" y="15057"/>
                  <a:pt x="3835" y="15052"/>
                  <a:pt x="3883" y="15047"/>
                </a:cubicBezTo>
                <a:cubicBezTo>
                  <a:pt x="3945" y="15040"/>
                  <a:pt x="4008" y="15028"/>
                  <a:pt x="4070" y="15025"/>
                </a:cubicBezTo>
                <a:cubicBezTo>
                  <a:pt x="4090" y="15024"/>
                  <a:pt x="4118" y="15023"/>
                  <a:pt x="4125" y="15046"/>
                </a:cubicBezTo>
                <a:cubicBezTo>
                  <a:pt x="4130" y="15062"/>
                  <a:pt x="4124" y="15077"/>
                  <a:pt x="4118" y="15091"/>
                </a:cubicBezTo>
                <a:cubicBezTo>
                  <a:pt x="4107" y="15114"/>
                  <a:pt x="4102" y="15131"/>
                  <a:pt x="4096" y="15156"/>
                </a:cubicBezTo>
                <a:cubicBezTo>
                  <a:pt x="4092" y="15173"/>
                  <a:pt x="4088" y="15190"/>
                  <a:pt x="4084" y="15207"/>
                </a:cubicBezTo>
                <a:cubicBezTo>
                  <a:pt x="4082" y="15215"/>
                  <a:pt x="4077" y="15277"/>
                  <a:pt x="4087" y="15236"/>
                </a:cubicBezTo>
                <a:cubicBezTo>
                  <a:pt x="4089" y="15225"/>
                  <a:pt x="4090" y="15221"/>
                  <a:pt x="4091" y="15213"/>
                </a:cubicBezTo>
              </a:path>
              <a:path w="823" h="799">
                <a:moveTo>
                  <a:pt x="4270" y="15037"/>
                </a:moveTo>
                <a:cubicBezTo>
                  <a:pt x="4271" y="15073"/>
                  <a:pt x="4274" y="15106"/>
                  <a:pt x="4281" y="15141"/>
                </a:cubicBezTo>
                <a:cubicBezTo>
                  <a:pt x="4293" y="15202"/>
                  <a:pt x="4306" y="15263"/>
                  <a:pt x="4320" y="15324"/>
                </a:cubicBezTo>
                <a:cubicBezTo>
                  <a:pt x="4330" y="15370"/>
                  <a:pt x="4340" y="15415"/>
                  <a:pt x="4348" y="15461"/>
                </a:cubicBezTo>
                <a:cubicBezTo>
                  <a:pt x="4349" y="15465"/>
                  <a:pt x="4349" y="15468"/>
                  <a:pt x="4350" y="15472"/>
                </a:cubicBezTo>
                <a:cubicBezTo>
                  <a:pt x="4336" y="15444"/>
                  <a:pt x="4331" y="15409"/>
                  <a:pt x="4327" y="15378"/>
                </a:cubicBezTo>
                <a:cubicBezTo>
                  <a:pt x="4320" y="15314"/>
                  <a:pt x="4324" y="15249"/>
                  <a:pt x="4335" y="15185"/>
                </a:cubicBezTo>
                <a:cubicBezTo>
                  <a:pt x="4343" y="15139"/>
                  <a:pt x="4352" y="15068"/>
                  <a:pt x="4388" y="15033"/>
                </a:cubicBezTo>
                <a:cubicBezTo>
                  <a:pt x="4395" y="15029"/>
                  <a:pt x="4402" y="15026"/>
                  <a:pt x="4409" y="15022"/>
                </a:cubicBezTo>
                <a:cubicBezTo>
                  <a:pt x="4451" y="15037"/>
                  <a:pt x="4465" y="15062"/>
                  <a:pt x="4480" y="15106"/>
                </a:cubicBezTo>
                <a:cubicBezTo>
                  <a:pt x="4497" y="15155"/>
                  <a:pt x="4506" y="15216"/>
                  <a:pt x="4490" y="15267"/>
                </a:cubicBezTo>
                <a:cubicBezTo>
                  <a:pt x="4479" y="15302"/>
                  <a:pt x="4453" y="15328"/>
                  <a:pt x="4415" y="15326"/>
                </a:cubicBezTo>
                <a:cubicBezTo>
                  <a:pt x="4380" y="15324"/>
                  <a:pt x="4359" y="15288"/>
                  <a:pt x="4348" y="15259"/>
                </a:cubicBezTo>
                <a:cubicBezTo>
                  <a:pt x="4343" y="15238"/>
                  <a:pt x="4341" y="15231"/>
                  <a:pt x="4341" y="15217"/>
                </a:cubicBezTo>
              </a:path>
              <a:path w="823" h="799">
                <a:moveTo>
                  <a:pt x="3848" y="14674"/>
                </a:moveTo>
                <a:cubicBezTo>
                  <a:pt x="3818" y="14692"/>
                  <a:pt x="3814" y="14696"/>
                  <a:pt x="3796" y="14731"/>
                </a:cubicBezTo>
                <a:cubicBezTo>
                  <a:pt x="3764" y="14795"/>
                  <a:pt x="3749" y="14864"/>
                  <a:pt x="3730" y="14933"/>
                </a:cubicBezTo>
                <a:cubicBezTo>
                  <a:pt x="3707" y="15020"/>
                  <a:pt x="3694" y="15109"/>
                  <a:pt x="3691" y="15199"/>
                </a:cubicBezTo>
                <a:cubicBezTo>
                  <a:pt x="3689" y="15258"/>
                  <a:pt x="3693" y="15322"/>
                  <a:pt x="3720" y="15376"/>
                </a:cubicBezTo>
                <a:cubicBezTo>
                  <a:pt x="3741" y="15418"/>
                  <a:pt x="3779" y="15441"/>
                  <a:pt x="3817" y="1546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719360" y="5262480"/>
            <a:ext cx="804600" cy="376200"/>
          </a:xfrm>
          <a:custGeom>
            <a:avLst/>
            <a:gdLst/>
            <a:ahLst/>
            <a:rect l="l" t="t" r="r" b="b"/>
            <a:pathLst>
              <a:path w="2235" h="1045">
                <a:moveTo>
                  <a:pt x="4777" y="14974"/>
                </a:moveTo>
                <a:cubicBezTo>
                  <a:pt x="4793" y="15003"/>
                  <a:pt x="4808" y="15032"/>
                  <a:pt x="4825" y="15061"/>
                </a:cubicBezTo>
                <a:cubicBezTo>
                  <a:pt x="4848" y="15100"/>
                  <a:pt x="4872" y="15146"/>
                  <a:pt x="4904" y="15178"/>
                </a:cubicBezTo>
                <a:cubicBezTo>
                  <a:pt x="4928" y="15201"/>
                  <a:pt x="4945" y="15192"/>
                  <a:pt x="4959" y="15166"/>
                </a:cubicBezTo>
                <a:cubicBezTo>
                  <a:pt x="4980" y="15127"/>
                  <a:pt x="4993" y="15082"/>
                  <a:pt x="5009" y="15041"/>
                </a:cubicBezTo>
                <a:cubicBezTo>
                  <a:pt x="5021" y="15010"/>
                  <a:pt x="5033" y="14971"/>
                  <a:pt x="5051" y="14943"/>
                </a:cubicBezTo>
                <a:cubicBezTo>
                  <a:pt x="5055" y="14939"/>
                  <a:pt x="5058" y="14934"/>
                  <a:pt x="5062" y="14930"/>
                </a:cubicBezTo>
              </a:path>
              <a:path w="2235" h="1045">
                <a:moveTo>
                  <a:pt x="5948" y="14955"/>
                </a:moveTo>
                <a:cubicBezTo>
                  <a:pt x="5948" y="14929"/>
                  <a:pt x="5953" y="14902"/>
                  <a:pt x="5944" y="14878"/>
                </a:cubicBezTo>
                <a:cubicBezTo>
                  <a:pt x="5942" y="14874"/>
                  <a:pt x="5939" y="14869"/>
                  <a:pt x="5937" y="14865"/>
                </a:cubicBezTo>
                <a:cubicBezTo>
                  <a:pt x="5913" y="14905"/>
                  <a:pt x="5894" y="14949"/>
                  <a:pt x="5878" y="14994"/>
                </a:cubicBezTo>
                <a:cubicBezTo>
                  <a:pt x="5859" y="15048"/>
                  <a:pt x="5843" y="15104"/>
                  <a:pt x="5835" y="15160"/>
                </a:cubicBezTo>
                <a:cubicBezTo>
                  <a:pt x="5833" y="15179"/>
                  <a:pt x="5832" y="15183"/>
                  <a:pt x="5836" y="15194"/>
                </a:cubicBezTo>
                <a:cubicBezTo>
                  <a:pt x="5866" y="15176"/>
                  <a:pt x="5882" y="15154"/>
                  <a:pt x="5905" y="15126"/>
                </a:cubicBezTo>
                <a:cubicBezTo>
                  <a:pt x="5921" y="15106"/>
                  <a:pt x="5947" y="15069"/>
                  <a:pt x="5977" y="15070"/>
                </a:cubicBezTo>
                <a:cubicBezTo>
                  <a:pt x="6016" y="15071"/>
                  <a:pt x="6024" y="15140"/>
                  <a:pt x="6029" y="15166"/>
                </a:cubicBezTo>
                <a:cubicBezTo>
                  <a:pt x="6043" y="15245"/>
                  <a:pt x="6040" y="15324"/>
                  <a:pt x="6034" y="15404"/>
                </a:cubicBezTo>
                <a:cubicBezTo>
                  <a:pt x="6029" y="15473"/>
                  <a:pt x="6019" y="15540"/>
                  <a:pt x="6004" y="15607"/>
                </a:cubicBezTo>
                <a:cubicBezTo>
                  <a:pt x="5999" y="15628"/>
                  <a:pt x="5993" y="15642"/>
                  <a:pt x="5986" y="15661"/>
                </a:cubicBezTo>
                <a:cubicBezTo>
                  <a:pt x="5980" y="15624"/>
                  <a:pt x="5988" y="15593"/>
                  <a:pt x="5998" y="15556"/>
                </a:cubicBezTo>
                <a:cubicBezTo>
                  <a:pt x="6013" y="15498"/>
                  <a:pt x="6036" y="15443"/>
                  <a:pt x="6065" y="15391"/>
                </a:cubicBezTo>
                <a:cubicBezTo>
                  <a:pt x="6095" y="15337"/>
                  <a:pt x="6125" y="15286"/>
                  <a:pt x="6165" y="15240"/>
                </a:cubicBezTo>
                <a:cubicBezTo>
                  <a:pt x="6185" y="15216"/>
                  <a:pt x="6188" y="15202"/>
                  <a:pt x="6193" y="15174"/>
                </a:cubicBezTo>
              </a:path>
              <a:path w="2235" h="1045">
                <a:moveTo>
                  <a:pt x="5365" y="14999"/>
                </a:moveTo>
                <a:cubicBezTo>
                  <a:pt x="5345" y="14994"/>
                  <a:pt x="5334" y="14988"/>
                  <a:pt x="5313" y="14995"/>
                </a:cubicBezTo>
                <a:cubicBezTo>
                  <a:pt x="5308" y="14997"/>
                  <a:pt x="5304" y="14999"/>
                  <a:pt x="5299" y="15001"/>
                </a:cubicBezTo>
                <a:cubicBezTo>
                  <a:pt x="5327" y="15008"/>
                  <a:pt x="5347" y="15006"/>
                  <a:pt x="5377" y="15003"/>
                </a:cubicBezTo>
                <a:cubicBezTo>
                  <a:pt x="5417" y="14998"/>
                  <a:pt x="5457" y="14991"/>
                  <a:pt x="5497" y="14982"/>
                </a:cubicBezTo>
                <a:cubicBezTo>
                  <a:pt x="5528" y="14975"/>
                  <a:pt x="5559" y="14966"/>
                  <a:pt x="5591" y="14962"/>
                </a:cubicBezTo>
                <a:cubicBezTo>
                  <a:pt x="5599" y="14979"/>
                  <a:pt x="5593" y="14988"/>
                  <a:pt x="5586" y="15008"/>
                </a:cubicBezTo>
                <a:cubicBezTo>
                  <a:pt x="5577" y="15034"/>
                  <a:pt x="5574" y="15061"/>
                  <a:pt x="5572" y="15088"/>
                </a:cubicBezTo>
                <a:cubicBezTo>
                  <a:pt x="5570" y="15116"/>
                  <a:pt x="5570" y="15145"/>
                  <a:pt x="5570" y="15173"/>
                </a:cubicBezTo>
                <a:cubicBezTo>
                  <a:pt x="5570" y="15202"/>
                  <a:pt x="5571" y="15193"/>
                  <a:pt x="5573" y="15171"/>
                </a:cubicBezTo>
              </a:path>
              <a:path w="2235" h="1045">
                <a:moveTo>
                  <a:pt x="6391" y="14632"/>
                </a:moveTo>
                <a:cubicBezTo>
                  <a:pt x="6394" y="14627"/>
                  <a:pt x="6396" y="14622"/>
                  <a:pt x="6399" y="14617"/>
                </a:cubicBezTo>
                <a:cubicBezTo>
                  <a:pt x="6430" y="14632"/>
                  <a:pt x="6438" y="14658"/>
                  <a:pt x="6454" y="14689"/>
                </a:cubicBezTo>
                <a:cubicBezTo>
                  <a:pt x="6490" y="14758"/>
                  <a:pt x="6514" y="14832"/>
                  <a:pt x="6535" y="14907"/>
                </a:cubicBezTo>
                <a:cubicBezTo>
                  <a:pt x="6558" y="14989"/>
                  <a:pt x="6571" y="15074"/>
                  <a:pt x="6565" y="15160"/>
                </a:cubicBezTo>
                <a:cubicBezTo>
                  <a:pt x="6562" y="15202"/>
                  <a:pt x="6554" y="15266"/>
                  <a:pt x="6526" y="15301"/>
                </a:cubicBezTo>
                <a:cubicBezTo>
                  <a:pt x="6502" y="15331"/>
                  <a:pt x="6506" y="15282"/>
                  <a:pt x="6505" y="15272"/>
                </a:cubicBezTo>
              </a:path>
              <a:path w="2235" h="1045">
                <a:moveTo>
                  <a:pt x="6764" y="14889"/>
                </a:moveTo>
                <a:cubicBezTo>
                  <a:pt x="6763" y="14885"/>
                  <a:pt x="6759" y="14843"/>
                  <a:pt x="6760" y="14877"/>
                </a:cubicBezTo>
                <a:cubicBezTo>
                  <a:pt x="6769" y="14921"/>
                  <a:pt x="6785" y="14963"/>
                  <a:pt x="6802" y="15005"/>
                </a:cubicBezTo>
                <a:cubicBezTo>
                  <a:pt x="6818" y="15046"/>
                  <a:pt x="6835" y="15106"/>
                  <a:pt x="6874" y="15132"/>
                </a:cubicBezTo>
                <a:cubicBezTo>
                  <a:pt x="6907" y="15154"/>
                  <a:pt x="6933" y="15093"/>
                  <a:pt x="6942" y="15074"/>
                </a:cubicBezTo>
                <a:cubicBezTo>
                  <a:pt x="6964" y="15028"/>
                  <a:pt x="6973" y="14979"/>
                  <a:pt x="6991" y="14932"/>
                </a:cubicBezTo>
                <a:cubicBezTo>
                  <a:pt x="7002" y="14913"/>
                  <a:pt x="7004" y="14909"/>
                  <a:pt x="7011" y="1489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633760" y="5234040"/>
            <a:ext cx="623880" cy="341280"/>
          </a:xfrm>
          <a:custGeom>
            <a:avLst/>
            <a:gdLst/>
            <a:ahLst/>
            <a:rect l="l" t="t" r="r" b="b"/>
            <a:pathLst>
              <a:path w="1732" h="949">
                <a:moveTo>
                  <a:pt x="7518" y="14571"/>
                </a:moveTo>
                <a:cubicBezTo>
                  <a:pt x="7514" y="14553"/>
                  <a:pt x="7514" y="14549"/>
                  <a:pt x="7511" y="14538"/>
                </a:cubicBezTo>
                <a:cubicBezTo>
                  <a:pt x="7468" y="14569"/>
                  <a:pt x="7452" y="14628"/>
                  <a:pt x="7431" y="14680"/>
                </a:cubicBezTo>
                <a:cubicBezTo>
                  <a:pt x="7389" y="14785"/>
                  <a:pt x="7352" y="14893"/>
                  <a:pt x="7331" y="15004"/>
                </a:cubicBezTo>
                <a:cubicBezTo>
                  <a:pt x="7319" y="15069"/>
                  <a:pt x="7300" y="15161"/>
                  <a:pt x="7331" y="15225"/>
                </a:cubicBezTo>
                <a:cubicBezTo>
                  <a:pt x="7344" y="15252"/>
                  <a:pt x="7369" y="15247"/>
                  <a:pt x="7393" y="15248"/>
                </a:cubicBezTo>
              </a:path>
              <a:path w="1732" h="949">
                <a:moveTo>
                  <a:pt x="7751" y="15078"/>
                </a:moveTo>
                <a:cubicBezTo>
                  <a:pt x="7742" y="15093"/>
                  <a:pt x="7734" y="15100"/>
                  <a:pt x="7740" y="15126"/>
                </a:cubicBezTo>
                <a:cubicBezTo>
                  <a:pt x="7755" y="15197"/>
                  <a:pt x="7784" y="15265"/>
                  <a:pt x="7801" y="15335"/>
                </a:cubicBezTo>
                <a:cubicBezTo>
                  <a:pt x="7812" y="15379"/>
                  <a:pt x="7830" y="15430"/>
                  <a:pt x="7829" y="15476"/>
                </a:cubicBezTo>
                <a:cubicBezTo>
                  <a:pt x="7828" y="15479"/>
                  <a:pt x="7827" y="15483"/>
                  <a:pt x="7826" y="15486"/>
                </a:cubicBezTo>
                <a:cubicBezTo>
                  <a:pt x="7802" y="15451"/>
                  <a:pt x="7801" y="15410"/>
                  <a:pt x="7797" y="15367"/>
                </a:cubicBezTo>
                <a:cubicBezTo>
                  <a:pt x="7788" y="15279"/>
                  <a:pt x="7787" y="15191"/>
                  <a:pt x="7793" y="15103"/>
                </a:cubicBezTo>
                <a:cubicBezTo>
                  <a:pt x="7798" y="15029"/>
                  <a:pt x="7804" y="14947"/>
                  <a:pt x="7836" y="14878"/>
                </a:cubicBezTo>
                <a:cubicBezTo>
                  <a:pt x="7851" y="14855"/>
                  <a:pt x="7854" y="14848"/>
                  <a:pt x="7872" y="14843"/>
                </a:cubicBezTo>
                <a:cubicBezTo>
                  <a:pt x="7907" y="14869"/>
                  <a:pt x="7920" y="14905"/>
                  <a:pt x="7925" y="14950"/>
                </a:cubicBezTo>
                <a:cubicBezTo>
                  <a:pt x="7933" y="15026"/>
                  <a:pt x="7915" y="15107"/>
                  <a:pt x="7870" y="15168"/>
                </a:cubicBezTo>
                <a:cubicBezTo>
                  <a:pt x="7860" y="15182"/>
                  <a:pt x="7822" y="15230"/>
                  <a:pt x="7796" y="15216"/>
                </a:cubicBezTo>
                <a:cubicBezTo>
                  <a:pt x="7772" y="15202"/>
                  <a:pt x="7802" y="15161"/>
                  <a:pt x="7808" y="15150"/>
                </a:cubicBezTo>
              </a:path>
              <a:path w="1732" h="949">
                <a:moveTo>
                  <a:pt x="8091" y="14892"/>
                </a:moveTo>
                <a:cubicBezTo>
                  <a:pt x="8110" y="14877"/>
                  <a:pt x="8115" y="14910"/>
                  <a:pt x="8127" y="14937"/>
                </a:cubicBezTo>
                <a:cubicBezTo>
                  <a:pt x="8146" y="14980"/>
                  <a:pt x="8166" y="15023"/>
                  <a:pt x="8188" y="15064"/>
                </a:cubicBezTo>
                <a:cubicBezTo>
                  <a:pt x="8199" y="15084"/>
                  <a:pt x="8201" y="15090"/>
                  <a:pt x="8214" y="15098"/>
                </a:cubicBezTo>
                <a:cubicBezTo>
                  <a:pt x="8249" y="15087"/>
                  <a:pt x="8251" y="15061"/>
                  <a:pt x="8262" y="15027"/>
                </a:cubicBezTo>
                <a:cubicBezTo>
                  <a:pt x="8278" y="14979"/>
                  <a:pt x="8294" y="14931"/>
                  <a:pt x="8311" y="14884"/>
                </a:cubicBezTo>
                <a:cubicBezTo>
                  <a:pt x="8320" y="14863"/>
                  <a:pt x="8322" y="14859"/>
                  <a:pt x="8327" y="14846"/>
                </a:cubicBezTo>
              </a:path>
              <a:path w="1732" h="949">
                <a:moveTo>
                  <a:pt x="8610" y="14880"/>
                </a:moveTo>
                <a:cubicBezTo>
                  <a:pt x="8612" y="14856"/>
                  <a:pt x="8612" y="14835"/>
                  <a:pt x="8610" y="14810"/>
                </a:cubicBezTo>
                <a:cubicBezTo>
                  <a:pt x="8592" y="14841"/>
                  <a:pt x="8585" y="14878"/>
                  <a:pt x="8578" y="14914"/>
                </a:cubicBezTo>
                <a:cubicBezTo>
                  <a:pt x="8566" y="14975"/>
                  <a:pt x="8553" y="15040"/>
                  <a:pt x="8560" y="15103"/>
                </a:cubicBezTo>
                <a:cubicBezTo>
                  <a:pt x="8561" y="15108"/>
                  <a:pt x="8563" y="15114"/>
                  <a:pt x="8564" y="15119"/>
                </a:cubicBezTo>
                <a:cubicBezTo>
                  <a:pt x="8599" y="15099"/>
                  <a:pt x="8613" y="15072"/>
                  <a:pt x="8632" y="15035"/>
                </a:cubicBezTo>
                <a:cubicBezTo>
                  <a:pt x="8655" y="14992"/>
                  <a:pt x="8671" y="14949"/>
                  <a:pt x="8716" y="14927"/>
                </a:cubicBezTo>
                <a:cubicBezTo>
                  <a:pt x="8747" y="14969"/>
                  <a:pt x="8742" y="15011"/>
                  <a:pt x="8742" y="15063"/>
                </a:cubicBezTo>
                <a:cubicBezTo>
                  <a:pt x="8743" y="15192"/>
                  <a:pt x="8720" y="15319"/>
                  <a:pt x="8714" y="15447"/>
                </a:cubicBezTo>
                <a:cubicBezTo>
                  <a:pt x="8714" y="15451"/>
                  <a:pt x="8715" y="15454"/>
                  <a:pt x="8715" y="15458"/>
                </a:cubicBezTo>
                <a:cubicBezTo>
                  <a:pt x="8731" y="15419"/>
                  <a:pt x="8742" y="15378"/>
                  <a:pt x="8757" y="15338"/>
                </a:cubicBezTo>
                <a:cubicBezTo>
                  <a:pt x="8778" y="15282"/>
                  <a:pt x="8807" y="15236"/>
                  <a:pt x="8840" y="15188"/>
                </a:cubicBezTo>
                <a:cubicBezTo>
                  <a:pt x="8859" y="15161"/>
                  <a:pt x="8877" y="15132"/>
                  <a:pt x="8896" y="15105"/>
                </a:cubicBezTo>
              </a:path>
              <a:path w="1732" h="949">
                <a:moveTo>
                  <a:pt x="8934" y="14618"/>
                </a:moveTo>
                <a:cubicBezTo>
                  <a:pt x="8934" y="14603"/>
                  <a:pt x="8934" y="14599"/>
                  <a:pt x="8934" y="14590"/>
                </a:cubicBezTo>
                <a:cubicBezTo>
                  <a:pt x="8958" y="14617"/>
                  <a:pt x="8967" y="14649"/>
                  <a:pt x="8979" y="14683"/>
                </a:cubicBezTo>
                <a:cubicBezTo>
                  <a:pt x="9005" y="14757"/>
                  <a:pt x="9024" y="14833"/>
                  <a:pt x="9036" y="14911"/>
                </a:cubicBezTo>
                <a:cubicBezTo>
                  <a:pt x="9046" y="14975"/>
                  <a:pt x="9052" y="15042"/>
                  <a:pt x="9040" y="15107"/>
                </a:cubicBezTo>
                <a:cubicBezTo>
                  <a:pt x="9034" y="15137"/>
                  <a:pt x="9025" y="15152"/>
                  <a:pt x="9006" y="1517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787920" y="5302080"/>
            <a:ext cx="1160280" cy="314640"/>
          </a:xfrm>
          <a:custGeom>
            <a:avLst/>
            <a:gdLst/>
            <a:ahLst/>
            <a:rect l="l" t="t" r="r" b="b"/>
            <a:pathLst>
              <a:path w="3227" h="874">
                <a:moveTo>
                  <a:pt x="10532" y="14930"/>
                </a:moveTo>
                <a:cubicBezTo>
                  <a:pt x="10525" y="14951"/>
                  <a:pt x="10518" y="14975"/>
                  <a:pt x="10520" y="15005"/>
                </a:cubicBezTo>
                <a:cubicBezTo>
                  <a:pt x="10523" y="15057"/>
                  <a:pt x="10530" y="15109"/>
                  <a:pt x="10536" y="15160"/>
                </a:cubicBezTo>
                <a:cubicBezTo>
                  <a:pt x="10542" y="15207"/>
                  <a:pt x="10549" y="15254"/>
                  <a:pt x="10554" y="15302"/>
                </a:cubicBezTo>
                <a:cubicBezTo>
                  <a:pt x="10556" y="15320"/>
                  <a:pt x="10556" y="15324"/>
                  <a:pt x="10556" y="15335"/>
                </a:cubicBezTo>
                <a:cubicBezTo>
                  <a:pt x="10545" y="15293"/>
                  <a:pt x="10542" y="15253"/>
                  <a:pt x="10540" y="15209"/>
                </a:cubicBezTo>
                <a:cubicBezTo>
                  <a:pt x="10534" y="15088"/>
                  <a:pt x="10533" y="14964"/>
                  <a:pt x="10545" y="14843"/>
                </a:cubicBezTo>
                <a:cubicBezTo>
                  <a:pt x="10550" y="14792"/>
                  <a:pt x="10554" y="14761"/>
                  <a:pt x="10592" y="14729"/>
                </a:cubicBezTo>
                <a:cubicBezTo>
                  <a:pt x="10647" y="14732"/>
                  <a:pt x="10681" y="14757"/>
                  <a:pt x="10717" y="14802"/>
                </a:cubicBezTo>
                <a:cubicBezTo>
                  <a:pt x="10800" y="14906"/>
                  <a:pt x="10831" y="15050"/>
                  <a:pt x="10789" y="15178"/>
                </a:cubicBezTo>
                <a:cubicBezTo>
                  <a:pt x="10766" y="15248"/>
                  <a:pt x="10716" y="15310"/>
                  <a:pt x="10652" y="15347"/>
                </a:cubicBezTo>
                <a:cubicBezTo>
                  <a:pt x="10620" y="15366"/>
                  <a:pt x="10566" y="15375"/>
                  <a:pt x="10542" y="15337"/>
                </a:cubicBezTo>
                <a:cubicBezTo>
                  <a:pt x="10524" y="15308"/>
                  <a:pt x="10533" y="15274"/>
                  <a:pt x="10537" y="15244"/>
                </a:cubicBezTo>
              </a:path>
              <a:path w="3227" h="874">
                <a:moveTo>
                  <a:pt x="10878" y="15287"/>
                </a:moveTo>
                <a:cubicBezTo>
                  <a:pt x="10907" y="15303"/>
                  <a:pt x="10901" y="15291"/>
                  <a:pt x="10922" y="15271"/>
                </a:cubicBezTo>
                <a:cubicBezTo>
                  <a:pt x="10958" y="15236"/>
                  <a:pt x="10984" y="15194"/>
                  <a:pt x="11011" y="15151"/>
                </a:cubicBezTo>
                <a:cubicBezTo>
                  <a:pt x="11040" y="15105"/>
                  <a:pt x="11066" y="15056"/>
                  <a:pt x="11077" y="15002"/>
                </a:cubicBezTo>
                <a:cubicBezTo>
                  <a:pt x="11080" y="14981"/>
                  <a:pt x="11082" y="14975"/>
                  <a:pt x="11074" y="14963"/>
                </a:cubicBezTo>
                <a:cubicBezTo>
                  <a:pt x="11040" y="14958"/>
                  <a:pt x="11025" y="14979"/>
                  <a:pt x="11004" y="15006"/>
                </a:cubicBezTo>
                <a:cubicBezTo>
                  <a:pt x="10961" y="15063"/>
                  <a:pt x="10931" y="15134"/>
                  <a:pt x="10925" y="15205"/>
                </a:cubicBezTo>
                <a:cubicBezTo>
                  <a:pt x="10921" y="15250"/>
                  <a:pt x="10928" y="15297"/>
                  <a:pt x="10972" y="15320"/>
                </a:cubicBezTo>
                <a:cubicBezTo>
                  <a:pt x="11003" y="15337"/>
                  <a:pt x="11028" y="15325"/>
                  <a:pt x="11059" y="15316"/>
                </a:cubicBezTo>
              </a:path>
              <a:path w="3227" h="874">
                <a:moveTo>
                  <a:pt x="11227" y="15194"/>
                </a:moveTo>
                <a:cubicBezTo>
                  <a:pt x="11221" y="15209"/>
                  <a:pt x="11220" y="15214"/>
                  <a:pt x="11210" y="15218"/>
                </a:cubicBezTo>
                <a:cubicBezTo>
                  <a:pt x="11217" y="15191"/>
                  <a:pt x="11225" y="15165"/>
                  <a:pt x="11234" y="15139"/>
                </a:cubicBezTo>
                <a:cubicBezTo>
                  <a:pt x="11245" y="15107"/>
                  <a:pt x="11260" y="15069"/>
                  <a:pt x="11287" y="15046"/>
                </a:cubicBezTo>
                <a:cubicBezTo>
                  <a:pt x="11315" y="15022"/>
                  <a:pt x="11339" y="15050"/>
                  <a:pt x="11350" y="15076"/>
                </a:cubicBezTo>
                <a:cubicBezTo>
                  <a:pt x="11367" y="15118"/>
                  <a:pt x="11370" y="15169"/>
                  <a:pt x="11372" y="15214"/>
                </a:cubicBezTo>
                <a:cubicBezTo>
                  <a:pt x="11372" y="15223"/>
                  <a:pt x="11372" y="15233"/>
                  <a:pt x="11372" y="15242"/>
                </a:cubicBezTo>
                <a:cubicBezTo>
                  <a:pt x="11364" y="15291"/>
                  <a:pt x="11390" y="15172"/>
                  <a:pt x="11395" y="15159"/>
                </a:cubicBezTo>
                <a:cubicBezTo>
                  <a:pt x="11414" y="15111"/>
                  <a:pt x="11436" y="15058"/>
                  <a:pt x="11480" y="15029"/>
                </a:cubicBezTo>
                <a:cubicBezTo>
                  <a:pt x="11518" y="15003"/>
                  <a:pt x="11548" y="15022"/>
                  <a:pt x="11568" y="15059"/>
                </a:cubicBezTo>
                <a:cubicBezTo>
                  <a:pt x="11593" y="15107"/>
                  <a:pt x="11598" y="15162"/>
                  <a:pt x="11608" y="15214"/>
                </a:cubicBezTo>
                <a:cubicBezTo>
                  <a:pt x="11614" y="15245"/>
                  <a:pt x="11611" y="15273"/>
                  <a:pt x="11622" y="15302"/>
                </a:cubicBezTo>
              </a:path>
              <a:path w="3227" h="874">
                <a:moveTo>
                  <a:pt x="11953" y="15027"/>
                </a:moveTo>
                <a:cubicBezTo>
                  <a:pt x="11939" y="15012"/>
                  <a:pt x="11919" y="14989"/>
                  <a:pt x="11896" y="14989"/>
                </a:cubicBezTo>
                <a:cubicBezTo>
                  <a:pt x="11875" y="14989"/>
                  <a:pt x="11849" y="15005"/>
                  <a:pt x="11836" y="15020"/>
                </a:cubicBezTo>
                <a:cubicBezTo>
                  <a:pt x="11809" y="15051"/>
                  <a:pt x="11792" y="15096"/>
                  <a:pt x="11786" y="15136"/>
                </a:cubicBezTo>
                <a:cubicBezTo>
                  <a:pt x="11780" y="15177"/>
                  <a:pt x="11787" y="15228"/>
                  <a:pt x="11818" y="15258"/>
                </a:cubicBezTo>
                <a:cubicBezTo>
                  <a:pt x="11850" y="15289"/>
                  <a:pt x="11897" y="15272"/>
                  <a:pt x="11929" y="15253"/>
                </a:cubicBezTo>
                <a:cubicBezTo>
                  <a:pt x="11972" y="15228"/>
                  <a:pt x="12002" y="15188"/>
                  <a:pt x="12022" y="15144"/>
                </a:cubicBezTo>
                <a:cubicBezTo>
                  <a:pt x="12031" y="15123"/>
                  <a:pt x="12051" y="15078"/>
                  <a:pt x="12032" y="15056"/>
                </a:cubicBezTo>
                <a:cubicBezTo>
                  <a:pt x="12020" y="15042"/>
                  <a:pt x="11998" y="15037"/>
                  <a:pt x="11980" y="15034"/>
                </a:cubicBezTo>
              </a:path>
              <a:path w="3227" h="874">
                <a:moveTo>
                  <a:pt x="12150" y="15169"/>
                </a:moveTo>
                <a:cubicBezTo>
                  <a:pt x="12164" y="15193"/>
                  <a:pt x="12179" y="15227"/>
                  <a:pt x="12200" y="15246"/>
                </a:cubicBezTo>
                <a:cubicBezTo>
                  <a:pt x="12204" y="15248"/>
                  <a:pt x="12208" y="15250"/>
                  <a:pt x="12212" y="15252"/>
                </a:cubicBezTo>
                <a:cubicBezTo>
                  <a:pt x="12223" y="15217"/>
                  <a:pt x="12226" y="15183"/>
                  <a:pt x="12232" y="15147"/>
                </a:cubicBezTo>
                <a:cubicBezTo>
                  <a:pt x="12239" y="15104"/>
                  <a:pt x="12247" y="15068"/>
                  <a:pt x="12267" y="15029"/>
                </a:cubicBezTo>
                <a:cubicBezTo>
                  <a:pt x="12281" y="15003"/>
                  <a:pt x="12300" y="14996"/>
                  <a:pt x="12329" y="14999"/>
                </a:cubicBezTo>
                <a:cubicBezTo>
                  <a:pt x="12350" y="15003"/>
                  <a:pt x="12357" y="15004"/>
                  <a:pt x="12370" y="15008"/>
                </a:cubicBezTo>
              </a:path>
              <a:path w="3227" h="874">
                <a:moveTo>
                  <a:pt x="12627" y="14984"/>
                </a:moveTo>
                <a:cubicBezTo>
                  <a:pt x="12615" y="14967"/>
                  <a:pt x="12599" y="14938"/>
                  <a:pt x="12578" y="14930"/>
                </a:cubicBezTo>
                <a:cubicBezTo>
                  <a:pt x="12560" y="14923"/>
                  <a:pt x="12543" y="14928"/>
                  <a:pt x="12530" y="14943"/>
                </a:cubicBezTo>
                <a:cubicBezTo>
                  <a:pt x="12511" y="14965"/>
                  <a:pt x="12503" y="15014"/>
                  <a:pt x="12500" y="15042"/>
                </a:cubicBezTo>
                <a:cubicBezTo>
                  <a:pt x="12496" y="15082"/>
                  <a:pt x="12495" y="15142"/>
                  <a:pt x="12526" y="15173"/>
                </a:cubicBezTo>
                <a:cubicBezTo>
                  <a:pt x="12546" y="15193"/>
                  <a:pt x="12577" y="15184"/>
                  <a:pt x="12598" y="15170"/>
                </a:cubicBezTo>
                <a:cubicBezTo>
                  <a:pt x="12636" y="15143"/>
                  <a:pt x="12662" y="15101"/>
                  <a:pt x="12684" y="15062"/>
                </a:cubicBezTo>
                <a:cubicBezTo>
                  <a:pt x="12691" y="15050"/>
                  <a:pt x="12695" y="15039"/>
                  <a:pt x="12700" y="15027"/>
                </a:cubicBezTo>
                <a:cubicBezTo>
                  <a:pt x="12690" y="15061"/>
                  <a:pt x="12695" y="15093"/>
                  <a:pt x="12697" y="15129"/>
                </a:cubicBezTo>
                <a:cubicBezTo>
                  <a:pt x="12701" y="15204"/>
                  <a:pt x="12713" y="15278"/>
                  <a:pt x="12712" y="15353"/>
                </a:cubicBezTo>
                <a:cubicBezTo>
                  <a:pt x="12711" y="15412"/>
                  <a:pt x="12709" y="15480"/>
                  <a:pt x="12691" y="15537"/>
                </a:cubicBezTo>
                <a:cubicBezTo>
                  <a:pt x="12680" y="15573"/>
                  <a:pt x="12659" y="15601"/>
                  <a:pt x="12619" y="15600"/>
                </a:cubicBezTo>
                <a:cubicBezTo>
                  <a:pt x="12574" y="15599"/>
                  <a:pt x="12535" y="15555"/>
                  <a:pt x="12515" y="15519"/>
                </a:cubicBezTo>
                <a:cubicBezTo>
                  <a:pt x="12500" y="15491"/>
                  <a:pt x="12495" y="15464"/>
                  <a:pt x="12491" y="15434"/>
                </a:cubicBezTo>
              </a:path>
              <a:path w="3227" h="874">
                <a:moveTo>
                  <a:pt x="13050" y="15046"/>
                </a:moveTo>
                <a:cubicBezTo>
                  <a:pt x="13062" y="15012"/>
                  <a:pt x="13066" y="15000"/>
                  <a:pt x="13053" y="14967"/>
                </a:cubicBezTo>
                <a:cubicBezTo>
                  <a:pt x="13015" y="14974"/>
                  <a:pt x="13001" y="14996"/>
                  <a:pt x="12983" y="15034"/>
                </a:cubicBezTo>
                <a:cubicBezTo>
                  <a:pt x="12960" y="15082"/>
                  <a:pt x="12940" y="15143"/>
                  <a:pt x="12955" y="15196"/>
                </a:cubicBezTo>
                <a:cubicBezTo>
                  <a:pt x="12981" y="15192"/>
                  <a:pt x="12995" y="15174"/>
                  <a:pt x="13012" y="15153"/>
                </a:cubicBezTo>
                <a:cubicBezTo>
                  <a:pt x="13032" y="15127"/>
                  <a:pt x="13050" y="15089"/>
                  <a:pt x="13079" y="15071"/>
                </a:cubicBezTo>
                <a:cubicBezTo>
                  <a:pt x="13084" y="15069"/>
                  <a:pt x="13090" y="15068"/>
                  <a:pt x="13095" y="15066"/>
                </a:cubicBezTo>
                <a:cubicBezTo>
                  <a:pt x="13121" y="15086"/>
                  <a:pt x="13124" y="15116"/>
                  <a:pt x="13127" y="15150"/>
                </a:cubicBezTo>
                <a:cubicBezTo>
                  <a:pt x="13131" y="15194"/>
                  <a:pt x="13132" y="15239"/>
                  <a:pt x="13133" y="15283"/>
                </a:cubicBezTo>
              </a:path>
              <a:path w="3227" h="874">
                <a:moveTo>
                  <a:pt x="13228" y="14965"/>
                </a:moveTo>
                <a:cubicBezTo>
                  <a:pt x="13261" y="14976"/>
                  <a:pt x="13266" y="14997"/>
                  <a:pt x="13276" y="15034"/>
                </a:cubicBezTo>
                <a:cubicBezTo>
                  <a:pt x="13287" y="15072"/>
                  <a:pt x="13298" y="15110"/>
                  <a:pt x="13307" y="15149"/>
                </a:cubicBezTo>
                <a:cubicBezTo>
                  <a:pt x="13308" y="15154"/>
                  <a:pt x="13309" y="15158"/>
                  <a:pt x="13310" y="15163"/>
                </a:cubicBezTo>
                <a:cubicBezTo>
                  <a:pt x="13324" y="15133"/>
                  <a:pt x="13328" y="15099"/>
                  <a:pt x="13339" y="15067"/>
                </a:cubicBezTo>
                <a:cubicBezTo>
                  <a:pt x="13346" y="15046"/>
                  <a:pt x="13363" y="14997"/>
                  <a:pt x="13394" y="15003"/>
                </a:cubicBezTo>
                <a:cubicBezTo>
                  <a:pt x="13425" y="15009"/>
                  <a:pt x="13440" y="15070"/>
                  <a:pt x="13449" y="15093"/>
                </a:cubicBezTo>
                <a:cubicBezTo>
                  <a:pt x="13462" y="15128"/>
                  <a:pt x="13475" y="15166"/>
                  <a:pt x="13496" y="15198"/>
                </a:cubicBezTo>
                <a:cubicBezTo>
                  <a:pt x="13499" y="15202"/>
                  <a:pt x="13503" y="15206"/>
                  <a:pt x="13506" y="15210"/>
                </a:cubicBezTo>
              </a:path>
              <a:path w="3227" h="874">
                <a:moveTo>
                  <a:pt x="13734" y="14953"/>
                </a:moveTo>
                <a:cubicBezTo>
                  <a:pt x="13729" y="14937"/>
                  <a:pt x="13717" y="14899"/>
                  <a:pt x="13693" y="14899"/>
                </a:cubicBezTo>
                <a:cubicBezTo>
                  <a:pt x="13670" y="14899"/>
                  <a:pt x="13652" y="14922"/>
                  <a:pt x="13649" y="14942"/>
                </a:cubicBezTo>
                <a:cubicBezTo>
                  <a:pt x="13644" y="14973"/>
                  <a:pt x="13661" y="14998"/>
                  <a:pt x="13675" y="15024"/>
                </a:cubicBezTo>
                <a:cubicBezTo>
                  <a:pt x="13696" y="15064"/>
                  <a:pt x="13718" y="15103"/>
                  <a:pt x="13733" y="15146"/>
                </a:cubicBezTo>
                <a:cubicBezTo>
                  <a:pt x="13744" y="15177"/>
                  <a:pt x="13754" y="15220"/>
                  <a:pt x="13742" y="15252"/>
                </a:cubicBezTo>
                <a:cubicBezTo>
                  <a:pt x="13733" y="15274"/>
                  <a:pt x="13708" y="15272"/>
                  <a:pt x="13696" y="15256"/>
                </a:cubicBezTo>
                <a:cubicBezTo>
                  <a:pt x="13679" y="15234"/>
                  <a:pt x="13675" y="15200"/>
                  <a:pt x="13668" y="1517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173560" y="5276880"/>
            <a:ext cx="276480" cy="206280"/>
          </a:xfrm>
          <a:custGeom>
            <a:avLst/>
            <a:gdLst/>
            <a:ahLst/>
            <a:rect l="l" t="t" r="r" b="b"/>
            <a:pathLst>
              <a:path w="768" h="570">
                <a:moveTo>
                  <a:pt x="14370" y="14659"/>
                </a:moveTo>
                <a:cubicBezTo>
                  <a:pt x="14392" y="14713"/>
                  <a:pt x="14386" y="14757"/>
                  <a:pt x="14389" y="14815"/>
                </a:cubicBezTo>
                <a:cubicBezTo>
                  <a:pt x="14394" y="14903"/>
                  <a:pt x="14406" y="14992"/>
                  <a:pt x="14407" y="15081"/>
                </a:cubicBezTo>
                <a:cubicBezTo>
                  <a:pt x="14408" y="15127"/>
                  <a:pt x="14393" y="15172"/>
                  <a:pt x="14432" y="15194"/>
                </a:cubicBezTo>
              </a:path>
              <a:path w="768" h="570">
                <a:moveTo>
                  <a:pt x="14606" y="14904"/>
                </a:moveTo>
                <a:cubicBezTo>
                  <a:pt x="14578" y="14912"/>
                  <a:pt x="14555" y="14938"/>
                  <a:pt x="14539" y="14963"/>
                </a:cubicBezTo>
                <a:cubicBezTo>
                  <a:pt x="14514" y="15002"/>
                  <a:pt x="14495" y="15052"/>
                  <a:pt x="14491" y="15099"/>
                </a:cubicBezTo>
                <a:cubicBezTo>
                  <a:pt x="14489" y="15131"/>
                  <a:pt x="14498" y="15164"/>
                  <a:pt x="14536" y="15162"/>
                </a:cubicBezTo>
                <a:cubicBezTo>
                  <a:pt x="14576" y="15160"/>
                  <a:pt x="14613" y="15117"/>
                  <a:pt x="14636" y="15089"/>
                </a:cubicBezTo>
                <a:cubicBezTo>
                  <a:pt x="14667" y="15051"/>
                  <a:pt x="14687" y="15008"/>
                  <a:pt x="14709" y="14965"/>
                </a:cubicBezTo>
                <a:cubicBezTo>
                  <a:pt x="14719" y="14998"/>
                  <a:pt x="14714" y="15031"/>
                  <a:pt x="14719" y="15066"/>
                </a:cubicBezTo>
                <a:cubicBezTo>
                  <a:pt x="14725" y="15103"/>
                  <a:pt x="14727" y="15147"/>
                  <a:pt x="14748" y="15180"/>
                </a:cubicBezTo>
                <a:cubicBezTo>
                  <a:pt x="14751" y="15183"/>
                  <a:pt x="14755" y="15187"/>
                  <a:pt x="14758" y="15190"/>
                </a:cubicBezTo>
              </a:path>
              <a:path w="768" h="570">
                <a:moveTo>
                  <a:pt x="14862" y="14999"/>
                </a:moveTo>
                <a:cubicBezTo>
                  <a:pt x="14872" y="15020"/>
                  <a:pt x="14871" y="15040"/>
                  <a:pt x="14876" y="15062"/>
                </a:cubicBezTo>
                <a:cubicBezTo>
                  <a:pt x="14882" y="15090"/>
                  <a:pt x="14891" y="15122"/>
                  <a:pt x="14904" y="15148"/>
                </a:cubicBezTo>
                <a:cubicBezTo>
                  <a:pt x="14913" y="15161"/>
                  <a:pt x="14917" y="15166"/>
                  <a:pt x="14930" y="15167"/>
                </a:cubicBezTo>
                <a:cubicBezTo>
                  <a:pt x="14951" y="15148"/>
                  <a:pt x="14959" y="15129"/>
                  <a:pt x="14970" y="15103"/>
                </a:cubicBezTo>
                <a:cubicBezTo>
                  <a:pt x="14982" y="15076"/>
                  <a:pt x="14992" y="15048"/>
                  <a:pt x="15011" y="15026"/>
                </a:cubicBezTo>
                <a:cubicBezTo>
                  <a:pt x="15033" y="15050"/>
                  <a:pt x="15035" y="15082"/>
                  <a:pt x="15040" y="15116"/>
                </a:cubicBezTo>
                <a:cubicBezTo>
                  <a:pt x="15046" y="15153"/>
                  <a:pt x="15052" y="15189"/>
                  <a:pt x="15066" y="15223"/>
                </a:cubicBezTo>
                <a:cubicBezTo>
                  <a:pt x="15087" y="15229"/>
                  <a:pt x="15099" y="15216"/>
                  <a:pt x="15107" y="15193"/>
                </a:cubicBezTo>
                <a:cubicBezTo>
                  <a:pt x="15118" y="15161"/>
                  <a:pt x="15122" y="15125"/>
                  <a:pt x="15131" y="15092"/>
                </a:cubicBezTo>
                <a:cubicBezTo>
                  <a:pt x="15133" y="15086"/>
                  <a:pt x="15135" y="15079"/>
                  <a:pt x="15137" y="1507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008000" y="5718240"/>
            <a:ext cx="176400" cy="206280"/>
          </a:xfrm>
          <a:custGeom>
            <a:avLst/>
            <a:gdLst/>
            <a:ahLst/>
            <a:rect l="l" t="t" r="r" b="b"/>
            <a:pathLst>
              <a:path w="490" h="570">
                <a:moveTo>
                  <a:pt x="2862" y="15981"/>
                </a:moveTo>
                <a:cubicBezTo>
                  <a:pt x="2841" y="15963"/>
                  <a:pt x="2825" y="15960"/>
                  <a:pt x="2798" y="15952"/>
                </a:cubicBezTo>
                <a:cubicBezTo>
                  <a:pt x="2819" y="15927"/>
                  <a:pt x="2839" y="15916"/>
                  <a:pt x="2871" y="15904"/>
                </a:cubicBezTo>
                <a:cubicBezTo>
                  <a:pt x="2907" y="15891"/>
                  <a:pt x="2948" y="15879"/>
                  <a:pt x="2986" y="15890"/>
                </a:cubicBezTo>
                <a:cubicBezTo>
                  <a:pt x="3019" y="15900"/>
                  <a:pt x="3032" y="15931"/>
                  <a:pt x="3026" y="15963"/>
                </a:cubicBezTo>
                <a:cubicBezTo>
                  <a:pt x="3019" y="15999"/>
                  <a:pt x="2997" y="16034"/>
                  <a:pt x="2975" y="16063"/>
                </a:cubicBezTo>
                <a:cubicBezTo>
                  <a:pt x="2964" y="16077"/>
                  <a:pt x="2952" y="16088"/>
                  <a:pt x="2939" y="16099"/>
                </a:cubicBezTo>
                <a:cubicBezTo>
                  <a:pt x="2961" y="16095"/>
                  <a:pt x="2973" y="16095"/>
                  <a:pt x="2991" y="16112"/>
                </a:cubicBezTo>
                <a:cubicBezTo>
                  <a:pt x="3028" y="16146"/>
                  <a:pt x="3045" y="16206"/>
                  <a:pt x="3053" y="16254"/>
                </a:cubicBezTo>
                <a:cubicBezTo>
                  <a:pt x="3057" y="16280"/>
                  <a:pt x="3059" y="16309"/>
                  <a:pt x="3028" y="16318"/>
                </a:cubicBezTo>
                <a:cubicBezTo>
                  <a:pt x="3010" y="16323"/>
                  <a:pt x="2982" y="16315"/>
                  <a:pt x="2969" y="16305"/>
                </a:cubicBezTo>
                <a:cubicBezTo>
                  <a:pt x="2961" y="16296"/>
                  <a:pt x="2959" y="16294"/>
                  <a:pt x="2960" y="16286"/>
                </a:cubicBezTo>
              </a:path>
              <a:path w="490" h="570">
                <a:moveTo>
                  <a:pt x="3277" y="16447"/>
                </a:moveTo>
                <a:cubicBezTo>
                  <a:pt x="3291" y="16446"/>
                  <a:pt x="3280" y="16431"/>
                  <a:pt x="3284" y="16407"/>
                </a:cubicBezTo>
                <a:cubicBezTo>
                  <a:pt x="3288" y="16379"/>
                  <a:pt x="3286" y="16353"/>
                  <a:pt x="3284" y="1632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320840" y="5681520"/>
            <a:ext cx="834840" cy="268560"/>
          </a:xfrm>
          <a:custGeom>
            <a:avLst/>
            <a:gdLst/>
            <a:ahLst/>
            <a:rect l="l" t="t" r="r" b="b"/>
            <a:pathLst>
              <a:path w="2320" h="744">
                <a:moveTo>
                  <a:pt x="3766" y="15839"/>
                </a:moveTo>
                <a:cubicBezTo>
                  <a:pt x="3745" y="15845"/>
                  <a:pt x="3737" y="15846"/>
                  <a:pt x="3726" y="15874"/>
                </a:cubicBezTo>
                <a:cubicBezTo>
                  <a:pt x="3707" y="15925"/>
                  <a:pt x="3696" y="15985"/>
                  <a:pt x="3687" y="16038"/>
                </a:cubicBezTo>
                <a:cubicBezTo>
                  <a:pt x="3668" y="16152"/>
                  <a:pt x="3662" y="16271"/>
                  <a:pt x="3683" y="16385"/>
                </a:cubicBezTo>
                <a:cubicBezTo>
                  <a:pt x="3690" y="16421"/>
                  <a:pt x="3705" y="16471"/>
                  <a:pt x="3744" y="16486"/>
                </a:cubicBezTo>
                <a:cubicBezTo>
                  <a:pt x="3751" y="16487"/>
                  <a:pt x="3758" y="16487"/>
                  <a:pt x="3765" y="16488"/>
                </a:cubicBezTo>
              </a:path>
              <a:path w="2320" h="744">
                <a:moveTo>
                  <a:pt x="3892" y="16164"/>
                </a:moveTo>
                <a:cubicBezTo>
                  <a:pt x="3882" y="16149"/>
                  <a:pt x="3879" y="16144"/>
                  <a:pt x="3868" y="16138"/>
                </a:cubicBezTo>
                <a:cubicBezTo>
                  <a:pt x="3894" y="16143"/>
                  <a:pt x="3917" y="16142"/>
                  <a:pt x="3943" y="16139"/>
                </a:cubicBezTo>
                <a:cubicBezTo>
                  <a:pt x="3995" y="16133"/>
                  <a:pt x="4046" y="16119"/>
                  <a:pt x="4097" y="16107"/>
                </a:cubicBezTo>
                <a:cubicBezTo>
                  <a:pt x="4119" y="16102"/>
                  <a:pt x="4142" y="16098"/>
                  <a:pt x="4164" y="16094"/>
                </a:cubicBezTo>
                <a:cubicBezTo>
                  <a:pt x="4173" y="16092"/>
                  <a:pt x="4183" y="16092"/>
                  <a:pt x="4192" y="16092"/>
                </a:cubicBezTo>
                <a:cubicBezTo>
                  <a:pt x="4196" y="16117"/>
                  <a:pt x="4192" y="16135"/>
                  <a:pt x="4186" y="16160"/>
                </a:cubicBezTo>
                <a:cubicBezTo>
                  <a:pt x="4180" y="16188"/>
                  <a:pt x="4171" y="16215"/>
                  <a:pt x="4161" y="16242"/>
                </a:cubicBezTo>
                <a:cubicBezTo>
                  <a:pt x="4148" y="16277"/>
                  <a:pt x="4151" y="16272"/>
                  <a:pt x="4169" y="16244"/>
                </a:cubicBezTo>
              </a:path>
              <a:path w="2320" h="744">
                <a:moveTo>
                  <a:pt x="4396" y="16066"/>
                </a:moveTo>
                <a:cubicBezTo>
                  <a:pt x="4389" y="16039"/>
                  <a:pt x="4391" y="16095"/>
                  <a:pt x="4392" y="16123"/>
                </a:cubicBezTo>
                <a:cubicBezTo>
                  <a:pt x="4394" y="16191"/>
                  <a:pt x="4400" y="16257"/>
                  <a:pt x="4406" y="16325"/>
                </a:cubicBezTo>
                <a:cubicBezTo>
                  <a:pt x="4412" y="16384"/>
                  <a:pt x="4422" y="16440"/>
                  <a:pt x="4432" y="16498"/>
                </a:cubicBezTo>
                <a:cubicBezTo>
                  <a:pt x="4434" y="16513"/>
                  <a:pt x="4434" y="16517"/>
                  <a:pt x="4437" y="16526"/>
                </a:cubicBezTo>
                <a:cubicBezTo>
                  <a:pt x="4435" y="16469"/>
                  <a:pt x="4427" y="16412"/>
                  <a:pt x="4426" y="16354"/>
                </a:cubicBezTo>
                <a:cubicBezTo>
                  <a:pt x="4424" y="16281"/>
                  <a:pt x="4429" y="16206"/>
                  <a:pt x="4445" y="16135"/>
                </a:cubicBezTo>
                <a:cubicBezTo>
                  <a:pt x="4452" y="16101"/>
                  <a:pt x="4464" y="16038"/>
                  <a:pt x="4503" y="16024"/>
                </a:cubicBezTo>
                <a:cubicBezTo>
                  <a:pt x="4509" y="16024"/>
                  <a:pt x="4514" y="16024"/>
                  <a:pt x="4520" y="16024"/>
                </a:cubicBezTo>
                <a:cubicBezTo>
                  <a:pt x="4549" y="16049"/>
                  <a:pt x="4557" y="16072"/>
                  <a:pt x="4558" y="16112"/>
                </a:cubicBezTo>
                <a:cubicBezTo>
                  <a:pt x="4559" y="16160"/>
                  <a:pt x="4546" y="16208"/>
                  <a:pt x="4517" y="16246"/>
                </a:cubicBezTo>
                <a:cubicBezTo>
                  <a:pt x="4498" y="16270"/>
                  <a:pt x="4469" y="16296"/>
                  <a:pt x="4445" y="16269"/>
                </a:cubicBezTo>
                <a:cubicBezTo>
                  <a:pt x="4430" y="16252"/>
                  <a:pt x="4436" y="16236"/>
                  <a:pt x="4438" y="16216"/>
                </a:cubicBezTo>
              </a:path>
              <a:path w="2320" h="744">
                <a:moveTo>
                  <a:pt x="4805" y="16094"/>
                </a:moveTo>
                <a:cubicBezTo>
                  <a:pt x="4803" y="16090"/>
                  <a:pt x="4801" y="16087"/>
                  <a:pt x="4799" y="16083"/>
                </a:cubicBezTo>
                <a:cubicBezTo>
                  <a:pt x="4818" y="16108"/>
                  <a:pt x="4837" y="16134"/>
                  <a:pt x="4858" y="16158"/>
                </a:cubicBezTo>
                <a:cubicBezTo>
                  <a:pt x="4878" y="16182"/>
                  <a:pt x="4903" y="16218"/>
                  <a:pt x="4932" y="16232"/>
                </a:cubicBezTo>
                <a:cubicBezTo>
                  <a:pt x="4959" y="16245"/>
                  <a:pt x="4970" y="16202"/>
                  <a:pt x="4976" y="16185"/>
                </a:cubicBezTo>
                <a:cubicBezTo>
                  <a:pt x="4990" y="16141"/>
                  <a:pt x="4998" y="16094"/>
                  <a:pt x="5014" y="16050"/>
                </a:cubicBezTo>
                <a:cubicBezTo>
                  <a:pt x="5025" y="16020"/>
                  <a:pt x="5041" y="15994"/>
                  <a:pt x="5062" y="15971"/>
                </a:cubicBezTo>
              </a:path>
              <a:path w="2320" h="744">
                <a:moveTo>
                  <a:pt x="5342" y="16101"/>
                </a:moveTo>
                <a:cubicBezTo>
                  <a:pt x="5349" y="16144"/>
                  <a:pt x="5360" y="16186"/>
                  <a:pt x="5369" y="16229"/>
                </a:cubicBezTo>
                <a:cubicBezTo>
                  <a:pt x="5387" y="16319"/>
                  <a:pt x="5411" y="16410"/>
                  <a:pt x="5422" y="16502"/>
                </a:cubicBezTo>
                <a:cubicBezTo>
                  <a:pt x="5422" y="16515"/>
                  <a:pt x="5422" y="16519"/>
                  <a:pt x="5419" y="16501"/>
                </a:cubicBezTo>
                <a:cubicBezTo>
                  <a:pt x="5414" y="16442"/>
                  <a:pt x="5411" y="16383"/>
                  <a:pt x="5413" y="16323"/>
                </a:cubicBezTo>
                <a:cubicBezTo>
                  <a:pt x="5417" y="16220"/>
                  <a:pt x="5439" y="16112"/>
                  <a:pt x="5488" y="16020"/>
                </a:cubicBezTo>
                <a:cubicBezTo>
                  <a:pt x="5509" y="15980"/>
                  <a:pt x="5525" y="15971"/>
                  <a:pt x="5563" y="15958"/>
                </a:cubicBezTo>
                <a:cubicBezTo>
                  <a:pt x="5602" y="15986"/>
                  <a:pt x="5608" y="16011"/>
                  <a:pt x="5603" y="16061"/>
                </a:cubicBezTo>
                <a:cubicBezTo>
                  <a:pt x="5597" y="16119"/>
                  <a:pt x="5569" y="16169"/>
                  <a:pt x="5523" y="16205"/>
                </a:cubicBezTo>
                <a:cubicBezTo>
                  <a:pt x="5496" y="16226"/>
                  <a:pt x="5447" y="16251"/>
                  <a:pt x="5428" y="16208"/>
                </a:cubicBezTo>
                <a:cubicBezTo>
                  <a:pt x="5414" y="16176"/>
                  <a:pt x="5434" y="16148"/>
                  <a:pt x="5446" y="16120"/>
                </a:cubicBezTo>
              </a:path>
              <a:path w="2320" h="744">
                <a:moveTo>
                  <a:pt x="5798" y="15792"/>
                </a:moveTo>
                <a:cubicBezTo>
                  <a:pt x="5845" y="15780"/>
                  <a:pt x="5876" y="15781"/>
                  <a:pt x="5914" y="15818"/>
                </a:cubicBezTo>
                <a:cubicBezTo>
                  <a:pt x="5958" y="15860"/>
                  <a:pt x="5977" y="15930"/>
                  <a:pt x="5985" y="15988"/>
                </a:cubicBezTo>
                <a:cubicBezTo>
                  <a:pt x="5994" y="16051"/>
                  <a:pt x="5991" y="16112"/>
                  <a:pt x="5969" y="16170"/>
                </a:cubicBezTo>
                <a:cubicBezTo>
                  <a:pt x="5960" y="16193"/>
                  <a:pt x="5951" y="16207"/>
                  <a:pt x="5936" y="1622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320920" y="5749920"/>
            <a:ext cx="92160" cy="82440"/>
          </a:xfrm>
          <a:custGeom>
            <a:avLst/>
            <a:gdLst/>
            <a:ahLst/>
            <a:rect l="l" t="t" r="r" b="b"/>
            <a:pathLst>
              <a:path w="252" h="229">
                <a:moveTo>
                  <a:pt x="6464" y="15988"/>
                </a:moveTo>
                <a:cubicBezTo>
                  <a:pt x="6462" y="15983"/>
                  <a:pt x="6459" y="15979"/>
                  <a:pt x="6457" y="15974"/>
                </a:cubicBezTo>
                <a:cubicBezTo>
                  <a:pt x="6447" y="15999"/>
                  <a:pt x="6454" y="16019"/>
                  <a:pt x="6462" y="16045"/>
                </a:cubicBezTo>
                <a:cubicBezTo>
                  <a:pt x="6477" y="16092"/>
                  <a:pt x="6503" y="16159"/>
                  <a:pt x="6542" y="16192"/>
                </a:cubicBezTo>
                <a:cubicBezTo>
                  <a:pt x="6571" y="16216"/>
                  <a:pt x="6603" y="16197"/>
                  <a:pt x="6620" y="16171"/>
                </a:cubicBezTo>
                <a:cubicBezTo>
                  <a:pt x="6646" y="16132"/>
                  <a:pt x="6660" y="16081"/>
                  <a:pt x="6680" y="16039"/>
                </a:cubicBezTo>
                <a:cubicBezTo>
                  <a:pt x="6692" y="16014"/>
                  <a:pt x="6688" y="15972"/>
                  <a:pt x="6700" y="1601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519280" y="5664240"/>
            <a:ext cx="790560" cy="333360"/>
          </a:xfrm>
          <a:custGeom>
            <a:avLst/>
            <a:gdLst/>
            <a:ahLst/>
            <a:rect l="l" t="t" r="r" b="b"/>
            <a:pathLst>
              <a:path w="2196" h="926">
                <a:moveTo>
                  <a:pt x="7117" y="15781"/>
                </a:moveTo>
                <a:cubicBezTo>
                  <a:pt x="7111" y="15765"/>
                  <a:pt x="7109" y="15761"/>
                  <a:pt x="7105" y="15751"/>
                </a:cubicBezTo>
                <a:cubicBezTo>
                  <a:pt x="7073" y="15755"/>
                  <a:pt x="7075" y="15789"/>
                  <a:pt x="7063" y="15824"/>
                </a:cubicBezTo>
                <a:cubicBezTo>
                  <a:pt x="7038" y="15895"/>
                  <a:pt x="7021" y="15967"/>
                  <a:pt x="7011" y="16041"/>
                </a:cubicBezTo>
                <a:cubicBezTo>
                  <a:pt x="7002" y="16104"/>
                  <a:pt x="6986" y="16193"/>
                  <a:pt x="7007" y="16256"/>
                </a:cubicBezTo>
                <a:cubicBezTo>
                  <a:pt x="7022" y="16300"/>
                  <a:pt x="7051" y="16316"/>
                  <a:pt x="7091" y="16324"/>
                </a:cubicBezTo>
              </a:path>
              <a:path w="2196" h="926">
                <a:moveTo>
                  <a:pt x="7492" y="15978"/>
                </a:moveTo>
                <a:cubicBezTo>
                  <a:pt x="7472" y="15971"/>
                  <a:pt x="7458" y="15970"/>
                  <a:pt x="7438" y="15969"/>
                </a:cubicBezTo>
                <a:cubicBezTo>
                  <a:pt x="7412" y="15968"/>
                  <a:pt x="7396" y="15986"/>
                  <a:pt x="7383" y="16008"/>
                </a:cubicBezTo>
                <a:cubicBezTo>
                  <a:pt x="7363" y="16043"/>
                  <a:pt x="7366" y="16090"/>
                  <a:pt x="7369" y="16129"/>
                </a:cubicBezTo>
                <a:cubicBezTo>
                  <a:pt x="7373" y="16174"/>
                  <a:pt x="7384" y="16226"/>
                  <a:pt x="7411" y="16263"/>
                </a:cubicBezTo>
                <a:cubicBezTo>
                  <a:pt x="7431" y="16291"/>
                  <a:pt x="7461" y="16295"/>
                  <a:pt x="7483" y="16266"/>
                </a:cubicBezTo>
                <a:cubicBezTo>
                  <a:pt x="7521" y="16218"/>
                  <a:pt x="7530" y="16141"/>
                  <a:pt x="7542" y="16083"/>
                </a:cubicBezTo>
                <a:cubicBezTo>
                  <a:pt x="7545" y="16065"/>
                  <a:pt x="7546" y="16061"/>
                  <a:pt x="7549" y="16050"/>
                </a:cubicBezTo>
                <a:cubicBezTo>
                  <a:pt x="7550" y="16082"/>
                  <a:pt x="7551" y="16114"/>
                  <a:pt x="7551" y="16146"/>
                </a:cubicBezTo>
                <a:cubicBezTo>
                  <a:pt x="7551" y="16245"/>
                  <a:pt x="7553" y="16344"/>
                  <a:pt x="7550" y="16442"/>
                </a:cubicBezTo>
                <a:cubicBezTo>
                  <a:pt x="7549" y="16495"/>
                  <a:pt x="7545" y="16549"/>
                  <a:pt x="7546" y="16602"/>
                </a:cubicBezTo>
                <a:cubicBezTo>
                  <a:pt x="7546" y="16621"/>
                  <a:pt x="7549" y="16638"/>
                  <a:pt x="7552" y="16657"/>
                </a:cubicBezTo>
                <a:cubicBezTo>
                  <a:pt x="7570" y="16646"/>
                  <a:pt x="7573" y="16649"/>
                  <a:pt x="7586" y="16622"/>
                </a:cubicBezTo>
                <a:cubicBezTo>
                  <a:pt x="7632" y="16528"/>
                  <a:pt x="7658" y="16424"/>
                  <a:pt x="7698" y="16328"/>
                </a:cubicBezTo>
                <a:cubicBezTo>
                  <a:pt x="7700" y="16323"/>
                  <a:pt x="7702" y="16317"/>
                  <a:pt x="7704" y="16312"/>
                </a:cubicBezTo>
              </a:path>
              <a:path w="2196" h="926">
                <a:moveTo>
                  <a:pt x="7877" y="15948"/>
                </a:moveTo>
                <a:cubicBezTo>
                  <a:pt x="7874" y="15935"/>
                  <a:pt x="7871" y="15929"/>
                  <a:pt x="7860" y="15925"/>
                </a:cubicBezTo>
                <a:cubicBezTo>
                  <a:pt x="7847" y="15955"/>
                  <a:pt x="7847" y="15986"/>
                  <a:pt x="7849" y="16020"/>
                </a:cubicBezTo>
                <a:cubicBezTo>
                  <a:pt x="7853" y="16075"/>
                  <a:pt x="7866" y="16128"/>
                  <a:pt x="7886" y="16179"/>
                </a:cubicBezTo>
                <a:cubicBezTo>
                  <a:pt x="7894" y="16199"/>
                  <a:pt x="7915" y="16254"/>
                  <a:pt x="7948" y="16230"/>
                </a:cubicBezTo>
                <a:cubicBezTo>
                  <a:pt x="7979" y="16207"/>
                  <a:pt x="7994" y="16152"/>
                  <a:pt x="8006" y="16118"/>
                </a:cubicBezTo>
                <a:cubicBezTo>
                  <a:pt x="8020" y="16076"/>
                  <a:pt x="8028" y="16032"/>
                  <a:pt x="8041" y="15990"/>
                </a:cubicBezTo>
                <a:cubicBezTo>
                  <a:pt x="8048" y="15978"/>
                  <a:pt x="8050" y="15974"/>
                  <a:pt x="8049" y="15964"/>
                </a:cubicBezTo>
              </a:path>
              <a:path w="2196" h="926">
                <a:moveTo>
                  <a:pt x="8251" y="16046"/>
                </a:moveTo>
                <a:cubicBezTo>
                  <a:pt x="8234" y="16027"/>
                  <a:pt x="8264" y="16032"/>
                  <a:pt x="8285" y="16029"/>
                </a:cubicBezTo>
                <a:cubicBezTo>
                  <a:pt x="8319" y="16024"/>
                  <a:pt x="8353" y="16020"/>
                  <a:pt x="8387" y="16015"/>
                </a:cubicBezTo>
                <a:cubicBezTo>
                  <a:pt x="8415" y="16011"/>
                  <a:pt x="8442" y="16009"/>
                  <a:pt x="8470" y="16008"/>
                </a:cubicBezTo>
                <a:cubicBezTo>
                  <a:pt x="8481" y="16007"/>
                  <a:pt x="8484" y="16007"/>
                  <a:pt x="8491" y="16006"/>
                </a:cubicBezTo>
                <a:cubicBezTo>
                  <a:pt x="8480" y="16039"/>
                  <a:pt x="8473" y="16072"/>
                  <a:pt x="8468" y="16106"/>
                </a:cubicBezTo>
                <a:cubicBezTo>
                  <a:pt x="8461" y="16153"/>
                  <a:pt x="8453" y="16205"/>
                  <a:pt x="8437" y="16250"/>
                </a:cubicBezTo>
                <a:cubicBezTo>
                  <a:pt x="8428" y="16275"/>
                  <a:pt x="8419" y="16290"/>
                  <a:pt x="8419" y="16256"/>
                </a:cubicBezTo>
                <a:cubicBezTo>
                  <a:pt x="8419" y="16251"/>
                  <a:pt x="8419" y="16247"/>
                  <a:pt x="8419" y="16242"/>
                </a:cubicBezTo>
              </a:path>
              <a:path w="2196" h="926">
                <a:moveTo>
                  <a:pt x="8712" y="16025"/>
                </a:moveTo>
                <a:cubicBezTo>
                  <a:pt x="8712" y="16010"/>
                  <a:pt x="8712" y="15998"/>
                  <a:pt x="8710" y="15984"/>
                </a:cubicBezTo>
                <a:cubicBezTo>
                  <a:pt x="8690" y="16005"/>
                  <a:pt x="8686" y="16030"/>
                  <a:pt x="8677" y="16059"/>
                </a:cubicBezTo>
                <a:cubicBezTo>
                  <a:pt x="8657" y="16122"/>
                  <a:pt x="8643" y="16186"/>
                  <a:pt x="8653" y="16253"/>
                </a:cubicBezTo>
                <a:cubicBezTo>
                  <a:pt x="8658" y="16285"/>
                  <a:pt x="8664" y="16293"/>
                  <a:pt x="8686" y="16312"/>
                </a:cubicBezTo>
                <a:cubicBezTo>
                  <a:pt x="8718" y="16303"/>
                  <a:pt x="8739" y="16287"/>
                  <a:pt x="8753" y="16255"/>
                </a:cubicBezTo>
                <a:cubicBezTo>
                  <a:pt x="8770" y="16218"/>
                  <a:pt x="8783" y="16177"/>
                  <a:pt x="8796" y="16138"/>
                </a:cubicBezTo>
                <a:cubicBezTo>
                  <a:pt x="8802" y="16119"/>
                  <a:pt x="8803" y="16114"/>
                  <a:pt x="8809" y="16103"/>
                </a:cubicBezTo>
                <a:cubicBezTo>
                  <a:pt x="8832" y="16145"/>
                  <a:pt x="8822" y="16186"/>
                  <a:pt x="8819" y="16235"/>
                </a:cubicBezTo>
                <a:cubicBezTo>
                  <a:pt x="8815" y="16308"/>
                  <a:pt x="8812" y="16380"/>
                  <a:pt x="8803" y="16453"/>
                </a:cubicBezTo>
                <a:cubicBezTo>
                  <a:pt x="8797" y="16501"/>
                  <a:pt x="8791" y="16549"/>
                  <a:pt x="8783" y="16596"/>
                </a:cubicBezTo>
                <a:cubicBezTo>
                  <a:pt x="8782" y="16601"/>
                  <a:pt x="8781" y="16606"/>
                  <a:pt x="8780" y="16611"/>
                </a:cubicBezTo>
                <a:cubicBezTo>
                  <a:pt x="8801" y="16571"/>
                  <a:pt x="8819" y="16530"/>
                  <a:pt x="8837" y="16489"/>
                </a:cubicBezTo>
                <a:cubicBezTo>
                  <a:pt x="8864" y="16426"/>
                  <a:pt x="8886" y="16359"/>
                  <a:pt x="8918" y="16298"/>
                </a:cubicBezTo>
                <a:cubicBezTo>
                  <a:pt x="8942" y="16251"/>
                  <a:pt x="8965" y="16206"/>
                  <a:pt x="8985" y="16157"/>
                </a:cubicBezTo>
              </a:path>
              <a:path w="2196" h="926">
                <a:moveTo>
                  <a:pt x="9072" y="15777"/>
                </a:moveTo>
                <a:cubicBezTo>
                  <a:pt x="9069" y="15761"/>
                  <a:pt x="9069" y="15750"/>
                  <a:pt x="9070" y="15734"/>
                </a:cubicBezTo>
                <a:cubicBezTo>
                  <a:pt x="9107" y="15764"/>
                  <a:pt x="9125" y="15809"/>
                  <a:pt x="9140" y="15855"/>
                </a:cubicBezTo>
                <a:cubicBezTo>
                  <a:pt x="9170" y="15945"/>
                  <a:pt x="9184" y="16039"/>
                  <a:pt x="9191" y="16134"/>
                </a:cubicBezTo>
                <a:cubicBezTo>
                  <a:pt x="9197" y="16206"/>
                  <a:pt x="9197" y="16287"/>
                  <a:pt x="9178" y="16357"/>
                </a:cubicBezTo>
                <a:cubicBezTo>
                  <a:pt x="9168" y="16382"/>
                  <a:pt x="9166" y="16389"/>
                  <a:pt x="9153" y="1640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900600" y="5654520"/>
            <a:ext cx="1288800" cy="297000"/>
          </a:xfrm>
          <a:custGeom>
            <a:avLst/>
            <a:gdLst/>
            <a:ahLst/>
            <a:rect l="l" t="t" r="r" b="b"/>
            <a:pathLst>
              <a:path w="3583" h="823">
                <a:moveTo>
                  <a:pt x="11050" y="16020"/>
                </a:moveTo>
                <a:cubicBezTo>
                  <a:pt x="11047" y="15983"/>
                  <a:pt x="11044" y="15945"/>
                  <a:pt x="11044" y="15908"/>
                </a:cubicBezTo>
                <a:cubicBezTo>
                  <a:pt x="11044" y="15879"/>
                  <a:pt x="11037" y="15877"/>
                  <a:pt x="11017" y="15857"/>
                </a:cubicBezTo>
                <a:cubicBezTo>
                  <a:pt x="10984" y="15876"/>
                  <a:pt x="10957" y="15895"/>
                  <a:pt x="10932" y="15924"/>
                </a:cubicBezTo>
                <a:cubicBezTo>
                  <a:pt x="10883" y="15981"/>
                  <a:pt x="10848" y="16052"/>
                  <a:pt x="10837" y="16126"/>
                </a:cubicBezTo>
                <a:cubicBezTo>
                  <a:pt x="10829" y="16181"/>
                  <a:pt x="10841" y="16235"/>
                  <a:pt x="10871" y="16282"/>
                </a:cubicBezTo>
                <a:cubicBezTo>
                  <a:pt x="10905" y="16335"/>
                  <a:pt x="10953" y="16370"/>
                  <a:pt x="11012" y="16390"/>
                </a:cubicBezTo>
                <a:cubicBezTo>
                  <a:pt x="11026" y="16393"/>
                  <a:pt x="11039" y="16397"/>
                  <a:pt x="11053" y="16400"/>
                </a:cubicBezTo>
              </a:path>
              <a:path w="3583" h="823">
                <a:moveTo>
                  <a:pt x="11317" y="16116"/>
                </a:moveTo>
                <a:cubicBezTo>
                  <a:pt x="11291" y="16094"/>
                  <a:pt x="11288" y="16091"/>
                  <a:pt x="11263" y="16108"/>
                </a:cubicBezTo>
                <a:cubicBezTo>
                  <a:pt x="11233" y="16128"/>
                  <a:pt x="11224" y="16151"/>
                  <a:pt x="11220" y="16187"/>
                </a:cubicBezTo>
                <a:cubicBezTo>
                  <a:pt x="11218" y="16207"/>
                  <a:pt x="11216" y="16247"/>
                  <a:pt x="11244" y="16251"/>
                </a:cubicBezTo>
                <a:cubicBezTo>
                  <a:pt x="11274" y="16256"/>
                  <a:pt x="11303" y="16216"/>
                  <a:pt x="11317" y="16196"/>
                </a:cubicBezTo>
                <a:cubicBezTo>
                  <a:pt x="11341" y="16162"/>
                  <a:pt x="11353" y="16124"/>
                  <a:pt x="11371" y="16087"/>
                </a:cubicBezTo>
                <a:cubicBezTo>
                  <a:pt x="11379" y="16071"/>
                  <a:pt x="11390" y="16056"/>
                  <a:pt x="11401" y="16042"/>
                </a:cubicBezTo>
              </a:path>
              <a:path w="3583" h="823">
                <a:moveTo>
                  <a:pt x="11513" y="16130"/>
                </a:moveTo>
                <a:cubicBezTo>
                  <a:pt x="11515" y="16165"/>
                  <a:pt x="11519" y="16204"/>
                  <a:pt x="11515" y="16239"/>
                </a:cubicBezTo>
                <a:cubicBezTo>
                  <a:pt x="11510" y="16257"/>
                  <a:pt x="11508" y="16263"/>
                  <a:pt x="11514" y="16275"/>
                </a:cubicBezTo>
                <a:cubicBezTo>
                  <a:pt x="11545" y="16259"/>
                  <a:pt x="11547" y="16227"/>
                  <a:pt x="11560" y="16192"/>
                </a:cubicBezTo>
                <a:cubicBezTo>
                  <a:pt x="11573" y="16156"/>
                  <a:pt x="11592" y="16083"/>
                  <a:pt x="11629" y="16062"/>
                </a:cubicBezTo>
                <a:cubicBezTo>
                  <a:pt x="11633" y="16062"/>
                  <a:pt x="11637" y="16061"/>
                  <a:pt x="11641" y="16061"/>
                </a:cubicBezTo>
                <a:cubicBezTo>
                  <a:pt x="11663" y="16086"/>
                  <a:pt x="11667" y="16110"/>
                  <a:pt x="11671" y="16143"/>
                </a:cubicBezTo>
                <a:cubicBezTo>
                  <a:pt x="11675" y="16172"/>
                  <a:pt x="11677" y="16201"/>
                  <a:pt x="11676" y="16230"/>
                </a:cubicBezTo>
                <a:cubicBezTo>
                  <a:pt x="11684" y="16190"/>
                  <a:pt x="11695" y="16146"/>
                  <a:pt x="11717" y="16111"/>
                </a:cubicBezTo>
                <a:cubicBezTo>
                  <a:pt x="11731" y="16090"/>
                  <a:pt x="11737" y="16091"/>
                  <a:pt x="11756" y="16096"/>
                </a:cubicBezTo>
                <a:cubicBezTo>
                  <a:pt x="11777" y="16130"/>
                  <a:pt x="11785" y="16164"/>
                  <a:pt x="11795" y="16203"/>
                </a:cubicBezTo>
                <a:cubicBezTo>
                  <a:pt x="11805" y="16244"/>
                  <a:pt x="11816" y="16275"/>
                  <a:pt x="11842" y="16307"/>
                </a:cubicBezTo>
              </a:path>
              <a:path w="3583" h="823">
                <a:moveTo>
                  <a:pt x="11931" y="16167"/>
                </a:moveTo>
                <a:cubicBezTo>
                  <a:pt x="11924" y="16128"/>
                  <a:pt x="11939" y="16192"/>
                  <a:pt x="11940" y="16196"/>
                </a:cubicBezTo>
                <a:cubicBezTo>
                  <a:pt x="11948" y="16230"/>
                  <a:pt x="11955" y="16265"/>
                  <a:pt x="11958" y="16300"/>
                </a:cubicBezTo>
                <a:cubicBezTo>
                  <a:pt x="11969" y="16275"/>
                  <a:pt x="11975" y="16248"/>
                  <a:pt x="11984" y="16222"/>
                </a:cubicBezTo>
                <a:cubicBezTo>
                  <a:pt x="11999" y="16181"/>
                  <a:pt x="12014" y="16136"/>
                  <a:pt x="12040" y="16100"/>
                </a:cubicBezTo>
                <a:cubicBezTo>
                  <a:pt x="12056" y="16082"/>
                  <a:pt x="12060" y="16077"/>
                  <a:pt x="12074" y="16071"/>
                </a:cubicBezTo>
                <a:cubicBezTo>
                  <a:pt x="12104" y="16087"/>
                  <a:pt x="12107" y="16113"/>
                  <a:pt x="12113" y="16147"/>
                </a:cubicBezTo>
                <a:cubicBezTo>
                  <a:pt x="12121" y="16194"/>
                  <a:pt x="12118" y="16243"/>
                  <a:pt x="12114" y="16290"/>
                </a:cubicBezTo>
                <a:cubicBezTo>
                  <a:pt x="12127" y="16257"/>
                  <a:pt x="12139" y="16223"/>
                  <a:pt x="12154" y="16191"/>
                </a:cubicBezTo>
                <a:cubicBezTo>
                  <a:pt x="12171" y="16155"/>
                  <a:pt x="12186" y="16130"/>
                  <a:pt x="12218" y="16107"/>
                </a:cubicBezTo>
                <a:cubicBezTo>
                  <a:pt x="12248" y="16117"/>
                  <a:pt x="12254" y="16140"/>
                  <a:pt x="12261" y="16172"/>
                </a:cubicBezTo>
                <a:cubicBezTo>
                  <a:pt x="12270" y="16213"/>
                  <a:pt x="12274" y="16257"/>
                  <a:pt x="12291" y="16295"/>
                </a:cubicBezTo>
                <a:cubicBezTo>
                  <a:pt x="12300" y="16311"/>
                  <a:pt x="12302" y="16316"/>
                  <a:pt x="12314" y="16320"/>
                </a:cubicBezTo>
              </a:path>
              <a:path w="3583" h="823">
                <a:moveTo>
                  <a:pt x="12484" y="16167"/>
                </a:moveTo>
                <a:cubicBezTo>
                  <a:pt x="12487" y="16188"/>
                  <a:pt x="12480" y="16209"/>
                  <a:pt x="12482" y="16229"/>
                </a:cubicBezTo>
                <a:cubicBezTo>
                  <a:pt x="12484" y="16246"/>
                  <a:pt x="12492" y="16277"/>
                  <a:pt x="12513" y="16281"/>
                </a:cubicBezTo>
                <a:cubicBezTo>
                  <a:pt x="12539" y="16285"/>
                  <a:pt x="12563" y="16250"/>
                  <a:pt x="12576" y="16234"/>
                </a:cubicBezTo>
                <a:cubicBezTo>
                  <a:pt x="12596" y="16210"/>
                  <a:pt x="12615" y="16171"/>
                  <a:pt x="12642" y="16154"/>
                </a:cubicBezTo>
                <a:cubicBezTo>
                  <a:pt x="12672" y="16134"/>
                  <a:pt x="12693" y="16177"/>
                  <a:pt x="12706" y="16197"/>
                </a:cubicBezTo>
                <a:cubicBezTo>
                  <a:pt x="12718" y="16216"/>
                  <a:pt x="12722" y="16222"/>
                  <a:pt x="12732" y="16232"/>
                </a:cubicBezTo>
              </a:path>
              <a:path w="3583" h="823">
                <a:moveTo>
                  <a:pt x="12853" y="15707"/>
                </a:moveTo>
                <a:cubicBezTo>
                  <a:pt x="12863" y="15772"/>
                  <a:pt x="12855" y="15836"/>
                  <a:pt x="12853" y="15902"/>
                </a:cubicBezTo>
                <a:cubicBezTo>
                  <a:pt x="12850" y="16004"/>
                  <a:pt x="12850" y="16109"/>
                  <a:pt x="12856" y="16211"/>
                </a:cubicBezTo>
                <a:cubicBezTo>
                  <a:pt x="12858" y="16249"/>
                  <a:pt x="12863" y="16287"/>
                  <a:pt x="12866" y="16325"/>
                </a:cubicBezTo>
              </a:path>
              <a:path w="3583" h="823">
                <a:moveTo>
                  <a:pt x="12692" y="15996"/>
                </a:moveTo>
                <a:cubicBezTo>
                  <a:pt x="12720" y="16007"/>
                  <a:pt x="12751" y="16008"/>
                  <a:pt x="12781" y="16011"/>
                </a:cubicBezTo>
                <a:cubicBezTo>
                  <a:pt x="12839" y="16016"/>
                  <a:pt x="12898" y="16017"/>
                  <a:pt x="12956" y="16019"/>
                </a:cubicBezTo>
                <a:cubicBezTo>
                  <a:pt x="12991" y="16020"/>
                  <a:pt x="13045" y="16015"/>
                  <a:pt x="13078" y="16029"/>
                </a:cubicBezTo>
                <a:cubicBezTo>
                  <a:pt x="13084" y="16033"/>
                  <a:pt x="13089" y="16037"/>
                  <a:pt x="13095" y="16041"/>
                </a:cubicBezTo>
              </a:path>
              <a:path w="3583" h="823">
                <a:moveTo>
                  <a:pt x="13100" y="16061"/>
                </a:moveTo>
                <a:cubicBezTo>
                  <a:pt x="13094" y="16091"/>
                  <a:pt x="13088" y="16122"/>
                  <a:pt x="13084" y="16153"/>
                </a:cubicBezTo>
                <a:cubicBezTo>
                  <a:pt x="13079" y="16192"/>
                  <a:pt x="13070" y="16232"/>
                  <a:pt x="13071" y="16271"/>
                </a:cubicBezTo>
                <a:cubicBezTo>
                  <a:pt x="13073" y="16289"/>
                  <a:pt x="13073" y="16292"/>
                  <a:pt x="13074" y="16302"/>
                </a:cubicBezTo>
              </a:path>
              <a:path w="3583" h="823">
                <a:moveTo>
                  <a:pt x="13098" y="15949"/>
                </a:moveTo>
                <a:cubicBezTo>
                  <a:pt x="13098" y="15941"/>
                  <a:pt x="13094" y="15882"/>
                  <a:pt x="13102" y="15876"/>
                </a:cubicBezTo>
                <a:cubicBezTo>
                  <a:pt x="13108" y="15875"/>
                  <a:pt x="13113" y="15874"/>
                  <a:pt x="13119" y="15873"/>
                </a:cubicBezTo>
              </a:path>
              <a:path w="3583" h="823">
                <a:moveTo>
                  <a:pt x="13235" y="16077"/>
                </a:moveTo>
                <a:cubicBezTo>
                  <a:pt x="13238" y="16116"/>
                  <a:pt x="13235" y="16160"/>
                  <a:pt x="13242" y="16198"/>
                </a:cubicBezTo>
                <a:cubicBezTo>
                  <a:pt x="13247" y="16224"/>
                  <a:pt x="13253" y="16237"/>
                  <a:pt x="13268" y="16256"/>
                </a:cubicBezTo>
                <a:cubicBezTo>
                  <a:pt x="13293" y="16249"/>
                  <a:pt x="13303" y="16230"/>
                  <a:pt x="13313" y="16206"/>
                </a:cubicBezTo>
                <a:cubicBezTo>
                  <a:pt x="13330" y="16163"/>
                  <a:pt x="13346" y="16117"/>
                  <a:pt x="13353" y="16072"/>
                </a:cubicBezTo>
                <a:cubicBezTo>
                  <a:pt x="13358" y="16042"/>
                  <a:pt x="13366" y="16014"/>
                  <a:pt x="13369" y="15984"/>
                </a:cubicBezTo>
              </a:path>
              <a:path w="3583" h="823">
                <a:moveTo>
                  <a:pt x="13615" y="16143"/>
                </a:moveTo>
                <a:cubicBezTo>
                  <a:pt x="13610" y="16172"/>
                  <a:pt x="13611" y="16201"/>
                  <a:pt x="13613" y="16230"/>
                </a:cubicBezTo>
                <a:cubicBezTo>
                  <a:pt x="13615" y="16264"/>
                  <a:pt x="13615" y="16296"/>
                  <a:pt x="13624" y="16329"/>
                </a:cubicBezTo>
                <a:cubicBezTo>
                  <a:pt x="13646" y="16316"/>
                  <a:pt x="13642" y="16310"/>
                  <a:pt x="13649" y="16281"/>
                </a:cubicBezTo>
              </a:path>
              <a:path w="3583" h="823">
                <a:moveTo>
                  <a:pt x="13642" y="15898"/>
                </a:moveTo>
                <a:cubicBezTo>
                  <a:pt x="13634" y="15869"/>
                  <a:pt x="13616" y="15827"/>
                  <a:pt x="13624" y="15797"/>
                </a:cubicBezTo>
                <a:cubicBezTo>
                  <a:pt x="13629" y="15779"/>
                  <a:pt x="13645" y="15766"/>
                  <a:pt x="13657" y="15754"/>
                </a:cubicBezTo>
              </a:path>
              <a:path w="3583" h="823">
                <a:moveTo>
                  <a:pt x="13830" y="15736"/>
                </a:moveTo>
                <a:cubicBezTo>
                  <a:pt x="13838" y="15807"/>
                  <a:pt x="13847" y="15876"/>
                  <a:pt x="13857" y="15946"/>
                </a:cubicBezTo>
                <a:cubicBezTo>
                  <a:pt x="13871" y="16037"/>
                  <a:pt x="13887" y="16131"/>
                  <a:pt x="13919" y="16218"/>
                </a:cubicBezTo>
                <a:cubicBezTo>
                  <a:pt x="13931" y="16251"/>
                  <a:pt x="13939" y="16264"/>
                  <a:pt x="13967" y="16276"/>
                </a:cubicBezTo>
              </a:path>
              <a:path w="3583" h="823">
                <a:moveTo>
                  <a:pt x="13851" y="15989"/>
                </a:moveTo>
                <a:cubicBezTo>
                  <a:pt x="13840" y="15979"/>
                  <a:pt x="13837" y="15976"/>
                  <a:pt x="13830" y="15969"/>
                </a:cubicBezTo>
                <a:cubicBezTo>
                  <a:pt x="13872" y="15988"/>
                  <a:pt x="13905" y="15984"/>
                  <a:pt x="13951" y="15984"/>
                </a:cubicBezTo>
                <a:cubicBezTo>
                  <a:pt x="14013" y="15984"/>
                  <a:pt x="14073" y="15973"/>
                  <a:pt x="14135" y="15970"/>
                </a:cubicBezTo>
                <a:cubicBezTo>
                  <a:pt x="14175" y="15968"/>
                  <a:pt x="14219" y="15974"/>
                  <a:pt x="14241" y="16011"/>
                </a:cubicBezTo>
                <a:cubicBezTo>
                  <a:pt x="14260" y="16042"/>
                  <a:pt x="14264" y="16086"/>
                  <a:pt x="14277" y="16120"/>
                </a:cubicBezTo>
                <a:cubicBezTo>
                  <a:pt x="14286" y="16143"/>
                  <a:pt x="14294" y="16165"/>
                  <a:pt x="14322" y="16154"/>
                </a:cubicBezTo>
                <a:cubicBezTo>
                  <a:pt x="14348" y="16144"/>
                  <a:pt x="14368" y="16103"/>
                  <a:pt x="14382" y="16082"/>
                </a:cubicBezTo>
                <a:cubicBezTo>
                  <a:pt x="14392" y="16067"/>
                  <a:pt x="14394" y="16062"/>
                  <a:pt x="14404" y="16056"/>
                </a:cubicBezTo>
                <a:cubicBezTo>
                  <a:pt x="14421" y="16105"/>
                  <a:pt x="14415" y="16150"/>
                  <a:pt x="14411" y="16202"/>
                </a:cubicBezTo>
                <a:cubicBezTo>
                  <a:pt x="14405" y="16291"/>
                  <a:pt x="14399" y="16383"/>
                  <a:pt x="14372" y="16469"/>
                </a:cubicBezTo>
                <a:cubicBezTo>
                  <a:pt x="14364" y="16495"/>
                  <a:pt x="14353" y="16508"/>
                  <a:pt x="14341" y="1652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348160" y="5630760"/>
            <a:ext cx="1611360" cy="306360"/>
          </a:xfrm>
          <a:custGeom>
            <a:avLst/>
            <a:gdLst/>
            <a:ahLst/>
            <a:rect l="l" t="t" r="r" b="b"/>
            <a:pathLst>
              <a:path w="4476" h="848">
                <a:moveTo>
                  <a:pt x="15039" y="15930"/>
                </a:moveTo>
                <a:cubicBezTo>
                  <a:pt x="15036" y="15988"/>
                  <a:pt x="15043" y="16040"/>
                  <a:pt x="15051" y="16098"/>
                </a:cubicBezTo>
                <a:cubicBezTo>
                  <a:pt x="15061" y="16175"/>
                  <a:pt x="15078" y="16250"/>
                  <a:pt x="15090" y="16327"/>
                </a:cubicBezTo>
                <a:cubicBezTo>
                  <a:pt x="15096" y="16364"/>
                  <a:pt x="15089" y="16370"/>
                  <a:pt x="15084" y="16395"/>
                </a:cubicBezTo>
                <a:cubicBezTo>
                  <a:pt x="15041" y="16366"/>
                  <a:pt x="15014" y="16327"/>
                  <a:pt x="14983" y="16286"/>
                </a:cubicBezTo>
                <a:cubicBezTo>
                  <a:pt x="14945" y="16235"/>
                  <a:pt x="14845" y="16126"/>
                  <a:pt x="14855" y="16054"/>
                </a:cubicBezTo>
                <a:cubicBezTo>
                  <a:pt x="14858" y="16050"/>
                  <a:pt x="14861" y="16046"/>
                  <a:pt x="14864" y="16042"/>
                </a:cubicBezTo>
                <a:cubicBezTo>
                  <a:pt x="14911" y="16036"/>
                  <a:pt x="14956" y="16044"/>
                  <a:pt x="15003" y="16051"/>
                </a:cubicBezTo>
                <a:cubicBezTo>
                  <a:pt x="15090" y="16064"/>
                  <a:pt x="15176" y="16081"/>
                  <a:pt x="15262" y="16096"/>
                </a:cubicBezTo>
                <a:cubicBezTo>
                  <a:pt x="15297" y="16102"/>
                  <a:pt x="15307" y="16103"/>
                  <a:pt x="15329" y="16106"/>
                </a:cubicBezTo>
              </a:path>
              <a:path w="4476" h="848">
                <a:moveTo>
                  <a:pt x="15629" y="16304"/>
                </a:moveTo>
                <a:cubicBezTo>
                  <a:pt x="15627" y="16316"/>
                  <a:pt x="15626" y="16327"/>
                  <a:pt x="15624" y="16339"/>
                </a:cubicBezTo>
                <a:cubicBezTo>
                  <a:pt x="15625" y="16299"/>
                  <a:pt x="15636" y="16255"/>
                  <a:pt x="15645" y="16215"/>
                </a:cubicBezTo>
                <a:cubicBezTo>
                  <a:pt x="15677" y="16071"/>
                  <a:pt x="15709" y="15901"/>
                  <a:pt x="15783" y="15772"/>
                </a:cubicBezTo>
                <a:cubicBezTo>
                  <a:pt x="15790" y="15763"/>
                  <a:pt x="15797" y="15754"/>
                  <a:pt x="15804" y="15745"/>
                </a:cubicBezTo>
                <a:cubicBezTo>
                  <a:pt x="15850" y="15743"/>
                  <a:pt x="15846" y="15806"/>
                  <a:pt x="15851" y="15847"/>
                </a:cubicBezTo>
                <a:cubicBezTo>
                  <a:pt x="15865" y="15949"/>
                  <a:pt x="15870" y="16052"/>
                  <a:pt x="15879" y="16154"/>
                </a:cubicBezTo>
                <a:cubicBezTo>
                  <a:pt x="15880" y="16170"/>
                  <a:pt x="15904" y="16310"/>
                  <a:pt x="15881" y="16327"/>
                </a:cubicBezTo>
                <a:cubicBezTo>
                  <a:pt x="15875" y="16326"/>
                  <a:pt x="15869" y="16324"/>
                  <a:pt x="15863" y="16323"/>
                </a:cubicBezTo>
              </a:path>
              <a:path w="4476" h="848">
                <a:moveTo>
                  <a:pt x="15720" y="16145"/>
                </a:moveTo>
                <a:cubicBezTo>
                  <a:pt x="15708" y="16135"/>
                  <a:pt x="15703" y="16131"/>
                  <a:pt x="15702" y="16119"/>
                </a:cubicBezTo>
                <a:cubicBezTo>
                  <a:pt x="15747" y="16101"/>
                  <a:pt x="15797" y="16089"/>
                  <a:pt x="15845" y="16080"/>
                </a:cubicBezTo>
                <a:cubicBezTo>
                  <a:pt x="15928" y="16065"/>
                  <a:pt x="16007" y="16041"/>
                  <a:pt x="16090" y="16025"/>
                </a:cubicBezTo>
                <a:cubicBezTo>
                  <a:pt x="16142" y="16016"/>
                  <a:pt x="16157" y="16013"/>
                  <a:pt x="16191" y="16008"/>
                </a:cubicBezTo>
              </a:path>
              <a:path w="4476" h="848">
                <a:moveTo>
                  <a:pt x="16272" y="15979"/>
                </a:moveTo>
                <a:cubicBezTo>
                  <a:pt x="16239" y="15965"/>
                  <a:pt x="16229" y="15968"/>
                  <a:pt x="16195" y="15974"/>
                </a:cubicBezTo>
                <a:cubicBezTo>
                  <a:pt x="16135" y="15984"/>
                  <a:pt x="16083" y="16009"/>
                  <a:pt x="16031" y="16042"/>
                </a:cubicBezTo>
                <a:cubicBezTo>
                  <a:pt x="15996" y="16064"/>
                  <a:pt x="15972" y="16086"/>
                  <a:pt x="15952" y="16114"/>
                </a:cubicBezTo>
                <a:cubicBezTo>
                  <a:pt x="15999" y="16117"/>
                  <a:pt x="16045" y="16107"/>
                  <a:pt x="16092" y="16105"/>
                </a:cubicBezTo>
                <a:cubicBezTo>
                  <a:pt x="16151" y="16102"/>
                  <a:pt x="16218" y="16102"/>
                  <a:pt x="16269" y="16138"/>
                </a:cubicBezTo>
                <a:cubicBezTo>
                  <a:pt x="16306" y="16164"/>
                  <a:pt x="16319" y="16213"/>
                  <a:pt x="16312" y="16256"/>
                </a:cubicBezTo>
                <a:cubicBezTo>
                  <a:pt x="16306" y="16295"/>
                  <a:pt x="16277" y="16323"/>
                  <a:pt x="16240" y="16334"/>
                </a:cubicBezTo>
                <a:cubicBezTo>
                  <a:pt x="16201" y="16345"/>
                  <a:pt x="16175" y="16315"/>
                  <a:pt x="16164" y="16281"/>
                </a:cubicBezTo>
                <a:cubicBezTo>
                  <a:pt x="16158" y="16248"/>
                  <a:pt x="16156" y="16235"/>
                  <a:pt x="16159" y="16212"/>
                </a:cubicBezTo>
              </a:path>
              <a:path w="4476" h="848">
                <a:moveTo>
                  <a:pt x="16649" y="15925"/>
                </a:moveTo>
                <a:cubicBezTo>
                  <a:pt x="16626" y="15900"/>
                  <a:pt x="16614" y="15898"/>
                  <a:pt x="16581" y="15906"/>
                </a:cubicBezTo>
                <a:cubicBezTo>
                  <a:pt x="16527" y="15918"/>
                  <a:pt x="16485" y="15948"/>
                  <a:pt x="16446" y="15986"/>
                </a:cubicBezTo>
                <a:cubicBezTo>
                  <a:pt x="16424" y="16007"/>
                  <a:pt x="16380" y="16051"/>
                  <a:pt x="16391" y="16087"/>
                </a:cubicBezTo>
                <a:cubicBezTo>
                  <a:pt x="16400" y="16115"/>
                  <a:pt x="16464" y="16114"/>
                  <a:pt x="16485" y="16117"/>
                </a:cubicBezTo>
                <a:cubicBezTo>
                  <a:pt x="16531" y="16124"/>
                  <a:pt x="16580" y="16129"/>
                  <a:pt x="16622" y="16153"/>
                </a:cubicBezTo>
                <a:cubicBezTo>
                  <a:pt x="16651" y="16170"/>
                  <a:pt x="16681" y="16199"/>
                  <a:pt x="16675" y="16236"/>
                </a:cubicBezTo>
                <a:cubicBezTo>
                  <a:pt x="16669" y="16271"/>
                  <a:pt x="16630" y="16292"/>
                  <a:pt x="16601" y="16303"/>
                </a:cubicBezTo>
                <a:cubicBezTo>
                  <a:pt x="16573" y="16314"/>
                  <a:pt x="16531" y="16303"/>
                  <a:pt x="16518" y="16271"/>
                </a:cubicBezTo>
                <a:cubicBezTo>
                  <a:pt x="16515" y="16245"/>
                  <a:pt x="16514" y="16236"/>
                  <a:pt x="16521" y="16219"/>
                </a:cubicBezTo>
              </a:path>
              <a:path w="4476" h="848">
                <a:moveTo>
                  <a:pt x="16871" y="16001"/>
                </a:moveTo>
                <a:cubicBezTo>
                  <a:pt x="16880" y="15984"/>
                  <a:pt x="16882" y="15981"/>
                  <a:pt x="16880" y="15962"/>
                </a:cubicBezTo>
                <a:cubicBezTo>
                  <a:pt x="16854" y="15954"/>
                  <a:pt x="16841" y="15976"/>
                  <a:pt x="16824" y="16001"/>
                </a:cubicBezTo>
                <a:cubicBezTo>
                  <a:pt x="16795" y="16045"/>
                  <a:pt x="16767" y="16099"/>
                  <a:pt x="16754" y="16150"/>
                </a:cubicBezTo>
                <a:cubicBezTo>
                  <a:pt x="16745" y="16185"/>
                  <a:pt x="16739" y="16243"/>
                  <a:pt x="16775" y="16267"/>
                </a:cubicBezTo>
                <a:cubicBezTo>
                  <a:pt x="16816" y="16295"/>
                  <a:pt x="16870" y="16261"/>
                  <a:pt x="16898" y="16231"/>
                </a:cubicBezTo>
                <a:cubicBezTo>
                  <a:pt x="16927" y="16200"/>
                  <a:pt x="16943" y="16156"/>
                  <a:pt x="16948" y="16114"/>
                </a:cubicBezTo>
                <a:cubicBezTo>
                  <a:pt x="16952" y="16078"/>
                  <a:pt x="16948" y="16041"/>
                  <a:pt x="16931" y="16009"/>
                </a:cubicBezTo>
                <a:cubicBezTo>
                  <a:pt x="16916" y="15982"/>
                  <a:pt x="16903" y="15966"/>
                  <a:pt x="16879" y="15948"/>
                </a:cubicBezTo>
                <a:cubicBezTo>
                  <a:pt x="16876" y="15945"/>
                  <a:pt x="16872" y="15943"/>
                  <a:pt x="16869" y="15940"/>
                </a:cubicBezTo>
              </a:path>
              <a:path w="4476" h="848">
                <a:moveTo>
                  <a:pt x="17159" y="16037"/>
                </a:moveTo>
                <a:cubicBezTo>
                  <a:pt x="17167" y="16008"/>
                  <a:pt x="17167" y="16002"/>
                  <a:pt x="17148" y="15978"/>
                </a:cubicBezTo>
                <a:cubicBezTo>
                  <a:pt x="17113" y="16003"/>
                  <a:pt x="17096" y="16030"/>
                  <a:pt x="17079" y="16071"/>
                </a:cubicBezTo>
                <a:cubicBezTo>
                  <a:pt x="17059" y="16117"/>
                  <a:pt x="17038" y="16169"/>
                  <a:pt x="17044" y="16220"/>
                </a:cubicBezTo>
                <a:cubicBezTo>
                  <a:pt x="17049" y="16265"/>
                  <a:pt x="17084" y="16274"/>
                  <a:pt x="17121" y="16267"/>
                </a:cubicBezTo>
                <a:cubicBezTo>
                  <a:pt x="17179" y="16256"/>
                  <a:pt x="17226" y="16230"/>
                  <a:pt x="17276" y="16201"/>
                </a:cubicBezTo>
              </a:path>
              <a:path w="4476" h="848">
                <a:moveTo>
                  <a:pt x="17387" y="16031"/>
                </a:moveTo>
                <a:cubicBezTo>
                  <a:pt x="17365" y="16070"/>
                  <a:pt x="17359" y="16098"/>
                  <a:pt x="17349" y="16140"/>
                </a:cubicBezTo>
                <a:cubicBezTo>
                  <a:pt x="17343" y="16165"/>
                  <a:pt x="17315" y="16228"/>
                  <a:pt x="17338" y="16253"/>
                </a:cubicBezTo>
                <a:cubicBezTo>
                  <a:pt x="17342" y="16253"/>
                  <a:pt x="17347" y="16253"/>
                  <a:pt x="17351" y="16253"/>
                </a:cubicBezTo>
              </a:path>
              <a:path w="4476" h="848">
                <a:moveTo>
                  <a:pt x="17344" y="15934"/>
                </a:moveTo>
                <a:cubicBezTo>
                  <a:pt x="17343" y="15911"/>
                  <a:pt x="17341" y="15895"/>
                  <a:pt x="17346" y="15873"/>
                </a:cubicBezTo>
                <a:cubicBezTo>
                  <a:pt x="17368" y="15876"/>
                  <a:pt x="17376" y="15882"/>
                  <a:pt x="17394" y="15896"/>
                </a:cubicBezTo>
              </a:path>
              <a:path w="4476" h="848">
                <a:moveTo>
                  <a:pt x="17762" y="16145"/>
                </a:moveTo>
                <a:cubicBezTo>
                  <a:pt x="17770" y="16109"/>
                  <a:pt x="17755" y="16091"/>
                  <a:pt x="17729" y="16061"/>
                </a:cubicBezTo>
                <a:cubicBezTo>
                  <a:pt x="17706" y="16035"/>
                  <a:pt x="17674" y="16030"/>
                  <a:pt x="17645" y="16049"/>
                </a:cubicBezTo>
                <a:cubicBezTo>
                  <a:pt x="17606" y="16075"/>
                  <a:pt x="17583" y="16126"/>
                  <a:pt x="17575" y="16170"/>
                </a:cubicBezTo>
                <a:cubicBezTo>
                  <a:pt x="17569" y="16202"/>
                  <a:pt x="17567" y="16258"/>
                  <a:pt x="17608" y="16267"/>
                </a:cubicBezTo>
                <a:cubicBezTo>
                  <a:pt x="17645" y="16275"/>
                  <a:pt x="17690" y="16243"/>
                  <a:pt x="17719" y="16226"/>
                </a:cubicBezTo>
                <a:cubicBezTo>
                  <a:pt x="17753" y="16206"/>
                  <a:pt x="17776" y="16190"/>
                  <a:pt x="17815" y="16190"/>
                </a:cubicBezTo>
                <a:cubicBezTo>
                  <a:pt x="17834" y="16190"/>
                  <a:pt x="17851" y="16198"/>
                  <a:pt x="17869" y="16203"/>
                </a:cubicBezTo>
              </a:path>
              <a:path w="4476" h="848">
                <a:moveTo>
                  <a:pt x="17941" y="15762"/>
                </a:moveTo>
                <a:cubicBezTo>
                  <a:pt x="17943" y="15725"/>
                  <a:pt x="17940" y="15683"/>
                  <a:pt x="17952" y="15650"/>
                </a:cubicBezTo>
                <a:cubicBezTo>
                  <a:pt x="17965" y="15704"/>
                  <a:pt x="17975" y="15759"/>
                  <a:pt x="17984" y="15814"/>
                </a:cubicBezTo>
                <a:cubicBezTo>
                  <a:pt x="17998" y="15903"/>
                  <a:pt x="18007" y="15993"/>
                  <a:pt x="18022" y="16082"/>
                </a:cubicBezTo>
                <a:cubicBezTo>
                  <a:pt x="18033" y="16149"/>
                  <a:pt x="18039" y="16215"/>
                  <a:pt x="18049" y="16283"/>
                </a:cubicBezTo>
                <a:cubicBezTo>
                  <a:pt x="18050" y="16290"/>
                  <a:pt x="18051" y="16298"/>
                  <a:pt x="18052" y="16305"/>
                </a:cubicBezTo>
              </a:path>
              <a:path w="4476" h="848">
                <a:moveTo>
                  <a:pt x="17849" y="15982"/>
                </a:moveTo>
                <a:cubicBezTo>
                  <a:pt x="17875" y="15981"/>
                  <a:pt x="17900" y="15981"/>
                  <a:pt x="17926" y="15981"/>
                </a:cubicBezTo>
                <a:cubicBezTo>
                  <a:pt x="17981" y="15982"/>
                  <a:pt x="18033" y="15990"/>
                  <a:pt x="18087" y="15996"/>
                </a:cubicBezTo>
                <a:cubicBezTo>
                  <a:pt x="18136" y="16002"/>
                  <a:pt x="18184" y="16013"/>
                  <a:pt x="18230" y="16031"/>
                </a:cubicBezTo>
                <a:cubicBezTo>
                  <a:pt x="18251" y="16039"/>
                  <a:pt x="18280" y="16053"/>
                  <a:pt x="18267" y="16082"/>
                </a:cubicBezTo>
                <a:cubicBezTo>
                  <a:pt x="18255" y="16108"/>
                  <a:pt x="18248" y="16130"/>
                  <a:pt x="18243" y="16161"/>
                </a:cubicBezTo>
                <a:cubicBezTo>
                  <a:pt x="18238" y="16188"/>
                  <a:pt x="18228" y="16226"/>
                  <a:pt x="18235" y="16254"/>
                </a:cubicBezTo>
                <a:cubicBezTo>
                  <a:pt x="18239" y="16268"/>
                  <a:pt x="18245" y="16250"/>
                  <a:pt x="18249" y="16237"/>
                </a:cubicBezTo>
              </a:path>
              <a:path w="4476" h="848">
                <a:moveTo>
                  <a:pt x="18231" y="15887"/>
                </a:moveTo>
                <a:cubicBezTo>
                  <a:pt x="18227" y="15864"/>
                  <a:pt x="18221" y="15842"/>
                  <a:pt x="18220" y="15818"/>
                </a:cubicBezTo>
                <a:cubicBezTo>
                  <a:pt x="18243" y="15842"/>
                  <a:pt x="18262" y="15868"/>
                  <a:pt x="18275" y="15899"/>
                </a:cubicBezTo>
                <a:cubicBezTo>
                  <a:pt x="18295" y="15947"/>
                  <a:pt x="18311" y="15998"/>
                  <a:pt x="18324" y="16048"/>
                </a:cubicBezTo>
                <a:cubicBezTo>
                  <a:pt x="18335" y="16093"/>
                  <a:pt x="18340" y="16142"/>
                  <a:pt x="18354" y="16187"/>
                </a:cubicBezTo>
                <a:cubicBezTo>
                  <a:pt x="18362" y="16212"/>
                  <a:pt x="18366" y="16220"/>
                  <a:pt x="18381" y="16237"/>
                </a:cubicBezTo>
                <a:cubicBezTo>
                  <a:pt x="18415" y="16223"/>
                  <a:pt x="18424" y="16207"/>
                  <a:pt x="18440" y="16173"/>
                </a:cubicBezTo>
                <a:cubicBezTo>
                  <a:pt x="18460" y="16131"/>
                  <a:pt x="18472" y="16084"/>
                  <a:pt x="18485" y="16040"/>
                </a:cubicBezTo>
                <a:cubicBezTo>
                  <a:pt x="18491" y="16021"/>
                  <a:pt x="18494" y="16001"/>
                  <a:pt x="18498" y="15982"/>
                </a:cubicBezTo>
              </a:path>
              <a:path w="4476" h="848">
                <a:moveTo>
                  <a:pt x="18809" y="16053"/>
                </a:moveTo>
                <a:cubicBezTo>
                  <a:pt x="18801" y="16078"/>
                  <a:pt x="18789" y="16106"/>
                  <a:pt x="18784" y="16130"/>
                </a:cubicBezTo>
                <a:cubicBezTo>
                  <a:pt x="18778" y="16161"/>
                  <a:pt x="18775" y="16190"/>
                  <a:pt x="18772" y="16221"/>
                </a:cubicBezTo>
                <a:cubicBezTo>
                  <a:pt x="18770" y="16232"/>
                  <a:pt x="18770" y="16237"/>
                  <a:pt x="18777" y="16244"/>
                </a:cubicBezTo>
                <a:cubicBezTo>
                  <a:pt x="18791" y="16233"/>
                  <a:pt x="18792" y="16228"/>
                  <a:pt x="18799" y="16209"/>
                </a:cubicBezTo>
              </a:path>
              <a:path w="4476" h="848">
                <a:moveTo>
                  <a:pt x="18811" y="15815"/>
                </a:moveTo>
                <a:cubicBezTo>
                  <a:pt x="18815" y="15768"/>
                  <a:pt x="18815" y="15726"/>
                  <a:pt x="18837" y="15683"/>
                </a:cubicBezTo>
                <a:cubicBezTo>
                  <a:pt x="18848" y="15662"/>
                  <a:pt x="18868" y="15640"/>
                  <a:pt x="18893" y="15643"/>
                </a:cubicBezTo>
                <a:cubicBezTo>
                  <a:pt x="18926" y="15647"/>
                  <a:pt x="18932" y="15689"/>
                  <a:pt x="18937" y="15714"/>
                </a:cubicBezTo>
                <a:cubicBezTo>
                  <a:pt x="18948" y="15770"/>
                  <a:pt x="18948" y="15827"/>
                  <a:pt x="18948" y="15884"/>
                </a:cubicBezTo>
                <a:cubicBezTo>
                  <a:pt x="18948" y="15947"/>
                  <a:pt x="18943" y="16011"/>
                  <a:pt x="18943" y="16074"/>
                </a:cubicBezTo>
                <a:cubicBezTo>
                  <a:pt x="18943" y="16116"/>
                  <a:pt x="18950" y="16165"/>
                  <a:pt x="18945" y="16206"/>
                </a:cubicBezTo>
                <a:cubicBezTo>
                  <a:pt x="18943" y="16222"/>
                  <a:pt x="18940" y="16192"/>
                  <a:pt x="18938" y="16176"/>
                </a:cubicBezTo>
              </a:path>
              <a:path w="4476" h="848">
                <a:moveTo>
                  <a:pt x="18879" y="16002"/>
                </a:moveTo>
                <a:cubicBezTo>
                  <a:pt x="18893" y="15992"/>
                  <a:pt x="18907" y="15981"/>
                  <a:pt x="18933" y="15974"/>
                </a:cubicBezTo>
                <a:cubicBezTo>
                  <a:pt x="18972" y="15964"/>
                  <a:pt x="19011" y="15961"/>
                  <a:pt x="19051" y="15968"/>
                </a:cubicBezTo>
                <a:cubicBezTo>
                  <a:pt x="19090" y="15975"/>
                  <a:pt x="19126" y="15991"/>
                  <a:pt x="19154" y="16019"/>
                </a:cubicBezTo>
                <a:cubicBezTo>
                  <a:pt x="19169" y="16034"/>
                  <a:pt x="19182" y="16057"/>
                  <a:pt x="19183" y="16079"/>
                </a:cubicBezTo>
                <a:cubicBezTo>
                  <a:pt x="19184" y="16106"/>
                  <a:pt x="19174" y="16136"/>
                  <a:pt x="19176" y="16164"/>
                </a:cubicBezTo>
                <a:cubicBezTo>
                  <a:pt x="19177" y="16186"/>
                  <a:pt x="19179" y="16229"/>
                  <a:pt x="19204" y="16239"/>
                </a:cubicBezTo>
                <a:cubicBezTo>
                  <a:pt x="19231" y="16250"/>
                  <a:pt x="19260" y="16207"/>
                  <a:pt x="19271" y="16190"/>
                </a:cubicBezTo>
                <a:cubicBezTo>
                  <a:pt x="19290" y="16161"/>
                  <a:pt x="19305" y="16130"/>
                  <a:pt x="19324" y="16101"/>
                </a:cubicBezTo>
                <a:cubicBezTo>
                  <a:pt x="19330" y="16154"/>
                  <a:pt x="19312" y="16195"/>
                  <a:pt x="19301" y="16247"/>
                </a:cubicBezTo>
                <a:cubicBezTo>
                  <a:pt x="19286" y="16318"/>
                  <a:pt x="19269" y="16387"/>
                  <a:pt x="19244" y="16455"/>
                </a:cubicBezTo>
                <a:cubicBezTo>
                  <a:pt x="19239" y="16467"/>
                  <a:pt x="19235" y="16478"/>
                  <a:pt x="19230" y="1649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122960" y="5605560"/>
            <a:ext cx="193680" cy="244440"/>
          </a:xfrm>
          <a:custGeom>
            <a:avLst/>
            <a:gdLst/>
            <a:ahLst/>
            <a:rect l="l" t="t" r="r" b="b"/>
            <a:pathLst>
              <a:path w="539" h="676">
                <a:moveTo>
                  <a:pt x="19814" y="16042"/>
                </a:moveTo>
                <a:cubicBezTo>
                  <a:pt x="19818" y="16041"/>
                  <a:pt x="19823" y="16039"/>
                  <a:pt x="19827" y="16038"/>
                </a:cubicBezTo>
                <a:cubicBezTo>
                  <a:pt x="19821" y="16058"/>
                  <a:pt x="19807" y="16079"/>
                  <a:pt x="19799" y="16103"/>
                </a:cubicBezTo>
                <a:cubicBezTo>
                  <a:pt x="19790" y="16130"/>
                  <a:pt x="19776" y="16178"/>
                  <a:pt x="19790" y="16206"/>
                </a:cubicBezTo>
                <a:cubicBezTo>
                  <a:pt x="19806" y="16239"/>
                  <a:pt x="19851" y="16218"/>
                  <a:pt x="19872" y="16206"/>
                </a:cubicBezTo>
                <a:cubicBezTo>
                  <a:pt x="19912" y="16184"/>
                  <a:pt x="19947" y="16154"/>
                  <a:pt x="19973" y="16117"/>
                </a:cubicBezTo>
                <a:cubicBezTo>
                  <a:pt x="19989" y="16095"/>
                  <a:pt x="20001" y="16067"/>
                  <a:pt x="19992" y="16040"/>
                </a:cubicBezTo>
                <a:cubicBezTo>
                  <a:pt x="19985" y="16019"/>
                  <a:pt x="19964" y="16002"/>
                  <a:pt x="19945" y="15993"/>
                </a:cubicBezTo>
                <a:cubicBezTo>
                  <a:pt x="19933" y="15989"/>
                  <a:pt x="19930" y="15988"/>
                  <a:pt x="19923" y="15987"/>
                </a:cubicBezTo>
              </a:path>
              <a:path w="539" h="676">
                <a:moveTo>
                  <a:pt x="20106" y="16247"/>
                </a:moveTo>
                <a:cubicBezTo>
                  <a:pt x="20114" y="16226"/>
                  <a:pt x="20118" y="16205"/>
                  <a:pt x="20111" y="16171"/>
                </a:cubicBezTo>
                <a:cubicBezTo>
                  <a:pt x="20095" y="16099"/>
                  <a:pt x="20085" y="16028"/>
                  <a:pt x="20079" y="15954"/>
                </a:cubicBezTo>
                <a:cubicBezTo>
                  <a:pt x="20071" y="15856"/>
                  <a:pt x="20068" y="15755"/>
                  <a:pt x="20082" y="15657"/>
                </a:cubicBezTo>
                <a:cubicBezTo>
                  <a:pt x="20086" y="15625"/>
                  <a:pt x="20094" y="15570"/>
                  <a:pt x="20138" y="15572"/>
                </a:cubicBezTo>
                <a:cubicBezTo>
                  <a:pt x="20178" y="15574"/>
                  <a:pt x="20223" y="15605"/>
                  <a:pt x="20256" y="15624"/>
                </a:cubicBezTo>
                <a:cubicBezTo>
                  <a:pt x="20278" y="15637"/>
                  <a:pt x="20327" y="15657"/>
                  <a:pt x="20324" y="15690"/>
                </a:cubicBezTo>
                <a:cubicBezTo>
                  <a:pt x="20322" y="15695"/>
                  <a:pt x="20319" y="15699"/>
                  <a:pt x="20317" y="15704"/>
                </a:cubicBezTo>
              </a:path>
              <a:path w="539" h="676">
                <a:moveTo>
                  <a:pt x="19975" y="15905"/>
                </a:moveTo>
                <a:cubicBezTo>
                  <a:pt x="19961" y="15922"/>
                  <a:pt x="19956" y="15925"/>
                  <a:pt x="19955" y="15939"/>
                </a:cubicBezTo>
                <a:cubicBezTo>
                  <a:pt x="19983" y="15961"/>
                  <a:pt x="20025" y="15953"/>
                  <a:pt x="20064" y="15952"/>
                </a:cubicBezTo>
                <a:cubicBezTo>
                  <a:pt x="20120" y="15951"/>
                  <a:pt x="20173" y="15949"/>
                  <a:pt x="20228" y="15942"/>
                </a:cubicBezTo>
                <a:cubicBezTo>
                  <a:pt x="20253" y="15939"/>
                  <a:pt x="20277" y="15935"/>
                  <a:pt x="20301" y="1593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540560" y="5722920"/>
            <a:ext cx="123840" cy="104760"/>
          </a:xfrm>
          <a:custGeom>
            <a:avLst/>
            <a:gdLst/>
            <a:ahLst/>
            <a:rect l="l" t="t" r="r" b="b"/>
            <a:pathLst>
              <a:path w="344" h="292">
                <a:moveTo>
                  <a:pt x="20956" y="15912"/>
                </a:moveTo>
                <a:cubicBezTo>
                  <a:pt x="20953" y="15907"/>
                  <a:pt x="20951" y="15903"/>
                  <a:pt x="20948" y="15898"/>
                </a:cubicBezTo>
                <a:cubicBezTo>
                  <a:pt x="20959" y="15928"/>
                  <a:pt x="20972" y="15957"/>
                  <a:pt x="20984" y="15987"/>
                </a:cubicBezTo>
                <a:cubicBezTo>
                  <a:pt x="21004" y="16036"/>
                  <a:pt x="21026" y="16088"/>
                  <a:pt x="21053" y="16134"/>
                </a:cubicBezTo>
                <a:cubicBezTo>
                  <a:pt x="21070" y="16162"/>
                  <a:pt x="21096" y="16204"/>
                  <a:pt x="21134" y="16182"/>
                </a:cubicBezTo>
                <a:cubicBezTo>
                  <a:pt x="21175" y="16159"/>
                  <a:pt x="21207" y="16093"/>
                  <a:pt x="21226" y="16053"/>
                </a:cubicBezTo>
                <a:cubicBezTo>
                  <a:pt x="21247" y="16009"/>
                  <a:pt x="21269" y="15961"/>
                  <a:pt x="21286" y="15915"/>
                </a:cubicBezTo>
                <a:cubicBezTo>
                  <a:pt x="21288" y="15909"/>
                  <a:pt x="21289" y="15904"/>
                  <a:pt x="21291" y="1589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077840" y="6138720"/>
            <a:ext cx="100080" cy="149400"/>
          </a:xfrm>
          <a:custGeom>
            <a:avLst/>
            <a:gdLst/>
            <a:ahLst/>
            <a:rect l="l" t="t" r="r" b="b"/>
            <a:pathLst>
              <a:path w="278" h="414">
                <a:moveTo>
                  <a:pt x="3026" y="17161"/>
                </a:moveTo>
                <a:cubicBezTo>
                  <a:pt x="3008" y="17148"/>
                  <a:pt x="3000" y="17138"/>
                  <a:pt x="2992" y="17117"/>
                </a:cubicBezTo>
                <a:cubicBezTo>
                  <a:pt x="2995" y="17142"/>
                  <a:pt x="2996" y="17166"/>
                  <a:pt x="2997" y="17191"/>
                </a:cubicBezTo>
                <a:cubicBezTo>
                  <a:pt x="2999" y="17230"/>
                  <a:pt x="2999" y="17281"/>
                  <a:pt x="3019" y="17316"/>
                </a:cubicBezTo>
                <a:cubicBezTo>
                  <a:pt x="3035" y="17343"/>
                  <a:pt x="3068" y="17328"/>
                  <a:pt x="3088" y="17319"/>
                </a:cubicBezTo>
                <a:cubicBezTo>
                  <a:pt x="3122" y="17303"/>
                  <a:pt x="3157" y="17270"/>
                  <a:pt x="3182" y="17242"/>
                </a:cubicBezTo>
                <a:cubicBezTo>
                  <a:pt x="3203" y="17218"/>
                  <a:pt x="3210" y="17196"/>
                  <a:pt x="3220" y="17167"/>
                </a:cubicBezTo>
              </a:path>
              <a:path w="278" h="414">
                <a:moveTo>
                  <a:pt x="3222" y="17053"/>
                </a:moveTo>
                <a:cubicBezTo>
                  <a:pt x="3219" y="17098"/>
                  <a:pt x="3223" y="17141"/>
                  <a:pt x="3223" y="17186"/>
                </a:cubicBezTo>
                <a:cubicBezTo>
                  <a:pt x="3223" y="17244"/>
                  <a:pt x="3223" y="17307"/>
                  <a:pt x="3235" y="17365"/>
                </a:cubicBezTo>
                <a:cubicBezTo>
                  <a:pt x="3242" y="17399"/>
                  <a:pt x="3255" y="17434"/>
                  <a:pt x="3269" y="1746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538280" y="6153120"/>
            <a:ext cx="171360" cy="135000"/>
          </a:xfrm>
          <a:custGeom>
            <a:avLst/>
            <a:gdLst/>
            <a:ahLst/>
            <a:rect l="l" t="t" r="r" b="b"/>
            <a:pathLst>
              <a:path w="478" h="374">
                <a:moveTo>
                  <a:pt x="4475" y="17122"/>
                </a:moveTo>
                <a:cubicBezTo>
                  <a:pt x="4475" y="17117"/>
                  <a:pt x="4474" y="17112"/>
                  <a:pt x="4474" y="17107"/>
                </a:cubicBezTo>
                <a:cubicBezTo>
                  <a:pt x="4472" y="17141"/>
                  <a:pt x="4478" y="17177"/>
                  <a:pt x="4481" y="17212"/>
                </a:cubicBezTo>
                <a:cubicBezTo>
                  <a:pt x="4486" y="17271"/>
                  <a:pt x="4490" y="17330"/>
                  <a:pt x="4494" y="17389"/>
                </a:cubicBezTo>
                <a:cubicBezTo>
                  <a:pt x="4496" y="17422"/>
                  <a:pt x="4513" y="17482"/>
                  <a:pt x="4478" y="17444"/>
                </a:cubicBezTo>
              </a:path>
              <a:path w="478" h="374">
                <a:moveTo>
                  <a:pt x="4281" y="17159"/>
                </a:moveTo>
                <a:cubicBezTo>
                  <a:pt x="4260" y="17180"/>
                  <a:pt x="4323" y="17140"/>
                  <a:pt x="4340" y="17135"/>
                </a:cubicBezTo>
                <a:cubicBezTo>
                  <a:pt x="4416" y="17112"/>
                  <a:pt x="4506" y="17094"/>
                  <a:pt x="4585" y="17093"/>
                </a:cubicBezTo>
                <a:cubicBezTo>
                  <a:pt x="4639" y="17092"/>
                  <a:pt x="4694" y="17103"/>
                  <a:pt x="4748" y="1710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843200" y="6140520"/>
            <a:ext cx="123840" cy="96840"/>
          </a:xfrm>
          <a:custGeom>
            <a:avLst/>
            <a:gdLst/>
            <a:ahLst/>
            <a:rect l="l" t="t" r="r" b="b"/>
            <a:pathLst>
              <a:path w="346" h="272">
                <a:moveTo>
                  <a:pt x="5139" y="17154"/>
                </a:moveTo>
                <a:cubicBezTo>
                  <a:pt x="5133" y="17142"/>
                  <a:pt x="5126" y="17131"/>
                  <a:pt x="5119" y="17120"/>
                </a:cubicBezTo>
                <a:cubicBezTo>
                  <a:pt x="5141" y="17141"/>
                  <a:pt x="5160" y="17165"/>
                  <a:pt x="5179" y="17189"/>
                </a:cubicBezTo>
                <a:cubicBezTo>
                  <a:pt x="5210" y="17227"/>
                  <a:pt x="5238" y="17269"/>
                  <a:pt x="5275" y="17301"/>
                </a:cubicBezTo>
                <a:cubicBezTo>
                  <a:pt x="5307" y="17329"/>
                  <a:pt x="5331" y="17335"/>
                  <a:pt x="5362" y="17303"/>
                </a:cubicBezTo>
                <a:cubicBezTo>
                  <a:pt x="5393" y="17270"/>
                  <a:pt x="5426" y="17211"/>
                  <a:pt x="5439" y="17168"/>
                </a:cubicBezTo>
                <a:cubicBezTo>
                  <a:pt x="5450" y="17133"/>
                  <a:pt x="5457" y="17092"/>
                  <a:pt x="5464" y="1705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22640" y="6093000"/>
            <a:ext cx="136440" cy="177480"/>
          </a:xfrm>
          <a:custGeom>
            <a:avLst/>
            <a:gdLst/>
            <a:ahLst/>
            <a:rect l="l" t="t" r="r" b="b"/>
            <a:pathLst>
              <a:path w="382" h="491">
                <a:moveTo>
                  <a:pt x="6308" y="17018"/>
                </a:moveTo>
                <a:cubicBezTo>
                  <a:pt x="6311" y="17005"/>
                  <a:pt x="6312" y="17001"/>
                  <a:pt x="6311" y="16992"/>
                </a:cubicBezTo>
                <a:cubicBezTo>
                  <a:pt x="6335" y="17013"/>
                  <a:pt x="6338" y="17054"/>
                  <a:pt x="6342" y="17088"/>
                </a:cubicBezTo>
                <a:cubicBezTo>
                  <a:pt x="6349" y="17156"/>
                  <a:pt x="6352" y="17223"/>
                  <a:pt x="6355" y="17291"/>
                </a:cubicBezTo>
                <a:cubicBezTo>
                  <a:pt x="6355" y="17295"/>
                  <a:pt x="6361" y="17414"/>
                  <a:pt x="6352" y="17416"/>
                </a:cubicBezTo>
                <a:cubicBezTo>
                  <a:pt x="6349" y="17412"/>
                  <a:pt x="6347" y="17409"/>
                  <a:pt x="6344" y="17405"/>
                </a:cubicBezTo>
              </a:path>
              <a:path w="382" h="491">
                <a:moveTo>
                  <a:pt x="6181" y="16993"/>
                </a:moveTo>
                <a:cubicBezTo>
                  <a:pt x="6161" y="16997"/>
                  <a:pt x="6246" y="16972"/>
                  <a:pt x="6255" y="16970"/>
                </a:cubicBezTo>
                <a:cubicBezTo>
                  <a:pt x="6324" y="16951"/>
                  <a:pt x="6388" y="16938"/>
                  <a:pt x="6460" y="16932"/>
                </a:cubicBezTo>
                <a:cubicBezTo>
                  <a:pt x="6508" y="16929"/>
                  <a:pt x="6522" y="16928"/>
                  <a:pt x="6553" y="1692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833640" y="6005520"/>
            <a:ext cx="405000" cy="258840"/>
          </a:xfrm>
          <a:custGeom>
            <a:avLst/>
            <a:gdLst/>
            <a:ahLst/>
            <a:rect l="l" t="t" r="r" b="b"/>
            <a:pathLst>
              <a:path w="1124" h="722">
                <a:moveTo>
                  <a:pt x="10773" y="16769"/>
                </a:moveTo>
                <a:cubicBezTo>
                  <a:pt x="10772" y="16751"/>
                  <a:pt x="10773" y="16727"/>
                  <a:pt x="10768" y="16710"/>
                </a:cubicBezTo>
                <a:cubicBezTo>
                  <a:pt x="10761" y="16694"/>
                  <a:pt x="10758" y="16689"/>
                  <a:pt x="10752" y="16680"/>
                </a:cubicBezTo>
                <a:cubicBezTo>
                  <a:pt x="10724" y="16721"/>
                  <a:pt x="10719" y="16767"/>
                  <a:pt x="10707" y="16816"/>
                </a:cubicBezTo>
                <a:cubicBezTo>
                  <a:pt x="10682" y="16916"/>
                  <a:pt x="10663" y="17017"/>
                  <a:pt x="10655" y="17120"/>
                </a:cubicBezTo>
                <a:cubicBezTo>
                  <a:pt x="10649" y="17195"/>
                  <a:pt x="10637" y="17297"/>
                  <a:pt x="10672" y="17368"/>
                </a:cubicBezTo>
                <a:cubicBezTo>
                  <a:pt x="10690" y="17404"/>
                  <a:pt x="10716" y="17398"/>
                  <a:pt x="10749" y="17399"/>
                </a:cubicBezTo>
              </a:path>
              <a:path w="1124" h="722">
                <a:moveTo>
                  <a:pt x="11161" y="17006"/>
                </a:moveTo>
                <a:cubicBezTo>
                  <a:pt x="11151" y="16972"/>
                  <a:pt x="11135" y="16930"/>
                  <a:pt x="11096" y="16954"/>
                </a:cubicBezTo>
                <a:cubicBezTo>
                  <a:pt x="11051" y="16982"/>
                  <a:pt x="11032" y="17045"/>
                  <a:pt x="11020" y="17093"/>
                </a:cubicBezTo>
                <a:cubicBezTo>
                  <a:pt x="11007" y="17143"/>
                  <a:pt x="10994" y="17213"/>
                  <a:pt x="11017" y="17262"/>
                </a:cubicBezTo>
                <a:cubicBezTo>
                  <a:pt x="11022" y="17267"/>
                  <a:pt x="11026" y="17273"/>
                  <a:pt x="11031" y="17278"/>
                </a:cubicBezTo>
                <a:cubicBezTo>
                  <a:pt x="11075" y="17272"/>
                  <a:pt x="11092" y="17249"/>
                  <a:pt x="11118" y="17212"/>
                </a:cubicBezTo>
                <a:cubicBezTo>
                  <a:pt x="11146" y="17171"/>
                  <a:pt x="11164" y="17117"/>
                  <a:pt x="11197" y="17080"/>
                </a:cubicBezTo>
                <a:cubicBezTo>
                  <a:pt x="11225" y="17049"/>
                  <a:pt x="11246" y="17076"/>
                  <a:pt x="11257" y="17103"/>
                </a:cubicBezTo>
                <a:cubicBezTo>
                  <a:pt x="11277" y="17154"/>
                  <a:pt x="11284" y="17210"/>
                  <a:pt x="11298" y="17263"/>
                </a:cubicBezTo>
                <a:cubicBezTo>
                  <a:pt x="11304" y="17287"/>
                  <a:pt x="11311" y="17310"/>
                  <a:pt x="11315" y="17334"/>
                </a:cubicBezTo>
              </a:path>
              <a:path w="1124" h="722">
                <a:moveTo>
                  <a:pt x="11510" y="16969"/>
                </a:moveTo>
                <a:cubicBezTo>
                  <a:pt x="11508" y="16955"/>
                  <a:pt x="11507" y="16951"/>
                  <a:pt x="11504" y="16942"/>
                </a:cubicBezTo>
                <a:cubicBezTo>
                  <a:pt x="11516" y="16966"/>
                  <a:pt x="11527" y="16990"/>
                  <a:pt x="11543" y="17012"/>
                </a:cubicBezTo>
                <a:cubicBezTo>
                  <a:pt x="11565" y="17042"/>
                  <a:pt x="11589" y="17077"/>
                  <a:pt x="11624" y="17093"/>
                </a:cubicBezTo>
                <a:cubicBezTo>
                  <a:pt x="11658" y="17109"/>
                  <a:pt x="11689" y="17089"/>
                  <a:pt x="11709" y="17061"/>
                </a:cubicBezTo>
                <a:cubicBezTo>
                  <a:pt x="11734" y="17025"/>
                  <a:pt x="11738" y="16981"/>
                  <a:pt x="11757" y="16943"/>
                </a:cubicBezTo>
                <a:cubicBezTo>
                  <a:pt x="11766" y="16924"/>
                  <a:pt x="11771" y="16919"/>
                  <a:pt x="11774" y="1689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371840" y="6095880"/>
            <a:ext cx="293760" cy="128880"/>
          </a:xfrm>
          <a:custGeom>
            <a:avLst/>
            <a:gdLst/>
            <a:ahLst/>
            <a:rect l="l" t="t" r="r" b="b"/>
            <a:pathLst>
              <a:path w="815" h="357">
                <a:moveTo>
                  <a:pt x="12179" y="16963"/>
                </a:moveTo>
                <a:cubicBezTo>
                  <a:pt x="12165" y="16959"/>
                  <a:pt x="12158" y="16958"/>
                  <a:pt x="12144" y="16956"/>
                </a:cubicBezTo>
                <a:cubicBezTo>
                  <a:pt x="12162" y="16961"/>
                  <a:pt x="12177" y="16963"/>
                  <a:pt x="12196" y="16962"/>
                </a:cubicBezTo>
                <a:cubicBezTo>
                  <a:pt x="12229" y="16960"/>
                  <a:pt x="12262" y="16955"/>
                  <a:pt x="12295" y="16951"/>
                </a:cubicBezTo>
                <a:cubicBezTo>
                  <a:pt x="12334" y="16946"/>
                  <a:pt x="12372" y="16942"/>
                  <a:pt x="12411" y="16938"/>
                </a:cubicBezTo>
                <a:cubicBezTo>
                  <a:pt x="12440" y="16935"/>
                  <a:pt x="12470" y="16934"/>
                  <a:pt x="12499" y="16935"/>
                </a:cubicBezTo>
                <a:cubicBezTo>
                  <a:pt x="12502" y="16956"/>
                  <a:pt x="12492" y="16970"/>
                  <a:pt x="12481" y="16990"/>
                </a:cubicBezTo>
                <a:cubicBezTo>
                  <a:pt x="12459" y="17029"/>
                  <a:pt x="12433" y="17068"/>
                  <a:pt x="12420" y="17111"/>
                </a:cubicBezTo>
                <a:cubicBezTo>
                  <a:pt x="12412" y="17139"/>
                  <a:pt x="12431" y="17106"/>
                  <a:pt x="12434" y="17102"/>
                </a:cubicBezTo>
              </a:path>
              <a:path w="815" h="357">
                <a:moveTo>
                  <a:pt x="12863" y="16982"/>
                </a:moveTo>
                <a:cubicBezTo>
                  <a:pt x="12862" y="16950"/>
                  <a:pt x="12844" y="16951"/>
                  <a:pt x="12820" y="16963"/>
                </a:cubicBezTo>
                <a:cubicBezTo>
                  <a:pt x="12781" y="16983"/>
                  <a:pt x="12753" y="17024"/>
                  <a:pt x="12733" y="17062"/>
                </a:cubicBezTo>
                <a:cubicBezTo>
                  <a:pt x="12716" y="17094"/>
                  <a:pt x="12696" y="17146"/>
                  <a:pt x="12721" y="17180"/>
                </a:cubicBezTo>
                <a:cubicBezTo>
                  <a:pt x="12742" y="17209"/>
                  <a:pt x="12791" y="17181"/>
                  <a:pt x="12812" y="17168"/>
                </a:cubicBezTo>
                <a:cubicBezTo>
                  <a:pt x="12847" y="17147"/>
                  <a:pt x="12867" y="17110"/>
                  <a:pt x="12900" y="17087"/>
                </a:cubicBezTo>
                <a:cubicBezTo>
                  <a:pt x="12926" y="17068"/>
                  <a:pt x="12937" y="17090"/>
                  <a:pt x="12943" y="17113"/>
                </a:cubicBezTo>
                <a:cubicBezTo>
                  <a:pt x="12954" y="17155"/>
                  <a:pt x="12953" y="17199"/>
                  <a:pt x="12956" y="17242"/>
                </a:cubicBezTo>
                <a:cubicBezTo>
                  <a:pt x="12958" y="17267"/>
                  <a:pt x="12959" y="17274"/>
                  <a:pt x="12956" y="1729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819680" y="6059520"/>
            <a:ext cx="395280" cy="154080"/>
          </a:xfrm>
          <a:custGeom>
            <a:avLst/>
            <a:gdLst/>
            <a:ahLst/>
            <a:rect l="l" t="t" r="r" b="b"/>
            <a:pathLst>
              <a:path w="1100" h="426">
                <a:moveTo>
                  <a:pt x="13388" y="16899"/>
                </a:moveTo>
                <a:cubicBezTo>
                  <a:pt x="13434" y="16883"/>
                  <a:pt x="13478" y="16869"/>
                  <a:pt x="13526" y="16862"/>
                </a:cubicBezTo>
                <a:cubicBezTo>
                  <a:pt x="13589" y="16853"/>
                  <a:pt x="13654" y="16847"/>
                  <a:pt x="13716" y="16864"/>
                </a:cubicBezTo>
                <a:cubicBezTo>
                  <a:pt x="13755" y="16875"/>
                  <a:pt x="13774" y="16886"/>
                  <a:pt x="13773" y="16924"/>
                </a:cubicBezTo>
              </a:path>
              <a:path w="1100" h="426">
                <a:moveTo>
                  <a:pt x="13516" y="17060"/>
                </a:moveTo>
                <a:cubicBezTo>
                  <a:pt x="13507" y="17088"/>
                  <a:pt x="13545" y="17072"/>
                  <a:pt x="13577" y="17068"/>
                </a:cubicBezTo>
                <a:cubicBezTo>
                  <a:pt x="13620" y="17063"/>
                  <a:pt x="13655" y="17061"/>
                  <a:pt x="13698" y="17064"/>
                </a:cubicBezTo>
                <a:cubicBezTo>
                  <a:pt x="13716" y="17065"/>
                  <a:pt x="13721" y="17065"/>
                  <a:pt x="13731" y="17071"/>
                </a:cubicBezTo>
              </a:path>
              <a:path w="1100" h="426">
                <a:moveTo>
                  <a:pt x="13568" y="17162"/>
                </a:moveTo>
                <a:cubicBezTo>
                  <a:pt x="13558" y="17170"/>
                  <a:pt x="13554" y="17172"/>
                  <a:pt x="13547" y="17176"/>
                </a:cubicBezTo>
                <a:cubicBezTo>
                  <a:pt x="13574" y="17188"/>
                  <a:pt x="13620" y="17178"/>
                  <a:pt x="13654" y="17175"/>
                </a:cubicBezTo>
                <a:cubicBezTo>
                  <a:pt x="13713" y="17169"/>
                  <a:pt x="13770" y="17157"/>
                  <a:pt x="13829" y="17153"/>
                </a:cubicBezTo>
                <a:cubicBezTo>
                  <a:pt x="13864" y="17152"/>
                  <a:pt x="13875" y="17152"/>
                  <a:pt x="13898" y="17149"/>
                </a:cubicBezTo>
              </a:path>
              <a:path w="1100" h="426">
                <a:moveTo>
                  <a:pt x="14253" y="16903"/>
                </a:moveTo>
                <a:cubicBezTo>
                  <a:pt x="14266" y="16894"/>
                  <a:pt x="14277" y="16935"/>
                  <a:pt x="14285" y="16960"/>
                </a:cubicBezTo>
                <a:cubicBezTo>
                  <a:pt x="14304" y="17018"/>
                  <a:pt x="14316" y="17075"/>
                  <a:pt x="14331" y="17134"/>
                </a:cubicBezTo>
                <a:cubicBezTo>
                  <a:pt x="14343" y="17180"/>
                  <a:pt x="14351" y="17212"/>
                  <a:pt x="14345" y="17259"/>
                </a:cubicBezTo>
              </a:path>
              <a:path w="1100" h="426">
                <a:moveTo>
                  <a:pt x="14087" y="16834"/>
                </a:moveTo>
                <a:cubicBezTo>
                  <a:pt x="14097" y="16864"/>
                  <a:pt x="14140" y="16853"/>
                  <a:pt x="14178" y="16853"/>
                </a:cubicBezTo>
                <a:cubicBezTo>
                  <a:pt x="14256" y="16852"/>
                  <a:pt x="14339" y="16844"/>
                  <a:pt x="14417" y="16855"/>
                </a:cubicBezTo>
                <a:cubicBezTo>
                  <a:pt x="14446" y="16859"/>
                  <a:pt x="14464" y="16868"/>
                  <a:pt x="14487" y="1688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529240" y="6051600"/>
            <a:ext cx="900000" cy="287280"/>
          </a:xfrm>
          <a:custGeom>
            <a:avLst/>
            <a:gdLst/>
            <a:ahLst/>
            <a:rect l="l" t="t" r="r" b="b"/>
            <a:pathLst>
              <a:path w="2498" h="801">
                <a:moveTo>
                  <a:pt x="15360" y="17088"/>
                </a:moveTo>
                <a:cubicBezTo>
                  <a:pt x="15366" y="17072"/>
                  <a:pt x="15368" y="17068"/>
                  <a:pt x="15370" y="17052"/>
                </a:cubicBezTo>
                <a:cubicBezTo>
                  <a:pt x="15380" y="17078"/>
                  <a:pt x="15379" y="17110"/>
                  <a:pt x="15384" y="17140"/>
                </a:cubicBezTo>
                <a:cubicBezTo>
                  <a:pt x="15394" y="17201"/>
                  <a:pt x="15405" y="17262"/>
                  <a:pt x="15419" y="17322"/>
                </a:cubicBezTo>
                <a:cubicBezTo>
                  <a:pt x="15425" y="17349"/>
                  <a:pt x="15432" y="17372"/>
                  <a:pt x="15445" y="17395"/>
                </a:cubicBezTo>
                <a:cubicBezTo>
                  <a:pt x="15473" y="17346"/>
                  <a:pt x="15481" y="17291"/>
                  <a:pt x="15494" y="17235"/>
                </a:cubicBezTo>
                <a:cubicBezTo>
                  <a:pt x="15513" y="17154"/>
                  <a:pt x="15530" y="17072"/>
                  <a:pt x="15559" y="16994"/>
                </a:cubicBezTo>
                <a:cubicBezTo>
                  <a:pt x="15571" y="16963"/>
                  <a:pt x="15575" y="16950"/>
                  <a:pt x="15602" y="16942"/>
                </a:cubicBezTo>
                <a:cubicBezTo>
                  <a:pt x="15619" y="16995"/>
                  <a:pt x="15624" y="17046"/>
                  <a:pt x="15629" y="17101"/>
                </a:cubicBezTo>
                <a:cubicBezTo>
                  <a:pt x="15634" y="17157"/>
                  <a:pt x="15626" y="17217"/>
                  <a:pt x="15639" y="17272"/>
                </a:cubicBezTo>
                <a:cubicBezTo>
                  <a:pt x="15645" y="17286"/>
                  <a:pt x="15645" y="17290"/>
                  <a:pt x="15656" y="17292"/>
                </a:cubicBezTo>
              </a:path>
              <a:path w="2498" h="801">
                <a:moveTo>
                  <a:pt x="15822" y="17174"/>
                </a:moveTo>
                <a:cubicBezTo>
                  <a:pt x="15858" y="17163"/>
                  <a:pt x="15864" y="17148"/>
                  <a:pt x="15886" y="17121"/>
                </a:cubicBezTo>
                <a:cubicBezTo>
                  <a:pt x="15909" y="17093"/>
                  <a:pt x="15932" y="17067"/>
                  <a:pt x="15948" y="17033"/>
                </a:cubicBezTo>
                <a:cubicBezTo>
                  <a:pt x="15953" y="17019"/>
                  <a:pt x="15956" y="17015"/>
                  <a:pt x="15952" y="17005"/>
                </a:cubicBezTo>
                <a:cubicBezTo>
                  <a:pt x="15924" y="17009"/>
                  <a:pt x="15904" y="17027"/>
                  <a:pt x="15885" y="17048"/>
                </a:cubicBezTo>
                <a:cubicBezTo>
                  <a:pt x="15853" y="17083"/>
                  <a:pt x="15826" y="17125"/>
                  <a:pt x="15815" y="17172"/>
                </a:cubicBezTo>
                <a:cubicBezTo>
                  <a:pt x="15807" y="17205"/>
                  <a:pt x="15812" y="17248"/>
                  <a:pt x="15850" y="17261"/>
                </a:cubicBezTo>
                <a:cubicBezTo>
                  <a:pt x="15890" y="17274"/>
                  <a:pt x="15943" y="17256"/>
                  <a:pt x="15982" y="17247"/>
                </a:cubicBezTo>
              </a:path>
              <a:path w="2498" h="801">
                <a:moveTo>
                  <a:pt x="16274" y="17110"/>
                </a:moveTo>
                <a:cubicBezTo>
                  <a:pt x="16251" y="17090"/>
                  <a:pt x="16245" y="17086"/>
                  <a:pt x="16221" y="17102"/>
                </a:cubicBezTo>
                <a:cubicBezTo>
                  <a:pt x="16186" y="17125"/>
                  <a:pt x="16171" y="17166"/>
                  <a:pt x="16166" y="17207"/>
                </a:cubicBezTo>
                <a:cubicBezTo>
                  <a:pt x="16163" y="17235"/>
                  <a:pt x="16162" y="17287"/>
                  <a:pt x="16192" y="17304"/>
                </a:cubicBezTo>
                <a:cubicBezTo>
                  <a:pt x="16219" y="17319"/>
                  <a:pt x="16253" y="17289"/>
                  <a:pt x="16273" y="17275"/>
                </a:cubicBezTo>
                <a:cubicBezTo>
                  <a:pt x="16291" y="17262"/>
                  <a:pt x="16318" y="17238"/>
                  <a:pt x="16339" y="17262"/>
                </a:cubicBezTo>
                <a:cubicBezTo>
                  <a:pt x="16370" y="17297"/>
                  <a:pt x="16370" y="17370"/>
                  <a:pt x="16371" y="17413"/>
                </a:cubicBezTo>
                <a:cubicBezTo>
                  <a:pt x="16373" y="17497"/>
                  <a:pt x="16357" y="17578"/>
                  <a:pt x="16270" y="17609"/>
                </a:cubicBezTo>
                <a:cubicBezTo>
                  <a:pt x="16225" y="17625"/>
                  <a:pt x="16184" y="17541"/>
                  <a:pt x="16175" y="17512"/>
                </a:cubicBezTo>
                <a:cubicBezTo>
                  <a:pt x="16166" y="17468"/>
                  <a:pt x="16163" y="17454"/>
                  <a:pt x="16164" y="17424"/>
                </a:cubicBezTo>
              </a:path>
              <a:path w="2498" h="801">
                <a:moveTo>
                  <a:pt x="16555" y="17100"/>
                </a:moveTo>
                <a:cubicBezTo>
                  <a:pt x="16580" y="17089"/>
                  <a:pt x="16551" y="17137"/>
                  <a:pt x="16544" y="17160"/>
                </a:cubicBezTo>
                <a:cubicBezTo>
                  <a:pt x="16534" y="17196"/>
                  <a:pt x="16527" y="17239"/>
                  <a:pt x="16532" y="17276"/>
                </a:cubicBezTo>
                <a:cubicBezTo>
                  <a:pt x="16536" y="17292"/>
                  <a:pt x="16536" y="17296"/>
                  <a:pt x="16547" y="17299"/>
                </a:cubicBezTo>
                <a:cubicBezTo>
                  <a:pt x="16579" y="17291"/>
                  <a:pt x="16586" y="17272"/>
                  <a:pt x="16610" y="17250"/>
                </a:cubicBezTo>
                <a:cubicBezTo>
                  <a:pt x="16633" y="17229"/>
                  <a:pt x="16658" y="17212"/>
                  <a:pt x="16689" y="17219"/>
                </a:cubicBezTo>
                <a:cubicBezTo>
                  <a:pt x="16727" y="17227"/>
                  <a:pt x="16755" y="17264"/>
                  <a:pt x="16779" y="17291"/>
                </a:cubicBezTo>
                <a:cubicBezTo>
                  <a:pt x="16792" y="17306"/>
                  <a:pt x="16802" y="17320"/>
                  <a:pt x="16817" y="17333"/>
                </a:cubicBezTo>
              </a:path>
              <a:path w="2498" h="801">
                <a:moveTo>
                  <a:pt x="16808" y="16809"/>
                </a:moveTo>
                <a:cubicBezTo>
                  <a:pt x="16825" y="16858"/>
                  <a:pt x="16831" y="16909"/>
                  <a:pt x="16840" y="16960"/>
                </a:cubicBezTo>
                <a:cubicBezTo>
                  <a:pt x="16855" y="17045"/>
                  <a:pt x="16871" y="17130"/>
                  <a:pt x="16889" y="17215"/>
                </a:cubicBezTo>
                <a:cubicBezTo>
                  <a:pt x="16897" y="17253"/>
                  <a:pt x="16904" y="17289"/>
                  <a:pt x="16900" y="17327"/>
                </a:cubicBezTo>
              </a:path>
              <a:path w="2498" h="801">
                <a:moveTo>
                  <a:pt x="16766" y="17125"/>
                </a:moveTo>
                <a:cubicBezTo>
                  <a:pt x="16765" y="17121"/>
                  <a:pt x="16764" y="17116"/>
                  <a:pt x="16763" y="17112"/>
                </a:cubicBezTo>
                <a:cubicBezTo>
                  <a:pt x="16786" y="17100"/>
                  <a:pt x="16812" y="17108"/>
                  <a:pt x="16843" y="17111"/>
                </a:cubicBezTo>
                <a:cubicBezTo>
                  <a:pt x="16892" y="17115"/>
                  <a:pt x="16945" y="17115"/>
                  <a:pt x="16994" y="17112"/>
                </a:cubicBezTo>
                <a:cubicBezTo>
                  <a:pt x="17024" y="17108"/>
                  <a:pt x="17034" y="17107"/>
                  <a:pt x="17053" y="17102"/>
                </a:cubicBezTo>
              </a:path>
              <a:path w="2498" h="801">
                <a:moveTo>
                  <a:pt x="17106" y="17128"/>
                </a:moveTo>
                <a:cubicBezTo>
                  <a:pt x="17106" y="17163"/>
                  <a:pt x="17107" y="17203"/>
                  <a:pt x="17117" y="17237"/>
                </a:cubicBezTo>
                <a:cubicBezTo>
                  <a:pt x="17125" y="17256"/>
                  <a:pt x="17127" y="17262"/>
                  <a:pt x="17132" y="17275"/>
                </a:cubicBezTo>
              </a:path>
              <a:path w="2498" h="801">
                <a:moveTo>
                  <a:pt x="17392" y="17068"/>
                </a:moveTo>
                <a:cubicBezTo>
                  <a:pt x="17374" y="17082"/>
                  <a:pt x="17337" y="17105"/>
                  <a:pt x="17326" y="17124"/>
                </a:cubicBezTo>
                <a:cubicBezTo>
                  <a:pt x="17309" y="17154"/>
                  <a:pt x="17293" y="17200"/>
                  <a:pt x="17295" y="17235"/>
                </a:cubicBezTo>
                <a:cubicBezTo>
                  <a:pt x="17297" y="17267"/>
                  <a:pt x="17317" y="17286"/>
                  <a:pt x="17348" y="17276"/>
                </a:cubicBezTo>
                <a:cubicBezTo>
                  <a:pt x="17385" y="17265"/>
                  <a:pt x="17419" y="17227"/>
                  <a:pt x="17444" y="17199"/>
                </a:cubicBezTo>
                <a:cubicBezTo>
                  <a:pt x="17467" y="17173"/>
                  <a:pt x="17498" y="17140"/>
                  <a:pt x="17517" y="17112"/>
                </a:cubicBezTo>
                <a:cubicBezTo>
                  <a:pt x="17532" y="17090"/>
                  <a:pt x="17532" y="17086"/>
                  <a:pt x="17560" y="17093"/>
                </a:cubicBezTo>
              </a:path>
              <a:path w="2498" h="801">
                <a:moveTo>
                  <a:pt x="17597" y="17138"/>
                </a:moveTo>
                <a:cubicBezTo>
                  <a:pt x="17605" y="17148"/>
                  <a:pt x="17621" y="17180"/>
                  <a:pt x="17638" y="17177"/>
                </a:cubicBezTo>
                <a:cubicBezTo>
                  <a:pt x="17665" y="17173"/>
                  <a:pt x="17680" y="17148"/>
                  <a:pt x="17702" y="17135"/>
                </a:cubicBezTo>
                <a:cubicBezTo>
                  <a:pt x="17719" y="17125"/>
                  <a:pt x="17744" y="17114"/>
                  <a:pt x="17761" y="17131"/>
                </a:cubicBezTo>
                <a:cubicBezTo>
                  <a:pt x="17785" y="17154"/>
                  <a:pt x="17793" y="17194"/>
                  <a:pt x="17806" y="17223"/>
                </a:cubicBezTo>
                <a:cubicBezTo>
                  <a:pt x="17813" y="17239"/>
                  <a:pt x="17828" y="17275"/>
                  <a:pt x="17847" y="17281"/>
                </a:cubicBezTo>
                <a:cubicBezTo>
                  <a:pt x="17850" y="17281"/>
                  <a:pt x="17854" y="17280"/>
                  <a:pt x="17857" y="1728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597720" y="6016680"/>
            <a:ext cx="504720" cy="253800"/>
          </a:xfrm>
          <a:custGeom>
            <a:avLst/>
            <a:gdLst/>
            <a:ahLst/>
            <a:rect l="l" t="t" r="r" b="b"/>
            <a:pathLst>
              <a:path w="1403" h="703">
                <a:moveTo>
                  <a:pt x="18326" y="16852"/>
                </a:moveTo>
                <a:cubicBezTo>
                  <a:pt x="18343" y="16844"/>
                  <a:pt x="18326" y="16912"/>
                  <a:pt x="18326" y="16937"/>
                </a:cubicBezTo>
                <a:cubicBezTo>
                  <a:pt x="18326" y="17027"/>
                  <a:pt x="18319" y="17130"/>
                  <a:pt x="18337" y="17219"/>
                </a:cubicBezTo>
                <a:cubicBezTo>
                  <a:pt x="18346" y="17262"/>
                  <a:pt x="18357" y="17301"/>
                  <a:pt x="18398" y="17312"/>
                </a:cubicBezTo>
              </a:path>
              <a:path w="1403" h="703">
                <a:moveTo>
                  <a:pt x="18597" y="17022"/>
                </a:moveTo>
                <a:cubicBezTo>
                  <a:pt x="18581" y="17006"/>
                  <a:pt x="18559" y="16995"/>
                  <a:pt x="18537" y="17015"/>
                </a:cubicBezTo>
                <a:cubicBezTo>
                  <a:pt x="18507" y="17042"/>
                  <a:pt x="18493" y="17091"/>
                  <a:pt x="18492" y="17130"/>
                </a:cubicBezTo>
                <a:cubicBezTo>
                  <a:pt x="18491" y="17167"/>
                  <a:pt x="18504" y="17223"/>
                  <a:pt x="18540" y="17243"/>
                </a:cubicBezTo>
                <a:cubicBezTo>
                  <a:pt x="18575" y="17263"/>
                  <a:pt x="18614" y="17226"/>
                  <a:pt x="18633" y="17201"/>
                </a:cubicBezTo>
                <a:cubicBezTo>
                  <a:pt x="18662" y="17164"/>
                  <a:pt x="18673" y="17118"/>
                  <a:pt x="18692" y="17076"/>
                </a:cubicBezTo>
                <a:cubicBezTo>
                  <a:pt x="18700" y="17059"/>
                  <a:pt x="18702" y="17054"/>
                  <a:pt x="18710" y="17046"/>
                </a:cubicBezTo>
                <a:cubicBezTo>
                  <a:pt x="18731" y="17074"/>
                  <a:pt x="18737" y="17108"/>
                  <a:pt x="18751" y="17142"/>
                </a:cubicBezTo>
                <a:cubicBezTo>
                  <a:pt x="18766" y="17178"/>
                  <a:pt x="18784" y="17229"/>
                  <a:pt x="18817" y="17253"/>
                </a:cubicBezTo>
                <a:cubicBezTo>
                  <a:pt x="18823" y="17256"/>
                  <a:pt x="18829" y="17258"/>
                  <a:pt x="18835" y="17261"/>
                </a:cubicBezTo>
              </a:path>
              <a:path w="1403" h="703">
                <a:moveTo>
                  <a:pt x="18946" y="17098"/>
                </a:moveTo>
                <a:cubicBezTo>
                  <a:pt x="18937" y="17128"/>
                  <a:pt x="18934" y="17158"/>
                  <a:pt x="18935" y="17190"/>
                </a:cubicBezTo>
                <a:cubicBezTo>
                  <a:pt x="18936" y="17209"/>
                  <a:pt x="18933" y="17259"/>
                  <a:pt x="18949" y="17274"/>
                </a:cubicBezTo>
                <a:cubicBezTo>
                  <a:pt x="18953" y="17275"/>
                  <a:pt x="18956" y="17276"/>
                  <a:pt x="18960" y="17277"/>
                </a:cubicBezTo>
                <a:cubicBezTo>
                  <a:pt x="18982" y="17253"/>
                  <a:pt x="18993" y="17227"/>
                  <a:pt x="19005" y="17196"/>
                </a:cubicBezTo>
                <a:cubicBezTo>
                  <a:pt x="19016" y="17169"/>
                  <a:pt x="19026" y="17112"/>
                  <a:pt x="19048" y="17092"/>
                </a:cubicBezTo>
                <a:cubicBezTo>
                  <a:pt x="19054" y="17090"/>
                  <a:pt x="19060" y="17087"/>
                  <a:pt x="19066" y="17085"/>
                </a:cubicBezTo>
                <a:cubicBezTo>
                  <a:pt x="19085" y="17112"/>
                  <a:pt x="19092" y="17140"/>
                  <a:pt x="19106" y="17169"/>
                </a:cubicBezTo>
                <a:cubicBezTo>
                  <a:pt x="19112" y="17182"/>
                  <a:pt x="19130" y="17233"/>
                  <a:pt x="19153" y="17229"/>
                </a:cubicBezTo>
                <a:cubicBezTo>
                  <a:pt x="19177" y="17225"/>
                  <a:pt x="19195" y="17174"/>
                  <a:pt x="19202" y="17156"/>
                </a:cubicBezTo>
                <a:cubicBezTo>
                  <a:pt x="19216" y="17124"/>
                  <a:pt x="19231" y="17096"/>
                  <a:pt x="19244" y="17064"/>
                </a:cubicBezTo>
                <a:cubicBezTo>
                  <a:pt x="19249" y="17052"/>
                  <a:pt x="19251" y="17039"/>
                  <a:pt x="19256" y="17026"/>
                </a:cubicBezTo>
              </a:path>
              <a:path w="1403" h="703">
                <a:moveTo>
                  <a:pt x="19520" y="16770"/>
                </a:moveTo>
                <a:cubicBezTo>
                  <a:pt x="19520" y="16745"/>
                  <a:pt x="19520" y="16737"/>
                  <a:pt x="19524" y="16721"/>
                </a:cubicBezTo>
                <a:cubicBezTo>
                  <a:pt x="19571" y="16734"/>
                  <a:pt x="19580" y="16738"/>
                  <a:pt x="19609" y="16796"/>
                </a:cubicBezTo>
                <a:cubicBezTo>
                  <a:pt x="19666" y="16911"/>
                  <a:pt x="19704" y="17041"/>
                  <a:pt x="19720" y="17168"/>
                </a:cubicBezTo>
                <a:cubicBezTo>
                  <a:pt x="19729" y="17238"/>
                  <a:pt x="19740" y="17324"/>
                  <a:pt x="19713" y="17392"/>
                </a:cubicBezTo>
                <a:cubicBezTo>
                  <a:pt x="19700" y="17411"/>
                  <a:pt x="19698" y="17417"/>
                  <a:pt x="19682" y="1741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84400" y="6364440"/>
            <a:ext cx="139680" cy="160200"/>
          </a:xfrm>
          <a:custGeom>
            <a:avLst/>
            <a:gdLst/>
            <a:ahLst/>
            <a:rect l="l" t="t" r="r" b="b"/>
            <a:pathLst>
              <a:path w="389" h="446">
                <a:moveTo>
                  <a:pt x="3527" y="17720"/>
                </a:moveTo>
                <a:cubicBezTo>
                  <a:pt x="3444" y="17672"/>
                  <a:pt x="3391" y="17666"/>
                  <a:pt x="3333" y="17759"/>
                </a:cubicBezTo>
                <a:cubicBezTo>
                  <a:pt x="3304" y="17822"/>
                  <a:pt x="3294" y="17841"/>
                  <a:pt x="3288" y="17886"/>
                </a:cubicBezTo>
                <a:cubicBezTo>
                  <a:pt x="3361" y="17897"/>
                  <a:pt x="3463" y="17851"/>
                  <a:pt x="3526" y="17908"/>
                </a:cubicBezTo>
                <a:cubicBezTo>
                  <a:pt x="3593" y="17969"/>
                  <a:pt x="3575" y="18091"/>
                  <a:pt x="3490" y="18123"/>
                </a:cubicBezTo>
                <a:cubicBezTo>
                  <a:pt x="3411" y="18153"/>
                  <a:pt x="3390" y="18068"/>
                  <a:pt x="3362" y="18020"/>
                </a:cubicBezTo>
              </a:path>
              <a:path w="389" h="446">
                <a:moveTo>
                  <a:pt x="3442" y="17731"/>
                </a:moveTo>
                <a:cubicBezTo>
                  <a:pt x="3534" y="17712"/>
                  <a:pt x="3586" y="17705"/>
                  <a:pt x="3676" y="1773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701720" y="6392880"/>
            <a:ext cx="198360" cy="187200"/>
          </a:xfrm>
          <a:custGeom>
            <a:avLst/>
            <a:gdLst/>
            <a:ahLst/>
            <a:rect l="l" t="t" r="r" b="b"/>
            <a:pathLst>
              <a:path w="553" h="521">
                <a:moveTo>
                  <a:pt x="4975" y="17760"/>
                </a:moveTo>
                <a:cubicBezTo>
                  <a:pt x="4986" y="17850"/>
                  <a:pt x="4990" y="17939"/>
                  <a:pt x="4993" y="18030"/>
                </a:cubicBezTo>
                <a:cubicBezTo>
                  <a:pt x="4996" y="18113"/>
                  <a:pt x="5000" y="18195"/>
                  <a:pt x="4996" y="18277"/>
                </a:cubicBezTo>
              </a:path>
              <a:path w="553" h="521">
                <a:moveTo>
                  <a:pt x="4726" y="17768"/>
                </a:moveTo>
                <a:cubicBezTo>
                  <a:pt x="4823" y="17770"/>
                  <a:pt x="4916" y="17760"/>
                  <a:pt x="5013" y="17757"/>
                </a:cubicBezTo>
                <a:cubicBezTo>
                  <a:pt x="5082" y="17755"/>
                  <a:pt x="5156" y="17758"/>
                  <a:pt x="5222" y="17778"/>
                </a:cubicBezTo>
                <a:cubicBezTo>
                  <a:pt x="5241" y="17785"/>
                  <a:pt x="5259" y="17791"/>
                  <a:pt x="5278" y="1779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1406880" y="76320"/>
            <a:ext cx="65876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0000"/>
                </a:solidFill>
                <a:latin typeface="Arial"/>
              </a:rPr>
              <a:t>Predicates and Qualifier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37840" y="1143000"/>
            <a:ext cx="289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al quantifier, For 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13440" y="1981080"/>
            <a:ext cx="359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istential quantifier, There ex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65120" y="2971800"/>
            <a:ext cx="673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gating, translating to sentences, nesting, showing equival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790640" y="3552840"/>
            <a:ext cx="636480" cy="263520"/>
          </a:xfrm>
          <a:custGeom>
            <a:avLst/>
            <a:gdLst/>
            <a:ahLst/>
            <a:rect l="l" t="t" r="r" b="b"/>
            <a:pathLst>
              <a:path w="1768" h="731">
                <a:moveTo>
                  <a:pt x="5257" y="13384"/>
                </a:moveTo>
                <a:cubicBezTo>
                  <a:pt x="5271" y="13353"/>
                  <a:pt x="5283" y="13339"/>
                  <a:pt x="5250" y="13318"/>
                </a:cubicBezTo>
                <a:cubicBezTo>
                  <a:pt x="5230" y="13305"/>
                  <a:pt x="5196" y="13318"/>
                  <a:pt x="5178" y="13328"/>
                </a:cubicBezTo>
                <a:cubicBezTo>
                  <a:pt x="5125" y="13356"/>
                  <a:pt x="5080" y="13404"/>
                  <a:pt x="5047" y="13454"/>
                </a:cubicBezTo>
                <a:cubicBezTo>
                  <a:pt x="5033" y="13475"/>
                  <a:pt x="5008" y="13508"/>
                  <a:pt x="5008" y="13535"/>
                </a:cubicBezTo>
                <a:cubicBezTo>
                  <a:pt x="5008" y="13569"/>
                  <a:pt x="5040" y="13569"/>
                  <a:pt x="5065" y="13576"/>
                </a:cubicBezTo>
                <a:cubicBezTo>
                  <a:pt x="5100" y="13586"/>
                  <a:pt x="5137" y="13593"/>
                  <a:pt x="5169" y="13611"/>
                </a:cubicBezTo>
                <a:cubicBezTo>
                  <a:pt x="5214" y="13637"/>
                  <a:pt x="5251" y="13674"/>
                  <a:pt x="5260" y="13727"/>
                </a:cubicBezTo>
                <a:cubicBezTo>
                  <a:pt x="5268" y="13773"/>
                  <a:pt x="5253" y="13819"/>
                  <a:pt x="5229" y="13858"/>
                </a:cubicBezTo>
                <a:cubicBezTo>
                  <a:pt x="5201" y="13902"/>
                  <a:pt x="5160" y="13938"/>
                  <a:pt x="5114" y="13963"/>
                </a:cubicBezTo>
                <a:cubicBezTo>
                  <a:pt x="5078" y="13983"/>
                  <a:pt x="5015" y="14004"/>
                  <a:pt x="4987" y="13960"/>
                </a:cubicBezTo>
                <a:cubicBezTo>
                  <a:pt x="4967" y="13928"/>
                  <a:pt x="4976" y="13886"/>
                  <a:pt x="4986" y="13853"/>
                </a:cubicBezTo>
                <a:cubicBezTo>
                  <a:pt x="4997" y="13822"/>
                  <a:pt x="5002" y="13811"/>
                  <a:pt x="5015" y="13793"/>
                </a:cubicBezTo>
              </a:path>
              <a:path w="1768" h="731">
                <a:moveTo>
                  <a:pt x="5392" y="13292"/>
                </a:moveTo>
                <a:cubicBezTo>
                  <a:pt x="5392" y="13273"/>
                  <a:pt x="5392" y="13267"/>
                  <a:pt x="5395" y="13255"/>
                </a:cubicBezTo>
                <a:cubicBezTo>
                  <a:pt x="5413" y="13295"/>
                  <a:pt x="5421" y="13342"/>
                  <a:pt x="5428" y="13386"/>
                </a:cubicBezTo>
                <a:cubicBezTo>
                  <a:pt x="5442" y="13476"/>
                  <a:pt x="5453" y="13567"/>
                  <a:pt x="5461" y="13658"/>
                </a:cubicBezTo>
                <a:cubicBezTo>
                  <a:pt x="5468" y="13737"/>
                  <a:pt x="5478" y="13815"/>
                  <a:pt x="5478" y="13894"/>
                </a:cubicBezTo>
                <a:cubicBezTo>
                  <a:pt x="5498" y="13844"/>
                  <a:pt x="5506" y="13792"/>
                  <a:pt x="5522" y="13741"/>
                </a:cubicBezTo>
                <a:cubicBezTo>
                  <a:pt x="5539" y="13685"/>
                  <a:pt x="5569" y="13582"/>
                  <a:pt x="5626" y="13551"/>
                </a:cubicBezTo>
                <a:cubicBezTo>
                  <a:pt x="5668" y="13528"/>
                  <a:pt x="5701" y="13580"/>
                  <a:pt x="5717" y="13609"/>
                </a:cubicBezTo>
                <a:cubicBezTo>
                  <a:pt x="5749" y="13667"/>
                  <a:pt x="5762" y="13734"/>
                  <a:pt x="5779" y="13797"/>
                </a:cubicBezTo>
                <a:cubicBezTo>
                  <a:pt x="5791" y="13842"/>
                  <a:pt x="5794" y="13887"/>
                  <a:pt x="5807" y="13931"/>
                </a:cubicBezTo>
              </a:path>
              <a:path w="1768" h="731">
                <a:moveTo>
                  <a:pt x="5980" y="13597"/>
                </a:moveTo>
                <a:cubicBezTo>
                  <a:pt x="5959" y="13575"/>
                  <a:pt x="5962" y="13635"/>
                  <a:pt x="5956" y="13668"/>
                </a:cubicBezTo>
                <a:cubicBezTo>
                  <a:pt x="5945" y="13728"/>
                  <a:pt x="5935" y="13786"/>
                  <a:pt x="5933" y="13847"/>
                </a:cubicBezTo>
                <a:cubicBezTo>
                  <a:pt x="5932" y="13872"/>
                  <a:pt x="5924" y="13945"/>
                  <a:pt x="5962" y="13954"/>
                </a:cubicBezTo>
                <a:cubicBezTo>
                  <a:pt x="5998" y="13962"/>
                  <a:pt x="6043" y="13905"/>
                  <a:pt x="6060" y="13882"/>
                </a:cubicBezTo>
                <a:cubicBezTo>
                  <a:pt x="6091" y="13841"/>
                  <a:pt x="6123" y="13788"/>
                  <a:pt x="6135" y="13737"/>
                </a:cubicBezTo>
                <a:cubicBezTo>
                  <a:pt x="6142" y="13709"/>
                  <a:pt x="6147" y="13667"/>
                  <a:pt x="6131" y="13641"/>
                </a:cubicBezTo>
                <a:cubicBezTo>
                  <a:pt x="6117" y="13618"/>
                  <a:pt x="6091" y="13606"/>
                  <a:pt x="6067" y="13598"/>
                </a:cubicBezTo>
                <a:cubicBezTo>
                  <a:pt x="6063" y="13597"/>
                  <a:pt x="6058" y="13596"/>
                  <a:pt x="6054" y="13595"/>
                </a:cubicBezTo>
              </a:path>
              <a:path w="1768" h="731">
                <a:moveTo>
                  <a:pt x="6272" y="13639"/>
                </a:moveTo>
                <a:cubicBezTo>
                  <a:pt x="6281" y="13675"/>
                  <a:pt x="6285" y="13714"/>
                  <a:pt x="6295" y="13750"/>
                </a:cubicBezTo>
                <a:cubicBezTo>
                  <a:pt x="6307" y="13794"/>
                  <a:pt x="6321" y="13838"/>
                  <a:pt x="6339" y="13879"/>
                </a:cubicBezTo>
                <a:cubicBezTo>
                  <a:pt x="6348" y="13898"/>
                  <a:pt x="6351" y="13904"/>
                  <a:pt x="6357" y="13916"/>
                </a:cubicBezTo>
                <a:cubicBezTo>
                  <a:pt x="6390" y="13903"/>
                  <a:pt x="6398" y="13865"/>
                  <a:pt x="6413" y="13826"/>
                </a:cubicBezTo>
                <a:cubicBezTo>
                  <a:pt x="6430" y="13782"/>
                  <a:pt x="6450" y="13742"/>
                  <a:pt x="6487" y="13711"/>
                </a:cubicBezTo>
                <a:cubicBezTo>
                  <a:pt x="6521" y="13683"/>
                  <a:pt x="6542" y="13724"/>
                  <a:pt x="6555" y="13752"/>
                </a:cubicBezTo>
                <a:cubicBezTo>
                  <a:pt x="6582" y="13811"/>
                  <a:pt x="6584" y="13880"/>
                  <a:pt x="6618" y="13935"/>
                </a:cubicBezTo>
                <a:cubicBezTo>
                  <a:pt x="6623" y="13941"/>
                  <a:pt x="6627" y="13946"/>
                  <a:pt x="6632" y="13952"/>
                </a:cubicBezTo>
                <a:cubicBezTo>
                  <a:pt x="6670" y="13952"/>
                  <a:pt x="6677" y="13924"/>
                  <a:pt x="6693" y="13891"/>
                </a:cubicBezTo>
                <a:cubicBezTo>
                  <a:pt x="6713" y="13850"/>
                  <a:pt x="6738" y="13793"/>
                  <a:pt x="6741" y="13747"/>
                </a:cubicBezTo>
                <a:cubicBezTo>
                  <a:pt x="6744" y="13706"/>
                  <a:pt x="6741" y="13684"/>
                  <a:pt x="6713" y="13658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754360" y="3532320"/>
            <a:ext cx="352440" cy="326880"/>
          </a:xfrm>
          <a:custGeom>
            <a:avLst/>
            <a:gdLst/>
            <a:ahLst/>
            <a:rect l="l" t="t" r="r" b="b"/>
            <a:pathLst>
              <a:path w="976" h="907">
                <a:moveTo>
                  <a:pt x="7699" y="13321"/>
                </a:moveTo>
                <a:cubicBezTo>
                  <a:pt x="7687" y="13294"/>
                  <a:pt x="7676" y="13266"/>
                  <a:pt x="7663" y="13239"/>
                </a:cubicBezTo>
                <a:cubicBezTo>
                  <a:pt x="7659" y="13232"/>
                  <a:pt x="7656" y="13224"/>
                  <a:pt x="7652" y="13217"/>
                </a:cubicBezTo>
                <a:cubicBezTo>
                  <a:pt x="7675" y="13294"/>
                  <a:pt x="7692" y="13373"/>
                  <a:pt x="7710" y="13451"/>
                </a:cubicBezTo>
                <a:cubicBezTo>
                  <a:pt x="7752" y="13638"/>
                  <a:pt x="7780" y="13836"/>
                  <a:pt x="7882" y="14002"/>
                </a:cubicBezTo>
                <a:cubicBezTo>
                  <a:pt x="7902" y="14034"/>
                  <a:pt x="7911" y="14032"/>
                  <a:pt x="7938" y="14051"/>
                </a:cubicBezTo>
                <a:cubicBezTo>
                  <a:pt x="7958" y="14016"/>
                  <a:pt x="7963" y="13995"/>
                  <a:pt x="7966" y="13949"/>
                </a:cubicBezTo>
                <a:cubicBezTo>
                  <a:pt x="7972" y="13856"/>
                  <a:pt x="7976" y="13763"/>
                  <a:pt x="7981" y="13670"/>
                </a:cubicBezTo>
                <a:cubicBezTo>
                  <a:pt x="7987" y="13540"/>
                  <a:pt x="7999" y="13411"/>
                  <a:pt x="8015" y="13281"/>
                </a:cubicBezTo>
                <a:cubicBezTo>
                  <a:pt x="8016" y="13274"/>
                  <a:pt x="8043" y="13177"/>
                  <a:pt x="8025" y="13213"/>
                </a:cubicBezTo>
                <a:cubicBezTo>
                  <a:pt x="8018" y="13233"/>
                  <a:pt x="8016" y="13241"/>
                  <a:pt x="8010" y="13255"/>
                </a:cubicBezTo>
              </a:path>
              <a:path w="976" h="907">
                <a:moveTo>
                  <a:pt x="7796" y="13636"/>
                </a:moveTo>
                <a:cubicBezTo>
                  <a:pt x="7820" y="13653"/>
                  <a:pt x="7845" y="13646"/>
                  <a:pt x="7878" y="13647"/>
                </a:cubicBezTo>
                <a:cubicBezTo>
                  <a:pt x="7932" y="13649"/>
                  <a:pt x="7985" y="13657"/>
                  <a:pt x="8039" y="13662"/>
                </a:cubicBezTo>
                <a:cubicBezTo>
                  <a:pt x="8081" y="13666"/>
                  <a:pt x="8122" y="13669"/>
                  <a:pt x="8164" y="13664"/>
                </a:cubicBezTo>
              </a:path>
              <a:path w="976" h="907">
                <a:moveTo>
                  <a:pt x="8275" y="13551"/>
                </a:moveTo>
                <a:cubicBezTo>
                  <a:pt x="8295" y="13583"/>
                  <a:pt x="8307" y="13617"/>
                  <a:pt x="8325" y="13650"/>
                </a:cubicBezTo>
                <a:cubicBezTo>
                  <a:pt x="8360" y="13714"/>
                  <a:pt x="8398" y="13776"/>
                  <a:pt x="8443" y="13834"/>
                </a:cubicBezTo>
                <a:cubicBezTo>
                  <a:pt x="8480" y="13881"/>
                  <a:pt x="8521" y="13932"/>
                  <a:pt x="8571" y="13966"/>
                </a:cubicBezTo>
                <a:cubicBezTo>
                  <a:pt x="8596" y="13983"/>
                  <a:pt x="8602" y="13980"/>
                  <a:pt x="8627" y="13973"/>
                </a:cubicBezTo>
              </a:path>
              <a:path w="976" h="907">
                <a:moveTo>
                  <a:pt x="8580" y="13579"/>
                </a:moveTo>
                <a:cubicBezTo>
                  <a:pt x="8530" y="13561"/>
                  <a:pt x="8532" y="13610"/>
                  <a:pt x="8506" y="13650"/>
                </a:cubicBezTo>
                <a:cubicBezTo>
                  <a:pt x="8454" y="13730"/>
                  <a:pt x="8409" y="13814"/>
                  <a:pt x="8369" y="13902"/>
                </a:cubicBezTo>
                <a:cubicBezTo>
                  <a:pt x="8357" y="13929"/>
                  <a:pt x="8274" y="14073"/>
                  <a:pt x="8289" y="14104"/>
                </a:cubicBezTo>
                <a:cubicBezTo>
                  <a:pt x="8295" y="14100"/>
                  <a:pt x="8302" y="14097"/>
                  <a:pt x="8308" y="14093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49720" y="3546360"/>
            <a:ext cx="583920" cy="319320"/>
          </a:xfrm>
          <a:custGeom>
            <a:avLst/>
            <a:gdLst/>
            <a:ahLst/>
            <a:rect l="l" t="t" r="r" b="b"/>
            <a:pathLst>
              <a:path w="1624" h="886">
                <a:moveTo>
                  <a:pt x="9144" y="13306"/>
                </a:moveTo>
                <a:cubicBezTo>
                  <a:pt x="9128" y="13279"/>
                  <a:pt x="9116" y="13261"/>
                  <a:pt x="9093" y="13240"/>
                </a:cubicBezTo>
                <a:cubicBezTo>
                  <a:pt x="9059" y="13270"/>
                  <a:pt x="9060" y="13308"/>
                  <a:pt x="9053" y="13356"/>
                </a:cubicBezTo>
                <a:cubicBezTo>
                  <a:pt x="9039" y="13451"/>
                  <a:pt x="9033" y="13546"/>
                  <a:pt x="9029" y="13642"/>
                </a:cubicBezTo>
                <a:cubicBezTo>
                  <a:pt x="9025" y="13744"/>
                  <a:pt x="9019" y="13847"/>
                  <a:pt x="9045" y="13947"/>
                </a:cubicBezTo>
                <a:cubicBezTo>
                  <a:pt x="9060" y="14007"/>
                  <a:pt x="9085" y="14078"/>
                  <a:pt x="9147" y="14105"/>
                </a:cubicBezTo>
                <a:cubicBezTo>
                  <a:pt x="9180" y="14111"/>
                  <a:pt x="9191" y="14113"/>
                  <a:pt x="9214" y="14111"/>
                </a:cubicBezTo>
              </a:path>
              <a:path w="1624" h="886">
                <a:moveTo>
                  <a:pt x="9420" y="13454"/>
                </a:moveTo>
                <a:cubicBezTo>
                  <a:pt x="9438" y="13497"/>
                  <a:pt x="9444" y="13550"/>
                  <a:pt x="9453" y="13597"/>
                </a:cubicBezTo>
                <a:cubicBezTo>
                  <a:pt x="9470" y="13687"/>
                  <a:pt x="9490" y="13776"/>
                  <a:pt x="9509" y="13866"/>
                </a:cubicBezTo>
                <a:cubicBezTo>
                  <a:pt x="9520" y="13919"/>
                  <a:pt x="9530" y="13972"/>
                  <a:pt x="9536" y="14026"/>
                </a:cubicBezTo>
                <a:cubicBezTo>
                  <a:pt x="9512" y="13974"/>
                  <a:pt x="9499" y="13921"/>
                  <a:pt x="9487" y="13864"/>
                </a:cubicBezTo>
                <a:cubicBezTo>
                  <a:pt x="9470" y="13786"/>
                  <a:pt x="9457" y="13707"/>
                  <a:pt x="9450" y="13627"/>
                </a:cubicBezTo>
                <a:cubicBezTo>
                  <a:pt x="9441" y="13525"/>
                  <a:pt x="9442" y="13413"/>
                  <a:pt x="9480" y="13316"/>
                </a:cubicBezTo>
                <a:cubicBezTo>
                  <a:pt x="9496" y="13275"/>
                  <a:pt x="9516" y="13252"/>
                  <a:pt x="9556" y="13242"/>
                </a:cubicBezTo>
                <a:cubicBezTo>
                  <a:pt x="9595" y="13263"/>
                  <a:pt x="9619" y="13301"/>
                  <a:pt x="9637" y="13343"/>
                </a:cubicBezTo>
                <a:cubicBezTo>
                  <a:pt x="9666" y="13410"/>
                  <a:pt x="9683" y="13485"/>
                  <a:pt x="9688" y="13557"/>
                </a:cubicBezTo>
                <a:cubicBezTo>
                  <a:pt x="9692" y="13616"/>
                  <a:pt x="9692" y="13676"/>
                  <a:pt x="9664" y="13730"/>
                </a:cubicBezTo>
                <a:cubicBezTo>
                  <a:pt x="9645" y="13766"/>
                  <a:pt x="9616" y="13788"/>
                  <a:pt x="9578" y="13787"/>
                </a:cubicBezTo>
                <a:cubicBezTo>
                  <a:pt x="9546" y="13786"/>
                  <a:pt x="9533" y="13769"/>
                  <a:pt x="9517" y="13744"/>
                </a:cubicBezTo>
              </a:path>
              <a:path w="1624" h="886">
                <a:moveTo>
                  <a:pt x="9891" y="13544"/>
                </a:moveTo>
                <a:cubicBezTo>
                  <a:pt x="9892" y="13525"/>
                  <a:pt x="9890" y="13511"/>
                  <a:pt x="9886" y="13492"/>
                </a:cubicBezTo>
                <a:cubicBezTo>
                  <a:pt x="9866" y="13519"/>
                  <a:pt x="9872" y="13527"/>
                  <a:pt x="9869" y="13560"/>
                </a:cubicBezTo>
                <a:cubicBezTo>
                  <a:pt x="9866" y="13595"/>
                  <a:pt x="9860" y="13630"/>
                  <a:pt x="9857" y="13665"/>
                </a:cubicBezTo>
                <a:cubicBezTo>
                  <a:pt x="9850" y="13751"/>
                  <a:pt x="9848" y="13843"/>
                  <a:pt x="9864" y="13928"/>
                </a:cubicBezTo>
                <a:cubicBezTo>
                  <a:pt x="9875" y="13991"/>
                  <a:pt x="9900" y="14087"/>
                  <a:pt x="9963" y="14119"/>
                </a:cubicBezTo>
                <a:cubicBezTo>
                  <a:pt x="10004" y="14140"/>
                  <a:pt x="10033" y="14117"/>
                  <a:pt x="10062" y="14093"/>
                </a:cubicBezTo>
              </a:path>
              <a:path w="1624" h="886">
                <a:moveTo>
                  <a:pt x="10072" y="13670"/>
                </a:moveTo>
                <a:cubicBezTo>
                  <a:pt x="10084" y="13648"/>
                  <a:pt x="10100" y="13708"/>
                  <a:pt x="10119" y="13732"/>
                </a:cubicBezTo>
                <a:cubicBezTo>
                  <a:pt x="10158" y="13782"/>
                  <a:pt x="10203" y="13832"/>
                  <a:pt x="10250" y="13875"/>
                </a:cubicBezTo>
                <a:cubicBezTo>
                  <a:pt x="10286" y="13908"/>
                  <a:pt x="10321" y="13929"/>
                  <a:pt x="10368" y="13938"/>
                </a:cubicBezTo>
              </a:path>
              <a:path w="1624" h="886">
                <a:moveTo>
                  <a:pt x="10347" y="13712"/>
                </a:moveTo>
                <a:cubicBezTo>
                  <a:pt x="10326" y="13686"/>
                  <a:pt x="10321" y="13744"/>
                  <a:pt x="10311" y="13767"/>
                </a:cubicBezTo>
                <a:cubicBezTo>
                  <a:pt x="10285" y="13826"/>
                  <a:pt x="10254" y="13883"/>
                  <a:pt x="10230" y="13943"/>
                </a:cubicBezTo>
                <a:cubicBezTo>
                  <a:pt x="10218" y="13973"/>
                  <a:pt x="10150" y="14070"/>
                  <a:pt x="10212" y="14019"/>
                </a:cubicBezTo>
              </a:path>
              <a:path w="1624" h="886">
                <a:moveTo>
                  <a:pt x="10428" y="13454"/>
                </a:moveTo>
                <a:cubicBezTo>
                  <a:pt x="10473" y="13442"/>
                  <a:pt x="10483" y="13460"/>
                  <a:pt x="10506" y="13503"/>
                </a:cubicBezTo>
                <a:cubicBezTo>
                  <a:pt x="10545" y="13577"/>
                  <a:pt x="10575" y="13657"/>
                  <a:pt x="10597" y="13738"/>
                </a:cubicBezTo>
                <a:cubicBezTo>
                  <a:pt x="10621" y="13829"/>
                  <a:pt x="10659" y="13954"/>
                  <a:pt x="10648" y="14049"/>
                </a:cubicBezTo>
                <a:cubicBezTo>
                  <a:pt x="10643" y="14091"/>
                  <a:pt x="10631" y="14091"/>
                  <a:pt x="10601" y="14093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962520" y="3554280"/>
            <a:ext cx="896760" cy="336600"/>
          </a:xfrm>
          <a:custGeom>
            <a:avLst/>
            <a:gdLst/>
            <a:ahLst/>
            <a:rect l="l" t="t" r="r" b="b"/>
            <a:pathLst>
              <a:path w="2493" h="935">
                <a:moveTo>
                  <a:pt x="11040" y="13831"/>
                </a:moveTo>
                <a:cubicBezTo>
                  <a:pt x="11025" y="13848"/>
                  <a:pt x="11020" y="13852"/>
                  <a:pt x="11015" y="13866"/>
                </a:cubicBezTo>
                <a:cubicBezTo>
                  <a:pt x="11003" y="13840"/>
                  <a:pt x="11006" y="13815"/>
                  <a:pt x="11010" y="13784"/>
                </a:cubicBezTo>
                <a:cubicBezTo>
                  <a:pt x="11017" y="13730"/>
                  <a:pt x="11028" y="13676"/>
                  <a:pt x="11045" y="13624"/>
                </a:cubicBezTo>
                <a:cubicBezTo>
                  <a:pt x="11069" y="13549"/>
                  <a:pt x="11105" y="13469"/>
                  <a:pt x="11149" y="13403"/>
                </a:cubicBezTo>
                <a:cubicBezTo>
                  <a:pt x="11163" y="13384"/>
                  <a:pt x="11168" y="13378"/>
                  <a:pt x="11185" y="13375"/>
                </a:cubicBezTo>
                <a:cubicBezTo>
                  <a:pt x="11212" y="13421"/>
                  <a:pt x="11223" y="13464"/>
                  <a:pt x="11237" y="13516"/>
                </a:cubicBezTo>
                <a:cubicBezTo>
                  <a:pt x="11256" y="13587"/>
                  <a:pt x="11276" y="13660"/>
                  <a:pt x="11301" y="13729"/>
                </a:cubicBezTo>
                <a:cubicBezTo>
                  <a:pt x="11321" y="13785"/>
                  <a:pt x="11348" y="13867"/>
                  <a:pt x="11397" y="13907"/>
                </a:cubicBezTo>
                <a:cubicBezTo>
                  <a:pt x="11415" y="13914"/>
                  <a:pt x="11421" y="13916"/>
                  <a:pt x="11419" y="13893"/>
                </a:cubicBezTo>
              </a:path>
              <a:path w="2493" h="935">
                <a:moveTo>
                  <a:pt x="11902" y="13312"/>
                </a:moveTo>
                <a:cubicBezTo>
                  <a:pt x="11891" y="13293"/>
                  <a:pt x="11881" y="13279"/>
                  <a:pt x="11869" y="13262"/>
                </a:cubicBezTo>
                <a:cubicBezTo>
                  <a:pt x="11816" y="13276"/>
                  <a:pt x="11789" y="13304"/>
                  <a:pt x="11758" y="13354"/>
                </a:cubicBezTo>
                <a:cubicBezTo>
                  <a:pt x="11702" y="13444"/>
                  <a:pt x="11666" y="13547"/>
                  <a:pt x="11640" y="13649"/>
                </a:cubicBezTo>
                <a:cubicBezTo>
                  <a:pt x="11612" y="13760"/>
                  <a:pt x="11593" y="13881"/>
                  <a:pt x="11617" y="13995"/>
                </a:cubicBezTo>
                <a:cubicBezTo>
                  <a:pt x="11634" y="14075"/>
                  <a:pt x="11683" y="14146"/>
                  <a:pt x="11764" y="14169"/>
                </a:cubicBezTo>
                <a:cubicBezTo>
                  <a:pt x="11836" y="14190"/>
                  <a:pt x="11920" y="14161"/>
                  <a:pt x="11977" y="14116"/>
                </a:cubicBezTo>
                <a:cubicBezTo>
                  <a:pt x="12037" y="14069"/>
                  <a:pt x="12079" y="13995"/>
                  <a:pt x="12100" y="13923"/>
                </a:cubicBezTo>
                <a:cubicBezTo>
                  <a:pt x="12134" y="13808"/>
                  <a:pt x="12104" y="13692"/>
                  <a:pt x="12067" y="13583"/>
                </a:cubicBezTo>
                <a:cubicBezTo>
                  <a:pt x="12048" y="13526"/>
                  <a:pt x="12027" y="13487"/>
                  <a:pt x="11986" y="13444"/>
                </a:cubicBezTo>
              </a:path>
              <a:path w="2493" h="935">
                <a:moveTo>
                  <a:pt x="11858" y="13730"/>
                </a:moveTo>
                <a:cubicBezTo>
                  <a:pt x="11864" y="13784"/>
                  <a:pt x="11870" y="13841"/>
                  <a:pt x="11895" y="13890"/>
                </a:cubicBezTo>
                <a:cubicBezTo>
                  <a:pt x="11924" y="13946"/>
                  <a:pt x="11963" y="13996"/>
                  <a:pt x="12006" y="14042"/>
                </a:cubicBezTo>
                <a:cubicBezTo>
                  <a:pt x="12045" y="14084"/>
                  <a:pt x="12089" y="14121"/>
                  <a:pt x="12131" y="14160"/>
                </a:cubicBezTo>
                <a:cubicBezTo>
                  <a:pt x="12156" y="14183"/>
                  <a:pt x="12165" y="14187"/>
                  <a:pt x="12184" y="14160"/>
                </a:cubicBezTo>
              </a:path>
              <a:path w="2493" h="935">
                <a:moveTo>
                  <a:pt x="12346" y="13391"/>
                </a:moveTo>
                <a:cubicBezTo>
                  <a:pt x="12354" y="13372"/>
                  <a:pt x="12357" y="13358"/>
                  <a:pt x="12361" y="13337"/>
                </a:cubicBezTo>
                <a:cubicBezTo>
                  <a:pt x="12341" y="13394"/>
                  <a:pt x="12337" y="13451"/>
                  <a:pt x="12329" y="13512"/>
                </a:cubicBezTo>
                <a:cubicBezTo>
                  <a:pt x="12317" y="13608"/>
                  <a:pt x="12312" y="13702"/>
                  <a:pt x="12319" y="13799"/>
                </a:cubicBezTo>
                <a:cubicBezTo>
                  <a:pt x="12324" y="13871"/>
                  <a:pt x="12333" y="13953"/>
                  <a:pt x="12380" y="14011"/>
                </a:cubicBezTo>
                <a:cubicBezTo>
                  <a:pt x="12415" y="14055"/>
                  <a:pt x="12451" y="14048"/>
                  <a:pt x="12498" y="14036"/>
                </a:cubicBezTo>
              </a:path>
              <a:path w="2493" h="935">
                <a:moveTo>
                  <a:pt x="12639" y="13685"/>
                </a:moveTo>
                <a:cubicBezTo>
                  <a:pt x="12649" y="13718"/>
                  <a:pt x="12655" y="13746"/>
                  <a:pt x="12667" y="13779"/>
                </a:cubicBezTo>
                <a:cubicBezTo>
                  <a:pt x="12690" y="13839"/>
                  <a:pt x="12720" y="13890"/>
                  <a:pt x="12760" y="13941"/>
                </a:cubicBezTo>
                <a:cubicBezTo>
                  <a:pt x="12793" y="13982"/>
                  <a:pt x="12840" y="14037"/>
                  <a:pt x="12894" y="14051"/>
                </a:cubicBezTo>
                <a:cubicBezTo>
                  <a:pt x="12922" y="14058"/>
                  <a:pt x="12931" y="14041"/>
                  <a:pt x="12943" y="14023"/>
                </a:cubicBezTo>
              </a:path>
              <a:path w="2493" h="935">
                <a:moveTo>
                  <a:pt x="12814" y="13667"/>
                </a:moveTo>
                <a:cubicBezTo>
                  <a:pt x="12790" y="13708"/>
                  <a:pt x="12787" y="13739"/>
                  <a:pt x="12774" y="13784"/>
                </a:cubicBezTo>
                <a:cubicBezTo>
                  <a:pt x="12755" y="13848"/>
                  <a:pt x="12735" y="13913"/>
                  <a:pt x="12723" y="13979"/>
                </a:cubicBezTo>
                <a:cubicBezTo>
                  <a:pt x="12718" y="14006"/>
                  <a:pt x="12683" y="14087"/>
                  <a:pt x="12720" y="14040"/>
                </a:cubicBezTo>
              </a:path>
              <a:path w="2493" h="935">
                <a:moveTo>
                  <a:pt x="12952" y="13442"/>
                </a:moveTo>
                <a:cubicBezTo>
                  <a:pt x="13006" y="13494"/>
                  <a:pt x="13040" y="13545"/>
                  <a:pt x="13071" y="13615"/>
                </a:cubicBezTo>
                <a:cubicBezTo>
                  <a:pt x="13112" y="13705"/>
                  <a:pt x="13145" y="13798"/>
                  <a:pt x="13172" y="13893"/>
                </a:cubicBezTo>
                <a:cubicBezTo>
                  <a:pt x="13190" y="13957"/>
                  <a:pt x="13213" y="14035"/>
                  <a:pt x="13205" y="14102"/>
                </a:cubicBezTo>
                <a:cubicBezTo>
                  <a:pt x="13201" y="14135"/>
                  <a:pt x="13199" y="14137"/>
                  <a:pt x="13174" y="14140"/>
                </a:cubicBezTo>
              </a:path>
              <a:path w="2493" h="935">
                <a:moveTo>
                  <a:pt x="13248" y="13363"/>
                </a:moveTo>
                <a:cubicBezTo>
                  <a:pt x="13286" y="13348"/>
                  <a:pt x="13287" y="13403"/>
                  <a:pt x="13303" y="13448"/>
                </a:cubicBezTo>
                <a:cubicBezTo>
                  <a:pt x="13336" y="13539"/>
                  <a:pt x="13367" y="13629"/>
                  <a:pt x="13396" y="13721"/>
                </a:cubicBezTo>
                <a:cubicBezTo>
                  <a:pt x="13437" y="13850"/>
                  <a:pt x="13491" y="13994"/>
                  <a:pt x="13497" y="14131"/>
                </a:cubicBezTo>
                <a:cubicBezTo>
                  <a:pt x="13498" y="14163"/>
                  <a:pt x="13491" y="14175"/>
                  <a:pt x="13473" y="14196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119560" y="3578400"/>
            <a:ext cx="412920" cy="320400"/>
          </a:xfrm>
          <a:custGeom>
            <a:avLst/>
            <a:gdLst/>
            <a:ahLst/>
            <a:rect l="l" t="t" r="r" b="b"/>
            <a:pathLst>
              <a:path w="1144" h="891">
                <a:moveTo>
                  <a:pt x="14422" y="13639"/>
                </a:moveTo>
                <a:cubicBezTo>
                  <a:pt x="14404" y="13628"/>
                  <a:pt x="14384" y="13619"/>
                  <a:pt x="14363" y="13635"/>
                </a:cubicBezTo>
                <a:cubicBezTo>
                  <a:pt x="14319" y="13668"/>
                  <a:pt x="14297" y="13719"/>
                  <a:pt x="14278" y="13768"/>
                </a:cubicBezTo>
                <a:cubicBezTo>
                  <a:pt x="14240" y="13868"/>
                  <a:pt x="14215" y="13980"/>
                  <a:pt x="14224" y="14087"/>
                </a:cubicBezTo>
                <a:cubicBezTo>
                  <a:pt x="14227" y="14119"/>
                  <a:pt x="14237" y="14221"/>
                  <a:pt x="14289" y="14218"/>
                </a:cubicBezTo>
                <a:cubicBezTo>
                  <a:pt x="14342" y="14215"/>
                  <a:pt x="14375" y="14130"/>
                  <a:pt x="14389" y="14092"/>
                </a:cubicBezTo>
                <a:cubicBezTo>
                  <a:pt x="14419" y="14011"/>
                  <a:pt x="14438" y="13921"/>
                  <a:pt x="14450" y="13835"/>
                </a:cubicBezTo>
                <a:cubicBezTo>
                  <a:pt x="14453" y="13807"/>
                  <a:pt x="14453" y="13801"/>
                  <a:pt x="14456" y="13784"/>
                </a:cubicBezTo>
                <a:cubicBezTo>
                  <a:pt x="14465" y="13822"/>
                  <a:pt x="14465" y="13863"/>
                  <a:pt x="14469" y="13902"/>
                </a:cubicBezTo>
                <a:cubicBezTo>
                  <a:pt x="14474" y="13958"/>
                  <a:pt x="14478" y="14019"/>
                  <a:pt x="14493" y="14073"/>
                </a:cubicBezTo>
                <a:cubicBezTo>
                  <a:pt x="14504" y="14113"/>
                  <a:pt x="14511" y="14109"/>
                  <a:pt x="14544" y="14107"/>
                </a:cubicBezTo>
              </a:path>
              <a:path w="1144" h="891">
                <a:moveTo>
                  <a:pt x="14661" y="13787"/>
                </a:moveTo>
                <a:cubicBezTo>
                  <a:pt x="14666" y="13781"/>
                  <a:pt x="14670" y="13774"/>
                  <a:pt x="14675" y="13768"/>
                </a:cubicBezTo>
                <a:cubicBezTo>
                  <a:pt x="14698" y="13799"/>
                  <a:pt x="14709" y="13836"/>
                  <a:pt x="14712" y="13876"/>
                </a:cubicBezTo>
                <a:cubicBezTo>
                  <a:pt x="14714" y="13908"/>
                  <a:pt x="14713" y="13942"/>
                  <a:pt x="14710" y="13975"/>
                </a:cubicBezTo>
                <a:cubicBezTo>
                  <a:pt x="14733" y="13927"/>
                  <a:pt x="14758" y="13882"/>
                  <a:pt x="14786" y="13837"/>
                </a:cubicBezTo>
                <a:cubicBezTo>
                  <a:pt x="14815" y="13792"/>
                  <a:pt x="14849" y="13741"/>
                  <a:pt x="14895" y="13711"/>
                </a:cubicBezTo>
                <a:cubicBezTo>
                  <a:pt x="14924" y="13692"/>
                  <a:pt x="14951" y="13687"/>
                  <a:pt x="14972" y="13718"/>
                </a:cubicBezTo>
                <a:cubicBezTo>
                  <a:pt x="14997" y="13756"/>
                  <a:pt x="15000" y="13815"/>
                  <a:pt x="15005" y="13859"/>
                </a:cubicBezTo>
                <a:cubicBezTo>
                  <a:pt x="15011" y="13910"/>
                  <a:pt x="15007" y="13966"/>
                  <a:pt x="15018" y="14016"/>
                </a:cubicBezTo>
                <a:cubicBezTo>
                  <a:pt x="15021" y="14023"/>
                  <a:pt x="15023" y="14030"/>
                  <a:pt x="15026" y="14037"/>
                </a:cubicBezTo>
              </a:path>
              <a:path w="1144" h="891">
                <a:moveTo>
                  <a:pt x="15201" y="13815"/>
                </a:moveTo>
                <a:cubicBezTo>
                  <a:pt x="15199" y="13791"/>
                  <a:pt x="15198" y="13770"/>
                  <a:pt x="15196" y="13746"/>
                </a:cubicBezTo>
                <a:cubicBezTo>
                  <a:pt x="15159" y="13783"/>
                  <a:pt x="15149" y="13824"/>
                  <a:pt x="15133" y="13876"/>
                </a:cubicBezTo>
                <a:cubicBezTo>
                  <a:pt x="15114" y="13937"/>
                  <a:pt x="15095" y="13999"/>
                  <a:pt x="15096" y="14064"/>
                </a:cubicBezTo>
                <a:cubicBezTo>
                  <a:pt x="15099" y="14091"/>
                  <a:pt x="15097" y="14098"/>
                  <a:pt x="15110" y="14111"/>
                </a:cubicBezTo>
                <a:cubicBezTo>
                  <a:pt x="15152" y="14104"/>
                  <a:pt x="15169" y="14074"/>
                  <a:pt x="15187" y="14034"/>
                </a:cubicBezTo>
                <a:cubicBezTo>
                  <a:pt x="15221" y="13959"/>
                  <a:pt x="15235" y="13875"/>
                  <a:pt x="15238" y="13793"/>
                </a:cubicBezTo>
                <a:cubicBezTo>
                  <a:pt x="15242" y="13695"/>
                  <a:pt x="15252" y="13403"/>
                  <a:pt x="15167" y="13328"/>
                </a:cubicBezTo>
                <a:cubicBezTo>
                  <a:pt x="15161" y="13328"/>
                  <a:pt x="15155" y="13328"/>
                  <a:pt x="15149" y="13328"/>
                </a:cubicBezTo>
                <a:cubicBezTo>
                  <a:pt x="15143" y="13382"/>
                  <a:pt x="15152" y="13434"/>
                  <a:pt x="15163" y="13488"/>
                </a:cubicBezTo>
                <a:cubicBezTo>
                  <a:pt x="15184" y="13593"/>
                  <a:pt x="15216" y="13689"/>
                  <a:pt x="15274" y="13779"/>
                </a:cubicBezTo>
                <a:cubicBezTo>
                  <a:pt x="15301" y="13821"/>
                  <a:pt x="15330" y="13853"/>
                  <a:pt x="15365" y="13888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718240" y="3479760"/>
            <a:ext cx="368280" cy="384120"/>
          </a:xfrm>
          <a:custGeom>
            <a:avLst/>
            <a:gdLst/>
            <a:ahLst/>
            <a:rect l="l" t="t" r="r" b="b"/>
            <a:pathLst>
              <a:path w="1023" h="1068">
                <a:moveTo>
                  <a:pt x="16089" y="13363"/>
                </a:moveTo>
                <a:cubicBezTo>
                  <a:pt x="16070" y="13343"/>
                  <a:pt x="16052" y="13324"/>
                  <a:pt x="16034" y="13304"/>
                </a:cubicBezTo>
                <a:cubicBezTo>
                  <a:pt x="16046" y="13393"/>
                  <a:pt x="16073" y="13478"/>
                  <a:pt x="16100" y="13564"/>
                </a:cubicBezTo>
                <a:cubicBezTo>
                  <a:pt x="16138" y="13684"/>
                  <a:pt x="16181" y="13805"/>
                  <a:pt x="16239" y="13917"/>
                </a:cubicBezTo>
                <a:cubicBezTo>
                  <a:pt x="16258" y="13953"/>
                  <a:pt x="16272" y="13974"/>
                  <a:pt x="16301" y="13999"/>
                </a:cubicBezTo>
                <a:cubicBezTo>
                  <a:pt x="16327" y="13968"/>
                  <a:pt x="16336" y="13950"/>
                  <a:pt x="16344" y="13900"/>
                </a:cubicBezTo>
                <a:cubicBezTo>
                  <a:pt x="16358" y="13808"/>
                  <a:pt x="16363" y="13715"/>
                  <a:pt x="16369" y="13623"/>
                </a:cubicBezTo>
                <a:cubicBezTo>
                  <a:pt x="16375" y="13532"/>
                  <a:pt x="16380" y="13441"/>
                  <a:pt x="16389" y="13351"/>
                </a:cubicBezTo>
                <a:cubicBezTo>
                  <a:pt x="16393" y="13315"/>
                  <a:pt x="16403" y="13298"/>
                  <a:pt x="16415" y="13266"/>
                </a:cubicBezTo>
              </a:path>
              <a:path w="1023" h="1068">
                <a:moveTo>
                  <a:pt x="16149" y="13609"/>
                </a:moveTo>
                <a:cubicBezTo>
                  <a:pt x="16182" y="13629"/>
                  <a:pt x="16209" y="13636"/>
                  <a:pt x="16248" y="13642"/>
                </a:cubicBezTo>
                <a:cubicBezTo>
                  <a:pt x="16300" y="13650"/>
                  <a:pt x="16349" y="13652"/>
                  <a:pt x="16401" y="13647"/>
                </a:cubicBezTo>
                <a:cubicBezTo>
                  <a:pt x="16450" y="13642"/>
                  <a:pt x="16484" y="13620"/>
                  <a:pt x="16522" y="13591"/>
                </a:cubicBezTo>
              </a:path>
              <a:path w="1023" h="1068">
                <a:moveTo>
                  <a:pt x="16591" y="13504"/>
                </a:moveTo>
                <a:cubicBezTo>
                  <a:pt x="16603" y="13530"/>
                  <a:pt x="16611" y="13561"/>
                  <a:pt x="16626" y="13585"/>
                </a:cubicBezTo>
                <a:cubicBezTo>
                  <a:pt x="16660" y="13641"/>
                  <a:pt x="16698" y="13701"/>
                  <a:pt x="16739" y="13752"/>
                </a:cubicBezTo>
                <a:cubicBezTo>
                  <a:pt x="16770" y="13790"/>
                  <a:pt x="16805" y="13838"/>
                  <a:pt x="16855" y="13852"/>
                </a:cubicBezTo>
                <a:cubicBezTo>
                  <a:pt x="16883" y="13860"/>
                  <a:pt x="16888" y="13850"/>
                  <a:pt x="16906" y="13832"/>
                </a:cubicBezTo>
              </a:path>
              <a:path w="1023" h="1068">
                <a:moveTo>
                  <a:pt x="16866" y="13489"/>
                </a:moveTo>
                <a:cubicBezTo>
                  <a:pt x="16844" y="13534"/>
                  <a:pt x="16834" y="13591"/>
                  <a:pt x="16819" y="13642"/>
                </a:cubicBezTo>
                <a:cubicBezTo>
                  <a:pt x="16797" y="13719"/>
                  <a:pt x="16767" y="13798"/>
                  <a:pt x="16751" y="13876"/>
                </a:cubicBezTo>
                <a:cubicBezTo>
                  <a:pt x="16742" y="13920"/>
                  <a:pt x="16722" y="13965"/>
                  <a:pt x="16766" y="13963"/>
                </a:cubicBezTo>
              </a:path>
              <a:path w="1023" h="1068">
                <a:moveTo>
                  <a:pt x="15911" y="13073"/>
                </a:moveTo>
                <a:cubicBezTo>
                  <a:pt x="15918" y="13014"/>
                  <a:pt x="15898" y="13184"/>
                  <a:pt x="15898" y="13189"/>
                </a:cubicBezTo>
                <a:cubicBezTo>
                  <a:pt x="15886" y="13310"/>
                  <a:pt x="15884" y="13431"/>
                  <a:pt x="15887" y="13553"/>
                </a:cubicBezTo>
                <a:cubicBezTo>
                  <a:pt x="15891" y="13718"/>
                  <a:pt x="15904" y="13883"/>
                  <a:pt x="15951" y="14042"/>
                </a:cubicBezTo>
                <a:cubicBezTo>
                  <a:pt x="15960" y="14072"/>
                  <a:pt x="15973" y="14092"/>
                  <a:pt x="15988" y="14119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183360" y="3476520"/>
            <a:ext cx="573120" cy="390600"/>
          </a:xfrm>
          <a:custGeom>
            <a:avLst/>
            <a:gdLst/>
            <a:ahLst/>
            <a:rect l="l" t="t" r="r" b="b"/>
            <a:pathLst>
              <a:path w="1594" h="1085">
                <a:moveTo>
                  <a:pt x="17183" y="13387"/>
                </a:moveTo>
                <a:cubicBezTo>
                  <a:pt x="17177" y="13433"/>
                  <a:pt x="17193" y="13476"/>
                  <a:pt x="17205" y="13524"/>
                </a:cubicBezTo>
                <a:cubicBezTo>
                  <a:pt x="17225" y="13603"/>
                  <a:pt x="17250" y="13682"/>
                  <a:pt x="17266" y="13762"/>
                </a:cubicBezTo>
                <a:cubicBezTo>
                  <a:pt x="17272" y="13792"/>
                  <a:pt x="17298" y="13894"/>
                  <a:pt x="17274" y="13923"/>
                </a:cubicBezTo>
                <a:cubicBezTo>
                  <a:pt x="17267" y="13925"/>
                  <a:pt x="17261" y="13927"/>
                  <a:pt x="17254" y="13929"/>
                </a:cubicBezTo>
                <a:cubicBezTo>
                  <a:pt x="17226" y="13889"/>
                  <a:pt x="17214" y="13852"/>
                  <a:pt x="17205" y="13803"/>
                </a:cubicBezTo>
                <a:cubicBezTo>
                  <a:pt x="17181" y="13681"/>
                  <a:pt x="17177" y="13549"/>
                  <a:pt x="17192" y="13425"/>
                </a:cubicBezTo>
                <a:cubicBezTo>
                  <a:pt x="17199" y="13371"/>
                  <a:pt x="17207" y="13297"/>
                  <a:pt x="17249" y="13257"/>
                </a:cubicBezTo>
                <a:cubicBezTo>
                  <a:pt x="17256" y="13253"/>
                  <a:pt x="17264" y="13249"/>
                  <a:pt x="17271" y="13245"/>
                </a:cubicBezTo>
                <a:cubicBezTo>
                  <a:pt x="17325" y="13257"/>
                  <a:pt x="17356" y="13283"/>
                  <a:pt x="17392" y="13327"/>
                </a:cubicBezTo>
                <a:cubicBezTo>
                  <a:pt x="17442" y="13388"/>
                  <a:pt x="17475" y="13462"/>
                  <a:pt x="17495" y="13538"/>
                </a:cubicBezTo>
                <a:cubicBezTo>
                  <a:pt x="17514" y="13611"/>
                  <a:pt x="17505" y="13675"/>
                  <a:pt x="17444" y="13720"/>
                </a:cubicBezTo>
                <a:cubicBezTo>
                  <a:pt x="17411" y="13744"/>
                  <a:pt x="17368" y="13736"/>
                  <a:pt x="17337" y="13709"/>
                </a:cubicBezTo>
                <a:cubicBezTo>
                  <a:pt x="17320" y="13688"/>
                  <a:pt x="17314" y="13683"/>
                  <a:pt x="17310" y="13665"/>
                </a:cubicBezTo>
              </a:path>
              <a:path w="1594" h="1085">
                <a:moveTo>
                  <a:pt x="17765" y="13252"/>
                </a:moveTo>
                <a:cubicBezTo>
                  <a:pt x="17747" y="13305"/>
                  <a:pt x="17732" y="13356"/>
                  <a:pt x="17721" y="13410"/>
                </a:cubicBezTo>
                <a:cubicBezTo>
                  <a:pt x="17704" y="13494"/>
                  <a:pt x="17688" y="13580"/>
                  <a:pt x="17681" y="13665"/>
                </a:cubicBezTo>
                <a:cubicBezTo>
                  <a:pt x="17675" y="13740"/>
                  <a:pt x="17673" y="13813"/>
                  <a:pt x="17697" y="13885"/>
                </a:cubicBezTo>
                <a:cubicBezTo>
                  <a:pt x="17710" y="13922"/>
                  <a:pt x="17737" y="13932"/>
                  <a:pt x="17769" y="13910"/>
                </a:cubicBezTo>
                <a:cubicBezTo>
                  <a:pt x="17777" y="13903"/>
                  <a:pt x="17784" y="13897"/>
                  <a:pt x="17792" y="13890"/>
                </a:cubicBezTo>
              </a:path>
              <a:path w="1594" h="1085">
                <a:moveTo>
                  <a:pt x="17838" y="13512"/>
                </a:moveTo>
                <a:cubicBezTo>
                  <a:pt x="17847" y="13543"/>
                  <a:pt x="17855" y="13576"/>
                  <a:pt x="17869" y="13606"/>
                </a:cubicBezTo>
                <a:cubicBezTo>
                  <a:pt x="17898" y="13669"/>
                  <a:pt x="17931" y="13730"/>
                  <a:pt x="17971" y="13787"/>
                </a:cubicBezTo>
                <a:cubicBezTo>
                  <a:pt x="17992" y="13817"/>
                  <a:pt x="18027" y="13871"/>
                  <a:pt x="18068" y="13875"/>
                </a:cubicBezTo>
                <a:cubicBezTo>
                  <a:pt x="18086" y="13872"/>
                  <a:pt x="18091" y="13870"/>
                  <a:pt x="18095" y="13856"/>
                </a:cubicBezTo>
              </a:path>
              <a:path w="1594" h="1085">
                <a:moveTo>
                  <a:pt x="18055" y="13516"/>
                </a:moveTo>
                <a:cubicBezTo>
                  <a:pt x="18042" y="13543"/>
                  <a:pt x="18027" y="13579"/>
                  <a:pt x="18024" y="13609"/>
                </a:cubicBezTo>
                <a:cubicBezTo>
                  <a:pt x="18018" y="13673"/>
                  <a:pt x="18012" y="13737"/>
                  <a:pt x="18003" y="13802"/>
                </a:cubicBezTo>
                <a:cubicBezTo>
                  <a:pt x="17996" y="13848"/>
                  <a:pt x="17997" y="13894"/>
                  <a:pt x="17981" y="13937"/>
                </a:cubicBezTo>
              </a:path>
              <a:path w="1594" h="1085">
                <a:moveTo>
                  <a:pt x="18045" y="13313"/>
                </a:moveTo>
                <a:cubicBezTo>
                  <a:pt x="18075" y="13292"/>
                  <a:pt x="18100" y="13287"/>
                  <a:pt x="18132" y="13316"/>
                </a:cubicBezTo>
                <a:cubicBezTo>
                  <a:pt x="18196" y="13374"/>
                  <a:pt x="18235" y="13453"/>
                  <a:pt x="18265" y="13532"/>
                </a:cubicBezTo>
                <a:cubicBezTo>
                  <a:pt x="18313" y="13659"/>
                  <a:pt x="18324" y="13781"/>
                  <a:pt x="18333" y="13914"/>
                </a:cubicBezTo>
                <a:cubicBezTo>
                  <a:pt x="18336" y="13956"/>
                  <a:pt x="18337" y="13990"/>
                  <a:pt x="18334" y="14032"/>
                </a:cubicBezTo>
              </a:path>
              <a:path w="1594" h="1085">
                <a:moveTo>
                  <a:pt x="18563" y="13052"/>
                </a:moveTo>
                <a:cubicBezTo>
                  <a:pt x="18543" y="13045"/>
                  <a:pt x="18538" y="13042"/>
                  <a:pt x="18524" y="13046"/>
                </a:cubicBezTo>
                <a:cubicBezTo>
                  <a:pt x="18529" y="13079"/>
                  <a:pt x="18535" y="13105"/>
                  <a:pt x="18552" y="13136"/>
                </a:cubicBezTo>
                <a:cubicBezTo>
                  <a:pt x="18587" y="13202"/>
                  <a:pt x="18620" y="13268"/>
                  <a:pt x="18654" y="13334"/>
                </a:cubicBezTo>
                <a:cubicBezTo>
                  <a:pt x="18699" y="13423"/>
                  <a:pt x="18732" y="13511"/>
                  <a:pt x="18751" y="13609"/>
                </a:cubicBezTo>
                <a:cubicBezTo>
                  <a:pt x="18771" y="13709"/>
                  <a:pt x="18775" y="13815"/>
                  <a:pt x="18763" y="13917"/>
                </a:cubicBezTo>
                <a:cubicBezTo>
                  <a:pt x="18756" y="13976"/>
                  <a:pt x="18750" y="14060"/>
                  <a:pt x="18724" y="14114"/>
                </a:cubicBezTo>
                <a:cubicBezTo>
                  <a:pt x="18708" y="14146"/>
                  <a:pt x="18718" y="14096"/>
                  <a:pt x="18718" y="14086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885000" y="3592440"/>
            <a:ext cx="119160" cy="181080"/>
          </a:xfrm>
          <a:custGeom>
            <a:avLst/>
            <a:gdLst/>
            <a:ahLst/>
            <a:rect l="l" t="t" r="r" b="b"/>
            <a:pathLst>
              <a:path w="331" h="503">
                <a:moveTo>
                  <a:pt x="19128" y="13755"/>
                </a:moveTo>
                <a:cubicBezTo>
                  <a:pt x="19127" y="13761"/>
                  <a:pt x="19125" y="13767"/>
                  <a:pt x="19124" y="13773"/>
                </a:cubicBezTo>
                <a:cubicBezTo>
                  <a:pt x="19135" y="13738"/>
                  <a:pt x="19138" y="13701"/>
                  <a:pt x="19147" y="13664"/>
                </a:cubicBezTo>
                <a:cubicBezTo>
                  <a:pt x="19167" y="13586"/>
                  <a:pt x="19191" y="13505"/>
                  <a:pt x="19228" y="13433"/>
                </a:cubicBezTo>
                <a:cubicBezTo>
                  <a:pt x="19240" y="13409"/>
                  <a:pt x="19262" y="13353"/>
                  <a:pt x="19300" y="13365"/>
                </a:cubicBezTo>
                <a:cubicBezTo>
                  <a:pt x="19339" y="13377"/>
                  <a:pt x="19353" y="13448"/>
                  <a:pt x="19364" y="13479"/>
                </a:cubicBezTo>
                <a:cubicBezTo>
                  <a:pt x="19388" y="13549"/>
                  <a:pt x="19409" y="13616"/>
                  <a:pt x="19424" y="13688"/>
                </a:cubicBezTo>
                <a:cubicBezTo>
                  <a:pt x="19435" y="13741"/>
                  <a:pt x="19444" y="13794"/>
                  <a:pt x="19451" y="13847"/>
                </a:cubicBezTo>
                <a:cubicBezTo>
                  <a:pt x="19452" y="13854"/>
                  <a:pt x="19453" y="13860"/>
                  <a:pt x="19454" y="13867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130880" y="3471840"/>
            <a:ext cx="1003320" cy="365040"/>
          </a:xfrm>
          <a:custGeom>
            <a:avLst/>
            <a:gdLst/>
            <a:ahLst/>
            <a:rect l="l" t="t" r="r" b="b"/>
            <a:pathLst>
              <a:path w="2790" h="1013">
                <a:moveTo>
                  <a:pt x="19862" y="13055"/>
                </a:moveTo>
                <a:cubicBezTo>
                  <a:pt x="19886" y="12992"/>
                  <a:pt x="19846" y="13138"/>
                  <a:pt x="19844" y="13155"/>
                </a:cubicBezTo>
                <a:cubicBezTo>
                  <a:pt x="19828" y="13260"/>
                  <a:pt x="19814" y="13369"/>
                  <a:pt x="19808" y="13475"/>
                </a:cubicBezTo>
                <a:cubicBezTo>
                  <a:pt x="19802" y="13588"/>
                  <a:pt x="19810" y="13701"/>
                  <a:pt x="19834" y="13812"/>
                </a:cubicBezTo>
                <a:cubicBezTo>
                  <a:pt x="19848" y="13876"/>
                  <a:pt x="19866" y="13954"/>
                  <a:pt x="19924" y="13990"/>
                </a:cubicBezTo>
                <a:cubicBezTo>
                  <a:pt x="19964" y="14015"/>
                  <a:pt x="19976" y="13997"/>
                  <a:pt x="20010" y="13976"/>
                </a:cubicBezTo>
              </a:path>
              <a:path w="2790" h="1013">
                <a:moveTo>
                  <a:pt x="20158" y="13242"/>
                </a:moveTo>
                <a:cubicBezTo>
                  <a:pt x="20171" y="13307"/>
                  <a:pt x="20186" y="13369"/>
                  <a:pt x="20204" y="13433"/>
                </a:cubicBezTo>
                <a:cubicBezTo>
                  <a:pt x="20230" y="13528"/>
                  <a:pt x="20258" y="13622"/>
                  <a:pt x="20289" y="13715"/>
                </a:cubicBezTo>
                <a:cubicBezTo>
                  <a:pt x="20306" y="13765"/>
                  <a:pt x="20319" y="13818"/>
                  <a:pt x="20345" y="13864"/>
                </a:cubicBezTo>
                <a:cubicBezTo>
                  <a:pt x="20377" y="13838"/>
                  <a:pt x="20379" y="13803"/>
                  <a:pt x="20387" y="13761"/>
                </a:cubicBezTo>
                <a:cubicBezTo>
                  <a:pt x="20405" y="13663"/>
                  <a:pt x="20423" y="13560"/>
                  <a:pt x="20427" y="13460"/>
                </a:cubicBezTo>
                <a:cubicBezTo>
                  <a:pt x="20429" y="13404"/>
                  <a:pt x="20432" y="13345"/>
                  <a:pt x="20426" y="13290"/>
                </a:cubicBezTo>
              </a:path>
              <a:path w="2790" h="1013">
                <a:moveTo>
                  <a:pt x="20204" y="13604"/>
                </a:moveTo>
                <a:cubicBezTo>
                  <a:pt x="20201" y="13610"/>
                  <a:pt x="20198" y="13617"/>
                  <a:pt x="20195" y="13623"/>
                </a:cubicBezTo>
                <a:cubicBezTo>
                  <a:pt x="20214" y="13646"/>
                  <a:pt x="20240" y="13646"/>
                  <a:pt x="20272" y="13650"/>
                </a:cubicBezTo>
                <a:cubicBezTo>
                  <a:pt x="20304" y="13654"/>
                  <a:pt x="20355" y="13659"/>
                  <a:pt x="20386" y="13650"/>
                </a:cubicBezTo>
                <a:cubicBezTo>
                  <a:pt x="20415" y="13642"/>
                  <a:pt x="20429" y="13628"/>
                  <a:pt x="20447" y="13608"/>
                </a:cubicBezTo>
              </a:path>
              <a:path w="2790" h="1013">
                <a:moveTo>
                  <a:pt x="20570" y="13504"/>
                </a:moveTo>
                <a:cubicBezTo>
                  <a:pt x="20596" y="13543"/>
                  <a:pt x="20623" y="13581"/>
                  <a:pt x="20653" y="13617"/>
                </a:cubicBezTo>
                <a:cubicBezTo>
                  <a:pt x="20682" y="13652"/>
                  <a:pt x="20715" y="13689"/>
                  <a:pt x="20760" y="13703"/>
                </a:cubicBezTo>
                <a:cubicBezTo>
                  <a:pt x="20778" y="13703"/>
                  <a:pt x="20785" y="13703"/>
                  <a:pt x="20797" y="13706"/>
                </a:cubicBezTo>
              </a:path>
              <a:path w="2790" h="1013">
                <a:moveTo>
                  <a:pt x="20809" y="13553"/>
                </a:moveTo>
                <a:cubicBezTo>
                  <a:pt x="20773" y="13579"/>
                  <a:pt x="20781" y="13609"/>
                  <a:pt x="20763" y="13647"/>
                </a:cubicBezTo>
                <a:cubicBezTo>
                  <a:pt x="20738" y="13699"/>
                  <a:pt x="20717" y="13754"/>
                  <a:pt x="20688" y="13805"/>
                </a:cubicBezTo>
                <a:cubicBezTo>
                  <a:pt x="20673" y="13831"/>
                  <a:pt x="20668" y="13837"/>
                  <a:pt x="20665" y="13856"/>
                </a:cubicBezTo>
              </a:path>
              <a:path w="2790" h="1013">
                <a:moveTo>
                  <a:pt x="21062" y="13231"/>
                </a:moveTo>
                <a:cubicBezTo>
                  <a:pt x="21038" y="13230"/>
                  <a:pt x="21045" y="13245"/>
                  <a:pt x="21042" y="13278"/>
                </a:cubicBezTo>
                <a:cubicBezTo>
                  <a:pt x="21036" y="13335"/>
                  <a:pt x="21033" y="13393"/>
                  <a:pt x="21033" y="13450"/>
                </a:cubicBezTo>
                <a:cubicBezTo>
                  <a:pt x="21033" y="13533"/>
                  <a:pt x="21039" y="13618"/>
                  <a:pt x="21067" y="13697"/>
                </a:cubicBezTo>
                <a:cubicBezTo>
                  <a:pt x="21090" y="13761"/>
                  <a:pt x="21132" y="13823"/>
                  <a:pt x="21198" y="13847"/>
                </a:cubicBezTo>
                <a:cubicBezTo>
                  <a:pt x="21259" y="13869"/>
                  <a:pt x="21322" y="13844"/>
                  <a:pt x="21371" y="13808"/>
                </a:cubicBezTo>
                <a:cubicBezTo>
                  <a:pt x="21427" y="13768"/>
                  <a:pt x="21458" y="13704"/>
                  <a:pt x="21480" y="13641"/>
                </a:cubicBezTo>
                <a:cubicBezTo>
                  <a:pt x="21501" y="13580"/>
                  <a:pt x="21505" y="13520"/>
                  <a:pt x="21494" y="13456"/>
                </a:cubicBezTo>
                <a:cubicBezTo>
                  <a:pt x="21483" y="13397"/>
                  <a:pt x="21461" y="13353"/>
                  <a:pt x="21416" y="13313"/>
                </a:cubicBezTo>
                <a:cubicBezTo>
                  <a:pt x="21384" y="13284"/>
                  <a:pt x="21341" y="13263"/>
                  <a:pt x="21298" y="13263"/>
                </a:cubicBezTo>
                <a:cubicBezTo>
                  <a:pt x="21276" y="13263"/>
                  <a:pt x="21258" y="13268"/>
                  <a:pt x="21237" y="13272"/>
                </a:cubicBezTo>
              </a:path>
              <a:path w="2790" h="1013">
                <a:moveTo>
                  <a:pt x="21308" y="13527"/>
                </a:moveTo>
                <a:cubicBezTo>
                  <a:pt x="21327" y="13566"/>
                  <a:pt x="21344" y="13606"/>
                  <a:pt x="21362" y="13645"/>
                </a:cubicBezTo>
                <a:cubicBezTo>
                  <a:pt x="21385" y="13695"/>
                  <a:pt x="21411" y="13737"/>
                  <a:pt x="21446" y="13779"/>
                </a:cubicBezTo>
                <a:cubicBezTo>
                  <a:pt x="21466" y="13803"/>
                  <a:pt x="21503" y="13848"/>
                  <a:pt x="21540" y="13843"/>
                </a:cubicBezTo>
                <a:cubicBezTo>
                  <a:pt x="21563" y="13840"/>
                  <a:pt x="21575" y="13815"/>
                  <a:pt x="21585" y="13799"/>
                </a:cubicBezTo>
              </a:path>
              <a:path w="2790" h="1013">
                <a:moveTo>
                  <a:pt x="21750" y="13110"/>
                </a:moveTo>
                <a:cubicBezTo>
                  <a:pt x="21752" y="13102"/>
                  <a:pt x="21753" y="13095"/>
                  <a:pt x="21755" y="13087"/>
                </a:cubicBezTo>
                <a:cubicBezTo>
                  <a:pt x="21747" y="13132"/>
                  <a:pt x="21735" y="13177"/>
                  <a:pt x="21729" y="13222"/>
                </a:cubicBezTo>
                <a:cubicBezTo>
                  <a:pt x="21715" y="13315"/>
                  <a:pt x="21703" y="13412"/>
                  <a:pt x="21699" y="13506"/>
                </a:cubicBezTo>
                <a:cubicBezTo>
                  <a:pt x="21696" y="13595"/>
                  <a:pt x="21704" y="13680"/>
                  <a:pt x="21723" y="13767"/>
                </a:cubicBezTo>
                <a:cubicBezTo>
                  <a:pt x="21735" y="13820"/>
                  <a:pt x="21750" y="13842"/>
                  <a:pt x="21792" y="13875"/>
                </a:cubicBezTo>
              </a:path>
              <a:path w="2790" h="1013">
                <a:moveTo>
                  <a:pt x="21867" y="13512"/>
                </a:moveTo>
                <a:cubicBezTo>
                  <a:pt x="21891" y="13523"/>
                  <a:pt x="21896" y="13563"/>
                  <a:pt x="21907" y="13595"/>
                </a:cubicBezTo>
                <a:cubicBezTo>
                  <a:pt x="21926" y="13649"/>
                  <a:pt x="21946" y="13702"/>
                  <a:pt x="21984" y="13747"/>
                </a:cubicBezTo>
                <a:cubicBezTo>
                  <a:pt x="22010" y="13778"/>
                  <a:pt x="22043" y="13818"/>
                  <a:pt x="22089" y="13811"/>
                </a:cubicBezTo>
                <a:cubicBezTo>
                  <a:pt x="22095" y="13808"/>
                  <a:pt x="22102" y="13805"/>
                  <a:pt x="22108" y="13802"/>
                </a:cubicBezTo>
              </a:path>
              <a:path w="2790" h="1013">
                <a:moveTo>
                  <a:pt x="22109" y="13489"/>
                </a:moveTo>
                <a:cubicBezTo>
                  <a:pt x="22078" y="13531"/>
                  <a:pt x="22089" y="13557"/>
                  <a:pt x="22078" y="13606"/>
                </a:cubicBezTo>
                <a:cubicBezTo>
                  <a:pt x="22061" y="13684"/>
                  <a:pt x="22031" y="13760"/>
                  <a:pt x="22009" y="13837"/>
                </a:cubicBezTo>
                <a:cubicBezTo>
                  <a:pt x="21994" y="13889"/>
                  <a:pt x="21971" y="13932"/>
                  <a:pt x="21950" y="13981"/>
                </a:cubicBezTo>
              </a:path>
              <a:path w="2790" h="1013">
                <a:moveTo>
                  <a:pt x="22095" y="13239"/>
                </a:moveTo>
                <a:cubicBezTo>
                  <a:pt x="22123" y="13216"/>
                  <a:pt x="22146" y="13250"/>
                  <a:pt x="22164" y="13283"/>
                </a:cubicBezTo>
                <a:cubicBezTo>
                  <a:pt x="22202" y="13353"/>
                  <a:pt x="22229" y="13433"/>
                  <a:pt x="22251" y="13510"/>
                </a:cubicBezTo>
                <a:cubicBezTo>
                  <a:pt x="22279" y="13609"/>
                  <a:pt x="22286" y="13706"/>
                  <a:pt x="22295" y="13808"/>
                </a:cubicBezTo>
                <a:cubicBezTo>
                  <a:pt x="22299" y="13860"/>
                  <a:pt x="22299" y="13886"/>
                  <a:pt x="22288" y="13935"/>
                </a:cubicBezTo>
              </a:path>
              <a:path w="2790" h="1013">
                <a:moveTo>
                  <a:pt x="22307" y="13321"/>
                </a:moveTo>
                <a:cubicBezTo>
                  <a:pt x="22318" y="13286"/>
                  <a:pt x="22329" y="13250"/>
                  <a:pt x="22376" y="13268"/>
                </a:cubicBezTo>
                <a:cubicBezTo>
                  <a:pt x="22430" y="13289"/>
                  <a:pt x="22468" y="13411"/>
                  <a:pt x="22486" y="13456"/>
                </a:cubicBezTo>
                <a:cubicBezTo>
                  <a:pt x="22530" y="13564"/>
                  <a:pt x="22564" y="13682"/>
                  <a:pt x="22581" y="13797"/>
                </a:cubicBezTo>
                <a:cubicBezTo>
                  <a:pt x="22592" y="13870"/>
                  <a:pt x="22603" y="13942"/>
                  <a:pt x="22580" y="14013"/>
                </a:cubicBezTo>
                <a:cubicBezTo>
                  <a:pt x="22571" y="14033"/>
                  <a:pt x="22569" y="14040"/>
                  <a:pt x="22553" y="14043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866960" y="4048200"/>
            <a:ext cx="436680" cy="163440"/>
          </a:xfrm>
          <a:custGeom>
            <a:avLst/>
            <a:gdLst/>
            <a:ahLst/>
            <a:rect l="l" t="t" r="r" b="b"/>
            <a:pathLst>
              <a:path w="1210" h="452">
                <a:moveTo>
                  <a:pt x="5522" y="14668"/>
                </a:moveTo>
                <a:cubicBezTo>
                  <a:pt x="5525" y="14640"/>
                  <a:pt x="5506" y="14629"/>
                  <a:pt x="5474" y="14632"/>
                </a:cubicBezTo>
                <a:cubicBezTo>
                  <a:pt x="5446" y="14635"/>
                  <a:pt x="5412" y="14647"/>
                  <a:pt x="5388" y="14661"/>
                </a:cubicBezTo>
                <a:cubicBezTo>
                  <a:pt x="5324" y="14698"/>
                  <a:pt x="5281" y="14759"/>
                  <a:pt x="5246" y="14822"/>
                </a:cubicBezTo>
                <a:cubicBezTo>
                  <a:pt x="5210" y="14887"/>
                  <a:pt x="5184" y="14964"/>
                  <a:pt x="5188" y="15039"/>
                </a:cubicBezTo>
                <a:cubicBezTo>
                  <a:pt x="5192" y="15062"/>
                  <a:pt x="5192" y="15068"/>
                  <a:pt x="5202" y="15080"/>
                </a:cubicBezTo>
                <a:cubicBezTo>
                  <a:pt x="5239" y="15069"/>
                  <a:pt x="5248" y="15063"/>
                  <a:pt x="5274" y="15025"/>
                </a:cubicBezTo>
                <a:cubicBezTo>
                  <a:pt x="5312" y="14970"/>
                  <a:pt x="5334" y="14909"/>
                  <a:pt x="5358" y="14847"/>
                </a:cubicBezTo>
                <a:cubicBezTo>
                  <a:pt x="5373" y="14808"/>
                  <a:pt x="5387" y="14770"/>
                  <a:pt x="5401" y="14731"/>
                </a:cubicBezTo>
                <a:cubicBezTo>
                  <a:pt x="5419" y="14769"/>
                  <a:pt x="5419" y="14806"/>
                  <a:pt x="5427" y="14847"/>
                </a:cubicBezTo>
                <a:cubicBezTo>
                  <a:pt x="5438" y="14904"/>
                  <a:pt x="5457" y="14961"/>
                  <a:pt x="5492" y="15008"/>
                </a:cubicBezTo>
                <a:cubicBezTo>
                  <a:pt x="5520" y="15045"/>
                  <a:pt x="5556" y="15043"/>
                  <a:pt x="5593" y="15024"/>
                </a:cubicBezTo>
                <a:cubicBezTo>
                  <a:pt x="5624" y="15005"/>
                  <a:pt x="5635" y="14998"/>
                  <a:pt x="5647" y="14976"/>
                </a:cubicBezTo>
              </a:path>
              <a:path w="1210" h="452">
                <a:moveTo>
                  <a:pt x="5760" y="14805"/>
                </a:moveTo>
                <a:cubicBezTo>
                  <a:pt x="5765" y="14846"/>
                  <a:pt x="5773" y="14888"/>
                  <a:pt x="5777" y="14929"/>
                </a:cubicBezTo>
                <a:cubicBezTo>
                  <a:pt x="5780" y="14958"/>
                  <a:pt x="5782" y="14985"/>
                  <a:pt x="5784" y="15014"/>
                </a:cubicBezTo>
                <a:cubicBezTo>
                  <a:pt x="5780" y="14953"/>
                  <a:pt x="5784" y="14888"/>
                  <a:pt x="5797" y="14828"/>
                </a:cubicBezTo>
                <a:cubicBezTo>
                  <a:pt x="5806" y="14788"/>
                  <a:pt x="5819" y="14730"/>
                  <a:pt x="5849" y="14699"/>
                </a:cubicBezTo>
                <a:cubicBezTo>
                  <a:pt x="5871" y="14677"/>
                  <a:pt x="5893" y="14667"/>
                  <a:pt x="5923" y="14667"/>
                </a:cubicBezTo>
                <a:cubicBezTo>
                  <a:pt x="5943" y="14667"/>
                  <a:pt x="5950" y="14667"/>
                  <a:pt x="5962" y="14673"/>
                </a:cubicBezTo>
              </a:path>
              <a:path w="1210" h="452">
                <a:moveTo>
                  <a:pt x="6122" y="14797"/>
                </a:moveTo>
                <a:cubicBezTo>
                  <a:pt x="6149" y="14819"/>
                  <a:pt x="6161" y="14828"/>
                  <a:pt x="6175" y="14793"/>
                </a:cubicBezTo>
                <a:cubicBezTo>
                  <a:pt x="6192" y="14751"/>
                  <a:pt x="6198" y="14746"/>
                  <a:pt x="6178" y="14706"/>
                </a:cubicBezTo>
                <a:cubicBezTo>
                  <a:pt x="6141" y="14716"/>
                  <a:pt x="6126" y="14735"/>
                  <a:pt x="6108" y="14772"/>
                </a:cubicBezTo>
                <a:cubicBezTo>
                  <a:pt x="6086" y="14816"/>
                  <a:pt x="6082" y="14872"/>
                  <a:pt x="6088" y="14920"/>
                </a:cubicBezTo>
                <a:cubicBezTo>
                  <a:pt x="6094" y="14971"/>
                  <a:pt x="6118" y="15010"/>
                  <a:pt x="6161" y="15037"/>
                </a:cubicBezTo>
                <a:cubicBezTo>
                  <a:pt x="6200" y="15062"/>
                  <a:pt x="6244" y="15063"/>
                  <a:pt x="6287" y="15055"/>
                </a:cubicBezTo>
                <a:cubicBezTo>
                  <a:pt x="6336" y="15045"/>
                  <a:pt x="6361" y="15028"/>
                  <a:pt x="6397" y="14995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562120" y="3943440"/>
            <a:ext cx="1500120" cy="420480"/>
          </a:xfrm>
          <a:custGeom>
            <a:avLst/>
            <a:gdLst/>
            <a:ahLst/>
            <a:rect l="l" t="t" r="r" b="b"/>
            <a:pathLst>
              <a:path w="4166" h="1165">
                <a:moveTo>
                  <a:pt x="7175" y="14916"/>
                </a:moveTo>
                <a:cubicBezTo>
                  <a:pt x="7198" y="14938"/>
                  <a:pt x="7205" y="14936"/>
                  <a:pt x="7232" y="14929"/>
                </a:cubicBezTo>
                <a:cubicBezTo>
                  <a:pt x="7269" y="14919"/>
                  <a:pt x="7287" y="14896"/>
                  <a:pt x="7310" y="14866"/>
                </a:cubicBezTo>
                <a:cubicBezTo>
                  <a:pt x="7335" y="14834"/>
                  <a:pt x="7351" y="14801"/>
                  <a:pt x="7359" y="14761"/>
                </a:cubicBezTo>
                <a:cubicBezTo>
                  <a:pt x="7365" y="14730"/>
                  <a:pt x="7357" y="14698"/>
                  <a:pt x="7335" y="14676"/>
                </a:cubicBezTo>
                <a:cubicBezTo>
                  <a:pt x="7302" y="14642"/>
                  <a:pt x="7256" y="14659"/>
                  <a:pt x="7226" y="14687"/>
                </a:cubicBezTo>
                <a:cubicBezTo>
                  <a:pt x="7179" y="14731"/>
                  <a:pt x="7159" y="14793"/>
                  <a:pt x="7140" y="14852"/>
                </a:cubicBezTo>
                <a:cubicBezTo>
                  <a:pt x="7117" y="14924"/>
                  <a:pt x="7101" y="15018"/>
                  <a:pt x="7135" y="15090"/>
                </a:cubicBezTo>
                <a:cubicBezTo>
                  <a:pt x="7157" y="15136"/>
                  <a:pt x="7215" y="15169"/>
                  <a:pt x="7265" y="15169"/>
                </a:cubicBezTo>
                <a:cubicBezTo>
                  <a:pt x="7329" y="15170"/>
                  <a:pt x="7399" y="15125"/>
                  <a:pt x="7453" y="15096"/>
                </a:cubicBezTo>
              </a:path>
              <a:path w="4166" h="1165">
                <a:moveTo>
                  <a:pt x="7793" y="14688"/>
                </a:moveTo>
                <a:cubicBezTo>
                  <a:pt x="7789" y="14680"/>
                  <a:pt x="7785" y="14673"/>
                  <a:pt x="7781" y="14665"/>
                </a:cubicBezTo>
                <a:cubicBezTo>
                  <a:pt x="7743" y="14668"/>
                  <a:pt x="7735" y="14663"/>
                  <a:pt x="7710" y="14703"/>
                </a:cubicBezTo>
                <a:cubicBezTo>
                  <a:pt x="7677" y="14756"/>
                  <a:pt x="7654" y="14819"/>
                  <a:pt x="7641" y="14879"/>
                </a:cubicBezTo>
                <a:cubicBezTo>
                  <a:pt x="7630" y="14927"/>
                  <a:pt x="7613" y="14994"/>
                  <a:pt x="7636" y="15042"/>
                </a:cubicBezTo>
                <a:cubicBezTo>
                  <a:pt x="7640" y="15046"/>
                  <a:pt x="7645" y="15051"/>
                  <a:pt x="7649" y="15055"/>
                </a:cubicBezTo>
                <a:cubicBezTo>
                  <a:pt x="7684" y="15041"/>
                  <a:pt x="7699" y="15035"/>
                  <a:pt x="7723" y="14998"/>
                </a:cubicBezTo>
                <a:cubicBezTo>
                  <a:pt x="7760" y="14941"/>
                  <a:pt x="7782" y="14870"/>
                  <a:pt x="7821" y="14819"/>
                </a:cubicBezTo>
                <a:cubicBezTo>
                  <a:pt x="7826" y="14862"/>
                  <a:pt x="7829" y="14904"/>
                  <a:pt x="7828" y="14948"/>
                </a:cubicBezTo>
                <a:cubicBezTo>
                  <a:pt x="7825" y="15040"/>
                  <a:pt x="7823" y="15133"/>
                  <a:pt x="7820" y="15225"/>
                </a:cubicBezTo>
                <a:cubicBezTo>
                  <a:pt x="7818" y="15302"/>
                  <a:pt x="7815" y="15379"/>
                  <a:pt x="7817" y="15456"/>
                </a:cubicBezTo>
                <a:cubicBezTo>
                  <a:pt x="7818" y="15483"/>
                  <a:pt x="7818" y="15489"/>
                  <a:pt x="7818" y="15506"/>
                </a:cubicBezTo>
                <a:cubicBezTo>
                  <a:pt x="7832" y="15485"/>
                  <a:pt x="7846" y="15459"/>
                  <a:pt x="7857" y="15430"/>
                </a:cubicBezTo>
                <a:cubicBezTo>
                  <a:pt x="7891" y="15339"/>
                  <a:pt x="7921" y="15248"/>
                  <a:pt x="7951" y="15156"/>
                </a:cubicBezTo>
                <a:cubicBezTo>
                  <a:pt x="7965" y="15114"/>
                  <a:pt x="7976" y="15072"/>
                  <a:pt x="7989" y="15030"/>
                </a:cubicBezTo>
              </a:path>
              <a:path w="4166" h="1165">
                <a:moveTo>
                  <a:pt x="8111" y="14723"/>
                </a:moveTo>
                <a:cubicBezTo>
                  <a:pt x="8145" y="14730"/>
                  <a:pt x="8125" y="14766"/>
                  <a:pt x="8127" y="14803"/>
                </a:cubicBezTo>
                <a:cubicBezTo>
                  <a:pt x="8130" y="14855"/>
                  <a:pt x="8131" y="14909"/>
                  <a:pt x="8140" y="14960"/>
                </a:cubicBezTo>
                <a:cubicBezTo>
                  <a:pt x="8146" y="14984"/>
                  <a:pt x="8147" y="14991"/>
                  <a:pt x="8157" y="15004"/>
                </a:cubicBezTo>
                <a:cubicBezTo>
                  <a:pt x="8194" y="14983"/>
                  <a:pt x="8210" y="14954"/>
                  <a:pt x="8228" y="14913"/>
                </a:cubicBezTo>
                <a:cubicBezTo>
                  <a:pt x="8250" y="14862"/>
                  <a:pt x="8268" y="14812"/>
                  <a:pt x="8301" y="14767"/>
                </a:cubicBezTo>
                <a:cubicBezTo>
                  <a:pt x="8341" y="14785"/>
                  <a:pt x="8343" y="14814"/>
                  <a:pt x="8352" y="14861"/>
                </a:cubicBezTo>
                <a:cubicBezTo>
                  <a:pt x="8362" y="14915"/>
                  <a:pt x="8366" y="14971"/>
                  <a:pt x="8380" y="15025"/>
                </a:cubicBezTo>
                <a:cubicBezTo>
                  <a:pt x="8388" y="15055"/>
                  <a:pt x="8397" y="15048"/>
                  <a:pt x="8420" y="15043"/>
                </a:cubicBezTo>
              </a:path>
              <a:path w="4166" h="1165">
                <a:moveTo>
                  <a:pt x="8645" y="14749"/>
                </a:moveTo>
                <a:cubicBezTo>
                  <a:pt x="8650" y="14784"/>
                  <a:pt x="8652" y="14819"/>
                  <a:pt x="8655" y="14854"/>
                </a:cubicBezTo>
                <a:cubicBezTo>
                  <a:pt x="8657" y="14877"/>
                  <a:pt x="8651" y="14951"/>
                  <a:pt x="8669" y="14917"/>
                </a:cubicBezTo>
              </a:path>
              <a:path w="4166" h="1165">
                <a:moveTo>
                  <a:pt x="8627" y="14541"/>
                </a:moveTo>
                <a:cubicBezTo>
                  <a:pt x="8611" y="14508"/>
                  <a:pt x="8594" y="14482"/>
                  <a:pt x="8598" y="14447"/>
                </a:cubicBezTo>
              </a:path>
              <a:path w="4166" h="1165">
                <a:moveTo>
                  <a:pt x="8884" y="14703"/>
                </a:moveTo>
                <a:cubicBezTo>
                  <a:pt x="8858" y="14668"/>
                  <a:pt x="8900" y="14779"/>
                  <a:pt x="8904" y="14791"/>
                </a:cubicBezTo>
                <a:cubicBezTo>
                  <a:pt x="8925" y="14859"/>
                  <a:pt x="8950" y="14927"/>
                  <a:pt x="8979" y="14992"/>
                </a:cubicBezTo>
                <a:cubicBezTo>
                  <a:pt x="8994" y="15025"/>
                  <a:pt x="9008" y="15048"/>
                  <a:pt x="9032" y="15074"/>
                </a:cubicBezTo>
                <a:cubicBezTo>
                  <a:pt x="9070" y="15062"/>
                  <a:pt x="9077" y="15030"/>
                  <a:pt x="9092" y="14992"/>
                </a:cubicBezTo>
                <a:cubicBezTo>
                  <a:pt x="9117" y="14931"/>
                  <a:pt x="9138" y="14867"/>
                  <a:pt x="9156" y="14803"/>
                </a:cubicBezTo>
                <a:cubicBezTo>
                  <a:pt x="9167" y="14762"/>
                  <a:pt x="9184" y="14726"/>
                  <a:pt x="9196" y="14685"/>
                </a:cubicBezTo>
              </a:path>
              <a:path w="4166" h="1165">
                <a:moveTo>
                  <a:pt x="9469" y="14646"/>
                </a:moveTo>
                <a:cubicBezTo>
                  <a:pt x="9439" y="14693"/>
                  <a:pt x="9418" y="14737"/>
                  <a:pt x="9399" y="14790"/>
                </a:cubicBezTo>
                <a:cubicBezTo>
                  <a:pt x="9378" y="14847"/>
                  <a:pt x="9357" y="14906"/>
                  <a:pt x="9349" y="14966"/>
                </a:cubicBezTo>
                <a:cubicBezTo>
                  <a:pt x="9349" y="14974"/>
                  <a:pt x="9348" y="14982"/>
                  <a:pt x="9348" y="14990"/>
                </a:cubicBezTo>
                <a:cubicBezTo>
                  <a:pt x="9384" y="14985"/>
                  <a:pt x="9392" y="14950"/>
                  <a:pt x="9410" y="14916"/>
                </a:cubicBezTo>
                <a:cubicBezTo>
                  <a:pt x="9428" y="14883"/>
                  <a:pt x="9457" y="14797"/>
                  <a:pt x="9502" y="14791"/>
                </a:cubicBezTo>
                <a:cubicBezTo>
                  <a:pt x="9537" y="14786"/>
                  <a:pt x="9559" y="14848"/>
                  <a:pt x="9570" y="14870"/>
                </a:cubicBezTo>
                <a:cubicBezTo>
                  <a:pt x="9585" y="14903"/>
                  <a:pt x="9601" y="14960"/>
                  <a:pt x="9630" y="14984"/>
                </a:cubicBezTo>
                <a:cubicBezTo>
                  <a:pt x="9636" y="14986"/>
                  <a:pt x="9641" y="14988"/>
                  <a:pt x="9647" y="14990"/>
                </a:cubicBezTo>
              </a:path>
              <a:path w="4166" h="1165">
                <a:moveTo>
                  <a:pt x="9692" y="14436"/>
                </a:moveTo>
                <a:cubicBezTo>
                  <a:pt x="9690" y="14406"/>
                  <a:pt x="9688" y="14401"/>
                  <a:pt x="9691" y="14383"/>
                </a:cubicBezTo>
                <a:cubicBezTo>
                  <a:pt x="9702" y="14453"/>
                  <a:pt x="9712" y="14522"/>
                  <a:pt x="9719" y="14592"/>
                </a:cubicBezTo>
                <a:cubicBezTo>
                  <a:pt x="9731" y="14710"/>
                  <a:pt x="9738" y="14835"/>
                  <a:pt x="9785" y="14945"/>
                </a:cubicBezTo>
                <a:cubicBezTo>
                  <a:pt x="9799" y="14977"/>
                  <a:pt x="9808" y="14993"/>
                  <a:pt x="9834" y="15013"/>
                </a:cubicBezTo>
              </a:path>
              <a:path w="4166" h="1165">
                <a:moveTo>
                  <a:pt x="10064" y="14726"/>
                </a:moveTo>
                <a:cubicBezTo>
                  <a:pt x="10085" y="14723"/>
                  <a:pt x="10116" y="14722"/>
                  <a:pt x="10133" y="14709"/>
                </a:cubicBezTo>
                <a:cubicBezTo>
                  <a:pt x="10153" y="14694"/>
                  <a:pt x="10167" y="14668"/>
                  <a:pt x="10179" y="14646"/>
                </a:cubicBezTo>
                <a:cubicBezTo>
                  <a:pt x="10144" y="14669"/>
                  <a:pt x="10131" y="14710"/>
                  <a:pt x="10115" y="14750"/>
                </a:cubicBezTo>
                <a:cubicBezTo>
                  <a:pt x="10090" y="14813"/>
                  <a:pt x="10067" y="14878"/>
                  <a:pt x="10062" y="14946"/>
                </a:cubicBezTo>
                <a:cubicBezTo>
                  <a:pt x="10059" y="14990"/>
                  <a:pt x="10058" y="15042"/>
                  <a:pt x="10108" y="15057"/>
                </a:cubicBezTo>
                <a:cubicBezTo>
                  <a:pt x="10165" y="15074"/>
                  <a:pt x="10217" y="15045"/>
                  <a:pt x="10261" y="15010"/>
                </a:cubicBezTo>
                <a:cubicBezTo>
                  <a:pt x="10273" y="14998"/>
                  <a:pt x="10286" y="14987"/>
                  <a:pt x="10298" y="14975"/>
                </a:cubicBezTo>
              </a:path>
              <a:path w="4166" h="1165">
                <a:moveTo>
                  <a:pt x="10424" y="14867"/>
                </a:moveTo>
                <a:cubicBezTo>
                  <a:pt x="10432" y="14891"/>
                  <a:pt x="10439" y="14948"/>
                  <a:pt x="10459" y="14966"/>
                </a:cubicBezTo>
                <a:cubicBezTo>
                  <a:pt x="10466" y="14969"/>
                  <a:pt x="10473" y="14973"/>
                  <a:pt x="10480" y="14976"/>
                </a:cubicBezTo>
                <a:cubicBezTo>
                  <a:pt x="10505" y="14938"/>
                  <a:pt x="10520" y="14899"/>
                  <a:pt x="10539" y="14858"/>
                </a:cubicBezTo>
                <a:cubicBezTo>
                  <a:pt x="10548" y="14838"/>
                  <a:pt x="10566" y="14778"/>
                  <a:pt x="10594" y="14773"/>
                </a:cubicBezTo>
                <a:cubicBezTo>
                  <a:pt x="10628" y="14767"/>
                  <a:pt x="10640" y="14829"/>
                  <a:pt x="10647" y="14849"/>
                </a:cubicBezTo>
                <a:cubicBezTo>
                  <a:pt x="10664" y="14897"/>
                  <a:pt x="10667" y="14943"/>
                  <a:pt x="10677" y="14992"/>
                </a:cubicBezTo>
                <a:cubicBezTo>
                  <a:pt x="10684" y="15016"/>
                  <a:pt x="10685" y="15022"/>
                  <a:pt x="10691" y="15036"/>
                </a:cubicBezTo>
              </a:path>
              <a:path w="4166" h="1165">
                <a:moveTo>
                  <a:pt x="10846" y="14342"/>
                </a:moveTo>
                <a:cubicBezTo>
                  <a:pt x="10863" y="14392"/>
                  <a:pt x="10865" y="14448"/>
                  <a:pt x="10873" y="14501"/>
                </a:cubicBezTo>
                <a:cubicBezTo>
                  <a:pt x="10887" y="14593"/>
                  <a:pt x="10908" y="14684"/>
                  <a:pt x="10926" y="14775"/>
                </a:cubicBezTo>
                <a:cubicBezTo>
                  <a:pt x="10939" y="14839"/>
                  <a:pt x="10957" y="14900"/>
                  <a:pt x="10967" y="14964"/>
                </a:cubicBezTo>
              </a:path>
              <a:path w="4166" h="1165">
                <a:moveTo>
                  <a:pt x="10812" y="14712"/>
                </a:moveTo>
                <a:cubicBezTo>
                  <a:pt x="10852" y="14692"/>
                  <a:pt x="10884" y="14682"/>
                  <a:pt x="10926" y="14670"/>
                </a:cubicBezTo>
                <a:cubicBezTo>
                  <a:pt x="11003" y="14648"/>
                  <a:pt x="11076" y="14636"/>
                  <a:pt x="11155" y="14632"/>
                </a:cubicBezTo>
                <a:cubicBezTo>
                  <a:pt x="11198" y="14630"/>
                  <a:pt x="11241" y="14627"/>
                  <a:pt x="11283" y="14624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131840" y="1646280"/>
            <a:ext cx="374760" cy="345960"/>
          </a:xfrm>
          <a:custGeom>
            <a:avLst/>
            <a:gdLst/>
            <a:ahLst/>
            <a:rect l="l" t="t" r="r" b="b"/>
            <a:pathLst>
              <a:path w="1045" h="961">
                <a:moveTo>
                  <a:pt x="3161" y="4592"/>
                </a:moveTo>
                <a:cubicBezTo>
                  <a:pt x="3130" y="4569"/>
                  <a:pt x="3145" y="4610"/>
                  <a:pt x="3149" y="4654"/>
                </a:cubicBezTo>
                <a:cubicBezTo>
                  <a:pt x="3159" y="4765"/>
                  <a:pt x="3188" y="4875"/>
                  <a:pt x="3215" y="4983"/>
                </a:cubicBezTo>
                <a:cubicBezTo>
                  <a:pt x="3247" y="5111"/>
                  <a:pt x="3283" y="5237"/>
                  <a:pt x="3328" y="5361"/>
                </a:cubicBezTo>
                <a:cubicBezTo>
                  <a:pt x="3349" y="5419"/>
                  <a:pt x="3367" y="5458"/>
                  <a:pt x="3403" y="5500"/>
                </a:cubicBezTo>
                <a:cubicBezTo>
                  <a:pt x="3430" y="5450"/>
                  <a:pt x="3444" y="5407"/>
                  <a:pt x="3457" y="5348"/>
                </a:cubicBezTo>
                <a:cubicBezTo>
                  <a:pt x="3485" y="5223"/>
                  <a:pt x="3509" y="5097"/>
                  <a:pt x="3532" y="4971"/>
                </a:cubicBezTo>
                <a:cubicBezTo>
                  <a:pt x="3550" y="4873"/>
                  <a:pt x="3569" y="4776"/>
                  <a:pt x="3586" y="4678"/>
                </a:cubicBezTo>
                <a:cubicBezTo>
                  <a:pt x="3588" y="4669"/>
                  <a:pt x="3589" y="4661"/>
                  <a:pt x="3591" y="4652"/>
                </a:cubicBezTo>
              </a:path>
              <a:path w="1045" h="961">
                <a:moveTo>
                  <a:pt x="3243" y="5076"/>
                </a:moveTo>
                <a:cubicBezTo>
                  <a:pt x="3297" y="5057"/>
                  <a:pt x="3345" y="5032"/>
                  <a:pt x="3400" y="5014"/>
                </a:cubicBezTo>
                <a:cubicBezTo>
                  <a:pt x="3489" y="4985"/>
                  <a:pt x="3573" y="4971"/>
                  <a:pt x="3667" y="4968"/>
                </a:cubicBezTo>
                <a:cubicBezTo>
                  <a:pt x="3711" y="4967"/>
                  <a:pt x="3750" y="4972"/>
                  <a:pt x="3793" y="4978"/>
                </a:cubicBezTo>
              </a:path>
              <a:path w="1045" h="961">
                <a:moveTo>
                  <a:pt x="3834" y="4944"/>
                </a:moveTo>
                <a:cubicBezTo>
                  <a:pt x="3853" y="4974"/>
                  <a:pt x="3872" y="5010"/>
                  <a:pt x="3888" y="5045"/>
                </a:cubicBezTo>
                <a:cubicBezTo>
                  <a:pt x="3923" y="5124"/>
                  <a:pt x="3958" y="5202"/>
                  <a:pt x="4003" y="5276"/>
                </a:cubicBezTo>
                <a:cubicBezTo>
                  <a:pt x="4032" y="5324"/>
                  <a:pt x="4071" y="5400"/>
                  <a:pt x="4132" y="5415"/>
                </a:cubicBezTo>
                <a:cubicBezTo>
                  <a:pt x="4140" y="5414"/>
                  <a:pt x="4147" y="5413"/>
                  <a:pt x="4155" y="5412"/>
                </a:cubicBezTo>
              </a:path>
              <a:path w="1045" h="961">
                <a:moveTo>
                  <a:pt x="4186" y="4899"/>
                </a:moveTo>
                <a:cubicBezTo>
                  <a:pt x="4153" y="4935"/>
                  <a:pt x="4133" y="4974"/>
                  <a:pt x="4107" y="5019"/>
                </a:cubicBezTo>
                <a:cubicBezTo>
                  <a:pt x="4037" y="5139"/>
                  <a:pt x="3974" y="5254"/>
                  <a:pt x="3920" y="5382"/>
                </a:cubicBezTo>
                <a:cubicBezTo>
                  <a:pt x="3900" y="5430"/>
                  <a:pt x="3866" y="5482"/>
                  <a:pt x="3885" y="553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655640" y="1704960"/>
            <a:ext cx="574920" cy="311040"/>
          </a:xfrm>
          <a:custGeom>
            <a:avLst/>
            <a:gdLst/>
            <a:ahLst/>
            <a:rect l="l" t="t" r="r" b="b"/>
            <a:pathLst>
              <a:path w="1596" h="862">
                <a:moveTo>
                  <a:pt x="4923" y="4803"/>
                </a:moveTo>
                <a:cubicBezTo>
                  <a:pt x="4898" y="4774"/>
                  <a:pt x="4866" y="4753"/>
                  <a:pt x="4825" y="4782"/>
                </a:cubicBezTo>
                <a:cubicBezTo>
                  <a:pt x="4756" y="4831"/>
                  <a:pt x="4698" y="4929"/>
                  <a:pt x="4663" y="5004"/>
                </a:cubicBezTo>
                <a:cubicBezTo>
                  <a:pt x="4618" y="5102"/>
                  <a:pt x="4580" y="5226"/>
                  <a:pt x="4608" y="5334"/>
                </a:cubicBezTo>
                <a:cubicBezTo>
                  <a:pt x="4631" y="5423"/>
                  <a:pt x="4716" y="5454"/>
                  <a:pt x="4799" y="5441"/>
                </a:cubicBezTo>
                <a:cubicBezTo>
                  <a:pt x="4900" y="5425"/>
                  <a:pt x="4989" y="5351"/>
                  <a:pt x="5046" y="5270"/>
                </a:cubicBezTo>
                <a:cubicBezTo>
                  <a:pt x="5102" y="5191"/>
                  <a:pt x="5141" y="5081"/>
                  <a:pt x="5148" y="4985"/>
                </a:cubicBezTo>
                <a:cubicBezTo>
                  <a:pt x="5152" y="4931"/>
                  <a:pt x="5151" y="4849"/>
                  <a:pt x="5093" y="4822"/>
                </a:cubicBezTo>
                <a:cubicBezTo>
                  <a:pt x="5058" y="4816"/>
                  <a:pt x="5045" y="4814"/>
                  <a:pt x="5021" y="4823"/>
                </a:cubicBezTo>
              </a:path>
              <a:path w="1596" h="862">
                <a:moveTo>
                  <a:pt x="4859" y="5154"/>
                </a:moveTo>
                <a:cubicBezTo>
                  <a:pt x="4878" y="5196"/>
                  <a:pt x="4898" y="5235"/>
                  <a:pt x="4924" y="5273"/>
                </a:cubicBezTo>
                <a:cubicBezTo>
                  <a:pt x="4963" y="5331"/>
                  <a:pt x="5017" y="5387"/>
                  <a:pt x="5076" y="5424"/>
                </a:cubicBezTo>
                <a:cubicBezTo>
                  <a:pt x="5107" y="5441"/>
                  <a:pt x="5116" y="5446"/>
                  <a:pt x="5139" y="5451"/>
                </a:cubicBezTo>
              </a:path>
              <a:path w="1596" h="862">
                <a:moveTo>
                  <a:pt x="5473" y="4777"/>
                </a:moveTo>
                <a:cubicBezTo>
                  <a:pt x="5476" y="4755"/>
                  <a:pt x="5478" y="4750"/>
                  <a:pt x="5474" y="4737"/>
                </a:cubicBezTo>
                <a:cubicBezTo>
                  <a:pt x="5420" y="4765"/>
                  <a:pt x="5396" y="4809"/>
                  <a:pt x="5366" y="4863"/>
                </a:cubicBezTo>
                <a:cubicBezTo>
                  <a:pt x="5302" y="4980"/>
                  <a:pt x="5237" y="5123"/>
                  <a:pt x="5229" y="5258"/>
                </a:cubicBezTo>
                <a:cubicBezTo>
                  <a:pt x="5224" y="5335"/>
                  <a:pt x="5235" y="5433"/>
                  <a:pt x="5311" y="5473"/>
                </a:cubicBezTo>
                <a:cubicBezTo>
                  <a:pt x="5327" y="5478"/>
                  <a:pt x="5344" y="5482"/>
                  <a:pt x="5360" y="5487"/>
                </a:cubicBezTo>
              </a:path>
              <a:path w="1596" h="862">
                <a:moveTo>
                  <a:pt x="5711" y="5034"/>
                </a:moveTo>
                <a:cubicBezTo>
                  <a:pt x="5683" y="5057"/>
                  <a:pt x="5682" y="5096"/>
                  <a:pt x="5682" y="5133"/>
                </a:cubicBezTo>
                <a:cubicBezTo>
                  <a:pt x="5683" y="5199"/>
                  <a:pt x="5698" y="5265"/>
                  <a:pt x="5737" y="5319"/>
                </a:cubicBezTo>
                <a:cubicBezTo>
                  <a:pt x="5771" y="5365"/>
                  <a:pt x="5840" y="5392"/>
                  <a:pt x="5896" y="5394"/>
                </a:cubicBezTo>
                <a:cubicBezTo>
                  <a:pt x="5909" y="5393"/>
                  <a:pt x="5921" y="5391"/>
                  <a:pt x="5934" y="5390"/>
                </a:cubicBezTo>
              </a:path>
              <a:path w="1596" h="862">
                <a:moveTo>
                  <a:pt x="5959" y="5079"/>
                </a:moveTo>
                <a:cubicBezTo>
                  <a:pt x="5903" y="5100"/>
                  <a:pt x="5884" y="5143"/>
                  <a:pt x="5847" y="5189"/>
                </a:cubicBezTo>
                <a:cubicBezTo>
                  <a:pt x="5785" y="5267"/>
                  <a:pt x="5724" y="5348"/>
                  <a:pt x="5670" y="5432"/>
                </a:cubicBezTo>
                <a:cubicBezTo>
                  <a:pt x="5646" y="5470"/>
                  <a:pt x="5633" y="5512"/>
                  <a:pt x="5634" y="5532"/>
                </a:cubicBezTo>
              </a:path>
              <a:path w="1596" h="862">
                <a:moveTo>
                  <a:pt x="6083" y="4913"/>
                </a:moveTo>
                <a:cubicBezTo>
                  <a:pt x="6149" y="4955"/>
                  <a:pt x="6164" y="4997"/>
                  <a:pt x="6180" y="5075"/>
                </a:cubicBezTo>
                <a:cubicBezTo>
                  <a:pt x="6202" y="5184"/>
                  <a:pt x="6194" y="5302"/>
                  <a:pt x="6172" y="5411"/>
                </a:cubicBezTo>
                <a:cubicBezTo>
                  <a:pt x="6159" y="5479"/>
                  <a:pt x="6132" y="5536"/>
                  <a:pt x="6103" y="559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033720" y="1654200"/>
            <a:ext cx="396720" cy="314280"/>
          </a:xfrm>
          <a:custGeom>
            <a:avLst/>
            <a:gdLst/>
            <a:ahLst/>
            <a:rect l="l" t="t" r="r" b="b"/>
            <a:pathLst>
              <a:path w="1106" h="873">
                <a:moveTo>
                  <a:pt x="8560" y="5422"/>
                </a:moveTo>
                <a:cubicBezTo>
                  <a:pt x="8541" y="5450"/>
                  <a:pt x="8538" y="5455"/>
                  <a:pt x="8509" y="5465"/>
                </a:cubicBezTo>
                <a:cubicBezTo>
                  <a:pt x="8505" y="5426"/>
                  <a:pt x="8503" y="5387"/>
                  <a:pt x="8501" y="5348"/>
                </a:cubicBezTo>
                <a:cubicBezTo>
                  <a:pt x="8497" y="5254"/>
                  <a:pt x="8490" y="5161"/>
                  <a:pt x="8484" y="5067"/>
                </a:cubicBezTo>
                <a:cubicBezTo>
                  <a:pt x="8476" y="4932"/>
                  <a:pt x="8448" y="4771"/>
                  <a:pt x="8480" y="4638"/>
                </a:cubicBezTo>
                <a:cubicBezTo>
                  <a:pt x="8493" y="4583"/>
                  <a:pt x="8529" y="4588"/>
                  <a:pt x="8570" y="4612"/>
                </a:cubicBezTo>
                <a:cubicBezTo>
                  <a:pt x="8630" y="4647"/>
                  <a:pt x="8687" y="4698"/>
                  <a:pt x="8733" y="4750"/>
                </a:cubicBezTo>
                <a:cubicBezTo>
                  <a:pt x="8768" y="4789"/>
                  <a:pt x="8779" y="4817"/>
                  <a:pt x="8791" y="4866"/>
                </a:cubicBezTo>
              </a:path>
              <a:path w="1106" h="873">
                <a:moveTo>
                  <a:pt x="8463" y="5083"/>
                </a:moveTo>
                <a:cubicBezTo>
                  <a:pt x="8443" y="5090"/>
                  <a:pt x="8438" y="5092"/>
                  <a:pt x="8425" y="5093"/>
                </a:cubicBezTo>
                <a:cubicBezTo>
                  <a:pt x="8483" y="5057"/>
                  <a:pt x="8545" y="5042"/>
                  <a:pt x="8614" y="5032"/>
                </a:cubicBezTo>
                <a:cubicBezTo>
                  <a:pt x="8706" y="5018"/>
                  <a:pt x="8799" y="5021"/>
                  <a:pt x="8891" y="5023"/>
                </a:cubicBezTo>
              </a:path>
              <a:path w="1106" h="873">
                <a:moveTo>
                  <a:pt x="9056" y="5073"/>
                </a:moveTo>
                <a:cubicBezTo>
                  <a:pt x="9003" y="5089"/>
                  <a:pt x="8963" y="5104"/>
                  <a:pt x="8919" y="5138"/>
                </a:cubicBezTo>
                <a:cubicBezTo>
                  <a:pt x="8884" y="5165"/>
                  <a:pt x="8854" y="5200"/>
                  <a:pt x="8873" y="5247"/>
                </a:cubicBezTo>
                <a:cubicBezTo>
                  <a:pt x="8892" y="5294"/>
                  <a:pt x="8944" y="5309"/>
                  <a:pt x="8990" y="5310"/>
                </a:cubicBezTo>
                <a:cubicBezTo>
                  <a:pt x="9060" y="5312"/>
                  <a:pt x="9110" y="5275"/>
                  <a:pt x="9142" y="5215"/>
                </a:cubicBezTo>
                <a:cubicBezTo>
                  <a:pt x="9163" y="5175"/>
                  <a:pt x="9164" y="5142"/>
                  <a:pt x="9168" y="5098"/>
                </a:cubicBezTo>
                <a:cubicBezTo>
                  <a:pt x="9169" y="5093"/>
                  <a:pt x="9169" y="5089"/>
                  <a:pt x="9170" y="5084"/>
                </a:cubicBezTo>
              </a:path>
              <a:path w="1106" h="873">
                <a:moveTo>
                  <a:pt x="9278" y="5276"/>
                </a:moveTo>
                <a:cubicBezTo>
                  <a:pt x="9278" y="5294"/>
                  <a:pt x="9278" y="5299"/>
                  <a:pt x="9277" y="5311"/>
                </a:cubicBezTo>
                <a:cubicBezTo>
                  <a:pt x="9304" y="5271"/>
                  <a:pt x="9324" y="5230"/>
                  <a:pt x="9346" y="5187"/>
                </a:cubicBezTo>
                <a:cubicBezTo>
                  <a:pt x="9370" y="5140"/>
                  <a:pt x="9400" y="5084"/>
                  <a:pt x="9436" y="5046"/>
                </a:cubicBezTo>
                <a:cubicBezTo>
                  <a:pt x="9462" y="5019"/>
                  <a:pt x="9497" y="5021"/>
                  <a:pt x="9530" y="502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570120" y="1716120"/>
            <a:ext cx="252720" cy="228600"/>
          </a:xfrm>
          <a:custGeom>
            <a:avLst/>
            <a:gdLst/>
            <a:ahLst/>
            <a:rect l="l" t="t" r="r" b="b"/>
            <a:pathLst>
              <a:path w="702" h="637">
                <a:moveTo>
                  <a:pt x="10060" y="5144"/>
                </a:moveTo>
                <a:cubicBezTo>
                  <a:pt x="10035" y="5122"/>
                  <a:pt x="10005" y="5118"/>
                  <a:pt x="9975" y="5146"/>
                </a:cubicBezTo>
                <a:cubicBezTo>
                  <a:pt x="9936" y="5183"/>
                  <a:pt x="9907" y="5273"/>
                  <a:pt x="9922" y="5325"/>
                </a:cubicBezTo>
                <a:cubicBezTo>
                  <a:pt x="9935" y="5370"/>
                  <a:pt x="9977" y="5366"/>
                  <a:pt x="10010" y="5348"/>
                </a:cubicBezTo>
                <a:cubicBezTo>
                  <a:pt x="10055" y="5324"/>
                  <a:pt x="10088" y="5282"/>
                  <a:pt x="10122" y="5246"/>
                </a:cubicBezTo>
                <a:cubicBezTo>
                  <a:pt x="10140" y="5226"/>
                  <a:pt x="10164" y="5197"/>
                  <a:pt x="10184" y="5233"/>
                </a:cubicBezTo>
                <a:cubicBezTo>
                  <a:pt x="10207" y="5274"/>
                  <a:pt x="10207" y="5328"/>
                  <a:pt x="10225" y="5372"/>
                </a:cubicBezTo>
                <a:cubicBezTo>
                  <a:pt x="10230" y="5382"/>
                  <a:pt x="10235" y="5392"/>
                  <a:pt x="10240" y="5402"/>
                </a:cubicBezTo>
              </a:path>
              <a:path w="702" h="637">
                <a:moveTo>
                  <a:pt x="10416" y="4766"/>
                </a:moveTo>
                <a:cubicBezTo>
                  <a:pt x="10412" y="4821"/>
                  <a:pt x="10411" y="4873"/>
                  <a:pt x="10409" y="4928"/>
                </a:cubicBezTo>
                <a:cubicBezTo>
                  <a:pt x="10405" y="5031"/>
                  <a:pt x="10400" y="5135"/>
                  <a:pt x="10405" y="5238"/>
                </a:cubicBezTo>
                <a:cubicBezTo>
                  <a:pt x="10407" y="5281"/>
                  <a:pt x="10409" y="5311"/>
                  <a:pt x="10424" y="5347"/>
                </a:cubicBezTo>
                <a:cubicBezTo>
                  <a:pt x="10455" y="5290"/>
                  <a:pt x="10463" y="5227"/>
                  <a:pt x="10479" y="5163"/>
                </a:cubicBezTo>
                <a:cubicBezTo>
                  <a:pt x="10501" y="5073"/>
                  <a:pt x="10530" y="4984"/>
                  <a:pt x="10553" y="4894"/>
                </a:cubicBezTo>
                <a:cubicBezTo>
                  <a:pt x="10564" y="4852"/>
                  <a:pt x="10566" y="4839"/>
                  <a:pt x="10588" y="4805"/>
                </a:cubicBezTo>
                <a:cubicBezTo>
                  <a:pt x="10611" y="4860"/>
                  <a:pt x="10602" y="4922"/>
                  <a:pt x="10603" y="4983"/>
                </a:cubicBezTo>
                <a:cubicBezTo>
                  <a:pt x="10605" y="5089"/>
                  <a:pt x="10611" y="5195"/>
                  <a:pt x="10614" y="5301"/>
                </a:cubicBezTo>
                <a:cubicBezTo>
                  <a:pt x="10616" y="5354"/>
                  <a:pt x="10616" y="5368"/>
                  <a:pt x="10619" y="540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065480" y="1822320"/>
            <a:ext cx="136800" cy="174600"/>
          </a:xfrm>
          <a:custGeom>
            <a:avLst/>
            <a:gdLst/>
            <a:ahLst/>
            <a:rect l="l" t="t" r="r" b="b"/>
            <a:pathLst>
              <a:path w="379" h="488">
                <a:moveTo>
                  <a:pt x="11316" y="5109"/>
                </a:moveTo>
                <a:cubicBezTo>
                  <a:pt x="11303" y="5101"/>
                  <a:pt x="11300" y="5099"/>
                  <a:pt x="11292" y="5095"/>
                </a:cubicBezTo>
                <a:cubicBezTo>
                  <a:pt x="11309" y="5139"/>
                  <a:pt x="11339" y="5168"/>
                  <a:pt x="11372" y="5203"/>
                </a:cubicBezTo>
                <a:cubicBezTo>
                  <a:pt x="11425" y="5259"/>
                  <a:pt x="11477" y="5314"/>
                  <a:pt x="11538" y="5361"/>
                </a:cubicBezTo>
                <a:cubicBezTo>
                  <a:pt x="11580" y="5394"/>
                  <a:pt x="11609" y="5407"/>
                  <a:pt x="11658" y="5392"/>
                </a:cubicBezTo>
              </a:path>
              <a:path w="379" h="488">
                <a:moveTo>
                  <a:pt x="11670" y="5061"/>
                </a:moveTo>
                <a:cubicBezTo>
                  <a:pt x="11611" y="5085"/>
                  <a:pt x="11585" y="5134"/>
                  <a:pt x="11545" y="5183"/>
                </a:cubicBezTo>
                <a:cubicBezTo>
                  <a:pt x="11483" y="5260"/>
                  <a:pt x="11417" y="5339"/>
                  <a:pt x="11372" y="5428"/>
                </a:cubicBezTo>
                <a:cubicBezTo>
                  <a:pt x="11371" y="5429"/>
                  <a:pt x="11306" y="5551"/>
                  <a:pt x="11341" y="5548"/>
                </a:cubicBezTo>
                <a:cubicBezTo>
                  <a:pt x="11349" y="5545"/>
                  <a:pt x="11356" y="5541"/>
                  <a:pt x="11364" y="553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419720" y="1982880"/>
            <a:ext cx="36360" cy="79200"/>
          </a:xfrm>
          <a:custGeom>
            <a:avLst/>
            <a:gdLst/>
            <a:ahLst/>
            <a:rect l="l" t="t" r="r" b="b"/>
            <a:pathLst>
              <a:path w="101" h="222">
                <a:moveTo>
                  <a:pt x="12377" y="5510"/>
                </a:moveTo>
                <a:cubicBezTo>
                  <a:pt x="12351" y="5511"/>
                  <a:pt x="12339" y="5538"/>
                  <a:pt x="12329" y="5565"/>
                </a:cubicBezTo>
                <a:cubicBezTo>
                  <a:pt x="12309" y="5619"/>
                  <a:pt x="12289" y="5672"/>
                  <a:pt x="12277" y="572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633920" y="1704960"/>
            <a:ext cx="587520" cy="279360"/>
          </a:xfrm>
          <a:custGeom>
            <a:avLst/>
            <a:gdLst/>
            <a:ahLst/>
            <a:rect l="l" t="t" r="r" b="b"/>
            <a:pathLst>
              <a:path w="1630" h="773">
                <a:moveTo>
                  <a:pt x="13221" y="4827"/>
                </a:moveTo>
                <a:cubicBezTo>
                  <a:pt x="13235" y="4784"/>
                  <a:pt x="13241" y="4772"/>
                  <a:pt x="13211" y="4738"/>
                </a:cubicBezTo>
                <a:cubicBezTo>
                  <a:pt x="13144" y="4762"/>
                  <a:pt x="13108" y="4804"/>
                  <a:pt x="13063" y="4860"/>
                </a:cubicBezTo>
                <a:cubicBezTo>
                  <a:pt x="12987" y="4956"/>
                  <a:pt x="12922" y="5063"/>
                  <a:pt x="12889" y="5181"/>
                </a:cubicBezTo>
                <a:cubicBezTo>
                  <a:pt x="12867" y="5258"/>
                  <a:pt x="12852" y="5369"/>
                  <a:pt x="12933" y="5417"/>
                </a:cubicBezTo>
                <a:cubicBezTo>
                  <a:pt x="13003" y="5459"/>
                  <a:pt x="13104" y="5426"/>
                  <a:pt x="13169" y="5392"/>
                </a:cubicBezTo>
                <a:cubicBezTo>
                  <a:pt x="13253" y="5347"/>
                  <a:pt x="13319" y="5270"/>
                  <a:pt x="13363" y="5186"/>
                </a:cubicBezTo>
                <a:cubicBezTo>
                  <a:pt x="13416" y="5084"/>
                  <a:pt x="13445" y="4934"/>
                  <a:pt x="13381" y="4830"/>
                </a:cubicBezTo>
                <a:cubicBezTo>
                  <a:pt x="13348" y="4776"/>
                  <a:pt x="13299" y="4752"/>
                  <a:pt x="13237" y="4770"/>
                </a:cubicBezTo>
                <a:cubicBezTo>
                  <a:pt x="13223" y="4776"/>
                  <a:pt x="13210" y="4783"/>
                  <a:pt x="13196" y="4789"/>
                </a:cubicBezTo>
              </a:path>
              <a:path w="1630" h="773">
                <a:moveTo>
                  <a:pt x="13072" y="5326"/>
                </a:moveTo>
                <a:cubicBezTo>
                  <a:pt x="13098" y="5335"/>
                  <a:pt x="13123" y="5348"/>
                  <a:pt x="13148" y="5357"/>
                </a:cubicBezTo>
                <a:cubicBezTo>
                  <a:pt x="13199" y="5376"/>
                  <a:pt x="13253" y="5391"/>
                  <a:pt x="13302" y="5416"/>
                </a:cubicBezTo>
                <a:cubicBezTo>
                  <a:pt x="13349" y="5440"/>
                  <a:pt x="13394" y="5474"/>
                  <a:pt x="13445" y="5490"/>
                </a:cubicBezTo>
                <a:cubicBezTo>
                  <a:pt x="13453" y="5491"/>
                  <a:pt x="13461" y="5493"/>
                  <a:pt x="13469" y="5494"/>
                </a:cubicBezTo>
              </a:path>
              <a:path w="1630" h="773">
                <a:moveTo>
                  <a:pt x="13763" y="4818"/>
                </a:moveTo>
                <a:cubicBezTo>
                  <a:pt x="13767" y="4791"/>
                  <a:pt x="13769" y="4782"/>
                  <a:pt x="13761" y="4757"/>
                </a:cubicBezTo>
                <a:cubicBezTo>
                  <a:pt x="13722" y="4781"/>
                  <a:pt x="13708" y="4797"/>
                  <a:pt x="13684" y="4843"/>
                </a:cubicBezTo>
                <a:cubicBezTo>
                  <a:pt x="13637" y="4933"/>
                  <a:pt x="13606" y="5025"/>
                  <a:pt x="13587" y="5125"/>
                </a:cubicBezTo>
                <a:cubicBezTo>
                  <a:pt x="13571" y="5212"/>
                  <a:pt x="13564" y="5319"/>
                  <a:pt x="13612" y="5399"/>
                </a:cubicBezTo>
                <a:cubicBezTo>
                  <a:pt x="13641" y="5431"/>
                  <a:pt x="13650" y="5442"/>
                  <a:pt x="13677" y="5454"/>
                </a:cubicBezTo>
              </a:path>
              <a:path w="1630" h="773">
                <a:moveTo>
                  <a:pt x="13876" y="5114"/>
                </a:moveTo>
                <a:cubicBezTo>
                  <a:pt x="13872" y="5112"/>
                  <a:pt x="13868" y="5111"/>
                  <a:pt x="13864" y="5109"/>
                </a:cubicBezTo>
                <a:cubicBezTo>
                  <a:pt x="13854" y="5135"/>
                  <a:pt x="13862" y="5164"/>
                  <a:pt x="13872" y="5190"/>
                </a:cubicBezTo>
                <a:cubicBezTo>
                  <a:pt x="13893" y="5247"/>
                  <a:pt x="13925" y="5296"/>
                  <a:pt x="13972" y="5335"/>
                </a:cubicBezTo>
                <a:cubicBezTo>
                  <a:pt x="14015" y="5371"/>
                  <a:pt x="14069" y="5395"/>
                  <a:pt x="14126" y="5396"/>
                </a:cubicBezTo>
                <a:cubicBezTo>
                  <a:pt x="14156" y="5393"/>
                  <a:pt x="14166" y="5392"/>
                  <a:pt x="14183" y="5381"/>
                </a:cubicBezTo>
              </a:path>
              <a:path w="1630" h="773">
                <a:moveTo>
                  <a:pt x="14207" y="5162"/>
                </a:moveTo>
                <a:cubicBezTo>
                  <a:pt x="14187" y="5136"/>
                  <a:pt x="14183" y="5135"/>
                  <a:pt x="14159" y="5154"/>
                </a:cubicBezTo>
                <a:cubicBezTo>
                  <a:pt x="14123" y="5183"/>
                  <a:pt x="14106" y="5234"/>
                  <a:pt x="14089" y="5276"/>
                </a:cubicBezTo>
                <a:cubicBezTo>
                  <a:pt x="14068" y="5326"/>
                  <a:pt x="14046" y="5375"/>
                  <a:pt x="14028" y="5426"/>
                </a:cubicBezTo>
                <a:cubicBezTo>
                  <a:pt x="14022" y="5445"/>
                  <a:pt x="14021" y="5450"/>
                  <a:pt x="14014" y="5461"/>
                </a:cubicBezTo>
              </a:path>
              <a:path w="1630" h="773">
                <a:moveTo>
                  <a:pt x="14319" y="4809"/>
                </a:moveTo>
                <a:cubicBezTo>
                  <a:pt x="14368" y="4797"/>
                  <a:pt x="14404" y="4792"/>
                  <a:pt x="14440" y="4837"/>
                </a:cubicBezTo>
                <a:cubicBezTo>
                  <a:pt x="14490" y="4899"/>
                  <a:pt x="14499" y="4995"/>
                  <a:pt x="14502" y="5072"/>
                </a:cubicBezTo>
                <a:cubicBezTo>
                  <a:pt x="14506" y="5168"/>
                  <a:pt x="14492" y="5269"/>
                  <a:pt x="14468" y="5362"/>
                </a:cubicBezTo>
                <a:cubicBezTo>
                  <a:pt x="14454" y="5414"/>
                  <a:pt x="14434" y="5462"/>
                  <a:pt x="14411" y="551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498840" y="1082520"/>
            <a:ext cx="1484280" cy="349560"/>
          </a:xfrm>
          <a:custGeom>
            <a:avLst/>
            <a:gdLst/>
            <a:ahLst/>
            <a:rect l="l" t="t" r="r" b="b"/>
            <a:pathLst>
              <a:path w="4122" h="970">
                <a:moveTo>
                  <a:pt x="11888" y="3516"/>
                </a:moveTo>
                <a:cubicBezTo>
                  <a:pt x="11894" y="3491"/>
                  <a:pt x="11896" y="3483"/>
                  <a:pt x="11886" y="3458"/>
                </a:cubicBezTo>
                <a:cubicBezTo>
                  <a:pt x="11878" y="3437"/>
                  <a:pt x="11870" y="3411"/>
                  <a:pt x="11846" y="3401"/>
                </a:cubicBezTo>
                <a:cubicBezTo>
                  <a:pt x="11807" y="3385"/>
                  <a:pt x="11772" y="3424"/>
                  <a:pt x="11751" y="3450"/>
                </a:cubicBezTo>
                <a:cubicBezTo>
                  <a:pt x="11705" y="3509"/>
                  <a:pt x="11675" y="3584"/>
                  <a:pt x="11663" y="3658"/>
                </a:cubicBezTo>
                <a:cubicBezTo>
                  <a:pt x="11652" y="3726"/>
                  <a:pt x="11662" y="3775"/>
                  <a:pt x="11700" y="3829"/>
                </a:cubicBezTo>
                <a:cubicBezTo>
                  <a:pt x="11758" y="3831"/>
                  <a:pt x="11782" y="3807"/>
                  <a:pt x="11812" y="3754"/>
                </a:cubicBezTo>
                <a:cubicBezTo>
                  <a:pt x="11858" y="3673"/>
                  <a:pt x="11870" y="3577"/>
                  <a:pt x="11886" y="3487"/>
                </a:cubicBezTo>
                <a:cubicBezTo>
                  <a:pt x="11899" y="3410"/>
                  <a:pt x="11909" y="3330"/>
                  <a:pt x="11909" y="3252"/>
                </a:cubicBezTo>
                <a:cubicBezTo>
                  <a:pt x="11908" y="3244"/>
                  <a:pt x="11908" y="3236"/>
                  <a:pt x="11907" y="3228"/>
                </a:cubicBezTo>
                <a:cubicBezTo>
                  <a:pt x="11876" y="3273"/>
                  <a:pt x="11873" y="3331"/>
                  <a:pt x="11868" y="3386"/>
                </a:cubicBezTo>
                <a:cubicBezTo>
                  <a:pt x="11860" y="3486"/>
                  <a:pt x="11862" y="3583"/>
                  <a:pt x="11884" y="3681"/>
                </a:cubicBezTo>
                <a:cubicBezTo>
                  <a:pt x="11900" y="3755"/>
                  <a:pt x="11921" y="3793"/>
                  <a:pt x="11985" y="3829"/>
                </a:cubicBezTo>
              </a:path>
              <a:path w="4122" h="970">
                <a:moveTo>
                  <a:pt x="12247" y="3510"/>
                </a:moveTo>
                <a:cubicBezTo>
                  <a:pt x="12205" y="3500"/>
                  <a:pt x="12191" y="3521"/>
                  <a:pt x="12162" y="3551"/>
                </a:cubicBezTo>
                <a:cubicBezTo>
                  <a:pt x="12115" y="3598"/>
                  <a:pt x="12078" y="3651"/>
                  <a:pt x="12062" y="3717"/>
                </a:cubicBezTo>
                <a:cubicBezTo>
                  <a:pt x="12052" y="3758"/>
                  <a:pt x="12048" y="3828"/>
                  <a:pt x="12096" y="3850"/>
                </a:cubicBezTo>
                <a:cubicBezTo>
                  <a:pt x="12142" y="3872"/>
                  <a:pt x="12200" y="3825"/>
                  <a:pt x="12228" y="3794"/>
                </a:cubicBezTo>
                <a:cubicBezTo>
                  <a:pt x="12272" y="3746"/>
                  <a:pt x="12307" y="3676"/>
                  <a:pt x="12314" y="3611"/>
                </a:cubicBezTo>
                <a:cubicBezTo>
                  <a:pt x="12316" y="3588"/>
                  <a:pt x="12314" y="3562"/>
                  <a:pt x="12315" y="3539"/>
                </a:cubicBezTo>
              </a:path>
              <a:path w="4122" h="970">
                <a:moveTo>
                  <a:pt x="12360" y="3608"/>
                </a:moveTo>
                <a:cubicBezTo>
                  <a:pt x="12363" y="3649"/>
                  <a:pt x="12371" y="3695"/>
                  <a:pt x="12371" y="3735"/>
                </a:cubicBezTo>
                <a:cubicBezTo>
                  <a:pt x="12367" y="3753"/>
                  <a:pt x="12366" y="3759"/>
                  <a:pt x="12374" y="3770"/>
                </a:cubicBezTo>
                <a:cubicBezTo>
                  <a:pt x="12409" y="3774"/>
                  <a:pt x="12421" y="3752"/>
                  <a:pt x="12442" y="3718"/>
                </a:cubicBezTo>
                <a:cubicBezTo>
                  <a:pt x="12466" y="3680"/>
                  <a:pt x="12487" y="3638"/>
                  <a:pt x="12519" y="3606"/>
                </a:cubicBezTo>
                <a:cubicBezTo>
                  <a:pt x="12545" y="3580"/>
                  <a:pt x="12567" y="3592"/>
                  <a:pt x="12579" y="3624"/>
                </a:cubicBezTo>
                <a:cubicBezTo>
                  <a:pt x="12597" y="3675"/>
                  <a:pt x="12599" y="3732"/>
                  <a:pt x="12610" y="3785"/>
                </a:cubicBezTo>
                <a:cubicBezTo>
                  <a:pt x="12611" y="3790"/>
                  <a:pt x="12613" y="3796"/>
                  <a:pt x="12614" y="3801"/>
                </a:cubicBezTo>
                <a:cubicBezTo>
                  <a:pt x="12643" y="3781"/>
                  <a:pt x="12651" y="3750"/>
                  <a:pt x="12670" y="3718"/>
                </a:cubicBezTo>
                <a:cubicBezTo>
                  <a:pt x="12684" y="3694"/>
                  <a:pt x="12710" y="3641"/>
                  <a:pt x="12745" y="3644"/>
                </a:cubicBezTo>
                <a:cubicBezTo>
                  <a:pt x="12785" y="3647"/>
                  <a:pt x="12799" y="3707"/>
                  <a:pt x="12811" y="3735"/>
                </a:cubicBezTo>
                <a:cubicBezTo>
                  <a:pt x="12826" y="3768"/>
                  <a:pt x="12842" y="3798"/>
                  <a:pt x="12861" y="3828"/>
                </a:cubicBezTo>
              </a:path>
              <a:path w="4122" h="970">
                <a:moveTo>
                  <a:pt x="13068" y="3547"/>
                </a:moveTo>
                <a:cubicBezTo>
                  <a:pt x="13061" y="3523"/>
                  <a:pt x="13059" y="3514"/>
                  <a:pt x="13042" y="3497"/>
                </a:cubicBezTo>
                <a:cubicBezTo>
                  <a:pt x="13002" y="3523"/>
                  <a:pt x="12988" y="3547"/>
                  <a:pt x="12974" y="3595"/>
                </a:cubicBezTo>
                <a:cubicBezTo>
                  <a:pt x="12953" y="3664"/>
                  <a:pt x="12930" y="3760"/>
                  <a:pt x="12961" y="3829"/>
                </a:cubicBezTo>
                <a:cubicBezTo>
                  <a:pt x="12982" y="3875"/>
                  <a:pt x="13026" y="3852"/>
                  <a:pt x="13054" y="3829"/>
                </a:cubicBezTo>
                <a:cubicBezTo>
                  <a:pt x="13102" y="3790"/>
                  <a:pt x="13131" y="3737"/>
                  <a:pt x="13158" y="3683"/>
                </a:cubicBezTo>
                <a:cubicBezTo>
                  <a:pt x="13160" y="3680"/>
                  <a:pt x="13161" y="3676"/>
                  <a:pt x="13163" y="3673"/>
                </a:cubicBezTo>
                <a:cubicBezTo>
                  <a:pt x="13160" y="3689"/>
                  <a:pt x="13156" y="3704"/>
                  <a:pt x="13153" y="3720"/>
                </a:cubicBezTo>
                <a:cubicBezTo>
                  <a:pt x="13147" y="3754"/>
                  <a:pt x="13147" y="3785"/>
                  <a:pt x="13150" y="3819"/>
                </a:cubicBezTo>
                <a:cubicBezTo>
                  <a:pt x="13152" y="3841"/>
                  <a:pt x="13162" y="3961"/>
                  <a:pt x="13203" y="3955"/>
                </a:cubicBezTo>
                <a:cubicBezTo>
                  <a:pt x="13221" y="3952"/>
                  <a:pt x="13219" y="3944"/>
                  <a:pt x="13225" y="3927"/>
                </a:cubicBezTo>
              </a:path>
              <a:path w="4122" h="970">
                <a:moveTo>
                  <a:pt x="13272" y="3557"/>
                </a:moveTo>
                <a:cubicBezTo>
                  <a:pt x="13297" y="3582"/>
                  <a:pt x="13295" y="3598"/>
                  <a:pt x="13302" y="3632"/>
                </a:cubicBezTo>
                <a:cubicBezTo>
                  <a:pt x="13311" y="3674"/>
                  <a:pt x="13320" y="3716"/>
                  <a:pt x="13332" y="3757"/>
                </a:cubicBezTo>
                <a:cubicBezTo>
                  <a:pt x="13338" y="3777"/>
                  <a:pt x="13339" y="3782"/>
                  <a:pt x="13346" y="3793"/>
                </a:cubicBezTo>
              </a:path>
              <a:path w="4122" h="970">
                <a:moveTo>
                  <a:pt x="13326" y="3457"/>
                </a:moveTo>
                <a:cubicBezTo>
                  <a:pt x="13320" y="3425"/>
                  <a:pt x="13307" y="3383"/>
                  <a:pt x="13313" y="3350"/>
                </a:cubicBezTo>
                <a:cubicBezTo>
                  <a:pt x="13319" y="3319"/>
                  <a:pt x="13354" y="3334"/>
                  <a:pt x="13370" y="3344"/>
                </a:cubicBezTo>
                <a:cubicBezTo>
                  <a:pt x="13377" y="3349"/>
                  <a:pt x="13384" y="3354"/>
                  <a:pt x="13391" y="3359"/>
                </a:cubicBezTo>
              </a:path>
              <a:path w="4122" h="970">
                <a:moveTo>
                  <a:pt x="13528" y="3739"/>
                </a:moveTo>
                <a:cubicBezTo>
                  <a:pt x="13528" y="3761"/>
                  <a:pt x="13529" y="3779"/>
                  <a:pt x="13533" y="3800"/>
                </a:cubicBezTo>
                <a:cubicBezTo>
                  <a:pt x="13556" y="3771"/>
                  <a:pt x="13568" y="3737"/>
                  <a:pt x="13588" y="3706"/>
                </a:cubicBezTo>
                <a:cubicBezTo>
                  <a:pt x="13608" y="3674"/>
                  <a:pt x="13632" y="3626"/>
                  <a:pt x="13673" y="3619"/>
                </a:cubicBezTo>
                <a:cubicBezTo>
                  <a:pt x="13714" y="3612"/>
                  <a:pt x="13736" y="3672"/>
                  <a:pt x="13753" y="3697"/>
                </a:cubicBezTo>
                <a:cubicBezTo>
                  <a:pt x="13778" y="3735"/>
                  <a:pt x="13806" y="3766"/>
                  <a:pt x="13840" y="3796"/>
                </a:cubicBezTo>
              </a:path>
              <a:path w="4122" h="970">
                <a:moveTo>
                  <a:pt x="9719" y="3388"/>
                </a:moveTo>
                <a:cubicBezTo>
                  <a:pt x="9745" y="3410"/>
                  <a:pt x="9763" y="3429"/>
                  <a:pt x="9780" y="3460"/>
                </a:cubicBezTo>
                <a:cubicBezTo>
                  <a:pt x="9813" y="3521"/>
                  <a:pt x="9841" y="3583"/>
                  <a:pt x="9868" y="3647"/>
                </a:cubicBezTo>
                <a:cubicBezTo>
                  <a:pt x="9897" y="3716"/>
                  <a:pt x="9923" y="3784"/>
                  <a:pt x="9964" y="3847"/>
                </a:cubicBezTo>
                <a:cubicBezTo>
                  <a:pt x="9980" y="3872"/>
                  <a:pt x="9983" y="3875"/>
                  <a:pt x="10007" y="3869"/>
                </a:cubicBezTo>
              </a:path>
              <a:path w="4122" h="970">
                <a:moveTo>
                  <a:pt x="10101" y="3401"/>
                </a:moveTo>
                <a:cubicBezTo>
                  <a:pt x="10064" y="3393"/>
                  <a:pt x="10035" y="3441"/>
                  <a:pt x="10017" y="3473"/>
                </a:cubicBezTo>
                <a:cubicBezTo>
                  <a:pt x="9962" y="3569"/>
                  <a:pt x="9915" y="3670"/>
                  <a:pt x="9864" y="3769"/>
                </a:cubicBezTo>
                <a:cubicBezTo>
                  <a:pt x="9829" y="3837"/>
                  <a:pt x="9800" y="3904"/>
                  <a:pt x="9771" y="3975"/>
                </a:cubicBezTo>
              </a:path>
              <a:path w="4122" h="970">
                <a:moveTo>
                  <a:pt x="10282" y="3229"/>
                </a:moveTo>
                <a:cubicBezTo>
                  <a:pt x="10299" y="3298"/>
                  <a:pt x="10313" y="3367"/>
                  <a:pt x="10319" y="3438"/>
                </a:cubicBezTo>
                <a:cubicBezTo>
                  <a:pt x="10328" y="3543"/>
                  <a:pt x="10335" y="3649"/>
                  <a:pt x="10340" y="3754"/>
                </a:cubicBezTo>
                <a:cubicBezTo>
                  <a:pt x="10342" y="3794"/>
                  <a:pt x="10343" y="3835"/>
                  <a:pt x="10343" y="3875"/>
                </a:cubicBezTo>
                <a:cubicBezTo>
                  <a:pt x="10352" y="3821"/>
                  <a:pt x="10361" y="3767"/>
                  <a:pt x="10375" y="3714"/>
                </a:cubicBezTo>
                <a:cubicBezTo>
                  <a:pt x="10394" y="3644"/>
                  <a:pt x="10411" y="3577"/>
                  <a:pt x="10467" y="3530"/>
                </a:cubicBezTo>
                <a:cubicBezTo>
                  <a:pt x="10509" y="3559"/>
                  <a:pt x="10514" y="3606"/>
                  <a:pt x="10524" y="3658"/>
                </a:cubicBezTo>
                <a:cubicBezTo>
                  <a:pt x="10536" y="3724"/>
                  <a:pt x="10541" y="3800"/>
                  <a:pt x="10565" y="3863"/>
                </a:cubicBezTo>
                <a:cubicBezTo>
                  <a:pt x="10570" y="3872"/>
                  <a:pt x="10576" y="3881"/>
                  <a:pt x="10581" y="3890"/>
                </a:cubicBezTo>
              </a:path>
              <a:path w="4122" h="970">
                <a:moveTo>
                  <a:pt x="10778" y="3585"/>
                </a:moveTo>
                <a:cubicBezTo>
                  <a:pt x="10750" y="3567"/>
                  <a:pt x="10718" y="3589"/>
                  <a:pt x="10697" y="3618"/>
                </a:cubicBezTo>
                <a:cubicBezTo>
                  <a:pt x="10660" y="3667"/>
                  <a:pt x="10631" y="3734"/>
                  <a:pt x="10617" y="3794"/>
                </a:cubicBezTo>
                <a:cubicBezTo>
                  <a:pt x="10610" y="3827"/>
                  <a:pt x="10610" y="3842"/>
                  <a:pt x="10625" y="3868"/>
                </a:cubicBezTo>
                <a:cubicBezTo>
                  <a:pt x="10668" y="3859"/>
                  <a:pt x="10695" y="3838"/>
                  <a:pt x="10728" y="3808"/>
                </a:cubicBezTo>
                <a:cubicBezTo>
                  <a:pt x="10748" y="3789"/>
                  <a:pt x="10781" y="3741"/>
                  <a:pt x="10813" y="3741"/>
                </a:cubicBezTo>
                <a:cubicBezTo>
                  <a:pt x="10844" y="3741"/>
                  <a:pt x="10850" y="3796"/>
                  <a:pt x="10857" y="3816"/>
                </a:cubicBezTo>
                <a:cubicBezTo>
                  <a:pt x="10870" y="3857"/>
                  <a:pt x="10885" y="3887"/>
                  <a:pt x="10913" y="3919"/>
                </a:cubicBezTo>
              </a:path>
              <a:path w="4122" h="970">
                <a:moveTo>
                  <a:pt x="11088" y="3593"/>
                </a:moveTo>
                <a:cubicBezTo>
                  <a:pt x="11082" y="3579"/>
                  <a:pt x="11081" y="3574"/>
                  <a:pt x="11069" y="3573"/>
                </a:cubicBezTo>
                <a:cubicBezTo>
                  <a:pt x="11078" y="3601"/>
                  <a:pt x="11092" y="3611"/>
                  <a:pt x="11114" y="3631"/>
                </a:cubicBezTo>
                <a:cubicBezTo>
                  <a:pt x="11156" y="3670"/>
                  <a:pt x="11183" y="3712"/>
                  <a:pt x="11171" y="3772"/>
                </a:cubicBezTo>
                <a:cubicBezTo>
                  <a:pt x="11159" y="3829"/>
                  <a:pt x="11116" y="3883"/>
                  <a:pt x="11067" y="3914"/>
                </a:cubicBezTo>
                <a:cubicBezTo>
                  <a:pt x="11045" y="3928"/>
                  <a:pt x="11004" y="3947"/>
                  <a:pt x="10977" y="3938"/>
                </a:cubicBezTo>
                <a:cubicBezTo>
                  <a:pt x="10955" y="3931"/>
                  <a:pt x="10963" y="3909"/>
                  <a:pt x="10968" y="3895"/>
                </a:cubicBezTo>
              </a:path>
              <a:path w="4122" h="970">
                <a:moveTo>
                  <a:pt x="11451" y="3015"/>
                </a:moveTo>
                <a:cubicBezTo>
                  <a:pt x="11423" y="3006"/>
                  <a:pt x="11388" y="3003"/>
                  <a:pt x="11359" y="3012"/>
                </a:cubicBezTo>
                <a:cubicBezTo>
                  <a:pt x="11328" y="3022"/>
                  <a:pt x="11296" y="3043"/>
                  <a:pt x="11273" y="3066"/>
                </a:cubicBezTo>
                <a:cubicBezTo>
                  <a:pt x="11245" y="3094"/>
                  <a:pt x="11269" y="3108"/>
                  <a:pt x="11297" y="3121"/>
                </a:cubicBezTo>
                <a:cubicBezTo>
                  <a:pt x="11325" y="3134"/>
                  <a:pt x="11360" y="3145"/>
                  <a:pt x="11379" y="3172"/>
                </a:cubicBezTo>
                <a:cubicBezTo>
                  <a:pt x="11398" y="3198"/>
                  <a:pt x="11384" y="3234"/>
                  <a:pt x="11365" y="3256"/>
                </a:cubicBezTo>
                <a:cubicBezTo>
                  <a:pt x="11339" y="3287"/>
                  <a:pt x="11305" y="3299"/>
                  <a:pt x="11274" y="3321"/>
                </a:cubicBezTo>
                <a:cubicBezTo>
                  <a:pt x="11257" y="3333"/>
                  <a:pt x="11236" y="3342"/>
                  <a:pt x="11270" y="3335"/>
                </a:cubicBezTo>
              </a:path>
              <a:path w="4122" h="970">
                <a:moveTo>
                  <a:pt x="11657" y="3099"/>
                </a:moveTo>
                <a:cubicBezTo>
                  <a:pt x="11647" y="3127"/>
                  <a:pt x="11629" y="3156"/>
                  <a:pt x="11613" y="3182"/>
                </a:cubicBezTo>
                <a:cubicBezTo>
                  <a:pt x="11604" y="3197"/>
                  <a:pt x="11576" y="3242"/>
                  <a:pt x="11588" y="3261"/>
                </a:cubicBezTo>
                <a:cubicBezTo>
                  <a:pt x="11593" y="3264"/>
                  <a:pt x="11597" y="3267"/>
                  <a:pt x="11602" y="3270"/>
                </a:cubicBezTo>
                <a:cubicBezTo>
                  <a:pt x="11629" y="3254"/>
                  <a:pt x="11644" y="3235"/>
                  <a:pt x="11663" y="3210"/>
                </a:cubicBezTo>
                <a:cubicBezTo>
                  <a:pt x="11684" y="3182"/>
                  <a:pt x="11700" y="3149"/>
                  <a:pt x="11723" y="3123"/>
                </a:cubicBezTo>
                <a:cubicBezTo>
                  <a:pt x="11734" y="3114"/>
                  <a:pt x="11738" y="3111"/>
                  <a:pt x="11748" y="3116"/>
                </a:cubicBezTo>
                <a:cubicBezTo>
                  <a:pt x="11754" y="3140"/>
                  <a:pt x="11755" y="3164"/>
                  <a:pt x="11757" y="3189"/>
                </a:cubicBezTo>
                <a:cubicBezTo>
                  <a:pt x="11759" y="3213"/>
                  <a:pt x="11758" y="3237"/>
                  <a:pt x="11761" y="3261"/>
                </a:cubicBezTo>
                <a:cubicBezTo>
                  <a:pt x="11762" y="3267"/>
                  <a:pt x="11762" y="3272"/>
                  <a:pt x="11763" y="3278"/>
                </a:cubicBezTo>
                <a:cubicBezTo>
                  <a:pt x="11790" y="3272"/>
                  <a:pt x="11792" y="3250"/>
                  <a:pt x="11808" y="3226"/>
                </a:cubicBezTo>
                <a:cubicBezTo>
                  <a:pt x="11825" y="3205"/>
                  <a:pt x="11830" y="3198"/>
                  <a:pt x="11838" y="3181"/>
                </a:cubicBezTo>
              </a:path>
              <a:path w="4122" h="970">
                <a:moveTo>
                  <a:pt x="11871" y="3124"/>
                </a:moveTo>
                <a:cubicBezTo>
                  <a:pt x="11894" y="3128"/>
                  <a:pt x="11883" y="3110"/>
                  <a:pt x="11891" y="3143"/>
                </a:cubicBezTo>
                <a:cubicBezTo>
                  <a:pt x="11896" y="3165"/>
                  <a:pt x="11896" y="3188"/>
                  <a:pt x="11901" y="3210"/>
                </a:cubicBezTo>
                <a:cubicBezTo>
                  <a:pt x="11906" y="3225"/>
                  <a:pt x="11907" y="3229"/>
                  <a:pt x="11912" y="3238"/>
                </a:cubicBezTo>
                <a:cubicBezTo>
                  <a:pt x="11932" y="3221"/>
                  <a:pt x="11946" y="3203"/>
                  <a:pt x="11962" y="3181"/>
                </a:cubicBezTo>
                <a:cubicBezTo>
                  <a:pt x="11977" y="3160"/>
                  <a:pt x="12002" y="3124"/>
                  <a:pt x="12029" y="3118"/>
                </a:cubicBezTo>
                <a:cubicBezTo>
                  <a:pt x="12057" y="3112"/>
                  <a:pt x="12062" y="3121"/>
                  <a:pt x="12079" y="3142"/>
                </a:cubicBezTo>
                <a:cubicBezTo>
                  <a:pt x="12092" y="3159"/>
                  <a:pt x="12100" y="3183"/>
                  <a:pt x="12120" y="3194"/>
                </a:cubicBezTo>
                <a:cubicBezTo>
                  <a:pt x="12144" y="3208"/>
                  <a:pt x="12167" y="3193"/>
                  <a:pt x="12189" y="3182"/>
                </a:cubicBezTo>
                <a:cubicBezTo>
                  <a:pt x="12219" y="3167"/>
                  <a:pt x="12248" y="3151"/>
                  <a:pt x="12278" y="3136"/>
                </a:cubicBezTo>
                <a:cubicBezTo>
                  <a:pt x="12306" y="3123"/>
                  <a:pt x="12344" y="3111"/>
                  <a:pt x="12368" y="3091"/>
                </a:cubicBezTo>
                <a:cubicBezTo>
                  <a:pt x="12377" y="3079"/>
                  <a:pt x="12379" y="3075"/>
                  <a:pt x="12384" y="3067"/>
                </a:cubicBezTo>
                <a:cubicBezTo>
                  <a:pt x="12349" y="3059"/>
                  <a:pt x="12323" y="3075"/>
                  <a:pt x="12294" y="3099"/>
                </a:cubicBezTo>
                <a:cubicBezTo>
                  <a:pt x="12261" y="3126"/>
                  <a:pt x="12224" y="3180"/>
                  <a:pt x="12248" y="3225"/>
                </a:cubicBezTo>
                <a:cubicBezTo>
                  <a:pt x="12278" y="3281"/>
                  <a:pt x="12391" y="3276"/>
                  <a:pt x="12442" y="3279"/>
                </a:cubicBezTo>
                <a:cubicBezTo>
                  <a:pt x="12518" y="3283"/>
                  <a:pt x="12594" y="3275"/>
                  <a:pt x="12670" y="327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13320" y="1120680"/>
            <a:ext cx="484200" cy="289080"/>
          </a:xfrm>
          <a:custGeom>
            <a:avLst/>
            <a:gdLst/>
            <a:ahLst/>
            <a:rect l="l" t="t" r="r" b="b"/>
            <a:pathLst>
              <a:path w="1345" h="801">
                <a:moveTo>
                  <a:pt x="15087" y="3413"/>
                </a:moveTo>
                <a:cubicBezTo>
                  <a:pt x="15076" y="3388"/>
                  <a:pt x="15094" y="3455"/>
                  <a:pt x="15094" y="3456"/>
                </a:cubicBezTo>
                <a:cubicBezTo>
                  <a:pt x="15102" y="3516"/>
                  <a:pt x="15113" y="3576"/>
                  <a:pt x="15122" y="3636"/>
                </a:cubicBezTo>
                <a:cubicBezTo>
                  <a:pt x="15130" y="3690"/>
                  <a:pt x="15136" y="3749"/>
                  <a:pt x="15150" y="3802"/>
                </a:cubicBezTo>
                <a:cubicBezTo>
                  <a:pt x="15158" y="3822"/>
                  <a:pt x="15160" y="3829"/>
                  <a:pt x="15161" y="3802"/>
                </a:cubicBezTo>
              </a:path>
              <a:path w="1345" h="801">
                <a:moveTo>
                  <a:pt x="15092" y="3380"/>
                </a:moveTo>
                <a:cubicBezTo>
                  <a:pt x="15076" y="3334"/>
                  <a:pt x="15041" y="3277"/>
                  <a:pt x="15037" y="3228"/>
                </a:cubicBezTo>
                <a:cubicBezTo>
                  <a:pt x="15033" y="3182"/>
                  <a:pt x="15069" y="3150"/>
                  <a:pt x="15109" y="3135"/>
                </a:cubicBezTo>
                <a:cubicBezTo>
                  <a:pt x="15190" y="3104"/>
                  <a:pt x="15291" y="3106"/>
                  <a:pt x="15374" y="3126"/>
                </a:cubicBezTo>
                <a:cubicBezTo>
                  <a:pt x="15477" y="3151"/>
                  <a:pt x="15599" y="3228"/>
                  <a:pt x="15595" y="3349"/>
                </a:cubicBezTo>
                <a:cubicBezTo>
                  <a:pt x="15592" y="3440"/>
                  <a:pt x="15514" y="3525"/>
                  <a:pt x="15444" y="3574"/>
                </a:cubicBezTo>
                <a:cubicBezTo>
                  <a:pt x="15384" y="3617"/>
                  <a:pt x="15301" y="3647"/>
                  <a:pt x="15226" y="3640"/>
                </a:cubicBezTo>
                <a:cubicBezTo>
                  <a:pt x="15181" y="3636"/>
                  <a:pt x="15150" y="3602"/>
                  <a:pt x="15157" y="3556"/>
                </a:cubicBezTo>
                <a:cubicBezTo>
                  <a:pt x="15160" y="3547"/>
                  <a:pt x="15164" y="3537"/>
                  <a:pt x="15167" y="3528"/>
                </a:cubicBezTo>
              </a:path>
              <a:path w="1345" h="801">
                <a:moveTo>
                  <a:pt x="15758" y="3293"/>
                </a:moveTo>
                <a:cubicBezTo>
                  <a:pt x="15770" y="3260"/>
                  <a:pt x="15784" y="3233"/>
                  <a:pt x="15758" y="3208"/>
                </a:cubicBezTo>
                <a:cubicBezTo>
                  <a:pt x="15724" y="3242"/>
                  <a:pt x="15701" y="3284"/>
                  <a:pt x="15680" y="3328"/>
                </a:cubicBezTo>
                <a:cubicBezTo>
                  <a:pt x="15627" y="3439"/>
                  <a:pt x="15586" y="3576"/>
                  <a:pt x="15613" y="3700"/>
                </a:cubicBezTo>
                <a:cubicBezTo>
                  <a:pt x="15625" y="3753"/>
                  <a:pt x="15661" y="3805"/>
                  <a:pt x="15719" y="3811"/>
                </a:cubicBezTo>
                <a:cubicBezTo>
                  <a:pt x="15764" y="3816"/>
                  <a:pt x="15789" y="3792"/>
                  <a:pt x="15823" y="3769"/>
                </a:cubicBezTo>
              </a:path>
              <a:path w="1345" h="801">
                <a:moveTo>
                  <a:pt x="15887" y="3454"/>
                </a:moveTo>
                <a:cubicBezTo>
                  <a:pt x="15855" y="3450"/>
                  <a:pt x="15861" y="3479"/>
                  <a:pt x="15871" y="3506"/>
                </a:cubicBezTo>
                <a:cubicBezTo>
                  <a:pt x="15890" y="3557"/>
                  <a:pt x="15920" y="3602"/>
                  <a:pt x="15957" y="3642"/>
                </a:cubicBezTo>
                <a:cubicBezTo>
                  <a:pt x="15993" y="3681"/>
                  <a:pt x="16034" y="3719"/>
                  <a:pt x="16088" y="3731"/>
                </a:cubicBezTo>
                <a:cubicBezTo>
                  <a:pt x="16098" y="3732"/>
                  <a:pt x="16108" y="3732"/>
                  <a:pt x="16118" y="3733"/>
                </a:cubicBezTo>
              </a:path>
              <a:path w="1345" h="801">
                <a:moveTo>
                  <a:pt x="16205" y="3501"/>
                </a:moveTo>
                <a:cubicBezTo>
                  <a:pt x="16197" y="3486"/>
                  <a:pt x="16196" y="3481"/>
                  <a:pt x="16185" y="3479"/>
                </a:cubicBezTo>
                <a:cubicBezTo>
                  <a:pt x="16147" y="3509"/>
                  <a:pt x="16120" y="3560"/>
                  <a:pt x="16092" y="3602"/>
                </a:cubicBezTo>
                <a:cubicBezTo>
                  <a:pt x="16042" y="3678"/>
                  <a:pt x="15989" y="3754"/>
                  <a:pt x="15941" y="3831"/>
                </a:cubicBezTo>
                <a:cubicBezTo>
                  <a:pt x="15921" y="3867"/>
                  <a:pt x="15917" y="3876"/>
                  <a:pt x="15901" y="3897"/>
                </a:cubicBezTo>
              </a:path>
              <a:path w="1345" h="801">
                <a:moveTo>
                  <a:pt x="16230" y="3260"/>
                </a:moveTo>
                <a:cubicBezTo>
                  <a:pt x="16280" y="3268"/>
                  <a:pt x="16296" y="3291"/>
                  <a:pt x="16317" y="3338"/>
                </a:cubicBezTo>
                <a:cubicBezTo>
                  <a:pt x="16359" y="3430"/>
                  <a:pt x="16377" y="3530"/>
                  <a:pt x="16381" y="3631"/>
                </a:cubicBezTo>
                <a:cubicBezTo>
                  <a:pt x="16385" y="3716"/>
                  <a:pt x="16386" y="3807"/>
                  <a:pt x="16355" y="3888"/>
                </a:cubicBezTo>
                <a:cubicBezTo>
                  <a:pt x="16350" y="3896"/>
                  <a:pt x="16346" y="3905"/>
                  <a:pt x="16341" y="391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230960" y="1073160"/>
            <a:ext cx="1133640" cy="298440"/>
          </a:xfrm>
          <a:custGeom>
            <a:avLst/>
            <a:gdLst/>
            <a:ahLst/>
            <a:rect l="l" t="t" r="r" b="b"/>
            <a:pathLst>
              <a:path w="3147" h="831">
                <a:moveTo>
                  <a:pt x="20132" y="3374"/>
                </a:moveTo>
                <a:cubicBezTo>
                  <a:pt x="20126" y="3354"/>
                  <a:pt x="20120" y="3337"/>
                  <a:pt x="20114" y="3317"/>
                </a:cubicBezTo>
                <a:cubicBezTo>
                  <a:pt x="20113" y="3312"/>
                  <a:pt x="20112" y="3308"/>
                  <a:pt x="20111" y="3303"/>
                </a:cubicBezTo>
                <a:cubicBezTo>
                  <a:pt x="20117" y="3330"/>
                  <a:pt x="20119" y="3353"/>
                  <a:pt x="20120" y="3382"/>
                </a:cubicBezTo>
                <a:cubicBezTo>
                  <a:pt x="20122" y="3441"/>
                  <a:pt x="20121" y="3500"/>
                  <a:pt x="20118" y="3559"/>
                </a:cubicBezTo>
                <a:cubicBezTo>
                  <a:pt x="20115" y="3616"/>
                  <a:pt x="20110" y="3672"/>
                  <a:pt x="20109" y="3729"/>
                </a:cubicBezTo>
                <a:cubicBezTo>
                  <a:pt x="20108" y="3750"/>
                  <a:pt x="20109" y="3771"/>
                  <a:pt x="20109" y="3792"/>
                </a:cubicBezTo>
                <a:cubicBezTo>
                  <a:pt x="20109" y="3760"/>
                  <a:pt x="20108" y="3727"/>
                  <a:pt x="20107" y="3695"/>
                </a:cubicBezTo>
                <a:cubicBezTo>
                  <a:pt x="20104" y="3614"/>
                  <a:pt x="20101" y="3534"/>
                  <a:pt x="20099" y="3453"/>
                </a:cubicBezTo>
                <a:cubicBezTo>
                  <a:pt x="20097" y="3351"/>
                  <a:pt x="20094" y="3246"/>
                  <a:pt x="20110" y="3144"/>
                </a:cubicBezTo>
                <a:cubicBezTo>
                  <a:pt x="20118" y="3093"/>
                  <a:pt x="20130" y="3030"/>
                  <a:pt x="20169" y="2993"/>
                </a:cubicBezTo>
                <a:cubicBezTo>
                  <a:pt x="20195" y="2969"/>
                  <a:pt x="20223" y="2980"/>
                  <a:pt x="20246" y="3002"/>
                </a:cubicBezTo>
                <a:cubicBezTo>
                  <a:pt x="20314" y="3066"/>
                  <a:pt x="20343" y="3178"/>
                  <a:pt x="20345" y="3268"/>
                </a:cubicBezTo>
                <a:cubicBezTo>
                  <a:pt x="20346" y="3322"/>
                  <a:pt x="20327" y="3382"/>
                  <a:pt x="20276" y="3409"/>
                </a:cubicBezTo>
                <a:cubicBezTo>
                  <a:pt x="20242" y="3427"/>
                  <a:pt x="20197" y="3419"/>
                  <a:pt x="20163" y="3403"/>
                </a:cubicBezTo>
                <a:cubicBezTo>
                  <a:pt x="20117" y="3381"/>
                  <a:pt x="20098" y="3347"/>
                  <a:pt x="20089" y="3301"/>
                </a:cubicBezTo>
              </a:path>
              <a:path w="3147" h="831">
                <a:moveTo>
                  <a:pt x="20373" y="3388"/>
                </a:moveTo>
                <a:cubicBezTo>
                  <a:pt x="20372" y="3415"/>
                  <a:pt x="20374" y="3442"/>
                  <a:pt x="20378" y="3469"/>
                </a:cubicBezTo>
                <a:cubicBezTo>
                  <a:pt x="20385" y="3519"/>
                  <a:pt x="20392" y="3570"/>
                  <a:pt x="20401" y="3620"/>
                </a:cubicBezTo>
                <a:cubicBezTo>
                  <a:pt x="20405" y="3642"/>
                  <a:pt x="20409" y="3663"/>
                  <a:pt x="20415" y="3684"/>
                </a:cubicBezTo>
                <a:cubicBezTo>
                  <a:pt x="20419" y="3651"/>
                  <a:pt x="20421" y="3617"/>
                  <a:pt x="20425" y="3584"/>
                </a:cubicBezTo>
                <a:cubicBezTo>
                  <a:pt x="20435" y="3500"/>
                  <a:pt x="20444" y="3392"/>
                  <a:pt x="20491" y="3319"/>
                </a:cubicBezTo>
                <a:cubicBezTo>
                  <a:pt x="20510" y="3290"/>
                  <a:pt x="20525" y="3284"/>
                  <a:pt x="20557" y="3298"/>
                </a:cubicBezTo>
                <a:cubicBezTo>
                  <a:pt x="20577" y="3307"/>
                  <a:pt x="20593" y="3322"/>
                  <a:pt x="20609" y="3336"/>
                </a:cubicBezTo>
              </a:path>
              <a:path w="3147" h="831">
                <a:moveTo>
                  <a:pt x="20656" y="3492"/>
                </a:moveTo>
                <a:cubicBezTo>
                  <a:pt x="20678" y="3492"/>
                  <a:pt x="20702" y="3476"/>
                  <a:pt x="20720" y="3463"/>
                </a:cubicBezTo>
                <a:cubicBezTo>
                  <a:pt x="20752" y="3440"/>
                  <a:pt x="20786" y="3417"/>
                  <a:pt x="20811" y="3386"/>
                </a:cubicBezTo>
                <a:cubicBezTo>
                  <a:pt x="20824" y="3370"/>
                  <a:pt x="20828" y="3359"/>
                  <a:pt x="20827" y="3341"/>
                </a:cubicBezTo>
                <a:cubicBezTo>
                  <a:pt x="20796" y="3337"/>
                  <a:pt x="20772" y="3345"/>
                  <a:pt x="20745" y="3362"/>
                </a:cubicBezTo>
                <a:cubicBezTo>
                  <a:pt x="20711" y="3384"/>
                  <a:pt x="20677" y="3419"/>
                  <a:pt x="20664" y="3458"/>
                </a:cubicBezTo>
                <a:cubicBezTo>
                  <a:pt x="20651" y="3499"/>
                  <a:pt x="20672" y="3538"/>
                  <a:pt x="20701" y="3566"/>
                </a:cubicBezTo>
                <a:cubicBezTo>
                  <a:pt x="20735" y="3599"/>
                  <a:pt x="20791" y="3614"/>
                  <a:pt x="20836" y="3624"/>
                </a:cubicBezTo>
                <a:cubicBezTo>
                  <a:pt x="20849" y="3626"/>
                  <a:pt x="20861" y="3629"/>
                  <a:pt x="20874" y="3631"/>
                </a:cubicBezTo>
              </a:path>
              <a:path w="3147" h="831">
                <a:moveTo>
                  <a:pt x="21127" y="3451"/>
                </a:moveTo>
                <a:cubicBezTo>
                  <a:pt x="21116" y="3437"/>
                  <a:pt x="21118" y="3419"/>
                  <a:pt x="21091" y="3422"/>
                </a:cubicBezTo>
                <a:cubicBezTo>
                  <a:pt x="21061" y="3426"/>
                  <a:pt x="21022" y="3464"/>
                  <a:pt x="21004" y="3485"/>
                </a:cubicBezTo>
                <a:cubicBezTo>
                  <a:pt x="20968" y="3526"/>
                  <a:pt x="20942" y="3573"/>
                  <a:pt x="20942" y="3626"/>
                </a:cubicBezTo>
                <a:cubicBezTo>
                  <a:pt x="20963" y="3653"/>
                  <a:pt x="20978" y="3651"/>
                  <a:pt x="21005" y="3625"/>
                </a:cubicBezTo>
                <a:cubicBezTo>
                  <a:pt x="21070" y="3563"/>
                  <a:pt x="21100" y="3474"/>
                  <a:pt x="21132" y="3393"/>
                </a:cubicBezTo>
                <a:cubicBezTo>
                  <a:pt x="21165" y="3310"/>
                  <a:pt x="21189" y="3226"/>
                  <a:pt x="21213" y="3140"/>
                </a:cubicBezTo>
                <a:cubicBezTo>
                  <a:pt x="21222" y="3106"/>
                  <a:pt x="21231" y="3073"/>
                  <a:pt x="21237" y="3038"/>
                </a:cubicBezTo>
                <a:cubicBezTo>
                  <a:pt x="21212" y="3101"/>
                  <a:pt x="21207" y="3172"/>
                  <a:pt x="21200" y="3239"/>
                </a:cubicBezTo>
                <a:cubicBezTo>
                  <a:pt x="21191" y="3329"/>
                  <a:pt x="21181" y="3424"/>
                  <a:pt x="21187" y="3514"/>
                </a:cubicBezTo>
                <a:cubicBezTo>
                  <a:pt x="21190" y="3560"/>
                  <a:pt x="21201" y="3597"/>
                  <a:pt x="21218" y="3639"/>
                </a:cubicBezTo>
              </a:path>
              <a:path w="3147" h="831">
                <a:moveTo>
                  <a:pt x="21361" y="3485"/>
                </a:moveTo>
                <a:cubicBezTo>
                  <a:pt x="21355" y="3523"/>
                  <a:pt x="21351" y="3563"/>
                  <a:pt x="21351" y="3602"/>
                </a:cubicBezTo>
                <a:cubicBezTo>
                  <a:pt x="21351" y="3609"/>
                  <a:pt x="21346" y="3690"/>
                  <a:pt x="21359" y="3694"/>
                </a:cubicBezTo>
                <a:cubicBezTo>
                  <a:pt x="21362" y="3691"/>
                  <a:pt x="21366" y="3689"/>
                  <a:pt x="21369" y="3686"/>
                </a:cubicBezTo>
              </a:path>
              <a:path w="3147" h="831">
                <a:moveTo>
                  <a:pt x="21427" y="3348"/>
                </a:moveTo>
                <a:cubicBezTo>
                  <a:pt x="21430" y="3325"/>
                  <a:pt x="21431" y="3260"/>
                  <a:pt x="21445" y="3240"/>
                </a:cubicBezTo>
                <a:cubicBezTo>
                  <a:pt x="21456" y="3236"/>
                  <a:pt x="21459" y="3235"/>
                  <a:pt x="21466" y="3234"/>
                </a:cubicBezTo>
              </a:path>
              <a:path w="3147" h="831">
                <a:moveTo>
                  <a:pt x="21789" y="3458"/>
                </a:moveTo>
                <a:cubicBezTo>
                  <a:pt x="21794" y="3448"/>
                  <a:pt x="21796" y="3444"/>
                  <a:pt x="21792" y="3436"/>
                </a:cubicBezTo>
                <a:cubicBezTo>
                  <a:pt x="21757" y="3429"/>
                  <a:pt x="21738" y="3434"/>
                  <a:pt x="21710" y="3459"/>
                </a:cubicBezTo>
                <a:cubicBezTo>
                  <a:pt x="21680" y="3486"/>
                  <a:pt x="21647" y="3527"/>
                  <a:pt x="21639" y="3567"/>
                </a:cubicBezTo>
                <a:cubicBezTo>
                  <a:pt x="21631" y="3611"/>
                  <a:pt x="21654" y="3641"/>
                  <a:pt x="21692" y="3659"/>
                </a:cubicBezTo>
                <a:cubicBezTo>
                  <a:pt x="21734" y="3679"/>
                  <a:pt x="21794" y="3680"/>
                  <a:pt x="21840" y="3677"/>
                </a:cubicBezTo>
                <a:cubicBezTo>
                  <a:pt x="21850" y="3676"/>
                  <a:pt x="21861" y="3674"/>
                  <a:pt x="21871" y="3673"/>
                </a:cubicBezTo>
              </a:path>
              <a:path w="3147" h="831">
                <a:moveTo>
                  <a:pt x="22145" y="3444"/>
                </a:moveTo>
                <a:cubicBezTo>
                  <a:pt x="22143" y="3432"/>
                  <a:pt x="22143" y="3428"/>
                  <a:pt x="22137" y="3422"/>
                </a:cubicBezTo>
                <a:cubicBezTo>
                  <a:pt x="22111" y="3423"/>
                  <a:pt x="22093" y="3441"/>
                  <a:pt x="22075" y="3461"/>
                </a:cubicBezTo>
                <a:cubicBezTo>
                  <a:pt x="22043" y="3496"/>
                  <a:pt x="22018" y="3536"/>
                  <a:pt x="22006" y="3582"/>
                </a:cubicBezTo>
                <a:cubicBezTo>
                  <a:pt x="21999" y="3609"/>
                  <a:pt x="22001" y="3642"/>
                  <a:pt x="22037" y="3641"/>
                </a:cubicBezTo>
                <a:cubicBezTo>
                  <a:pt x="22072" y="3640"/>
                  <a:pt x="22104" y="3609"/>
                  <a:pt x="22128" y="3587"/>
                </a:cubicBezTo>
                <a:cubicBezTo>
                  <a:pt x="22148" y="3569"/>
                  <a:pt x="22161" y="3549"/>
                  <a:pt x="22186" y="3541"/>
                </a:cubicBezTo>
                <a:cubicBezTo>
                  <a:pt x="22192" y="3580"/>
                  <a:pt x="22190" y="3618"/>
                  <a:pt x="22198" y="3657"/>
                </a:cubicBezTo>
                <a:cubicBezTo>
                  <a:pt x="22206" y="3697"/>
                  <a:pt x="22209" y="3716"/>
                  <a:pt x="22248" y="3724"/>
                </a:cubicBezTo>
              </a:path>
              <a:path w="3147" h="831">
                <a:moveTo>
                  <a:pt x="22455" y="3055"/>
                </a:moveTo>
                <a:cubicBezTo>
                  <a:pt x="22455" y="3048"/>
                  <a:pt x="22454" y="3041"/>
                  <a:pt x="22454" y="3034"/>
                </a:cubicBezTo>
                <a:cubicBezTo>
                  <a:pt x="22422" y="3066"/>
                  <a:pt x="22412" y="3104"/>
                  <a:pt x="22405" y="3149"/>
                </a:cubicBezTo>
                <a:cubicBezTo>
                  <a:pt x="22391" y="3234"/>
                  <a:pt x="22394" y="3322"/>
                  <a:pt x="22397" y="3407"/>
                </a:cubicBezTo>
                <a:cubicBezTo>
                  <a:pt x="22400" y="3486"/>
                  <a:pt x="22418" y="3556"/>
                  <a:pt x="22449" y="3628"/>
                </a:cubicBezTo>
              </a:path>
              <a:path w="3147" h="831">
                <a:moveTo>
                  <a:pt x="22350" y="3402"/>
                </a:moveTo>
                <a:cubicBezTo>
                  <a:pt x="22346" y="3375"/>
                  <a:pt x="22347" y="3373"/>
                  <a:pt x="22371" y="3366"/>
                </a:cubicBezTo>
                <a:cubicBezTo>
                  <a:pt x="22413" y="3354"/>
                  <a:pt x="22461" y="3356"/>
                  <a:pt x="22504" y="3361"/>
                </a:cubicBezTo>
                <a:cubicBezTo>
                  <a:pt x="22568" y="3368"/>
                  <a:pt x="22629" y="3387"/>
                  <a:pt x="22691" y="3405"/>
                </a:cubicBezTo>
              </a:path>
              <a:path w="3147" h="831">
                <a:moveTo>
                  <a:pt x="22794" y="3495"/>
                </a:moveTo>
                <a:cubicBezTo>
                  <a:pt x="22759" y="3504"/>
                  <a:pt x="22811" y="3481"/>
                  <a:pt x="22820" y="3477"/>
                </a:cubicBezTo>
                <a:cubicBezTo>
                  <a:pt x="22854" y="3462"/>
                  <a:pt x="22887" y="3447"/>
                  <a:pt x="22920" y="3430"/>
                </a:cubicBezTo>
                <a:cubicBezTo>
                  <a:pt x="22936" y="3421"/>
                  <a:pt x="22941" y="3420"/>
                  <a:pt x="22946" y="3409"/>
                </a:cubicBezTo>
                <a:cubicBezTo>
                  <a:pt x="22904" y="3410"/>
                  <a:pt x="22866" y="3420"/>
                  <a:pt x="22828" y="3441"/>
                </a:cubicBezTo>
                <a:cubicBezTo>
                  <a:pt x="22795" y="3460"/>
                  <a:pt x="22752" y="3494"/>
                  <a:pt x="22745" y="3534"/>
                </a:cubicBezTo>
                <a:cubicBezTo>
                  <a:pt x="22738" y="3575"/>
                  <a:pt x="22785" y="3615"/>
                  <a:pt x="22815" y="3634"/>
                </a:cubicBezTo>
                <a:cubicBezTo>
                  <a:pt x="22849" y="3651"/>
                  <a:pt x="22861" y="3657"/>
                  <a:pt x="22887" y="3662"/>
                </a:cubicBezTo>
              </a:path>
              <a:path w="3147" h="831">
                <a:moveTo>
                  <a:pt x="23226" y="3468"/>
                </a:moveTo>
                <a:cubicBezTo>
                  <a:pt x="23216" y="3439"/>
                  <a:pt x="23200" y="3437"/>
                  <a:pt x="23168" y="3436"/>
                </a:cubicBezTo>
                <a:cubicBezTo>
                  <a:pt x="23134" y="3435"/>
                  <a:pt x="23074" y="3437"/>
                  <a:pt x="23046" y="3461"/>
                </a:cubicBezTo>
                <a:cubicBezTo>
                  <a:pt x="23044" y="3465"/>
                  <a:pt x="23043" y="3468"/>
                  <a:pt x="23041" y="3472"/>
                </a:cubicBezTo>
                <a:cubicBezTo>
                  <a:pt x="23059" y="3505"/>
                  <a:pt x="23091" y="3526"/>
                  <a:pt x="23118" y="3553"/>
                </a:cubicBezTo>
                <a:cubicBezTo>
                  <a:pt x="23160" y="3596"/>
                  <a:pt x="23203" y="3647"/>
                  <a:pt x="23225" y="3704"/>
                </a:cubicBezTo>
                <a:cubicBezTo>
                  <a:pt x="23236" y="3732"/>
                  <a:pt x="23241" y="3785"/>
                  <a:pt x="23210" y="3804"/>
                </a:cubicBezTo>
                <a:cubicBezTo>
                  <a:pt x="23189" y="3817"/>
                  <a:pt x="23158" y="3807"/>
                  <a:pt x="23136" y="380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147680" y="2489040"/>
            <a:ext cx="441360" cy="297000"/>
          </a:xfrm>
          <a:custGeom>
            <a:avLst/>
            <a:gdLst/>
            <a:ahLst/>
            <a:rect l="l" t="t" r="r" b="b"/>
            <a:pathLst>
              <a:path w="1225" h="825">
                <a:moveTo>
                  <a:pt x="3237" y="6971"/>
                </a:moveTo>
                <a:cubicBezTo>
                  <a:pt x="3219" y="6977"/>
                  <a:pt x="3204" y="6981"/>
                  <a:pt x="3187" y="6984"/>
                </a:cubicBezTo>
                <a:cubicBezTo>
                  <a:pt x="3229" y="6959"/>
                  <a:pt x="3270" y="6940"/>
                  <a:pt x="3318" y="6928"/>
                </a:cubicBezTo>
                <a:cubicBezTo>
                  <a:pt x="3422" y="6903"/>
                  <a:pt x="3567" y="6899"/>
                  <a:pt x="3645" y="6986"/>
                </a:cubicBezTo>
                <a:cubicBezTo>
                  <a:pt x="3701" y="7048"/>
                  <a:pt x="3697" y="7139"/>
                  <a:pt x="3699" y="7216"/>
                </a:cubicBezTo>
                <a:cubicBezTo>
                  <a:pt x="3701" y="7313"/>
                  <a:pt x="3712" y="7410"/>
                  <a:pt x="3708" y="7507"/>
                </a:cubicBezTo>
                <a:cubicBezTo>
                  <a:pt x="3707" y="7546"/>
                  <a:pt x="3709" y="7595"/>
                  <a:pt x="3695" y="7631"/>
                </a:cubicBezTo>
                <a:cubicBezTo>
                  <a:pt x="3686" y="7655"/>
                  <a:pt x="3669" y="7665"/>
                  <a:pt x="3643" y="7677"/>
                </a:cubicBezTo>
                <a:cubicBezTo>
                  <a:pt x="3592" y="7702"/>
                  <a:pt x="3538" y="7715"/>
                  <a:pt x="3483" y="7724"/>
                </a:cubicBezTo>
                <a:cubicBezTo>
                  <a:pt x="3400" y="7737"/>
                  <a:pt x="3320" y="7744"/>
                  <a:pt x="3244" y="7710"/>
                </a:cubicBezTo>
                <a:cubicBezTo>
                  <a:pt x="3266" y="7686"/>
                  <a:pt x="3279" y="7671"/>
                  <a:pt x="3308" y="7650"/>
                </a:cubicBezTo>
              </a:path>
              <a:path w="1225" h="825">
                <a:moveTo>
                  <a:pt x="3794" y="7405"/>
                </a:moveTo>
                <a:cubicBezTo>
                  <a:pt x="3745" y="7394"/>
                  <a:pt x="3696" y="7395"/>
                  <a:pt x="3646" y="7397"/>
                </a:cubicBezTo>
                <a:cubicBezTo>
                  <a:pt x="3562" y="7400"/>
                  <a:pt x="3477" y="7402"/>
                  <a:pt x="3393" y="7398"/>
                </a:cubicBezTo>
                <a:cubicBezTo>
                  <a:pt x="3380" y="7398"/>
                  <a:pt x="3376" y="7399"/>
                  <a:pt x="3369" y="7394"/>
                </a:cubicBezTo>
                <a:cubicBezTo>
                  <a:pt x="3387" y="7389"/>
                  <a:pt x="3402" y="7388"/>
                  <a:pt x="3420" y="7387"/>
                </a:cubicBezTo>
              </a:path>
              <a:path w="1225" h="825">
                <a:moveTo>
                  <a:pt x="4074" y="7258"/>
                </a:moveTo>
                <a:cubicBezTo>
                  <a:pt x="4073" y="7244"/>
                  <a:pt x="4073" y="7240"/>
                  <a:pt x="4068" y="7232"/>
                </a:cubicBezTo>
                <a:cubicBezTo>
                  <a:pt x="4073" y="7265"/>
                  <a:pt x="4077" y="7281"/>
                  <a:pt x="4093" y="7314"/>
                </a:cubicBezTo>
                <a:cubicBezTo>
                  <a:pt x="4138" y="7408"/>
                  <a:pt x="4190" y="7501"/>
                  <a:pt x="4259" y="7579"/>
                </a:cubicBezTo>
                <a:cubicBezTo>
                  <a:pt x="4305" y="7631"/>
                  <a:pt x="4347" y="7669"/>
                  <a:pt x="4411" y="7690"/>
                </a:cubicBezTo>
              </a:path>
              <a:path w="1225" h="825">
                <a:moveTo>
                  <a:pt x="4400" y="7324"/>
                </a:moveTo>
                <a:cubicBezTo>
                  <a:pt x="4346" y="7339"/>
                  <a:pt x="4326" y="7378"/>
                  <a:pt x="4289" y="7419"/>
                </a:cubicBezTo>
                <a:cubicBezTo>
                  <a:pt x="4228" y="7488"/>
                  <a:pt x="4159" y="7558"/>
                  <a:pt x="4106" y="7633"/>
                </a:cubicBezTo>
                <a:cubicBezTo>
                  <a:pt x="4083" y="7665"/>
                  <a:pt x="4065" y="7704"/>
                  <a:pt x="4045" y="773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747800" y="2446200"/>
            <a:ext cx="642960" cy="365400"/>
          </a:xfrm>
          <a:custGeom>
            <a:avLst/>
            <a:gdLst/>
            <a:ahLst/>
            <a:rect l="l" t="t" r="r" b="b"/>
            <a:pathLst>
              <a:path w="1787" h="1015">
                <a:moveTo>
                  <a:pt x="5080" y="6931"/>
                </a:moveTo>
                <a:cubicBezTo>
                  <a:pt x="5074" y="6896"/>
                  <a:pt x="5070" y="6894"/>
                  <a:pt x="5054" y="6868"/>
                </a:cubicBezTo>
                <a:cubicBezTo>
                  <a:pt x="5019" y="6886"/>
                  <a:pt x="5000" y="6899"/>
                  <a:pt x="4976" y="6934"/>
                </a:cubicBezTo>
                <a:cubicBezTo>
                  <a:pt x="4934" y="6995"/>
                  <a:pt x="4898" y="7063"/>
                  <a:pt x="4876" y="7134"/>
                </a:cubicBezTo>
                <a:cubicBezTo>
                  <a:pt x="4837" y="7259"/>
                  <a:pt x="4843" y="7404"/>
                  <a:pt x="4919" y="7514"/>
                </a:cubicBezTo>
                <a:cubicBezTo>
                  <a:pt x="4974" y="7594"/>
                  <a:pt x="5063" y="7630"/>
                  <a:pt x="5156" y="7597"/>
                </a:cubicBezTo>
                <a:cubicBezTo>
                  <a:pt x="5299" y="7546"/>
                  <a:pt x="5404" y="7407"/>
                  <a:pt x="5459" y="7272"/>
                </a:cubicBezTo>
                <a:cubicBezTo>
                  <a:pt x="5496" y="7180"/>
                  <a:pt x="5512" y="7092"/>
                  <a:pt x="5488" y="6994"/>
                </a:cubicBezTo>
                <a:cubicBezTo>
                  <a:pt x="5469" y="6916"/>
                  <a:pt x="5418" y="6846"/>
                  <a:pt x="5344" y="6812"/>
                </a:cubicBezTo>
                <a:cubicBezTo>
                  <a:pt x="5279" y="6782"/>
                  <a:pt x="5198" y="6791"/>
                  <a:pt x="5137" y="6827"/>
                </a:cubicBezTo>
                <a:cubicBezTo>
                  <a:pt x="5103" y="6854"/>
                  <a:pt x="5092" y="6863"/>
                  <a:pt x="5077" y="6888"/>
                </a:cubicBezTo>
              </a:path>
              <a:path w="1787" h="1015">
                <a:moveTo>
                  <a:pt x="5268" y="7303"/>
                </a:moveTo>
                <a:cubicBezTo>
                  <a:pt x="5285" y="7328"/>
                  <a:pt x="5297" y="7354"/>
                  <a:pt x="5312" y="7380"/>
                </a:cubicBezTo>
                <a:cubicBezTo>
                  <a:pt x="5342" y="7432"/>
                  <a:pt x="5372" y="7482"/>
                  <a:pt x="5415" y="7525"/>
                </a:cubicBezTo>
                <a:cubicBezTo>
                  <a:pt x="5461" y="7571"/>
                  <a:pt x="5506" y="7601"/>
                  <a:pt x="5570" y="7602"/>
                </a:cubicBezTo>
              </a:path>
              <a:path w="1787" h="1015">
                <a:moveTo>
                  <a:pt x="5985" y="6869"/>
                </a:moveTo>
                <a:cubicBezTo>
                  <a:pt x="5988" y="6854"/>
                  <a:pt x="5989" y="6850"/>
                  <a:pt x="5989" y="6841"/>
                </a:cubicBezTo>
                <a:cubicBezTo>
                  <a:pt x="5940" y="6854"/>
                  <a:pt x="5914" y="6907"/>
                  <a:pt x="5884" y="6955"/>
                </a:cubicBezTo>
                <a:cubicBezTo>
                  <a:pt x="5824" y="7052"/>
                  <a:pt x="5777" y="7159"/>
                  <a:pt x="5749" y="7270"/>
                </a:cubicBezTo>
                <a:cubicBezTo>
                  <a:pt x="5726" y="7360"/>
                  <a:pt x="5709" y="7467"/>
                  <a:pt x="5767" y="7549"/>
                </a:cubicBezTo>
                <a:cubicBezTo>
                  <a:pt x="5801" y="7597"/>
                  <a:pt x="5845" y="7597"/>
                  <a:pt x="5897" y="7605"/>
                </a:cubicBezTo>
              </a:path>
              <a:path w="1787" h="1015">
                <a:moveTo>
                  <a:pt x="6086" y="7259"/>
                </a:moveTo>
                <a:cubicBezTo>
                  <a:pt x="6062" y="7245"/>
                  <a:pt x="6069" y="7297"/>
                  <a:pt x="6074" y="7317"/>
                </a:cubicBezTo>
                <a:cubicBezTo>
                  <a:pt x="6091" y="7389"/>
                  <a:pt x="6132" y="7459"/>
                  <a:pt x="6196" y="7497"/>
                </a:cubicBezTo>
                <a:cubicBezTo>
                  <a:pt x="6237" y="7522"/>
                  <a:pt x="6272" y="7524"/>
                  <a:pt x="6317" y="7527"/>
                </a:cubicBezTo>
              </a:path>
              <a:path w="1787" h="1015">
                <a:moveTo>
                  <a:pt x="6414" y="7180"/>
                </a:moveTo>
                <a:cubicBezTo>
                  <a:pt x="6359" y="7178"/>
                  <a:pt x="6343" y="7209"/>
                  <a:pt x="6303" y="7244"/>
                </a:cubicBezTo>
                <a:cubicBezTo>
                  <a:pt x="6235" y="7302"/>
                  <a:pt x="6170" y="7367"/>
                  <a:pt x="6118" y="7441"/>
                </a:cubicBezTo>
                <a:cubicBezTo>
                  <a:pt x="6104" y="7461"/>
                  <a:pt x="6041" y="7536"/>
                  <a:pt x="6059" y="7563"/>
                </a:cubicBezTo>
                <a:cubicBezTo>
                  <a:pt x="6066" y="7561"/>
                  <a:pt x="6072" y="7558"/>
                  <a:pt x="6079" y="7556"/>
                </a:cubicBezTo>
              </a:path>
              <a:path w="1787" h="1015">
                <a:moveTo>
                  <a:pt x="6516" y="7037"/>
                </a:moveTo>
                <a:cubicBezTo>
                  <a:pt x="6569" y="7067"/>
                  <a:pt x="6575" y="7116"/>
                  <a:pt x="6587" y="7177"/>
                </a:cubicBezTo>
                <a:cubicBezTo>
                  <a:pt x="6608" y="7286"/>
                  <a:pt x="6618" y="7396"/>
                  <a:pt x="6629" y="7506"/>
                </a:cubicBezTo>
                <a:cubicBezTo>
                  <a:pt x="6637" y="7593"/>
                  <a:pt x="6652" y="7692"/>
                  <a:pt x="6633" y="7779"/>
                </a:cubicBezTo>
                <a:cubicBezTo>
                  <a:pt x="6629" y="7789"/>
                  <a:pt x="6625" y="7799"/>
                  <a:pt x="6621" y="780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676840" y="1757520"/>
            <a:ext cx="2152800" cy="1101600"/>
          </a:xfrm>
          <a:custGeom>
            <a:avLst/>
            <a:gdLst/>
            <a:ahLst/>
            <a:rect l="l" t="t" r="r" b="b"/>
            <a:pathLst>
              <a:path w="5977" h="3061">
                <a:moveTo>
                  <a:pt x="21740" y="4988"/>
                </a:moveTo>
                <a:cubicBezTo>
                  <a:pt x="21740" y="4951"/>
                  <a:pt x="21738" y="4918"/>
                  <a:pt x="21747" y="4883"/>
                </a:cubicBezTo>
              </a:path>
              <a:path w="5977" h="3061">
                <a:moveTo>
                  <a:pt x="15977" y="7381"/>
                </a:moveTo>
                <a:cubicBezTo>
                  <a:pt x="15954" y="7360"/>
                  <a:pt x="15929" y="7369"/>
                  <a:pt x="15907" y="7397"/>
                </a:cubicBezTo>
                <a:cubicBezTo>
                  <a:pt x="15856" y="7461"/>
                  <a:pt x="15822" y="7548"/>
                  <a:pt x="15799" y="7625"/>
                </a:cubicBezTo>
                <a:cubicBezTo>
                  <a:pt x="15776" y="7703"/>
                  <a:pt x="15756" y="7807"/>
                  <a:pt x="15782" y="7887"/>
                </a:cubicBezTo>
                <a:cubicBezTo>
                  <a:pt x="15801" y="7922"/>
                  <a:pt x="15806" y="7933"/>
                  <a:pt x="15832" y="794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397400" y="1459080"/>
            <a:ext cx="4064040" cy="1598400"/>
          </a:xfrm>
          <a:custGeom>
            <a:avLst/>
            <a:gdLst/>
            <a:ahLst/>
            <a:rect l="l" t="t" r="r" b="b"/>
            <a:pathLst>
              <a:path w="11287" h="4439">
                <a:moveTo>
                  <a:pt x="21490" y="4084"/>
                </a:moveTo>
                <a:cubicBezTo>
                  <a:pt x="21497" y="4068"/>
                  <a:pt x="21499" y="4063"/>
                  <a:pt x="21505" y="4053"/>
                </a:cubicBezTo>
                <a:cubicBezTo>
                  <a:pt x="21503" y="4096"/>
                  <a:pt x="21498" y="4140"/>
                  <a:pt x="21495" y="4184"/>
                </a:cubicBezTo>
                <a:cubicBezTo>
                  <a:pt x="21487" y="4295"/>
                  <a:pt x="21481" y="4408"/>
                  <a:pt x="21483" y="4520"/>
                </a:cubicBezTo>
                <a:cubicBezTo>
                  <a:pt x="21483" y="4545"/>
                  <a:pt x="21485" y="4570"/>
                  <a:pt x="21486" y="4595"/>
                </a:cubicBezTo>
                <a:cubicBezTo>
                  <a:pt x="21470" y="4552"/>
                  <a:pt x="21456" y="4508"/>
                  <a:pt x="21435" y="4467"/>
                </a:cubicBezTo>
                <a:cubicBezTo>
                  <a:pt x="21402" y="4403"/>
                  <a:pt x="21362" y="4342"/>
                  <a:pt x="21317" y="4287"/>
                </a:cubicBezTo>
                <a:cubicBezTo>
                  <a:pt x="21287" y="4251"/>
                  <a:pt x="21259" y="4230"/>
                  <a:pt x="21221" y="4207"/>
                </a:cubicBezTo>
                <a:cubicBezTo>
                  <a:pt x="21264" y="4227"/>
                  <a:pt x="21304" y="4240"/>
                  <a:pt x="21353" y="4248"/>
                </a:cubicBezTo>
                <a:cubicBezTo>
                  <a:pt x="21505" y="4271"/>
                  <a:pt x="21661" y="4271"/>
                  <a:pt x="21814" y="4270"/>
                </a:cubicBezTo>
                <a:cubicBezTo>
                  <a:pt x="21842" y="4270"/>
                  <a:pt x="21878" y="4285"/>
                  <a:pt x="21905" y="4275"/>
                </a:cubicBezTo>
                <a:cubicBezTo>
                  <a:pt x="21921" y="4267"/>
                  <a:pt x="21927" y="4264"/>
                  <a:pt x="21936" y="4255"/>
                </a:cubicBezTo>
              </a:path>
              <a:path w="11287" h="4439">
                <a:moveTo>
                  <a:pt x="20252" y="4855"/>
                </a:moveTo>
                <a:cubicBezTo>
                  <a:pt x="20258" y="4830"/>
                  <a:pt x="20262" y="4813"/>
                  <a:pt x="20230" y="4797"/>
                </a:cubicBezTo>
                <a:cubicBezTo>
                  <a:pt x="20198" y="4781"/>
                  <a:pt x="20161" y="4791"/>
                  <a:pt x="20129" y="4803"/>
                </a:cubicBezTo>
                <a:cubicBezTo>
                  <a:pt x="20034" y="4840"/>
                  <a:pt x="19952" y="4922"/>
                  <a:pt x="19896" y="5005"/>
                </a:cubicBezTo>
                <a:cubicBezTo>
                  <a:pt x="19841" y="5086"/>
                  <a:pt x="19801" y="5199"/>
                  <a:pt x="19861" y="5288"/>
                </a:cubicBezTo>
                <a:cubicBezTo>
                  <a:pt x="19903" y="5350"/>
                  <a:pt x="19979" y="5371"/>
                  <a:pt x="20050" y="5368"/>
                </a:cubicBezTo>
                <a:cubicBezTo>
                  <a:pt x="20122" y="5365"/>
                  <a:pt x="20193" y="5330"/>
                  <a:pt x="20239" y="5275"/>
                </a:cubicBezTo>
                <a:cubicBezTo>
                  <a:pt x="20310" y="5188"/>
                  <a:pt x="20308" y="5053"/>
                  <a:pt x="20275" y="4952"/>
                </a:cubicBezTo>
                <a:cubicBezTo>
                  <a:pt x="20266" y="4926"/>
                  <a:pt x="20251" y="4891"/>
                  <a:pt x="20221" y="4887"/>
                </a:cubicBezTo>
                <a:cubicBezTo>
                  <a:pt x="20217" y="4890"/>
                  <a:pt x="20214" y="4892"/>
                  <a:pt x="20210" y="4895"/>
                </a:cubicBezTo>
              </a:path>
              <a:path w="11287" h="4439">
                <a:moveTo>
                  <a:pt x="20156" y="5183"/>
                </a:moveTo>
                <a:cubicBezTo>
                  <a:pt x="20148" y="5196"/>
                  <a:pt x="20134" y="5217"/>
                  <a:pt x="20135" y="5232"/>
                </a:cubicBezTo>
                <a:cubicBezTo>
                  <a:pt x="20137" y="5268"/>
                  <a:pt x="20161" y="5306"/>
                  <a:pt x="20178" y="5336"/>
                </a:cubicBezTo>
                <a:cubicBezTo>
                  <a:pt x="20204" y="5381"/>
                  <a:pt x="20241" y="5428"/>
                  <a:pt x="20287" y="5454"/>
                </a:cubicBezTo>
                <a:cubicBezTo>
                  <a:pt x="20319" y="5472"/>
                  <a:pt x="20367" y="5477"/>
                  <a:pt x="20400" y="5460"/>
                </a:cubicBezTo>
                <a:cubicBezTo>
                  <a:pt x="20406" y="5455"/>
                  <a:pt x="20413" y="5450"/>
                  <a:pt x="20419" y="5445"/>
                </a:cubicBezTo>
              </a:path>
              <a:path w="11287" h="4439">
                <a:moveTo>
                  <a:pt x="20417" y="5192"/>
                </a:moveTo>
                <a:cubicBezTo>
                  <a:pt x="20407" y="5207"/>
                  <a:pt x="20404" y="5208"/>
                  <a:pt x="20410" y="5240"/>
                </a:cubicBezTo>
                <a:cubicBezTo>
                  <a:pt x="20415" y="5265"/>
                  <a:pt x="20421" y="5317"/>
                  <a:pt x="20441" y="5336"/>
                </a:cubicBezTo>
                <a:cubicBezTo>
                  <a:pt x="20461" y="5355"/>
                  <a:pt x="20488" y="5318"/>
                  <a:pt x="20498" y="5307"/>
                </a:cubicBezTo>
                <a:cubicBezTo>
                  <a:pt x="20535" y="5268"/>
                  <a:pt x="20574" y="5217"/>
                  <a:pt x="20623" y="5192"/>
                </a:cubicBezTo>
                <a:cubicBezTo>
                  <a:pt x="20662" y="5172"/>
                  <a:pt x="20673" y="5212"/>
                  <a:pt x="20678" y="5243"/>
                </a:cubicBezTo>
                <a:cubicBezTo>
                  <a:pt x="20687" y="5296"/>
                  <a:pt x="20680" y="5352"/>
                  <a:pt x="20694" y="5404"/>
                </a:cubicBezTo>
                <a:cubicBezTo>
                  <a:pt x="20703" y="5436"/>
                  <a:pt x="20717" y="5467"/>
                  <a:pt x="20755" y="5452"/>
                </a:cubicBezTo>
                <a:cubicBezTo>
                  <a:pt x="20785" y="5440"/>
                  <a:pt x="20803" y="5411"/>
                  <a:pt x="20823" y="5387"/>
                </a:cubicBezTo>
              </a:path>
              <a:path w="11287" h="4439">
                <a:moveTo>
                  <a:pt x="21042" y="5172"/>
                </a:moveTo>
                <a:cubicBezTo>
                  <a:pt x="21012" y="5154"/>
                  <a:pt x="21003" y="5164"/>
                  <a:pt x="20976" y="5185"/>
                </a:cubicBezTo>
                <a:cubicBezTo>
                  <a:pt x="20939" y="5214"/>
                  <a:pt x="20911" y="5251"/>
                  <a:pt x="20890" y="5293"/>
                </a:cubicBezTo>
                <a:cubicBezTo>
                  <a:pt x="20878" y="5318"/>
                  <a:pt x="20875" y="5332"/>
                  <a:pt x="20876" y="5358"/>
                </a:cubicBezTo>
                <a:cubicBezTo>
                  <a:pt x="20916" y="5360"/>
                  <a:pt x="20935" y="5344"/>
                  <a:pt x="20969" y="5320"/>
                </a:cubicBezTo>
                <a:cubicBezTo>
                  <a:pt x="20993" y="5303"/>
                  <a:pt x="21024" y="5274"/>
                  <a:pt x="21055" y="5293"/>
                </a:cubicBezTo>
                <a:cubicBezTo>
                  <a:pt x="21084" y="5311"/>
                  <a:pt x="21095" y="5368"/>
                  <a:pt x="21107" y="5398"/>
                </a:cubicBezTo>
                <a:cubicBezTo>
                  <a:pt x="21118" y="5426"/>
                  <a:pt x="21122" y="5434"/>
                  <a:pt x="21134" y="5449"/>
                </a:cubicBezTo>
              </a:path>
              <a:path w="11287" h="4439">
                <a:moveTo>
                  <a:pt x="21422" y="4862"/>
                </a:moveTo>
                <a:cubicBezTo>
                  <a:pt x="21435" y="4927"/>
                  <a:pt x="21424" y="4984"/>
                  <a:pt x="21426" y="5050"/>
                </a:cubicBezTo>
                <a:cubicBezTo>
                  <a:pt x="21428" y="5137"/>
                  <a:pt x="21439" y="5226"/>
                  <a:pt x="21458" y="5310"/>
                </a:cubicBezTo>
                <a:cubicBezTo>
                  <a:pt x="21468" y="5355"/>
                  <a:pt x="21477" y="5378"/>
                  <a:pt x="21504" y="5413"/>
                </a:cubicBezTo>
              </a:path>
              <a:path w="11287" h="4439">
                <a:moveTo>
                  <a:pt x="21708" y="5197"/>
                </a:moveTo>
                <a:cubicBezTo>
                  <a:pt x="21722" y="5226"/>
                  <a:pt x="21715" y="5256"/>
                  <a:pt x="21714" y="5289"/>
                </a:cubicBezTo>
                <a:cubicBezTo>
                  <a:pt x="21713" y="5323"/>
                  <a:pt x="21717" y="5356"/>
                  <a:pt x="21719" y="5390"/>
                </a:cubicBezTo>
              </a:path>
              <a:path w="11287" h="4439">
                <a:moveTo>
                  <a:pt x="21893" y="5273"/>
                </a:moveTo>
                <a:cubicBezTo>
                  <a:pt x="21905" y="5279"/>
                  <a:pt x="21934" y="5303"/>
                  <a:pt x="21951" y="5284"/>
                </a:cubicBezTo>
                <a:cubicBezTo>
                  <a:pt x="21968" y="5264"/>
                  <a:pt x="21986" y="5232"/>
                  <a:pt x="21994" y="5203"/>
                </a:cubicBezTo>
                <a:cubicBezTo>
                  <a:pt x="22014" y="5131"/>
                  <a:pt x="22019" y="5050"/>
                  <a:pt x="22031" y="4976"/>
                </a:cubicBezTo>
                <a:cubicBezTo>
                  <a:pt x="22041" y="4918"/>
                  <a:pt x="22046" y="4849"/>
                  <a:pt x="22071" y="4795"/>
                </a:cubicBezTo>
                <a:cubicBezTo>
                  <a:pt x="22089" y="4756"/>
                  <a:pt x="22116" y="4738"/>
                  <a:pt x="22157" y="4747"/>
                </a:cubicBezTo>
                <a:cubicBezTo>
                  <a:pt x="22224" y="4762"/>
                  <a:pt x="22270" y="4808"/>
                  <a:pt x="22315" y="4857"/>
                </a:cubicBezTo>
              </a:path>
              <a:path w="11287" h="4439">
                <a:moveTo>
                  <a:pt x="21860" y="5090"/>
                </a:moveTo>
                <a:cubicBezTo>
                  <a:pt x="21908" y="5089"/>
                  <a:pt x="21954" y="5090"/>
                  <a:pt x="22002" y="5093"/>
                </a:cubicBezTo>
                <a:cubicBezTo>
                  <a:pt x="22074" y="5097"/>
                  <a:pt x="22142" y="5112"/>
                  <a:pt x="22212" y="5129"/>
                </a:cubicBezTo>
                <a:cubicBezTo>
                  <a:pt x="22224" y="5132"/>
                  <a:pt x="22237" y="5136"/>
                  <a:pt x="22249" y="5139"/>
                </a:cubicBezTo>
              </a:path>
              <a:path w="11287" h="4439">
                <a:moveTo>
                  <a:pt x="22369" y="5200"/>
                </a:moveTo>
                <a:cubicBezTo>
                  <a:pt x="22350" y="5225"/>
                  <a:pt x="22328" y="5252"/>
                  <a:pt x="22315" y="5280"/>
                </a:cubicBezTo>
                <a:cubicBezTo>
                  <a:pt x="22303" y="5305"/>
                  <a:pt x="22308" y="5332"/>
                  <a:pt x="22303" y="5358"/>
                </a:cubicBezTo>
              </a:path>
              <a:path w="11287" h="4439">
                <a:moveTo>
                  <a:pt x="22346" y="4952"/>
                </a:moveTo>
                <a:cubicBezTo>
                  <a:pt x="22346" y="4911"/>
                  <a:pt x="22345" y="4894"/>
                  <a:pt x="22370" y="4864"/>
                </a:cubicBezTo>
                <a:cubicBezTo>
                  <a:pt x="22385" y="4846"/>
                  <a:pt x="22393" y="4855"/>
                  <a:pt x="22414" y="4861"/>
                </a:cubicBezTo>
              </a:path>
              <a:path w="11287" h="4439">
                <a:moveTo>
                  <a:pt x="22586" y="5150"/>
                </a:moveTo>
                <a:cubicBezTo>
                  <a:pt x="22587" y="5178"/>
                  <a:pt x="22588" y="5175"/>
                  <a:pt x="22618" y="5175"/>
                </a:cubicBezTo>
                <a:cubicBezTo>
                  <a:pt x="22652" y="5175"/>
                  <a:pt x="22687" y="5176"/>
                  <a:pt x="22721" y="5173"/>
                </a:cubicBezTo>
                <a:cubicBezTo>
                  <a:pt x="22756" y="5170"/>
                  <a:pt x="22793" y="5164"/>
                  <a:pt x="22824" y="5147"/>
                </a:cubicBezTo>
                <a:cubicBezTo>
                  <a:pt x="22834" y="5139"/>
                  <a:pt x="22837" y="5137"/>
                  <a:pt x="22829" y="5128"/>
                </a:cubicBezTo>
                <a:cubicBezTo>
                  <a:pt x="22777" y="5140"/>
                  <a:pt x="22738" y="5167"/>
                  <a:pt x="22698" y="5203"/>
                </a:cubicBezTo>
                <a:cubicBezTo>
                  <a:pt x="22659" y="5238"/>
                  <a:pt x="22623" y="5283"/>
                  <a:pt x="22614" y="5337"/>
                </a:cubicBezTo>
                <a:cubicBezTo>
                  <a:pt x="22609" y="5369"/>
                  <a:pt x="22623" y="5410"/>
                  <a:pt x="22654" y="5425"/>
                </a:cubicBezTo>
                <a:cubicBezTo>
                  <a:pt x="22690" y="5443"/>
                  <a:pt x="22721" y="5435"/>
                  <a:pt x="22757" y="5424"/>
                </a:cubicBezTo>
              </a:path>
              <a:path w="11287" h="4439">
                <a:moveTo>
                  <a:pt x="22914" y="5183"/>
                </a:moveTo>
                <a:cubicBezTo>
                  <a:pt x="22912" y="5213"/>
                  <a:pt x="22907" y="5240"/>
                  <a:pt x="22902" y="5270"/>
                </a:cubicBezTo>
                <a:cubicBezTo>
                  <a:pt x="22896" y="5304"/>
                  <a:pt x="22893" y="5329"/>
                  <a:pt x="22908" y="5360"/>
                </a:cubicBezTo>
                <a:cubicBezTo>
                  <a:pt x="22910" y="5364"/>
                  <a:pt x="22912" y="5367"/>
                  <a:pt x="22914" y="5371"/>
                </a:cubicBezTo>
                <a:cubicBezTo>
                  <a:pt x="22943" y="5360"/>
                  <a:pt x="22954" y="5337"/>
                  <a:pt x="22971" y="5309"/>
                </a:cubicBezTo>
                <a:cubicBezTo>
                  <a:pt x="22998" y="5265"/>
                  <a:pt x="23021" y="5228"/>
                  <a:pt x="23060" y="5194"/>
                </a:cubicBezTo>
                <a:cubicBezTo>
                  <a:pt x="23097" y="5161"/>
                  <a:pt x="23127" y="5154"/>
                  <a:pt x="23176" y="5150"/>
                </a:cubicBezTo>
              </a:path>
              <a:path w="11287" h="4439">
                <a:moveTo>
                  <a:pt x="23501" y="5154"/>
                </a:moveTo>
                <a:cubicBezTo>
                  <a:pt x="23484" y="5133"/>
                  <a:pt x="23468" y="5139"/>
                  <a:pt x="23442" y="5142"/>
                </a:cubicBezTo>
                <a:cubicBezTo>
                  <a:pt x="23393" y="5148"/>
                  <a:pt x="23345" y="5156"/>
                  <a:pt x="23298" y="5174"/>
                </a:cubicBezTo>
                <a:cubicBezTo>
                  <a:pt x="23274" y="5185"/>
                  <a:pt x="23268" y="5186"/>
                  <a:pt x="23257" y="5199"/>
                </a:cubicBezTo>
                <a:cubicBezTo>
                  <a:pt x="23267" y="5230"/>
                  <a:pt x="23299" y="5244"/>
                  <a:pt x="23326" y="5263"/>
                </a:cubicBezTo>
                <a:cubicBezTo>
                  <a:pt x="23366" y="5291"/>
                  <a:pt x="23409" y="5321"/>
                  <a:pt x="23436" y="5363"/>
                </a:cubicBezTo>
                <a:cubicBezTo>
                  <a:pt x="23449" y="5384"/>
                  <a:pt x="23465" y="5425"/>
                  <a:pt x="23443" y="5447"/>
                </a:cubicBezTo>
                <a:cubicBezTo>
                  <a:pt x="23420" y="5470"/>
                  <a:pt x="23374" y="5463"/>
                  <a:pt x="23346" y="5456"/>
                </a:cubicBezTo>
                <a:cubicBezTo>
                  <a:pt x="23312" y="5448"/>
                  <a:pt x="23285" y="5422"/>
                  <a:pt x="23264" y="5395"/>
                </a:cubicBezTo>
                <a:cubicBezTo>
                  <a:pt x="23252" y="5375"/>
                  <a:pt x="23248" y="5369"/>
                  <a:pt x="23245" y="5354"/>
                </a:cubicBezTo>
              </a:path>
              <a:path w="11287" h="4439">
                <a:moveTo>
                  <a:pt x="12938" y="7357"/>
                </a:moveTo>
                <a:cubicBezTo>
                  <a:pt x="12929" y="7344"/>
                  <a:pt x="12900" y="7309"/>
                  <a:pt x="12901" y="7292"/>
                </a:cubicBezTo>
                <a:cubicBezTo>
                  <a:pt x="12901" y="7281"/>
                  <a:pt x="12901" y="7277"/>
                  <a:pt x="12908" y="7290"/>
                </a:cubicBezTo>
                <a:cubicBezTo>
                  <a:pt x="12922" y="7344"/>
                  <a:pt x="12935" y="7397"/>
                  <a:pt x="12943" y="7452"/>
                </a:cubicBezTo>
                <a:cubicBezTo>
                  <a:pt x="12960" y="7563"/>
                  <a:pt x="12971" y="7674"/>
                  <a:pt x="12987" y="7785"/>
                </a:cubicBezTo>
                <a:cubicBezTo>
                  <a:pt x="12995" y="7842"/>
                  <a:pt x="12997" y="7953"/>
                  <a:pt x="13038" y="8001"/>
                </a:cubicBezTo>
                <a:cubicBezTo>
                  <a:pt x="13043" y="8002"/>
                  <a:pt x="13048" y="8004"/>
                  <a:pt x="13053" y="8005"/>
                </a:cubicBezTo>
                <a:cubicBezTo>
                  <a:pt x="13091" y="7960"/>
                  <a:pt x="13103" y="7903"/>
                  <a:pt x="13116" y="7846"/>
                </a:cubicBezTo>
                <a:cubicBezTo>
                  <a:pt x="13155" y="7676"/>
                  <a:pt x="13070" y="7240"/>
                  <a:pt x="13218" y="7333"/>
                </a:cubicBezTo>
                <a:cubicBezTo>
                  <a:pt x="13221" y="7361"/>
                  <a:pt x="13222" y="7370"/>
                  <a:pt x="13221" y="7389"/>
                </a:cubicBezTo>
              </a:path>
              <a:path w="11287" h="4439">
                <a:moveTo>
                  <a:pt x="13085" y="7687"/>
                </a:moveTo>
                <a:cubicBezTo>
                  <a:pt x="13060" y="7682"/>
                  <a:pt x="13055" y="7676"/>
                  <a:pt x="13041" y="7654"/>
                </a:cubicBezTo>
                <a:cubicBezTo>
                  <a:pt x="13065" y="7628"/>
                  <a:pt x="13089" y="7640"/>
                  <a:pt x="13125" y="7645"/>
                </a:cubicBezTo>
                <a:cubicBezTo>
                  <a:pt x="13191" y="7654"/>
                  <a:pt x="13259" y="7658"/>
                  <a:pt x="13325" y="7667"/>
                </a:cubicBezTo>
                <a:cubicBezTo>
                  <a:pt x="13378" y="7674"/>
                  <a:pt x="13431" y="7686"/>
                  <a:pt x="13484" y="7667"/>
                </a:cubicBezTo>
                <a:cubicBezTo>
                  <a:pt x="13489" y="7664"/>
                  <a:pt x="13493" y="7661"/>
                  <a:pt x="13498" y="7658"/>
                </a:cubicBezTo>
              </a:path>
              <a:path w="11287" h="4439">
                <a:moveTo>
                  <a:pt x="13378" y="7622"/>
                </a:moveTo>
                <a:cubicBezTo>
                  <a:pt x="13384" y="7670"/>
                  <a:pt x="13402" y="7718"/>
                  <a:pt x="13427" y="7760"/>
                </a:cubicBezTo>
                <a:cubicBezTo>
                  <a:pt x="13462" y="7820"/>
                  <a:pt x="13505" y="7870"/>
                  <a:pt x="13555" y="7918"/>
                </a:cubicBezTo>
                <a:cubicBezTo>
                  <a:pt x="13593" y="7954"/>
                  <a:pt x="13624" y="7962"/>
                  <a:pt x="13674" y="7957"/>
                </a:cubicBezTo>
              </a:path>
              <a:path w="11287" h="4439">
                <a:moveTo>
                  <a:pt x="13696" y="7634"/>
                </a:moveTo>
                <a:cubicBezTo>
                  <a:pt x="13656" y="7653"/>
                  <a:pt x="13643" y="7693"/>
                  <a:pt x="13617" y="7728"/>
                </a:cubicBezTo>
                <a:cubicBezTo>
                  <a:pt x="13566" y="7795"/>
                  <a:pt x="13513" y="7860"/>
                  <a:pt x="13463" y="7928"/>
                </a:cubicBezTo>
                <a:cubicBezTo>
                  <a:pt x="13451" y="7944"/>
                  <a:pt x="13396" y="8031"/>
                  <a:pt x="13395" y="8007"/>
                </a:cubicBezTo>
              </a:path>
              <a:path w="11287" h="4439">
                <a:moveTo>
                  <a:pt x="13986" y="7385"/>
                </a:moveTo>
                <a:cubicBezTo>
                  <a:pt x="13991" y="7437"/>
                  <a:pt x="13995" y="7489"/>
                  <a:pt x="14002" y="7541"/>
                </a:cubicBezTo>
                <a:cubicBezTo>
                  <a:pt x="14016" y="7640"/>
                  <a:pt x="14032" y="7738"/>
                  <a:pt x="14058" y="7834"/>
                </a:cubicBezTo>
                <a:cubicBezTo>
                  <a:pt x="14071" y="7883"/>
                  <a:pt x="14089" y="7977"/>
                  <a:pt x="14144" y="7999"/>
                </a:cubicBezTo>
                <a:cubicBezTo>
                  <a:pt x="14152" y="8000"/>
                  <a:pt x="14160" y="8000"/>
                  <a:pt x="14168" y="8001"/>
                </a:cubicBezTo>
                <a:cubicBezTo>
                  <a:pt x="14209" y="7953"/>
                  <a:pt x="14225" y="7902"/>
                  <a:pt x="14241" y="7840"/>
                </a:cubicBezTo>
                <a:cubicBezTo>
                  <a:pt x="14267" y="7741"/>
                  <a:pt x="14288" y="7639"/>
                  <a:pt x="14308" y="7538"/>
                </a:cubicBezTo>
                <a:cubicBezTo>
                  <a:pt x="14311" y="7524"/>
                  <a:pt x="14355" y="7356"/>
                  <a:pt x="14345" y="7347"/>
                </a:cubicBezTo>
                <a:cubicBezTo>
                  <a:pt x="14340" y="7351"/>
                  <a:pt x="14334" y="7355"/>
                  <a:pt x="14329" y="7359"/>
                </a:cubicBezTo>
              </a:path>
              <a:path w="11287" h="4439">
                <a:moveTo>
                  <a:pt x="14073" y="7682"/>
                </a:moveTo>
                <a:cubicBezTo>
                  <a:pt x="14068" y="7685"/>
                  <a:pt x="14063" y="7688"/>
                  <a:pt x="14058" y="7691"/>
                </a:cubicBezTo>
                <a:cubicBezTo>
                  <a:pt x="14074" y="7658"/>
                  <a:pt x="14118" y="7649"/>
                  <a:pt x="14159" y="7639"/>
                </a:cubicBezTo>
                <a:cubicBezTo>
                  <a:pt x="14223" y="7623"/>
                  <a:pt x="14286" y="7606"/>
                  <a:pt x="14352" y="7599"/>
                </a:cubicBezTo>
                <a:cubicBezTo>
                  <a:pt x="14392" y="7596"/>
                  <a:pt x="14404" y="7595"/>
                  <a:pt x="14430" y="7593"/>
                </a:cubicBezTo>
              </a:path>
              <a:path w="11287" h="4439">
                <a:moveTo>
                  <a:pt x="14475" y="7697"/>
                </a:moveTo>
                <a:cubicBezTo>
                  <a:pt x="14454" y="7756"/>
                  <a:pt x="14440" y="7802"/>
                  <a:pt x="14440" y="7865"/>
                </a:cubicBezTo>
                <a:cubicBezTo>
                  <a:pt x="14440" y="7923"/>
                  <a:pt x="14473" y="7961"/>
                  <a:pt x="14534" y="7953"/>
                </a:cubicBezTo>
                <a:cubicBezTo>
                  <a:pt x="14588" y="7946"/>
                  <a:pt x="14630" y="7902"/>
                  <a:pt x="14666" y="7865"/>
                </a:cubicBezTo>
                <a:cubicBezTo>
                  <a:pt x="14693" y="7837"/>
                  <a:pt x="14714" y="7805"/>
                  <a:pt x="14737" y="7774"/>
                </a:cubicBezTo>
                <a:cubicBezTo>
                  <a:pt x="14722" y="7839"/>
                  <a:pt x="14688" y="7897"/>
                  <a:pt x="14657" y="7957"/>
                </a:cubicBezTo>
                <a:cubicBezTo>
                  <a:pt x="14602" y="8065"/>
                  <a:pt x="14545" y="8173"/>
                  <a:pt x="14473" y="8271"/>
                </a:cubicBezTo>
                <a:cubicBezTo>
                  <a:pt x="14448" y="8305"/>
                  <a:pt x="14449" y="8322"/>
                  <a:pt x="14423" y="8307"/>
                </a:cubicBezTo>
              </a:path>
              <a:path w="11287" h="4439">
                <a:moveTo>
                  <a:pt x="15499" y="7440"/>
                </a:moveTo>
                <a:cubicBezTo>
                  <a:pt x="15491" y="7405"/>
                  <a:pt x="15493" y="7405"/>
                  <a:pt x="15461" y="7384"/>
                </a:cubicBezTo>
                <a:cubicBezTo>
                  <a:pt x="15414" y="7403"/>
                  <a:pt x="15383" y="7426"/>
                  <a:pt x="15351" y="7467"/>
                </a:cubicBezTo>
                <a:cubicBezTo>
                  <a:pt x="15301" y="7530"/>
                  <a:pt x="15260" y="7611"/>
                  <a:pt x="15246" y="7690"/>
                </a:cubicBezTo>
                <a:cubicBezTo>
                  <a:pt x="15234" y="7761"/>
                  <a:pt x="15249" y="7835"/>
                  <a:pt x="15315" y="7873"/>
                </a:cubicBezTo>
                <a:cubicBezTo>
                  <a:pt x="15381" y="7911"/>
                  <a:pt x="15461" y="7886"/>
                  <a:pt x="15522" y="7852"/>
                </a:cubicBezTo>
                <a:cubicBezTo>
                  <a:pt x="15597" y="7810"/>
                  <a:pt x="15650" y="7742"/>
                  <a:pt x="15681" y="7662"/>
                </a:cubicBezTo>
                <a:cubicBezTo>
                  <a:pt x="15705" y="7601"/>
                  <a:pt x="15716" y="7520"/>
                  <a:pt x="15695" y="7456"/>
                </a:cubicBezTo>
                <a:cubicBezTo>
                  <a:pt x="15680" y="7410"/>
                  <a:pt x="15647" y="7378"/>
                  <a:pt x="15598" y="7373"/>
                </a:cubicBezTo>
                <a:cubicBezTo>
                  <a:pt x="15570" y="7375"/>
                  <a:pt x="15561" y="7376"/>
                  <a:pt x="15544" y="7385"/>
                </a:cubicBezTo>
              </a:path>
              <a:path w="11287" h="4439">
                <a:moveTo>
                  <a:pt x="15455" y="7649"/>
                </a:moveTo>
                <a:cubicBezTo>
                  <a:pt x="15456" y="7685"/>
                  <a:pt x="15456" y="7721"/>
                  <a:pt x="15476" y="7753"/>
                </a:cubicBezTo>
                <a:cubicBezTo>
                  <a:pt x="15502" y="7796"/>
                  <a:pt x="15541" y="7833"/>
                  <a:pt x="15582" y="7861"/>
                </a:cubicBezTo>
                <a:cubicBezTo>
                  <a:pt x="15619" y="7886"/>
                  <a:pt x="15653" y="7895"/>
                  <a:pt x="15696" y="7896"/>
                </a:cubicBezTo>
              </a:path>
              <a:path w="11287" h="4439">
                <a:moveTo>
                  <a:pt x="16111" y="7617"/>
                </a:moveTo>
                <a:cubicBezTo>
                  <a:pt x="16080" y="7636"/>
                  <a:pt x="16086" y="7663"/>
                  <a:pt x="16083" y="7697"/>
                </a:cubicBezTo>
                <a:cubicBezTo>
                  <a:pt x="16078" y="7757"/>
                  <a:pt x="16091" y="7817"/>
                  <a:pt x="16120" y="7871"/>
                </a:cubicBezTo>
                <a:cubicBezTo>
                  <a:pt x="16142" y="7912"/>
                  <a:pt x="16179" y="7959"/>
                  <a:pt x="16229" y="7965"/>
                </a:cubicBezTo>
                <a:cubicBezTo>
                  <a:pt x="16237" y="7964"/>
                  <a:pt x="16246" y="7963"/>
                  <a:pt x="16254" y="7962"/>
                </a:cubicBezTo>
              </a:path>
              <a:path w="11287" h="4439">
                <a:moveTo>
                  <a:pt x="16334" y="7651"/>
                </a:moveTo>
                <a:cubicBezTo>
                  <a:pt x="16294" y="7665"/>
                  <a:pt x="16255" y="7698"/>
                  <a:pt x="16227" y="7731"/>
                </a:cubicBezTo>
                <a:cubicBezTo>
                  <a:pt x="16184" y="7783"/>
                  <a:pt x="16148" y="7840"/>
                  <a:pt x="16116" y="7899"/>
                </a:cubicBezTo>
                <a:cubicBezTo>
                  <a:pt x="16103" y="7923"/>
                  <a:pt x="16088" y="7944"/>
                  <a:pt x="16074" y="7966"/>
                </a:cubicBezTo>
              </a:path>
              <a:path w="11287" h="4439">
                <a:moveTo>
                  <a:pt x="16559" y="7801"/>
                </a:moveTo>
                <a:cubicBezTo>
                  <a:pt x="16541" y="7812"/>
                  <a:pt x="16518" y="7823"/>
                  <a:pt x="16503" y="7836"/>
                </a:cubicBezTo>
                <a:cubicBezTo>
                  <a:pt x="16486" y="7850"/>
                  <a:pt x="16468" y="7871"/>
                  <a:pt x="16461" y="7892"/>
                </a:cubicBezTo>
                <a:cubicBezTo>
                  <a:pt x="16454" y="7912"/>
                  <a:pt x="16451" y="7932"/>
                  <a:pt x="16445" y="7952"/>
                </a:cubicBezTo>
                <a:cubicBezTo>
                  <a:pt x="16436" y="7979"/>
                  <a:pt x="16423" y="7998"/>
                  <a:pt x="16403" y="8018"/>
                </a:cubicBezTo>
                <a:cubicBezTo>
                  <a:pt x="16401" y="8020"/>
                  <a:pt x="16348" y="8068"/>
                  <a:pt x="16345" y="8055"/>
                </a:cubicBezTo>
                <a:cubicBezTo>
                  <a:pt x="16347" y="8050"/>
                  <a:pt x="16350" y="8046"/>
                  <a:pt x="16352" y="8041"/>
                </a:cubicBezTo>
              </a:path>
              <a:path w="11287" h="4439">
                <a:moveTo>
                  <a:pt x="16751" y="7754"/>
                </a:moveTo>
                <a:cubicBezTo>
                  <a:pt x="16769" y="7763"/>
                  <a:pt x="16754" y="7786"/>
                  <a:pt x="16751" y="7810"/>
                </a:cubicBezTo>
                <a:cubicBezTo>
                  <a:pt x="16747" y="7839"/>
                  <a:pt x="16743" y="7876"/>
                  <a:pt x="16764" y="7901"/>
                </a:cubicBezTo>
                <a:cubicBezTo>
                  <a:pt x="16785" y="7927"/>
                  <a:pt x="16823" y="7907"/>
                  <a:pt x="16844" y="7893"/>
                </a:cubicBezTo>
                <a:cubicBezTo>
                  <a:pt x="16897" y="7858"/>
                  <a:pt x="16931" y="7802"/>
                  <a:pt x="16966" y="7751"/>
                </a:cubicBezTo>
                <a:cubicBezTo>
                  <a:pt x="16969" y="7747"/>
                  <a:pt x="16971" y="7744"/>
                  <a:pt x="16974" y="7740"/>
                </a:cubicBezTo>
                <a:cubicBezTo>
                  <a:pt x="16966" y="7785"/>
                  <a:pt x="16949" y="7826"/>
                  <a:pt x="16935" y="7870"/>
                </a:cubicBezTo>
                <a:cubicBezTo>
                  <a:pt x="16920" y="7918"/>
                  <a:pt x="16901" y="7969"/>
                  <a:pt x="16892" y="8018"/>
                </a:cubicBezTo>
                <a:cubicBezTo>
                  <a:pt x="16890" y="8039"/>
                  <a:pt x="16889" y="8043"/>
                  <a:pt x="16892" y="8056"/>
                </a:cubicBezTo>
              </a:path>
              <a:path w="11287" h="4439">
                <a:moveTo>
                  <a:pt x="17200" y="7389"/>
                </a:moveTo>
                <a:cubicBezTo>
                  <a:pt x="17239" y="7415"/>
                  <a:pt x="17230" y="7454"/>
                  <a:pt x="17233" y="7499"/>
                </a:cubicBezTo>
                <a:cubicBezTo>
                  <a:pt x="17239" y="7595"/>
                  <a:pt x="17239" y="7695"/>
                  <a:pt x="17230" y="7791"/>
                </a:cubicBezTo>
                <a:cubicBezTo>
                  <a:pt x="17222" y="7870"/>
                  <a:pt x="17208" y="7948"/>
                  <a:pt x="17187" y="8024"/>
                </a:cubicBezTo>
              </a:path>
              <a:path w="11287" h="4439">
                <a:moveTo>
                  <a:pt x="12758" y="7914"/>
                </a:moveTo>
                <a:cubicBezTo>
                  <a:pt x="12750" y="7893"/>
                  <a:pt x="12746" y="7867"/>
                  <a:pt x="12727" y="7852"/>
                </a:cubicBezTo>
                <a:cubicBezTo>
                  <a:pt x="12687" y="7821"/>
                  <a:pt x="12645" y="7856"/>
                  <a:pt x="12614" y="7883"/>
                </a:cubicBezTo>
                <a:cubicBezTo>
                  <a:pt x="12476" y="8001"/>
                  <a:pt x="12368" y="8185"/>
                  <a:pt x="12331" y="8363"/>
                </a:cubicBezTo>
                <a:cubicBezTo>
                  <a:pt x="12326" y="8389"/>
                  <a:pt x="12327" y="8411"/>
                  <a:pt x="12327" y="8437"/>
                </a:cubicBezTo>
                <a:cubicBezTo>
                  <a:pt x="12338" y="8416"/>
                  <a:pt x="12343" y="8403"/>
                  <a:pt x="12343" y="8374"/>
                </a:cubicBezTo>
                <a:cubicBezTo>
                  <a:pt x="12343" y="8299"/>
                  <a:pt x="12315" y="8186"/>
                  <a:pt x="12245" y="8144"/>
                </a:cubicBezTo>
                <a:cubicBezTo>
                  <a:pt x="12211" y="8124"/>
                  <a:pt x="12215" y="8188"/>
                  <a:pt x="12215" y="8199"/>
                </a:cubicBezTo>
              </a:path>
              <a:path w="11287" h="4439">
                <a:moveTo>
                  <a:pt x="12333" y="8491"/>
                </a:moveTo>
                <a:cubicBezTo>
                  <a:pt x="12370" y="8482"/>
                  <a:pt x="12396" y="8462"/>
                  <a:pt x="12430" y="8446"/>
                </a:cubicBezTo>
                <a:cubicBezTo>
                  <a:pt x="12478" y="8424"/>
                  <a:pt x="12530" y="8415"/>
                  <a:pt x="12582" y="8409"/>
                </a:cubicBezTo>
                <a:cubicBezTo>
                  <a:pt x="12592" y="8408"/>
                  <a:pt x="12603" y="8407"/>
                  <a:pt x="12613" y="8406"/>
                </a:cubicBezTo>
              </a:path>
              <a:path w="11287" h="4439">
                <a:moveTo>
                  <a:pt x="14005" y="6825"/>
                </a:moveTo>
                <a:cubicBezTo>
                  <a:pt x="13990" y="6799"/>
                  <a:pt x="13978" y="6800"/>
                  <a:pt x="13953" y="6818"/>
                </a:cubicBezTo>
                <a:cubicBezTo>
                  <a:pt x="13921" y="6842"/>
                  <a:pt x="13905" y="6882"/>
                  <a:pt x="13896" y="6920"/>
                </a:cubicBezTo>
                <a:cubicBezTo>
                  <a:pt x="13887" y="6959"/>
                  <a:pt x="13883" y="7011"/>
                  <a:pt x="13913" y="7043"/>
                </a:cubicBezTo>
                <a:cubicBezTo>
                  <a:pt x="13938" y="7069"/>
                  <a:pt x="13979" y="7043"/>
                  <a:pt x="13998" y="7023"/>
                </a:cubicBezTo>
                <a:cubicBezTo>
                  <a:pt x="14028" y="6990"/>
                  <a:pt x="14046" y="6945"/>
                  <a:pt x="14051" y="6901"/>
                </a:cubicBezTo>
                <a:cubicBezTo>
                  <a:pt x="14055" y="6869"/>
                  <a:pt x="14047" y="6844"/>
                  <a:pt x="14036" y="6816"/>
                </a:cubicBezTo>
                <a:cubicBezTo>
                  <a:pt x="14032" y="6805"/>
                  <a:pt x="14031" y="6801"/>
                  <a:pt x="14043" y="6811"/>
                </a:cubicBezTo>
              </a:path>
              <a:path w="11287" h="4439">
                <a:moveTo>
                  <a:pt x="14213" y="6941"/>
                </a:moveTo>
                <a:cubicBezTo>
                  <a:pt x="14224" y="6967"/>
                  <a:pt x="14226" y="6989"/>
                  <a:pt x="14229" y="7017"/>
                </a:cubicBezTo>
                <a:cubicBezTo>
                  <a:pt x="14230" y="7023"/>
                  <a:pt x="14230" y="7030"/>
                  <a:pt x="14231" y="7036"/>
                </a:cubicBezTo>
                <a:cubicBezTo>
                  <a:pt x="14251" y="7012"/>
                  <a:pt x="14260" y="6988"/>
                  <a:pt x="14271" y="6959"/>
                </a:cubicBezTo>
                <a:cubicBezTo>
                  <a:pt x="14285" y="6921"/>
                  <a:pt x="14296" y="6882"/>
                  <a:pt x="14312" y="6844"/>
                </a:cubicBezTo>
                <a:cubicBezTo>
                  <a:pt x="14320" y="6825"/>
                  <a:pt x="14336" y="6807"/>
                  <a:pt x="14357" y="6817"/>
                </a:cubicBezTo>
                <a:cubicBezTo>
                  <a:pt x="14377" y="6826"/>
                  <a:pt x="14395" y="6842"/>
                  <a:pt x="14412" y="6855"/>
                </a:cubicBezTo>
              </a:path>
              <a:path w="11287" h="4439">
                <a:moveTo>
                  <a:pt x="14522" y="6896"/>
                </a:moveTo>
                <a:cubicBezTo>
                  <a:pt x="14514" y="6881"/>
                  <a:pt x="14510" y="6876"/>
                  <a:pt x="14501" y="6868"/>
                </a:cubicBezTo>
                <a:cubicBezTo>
                  <a:pt x="14478" y="6889"/>
                  <a:pt x="14475" y="6910"/>
                  <a:pt x="14471" y="6942"/>
                </a:cubicBezTo>
                <a:cubicBezTo>
                  <a:pt x="14466" y="6979"/>
                  <a:pt x="14469" y="7007"/>
                  <a:pt x="14484" y="7040"/>
                </a:cubicBezTo>
                <a:cubicBezTo>
                  <a:pt x="14525" y="7050"/>
                  <a:pt x="14544" y="7032"/>
                  <a:pt x="14572" y="6999"/>
                </a:cubicBezTo>
                <a:cubicBezTo>
                  <a:pt x="14618" y="6944"/>
                  <a:pt x="14643" y="6877"/>
                  <a:pt x="14667" y="6811"/>
                </a:cubicBezTo>
                <a:cubicBezTo>
                  <a:pt x="14691" y="6742"/>
                  <a:pt x="14704" y="6672"/>
                  <a:pt x="14710" y="6599"/>
                </a:cubicBezTo>
                <a:cubicBezTo>
                  <a:pt x="14713" y="6568"/>
                  <a:pt x="14708" y="6554"/>
                  <a:pt x="14703" y="6527"/>
                </a:cubicBezTo>
                <a:cubicBezTo>
                  <a:pt x="14676" y="6584"/>
                  <a:pt x="14676" y="6633"/>
                  <a:pt x="14679" y="6697"/>
                </a:cubicBezTo>
                <a:cubicBezTo>
                  <a:pt x="14682" y="6773"/>
                  <a:pt x="14704" y="6853"/>
                  <a:pt x="14738" y="6922"/>
                </a:cubicBezTo>
                <a:cubicBezTo>
                  <a:pt x="14745" y="6933"/>
                  <a:pt x="14751" y="6944"/>
                  <a:pt x="14758" y="6955"/>
                </a:cubicBezTo>
              </a:path>
              <a:path w="11287" h="4439">
                <a:moveTo>
                  <a:pt x="14865" y="6922"/>
                </a:moveTo>
                <a:cubicBezTo>
                  <a:pt x="14885" y="6900"/>
                  <a:pt x="14906" y="6876"/>
                  <a:pt x="14926" y="6858"/>
                </a:cubicBezTo>
                <a:cubicBezTo>
                  <a:pt x="14944" y="6842"/>
                  <a:pt x="14959" y="6830"/>
                  <a:pt x="14971" y="6808"/>
                </a:cubicBezTo>
                <a:cubicBezTo>
                  <a:pt x="14937" y="6827"/>
                  <a:pt x="14914" y="6851"/>
                  <a:pt x="14895" y="6886"/>
                </a:cubicBezTo>
                <a:cubicBezTo>
                  <a:pt x="14876" y="6921"/>
                  <a:pt x="14857" y="6972"/>
                  <a:pt x="14876" y="7011"/>
                </a:cubicBezTo>
                <a:cubicBezTo>
                  <a:pt x="14892" y="7044"/>
                  <a:pt x="14949" y="7034"/>
                  <a:pt x="14974" y="7021"/>
                </a:cubicBezTo>
                <a:cubicBezTo>
                  <a:pt x="15016" y="6999"/>
                  <a:pt x="15044" y="6958"/>
                  <a:pt x="15068" y="6919"/>
                </a:cubicBezTo>
                <a:cubicBezTo>
                  <a:pt x="15072" y="6911"/>
                  <a:pt x="15077" y="6903"/>
                  <a:pt x="15081" y="6895"/>
                </a:cubicBezTo>
                <a:cubicBezTo>
                  <a:pt x="15094" y="6851"/>
                  <a:pt x="15076" y="6938"/>
                  <a:pt x="15076" y="6950"/>
                </a:cubicBezTo>
                <a:cubicBezTo>
                  <a:pt x="15075" y="6972"/>
                  <a:pt x="15076" y="6993"/>
                  <a:pt x="15078" y="7015"/>
                </a:cubicBezTo>
                <a:cubicBezTo>
                  <a:pt x="15098" y="6979"/>
                  <a:pt x="15103" y="6941"/>
                  <a:pt x="15118" y="6903"/>
                </a:cubicBezTo>
                <a:cubicBezTo>
                  <a:pt x="15138" y="6851"/>
                  <a:pt x="15166" y="6804"/>
                  <a:pt x="15209" y="6767"/>
                </a:cubicBezTo>
                <a:cubicBezTo>
                  <a:pt x="15241" y="6739"/>
                  <a:pt x="15278" y="6727"/>
                  <a:pt x="15317" y="6712"/>
                </a:cubicBezTo>
              </a:path>
              <a:path w="11287" h="4439">
                <a:moveTo>
                  <a:pt x="15765" y="6945"/>
                </a:moveTo>
                <a:cubicBezTo>
                  <a:pt x="15752" y="6963"/>
                  <a:pt x="15757" y="6969"/>
                  <a:pt x="15759" y="6991"/>
                </a:cubicBezTo>
                <a:cubicBezTo>
                  <a:pt x="15763" y="7028"/>
                  <a:pt x="15767" y="7066"/>
                  <a:pt x="15773" y="7103"/>
                </a:cubicBezTo>
                <a:cubicBezTo>
                  <a:pt x="15774" y="7109"/>
                  <a:pt x="15776" y="7114"/>
                  <a:pt x="15777" y="7120"/>
                </a:cubicBezTo>
                <a:cubicBezTo>
                  <a:pt x="15793" y="7094"/>
                  <a:pt x="15807" y="7061"/>
                  <a:pt x="15821" y="7030"/>
                </a:cubicBezTo>
                <a:cubicBezTo>
                  <a:pt x="15846" y="6973"/>
                  <a:pt x="15871" y="6918"/>
                  <a:pt x="15904" y="6866"/>
                </a:cubicBezTo>
                <a:cubicBezTo>
                  <a:pt x="15920" y="6840"/>
                  <a:pt x="15933" y="6828"/>
                  <a:pt x="15957" y="6812"/>
                </a:cubicBezTo>
                <a:cubicBezTo>
                  <a:pt x="15974" y="6834"/>
                  <a:pt x="15982" y="6846"/>
                  <a:pt x="15984" y="6882"/>
                </a:cubicBezTo>
                <a:cubicBezTo>
                  <a:pt x="15985" y="6912"/>
                  <a:pt x="15984" y="6941"/>
                  <a:pt x="15984" y="6971"/>
                </a:cubicBezTo>
                <a:cubicBezTo>
                  <a:pt x="16000" y="6952"/>
                  <a:pt x="16015" y="6930"/>
                  <a:pt x="16030" y="6907"/>
                </a:cubicBezTo>
                <a:cubicBezTo>
                  <a:pt x="16049" y="6877"/>
                  <a:pt x="16068" y="6843"/>
                  <a:pt x="16105" y="6831"/>
                </a:cubicBezTo>
                <a:cubicBezTo>
                  <a:pt x="16139" y="6820"/>
                  <a:pt x="16168" y="6849"/>
                  <a:pt x="16189" y="6871"/>
                </a:cubicBezTo>
                <a:cubicBezTo>
                  <a:pt x="16221" y="6904"/>
                  <a:pt x="16247" y="6942"/>
                  <a:pt x="16283" y="6972"/>
                </a:cubicBezTo>
                <a:cubicBezTo>
                  <a:pt x="16306" y="6991"/>
                  <a:pt x="16331" y="6999"/>
                  <a:pt x="16360" y="7000"/>
                </a:cubicBezTo>
              </a:path>
              <a:path w="11287" h="4439">
                <a:moveTo>
                  <a:pt x="16399" y="6909"/>
                </a:moveTo>
                <a:cubicBezTo>
                  <a:pt x="16395" y="6881"/>
                  <a:pt x="16394" y="6860"/>
                  <a:pt x="16381" y="6835"/>
                </a:cubicBezTo>
                <a:cubicBezTo>
                  <a:pt x="16347" y="6838"/>
                  <a:pt x="16336" y="6862"/>
                  <a:pt x="16321" y="6897"/>
                </a:cubicBezTo>
                <a:cubicBezTo>
                  <a:pt x="16301" y="6943"/>
                  <a:pt x="16288" y="6996"/>
                  <a:pt x="16288" y="7046"/>
                </a:cubicBezTo>
                <a:cubicBezTo>
                  <a:pt x="16291" y="7070"/>
                  <a:pt x="16291" y="7077"/>
                  <a:pt x="16303" y="7088"/>
                </a:cubicBezTo>
                <a:cubicBezTo>
                  <a:pt x="16343" y="7089"/>
                  <a:pt x="16364" y="7066"/>
                  <a:pt x="16392" y="7037"/>
                </a:cubicBezTo>
                <a:cubicBezTo>
                  <a:pt x="16425" y="7002"/>
                  <a:pt x="16451" y="6956"/>
                  <a:pt x="16487" y="6924"/>
                </a:cubicBezTo>
                <a:cubicBezTo>
                  <a:pt x="16505" y="6908"/>
                  <a:pt x="16522" y="6896"/>
                  <a:pt x="16546" y="6904"/>
                </a:cubicBezTo>
                <a:cubicBezTo>
                  <a:pt x="16556" y="6909"/>
                  <a:pt x="16559" y="6911"/>
                  <a:pt x="16565" y="6916"/>
                </a:cubicBezTo>
              </a:path>
              <a:path w="11287" h="4439">
                <a:moveTo>
                  <a:pt x="16695" y="6479"/>
                </a:moveTo>
                <a:cubicBezTo>
                  <a:pt x="16704" y="6446"/>
                  <a:pt x="16709" y="6401"/>
                  <a:pt x="16731" y="6377"/>
                </a:cubicBezTo>
                <a:cubicBezTo>
                  <a:pt x="16730" y="6432"/>
                  <a:pt x="16723" y="6486"/>
                  <a:pt x="16720" y="6541"/>
                </a:cubicBezTo>
                <a:cubicBezTo>
                  <a:pt x="16715" y="6635"/>
                  <a:pt x="16718" y="6730"/>
                  <a:pt x="16721" y="6824"/>
                </a:cubicBezTo>
                <a:cubicBezTo>
                  <a:pt x="16723" y="6871"/>
                  <a:pt x="16726" y="6917"/>
                  <a:pt x="16731" y="6964"/>
                </a:cubicBezTo>
              </a:path>
              <a:path w="11287" h="4439">
                <a:moveTo>
                  <a:pt x="16903" y="6359"/>
                </a:moveTo>
                <a:cubicBezTo>
                  <a:pt x="16911" y="6395"/>
                  <a:pt x="16900" y="6434"/>
                  <a:pt x="16895" y="6472"/>
                </a:cubicBezTo>
                <a:cubicBezTo>
                  <a:pt x="16883" y="6557"/>
                  <a:pt x="16875" y="6642"/>
                  <a:pt x="16868" y="6728"/>
                </a:cubicBezTo>
                <a:cubicBezTo>
                  <a:pt x="16863" y="6793"/>
                  <a:pt x="16869" y="6856"/>
                  <a:pt x="16864" y="6921"/>
                </a:cubicBezTo>
                <a:cubicBezTo>
                  <a:pt x="16863" y="6928"/>
                  <a:pt x="16862" y="6934"/>
                  <a:pt x="16861" y="6941"/>
                </a:cubicBezTo>
              </a:path>
              <a:path w="11287" h="4439">
                <a:moveTo>
                  <a:pt x="16582" y="6640"/>
                </a:moveTo>
                <a:cubicBezTo>
                  <a:pt x="16571" y="6629"/>
                  <a:pt x="16566" y="6626"/>
                  <a:pt x="16575" y="6615"/>
                </a:cubicBezTo>
                <a:cubicBezTo>
                  <a:pt x="16613" y="6594"/>
                  <a:pt x="16659" y="6592"/>
                  <a:pt x="16704" y="6592"/>
                </a:cubicBezTo>
                <a:cubicBezTo>
                  <a:pt x="16768" y="6592"/>
                  <a:pt x="16839" y="6599"/>
                  <a:pt x="16901" y="6617"/>
                </a:cubicBezTo>
                <a:cubicBezTo>
                  <a:pt x="16911" y="6621"/>
                  <a:pt x="16922" y="6625"/>
                  <a:pt x="16932" y="6629"/>
                </a:cubicBezTo>
              </a:path>
              <a:path w="11287" h="4439">
                <a:moveTo>
                  <a:pt x="16964" y="6798"/>
                </a:moveTo>
                <a:cubicBezTo>
                  <a:pt x="16994" y="6806"/>
                  <a:pt x="16998" y="6791"/>
                  <a:pt x="17023" y="6778"/>
                </a:cubicBezTo>
                <a:cubicBezTo>
                  <a:pt x="17059" y="6759"/>
                  <a:pt x="17086" y="6739"/>
                  <a:pt x="17116" y="6712"/>
                </a:cubicBezTo>
                <a:cubicBezTo>
                  <a:pt x="17130" y="6700"/>
                  <a:pt x="17134" y="6697"/>
                  <a:pt x="17139" y="6686"/>
                </a:cubicBezTo>
                <a:cubicBezTo>
                  <a:pt x="17100" y="6697"/>
                  <a:pt x="17077" y="6725"/>
                  <a:pt x="17052" y="6759"/>
                </a:cubicBezTo>
                <a:cubicBezTo>
                  <a:pt x="17020" y="6803"/>
                  <a:pt x="17000" y="6848"/>
                  <a:pt x="17002" y="6902"/>
                </a:cubicBezTo>
                <a:cubicBezTo>
                  <a:pt x="17003" y="6942"/>
                  <a:pt x="17046" y="6948"/>
                  <a:pt x="17078" y="6941"/>
                </a:cubicBezTo>
                <a:cubicBezTo>
                  <a:pt x="17088" y="6937"/>
                  <a:pt x="17097" y="6934"/>
                  <a:pt x="17107" y="6930"/>
                </a:cubicBezTo>
              </a:path>
              <a:path w="11287" h="4439">
                <a:moveTo>
                  <a:pt x="17189" y="6859"/>
                </a:moveTo>
                <a:cubicBezTo>
                  <a:pt x="17205" y="6842"/>
                  <a:pt x="17216" y="6822"/>
                  <a:pt x="17232" y="6805"/>
                </a:cubicBezTo>
                <a:cubicBezTo>
                  <a:pt x="17260" y="6775"/>
                  <a:pt x="17281" y="6748"/>
                  <a:pt x="17316" y="6724"/>
                </a:cubicBezTo>
                <a:cubicBezTo>
                  <a:pt x="17344" y="6706"/>
                  <a:pt x="17354" y="6700"/>
                  <a:pt x="17374" y="6690"/>
                </a:cubicBezTo>
              </a:path>
              <a:path w="11287" h="4439">
                <a:moveTo>
                  <a:pt x="17544" y="6620"/>
                </a:moveTo>
                <a:cubicBezTo>
                  <a:pt x="17522" y="6649"/>
                  <a:pt x="17498" y="6661"/>
                  <a:pt x="17469" y="6682"/>
                </a:cubicBezTo>
                <a:cubicBezTo>
                  <a:pt x="17441" y="6702"/>
                  <a:pt x="17409" y="6725"/>
                  <a:pt x="17384" y="6749"/>
                </a:cubicBezTo>
                <a:cubicBezTo>
                  <a:pt x="17364" y="6769"/>
                  <a:pt x="17376" y="6780"/>
                  <a:pt x="17386" y="6801"/>
                </a:cubicBezTo>
                <a:cubicBezTo>
                  <a:pt x="17405" y="6839"/>
                  <a:pt x="17429" y="6874"/>
                  <a:pt x="17444" y="6914"/>
                </a:cubicBezTo>
                <a:cubicBezTo>
                  <a:pt x="17459" y="6953"/>
                  <a:pt x="17475" y="7000"/>
                  <a:pt x="17470" y="7042"/>
                </a:cubicBezTo>
                <a:cubicBezTo>
                  <a:pt x="17468" y="7046"/>
                  <a:pt x="17467" y="7051"/>
                  <a:pt x="17465" y="7055"/>
                </a:cubicBezTo>
                <a:cubicBezTo>
                  <a:pt x="17423" y="7038"/>
                  <a:pt x="17407" y="7013"/>
                  <a:pt x="17378" y="6977"/>
                </a:cubicBezTo>
                <a:cubicBezTo>
                  <a:pt x="17369" y="6966"/>
                  <a:pt x="17361" y="6955"/>
                  <a:pt x="17352" y="6944"/>
                </a:cubicBezTo>
              </a:path>
              <a:path w="11287" h="4439">
                <a:moveTo>
                  <a:pt x="12964" y="8265"/>
                </a:moveTo>
                <a:cubicBezTo>
                  <a:pt x="12945" y="8250"/>
                  <a:pt x="12936" y="8235"/>
                  <a:pt x="12920" y="8218"/>
                </a:cubicBezTo>
                <a:cubicBezTo>
                  <a:pt x="13629" y="8195"/>
                  <a:pt x="14337" y="8231"/>
                  <a:pt x="15045" y="8270"/>
                </a:cubicBezTo>
                <a:cubicBezTo>
                  <a:pt x="15557" y="8298"/>
                  <a:pt x="16065" y="8304"/>
                  <a:pt x="16577" y="8302"/>
                </a:cubicBezTo>
                <a:cubicBezTo>
                  <a:pt x="16717" y="8302"/>
                  <a:pt x="16840" y="8291"/>
                  <a:pt x="16974" y="8258"/>
                </a:cubicBezTo>
                <a:cubicBezTo>
                  <a:pt x="17090" y="8230"/>
                  <a:pt x="17224" y="8218"/>
                  <a:pt x="17281" y="8100"/>
                </a:cubicBezTo>
                <a:cubicBezTo>
                  <a:pt x="17325" y="8008"/>
                  <a:pt x="17333" y="7843"/>
                  <a:pt x="17339" y="7742"/>
                </a:cubicBezTo>
                <a:cubicBezTo>
                  <a:pt x="17345" y="7649"/>
                  <a:pt x="17327" y="7560"/>
                  <a:pt x="17290" y="7477"/>
                </a:cubicBezTo>
                <a:cubicBezTo>
                  <a:pt x="17281" y="7457"/>
                  <a:pt x="17261" y="7423"/>
                  <a:pt x="17248" y="7404"/>
                </a:cubicBezTo>
                <a:cubicBezTo>
                  <a:pt x="17212" y="7352"/>
                  <a:pt x="17195" y="7336"/>
                  <a:pt x="17133" y="7311"/>
                </a:cubicBezTo>
                <a:cubicBezTo>
                  <a:pt x="16979" y="7249"/>
                  <a:pt x="16773" y="7253"/>
                  <a:pt x="16610" y="7226"/>
                </a:cubicBezTo>
                <a:cubicBezTo>
                  <a:pt x="16355" y="7183"/>
                  <a:pt x="16104" y="7161"/>
                  <a:pt x="15845" y="7149"/>
                </a:cubicBezTo>
                <a:cubicBezTo>
                  <a:pt x="15438" y="7130"/>
                  <a:pt x="15033" y="7099"/>
                  <a:pt x="14626" y="7079"/>
                </a:cubicBezTo>
                <a:cubicBezTo>
                  <a:pt x="14324" y="7064"/>
                  <a:pt x="14025" y="7055"/>
                  <a:pt x="13723" y="7046"/>
                </a:cubicBezTo>
                <a:cubicBezTo>
                  <a:pt x="13382" y="7035"/>
                  <a:pt x="12978" y="6931"/>
                  <a:pt x="12644" y="7034"/>
                </a:cubicBezTo>
                <a:cubicBezTo>
                  <a:pt x="12525" y="7071"/>
                  <a:pt x="12477" y="7143"/>
                  <a:pt x="12446" y="7259"/>
                </a:cubicBezTo>
                <a:cubicBezTo>
                  <a:pt x="12397" y="7441"/>
                  <a:pt x="12406" y="7672"/>
                  <a:pt x="12400" y="7860"/>
                </a:cubicBezTo>
                <a:cubicBezTo>
                  <a:pt x="12398" y="7921"/>
                  <a:pt x="12384" y="7997"/>
                  <a:pt x="12437" y="8037"/>
                </a:cubicBezTo>
                <a:cubicBezTo>
                  <a:pt x="12511" y="8093"/>
                  <a:pt x="12725" y="8086"/>
                  <a:pt x="12822" y="8115"/>
                </a:cubicBezTo>
              </a:path>
              <a:path w="11287" h="4439">
                <a:moveTo>
                  <a:pt x="17725" y="7250"/>
                </a:moveTo>
                <a:cubicBezTo>
                  <a:pt x="17731" y="7224"/>
                  <a:pt x="17731" y="7190"/>
                  <a:pt x="17746" y="7167"/>
                </a:cubicBezTo>
                <a:cubicBezTo>
                  <a:pt x="17797" y="7089"/>
                  <a:pt x="17877" y="7021"/>
                  <a:pt x="17947" y="6961"/>
                </a:cubicBezTo>
                <a:cubicBezTo>
                  <a:pt x="18082" y="6846"/>
                  <a:pt x="18221" y="6735"/>
                  <a:pt x="18363" y="6629"/>
                </a:cubicBezTo>
                <a:cubicBezTo>
                  <a:pt x="18452" y="6562"/>
                  <a:pt x="18551" y="6503"/>
                  <a:pt x="18637" y="6434"/>
                </a:cubicBezTo>
                <a:cubicBezTo>
                  <a:pt x="18657" y="6418"/>
                  <a:pt x="18544" y="6501"/>
                  <a:pt x="18527" y="6513"/>
                </a:cubicBezTo>
              </a:path>
              <a:path w="11287" h="4439">
                <a:moveTo>
                  <a:pt x="17636" y="7181"/>
                </a:moveTo>
                <a:cubicBezTo>
                  <a:pt x="17588" y="7201"/>
                  <a:pt x="17650" y="7128"/>
                  <a:pt x="17662" y="7108"/>
                </a:cubicBezTo>
                <a:cubicBezTo>
                  <a:pt x="17698" y="7047"/>
                  <a:pt x="17734" y="6987"/>
                  <a:pt x="17772" y="6927"/>
                </a:cubicBezTo>
                <a:cubicBezTo>
                  <a:pt x="17790" y="6898"/>
                  <a:pt x="17793" y="6890"/>
                  <a:pt x="17810" y="6877"/>
                </a:cubicBezTo>
                <a:cubicBezTo>
                  <a:pt x="17789" y="6935"/>
                  <a:pt x="17756" y="6988"/>
                  <a:pt x="17730" y="7044"/>
                </a:cubicBezTo>
                <a:cubicBezTo>
                  <a:pt x="17701" y="7107"/>
                  <a:pt x="17659" y="7185"/>
                  <a:pt x="17663" y="7257"/>
                </a:cubicBezTo>
                <a:cubicBezTo>
                  <a:pt x="17666" y="7313"/>
                  <a:pt x="17738" y="7295"/>
                  <a:pt x="17771" y="7281"/>
                </a:cubicBezTo>
                <a:cubicBezTo>
                  <a:pt x="17847" y="7249"/>
                  <a:pt x="17913" y="7188"/>
                  <a:pt x="17976" y="7138"/>
                </a:cubicBezTo>
                <a:cubicBezTo>
                  <a:pt x="17994" y="7124"/>
                  <a:pt x="18013" y="7110"/>
                  <a:pt x="18031" y="7096"/>
                </a:cubicBezTo>
              </a:path>
              <a:path w="11287" h="4439">
                <a:moveTo>
                  <a:pt x="18496" y="6344"/>
                </a:moveTo>
                <a:cubicBezTo>
                  <a:pt x="18476" y="6334"/>
                  <a:pt x="18447" y="6326"/>
                  <a:pt x="18431" y="6310"/>
                </a:cubicBezTo>
                <a:cubicBezTo>
                  <a:pt x="18406" y="6285"/>
                  <a:pt x="18418" y="6269"/>
                  <a:pt x="18440" y="6247"/>
                </a:cubicBezTo>
                <a:cubicBezTo>
                  <a:pt x="18466" y="6221"/>
                  <a:pt x="18498" y="6206"/>
                  <a:pt x="18535" y="6211"/>
                </a:cubicBezTo>
                <a:cubicBezTo>
                  <a:pt x="18583" y="6217"/>
                  <a:pt x="18596" y="6273"/>
                  <a:pt x="18597" y="6314"/>
                </a:cubicBezTo>
                <a:cubicBezTo>
                  <a:pt x="18598" y="6386"/>
                  <a:pt x="18574" y="6457"/>
                  <a:pt x="18549" y="6524"/>
                </a:cubicBezTo>
                <a:cubicBezTo>
                  <a:pt x="18532" y="6570"/>
                  <a:pt x="18501" y="6620"/>
                  <a:pt x="18492" y="6669"/>
                </a:cubicBezTo>
                <a:cubicBezTo>
                  <a:pt x="18487" y="6694"/>
                  <a:pt x="18513" y="6682"/>
                  <a:pt x="18523" y="6680"/>
                </a:cubicBezTo>
              </a:path>
              <a:path w="11287" h="4439">
                <a:moveTo>
                  <a:pt x="19041" y="5967"/>
                </a:moveTo>
                <a:cubicBezTo>
                  <a:pt x="19025" y="5955"/>
                  <a:pt x="19013" y="5950"/>
                  <a:pt x="18995" y="5941"/>
                </a:cubicBezTo>
                <a:cubicBezTo>
                  <a:pt x="19036" y="5924"/>
                  <a:pt x="19075" y="5915"/>
                  <a:pt x="19119" y="5911"/>
                </a:cubicBezTo>
                <a:cubicBezTo>
                  <a:pt x="19180" y="5905"/>
                  <a:pt x="19243" y="5904"/>
                  <a:pt x="19298" y="5933"/>
                </a:cubicBezTo>
                <a:cubicBezTo>
                  <a:pt x="19350" y="5960"/>
                  <a:pt x="19373" y="6018"/>
                  <a:pt x="19384" y="6072"/>
                </a:cubicBezTo>
                <a:cubicBezTo>
                  <a:pt x="19403" y="6169"/>
                  <a:pt x="19383" y="6278"/>
                  <a:pt x="19366" y="6374"/>
                </a:cubicBezTo>
                <a:cubicBezTo>
                  <a:pt x="19360" y="6411"/>
                  <a:pt x="19350" y="6457"/>
                  <a:pt x="19333" y="6491"/>
                </a:cubicBezTo>
                <a:cubicBezTo>
                  <a:pt x="19321" y="6514"/>
                  <a:pt x="19309" y="6519"/>
                  <a:pt x="19286" y="6523"/>
                </a:cubicBezTo>
                <a:cubicBezTo>
                  <a:pt x="19210" y="6537"/>
                  <a:pt x="19125" y="6522"/>
                  <a:pt x="19049" y="6515"/>
                </a:cubicBezTo>
                <a:cubicBezTo>
                  <a:pt x="19021" y="6512"/>
                  <a:pt x="18979" y="6514"/>
                  <a:pt x="18996" y="6475"/>
                </a:cubicBezTo>
                <a:cubicBezTo>
                  <a:pt x="19002" y="6468"/>
                  <a:pt x="19008" y="6461"/>
                  <a:pt x="19014" y="6454"/>
                </a:cubicBezTo>
              </a:path>
              <a:path w="11287" h="4439">
                <a:moveTo>
                  <a:pt x="19314" y="6229"/>
                </a:moveTo>
                <a:cubicBezTo>
                  <a:pt x="19282" y="6222"/>
                  <a:pt x="19240" y="6219"/>
                  <a:pt x="19208" y="6224"/>
                </a:cubicBezTo>
                <a:cubicBezTo>
                  <a:pt x="19166" y="6231"/>
                  <a:pt x="19123" y="6245"/>
                  <a:pt x="19080" y="6250"/>
                </a:cubicBezTo>
                <a:cubicBezTo>
                  <a:pt x="19077" y="6250"/>
                  <a:pt x="19012" y="6264"/>
                  <a:pt x="19037" y="6241"/>
                </a:cubicBezTo>
                <a:cubicBezTo>
                  <a:pt x="19042" y="6238"/>
                  <a:pt x="19048" y="6234"/>
                  <a:pt x="19053" y="6231"/>
                </a:cubicBezTo>
              </a:path>
              <a:path w="11287" h="4439">
                <a:moveTo>
                  <a:pt x="19500" y="6136"/>
                </a:moveTo>
                <a:cubicBezTo>
                  <a:pt x="19515" y="6167"/>
                  <a:pt x="19522" y="6202"/>
                  <a:pt x="19534" y="6236"/>
                </a:cubicBezTo>
                <a:cubicBezTo>
                  <a:pt x="19555" y="6296"/>
                  <a:pt x="19585" y="6355"/>
                  <a:pt x="19624" y="6405"/>
                </a:cubicBezTo>
                <a:cubicBezTo>
                  <a:pt x="19656" y="6445"/>
                  <a:pt x="19682" y="6468"/>
                  <a:pt x="19731" y="6477"/>
                </a:cubicBezTo>
              </a:path>
              <a:path w="11287" h="4439">
                <a:moveTo>
                  <a:pt x="19771" y="6224"/>
                </a:moveTo>
                <a:cubicBezTo>
                  <a:pt x="19736" y="6239"/>
                  <a:pt x="19695" y="6268"/>
                  <a:pt x="19671" y="6299"/>
                </a:cubicBezTo>
                <a:cubicBezTo>
                  <a:pt x="19641" y="6338"/>
                  <a:pt x="19608" y="6394"/>
                  <a:pt x="19591" y="6441"/>
                </a:cubicBezTo>
                <a:cubicBezTo>
                  <a:pt x="19585" y="6465"/>
                  <a:pt x="19583" y="6470"/>
                  <a:pt x="19582" y="6485"/>
                </a:cubicBezTo>
              </a:path>
              <a:path w="11287" h="4439">
                <a:moveTo>
                  <a:pt x="19900" y="6015"/>
                </a:moveTo>
                <a:cubicBezTo>
                  <a:pt x="19889" y="5999"/>
                  <a:pt x="19885" y="5994"/>
                  <a:pt x="19887" y="5981"/>
                </a:cubicBezTo>
                <a:cubicBezTo>
                  <a:pt x="19925" y="5972"/>
                  <a:pt x="19958" y="5978"/>
                  <a:pt x="19997" y="5985"/>
                </a:cubicBezTo>
                <a:cubicBezTo>
                  <a:pt x="20053" y="5995"/>
                  <a:pt x="20112" y="6008"/>
                  <a:pt x="20163" y="6034"/>
                </a:cubicBezTo>
                <a:cubicBezTo>
                  <a:pt x="20205" y="6055"/>
                  <a:pt x="20232" y="6085"/>
                  <a:pt x="20244" y="6131"/>
                </a:cubicBezTo>
                <a:cubicBezTo>
                  <a:pt x="20260" y="6192"/>
                  <a:pt x="20252" y="6264"/>
                  <a:pt x="20250" y="6326"/>
                </a:cubicBezTo>
                <a:cubicBezTo>
                  <a:pt x="20249" y="6353"/>
                  <a:pt x="20253" y="6384"/>
                  <a:pt x="20245" y="6410"/>
                </a:cubicBezTo>
                <a:cubicBezTo>
                  <a:pt x="20237" y="6434"/>
                  <a:pt x="20216" y="6448"/>
                  <a:pt x="20194" y="6457"/>
                </a:cubicBezTo>
                <a:cubicBezTo>
                  <a:pt x="20146" y="6476"/>
                  <a:pt x="20093" y="6480"/>
                  <a:pt x="20042" y="6477"/>
                </a:cubicBezTo>
                <a:cubicBezTo>
                  <a:pt x="20014" y="6475"/>
                  <a:pt x="19977" y="6467"/>
                  <a:pt x="19983" y="6431"/>
                </a:cubicBezTo>
                <a:cubicBezTo>
                  <a:pt x="19992" y="6406"/>
                  <a:pt x="19995" y="6397"/>
                  <a:pt x="20008" y="6384"/>
                </a:cubicBezTo>
              </a:path>
              <a:path w="11287" h="4439">
                <a:moveTo>
                  <a:pt x="20219" y="6230"/>
                </a:moveTo>
                <a:cubicBezTo>
                  <a:pt x="20210" y="6202"/>
                  <a:pt x="20198" y="6193"/>
                  <a:pt x="20168" y="6189"/>
                </a:cubicBezTo>
                <a:cubicBezTo>
                  <a:pt x="20122" y="6183"/>
                  <a:pt x="20076" y="6195"/>
                  <a:pt x="20032" y="6208"/>
                </a:cubicBezTo>
                <a:cubicBezTo>
                  <a:pt x="20009" y="6215"/>
                  <a:pt x="19989" y="6218"/>
                  <a:pt x="19971" y="6230"/>
                </a:cubicBezTo>
              </a:path>
              <a:path w="11287" h="4439">
                <a:moveTo>
                  <a:pt x="20495" y="6225"/>
                </a:moveTo>
                <a:cubicBezTo>
                  <a:pt x="20484" y="6253"/>
                  <a:pt x="20470" y="6272"/>
                  <a:pt x="20462" y="6301"/>
                </a:cubicBezTo>
                <a:cubicBezTo>
                  <a:pt x="20452" y="6334"/>
                  <a:pt x="20451" y="6374"/>
                  <a:pt x="20474" y="6403"/>
                </a:cubicBezTo>
                <a:cubicBezTo>
                  <a:pt x="20501" y="6436"/>
                  <a:pt x="20550" y="6420"/>
                  <a:pt x="20581" y="6405"/>
                </a:cubicBezTo>
                <a:cubicBezTo>
                  <a:pt x="20626" y="6383"/>
                  <a:pt x="20661" y="6350"/>
                  <a:pt x="20697" y="6317"/>
                </a:cubicBezTo>
                <a:cubicBezTo>
                  <a:pt x="20715" y="6301"/>
                  <a:pt x="20719" y="6297"/>
                  <a:pt x="20731" y="6287"/>
                </a:cubicBezTo>
                <a:cubicBezTo>
                  <a:pt x="20711" y="6330"/>
                  <a:pt x="20685" y="6371"/>
                  <a:pt x="20657" y="6412"/>
                </a:cubicBezTo>
                <a:cubicBezTo>
                  <a:pt x="20592" y="6508"/>
                  <a:pt x="20521" y="6601"/>
                  <a:pt x="20455" y="6696"/>
                </a:cubicBezTo>
                <a:cubicBezTo>
                  <a:pt x="20436" y="6727"/>
                  <a:pt x="20432" y="6735"/>
                  <a:pt x="20420" y="6754"/>
                </a:cubicBezTo>
              </a:path>
              <a:path w="11287" h="4439">
                <a:moveTo>
                  <a:pt x="21460" y="5938"/>
                </a:moveTo>
                <a:cubicBezTo>
                  <a:pt x="21423" y="5929"/>
                  <a:pt x="21404" y="5939"/>
                  <a:pt x="21370" y="5954"/>
                </a:cubicBezTo>
                <a:cubicBezTo>
                  <a:pt x="21310" y="5981"/>
                  <a:pt x="21256" y="6025"/>
                  <a:pt x="21212" y="6075"/>
                </a:cubicBezTo>
                <a:cubicBezTo>
                  <a:pt x="21151" y="6144"/>
                  <a:pt x="21107" y="6244"/>
                  <a:pt x="21142" y="6335"/>
                </a:cubicBezTo>
                <a:cubicBezTo>
                  <a:pt x="21173" y="6417"/>
                  <a:pt x="21266" y="6451"/>
                  <a:pt x="21347" y="6427"/>
                </a:cubicBezTo>
                <a:cubicBezTo>
                  <a:pt x="21416" y="6407"/>
                  <a:pt x="21465" y="6349"/>
                  <a:pt x="21493" y="6286"/>
                </a:cubicBezTo>
                <a:cubicBezTo>
                  <a:pt x="21525" y="6214"/>
                  <a:pt x="21524" y="6127"/>
                  <a:pt x="21499" y="6054"/>
                </a:cubicBezTo>
                <a:cubicBezTo>
                  <a:pt x="21486" y="6017"/>
                  <a:pt x="21463" y="5964"/>
                  <a:pt x="21421" y="5952"/>
                </a:cubicBezTo>
                <a:cubicBezTo>
                  <a:pt x="21417" y="5952"/>
                  <a:pt x="21412" y="5952"/>
                  <a:pt x="21408" y="5952"/>
                </a:cubicBezTo>
              </a:path>
              <a:path w="11287" h="4439">
                <a:moveTo>
                  <a:pt x="21362" y="6235"/>
                </a:moveTo>
                <a:cubicBezTo>
                  <a:pt x="21378" y="6268"/>
                  <a:pt x="21396" y="6302"/>
                  <a:pt x="21422" y="6329"/>
                </a:cubicBezTo>
                <a:cubicBezTo>
                  <a:pt x="21464" y="6371"/>
                  <a:pt x="21512" y="6415"/>
                  <a:pt x="21564" y="6444"/>
                </a:cubicBezTo>
                <a:cubicBezTo>
                  <a:pt x="21590" y="6459"/>
                  <a:pt x="21608" y="6459"/>
                  <a:pt x="21636" y="6459"/>
                </a:cubicBezTo>
              </a:path>
              <a:path w="11287" h="4439">
                <a:moveTo>
                  <a:pt x="21754" y="6015"/>
                </a:moveTo>
                <a:cubicBezTo>
                  <a:pt x="21754" y="6011"/>
                  <a:pt x="21754" y="6007"/>
                  <a:pt x="21754" y="6003"/>
                </a:cubicBezTo>
                <a:cubicBezTo>
                  <a:pt x="21717" y="6001"/>
                  <a:pt x="21698" y="6027"/>
                  <a:pt x="21675" y="6060"/>
                </a:cubicBezTo>
                <a:cubicBezTo>
                  <a:pt x="21636" y="6114"/>
                  <a:pt x="21609" y="6183"/>
                  <a:pt x="21604" y="6249"/>
                </a:cubicBezTo>
                <a:cubicBezTo>
                  <a:pt x="21600" y="6310"/>
                  <a:pt x="21611" y="6380"/>
                  <a:pt x="21657" y="6425"/>
                </a:cubicBezTo>
                <a:cubicBezTo>
                  <a:pt x="21686" y="6453"/>
                  <a:pt x="21711" y="6451"/>
                  <a:pt x="21747" y="6450"/>
                </a:cubicBezTo>
              </a:path>
              <a:path w="11287" h="4439">
                <a:moveTo>
                  <a:pt x="21851" y="6185"/>
                </a:moveTo>
                <a:cubicBezTo>
                  <a:pt x="21817" y="6215"/>
                  <a:pt x="21805" y="6259"/>
                  <a:pt x="21820" y="6304"/>
                </a:cubicBezTo>
                <a:cubicBezTo>
                  <a:pt x="21839" y="6363"/>
                  <a:pt x="21886" y="6419"/>
                  <a:pt x="21935" y="6454"/>
                </a:cubicBezTo>
                <a:cubicBezTo>
                  <a:pt x="21976" y="6484"/>
                  <a:pt x="22032" y="6502"/>
                  <a:pt x="22082" y="6487"/>
                </a:cubicBezTo>
                <a:cubicBezTo>
                  <a:pt x="22090" y="6483"/>
                  <a:pt x="22097" y="6479"/>
                  <a:pt x="22105" y="6475"/>
                </a:cubicBezTo>
              </a:path>
              <a:path w="11287" h="4439">
                <a:moveTo>
                  <a:pt x="22111" y="6283"/>
                </a:moveTo>
                <a:cubicBezTo>
                  <a:pt x="22064" y="6284"/>
                  <a:pt x="22049" y="6304"/>
                  <a:pt x="22011" y="6329"/>
                </a:cubicBezTo>
                <a:cubicBezTo>
                  <a:pt x="21963" y="6361"/>
                  <a:pt x="21917" y="6399"/>
                  <a:pt x="21877" y="6442"/>
                </a:cubicBezTo>
                <a:cubicBezTo>
                  <a:pt x="21857" y="6464"/>
                  <a:pt x="21843" y="6482"/>
                  <a:pt x="21819" y="6500"/>
                </a:cubicBezTo>
              </a:path>
              <a:path w="11287" h="4439">
                <a:moveTo>
                  <a:pt x="22249" y="6402"/>
                </a:moveTo>
                <a:cubicBezTo>
                  <a:pt x="22239" y="6445"/>
                  <a:pt x="22225" y="6478"/>
                  <a:pt x="22209" y="6517"/>
                </a:cubicBezTo>
                <a:cubicBezTo>
                  <a:pt x="22196" y="6549"/>
                  <a:pt x="22191" y="6569"/>
                  <a:pt x="22166" y="6593"/>
                </a:cubicBezTo>
              </a:path>
              <a:path w="11287" h="4439">
                <a:moveTo>
                  <a:pt x="22492" y="6210"/>
                </a:moveTo>
                <a:cubicBezTo>
                  <a:pt x="22478" y="6193"/>
                  <a:pt x="22463" y="6239"/>
                  <a:pt x="22454" y="6265"/>
                </a:cubicBezTo>
                <a:cubicBezTo>
                  <a:pt x="22444" y="6293"/>
                  <a:pt x="22439" y="6344"/>
                  <a:pt x="22467" y="6366"/>
                </a:cubicBezTo>
                <a:cubicBezTo>
                  <a:pt x="22497" y="6389"/>
                  <a:pt x="22546" y="6363"/>
                  <a:pt x="22571" y="6348"/>
                </a:cubicBezTo>
                <a:cubicBezTo>
                  <a:pt x="22619" y="6319"/>
                  <a:pt x="22653" y="6270"/>
                  <a:pt x="22703" y="6246"/>
                </a:cubicBezTo>
                <a:cubicBezTo>
                  <a:pt x="22703" y="6292"/>
                  <a:pt x="22684" y="6332"/>
                  <a:pt x="22668" y="6376"/>
                </a:cubicBezTo>
                <a:cubicBezTo>
                  <a:pt x="22646" y="6436"/>
                  <a:pt x="22640" y="6485"/>
                  <a:pt x="22633" y="6547"/>
                </a:cubicBezTo>
                <a:cubicBezTo>
                  <a:pt x="22629" y="6583"/>
                  <a:pt x="22638" y="6587"/>
                  <a:pt x="22671" y="6577"/>
                </a:cubicBezTo>
              </a:path>
              <a:path w="11287" h="4439">
                <a:moveTo>
                  <a:pt x="22869" y="5928"/>
                </a:moveTo>
                <a:cubicBezTo>
                  <a:pt x="22896" y="5946"/>
                  <a:pt x="22912" y="5985"/>
                  <a:pt x="22920" y="6017"/>
                </a:cubicBezTo>
                <a:cubicBezTo>
                  <a:pt x="22938" y="6096"/>
                  <a:pt x="22942" y="6184"/>
                  <a:pt x="22950" y="6265"/>
                </a:cubicBezTo>
                <a:cubicBezTo>
                  <a:pt x="22958" y="6346"/>
                  <a:pt x="22953" y="6420"/>
                  <a:pt x="22950" y="6501"/>
                </a:cubicBezTo>
                <a:cubicBezTo>
                  <a:pt x="22949" y="6525"/>
                  <a:pt x="22949" y="6551"/>
                  <a:pt x="22947" y="657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985240" y="2900520"/>
            <a:ext cx="25560" cy="15840"/>
          </a:xfrm>
          <a:custGeom>
            <a:avLst/>
            <a:gdLst/>
            <a:ahLst/>
            <a:rect l="l" t="t" r="r" b="b"/>
            <a:pathLst>
              <a:path w="73" h="42">
                <a:moveTo>
                  <a:pt x="25029" y="8099"/>
                </a:moveTo>
                <a:cubicBezTo>
                  <a:pt x="25003" y="8059"/>
                  <a:pt x="24995" y="8045"/>
                  <a:pt x="24957" y="806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797520" y="2567160"/>
            <a:ext cx="2184480" cy="625320"/>
          </a:xfrm>
          <a:custGeom>
            <a:avLst/>
            <a:gdLst/>
            <a:ahLst/>
            <a:rect l="l" t="t" r="r" b="b"/>
            <a:pathLst>
              <a:path w="6070" h="1736">
                <a:moveTo>
                  <a:pt x="19372" y="7283"/>
                </a:moveTo>
                <a:cubicBezTo>
                  <a:pt x="19362" y="7296"/>
                  <a:pt x="19348" y="7309"/>
                  <a:pt x="19351" y="7328"/>
                </a:cubicBezTo>
                <a:cubicBezTo>
                  <a:pt x="19359" y="7384"/>
                  <a:pt x="19389" y="7454"/>
                  <a:pt x="19409" y="7507"/>
                </a:cubicBezTo>
                <a:cubicBezTo>
                  <a:pt x="19441" y="7592"/>
                  <a:pt x="19480" y="7711"/>
                  <a:pt x="19546" y="7777"/>
                </a:cubicBezTo>
                <a:cubicBezTo>
                  <a:pt x="19594" y="7824"/>
                  <a:pt x="19625" y="7754"/>
                  <a:pt x="19638" y="7717"/>
                </a:cubicBezTo>
                <a:cubicBezTo>
                  <a:pt x="19670" y="7625"/>
                  <a:pt x="19681" y="7522"/>
                  <a:pt x="19694" y="7426"/>
                </a:cubicBezTo>
                <a:cubicBezTo>
                  <a:pt x="19697" y="7401"/>
                  <a:pt x="19729" y="7252"/>
                  <a:pt x="19708" y="7231"/>
                </a:cubicBezTo>
                <a:cubicBezTo>
                  <a:pt x="19701" y="7232"/>
                  <a:pt x="19695" y="7232"/>
                  <a:pt x="19688" y="7233"/>
                </a:cubicBezTo>
              </a:path>
              <a:path w="6070" h="1736">
                <a:moveTo>
                  <a:pt x="19385" y="7543"/>
                </a:moveTo>
                <a:cubicBezTo>
                  <a:pt x="19390" y="7572"/>
                  <a:pt x="19441" y="7552"/>
                  <a:pt x="19474" y="7548"/>
                </a:cubicBezTo>
                <a:cubicBezTo>
                  <a:pt x="19548" y="7538"/>
                  <a:pt x="19622" y="7537"/>
                  <a:pt x="19696" y="7526"/>
                </a:cubicBezTo>
                <a:cubicBezTo>
                  <a:pt x="19738" y="7519"/>
                  <a:pt x="19750" y="7517"/>
                  <a:pt x="19777" y="7510"/>
                </a:cubicBezTo>
              </a:path>
              <a:path w="6070" h="1736">
                <a:moveTo>
                  <a:pt x="19830" y="7480"/>
                </a:moveTo>
                <a:cubicBezTo>
                  <a:pt x="19845" y="7521"/>
                  <a:pt x="19862" y="7558"/>
                  <a:pt x="19895" y="7588"/>
                </a:cubicBezTo>
                <a:cubicBezTo>
                  <a:pt x="19938" y="7627"/>
                  <a:pt x="19994" y="7654"/>
                  <a:pt x="20051" y="7663"/>
                </a:cubicBezTo>
                <a:cubicBezTo>
                  <a:pt x="20064" y="7664"/>
                  <a:pt x="20076" y="7665"/>
                  <a:pt x="20089" y="7666"/>
                </a:cubicBezTo>
              </a:path>
              <a:path w="6070" h="1736">
                <a:moveTo>
                  <a:pt x="20149" y="7485"/>
                </a:moveTo>
                <a:cubicBezTo>
                  <a:pt x="20106" y="7500"/>
                  <a:pt x="20065" y="7533"/>
                  <a:pt x="20036" y="7569"/>
                </a:cubicBezTo>
                <a:cubicBezTo>
                  <a:pt x="19988" y="7627"/>
                  <a:pt x="19949" y="7695"/>
                  <a:pt x="19915" y="7761"/>
                </a:cubicBezTo>
                <a:cubicBezTo>
                  <a:pt x="19900" y="7790"/>
                  <a:pt x="19896" y="7798"/>
                  <a:pt x="19887" y="7816"/>
                </a:cubicBezTo>
              </a:path>
              <a:path w="6070" h="1736">
                <a:moveTo>
                  <a:pt x="20411" y="7358"/>
                </a:moveTo>
                <a:cubicBezTo>
                  <a:pt x="20385" y="7359"/>
                  <a:pt x="20366" y="7357"/>
                  <a:pt x="20341" y="7354"/>
                </a:cubicBezTo>
                <a:cubicBezTo>
                  <a:pt x="20326" y="7352"/>
                  <a:pt x="20300" y="7357"/>
                  <a:pt x="20286" y="7348"/>
                </a:cubicBezTo>
                <a:cubicBezTo>
                  <a:pt x="20285" y="7345"/>
                  <a:pt x="20283" y="7341"/>
                  <a:pt x="20282" y="7338"/>
                </a:cubicBezTo>
                <a:cubicBezTo>
                  <a:pt x="20297" y="7331"/>
                  <a:pt x="20310" y="7325"/>
                  <a:pt x="20326" y="7319"/>
                </a:cubicBezTo>
                <a:cubicBezTo>
                  <a:pt x="20347" y="7312"/>
                  <a:pt x="20367" y="7302"/>
                  <a:pt x="20388" y="7295"/>
                </a:cubicBezTo>
                <a:cubicBezTo>
                  <a:pt x="20416" y="7286"/>
                  <a:pt x="20444" y="7278"/>
                  <a:pt x="20473" y="7273"/>
                </a:cubicBezTo>
                <a:cubicBezTo>
                  <a:pt x="20509" y="7267"/>
                  <a:pt x="20546" y="7263"/>
                  <a:pt x="20583" y="7260"/>
                </a:cubicBezTo>
                <a:cubicBezTo>
                  <a:pt x="20606" y="7258"/>
                  <a:pt x="20631" y="7254"/>
                  <a:pt x="20654" y="7256"/>
                </a:cubicBezTo>
                <a:cubicBezTo>
                  <a:pt x="20679" y="7258"/>
                  <a:pt x="20678" y="7263"/>
                  <a:pt x="20692" y="7282"/>
                </a:cubicBezTo>
                <a:cubicBezTo>
                  <a:pt x="20719" y="7318"/>
                  <a:pt x="20719" y="7380"/>
                  <a:pt x="20719" y="7422"/>
                </a:cubicBezTo>
                <a:cubicBezTo>
                  <a:pt x="20719" y="7481"/>
                  <a:pt x="20714" y="7540"/>
                  <a:pt x="20705" y="7598"/>
                </a:cubicBezTo>
                <a:cubicBezTo>
                  <a:pt x="20697" y="7648"/>
                  <a:pt x="20692" y="7698"/>
                  <a:pt x="20686" y="7748"/>
                </a:cubicBezTo>
                <a:cubicBezTo>
                  <a:pt x="20683" y="7775"/>
                  <a:pt x="20679" y="7782"/>
                  <a:pt x="20653" y="7791"/>
                </a:cubicBezTo>
                <a:cubicBezTo>
                  <a:pt x="20581" y="7817"/>
                  <a:pt x="20428" y="7739"/>
                  <a:pt x="20388" y="7684"/>
                </a:cubicBezTo>
                <a:cubicBezTo>
                  <a:pt x="20361" y="7646"/>
                  <a:pt x="20376" y="7621"/>
                  <a:pt x="20401" y="7591"/>
                </a:cubicBezTo>
              </a:path>
              <a:path w="6070" h="1736">
                <a:moveTo>
                  <a:pt x="20737" y="7505"/>
                </a:moveTo>
                <a:cubicBezTo>
                  <a:pt x="20704" y="7484"/>
                  <a:pt x="20679" y="7491"/>
                  <a:pt x="20640" y="7493"/>
                </a:cubicBezTo>
                <a:cubicBezTo>
                  <a:pt x="20598" y="7496"/>
                  <a:pt x="20541" y="7489"/>
                  <a:pt x="20501" y="7504"/>
                </a:cubicBezTo>
                <a:cubicBezTo>
                  <a:pt x="20467" y="7517"/>
                  <a:pt x="20486" y="7528"/>
                  <a:pt x="20500" y="7541"/>
                </a:cubicBezTo>
              </a:path>
              <a:path w="6070" h="1736">
                <a:moveTo>
                  <a:pt x="20875" y="7497"/>
                </a:moveTo>
                <a:cubicBezTo>
                  <a:pt x="20882" y="7532"/>
                  <a:pt x="20877" y="7564"/>
                  <a:pt x="20880" y="7600"/>
                </a:cubicBezTo>
                <a:cubicBezTo>
                  <a:pt x="20884" y="7644"/>
                  <a:pt x="20893" y="7698"/>
                  <a:pt x="20926" y="7730"/>
                </a:cubicBezTo>
                <a:cubicBezTo>
                  <a:pt x="20970" y="7773"/>
                  <a:pt x="21027" y="7735"/>
                  <a:pt x="21065" y="7706"/>
                </a:cubicBezTo>
                <a:cubicBezTo>
                  <a:pt x="21094" y="7683"/>
                  <a:pt x="21118" y="7656"/>
                  <a:pt x="21142" y="7628"/>
                </a:cubicBezTo>
                <a:cubicBezTo>
                  <a:pt x="21139" y="7677"/>
                  <a:pt x="21107" y="7719"/>
                  <a:pt x="21082" y="7762"/>
                </a:cubicBezTo>
                <a:cubicBezTo>
                  <a:pt x="21035" y="7843"/>
                  <a:pt x="20986" y="7924"/>
                  <a:pt x="20938" y="8005"/>
                </a:cubicBezTo>
                <a:cubicBezTo>
                  <a:pt x="20911" y="8051"/>
                  <a:pt x="20887" y="8100"/>
                  <a:pt x="20862" y="8147"/>
                </a:cubicBezTo>
              </a:path>
              <a:path w="6070" h="1736">
                <a:moveTo>
                  <a:pt x="19165" y="7179"/>
                </a:moveTo>
                <a:cubicBezTo>
                  <a:pt x="19171" y="7179"/>
                  <a:pt x="19198" y="7195"/>
                  <a:pt x="19216" y="7196"/>
                </a:cubicBezTo>
                <a:cubicBezTo>
                  <a:pt x="19287" y="7199"/>
                  <a:pt x="19365" y="7183"/>
                  <a:pt x="19436" y="7177"/>
                </a:cubicBezTo>
                <a:cubicBezTo>
                  <a:pt x="19970" y="7130"/>
                  <a:pt x="20483" y="7137"/>
                  <a:pt x="21016" y="7181"/>
                </a:cubicBezTo>
                <a:cubicBezTo>
                  <a:pt x="21154" y="7192"/>
                  <a:pt x="21328" y="7169"/>
                  <a:pt x="21461" y="7211"/>
                </a:cubicBezTo>
                <a:cubicBezTo>
                  <a:pt x="21586" y="7250"/>
                  <a:pt x="21671" y="7360"/>
                  <a:pt x="21744" y="7462"/>
                </a:cubicBezTo>
                <a:cubicBezTo>
                  <a:pt x="21898" y="7676"/>
                  <a:pt x="21927" y="7897"/>
                  <a:pt x="21923" y="8152"/>
                </a:cubicBezTo>
                <a:cubicBezTo>
                  <a:pt x="21920" y="8340"/>
                  <a:pt x="21919" y="8507"/>
                  <a:pt x="21994" y="8681"/>
                </a:cubicBezTo>
                <a:cubicBezTo>
                  <a:pt x="22004" y="8705"/>
                  <a:pt x="22017" y="8724"/>
                  <a:pt x="22028" y="8747"/>
                </a:cubicBezTo>
                <a:cubicBezTo>
                  <a:pt x="21896" y="8749"/>
                  <a:pt x="21763" y="8749"/>
                  <a:pt x="21631" y="8748"/>
                </a:cubicBezTo>
                <a:cubicBezTo>
                  <a:pt x="21054" y="8745"/>
                  <a:pt x="20481" y="8781"/>
                  <a:pt x="19905" y="8799"/>
                </a:cubicBezTo>
                <a:cubicBezTo>
                  <a:pt x="19723" y="8805"/>
                  <a:pt x="19530" y="8779"/>
                  <a:pt x="19351" y="8813"/>
                </a:cubicBezTo>
                <a:cubicBezTo>
                  <a:pt x="19272" y="8828"/>
                  <a:pt x="19195" y="8849"/>
                  <a:pt x="19120" y="8858"/>
                </a:cubicBezTo>
                <a:cubicBezTo>
                  <a:pt x="19113" y="8802"/>
                  <a:pt x="19107" y="8747"/>
                  <a:pt x="19105" y="8689"/>
                </a:cubicBezTo>
                <a:cubicBezTo>
                  <a:pt x="19094" y="8280"/>
                  <a:pt x="19100" y="7839"/>
                  <a:pt x="18988" y="7442"/>
                </a:cubicBezTo>
                <a:cubicBezTo>
                  <a:pt x="18966" y="7363"/>
                  <a:pt x="18914" y="7305"/>
                  <a:pt x="18882" y="7269"/>
                </a:cubicBezTo>
                <a:cubicBezTo>
                  <a:pt x="18914" y="7328"/>
                  <a:pt x="18941" y="7369"/>
                  <a:pt x="18985" y="7424"/>
                </a:cubicBezTo>
              </a:path>
              <a:path w="6070" h="1736">
                <a:moveTo>
                  <a:pt x="19443" y="7953"/>
                </a:moveTo>
                <a:cubicBezTo>
                  <a:pt x="19405" y="7953"/>
                  <a:pt x="19382" y="7955"/>
                  <a:pt x="19345" y="7947"/>
                </a:cubicBezTo>
                <a:cubicBezTo>
                  <a:pt x="19325" y="7943"/>
                  <a:pt x="19307" y="7935"/>
                  <a:pt x="19287" y="7930"/>
                </a:cubicBezTo>
                <a:cubicBezTo>
                  <a:pt x="19282" y="7929"/>
                  <a:pt x="19276" y="7928"/>
                  <a:pt x="19271" y="7927"/>
                </a:cubicBezTo>
                <a:cubicBezTo>
                  <a:pt x="19302" y="7935"/>
                  <a:pt x="19333" y="7947"/>
                  <a:pt x="19369" y="7953"/>
                </a:cubicBezTo>
                <a:cubicBezTo>
                  <a:pt x="19448" y="7965"/>
                  <a:pt x="19530" y="7967"/>
                  <a:pt x="19610" y="7973"/>
                </a:cubicBezTo>
                <a:cubicBezTo>
                  <a:pt x="19881" y="7993"/>
                  <a:pt x="20151" y="8001"/>
                  <a:pt x="20422" y="7989"/>
                </a:cubicBezTo>
                <a:cubicBezTo>
                  <a:pt x="20613" y="7981"/>
                  <a:pt x="20803" y="7964"/>
                  <a:pt x="20993" y="7955"/>
                </a:cubicBezTo>
                <a:cubicBezTo>
                  <a:pt x="21251" y="7943"/>
                  <a:pt x="21588" y="8041"/>
                  <a:pt x="21831" y="8001"/>
                </a:cubicBezTo>
                <a:cubicBezTo>
                  <a:pt x="21867" y="7995"/>
                  <a:pt x="21859" y="7996"/>
                  <a:pt x="21879" y="7962"/>
                </a:cubicBezTo>
                <a:cubicBezTo>
                  <a:pt x="21878" y="7956"/>
                  <a:pt x="21878" y="7950"/>
                  <a:pt x="21877" y="7944"/>
                </a:cubicBezTo>
              </a:path>
              <a:path w="6070" h="1736">
                <a:moveTo>
                  <a:pt x="22172" y="7452"/>
                </a:moveTo>
                <a:cubicBezTo>
                  <a:pt x="22177" y="7489"/>
                  <a:pt x="22165" y="7496"/>
                  <a:pt x="22221" y="7507"/>
                </a:cubicBezTo>
                <a:cubicBezTo>
                  <a:pt x="22272" y="7517"/>
                  <a:pt x="22323" y="7514"/>
                  <a:pt x="22375" y="7513"/>
                </a:cubicBezTo>
                <a:cubicBezTo>
                  <a:pt x="22434" y="7511"/>
                  <a:pt x="22497" y="7500"/>
                  <a:pt x="22556" y="7509"/>
                </a:cubicBezTo>
                <a:cubicBezTo>
                  <a:pt x="22573" y="7512"/>
                  <a:pt x="22596" y="7519"/>
                  <a:pt x="22610" y="7531"/>
                </a:cubicBezTo>
                <a:cubicBezTo>
                  <a:pt x="22629" y="7547"/>
                  <a:pt x="22644" y="7576"/>
                  <a:pt x="22656" y="7597"/>
                </a:cubicBezTo>
                <a:cubicBezTo>
                  <a:pt x="22682" y="7643"/>
                  <a:pt x="22678" y="7706"/>
                  <a:pt x="22681" y="7757"/>
                </a:cubicBezTo>
                <a:cubicBezTo>
                  <a:pt x="22686" y="7854"/>
                  <a:pt x="22683" y="7950"/>
                  <a:pt x="22691" y="8047"/>
                </a:cubicBezTo>
                <a:cubicBezTo>
                  <a:pt x="22694" y="8082"/>
                  <a:pt x="22700" y="8113"/>
                  <a:pt x="22699" y="8147"/>
                </a:cubicBezTo>
                <a:cubicBezTo>
                  <a:pt x="22698" y="8174"/>
                  <a:pt x="22699" y="8199"/>
                  <a:pt x="22699" y="8226"/>
                </a:cubicBezTo>
                <a:cubicBezTo>
                  <a:pt x="22699" y="8258"/>
                  <a:pt x="22701" y="8269"/>
                  <a:pt x="22713" y="8298"/>
                </a:cubicBezTo>
                <a:cubicBezTo>
                  <a:pt x="22696" y="8310"/>
                  <a:pt x="22686" y="8316"/>
                  <a:pt x="22665" y="8324"/>
                </a:cubicBezTo>
                <a:cubicBezTo>
                  <a:pt x="22590" y="8351"/>
                  <a:pt x="22508" y="8333"/>
                  <a:pt x="22434" y="8314"/>
                </a:cubicBezTo>
                <a:cubicBezTo>
                  <a:pt x="22379" y="8300"/>
                  <a:pt x="22320" y="8289"/>
                  <a:pt x="22273" y="8267"/>
                </a:cubicBezTo>
                <a:cubicBezTo>
                  <a:pt x="22291" y="8248"/>
                  <a:pt x="22309" y="8230"/>
                  <a:pt x="22326" y="8210"/>
                </a:cubicBezTo>
              </a:path>
              <a:path w="6070" h="1736">
                <a:moveTo>
                  <a:pt x="22276" y="8194"/>
                </a:moveTo>
                <a:cubicBezTo>
                  <a:pt x="22256" y="8182"/>
                  <a:pt x="22248" y="8172"/>
                  <a:pt x="22235" y="8151"/>
                </a:cubicBezTo>
                <a:cubicBezTo>
                  <a:pt x="22223" y="8132"/>
                  <a:pt x="22216" y="8108"/>
                  <a:pt x="22215" y="8085"/>
                </a:cubicBezTo>
                <a:cubicBezTo>
                  <a:pt x="22214" y="8066"/>
                  <a:pt x="22217" y="8038"/>
                  <a:pt x="22235" y="8027"/>
                </a:cubicBezTo>
                <a:cubicBezTo>
                  <a:pt x="22259" y="8013"/>
                  <a:pt x="22285" y="8032"/>
                  <a:pt x="22300" y="8048"/>
                </a:cubicBezTo>
                <a:cubicBezTo>
                  <a:pt x="22320" y="8069"/>
                  <a:pt x="22335" y="8120"/>
                  <a:pt x="22336" y="8148"/>
                </a:cubicBezTo>
                <a:cubicBezTo>
                  <a:pt x="22337" y="8189"/>
                  <a:pt x="22319" y="8233"/>
                  <a:pt x="22304" y="8271"/>
                </a:cubicBezTo>
                <a:cubicBezTo>
                  <a:pt x="22291" y="8303"/>
                  <a:pt x="22274" y="8329"/>
                  <a:pt x="22258" y="8358"/>
                </a:cubicBezTo>
                <a:cubicBezTo>
                  <a:pt x="22254" y="8373"/>
                  <a:pt x="22252" y="8378"/>
                  <a:pt x="22251" y="8388"/>
                </a:cubicBezTo>
                <a:cubicBezTo>
                  <a:pt x="22271" y="8396"/>
                  <a:pt x="22296" y="8399"/>
                  <a:pt x="22318" y="8398"/>
                </a:cubicBezTo>
                <a:cubicBezTo>
                  <a:pt x="22352" y="8396"/>
                  <a:pt x="22377" y="8378"/>
                  <a:pt x="22402" y="8358"/>
                </a:cubicBezTo>
              </a:path>
              <a:path w="6070" h="1736">
                <a:moveTo>
                  <a:pt x="22126" y="7472"/>
                </a:moveTo>
                <a:cubicBezTo>
                  <a:pt x="22113" y="7485"/>
                  <a:pt x="22110" y="7486"/>
                  <a:pt x="22107" y="7497"/>
                </a:cubicBezTo>
                <a:cubicBezTo>
                  <a:pt x="22138" y="7484"/>
                  <a:pt x="22166" y="7465"/>
                  <a:pt x="22195" y="7449"/>
                </a:cubicBezTo>
                <a:cubicBezTo>
                  <a:pt x="22240" y="7424"/>
                  <a:pt x="22283" y="7398"/>
                  <a:pt x="22327" y="7371"/>
                </a:cubicBezTo>
                <a:cubicBezTo>
                  <a:pt x="22346" y="7360"/>
                  <a:pt x="22350" y="7357"/>
                  <a:pt x="22363" y="7353"/>
                </a:cubicBezTo>
                <a:cubicBezTo>
                  <a:pt x="22339" y="7383"/>
                  <a:pt x="22311" y="7408"/>
                  <a:pt x="22284" y="7436"/>
                </a:cubicBezTo>
                <a:cubicBezTo>
                  <a:pt x="22247" y="7474"/>
                  <a:pt x="22192" y="7512"/>
                  <a:pt x="22176" y="7565"/>
                </a:cubicBezTo>
                <a:cubicBezTo>
                  <a:pt x="22167" y="7593"/>
                  <a:pt x="22188" y="7600"/>
                  <a:pt x="22211" y="7604"/>
                </a:cubicBezTo>
                <a:cubicBezTo>
                  <a:pt x="22247" y="7610"/>
                  <a:pt x="22283" y="7615"/>
                  <a:pt x="22319" y="7620"/>
                </a:cubicBezTo>
                <a:cubicBezTo>
                  <a:pt x="22344" y="7625"/>
                  <a:pt x="22352" y="7626"/>
                  <a:pt x="22368" y="7630"/>
                </a:cubicBezTo>
              </a:path>
              <a:path w="6070" h="1736">
                <a:moveTo>
                  <a:pt x="22970" y="7845"/>
                </a:moveTo>
                <a:cubicBezTo>
                  <a:pt x="22946" y="7834"/>
                  <a:pt x="22938" y="7834"/>
                  <a:pt x="22915" y="7840"/>
                </a:cubicBezTo>
                <a:cubicBezTo>
                  <a:pt x="22876" y="7851"/>
                  <a:pt x="22853" y="7876"/>
                  <a:pt x="22837" y="7914"/>
                </a:cubicBezTo>
                <a:cubicBezTo>
                  <a:pt x="22825" y="7944"/>
                  <a:pt x="22814" y="7998"/>
                  <a:pt x="22841" y="8024"/>
                </a:cubicBezTo>
                <a:cubicBezTo>
                  <a:pt x="22875" y="8056"/>
                  <a:pt x="22928" y="8015"/>
                  <a:pt x="22953" y="7992"/>
                </a:cubicBezTo>
                <a:cubicBezTo>
                  <a:pt x="23008" y="7940"/>
                  <a:pt x="23043" y="7873"/>
                  <a:pt x="23066" y="7802"/>
                </a:cubicBezTo>
                <a:cubicBezTo>
                  <a:pt x="23086" y="7741"/>
                  <a:pt x="23101" y="7672"/>
                  <a:pt x="23099" y="7607"/>
                </a:cubicBezTo>
                <a:cubicBezTo>
                  <a:pt x="23096" y="7581"/>
                  <a:pt x="23095" y="7575"/>
                  <a:pt x="23091" y="7560"/>
                </a:cubicBezTo>
                <a:cubicBezTo>
                  <a:pt x="23065" y="7607"/>
                  <a:pt x="23071" y="7651"/>
                  <a:pt x="23070" y="7704"/>
                </a:cubicBezTo>
                <a:cubicBezTo>
                  <a:pt x="23069" y="7789"/>
                  <a:pt x="23072" y="7869"/>
                  <a:pt x="23086" y="7952"/>
                </a:cubicBezTo>
                <a:cubicBezTo>
                  <a:pt x="23094" y="7998"/>
                  <a:pt x="23099" y="8028"/>
                  <a:pt x="23146" y="8031"/>
                </a:cubicBezTo>
              </a:path>
              <a:path w="6070" h="1736">
                <a:moveTo>
                  <a:pt x="23274" y="7868"/>
                </a:moveTo>
                <a:cubicBezTo>
                  <a:pt x="23281" y="7908"/>
                  <a:pt x="23281" y="7953"/>
                  <a:pt x="23279" y="7994"/>
                </a:cubicBezTo>
                <a:cubicBezTo>
                  <a:pt x="23278" y="8024"/>
                  <a:pt x="23267" y="8059"/>
                  <a:pt x="23289" y="8077"/>
                </a:cubicBezTo>
                <a:cubicBezTo>
                  <a:pt x="23294" y="8031"/>
                  <a:pt x="23304" y="7984"/>
                  <a:pt x="23303" y="7937"/>
                </a:cubicBezTo>
                <a:cubicBezTo>
                  <a:pt x="23302" y="7867"/>
                  <a:pt x="23295" y="7796"/>
                  <a:pt x="23282" y="7727"/>
                </a:cubicBezTo>
                <a:cubicBezTo>
                  <a:pt x="23278" y="7707"/>
                  <a:pt x="23231" y="7594"/>
                  <a:pt x="23280" y="7667"/>
                </a:cubicBezTo>
                <a:cubicBezTo>
                  <a:pt x="23283" y="7674"/>
                  <a:pt x="23286" y="7680"/>
                  <a:pt x="23289" y="7687"/>
                </a:cubicBezTo>
              </a:path>
              <a:path w="6070" h="1736">
                <a:moveTo>
                  <a:pt x="23428" y="8017"/>
                </a:moveTo>
                <a:cubicBezTo>
                  <a:pt x="23412" y="7970"/>
                  <a:pt x="23412" y="7928"/>
                  <a:pt x="23409" y="7878"/>
                </a:cubicBezTo>
                <a:cubicBezTo>
                  <a:pt x="23405" y="7802"/>
                  <a:pt x="23402" y="7726"/>
                  <a:pt x="23409" y="7650"/>
                </a:cubicBezTo>
                <a:cubicBezTo>
                  <a:pt x="23413" y="7604"/>
                  <a:pt x="23416" y="7533"/>
                  <a:pt x="23451" y="7498"/>
                </a:cubicBezTo>
                <a:cubicBezTo>
                  <a:pt x="23476" y="7473"/>
                  <a:pt x="23522" y="7495"/>
                  <a:pt x="23543" y="7515"/>
                </a:cubicBezTo>
                <a:cubicBezTo>
                  <a:pt x="23576" y="7547"/>
                  <a:pt x="23604" y="7599"/>
                  <a:pt x="23605" y="7645"/>
                </a:cubicBezTo>
                <a:cubicBezTo>
                  <a:pt x="23604" y="7656"/>
                  <a:pt x="23602" y="7666"/>
                  <a:pt x="23601" y="7677"/>
                </a:cubicBezTo>
              </a:path>
              <a:path w="6070" h="1736">
                <a:moveTo>
                  <a:pt x="23324" y="7859"/>
                </a:moveTo>
                <a:cubicBezTo>
                  <a:pt x="23359" y="7834"/>
                  <a:pt x="23388" y="7824"/>
                  <a:pt x="23429" y="7811"/>
                </a:cubicBezTo>
                <a:cubicBezTo>
                  <a:pt x="23469" y="7798"/>
                  <a:pt x="23504" y="7789"/>
                  <a:pt x="23546" y="7801"/>
                </a:cubicBezTo>
                <a:cubicBezTo>
                  <a:pt x="23554" y="7804"/>
                  <a:pt x="23561" y="7808"/>
                  <a:pt x="23569" y="7811"/>
                </a:cubicBezTo>
              </a:path>
              <a:path w="6070" h="1736">
                <a:moveTo>
                  <a:pt x="23672" y="8043"/>
                </a:moveTo>
                <a:cubicBezTo>
                  <a:pt x="23638" y="8044"/>
                  <a:pt x="23631" y="8020"/>
                  <a:pt x="23622" y="7983"/>
                </a:cubicBezTo>
                <a:cubicBezTo>
                  <a:pt x="23607" y="7919"/>
                  <a:pt x="23612" y="7854"/>
                  <a:pt x="23616" y="7789"/>
                </a:cubicBezTo>
                <a:cubicBezTo>
                  <a:pt x="23620" y="7722"/>
                  <a:pt x="23623" y="7656"/>
                  <a:pt x="23637" y="7590"/>
                </a:cubicBezTo>
                <a:cubicBezTo>
                  <a:pt x="23641" y="7569"/>
                  <a:pt x="23648" y="7518"/>
                  <a:pt x="23672" y="7516"/>
                </a:cubicBezTo>
                <a:cubicBezTo>
                  <a:pt x="23699" y="7513"/>
                  <a:pt x="23727" y="7548"/>
                  <a:pt x="23739" y="7569"/>
                </a:cubicBezTo>
                <a:cubicBezTo>
                  <a:pt x="23752" y="7593"/>
                  <a:pt x="23756" y="7619"/>
                  <a:pt x="23762" y="7646"/>
                </a:cubicBezTo>
              </a:path>
              <a:path w="6070" h="1736">
                <a:moveTo>
                  <a:pt x="23542" y="7843"/>
                </a:moveTo>
                <a:cubicBezTo>
                  <a:pt x="23567" y="7813"/>
                  <a:pt x="23601" y="7775"/>
                  <a:pt x="23635" y="7755"/>
                </a:cubicBezTo>
                <a:cubicBezTo>
                  <a:pt x="23674" y="7732"/>
                  <a:pt x="23730" y="7708"/>
                  <a:pt x="23775" y="7701"/>
                </a:cubicBezTo>
                <a:cubicBezTo>
                  <a:pt x="23800" y="7697"/>
                  <a:pt x="23807" y="7703"/>
                  <a:pt x="23823" y="7718"/>
                </a:cubicBezTo>
              </a:path>
              <a:path w="6070" h="1736">
                <a:moveTo>
                  <a:pt x="23823" y="8003"/>
                </a:moveTo>
                <a:cubicBezTo>
                  <a:pt x="23878" y="8012"/>
                  <a:pt x="23920" y="7926"/>
                  <a:pt x="23950" y="7883"/>
                </a:cubicBezTo>
                <a:cubicBezTo>
                  <a:pt x="23981" y="7833"/>
                  <a:pt x="23991" y="7820"/>
                  <a:pt x="23993" y="7782"/>
                </a:cubicBezTo>
                <a:cubicBezTo>
                  <a:pt x="23963" y="7797"/>
                  <a:pt x="23947" y="7809"/>
                  <a:pt x="23923" y="7838"/>
                </a:cubicBezTo>
                <a:cubicBezTo>
                  <a:pt x="23890" y="7878"/>
                  <a:pt x="23856" y="7932"/>
                  <a:pt x="23849" y="7985"/>
                </a:cubicBezTo>
                <a:cubicBezTo>
                  <a:pt x="23836" y="8084"/>
                  <a:pt x="23921" y="8097"/>
                  <a:pt x="23996" y="8077"/>
                </a:cubicBezTo>
                <a:cubicBezTo>
                  <a:pt x="24106" y="8047"/>
                  <a:pt x="23995" y="7941"/>
                  <a:pt x="24059" y="7862"/>
                </a:cubicBezTo>
                <a:cubicBezTo>
                  <a:pt x="24110" y="7799"/>
                  <a:pt x="24140" y="7941"/>
                  <a:pt x="24224" y="7899"/>
                </a:cubicBezTo>
                <a:cubicBezTo>
                  <a:pt x="24167" y="7963"/>
                  <a:pt x="24152" y="7974"/>
                  <a:pt x="24144" y="8054"/>
                </a:cubicBezTo>
                <a:cubicBezTo>
                  <a:pt x="24213" y="8054"/>
                  <a:pt x="24332" y="7940"/>
                  <a:pt x="24367" y="7946"/>
                </a:cubicBezTo>
                <a:cubicBezTo>
                  <a:pt x="24384" y="7991"/>
                  <a:pt x="24390" y="8005"/>
                  <a:pt x="24385" y="8037"/>
                </a:cubicBezTo>
                <a:cubicBezTo>
                  <a:pt x="24463" y="7919"/>
                  <a:pt x="24452" y="8014"/>
                  <a:pt x="24563" y="8004"/>
                </a:cubicBezTo>
                <a:cubicBezTo>
                  <a:pt x="24579" y="7997"/>
                  <a:pt x="24596" y="7990"/>
                  <a:pt x="24612" y="7983"/>
                </a:cubicBezTo>
              </a:path>
              <a:path w="6070" h="1736">
                <a:moveTo>
                  <a:pt x="24675" y="7551"/>
                </a:moveTo>
                <a:cubicBezTo>
                  <a:pt x="24639" y="7666"/>
                  <a:pt x="24640" y="7728"/>
                  <a:pt x="24660" y="7848"/>
                </a:cubicBezTo>
                <a:cubicBezTo>
                  <a:pt x="24669" y="7904"/>
                  <a:pt x="24675" y="7957"/>
                  <a:pt x="24680" y="8013"/>
                </a:cubicBezTo>
              </a:path>
              <a:path w="6070" h="1736">
                <a:moveTo>
                  <a:pt x="24537" y="7864"/>
                </a:moveTo>
                <a:cubicBezTo>
                  <a:pt x="24624" y="7826"/>
                  <a:pt x="24699" y="7795"/>
                  <a:pt x="24795" y="7788"/>
                </a:cubicBezTo>
                <a:cubicBezTo>
                  <a:pt x="24847" y="7784"/>
                  <a:pt x="24899" y="7788"/>
                  <a:pt x="24951" y="779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023240" y="2949480"/>
            <a:ext cx="279360" cy="174600"/>
          </a:xfrm>
          <a:custGeom>
            <a:avLst/>
            <a:gdLst/>
            <a:ahLst/>
            <a:rect l="l" t="t" r="r" b="b"/>
            <a:pathLst>
              <a:path w="775" h="485">
                <a:moveTo>
                  <a:pt x="19547" y="8195"/>
                </a:moveTo>
                <a:cubicBezTo>
                  <a:pt x="19533" y="8201"/>
                  <a:pt x="19522" y="8204"/>
                  <a:pt x="19508" y="8208"/>
                </a:cubicBezTo>
                <a:cubicBezTo>
                  <a:pt x="19528" y="8229"/>
                  <a:pt x="19533" y="8230"/>
                  <a:pt x="19566" y="8234"/>
                </a:cubicBezTo>
                <a:cubicBezTo>
                  <a:pt x="19617" y="8240"/>
                  <a:pt x="19668" y="8240"/>
                  <a:pt x="19719" y="8240"/>
                </a:cubicBezTo>
                <a:cubicBezTo>
                  <a:pt x="19757" y="8240"/>
                  <a:pt x="19810" y="8233"/>
                  <a:pt x="19840" y="8263"/>
                </a:cubicBezTo>
                <a:cubicBezTo>
                  <a:pt x="19867" y="8289"/>
                  <a:pt x="19858" y="8339"/>
                  <a:pt x="19854" y="8371"/>
                </a:cubicBezTo>
                <a:cubicBezTo>
                  <a:pt x="19849" y="8419"/>
                  <a:pt x="19840" y="8467"/>
                  <a:pt x="19837" y="8515"/>
                </a:cubicBezTo>
                <a:cubicBezTo>
                  <a:pt x="19835" y="8550"/>
                  <a:pt x="19838" y="8584"/>
                  <a:pt x="19840" y="8618"/>
                </a:cubicBezTo>
                <a:cubicBezTo>
                  <a:pt x="19842" y="8640"/>
                  <a:pt x="19848" y="8662"/>
                  <a:pt x="19826" y="8675"/>
                </a:cubicBezTo>
                <a:cubicBezTo>
                  <a:pt x="19801" y="8690"/>
                  <a:pt x="19744" y="8677"/>
                  <a:pt x="19718" y="8674"/>
                </a:cubicBezTo>
                <a:cubicBezTo>
                  <a:pt x="19662" y="8666"/>
                  <a:pt x="19594" y="8654"/>
                  <a:pt x="19545" y="8625"/>
                </a:cubicBezTo>
                <a:cubicBezTo>
                  <a:pt x="19531" y="8614"/>
                  <a:pt x="19527" y="8609"/>
                  <a:pt x="19523" y="8597"/>
                </a:cubicBezTo>
                <a:cubicBezTo>
                  <a:pt x="19548" y="8568"/>
                  <a:pt x="19576" y="8560"/>
                  <a:pt x="19612" y="8547"/>
                </a:cubicBezTo>
              </a:path>
              <a:path w="775" h="485">
                <a:moveTo>
                  <a:pt x="19888" y="8467"/>
                </a:moveTo>
                <a:cubicBezTo>
                  <a:pt x="19853" y="8447"/>
                  <a:pt x="19822" y="8438"/>
                  <a:pt x="19782" y="8429"/>
                </a:cubicBezTo>
                <a:cubicBezTo>
                  <a:pt x="19740" y="8420"/>
                  <a:pt x="19692" y="8408"/>
                  <a:pt x="19648" y="8410"/>
                </a:cubicBezTo>
                <a:cubicBezTo>
                  <a:pt x="19641" y="8410"/>
                  <a:pt x="19579" y="8423"/>
                  <a:pt x="19635" y="8412"/>
                </a:cubicBezTo>
              </a:path>
              <a:path w="775" h="485">
                <a:moveTo>
                  <a:pt x="20072" y="8397"/>
                </a:moveTo>
                <a:cubicBezTo>
                  <a:pt x="20077" y="8382"/>
                  <a:pt x="20082" y="8420"/>
                  <a:pt x="20092" y="8437"/>
                </a:cubicBezTo>
                <a:cubicBezTo>
                  <a:pt x="20114" y="8476"/>
                  <a:pt x="20139" y="8510"/>
                  <a:pt x="20173" y="8540"/>
                </a:cubicBezTo>
                <a:cubicBezTo>
                  <a:pt x="20195" y="8558"/>
                  <a:pt x="20202" y="8563"/>
                  <a:pt x="20219" y="8572"/>
                </a:cubicBezTo>
              </a:path>
              <a:path w="775" h="485">
                <a:moveTo>
                  <a:pt x="20282" y="8440"/>
                </a:moveTo>
                <a:cubicBezTo>
                  <a:pt x="20251" y="8428"/>
                  <a:pt x="20243" y="8440"/>
                  <a:pt x="20215" y="8457"/>
                </a:cubicBezTo>
                <a:cubicBezTo>
                  <a:pt x="20178" y="8479"/>
                  <a:pt x="20156" y="8504"/>
                  <a:pt x="20129" y="8538"/>
                </a:cubicBezTo>
                <a:cubicBezTo>
                  <a:pt x="20118" y="8553"/>
                  <a:pt x="20115" y="8556"/>
                  <a:pt x="20112" y="856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404120" y="2948040"/>
            <a:ext cx="312840" cy="253800"/>
          </a:xfrm>
          <a:custGeom>
            <a:avLst/>
            <a:gdLst/>
            <a:ahLst/>
            <a:rect l="l" t="t" r="r" b="b"/>
            <a:pathLst>
              <a:path w="871" h="705">
                <a:moveTo>
                  <a:pt x="20588" y="8213"/>
                </a:moveTo>
                <a:cubicBezTo>
                  <a:pt x="20566" y="8177"/>
                  <a:pt x="20564" y="8202"/>
                  <a:pt x="20566" y="8234"/>
                </a:cubicBezTo>
                <a:cubicBezTo>
                  <a:pt x="20569" y="8289"/>
                  <a:pt x="20588" y="8348"/>
                  <a:pt x="20610" y="8398"/>
                </a:cubicBezTo>
                <a:cubicBezTo>
                  <a:pt x="20637" y="8462"/>
                  <a:pt x="20684" y="8540"/>
                  <a:pt x="20752" y="8568"/>
                </a:cubicBezTo>
                <a:cubicBezTo>
                  <a:pt x="20790" y="8583"/>
                  <a:pt x="20817" y="8565"/>
                  <a:pt x="20835" y="8532"/>
                </a:cubicBezTo>
                <a:cubicBezTo>
                  <a:pt x="20863" y="8482"/>
                  <a:pt x="20872" y="8416"/>
                  <a:pt x="20881" y="8360"/>
                </a:cubicBezTo>
                <a:cubicBezTo>
                  <a:pt x="20886" y="8329"/>
                  <a:pt x="20887" y="8300"/>
                  <a:pt x="20878" y="8271"/>
                </a:cubicBezTo>
              </a:path>
              <a:path w="871" h="705">
                <a:moveTo>
                  <a:pt x="20670" y="8402"/>
                </a:moveTo>
                <a:cubicBezTo>
                  <a:pt x="20708" y="8391"/>
                  <a:pt x="20745" y="8378"/>
                  <a:pt x="20784" y="8368"/>
                </a:cubicBezTo>
                <a:cubicBezTo>
                  <a:pt x="20831" y="8356"/>
                  <a:pt x="20874" y="8352"/>
                  <a:pt x="20922" y="8356"/>
                </a:cubicBezTo>
                <a:cubicBezTo>
                  <a:pt x="20931" y="8357"/>
                  <a:pt x="20940" y="8358"/>
                  <a:pt x="20949" y="8359"/>
                </a:cubicBezTo>
              </a:path>
              <a:path w="871" h="705">
                <a:moveTo>
                  <a:pt x="21104" y="8375"/>
                </a:moveTo>
                <a:cubicBezTo>
                  <a:pt x="21104" y="8402"/>
                  <a:pt x="21107" y="8410"/>
                  <a:pt x="21119" y="8434"/>
                </a:cubicBezTo>
                <a:cubicBezTo>
                  <a:pt x="21140" y="8476"/>
                  <a:pt x="21170" y="8509"/>
                  <a:pt x="21216" y="8521"/>
                </a:cubicBezTo>
                <a:cubicBezTo>
                  <a:pt x="21264" y="8534"/>
                  <a:pt x="21315" y="8522"/>
                  <a:pt x="21360" y="8502"/>
                </a:cubicBezTo>
                <a:cubicBezTo>
                  <a:pt x="21386" y="8491"/>
                  <a:pt x="21412" y="8474"/>
                  <a:pt x="21436" y="8462"/>
                </a:cubicBezTo>
                <a:cubicBezTo>
                  <a:pt x="21414" y="8512"/>
                  <a:pt x="21383" y="8556"/>
                  <a:pt x="21356" y="8604"/>
                </a:cubicBezTo>
                <a:cubicBezTo>
                  <a:pt x="21320" y="8667"/>
                  <a:pt x="21287" y="8738"/>
                  <a:pt x="21263" y="8806"/>
                </a:cubicBezTo>
                <a:cubicBezTo>
                  <a:pt x="21251" y="8841"/>
                  <a:pt x="21250" y="8859"/>
                  <a:pt x="21257" y="889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929200" y="4040280"/>
            <a:ext cx="592200" cy="309600"/>
          </a:xfrm>
          <a:custGeom>
            <a:avLst/>
            <a:gdLst/>
            <a:ahLst/>
            <a:rect l="l" t="t" r="r" b="b"/>
            <a:pathLst>
              <a:path w="1644" h="858">
                <a:moveTo>
                  <a:pt x="16667" y="11456"/>
                </a:moveTo>
                <a:cubicBezTo>
                  <a:pt x="16673" y="11429"/>
                  <a:pt x="16678" y="11425"/>
                  <a:pt x="16666" y="11392"/>
                </a:cubicBezTo>
                <a:cubicBezTo>
                  <a:pt x="16656" y="11363"/>
                  <a:pt x="16647" y="11334"/>
                  <a:pt x="16637" y="11305"/>
                </a:cubicBezTo>
                <a:cubicBezTo>
                  <a:pt x="16626" y="11274"/>
                  <a:pt x="16613" y="11249"/>
                  <a:pt x="16594" y="11223"/>
                </a:cubicBezTo>
                <a:cubicBezTo>
                  <a:pt x="16573" y="11249"/>
                  <a:pt x="16565" y="11261"/>
                  <a:pt x="16560" y="11302"/>
                </a:cubicBezTo>
                <a:cubicBezTo>
                  <a:pt x="16538" y="11475"/>
                  <a:pt x="16525" y="11648"/>
                  <a:pt x="16499" y="11821"/>
                </a:cubicBezTo>
                <a:cubicBezTo>
                  <a:pt x="16489" y="11886"/>
                  <a:pt x="16473" y="11953"/>
                  <a:pt x="16470" y="12019"/>
                </a:cubicBezTo>
                <a:cubicBezTo>
                  <a:pt x="16469" y="12038"/>
                  <a:pt x="16468" y="12071"/>
                  <a:pt x="16490" y="12079"/>
                </a:cubicBezTo>
                <a:cubicBezTo>
                  <a:pt x="16511" y="12086"/>
                  <a:pt x="16543" y="12077"/>
                  <a:pt x="16564" y="12073"/>
                </a:cubicBezTo>
                <a:cubicBezTo>
                  <a:pt x="16609" y="12065"/>
                  <a:pt x="16657" y="12058"/>
                  <a:pt x="16700" y="12048"/>
                </a:cubicBezTo>
                <a:cubicBezTo>
                  <a:pt x="16730" y="12041"/>
                  <a:pt x="16732" y="12025"/>
                  <a:pt x="16744" y="12002"/>
                </a:cubicBezTo>
              </a:path>
              <a:path w="1644" h="858">
                <a:moveTo>
                  <a:pt x="17022" y="11449"/>
                </a:moveTo>
                <a:cubicBezTo>
                  <a:pt x="17054" y="11433"/>
                  <a:pt x="17018" y="11488"/>
                  <a:pt x="17015" y="11511"/>
                </a:cubicBezTo>
                <a:cubicBezTo>
                  <a:pt x="17004" y="11584"/>
                  <a:pt x="17003" y="11660"/>
                  <a:pt x="17004" y="11734"/>
                </a:cubicBezTo>
                <a:cubicBezTo>
                  <a:pt x="17004" y="11797"/>
                  <a:pt x="17009" y="11860"/>
                  <a:pt x="17022" y="11922"/>
                </a:cubicBezTo>
                <a:cubicBezTo>
                  <a:pt x="17023" y="11927"/>
                  <a:pt x="17025" y="11933"/>
                  <a:pt x="17026" y="11938"/>
                </a:cubicBezTo>
              </a:path>
              <a:path w="1644" h="858">
                <a:moveTo>
                  <a:pt x="16835" y="11518"/>
                </a:moveTo>
                <a:cubicBezTo>
                  <a:pt x="16823" y="11490"/>
                  <a:pt x="16818" y="11479"/>
                  <a:pt x="16845" y="11460"/>
                </a:cubicBezTo>
                <a:cubicBezTo>
                  <a:pt x="16889" y="11429"/>
                  <a:pt x="16941" y="11426"/>
                  <a:pt x="16992" y="11413"/>
                </a:cubicBezTo>
                <a:cubicBezTo>
                  <a:pt x="17038" y="11401"/>
                  <a:pt x="17083" y="11391"/>
                  <a:pt x="17129" y="11381"/>
                </a:cubicBezTo>
              </a:path>
              <a:path w="1644" h="858">
                <a:moveTo>
                  <a:pt x="17213" y="11397"/>
                </a:moveTo>
                <a:cubicBezTo>
                  <a:pt x="17209" y="11470"/>
                  <a:pt x="17206" y="11546"/>
                  <a:pt x="17212" y="11619"/>
                </a:cubicBezTo>
                <a:cubicBezTo>
                  <a:pt x="17218" y="11681"/>
                  <a:pt x="17224" y="11747"/>
                  <a:pt x="17237" y="11808"/>
                </a:cubicBezTo>
                <a:cubicBezTo>
                  <a:pt x="17239" y="11815"/>
                  <a:pt x="17241" y="11823"/>
                  <a:pt x="17243" y="11830"/>
                </a:cubicBezTo>
                <a:cubicBezTo>
                  <a:pt x="17275" y="11819"/>
                  <a:pt x="17281" y="11774"/>
                  <a:pt x="17296" y="11738"/>
                </a:cubicBezTo>
                <a:cubicBezTo>
                  <a:pt x="17315" y="11693"/>
                  <a:pt x="17336" y="11635"/>
                  <a:pt x="17376" y="11603"/>
                </a:cubicBezTo>
                <a:cubicBezTo>
                  <a:pt x="17416" y="11571"/>
                  <a:pt x="17438" y="11629"/>
                  <a:pt x="17450" y="11656"/>
                </a:cubicBezTo>
                <a:cubicBezTo>
                  <a:pt x="17471" y="11705"/>
                  <a:pt x="17482" y="11757"/>
                  <a:pt x="17504" y="11805"/>
                </a:cubicBezTo>
                <a:cubicBezTo>
                  <a:pt x="17518" y="11835"/>
                  <a:pt x="17521" y="11827"/>
                  <a:pt x="17540" y="11841"/>
                </a:cubicBezTo>
              </a:path>
              <a:path w="1644" h="858">
                <a:moveTo>
                  <a:pt x="17627" y="11681"/>
                </a:moveTo>
                <a:cubicBezTo>
                  <a:pt x="17646" y="11724"/>
                  <a:pt x="17644" y="11764"/>
                  <a:pt x="17653" y="11810"/>
                </a:cubicBezTo>
                <a:cubicBezTo>
                  <a:pt x="17659" y="11843"/>
                  <a:pt x="17673" y="11910"/>
                  <a:pt x="17701" y="11934"/>
                </a:cubicBezTo>
                <a:cubicBezTo>
                  <a:pt x="17706" y="11936"/>
                  <a:pt x="17711" y="11937"/>
                  <a:pt x="17716" y="11939"/>
                </a:cubicBezTo>
              </a:path>
              <a:path w="1644" h="858">
                <a:moveTo>
                  <a:pt x="17722" y="11552"/>
                </a:moveTo>
                <a:cubicBezTo>
                  <a:pt x="17717" y="11520"/>
                  <a:pt x="17719" y="11514"/>
                  <a:pt x="17752" y="11504"/>
                </a:cubicBezTo>
                <a:cubicBezTo>
                  <a:pt x="17782" y="11498"/>
                  <a:pt x="17793" y="11495"/>
                  <a:pt x="17814" y="11492"/>
                </a:cubicBezTo>
              </a:path>
              <a:path w="1644" h="858">
                <a:moveTo>
                  <a:pt x="18039" y="11552"/>
                </a:moveTo>
                <a:cubicBezTo>
                  <a:pt x="18017" y="11589"/>
                  <a:pt x="17995" y="11596"/>
                  <a:pt x="17962" y="11620"/>
                </a:cubicBezTo>
                <a:cubicBezTo>
                  <a:pt x="17944" y="11633"/>
                  <a:pt x="17927" y="11647"/>
                  <a:pt x="17910" y="11661"/>
                </a:cubicBezTo>
                <a:cubicBezTo>
                  <a:pt x="17909" y="11689"/>
                  <a:pt x="17929" y="11690"/>
                  <a:pt x="17952" y="11702"/>
                </a:cubicBezTo>
                <a:cubicBezTo>
                  <a:pt x="17994" y="11725"/>
                  <a:pt x="18039" y="11746"/>
                  <a:pt x="18074" y="11778"/>
                </a:cubicBezTo>
                <a:cubicBezTo>
                  <a:pt x="18098" y="11801"/>
                  <a:pt x="18126" y="11842"/>
                  <a:pt x="18107" y="11876"/>
                </a:cubicBezTo>
                <a:cubicBezTo>
                  <a:pt x="18089" y="11908"/>
                  <a:pt x="18039" y="11912"/>
                  <a:pt x="18008" y="11904"/>
                </a:cubicBezTo>
                <a:cubicBezTo>
                  <a:pt x="17971" y="11894"/>
                  <a:pt x="17946" y="11866"/>
                  <a:pt x="17922" y="1183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707160" y="4059360"/>
            <a:ext cx="873000" cy="339480"/>
          </a:xfrm>
          <a:custGeom>
            <a:avLst/>
            <a:gdLst/>
            <a:ahLst/>
            <a:rect l="l" t="t" r="r" b="b"/>
            <a:pathLst>
              <a:path w="2424" h="947">
                <a:moveTo>
                  <a:pt x="18821" y="11567"/>
                </a:moveTo>
                <a:cubicBezTo>
                  <a:pt x="18814" y="11551"/>
                  <a:pt x="18804" y="11518"/>
                  <a:pt x="18778" y="11526"/>
                </a:cubicBezTo>
                <a:cubicBezTo>
                  <a:pt x="18742" y="11537"/>
                  <a:pt x="18710" y="11599"/>
                  <a:pt x="18693" y="11628"/>
                </a:cubicBezTo>
                <a:cubicBezTo>
                  <a:pt x="18658" y="11690"/>
                  <a:pt x="18628" y="11763"/>
                  <a:pt x="18631" y="11836"/>
                </a:cubicBezTo>
                <a:cubicBezTo>
                  <a:pt x="18633" y="11901"/>
                  <a:pt x="18672" y="11940"/>
                  <a:pt x="18737" y="11942"/>
                </a:cubicBezTo>
                <a:cubicBezTo>
                  <a:pt x="18812" y="11945"/>
                  <a:pt x="18867" y="11888"/>
                  <a:pt x="18917" y="11843"/>
                </a:cubicBezTo>
              </a:path>
              <a:path w="2424" h="947">
                <a:moveTo>
                  <a:pt x="18965" y="11322"/>
                </a:moveTo>
                <a:cubicBezTo>
                  <a:pt x="18955" y="11302"/>
                  <a:pt x="18944" y="11290"/>
                  <a:pt x="18932" y="11274"/>
                </a:cubicBezTo>
                <a:cubicBezTo>
                  <a:pt x="18909" y="11321"/>
                  <a:pt x="18908" y="11374"/>
                  <a:pt x="18908" y="11427"/>
                </a:cubicBezTo>
                <a:cubicBezTo>
                  <a:pt x="18908" y="11535"/>
                  <a:pt x="18914" y="11645"/>
                  <a:pt x="18924" y="11752"/>
                </a:cubicBezTo>
                <a:cubicBezTo>
                  <a:pt x="18929" y="11811"/>
                  <a:pt x="18939" y="11857"/>
                  <a:pt x="18960" y="11907"/>
                </a:cubicBezTo>
                <a:cubicBezTo>
                  <a:pt x="18991" y="11868"/>
                  <a:pt x="19002" y="11819"/>
                  <a:pt x="19018" y="11772"/>
                </a:cubicBezTo>
                <a:cubicBezTo>
                  <a:pt x="19040" y="11707"/>
                  <a:pt x="19060" y="11638"/>
                  <a:pt x="19094" y="11578"/>
                </a:cubicBezTo>
                <a:cubicBezTo>
                  <a:pt x="19107" y="11560"/>
                  <a:pt x="19108" y="11553"/>
                  <a:pt x="19124" y="11556"/>
                </a:cubicBezTo>
                <a:cubicBezTo>
                  <a:pt x="19153" y="11606"/>
                  <a:pt x="19165" y="11665"/>
                  <a:pt x="19176" y="11723"/>
                </a:cubicBezTo>
                <a:cubicBezTo>
                  <a:pt x="19189" y="11793"/>
                  <a:pt x="19193" y="11859"/>
                  <a:pt x="19248" y="11907"/>
                </a:cubicBezTo>
              </a:path>
              <a:path w="2424" h="947">
                <a:moveTo>
                  <a:pt x="19479" y="11546"/>
                </a:moveTo>
                <a:cubicBezTo>
                  <a:pt x="19465" y="11531"/>
                  <a:pt x="19446" y="11510"/>
                  <a:pt x="19422" y="11513"/>
                </a:cubicBezTo>
                <a:cubicBezTo>
                  <a:pt x="19385" y="11518"/>
                  <a:pt x="19358" y="11574"/>
                  <a:pt x="19346" y="11602"/>
                </a:cubicBezTo>
                <a:cubicBezTo>
                  <a:pt x="19322" y="11660"/>
                  <a:pt x="19304" y="11728"/>
                  <a:pt x="19306" y="11791"/>
                </a:cubicBezTo>
                <a:cubicBezTo>
                  <a:pt x="19307" y="11828"/>
                  <a:pt x="19325" y="11876"/>
                  <a:pt x="19371" y="11863"/>
                </a:cubicBezTo>
                <a:cubicBezTo>
                  <a:pt x="19414" y="11850"/>
                  <a:pt x="19447" y="11804"/>
                  <a:pt x="19471" y="11769"/>
                </a:cubicBezTo>
                <a:cubicBezTo>
                  <a:pt x="19486" y="11747"/>
                  <a:pt x="19498" y="11724"/>
                  <a:pt x="19514" y="11703"/>
                </a:cubicBezTo>
                <a:cubicBezTo>
                  <a:pt x="19539" y="11721"/>
                  <a:pt x="19540" y="11759"/>
                  <a:pt x="19545" y="11792"/>
                </a:cubicBezTo>
                <a:cubicBezTo>
                  <a:pt x="19550" y="11831"/>
                  <a:pt x="19554" y="11861"/>
                  <a:pt x="19572" y="11895"/>
                </a:cubicBezTo>
              </a:path>
              <a:path w="2424" h="947">
                <a:moveTo>
                  <a:pt x="19663" y="11656"/>
                </a:moveTo>
                <a:cubicBezTo>
                  <a:pt x="19677" y="11635"/>
                  <a:pt x="19674" y="11678"/>
                  <a:pt x="19676" y="11703"/>
                </a:cubicBezTo>
                <a:cubicBezTo>
                  <a:pt x="19681" y="11753"/>
                  <a:pt x="19683" y="11804"/>
                  <a:pt x="19686" y="11854"/>
                </a:cubicBezTo>
                <a:cubicBezTo>
                  <a:pt x="19687" y="11877"/>
                  <a:pt x="19687" y="11882"/>
                  <a:pt x="19688" y="11896"/>
                </a:cubicBezTo>
                <a:cubicBezTo>
                  <a:pt x="19699" y="11845"/>
                  <a:pt x="19705" y="11793"/>
                  <a:pt x="19719" y="11743"/>
                </a:cubicBezTo>
                <a:cubicBezTo>
                  <a:pt x="19729" y="11705"/>
                  <a:pt x="19746" y="11626"/>
                  <a:pt x="19789" y="11608"/>
                </a:cubicBezTo>
                <a:cubicBezTo>
                  <a:pt x="19835" y="11589"/>
                  <a:pt x="19860" y="11690"/>
                  <a:pt x="19868" y="11713"/>
                </a:cubicBezTo>
                <a:cubicBezTo>
                  <a:pt x="19896" y="11793"/>
                  <a:pt x="19914" y="11875"/>
                  <a:pt x="19938" y="11955"/>
                </a:cubicBezTo>
                <a:cubicBezTo>
                  <a:pt x="19943" y="11969"/>
                  <a:pt x="19947" y="11983"/>
                  <a:pt x="19952" y="11997"/>
                </a:cubicBezTo>
              </a:path>
              <a:path w="2424" h="947">
                <a:moveTo>
                  <a:pt x="20124" y="11717"/>
                </a:moveTo>
                <a:cubicBezTo>
                  <a:pt x="20127" y="11691"/>
                  <a:pt x="20139" y="11657"/>
                  <a:pt x="20135" y="11632"/>
                </a:cubicBezTo>
                <a:cubicBezTo>
                  <a:pt x="20132" y="11626"/>
                  <a:pt x="20129" y="11619"/>
                  <a:pt x="20126" y="11613"/>
                </a:cubicBezTo>
                <a:cubicBezTo>
                  <a:pt x="20091" y="11611"/>
                  <a:pt x="20088" y="11618"/>
                  <a:pt x="20066" y="11661"/>
                </a:cubicBezTo>
                <a:cubicBezTo>
                  <a:pt x="20039" y="11715"/>
                  <a:pt x="20018" y="11778"/>
                  <a:pt x="20017" y="11839"/>
                </a:cubicBezTo>
                <a:cubicBezTo>
                  <a:pt x="20016" y="11872"/>
                  <a:pt x="20021" y="11936"/>
                  <a:pt x="20066" y="11938"/>
                </a:cubicBezTo>
                <a:cubicBezTo>
                  <a:pt x="20116" y="11941"/>
                  <a:pt x="20159" y="11886"/>
                  <a:pt x="20197" y="11862"/>
                </a:cubicBezTo>
                <a:cubicBezTo>
                  <a:pt x="20231" y="11879"/>
                  <a:pt x="20235" y="11904"/>
                  <a:pt x="20234" y="11943"/>
                </a:cubicBezTo>
                <a:cubicBezTo>
                  <a:pt x="20233" y="12010"/>
                  <a:pt x="20217" y="12080"/>
                  <a:pt x="20179" y="12135"/>
                </a:cubicBezTo>
                <a:cubicBezTo>
                  <a:pt x="20146" y="12183"/>
                  <a:pt x="20093" y="12221"/>
                  <a:pt x="20034" y="12220"/>
                </a:cubicBezTo>
                <a:cubicBezTo>
                  <a:pt x="19974" y="12219"/>
                  <a:pt x="19948" y="12160"/>
                  <a:pt x="19946" y="12109"/>
                </a:cubicBezTo>
                <a:cubicBezTo>
                  <a:pt x="19950" y="12058"/>
                  <a:pt x="19952" y="12039"/>
                  <a:pt x="19965" y="12006"/>
                </a:cubicBezTo>
              </a:path>
              <a:path w="2424" h="947">
                <a:moveTo>
                  <a:pt x="20369" y="11782"/>
                </a:moveTo>
                <a:cubicBezTo>
                  <a:pt x="20400" y="11774"/>
                  <a:pt x="20407" y="11760"/>
                  <a:pt x="20431" y="11743"/>
                </a:cubicBezTo>
                <a:cubicBezTo>
                  <a:pt x="20473" y="11713"/>
                  <a:pt x="20508" y="11679"/>
                  <a:pt x="20538" y="11635"/>
                </a:cubicBezTo>
                <a:cubicBezTo>
                  <a:pt x="20557" y="11607"/>
                  <a:pt x="20584" y="11556"/>
                  <a:pt x="20561" y="11522"/>
                </a:cubicBezTo>
                <a:cubicBezTo>
                  <a:pt x="20537" y="11487"/>
                  <a:pt x="20478" y="11520"/>
                  <a:pt x="20455" y="11535"/>
                </a:cubicBezTo>
                <a:cubicBezTo>
                  <a:pt x="20407" y="11568"/>
                  <a:pt x="20369" y="11621"/>
                  <a:pt x="20356" y="11678"/>
                </a:cubicBezTo>
                <a:cubicBezTo>
                  <a:pt x="20343" y="11732"/>
                  <a:pt x="20358" y="11781"/>
                  <a:pt x="20401" y="11815"/>
                </a:cubicBezTo>
                <a:cubicBezTo>
                  <a:pt x="20444" y="11849"/>
                  <a:pt x="20501" y="11861"/>
                  <a:pt x="20555" y="11865"/>
                </a:cubicBezTo>
                <a:cubicBezTo>
                  <a:pt x="20592" y="11866"/>
                  <a:pt x="20604" y="11866"/>
                  <a:pt x="20629" y="11862"/>
                </a:cubicBezTo>
              </a:path>
              <a:path w="2424" h="947">
                <a:moveTo>
                  <a:pt x="20965" y="11580"/>
                </a:moveTo>
                <a:cubicBezTo>
                  <a:pt x="20949" y="11588"/>
                  <a:pt x="20936" y="11598"/>
                  <a:pt x="20918" y="11607"/>
                </a:cubicBezTo>
                <a:cubicBezTo>
                  <a:pt x="20886" y="11624"/>
                  <a:pt x="20859" y="11645"/>
                  <a:pt x="20832" y="11669"/>
                </a:cubicBezTo>
                <a:cubicBezTo>
                  <a:pt x="20812" y="11688"/>
                  <a:pt x="20810" y="11694"/>
                  <a:pt x="20828" y="11713"/>
                </a:cubicBezTo>
                <a:cubicBezTo>
                  <a:pt x="20855" y="11741"/>
                  <a:pt x="20899" y="11760"/>
                  <a:pt x="20931" y="11782"/>
                </a:cubicBezTo>
                <a:cubicBezTo>
                  <a:pt x="20978" y="11814"/>
                  <a:pt x="21018" y="11848"/>
                  <a:pt x="21043" y="11901"/>
                </a:cubicBezTo>
                <a:cubicBezTo>
                  <a:pt x="21062" y="11942"/>
                  <a:pt x="21053" y="11985"/>
                  <a:pt x="21016" y="12012"/>
                </a:cubicBezTo>
                <a:cubicBezTo>
                  <a:pt x="20980" y="12038"/>
                  <a:pt x="20925" y="12042"/>
                  <a:pt x="20884" y="12028"/>
                </a:cubicBezTo>
                <a:cubicBezTo>
                  <a:pt x="20853" y="12017"/>
                  <a:pt x="20818" y="11992"/>
                  <a:pt x="20815" y="11956"/>
                </a:cubicBezTo>
                <a:cubicBezTo>
                  <a:pt x="20818" y="11937"/>
                  <a:pt x="20820" y="11929"/>
                  <a:pt x="20830" y="1191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888320" y="4032360"/>
            <a:ext cx="208080" cy="261720"/>
          </a:xfrm>
          <a:custGeom>
            <a:avLst/>
            <a:gdLst/>
            <a:ahLst/>
            <a:rect l="l" t="t" r="r" b="b"/>
            <a:pathLst>
              <a:path w="580" h="730">
                <a:moveTo>
                  <a:pt x="21948" y="11637"/>
                </a:moveTo>
                <a:cubicBezTo>
                  <a:pt x="21951" y="11621"/>
                  <a:pt x="21951" y="11617"/>
                  <a:pt x="21954" y="11607"/>
                </a:cubicBezTo>
                <a:cubicBezTo>
                  <a:pt x="21941" y="11643"/>
                  <a:pt x="21938" y="11677"/>
                  <a:pt x="21937" y="11716"/>
                </a:cubicBezTo>
                <a:cubicBezTo>
                  <a:pt x="21935" y="11769"/>
                  <a:pt x="21927" y="11831"/>
                  <a:pt x="21941" y="11882"/>
                </a:cubicBezTo>
                <a:cubicBezTo>
                  <a:pt x="21949" y="11902"/>
                  <a:pt x="21949" y="11907"/>
                  <a:pt x="21961" y="11914"/>
                </a:cubicBezTo>
              </a:path>
              <a:path w="580" h="730">
                <a:moveTo>
                  <a:pt x="21940" y="11471"/>
                </a:moveTo>
                <a:cubicBezTo>
                  <a:pt x="21926" y="11441"/>
                  <a:pt x="21914" y="11417"/>
                  <a:pt x="21913" y="11385"/>
                </a:cubicBezTo>
                <a:cubicBezTo>
                  <a:pt x="21951" y="11377"/>
                  <a:pt x="21970" y="11383"/>
                  <a:pt x="22007" y="11395"/>
                </a:cubicBezTo>
              </a:path>
              <a:path w="580" h="730">
                <a:moveTo>
                  <a:pt x="22275" y="11863"/>
                </a:moveTo>
                <a:cubicBezTo>
                  <a:pt x="22268" y="11899"/>
                  <a:pt x="22266" y="11906"/>
                  <a:pt x="22241" y="11928"/>
                </a:cubicBezTo>
                <a:cubicBezTo>
                  <a:pt x="22209" y="11897"/>
                  <a:pt x="22205" y="11865"/>
                  <a:pt x="22201" y="11819"/>
                </a:cubicBezTo>
                <a:cubicBezTo>
                  <a:pt x="22191" y="11689"/>
                  <a:pt x="22210" y="11553"/>
                  <a:pt x="22230" y="11425"/>
                </a:cubicBezTo>
                <a:cubicBezTo>
                  <a:pt x="22240" y="11360"/>
                  <a:pt x="22252" y="11289"/>
                  <a:pt x="22287" y="11232"/>
                </a:cubicBezTo>
                <a:cubicBezTo>
                  <a:pt x="22301" y="11210"/>
                  <a:pt x="22327" y="11185"/>
                  <a:pt x="22354" y="11206"/>
                </a:cubicBezTo>
                <a:cubicBezTo>
                  <a:pt x="22388" y="11232"/>
                  <a:pt x="22362" y="11269"/>
                  <a:pt x="22348" y="11297"/>
                </a:cubicBezTo>
              </a:path>
              <a:path w="580" h="730">
                <a:moveTo>
                  <a:pt x="21989" y="11601"/>
                </a:moveTo>
                <a:cubicBezTo>
                  <a:pt x="22037" y="11599"/>
                  <a:pt x="22076" y="11581"/>
                  <a:pt x="22122" y="11571"/>
                </a:cubicBezTo>
                <a:cubicBezTo>
                  <a:pt x="22206" y="11553"/>
                  <a:pt x="22290" y="11542"/>
                  <a:pt x="22374" y="11530"/>
                </a:cubicBezTo>
                <a:cubicBezTo>
                  <a:pt x="22400" y="11526"/>
                  <a:pt x="22470" y="11507"/>
                  <a:pt x="22490" y="11538"/>
                </a:cubicBezTo>
                <a:cubicBezTo>
                  <a:pt x="22490" y="11542"/>
                  <a:pt x="22490" y="11545"/>
                  <a:pt x="22490" y="1154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250120" y="4035600"/>
            <a:ext cx="233640" cy="285480"/>
          </a:xfrm>
          <a:custGeom>
            <a:avLst/>
            <a:gdLst/>
            <a:ahLst/>
            <a:rect l="l" t="t" r="r" b="b"/>
            <a:pathLst>
              <a:path w="650" h="797">
                <a:moveTo>
                  <a:pt x="22960" y="11640"/>
                </a:moveTo>
                <a:cubicBezTo>
                  <a:pt x="22961" y="11627"/>
                  <a:pt x="22961" y="11615"/>
                  <a:pt x="22964" y="11602"/>
                </a:cubicBezTo>
                <a:cubicBezTo>
                  <a:pt x="22967" y="11629"/>
                  <a:pt x="22965" y="11659"/>
                  <a:pt x="22964" y="11688"/>
                </a:cubicBezTo>
                <a:cubicBezTo>
                  <a:pt x="22962" y="11737"/>
                  <a:pt x="22962" y="11786"/>
                  <a:pt x="22963" y="11835"/>
                </a:cubicBezTo>
                <a:cubicBezTo>
                  <a:pt x="22963" y="11854"/>
                  <a:pt x="22963" y="11858"/>
                  <a:pt x="22962" y="11869"/>
                </a:cubicBezTo>
              </a:path>
              <a:path w="650" h="797">
                <a:moveTo>
                  <a:pt x="22935" y="11443"/>
                </a:moveTo>
                <a:cubicBezTo>
                  <a:pt x="22926" y="11397"/>
                  <a:pt x="22910" y="11344"/>
                  <a:pt x="22918" y="11296"/>
                </a:cubicBezTo>
                <a:cubicBezTo>
                  <a:pt x="22925" y="11254"/>
                  <a:pt x="22957" y="11233"/>
                  <a:pt x="22987" y="11208"/>
                </a:cubicBezTo>
              </a:path>
              <a:path w="650" h="797">
                <a:moveTo>
                  <a:pt x="23156" y="11305"/>
                </a:moveTo>
                <a:cubicBezTo>
                  <a:pt x="23155" y="11387"/>
                  <a:pt x="23148" y="11472"/>
                  <a:pt x="23153" y="11554"/>
                </a:cubicBezTo>
                <a:cubicBezTo>
                  <a:pt x="23159" y="11656"/>
                  <a:pt x="23175" y="11755"/>
                  <a:pt x="23198" y="11854"/>
                </a:cubicBezTo>
                <a:cubicBezTo>
                  <a:pt x="23206" y="11888"/>
                  <a:pt x="23210" y="11919"/>
                  <a:pt x="23224" y="11949"/>
                </a:cubicBezTo>
              </a:path>
              <a:path w="650" h="797">
                <a:moveTo>
                  <a:pt x="23130" y="11584"/>
                </a:moveTo>
                <a:cubicBezTo>
                  <a:pt x="23146" y="11549"/>
                  <a:pt x="23168" y="11534"/>
                  <a:pt x="23208" y="11523"/>
                </a:cubicBezTo>
                <a:cubicBezTo>
                  <a:pt x="23267" y="11507"/>
                  <a:pt x="23331" y="11506"/>
                  <a:pt x="23391" y="11504"/>
                </a:cubicBezTo>
                <a:cubicBezTo>
                  <a:pt x="23427" y="11503"/>
                  <a:pt x="23489" y="11501"/>
                  <a:pt x="23492" y="11550"/>
                </a:cubicBezTo>
                <a:cubicBezTo>
                  <a:pt x="23494" y="11583"/>
                  <a:pt x="23469" y="11630"/>
                  <a:pt x="23451" y="11656"/>
                </a:cubicBezTo>
                <a:cubicBezTo>
                  <a:pt x="23431" y="11684"/>
                  <a:pt x="23417" y="11706"/>
                  <a:pt x="23405" y="11738"/>
                </a:cubicBezTo>
                <a:cubicBezTo>
                  <a:pt x="23394" y="11769"/>
                  <a:pt x="23421" y="11774"/>
                  <a:pt x="23443" y="11791"/>
                </a:cubicBezTo>
                <a:cubicBezTo>
                  <a:pt x="23475" y="11815"/>
                  <a:pt x="23506" y="11840"/>
                  <a:pt x="23534" y="11869"/>
                </a:cubicBezTo>
                <a:cubicBezTo>
                  <a:pt x="23560" y="11896"/>
                  <a:pt x="23574" y="11919"/>
                  <a:pt x="23562" y="11957"/>
                </a:cubicBezTo>
                <a:cubicBezTo>
                  <a:pt x="23549" y="11996"/>
                  <a:pt x="23495" y="12008"/>
                  <a:pt x="23459" y="12004"/>
                </a:cubicBezTo>
                <a:cubicBezTo>
                  <a:pt x="23420" y="12000"/>
                  <a:pt x="23383" y="11979"/>
                  <a:pt x="23347" y="11964"/>
                </a:cubicBezTo>
                <a:cubicBezTo>
                  <a:pt x="23338" y="11961"/>
                  <a:pt x="23330" y="11957"/>
                  <a:pt x="23321" y="1195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8648640" y="4038480"/>
            <a:ext cx="333360" cy="284400"/>
          </a:xfrm>
          <a:custGeom>
            <a:avLst/>
            <a:gdLst/>
            <a:ahLst/>
            <a:rect l="l" t="t" r="r" b="b"/>
            <a:pathLst>
              <a:path w="924" h="789">
                <a:moveTo>
                  <a:pt x="24025" y="11699"/>
                </a:moveTo>
                <a:cubicBezTo>
                  <a:pt x="24035" y="11734"/>
                  <a:pt x="24093" y="11967"/>
                  <a:pt x="24165" y="11883"/>
                </a:cubicBezTo>
                <a:cubicBezTo>
                  <a:pt x="24204" y="11838"/>
                  <a:pt x="24242" y="11699"/>
                  <a:pt x="24269" y="11641"/>
                </a:cubicBezTo>
              </a:path>
              <a:path w="924" h="789">
                <a:moveTo>
                  <a:pt x="24348" y="11372"/>
                </a:moveTo>
                <a:cubicBezTo>
                  <a:pt x="24232" y="11369"/>
                  <a:pt x="24414" y="11323"/>
                  <a:pt x="24454" y="11307"/>
                </a:cubicBezTo>
                <a:cubicBezTo>
                  <a:pt x="24526" y="11279"/>
                  <a:pt x="24601" y="11247"/>
                  <a:pt x="24676" y="11229"/>
                </a:cubicBezTo>
                <a:cubicBezTo>
                  <a:pt x="24790" y="11201"/>
                  <a:pt x="24790" y="11259"/>
                  <a:pt x="24808" y="11357"/>
                </a:cubicBezTo>
                <a:cubicBezTo>
                  <a:pt x="24822" y="11431"/>
                  <a:pt x="24820" y="11504"/>
                  <a:pt x="24835" y="11578"/>
                </a:cubicBezTo>
                <a:cubicBezTo>
                  <a:pt x="24849" y="11648"/>
                  <a:pt x="24878" y="11710"/>
                  <a:pt x="24905" y="11774"/>
                </a:cubicBezTo>
                <a:cubicBezTo>
                  <a:pt x="24936" y="11848"/>
                  <a:pt x="24930" y="11917"/>
                  <a:pt x="24948" y="11996"/>
                </a:cubicBezTo>
                <a:cubicBezTo>
                  <a:pt x="24861" y="12007"/>
                  <a:pt x="24775" y="12015"/>
                  <a:pt x="24688" y="11998"/>
                </a:cubicBezTo>
                <a:cubicBezTo>
                  <a:pt x="24630" y="11981"/>
                  <a:pt x="24615" y="11976"/>
                  <a:pt x="24579" y="1196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33520" y="2946240"/>
            <a:ext cx="1143000" cy="420840"/>
          </a:xfrm>
          <a:custGeom>
            <a:avLst/>
            <a:gdLst/>
            <a:ahLst/>
            <a:rect l="l" t="t" r="r" b="b"/>
            <a:pathLst>
              <a:path w="3174" h="1167">
                <a:moveTo>
                  <a:pt x="1556" y="9349"/>
                </a:moveTo>
                <a:cubicBezTo>
                  <a:pt x="1534" y="9348"/>
                  <a:pt x="1515" y="9345"/>
                  <a:pt x="1493" y="9343"/>
                </a:cubicBezTo>
                <a:cubicBezTo>
                  <a:pt x="1519" y="9337"/>
                  <a:pt x="1524" y="9334"/>
                  <a:pt x="1551" y="9329"/>
                </a:cubicBezTo>
                <a:cubicBezTo>
                  <a:pt x="1798" y="9284"/>
                  <a:pt x="2046" y="9269"/>
                  <a:pt x="2297" y="9261"/>
                </a:cubicBezTo>
                <a:cubicBezTo>
                  <a:pt x="2715" y="9247"/>
                  <a:pt x="3126" y="9254"/>
                  <a:pt x="3543" y="9275"/>
                </a:cubicBezTo>
                <a:cubicBezTo>
                  <a:pt x="3570" y="9276"/>
                  <a:pt x="3952" y="9303"/>
                  <a:pt x="3956" y="9271"/>
                </a:cubicBezTo>
                <a:cubicBezTo>
                  <a:pt x="3958" y="9252"/>
                  <a:pt x="3941" y="9263"/>
                  <a:pt x="3915" y="9257"/>
                </a:cubicBezTo>
              </a:path>
              <a:path w="3174" h="1167">
                <a:moveTo>
                  <a:pt x="4605" y="8317"/>
                </a:moveTo>
                <a:cubicBezTo>
                  <a:pt x="4588" y="8306"/>
                  <a:pt x="4571" y="8294"/>
                  <a:pt x="4555" y="8279"/>
                </a:cubicBezTo>
                <a:cubicBezTo>
                  <a:pt x="4540" y="8265"/>
                  <a:pt x="4529" y="8248"/>
                  <a:pt x="4515" y="8232"/>
                </a:cubicBezTo>
                <a:cubicBezTo>
                  <a:pt x="4504" y="8220"/>
                  <a:pt x="4493" y="8203"/>
                  <a:pt x="4479" y="8195"/>
                </a:cubicBezTo>
                <a:cubicBezTo>
                  <a:pt x="4449" y="8179"/>
                  <a:pt x="4449" y="8186"/>
                  <a:pt x="4430" y="8213"/>
                </a:cubicBezTo>
                <a:cubicBezTo>
                  <a:pt x="4410" y="8242"/>
                  <a:pt x="4400" y="8291"/>
                  <a:pt x="4389" y="8324"/>
                </a:cubicBezTo>
                <a:cubicBezTo>
                  <a:pt x="4348" y="8449"/>
                  <a:pt x="4309" y="8568"/>
                  <a:pt x="4301" y="8700"/>
                </a:cubicBezTo>
                <a:cubicBezTo>
                  <a:pt x="4297" y="8763"/>
                  <a:pt x="4306" y="8824"/>
                  <a:pt x="4311" y="8886"/>
                </a:cubicBezTo>
                <a:cubicBezTo>
                  <a:pt x="4316" y="8939"/>
                  <a:pt x="4321" y="8995"/>
                  <a:pt x="4315" y="9048"/>
                </a:cubicBezTo>
                <a:cubicBezTo>
                  <a:pt x="4313" y="9067"/>
                  <a:pt x="4304" y="9085"/>
                  <a:pt x="4304" y="9104"/>
                </a:cubicBezTo>
                <a:cubicBezTo>
                  <a:pt x="4304" y="9133"/>
                  <a:pt x="4313" y="9146"/>
                  <a:pt x="4339" y="9159"/>
                </a:cubicBezTo>
                <a:cubicBezTo>
                  <a:pt x="4372" y="9176"/>
                  <a:pt x="4429" y="9170"/>
                  <a:pt x="4465" y="9171"/>
                </a:cubicBezTo>
                <a:cubicBezTo>
                  <a:pt x="4499" y="9172"/>
                  <a:pt x="4532" y="9176"/>
                  <a:pt x="4566" y="9179"/>
                </a:cubicBezTo>
                <a:cubicBezTo>
                  <a:pt x="4593" y="9181"/>
                  <a:pt x="4617" y="9188"/>
                  <a:pt x="4635" y="9163"/>
                </a:cubicBezTo>
                <a:cubicBezTo>
                  <a:pt x="4646" y="9148"/>
                  <a:pt x="4649" y="9132"/>
                  <a:pt x="4655" y="911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927600" y="2979720"/>
            <a:ext cx="884160" cy="379440"/>
          </a:xfrm>
          <a:custGeom>
            <a:avLst/>
            <a:gdLst/>
            <a:ahLst/>
            <a:rect l="l" t="t" r="r" b="b"/>
            <a:pathLst>
              <a:path w="2457" h="1052">
                <a:moveTo>
                  <a:pt x="10967" y="8357"/>
                </a:moveTo>
                <a:cubicBezTo>
                  <a:pt x="10961" y="8345"/>
                  <a:pt x="10959" y="8341"/>
                  <a:pt x="10954" y="8333"/>
                </a:cubicBezTo>
                <a:cubicBezTo>
                  <a:pt x="10973" y="8328"/>
                  <a:pt x="10991" y="8324"/>
                  <a:pt x="11010" y="8320"/>
                </a:cubicBezTo>
                <a:cubicBezTo>
                  <a:pt x="11066" y="8307"/>
                  <a:pt x="11122" y="8293"/>
                  <a:pt x="11178" y="8282"/>
                </a:cubicBezTo>
                <a:cubicBezTo>
                  <a:pt x="11188" y="8281"/>
                  <a:pt x="11191" y="8281"/>
                  <a:pt x="11198" y="8279"/>
                </a:cubicBezTo>
                <a:cubicBezTo>
                  <a:pt x="11196" y="8301"/>
                  <a:pt x="11193" y="8322"/>
                  <a:pt x="11190" y="8344"/>
                </a:cubicBezTo>
                <a:cubicBezTo>
                  <a:pt x="11181" y="8406"/>
                  <a:pt x="11167" y="8470"/>
                  <a:pt x="11152" y="8531"/>
                </a:cubicBezTo>
                <a:cubicBezTo>
                  <a:pt x="11138" y="8589"/>
                  <a:pt x="11127" y="8645"/>
                  <a:pt x="11119" y="8704"/>
                </a:cubicBezTo>
                <a:cubicBezTo>
                  <a:pt x="11111" y="8765"/>
                  <a:pt x="11110" y="8826"/>
                  <a:pt x="11121" y="8887"/>
                </a:cubicBezTo>
                <a:cubicBezTo>
                  <a:pt x="11128" y="8923"/>
                  <a:pt x="11133" y="8960"/>
                  <a:pt x="11139" y="8996"/>
                </a:cubicBezTo>
                <a:cubicBezTo>
                  <a:pt x="11144" y="9023"/>
                  <a:pt x="11150" y="9052"/>
                  <a:pt x="11152" y="9080"/>
                </a:cubicBezTo>
                <a:cubicBezTo>
                  <a:pt x="11153" y="9092"/>
                  <a:pt x="11151" y="9106"/>
                  <a:pt x="11154" y="9118"/>
                </a:cubicBezTo>
                <a:cubicBezTo>
                  <a:pt x="11160" y="9140"/>
                  <a:pt x="11170" y="9160"/>
                  <a:pt x="11173" y="9183"/>
                </a:cubicBezTo>
                <a:cubicBezTo>
                  <a:pt x="11174" y="9192"/>
                  <a:pt x="11174" y="9195"/>
                  <a:pt x="11174" y="9201"/>
                </a:cubicBezTo>
                <a:cubicBezTo>
                  <a:pt x="11134" y="9194"/>
                  <a:pt x="11095" y="9187"/>
                  <a:pt x="11055" y="9180"/>
                </a:cubicBezTo>
                <a:cubicBezTo>
                  <a:pt x="11025" y="9174"/>
                  <a:pt x="10994" y="9167"/>
                  <a:pt x="10964" y="9160"/>
                </a:cubicBezTo>
                <a:cubicBezTo>
                  <a:pt x="10962" y="9159"/>
                  <a:pt x="10911" y="9148"/>
                  <a:pt x="10911" y="9149"/>
                </a:cubicBezTo>
                <a:cubicBezTo>
                  <a:pt x="10921" y="9162"/>
                  <a:pt x="10924" y="9167"/>
                  <a:pt x="10931" y="9176"/>
                </a:cubicBezTo>
              </a:path>
              <a:path w="2457" h="1052">
                <a:moveTo>
                  <a:pt x="11526" y="9319"/>
                </a:moveTo>
                <a:cubicBezTo>
                  <a:pt x="11568" y="9307"/>
                  <a:pt x="11606" y="9293"/>
                  <a:pt x="11650" y="9286"/>
                </a:cubicBezTo>
                <a:cubicBezTo>
                  <a:pt x="11749" y="9271"/>
                  <a:pt x="11851" y="9266"/>
                  <a:pt x="11951" y="9262"/>
                </a:cubicBezTo>
                <a:cubicBezTo>
                  <a:pt x="12347" y="9246"/>
                  <a:pt x="12748" y="9251"/>
                  <a:pt x="13141" y="9305"/>
                </a:cubicBezTo>
                <a:cubicBezTo>
                  <a:pt x="13198" y="9313"/>
                  <a:pt x="13256" y="9326"/>
                  <a:pt x="13313" y="9330"/>
                </a:cubicBezTo>
                <a:cubicBezTo>
                  <a:pt x="13347" y="9332"/>
                  <a:pt x="13343" y="9323"/>
                  <a:pt x="13367" y="9306"/>
                </a:cubicBezTo>
                <a:cubicBezTo>
                  <a:pt x="13344" y="9282"/>
                  <a:pt x="13357" y="9285"/>
                  <a:pt x="13314" y="9273"/>
                </a:cubicBezTo>
                <a:cubicBezTo>
                  <a:pt x="13305" y="9271"/>
                  <a:pt x="13296" y="9270"/>
                  <a:pt x="13287" y="926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826920" y="4456080"/>
            <a:ext cx="362160" cy="328680"/>
          </a:xfrm>
          <a:custGeom>
            <a:avLst/>
            <a:gdLst/>
            <a:ahLst/>
            <a:rect l="l" t="t" r="r" b="b"/>
            <a:pathLst>
              <a:path w="1006" h="915">
                <a:moveTo>
                  <a:pt x="2597" y="12434"/>
                </a:moveTo>
                <a:cubicBezTo>
                  <a:pt x="2597" y="12412"/>
                  <a:pt x="2615" y="12398"/>
                  <a:pt x="2584" y="12384"/>
                </a:cubicBezTo>
                <a:cubicBezTo>
                  <a:pt x="2555" y="12371"/>
                  <a:pt x="2524" y="12383"/>
                  <a:pt x="2498" y="12397"/>
                </a:cubicBezTo>
                <a:cubicBezTo>
                  <a:pt x="2441" y="12429"/>
                  <a:pt x="2395" y="12478"/>
                  <a:pt x="2356" y="12530"/>
                </a:cubicBezTo>
                <a:cubicBezTo>
                  <a:pt x="2325" y="12571"/>
                  <a:pt x="2289" y="12627"/>
                  <a:pt x="2299" y="12681"/>
                </a:cubicBezTo>
                <a:cubicBezTo>
                  <a:pt x="2307" y="12725"/>
                  <a:pt x="2376" y="12723"/>
                  <a:pt x="2409" y="12727"/>
                </a:cubicBezTo>
                <a:cubicBezTo>
                  <a:pt x="2459" y="12733"/>
                  <a:pt x="2508" y="12736"/>
                  <a:pt x="2547" y="12772"/>
                </a:cubicBezTo>
                <a:cubicBezTo>
                  <a:pt x="2587" y="12809"/>
                  <a:pt x="2583" y="12867"/>
                  <a:pt x="2574" y="12917"/>
                </a:cubicBezTo>
                <a:cubicBezTo>
                  <a:pt x="2570" y="12941"/>
                  <a:pt x="2552" y="13031"/>
                  <a:pt x="2523" y="13042"/>
                </a:cubicBezTo>
                <a:cubicBezTo>
                  <a:pt x="2510" y="13043"/>
                  <a:pt x="2506" y="13044"/>
                  <a:pt x="2499" y="13037"/>
                </a:cubicBezTo>
                <a:cubicBezTo>
                  <a:pt x="2501" y="13006"/>
                  <a:pt x="2508" y="12981"/>
                  <a:pt x="2517" y="12951"/>
                </a:cubicBezTo>
              </a:path>
              <a:path w="1006" h="915">
                <a:moveTo>
                  <a:pt x="2681" y="12798"/>
                </a:moveTo>
                <a:cubicBezTo>
                  <a:pt x="2679" y="12867"/>
                  <a:pt x="2682" y="12935"/>
                  <a:pt x="2691" y="13003"/>
                </a:cubicBezTo>
                <a:cubicBezTo>
                  <a:pt x="2702" y="13081"/>
                  <a:pt x="2715" y="13160"/>
                  <a:pt x="2737" y="13236"/>
                </a:cubicBezTo>
                <a:cubicBezTo>
                  <a:pt x="2748" y="13267"/>
                  <a:pt x="2750" y="13274"/>
                  <a:pt x="2759" y="13292"/>
                </a:cubicBezTo>
                <a:cubicBezTo>
                  <a:pt x="2757" y="13232"/>
                  <a:pt x="2748" y="13171"/>
                  <a:pt x="2748" y="13111"/>
                </a:cubicBezTo>
                <a:cubicBezTo>
                  <a:pt x="2748" y="13024"/>
                  <a:pt x="2753" y="12933"/>
                  <a:pt x="2778" y="12849"/>
                </a:cubicBezTo>
                <a:cubicBezTo>
                  <a:pt x="2792" y="12800"/>
                  <a:pt x="2820" y="12729"/>
                  <a:pt x="2875" y="12712"/>
                </a:cubicBezTo>
                <a:cubicBezTo>
                  <a:pt x="2882" y="12712"/>
                  <a:pt x="2889" y="12713"/>
                  <a:pt x="2896" y="12713"/>
                </a:cubicBezTo>
                <a:cubicBezTo>
                  <a:pt x="2931" y="12746"/>
                  <a:pt x="2938" y="12780"/>
                  <a:pt x="2925" y="12831"/>
                </a:cubicBezTo>
                <a:cubicBezTo>
                  <a:pt x="2908" y="12894"/>
                  <a:pt x="2867" y="12962"/>
                  <a:pt x="2820" y="13007"/>
                </a:cubicBezTo>
                <a:cubicBezTo>
                  <a:pt x="2791" y="13035"/>
                  <a:pt x="2768" y="13043"/>
                  <a:pt x="2732" y="13051"/>
                </a:cubicBezTo>
                <a:cubicBezTo>
                  <a:pt x="2702" y="13013"/>
                  <a:pt x="2708" y="12988"/>
                  <a:pt x="2736" y="12945"/>
                </a:cubicBezTo>
                <a:cubicBezTo>
                  <a:pt x="2746" y="12932"/>
                  <a:pt x="2755" y="12920"/>
                  <a:pt x="2765" y="12907"/>
                </a:cubicBezTo>
              </a:path>
              <a:path w="1006" h="915">
                <a:moveTo>
                  <a:pt x="3190" y="12727"/>
                </a:moveTo>
                <a:cubicBezTo>
                  <a:pt x="3163" y="12737"/>
                  <a:pt x="3147" y="12752"/>
                  <a:pt x="3131" y="12777"/>
                </a:cubicBezTo>
                <a:cubicBezTo>
                  <a:pt x="3117" y="12799"/>
                  <a:pt x="3098" y="12840"/>
                  <a:pt x="3121" y="12863"/>
                </a:cubicBezTo>
                <a:cubicBezTo>
                  <a:pt x="3147" y="12889"/>
                  <a:pt x="3193" y="12887"/>
                  <a:pt x="3226" y="12891"/>
                </a:cubicBezTo>
                <a:cubicBezTo>
                  <a:pt x="3253" y="12895"/>
                  <a:pt x="3296" y="12896"/>
                  <a:pt x="3302" y="12931"/>
                </a:cubicBezTo>
                <a:cubicBezTo>
                  <a:pt x="3307" y="12963"/>
                  <a:pt x="3269" y="12996"/>
                  <a:pt x="3246" y="13012"/>
                </a:cubicBezTo>
                <a:cubicBezTo>
                  <a:pt x="3218" y="13031"/>
                  <a:pt x="3188" y="13052"/>
                  <a:pt x="3153" y="13036"/>
                </a:cubicBezTo>
                <a:cubicBezTo>
                  <a:pt x="3135" y="13022"/>
                  <a:pt x="3128" y="13016"/>
                  <a:pt x="3124" y="1300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504800" y="4452840"/>
            <a:ext cx="309600" cy="266760"/>
          </a:xfrm>
          <a:custGeom>
            <a:avLst/>
            <a:gdLst/>
            <a:ahLst/>
            <a:rect l="l" t="t" r="r" b="b"/>
            <a:pathLst>
              <a:path w="860" h="739">
                <a:moveTo>
                  <a:pt x="4189" y="12428"/>
                </a:moveTo>
                <a:cubicBezTo>
                  <a:pt x="4172" y="12387"/>
                  <a:pt x="4177" y="12427"/>
                  <a:pt x="4182" y="12451"/>
                </a:cubicBezTo>
                <a:cubicBezTo>
                  <a:pt x="4199" y="12536"/>
                  <a:pt x="4230" y="12621"/>
                  <a:pt x="4259" y="12702"/>
                </a:cubicBezTo>
                <a:cubicBezTo>
                  <a:pt x="4295" y="12802"/>
                  <a:pt x="4326" y="12934"/>
                  <a:pt x="4402" y="13011"/>
                </a:cubicBezTo>
                <a:cubicBezTo>
                  <a:pt x="4421" y="12966"/>
                  <a:pt x="4429" y="12924"/>
                  <a:pt x="4436" y="12870"/>
                </a:cubicBezTo>
                <a:cubicBezTo>
                  <a:pt x="4449" y="12762"/>
                  <a:pt x="4468" y="12656"/>
                  <a:pt x="4487" y="12549"/>
                </a:cubicBezTo>
                <a:cubicBezTo>
                  <a:pt x="4498" y="12486"/>
                  <a:pt x="4507" y="12429"/>
                  <a:pt x="4534" y="12371"/>
                </a:cubicBezTo>
              </a:path>
              <a:path w="860" h="739">
                <a:moveTo>
                  <a:pt x="4237" y="12773"/>
                </a:moveTo>
                <a:cubicBezTo>
                  <a:pt x="4256" y="12743"/>
                  <a:pt x="4282" y="12729"/>
                  <a:pt x="4313" y="12711"/>
                </a:cubicBezTo>
                <a:cubicBezTo>
                  <a:pt x="4364" y="12682"/>
                  <a:pt x="4424" y="12663"/>
                  <a:pt x="4481" y="12651"/>
                </a:cubicBezTo>
                <a:cubicBezTo>
                  <a:pt x="4522" y="12643"/>
                  <a:pt x="4566" y="12645"/>
                  <a:pt x="4608" y="12644"/>
                </a:cubicBezTo>
              </a:path>
              <a:path w="860" h="739">
                <a:moveTo>
                  <a:pt x="4776" y="12684"/>
                </a:moveTo>
                <a:cubicBezTo>
                  <a:pt x="4748" y="12667"/>
                  <a:pt x="4782" y="12742"/>
                  <a:pt x="4786" y="12751"/>
                </a:cubicBezTo>
                <a:cubicBezTo>
                  <a:pt x="4817" y="12822"/>
                  <a:pt x="4861" y="12889"/>
                  <a:pt x="4906" y="12952"/>
                </a:cubicBezTo>
                <a:cubicBezTo>
                  <a:pt x="4937" y="12995"/>
                  <a:pt x="4977" y="13057"/>
                  <a:pt x="5027" y="13081"/>
                </a:cubicBezTo>
                <a:cubicBezTo>
                  <a:pt x="5032" y="13082"/>
                  <a:pt x="5036" y="13082"/>
                  <a:pt x="5041" y="13083"/>
                </a:cubicBezTo>
              </a:path>
              <a:path w="860" h="739">
                <a:moveTo>
                  <a:pt x="4971" y="12703"/>
                </a:moveTo>
                <a:cubicBezTo>
                  <a:pt x="4943" y="12724"/>
                  <a:pt x="4917" y="12770"/>
                  <a:pt x="4905" y="12802"/>
                </a:cubicBezTo>
                <a:cubicBezTo>
                  <a:pt x="4877" y="12874"/>
                  <a:pt x="4861" y="12950"/>
                  <a:pt x="4847" y="13026"/>
                </a:cubicBezTo>
                <a:cubicBezTo>
                  <a:pt x="4841" y="13057"/>
                  <a:pt x="4822" y="13115"/>
                  <a:pt x="4866" y="1309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913040" y="4459320"/>
            <a:ext cx="36360" cy="212760"/>
          </a:xfrm>
          <a:custGeom>
            <a:avLst/>
            <a:gdLst/>
            <a:ahLst/>
            <a:rect l="l" t="t" r="r" b="b"/>
            <a:pathLst>
              <a:path w="101" h="593">
                <a:moveTo>
                  <a:pt x="5412" y="12402"/>
                </a:moveTo>
                <a:cubicBezTo>
                  <a:pt x="5397" y="12383"/>
                  <a:pt x="5373" y="12382"/>
                  <a:pt x="5356" y="12409"/>
                </a:cubicBezTo>
                <a:cubicBezTo>
                  <a:pt x="5320" y="12465"/>
                  <a:pt x="5314" y="12552"/>
                  <a:pt x="5312" y="12616"/>
                </a:cubicBezTo>
                <a:cubicBezTo>
                  <a:pt x="5310" y="12704"/>
                  <a:pt x="5317" y="12802"/>
                  <a:pt x="5344" y="12886"/>
                </a:cubicBezTo>
                <a:cubicBezTo>
                  <a:pt x="5358" y="12929"/>
                  <a:pt x="5375" y="12949"/>
                  <a:pt x="5406" y="1297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058840" y="4403880"/>
            <a:ext cx="374760" cy="271440"/>
          </a:xfrm>
          <a:custGeom>
            <a:avLst/>
            <a:gdLst/>
            <a:ahLst/>
            <a:rect l="l" t="t" r="r" b="b"/>
            <a:pathLst>
              <a:path w="1038" h="751">
                <a:moveTo>
                  <a:pt x="5733" y="12529"/>
                </a:moveTo>
                <a:cubicBezTo>
                  <a:pt x="5732" y="12521"/>
                  <a:pt x="5732" y="12514"/>
                  <a:pt x="5731" y="12506"/>
                </a:cubicBezTo>
                <a:cubicBezTo>
                  <a:pt x="5706" y="12484"/>
                  <a:pt x="5727" y="12579"/>
                  <a:pt x="5731" y="12605"/>
                </a:cubicBezTo>
                <a:cubicBezTo>
                  <a:pt x="5743" y="12687"/>
                  <a:pt x="5754" y="12770"/>
                  <a:pt x="5768" y="12852"/>
                </a:cubicBezTo>
                <a:cubicBezTo>
                  <a:pt x="5773" y="12883"/>
                  <a:pt x="5780" y="12915"/>
                  <a:pt x="5789" y="12945"/>
                </a:cubicBezTo>
                <a:cubicBezTo>
                  <a:pt x="5782" y="12883"/>
                  <a:pt x="5779" y="12822"/>
                  <a:pt x="5779" y="12760"/>
                </a:cubicBezTo>
                <a:cubicBezTo>
                  <a:pt x="5779" y="12654"/>
                  <a:pt x="5787" y="12549"/>
                  <a:pt x="5805" y="12444"/>
                </a:cubicBezTo>
                <a:cubicBezTo>
                  <a:pt x="5816" y="12382"/>
                  <a:pt x="5827" y="12291"/>
                  <a:pt x="5876" y="12245"/>
                </a:cubicBezTo>
                <a:cubicBezTo>
                  <a:pt x="5884" y="12241"/>
                  <a:pt x="5891" y="12238"/>
                  <a:pt x="5899" y="12234"/>
                </a:cubicBezTo>
                <a:cubicBezTo>
                  <a:pt x="5941" y="12258"/>
                  <a:pt x="5964" y="12288"/>
                  <a:pt x="5976" y="12337"/>
                </a:cubicBezTo>
                <a:cubicBezTo>
                  <a:pt x="6001" y="12439"/>
                  <a:pt x="5959" y="12546"/>
                  <a:pt x="5874" y="12606"/>
                </a:cubicBezTo>
                <a:cubicBezTo>
                  <a:pt x="5851" y="12623"/>
                  <a:pt x="5779" y="12664"/>
                  <a:pt x="5751" y="12641"/>
                </a:cubicBezTo>
                <a:cubicBezTo>
                  <a:pt x="5730" y="12624"/>
                  <a:pt x="5764" y="12598"/>
                  <a:pt x="5772" y="12589"/>
                </a:cubicBezTo>
              </a:path>
              <a:path w="1038" h="751">
                <a:moveTo>
                  <a:pt x="6259" y="12417"/>
                </a:moveTo>
                <a:cubicBezTo>
                  <a:pt x="6255" y="12392"/>
                  <a:pt x="6260" y="12392"/>
                  <a:pt x="6239" y="12386"/>
                </a:cubicBezTo>
                <a:cubicBezTo>
                  <a:pt x="6201" y="12416"/>
                  <a:pt x="6179" y="12461"/>
                  <a:pt x="6160" y="12507"/>
                </a:cubicBezTo>
                <a:cubicBezTo>
                  <a:pt x="6119" y="12607"/>
                  <a:pt x="6099" y="12714"/>
                  <a:pt x="6113" y="12822"/>
                </a:cubicBezTo>
                <a:cubicBezTo>
                  <a:pt x="6121" y="12882"/>
                  <a:pt x="6145" y="12947"/>
                  <a:pt x="6202" y="12976"/>
                </a:cubicBezTo>
                <a:cubicBezTo>
                  <a:pt x="6232" y="12992"/>
                  <a:pt x="6254" y="12981"/>
                  <a:pt x="6283" y="12972"/>
                </a:cubicBezTo>
              </a:path>
              <a:path w="1038" h="751">
                <a:moveTo>
                  <a:pt x="6337" y="12683"/>
                </a:moveTo>
                <a:cubicBezTo>
                  <a:pt x="6329" y="12670"/>
                  <a:pt x="6327" y="12666"/>
                  <a:pt x="6315" y="12668"/>
                </a:cubicBezTo>
                <a:cubicBezTo>
                  <a:pt x="6326" y="12699"/>
                  <a:pt x="6336" y="12730"/>
                  <a:pt x="6352" y="12760"/>
                </a:cubicBezTo>
                <a:cubicBezTo>
                  <a:pt x="6374" y="12800"/>
                  <a:pt x="6400" y="12836"/>
                  <a:pt x="6440" y="12859"/>
                </a:cubicBezTo>
                <a:cubicBezTo>
                  <a:pt x="6466" y="12874"/>
                  <a:pt x="6476" y="12870"/>
                  <a:pt x="6502" y="12862"/>
                </a:cubicBezTo>
              </a:path>
              <a:path w="1038" h="751">
                <a:moveTo>
                  <a:pt x="6541" y="12673"/>
                </a:moveTo>
                <a:cubicBezTo>
                  <a:pt x="6515" y="12673"/>
                  <a:pt x="6498" y="12707"/>
                  <a:pt x="6485" y="12735"/>
                </a:cubicBezTo>
                <a:cubicBezTo>
                  <a:pt x="6461" y="12786"/>
                  <a:pt x="6445" y="12844"/>
                  <a:pt x="6418" y="12893"/>
                </a:cubicBezTo>
                <a:cubicBezTo>
                  <a:pt x="6397" y="12930"/>
                  <a:pt x="6381" y="12940"/>
                  <a:pt x="6383" y="12893"/>
                </a:cubicBezTo>
              </a:path>
              <a:path w="1038" h="751">
                <a:moveTo>
                  <a:pt x="6614" y="12325"/>
                </a:moveTo>
                <a:cubicBezTo>
                  <a:pt x="6668" y="12312"/>
                  <a:pt x="6700" y="12317"/>
                  <a:pt x="6727" y="12375"/>
                </a:cubicBezTo>
                <a:cubicBezTo>
                  <a:pt x="6762" y="12448"/>
                  <a:pt x="6761" y="12539"/>
                  <a:pt x="6758" y="12618"/>
                </a:cubicBezTo>
                <a:cubicBezTo>
                  <a:pt x="6755" y="12696"/>
                  <a:pt x="6743" y="12782"/>
                  <a:pt x="6723" y="12857"/>
                </a:cubicBezTo>
                <a:cubicBezTo>
                  <a:pt x="6714" y="12882"/>
                  <a:pt x="6712" y="12888"/>
                  <a:pt x="6703" y="1290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655720" y="4398840"/>
            <a:ext cx="627120" cy="249480"/>
          </a:xfrm>
          <a:custGeom>
            <a:avLst/>
            <a:gdLst/>
            <a:ahLst/>
            <a:rect l="l" t="t" r="r" b="b"/>
            <a:pathLst>
              <a:path w="1739" h="691">
                <a:moveTo>
                  <a:pt x="7490" y="12752"/>
                </a:moveTo>
                <a:cubicBezTo>
                  <a:pt x="7476" y="12760"/>
                  <a:pt x="7449" y="12782"/>
                  <a:pt x="7433" y="12782"/>
                </a:cubicBezTo>
                <a:cubicBezTo>
                  <a:pt x="7406" y="12782"/>
                  <a:pt x="7386" y="12764"/>
                  <a:pt x="7381" y="12739"/>
                </a:cubicBezTo>
                <a:cubicBezTo>
                  <a:pt x="7371" y="12685"/>
                  <a:pt x="7394" y="12623"/>
                  <a:pt x="7415" y="12574"/>
                </a:cubicBezTo>
                <a:cubicBezTo>
                  <a:pt x="7447" y="12501"/>
                  <a:pt x="7498" y="12400"/>
                  <a:pt x="7579" y="12374"/>
                </a:cubicBezTo>
                <a:cubicBezTo>
                  <a:pt x="7639" y="12354"/>
                  <a:pt x="7667" y="12418"/>
                  <a:pt x="7686" y="12462"/>
                </a:cubicBezTo>
                <a:cubicBezTo>
                  <a:pt x="7714" y="12526"/>
                  <a:pt x="7730" y="12598"/>
                  <a:pt x="7742" y="12667"/>
                </a:cubicBezTo>
                <a:cubicBezTo>
                  <a:pt x="7746" y="12692"/>
                  <a:pt x="7742" y="12747"/>
                  <a:pt x="7775" y="12745"/>
                </a:cubicBezTo>
                <a:cubicBezTo>
                  <a:pt x="7778" y="12740"/>
                  <a:pt x="7780" y="12736"/>
                  <a:pt x="7783" y="12731"/>
                </a:cubicBezTo>
              </a:path>
              <a:path w="1739" h="691">
                <a:moveTo>
                  <a:pt x="8202" y="12277"/>
                </a:moveTo>
                <a:cubicBezTo>
                  <a:pt x="8206" y="12248"/>
                  <a:pt x="8207" y="12238"/>
                  <a:pt x="8185" y="12220"/>
                </a:cubicBezTo>
                <a:cubicBezTo>
                  <a:pt x="8153" y="12247"/>
                  <a:pt x="8125" y="12273"/>
                  <a:pt x="8099" y="12307"/>
                </a:cubicBezTo>
                <a:cubicBezTo>
                  <a:pt x="8049" y="12373"/>
                  <a:pt x="8004" y="12444"/>
                  <a:pt x="7969" y="12519"/>
                </a:cubicBezTo>
                <a:cubicBezTo>
                  <a:pt x="7941" y="12579"/>
                  <a:pt x="7909" y="12656"/>
                  <a:pt x="7933" y="12723"/>
                </a:cubicBezTo>
                <a:cubicBezTo>
                  <a:pt x="7956" y="12787"/>
                  <a:pt x="8017" y="12807"/>
                  <a:pt x="8079" y="12807"/>
                </a:cubicBezTo>
                <a:cubicBezTo>
                  <a:pt x="8144" y="12807"/>
                  <a:pt x="8212" y="12779"/>
                  <a:pt x="8255" y="12730"/>
                </a:cubicBezTo>
                <a:cubicBezTo>
                  <a:pt x="8325" y="12650"/>
                  <a:pt x="8296" y="12548"/>
                  <a:pt x="8246" y="12469"/>
                </a:cubicBezTo>
                <a:cubicBezTo>
                  <a:pt x="8227" y="12438"/>
                  <a:pt x="8206" y="12423"/>
                  <a:pt x="8173" y="12411"/>
                </a:cubicBezTo>
              </a:path>
              <a:path w="1739" h="691">
                <a:moveTo>
                  <a:pt x="8148" y="12580"/>
                </a:moveTo>
                <a:cubicBezTo>
                  <a:pt x="8164" y="12619"/>
                  <a:pt x="8181" y="12652"/>
                  <a:pt x="8207" y="12686"/>
                </a:cubicBezTo>
                <a:cubicBezTo>
                  <a:pt x="8233" y="12720"/>
                  <a:pt x="8269" y="12755"/>
                  <a:pt x="8307" y="12776"/>
                </a:cubicBezTo>
                <a:cubicBezTo>
                  <a:pt x="8332" y="12790"/>
                  <a:pt x="8357" y="12794"/>
                  <a:pt x="8385" y="12798"/>
                </a:cubicBezTo>
              </a:path>
              <a:path w="1739" h="691">
                <a:moveTo>
                  <a:pt x="8517" y="12267"/>
                </a:moveTo>
                <a:cubicBezTo>
                  <a:pt x="8473" y="12305"/>
                  <a:pt x="8460" y="12347"/>
                  <a:pt x="8442" y="12403"/>
                </a:cubicBezTo>
                <a:cubicBezTo>
                  <a:pt x="8413" y="12496"/>
                  <a:pt x="8398" y="12592"/>
                  <a:pt x="8403" y="12689"/>
                </a:cubicBezTo>
                <a:cubicBezTo>
                  <a:pt x="8407" y="12764"/>
                  <a:pt x="8417" y="12842"/>
                  <a:pt x="8482" y="12890"/>
                </a:cubicBezTo>
                <a:cubicBezTo>
                  <a:pt x="8517" y="12907"/>
                  <a:pt x="8529" y="12913"/>
                  <a:pt x="8556" y="12910"/>
                </a:cubicBezTo>
              </a:path>
              <a:path w="1739" h="691">
                <a:moveTo>
                  <a:pt x="8690" y="12562"/>
                </a:moveTo>
                <a:cubicBezTo>
                  <a:pt x="8671" y="12592"/>
                  <a:pt x="8669" y="12615"/>
                  <a:pt x="8681" y="12651"/>
                </a:cubicBezTo>
                <a:cubicBezTo>
                  <a:pt x="8697" y="12701"/>
                  <a:pt x="8727" y="12735"/>
                  <a:pt x="8771" y="12761"/>
                </a:cubicBezTo>
                <a:cubicBezTo>
                  <a:pt x="8803" y="12780"/>
                  <a:pt x="8826" y="12782"/>
                  <a:pt x="8861" y="12785"/>
                </a:cubicBezTo>
              </a:path>
              <a:path w="1739" h="691">
                <a:moveTo>
                  <a:pt x="8922" y="12580"/>
                </a:moveTo>
                <a:cubicBezTo>
                  <a:pt x="8920" y="12576"/>
                  <a:pt x="8919" y="12571"/>
                  <a:pt x="8917" y="12567"/>
                </a:cubicBezTo>
                <a:cubicBezTo>
                  <a:pt x="8887" y="12577"/>
                  <a:pt x="8877" y="12616"/>
                  <a:pt x="8860" y="12649"/>
                </a:cubicBezTo>
                <a:cubicBezTo>
                  <a:pt x="8833" y="12702"/>
                  <a:pt x="8809" y="12755"/>
                  <a:pt x="8780" y="12807"/>
                </a:cubicBezTo>
                <a:cubicBezTo>
                  <a:pt x="8767" y="12831"/>
                  <a:pt x="8763" y="12836"/>
                  <a:pt x="8757" y="12852"/>
                </a:cubicBezTo>
              </a:path>
              <a:path w="1739" h="691">
                <a:moveTo>
                  <a:pt x="8954" y="12269"/>
                </a:moveTo>
                <a:cubicBezTo>
                  <a:pt x="9003" y="12293"/>
                  <a:pt x="9015" y="12331"/>
                  <a:pt x="9035" y="12382"/>
                </a:cubicBezTo>
                <a:cubicBezTo>
                  <a:pt x="9071" y="12472"/>
                  <a:pt x="9091" y="12569"/>
                  <a:pt x="9105" y="12665"/>
                </a:cubicBezTo>
                <a:cubicBezTo>
                  <a:pt x="9116" y="12739"/>
                  <a:pt x="9121" y="12814"/>
                  <a:pt x="9110" y="1288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394080" y="4425840"/>
            <a:ext cx="55440" cy="257400"/>
          </a:xfrm>
          <a:custGeom>
            <a:avLst/>
            <a:gdLst/>
            <a:ahLst/>
            <a:rect l="l" t="t" r="r" b="b"/>
            <a:pathLst>
              <a:path w="154" h="715">
                <a:moveTo>
                  <a:pt x="9429" y="12295"/>
                </a:moveTo>
                <a:cubicBezTo>
                  <a:pt x="9462" y="12342"/>
                  <a:pt x="9478" y="12391"/>
                  <a:pt x="9498" y="12445"/>
                </a:cubicBezTo>
                <a:cubicBezTo>
                  <a:pt x="9535" y="12546"/>
                  <a:pt x="9565" y="12650"/>
                  <a:pt x="9577" y="12757"/>
                </a:cubicBezTo>
                <a:cubicBezTo>
                  <a:pt x="9586" y="12834"/>
                  <a:pt x="9586" y="12912"/>
                  <a:pt x="9564" y="12987"/>
                </a:cubicBezTo>
                <a:cubicBezTo>
                  <a:pt x="9556" y="13006"/>
                  <a:pt x="9555" y="13016"/>
                  <a:pt x="9545" y="1299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678120" y="4489560"/>
            <a:ext cx="181080" cy="176040"/>
          </a:xfrm>
          <a:custGeom>
            <a:avLst/>
            <a:gdLst/>
            <a:ahLst/>
            <a:rect l="l" t="t" r="r" b="b"/>
            <a:pathLst>
              <a:path w="499" h="491">
                <a:moveTo>
                  <a:pt x="10270" y="12714"/>
                </a:moveTo>
                <a:cubicBezTo>
                  <a:pt x="10274" y="12696"/>
                  <a:pt x="10278" y="12678"/>
                  <a:pt x="10282" y="12660"/>
                </a:cubicBezTo>
                <a:cubicBezTo>
                  <a:pt x="10288" y="12701"/>
                  <a:pt x="10294" y="12742"/>
                  <a:pt x="10301" y="12783"/>
                </a:cubicBezTo>
                <a:cubicBezTo>
                  <a:pt x="10310" y="12838"/>
                  <a:pt x="10322" y="12892"/>
                  <a:pt x="10326" y="12948"/>
                </a:cubicBezTo>
                <a:cubicBezTo>
                  <a:pt x="10326" y="12952"/>
                  <a:pt x="10326" y="12956"/>
                  <a:pt x="10326" y="12960"/>
                </a:cubicBezTo>
              </a:path>
              <a:path w="499" h="491">
                <a:moveTo>
                  <a:pt x="10227" y="12561"/>
                </a:moveTo>
                <a:cubicBezTo>
                  <a:pt x="10219" y="12526"/>
                  <a:pt x="10214" y="12516"/>
                  <a:pt x="10239" y="12494"/>
                </a:cubicBezTo>
                <a:cubicBezTo>
                  <a:pt x="10258" y="12477"/>
                  <a:pt x="10266" y="12471"/>
                  <a:pt x="10286" y="12470"/>
                </a:cubicBezTo>
              </a:path>
              <a:path w="499" h="491">
                <a:moveTo>
                  <a:pt x="10576" y="12605"/>
                </a:moveTo>
                <a:cubicBezTo>
                  <a:pt x="10559" y="12634"/>
                  <a:pt x="10537" y="12654"/>
                  <a:pt x="10519" y="12679"/>
                </a:cubicBezTo>
                <a:cubicBezTo>
                  <a:pt x="10503" y="12700"/>
                  <a:pt x="10514" y="12711"/>
                  <a:pt x="10533" y="12722"/>
                </a:cubicBezTo>
                <a:cubicBezTo>
                  <a:pt x="10569" y="12743"/>
                  <a:pt x="10609" y="12757"/>
                  <a:pt x="10642" y="12782"/>
                </a:cubicBezTo>
                <a:cubicBezTo>
                  <a:pt x="10667" y="12800"/>
                  <a:pt x="10702" y="12834"/>
                  <a:pt x="10686" y="12869"/>
                </a:cubicBezTo>
                <a:cubicBezTo>
                  <a:pt x="10670" y="12905"/>
                  <a:pt x="10628" y="12903"/>
                  <a:pt x="10596" y="12895"/>
                </a:cubicBezTo>
                <a:cubicBezTo>
                  <a:pt x="10561" y="12887"/>
                  <a:pt x="10547" y="12865"/>
                  <a:pt x="10524" y="12840"/>
                </a:cubicBezTo>
              </a:path>
              <a:path w="499" h="491">
                <a:moveTo>
                  <a:pt x="10509" y="12569"/>
                </a:moveTo>
                <a:cubicBezTo>
                  <a:pt x="10531" y="12560"/>
                  <a:pt x="10554" y="12553"/>
                  <a:pt x="10577" y="12547"/>
                </a:cubicBezTo>
                <a:cubicBezTo>
                  <a:pt x="10614" y="12537"/>
                  <a:pt x="10651" y="12537"/>
                  <a:pt x="10689" y="12537"/>
                </a:cubicBezTo>
                <a:cubicBezTo>
                  <a:pt x="10698" y="12537"/>
                  <a:pt x="10708" y="12538"/>
                  <a:pt x="10717" y="1253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060800" y="4389480"/>
            <a:ext cx="469800" cy="222120"/>
          </a:xfrm>
          <a:custGeom>
            <a:avLst/>
            <a:gdLst/>
            <a:ahLst/>
            <a:rect l="l" t="t" r="r" b="b"/>
            <a:pathLst>
              <a:path w="1306" h="620">
                <a:moveTo>
                  <a:pt x="11368" y="12212"/>
                </a:moveTo>
                <a:cubicBezTo>
                  <a:pt x="11386" y="12178"/>
                  <a:pt x="11383" y="12296"/>
                  <a:pt x="11387" y="12325"/>
                </a:cubicBezTo>
                <a:cubicBezTo>
                  <a:pt x="11401" y="12430"/>
                  <a:pt x="11420" y="12535"/>
                  <a:pt x="11443" y="12638"/>
                </a:cubicBezTo>
                <a:cubicBezTo>
                  <a:pt x="11456" y="12697"/>
                  <a:pt x="11474" y="12754"/>
                  <a:pt x="11493" y="12811"/>
                </a:cubicBezTo>
              </a:path>
              <a:path w="1306" h="620">
                <a:moveTo>
                  <a:pt x="11289" y="12495"/>
                </a:moveTo>
                <a:cubicBezTo>
                  <a:pt x="11280" y="12489"/>
                  <a:pt x="11277" y="12486"/>
                  <a:pt x="11278" y="12477"/>
                </a:cubicBezTo>
                <a:cubicBezTo>
                  <a:pt x="11316" y="12466"/>
                  <a:pt x="11354" y="12454"/>
                  <a:pt x="11392" y="12443"/>
                </a:cubicBezTo>
                <a:cubicBezTo>
                  <a:pt x="11458" y="12424"/>
                  <a:pt x="11516" y="12414"/>
                  <a:pt x="11584" y="12424"/>
                </a:cubicBezTo>
              </a:path>
              <a:path w="1306" h="620">
                <a:moveTo>
                  <a:pt x="11680" y="12662"/>
                </a:moveTo>
                <a:cubicBezTo>
                  <a:pt x="11679" y="12682"/>
                  <a:pt x="11671" y="12702"/>
                  <a:pt x="11670" y="12721"/>
                </a:cubicBezTo>
                <a:cubicBezTo>
                  <a:pt x="11669" y="12738"/>
                  <a:pt x="11665" y="12760"/>
                  <a:pt x="11669" y="12777"/>
                </a:cubicBezTo>
                <a:cubicBezTo>
                  <a:pt x="11670" y="12781"/>
                  <a:pt x="11672" y="12785"/>
                  <a:pt x="11673" y="12789"/>
                </a:cubicBezTo>
                <a:cubicBezTo>
                  <a:pt x="11687" y="12768"/>
                  <a:pt x="11692" y="12743"/>
                  <a:pt x="11697" y="12718"/>
                </a:cubicBezTo>
                <a:cubicBezTo>
                  <a:pt x="11706" y="12670"/>
                  <a:pt x="11715" y="12621"/>
                  <a:pt x="11729" y="12573"/>
                </a:cubicBezTo>
                <a:cubicBezTo>
                  <a:pt x="11739" y="12539"/>
                  <a:pt x="11754" y="12481"/>
                  <a:pt x="11780" y="12455"/>
                </a:cubicBezTo>
                <a:cubicBezTo>
                  <a:pt x="11796" y="12439"/>
                  <a:pt x="11822" y="12438"/>
                  <a:pt x="11841" y="12446"/>
                </a:cubicBezTo>
                <a:cubicBezTo>
                  <a:pt x="11845" y="12448"/>
                  <a:pt x="11848" y="12450"/>
                  <a:pt x="11852" y="12452"/>
                </a:cubicBezTo>
              </a:path>
              <a:path w="1306" h="620">
                <a:moveTo>
                  <a:pt x="11914" y="12506"/>
                </a:moveTo>
                <a:cubicBezTo>
                  <a:pt x="11913" y="12495"/>
                  <a:pt x="11911" y="12486"/>
                  <a:pt x="11910" y="12475"/>
                </a:cubicBezTo>
                <a:cubicBezTo>
                  <a:pt x="11915" y="12507"/>
                  <a:pt x="11922" y="12538"/>
                  <a:pt x="11932" y="12570"/>
                </a:cubicBezTo>
                <a:cubicBezTo>
                  <a:pt x="11946" y="12617"/>
                  <a:pt x="11964" y="12665"/>
                  <a:pt x="11985" y="12710"/>
                </a:cubicBezTo>
                <a:cubicBezTo>
                  <a:pt x="11996" y="12734"/>
                  <a:pt x="12000" y="12741"/>
                  <a:pt x="12021" y="12752"/>
                </a:cubicBezTo>
                <a:cubicBezTo>
                  <a:pt x="12043" y="12736"/>
                  <a:pt x="12047" y="12715"/>
                  <a:pt x="12055" y="12689"/>
                </a:cubicBezTo>
                <a:cubicBezTo>
                  <a:pt x="12067" y="12652"/>
                  <a:pt x="12078" y="12614"/>
                  <a:pt x="12087" y="12576"/>
                </a:cubicBezTo>
                <a:cubicBezTo>
                  <a:pt x="12091" y="12559"/>
                  <a:pt x="12094" y="12542"/>
                  <a:pt x="12099" y="12526"/>
                </a:cubicBezTo>
                <a:cubicBezTo>
                  <a:pt x="12106" y="12553"/>
                  <a:pt x="12105" y="12578"/>
                  <a:pt x="12106" y="12606"/>
                </a:cubicBezTo>
                <a:cubicBezTo>
                  <a:pt x="12107" y="12643"/>
                  <a:pt x="12104" y="12689"/>
                  <a:pt x="12114" y="12725"/>
                </a:cubicBezTo>
                <a:cubicBezTo>
                  <a:pt x="12126" y="12769"/>
                  <a:pt x="12152" y="12740"/>
                  <a:pt x="12170" y="12721"/>
                </a:cubicBezTo>
              </a:path>
              <a:path w="1306" h="620">
                <a:moveTo>
                  <a:pt x="12299" y="12636"/>
                </a:moveTo>
                <a:cubicBezTo>
                  <a:pt x="12325" y="12614"/>
                  <a:pt x="12352" y="12588"/>
                  <a:pt x="12374" y="12563"/>
                </a:cubicBezTo>
                <a:cubicBezTo>
                  <a:pt x="12404" y="12528"/>
                  <a:pt x="12436" y="12492"/>
                  <a:pt x="12460" y="12453"/>
                </a:cubicBezTo>
                <a:cubicBezTo>
                  <a:pt x="12463" y="12447"/>
                  <a:pt x="12466" y="12441"/>
                  <a:pt x="12469" y="12435"/>
                </a:cubicBezTo>
                <a:cubicBezTo>
                  <a:pt x="12428" y="12458"/>
                  <a:pt x="12407" y="12490"/>
                  <a:pt x="12385" y="12533"/>
                </a:cubicBezTo>
                <a:cubicBezTo>
                  <a:pt x="12362" y="12578"/>
                  <a:pt x="12342" y="12632"/>
                  <a:pt x="12360" y="12683"/>
                </a:cubicBezTo>
                <a:cubicBezTo>
                  <a:pt x="12376" y="12730"/>
                  <a:pt x="12428" y="12723"/>
                  <a:pt x="12467" y="12719"/>
                </a:cubicBezTo>
                <a:cubicBezTo>
                  <a:pt x="12510" y="12715"/>
                  <a:pt x="12543" y="12700"/>
                  <a:pt x="12583" y="1268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621320" y="4557600"/>
            <a:ext cx="4680" cy="22320"/>
          </a:xfrm>
          <a:custGeom>
            <a:avLst/>
            <a:gdLst/>
            <a:ahLst/>
            <a:rect l="l" t="t" r="r" b="b"/>
            <a:pathLst>
              <a:path w="15" h="61">
                <a:moveTo>
                  <a:pt x="12851" y="12707"/>
                </a:moveTo>
                <a:cubicBezTo>
                  <a:pt x="12851" y="12712"/>
                  <a:pt x="12850" y="12717"/>
                  <a:pt x="12850" y="12722"/>
                </a:cubicBezTo>
                <a:cubicBezTo>
                  <a:pt x="12838" y="12707"/>
                  <a:pt x="12837" y="12698"/>
                  <a:pt x="12839" y="12679"/>
                </a:cubicBezTo>
                <a:cubicBezTo>
                  <a:pt x="12841" y="12667"/>
                  <a:pt x="12840" y="12663"/>
                  <a:pt x="12850" y="1266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531800" y="4902120"/>
            <a:ext cx="316080" cy="212760"/>
          </a:xfrm>
          <a:custGeom>
            <a:avLst/>
            <a:gdLst/>
            <a:ahLst/>
            <a:rect l="l" t="t" r="r" b="b"/>
            <a:pathLst>
              <a:path w="877" h="594">
                <a:moveTo>
                  <a:pt x="4356" y="13780"/>
                </a:moveTo>
                <a:cubicBezTo>
                  <a:pt x="4366" y="13729"/>
                  <a:pt x="4361" y="13861"/>
                  <a:pt x="4362" y="13873"/>
                </a:cubicBezTo>
                <a:cubicBezTo>
                  <a:pt x="4365" y="13949"/>
                  <a:pt x="4369" y="14025"/>
                  <a:pt x="4376" y="14100"/>
                </a:cubicBezTo>
                <a:cubicBezTo>
                  <a:pt x="4380" y="14137"/>
                  <a:pt x="4386" y="14173"/>
                  <a:pt x="4394" y="14209"/>
                </a:cubicBezTo>
                <a:cubicBezTo>
                  <a:pt x="4403" y="14172"/>
                  <a:pt x="4402" y="14145"/>
                  <a:pt x="4400" y="14106"/>
                </a:cubicBezTo>
              </a:path>
              <a:path w="877" h="594">
                <a:moveTo>
                  <a:pt x="4284" y="13776"/>
                </a:moveTo>
                <a:cubicBezTo>
                  <a:pt x="4262" y="13752"/>
                  <a:pt x="4248" y="13739"/>
                  <a:pt x="4265" y="13707"/>
                </a:cubicBezTo>
                <a:cubicBezTo>
                  <a:pt x="4288" y="13664"/>
                  <a:pt x="4346" y="13643"/>
                  <a:pt x="4390" y="13628"/>
                </a:cubicBezTo>
                <a:cubicBezTo>
                  <a:pt x="4448" y="13609"/>
                  <a:pt x="4490" y="13614"/>
                  <a:pt x="4542" y="13640"/>
                </a:cubicBezTo>
              </a:path>
              <a:path w="877" h="594">
                <a:moveTo>
                  <a:pt x="4402" y="13978"/>
                </a:moveTo>
                <a:cubicBezTo>
                  <a:pt x="4385" y="13994"/>
                  <a:pt x="4382" y="13998"/>
                  <a:pt x="4368" y="14004"/>
                </a:cubicBezTo>
                <a:cubicBezTo>
                  <a:pt x="4380" y="13963"/>
                  <a:pt x="4406" y="13951"/>
                  <a:pt x="4440" y="13926"/>
                </a:cubicBezTo>
                <a:cubicBezTo>
                  <a:pt x="4486" y="13892"/>
                  <a:pt x="4534" y="13867"/>
                  <a:pt x="4592" y="13860"/>
                </a:cubicBezTo>
                <a:cubicBezTo>
                  <a:pt x="4602" y="13860"/>
                  <a:pt x="4612" y="13860"/>
                  <a:pt x="4622" y="13860"/>
                </a:cubicBezTo>
              </a:path>
              <a:path w="877" h="594">
                <a:moveTo>
                  <a:pt x="4816" y="13958"/>
                </a:moveTo>
                <a:cubicBezTo>
                  <a:pt x="4821" y="13944"/>
                  <a:pt x="4827" y="13919"/>
                  <a:pt x="4810" y="13907"/>
                </a:cubicBezTo>
                <a:cubicBezTo>
                  <a:pt x="4773" y="13882"/>
                  <a:pt x="4733" y="13916"/>
                  <a:pt x="4705" y="13940"/>
                </a:cubicBezTo>
                <a:cubicBezTo>
                  <a:pt x="4668" y="13972"/>
                  <a:pt x="4635" y="14014"/>
                  <a:pt x="4626" y="14063"/>
                </a:cubicBezTo>
                <a:cubicBezTo>
                  <a:pt x="4619" y="14105"/>
                  <a:pt x="4645" y="14129"/>
                  <a:pt x="4685" y="14129"/>
                </a:cubicBezTo>
                <a:cubicBezTo>
                  <a:pt x="4760" y="14129"/>
                  <a:pt x="4860" y="14072"/>
                  <a:pt x="4895" y="14004"/>
                </a:cubicBezTo>
                <a:cubicBezTo>
                  <a:pt x="4905" y="13984"/>
                  <a:pt x="4909" y="13965"/>
                  <a:pt x="4892" y="13949"/>
                </a:cubicBezTo>
                <a:cubicBezTo>
                  <a:pt x="4888" y="13946"/>
                  <a:pt x="4883" y="13943"/>
                  <a:pt x="4879" y="13940"/>
                </a:cubicBezTo>
              </a:path>
              <a:path w="877" h="594">
                <a:moveTo>
                  <a:pt x="4919" y="14060"/>
                </a:moveTo>
                <a:cubicBezTo>
                  <a:pt x="4933" y="14084"/>
                  <a:pt x="4945" y="14117"/>
                  <a:pt x="4962" y="14139"/>
                </a:cubicBezTo>
                <a:cubicBezTo>
                  <a:pt x="4966" y="14143"/>
                  <a:pt x="4970" y="14146"/>
                  <a:pt x="4974" y="14150"/>
                </a:cubicBezTo>
                <a:cubicBezTo>
                  <a:pt x="4992" y="14129"/>
                  <a:pt x="4991" y="14100"/>
                  <a:pt x="4996" y="14071"/>
                </a:cubicBezTo>
                <a:cubicBezTo>
                  <a:pt x="5004" y="14023"/>
                  <a:pt x="5009" y="13943"/>
                  <a:pt x="5055" y="13917"/>
                </a:cubicBezTo>
                <a:cubicBezTo>
                  <a:pt x="5081" y="13902"/>
                  <a:pt x="5104" y="13910"/>
                  <a:pt x="5132" y="1391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003400" y="4890960"/>
            <a:ext cx="223920" cy="182520"/>
          </a:xfrm>
          <a:custGeom>
            <a:avLst/>
            <a:gdLst/>
            <a:ahLst/>
            <a:rect l="l" t="t" r="r" b="b"/>
            <a:pathLst>
              <a:path w="624" h="506">
                <a:moveTo>
                  <a:pt x="5688" y="13791"/>
                </a:moveTo>
                <a:cubicBezTo>
                  <a:pt x="5678" y="13770"/>
                  <a:pt x="5673" y="13777"/>
                  <a:pt x="5659" y="13790"/>
                </a:cubicBezTo>
                <a:cubicBezTo>
                  <a:pt x="5633" y="13814"/>
                  <a:pt x="5618" y="13849"/>
                  <a:pt x="5604" y="13882"/>
                </a:cubicBezTo>
                <a:cubicBezTo>
                  <a:pt x="5585" y="13928"/>
                  <a:pt x="5560" y="13985"/>
                  <a:pt x="5564" y="14036"/>
                </a:cubicBezTo>
                <a:cubicBezTo>
                  <a:pt x="5565" y="14041"/>
                  <a:pt x="5567" y="14045"/>
                  <a:pt x="5568" y="14050"/>
                </a:cubicBezTo>
                <a:cubicBezTo>
                  <a:pt x="5607" y="14044"/>
                  <a:pt x="5619" y="14025"/>
                  <a:pt x="5644" y="13992"/>
                </a:cubicBezTo>
                <a:cubicBezTo>
                  <a:pt x="5672" y="13955"/>
                  <a:pt x="5695" y="13916"/>
                  <a:pt x="5726" y="13882"/>
                </a:cubicBezTo>
                <a:cubicBezTo>
                  <a:pt x="5749" y="13898"/>
                  <a:pt x="5746" y="13925"/>
                  <a:pt x="5752" y="13955"/>
                </a:cubicBezTo>
                <a:cubicBezTo>
                  <a:pt x="5756" y="13979"/>
                  <a:pt x="5760" y="14026"/>
                  <a:pt x="5781" y="14042"/>
                </a:cubicBezTo>
                <a:cubicBezTo>
                  <a:pt x="5794" y="14045"/>
                  <a:pt x="5800" y="14046"/>
                  <a:pt x="5807" y="14036"/>
                </a:cubicBezTo>
              </a:path>
              <a:path w="624" h="506">
                <a:moveTo>
                  <a:pt x="5875" y="13601"/>
                </a:moveTo>
                <a:cubicBezTo>
                  <a:pt x="5867" y="13569"/>
                  <a:pt x="5885" y="13703"/>
                  <a:pt x="5886" y="13715"/>
                </a:cubicBezTo>
                <a:cubicBezTo>
                  <a:pt x="5895" y="13799"/>
                  <a:pt x="5900" y="13884"/>
                  <a:pt x="5909" y="13968"/>
                </a:cubicBezTo>
                <a:cubicBezTo>
                  <a:pt x="5914" y="14010"/>
                  <a:pt x="5916" y="14050"/>
                  <a:pt x="5918" y="14092"/>
                </a:cubicBezTo>
              </a:path>
              <a:path w="624" h="506">
                <a:moveTo>
                  <a:pt x="6131" y="13607"/>
                </a:moveTo>
                <a:cubicBezTo>
                  <a:pt x="6129" y="13658"/>
                  <a:pt x="6138" y="13701"/>
                  <a:pt x="6145" y="13751"/>
                </a:cubicBezTo>
                <a:cubicBezTo>
                  <a:pt x="6155" y="13821"/>
                  <a:pt x="6169" y="13890"/>
                  <a:pt x="6180" y="13960"/>
                </a:cubicBezTo>
                <a:cubicBezTo>
                  <a:pt x="6184" y="13986"/>
                  <a:pt x="6186" y="14011"/>
                  <a:pt x="6187" y="1403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475000" y="4970520"/>
            <a:ext cx="117360" cy="120600"/>
          </a:xfrm>
          <a:custGeom>
            <a:avLst/>
            <a:gdLst/>
            <a:ahLst/>
            <a:rect l="l" t="t" r="r" b="b"/>
            <a:pathLst>
              <a:path w="325" h="334">
                <a:moveTo>
                  <a:pt x="7037" y="13845"/>
                </a:moveTo>
                <a:cubicBezTo>
                  <a:pt x="7022" y="13820"/>
                  <a:pt x="7014" y="13807"/>
                  <a:pt x="6984" y="13815"/>
                </a:cubicBezTo>
                <a:cubicBezTo>
                  <a:pt x="6940" y="13827"/>
                  <a:pt x="6911" y="13873"/>
                  <a:pt x="6894" y="13913"/>
                </a:cubicBezTo>
                <a:cubicBezTo>
                  <a:pt x="6877" y="13951"/>
                  <a:pt x="6862" y="14012"/>
                  <a:pt x="6888" y="14050"/>
                </a:cubicBezTo>
                <a:cubicBezTo>
                  <a:pt x="6913" y="14086"/>
                  <a:pt x="6963" y="14055"/>
                  <a:pt x="6987" y="14038"/>
                </a:cubicBezTo>
                <a:cubicBezTo>
                  <a:pt x="7028" y="14009"/>
                  <a:pt x="7053" y="13969"/>
                  <a:pt x="7089" y="13936"/>
                </a:cubicBezTo>
                <a:cubicBezTo>
                  <a:pt x="7104" y="13924"/>
                  <a:pt x="7108" y="13920"/>
                  <a:pt x="7121" y="13921"/>
                </a:cubicBezTo>
                <a:cubicBezTo>
                  <a:pt x="7146" y="13952"/>
                  <a:pt x="7145" y="13985"/>
                  <a:pt x="7154" y="14023"/>
                </a:cubicBezTo>
                <a:cubicBezTo>
                  <a:pt x="7164" y="14066"/>
                  <a:pt x="7175" y="14106"/>
                  <a:pt x="7199" y="1414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728800" y="4903920"/>
            <a:ext cx="127080" cy="142920"/>
          </a:xfrm>
          <a:custGeom>
            <a:avLst/>
            <a:gdLst/>
            <a:ahLst/>
            <a:rect l="l" t="t" r="r" b="b"/>
            <a:pathLst>
              <a:path w="351" h="400">
                <a:moveTo>
                  <a:pt x="7588" y="13857"/>
                </a:moveTo>
                <a:cubicBezTo>
                  <a:pt x="7600" y="13889"/>
                  <a:pt x="7608" y="13926"/>
                  <a:pt x="7611" y="13960"/>
                </a:cubicBezTo>
                <a:cubicBezTo>
                  <a:pt x="7611" y="13963"/>
                  <a:pt x="7612" y="14047"/>
                  <a:pt x="7611" y="14004"/>
                </a:cubicBezTo>
              </a:path>
              <a:path w="351" h="400">
                <a:moveTo>
                  <a:pt x="7583" y="13703"/>
                </a:moveTo>
                <a:cubicBezTo>
                  <a:pt x="7582" y="13674"/>
                  <a:pt x="7584" y="13649"/>
                  <a:pt x="7588" y="13620"/>
                </a:cubicBezTo>
                <a:cubicBezTo>
                  <a:pt x="7605" y="13620"/>
                  <a:pt x="7613" y="13621"/>
                  <a:pt x="7626" y="13624"/>
                </a:cubicBezTo>
              </a:path>
              <a:path w="351" h="400">
                <a:moveTo>
                  <a:pt x="7755" y="13932"/>
                </a:moveTo>
                <a:cubicBezTo>
                  <a:pt x="7757" y="13947"/>
                  <a:pt x="7757" y="13951"/>
                  <a:pt x="7759" y="13960"/>
                </a:cubicBezTo>
                <a:cubicBezTo>
                  <a:pt x="7762" y="13932"/>
                  <a:pt x="7772" y="13910"/>
                  <a:pt x="7785" y="13885"/>
                </a:cubicBezTo>
                <a:cubicBezTo>
                  <a:pt x="7802" y="13853"/>
                  <a:pt x="7821" y="13814"/>
                  <a:pt x="7851" y="13792"/>
                </a:cubicBezTo>
                <a:cubicBezTo>
                  <a:pt x="7879" y="13772"/>
                  <a:pt x="7891" y="13800"/>
                  <a:pt x="7898" y="13823"/>
                </a:cubicBezTo>
                <a:cubicBezTo>
                  <a:pt x="7909" y="13860"/>
                  <a:pt x="7920" y="13908"/>
                  <a:pt x="7922" y="13946"/>
                </a:cubicBezTo>
                <a:cubicBezTo>
                  <a:pt x="7923" y="13969"/>
                  <a:pt x="7908" y="13985"/>
                  <a:pt x="7930" y="1397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044880" y="4824360"/>
            <a:ext cx="720720" cy="209520"/>
          </a:xfrm>
          <a:custGeom>
            <a:avLst/>
            <a:gdLst/>
            <a:ahLst/>
            <a:rect l="l" t="t" r="r" b="b"/>
            <a:pathLst>
              <a:path w="1999" h="583">
                <a:moveTo>
                  <a:pt x="8589" y="13769"/>
                </a:moveTo>
                <a:cubicBezTo>
                  <a:pt x="8598" y="13736"/>
                  <a:pt x="8601" y="13741"/>
                  <a:pt x="8586" y="13714"/>
                </a:cubicBezTo>
                <a:cubicBezTo>
                  <a:pt x="8547" y="13719"/>
                  <a:pt x="8533" y="13736"/>
                  <a:pt x="8510" y="13771"/>
                </a:cubicBezTo>
                <a:cubicBezTo>
                  <a:pt x="8483" y="13812"/>
                  <a:pt x="8463" y="13865"/>
                  <a:pt x="8459" y="13915"/>
                </a:cubicBezTo>
                <a:cubicBezTo>
                  <a:pt x="8456" y="13946"/>
                  <a:pt x="8463" y="13957"/>
                  <a:pt x="8481" y="13978"/>
                </a:cubicBezTo>
                <a:cubicBezTo>
                  <a:pt x="8526" y="13969"/>
                  <a:pt x="8551" y="13946"/>
                  <a:pt x="8578" y="13908"/>
                </a:cubicBezTo>
                <a:cubicBezTo>
                  <a:pt x="8627" y="13840"/>
                  <a:pt x="8655" y="13757"/>
                  <a:pt x="8679" y="13677"/>
                </a:cubicBezTo>
                <a:cubicBezTo>
                  <a:pt x="8706" y="13587"/>
                  <a:pt x="8723" y="13493"/>
                  <a:pt x="8722" y="13401"/>
                </a:cubicBezTo>
                <a:cubicBezTo>
                  <a:pt x="8692" y="13478"/>
                  <a:pt x="8687" y="13566"/>
                  <a:pt x="8689" y="13649"/>
                </a:cubicBezTo>
                <a:cubicBezTo>
                  <a:pt x="8691" y="13746"/>
                  <a:pt x="8699" y="13842"/>
                  <a:pt x="8749" y="13927"/>
                </a:cubicBezTo>
                <a:cubicBezTo>
                  <a:pt x="8774" y="13970"/>
                  <a:pt x="8792" y="13971"/>
                  <a:pt x="8835" y="13976"/>
                </a:cubicBezTo>
              </a:path>
              <a:path w="1999" h="583">
                <a:moveTo>
                  <a:pt x="8959" y="13725"/>
                </a:moveTo>
                <a:cubicBezTo>
                  <a:pt x="8924" y="13717"/>
                  <a:pt x="8904" y="13743"/>
                  <a:pt x="8883" y="13776"/>
                </a:cubicBezTo>
                <a:cubicBezTo>
                  <a:pt x="8858" y="13814"/>
                  <a:pt x="8831" y="13870"/>
                  <a:pt x="8826" y="13916"/>
                </a:cubicBezTo>
                <a:cubicBezTo>
                  <a:pt x="8822" y="13951"/>
                  <a:pt x="8842" y="13974"/>
                  <a:pt x="8878" y="13965"/>
                </a:cubicBezTo>
                <a:cubicBezTo>
                  <a:pt x="8924" y="13953"/>
                  <a:pt x="8963" y="13910"/>
                  <a:pt x="8990" y="13874"/>
                </a:cubicBezTo>
                <a:cubicBezTo>
                  <a:pt x="9022" y="13833"/>
                  <a:pt x="9041" y="13786"/>
                  <a:pt x="9063" y="13740"/>
                </a:cubicBezTo>
                <a:cubicBezTo>
                  <a:pt x="9072" y="13720"/>
                  <a:pt x="9075" y="13715"/>
                  <a:pt x="9079" y="13702"/>
                </a:cubicBezTo>
              </a:path>
              <a:path w="1999" h="583">
                <a:moveTo>
                  <a:pt x="9137" y="13806"/>
                </a:moveTo>
                <a:cubicBezTo>
                  <a:pt x="9137" y="13835"/>
                  <a:pt x="9127" y="13872"/>
                  <a:pt x="9134" y="13899"/>
                </a:cubicBezTo>
                <a:cubicBezTo>
                  <a:pt x="9136" y="13903"/>
                  <a:pt x="9139" y="13908"/>
                  <a:pt x="9141" y="13912"/>
                </a:cubicBezTo>
                <a:cubicBezTo>
                  <a:pt x="9171" y="13885"/>
                  <a:pt x="9192" y="13854"/>
                  <a:pt x="9214" y="13820"/>
                </a:cubicBezTo>
                <a:cubicBezTo>
                  <a:pt x="9238" y="13784"/>
                  <a:pt x="9261" y="13744"/>
                  <a:pt x="9297" y="13718"/>
                </a:cubicBezTo>
                <a:cubicBezTo>
                  <a:pt x="9322" y="13700"/>
                  <a:pt x="9335" y="13717"/>
                  <a:pt x="9343" y="13741"/>
                </a:cubicBezTo>
                <a:cubicBezTo>
                  <a:pt x="9352" y="13771"/>
                  <a:pt x="9354" y="13803"/>
                  <a:pt x="9355" y="13834"/>
                </a:cubicBezTo>
                <a:cubicBezTo>
                  <a:pt x="9355" y="13838"/>
                  <a:pt x="9355" y="13843"/>
                  <a:pt x="9355" y="13847"/>
                </a:cubicBezTo>
                <a:cubicBezTo>
                  <a:pt x="9374" y="13831"/>
                  <a:pt x="9381" y="13811"/>
                  <a:pt x="9396" y="13791"/>
                </a:cubicBezTo>
                <a:cubicBezTo>
                  <a:pt x="9411" y="13770"/>
                  <a:pt x="9431" y="13756"/>
                  <a:pt x="9456" y="13769"/>
                </a:cubicBezTo>
                <a:cubicBezTo>
                  <a:pt x="9487" y="13785"/>
                  <a:pt x="9504" y="13829"/>
                  <a:pt x="9529" y="13853"/>
                </a:cubicBezTo>
                <a:cubicBezTo>
                  <a:pt x="9548" y="13872"/>
                  <a:pt x="9558" y="13875"/>
                  <a:pt x="9583" y="13882"/>
                </a:cubicBezTo>
              </a:path>
              <a:path w="1999" h="583">
                <a:moveTo>
                  <a:pt x="9783" y="13704"/>
                </a:moveTo>
                <a:cubicBezTo>
                  <a:pt x="9783" y="13681"/>
                  <a:pt x="9787" y="13687"/>
                  <a:pt x="9767" y="13677"/>
                </a:cubicBezTo>
                <a:cubicBezTo>
                  <a:pt x="9749" y="13704"/>
                  <a:pt x="9729" y="13729"/>
                  <a:pt x="9714" y="13759"/>
                </a:cubicBezTo>
                <a:cubicBezTo>
                  <a:pt x="9696" y="13794"/>
                  <a:pt x="9676" y="13834"/>
                  <a:pt x="9676" y="13874"/>
                </a:cubicBezTo>
                <a:cubicBezTo>
                  <a:pt x="9676" y="13903"/>
                  <a:pt x="9711" y="13912"/>
                  <a:pt x="9736" y="13907"/>
                </a:cubicBezTo>
                <a:cubicBezTo>
                  <a:pt x="9772" y="13899"/>
                  <a:pt x="9815" y="13881"/>
                  <a:pt x="9843" y="13857"/>
                </a:cubicBezTo>
                <a:cubicBezTo>
                  <a:pt x="9866" y="13838"/>
                  <a:pt x="9884" y="13813"/>
                  <a:pt x="9890" y="13783"/>
                </a:cubicBezTo>
                <a:cubicBezTo>
                  <a:pt x="9894" y="13764"/>
                  <a:pt x="9890" y="13740"/>
                  <a:pt x="9883" y="13723"/>
                </a:cubicBezTo>
                <a:cubicBezTo>
                  <a:pt x="9881" y="13719"/>
                  <a:pt x="9879" y="13716"/>
                  <a:pt x="9877" y="13712"/>
                </a:cubicBezTo>
                <a:cubicBezTo>
                  <a:pt x="9877" y="13742"/>
                  <a:pt x="9881" y="13773"/>
                  <a:pt x="9885" y="13803"/>
                </a:cubicBezTo>
                <a:cubicBezTo>
                  <a:pt x="9890" y="13842"/>
                  <a:pt x="9896" y="13882"/>
                  <a:pt x="9908" y="13919"/>
                </a:cubicBezTo>
                <a:cubicBezTo>
                  <a:pt x="9917" y="13946"/>
                  <a:pt x="9922" y="13933"/>
                  <a:pt x="9934" y="13919"/>
                </a:cubicBezTo>
              </a:path>
              <a:path w="1999" h="583">
                <a:moveTo>
                  <a:pt x="10003" y="13674"/>
                </a:moveTo>
                <a:cubicBezTo>
                  <a:pt x="10009" y="13705"/>
                  <a:pt x="10014" y="13737"/>
                  <a:pt x="10012" y="13769"/>
                </a:cubicBezTo>
                <a:cubicBezTo>
                  <a:pt x="10010" y="13804"/>
                  <a:pt x="10005" y="13840"/>
                  <a:pt x="10003" y="13875"/>
                </a:cubicBezTo>
                <a:cubicBezTo>
                  <a:pt x="10003" y="13879"/>
                  <a:pt x="10003" y="13884"/>
                  <a:pt x="10003" y="13888"/>
                </a:cubicBezTo>
              </a:path>
              <a:path w="1999" h="583">
                <a:moveTo>
                  <a:pt x="10016" y="13636"/>
                </a:moveTo>
                <a:cubicBezTo>
                  <a:pt x="10019" y="13610"/>
                  <a:pt x="10023" y="13555"/>
                  <a:pt x="10035" y="13532"/>
                </a:cubicBezTo>
                <a:cubicBezTo>
                  <a:pt x="10038" y="13531"/>
                  <a:pt x="10042" y="13529"/>
                  <a:pt x="10045" y="13528"/>
                </a:cubicBezTo>
              </a:path>
              <a:path w="1999" h="583">
                <a:moveTo>
                  <a:pt x="10193" y="13844"/>
                </a:moveTo>
                <a:cubicBezTo>
                  <a:pt x="10207" y="13857"/>
                  <a:pt x="10212" y="13823"/>
                  <a:pt x="10226" y="13803"/>
                </a:cubicBezTo>
                <a:cubicBezTo>
                  <a:pt x="10240" y="13783"/>
                  <a:pt x="10263" y="13742"/>
                  <a:pt x="10291" y="13739"/>
                </a:cubicBezTo>
                <a:cubicBezTo>
                  <a:pt x="10330" y="13735"/>
                  <a:pt x="10343" y="13790"/>
                  <a:pt x="10354" y="13815"/>
                </a:cubicBezTo>
                <a:cubicBezTo>
                  <a:pt x="10375" y="13864"/>
                  <a:pt x="10391" y="13915"/>
                  <a:pt x="10424" y="13957"/>
                </a:cubicBezTo>
                <a:cubicBezTo>
                  <a:pt x="10439" y="13973"/>
                  <a:pt x="10443" y="13978"/>
                  <a:pt x="10457" y="1398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152960" y="4762440"/>
            <a:ext cx="1093680" cy="274680"/>
          </a:xfrm>
          <a:custGeom>
            <a:avLst/>
            <a:gdLst/>
            <a:ahLst/>
            <a:rect l="l" t="t" r="r" b="b"/>
            <a:pathLst>
              <a:path w="3037" h="760">
                <a:moveTo>
                  <a:pt x="11547" y="13414"/>
                </a:moveTo>
                <a:cubicBezTo>
                  <a:pt x="11540" y="13455"/>
                  <a:pt x="11532" y="13501"/>
                  <a:pt x="11536" y="13546"/>
                </a:cubicBezTo>
                <a:cubicBezTo>
                  <a:pt x="11544" y="13641"/>
                  <a:pt x="11561" y="13737"/>
                  <a:pt x="11578" y="13830"/>
                </a:cubicBezTo>
                <a:cubicBezTo>
                  <a:pt x="11588" y="13884"/>
                  <a:pt x="11664" y="13990"/>
                  <a:pt x="11610" y="13990"/>
                </a:cubicBezTo>
                <a:cubicBezTo>
                  <a:pt x="11608" y="13984"/>
                  <a:pt x="11606" y="13979"/>
                  <a:pt x="11604" y="13973"/>
                </a:cubicBezTo>
                <a:cubicBezTo>
                  <a:pt x="11584" y="13886"/>
                  <a:pt x="11572" y="13800"/>
                  <a:pt x="11573" y="13710"/>
                </a:cubicBezTo>
                <a:cubicBezTo>
                  <a:pt x="11575" y="13586"/>
                  <a:pt x="11594" y="13461"/>
                  <a:pt x="11655" y="13352"/>
                </a:cubicBezTo>
                <a:cubicBezTo>
                  <a:pt x="11690" y="13290"/>
                  <a:pt x="11722" y="13260"/>
                  <a:pt x="11790" y="13251"/>
                </a:cubicBezTo>
                <a:cubicBezTo>
                  <a:pt x="11846" y="13297"/>
                  <a:pt x="11850" y="13344"/>
                  <a:pt x="11840" y="13418"/>
                </a:cubicBezTo>
                <a:cubicBezTo>
                  <a:pt x="11827" y="13515"/>
                  <a:pt x="11789" y="13602"/>
                  <a:pt x="11733" y="13681"/>
                </a:cubicBezTo>
                <a:cubicBezTo>
                  <a:pt x="11728" y="13687"/>
                  <a:pt x="11638" y="13796"/>
                  <a:pt x="11618" y="13771"/>
                </a:cubicBezTo>
                <a:cubicBezTo>
                  <a:pt x="11596" y="13744"/>
                  <a:pt x="11638" y="13709"/>
                  <a:pt x="11654" y="13689"/>
                </a:cubicBezTo>
              </a:path>
              <a:path w="3037" h="760">
                <a:moveTo>
                  <a:pt x="12173" y="13389"/>
                </a:moveTo>
                <a:cubicBezTo>
                  <a:pt x="12177" y="13355"/>
                  <a:pt x="12182" y="13354"/>
                  <a:pt x="12162" y="13331"/>
                </a:cubicBezTo>
                <a:cubicBezTo>
                  <a:pt x="12105" y="13349"/>
                  <a:pt x="12077" y="13404"/>
                  <a:pt x="12045" y="13457"/>
                </a:cubicBezTo>
                <a:cubicBezTo>
                  <a:pt x="11980" y="13566"/>
                  <a:pt x="11931" y="13691"/>
                  <a:pt x="11930" y="13820"/>
                </a:cubicBezTo>
                <a:cubicBezTo>
                  <a:pt x="11930" y="13885"/>
                  <a:pt x="11962" y="13934"/>
                  <a:pt x="12031" y="13933"/>
                </a:cubicBezTo>
                <a:cubicBezTo>
                  <a:pt x="12072" y="13926"/>
                  <a:pt x="12086" y="13923"/>
                  <a:pt x="12110" y="13908"/>
                </a:cubicBezTo>
              </a:path>
              <a:path w="3037" h="760">
                <a:moveTo>
                  <a:pt x="12206" y="13628"/>
                </a:moveTo>
                <a:cubicBezTo>
                  <a:pt x="12201" y="13674"/>
                  <a:pt x="12205" y="13702"/>
                  <a:pt x="12223" y="13746"/>
                </a:cubicBezTo>
                <a:cubicBezTo>
                  <a:pt x="12244" y="13797"/>
                  <a:pt x="12279" y="13837"/>
                  <a:pt x="12332" y="13856"/>
                </a:cubicBezTo>
                <a:cubicBezTo>
                  <a:pt x="12382" y="13874"/>
                  <a:pt x="12416" y="13865"/>
                  <a:pt x="12462" y="13844"/>
                </a:cubicBezTo>
              </a:path>
              <a:path w="3037" h="760">
                <a:moveTo>
                  <a:pt x="12446" y="13584"/>
                </a:moveTo>
                <a:cubicBezTo>
                  <a:pt x="12398" y="13606"/>
                  <a:pt x="12388" y="13638"/>
                  <a:pt x="12359" y="13681"/>
                </a:cubicBezTo>
                <a:cubicBezTo>
                  <a:pt x="12327" y="13729"/>
                  <a:pt x="12295" y="13783"/>
                  <a:pt x="12278" y="13839"/>
                </a:cubicBezTo>
                <a:cubicBezTo>
                  <a:pt x="12271" y="13863"/>
                  <a:pt x="12266" y="13875"/>
                  <a:pt x="12283" y="13868"/>
                </a:cubicBezTo>
              </a:path>
              <a:path w="3037" h="760">
                <a:moveTo>
                  <a:pt x="12471" y="13280"/>
                </a:moveTo>
                <a:cubicBezTo>
                  <a:pt x="12488" y="13268"/>
                  <a:pt x="12492" y="13265"/>
                  <a:pt x="12511" y="13260"/>
                </a:cubicBezTo>
              </a:path>
              <a:path w="3037" h="760">
                <a:moveTo>
                  <a:pt x="12455" y="13612"/>
                </a:moveTo>
                <a:cubicBezTo>
                  <a:pt x="12456" y="13588"/>
                  <a:pt x="12465" y="13546"/>
                  <a:pt x="12451" y="13525"/>
                </a:cubicBezTo>
                <a:cubicBezTo>
                  <a:pt x="12446" y="13512"/>
                  <a:pt x="12441" y="13507"/>
                  <a:pt x="12429" y="13504"/>
                </a:cubicBezTo>
                <a:cubicBezTo>
                  <a:pt x="12390" y="13516"/>
                  <a:pt x="12374" y="13538"/>
                  <a:pt x="12353" y="13573"/>
                </a:cubicBezTo>
                <a:cubicBezTo>
                  <a:pt x="12319" y="13630"/>
                  <a:pt x="12294" y="13693"/>
                  <a:pt x="12279" y="13758"/>
                </a:cubicBezTo>
                <a:cubicBezTo>
                  <a:pt x="12270" y="13797"/>
                  <a:pt x="12262" y="13838"/>
                  <a:pt x="12273" y="13876"/>
                </a:cubicBezTo>
                <a:cubicBezTo>
                  <a:pt x="12307" y="13874"/>
                  <a:pt x="12327" y="13848"/>
                  <a:pt x="12350" y="13823"/>
                </a:cubicBezTo>
                <a:cubicBezTo>
                  <a:pt x="12398" y="13769"/>
                  <a:pt x="12441" y="13708"/>
                  <a:pt x="12494" y="13659"/>
                </a:cubicBezTo>
                <a:cubicBezTo>
                  <a:pt x="12518" y="13637"/>
                  <a:pt x="12519" y="13636"/>
                  <a:pt x="12541" y="13649"/>
                </a:cubicBezTo>
                <a:cubicBezTo>
                  <a:pt x="12550" y="13696"/>
                  <a:pt x="12551" y="13743"/>
                  <a:pt x="12551" y="13791"/>
                </a:cubicBezTo>
                <a:cubicBezTo>
                  <a:pt x="12551" y="13802"/>
                  <a:pt x="12545" y="13905"/>
                  <a:pt x="12564" y="13908"/>
                </a:cubicBezTo>
                <a:cubicBezTo>
                  <a:pt x="12584" y="13912"/>
                  <a:pt x="12584" y="13894"/>
                  <a:pt x="12592" y="13878"/>
                </a:cubicBezTo>
              </a:path>
              <a:path w="3037" h="760">
                <a:moveTo>
                  <a:pt x="12589" y="13327"/>
                </a:moveTo>
                <a:cubicBezTo>
                  <a:pt x="12588" y="13301"/>
                  <a:pt x="12587" y="13296"/>
                  <a:pt x="12592" y="13281"/>
                </a:cubicBezTo>
                <a:cubicBezTo>
                  <a:pt x="12631" y="13302"/>
                  <a:pt x="12635" y="13350"/>
                  <a:pt x="12649" y="13389"/>
                </a:cubicBezTo>
                <a:cubicBezTo>
                  <a:pt x="12686" y="13491"/>
                  <a:pt x="12719" y="13594"/>
                  <a:pt x="12738" y="13701"/>
                </a:cubicBezTo>
                <a:cubicBezTo>
                  <a:pt x="12750" y="13767"/>
                  <a:pt x="12763" y="13854"/>
                  <a:pt x="12747" y="13921"/>
                </a:cubicBezTo>
                <a:cubicBezTo>
                  <a:pt x="12744" y="13926"/>
                  <a:pt x="12741" y="13932"/>
                  <a:pt x="12738" y="13937"/>
                </a:cubicBezTo>
              </a:path>
              <a:path w="3037" h="760">
                <a:moveTo>
                  <a:pt x="12939" y="13686"/>
                </a:moveTo>
                <a:cubicBezTo>
                  <a:pt x="12938" y="13704"/>
                  <a:pt x="12938" y="13715"/>
                  <a:pt x="12932" y="13731"/>
                </a:cubicBezTo>
                <a:cubicBezTo>
                  <a:pt x="12910" y="13714"/>
                  <a:pt x="12911" y="13708"/>
                  <a:pt x="12921" y="13668"/>
                </a:cubicBezTo>
                <a:cubicBezTo>
                  <a:pt x="12944" y="13576"/>
                  <a:pt x="12991" y="13446"/>
                  <a:pt x="13066" y="13383"/>
                </a:cubicBezTo>
                <a:cubicBezTo>
                  <a:pt x="13073" y="13379"/>
                  <a:pt x="13081" y="13375"/>
                  <a:pt x="13088" y="13371"/>
                </a:cubicBezTo>
                <a:cubicBezTo>
                  <a:pt x="13126" y="13394"/>
                  <a:pt x="13127" y="13436"/>
                  <a:pt x="13134" y="13480"/>
                </a:cubicBezTo>
                <a:cubicBezTo>
                  <a:pt x="13144" y="13545"/>
                  <a:pt x="13148" y="13610"/>
                  <a:pt x="13163" y="13674"/>
                </a:cubicBezTo>
                <a:cubicBezTo>
                  <a:pt x="13170" y="13701"/>
                  <a:pt x="13185" y="13739"/>
                  <a:pt x="13218" y="13710"/>
                </a:cubicBezTo>
                <a:cubicBezTo>
                  <a:pt x="13235" y="13688"/>
                  <a:pt x="13241" y="13679"/>
                  <a:pt x="13254" y="13665"/>
                </a:cubicBezTo>
              </a:path>
              <a:path w="3037" h="760">
                <a:moveTo>
                  <a:pt x="13615" y="13290"/>
                </a:moveTo>
                <a:cubicBezTo>
                  <a:pt x="13606" y="13263"/>
                  <a:pt x="13598" y="13252"/>
                  <a:pt x="13585" y="13231"/>
                </a:cubicBezTo>
                <a:cubicBezTo>
                  <a:pt x="13542" y="13245"/>
                  <a:pt x="13522" y="13292"/>
                  <a:pt x="13499" y="13335"/>
                </a:cubicBezTo>
                <a:cubicBezTo>
                  <a:pt x="13454" y="13420"/>
                  <a:pt x="13421" y="13512"/>
                  <a:pt x="13404" y="13607"/>
                </a:cubicBezTo>
                <a:cubicBezTo>
                  <a:pt x="13392" y="13674"/>
                  <a:pt x="13382" y="13761"/>
                  <a:pt x="13435" y="13815"/>
                </a:cubicBezTo>
                <a:cubicBezTo>
                  <a:pt x="13480" y="13861"/>
                  <a:pt x="13546" y="13854"/>
                  <a:pt x="13602" y="13844"/>
                </a:cubicBezTo>
                <a:cubicBezTo>
                  <a:pt x="13656" y="13834"/>
                  <a:pt x="13710" y="13805"/>
                  <a:pt x="13746" y="13762"/>
                </a:cubicBezTo>
                <a:cubicBezTo>
                  <a:pt x="13778" y="13724"/>
                  <a:pt x="13793" y="13677"/>
                  <a:pt x="13797" y="13628"/>
                </a:cubicBezTo>
                <a:cubicBezTo>
                  <a:pt x="13801" y="13579"/>
                  <a:pt x="13799" y="13526"/>
                  <a:pt x="13794" y="13477"/>
                </a:cubicBezTo>
                <a:cubicBezTo>
                  <a:pt x="13791" y="13446"/>
                  <a:pt x="13786" y="13415"/>
                  <a:pt x="13780" y="13384"/>
                </a:cubicBezTo>
                <a:cubicBezTo>
                  <a:pt x="13777" y="13370"/>
                  <a:pt x="13779" y="13350"/>
                  <a:pt x="13775" y="13337"/>
                </a:cubicBezTo>
                <a:cubicBezTo>
                  <a:pt x="13770" y="13320"/>
                  <a:pt x="13752" y="13318"/>
                  <a:pt x="13731" y="13318"/>
                </a:cubicBezTo>
                <a:cubicBezTo>
                  <a:pt x="13726" y="13319"/>
                  <a:pt x="13720" y="13319"/>
                  <a:pt x="13715" y="13320"/>
                </a:cubicBezTo>
              </a:path>
              <a:path w="3037" h="760">
                <a:moveTo>
                  <a:pt x="13651" y="13646"/>
                </a:moveTo>
                <a:cubicBezTo>
                  <a:pt x="13649" y="13642"/>
                  <a:pt x="13646" y="13638"/>
                  <a:pt x="13644" y="13634"/>
                </a:cubicBezTo>
                <a:cubicBezTo>
                  <a:pt x="13627" y="13651"/>
                  <a:pt x="13640" y="13679"/>
                  <a:pt x="13652" y="13703"/>
                </a:cubicBezTo>
                <a:cubicBezTo>
                  <a:pt x="13672" y="13743"/>
                  <a:pt x="13696" y="13783"/>
                  <a:pt x="13730" y="13813"/>
                </a:cubicBezTo>
                <a:cubicBezTo>
                  <a:pt x="13762" y="13841"/>
                  <a:pt x="13792" y="13845"/>
                  <a:pt x="13832" y="13847"/>
                </a:cubicBezTo>
              </a:path>
              <a:path w="3037" h="760">
                <a:moveTo>
                  <a:pt x="14120" y="13365"/>
                </a:moveTo>
                <a:cubicBezTo>
                  <a:pt x="14127" y="13340"/>
                  <a:pt x="14131" y="13338"/>
                  <a:pt x="14120" y="13317"/>
                </a:cubicBezTo>
                <a:cubicBezTo>
                  <a:pt x="14094" y="13351"/>
                  <a:pt x="14072" y="13382"/>
                  <a:pt x="14056" y="13424"/>
                </a:cubicBezTo>
                <a:cubicBezTo>
                  <a:pt x="14023" y="13511"/>
                  <a:pt x="14004" y="13603"/>
                  <a:pt x="13995" y="13695"/>
                </a:cubicBezTo>
                <a:cubicBezTo>
                  <a:pt x="13989" y="13757"/>
                  <a:pt x="13989" y="13848"/>
                  <a:pt x="14047" y="13888"/>
                </a:cubicBezTo>
                <a:cubicBezTo>
                  <a:pt x="14079" y="13900"/>
                  <a:pt x="14090" y="13904"/>
                  <a:pt x="14113" y="13897"/>
                </a:cubicBezTo>
              </a:path>
              <a:path w="3037" h="760">
                <a:moveTo>
                  <a:pt x="14336" y="13566"/>
                </a:moveTo>
                <a:cubicBezTo>
                  <a:pt x="14297" y="13551"/>
                  <a:pt x="14290" y="13583"/>
                  <a:pt x="14265" y="13610"/>
                </a:cubicBezTo>
                <a:cubicBezTo>
                  <a:pt x="14221" y="13658"/>
                  <a:pt x="14191" y="13707"/>
                  <a:pt x="14177" y="13772"/>
                </a:cubicBezTo>
                <a:cubicBezTo>
                  <a:pt x="14170" y="13806"/>
                  <a:pt x="14169" y="13852"/>
                  <a:pt x="14216" y="13847"/>
                </a:cubicBezTo>
                <a:cubicBezTo>
                  <a:pt x="14255" y="13843"/>
                  <a:pt x="14292" y="13809"/>
                  <a:pt x="14323" y="13788"/>
                </a:cubicBezTo>
                <a:cubicBezTo>
                  <a:pt x="14345" y="13773"/>
                  <a:pt x="14370" y="13749"/>
                  <a:pt x="14393" y="13778"/>
                </a:cubicBezTo>
                <a:cubicBezTo>
                  <a:pt x="14402" y="13790"/>
                  <a:pt x="14403" y="13813"/>
                  <a:pt x="14406" y="13827"/>
                </a:cubicBezTo>
              </a:path>
              <a:path w="3037" h="760">
                <a:moveTo>
                  <a:pt x="14436" y="13306"/>
                </a:moveTo>
                <a:cubicBezTo>
                  <a:pt x="14463" y="13342"/>
                  <a:pt x="14482" y="13387"/>
                  <a:pt x="14495" y="13431"/>
                </a:cubicBezTo>
                <a:cubicBezTo>
                  <a:pt x="14519" y="13512"/>
                  <a:pt x="14536" y="13594"/>
                  <a:pt x="14552" y="13676"/>
                </a:cubicBezTo>
                <a:cubicBezTo>
                  <a:pt x="14565" y="13742"/>
                  <a:pt x="14577" y="13804"/>
                  <a:pt x="14569" y="13872"/>
                </a:cubicBezTo>
                <a:cubicBezTo>
                  <a:pt x="14568" y="13879"/>
                  <a:pt x="14566" y="13885"/>
                  <a:pt x="14565" y="1389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2880" y="4836960"/>
            <a:ext cx="160200" cy="158760"/>
          </a:xfrm>
          <a:custGeom>
            <a:avLst/>
            <a:gdLst/>
            <a:ahLst/>
            <a:rect l="l" t="t" r="r" b="b"/>
            <a:pathLst>
              <a:path w="445" h="441">
                <a:moveTo>
                  <a:pt x="15279" y="13703"/>
                </a:moveTo>
                <a:cubicBezTo>
                  <a:pt x="15273" y="13690"/>
                  <a:pt x="15272" y="13686"/>
                  <a:pt x="15266" y="13679"/>
                </a:cubicBezTo>
                <a:cubicBezTo>
                  <a:pt x="15260" y="13704"/>
                  <a:pt x="15264" y="13731"/>
                  <a:pt x="15269" y="13759"/>
                </a:cubicBezTo>
                <a:cubicBezTo>
                  <a:pt x="15273" y="13784"/>
                  <a:pt x="15276" y="13817"/>
                  <a:pt x="15303" y="13830"/>
                </a:cubicBezTo>
                <a:cubicBezTo>
                  <a:pt x="15314" y="13830"/>
                  <a:pt x="15319" y="13829"/>
                  <a:pt x="15324" y="13821"/>
                </a:cubicBezTo>
              </a:path>
              <a:path w="445" h="441">
                <a:moveTo>
                  <a:pt x="15309" y="13507"/>
                </a:moveTo>
                <a:cubicBezTo>
                  <a:pt x="15303" y="13486"/>
                  <a:pt x="15296" y="13466"/>
                  <a:pt x="15291" y="13445"/>
                </a:cubicBezTo>
                <a:cubicBezTo>
                  <a:pt x="15322" y="13437"/>
                  <a:pt x="15341" y="13451"/>
                  <a:pt x="15370" y="13468"/>
                </a:cubicBezTo>
                <a:cubicBezTo>
                  <a:pt x="15378" y="13473"/>
                  <a:pt x="15387" y="13478"/>
                  <a:pt x="15395" y="13483"/>
                </a:cubicBezTo>
              </a:path>
              <a:path w="445" h="441">
                <a:moveTo>
                  <a:pt x="15499" y="13690"/>
                </a:moveTo>
                <a:cubicBezTo>
                  <a:pt x="15495" y="13707"/>
                  <a:pt x="15483" y="13730"/>
                  <a:pt x="15504" y="13740"/>
                </a:cubicBezTo>
                <a:cubicBezTo>
                  <a:pt x="15523" y="13750"/>
                  <a:pt x="15564" y="13750"/>
                  <a:pt x="15585" y="13755"/>
                </a:cubicBezTo>
                <a:cubicBezTo>
                  <a:pt x="15621" y="13763"/>
                  <a:pt x="15663" y="13773"/>
                  <a:pt x="15691" y="13799"/>
                </a:cubicBezTo>
                <a:cubicBezTo>
                  <a:pt x="15715" y="13820"/>
                  <a:pt x="15700" y="13844"/>
                  <a:pt x="15676" y="13856"/>
                </a:cubicBezTo>
                <a:cubicBezTo>
                  <a:pt x="15637" y="13876"/>
                  <a:pt x="15587" y="13880"/>
                  <a:pt x="15544" y="13876"/>
                </a:cubicBezTo>
                <a:cubicBezTo>
                  <a:pt x="15510" y="13873"/>
                  <a:pt x="15492" y="13863"/>
                  <a:pt x="15465" y="1384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859360" y="4815000"/>
            <a:ext cx="479520" cy="156960"/>
          </a:xfrm>
          <a:custGeom>
            <a:avLst/>
            <a:gdLst/>
            <a:ahLst/>
            <a:rect l="l" t="t" r="r" b="b"/>
            <a:pathLst>
              <a:path w="1329" h="435">
                <a:moveTo>
                  <a:pt x="16320" y="13382"/>
                </a:moveTo>
                <a:cubicBezTo>
                  <a:pt x="16282" y="13387"/>
                  <a:pt x="16291" y="13431"/>
                  <a:pt x="16294" y="13470"/>
                </a:cubicBezTo>
                <a:cubicBezTo>
                  <a:pt x="16301" y="13560"/>
                  <a:pt x="16321" y="13653"/>
                  <a:pt x="16346" y="13739"/>
                </a:cubicBezTo>
                <a:cubicBezTo>
                  <a:pt x="16359" y="13775"/>
                  <a:pt x="16362" y="13784"/>
                  <a:pt x="16367" y="13807"/>
                </a:cubicBezTo>
              </a:path>
              <a:path w="1329" h="435">
                <a:moveTo>
                  <a:pt x="16278" y="13657"/>
                </a:moveTo>
                <a:cubicBezTo>
                  <a:pt x="16301" y="13620"/>
                  <a:pt x="16333" y="13596"/>
                  <a:pt x="16374" y="13576"/>
                </a:cubicBezTo>
                <a:cubicBezTo>
                  <a:pt x="16418" y="13554"/>
                  <a:pt x="16472" y="13537"/>
                  <a:pt x="16522" y="13539"/>
                </a:cubicBezTo>
                <a:cubicBezTo>
                  <a:pt x="16560" y="13541"/>
                  <a:pt x="16574" y="13565"/>
                  <a:pt x="16579" y="13599"/>
                </a:cubicBezTo>
                <a:cubicBezTo>
                  <a:pt x="16587" y="13649"/>
                  <a:pt x="16579" y="13702"/>
                  <a:pt x="16582" y="13752"/>
                </a:cubicBezTo>
                <a:cubicBezTo>
                  <a:pt x="16583" y="13772"/>
                  <a:pt x="16584" y="13778"/>
                  <a:pt x="16591" y="13790"/>
                </a:cubicBezTo>
                <a:cubicBezTo>
                  <a:pt x="16614" y="13770"/>
                  <a:pt x="16616" y="13761"/>
                  <a:pt x="16628" y="13728"/>
                </a:cubicBezTo>
                <a:cubicBezTo>
                  <a:pt x="16645" y="13682"/>
                  <a:pt x="16662" y="13648"/>
                  <a:pt x="16690" y="13608"/>
                </a:cubicBezTo>
                <a:cubicBezTo>
                  <a:pt x="16705" y="13587"/>
                  <a:pt x="16717" y="13574"/>
                  <a:pt x="16737" y="13558"/>
                </a:cubicBezTo>
              </a:path>
              <a:path w="1329" h="435">
                <a:moveTo>
                  <a:pt x="16875" y="13648"/>
                </a:moveTo>
                <a:cubicBezTo>
                  <a:pt x="16874" y="13683"/>
                  <a:pt x="16875" y="13711"/>
                  <a:pt x="16881" y="13745"/>
                </a:cubicBezTo>
                <a:cubicBezTo>
                  <a:pt x="16885" y="13768"/>
                  <a:pt x="16893" y="13803"/>
                  <a:pt x="16920" y="13809"/>
                </a:cubicBezTo>
                <a:cubicBezTo>
                  <a:pt x="16948" y="13815"/>
                  <a:pt x="16975" y="13773"/>
                  <a:pt x="16986" y="13755"/>
                </a:cubicBezTo>
                <a:cubicBezTo>
                  <a:pt x="17016" y="13707"/>
                  <a:pt x="17037" y="13654"/>
                  <a:pt x="17066" y="13605"/>
                </a:cubicBezTo>
                <a:cubicBezTo>
                  <a:pt x="17075" y="13591"/>
                  <a:pt x="17075" y="13586"/>
                  <a:pt x="17087" y="13588"/>
                </a:cubicBezTo>
                <a:cubicBezTo>
                  <a:pt x="17088" y="13625"/>
                  <a:pt x="17086" y="13660"/>
                  <a:pt x="17084" y="13697"/>
                </a:cubicBezTo>
                <a:cubicBezTo>
                  <a:pt x="17082" y="13728"/>
                  <a:pt x="17086" y="13753"/>
                  <a:pt x="17093" y="13783"/>
                </a:cubicBezTo>
              </a:path>
              <a:path w="1329" h="435">
                <a:moveTo>
                  <a:pt x="17246" y="13712"/>
                </a:moveTo>
                <a:cubicBezTo>
                  <a:pt x="17276" y="13707"/>
                  <a:pt x="17295" y="13699"/>
                  <a:pt x="17322" y="13688"/>
                </a:cubicBezTo>
                <a:cubicBezTo>
                  <a:pt x="17371" y="13669"/>
                  <a:pt x="17416" y="13646"/>
                  <a:pt x="17460" y="13617"/>
                </a:cubicBezTo>
                <a:cubicBezTo>
                  <a:pt x="17485" y="13600"/>
                  <a:pt x="17505" y="13583"/>
                  <a:pt x="17527" y="13562"/>
                </a:cubicBezTo>
                <a:cubicBezTo>
                  <a:pt x="17484" y="13573"/>
                  <a:pt x="17455" y="13596"/>
                  <a:pt x="17421" y="13627"/>
                </a:cubicBezTo>
                <a:cubicBezTo>
                  <a:pt x="17398" y="13648"/>
                  <a:pt x="17348" y="13692"/>
                  <a:pt x="17349" y="13728"/>
                </a:cubicBezTo>
                <a:cubicBezTo>
                  <a:pt x="17350" y="13764"/>
                  <a:pt x="17419" y="13751"/>
                  <a:pt x="17437" y="13749"/>
                </a:cubicBezTo>
                <a:cubicBezTo>
                  <a:pt x="17494" y="13744"/>
                  <a:pt x="17550" y="13736"/>
                  <a:pt x="17606" y="1372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646360" y="5262480"/>
            <a:ext cx="58680" cy="228600"/>
          </a:xfrm>
          <a:custGeom>
            <a:avLst/>
            <a:gdLst/>
            <a:ahLst/>
            <a:rect l="l" t="t" r="r" b="b"/>
            <a:pathLst>
              <a:path w="165" h="635">
                <a:moveTo>
                  <a:pt x="7514" y="14617"/>
                </a:moveTo>
                <a:cubicBezTo>
                  <a:pt x="7460" y="14639"/>
                  <a:pt x="7450" y="14669"/>
                  <a:pt x="7425" y="14721"/>
                </a:cubicBezTo>
                <a:cubicBezTo>
                  <a:pt x="7382" y="14811"/>
                  <a:pt x="7360" y="14906"/>
                  <a:pt x="7352" y="15006"/>
                </a:cubicBezTo>
                <a:cubicBezTo>
                  <a:pt x="7346" y="15081"/>
                  <a:pt x="7339" y="15168"/>
                  <a:pt x="7393" y="15228"/>
                </a:cubicBezTo>
                <a:cubicBezTo>
                  <a:pt x="7420" y="15246"/>
                  <a:pt x="7430" y="15252"/>
                  <a:pt x="7453" y="1525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536920" y="5208480"/>
            <a:ext cx="314280" cy="293760"/>
          </a:xfrm>
          <a:custGeom>
            <a:avLst/>
            <a:gdLst/>
            <a:ahLst/>
            <a:rect l="l" t="t" r="r" b="b"/>
            <a:pathLst>
              <a:path w="871" h="814">
                <a:moveTo>
                  <a:pt x="7091" y="14684"/>
                </a:moveTo>
                <a:cubicBezTo>
                  <a:pt x="7052" y="14665"/>
                  <a:pt x="7063" y="14698"/>
                  <a:pt x="7059" y="14731"/>
                </a:cubicBezTo>
                <a:cubicBezTo>
                  <a:pt x="7050" y="14805"/>
                  <a:pt x="7056" y="14878"/>
                  <a:pt x="7063" y="14953"/>
                </a:cubicBezTo>
                <a:cubicBezTo>
                  <a:pt x="7071" y="15036"/>
                  <a:pt x="7064" y="15212"/>
                  <a:pt x="7116" y="15283"/>
                </a:cubicBezTo>
                <a:cubicBezTo>
                  <a:pt x="7119" y="15283"/>
                  <a:pt x="7122" y="15282"/>
                  <a:pt x="7125" y="15282"/>
                </a:cubicBezTo>
                <a:cubicBezTo>
                  <a:pt x="7124" y="15228"/>
                  <a:pt x="7114" y="15176"/>
                  <a:pt x="7105" y="15123"/>
                </a:cubicBezTo>
                <a:cubicBezTo>
                  <a:pt x="7090" y="15032"/>
                  <a:pt x="7070" y="14943"/>
                  <a:pt x="7058" y="14852"/>
                </a:cubicBezTo>
                <a:cubicBezTo>
                  <a:pt x="7046" y="14760"/>
                  <a:pt x="7040" y="14668"/>
                  <a:pt x="7062" y="14577"/>
                </a:cubicBezTo>
                <a:cubicBezTo>
                  <a:pt x="7074" y="14525"/>
                  <a:pt x="7090" y="14506"/>
                  <a:pt x="7127" y="14472"/>
                </a:cubicBezTo>
                <a:cubicBezTo>
                  <a:pt x="7189" y="14478"/>
                  <a:pt x="7214" y="14505"/>
                  <a:pt x="7238" y="14566"/>
                </a:cubicBezTo>
                <a:cubicBezTo>
                  <a:pt x="7270" y="14646"/>
                  <a:pt x="7269" y="14741"/>
                  <a:pt x="7252" y="14824"/>
                </a:cubicBezTo>
                <a:cubicBezTo>
                  <a:pt x="7236" y="14899"/>
                  <a:pt x="7198" y="14972"/>
                  <a:pt x="7143" y="15026"/>
                </a:cubicBezTo>
                <a:cubicBezTo>
                  <a:pt x="7138" y="15031"/>
                  <a:pt x="7072" y="15096"/>
                  <a:pt x="7062" y="15062"/>
                </a:cubicBezTo>
                <a:cubicBezTo>
                  <a:pt x="7063" y="15044"/>
                  <a:pt x="7065" y="15037"/>
                  <a:pt x="7074" y="15027"/>
                </a:cubicBezTo>
              </a:path>
              <a:path w="871" h="814">
                <a:moveTo>
                  <a:pt x="7644" y="14897"/>
                </a:moveTo>
                <a:cubicBezTo>
                  <a:pt x="7619" y="14868"/>
                  <a:pt x="7599" y="14875"/>
                  <a:pt x="7575" y="14912"/>
                </a:cubicBezTo>
                <a:cubicBezTo>
                  <a:pt x="7539" y="14967"/>
                  <a:pt x="7514" y="15034"/>
                  <a:pt x="7500" y="15098"/>
                </a:cubicBezTo>
                <a:cubicBezTo>
                  <a:pt x="7490" y="15142"/>
                  <a:pt x="7484" y="15181"/>
                  <a:pt x="7516" y="15211"/>
                </a:cubicBezTo>
                <a:cubicBezTo>
                  <a:pt x="7563" y="15193"/>
                  <a:pt x="7589" y="15163"/>
                  <a:pt x="7623" y="15126"/>
                </a:cubicBezTo>
                <a:cubicBezTo>
                  <a:pt x="7638" y="15110"/>
                  <a:pt x="7659" y="15082"/>
                  <a:pt x="7685" y="15094"/>
                </a:cubicBezTo>
                <a:cubicBezTo>
                  <a:pt x="7709" y="15105"/>
                  <a:pt x="7721" y="15132"/>
                  <a:pt x="7739" y="15149"/>
                </a:cubicBezTo>
                <a:cubicBezTo>
                  <a:pt x="7759" y="15168"/>
                  <a:pt x="7767" y="15155"/>
                  <a:pt x="7779" y="15138"/>
                </a:cubicBezTo>
              </a:path>
              <a:path w="871" h="814">
                <a:moveTo>
                  <a:pt x="7774" y="14539"/>
                </a:moveTo>
                <a:cubicBezTo>
                  <a:pt x="7798" y="14515"/>
                  <a:pt x="7793" y="14527"/>
                  <a:pt x="7815" y="14568"/>
                </a:cubicBezTo>
                <a:cubicBezTo>
                  <a:pt x="7857" y="14648"/>
                  <a:pt x="7884" y="14736"/>
                  <a:pt x="7900" y="14825"/>
                </a:cubicBezTo>
                <a:cubicBezTo>
                  <a:pt x="7916" y="14916"/>
                  <a:pt x="7921" y="15005"/>
                  <a:pt x="7906" y="15097"/>
                </a:cubicBezTo>
                <a:cubicBezTo>
                  <a:pt x="7900" y="15132"/>
                  <a:pt x="7893" y="15154"/>
                  <a:pt x="7875" y="1518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14640" y="5295960"/>
            <a:ext cx="173160" cy="174600"/>
          </a:xfrm>
          <a:custGeom>
            <a:avLst/>
            <a:gdLst/>
            <a:ahLst/>
            <a:rect l="l" t="t" r="r" b="b"/>
            <a:pathLst>
              <a:path w="483" h="485">
                <a:moveTo>
                  <a:pt x="8416" y="14873"/>
                </a:moveTo>
                <a:cubicBezTo>
                  <a:pt x="8397" y="14912"/>
                  <a:pt x="8403" y="14941"/>
                  <a:pt x="8408" y="14984"/>
                </a:cubicBezTo>
                <a:cubicBezTo>
                  <a:pt x="8415" y="15044"/>
                  <a:pt x="8424" y="15103"/>
                  <a:pt x="8442" y="15161"/>
                </a:cubicBezTo>
                <a:cubicBezTo>
                  <a:pt x="8450" y="15187"/>
                  <a:pt x="8453" y="15189"/>
                  <a:pt x="8472" y="15181"/>
                </a:cubicBezTo>
              </a:path>
              <a:path w="483" h="485">
                <a:moveTo>
                  <a:pt x="8388" y="14774"/>
                </a:moveTo>
                <a:cubicBezTo>
                  <a:pt x="8376" y="14740"/>
                  <a:pt x="8364" y="14732"/>
                  <a:pt x="8397" y="14720"/>
                </a:cubicBezTo>
                <a:cubicBezTo>
                  <a:pt x="8416" y="14711"/>
                  <a:pt x="8424" y="14710"/>
                  <a:pt x="8439" y="14721"/>
                </a:cubicBezTo>
              </a:path>
              <a:path w="483" h="485">
                <a:moveTo>
                  <a:pt x="8612" y="14986"/>
                </a:moveTo>
                <a:cubicBezTo>
                  <a:pt x="8607" y="15005"/>
                  <a:pt x="8602" y="15018"/>
                  <a:pt x="8593" y="15036"/>
                </a:cubicBezTo>
                <a:cubicBezTo>
                  <a:pt x="8628" y="15016"/>
                  <a:pt x="8658" y="15010"/>
                  <a:pt x="8700" y="15014"/>
                </a:cubicBezTo>
                <a:cubicBezTo>
                  <a:pt x="8738" y="15017"/>
                  <a:pt x="8791" y="15030"/>
                  <a:pt x="8809" y="15070"/>
                </a:cubicBezTo>
                <a:cubicBezTo>
                  <a:pt x="8828" y="15112"/>
                  <a:pt x="8786" y="15149"/>
                  <a:pt x="8755" y="15168"/>
                </a:cubicBezTo>
                <a:cubicBezTo>
                  <a:pt x="8718" y="15191"/>
                  <a:pt x="8655" y="15208"/>
                  <a:pt x="8612" y="15191"/>
                </a:cubicBezTo>
                <a:cubicBezTo>
                  <a:pt x="8579" y="15177"/>
                  <a:pt x="8577" y="15146"/>
                  <a:pt x="8569" y="15117"/>
                </a:cubicBezTo>
              </a:path>
              <a:path w="483" h="485">
                <a:moveTo>
                  <a:pt x="8670" y="14870"/>
                </a:moveTo>
                <a:cubicBezTo>
                  <a:pt x="8691" y="14858"/>
                  <a:pt x="8709" y="14855"/>
                  <a:pt x="8730" y="14846"/>
                </a:cubicBezTo>
                <a:cubicBezTo>
                  <a:pt x="8762" y="14833"/>
                  <a:pt x="8793" y="14825"/>
                  <a:pt x="8825" y="14814"/>
                </a:cubicBezTo>
                <a:cubicBezTo>
                  <a:pt x="8835" y="14810"/>
                  <a:pt x="8845" y="14807"/>
                  <a:pt x="8855" y="1480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300480" y="5235480"/>
            <a:ext cx="422280" cy="201600"/>
          </a:xfrm>
          <a:custGeom>
            <a:avLst/>
            <a:gdLst/>
            <a:ahLst/>
            <a:rect l="l" t="t" r="r" b="b"/>
            <a:pathLst>
              <a:path w="1176" h="560">
                <a:moveTo>
                  <a:pt x="9167" y="14542"/>
                </a:moveTo>
                <a:cubicBezTo>
                  <a:pt x="9186" y="14591"/>
                  <a:pt x="9197" y="14645"/>
                  <a:pt x="9208" y="14697"/>
                </a:cubicBezTo>
                <a:cubicBezTo>
                  <a:pt x="9230" y="14806"/>
                  <a:pt x="9248" y="14916"/>
                  <a:pt x="9262" y="15027"/>
                </a:cubicBezTo>
                <a:cubicBezTo>
                  <a:pt x="9266" y="15067"/>
                  <a:pt x="9268" y="15076"/>
                  <a:pt x="9266" y="15101"/>
                </a:cubicBezTo>
              </a:path>
              <a:path w="1176" h="560">
                <a:moveTo>
                  <a:pt x="9174" y="14952"/>
                </a:moveTo>
                <a:cubicBezTo>
                  <a:pt x="9189" y="14906"/>
                  <a:pt x="9205" y="14890"/>
                  <a:pt x="9240" y="14856"/>
                </a:cubicBezTo>
                <a:cubicBezTo>
                  <a:pt x="9287" y="14811"/>
                  <a:pt x="9338" y="14777"/>
                  <a:pt x="9395" y="14745"/>
                </a:cubicBezTo>
                <a:cubicBezTo>
                  <a:pt x="9423" y="14730"/>
                  <a:pt x="9464" y="14702"/>
                  <a:pt x="9498" y="14712"/>
                </a:cubicBezTo>
                <a:cubicBezTo>
                  <a:pt x="9523" y="14719"/>
                  <a:pt x="9502" y="14798"/>
                  <a:pt x="9501" y="14811"/>
                </a:cubicBezTo>
                <a:cubicBezTo>
                  <a:pt x="9496" y="14870"/>
                  <a:pt x="9496" y="14924"/>
                  <a:pt x="9503" y="14983"/>
                </a:cubicBezTo>
                <a:cubicBezTo>
                  <a:pt x="9507" y="15019"/>
                  <a:pt x="9512" y="15050"/>
                  <a:pt x="9530" y="15081"/>
                </a:cubicBezTo>
                <a:cubicBezTo>
                  <a:pt x="9558" y="15056"/>
                  <a:pt x="9554" y="15026"/>
                  <a:pt x="9561" y="14987"/>
                </a:cubicBezTo>
                <a:cubicBezTo>
                  <a:pt x="9572" y="14929"/>
                  <a:pt x="9582" y="14872"/>
                  <a:pt x="9598" y="14815"/>
                </a:cubicBezTo>
                <a:cubicBezTo>
                  <a:pt x="9607" y="14784"/>
                  <a:pt x="9624" y="14731"/>
                  <a:pt x="9650" y="14708"/>
                </a:cubicBezTo>
                <a:cubicBezTo>
                  <a:pt x="9666" y="14701"/>
                  <a:pt x="9670" y="14698"/>
                  <a:pt x="9681" y="14695"/>
                </a:cubicBezTo>
              </a:path>
              <a:path w="1176" h="560">
                <a:moveTo>
                  <a:pt x="9791" y="14750"/>
                </a:moveTo>
                <a:cubicBezTo>
                  <a:pt x="9780" y="14768"/>
                  <a:pt x="9766" y="14793"/>
                  <a:pt x="9764" y="14815"/>
                </a:cubicBezTo>
                <a:cubicBezTo>
                  <a:pt x="9759" y="14856"/>
                  <a:pt x="9760" y="14902"/>
                  <a:pt x="9766" y="14943"/>
                </a:cubicBezTo>
                <a:cubicBezTo>
                  <a:pt x="9769" y="14966"/>
                  <a:pt x="9776" y="14983"/>
                  <a:pt x="9787" y="15003"/>
                </a:cubicBezTo>
                <a:cubicBezTo>
                  <a:pt x="9815" y="14993"/>
                  <a:pt x="9824" y="14969"/>
                  <a:pt x="9838" y="14942"/>
                </a:cubicBezTo>
                <a:cubicBezTo>
                  <a:pt x="9864" y="14891"/>
                  <a:pt x="9881" y="14834"/>
                  <a:pt x="9911" y="14785"/>
                </a:cubicBezTo>
                <a:cubicBezTo>
                  <a:pt x="9914" y="14781"/>
                  <a:pt x="9918" y="14776"/>
                  <a:pt x="9921" y="14772"/>
                </a:cubicBezTo>
                <a:cubicBezTo>
                  <a:pt x="9944" y="14804"/>
                  <a:pt x="9937" y="14841"/>
                  <a:pt x="9939" y="14882"/>
                </a:cubicBezTo>
                <a:cubicBezTo>
                  <a:pt x="9941" y="14930"/>
                  <a:pt x="9939" y="14990"/>
                  <a:pt x="9964" y="15033"/>
                </a:cubicBezTo>
                <a:cubicBezTo>
                  <a:pt x="9986" y="15069"/>
                  <a:pt x="10011" y="15049"/>
                  <a:pt x="10038" y="15034"/>
                </a:cubicBezTo>
              </a:path>
              <a:path w="1176" h="560">
                <a:moveTo>
                  <a:pt x="10199" y="14919"/>
                </a:moveTo>
                <a:cubicBezTo>
                  <a:pt x="10212" y="14900"/>
                  <a:pt x="10234" y="14874"/>
                  <a:pt x="10243" y="14853"/>
                </a:cubicBezTo>
                <a:cubicBezTo>
                  <a:pt x="10254" y="14828"/>
                  <a:pt x="10272" y="14791"/>
                  <a:pt x="10275" y="14763"/>
                </a:cubicBezTo>
                <a:cubicBezTo>
                  <a:pt x="10274" y="14760"/>
                  <a:pt x="10274" y="14756"/>
                  <a:pt x="10273" y="14753"/>
                </a:cubicBezTo>
                <a:cubicBezTo>
                  <a:pt x="10245" y="14780"/>
                  <a:pt x="10230" y="14812"/>
                  <a:pt x="10218" y="14850"/>
                </a:cubicBezTo>
                <a:cubicBezTo>
                  <a:pt x="10205" y="14892"/>
                  <a:pt x="10198" y="14951"/>
                  <a:pt x="10217" y="14993"/>
                </a:cubicBezTo>
                <a:cubicBezTo>
                  <a:pt x="10235" y="15033"/>
                  <a:pt x="10271" y="15034"/>
                  <a:pt x="10309" y="15025"/>
                </a:cubicBezTo>
                <a:cubicBezTo>
                  <a:pt x="10320" y="15021"/>
                  <a:pt x="10331" y="15018"/>
                  <a:pt x="10342" y="1501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006800" y="5211720"/>
            <a:ext cx="387360" cy="247680"/>
          </a:xfrm>
          <a:custGeom>
            <a:avLst/>
            <a:gdLst/>
            <a:ahLst/>
            <a:rect l="l" t="t" r="r" b="b"/>
            <a:pathLst>
              <a:path w="1077" h="686">
                <a:moveTo>
                  <a:pt x="11213" y="14853"/>
                </a:moveTo>
                <a:cubicBezTo>
                  <a:pt x="11194" y="14856"/>
                  <a:pt x="11168" y="14862"/>
                  <a:pt x="11156" y="14880"/>
                </a:cubicBezTo>
                <a:cubicBezTo>
                  <a:pt x="11147" y="14893"/>
                  <a:pt x="11139" y="14914"/>
                  <a:pt x="11143" y="14930"/>
                </a:cubicBezTo>
                <a:cubicBezTo>
                  <a:pt x="11147" y="14941"/>
                  <a:pt x="11149" y="14946"/>
                  <a:pt x="11154" y="14953"/>
                </a:cubicBezTo>
                <a:cubicBezTo>
                  <a:pt x="11172" y="14940"/>
                  <a:pt x="11167" y="14939"/>
                  <a:pt x="11163" y="14914"/>
                </a:cubicBezTo>
              </a:path>
              <a:path w="1077" h="686">
                <a:moveTo>
                  <a:pt x="11293" y="14863"/>
                </a:moveTo>
                <a:cubicBezTo>
                  <a:pt x="11283" y="14841"/>
                  <a:pt x="11269" y="14801"/>
                  <a:pt x="11237" y="14801"/>
                </a:cubicBezTo>
                <a:cubicBezTo>
                  <a:pt x="11199" y="14801"/>
                  <a:pt x="11173" y="14864"/>
                  <a:pt x="11162" y="14891"/>
                </a:cubicBezTo>
                <a:cubicBezTo>
                  <a:pt x="11137" y="14952"/>
                  <a:pt x="11127" y="15020"/>
                  <a:pt x="11129" y="15086"/>
                </a:cubicBezTo>
                <a:cubicBezTo>
                  <a:pt x="11130" y="15116"/>
                  <a:pt x="11136" y="15174"/>
                  <a:pt x="11181" y="15160"/>
                </a:cubicBezTo>
                <a:cubicBezTo>
                  <a:pt x="11227" y="15146"/>
                  <a:pt x="11257" y="15086"/>
                  <a:pt x="11278" y="15048"/>
                </a:cubicBezTo>
                <a:cubicBezTo>
                  <a:pt x="11300" y="15009"/>
                  <a:pt x="11316" y="14954"/>
                  <a:pt x="11349" y="14922"/>
                </a:cubicBezTo>
                <a:cubicBezTo>
                  <a:pt x="11353" y="14920"/>
                  <a:pt x="11357" y="14918"/>
                  <a:pt x="11361" y="14916"/>
                </a:cubicBezTo>
                <a:cubicBezTo>
                  <a:pt x="11383" y="14947"/>
                  <a:pt x="11386" y="14981"/>
                  <a:pt x="11393" y="15019"/>
                </a:cubicBezTo>
                <a:cubicBezTo>
                  <a:pt x="11400" y="15055"/>
                  <a:pt x="11409" y="15090"/>
                  <a:pt x="11420" y="15125"/>
                </a:cubicBezTo>
              </a:path>
              <a:path w="1077" h="686">
                <a:moveTo>
                  <a:pt x="11511" y="14960"/>
                </a:moveTo>
                <a:cubicBezTo>
                  <a:pt x="11537" y="14954"/>
                  <a:pt x="11527" y="14990"/>
                  <a:pt x="11530" y="15013"/>
                </a:cubicBezTo>
                <a:cubicBezTo>
                  <a:pt x="11535" y="15052"/>
                  <a:pt x="11535" y="15092"/>
                  <a:pt x="11539" y="15131"/>
                </a:cubicBezTo>
                <a:cubicBezTo>
                  <a:pt x="11540" y="15135"/>
                  <a:pt x="11541" y="15138"/>
                  <a:pt x="11542" y="15142"/>
                </a:cubicBezTo>
                <a:cubicBezTo>
                  <a:pt x="11559" y="15110"/>
                  <a:pt x="11564" y="15075"/>
                  <a:pt x="11575" y="15041"/>
                </a:cubicBezTo>
                <a:cubicBezTo>
                  <a:pt x="11586" y="15008"/>
                  <a:pt x="11599" y="14954"/>
                  <a:pt x="11629" y="14932"/>
                </a:cubicBezTo>
                <a:cubicBezTo>
                  <a:pt x="11660" y="14909"/>
                  <a:pt x="11684" y="14954"/>
                  <a:pt x="11698" y="14973"/>
                </a:cubicBezTo>
                <a:cubicBezTo>
                  <a:pt x="11721" y="15003"/>
                  <a:pt x="11747" y="15044"/>
                  <a:pt x="11780" y="15062"/>
                </a:cubicBezTo>
                <a:cubicBezTo>
                  <a:pt x="11788" y="15065"/>
                  <a:pt x="11797" y="15067"/>
                  <a:pt x="11805" y="15070"/>
                </a:cubicBezTo>
              </a:path>
              <a:path w="1077" h="686">
                <a:moveTo>
                  <a:pt x="12036" y="14844"/>
                </a:moveTo>
                <a:cubicBezTo>
                  <a:pt x="11984" y="14860"/>
                  <a:pt x="11935" y="14896"/>
                  <a:pt x="11900" y="14939"/>
                </a:cubicBezTo>
                <a:cubicBezTo>
                  <a:pt x="11865" y="14982"/>
                  <a:pt x="11823" y="15053"/>
                  <a:pt x="11822" y="15110"/>
                </a:cubicBezTo>
                <a:cubicBezTo>
                  <a:pt x="11824" y="15118"/>
                  <a:pt x="11827" y="15127"/>
                  <a:pt x="11829" y="15135"/>
                </a:cubicBezTo>
                <a:cubicBezTo>
                  <a:pt x="11878" y="15144"/>
                  <a:pt x="11905" y="15111"/>
                  <a:pt x="11937" y="15073"/>
                </a:cubicBezTo>
                <a:cubicBezTo>
                  <a:pt x="12008" y="14991"/>
                  <a:pt x="12054" y="14887"/>
                  <a:pt x="12087" y="14785"/>
                </a:cubicBezTo>
                <a:cubicBezTo>
                  <a:pt x="12113" y="14704"/>
                  <a:pt x="12136" y="14619"/>
                  <a:pt x="12149" y="14535"/>
                </a:cubicBezTo>
                <a:cubicBezTo>
                  <a:pt x="12153" y="14503"/>
                  <a:pt x="12154" y="14496"/>
                  <a:pt x="12155" y="14477"/>
                </a:cubicBezTo>
                <a:cubicBezTo>
                  <a:pt x="12125" y="14555"/>
                  <a:pt x="12104" y="14634"/>
                  <a:pt x="12096" y="14718"/>
                </a:cubicBezTo>
                <a:cubicBezTo>
                  <a:pt x="12086" y="14828"/>
                  <a:pt x="12082" y="14954"/>
                  <a:pt x="12129" y="15057"/>
                </a:cubicBezTo>
                <a:cubicBezTo>
                  <a:pt x="12161" y="15103"/>
                  <a:pt x="12170" y="15118"/>
                  <a:pt x="12205" y="1513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597560" y="5197320"/>
            <a:ext cx="428400" cy="244800"/>
          </a:xfrm>
          <a:custGeom>
            <a:avLst/>
            <a:gdLst/>
            <a:ahLst/>
            <a:rect l="l" t="t" r="r" b="b"/>
            <a:pathLst>
              <a:path w="1191" h="678">
                <a:moveTo>
                  <a:pt x="13044" y="14584"/>
                </a:moveTo>
                <a:cubicBezTo>
                  <a:pt x="13032" y="14557"/>
                  <a:pt x="13017" y="14500"/>
                  <a:pt x="12979" y="14500"/>
                </a:cubicBezTo>
                <a:cubicBezTo>
                  <a:pt x="12916" y="14499"/>
                  <a:pt x="12872" y="14603"/>
                  <a:pt x="12851" y="14647"/>
                </a:cubicBezTo>
                <a:cubicBezTo>
                  <a:pt x="12802" y="14748"/>
                  <a:pt x="12766" y="14867"/>
                  <a:pt x="12771" y="14981"/>
                </a:cubicBezTo>
                <a:cubicBezTo>
                  <a:pt x="12774" y="15054"/>
                  <a:pt x="12803" y="15132"/>
                  <a:pt x="12890" y="15112"/>
                </a:cubicBezTo>
                <a:cubicBezTo>
                  <a:pt x="12978" y="15092"/>
                  <a:pt x="13044" y="15002"/>
                  <a:pt x="13088" y="14930"/>
                </a:cubicBezTo>
                <a:cubicBezTo>
                  <a:pt x="13145" y="14837"/>
                  <a:pt x="13208" y="14694"/>
                  <a:pt x="13182" y="14582"/>
                </a:cubicBezTo>
                <a:cubicBezTo>
                  <a:pt x="13171" y="14535"/>
                  <a:pt x="13142" y="14536"/>
                  <a:pt x="13103" y="14540"/>
                </a:cubicBezTo>
              </a:path>
              <a:path w="1191" h="678">
                <a:moveTo>
                  <a:pt x="12884" y="14792"/>
                </a:moveTo>
                <a:cubicBezTo>
                  <a:pt x="12896" y="14843"/>
                  <a:pt x="12910" y="14880"/>
                  <a:pt x="12944" y="14921"/>
                </a:cubicBezTo>
                <a:cubicBezTo>
                  <a:pt x="12982" y="14966"/>
                  <a:pt x="13032" y="15003"/>
                  <a:pt x="13085" y="15028"/>
                </a:cubicBezTo>
                <a:cubicBezTo>
                  <a:pt x="13133" y="15051"/>
                  <a:pt x="13177" y="15063"/>
                  <a:pt x="13230" y="15065"/>
                </a:cubicBezTo>
              </a:path>
              <a:path w="1191" h="678">
                <a:moveTo>
                  <a:pt x="13502" y="14486"/>
                </a:moveTo>
                <a:cubicBezTo>
                  <a:pt x="13504" y="14465"/>
                  <a:pt x="13506" y="14461"/>
                  <a:pt x="13499" y="14449"/>
                </a:cubicBezTo>
                <a:cubicBezTo>
                  <a:pt x="13472" y="14468"/>
                  <a:pt x="13455" y="14490"/>
                  <a:pt x="13436" y="14529"/>
                </a:cubicBezTo>
                <a:cubicBezTo>
                  <a:pt x="13395" y="14612"/>
                  <a:pt x="13367" y="14708"/>
                  <a:pt x="13357" y="14800"/>
                </a:cubicBezTo>
                <a:cubicBezTo>
                  <a:pt x="13348" y="14881"/>
                  <a:pt x="13338" y="14979"/>
                  <a:pt x="13391" y="15048"/>
                </a:cubicBezTo>
                <a:cubicBezTo>
                  <a:pt x="13422" y="15074"/>
                  <a:pt x="13432" y="15082"/>
                  <a:pt x="13460" y="15086"/>
                </a:cubicBezTo>
              </a:path>
              <a:path w="1191" h="678">
                <a:moveTo>
                  <a:pt x="13705" y="14723"/>
                </a:moveTo>
                <a:cubicBezTo>
                  <a:pt x="13675" y="14686"/>
                  <a:pt x="13644" y="14704"/>
                  <a:pt x="13615" y="14740"/>
                </a:cubicBezTo>
                <a:cubicBezTo>
                  <a:pt x="13579" y="14785"/>
                  <a:pt x="13550" y="14851"/>
                  <a:pt x="13536" y="14907"/>
                </a:cubicBezTo>
                <a:cubicBezTo>
                  <a:pt x="13529" y="14938"/>
                  <a:pt x="13529" y="14958"/>
                  <a:pt x="13539" y="14985"/>
                </a:cubicBezTo>
                <a:cubicBezTo>
                  <a:pt x="13575" y="14979"/>
                  <a:pt x="13592" y="14955"/>
                  <a:pt x="13615" y="14926"/>
                </a:cubicBezTo>
                <a:cubicBezTo>
                  <a:pt x="13638" y="14897"/>
                  <a:pt x="13661" y="14847"/>
                  <a:pt x="13699" y="14834"/>
                </a:cubicBezTo>
                <a:cubicBezTo>
                  <a:pt x="13735" y="14821"/>
                  <a:pt x="13758" y="14865"/>
                  <a:pt x="13773" y="14888"/>
                </a:cubicBezTo>
                <a:cubicBezTo>
                  <a:pt x="13791" y="14914"/>
                  <a:pt x="13807" y="14940"/>
                  <a:pt x="13823" y="14967"/>
                </a:cubicBezTo>
              </a:path>
              <a:path w="1191" h="678">
                <a:moveTo>
                  <a:pt x="13871" y="14440"/>
                </a:moveTo>
                <a:cubicBezTo>
                  <a:pt x="13894" y="14463"/>
                  <a:pt x="13900" y="14483"/>
                  <a:pt x="13910" y="14526"/>
                </a:cubicBezTo>
                <a:cubicBezTo>
                  <a:pt x="13933" y="14622"/>
                  <a:pt x="13947" y="14721"/>
                  <a:pt x="13954" y="14819"/>
                </a:cubicBezTo>
                <a:cubicBezTo>
                  <a:pt x="13960" y="14898"/>
                  <a:pt x="13961" y="14977"/>
                  <a:pt x="13961" y="1505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315040" y="5170320"/>
            <a:ext cx="766800" cy="228600"/>
          </a:xfrm>
          <a:custGeom>
            <a:avLst/>
            <a:gdLst/>
            <a:ahLst/>
            <a:rect l="l" t="t" r="r" b="b"/>
            <a:pathLst>
              <a:path w="2130" h="633">
                <a:moveTo>
                  <a:pt x="14798" y="14660"/>
                </a:moveTo>
                <a:cubicBezTo>
                  <a:pt x="14771" y="14685"/>
                  <a:pt x="14782" y="14723"/>
                  <a:pt x="14778" y="14759"/>
                </a:cubicBezTo>
                <a:cubicBezTo>
                  <a:pt x="14772" y="14816"/>
                  <a:pt x="14760" y="14879"/>
                  <a:pt x="14765" y="14936"/>
                </a:cubicBezTo>
                <a:cubicBezTo>
                  <a:pt x="14768" y="14972"/>
                  <a:pt x="14769" y="14978"/>
                  <a:pt x="14793" y="14976"/>
                </a:cubicBezTo>
              </a:path>
              <a:path w="2130" h="633">
                <a:moveTo>
                  <a:pt x="14818" y="14575"/>
                </a:moveTo>
                <a:cubicBezTo>
                  <a:pt x="14820" y="14551"/>
                  <a:pt x="14824" y="14511"/>
                  <a:pt x="14859" y="14504"/>
                </a:cubicBezTo>
                <a:cubicBezTo>
                  <a:pt x="14888" y="14506"/>
                  <a:pt x="14897" y="14507"/>
                  <a:pt x="14916" y="14503"/>
                </a:cubicBezTo>
              </a:path>
              <a:path w="2130" h="633">
                <a:moveTo>
                  <a:pt x="15097" y="14665"/>
                </a:moveTo>
                <a:cubicBezTo>
                  <a:pt x="15074" y="14707"/>
                  <a:pt x="15055" y="14722"/>
                  <a:pt x="15019" y="14751"/>
                </a:cubicBezTo>
                <a:cubicBezTo>
                  <a:pt x="15003" y="14764"/>
                  <a:pt x="14991" y="14769"/>
                  <a:pt x="14975" y="14780"/>
                </a:cubicBezTo>
                <a:cubicBezTo>
                  <a:pt x="15001" y="14785"/>
                  <a:pt x="15026" y="14788"/>
                  <a:pt x="15051" y="14797"/>
                </a:cubicBezTo>
                <a:cubicBezTo>
                  <a:pt x="15091" y="14812"/>
                  <a:pt x="15133" y="14833"/>
                  <a:pt x="15160" y="14867"/>
                </a:cubicBezTo>
                <a:cubicBezTo>
                  <a:pt x="15179" y="14892"/>
                  <a:pt x="15192" y="14932"/>
                  <a:pt x="15174" y="14962"/>
                </a:cubicBezTo>
                <a:cubicBezTo>
                  <a:pt x="15161" y="14983"/>
                  <a:pt x="15136" y="15004"/>
                  <a:pt x="15112" y="14987"/>
                </a:cubicBezTo>
                <a:cubicBezTo>
                  <a:pt x="15099" y="14972"/>
                  <a:pt x="15095" y="14965"/>
                  <a:pt x="15095" y="14950"/>
                </a:cubicBezTo>
              </a:path>
              <a:path w="2130" h="633">
                <a:moveTo>
                  <a:pt x="15529" y="14363"/>
                </a:moveTo>
                <a:cubicBezTo>
                  <a:pt x="15519" y="14400"/>
                  <a:pt x="15511" y="14438"/>
                  <a:pt x="15502" y="14475"/>
                </a:cubicBezTo>
                <a:cubicBezTo>
                  <a:pt x="15484" y="14548"/>
                  <a:pt x="15481" y="14628"/>
                  <a:pt x="15486" y="14703"/>
                </a:cubicBezTo>
                <a:cubicBezTo>
                  <a:pt x="15490" y="14767"/>
                  <a:pt x="15504" y="14832"/>
                  <a:pt x="15515" y="14895"/>
                </a:cubicBezTo>
              </a:path>
              <a:path w="2130" h="633">
                <a:moveTo>
                  <a:pt x="15384" y="14707"/>
                </a:moveTo>
                <a:cubicBezTo>
                  <a:pt x="15358" y="14684"/>
                  <a:pt x="15418" y="14674"/>
                  <a:pt x="15454" y="14660"/>
                </a:cubicBezTo>
                <a:cubicBezTo>
                  <a:pt x="15510" y="14638"/>
                  <a:pt x="15575" y="14613"/>
                  <a:pt x="15634" y="14600"/>
                </a:cubicBezTo>
                <a:cubicBezTo>
                  <a:pt x="15665" y="14593"/>
                  <a:pt x="15694" y="14590"/>
                  <a:pt x="15725" y="14589"/>
                </a:cubicBezTo>
              </a:path>
              <a:path w="2130" h="633">
                <a:moveTo>
                  <a:pt x="15668" y="14739"/>
                </a:moveTo>
                <a:cubicBezTo>
                  <a:pt x="15669" y="14780"/>
                  <a:pt x="15672" y="14811"/>
                  <a:pt x="15681" y="14851"/>
                </a:cubicBezTo>
                <a:cubicBezTo>
                  <a:pt x="15687" y="14876"/>
                  <a:pt x="15692" y="14894"/>
                  <a:pt x="15713" y="14909"/>
                </a:cubicBezTo>
                <a:cubicBezTo>
                  <a:pt x="15733" y="14874"/>
                  <a:pt x="15739" y="14839"/>
                  <a:pt x="15748" y="14799"/>
                </a:cubicBezTo>
                <a:cubicBezTo>
                  <a:pt x="15759" y="14749"/>
                  <a:pt x="15778" y="14701"/>
                  <a:pt x="15811" y="14662"/>
                </a:cubicBezTo>
                <a:cubicBezTo>
                  <a:pt x="15816" y="14656"/>
                  <a:pt x="15821" y="14651"/>
                  <a:pt x="15826" y="14645"/>
                </a:cubicBezTo>
              </a:path>
              <a:path w="2130" h="633">
                <a:moveTo>
                  <a:pt x="15968" y="14653"/>
                </a:moveTo>
                <a:cubicBezTo>
                  <a:pt x="15960" y="14679"/>
                  <a:pt x="15951" y="14716"/>
                  <a:pt x="15954" y="14744"/>
                </a:cubicBezTo>
                <a:cubicBezTo>
                  <a:pt x="15957" y="14777"/>
                  <a:pt x="15968" y="14828"/>
                  <a:pt x="15994" y="14851"/>
                </a:cubicBezTo>
                <a:cubicBezTo>
                  <a:pt x="16022" y="14875"/>
                  <a:pt x="16053" y="14847"/>
                  <a:pt x="16072" y="14827"/>
                </a:cubicBezTo>
                <a:cubicBezTo>
                  <a:pt x="16103" y="14794"/>
                  <a:pt x="16124" y="14755"/>
                  <a:pt x="16149" y="14718"/>
                </a:cubicBezTo>
                <a:cubicBezTo>
                  <a:pt x="16160" y="14701"/>
                  <a:pt x="16167" y="14691"/>
                  <a:pt x="16184" y="14682"/>
                </a:cubicBezTo>
                <a:cubicBezTo>
                  <a:pt x="16198" y="14705"/>
                  <a:pt x="16208" y="14734"/>
                  <a:pt x="16224" y="14756"/>
                </a:cubicBezTo>
                <a:cubicBezTo>
                  <a:pt x="16229" y="14761"/>
                  <a:pt x="16235" y="14767"/>
                  <a:pt x="16240" y="14772"/>
                </a:cubicBezTo>
              </a:path>
              <a:path w="2130" h="633">
                <a:moveTo>
                  <a:pt x="16457" y="14744"/>
                </a:moveTo>
                <a:cubicBezTo>
                  <a:pt x="16461" y="14730"/>
                  <a:pt x="16476" y="14719"/>
                  <a:pt x="16491" y="14708"/>
                </a:cubicBezTo>
                <a:cubicBezTo>
                  <a:pt x="16523" y="14685"/>
                  <a:pt x="16558" y="14668"/>
                  <a:pt x="16589" y="14644"/>
                </a:cubicBezTo>
                <a:cubicBezTo>
                  <a:pt x="16600" y="14636"/>
                  <a:pt x="16603" y="14634"/>
                  <a:pt x="16607" y="14626"/>
                </a:cubicBezTo>
                <a:cubicBezTo>
                  <a:pt x="16578" y="14628"/>
                  <a:pt x="16556" y="14643"/>
                  <a:pt x="16535" y="14665"/>
                </a:cubicBezTo>
                <a:cubicBezTo>
                  <a:pt x="16504" y="14697"/>
                  <a:pt x="16477" y="14738"/>
                  <a:pt x="16473" y="14784"/>
                </a:cubicBezTo>
                <a:cubicBezTo>
                  <a:pt x="16469" y="14832"/>
                  <a:pt x="16504" y="14853"/>
                  <a:pt x="16547" y="14858"/>
                </a:cubicBezTo>
                <a:cubicBezTo>
                  <a:pt x="16589" y="14863"/>
                  <a:pt x="16631" y="14851"/>
                  <a:pt x="16671" y="14844"/>
                </a:cubicBezTo>
              </a:path>
              <a:path w="2130" h="633">
                <a:moveTo>
                  <a:pt x="16894" y="14942"/>
                </a:moveTo>
                <a:cubicBezTo>
                  <a:pt x="16875" y="14928"/>
                  <a:pt x="16866" y="14909"/>
                  <a:pt x="16848" y="14895"/>
                </a:cubicBezTo>
                <a:cubicBezTo>
                  <a:pt x="16836" y="14889"/>
                  <a:pt x="16832" y="14886"/>
                  <a:pt x="16822" y="1488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811920" y="5688000"/>
            <a:ext cx="2157480" cy="112680"/>
          </a:xfrm>
          <a:custGeom>
            <a:avLst/>
            <a:gdLst/>
            <a:ahLst/>
            <a:rect l="l" t="t" r="r" b="b"/>
            <a:pathLst>
              <a:path w="5995" h="315">
                <a:moveTo>
                  <a:pt x="18922" y="16087"/>
                </a:moveTo>
                <a:cubicBezTo>
                  <a:pt x="18933" y="16100"/>
                  <a:pt x="18937" y="16102"/>
                  <a:pt x="18934" y="16112"/>
                </a:cubicBezTo>
              </a:path>
              <a:path w="5995" h="315">
                <a:moveTo>
                  <a:pt x="24256" y="15845"/>
                </a:moveTo>
                <a:cubicBezTo>
                  <a:pt x="24282" y="15928"/>
                  <a:pt x="24315" y="15971"/>
                  <a:pt x="24412" y="15982"/>
                </a:cubicBezTo>
                <a:cubicBezTo>
                  <a:pt x="24432" y="15981"/>
                  <a:pt x="24451" y="15981"/>
                  <a:pt x="24471" y="15980"/>
                </a:cubicBezTo>
              </a:path>
              <a:path w="5995" h="315">
                <a:moveTo>
                  <a:pt x="24667" y="15866"/>
                </a:moveTo>
                <a:cubicBezTo>
                  <a:pt x="24622" y="15959"/>
                  <a:pt x="24639" y="15994"/>
                  <a:pt x="24755" y="16010"/>
                </a:cubicBezTo>
                <a:cubicBezTo>
                  <a:pt x="24775" y="16011"/>
                  <a:pt x="24795" y="16011"/>
                  <a:pt x="24815" y="16012"/>
                </a:cubicBezTo>
              </a:path>
              <a:path w="5995" h="315">
                <a:moveTo>
                  <a:pt x="24916" y="15829"/>
                </a:moveTo>
                <a:cubicBezTo>
                  <a:pt x="24829" y="15805"/>
                  <a:pt x="24772" y="15860"/>
                  <a:pt x="24735" y="15962"/>
                </a:cubicBezTo>
                <a:cubicBezTo>
                  <a:pt x="24723" y="16024"/>
                  <a:pt x="24719" y="16042"/>
                  <a:pt x="24717" y="1608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39880" y="5621400"/>
            <a:ext cx="711360" cy="263520"/>
          </a:xfrm>
          <a:custGeom>
            <a:avLst/>
            <a:gdLst/>
            <a:ahLst/>
            <a:rect l="l" t="t" r="r" b="b"/>
            <a:pathLst>
              <a:path w="1978" h="734">
                <a:moveTo>
                  <a:pt x="4845" y="15777"/>
                </a:moveTo>
                <a:cubicBezTo>
                  <a:pt x="4824" y="15782"/>
                  <a:pt x="4845" y="15792"/>
                  <a:pt x="4859" y="15830"/>
                </a:cubicBezTo>
                <a:cubicBezTo>
                  <a:pt x="4886" y="15905"/>
                  <a:pt x="4907" y="15982"/>
                  <a:pt x="4932" y="16057"/>
                </a:cubicBezTo>
                <a:cubicBezTo>
                  <a:pt x="4959" y="16137"/>
                  <a:pt x="4980" y="16228"/>
                  <a:pt x="5023" y="16301"/>
                </a:cubicBezTo>
                <a:cubicBezTo>
                  <a:pt x="5042" y="16325"/>
                  <a:pt x="5046" y="16332"/>
                  <a:pt x="5067" y="16335"/>
                </a:cubicBezTo>
                <a:cubicBezTo>
                  <a:pt x="5113" y="16298"/>
                  <a:pt x="5124" y="16247"/>
                  <a:pt x="5139" y="16189"/>
                </a:cubicBezTo>
                <a:cubicBezTo>
                  <a:pt x="5164" y="16092"/>
                  <a:pt x="5178" y="15993"/>
                  <a:pt x="5196" y="15895"/>
                </a:cubicBezTo>
                <a:cubicBezTo>
                  <a:pt x="5205" y="15846"/>
                  <a:pt x="5207" y="15804"/>
                  <a:pt x="5206" y="15756"/>
                </a:cubicBezTo>
              </a:path>
              <a:path w="1978" h="734">
                <a:moveTo>
                  <a:pt x="4979" y="16154"/>
                </a:moveTo>
                <a:cubicBezTo>
                  <a:pt x="4993" y="16124"/>
                  <a:pt x="5006" y="16107"/>
                  <a:pt x="5033" y="16088"/>
                </a:cubicBezTo>
                <a:cubicBezTo>
                  <a:pt x="5074" y="16059"/>
                  <a:pt x="5111" y="16046"/>
                  <a:pt x="5159" y="16037"/>
                </a:cubicBezTo>
                <a:cubicBezTo>
                  <a:pt x="5190" y="16031"/>
                  <a:pt x="5220" y="16028"/>
                  <a:pt x="5252" y="16027"/>
                </a:cubicBezTo>
              </a:path>
              <a:path w="1978" h="734">
                <a:moveTo>
                  <a:pt x="5583" y="16134"/>
                </a:moveTo>
                <a:cubicBezTo>
                  <a:pt x="5577" y="16098"/>
                  <a:pt x="5571" y="16064"/>
                  <a:pt x="5558" y="16030"/>
                </a:cubicBezTo>
                <a:cubicBezTo>
                  <a:pt x="5551" y="16013"/>
                  <a:pt x="5548" y="16006"/>
                  <a:pt x="5538" y="15996"/>
                </a:cubicBezTo>
                <a:cubicBezTo>
                  <a:pt x="5496" y="16003"/>
                  <a:pt x="5489" y="16026"/>
                  <a:pt x="5473" y="16069"/>
                </a:cubicBezTo>
                <a:cubicBezTo>
                  <a:pt x="5452" y="16126"/>
                  <a:pt x="5429" y="16209"/>
                  <a:pt x="5448" y="16269"/>
                </a:cubicBezTo>
                <a:cubicBezTo>
                  <a:pt x="5459" y="16284"/>
                  <a:pt x="5461" y="16290"/>
                  <a:pt x="5476" y="16287"/>
                </a:cubicBezTo>
                <a:cubicBezTo>
                  <a:pt x="5518" y="16258"/>
                  <a:pt x="5542" y="16220"/>
                  <a:pt x="5569" y="16176"/>
                </a:cubicBezTo>
                <a:cubicBezTo>
                  <a:pt x="5590" y="16141"/>
                  <a:pt x="5610" y="16083"/>
                  <a:pt x="5644" y="16058"/>
                </a:cubicBezTo>
                <a:cubicBezTo>
                  <a:pt x="5648" y="16057"/>
                  <a:pt x="5653" y="16056"/>
                  <a:pt x="5657" y="16055"/>
                </a:cubicBezTo>
                <a:cubicBezTo>
                  <a:pt x="5678" y="16089"/>
                  <a:pt x="5677" y="16124"/>
                  <a:pt x="5683" y="16164"/>
                </a:cubicBezTo>
                <a:cubicBezTo>
                  <a:pt x="5691" y="16217"/>
                  <a:pt x="5700" y="16276"/>
                  <a:pt x="5720" y="16326"/>
                </a:cubicBezTo>
                <a:cubicBezTo>
                  <a:pt x="5724" y="16333"/>
                  <a:pt x="5727" y="16339"/>
                  <a:pt x="5731" y="16346"/>
                </a:cubicBezTo>
              </a:path>
              <a:path w="1978" h="734">
                <a:moveTo>
                  <a:pt x="5919" y="15878"/>
                </a:moveTo>
                <a:cubicBezTo>
                  <a:pt x="5908" y="15860"/>
                  <a:pt x="5906" y="15856"/>
                  <a:pt x="5894" y="15849"/>
                </a:cubicBezTo>
                <a:cubicBezTo>
                  <a:pt x="5858" y="15861"/>
                  <a:pt x="5853" y="15894"/>
                  <a:pt x="5850" y="15932"/>
                </a:cubicBezTo>
                <a:cubicBezTo>
                  <a:pt x="5841" y="16027"/>
                  <a:pt x="5861" y="16124"/>
                  <a:pt x="5883" y="16215"/>
                </a:cubicBezTo>
                <a:cubicBezTo>
                  <a:pt x="5891" y="16246"/>
                  <a:pt x="5901" y="16266"/>
                  <a:pt x="5913" y="16292"/>
                </a:cubicBezTo>
                <a:cubicBezTo>
                  <a:pt x="5930" y="16230"/>
                  <a:pt x="5920" y="16176"/>
                  <a:pt x="5919" y="16111"/>
                </a:cubicBezTo>
                <a:cubicBezTo>
                  <a:pt x="5917" y="16011"/>
                  <a:pt x="5924" y="15908"/>
                  <a:pt x="5941" y="15810"/>
                </a:cubicBezTo>
                <a:cubicBezTo>
                  <a:pt x="5951" y="15751"/>
                  <a:pt x="5964" y="15658"/>
                  <a:pt x="6017" y="15620"/>
                </a:cubicBezTo>
                <a:cubicBezTo>
                  <a:pt x="6025" y="15618"/>
                  <a:pt x="6033" y="15615"/>
                  <a:pt x="6041" y="15613"/>
                </a:cubicBezTo>
                <a:cubicBezTo>
                  <a:pt x="6085" y="15644"/>
                  <a:pt x="6101" y="15683"/>
                  <a:pt x="6106" y="15739"/>
                </a:cubicBezTo>
                <a:cubicBezTo>
                  <a:pt x="6113" y="15813"/>
                  <a:pt x="6090" y="15887"/>
                  <a:pt x="6048" y="15948"/>
                </a:cubicBezTo>
                <a:cubicBezTo>
                  <a:pt x="6023" y="15985"/>
                  <a:pt x="5976" y="16033"/>
                  <a:pt x="5929" y="16041"/>
                </a:cubicBezTo>
                <a:cubicBezTo>
                  <a:pt x="5876" y="16051"/>
                  <a:pt x="5944" y="15989"/>
                  <a:pt x="5947" y="15986"/>
                </a:cubicBezTo>
              </a:path>
              <a:path w="1978" h="734">
                <a:moveTo>
                  <a:pt x="6400" y="15778"/>
                </a:moveTo>
                <a:cubicBezTo>
                  <a:pt x="6402" y="15761"/>
                  <a:pt x="6404" y="15753"/>
                  <a:pt x="6399" y="15737"/>
                </a:cubicBezTo>
                <a:cubicBezTo>
                  <a:pt x="6372" y="15733"/>
                  <a:pt x="6359" y="15765"/>
                  <a:pt x="6344" y="15792"/>
                </a:cubicBezTo>
                <a:cubicBezTo>
                  <a:pt x="6310" y="15853"/>
                  <a:pt x="6278" y="15916"/>
                  <a:pt x="6256" y="15983"/>
                </a:cubicBezTo>
                <a:cubicBezTo>
                  <a:pt x="6242" y="16026"/>
                  <a:pt x="6217" y="16099"/>
                  <a:pt x="6248" y="16142"/>
                </a:cubicBezTo>
                <a:cubicBezTo>
                  <a:pt x="6267" y="16169"/>
                  <a:pt x="6306" y="16160"/>
                  <a:pt x="6332" y="16160"/>
                </a:cubicBezTo>
              </a:path>
              <a:path w="1978" h="734">
                <a:moveTo>
                  <a:pt x="6485" y="15949"/>
                </a:moveTo>
                <a:cubicBezTo>
                  <a:pt x="6471" y="15935"/>
                  <a:pt x="6452" y="15931"/>
                  <a:pt x="6434" y="15950"/>
                </a:cubicBezTo>
                <a:cubicBezTo>
                  <a:pt x="6405" y="15980"/>
                  <a:pt x="6384" y="16028"/>
                  <a:pt x="6370" y="16067"/>
                </a:cubicBezTo>
                <a:cubicBezTo>
                  <a:pt x="6358" y="16101"/>
                  <a:pt x="6345" y="16149"/>
                  <a:pt x="6373" y="16179"/>
                </a:cubicBezTo>
                <a:cubicBezTo>
                  <a:pt x="6397" y="16204"/>
                  <a:pt x="6436" y="16176"/>
                  <a:pt x="6457" y="16161"/>
                </a:cubicBezTo>
                <a:cubicBezTo>
                  <a:pt x="6488" y="16139"/>
                  <a:pt x="6510" y="16109"/>
                  <a:pt x="6540" y="16087"/>
                </a:cubicBezTo>
                <a:cubicBezTo>
                  <a:pt x="6566" y="16068"/>
                  <a:pt x="6578" y="16092"/>
                  <a:pt x="6587" y="16115"/>
                </a:cubicBezTo>
                <a:cubicBezTo>
                  <a:pt x="6598" y="16144"/>
                  <a:pt x="6603" y="16176"/>
                  <a:pt x="6618" y="16203"/>
                </a:cubicBezTo>
                <a:cubicBezTo>
                  <a:pt x="6621" y="16207"/>
                  <a:pt x="6624" y="16210"/>
                  <a:pt x="6627" y="16214"/>
                </a:cubicBezTo>
              </a:path>
              <a:path w="1978" h="734">
                <a:moveTo>
                  <a:pt x="6678" y="15753"/>
                </a:moveTo>
                <a:cubicBezTo>
                  <a:pt x="6679" y="15746"/>
                  <a:pt x="6681" y="15740"/>
                  <a:pt x="6682" y="15733"/>
                </a:cubicBezTo>
                <a:cubicBezTo>
                  <a:pt x="6723" y="15742"/>
                  <a:pt x="6728" y="15794"/>
                  <a:pt x="6741" y="15835"/>
                </a:cubicBezTo>
                <a:cubicBezTo>
                  <a:pt x="6767" y="15919"/>
                  <a:pt x="6783" y="16007"/>
                  <a:pt x="6796" y="16094"/>
                </a:cubicBezTo>
                <a:cubicBezTo>
                  <a:pt x="6803" y="16140"/>
                  <a:pt x="6805" y="16186"/>
                  <a:pt x="6808" y="1623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711520" y="5684760"/>
            <a:ext cx="155520" cy="166680"/>
          </a:xfrm>
          <a:custGeom>
            <a:avLst/>
            <a:gdLst/>
            <a:ahLst/>
            <a:rect l="l" t="t" r="r" b="b"/>
            <a:pathLst>
              <a:path w="436" h="464">
                <a:moveTo>
                  <a:pt x="7554" y="15992"/>
                </a:moveTo>
                <a:cubicBezTo>
                  <a:pt x="7537" y="16028"/>
                  <a:pt x="7537" y="16056"/>
                  <a:pt x="7534" y="16096"/>
                </a:cubicBezTo>
                <a:cubicBezTo>
                  <a:pt x="7531" y="16133"/>
                  <a:pt x="7528" y="16177"/>
                  <a:pt x="7542" y="16213"/>
                </a:cubicBezTo>
                <a:cubicBezTo>
                  <a:pt x="7556" y="16248"/>
                  <a:pt x="7575" y="16218"/>
                  <a:pt x="7587" y="16202"/>
                </a:cubicBezTo>
              </a:path>
              <a:path w="436" h="464">
                <a:moveTo>
                  <a:pt x="7586" y="15875"/>
                </a:moveTo>
                <a:cubicBezTo>
                  <a:pt x="7579" y="15835"/>
                  <a:pt x="7573" y="15826"/>
                  <a:pt x="7607" y="15805"/>
                </a:cubicBezTo>
                <a:cubicBezTo>
                  <a:pt x="7630" y="15791"/>
                  <a:pt x="7641" y="15786"/>
                  <a:pt x="7662" y="15791"/>
                </a:cubicBezTo>
              </a:path>
              <a:path w="436" h="464">
                <a:moveTo>
                  <a:pt x="7891" y="15943"/>
                </a:moveTo>
                <a:cubicBezTo>
                  <a:pt x="7872" y="15985"/>
                  <a:pt x="7852" y="16007"/>
                  <a:pt x="7824" y="16039"/>
                </a:cubicBezTo>
                <a:cubicBezTo>
                  <a:pt x="7815" y="16054"/>
                  <a:pt x="7814" y="16058"/>
                  <a:pt x="7804" y="16063"/>
                </a:cubicBezTo>
                <a:cubicBezTo>
                  <a:pt x="7837" y="16064"/>
                  <a:pt x="7868" y="16062"/>
                  <a:pt x="7901" y="16069"/>
                </a:cubicBezTo>
                <a:cubicBezTo>
                  <a:pt x="7939" y="16077"/>
                  <a:pt x="7968" y="16094"/>
                  <a:pt x="7965" y="16137"/>
                </a:cubicBezTo>
                <a:cubicBezTo>
                  <a:pt x="7963" y="16175"/>
                  <a:pt x="7925" y="16223"/>
                  <a:pt x="7892" y="16240"/>
                </a:cubicBezTo>
                <a:cubicBezTo>
                  <a:pt x="7868" y="16252"/>
                  <a:pt x="7814" y="16266"/>
                  <a:pt x="7796" y="16238"/>
                </a:cubicBezTo>
                <a:cubicBezTo>
                  <a:pt x="7794" y="16231"/>
                  <a:pt x="7791" y="16223"/>
                  <a:pt x="7789" y="1621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030480" y="5697360"/>
            <a:ext cx="430200" cy="144720"/>
          </a:xfrm>
          <a:custGeom>
            <a:avLst/>
            <a:gdLst/>
            <a:ahLst/>
            <a:rect l="l" t="t" r="r" b="b"/>
            <a:pathLst>
              <a:path w="1197" h="400">
                <a:moveTo>
                  <a:pt x="8474" y="15843"/>
                </a:moveTo>
                <a:cubicBezTo>
                  <a:pt x="8459" y="15831"/>
                  <a:pt x="8456" y="15827"/>
                  <a:pt x="8444" y="15827"/>
                </a:cubicBezTo>
                <a:cubicBezTo>
                  <a:pt x="8427" y="15860"/>
                  <a:pt x="8430" y="15888"/>
                  <a:pt x="8436" y="15926"/>
                </a:cubicBezTo>
                <a:cubicBezTo>
                  <a:pt x="8448" y="15996"/>
                  <a:pt x="8471" y="16058"/>
                  <a:pt x="8498" y="16123"/>
                </a:cubicBezTo>
                <a:cubicBezTo>
                  <a:pt x="8512" y="16156"/>
                  <a:pt x="8528" y="16191"/>
                  <a:pt x="8535" y="16226"/>
                </a:cubicBezTo>
              </a:path>
              <a:path w="1197" h="400">
                <a:moveTo>
                  <a:pt x="8417" y="16055"/>
                </a:moveTo>
                <a:cubicBezTo>
                  <a:pt x="8420" y="16020"/>
                  <a:pt x="8433" y="15992"/>
                  <a:pt x="8465" y="15970"/>
                </a:cubicBezTo>
                <a:cubicBezTo>
                  <a:pt x="8507" y="15941"/>
                  <a:pt x="8574" y="15918"/>
                  <a:pt x="8623" y="15908"/>
                </a:cubicBezTo>
                <a:cubicBezTo>
                  <a:pt x="8657" y="15905"/>
                  <a:pt x="8666" y="15904"/>
                  <a:pt x="8687" y="15904"/>
                </a:cubicBezTo>
              </a:path>
              <a:path w="1197" h="400">
                <a:moveTo>
                  <a:pt x="8705" y="16060"/>
                </a:moveTo>
                <a:cubicBezTo>
                  <a:pt x="8707" y="16101"/>
                  <a:pt x="8711" y="16137"/>
                  <a:pt x="8719" y="16177"/>
                </a:cubicBezTo>
                <a:cubicBezTo>
                  <a:pt x="8720" y="16191"/>
                  <a:pt x="8722" y="16197"/>
                  <a:pt x="8729" y="16205"/>
                </a:cubicBezTo>
                <a:cubicBezTo>
                  <a:pt x="8751" y="16187"/>
                  <a:pt x="8749" y="16159"/>
                  <a:pt x="8756" y="16129"/>
                </a:cubicBezTo>
                <a:cubicBezTo>
                  <a:pt x="8768" y="16077"/>
                  <a:pt x="8786" y="16030"/>
                  <a:pt x="8811" y="15984"/>
                </a:cubicBezTo>
                <a:cubicBezTo>
                  <a:pt x="8832" y="15946"/>
                  <a:pt x="8849" y="15930"/>
                  <a:pt x="8889" y="15917"/>
                </a:cubicBezTo>
              </a:path>
              <a:path w="1197" h="400">
                <a:moveTo>
                  <a:pt x="9030" y="15994"/>
                </a:moveTo>
                <a:cubicBezTo>
                  <a:pt x="9030" y="16015"/>
                  <a:pt x="9027" y="16038"/>
                  <a:pt x="9029" y="16058"/>
                </a:cubicBezTo>
                <a:cubicBezTo>
                  <a:pt x="9031" y="16078"/>
                  <a:pt x="9030" y="16114"/>
                  <a:pt x="9041" y="16132"/>
                </a:cubicBezTo>
                <a:cubicBezTo>
                  <a:pt x="9044" y="16135"/>
                  <a:pt x="9047" y="16138"/>
                  <a:pt x="9050" y="16141"/>
                </a:cubicBezTo>
                <a:cubicBezTo>
                  <a:pt x="9080" y="16129"/>
                  <a:pt x="9091" y="16111"/>
                  <a:pt x="9107" y="16081"/>
                </a:cubicBezTo>
                <a:cubicBezTo>
                  <a:pt x="9123" y="16050"/>
                  <a:pt x="9137" y="16017"/>
                  <a:pt x="9154" y="15987"/>
                </a:cubicBezTo>
                <a:cubicBezTo>
                  <a:pt x="9157" y="15983"/>
                  <a:pt x="9159" y="15980"/>
                  <a:pt x="9162" y="15976"/>
                </a:cubicBezTo>
                <a:cubicBezTo>
                  <a:pt x="9191" y="15987"/>
                  <a:pt x="9188" y="16010"/>
                  <a:pt x="9197" y="16041"/>
                </a:cubicBezTo>
                <a:cubicBezTo>
                  <a:pt x="9205" y="16070"/>
                  <a:pt x="9213" y="16120"/>
                  <a:pt x="9235" y="16142"/>
                </a:cubicBezTo>
                <a:cubicBezTo>
                  <a:pt x="9256" y="16163"/>
                  <a:pt x="9276" y="16160"/>
                  <a:pt x="9294" y="16139"/>
                </a:cubicBezTo>
                <a:cubicBezTo>
                  <a:pt x="9297" y="16134"/>
                  <a:pt x="9300" y="16129"/>
                  <a:pt x="9303" y="16124"/>
                </a:cubicBezTo>
              </a:path>
              <a:path w="1197" h="400">
                <a:moveTo>
                  <a:pt x="9399" y="16090"/>
                </a:moveTo>
                <a:cubicBezTo>
                  <a:pt x="9424" y="16076"/>
                  <a:pt x="9444" y="16058"/>
                  <a:pt x="9467" y="16043"/>
                </a:cubicBezTo>
                <a:cubicBezTo>
                  <a:pt x="9496" y="16023"/>
                  <a:pt x="9511" y="16006"/>
                  <a:pt x="9524" y="15974"/>
                </a:cubicBezTo>
                <a:cubicBezTo>
                  <a:pt x="9526" y="15970"/>
                  <a:pt x="9527" y="15967"/>
                  <a:pt x="9529" y="15963"/>
                </a:cubicBezTo>
                <a:cubicBezTo>
                  <a:pt x="9497" y="15965"/>
                  <a:pt x="9478" y="15987"/>
                  <a:pt x="9461" y="16018"/>
                </a:cubicBezTo>
                <a:cubicBezTo>
                  <a:pt x="9444" y="16050"/>
                  <a:pt x="9429" y="16108"/>
                  <a:pt x="9459" y="16138"/>
                </a:cubicBezTo>
                <a:cubicBezTo>
                  <a:pt x="9493" y="16173"/>
                  <a:pt x="9577" y="16138"/>
                  <a:pt x="9612" y="1612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041720" y="5708520"/>
            <a:ext cx="474840" cy="158760"/>
          </a:xfrm>
          <a:custGeom>
            <a:avLst/>
            <a:gdLst/>
            <a:ahLst/>
            <a:rect l="l" t="t" r="r" b="b"/>
            <a:pathLst>
              <a:path w="1318" h="440">
                <a:moveTo>
                  <a:pt x="11465" y="15924"/>
                </a:moveTo>
                <a:cubicBezTo>
                  <a:pt x="11500" y="15937"/>
                  <a:pt x="11453" y="15943"/>
                  <a:pt x="11433" y="15946"/>
                </a:cubicBezTo>
                <a:cubicBezTo>
                  <a:pt x="11384" y="15954"/>
                  <a:pt x="11339" y="15961"/>
                  <a:pt x="11291" y="15976"/>
                </a:cubicBezTo>
                <a:cubicBezTo>
                  <a:pt x="11264" y="15984"/>
                  <a:pt x="11249" y="15991"/>
                  <a:pt x="11228" y="16008"/>
                </a:cubicBezTo>
                <a:cubicBezTo>
                  <a:pt x="11274" y="16028"/>
                  <a:pt x="11321" y="16025"/>
                  <a:pt x="11372" y="16031"/>
                </a:cubicBezTo>
                <a:cubicBezTo>
                  <a:pt x="11428" y="16038"/>
                  <a:pt x="11500" y="16043"/>
                  <a:pt x="11543" y="16084"/>
                </a:cubicBezTo>
                <a:cubicBezTo>
                  <a:pt x="11583" y="16122"/>
                  <a:pt x="11563" y="16174"/>
                  <a:pt x="11532" y="16210"/>
                </a:cubicBezTo>
                <a:cubicBezTo>
                  <a:pt x="11495" y="16254"/>
                  <a:pt x="11451" y="16277"/>
                  <a:pt x="11398" y="16292"/>
                </a:cubicBezTo>
                <a:cubicBezTo>
                  <a:pt x="11382" y="16297"/>
                  <a:pt x="11377" y="16299"/>
                  <a:pt x="11373" y="16286"/>
                </a:cubicBezTo>
                <a:cubicBezTo>
                  <a:pt x="11384" y="16246"/>
                  <a:pt x="11397" y="16229"/>
                  <a:pt x="11423" y="16195"/>
                </a:cubicBezTo>
              </a:path>
              <a:path w="1318" h="440">
                <a:moveTo>
                  <a:pt x="11727" y="16006"/>
                </a:moveTo>
                <a:cubicBezTo>
                  <a:pt x="11731" y="16051"/>
                  <a:pt x="11735" y="16098"/>
                  <a:pt x="11735" y="16143"/>
                </a:cubicBezTo>
                <a:cubicBezTo>
                  <a:pt x="11735" y="16179"/>
                  <a:pt x="11722" y="16249"/>
                  <a:pt x="11757" y="16260"/>
                </a:cubicBezTo>
                <a:cubicBezTo>
                  <a:pt x="11772" y="16216"/>
                  <a:pt x="11775" y="16175"/>
                  <a:pt x="11778" y="16129"/>
                </a:cubicBezTo>
                <a:cubicBezTo>
                  <a:pt x="11782" y="16067"/>
                  <a:pt x="11783" y="16005"/>
                  <a:pt x="11780" y="15943"/>
                </a:cubicBezTo>
                <a:cubicBezTo>
                  <a:pt x="11780" y="15935"/>
                  <a:pt x="11769" y="15863"/>
                  <a:pt x="11789" y="15858"/>
                </a:cubicBezTo>
                <a:cubicBezTo>
                  <a:pt x="11792" y="15860"/>
                  <a:pt x="11796" y="15862"/>
                  <a:pt x="11799" y="15864"/>
                </a:cubicBezTo>
              </a:path>
              <a:path w="1318" h="440">
                <a:moveTo>
                  <a:pt x="11872" y="15999"/>
                </a:moveTo>
                <a:cubicBezTo>
                  <a:pt x="11881" y="16034"/>
                  <a:pt x="11886" y="16078"/>
                  <a:pt x="11902" y="16110"/>
                </a:cubicBezTo>
                <a:cubicBezTo>
                  <a:pt x="11905" y="16113"/>
                  <a:pt x="11909" y="16117"/>
                  <a:pt x="11912" y="16120"/>
                </a:cubicBezTo>
                <a:cubicBezTo>
                  <a:pt x="11937" y="16089"/>
                  <a:pt x="11949" y="16053"/>
                  <a:pt x="11970" y="16018"/>
                </a:cubicBezTo>
                <a:cubicBezTo>
                  <a:pt x="11993" y="15978"/>
                  <a:pt x="12024" y="15928"/>
                  <a:pt x="12068" y="15909"/>
                </a:cubicBezTo>
                <a:cubicBezTo>
                  <a:pt x="12107" y="15892"/>
                  <a:pt x="12135" y="15919"/>
                  <a:pt x="12149" y="15953"/>
                </a:cubicBezTo>
                <a:cubicBezTo>
                  <a:pt x="12166" y="15994"/>
                  <a:pt x="12170" y="16040"/>
                  <a:pt x="12178" y="16083"/>
                </a:cubicBezTo>
                <a:cubicBezTo>
                  <a:pt x="12196" y="16052"/>
                  <a:pt x="12203" y="16023"/>
                  <a:pt x="12215" y="15989"/>
                </a:cubicBezTo>
                <a:cubicBezTo>
                  <a:pt x="12222" y="15970"/>
                  <a:pt x="12224" y="15964"/>
                  <a:pt x="12234" y="15955"/>
                </a:cubicBezTo>
                <a:cubicBezTo>
                  <a:pt x="12258" y="15951"/>
                  <a:pt x="12264" y="15972"/>
                  <a:pt x="12274" y="15994"/>
                </a:cubicBezTo>
                <a:cubicBezTo>
                  <a:pt x="12295" y="16041"/>
                  <a:pt x="12308" y="16090"/>
                  <a:pt x="12334" y="16135"/>
                </a:cubicBezTo>
              </a:path>
              <a:path w="1318" h="440">
                <a:moveTo>
                  <a:pt x="12489" y="16058"/>
                </a:moveTo>
                <a:cubicBezTo>
                  <a:pt x="12487" y="16038"/>
                  <a:pt x="12488" y="16022"/>
                  <a:pt x="12489" y="16004"/>
                </a:cubicBezTo>
                <a:cubicBezTo>
                  <a:pt x="12491" y="15977"/>
                  <a:pt x="12491" y="15967"/>
                  <a:pt x="12514" y="15951"/>
                </a:cubicBezTo>
                <a:cubicBezTo>
                  <a:pt x="12529" y="15942"/>
                  <a:pt x="12534" y="15938"/>
                  <a:pt x="12545" y="1593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018040" y="5599080"/>
            <a:ext cx="777960" cy="249120"/>
          </a:xfrm>
          <a:custGeom>
            <a:avLst/>
            <a:gdLst/>
            <a:ahLst/>
            <a:rect l="l" t="t" r="r" b="b"/>
            <a:pathLst>
              <a:path w="2158" h="694">
                <a:moveTo>
                  <a:pt x="13973" y="15665"/>
                </a:moveTo>
                <a:cubicBezTo>
                  <a:pt x="13927" y="15670"/>
                  <a:pt x="13944" y="15705"/>
                  <a:pt x="13949" y="15746"/>
                </a:cubicBezTo>
                <a:cubicBezTo>
                  <a:pt x="13960" y="15832"/>
                  <a:pt x="13988" y="15916"/>
                  <a:pt x="14018" y="15997"/>
                </a:cubicBezTo>
                <a:cubicBezTo>
                  <a:pt x="14041" y="16060"/>
                  <a:pt x="14062" y="16153"/>
                  <a:pt x="14111" y="16202"/>
                </a:cubicBezTo>
                <a:cubicBezTo>
                  <a:pt x="14129" y="16211"/>
                  <a:pt x="14134" y="16216"/>
                  <a:pt x="14145" y="16203"/>
                </a:cubicBezTo>
                <a:cubicBezTo>
                  <a:pt x="14171" y="16133"/>
                  <a:pt x="14183" y="16062"/>
                  <a:pt x="14198" y="15989"/>
                </a:cubicBezTo>
                <a:cubicBezTo>
                  <a:pt x="14220" y="15884"/>
                  <a:pt x="14241" y="15779"/>
                  <a:pt x="14265" y="15674"/>
                </a:cubicBezTo>
                <a:cubicBezTo>
                  <a:pt x="14273" y="15639"/>
                  <a:pt x="14283" y="15607"/>
                  <a:pt x="14287" y="15571"/>
                </a:cubicBezTo>
              </a:path>
              <a:path w="2158" h="694">
                <a:moveTo>
                  <a:pt x="13998" y="15953"/>
                </a:moveTo>
                <a:cubicBezTo>
                  <a:pt x="13992" y="15990"/>
                  <a:pt x="14040" y="15952"/>
                  <a:pt x="14061" y="15943"/>
                </a:cubicBezTo>
                <a:cubicBezTo>
                  <a:pt x="14119" y="15919"/>
                  <a:pt x="14180" y="15896"/>
                  <a:pt x="14242" y="15884"/>
                </a:cubicBezTo>
                <a:cubicBezTo>
                  <a:pt x="14279" y="15877"/>
                  <a:pt x="14316" y="15876"/>
                  <a:pt x="14353" y="15875"/>
                </a:cubicBezTo>
              </a:path>
              <a:path w="2158" h="694">
                <a:moveTo>
                  <a:pt x="14616" y="15978"/>
                </a:moveTo>
                <a:cubicBezTo>
                  <a:pt x="14611" y="15957"/>
                  <a:pt x="14599" y="15892"/>
                  <a:pt x="14565" y="15895"/>
                </a:cubicBezTo>
                <a:cubicBezTo>
                  <a:pt x="14532" y="15898"/>
                  <a:pt x="14510" y="15969"/>
                  <a:pt x="14503" y="15991"/>
                </a:cubicBezTo>
                <a:cubicBezTo>
                  <a:pt x="14484" y="16050"/>
                  <a:pt x="14476" y="16114"/>
                  <a:pt x="14475" y="16176"/>
                </a:cubicBezTo>
                <a:cubicBezTo>
                  <a:pt x="14475" y="16206"/>
                  <a:pt x="14472" y="16237"/>
                  <a:pt x="14503" y="16243"/>
                </a:cubicBezTo>
                <a:cubicBezTo>
                  <a:pt x="14532" y="16217"/>
                  <a:pt x="14546" y="16188"/>
                  <a:pt x="14566" y="16155"/>
                </a:cubicBezTo>
                <a:cubicBezTo>
                  <a:pt x="14586" y="16123"/>
                  <a:pt x="14608" y="16082"/>
                  <a:pt x="14640" y="16061"/>
                </a:cubicBezTo>
                <a:cubicBezTo>
                  <a:pt x="14665" y="16045"/>
                  <a:pt x="14685" y="16058"/>
                  <a:pt x="14702" y="16077"/>
                </a:cubicBezTo>
                <a:cubicBezTo>
                  <a:pt x="14719" y="16096"/>
                  <a:pt x="14734" y="16122"/>
                  <a:pt x="14748" y="16143"/>
                </a:cubicBezTo>
                <a:cubicBezTo>
                  <a:pt x="14754" y="16155"/>
                  <a:pt x="14756" y="16159"/>
                  <a:pt x="14760" y="16166"/>
                </a:cubicBezTo>
              </a:path>
              <a:path w="2158" h="694">
                <a:moveTo>
                  <a:pt x="15222" y="15756"/>
                </a:moveTo>
                <a:cubicBezTo>
                  <a:pt x="15222" y="15710"/>
                  <a:pt x="15221" y="15676"/>
                  <a:pt x="15201" y="15634"/>
                </a:cubicBezTo>
                <a:cubicBezTo>
                  <a:pt x="15147" y="15631"/>
                  <a:pt x="15124" y="15682"/>
                  <a:pt x="15097" y="15731"/>
                </a:cubicBezTo>
                <a:cubicBezTo>
                  <a:pt x="15046" y="15825"/>
                  <a:pt x="15015" y="15929"/>
                  <a:pt x="15004" y="16035"/>
                </a:cubicBezTo>
                <a:cubicBezTo>
                  <a:pt x="14998" y="16093"/>
                  <a:pt x="14996" y="16197"/>
                  <a:pt x="15075" y="16210"/>
                </a:cubicBezTo>
                <a:cubicBezTo>
                  <a:pt x="15145" y="16222"/>
                  <a:pt x="15209" y="16150"/>
                  <a:pt x="15244" y="16101"/>
                </a:cubicBezTo>
                <a:cubicBezTo>
                  <a:pt x="15317" y="15997"/>
                  <a:pt x="15354" y="15868"/>
                  <a:pt x="15339" y="15742"/>
                </a:cubicBezTo>
                <a:cubicBezTo>
                  <a:pt x="15332" y="15688"/>
                  <a:pt x="15321" y="15676"/>
                  <a:pt x="15271" y="15678"/>
                </a:cubicBezTo>
              </a:path>
              <a:path w="2158" h="694">
                <a:moveTo>
                  <a:pt x="15095" y="15961"/>
                </a:moveTo>
                <a:cubicBezTo>
                  <a:pt x="15088" y="16011"/>
                  <a:pt x="15081" y="16053"/>
                  <a:pt x="15107" y="16100"/>
                </a:cubicBezTo>
                <a:cubicBezTo>
                  <a:pt x="15132" y="16143"/>
                  <a:pt x="15187" y="16151"/>
                  <a:pt x="15231" y="16155"/>
                </a:cubicBezTo>
                <a:cubicBezTo>
                  <a:pt x="15297" y="16161"/>
                  <a:pt x="15352" y="16153"/>
                  <a:pt x="15416" y="16139"/>
                </a:cubicBezTo>
              </a:path>
              <a:path w="2158" h="694">
                <a:moveTo>
                  <a:pt x="15607" y="15593"/>
                </a:moveTo>
                <a:cubicBezTo>
                  <a:pt x="15598" y="15567"/>
                  <a:pt x="15597" y="15560"/>
                  <a:pt x="15580" y="15551"/>
                </a:cubicBezTo>
                <a:cubicBezTo>
                  <a:pt x="15533" y="15574"/>
                  <a:pt x="15512" y="15616"/>
                  <a:pt x="15492" y="15667"/>
                </a:cubicBezTo>
                <a:cubicBezTo>
                  <a:pt x="15450" y="15775"/>
                  <a:pt x="15436" y="15901"/>
                  <a:pt x="15463" y="16013"/>
                </a:cubicBezTo>
                <a:cubicBezTo>
                  <a:pt x="15477" y="16072"/>
                  <a:pt x="15498" y="16093"/>
                  <a:pt x="15540" y="16132"/>
                </a:cubicBezTo>
              </a:path>
              <a:path w="2158" h="694">
                <a:moveTo>
                  <a:pt x="15845" y="15866"/>
                </a:moveTo>
                <a:cubicBezTo>
                  <a:pt x="15817" y="15846"/>
                  <a:pt x="15792" y="15862"/>
                  <a:pt x="15771" y="15894"/>
                </a:cubicBezTo>
                <a:cubicBezTo>
                  <a:pt x="15733" y="15952"/>
                  <a:pt x="15704" y="16031"/>
                  <a:pt x="15693" y="16099"/>
                </a:cubicBezTo>
                <a:cubicBezTo>
                  <a:pt x="15686" y="16144"/>
                  <a:pt x="15679" y="16189"/>
                  <a:pt x="15713" y="16216"/>
                </a:cubicBezTo>
                <a:cubicBezTo>
                  <a:pt x="15757" y="16195"/>
                  <a:pt x="15782" y="16164"/>
                  <a:pt x="15808" y="16122"/>
                </a:cubicBezTo>
                <a:cubicBezTo>
                  <a:pt x="15829" y="16087"/>
                  <a:pt x="15845" y="16038"/>
                  <a:pt x="15875" y="16009"/>
                </a:cubicBezTo>
                <a:cubicBezTo>
                  <a:pt x="15878" y="16007"/>
                  <a:pt x="15882" y="16006"/>
                  <a:pt x="15885" y="16004"/>
                </a:cubicBezTo>
                <a:cubicBezTo>
                  <a:pt x="15906" y="16043"/>
                  <a:pt x="15905" y="16072"/>
                  <a:pt x="15912" y="16115"/>
                </a:cubicBezTo>
                <a:cubicBezTo>
                  <a:pt x="15917" y="16144"/>
                  <a:pt x="15925" y="16167"/>
                  <a:pt x="15937" y="16194"/>
                </a:cubicBezTo>
              </a:path>
              <a:path w="2158" h="694">
                <a:moveTo>
                  <a:pt x="15941" y="15586"/>
                </a:moveTo>
                <a:cubicBezTo>
                  <a:pt x="15970" y="15566"/>
                  <a:pt x="15984" y="15636"/>
                  <a:pt x="15999" y="15670"/>
                </a:cubicBezTo>
                <a:cubicBezTo>
                  <a:pt x="16036" y="15754"/>
                  <a:pt x="16067" y="15843"/>
                  <a:pt x="16086" y="15934"/>
                </a:cubicBezTo>
                <a:cubicBezTo>
                  <a:pt x="16098" y="15991"/>
                  <a:pt x="16105" y="16062"/>
                  <a:pt x="16092" y="16119"/>
                </a:cubicBezTo>
                <a:cubicBezTo>
                  <a:pt x="16090" y="16125"/>
                  <a:pt x="16087" y="16130"/>
                  <a:pt x="16085" y="1613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062760" y="5661000"/>
            <a:ext cx="141120" cy="196920"/>
          </a:xfrm>
          <a:custGeom>
            <a:avLst/>
            <a:gdLst/>
            <a:ahLst/>
            <a:rect l="l" t="t" r="r" b="b"/>
            <a:pathLst>
              <a:path w="390" h="550">
                <a:moveTo>
                  <a:pt x="16867" y="15987"/>
                </a:moveTo>
                <a:cubicBezTo>
                  <a:pt x="16865" y="15983"/>
                  <a:pt x="16862" y="15980"/>
                  <a:pt x="16860" y="15976"/>
                </a:cubicBezTo>
                <a:cubicBezTo>
                  <a:pt x="16837" y="16007"/>
                  <a:pt x="16847" y="16056"/>
                  <a:pt x="16853" y="16100"/>
                </a:cubicBezTo>
                <a:cubicBezTo>
                  <a:pt x="16861" y="16154"/>
                  <a:pt x="16865" y="16211"/>
                  <a:pt x="16890" y="16261"/>
                </a:cubicBezTo>
                <a:cubicBezTo>
                  <a:pt x="16898" y="16272"/>
                  <a:pt x="16900" y="16276"/>
                  <a:pt x="16909" y="16269"/>
                </a:cubicBezTo>
              </a:path>
              <a:path w="390" h="550">
                <a:moveTo>
                  <a:pt x="16881" y="15828"/>
                </a:moveTo>
                <a:cubicBezTo>
                  <a:pt x="16872" y="15807"/>
                  <a:pt x="16841" y="15760"/>
                  <a:pt x="16841" y="15736"/>
                </a:cubicBezTo>
                <a:cubicBezTo>
                  <a:pt x="16841" y="15711"/>
                  <a:pt x="16903" y="15746"/>
                  <a:pt x="16913" y="15750"/>
                </a:cubicBezTo>
              </a:path>
              <a:path w="390" h="550">
                <a:moveTo>
                  <a:pt x="17103" y="15931"/>
                </a:moveTo>
                <a:cubicBezTo>
                  <a:pt x="17080" y="15948"/>
                  <a:pt x="17049" y="15968"/>
                  <a:pt x="17022" y="15976"/>
                </a:cubicBezTo>
                <a:cubicBezTo>
                  <a:pt x="17001" y="15979"/>
                  <a:pt x="16996" y="15977"/>
                  <a:pt x="16986" y="15986"/>
                </a:cubicBezTo>
                <a:cubicBezTo>
                  <a:pt x="17023" y="15989"/>
                  <a:pt x="17061" y="15985"/>
                  <a:pt x="17098" y="15991"/>
                </a:cubicBezTo>
                <a:cubicBezTo>
                  <a:pt x="17145" y="15998"/>
                  <a:pt x="17198" y="16012"/>
                  <a:pt x="17222" y="16058"/>
                </a:cubicBezTo>
                <a:cubicBezTo>
                  <a:pt x="17243" y="16099"/>
                  <a:pt x="17216" y="16147"/>
                  <a:pt x="17187" y="16176"/>
                </a:cubicBezTo>
                <a:cubicBezTo>
                  <a:pt x="17154" y="16208"/>
                  <a:pt x="17113" y="16223"/>
                  <a:pt x="17070" y="16214"/>
                </a:cubicBezTo>
                <a:cubicBezTo>
                  <a:pt x="17034" y="16206"/>
                  <a:pt x="17034" y="16186"/>
                  <a:pt x="17034" y="1615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357960" y="5621400"/>
            <a:ext cx="438120" cy="222120"/>
          </a:xfrm>
          <a:custGeom>
            <a:avLst/>
            <a:gdLst/>
            <a:ahLst/>
            <a:rect l="l" t="t" r="r" b="b"/>
            <a:pathLst>
              <a:path w="1216" h="616">
                <a:moveTo>
                  <a:pt x="17773" y="15624"/>
                </a:moveTo>
                <a:cubicBezTo>
                  <a:pt x="17743" y="15624"/>
                  <a:pt x="17740" y="15700"/>
                  <a:pt x="17740" y="15737"/>
                </a:cubicBezTo>
                <a:cubicBezTo>
                  <a:pt x="17739" y="15840"/>
                  <a:pt x="17753" y="15943"/>
                  <a:pt x="17763" y="16045"/>
                </a:cubicBezTo>
                <a:cubicBezTo>
                  <a:pt x="17769" y="16107"/>
                  <a:pt x="17775" y="16169"/>
                  <a:pt x="17788" y="16230"/>
                </a:cubicBezTo>
              </a:path>
              <a:path w="1216" h="616">
                <a:moveTo>
                  <a:pt x="17676" y="15981"/>
                </a:moveTo>
                <a:cubicBezTo>
                  <a:pt x="17664" y="15926"/>
                  <a:pt x="17655" y="15895"/>
                  <a:pt x="17690" y="15848"/>
                </a:cubicBezTo>
                <a:cubicBezTo>
                  <a:pt x="17729" y="15795"/>
                  <a:pt x="17778" y="15778"/>
                  <a:pt x="17837" y="15756"/>
                </a:cubicBezTo>
                <a:cubicBezTo>
                  <a:pt x="17872" y="15743"/>
                  <a:pt x="17900" y="15738"/>
                  <a:pt x="17937" y="15735"/>
                </a:cubicBezTo>
              </a:path>
              <a:path w="1216" h="616">
                <a:moveTo>
                  <a:pt x="17959" y="15853"/>
                </a:moveTo>
                <a:cubicBezTo>
                  <a:pt x="17952" y="15886"/>
                  <a:pt x="17941" y="15930"/>
                  <a:pt x="17946" y="15964"/>
                </a:cubicBezTo>
                <a:cubicBezTo>
                  <a:pt x="17949" y="15983"/>
                  <a:pt x="17962" y="16028"/>
                  <a:pt x="17989" y="16028"/>
                </a:cubicBezTo>
                <a:cubicBezTo>
                  <a:pt x="18009" y="16028"/>
                  <a:pt x="18028" y="15965"/>
                  <a:pt x="18033" y="15954"/>
                </a:cubicBezTo>
                <a:cubicBezTo>
                  <a:pt x="18051" y="15913"/>
                  <a:pt x="18070" y="15877"/>
                  <a:pt x="18096" y="15841"/>
                </a:cubicBezTo>
                <a:cubicBezTo>
                  <a:pt x="18110" y="15821"/>
                  <a:pt x="18125" y="15809"/>
                  <a:pt x="18144" y="15794"/>
                </a:cubicBezTo>
              </a:path>
              <a:path w="1216" h="616">
                <a:moveTo>
                  <a:pt x="18225" y="15824"/>
                </a:moveTo>
                <a:cubicBezTo>
                  <a:pt x="18226" y="15847"/>
                  <a:pt x="18222" y="15873"/>
                  <a:pt x="18225" y="15895"/>
                </a:cubicBezTo>
                <a:cubicBezTo>
                  <a:pt x="18231" y="15943"/>
                  <a:pt x="18235" y="15992"/>
                  <a:pt x="18246" y="16039"/>
                </a:cubicBezTo>
                <a:cubicBezTo>
                  <a:pt x="18253" y="16071"/>
                  <a:pt x="18262" y="16104"/>
                  <a:pt x="18282" y="16130"/>
                </a:cubicBezTo>
                <a:cubicBezTo>
                  <a:pt x="18312" y="16119"/>
                  <a:pt x="18319" y="16088"/>
                  <a:pt x="18330" y="16058"/>
                </a:cubicBezTo>
                <a:cubicBezTo>
                  <a:pt x="18349" y="16005"/>
                  <a:pt x="18369" y="15951"/>
                  <a:pt x="18389" y="15898"/>
                </a:cubicBezTo>
                <a:cubicBezTo>
                  <a:pt x="18398" y="15873"/>
                  <a:pt x="18404" y="15858"/>
                  <a:pt x="18420" y="15838"/>
                </a:cubicBezTo>
                <a:cubicBezTo>
                  <a:pt x="18436" y="15870"/>
                  <a:pt x="18442" y="15906"/>
                  <a:pt x="18443" y="15943"/>
                </a:cubicBezTo>
                <a:cubicBezTo>
                  <a:pt x="18444" y="15975"/>
                  <a:pt x="18438" y="16008"/>
                  <a:pt x="18453" y="16038"/>
                </a:cubicBezTo>
                <a:cubicBezTo>
                  <a:pt x="18455" y="16041"/>
                  <a:pt x="18458" y="16044"/>
                  <a:pt x="18460" y="16047"/>
                </a:cubicBezTo>
              </a:path>
              <a:path w="1216" h="616">
                <a:moveTo>
                  <a:pt x="18559" y="15970"/>
                </a:moveTo>
                <a:cubicBezTo>
                  <a:pt x="18565" y="15957"/>
                  <a:pt x="18575" y="15917"/>
                  <a:pt x="18583" y="15908"/>
                </a:cubicBezTo>
                <a:cubicBezTo>
                  <a:pt x="18602" y="15886"/>
                  <a:pt x="18634" y="15864"/>
                  <a:pt x="18658" y="15847"/>
                </a:cubicBezTo>
                <a:cubicBezTo>
                  <a:pt x="18678" y="15832"/>
                  <a:pt x="18712" y="15821"/>
                  <a:pt x="18728" y="15802"/>
                </a:cubicBezTo>
                <a:cubicBezTo>
                  <a:pt x="18731" y="15796"/>
                  <a:pt x="18735" y="15791"/>
                  <a:pt x="18738" y="15785"/>
                </a:cubicBezTo>
                <a:cubicBezTo>
                  <a:pt x="18726" y="15770"/>
                  <a:pt x="18716" y="15765"/>
                  <a:pt x="18698" y="15759"/>
                </a:cubicBezTo>
                <a:cubicBezTo>
                  <a:pt x="18675" y="15752"/>
                  <a:pt x="18670" y="15768"/>
                  <a:pt x="18664" y="15787"/>
                </a:cubicBezTo>
                <a:cubicBezTo>
                  <a:pt x="18656" y="15814"/>
                  <a:pt x="18651" y="15840"/>
                  <a:pt x="18646" y="15867"/>
                </a:cubicBezTo>
                <a:cubicBezTo>
                  <a:pt x="18640" y="15899"/>
                  <a:pt x="18630" y="15933"/>
                  <a:pt x="18647" y="15964"/>
                </a:cubicBezTo>
                <a:cubicBezTo>
                  <a:pt x="18672" y="16009"/>
                  <a:pt x="18724" y="16023"/>
                  <a:pt x="18771" y="16025"/>
                </a:cubicBezTo>
                <a:cubicBezTo>
                  <a:pt x="18797" y="16026"/>
                  <a:pt x="18846" y="16025"/>
                  <a:pt x="18868" y="16010"/>
                </a:cubicBezTo>
                <a:cubicBezTo>
                  <a:pt x="18882" y="16000"/>
                  <a:pt x="18877" y="15990"/>
                  <a:pt x="18874" y="1597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7059600" y="5505480"/>
            <a:ext cx="2040120" cy="380880"/>
          </a:xfrm>
          <a:custGeom>
            <a:avLst/>
            <a:gdLst/>
            <a:ahLst/>
            <a:rect l="l" t="t" r="r" b="b"/>
            <a:pathLst>
              <a:path w="5666" h="1060">
                <a:moveTo>
                  <a:pt x="19643" y="15871"/>
                </a:moveTo>
                <a:cubicBezTo>
                  <a:pt x="19632" y="15879"/>
                  <a:pt x="19628" y="15881"/>
                  <a:pt x="19618" y="15877"/>
                </a:cubicBezTo>
                <a:cubicBezTo>
                  <a:pt x="19654" y="15875"/>
                  <a:pt x="19690" y="15872"/>
                  <a:pt x="19726" y="15871"/>
                </a:cubicBezTo>
                <a:cubicBezTo>
                  <a:pt x="19793" y="15869"/>
                  <a:pt x="19853" y="15874"/>
                  <a:pt x="19919" y="15885"/>
                </a:cubicBezTo>
                <a:cubicBezTo>
                  <a:pt x="19948" y="15890"/>
                  <a:pt x="19968" y="15894"/>
                  <a:pt x="19993" y="15907"/>
                </a:cubicBezTo>
              </a:path>
              <a:path w="5666" h="1060">
                <a:moveTo>
                  <a:pt x="19648" y="16017"/>
                </a:moveTo>
                <a:cubicBezTo>
                  <a:pt x="19627" y="16031"/>
                  <a:pt x="19617" y="16031"/>
                  <a:pt x="19613" y="16052"/>
                </a:cubicBezTo>
                <a:cubicBezTo>
                  <a:pt x="19654" y="16075"/>
                  <a:pt x="19705" y="16077"/>
                  <a:pt x="19753" y="16083"/>
                </a:cubicBezTo>
                <a:cubicBezTo>
                  <a:pt x="19835" y="16093"/>
                  <a:pt x="19908" y="16081"/>
                  <a:pt x="19988" y="16062"/>
                </a:cubicBezTo>
              </a:path>
              <a:path w="5666" h="1060">
                <a:moveTo>
                  <a:pt x="19941" y="15768"/>
                </a:moveTo>
                <a:cubicBezTo>
                  <a:pt x="19934" y="15735"/>
                  <a:pt x="19954" y="15719"/>
                  <a:pt x="19995" y="15716"/>
                </a:cubicBezTo>
                <a:cubicBezTo>
                  <a:pt x="20058" y="15712"/>
                  <a:pt x="20137" y="15726"/>
                  <a:pt x="20193" y="15756"/>
                </a:cubicBezTo>
                <a:cubicBezTo>
                  <a:pt x="20251" y="15787"/>
                  <a:pt x="20282" y="15839"/>
                  <a:pt x="20263" y="15904"/>
                </a:cubicBezTo>
                <a:cubicBezTo>
                  <a:pt x="20243" y="15971"/>
                  <a:pt x="20177" y="16030"/>
                  <a:pt x="20120" y="16066"/>
                </a:cubicBezTo>
                <a:cubicBezTo>
                  <a:pt x="20085" y="16089"/>
                  <a:pt x="20039" y="16094"/>
                  <a:pt x="20021" y="16131"/>
                </a:cubicBezTo>
              </a:path>
              <a:path w="5666" h="1060">
                <a:moveTo>
                  <a:pt x="20740" y="15545"/>
                </a:moveTo>
                <a:cubicBezTo>
                  <a:pt x="20735" y="15598"/>
                  <a:pt x="20752" y="15641"/>
                  <a:pt x="20768" y="15692"/>
                </a:cubicBezTo>
                <a:cubicBezTo>
                  <a:pt x="20795" y="15779"/>
                  <a:pt x="20822" y="15865"/>
                  <a:pt x="20852" y="15951"/>
                </a:cubicBezTo>
                <a:cubicBezTo>
                  <a:pt x="20868" y="15996"/>
                  <a:pt x="20882" y="16044"/>
                  <a:pt x="20910" y="16083"/>
                </a:cubicBezTo>
                <a:cubicBezTo>
                  <a:pt x="20929" y="16022"/>
                  <a:pt x="20932" y="15961"/>
                  <a:pt x="20937" y="15897"/>
                </a:cubicBezTo>
                <a:cubicBezTo>
                  <a:pt x="20945" y="15801"/>
                  <a:pt x="20952" y="15705"/>
                  <a:pt x="20957" y="15609"/>
                </a:cubicBezTo>
                <a:cubicBezTo>
                  <a:pt x="20959" y="15572"/>
                  <a:pt x="20974" y="15506"/>
                  <a:pt x="20940" y="15507"/>
                </a:cubicBezTo>
              </a:path>
              <a:path w="5666" h="1060">
                <a:moveTo>
                  <a:pt x="20835" y="15851"/>
                </a:moveTo>
                <a:cubicBezTo>
                  <a:pt x="20816" y="15829"/>
                  <a:pt x="20846" y="15820"/>
                  <a:pt x="20866" y="15811"/>
                </a:cubicBezTo>
                <a:cubicBezTo>
                  <a:pt x="20909" y="15792"/>
                  <a:pt x="20949" y="15787"/>
                  <a:pt x="20996" y="15790"/>
                </a:cubicBezTo>
                <a:cubicBezTo>
                  <a:pt x="21029" y="15794"/>
                  <a:pt x="21039" y="15795"/>
                  <a:pt x="21060" y="15801"/>
                </a:cubicBezTo>
              </a:path>
              <a:path w="5666" h="1060">
                <a:moveTo>
                  <a:pt x="21087" y="15802"/>
                </a:moveTo>
                <a:cubicBezTo>
                  <a:pt x="21091" y="15832"/>
                  <a:pt x="21100" y="15858"/>
                  <a:pt x="21112" y="15886"/>
                </a:cubicBezTo>
                <a:cubicBezTo>
                  <a:pt x="21130" y="15929"/>
                  <a:pt x="21163" y="15969"/>
                  <a:pt x="21205" y="15991"/>
                </a:cubicBezTo>
                <a:cubicBezTo>
                  <a:pt x="21235" y="16007"/>
                  <a:pt x="21257" y="16000"/>
                  <a:pt x="21287" y="15994"/>
                </a:cubicBezTo>
              </a:path>
              <a:path w="5666" h="1060">
                <a:moveTo>
                  <a:pt x="21354" y="15746"/>
                </a:moveTo>
                <a:cubicBezTo>
                  <a:pt x="21323" y="15742"/>
                  <a:pt x="21302" y="15777"/>
                  <a:pt x="21288" y="15810"/>
                </a:cubicBezTo>
                <a:cubicBezTo>
                  <a:pt x="21261" y="15873"/>
                  <a:pt x="21233" y="15933"/>
                  <a:pt x="21214" y="15999"/>
                </a:cubicBezTo>
                <a:cubicBezTo>
                  <a:pt x="21205" y="16031"/>
                  <a:pt x="21194" y="16060"/>
                  <a:pt x="21181" y="16090"/>
                </a:cubicBezTo>
              </a:path>
              <a:path w="5666" h="1060">
                <a:moveTo>
                  <a:pt x="21310" y="15613"/>
                </a:moveTo>
                <a:cubicBezTo>
                  <a:pt x="21327" y="15660"/>
                  <a:pt x="21349" y="15705"/>
                  <a:pt x="21368" y="15751"/>
                </a:cubicBezTo>
                <a:cubicBezTo>
                  <a:pt x="21392" y="15810"/>
                  <a:pt x="21422" y="15866"/>
                  <a:pt x="21447" y="15924"/>
                </a:cubicBezTo>
                <a:cubicBezTo>
                  <a:pt x="21456" y="15949"/>
                  <a:pt x="21458" y="15955"/>
                  <a:pt x="21463" y="15971"/>
                </a:cubicBezTo>
                <a:cubicBezTo>
                  <a:pt x="21459" y="15925"/>
                  <a:pt x="21450" y="15880"/>
                  <a:pt x="21448" y="15833"/>
                </a:cubicBezTo>
                <a:cubicBezTo>
                  <a:pt x="21445" y="15749"/>
                  <a:pt x="21450" y="15665"/>
                  <a:pt x="21461" y="15582"/>
                </a:cubicBezTo>
                <a:cubicBezTo>
                  <a:pt x="21469" y="15522"/>
                  <a:pt x="21477" y="15448"/>
                  <a:pt x="21506" y="15394"/>
                </a:cubicBezTo>
                <a:cubicBezTo>
                  <a:pt x="21511" y="15388"/>
                  <a:pt x="21515" y="15383"/>
                  <a:pt x="21520" y="15377"/>
                </a:cubicBezTo>
                <a:cubicBezTo>
                  <a:pt x="21559" y="15389"/>
                  <a:pt x="21562" y="15434"/>
                  <a:pt x="21568" y="15475"/>
                </a:cubicBezTo>
                <a:cubicBezTo>
                  <a:pt x="21582" y="15575"/>
                  <a:pt x="21575" y="15681"/>
                  <a:pt x="21543" y="15777"/>
                </a:cubicBezTo>
                <a:cubicBezTo>
                  <a:pt x="21537" y="15795"/>
                  <a:pt x="21499" y="15895"/>
                  <a:pt x="21469" y="15893"/>
                </a:cubicBezTo>
                <a:cubicBezTo>
                  <a:pt x="21461" y="15879"/>
                  <a:pt x="21459" y="15873"/>
                  <a:pt x="21469" y="15862"/>
                </a:cubicBezTo>
              </a:path>
              <a:path w="5666" h="1060">
                <a:moveTo>
                  <a:pt x="21775" y="15632"/>
                </a:moveTo>
                <a:cubicBezTo>
                  <a:pt x="21778" y="15605"/>
                  <a:pt x="21749" y="15693"/>
                  <a:pt x="21746" y="15702"/>
                </a:cubicBezTo>
                <a:cubicBezTo>
                  <a:pt x="21724" y="15761"/>
                  <a:pt x="21703" y="15820"/>
                  <a:pt x="21694" y="15882"/>
                </a:cubicBezTo>
                <a:cubicBezTo>
                  <a:pt x="21687" y="15929"/>
                  <a:pt x="21682" y="15985"/>
                  <a:pt x="21721" y="16021"/>
                </a:cubicBezTo>
                <a:cubicBezTo>
                  <a:pt x="21753" y="16050"/>
                  <a:pt x="21810" y="16044"/>
                  <a:pt x="21849" y="16035"/>
                </a:cubicBezTo>
                <a:cubicBezTo>
                  <a:pt x="21877" y="16025"/>
                  <a:pt x="21886" y="16022"/>
                  <a:pt x="21903" y="16013"/>
                </a:cubicBezTo>
              </a:path>
              <a:path w="5666" h="1060">
                <a:moveTo>
                  <a:pt x="21891" y="15757"/>
                </a:moveTo>
                <a:cubicBezTo>
                  <a:pt x="21880" y="15731"/>
                  <a:pt x="21904" y="15780"/>
                  <a:pt x="21917" y="15804"/>
                </a:cubicBezTo>
                <a:cubicBezTo>
                  <a:pt x="21943" y="15851"/>
                  <a:pt x="21969" y="15898"/>
                  <a:pt x="21997" y="15944"/>
                </a:cubicBezTo>
                <a:cubicBezTo>
                  <a:pt x="22015" y="15974"/>
                  <a:pt x="22040" y="16014"/>
                  <a:pt x="22075" y="16027"/>
                </a:cubicBezTo>
                <a:cubicBezTo>
                  <a:pt x="22093" y="16034"/>
                  <a:pt x="22104" y="16023"/>
                  <a:pt x="22116" y="16014"/>
                </a:cubicBezTo>
              </a:path>
              <a:path w="5666" h="1060">
                <a:moveTo>
                  <a:pt x="22047" y="15782"/>
                </a:moveTo>
                <a:cubicBezTo>
                  <a:pt x="22014" y="15785"/>
                  <a:pt x="21984" y="15799"/>
                  <a:pt x="21964" y="15829"/>
                </a:cubicBezTo>
                <a:cubicBezTo>
                  <a:pt x="21937" y="15870"/>
                  <a:pt x="21916" y="15909"/>
                  <a:pt x="21907" y="15957"/>
                </a:cubicBezTo>
                <a:cubicBezTo>
                  <a:pt x="21900" y="15992"/>
                  <a:pt x="21892" y="15992"/>
                  <a:pt x="21920" y="15995"/>
                </a:cubicBezTo>
              </a:path>
              <a:path w="5666" h="1060">
                <a:moveTo>
                  <a:pt x="22149" y="15435"/>
                </a:moveTo>
                <a:cubicBezTo>
                  <a:pt x="22191" y="15433"/>
                  <a:pt x="22191" y="15472"/>
                  <a:pt x="22201" y="15509"/>
                </a:cubicBezTo>
                <a:cubicBezTo>
                  <a:pt x="22225" y="15602"/>
                  <a:pt x="22230" y="15700"/>
                  <a:pt x="22227" y="15796"/>
                </a:cubicBezTo>
                <a:cubicBezTo>
                  <a:pt x="22225" y="15873"/>
                  <a:pt x="22221" y="15958"/>
                  <a:pt x="22191" y="16031"/>
                </a:cubicBezTo>
                <a:cubicBezTo>
                  <a:pt x="22185" y="16041"/>
                  <a:pt x="22180" y="16052"/>
                  <a:pt x="22174" y="16062"/>
                </a:cubicBezTo>
              </a:path>
              <a:path w="5666" h="1060">
                <a:moveTo>
                  <a:pt x="20481" y="15293"/>
                </a:moveTo>
                <a:cubicBezTo>
                  <a:pt x="20445" y="15363"/>
                  <a:pt x="20409" y="15443"/>
                  <a:pt x="20390" y="15519"/>
                </a:cubicBezTo>
                <a:cubicBezTo>
                  <a:pt x="20350" y="15680"/>
                  <a:pt x="20332" y="15852"/>
                  <a:pt x="20358" y="16016"/>
                </a:cubicBezTo>
                <a:cubicBezTo>
                  <a:pt x="20381" y="16163"/>
                  <a:pt x="20454" y="16295"/>
                  <a:pt x="20604" y="16338"/>
                </a:cubicBezTo>
                <a:cubicBezTo>
                  <a:pt x="20640" y="16343"/>
                  <a:pt x="20676" y="16347"/>
                  <a:pt x="20712" y="16352"/>
                </a:cubicBezTo>
              </a:path>
              <a:path w="5666" h="1060">
                <a:moveTo>
                  <a:pt x="22326" y="15432"/>
                </a:moveTo>
                <a:cubicBezTo>
                  <a:pt x="22366" y="15414"/>
                  <a:pt x="22384" y="15421"/>
                  <a:pt x="22414" y="15457"/>
                </a:cubicBezTo>
                <a:cubicBezTo>
                  <a:pt x="22474" y="15528"/>
                  <a:pt x="22515" y="15621"/>
                  <a:pt x="22542" y="15709"/>
                </a:cubicBezTo>
                <a:cubicBezTo>
                  <a:pt x="22578" y="15828"/>
                  <a:pt x="22585" y="15971"/>
                  <a:pt x="22529" y="16084"/>
                </a:cubicBezTo>
                <a:cubicBezTo>
                  <a:pt x="22507" y="16129"/>
                  <a:pt x="22487" y="16144"/>
                  <a:pt x="22451" y="16161"/>
                </a:cubicBezTo>
              </a:path>
              <a:path w="5666" h="1060">
                <a:moveTo>
                  <a:pt x="22716" y="16018"/>
                </a:moveTo>
                <a:cubicBezTo>
                  <a:pt x="22731" y="16002"/>
                  <a:pt x="22722" y="15995"/>
                  <a:pt x="22727" y="15974"/>
                </a:cubicBezTo>
                <a:cubicBezTo>
                  <a:pt x="22740" y="15916"/>
                  <a:pt x="22762" y="15860"/>
                  <a:pt x="22784" y="15805"/>
                </a:cubicBezTo>
                <a:cubicBezTo>
                  <a:pt x="22808" y="15745"/>
                  <a:pt x="22834" y="15682"/>
                  <a:pt x="22866" y="15626"/>
                </a:cubicBezTo>
                <a:cubicBezTo>
                  <a:pt x="22881" y="15599"/>
                  <a:pt x="22884" y="15596"/>
                  <a:pt x="22909" y="15599"/>
                </a:cubicBezTo>
                <a:cubicBezTo>
                  <a:pt x="22924" y="15644"/>
                  <a:pt x="22931" y="15690"/>
                  <a:pt x="22939" y="15736"/>
                </a:cubicBezTo>
                <a:cubicBezTo>
                  <a:pt x="22949" y="15798"/>
                  <a:pt x="22960" y="15861"/>
                  <a:pt x="22978" y="15921"/>
                </a:cubicBezTo>
                <a:cubicBezTo>
                  <a:pt x="22985" y="15945"/>
                  <a:pt x="22995" y="15966"/>
                  <a:pt x="23009" y="15987"/>
                </a:cubicBezTo>
              </a:path>
              <a:path w="5666" h="1060">
                <a:moveTo>
                  <a:pt x="23385" y="15424"/>
                </a:moveTo>
                <a:cubicBezTo>
                  <a:pt x="23375" y="15402"/>
                  <a:pt x="23366" y="15370"/>
                  <a:pt x="23336" y="15370"/>
                </a:cubicBezTo>
                <a:cubicBezTo>
                  <a:pt x="23291" y="15370"/>
                  <a:pt x="23269" y="15438"/>
                  <a:pt x="23257" y="15473"/>
                </a:cubicBezTo>
                <a:cubicBezTo>
                  <a:pt x="23228" y="15556"/>
                  <a:pt x="23223" y="15650"/>
                  <a:pt x="23228" y="15738"/>
                </a:cubicBezTo>
                <a:cubicBezTo>
                  <a:pt x="23233" y="15819"/>
                  <a:pt x="23248" y="15912"/>
                  <a:pt x="23280" y="15987"/>
                </a:cubicBezTo>
                <a:cubicBezTo>
                  <a:pt x="23301" y="16035"/>
                  <a:pt x="23325" y="16055"/>
                  <a:pt x="23373" y="16060"/>
                </a:cubicBezTo>
              </a:path>
              <a:path w="5666" h="1060">
                <a:moveTo>
                  <a:pt x="23446" y="15528"/>
                </a:moveTo>
                <a:cubicBezTo>
                  <a:pt x="23443" y="15510"/>
                  <a:pt x="23443" y="15506"/>
                  <a:pt x="23441" y="15495"/>
                </a:cubicBezTo>
                <a:cubicBezTo>
                  <a:pt x="23436" y="15509"/>
                  <a:pt x="23431" y="15544"/>
                  <a:pt x="23436" y="15580"/>
                </a:cubicBezTo>
                <a:cubicBezTo>
                  <a:pt x="23446" y="15661"/>
                  <a:pt x="23465" y="15741"/>
                  <a:pt x="23492" y="15818"/>
                </a:cubicBezTo>
                <a:cubicBezTo>
                  <a:pt x="23511" y="15873"/>
                  <a:pt x="23532" y="15951"/>
                  <a:pt x="23576" y="15992"/>
                </a:cubicBezTo>
                <a:cubicBezTo>
                  <a:pt x="23582" y="15995"/>
                  <a:pt x="23589" y="15999"/>
                  <a:pt x="23595" y="16002"/>
                </a:cubicBezTo>
                <a:cubicBezTo>
                  <a:pt x="23623" y="15984"/>
                  <a:pt x="23626" y="15951"/>
                  <a:pt x="23632" y="15918"/>
                </a:cubicBezTo>
                <a:cubicBezTo>
                  <a:pt x="23643" y="15857"/>
                  <a:pt x="23650" y="15796"/>
                  <a:pt x="23658" y="15734"/>
                </a:cubicBezTo>
                <a:cubicBezTo>
                  <a:pt x="23664" y="15689"/>
                  <a:pt x="23676" y="15648"/>
                  <a:pt x="23678" y="15602"/>
                </a:cubicBezTo>
              </a:path>
              <a:path w="5666" h="1060">
                <a:moveTo>
                  <a:pt x="23505" y="15810"/>
                </a:moveTo>
                <a:cubicBezTo>
                  <a:pt x="23529" y="15803"/>
                  <a:pt x="23551" y="15797"/>
                  <a:pt x="23576" y="15792"/>
                </a:cubicBezTo>
                <a:cubicBezTo>
                  <a:pt x="23607" y="15785"/>
                  <a:pt x="23637" y="15783"/>
                  <a:pt x="23669" y="15784"/>
                </a:cubicBezTo>
                <a:cubicBezTo>
                  <a:pt x="23675" y="15784"/>
                  <a:pt x="23681" y="15785"/>
                  <a:pt x="23687" y="15785"/>
                </a:cubicBezTo>
              </a:path>
              <a:path w="5666" h="1060">
                <a:moveTo>
                  <a:pt x="23775" y="15765"/>
                </a:moveTo>
                <a:cubicBezTo>
                  <a:pt x="23785" y="15793"/>
                  <a:pt x="23798" y="15818"/>
                  <a:pt x="23809" y="15845"/>
                </a:cubicBezTo>
                <a:cubicBezTo>
                  <a:pt x="23834" y="15907"/>
                  <a:pt x="23862" y="15919"/>
                  <a:pt x="23922" y="15942"/>
                </a:cubicBezTo>
              </a:path>
              <a:path w="5666" h="1060">
                <a:moveTo>
                  <a:pt x="23989" y="15742"/>
                </a:moveTo>
                <a:cubicBezTo>
                  <a:pt x="23955" y="15788"/>
                  <a:pt x="23934" y="15835"/>
                  <a:pt x="23905" y="15884"/>
                </a:cubicBezTo>
                <a:cubicBezTo>
                  <a:pt x="23874" y="15937"/>
                  <a:pt x="23845" y="15992"/>
                  <a:pt x="23803" y="16038"/>
                </a:cubicBezTo>
                <a:cubicBezTo>
                  <a:pt x="23787" y="16056"/>
                  <a:pt x="23781" y="16060"/>
                  <a:pt x="23760" y="16062"/>
                </a:cubicBezTo>
              </a:path>
              <a:path w="5666" h="1060">
                <a:moveTo>
                  <a:pt x="24359" y="15502"/>
                </a:moveTo>
                <a:cubicBezTo>
                  <a:pt x="24282" y="15423"/>
                  <a:pt x="24246" y="15512"/>
                  <a:pt x="24195" y="15602"/>
                </a:cubicBezTo>
                <a:cubicBezTo>
                  <a:pt x="24152" y="15678"/>
                  <a:pt x="24140" y="15744"/>
                  <a:pt x="24141" y="15830"/>
                </a:cubicBezTo>
                <a:cubicBezTo>
                  <a:pt x="24142" y="15927"/>
                  <a:pt x="24208" y="15956"/>
                  <a:pt x="24297" y="15930"/>
                </a:cubicBezTo>
                <a:cubicBezTo>
                  <a:pt x="24408" y="15898"/>
                  <a:pt x="24459" y="15805"/>
                  <a:pt x="24472" y="15700"/>
                </a:cubicBezTo>
                <a:cubicBezTo>
                  <a:pt x="24470" y="15651"/>
                  <a:pt x="24467" y="15631"/>
                  <a:pt x="24448" y="15600"/>
                </a:cubicBezTo>
              </a:path>
              <a:path w="5666" h="1060">
                <a:moveTo>
                  <a:pt x="24687" y="15593"/>
                </a:moveTo>
                <a:cubicBezTo>
                  <a:pt x="24613" y="15673"/>
                  <a:pt x="24551" y="15742"/>
                  <a:pt x="24511" y="15843"/>
                </a:cubicBezTo>
                <a:cubicBezTo>
                  <a:pt x="24478" y="15926"/>
                  <a:pt x="24506" y="15928"/>
                  <a:pt x="24564" y="15980"/>
                </a:cubicBezTo>
              </a:path>
              <a:path w="5666" h="1060">
                <a:moveTo>
                  <a:pt x="24917" y="15534"/>
                </a:moveTo>
                <a:cubicBezTo>
                  <a:pt x="24931" y="15536"/>
                  <a:pt x="24946" y="15539"/>
                  <a:pt x="24960" y="15541"/>
                </a:cubicBezTo>
                <a:cubicBezTo>
                  <a:pt x="24963" y="15625"/>
                  <a:pt x="24979" y="15707"/>
                  <a:pt x="24982" y="15791"/>
                </a:cubicBezTo>
                <a:cubicBezTo>
                  <a:pt x="24984" y="15857"/>
                  <a:pt x="24977" y="15925"/>
                  <a:pt x="24976" y="15991"/>
                </a:cubicBezTo>
              </a:path>
              <a:path w="5666" h="1060">
                <a:moveTo>
                  <a:pt x="25106" y="15366"/>
                </a:moveTo>
                <a:cubicBezTo>
                  <a:pt x="25173" y="15408"/>
                  <a:pt x="25197" y="15480"/>
                  <a:pt x="25226" y="15564"/>
                </a:cubicBezTo>
                <a:cubicBezTo>
                  <a:pt x="25262" y="15671"/>
                  <a:pt x="25284" y="15794"/>
                  <a:pt x="25276" y="15907"/>
                </a:cubicBezTo>
                <a:cubicBezTo>
                  <a:pt x="25269" y="16003"/>
                  <a:pt x="25229" y="16014"/>
                  <a:pt x="25158" y="1605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927000" y="6149880"/>
            <a:ext cx="17640" cy="4680"/>
          </a:xfrm>
          <a:custGeom>
            <a:avLst/>
            <a:gdLst/>
            <a:ahLst/>
            <a:rect l="l" t="t" r="r" b="b"/>
            <a:pathLst>
              <a:path w="49" h="15">
                <a:moveTo>
                  <a:pt x="2575" y="17097"/>
                </a:moveTo>
                <a:cubicBezTo>
                  <a:pt x="2602" y="17080"/>
                  <a:pt x="2594" y="17081"/>
                  <a:pt x="2623" y="1709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39800" y="6040440"/>
            <a:ext cx="1022400" cy="357120"/>
          </a:xfrm>
          <a:custGeom>
            <a:avLst/>
            <a:gdLst/>
            <a:ahLst/>
            <a:rect l="l" t="t" r="r" b="b"/>
            <a:pathLst>
              <a:path w="2839" h="992">
                <a:moveTo>
                  <a:pt x="2438" y="17008"/>
                </a:moveTo>
                <a:cubicBezTo>
                  <a:pt x="2420" y="16995"/>
                  <a:pt x="2406" y="16993"/>
                  <a:pt x="2383" y="16999"/>
                </a:cubicBezTo>
                <a:cubicBezTo>
                  <a:pt x="2344" y="17008"/>
                  <a:pt x="2309" y="17029"/>
                  <a:pt x="2276" y="17051"/>
                </a:cubicBezTo>
                <a:cubicBezTo>
                  <a:pt x="2227" y="17084"/>
                  <a:pt x="2181" y="17120"/>
                  <a:pt x="2138" y="17160"/>
                </a:cubicBezTo>
                <a:cubicBezTo>
                  <a:pt x="2115" y="17182"/>
                  <a:pt x="2106" y="17193"/>
                  <a:pt x="2100" y="17221"/>
                </a:cubicBezTo>
                <a:cubicBezTo>
                  <a:pt x="2124" y="17242"/>
                  <a:pt x="2136" y="17246"/>
                  <a:pt x="2171" y="17254"/>
                </a:cubicBezTo>
                <a:cubicBezTo>
                  <a:pt x="2220" y="17265"/>
                  <a:pt x="2265" y="17283"/>
                  <a:pt x="2302" y="17319"/>
                </a:cubicBezTo>
                <a:cubicBezTo>
                  <a:pt x="2354" y="17370"/>
                  <a:pt x="2389" y="17462"/>
                  <a:pt x="2356" y="17533"/>
                </a:cubicBezTo>
                <a:cubicBezTo>
                  <a:pt x="2321" y="17606"/>
                  <a:pt x="2214" y="17647"/>
                  <a:pt x="2137" y="17636"/>
                </a:cubicBezTo>
                <a:cubicBezTo>
                  <a:pt x="2086" y="17624"/>
                  <a:pt x="2075" y="17629"/>
                  <a:pt x="2055" y="17605"/>
                </a:cubicBezTo>
                <a:cubicBezTo>
                  <a:pt x="2063" y="17562"/>
                  <a:pt x="2072" y="17551"/>
                  <a:pt x="2098" y="17514"/>
                </a:cubicBezTo>
              </a:path>
              <a:path w="2839" h="992">
                <a:moveTo>
                  <a:pt x="2594" y="17279"/>
                </a:moveTo>
                <a:cubicBezTo>
                  <a:pt x="2601" y="17325"/>
                  <a:pt x="2602" y="17370"/>
                  <a:pt x="2608" y="17416"/>
                </a:cubicBezTo>
                <a:cubicBezTo>
                  <a:pt x="2609" y="17422"/>
                  <a:pt x="2607" y="17580"/>
                  <a:pt x="2625" y="17530"/>
                </a:cubicBezTo>
              </a:path>
              <a:path w="2839" h="992">
                <a:moveTo>
                  <a:pt x="2785" y="17460"/>
                </a:moveTo>
                <a:cubicBezTo>
                  <a:pt x="2799" y="17504"/>
                  <a:pt x="2812" y="17550"/>
                  <a:pt x="2832" y="17589"/>
                </a:cubicBezTo>
                <a:cubicBezTo>
                  <a:pt x="2847" y="17554"/>
                  <a:pt x="2853" y="17522"/>
                  <a:pt x="2862" y="17483"/>
                </a:cubicBezTo>
                <a:cubicBezTo>
                  <a:pt x="2875" y="17423"/>
                  <a:pt x="2890" y="17361"/>
                  <a:pt x="2914" y="17304"/>
                </a:cubicBezTo>
                <a:cubicBezTo>
                  <a:pt x="2925" y="17283"/>
                  <a:pt x="2926" y="17278"/>
                  <a:pt x="2939" y="17270"/>
                </a:cubicBezTo>
                <a:cubicBezTo>
                  <a:pt x="2968" y="17294"/>
                  <a:pt x="2967" y="17335"/>
                  <a:pt x="2970" y="17373"/>
                </a:cubicBezTo>
                <a:cubicBezTo>
                  <a:pt x="2974" y="17414"/>
                  <a:pt x="2976" y="17454"/>
                  <a:pt x="2978" y="17495"/>
                </a:cubicBezTo>
                <a:cubicBezTo>
                  <a:pt x="2982" y="17450"/>
                  <a:pt x="2987" y="17405"/>
                  <a:pt x="2998" y="17361"/>
                </a:cubicBezTo>
                <a:cubicBezTo>
                  <a:pt x="3007" y="17323"/>
                  <a:pt x="3016" y="17291"/>
                  <a:pt x="3049" y="17273"/>
                </a:cubicBezTo>
                <a:cubicBezTo>
                  <a:pt x="3083" y="17303"/>
                  <a:pt x="3093" y="17340"/>
                  <a:pt x="3108" y="17383"/>
                </a:cubicBezTo>
                <a:cubicBezTo>
                  <a:pt x="3127" y="17438"/>
                  <a:pt x="3134" y="17487"/>
                  <a:pt x="3168" y="17535"/>
                </a:cubicBezTo>
              </a:path>
              <a:path w="2839" h="992">
                <a:moveTo>
                  <a:pt x="3308" y="17322"/>
                </a:moveTo>
                <a:cubicBezTo>
                  <a:pt x="3311" y="17375"/>
                  <a:pt x="3322" y="17423"/>
                  <a:pt x="3339" y="17474"/>
                </a:cubicBezTo>
                <a:cubicBezTo>
                  <a:pt x="3344" y="17485"/>
                  <a:pt x="3346" y="17487"/>
                  <a:pt x="3355" y="17474"/>
                </a:cubicBezTo>
              </a:path>
              <a:path w="2839" h="992">
                <a:moveTo>
                  <a:pt x="3557" y="17090"/>
                </a:moveTo>
                <a:cubicBezTo>
                  <a:pt x="3558" y="17150"/>
                  <a:pt x="3552" y="17211"/>
                  <a:pt x="3559" y="17270"/>
                </a:cubicBezTo>
                <a:cubicBezTo>
                  <a:pt x="3566" y="17331"/>
                  <a:pt x="3571" y="17402"/>
                  <a:pt x="3593" y="17459"/>
                </a:cubicBezTo>
                <a:cubicBezTo>
                  <a:pt x="3604" y="17487"/>
                  <a:pt x="3614" y="17496"/>
                  <a:pt x="3637" y="17510"/>
                </a:cubicBezTo>
              </a:path>
              <a:path w="2839" h="992">
                <a:moveTo>
                  <a:pt x="3850" y="17188"/>
                </a:moveTo>
                <a:cubicBezTo>
                  <a:pt x="3817" y="17202"/>
                  <a:pt x="3793" y="17237"/>
                  <a:pt x="3773" y="17268"/>
                </a:cubicBezTo>
                <a:cubicBezTo>
                  <a:pt x="3747" y="17310"/>
                  <a:pt x="3720" y="17361"/>
                  <a:pt x="3711" y="17410"/>
                </a:cubicBezTo>
                <a:cubicBezTo>
                  <a:pt x="3710" y="17430"/>
                  <a:pt x="3709" y="17434"/>
                  <a:pt x="3714" y="17446"/>
                </a:cubicBezTo>
                <a:cubicBezTo>
                  <a:pt x="3742" y="17441"/>
                  <a:pt x="3766" y="17425"/>
                  <a:pt x="3789" y="17407"/>
                </a:cubicBezTo>
                <a:cubicBezTo>
                  <a:pt x="3820" y="17383"/>
                  <a:pt x="3844" y="17353"/>
                  <a:pt x="3885" y="17348"/>
                </a:cubicBezTo>
                <a:cubicBezTo>
                  <a:pt x="3930" y="17342"/>
                  <a:pt x="3963" y="17410"/>
                  <a:pt x="3978" y="17438"/>
                </a:cubicBezTo>
                <a:cubicBezTo>
                  <a:pt x="3986" y="17455"/>
                  <a:pt x="3995" y="17473"/>
                  <a:pt x="4003" y="17490"/>
                </a:cubicBezTo>
              </a:path>
              <a:path w="2839" h="992">
                <a:moveTo>
                  <a:pt x="4058" y="17430"/>
                </a:moveTo>
                <a:cubicBezTo>
                  <a:pt x="4062" y="17445"/>
                  <a:pt x="4066" y="17459"/>
                  <a:pt x="4069" y="17474"/>
                </a:cubicBezTo>
                <a:cubicBezTo>
                  <a:pt x="4071" y="17438"/>
                  <a:pt x="4072" y="17402"/>
                  <a:pt x="4081" y="17367"/>
                </a:cubicBezTo>
                <a:cubicBezTo>
                  <a:pt x="4090" y="17333"/>
                  <a:pt x="4106" y="17283"/>
                  <a:pt x="4137" y="17261"/>
                </a:cubicBezTo>
                <a:cubicBezTo>
                  <a:pt x="4167" y="17240"/>
                  <a:pt x="4206" y="17244"/>
                  <a:pt x="4240" y="17247"/>
                </a:cubicBezTo>
              </a:path>
              <a:path w="2839" h="992">
                <a:moveTo>
                  <a:pt x="4434" y="16781"/>
                </a:moveTo>
                <a:cubicBezTo>
                  <a:pt x="4442" y="16853"/>
                  <a:pt x="4433" y="16924"/>
                  <a:pt x="4434" y="16997"/>
                </a:cubicBezTo>
                <a:cubicBezTo>
                  <a:pt x="4436" y="17111"/>
                  <a:pt x="4445" y="17225"/>
                  <a:pt x="4457" y="17339"/>
                </a:cubicBezTo>
                <a:cubicBezTo>
                  <a:pt x="4460" y="17369"/>
                  <a:pt x="4461" y="17469"/>
                  <a:pt x="4497" y="17486"/>
                </a:cubicBezTo>
                <a:cubicBezTo>
                  <a:pt x="4516" y="17495"/>
                  <a:pt x="4532" y="17454"/>
                  <a:pt x="4537" y="17446"/>
                </a:cubicBezTo>
              </a:path>
              <a:path w="2839" h="992">
                <a:moveTo>
                  <a:pt x="4661" y="17339"/>
                </a:moveTo>
                <a:cubicBezTo>
                  <a:pt x="4666" y="17368"/>
                  <a:pt x="4669" y="17424"/>
                  <a:pt x="4692" y="17446"/>
                </a:cubicBezTo>
                <a:cubicBezTo>
                  <a:pt x="4719" y="17471"/>
                  <a:pt x="4756" y="17446"/>
                  <a:pt x="4776" y="17426"/>
                </a:cubicBezTo>
                <a:cubicBezTo>
                  <a:pt x="4821" y="17381"/>
                  <a:pt x="4841" y="17316"/>
                  <a:pt x="4882" y="17268"/>
                </a:cubicBezTo>
                <a:cubicBezTo>
                  <a:pt x="4897" y="17355"/>
                  <a:pt x="4881" y="17435"/>
                  <a:pt x="4865" y="17523"/>
                </a:cubicBezTo>
                <a:cubicBezTo>
                  <a:pt x="4850" y="17607"/>
                  <a:pt x="4840" y="17689"/>
                  <a:pt x="4819" y="1777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917720" y="6056280"/>
            <a:ext cx="330120" cy="195120"/>
          </a:xfrm>
          <a:custGeom>
            <a:avLst/>
            <a:gdLst/>
            <a:ahLst/>
            <a:rect l="l" t="t" r="r" b="b"/>
            <a:pathLst>
              <a:path w="917" h="543">
                <a:moveTo>
                  <a:pt x="5507" y="17358"/>
                </a:moveTo>
                <a:cubicBezTo>
                  <a:pt x="5518" y="17361"/>
                  <a:pt x="5521" y="17362"/>
                  <a:pt x="5528" y="17365"/>
                </a:cubicBezTo>
                <a:cubicBezTo>
                  <a:pt x="5523" y="17336"/>
                  <a:pt x="5513" y="17303"/>
                  <a:pt x="5504" y="17272"/>
                </a:cubicBezTo>
                <a:cubicBezTo>
                  <a:pt x="5485" y="17203"/>
                  <a:pt x="5463" y="17133"/>
                  <a:pt x="5453" y="17062"/>
                </a:cubicBezTo>
                <a:cubicBezTo>
                  <a:pt x="5444" y="17000"/>
                  <a:pt x="5433" y="16918"/>
                  <a:pt x="5455" y="16858"/>
                </a:cubicBezTo>
                <a:cubicBezTo>
                  <a:pt x="5476" y="16799"/>
                  <a:pt x="5520" y="16831"/>
                  <a:pt x="5552" y="16859"/>
                </a:cubicBezTo>
                <a:cubicBezTo>
                  <a:pt x="5603" y="16904"/>
                  <a:pt x="5649" y="16956"/>
                  <a:pt x="5681" y="17016"/>
                </a:cubicBezTo>
                <a:cubicBezTo>
                  <a:pt x="5687" y="17029"/>
                  <a:pt x="5692" y="17042"/>
                  <a:pt x="5698" y="17055"/>
                </a:cubicBezTo>
              </a:path>
              <a:path w="917" h="543">
                <a:moveTo>
                  <a:pt x="5394" y="17225"/>
                </a:moveTo>
                <a:cubicBezTo>
                  <a:pt x="5365" y="17232"/>
                  <a:pt x="5345" y="17242"/>
                  <a:pt x="5326" y="17229"/>
                </a:cubicBezTo>
                <a:cubicBezTo>
                  <a:pt x="5377" y="17189"/>
                  <a:pt x="5441" y="17162"/>
                  <a:pt x="5503" y="17141"/>
                </a:cubicBezTo>
                <a:cubicBezTo>
                  <a:pt x="5592" y="17112"/>
                  <a:pt x="5685" y="17100"/>
                  <a:pt x="5777" y="17091"/>
                </a:cubicBezTo>
              </a:path>
              <a:path w="917" h="543">
                <a:moveTo>
                  <a:pt x="5900" y="17165"/>
                </a:moveTo>
                <a:cubicBezTo>
                  <a:pt x="5872" y="17190"/>
                  <a:pt x="5836" y="17217"/>
                  <a:pt x="5814" y="17246"/>
                </a:cubicBezTo>
                <a:cubicBezTo>
                  <a:pt x="5799" y="17265"/>
                  <a:pt x="5778" y="17299"/>
                  <a:pt x="5783" y="17324"/>
                </a:cubicBezTo>
                <a:cubicBezTo>
                  <a:pt x="5786" y="17325"/>
                  <a:pt x="5790" y="17327"/>
                  <a:pt x="5793" y="17328"/>
                </a:cubicBezTo>
                <a:cubicBezTo>
                  <a:pt x="5831" y="17322"/>
                  <a:pt x="5857" y="17304"/>
                  <a:pt x="5885" y="17276"/>
                </a:cubicBezTo>
                <a:cubicBezTo>
                  <a:pt x="5916" y="17245"/>
                  <a:pt x="5943" y="17205"/>
                  <a:pt x="5958" y="17163"/>
                </a:cubicBezTo>
                <a:cubicBezTo>
                  <a:pt x="5964" y="17141"/>
                  <a:pt x="5965" y="17135"/>
                  <a:pt x="5967" y="17121"/>
                </a:cubicBezTo>
                <a:cubicBezTo>
                  <a:pt x="5976" y="17142"/>
                  <a:pt x="5979" y="17144"/>
                  <a:pt x="5990" y="17163"/>
                </a:cubicBezTo>
                <a:cubicBezTo>
                  <a:pt x="6012" y="17200"/>
                  <a:pt x="6037" y="17233"/>
                  <a:pt x="6060" y="17269"/>
                </a:cubicBezTo>
                <a:cubicBezTo>
                  <a:pt x="6080" y="17299"/>
                  <a:pt x="6094" y="17328"/>
                  <a:pt x="6118" y="17356"/>
                </a:cubicBezTo>
                <a:cubicBezTo>
                  <a:pt x="6121" y="17332"/>
                  <a:pt x="6126" y="17308"/>
                  <a:pt x="6128" y="17281"/>
                </a:cubicBezTo>
                <a:cubicBezTo>
                  <a:pt x="6131" y="17239"/>
                  <a:pt x="6136" y="17196"/>
                  <a:pt x="6155" y="17157"/>
                </a:cubicBezTo>
                <a:cubicBezTo>
                  <a:pt x="6169" y="17129"/>
                  <a:pt x="6179" y="17105"/>
                  <a:pt x="6212" y="17101"/>
                </a:cubicBezTo>
                <a:cubicBezTo>
                  <a:pt x="6227" y="17101"/>
                  <a:pt x="6232" y="17101"/>
                  <a:pt x="6242" y="1710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500200" y="6051600"/>
            <a:ext cx="594000" cy="174600"/>
          </a:xfrm>
          <a:custGeom>
            <a:avLst/>
            <a:gdLst/>
            <a:ahLst/>
            <a:rect l="l" t="t" r="r" b="b"/>
            <a:pathLst>
              <a:path w="1648" h="485">
                <a:moveTo>
                  <a:pt x="6946" y="17039"/>
                </a:moveTo>
                <a:cubicBezTo>
                  <a:pt x="6953" y="17074"/>
                  <a:pt x="6958" y="17109"/>
                  <a:pt x="6965" y="17145"/>
                </a:cubicBezTo>
                <a:cubicBezTo>
                  <a:pt x="6970" y="17171"/>
                  <a:pt x="6966" y="17245"/>
                  <a:pt x="6985" y="17198"/>
                </a:cubicBezTo>
              </a:path>
              <a:path w="1648" h="485">
                <a:moveTo>
                  <a:pt x="6982" y="16892"/>
                </a:moveTo>
                <a:cubicBezTo>
                  <a:pt x="6985" y="16875"/>
                  <a:pt x="6987" y="16827"/>
                  <a:pt x="7008" y="16819"/>
                </a:cubicBezTo>
                <a:cubicBezTo>
                  <a:pt x="7035" y="16809"/>
                  <a:pt x="7057" y="16818"/>
                  <a:pt x="7077" y="16843"/>
                </a:cubicBezTo>
                <a:cubicBezTo>
                  <a:pt x="7115" y="16891"/>
                  <a:pt x="7134" y="16964"/>
                  <a:pt x="7147" y="17022"/>
                </a:cubicBezTo>
                <a:cubicBezTo>
                  <a:pt x="7165" y="17102"/>
                  <a:pt x="7166" y="17186"/>
                  <a:pt x="7181" y="17267"/>
                </a:cubicBezTo>
                <a:cubicBezTo>
                  <a:pt x="7184" y="17276"/>
                  <a:pt x="7186" y="17286"/>
                  <a:pt x="7189" y="17295"/>
                </a:cubicBezTo>
                <a:cubicBezTo>
                  <a:pt x="7197" y="17258"/>
                  <a:pt x="7205" y="17221"/>
                  <a:pt x="7211" y="17183"/>
                </a:cubicBezTo>
                <a:cubicBezTo>
                  <a:pt x="7219" y="17134"/>
                  <a:pt x="7225" y="17048"/>
                  <a:pt x="7277" y="17023"/>
                </a:cubicBezTo>
                <a:cubicBezTo>
                  <a:pt x="7316" y="17005"/>
                  <a:pt x="7350" y="17070"/>
                  <a:pt x="7364" y="17094"/>
                </a:cubicBezTo>
                <a:cubicBezTo>
                  <a:pt x="7398" y="17151"/>
                  <a:pt x="7421" y="17221"/>
                  <a:pt x="7464" y="17272"/>
                </a:cubicBezTo>
                <a:cubicBezTo>
                  <a:pt x="7469" y="17276"/>
                  <a:pt x="7473" y="17280"/>
                  <a:pt x="7478" y="17284"/>
                </a:cubicBezTo>
              </a:path>
              <a:path w="1648" h="485">
                <a:moveTo>
                  <a:pt x="7553" y="17107"/>
                </a:moveTo>
                <a:cubicBezTo>
                  <a:pt x="7564" y="17127"/>
                  <a:pt x="7561" y="17150"/>
                  <a:pt x="7567" y="17172"/>
                </a:cubicBezTo>
                <a:cubicBezTo>
                  <a:pt x="7576" y="17206"/>
                  <a:pt x="7590" y="17240"/>
                  <a:pt x="7610" y="17269"/>
                </a:cubicBezTo>
                <a:cubicBezTo>
                  <a:pt x="7621" y="17283"/>
                  <a:pt x="7623" y="17288"/>
                  <a:pt x="7634" y="17291"/>
                </a:cubicBezTo>
                <a:cubicBezTo>
                  <a:pt x="7664" y="17275"/>
                  <a:pt x="7672" y="17250"/>
                  <a:pt x="7682" y="17217"/>
                </a:cubicBezTo>
                <a:cubicBezTo>
                  <a:pt x="7696" y="17168"/>
                  <a:pt x="7712" y="17114"/>
                  <a:pt x="7719" y="17064"/>
                </a:cubicBezTo>
                <a:cubicBezTo>
                  <a:pt x="7723" y="17037"/>
                  <a:pt x="7720" y="17024"/>
                  <a:pt x="7732" y="17000"/>
                </a:cubicBezTo>
              </a:path>
              <a:path w="1648" h="485">
                <a:moveTo>
                  <a:pt x="7852" y="17148"/>
                </a:moveTo>
                <a:cubicBezTo>
                  <a:pt x="7873" y="17127"/>
                  <a:pt x="7904" y="17097"/>
                  <a:pt x="7915" y="17070"/>
                </a:cubicBezTo>
                <a:cubicBezTo>
                  <a:pt x="7927" y="17041"/>
                  <a:pt x="7933" y="17012"/>
                  <a:pt x="7933" y="16981"/>
                </a:cubicBezTo>
                <a:cubicBezTo>
                  <a:pt x="7894" y="16973"/>
                  <a:pt x="7882" y="16986"/>
                  <a:pt x="7857" y="17020"/>
                </a:cubicBezTo>
                <a:cubicBezTo>
                  <a:pt x="7826" y="17062"/>
                  <a:pt x="7811" y="17112"/>
                  <a:pt x="7809" y="17164"/>
                </a:cubicBezTo>
                <a:cubicBezTo>
                  <a:pt x="7807" y="17204"/>
                  <a:pt x="7822" y="17251"/>
                  <a:pt x="7861" y="17267"/>
                </a:cubicBezTo>
                <a:cubicBezTo>
                  <a:pt x="7885" y="17273"/>
                  <a:pt x="7893" y="17275"/>
                  <a:pt x="7910" y="17272"/>
                </a:cubicBezTo>
              </a:path>
              <a:path w="1648" h="485">
                <a:moveTo>
                  <a:pt x="8052" y="17196"/>
                </a:moveTo>
                <a:cubicBezTo>
                  <a:pt x="8051" y="17211"/>
                  <a:pt x="8049" y="17225"/>
                  <a:pt x="8048" y="17240"/>
                </a:cubicBezTo>
                <a:cubicBezTo>
                  <a:pt x="8042" y="17215"/>
                  <a:pt x="8044" y="17196"/>
                  <a:pt x="8047" y="17170"/>
                </a:cubicBezTo>
                <a:cubicBezTo>
                  <a:pt x="8051" y="17130"/>
                  <a:pt x="8054" y="17099"/>
                  <a:pt x="8072" y="17064"/>
                </a:cubicBezTo>
                <a:cubicBezTo>
                  <a:pt x="8089" y="17031"/>
                  <a:pt x="8110" y="17024"/>
                  <a:pt x="8144" y="17015"/>
                </a:cubicBezTo>
              </a:path>
              <a:path w="1648" h="485">
                <a:moveTo>
                  <a:pt x="8357" y="17027"/>
                </a:moveTo>
                <a:cubicBezTo>
                  <a:pt x="8335" y="17003"/>
                  <a:pt x="8322" y="16999"/>
                  <a:pt x="8296" y="17024"/>
                </a:cubicBezTo>
                <a:cubicBezTo>
                  <a:pt x="8282" y="17037"/>
                  <a:pt x="8277" y="17059"/>
                  <a:pt x="8285" y="17076"/>
                </a:cubicBezTo>
                <a:cubicBezTo>
                  <a:pt x="8297" y="17101"/>
                  <a:pt x="8332" y="17114"/>
                  <a:pt x="8353" y="17130"/>
                </a:cubicBezTo>
                <a:cubicBezTo>
                  <a:pt x="8386" y="17156"/>
                  <a:pt x="8417" y="17188"/>
                  <a:pt x="8441" y="17222"/>
                </a:cubicBezTo>
                <a:cubicBezTo>
                  <a:pt x="8448" y="17232"/>
                  <a:pt x="8485" y="17291"/>
                  <a:pt x="8438" y="17283"/>
                </a:cubicBezTo>
                <a:cubicBezTo>
                  <a:pt x="8418" y="17280"/>
                  <a:pt x="8389" y="17227"/>
                  <a:pt x="8382" y="17212"/>
                </a:cubicBezTo>
                <a:cubicBezTo>
                  <a:pt x="8379" y="17203"/>
                  <a:pt x="8376" y="17193"/>
                  <a:pt x="8373" y="17184"/>
                </a:cubicBezTo>
              </a:path>
              <a:path w="1648" h="485">
                <a:moveTo>
                  <a:pt x="8497" y="17133"/>
                </a:moveTo>
                <a:cubicBezTo>
                  <a:pt x="8528" y="17116"/>
                  <a:pt x="8538" y="17099"/>
                  <a:pt x="8562" y="17076"/>
                </a:cubicBezTo>
                <a:cubicBezTo>
                  <a:pt x="8578" y="17061"/>
                  <a:pt x="8583" y="17057"/>
                  <a:pt x="8593" y="17037"/>
                </a:cubicBezTo>
                <a:cubicBezTo>
                  <a:pt x="8560" y="17042"/>
                  <a:pt x="8544" y="17056"/>
                  <a:pt x="8519" y="17080"/>
                </a:cubicBezTo>
                <a:cubicBezTo>
                  <a:pt x="8506" y="17092"/>
                  <a:pt x="8474" y="17122"/>
                  <a:pt x="8477" y="17144"/>
                </a:cubicBezTo>
                <a:cubicBezTo>
                  <a:pt x="8480" y="17168"/>
                  <a:pt x="8508" y="17179"/>
                  <a:pt x="8529" y="17185"/>
                </a:cubicBezTo>
                <a:cubicBezTo>
                  <a:pt x="8536" y="17186"/>
                  <a:pt x="8542" y="17188"/>
                  <a:pt x="8549" y="1718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373560" y="5983200"/>
            <a:ext cx="1011240" cy="236520"/>
          </a:xfrm>
          <a:custGeom>
            <a:avLst/>
            <a:gdLst/>
            <a:ahLst/>
            <a:rect l="l" t="t" r="r" b="b"/>
            <a:pathLst>
              <a:path w="2807" h="658">
                <a:moveTo>
                  <a:pt x="9573" y="17042"/>
                </a:moveTo>
                <a:cubicBezTo>
                  <a:pt x="9541" y="17033"/>
                  <a:pt x="9508" y="17035"/>
                  <a:pt x="9478" y="17056"/>
                </a:cubicBezTo>
                <a:cubicBezTo>
                  <a:pt x="9439" y="17083"/>
                  <a:pt x="9404" y="17127"/>
                  <a:pt x="9384" y="17169"/>
                </a:cubicBezTo>
                <a:cubicBezTo>
                  <a:pt x="9368" y="17202"/>
                  <a:pt x="9370" y="17215"/>
                  <a:pt x="9382" y="17245"/>
                </a:cubicBezTo>
                <a:cubicBezTo>
                  <a:pt x="9429" y="17251"/>
                  <a:pt x="9458" y="17227"/>
                  <a:pt x="9490" y="17192"/>
                </a:cubicBezTo>
                <a:cubicBezTo>
                  <a:pt x="9556" y="17120"/>
                  <a:pt x="9597" y="17021"/>
                  <a:pt x="9615" y="16926"/>
                </a:cubicBezTo>
                <a:cubicBezTo>
                  <a:pt x="9624" y="16878"/>
                  <a:pt x="9628" y="16829"/>
                  <a:pt x="9623" y="16780"/>
                </a:cubicBezTo>
                <a:cubicBezTo>
                  <a:pt x="9603" y="16831"/>
                  <a:pt x="9604" y="16886"/>
                  <a:pt x="9609" y="16941"/>
                </a:cubicBezTo>
                <a:cubicBezTo>
                  <a:pt x="9616" y="17022"/>
                  <a:pt x="9630" y="17102"/>
                  <a:pt x="9676" y="17171"/>
                </a:cubicBezTo>
                <a:cubicBezTo>
                  <a:pt x="9701" y="17200"/>
                  <a:pt x="9707" y="17208"/>
                  <a:pt x="9731" y="17216"/>
                </a:cubicBezTo>
              </a:path>
              <a:path w="2807" h="658">
                <a:moveTo>
                  <a:pt x="9871" y="17065"/>
                </a:moveTo>
                <a:cubicBezTo>
                  <a:pt x="9877" y="17109"/>
                  <a:pt x="9880" y="17152"/>
                  <a:pt x="9884" y="17196"/>
                </a:cubicBezTo>
                <a:cubicBezTo>
                  <a:pt x="9887" y="17230"/>
                  <a:pt x="9890" y="17246"/>
                  <a:pt x="9904" y="17276"/>
                </a:cubicBezTo>
                <a:cubicBezTo>
                  <a:pt x="9924" y="17254"/>
                  <a:pt x="9921" y="17245"/>
                  <a:pt x="9925" y="17213"/>
                </a:cubicBezTo>
              </a:path>
              <a:path w="2807" h="658">
                <a:moveTo>
                  <a:pt x="9894" y="16920"/>
                </a:moveTo>
                <a:cubicBezTo>
                  <a:pt x="9883" y="16869"/>
                  <a:pt x="9868" y="16813"/>
                  <a:pt x="9873" y="16760"/>
                </a:cubicBezTo>
                <a:cubicBezTo>
                  <a:pt x="9876" y="16731"/>
                  <a:pt x="9878" y="16721"/>
                  <a:pt x="9906" y="16725"/>
                </a:cubicBezTo>
              </a:path>
              <a:path w="2807" h="658">
                <a:moveTo>
                  <a:pt x="10052" y="17041"/>
                </a:moveTo>
                <a:cubicBezTo>
                  <a:pt x="10060" y="17081"/>
                  <a:pt x="10062" y="17139"/>
                  <a:pt x="10082" y="17175"/>
                </a:cubicBezTo>
                <a:cubicBezTo>
                  <a:pt x="10086" y="17179"/>
                  <a:pt x="10089" y="17183"/>
                  <a:pt x="10093" y="17187"/>
                </a:cubicBezTo>
                <a:cubicBezTo>
                  <a:pt x="10113" y="17150"/>
                  <a:pt x="10120" y="17108"/>
                  <a:pt x="10131" y="17066"/>
                </a:cubicBezTo>
                <a:cubicBezTo>
                  <a:pt x="10147" y="17007"/>
                  <a:pt x="10170" y="16960"/>
                  <a:pt x="10205" y="16912"/>
                </a:cubicBezTo>
                <a:cubicBezTo>
                  <a:pt x="10230" y="16877"/>
                  <a:pt x="10262" y="16858"/>
                  <a:pt x="10307" y="16874"/>
                </a:cubicBezTo>
                <a:cubicBezTo>
                  <a:pt x="10316" y="16879"/>
                  <a:pt x="10324" y="16884"/>
                  <a:pt x="10333" y="16889"/>
                </a:cubicBezTo>
              </a:path>
              <a:path w="2807" h="658">
                <a:moveTo>
                  <a:pt x="10406" y="16996"/>
                </a:moveTo>
                <a:cubicBezTo>
                  <a:pt x="10438" y="16995"/>
                  <a:pt x="10441" y="16985"/>
                  <a:pt x="10468" y="16966"/>
                </a:cubicBezTo>
                <a:cubicBezTo>
                  <a:pt x="10490" y="16950"/>
                  <a:pt x="10513" y="16934"/>
                  <a:pt x="10530" y="16912"/>
                </a:cubicBezTo>
                <a:cubicBezTo>
                  <a:pt x="10538" y="16900"/>
                  <a:pt x="10541" y="16895"/>
                  <a:pt x="10544" y="16885"/>
                </a:cubicBezTo>
                <a:cubicBezTo>
                  <a:pt x="10518" y="16893"/>
                  <a:pt x="10495" y="16914"/>
                  <a:pt x="10477" y="16935"/>
                </a:cubicBezTo>
                <a:cubicBezTo>
                  <a:pt x="10450" y="16967"/>
                  <a:pt x="10423" y="17008"/>
                  <a:pt x="10414" y="17049"/>
                </a:cubicBezTo>
                <a:cubicBezTo>
                  <a:pt x="10405" y="17089"/>
                  <a:pt x="10421" y="17124"/>
                  <a:pt x="10456" y="17145"/>
                </a:cubicBezTo>
                <a:cubicBezTo>
                  <a:pt x="10508" y="17176"/>
                  <a:pt x="10596" y="17168"/>
                  <a:pt x="10654" y="17168"/>
                </a:cubicBezTo>
              </a:path>
              <a:path w="2807" h="658">
                <a:moveTo>
                  <a:pt x="10884" y="17045"/>
                </a:moveTo>
                <a:cubicBezTo>
                  <a:pt x="10880" y="17016"/>
                  <a:pt x="10879" y="16979"/>
                  <a:pt x="10850" y="16962"/>
                </a:cubicBezTo>
                <a:cubicBezTo>
                  <a:pt x="10820" y="16945"/>
                  <a:pt x="10784" y="16975"/>
                  <a:pt x="10766" y="16994"/>
                </a:cubicBezTo>
                <a:cubicBezTo>
                  <a:pt x="10737" y="17024"/>
                  <a:pt x="10716" y="17065"/>
                  <a:pt x="10727" y="17107"/>
                </a:cubicBezTo>
                <a:cubicBezTo>
                  <a:pt x="10738" y="17149"/>
                  <a:pt x="10777" y="17172"/>
                  <a:pt x="10817" y="17175"/>
                </a:cubicBezTo>
                <a:cubicBezTo>
                  <a:pt x="10855" y="17174"/>
                  <a:pt x="10867" y="17174"/>
                  <a:pt x="10892" y="17167"/>
                </a:cubicBezTo>
              </a:path>
              <a:path w="2807" h="658">
                <a:moveTo>
                  <a:pt x="11095" y="16686"/>
                </a:moveTo>
                <a:cubicBezTo>
                  <a:pt x="11090" y="16652"/>
                  <a:pt x="11089" y="16643"/>
                  <a:pt x="11079" y="16623"/>
                </a:cubicBezTo>
                <a:cubicBezTo>
                  <a:pt x="11045" y="16630"/>
                  <a:pt x="11040" y="16690"/>
                  <a:pt x="11034" y="16725"/>
                </a:cubicBezTo>
                <a:cubicBezTo>
                  <a:pt x="11017" y="16822"/>
                  <a:pt x="11018" y="16922"/>
                  <a:pt x="11023" y="17020"/>
                </a:cubicBezTo>
                <a:cubicBezTo>
                  <a:pt x="11026" y="17090"/>
                  <a:pt x="11038" y="17158"/>
                  <a:pt x="11052" y="17227"/>
                </a:cubicBezTo>
              </a:path>
              <a:path w="2807" h="658">
                <a:moveTo>
                  <a:pt x="10988" y="16994"/>
                </a:moveTo>
                <a:cubicBezTo>
                  <a:pt x="10993" y="16954"/>
                  <a:pt x="10996" y="16949"/>
                  <a:pt x="11029" y="16927"/>
                </a:cubicBezTo>
                <a:cubicBezTo>
                  <a:pt x="11077" y="16896"/>
                  <a:pt x="11144" y="16894"/>
                  <a:pt x="11200" y="16885"/>
                </a:cubicBezTo>
              </a:path>
              <a:path w="2807" h="658">
                <a:moveTo>
                  <a:pt x="11424" y="17015"/>
                </a:moveTo>
                <a:cubicBezTo>
                  <a:pt x="11420" y="17041"/>
                  <a:pt x="11410" y="17073"/>
                  <a:pt x="11412" y="17100"/>
                </a:cubicBezTo>
                <a:cubicBezTo>
                  <a:pt x="11413" y="17114"/>
                  <a:pt x="11419" y="17126"/>
                  <a:pt x="11424" y="17139"/>
                </a:cubicBezTo>
              </a:path>
              <a:path w="2807" h="658">
                <a:moveTo>
                  <a:pt x="11610" y="16975"/>
                </a:moveTo>
                <a:cubicBezTo>
                  <a:pt x="11593" y="17002"/>
                  <a:pt x="11562" y="17027"/>
                  <a:pt x="11547" y="17052"/>
                </a:cubicBezTo>
                <a:cubicBezTo>
                  <a:pt x="11541" y="17062"/>
                  <a:pt x="11524" y="17101"/>
                  <a:pt x="11537" y="17113"/>
                </a:cubicBezTo>
                <a:cubicBezTo>
                  <a:pt x="11555" y="17129"/>
                  <a:pt x="11588" y="17106"/>
                  <a:pt x="11603" y="17098"/>
                </a:cubicBezTo>
                <a:cubicBezTo>
                  <a:pt x="11636" y="17079"/>
                  <a:pt x="11660" y="17053"/>
                  <a:pt x="11683" y="17023"/>
                </a:cubicBezTo>
                <a:cubicBezTo>
                  <a:pt x="11695" y="17007"/>
                  <a:pt x="11714" y="16981"/>
                  <a:pt x="11721" y="16962"/>
                </a:cubicBezTo>
                <a:cubicBezTo>
                  <a:pt x="11728" y="16943"/>
                  <a:pt x="11722" y="16946"/>
                  <a:pt x="11739" y="16935"/>
                </a:cubicBezTo>
                <a:cubicBezTo>
                  <a:pt x="11769" y="16961"/>
                  <a:pt x="11784" y="16987"/>
                  <a:pt x="11798" y="17024"/>
                </a:cubicBezTo>
                <a:cubicBezTo>
                  <a:pt x="11809" y="17052"/>
                  <a:pt x="11816" y="17081"/>
                  <a:pt x="11826" y="17109"/>
                </a:cubicBezTo>
                <a:cubicBezTo>
                  <a:pt x="11831" y="17120"/>
                  <a:pt x="11832" y="17124"/>
                  <a:pt x="11837" y="17130"/>
                </a:cubicBezTo>
                <a:cubicBezTo>
                  <a:pt x="11854" y="17109"/>
                  <a:pt x="11863" y="17085"/>
                  <a:pt x="11874" y="17059"/>
                </a:cubicBezTo>
                <a:cubicBezTo>
                  <a:pt x="11885" y="17032"/>
                  <a:pt x="11898" y="17002"/>
                  <a:pt x="11927" y="16991"/>
                </a:cubicBezTo>
                <a:cubicBezTo>
                  <a:pt x="11952" y="16981"/>
                  <a:pt x="11968" y="17013"/>
                  <a:pt x="11977" y="17030"/>
                </a:cubicBezTo>
                <a:cubicBezTo>
                  <a:pt x="11991" y="17055"/>
                  <a:pt x="11998" y="17081"/>
                  <a:pt x="12018" y="17102"/>
                </a:cubicBezTo>
                <a:cubicBezTo>
                  <a:pt x="12031" y="17115"/>
                  <a:pt x="12034" y="17110"/>
                  <a:pt x="12049" y="17113"/>
                </a:cubicBezTo>
              </a:path>
              <a:path w="2807" h="658">
                <a:moveTo>
                  <a:pt x="12128" y="17139"/>
                </a:moveTo>
                <a:cubicBezTo>
                  <a:pt x="12146" y="17147"/>
                  <a:pt x="12156" y="17152"/>
                  <a:pt x="12171" y="17135"/>
                </a:cubicBezTo>
                <a:cubicBezTo>
                  <a:pt x="12173" y="17131"/>
                  <a:pt x="12176" y="17127"/>
                  <a:pt x="12178" y="1712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072040" y="3360600"/>
            <a:ext cx="2154240" cy="42840"/>
          </a:xfrm>
          <a:custGeom>
            <a:avLst/>
            <a:gdLst/>
            <a:ahLst/>
            <a:rect l="l" t="t" r="r" b="b"/>
            <a:pathLst>
              <a:path w="5981" h="117">
                <a:moveTo>
                  <a:pt x="14119" y="9452"/>
                </a:moveTo>
                <a:cubicBezTo>
                  <a:pt x="14106" y="9435"/>
                  <a:pt x="14100" y="9421"/>
                  <a:pt x="14091" y="9405"/>
                </a:cubicBezTo>
                <a:cubicBezTo>
                  <a:pt x="14112" y="9399"/>
                  <a:pt x="14135" y="9377"/>
                  <a:pt x="14163" y="9372"/>
                </a:cubicBezTo>
                <a:cubicBezTo>
                  <a:pt x="15034" y="9209"/>
                  <a:pt x="16024" y="9393"/>
                  <a:pt x="16906" y="9395"/>
                </a:cubicBezTo>
                <a:cubicBezTo>
                  <a:pt x="17625" y="9397"/>
                  <a:pt x="18345" y="9426"/>
                  <a:pt x="19064" y="9439"/>
                </a:cubicBezTo>
                <a:cubicBezTo>
                  <a:pt x="19411" y="9445"/>
                  <a:pt x="20345" y="9606"/>
                  <a:pt x="20039" y="9442"/>
                </a:cubicBezTo>
                <a:cubicBezTo>
                  <a:pt x="19995" y="9440"/>
                  <a:pt x="19979" y="9439"/>
                  <a:pt x="19949" y="943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797200" y="3927600"/>
            <a:ext cx="2049480" cy="25200"/>
          </a:xfrm>
          <a:custGeom>
            <a:avLst/>
            <a:gdLst/>
            <a:ahLst/>
            <a:rect l="l" t="t" r="r" b="b"/>
            <a:pathLst>
              <a:path w="5693" h="70">
                <a:moveTo>
                  <a:pt x="7789" y="10974"/>
                </a:moveTo>
                <a:cubicBezTo>
                  <a:pt x="7777" y="10957"/>
                  <a:pt x="7778" y="10950"/>
                  <a:pt x="7770" y="10935"/>
                </a:cubicBezTo>
                <a:cubicBezTo>
                  <a:pt x="7966" y="10935"/>
                  <a:pt x="8162" y="10954"/>
                  <a:pt x="8359" y="10955"/>
                </a:cubicBezTo>
                <a:cubicBezTo>
                  <a:pt x="8686" y="10957"/>
                  <a:pt x="9016" y="10955"/>
                  <a:pt x="9343" y="10948"/>
                </a:cubicBezTo>
                <a:cubicBezTo>
                  <a:pt x="9584" y="10943"/>
                  <a:pt x="9824" y="10922"/>
                  <a:pt x="10065" y="10918"/>
                </a:cubicBezTo>
                <a:cubicBezTo>
                  <a:pt x="10661" y="10908"/>
                  <a:pt x="11274" y="10875"/>
                  <a:pt x="11868" y="10935"/>
                </a:cubicBezTo>
                <a:cubicBezTo>
                  <a:pt x="12258" y="10975"/>
                  <a:pt x="12646" y="11003"/>
                  <a:pt x="13037" y="10954"/>
                </a:cubicBezTo>
                <a:cubicBezTo>
                  <a:pt x="13176" y="10937"/>
                  <a:pt x="13555" y="10830"/>
                  <a:pt x="13453" y="10927"/>
                </a:cubicBezTo>
                <a:cubicBezTo>
                  <a:pt x="13434" y="10945"/>
                  <a:pt x="13416" y="10930"/>
                  <a:pt x="13369" y="1093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778360" y="3929040"/>
            <a:ext cx="1987560" cy="46080"/>
          </a:xfrm>
          <a:custGeom>
            <a:avLst/>
            <a:gdLst/>
            <a:ahLst/>
            <a:rect l="l" t="t" r="r" b="b"/>
            <a:pathLst>
              <a:path w="5523" h="129">
                <a:moveTo>
                  <a:pt x="16063" y="11040"/>
                </a:moveTo>
                <a:cubicBezTo>
                  <a:pt x="16074" y="11030"/>
                  <a:pt x="16033" y="10988"/>
                  <a:pt x="16059" y="10977"/>
                </a:cubicBezTo>
                <a:cubicBezTo>
                  <a:pt x="16105" y="10958"/>
                  <a:pt x="16174" y="10970"/>
                  <a:pt x="16222" y="10968"/>
                </a:cubicBezTo>
                <a:cubicBezTo>
                  <a:pt x="16817" y="10937"/>
                  <a:pt x="17409" y="10914"/>
                  <a:pt x="18005" y="10913"/>
                </a:cubicBezTo>
                <a:cubicBezTo>
                  <a:pt x="18999" y="10912"/>
                  <a:pt x="19992" y="10946"/>
                  <a:pt x="20986" y="10931"/>
                </a:cubicBezTo>
                <a:cubicBezTo>
                  <a:pt x="21075" y="10930"/>
                  <a:pt x="21532" y="10875"/>
                  <a:pt x="21564" y="10930"/>
                </a:cubicBezTo>
                <a:cubicBezTo>
                  <a:pt x="21543" y="10939"/>
                  <a:pt x="21535" y="10942"/>
                  <a:pt x="21521" y="1095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75360" y="4308480"/>
            <a:ext cx="2706840" cy="98280"/>
          </a:xfrm>
          <a:custGeom>
            <a:avLst/>
            <a:gdLst/>
            <a:ahLst/>
            <a:rect l="l" t="t" r="r" b="b"/>
            <a:pathLst>
              <a:path w="7517" h="275">
                <a:moveTo>
                  <a:pt x="16878" y="12185"/>
                </a:moveTo>
                <a:cubicBezTo>
                  <a:pt x="16936" y="12156"/>
                  <a:pt x="16981" y="12117"/>
                  <a:pt x="17045" y="12096"/>
                </a:cubicBezTo>
                <a:cubicBezTo>
                  <a:pt x="17159" y="12059"/>
                  <a:pt x="17289" y="12047"/>
                  <a:pt x="17408" y="12035"/>
                </a:cubicBezTo>
                <a:cubicBezTo>
                  <a:pt x="18317" y="11941"/>
                  <a:pt x="19256" y="11972"/>
                  <a:pt x="20168" y="11967"/>
                </a:cubicBezTo>
                <a:cubicBezTo>
                  <a:pt x="21462" y="11961"/>
                  <a:pt x="22808" y="11937"/>
                  <a:pt x="24092" y="12127"/>
                </a:cubicBezTo>
                <a:cubicBezTo>
                  <a:pt x="24183" y="12140"/>
                  <a:pt x="24312" y="12146"/>
                  <a:pt x="24394" y="12194"/>
                </a:cubicBezTo>
                <a:cubicBezTo>
                  <a:pt x="24386" y="12209"/>
                  <a:pt x="24377" y="12225"/>
                  <a:pt x="24369" y="1224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288120" y="4449600"/>
            <a:ext cx="2370240" cy="41400"/>
          </a:xfrm>
          <a:custGeom>
            <a:avLst/>
            <a:gdLst/>
            <a:ahLst/>
            <a:rect l="l" t="t" r="r" b="b"/>
            <a:pathLst>
              <a:path w="6582" h="114">
                <a:moveTo>
                  <a:pt x="17624" y="12378"/>
                </a:moveTo>
                <a:cubicBezTo>
                  <a:pt x="17572" y="12399"/>
                  <a:pt x="17517" y="12413"/>
                  <a:pt x="17468" y="12441"/>
                </a:cubicBezTo>
                <a:cubicBezTo>
                  <a:pt x="17468" y="12445"/>
                  <a:pt x="17468" y="12450"/>
                  <a:pt x="17468" y="12454"/>
                </a:cubicBezTo>
                <a:cubicBezTo>
                  <a:pt x="17539" y="12461"/>
                  <a:pt x="17610" y="12473"/>
                  <a:pt x="17686" y="12474"/>
                </a:cubicBezTo>
                <a:cubicBezTo>
                  <a:pt x="18550" y="12483"/>
                  <a:pt x="19414" y="12358"/>
                  <a:pt x="20281" y="12363"/>
                </a:cubicBezTo>
                <a:cubicBezTo>
                  <a:pt x="21479" y="12370"/>
                  <a:pt x="22682" y="12419"/>
                  <a:pt x="23879" y="12451"/>
                </a:cubicBezTo>
                <a:cubicBezTo>
                  <a:pt x="23936" y="12453"/>
                  <a:pt x="23992" y="12464"/>
                  <a:pt x="24049" y="1246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1217520" y="76320"/>
            <a:ext cx="67950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0000"/>
                </a:solidFill>
                <a:latin typeface="Arial"/>
              </a:rPr>
              <a:t>Rules of Inference, Proof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62600" y="914400"/>
            <a:ext cx="79837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’ll provide a list.  Know how to use them to prove stateme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les of Inference for nested qualifiers (Universal instantiation, etc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of methods, Direct proof, Proof by Contraposition, Proofs by Contradi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406520" y="4405320"/>
            <a:ext cx="206280" cy="117360"/>
          </a:xfrm>
          <a:custGeom>
            <a:avLst/>
            <a:gdLst/>
            <a:ahLst/>
            <a:rect l="l" t="t" r="r" b="b"/>
            <a:pathLst>
              <a:path w="574" h="328">
                <a:moveTo>
                  <a:pt x="3906" y="12563"/>
                </a:moveTo>
                <a:lnTo>
                  <a:pt x="3906" y="12563"/>
                </a:lnTo>
              </a:path>
              <a:path w="574" h="328">
                <a:moveTo>
                  <a:pt x="4479" y="12236"/>
                </a:moveTo>
                <a:lnTo>
                  <a:pt x="4479" y="12236"/>
                </a:ln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7792920" y="900000"/>
            <a:ext cx="559080" cy="316080"/>
          </a:xfrm>
          <a:custGeom>
            <a:avLst/>
            <a:gdLst/>
            <a:ahLst/>
            <a:rect l="l" t="t" r="r" b="b"/>
            <a:pathLst>
              <a:path w="1554" h="876">
                <a:moveTo>
                  <a:pt x="21680" y="2836"/>
                </a:moveTo>
                <a:cubicBezTo>
                  <a:pt x="21685" y="2878"/>
                  <a:pt x="21686" y="2922"/>
                  <a:pt x="21687" y="2965"/>
                </a:cubicBezTo>
                <a:cubicBezTo>
                  <a:pt x="21688" y="3026"/>
                  <a:pt x="21693" y="3088"/>
                  <a:pt x="21697" y="3149"/>
                </a:cubicBezTo>
                <a:cubicBezTo>
                  <a:pt x="21700" y="3191"/>
                  <a:pt x="21706" y="3233"/>
                  <a:pt x="21709" y="3275"/>
                </a:cubicBezTo>
                <a:cubicBezTo>
                  <a:pt x="21709" y="3279"/>
                  <a:pt x="21709" y="3282"/>
                  <a:pt x="21709" y="3286"/>
                </a:cubicBezTo>
                <a:cubicBezTo>
                  <a:pt x="21701" y="3248"/>
                  <a:pt x="21692" y="3211"/>
                  <a:pt x="21688" y="3172"/>
                </a:cubicBezTo>
                <a:cubicBezTo>
                  <a:pt x="21678" y="3083"/>
                  <a:pt x="21672" y="2995"/>
                  <a:pt x="21675" y="2905"/>
                </a:cubicBezTo>
                <a:cubicBezTo>
                  <a:pt x="21678" y="2808"/>
                  <a:pt x="21687" y="2708"/>
                  <a:pt x="21717" y="2615"/>
                </a:cubicBezTo>
                <a:cubicBezTo>
                  <a:pt x="21735" y="2558"/>
                  <a:pt x="21755" y="2523"/>
                  <a:pt x="21809" y="2502"/>
                </a:cubicBezTo>
                <a:cubicBezTo>
                  <a:pt x="21855" y="2524"/>
                  <a:pt x="21873" y="2554"/>
                  <a:pt x="21881" y="2607"/>
                </a:cubicBezTo>
                <a:cubicBezTo>
                  <a:pt x="21898" y="2717"/>
                  <a:pt x="21851" y="2823"/>
                  <a:pt x="21782" y="2905"/>
                </a:cubicBezTo>
                <a:cubicBezTo>
                  <a:pt x="21748" y="2945"/>
                  <a:pt x="21712" y="2959"/>
                  <a:pt x="21669" y="2985"/>
                </a:cubicBezTo>
                <a:cubicBezTo>
                  <a:pt x="21657" y="2992"/>
                  <a:pt x="21653" y="2994"/>
                  <a:pt x="21647" y="3001"/>
                </a:cubicBezTo>
                <a:cubicBezTo>
                  <a:pt x="21656" y="3034"/>
                  <a:pt x="21666" y="3055"/>
                  <a:pt x="21687" y="3086"/>
                </a:cubicBezTo>
                <a:cubicBezTo>
                  <a:pt x="21736" y="3159"/>
                  <a:pt x="21798" y="3244"/>
                  <a:pt x="21873" y="3291"/>
                </a:cubicBezTo>
                <a:cubicBezTo>
                  <a:pt x="21926" y="3325"/>
                  <a:pt x="21959" y="3295"/>
                  <a:pt x="21992" y="3255"/>
                </a:cubicBezTo>
              </a:path>
              <a:path w="1554" h="876">
                <a:moveTo>
                  <a:pt x="22123" y="2962"/>
                </a:moveTo>
                <a:cubicBezTo>
                  <a:pt x="22108" y="2997"/>
                  <a:pt x="22095" y="3040"/>
                  <a:pt x="22094" y="3079"/>
                </a:cubicBezTo>
                <a:cubicBezTo>
                  <a:pt x="22092" y="3135"/>
                  <a:pt x="22103" y="3195"/>
                  <a:pt x="22123" y="3247"/>
                </a:cubicBezTo>
                <a:cubicBezTo>
                  <a:pt x="22135" y="3270"/>
                  <a:pt x="22136" y="3277"/>
                  <a:pt x="22151" y="3285"/>
                </a:cubicBezTo>
                <a:cubicBezTo>
                  <a:pt x="22192" y="3280"/>
                  <a:pt x="22201" y="3251"/>
                  <a:pt x="22219" y="3213"/>
                </a:cubicBezTo>
                <a:cubicBezTo>
                  <a:pt x="22246" y="3155"/>
                  <a:pt x="22265" y="3094"/>
                  <a:pt x="22290" y="3035"/>
                </a:cubicBezTo>
                <a:cubicBezTo>
                  <a:pt x="22303" y="3009"/>
                  <a:pt x="22305" y="3002"/>
                  <a:pt x="22318" y="2989"/>
                </a:cubicBezTo>
                <a:cubicBezTo>
                  <a:pt x="22349" y="3009"/>
                  <a:pt x="22339" y="3067"/>
                  <a:pt x="22339" y="3103"/>
                </a:cubicBezTo>
                <a:cubicBezTo>
                  <a:pt x="22340" y="3176"/>
                  <a:pt x="22339" y="3250"/>
                  <a:pt x="22345" y="3322"/>
                </a:cubicBezTo>
                <a:cubicBezTo>
                  <a:pt x="22348" y="3345"/>
                  <a:pt x="22347" y="3351"/>
                  <a:pt x="22357" y="3362"/>
                </a:cubicBezTo>
              </a:path>
              <a:path w="1554" h="876">
                <a:moveTo>
                  <a:pt x="22476" y="2647"/>
                </a:moveTo>
                <a:cubicBezTo>
                  <a:pt x="22479" y="2699"/>
                  <a:pt x="22478" y="2724"/>
                  <a:pt x="22481" y="2776"/>
                </a:cubicBezTo>
                <a:cubicBezTo>
                  <a:pt x="22488" y="2891"/>
                  <a:pt x="22505" y="3005"/>
                  <a:pt x="22521" y="3119"/>
                </a:cubicBezTo>
                <a:cubicBezTo>
                  <a:pt x="22532" y="3196"/>
                  <a:pt x="22543" y="3292"/>
                  <a:pt x="22585" y="3360"/>
                </a:cubicBezTo>
                <a:cubicBezTo>
                  <a:pt x="22591" y="3366"/>
                  <a:pt x="22596" y="3371"/>
                  <a:pt x="22602" y="3377"/>
                </a:cubicBezTo>
              </a:path>
              <a:path w="1554" h="876">
                <a:moveTo>
                  <a:pt x="22584" y="3110"/>
                </a:moveTo>
                <a:cubicBezTo>
                  <a:pt x="22585" y="3107"/>
                  <a:pt x="22615" y="3078"/>
                  <a:pt x="22650" y="3058"/>
                </a:cubicBezTo>
                <a:cubicBezTo>
                  <a:pt x="22732" y="3011"/>
                  <a:pt x="22813" y="2964"/>
                  <a:pt x="22893" y="2914"/>
                </a:cubicBezTo>
                <a:cubicBezTo>
                  <a:pt x="22944" y="2882"/>
                  <a:pt x="22995" y="2848"/>
                  <a:pt x="23042" y="2810"/>
                </a:cubicBezTo>
                <a:cubicBezTo>
                  <a:pt x="22991" y="2830"/>
                  <a:pt x="22952" y="2861"/>
                  <a:pt x="22909" y="2895"/>
                </a:cubicBezTo>
                <a:cubicBezTo>
                  <a:pt x="22847" y="2945"/>
                  <a:pt x="22787" y="2995"/>
                  <a:pt x="22737" y="3058"/>
                </a:cubicBezTo>
                <a:cubicBezTo>
                  <a:pt x="22713" y="3089"/>
                  <a:pt x="22677" y="3139"/>
                  <a:pt x="22715" y="3174"/>
                </a:cubicBezTo>
                <a:cubicBezTo>
                  <a:pt x="22748" y="3204"/>
                  <a:pt x="22819" y="3217"/>
                  <a:pt x="22861" y="3224"/>
                </a:cubicBezTo>
                <a:cubicBezTo>
                  <a:pt x="22895" y="3230"/>
                  <a:pt x="22926" y="3228"/>
                  <a:pt x="22960" y="3225"/>
                </a:cubicBezTo>
              </a:path>
              <a:path w="1554" h="876">
                <a:moveTo>
                  <a:pt x="23099" y="2899"/>
                </a:moveTo>
                <a:cubicBezTo>
                  <a:pt x="23085" y="2883"/>
                  <a:pt x="23061" y="2873"/>
                  <a:pt x="23038" y="2877"/>
                </a:cubicBezTo>
                <a:cubicBezTo>
                  <a:pt x="23021" y="2880"/>
                  <a:pt x="22993" y="2903"/>
                  <a:pt x="22996" y="2923"/>
                </a:cubicBezTo>
                <a:cubicBezTo>
                  <a:pt x="23002" y="2962"/>
                  <a:pt x="23046" y="2996"/>
                  <a:pt x="23073" y="3020"/>
                </a:cubicBezTo>
                <a:cubicBezTo>
                  <a:pt x="23114" y="3057"/>
                  <a:pt x="23157" y="3090"/>
                  <a:pt x="23184" y="3140"/>
                </a:cubicBezTo>
                <a:cubicBezTo>
                  <a:pt x="23203" y="3176"/>
                  <a:pt x="23205" y="3214"/>
                  <a:pt x="23175" y="3244"/>
                </a:cubicBezTo>
                <a:cubicBezTo>
                  <a:pt x="23149" y="3270"/>
                  <a:pt x="23104" y="3281"/>
                  <a:pt x="23068" y="3275"/>
                </a:cubicBezTo>
                <a:cubicBezTo>
                  <a:pt x="23022" y="3267"/>
                  <a:pt x="23012" y="3236"/>
                  <a:pt x="22997" y="319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8461440" y="976320"/>
            <a:ext cx="193680" cy="250920"/>
          </a:xfrm>
          <a:custGeom>
            <a:avLst/>
            <a:gdLst/>
            <a:ahLst/>
            <a:rect l="l" t="t" r="r" b="b"/>
            <a:pathLst>
              <a:path w="539" h="696">
                <a:moveTo>
                  <a:pt x="23622" y="3066"/>
                </a:moveTo>
                <a:cubicBezTo>
                  <a:pt x="23645" y="3018"/>
                  <a:pt x="23589" y="3118"/>
                  <a:pt x="23588" y="3120"/>
                </a:cubicBezTo>
                <a:cubicBezTo>
                  <a:pt x="23555" y="3180"/>
                  <a:pt x="23525" y="3239"/>
                  <a:pt x="23510" y="3307"/>
                </a:cubicBezTo>
                <a:cubicBezTo>
                  <a:pt x="23501" y="3348"/>
                  <a:pt x="23505" y="3367"/>
                  <a:pt x="23519" y="3403"/>
                </a:cubicBezTo>
                <a:cubicBezTo>
                  <a:pt x="23568" y="3407"/>
                  <a:pt x="23594" y="3390"/>
                  <a:pt x="23628" y="3352"/>
                </a:cubicBezTo>
                <a:cubicBezTo>
                  <a:pt x="23663" y="3313"/>
                  <a:pt x="23690" y="3256"/>
                  <a:pt x="23698" y="3204"/>
                </a:cubicBezTo>
                <a:cubicBezTo>
                  <a:pt x="23703" y="3174"/>
                  <a:pt x="23701" y="3088"/>
                  <a:pt x="23687" y="3115"/>
                </a:cubicBezTo>
                <a:cubicBezTo>
                  <a:pt x="23686" y="3123"/>
                  <a:pt x="23686" y="3130"/>
                  <a:pt x="23685" y="3138"/>
                </a:cubicBezTo>
              </a:path>
              <a:path w="539" h="696">
                <a:moveTo>
                  <a:pt x="23812" y="3339"/>
                </a:moveTo>
                <a:cubicBezTo>
                  <a:pt x="23835" y="3295"/>
                  <a:pt x="23819" y="3276"/>
                  <a:pt x="23812" y="3227"/>
                </a:cubicBezTo>
                <a:cubicBezTo>
                  <a:pt x="23801" y="3153"/>
                  <a:pt x="23802" y="3074"/>
                  <a:pt x="23805" y="2999"/>
                </a:cubicBezTo>
                <a:cubicBezTo>
                  <a:pt x="23808" y="2924"/>
                  <a:pt x="23810" y="2846"/>
                  <a:pt x="23835" y="2775"/>
                </a:cubicBezTo>
                <a:cubicBezTo>
                  <a:pt x="23869" y="2676"/>
                  <a:pt x="23967" y="2727"/>
                  <a:pt x="24017" y="2782"/>
                </a:cubicBezTo>
                <a:cubicBezTo>
                  <a:pt x="24025" y="2797"/>
                  <a:pt x="24034" y="2812"/>
                  <a:pt x="24042" y="2827"/>
                </a:cubicBezTo>
              </a:path>
              <a:path w="539" h="696">
                <a:moveTo>
                  <a:pt x="23646" y="3067"/>
                </a:moveTo>
                <a:cubicBezTo>
                  <a:pt x="23687" y="3073"/>
                  <a:pt x="23741" y="3060"/>
                  <a:pt x="23783" y="3052"/>
                </a:cubicBezTo>
                <a:cubicBezTo>
                  <a:pt x="23866" y="3036"/>
                  <a:pt x="23924" y="3022"/>
                  <a:pt x="23982" y="308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859880" y="1289160"/>
            <a:ext cx="979200" cy="263520"/>
          </a:xfrm>
          <a:custGeom>
            <a:avLst/>
            <a:gdLst/>
            <a:ahLst/>
            <a:rect l="l" t="t" r="r" b="b"/>
            <a:pathLst>
              <a:path w="2719" h="730">
                <a:moveTo>
                  <a:pt x="21935" y="3878"/>
                </a:moveTo>
                <a:cubicBezTo>
                  <a:pt x="21959" y="3887"/>
                  <a:pt x="21937" y="3922"/>
                  <a:pt x="21936" y="3946"/>
                </a:cubicBezTo>
                <a:cubicBezTo>
                  <a:pt x="21933" y="4007"/>
                  <a:pt x="21942" y="4068"/>
                  <a:pt x="21940" y="4129"/>
                </a:cubicBezTo>
                <a:cubicBezTo>
                  <a:pt x="21939" y="4156"/>
                  <a:pt x="21935" y="4181"/>
                  <a:pt x="21935" y="4208"/>
                </a:cubicBezTo>
              </a:path>
              <a:path w="2719" h="730">
                <a:moveTo>
                  <a:pt x="21872" y="3796"/>
                </a:moveTo>
                <a:cubicBezTo>
                  <a:pt x="21861" y="3771"/>
                  <a:pt x="21821" y="3704"/>
                  <a:pt x="21840" y="3678"/>
                </a:cubicBezTo>
                <a:cubicBezTo>
                  <a:pt x="21859" y="3652"/>
                  <a:pt x="21893" y="3666"/>
                  <a:pt x="21914" y="3680"/>
                </a:cubicBezTo>
                <a:cubicBezTo>
                  <a:pt x="21942" y="3703"/>
                  <a:pt x="21953" y="3712"/>
                  <a:pt x="21969" y="3731"/>
                </a:cubicBezTo>
              </a:path>
              <a:path w="2719" h="730">
                <a:moveTo>
                  <a:pt x="22104" y="4159"/>
                </a:moveTo>
                <a:cubicBezTo>
                  <a:pt x="22110" y="4201"/>
                  <a:pt x="22111" y="4245"/>
                  <a:pt x="22122" y="4286"/>
                </a:cubicBezTo>
                <a:cubicBezTo>
                  <a:pt x="22137" y="4249"/>
                  <a:pt x="22147" y="4209"/>
                  <a:pt x="22161" y="4171"/>
                </a:cubicBezTo>
                <a:cubicBezTo>
                  <a:pt x="22180" y="4117"/>
                  <a:pt x="22194" y="4055"/>
                  <a:pt x="22224" y="4005"/>
                </a:cubicBezTo>
                <a:cubicBezTo>
                  <a:pt x="22236" y="3990"/>
                  <a:pt x="22238" y="3985"/>
                  <a:pt x="22250" y="3983"/>
                </a:cubicBezTo>
                <a:cubicBezTo>
                  <a:pt x="22276" y="4017"/>
                  <a:pt x="22284" y="4067"/>
                  <a:pt x="22291" y="4111"/>
                </a:cubicBezTo>
                <a:cubicBezTo>
                  <a:pt x="22300" y="4168"/>
                  <a:pt x="22302" y="4226"/>
                  <a:pt x="22319" y="4282"/>
                </a:cubicBezTo>
                <a:cubicBezTo>
                  <a:pt x="22321" y="4288"/>
                  <a:pt x="22324" y="4293"/>
                  <a:pt x="22326" y="4299"/>
                </a:cubicBezTo>
              </a:path>
              <a:path w="2719" h="730">
                <a:moveTo>
                  <a:pt x="22440" y="3593"/>
                </a:moveTo>
                <a:cubicBezTo>
                  <a:pt x="22453" y="3568"/>
                  <a:pt x="22450" y="3687"/>
                  <a:pt x="22450" y="3695"/>
                </a:cubicBezTo>
                <a:cubicBezTo>
                  <a:pt x="22451" y="3808"/>
                  <a:pt x="22455" y="3921"/>
                  <a:pt x="22463" y="4034"/>
                </a:cubicBezTo>
                <a:cubicBezTo>
                  <a:pt x="22469" y="4118"/>
                  <a:pt x="22468" y="4200"/>
                  <a:pt x="22471" y="4284"/>
                </a:cubicBezTo>
                <a:cubicBezTo>
                  <a:pt x="22471" y="4289"/>
                  <a:pt x="22472" y="4294"/>
                  <a:pt x="22472" y="4299"/>
                </a:cubicBezTo>
              </a:path>
              <a:path w="2719" h="730">
                <a:moveTo>
                  <a:pt x="22380" y="3929"/>
                </a:moveTo>
                <a:cubicBezTo>
                  <a:pt x="22386" y="3898"/>
                  <a:pt x="22408" y="3904"/>
                  <a:pt x="22437" y="3899"/>
                </a:cubicBezTo>
                <a:cubicBezTo>
                  <a:pt x="22495" y="3889"/>
                  <a:pt x="22548" y="3877"/>
                  <a:pt x="22607" y="3876"/>
                </a:cubicBezTo>
                <a:cubicBezTo>
                  <a:pt x="22648" y="3877"/>
                  <a:pt x="22661" y="3877"/>
                  <a:pt x="22687" y="3882"/>
                </a:cubicBezTo>
              </a:path>
              <a:path w="2719" h="730">
                <a:moveTo>
                  <a:pt x="22663" y="4188"/>
                </a:moveTo>
                <a:cubicBezTo>
                  <a:pt x="22699" y="4167"/>
                  <a:pt x="22730" y="4128"/>
                  <a:pt x="22759" y="4098"/>
                </a:cubicBezTo>
                <a:cubicBezTo>
                  <a:pt x="22801" y="4055"/>
                  <a:pt x="22847" y="4012"/>
                  <a:pt x="22881" y="3962"/>
                </a:cubicBezTo>
                <a:cubicBezTo>
                  <a:pt x="22892" y="3942"/>
                  <a:pt x="22895" y="3937"/>
                  <a:pt x="22896" y="3922"/>
                </a:cubicBezTo>
                <a:cubicBezTo>
                  <a:pt x="22848" y="3936"/>
                  <a:pt x="22819" y="3971"/>
                  <a:pt x="22784" y="4008"/>
                </a:cubicBezTo>
                <a:cubicBezTo>
                  <a:pt x="22748" y="4047"/>
                  <a:pt x="22668" y="4137"/>
                  <a:pt x="22699" y="4199"/>
                </a:cubicBezTo>
                <a:cubicBezTo>
                  <a:pt x="22722" y="4245"/>
                  <a:pt x="22817" y="4216"/>
                  <a:pt x="22852" y="4208"/>
                </a:cubicBezTo>
                <a:cubicBezTo>
                  <a:pt x="22906" y="4193"/>
                  <a:pt x="22923" y="4188"/>
                  <a:pt x="22956" y="4171"/>
                </a:cubicBezTo>
              </a:path>
              <a:path w="2719" h="730">
                <a:moveTo>
                  <a:pt x="23066" y="4222"/>
                </a:moveTo>
                <a:cubicBezTo>
                  <a:pt x="23045" y="4241"/>
                  <a:pt x="23024" y="4272"/>
                  <a:pt x="22997" y="4243"/>
                </a:cubicBezTo>
                <a:cubicBezTo>
                  <a:pt x="22973" y="4218"/>
                  <a:pt x="22981" y="4145"/>
                  <a:pt x="22983" y="4116"/>
                </a:cubicBezTo>
                <a:cubicBezTo>
                  <a:pt x="22987" y="4044"/>
                  <a:pt x="23001" y="3975"/>
                  <a:pt x="23021" y="3906"/>
                </a:cubicBezTo>
                <a:cubicBezTo>
                  <a:pt x="23037" y="3850"/>
                  <a:pt x="23049" y="3796"/>
                  <a:pt x="23081" y="3747"/>
                </a:cubicBezTo>
                <a:cubicBezTo>
                  <a:pt x="23102" y="3715"/>
                  <a:pt x="23130" y="3718"/>
                  <a:pt x="23163" y="3730"/>
                </a:cubicBezTo>
                <a:cubicBezTo>
                  <a:pt x="23184" y="3739"/>
                  <a:pt x="23191" y="3743"/>
                  <a:pt x="23202" y="3753"/>
                </a:cubicBezTo>
              </a:path>
              <a:path w="2719" h="730">
                <a:moveTo>
                  <a:pt x="23134" y="3908"/>
                </a:moveTo>
                <a:cubicBezTo>
                  <a:pt x="23103" y="3919"/>
                  <a:pt x="23077" y="3934"/>
                  <a:pt x="23043" y="3933"/>
                </a:cubicBezTo>
                <a:cubicBezTo>
                  <a:pt x="23015" y="3932"/>
                  <a:pt x="23032" y="3906"/>
                  <a:pt x="23041" y="3896"/>
                </a:cubicBezTo>
              </a:path>
              <a:path w="2719" h="730">
                <a:moveTo>
                  <a:pt x="23311" y="4159"/>
                </a:moveTo>
                <a:cubicBezTo>
                  <a:pt x="23330" y="4183"/>
                  <a:pt x="23335" y="4181"/>
                  <a:pt x="23363" y="4178"/>
                </a:cubicBezTo>
                <a:cubicBezTo>
                  <a:pt x="23417" y="4172"/>
                  <a:pt x="23457" y="4136"/>
                  <a:pt x="23495" y="4096"/>
                </a:cubicBezTo>
                <a:cubicBezTo>
                  <a:pt x="23543" y="4045"/>
                  <a:pt x="23620" y="3931"/>
                  <a:pt x="23587" y="3854"/>
                </a:cubicBezTo>
                <a:cubicBezTo>
                  <a:pt x="23570" y="3837"/>
                  <a:pt x="23565" y="3832"/>
                  <a:pt x="23548" y="3833"/>
                </a:cubicBezTo>
                <a:cubicBezTo>
                  <a:pt x="23496" y="3858"/>
                  <a:pt x="23457" y="3894"/>
                  <a:pt x="23430" y="3948"/>
                </a:cubicBezTo>
                <a:cubicBezTo>
                  <a:pt x="23393" y="4020"/>
                  <a:pt x="23384" y="4097"/>
                  <a:pt x="23406" y="4175"/>
                </a:cubicBezTo>
                <a:cubicBezTo>
                  <a:pt x="23425" y="4243"/>
                  <a:pt x="23479" y="4287"/>
                  <a:pt x="23548" y="4293"/>
                </a:cubicBezTo>
                <a:cubicBezTo>
                  <a:pt x="23592" y="4290"/>
                  <a:pt x="23607" y="4289"/>
                  <a:pt x="23635" y="4276"/>
                </a:cubicBezTo>
              </a:path>
              <a:path w="2719" h="730">
                <a:moveTo>
                  <a:pt x="23711" y="4224"/>
                </a:moveTo>
                <a:cubicBezTo>
                  <a:pt x="23687" y="4248"/>
                  <a:pt x="23692" y="4235"/>
                  <a:pt x="23686" y="4208"/>
                </a:cubicBezTo>
              </a:path>
              <a:path w="2719" h="730">
                <a:moveTo>
                  <a:pt x="23734" y="4018"/>
                </a:moveTo>
                <a:cubicBezTo>
                  <a:pt x="23736" y="4052"/>
                  <a:pt x="23739" y="4079"/>
                  <a:pt x="23749" y="4111"/>
                </a:cubicBezTo>
                <a:cubicBezTo>
                  <a:pt x="23758" y="4142"/>
                  <a:pt x="23767" y="4173"/>
                  <a:pt x="23779" y="4202"/>
                </a:cubicBezTo>
                <a:cubicBezTo>
                  <a:pt x="23790" y="4159"/>
                  <a:pt x="23789" y="4115"/>
                  <a:pt x="23796" y="4071"/>
                </a:cubicBezTo>
                <a:cubicBezTo>
                  <a:pt x="23803" y="4024"/>
                  <a:pt x="23810" y="3986"/>
                  <a:pt x="23835" y="3945"/>
                </a:cubicBezTo>
                <a:cubicBezTo>
                  <a:pt x="23874" y="3942"/>
                  <a:pt x="23879" y="3970"/>
                  <a:pt x="23888" y="4006"/>
                </a:cubicBezTo>
                <a:cubicBezTo>
                  <a:pt x="23904" y="4066"/>
                  <a:pt x="23902" y="4126"/>
                  <a:pt x="23908" y="4187"/>
                </a:cubicBezTo>
                <a:cubicBezTo>
                  <a:pt x="23914" y="4229"/>
                  <a:pt x="23917" y="4245"/>
                  <a:pt x="23923" y="4273"/>
                </a:cubicBezTo>
              </a:path>
              <a:path w="2719" h="730">
                <a:moveTo>
                  <a:pt x="24076" y="3995"/>
                </a:moveTo>
                <a:cubicBezTo>
                  <a:pt x="24079" y="3981"/>
                  <a:pt x="24082" y="3968"/>
                  <a:pt x="24085" y="3954"/>
                </a:cubicBezTo>
                <a:cubicBezTo>
                  <a:pt x="24016" y="3973"/>
                  <a:pt x="23980" y="4051"/>
                  <a:pt x="23965" y="4139"/>
                </a:cubicBezTo>
                <a:cubicBezTo>
                  <a:pt x="23946" y="4251"/>
                  <a:pt x="24014" y="4249"/>
                  <a:pt x="24098" y="4246"/>
                </a:cubicBezTo>
              </a:path>
              <a:path w="2719" h="730">
                <a:moveTo>
                  <a:pt x="24164" y="4118"/>
                </a:moveTo>
                <a:cubicBezTo>
                  <a:pt x="24238" y="4098"/>
                  <a:pt x="24356" y="4032"/>
                  <a:pt x="24383" y="3945"/>
                </a:cubicBezTo>
                <a:cubicBezTo>
                  <a:pt x="24379" y="3931"/>
                  <a:pt x="24375" y="3916"/>
                  <a:pt x="24371" y="3902"/>
                </a:cubicBezTo>
                <a:cubicBezTo>
                  <a:pt x="24294" y="3948"/>
                  <a:pt x="24213" y="3991"/>
                  <a:pt x="24185" y="4085"/>
                </a:cubicBezTo>
                <a:cubicBezTo>
                  <a:pt x="24154" y="4191"/>
                  <a:pt x="24203" y="4259"/>
                  <a:pt x="24303" y="4299"/>
                </a:cubicBezTo>
                <a:cubicBezTo>
                  <a:pt x="24358" y="4321"/>
                  <a:pt x="24451" y="4313"/>
                  <a:pt x="24509" y="4302"/>
                </a:cubicBezTo>
                <a:cubicBezTo>
                  <a:pt x="24523" y="4299"/>
                  <a:pt x="24538" y="4295"/>
                  <a:pt x="24552" y="429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8161200" y="1655640"/>
            <a:ext cx="534960" cy="297000"/>
          </a:xfrm>
          <a:custGeom>
            <a:avLst/>
            <a:gdLst/>
            <a:ahLst/>
            <a:rect l="l" t="t" r="r" b="b"/>
            <a:pathLst>
              <a:path w="1488" h="827">
                <a:moveTo>
                  <a:pt x="22701" y="4842"/>
                </a:moveTo>
                <a:cubicBezTo>
                  <a:pt x="22705" y="4882"/>
                  <a:pt x="22707" y="4924"/>
                  <a:pt x="22712" y="4964"/>
                </a:cubicBezTo>
                <a:cubicBezTo>
                  <a:pt x="22722" y="5055"/>
                  <a:pt x="22729" y="5145"/>
                  <a:pt x="22734" y="5236"/>
                </a:cubicBezTo>
                <a:cubicBezTo>
                  <a:pt x="22735" y="5251"/>
                  <a:pt x="22756" y="5394"/>
                  <a:pt x="22738" y="5405"/>
                </a:cubicBezTo>
                <a:cubicBezTo>
                  <a:pt x="22735" y="5401"/>
                  <a:pt x="22733" y="5397"/>
                  <a:pt x="22730" y="5393"/>
                </a:cubicBezTo>
                <a:cubicBezTo>
                  <a:pt x="22716" y="5333"/>
                  <a:pt x="22704" y="5273"/>
                  <a:pt x="22697" y="5212"/>
                </a:cubicBezTo>
                <a:cubicBezTo>
                  <a:pt x="22682" y="5089"/>
                  <a:pt x="22670" y="4965"/>
                  <a:pt x="22678" y="4841"/>
                </a:cubicBezTo>
                <a:cubicBezTo>
                  <a:pt x="22683" y="4771"/>
                  <a:pt x="22691" y="4686"/>
                  <a:pt x="22728" y="4624"/>
                </a:cubicBezTo>
                <a:cubicBezTo>
                  <a:pt x="22746" y="4603"/>
                  <a:pt x="22751" y="4596"/>
                  <a:pt x="22771" y="4598"/>
                </a:cubicBezTo>
                <a:cubicBezTo>
                  <a:pt x="22821" y="4629"/>
                  <a:pt x="22842" y="4669"/>
                  <a:pt x="22856" y="4729"/>
                </a:cubicBezTo>
                <a:cubicBezTo>
                  <a:pt x="22878" y="4828"/>
                  <a:pt x="22868" y="4931"/>
                  <a:pt x="22820" y="5019"/>
                </a:cubicBezTo>
                <a:cubicBezTo>
                  <a:pt x="22800" y="5056"/>
                  <a:pt x="22756" y="5116"/>
                  <a:pt x="22705" y="5110"/>
                </a:cubicBezTo>
                <a:cubicBezTo>
                  <a:pt x="22663" y="5105"/>
                  <a:pt x="22668" y="5054"/>
                  <a:pt x="22675" y="5026"/>
                </a:cubicBezTo>
                <a:cubicBezTo>
                  <a:pt x="22679" y="5016"/>
                  <a:pt x="22682" y="5007"/>
                  <a:pt x="22686" y="4997"/>
                </a:cubicBezTo>
              </a:path>
              <a:path w="1488" h="827">
                <a:moveTo>
                  <a:pt x="22937" y="5110"/>
                </a:moveTo>
                <a:cubicBezTo>
                  <a:pt x="22956" y="5154"/>
                  <a:pt x="22979" y="5202"/>
                  <a:pt x="22989" y="5249"/>
                </a:cubicBezTo>
                <a:cubicBezTo>
                  <a:pt x="22989" y="5265"/>
                  <a:pt x="22989" y="5270"/>
                  <a:pt x="22997" y="5279"/>
                </a:cubicBezTo>
                <a:cubicBezTo>
                  <a:pt x="22977" y="5243"/>
                  <a:pt x="22974" y="5211"/>
                  <a:pt x="22974" y="5169"/>
                </a:cubicBezTo>
                <a:cubicBezTo>
                  <a:pt x="22973" y="5122"/>
                  <a:pt x="22968" y="5056"/>
                  <a:pt x="22993" y="5013"/>
                </a:cubicBezTo>
                <a:cubicBezTo>
                  <a:pt x="23009" y="4985"/>
                  <a:pt x="23041" y="4964"/>
                  <a:pt x="23073" y="4962"/>
                </a:cubicBezTo>
                <a:cubicBezTo>
                  <a:pt x="23081" y="4962"/>
                  <a:pt x="23090" y="4963"/>
                  <a:pt x="23098" y="4963"/>
                </a:cubicBezTo>
              </a:path>
              <a:path w="1488" h="827">
                <a:moveTo>
                  <a:pt x="23246" y="4982"/>
                </a:moveTo>
                <a:cubicBezTo>
                  <a:pt x="23236" y="5000"/>
                  <a:pt x="23222" y="5026"/>
                  <a:pt x="23211" y="5042"/>
                </a:cubicBezTo>
                <a:cubicBezTo>
                  <a:pt x="23184" y="5080"/>
                  <a:pt x="23168" y="5112"/>
                  <a:pt x="23161" y="5160"/>
                </a:cubicBezTo>
                <a:cubicBezTo>
                  <a:pt x="23156" y="5194"/>
                  <a:pt x="23159" y="5235"/>
                  <a:pt x="23198" y="5248"/>
                </a:cubicBezTo>
                <a:cubicBezTo>
                  <a:pt x="23238" y="5261"/>
                  <a:pt x="23287" y="5244"/>
                  <a:pt x="23322" y="5224"/>
                </a:cubicBezTo>
                <a:cubicBezTo>
                  <a:pt x="23354" y="5205"/>
                  <a:pt x="23392" y="5171"/>
                  <a:pt x="23399" y="5132"/>
                </a:cubicBezTo>
                <a:cubicBezTo>
                  <a:pt x="23405" y="5101"/>
                  <a:pt x="23388" y="5069"/>
                  <a:pt x="23371" y="5045"/>
                </a:cubicBezTo>
                <a:cubicBezTo>
                  <a:pt x="23360" y="5030"/>
                  <a:pt x="23347" y="5021"/>
                  <a:pt x="23340" y="5004"/>
                </a:cubicBezTo>
              </a:path>
              <a:path w="1488" h="827">
                <a:moveTo>
                  <a:pt x="23473" y="5024"/>
                </a:moveTo>
                <a:cubicBezTo>
                  <a:pt x="23501" y="5037"/>
                  <a:pt x="23471" y="5058"/>
                  <a:pt x="23463" y="5079"/>
                </a:cubicBezTo>
                <a:cubicBezTo>
                  <a:pt x="23451" y="5112"/>
                  <a:pt x="23439" y="5149"/>
                  <a:pt x="23435" y="5185"/>
                </a:cubicBezTo>
                <a:cubicBezTo>
                  <a:pt x="23431" y="5216"/>
                  <a:pt x="23429" y="5242"/>
                  <a:pt x="23459" y="5258"/>
                </a:cubicBezTo>
                <a:cubicBezTo>
                  <a:pt x="23487" y="5273"/>
                  <a:pt x="23522" y="5249"/>
                  <a:pt x="23544" y="5235"/>
                </a:cubicBezTo>
                <a:cubicBezTo>
                  <a:pt x="23579" y="5213"/>
                  <a:pt x="23601" y="5188"/>
                  <a:pt x="23614" y="5149"/>
                </a:cubicBezTo>
                <a:cubicBezTo>
                  <a:pt x="23624" y="5119"/>
                  <a:pt x="23616" y="5098"/>
                  <a:pt x="23593" y="5077"/>
                </a:cubicBezTo>
                <a:cubicBezTo>
                  <a:pt x="23576" y="5061"/>
                  <a:pt x="23558" y="5048"/>
                  <a:pt x="23536" y="5042"/>
                </a:cubicBezTo>
              </a:path>
              <a:path w="1488" h="827">
                <a:moveTo>
                  <a:pt x="23735" y="5358"/>
                </a:moveTo>
                <a:cubicBezTo>
                  <a:pt x="23765" y="5381"/>
                  <a:pt x="23749" y="5373"/>
                  <a:pt x="23780" y="5372"/>
                </a:cubicBezTo>
                <a:cubicBezTo>
                  <a:pt x="23777" y="5337"/>
                  <a:pt x="23776" y="5302"/>
                  <a:pt x="23769" y="5267"/>
                </a:cubicBezTo>
                <a:cubicBezTo>
                  <a:pt x="23752" y="5178"/>
                  <a:pt x="23730" y="5091"/>
                  <a:pt x="23721" y="5001"/>
                </a:cubicBezTo>
                <a:cubicBezTo>
                  <a:pt x="23714" y="4930"/>
                  <a:pt x="23705" y="4854"/>
                  <a:pt x="23712" y="4783"/>
                </a:cubicBezTo>
                <a:cubicBezTo>
                  <a:pt x="23715" y="4752"/>
                  <a:pt x="23722" y="4704"/>
                  <a:pt x="23762" y="4704"/>
                </a:cubicBezTo>
                <a:cubicBezTo>
                  <a:pt x="23840" y="4705"/>
                  <a:pt x="23943" y="4793"/>
                  <a:pt x="23989" y="4849"/>
                </a:cubicBezTo>
                <a:cubicBezTo>
                  <a:pt x="24017" y="4902"/>
                  <a:pt x="24028" y="4918"/>
                  <a:pt x="24002" y="4956"/>
                </a:cubicBezTo>
              </a:path>
              <a:path w="1488" h="827">
                <a:moveTo>
                  <a:pt x="23709" y="5023"/>
                </a:moveTo>
                <a:cubicBezTo>
                  <a:pt x="23756" y="4996"/>
                  <a:pt x="23798" y="4987"/>
                  <a:pt x="23851" y="4985"/>
                </a:cubicBezTo>
                <a:cubicBezTo>
                  <a:pt x="23923" y="4983"/>
                  <a:pt x="23969" y="4999"/>
                  <a:pt x="24036" y="5021"/>
                </a:cubicBezTo>
              </a:path>
              <a:path w="1488" h="827">
                <a:moveTo>
                  <a:pt x="24127" y="5065"/>
                </a:moveTo>
                <a:cubicBezTo>
                  <a:pt x="24072" y="5089"/>
                  <a:pt x="24053" y="5100"/>
                  <a:pt x="24031" y="5139"/>
                </a:cubicBezTo>
                <a:cubicBezTo>
                  <a:pt x="24090" y="5198"/>
                  <a:pt x="24157" y="5245"/>
                  <a:pt x="24157" y="5336"/>
                </a:cubicBezTo>
                <a:cubicBezTo>
                  <a:pt x="24157" y="5412"/>
                  <a:pt x="24089" y="5408"/>
                  <a:pt x="24034" y="542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316160" y="2575080"/>
            <a:ext cx="1155600" cy="946080"/>
          </a:xfrm>
          <a:custGeom>
            <a:avLst/>
            <a:gdLst/>
            <a:ahLst/>
            <a:rect l="l" t="t" r="r" b="b"/>
            <a:pathLst>
              <a:path w="3208" h="2630">
                <a:moveTo>
                  <a:pt x="6144" y="7162"/>
                </a:moveTo>
                <a:cubicBezTo>
                  <a:pt x="6104" y="7158"/>
                  <a:pt x="6086" y="7155"/>
                  <a:pt x="6053" y="7193"/>
                </a:cubicBezTo>
                <a:cubicBezTo>
                  <a:pt x="5999" y="7255"/>
                  <a:pt x="5957" y="7332"/>
                  <a:pt x="5923" y="7406"/>
                </a:cubicBezTo>
                <a:cubicBezTo>
                  <a:pt x="5875" y="7512"/>
                  <a:pt x="5834" y="7625"/>
                  <a:pt x="5823" y="7742"/>
                </a:cubicBezTo>
                <a:cubicBezTo>
                  <a:pt x="5815" y="7826"/>
                  <a:pt x="5823" y="7931"/>
                  <a:pt x="5896" y="7987"/>
                </a:cubicBezTo>
                <a:cubicBezTo>
                  <a:pt x="5951" y="8030"/>
                  <a:pt x="6015" y="8020"/>
                  <a:pt x="6080" y="8021"/>
                </a:cubicBezTo>
              </a:path>
              <a:path w="3208" h="2630">
                <a:moveTo>
                  <a:pt x="3692" y="8664"/>
                </a:moveTo>
                <a:cubicBezTo>
                  <a:pt x="3699" y="8714"/>
                  <a:pt x="3711" y="8763"/>
                  <a:pt x="3719" y="8813"/>
                </a:cubicBezTo>
                <a:cubicBezTo>
                  <a:pt x="3735" y="8918"/>
                  <a:pt x="3751" y="9021"/>
                  <a:pt x="3758" y="9127"/>
                </a:cubicBezTo>
                <a:cubicBezTo>
                  <a:pt x="3763" y="9210"/>
                  <a:pt x="3772" y="9296"/>
                  <a:pt x="3767" y="9379"/>
                </a:cubicBezTo>
                <a:cubicBezTo>
                  <a:pt x="3764" y="9398"/>
                  <a:pt x="3765" y="9402"/>
                  <a:pt x="3757" y="9411"/>
                </a:cubicBezTo>
                <a:cubicBezTo>
                  <a:pt x="3740" y="9362"/>
                  <a:pt x="3733" y="9313"/>
                  <a:pt x="3725" y="9261"/>
                </a:cubicBezTo>
                <a:cubicBezTo>
                  <a:pt x="3701" y="9101"/>
                  <a:pt x="3689" y="8932"/>
                  <a:pt x="3731" y="8774"/>
                </a:cubicBezTo>
                <a:cubicBezTo>
                  <a:pt x="3744" y="8726"/>
                  <a:pt x="3759" y="8701"/>
                  <a:pt x="3790" y="8666"/>
                </a:cubicBezTo>
                <a:cubicBezTo>
                  <a:pt x="3838" y="8658"/>
                  <a:pt x="3858" y="8673"/>
                  <a:pt x="3883" y="8719"/>
                </a:cubicBezTo>
                <a:cubicBezTo>
                  <a:pt x="3914" y="8776"/>
                  <a:pt x="3926" y="8844"/>
                  <a:pt x="3918" y="8908"/>
                </a:cubicBezTo>
                <a:cubicBezTo>
                  <a:pt x="3910" y="8972"/>
                  <a:pt x="3875" y="9027"/>
                  <a:pt x="3816" y="9054"/>
                </a:cubicBezTo>
                <a:cubicBezTo>
                  <a:pt x="3772" y="9074"/>
                  <a:pt x="3714" y="9075"/>
                  <a:pt x="3676" y="9042"/>
                </a:cubicBezTo>
                <a:cubicBezTo>
                  <a:pt x="3631" y="9003"/>
                  <a:pt x="3667" y="8950"/>
                  <a:pt x="3687" y="8909"/>
                </a:cubicBezTo>
              </a:path>
              <a:path w="3208" h="2630">
                <a:moveTo>
                  <a:pt x="4163" y="8823"/>
                </a:moveTo>
                <a:cubicBezTo>
                  <a:pt x="4143" y="8832"/>
                  <a:pt x="4124" y="8843"/>
                  <a:pt x="4105" y="8853"/>
                </a:cubicBezTo>
                <a:cubicBezTo>
                  <a:pt x="4141" y="8849"/>
                  <a:pt x="4176" y="8846"/>
                  <a:pt x="4212" y="8843"/>
                </a:cubicBezTo>
                <a:cubicBezTo>
                  <a:pt x="4386" y="8826"/>
                  <a:pt x="4565" y="8794"/>
                  <a:pt x="4740" y="8806"/>
                </a:cubicBezTo>
                <a:cubicBezTo>
                  <a:pt x="4780" y="8809"/>
                  <a:pt x="4819" y="8816"/>
                  <a:pt x="4858" y="8821"/>
                </a:cubicBezTo>
                <a:cubicBezTo>
                  <a:pt x="4840" y="8798"/>
                  <a:pt x="4825" y="8784"/>
                  <a:pt x="4798" y="8766"/>
                </a:cubicBezTo>
                <a:cubicBezTo>
                  <a:pt x="4736" y="8723"/>
                  <a:pt x="4594" y="8676"/>
                  <a:pt x="4554" y="8612"/>
                </a:cubicBezTo>
                <a:cubicBezTo>
                  <a:pt x="4554" y="8608"/>
                  <a:pt x="4553" y="8603"/>
                  <a:pt x="4553" y="8599"/>
                </a:cubicBezTo>
                <a:cubicBezTo>
                  <a:pt x="4588" y="8598"/>
                  <a:pt x="4623" y="8596"/>
                  <a:pt x="4658" y="8602"/>
                </a:cubicBezTo>
                <a:cubicBezTo>
                  <a:pt x="4710" y="8611"/>
                  <a:pt x="4763" y="8625"/>
                  <a:pt x="4807" y="8654"/>
                </a:cubicBezTo>
                <a:cubicBezTo>
                  <a:pt x="4861" y="8689"/>
                  <a:pt x="4860" y="8743"/>
                  <a:pt x="4838" y="8797"/>
                </a:cubicBezTo>
                <a:cubicBezTo>
                  <a:pt x="4812" y="8859"/>
                  <a:pt x="4774" y="8905"/>
                  <a:pt x="4731" y="8955"/>
                </a:cubicBezTo>
                <a:cubicBezTo>
                  <a:pt x="4704" y="8986"/>
                  <a:pt x="4673" y="9024"/>
                  <a:pt x="4639" y="9046"/>
                </a:cubicBezTo>
                <a:cubicBezTo>
                  <a:pt x="4641" y="9043"/>
                  <a:pt x="4643" y="9039"/>
                  <a:pt x="4645" y="9036"/>
                </a:cubicBezTo>
              </a:path>
              <a:path w="3208" h="2630">
                <a:moveTo>
                  <a:pt x="5317" y="8726"/>
                </a:moveTo>
                <a:cubicBezTo>
                  <a:pt x="5338" y="8707"/>
                  <a:pt x="5353" y="8700"/>
                  <a:pt x="5352" y="8672"/>
                </a:cubicBezTo>
                <a:cubicBezTo>
                  <a:pt x="5348" y="8666"/>
                  <a:pt x="5345" y="8660"/>
                  <a:pt x="5341" y="8654"/>
                </a:cubicBezTo>
                <a:cubicBezTo>
                  <a:pt x="5311" y="8653"/>
                  <a:pt x="5295" y="8652"/>
                  <a:pt x="5268" y="8671"/>
                </a:cubicBezTo>
                <a:cubicBezTo>
                  <a:pt x="5225" y="8702"/>
                  <a:pt x="5193" y="8749"/>
                  <a:pt x="5172" y="8796"/>
                </a:cubicBezTo>
                <a:cubicBezTo>
                  <a:pt x="5156" y="8832"/>
                  <a:pt x="5134" y="8890"/>
                  <a:pt x="5162" y="8926"/>
                </a:cubicBezTo>
                <a:cubicBezTo>
                  <a:pt x="5189" y="8962"/>
                  <a:pt x="5250" y="8922"/>
                  <a:pt x="5276" y="8905"/>
                </a:cubicBezTo>
                <a:cubicBezTo>
                  <a:pt x="5334" y="8866"/>
                  <a:pt x="5379" y="8809"/>
                  <a:pt x="5426" y="8758"/>
                </a:cubicBezTo>
                <a:cubicBezTo>
                  <a:pt x="5441" y="8743"/>
                  <a:pt x="5444" y="8739"/>
                  <a:pt x="5454" y="8731"/>
                </a:cubicBezTo>
                <a:cubicBezTo>
                  <a:pt x="5457" y="8766"/>
                  <a:pt x="5453" y="8803"/>
                  <a:pt x="5446" y="8845"/>
                </a:cubicBezTo>
                <a:cubicBezTo>
                  <a:pt x="5424" y="8972"/>
                  <a:pt x="5401" y="9100"/>
                  <a:pt x="5383" y="9228"/>
                </a:cubicBezTo>
                <a:cubicBezTo>
                  <a:pt x="5378" y="9261"/>
                  <a:pt x="5376" y="9293"/>
                  <a:pt x="5373" y="9325"/>
                </a:cubicBezTo>
                <a:cubicBezTo>
                  <a:pt x="5420" y="9240"/>
                  <a:pt x="5460" y="9151"/>
                  <a:pt x="5512" y="9069"/>
                </a:cubicBezTo>
                <a:cubicBezTo>
                  <a:pt x="5548" y="9013"/>
                  <a:pt x="5589" y="8945"/>
                  <a:pt x="5639" y="8899"/>
                </a:cubicBezTo>
                <a:cubicBezTo>
                  <a:pt x="5657" y="8882"/>
                  <a:pt x="5684" y="8875"/>
                  <a:pt x="5702" y="8858"/>
                </a:cubicBezTo>
                <a:cubicBezTo>
                  <a:pt x="5704" y="8854"/>
                  <a:pt x="5707" y="8851"/>
                  <a:pt x="5709" y="8847"/>
                </a:cubicBezTo>
              </a:path>
              <a:path w="3208" h="2630">
                <a:moveTo>
                  <a:pt x="5416" y="9781"/>
                </a:moveTo>
                <a:cubicBezTo>
                  <a:pt x="5417" y="9753"/>
                  <a:pt x="5420" y="9739"/>
                  <a:pt x="5428" y="9715"/>
                </a:cubicBezTo>
                <a:cubicBezTo>
                  <a:pt x="5430" y="9698"/>
                  <a:pt x="5430" y="9693"/>
                  <a:pt x="5440" y="9685"/>
                </a:cubicBezTo>
              </a:path>
              <a:path w="3208" h="2630">
                <a:moveTo>
                  <a:pt x="6863" y="8069"/>
                </a:moveTo>
                <a:cubicBezTo>
                  <a:pt x="6856" y="8088"/>
                  <a:pt x="6855" y="8086"/>
                  <a:pt x="6850" y="8105"/>
                </a:cubicBezTo>
                <a:cubicBezTo>
                  <a:pt x="6836" y="8161"/>
                  <a:pt x="6814" y="8215"/>
                  <a:pt x="6788" y="8267"/>
                </a:cubicBezTo>
                <a:cubicBezTo>
                  <a:pt x="6735" y="8374"/>
                  <a:pt x="6664" y="8472"/>
                  <a:pt x="6588" y="8564"/>
                </a:cubicBezTo>
                <a:cubicBezTo>
                  <a:pt x="6509" y="8660"/>
                  <a:pt x="6418" y="8747"/>
                  <a:pt x="6343" y="8846"/>
                </a:cubicBezTo>
                <a:cubicBezTo>
                  <a:pt x="6340" y="8850"/>
                  <a:pt x="6338" y="8854"/>
                  <a:pt x="6335" y="8858"/>
                </a:cubicBezTo>
                <a:cubicBezTo>
                  <a:pt x="6341" y="8836"/>
                  <a:pt x="6346" y="8818"/>
                  <a:pt x="6349" y="8795"/>
                </a:cubicBezTo>
                <a:cubicBezTo>
                  <a:pt x="6361" y="8710"/>
                  <a:pt x="6348" y="8621"/>
                  <a:pt x="6288" y="8567"/>
                </a:cubicBezTo>
                <a:cubicBezTo>
                  <a:pt x="6283" y="8600"/>
                  <a:pt x="6278" y="8630"/>
                  <a:pt x="6278" y="8664"/>
                </a:cubicBezTo>
                <a:cubicBezTo>
                  <a:pt x="6278" y="8706"/>
                  <a:pt x="6275" y="8747"/>
                  <a:pt x="6275" y="8789"/>
                </a:cubicBezTo>
                <a:cubicBezTo>
                  <a:pt x="6275" y="8810"/>
                  <a:pt x="6273" y="8845"/>
                  <a:pt x="6288" y="8862"/>
                </a:cubicBezTo>
                <a:cubicBezTo>
                  <a:pt x="6310" y="8887"/>
                  <a:pt x="6360" y="8855"/>
                  <a:pt x="6383" y="8847"/>
                </a:cubicBezTo>
                <a:cubicBezTo>
                  <a:pt x="6455" y="8823"/>
                  <a:pt x="6524" y="8800"/>
                  <a:pt x="6601" y="8797"/>
                </a:cubicBezTo>
                <a:cubicBezTo>
                  <a:pt x="6634" y="8796"/>
                  <a:pt x="6663" y="8801"/>
                  <a:pt x="6694" y="880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346560" y="2549520"/>
            <a:ext cx="174600" cy="380880"/>
          </a:xfrm>
          <a:custGeom>
            <a:avLst/>
            <a:gdLst/>
            <a:ahLst/>
            <a:rect l="l" t="t" r="r" b="b"/>
            <a:pathLst>
              <a:path w="484" h="1060">
                <a:moveTo>
                  <a:pt x="9322" y="7294"/>
                </a:moveTo>
                <a:cubicBezTo>
                  <a:pt x="9313" y="7319"/>
                  <a:pt x="9303" y="7351"/>
                  <a:pt x="9302" y="7377"/>
                </a:cubicBezTo>
                <a:cubicBezTo>
                  <a:pt x="9300" y="7457"/>
                  <a:pt x="9307" y="7539"/>
                  <a:pt x="9313" y="7619"/>
                </a:cubicBezTo>
                <a:cubicBezTo>
                  <a:pt x="9320" y="7714"/>
                  <a:pt x="9327" y="7809"/>
                  <a:pt x="9320" y="7904"/>
                </a:cubicBezTo>
                <a:cubicBezTo>
                  <a:pt x="9316" y="7958"/>
                  <a:pt x="9303" y="8008"/>
                  <a:pt x="9297" y="8060"/>
                </a:cubicBezTo>
                <a:cubicBezTo>
                  <a:pt x="9295" y="8078"/>
                  <a:pt x="9295" y="8081"/>
                  <a:pt x="9295" y="8092"/>
                </a:cubicBezTo>
              </a:path>
              <a:path w="484" h="1060">
                <a:moveTo>
                  <a:pt x="9734" y="7093"/>
                </a:moveTo>
                <a:cubicBezTo>
                  <a:pt x="9704" y="7090"/>
                  <a:pt x="9699" y="7075"/>
                  <a:pt x="9665" y="7105"/>
                </a:cubicBezTo>
                <a:cubicBezTo>
                  <a:pt x="9618" y="7146"/>
                  <a:pt x="9579" y="7217"/>
                  <a:pt x="9551" y="7271"/>
                </a:cubicBezTo>
                <a:cubicBezTo>
                  <a:pt x="9498" y="7375"/>
                  <a:pt x="9451" y="7489"/>
                  <a:pt x="9422" y="7602"/>
                </a:cubicBezTo>
                <a:cubicBezTo>
                  <a:pt x="9388" y="7737"/>
                  <a:pt x="9376" y="7892"/>
                  <a:pt x="9453" y="8015"/>
                </a:cubicBezTo>
                <a:cubicBezTo>
                  <a:pt x="9500" y="8090"/>
                  <a:pt x="9581" y="8128"/>
                  <a:pt x="9666" y="8139"/>
                </a:cubicBezTo>
                <a:cubicBezTo>
                  <a:pt x="9722" y="8140"/>
                  <a:pt x="9741" y="8140"/>
                  <a:pt x="9778" y="812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792760" y="2593800"/>
            <a:ext cx="212760" cy="312840"/>
          </a:xfrm>
          <a:custGeom>
            <a:avLst/>
            <a:gdLst/>
            <a:ahLst/>
            <a:rect l="l" t="t" r="r" b="b"/>
            <a:pathLst>
              <a:path w="592" h="868">
                <a:moveTo>
                  <a:pt x="16091" y="7246"/>
                </a:moveTo>
                <a:cubicBezTo>
                  <a:pt x="16112" y="7220"/>
                  <a:pt x="16098" y="7227"/>
                  <a:pt x="16125" y="7258"/>
                </a:cubicBezTo>
                <a:cubicBezTo>
                  <a:pt x="16170" y="7309"/>
                  <a:pt x="16216" y="7357"/>
                  <a:pt x="16255" y="7413"/>
                </a:cubicBezTo>
                <a:cubicBezTo>
                  <a:pt x="16350" y="7552"/>
                  <a:pt x="16423" y="7717"/>
                  <a:pt x="16391" y="7889"/>
                </a:cubicBezTo>
                <a:cubicBezTo>
                  <a:pt x="16381" y="7943"/>
                  <a:pt x="16355" y="8012"/>
                  <a:pt x="16313" y="8052"/>
                </a:cubicBezTo>
                <a:cubicBezTo>
                  <a:pt x="16300" y="8064"/>
                  <a:pt x="16283" y="8065"/>
                  <a:pt x="16271" y="8072"/>
                </a:cubicBezTo>
              </a:path>
              <a:path w="592" h="868">
                <a:moveTo>
                  <a:pt x="16682" y="7244"/>
                </a:moveTo>
                <a:cubicBezTo>
                  <a:pt x="16670" y="7217"/>
                  <a:pt x="16666" y="7207"/>
                  <a:pt x="16637" y="7210"/>
                </a:cubicBezTo>
                <a:cubicBezTo>
                  <a:pt x="16602" y="7214"/>
                  <a:pt x="16591" y="7274"/>
                  <a:pt x="16583" y="7300"/>
                </a:cubicBezTo>
                <a:cubicBezTo>
                  <a:pt x="16561" y="7369"/>
                  <a:pt x="16553" y="7437"/>
                  <a:pt x="16549" y="7509"/>
                </a:cubicBezTo>
                <a:cubicBezTo>
                  <a:pt x="16544" y="7589"/>
                  <a:pt x="16546" y="7668"/>
                  <a:pt x="16550" y="7748"/>
                </a:cubicBezTo>
                <a:cubicBezTo>
                  <a:pt x="16553" y="7813"/>
                  <a:pt x="16555" y="7886"/>
                  <a:pt x="16583" y="7947"/>
                </a:cubicBezTo>
                <a:cubicBezTo>
                  <a:pt x="16594" y="7964"/>
                  <a:pt x="16596" y="7970"/>
                  <a:pt x="16610" y="797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096920" y="3641760"/>
            <a:ext cx="749520" cy="204840"/>
          </a:xfrm>
          <a:custGeom>
            <a:avLst/>
            <a:gdLst/>
            <a:ahLst/>
            <a:rect l="l" t="t" r="r" b="b"/>
            <a:pathLst>
              <a:path w="2084" h="569">
                <a:moveTo>
                  <a:pt x="3078" y="10682"/>
                </a:moveTo>
                <a:cubicBezTo>
                  <a:pt x="3053" y="10679"/>
                  <a:pt x="3048" y="10686"/>
                  <a:pt x="3049" y="10655"/>
                </a:cubicBezTo>
                <a:cubicBezTo>
                  <a:pt x="3050" y="10601"/>
                  <a:pt x="3063" y="10546"/>
                  <a:pt x="3074" y="10493"/>
                </a:cubicBezTo>
                <a:cubicBezTo>
                  <a:pt x="3095" y="10387"/>
                  <a:pt x="3119" y="10207"/>
                  <a:pt x="3203" y="10129"/>
                </a:cubicBezTo>
                <a:cubicBezTo>
                  <a:pt x="3213" y="10125"/>
                  <a:pt x="3222" y="10120"/>
                  <a:pt x="3232" y="10116"/>
                </a:cubicBezTo>
                <a:cubicBezTo>
                  <a:pt x="3286" y="10169"/>
                  <a:pt x="3299" y="10238"/>
                  <a:pt x="3316" y="10312"/>
                </a:cubicBezTo>
                <a:cubicBezTo>
                  <a:pt x="3338" y="10410"/>
                  <a:pt x="3354" y="10508"/>
                  <a:pt x="3354" y="10609"/>
                </a:cubicBezTo>
                <a:cubicBezTo>
                  <a:pt x="3354" y="10651"/>
                  <a:pt x="3356" y="10662"/>
                  <a:pt x="3328" y="10683"/>
                </a:cubicBezTo>
              </a:path>
              <a:path w="2084" h="569">
                <a:moveTo>
                  <a:pt x="3143" y="10492"/>
                </a:moveTo>
                <a:cubicBezTo>
                  <a:pt x="3130" y="10471"/>
                  <a:pt x="3097" y="10433"/>
                  <a:pt x="3139" y="10417"/>
                </a:cubicBezTo>
                <a:cubicBezTo>
                  <a:pt x="3224" y="10385"/>
                  <a:pt x="3346" y="10402"/>
                  <a:pt x="3436" y="10389"/>
                </a:cubicBezTo>
                <a:cubicBezTo>
                  <a:pt x="3462" y="10384"/>
                  <a:pt x="3487" y="10380"/>
                  <a:pt x="3513" y="10375"/>
                </a:cubicBezTo>
              </a:path>
              <a:path w="2084" h="569">
                <a:moveTo>
                  <a:pt x="3762" y="10301"/>
                </a:moveTo>
                <a:cubicBezTo>
                  <a:pt x="3717" y="10313"/>
                  <a:pt x="3664" y="10318"/>
                  <a:pt x="3621" y="10332"/>
                </a:cubicBezTo>
                <a:cubicBezTo>
                  <a:pt x="3602" y="10344"/>
                  <a:pt x="3597" y="10347"/>
                  <a:pt x="3585" y="10353"/>
                </a:cubicBezTo>
                <a:cubicBezTo>
                  <a:pt x="3599" y="10369"/>
                  <a:pt x="3638" y="10364"/>
                  <a:pt x="3663" y="10368"/>
                </a:cubicBezTo>
                <a:cubicBezTo>
                  <a:pt x="3702" y="10374"/>
                  <a:pt x="3747" y="10384"/>
                  <a:pt x="3762" y="10428"/>
                </a:cubicBezTo>
                <a:cubicBezTo>
                  <a:pt x="3777" y="10474"/>
                  <a:pt x="3749" y="10524"/>
                  <a:pt x="3721" y="10558"/>
                </a:cubicBezTo>
                <a:cubicBezTo>
                  <a:pt x="3715" y="10566"/>
                  <a:pt x="3646" y="10640"/>
                  <a:pt x="3629" y="10625"/>
                </a:cubicBezTo>
                <a:cubicBezTo>
                  <a:pt x="3630" y="10604"/>
                  <a:pt x="3632" y="10596"/>
                  <a:pt x="3644" y="10585"/>
                </a:cubicBezTo>
              </a:path>
              <a:path w="2084" h="569">
                <a:moveTo>
                  <a:pt x="4043" y="10331"/>
                </a:moveTo>
                <a:cubicBezTo>
                  <a:pt x="4010" y="10336"/>
                  <a:pt x="3984" y="10342"/>
                  <a:pt x="3955" y="10359"/>
                </a:cubicBezTo>
                <a:cubicBezTo>
                  <a:pt x="3935" y="10371"/>
                  <a:pt x="3912" y="10386"/>
                  <a:pt x="3921" y="10413"/>
                </a:cubicBezTo>
                <a:cubicBezTo>
                  <a:pt x="3929" y="10436"/>
                  <a:pt x="3955" y="10447"/>
                  <a:pt x="3975" y="10457"/>
                </a:cubicBezTo>
                <a:cubicBezTo>
                  <a:pt x="4005" y="10472"/>
                  <a:pt x="4037" y="10487"/>
                  <a:pt x="4047" y="10522"/>
                </a:cubicBezTo>
                <a:cubicBezTo>
                  <a:pt x="4055" y="10552"/>
                  <a:pt x="4044" y="10583"/>
                  <a:pt x="4025" y="10606"/>
                </a:cubicBezTo>
                <a:cubicBezTo>
                  <a:pt x="4008" y="10627"/>
                  <a:pt x="3969" y="10656"/>
                  <a:pt x="3940" y="10653"/>
                </a:cubicBezTo>
                <a:cubicBezTo>
                  <a:pt x="3921" y="10651"/>
                  <a:pt x="3898" y="10627"/>
                  <a:pt x="3898" y="10607"/>
                </a:cubicBezTo>
                <a:cubicBezTo>
                  <a:pt x="3900" y="10601"/>
                  <a:pt x="3901" y="10596"/>
                  <a:pt x="3903" y="10590"/>
                </a:cubicBezTo>
              </a:path>
              <a:path w="2084" h="569">
                <a:moveTo>
                  <a:pt x="4246" y="10351"/>
                </a:moveTo>
                <a:cubicBezTo>
                  <a:pt x="4235" y="10388"/>
                  <a:pt x="4226" y="10415"/>
                  <a:pt x="4229" y="10455"/>
                </a:cubicBezTo>
                <a:cubicBezTo>
                  <a:pt x="4231" y="10481"/>
                  <a:pt x="4235" y="10537"/>
                  <a:pt x="4260" y="10553"/>
                </a:cubicBezTo>
                <a:cubicBezTo>
                  <a:pt x="4286" y="10569"/>
                  <a:pt x="4321" y="10529"/>
                  <a:pt x="4335" y="10513"/>
                </a:cubicBezTo>
                <a:cubicBezTo>
                  <a:pt x="4358" y="10487"/>
                  <a:pt x="4375" y="10457"/>
                  <a:pt x="4399" y="10433"/>
                </a:cubicBezTo>
                <a:cubicBezTo>
                  <a:pt x="4402" y="10431"/>
                  <a:pt x="4405" y="10428"/>
                  <a:pt x="4408" y="10426"/>
                </a:cubicBezTo>
                <a:cubicBezTo>
                  <a:pt x="4421" y="10459"/>
                  <a:pt x="4426" y="10493"/>
                  <a:pt x="4427" y="10529"/>
                </a:cubicBezTo>
                <a:cubicBezTo>
                  <a:pt x="4427" y="10544"/>
                  <a:pt x="4424" y="10619"/>
                  <a:pt x="4440" y="10626"/>
                </a:cubicBezTo>
                <a:cubicBezTo>
                  <a:pt x="4445" y="10625"/>
                  <a:pt x="4449" y="10624"/>
                  <a:pt x="4454" y="10623"/>
                </a:cubicBezTo>
              </a:path>
              <a:path w="2084" h="569">
                <a:moveTo>
                  <a:pt x="4513" y="10455"/>
                </a:moveTo>
                <a:cubicBezTo>
                  <a:pt x="4521" y="10469"/>
                  <a:pt x="4529" y="10491"/>
                  <a:pt x="4535" y="10515"/>
                </a:cubicBezTo>
                <a:cubicBezTo>
                  <a:pt x="4542" y="10543"/>
                  <a:pt x="4547" y="10568"/>
                  <a:pt x="4561" y="10593"/>
                </a:cubicBezTo>
                <a:cubicBezTo>
                  <a:pt x="4578" y="10550"/>
                  <a:pt x="4589" y="10498"/>
                  <a:pt x="4621" y="10462"/>
                </a:cubicBezTo>
                <a:cubicBezTo>
                  <a:pt x="4637" y="10444"/>
                  <a:pt x="4663" y="10432"/>
                  <a:pt x="4683" y="10452"/>
                </a:cubicBezTo>
                <a:cubicBezTo>
                  <a:pt x="4706" y="10476"/>
                  <a:pt x="4707" y="10515"/>
                  <a:pt x="4708" y="10546"/>
                </a:cubicBezTo>
                <a:cubicBezTo>
                  <a:pt x="4708" y="10550"/>
                  <a:pt x="4708" y="10554"/>
                  <a:pt x="4708" y="10558"/>
                </a:cubicBezTo>
                <a:cubicBezTo>
                  <a:pt x="4721" y="10535"/>
                  <a:pt x="4733" y="10511"/>
                  <a:pt x="4752" y="10492"/>
                </a:cubicBezTo>
                <a:cubicBezTo>
                  <a:pt x="4770" y="10474"/>
                  <a:pt x="4785" y="10474"/>
                  <a:pt x="4806" y="10486"/>
                </a:cubicBezTo>
                <a:cubicBezTo>
                  <a:pt x="4831" y="10500"/>
                  <a:pt x="4852" y="10520"/>
                  <a:pt x="4880" y="10529"/>
                </a:cubicBezTo>
                <a:cubicBezTo>
                  <a:pt x="4912" y="10539"/>
                  <a:pt x="4949" y="10531"/>
                  <a:pt x="4979" y="10517"/>
                </a:cubicBezTo>
                <a:cubicBezTo>
                  <a:pt x="5006" y="10504"/>
                  <a:pt x="5030" y="10487"/>
                  <a:pt x="5047" y="10462"/>
                </a:cubicBezTo>
                <a:cubicBezTo>
                  <a:pt x="5053" y="10451"/>
                  <a:pt x="5055" y="10447"/>
                  <a:pt x="5049" y="10439"/>
                </a:cubicBezTo>
                <a:cubicBezTo>
                  <a:pt x="5025" y="10448"/>
                  <a:pt x="5010" y="10454"/>
                  <a:pt x="5002" y="10481"/>
                </a:cubicBezTo>
                <a:cubicBezTo>
                  <a:pt x="4989" y="10524"/>
                  <a:pt x="5019" y="10546"/>
                  <a:pt x="5054" y="10561"/>
                </a:cubicBezTo>
                <a:cubicBezTo>
                  <a:pt x="5080" y="10572"/>
                  <a:pt x="5102" y="10575"/>
                  <a:pt x="5129" y="1057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146320" y="3643200"/>
            <a:ext cx="395280" cy="271440"/>
          </a:xfrm>
          <a:custGeom>
            <a:avLst/>
            <a:gdLst/>
            <a:ahLst/>
            <a:rect l="l" t="t" r="r" b="b"/>
            <a:pathLst>
              <a:path w="1098" h="756">
                <a:moveTo>
                  <a:pt x="5986" y="10441"/>
                </a:moveTo>
                <a:cubicBezTo>
                  <a:pt x="5955" y="10461"/>
                  <a:pt x="5966" y="10517"/>
                  <a:pt x="5965" y="10555"/>
                </a:cubicBezTo>
                <a:cubicBezTo>
                  <a:pt x="5963" y="10635"/>
                  <a:pt x="5970" y="10714"/>
                  <a:pt x="5979" y="10793"/>
                </a:cubicBezTo>
                <a:cubicBezTo>
                  <a:pt x="5982" y="10820"/>
                  <a:pt x="5987" y="10847"/>
                  <a:pt x="5991" y="10874"/>
                </a:cubicBezTo>
                <a:cubicBezTo>
                  <a:pt x="5979" y="10815"/>
                  <a:pt x="5967" y="10756"/>
                  <a:pt x="5963" y="10695"/>
                </a:cubicBezTo>
                <a:cubicBezTo>
                  <a:pt x="5957" y="10599"/>
                  <a:pt x="5964" y="10508"/>
                  <a:pt x="5987" y="10415"/>
                </a:cubicBezTo>
                <a:cubicBezTo>
                  <a:pt x="6000" y="10364"/>
                  <a:pt x="6011" y="10344"/>
                  <a:pt x="6046" y="10309"/>
                </a:cubicBezTo>
                <a:cubicBezTo>
                  <a:pt x="6097" y="10325"/>
                  <a:pt x="6105" y="10364"/>
                  <a:pt x="6110" y="10418"/>
                </a:cubicBezTo>
                <a:cubicBezTo>
                  <a:pt x="6116" y="10483"/>
                  <a:pt x="6111" y="10549"/>
                  <a:pt x="6074" y="10604"/>
                </a:cubicBezTo>
                <a:cubicBezTo>
                  <a:pt x="6052" y="10637"/>
                  <a:pt x="6036" y="10641"/>
                  <a:pt x="6001" y="10647"/>
                </a:cubicBezTo>
                <a:cubicBezTo>
                  <a:pt x="5997" y="10581"/>
                  <a:pt x="6025" y="10558"/>
                  <a:pt x="6068" y="10507"/>
                </a:cubicBezTo>
              </a:path>
              <a:path w="1098" h="756">
                <a:moveTo>
                  <a:pt x="6596" y="10271"/>
                </a:moveTo>
                <a:cubicBezTo>
                  <a:pt x="6617" y="10313"/>
                  <a:pt x="6628" y="10356"/>
                  <a:pt x="6630" y="10404"/>
                </a:cubicBezTo>
                <a:cubicBezTo>
                  <a:pt x="6632" y="10457"/>
                  <a:pt x="6609" y="10603"/>
                  <a:pt x="6642" y="10562"/>
                </a:cubicBezTo>
                <a:cubicBezTo>
                  <a:pt x="6646" y="10553"/>
                  <a:pt x="6649" y="10543"/>
                  <a:pt x="6653" y="10534"/>
                </a:cubicBezTo>
              </a:path>
              <a:path w="1098" h="756">
                <a:moveTo>
                  <a:pt x="6601" y="10170"/>
                </a:moveTo>
                <a:cubicBezTo>
                  <a:pt x="6590" y="10157"/>
                  <a:pt x="6578" y="10144"/>
                  <a:pt x="6567" y="10131"/>
                </a:cubicBezTo>
                <a:cubicBezTo>
                  <a:pt x="6593" y="10115"/>
                  <a:pt x="6623" y="10119"/>
                  <a:pt x="6654" y="10119"/>
                </a:cubicBezTo>
                <a:cubicBezTo>
                  <a:pt x="6669" y="10119"/>
                  <a:pt x="6683" y="10120"/>
                  <a:pt x="6698" y="10120"/>
                </a:cubicBezTo>
              </a:path>
              <a:path w="1098" h="756">
                <a:moveTo>
                  <a:pt x="6949" y="10264"/>
                </a:moveTo>
                <a:cubicBezTo>
                  <a:pt x="6925" y="10288"/>
                  <a:pt x="6898" y="10316"/>
                  <a:pt x="6873" y="10338"/>
                </a:cubicBezTo>
                <a:cubicBezTo>
                  <a:pt x="6861" y="10345"/>
                  <a:pt x="6856" y="10346"/>
                  <a:pt x="6860" y="10356"/>
                </a:cubicBezTo>
                <a:cubicBezTo>
                  <a:pt x="6890" y="10374"/>
                  <a:pt x="6920" y="10376"/>
                  <a:pt x="6954" y="10384"/>
                </a:cubicBezTo>
                <a:cubicBezTo>
                  <a:pt x="6986" y="10392"/>
                  <a:pt x="7036" y="10402"/>
                  <a:pt x="7055" y="10433"/>
                </a:cubicBezTo>
                <a:cubicBezTo>
                  <a:pt x="7074" y="10464"/>
                  <a:pt x="7024" y="10490"/>
                  <a:pt x="7005" y="10500"/>
                </a:cubicBezTo>
                <a:cubicBezTo>
                  <a:pt x="6972" y="10517"/>
                  <a:pt x="6926" y="10533"/>
                  <a:pt x="6889" y="10526"/>
                </a:cubicBezTo>
                <a:cubicBezTo>
                  <a:pt x="6864" y="10521"/>
                  <a:pt x="6858" y="10512"/>
                  <a:pt x="6847" y="1049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760840" y="3606840"/>
            <a:ext cx="446040" cy="185760"/>
          </a:xfrm>
          <a:custGeom>
            <a:avLst/>
            <a:gdLst/>
            <a:ahLst/>
            <a:rect l="l" t="t" r="r" b="b"/>
            <a:pathLst>
              <a:path w="1236" h="518">
                <a:moveTo>
                  <a:pt x="7785" y="10018"/>
                </a:moveTo>
                <a:cubicBezTo>
                  <a:pt x="7745" y="10039"/>
                  <a:pt x="7749" y="10079"/>
                  <a:pt x="7743" y="10124"/>
                </a:cubicBezTo>
                <a:cubicBezTo>
                  <a:pt x="7731" y="10208"/>
                  <a:pt x="7731" y="10300"/>
                  <a:pt x="7748" y="10384"/>
                </a:cubicBezTo>
                <a:cubicBezTo>
                  <a:pt x="7754" y="10415"/>
                  <a:pt x="7774" y="10516"/>
                  <a:pt x="7810" y="10535"/>
                </a:cubicBezTo>
                <a:cubicBezTo>
                  <a:pt x="7814" y="10534"/>
                  <a:pt x="7817" y="10533"/>
                  <a:pt x="7821" y="10532"/>
                </a:cubicBezTo>
              </a:path>
              <a:path w="1236" h="518">
                <a:moveTo>
                  <a:pt x="7693" y="10289"/>
                </a:moveTo>
                <a:cubicBezTo>
                  <a:pt x="7680" y="10275"/>
                  <a:pt x="7676" y="10271"/>
                  <a:pt x="7670" y="10260"/>
                </a:cubicBezTo>
                <a:cubicBezTo>
                  <a:pt x="7680" y="10240"/>
                  <a:pt x="7716" y="10229"/>
                  <a:pt x="7739" y="10225"/>
                </a:cubicBezTo>
                <a:cubicBezTo>
                  <a:pt x="7810" y="10211"/>
                  <a:pt x="7881" y="10203"/>
                  <a:pt x="7953" y="10206"/>
                </a:cubicBezTo>
              </a:path>
              <a:path w="1236" h="518">
                <a:moveTo>
                  <a:pt x="8009" y="10338"/>
                </a:moveTo>
                <a:cubicBezTo>
                  <a:pt x="8005" y="10364"/>
                  <a:pt x="7992" y="10405"/>
                  <a:pt x="7995" y="10431"/>
                </a:cubicBezTo>
                <a:cubicBezTo>
                  <a:pt x="7997" y="10434"/>
                  <a:pt x="7998" y="10438"/>
                  <a:pt x="8000" y="10441"/>
                </a:cubicBezTo>
                <a:cubicBezTo>
                  <a:pt x="8009" y="10405"/>
                  <a:pt x="8014" y="10368"/>
                  <a:pt x="8022" y="10331"/>
                </a:cubicBezTo>
                <a:cubicBezTo>
                  <a:pt x="8032" y="10288"/>
                  <a:pt x="8045" y="10234"/>
                  <a:pt x="8077" y="10203"/>
                </a:cubicBezTo>
                <a:cubicBezTo>
                  <a:pt x="8098" y="10183"/>
                  <a:pt x="8120" y="10181"/>
                  <a:pt x="8147" y="10177"/>
                </a:cubicBezTo>
              </a:path>
              <a:path w="1236" h="518">
                <a:moveTo>
                  <a:pt x="8262" y="10246"/>
                </a:moveTo>
                <a:cubicBezTo>
                  <a:pt x="8246" y="10281"/>
                  <a:pt x="8250" y="10292"/>
                  <a:pt x="8257" y="10329"/>
                </a:cubicBezTo>
                <a:cubicBezTo>
                  <a:pt x="8263" y="10360"/>
                  <a:pt x="8274" y="10389"/>
                  <a:pt x="8291" y="10416"/>
                </a:cubicBezTo>
                <a:cubicBezTo>
                  <a:pt x="8300" y="10427"/>
                  <a:pt x="8302" y="10430"/>
                  <a:pt x="8312" y="10432"/>
                </a:cubicBezTo>
                <a:cubicBezTo>
                  <a:pt x="8333" y="10418"/>
                  <a:pt x="8340" y="10398"/>
                  <a:pt x="8348" y="10374"/>
                </a:cubicBezTo>
                <a:cubicBezTo>
                  <a:pt x="8358" y="10342"/>
                  <a:pt x="8367" y="10309"/>
                  <a:pt x="8376" y="10276"/>
                </a:cubicBezTo>
                <a:cubicBezTo>
                  <a:pt x="8377" y="10270"/>
                  <a:pt x="8379" y="10265"/>
                  <a:pt x="8380" y="10259"/>
                </a:cubicBezTo>
                <a:cubicBezTo>
                  <a:pt x="8401" y="10277"/>
                  <a:pt x="8403" y="10311"/>
                  <a:pt x="8412" y="10341"/>
                </a:cubicBezTo>
                <a:cubicBezTo>
                  <a:pt x="8421" y="10373"/>
                  <a:pt x="8430" y="10417"/>
                  <a:pt x="8453" y="10442"/>
                </a:cubicBezTo>
                <a:cubicBezTo>
                  <a:pt x="8467" y="10457"/>
                  <a:pt x="8475" y="10448"/>
                  <a:pt x="8488" y="10440"/>
                </a:cubicBezTo>
              </a:path>
              <a:path w="1236" h="518">
                <a:moveTo>
                  <a:pt x="8540" y="10333"/>
                </a:moveTo>
                <a:cubicBezTo>
                  <a:pt x="8563" y="10328"/>
                  <a:pt x="8592" y="10326"/>
                  <a:pt x="8613" y="10317"/>
                </a:cubicBezTo>
                <a:cubicBezTo>
                  <a:pt x="8658" y="10298"/>
                  <a:pt x="8707" y="10278"/>
                  <a:pt x="8751" y="10255"/>
                </a:cubicBezTo>
                <a:cubicBezTo>
                  <a:pt x="8781" y="10239"/>
                  <a:pt x="8808" y="10222"/>
                  <a:pt x="8830" y="10196"/>
                </a:cubicBezTo>
                <a:cubicBezTo>
                  <a:pt x="8796" y="10191"/>
                  <a:pt x="8767" y="10213"/>
                  <a:pt x="8739" y="10233"/>
                </a:cubicBezTo>
                <a:cubicBezTo>
                  <a:pt x="8689" y="10268"/>
                  <a:pt x="8625" y="10325"/>
                  <a:pt x="8636" y="10394"/>
                </a:cubicBezTo>
                <a:cubicBezTo>
                  <a:pt x="8644" y="10448"/>
                  <a:pt x="8708" y="10445"/>
                  <a:pt x="8749" y="10443"/>
                </a:cubicBezTo>
                <a:cubicBezTo>
                  <a:pt x="8809" y="10441"/>
                  <a:pt x="8851" y="10418"/>
                  <a:pt x="8905" y="1039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411360" y="3646440"/>
            <a:ext cx="362160" cy="147600"/>
          </a:xfrm>
          <a:custGeom>
            <a:avLst/>
            <a:gdLst/>
            <a:ahLst/>
            <a:rect l="l" t="t" r="r" b="b"/>
            <a:pathLst>
              <a:path w="1005" h="410">
                <a:moveTo>
                  <a:pt x="9516" y="10462"/>
                </a:moveTo>
                <a:cubicBezTo>
                  <a:pt x="9501" y="10454"/>
                  <a:pt x="9490" y="10448"/>
                  <a:pt x="9476" y="10438"/>
                </a:cubicBezTo>
                <a:cubicBezTo>
                  <a:pt x="9497" y="10392"/>
                  <a:pt x="9545" y="10379"/>
                  <a:pt x="9597" y="10362"/>
                </a:cubicBezTo>
                <a:cubicBezTo>
                  <a:pt x="9790" y="10298"/>
                  <a:pt x="9995" y="10260"/>
                  <a:pt x="10195" y="10227"/>
                </a:cubicBezTo>
                <a:cubicBezTo>
                  <a:pt x="10284" y="10212"/>
                  <a:pt x="10374" y="10197"/>
                  <a:pt x="10465" y="10196"/>
                </a:cubicBezTo>
                <a:cubicBezTo>
                  <a:pt x="10470" y="10196"/>
                  <a:pt x="10475" y="10197"/>
                  <a:pt x="10480" y="10197"/>
                </a:cubicBezTo>
                <a:cubicBezTo>
                  <a:pt x="10421" y="10210"/>
                  <a:pt x="10363" y="10210"/>
                  <a:pt x="10303" y="10209"/>
                </a:cubicBezTo>
                <a:cubicBezTo>
                  <a:pt x="10230" y="10207"/>
                  <a:pt x="10145" y="10207"/>
                  <a:pt x="10076" y="10180"/>
                </a:cubicBezTo>
                <a:cubicBezTo>
                  <a:pt x="10070" y="10176"/>
                  <a:pt x="10063" y="10171"/>
                  <a:pt x="10057" y="10167"/>
                </a:cubicBezTo>
                <a:cubicBezTo>
                  <a:pt x="10099" y="10141"/>
                  <a:pt x="10128" y="10130"/>
                  <a:pt x="10188" y="10130"/>
                </a:cubicBezTo>
                <a:cubicBezTo>
                  <a:pt x="10260" y="10130"/>
                  <a:pt x="10350" y="10139"/>
                  <a:pt x="10399" y="10199"/>
                </a:cubicBezTo>
                <a:cubicBezTo>
                  <a:pt x="10442" y="10252"/>
                  <a:pt x="10417" y="10328"/>
                  <a:pt x="10389" y="10381"/>
                </a:cubicBezTo>
                <a:cubicBezTo>
                  <a:pt x="10361" y="10435"/>
                  <a:pt x="10326" y="10481"/>
                  <a:pt x="10285" y="10525"/>
                </a:cubicBezTo>
                <a:cubicBezTo>
                  <a:pt x="10281" y="10530"/>
                  <a:pt x="10277" y="10534"/>
                  <a:pt x="10273" y="1053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954600" y="3597120"/>
            <a:ext cx="869760" cy="142920"/>
          </a:xfrm>
          <a:custGeom>
            <a:avLst/>
            <a:gdLst/>
            <a:ahLst/>
            <a:rect l="l" t="t" r="r" b="b"/>
            <a:pathLst>
              <a:path w="2414" h="400">
                <a:moveTo>
                  <a:pt x="11011" y="10370"/>
                </a:moveTo>
                <a:cubicBezTo>
                  <a:pt x="10972" y="10423"/>
                  <a:pt x="11029" y="10371"/>
                  <a:pt x="11068" y="10358"/>
                </a:cubicBezTo>
                <a:cubicBezTo>
                  <a:pt x="11188" y="10318"/>
                  <a:pt x="11310" y="10284"/>
                  <a:pt x="11433" y="10254"/>
                </a:cubicBezTo>
                <a:cubicBezTo>
                  <a:pt x="11592" y="10215"/>
                  <a:pt x="11785" y="10158"/>
                  <a:pt x="11951" y="10182"/>
                </a:cubicBezTo>
                <a:cubicBezTo>
                  <a:pt x="11971" y="10189"/>
                  <a:pt x="11976" y="10188"/>
                  <a:pt x="11982" y="10199"/>
                </a:cubicBezTo>
                <a:cubicBezTo>
                  <a:pt x="11951" y="10217"/>
                  <a:pt x="11934" y="10227"/>
                  <a:pt x="11894" y="10226"/>
                </a:cubicBezTo>
                <a:cubicBezTo>
                  <a:pt x="11812" y="10223"/>
                  <a:pt x="11703" y="10184"/>
                  <a:pt x="11663" y="10106"/>
                </a:cubicBezTo>
                <a:cubicBezTo>
                  <a:pt x="11635" y="10052"/>
                  <a:pt x="11680" y="10012"/>
                  <a:pt x="11731" y="10004"/>
                </a:cubicBezTo>
                <a:cubicBezTo>
                  <a:pt x="11783" y="9996"/>
                  <a:pt x="11841" y="10007"/>
                  <a:pt x="11880" y="10043"/>
                </a:cubicBezTo>
                <a:cubicBezTo>
                  <a:pt x="11917" y="10078"/>
                  <a:pt x="11912" y="10131"/>
                  <a:pt x="11893" y="10173"/>
                </a:cubicBezTo>
                <a:cubicBezTo>
                  <a:pt x="11872" y="10219"/>
                  <a:pt x="11836" y="10255"/>
                  <a:pt x="11810" y="10297"/>
                </a:cubicBezTo>
                <a:cubicBezTo>
                  <a:pt x="11789" y="10330"/>
                  <a:pt x="11795" y="10331"/>
                  <a:pt x="11795" y="10361"/>
                </a:cubicBezTo>
              </a:path>
              <a:path w="2414" h="400">
                <a:moveTo>
                  <a:pt x="12441" y="10198"/>
                </a:moveTo>
                <a:cubicBezTo>
                  <a:pt x="12436" y="10200"/>
                  <a:pt x="12432" y="10201"/>
                  <a:pt x="12427" y="10203"/>
                </a:cubicBezTo>
                <a:cubicBezTo>
                  <a:pt x="12422" y="10231"/>
                  <a:pt x="12403" y="10225"/>
                  <a:pt x="12444" y="10229"/>
                </a:cubicBezTo>
                <a:cubicBezTo>
                  <a:pt x="12529" y="10236"/>
                  <a:pt x="12629" y="10207"/>
                  <a:pt x="12712" y="10195"/>
                </a:cubicBezTo>
                <a:cubicBezTo>
                  <a:pt x="12912" y="10167"/>
                  <a:pt x="13110" y="10141"/>
                  <a:pt x="13312" y="10139"/>
                </a:cubicBezTo>
                <a:cubicBezTo>
                  <a:pt x="13193" y="10128"/>
                  <a:pt x="13071" y="10114"/>
                  <a:pt x="12955" y="10087"/>
                </a:cubicBezTo>
                <a:cubicBezTo>
                  <a:pt x="12909" y="10076"/>
                  <a:pt x="12899" y="10064"/>
                  <a:pt x="12865" y="10043"/>
                </a:cubicBezTo>
                <a:cubicBezTo>
                  <a:pt x="12928" y="10001"/>
                  <a:pt x="13000" y="9994"/>
                  <a:pt x="13077" y="9991"/>
                </a:cubicBezTo>
                <a:cubicBezTo>
                  <a:pt x="13169" y="9987"/>
                  <a:pt x="13298" y="9987"/>
                  <a:pt x="13371" y="10053"/>
                </a:cubicBezTo>
                <a:cubicBezTo>
                  <a:pt x="13437" y="10112"/>
                  <a:pt x="13377" y="10197"/>
                  <a:pt x="13333" y="10246"/>
                </a:cubicBezTo>
                <a:cubicBezTo>
                  <a:pt x="13283" y="10300"/>
                  <a:pt x="13208" y="10354"/>
                  <a:pt x="13140" y="10384"/>
                </a:cubicBezTo>
                <a:cubicBezTo>
                  <a:pt x="13120" y="10390"/>
                  <a:pt x="13112" y="10393"/>
                  <a:pt x="13123" y="1037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321160" y="3549600"/>
            <a:ext cx="455760" cy="325440"/>
          </a:xfrm>
          <a:custGeom>
            <a:avLst/>
            <a:gdLst/>
            <a:ahLst/>
            <a:rect l="l" t="t" r="r" b="b"/>
            <a:pathLst>
              <a:path w="1268" h="904">
                <a:moveTo>
                  <a:pt x="15039" y="9929"/>
                </a:moveTo>
                <a:cubicBezTo>
                  <a:pt x="15033" y="9909"/>
                  <a:pt x="15028" y="9898"/>
                  <a:pt x="15019" y="9880"/>
                </a:cubicBezTo>
                <a:cubicBezTo>
                  <a:pt x="14979" y="9901"/>
                  <a:pt x="14955" y="9919"/>
                  <a:pt x="14927" y="9960"/>
                </a:cubicBezTo>
                <a:cubicBezTo>
                  <a:pt x="14873" y="10039"/>
                  <a:pt x="14833" y="10129"/>
                  <a:pt x="14805" y="10220"/>
                </a:cubicBezTo>
                <a:cubicBezTo>
                  <a:pt x="14791" y="10265"/>
                  <a:pt x="14755" y="10367"/>
                  <a:pt x="14793" y="10411"/>
                </a:cubicBezTo>
                <a:cubicBezTo>
                  <a:pt x="14800" y="10414"/>
                  <a:pt x="14808" y="10418"/>
                  <a:pt x="14815" y="10421"/>
                </a:cubicBezTo>
                <a:cubicBezTo>
                  <a:pt x="14871" y="10398"/>
                  <a:pt x="14900" y="10364"/>
                  <a:pt x="14937" y="10315"/>
                </a:cubicBezTo>
                <a:cubicBezTo>
                  <a:pt x="14976" y="10263"/>
                  <a:pt x="15009" y="10177"/>
                  <a:pt x="15061" y="10137"/>
                </a:cubicBezTo>
                <a:cubicBezTo>
                  <a:pt x="15066" y="10136"/>
                  <a:pt x="15070" y="10134"/>
                  <a:pt x="15075" y="10133"/>
                </a:cubicBezTo>
                <a:cubicBezTo>
                  <a:pt x="15082" y="10189"/>
                  <a:pt x="15082" y="10239"/>
                  <a:pt x="15073" y="10298"/>
                </a:cubicBezTo>
                <a:cubicBezTo>
                  <a:pt x="15058" y="10402"/>
                  <a:pt x="15036" y="10502"/>
                  <a:pt x="15005" y="10602"/>
                </a:cubicBezTo>
                <a:cubicBezTo>
                  <a:pt x="14987" y="10660"/>
                  <a:pt x="14967" y="10712"/>
                  <a:pt x="14937" y="10764"/>
                </a:cubicBezTo>
                <a:cubicBezTo>
                  <a:pt x="14950" y="10706"/>
                  <a:pt x="14976" y="10656"/>
                  <a:pt x="15005" y="10603"/>
                </a:cubicBezTo>
                <a:cubicBezTo>
                  <a:pt x="15043" y="10533"/>
                  <a:pt x="15087" y="10466"/>
                  <a:pt x="15126" y="10396"/>
                </a:cubicBezTo>
                <a:cubicBezTo>
                  <a:pt x="15145" y="10363"/>
                  <a:pt x="15164" y="10331"/>
                  <a:pt x="15182" y="10297"/>
                </a:cubicBezTo>
              </a:path>
              <a:path w="1268" h="904">
                <a:moveTo>
                  <a:pt x="15693" y="10038"/>
                </a:moveTo>
                <a:cubicBezTo>
                  <a:pt x="15670" y="10052"/>
                  <a:pt x="15658" y="10085"/>
                  <a:pt x="15652" y="10115"/>
                </a:cubicBezTo>
                <a:cubicBezTo>
                  <a:pt x="15645" y="10148"/>
                  <a:pt x="15636" y="10200"/>
                  <a:pt x="15641" y="10234"/>
                </a:cubicBezTo>
                <a:cubicBezTo>
                  <a:pt x="15648" y="10251"/>
                  <a:pt x="15649" y="10257"/>
                  <a:pt x="15664" y="10250"/>
                </a:cubicBezTo>
              </a:path>
              <a:path w="1268" h="904">
                <a:moveTo>
                  <a:pt x="15694" y="9935"/>
                </a:moveTo>
                <a:cubicBezTo>
                  <a:pt x="15692" y="9924"/>
                  <a:pt x="15681" y="9873"/>
                  <a:pt x="15699" y="9863"/>
                </a:cubicBezTo>
                <a:cubicBezTo>
                  <a:pt x="15706" y="9862"/>
                  <a:pt x="15712" y="9862"/>
                  <a:pt x="15719" y="9861"/>
                </a:cubicBezTo>
              </a:path>
              <a:path w="1268" h="904">
                <a:moveTo>
                  <a:pt x="16016" y="10013"/>
                </a:moveTo>
                <a:cubicBezTo>
                  <a:pt x="15982" y="10047"/>
                  <a:pt x="15946" y="10071"/>
                  <a:pt x="15910" y="10100"/>
                </a:cubicBezTo>
                <a:cubicBezTo>
                  <a:pt x="15898" y="10113"/>
                  <a:pt x="15895" y="10117"/>
                  <a:pt x="15888" y="10125"/>
                </a:cubicBezTo>
                <a:cubicBezTo>
                  <a:pt x="15917" y="10145"/>
                  <a:pt x="15950" y="10153"/>
                  <a:pt x="15981" y="10171"/>
                </a:cubicBezTo>
                <a:cubicBezTo>
                  <a:pt x="16013" y="10189"/>
                  <a:pt x="16046" y="10213"/>
                  <a:pt x="16047" y="10253"/>
                </a:cubicBezTo>
                <a:cubicBezTo>
                  <a:pt x="16048" y="10297"/>
                  <a:pt x="16006" y="10297"/>
                  <a:pt x="15976" y="10300"/>
                </a:cubicBezTo>
                <a:cubicBezTo>
                  <a:pt x="15935" y="10304"/>
                  <a:pt x="15902" y="10291"/>
                  <a:pt x="15872" y="10261"/>
                </a:cubicBezTo>
                <a:cubicBezTo>
                  <a:pt x="15866" y="10253"/>
                  <a:pt x="15860" y="10246"/>
                  <a:pt x="15854" y="1023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040440" y="3506760"/>
            <a:ext cx="566640" cy="174600"/>
          </a:xfrm>
          <a:custGeom>
            <a:avLst/>
            <a:gdLst/>
            <a:ahLst/>
            <a:rect l="l" t="t" r="r" b="b"/>
            <a:pathLst>
              <a:path w="1575" h="488">
                <a:moveTo>
                  <a:pt x="16827" y="9752"/>
                </a:moveTo>
                <a:cubicBezTo>
                  <a:pt x="16826" y="9748"/>
                  <a:pt x="16826" y="9743"/>
                  <a:pt x="16825" y="9739"/>
                </a:cubicBezTo>
                <a:cubicBezTo>
                  <a:pt x="16819" y="9777"/>
                  <a:pt x="16825" y="9814"/>
                  <a:pt x="16832" y="9852"/>
                </a:cubicBezTo>
                <a:cubicBezTo>
                  <a:pt x="16846" y="9927"/>
                  <a:pt x="16864" y="10003"/>
                  <a:pt x="16889" y="10075"/>
                </a:cubicBezTo>
                <a:cubicBezTo>
                  <a:pt x="16900" y="10107"/>
                  <a:pt x="16914" y="10137"/>
                  <a:pt x="16929" y="10167"/>
                </a:cubicBezTo>
              </a:path>
              <a:path w="1575" h="488">
                <a:moveTo>
                  <a:pt x="16780" y="10004"/>
                </a:moveTo>
                <a:cubicBezTo>
                  <a:pt x="16799" y="9973"/>
                  <a:pt x="16820" y="9962"/>
                  <a:pt x="16854" y="9947"/>
                </a:cubicBezTo>
                <a:cubicBezTo>
                  <a:pt x="16913" y="9921"/>
                  <a:pt x="16976" y="9908"/>
                  <a:pt x="17038" y="9894"/>
                </a:cubicBezTo>
                <a:cubicBezTo>
                  <a:pt x="17051" y="9891"/>
                  <a:pt x="17063" y="9888"/>
                  <a:pt x="17076" y="9885"/>
                </a:cubicBezTo>
              </a:path>
              <a:path w="1575" h="488">
                <a:moveTo>
                  <a:pt x="17137" y="10052"/>
                </a:moveTo>
                <a:cubicBezTo>
                  <a:pt x="17129" y="10083"/>
                  <a:pt x="17115" y="10122"/>
                  <a:pt x="17115" y="10154"/>
                </a:cubicBezTo>
                <a:cubicBezTo>
                  <a:pt x="17116" y="10159"/>
                  <a:pt x="17117" y="10164"/>
                  <a:pt x="17118" y="10169"/>
                </a:cubicBezTo>
                <a:cubicBezTo>
                  <a:pt x="17131" y="10136"/>
                  <a:pt x="17143" y="10104"/>
                  <a:pt x="17157" y="10072"/>
                </a:cubicBezTo>
                <a:cubicBezTo>
                  <a:pt x="17173" y="10034"/>
                  <a:pt x="17197" y="9981"/>
                  <a:pt x="17233" y="9956"/>
                </a:cubicBezTo>
                <a:cubicBezTo>
                  <a:pt x="17260" y="9938"/>
                  <a:pt x="17294" y="9933"/>
                  <a:pt x="17323" y="9942"/>
                </a:cubicBezTo>
                <a:cubicBezTo>
                  <a:pt x="17328" y="9944"/>
                  <a:pt x="17334" y="9946"/>
                  <a:pt x="17339" y="9948"/>
                </a:cubicBezTo>
              </a:path>
              <a:path w="1575" h="488">
                <a:moveTo>
                  <a:pt x="17461" y="9994"/>
                </a:moveTo>
                <a:cubicBezTo>
                  <a:pt x="17461" y="10020"/>
                  <a:pt x="17457" y="10048"/>
                  <a:pt x="17460" y="10074"/>
                </a:cubicBezTo>
                <a:cubicBezTo>
                  <a:pt x="17463" y="10105"/>
                  <a:pt x="17468" y="10133"/>
                  <a:pt x="17481" y="10161"/>
                </a:cubicBezTo>
                <a:cubicBezTo>
                  <a:pt x="17506" y="10170"/>
                  <a:pt x="17516" y="10157"/>
                  <a:pt x="17532" y="10135"/>
                </a:cubicBezTo>
                <a:cubicBezTo>
                  <a:pt x="17557" y="10101"/>
                  <a:pt x="17577" y="10064"/>
                  <a:pt x="17598" y="10028"/>
                </a:cubicBezTo>
                <a:cubicBezTo>
                  <a:pt x="17612" y="10004"/>
                  <a:pt x="17613" y="10000"/>
                  <a:pt x="17637" y="9996"/>
                </a:cubicBezTo>
                <a:cubicBezTo>
                  <a:pt x="17642" y="10031"/>
                  <a:pt x="17636" y="10059"/>
                  <a:pt x="17637" y="10093"/>
                </a:cubicBezTo>
                <a:cubicBezTo>
                  <a:pt x="17638" y="10121"/>
                  <a:pt x="17643" y="10140"/>
                  <a:pt x="17653" y="10165"/>
                </a:cubicBezTo>
              </a:path>
              <a:path w="1575" h="488">
                <a:moveTo>
                  <a:pt x="17840" y="10102"/>
                </a:moveTo>
                <a:cubicBezTo>
                  <a:pt x="17865" y="10094"/>
                  <a:pt x="17889" y="10079"/>
                  <a:pt x="17913" y="10071"/>
                </a:cubicBezTo>
                <a:cubicBezTo>
                  <a:pt x="17957" y="10057"/>
                  <a:pt x="17995" y="10040"/>
                  <a:pt x="18035" y="10016"/>
                </a:cubicBezTo>
                <a:cubicBezTo>
                  <a:pt x="18058" y="10002"/>
                  <a:pt x="18065" y="9996"/>
                  <a:pt x="18076" y="9973"/>
                </a:cubicBezTo>
                <a:cubicBezTo>
                  <a:pt x="18052" y="9954"/>
                  <a:pt x="18028" y="9960"/>
                  <a:pt x="17997" y="9971"/>
                </a:cubicBezTo>
                <a:cubicBezTo>
                  <a:pt x="17961" y="9984"/>
                  <a:pt x="17914" y="10008"/>
                  <a:pt x="17900" y="10046"/>
                </a:cubicBezTo>
                <a:cubicBezTo>
                  <a:pt x="17885" y="10087"/>
                  <a:pt x="17917" y="10114"/>
                  <a:pt x="17952" y="10126"/>
                </a:cubicBezTo>
                <a:cubicBezTo>
                  <a:pt x="18006" y="10145"/>
                  <a:pt x="18065" y="10149"/>
                  <a:pt x="18121" y="10156"/>
                </a:cubicBezTo>
              </a:path>
              <a:path w="1575" h="488">
                <a:moveTo>
                  <a:pt x="18336" y="10226"/>
                </a:moveTo>
                <a:cubicBezTo>
                  <a:pt x="18355" y="10202"/>
                  <a:pt x="18352" y="10205"/>
                  <a:pt x="18345" y="10177"/>
                </a:cubicBezTo>
                <a:cubicBezTo>
                  <a:pt x="18344" y="10167"/>
                  <a:pt x="18342" y="10163"/>
                  <a:pt x="18334" y="1015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93640" y="4035600"/>
            <a:ext cx="1703520" cy="395280"/>
          </a:xfrm>
          <a:custGeom>
            <a:avLst/>
            <a:gdLst/>
            <a:ahLst/>
            <a:rect l="l" t="t" r="r" b="b"/>
            <a:pathLst>
              <a:path w="4730" h="1096">
                <a:moveTo>
                  <a:pt x="2026" y="11290"/>
                </a:moveTo>
                <a:cubicBezTo>
                  <a:pt x="1990" y="11299"/>
                  <a:pt x="1940" y="11317"/>
                  <a:pt x="1910" y="11338"/>
                </a:cubicBezTo>
                <a:cubicBezTo>
                  <a:pt x="1844" y="11384"/>
                  <a:pt x="1788" y="11453"/>
                  <a:pt x="1745" y="11520"/>
                </a:cubicBezTo>
                <a:cubicBezTo>
                  <a:pt x="1690" y="11605"/>
                  <a:pt x="1656" y="11692"/>
                  <a:pt x="1651" y="11794"/>
                </a:cubicBezTo>
                <a:cubicBezTo>
                  <a:pt x="1647" y="11881"/>
                  <a:pt x="1677" y="11954"/>
                  <a:pt x="1746" y="12007"/>
                </a:cubicBezTo>
                <a:cubicBezTo>
                  <a:pt x="1812" y="12058"/>
                  <a:pt x="1888" y="12044"/>
                  <a:pt x="1964" y="12034"/>
                </a:cubicBezTo>
              </a:path>
              <a:path w="4730" h="1096">
                <a:moveTo>
                  <a:pt x="2191" y="11732"/>
                </a:moveTo>
                <a:cubicBezTo>
                  <a:pt x="2137" y="11749"/>
                  <a:pt x="2124" y="11768"/>
                  <a:pt x="2091" y="11812"/>
                </a:cubicBezTo>
                <a:cubicBezTo>
                  <a:pt x="2055" y="11859"/>
                  <a:pt x="2040" y="11905"/>
                  <a:pt x="2058" y="11964"/>
                </a:cubicBezTo>
                <a:cubicBezTo>
                  <a:pt x="2073" y="12012"/>
                  <a:pt x="2120" y="12026"/>
                  <a:pt x="2165" y="12016"/>
                </a:cubicBezTo>
                <a:cubicBezTo>
                  <a:pt x="2226" y="12003"/>
                  <a:pt x="2268" y="11961"/>
                  <a:pt x="2303" y="11912"/>
                </a:cubicBezTo>
                <a:cubicBezTo>
                  <a:pt x="2338" y="11863"/>
                  <a:pt x="2350" y="11810"/>
                  <a:pt x="2368" y="11755"/>
                </a:cubicBezTo>
                <a:cubicBezTo>
                  <a:pt x="2374" y="11736"/>
                  <a:pt x="2382" y="11718"/>
                  <a:pt x="2387" y="11698"/>
                </a:cubicBezTo>
              </a:path>
              <a:path w="4730" h="1096">
                <a:moveTo>
                  <a:pt x="2486" y="11845"/>
                </a:moveTo>
                <a:cubicBezTo>
                  <a:pt x="2498" y="11877"/>
                  <a:pt x="2506" y="11908"/>
                  <a:pt x="2516" y="11940"/>
                </a:cubicBezTo>
                <a:cubicBezTo>
                  <a:pt x="2545" y="11911"/>
                  <a:pt x="2555" y="11880"/>
                  <a:pt x="2573" y="11844"/>
                </a:cubicBezTo>
                <a:cubicBezTo>
                  <a:pt x="2593" y="11805"/>
                  <a:pt x="2607" y="11774"/>
                  <a:pt x="2645" y="11755"/>
                </a:cubicBezTo>
                <a:cubicBezTo>
                  <a:pt x="2675" y="11779"/>
                  <a:pt x="2678" y="11819"/>
                  <a:pt x="2685" y="11857"/>
                </a:cubicBezTo>
                <a:cubicBezTo>
                  <a:pt x="2695" y="11914"/>
                  <a:pt x="2697" y="11973"/>
                  <a:pt x="2717" y="12028"/>
                </a:cubicBezTo>
                <a:cubicBezTo>
                  <a:pt x="2726" y="12044"/>
                  <a:pt x="2727" y="12049"/>
                  <a:pt x="2740" y="12050"/>
                </a:cubicBezTo>
              </a:path>
              <a:path w="4730" h="1096">
                <a:moveTo>
                  <a:pt x="2882" y="11362"/>
                </a:moveTo>
                <a:cubicBezTo>
                  <a:pt x="2858" y="11331"/>
                  <a:pt x="2866" y="11436"/>
                  <a:pt x="2866" y="11455"/>
                </a:cubicBezTo>
                <a:cubicBezTo>
                  <a:pt x="2866" y="11547"/>
                  <a:pt x="2871" y="11641"/>
                  <a:pt x="2884" y="11732"/>
                </a:cubicBezTo>
                <a:cubicBezTo>
                  <a:pt x="2891" y="11783"/>
                  <a:pt x="2919" y="11865"/>
                  <a:pt x="2902" y="11918"/>
                </a:cubicBezTo>
                <a:cubicBezTo>
                  <a:pt x="2899" y="11921"/>
                  <a:pt x="2896" y="11923"/>
                  <a:pt x="2893" y="11926"/>
                </a:cubicBezTo>
              </a:path>
              <a:path w="4730" h="1096">
                <a:moveTo>
                  <a:pt x="2786" y="11733"/>
                </a:moveTo>
                <a:cubicBezTo>
                  <a:pt x="2803" y="11690"/>
                  <a:pt x="2827" y="11662"/>
                  <a:pt x="2868" y="11636"/>
                </a:cubicBezTo>
                <a:cubicBezTo>
                  <a:pt x="2916" y="11606"/>
                  <a:pt x="2969" y="11586"/>
                  <a:pt x="3023" y="11570"/>
                </a:cubicBezTo>
                <a:cubicBezTo>
                  <a:pt x="3035" y="11567"/>
                  <a:pt x="3046" y="11564"/>
                  <a:pt x="3058" y="11561"/>
                </a:cubicBezTo>
              </a:path>
              <a:path w="4730" h="1096">
                <a:moveTo>
                  <a:pt x="3114" y="11754"/>
                </a:moveTo>
                <a:cubicBezTo>
                  <a:pt x="3119" y="11790"/>
                  <a:pt x="3121" y="11837"/>
                  <a:pt x="3136" y="11871"/>
                </a:cubicBezTo>
                <a:cubicBezTo>
                  <a:pt x="3145" y="11890"/>
                  <a:pt x="3150" y="11898"/>
                  <a:pt x="3165" y="11906"/>
                </a:cubicBezTo>
                <a:cubicBezTo>
                  <a:pt x="3184" y="11883"/>
                  <a:pt x="3180" y="11860"/>
                  <a:pt x="3183" y="11830"/>
                </a:cubicBezTo>
                <a:cubicBezTo>
                  <a:pt x="3187" y="11787"/>
                  <a:pt x="3193" y="11743"/>
                  <a:pt x="3205" y="11701"/>
                </a:cubicBezTo>
                <a:cubicBezTo>
                  <a:pt x="3213" y="11675"/>
                  <a:pt x="3224" y="11670"/>
                  <a:pt x="3245" y="11656"/>
                </a:cubicBezTo>
              </a:path>
              <a:path w="4730" h="1096">
                <a:moveTo>
                  <a:pt x="3537" y="11699"/>
                </a:moveTo>
                <a:cubicBezTo>
                  <a:pt x="3514" y="11693"/>
                  <a:pt x="3503" y="11703"/>
                  <a:pt x="3489" y="11724"/>
                </a:cubicBezTo>
                <a:cubicBezTo>
                  <a:pt x="3470" y="11753"/>
                  <a:pt x="3456" y="11791"/>
                  <a:pt x="3448" y="11825"/>
                </a:cubicBezTo>
                <a:cubicBezTo>
                  <a:pt x="3445" y="11846"/>
                  <a:pt x="3443" y="11850"/>
                  <a:pt x="3445" y="11863"/>
                </a:cubicBezTo>
                <a:cubicBezTo>
                  <a:pt x="3476" y="11873"/>
                  <a:pt x="3496" y="11850"/>
                  <a:pt x="3523" y="11831"/>
                </a:cubicBezTo>
                <a:cubicBezTo>
                  <a:pt x="3559" y="11806"/>
                  <a:pt x="3592" y="11767"/>
                  <a:pt x="3633" y="11750"/>
                </a:cubicBezTo>
                <a:cubicBezTo>
                  <a:pt x="3670" y="11734"/>
                  <a:pt x="3679" y="11770"/>
                  <a:pt x="3686" y="11798"/>
                </a:cubicBezTo>
                <a:cubicBezTo>
                  <a:pt x="3698" y="11844"/>
                  <a:pt x="3701" y="11892"/>
                  <a:pt x="3708" y="11939"/>
                </a:cubicBezTo>
                <a:cubicBezTo>
                  <a:pt x="3711" y="11960"/>
                  <a:pt x="3712" y="11965"/>
                  <a:pt x="3717" y="11977"/>
                </a:cubicBezTo>
              </a:path>
              <a:path w="4730" h="1096">
                <a:moveTo>
                  <a:pt x="3848" y="11774"/>
                </a:moveTo>
                <a:cubicBezTo>
                  <a:pt x="3872" y="11816"/>
                  <a:pt x="3876" y="11859"/>
                  <a:pt x="3887" y="11906"/>
                </a:cubicBezTo>
                <a:cubicBezTo>
                  <a:pt x="3907" y="11992"/>
                  <a:pt x="3923" y="12079"/>
                  <a:pt x="3935" y="12167"/>
                </a:cubicBezTo>
                <a:cubicBezTo>
                  <a:pt x="3942" y="12213"/>
                  <a:pt x="3946" y="12260"/>
                  <a:pt x="3950" y="12306"/>
                </a:cubicBezTo>
                <a:cubicBezTo>
                  <a:pt x="3945" y="12239"/>
                  <a:pt x="3942" y="12173"/>
                  <a:pt x="3945" y="12106"/>
                </a:cubicBezTo>
                <a:cubicBezTo>
                  <a:pt x="3951" y="11995"/>
                  <a:pt x="3966" y="11885"/>
                  <a:pt x="4000" y="11779"/>
                </a:cubicBezTo>
                <a:cubicBezTo>
                  <a:pt x="4021" y="11713"/>
                  <a:pt x="4056" y="11613"/>
                  <a:pt x="4127" y="11583"/>
                </a:cubicBezTo>
                <a:cubicBezTo>
                  <a:pt x="4183" y="11559"/>
                  <a:pt x="4220" y="11627"/>
                  <a:pt x="4226" y="11671"/>
                </a:cubicBezTo>
                <a:cubicBezTo>
                  <a:pt x="4238" y="11752"/>
                  <a:pt x="4200" y="11832"/>
                  <a:pt x="4149" y="11892"/>
                </a:cubicBezTo>
                <a:cubicBezTo>
                  <a:pt x="4109" y="11939"/>
                  <a:pt x="4047" y="11994"/>
                  <a:pt x="3981" y="11977"/>
                </a:cubicBezTo>
                <a:cubicBezTo>
                  <a:pt x="3914" y="11960"/>
                  <a:pt x="4003" y="11879"/>
                  <a:pt x="4017" y="11863"/>
                </a:cubicBezTo>
              </a:path>
              <a:path w="4730" h="1096">
                <a:moveTo>
                  <a:pt x="4523" y="11646"/>
                </a:moveTo>
                <a:cubicBezTo>
                  <a:pt x="4497" y="11691"/>
                  <a:pt x="4463" y="11730"/>
                  <a:pt x="4435" y="11773"/>
                </a:cubicBezTo>
                <a:cubicBezTo>
                  <a:pt x="4421" y="11794"/>
                  <a:pt x="4384" y="11852"/>
                  <a:pt x="4413" y="11876"/>
                </a:cubicBezTo>
                <a:cubicBezTo>
                  <a:pt x="4439" y="11898"/>
                  <a:pt x="4490" y="11870"/>
                  <a:pt x="4513" y="11857"/>
                </a:cubicBezTo>
                <a:cubicBezTo>
                  <a:pt x="4552" y="11835"/>
                  <a:pt x="4579" y="11806"/>
                  <a:pt x="4590" y="11763"/>
                </a:cubicBezTo>
                <a:cubicBezTo>
                  <a:pt x="4599" y="11728"/>
                  <a:pt x="4592" y="11696"/>
                  <a:pt x="4578" y="11663"/>
                </a:cubicBezTo>
                <a:cubicBezTo>
                  <a:pt x="4564" y="11630"/>
                  <a:pt x="4553" y="11605"/>
                  <a:pt x="4552" y="11570"/>
                </a:cubicBezTo>
              </a:path>
              <a:path w="4730" h="1096">
                <a:moveTo>
                  <a:pt x="4800" y="11629"/>
                </a:moveTo>
                <a:cubicBezTo>
                  <a:pt x="4781" y="11658"/>
                  <a:pt x="4760" y="11660"/>
                  <a:pt x="4734" y="11679"/>
                </a:cubicBezTo>
                <a:cubicBezTo>
                  <a:pt x="4709" y="11698"/>
                  <a:pt x="4685" y="11722"/>
                  <a:pt x="4674" y="11750"/>
                </a:cubicBezTo>
                <a:cubicBezTo>
                  <a:pt x="4723" y="11761"/>
                  <a:pt x="4764" y="11752"/>
                  <a:pt x="4815" y="11749"/>
                </a:cubicBezTo>
                <a:cubicBezTo>
                  <a:pt x="4854" y="11747"/>
                  <a:pt x="4920" y="11739"/>
                  <a:pt x="4943" y="11782"/>
                </a:cubicBezTo>
                <a:cubicBezTo>
                  <a:pt x="4964" y="11820"/>
                  <a:pt x="4927" y="11879"/>
                  <a:pt x="4904" y="11907"/>
                </a:cubicBezTo>
                <a:cubicBezTo>
                  <a:pt x="4878" y="11939"/>
                  <a:pt x="4833" y="11979"/>
                  <a:pt x="4788" y="11972"/>
                </a:cubicBezTo>
                <a:cubicBezTo>
                  <a:pt x="4758" y="11968"/>
                  <a:pt x="4765" y="11936"/>
                  <a:pt x="4763" y="11916"/>
                </a:cubicBezTo>
              </a:path>
              <a:path w="4730" h="1096">
                <a:moveTo>
                  <a:pt x="5040" y="11703"/>
                </a:moveTo>
                <a:cubicBezTo>
                  <a:pt x="5054" y="11736"/>
                  <a:pt x="5063" y="11766"/>
                  <a:pt x="5067" y="11802"/>
                </a:cubicBezTo>
                <a:cubicBezTo>
                  <a:pt x="5070" y="11833"/>
                  <a:pt x="5074" y="11861"/>
                  <a:pt x="5081" y="11891"/>
                </a:cubicBezTo>
              </a:path>
              <a:path w="4730" h="1096">
                <a:moveTo>
                  <a:pt x="5092" y="11398"/>
                </a:moveTo>
                <a:cubicBezTo>
                  <a:pt x="5099" y="11355"/>
                  <a:pt x="5098" y="11308"/>
                  <a:pt x="5108" y="11266"/>
                </a:cubicBezTo>
                <a:cubicBezTo>
                  <a:pt x="5115" y="11239"/>
                  <a:pt x="5127" y="11227"/>
                  <a:pt x="5148" y="11211"/>
                </a:cubicBezTo>
              </a:path>
              <a:path w="4730" h="1096">
                <a:moveTo>
                  <a:pt x="5322" y="11303"/>
                </a:moveTo>
                <a:cubicBezTo>
                  <a:pt x="5328" y="11367"/>
                  <a:pt x="5321" y="11428"/>
                  <a:pt x="5322" y="11492"/>
                </a:cubicBezTo>
                <a:cubicBezTo>
                  <a:pt x="5323" y="11585"/>
                  <a:pt x="5324" y="11679"/>
                  <a:pt x="5330" y="11772"/>
                </a:cubicBezTo>
                <a:cubicBezTo>
                  <a:pt x="5333" y="11820"/>
                  <a:pt x="5336" y="11868"/>
                  <a:pt x="5336" y="11916"/>
                </a:cubicBezTo>
              </a:path>
              <a:path w="4730" h="1096">
                <a:moveTo>
                  <a:pt x="5237" y="11697"/>
                </a:moveTo>
                <a:cubicBezTo>
                  <a:pt x="5256" y="11665"/>
                  <a:pt x="5275" y="11643"/>
                  <a:pt x="5316" y="11637"/>
                </a:cubicBezTo>
                <a:cubicBezTo>
                  <a:pt x="5357" y="11631"/>
                  <a:pt x="5401" y="11632"/>
                  <a:pt x="5443" y="11630"/>
                </a:cubicBezTo>
              </a:path>
              <a:path w="4730" h="1096">
                <a:moveTo>
                  <a:pt x="5535" y="11721"/>
                </a:moveTo>
                <a:cubicBezTo>
                  <a:pt x="5541" y="11758"/>
                  <a:pt x="5549" y="11793"/>
                  <a:pt x="5562" y="11828"/>
                </a:cubicBezTo>
                <a:cubicBezTo>
                  <a:pt x="5568" y="11843"/>
                  <a:pt x="5575" y="11858"/>
                  <a:pt x="5582" y="11872"/>
                </a:cubicBezTo>
              </a:path>
              <a:path w="4730" h="1096">
                <a:moveTo>
                  <a:pt x="5525" y="11561"/>
                </a:moveTo>
                <a:cubicBezTo>
                  <a:pt x="5531" y="11524"/>
                  <a:pt x="5532" y="11489"/>
                  <a:pt x="5557" y="11459"/>
                </a:cubicBezTo>
                <a:cubicBezTo>
                  <a:pt x="5578" y="11434"/>
                  <a:pt x="5613" y="11462"/>
                  <a:pt x="5634" y="11473"/>
                </a:cubicBezTo>
              </a:path>
              <a:path w="4730" h="1096">
                <a:moveTo>
                  <a:pt x="5811" y="11658"/>
                </a:moveTo>
                <a:cubicBezTo>
                  <a:pt x="5799" y="11687"/>
                  <a:pt x="5789" y="11719"/>
                  <a:pt x="5776" y="11747"/>
                </a:cubicBezTo>
                <a:cubicBezTo>
                  <a:pt x="5767" y="11767"/>
                  <a:pt x="5748" y="11802"/>
                  <a:pt x="5770" y="11822"/>
                </a:cubicBezTo>
                <a:cubicBezTo>
                  <a:pt x="5792" y="11842"/>
                  <a:pt x="5837" y="11824"/>
                  <a:pt x="5859" y="11815"/>
                </a:cubicBezTo>
                <a:cubicBezTo>
                  <a:pt x="5897" y="11799"/>
                  <a:pt x="5944" y="11771"/>
                  <a:pt x="5975" y="11743"/>
                </a:cubicBezTo>
                <a:cubicBezTo>
                  <a:pt x="5994" y="11725"/>
                  <a:pt x="6007" y="11703"/>
                  <a:pt x="6021" y="11681"/>
                </a:cubicBezTo>
              </a:path>
              <a:path w="4730" h="1096">
                <a:moveTo>
                  <a:pt x="6072" y="11821"/>
                </a:moveTo>
                <a:cubicBezTo>
                  <a:pt x="6093" y="11837"/>
                  <a:pt x="6100" y="11844"/>
                  <a:pt x="6125" y="11838"/>
                </a:cubicBezTo>
                <a:cubicBezTo>
                  <a:pt x="6154" y="11831"/>
                  <a:pt x="6179" y="11817"/>
                  <a:pt x="6206" y="11805"/>
                </a:cubicBezTo>
                <a:cubicBezTo>
                  <a:pt x="6224" y="11797"/>
                  <a:pt x="6251" y="11783"/>
                  <a:pt x="6268" y="11803"/>
                </a:cubicBezTo>
                <a:cubicBezTo>
                  <a:pt x="6290" y="11830"/>
                  <a:pt x="6298" y="11876"/>
                  <a:pt x="6311" y="11907"/>
                </a:cubicBezTo>
                <a:cubicBezTo>
                  <a:pt x="6324" y="11937"/>
                  <a:pt x="6345" y="11971"/>
                  <a:pt x="6370" y="11994"/>
                </a:cubicBezTo>
                <a:cubicBezTo>
                  <a:pt x="6373" y="11996"/>
                  <a:pt x="6377" y="11998"/>
                  <a:pt x="6380" y="1200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073160" y="4570560"/>
            <a:ext cx="1224000" cy="299880"/>
          </a:xfrm>
          <a:custGeom>
            <a:avLst/>
            <a:gdLst/>
            <a:ahLst/>
            <a:rect l="l" t="t" r="r" b="b"/>
            <a:pathLst>
              <a:path w="3399" h="835">
                <a:moveTo>
                  <a:pt x="3034" y="12819"/>
                </a:moveTo>
                <a:cubicBezTo>
                  <a:pt x="3015" y="12824"/>
                  <a:pt x="2999" y="12830"/>
                  <a:pt x="2981" y="12834"/>
                </a:cubicBezTo>
                <a:cubicBezTo>
                  <a:pt x="3002" y="12823"/>
                  <a:pt x="3023" y="12811"/>
                  <a:pt x="3044" y="12800"/>
                </a:cubicBezTo>
                <a:cubicBezTo>
                  <a:pt x="3091" y="12776"/>
                  <a:pt x="3140" y="12754"/>
                  <a:pt x="3190" y="12736"/>
                </a:cubicBezTo>
                <a:cubicBezTo>
                  <a:pt x="3240" y="12718"/>
                  <a:pt x="3292" y="12704"/>
                  <a:pt x="3345" y="12698"/>
                </a:cubicBezTo>
                <a:cubicBezTo>
                  <a:pt x="3377" y="12694"/>
                  <a:pt x="3416" y="12693"/>
                  <a:pt x="3445" y="12710"/>
                </a:cubicBezTo>
                <a:cubicBezTo>
                  <a:pt x="3462" y="12720"/>
                  <a:pt x="3470" y="12736"/>
                  <a:pt x="3475" y="12755"/>
                </a:cubicBezTo>
                <a:cubicBezTo>
                  <a:pt x="3487" y="12803"/>
                  <a:pt x="3467" y="12864"/>
                  <a:pt x="3454" y="12910"/>
                </a:cubicBezTo>
                <a:cubicBezTo>
                  <a:pt x="3440" y="12960"/>
                  <a:pt x="3419" y="13005"/>
                  <a:pt x="3400" y="13053"/>
                </a:cubicBezTo>
                <a:cubicBezTo>
                  <a:pt x="3393" y="13071"/>
                  <a:pt x="3387" y="13090"/>
                  <a:pt x="3381" y="13108"/>
                </a:cubicBezTo>
                <a:cubicBezTo>
                  <a:pt x="3393" y="13096"/>
                  <a:pt x="3405" y="13084"/>
                  <a:pt x="3418" y="13073"/>
                </a:cubicBezTo>
              </a:path>
              <a:path w="3399" h="835">
                <a:moveTo>
                  <a:pt x="3855" y="12721"/>
                </a:moveTo>
                <a:cubicBezTo>
                  <a:pt x="3828" y="12726"/>
                  <a:pt x="3824" y="12718"/>
                  <a:pt x="3801" y="12748"/>
                </a:cubicBezTo>
                <a:cubicBezTo>
                  <a:pt x="3776" y="12780"/>
                  <a:pt x="3758" y="12826"/>
                  <a:pt x="3744" y="12864"/>
                </a:cubicBezTo>
                <a:cubicBezTo>
                  <a:pt x="3729" y="12904"/>
                  <a:pt x="3708" y="12972"/>
                  <a:pt x="3727" y="13015"/>
                </a:cubicBezTo>
                <a:cubicBezTo>
                  <a:pt x="3730" y="13019"/>
                  <a:pt x="3734" y="13022"/>
                  <a:pt x="3737" y="13026"/>
                </a:cubicBezTo>
                <a:cubicBezTo>
                  <a:pt x="3771" y="13017"/>
                  <a:pt x="3787" y="13012"/>
                  <a:pt x="3813" y="12981"/>
                </a:cubicBezTo>
                <a:cubicBezTo>
                  <a:pt x="3848" y="12939"/>
                  <a:pt x="3872" y="12892"/>
                  <a:pt x="3899" y="12845"/>
                </a:cubicBezTo>
                <a:cubicBezTo>
                  <a:pt x="3902" y="12841"/>
                  <a:pt x="3904" y="12837"/>
                  <a:pt x="3907" y="12833"/>
                </a:cubicBezTo>
                <a:cubicBezTo>
                  <a:pt x="3914" y="12878"/>
                  <a:pt x="3914" y="12923"/>
                  <a:pt x="3912" y="12972"/>
                </a:cubicBezTo>
                <a:cubicBezTo>
                  <a:pt x="3908" y="13096"/>
                  <a:pt x="3901" y="13221"/>
                  <a:pt x="3893" y="13345"/>
                </a:cubicBezTo>
                <a:cubicBezTo>
                  <a:pt x="3889" y="13407"/>
                  <a:pt x="3883" y="13468"/>
                  <a:pt x="3878" y="13530"/>
                </a:cubicBezTo>
                <a:cubicBezTo>
                  <a:pt x="3887" y="13494"/>
                  <a:pt x="3898" y="13458"/>
                  <a:pt x="3911" y="13422"/>
                </a:cubicBezTo>
                <a:cubicBezTo>
                  <a:pt x="3935" y="13355"/>
                  <a:pt x="3967" y="13295"/>
                  <a:pt x="4004" y="13234"/>
                </a:cubicBezTo>
                <a:cubicBezTo>
                  <a:pt x="4025" y="13200"/>
                  <a:pt x="4043" y="13165"/>
                  <a:pt x="4065" y="13132"/>
                </a:cubicBezTo>
              </a:path>
              <a:path w="3399" h="835">
                <a:moveTo>
                  <a:pt x="4338" y="12865"/>
                </a:moveTo>
                <a:cubicBezTo>
                  <a:pt x="4323" y="12869"/>
                  <a:pt x="4321" y="12870"/>
                  <a:pt x="4308" y="12877"/>
                </a:cubicBezTo>
                <a:cubicBezTo>
                  <a:pt x="4362" y="12875"/>
                  <a:pt x="4415" y="12876"/>
                  <a:pt x="4469" y="12876"/>
                </a:cubicBezTo>
                <a:cubicBezTo>
                  <a:pt x="4546" y="12875"/>
                  <a:pt x="4622" y="12875"/>
                  <a:pt x="4699" y="12872"/>
                </a:cubicBezTo>
                <a:cubicBezTo>
                  <a:pt x="4768" y="12869"/>
                  <a:pt x="4841" y="12869"/>
                  <a:pt x="4908" y="12856"/>
                </a:cubicBezTo>
                <a:cubicBezTo>
                  <a:pt x="4924" y="12852"/>
                  <a:pt x="4928" y="12851"/>
                  <a:pt x="4935" y="12844"/>
                </a:cubicBezTo>
                <a:cubicBezTo>
                  <a:pt x="4920" y="12819"/>
                  <a:pt x="4909" y="12808"/>
                  <a:pt x="4882" y="12792"/>
                </a:cubicBezTo>
                <a:cubicBezTo>
                  <a:pt x="4834" y="12763"/>
                  <a:pt x="4783" y="12744"/>
                  <a:pt x="4729" y="12728"/>
                </a:cubicBezTo>
                <a:cubicBezTo>
                  <a:pt x="4724" y="12727"/>
                  <a:pt x="4720" y="12725"/>
                  <a:pt x="4715" y="12724"/>
                </a:cubicBezTo>
                <a:cubicBezTo>
                  <a:pt x="4743" y="12737"/>
                  <a:pt x="4778" y="12749"/>
                  <a:pt x="4808" y="12764"/>
                </a:cubicBezTo>
                <a:cubicBezTo>
                  <a:pt x="4852" y="12786"/>
                  <a:pt x="4903" y="12813"/>
                  <a:pt x="4931" y="12855"/>
                </a:cubicBezTo>
                <a:cubicBezTo>
                  <a:pt x="4967" y="12908"/>
                  <a:pt x="4952" y="12973"/>
                  <a:pt x="4917" y="13022"/>
                </a:cubicBezTo>
                <a:cubicBezTo>
                  <a:pt x="4893" y="13057"/>
                  <a:pt x="4850" y="13092"/>
                  <a:pt x="4811" y="13108"/>
                </a:cubicBezTo>
                <a:cubicBezTo>
                  <a:pt x="4793" y="13115"/>
                  <a:pt x="4783" y="13111"/>
                  <a:pt x="4766" y="13110"/>
                </a:cubicBezTo>
              </a:path>
              <a:path w="3399" h="835">
                <a:moveTo>
                  <a:pt x="5292" y="12911"/>
                </a:moveTo>
                <a:cubicBezTo>
                  <a:pt x="5310" y="12918"/>
                  <a:pt x="5312" y="12913"/>
                  <a:pt x="5331" y="12913"/>
                </a:cubicBezTo>
                <a:cubicBezTo>
                  <a:pt x="5381" y="12912"/>
                  <a:pt x="5430" y="12912"/>
                  <a:pt x="5480" y="12911"/>
                </a:cubicBezTo>
                <a:cubicBezTo>
                  <a:pt x="5527" y="12910"/>
                  <a:pt x="5575" y="12909"/>
                  <a:pt x="5622" y="12907"/>
                </a:cubicBezTo>
                <a:cubicBezTo>
                  <a:pt x="5643" y="12906"/>
                  <a:pt x="5663" y="12905"/>
                  <a:pt x="5681" y="12895"/>
                </a:cubicBezTo>
                <a:cubicBezTo>
                  <a:pt x="5698" y="12885"/>
                  <a:pt x="5713" y="12871"/>
                  <a:pt x="5730" y="12861"/>
                </a:cubicBezTo>
                <a:cubicBezTo>
                  <a:pt x="5740" y="12856"/>
                  <a:pt x="5743" y="12855"/>
                  <a:pt x="5751" y="12854"/>
                </a:cubicBezTo>
                <a:cubicBezTo>
                  <a:pt x="5763" y="12886"/>
                  <a:pt x="5759" y="12908"/>
                  <a:pt x="5752" y="12942"/>
                </a:cubicBezTo>
                <a:cubicBezTo>
                  <a:pt x="5742" y="12989"/>
                  <a:pt x="5726" y="13038"/>
                  <a:pt x="5706" y="13081"/>
                </a:cubicBezTo>
                <a:cubicBezTo>
                  <a:pt x="5703" y="13087"/>
                  <a:pt x="5674" y="13155"/>
                  <a:pt x="5667" y="13157"/>
                </a:cubicBezTo>
                <a:cubicBezTo>
                  <a:pt x="5674" y="13140"/>
                  <a:pt x="5675" y="13135"/>
                  <a:pt x="5685" y="13127"/>
                </a:cubicBezTo>
              </a:path>
              <a:path w="3399" h="835">
                <a:moveTo>
                  <a:pt x="6135" y="12886"/>
                </a:moveTo>
                <a:cubicBezTo>
                  <a:pt x="6122" y="12872"/>
                  <a:pt x="6118" y="12867"/>
                  <a:pt x="6108" y="12859"/>
                </a:cubicBezTo>
                <a:cubicBezTo>
                  <a:pt x="6113" y="12878"/>
                  <a:pt x="6118" y="12897"/>
                  <a:pt x="6121" y="12917"/>
                </a:cubicBezTo>
                <a:cubicBezTo>
                  <a:pt x="6127" y="12959"/>
                  <a:pt x="6129" y="13002"/>
                  <a:pt x="6135" y="13044"/>
                </a:cubicBezTo>
                <a:cubicBezTo>
                  <a:pt x="6145" y="13118"/>
                  <a:pt x="6157" y="13189"/>
                  <a:pt x="6178" y="13260"/>
                </a:cubicBezTo>
                <a:cubicBezTo>
                  <a:pt x="6185" y="13282"/>
                  <a:pt x="6194" y="13306"/>
                  <a:pt x="6199" y="13329"/>
                </a:cubicBezTo>
                <a:cubicBezTo>
                  <a:pt x="6199" y="13334"/>
                  <a:pt x="6200" y="13338"/>
                  <a:pt x="6200" y="13343"/>
                </a:cubicBezTo>
                <a:cubicBezTo>
                  <a:pt x="6192" y="13313"/>
                  <a:pt x="6186" y="13284"/>
                  <a:pt x="6183" y="13252"/>
                </a:cubicBezTo>
                <a:cubicBezTo>
                  <a:pt x="6175" y="13173"/>
                  <a:pt x="6173" y="13092"/>
                  <a:pt x="6181" y="13013"/>
                </a:cubicBezTo>
                <a:cubicBezTo>
                  <a:pt x="6190" y="12925"/>
                  <a:pt x="6204" y="12811"/>
                  <a:pt x="6264" y="12740"/>
                </a:cubicBezTo>
                <a:cubicBezTo>
                  <a:pt x="6298" y="12700"/>
                  <a:pt x="6329" y="12731"/>
                  <a:pt x="6347" y="12766"/>
                </a:cubicBezTo>
                <a:cubicBezTo>
                  <a:pt x="6379" y="12828"/>
                  <a:pt x="6389" y="12912"/>
                  <a:pt x="6373" y="12980"/>
                </a:cubicBezTo>
                <a:cubicBezTo>
                  <a:pt x="6364" y="13019"/>
                  <a:pt x="6340" y="13053"/>
                  <a:pt x="6297" y="13054"/>
                </a:cubicBezTo>
                <a:cubicBezTo>
                  <a:pt x="6264" y="13055"/>
                  <a:pt x="6231" y="13043"/>
                  <a:pt x="6206" y="13023"/>
                </a:cubicBezTo>
                <a:cubicBezTo>
                  <a:pt x="6194" y="13011"/>
                  <a:pt x="6190" y="13007"/>
                  <a:pt x="6188" y="1299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52320" y="5014800"/>
            <a:ext cx="1791000" cy="363600"/>
          </a:xfrm>
          <a:custGeom>
            <a:avLst/>
            <a:gdLst/>
            <a:ahLst/>
            <a:rect l="l" t="t" r="r" b="b"/>
            <a:pathLst>
              <a:path w="4975" h="1009">
                <a:moveTo>
                  <a:pt x="2246" y="14233"/>
                </a:moveTo>
                <a:cubicBezTo>
                  <a:pt x="2231" y="14216"/>
                  <a:pt x="2217" y="14198"/>
                  <a:pt x="2199" y="14182"/>
                </a:cubicBezTo>
                <a:cubicBezTo>
                  <a:pt x="2176" y="14163"/>
                  <a:pt x="2158" y="14149"/>
                  <a:pt x="2132" y="14136"/>
                </a:cubicBezTo>
                <a:cubicBezTo>
                  <a:pt x="2107" y="14123"/>
                  <a:pt x="2075" y="14123"/>
                  <a:pt x="2048" y="14128"/>
                </a:cubicBezTo>
                <a:cubicBezTo>
                  <a:pt x="1985" y="14141"/>
                  <a:pt x="1938" y="14172"/>
                  <a:pt x="1899" y="14222"/>
                </a:cubicBezTo>
                <a:cubicBezTo>
                  <a:pt x="1853" y="14280"/>
                  <a:pt x="1827" y="14351"/>
                  <a:pt x="1817" y="14425"/>
                </a:cubicBezTo>
                <a:cubicBezTo>
                  <a:pt x="1806" y="14507"/>
                  <a:pt x="1813" y="14597"/>
                  <a:pt x="1836" y="14676"/>
                </a:cubicBezTo>
                <a:cubicBezTo>
                  <a:pt x="1863" y="14769"/>
                  <a:pt x="1909" y="14845"/>
                  <a:pt x="1992" y="14897"/>
                </a:cubicBezTo>
                <a:cubicBezTo>
                  <a:pt x="2059" y="14938"/>
                  <a:pt x="2128" y="14948"/>
                  <a:pt x="2204" y="14930"/>
                </a:cubicBezTo>
                <a:cubicBezTo>
                  <a:pt x="2221" y="14924"/>
                  <a:pt x="2238" y="14918"/>
                  <a:pt x="2255" y="14912"/>
                </a:cubicBezTo>
              </a:path>
              <a:path w="4975" h="1009">
                <a:moveTo>
                  <a:pt x="2538" y="14481"/>
                </a:moveTo>
                <a:cubicBezTo>
                  <a:pt x="2508" y="14478"/>
                  <a:pt x="2480" y="14490"/>
                  <a:pt x="2462" y="14518"/>
                </a:cubicBezTo>
                <a:cubicBezTo>
                  <a:pt x="2431" y="14566"/>
                  <a:pt x="2422" y="14621"/>
                  <a:pt x="2424" y="14677"/>
                </a:cubicBezTo>
                <a:cubicBezTo>
                  <a:pt x="2426" y="14713"/>
                  <a:pt x="2434" y="14773"/>
                  <a:pt x="2480" y="14782"/>
                </a:cubicBezTo>
                <a:cubicBezTo>
                  <a:pt x="2525" y="14791"/>
                  <a:pt x="2558" y="14741"/>
                  <a:pt x="2577" y="14709"/>
                </a:cubicBezTo>
                <a:cubicBezTo>
                  <a:pt x="2602" y="14667"/>
                  <a:pt x="2619" y="14610"/>
                  <a:pt x="2627" y="14562"/>
                </a:cubicBezTo>
                <a:cubicBezTo>
                  <a:pt x="2632" y="14529"/>
                  <a:pt x="2628" y="14496"/>
                  <a:pt x="2637" y="14463"/>
                </a:cubicBezTo>
                <a:cubicBezTo>
                  <a:pt x="2638" y="14459"/>
                  <a:pt x="2640" y="14456"/>
                  <a:pt x="2641" y="14452"/>
                </a:cubicBezTo>
              </a:path>
              <a:path w="4975" h="1009">
                <a:moveTo>
                  <a:pt x="2767" y="14548"/>
                </a:moveTo>
                <a:cubicBezTo>
                  <a:pt x="2778" y="14586"/>
                  <a:pt x="2781" y="14626"/>
                  <a:pt x="2789" y="14663"/>
                </a:cubicBezTo>
                <a:cubicBezTo>
                  <a:pt x="2793" y="14684"/>
                  <a:pt x="2797" y="14692"/>
                  <a:pt x="2812" y="14701"/>
                </a:cubicBezTo>
                <a:cubicBezTo>
                  <a:pt x="2835" y="14669"/>
                  <a:pt x="2840" y="14638"/>
                  <a:pt x="2852" y="14600"/>
                </a:cubicBezTo>
                <a:cubicBezTo>
                  <a:pt x="2865" y="14559"/>
                  <a:pt x="2881" y="14501"/>
                  <a:pt x="2910" y="14468"/>
                </a:cubicBezTo>
                <a:cubicBezTo>
                  <a:pt x="2915" y="14465"/>
                  <a:pt x="2920" y="14461"/>
                  <a:pt x="2925" y="14458"/>
                </a:cubicBezTo>
                <a:cubicBezTo>
                  <a:pt x="2958" y="14471"/>
                  <a:pt x="2975" y="14505"/>
                  <a:pt x="2989" y="14539"/>
                </a:cubicBezTo>
                <a:cubicBezTo>
                  <a:pt x="3010" y="14590"/>
                  <a:pt x="3026" y="14642"/>
                  <a:pt x="3055" y="14690"/>
                </a:cubicBezTo>
              </a:path>
              <a:path w="4975" h="1009">
                <a:moveTo>
                  <a:pt x="3036" y="14056"/>
                </a:moveTo>
                <a:cubicBezTo>
                  <a:pt x="3031" y="14022"/>
                  <a:pt x="3029" y="14016"/>
                  <a:pt x="3030" y="13995"/>
                </a:cubicBezTo>
                <a:cubicBezTo>
                  <a:pt x="3068" y="14046"/>
                  <a:pt x="3084" y="14114"/>
                  <a:pt x="3104" y="14175"/>
                </a:cubicBezTo>
                <a:cubicBezTo>
                  <a:pt x="3143" y="14294"/>
                  <a:pt x="3189" y="14410"/>
                  <a:pt x="3226" y="14529"/>
                </a:cubicBezTo>
                <a:cubicBezTo>
                  <a:pt x="3245" y="14599"/>
                  <a:pt x="3251" y="14619"/>
                  <a:pt x="3263" y="14664"/>
                </a:cubicBezTo>
              </a:path>
              <a:path w="4975" h="1009">
                <a:moveTo>
                  <a:pt x="3065" y="14483"/>
                </a:moveTo>
                <a:cubicBezTo>
                  <a:pt x="3054" y="14441"/>
                  <a:pt x="3039" y="14394"/>
                  <a:pt x="3073" y="14356"/>
                </a:cubicBezTo>
                <a:cubicBezTo>
                  <a:pt x="3112" y="14313"/>
                  <a:pt x="3172" y="14296"/>
                  <a:pt x="3225" y="14282"/>
                </a:cubicBezTo>
                <a:cubicBezTo>
                  <a:pt x="3275" y="14269"/>
                  <a:pt x="3330" y="14259"/>
                  <a:pt x="3373" y="14295"/>
                </a:cubicBezTo>
                <a:cubicBezTo>
                  <a:pt x="3410" y="14326"/>
                  <a:pt x="3406" y="14386"/>
                  <a:pt x="3407" y="14429"/>
                </a:cubicBezTo>
                <a:cubicBezTo>
                  <a:pt x="3408" y="14485"/>
                  <a:pt x="3407" y="14546"/>
                  <a:pt x="3421" y="14601"/>
                </a:cubicBezTo>
                <a:cubicBezTo>
                  <a:pt x="3432" y="14643"/>
                  <a:pt x="3435" y="14630"/>
                  <a:pt x="3459" y="14654"/>
                </a:cubicBezTo>
                <a:cubicBezTo>
                  <a:pt x="3482" y="14621"/>
                  <a:pt x="3490" y="14594"/>
                  <a:pt x="3501" y="14554"/>
                </a:cubicBezTo>
                <a:cubicBezTo>
                  <a:pt x="3512" y="14513"/>
                  <a:pt x="3512" y="14400"/>
                  <a:pt x="3552" y="14375"/>
                </a:cubicBezTo>
                <a:cubicBezTo>
                  <a:pt x="3581" y="14357"/>
                  <a:pt x="3598" y="14376"/>
                  <a:pt x="3623" y="14394"/>
                </a:cubicBezTo>
              </a:path>
              <a:path w="4975" h="1009">
                <a:moveTo>
                  <a:pt x="3838" y="14357"/>
                </a:moveTo>
                <a:cubicBezTo>
                  <a:pt x="3835" y="14337"/>
                  <a:pt x="3833" y="14322"/>
                  <a:pt x="3825" y="14304"/>
                </a:cubicBezTo>
                <a:cubicBezTo>
                  <a:pt x="3784" y="14343"/>
                  <a:pt x="3771" y="14393"/>
                  <a:pt x="3755" y="14450"/>
                </a:cubicBezTo>
                <a:cubicBezTo>
                  <a:pt x="3737" y="14518"/>
                  <a:pt x="3721" y="14595"/>
                  <a:pt x="3736" y="14665"/>
                </a:cubicBezTo>
                <a:cubicBezTo>
                  <a:pt x="3747" y="14691"/>
                  <a:pt x="3749" y="14699"/>
                  <a:pt x="3766" y="14708"/>
                </a:cubicBezTo>
                <a:cubicBezTo>
                  <a:pt x="3815" y="14691"/>
                  <a:pt x="3838" y="14665"/>
                  <a:pt x="3867" y="14622"/>
                </a:cubicBezTo>
                <a:cubicBezTo>
                  <a:pt x="3895" y="14581"/>
                  <a:pt x="3912" y="14531"/>
                  <a:pt x="3945" y="14494"/>
                </a:cubicBezTo>
                <a:cubicBezTo>
                  <a:pt x="3949" y="14491"/>
                  <a:pt x="3954" y="14487"/>
                  <a:pt x="3958" y="14484"/>
                </a:cubicBezTo>
                <a:cubicBezTo>
                  <a:pt x="3980" y="14505"/>
                  <a:pt x="3993" y="14542"/>
                  <a:pt x="4001" y="14572"/>
                </a:cubicBezTo>
                <a:cubicBezTo>
                  <a:pt x="4012" y="14611"/>
                  <a:pt x="4018" y="14652"/>
                  <a:pt x="4027" y="14691"/>
                </a:cubicBezTo>
              </a:path>
              <a:path w="4975" h="1009">
                <a:moveTo>
                  <a:pt x="4585" y="14528"/>
                </a:moveTo>
                <a:cubicBezTo>
                  <a:pt x="4565" y="14488"/>
                  <a:pt x="4553" y="14452"/>
                  <a:pt x="4502" y="14447"/>
                </a:cubicBezTo>
                <a:cubicBezTo>
                  <a:pt x="4441" y="14441"/>
                  <a:pt x="4399" y="14498"/>
                  <a:pt x="4369" y="14543"/>
                </a:cubicBezTo>
                <a:cubicBezTo>
                  <a:pt x="4339" y="14588"/>
                  <a:pt x="4304" y="14653"/>
                  <a:pt x="4316" y="14710"/>
                </a:cubicBezTo>
                <a:cubicBezTo>
                  <a:pt x="4319" y="14716"/>
                  <a:pt x="4323" y="14721"/>
                  <a:pt x="4326" y="14727"/>
                </a:cubicBezTo>
                <a:cubicBezTo>
                  <a:pt x="4378" y="14715"/>
                  <a:pt x="4406" y="14679"/>
                  <a:pt x="4435" y="14633"/>
                </a:cubicBezTo>
                <a:cubicBezTo>
                  <a:pt x="4492" y="14541"/>
                  <a:pt x="4523" y="14427"/>
                  <a:pt x="4540" y="14321"/>
                </a:cubicBezTo>
                <a:cubicBezTo>
                  <a:pt x="4546" y="14282"/>
                  <a:pt x="4549" y="14243"/>
                  <a:pt x="4550" y="14203"/>
                </a:cubicBezTo>
                <a:cubicBezTo>
                  <a:pt x="4537" y="14281"/>
                  <a:pt x="4537" y="14352"/>
                  <a:pt x="4545" y="14431"/>
                </a:cubicBezTo>
                <a:cubicBezTo>
                  <a:pt x="4553" y="14511"/>
                  <a:pt x="4566" y="14609"/>
                  <a:pt x="4616" y="14675"/>
                </a:cubicBezTo>
                <a:cubicBezTo>
                  <a:pt x="4644" y="14699"/>
                  <a:pt x="4652" y="14707"/>
                  <a:pt x="4677" y="14708"/>
                </a:cubicBezTo>
              </a:path>
              <a:path w="4975" h="1009">
                <a:moveTo>
                  <a:pt x="4874" y="14452"/>
                </a:moveTo>
                <a:cubicBezTo>
                  <a:pt x="4870" y="14505"/>
                  <a:pt x="4859" y="14562"/>
                  <a:pt x="4861" y="14615"/>
                </a:cubicBezTo>
                <a:cubicBezTo>
                  <a:pt x="4863" y="14678"/>
                  <a:pt x="4872" y="14751"/>
                  <a:pt x="4899" y="14809"/>
                </a:cubicBezTo>
                <a:cubicBezTo>
                  <a:pt x="4920" y="14855"/>
                  <a:pt x="4940" y="14781"/>
                  <a:pt x="4945" y="14769"/>
                </a:cubicBezTo>
              </a:path>
              <a:path w="4975" h="1009">
                <a:moveTo>
                  <a:pt x="4928" y="14434"/>
                </a:moveTo>
                <a:cubicBezTo>
                  <a:pt x="4923" y="14409"/>
                  <a:pt x="4891" y="14324"/>
                  <a:pt x="4913" y="14298"/>
                </a:cubicBezTo>
                <a:cubicBezTo>
                  <a:pt x="4924" y="14285"/>
                  <a:pt x="4964" y="14298"/>
                  <a:pt x="4972" y="14299"/>
                </a:cubicBezTo>
              </a:path>
              <a:path w="4975" h="1009">
                <a:moveTo>
                  <a:pt x="5309" y="14385"/>
                </a:moveTo>
                <a:cubicBezTo>
                  <a:pt x="5285" y="14410"/>
                  <a:pt x="5263" y="14439"/>
                  <a:pt x="5240" y="14463"/>
                </a:cubicBezTo>
                <a:cubicBezTo>
                  <a:pt x="5211" y="14493"/>
                  <a:pt x="5185" y="14529"/>
                  <a:pt x="5195" y="14575"/>
                </a:cubicBezTo>
                <a:cubicBezTo>
                  <a:pt x="5205" y="14622"/>
                  <a:pt x="5258" y="14637"/>
                  <a:pt x="5300" y="14631"/>
                </a:cubicBezTo>
                <a:cubicBezTo>
                  <a:pt x="5356" y="14623"/>
                  <a:pt x="5400" y="14588"/>
                  <a:pt x="5447" y="14559"/>
                </a:cubicBezTo>
              </a:path>
              <a:path w="4975" h="1009">
                <a:moveTo>
                  <a:pt x="5552" y="13973"/>
                </a:moveTo>
                <a:cubicBezTo>
                  <a:pt x="5545" y="13948"/>
                  <a:pt x="5545" y="13943"/>
                  <a:pt x="5537" y="13930"/>
                </a:cubicBezTo>
                <a:cubicBezTo>
                  <a:pt x="5538" y="13983"/>
                  <a:pt x="5540" y="14038"/>
                  <a:pt x="5547" y="14090"/>
                </a:cubicBezTo>
                <a:cubicBezTo>
                  <a:pt x="5571" y="14258"/>
                  <a:pt x="5615" y="14422"/>
                  <a:pt x="5640" y="14589"/>
                </a:cubicBezTo>
                <a:cubicBezTo>
                  <a:pt x="5642" y="14603"/>
                  <a:pt x="5643" y="14618"/>
                  <a:pt x="5645" y="14632"/>
                </a:cubicBezTo>
              </a:path>
              <a:path w="4975" h="1009">
                <a:moveTo>
                  <a:pt x="5489" y="14277"/>
                </a:moveTo>
                <a:cubicBezTo>
                  <a:pt x="5510" y="14235"/>
                  <a:pt x="5524" y="14234"/>
                  <a:pt x="5573" y="14233"/>
                </a:cubicBezTo>
                <a:cubicBezTo>
                  <a:pt x="5632" y="14232"/>
                  <a:pt x="5692" y="14238"/>
                  <a:pt x="5751" y="14240"/>
                </a:cubicBezTo>
                <a:cubicBezTo>
                  <a:pt x="5762" y="14240"/>
                  <a:pt x="5774" y="14240"/>
                  <a:pt x="5785" y="14240"/>
                </a:cubicBezTo>
              </a:path>
              <a:path w="4975" h="1009">
                <a:moveTo>
                  <a:pt x="5841" y="14395"/>
                </a:moveTo>
                <a:cubicBezTo>
                  <a:pt x="5848" y="14433"/>
                  <a:pt x="5860" y="14458"/>
                  <a:pt x="5875" y="14493"/>
                </a:cubicBezTo>
                <a:cubicBezTo>
                  <a:pt x="5880" y="14508"/>
                  <a:pt x="5883" y="14515"/>
                  <a:pt x="5892" y="14523"/>
                </a:cubicBezTo>
              </a:path>
              <a:path w="4975" h="1009">
                <a:moveTo>
                  <a:pt x="5909" y="14154"/>
                </a:moveTo>
                <a:cubicBezTo>
                  <a:pt x="5914" y="14131"/>
                  <a:pt x="5927" y="14098"/>
                  <a:pt x="5927" y="14074"/>
                </a:cubicBezTo>
                <a:cubicBezTo>
                  <a:pt x="5924" y="14060"/>
                  <a:pt x="5923" y="14054"/>
                  <a:pt x="5920" y="14072"/>
                </a:cubicBezTo>
              </a:path>
              <a:path w="4975" h="1009">
                <a:moveTo>
                  <a:pt x="6203" y="14252"/>
                </a:moveTo>
                <a:cubicBezTo>
                  <a:pt x="6183" y="14243"/>
                  <a:pt x="6171" y="14286"/>
                  <a:pt x="6160" y="14314"/>
                </a:cubicBezTo>
                <a:cubicBezTo>
                  <a:pt x="6142" y="14359"/>
                  <a:pt x="6132" y="14408"/>
                  <a:pt x="6143" y="14457"/>
                </a:cubicBezTo>
                <a:cubicBezTo>
                  <a:pt x="6151" y="14493"/>
                  <a:pt x="6180" y="14509"/>
                  <a:pt x="6215" y="14497"/>
                </a:cubicBezTo>
                <a:cubicBezTo>
                  <a:pt x="6254" y="14484"/>
                  <a:pt x="6281" y="14448"/>
                  <a:pt x="6301" y="14414"/>
                </a:cubicBezTo>
                <a:cubicBezTo>
                  <a:pt x="6321" y="14379"/>
                  <a:pt x="6326" y="14349"/>
                  <a:pt x="6326" y="14310"/>
                </a:cubicBezTo>
                <a:cubicBezTo>
                  <a:pt x="6326" y="14279"/>
                  <a:pt x="6319" y="14252"/>
                  <a:pt x="6314" y="14222"/>
                </a:cubicBezTo>
              </a:path>
              <a:path w="4975" h="1009">
                <a:moveTo>
                  <a:pt x="6412" y="14350"/>
                </a:moveTo>
                <a:cubicBezTo>
                  <a:pt x="6422" y="14387"/>
                  <a:pt x="6434" y="14425"/>
                  <a:pt x="6440" y="14463"/>
                </a:cubicBezTo>
                <a:cubicBezTo>
                  <a:pt x="6440" y="14476"/>
                  <a:pt x="6440" y="14480"/>
                  <a:pt x="6448" y="14486"/>
                </a:cubicBezTo>
                <a:cubicBezTo>
                  <a:pt x="6474" y="14468"/>
                  <a:pt x="6488" y="14443"/>
                  <a:pt x="6509" y="14418"/>
                </a:cubicBezTo>
                <a:cubicBezTo>
                  <a:pt x="6533" y="14389"/>
                  <a:pt x="6561" y="14352"/>
                  <a:pt x="6601" y="14343"/>
                </a:cubicBezTo>
                <a:cubicBezTo>
                  <a:pt x="6637" y="14335"/>
                  <a:pt x="6671" y="14358"/>
                  <a:pt x="6697" y="14380"/>
                </a:cubicBezTo>
                <a:cubicBezTo>
                  <a:pt x="6725" y="14403"/>
                  <a:pt x="6748" y="14435"/>
                  <a:pt x="6766" y="14466"/>
                </a:cubicBezTo>
                <a:cubicBezTo>
                  <a:pt x="6780" y="14491"/>
                  <a:pt x="6790" y="14504"/>
                  <a:pt x="6785" y="14534"/>
                </a:cubicBezTo>
                <a:cubicBezTo>
                  <a:pt x="6783" y="14540"/>
                  <a:pt x="6782" y="14546"/>
                  <a:pt x="6780" y="1455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185840" y="5513400"/>
            <a:ext cx="822240" cy="181080"/>
          </a:xfrm>
          <a:custGeom>
            <a:avLst/>
            <a:gdLst/>
            <a:ahLst/>
            <a:rect l="l" t="t" r="r" b="b"/>
            <a:pathLst>
              <a:path w="2285" h="502">
                <a:moveTo>
                  <a:pt x="3526" y="15432"/>
                </a:moveTo>
                <a:cubicBezTo>
                  <a:pt x="3520" y="15406"/>
                  <a:pt x="3511" y="15381"/>
                  <a:pt x="3492" y="15361"/>
                </a:cubicBezTo>
                <a:cubicBezTo>
                  <a:pt x="3467" y="15334"/>
                  <a:pt x="3432" y="15327"/>
                  <a:pt x="3399" y="15344"/>
                </a:cubicBezTo>
                <a:cubicBezTo>
                  <a:pt x="3348" y="15369"/>
                  <a:pt x="3323" y="15435"/>
                  <a:pt x="3309" y="15487"/>
                </a:cubicBezTo>
                <a:cubicBezTo>
                  <a:pt x="3289" y="15560"/>
                  <a:pt x="3289" y="15641"/>
                  <a:pt x="3303" y="15715"/>
                </a:cubicBezTo>
                <a:cubicBezTo>
                  <a:pt x="3312" y="15764"/>
                  <a:pt x="3324" y="15791"/>
                  <a:pt x="3372" y="15789"/>
                </a:cubicBezTo>
                <a:cubicBezTo>
                  <a:pt x="3413" y="15745"/>
                  <a:pt x="3432" y="15699"/>
                  <a:pt x="3455" y="15643"/>
                </a:cubicBezTo>
                <a:cubicBezTo>
                  <a:pt x="3477" y="15590"/>
                  <a:pt x="3487" y="15524"/>
                  <a:pt x="3520" y="15478"/>
                </a:cubicBezTo>
                <a:cubicBezTo>
                  <a:pt x="3535" y="15534"/>
                  <a:pt x="3534" y="15591"/>
                  <a:pt x="3545" y="15648"/>
                </a:cubicBezTo>
                <a:cubicBezTo>
                  <a:pt x="3556" y="15706"/>
                  <a:pt x="3575" y="15757"/>
                  <a:pt x="3611" y="15803"/>
                </a:cubicBezTo>
              </a:path>
              <a:path w="2285" h="502">
                <a:moveTo>
                  <a:pt x="3842" y="15331"/>
                </a:moveTo>
                <a:cubicBezTo>
                  <a:pt x="3817" y="15315"/>
                  <a:pt x="3793" y="15309"/>
                  <a:pt x="3765" y="15330"/>
                </a:cubicBezTo>
                <a:cubicBezTo>
                  <a:pt x="3746" y="15344"/>
                  <a:pt x="3718" y="15379"/>
                  <a:pt x="3721" y="15405"/>
                </a:cubicBezTo>
                <a:cubicBezTo>
                  <a:pt x="3724" y="15433"/>
                  <a:pt x="3764" y="15440"/>
                  <a:pt x="3784" y="15446"/>
                </a:cubicBezTo>
                <a:cubicBezTo>
                  <a:pt x="3819" y="15456"/>
                  <a:pt x="3859" y="15464"/>
                  <a:pt x="3882" y="15495"/>
                </a:cubicBezTo>
                <a:cubicBezTo>
                  <a:pt x="3913" y="15537"/>
                  <a:pt x="3907" y="15600"/>
                  <a:pt x="3896" y="15647"/>
                </a:cubicBezTo>
                <a:cubicBezTo>
                  <a:pt x="3884" y="15698"/>
                  <a:pt x="3857" y="15761"/>
                  <a:pt x="3816" y="15796"/>
                </a:cubicBezTo>
                <a:cubicBezTo>
                  <a:pt x="3796" y="15807"/>
                  <a:pt x="3792" y="15809"/>
                  <a:pt x="3781" y="15816"/>
                </a:cubicBezTo>
                <a:cubicBezTo>
                  <a:pt x="3773" y="15776"/>
                  <a:pt x="3779" y="15772"/>
                  <a:pt x="3797" y="15732"/>
                </a:cubicBezTo>
              </a:path>
              <a:path w="2285" h="502">
                <a:moveTo>
                  <a:pt x="4199" y="15380"/>
                </a:moveTo>
                <a:cubicBezTo>
                  <a:pt x="4195" y="15359"/>
                  <a:pt x="4161" y="15367"/>
                  <a:pt x="4144" y="15379"/>
                </a:cubicBezTo>
                <a:cubicBezTo>
                  <a:pt x="4108" y="15405"/>
                  <a:pt x="4068" y="15457"/>
                  <a:pt x="4049" y="15497"/>
                </a:cubicBezTo>
                <a:cubicBezTo>
                  <a:pt x="4037" y="15522"/>
                  <a:pt x="4024" y="15570"/>
                  <a:pt x="4066" y="15573"/>
                </a:cubicBezTo>
                <a:cubicBezTo>
                  <a:pt x="4103" y="15575"/>
                  <a:pt x="4148" y="15554"/>
                  <a:pt x="4183" y="15545"/>
                </a:cubicBezTo>
                <a:cubicBezTo>
                  <a:pt x="4214" y="15537"/>
                  <a:pt x="4247" y="15531"/>
                  <a:pt x="4251" y="15573"/>
                </a:cubicBezTo>
                <a:cubicBezTo>
                  <a:pt x="4257" y="15635"/>
                  <a:pt x="4213" y="15694"/>
                  <a:pt x="4178" y="15740"/>
                </a:cubicBezTo>
                <a:cubicBezTo>
                  <a:pt x="4172" y="15748"/>
                  <a:pt x="4103" y="15822"/>
                  <a:pt x="4111" y="15761"/>
                </a:cubicBezTo>
                <a:cubicBezTo>
                  <a:pt x="4115" y="15751"/>
                  <a:pt x="4120" y="15742"/>
                  <a:pt x="4124" y="15732"/>
                </a:cubicBezTo>
              </a:path>
              <a:path w="2285" h="502">
                <a:moveTo>
                  <a:pt x="4508" y="15335"/>
                </a:moveTo>
                <a:cubicBezTo>
                  <a:pt x="4483" y="15382"/>
                  <a:pt x="4470" y="15422"/>
                  <a:pt x="4464" y="15475"/>
                </a:cubicBezTo>
                <a:cubicBezTo>
                  <a:pt x="4457" y="15535"/>
                  <a:pt x="4455" y="15602"/>
                  <a:pt x="4475" y="15660"/>
                </a:cubicBezTo>
                <a:cubicBezTo>
                  <a:pt x="4486" y="15693"/>
                  <a:pt x="4507" y="15718"/>
                  <a:pt x="4538" y="15690"/>
                </a:cubicBezTo>
                <a:cubicBezTo>
                  <a:pt x="4581" y="15651"/>
                  <a:pt x="4597" y="15580"/>
                  <a:pt x="4616" y="15527"/>
                </a:cubicBezTo>
                <a:cubicBezTo>
                  <a:pt x="4625" y="15502"/>
                  <a:pt x="4633" y="15482"/>
                  <a:pt x="4646" y="15459"/>
                </a:cubicBezTo>
                <a:cubicBezTo>
                  <a:pt x="4670" y="15489"/>
                  <a:pt x="4669" y="15528"/>
                  <a:pt x="4673" y="15567"/>
                </a:cubicBezTo>
                <a:cubicBezTo>
                  <a:pt x="4679" y="15619"/>
                  <a:pt x="4685" y="15675"/>
                  <a:pt x="4700" y="15725"/>
                </a:cubicBezTo>
                <a:cubicBezTo>
                  <a:pt x="4703" y="15732"/>
                  <a:pt x="4705" y="15738"/>
                  <a:pt x="4708" y="15745"/>
                </a:cubicBezTo>
              </a:path>
              <a:path w="2285" h="502">
                <a:moveTo>
                  <a:pt x="4814" y="15522"/>
                </a:moveTo>
                <a:cubicBezTo>
                  <a:pt x="4825" y="15551"/>
                  <a:pt x="4831" y="15580"/>
                  <a:pt x="4840" y="15609"/>
                </a:cubicBezTo>
                <a:cubicBezTo>
                  <a:pt x="4847" y="15631"/>
                  <a:pt x="4853" y="15653"/>
                  <a:pt x="4860" y="15675"/>
                </a:cubicBezTo>
                <a:cubicBezTo>
                  <a:pt x="4879" y="15642"/>
                  <a:pt x="4884" y="15604"/>
                  <a:pt x="4898" y="15568"/>
                </a:cubicBezTo>
                <a:cubicBezTo>
                  <a:pt x="4910" y="15537"/>
                  <a:pt x="4929" y="15477"/>
                  <a:pt x="4966" y="15465"/>
                </a:cubicBezTo>
                <a:cubicBezTo>
                  <a:pt x="5006" y="15452"/>
                  <a:pt x="5018" y="15517"/>
                  <a:pt x="5023" y="15540"/>
                </a:cubicBezTo>
                <a:cubicBezTo>
                  <a:pt x="5034" y="15588"/>
                  <a:pt x="5038" y="15636"/>
                  <a:pt x="5041" y="15685"/>
                </a:cubicBezTo>
                <a:cubicBezTo>
                  <a:pt x="5054" y="15652"/>
                  <a:pt x="5055" y="15625"/>
                  <a:pt x="5079" y="15601"/>
                </a:cubicBezTo>
                <a:cubicBezTo>
                  <a:pt x="5100" y="15614"/>
                  <a:pt x="5117" y="15629"/>
                  <a:pt x="5137" y="15645"/>
                </a:cubicBezTo>
                <a:cubicBezTo>
                  <a:pt x="5164" y="15667"/>
                  <a:pt x="5192" y="15686"/>
                  <a:pt x="5226" y="15693"/>
                </a:cubicBezTo>
                <a:cubicBezTo>
                  <a:pt x="5253" y="15698"/>
                  <a:pt x="5287" y="15697"/>
                  <a:pt x="5313" y="15687"/>
                </a:cubicBezTo>
                <a:cubicBezTo>
                  <a:pt x="5336" y="15677"/>
                  <a:pt x="5358" y="15661"/>
                  <a:pt x="5375" y="15642"/>
                </a:cubicBezTo>
                <a:cubicBezTo>
                  <a:pt x="5399" y="15614"/>
                  <a:pt x="5425" y="15578"/>
                  <a:pt x="5443" y="15546"/>
                </a:cubicBezTo>
                <a:cubicBezTo>
                  <a:pt x="5456" y="15523"/>
                  <a:pt x="5475" y="15497"/>
                  <a:pt x="5482" y="15472"/>
                </a:cubicBezTo>
                <a:cubicBezTo>
                  <a:pt x="5482" y="15468"/>
                  <a:pt x="5481" y="15463"/>
                  <a:pt x="5481" y="15459"/>
                </a:cubicBezTo>
                <a:cubicBezTo>
                  <a:pt x="5459" y="15472"/>
                  <a:pt x="5443" y="15482"/>
                  <a:pt x="5426" y="15508"/>
                </a:cubicBezTo>
                <a:cubicBezTo>
                  <a:pt x="5403" y="15543"/>
                  <a:pt x="5388" y="15583"/>
                  <a:pt x="5391" y="15626"/>
                </a:cubicBezTo>
                <a:cubicBezTo>
                  <a:pt x="5396" y="15696"/>
                  <a:pt x="5458" y="15712"/>
                  <a:pt x="5516" y="15721"/>
                </a:cubicBezTo>
                <a:cubicBezTo>
                  <a:pt x="5547" y="15724"/>
                  <a:pt x="5557" y="15725"/>
                  <a:pt x="5578" y="1572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419200" y="5405400"/>
            <a:ext cx="1019160" cy="290520"/>
          </a:xfrm>
          <a:custGeom>
            <a:avLst/>
            <a:gdLst/>
            <a:ahLst/>
            <a:rect l="l" t="t" r="r" b="b"/>
            <a:pathLst>
              <a:path w="2832" h="807">
                <a:moveTo>
                  <a:pt x="6915" y="15373"/>
                </a:moveTo>
                <a:cubicBezTo>
                  <a:pt x="6893" y="15353"/>
                  <a:pt x="6870" y="15359"/>
                  <a:pt x="6843" y="15384"/>
                </a:cubicBezTo>
                <a:cubicBezTo>
                  <a:pt x="6807" y="15416"/>
                  <a:pt x="6772" y="15461"/>
                  <a:pt x="6747" y="15503"/>
                </a:cubicBezTo>
                <a:cubicBezTo>
                  <a:pt x="6733" y="15527"/>
                  <a:pt x="6724" y="15549"/>
                  <a:pt x="6719" y="15575"/>
                </a:cubicBezTo>
                <a:cubicBezTo>
                  <a:pt x="6756" y="15577"/>
                  <a:pt x="6782" y="15562"/>
                  <a:pt x="6818" y="15553"/>
                </a:cubicBezTo>
                <a:cubicBezTo>
                  <a:pt x="6879" y="15538"/>
                  <a:pt x="6941" y="15555"/>
                  <a:pt x="6976" y="15611"/>
                </a:cubicBezTo>
                <a:cubicBezTo>
                  <a:pt x="7004" y="15656"/>
                  <a:pt x="7014" y="15720"/>
                  <a:pt x="7000" y="15771"/>
                </a:cubicBezTo>
                <a:cubicBezTo>
                  <a:pt x="6992" y="15801"/>
                  <a:pt x="6976" y="15808"/>
                  <a:pt x="6952" y="15822"/>
                </a:cubicBezTo>
                <a:cubicBezTo>
                  <a:pt x="6911" y="15790"/>
                  <a:pt x="6920" y="15750"/>
                  <a:pt x="6919" y="15698"/>
                </a:cubicBezTo>
              </a:path>
              <a:path w="2832" h="807">
                <a:moveTo>
                  <a:pt x="7138" y="15051"/>
                </a:moveTo>
                <a:cubicBezTo>
                  <a:pt x="7139" y="15121"/>
                  <a:pt x="7139" y="15193"/>
                  <a:pt x="7148" y="15262"/>
                </a:cubicBezTo>
                <a:cubicBezTo>
                  <a:pt x="7161" y="15362"/>
                  <a:pt x="7185" y="15459"/>
                  <a:pt x="7202" y="15558"/>
                </a:cubicBezTo>
                <a:cubicBezTo>
                  <a:pt x="7204" y="15579"/>
                  <a:pt x="7205" y="15583"/>
                  <a:pt x="7206" y="15595"/>
                </a:cubicBezTo>
              </a:path>
              <a:path w="2832" h="807">
                <a:moveTo>
                  <a:pt x="7071" y="15408"/>
                </a:moveTo>
                <a:cubicBezTo>
                  <a:pt x="7060" y="15367"/>
                  <a:pt x="7103" y="15365"/>
                  <a:pt x="7143" y="15354"/>
                </a:cubicBezTo>
                <a:cubicBezTo>
                  <a:pt x="7220" y="15334"/>
                  <a:pt x="7296" y="15311"/>
                  <a:pt x="7372" y="15289"/>
                </a:cubicBezTo>
                <a:cubicBezTo>
                  <a:pt x="7425" y="15273"/>
                  <a:pt x="7467" y="15257"/>
                  <a:pt x="7523" y="15258"/>
                </a:cubicBezTo>
                <a:cubicBezTo>
                  <a:pt x="7532" y="15302"/>
                  <a:pt x="7515" y="15314"/>
                  <a:pt x="7490" y="15353"/>
                </a:cubicBezTo>
                <a:cubicBezTo>
                  <a:pt x="7465" y="15391"/>
                  <a:pt x="7438" y="15425"/>
                  <a:pt x="7417" y="15465"/>
                </a:cubicBezTo>
                <a:cubicBezTo>
                  <a:pt x="7408" y="15482"/>
                  <a:pt x="7405" y="15499"/>
                  <a:pt x="7399" y="15516"/>
                </a:cubicBezTo>
                <a:cubicBezTo>
                  <a:pt x="7427" y="15510"/>
                  <a:pt x="7445" y="15495"/>
                  <a:pt x="7472" y="15483"/>
                </a:cubicBezTo>
                <a:cubicBezTo>
                  <a:pt x="7508" y="15467"/>
                  <a:pt x="7535" y="15472"/>
                  <a:pt x="7565" y="15498"/>
                </a:cubicBezTo>
                <a:cubicBezTo>
                  <a:pt x="7595" y="15524"/>
                  <a:pt x="7647" y="15631"/>
                  <a:pt x="7696" y="15620"/>
                </a:cubicBezTo>
                <a:cubicBezTo>
                  <a:pt x="7717" y="15608"/>
                  <a:pt x="7724" y="15602"/>
                  <a:pt x="7729" y="15584"/>
                </a:cubicBezTo>
              </a:path>
              <a:path w="2832" h="807">
                <a:moveTo>
                  <a:pt x="7742" y="15016"/>
                </a:moveTo>
                <a:cubicBezTo>
                  <a:pt x="7721" y="15043"/>
                  <a:pt x="7729" y="15117"/>
                  <a:pt x="7733" y="15156"/>
                </a:cubicBezTo>
                <a:cubicBezTo>
                  <a:pt x="7744" y="15260"/>
                  <a:pt x="7764" y="15363"/>
                  <a:pt x="7789" y="15464"/>
                </a:cubicBezTo>
                <a:cubicBezTo>
                  <a:pt x="7801" y="15512"/>
                  <a:pt x="7813" y="15558"/>
                  <a:pt x="7830" y="15605"/>
                </a:cubicBezTo>
              </a:path>
              <a:path w="2832" h="807">
                <a:moveTo>
                  <a:pt x="7723" y="15341"/>
                </a:moveTo>
                <a:cubicBezTo>
                  <a:pt x="7715" y="15321"/>
                  <a:pt x="7738" y="15326"/>
                  <a:pt x="7762" y="15324"/>
                </a:cubicBezTo>
                <a:cubicBezTo>
                  <a:pt x="7820" y="15318"/>
                  <a:pt x="7876" y="15310"/>
                  <a:pt x="7933" y="15302"/>
                </a:cubicBezTo>
                <a:cubicBezTo>
                  <a:pt x="7979" y="15297"/>
                  <a:pt x="7993" y="15296"/>
                  <a:pt x="8022" y="15290"/>
                </a:cubicBezTo>
              </a:path>
              <a:path w="2832" h="807">
                <a:moveTo>
                  <a:pt x="8153" y="15408"/>
                </a:moveTo>
                <a:cubicBezTo>
                  <a:pt x="8183" y="15420"/>
                  <a:pt x="8169" y="15423"/>
                  <a:pt x="8201" y="15411"/>
                </a:cubicBezTo>
                <a:cubicBezTo>
                  <a:pt x="8227" y="15401"/>
                  <a:pt x="8235" y="15383"/>
                  <a:pt x="8251" y="15363"/>
                </a:cubicBezTo>
                <a:cubicBezTo>
                  <a:pt x="8216" y="15389"/>
                  <a:pt x="8192" y="15426"/>
                  <a:pt x="8171" y="15465"/>
                </a:cubicBezTo>
                <a:cubicBezTo>
                  <a:pt x="8146" y="15513"/>
                  <a:pt x="8123" y="15576"/>
                  <a:pt x="8140" y="15630"/>
                </a:cubicBezTo>
                <a:cubicBezTo>
                  <a:pt x="8154" y="15675"/>
                  <a:pt x="8211" y="15669"/>
                  <a:pt x="8245" y="15653"/>
                </a:cubicBezTo>
                <a:cubicBezTo>
                  <a:pt x="8286" y="15634"/>
                  <a:pt x="8325" y="15598"/>
                  <a:pt x="8351" y="15562"/>
                </a:cubicBezTo>
                <a:cubicBezTo>
                  <a:pt x="8361" y="15545"/>
                  <a:pt x="8362" y="15540"/>
                  <a:pt x="8371" y="15531"/>
                </a:cubicBezTo>
                <a:cubicBezTo>
                  <a:pt x="8372" y="15568"/>
                  <a:pt x="8366" y="15605"/>
                  <a:pt x="8365" y="15642"/>
                </a:cubicBezTo>
                <a:cubicBezTo>
                  <a:pt x="8364" y="15674"/>
                  <a:pt x="8368" y="15699"/>
                  <a:pt x="8375" y="15714"/>
                </a:cubicBezTo>
                <a:cubicBezTo>
                  <a:pt x="8392" y="15677"/>
                  <a:pt x="8405" y="15638"/>
                  <a:pt x="8421" y="15601"/>
                </a:cubicBezTo>
                <a:cubicBezTo>
                  <a:pt x="8428" y="15584"/>
                  <a:pt x="8458" y="15509"/>
                  <a:pt x="8487" y="15514"/>
                </a:cubicBezTo>
                <a:cubicBezTo>
                  <a:pt x="8518" y="15519"/>
                  <a:pt x="8524" y="15555"/>
                  <a:pt x="8530" y="15581"/>
                </a:cubicBezTo>
                <a:cubicBezTo>
                  <a:pt x="8537" y="15610"/>
                  <a:pt x="8540" y="15640"/>
                  <a:pt x="8547" y="15669"/>
                </a:cubicBezTo>
                <a:cubicBezTo>
                  <a:pt x="8562" y="15655"/>
                  <a:pt x="8573" y="15642"/>
                  <a:pt x="8586" y="15621"/>
                </a:cubicBezTo>
                <a:cubicBezTo>
                  <a:pt x="8596" y="15604"/>
                  <a:pt x="8607" y="15586"/>
                  <a:pt x="8629" y="15591"/>
                </a:cubicBezTo>
                <a:cubicBezTo>
                  <a:pt x="8648" y="15596"/>
                  <a:pt x="8670" y="15623"/>
                  <a:pt x="8687" y="15633"/>
                </a:cubicBezTo>
                <a:cubicBezTo>
                  <a:pt x="8714" y="15650"/>
                  <a:pt x="8740" y="15652"/>
                  <a:pt x="8771" y="15653"/>
                </a:cubicBezTo>
                <a:cubicBezTo>
                  <a:pt x="8790" y="15653"/>
                  <a:pt x="8804" y="15648"/>
                  <a:pt x="8823" y="15645"/>
                </a:cubicBezTo>
              </a:path>
              <a:path w="2832" h="807">
                <a:moveTo>
                  <a:pt x="8884" y="15591"/>
                </a:moveTo>
                <a:cubicBezTo>
                  <a:pt x="8891" y="15579"/>
                  <a:pt x="8894" y="15576"/>
                  <a:pt x="8892" y="15567"/>
                </a:cubicBezTo>
                <a:cubicBezTo>
                  <a:pt x="8866" y="15568"/>
                  <a:pt x="8860" y="15583"/>
                  <a:pt x="8850" y="15608"/>
                </a:cubicBezTo>
                <a:cubicBezTo>
                  <a:pt x="8836" y="15642"/>
                  <a:pt x="8830" y="15680"/>
                  <a:pt x="8834" y="15717"/>
                </a:cubicBezTo>
                <a:cubicBezTo>
                  <a:pt x="8837" y="15740"/>
                  <a:pt x="8848" y="15774"/>
                  <a:pt x="8878" y="15772"/>
                </a:cubicBezTo>
                <a:cubicBezTo>
                  <a:pt x="8924" y="15769"/>
                  <a:pt x="8956" y="15711"/>
                  <a:pt x="8980" y="15680"/>
                </a:cubicBezTo>
                <a:cubicBezTo>
                  <a:pt x="8999" y="15655"/>
                  <a:pt x="9015" y="15632"/>
                  <a:pt x="9042" y="15615"/>
                </a:cubicBezTo>
                <a:cubicBezTo>
                  <a:pt x="9062" y="15628"/>
                  <a:pt x="9061" y="15648"/>
                  <a:pt x="9065" y="15672"/>
                </a:cubicBezTo>
                <a:cubicBezTo>
                  <a:pt x="9070" y="15700"/>
                  <a:pt x="9069" y="15720"/>
                  <a:pt x="9091" y="15735"/>
                </a:cubicBezTo>
                <a:cubicBezTo>
                  <a:pt x="9110" y="15711"/>
                  <a:pt x="9124" y="15685"/>
                  <a:pt x="9138" y="15658"/>
                </a:cubicBezTo>
                <a:cubicBezTo>
                  <a:pt x="9150" y="15635"/>
                  <a:pt x="9160" y="15606"/>
                  <a:pt x="9188" y="15601"/>
                </a:cubicBezTo>
                <a:cubicBezTo>
                  <a:pt x="9201" y="15598"/>
                  <a:pt x="9232" y="15624"/>
                  <a:pt x="9248" y="15630"/>
                </a:cubicBezTo>
              </a:path>
              <a:path w="2832" h="807">
                <a:moveTo>
                  <a:pt x="9358" y="15216"/>
                </a:moveTo>
                <a:cubicBezTo>
                  <a:pt x="9354" y="15190"/>
                  <a:pt x="9352" y="15185"/>
                  <a:pt x="9352" y="15169"/>
                </a:cubicBezTo>
                <a:cubicBezTo>
                  <a:pt x="9354" y="15224"/>
                  <a:pt x="9360" y="15281"/>
                  <a:pt x="9367" y="15336"/>
                </a:cubicBezTo>
                <a:cubicBezTo>
                  <a:pt x="9379" y="15432"/>
                  <a:pt x="9398" y="15527"/>
                  <a:pt x="9413" y="15622"/>
                </a:cubicBezTo>
              </a:path>
              <a:path w="2832" h="807">
                <a:moveTo>
                  <a:pt x="9230" y="15433"/>
                </a:moveTo>
                <a:cubicBezTo>
                  <a:pt x="9252" y="15395"/>
                  <a:pt x="9265" y="15400"/>
                  <a:pt x="9307" y="15393"/>
                </a:cubicBezTo>
                <a:cubicBezTo>
                  <a:pt x="9365" y="15383"/>
                  <a:pt x="9411" y="15378"/>
                  <a:pt x="9470" y="15388"/>
                </a:cubicBezTo>
                <a:cubicBezTo>
                  <a:pt x="9511" y="15396"/>
                  <a:pt x="9524" y="15398"/>
                  <a:pt x="9550" y="1540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679920" y="5478480"/>
            <a:ext cx="217440" cy="158760"/>
          </a:xfrm>
          <a:custGeom>
            <a:avLst/>
            <a:gdLst/>
            <a:ahLst/>
            <a:rect l="l" t="t" r="r" b="b"/>
            <a:pathLst>
              <a:path w="605" h="441">
                <a:moveTo>
                  <a:pt x="10253" y="15399"/>
                </a:moveTo>
                <a:cubicBezTo>
                  <a:pt x="10281" y="15426"/>
                  <a:pt x="10274" y="15447"/>
                  <a:pt x="10279" y="15485"/>
                </a:cubicBezTo>
                <a:cubicBezTo>
                  <a:pt x="10285" y="15530"/>
                  <a:pt x="10284" y="15575"/>
                  <a:pt x="10288" y="15620"/>
                </a:cubicBezTo>
                <a:cubicBezTo>
                  <a:pt x="10289" y="15626"/>
                  <a:pt x="10291" y="15633"/>
                  <a:pt x="10292" y="15639"/>
                </a:cubicBezTo>
              </a:path>
              <a:path w="605" h="441">
                <a:moveTo>
                  <a:pt x="10221" y="15271"/>
                </a:moveTo>
                <a:cubicBezTo>
                  <a:pt x="10220" y="15240"/>
                  <a:pt x="10218" y="15235"/>
                  <a:pt x="10248" y="15225"/>
                </a:cubicBezTo>
                <a:cubicBezTo>
                  <a:pt x="10287" y="15211"/>
                  <a:pt x="10346" y="15229"/>
                  <a:pt x="10386" y="15236"/>
                </a:cubicBezTo>
              </a:path>
              <a:path w="605" h="441">
                <a:moveTo>
                  <a:pt x="10626" y="15419"/>
                </a:moveTo>
                <a:cubicBezTo>
                  <a:pt x="10601" y="15447"/>
                  <a:pt x="10573" y="15465"/>
                  <a:pt x="10547" y="15490"/>
                </a:cubicBezTo>
                <a:cubicBezTo>
                  <a:pt x="10494" y="15502"/>
                  <a:pt x="10602" y="15477"/>
                  <a:pt x="10617" y="15478"/>
                </a:cubicBezTo>
                <a:cubicBezTo>
                  <a:pt x="10657" y="15480"/>
                  <a:pt x="10715" y="15495"/>
                  <a:pt x="10732" y="15537"/>
                </a:cubicBezTo>
                <a:cubicBezTo>
                  <a:pt x="10749" y="15579"/>
                  <a:pt x="10713" y="15625"/>
                  <a:pt x="10677" y="15642"/>
                </a:cubicBezTo>
                <a:cubicBezTo>
                  <a:pt x="10636" y="15661"/>
                  <a:pt x="10581" y="15667"/>
                  <a:pt x="10542" y="15640"/>
                </a:cubicBezTo>
                <a:cubicBezTo>
                  <a:pt x="10521" y="15618"/>
                  <a:pt x="10513" y="15610"/>
                  <a:pt x="10509" y="15588"/>
                </a:cubicBezTo>
              </a:path>
              <a:path w="605" h="441">
                <a:moveTo>
                  <a:pt x="10770" y="15449"/>
                </a:moveTo>
                <a:cubicBezTo>
                  <a:pt x="10797" y="15453"/>
                  <a:pt x="10804" y="15449"/>
                  <a:pt x="10824" y="1546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149720" y="5353200"/>
            <a:ext cx="628560" cy="257040"/>
          </a:xfrm>
          <a:custGeom>
            <a:avLst/>
            <a:gdLst/>
            <a:ahLst/>
            <a:rect l="l" t="t" r="r" b="b"/>
            <a:pathLst>
              <a:path w="1745" h="712">
                <a:moveTo>
                  <a:pt x="11752" y="15519"/>
                </a:moveTo>
                <a:cubicBezTo>
                  <a:pt x="11721" y="15494"/>
                  <a:pt x="11714" y="15474"/>
                  <a:pt x="11702" y="15433"/>
                </a:cubicBezTo>
                <a:cubicBezTo>
                  <a:pt x="11685" y="15374"/>
                  <a:pt x="11668" y="15314"/>
                  <a:pt x="11654" y="15254"/>
                </a:cubicBezTo>
                <a:cubicBezTo>
                  <a:pt x="11636" y="15176"/>
                  <a:pt x="11625" y="15095"/>
                  <a:pt x="11626" y="15015"/>
                </a:cubicBezTo>
                <a:cubicBezTo>
                  <a:pt x="11627" y="14971"/>
                  <a:pt x="11631" y="14896"/>
                  <a:pt x="11679" y="14873"/>
                </a:cubicBezTo>
                <a:cubicBezTo>
                  <a:pt x="11726" y="14851"/>
                  <a:pt x="11783" y="14918"/>
                  <a:pt x="11809" y="14946"/>
                </a:cubicBezTo>
                <a:cubicBezTo>
                  <a:pt x="11854" y="14994"/>
                  <a:pt x="11897" y="15051"/>
                  <a:pt x="11907" y="15118"/>
                </a:cubicBezTo>
                <a:cubicBezTo>
                  <a:pt x="11907" y="15149"/>
                  <a:pt x="11908" y="15159"/>
                  <a:pt x="11896" y="15177"/>
                </a:cubicBezTo>
              </a:path>
              <a:path w="1745" h="712">
                <a:moveTo>
                  <a:pt x="11564" y="15257"/>
                </a:moveTo>
                <a:cubicBezTo>
                  <a:pt x="11546" y="15265"/>
                  <a:pt x="11541" y="15268"/>
                  <a:pt x="11528" y="15270"/>
                </a:cubicBezTo>
                <a:cubicBezTo>
                  <a:pt x="11570" y="15281"/>
                  <a:pt x="11609" y="15274"/>
                  <a:pt x="11652" y="15267"/>
                </a:cubicBezTo>
                <a:cubicBezTo>
                  <a:pt x="11746" y="15253"/>
                  <a:pt x="11839" y="15225"/>
                  <a:pt x="11931" y="15203"/>
                </a:cubicBezTo>
                <a:cubicBezTo>
                  <a:pt x="11974" y="15194"/>
                  <a:pt x="11987" y="15191"/>
                  <a:pt x="12015" y="15189"/>
                </a:cubicBezTo>
              </a:path>
              <a:path w="1745" h="712">
                <a:moveTo>
                  <a:pt x="12055" y="15184"/>
                </a:moveTo>
                <a:cubicBezTo>
                  <a:pt x="12062" y="15208"/>
                  <a:pt x="12051" y="15224"/>
                  <a:pt x="12033" y="15247"/>
                </a:cubicBezTo>
                <a:cubicBezTo>
                  <a:pt x="12008" y="15281"/>
                  <a:pt x="11990" y="15315"/>
                  <a:pt x="11976" y="15354"/>
                </a:cubicBezTo>
                <a:cubicBezTo>
                  <a:pt x="11966" y="15382"/>
                  <a:pt x="11962" y="15403"/>
                  <a:pt x="11970" y="15431"/>
                </a:cubicBezTo>
                <a:cubicBezTo>
                  <a:pt x="11997" y="15434"/>
                  <a:pt x="12009" y="15425"/>
                  <a:pt x="12031" y="15409"/>
                </a:cubicBezTo>
                <a:cubicBezTo>
                  <a:pt x="12049" y="15396"/>
                  <a:pt x="12069" y="15367"/>
                  <a:pt x="12094" y="15370"/>
                </a:cubicBezTo>
                <a:cubicBezTo>
                  <a:pt x="12120" y="15373"/>
                  <a:pt x="12132" y="15420"/>
                  <a:pt x="12141" y="15439"/>
                </a:cubicBezTo>
                <a:cubicBezTo>
                  <a:pt x="12149" y="15456"/>
                  <a:pt x="12167" y="15520"/>
                  <a:pt x="12198" y="15514"/>
                </a:cubicBezTo>
                <a:cubicBezTo>
                  <a:pt x="12203" y="15510"/>
                  <a:pt x="12207" y="15507"/>
                  <a:pt x="12212" y="15503"/>
                </a:cubicBezTo>
              </a:path>
              <a:path w="1745" h="712">
                <a:moveTo>
                  <a:pt x="12302" y="14932"/>
                </a:moveTo>
                <a:cubicBezTo>
                  <a:pt x="12299" y="14923"/>
                  <a:pt x="12297" y="14915"/>
                  <a:pt x="12294" y="14906"/>
                </a:cubicBezTo>
                <a:cubicBezTo>
                  <a:pt x="12259" y="14935"/>
                  <a:pt x="12270" y="14996"/>
                  <a:pt x="12273" y="15042"/>
                </a:cubicBezTo>
                <a:cubicBezTo>
                  <a:pt x="12279" y="15130"/>
                  <a:pt x="12290" y="15226"/>
                  <a:pt x="12321" y="15308"/>
                </a:cubicBezTo>
                <a:cubicBezTo>
                  <a:pt x="12339" y="15356"/>
                  <a:pt x="12358" y="15373"/>
                  <a:pt x="12396" y="15403"/>
                </a:cubicBezTo>
              </a:path>
              <a:path w="1745" h="712">
                <a:moveTo>
                  <a:pt x="12620" y="15235"/>
                </a:moveTo>
                <a:cubicBezTo>
                  <a:pt x="12581" y="15250"/>
                  <a:pt x="12542" y="15269"/>
                  <a:pt x="12509" y="15292"/>
                </a:cubicBezTo>
                <a:cubicBezTo>
                  <a:pt x="12488" y="15307"/>
                  <a:pt x="12484" y="15307"/>
                  <a:pt x="12482" y="15330"/>
                </a:cubicBezTo>
                <a:cubicBezTo>
                  <a:pt x="12513" y="15349"/>
                  <a:pt x="12548" y="15357"/>
                  <a:pt x="12581" y="15371"/>
                </a:cubicBezTo>
                <a:cubicBezTo>
                  <a:pt x="12638" y="15395"/>
                  <a:pt x="12710" y="15428"/>
                  <a:pt x="12731" y="15492"/>
                </a:cubicBezTo>
                <a:cubicBezTo>
                  <a:pt x="12744" y="15531"/>
                  <a:pt x="12723" y="15560"/>
                  <a:pt x="12689" y="15575"/>
                </a:cubicBezTo>
                <a:cubicBezTo>
                  <a:pt x="12654" y="15591"/>
                  <a:pt x="12624" y="15574"/>
                  <a:pt x="12619" y="15536"/>
                </a:cubicBezTo>
                <a:cubicBezTo>
                  <a:pt x="12619" y="15525"/>
                  <a:pt x="12620" y="15514"/>
                  <a:pt x="12620" y="15503"/>
                </a:cubicBezTo>
              </a:path>
              <a:path w="1745" h="712">
                <a:moveTo>
                  <a:pt x="12955" y="15348"/>
                </a:moveTo>
                <a:cubicBezTo>
                  <a:pt x="12982" y="15345"/>
                  <a:pt x="13012" y="15333"/>
                  <a:pt x="13029" y="15311"/>
                </a:cubicBezTo>
                <a:cubicBezTo>
                  <a:pt x="13045" y="15291"/>
                  <a:pt x="13054" y="15266"/>
                  <a:pt x="13056" y="15241"/>
                </a:cubicBezTo>
                <a:cubicBezTo>
                  <a:pt x="13023" y="15240"/>
                  <a:pt x="13002" y="15266"/>
                  <a:pt x="12980" y="15290"/>
                </a:cubicBezTo>
                <a:cubicBezTo>
                  <a:pt x="12946" y="15327"/>
                  <a:pt x="12915" y="15378"/>
                  <a:pt x="12918" y="15431"/>
                </a:cubicBezTo>
                <a:cubicBezTo>
                  <a:pt x="12921" y="15485"/>
                  <a:pt x="12974" y="15493"/>
                  <a:pt x="13016" y="15496"/>
                </a:cubicBezTo>
                <a:cubicBezTo>
                  <a:pt x="13090" y="15502"/>
                  <a:pt x="13157" y="15483"/>
                  <a:pt x="13222" y="15449"/>
                </a:cubicBezTo>
                <a:cubicBezTo>
                  <a:pt x="13239" y="15439"/>
                  <a:pt x="13255" y="15429"/>
                  <a:pt x="13272" y="1541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249200" y="5938920"/>
            <a:ext cx="279720" cy="225360"/>
          </a:xfrm>
          <a:custGeom>
            <a:avLst/>
            <a:gdLst/>
            <a:ahLst/>
            <a:rect l="l" t="t" r="r" b="b"/>
            <a:pathLst>
              <a:path w="773" h="627">
                <a:moveTo>
                  <a:pt x="3511" y="16642"/>
                </a:moveTo>
                <a:cubicBezTo>
                  <a:pt x="3492" y="16651"/>
                  <a:pt x="3487" y="16653"/>
                  <a:pt x="3472" y="16668"/>
                </a:cubicBezTo>
                <a:cubicBezTo>
                  <a:pt x="3511" y="16678"/>
                  <a:pt x="3550" y="16673"/>
                  <a:pt x="3591" y="16671"/>
                </a:cubicBezTo>
                <a:cubicBezTo>
                  <a:pt x="3664" y="16667"/>
                  <a:pt x="3738" y="16659"/>
                  <a:pt x="3811" y="16662"/>
                </a:cubicBezTo>
                <a:cubicBezTo>
                  <a:pt x="3845" y="16664"/>
                  <a:pt x="3888" y="16661"/>
                  <a:pt x="3903" y="16692"/>
                </a:cubicBezTo>
              </a:path>
              <a:path w="773" h="627">
                <a:moveTo>
                  <a:pt x="3548" y="16904"/>
                </a:moveTo>
                <a:cubicBezTo>
                  <a:pt x="3524" y="16916"/>
                  <a:pt x="3507" y="16925"/>
                  <a:pt x="3486" y="16942"/>
                </a:cubicBezTo>
                <a:cubicBezTo>
                  <a:pt x="3538" y="16956"/>
                  <a:pt x="3597" y="16949"/>
                  <a:pt x="3653" y="16944"/>
                </a:cubicBezTo>
                <a:cubicBezTo>
                  <a:pt x="3741" y="16936"/>
                  <a:pt x="3819" y="16909"/>
                  <a:pt x="3900" y="16876"/>
                </a:cubicBezTo>
              </a:path>
              <a:path w="773" h="627">
                <a:moveTo>
                  <a:pt x="3781" y="16565"/>
                </a:moveTo>
                <a:cubicBezTo>
                  <a:pt x="3775" y="16531"/>
                  <a:pt x="3775" y="16542"/>
                  <a:pt x="3824" y="16527"/>
                </a:cubicBezTo>
                <a:cubicBezTo>
                  <a:pt x="3903" y="16503"/>
                  <a:pt x="3991" y="16490"/>
                  <a:pt x="4074" y="16498"/>
                </a:cubicBezTo>
                <a:cubicBezTo>
                  <a:pt x="4150" y="16505"/>
                  <a:pt x="4236" y="16543"/>
                  <a:pt x="4244" y="16630"/>
                </a:cubicBezTo>
                <a:cubicBezTo>
                  <a:pt x="4253" y="16735"/>
                  <a:pt x="4156" y="16847"/>
                  <a:pt x="4092" y="16918"/>
                </a:cubicBezTo>
                <a:cubicBezTo>
                  <a:pt x="4019" y="16998"/>
                  <a:pt x="3940" y="17058"/>
                  <a:pt x="3846" y="17107"/>
                </a:cubicBezTo>
                <a:cubicBezTo>
                  <a:pt x="3803" y="17129"/>
                  <a:pt x="3796" y="17133"/>
                  <a:pt x="3808" y="1709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695600" y="5843520"/>
            <a:ext cx="1834920" cy="297000"/>
          </a:xfrm>
          <a:custGeom>
            <a:avLst/>
            <a:gdLst/>
            <a:ahLst/>
            <a:rect l="l" t="t" r="r" b="b"/>
            <a:pathLst>
              <a:path w="5096" h="828">
                <a:moveTo>
                  <a:pt x="5047" y="16670"/>
                </a:moveTo>
                <a:cubicBezTo>
                  <a:pt x="5032" y="16644"/>
                  <a:pt x="5019" y="16614"/>
                  <a:pt x="4994" y="16595"/>
                </a:cubicBezTo>
                <a:cubicBezTo>
                  <a:pt x="4961" y="16570"/>
                  <a:pt x="4911" y="16573"/>
                  <a:pt x="4876" y="16592"/>
                </a:cubicBezTo>
                <a:cubicBezTo>
                  <a:pt x="4817" y="16625"/>
                  <a:pt x="4764" y="16686"/>
                  <a:pt x="4736" y="16747"/>
                </a:cubicBezTo>
                <a:cubicBezTo>
                  <a:pt x="4703" y="16819"/>
                  <a:pt x="4703" y="16897"/>
                  <a:pt x="4744" y="16966"/>
                </a:cubicBezTo>
                <a:cubicBezTo>
                  <a:pt x="4801" y="17061"/>
                  <a:pt x="4924" y="17073"/>
                  <a:pt x="5022" y="17049"/>
                </a:cubicBezTo>
                <a:cubicBezTo>
                  <a:pt x="5044" y="17041"/>
                  <a:pt x="5065" y="17033"/>
                  <a:pt x="5087" y="17025"/>
                </a:cubicBezTo>
              </a:path>
              <a:path w="5096" h="828">
                <a:moveTo>
                  <a:pt x="5251" y="16685"/>
                </a:moveTo>
                <a:cubicBezTo>
                  <a:pt x="5193" y="16709"/>
                  <a:pt x="5172" y="16736"/>
                  <a:pt x="5136" y="16787"/>
                </a:cubicBezTo>
                <a:cubicBezTo>
                  <a:pt x="5099" y="16839"/>
                  <a:pt x="5071" y="16900"/>
                  <a:pt x="5080" y="16966"/>
                </a:cubicBezTo>
                <a:cubicBezTo>
                  <a:pt x="5087" y="17020"/>
                  <a:pt x="5138" y="17030"/>
                  <a:pt x="5184" y="17020"/>
                </a:cubicBezTo>
                <a:cubicBezTo>
                  <a:pt x="5244" y="17008"/>
                  <a:pt x="5292" y="16969"/>
                  <a:pt x="5331" y="16924"/>
                </a:cubicBezTo>
                <a:cubicBezTo>
                  <a:pt x="5362" y="16888"/>
                  <a:pt x="5376" y="16852"/>
                  <a:pt x="5388" y="16807"/>
                </a:cubicBezTo>
                <a:cubicBezTo>
                  <a:pt x="5384" y="16833"/>
                  <a:pt x="5383" y="16831"/>
                  <a:pt x="5391" y="16856"/>
                </a:cubicBezTo>
                <a:cubicBezTo>
                  <a:pt x="5399" y="16881"/>
                  <a:pt x="5419" y="16903"/>
                  <a:pt x="5440" y="16871"/>
                </a:cubicBezTo>
                <a:cubicBezTo>
                  <a:pt x="5443" y="16858"/>
                  <a:pt x="5444" y="16854"/>
                  <a:pt x="5449" y="16846"/>
                </a:cubicBezTo>
                <a:cubicBezTo>
                  <a:pt x="5468" y="16866"/>
                  <a:pt x="5488" y="16887"/>
                  <a:pt x="5506" y="16910"/>
                </a:cubicBezTo>
                <a:cubicBezTo>
                  <a:pt x="5521" y="16930"/>
                  <a:pt x="5538" y="16946"/>
                  <a:pt x="5555" y="16963"/>
                </a:cubicBezTo>
                <a:cubicBezTo>
                  <a:pt x="5574" y="16929"/>
                  <a:pt x="5573" y="16897"/>
                  <a:pt x="5579" y="16858"/>
                </a:cubicBezTo>
                <a:cubicBezTo>
                  <a:pt x="5586" y="16815"/>
                  <a:pt x="5589" y="16760"/>
                  <a:pt x="5610" y="16722"/>
                </a:cubicBezTo>
                <a:cubicBezTo>
                  <a:pt x="5621" y="16710"/>
                  <a:pt x="5624" y="16706"/>
                  <a:pt x="5635" y="16705"/>
                </a:cubicBezTo>
                <a:cubicBezTo>
                  <a:pt x="5666" y="16735"/>
                  <a:pt x="5688" y="16769"/>
                  <a:pt x="5710" y="16806"/>
                </a:cubicBezTo>
                <a:cubicBezTo>
                  <a:pt x="5729" y="16839"/>
                  <a:pt x="5749" y="16891"/>
                  <a:pt x="5784" y="16911"/>
                </a:cubicBezTo>
                <a:cubicBezTo>
                  <a:pt x="5790" y="16912"/>
                  <a:pt x="5795" y="16914"/>
                  <a:pt x="5801" y="16915"/>
                </a:cubicBezTo>
              </a:path>
              <a:path w="5096" h="828">
                <a:moveTo>
                  <a:pt x="5782" y="16325"/>
                </a:moveTo>
                <a:cubicBezTo>
                  <a:pt x="5778" y="16318"/>
                  <a:pt x="5775" y="16311"/>
                  <a:pt x="5771" y="16304"/>
                </a:cubicBezTo>
                <a:cubicBezTo>
                  <a:pt x="5743" y="16357"/>
                  <a:pt x="5765" y="16421"/>
                  <a:pt x="5778" y="16480"/>
                </a:cubicBezTo>
                <a:cubicBezTo>
                  <a:pt x="5801" y="16586"/>
                  <a:pt x="5840" y="16684"/>
                  <a:pt x="5876" y="16785"/>
                </a:cubicBezTo>
                <a:cubicBezTo>
                  <a:pt x="5890" y="16823"/>
                  <a:pt x="5902" y="16862"/>
                  <a:pt x="5915" y="16900"/>
                </a:cubicBezTo>
              </a:path>
              <a:path w="5096" h="828">
                <a:moveTo>
                  <a:pt x="5780" y="16743"/>
                </a:moveTo>
                <a:cubicBezTo>
                  <a:pt x="5770" y="16696"/>
                  <a:pt x="5767" y="16678"/>
                  <a:pt x="5803" y="16642"/>
                </a:cubicBezTo>
                <a:cubicBezTo>
                  <a:pt x="5850" y="16596"/>
                  <a:pt x="5911" y="16573"/>
                  <a:pt x="5973" y="16556"/>
                </a:cubicBezTo>
                <a:cubicBezTo>
                  <a:pt x="6024" y="16542"/>
                  <a:pt x="6094" y="16529"/>
                  <a:pt x="6138" y="16569"/>
                </a:cubicBezTo>
                <a:cubicBezTo>
                  <a:pt x="6188" y="16614"/>
                  <a:pt x="6187" y="16704"/>
                  <a:pt x="6196" y="16764"/>
                </a:cubicBezTo>
                <a:cubicBezTo>
                  <a:pt x="6203" y="16808"/>
                  <a:pt x="6204" y="16842"/>
                  <a:pt x="6232" y="16876"/>
                </a:cubicBezTo>
                <a:cubicBezTo>
                  <a:pt x="6242" y="16845"/>
                  <a:pt x="6248" y="16816"/>
                  <a:pt x="6252" y="16783"/>
                </a:cubicBezTo>
                <a:cubicBezTo>
                  <a:pt x="6260" y="16722"/>
                  <a:pt x="6265" y="16670"/>
                  <a:pt x="6303" y="16620"/>
                </a:cubicBezTo>
                <a:cubicBezTo>
                  <a:pt x="6327" y="16588"/>
                  <a:pt x="6367" y="16587"/>
                  <a:pt x="6406" y="16595"/>
                </a:cubicBezTo>
                <a:cubicBezTo>
                  <a:pt x="6436" y="16605"/>
                  <a:pt x="6445" y="16607"/>
                  <a:pt x="6463" y="16618"/>
                </a:cubicBezTo>
              </a:path>
              <a:path w="5096" h="828">
                <a:moveTo>
                  <a:pt x="6536" y="16674"/>
                </a:moveTo>
                <a:cubicBezTo>
                  <a:pt x="6525" y="16652"/>
                  <a:pt x="6524" y="16649"/>
                  <a:pt x="6506" y="16633"/>
                </a:cubicBezTo>
                <a:cubicBezTo>
                  <a:pt x="6496" y="16670"/>
                  <a:pt x="6487" y="16702"/>
                  <a:pt x="6485" y="16743"/>
                </a:cubicBezTo>
                <a:cubicBezTo>
                  <a:pt x="6481" y="16812"/>
                  <a:pt x="6476" y="16907"/>
                  <a:pt x="6515" y="16968"/>
                </a:cubicBezTo>
                <a:cubicBezTo>
                  <a:pt x="6520" y="16973"/>
                  <a:pt x="6526" y="16977"/>
                  <a:pt x="6531" y="16982"/>
                </a:cubicBezTo>
                <a:cubicBezTo>
                  <a:pt x="6577" y="16969"/>
                  <a:pt x="6589" y="16939"/>
                  <a:pt x="6612" y="16896"/>
                </a:cubicBezTo>
                <a:cubicBezTo>
                  <a:pt x="6635" y="16853"/>
                  <a:pt x="6647" y="16800"/>
                  <a:pt x="6677" y="16761"/>
                </a:cubicBezTo>
                <a:cubicBezTo>
                  <a:pt x="6682" y="16757"/>
                  <a:pt x="6686" y="16752"/>
                  <a:pt x="6691" y="16748"/>
                </a:cubicBezTo>
                <a:cubicBezTo>
                  <a:pt x="6727" y="16754"/>
                  <a:pt x="6728" y="16775"/>
                  <a:pt x="6743" y="16806"/>
                </a:cubicBezTo>
                <a:cubicBezTo>
                  <a:pt x="6762" y="16845"/>
                  <a:pt x="6781" y="16884"/>
                  <a:pt x="6802" y="16922"/>
                </a:cubicBezTo>
              </a:path>
              <a:path w="5096" h="828">
                <a:moveTo>
                  <a:pt x="7291" y="16710"/>
                </a:moveTo>
                <a:cubicBezTo>
                  <a:pt x="7266" y="16673"/>
                  <a:pt x="7242" y="16636"/>
                  <a:pt x="7194" y="16627"/>
                </a:cubicBezTo>
                <a:cubicBezTo>
                  <a:pt x="7139" y="16617"/>
                  <a:pt x="7082" y="16650"/>
                  <a:pt x="7045" y="16687"/>
                </a:cubicBezTo>
                <a:cubicBezTo>
                  <a:pt x="7005" y="16727"/>
                  <a:pt x="6947" y="16820"/>
                  <a:pt x="6976" y="16880"/>
                </a:cubicBezTo>
                <a:cubicBezTo>
                  <a:pt x="6982" y="16885"/>
                  <a:pt x="6988" y="16891"/>
                  <a:pt x="6994" y="16896"/>
                </a:cubicBezTo>
                <a:cubicBezTo>
                  <a:pt x="7048" y="16892"/>
                  <a:pt x="7077" y="16868"/>
                  <a:pt x="7113" y="16825"/>
                </a:cubicBezTo>
                <a:cubicBezTo>
                  <a:pt x="7203" y="16716"/>
                  <a:pt x="7240" y="16566"/>
                  <a:pt x="7275" y="16432"/>
                </a:cubicBezTo>
                <a:cubicBezTo>
                  <a:pt x="7283" y="16400"/>
                  <a:pt x="7284" y="16393"/>
                  <a:pt x="7291" y="16374"/>
                </a:cubicBezTo>
                <a:cubicBezTo>
                  <a:pt x="7300" y="16446"/>
                  <a:pt x="7295" y="16520"/>
                  <a:pt x="7300" y="16593"/>
                </a:cubicBezTo>
                <a:cubicBezTo>
                  <a:pt x="7308" y="16696"/>
                  <a:pt x="7323" y="16811"/>
                  <a:pt x="7368" y="16905"/>
                </a:cubicBezTo>
                <a:cubicBezTo>
                  <a:pt x="7392" y="16942"/>
                  <a:pt x="7398" y="16953"/>
                  <a:pt x="7424" y="16966"/>
                </a:cubicBezTo>
              </a:path>
              <a:path w="5096" h="828">
                <a:moveTo>
                  <a:pt x="7547" y="16689"/>
                </a:moveTo>
                <a:cubicBezTo>
                  <a:pt x="7551" y="16739"/>
                  <a:pt x="7554" y="16792"/>
                  <a:pt x="7563" y="16841"/>
                </a:cubicBezTo>
                <a:cubicBezTo>
                  <a:pt x="7573" y="16897"/>
                  <a:pt x="7589" y="16953"/>
                  <a:pt x="7612" y="17005"/>
                </a:cubicBezTo>
                <a:cubicBezTo>
                  <a:pt x="7646" y="16983"/>
                  <a:pt x="7638" y="16936"/>
                  <a:pt x="7636" y="16889"/>
                </a:cubicBezTo>
                <a:cubicBezTo>
                  <a:pt x="7633" y="16821"/>
                  <a:pt x="7625" y="16751"/>
                  <a:pt x="7610" y="16684"/>
                </a:cubicBezTo>
                <a:cubicBezTo>
                  <a:pt x="7601" y="16644"/>
                  <a:pt x="7579" y="16595"/>
                  <a:pt x="7584" y="16553"/>
                </a:cubicBezTo>
                <a:cubicBezTo>
                  <a:pt x="7587" y="16527"/>
                  <a:pt x="7627" y="16534"/>
                  <a:pt x="7645" y="16535"/>
                </a:cubicBezTo>
              </a:path>
              <a:path w="5096" h="828">
                <a:moveTo>
                  <a:pt x="7960" y="16620"/>
                </a:moveTo>
                <a:cubicBezTo>
                  <a:pt x="7948" y="16637"/>
                  <a:pt x="7932" y="16650"/>
                  <a:pt x="7918" y="16664"/>
                </a:cubicBezTo>
                <a:cubicBezTo>
                  <a:pt x="7889" y="16693"/>
                  <a:pt x="7871" y="16722"/>
                  <a:pt x="7868" y="16765"/>
                </a:cubicBezTo>
                <a:cubicBezTo>
                  <a:pt x="7865" y="16808"/>
                  <a:pt x="7881" y="16842"/>
                  <a:pt x="7923" y="16854"/>
                </a:cubicBezTo>
                <a:cubicBezTo>
                  <a:pt x="7978" y="16870"/>
                  <a:pt x="8035" y="16836"/>
                  <a:pt x="8079" y="16805"/>
                </a:cubicBezTo>
                <a:cubicBezTo>
                  <a:pt x="8092" y="16794"/>
                  <a:pt x="8104" y="16784"/>
                  <a:pt x="8117" y="16773"/>
                </a:cubicBezTo>
              </a:path>
              <a:path w="5096" h="828">
                <a:moveTo>
                  <a:pt x="8123" y="16231"/>
                </a:moveTo>
                <a:cubicBezTo>
                  <a:pt x="8120" y="16262"/>
                  <a:pt x="8119" y="16326"/>
                  <a:pt x="8126" y="16369"/>
                </a:cubicBezTo>
                <a:cubicBezTo>
                  <a:pt x="8142" y="16477"/>
                  <a:pt x="8166" y="16584"/>
                  <a:pt x="8192" y="16690"/>
                </a:cubicBezTo>
                <a:cubicBezTo>
                  <a:pt x="8207" y="16751"/>
                  <a:pt x="8219" y="16813"/>
                  <a:pt x="8244" y="16870"/>
                </a:cubicBezTo>
              </a:path>
              <a:path w="5096" h="828">
                <a:moveTo>
                  <a:pt x="8103" y="16515"/>
                </a:moveTo>
                <a:cubicBezTo>
                  <a:pt x="8100" y="16477"/>
                  <a:pt x="8116" y="16483"/>
                  <a:pt x="8150" y="16476"/>
                </a:cubicBezTo>
                <a:cubicBezTo>
                  <a:pt x="8211" y="16463"/>
                  <a:pt x="8271" y="16458"/>
                  <a:pt x="8333" y="16451"/>
                </a:cubicBezTo>
                <a:cubicBezTo>
                  <a:pt x="8379" y="16446"/>
                  <a:pt x="8426" y="16439"/>
                  <a:pt x="8472" y="16433"/>
                </a:cubicBezTo>
              </a:path>
              <a:path w="5096" h="828">
                <a:moveTo>
                  <a:pt x="8535" y="16502"/>
                </a:moveTo>
                <a:cubicBezTo>
                  <a:pt x="8527" y="16525"/>
                  <a:pt x="8511" y="16559"/>
                  <a:pt x="8510" y="16583"/>
                </a:cubicBezTo>
                <a:cubicBezTo>
                  <a:pt x="8508" y="16614"/>
                  <a:pt x="8514" y="16642"/>
                  <a:pt x="8519" y="16672"/>
                </a:cubicBezTo>
                <a:cubicBezTo>
                  <a:pt x="8521" y="16687"/>
                  <a:pt x="8525" y="16693"/>
                  <a:pt x="8534" y="16705"/>
                </a:cubicBezTo>
              </a:path>
              <a:path w="5096" h="828">
                <a:moveTo>
                  <a:pt x="8571" y="16603"/>
                </a:moveTo>
                <a:cubicBezTo>
                  <a:pt x="8575" y="16642"/>
                  <a:pt x="8576" y="16686"/>
                  <a:pt x="8582" y="16724"/>
                </a:cubicBezTo>
                <a:cubicBezTo>
                  <a:pt x="8588" y="16762"/>
                  <a:pt x="8600" y="16802"/>
                  <a:pt x="8610" y="16840"/>
                </a:cubicBezTo>
              </a:path>
              <a:path w="5096" h="828">
                <a:moveTo>
                  <a:pt x="8506" y="16330"/>
                </a:moveTo>
                <a:cubicBezTo>
                  <a:pt x="8500" y="16305"/>
                  <a:pt x="8494" y="16283"/>
                  <a:pt x="8483" y="16259"/>
                </a:cubicBezTo>
                <a:cubicBezTo>
                  <a:pt x="8507" y="16261"/>
                  <a:pt x="8511" y="16266"/>
                  <a:pt x="8530" y="16283"/>
                </a:cubicBezTo>
              </a:path>
              <a:path w="5096" h="828">
                <a:moveTo>
                  <a:pt x="8930" y="16612"/>
                </a:moveTo>
                <a:cubicBezTo>
                  <a:pt x="8930" y="16601"/>
                  <a:pt x="8930" y="16598"/>
                  <a:pt x="8929" y="16591"/>
                </a:cubicBezTo>
                <a:cubicBezTo>
                  <a:pt x="8905" y="16611"/>
                  <a:pt x="8903" y="16637"/>
                  <a:pt x="8898" y="16668"/>
                </a:cubicBezTo>
                <a:cubicBezTo>
                  <a:pt x="8892" y="16711"/>
                  <a:pt x="8880" y="16793"/>
                  <a:pt x="8914" y="16828"/>
                </a:cubicBezTo>
                <a:cubicBezTo>
                  <a:pt x="8941" y="16856"/>
                  <a:pt x="8978" y="16812"/>
                  <a:pt x="8994" y="16795"/>
                </a:cubicBezTo>
                <a:cubicBezTo>
                  <a:pt x="9024" y="16763"/>
                  <a:pt x="9043" y="16719"/>
                  <a:pt x="9061" y="16679"/>
                </a:cubicBezTo>
                <a:cubicBezTo>
                  <a:pt x="9070" y="16660"/>
                  <a:pt x="9072" y="16643"/>
                  <a:pt x="9075" y="16622"/>
                </a:cubicBezTo>
              </a:path>
              <a:path w="5096" h="828">
                <a:moveTo>
                  <a:pt x="9174" y="16690"/>
                </a:moveTo>
                <a:cubicBezTo>
                  <a:pt x="9194" y="16711"/>
                  <a:pt x="9209" y="16731"/>
                  <a:pt x="9226" y="16754"/>
                </a:cubicBezTo>
                <a:cubicBezTo>
                  <a:pt x="9235" y="16764"/>
                  <a:pt x="9239" y="16768"/>
                  <a:pt x="9244" y="16776"/>
                </a:cubicBezTo>
                <a:cubicBezTo>
                  <a:pt x="9262" y="16752"/>
                  <a:pt x="9264" y="16728"/>
                  <a:pt x="9268" y="16698"/>
                </a:cubicBezTo>
                <a:cubicBezTo>
                  <a:pt x="9273" y="16662"/>
                  <a:pt x="9277" y="16627"/>
                  <a:pt x="9292" y="16593"/>
                </a:cubicBezTo>
                <a:cubicBezTo>
                  <a:pt x="9294" y="16588"/>
                  <a:pt x="9297" y="16584"/>
                  <a:pt x="9299" y="16579"/>
                </a:cubicBezTo>
                <a:cubicBezTo>
                  <a:pt x="9330" y="16583"/>
                  <a:pt x="9338" y="16608"/>
                  <a:pt x="9353" y="16636"/>
                </a:cubicBezTo>
                <a:cubicBezTo>
                  <a:pt x="9373" y="16674"/>
                  <a:pt x="9393" y="16712"/>
                  <a:pt x="9418" y="16747"/>
                </a:cubicBezTo>
                <a:cubicBezTo>
                  <a:pt x="9435" y="16771"/>
                  <a:pt x="9460" y="16804"/>
                  <a:pt x="9489" y="16815"/>
                </a:cubicBezTo>
                <a:cubicBezTo>
                  <a:pt x="9492" y="16815"/>
                  <a:pt x="9496" y="16816"/>
                  <a:pt x="9499" y="16816"/>
                </a:cubicBezTo>
              </a:path>
              <a:path w="5096" h="828">
                <a:moveTo>
                  <a:pt x="9806" y="16818"/>
                </a:moveTo>
                <a:cubicBezTo>
                  <a:pt x="9792" y="16796"/>
                  <a:pt x="9787" y="16787"/>
                  <a:pt x="9785" y="16763"/>
                </a:cubicBezTo>
                <a:cubicBezTo>
                  <a:pt x="9784" y="16760"/>
                  <a:pt x="9784" y="16757"/>
                  <a:pt x="9783" y="1675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000680" y="5900760"/>
            <a:ext cx="890280" cy="306360"/>
          </a:xfrm>
          <a:custGeom>
            <a:avLst/>
            <a:gdLst/>
            <a:ahLst/>
            <a:rect l="l" t="t" r="r" b="b"/>
            <a:pathLst>
              <a:path w="2472" h="854">
                <a:moveTo>
                  <a:pt x="11274" y="16625"/>
                </a:moveTo>
                <a:cubicBezTo>
                  <a:pt x="11273" y="16605"/>
                  <a:pt x="11274" y="16583"/>
                  <a:pt x="11267" y="16562"/>
                </a:cubicBezTo>
                <a:cubicBezTo>
                  <a:pt x="11258" y="16534"/>
                  <a:pt x="11244" y="16523"/>
                  <a:pt x="11220" y="16508"/>
                </a:cubicBezTo>
                <a:cubicBezTo>
                  <a:pt x="11192" y="16528"/>
                  <a:pt x="11177" y="16540"/>
                  <a:pt x="11161" y="16576"/>
                </a:cubicBezTo>
                <a:cubicBezTo>
                  <a:pt x="11125" y="16657"/>
                  <a:pt x="11089" y="16790"/>
                  <a:pt x="11125" y="16876"/>
                </a:cubicBezTo>
                <a:cubicBezTo>
                  <a:pt x="11129" y="16882"/>
                  <a:pt x="11133" y="16887"/>
                  <a:pt x="11137" y="16893"/>
                </a:cubicBezTo>
                <a:cubicBezTo>
                  <a:pt x="11174" y="16878"/>
                  <a:pt x="11192" y="16870"/>
                  <a:pt x="11219" y="16828"/>
                </a:cubicBezTo>
                <a:cubicBezTo>
                  <a:pt x="11258" y="16768"/>
                  <a:pt x="11283" y="16702"/>
                  <a:pt x="11318" y="16640"/>
                </a:cubicBezTo>
                <a:cubicBezTo>
                  <a:pt x="11327" y="16625"/>
                  <a:pt x="11329" y="16621"/>
                  <a:pt x="11339" y="16617"/>
                </a:cubicBezTo>
                <a:cubicBezTo>
                  <a:pt x="11348" y="16680"/>
                  <a:pt x="11338" y="16738"/>
                  <a:pt x="11333" y="16802"/>
                </a:cubicBezTo>
                <a:cubicBezTo>
                  <a:pt x="11326" y="16896"/>
                  <a:pt x="11317" y="16989"/>
                  <a:pt x="11307" y="17083"/>
                </a:cubicBezTo>
                <a:cubicBezTo>
                  <a:pt x="11302" y="17133"/>
                  <a:pt x="11296" y="17184"/>
                  <a:pt x="11296" y="17234"/>
                </a:cubicBezTo>
                <a:cubicBezTo>
                  <a:pt x="11296" y="17237"/>
                  <a:pt x="11297" y="17240"/>
                  <a:pt x="11297" y="17243"/>
                </a:cubicBezTo>
                <a:cubicBezTo>
                  <a:pt x="11315" y="17205"/>
                  <a:pt x="11324" y="17167"/>
                  <a:pt x="11337" y="17127"/>
                </a:cubicBezTo>
                <a:cubicBezTo>
                  <a:pt x="11360" y="17058"/>
                  <a:pt x="11390" y="16991"/>
                  <a:pt x="11414" y="16922"/>
                </a:cubicBezTo>
                <a:cubicBezTo>
                  <a:pt x="11431" y="16872"/>
                  <a:pt x="11444" y="16823"/>
                  <a:pt x="11481" y="16782"/>
                </a:cubicBezTo>
                <a:cubicBezTo>
                  <a:pt x="11486" y="16778"/>
                  <a:pt x="11491" y="16773"/>
                  <a:pt x="11496" y="16769"/>
                </a:cubicBezTo>
              </a:path>
              <a:path w="2472" h="854">
                <a:moveTo>
                  <a:pt x="11646" y="16779"/>
                </a:moveTo>
                <a:cubicBezTo>
                  <a:pt x="11661" y="16795"/>
                  <a:pt x="11648" y="16761"/>
                  <a:pt x="11649" y="16743"/>
                </a:cubicBezTo>
                <a:cubicBezTo>
                  <a:pt x="11652" y="16692"/>
                  <a:pt x="11666" y="16645"/>
                  <a:pt x="11681" y="16597"/>
                </a:cubicBezTo>
                <a:cubicBezTo>
                  <a:pt x="11700" y="16537"/>
                  <a:pt x="11719" y="16476"/>
                  <a:pt x="11753" y="16423"/>
                </a:cubicBezTo>
                <a:cubicBezTo>
                  <a:pt x="11768" y="16402"/>
                  <a:pt x="11771" y="16396"/>
                  <a:pt x="11786" y="16390"/>
                </a:cubicBezTo>
                <a:cubicBezTo>
                  <a:pt x="11817" y="16407"/>
                  <a:pt x="11815" y="16443"/>
                  <a:pt x="11820" y="16478"/>
                </a:cubicBezTo>
                <a:cubicBezTo>
                  <a:pt x="11830" y="16542"/>
                  <a:pt x="11838" y="16607"/>
                  <a:pt x="11847" y="16671"/>
                </a:cubicBezTo>
                <a:cubicBezTo>
                  <a:pt x="11851" y="16700"/>
                  <a:pt x="11852" y="16761"/>
                  <a:pt x="11874" y="16785"/>
                </a:cubicBezTo>
                <a:cubicBezTo>
                  <a:pt x="11878" y="16787"/>
                  <a:pt x="11882" y="16788"/>
                  <a:pt x="11886" y="16790"/>
                </a:cubicBezTo>
                <a:cubicBezTo>
                  <a:pt x="11892" y="16781"/>
                  <a:pt x="11907" y="16743"/>
                  <a:pt x="11917" y="16742"/>
                </a:cubicBezTo>
                <a:cubicBezTo>
                  <a:pt x="11946" y="16740"/>
                  <a:pt x="11931" y="16755"/>
                  <a:pt x="11925" y="16764"/>
                </a:cubicBezTo>
                <a:cubicBezTo>
                  <a:pt x="11922" y="16768"/>
                  <a:pt x="11918" y="16772"/>
                  <a:pt x="11915" y="16776"/>
                </a:cubicBezTo>
              </a:path>
              <a:path w="2472" h="854">
                <a:moveTo>
                  <a:pt x="12177" y="16656"/>
                </a:moveTo>
                <a:cubicBezTo>
                  <a:pt x="12187" y="16674"/>
                  <a:pt x="12202" y="16669"/>
                  <a:pt x="12223" y="16663"/>
                </a:cubicBezTo>
                <a:cubicBezTo>
                  <a:pt x="12266" y="16651"/>
                  <a:pt x="12310" y="16638"/>
                  <a:pt x="12352" y="16621"/>
                </a:cubicBezTo>
                <a:cubicBezTo>
                  <a:pt x="12394" y="16604"/>
                  <a:pt x="12435" y="16587"/>
                  <a:pt x="12478" y="16573"/>
                </a:cubicBezTo>
                <a:cubicBezTo>
                  <a:pt x="12497" y="16567"/>
                  <a:pt x="12501" y="16564"/>
                  <a:pt x="12518" y="16570"/>
                </a:cubicBezTo>
                <a:cubicBezTo>
                  <a:pt x="12514" y="16594"/>
                  <a:pt x="12509" y="16617"/>
                  <a:pt x="12503" y="16641"/>
                </a:cubicBezTo>
                <a:cubicBezTo>
                  <a:pt x="12487" y="16703"/>
                  <a:pt x="12472" y="16765"/>
                  <a:pt x="12463" y="16829"/>
                </a:cubicBezTo>
                <a:cubicBezTo>
                  <a:pt x="12462" y="16836"/>
                  <a:pt x="12454" y="16919"/>
                  <a:pt x="12473" y="16886"/>
                </a:cubicBezTo>
                <a:cubicBezTo>
                  <a:pt x="12474" y="16881"/>
                  <a:pt x="12476" y="16877"/>
                  <a:pt x="12477" y="16872"/>
                </a:cubicBezTo>
              </a:path>
              <a:path w="2472" h="854">
                <a:moveTo>
                  <a:pt x="12983" y="16597"/>
                </a:moveTo>
                <a:cubicBezTo>
                  <a:pt x="12959" y="16577"/>
                  <a:pt x="12950" y="16573"/>
                  <a:pt x="12921" y="16574"/>
                </a:cubicBezTo>
                <a:cubicBezTo>
                  <a:pt x="12885" y="16575"/>
                  <a:pt x="12863" y="16615"/>
                  <a:pt x="12849" y="16644"/>
                </a:cubicBezTo>
                <a:cubicBezTo>
                  <a:pt x="12831" y="16682"/>
                  <a:pt x="12817" y="16741"/>
                  <a:pt x="12847" y="16777"/>
                </a:cubicBezTo>
                <a:cubicBezTo>
                  <a:pt x="12869" y="16803"/>
                  <a:pt x="12902" y="16778"/>
                  <a:pt x="12920" y="16762"/>
                </a:cubicBezTo>
                <a:cubicBezTo>
                  <a:pt x="12954" y="16732"/>
                  <a:pt x="12972" y="16690"/>
                  <a:pt x="13003" y="16658"/>
                </a:cubicBezTo>
                <a:cubicBezTo>
                  <a:pt x="13007" y="16655"/>
                  <a:pt x="13011" y="16652"/>
                  <a:pt x="13015" y="16649"/>
                </a:cubicBezTo>
                <a:cubicBezTo>
                  <a:pt x="13037" y="16673"/>
                  <a:pt x="13040" y="16688"/>
                  <a:pt x="13046" y="16728"/>
                </a:cubicBezTo>
                <a:cubicBezTo>
                  <a:pt x="13059" y="16810"/>
                  <a:pt x="13062" y="16893"/>
                  <a:pt x="13064" y="16976"/>
                </a:cubicBezTo>
                <a:cubicBezTo>
                  <a:pt x="13066" y="17044"/>
                  <a:pt x="13068" y="17112"/>
                  <a:pt x="13067" y="17180"/>
                </a:cubicBezTo>
                <a:cubicBezTo>
                  <a:pt x="13067" y="17187"/>
                  <a:pt x="13066" y="17194"/>
                  <a:pt x="13066" y="17201"/>
                </a:cubicBezTo>
                <a:cubicBezTo>
                  <a:pt x="13077" y="17170"/>
                  <a:pt x="13085" y="17138"/>
                  <a:pt x="13095" y="17107"/>
                </a:cubicBezTo>
                <a:cubicBezTo>
                  <a:pt x="13112" y="17055"/>
                  <a:pt x="13136" y="17008"/>
                  <a:pt x="13158" y="16958"/>
                </a:cubicBezTo>
                <a:cubicBezTo>
                  <a:pt x="13187" y="16892"/>
                  <a:pt x="13223" y="16842"/>
                  <a:pt x="13271" y="16789"/>
                </a:cubicBezTo>
              </a:path>
              <a:path w="2472" h="854">
                <a:moveTo>
                  <a:pt x="13585" y="16757"/>
                </a:moveTo>
                <a:cubicBezTo>
                  <a:pt x="13582" y="16734"/>
                  <a:pt x="13581" y="16711"/>
                  <a:pt x="13581" y="16687"/>
                </a:cubicBezTo>
                <a:cubicBezTo>
                  <a:pt x="13581" y="16682"/>
                  <a:pt x="13581" y="16677"/>
                  <a:pt x="13581" y="1667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551560" y="4456080"/>
            <a:ext cx="41040" cy="31680"/>
          </a:xfrm>
          <a:custGeom>
            <a:avLst/>
            <a:gdLst/>
            <a:ahLst/>
            <a:rect l="l" t="t" r="r" b="b"/>
            <a:pathLst>
              <a:path w="112" h="87">
                <a:moveTo>
                  <a:pt x="15423" y="12465"/>
                </a:moveTo>
                <a:cubicBezTo>
                  <a:pt x="15423" y="12426"/>
                  <a:pt x="15421" y="12412"/>
                  <a:pt x="15454" y="12391"/>
                </a:cubicBezTo>
                <a:cubicBezTo>
                  <a:pt x="15482" y="12374"/>
                  <a:pt x="15502" y="12380"/>
                  <a:pt x="15533" y="1238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139920" y="4464000"/>
            <a:ext cx="676440" cy="309600"/>
          </a:xfrm>
          <a:custGeom>
            <a:avLst/>
            <a:gdLst/>
            <a:ahLst/>
            <a:rect l="l" t="t" r="r" b="b"/>
            <a:pathLst>
              <a:path w="1880" h="861">
                <a:moveTo>
                  <a:pt x="9055" y="12581"/>
                </a:moveTo>
                <a:cubicBezTo>
                  <a:pt x="9042" y="12552"/>
                  <a:pt x="9027" y="12518"/>
                  <a:pt x="8989" y="12514"/>
                </a:cubicBezTo>
                <a:cubicBezTo>
                  <a:pt x="8938" y="12509"/>
                  <a:pt x="8874" y="12563"/>
                  <a:pt x="8839" y="12593"/>
                </a:cubicBezTo>
                <a:cubicBezTo>
                  <a:pt x="8793" y="12633"/>
                  <a:pt x="8733" y="12694"/>
                  <a:pt x="8723" y="12757"/>
                </a:cubicBezTo>
                <a:cubicBezTo>
                  <a:pt x="8714" y="12814"/>
                  <a:pt x="8806" y="12813"/>
                  <a:pt x="8839" y="12818"/>
                </a:cubicBezTo>
                <a:cubicBezTo>
                  <a:pt x="8931" y="12832"/>
                  <a:pt x="9049" y="12834"/>
                  <a:pt x="9119" y="12905"/>
                </a:cubicBezTo>
                <a:cubicBezTo>
                  <a:pt x="9169" y="12955"/>
                  <a:pt x="9169" y="13030"/>
                  <a:pt x="9143" y="13091"/>
                </a:cubicBezTo>
                <a:cubicBezTo>
                  <a:pt x="9114" y="13158"/>
                  <a:pt x="9061" y="13201"/>
                  <a:pt x="9002" y="13240"/>
                </a:cubicBezTo>
                <a:cubicBezTo>
                  <a:pt x="8977" y="13256"/>
                  <a:pt x="8971" y="13263"/>
                  <a:pt x="8952" y="13254"/>
                </a:cubicBezTo>
                <a:cubicBezTo>
                  <a:pt x="8934" y="13209"/>
                  <a:pt x="8943" y="13197"/>
                  <a:pt x="8955" y="13146"/>
                </a:cubicBezTo>
              </a:path>
              <a:path w="1880" h="861">
                <a:moveTo>
                  <a:pt x="9327" y="12416"/>
                </a:moveTo>
                <a:cubicBezTo>
                  <a:pt x="9312" y="12493"/>
                  <a:pt x="9305" y="12570"/>
                  <a:pt x="9304" y="12649"/>
                </a:cubicBezTo>
                <a:cubicBezTo>
                  <a:pt x="9302" y="12766"/>
                  <a:pt x="9312" y="12882"/>
                  <a:pt x="9328" y="12997"/>
                </a:cubicBezTo>
                <a:cubicBezTo>
                  <a:pt x="9335" y="13047"/>
                  <a:pt x="9344" y="13098"/>
                  <a:pt x="9348" y="13149"/>
                </a:cubicBezTo>
              </a:path>
              <a:path w="1880" h="861">
                <a:moveTo>
                  <a:pt x="9239" y="12899"/>
                </a:moveTo>
                <a:cubicBezTo>
                  <a:pt x="9230" y="12854"/>
                  <a:pt x="9219" y="12818"/>
                  <a:pt x="9264" y="12788"/>
                </a:cubicBezTo>
                <a:cubicBezTo>
                  <a:pt x="9323" y="12749"/>
                  <a:pt x="9414" y="12728"/>
                  <a:pt x="9481" y="12712"/>
                </a:cubicBezTo>
                <a:cubicBezTo>
                  <a:pt x="9548" y="12700"/>
                  <a:pt x="9569" y="12697"/>
                  <a:pt x="9613" y="12687"/>
                </a:cubicBezTo>
              </a:path>
              <a:path w="1880" h="861">
                <a:moveTo>
                  <a:pt x="9749" y="12767"/>
                </a:moveTo>
                <a:cubicBezTo>
                  <a:pt x="9728" y="12803"/>
                  <a:pt x="9710" y="12841"/>
                  <a:pt x="9690" y="12876"/>
                </a:cubicBezTo>
                <a:cubicBezTo>
                  <a:pt x="9667" y="12916"/>
                  <a:pt x="9650" y="12955"/>
                  <a:pt x="9645" y="13002"/>
                </a:cubicBezTo>
                <a:cubicBezTo>
                  <a:pt x="9643" y="13025"/>
                  <a:pt x="9644" y="13033"/>
                  <a:pt x="9658" y="13046"/>
                </a:cubicBezTo>
                <a:cubicBezTo>
                  <a:pt x="9690" y="13025"/>
                  <a:pt x="9708" y="12997"/>
                  <a:pt x="9728" y="12964"/>
                </a:cubicBezTo>
                <a:cubicBezTo>
                  <a:pt x="9748" y="12930"/>
                  <a:pt x="9763" y="12885"/>
                  <a:pt x="9792" y="12857"/>
                </a:cubicBezTo>
                <a:cubicBezTo>
                  <a:pt x="9796" y="12855"/>
                  <a:pt x="9799" y="12853"/>
                  <a:pt x="9803" y="12851"/>
                </a:cubicBezTo>
                <a:cubicBezTo>
                  <a:pt x="9825" y="12884"/>
                  <a:pt x="9831" y="12916"/>
                  <a:pt x="9836" y="12956"/>
                </a:cubicBezTo>
                <a:cubicBezTo>
                  <a:pt x="9839" y="12980"/>
                  <a:pt x="9837" y="13030"/>
                  <a:pt x="9851" y="13050"/>
                </a:cubicBezTo>
                <a:cubicBezTo>
                  <a:pt x="9854" y="13052"/>
                  <a:pt x="9858" y="13054"/>
                  <a:pt x="9861" y="13056"/>
                </a:cubicBezTo>
              </a:path>
              <a:path w="1880" h="861">
                <a:moveTo>
                  <a:pt x="9878" y="13037"/>
                </a:moveTo>
                <a:cubicBezTo>
                  <a:pt x="9887" y="13025"/>
                  <a:pt x="9909" y="13013"/>
                  <a:pt x="9914" y="12998"/>
                </a:cubicBezTo>
                <a:cubicBezTo>
                  <a:pt x="9925" y="12968"/>
                  <a:pt x="9931" y="12934"/>
                  <a:pt x="9948" y="12906"/>
                </a:cubicBezTo>
                <a:cubicBezTo>
                  <a:pt x="9969" y="12871"/>
                  <a:pt x="9993" y="12841"/>
                  <a:pt x="10026" y="12818"/>
                </a:cubicBezTo>
                <a:cubicBezTo>
                  <a:pt x="10034" y="12813"/>
                  <a:pt x="10043" y="12807"/>
                  <a:pt x="10051" y="12802"/>
                </a:cubicBezTo>
              </a:path>
              <a:path w="1880" h="861">
                <a:moveTo>
                  <a:pt x="10256" y="12442"/>
                </a:moveTo>
                <a:cubicBezTo>
                  <a:pt x="10253" y="12418"/>
                  <a:pt x="10252" y="12413"/>
                  <a:pt x="10253" y="12398"/>
                </a:cubicBezTo>
                <a:cubicBezTo>
                  <a:pt x="10263" y="12447"/>
                  <a:pt x="10270" y="12498"/>
                  <a:pt x="10275" y="12548"/>
                </a:cubicBezTo>
                <a:cubicBezTo>
                  <a:pt x="10285" y="12641"/>
                  <a:pt x="10297" y="12735"/>
                  <a:pt x="10300" y="12828"/>
                </a:cubicBezTo>
                <a:cubicBezTo>
                  <a:pt x="10302" y="12896"/>
                  <a:pt x="10295" y="12961"/>
                  <a:pt x="10277" y="13026"/>
                </a:cubicBezTo>
              </a:path>
              <a:path w="1880" h="861">
                <a:moveTo>
                  <a:pt x="10024" y="12755"/>
                </a:moveTo>
                <a:cubicBezTo>
                  <a:pt x="10042" y="12726"/>
                  <a:pt x="10088" y="12704"/>
                  <a:pt x="10122" y="12694"/>
                </a:cubicBezTo>
                <a:cubicBezTo>
                  <a:pt x="10214" y="12668"/>
                  <a:pt x="10314" y="12649"/>
                  <a:pt x="10409" y="12636"/>
                </a:cubicBezTo>
                <a:cubicBezTo>
                  <a:pt x="10474" y="12627"/>
                  <a:pt x="10537" y="12625"/>
                  <a:pt x="10602" y="1262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091040" y="4432320"/>
            <a:ext cx="600120" cy="266760"/>
          </a:xfrm>
          <a:custGeom>
            <a:avLst/>
            <a:gdLst/>
            <a:ahLst/>
            <a:rect l="l" t="t" r="r" b="b"/>
            <a:pathLst>
              <a:path w="1667" h="741">
                <a:moveTo>
                  <a:pt x="11368" y="12792"/>
                </a:moveTo>
                <a:cubicBezTo>
                  <a:pt x="11353" y="12758"/>
                  <a:pt x="11367" y="12849"/>
                  <a:pt x="11367" y="12853"/>
                </a:cubicBezTo>
                <a:cubicBezTo>
                  <a:pt x="11368" y="12906"/>
                  <a:pt x="11375" y="12959"/>
                  <a:pt x="11393" y="13009"/>
                </a:cubicBezTo>
                <a:cubicBezTo>
                  <a:pt x="11405" y="13043"/>
                  <a:pt x="11424" y="13068"/>
                  <a:pt x="11458" y="13040"/>
                </a:cubicBezTo>
                <a:cubicBezTo>
                  <a:pt x="11498" y="13008"/>
                  <a:pt x="11521" y="12954"/>
                  <a:pt x="11547" y="12911"/>
                </a:cubicBezTo>
                <a:cubicBezTo>
                  <a:pt x="11566" y="12880"/>
                  <a:pt x="11581" y="12847"/>
                  <a:pt x="11615" y="12834"/>
                </a:cubicBezTo>
                <a:cubicBezTo>
                  <a:pt x="11632" y="12861"/>
                  <a:pt x="11634" y="12889"/>
                  <a:pt x="11638" y="12921"/>
                </a:cubicBezTo>
                <a:cubicBezTo>
                  <a:pt x="11642" y="12953"/>
                  <a:pt x="11645" y="12983"/>
                  <a:pt x="11658" y="13013"/>
                </a:cubicBezTo>
                <a:cubicBezTo>
                  <a:pt x="11684" y="12987"/>
                  <a:pt x="11704" y="12954"/>
                  <a:pt x="11720" y="12920"/>
                </a:cubicBezTo>
                <a:cubicBezTo>
                  <a:pt x="11742" y="12872"/>
                  <a:pt x="11758" y="12829"/>
                  <a:pt x="11798" y="12792"/>
                </a:cubicBezTo>
                <a:cubicBezTo>
                  <a:pt x="11806" y="12786"/>
                  <a:pt x="11813" y="12780"/>
                  <a:pt x="11821" y="12774"/>
                </a:cubicBezTo>
              </a:path>
              <a:path w="1667" h="741">
                <a:moveTo>
                  <a:pt x="11983" y="12798"/>
                </a:moveTo>
                <a:cubicBezTo>
                  <a:pt x="11988" y="12827"/>
                  <a:pt x="11993" y="12863"/>
                  <a:pt x="11990" y="12892"/>
                </a:cubicBezTo>
                <a:cubicBezTo>
                  <a:pt x="11987" y="12916"/>
                  <a:pt x="11972" y="12966"/>
                  <a:pt x="11984" y="12990"/>
                </a:cubicBezTo>
                <a:cubicBezTo>
                  <a:pt x="11998" y="13018"/>
                  <a:pt x="12007" y="12976"/>
                  <a:pt x="12009" y="12970"/>
                </a:cubicBezTo>
              </a:path>
              <a:path w="1667" h="741">
                <a:moveTo>
                  <a:pt x="12038" y="12589"/>
                </a:moveTo>
                <a:cubicBezTo>
                  <a:pt x="12035" y="12573"/>
                  <a:pt x="12017" y="12531"/>
                  <a:pt x="12032" y="12516"/>
                </a:cubicBezTo>
                <a:cubicBezTo>
                  <a:pt x="12048" y="12509"/>
                  <a:pt x="12054" y="12505"/>
                  <a:pt x="12060" y="12494"/>
                </a:cubicBezTo>
              </a:path>
              <a:path w="1667" h="741">
                <a:moveTo>
                  <a:pt x="12288" y="12312"/>
                </a:moveTo>
                <a:cubicBezTo>
                  <a:pt x="12288" y="12385"/>
                  <a:pt x="12280" y="12458"/>
                  <a:pt x="12282" y="12531"/>
                </a:cubicBezTo>
                <a:cubicBezTo>
                  <a:pt x="12285" y="12638"/>
                  <a:pt x="12289" y="12746"/>
                  <a:pt x="12293" y="12853"/>
                </a:cubicBezTo>
                <a:cubicBezTo>
                  <a:pt x="12296" y="12906"/>
                  <a:pt x="12297" y="12919"/>
                  <a:pt x="12297" y="12952"/>
                </a:cubicBezTo>
              </a:path>
              <a:path w="1667" h="741">
                <a:moveTo>
                  <a:pt x="12196" y="12700"/>
                </a:moveTo>
                <a:cubicBezTo>
                  <a:pt x="12199" y="12678"/>
                  <a:pt x="12212" y="12660"/>
                  <a:pt x="12238" y="12655"/>
                </a:cubicBezTo>
                <a:cubicBezTo>
                  <a:pt x="12285" y="12646"/>
                  <a:pt x="12345" y="12649"/>
                  <a:pt x="12392" y="12650"/>
                </a:cubicBezTo>
                <a:cubicBezTo>
                  <a:pt x="12429" y="12651"/>
                  <a:pt x="12465" y="12655"/>
                  <a:pt x="12502" y="12659"/>
                </a:cubicBezTo>
              </a:path>
              <a:path w="1667" h="741">
                <a:moveTo>
                  <a:pt x="12633" y="12333"/>
                </a:moveTo>
                <a:cubicBezTo>
                  <a:pt x="12644" y="12347"/>
                  <a:pt x="12675" y="12413"/>
                  <a:pt x="12683" y="12471"/>
                </a:cubicBezTo>
                <a:cubicBezTo>
                  <a:pt x="12700" y="12591"/>
                  <a:pt x="12705" y="12713"/>
                  <a:pt x="12714" y="12834"/>
                </a:cubicBezTo>
                <a:cubicBezTo>
                  <a:pt x="12718" y="12885"/>
                  <a:pt x="12721" y="12937"/>
                  <a:pt x="12727" y="12988"/>
                </a:cubicBezTo>
                <a:cubicBezTo>
                  <a:pt x="12758" y="12941"/>
                  <a:pt x="12769" y="12884"/>
                  <a:pt x="12790" y="12830"/>
                </a:cubicBezTo>
                <a:cubicBezTo>
                  <a:pt x="12803" y="12797"/>
                  <a:pt x="12823" y="12714"/>
                  <a:pt x="12867" y="12705"/>
                </a:cubicBezTo>
                <a:cubicBezTo>
                  <a:pt x="12873" y="12707"/>
                  <a:pt x="12879" y="12708"/>
                  <a:pt x="12885" y="12710"/>
                </a:cubicBezTo>
                <a:cubicBezTo>
                  <a:pt x="12921" y="12758"/>
                  <a:pt x="12948" y="12812"/>
                  <a:pt x="12985" y="12859"/>
                </a:cubicBezTo>
                <a:cubicBezTo>
                  <a:pt x="13006" y="12883"/>
                  <a:pt x="13012" y="12890"/>
                  <a:pt x="13028" y="1290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898880" y="4518000"/>
            <a:ext cx="393840" cy="293760"/>
          </a:xfrm>
          <a:custGeom>
            <a:avLst/>
            <a:gdLst/>
            <a:ahLst/>
            <a:rect l="l" t="t" r="r" b="b"/>
            <a:pathLst>
              <a:path w="1094" h="816">
                <a:moveTo>
                  <a:pt x="13638" y="12620"/>
                </a:moveTo>
                <a:cubicBezTo>
                  <a:pt x="13622" y="12626"/>
                  <a:pt x="13619" y="12628"/>
                  <a:pt x="13608" y="12641"/>
                </a:cubicBezTo>
                <a:cubicBezTo>
                  <a:pt x="13650" y="12644"/>
                  <a:pt x="13691" y="12627"/>
                  <a:pt x="13732" y="12614"/>
                </a:cubicBezTo>
                <a:cubicBezTo>
                  <a:pt x="13798" y="12593"/>
                  <a:pt x="13864" y="12572"/>
                  <a:pt x="13932" y="12558"/>
                </a:cubicBezTo>
                <a:cubicBezTo>
                  <a:pt x="13967" y="12551"/>
                  <a:pt x="14011" y="12544"/>
                  <a:pt x="14028" y="12584"/>
                </a:cubicBezTo>
                <a:cubicBezTo>
                  <a:pt x="14040" y="12612"/>
                  <a:pt x="14024" y="12657"/>
                  <a:pt x="14017" y="12685"/>
                </a:cubicBezTo>
                <a:cubicBezTo>
                  <a:pt x="14007" y="12723"/>
                  <a:pt x="13996" y="12759"/>
                  <a:pt x="13989" y="12798"/>
                </a:cubicBezTo>
                <a:cubicBezTo>
                  <a:pt x="13985" y="12821"/>
                  <a:pt x="13964" y="12879"/>
                  <a:pt x="13994" y="12845"/>
                </a:cubicBezTo>
              </a:path>
              <a:path w="1094" h="816">
                <a:moveTo>
                  <a:pt x="14373" y="12692"/>
                </a:moveTo>
                <a:cubicBezTo>
                  <a:pt x="14362" y="12667"/>
                  <a:pt x="14352" y="12656"/>
                  <a:pt x="14335" y="12638"/>
                </a:cubicBezTo>
                <a:cubicBezTo>
                  <a:pt x="14331" y="12667"/>
                  <a:pt x="14329" y="12695"/>
                  <a:pt x="14329" y="12724"/>
                </a:cubicBezTo>
                <a:cubicBezTo>
                  <a:pt x="14329" y="12767"/>
                  <a:pt x="14321" y="12840"/>
                  <a:pt x="14350" y="12876"/>
                </a:cubicBezTo>
                <a:cubicBezTo>
                  <a:pt x="14354" y="12878"/>
                  <a:pt x="14357" y="12880"/>
                  <a:pt x="14361" y="12882"/>
                </a:cubicBezTo>
                <a:cubicBezTo>
                  <a:pt x="14386" y="12858"/>
                  <a:pt x="14403" y="12835"/>
                  <a:pt x="14422" y="12804"/>
                </a:cubicBezTo>
                <a:cubicBezTo>
                  <a:pt x="14441" y="12773"/>
                  <a:pt x="14459" y="12749"/>
                  <a:pt x="14483" y="12724"/>
                </a:cubicBezTo>
                <a:cubicBezTo>
                  <a:pt x="14513" y="12769"/>
                  <a:pt x="14509" y="12824"/>
                  <a:pt x="14512" y="12878"/>
                </a:cubicBezTo>
                <a:cubicBezTo>
                  <a:pt x="14518" y="13007"/>
                  <a:pt x="14516" y="13138"/>
                  <a:pt x="14508" y="13267"/>
                </a:cubicBezTo>
                <a:cubicBezTo>
                  <a:pt x="14506" y="13301"/>
                  <a:pt x="14502" y="13334"/>
                  <a:pt x="14498" y="13367"/>
                </a:cubicBezTo>
                <a:cubicBezTo>
                  <a:pt x="14495" y="13317"/>
                  <a:pt x="14504" y="13263"/>
                  <a:pt x="14518" y="13215"/>
                </a:cubicBezTo>
                <a:cubicBezTo>
                  <a:pt x="14544" y="13126"/>
                  <a:pt x="14573" y="13040"/>
                  <a:pt x="14626" y="12963"/>
                </a:cubicBezTo>
                <a:cubicBezTo>
                  <a:pt x="14662" y="12917"/>
                  <a:pt x="14673" y="12902"/>
                  <a:pt x="14701" y="1287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533920" y="4538520"/>
            <a:ext cx="157320" cy="119160"/>
          </a:xfrm>
          <a:custGeom>
            <a:avLst/>
            <a:gdLst/>
            <a:ahLst/>
            <a:rect l="l" t="t" r="r" b="b"/>
            <a:pathLst>
              <a:path w="438" h="329">
                <a:moveTo>
                  <a:pt x="15396" y="12608"/>
                </a:moveTo>
                <a:cubicBezTo>
                  <a:pt x="15378" y="12626"/>
                  <a:pt x="15367" y="12649"/>
                  <a:pt x="15372" y="12677"/>
                </a:cubicBezTo>
                <a:cubicBezTo>
                  <a:pt x="15379" y="12717"/>
                  <a:pt x="15395" y="12757"/>
                  <a:pt x="15407" y="12796"/>
                </a:cubicBezTo>
                <a:cubicBezTo>
                  <a:pt x="15414" y="12819"/>
                  <a:pt x="15413" y="12821"/>
                  <a:pt x="15431" y="12832"/>
                </a:cubicBezTo>
              </a:path>
              <a:path w="438" h="329">
                <a:moveTo>
                  <a:pt x="15658" y="12644"/>
                </a:moveTo>
                <a:cubicBezTo>
                  <a:pt x="15652" y="12662"/>
                  <a:pt x="15645" y="12677"/>
                  <a:pt x="15640" y="12694"/>
                </a:cubicBezTo>
                <a:cubicBezTo>
                  <a:pt x="15668" y="12694"/>
                  <a:pt x="15694" y="12695"/>
                  <a:pt x="15720" y="12705"/>
                </a:cubicBezTo>
                <a:cubicBezTo>
                  <a:pt x="15759" y="12720"/>
                  <a:pt x="15792" y="12749"/>
                  <a:pt x="15804" y="12790"/>
                </a:cubicBezTo>
                <a:cubicBezTo>
                  <a:pt x="15817" y="12835"/>
                  <a:pt x="15800" y="12881"/>
                  <a:pt x="15764" y="12910"/>
                </a:cubicBezTo>
                <a:cubicBezTo>
                  <a:pt x="15729" y="12938"/>
                  <a:pt x="15685" y="12942"/>
                  <a:pt x="15644" y="12925"/>
                </a:cubicBezTo>
                <a:cubicBezTo>
                  <a:pt x="15616" y="12913"/>
                  <a:pt x="15609" y="12898"/>
                  <a:pt x="15597" y="1287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952960" y="4459320"/>
            <a:ext cx="498600" cy="200160"/>
          </a:xfrm>
          <a:custGeom>
            <a:avLst/>
            <a:gdLst/>
            <a:ahLst/>
            <a:rect l="l" t="t" r="r" b="b"/>
            <a:pathLst>
              <a:path w="1385" h="556">
                <a:moveTo>
                  <a:pt x="16620" y="12413"/>
                </a:moveTo>
                <a:cubicBezTo>
                  <a:pt x="16603" y="12392"/>
                  <a:pt x="16607" y="12386"/>
                  <a:pt x="16586" y="12396"/>
                </a:cubicBezTo>
                <a:cubicBezTo>
                  <a:pt x="16563" y="12450"/>
                  <a:pt x="16572" y="12510"/>
                  <a:pt x="16579" y="12570"/>
                </a:cubicBezTo>
                <a:cubicBezTo>
                  <a:pt x="16590" y="12665"/>
                  <a:pt x="16601" y="12768"/>
                  <a:pt x="16631" y="12859"/>
                </a:cubicBezTo>
                <a:cubicBezTo>
                  <a:pt x="16641" y="12891"/>
                  <a:pt x="16657" y="12916"/>
                  <a:pt x="16677" y="12942"/>
                </a:cubicBezTo>
              </a:path>
              <a:path w="1385" h="556">
                <a:moveTo>
                  <a:pt x="16538" y="12639"/>
                </a:moveTo>
                <a:cubicBezTo>
                  <a:pt x="16574" y="12619"/>
                  <a:pt x="16612" y="12609"/>
                  <a:pt x="16651" y="12596"/>
                </a:cubicBezTo>
                <a:cubicBezTo>
                  <a:pt x="16708" y="12577"/>
                  <a:pt x="16763" y="12558"/>
                  <a:pt x="16822" y="12549"/>
                </a:cubicBezTo>
                <a:cubicBezTo>
                  <a:pt x="16865" y="12542"/>
                  <a:pt x="16887" y="12557"/>
                  <a:pt x="16895" y="12601"/>
                </a:cubicBezTo>
                <a:cubicBezTo>
                  <a:pt x="16905" y="12656"/>
                  <a:pt x="16893" y="12716"/>
                  <a:pt x="16893" y="12771"/>
                </a:cubicBezTo>
                <a:cubicBezTo>
                  <a:pt x="16893" y="12820"/>
                  <a:pt x="16890" y="12870"/>
                  <a:pt x="16893" y="12919"/>
                </a:cubicBezTo>
                <a:cubicBezTo>
                  <a:pt x="16894" y="12924"/>
                  <a:pt x="16895" y="12930"/>
                  <a:pt x="16896" y="12935"/>
                </a:cubicBezTo>
                <a:cubicBezTo>
                  <a:pt x="16910" y="12890"/>
                  <a:pt x="16918" y="12845"/>
                  <a:pt x="16929" y="12799"/>
                </a:cubicBezTo>
                <a:cubicBezTo>
                  <a:pt x="16942" y="12742"/>
                  <a:pt x="16955" y="12675"/>
                  <a:pt x="16987" y="12625"/>
                </a:cubicBezTo>
                <a:cubicBezTo>
                  <a:pt x="17001" y="12603"/>
                  <a:pt x="17027" y="12576"/>
                  <a:pt x="17055" y="12582"/>
                </a:cubicBezTo>
                <a:cubicBezTo>
                  <a:pt x="17059" y="12584"/>
                  <a:pt x="17064" y="12586"/>
                  <a:pt x="17068" y="12588"/>
                </a:cubicBezTo>
              </a:path>
              <a:path w="1385" h="556">
                <a:moveTo>
                  <a:pt x="17216" y="12591"/>
                </a:moveTo>
                <a:cubicBezTo>
                  <a:pt x="17239" y="12594"/>
                  <a:pt x="17222" y="12622"/>
                  <a:pt x="17222" y="12644"/>
                </a:cubicBezTo>
                <a:cubicBezTo>
                  <a:pt x="17222" y="12692"/>
                  <a:pt x="17221" y="12742"/>
                  <a:pt x="17226" y="12790"/>
                </a:cubicBezTo>
                <a:cubicBezTo>
                  <a:pt x="17228" y="12807"/>
                  <a:pt x="17232" y="12864"/>
                  <a:pt x="17262" y="12858"/>
                </a:cubicBezTo>
                <a:cubicBezTo>
                  <a:pt x="17297" y="12851"/>
                  <a:pt x="17324" y="12796"/>
                  <a:pt x="17342" y="12770"/>
                </a:cubicBezTo>
                <a:cubicBezTo>
                  <a:pt x="17366" y="12735"/>
                  <a:pt x="17389" y="12687"/>
                  <a:pt x="17422" y="12658"/>
                </a:cubicBezTo>
                <a:cubicBezTo>
                  <a:pt x="17427" y="12655"/>
                  <a:pt x="17432" y="12653"/>
                  <a:pt x="17437" y="12650"/>
                </a:cubicBezTo>
                <a:cubicBezTo>
                  <a:pt x="17465" y="12664"/>
                  <a:pt x="17464" y="12692"/>
                  <a:pt x="17470" y="12722"/>
                </a:cubicBezTo>
                <a:cubicBezTo>
                  <a:pt x="17478" y="12766"/>
                  <a:pt x="17481" y="12816"/>
                  <a:pt x="17501" y="12857"/>
                </a:cubicBezTo>
                <a:cubicBezTo>
                  <a:pt x="17512" y="12879"/>
                  <a:pt x="17524" y="12872"/>
                  <a:pt x="17542" y="12868"/>
                </a:cubicBezTo>
              </a:path>
              <a:path w="1385" h="556">
                <a:moveTo>
                  <a:pt x="17636" y="12720"/>
                </a:moveTo>
                <a:cubicBezTo>
                  <a:pt x="17671" y="12692"/>
                  <a:pt x="17713" y="12675"/>
                  <a:pt x="17750" y="12651"/>
                </a:cubicBezTo>
                <a:cubicBezTo>
                  <a:pt x="17791" y="12624"/>
                  <a:pt x="17836" y="12599"/>
                  <a:pt x="17870" y="12563"/>
                </a:cubicBezTo>
                <a:cubicBezTo>
                  <a:pt x="17873" y="12558"/>
                  <a:pt x="17877" y="12553"/>
                  <a:pt x="17880" y="12548"/>
                </a:cubicBezTo>
                <a:cubicBezTo>
                  <a:pt x="17835" y="12578"/>
                  <a:pt x="17798" y="12615"/>
                  <a:pt x="17769" y="12661"/>
                </a:cubicBezTo>
                <a:cubicBezTo>
                  <a:pt x="17738" y="12710"/>
                  <a:pt x="17728" y="12752"/>
                  <a:pt x="17735" y="12807"/>
                </a:cubicBezTo>
                <a:cubicBezTo>
                  <a:pt x="17781" y="12823"/>
                  <a:pt x="17825" y="12804"/>
                  <a:pt x="17870" y="12782"/>
                </a:cubicBezTo>
                <a:cubicBezTo>
                  <a:pt x="17887" y="12772"/>
                  <a:pt x="17905" y="12763"/>
                  <a:pt x="17922" y="1275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937200" y="4511520"/>
            <a:ext cx="162000" cy="325440"/>
          </a:xfrm>
          <a:custGeom>
            <a:avLst/>
            <a:gdLst/>
            <a:ahLst/>
            <a:rect l="l" t="t" r="r" b="b"/>
            <a:pathLst>
              <a:path w="451" h="904">
                <a:moveTo>
                  <a:pt x="19488" y="12554"/>
                </a:moveTo>
                <a:cubicBezTo>
                  <a:pt x="19450" y="12535"/>
                  <a:pt x="19454" y="12527"/>
                  <a:pt x="19413" y="12565"/>
                </a:cubicBezTo>
                <a:cubicBezTo>
                  <a:pt x="19355" y="12619"/>
                  <a:pt x="19321" y="12691"/>
                  <a:pt x="19297" y="12765"/>
                </a:cubicBezTo>
                <a:cubicBezTo>
                  <a:pt x="19276" y="12831"/>
                  <a:pt x="19251" y="12929"/>
                  <a:pt x="19282" y="12996"/>
                </a:cubicBezTo>
                <a:cubicBezTo>
                  <a:pt x="19307" y="13050"/>
                  <a:pt x="19366" y="13039"/>
                  <a:pt x="19406" y="13012"/>
                </a:cubicBezTo>
                <a:cubicBezTo>
                  <a:pt x="19470" y="12969"/>
                  <a:pt x="19511" y="12893"/>
                  <a:pt x="19552" y="12830"/>
                </a:cubicBezTo>
                <a:cubicBezTo>
                  <a:pt x="19547" y="12893"/>
                  <a:pt x="19527" y="12953"/>
                  <a:pt x="19512" y="13015"/>
                </a:cubicBezTo>
                <a:cubicBezTo>
                  <a:pt x="19487" y="13116"/>
                  <a:pt x="19464" y="13217"/>
                  <a:pt x="19445" y="13319"/>
                </a:cubicBezTo>
                <a:cubicBezTo>
                  <a:pt x="19438" y="13358"/>
                  <a:pt x="19432" y="13397"/>
                  <a:pt x="19427" y="13436"/>
                </a:cubicBezTo>
                <a:cubicBezTo>
                  <a:pt x="19446" y="13406"/>
                  <a:pt x="19465" y="13366"/>
                  <a:pt x="19481" y="13329"/>
                </a:cubicBezTo>
                <a:cubicBezTo>
                  <a:pt x="19521" y="13239"/>
                  <a:pt x="19567" y="13152"/>
                  <a:pt x="19618" y="13068"/>
                </a:cubicBezTo>
                <a:cubicBezTo>
                  <a:pt x="19646" y="13022"/>
                  <a:pt x="19679" y="12987"/>
                  <a:pt x="19721" y="1295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7248600" y="4487760"/>
            <a:ext cx="129960" cy="168480"/>
          </a:xfrm>
          <a:custGeom>
            <a:avLst/>
            <a:gdLst/>
            <a:ahLst/>
            <a:rect l="l" t="t" r="r" b="b"/>
            <a:pathLst>
              <a:path w="360" h="467">
                <a:moveTo>
                  <a:pt x="20135" y="12689"/>
                </a:moveTo>
                <a:cubicBezTo>
                  <a:pt x="20148" y="12677"/>
                  <a:pt x="20153" y="12673"/>
                  <a:pt x="20165" y="12669"/>
                </a:cubicBezTo>
                <a:cubicBezTo>
                  <a:pt x="20181" y="12695"/>
                  <a:pt x="20181" y="12723"/>
                  <a:pt x="20184" y="12754"/>
                </a:cubicBezTo>
                <a:cubicBezTo>
                  <a:pt x="20190" y="12806"/>
                  <a:pt x="20203" y="12959"/>
                  <a:pt x="20186" y="12910"/>
                </a:cubicBezTo>
                <a:cubicBezTo>
                  <a:pt x="20186" y="12901"/>
                  <a:pt x="20185" y="12891"/>
                  <a:pt x="20185" y="12882"/>
                </a:cubicBezTo>
              </a:path>
              <a:path w="360" h="467">
                <a:moveTo>
                  <a:pt x="20176" y="12543"/>
                </a:moveTo>
                <a:cubicBezTo>
                  <a:pt x="20174" y="12515"/>
                  <a:pt x="20164" y="12491"/>
                  <a:pt x="20192" y="12473"/>
                </a:cubicBezTo>
                <a:cubicBezTo>
                  <a:pt x="20217" y="12458"/>
                  <a:pt x="20257" y="12467"/>
                  <a:pt x="20284" y="12468"/>
                </a:cubicBezTo>
              </a:path>
              <a:path w="360" h="467">
                <a:moveTo>
                  <a:pt x="20421" y="12555"/>
                </a:moveTo>
                <a:cubicBezTo>
                  <a:pt x="20416" y="12588"/>
                  <a:pt x="20403" y="12621"/>
                  <a:pt x="20382" y="12648"/>
                </a:cubicBezTo>
                <a:cubicBezTo>
                  <a:pt x="20361" y="12675"/>
                  <a:pt x="20338" y="12699"/>
                  <a:pt x="20321" y="12729"/>
                </a:cubicBezTo>
                <a:cubicBezTo>
                  <a:pt x="20307" y="12754"/>
                  <a:pt x="20316" y="12762"/>
                  <a:pt x="20339" y="12774"/>
                </a:cubicBezTo>
                <a:cubicBezTo>
                  <a:pt x="20372" y="12792"/>
                  <a:pt x="20406" y="12808"/>
                  <a:pt x="20438" y="12827"/>
                </a:cubicBezTo>
                <a:cubicBezTo>
                  <a:pt x="20462" y="12841"/>
                  <a:pt x="20495" y="12861"/>
                  <a:pt x="20494" y="12894"/>
                </a:cubicBezTo>
                <a:cubicBezTo>
                  <a:pt x="20493" y="12924"/>
                  <a:pt x="20457" y="12930"/>
                  <a:pt x="20435" y="12931"/>
                </a:cubicBezTo>
                <a:cubicBezTo>
                  <a:pt x="20404" y="12932"/>
                  <a:pt x="20375" y="12921"/>
                  <a:pt x="20346" y="1291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574040" y="4381560"/>
            <a:ext cx="684000" cy="328680"/>
          </a:xfrm>
          <a:custGeom>
            <a:avLst/>
            <a:gdLst/>
            <a:ahLst/>
            <a:rect l="l" t="t" r="r" b="b"/>
            <a:pathLst>
              <a:path w="1900" h="912">
                <a:moveTo>
                  <a:pt x="21093" y="12929"/>
                </a:moveTo>
                <a:cubicBezTo>
                  <a:pt x="21091" y="12933"/>
                  <a:pt x="21090" y="12938"/>
                  <a:pt x="21088" y="12942"/>
                </a:cubicBezTo>
                <a:cubicBezTo>
                  <a:pt x="21060" y="12926"/>
                  <a:pt x="21055" y="12920"/>
                  <a:pt x="21046" y="12875"/>
                </a:cubicBezTo>
                <a:cubicBezTo>
                  <a:pt x="21033" y="12809"/>
                  <a:pt x="21040" y="12740"/>
                  <a:pt x="21048" y="12673"/>
                </a:cubicBezTo>
                <a:cubicBezTo>
                  <a:pt x="21060" y="12574"/>
                  <a:pt x="21086" y="12479"/>
                  <a:pt x="21112" y="12383"/>
                </a:cubicBezTo>
                <a:cubicBezTo>
                  <a:pt x="21130" y="12317"/>
                  <a:pt x="21146" y="12246"/>
                  <a:pt x="21184" y="12188"/>
                </a:cubicBezTo>
                <a:cubicBezTo>
                  <a:pt x="21189" y="12183"/>
                  <a:pt x="21193" y="12177"/>
                  <a:pt x="21198" y="12172"/>
                </a:cubicBezTo>
                <a:cubicBezTo>
                  <a:pt x="21232" y="12191"/>
                  <a:pt x="21250" y="12208"/>
                  <a:pt x="21279" y="12240"/>
                </a:cubicBezTo>
                <a:cubicBezTo>
                  <a:pt x="21318" y="12284"/>
                  <a:pt x="21359" y="12327"/>
                  <a:pt x="21397" y="12371"/>
                </a:cubicBezTo>
                <a:cubicBezTo>
                  <a:pt x="21418" y="12396"/>
                  <a:pt x="21428" y="12415"/>
                  <a:pt x="21401" y="12437"/>
                </a:cubicBezTo>
                <a:cubicBezTo>
                  <a:pt x="21393" y="12441"/>
                  <a:pt x="21386" y="12444"/>
                  <a:pt x="21378" y="12448"/>
                </a:cubicBezTo>
              </a:path>
              <a:path w="1900" h="912">
                <a:moveTo>
                  <a:pt x="21136" y="12548"/>
                </a:moveTo>
                <a:cubicBezTo>
                  <a:pt x="21114" y="12568"/>
                  <a:pt x="21098" y="12582"/>
                  <a:pt x="21082" y="12606"/>
                </a:cubicBezTo>
                <a:cubicBezTo>
                  <a:pt x="21098" y="12637"/>
                  <a:pt x="21130" y="12635"/>
                  <a:pt x="21165" y="12641"/>
                </a:cubicBezTo>
                <a:cubicBezTo>
                  <a:pt x="21228" y="12652"/>
                  <a:pt x="21289" y="12653"/>
                  <a:pt x="21352" y="12660"/>
                </a:cubicBezTo>
                <a:cubicBezTo>
                  <a:pt x="21392" y="12665"/>
                  <a:pt x="21433" y="12671"/>
                  <a:pt x="21473" y="12677"/>
                </a:cubicBezTo>
              </a:path>
              <a:path w="1900" h="912">
                <a:moveTo>
                  <a:pt x="21546" y="12691"/>
                </a:moveTo>
                <a:cubicBezTo>
                  <a:pt x="21516" y="12709"/>
                  <a:pt x="21477" y="12724"/>
                  <a:pt x="21450" y="12745"/>
                </a:cubicBezTo>
                <a:cubicBezTo>
                  <a:pt x="21414" y="12773"/>
                  <a:pt x="21374" y="12809"/>
                  <a:pt x="21348" y="12847"/>
                </a:cubicBezTo>
                <a:cubicBezTo>
                  <a:pt x="21339" y="12865"/>
                  <a:pt x="21335" y="12868"/>
                  <a:pt x="21337" y="12880"/>
                </a:cubicBezTo>
                <a:cubicBezTo>
                  <a:pt x="21372" y="12875"/>
                  <a:pt x="21398" y="12852"/>
                  <a:pt x="21425" y="12829"/>
                </a:cubicBezTo>
                <a:cubicBezTo>
                  <a:pt x="21460" y="12800"/>
                  <a:pt x="21490" y="12760"/>
                  <a:pt x="21527" y="12734"/>
                </a:cubicBezTo>
                <a:cubicBezTo>
                  <a:pt x="21541" y="12728"/>
                  <a:pt x="21545" y="12725"/>
                  <a:pt x="21555" y="12730"/>
                </a:cubicBezTo>
                <a:cubicBezTo>
                  <a:pt x="21569" y="12761"/>
                  <a:pt x="21574" y="12793"/>
                  <a:pt x="21576" y="12827"/>
                </a:cubicBezTo>
                <a:cubicBezTo>
                  <a:pt x="21577" y="12853"/>
                  <a:pt x="21571" y="12883"/>
                  <a:pt x="21600" y="12875"/>
                </a:cubicBezTo>
              </a:path>
              <a:path w="1900" h="912">
                <a:moveTo>
                  <a:pt x="21790" y="12277"/>
                </a:moveTo>
                <a:cubicBezTo>
                  <a:pt x="21791" y="12350"/>
                  <a:pt x="21784" y="12423"/>
                  <a:pt x="21782" y="12496"/>
                </a:cubicBezTo>
                <a:cubicBezTo>
                  <a:pt x="21779" y="12600"/>
                  <a:pt x="21780" y="12705"/>
                  <a:pt x="21785" y="12809"/>
                </a:cubicBezTo>
                <a:cubicBezTo>
                  <a:pt x="21788" y="12867"/>
                  <a:pt x="21792" y="12911"/>
                  <a:pt x="21807" y="12966"/>
                </a:cubicBezTo>
              </a:path>
              <a:path w="1900" h="912">
                <a:moveTo>
                  <a:pt x="22145" y="12759"/>
                </a:moveTo>
                <a:cubicBezTo>
                  <a:pt x="22145" y="12732"/>
                  <a:pt x="22150" y="12708"/>
                  <a:pt x="22119" y="12702"/>
                </a:cubicBezTo>
                <a:cubicBezTo>
                  <a:pt x="22088" y="12696"/>
                  <a:pt x="22066" y="12717"/>
                  <a:pt x="22050" y="12743"/>
                </a:cubicBezTo>
                <a:cubicBezTo>
                  <a:pt x="22029" y="12777"/>
                  <a:pt x="22031" y="12807"/>
                  <a:pt x="22051" y="12840"/>
                </a:cubicBezTo>
                <a:cubicBezTo>
                  <a:pt x="22080" y="12889"/>
                  <a:pt x="22137" y="12916"/>
                  <a:pt x="22164" y="12964"/>
                </a:cubicBezTo>
                <a:cubicBezTo>
                  <a:pt x="22176" y="12985"/>
                  <a:pt x="22168" y="13000"/>
                  <a:pt x="22147" y="13008"/>
                </a:cubicBezTo>
                <a:cubicBezTo>
                  <a:pt x="22123" y="13017"/>
                  <a:pt x="22087" y="12999"/>
                  <a:pt x="22073" y="12978"/>
                </a:cubicBezTo>
                <a:cubicBezTo>
                  <a:pt x="22063" y="12955"/>
                  <a:pt x="22059" y="12946"/>
                  <a:pt x="22057" y="12929"/>
                </a:cubicBezTo>
              </a:path>
              <a:path w="1900" h="912">
                <a:moveTo>
                  <a:pt x="22384" y="12927"/>
                </a:moveTo>
                <a:cubicBezTo>
                  <a:pt x="22405" y="12913"/>
                  <a:pt x="22435" y="12889"/>
                  <a:pt x="22452" y="12871"/>
                </a:cubicBezTo>
                <a:cubicBezTo>
                  <a:pt x="22482" y="12839"/>
                  <a:pt x="22518" y="12803"/>
                  <a:pt x="22534" y="12760"/>
                </a:cubicBezTo>
                <a:cubicBezTo>
                  <a:pt x="22541" y="12742"/>
                  <a:pt x="22551" y="12690"/>
                  <a:pt x="22516" y="12692"/>
                </a:cubicBezTo>
                <a:cubicBezTo>
                  <a:pt x="22479" y="12694"/>
                  <a:pt x="22453" y="12739"/>
                  <a:pt x="22446" y="12771"/>
                </a:cubicBezTo>
                <a:cubicBezTo>
                  <a:pt x="22435" y="12824"/>
                  <a:pt x="22454" y="12881"/>
                  <a:pt x="22484" y="12924"/>
                </a:cubicBezTo>
                <a:cubicBezTo>
                  <a:pt x="22517" y="12971"/>
                  <a:pt x="22565" y="13005"/>
                  <a:pt x="22618" y="13025"/>
                </a:cubicBezTo>
                <a:cubicBezTo>
                  <a:pt x="22652" y="13038"/>
                  <a:pt x="22684" y="13039"/>
                  <a:pt x="22720" y="13040"/>
                </a:cubicBezTo>
              </a:path>
              <a:path w="1900" h="912">
                <a:moveTo>
                  <a:pt x="22937" y="13072"/>
                </a:moveTo>
                <a:cubicBezTo>
                  <a:pt x="22908" y="13089"/>
                  <a:pt x="22915" y="13078"/>
                  <a:pt x="22907" y="13056"/>
                </a:cubicBezTo>
                <a:cubicBezTo>
                  <a:pt x="22900" y="13047"/>
                  <a:pt x="22898" y="13044"/>
                  <a:pt x="22899" y="1303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8352000" y="2600280"/>
            <a:ext cx="17280" cy="301680"/>
          </a:xfrm>
          <a:custGeom>
            <a:avLst/>
            <a:gdLst/>
            <a:ahLst/>
            <a:rect l="l" t="t" r="r" b="b"/>
            <a:pathLst>
              <a:path w="47" h="839">
                <a:moveTo>
                  <a:pt x="23203" y="7224"/>
                </a:moveTo>
                <a:cubicBezTo>
                  <a:pt x="23225" y="7285"/>
                  <a:pt x="23220" y="7346"/>
                  <a:pt x="23221" y="7412"/>
                </a:cubicBezTo>
                <a:cubicBezTo>
                  <a:pt x="23222" y="7531"/>
                  <a:pt x="23238" y="7649"/>
                  <a:pt x="23240" y="7767"/>
                </a:cubicBezTo>
                <a:cubicBezTo>
                  <a:pt x="23241" y="7849"/>
                  <a:pt x="23247" y="7933"/>
                  <a:pt x="23244" y="8015"/>
                </a:cubicBezTo>
                <a:cubicBezTo>
                  <a:pt x="23243" y="8054"/>
                  <a:pt x="23232" y="8070"/>
                  <a:pt x="23201" y="804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592360" y="1270080"/>
            <a:ext cx="4406760" cy="160200"/>
          </a:xfrm>
          <a:custGeom>
            <a:avLst/>
            <a:gdLst/>
            <a:ahLst/>
            <a:rect l="l" t="t" r="r" b="b"/>
            <a:pathLst>
              <a:path w="12241" h="445">
                <a:moveTo>
                  <a:pt x="7210" y="3557"/>
                </a:moveTo>
                <a:cubicBezTo>
                  <a:pt x="7232" y="3557"/>
                  <a:pt x="7234" y="3561"/>
                  <a:pt x="7256" y="3561"/>
                </a:cubicBezTo>
                <a:cubicBezTo>
                  <a:pt x="7722" y="3566"/>
                  <a:pt x="8188" y="3527"/>
                  <a:pt x="8656" y="3528"/>
                </a:cubicBezTo>
                <a:cubicBezTo>
                  <a:pt x="9265" y="3529"/>
                  <a:pt x="9930" y="3561"/>
                  <a:pt x="10525" y="3690"/>
                </a:cubicBezTo>
                <a:cubicBezTo>
                  <a:pt x="11277" y="3853"/>
                  <a:pt x="12064" y="3959"/>
                  <a:pt x="12835" y="3970"/>
                </a:cubicBezTo>
                <a:cubicBezTo>
                  <a:pt x="13803" y="3983"/>
                  <a:pt x="14780" y="3904"/>
                  <a:pt x="15746" y="3858"/>
                </a:cubicBezTo>
                <a:cubicBezTo>
                  <a:pt x="16871" y="3804"/>
                  <a:pt x="18022" y="3850"/>
                  <a:pt x="19138" y="3688"/>
                </a:cubicBezTo>
                <a:cubicBezTo>
                  <a:pt x="19239" y="3673"/>
                  <a:pt x="19341" y="3651"/>
                  <a:pt x="19440" y="3633"/>
                </a:cubicBezTo>
                <a:cubicBezTo>
                  <a:pt x="19388" y="3655"/>
                  <a:pt x="19337" y="3678"/>
                  <a:pt x="19284" y="369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618080" y="1785960"/>
            <a:ext cx="2604960" cy="90360"/>
          </a:xfrm>
          <a:custGeom>
            <a:avLst/>
            <a:gdLst/>
            <a:ahLst/>
            <a:rect l="l" t="t" r="r" b="b"/>
            <a:pathLst>
              <a:path w="7239" h="251">
                <a:moveTo>
                  <a:pt x="12826" y="5211"/>
                </a:moveTo>
                <a:cubicBezTo>
                  <a:pt x="13018" y="5185"/>
                  <a:pt x="13213" y="5138"/>
                  <a:pt x="13409" y="5126"/>
                </a:cubicBezTo>
                <a:cubicBezTo>
                  <a:pt x="14003" y="5091"/>
                  <a:pt x="14605" y="5070"/>
                  <a:pt x="15200" y="5058"/>
                </a:cubicBezTo>
                <a:cubicBezTo>
                  <a:pt x="15773" y="5046"/>
                  <a:pt x="16348" y="5069"/>
                  <a:pt x="16920" y="5051"/>
                </a:cubicBezTo>
                <a:cubicBezTo>
                  <a:pt x="17331" y="5038"/>
                  <a:pt x="17737" y="5032"/>
                  <a:pt x="18149" y="5039"/>
                </a:cubicBezTo>
                <a:cubicBezTo>
                  <a:pt x="18508" y="5046"/>
                  <a:pt x="18861" y="5050"/>
                  <a:pt x="19220" y="5036"/>
                </a:cubicBezTo>
                <a:cubicBezTo>
                  <a:pt x="19455" y="5027"/>
                  <a:pt x="19742" y="5068"/>
                  <a:pt x="19973" y="5014"/>
                </a:cubicBezTo>
                <a:cubicBezTo>
                  <a:pt x="20019" y="5003"/>
                  <a:pt x="20041" y="4985"/>
                  <a:pt x="20052" y="4975"/>
                </a:cubicBezTo>
                <a:cubicBezTo>
                  <a:pt x="20039" y="4970"/>
                  <a:pt x="20033" y="4968"/>
                  <a:pt x="20024" y="496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4497120" y="0"/>
            <a:ext cx="13086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0000"/>
                </a:solidFill>
                <a:latin typeface="Arial"/>
              </a:rPr>
              <a:t>Set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406520" y="4405320"/>
            <a:ext cx="206280" cy="117360"/>
          </a:xfrm>
          <a:custGeom>
            <a:avLst/>
            <a:gdLst/>
            <a:ahLst/>
            <a:rect l="l" t="t" r="r" b="b"/>
            <a:pathLst>
              <a:path w="574" h="328">
                <a:moveTo>
                  <a:pt x="3906" y="12563"/>
                </a:moveTo>
                <a:lnTo>
                  <a:pt x="3906" y="12563"/>
                </a:lnTo>
              </a:path>
              <a:path w="574" h="328">
                <a:moveTo>
                  <a:pt x="4479" y="12236"/>
                </a:moveTo>
                <a:lnTo>
                  <a:pt x="4479" y="12236"/>
                </a:ln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10560" y="914400"/>
            <a:ext cx="811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inition of set.  Subsets.  Empty set.  What it means for two sets to be equ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wer 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rtesian product of s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on of sets, intersection of sets, difference of sets, complement of a 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identiti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862280" y="4979880"/>
            <a:ext cx="3122640" cy="425520"/>
          </a:xfrm>
          <a:custGeom>
            <a:avLst/>
            <a:gdLst/>
            <a:ahLst/>
            <a:rect l="l" t="t" r="r" b="b"/>
            <a:pathLst>
              <a:path w="8672" h="1182">
                <a:moveTo>
                  <a:pt x="5463" y="14320"/>
                </a:moveTo>
                <a:cubicBezTo>
                  <a:pt x="5450" y="14314"/>
                  <a:pt x="5446" y="14312"/>
                  <a:pt x="5438" y="14308"/>
                </a:cubicBezTo>
                <a:cubicBezTo>
                  <a:pt x="5423" y="14331"/>
                  <a:pt x="5409" y="14350"/>
                  <a:pt x="5388" y="14370"/>
                </a:cubicBezTo>
                <a:cubicBezTo>
                  <a:pt x="5363" y="14394"/>
                  <a:pt x="5336" y="14419"/>
                  <a:pt x="5314" y="14446"/>
                </a:cubicBezTo>
                <a:cubicBezTo>
                  <a:pt x="5296" y="14469"/>
                  <a:pt x="5277" y="14493"/>
                  <a:pt x="5263" y="14519"/>
                </a:cubicBezTo>
                <a:cubicBezTo>
                  <a:pt x="5261" y="14524"/>
                  <a:pt x="5259" y="14528"/>
                  <a:pt x="5257" y="14533"/>
                </a:cubicBezTo>
                <a:cubicBezTo>
                  <a:pt x="5306" y="14559"/>
                  <a:pt x="5343" y="14592"/>
                  <a:pt x="5378" y="14636"/>
                </a:cubicBezTo>
                <a:cubicBezTo>
                  <a:pt x="5405" y="14670"/>
                  <a:pt x="5428" y="14706"/>
                  <a:pt x="5445" y="14745"/>
                </a:cubicBezTo>
                <a:cubicBezTo>
                  <a:pt x="5461" y="14782"/>
                  <a:pt x="5462" y="14815"/>
                  <a:pt x="5449" y="14852"/>
                </a:cubicBezTo>
                <a:cubicBezTo>
                  <a:pt x="5436" y="14889"/>
                  <a:pt x="5406" y="14918"/>
                  <a:pt x="5375" y="14941"/>
                </a:cubicBezTo>
                <a:cubicBezTo>
                  <a:pt x="5335" y="14970"/>
                  <a:pt x="5293" y="14992"/>
                  <a:pt x="5246" y="15008"/>
                </a:cubicBezTo>
                <a:cubicBezTo>
                  <a:pt x="5217" y="15018"/>
                  <a:pt x="5184" y="15019"/>
                  <a:pt x="5173" y="14984"/>
                </a:cubicBezTo>
                <a:cubicBezTo>
                  <a:pt x="5167" y="14964"/>
                  <a:pt x="5180" y="14940"/>
                  <a:pt x="5187" y="14923"/>
                </a:cubicBezTo>
              </a:path>
              <a:path w="8672" h="1182">
                <a:moveTo>
                  <a:pt x="5526" y="14332"/>
                </a:moveTo>
                <a:cubicBezTo>
                  <a:pt x="5522" y="14305"/>
                  <a:pt x="5523" y="14288"/>
                  <a:pt x="5527" y="14261"/>
                </a:cubicBezTo>
                <a:cubicBezTo>
                  <a:pt x="5550" y="14324"/>
                  <a:pt x="5560" y="14392"/>
                  <a:pt x="5571" y="14458"/>
                </a:cubicBezTo>
                <a:cubicBezTo>
                  <a:pt x="5584" y="14535"/>
                  <a:pt x="5593" y="14613"/>
                  <a:pt x="5603" y="14691"/>
                </a:cubicBezTo>
                <a:cubicBezTo>
                  <a:pt x="5610" y="14741"/>
                  <a:pt x="5613" y="14792"/>
                  <a:pt x="5617" y="14842"/>
                </a:cubicBezTo>
                <a:cubicBezTo>
                  <a:pt x="5617" y="14848"/>
                  <a:pt x="5618" y="14855"/>
                  <a:pt x="5618" y="14861"/>
                </a:cubicBezTo>
                <a:cubicBezTo>
                  <a:pt x="5633" y="14768"/>
                  <a:pt x="5645" y="14674"/>
                  <a:pt x="5664" y="14581"/>
                </a:cubicBezTo>
                <a:cubicBezTo>
                  <a:pt x="5677" y="14518"/>
                  <a:pt x="5691" y="14449"/>
                  <a:pt x="5716" y="14390"/>
                </a:cubicBezTo>
                <a:cubicBezTo>
                  <a:pt x="5726" y="14372"/>
                  <a:pt x="5727" y="14366"/>
                  <a:pt x="5741" y="14367"/>
                </a:cubicBezTo>
                <a:cubicBezTo>
                  <a:pt x="5764" y="14413"/>
                  <a:pt x="5771" y="14458"/>
                  <a:pt x="5779" y="14509"/>
                </a:cubicBezTo>
                <a:cubicBezTo>
                  <a:pt x="5793" y="14596"/>
                  <a:pt x="5795" y="14687"/>
                  <a:pt x="5815" y="14773"/>
                </a:cubicBezTo>
                <a:cubicBezTo>
                  <a:pt x="5821" y="14800"/>
                  <a:pt x="5833" y="14823"/>
                  <a:pt x="5847" y="14847"/>
                </a:cubicBezTo>
              </a:path>
              <a:path w="8672" h="1182">
                <a:moveTo>
                  <a:pt x="5995" y="14578"/>
                </a:moveTo>
                <a:cubicBezTo>
                  <a:pt x="5994" y="14570"/>
                  <a:pt x="5992" y="14562"/>
                  <a:pt x="5991" y="14554"/>
                </a:cubicBezTo>
                <a:cubicBezTo>
                  <a:pt x="5964" y="14596"/>
                  <a:pt x="5954" y="14640"/>
                  <a:pt x="5948" y="14692"/>
                </a:cubicBezTo>
                <a:cubicBezTo>
                  <a:pt x="5941" y="14746"/>
                  <a:pt x="5937" y="14806"/>
                  <a:pt x="5953" y="14859"/>
                </a:cubicBezTo>
                <a:cubicBezTo>
                  <a:pt x="5956" y="14866"/>
                  <a:pt x="5960" y="14873"/>
                  <a:pt x="5963" y="14880"/>
                </a:cubicBezTo>
                <a:cubicBezTo>
                  <a:pt x="6009" y="14873"/>
                  <a:pt x="6023" y="14848"/>
                  <a:pt x="6044" y="14803"/>
                </a:cubicBezTo>
                <a:cubicBezTo>
                  <a:pt x="6069" y="14747"/>
                  <a:pt x="6085" y="14686"/>
                  <a:pt x="6098" y="14627"/>
                </a:cubicBezTo>
                <a:cubicBezTo>
                  <a:pt x="6102" y="14610"/>
                  <a:pt x="6103" y="14606"/>
                  <a:pt x="6101" y="14595"/>
                </a:cubicBezTo>
                <a:cubicBezTo>
                  <a:pt x="6070" y="14592"/>
                  <a:pt x="6078" y="14612"/>
                  <a:pt x="6081" y="14641"/>
                </a:cubicBezTo>
              </a:path>
              <a:path w="8672" h="1182">
                <a:moveTo>
                  <a:pt x="6234" y="14586"/>
                </a:moveTo>
                <a:cubicBezTo>
                  <a:pt x="6248" y="14631"/>
                  <a:pt x="6248" y="14671"/>
                  <a:pt x="6251" y="14718"/>
                </a:cubicBezTo>
                <a:cubicBezTo>
                  <a:pt x="6254" y="14760"/>
                  <a:pt x="6258" y="14801"/>
                  <a:pt x="6269" y="14841"/>
                </a:cubicBezTo>
                <a:cubicBezTo>
                  <a:pt x="6299" y="14829"/>
                  <a:pt x="6302" y="14802"/>
                  <a:pt x="6313" y="14770"/>
                </a:cubicBezTo>
                <a:cubicBezTo>
                  <a:pt x="6326" y="14732"/>
                  <a:pt x="6336" y="14692"/>
                  <a:pt x="6355" y="14657"/>
                </a:cubicBezTo>
                <a:cubicBezTo>
                  <a:pt x="6358" y="14653"/>
                  <a:pt x="6361" y="14648"/>
                  <a:pt x="6364" y="14644"/>
                </a:cubicBezTo>
                <a:cubicBezTo>
                  <a:pt x="6392" y="14655"/>
                  <a:pt x="6392" y="14676"/>
                  <a:pt x="6404" y="14706"/>
                </a:cubicBezTo>
                <a:cubicBezTo>
                  <a:pt x="6411" y="14721"/>
                  <a:pt x="6413" y="14725"/>
                  <a:pt x="6418" y="14735"/>
                </a:cubicBezTo>
                <a:cubicBezTo>
                  <a:pt x="6454" y="14725"/>
                  <a:pt x="6464" y="14703"/>
                  <a:pt x="6482" y="14668"/>
                </a:cubicBezTo>
                <a:cubicBezTo>
                  <a:pt x="6500" y="14635"/>
                  <a:pt x="6517" y="14597"/>
                  <a:pt x="6525" y="14560"/>
                </a:cubicBezTo>
                <a:cubicBezTo>
                  <a:pt x="6532" y="14530"/>
                  <a:pt x="6538" y="14502"/>
                  <a:pt x="6542" y="14471"/>
                </a:cubicBezTo>
              </a:path>
              <a:path w="8672" h="1182">
                <a:moveTo>
                  <a:pt x="7222" y="14087"/>
                </a:moveTo>
                <a:cubicBezTo>
                  <a:pt x="7206" y="14007"/>
                  <a:pt x="7210" y="14194"/>
                  <a:pt x="7210" y="14206"/>
                </a:cubicBezTo>
                <a:cubicBezTo>
                  <a:pt x="7210" y="14312"/>
                  <a:pt x="7215" y="14418"/>
                  <a:pt x="7223" y="14524"/>
                </a:cubicBezTo>
                <a:cubicBezTo>
                  <a:pt x="7227" y="14584"/>
                  <a:pt x="7299" y="14715"/>
                  <a:pt x="7240" y="14704"/>
                </a:cubicBezTo>
                <a:cubicBezTo>
                  <a:pt x="7233" y="14696"/>
                  <a:pt x="7226" y="14688"/>
                  <a:pt x="7219" y="14680"/>
                </a:cubicBezTo>
              </a:path>
              <a:path w="8672" h="1182">
                <a:moveTo>
                  <a:pt x="7041" y="14392"/>
                </a:moveTo>
                <a:cubicBezTo>
                  <a:pt x="7075" y="14365"/>
                  <a:pt x="7114" y="14352"/>
                  <a:pt x="7151" y="14329"/>
                </a:cubicBezTo>
                <a:cubicBezTo>
                  <a:pt x="7216" y="14287"/>
                  <a:pt x="7274" y="14238"/>
                  <a:pt x="7331" y="14188"/>
                </a:cubicBezTo>
                <a:cubicBezTo>
                  <a:pt x="7344" y="14177"/>
                  <a:pt x="7358" y="14167"/>
                  <a:pt x="7371" y="14156"/>
                </a:cubicBezTo>
              </a:path>
              <a:path w="8672" h="1182">
                <a:moveTo>
                  <a:pt x="7424" y="14093"/>
                </a:moveTo>
                <a:cubicBezTo>
                  <a:pt x="7436" y="14162"/>
                  <a:pt x="7447" y="14234"/>
                  <a:pt x="7454" y="14304"/>
                </a:cubicBezTo>
                <a:cubicBezTo>
                  <a:pt x="7463" y="14389"/>
                  <a:pt x="7473" y="14474"/>
                  <a:pt x="7481" y="14559"/>
                </a:cubicBezTo>
                <a:cubicBezTo>
                  <a:pt x="7484" y="14589"/>
                  <a:pt x="7485" y="14618"/>
                  <a:pt x="7488" y="14648"/>
                </a:cubicBezTo>
                <a:cubicBezTo>
                  <a:pt x="7506" y="14603"/>
                  <a:pt x="7516" y="14554"/>
                  <a:pt x="7542" y="14513"/>
                </a:cubicBezTo>
                <a:cubicBezTo>
                  <a:pt x="7560" y="14484"/>
                  <a:pt x="7585" y="14469"/>
                  <a:pt x="7614" y="14493"/>
                </a:cubicBezTo>
                <a:cubicBezTo>
                  <a:pt x="7640" y="14514"/>
                  <a:pt x="7740" y="14715"/>
                  <a:pt x="7761" y="14709"/>
                </a:cubicBezTo>
                <a:cubicBezTo>
                  <a:pt x="7767" y="14702"/>
                  <a:pt x="7774" y="14695"/>
                  <a:pt x="7780" y="14688"/>
                </a:cubicBezTo>
              </a:path>
              <a:path w="8672" h="1182">
                <a:moveTo>
                  <a:pt x="7844" y="14389"/>
                </a:moveTo>
                <a:cubicBezTo>
                  <a:pt x="7829" y="14442"/>
                  <a:pt x="7817" y="14494"/>
                  <a:pt x="7807" y="14549"/>
                </a:cubicBezTo>
                <a:cubicBezTo>
                  <a:pt x="7796" y="14606"/>
                  <a:pt x="7785" y="14663"/>
                  <a:pt x="7784" y="14721"/>
                </a:cubicBezTo>
                <a:cubicBezTo>
                  <a:pt x="7784" y="14726"/>
                  <a:pt x="7785" y="14731"/>
                  <a:pt x="7785" y="14736"/>
                </a:cubicBezTo>
                <a:cubicBezTo>
                  <a:pt x="7812" y="14714"/>
                  <a:pt x="7823" y="14685"/>
                  <a:pt x="7839" y="14653"/>
                </a:cubicBezTo>
                <a:cubicBezTo>
                  <a:pt x="7855" y="14621"/>
                  <a:pt x="7868" y="14591"/>
                  <a:pt x="7891" y="14565"/>
                </a:cubicBezTo>
                <a:cubicBezTo>
                  <a:pt x="7931" y="14575"/>
                  <a:pt x="7927" y="14596"/>
                  <a:pt x="7943" y="14636"/>
                </a:cubicBezTo>
                <a:cubicBezTo>
                  <a:pt x="7954" y="14663"/>
                  <a:pt x="7959" y="14679"/>
                  <a:pt x="7976" y="14701"/>
                </a:cubicBezTo>
              </a:path>
              <a:path w="8672" h="1182">
                <a:moveTo>
                  <a:pt x="8111" y="14050"/>
                </a:moveTo>
                <a:cubicBezTo>
                  <a:pt x="8120" y="14003"/>
                  <a:pt x="8113" y="14140"/>
                  <a:pt x="8114" y="14152"/>
                </a:cubicBezTo>
                <a:cubicBezTo>
                  <a:pt x="8121" y="14261"/>
                  <a:pt x="8143" y="14367"/>
                  <a:pt x="8161" y="14475"/>
                </a:cubicBezTo>
                <a:cubicBezTo>
                  <a:pt x="8172" y="14545"/>
                  <a:pt x="8197" y="14612"/>
                  <a:pt x="8205" y="14682"/>
                </a:cubicBezTo>
                <a:cubicBezTo>
                  <a:pt x="8205" y="14686"/>
                  <a:pt x="8205" y="14691"/>
                  <a:pt x="8205" y="14695"/>
                </a:cubicBezTo>
              </a:path>
              <a:path w="8672" h="1182">
                <a:moveTo>
                  <a:pt x="8023" y="14442"/>
                </a:moveTo>
                <a:cubicBezTo>
                  <a:pt x="8079" y="14396"/>
                  <a:pt x="8139" y="14369"/>
                  <a:pt x="8205" y="14339"/>
                </a:cubicBezTo>
                <a:cubicBezTo>
                  <a:pt x="8275" y="14307"/>
                  <a:pt x="8347" y="14280"/>
                  <a:pt x="8424" y="14269"/>
                </a:cubicBezTo>
                <a:cubicBezTo>
                  <a:pt x="8438" y="14268"/>
                  <a:pt x="8451" y="14267"/>
                  <a:pt x="8465" y="14266"/>
                </a:cubicBezTo>
              </a:path>
              <a:path w="8672" h="1182">
                <a:moveTo>
                  <a:pt x="9458" y="14785"/>
                </a:moveTo>
                <a:cubicBezTo>
                  <a:pt x="9438" y="14766"/>
                  <a:pt x="9427" y="14754"/>
                  <a:pt x="9420" y="14707"/>
                </a:cubicBezTo>
                <a:cubicBezTo>
                  <a:pt x="9393" y="14527"/>
                  <a:pt x="9409" y="14322"/>
                  <a:pt x="9457" y="14147"/>
                </a:cubicBezTo>
                <a:cubicBezTo>
                  <a:pt x="9514" y="14160"/>
                  <a:pt x="9522" y="14214"/>
                  <a:pt x="9547" y="14270"/>
                </a:cubicBezTo>
                <a:cubicBezTo>
                  <a:pt x="9598" y="14385"/>
                  <a:pt x="9651" y="14508"/>
                  <a:pt x="9722" y="14613"/>
                </a:cubicBezTo>
                <a:cubicBezTo>
                  <a:pt x="9743" y="14640"/>
                  <a:pt x="9747" y="14646"/>
                  <a:pt x="9760" y="14662"/>
                </a:cubicBezTo>
              </a:path>
              <a:path w="8672" h="1182">
                <a:moveTo>
                  <a:pt x="9436" y="14496"/>
                </a:moveTo>
                <a:cubicBezTo>
                  <a:pt x="9418" y="14515"/>
                  <a:pt x="9412" y="14520"/>
                  <a:pt x="9409" y="14537"/>
                </a:cubicBezTo>
                <a:cubicBezTo>
                  <a:pt x="9439" y="14559"/>
                  <a:pt x="9485" y="14538"/>
                  <a:pt x="9530" y="14528"/>
                </a:cubicBezTo>
                <a:cubicBezTo>
                  <a:pt x="9589" y="14515"/>
                  <a:pt x="9648" y="14495"/>
                  <a:pt x="9707" y="14483"/>
                </a:cubicBezTo>
                <a:cubicBezTo>
                  <a:pt x="9758" y="14473"/>
                  <a:pt x="9780" y="14485"/>
                  <a:pt x="9790" y="14433"/>
                </a:cubicBezTo>
              </a:path>
              <a:path w="8672" h="1182">
                <a:moveTo>
                  <a:pt x="9961" y="14234"/>
                </a:moveTo>
                <a:cubicBezTo>
                  <a:pt x="9975" y="14264"/>
                  <a:pt x="9979" y="14290"/>
                  <a:pt x="9983" y="14323"/>
                </a:cubicBezTo>
                <a:cubicBezTo>
                  <a:pt x="9990" y="14376"/>
                  <a:pt x="9991" y="14430"/>
                  <a:pt x="9998" y="14483"/>
                </a:cubicBezTo>
                <a:cubicBezTo>
                  <a:pt x="10004" y="14534"/>
                  <a:pt x="10011" y="14584"/>
                  <a:pt x="10029" y="14633"/>
                </a:cubicBezTo>
                <a:cubicBezTo>
                  <a:pt x="10040" y="14663"/>
                  <a:pt x="10055" y="14686"/>
                  <a:pt x="10087" y="14694"/>
                </a:cubicBezTo>
                <a:cubicBezTo>
                  <a:pt x="10118" y="14702"/>
                  <a:pt x="10143" y="14686"/>
                  <a:pt x="10164" y="14665"/>
                </a:cubicBezTo>
                <a:cubicBezTo>
                  <a:pt x="10201" y="14628"/>
                  <a:pt x="10217" y="14582"/>
                  <a:pt x="10232" y="14534"/>
                </a:cubicBezTo>
                <a:cubicBezTo>
                  <a:pt x="10250" y="14477"/>
                  <a:pt x="10255" y="14420"/>
                  <a:pt x="10259" y="14361"/>
                </a:cubicBezTo>
                <a:cubicBezTo>
                  <a:pt x="10261" y="14322"/>
                  <a:pt x="10260" y="14284"/>
                  <a:pt x="10252" y="14246"/>
                </a:cubicBezTo>
                <a:cubicBezTo>
                  <a:pt x="10246" y="14217"/>
                  <a:pt x="10230" y="14196"/>
                  <a:pt x="10217" y="14170"/>
                </a:cubicBezTo>
              </a:path>
              <a:path w="8672" h="1182">
                <a:moveTo>
                  <a:pt x="10837" y="14068"/>
                </a:moveTo>
                <a:cubicBezTo>
                  <a:pt x="10837" y="14050"/>
                  <a:pt x="10838" y="14044"/>
                  <a:pt x="10823" y="14043"/>
                </a:cubicBezTo>
                <a:cubicBezTo>
                  <a:pt x="10803" y="14081"/>
                  <a:pt x="10788" y="14120"/>
                  <a:pt x="10779" y="14162"/>
                </a:cubicBezTo>
                <a:cubicBezTo>
                  <a:pt x="10760" y="14250"/>
                  <a:pt x="10742" y="14340"/>
                  <a:pt x="10735" y="14430"/>
                </a:cubicBezTo>
                <a:cubicBezTo>
                  <a:pt x="10728" y="14511"/>
                  <a:pt x="10731" y="14587"/>
                  <a:pt x="10750" y="14666"/>
                </a:cubicBezTo>
                <a:cubicBezTo>
                  <a:pt x="10759" y="14705"/>
                  <a:pt x="10783" y="14742"/>
                  <a:pt x="10823" y="14753"/>
                </a:cubicBezTo>
                <a:cubicBezTo>
                  <a:pt x="10831" y="14754"/>
                  <a:pt x="10838" y="14755"/>
                  <a:pt x="10846" y="14756"/>
                </a:cubicBezTo>
              </a:path>
              <a:path w="8672" h="1182">
                <a:moveTo>
                  <a:pt x="11012" y="14247"/>
                </a:moveTo>
                <a:cubicBezTo>
                  <a:pt x="11025" y="14288"/>
                  <a:pt x="11028" y="14331"/>
                  <a:pt x="11038" y="14373"/>
                </a:cubicBezTo>
                <a:cubicBezTo>
                  <a:pt x="11057" y="14454"/>
                  <a:pt x="11080" y="14534"/>
                  <a:pt x="11103" y="14613"/>
                </a:cubicBezTo>
                <a:cubicBezTo>
                  <a:pt x="11109" y="14632"/>
                  <a:pt x="11112" y="14637"/>
                  <a:pt x="11107" y="14650"/>
                </a:cubicBezTo>
                <a:cubicBezTo>
                  <a:pt x="11075" y="14623"/>
                  <a:pt x="11069" y="14595"/>
                  <a:pt x="11065" y="14551"/>
                </a:cubicBezTo>
                <a:cubicBezTo>
                  <a:pt x="11054" y="14424"/>
                  <a:pt x="11074" y="14288"/>
                  <a:pt x="11127" y="14172"/>
                </a:cubicBezTo>
                <a:cubicBezTo>
                  <a:pt x="11141" y="14141"/>
                  <a:pt x="11164" y="14095"/>
                  <a:pt x="11199" y="14081"/>
                </a:cubicBezTo>
                <a:cubicBezTo>
                  <a:pt x="11205" y="14080"/>
                  <a:pt x="11211" y="14080"/>
                  <a:pt x="11217" y="14079"/>
                </a:cubicBezTo>
                <a:cubicBezTo>
                  <a:pt x="11243" y="14105"/>
                  <a:pt x="11255" y="14118"/>
                  <a:pt x="11260" y="14161"/>
                </a:cubicBezTo>
                <a:cubicBezTo>
                  <a:pt x="11267" y="14220"/>
                  <a:pt x="11260" y="14279"/>
                  <a:pt x="11251" y="14337"/>
                </a:cubicBezTo>
                <a:cubicBezTo>
                  <a:pt x="11245" y="14374"/>
                  <a:pt x="11235" y="14407"/>
                  <a:pt x="11223" y="14442"/>
                </a:cubicBezTo>
                <a:cubicBezTo>
                  <a:pt x="11244" y="14445"/>
                  <a:pt x="11268" y="14446"/>
                  <a:pt x="11290" y="14451"/>
                </a:cubicBezTo>
                <a:cubicBezTo>
                  <a:pt x="11329" y="14460"/>
                  <a:pt x="11361" y="14487"/>
                  <a:pt x="11383" y="14519"/>
                </a:cubicBezTo>
                <a:cubicBezTo>
                  <a:pt x="11415" y="14566"/>
                  <a:pt x="11440" y="14645"/>
                  <a:pt x="11398" y="14694"/>
                </a:cubicBezTo>
                <a:cubicBezTo>
                  <a:pt x="11371" y="14726"/>
                  <a:pt x="11330" y="14723"/>
                  <a:pt x="11294" y="14724"/>
                </a:cubicBezTo>
                <a:cubicBezTo>
                  <a:pt x="11241" y="14726"/>
                  <a:pt x="11205" y="14706"/>
                  <a:pt x="11160" y="14680"/>
                </a:cubicBezTo>
              </a:path>
              <a:path w="8672" h="1182">
                <a:moveTo>
                  <a:pt x="11617" y="14688"/>
                </a:moveTo>
                <a:cubicBezTo>
                  <a:pt x="11614" y="14662"/>
                  <a:pt x="11617" y="14636"/>
                  <a:pt x="11615" y="14610"/>
                </a:cubicBezTo>
                <a:cubicBezTo>
                  <a:pt x="11611" y="14561"/>
                  <a:pt x="11609" y="14512"/>
                  <a:pt x="11605" y="14463"/>
                </a:cubicBezTo>
                <a:cubicBezTo>
                  <a:pt x="11598" y="14385"/>
                  <a:pt x="11595" y="14302"/>
                  <a:pt x="11615" y="14226"/>
                </a:cubicBezTo>
                <a:cubicBezTo>
                  <a:pt x="11629" y="14173"/>
                  <a:pt x="11670" y="14098"/>
                  <a:pt x="11735" y="14103"/>
                </a:cubicBezTo>
                <a:cubicBezTo>
                  <a:pt x="11780" y="14106"/>
                  <a:pt x="11806" y="14153"/>
                  <a:pt x="11826" y="14187"/>
                </a:cubicBezTo>
                <a:cubicBezTo>
                  <a:pt x="11861" y="14248"/>
                  <a:pt x="11881" y="14319"/>
                  <a:pt x="11900" y="14387"/>
                </a:cubicBezTo>
                <a:cubicBezTo>
                  <a:pt x="11917" y="14447"/>
                  <a:pt x="11932" y="14509"/>
                  <a:pt x="11943" y="14571"/>
                </a:cubicBezTo>
                <a:cubicBezTo>
                  <a:pt x="11947" y="14595"/>
                  <a:pt x="11952" y="14617"/>
                  <a:pt x="11955" y="14641"/>
                </a:cubicBezTo>
              </a:path>
              <a:path w="8672" h="1182">
                <a:moveTo>
                  <a:pt x="12330" y="14193"/>
                </a:moveTo>
                <a:cubicBezTo>
                  <a:pt x="12335" y="14189"/>
                  <a:pt x="12340" y="14186"/>
                  <a:pt x="12345" y="14182"/>
                </a:cubicBezTo>
                <a:cubicBezTo>
                  <a:pt x="12321" y="14184"/>
                  <a:pt x="12311" y="14197"/>
                  <a:pt x="12296" y="14217"/>
                </a:cubicBezTo>
                <a:cubicBezTo>
                  <a:pt x="12267" y="14257"/>
                  <a:pt x="12242" y="14305"/>
                  <a:pt x="12223" y="14351"/>
                </a:cubicBezTo>
                <a:cubicBezTo>
                  <a:pt x="12195" y="14421"/>
                  <a:pt x="12173" y="14502"/>
                  <a:pt x="12192" y="14577"/>
                </a:cubicBezTo>
                <a:cubicBezTo>
                  <a:pt x="12205" y="14628"/>
                  <a:pt x="12238" y="14662"/>
                  <a:pt x="12286" y="14682"/>
                </a:cubicBezTo>
                <a:cubicBezTo>
                  <a:pt x="12328" y="14700"/>
                  <a:pt x="12387" y="14698"/>
                  <a:pt x="12429" y="14678"/>
                </a:cubicBezTo>
                <a:cubicBezTo>
                  <a:pt x="12455" y="14660"/>
                  <a:pt x="12463" y="14654"/>
                  <a:pt x="12479" y="14641"/>
                </a:cubicBezTo>
              </a:path>
              <a:path w="8672" h="1182">
                <a:moveTo>
                  <a:pt x="12532" y="14152"/>
                </a:moveTo>
                <a:cubicBezTo>
                  <a:pt x="12566" y="14155"/>
                  <a:pt x="12588" y="14177"/>
                  <a:pt x="12610" y="14208"/>
                </a:cubicBezTo>
                <a:cubicBezTo>
                  <a:pt x="12641" y="14252"/>
                  <a:pt x="12669" y="14301"/>
                  <a:pt x="12688" y="14352"/>
                </a:cubicBezTo>
                <a:cubicBezTo>
                  <a:pt x="12709" y="14408"/>
                  <a:pt x="12722" y="14471"/>
                  <a:pt x="12724" y="14531"/>
                </a:cubicBezTo>
                <a:cubicBezTo>
                  <a:pt x="12725" y="14576"/>
                  <a:pt x="12725" y="14633"/>
                  <a:pt x="12714" y="14677"/>
                </a:cubicBezTo>
                <a:cubicBezTo>
                  <a:pt x="12703" y="14721"/>
                  <a:pt x="12696" y="14688"/>
                  <a:pt x="12681" y="14662"/>
                </a:cubicBezTo>
              </a:path>
              <a:path w="8672" h="1182">
                <a:moveTo>
                  <a:pt x="9218" y="13833"/>
                </a:moveTo>
                <a:cubicBezTo>
                  <a:pt x="9214" y="13836"/>
                  <a:pt x="9209" y="13839"/>
                  <a:pt x="9205" y="13842"/>
                </a:cubicBezTo>
                <a:cubicBezTo>
                  <a:pt x="9256" y="13838"/>
                  <a:pt x="9301" y="13836"/>
                  <a:pt x="9352" y="13838"/>
                </a:cubicBezTo>
                <a:cubicBezTo>
                  <a:pt x="9545" y="13846"/>
                  <a:pt x="9721" y="13920"/>
                  <a:pt x="9911" y="13941"/>
                </a:cubicBezTo>
                <a:cubicBezTo>
                  <a:pt x="10074" y="13959"/>
                  <a:pt x="10248" y="13933"/>
                  <a:pt x="10413" y="13932"/>
                </a:cubicBezTo>
                <a:cubicBezTo>
                  <a:pt x="10597" y="13931"/>
                  <a:pt x="10779" y="13918"/>
                  <a:pt x="10962" y="13912"/>
                </a:cubicBezTo>
                <a:cubicBezTo>
                  <a:pt x="11127" y="13907"/>
                  <a:pt x="11291" y="13900"/>
                  <a:pt x="11456" y="13897"/>
                </a:cubicBezTo>
                <a:cubicBezTo>
                  <a:pt x="11633" y="13894"/>
                  <a:pt x="11810" y="13872"/>
                  <a:pt x="11987" y="13867"/>
                </a:cubicBezTo>
                <a:cubicBezTo>
                  <a:pt x="12095" y="13864"/>
                  <a:pt x="12214" y="13851"/>
                  <a:pt x="12320" y="13877"/>
                </a:cubicBezTo>
                <a:cubicBezTo>
                  <a:pt x="12418" y="13901"/>
                  <a:pt x="12496" y="13970"/>
                  <a:pt x="12594" y="13988"/>
                </a:cubicBezTo>
                <a:cubicBezTo>
                  <a:pt x="12606" y="13990"/>
                  <a:pt x="12725" y="14014"/>
                  <a:pt x="12732" y="14009"/>
                </a:cubicBezTo>
                <a:cubicBezTo>
                  <a:pt x="12713" y="13996"/>
                  <a:pt x="12709" y="13992"/>
                  <a:pt x="12695" y="13989"/>
                </a:cubicBezTo>
              </a:path>
              <a:path w="8672" h="1182">
                <a:moveTo>
                  <a:pt x="13269" y="14366"/>
                </a:moveTo>
                <a:cubicBezTo>
                  <a:pt x="13265" y="14371"/>
                  <a:pt x="13261" y="14376"/>
                  <a:pt x="13257" y="14381"/>
                </a:cubicBezTo>
                <a:cubicBezTo>
                  <a:pt x="13288" y="14387"/>
                  <a:pt x="13316" y="14381"/>
                  <a:pt x="13348" y="14378"/>
                </a:cubicBezTo>
                <a:cubicBezTo>
                  <a:pt x="13404" y="14373"/>
                  <a:pt x="13463" y="14369"/>
                  <a:pt x="13518" y="14355"/>
                </a:cubicBezTo>
                <a:cubicBezTo>
                  <a:pt x="13572" y="14342"/>
                  <a:pt x="13609" y="14324"/>
                  <a:pt x="13657" y="14299"/>
                </a:cubicBezTo>
                <a:cubicBezTo>
                  <a:pt x="13678" y="14291"/>
                  <a:pt x="13685" y="14289"/>
                  <a:pt x="13696" y="14279"/>
                </a:cubicBezTo>
              </a:path>
              <a:path w="8672" h="1182">
                <a:moveTo>
                  <a:pt x="13358" y="14563"/>
                </a:moveTo>
                <a:cubicBezTo>
                  <a:pt x="13377" y="14591"/>
                  <a:pt x="13391" y="14600"/>
                  <a:pt x="13428" y="14603"/>
                </a:cubicBezTo>
                <a:cubicBezTo>
                  <a:pt x="13470" y="14607"/>
                  <a:pt x="13516" y="14607"/>
                  <a:pt x="13558" y="14603"/>
                </a:cubicBezTo>
                <a:cubicBezTo>
                  <a:pt x="13610" y="14598"/>
                  <a:pt x="13658" y="14585"/>
                  <a:pt x="13707" y="14569"/>
                </a:cubicBezTo>
                <a:cubicBezTo>
                  <a:pt x="13747" y="14556"/>
                  <a:pt x="13789" y="14524"/>
                  <a:pt x="13815" y="14489"/>
                </a:cubicBezTo>
                <a:cubicBezTo>
                  <a:pt x="13828" y="14462"/>
                  <a:pt x="13832" y="14454"/>
                  <a:pt x="13844" y="14439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148360" y="4997520"/>
            <a:ext cx="903240" cy="271440"/>
          </a:xfrm>
          <a:custGeom>
            <a:avLst/>
            <a:gdLst/>
            <a:ahLst/>
            <a:rect l="l" t="t" r="r" b="b"/>
            <a:pathLst>
              <a:path w="2508" h="754">
                <a:moveTo>
                  <a:pt x="14444" y="13957"/>
                </a:moveTo>
                <a:cubicBezTo>
                  <a:pt x="14430" y="13931"/>
                  <a:pt x="14411" y="13956"/>
                  <a:pt x="14393" y="13981"/>
                </a:cubicBezTo>
                <a:cubicBezTo>
                  <a:pt x="14374" y="14007"/>
                  <a:pt x="14359" y="14042"/>
                  <a:pt x="14349" y="14073"/>
                </a:cubicBezTo>
                <a:cubicBezTo>
                  <a:pt x="14331" y="14131"/>
                  <a:pt x="14320" y="14193"/>
                  <a:pt x="14312" y="14253"/>
                </a:cubicBezTo>
                <a:cubicBezTo>
                  <a:pt x="14303" y="14319"/>
                  <a:pt x="14298" y="14387"/>
                  <a:pt x="14303" y="14454"/>
                </a:cubicBezTo>
                <a:cubicBezTo>
                  <a:pt x="14306" y="14499"/>
                  <a:pt x="14312" y="14548"/>
                  <a:pt x="14335" y="14588"/>
                </a:cubicBezTo>
                <a:cubicBezTo>
                  <a:pt x="14354" y="14620"/>
                  <a:pt x="14378" y="14632"/>
                  <a:pt x="14414" y="14635"/>
                </a:cubicBezTo>
                <a:cubicBezTo>
                  <a:pt x="14450" y="14638"/>
                  <a:pt x="14475" y="14625"/>
                  <a:pt x="14501" y="14603"/>
                </a:cubicBezTo>
              </a:path>
              <a:path w="2508" h="754">
                <a:moveTo>
                  <a:pt x="14978" y="14117"/>
                </a:moveTo>
                <a:cubicBezTo>
                  <a:pt x="14982" y="14087"/>
                  <a:pt x="14987" y="14081"/>
                  <a:pt x="14969" y="14055"/>
                </a:cubicBezTo>
                <a:cubicBezTo>
                  <a:pt x="14941" y="14061"/>
                  <a:pt x="14927" y="14077"/>
                  <a:pt x="14910" y="14101"/>
                </a:cubicBezTo>
                <a:cubicBezTo>
                  <a:pt x="14864" y="14166"/>
                  <a:pt x="14834" y="14238"/>
                  <a:pt x="14820" y="14316"/>
                </a:cubicBezTo>
                <a:cubicBezTo>
                  <a:pt x="14811" y="14367"/>
                  <a:pt x="14809" y="14420"/>
                  <a:pt x="14829" y="14468"/>
                </a:cubicBezTo>
                <a:cubicBezTo>
                  <a:pt x="14846" y="14508"/>
                  <a:pt x="14875" y="14544"/>
                  <a:pt x="14912" y="14567"/>
                </a:cubicBezTo>
                <a:cubicBezTo>
                  <a:pt x="14941" y="14586"/>
                  <a:pt x="14989" y="14604"/>
                  <a:pt x="15025" y="14591"/>
                </a:cubicBezTo>
                <a:cubicBezTo>
                  <a:pt x="15061" y="14578"/>
                  <a:pt x="15071" y="14533"/>
                  <a:pt x="15076" y="14503"/>
                </a:cubicBezTo>
              </a:path>
              <a:path w="2508" h="754">
                <a:moveTo>
                  <a:pt x="14722" y="13990"/>
                </a:moveTo>
                <a:cubicBezTo>
                  <a:pt x="14709" y="13974"/>
                  <a:pt x="14706" y="13969"/>
                  <a:pt x="14693" y="13964"/>
                </a:cubicBezTo>
                <a:cubicBezTo>
                  <a:pt x="14720" y="13954"/>
                  <a:pt x="14744" y="13957"/>
                  <a:pt x="14773" y="13958"/>
                </a:cubicBezTo>
                <a:cubicBezTo>
                  <a:pt x="14826" y="13960"/>
                  <a:pt x="14877" y="13958"/>
                  <a:pt x="14930" y="13951"/>
                </a:cubicBezTo>
                <a:cubicBezTo>
                  <a:pt x="14981" y="13944"/>
                  <a:pt x="15032" y="13933"/>
                  <a:pt x="15082" y="13920"/>
                </a:cubicBezTo>
                <a:cubicBezTo>
                  <a:pt x="15094" y="13917"/>
                  <a:pt x="15150" y="13906"/>
                  <a:pt x="15157" y="13897"/>
                </a:cubicBezTo>
                <a:cubicBezTo>
                  <a:pt x="15158" y="13892"/>
                  <a:pt x="15158" y="13887"/>
                  <a:pt x="15159" y="13882"/>
                </a:cubicBezTo>
              </a:path>
              <a:path w="2508" h="754">
                <a:moveTo>
                  <a:pt x="15426" y="14116"/>
                </a:moveTo>
                <a:cubicBezTo>
                  <a:pt x="15418" y="14153"/>
                  <a:pt x="15420" y="14188"/>
                  <a:pt x="15423" y="14227"/>
                </a:cubicBezTo>
                <a:cubicBezTo>
                  <a:pt x="15427" y="14279"/>
                  <a:pt x="15432" y="14330"/>
                  <a:pt x="15440" y="14382"/>
                </a:cubicBezTo>
                <a:cubicBezTo>
                  <a:pt x="15447" y="14426"/>
                  <a:pt x="15449" y="14524"/>
                  <a:pt x="15494" y="14552"/>
                </a:cubicBezTo>
                <a:cubicBezTo>
                  <a:pt x="15531" y="14575"/>
                  <a:pt x="15559" y="14540"/>
                  <a:pt x="15583" y="14514"/>
                </a:cubicBezTo>
                <a:cubicBezTo>
                  <a:pt x="15618" y="14477"/>
                  <a:pt x="15650" y="14432"/>
                  <a:pt x="15677" y="14389"/>
                </a:cubicBezTo>
                <a:cubicBezTo>
                  <a:pt x="15705" y="14344"/>
                  <a:pt x="15727" y="14296"/>
                  <a:pt x="15743" y="14246"/>
                </a:cubicBezTo>
                <a:cubicBezTo>
                  <a:pt x="15761" y="14191"/>
                  <a:pt x="15763" y="14152"/>
                  <a:pt x="15726" y="14108"/>
                </a:cubicBezTo>
                <a:cubicBezTo>
                  <a:pt x="15712" y="14092"/>
                  <a:pt x="15705" y="14084"/>
                  <a:pt x="15692" y="14075"/>
                </a:cubicBezTo>
              </a:path>
              <a:path w="2508" h="754">
                <a:moveTo>
                  <a:pt x="16079" y="14204"/>
                </a:moveTo>
                <a:cubicBezTo>
                  <a:pt x="16085" y="14161"/>
                  <a:pt x="16093" y="14251"/>
                  <a:pt x="16095" y="14262"/>
                </a:cubicBezTo>
                <a:cubicBezTo>
                  <a:pt x="16104" y="14317"/>
                  <a:pt x="16117" y="14371"/>
                  <a:pt x="16128" y="14426"/>
                </a:cubicBezTo>
                <a:cubicBezTo>
                  <a:pt x="16135" y="14458"/>
                  <a:pt x="16143" y="14489"/>
                  <a:pt x="16150" y="14520"/>
                </a:cubicBezTo>
                <a:cubicBezTo>
                  <a:pt x="16170" y="14563"/>
                  <a:pt x="16139" y="14476"/>
                  <a:pt x="16137" y="14467"/>
                </a:cubicBezTo>
                <a:cubicBezTo>
                  <a:pt x="16121" y="14404"/>
                  <a:pt x="16116" y="14336"/>
                  <a:pt x="16128" y="14272"/>
                </a:cubicBezTo>
                <a:cubicBezTo>
                  <a:pt x="16137" y="14226"/>
                  <a:pt x="16151" y="14179"/>
                  <a:pt x="16173" y="14137"/>
                </a:cubicBezTo>
                <a:cubicBezTo>
                  <a:pt x="16188" y="14108"/>
                  <a:pt x="16211" y="14075"/>
                  <a:pt x="16237" y="14054"/>
                </a:cubicBezTo>
                <a:cubicBezTo>
                  <a:pt x="16250" y="14046"/>
                  <a:pt x="16254" y="14043"/>
                  <a:pt x="16264" y="14043"/>
                </a:cubicBezTo>
                <a:cubicBezTo>
                  <a:pt x="16286" y="14079"/>
                  <a:pt x="16285" y="14102"/>
                  <a:pt x="16281" y="14145"/>
                </a:cubicBezTo>
                <a:cubicBezTo>
                  <a:pt x="16277" y="14187"/>
                  <a:pt x="16270" y="14228"/>
                  <a:pt x="16263" y="14269"/>
                </a:cubicBezTo>
                <a:cubicBezTo>
                  <a:pt x="16260" y="14289"/>
                  <a:pt x="16259" y="14295"/>
                  <a:pt x="16266" y="14307"/>
                </a:cubicBezTo>
                <a:cubicBezTo>
                  <a:pt x="16304" y="14315"/>
                  <a:pt x="16343" y="14320"/>
                  <a:pt x="16377" y="14341"/>
                </a:cubicBezTo>
                <a:cubicBezTo>
                  <a:pt x="16414" y="14364"/>
                  <a:pt x="16439" y="14399"/>
                  <a:pt x="16455" y="14439"/>
                </a:cubicBezTo>
                <a:cubicBezTo>
                  <a:pt x="16471" y="14480"/>
                  <a:pt x="16476" y="14522"/>
                  <a:pt x="16452" y="14561"/>
                </a:cubicBezTo>
                <a:cubicBezTo>
                  <a:pt x="16423" y="14607"/>
                  <a:pt x="16370" y="14619"/>
                  <a:pt x="16320" y="14615"/>
                </a:cubicBezTo>
                <a:cubicBezTo>
                  <a:pt x="16266" y="14611"/>
                  <a:pt x="16235" y="14574"/>
                  <a:pt x="16199" y="14538"/>
                </a:cubicBezTo>
              </a:path>
              <a:path w="2508" h="754">
                <a:moveTo>
                  <a:pt x="16027" y="13985"/>
                </a:moveTo>
                <a:cubicBezTo>
                  <a:pt x="16021" y="13984"/>
                  <a:pt x="16014" y="13982"/>
                  <a:pt x="16008" y="13981"/>
                </a:cubicBezTo>
                <a:cubicBezTo>
                  <a:pt x="16038" y="13969"/>
                  <a:pt x="16069" y="13965"/>
                  <a:pt x="16102" y="13960"/>
                </a:cubicBezTo>
                <a:cubicBezTo>
                  <a:pt x="16148" y="13953"/>
                  <a:pt x="16195" y="13952"/>
                  <a:pt x="16241" y="13949"/>
                </a:cubicBezTo>
                <a:cubicBezTo>
                  <a:pt x="16271" y="13947"/>
                  <a:pt x="16326" y="13955"/>
                  <a:pt x="16354" y="13944"/>
                </a:cubicBezTo>
                <a:cubicBezTo>
                  <a:pt x="16378" y="13934"/>
                  <a:pt x="16389" y="13918"/>
                  <a:pt x="16404" y="13899"/>
                </a:cubicBezTo>
              </a:path>
              <a:path w="2508" h="754">
                <a:moveTo>
                  <a:pt x="16712" y="13967"/>
                </a:moveTo>
                <a:cubicBezTo>
                  <a:pt x="16704" y="13948"/>
                  <a:pt x="16701" y="13942"/>
                  <a:pt x="16691" y="13932"/>
                </a:cubicBezTo>
                <a:cubicBezTo>
                  <a:pt x="16714" y="13961"/>
                  <a:pt x="16731" y="13992"/>
                  <a:pt x="16746" y="14026"/>
                </a:cubicBezTo>
                <a:cubicBezTo>
                  <a:pt x="16775" y="14092"/>
                  <a:pt x="16792" y="14162"/>
                  <a:pt x="16802" y="14233"/>
                </a:cubicBezTo>
                <a:cubicBezTo>
                  <a:pt x="16812" y="14305"/>
                  <a:pt x="16809" y="14374"/>
                  <a:pt x="16798" y="14445"/>
                </a:cubicBezTo>
                <a:cubicBezTo>
                  <a:pt x="16792" y="14484"/>
                  <a:pt x="16788" y="14505"/>
                  <a:pt x="16758" y="14530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200640" y="4984920"/>
            <a:ext cx="471600" cy="280800"/>
          </a:xfrm>
          <a:custGeom>
            <a:avLst/>
            <a:gdLst/>
            <a:ahLst/>
            <a:rect l="l" t="t" r="r" b="b"/>
            <a:pathLst>
              <a:path w="1313" h="782">
                <a:moveTo>
                  <a:pt x="17303" y="14524"/>
                </a:moveTo>
                <a:cubicBezTo>
                  <a:pt x="17287" y="14555"/>
                  <a:pt x="17274" y="14555"/>
                  <a:pt x="17243" y="14567"/>
                </a:cubicBezTo>
                <a:cubicBezTo>
                  <a:pt x="17227" y="14539"/>
                  <a:pt x="17223" y="14521"/>
                  <a:pt x="17223" y="14488"/>
                </a:cubicBezTo>
                <a:cubicBezTo>
                  <a:pt x="17222" y="14444"/>
                  <a:pt x="17228" y="14401"/>
                  <a:pt x="17232" y="14357"/>
                </a:cubicBezTo>
                <a:cubicBezTo>
                  <a:pt x="17236" y="14306"/>
                  <a:pt x="17246" y="14255"/>
                  <a:pt x="17263" y="14207"/>
                </a:cubicBezTo>
                <a:cubicBezTo>
                  <a:pt x="17286" y="14143"/>
                  <a:pt x="17319" y="14071"/>
                  <a:pt x="17367" y="14022"/>
                </a:cubicBezTo>
                <a:cubicBezTo>
                  <a:pt x="17387" y="14002"/>
                  <a:pt x="17416" y="13992"/>
                  <a:pt x="17444" y="14001"/>
                </a:cubicBezTo>
                <a:cubicBezTo>
                  <a:pt x="17494" y="14017"/>
                  <a:pt x="17538" y="14058"/>
                  <a:pt x="17575" y="14093"/>
                </a:cubicBezTo>
                <a:cubicBezTo>
                  <a:pt x="17627" y="14143"/>
                  <a:pt x="17674" y="14199"/>
                  <a:pt x="17715" y="14259"/>
                </a:cubicBezTo>
                <a:cubicBezTo>
                  <a:pt x="17740" y="14295"/>
                  <a:pt x="17789" y="14362"/>
                  <a:pt x="17777" y="14412"/>
                </a:cubicBezTo>
                <a:cubicBezTo>
                  <a:pt x="17773" y="14428"/>
                  <a:pt x="17746" y="14440"/>
                  <a:pt x="17735" y="14451"/>
                </a:cubicBezTo>
              </a:path>
              <a:path w="1313" h="782">
                <a:moveTo>
                  <a:pt x="17782" y="14380"/>
                </a:moveTo>
                <a:cubicBezTo>
                  <a:pt x="17752" y="14379"/>
                  <a:pt x="17767" y="14402"/>
                  <a:pt x="17771" y="14432"/>
                </a:cubicBezTo>
                <a:cubicBezTo>
                  <a:pt x="17775" y="14469"/>
                  <a:pt x="17783" y="14507"/>
                  <a:pt x="17785" y="14544"/>
                </a:cubicBezTo>
                <a:cubicBezTo>
                  <a:pt x="17787" y="14572"/>
                  <a:pt x="17797" y="14651"/>
                  <a:pt x="17784" y="14627"/>
                </a:cubicBezTo>
                <a:cubicBezTo>
                  <a:pt x="17776" y="14599"/>
                  <a:pt x="17771" y="14593"/>
                  <a:pt x="17779" y="14576"/>
                </a:cubicBezTo>
              </a:path>
              <a:path w="1313" h="782">
                <a:moveTo>
                  <a:pt x="18162" y="14550"/>
                </a:moveTo>
                <a:cubicBezTo>
                  <a:pt x="18132" y="14541"/>
                  <a:pt x="18134" y="14548"/>
                  <a:pt x="18129" y="14515"/>
                </a:cubicBezTo>
                <a:cubicBezTo>
                  <a:pt x="18124" y="14480"/>
                  <a:pt x="18138" y="14429"/>
                  <a:pt x="18141" y="14394"/>
                </a:cubicBezTo>
                <a:cubicBezTo>
                  <a:pt x="18147" y="14326"/>
                  <a:pt x="18152" y="14257"/>
                  <a:pt x="18162" y="14190"/>
                </a:cubicBezTo>
                <a:cubicBezTo>
                  <a:pt x="18172" y="14121"/>
                  <a:pt x="18179" y="14045"/>
                  <a:pt x="18202" y="13978"/>
                </a:cubicBezTo>
                <a:cubicBezTo>
                  <a:pt x="18212" y="13955"/>
                  <a:pt x="18216" y="13947"/>
                  <a:pt x="18236" y="13943"/>
                </a:cubicBezTo>
                <a:cubicBezTo>
                  <a:pt x="18279" y="13993"/>
                  <a:pt x="18294" y="14041"/>
                  <a:pt x="18316" y="14104"/>
                </a:cubicBezTo>
                <a:cubicBezTo>
                  <a:pt x="18348" y="14194"/>
                  <a:pt x="18365" y="14287"/>
                  <a:pt x="18391" y="14379"/>
                </a:cubicBezTo>
                <a:cubicBezTo>
                  <a:pt x="18410" y="14448"/>
                  <a:pt x="18433" y="14514"/>
                  <a:pt x="18461" y="14580"/>
                </a:cubicBezTo>
                <a:cubicBezTo>
                  <a:pt x="18482" y="14628"/>
                  <a:pt x="18485" y="14614"/>
                  <a:pt x="18512" y="14592"/>
                </a:cubicBezTo>
              </a:path>
              <a:path w="1313" h="782">
                <a:moveTo>
                  <a:pt x="18193" y="14432"/>
                </a:moveTo>
                <a:cubicBezTo>
                  <a:pt x="18207" y="14460"/>
                  <a:pt x="18215" y="14448"/>
                  <a:pt x="18243" y="14445"/>
                </a:cubicBezTo>
                <a:cubicBezTo>
                  <a:pt x="18293" y="14440"/>
                  <a:pt x="18342" y="14434"/>
                  <a:pt x="18391" y="14424"/>
                </a:cubicBezTo>
                <a:cubicBezTo>
                  <a:pt x="18438" y="14415"/>
                  <a:pt x="18478" y="14411"/>
                  <a:pt x="18518" y="14386"/>
                </a:cubicBezTo>
                <a:cubicBezTo>
                  <a:pt x="18535" y="14375"/>
                  <a:pt x="18540" y="14372"/>
                  <a:pt x="18535" y="14356"/>
                </a:cubicBezTo>
              </a:path>
              <a:path w="1313" h="782">
                <a:moveTo>
                  <a:pt x="17957" y="13863"/>
                </a:moveTo>
                <a:cubicBezTo>
                  <a:pt x="17929" y="13856"/>
                  <a:pt x="17914" y="13853"/>
                  <a:pt x="17890" y="13866"/>
                </a:cubicBezTo>
                <a:cubicBezTo>
                  <a:pt x="17912" y="13890"/>
                  <a:pt x="17937" y="13894"/>
                  <a:pt x="17971" y="13896"/>
                </a:cubicBezTo>
                <a:cubicBezTo>
                  <a:pt x="18042" y="13900"/>
                  <a:pt x="18112" y="13898"/>
                  <a:pt x="18182" y="13891"/>
                </a:cubicBezTo>
                <a:cubicBezTo>
                  <a:pt x="18261" y="13883"/>
                  <a:pt x="18343" y="13878"/>
                  <a:pt x="18421" y="13864"/>
                </a:cubicBezTo>
                <a:cubicBezTo>
                  <a:pt x="18446" y="13860"/>
                  <a:pt x="18458" y="13858"/>
                  <a:pt x="18478" y="13846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5780160" y="1371600"/>
            <a:ext cx="2860560" cy="290520"/>
          </a:xfrm>
          <a:custGeom>
            <a:avLst/>
            <a:gdLst/>
            <a:ahLst/>
            <a:rect l="l" t="t" r="r" b="b"/>
            <a:pathLst>
              <a:path w="7946" h="807">
                <a:moveTo>
                  <a:pt x="23960" y="4616"/>
                </a:moveTo>
                <a:cubicBezTo>
                  <a:pt x="23973" y="4598"/>
                  <a:pt x="23986" y="4581"/>
                  <a:pt x="23999" y="4563"/>
                </a:cubicBezTo>
              </a:path>
              <a:path w="7946" h="807">
                <a:moveTo>
                  <a:pt x="16060" y="3902"/>
                </a:moveTo>
                <a:cubicBezTo>
                  <a:pt x="16057" y="3876"/>
                  <a:pt x="16054" y="3837"/>
                  <a:pt x="16081" y="3818"/>
                </a:cubicBezTo>
                <a:cubicBezTo>
                  <a:pt x="16089" y="3815"/>
                  <a:pt x="16096" y="3813"/>
                  <a:pt x="16104" y="381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4821120" y="1287360"/>
            <a:ext cx="501840" cy="268560"/>
          </a:xfrm>
          <a:custGeom>
            <a:avLst/>
            <a:gdLst/>
            <a:ahLst/>
            <a:rect l="l" t="t" r="r" b="b"/>
            <a:pathLst>
              <a:path w="1395" h="742">
                <a:moveTo>
                  <a:pt x="13679" y="3748"/>
                </a:moveTo>
                <a:cubicBezTo>
                  <a:pt x="13681" y="3736"/>
                  <a:pt x="13681" y="3733"/>
                  <a:pt x="13681" y="3726"/>
                </a:cubicBezTo>
                <a:cubicBezTo>
                  <a:pt x="13642" y="3734"/>
                  <a:pt x="13614" y="3766"/>
                  <a:pt x="13581" y="3795"/>
                </a:cubicBezTo>
                <a:cubicBezTo>
                  <a:pt x="13525" y="3843"/>
                  <a:pt x="13475" y="3896"/>
                  <a:pt x="13429" y="3954"/>
                </a:cubicBezTo>
                <a:cubicBezTo>
                  <a:pt x="13406" y="3984"/>
                  <a:pt x="13395" y="3996"/>
                  <a:pt x="13395" y="4030"/>
                </a:cubicBezTo>
                <a:cubicBezTo>
                  <a:pt x="13436" y="4037"/>
                  <a:pt x="13472" y="4025"/>
                  <a:pt x="13514" y="4018"/>
                </a:cubicBezTo>
                <a:cubicBezTo>
                  <a:pt x="13559" y="4011"/>
                  <a:pt x="13612" y="4003"/>
                  <a:pt x="13646" y="4041"/>
                </a:cubicBezTo>
                <a:cubicBezTo>
                  <a:pt x="13683" y="4083"/>
                  <a:pt x="13680" y="4152"/>
                  <a:pt x="13676" y="4204"/>
                </a:cubicBezTo>
                <a:cubicBezTo>
                  <a:pt x="13673" y="4246"/>
                  <a:pt x="13663" y="4281"/>
                  <a:pt x="13648" y="4319"/>
                </a:cubicBezTo>
                <a:cubicBezTo>
                  <a:pt x="13643" y="4279"/>
                  <a:pt x="13648" y="4256"/>
                  <a:pt x="13657" y="4215"/>
                </a:cubicBezTo>
              </a:path>
              <a:path w="1395" h="742">
                <a:moveTo>
                  <a:pt x="13880" y="3578"/>
                </a:moveTo>
                <a:cubicBezTo>
                  <a:pt x="13851" y="3641"/>
                  <a:pt x="13837" y="3706"/>
                  <a:pt x="13825" y="3774"/>
                </a:cubicBezTo>
                <a:cubicBezTo>
                  <a:pt x="13807" y="3878"/>
                  <a:pt x="13801" y="3984"/>
                  <a:pt x="13798" y="4090"/>
                </a:cubicBezTo>
                <a:cubicBezTo>
                  <a:pt x="13796" y="4143"/>
                  <a:pt x="13801" y="4186"/>
                  <a:pt x="13813" y="4234"/>
                </a:cubicBezTo>
                <a:cubicBezTo>
                  <a:pt x="13835" y="4206"/>
                  <a:pt x="13853" y="4175"/>
                  <a:pt x="13872" y="4142"/>
                </a:cubicBezTo>
                <a:cubicBezTo>
                  <a:pt x="13891" y="4108"/>
                  <a:pt x="13914" y="4058"/>
                  <a:pt x="13955" y="4045"/>
                </a:cubicBezTo>
                <a:cubicBezTo>
                  <a:pt x="13999" y="4031"/>
                  <a:pt x="14025" y="4093"/>
                  <a:pt x="14040" y="4122"/>
                </a:cubicBezTo>
                <a:cubicBezTo>
                  <a:pt x="14064" y="4169"/>
                  <a:pt x="14085" y="4221"/>
                  <a:pt x="14122" y="4260"/>
                </a:cubicBezTo>
                <a:cubicBezTo>
                  <a:pt x="14142" y="4277"/>
                  <a:pt x="14148" y="4282"/>
                  <a:pt x="14166" y="4282"/>
                </a:cubicBezTo>
              </a:path>
              <a:path w="1395" h="742">
                <a:moveTo>
                  <a:pt x="14313" y="4041"/>
                </a:moveTo>
                <a:cubicBezTo>
                  <a:pt x="14290" y="4038"/>
                  <a:pt x="14294" y="4035"/>
                  <a:pt x="14274" y="4067"/>
                </a:cubicBezTo>
                <a:cubicBezTo>
                  <a:pt x="14252" y="4102"/>
                  <a:pt x="14235" y="4138"/>
                  <a:pt x="14230" y="4180"/>
                </a:cubicBezTo>
                <a:cubicBezTo>
                  <a:pt x="14227" y="4206"/>
                  <a:pt x="14224" y="4256"/>
                  <a:pt x="14259" y="4264"/>
                </a:cubicBezTo>
                <a:cubicBezTo>
                  <a:pt x="14302" y="4274"/>
                  <a:pt x="14347" y="4231"/>
                  <a:pt x="14373" y="4205"/>
                </a:cubicBezTo>
                <a:cubicBezTo>
                  <a:pt x="14410" y="4169"/>
                  <a:pt x="14442" y="4127"/>
                  <a:pt x="14475" y="4087"/>
                </a:cubicBezTo>
                <a:cubicBezTo>
                  <a:pt x="14479" y="4082"/>
                  <a:pt x="14482" y="4078"/>
                  <a:pt x="14486" y="4073"/>
                </a:cubicBezTo>
                <a:cubicBezTo>
                  <a:pt x="14484" y="4111"/>
                  <a:pt x="14473" y="4145"/>
                  <a:pt x="14465" y="4182"/>
                </a:cubicBezTo>
                <a:cubicBezTo>
                  <a:pt x="14458" y="4215"/>
                  <a:pt x="14454" y="4237"/>
                  <a:pt x="14469" y="4267"/>
                </a:cubicBezTo>
                <a:cubicBezTo>
                  <a:pt x="14495" y="4261"/>
                  <a:pt x="14505" y="4257"/>
                  <a:pt x="14527" y="4238"/>
                </a:cubicBezTo>
                <a:cubicBezTo>
                  <a:pt x="14542" y="4225"/>
                  <a:pt x="14564" y="4202"/>
                  <a:pt x="14585" y="4201"/>
                </a:cubicBezTo>
                <a:cubicBezTo>
                  <a:pt x="14606" y="4200"/>
                  <a:pt x="14617" y="4230"/>
                  <a:pt x="14625" y="4245"/>
                </a:cubicBezTo>
                <a:cubicBezTo>
                  <a:pt x="14634" y="4262"/>
                  <a:pt x="14642" y="4278"/>
                  <a:pt x="14663" y="4275"/>
                </a:cubicBezTo>
                <a:cubicBezTo>
                  <a:pt x="14688" y="4271"/>
                  <a:pt x="14708" y="4221"/>
                  <a:pt x="14717" y="4203"/>
                </a:cubicBezTo>
                <a:cubicBezTo>
                  <a:pt x="14732" y="4173"/>
                  <a:pt x="14749" y="4144"/>
                  <a:pt x="14765" y="4115"/>
                </a:cubicBezTo>
                <a:cubicBezTo>
                  <a:pt x="14772" y="4102"/>
                  <a:pt x="14777" y="4089"/>
                  <a:pt x="14785" y="407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497560" y="1257480"/>
            <a:ext cx="1236600" cy="320400"/>
          </a:xfrm>
          <a:custGeom>
            <a:avLst/>
            <a:gdLst/>
            <a:ahLst/>
            <a:rect l="l" t="t" r="r" b="b"/>
            <a:pathLst>
              <a:path w="3434" h="888">
                <a:moveTo>
                  <a:pt x="15425" y="3494"/>
                </a:moveTo>
                <a:cubicBezTo>
                  <a:pt x="15376" y="3523"/>
                  <a:pt x="15389" y="3579"/>
                  <a:pt x="15384" y="3636"/>
                </a:cubicBezTo>
                <a:cubicBezTo>
                  <a:pt x="15374" y="3746"/>
                  <a:pt x="15373" y="3862"/>
                  <a:pt x="15381" y="3973"/>
                </a:cubicBezTo>
                <a:cubicBezTo>
                  <a:pt x="15386" y="4048"/>
                  <a:pt x="15401" y="4129"/>
                  <a:pt x="15386" y="4205"/>
                </a:cubicBezTo>
                <a:cubicBezTo>
                  <a:pt x="15384" y="4209"/>
                  <a:pt x="15382" y="4212"/>
                  <a:pt x="15380" y="4216"/>
                </a:cubicBezTo>
              </a:path>
              <a:path w="3434" h="888">
                <a:moveTo>
                  <a:pt x="15270" y="3925"/>
                </a:moveTo>
                <a:cubicBezTo>
                  <a:pt x="15302" y="3922"/>
                  <a:pt x="15332" y="3924"/>
                  <a:pt x="15365" y="3919"/>
                </a:cubicBezTo>
                <a:cubicBezTo>
                  <a:pt x="15435" y="3909"/>
                  <a:pt x="15510" y="3879"/>
                  <a:pt x="15560" y="3828"/>
                </a:cubicBezTo>
                <a:cubicBezTo>
                  <a:pt x="15591" y="3797"/>
                  <a:pt x="15608" y="3755"/>
                  <a:pt x="15610" y="3712"/>
                </a:cubicBezTo>
                <a:cubicBezTo>
                  <a:pt x="15609" y="3696"/>
                  <a:pt x="15609" y="3692"/>
                  <a:pt x="15606" y="3682"/>
                </a:cubicBezTo>
                <a:cubicBezTo>
                  <a:pt x="15601" y="3730"/>
                  <a:pt x="15601" y="3777"/>
                  <a:pt x="15603" y="3828"/>
                </a:cubicBezTo>
                <a:cubicBezTo>
                  <a:pt x="15606" y="3917"/>
                  <a:pt x="15615" y="4006"/>
                  <a:pt x="15625" y="4095"/>
                </a:cubicBezTo>
                <a:cubicBezTo>
                  <a:pt x="15630" y="4138"/>
                  <a:pt x="15636" y="4181"/>
                  <a:pt x="15644" y="4224"/>
                </a:cubicBezTo>
                <a:cubicBezTo>
                  <a:pt x="15660" y="4180"/>
                  <a:pt x="15671" y="4136"/>
                  <a:pt x="15686" y="4092"/>
                </a:cubicBezTo>
                <a:cubicBezTo>
                  <a:pt x="15697" y="4061"/>
                  <a:pt x="15711" y="3994"/>
                  <a:pt x="15749" y="3983"/>
                </a:cubicBezTo>
                <a:cubicBezTo>
                  <a:pt x="15786" y="3972"/>
                  <a:pt x="15804" y="4043"/>
                  <a:pt x="15813" y="4064"/>
                </a:cubicBezTo>
                <a:cubicBezTo>
                  <a:pt x="15833" y="4111"/>
                  <a:pt x="15848" y="4165"/>
                  <a:pt x="15877" y="4207"/>
                </a:cubicBezTo>
                <a:cubicBezTo>
                  <a:pt x="15888" y="4219"/>
                  <a:pt x="15890" y="4224"/>
                  <a:pt x="15901" y="4221"/>
                </a:cubicBezTo>
              </a:path>
              <a:path w="3434" h="888">
                <a:moveTo>
                  <a:pt x="15972" y="4010"/>
                </a:moveTo>
                <a:cubicBezTo>
                  <a:pt x="15959" y="4045"/>
                  <a:pt x="15951" y="4075"/>
                  <a:pt x="15953" y="4113"/>
                </a:cubicBezTo>
                <a:cubicBezTo>
                  <a:pt x="15954" y="4130"/>
                  <a:pt x="15951" y="4164"/>
                  <a:pt x="15976" y="4166"/>
                </a:cubicBezTo>
                <a:cubicBezTo>
                  <a:pt x="15988" y="4163"/>
                  <a:pt x="15993" y="4161"/>
                  <a:pt x="16000" y="4156"/>
                </a:cubicBezTo>
              </a:path>
              <a:path w="3434" h="888">
                <a:moveTo>
                  <a:pt x="16328" y="3972"/>
                </a:moveTo>
                <a:cubicBezTo>
                  <a:pt x="16298" y="4017"/>
                  <a:pt x="16266" y="4037"/>
                  <a:pt x="16230" y="4072"/>
                </a:cubicBezTo>
                <a:cubicBezTo>
                  <a:pt x="16220" y="4088"/>
                  <a:pt x="16218" y="4091"/>
                  <a:pt x="16211" y="4100"/>
                </a:cubicBezTo>
                <a:cubicBezTo>
                  <a:pt x="16261" y="4101"/>
                  <a:pt x="16308" y="4092"/>
                  <a:pt x="16358" y="4088"/>
                </a:cubicBezTo>
                <a:cubicBezTo>
                  <a:pt x="16404" y="4085"/>
                  <a:pt x="16464" y="4078"/>
                  <a:pt x="16506" y="4102"/>
                </a:cubicBezTo>
                <a:cubicBezTo>
                  <a:pt x="16510" y="4106"/>
                  <a:pt x="16513" y="4109"/>
                  <a:pt x="16517" y="4113"/>
                </a:cubicBezTo>
                <a:cubicBezTo>
                  <a:pt x="16504" y="4143"/>
                  <a:pt x="16485" y="4163"/>
                  <a:pt x="16453" y="4175"/>
                </a:cubicBezTo>
                <a:cubicBezTo>
                  <a:pt x="16419" y="4188"/>
                  <a:pt x="16385" y="4198"/>
                  <a:pt x="16348" y="4189"/>
                </a:cubicBezTo>
                <a:cubicBezTo>
                  <a:pt x="16334" y="4183"/>
                  <a:pt x="16329" y="4181"/>
                  <a:pt x="16322" y="4173"/>
                </a:cubicBezTo>
              </a:path>
              <a:path w="3434" h="888">
                <a:moveTo>
                  <a:pt x="16333" y="4011"/>
                </a:moveTo>
                <a:cubicBezTo>
                  <a:pt x="16362" y="4005"/>
                  <a:pt x="16386" y="3996"/>
                  <a:pt x="16415" y="3995"/>
                </a:cubicBezTo>
                <a:cubicBezTo>
                  <a:pt x="16451" y="3993"/>
                  <a:pt x="16486" y="3991"/>
                  <a:pt x="16521" y="3991"/>
                </a:cubicBezTo>
                <a:cubicBezTo>
                  <a:pt x="16527" y="3991"/>
                  <a:pt x="16534" y="3990"/>
                  <a:pt x="16540" y="3990"/>
                </a:cubicBezTo>
              </a:path>
              <a:path w="3434" h="888">
                <a:moveTo>
                  <a:pt x="17323" y="4024"/>
                </a:moveTo>
                <a:cubicBezTo>
                  <a:pt x="17304" y="4030"/>
                  <a:pt x="17301" y="4030"/>
                  <a:pt x="17281" y="4033"/>
                </a:cubicBezTo>
                <a:cubicBezTo>
                  <a:pt x="17268" y="3998"/>
                  <a:pt x="17276" y="3971"/>
                  <a:pt x="17284" y="3933"/>
                </a:cubicBezTo>
                <a:cubicBezTo>
                  <a:pt x="17300" y="3856"/>
                  <a:pt x="17326" y="3781"/>
                  <a:pt x="17355" y="3708"/>
                </a:cubicBezTo>
                <a:cubicBezTo>
                  <a:pt x="17373" y="3663"/>
                  <a:pt x="17395" y="3566"/>
                  <a:pt x="17437" y="3535"/>
                </a:cubicBezTo>
                <a:cubicBezTo>
                  <a:pt x="17442" y="3535"/>
                  <a:pt x="17448" y="3535"/>
                  <a:pt x="17453" y="3535"/>
                </a:cubicBezTo>
                <a:cubicBezTo>
                  <a:pt x="17475" y="3610"/>
                  <a:pt x="17471" y="3687"/>
                  <a:pt x="17473" y="3766"/>
                </a:cubicBezTo>
                <a:cubicBezTo>
                  <a:pt x="17476" y="3880"/>
                  <a:pt x="17480" y="3996"/>
                  <a:pt x="17494" y="4109"/>
                </a:cubicBezTo>
                <a:cubicBezTo>
                  <a:pt x="17501" y="4157"/>
                  <a:pt x="17502" y="4169"/>
                  <a:pt x="17510" y="4198"/>
                </a:cubicBezTo>
              </a:path>
              <a:path w="3434" h="888">
                <a:moveTo>
                  <a:pt x="17394" y="3991"/>
                </a:moveTo>
                <a:cubicBezTo>
                  <a:pt x="17434" y="3985"/>
                  <a:pt x="17469" y="3974"/>
                  <a:pt x="17509" y="3965"/>
                </a:cubicBezTo>
                <a:cubicBezTo>
                  <a:pt x="17568" y="3952"/>
                  <a:pt x="17629" y="3945"/>
                  <a:pt x="17688" y="3932"/>
                </a:cubicBezTo>
              </a:path>
              <a:path w="3434" h="888">
                <a:moveTo>
                  <a:pt x="17763" y="3889"/>
                </a:moveTo>
                <a:cubicBezTo>
                  <a:pt x="17766" y="3916"/>
                  <a:pt x="17784" y="3908"/>
                  <a:pt x="17810" y="3903"/>
                </a:cubicBezTo>
                <a:cubicBezTo>
                  <a:pt x="17862" y="3893"/>
                  <a:pt x="17916" y="3891"/>
                  <a:pt x="17969" y="3884"/>
                </a:cubicBezTo>
                <a:cubicBezTo>
                  <a:pt x="17997" y="3880"/>
                  <a:pt x="18004" y="3879"/>
                  <a:pt x="18022" y="3879"/>
                </a:cubicBezTo>
              </a:path>
              <a:path w="3434" h="888">
                <a:moveTo>
                  <a:pt x="17888" y="3987"/>
                </a:moveTo>
                <a:cubicBezTo>
                  <a:pt x="17883" y="3991"/>
                  <a:pt x="17878" y="3994"/>
                  <a:pt x="17873" y="3998"/>
                </a:cubicBezTo>
                <a:cubicBezTo>
                  <a:pt x="17913" y="3996"/>
                  <a:pt x="17955" y="3986"/>
                  <a:pt x="17994" y="3975"/>
                </a:cubicBezTo>
                <a:cubicBezTo>
                  <a:pt x="18039" y="3962"/>
                  <a:pt x="18055" y="3957"/>
                  <a:pt x="18085" y="3948"/>
                </a:cubicBezTo>
              </a:path>
              <a:path w="3434" h="888">
                <a:moveTo>
                  <a:pt x="18304" y="3728"/>
                </a:moveTo>
                <a:cubicBezTo>
                  <a:pt x="18309" y="3764"/>
                  <a:pt x="18316" y="3796"/>
                  <a:pt x="18323" y="3831"/>
                </a:cubicBezTo>
                <a:cubicBezTo>
                  <a:pt x="18333" y="3881"/>
                  <a:pt x="18342" y="3932"/>
                  <a:pt x="18351" y="3982"/>
                </a:cubicBezTo>
                <a:cubicBezTo>
                  <a:pt x="18355" y="4003"/>
                  <a:pt x="18356" y="4023"/>
                  <a:pt x="18358" y="4044"/>
                </a:cubicBezTo>
                <a:cubicBezTo>
                  <a:pt x="18362" y="4011"/>
                  <a:pt x="18365" y="3977"/>
                  <a:pt x="18371" y="3944"/>
                </a:cubicBezTo>
                <a:cubicBezTo>
                  <a:pt x="18383" y="3878"/>
                  <a:pt x="18400" y="3813"/>
                  <a:pt x="18424" y="3750"/>
                </a:cubicBezTo>
                <a:cubicBezTo>
                  <a:pt x="18440" y="3710"/>
                  <a:pt x="18455" y="3680"/>
                  <a:pt x="18492" y="3659"/>
                </a:cubicBezTo>
                <a:cubicBezTo>
                  <a:pt x="18514" y="3689"/>
                  <a:pt x="18515" y="3715"/>
                  <a:pt x="18506" y="3753"/>
                </a:cubicBezTo>
                <a:cubicBezTo>
                  <a:pt x="18496" y="3798"/>
                  <a:pt x="18475" y="3838"/>
                  <a:pt x="18453" y="3878"/>
                </a:cubicBezTo>
                <a:cubicBezTo>
                  <a:pt x="18475" y="3899"/>
                  <a:pt x="18506" y="3895"/>
                  <a:pt x="18538" y="3903"/>
                </a:cubicBezTo>
                <a:cubicBezTo>
                  <a:pt x="18594" y="3917"/>
                  <a:pt x="18669" y="3945"/>
                  <a:pt x="18697" y="4000"/>
                </a:cubicBezTo>
                <a:cubicBezTo>
                  <a:pt x="18719" y="4042"/>
                  <a:pt x="18683" y="4071"/>
                  <a:pt x="18648" y="4086"/>
                </a:cubicBezTo>
                <a:cubicBezTo>
                  <a:pt x="18597" y="4108"/>
                  <a:pt x="18546" y="4110"/>
                  <a:pt x="18492" y="4108"/>
                </a:cubicBezTo>
                <a:cubicBezTo>
                  <a:pt x="18464" y="4107"/>
                  <a:pt x="18440" y="4102"/>
                  <a:pt x="18413" y="4096"/>
                </a:cubicBezTo>
              </a:path>
              <a:path w="3434" h="888">
                <a:moveTo>
                  <a:pt x="17080" y="3634"/>
                </a:moveTo>
                <a:cubicBezTo>
                  <a:pt x="17034" y="3641"/>
                  <a:pt x="16985" y="3677"/>
                  <a:pt x="16951" y="3711"/>
                </a:cubicBezTo>
                <a:cubicBezTo>
                  <a:pt x="16876" y="3785"/>
                  <a:pt x="16798" y="3878"/>
                  <a:pt x="16757" y="3976"/>
                </a:cubicBezTo>
                <a:cubicBezTo>
                  <a:pt x="16714" y="4079"/>
                  <a:pt x="16704" y="4196"/>
                  <a:pt x="16778" y="4287"/>
                </a:cubicBezTo>
                <a:cubicBezTo>
                  <a:pt x="16870" y="4401"/>
                  <a:pt x="17033" y="4375"/>
                  <a:pt x="17159" y="437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886440" y="1251000"/>
            <a:ext cx="84240" cy="225360"/>
          </a:xfrm>
          <a:custGeom>
            <a:avLst/>
            <a:gdLst/>
            <a:ahLst/>
            <a:rect l="l" t="t" r="r" b="b"/>
            <a:pathLst>
              <a:path w="234" h="629">
                <a:moveTo>
                  <a:pt x="19129" y="3474"/>
                </a:moveTo>
                <a:cubicBezTo>
                  <a:pt x="19149" y="3514"/>
                  <a:pt x="19178" y="3548"/>
                  <a:pt x="19201" y="3587"/>
                </a:cubicBezTo>
                <a:cubicBezTo>
                  <a:pt x="19250" y="3670"/>
                  <a:pt x="19297" y="3756"/>
                  <a:pt x="19329" y="3848"/>
                </a:cubicBezTo>
                <a:cubicBezTo>
                  <a:pt x="19352" y="3913"/>
                  <a:pt x="19376" y="3995"/>
                  <a:pt x="19348" y="4061"/>
                </a:cubicBezTo>
                <a:cubicBezTo>
                  <a:pt x="19334" y="4094"/>
                  <a:pt x="19306" y="4095"/>
                  <a:pt x="19276" y="410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7983360" y="1390680"/>
            <a:ext cx="559080" cy="243000"/>
          </a:xfrm>
          <a:custGeom>
            <a:avLst/>
            <a:gdLst/>
            <a:ahLst/>
            <a:rect l="l" t="t" r="r" b="b"/>
            <a:pathLst>
              <a:path w="1553" h="674">
                <a:moveTo>
                  <a:pt x="22746" y="3880"/>
                </a:moveTo>
                <a:cubicBezTo>
                  <a:pt x="22729" y="3877"/>
                  <a:pt x="22704" y="3870"/>
                  <a:pt x="22683" y="3867"/>
                </a:cubicBezTo>
                <a:cubicBezTo>
                  <a:pt x="22627" y="3860"/>
                  <a:pt x="22573" y="3868"/>
                  <a:pt x="22518" y="3878"/>
                </a:cubicBezTo>
                <a:cubicBezTo>
                  <a:pt x="22443" y="3891"/>
                  <a:pt x="22372" y="3915"/>
                  <a:pt x="22302" y="3943"/>
                </a:cubicBezTo>
                <a:cubicBezTo>
                  <a:pt x="22263" y="3959"/>
                  <a:pt x="22222" y="3973"/>
                  <a:pt x="22210" y="4016"/>
                </a:cubicBezTo>
                <a:cubicBezTo>
                  <a:pt x="22202" y="4044"/>
                  <a:pt x="22275" y="4084"/>
                  <a:pt x="22290" y="4098"/>
                </a:cubicBezTo>
                <a:cubicBezTo>
                  <a:pt x="22377" y="4176"/>
                  <a:pt x="22439" y="4270"/>
                  <a:pt x="22438" y="4391"/>
                </a:cubicBezTo>
                <a:cubicBezTo>
                  <a:pt x="22437" y="4443"/>
                  <a:pt x="22425" y="4498"/>
                  <a:pt x="22376" y="4525"/>
                </a:cubicBezTo>
                <a:cubicBezTo>
                  <a:pt x="22336" y="4547"/>
                  <a:pt x="22278" y="4539"/>
                  <a:pt x="22240" y="4518"/>
                </a:cubicBezTo>
                <a:cubicBezTo>
                  <a:pt x="22197" y="4494"/>
                  <a:pt x="22177" y="4457"/>
                  <a:pt x="22177" y="4408"/>
                </a:cubicBezTo>
                <a:cubicBezTo>
                  <a:pt x="22182" y="4368"/>
                  <a:pt x="22184" y="4355"/>
                  <a:pt x="22196" y="4330"/>
                </a:cubicBezTo>
              </a:path>
              <a:path w="1553" h="674">
                <a:moveTo>
                  <a:pt x="22618" y="4002"/>
                </a:moveTo>
                <a:cubicBezTo>
                  <a:pt x="22642" y="4001"/>
                  <a:pt x="22636" y="4034"/>
                  <a:pt x="22633" y="4065"/>
                </a:cubicBezTo>
                <a:cubicBezTo>
                  <a:pt x="22627" y="4131"/>
                  <a:pt x="22627" y="4196"/>
                  <a:pt x="22625" y="4262"/>
                </a:cubicBezTo>
                <a:cubicBezTo>
                  <a:pt x="22623" y="4323"/>
                  <a:pt x="22620" y="4383"/>
                  <a:pt x="22619" y="4444"/>
                </a:cubicBezTo>
                <a:cubicBezTo>
                  <a:pt x="22619" y="4470"/>
                  <a:pt x="22619" y="4494"/>
                  <a:pt x="22622" y="4518"/>
                </a:cubicBezTo>
                <a:cubicBezTo>
                  <a:pt x="22655" y="4520"/>
                  <a:pt x="22677" y="4511"/>
                  <a:pt x="22708" y="4498"/>
                </a:cubicBezTo>
                <a:cubicBezTo>
                  <a:pt x="22747" y="4481"/>
                  <a:pt x="22793" y="4468"/>
                  <a:pt x="22830" y="4446"/>
                </a:cubicBezTo>
                <a:cubicBezTo>
                  <a:pt x="22866" y="4425"/>
                  <a:pt x="22900" y="4402"/>
                  <a:pt x="22919" y="4365"/>
                </a:cubicBezTo>
              </a:path>
              <a:path w="1553" h="674">
                <a:moveTo>
                  <a:pt x="22628" y="4284"/>
                </a:moveTo>
                <a:cubicBezTo>
                  <a:pt x="22604" y="4283"/>
                  <a:pt x="22598" y="4283"/>
                  <a:pt x="22583" y="4279"/>
                </a:cubicBezTo>
                <a:cubicBezTo>
                  <a:pt x="22589" y="4242"/>
                  <a:pt x="22634" y="4241"/>
                  <a:pt x="22679" y="4236"/>
                </a:cubicBezTo>
                <a:cubicBezTo>
                  <a:pt x="22739" y="4229"/>
                  <a:pt x="22800" y="4225"/>
                  <a:pt x="22860" y="4217"/>
                </a:cubicBezTo>
                <a:cubicBezTo>
                  <a:pt x="22886" y="4213"/>
                  <a:pt x="22893" y="4212"/>
                  <a:pt x="22908" y="4205"/>
                </a:cubicBezTo>
              </a:path>
              <a:path w="1553" h="674">
                <a:moveTo>
                  <a:pt x="22663" y="4097"/>
                </a:moveTo>
                <a:cubicBezTo>
                  <a:pt x="22642" y="4093"/>
                  <a:pt x="22636" y="4093"/>
                  <a:pt x="22624" y="4087"/>
                </a:cubicBezTo>
                <a:cubicBezTo>
                  <a:pt x="22668" y="4068"/>
                  <a:pt x="22703" y="4066"/>
                  <a:pt x="22751" y="4065"/>
                </a:cubicBezTo>
                <a:cubicBezTo>
                  <a:pt x="22810" y="4063"/>
                  <a:pt x="22868" y="4057"/>
                  <a:pt x="22926" y="4047"/>
                </a:cubicBezTo>
              </a:path>
              <a:path w="1553" h="674">
                <a:moveTo>
                  <a:pt x="23074" y="3988"/>
                </a:moveTo>
                <a:cubicBezTo>
                  <a:pt x="23072" y="4055"/>
                  <a:pt x="23074" y="4121"/>
                  <a:pt x="23074" y="4187"/>
                </a:cubicBezTo>
                <a:cubicBezTo>
                  <a:pt x="23074" y="4266"/>
                  <a:pt x="23067" y="4350"/>
                  <a:pt x="23080" y="4428"/>
                </a:cubicBezTo>
                <a:cubicBezTo>
                  <a:pt x="23084" y="4453"/>
                  <a:pt x="23094" y="4481"/>
                  <a:pt x="23103" y="4504"/>
                </a:cubicBezTo>
              </a:path>
              <a:path w="1553" h="674">
                <a:moveTo>
                  <a:pt x="22809" y="4005"/>
                </a:moveTo>
                <a:cubicBezTo>
                  <a:pt x="22789" y="3990"/>
                  <a:pt x="22781" y="3985"/>
                  <a:pt x="22772" y="3963"/>
                </a:cubicBezTo>
                <a:cubicBezTo>
                  <a:pt x="22831" y="3933"/>
                  <a:pt x="22891" y="3938"/>
                  <a:pt x="22959" y="3945"/>
                </a:cubicBezTo>
                <a:cubicBezTo>
                  <a:pt x="23064" y="3956"/>
                  <a:pt x="23167" y="3975"/>
                  <a:pt x="23271" y="3993"/>
                </a:cubicBezTo>
                <a:cubicBezTo>
                  <a:pt x="23340" y="4005"/>
                  <a:pt x="23362" y="4008"/>
                  <a:pt x="23408" y="4012"/>
                </a:cubicBezTo>
              </a:path>
              <a:path w="1553" h="674">
                <a:moveTo>
                  <a:pt x="23646" y="4010"/>
                </a:moveTo>
                <a:cubicBezTo>
                  <a:pt x="23607" y="4006"/>
                  <a:pt x="23562" y="4001"/>
                  <a:pt x="23523" y="4005"/>
                </a:cubicBezTo>
                <a:cubicBezTo>
                  <a:pt x="23490" y="4008"/>
                  <a:pt x="23429" y="4018"/>
                  <a:pt x="23408" y="4047"/>
                </a:cubicBezTo>
                <a:cubicBezTo>
                  <a:pt x="23407" y="4052"/>
                  <a:pt x="23405" y="4057"/>
                  <a:pt x="23404" y="4062"/>
                </a:cubicBezTo>
                <a:cubicBezTo>
                  <a:pt x="23445" y="4101"/>
                  <a:pt x="23496" y="4123"/>
                  <a:pt x="23545" y="4151"/>
                </a:cubicBezTo>
                <a:cubicBezTo>
                  <a:pt x="23608" y="4188"/>
                  <a:pt x="23665" y="4226"/>
                  <a:pt x="23705" y="4289"/>
                </a:cubicBezTo>
                <a:cubicBezTo>
                  <a:pt x="23732" y="4331"/>
                  <a:pt x="23737" y="4376"/>
                  <a:pt x="23708" y="4419"/>
                </a:cubicBezTo>
                <a:cubicBezTo>
                  <a:pt x="23679" y="4462"/>
                  <a:pt x="23624" y="4472"/>
                  <a:pt x="23577" y="4461"/>
                </a:cubicBezTo>
                <a:cubicBezTo>
                  <a:pt x="23538" y="4452"/>
                  <a:pt x="23504" y="4428"/>
                  <a:pt x="23486" y="4392"/>
                </a:cubicBezTo>
                <a:cubicBezTo>
                  <a:pt x="23474" y="4369"/>
                  <a:pt x="23478" y="4347"/>
                  <a:pt x="23480" y="432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973840" y="1962000"/>
            <a:ext cx="1440" cy="3240"/>
          </a:xfrm>
          <a:custGeom>
            <a:avLst/>
            <a:gdLst/>
            <a:ahLst/>
            <a:rect l="l" t="t" r="r" b="b"/>
            <a:pathLst>
              <a:path w="6" h="12">
                <a:moveTo>
                  <a:pt x="16597" y="5449"/>
                </a:moveTo>
                <a:cubicBezTo>
                  <a:pt x="16595" y="5453"/>
                  <a:pt x="16594" y="5456"/>
                  <a:pt x="16592" y="546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5110200" y="1719360"/>
            <a:ext cx="642960" cy="228600"/>
          </a:xfrm>
          <a:custGeom>
            <a:avLst/>
            <a:gdLst/>
            <a:ahLst/>
            <a:rect l="l" t="t" r="r" b="b"/>
            <a:pathLst>
              <a:path w="1787" h="634">
                <a:moveTo>
                  <a:pt x="14204" y="5328"/>
                </a:moveTo>
                <a:cubicBezTo>
                  <a:pt x="14197" y="5344"/>
                  <a:pt x="14196" y="5354"/>
                  <a:pt x="14193" y="5371"/>
                </a:cubicBezTo>
                <a:cubicBezTo>
                  <a:pt x="14213" y="5339"/>
                  <a:pt x="14232" y="5306"/>
                  <a:pt x="14248" y="5269"/>
                </a:cubicBezTo>
                <a:cubicBezTo>
                  <a:pt x="14285" y="5183"/>
                  <a:pt x="14314" y="5094"/>
                  <a:pt x="14347" y="5007"/>
                </a:cubicBezTo>
                <a:cubicBezTo>
                  <a:pt x="14372" y="4942"/>
                  <a:pt x="14396" y="4877"/>
                  <a:pt x="14430" y="4816"/>
                </a:cubicBezTo>
                <a:cubicBezTo>
                  <a:pt x="14475" y="4811"/>
                  <a:pt x="14471" y="4880"/>
                  <a:pt x="14478" y="4919"/>
                </a:cubicBezTo>
                <a:cubicBezTo>
                  <a:pt x="14497" y="5025"/>
                  <a:pt x="14520" y="5129"/>
                  <a:pt x="14545" y="5234"/>
                </a:cubicBezTo>
                <a:cubicBezTo>
                  <a:pt x="14560" y="5297"/>
                  <a:pt x="14572" y="5353"/>
                  <a:pt x="14606" y="5408"/>
                </a:cubicBezTo>
              </a:path>
              <a:path w="1787" h="634">
                <a:moveTo>
                  <a:pt x="14351" y="5104"/>
                </a:moveTo>
                <a:cubicBezTo>
                  <a:pt x="14348" y="5108"/>
                  <a:pt x="14344" y="5112"/>
                  <a:pt x="14341" y="5116"/>
                </a:cubicBezTo>
                <a:cubicBezTo>
                  <a:pt x="14351" y="5151"/>
                  <a:pt x="14388" y="5142"/>
                  <a:pt x="14419" y="5142"/>
                </a:cubicBezTo>
                <a:cubicBezTo>
                  <a:pt x="14509" y="5142"/>
                  <a:pt x="14595" y="5134"/>
                  <a:pt x="14684" y="5122"/>
                </a:cubicBezTo>
                <a:cubicBezTo>
                  <a:pt x="14751" y="5113"/>
                  <a:pt x="14772" y="5110"/>
                  <a:pt x="14815" y="5098"/>
                </a:cubicBezTo>
              </a:path>
              <a:path w="1787" h="634">
                <a:moveTo>
                  <a:pt x="15197" y="4850"/>
                </a:moveTo>
                <a:cubicBezTo>
                  <a:pt x="15144" y="4851"/>
                  <a:pt x="15112" y="4861"/>
                  <a:pt x="15067" y="4890"/>
                </a:cubicBezTo>
                <a:cubicBezTo>
                  <a:pt x="15010" y="4926"/>
                  <a:pt x="14959" y="4975"/>
                  <a:pt x="14934" y="5039"/>
                </a:cubicBezTo>
                <a:cubicBezTo>
                  <a:pt x="14912" y="5096"/>
                  <a:pt x="14947" y="5128"/>
                  <a:pt x="14999" y="5143"/>
                </a:cubicBezTo>
                <a:cubicBezTo>
                  <a:pt x="15068" y="5162"/>
                  <a:pt x="15152" y="5160"/>
                  <a:pt x="15224" y="5162"/>
                </a:cubicBezTo>
                <a:cubicBezTo>
                  <a:pt x="15264" y="5163"/>
                  <a:pt x="15300" y="5164"/>
                  <a:pt x="15339" y="5170"/>
                </a:cubicBezTo>
              </a:path>
              <a:path w="1787" h="634">
                <a:moveTo>
                  <a:pt x="14938" y="5350"/>
                </a:moveTo>
                <a:cubicBezTo>
                  <a:pt x="14933" y="5353"/>
                  <a:pt x="14928" y="5357"/>
                  <a:pt x="14923" y="5360"/>
                </a:cubicBezTo>
                <a:cubicBezTo>
                  <a:pt x="14979" y="5355"/>
                  <a:pt x="15032" y="5338"/>
                  <a:pt x="15088" y="5328"/>
                </a:cubicBezTo>
                <a:cubicBezTo>
                  <a:pt x="15181" y="5311"/>
                  <a:pt x="15274" y="5297"/>
                  <a:pt x="15368" y="5286"/>
                </a:cubicBezTo>
                <a:cubicBezTo>
                  <a:pt x="15420" y="5280"/>
                  <a:pt x="15435" y="5279"/>
                  <a:pt x="15468" y="5276"/>
                </a:cubicBezTo>
              </a:path>
              <a:path w="1787" h="634">
                <a:moveTo>
                  <a:pt x="15587" y="4983"/>
                </a:moveTo>
                <a:cubicBezTo>
                  <a:pt x="15576" y="5012"/>
                  <a:pt x="15585" y="5017"/>
                  <a:pt x="15594" y="5047"/>
                </a:cubicBezTo>
                <a:cubicBezTo>
                  <a:pt x="15621" y="5139"/>
                  <a:pt x="15653" y="5229"/>
                  <a:pt x="15681" y="5321"/>
                </a:cubicBezTo>
                <a:cubicBezTo>
                  <a:pt x="15687" y="5339"/>
                  <a:pt x="15688" y="5333"/>
                  <a:pt x="15683" y="5352"/>
                </a:cubicBezTo>
                <a:cubicBezTo>
                  <a:pt x="15662" y="5288"/>
                  <a:pt x="15649" y="5222"/>
                  <a:pt x="15644" y="5155"/>
                </a:cubicBezTo>
                <a:cubicBezTo>
                  <a:pt x="15638" y="5076"/>
                  <a:pt x="15642" y="4997"/>
                  <a:pt x="15658" y="4919"/>
                </a:cubicBezTo>
                <a:cubicBezTo>
                  <a:pt x="15667" y="4875"/>
                  <a:pt x="15684" y="4800"/>
                  <a:pt x="15731" y="4778"/>
                </a:cubicBezTo>
                <a:cubicBezTo>
                  <a:pt x="15739" y="4777"/>
                  <a:pt x="15747" y="4776"/>
                  <a:pt x="15755" y="4775"/>
                </a:cubicBezTo>
                <a:cubicBezTo>
                  <a:pt x="15797" y="4798"/>
                  <a:pt x="15813" y="4821"/>
                  <a:pt x="15816" y="4872"/>
                </a:cubicBezTo>
                <a:cubicBezTo>
                  <a:pt x="15822" y="4986"/>
                  <a:pt x="15752" y="5078"/>
                  <a:pt x="15687" y="5163"/>
                </a:cubicBezTo>
                <a:cubicBezTo>
                  <a:pt x="15742" y="5154"/>
                  <a:pt x="15796" y="5150"/>
                  <a:pt x="15851" y="5163"/>
                </a:cubicBezTo>
                <a:cubicBezTo>
                  <a:pt x="15903" y="5175"/>
                  <a:pt x="15955" y="5202"/>
                  <a:pt x="15974" y="5255"/>
                </a:cubicBezTo>
                <a:cubicBezTo>
                  <a:pt x="15992" y="5304"/>
                  <a:pt x="15961" y="5342"/>
                  <a:pt x="15923" y="5368"/>
                </a:cubicBezTo>
                <a:cubicBezTo>
                  <a:pt x="15880" y="5398"/>
                  <a:pt x="15811" y="5404"/>
                  <a:pt x="15769" y="5369"/>
                </a:cubicBezTo>
                <a:cubicBezTo>
                  <a:pt x="15764" y="5363"/>
                  <a:pt x="15760" y="5357"/>
                  <a:pt x="15755" y="535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5905440" y="1814400"/>
            <a:ext cx="120600" cy="230400"/>
          </a:xfrm>
          <a:custGeom>
            <a:avLst/>
            <a:gdLst/>
            <a:ahLst/>
            <a:rect l="l" t="t" r="r" b="b"/>
            <a:pathLst>
              <a:path w="335" h="636">
                <a:moveTo>
                  <a:pt x="16611" y="5430"/>
                </a:moveTo>
                <a:cubicBezTo>
                  <a:pt x="16613" y="5451"/>
                  <a:pt x="16611" y="5472"/>
                  <a:pt x="16609" y="5495"/>
                </a:cubicBezTo>
                <a:cubicBezTo>
                  <a:pt x="16607" y="5523"/>
                  <a:pt x="16601" y="5553"/>
                  <a:pt x="16589" y="5578"/>
                </a:cubicBezTo>
                <a:cubicBezTo>
                  <a:pt x="16581" y="5594"/>
                  <a:pt x="16565" y="5604"/>
                  <a:pt x="16547" y="5603"/>
                </a:cubicBezTo>
                <a:cubicBezTo>
                  <a:pt x="16523" y="5601"/>
                  <a:pt x="16510" y="5595"/>
                  <a:pt x="16518" y="5569"/>
                </a:cubicBezTo>
                <a:cubicBezTo>
                  <a:pt x="16526" y="5553"/>
                  <a:pt x="16529" y="5547"/>
                  <a:pt x="16535" y="5537"/>
                </a:cubicBezTo>
              </a:path>
              <a:path w="335" h="636">
                <a:moveTo>
                  <a:pt x="16404" y="5335"/>
                </a:moveTo>
                <a:cubicBezTo>
                  <a:pt x="16430" y="5347"/>
                  <a:pt x="16430" y="5320"/>
                  <a:pt x="16446" y="5290"/>
                </a:cubicBezTo>
                <a:cubicBezTo>
                  <a:pt x="16469" y="5247"/>
                  <a:pt x="16492" y="5204"/>
                  <a:pt x="16517" y="5162"/>
                </a:cubicBezTo>
                <a:cubicBezTo>
                  <a:pt x="16540" y="5124"/>
                  <a:pt x="16567" y="5077"/>
                  <a:pt x="16605" y="5051"/>
                </a:cubicBezTo>
                <a:cubicBezTo>
                  <a:pt x="16637" y="5029"/>
                  <a:pt x="16660" y="5052"/>
                  <a:pt x="16673" y="5082"/>
                </a:cubicBezTo>
                <a:cubicBezTo>
                  <a:pt x="16695" y="5133"/>
                  <a:pt x="16703" y="5198"/>
                  <a:pt x="16711" y="5252"/>
                </a:cubicBezTo>
                <a:cubicBezTo>
                  <a:pt x="16718" y="5297"/>
                  <a:pt x="16723" y="5342"/>
                  <a:pt x="16734" y="5387"/>
                </a:cubicBezTo>
                <a:cubicBezTo>
                  <a:pt x="16735" y="5391"/>
                  <a:pt x="16737" y="5396"/>
                  <a:pt x="16738" y="5400"/>
                </a:cubicBezTo>
              </a:path>
              <a:path w="335" h="636">
                <a:moveTo>
                  <a:pt x="16652" y="5645"/>
                </a:moveTo>
                <a:cubicBezTo>
                  <a:pt x="16640" y="5634"/>
                  <a:pt x="16637" y="5630"/>
                  <a:pt x="16626" y="5630"/>
                </a:cubicBezTo>
                <a:cubicBezTo>
                  <a:pt x="16641" y="5620"/>
                  <a:pt x="16642" y="5609"/>
                  <a:pt x="16652" y="5593"/>
                </a:cubicBezTo>
                <a:cubicBezTo>
                  <a:pt x="16660" y="5580"/>
                  <a:pt x="16666" y="5568"/>
                  <a:pt x="16673" y="5555"/>
                </a:cubicBezTo>
                <a:cubicBezTo>
                  <a:pt x="16644" y="5581"/>
                  <a:pt x="16618" y="5609"/>
                  <a:pt x="16590" y="5636"/>
                </a:cubicBezTo>
                <a:cubicBezTo>
                  <a:pt x="16568" y="5657"/>
                  <a:pt x="16556" y="5667"/>
                  <a:pt x="16528" y="5677"/>
                </a:cubicBezTo>
                <a:cubicBezTo>
                  <a:pt x="16505" y="5665"/>
                  <a:pt x="16515" y="5644"/>
                  <a:pt x="16525" y="5621"/>
                </a:cubicBezTo>
                <a:cubicBezTo>
                  <a:pt x="16539" y="5587"/>
                  <a:pt x="16556" y="5559"/>
                  <a:pt x="16581" y="5533"/>
                </a:cubicBezTo>
                <a:cubicBezTo>
                  <a:pt x="16584" y="5530"/>
                  <a:pt x="16588" y="5526"/>
                  <a:pt x="16591" y="5523"/>
                </a:cubicBezTo>
                <a:cubicBezTo>
                  <a:pt x="16603" y="5535"/>
                  <a:pt x="16604" y="5551"/>
                  <a:pt x="16605" y="5570"/>
                </a:cubicBezTo>
                <a:cubicBezTo>
                  <a:pt x="16605" y="5574"/>
                  <a:pt x="16604" y="5577"/>
                  <a:pt x="16604" y="558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6202440" y="1711440"/>
            <a:ext cx="639720" cy="233280"/>
          </a:xfrm>
          <a:custGeom>
            <a:avLst/>
            <a:gdLst/>
            <a:ahLst/>
            <a:rect l="l" t="t" r="r" b="b"/>
            <a:pathLst>
              <a:path w="1774" h="651">
                <a:moveTo>
                  <a:pt x="17236" y="4891"/>
                </a:moveTo>
                <a:cubicBezTo>
                  <a:pt x="17232" y="4935"/>
                  <a:pt x="17233" y="4967"/>
                  <a:pt x="17238" y="5011"/>
                </a:cubicBezTo>
                <a:cubicBezTo>
                  <a:pt x="17246" y="5086"/>
                  <a:pt x="17259" y="5161"/>
                  <a:pt x="17271" y="5235"/>
                </a:cubicBezTo>
                <a:cubicBezTo>
                  <a:pt x="17276" y="5268"/>
                  <a:pt x="17284" y="5300"/>
                  <a:pt x="17290" y="5333"/>
                </a:cubicBezTo>
                <a:cubicBezTo>
                  <a:pt x="17289" y="5291"/>
                  <a:pt x="17288" y="5247"/>
                  <a:pt x="17289" y="5204"/>
                </a:cubicBezTo>
                <a:cubicBezTo>
                  <a:pt x="17291" y="5118"/>
                  <a:pt x="17302" y="5034"/>
                  <a:pt x="17320" y="4949"/>
                </a:cubicBezTo>
                <a:cubicBezTo>
                  <a:pt x="17332" y="4891"/>
                  <a:pt x="17346" y="4817"/>
                  <a:pt x="17382" y="4768"/>
                </a:cubicBezTo>
                <a:cubicBezTo>
                  <a:pt x="17388" y="4763"/>
                  <a:pt x="17393" y="4758"/>
                  <a:pt x="17399" y="4753"/>
                </a:cubicBezTo>
                <a:cubicBezTo>
                  <a:pt x="17417" y="4776"/>
                  <a:pt x="17420" y="4784"/>
                  <a:pt x="17413" y="4827"/>
                </a:cubicBezTo>
                <a:cubicBezTo>
                  <a:pt x="17404" y="4883"/>
                  <a:pt x="17384" y="4933"/>
                  <a:pt x="17363" y="4985"/>
                </a:cubicBezTo>
                <a:cubicBezTo>
                  <a:pt x="17354" y="5008"/>
                  <a:pt x="17351" y="5013"/>
                  <a:pt x="17349" y="5028"/>
                </a:cubicBezTo>
                <a:cubicBezTo>
                  <a:pt x="17388" y="5031"/>
                  <a:pt x="17421" y="5015"/>
                  <a:pt x="17462" y="5011"/>
                </a:cubicBezTo>
                <a:cubicBezTo>
                  <a:pt x="17510" y="5006"/>
                  <a:pt x="17560" y="5009"/>
                  <a:pt x="17595" y="5047"/>
                </a:cubicBezTo>
                <a:cubicBezTo>
                  <a:pt x="17642" y="5098"/>
                  <a:pt x="17622" y="5174"/>
                  <a:pt x="17595" y="5228"/>
                </a:cubicBezTo>
                <a:cubicBezTo>
                  <a:pt x="17571" y="5276"/>
                  <a:pt x="17536" y="5317"/>
                  <a:pt x="17488" y="5341"/>
                </a:cubicBezTo>
                <a:cubicBezTo>
                  <a:pt x="17455" y="5358"/>
                  <a:pt x="17423" y="5355"/>
                  <a:pt x="17405" y="5320"/>
                </a:cubicBezTo>
                <a:cubicBezTo>
                  <a:pt x="17392" y="5295"/>
                  <a:pt x="17399" y="5273"/>
                  <a:pt x="17403" y="5247"/>
                </a:cubicBezTo>
              </a:path>
              <a:path w="1774" h="651">
                <a:moveTo>
                  <a:pt x="18129" y="4896"/>
                </a:moveTo>
                <a:cubicBezTo>
                  <a:pt x="18138" y="4884"/>
                  <a:pt x="18141" y="4881"/>
                  <a:pt x="18145" y="4872"/>
                </a:cubicBezTo>
                <a:cubicBezTo>
                  <a:pt x="18135" y="4837"/>
                  <a:pt x="18109" y="4840"/>
                  <a:pt x="18076" y="4849"/>
                </a:cubicBezTo>
                <a:cubicBezTo>
                  <a:pt x="18021" y="4864"/>
                  <a:pt x="17968" y="4898"/>
                  <a:pt x="17924" y="4933"/>
                </a:cubicBezTo>
                <a:cubicBezTo>
                  <a:pt x="17900" y="4952"/>
                  <a:pt x="17837" y="5001"/>
                  <a:pt x="17852" y="5042"/>
                </a:cubicBezTo>
                <a:cubicBezTo>
                  <a:pt x="17866" y="5080"/>
                  <a:pt x="17959" y="5072"/>
                  <a:pt x="17987" y="5073"/>
                </a:cubicBezTo>
                <a:cubicBezTo>
                  <a:pt x="18048" y="5075"/>
                  <a:pt x="18107" y="5064"/>
                  <a:pt x="18168" y="5068"/>
                </a:cubicBezTo>
                <a:cubicBezTo>
                  <a:pt x="18189" y="5071"/>
                  <a:pt x="18193" y="5070"/>
                  <a:pt x="18205" y="5076"/>
                </a:cubicBezTo>
              </a:path>
              <a:path w="1774" h="651">
                <a:moveTo>
                  <a:pt x="17932" y="5252"/>
                </a:moveTo>
                <a:cubicBezTo>
                  <a:pt x="17935" y="5282"/>
                  <a:pt x="17976" y="5268"/>
                  <a:pt x="18009" y="5264"/>
                </a:cubicBezTo>
                <a:cubicBezTo>
                  <a:pt x="18065" y="5257"/>
                  <a:pt x="18124" y="5251"/>
                  <a:pt x="18179" y="5240"/>
                </a:cubicBezTo>
                <a:cubicBezTo>
                  <a:pt x="18214" y="5233"/>
                  <a:pt x="18248" y="5221"/>
                  <a:pt x="18282" y="5210"/>
                </a:cubicBezTo>
              </a:path>
              <a:path w="1774" h="651">
                <a:moveTo>
                  <a:pt x="18512" y="5386"/>
                </a:moveTo>
                <a:cubicBezTo>
                  <a:pt x="18526" y="5359"/>
                  <a:pt x="18542" y="5327"/>
                  <a:pt x="18551" y="5295"/>
                </a:cubicBezTo>
                <a:cubicBezTo>
                  <a:pt x="18574" y="5216"/>
                  <a:pt x="18596" y="5141"/>
                  <a:pt x="18628" y="5065"/>
                </a:cubicBezTo>
                <a:cubicBezTo>
                  <a:pt x="18653" y="5006"/>
                  <a:pt x="18681" y="4926"/>
                  <a:pt x="18730" y="4881"/>
                </a:cubicBezTo>
                <a:cubicBezTo>
                  <a:pt x="18749" y="4872"/>
                  <a:pt x="18754" y="4868"/>
                  <a:pt x="18766" y="4878"/>
                </a:cubicBezTo>
                <a:cubicBezTo>
                  <a:pt x="18787" y="4942"/>
                  <a:pt x="18787" y="5005"/>
                  <a:pt x="18791" y="5073"/>
                </a:cubicBezTo>
                <a:cubicBezTo>
                  <a:pt x="18797" y="5158"/>
                  <a:pt x="18801" y="5245"/>
                  <a:pt x="18815" y="5328"/>
                </a:cubicBezTo>
                <a:cubicBezTo>
                  <a:pt x="18820" y="5356"/>
                  <a:pt x="18828" y="5379"/>
                  <a:pt x="18841" y="5403"/>
                </a:cubicBezTo>
              </a:path>
              <a:path w="1774" h="651">
                <a:moveTo>
                  <a:pt x="18583" y="5166"/>
                </a:moveTo>
                <a:cubicBezTo>
                  <a:pt x="18561" y="5179"/>
                  <a:pt x="18644" y="5163"/>
                  <a:pt x="18656" y="5162"/>
                </a:cubicBezTo>
                <a:cubicBezTo>
                  <a:pt x="18722" y="5156"/>
                  <a:pt x="18792" y="5154"/>
                  <a:pt x="18858" y="5160"/>
                </a:cubicBezTo>
                <a:cubicBezTo>
                  <a:pt x="18907" y="5164"/>
                  <a:pt x="18956" y="5177"/>
                  <a:pt x="19003" y="519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649680" y="2313000"/>
            <a:ext cx="5222880" cy="63360"/>
          </a:xfrm>
          <a:custGeom>
            <a:avLst/>
            <a:gdLst/>
            <a:ahLst/>
            <a:rect l="l" t="t" r="r" b="b"/>
            <a:pathLst>
              <a:path w="14511" h="179">
                <a:moveTo>
                  <a:pt x="10137" y="6601"/>
                </a:moveTo>
                <a:cubicBezTo>
                  <a:pt x="10141" y="6584"/>
                  <a:pt x="10141" y="6585"/>
                  <a:pt x="10157" y="6576"/>
                </a:cubicBezTo>
              </a:path>
              <a:path w="14511" h="179">
                <a:moveTo>
                  <a:pt x="24548" y="6423"/>
                </a:moveTo>
                <a:cubicBezTo>
                  <a:pt x="24565" y="6496"/>
                  <a:pt x="24586" y="6507"/>
                  <a:pt x="24647" y="655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866880" y="2039760"/>
            <a:ext cx="358560" cy="360720"/>
          </a:xfrm>
          <a:custGeom>
            <a:avLst/>
            <a:gdLst/>
            <a:ahLst/>
            <a:rect l="l" t="t" r="r" b="b"/>
            <a:pathLst>
              <a:path w="994" h="999">
                <a:moveTo>
                  <a:pt x="2716" y="5700"/>
                </a:moveTo>
                <a:cubicBezTo>
                  <a:pt x="2715" y="5685"/>
                  <a:pt x="2714" y="5680"/>
                  <a:pt x="2720" y="5672"/>
                </a:cubicBezTo>
                <a:cubicBezTo>
                  <a:pt x="2693" y="5690"/>
                  <a:pt x="2679" y="5709"/>
                  <a:pt x="2653" y="5747"/>
                </a:cubicBezTo>
                <a:cubicBezTo>
                  <a:pt x="2599" y="5826"/>
                  <a:pt x="2545" y="5902"/>
                  <a:pt x="2497" y="5985"/>
                </a:cubicBezTo>
                <a:cubicBezTo>
                  <a:pt x="2460" y="6049"/>
                  <a:pt x="2408" y="6131"/>
                  <a:pt x="2417" y="6209"/>
                </a:cubicBezTo>
                <a:cubicBezTo>
                  <a:pt x="2424" y="6270"/>
                  <a:pt x="2488" y="6310"/>
                  <a:pt x="2531" y="6346"/>
                </a:cubicBezTo>
                <a:cubicBezTo>
                  <a:pt x="2579" y="6386"/>
                  <a:pt x="2635" y="6427"/>
                  <a:pt x="2657" y="6488"/>
                </a:cubicBezTo>
                <a:cubicBezTo>
                  <a:pt x="2674" y="6535"/>
                  <a:pt x="2661" y="6590"/>
                  <a:pt x="2622" y="6622"/>
                </a:cubicBezTo>
                <a:cubicBezTo>
                  <a:pt x="2580" y="6657"/>
                  <a:pt x="2496" y="6684"/>
                  <a:pt x="2443" y="6659"/>
                </a:cubicBezTo>
                <a:cubicBezTo>
                  <a:pt x="2387" y="6632"/>
                  <a:pt x="2417" y="6578"/>
                  <a:pt x="2432" y="6537"/>
                </a:cubicBezTo>
              </a:path>
              <a:path w="994" h="999">
                <a:moveTo>
                  <a:pt x="2740" y="6484"/>
                </a:moveTo>
                <a:cubicBezTo>
                  <a:pt x="2787" y="6502"/>
                  <a:pt x="2802" y="6487"/>
                  <a:pt x="2842" y="6459"/>
                </a:cubicBezTo>
                <a:cubicBezTo>
                  <a:pt x="2900" y="6419"/>
                  <a:pt x="2944" y="6370"/>
                  <a:pt x="2983" y="6311"/>
                </a:cubicBezTo>
                <a:cubicBezTo>
                  <a:pt x="3009" y="6272"/>
                  <a:pt x="3031" y="6236"/>
                  <a:pt x="3013" y="6193"/>
                </a:cubicBezTo>
                <a:cubicBezTo>
                  <a:pt x="2970" y="6207"/>
                  <a:pt x="2941" y="6242"/>
                  <a:pt x="2918" y="6282"/>
                </a:cubicBezTo>
                <a:cubicBezTo>
                  <a:pt x="2883" y="6341"/>
                  <a:pt x="2865" y="6414"/>
                  <a:pt x="2880" y="6482"/>
                </a:cubicBezTo>
                <a:cubicBezTo>
                  <a:pt x="2895" y="6546"/>
                  <a:pt x="2955" y="6549"/>
                  <a:pt x="3007" y="6530"/>
                </a:cubicBezTo>
                <a:cubicBezTo>
                  <a:pt x="3055" y="6506"/>
                  <a:pt x="3071" y="6497"/>
                  <a:pt x="3097" y="6471"/>
                </a:cubicBezTo>
              </a:path>
              <a:path w="994" h="999">
                <a:moveTo>
                  <a:pt x="3181" y="5935"/>
                </a:moveTo>
                <a:cubicBezTo>
                  <a:pt x="3162" y="5983"/>
                  <a:pt x="3174" y="6051"/>
                  <a:pt x="3181" y="6103"/>
                </a:cubicBezTo>
                <a:cubicBezTo>
                  <a:pt x="3195" y="6214"/>
                  <a:pt x="3218" y="6324"/>
                  <a:pt x="3234" y="6435"/>
                </a:cubicBezTo>
                <a:cubicBezTo>
                  <a:pt x="3242" y="6493"/>
                  <a:pt x="3246" y="6546"/>
                  <a:pt x="3245" y="6605"/>
                </a:cubicBezTo>
              </a:path>
              <a:path w="994" h="999">
                <a:moveTo>
                  <a:pt x="3043" y="6383"/>
                </a:moveTo>
                <a:cubicBezTo>
                  <a:pt x="3050" y="6325"/>
                  <a:pt x="3058" y="6287"/>
                  <a:pt x="3114" y="6256"/>
                </a:cubicBezTo>
                <a:cubicBezTo>
                  <a:pt x="3181" y="6219"/>
                  <a:pt x="3265" y="6215"/>
                  <a:pt x="3338" y="6205"/>
                </a:cubicBezTo>
                <a:cubicBezTo>
                  <a:pt x="3359" y="6202"/>
                  <a:pt x="3381" y="6199"/>
                  <a:pt x="3402" y="619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433520" y="2108160"/>
            <a:ext cx="243000" cy="292320"/>
          </a:xfrm>
          <a:custGeom>
            <a:avLst/>
            <a:gdLst/>
            <a:ahLst/>
            <a:rect l="l" t="t" r="r" b="b"/>
            <a:pathLst>
              <a:path w="674" h="811">
                <a:moveTo>
                  <a:pt x="4062" y="6393"/>
                </a:moveTo>
                <a:cubicBezTo>
                  <a:pt x="4051" y="6367"/>
                  <a:pt x="4041" y="6345"/>
                  <a:pt x="4026" y="6322"/>
                </a:cubicBezTo>
                <a:cubicBezTo>
                  <a:pt x="3993" y="6326"/>
                  <a:pt x="3990" y="6349"/>
                  <a:pt x="3985" y="6381"/>
                </a:cubicBezTo>
                <a:cubicBezTo>
                  <a:pt x="3977" y="6432"/>
                  <a:pt x="3978" y="6488"/>
                  <a:pt x="3990" y="6538"/>
                </a:cubicBezTo>
                <a:cubicBezTo>
                  <a:pt x="3996" y="6565"/>
                  <a:pt x="4011" y="6609"/>
                  <a:pt x="4047" y="6603"/>
                </a:cubicBezTo>
                <a:cubicBezTo>
                  <a:pt x="4087" y="6596"/>
                  <a:pt x="4119" y="6552"/>
                  <a:pt x="4142" y="6524"/>
                </a:cubicBezTo>
                <a:cubicBezTo>
                  <a:pt x="4174" y="6485"/>
                  <a:pt x="4206" y="6438"/>
                  <a:pt x="4227" y="6393"/>
                </a:cubicBezTo>
                <a:cubicBezTo>
                  <a:pt x="4241" y="6363"/>
                  <a:pt x="4250" y="6328"/>
                  <a:pt x="4255" y="6295"/>
                </a:cubicBezTo>
              </a:path>
              <a:path w="674" h="811">
                <a:moveTo>
                  <a:pt x="4335" y="6660"/>
                </a:moveTo>
                <a:cubicBezTo>
                  <a:pt x="4346" y="6650"/>
                  <a:pt x="4359" y="6636"/>
                  <a:pt x="4358" y="6594"/>
                </a:cubicBezTo>
                <a:cubicBezTo>
                  <a:pt x="4357" y="6516"/>
                  <a:pt x="4351" y="6438"/>
                  <a:pt x="4344" y="6361"/>
                </a:cubicBezTo>
                <a:cubicBezTo>
                  <a:pt x="4331" y="6231"/>
                  <a:pt x="4303" y="6092"/>
                  <a:pt x="4321" y="5961"/>
                </a:cubicBezTo>
                <a:cubicBezTo>
                  <a:pt x="4325" y="5933"/>
                  <a:pt x="4336" y="5861"/>
                  <a:pt x="4377" y="5857"/>
                </a:cubicBezTo>
                <a:cubicBezTo>
                  <a:pt x="4417" y="5853"/>
                  <a:pt x="4449" y="5906"/>
                  <a:pt x="4457" y="5938"/>
                </a:cubicBezTo>
                <a:cubicBezTo>
                  <a:pt x="4468" y="5981"/>
                  <a:pt x="4454" y="6018"/>
                  <a:pt x="4443" y="6058"/>
                </a:cubicBezTo>
              </a:path>
              <a:path w="674" h="811">
                <a:moveTo>
                  <a:pt x="4171" y="6314"/>
                </a:moveTo>
                <a:cubicBezTo>
                  <a:pt x="4167" y="6318"/>
                  <a:pt x="4163" y="6323"/>
                  <a:pt x="4159" y="6327"/>
                </a:cubicBezTo>
                <a:cubicBezTo>
                  <a:pt x="4201" y="6331"/>
                  <a:pt x="4259" y="6311"/>
                  <a:pt x="4305" y="6299"/>
                </a:cubicBezTo>
                <a:cubicBezTo>
                  <a:pt x="4397" y="6275"/>
                  <a:pt x="4489" y="6255"/>
                  <a:pt x="4582" y="6237"/>
                </a:cubicBezTo>
                <a:cubicBezTo>
                  <a:pt x="4606" y="6233"/>
                  <a:pt x="4630" y="6228"/>
                  <a:pt x="4654" y="622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808280" y="2073240"/>
            <a:ext cx="266760" cy="284040"/>
          </a:xfrm>
          <a:custGeom>
            <a:avLst/>
            <a:gdLst/>
            <a:ahLst/>
            <a:rect l="l" t="t" r="r" b="b"/>
            <a:pathLst>
              <a:path w="741" h="790">
                <a:moveTo>
                  <a:pt x="5181" y="6236"/>
                </a:moveTo>
                <a:cubicBezTo>
                  <a:pt x="5167" y="6213"/>
                  <a:pt x="5139" y="6162"/>
                  <a:pt x="5101" y="6191"/>
                </a:cubicBezTo>
                <a:cubicBezTo>
                  <a:pt x="5059" y="6223"/>
                  <a:pt x="5038" y="6304"/>
                  <a:pt x="5029" y="6352"/>
                </a:cubicBezTo>
                <a:cubicBezTo>
                  <a:pt x="5019" y="6405"/>
                  <a:pt x="5009" y="6488"/>
                  <a:pt x="5051" y="6531"/>
                </a:cubicBezTo>
                <a:cubicBezTo>
                  <a:pt x="5091" y="6572"/>
                  <a:pt x="5149" y="6522"/>
                  <a:pt x="5177" y="6495"/>
                </a:cubicBezTo>
                <a:cubicBezTo>
                  <a:pt x="5222" y="6452"/>
                  <a:pt x="5256" y="6398"/>
                  <a:pt x="5285" y="6343"/>
                </a:cubicBezTo>
                <a:cubicBezTo>
                  <a:pt x="5296" y="6320"/>
                  <a:pt x="5298" y="6315"/>
                  <a:pt x="5308" y="6303"/>
                </a:cubicBezTo>
                <a:cubicBezTo>
                  <a:pt x="5324" y="6341"/>
                  <a:pt x="5326" y="6382"/>
                  <a:pt x="5339" y="6421"/>
                </a:cubicBezTo>
                <a:cubicBezTo>
                  <a:pt x="5356" y="6471"/>
                  <a:pt x="5376" y="6489"/>
                  <a:pt x="5425" y="6495"/>
                </a:cubicBezTo>
              </a:path>
              <a:path w="741" h="790">
                <a:moveTo>
                  <a:pt x="5588" y="5759"/>
                </a:moveTo>
                <a:cubicBezTo>
                  <a:pt x="5564" y="5812"/>
                  <a:pt x="5554" y="5863"/>
                  <a:pt x="5547" y="5928"/>
                </a:cubicBezTo>
                <a:cubicBezTo>
                  <a:pt x="5533" y="6054"/>
                  <a:pt x="5538" y="6187"/>
                  <a:pt x="5556" y="6313"/>
                </a:cubicBezTo>
                <a:cubicBezTo>
                  <a:pt x="5562" y="6355"/>
                  <a:pt x="5573" y="6512"/>
                  <a:pt x="5625" y="6535"/>
                </a:cubicBezTo>
                <a:cubicBezTo>
                  <a:pt x="5631" y="6533"/>
                  <a:pt x="5636" y="6530"/>
                  <a:pt x="5642" y="6528"/>
                </a:cubicBezTo>
              </a:path>
              <a:path w="741" h="790">
                <a:moveTo>
                  <a:pt x="5763" y="5797"/>
                </a:moveTo>
                <a:cubicBezTo>
                  <a:pt x="5730" y="5923"/>
                  <a:pt x="5706" y="6050"/>
                  <a:pt x="5702" y="6181"/>
                </a:cubicBezTo>
                <a:cubicBezTo>
                  <a:pt x="5699" y="6289"/>
                  <a:pt x="5694" y="6404"/>
                  <a:pt x="5722" y="6510"/>
                </a:cubicBezTo>
                <a:cubicBezTo>
                  <a:pt x="5727" y="6523"/>
                  <a:pt x="5732" y="6535"/>
                  <a:pt x="5737" y="654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362320" y="2108160"/>
            <a:ext cx="1171440" cy="298440"/>
          </a:xfrm>
          <a:custGeom>
            <a:avLst/>
            <a:gdLst/>
            <a:ahLst/>
            <a:rect l="l" t="t" r="r" b="b"/>
            <a:pathLst>
              <a:path w="3255" h="833">
                <a:moveTo>
                  <a:pt x="6640" y="6123"/>
                </a:moveTo>
                <a:cubicBezTo>
                  <a:pt x="6616" y="6103"/>
                  <a:pt x="6619" y="6103"/>
                  <a:pt x="6597" y="6115"/>
                </a:cubicBezTo>
                <a:cubicBezTo>
                  <a:pt x="6576" y="6127"/>
                  <a:pt x="6568" y="6160"/>
                  <a:pt x="6563" y="6183"/>
                </a:cubicBezTo>
                <a:cubicBezTo>
                  <a:pt x="6557" y="6210"/>
                  <a:pt x="6559" y="6235"/>
                  <a:pt x="6584" y="6251"/>
                </a:cubicBezTo>
                <a:cubicBezTo>
                  <a:pt x="6621" y="6274"/>
                  <a:pt x="6665" y="6284"/>
                  <a:pt x="6702" y="6308"/>
                </a:cubicBezTo>
                <a:cubicBezTo>
                  <a:pt x="6763" y="6347"/>
                  <a:pt x="6811" y="6401"/>
                  <a:pt x="6808" y="6477"/>
                </a:cubicBezTo>
                <a:cubicBezTo>
                  <a:pt x="6805" y="6542"/>
                  <a:pt x="6729" y="6618"/>
                  <a:pt x="6659" y="6592"/>
                </a:cubicBezTo>
                <a:cubicBezTo>
                  <a:pt x="6606" y="6573"/>
                  <a:pt x="6609" y="6505"/>
                  <a:pt x="6621" y="6461"/>
                </a:cubicBezTo>
                <a:cubicBezTo>
                  <a:pt x="6628" y="6443"/>
                  <a:pt x="6635" y="6426"/>
                  <a:pt x="6642" y="6408"/>
                </a:cubicBezTo>
              </a:path>
              <a:path w="3255" h="833">
                <a:moveTo>
                  <a:pt x="6940" y="6235"/>
                </a:moveTo>
                <a:cubicBezTo>
                  <a:pt x="6946" y="6294"/>
                  <a:pt x="6948" y="6354"/>
                  <a:pt x="6945" y="6414"/>
                </a:cubicBezTo>
                <a:cubicBezTo>
                  <a:pt x="6943" y="6446"/>
                  <a:pt x="6932" y="6507"/>
                  <a:pt x="6957" y="6535"/>
                </a:cubicBezTo>
                <a:cubicBezTo>
                  <a:pt x="6961" y="6537"/>
                  <a:pt x="6966" y="6538"/>
                  <a:pt x="6970" y="6540"/>
                </a:cubicBezTo>
                <a:cubicBezTo>
                  <a:pt x="7007" y="6512"/>
                  <a:pt x="7028" y="6479"/>
                  <a:pt x="7053" y="6440"/>
                </a:cubicBezTo>
                <a:cubicBezTo>
                  <a:pt x="7075" y="6405"/>
                  <a:pt x="7097" y="6346"/>
                  <a:pt x="7130" y="6321"/>
                </a:cubicBezTo>
                <a:cubicBezTo>
                  <a:pt x="7134" y="6320"/>
                  <a:pt x="7137" y="6320"/>
                  <a:pt x="7141" y="6319"/>
                </a:cubicBezTo>
                <a:cubicBezTo>
                  <a:pt x="7154" y="6360"/>
                  <a:pt x="7154" y="6400"/>
                  <a:pt x="7158" y="6442"/>
                </a:cubicBezTo>
                <a:cubicBezTo>
                  <a:pt x="7162" y="6486"/>
                  <a:pt x="7166" y="6520"/>
                  <a:pt x="7206" y="6538"/>
                </a:cubicBezTo>
              </a:path>
              <a:path w="3255" h="833">
                <a:moveTo>
                  <a:pt x="7296" y="5854"/>
                </a:moveTo>
                <a:cubicBezTo>
                  <a:pt x="7269" y="5898"/>
                  <a:pt x="7270" y="5952"/>
                  <a:pt x="7271" y="6005"/>
                </a:cubicBezTo>
                <a:cubicBezTo>
                  <a:pt x="7273" y="6098"/>
                  <a:pt x="7280" y="6190"/>
                  <a:pt x="7280" y="6283"/>
                </a:cubicBezTo>
                <a:cubicBezTo>
                  <a:pt x="7280" y="6334"/>
                  <a:pt x="7277" y="6385"/>
                  <a:pt x="7280" y="6436"/>
                </a:cubicBezTo>
                <a:cubicBezTo>
                  <a:pt x="7303" y="6409"/>
                  <a:pt x="7322" y="6376"/>
                  <a:pt x="7349" y="6352"/>
                </a:cubicBezTo>
                <a:cubicBezTo>
                  <a:pt x="7378" y="6326"/>
                  <a:pt x="7413" y="6308"/>
                  <a:pt x="7447" y="6336"/>
                </a:cubicBezTo>
                <a:cubicBezTo>
                  <a:pt x="7508" y="6387"/>
                  <a:pt x="7494" y="6491"/>
                  <a:pt x="7449" y="6546"/>
                </a:cubicBezTo>
                <a:cubicBezTo>
                  <a:pt x="7419" y="6583"/>
                  <a:pt x="7354" y="6613"/>
                  <a:pt x="7306" y="6609"/>
                </a:cubicBezTo>
                <a:cubicBezTo>
                  <a:pt x="7269" y="6606"/>
                  <a:pt x="7255" y="6587"/>
                  <a:pt x="7234" y="6562"/>
                </a:cubicBezTo>
              </a:path>
              <a:path w="3255" h="833">
                <a:moveTo>
                  <a:pt x="7829" y="6305"/>
                </a:moveTo>
                <a:cubicBezTo>
                  <a:pt x="7827" y="6279"/>
                  <a:pt x="7824" y="6248"/>
                  <a:pt x="7786" y="6250"/>
                </a:cubicBezTo>
                <a:cubicBezTo>
                  <a:pt x="7755" y="6252"/>
                  <a:pt x="7711" y="6298"/>
                  <a:pt x="7692" y="6319"/>
                </a:cubicBezTo>
                <a:cubicBezTo>
                  <a:pt x="7675" y="6338"/>
                  <a:pt x="7643" y="6373"/>
                  <a:pt x="7667" y="6399"/>
                </a:cubicBezTo>
                <a:cubicBezTo>
                  <a:pt x="7689" y="6422"/>
                  <a:pt x="7740" y="6433"/>
                  <a:pt x="7768" y="6448"/>
                </a:cubicBezTo>
                <a:cubicBezTo>
                  <a:pt x="7808" y="6470"/>
                  <a:pt x="7843" y="6497"/>
                  <a:pt x="7854" y="6544"/>
                </a:cubicBezTo>
                <a:cubicBezTo>
                  <a:pt x="7862" y="6576"/>
                  <a:pt x="7853" y="6620"/>
                  <a:pt x="7824" y="6640"/>
                </a:cubicBezTo>
                <a:cubicBezTo>
                  <a:pt x="7805" y="6653"/>
                  <a:pt x="7794" y="6651"/>
                  <a:pt x="7776" y="6645"/>
                </a:cubicBezTo>
                <a:cubicBezTo>
                  <a:pt x="7771" y="6614"/>
                  <a:pt x="7774" y="6600"/>
                  <a:pt x="7782" y="6569"/>
                </a:cubicBezTo>
              </a:path>
              <a:path w="3255" h="833">
                <a:moveTo>
                  <a:pt x="8052" y="6477"/>
                </a:moveTo>
                <a:cubicBezTo>
                  <a:pt x="8077" y="6473"/>
                  <a:pt x="8107" y="6465"/>
                  <a:pt x="8124" y="6442"/>
                </a:cubicBezTo>
                <a:cubicBezTo>
                  <a:pt x="8149" y="6408"/>
                  <a:pt x="8174" y="6371"/>
                  <a:pt x="8193" y="6333"/>
                </a:cubicBezTo>
                <a:cubicBezTo>
                  <a:pt x="8202" y="6314"/>
                  <a:pt x="8207" y="6298"/>
                  <a:pt x="8209" y="6278"/>
                </a:cubicBezTo>
                <a:cubicBezTo>
                  <a:pt x="8179" y="6301"/>
                  <a:pt x="8161" y="6330"/>
                  <a:pt x="8144" y="6365"/>
                </a:cubicBezTo>
                <a:cubicBezTo>
                  <a:pt x="8121" y="6411"/>
                  <a:pt x="8101" y="6469"/>
                  <a:pt x="8104" y="6522"/>
                </a:cubicBezTo>
                <a:cubicBezTo>
                  <a:pt x="8107" y="6563"/>
                  <a:pt x="8132" y="6596"/>
                  <a:pt x="8175" y="6599"/>
                </a:cubicBezTo>
                <a:cubicBezTo>
                  <a:pt x="8216" y="6602"/>
                  <a:pt x="8246" y="6583"/>
                  <a:pt x="8281" y="6566"/>
                </a:cubicBezTo>
              </a:path>
              <a:path w="3255" h="833">
                <a:moveTo>
                  <a:pt x="8396" y="5889"/>
                </a:moveTo>
                <a:cubicBezTo>
                  <a:pt x="8371" y="5846"/>
                  <a:pt x="8381" y="5926"/>
                  <a:pt x="8381" y="5958"/>
                </a:cubicBezTo>
                <a:cubicBezTo>
                  <a:pt x="8381" y="6069"/>
                  <a:pt x="8399" y="6180"/>
                  <a:pt x="8414" y="6290"/>
                </a:cubicBezTo>
                <a:cubicBezTo>
                  <a:pt x="8427" y="6385"/>
                  <a:pt x="8444" y="6478"/>
                  <a:pt x="8468" y="6571"/>
                </a:cubicBezTo>
              </a:path>
              <a:path w="3255" h="833">
                <a:moveTo>
                  <a:pt x="8323" y="6285"/>
                </a:moveTo>
                <a:cubicBezTo>
                  <a:pt x="8328" y="6229"/>
                  <a:pt x="8326" y="6197"/>
                  <a:pt x="8384" y="6173"/>
                </a:cubicBezTo>
                <a:cubicBezTo>
                  <a:pt x="8455" y="6144"/>
                  <a:pt x="8538" y="6153"/>
                  <a:pt x="8612" y="6153"/>
                </a:cubicBezTo>
                <a:cubicBezTo>
                  <a:pt x="8635" y="6153"/>
                  <a:pt x="8658" y="6152"/>
                  <a:pt x="8681" y="6152"/>
                </a:cubicBezTo>
              </a:path>
              <a:path w="3255" h="833">
                <a:moveTo>
                  <a:pt x="8942" y="6216"/>
                </a:moveTo>
                <a:cubicBezTo>
                  <a:pt x="8896" y="6230"/>
                  <a:pt x="8844" y="6242"/>
                  <a:pt x="8799" y="6259"/>
                </a:cubicBezTo>
                <a:cubicBezTo>
                  <a:pt x="8753" y="6276"/>
                  <a:pt x="8713" y="6297"/>
                  <a:pt x="8675" y="6328"/>
                </a:cubicBezTo>
                <a:cubicBezTo>
                  <a:pt x="8682" y="6363"/>
                  <a:pt x="8728" y="6361"/>
                  <a:pt x="8762" y="6371"/>
                </a:cubicBezTo>
                <a:cubicBezTo>
                  <a:pt x="8835" y="6393"/>
                  <a:pt x="8934" y="6421"/>
                  <a:pt x="8985" y="6483"/>
                </a:cubicBezTo>
                <a:cubicBezTo>
                  <a:pt x="9017" y="6523"/>
                  <a:pt x="9012" y="6576"/>
                  <a:pt x="8975" y="6609"/>
                </a:cubicBezTo>
                <a:cubicBezTo>
                  <a:pt x="8930" y="6650"/>
                  <a:pt x="8853" y="6669"/>
                  <a:pt x="8796" y="6644"/>
                </a:cubicBezTo>
                <a:cubicBezTo>
                  <a:pt x="8764" y="6630"/>
                  <a:pt x="8769" y="6613"/>
                  <a:pt x="8770" y="6586"/>
                </a:cubicBezTo>
              </a:path>
              <a:path w="3255" h="833">
                <a:moveTo>
                  <a:pt x="9263" y="6683"/>
                </a:moveTo>
                <a:cubicBezTo>
                  <a:pt x="9246" y="6685"/>
                  <a:pt x="9222" y="6685"/>
                  <a:pt x="9228" y="6660"/>
                </a:cubicBezTo>
                <a:cubicBezTo>
                  <a:pt x="9234" y="6633"/>
                  <a:pt x="9265" y="6615"/>
                  <a:pt x="9285" y="6598"/>
                </a:cubicBezTo>
              </a:path>
              <a:path w="3255" h="833">
                <a:moveTo>
                  <a:pt x="9568" y="6572"/>
                </a:moveTo>
                <a:cubicBezTo>
                  <a:pt x="9548" y="6550"/>
                  <a:pt x="9542" y="6551"/>
                  <a:pt x="9565" y="6531"/>
                </a:cubicBezTo>
                <a:cubicBezTo>
                  <a:pt x="9582" y="6516"/>
                  <a:pt x="9611" y="6509"/>
                  <a:pt x="9634" y="6512"/>
                </a:cubicBezTo>
                <a:cubicBezTo>
                  <a:pt x="9639" y="6514"/>
                  <a:pt x="9645" y="6515"/>
                  <a:pt x="9650" y="6517"/>
                </a:cubicBezTo>
              </a:path>
              <a:path w="3255" h="833">
                <a:moveTo>
                  <a:pt x="9704" y="6639"/>
                </a:moveTo>
                <a:cubicBezTo>
                  <a:pt x="9727" y="6643"/>
                  <a:pt x="9733" y="6635"/>
                  <a:pt x="9754" y="6624"/>
                </a:cubicBezTo>
                <a:cubicBezTo>
                  <a:pt x="9774" y="6614"/>
                  <a:pt x="9794" y="6603"/>
                  <a:pt x="9814" y="659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965400" y="2114640"/>
            <a:ext cx="142920" cy="306360"/>
          </a:xfrm>
          <a:custGeom>
            <a:avLst/>
            <a:gdLst/>
            <a:ahLst/>
            <a:rect l="l" t="t" r="r" b="b"/>
            <a:pathLst>
              <a:path w="398" h="852">
                <a:moveTo>
                  <a:pt x="11362" y="5924"/>
                </a:moveTo>
                <a:cubicBezTo>
                  <a:pt x="11378" y="5907"/>
                  <a:pt x="11394" y="5890"/>
                  <a:pt x="11411" y="5873"/>
                </a:cubicBezTo>
                <a:cubicBezTo>
                  <a:pt x="11355" y="5884"/>
                  <a:pt x="11314" y="5915"/>
                  <a:pt x="11264" y="5946"/>
                </a:cubicBezTo>
                <a:cubicBezTo>
                  <a:pt x="11200" y="5986"/>
                  <a:pt x="11138" y="6028"/>
                  <a:pt x="11079" y="6074"/>
                </a:cubicBezTo>
                <a:cubicBezTo>
                  <a:pt x="11053" y="6095"/>
                  <a:pt x="11046" y="6100"/>
                  <a:pt x="11035" y="6118"/>
                </a:cubicBezTo>
                <a:cubicBezTo>
                  <a:pt x="11072" y="6124"/>
                  <a:pt x="11109" y="6124"/>
                  <a:pt x="11150" y="6125"/>
                </a:cubicBezTo>
                <a:cubicBezTo>
                  <a:pt x="11191" y="6126"/>
                  <a:pt x="11254" y="6129"/>
                  <a:pt x="11268" y="6177"/>
                </a:cubicBezTo>
                <a:cubicBezTo>
                  <a:pt x="11287" y="6241"/>
                  <a:pt x="11231" y="6307"/>
                  <a:pt x="11196" y="6352"/>
                </a:cubicBezTo>
                <a:cubicBezTo>
                  <a:pt x="11145" y="6418"/>
                  <a:pt x="11084" y="6473"/>
                  <a:pt x="11023" y="6529"/>
                </a:cubicBezTo>
                <a:cubicBezTo>
                  <a:pt x="11020" y="6532"/>
                  <a:pt x="11017" y="6535"/>
                  <a:pt x="11014" y="6538"/>
                </a:cubicBezTo>
                <a:cubicBezTo>
                  <a:pt x="11042" y="6546"/>
                  <a:pt x="11069" y="6542"/>
                  <a:pt x="11097" y="6549"/>
                </a:cubicBezTo>
                <a:cubicBezTo>
                  <a:pt x="11125" y="6556"/>
                  <a:pt x="11139" y="6574"/>
                  <a:pt x="11133" y="6603"/>
                </a:cubicBezTo>
                <a:cubicBezTo>
                  <a:pt x="11127" y="6631"/>
                  <a:pt x="11100" y="6653"/>
                  <a:pt x="11087" y="6677"/>
                </a:cubicBezTo>
                <a:cubicBezTo>
                  <a:pt x="11079" y="6690"/>
                  <a:pt x="11076" y="6693"/>
                  <a:pt x="11076" y="6703"/>
                </a:cubicBezTo>
                <a:cubicBezTo>
                  <a:pt x="11101" y="6715"/>
                  <a:pt x="11124" y="6725"/>
                  <a:pt x="11157" y="6724"/>
                </a:cubicBezTo>
                <a:cubicBezTo>
                  <a:pt x="11196" y="6723"/>
                  <a:pt x="11235" y="6715"/>
                  <a:pt x="11274" y="670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208400" y="2178000"/>
            <a:ext cx="358920" cy="284040"/>
          </a:xfrm>
          <a:custGeom>
            <a:avLst/>
            <a:gdLst/>
            <a:ahLst/>
            <a:rect l="l" t="t" r="r" b="b"/>
            <a:pathLst>
              <a:path w="995" h="790">
                <a:moveTo>
                  <a:pt x="11970" y="6063"/>
                </a:moveTo>
                <a:cubicBezTo>
                  <a:pt x="11948" y="6050"/>
                  <a:pt x="11951" y="6049"/>
                  <a:pt x="11924" y="6060"/>
                </a:cubicBezTo>
                <a:cubicBezTo>
                  <a:pt x="11888" y="6075"/>
                  <a:pt x="11854" y="6096"/>
                  <a:pt x="11820" y="6116"/>
                </a:cubicBezTo>
                <a:cubicBezTo>
                  <a:pt x="11799" y="6129"/>
                  <a:pt x="11788" y="6141"/>
                  <a:pt x="11771" y="6157"/>
                </a:cubicBezTo>
                <a:cubicBezTo>
                  <a:pt x="11808" y="6166"/>
                  <a:pt x="11844" y="6161"/>
                  <a:pt x="11883" y="6163"/>
                </a:cubicBezTo>
                <a:cubicBezTo>
                  <a:pt x="11912" y="6164"/>
                  <a:pt x="11968" y="6168"/>
                  <a:pt x="11960" y="6212"/>
                </a:cubicBezTo>
                <a:cubicBezTo>
                  <a:pt x="11950" y="6269"/>
                  <a:pt x="11887" y="6315"/>
                  <a:pt x="11847" y="6349"/>
                </a:cubicBezTo>
                <a:cubicBezTo>
                  <a:pt x="11797" y="6391"/>
                  <a:pt x="11739" y="6425"/>
                  <a:pt x="11692" y="6470"/>
                </a:cubicBezTo>
                <a:cubicBezTo>
                  <a:pt x="11720" y="6486"/>
                  <a:pt x="11746" y="6485"/>
                  <a:pt x="11779" y="6491"/>
                </a:cubicBezTo>
                <a:cubicBezTo>
                  <a:pt x="11798" y="6494"/>
                  <a:pt x="11844" y="6503"/>
                  <a:pt x="11835" y="6534"/>
                </a:cubicBezTo>
                <a:cubicBezTo>
                  <a:pt x="11825" y="6569"/>
                  <a:pt x="11768" y="6598"/>
                  <a:pt x="11743" y="6621"/>
                </a:cubicBezTo>
                <a:cubicBezTo>
                  <a:pt x="11718" y="6645"/>
                  <a:pt x="11730" y="6640"/>
                  <a:pt x="11724" y="6664"/>
                </a:cubicBezTo>
                <a:cubicBezTo>
                  <a:pt x="11766" y="6680"/>
                  <a:pt x="11803" y="6680"/>
                  <a:pt x="11847" y="6682"/>
                </a:cubicBezTo>
                <a:cubicBezTo>
                  <a:pt x="11893" y="6684"/>
                  <a:pt x="11944" y="6680"/>
                  <a:pt x="11986" y="6658"/>
                </a:cubicBezTo>
                <a:cubicBezTo>
                  <a:pt x="12004" y="6644"/>
                  <a:pt x="12010" y="6640"/>
                  <a:pt x="12020" y="6629"/>
                </a:cubicBezTo>
              </a:path>
              <a:path w="995" h="790">
                <a:moveTo>
                  <a:pt x="12323" y="6120"/>
                </a:moveTo>
                <a:cubicBezTo>
                  <a:pt x="12341" y="6113"/>
                  <a:pt x="12358" y="6106"/>
                  <a:pt x="12376" y="6101"/>
                </a:cubicBezTo>
                <a:cubicBezTo>
                  <a:pt x="12383" y="6124"/>
                  <a:pt x="12382" y="6126"/>
                  <a:pt x="12375" y="6150"/>
                </a:cubicBezTo>
                <a:cubicBezTo>
                  <a:pt x="12371" y="6163"/>
                  <a:pt x="12367" y="6180"/>
                  <a:pt x="12365" y="6194"/>
                </a:cubicBezTo>
                <a:cubicBezTo>
                  <a:pt x="12362" y="6215"/>
                  <a:pt x="12359" y="6233"/>
                  <a:pt x="12351" y="6253"/>
                </a:cubicBezTo>
                <a:cubicBezTo>
                  <a:pt x="12344" y="6272"/>
                  <a:pt x="12334" y="6292"/>
                  <a:pt x="12323" y="6309"/>
                </a:cubicBezTo>
                <a:cubicBezTo>
                  <a:pt x="12313" y="6325"/>
                  <a:pt x="12301" y="6341"/>
                  <a:pt x="12293" y="6358"/>
                </a:cubicBezTo>
                <a:cubicBezTo>
                  <a:pt x="12292" y="6361"/>
                  <a:pt x="12290" y="6365"/>
                  <a:pt x="12289" y="6368"/>
                </a:cubicBezTo>
                <a:cubicBezTo>
                  <a:pt x="12308" y="6361"/>
                  <a:pt x="12324" y="6354"/>
                  <a:pt x="12342" y="6342"/>
                </a:cubicBezTo>
                <a:cubicBezTo>
                  <a:pt x="12370" y="6323"/>
                  <a:pt x="12375" y="6326"/>
                  <a:pt x="12398" y="6354"/>
                </a:cubicBezTo>
                <a:cubicBezTo>
                  <a:pt x="12414" y="6374"/>
                  <a:pt x="12426" y="6397"/>
                  <a:pt x="12431" y="6423"/>
                </a:cubicBezTo>
                <a:cubicBezTo>
                  <a:pt x="12438" y="6458"/>
                  <a:pt x="12442" y="6501"/>
                  <a:pt x="12436" y="6537"/>
                </a:cubicBezTo>
                <a:cubicBezTo>
                  <a:pt x="12431" y="6565"/>
                  <a:pt x="12419" y="6580"/>
                  <a:pt x="12399" y="6599"/>
                </a:cubicBezTo>
                <a:cubicBezTo>
                  <a:pt x="12381" y="6617"/>
                  <a:pt x="12359" y="6630"/>
                  <a:pt x="12337" y="6641"/>
                </a:cubicBezTo>
                <a:cubicBezTo>
                  <a:pt x="12359" y="6630"/>
                  <a:pt x="12364" y="6632"/>
                  <a:pt x="12387" y="6623"/>
                </a:cubicBezTo>
                <a:cubicBezTo>
                  <a:pt x="12411" y="6614"/>
                  <a:pt x="12432" y="6607"/>
                  <a:pt x="12458" y="6604"/>
                </a:cubicBezTo>
                <a:cubicBezTo>
                  <a:pt x="12444" y="6622"/>
                  <a:pt x="12421" y="6642"/>
                  <a:pt x="12399" y="6652"/>
                </a:cubicBezTo>
                <a:cubicBezTo>
                  <a:pt x="12376" y="6662"/>
                  <a:pt x="12352" y="6672"/>
                  <a:pt x="12329" y="6680"/>
                </a:cubicBezTo>
              </a:path>
              <a:path w="995" h="790">
                <a:moveTo>
                  <a:pt x="12681" y="6649"/>
                </a:moveTo>
                <a:cubicBezTo>
                  <a:pt x="12689" y="6685"/>
                  <a:pt x="12664" y="6701"/>
                  <a:pt x="12644" y="6730"/>
                </a:cubicBezTo>
                <a:cubicBezTo>
                  <a:pt x="12618" y="6767"/>
                  <a:pt x="12597" y="6796"/>
                  <a:pt x="12564" y="6827"/>
                </a:cubicBezTo>
                <a:cubicBezTo>
                  <a:pt x="12560" y="6831"/>
                  <a:pt x="12556" y="6835"/>
                  <a:pt x="12552" y="683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749840" y="2179800"/>
            <a:ext cx="550800" cy="288720"/>
          </a:xfrm>
          <a:custGeom>
            <a:avLst/>
            <a:gdLst/>
            <a:ahLst/>
            <a:rect l="l" t="t" r="r" b="b"/>
            <a:pathLst>
              <a:path w="1526" h="800">
                <a:moveTo>
                  <a:pt x="13457" y="6055"/>
                </a:moveTo>
                <a:cubicBezTo>
                  <a:pt x="13411" y="6058"/>
                  <a:pt x="13364" y="6058"/>
                  <a:pt x="13319" y="6062"/>
                </a:cubicBezTo>
                <a:cubicBezTo>
                  <a:pt x="13303" y="6063"/>
                  <a:pt x="13288" y="6065"/>
                  <a:pt x="13272" y="6066"/>
                </a:cubicBezTo>
                <a:cubicBezTo>
                  <a:pt x="13301" y="6085"/>
                  <a:pt x="13326" y="6110"/>
                  <a:pt x="13330" y="6149"/>
                </a:cubicBezTo>
                <a:cubicBezTo>
                  <a:pt x="13335" y="6200"/>
                  <a:pt x="13309" y="6254"/>
                  <a:pt x="13277" y="6292"/>
                </a:cubicBezTo>
                <a:cubicBezTo>
                  <a:pt x="13263" y="6307"/>
                  <a:pt x="13260" y="6311"/>
                  <a:pt x="13251" y="6320"/>
                </a:cubicBezTo>
                <a:cubicBezTo>
                  <a:pt x="13282" y="6323"/>
                  <a:pt x="13311" y="6315"/>
                  <a:pt x="13343" y="6314"/>
                </a:cubicBezTo>
                <a:cubicBezTo>
                  <a:pt x="13369" y="6313"/>
                  <a:pt x="13420" y="6311"/>
                  <a:pt x="13422" y="6349"/>
                </a:cubicBezTo>
                <a:cubicBezTo>
                  <a:pt x="13424" y="6394"/>
                  <a:pt x="13368" y="6436"/>
                  <a:pt x="13339" y="6461"/>
                </a:cubicBezTo>
                <a:cubicBezTo>
                  <a:pt x="13298" y="6497"/>
                  <a:pt x="13252" y="6524"/>
                  <a:pt x="13213" y="6562"/>
                </a:cubicBezTo>
                <a:cubicBezTo>
                  <a:pt x="13200" y="6576"/>
                  <a:pt x="13195" y="6578"/>
                  <a:pt x="13196" y="6591"/>
                </a:cubicBezTo>
                <a:cubicBezTo>
                  <a:pt x="13216" y="6607"/>
                  <a:pt x="13238" y="6620"/>
                  <a:pt x="13259" y="6635"/>
                </a:cubicBezTo>
                <a:cubicBezTo>
                  <a:pt x="13278" y="6649"/>
                  <a:pt x="13299" y="6671"/>
                  <a:pt x="13298" y="6696"/>
                </a:cubicBezTo>
                <a:cubicBezTo>
                  <a:pt x="13297" y="6716"/>
                  <a:pt x="13282" y="6733"/>
                  <a:pt x="13303" y="6748"/>
                </a:cubicBezTo>
                <a:cubicBezTo>
                  <a:pt x="13318" y="6758"/>
                  <a:pt x="13359" y="6750"/>
                  <a:pt x="13375" y="6749"/>
                </a:cubicBezTo>
              </a:path>
              <a:path w="1526" h="800">
                <a:moveTo>
                  <a:pt x="13644" y="6595"/>
                </a:moveTo>
                <a:cubicBezTo>
                  <a:pt x="13635" y="6608"/>
                  <a:pt x="13627" y="6617"/>
                  <a:pt x="13616" y="6628"/>
                </a:cubicBezTo>
                <a:cubicBezTo>
                  <a:pt x="13615" y="6583"/>
                  <a:pt x="13631" y="6546"/>
                  <a:pt x="13648" y="6504"/>
                </a:cubicBezTo>
                <a:cubicBezTo>
                  <a:pt x="13678" y="6429"/>
                  <a:pt x="13707" y="6354"/>
                  <a:pt x="13736" y="6279"/>
                </a:cubicBezTo>
                <a:cubicBezTo>
                  <a:pt x="13753" y="6234"/>
                  <a:pt x="13767" y="6189"/>
                  <a:pt x="13793" y="6149"/>
                </a:cubicBezTo>
                <a:cubicBezTo>
                  <a:pt x="13805" y="6206"/>
                  <a:pt x="13803" y="6263"/>
                  <a:pt x="13807" y="6321"/>
                </a:cubicBezTo>
                <a:cubicBezTo>
                  <a:pt x="13814" y="6416"/>
                  <a:pt x="13823" y="6512"/>
                  <a:pt x="13834" y="6607"/>
                </a:cubicBezTo>
              </a:path>
              <a:path w="1526" h="800">
                <a:moveTo>
                  <a:pt x="13673" y="6490"/>
                </a:moveTo>
                <a:cubicBezTo>
                  <a:pt x="13660" y="6481"/>
                  <a:pt x="13655" y="6479"/>
                  <a:pt x="13651" y="6469"/>
                </a:cubicBezTo>
                <a:cubicBezTo>
                  <a:pt x="13693" y="6446"/>
                  <a:pt x="13730" y="6433"/>
                  <a:pt x="13778" y="6427"/>
                </a:cubicBezTo>
                <a:cubicBezTo>
                  <a:pt x="13826" y="6421"/>
                  <a:pt x="13875" y="6419"/>
                  <a:pt x="13923" y="6415"/>
                </a:cubicBezTo>
              </a:path>
              <a:path w="1526" h="800">
                <a:moveTo>
                  <a:pt x="14058" y="6172"/>
                </a:moveTo>
                <a:cubicBezTo>
                  <a:pt x="14048" y="6164"/>
                  <a:pt x="14044" y="6162"/>
                  <a:pt x="14037" y="6158"/>
                </a:cubicBezTo>
                <a:cubicBezTo>
                  <a:pt x="14067" y="6168"/>
                  <a:pt x="14092" y="6181"/>
                  <a:pt x="14117" y="6200"/>
                </a:cubicBezTo>
                <a:cubicBezTo>
                  <a:pt x="14147" y="6223"/>
                  <a:pt x="14166" y="6251"/>
                  <a:pt x="14162" y="6290"/>
                </a:cubicBezTo>
                <a:cubicBezTo>
                  <a:pt x="14158" y="6328"/>
                  <a:pt x="14134" y="6356"/>
                  <a:pt x="14110" y="6384"/>
                </a:cubicBezTo>
                <a:cubicBezTo>
                  <a:pt x="14098" y="6398"/>
                  <a:pt x="14095" y="6402"/>
                  <a:pt x="14085" y="6409"/>
                </a:cubicBezTo>
                <a:cubicBezTo>
                  <a:pt x="14119" y="6405"/>
                  <a:pt x="14152" y="6397"/>
                  <a:pt x="14187" y="6397"/>
                </a:cubicBezTo>
                <a:cubicBezTo>
                  <a:pt x="14231" y="6397"/>
                  <a:pt x="14280" y="6409"/>
                  <a:pt x="14291" y="6457"/>
                </a:cubicBezTo>
                <a:cubicBezTo>
                  <a:pt x="14300" y="6496"/>
                  <a:pt x="14280" y="6533"/>
                  <a:pt x="14266" y="6568"/>
                </a:cubicBezTo>
                <a:cubicBezTo>
                  <a:pt x="14264" y="6573"/>
                  <a:pt x="14263" y="6577"/>
                  <a:pt x="14261" y="6582"/>
                </a:cubicBezTo>
                <a:cubicBezTo>
                  <a:pt x="14286" y="6593"/>
                  <a:pt x="14308" y="6599"/>
                  <a:pt x="14342" y="6602"/>
                </a:cubicBezTo>
                <a:cubicBezTo>
                  <a:pt x="14377" y="6605"/>
                  <a:pt x="14416" y="6608"/>
                  <a:pt x="14440" y="6637"/>
                </a:cubicBezTo>
                <a:cubicBezTo>
                  <a:pt x="14466" y="6668"/>
                  <a:pt x="14435" y="6700"/>
                  <a:pt x="14413" y="6720"/>
                </a:cubicBezTo>
                <a:cubicBezTo>
                  <a:pt x="14378" y="6752"/>
                  <a:pt x="14342" y="6763"/>
                  <a:pt x="14296" y="6770"/>
                </a:cubicBezTo>
                <a:cubicBezTo>
                  <a:pt x="14270" y="6774"/>
                  <a:pt x="14265" y="6768"/>
                  <a:pt x="14242" y="6762"/>
                </a:cubicBezTo>
              </a:path>
              <a:path w="1526" h="800">
                <a:moveTo>
                  <a:pt x="14717" y="6669"/>
                </a:moveTo>
                <a:cubicBezTo>
                  <a:pt x="14719" y="6704"/>
                  <a:pt x="14708" y="6724"/>
                  <a:pt x="14685" y="6752"/>
                </a:cubicBezTo>
                <a:cubicBezTo>
                  <a:pt x="14659" y="6784"/>
                  <a:pt x="14637" y="6815"/>
                  <a:pt x="14606" y="6842"/>
                </a:cubicBezTo>
                <a:cubicBezTo>
                  <a:pt x="14601" y="6846"/>
                  <a:pt x="14596" y="6850"/>
                  <a:pt x="14591" y="685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433840" y="2374920"/>
            <a:ext cx="212760" cy="31680"/>
          </a:xfrm>
          <a:custGeom>
            <a:avLst/>
            <a:gdLst/>
            <a:ahLst/>
            <a:rect l="l" t="t" r="r" b="b"/>
            <a:pathLst>
              <a:path w="591" h="85">
                <a:moveTo>
                  <a:pt x="15095" y="6641"/>
                </a:moveTo>
                <a:cubicBezTo>
                  <a:pt x="15104" y="6664"/>
                  <a:pt x="15117" y="6683"/>
                  <a:pt x="15147" y="6682"/>
                </a:cubicBezTo>
                <a:cubicBezTo>
                  <a:pt x="15187" y="6681"/>
                  <a:pt x="15226" y="6663"/>
                  <a:pt x="15263" y="6650"/>
                </a:cubicBezTo>
              </a:path>
              <a:path w="591" h="85">
                <a:moveTo>
                  <a:pt x="15526" y="6643"/>
                </a:moveTo>
                <a:cubicBezTo>
                  <a:pt x="15534" y="6668"/>
                  <a:pt x="15555" y="6646"/>
                  <a:pt x="15575" y="6638"/>
                </a:cubicBezTo>
                <a:cubicBezTo>
                  <a:pt x="15611" y="6624"/>
                  <a:pt x="15648" y="6611"/>
                  <a:pt x="15685" y="659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765760" y="2370240"/>
            <a:ext cx="88920" cy="17280"/>
          </a:xfrm>
          <a:custGeom>
            <a:avLst/>
            <a:gdLst/>
            <a:ahLst/>
            <a:rect l="l" t="t" r="r" b="b"/>
            <a:pathLst>
              <a:path w="247" h="46">
                <a:moveTo>
                  <a:pt x="16017" y="6609"/>
                </a:moveTo>
                <a:cubicBezTo>
                  <a:pt x="16040" y="6631"/>
                  <a:pt x="16056" y="6631"/>
                  <a:pt x="16087" y="6623"/>
                </a:cubicBezTo>
                <a:cubicBezTo>
                  <a:pt x="16135" y="6611"/>
                  <a:pt x="16183" y="6597"/>
                  <a:pt x="16232" y="6589"/>
                </a:cubicBezTo>
                <a:cubicBezTo>
                  <a:pt x="16242" y="6588"/>
                  <a:pt x="16253" y="6586"/>
                  <a:pt x="16263" y="658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372360" y="2155680"/>
            <a:ext cx="166680" cy="235080"/>
          </a:xfrm>
          <a:custGeom>
            <a:avLst/>
            <a:gdLst/>
            <a:ahLst/>
            <a:rect l="l" t="t" r="r" b="b"/>
            <a:pathLst>
              <a:path w="465" h="656">
                <a:moveTo>
                  <a:pt x="17705" y="6016"/>
                </a:moveTo>
                <a:cubicBezTo>
                  <a:pt x="17728" y="6021"/>
                  <a:pt x="17725" y="6011"/>
                  <a:pt x="17748" y="6004"/>
                </a:cubicBezTo>
                <a:cubicBezTo>
                  <a:pt x="17781" y="5993"/>
                  <a:pt x="17825" y="5979"/>
                  <a:pt x="17860" y="5990"/>
                </a:cubicBezTo>
                <a:cubicBezTo>
                  <a:pt x="17896" y="6002"/>
                  <a:pt x="17883" y="6037"/>
                  <a:pt x="17868" y="6059"/>
                </a:cubicBezTo>
                <a:cubicBezTo>
                  <a:pt x="17845" y="6094"/>
                  <a:pt x="17808" y="6121"/>
                  <a:pt x="17773" y="6143"/>
                </a:cubicBezTo>
                <a:cubicBezTo>
                  <a:pt x="17756" y="6153"/>
                  <a:pt x="17753" y="6155"/>
                  <a:pt x="17743" y="6162"/>
                </a:cubicBezTo>
                <a:cubicBezTo>
                  <a:pt x="17777" y="6169"/>
                  <a:pt x="17814" y="6174"/>
                  <a:pt x="17849" y="6181"/>
                </a:cubicBezTo>
                <a:cubicBezTo>
                  <a:pt x="17917" y="6195"/>
                  <a:pt x="18002" y="6218"/>
                  <a:pt x="18039" y="6283"/>
                </a:cubicBezTo>
                <a:cubicBezTo>
                  <a:pt x="18065" y="6328"/>
                  <a:pt x="18046" y="6368"/>
                  <a:pt x="18018" y="6405"/>
                </a:cubicBezTo>
                <a:cubicBezTo>
                  <a:pt x="17996" y="6433"/>
                  <a:pt x="17972" y="6444"/>
                  <a:pt x="17942" y="6459"/>
                </a:cubicBezTo>
                <a:cubicBezTo>
                  <a:pt x="17974" y="6448"/>
                  <a:pt x="18007" y="6452"/>
                  <a:pt x="18043" y="6458"/>
                </a:cubicBezTo>
                <a:cubicBezTo>
                  <a:pt x="18082" y="6465"/>
                  <a:pt x="18127" y="6482"/>
                  <a:pt x="18154" y="6513"/>
                </a:cubicBezTo>
                <a:cubicBezTo>
                  <a:pt x="18179" y="6542"/>
                  <a:pt x="18148" y="6574"/>
                  <a:pt x="18122" y="6588"/>
                </a:cubicBezTo>
                <a:cubicBezTo>
                  <a:pt x="18060" y="6622"/>
                  <a:pt x="17964" y="6641"/>
                  <a:pt x="17895" y="6642"/>
                </a:cubicBezTo>
                <a:cubicBezTo>
                  <a:pt x="17858" y="6638"/>
                  <a:pt x="17850" y="6636"/>
                  <a:pt x="17828" y="663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081920" y="2149560"/>
            <a:ext cx="379440" cy="225360"/>
          </a:xfrm>
          <a:custGeom>
            <a:avLst/>
            <a:gdLst/>
            <a:ahLst/>
            <a:rect l="l" t="t" r="r" b="b"/>
            <a:pathLst>
              <a:path w="1055" h="626">
                <a:moveTo>
                  <a:pt x="19691" y="6112"/>
                </a:moveTo>
                <a:cubicBezTo>
                  <a:pt x="19684" y="6063"/>
                  <a:pt x="19679" y="6122"/>
                  <a:pt x="19678" y="6140"/>
                </a:cubicBezTo>
                <a:cubicBezTo>
                  <a:pt x="19675" y="6216"/>
                  <a:pt x="19678" y="6292"/>
                  <a:pt x="19677" y="6368"/>
                </a:cubicBezTo>
                <a:cubicBezTo>
                  <a:pt x="19676" y="6430"/>
                  <a:pt x="19667" y="6498"/>
                  <a:pt x="19678" y="6558"/>
                </a:cubicBezTo>
                <a:cubicBezTo>
                  <a:pt x="19684" y="6575"/>
                  <a:pt x="19688" y="6573"/>
                  <a:pt x="19692" y="6540"/>
                </a:cubicBezTo>
              </a:path>
              <a:path w="1055" h="626">
                <a:moveTo>
                  <a:pt x="19685" y="6051"/>
                </a:moveTo>
                <a:cubicBezTo>
                  <a:pt x="19683" y="6031"/>
                  <a:pt x="19675" y="5985"/>
                  <a:pt x="19702" y="5973"/>
                </a:cubicBezTo>
                <a:cubicBezTo>
                  <a:pt x="19743" y="5956"/>
                  <a:pt x="19801" y="5978"/>
                  <a:pt x="19837" y="5996"/>
                </a:cubicBezTo>
                <a:cubicBezTo>
                  <a:pt x="19892" y="6024"/>
                  <a:pt x="19941" y="6070"/>
                  <a:pt x="19951" y="6134"/>
                </a:cubicBezTo>
                <a:cubicBezTo>
                  <a:pt x="19963" y="6207"/>
                  <a:pt x="19922" y="6269"/>
                  <a:pt x="19872" y="6317"/>
                </a:cubicBezTo>
                <a:cubicBezTo>
                  <a:pt x="19842" y="6346"/>
                  <a:pt x="19778" y="6396"/>
                  <a:pt x="19731" y="6393"/>
                </a:cubicBezTo>
                <a:cubicBezTo>
                  <a:pt x="19686" y="6390"/>
                  <a:pt x="19728" y="6325"/>
                  <a:pt x="19734" y="6313"/>
                </a:cubicBezTo>
              </a:path>
              <a:path w="1055" h="626">
                <a:moveTo>
                  <a:pt x="20259" y="5989"/>
                </a:moveTo>
                <a:cubicBezTo>
                  <a:pt x="20234" y="5987"/>
                  <a:pt x="20207" y="6032"/>
                  <a:pt x="20193" y="6058"/>
                </a:cubicBezTo>
                <a:cubicBezTo>
                  <a:pt x="20157" y="6126"/>
                  <a:pt x="20133" y="6206"/>
                  <a:pt x="20118" y="6281"/>
                </a:cubicBezTo>
                <a:cubicBezTo>
                  <a:pt x="20105" y="6350"/>
                  <a:pt x="20103" y="6453"/>
                  <a:pt x="20161" y="6505"/>
                </a:cubicBezTo>
                <a:cubicBezTo>
                  <a:pt x="20170" y="6510"/>
                  <a:pt x="20178" y="6515"/>
                  <a:pt x="20187" y="6520"/>
                </a:cubicBezTo>
              </a:path>
              <a:path w="1055" h="626">
                <a:moveTo>
                  <a:pt x="20299" y="6594"/>
                </a:moveTo>
                <a:cubicBezTo>
                  <a:pt x="20277" y="6570"/>
                  <a:pt x="20276" y="6528"/>
                  <a:pt x="20281" y="6493"/>
                </a:cubicBezTo>
                <a:cubicBezTo>
                  <a:pt x="20292" y="6422"/>
                  <a:pt x="20319" y="6348"/>
                  <a:pt x="20343" y="6280"/>
                </a:cubicBezTo>
                <a:cubicBezTo>
                  <a:pt x="20361" y="6229"/>
                  <a:pt x="20379" y="6171"/>
                  <a:pt x="20414" y="6129"/>
                </a:cubicBezTo>
                <a:cubicBezTo>
                  <a:pt x="20425" y="6120"/>
                  <a:pt x="20428" y="6116"/>
                  <a:pt x="20438" y="6123"/>
                </a:cubicBezTo>
                <a:cubicBezTo>
                  <a:pt x="20460" y="6164"/>
                  <a:pt x="20477" y="6208"/>
                  <a:pt x="20493" y="6252"/>
                </a:cubicBezTo>
                <a:cubicBezTo>
                  <a:pt x="20511" y="6302"/>
                  <a:pt x="20536" y="6350"/>
                  <a:pt x="20545" y="6403"/>
                </a:cubicBezTo>
                <a:cubicBezTo>
                  <a:pt x="20546" y="6411"/>
                  <a:pt x="20546" y="6419"/>
                  <a:pt x="20547" y="6427"/>
                </a:cubicBezTo>
              </a:path>
              <a:path w="1055" h="626">
                <a:moveTo>
                  <a:pt x="20373" y="6417"/>
                </a:moveTo>
                <a:cubicBezTo>
                  <a:pt x="20339" y="6410"/>
                  <a:pt x="20420" y="6401"/>
                  <a:pt x="20423" y="6400"/>
                </a:cubicBezTo>
                <a:cubicBezTo>
                  <a:pt x="20470" y="6392"/>
                  <a:pt x="20524" y="6381"/>
                  <a:pt x="20569" y="6365"/>
                </a:cubicBezTo>
                <a:cubicBezTo>
                  <a:pt x="20598" y="6351"/>
                  <a:pt x="20608" y="6347"/>
                  <a:pt x="20627" y="6337"/>
                </a:cubicBezTo>
              </a:path>
              <a:path w="1055" h="626">
                <a:moveTo>
                  <a:pt x="20623" y="6094"/>
                </a:moveTo>
                <a:cubicBezTo>
                  <a:pt x="20647" y="6146"/>
                  <a:pt x="20667" y="6196"/>
                  <a:pt x="20682" y="6252"/>
                </a:cubicBezTo>
                <a:cubicBezTo>
                  <a:pt x="20701" y="6323"/>
                  <a:pt x="20722" y="6398"/>
                  <a:pt x="20726" y="6472"/>
                </a:cubicBezTo>
                <a:cubicBezTo>
                  <a:pt x="20728" y="6505"/>
                  <a:pt x="20722" y="6533"/>
                  <a:pt x="20714" y="656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904160" y="2195640"/>
            <a:ext cx="1068480" cy="277560"/>
          </a:xfrm>
          <a:custGeom>
            <a:avLst/>
            <a:gdLst/>
            <a:ahLst/>
            <a:rect l="l" t="t" r="r" b="b"/>
            <a:pathLst>
              <a:path w="2969" h="771">
                <a:moveTo>
                  <a:pt x="21956" y="6238"/>
                </a:moveTo>
                <a:cubicBezTo>
                  <a:pt x="21960" y="6290"/>
                  <a:pt x="21964" y="6341"/>
                  <a:pt x="21971" y="6393"/>
                </a:cubicBezTo>
                <a:cubicBezTo>
                  <a:pt x="21983" y="6484"/>
                  <a:pt x="21992" y="6576"/>
                  <a:pt x="21995" y="6667"/>
                </a:cubicBezTo>
                <a:cubicBezTo>
                  <a:pt x="21997" y="6716"/>
                  <a:pt x="21999" y="6759"/>
                  <a:pt x="22011" y="6807"/>
                </a:cubicBezTo>
              </a:path>
              <a:path w="2969" h="771">
                <a:moveTo>
                  <a:pt x="22247" y="6273"/>
                </a:moveTo>
                <a:cubicBezTo>
                  <a:pt x="22266" y="6311"/>
                  <a:pt x="22268" y="6352"/>
                  <a:pt x="22271" y="6395"/>
                </a:cubicBezTo>
                <a:cubicBezTo>
                  <a:pt x="22277" y="6471"/>
                  <a:pt x="22288" y="6546"/>
                  <a:pt x="22293" y="6622"/>
                </a:cubicBezTo>
                <a:cubicBezTo>
                  <a:pt x="22294" y="6630"/>
                  <a:pt x="22311" y="6757"/>
                  <a:pt x="22303" y="6761"/>
                </a:cubicBezTo>
                <a:cubicBezTo>
                  <a:pt x="22301" y="6756"/>
                  <a:pt x="22300" y="6752"/>
                  <a:pt x="22298" y="6747"/>
                </a:cubicBezTo>
                <a:cubicBezTo>
                  <a:pt x="22289" y="6696"/>
                  <a:pt x="22287" y="6643"/>
                  <a:pt x="22285" y="6591"/>
                </a:cubicBezTo>
                <a:cubicBezTo>
                  <a:pt x="22281" y="6485"/>
                  <a:pt x="22288" y="6379"/>
                  <a:pt x="22322" y="6278"/>
                </a:cubicBezTo>
                <a:cubicBezTo>
                  <a:pt x="22338" y="6229"/>
                  <a:pt x="22368" y="6159"/>
                  <a:pt x="22427" y="6151"/>
                </a:cubicBezTo>
                <a:cubicBezTo>
                  <a:pt x="22479" y="6144"/>
                  <a:pt x="22517" y="6205"/>
                  <a:pt x="22534" y="6244"/>
                </a:cubicBezTo>
                <a:cubicBezTo>
                  <a:pt x="22569" y="6326"/>
                  <a:pt x="22547" y="6423"/>
                  <a:pt x="22491" y="6491"/>
                </a:cubicBezTo>
                <a:cubicBezTo>
                  <a:pt x="22451" y="6540"/>
                  <a:pt x="22386" y="6572"/>
                  <a:pt x="22323" y="6573"/>
                </a:cubicBezTo>
                <a:cubicBezTo>
                  <a:pt x="22278" y="6573"/>
                  <a:pt x="22276" y="6554"/>
                  <a:pt x="22283" y="6519"/>
                </a:cubicBezTo>
              </a:path>
              <a:path w="2969" h="771">
                <a:moveTo>
                  <a:pt x="22761" y="6244"/>
                </a:moveTo>
                <a:cubicBezTo>
                  <a:pt x="22733" y="6279"/>
                  <a:pt x="22701" y="6315"/>
                  <a:pt x="22671" y="6351"/>
                </a:cubicBezTo>
                <a:cubicBezTo>
                  <a:pt x="22604" y="6432"/>
                  <a:pt x="22538" y="6523"/>
                  <a:pt x="22513" y="6628"/>
                </a:cubicBezTo>
                <a:cubicBezTo>
                  <a:pt x="22489" y="6727"/>
                  <a:pt x="22554" y="6776"/>
                  <a:pt x="22641" y="6789"/>
                </a:cubicBezTo>
              </a:path>
              <a:path w="2969" h="771">
                <a:moveTo>
                  <a:pt x="22750" y="6785"/>
                </a:moveTo>
                <a:cubicBezTo>
                  <a:pt x="22750" y="6748"/>
                  <a:pt x="22762" y="6721"/>
                  <a:pt x="22774" y="6686"/>
                </a:cubicBezTo>
                <a:cubicBezTo>
                  <a:pt x="22795" y="6627"/>
                  <a:pt x="22816" y="6569"/>
                  <a:pt x="22840" y="6511"/>
                </a:cubicBezTo>
                <a:cubicBezTo>
                  <a:pt x="22858" y="6467"/>
                  <a:pt x="22872" y="6413"/>
                  <a:pt x="22905" y="6377"/>
                </a:cubicBezTo>
                <a:cubicBezTo>
                  <a:pt x="22909" y="6374"/>
                  <a:pt x="22914" y="6371"/>
                  <a:pt x="22918" y="6368"/>
                </a:cubicBezTo>
                <a:cubicBezTo>
                  <a:pt x="22952" y="6389"/>
                  <a:pt x="22954" y="6426"/>
                  <a:pt x="22968" y="6464"/>
                </a:cubicBezTo>
                <a:cubicBezTo>
                  <a:pt x="22991" y="6528"/>
                  <a:pt x="23017" y="6591"/>
                  <a:pt x="23045" y="6653"/>
                </a:cubicBezTo>
                <a:cubicBezTo>
                  <a:pt x="23061" y="6687"/>
                  <a:pt x="23093" y="6727"/>
                  <a:pt x="23067" y="6751"/>
                </a:cubicBezTo>
              </a:path>
              <a:path w="2969" h="771">
                <a:moveTo>
                  <a:pt x="22813" y="6685"/>
                </a:moveTo>
                <a:cubicBezTo>
                  <a:pt x="22848" y="6673"/>
                  <a:pt x="22886" y="6662"/>
                  <a:pt x="22922" y="6651"/>
                </a:cubicBezTo>
                <a:cubicBezTo>
                  <a:pt x="22960" y="6640"/>
                  <a:pt x="22989" y="6626"/>
                  <a:pt x="23024" y="6608"/>
                </a:cubicBezTo>
              </a:path>
              <a:path w="2969" h="771">
                <a:moveTo>
                  <a:pt x="23102" y="6326"/>
                </a:moveTo>
                <a:cubicBezTo>
                  <a:pt x="23133" y="6349"/>
                  <a:pt x="23154" y="6384"/>
                  <a:pt x="23166" y="6421"/>
                </a:cubicBezTo>
                <a:cubicBezTo>
                  <a:pt x="23189" y="6491"/>
                  <a:pt x="23206" y="6576"/>
                  <a:pt x="23203" y="6650"/>
                </a:cubicBezTo>
                <a:cubicBezTo>
                  <a:pt x="23201" y="6718"/>
                  <a:pt x="23185" y="6786"/>
                  <a:pt x="23148" y="6842"/>
                </a:cubicBezTo>
                <a:cubicBezTo>
                  <a:pt x="23130" y="6870"/>
                  <a:pt x="23131" y="6871"/>
                  <a:pt x="23115" y="6851"/>
                </a:cubicBezTo>
              </a:path>
              <a:path w="2969" h="771">
                <a:moveTo>
                  <a:pt x="23429" y="6265"/>
                </a:moveTo>
                <a:cubicBezTo>
                  <a:pt x="23448" y="6298"/>
                  <a:pt x="23447" y="6340"/>
                  <a:pt x="23455" y="6379"/>
                </a:cubicBezTo>
                <a:cubicBezTo>
                  <a:pt x="23471" y="6463"/>
                  <a:pt x="23484" y="6547"/>
                  <a:pt x="23492" y="6632"/>
                </a:cubicBezTo>
                <a:cubicBezTo>
                  <a:pt x="23497" y="6690"/>
                  <a:pt x="23498" y="6748"/>
                  <a:pt x="23507" y="6805"/>
                </a:cubicBezTo>
                <a:cubicBezTo>
                  <a:pt x="23508" y="6810"/>
                  <a:pt x="23509" y="6815"/>
                  <a:pt x="23510" y="6820"/>
                </a:cubicBezTo>
              </a:path>
              <a:path w="2969" h="771">
                <a:moveTo>
                  <a:pt x="23655" y="6495"/>
                </a:moveTo>
                <a:cubicBezTo>
                  <a:pt x="23676" y="6481"/>
                  <a:pt x="23708" y="6480"/>
                  <a:pt x="23736" y="6477"/>
                </a:cubicBezTo>
                <a:cubicBezTo>
                  <a:pt x="23788" y="6472"/>
                  <a:pt x="23836" y="6478"/>
                  <a:pt x="23888" y="6482"/>
                </a:cubicBezTo>
              </a:path>
              <a:path w="2969" h="771">
                <a:moveTo>
                  <a:pt x="23609" y="6649"/>
                </a:moveTo>
                <a:cubicBezTo>
                  <a:pt x="23657" y="6646"/>
                  <a:pt x="23699" y="6629"/>
                  <a:pt x="23747" y="6621"/>
                </a:cubicBezTo>
                <a:cubicBezTo>
                  <a:pt x="23801" y="6613"/>
                  <a:pt x="23827" y="6610"/>
                  <a:pt x="23867" y="6604"/>
                </a:cubicBezTo>
              </a:path>
              <a:path w="2969" h="771">
                <a:moveTo>
                  <a:pt x="23964" y="6391"/>
                </a:moveTo>
                <a:cubicBezTo>
                  <a:pt x="23993" y="6297"/>
                  <a:pt x="24052" y="6272"/>
                  <a:pt x="24141" y="6351"/>
                </a:cubicBezTo>
                <a:cubicBezTo>
                  <a:pt x="24204" y="6407"/>
                  <a:pt x="24217" y="6485"/>
                  <a:pt x="24190" y="6563"/>
                </a:cubicBezTo>
                <a:cubicBezTo>
                  <a:pt x="24158" y="6654"/>
                  <a:pt x="24091" y="6707"/>
                  <a:pt x="24021" y="6768"/>
                </a:cubicBezTo>
                <a:cubicBezTo>
                  <a:pt x="23915" y="6860"/>
                  <a:pt x="24156" y="6794"/>
                  <a:pt x="24197" y="6786"/>
                </a:cubicBezTo>
              </a:path>
              <a:path w="2969" h="771">
                <a:moveTo>
                  <a:pt x="24265" y="6139"/>
                </a:moveTo>
                <a:cubicBezTo>
                  <a:pt x="24267" y="6125"/>
                  <a:pt x="24270" y="6112"/>
                  <a:pt x="24272" y="6098"/>
                </a:cubicBezTo>
                <a:cubicBezTo>
                  <a:pt x="24292" y="6174"/>
                  <a:pt x="24294" y="6241"/>
                  <a:pt x="24298" y="6317"/>
                </a:cubicBezTo>
                <a:cubicBezTo>
                  <a:pt x="24303" y="6409"/>
                  <a:pt x="24304" y="6445"/>
                  <a:pt x="24382" y="6482"/>
                </a:cubicBezTo>
              </a:path>
              <a:path w="2969" h="771">
                <a:moveTo>
                  <a:pt x="24368" y="6507"/>
                </a:moveTo>
                <a:cubicBezTo>
                  <a:pt x="24380" y="6441"/>
                  <a:pt x="24393" y="6371"/>
                  <a:pt x="24418" y="6308"/>
                </a:cubicBezTo>
                <a:cubicBezTo>
                  <a:pt x="24448" y="6231"/>
                  <a:pt x="24504" y="6172"/>
                  <a:pt x="24559" y="6113"/>
                </a:cubicBezTo>
                <a:cubicBezTo>
                  <a:pt x="24571" y="6198"/>
                  <a:pt x="24576" y="6268"/>
                  <a:pt x="24606" y="6350"/>
                </a:cubicBezTo>
                <a:cubicBezTo>
                  <a:pt x="24615" y="6374"/>
                  <a:pt x="24625" y="6397"/>
                  <a:pt x="24634" y="6421"/>
                </a:cubicBezTo>
              </a:path>
              <a:path w="2969" h="771">
                <a:moveTo>
                  <a:pt x="24418" y="6415"/>
                </a:moveTo>
                <a:cubicBezTo>
                  <a:pt x="24495" y="6413"/>
                  <a:pt x="24572" y="6413"/>
                  <a:pt x="24649" y="6411"/>
                </a:cubicBezTo>
              </a:path>
              <a:path w="2969" h="771">
                <a:moveTo>
                  <a:pt x="24899" y="6274"/>
                </a:moveTo>
                <a:cubicBezTo>
                  <a:pt x="24906" y="6257"/>
                  <a:pt x="24913" y="6241"/>
                  <a:pt x="24920" y="6224"/>
                </a:cubicBezTo>
                <a:cubicBezTo>
                  <a:pt x="24907" y="6302"/>
                  <a:pt x="24920" y="6366"/>
                  <a:pt x="24922" y="6442"/>
                </a:cubicBezTo>
                <a:cubicBezTo>
                  <a:pt x="24923" y="6493"/>
                  <a:pt x="24921" y="6544"/>
                  <a:pt x="24924" y="659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2476440" y="1222200"/>
            <a:ext cx="716040" cy="32040"/>
          </a:xfrm>
          <a:custGeom>
            <a:avLst/>
            <a:gdLst/>
            <a:ahLst/>
            <a:rect l="l" t="t" r="r" b="b"/>
            <a:pathLst>
              <a:path w="1989" h="91">
                <a:moveTo>
                  <a:pt x="6986" y="3434"/>
                </a:moveTo>
                <a:cubicBezTo>
                  <a:pt x="6963" y="3436"/>
                  <a:pt x="6939" y="3434"/>
                  <a:pt x="6916" y="3438"/>
                </a:cubicBezTo>
                <a:cubicBezTo>
                  <a:pt x="6903" y="3440"/>
                  <a:pt x="6892" y="3444"/>
                  <a:pt x="6879" y="3447"/>
                </a:cubicBezTo>
                <a:cubicBezTo>
                  <a:pt x="6897" y="3456"/>
                  <a:pt x="6905" y="3468"/>
                  <a:pt x="6933" y="3475"/>
                </a:cubicBezTo>
                <a:cubicBezTo>
                  <a:pt x="7059" y="3505"/>
                  <a:pt x="7209" y="3481"/>
                  <a:pt x="7336" y="3472"/>
                </a:cubicBezTo>
                <a:cubicBezTo>
                  <a:pt x="7694" y="3445"/>
                  <a:pt x="8051" y="3423"/>
                  <a:pt x="8410" y="3418"/>
                </a:cubicBezTo>
                <a:cubicBezTo>
                  <a:pt x="8546" y="3416"/>
                  <a:pt x="8704" y="3439"/>
                  <a:pt x="8838" y="3414"/>
                </a:cubicBezTo>
                <a:cubicBezTo>
                  <a:pt x="8883" y="3406"/>
                  <a:pt x="8854" y="3421"/>
                  <a:pt x="8835" y="339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814920" y="1268280"/>
            <a:ext cx="225360" cy="241560"/>
          </a:xfrm>
          <a:custGeom>
            <a:avLst/>
            <a:gdLst/>
            <a:ahLst/>
            <a:rect l="l" t="t" r="r" b="b"/>
            <a:pathLst>
              <a:path w="624" h="671">
                <a:moveTo>
                  <a:pt x="10907" y="3698"/>
                </a:moveTo>
                <a:cubicBezTo>
                  <a:pt x="10899" y="3695"/>
                  <a:pt x="10876" y="3688"/>
                  <a:pt x="10830" y="3715"/>
                </a:cubicBezTo>
                <a:cubicBezTo>
                  <a:pt x="10769" y="3750"/>
                  <a:pt x="10707" y="3791"/>
                  <a:pt x="10656" y="3840"/>
                </a:cubicBezTo>
                <a:cubicBezTo>
                  <a:pt x="10621" y="3874"/>
                  <a:pt x="10568" y="3933"/>
                  <a:pt x="10613" y="3982"/>
                </a:cubicBezTo>
                <a:cubicBezTo>
                  <a:pt x="10665" y="4039"/>
                  <a:pt x="10772" y="4030"/>
                  <a:pt x="10840" y="4024"/>
                </a:cubicBezTo>
                <a:cubicBezTo>
                  <a:pt x="10940" y="4016"/>
                  <a:pt x="11036" y="3986"/>
                  <a:pt x="11119" y="3929"/>
                </a:cubicBezTo>
                <a:cubicBezTo>
                  <a:pt x="11168" y="3895"/>
                  <a:pt x="11216" y="3835"/>
                  <a:pt x="11220" y="3772"/>
                </a:cubicBezTo>
                <a:cubicBezTo>
                  <a:pt x="11223" y="3729"/>
                  <a:pt x="11198" y="3677"/>
                  <a:pt x="11173" y="3643"/>
                </a:cubicBezTo>
                <a:cubicBezTo>
                  <a:pt x="11157" y="3622"/>
                  <a:pt x="11136" y="3604"/>
                  <a:pt x="11116" y="3587"/>
                </a:cubicBezTo>
              </a:path>
              <a:path w="624" h="671">
                <a:moveTo>
                  <a:pt x="11059" y="3524"/>
                </a:moveTo>
                <a:cubicBezTo>
                  <a:pt x="11034" y="3527"/>
                  <a:pt x="11018" y="3558"/>
                  <a:pt x="11008" y="3585"/>
                </a:cubicBezTo>
                <a:cubicBezTo>
                  <a:pt x="10982" y="3655"/>
                  <a:pt x="10964" y="3732"/>
                  <a:pt x="10945" y="3805"/>
                </a:cubicBezTo>
                <a:cubicBezTo>
                  <a:pt x="10925" y="3884"/>
                  <a:pt x="10910" y="3961"/>
                  <a:pt x="10901" y="4042"/>
                </a:cubicBezTo>
                <a:cubicBezTo>
                  <a:pt x="10896" y="4087"/>
                  <a:pt x="10897" y="4132"/>
                  <a:pt x="10899" y="4178"/>
                </a:cubicBezTo>
                <a:cubicBezTo>
                  <a:pt x="10899" y="4183"/>
                  <a:pt x="10900" y="4187"/>
                  <a:pt x="10900" y="419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936720" y="3062160"/>
            <a:ext cx="888840" cy="428760"/>
          </a:xfrm>
          <a:custGeom>
            <a:avLst/>
            <a:gdLst/>
            <a:ahLst/>
            <a:rect l="l" t="t" r="r" b="b"/>
            <a:pathLst>
              <a:path w="2469" h="1192">
                <a:moveTo>
                  <a:pt x="2600" y="9667"/>
                </a:moveTo>
                <a:cubicBezTo>
                  <a:pt x="2622" y="9683"/>
                  <a:pt x="2625" y="9710"/>
                  <a:pt x="2660" y="9685"/>
                </a:cubicBezTo>
                <a:cubicBezTo>
                  <a:pt x="2701" y="9655"/>
                  <a:pt x="2736" y="9553"/>
                  <a:pt x="2752" y="9509"/>
                </a:cubicBezTo>
                <a:cubicBezTo>
                  <a:pt x="2800" y="9376"/>
                  <a:pt x="2837" y="9239"/>
                  <a:pt x="2871" y="9102"/>
                </a:cubicBezTo>
                <a:cubicBezTo>
                  <a:pt x="2908" y="8952"/>
                  <a:pt x="2934" y="8803"/>
                  <a:pt x="2958" y="8651"/>
                </a:cubicBezTo>
                <a:cubicBezTo>
                  <a:pt x="2966" y="8602"/>
                  <a:pt x="2976" y="8553"/>
                  <a:pt x="2986" y="8505"/>
                </a:cubicBezTo>
                <a:cubicBezTo>
                  <a:pt x="2994" y="8581"/>
                  <a:pt x="2999" y="8659"/>
                  <a:pt x="3009" y="8735"/>
                </a:cubicBezTo>
                <a:cubicBezTo>
                  <a:pt x="3029" y="8897"/>
                  <a:pt x="3061" y="9057"/>
                  <a:pt x="3098" y="9216"/>
                </a:cubicBezTo>
                <a:cubicBezTo>
                  <a:pt x="3121" y="9317"/>
                  <a:pt x="3151" y="9418"/>
                  <a:pt x="3195" y="9513"/>
                </a:cubicBezTo>
                <a:cubicBezTo>
                  <a:pt x="3199" y="9520"/>
                  <a:pt x="3203" y="9527"/>
                  <a:pt x="3207" y="9534"/>
                </a:cubicBezTo>
              </a:path>
              <a:path w="2469" h="1192">
                <a:moveTo>
                  <a:pt x="2874" y="9190"/>
                </a:moveTo>
                <a:cubicBezTo>
                  <a:pt x="2847" y="9184"/>
                  <a:pt x="2831" y="9180"/>
                  <a:pt x="2805" y="9181"/>
                </a:cubicBezTo>
                <a:cubicBezTo>
                  <a:pt x="2871" y="9171"/>
                  <a:pt x="2936" y="9168"/>
                  <a:pt x="3002" y="9161"/>
                </a:cubicBezTo>
                <a:cubicBezTo>
                  <a:pt x="3124" y="9148"/>
                  <a:pt x="3246" y="9134"/>
                  <a:pt x="3367" y="9113"/>
                </a:cubicBezTo>
              </a:path>
              <a:path w="2469" h="1192">
                <a:moveTo>
                  <a:pt x="3465" y="8895"/>
                </a:moveTo>
                <a:cubicBezTo>
                  <a:pt x="3490" y="8944"/>
                  <a:pt x="3515" y="8991"/>
                  <a:pt x="3547" y="9036"/>
                </a:cubicBezTo>
                <a:cubicBezTo>
                  <a:pt x="3594" y="9103"/>
                  <a:pt x="3651" y="9175"/>
                  <a:pt x="3714" y="9227"/>
                </a:cubicBezTo>
                <a:cubicBezTo>
                  <a:pt x="3747" y="9254"/>
                  <a:pt x="3777" y="9265"/>
                  <a:pt x="3817" y="9275"/>
                </a:cubicBezTo>
              </a:path>
              <a:path w="2469" h="1192">
                <a:moveTo>
                  <a:pt x="3839" y="8860"/>
                </a:moveTo>
                <a:cubicBezTo>
                  <a:pt x="3793" y="8861"/>
                  <a:pt x="3752" y="8885"/>
                  <a:pt x="3721" y="8923"/>
                </a:cubicBezTo>
                <a:cubicBezTo>
                  <a:pt x="3674" y="8981"/>
                  <a:pt x="3649" y="9047"/>
                  <a:pt x="3630" y="9118"/>
                </a:cubicBezTo>
                <a:cubicBezTo>
                  <a:pt x="3617" y="9167"/>
                  <a:pt x="3614" y="9191"/>
                  <a:pt x="3650" y="9226"/>
                </a:cubicBezTo>
              </a:path>
              <a:path w="2469" h="1192">
                <a:moveTo>
                  <a:pt x="3853" y="9457"/>
                </a:moveTo>
                <a:cubicBezTo>
                  <a:pt x="3875" y="9412"/>
                  <a:pt x="3887" y="9365"/>
                  <a:pt x="3899" y="9317"/>
                </a:cubicBezTo>
                <a:cubicBezTo>
                  <a:pt x="3925" y="9214"/>
                  <a:pt x="3953" y="9112"/>
                  <a:pt x="3982" y="9010"/>
                </a:cubicBezTo>
                <a:cubicBezTo>
                  <a:pt x="4010" y="8911"/>
                  <a:pt x="4037" y="8807"/>
                  <a:pt x="4075" y="8711"/>
                </a:cubicBezTo>
                <a:cubicBezTo>
                  <a:pt x="4093" y="8665"/>
                  <a:pt x="4104" y="8669"/>
                  <a:pt x="4128" y="8646"/>
                </a:cubicBezTo>
                <a:cubicBezTo>
                  <a:pt x="4162" y="8718"/>
                  <a:pt x="4172" y="8796"/>
                  <a:pt x="4188" y="8874"/>
                </a:cubicBezTo>
                <a:cubicBezTo>
                  <a:pt x="4214" y="9003"/>
                  <a:pt x="4249" y="9128"/>
                  <a:pt x="4282" y="9255"/>
                </a:cubicBezTo>
                <a:cubicBezTo>
                  <a:pt x="4299" y="9320"/>
                  <a:pt x="4318" y="9376"/>
                  <a:pt x="4344" y="9437"/>
                </a:cubicBezTo>
              </a:path>
              <a:path w="2469" h="1192">
                <a:moveTo>
                  <a:pt x="4054" y="9078"/>
                </a:moveTo>
                <a:cubicBezTo>
                  <a:pt x="4025" y="9052"/>
                  <a:pt x="4072" y="9051"/>
                  <a:pt x="4100" y="9048"/>
                </a:cubicBezTo>
                <a:cubicBezTo>
                  <a:pt x="4176" y="9039"/>
                  <a:pt x="4257" y="9037"/>
                  <a:pt x="4333" y="9036"/>
                </a:cubicBezTo>
                <a:cubicBezTo>
                  <a:pt x="4388" y="9035"/>
                  <a:pt x="4442" y="9037"/>
                  <a:pt x="4497" y="9039"/>
                </a:cubicBezTo>
              </a:path>
              <a:path w="2469" h="1192">
                <a:moveTo>
                  <a:pt x="4735" y="9002"/>
                </a:moveTo>
                <a:cubicBezTo>
                  <a:pt x="4765" y="8981"/>
                  <a:pt x="4795" y="8972"/>
                  <a:pt x="4831" y="8963"/>
                </a:cubicBezTo>
                <a:cubicBezTo>
                  <a:pt x="4884" y="8949"/>
                  <a:pt x="4943" y="8950"/>
                  <a:pt x="4997" y="8960"/>
                </a:cubicBezTo>
                <a:cubicBezTo>
                  <a:pt x="5021" y="8967"/>
                  <a:pt x="5028" y="8968"/>
                  <a:pt x="5040" y="8978"/>
                </a:cubicBezTo>
              </a:path>
              <a:path w="2469" h="1192">
                <a:moveTo>
                  <a:pt x="4821" y="9129"/>
                </a:moveTo>
                <a:cubicBezTo>
                  <a:pt x="4796" y="9138"/>
                  <a:pt x="4790" y="9140"/>
                  <a:pt x="4775" y="9145"/>
                </a:cubicBezTo>
                <a:cubicBezTo>
                  <a:pt x="4797" y="9126"/>
                  <a:pt x="4846" y="9123"/>
                  <a:pt x="4879" y="9119"/>
                </a:cubicBezTo>
                <a:cubicBezTo>
                  <a:pt x="4942" y="9111"/>
                  <a:pt x="5005" y="9109"/>
                  <a:pt x="5068" y="910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971720" y="3129120"/>
            <a:ext cx="88920" cy="249120"/>
          </a:xfrm>
          <a:custGeom>
            <a:avLst/>
            <a:gdLst/>
            <a:ahLst/>
            <a:rect l="l" t="t" r="r" b="b"/>
            <a:pathLst>
              <a:path w="247" h="691">
                <a:moveTo>
                  <a:pt x="5605" y="8741"/>
                </a:moveTo>
                <a:cubicBezTo>
                  <a:pt x="5609" y="8718"/>
                  <a:pt x="5621" y="8694"/>
                  <a:pt x="5583" y="8692"/>
                </a:cubicBezTo>
                <a:cubicBezTo>
                  <a:pt x="5556" y="8690"/>
                  <a:pt x="5526" y="8707"/>
                  <a:pt x="5504" y="8720"/>
                </a:cubicBezTo>
                <a:cubicBezTo>
                  <a:pt x="5481" y="8734"/>
                  <a:pt x="5487" y="8736"/>
                  <a:pt x="5478" y="8753"/>
                </a:cubicBezTo>
                <a:cubicBezTo>
                  <a:pt x="5506" y="8763"/>
                  <a:pt x="5533" y="8771"/>
                  <a:pt x="5563" y="8776"/>
                </a:cubicBezTo>
                <a:cubicBezTo>
                  <a:pt x="5597" y="8782"/>
                  <a:pt x="5645" y="8783"/>
                  <a:pt x="5661" y="8819"/>
                </a:cubicBezTo>
                <a:cubicBezTo>
                  <a:pt x="5678" y="8858"/>
                  <a:pt x="5650" y="8908"/>
                  <a:pt x="5630" y="8939"/>
                </a:cubicBezTo>
                <a:cubicBezTo>
                  <a:pt x="5606" y="8978"/>
                  <a:pt x="5574" y="9011"/>
                  <a:pt x="5546" y="9046"/>
                </a:cubicBezTo>
                <a:cubicBezTo>
                  <a:pt x="5543" y="9051"/>
                  <a:pt x="5540" y="9055"/>
                  <a:pt x="5537" y="9060"/>
                </a:cubicBezTo>
                <a:cubicBezTo>
                  <a:pt x="5563" y="9068"/>
                  <a:pt x="5588" y="9070"/>
                  <a:pt x="5610" y="9087"/>
                </a:cubicBezTo>
                <a:cubicBezTo>
                  <a:pt x="5642" y="9111"/>
                  <a:pt x="5652" y="9145"/>
                  <a:pt x="5650" y="9183"/>
                </a:cubicBezTo>
                <a:cubicBezTo>
                  <a:pt x="5646" y="9250"/>
                  <a:pt x="5609" y="9301"/>
                  <a:pt x="5569" y="9351"/>
                </a:cubicBezTo>
                <a:cubicBezTo>
                  <a:pt x="5559" y="9365"/>
                  <a:pt x="5557" y="9368"/>
                  <a:pt x="5551" y="9377"/>
                </a:cubicBezTo>
                <a:cubicBezTo>
                  <a:pt x="5580" y="9382"/>
                  <a:pt x="5614" y="9373"/>
                  <a:pt x="5644" y="9365"/>
                </a:cubicBezTo>
                <a:cubicBezTo>
                  <a:pt x="5684" y="9353"/>
                  <a:pt x="5697" y="9349"/>
                  <a:pt x="5723" y="933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224080" y="3124080"/>
            <a:ext cx="498600" cy="254160"/>
          </a:xfrm>
          <a:custGeom>
            <a:avLst/>
            <a:gdLst/>
            <a:ahLst/>
            <a:rect l="l" t="t" r="r" b="b"/>
            <a:pathLst>
              <a:path w="1386" h="709">
                <a:moveTo>
                  <a:pt x="6361" y="8712"/>
                </a:moveTo>
                <a:cubicBezTo>
                  <a:pt x="6340" y="8691"/>
                  <a:pt x="6330" y="8691"/>
                  <a:pt x="6307" y="8710"/>
                </a:cubicBezTo>
                <a:cubicBezTo>
                  <a:pt x="6261" y="8748"/>
                  <a:pt x="6237" y="8814"/>
                  <a:pt x="6217" y="8868"/>
                </a:cubicBezTo>
                <a:cubicBezTo>
                  <a:pt x="6185" y="8955"/>
                  <a:pt x="6171" y="9046"/>
                  <a:pt x="6180" y="9138"/>
                </a:cubicBezTo>
                <a:cubicBezTo>
                  <a:pt x="6187" y="9206"/>
                  <a:pt x="6204" y="9273"/>
                  <a:pt x="6266" y="9310"/>
                </a:cubicBezTo>
                <a:cubicBezTo>
                  <a:pt x="6298" y="9321"/>
                  <a:pt x="6309" y="9325"/>
                  <a:pt x="6332" y="9324"/>
                </a:cubicBezTo>
              </a:path>
              <a:path w="1386" h="709">
                <a:moveTo>
                  <a:pt x="6517" y="8966"/>
                </a:moveTo>
                <a:cubicBezTo>
                  <a:pt x="6516" y="8961"/>
                  <a:pt x="6516" y="8955"/>
                  <a:pt x="6515" y="8950"/>
                </a:cubicBezTo>
                <a:cubicBezTo>
                  <a:pt x="6478" y="8952"/>
                  <a:pt x="6470" y="8970"/>
                  <a:pt x="6449" y="8998"/>
                </a:cubicBezTo>
                <a:cubicBezTo>
                  <a:pt x="6416" y="9043"/>
                  <a:pt x="6392" y="9095"/>
                  <a:pt x="6382" y="9151"/>
                </a:cubicBezTo>
                <a:cubicBezTo>
                  <a:pt x="6377" y="9181"/>
                  <a:pt x="6384" y="9219"/>
                  <a:pt x="6423" y="9208"/>
                </a:cubicBezTo>
                <a:cubicBezTo>
                  <a:pt x="6457" y="9198"/>
                  <a:pt x="6487" y="9168"/>
                  <a:pt x="6515" y="9146"/>
                </a:cubicBezTo>
                <a:cubicBezTo>
                  <a:pt x="6532" y="9133"/>
                  <a:pt x="6555" y="9107"/>
                  <a:pt x="6577" y="9127"/>
                </a:cubicBezTo>
                <a:cubicBezTo>
                  <a:pt x="6601" y="9149"/>
                  <a:pt x="6604" y="9189"/>
                  <a:pt x="6624" y="9214"/>
                </a:cubicBezTo>
                <a:cubicBezTo>
                  <a:pt x="6642" y="9237"/>
                  <a:pt x="6662" y="9237"/>
                  <a:pt x="6688" y="9241"/>
                </a:cubicBezTo>
              </a:path>
              <a:path w="1386" h="709">
                <a:moveTo>
                  <a:pt x="6875" y="9174"/>
                </a:moveTo>
                <a:cubicBezTo>
                  <a:pt x="6850" y="9205"/>
                  <a:pt x="6818" y="9238"/>
                  <a:pt x="6797" y="9271"/>
                </a:cubicBezTo>
                <a:cubicBezTo>
                  <a:pt x="6776" y="9303"/>
                  <a:pt x="6754" y="9340"/>
                  <a:pt x="6736" y="9373"/>
                </a:cubicBezTo>
                <a:cubicBezTo>
                  <a:pt x="6731" y="9385"/>
                  <a:pt x="6729" y="9389"/>
                  <a:pt x="6737" y="9372"/>
                </a:cubicBezTo>
              </a:path>
              <a:path w="1386" h="709">
                <a:moveTo>
                  <a:pt x="7011" y="8722"/>
                </a:moveTo>
                <a:cubicBezTo>
                  <a:pt x="7001" y="8755"/>
                  <a:pt x="7003" y="8768"/>
                  <a:pt x="7001" y="8803"/>
                </a:cubicBezTo>
                <a:cubicBezTo>
                  <a:pt x="6997" y="8879"/>
                  <a:pt x="6994" y="8955"/>
                  <a:pt x="6994" y="9031"/>
                </a:cubicBezTo>
                <a:cubicBezTo>
                  <a:pt x="6994" y="9067"/>
                  <a:pt x="6994" y="9100"/>
                  <a:pt x="7000" y="9136"/>
                </a:cubicBezTo>
                <a:cubicBezTo>
                  <a:pt x="7036" y="9121"/>
                  <a:pt x="7047" y="9094"/>
                  <a:pt x="7074" y="9066"/>
                </a:cubicBezTo>
                <a:cubicBezTo>
                  <a:pt x="7095" y="9043"/>
                  <a:pt x="7130" y="9013"/>
                  <a:pt x="7163" y="9034"/>
                </a:cubicBezTo>
                <a:cubicBezTo>
                  <a:pt x="7198" y="9056"/>
                  <a:pt x="7202" y="9110"/>
                  <a:pt x="7201" y="9146"/>
                </a:cubicBezTo>
                <a:cubicBezTo>
                  <a:pt x="7200" y="9187"/>
                  <a:pt x="7187" y="9225"/>
                  <a:pt x="7147" y="9243"/>
                </a:cubicBezTo>
                <a:cubicBezTo>
                  <a:pt x="7094" y="9267"/>
                  <a:pt x="7076" y="9215"/>
                  <a:pt x="7068" y="9176"/>
                </a:cubicBezTo>
              </a:path>
              <a:path w="1386" h="709">
                <a:moveTo>
                  <a:pt x="7444" y="8677"/>
                </a:moveTo>
                <a:cubicBezTo>
                  <a:pt x="7492" y="8717"/>
                  <a:pt x="7511" y="8756"/>
                  <a:pt x="7531" y="8816"/>
                </a:cubicBezTo>
                <a:cubicBezTo>
                  <a:pt x="7560" y="8901"/>
                  <a:pt x="7571" y="8992"/>
                  <a:pt x="7556" y="9082"/>
                </a:cubicBezTo>
                <a:cubicBezTo>
                  <a:pt x="7547" y="9139"/>
                  <a:pt x="7531" y="9204"/>
                  <a:pt x="7486" y="9243"/>
                </a:cubicBezTo>
                <a:cubicBezTo>
                  <a:pt x="7480" y="9246"/>
                  <a:pt x="7474" y="9250"/>
                  <a:pt x="7468" y="925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995560" y="3094200"/>
            <a:ext cx="928800" cy="280800"/>
          </a:xfrm>
          <a:custGeom>
            <a:avLst/>
            <a:gdLst/>
            <a:ahLst/>
            <a:rect l="l" t="t" r="r" b="b"/>
            <a:pathLst>
              <a:path w="2577" h="782">
                <a:moveTo>
                  <a:pt x="8326" y="8594"/>
                </a:moveTo>
                <a:cubicBezTo>
                  <a:pt x="8324" y="8700"/>
                  <a:pt x="8324" y="8806"/>
                  <a:pt x="8327" y="8912"/>
                </a:cubicBezTo>
                <a:cubicBezTo>
                  <a:pt x="8330" y="9027"/>
                  <a:pt x="8336" y="9139"/>
                  <a:pt x="8349" y="9253"/>
                </a:cubicBezTo>
                <a:cubicBezTo>
                  <a:pt x="8355" y="9304"/>
                  <a:pt x="8356" y="9317"/>
                  <a:pt x="8365" y="9348"/>
                </a:cubicBezTo>
              </a:path>
              <a:path w="2577" h="782">
                <a:moveTo>
                  <a:pt x="8631" y="8964"/>
                </a:moveTo>
                <a:cubicBezTo>
                  <a:pt x="8588" y="8987"/>
                  <a:pt x="8580" y="9016"/>
                  <a:pt x="8556" y="9057"/>
                </a:cubicBezTo>
                <a:cubicBezTo>
                  <a:pt x="8523" y="9113"/>
                  <a:pt x="8496" y="9172"/>
                  <a:pt x="8498" y="9239"/>
                </a:cubicBezTo>
                <a:cubicBezTo>
                  <a:pt x="8499" y="9284"/>
                  <a:pt x="8529" y="9297"/>
                  <a:pt x="8567" y="9276"/>
                </a:cubicBezTo>
                <a:cubicBezTo>
                  <a:pt x="8640" y="9236"/>
                  <a:pt x="8682" y="9148"/>
                  <a:pt x="8734" y="9086"/>
                </a:cubicBezTo>
                <a:cubicBezTo>
                  <a:pt x="8748" y="9071"/>
                  <a:pt x="8750" y="9067"/>
                  <a:pt x="8763" y="9065"/>
                </a:cubicBezTo>
                <a:cubicBezTo>
                  <a:pt x="8783" y="9089"/>
                  <a:pt x="8780" y="9118"/>
                  <a:pt x="8782" y="9150"/>
                </a:cubicBezTo>
                <a:cubicBezTo>
                  <a:pt x="8785" y="9188"/>
                  <a:pt x="8771" y="9258"/>
                  <a:pt x="8805" y="9286"/>
                </a:cubicBezTo>
                <a:cubicBezTo>
                  <a:pt x="8810" y="9288"/>
                  <a:pt x="8815" y="9290"/>
                  <a:pt x="8820" y="9292"/>
                </a:cubicBezTo>
              </a:path>
              <a:path w="2577" h="782">
                <a:moveTo>
                  <a:pt x="9261" y="9000"/>
                </a:moveTo>
                <a:cubicBezTo>
                  <a:pt x="9260" y="8969"/>
                  <a:pt x="9267" y="8912"/>
                  <a:pt x="9230" y="8894"/>
                </a:cubicBezTo>
                <a:cubicBezTo>
                  <a:pt x="9192" y="8876"/>
                  <a:pt x="9151" y="8946"/>
                  <a:pt x="9139" y="8968"/>
                </a:cubicBezTo>
                <a:cubicBezTo>
                  <a:pt x="9105" y="9028"/>
                  <a:pt x="9075" y="9122"/>
                  <a:pt x="9111" y="9188"/>
                </a:cubicBezTo>
                <a:cubicBezTo>
                  <a:pt x="9135" y="9232"/>
                  <a:pt x="9198" y="9246"/>
                  <a:pt x="9243" y="9247"/>
                </a:cubicBezTo>
                <a:cubicBezTo>
                  <a:pt x="9269" y="9247"/>
                  <a:pt x="9289" y="9238"/>
                  <a:pt x="9311" y="9227"/>
                </a:cubicBezTo>
              </a:path>
              <a:path w="2577" h="782">
                <a:moveTo>
                  <a:pt x="9096" y="9190"/>
                </a:moveTo>
                <a:cubicBezTo>
                  <a:pt x="9079" y="9193"/>
                  <a:pt x="9075" y="9194"/>
                  <a:pt x="9065" y="9195"/>
                </a:cubicBezTo>
                <a:cubicBezTo>
                  <a:pt x="9107" y="9154"/>
                  <a:pt x="9159" y="9144"/>
                  <a:pt x="9215" y="9125"/>
                </a:cubicBezTo>
                <a:cubicBezTo>
                  <a:pt x="9281" y="9102"/>
                  <a:pt x="9346" y="9088"/>
                  <a:pt x="9415" y="9073"/>
                </a:cubicBezTo>
              </a:path>
              <a:path w="2577" h="782">
                <a:moveTo>
                  <a:pt x="9638" y="9243"/>
                </a:moveTo>
                <a:cubicBezTo>
                  <a:pt x="9627" y="9205"/>
                  <a:pt x="9638" y="9175"/>
                  <a:pt x="9643" y="9136"/>
                </a:cubicBezTo>
                <a:cubicBezTo>
                  <a:pt x="9652" y="9064"/>
                  <a:pt x="9663" y="8992"/>
                  <a:pt x="9678" y="8921"/>
                </a:cubicBezTo>
                <a:cubicBezTo>
                  <a:pt x="9688" y="8876"/>
                  <a:pt x="9694" y="8829"/>
                  <a:pt x="9714" y="8788"/>
                </a:cubicBezTo>
                <a:cubicBezTo>
                  <a:pt x="9734" y="8810"/>
                  <a:pt x="9742" y="8837"/>
                  <a:pt x="9754" y="8874"/>
                </a:cubicBezTo>
                <a:cubicBezTo>
                  <a:pt x="9776" y="8945"/>
                  <a:pt x="9806" y="9009"/>
                  <a:pt x="9836" y="9077"/>
                </a:cubicBezTo>
                <a:cubicBezTo>
                  <a:pt x="9851" y="9112"/>
                  <a:pt x="9856" y="9122"/>
                  <a:pt x="9864" y="9145"/>
                </a:cubicBezTo>
              </a:path>
              <a:path w="2577" h="782">
                <a:moveTo>
                  <a:pt x="9664" y="9084"/>
                </a:moveTo>
                <a:cubicBezTo>
                  <a:pt x="9653" y="9073"/>
                  <a:pt x="9649" y="9070"/>
                  <a:pt x="9651" y="9059"/>
                </a:cubicBezTo>
                <a:cubicBezTo>
                  <a:pt x="9688" y="9031"/>
                  <a:pt x="9735" y="9009"/>
                  <a:pt x="9782" y="9000"/>
                </a:cubicBezTo>
                <a:cubicBezTo>
                  <a:pt x="9864" y="8984"/>
                  <a:pt x="9951" y="8979"/>
                  <a:pt x="10034" y="8985"/>
                </a:cubicBezTo>
                <a:cubicBezTo>
                  <a:pt x="10051" y="8987"/>
                  <a:pt x="10069" y="8989"/>
                  <a:pt x="10086" y="8991"/>
                </a:cubicBezTo>
              </a:path>
              <a:path w="2577" h="782">
                <a:moveTo>
                  <a:pt x="10169" y="9180"/>
                </a:moveTo>
                <a:cubicBezTo>
                  <a:pt x="10157" y="9217"/>
                  <a:pt x="10146" y="9256"/>
                  <a:pt x="10128" y="9290"/>
                </a:cubicBezTo>
                <a:cubicBezTo>
                  <a:pt x="10115" y="9316"/>
                  <a:pt x="10098" y="9349"/>
                  <a:pt x="10076" y="9369"/>
                </a:cubicBezTo>
                <a:cubicBezTo>
                  <a:pt x="10073" y="9371"/>
                  <a:pt x="10069" y="9373"/>
                  <a:pt x="10066" y="9375"/>
                </a:cubicBezTo>
              </a:path>
              <a:path w="2577" h="782">
                <a:moveTo>
                  <a:pt x="10652" y="8640"/>
                </a:moveTo>
                <a:cubicBezTo>
                  <a:pt x="10623" y="8656"/>
                  <a:pt x="10612" y="8680"/>
                  <a:pt x="10611" y="8716"/>
                </a:cubicBezTo>
                <a:cubicBezTo>
                  <a:pt x="10610" y="8773"/>
                  <a:pt x="10621" y="8834"/>
                  <a:pt x="10631" y="8890"/>
                </a:cubicBezTo>
                <a:cubicBezTo>
                  <a:pt x="10639" y="8933"/>
                  <a:pt x="10648" y="8976"/>
                  <a:pt x="10667" y="9016"/>
                </a:cubicBezTo>
                <a:cubicBezTo>
                  <a:pt x="10669" y="9021"/>
                  <a:pt x="10672" y="9025"/>
                  <a:pt x="10674" y="9030"/>
                </a:cubicBezTo>
                <a:cubicBezTo>
                  <a:pt x="10692" y="9015"/>
                  <a:pt x="10705" y="8997"/>
                  <a:pt x="10729" y="8993"/>
                </a:cubicBezTo>
                <a:cubicBezTo>
                  <a:pt x="10762" y="8987"/>
                  <a:pt x="10796" y="9009"/>
                  <a:pt x="10821" y="9028"/>
                </a:cubicBezTo>
                <a:cubicBezTo>
                  <a:pt x="10852" y="9052"/>
                  <a:pt x="10890" y="9095"/>
                  <a:pt x="10892" y="9137"/>
                </a:cubicBezTo>
                <a:cubicBezTo>
                  <a:pt x="10893" y="9158"/>
                  <a:pt x="10879" y="9176"/>
                  <a:pt x="10861" y="9185"/>
                </a:cubicBezTo>
                <a:cubicBezTo>
                  <a:pt x="10850" y="9191"/>
                  <a:pt x="10829" y="9202"/>
                  <a:pt x="10816" y="9196"/>
                </a:cubicBezTo>
                <a:cubicBezTo>
                  <a:pt x="10803" y="9190"/>
                  <a:pt x="10801" y="9163"/>
                  <a:pt x="10800" y="9151"/>
                </a:cubicBezTo>
                <a:cubicBezTo>
                  <a:pt x="10798" y="9135"/>
                  <a:pt x="10796" y="9107"/>
                  <a:pt x="10807" y="9093"/>
                </a:cubicBezTo>
                <a:cubicBezTo>
                  <a:pt x="10819" y="9078"/>
                  <a:pt x="10830" y="9073"/>
                  <a:pt x="10850" y="9075"/>
                </a:cubicBezTo>
                <a:cubicBezTo>
                  <a:pt x="10864" y="9076"/>
                  <a:pt x="10891" y="9089"/>
                  <a:pt x="10896" y="9104"/>
                </a:cubicBezTo>
                <a:cubicBezTo>
                  <a:pt x="10903" y="9128"/>
                  <a:pt x="10880" y="9144"/>
                  <a:pt x="10862" y="9155"/>
                </a:cubicBezTo>
                <a:cubicBezTo>
                  <a:pt x="10834" y="9172"/>
                  <a:pt x="10789" y="9194"/>
                  <a:pt x="10756" y="9198"/>
                </a:cubicBezTo>
                <a:cubicBezTo>
                  <a:pt x="10739" y="9196"/>
                  <a:pt x="10734" y="9196"/>
                  <a:pt x="10729" y="9185"/>
                </a:cubicBezTo>
              </a:path>
              <a:path w="2577" h="782">
                <a:moveTo>
                  <a:pt x="10803" y="8982"/>
                </a:moveTo>
                <a:cubicBezTo>
                  <a:pt x="10758" y="8967"/>
                  <a:pt x="10757" y="8984"/>
                  <a:pt x="10744" y="9029"/>
                </a:cubicBezTo>
                <a:cubicBezTo>
                  <a:pt x="10730" y="9076"/>
                  <a:pt x="10729" y="9123"/>
                  <a:pt x="10727" y="9172"/>
                </a:cubicBezTo>
                <a:cubicBezTo>
                  <a:pt x="10726" y="9198"/>
                  <a:pt x="10720" y="9249"/>
                  <a:pt x="10743" y="9270"/>
                </a:cubicBezTo>
                <a:cubicBezTo>
                  <a:pt x="10748" y="9272"/>
                  <a:pt x="10754" y="9274"/>
                  <a:pt x="10759" y="9276"/>
                </a:cubicBezTo>
              </a:path>
              <a:path w="2577" h="782">
                <a:moveTo>
                  <a:pt x="10164" y="9305"/>
                </a:moveTo>
                <a:cubicBezTo>
                  <a:pt x="10162" y="9320"/>
                  <a:pt x="10160" y="9332"/>
                  <a:pt x="10157" y="9346"/>
                </a:cubicBezTo>
                <a:cubicBezTo>
                  <a:pt x="10155" y="9323"/>
                  <a:pt x="10155" y="9299"/>
                  <a:pt x="10157" y="9275"/>
                </a:cubicBezTo>
                <a:cubicBezTo>
                  <a:pt x="10160" y="9240"/>
                  <a:pt x="10170" y="9210"/>
                  <a:pt x="10186" y="9179"/>
                </a:cubicBezTo>
                <a:cubicBezTo>
                  <a:pt x="10204" y="9143"/>
                  <a:pt x="10227" y="9110"/>
                  <a:pt x="10245" y="9074"/>
                </a:cubicBezTo>
                <a:cubicBezTo>
                  <a:pt x="10259" y="9046"/>
                  <a:pt x="10273" y="9018"/>
                  <a:pt x="10287" y="8991"/>
                </a:cubicBezTo>
                <a:cubicBezTo>
                  <a:pt x="10308" y="9018"/>
                  <a:pt x="10310" y="9059"/>
                  <a:pt x="10318" y="9095"/>
                </a:cubicBezTo>
                <a:cubicBezTo>
                  <a:pt x="10332" y="9155"/>
                  <a:pt x="10340" y="9235"/>
                  <a:pt x="10381" y="9283"/>
                </a:cubicBezTo>
                <a:cubicBezTo>
                  <a:pt x="10401" y="9306"/>
                  <a:pt x="10413" y="9298"/>
                  <a:pt x="10430" y="928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056120" y="3178080"/>
            <a:ext cx="339840" cy="154080"/>
          </a:xfrm>
          <a:custGeom>
            <a:avLst/>
            <a:gdLst/>
            <a:ahLst/>
            <a:rect l="l" t="t" r="r" b="b"/>
            <a:pathLst>
              <a:path w="945" h="429">
                <a:moveTo>
                  <a:pt x="11513" y="8855"/>
                </a:moveTo>
                <a:cubicBezTo>
                  <a:pt x="11486" y="8833"/>
                  <a:pt x="11453" y="8818"/>
                  <a:pt x="11417" y="8831"/>
                </a:cubicBezTo>
                <a:cubicBezTo>
                  <a:pt x="11370" y="8848"/>
                  <a:pt x="11330" y="8889"/>
                  <a:pt x="11305" y="8931"/>
                </a:cubicBezTo>
                <a:cubicBezTo>
                  <a:pt x="11278" y="8976"/>
                  <a:pt x="11255" y="9036"/>
                  <a:pt x="11273" y="9089"/>
                </a:cubicBezTo>
                <a:cubicBezTo>
                  <a:pt x="11291" y="9144"/>
                  <a:pt x="11352" y="9162"/>
                  <a:pt x="11404" y="9169"/>
                </a:cubicBezTo>
                <a:cubicBezTo>
                  <a:pt x="11458" y="9177"/>
                  <a:pt x="11503" y="9164"/>
                  <a:pt x="11550" y="9140"/>
                </a:cubicBezTo>
              </a:path>
              <a:path w="945" h="429">
                <a:moveTo>
                  <a:pt x="11318" y="9049"/>
                </a:moveTo>
                <a:cubicBezTo>
                  <a:pt x="11312" y="9052"/>
                  <a:pt x="11307" y="9056"/>
                  <a:pt x="11301" y="9059"/>
                </a:cubicBezTo>
                <a:cubicBezTo>
                  <a:pt x="11346" y="9056"/>
                  <a:pt x="11386" y="9043"/>
                  <a:pt x="11429" y="9031"/>
                </a:cubicBezTo>
                <a:cubicBezTo>
                  <a:pt x="11499" y="9011"/>
                  <a:pt x="11567" y="9005"/>
                  <a:pt x="11639" y="9002"/>
                </a:cubicBezTo>
              </a:path>
              <a:path w="945" h="429">
                <a:moveTo>
                  <a:pt x="11753" y="9239"/>
                </a:moveTo>
                <a:cubicBezTo>
                  <a:pt x="11728" y="9235"/>
                  <a:pt x="11730" y="9209"/>
                  <a:pt x="11738" y="9180"/>
                </a:cubicBezTo>
                <a:cubicBezTo>
                  <a:pt x="11754" y="9121"/>
                  <a:pt x="11784" y="9058"/>
                  <a:pt x="11811" y="9003"/>
                </a:cubicBezTo>
                <a:cubicBezTo>
                  <a:pt x="11836" y="8953"/>
                  <a:pt x="11862" y="8887"/>
                  <a:pt x="11899" y="8844"/>
                </a:cubicBezTo>
                <a:cubicBezTo>
                  <a:pt x="11905" y="8839"/>
                  <a:pt x="11911" y="8835"/>
                  <a:pt x="11917" y="8830"/>
                </a:cubicBezTo>
                <a:cubicBezTo>
                  <a:pt x="11957" y="8849"/>
                  <a:pt x="11957" y="8896"/>
                  <a:pt x="11964" y="8940"/>
                </a:cubicBezTo>
                <a:cubicBezTo>
                  <a:pt x="11975" y="9016"/>
                  <a:pt x="11983" y="9094"/>
                  <a:pt x="11997" y="9170"/>
                </a:cubicBezTo>
                <a:cubicBezTo>
                  <a:pt x="12002" y="9199"/>
                  <a:pt x="12010" y="9226"/>
                  <a:pt x="12013" y="9256"/>
                </a:cubicBezTo>
              </a:path>
              <a:path w="945" h="429">
                <a:moveTo>
                  <a:pt x="11822" y="9057"/>
                </a:moveTo>
                <a:cubicBezTo>
                  <a:pt x="11866" y="9051"/>
                  <a:pt x="11909" y="9044"/>
                  <a:pt x="11953" y="9038"/>
                </a:cubicBezTo>
                <a:cubicBezTo>
                  <a:pt x="12025" y="9028"/>
                  <a:pt x="12096" y="9026"/>
                  <a:pt x="12169" y="9029"/>
                </a:cubicBezTo>
                <a:cubicBezTo>
                  <a:pt x="12183" y="9030"/>
                  <a:pt x="12197" y="9030"/>
                  <a:pt x="12211" y="903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4540320" y="3133800"/>
            <a:ext cx="92160" cy="236520"/>
          </a:xfrm>
          <a:custGeom>
            <a:avLst/>
            <a:gdLst/>
            <a:ahLst/>
            <a:rect l="l" t="t" r="r" b="b"/>
            <a:pathLst>
              <a:path w="255" h="660">
                <a:moveTo>
                  <a:pt x="12645" y="8705"/>
                </a:moveTo>
                <a:cubicBezTo>
                  <a:pt x="12663" y="8706"/>
                  <a:pt x="12675" y="8705"/>
                  <a:pt x="12693" y="8705"/>
                </a:cubicBezTo>
                <a:cubicBezTo>
                  <a:pt x="12722" y="8705"/>
                  <a:pt x="12758" y="8709"/>
                  <a:pt x="12782" y="8728"/>
                </a:cubicBezTo>
                <a:cubicBezTo>
                  <a:pt x="12818" y="8756"/>
                  <a:pt x="12819" y="8805"/>
                  <a:pt x="12808" y="8845"/>
                </a:cubicBezTo>
                <a:cubicBezTo>
                  <a:pt x="12790" y="8909"/>
                  <a:pt x="12755" y="8971"/>
                  <a:pt x="12714" y="9022"/>
                </a:cubicBezTo>
                <a:cubicBezTo>
                  <a:pt x="12701" y="9036"/>
                  <a:pt x="12699" y="9039"/>
                  <a:pt x="12692" y="9048"/>
                </a:cubicBezTo>
                <a:cubicBezTo>
                  <a:pt x="12712" y="9041"/>
                  <a:pt x="12733" y="9032"/>
                  <a:pt x="12754" y="9030"/>
                </a:cubicBezTo>
                <a:cubicBezTo>
                  <a:pt x="12786" y="9027"/>
                  <a:pt x="12813" y="9043"/>
                  <a:pt x="12824" y="9073"/>
                </a:cubicBezTo>
                <a:cubicBezTo>
                  <a:pt x="12831" y="9091"/>
                  <a:pt x="12824" y="9103"/>
                  <a:pt x="12831" y="9120"/>
                </a:cubicBezTo>
                <a:cubicBezTo>
                  <a:pt x="12839" y="9138"/>
                  <a:pt x="12857" y="9150"/>
                  <a:pt x="12863" y="9170"/>
                </a:cubicBezTo>
                <a:cubicBezTo>
                  <a:pt x="12870" y="9193"/>
                  <a:pt x="12863" y="9215"/>
                  <a:pt x="12852" y="9235"/>
                </a:cubicBezTo>
                <a:cubicBezTo>
                  <a:pt x="12838" y="9261"/>
                  <a:pt x="12813" y="9288"/>
                  <a:pt x="12788" y="9303"/>
                </a:cubicBezTo>
                <a:cubicBezTo>
                  <a:pt x="12756" y="9323"/>
                  <a:pt x="12714" y="9338"/>
                  <a:pt x="12678" y="9347"/>
                </a:cubicBezTo>
                <a:cubicBezTo>
                  <a:pt x="12656" y="9352"/>
                  <a:pt x="12634" y="9357"/>
                  <a:pt x="12612" y="936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516640" y="3206880"/>
            <a:ext cx="755640" cy="474480"/>
          </a:xfrm>
          <a:custGeom>
            <a:avLst/>
            <a:gdLst/>
            <a:ahLst/>
            <a:rect l="l" t="t" r="r" b="b"/>
            <a:pathLst>
              <a:path w="2098" h="1317">
                <a:moveTo>
                  <a:pt x="15736" y="9684"/>
                </a:moveTo>
                <a:cubicBezTo>
                  <a:pt x="15726" y="9657"/>
                  <a:pt x="15722" y="9686"/>
                  <a:pt x="15706" y="9713"/>
                </a:cubicBezTo>
                <a:cubicBezTo>
                  <a:pt x="15669" y="9774"/>
                  <a:pt x="15642" y="9840"/>
                  <a:pt x="15607" y="9903"/>
                </a:cubicBezTo>
                <a:cubicBezTo>
                  <a:pt x="15562" y="9984"/>
                  <a:pt x="15517" y="10064"/>
                  <a:pt x="15466" y="10141"/>
                </a:cubicBezTo>
                <a:cubicBezTo>
                  <a:pt x="15444" y="10173"/>
                  <a:pt x="15424" y="10198"/>
                  <a:pt x="15396" y="10224"/>
                </a:cubicBezTo>
                <a:cubicBezTo>
                  <a:pt x="15384" y="10189"/>
                  <a:pt x="15406" y="10151"/>
                  <a:pt x="15420" y="10115"/>
                </a:cubicBezTo>
                <a:cubicBezTo>
                  <a:pt x="15441" y="10061"/>
                  <a:pt x="15464" y="10009"/>
                  <a:pt x="15486" y="9956"/>
                </a:cubicBezTo>
                <a:cubicBezTo>
                  <a:pt x="15495" y="9935"/>
                  <a:pt x="15497" y="9931"/>
                  <a:pt x="15499" y="9917"/>
                </a:cubicBezTo>
                <a:cubicBezTo>
                  <a:pt x="15474" y="9955"/>
                  <a:pt x="15449" y="9993"/>
                  <a:pt x="15426" y="10032"/>
                </a:cubicBezTo>
                <a:cubicBezTo>
                  <a:pt x="15403" y="10071"/>
                  <a:pt x="15380" y="10110"/>
                  <a:pt x="15354" y="10148"/>
                </a:cubicBezTo>
                <a:cubicBezTo>
                  <a:pt x="15340" y="10168"/>
                  <a:pt x="15332" y="10185"/>
                  <a:pt x="15325" y="10205"/>
                </a:cubicBezTo>
                <a:cubicBezTo>
                  <a:pt x="15355" y="10206"/>
                  <a:pt x="15378" y="10196"/>
                  <a:pt x="15407" y="10187"/>
                </a:cubicBezTo>
                <a:cubicBezTo>
                  <a:pt x="15453" y="10173"/>
                  <a:pt x="15497" y="10161"/>
                  <a:pt x="15544" y="10160"/>
                </a:cubicBezTo>
                <a:cubicBezTo>
                  <a:pt x="15578" y="10159"/>
                  <a:pt x="15610" y="10164"/>
                  <a:pt x="15644" y="10167"/>
                </a:cubicBezTo>
              </a:path>
              <a:path w="2098" h="1317">
                <a:moveTo>
                  <a:pt x="15948" y="8942"/>
                </a:moveTo>
                <a:cubicBezTo>
                  <a:pt x="15945" y="8934"/>
                  <a:pt x="15931" y="8893"/>
                  <a:pt x="15916" y="8913"/>
                </a:cubicBezTo>
                <a:cubicBezTo>
                  <a:pt x="15899" y="8936"/>
                  <a:pt x="15914" y="9036"/>
                  <a:pt x="15914" y="9062"/>
                </a:cubicBezTo>
                <a:cubicBezTo>
                  <a:pt x="15915" y="9151"/>
                  <a:pt x="15917" y="9241"/>
                  <a:pt x="15927" y="9330"/>
                </a:cubicBezTo>
                <a:cubicBezTo>
                  <a:pt x="15932" y="9377"/>
                  <a:pt x="15934" y="9425"/>
                  <a:pt x="15973" y="9451"/>
                </a:cubicBezTo>
                <a:cubicBezTo>
                  <a:pt x="16016" y="9417"/>
                  <a:pt x="16037" y="9375"/>
                  <a:pt x="16059" y="9324"/>
                </a:cubicBezTo>
                <a:cubicBezTo>
                  <a:pt x="16093" y="9246"/>
                  <a:pt x="16121" y="9164"/>
                  <a:pt x="16147" y="9083"/>
                </a:cubicBezTo>
                <a:cubicBezTo>
                  <a:pt x="16158" y="9047"/>
                  <a:pt x="16167" y="9011"/>
                  <a:pt x="16181" y="8976"/>
                </a:cubicBezTo>
                <a:cubicBezTo>
                  <a:pt x="16191" y="9030"/>
                  <a:pt x="16184" y="9087"/>
                  <a:pt x="16184" y="9143"/>
                </a:cubicBezTo>
                <a:cubicBezTo>
                  <a:pt x="16184" y="9222"/>
                  <a:pt x="16184" y="9303"/>
                  <a:pt x="16197" y="9381"/>
                </a:cubicBezTo>
                <a:cubicBezTo>
                  <a:pt x="16203" y="9414"/>
                  <a:pt x="16209" y="9437"/>
                  <a:pt x="16226" y="9464"/>
                </a:cubicBezTo>
              </a:path>
              <a:path w="2098" h="1317">
                <a:moveTo>
                  <a:pt x="16440" y="9217"/>
                </a:moveTo>
                <a:cubicBezTo>
                  <a:pt x="16433" y="9204"/>
                  <a:pt x="16431" y="9200"/>
                  <a:pt x="16429" y="9190"/>
                </a:cubicBezTo>
                <a:cubicBezTo>
                  <a:pt x="16450" y="9190"/>
                  <a:pt x="16470" y="9192"/>
                  <a:pt x="16491" y="9192"/>
                </a:cubicBezTo>
                <a:cubicBezTo>
                  <a:pt x="16526" y="9193"/>
                  <a:pt x="16562" y="9193"/>
                  <a:pt x="16597" y="9190"/>
                </a:cubicBezTo>
                <a:cubicBezTo>
                  <a:pt x="16631" y="9188"/>
                  <a:pt x="16666" y="9186"/>
                  <a:pt x="16699" y="9180"/>
                </a:cubicBezTo>
                <a:cubicBezTo>
                  <a:pt x="16714" y="9177"/>
                  <a:pt x="16728" y="9173"/>
                  <a:pt x="16743" y="9169"/>
                </a:cubicBezTo>
              </a:path>
              <a:path w="2098" h="1317">
                <a:moveTo>
                  <a:pt x="16903" y="9445"/>
                </a:moveTo>
                <a:cubicBezTo>
                  <a:pt x="16923" y="9427"/>
                  <a:pt x="16932" y="9392"/>
                  <a:pt x="16945" y="9364"/>
                </a:cubicBezTo>
                <a:cubicBezTo>
                  <a:pt x="16975" y="9299"/>
                  <a:pt x="17004" y="9232"/>
                  <a:pt x="17032" y="9166"/>
                </a:cubicBezTo>
                <a:cubicBezTo>
                  <a:pt x="17057" y="9106"/>
                  <a:pt x="17080" y="9035"/>
                  <a:pt x="17121" y="8983"/>
                </a:cubicBezTo>
                <a:cubicBezTo>
                  <a:pt x="17138" y="8968"/>
                  <a:pt x="17141" y="8962"/>
                  <a:pt x="17157" y="8966"/>
                </a:cubicBezTo>
                <a:cubicBezTo>
                  <a:pt x="17187" y="9019"/>
                  <a:pt x="17191" y="9074"/>
                  <a:pt x="17198" y="9135"/>
                </a:cubicBezTo>
                <a:cubicBezTo>
                  <a:pt x="17210" y="9234"/>
                  <a:pt x="17225" y="9335"/>
                  <a:pt x="17230" y="9435"/>
                </a:cubicBezTo>
                <a:cubicBezTo>
                  <a:pt x="17231" y="9457"/>
                  <a:pt x="17244" y="9490"/>
                  <a:pt x="17225" y="9466"/>
                </a:cubicBezTo>
              </a:path>
              <a:path w="2098" h="1317">
                <a:moveTo>
                  <a:pt x="17008" y="9245"/>
                </a:moveTo>
                <a:cubicBezTo>
                  <a:pt x="17047" y="9247"/>
                  <a:pt x="17093" y="9231"/>
                  <a:pt x="17135" y="9226"/>
                </a:cubicBezTo>
                <a:cubicBezTo>
                  <a:pt x="17205" y="9218"/>
                  <a:pt x="17277" y="9220"/>
                  <a:pt x="17347" y="9227"/>
                </a:cubicBezTo>
                <a:cubicBezTo>
                  <a:pt x="17386" y="9233"/>
                  <a:pt x="17396" y="9234"/>
                  <a:pt x="17421" y="9237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423120" y="3222720"/>
            <a:ext cx="396720" cy="177840"/>
          </a:xfrm>
          <a:custGeom>
            <a:avLst/>
            <a:gdLst/>
            <a:ahLst/>
            <a:rect l="l" t="t" r="r" b="b"/>
            <a:pathLst>
              <a:path w="1104" h="492">
                <a:moveTo>
                  <a:pt x="17876" y="9191"/>
                </a:moveTo>
                <a:cubicBezTo>
                  <a:pt x="17873" y="9178"/>
                  <a:pt x="17872" y="9174"/>
                  <a:pt x="17868" y="9167"/>
                </a:cubicBezTo>
                <a:cubicBezTo>
                  <a:pt x="17885" y="9154"/>
                  <a:pt x="17899" y="9152"/>
                  <a:pt x="17922" y="9150"/>
                </a:cubicBezTo>
                <a:cubicBezTo>
                  <a:pt x="17967" y="9146"/>
                  <a:pt x="18014" y="9149"/>
                  <a:pt x="18059" y="9152"/>
                </a:cubicBezTo>
                <a:cubicBezTo>
                  <a:pt x="18107" y="9156"/>
                  <a:pt x="18155" y="9158"/>
                  <a:pt x="18203" y="9162"/>
                </a:cubicBezTo>
                <a:cubicBezTo>
                  <a:pt x="18209" y="9162"/>
                  <a:pt x="18215" y="9163"/>
                  <a:pt x="18221" y="9163"/>
                </a:cubicBezTo>
              </a:path>
              <a:path w="1104" h="492">
                <a:moveTo>
                  <a:pt x="17842" y="9321"/>
                </a:moveTo>
                <a:cubicBezTo>
                  <a:pt x="17857" y="9344"/>
                  <a:pt x="17883" y="9327"/>
                  <a:pt x="17914" y="9323"/>
                </a:cubicBezTo>
                <a:cubicBezTo>
                  <a:pt x="17970" y="9315"/>
                  <a:pt x="18028" y="9307"/>
                  <a:pt x="18084" y="9297"/>
                </a:cubicBezTo>
                <a:cubicBezTo>
                  <a:pt x="18120" y="9288"/>
                  <a:pt x="18131" y="9285"/>
                  <a:pt x="18155" y="9282"/>
                </a:cubicBezTo>
              </a:path>
              <a:path w="1104" h="492">
                <a:moveTo>
                  <a:pt x="18489" y="9444"/>
                </a:moveTo>
                <a:cubicBezTo>
                  <a:pt x="18508" y="9420"/>
                  <a:pt x="18518" y="9396"/>
                  <a:pt x="18528" y="9368"/>
                </a:cubicBezTo>
                <a:cubicBezTo>
                  <a:pt x="18546" y="9319"/>
                  <a:pt x="18564" y="9270"/>
                  <a:pt x="18585" y="9221"/>
                </a:cubicBezTo>
                <a:cubicBezTo>
                  <a:pt x="18606" y="9172"/>
                  <a:pt x="18628" y="9120"/>
                  <a:pt x="18661" y="9077"/>
                </a:cubicBezTo>
                <a:cubicBezTo>
                  <a:pt x="18677" y="9056"/>
                  <a:pt x="18704" y="9031"/>
                  <a:pt x="18723" y="9064"/>
                </a:cubicBezTo>
                <a:cubicBezTo>
                  <a:pt x="18746" y="9104"/>
                  <a:pt x="18751" y="9163"/>
                  <a:pt x="18761" y="9207"/>
                </a:cubicBezTo>
                <a:cubicBezTo>
                  <a:pt x="18776" y="9273"/>
                  <a:pt x="18792" y="9340"/>
                  <a:pt x="18824" y="9400"/>
                </a:cubicBezTo>
                <a:cubicBezTo>
                  <a:pt x="18835" y="9418"/>
                  <a:pt x="18837" y="9423"/>
                  <a:pt x="18847" y="9431"/>
                </a:cubicBezTo>
              </a:path>
              <a:path w="1104" h="492">
                <a:moveTo>
                  <a:pt x="18596" y="9343"/>
                </a:moveTo>
                <a:cubicBezTo>
                  <a:pt x="18592" y="9337"/>
                  <a:pt x="18589" y="9331"/>
                  <a:pt x="18585" y="9325"/>
                </a:cubicBezTo>
                <a:cubicBezTo>
                  <a:pt x="18608" y="9305"/>
                  <a:pt x="18637" y="9298"/>
                  <a:pt x="18668" y="9291"/>
                </a:cubicBezTo>
                <a:cubicBezTo>
                  <a:pt x="18728" y="9278"/>
                  <a:pt x="18784" y="9285"/>
                  <a:pt x="18845" y="9287"/>
                </a:cubicBezTo>
                <a:cubicBezTo>
                  <a:pt x="18869" y="9288"/>
                  <a:pt x="18891" y="9288"/>
                  <a:pt x="18915" y="9286"/>
                </a:cubicBezTo>
              </a:path>
              <a:path w="1104" h="492">
                <a:moveTo>
                  <a:pt x="18416" y="8974"/>
                </a:moveTo>
                <a:cubicBezTo>
                  <a:pt x="18412" y="8939"/>
                  <a:pt x="18486" y="8957"/>
                  <a:pt x="18520" y="8962"/>
                </a:cubicBezTo>
                <a:cubicBezTo>
                  <a:pt x="18608" y="8974"/>
                  <a:pt x="18695" y="8990"/>
                  <a:pt x="18781" y="9012"/>
                </a:cubicBezTo>
                <a:cubicBezTo>
                  <a:pt x="18834" y="9026"/>
                  <a:pt x="18882" y="9045"/>
                  <a:pt x="18933" y="9063"/>
                </a:cubicBezTo>
                <a:cubicBezTo>
                  <a:pt x="18937" y="9064"/>
                  <a:pt x="18941" y="9065"/>
                  <a:pt x="18945" y="9066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959280" y="4097160"/>
            <a:ext cx="1425600" cy="611280"/>
          </a:xfrm>
          <a:custGeom>
            <a:avLst/>
            <a:gdLst/>
            <a:ahLst/>
            <a:rect l="l" t="t" r="r" b="b"/>
            <a:pathLst>
              <a:path w="3962" h="1701">
                <a:moveTo>
                  <a:pt x="12100" y="11552"/>
                </a:moveTo>
                <a:cubicBezTo>
                  <a:pt x="12085" y="11533"/>
                  <a:pt x="12109" y="11510"/>
                  <a:pt x="12059" y="11487"/>
                </a:cubicBezTo>
                <a:cubicBezTo>
                  <a:pt x="12014" y="11467"/>
                  <a:pt x="11944" y="11466"/>
                  <a:pt x="11896" y="11468"/>
                </a:cubicBezTo>
                <a:cubicBezTo>
                  <a:pt x="11588" y="11484"/>
                  <a:pt x="11307" y="11715"/>
                  <a:pt x="11152" y="11970"/>
                </a:cubicBezTo>
                <a:cubicBezTo>
                  <a:pt x="10995" y="12227"/>
                  <a:pt x="10967" y="12570"/>
                  <a:pt x="11171" y="12809"/>
                </a:cubicBezTo>
                <a:cubicBezTo>
                  <a:pt x="11404" y="13083"/>
                  <a:pt x="11799" y="13102"/>
                  <a:pt x="12130" y="13067"/>
                </a:cubicBezTo>
                <a:cubicBezTo>
                  <a:pt x="12470" y="13031"/>
                  <a:pt x="12824" y="12943"/>
                  <a:pt x="13079" y="12702"/>
                </a:cubicBezTo>
                <a:cubicBezTo>
                  <a:pt x="13232" y="12557"/>
                  <a:pt x="13362" y="12348"/>
                  <a:pt x="13301" y="12131"/>
                </a:cubicBezTo>
                <a:cubicBezTo>
                  <a:pt x="13265" y="12003"/>
                  <a:pt x="13160" y="11902"/>
                  <a:pt x="13070" y="11809"/>
                </a:cubicBezTo>
                <a:cubicBezTo>
                  <a:pt x="12908" y="11641"/>
                  <a:pt x="12707" y="11473"/>
                  <a:pt x="12463" y="11459"/>
                </a:cubicBezTo>
                <a:cubicBezTo>
                  <a:pt x="12357" y="11453"/>
                  <a:pt x="12217" y="11474"/>
                  <a:pt x="12131" y="11542"/>
                </a:cubicBezTo>
                <a:cubicBezTo>
                  <a:pt x="12091" y="11573"/>
                  <a:pt x="12095" y="11603"/>
                  <a:pt x="12072" y="11641"/>
                </a:cubicBezTo>
              </a:path>
              <a:path w="3962" h="1701">
                <a:moveTo>
                  <a:pt x="14073" y="11468"/>
                </a:moveTo>
                <a:cubicBezTo>
                  <a:pt x="14013" y="11422"/>
                  <a:pt x="13970" y="11388"/>
                  <a:pt x="13888" y="11381"/>
                </a:cubicBezTo>
                <a:cubicBezTo>
                  <a:pt x="13675" y="11362"/>
                  <a:pt x="13422" y="11393"/>
                  <a:pt x="13216" y="11447"/>
                </a:cubicBezTo>
                <a:cubicBezTo>
                  <a:pt x="13078" y="11483"/>
                  <a:pt x="12996" y="11560"/>
                  <a:pt x="12914" y="11673"/>
                </a:cubicBezTo>
                <a:cubicBezTo>
                  <a:pt x="12820" y="11802"/>
                  <a:pt x="12712" y="11946"/>
                  <a:pt x="12651" y="12093"/>
                </a:cubicBezTo>
                <a:cubicBezTo>
                  <a:pt x="12583" y="12258"/>
                  <a:pt x="12583" y="12482"/>
                  <a:pt x="12640" y="12652"/>
                </a:cubicBezTo>
                <a:cubicBezTo>
                  <a:pt x="12661" y="12716"/>
                  <a:pt x="12696" y="12764"/>
                  <a:pt x="12740" y="12814"/>
                </a:cubicBezTo>
                <a:cubicBezTo>
                  <a:pt x="12926" y="13025"/>
                  <a:pt x="13266" y="13038"/>
                  <a:pt x="13521" y="13013"/>
                </a:cubicBezTo>
                <a:cubicBezTo>
                  <a:pt x="13898" y="12976"/>
                  <a:pt x="14285" y="12878"/>
                  <a:pt x="14567" y="12613"/>
                </a:cubicBezTo>
                <a:cubicBezTo>
                  <a:pt x="14690" y="12498"/>
                  <a:pt x="14736" y="12378"/>
                  <a:pt x="14728" y="12213"/>
                </a:cubicBezTo>
                <a:cubicBezTo>
                  <a:pt x="14710" y="11852"/>
                  <a:pt x="14359" y="11626"/>
                  <a:pt x="14045" y="11557"/>
                </a:cubicBezTo>
                <a:cubicBezTo>
                  <a:pt x="13982" y="11543"/>
                  <a:pt x="13910" y="11527"/>
                  <a:pt x="13845" y="11535"/>
                </a:cubicBezTo>
                <a:cubicBezTo>
                  <a:pt x="13842" y="11540"/>
                  <a:pt x="13839" y="11546"/>
                  <a:pt x="13836" y="11551"/>
                </a:cubicBezTo>
              </a:path>
              <a:path w="3962" h="1701">
                <a:moveTo>
                  <a:pt x="10997" y="11771"/>
                </a:moveTo>
                <a:cubicBezTo>
                  <a:pt x="10998" y="11778"/>
                  <a:pt x="11007" y="11809"/>
                  <a:pt x="10996" y="11786"/>
                </a:cubicBezTo>
                <a:cubicBezTo>
                  <a:pt x="11002" y="11754"/>
                  <a:pt x="11005" y="11721"/>
                  <a:pt x="11010" y="11689"/>
                </a:cubicBezTo>
                <a:cubicBezTo>
                  <a:pt x="11018" y="11643"/>
                  <a:pt x="11029" y="11597"/>
                  <a:pt x="11046" y="11553"/>
                </a:cubicBezTo>
                <a:cubicBezTo>
                  <a:pt x="11056" y="11526"/>
                  <a:pt x="11063" y="11505"/>
                  <a:pt x="11092" y="11508"/>
                </a:cubicBezTo>
                <a:cubicBezTo>
                  <a:pt x="11116" y="11550"/>
                  <a:pt x="11126" y="11595"/>
                  <a:pt x="11140" y="11642"/>
                </a:cubicBezTo>
                <a:cubicBezTo>
                  <a:pt x="11160" y="11707"/>
                  <a:pt x="11172" y="11783"/>
                  <a:pt x="11207" y="11842"/>
                </a:cubicBezTo>
                <a:cubicBezTo>
                  <a:pt x="11215" y="11853"/>
                  <a:pt x="11217" y="11857"/>
                  <a:pt x="11220" y="11841"/>
                </a:cubicBezTo>
              </a:path>
              <a:path w="3962" h="1701">
                <a:moveTo>
                  <a:pt x="11110" y="11661"/>
                </a:moveTo>
                <a:cubicBezTo>
                  <a:pt x="11100" y="11693"/>
                  <a:pt x="11146" y="11662"/>
                  <a:pt x="11177" y="11655"/>
                </a:cubicBezTo>
                <a:cubicBezTo>
                  <a:pt x="11234" y="11642"/>
                  <a:pt x="11280" y="11629"/>
                  <a:pt x="11339" y="11631"/>
                </a:cubicBezTo>
                <a:cubicBezTo>
                  <a:pt x="11373" y="11633"/>
                  <a:pt x="11384" y="11633"/>
                  <a:pt x="11406" y="11638"/>
                </a:cubicBezTo>
              </a:path>
              <a:path w="3962" h="1701">
                <a:moveTo>
                  <a:pt x="14619" y="11535"/>
                </a:moveTo>
                <a:cubicBezTo>
                  <a:pt x="14615" y="11525"/>
                  <a:pt x="14613" y="11521"/>
                  <a:pt x="14608" y="11516"/>
                </a:cubicBezTo>
                <a:cubicBezTo>
                  <a:pt x="14609" y="11557"/>
                  <a:pt x="14621" y="11591"/>
                  <a:pt x="14629" y="11631"/>
                </a:cubicBezTo>
                <a:cubicBezTo>
                  <a:pt x="14638" y="11676"/>
                  <a:pt x="14646" y="11721"/>
                  <a:pt x="14656" y="11766"/>
                </a:cubicBezTo>
                <a:cubicBezTo>
                  <a:pt x="14660" y="11784"/>
                  <a:pt x="14661" y="11790"/>
                  <a:pt x="14666" y="11768"/>
                </a:cubicBezTo>
              </a:path>
              <a:path w="3962" h="1701">
                <a:moveTo>
                  <a:pt x="14670" y="11495"/>
                </a:moveTo>
                <a:cubicBezTo>
                  <a:pt x="14670" y="11463"/>
                  <a:pt x="14671" y="11459"/>
                  <a:pt x="14691" y="11437"/>
                </a:cubicBezTo>
                <a:cubicBezTo>
                  <a:pt x="14711" y="11415"/>
                  <a:pt x="14744" y="11414"/>
                  <a:pt x="14774" y="11416"/>
                </a:cubicBezTo>
                <a:cubicBezTo>
                  <a:pt x="14806" y="11418"/>
                  <a:pt x="14835" y="11434"/>
                  <a:pt x="14844" y="11467"/>
                </a:cubicBezTo>
                <a:cubicBezTo>
                  <a:pt x="14856" y="11510"/>
                  <a:pt x="14831" y="11558"/>
                  <a:pt x="14813" y="11595"/>
                </a:cubicBezTo>
                <a:cubicBezTo>
                  <a:pt x="14807" y="11609"/>
                  <a:pt x="14804" y="11612"/>
                  <a:pt x="14808" y="11622"/>
                </a:cubicBezTo>
                <a:cubicBezTo>
                  <a:pt x="14830" y="11618"/>
                  <a:pt x="14853" y="11611"/>
                  <a:pt x="14876" y="11612"/>
                </a:cubicBezTo>
                <a:cubicBezTo>
                  <a:pt x="14909" y="11613"/>
                  <a:pt x="14939" y="11625"/>
                  <a:pt x="14952" y="11657"/>
                </a:cubicBezTo>
                <a:cubicBezTo>
                  <a:pt x="14966" y="11690"/>
                  <a:pt x="14951" y="11734"/>
                  <a:pt x="14933" y="11762"/>
                </a:cubicBezTo>
                <a:cubicBezTo>
                  <a:pt x="14908" y="11800"/>
                  <a:pt x="14867" y="11822"/>
                  <a:pt x="14826" y="11836"/>
                </a:cubicBezTo>
                <a:cubicBezTo>
                  <a:pt x="14800" y="11845"/>
                  <a:pt x="14776" y="11850"/>
                  <a:pt x="14749" y="11854"/>
                </a:cubicBezTo>
              </a:path>
              <a:path w="3962" h="1701">
                <a:moveTo>
                  <a:pt x="11100" y="12402"/>
                </a:moveTo>
                <a:cubicBezTo>
                  <a:pt x="11085" y="12403"/>
                  <a:pt x="11075" y="12401"/>
                  <a:pt x="11062" y="12400"/>
                </a:cubicBezTo>
                <a:cubicBezTo>
                  <a:pt x="11074" y="12362"/>
                  <a:pt x="11085" y="12341"/>
                  <a:pt x="11116" y="12306"/>
                </a:cubicBezTo>
                <a:cubicBezTo>
                  <a:pt x="11196" y="12215"/>
                  <a:pt x="11292" y="12141"/>
                  <a:pt x="11383" y="12061"/>
                </a:cubicBezTo>
                <a:cubicBezTo>
                  <a:pt x="11570" y="11897"/>
                  <a:pt x="11763" y="11738"/>
                  <a:pt x="11944" y="11568"/>
                </a:cubicBezTo>
                <a:cubicBezTo>
                  <a:pt x="11964" y="11546"/>
                  <a:pt x="11965" y="11539"/>
                  <a:pt x="11983" y="11538"/>
                </a:cubicBezTo>
                <a:cubicBezTo>
                  <a:pt x="11966" y="11571"/>
                  <a:pt x="11949" y="11604"/>
                  <a:pt x="11928" y="11637"/>
                </a:cubicBezTo>
              </a:path>
              <a:path w="3962" h="1701">
                <a:moveTo>
                  <a:pt x="11189" y="12808"/>
                </a:moveTo>
                <a:cubicBezTo>
                  <a:pt x="11175" y="12827"/>
                  <a:pt x="11172" y="12830"/>
                  <a:pt x="11165" y="12843"/>
                </a:cubicBezTo>
                <a:cubicBezTo>
                  <a:pt x="11192" y="12798"/>
                  <a:pt x="11227" y="12754"/>
                  <a:pt x="11264" y="12710"/>
                </a:cubicBezTo>
                <a:cubicBezTo>
                  <a:pt x="11370" y="12583"/>
                  <a:pt x="11480" y="12461"/>
                  <a:pt x="11600" y="12347"/>
                </a:cubicBezTo>
                <a:cubicBezTo>
                  <a:pt x="11755" y="12201"/>
                  <a:pt x="11920" y="12063"/>
                  <a:pt x="12097" y="11945"/>
                </a:cubicBezTo>
                <a:cubicBezTo>
                  <a:pt x="12133" y="11921"/>
                  <a:pt x="12203" y="11869"/>
                  <a:pt x="12254" y="11886"/>
                </a:cubicBezTo>
                <a:cubicBezTo>
                  <a:pt x="12257" y="11893"/>
                  <a:pt x="12260" y="11900"/>
                  <a:pt x="12263" y="11907"/>
                </a:cubicBezTo>
              </a:path>
              <a:path w="3962" h="1701">
                <a:moveTo>
                  <a:pt x="11692" y="12781"/>
                </a:moveTo>
                <a:cubicBezTo>
                  <a:pt x="11672" y="12816"/>
                  <a:pt x="11673" y="12805"/>
                  <a:pt x="11658" y="12842"/>
                </a:cubicBezTo>
                <a:cubicBezTo>
                  <a:pt x="11731" y="12778"/>
                  <a:pt x="11794" y="12701"/>
                  <a:pt x="11862" y="12631"/>
                </a:cubicBezTo>
                <a:cubicBezTo>
                  <a:pt x="12007" y="12482"/>
                  <a:pt x="12153" y="12334"/>
                  <a:pt x="12306" y="12194"/>
                </a:cubicBezTo>
                <a:cubicBezTo>
                  <a:pt x="12443" y="12069"/>
                  <a:pt x="12584" y="11953"/>
                  <a:pt x="12737" y="11849"/>
                </a:cubicBezTo>
                <a:cubicBezTo>
                  <a:pt x="12771" y="11826"/>
                  <a:pt x="12849" y="11760"/>
                  <a:pt x="12883" y="11811"/>
                </a:cubicBezTo>
                <a:cubicBezTo>
                  <a:pt x="12881" y="11821"/>
                  <a:pt x="12879" y="11830"/>
                  <a:pt x="12877" y="11840"/>
                </a:cubicBezTo>
              </a:path>
              <a:path w="3962" h="1701">
                <a:moveTo>
                  <a:pt x="12220" y="12876"/>
                </a:moveTo>
                <a:cubicBezTo>
                  <a:pt x="12221" y="12875"/>
                  <a:pt x="12268" y="12828"/>
                  <a:pt x="12286" y="12807"/>
                </a:cubicBezTo>
                <a:cubicBezTo>
                  <a:pt x="12371" y="12709"/>
                  <a:pt x="12455" y="12607"/>
                  <a:pt x="12544" y="12512"/>
                </a:cubicBezTo>
                <a:cubicBezTo>
                  <a:pt x="12711" y="12333"/>
                  <a:pt x="12890" y="12159"/>
                  <a:pt x="13081" y="12006"/>
                </a:cubicBezTo>
                <a:cubicBezTo>
                  <a:pt x="13190" y="11919"/>
                  <a:pt x="13300" y="11842"/>
                  <a:pt x="13423" y="11778"/>
                </a:cubicBezTo>
                <a:cubicBezTo>
                  <a:pt x="13462" y="11757"/>
                  <a:pt x="13485" y="11756"/>
                  <a:pt x="13524" y="11747"/>
                </a:cubicBezTo>
              </a:path>
              <a:path w="3962" h="1701">
                <a:moveTo>
                  <a:pt x="12884" y="12910"/>
                </a:moveTo>
                <a:cubicBezTo>
                  <a:pt x="12947" y="12828"/>
                  <a:pt x="13010" y="12747"/>
                  <a:pt x="13075" y="12666"/>
                </a:cubicBezTo>
                <a:cubicBezTo>
                  <a:pt x="13199" y="12513"/>
                  <a:pt x="13331" y="12369"/>
                  <a:pt x="13473" y="12232"/>
                </a:cubicBezTo>
                <a:cubicBezTo>
                  <a:pt x="13601" y="12109"/>
                  <a:pt x="13757" y="11947"/>
                  <a:pt x="13931" y="11892"/>
                </a:cubicBezTo>
                <a:cubicBezTo>
                  <a:pt x="14011" y="11867"/>
                  <a:pt x="13986" y="11906"/>
                  <a:pt x="14011" y="11942"/>
                </a:cubicBezTo>
              </a:path>
              <a:path w="3962" h="1701">
                <a:moveTo>
                  <a:pt x="13692" y="12759"/>
                </a:moveTo>
                <a:cubicBezTo>
                  <a:pt x="13710" y="12743"/>
                  <a:pt x="13732" y="12718"/>
                  <a:pt x="13754" y="12697"/>
                </a:cubicBezTo>
                <a:cubicBezTo>
                  <a:pt x="13831" y="12622"/>
                  <a:pt x="13912" y="12548"/>
                  <a:pt x="13993" y="12477"/>
                </a:cubicBezTo>
                <a:cubicBezTo>
                  <a:pt x="14112" y="12374"/>
                  <a:pt x="14236" y="12277"/>
                  <a:pt x="14363" y="12184"/>
                </a:cubicBezTo>
                <a:cubicBezTo>
                  <a:pt x="14400" y="12157"/>
                  <a:pt x="14507" y="12060"/>
                  <a:pt x="14562" y="12068"/>
                </a:cubicBezTo>
                <a:cubicBezTo>
                  <a:pt x="14569" y="12081"/>
                  <a:pt x="14568" y="12088"/>
                  <a:pt x="14555" y="12097"/>
                </a:cubicBezTo>
              </a:path>
              <a:path w="3962" h="1701">
                <a:moveTo>
                  <a:pt x="14216" y="12717"/>
                </a:moveTo>
                <a:cubicBezTo>
                  <a:pt x="14244" y="12691"/>
                  <a:pt x="14278" y="12661"/>
                  <a:pt x="14303" y="12633"/>
                </a:cubicBezTo>
                <a:cubicBezTo>
                  <a:pt x="14342" y="12589"/>
                  <a:pt x="14387" y="12553"/>
                  <a:pt x="14428" y="12510"/>
                </a:cubicBezTo>
                <a:cubicBezTo>
                  <a:pt x="14445" y="12489"/>
                  <a:pt x="14449" y="12484"/>
                  <a:pt x="14458" y="12470"/>
                </a:cubicBezTo>
              </a:path>
              <a:path w="3962" h="1701">
                <a:moveTo>
                  <a:pt x="12670" y="12220"/>
                </a:moveTo>
                <a:cubicBezTo>
                  <a:pt x="12669" y="12195"/>
                  <a:pt x="12681" y="12191"/>
                  <a:pt x="12694" y="12167"/>
                </a:cubicBezTo>
                <a:cubicBezTo>
                  <a:pt x="12718" y="12123"/>
                  <a:pt x="12751" y="12087"/>
                  <a:pt x="12787" y="12051"/>
                </a:cubicBezTo>
                <a:cubicBezTo>
                  <a:pt x="12834" y="12004"/>
                  <a:pt x="12887" y="11953"/>
                  <a:pt x="12945" y="11919"/>
                </a:cubicBezTo>
                <a:cubicBezTo>
                  <a:pt x="12961" y="11910"/>
                  <a:pt x="13021" y="11864"/>
                  <a:pt x="13042" y="11885"/>
                </a:cubicBezTo>
                <a:cubicBezTo>
                  <a:pt x="13047" y="11900"/>
                  <a:pt x="13048" y="11907"/>
                  <a:pt x="13043" y="11918"/>
                </a:cubicBezTo>
              </a:path>
              <a:path w="3962" h="1701">
                <a:moveTo>
                  <a:pt x="12651" y="12449"/>
                </a:moveTo>
                <a:cubicBezTo>
                  <a:pt x="12618" y="12461"/>
                  <a:pt x="12690" y="12393"/>
                  <a:pt x="12701" y="12383"/>
                </a:cubicBezTo>
                <a:cubicBezTo>
                  <a:pt x="12765" y="12321"/>
                  <a:pt x="12835" y="12266"/>
                  <a:pt x="12907" y="12213"/>
                </a:cubicBezTo>
                <a:cubicBezTo>
                  <a:pt x="12969" y="12167"/>
                  <a:pt x="13034" y="12121"/>
                  <a:pt x="13110" y="12104"/>
                </a:cubicBezTo>
                <a:cubicBezTo>
                  <a:pt x="13154" y="12094"/>
                  <a:pt x="13150" y="12103"/>
                  <a:pt x="13151" y="12133"/>
                </a:cubicBezTo>
              </a:path>
              <a:path w="3962" h="1701">
                <a:moveTo>
                  <a:pt x="12742" y="12596"/>
                </a:moveTo>
                <a:cubicBezTo>
                  <a:pt x="12736" y="12602"/>
                  <a:pt x="12731" y="12607"/>
                  <a:pt x="12725" y="12613"/>
                </a:cubicBezTo>
                <a:cubicBezTo>
                  <a:pt x="12758" y="12566"/>
                  <a:pt x="12796" y="12529"/>
                  <a:pt x="12840" y="12491"/>
                </a:cubicBezTo>
                <a:cubicBezTo>
                  <a:pt x="12906" y="12435"/>
                  <a:pt x="12977" y="12386"/>
                  <a:pt x="13050" y="12341"/>
                </a:cubicBezTo>
                <a:cubicBezTo>
                  <a:pt x="13079" y="12323"/>
                  <a:pt x="13103" y="12310"/>
                  <a:pt x="13135" y="12300"/>
                </a:cubicBezTo>
              </a:path>
              <a:path w="3962" h="1701">
                <a:moveTo>
                  <a:pt x="12835" y="12086"/>
                </a:moveTo>
                <a:cubicBezTo>
                  <a:pt x="12828" y="12065"/>
                  <a:pt x="12825" y="12065"/>
                  <a:pt x="12814" y="12051"/>
                </a:cubicBezTo>
                <a:cubicBezTo>
                  <a:pt x="12799" y="12101"/>
                  <a:pt x="12789" y="12151"/>
                  <a:pt x="12785" y="12204"/>
                </a:cubicBezTo>
                <a:cubicBezTo>
                  <a:pt x="12777" y="12316"/>
                  <a:pt x="12780" y="12430"/>
                  <a:pt x="12787" y="12541"/>
                </a:cubicBezTo>
                <a:cubicBezTo>
                  <a:pt x="12792" y="12625"/>
                  <a:pt x="12798" y="12706"/>
                  <a:pt x="12830" y="12784"/>
                </a:cubicBezTo>
                <a:cubicBezTo>
                  <a:pt x="12837" y="12798"/>
                  <a:pt x="12839" y="12802"/>
                  <a:pt x="12851" y="12798"/>
                </a:cubicBezTo>
                <a:cubicBezTo>
                  <a:pt x="12863" y="12769"/>
                  <a:pt x="12866" y="12743"/>
                  <a:pt x="12871" y="12711"/>
                </a:cubicBezTo>
              </a:path>
              <a:path w="3962" h="1701">
                <a:moveTo>
                  <a:pt x="12881" y="12096"/>
                </a:moveTo>
                <a:cubicBezTo>
                  <a:pt x="12881" y="12086"/>
                  <a:pt x="12881" y="11972"/>
                  <a:pt x="12871" y="12045"/>
                </a:cubicBezTo>
                <a:cubicBezTo>
                  <a:pt x="12859" y="12133"/>
                  <a:pt x="12855" y="12224"/>
                  <a:pt x="12852" y="12312"/>
                </a:cubicBezTo>
                <a:cubicBezTo>
                  <a:pt x="12848" y="12413"/>
                  <a:pt x="12840" y="12518"/>
                  <a:pt x="12846" y="12619"/>
                </a:cubicBezTo>
                <a:cubicBezTo>
                  <a:pt x="12850" y="12648"/>
                  <a:pt x="12849" y="12653"/>
                  <a:pt x="12857" y="12668"/>
                </a:cubicBezTo>
                <a:cubicBezTo>
                  <a:pt x="12882" y="12620"/>
                  <a:pt x="12897" y="12574"/>
                  <a:pt x="12911" y="12519"/>
                </a:cubicBezTo>
                <a:cubicBezTo>
                  <a:pt x="12947" y="12382"/>
                  <a:pt x="12983" y="12246"/>
                  <a:pt x="13023" y="12111"/>
                </a:cubicBezTo>
                <a:cubicBezTo>
                  <a:pt x="13036" y="12066"/>
                  <a:pt x="13050" y="12023"/>
                  <a:pt x="13067" y="11980"/>
                </a:cubicBezTo>
                <a:cubicBezTo>
                  <a:pt x="13061" y="12052"/>
                  <a:pt x="13038" y="12121"/>
                  <a:pt x="13020" y="12192"/>
                </a:cubicBezTo>
                <a:cubicBezTo>
                  <a:pt x="12997" y="12281"/>
                  <a:pt x="12975" y="12370"/>
                  <a:pt x="12948" y="12457"/>
                </a:cubicBezTo>
                <a:cubicBezTo>
                  <a:pt x="12945" y="12467"/>
                  <a:pt x="12941" y="12476"/>
                  <a:pt x="12938" y="12486"/>
                </a:cubicBezTo>
                <a:cubicBezTo>
                  <a:pt x="12939" y="12410"/>
                  <a:pt x="12951" y="12336"/>
                  <a:pt x="12962" y="12260"/>
                </a:cubicBezTo>
                <a:cubicBezTo>
                  <a:pt x="12974" y="12175"/>
                  <a:pt x="12985" y="12087"/>
                  <a:pt x="13009" y="12004"/>
                </a:cubicBezTo>
                <a:cubicBezTo>
                  <a:pt x="13018" y="11981"/>
                  <a:pt x="13016" y="11974"/>
                  <a:pt x="13031" y="11968"/>
                </a:cubicBezTo>
                <a:cubicBezTo>
                  <a:pt x="13061" y="12027"/>
                  <a:pt x="13062" y="12095"/>
                  <a:pt x="13071" y="12161"/>
                </a:cubicBezTo>
                <a:cubicBezTo>
                  <a:pt x="13083" y="12251"/>
                  <a:pt x="13094" y="12343"/>
                  <a:pt x="13125" y="12429"/>
                </a:cubicBezTo>
                <a:cubicBezTo>
                  <a:pt x="13138" y="12456"/>
                  <a:pt x="13140" y="12465"/>
                  <a:pt x="13160" y="12472"/>
                </a:cubicBezTo>
                <a:cubicBezTo>
                  <a:pt x="13204" y="12447"/>
                  <a:pt x="13216" y="12426"/>
                  <a:pt x="13233" y="12378"/>
                </a:cubicBezTo>
                <a:cubicBezTo>
                  <a:pt x="13245" y="12338"/>
                  <a:pt x="13250" y="12323"/>
                  <a:pt x="13253" y="1229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992920" y="4173480"/>
            <a:ext cx="650880" cy="547920"/>
          </a:xfrm>
          <a:custGeom>
            <a:avLst/>
            <a:gdLst/>
            <a:ahLst/>
            <a:rect l="l" t="t" r="r" b="b"/>
            <a:pathLst>
              <a:path w="1808" h="1519">
                <a:moveTo>
                  <a:pt x="16750" y="12278"/>
                </a:moveTo>
                <a:cubicBezTo>
                  <a:pt x="16766" y="12227"/>
                  <a:pt x="16781" y="12177"/>
                  <a:pt x="16796" y="12125"/>
                </a:cubicBezTo>
                <a:cubicBezTo>
                  <a:pt x="16827" y="12015"/>
                  <a:pt x="16861" y="11907"/>
                  <a:pt x="16907" y="11802"/>
                </a:cubicBezTo>
                <a:cubicBezTo>
                  <a:pt x="16940" y="11726"/>
                  <a:pt x="16974" y="11655"/>
                  <a:pt x="17033" y="11597"/>
                </a:cubicBezTo>
                <a:cubicBezTo>
                  <a:pt x="17085" y="11634"/>
                  <a:pt x="17071" y="11708"/>
                  <a:pt x="17070" y="11771"/>
                </a:cubicBezTo>
                <a:cubicBezTo>
                  <a:pt x="17069" y="11892"/>
                  <a:pt x="17068" y="12012"/>
                  <a:pt x="17066" y="12133"/>
                </a:cubicBezTo>
                <a:cubicBezTo>
                  <a:pt x="17064" y="12191"/>
                  <a:pt x="17064" y="12206"/>
                  <a:pt x="17064" y="12243"/>
                </a:cubicBezTo>
              </a:path>
              <a:path w="1808" h="1519">
                <a:moveTo>
                  <a:pt x="16909" y="12047"/>
                </a:moveTo>
                <a:cubicBezTo>
                  <a:pt x="16886" y="12035"/>
                  <a:pt x="16939" y="12030"/>
                  <a:pt x="16958" y="12023"/>
                </a:cubicBezTo>
                <a:cubicBezTo>
                  <a:pt x="17019" y="12000"/>
                  <a:pt x="17078" y="11988"/>
                  <a:pt x="17141" y="11973"/>
                </a:cubicBezTo>
                <a:cubicBezTo>
                  <a:pt x="17180" y="11964"/>
                  <a:pt x="17218" y="11953"/>
                  <a:pt x="17256" y="11941"/>
                </a:cubicBezTo>
              </a:path>
              <a:path w="1808" h="1519">
                <a:moveTo>
                  <a:pt x="17405" y="11790"/>
                </a:moveTo>
                <a:cubicBezTo>
                  <a:pt x="17406" y="11774"/>
                  <a:pt x="17409" y="11762"/>
                  <a:pt x="17412" y="11747"/>
                </a:cubicBezTo>
                <a:cubicBezTo>
                  <a:pt x="17442" y="11767"/>
                  <a:pt x="17444" y="11807"/>
                  <a:pt x="17454" y="11843"/>
                </a:cubicBezTo>
                <a:cubicBezTo>
                  <a:pt x="17472" y="11910"/>
                  <a:pt x="17488" y="11978"/>
                  <a:pt x="17516" y="12042"/>
                </a:cubicBezTo>
                <a:cubicBezTo>
                  <a:pt x="17533" y="12080"/>
                  <a:pt x="17557" y="12112"/>
                  <a:pt x="17595" y="12077"/>
                </a:cubicBezTo>
                <a:cubicBezTo>
                  <a:pt x="17641" y="12035"/>
                  <a:pt x="17662" y="11964"/>
                  <a:pt x="17685" y="11908"/>
                </a:cubicBezTo>
                <a:cubicBezTo>
                  <a:pt x="17709" y="11849"/>
                  <a:pt x="17731" y="11783"/>
                  <a:pt x="17744" y="11720"/>
                </a:cubicBezTo>
                <a:cubicBezTo>
                  <a:pt x="17746" y="11696"/>
                  <a:pt x="17747" y="11690"/>
                  <a:pt x="17744" y="11675"/>
                </a:cubicBezTo>
              </a:path>
              <a:path w="1808" h="1519">
                <a:moveTo>
                  <a:pt x="17924" y="11771"/>
                </a:moveTo>
                <a:cubicBezTo>
                  <a:pt x="17938" y="11761"/>
                  <a:pt x="17948" y="11802"/>
                  <a:pt x="17956" y="11834"/>
                </a:cubicBezTo>
                <a:cubicBezTo>
                  <a:pt x="17966" y="11874"/>
                  <a:pt x="17970" y="11915"/>
                  <a:pt x="17977" y="11955"/>
                </a:cubicBezTo>
                <a:cubicBezTo>
                  <a:pt x="17978" y="11961"/>
                  <a:pt x="17980" y="11966"/>
                  <a:pt x="17981" y="11972"/>
                </a:cubicBezTo>
                <a:cubicBezTo>
                  <a:pt x="17980" y="11930"/>
                  <a:pt x="17985" y="11890"/>
                  <a:pt x="17995" y="11848"/>
                </a:cubicBezTo>
                <a:cubicBezTo>
                  <a:pt x="18014" y="11767"/>
                  <a:pt x="18051" y="11656"/>
                  <a:pt x="18123" y="11605"/>
                </a:cubicBezTo>
                <a:cubicBezTo>
                  <a:pt x="18132" y="11601"/>
                  <a:pt x="18140" y="11598"/>
                  <a:pt x="18149" y="11594"/>
                </a:cubicBezTo>
                <a:cubicBezTo>
                  <a:pt x="18191" y="11606"/>
                  <a:pt x="18194" y="11632"/>
                  <a:pt x="18186" y="11677"/>
                </a:cubicBezTo>
                <a:cubicBezTo>
                  <a:pt x="18173" y="11749"/>
                  <a:pt x="18130" y="11808"/>
                  <a:pt x="18088" y="11865"/>
                </a:cubicBezTo>
                <a:cubicBezTo>
                  <a:pt x="18115" y="11868"/>
                  <a:pt x="18152" y="11866"/>
                  <a:pt x="18181" y="11872"/>
                </a:cubicBezTo>
                <a:cubicBezTo>
                  <a:pt x="18224" y="11881"/>
                  <a:pt x="18264" y="11904"/>
                  <a:pt x="18276" y="11948"/>
                </a:cubicBezTo>
                <a:cubicBezTo>
                  <a:pt x="18288" y="11991"/>
                  <a:pt x="18265" y="12035"/>
                  <a:pt x="18229" y="12059"/>
                </a:cubicBezTo>
                <a:cubicBezTo>
                  <a:pt x="18184" y="12090"/>
                  <a:pt x="18130" y="12102"/>
                  <a:pt x="18078" y="12112"/>
                </a:cubicBezTo>
                <a:cubicBezTo>
                  <a:pt x="18039" y="12119"/>
                  <a:pt x="18026" y="12121"/>
                  <a:pt x="18000" y="12126"/>
                </a:cubicBezTo>
              </a:path>
              <a:path w="1808" h="1519">
                <a:moveTo>
                  <a:pt x="16999" y="12715"/>
                </a:moveTo>
                <a:cubicBezTo>
                  <a:pt x="16999" y="12740"/>
                  <a:pt x="17033" y="12732"/>
                  <a:pt x="17062" y="12730"/>
                </a:cubicBezTo>
                <a:cubicBezTo>
                  <a:pt x="17117" y="12726"/>
                  <a:pt x="17170" y="12724"/>
                  <a:pt x="17225" y="12714"/>
                </a:cubicBezTo>
                <a:cubicBezTo>
                  <a:pt x="17265" y="12706"/>
                  <a:pt x="17277" y="12704"/>
                  <a:pt x="17303" y="12697"/>
                </a:cubicBezTo>
              </a:path>
              <a:path w="1808" h="1519">
                <a:moveTo>
                  <a:pt x="16740" y="12996"/>
                </a:moveTo>
                <a:cubicBezTo>
                  <a:pt x="16731" y="13011"/>
                  <a:pt x="16715" y="13029"/>
                  <a:pt x="16708" y="13045"/>
                </a:cubicBezTo>
                <a:cubicBezTo>
                  <a:pt x="16697" y="13070"/>
                  <a:pt x="16684" y="13077"/>
                  <a:pt x="16668" y="13098"/>
                </a:cubicBezTo>
                <a:cubicBezTo>
                  <a:pt x="16666" y="13102"/>
                  <a:pt x="16664" y="13105"/>
                  <a:pt x="16662" y="13109"/>
                </a:cubicBezTo>
                <a:cubicBezTo>
                  <a:pt x="16653" y="13086"/>
                  <a:pt x="16652" y="13071"/>
                  <a:pt x="16668" y="13028"/>
                </a:cubicBezTo>
                <a:cubicBezTo>
                  <a:pt x="16697" y="12949"/>
                  <a:pt x="16732" y="12872"/>
                  <a:pt x="16768" y="12797"/>
                </a:cubicBezTo>
                <a:cubicBezTo>
                  <a:pt x="16803" y="12724"/>
                  <a:pt x="16839" y="12646"/>
                  <a:pt x="16886" y="12579"/>
                </a:cubicBezTo>
                <a:cubicBezTo>
                  <a:pt x="16906" y="12555"/>
                  <a:pt x="16910" y="12549"/>
                  <a:pt x="16928" y="12540"/>
                </a:cubicBezTo>
                <a:cubicBezTo>
                  <a:pt x="16965" y="12568"/>
                  <a:pt x="16971" y="12609"/>
                  <a:pt x="16987" y="12653"/>
                </a:cubicBezTo>
                <a:cubicBezTo>
                  <a:pt x="17020" y="12744"/>
                  <a:pt x="17142" y="12972"/>
                  <a:pt x="17116" y="13068"/>
                </a:cubicBezTo>
                <a:cubicBezTo>
                  <a:pt x="17117" y="13082"/>
                  <a:pt x="17117" y="13086"/>
                  <a:pt x="17104" y="13073"/>
                </a:cubicBezTo>
              </a:path>
              <a:path w="1808" h="1519">
                <a:moveTo>
                  <a:pt x="16849" y="12930"/>
                </a:moveTo>
                <a:cubicBezTo>
                  <a:pt x="16816" y="12926"/>
                  <a:pt x="16898" y="12901"/>
                  <a:pt x="16913" y="12896"/>
                </a:cubicBezTo>
                <a:cubicBezTo>
                  <a:pt x="16965" y="12880"/>
                  <a:pt x="17015" y="12873"/>
                  <a:pt x="17069" y="12866"/>
                </a:cubicBezTo>
                <a:cubicBezTo>
                  <a:pt x="17105" y="12861"/>
                  <a:pt x="17140" y="12859"/>
                  <a:pt x="17176" y="12857"/>
                </a:cubicBezTo>
              </a:path>
              <a:path w="1808" h="1519">
                <a:moveTo>
                  <a:pt x="17451" y="12900"/>
                </a:moveTo>
                <a:cubicBezTo>
                  <a:pt x="17440" y="12903"/>
                  <a:pt x="17437" y="12904"/>
                  <a:pt x="17430" y="12903"/>
                </a:cubicBezTo>
                <a:cubicBezTo>
                  <a:pt x="17432" y="12883"/>
                  <a:pt x="17434" y="12865"/>
                  <a:pt x="17441" y="12845"/>
                </a:cubicBezTo>
                <a:cubicBezTo>
                  <a:pt x="17457" y="12802"/>
                  <a:pt x="17478" y="12758"/>
                  <a:pt x="17501" y="12718"/>
                </a:cubicBezTo>
                <a:cubicBezTo>
                  <a:pt x="17529" y="12669"/>
                  <a:pt x="17561" y="12622"/>
                  <a:pt x="17600" y="12581"/>
                </a:cubicBezTo>
                <a:cubicBezTo>
                  <a:pt x="17622" y="12558"/>
                  <a:pt x="17657" y="12519"/>
                  <a:pt x="17692" y="12541"/>
                </a:cubicBezTo>
                <a:cubicBezTo>
                  <a:pt x="17731" y="12566"/>
                  <a:pt x="17737" y="12635"/>
                  <a:pt x="17744" y="12675"/>
                </a:cubicBezTo>
                <a:cubicBezTo>
                  <a:pt x="17754" y="12732"/>
                  <a:pt x="17737" y="12942"/>
                  <a:pt x="17779" y="12982"/>
                </a:cubicBezTo>
                <a:cubicBezTo>
                  <a:pt x="17790" y="12993"/>
                  <a:pt x="17801" y="12935"/>
                  <a:pt x="17803" y="12929"/>
                </a:cubicBezTo>
              </a:path>
              <a:path w="1808" h="1519">
                <a:moveTo>
                  <a:pt x="18067" y="12616"/>
                </a:moveTo>
                <a:cubicBezTo>
                  <a:pt x="18095" y="12594"/>
                  <a:pt x="18078" y="12599"/>
                  <a:pt x="18087" y="12631"/>
                </a:cubicBezTo>
                <a:cubicBezTo>
                  <a:pt x="18099" y="12671"/>
                  <a:pt x="18106" y="12713"/>
                  <a:pt x="18113" y="12754"/>
                </a:cubicBezTo>
                <a:cubicBezTo>
                  <a:pt x="18120" y="12792"/>
                  <a:pt x="18127" y="12829"/>
                  <a:pt x="18135" y="12867"/>
                </a:cubicBezTo>
                <a:cubicBezTo>
                  <a:pt x="18138" y="12910"/>
                  <a:pt x="18135" y="12880"/>
                  <a:pt x="18133" y="12857"/>
                </a:cubicBezTo>
                <a:cubicBezTo>
                  <a:pt x="18129" y="12813"/>
                  <a:pt x="18128" y="12769"/>
                  <a:pt x="18130" y="12725"/>
                </a:cubicBezTo>
                <a:cubicBezTo>
                  <a:pt x="18134" y="12650"/>
                  <a:pt x="18144" y="12574"/>
                  <a:pt x="18179" y="12506"/>
                </a:cubicBezTo>
                <a:cubicBezTo>
                  <a:pt x="18199" y="12466"/>
                  <a:pt x="18230" y="12428"/>
                  <a:pt x="18278" y="12422"/>
                </a:cubicBezTo>
                <a:cubicBezTo>
                  <a:pt x="18315" y="12418"/>
                  <a:pt x="18347" y="12445"/>
                  <a:pt x="18358" y="12479"/>
                </a:cubicBezTo>
                <a:cubicBezTo>
                  <a:pt x="18373" y="12525"/>
                  <a:pt x="18355" y="12577"/>
                  <a:pt x="18334" y="12617"/>
                </a:cubicBezTo>
                <a:cubicBezTo>
                  <a:pt x="18316" y="12653"/>
                  <a:pt x="18292" y="12683"/>
                  <a:pt x="18263" y="12710"/>
                </a:cubicBezTo>
                <a:cubicBezTo>
                  <a:pt x="18260" y="12713"/>
                  <a:pt x="18256" y="12716"/>
                  <a:pt x="18253" y="12719"/>
                </a:cubicBezTo>
                <a:cubicBezTo>
                  <a:pt x="18296" y="12709"/>
                  <a:pt x="18336" y="12708"/>
                  <a:pt x="18378" y="12727"/>
                </a:cubicBezTo>
                <a:cubicBezTo>
                  <a:pt x="18411" y="12742"/>
                  <a:pt x="18447" y="12770"/>
                  <a:pt x="18455" y="12808"/>
                </a:cubicBezTo>
                <a:cubicBezTo>
                  <a:pt x="18463" y="12848"/>
                  <a:pt x="18434" y="12874"/>
                  <a:pt x="18402" y="12890"/>
                </a:cubicBezTo>
                <a:cubicBezTo>
                  <a:pt x="18358" y="12912"/>
                  <a:pt x="18311" y="12905"/>
                  <a:pt x="18264" y="12902"/>
                </a:cubicBezTo>
                <a:cubicBezTo>
                  <a:pt x="18225" y="12900"/>
                  <a:pt x="18200" y="12888"/>
                  <a:pt x="18168" y="12864"/>
                </a:cubicBezTo>
                <a:cubicBezTo>
                  <a:pt x="18162" y="12859"/>
                  <a:pt x="18155" y="12854"/>
                  <a:pt x="18149" y="12849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7045200" y="4017960"/>
            <a:ext cx="1698840" cy="1411200"/>
          </a:xfrm>
          <a:custGeom>
            <a:avLst/>
            <a:gdLst/>
            <a:ahLst/>
            <a:rect l="l" t="t" r="r" b="b"/>
            <a:pathLst>
              <a:path w="4718" h="3920">
                <a:moveTo>
                  <a:pt x="20528" y="12029"/>
                </a:moveTo>
                <a:cubicBezTo>
                  <a:pt x="20528" y="12047"/>
                  <a:pt x="20513" y="12076"/>
                  <a:pt x="20527" y="12043"/>
                </a:cubicBezTo>
                <a:cubicBezTo>
                  <a:pt x="20541" y="12000"/>
                  <a:pt x="20558" y="11959"/>
                  <a:pt x="20571" y="11915"/>
                </a:cubicBezTo>
                <a:cubicBezTo>
                  <a:pt x="20594" y="11839"/>
                  <a:pt x="20611" y="11679"/>
                  <a:pt x="20676" y="11625"/>
                </a:cubicBezTo>
                <a:cubicBezTo>
                  <a:pt x="20681" y="11623"/>
                  <a:pt x="20687" y="11622"/>
                  <a:pt x="20692" y="11620"/>
                </a:cubicBezTo>
                <a:cubicBezTo>
                  <a:pt x="20735" y="11659"/>
                  <a:pt x="20749" y="11710"/>
                  <a:pt x="20767" y="11766"/>
                </a:cubicBezTo>
                <a:cubicBezTo>
                  <a:pt x="20798" y="11862"/>
                  <a:pt x="20819" y="11959"/>
                  <a:pt x="20844" y="12056"/>
                </a:cubicBezTo>
                <a:cubicBezTo>
                  <a:pt x="20857" y="12104"/>
                  <a:pt x="20868" y="12152"/>
                  <a:pt x="20878" y="12201"/>
                </a:cubicBezTo>
                <a:cubicBezTo>
                  <a:pt x="20876" y="12194"/>
                  <a:pt x="20875" y="12187"/>
                  <a:pt x="20873" y="12180"/>
                </a:cubicBezTo>
              </a:path>
              <a:path w="4718" h="3920">
                <a:moveTo>
                  <a:pt x="20634" y="11995"/>
                </a:moveTo>
                <a:cubicBezTo>
                  <a:pt x="20622" y="12003"/>
                  <a:pt x="20619" y="12005"/>
                  <a:pt x="20610" y="12008"/>
                </a:cubicBezTo>
                <a:cubicBezTo>
                  <a:pt x="20653" y="12006"/>
                  <a:pt x="20695" y="12000"/>
                  <a:pt x="20738" y="11996"/>
                </a:cubicBezTo>
                <a:cubicBezTo>
                  <a:pt x="20786" y="11991"/>
                  <a:pt x="20843" y="11982"/>
                  <a:pt x="20889" y="11966"/>
                </a:cubicBezTo>
                <a:cubicBezTo>
                  <a:pt x="20907" y="11956"/>
                  <a:pt x="20911" y="11954"/>
                  <a:pt x="20920" y="11945"/>
                </a:cubicBezTo>
              </a:path>
              <a:path w="4718" h="3920">
                <a:moveTo>
                  <a:pt x="20500" y="11621"/>
                </a:moveTo>
                <a:cubicBezTo>
                  <a:pt x="20470" y="11610"/>
                  <a:pt x="20445" y="11604"/>
                  <a:pt x="20419" y="11586"/>
                </a:cubicBezTo>
                <a:cubicBezTo>
                  <a:pt x="20465" y="11556"/>
                  <a:pt x="20520" y="11555"/>
                  <a:pt x="20575" y="11547"/>
                </a:cubicBezTo>
                <a:cubicBezTo>
                  <a:pt x="20675" y="11532"/>
                  <a:pt x="20777" y="11514"/>
                  <a:pt x="20878" y="11508"/>
                </a:cubicBezTo>
                <a:cubicBezTo>
                  <a:pt x="20938" y="11505"/>
                  <a:pt x="20994" y="11513"/>
                  <a:pt x="21051" y="11532"/>
                </a:cubicBezTo>
              </a:path>
              <a:path w="4718" h="3920">
                <a:moveTo>
                  <a:pt x="19576" y="11160"/>
                </a:moveTo>
                <a:cubicBezTo>
                  <a:pt x="19583" y="11188"/>
                  <a:pt x="19564" y="11184"/>
                  <a:pt x="19603" y="11199"/>
                </a:cubicBezTo>
                <a:cubicBezTo>
                  <a:pt x="19620" y="11206"/>
                  <a:pt x="19640" y="11206"/>
                  <a:pt x="19656" y="11216"/>
                </a:cubicBezTo>
                <a:cubicBezTo>
                  <a:pt x="19678" y="11229"/>
                  <a:pt x="19685" y="11252"/>
                  <a:pt x="19698" y="11272"/>
                </a:cubicBezTo>
                <a:cubicBezTo>
                  <a:pt x="19717" y="11301"/>
                  <a:pt x="19738" y="11320"/>
                  <a:pt x="19767" y="11339"/>
                </a:cubicBezTo>
                <a:cubicBezTo>
                  <a:pt x="19817" y="11371"/>
                  <a:pt x="19873" y="11384"/>
                  <a:pt x="19929" y="11401"/>
                </a:cubicBezTo>
                <a:cubicBezTo>
                  <a:pt x="19950" y="11408"/>
                  <a:pt x="19971" y="11417"/>
                  <a:pt x="19990" y="11429"/>
                </a:cubicBezTo>
                <a:cubicBezTo>
                  <a:pt x="20007" y="11440"/>
                  <a:pt x="20024" y="11454"/>
                  <a:pt x="20040" y="11467"/>
                </a:cubicBezTo>
                <a:cubicBezTo>
                  <a:pt x="20065" y="11486"/>
                  <a:pt x="20090" y="11502"/>
                  <a:pt x="20115" y="11521"/>
                </a:cubicBezTo>
                <a:cubicBezTo>
                  <a:pt x="20138" y="11538"/>
                  <a:pt x="20161" y="11555"/>
                  <a:pt x="20179" y="11577"/>
                </a:cubicBezTo>
                <a:cubicBezTo>
                  <a:pt x="20192" y="11593"/>
                  <a:pt x="20202" y="11606"/>
                  <a:pt x="20214" y="11616"/>
                </a:cubicBezTo>
                <a:cubicBezTo>
                  <a:pt x="20214" y="11601"/>
                  <a:pt x="20213" y="11584"/>
                  <a:pt x="20210" y="11564"/>
                </a:cubicBezTo>
                <a:cubicBezTo>
                  <a:pt x="20202" y="11513"/>
                  <a:pt x="20191" y="11464"/>
                  <a:pt x="20172" y="11416"/>
                </a:cubicBezTo>
                <a:cubicBezTo>
                  <a:pt x="20162" y="11390"/>
                  <a:pt x="20146" y="11371"/>
                  <a:pt x="20131" y="11348"/>
                </a:cubicBezTo>
                <a:cubicBezTo>
                  <a:pt x="20129" y="11344"/>
                  <a:pt x="20126" y="11340"/>
                  <a:pt x="20124" y="11336"/>
                </a:cubicBezTo>
                <a:cubicBezTo>
                  <a:pt x="20146" y="11345"/>
                  <a:pt x="20166" y="11353"/>
                  <a:pt x="20186" y="11366"/>
                </a:cubicBezTo>
                <a:cubicBezTo>
                  <a:pt x="20193" y="11371"/>
                  <a:pt x="20201" y="11376"/>
                  <a:pt x="20208" y="11381"/>
                </a:cubicBezTo>
              </a:path>
              <a:path w="4718" h="3920">
                <a:moveTo>
                  <a:pt x="20293" y="11589"/>
                </a:moveTo>
                <a:cubicBezTo>
                  <a:pt x="20261" y="11641"/>
                  <a:pt x="20220" y="11684"/>
                  <a:pt x="20170" y="11720"/>
                </a:cubicBezTo>
                <a:cubicBezTo>
                  <a:pt x="20146" y="11737"/>
                  <a:pt x="20113" y="11758"/>
                  <a:pt x="20085" y="11769"/>
                </a:cubicBezTo>
                <a:cubicBezTo>
                  <a:pt x="20082" y="11770"/>
                  <a:pt x="20079" y="11770"/>
                  <a:pt x="20076" y="11771"/>
                </a:cubicBezTo>
              </a:path>
              <a:path w="4718" h="3920">
                <a:moveTo>
                  <a:pt x="21950" y="11920"/>
                </a:moveTo>
                <a:cubicBezTo>
                  <a:pt x="21970" y="11949"/>
                  <a:pt x="21983" y="11981"/>
                  <a:pt x="21987" y="12016"/>
                </a:cubicBezTo>
                <a:cubicBezTo>
                  <a:pt x="21991" y="12045"/>
                  <a:pt x="21988" y="12073"/>
                  <a:pt x="21989" y="12102"/>
                </a:cubicBezTo>
                <a:cubicBezTo>
                  <a:pt x="21991" y="12119"/>
                  <a:pt x="21992" y="12122"/>
                  <a:pt x="21990" y="12097"/>
                </a:cubicBezTo>
              </a:path>
              <a:path w="4718" h="3920">
                <a:moveTo>
                  <a:pt x="21956" y="11650"/>
                </a:moveTo>
                <a:cubicBezTo>
                  <a:pt x="21943" y="11635"/>
                  <a:pt x="21932" y="11620"/>
                  <a:pt x="21921" y="11604"/>
                </a:cubicBezTo>
                <a:cubicBezTo>
                  <a:pt x="21945" y="11611"/>
                  <a:pt x="21963" y="11619"/>
                  <a:pt x="21985" y="11630"/>
                </a:cubicBezTo>
              </a:path>
              <a:path w="4718" h="3920">
                <a:moveTo>
                  <a:pt x="22163" y="12033"/>
                </a:moveTo>
                <a:cubicBezTo>
                  <a:pt x="22169" y="12070"/>
                  <a:pt x="22173" y="12100"/>
                  <a:pt x="22192" y="12131"/>
                </a:cubicBezTo>
                <a:cubicBezTo>
                  <a:pt x="22224" y="12102"/>
                  <a:pt x="22230" y="12070"/>
                  <a:pt x="22247" y="12028"/>
                </a:cubicBezTo>
                <a:cubicBezTo>
                  <a:pt x="22270" y="11970"/>
                  <a:pt x="22282" y="11893"/>
                  <a:pt x="22333" y="11854"/>
                </a:cubicBezTo>
                <a:cubicBezTo>
                  <a:pt x="22361" y="11879"/>
                  <a:pt x="22366" y="11910"/>
                  <a:pt x="22383" y="11944"/>
                </a:cubicBezTo>
                <a:cubicBezTo>
                  <a:pt x="22405" y="11989"/>
                  <a:pt x="22430" y="12048"/>
                  <a:pt x="22467" y="12083"/>
                </a:cubicBezTo>
                <a:cubicBezTo>
                  <a:pt x="22494" y="12101"/>
                  <a:pt x="22503" y="12107"/>
                  <a:pt x="22525" y="12111"/>
                </a:cubicBezTo>
              </a:path>
              <a:path w="4718" h="3920">
                <a:moveTo>
                  <a:pt x="23161" y="11793"/>
                </a:moveTo>
                <a:cubicBezTo>
                  <a:pt x="23157" y="11767"/>
                  <a:pt x="23155" y="11736"/>
                  <a:pt x="23143" y="11712"/>
                </a:cubicBezTo>
                <a:cubicBezTo>
                  <a:pt x="23139" y="11708"/>
                  <a:pt x="23136" y="11705"/>
                  <a:pt x="23132" y="11701"/>
                </a:cubicBezTo>
                <a:cubicBezTo>
                  <a:pt x="23117" y="11744"/>
                  <a:pt x="23119" y="11786"/>
                  <a:pt x="23123" y="11832"/>
                </a:cubicBezTo>
                <a:cubicBezTo>
                  <a:pt x="23130" y="11910"/>
                  <a:pt x="23153" y="11999"/>
                  <a:pt x="23193" y="12068"/>
                </a:cubicBezTo>
                <a:cubicBezTo>
                  <a:pt x="23224" y="12122"/>
                  <a:pt x="23277" y="12162"/>
                  <a:pt x="23341" y="12140"/>
                </a:cubicBezTo>
                <a:cubicBezTo>
                  <a:pt x="23409" y="12116"/>
                  <a:pt x="23457" y="12030"/>
                  <a:pt x="23488" y="11971"/>
                </a:cubicBezTo>
                <a:cubicBezTo>
                  <a:pt x="23527" y="11898"/>
                  <a:pt x="23555" y="11817"/>
                  <a:pt x="23570" y="11736"/>
                </a:cubicBezTo>
                <a:cubicBezTo>
                  <a:pt x="23575" y="11708"/>
                  <a:pt x="23588" y="11648"/>
                  <a:pt x="23562" y="11628"/>
                </a:cubicBezTo>
                <a:cubicBezTo>
                  <a:pt x="23544" y="11635"/>
                  <a:pt x="23537" y="11638"/>
                  <a:pt x="23530" y="11651"/>
                </a:cubicBezTo>
              </a:path>
              <a:path w="4718" h="3920">
                <a:moveTo>
                  <a:pt x="22734" y="13019"/>
                </a:moveTo>
                <a:cubicBezTo>
                  <a:pt x="22697" y="12893"/>
                  <a:pt x="22709" y="12847"/>
                  <a:pt x="22558" y="12801"/>
                </a:cubicBezTo>
                <a:cubicBezTo>
                  <a:pt x="22274" y="12715"/>
                  <a:pt x="21861" y="12824"/>
                  <a:pt x="21583" y="12888"/>
                </a:cubicBezTo>
                <a:cubicBezTo>
                  <a:pt x="21096" y="13000"/>
                  <a:pt x="20762" y="13255"/>
                  <a:pt x="20623" y="13743"/>
                </a:cubicBezTo>
                <a:cubicBezTo>
                  <a:pt x="20521" y="14102"/>
                  <a:pt x="20682" y="14449"/>
                  <a:pt x="20934" y="14701"/>
                </a:cubicBezTo>
                <a:cubicBezTo>
                  <a:pt x="21211" y="14978"/>
                  <a:pt x="21582" y="15064"/>
                  <a:pt x="21963" y="15078"/>
                </a:cubicBezTo>
                <a:cubicBezTo>
                  <a:pt x="22603" y="15101"/>
                  <a:pt x="23672" y="15011"/>
                  <a:pt x="24128" y="14484"/>
                </a:cubicBezTo>
                <a:cubicBezTo>
                  <a:pt x="24267" y="14323"/>
                  <a:pt x="24305" y="14089"/>
                  <a:pt x="24289" y="13882"/>
                </a:cubicBezTo>
                <a:cubicBezTo>
                  <a:pt x="24274" y="13688"/>
                  <a:pt x="24191" y="13541"/>
                  <a:pt x="24074" y="13390"/>
                </a:cubicBezTo>
                <a:cubicBezTo>
                  <a:pt x="23987" y="13277"/>
                  <a:pt x="23884" y="13180"/>
                  <a:pt x="23779" y="13085"/>
                </a:cubicBezTo>
                <a:cubicBezTo>
                  <a:pt x="23581" y="12906"/>
                  <a:pt x="23364" y="12720"/>
                  <a:pt x="23115" y="12618"/>
                </a:cubicBezTo>
                <a:cubicBezTo>
                  <a:pt x="22959" y="12554"/>
                  <a:pt x="22861" y="12570"/>
                  <a:pt x="22700" y="12581"/>
                </a:cubicBezTo>
              </a:path>
              <a:path w="4718" h="3920">
                <a:moveTo>
                  <a:pt x="23296" y="13412"/>
                </a:moveTo>
                <a:cubicBezTo>
                  <a:pt x="23286" y="13452"/>
                  <a:pt x="23277" y="13491"/>
                  <a:pt x="23270" y="13532"/>
                </a:cubicBezTo>
                <a:cubicBezTo>
                  <a:pt x="23259" y="13597"/>
                  <a:pt x="23262" y="13654"/>
                  <a:pt x="23280" y="13718"/>
                </a:cubicBezTo>
                <a:cubicBezTo>
                  <a:pt x="23292" y="13761"/>
                  <a:pt x="23316" y="13804"/>
                  <a:pt x="23369" y="13796"/>
                </a:cubicBezTo>
                <a:cubicBezTo>
                  <a:pt x="23420" y="13789"/>
                  <a:pt x="23461" y="13737"/>
                  <a:pt x="23488" y="13699"/>
                </a:cubicBezTo>
                <a:cubicBezTo>
                  <a:pt x="23524" y="13648"/>
                  <a:pt x="23547" y="13594"/>
                  <a:pt x="23567" y="13536"/>
                </a:cubicBezTo>
                <a:cubicBezTo>
                  <a:pt x="23569" y="13532"/>
                  <a:pt x="23570" y="13528"/>
                  <a:pt x="23572" y="13524"/>
                </a:cubicBezTo>
                <a:cubicBezTo>
                  <a:pt x="23567" y="13564"/>
                  <a:pt x="23564" y="13606"/>
                  <a:pt x="23562" y="13647"/>
                </a:cubicBezTo>
                <a:cubicBezTo>
                  <a:pt x="23558" y="13714"/>
                  <a:pt x="23566" y="13781"/>
                  <a:pt x="23564" y="13848"/>
                </a:cubicBezTo>
                <a:cubicBezTo>
                  <a:pt x="23563" y="13881"/>
                  <a:pt x="23564" y="13911"/>
                  <a:pt x="23565" y="13944"/>
                </a:cubicBezTo>
              </a:path>
              <a:path w="4718" h="3920">
                <a:moveTo>
                  <a:pt x="21518" y="14221"/>
                </a:moveTo>
                <a:cubicBezTo>
                  <a:pt x="21521" y="14187"/>
                  <a:pt x="21527" y="14154"/>
                  <a:pt x="21537" y="14119"/>
                </a:cubicBezTo>
                <a:cubicBezTo>
                  <a:pt x="21566" y="14014"/>
                  <a:pt x="21604" y="13912"/>
                  <a:pt x="21658" y="13817"/>
                </a:cubicBezTo>
                <a:cubicBezTo>
                  <a:pt x="21673" y="13793"/>
                  <a:pt x="21675" y="13786"/>
                  <a:pt x="21691" y="13778"/>
                </a:cubicBezTo>
                <a:cubicBezTo>
                  <a:pt x="21712" y="13821"/>
                  <a:pt x="21696" y="13876"/>
                  <a:pt x="21692" y="13924"/>
                </a:cubicBezTo>
                <a:cubicBezTo>
                  <a:pt x="21684" y="14025"/>
                  <a:pt x="21684" y="14124"/>
                  <a:pt x="21687" y="14225"/>
                </a:cubicBezTo>
                <a:cubicBezTo>
                  <a:pt x="21688" y="14268"/>
                  <a:pt x="21700" y="14315"/>
                  <a:pt x="21711" y="14334"/>
                </a:cubicBezTo>
              </a:path>
              <a:path w="4718" h="3920">
                <a:moveTo>
                  <a:pt x="21543" y="14033"/>
                </a:moveTo>
                <a:cubicBezTo>
                  <a:pt x="21551" y="14066"/>
                  <a:pt x="21589" y="14059"/>
                  <a:pt x="21625" y="14059"/>
                </a:cubicBezTo>
                <a:cubicBezTo>
                  <a:pt x="21683" y="14059"/>
                  <a:pt x="21739" y="14055"/>
                  <a:pt x="21797" y="14052"/>
                </a:cubicBezTo>
                <a:cubicBezTo>
                  <a:pt x="21829" y="14050"/>
                  <a:pt x="21859" y="14047"/>
                  <a:pt x="21891" y="14042"/>
                </a:cubicBezTo>
              </a:path>
              <a:path w="4718" h="3920">
                <a:moveTo>
                  <a:pt x="21769" y="13546"/>
                </a:moveTo>
                <a:cubicBezTo>
                  <a:pt x="21732" y="13536"/>
                  <a:pt x="21701" y="13526"/>
                  <a:pt x="21661" y="13528"/>
                </a:cubicBezTo>
                <a:cubicBezTo>
                  <a:pt x="21611" y="13531"/>
                  <a:pt x="21555" y="13548"/>
                  <a:pt x="21512" y="13574"/>
                </a:cubicBezTo>
                <a:cubicBezTo>
                  <a:pt x="21441" y="13618"/>
                  <a:pt x="21379" y="13683"/>
                  <a:pt x="21333" y="13751"/>
                </a:cubicBezTo>
                <a:cubicBezTo>
                  <a:pt x="21275" y="13836"/>
                  <a:pt x="21233" y="13936"/>
                  <a:pt x="21212" y="14037"/>
                </a:cubicBezTo>
                <a:cubicBezTo>
                  <a:pt x="21181" y="14187"/>
                  <a:pt x="21202" y="14341"/>
                  <a:pt x="21297" y="14464"/>
                </a:cubicBezTo>
                <a:cubicBezTo>
                  <a:pt x="21363" y="14549"/>
                  <a:pt x="21459" y="14591"/>
                  <a:pt x="21565" y="14599"/>
                </a:cubicBezTo>
                <a:cubicBezTo>
                  <a:pt x="21797" y="14617"/>
                  <a:pt x="22023" y="14471"/>
                  <a:pt x="22166" y="14299"/>
                </a:cubicBezTo>
                <a:cubicBezTo>
                  <a:pt x="22292" y="14148"/>
                  <a:pt x="22376" y="13919"/>
                  <a:pt x="22301" y="13726"/>
                </a:cubicBezTo>
                <a:cubicBezTo>
                  <a:pt x="22254" y="13604"/>
                  <a:pt x="22118" y="13548"/>
                  <a:pt x="21993" y="13551"/>
                </a:cubicBezTo>
                <a:cubicBezTo>
                  <a:pt x="21904" y="13553"/>
                  <a:pt x="21803" y="13588"/>
                  <a:pt x="21727" y="13633"/>
                </a:cubicBezTo>
                <a:cubicBezTo>
                  <a:pt x="21713" y="13643"/>
                  <a:pt x="21698" y="13654"/>
                  <a:pt x="21684" y="13664"/>
                </a:cubicBezTo>
              </a:path>
              <a:path w="4718" h="3920">
                <a:moveTo>
                  <a:pt x="20725" y="14046"/>
                </a:moveTo>
                <a:cubicBezTo>
                  <a:pt x="20752" y="14025"/>
                  <a:pt x="20753" y="14014"/>
                  <a:pt x="20765" y="13982"/>
                </a:cubicBezTo>
                <a:cubicBezTo>
                  <a:pt x="20805" y="13875"/>
                  <a:pt x="20860" y="13775"/>
                  <a:pt x="20921" y="13678"/>
                </a:cubicBezTo>
                <a:cubicBezTo>
                  <a:pt x="21017" y="13527"/>
                  <a:pt x="21129" y="13378"/>
                  <a:pt x="21248" y="13245"/>
                </a:cubicBezTo>
                <a:cubicBezTo>
                  <a:pt x="21312" y="13173"/>
                  <a:pt x="21385" y="13104"/>
                  <a:pt x="21467" y="13055"/>
                </a:cubicBezTo>
              </a:path>
              <a:path w="4718" h="3920">
                <a:moveTo>
                  <a:pt x="21064" y="14068"/>
                </a:moveTo>
                <a:cubicBezTo>
                  <a:pt x="21101" y="14008"/>
                  <a:pt x="21138" y="13947"/>
                  <a:pt x="21175" y="13886"/>
                </a:cubicBezTo>
                <a:cubicBezTo>
                  <a:pt x="21250" y="13763"/>
                  <a:pt x="21331" y="13647"/>
                  <a:pt x="21412" y="13528"/>
                </a:cubicBezTo>
                <a:cubicBezTo>
                  <a:pt x="21504" y="13392"/>
                  <a:pt x="21596" y="13252"/>
                  <a:pt x="21698" y="13123"/>
                </a:cubicBezTo>
                <a:cubicBezTo>
                  <a:pt x="21763" y="13041"/>
                  <a:pt x="21828" y="12971"/>
                  <a:pt x="21911" y="12908"/>
                </a:cubicBezTo>
              </a:path>
              <a:path w="4718" h="3920">
                <a:moveTo>
                  <a:pt x="21964" y="13573"/>
                </a:moveTo>
                <a:cubicBezTo>
                  <a:pt x="22006" y="13508"/>
                  <a:pt x="22043" y="13444"/>
                  <a:pt x="22087" y="13381"/>
                </a:cubicBezTo>
                <a:cubicBezTo>
                  <a:pt x="22165" y="13270"/>
                  <a:pt x="22258" y="13178"/>
                  <a:pt x="22362" y="13091"/>
                </a:cubicBezTo>
                <a:cubicBezTo>
                  <a:pt x="22449" y="13018"/>
                  <a:pt x="22534" y="12947"/>
                  <a:pt x="22637" y="12898"/>
                </a:cubicBezTo>
                <a:cubicBezTo>
                  <a:pt x="22665" y="12887"/>
                  <a:pt x="22671" y="12881"/>
                  <a:pt x="22688" y="12891"/>
                </a:cubicBezTo>
              </a:path>
              <a:path w="4718" h="3920">
                <a:moveTo>
                  <a:pt x="21089" y="14407"/>
                </a:moveTo>
                <a:cubicBezTo>
                  <a:pt x="21084" y="14442"/>
                  <a:pt x="21069" y="14487"/>
                  <a:pt x="21054" y="14519"/>
                </a:cubicBezTo>
                <a:cubicBezTo>
                  <a:pt x="21017" y="14598"/>
                  <a:pt x="20973" y="14675"/>
                  <a:pt x="20938" y="14756"/>
                </a:cubicBezTo>
                <a:cubicBezTo>
                  <a:pt x="20924" y="14787"/>
                  <a:pt x="20859" y="14891"/>
                  <a:pt x="20879" y="14928"/>
                </a:cubicBezTo>
                <a:cubicBezTo>
                  <a:pt x="20898" y="14934"/>
                  <a:pt x="20907" y="14935"/>
                  <a:pt x="20921" y="14925"/>
                </a:cubicBezTo>
              </a:path>
              <a:path w="4718" h="3920">
                <a:moveTo>
                  <a:pt x="21675" y="14500"/>
                </a:moveTo>
                <a:cubicBezTo>
                  <a:pt x="21692" y="14510"/>
                  <a:pt x="21647" y="14570"/>
                  <a:pt x="21632" y="14601"/>
                </a:cubicBezTo>
                <a:cubicBezTo>
                  <a:pt x="21594" y="14677"/>
                  <a:pt x="21554" y="14762"/>
                  <a:pt x="21528" y="14843"/>
                </a:cubicBezTo>
                <a:cubicBezTo>
                  <a:pt x="21514" y="14886"/>
                  <a:pt x="21508" y="14927"/>
                  <a:pt x="21505" y="14971"/>
                </a:cubicBezTo>
              </a:path>
              <a:path w="4718" h="3920">
                <a:moveTo>
                  <a:pt x="22172" y="14556"/>
                </a:moveTo>
                <a:cubicBezTo>
                  <a:pt x="22191" y="14615"/>
                  <a:pt x="22175" y="14662"/>
                  <a:pt x="22161" y="14725"/>
                </a:cubicBezTo>
                <a:cubicBezTo>
                  <a:pt x="22145" y="14801"/>
                  <a:pt x="22132" y="14875"/>
                  <a:pt x="22107" y="14948"/>
                </a:cubicBezTo>
                <a:cubicBezTo>
                  <a:pt x="22104" y="14954"/>
                  <a:pt x="22101" y="14961"/>
                  <a:pt x="22098" y="14967"/>
                </a:cubicBezTo>
              </a:path>
              <a:path w="4718" h="3920">
                <a:moveTo>
                  <a:pt x="23209" y="13239"/>
                </a:moveTo>
                <a:cubicBezTo>
                  <a:pt x="23165" y="13280"/>
                  <a:pt x="23133" y="13315"/>
                  <a:pt x="23099" y="13365"/>
                </a:cubicBezTo>
                <a:cubicBezTo>
                  <a:pt x="23019" y="13484"/>
                  <a:pt x="22970" y="13626"/>
                  <a:pt x="22917" y="13759"/>
                </a:cubicBezTo>
                <a:cubicBezTo>
                  <a:pt x="22822" y="13998"/>
                  <a:pt x="22748" y="14243"/>
                  <a:pt x="22665" y="14486"/>
                </a:cubicBezTo>
                <a:cubicBezTo>
                  <a:pt x="22628" y="14593"/>
                  <a:pt x="22585" y="14699"/>
                  <a:pt x="22545" y="14805"/>
                </a:cubicBezTo>
              </a:path>
              <a:path w="4718" h="3920">
                <a:moveTo>
                  <a:pt x="22953" y="13076"/>
                </a:moveTo>
                <a:cubicBezTo>
                  <a:pt x="22937" y="13092"/>
                  <a:pt x="22912" y="13146"/>
                  <a:pt x="22895" y="13194"/>
                </a:cubicBezTo>
                <a:cubicBezTo>
                  <a:pt x="22838" y="13357"/>
                  <a:pt x="22802" y="13526"/>
                  <a:pt x="22755" y="13692"/>
                </a:cubicBezTo>
                <a:cubicBezTo>
                  <a:pt x="22685" y="13938"/>
                  <a:pt x="22613" y="14183"/>
                  <a:pt x="22537" y="14427"/>
                </a:cubicBezTo>
                <a:cubicBezTo>
                  <a:pt x="22516" y="14496"/>
                  <a:pt x="22495" y="14562"/>
                  <a:pt x="22468" y="14629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4017960" y="4168800"/>
            <a:ext cx="1049400" cy="777960"/>
          </a:xfrm>
          <a:custGeom>
            <a:avLst/>
            <a:gdLst/>
            <a:ahLst/>
            <a:rect l="l" t="t" r="r" b="b"/>
            <a:pathLst>
              <a:path w="2911" h="2162">
                <a:moveTo>
                  <a:pt x="13062" y="13713"/>
                </a:moveTo>
                <a:cubicBezTo>
                  <a:pt x="13042" y="13726"/>
                  <a:pt x="13027" y="13731"/>
                  <a:pt x="13008" y="13739"/>
                </a:cubicBezTo>
                <a:cubicBezTo>
                  <a:pt x="12998" y="13709"/>
                  <a:pt x="13005" y="13684"/>
                  <a:pt x="13009" y="13652"/>
                </a:cubicBezTo>
                <a:cubicBezTo>
                  <a:pt x="13016" y="13603"/>
                  <a:pt x="13027" y="13550"/>
                  <a:pt x="13047" y="13505"/>
                </a:cubicBezTo>
                <a:cubicBezTo>
                  <a:pt x="13057" y="13483"/>
                  <a:pt x="13078" y="13436"/>
                  <a:pt x="13110" y="13448"/>
                </a:cubicBezTo>
                <a:cubicBezTo>
                  <a:pt x="13143" y="13460"/>
                  <a:pt x="13166" y="13519"/>
                  <a:pt x="13180" y="13547"/>
                </a:cubicBezTo>
                <a:cubicBezTo>
                  <a:pt x="13204" y="13592"/>
                  <a:pt x="13224" y="13641"/>
                  <a:pt x="13249" y="13685"/>
                </a:cubicBezTo>
                <a:cubicBezTo>
                  <a:pt x="13260" y="13700"/>
                  <a:pt x="13263" y="13705"/>
                  <a:pt x="13271" y="13713"/>
                </a:cubicBezTo>
              </a:path>
              <a:path w="2911" h="2162">
                <a:moveTo>
                  <a:pt x="13108" y="13613"/>
                </a:moveTo>
                <a:cubicBezTo>
                  <a:pt x="13081" y="13610"/>
                  <a:pt x="13124" y="13588"/>
                  <a:pt x="13140" y="13581"/>
                </a:cubicBezTo>
                <a:cubicBezTo>
                  <a:pt x="13174" y="13566"/>
                  <a:pt x="13217" y="13559"/>
                  <a:pt x="13253" y="13553"/>
                </a:cubicBezTo>
                <a:cubicBezTo>
                  <a:pt x="13281" y="13549"/>
                  <a:pt x="13309" y="13544"/>
                  <a:pt x="13337" y="13538"/>
                </a:cubicBezTo>
              </a:path>
              <a:path w="2911" h="2162">
                <a:moveTo>
                  <a:pt x="13476" y="13555"/>
                </a:moveTo>
                <a:cubicBezTo>
                  <a:pt x="13493" y="13549"/>
                  <a:pt x="13512" y="13540"/>
                  <a:pt x="13530" y="13538"/>
                </a:cubicBezTo>
                <a:cubicBezTo>
                  <a:pt x="13563" y="13533"/>
                  <a:pt x="13592" y="13526"/>
                  <a:pt x="13624" y="13515"/>
                </a:cubicBezTo>
                <a:cubicBezTo>
                  <a:pt x="13633" y="13512"/>
                  <a:pt x="13641" y="13509"/>
                  <a:pt x="13650" y="13506"/>
                </a:cubicBezTo>
              </a:path>
              <a:path w="2911" h="2162">
                <a:moveTo>
                  <a:pt x="13772" y="13385"/>
                </a:moveTo>
                <a:cubicBezTo>
                  <a:pt x="13789" y="13407"/>
                  <a:pt x="13792" y="13428"/>
                  <a:pt x="13798" y="13455"/>
                </a:cubicBezTo>
                <a:cubicBezTo>
                  <a:pt x="13807" y="13494"/>
                  <a:pt x="13817" y="13533"/>
                  <a:pt x="13824" y="13573"/>
                </a:cubicBezTo>
                <a:cubicBezTo>
                  <a:pt x="13827" y="13591"/>
                  <a:pt x="13827" y="13594"/>
                  <a:pt x="13828" y="13605"/>
                </a:cubicBezTo>
                <a:cubicBezTo>
                  <a:pt x="13822" y="13571"/>
                  <a:pt x="13820" y="13538"/>
                  <a:pt x="13823" y="13503"/>
                </a:cubicBezTo>
                <a:cubicBezTo>
                  <a:pt x="13827" y="13463"/>
                  <a:pt x="13836" y="13424"/>
                  <a:pt x="13859" y="13390"/>
                </a:cubicBezTo>
                <a:cubicBezTo>
                  <a:pt x="13874" y="13368"/>
                  <a:pt x="13899" y="13348"/>
                  <a:pt x="13927" y="13355"/>
                </a:cubicBezTo>
                <a:cubicBezTo>
                  <a:pt x="13952" y="13361"/>
                  <a:pt x="13960" y="13389"/>
                  <a:pt x="13962" y="13412"/>
                </a:cubicBezTo>
                <a:cubicBezTo>
                  <a:pt x="13965" y="13447"/>
                  <a:pt x="13943" y="13476"/>
                  <a:pt x="13976" y="13500"/>
                </a:cubicBezTo>
                <a:cubicBezTo>
                  <a:pt x="13998" y="13516"/>
                  <a:pt x="14026" y="13523"/>
                  <a:pt x="14047" y="13541"/>
                </a:cubicBezTo>
                <a:cubicBezTo>
                  <a:pt x="14067" y="13558"/>
                  <a:pt x="14083" y="13586"/>
                  <a:pt x="14067" y="13611"/>
                </a:cubicBezTo>
                <a:cubicBezTo>
                  <a:pt x="14047" y="13643"/>
                  <a:pt x="14005" y="13659"/>
                  <a:pt x="13972" y="13673"/>
                </a:cubicBezTo>
                <a:cubicBezTo>
                  <a:pt x="13936" y="13688"/>
                  <a:pt x="13898" y="13690"/>
                  <a:pt x="13861" y="13698"/>
                </a:cubicBezTo>
                <a:cubicBezTo>
                  <a:pt x="13844" y="13702"/>
                  <a:pt x="13840" y="13702"/>
                  <a:pt x="13830" y="13707"/>
                </a:cubicBezTo>
              </a:path>
              <a:path w="2911" h="2162">
                <a:moveTo>
                  <a:pt x="11786" y="11578"/>
                </a:moveTo>
                <a:cubicBezTo>
                  <a:pt x="11800" y="11594"/>
                  <a:pt x="11809" y="11610"/>
                  <a:pt x="11822" y="11628"/>
                </a:cubicBezTo>
                <a:cubicBezTo>
                  <a:pt x="11865" y="11687"/>
                  <a:pt x="11937" y="11703"/>
                  <a:pt x="12006" y="11689"/>
                </a:cubicBezTo>
                <a:cubicBezTo>
                  <a:pt x="12044" y="11681"/>
                  <a:pt x="12082" y="11662"/>
                  <a:pt x="12122" y="11668"/>
                </a:cubicBezTo>
                <a:cubicBezTo>
                  <a:pt x="12157" y="11673"/>
                  <a:pt x="12174" y="11706"/>
                  <a:pt x="12190" y="11733"/>
                </a:cubicBezTo>
                <a:cubicBezTo>
                  <a:pt x="12208" y="11764"/>
                  <a:pt x="12222" y="11803"/>
                  <a:pt x="12259" y="11815"/>
                </a:cubicBezTo>
                <a:cubicBezTo>
                  <a:pt x="12312" y="11832"/>
                  <a:pt x="12380" y="11792"/>
                  <a:pt x="12431" y="11781"/>
                </a:cubicBezTo>
                <a:cubicBezTo>
                  <a:pt x="12473" y="11772"/>
                  <a:pt x="12512" y="11775"/>
                  <a:pt x="12548" y="11800"/>
                </a:cubicBezTo>
                <a:cubicBezTo>
                  <a:pt x="12598" y="11835"/>
                  <a:pt x="12628" y="11872"/>
                  <a:pt x="12694" y="11878"/>
                </a:cubicBezTo>
                <a:cubicBezTo>
                  <a:pt x="12745" y="11883"/>
                  <a:pt x="12807" y="11873"/>
                  <a:pt x="12856" y="11863"/>
                </a:cubicBezTo>
                <a:cubicBezTo>
                  <a:pt x="12878" y="11855"/>
                  <a:pt x="12884" y="11852"/>
                  <a:pt x="12900" y="11857"/>
                </a:cubicBezTo>
              </a:path>
              <a:path w="2911" h="2162">
                <a:moveTo>
                  <a:pt x="11388" y="11992"/>
                </a:moveTo>
                <a:cubicBezTo>
                  <a:pt x="11395" y="11976"/>
                  <a:pt x="11400" y="11963"/>
                  <a:pt x="11439" y="11946"/>
                </a:cubicBezTo>
                <a:cubicBezTo>
                  <a:pt x="11483" y="11927"/>
                  <a:pt x="11530" y="11909"/>
                  <a:pt x="11578" y="11906"/>
                </a:cubicBezTo>
                <a:cubicBezTo>
                  <a:pt x="11625" y="11903"/>
                  <a:pt x="11659" y="11917"/>
                  <a:pt x="11695" y="11946"/>
                </a:cubicBezTo>
                <a:cubicBezTo>
                  <a:pt x="11752" y="11993"/>
                  <a:pt x="11799" y="12022"/>
                  <a:pt x="11876" y="12025"/>
                </a:cubicBezTo>
                <a:cubicBezTo>
                  <a:pt x="11992" y="12030"/>
                  <a:pt x="12113" y="12020"/>
                  <a:pt x="12229" y="12018"/>
                </a:cubicBezTo>
                <a:cubicBezTo>
                  <a:pt x="12342" y="12016"/>
                  <a:pt x="12453" y="11986"/>
                  <a:pt x="12567" y="11997"/>
                </a:cubicBezTo>
                <a:cubicBezTo>
                  <a:pt x="12608" y="12001"/>
                  <a:pt x="12641" y="12019"/>
                  <a:pt x="12676" y="12038"/>
                </a:cubicBezTo>
              </a:path>
              <a:path w="2911" h="2162">
                <a:moveTo>
                  <a:pt x="11163" y="12619"/>
                </a:moveTo>
                <a:cubicBezTo>
                  <a:pt x="11191" y="12596"/>
                  <a:pt x="11223" y="12573"/>
                  <a:pt x="11257" y="12554"/>
                </a:cubicBezTo>
                <a:cubicBezTo>
                  <a:pt x="11349" y="12502"/>
                  <a:pt x="11496" y="12421"/>
                  <a:pt x="11598" y="12491"/>
                </a:cubicBezTo>
                <a:cubicBezTo>
                  <a:pt x="11642" y="12521"/>
                  <a:pt x="11664" y="12594"/>
                  <a:pt x="11724" y="12597"/>
                </a:cubicBezTo>
                <a:cubicBezTo>
                  <a:pt x="11788" y="12600"/>
                  <a:pt x="11853" y="12550"/>
                  <a:pt x="11904" y="12518"/>
                </a:cubicBezTo>
                <a:cubicBezTo>
                  <a:pt x="11965" y="12479"/>
                  <a:pt x="12020" y="12431"/>
                  <a:pt x="12085" y="12399"/>
                </a:cubicBezTo>
                <a:cubicBezTo>
                  <a:pt x="12132" y="12375"/>
                  <a:pt x="12177" y="12382"/>
                  <a:pt x="12228" y="12377"/>
                </a:cubicBezTo>
                <a:cubicBezTo>
                  <a:pt x="12354" y="12365"/>
                  <a:pt x="12484" y="12309"/>
                  <a:pt x="12600" y="12261"/>
                </a:cubicBezTo>
                <a:cubicBezTo>
                  <a:pt x="12633" y="12248"/>
                  <a:pt x="12666" y="12227"/>
                  <a:pt x="12696" y="12219"/>
                </a:cubicBezTo>
                <a:cubicBezTo>
                  <a:pt x="12700" y="12219"/>
                  <a:pt x="12704" y="12218"/>
                  <a:pt x="12708" y="12218"/>
                </a:cubicBezTo>
              </a:path>
              <a:path w="2911" h="2162">
                <a:moveTo>
                  <a:pt x="11605" y="13050"/>
                </a:moveTo>
                <a:cubicBezTo>
                  <a:pt x="11629" y="13024"/>
                  <a:pt x="11655" y="12998"/>
                  <a:pt x="11684" y="12974"/>
                </a:cubicBezTo>
                <a:cubicBezTo>
                  <a:pt x="11731" y="12936"/>
                  <a:pt x="11789" y="12883"/>
                  <a:pt x="11854" y="12895"/>
                </a:cubicBezTo>
                <a:cubicBezTo>
                  <a:pt x="11899" y="12903"/>
                  <a:pt x="11924" y="12950"/>
                  <a:pt x="11958" y="12975"/>
                </a:cubicBezTo>
                <a:cubicBezTo>
                  <a:pt x="11998" y="13005"/>
                  <a:pt x="12045" y="13018"/>
                  <a:pt x="12092" y="12995"/>
                </a:cubicBezTo>
                <a:cubicBezTo>
                  <a:pt x="12157" y="12964"/>
                  <a:pt x="12215" y="12904"/>
                  <a:pt x="12266" y="12855"/>
                </a:cubicBezTo>
                <a:cubicBezTo>
                  <a:pt x="12304" y="12819"/>
                  <a:pt x="12362" y="12741"/>
                  <a:pt x="12423" y="12743"/>
                </a:cubicBezTo>
                <a:cubicBezTo>
                  <a:pt x="12455" y="12744"/>
                  <a:pt x="12485" y="12757"/>
                  <a:pt x="12518" y="12755"/>
                </a:cubicBezTo>
                <a:cubicBezTo>
                  <a:pt x="12600" y="12751"/>
                  <a:pt x="12673" y="12704"/>
                  <a:pt x="12752" y="12700"/>
                </a:cubicBezTo>
                <a:cubicBezTo>
                  <a:pt x="12766" y="12696"/>
                  <a:pt x="12772" y="12695"/>
                  <a:pt x="12782" y="12700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5595840" y="5411880"/>
            <a:ext cx="146160" cy="145800"/>
          </a:xfrm>
          <a:custGeom>
            <a:avLst/>
            <a:gdLst/>
            <a:ahLst/>
            <a:rect l="l" t="t" r="r" b="b"/>
            <a:pathLst>
              <a:path w="406" h="406">
                <a:moveTo>
                  <a:pt x="15545" y="15158"/>
                </a:moveTo>
                <a:cubicBezTo>
                  <a:pt x="15565" y="15145"/>
                  <a:pt x="15563" y="15175"/>
                  <a:pt x="15566" y="15201"/>
                </a:cubicBezTo>
                <a:cubicBezTo>
                  <a:pt x="15571" y="15252"/>
                  <a:pt x="15575" y="15304"/>
                  <a:pt x="15578" y="15355"/>
                </a:cubicBezTo>
                <a:cubicBezTo>
                  <a:pt x="15580" y="15383"/>
                  <a:pt x="15581" y="15411"/>
                  <a:pt x="15580" y="15439"/>
                </a:cubicBezTo>
                <a:cubicBezTo>
                  <a:pt x="15568" y="15400"/>
                  <a:pt x="15569" y="15362"/>
                  <a:pt x="15568" y="15321"/>
                </a:cubicBezTo>
                <a:cubicBezTo>
                  <a:pt x="15566" y="15265"/>
                  <a:pt x="15569" y="15209"/>
                  <a:pt x="15578" y="15154"/>
                </a:cubicBezTo>
                <a:cubicBezTo>
                  <a:pt x="15585" y="15115"/>
                  <a:pt x="15595" y="15073"/>
                  <a:pt x="15631" y="15050"/>
                </a:cubicBezTo>
                <a:cubicBezTo>
                  <a:pt x="15664" y="15029"/>
                  <a:pt x="15711" y="15031"/>
                  <a:pt x="15747" y="15039"/>
                </a:cubicBezTo>
                <a:cubicBezTo>
                  <a:pt x="15780" y="15047"/>
                  <a:pt x="15820" y="15064"/>
                  <a:pt x="15820" y="15103"/>
                </a:cubicBezTo>
                <a:cubicBezTo>
                  <a:pt x="15820" y="15147"/>
                  <a:pt x="15769" y="15190"/>
                  <a:pt x="15741" y="15218"/>
                </a:cubicBezTo>
                <a:cubicBezTo>
                  <a:pt x="15710" y="15249"/>
                  <a:pt x="15666" y="15276"/>
                  <a:pt x="15645" y="15315"/>
                </a:cubicBezTo>
                <a:cubicBezTo>
                  <a:pt x="15643" y="15321"/>
                  <a:pt x="15642" y="15326"/>
                  <a:pt x="15640" y="15332"/>
                </a:cubicBezTo>
                <a:cubicBezTo>
                  <a:pt x="15667" y="15354"/>
                  <a:pt x="15700" y="15356"/>
                  <a:pt x="15735" y="15361"/>
                </a:cubicBezTo>
                <a:cubicBezTo>
                  <a:pt x="15798" y="15370"/>
                  <a:pt x="15860" y="15374"/>
                  <a:pt x="15920" y="15394"/>
                </a:cubicBezTo>
                <a:cubicBezTo>
                  <a:pt x="15959" y="15407"/>
                  <a:pt x="15949" y="15408"/>
                  <a:pt x="15932" y="15434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881520" y="5407200"/>
            <a:ext cx="171360" cy="153720"/>
          </a:xfrm>
          <a:custGeom>
            <a:avLst/>
            <a:gdLst/>
            <a:ahLst/>
            <a:rect l="l" t="t" r="r" b="b"/>
            <a:pathLst>
              <a:path w="478" h="429">
                <a:moveTo>
                  <a:pt x="10893" y="15055"/>
                </a:moveTo>
                <a:cubicBezTo>
                  <a:pt x="10905" y="15040"/>
                  <a:pt x="10915" y="15031"/>
                  <a:pt x="10929" y="15018"/>
                </a:cubicBezTo>
                <a:cubicBezTo>
                  <a:pt x="10931" y="15062"/>
                  <a:pt x="10906" y="15100"/>
                  <a:pt x="10886" y="15141"/>
                </a:cubicBezTo>
                <a:cubicBezTo>
                  <a:pt x="10854" y="15208"/>
                  <a:pt x="10817" y="15275"/>
                  <a:pt x="10792" y="15345"/>
                </a:cubicBezTo>
                <a:cubicBezTo>
                  <a:pt x="10774" y="15394"/>
                  <a:pt x="10770" y="15432"/>
                  <a:pt x="10829" y="15443"/>
                </a:cubicBezTo>
                <a:cubicBezTo>
                  <a:pt x="10921" y="15459"/>
                  <a:pt x="11021" y="15433"/>
                  <a:pt x="11111" y="15420"/>
                </a:cubicBezTo>
                <a:cubicBezTo>
                  <a:pt x="11161" y="15413"/>
                  <a:pt x="11209" y="15408"/>
                  <a:pt x="11257" y="15395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917640" y="5661000"/>
            <a:ext cx="301680" cy="220680"/>
          </a:xfrm>
          <a:custGeom>
            <a:avLst/>
            <a:gdLst/>
            <a:ahLst/>
            <a:rect l="l" t="t" r="r" b="b"/>
            <a:pathLst>
              <a:path w="838" h="612">
                <a:moveTo>
                  <a:pt x="2862" y="15725"/>
                </a:moveTo>
                <a:cubicBezTo>
                  <a:pt x="2843" y="15766"/>
                  <a:pt x="2858" y="15809"/>
                  <a:pt x="2862" y="15855"/>
                </a:cubicBezTo>
                <a:cubicBezTo>
                  <a:pt x="2870" y="15954"/>
                  <a:pt x="2881" y="16054"/>
                  <a:pt x="2900" y="16152"/>
                </a:cubicBezTo>
                <a:cubicBezTo>
                  <a:pt x="2902" y="16160"/>
                  <a:pt x="2946" y="16326"/>
                  <a:pt x="2933" y="16336"/>
                </a:cubicBezTo>
                <a:cubicBezTo>
                  <a:pt x="2931" y="16330"/>
                  <a:pt x="2928" y="16325"/>
                  <a:pt x="2926" y="16319"/>
                </a:cubicBezTo>
              </a:path>
              <a:path w="838" h="612">
                <a:moveTo>
                  <a:pt x="2582" y="15806"/>
                </a:moveTo>
                <a:cubicBezTo>
                  <a:pt x="2565" y="15802"/>
                  <a:pt x="2560" y="15801"/>
                  <a:pt x="2550" y="15797"/>
                </a:cubicBezTo>
                <a:cubicBezTo>
                  <a:pt x="2574" y="15764"/>
                  <a:pt x="2609" y="15762"/>
                  <a:pt x="2653" y="15755"/>
                </a:cubicBezTo>
                <a:cubicBezTo>
                  <a:pt x="2721" y="15745"/>
                  <a:pt x="2790" y="15743"/>
                  <a:pt x="2858" y="15742"/>
                </a:cubicBezTo>
                <a:cubicBezTo>
                  <a:pt x="2930" y="15741"/>
                  <a:pt x="2998" y="15742"/>
                  <a:pt x="3069" y="15734"/>
                </a:cubicBezTo>
              </a:path>
              <a:path w="838" h="612">
                <a:moveTo>
                  <a:pt x="3219" y="15943"/>
                </a:moveTo>
                <a:cubicBezTo>
                  <a:pt x="3178" y="16018"/>
                  <a:pt x="3141" y="16092"/>
                  <a:pt x="3108" y="16171"/>
                </a:cubicBezTo>
                <a:cubicBezTo>
                  <a:pt x="3094" y="16205"/>
                  <a:pt x="3062" y="16281"/>
                  <a:pt x="3113" y="16304"/>
                </a:cubicBezTo>
                <a:cubicBezTo>
                  <a:pt x="3159" y="16325"/>
                  <a:pt x="3228" y="16283"/>
                  <a:pt x="3263" y="16259"/>
                </a:cubicBezTo>
                <a:cubicBezTo>
                  <a:pt x="3310" y="16227"/>
                  <a:pt x="3360" y="16176"/>
                  <a:pt x="3381" y="16121"/>
                </a:cubicBezTo>
                <a:cubicBezTo>
                  <a:pt x="3395" y="16084"/>
                  <a:pt x="3390" y="16045"/>
                  <a:pt x="3354" y="16024"/>
                </a:cubicBezTo>
                <a:cubicBezTo>
                  <a:pt x="3322" y="16005"/>
                  <a:pt x="3277" y="15999"/>
                  <a:pt x="3242" y="15989"/>
                </a:cubicBezTo>
                <a:cubicBezTo>
                  <a:pt x="3235" y="15987"/>
                  <a:pt x="3228" y="15985"/>
                  <a:pt x="3221" y="15983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419120" y="5661000"/>
            <a:ext cx="462240" cy="246240"/>
          </a:xfrm>
          <a:custGeom>
            <a:avLst/>
            <a:gdLst/>
            <a:ahLst/>
            <a:rect l="l" t="t" r="r" b="b"/>
            <a:pathLst>
              <a:path w="1281" h="686">
                <a:moveTo>
                  <a:pt x="4126" y="15906"/>
                </a:moveTo>
                <a:cubicBezTo>
                  <a:pt x="4093" y="15904"/>
                  <a:pt x="4095" y="15908"/>
                  <a:pt x="4073" y="15926"/>
                </a:cubicBezTo>
                <a:cubicBezTo>
                  <a:pt x="4042" y="15951"/>
                  <a:pt x="4016" y="15987"/>
                  <a:pt x="3992" y="16020"/>
                </a:cubicBezTo>
                <a:cubicBezTo>
                  <a:pt x="3977" y="16041"/>
                  <a:pt x="3935" y="16091"/>
                  <a:pt x="3943" y="16120"/>
                </a:cubicBezTo>
                <a:cubicBezTo>
                  <a:pt x="3946" y="16123"/>
                  <a:pt x="3950" y="16127"/>
                  <a:pt x="3953" y="16130"/>
                </a:cubicBezTo>
                <a:cubicBezTo>
                  <a:pt x="4000" y="16131"/>
                  <a:pt x="4046" y="16121"/>
                  <a:pt x="4093" y="16121"/>
                </a:cubicBezTo>
                <a:cubicBezTo>
                  <a:pt x="4144" y="16121"/>
                  <a:pt x="4205" y="16127"/>
                  <a:pt x="4233" y="16176"/>
                </a:cubicBezTo>
                <a:cubicBezTo>
                  <a:pt x="4263" y="16228"/>
                  <a:pt x="4235" y="16287"/>
                  <a:pt x="4204" y="16330"/>
                </a:cubicBezTo>
                <a:cubicBezTo>
                  <a:pt x="4181" y="16362"/>
                  <a:pt x="4125" y="16419"/>
                  <a:pt x="4079" y="16408"/>
                </a:cubicBezTo>
                <a:cubicBezTo>
                  <a:pt x="4022" y="16394"/>
                  <a:pt x="4031" y="16309"/>
                  <a:pt x="4038" y="16268"/>
                </a:cubicBezTo>
                <a:cubicBezTo>
                  <a:pt x="4043" y="16248"/>
                  <a:pt x="4049" y="16228"/>
                  <a:pt x="4054" y="16208"/>
                </a:cubicBezTo>
              </a:path>
              <a:path w="1281" h="686">
                <a:moveTo>
                  <a:pt x="4245" y="15723"/>
                </a:moveTo>
                <a:cubicBezTo>
                  <a:pt x="4268" y="15775"/>
                  <a:pt x="4265" y="15839"/>
                  <a:pt x="4267" y="15897"/>
                </a:cubicBezTo>
                <a:cubicBezTo>
                  <a:pt x="4271" y="16001"/>
                  <a:pt x="4272" y="16106"/>
                  <a:pt x="4272" y="16210"/>
                </a:cubicBezTo>
                <a:cubicBezTo>
                  <a:pt x="4272" y="16255"/>
                  <a:pt x="4272" y="16300"/>
                  <a:pt x="4274" y="16345"/>
                </a:cubicBezTo>
                <a:cubicBezTo>
                  <a:pt x="4299" y="16303"/>
                  <a:pt x="4308" y="16252"/>
                  <a:pt x="4324" y="16205"/>
                </a:cubicBezTo>
                <a:cubicBezTo>
                  <a:pt x="4337" y="16166"/>
                  <a:pt x="4368" y="16039"/>
                  <a:pt x="4419" y="16028"/>
                </a:cubicBezTo>
                <a:cubicBezTo>
                  <a:pt x="4425" y="16030"/>
                  <a:pt x="4431" y="16032"/>
                  <a:pt x="4437" y="16034"/>
                </a:cubicBezTo>
                <a:cubicBezTo>
                  <a:pt x="4477" y="16104"/>
                  <a:pt x="4487" y="16186"/>
                  <a:pt x="4526" y="16257"/>
                </a:cubicBezTo>
                <a:cubicBezTo>
                  <a:pt x="4542" y="16279"/>
                  <a:pt x="4546" y="16286"/>
                  <a:pt x="4563" y="16293"/>
                </a:cubicBezTo>
              </a:path>
              <a:path w="1281" h="686">
                <a:moveTo>
                  <a:pt x="4680" y="16086"/>
                </a:moveTo>
                <a:cubicBezTo>
                  <a:pt x="4652" y="16111"/>
                  <a:pt x="4612" y="16145"/>
                  <a:pt x="4593" y="16177"/>
                </a:cubicBezTo>
                <a:cubicBezTo>
                  <a:pt x="4575" y="16208"/>
                  <a:pt x="4554" y="16265"/>
                  <a:pt x="4563" y="16301"/>
                </a:cubicBezTo>
                <a:cubicBezTo>
                  <a:pt x="4573" y="16342"/>
                  <a:pt x="4624" y="16319"/>
                  <a:pt x="4646" y="16306"/>
                </a:cubicBezTo>
                <a:cubicBezTo>
                  <a:pt x="4696" y="16275"/>
                  <a:pt x="4736" y="16226"/>
                  <a:pt x="4767" y="16177"/>
                </a:cubicBezTo>
                <a:cubicBezTo>
                  <a:pt x="4777" y="16162"/>
                  <a:pt x="4826" y="16087"/>
                  <a:pt x="4819" y="16068"/>
                </a:cubicBezTo>
                <a:cubicBezTo>
                  <a:pt x="4802" y="16058"/>
                  <a:pt x="4795" y="16058"/>
                  <a:pt x="4787" y="16078"/>
                </a:cubicBezTo>
              </a:path>
              <a:path w="1281" h="686">
                <a:moveTo>
                  <a:pt x="4827" y="16225"/>
                </a:moveTo>
                <a:cubicBezTo>
                  <a:pt x="4836" y="16250"/>
                  <a:pt x="4847" y="16290"/>
                  <a:pt x="4868" y="16308"/>
                </a:cubicBezTo>
                <a:cubicBezTo>
                  <a:pt x="4902" y="16337"/>
                  <a:pt x="4928" y="16310"/>
                  <a:pt x="4952" y="16283"/>
                </a:cubicBezTo>
                <a:cubicBezTo>
                  <a:pt x="4979" y="16253"/>
                  <a:pt x="4998" y="16216"/>
                  <a:pt x="5019" y="16182"/>
                </a:cubicBezTo>
                <a:cubicBezTo>
                  <a:pt x="5027" y="16170"/>
                  <a:pt x="5029" y="16166"/>
                  <a:pt x="5040" y="16170"/>
                </a:cubicBezTo>
                <a:cubicBezTo>
                  <a:pt x="5041" y="16199"/>
                  <a:pt x="5041" y="16228"/>
                  <a:pt x="5043" y="16257"/>
                </a:cubicBezTo>
                <a:cubicBezTo>
                  <a:pt x="5045" y="16276"/>
                  <a:pt x="5045" y="16281"/>
                  <a:pt x="5049" y="16292"/>
                </a:cubicBezTo>
                <a:cubicBezTo>
                  <a:pt x="5087" y="16279"/>
                  <a:pt x="5101" y="16254"/>
                  <a:pt x="5122" y="16218"/>
                </a:cubicBezTo>
                <a:cubicBezTo>
                  <a:pt x="5148" y="16173"/>
                  <a:pt x="5177" y="16132"/>
                  <a:pt x="5201" y="16086"/>
                </a:cubicBezTo>
                <a:cubicBezTo>
                  <a:pt x="5212" y="16065"/>
                  <a:pt x="5215" y="16059"/>
                  <a:pt x="5223" y="16046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203560" y="5684760"/>
            <a:ext cx="312480" cy="177840"/>
          </a:xfrm>
          <a:custGeom>
            <a:avLst/>
            <a:gdLst/>
            <a:ahLst/>
            <a:rect l="l" t="t" r="r" b="b"/>
            <a:pathLst>
              <a:path w="869" h="492">
                <a:moveTo>
                  <a:pt x="6134" y="15960"/>
                </a:moveTo>
                <a:cubicBezTo>
                  <a:pt x="6129" y="15949"/>
                  <a:pt x="6127" y="15945"/>
                  <a:pt x="6122" y="15938"/>
                </a:cubicBezTo>
                <a:cubicBezTo>
                  <a:pt x="6143" y="15971"/>
                  <a:pt x="6159" y="16006"/>
                  <a:pt x="6178" y="16040"/>
                </a:cubicBezTo>
                <a:cubicBezTo>
                  <a:pt x="6217" y="16110"/>
                  <a:pt x="6262" y="16173"/>
                  <a:pt x="6314" y="16233"/>
                </a:cubicBezTo>
                <a:cubicBezTo>
                  <a:pt x="6352" y="16277"/>
                  <a:pt x="6371" y="16295"/>
                  <a:pt x="6421" y="16267"/>
                </a:cubicBezTo>
              </a:path>
              <a:path w="869" h="492">
                <a:moveTo>
                  <a:pt x="6431" y="15865"/>
                </a:moveTo>
                <a:cubicBezTo>
                  <a:pt x="6423" y="15848"/>
                  <a:pt x="6424" y="15843"/>
                  <a:pt x="6412" y="15840"/>
                </a:cubicBezTo>
                <a:cubicBezTo>
                  <a:pt x="6375" y="15879"/>
                  <a:pt x="6357" y="15926"/>
                  <a:pt x="6334" y="15975"/>
                </a:cubicBezTo>
                <a:cubicBezTo>
                  <a:pt x="6298" y="16053"/>
                  <a:pt x="6266" y="16133"/>
                  <a:pt x="6231" y="16211"/>
                </a:cubicBezTo>
                <a:cubicBezTo>
                  <a:pt x="6216" y="16245"/>
                  <a:pt x="6182" y="16276"/>
                  <a:pt x="6226" y="16253"/>
                </a:cubicBezTo>
              </a:path>
              <a:path w="869" h="492">
                <a:moveTo>
                  <a:pt x="6825" y="15818"/>
                </a:moveTo>
                <a:cubicBezTo>
                  <a:pt x="6832" y="15803"/>
                  <a:pt x="6836" y="15798"/>
                  <a:pt x="6822" y="15793"/>
                </a:cubicBezTo>
                <a:cubicBezTo>
                  <a:pt x="6780" y="15819"/>
                  <a:pt x="6749" y="15861"/>
                  <a:pt x="6719" y="15903"/>
                </a:cubicBezTo>
                <a:cubicBezTo>
                  <a:pt x="6679" y="15957"/>
                  <a:pt x="6638" y="16019"/>
                  <a:pt x="6626" y="16087"/>
                </a:cubicBezTo>
                <a:cubicBezTo>
                  <a:pt x="6616" y="16145"/>
                  <a:pt x="6666" y="16145"/>
                  <a:pt x="6708" y="16139"/>
                </a:cubicBezTo>
                <a:cubicBezTo>
                  <a:pt x="6773" y="16130"/>
                  <a:pt x="6828" y="16108"/>
                  <a:pt x="6885" y="16079"/>
                </a:cubicBezTo>
              </a:path>
              <a:path w="869" h="492">
                <a:moveTo>
                  <a:pt x="6781" y="16052"/>
                </a:moveTo>
                <a:cubicBezTo>
                  <a:pt x="6759" y="16060"/>
                  <a:pt x="6751" y="16067"/>
                  <a:pt x="6732" y="16061"/>
                </a:cubicBezTo>
                <a:cubicBezTo>
                  <a:pt x="6770" y="16051"/>
                  <a:pt x="6807" y="16035"/>
                  <a:pt x="6846" y="16023"/>
                </a:cubicBezTo>
                <a:cubicBezTo>
                  <a:pt x="6894" y="16008"/>
                  <a:pt x="6942" y="15990"/>
                  <a:pt x="6990" y="15974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664000" y="5657760"/>
            <a:ext cx="104760" cy="187560"/>
          </a:xfrm>
          <a:custGeom>
            <a:avLst/>
            <a:gdLst/>
            <a:ahLst/>
            <a:rect l="l" t="t" r="r" b="b"/>
            <a:pathLst>
              <a:path w="292" h="519">
                <a:moveTo>
                  <a:pt x="7403" y="15795"/>
                </a:moveTo>
                <a:cubicBezTo>
                  <a:pt x="7414" y="15781"/>
                  <a:pt x="7436" y="15759"/>
                  <a:pt x="7442" y="15744"/>
                </a:cubicBezTo>
                <a:cubicBezTo>
                  <a:pt x="7448" y="15730"/>
                  <a:pt x="7445" y="15728"/>
                  <a:pt x="7449" y="15718"/>
                </a:cubicBezTo>
                <a:cubicBezTo>
                  <a:pt x="7439" y="15762"/>
                  <a:pt x="7431" y="15805"/>
                  <a:pt x="7425" y="15849"/>
                </a:cubicBezTo>
                <a:cubicBezTo>
                  <a:pt x="7414" y="15925"/>
                  <a:pt x="7407" y="16001"/>
                  <a:pt x="7403" y="16077"/>
                </a:cubicBezTo>
                <a:cubicBezTo>
                  <a:pt x="7401" y="16118"/>
                  <a:pt x="7389" y="16182"/>
                  <a:pt x="7411" y="16221"/>
                </a:cubicBezTo>
                <a:cubicBezTo>
                  <a:pt x="7428" y="16250"/>
                  <a:pt x="7476" y="16231"/>
                  <a:pt x="7499" y="16225"/>
                </a:cubicBezTo>
                <a:cubicBezTo>
                  <a:pt x="7555" y="16210"/>
                  <a:pt x="7607" y="16190"/>
                  <a:pt x="7659" y="16167"/>
                </a:cubicBezTo>
                <a:cubicBezTo>
                  <a:pt x="7676" y="16162"/>
                  <a:pt x="7680" y="16160"/>
                  <a:pt x="7691" y="16157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2995560" y="5718240"/>
            <a:ext cx="241200" cy="171360"/>
          </a:xfrm>
          <a:custGeom>
            <a:avLst/>
            <a:gdLst/>
            <a:ahLst/>
            <a:rect l="l" t="t" r="r" b="b"/>
            <a:pathLst>
              <a:path w="669" h="474">
                <a:moveTo>
                  <a:pt x="8336" y="16021"/>
                </a:moveTo>
                <a:cubicBezTo>
                  <a:pt x="8331" y="16020"/>
                  <a:pt x="8327" y="16019"/>
                  <a:pt x="8322" y="16018"/>
                </a:cubicBezTo>
                <a:cubicBezTo>
                  <a:pt x="8348" y="15995"/>
                  <a:pt x="8378" y="16001"/>
                  <a:pt x="8415" y="16000"/>
                </a:cubicBezTo>
                <a:cubicBezTo>
                  <a:pt x="8480" y="15999"/>
                  <a:pt x="8545" y="16004"/>
                  <a:pt x="8610" y="16006"/>
                </a:cubicBezTo>
                <a:cubicBezTo>
                  <a:pt x="8658" y="16007"/>
                  <a:pt x="8704" y="16013"/>
                  <a:pt x="8751" y="16019"/>
                </a:cubicBezTo>
              </a:path>
              <a:path w="669" h="474">
                <a:moveTo>
                  <a:pt x="8406" y="16076"/>
                </a:moveTo>
                <a:cubicBezTo>
                  <a:pt x="8392" y="16084"/>
                  <a:pt x="8387" y="16085"/>
                  <a:pt x="8389" y="16097"/>
                </a:cubicBezTo>
                <a:cubicBezTo>
                  <a:pt x="8415" y="16120"/>
                  <a:pt x="8463" y="16126"/>
                  <a:pt x="8498" y="16135"/>
                </a:cubicBezTo>
                <a:cubicBezTo>
                  <a:pt x="8563" y="16152"/>
                  <a:pt x="8626" y="16151"/>
                  <a:pt x="8692" y="16147"/>
                </a:cubicBezTo>
              </a:path>
              <a:path w="669" h="474">
                <a:moveTo>
                  <a:pt x="8652" y="15886"/>
                </a:moveTo>
                <a:cubicBezTo>
                  <a:pt x="8694" y="15887"/>
                  <a:pt x="8739" y="15901"/>
                  <a:pt x="8780" y="15913"/>
                </a:cubicBezTo>
                <a:cubicBezTo>
                  <a:pt x="8840" y="15931"/>
                  <a:pt x="8911" y="15948"/>
                  <a:pt x="8956" y="15995"/>
                </a:cubicBezTo>
                <a:cubicBezTo>
                  <a:pt x="8999" y="16039"/>
                  <a:pt x="8996" y="16088"/>
                  <a:pt x="8973" y="16141"/>
                </a:cubicBezTo>
                <a:cubicBezTo>
                  <a:pt x="8945" y="16205"/>
                  <a:pt x="8894" y="16255"/>
                  <a:pt x="8840" y="16298"/>
                </a:cubicBezTo>
                <a:cubicBezTo>
                  <a:pt x="8809" y="16323"/>
                  <a:pt x="8780" y="16347"/>
                  <a:pt x="8742" y="16357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425760" y="5751360"/>
            <a:ext cx="596880" cy="168480"/>
          </a:xfrm>
          <a:custGeom>
            <a:avLst/>
            <a:gdLst/>
            <a:ahLst/>
            <a:rect l="l" t="t" r="r" b="b"/>
            <a:pathLst>
              <a:path w="1658" h="469">
                <a:moveTo>
                  <a:pt x="9519" y="15991"/>
                </a:moveTo>
                <a:cubicBezTo>
                  <a:pt x="9518" y="15986"/>
                  <a:pt x="9517" y="15981"/>
                  <a:pt x="9516" y="15976"/>
                </a:cubicBezTo>
                <a:cubicBezTo>
                  <a:pt x="9545" y="15998"/>
                  <a:pt x="9557" y="16038"/>
                  <a:pt x="9575" y="16070"/>
                </a:cubicBezTo>
                <a:cubicBezTo>
                  <a:pt x="9617" y="16147"/>
                  <a:pt x="9662" y="16223"/>
                  <a:pt x="9707" y="16299"/>
                </a:cubicBezTo>
                <a:cubicBezTo>
                  <a:pt x="9729" y="16335"/>
                  <a:pt x="9765" y="16419"/>
                  <a:pt x="9812" y="16427"/>
                </a:cubicBezTo>
                <a:cubicBezTo>
                  <a:pt x="9829" y="16423"/>
                  <a:pt x="9835" y="16421"/>
                  <a:pt x="9835" y="16405"/>
                </a:cubicBezTo>
              </a:path>
              <a:path w="1658" h="469">
                <a:moveTo>
                  <a:pt x="9782" y="15989"/>
                </a:moveTo>
                <a:cubicBezTo>
                  <a:pt x="9745" y="15977"/>
                  <a:pt x="9747" y="16006"/>
                  <a:pt x="9732" y="16036"/>
                </a:cubicBezTo>
                <a:cubicBezTo>
                  <a:pt x="9700" y="16101"/>
                  <a:pt x="9674" y="16172"/>
                  <a:pt x="9654" y="16242"/>
                </a:cubicBezTo>
                <a:cubicBezTo>
                  <a:pt x="9652" y="16250"/>
                  <a:pt x="9602" y="16392"/>
                  <a:pt x="9612" y="16398"/>
                </a:cubicBezTo>
                <a:cubicBezTo>
                  <a:pt x="9618" y="16395"/>
                  <a:pt x="9624" y="16391"/>
                  <a:pt x="9630" y="16388"/>
                </a:cubicBezTo>
              </a:path>
              <a:path w="1658" h="469">
                <a:moveTo>
                  <a:pt x="10352" y="16054"/>
                </a:moveTo>
                <a:cubicBezTo>
                  <a:pt x="10353" y="16039"/>
                  <a:pt x="10355" y="16021"/>
                  <a:pt x="10351" y="16006"/>
                </a:cubicBezTo>
                <a:cubicBezTo>
                  <a:pt x="10341" y="15971"/>
                  <a:pt x="10305" y="15991"/>
                  <a:pt x="10287" y="16005"/>
                </a:cubicBezTo>
                <a:cubicBezTo>
                  <a:pt x="10245" y="16037"/>
                  <a:pt x="10212" y="16077"/>
                  <a:pt x="10188" y="16124"/>
                </a:cubicBezTo>
                <a:cubicBezTo>
                  <a:pt x="10167" y="16165"/>
                  <a:pt x="10145" y="16222"/>
                  <a:pt x="10173" y="16266"/>
                </a:cubicBezTo>
                <a:cubicBezTo>
                  <a:pt x="10202" y="16311"/>
                  <a:pt x="10280" y="16310"/>
                  <a:pt x="10326" y="16312"/>
                </a:cubicBezTo>
                <a:cubicBezTo>
                  <a:pt x="10383" y="16314"/>
                  <a:pt x="10431" y="16296"/>
                  <a:pt x="10480" y="16271"/>
                </a:cubicBezTo>
              </a:path>
              <a:path w="1658" h="469">
                <a:moveTo>
                  <a:pt x="10228" y="16180"/>
                </a:moveTo>
                <a:cubicBezTo>
                  <a:pt x="10254" y="16161"/>
                  <a:pt x="10297" y="16161"/>
                  <a:pt x="10330" y="16158"/>
                </a:cubicBezTo>
                <a:cubicBezTo>
                  <a:pt x="10397" y="16152"/>
                  <a:pt x="10463" y="16143"/>
                  <a:pt x="10529" y="16134"/>
                </a:cubicBezTo>
              </a:path>
              <a:path w="1658" h="469">
                <a:moveTo>
                  <a:pt x="10780" y="16173"/>
                </a:moveTo>
                <a:cubicBezTo>
                  <a:pt x="10787" y="16248"/>
                  <a:pt x="10796" y="16323"/>
                  <a:pt x="10811" y="16397"/>
                </a:cubicBezTo>
                <a:cubicBezTo>
                  <a:pt x="10818" y="16423"/>
                  <a:pt x="10820" y="16428"/>
                  <a:pt x="10822" y="16444"/>
                </a:cubicBezTo>
                <a:cubicBezTo>
                  <a:pt x="10822" y="16393"/>
                  <a:pt x="10816" y="16341"/>
                  <a:pt x="10817" y="16290"/>
                </a:cubicBezTo>
                <a:cubicBezTo>
                  <a:pt x="10819" y="16210"/>
                  <a:pt x="10825" y="16114"/>
                  <a:pt x="10863" y="16042"/>
                </a:cubicBezTo>
                <a:cubicBezTo>
                  <a:pt x="10879" y="16011"/>
                  <a:pt x="10894" y="16002"/>
                  <a:pt x="10923" y="15989"/>
                </a:cubicBezTo>
                <a:cubicBezTo>
                  <a:pt x="10952" y="15998"/>
                  <a:pt x="10962" y="16010"/>
                  <a:pt x="10949" y="16043"/>
                </a:cubicBezTo>
                <a:cubicBezTo>
                  <a:pt x="10928" y="16094"/>
                  <a:pt x="10878" y="16134"/>
                  <a:pt x="10838" y="16170"/>
                </a:cubicBezTo>
                <a:cubicBezTo>
                  <a:pt x="10803" y="16201"/>
                  <a:pt x="10771" y="16222"/>
                  <a:pt x="10754" y="16266"/>
                </a:cubicBezTo>
                <a:cubicBezTo>
                  <a:pt x="10794" y="16289"/>
                  <a:pt x="10841" y="16289"/>
                  <a:pt x="10887" y="16294"/>
                </a:cubicBezTo>
                <a:cubicBezTo>
                  <a:pt x="10961" y="16301"/>
                  <a:pt x="11035" y="16313"/>
                  <a:pt x="11107" y="16329"/>
                </a:cubicBezTo>
                <a:cubicBezTo>
                  <a:pt x="11143" y="16338"/>
                  <a:pt x="11152" y="16340"/>
                  <a:pt x="11173" y="16351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262240" y="6021360"/>
            <a:ext cx="450720" cy="201600"/>
          </a:xfrm>
          <a:custGeom>
            <a:avLst/>
            <a:gdLst/>
            <a:ahLst/>
            <a:rect l="l" t="t" r="r" b="b"/>
            <a:pathLst>
              <a:path w="1249" h="561">
                <a:moveTo>
                  <a:pt x="6286" y="16993"/>
                </a:moveTo>
                <a:cubicBezTo>
                  <a:pt x="6289" y="16987"/>
                  <a:pt x="6291" y="16981"/>
                  <a:pt x="6294" y="16975"/>
                </a:cubicBezTo>
                <a:cubicBezTo>
                  <a:pt x="6317" y="17006"/>
                  <a:pt x="6336" y="17039"/>
                  <a:pt x="6356" y="17073"/>
                </a:cubicBezTo>
                <a:cubicBezTo>
                  <a:pt x="6390" y="17129"/>
                  <a:pt x="6419" y="17192"/>
                  <a:pt x="6461" y="17243"/>
                </a:cubicBezTo>
                <a:cubicBezTo>
                  <a:pt x="6490" y="17278"/>
                  <a:pt x="6508" y="17296"/>
                  <a:pt x="6545" y="17273"/>
                </a:cubicBezTo>
              </a:path>
              <a:path w="1249" h="561">
                <a:moveTo>
                  <a:pt x="6536" y="16945"/>
                </a:moveTo>
                <a:cubicBezTo>
                  <a:pt x="6499" y="16966"/>
                  <a:pt x="6490" y="16994"/>
                  <a:pt x="6467" y="17029"/>
                </a:cubicBezTo>
                <a:cubicBezTo>
                  <a:pt x="6430" y="17086"/>
                  <a:pt x="6391" y="17143"/>
                  <a:pt x="6358" y="17203"/>
                </a:cubicBezTo>
                <a:cubicBezTo>
                  <a:pt x="6354" y="17210"/>
                  <a:pt x="6288" y="17324"/>
                  <a:pt x="6326" y="17254"/>
                </a:cubicBezTo>
              </a:path>
              <a:path w="1249" h="561">
                <a:moveTo>
                  <a:pt x="6785" y="16885"/>
                </a:moveTo>
                <a:cubicBezTo>
                  <a:pt x="6768" y="16914"/>
                  <a:pt x="6746" y="16947"/>
                  <a:pt x="6727" y="16974"/>
                </a:cubicBezTo>
                <a:cubicBezTo>
                  <a:pt x="6695" y="17018"/>
                  <a:pt x="6667" y="17058"/>
                  <a:pt x="6660" y="17115"/>
                </a:cubicBezTo>
                <a:cubicBezTo>
                  <a:pt x="6655" y="17153"/>
                  <a:pt x="6682" y="17171"/>
                  <a:pt x="6718" y="17172"/>
                </a:cubicBezTo>
                <a:cubicBezTo>
                  <a:pt x="6748" y="17173"/>
                  <a:pt x="6774" y="17162"/>
                  <a:pt x="6801" y="17152"/>
                </a:cubicBezTo>
              </a:path>
              <a:path w="1249" h="561">
                <a:moveTo>
                  <a:pt x="6649" y="17051"/>
                </a:moveTo>
                <a:cubicBezTo>
                  <a:pt x="6689" y="17028"/>
                  <a:pt x="6736" y="17012"/>
                  <a:pt x="6780" y="16997"/>
                </a:cubicBezTo>
                <a:cubicBezTo>
                  <a:pt x="6832" y="16980"/>
                  <a:pt x="6878" y="16961"/>
                  <a:pt x="6927" y="16938"/>
                </a:cubicBezTo>
              </a:path>
              <a:path w="1249" h="561">
                <a:moveTo>
                  <a:pt x="7073" y="16840"/>
                </a:moveTo>
                <a:cubicBezTo>
                  <a:pt x="7080" y="16902"/>
                  <a:pt x="7081" y="16965"/>
                  <a:pt x="7088" y="17026"/>
                </a:cubicBezTo>
                <a:cubicBezTo>
                  <a:pt x="7096" y="17096"/>
                  <a:pt x="7107" y="17166"/>
                  <a:pt x="7114" y="17237"/>
                </a:cubicBezTo>
                <a:cubicBezTo>
                  <a:pt x="7116" y="17260"/>
                  <a:pt x="7118" y="17263"/>
                  <a:pt x="7116" y="17276"/>
                </a:cubicBezTo>
                <a:cubicBezTo>
                  <a:pt x="7103" y="17223"/>
                  <a:pt x="7100" y="17171"/>
                  <a:pt x="7101" y="17116"/>
                </a:cubicBezTo>
                <a:cubicBezTo>
                  <a:pt x="7102" y="17031"/>
                  <a:pt x="7111" y="16939"/>
                  <a:pt x="7138" y="16858"/>
                </a:cubicBezTo>
                <a:cubicBezTo>
                  <a:pt x="7154" y="16812"/>
                  <a:pt x="7185" y="16737"/>
                  <a:pt x="7240" y="16727"/>
                </a:cubicBezTo>
                <a:cubicBezTo>
                  <a:pt x="7248" y="16728"/>
                  <a:pt x="7255" y="16730"/>
                  <a:pt x="7263" y="16731"/>
                </a:cubicBezTo>
                <a:cubicBezTo>
                  <a:pt x="7296" y="16770"/>
                  <a:pt x="7304" y="16805"/>
                  <a:pt x="7293" y="16859"/>
                </a:cubicBezTo>
                <a:cubicBezTo>
                  <a:pt x="7278" y="16929"/>
                  <a:pt x="7231" y="16986"/>
                  <a:pt x="7182" y="17036"/>
                </a:cubicBezTo>
                <a:cubicBezTo>
                  <a:pt x="7155" y="17064"/>
                  <a:pt x="7154" y="17064"/>
                  <a:pt x="7152" y="17093"/>
                </a:cubicBezTo>
                <a:cubicBezTo>
                  <a:pt x="7200" y="17132"/>
                  <a:pt x="7259" y="17143"/>
                  <a:pt x="7320" y="17151"/>
                </a:cubicBezTo>
                <a:cubicBezTo>
                  <a:pt x="7397" y="17162"/>
                  <a:pt x="7461" y="17144"/>
                  <a:pt x="7534" y="17122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841480" y="6068880"/>
            <a:ext cx="282600" cy="182520"/>
          </a:xfrm>
          <a:custGeom>
            <a:avLst/>
            <a:gdLst/>
            <a:ahLst/>
            <a:rect l="l" t="t" r="r" b="b"/>
            <a:pathLst>
              <a:path w="783" h="506">
                <a:moveTo>
                  <a:pt x="7916" y="17024"/>
                </a:moveTo>
                <a:cubicBezTo>
                  <a:pt x="7903" y="17015"/>
                  <a:pt x="7898" y="17013"/>
                  <a:pt x="7895" y="17003"/>
                </a:cubicBezTo>
                <a:cubicBezTo>
                  <a:pt x="7927" y="16979"/>
                  <a:pt x="7978" y="16979"/>
                  <a:pt x="8021" y="16981"/>
                </a:cubicBezTo>
                <a:cubicBezTo>
                  <a:pt x="8095" y="16984"/>
                  <a:pt x="8168" y="16989"/>
                  <a:pt x="8242" y="16995"/>
                </a:cubicBezTo>
                <a:cubicBezTo>
                  <a:pt x="8280" y="16998"/>
                  <a:pt x="8289" y="16998"/>
                  <a:pt x="8312" y="17004"/>
                </a:cubicBezTo>
              </a:path>
              <a:path w="783" h="506">
                <a:moveTo>
                  <a:pt x="8047" y="17137"/>
                </a:moveTo>
                <a:cubicBezTo>
                  <a:pt x="8030" y="17150"/>
                  <a:pt x="8024" y="17151"/>
                  <a:pt x="8022" y="17165"/>
                </a:cubicBezTo>
                <a:cubicBezTo>
                  <a:pt x="8056" y="17173"/>
                  <a:pt x="8111" y="17157"/>
                  <a:pt x="8147" y="17150"/>
                </a:cubicBezTo>
                <a:cubicBezTo>
                  <a:pt x="8226" y="17134"/>
                  <a:pt x="8291" y="17100"/>
                  <a:pt x="8359" y="17059"/>
                </a:cubicBezTo>
              </a:path>
              <a:path w="783" h="506">
                <a:moveTo>
                  <a:pt x="8317" y="16862"/>
                </a:moveTo>
                <a:cubicBezTo>
                  <a:pt x="8342" y="16883"/>
                  <a:pt x="8351" y="16882"/>
                  <a:pt x="8381" y="16895"/>
                </a:cubicBezTo>
                <a:cubicBezTo>
                  <a:pt x="8446" y="16924"/>
                  <a:pt x="8516" y="16948"/>
                  <a:pt x="8575" y="16989"/>
                </a:cubicBezTo>
                <a:cubicBezTo>
                  <a:pt x="8627" y="17026"/>
                  <a:pt x="8678" y="17075"/>
                  <a:pt x="8677" y="17144"/>
                </a:cubicBezTo>
                <a:cubicBezTo>
                  <a:pt x="8676" y="17205"/>
                  <a:pt x="8622" y="17267"/>
                  <a:pt x="8580" y="17306"/>
                </a:cubicBezTo>
                <a:cubicBezTo>
                  <a:pt x="8558" y="17326"/>
                  <a:pt x="8504" y="17379"/>
                  <a:pt x="8469" y="17359"/>
                </a:cubicBezTo>
                <a:cubicBezTo>
                  <a:pt x="8458" y="17344"/>
                  <a:pt x="8454" y="17339"/>
                  <a:pt x="8456" y="17326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446640" y="6040440"/>
            <a:ext cx="520560" cy="222120"/>
          </a:xfrm>
          <a:custGeom>
            <a:avLst/>
            <a:gdLst/>
            <a:ahLst/>
            <a:rect l="l" t="t" r="r" b="b"/>
            <a:pathLst>
              <a:path w="1448" h="614">
                <a:moveTo>
                  <a:pt x="9581" y="16986"/>
                </a:moveTo>
                <a:cubicBezTo>
                  <a:pt x="9577" y="16971"/>
                  <a:pt x="9576" y="16967"/>
                  <a:pt x="9572" y="16958"/>
                </a:cubicBezTo>
                <a:cubicBezTo>
                  <a:pt x="9600" y="16989"/>
                  <a:pt x="9621" y="17028"/>
                  <a:pt x="9643" y="17064"/>
                </a:cubicBezTo>
                <a:cubicBezTo>
                  <a:pt x="9693" y="17144"/>
                  <a:pt x="9741" y="17225"/>
                  <a:pt x="9802" y="17297"/>
                </a:cubicBezTo>
                <a:cubicBezTo>
                  <a:pt x="9840" y="17342"/>
                  <a:pt x="9892" y="17402"/>
                  <a:pt x="9957" y="17394"/>
                </a:cubicBezTo>
                <a:cubicBezTo>
                  <a:pt x="9966" y="17390"/>
                  <a:pt x="9976" y="17387"/>
                  <a:pt x="9985" y="17383"/>
                </a:cubicBezTo>
              </a:path>
              <a:path w="1448" h="614">
                <a:moveTo>
                  <a:pt x="9963" y="17035"/>
                </a:moveTo>
                <a:cubicBezTo>
                  <a:pt x="9907" y="17016"/>
                  <a:pt x="9893" y="17027"/>
                  <a:pt x="9847" y="17064"/>
                </a:cubicBezTo>
                <a:cubicBezTo>
                  <a:pt x="9791" y="17110"/>
                  <a:pt x="9752" y="17167"/>
                  <a:pt x="9723" y="17234"/>
                </a:cubicBezTo>
                <a:cubicBezTo>
                  <a:pt x="9710" y="17264"/>
                  <a:pt x="9702" y="17292"/>
                  <a:pt x="9699" y="17323"/>
                </a:cubicBezTo>
                <a:cubicBezTo>
                  <a:pt x="9731" y="17318"/>
                  <a:pt x="9747" y="17303"/>
                  <a:pt x="9776" y="17283"/>
                </a:cubicBezTo>
              </a:path>
              <a:path w="1448" h="614">
                <a:moveTo>
                  <a:pt x="10364" y="16908"/>
                </a:moveTo>
                <a:cubicBezTo>
                  <a:pt x="10345" y="16878"/>
                  <a:pt x="10325" y="16895"/>
                  <a:pt x="10299" y="16910"/>
                </a:cubicBezTo>
                <a:cubicBezTo>
                  <a:pt x="10249" y="16939"/>
                  <a:pt x="10204" y="16979"/>
                  <a:pt x="10170" y="17027"/>
                </a:cubicBezTo>
                <a:cubicBezTo>
                  <a:pt x="10145" y="17062"/>
                  <a:pt x="10108" y="17123"/>
                  <a:pt x="10127" y="17168"/>
                </a:cubicBezTo>
                <a:cubicBezTo>
                  <a:pt x="10147" y="17215"/>
                  <a:pt x="10207" y="17209"/>
                  <a:pt x="10246" y="17208"/>
                </a:cubicBezTo>
                <a:cubicBezTo>
                  <a:pt x="10287" y="17207"/>
                  <a:pt x="10333" y="17199"/>
                  <a:pt x="10365" y="17170"/>
                </a:cubicBezTo>
                <a:cubicBezTo>
                  <a:pt x="10368" y="17165"/>
                  <a:pt x="10372" y="17161"/>
                  <a:pt x="10375" y="17156"/>
                </a:cubicBezTo>
              </a:path>
              <a:path w="1448" h="614">
                <a:moveTo>
                  <a:pt x="10250" y="17093"/>
                </a:moveTo>
                <a:cubicBezTo>
                  <a:pt x="10231" y="17092"/>
                  <a:pt x="10214" y="17091"/>
                  <a:pt x="10195" y="17093"/>
                </a:cubicBezTo>
                <a:cubicBezTo>
                  <a:pt x="10233" y="17103"/>
                  <a:pt x="10278" y="17096"/>
                  <a:pt x="10319" y="17092"/>
                </a:cubicBezTo>
                <a:cubicBezTo>
                  <a:pt x="10391" y="17085"/>
                  <a:pt x="10460" y="17062"/>
                  <a:pt x="10529" y="17039"/>
                </a:cubicBezTo>
              </a:path>
              <a:path w="1448" h="614">
                <a:moveTo>
                  <a:pt x="10754" y="16807"/>
                </a:moveTo>
                <a:cubicBezTo>
                  <a:pt x="10740" y="16793"/>
                  <a:pt x="10734" y="16787"/>
                  <a:pt x="10716" y="16781"/>
                </a:cubicBezTo>
                <a:cubicBezTo>
                  <a:pt x="10688" y="16800"/>
                  <a:pt x="10686" y="16846"/>
                  <a:pt x="10679" y="16884"/>
                </a:cubicBezTo>
                <a:cubicBezTo>
                  <a:pt x="10666" y="16960"/>
                  <a:pt x="10656" y="17035"/>
                  <a:pt x="10649" y="17112"/>
                </a:cubicBezTo>
                <a:cubicBezTo>
                  <a:pt x="10645" y="17155"/>
                  <a:pt x="10629" y="17229"/>
                  <a:pt x="10668" y="17263"/>
                </a:cubicBezTo>
                <a:cubicBezTo>
                  <a:pt x="10702" y="17292"/>
                  <a:pt x="10769" y="17260"/>
                  <a:pt x="10802" y="17247"/>
                </a:cubicBezTo>
                <a:cubicBezTo>
                  <a:pt x="10855" y="17226"/>
                  <a:pt x="10904" y="17197"/>
                  <a:pt x="10956" y="17175"/>
                </a:cubicBezTo>
                <a:cubicBezTo>
                  <a:pt x="10988" y="17161"/>
                  <a:pt x="11006" y="17160"/>
                  <a:pt x="11019" y="17127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141800" y="6222960"/>
            <a:ext cx="7920" cy="20520"/>
          </a:xfrm>
          <a:custGeom>
            <a:avLst/>
            <a:gdLst/>
            <a:ahLst/>
            <a:rect l="l" t="t" r="r" b="b"/>
            <a:pathLst>
              <a:path w="20" h="55">
                <a:moveTo>
                  <a:pt x="11521" y="17342"/>
                </a:moveTo>
                <a:cubicBezTo>
                  <a:pt x="11520" y="17324"/>
                  <a:pt x="11510" y="17310"/>
                  <a:pt x="11506" y="17288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015920" y="4094280"/>
            <a:ext cx="373320" cy="222120"/>
          </a:xfrm>
          <a:custGeom>
            <a:avLst/>
            <a:gdLst/>
            <a:ahLst/>
            <a:rect l="l" t="t" r="r" b="b"/>
            <a:pathLst>
              <a:path w="1035" h="621">
                <a:moveTo>
                  <a:pt x="3400" y="11491"/>
                </a:moveTo>
                <a:cubicBezTo>
                  <a:pt x="3391" y="11466"/>
                  <a:pt x="3383" y="11442"/>
                  <a:pt x="3372" y="11418"/>
                </a:cubicBezTo>
                <a:cubicBezTo>
                  <a:pt x="3370" y="11414"/>
                  <a:pt x="3368" y="11410"/>
                  <a:pt x="3366" y="11406"/>
                </a:cubicBezTo>
                <a:cubicBezTo>
                  <a:pt x="3372" y="11446"/>
                  <a:pt x="3374" y="11480"/>
                  <a:pt x="3371" y="11521"/>
                </a:cubicBezTo>
                <a:cubicBezTo>
                  <a:pt x="3370" y="11537"/>
                  <a:pt x="3367" y="11554"/>
                  <a:pt x="3367" y="11570"/>
                </a:cubicBezTo>
                <a:cubicBezTo>
                  <a:pt x="3367" y="11589"/>
                  <a:pt x="3368" y="11608"/>
                  <a:pt x="3370" y="11627"/>
                </a:cubicBezTo>
                <a:cubicBezTo>
                  <a:pt x="3373" y="11658"/>
                  <a:pt x="3375" y="11690"/>
                  <a:pt x="3378" y="11721"/>
                </a:cubicBezTo>
                <a:cubicBezTo>
                  <a:pt x="3382" y="11764"/>
                  <a:pt x="3389" y="11808"/>
                  <a:pt x="3406" y="11848"/>
                </a:cubicBezTo>
                <a:cubicBezTo>
                  <a:pt x="3424" y="11889"/>
                  <a:pt x="3451" y="11920"/>
                  <a:pt x="3484" y="11950"/>
                </a:cubicBezTo>
                <a:cubicBezTo>
                  <a:pt x="3513" y="11976"/>
                  <a:pt x="3547" y="11990"/>
                  <a:pt x="3586" y="11991"/>
                </a:cubicBezTo>
                <a:cubicBezTo>
                  <a:pt x="3615" y="11992"/>
                  <a:pt x="3647" y="11984"/>
                  <a:pt x="3674" y="11972"/>
                </a:cubicBezTo>
                <a:cubicBezTo>
                  <a:pt x="3706" y="11958"/>
                  <a:pt x="3737" y="11928"/>
                  <a:pt x="3758" y="11900"/>
                </a:cubicBezTo>
                <a:cubicBezTo>
                  <a:pt x="3808" y="11835"/>
                  <a:pt x="3836" y="11746"/>
                  <a:pt x="3851" y="11666"/>
                </a:cubicBezTo>
                <a:cubicBezTo>
                  <a:pt x="3860" y="11618"/>
                  <a:pt x="3860" y="11565"/>
                  <a:pt x="3856" y="11516"/>
                </a:cubicBezTo>
                <a:cubicBezTo>
                  <a:pt x="3854" y="11494"/>
                  <a:pt x="3853" y="11462"/>
                  <a:pt x="3837" y="11444"/>
                </a:cubicBezTo>
                <a:cubicBezTo>
                  <a:pt x="3838" y="11448"/>
                  <a:pt x="3839" y="11451"/>
                  <a:pt x="3840" y="11455"/>
                </a:cubicBezTo>
              </a:path>
              <a:path w="1035" h="621">
                <a:moveTo>
                  <a:pt x="2889" y="11831"/>
                </a:moveTo>
                <a:cubicBezTo>
                  <a:pt x="2873" y="11866"/>
                  <a:pt x="2855" y="11898"/>
                  <a:pt x="2837" y="11930"/>
                </a:cubicBezTo>
                <a:cubicBezTo>
                  <a:pt x="2835" y="11936"/>
                  <a:pt x="2832" y="11941"/>
                  <a:pt x="2830" y="11947"/>
                </a:cubicBezTo>
                <a:cubicBezTo>
                  <a:pt x="2834" y="11915"/>
                  <a:pt x="2845" y="11875"/>
                  <a:pt x="2857" y="11839"/>
                </a:cubicBezTo>
                <a:cubicBezTo>
                  <a:pt x="2886" y="11749"/>
                  <a:pt x="2916" y="11659"/>
                  <a:pt x="2946" y="11569"/>
                </a:cubicBezTo>
                <a:cubicBezTo>
                  <a:pt x="2965" y="11513"/>
                  <a:pt x="2979" y="11416"/>
                  <a:pt x="3022" y="11371"/>
                </a:cubicBezTo>
                <a:cubicBezTo>
                  <a:pt x="3026" y="11371"/>
                  <a:pt x="3029" y="11371"/>
                  <a:pt x="3033" y="11371"/>
                </a:cubicBezTo>
                <a:cubicBezTo>
                  <a:pt x="3047" y="11448"/>
                  <a:pt x="3047" y="11526"/>
                  <a:pt x="3053" y="11604"/>
                </a:cubicBezTo>
                <a:cubicBezTo>
                  <a:pt x="3061" y="11707"/>
                  <a:pt x="3071" y="11810"/>
                  <a:pt x="3080" y="11913"/>
                </a:cubicBezTo>
                <a:cubicBezTo>
                  <a:pt x="3083" y="11946"/>
                  <a:pt x="3072" y="11968"/>
                  <a:pt x="3072" y="11969"/>
                </a:cubicBezTo>
              </a:path>
              <a:path w="1035" h="621">
                <a:moveTo>
                  <a:pt x="2882" y="11722"/>
                </a:moveTo>
                <a:cubicBezTo>
                  <a:pt x="2873" y="11704"/>
                  <a:pt x="2929" y="11704"/>
                  <a:pt x="2956" y="11700"/>
                </a:cubicBezTo>
                <a:cubicBezTo>
                  <a:pt x="3037" y="11688"/>
                  <a:pt x="3119" y="11675"/>
                  <a:pt x="3200" y="11660"/>
                </a:cubicBezTo>
                <a:cubicBezTo>
                  <a:pt x="3270" y="11645"/>
                  <a:pt x="3293" y="11640"/>
                  <a:pt x="3340" y="1163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530360" y="4103640"/>
            <a:ext cx="135000" cy="231840"/>
          </a:xfrm>
          <a:custGeom>
            <a:avLst/>
            <a:gdLst/>
            <a:ahLst/>
            <a:rect l="l" t="t" r="r" b="b"/>
            <a:pathLst>
              <a:path w="375" h="642">
                <a:moveTo>
                  <a:pt x="4278" y="11528"/>
                </a:moveTo>
                <a:cubicBezTo>
                  <a:pt x="4273" y="11507"/>
                  <a:pt x="4272" y="11502"/>
                  <a:pt x="4266" y="11490"/>
                </a:cubicBezTo>
                <a:cubicBezTo>
                  <a:pt x="4261" y="11515"/>
                  <a:pt x="4270" y="11516"/>
                  <a:pt x="4277" y="11540"/>
                </a:cubicBezTo>
                <a:cubicBezTo>
                  <a:pt x="4293" y="11594"/>
                  <a:pt x="4304" y="11648"/>
                  <a:pt x="4304" y="11704"/>
                </a:cubicBezTo>
                <a:cubicBezTo>
                  <a:pt x="4304" y="11730"/>
                  <a:pt x="4305" y="11812"/>
                  <a:pt x="4277" y="11829"/>
                </a:cubicBezTo>
                <a:cubicBezTo>
                  <a:pt x="4265" y="11834"/>
                  <a:pt x="4262" y="11837"/>
                  <a:pt x="4255" y="11831"/>
                </a:cubicBezTo>
                <a:cubicBezTo>
                  <a:pt x="4247" y="11786"/>
                  <a:pt x="4253" y="11741"/>
                  <a:pt x="4263" y="11696"/>
                </a:cubicBezTo>
                <a:cubicBezTo>
                  <a:pt x="4279" y="11622"/>
                  <a:pt x="4304" y="11551"/>
                  <a:pt x="4336" y="11483"/>
                </a:cubicBezTo>
                <a:cubicBezTo>
                  <a:pt x="4354" y="11444"/>
                  <a:pt x="4369" y="11409"/>
                  <a:pt x="4411" y="11403"/>
                </a:cubicBezTo>
                <a:cubicBezTo>
                  <a:pt x="4428" y="11448"/>
                  <a:pt x="4424" y="11485"/>
                  <a:pt x="4416" y="11533"/>
                </a:cubicBezTo>
                <a:cubicBezTo>
                  <a:pt x="4407" y="11582"/>
                  <a:pt x="4390" y="11629"/>
                  <a:pt x="4381" y="11678"/>
                </a:cubicBezTo>
                <a:cubicBezTo>
                  <a:pt x="4381" y="11683"/>
                  <a:pt x="4380" y="11687"/>
                  <a:pt x="4380" y="11692"/>
                </a:cubicBezTo>
                <a:cubicBezTo>
                  <a:pt x="4421" y="11686"/>
                  <a:pt x="4452" y="11676"/>
                  <a:pt x="4494" y="11688"/>
                </a:cubicBezTo>
                <a:cubicBezTo>
                  <a:pt x="4586" y="11715"/>
                  <a:pt x="4636" y="11804"/>
                  <a:pt x="4622" y="11897"/>
                </a:cubicBezTo>
                <a:cubicBezTo>
                  <a:pt x="4612" y="11964"/>
                  <a:pt x="4560" y="12004"/>
                  <a:pt x="4501" y="12028"/>
                </a:cubicBezTo>
                <a:cubicBezTo>
                  <a:pt x="4430" y="12057"/>
                  <a:pt x="4375" y="12040"/>
                  <a:pt x="4322" y="1199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903320" y="4238640"/>
            <a:ext cx="31680" cy="154080"/>
          </a:xfrm>
          <a:custGeom>
            <a:avLst/>
            <a:gdLst/>
            <a:ahLst/>
            <a:rect l="l" t="t" r="r" b="b"/>
            <a:pathLst>
              <a:path w="88" h="430">
                <a:moveTo>
                  <a:pt x="5367" y="11772"/>
                </a:moveTo>
                <a:cubicBezTo>
                  <a:pt x="5378" y="11821"/>
                  <a:pt x="5377" y="11874"/>
                  <a:pt x="5366" y="11923"/>
                </a:cubicBezTo>
                <a:cubicBezTo>
                  <a:pt x="5349" y="11996"/>
                  <a:pt x="5328" y="12069"/>
                  <a:pt x="5305" y="12141"/>
                </a:cubicBezTo>
                <a:cubicBezTo>
                  <a:pt x="5295" y="12173"/>
                  <a:pt x="5293" y="12181"/>
                  <a:pt x="5288" y="1220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119320" y="4116240"/>
            <a:ext cx="550800" cy="223920"/>
          </a:xfrm>
          <a:custGeom>
            <a:avLst/>
            <a:gdLst/>
            <a:ahLst/>
            <a:rect l="l" t="t" r="r" b="b"/>
            <a:pathLst>
              <a:path w="1531" h="624">
                <a:moveTo>
                  <a:pt x="5917" y="11976"/>
                </a:moveTo>
                <a:cubicBezTo>
                  <a:pt x="5904" y="11986"/>
                  <a:pt x="5900" y="11998"/>
                  <a:pt x="5892" y="11957"/>
                </a:cubicBezTo>
                <a:cubicBezTo>
                  <a:pt x="5881" y="11904"/>
                  <a:pt x="5897" y="11842"/>
                  <a:pt x="5906" y="11789"/>
                </a:cubicBezTo>
                <a:cubicBezTo>
                  <a:pt x="5919" y="11715"/>
                  <a:pt x="5940" y="11640"/>
                  <a:pt x="5968" y="11570"/>
                </a:cubicBezTo>
                <a:cubicBezTo>
                  <a:pt x="5982" y="11534"/>
                  <a:pt x="5987" y="11523"/>
                  <a:pt x="6017" y="11509"/>
                </a:cubicBezTo>
                <a:cubicBezTo>
                  <a:pt x="6058" y="11555"/>
                  <a:pt x="6070" y="11611"/>
                  <a:pt x="6090" y="11670"/>
                </a:cubicBezTo>
                <a:cubicBezTo>
                  <a:pt x="6121" y="11761"/>
                  <a:pt x="6150" y="11852"/>
                  <a:pt x="6173" y="11945"/>
                </a:cubicBezTo>
                <a:cubicBezTo>
                  <a:pt x="6183" y="11983"/>
                  <a:pt x="6189" y="12018"/>
                  <a:pt x="6192" y="12057"/>
                </a:cubicBezTo>
              </a:path>
              <a:path w="1531" h="624">
                <a:moveTo>
                  <a:pt x="5892" y="11862"/>
                </a:moveTo>
                <a:cubicBezTo>
                  <a:pt x="5936" y="11845"/>
                  <a:pt x="5983" y="11846"/>
                  <a:pt x="6029" y="11838"/>
                </a:cubicBezTo>
                <a:cubicBezTo>
                  <a:pt x="6084" y="11829"/>
                  <a:pt x="6139" y="11819"/>
                  <a:pt x="6194" y="11809"/>
                </a:cubicBezTo>
              </a:path>
              <a:path w="1531" h="624">
                <a:moveTo>
                  <a:pt x="6404" y="12004"/>
                </a:moveTo>
                <a:cubicBezTo>
                  <a:pt x="6404" y="11976"/>
                  <a:pt x="6407" y="11947"/>
                  <a:pt x="6407" y="11919"/>
                </a:cubicBezTo>
                <a:cubicBezTo>
                  <a:pt x="6407" y="11855"/>
                  <a:pt x="6413" y="11790"/>
                  <a:pt x="6428" y="11727"/>
                </a:cubicBezTo>
                <a:cubicBezTo>
                  <a:pt x="6442" y="11668"/>
                  <a:pt x="6462" y="11595"/>
                  <a:pt x="6509" y="11553"/>
                </a:cubicBezTo>
                <a:cubicBezTo>
                  <a:pt x="6553" y="11513"/>
                  <a:pt x="6601" y="11546"/>
                  <a:pt x="6631" y="11584"/>
                </a:cubicBezTo>
                <a:cubicBezTo>
                  <a:pt x="6681" y="11647"/>
                  <a:pt x="6708" y="11726"/>
                  <a:pt x="6735" y="11800"/>
                </a:cubicBezTo>
                <a:cubicBezTo>
                  <a:pt x="6756" y="11858"/>
                  <a:pt x="6763" y="11914"/>
                  <a:pt x="6780" y="11972"/>
                </a:cubicBezTo>
                <a:cubicBezTo>
                  <a:pt x="6782" y="11976"/>
                  <a:pt x="6784" y="11981"/>
                  <a:pt x="6786" y="11985"/>
                </a:cubicBezTo>
              </a:path>
              <a:path w="1531" h="624">
                <a:moveTo>
                  <a:pt x="7059" y="11582"/>
                </a:moveTo>
                <a:cubicBezTo>
                  <a:pt x="7048" y="11600"/>
                  <a:pt x="7041" y="11614"/>
                  <a:pt x="7042" y="11642"/>
                </a:cubicBezTo>
                <a:cubicBezTo>
                  <a:pt x="7044" y="11693"/>
                  <a:pt x="7051" y="11744"/>
                  <a:pt x="7057" y="11795"/>
                </a:cubicBezTo>
                <a:cubicBezTo>
                  <a:pt x="7061" y="11827"/>
                  <a:pt x="7063" y="11858"/>
                  <a:pt x="7065" y="11890"/>
                </a:cubicBezTo>
                <a:cubicBezTo>
                  <a:pt x="7057" y="11843"/>
                  <a:pt x="7065" y="11802"/>
                  <a:pt x="7078" y="11755"/>
                </a:cubicBezTo>
                <a:cubicBezTo>
                  <a:pt x="7099" y="11676"/>
                  <a:pt x="7130" y="11601"/>
                  <a:pt x="7174" y="11532"/>
                </a:cubicBezTo>
                <a:cubicBezTo>
                  <a:pt x="7191" y="11506"/>
                  <a:pt x="7243" y="11417"/>
                  <a:pt x="7288" y="11434"/>
                </a:cubicBezTo>
                <a:cubicBezTo>
                  <a:pt x="7293" y="11440"/>
                  <a:pt x="7299" y="11445"/>
                  <a:pt x="7304" y="11451"/>
                </a:cubicBezTo>
                <a:cubicBezTo>
                  <a:pt x="7313" y="11510"/>
                  <a:pt x="7304" y="11557"/>
                  <a:pt x="7283" y="11614"/>
                </a:cubicBezTo>
                <a:cubicBezTo>
                  <a:pt x="7264" y="11666"/>
                  <a:pt x="7234" y="11713"/>
                  <a:pt x="7206" y="11761"/>
                </a:cubicBezTo>
                <a:cubicBezTo>
                  <a:pt x="7241" y="11769"/>
                  <a:pt x="7275" y="11776"/>
                  <a:pt x="7308" y="11791"/>
                </a:cubicBezTo>
                <a:cubicBezTo>
                  <a:pt x="7351" y="11810"/>
                  <a:pt x="7398" y="11840"/>
                  <a:pt x="7414" y="11887"/>
                </a:cubicBezTo>
                <a:cubicBezTo>
                  <a:pt x="7431" y="11938"/>
                  <a:pt x="7389" y="11959"/>
                  <a:pt x="7352" y="11977"/>
                </a:cubicBezTo>
                <a:cubicBezTo>
                  <a:pt x="7300" y="12002"/>
                  <a:pt x="7246" y="12007"/>
                  <a:pt x="7189" y="12002"/>
                </a:cubicBezTo>
                <a:cubicBezTo>
                  <a:pt x="7176" y="12000"/>
                  <a:pt x="7164" y="11998"/>
                  <a:pt x="7151" y="1199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8229600" y="4832280"/>
            <a:ext cx="428760" cy="979560"/>
          </a:xfrm>
          <a:custGeom>
            <a:avLst/>
            <a:gdLst/>
            <a:ahLst/>
            <a:rect l="l" t="t" r="r" b="b"/>
            <a:pathLst>
              <a:path w="1191" h="2722">
                <a:moveTo>
                  <a:pt x="23957" y="13541"/>
                </a:moveTo>
                <a:cubicBezTo>
                  <a:pt x="23924" y="13590"/>
                  <a:pt x="23888" y="13638"/>
                  <a:pt x="23856" y="13687"/>
                </a:cubicBezTo>
                <a:cubicBezTo>
                  <a:pt x="23770" y="13817"/>
                  <a:pt x="23683" y="13946"/>
                  <a:pt x="23598" y="14077"/>
                </a:cubicBezTo>
                <a:cubicBezTo>
                  <a:pt x="23485" y="14250"/>
                  <a:pt x="23383" y="14428"/>
                  <a:pt x="23294" y="14615"/>
                </a:cubicBezTo>
                <a:cubicBezTo>
                  <a:pt x="23266" y="14674"/>
                  <a:pt x="23247" y="14734"/>
                  <a:pt x="23227" y="14796"/>
                </a:cubicBezTo>
              </a:path>
              <a:path w="1191" h="2722">
                <a:moveTo>
                  <a:pt x="24048" y="13896"/>
                </a:moveTo>
                <a:cubicBezTo>
                  <a:pt x="24013" y="14009"/>
                  <a:pt x="23950" y="14104"/>
                  <a:pt x="23896" y="14212"/>
                </a:cubicBezTo>
                <a:cubicBezTo>
                  <a:pt x="23830" y="14344"/>
                  <a:pt x="23774" y="14480"/>
                  <a:pt x="23716" y="14615"/>
                </a:cubicBezTo>
                <a:cubicBezTo>
                  <a:pt x="23688" y="14682"/>
                  <a:pt x="23658" y="14748"/>
                  <a:pt x="23630" y="14815"/>
                </a:cubicBezTo>
              </a:path>
              <a:path w="1191" h="2722">
                <a:moveTo>
                  <a:pt x="22858" y="14797"/>
                </a:moveTo>
                <a:cubicBezTo>
                  <a:pt x="22892" y="14702"/>
                  <a:pt x="22925" y="14601"/>
                  <a:pt x="22971" y="14511"/>
                </a:cubicBezTo>
                <a:cubicBezTo>
                  <a:pt x="23053" y="14351"/>
                  <a:pt x="23146" y="14194"/>
                  <a:pt x="23235" y="14037"/>
                </a:cubicBezTo>
                <a:cubicBezTo>
                  <a:pt x="23326" y="13876"/>
                  <a:pt x="23423" y="13720"/>
                  <a:pt x="23531" y="13570"/>
                </a:cubicBezTo>
                <a:cubicBezTo>
                  <a:pt x="23553" y="13539"/>
                  <a:pt x="23618" y="13437"/>
                  <a:pt x="23623" y="13425"/>
                </a:cubicBezTo>
              </a:path>
              <a:path w="1191" h="2722">
                <a:moveTo>
                  <a:pt x="23147" y="15306"/>
                </a:moveTo>
                <a:cubicBezTo>
                  <a:pt x="23151" y="15330"/>
                  <a:pt x="23153" y="15328"/>
                  <a:pt x="23149" y="15305"/>
                </a:cubicBezTo>
                <a:cubicBezTo>
                  <a:pt x="23142" y="15268"/>
                  <a:pt x="23129" y="15232"/>
                  <a:pt x="23117" y="15196"/>
                </a:cubicBezTo>
                <a:cubicBezTo>
                  <a:pt x="23094" y="15127"/>
                  <a:pt x="23076" y="15058"/>
                  <a:pt x="23054" y="14989"/>
                </a:cubicBezTo>
                <a:cubicBezTo>
                  <a:pt x="23032" y="14920"/>
                  <a:pt x="23009" y="14853"/>
                  <a:pt x="22987" y="14784"/>
                </a:cubicBezTo>
                <a:cubicBezTo>
                  <a:pt x="22979" y="14759"/>
                  <a:pt x="22973" y="14734"/>
                  <a:pt x="22964" y="14710"/>
                </a:cubicBezTo>
                <a:cubicBezTo>
                  <a:pt x="22970" y="14740"/>
                  <a:pt x="22964" y="14782"/>
                  <a:pt x="22957" y="14814"/>
                </a:cubicBezTo>
                <a:cubicBezTo>
                  <a:pt x="22943" y="14880"/>
                  <a:pt x="22911" y="14939"/>
                  <a:pt x="22883" y="15000"/>
                </a:cubicBezTo>
                <a:cubicBezTo>
                  <a:pt x="22902" y="14961"/>
                  <a:pt x="22928" y="14926"/>
                  <a:pt x="22953" y="14890"/>
                </a:cubicBezTo>
                <a:cubicBezTo>
                  <a:pt x="22978" y="14854"/>
                  <a:pt x="23016" y="14785"/>
                  <a:pt x="23067" y="14782"/>
                </a:cubicBezTo>
                <a:cubicBezTo>
                  <a:pt x="23096" y="14780"/>
                  <a:pt x="23139" y="14827"/>
                  <a:pt x="23152" y="14847"/>
                </a:cubicBezTo>
                <a:cubicBezTo>
                  <a:pt x="23176" y="14885"/>
                  <a:pt x="23189" y="14937"/>
                  <a:pt x="23206" y="14979"/>
                </a:cubicBezTo>
              </a:path>
              <a:path w="1191" h="2722">
                <a:moveTo>
                  <a:pt x="23046" y="16051"/>
                </a:moveTo>
                <a:cubicBezTo>
                  <a:pt x="23035" y="16025"/>
                  <a:pt x="23046" y="15990"/>
                  <a:pt x="23057" y="15958"/>
                </a:cubicBezTo>
                <a:cubicBezTo>
                  <a:pt x="23079" y="15895"/>
                  <a:pt x="23107" y="15832"/>
                  <a:pt x="23133" y="15771"/>
                </a:cubicBezTo>
                <a:cubicBezTo>
                  <a:pt x="23150" y="15730"/>
                  <a:pt x="23169" y="15649"/>
                  <a:pt x="23216" y="15629"/>
                </a:cubicBezTo>
                <a:cubicBezTo>
                  <a:pt x="23223" y="15629"/>
                  <a:pt x="23229" y="15630"/>
                  <a:pt x="23236" y="15630"/>
                </a:cubicBezTo>
                <a:cubicBezTo>
                  <a:pt x="23273" y="15691"/>
                  <a:pt x="23288" y="15755"/>
                  <a:pt x="23310" y="15823"/>
                </a:cubicBezTo>
                <a:cubicBezTo>
                  <a:pt x="23342" y="15921"/>
                  <a:pt x="23356" y="16039"/>
                  <a:pt x="23401" y="16132"/>
                </a:cubicBezTo>
                <a:cubicBezTo>
                  <a:pt x="23403" y="16142"/>
                  <a:pt x="23403" y="16146"/>
                  <a:pt x="23412" y="16143"/>
                </a:cubicBezTo>
                <a:cubicBezTo>
                  <a:pt x="23411" y="16112"/>
                  <a:pt x="23404" y="16088"/>
                  <a:pt x="23397" y="16058"/>
                </a:cubicBezTo>
              </a:path>
              <a:path w="1191" h="2722">
                <a:moveTo>
                  <a:pt x="23117" y="15891"/>
                </a:moveTo>
                <a:cubicBezTo>
                  <a:pt x="23127" y="15909"/>
                  <a:pt x="23146" y="15925"/>
                  <a:pt x="23171" y="15921"/>
                </a:cubicBezTo>
                <a:cubicBezTo>
                  <a:pt x="23211" y="15914"/>
                  <a:pt x="23260" y="15898"/>
                  <a:pt x="23299" y="15884"/>
                </a:cubicBezTo>
                <a:cubicBezTo>
                  <a:pt x="23333" y="15871"/>
                  <a:pt x="23363" y="15855"/>
                  <a:pt x="23391" y="15833"/>
                </a:cubicBezTo>
                <a:cubicBezTo>
                  <a:pt x="23411" y="15817"/>
                  <a:pt x="23418" y="15810"/>
                  <a:pt x="23418" y="15785"/>
                </a:cubicBezTo>
              </a:path>
              <a:path w="1191" h="2722">
                <a:moveTo>
                  <a:pt x="23047" y="15686"/>
                </a:moveTo>
                <a:cubicBezTo>
                  <a:pt x="23056" y="15701"/>
                  <a:pt x="23094" y="15683"/>
                  <a:pt x="23116" y="15677"/>
                </a:cubicBezTo>
                <a:cubicBezTo>
                  <a:pt x="23192" y="15657"/>
                  <a:pt x="23264" y="15644"/>
                  <a:pt x="23342" y="15640"/>
                </a:cubicBezTo>
                <a:cubicBezTo>
                  <a:pt x="23378" y="15638"/>
                  <a:pt x="23413" y="15639"/>
                  <a:pt x="23449" y="15637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1933560" y="5316480"/>
            <a:ext cx="4699080" cy="155520"/>
          </a:xfrm>
          <a:custGeom>
            <a:avLst/>
            <a:gdLst/>
            <a:ahLst/>
            <a:rect l="l" t="t" r="r" b="b"/>
            <a:pathLst>
              <a:path w="13053" h="432">
                <a:moveTo>
                  <a:pt x="5373" y="15200"/>
                </a:moveTo>
                <a:cubicBezTo>
                  <a:pt x="5811" y="15147"/>
                  <a:pt x="6244" y="15093"/>
                  <a:pt x="6686" y="15079"/>
                </a:cubicBezTo>
                <a:cubicBezTo>
                  <a:pt x="7510" y="15053"/>
                  <a:pt x="8329" y="15051"/>
                  <a:pt x="9153" y="15004"/>
                </a:cubicBezTo>
                <a:cubicBezTo>
                  <a:pt x="10043" y="14954"/>
                  <a:pt x="10929" y="14932"/>
                  <a:pt x="11819" y="14910"/>
                </a:cubicBezTo>
                <a:cubicBezTo>
                  <a:pt x="13392" y="14871"/>
                  <a:pt x="14960" y="14780"/>
                  <a:pt x="16534" y="14772"/>
                </a:cubicBezTo>
                <a:cubicBezTo>
                  <a:pt x="17062" y="14769"/>
                  <a:pt x="17954" y="14642"/>
                  <a:pt x="18411" y="14802"/>
                </a:cubicBezTo>
                <a:cubicBezTo>
                  <a:pt x="18436" y="14811"/>
                  <a:pt x="18314" y="14827"/>
                  <a:pt x="18339" y="14834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3123360" y="0"/>
            <a:ext cx="27320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0000"/>
                </a:solidFill>
                <a:latin typeface="Arial"/>
              </a:rPr>
              <a:t>Function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16680" y="914400"/>
            <a:ext cx="8335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main, codomain.  Image, preimage.  Rang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e-to-one (injective).  Onto (surjective).  One-to-one correspondence (bijec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osing functions.  Inverse of a func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 question: f:Z-&gt;Z such that f(x)=x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 Is one-to-one?  Is Onto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6431040" y="1055520"/>
            <a:ext cx="1201680" cy="322560"/>
          </a:xfrm>
          <a:custGeom>
            <a:avLst/>
            <a:gdLst/>
            <a:ahLst/>
            <a:rect l="l" t="t" r="r" b="b"/>
            <a:pathLst>
              <a:path w="3339" h="894">
                <a:moveTo>
                  <a:pt x="17925" y="3048"/>
                </a:moveTo>
                <a:cubicBezTo>
                  <a:pt x="17903" y="3018"/>
                  <a:pt x="17913" y="3051"/>
                  <a:pt x="17913" y="3084"/>
                </a:cubicBezTo>
                <a:cubicBezTo>
                  <a:pt x="17914" y="3169"/>
                  <a:pt x="17915" y="3255"/>
                  <a:pt x="17917" y="3340"/>
                </a:cubicBezTo>
                <a:cubicBezTo>
                  <a:pt x="17920" y="3455"/>
                  <a:pt x="17921" y="3569"/>
                  <a:pt x="17927" y="3684"/>
                </a:cubicBezTo>
                <a:cubicBezTo>
                  <a:pt x="17929" y="3730"/>
                  <a:pt x="17924" y="3793"/>
                  <a:pt x="17952" y="3827"/>
                </a:cubicBezTo>
                <a:cubicBezTo>
                  <a:pt x="17966" y="3800"/>
                  <a:pt x="17970" y="3781"/>
                  <a:pt x="17977" y="3751"/>
                </a:cubicBezTo>
              </a:path>
              <a:path w="3339" h="894">
                <a:moveTo>
                  <a:pt x="17865" y="3118"/>
                </a:moveTo>
                <a:cubicBezTo>
                  <a:pt x="17869" y="3093"/>
                  <a:pt x="17884" y="3066"/>
                  <a:pt x="17910" y="3053"/>
                </a:cubicBezTo>
                <a:cubicBezTo>
                  <a:pt x="17966" y="3026"/>
                  <a:pt x="18035" y="3005"/>
                  <a:pt x="18096" y="2994"/>
                </a:cubicBezTo>
                <a:cubicBezTo>
                  <a:pt x="18167" y="2981"/>
                  <a:pt x="18237" y="2975"/>
                  <a:pt x="18307" y="2990"/>
                </a:cubicBezTo>
                <a:cubicBezTo>
                  <a:pt x="18345" y="2998"/>
                  <a:pt x="18367" y="3008"/>
                  <a:pt x="18383" y="3042"/>
                </a:cubicBezTo>
              </a:path>
              <a:path w="3339" h="894">
                <a:moveTo>
                  <a:pt x="18074" y="3403"/>
                </a:moveTo>
                <a:cubicBezTo>
                  <a:pt x="18055" y="3422"/>
                  <a:pt x="18037" y="3441"/>
                  <a:pt x="18018" y="3460"/>
                </a:cubicBezTo>
                <a:cubicBezTo>
                  <a:pt x="18064" y="3448"/>
                  <a:pt x="18108" y="3430"/>
                  <a:pt x="18153" y="3414"/>
                </a:cubicBezTo>
                <a:cubicBezTo>
                  <a:pt x="18220" y="3390"/>
                  <a:pt x="18287" y="3367"/>
                  <a:pt x="18355" y="3345"/>
                </a:cubicBezTo>
                <a:cubicBezTo>
                  <a:pt x="18387" y="3335"/>
                  <a:pt x="18419" y="3324"/>
                  <a:pt x="18451" y="3312"/>
                </a:cubicBezTo>
              </a:path>
              <a:path w="3339" h="894">
                <a:moveTo>
                  <a:pt x="18465" y="3373"/>
                </a:moveTo>
                <a:cubicBezTo>
                  <a:pt x="18457" y="3426"/>
                  <a:pt x="18446" y="3484"/>
                  <a:pt x="18446" y="3538"/>
                </a:cubicBezTo>
                <a:cubicBezTo>
                  <a:pt x="18446" y="3599"/>
                  <a:pt x="18449" y="3668"/>
                  <a:pt x="18481" y="3720"/>
                </a:cubicBezTo>
                <a:cubicBezTo>
                  <a:pt x="18524" y="3715"/>
                  <a:pt x="18537" y="3682"/>
                  <a:pt x="18558" y="3644"/>
                </a:cubicBezTo>
                <a:cubicBezTo>
                  <a:pt x="18602" y="3563"/>
                  <a:pt x="18627" y="3459"/>
                  <a:pt x="18685" y="3387"/>
                </a:cubicBezTo>
                <a:cubicBezTo>
                  <a:pt x="18689" y="3384"/>
                  <a:pt x="18693" y="3380"/>
                  <a:pt x="18697" y="3377"/>
                </a:cubicBezTo>
                <a:cubicBezTo>
                  <a:pt x="18718" y="3415"/>
                  <a:pt x="18712" y="3462"/>
                  <a:pt x="18712" y="3505"/>
                </a:cubicBezTo>
                <a:cubicBezTo>
                  <a:pt x="18712" y="3560"/>
                  <a:pt x="18714" y="3633"/>
                  <a:pt x="18742" y="3682"/>
                </a:cubicBezTo>
                <a:cubicBezTo>
                  <a:pt x="18757" y="3697"/>
                  <a:pt x="18761" y="3702"/>
                  <a:pt x="18776" y="3694"/>
                </a:cubicBezTo>
              </a:path>
              <a:path w="3339" h="894">
                <a:moveTo>
                  <a:pt x="18868" y="3452"/>
                </a:moveTo>
                <a:cubicBezTo>
                  <a:pt x="18858" y="3521"/>
                  <a:pt x="18851" y="3592"/>
                  <a:pt x="18851" y="3662"/>
                </a:cubicBezTo>
                <a:cubicBezTo>
                  <a:pt x="18851" y="3688"/>
                  <a:pt x="18851" y="3712"/>
                  <a:pt x="18860" y="3735"/>
                </a:cubicBezTo>
                <a:cubicBezTo>
                  <a:pt x="18890" y="3674"/>
                  <a:pt x="18911" y="3609"/>
                  <a:pt x="18939" y="3547"/>
                </a:cubicBezTo>
                <a:cubicBezTo>
                  <a:pt x="18964" y="3491"/>
                  <a:pt x="18995" y="3408"/>
                  <a:pt x="19052" y="3375"/>
                </a:cubicBezTo>
                <a:cubicBezTo>
                  <a:pt x="19106" y="3343"/>
                  <a:pt x="19124" y="3420"/>
                  <a:pt x="19132" y="3455"/>
                </a:cubicBezTo>
                <a:cubicBezTo>
                  <a:pt x="19148" y="3524"/>
                  <a:pt x="19150" y="3591"/>
                  <a:pt x="19155" y="3661"/>
                </a:cubicBezTo>
                <a:cubicBezTo>
                  <a:pt x="19157" y="3685"/>
                  <a:pt x="19159" y="3707"/>
                  <a:pt x="19167" y="3729"/>
                </a:cubicBezTo>
              </a:path>
              <a:path w="3339" h="894">
                <a:moveTo>
                  <a:pt x="19403" y="3416"/>
                </a:moveTo>
                <a:cubicBezTo>
                  <a:pt x="19407" y="3398"/>
                  <a:pt x="19408" y="3395"/>
                  <a:pt x="19408" y="3377"/>
                </a:cubicBezTo>
                <a:cubicBezTo>
                  <a:pt x="19369" y="3394"/>
                  <a:pt x="19352" y="3423"/>
                  <a:pt x="19330" y="3460"/>
                </a:cubicBezTo>
                <a:cubicBezTo>
                  <a:pt x="19299" y="3513"/>
                  <a:pt x="19269" y="3577"/>
                  <a:pt x="19272" y="3640"/>
                </a:cubicBezTo>
                <a:cubicBezTo>
                  <a:pt x="19275" y="3698"/>
                  <a:pt x="19328" y="3726"/>
                  <a:pt x="19382" y="3720"/>
                </a:cubicBezTo>
                <a:cubicBezTo>
                  <a:pt x="19449" y="3713"/>
                  <a:pt x="19520" y="3662"/>
                  <a:pt x="19566" y="3616"/>
                </a:cubicBezTo>
                <a:cubicBezTo>
                  <a:pt x="19578" y="3602"/>
                  <a:pt x="19590" y="3588"/>
                  <a:pt x="19602" y="3574"/>
                </a:cubicBezTo>
              </a:path>
              <a:path w="3339" h="894">
                <a:moveTo>
                  <a:pt x="19646" y="2977"/>
                </a:moveTo>
                <a:cubicBezTo>
                  <a:pt x="19647" y="2953"/>
                  <a:pt x="19647" y="2948"/>
                  <a:pt x="19647" y="2934"/>
                </a:cubicBezTo>
                <a:cubicBezTo>
                  <a:pt x="19637" y="2991"/>
                  <a:pt x="19629" y="3049"/>
                  <a:pt x="19624" y="3107"/>
                </a:cubicBezTo>
                <a:cubicBezTo>
                  <a:pt x="19611" y="3246"/>
                  <a:pt x="19610" y="3386"/>
                  <a:pt x="19604" y="3525"/>
                </a:cubicBezTo>
                <a:cubicBezTo>
                  <a:pt x="19600" y="3621"/>
                  <a:pt x="19597" y="3716"/>
                  <a:pt x="19596" y="3812"/>
                </a:cubicBezTo>
              </a:path>
              <a:path w="3339" h="894">
                <a:moveTo>
                  <a:pt x="19522" y="3416"/>
                </a:moveTo>
                <a:cubicBezTo>
                  <a:pt x="19542" y="3368"/>
                  <a:pt x="19556" y="3359"/>
                  <a:pt x="19606" y="3341"/>
                </a:cubicBezTo>
                <a:cubicBezTo>
                  <a:pt x="19663" y="3320"/>
                  <a:pt x="19728" y="3310"/>
                  <a:pt x="19789" y="3312"/>
                </a:cubicBezTo>
                <a:cubicBezTo>
                  <a:pt x="19832" y="3313"/>
                  <a:pt x="19900" y="3315"/>
                  <a:pt x="19941" y="3333"/>
                </a:cubicBezTo>
                <a:cubicBezTo>
                  <a:pt x="19984" y="3351"/>
                  <a:pt x="19950" y="3379"/>
                  <a:pt x="19936" y="3401"/>
                </a:cubicBezTo>
                <a:cubicBezTo>
                  <a:pt x="19906" y="3447"/>
                  <a:pt x="19878" y="3508"/>
                  <a:pt x="19862" y="3560"/>
                </a:cubicBezTo>
                <a:cubicBezTo>
                  <a:pt x="19842" y="3623"/>
                  <a:pt x="19823" y="3691"/>
                  <a:pt x="19825" y="3757"/>
                </a:cubicBezTo>
                <a:cubicBezTo>
                  <a:pt x="19826" y="3801"/>
                  <a:pt x="19829" y="3801"/>
                  <a:pt x="19854" y="3783"/>
                </a:cubicBezTo>
              </a:path>
              <a:path w="3339" h="894">
                <a:moveTo>
                  <a:pt x="19892" y="3344"/>
                </a:moveTo>
                <a:cubicBezTo>
                  <a:pt x="19886" y="3319"/>
                  <a:pt x="19852" y="3290"/>
                  <a:pt x="19869" y="3271"/>
                </a:cubicBezTo>
                <a:cubicBezTo>
                  <a:pt x="19886" y="3275"/>
                  <a:pt x="19894" y="3279"/>
                  <a:pt x="19905" y="3288"/>
                </a:cubicBezTo>
              </a:path>
              <a:path w="3339" h="894">
                <a:moveTo>
                  <a:pt x="20310" y="3403"/>
                </a:moveTo>
                <a:cubicBezTo>
                  <a:pt x="20310" y="3398"/>
                  <a:pt x="20310" y="3392"/>
                  <a:pt x="20310" y="3387"/>
                </a:cubicBezTo>
                <a:cubicBezTo>
                  <a:pt x="20271" y="3380"/>
                  <a:pt x="20250" y="3400"/>
                  <a:pt x="20219" y="3431"/>
                </a:cubicBezTo>
                <a:cubicBezTo>
                  <a:pt x="20172" y="3478"/>
                  <a:pt x="20135" y="3535"/>
                  <a:pt x="20108" y="3596"/>
                </a:cubicBezTo>
                <a:cubicBezTo>
                  <a:pt x="20095" y="3625"/>
                  <a:pt x="20066" y="3693"/>
                  <a:pt x="20117" y="3706"/>
                </a:cubicBezTo>
                <a:cubicBezTo>
                  <a:pt x="20163" y="3718"/>
                  <a:pt x="20226" y="3685"/>
                  <a:pt x="20263" y="3662"/>
                </a:cubicBezTo>
                <a:cubicBezTo>
                  <a:pt x="20313" y="3631"/>
                  <a:pt x="20352" y="3589"/>
                  <a:pt x="20386" y="3542"/>
                </a:cubicBezTo>
                <a:cubicBezTo>
                  <a:pt x="20415" y="3503"/>
                  <a:pt x="20425" y="3452"/>
                  <a:pt x="20443" y="3407"/>
                </a:cubicBezTo>
                <a:cubicBezTo>
                  <a:pt x="20455" y="3377"/>
                  <a:pt x="20459" y="3368"/>
                  <a:pt x="20471" y="3350"/>
                </a:cubicBezTo>
              </a:path>
              <a:path w="3339" h="894">
                <a:moveTo>
                  <a:pt x="20556" y="3408"/>
                </a:moveTo>
                <a:cubicBezTo>
                  <a:pt x="20529" y="3479"/>
                  <a:pt x="20501" y="3548"/>
                  <a:pt x="20475" y="3618"/>
                </a:cubicBezTo>
                <a:cubicBezTo>
                  <a:pt x="20466" y="3642"/>
                  <a:pt x="20458" y="3663"/>
                  <a:pt x="20452" y="3688"/>
                </a:cubicBezTo>
                <a:cubicBezTo>
                  <a:pt x="20484" y="3653"/>
                  <a:pt x="20506" y="3613"/>
                  <a:pt x="20533" y="3574"/>
                </a:cubicBezTo>
                <a:cubicBezTo>
                  <a:pt x="20573" y="3516"/>
                  <a:pt x="20616" y="3454"/>
                  <a:pt x="20670" y="3408"/>
                </a:cubicBezTo>
                <a:cubicBezTo>
                  <a:pt x="20694" y="3392"/>
                  <a:pt x="20700" y="3386"/>
                  <a:pt x="20718" y="3383"/>
                </a:cubicBezTo>
                <a:cubicBezTo>
                  <a:pt x="20749" y="3414"/>
                  <a:pt x="20732" y="3445"/>
                  <a:pt x="20727" y="3487"/>
                </a:cubicBezTo>
                <a:cubicBezTo>
                  <a:pt x="20721" y="3541"/>
                  <a:pt x="20719" y="3587"/>
                  <a:pt x="20735" y="3639"/>
                </a:cubicBezTo>
                <a:cubicBezTo>
                  <a:pt x="20743" y="3665"/>
                  <a:pt x="20750" y="3672"/>
                  <a:pt x="20771" y="3685"/>
                </a:cubicBezTo>
              </a:path>
              <a:path w="3339" h="894">
                <a:moveTo>
                  <a:pt x="21182" y="3421"/>
                </a:moveTo>
                <a:cubicBezTo>
                  <a:pt x="21193" y="3397"/>
                  <a:pt x="21201" y="3382"/>
                  <a:pt x="21201" y="3356"/>
                </a:cubicBezTo>
                <a:cubicBezTo>
                  <a:pt x="21170" y="3344"/>
                  <a:pt x="21139" y="3366"/>
                  <a:pt x="21107" y="3381"/>
                </a:cubicBezTo>
                <a:cubicBezTo>
                  <a:pt x="21054" y="3407"/>
                  <a:pt x="20999" y="3436"/>
                  <a:pt x="20949" y="3469"/>
                </a:cubicBezTo>
                <a:cubicBezTo>
                  <a:pt x="20928" y="3485"/>
                  <a:pt x="20923" y="3488"/>
                  <a:pt x="20913" y="3501"/>
                </a:cubicBezTo>
                <a:cubicBezTo>
                  <a:pt x="20942" y="3525"/>
                  <a:pt x="20981" y="3526"/>
                  <a:pt x="21017" y="3539"/>
                </a:cubicBezTo>
                <a:cubicBezTo>
                  <a:pt x="21059" y="3554"/>
                  <a:pt x="21120" y="3577"/>
                  <a:pt x="21142" y="3620"/>
                </a:cubicBezTo>
                <a:cubicBezTo>
                  <a:pt x="21165" y="3665"/>
                  <a:pt x="21116" y="3699"/>
                  <a:pt x="21082" y="3715"/>
                </a:cubicBezTo>
                <a:cubicBezTo>
                  <a:pt x="21030" y="3739"/>
                  <a:pt x="20973" y="3745"/>
                  <a:pt x="20918" y="3733"/>
                </a:cubicBezTo>
                <a:cubicBezTo>
                  <a:pt x="20868" y="3722"/>
                  <a:pt x="20861" y="3704"/>
                  <a:pt x="20855" y="3659"/>
                </a:cubicBezTo>
              </a:path>
              <a:path w="3339" h="894">
                <a:moveTo>
                  <a:pt x="21084" y="3741"/>
                </a:moveTo>
                <a:cubicBezTo>
                  <a:pt x="21055" y="3738"/>
                  <a:pt x="21067" y="3731"/>
                  <a:pt x="21082" y="371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2781360" y="1192320"/>
            <a:ext cx="687240" cy="658800"/>
          </a:xfrm>
          <a:custGeom>
            <a:avLst/>
            <a:gdLst/>
            <a:ahLst/>
            <a:rect l="l" t="t" r="r" b="b"/>
            <a:pathLst>
              <a:path w="1908" h="1830">
                <a:moveTo>
                  <a:pt x="7851" y="4781"/>
                </a:moveTo>
                <a:cubicBezTo>
                  <a:pt x="7850" y="4766"/>
                  <a:pt x="7849" y="4758"/>
                  <a:pt x="7846" y="4745"/>
                </a:cubicBezTo>
                <a:cubicBezTo>
                  <a:pt x="7817" y="4754"/>
                  <a:pt x="7807" y="4777"/>
                  <a:pt x="7794" y="4805"/>
                </a:cubicBezTo>
                <a:cubicBezTo>
                  <a:pt x="7759" y="4879"/>
                  <a:pt x="7740" y="4956"/>
                  <a:pt x="7730" y="5037"/>
                </a:cubicBezTo>
                <a:cubicBezTo>
                  <a:pt x="7724" y="5082"/>
                  <a:pt x="7722" y="5114"/>
                  <a:pt x="7759" y="5140"/>
                </a:cubicBezTo>
                <a:cubicBezTo>
                  <a:pt x="7799" y="5118"/>
                  <a:pt x="7823" y="5090"/>
                  <a:pt x="7848" y="5051"/>
                </a:cubicBezTo>
                <a:cubicBezTo>
                  <a:pt x="7880" y="5001"/>
                  <a:pt x="7905" y="4945"/>
                  <a:pt x="7928" y="4890"/>
                </a:cubicBezTo>
                <a:cubicBezTo>
                  <a:pt x="7936" y="4871"/>
                  <a:pt x="7944" y="4851"/>
                  <a:pt x="7953" y="4832"/>
                </a:cubicBezTo>
                <a:cubicBezTo>
                  <a:pt x="7959" y="4865"/>
                  <a:pt x="7953" y="4900"/>
                  <a:pt x="7959" y="4933"/>
                </a:cubicBezTo>
                <a:cubicBezTo>
                  <a:pt x="7967" y="4973"/>
                  <a:pt x="7978" y="5027"/>
                  <a:pt x="8019" y="5046"/>
                </a:cubicBezTo>
                <a:cubicBezTo>
                  <a:pt x="8048" y="5052"/>
                  <a:pt x="8058" y="5054"/>
                  <a:pt x="8078" y="5049"/>
                </a:cubicBezTo>
              </a:path>
              <a:path w="1908" h="1830">
                <a:moveTo>
                  <a:pt x="8227" y="4914"/>
                </a:moveTo>
                <a:cubicBezTo>
                  <a:pt x="8214" y="4913"/>
                  <a:pt x="8211" y="4913"/>
                  <a:pt x="8203" y="4914"/>
                </a:cubicBezTo>
                <a:cubicBezTo>
                  <a:pt x="8224" y="4897"/>
                  <a:pt x="8237" y="4897"/>
                  <a:pt x="8266" y="4890"/>
                </a:cubicBezTo>
                <a:cubicBezTo>
                  <a:pt x="8314" y="4879"/>
                  <a:pt x="8364" y="4871"/>
                  <a:pt x="8413" y="4865"/>
                </a:cubicBezTo>
                <a:cubicBezTo>
                  <a:pt x="8549" y="4849"/>
                  <a:pt x="8682" y="4843"/>
                  <a:pt x="8817" y="4868"/>
                </a:cubicBezTo>
                <a:cubicBezTo>
                  <a:pt x="8786" y="4839"/>
                  <a:pt x="8752" y="4816"/>
                  <a:pt x="8714" y="4796"/>
                </a:cubicBezTo>
                <a:cubicBezTo>
                  <a:pt x="8673" y="4774"/>
                  <a:pt x="8591" y="4755"/>
                  <a:pt x="8561" y="4719"/>
                </a:cubicBezTo>
                <a:cubicBezTo>
                  <a:pt x="8562" y="4716"/>
                  <a:pt x="8562" y="4712"/>
                  <a:pt x="8563" y="4709"/>
                </a:cubicBezTo>
                <a:cubicBezTo>
                  <a:pt x="8589" y="4707"/>
                  <a:pt x="8611" y="4706"/>
                  <a:pt x="8637" y="4712"/>
                </a:cubicBezTo>
                <a:cubicBezTo>
                  <a:pt x="8686" y="4722"/>
                  <a:pt x="8722" y="4744"/>
                  <a:pt x="8747" y="4788"/>
                </a:cubicBezTo>
                <a:cubicBezTo>
                  <a:pt x="8767" y="4824"/>
                  <a:pt x="8770" y="4868"/>
                  <a:pt x="8775" y="4908"/>
                </a:cubicBezTo>
                <a:cubicBezTo>
                  <a:pt x="8779" y="4944"/>
                  <a:pt x="8778" y="4984"/>
                  <a:pt x="8770" y="5020"/>
                </a:cubicBezTo>
                <a:cubicBezTo>
                  <a:pt x="8763" y="5049"/>
                  <a:pt x="8758" y="5064"/>
                  <a:pt x="8736" y="5084"/>
                </a:cubicBezTo>
              </a:path>
              <a:path w="1908" h="1830">
                <a:moveTo>
                  <a:pt x="9052" y="4753"/>
                </a:moveTo>
                <a:cubicBezTo>
                  <a:pt x="9061" y="4731"/>
                  <a:pt x="9063" y="4716"/>
                  <a:pt x="9064" y="4693"/>
                </a:cubicBezTo>
                <a:cubicBezTo>
                  <a:pt x="9064" y="4733"/>
                  <a:pt x="9065" y="4773"/>
                  <a:pt x="9066" y="4813"/>
                </a:cubicBezTo>
                <a:cubicBezTo>
                  <a:pt x="9068" y="4893"/>
                  <a:pt x="9070" y="4973"/>
                  <a:pt x="9070" y="5053"/>
                </a:cubicBezTo>
                <a:cubicBezTo>
                  <a:pt x="9091" y="5028"/>
                  <a:pt x="9107" y="4998"/>
                  <a:pt x="9128" y="4973"/>
                </a:cubicBezTo>
                <a:cubicBezTo>
                  <a:pt x="9157" y="4938"/>
                  <a:pt x="9188" y="4920"/>
                  <a:pt x="9233" y="4917"/>
                </a:cubicBezTo>
                <a:cubicBezTo>
                  <a:pt x="9294" y="4913"/>
                  <a:pt x="9390" y="4963"/>
                  <a:pt x="9381" y="5037"/>
                </a:cubicBezTo>
                <a:cubicBezTo>
                  <a:pt x="9376" y="5078"/>
                  <a:pt x="9333" y="5108"/>
                  <a:pt x="9300" y="5124"/>
                </a:cubicBezTo>
                <a:cubicBezTo>
                  <a:pt x="9261" y="5142"/>
                  <a:pt x="9215" y="5146"/>
                  <a:pt x="9177" y="5125"/>
                </a:cubicBezTo>
                <a:cubicBezTo>
                  <a:pt x="9149" y="5109"/>
                  <a:pt x="9134" y="5077"/>
                  <a:pt x="9120" y="5050"/>
                </a:cubicBezTo>
              </a:path>
              <a:path w="1908" h="1830">
                <a:moveTo>
                  <a:pt x="9382" y="3311"/>
                </a:moveTo>
                <a:cubicBezTo>
                  <a:pt x="9397" y="3338"/>
                  <a:pt x="9412" y="3364"/>
                  <a:pt x="9429" y="3391"/>
                </a:cubicBezTo>
                <a:cubicBezTo>
                  <a:pt x="9458" y="3437"/>
                  <a:pt x="9477" y="3488"/>
                  <a:pt x="9487" y="3542"/>
                </a:cubicBezTo>
                <a:cubicBezTo>
                  <a:pt x="9509" y="3662"/>
                  <a:pt x="9504" y="3787"/>
                  <a:pt x="9508" y="3909"/>
                </a:cubicBezTo>
                <a:cubicBezTo>
                  <a:pt x="9513" y="4042"/>
                  <a:pt x="9530" y="4175"/>
                  <a:pt x="9528" y="4309"/>
                </a:cubicBezTo>
                <a:cubicBezTo>
                  <a:pt x="9526" y="4444"/>
                  <a:pt x="9487" y="4586"/>
                  <a:pt x="9440" y="4712"/>
                </a:cubicBezTo>
                <a:cubicBezTo>
                  <a:pt x="9434" y="4727"/>
                  <a:pt x="9426" y="4741"/>
                  <a:pt x="9420" y="4755"/>
                </a:cubicBezTo>
                <a:cubicBezTo>
                  <a:pt x="9409" y="4738"/>
                  <a:pt x="9403" y="4726"/>
                  <a:pt x="9389" y="4711"/>
                </a:cubicBezTo>
                <a:cubicBezTo>
                  <a:pt x="9372" y="4693"/>
                  <a:pt x="9364" y="4678"/>
                  <a:pt x="9353" y="4655"/>
                </a:cubicBezTo>
                <a:cubicBezTo>
                  <a:pt x="9345" y="4637"/>
                  <a:pt x="9335" y="4618"/>
                  <a:pt x="9329" y="4599"/>
                </a:cubicBezTo>
                <a:cubicBezTo>
                  <a:pt x="9325" y="4590"/>
                  <a:pt x="9324" y="4588"/>
                  <a:pt x="9326" y="4581"/>
                </a:cubicBezTo>
                <a:cubicBezTo>
                  <a:pt x="9343" y="4596"/>
                  <a:pt x="9351" y="4603"/>
                  <a:pt x="9367" y="4622"/>
                </a:cubicBezTo>
              </a:path>
              <a:path w="1908" h="1830">
                <a:moveTo>
                  <a:pt x="9476" y="4797"/>
                </a:moveTo>
                <a:cubicBezTo>
                  <a:pt x="9501" y="4794"/>
                  <a:pt x="9526" y="4779"/>
                  <a:pt x="9547" y="4761"/>
                </a:cubicBezTo>
                <a:cubicBezTo>
                  <a:pt x="9570" y="4741"/>
                  <a:pt x="9603" y="4720"/>
                  <a:pt x="9623" y="4696"/>
                </a:cubicBezTo>
                <a:cubicBezTo>
                  <a:pt x="9626" y="4690"/>
                  <a:pt x="9630" y="4684"/>
                  <a:pt x="9633" y="467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312920" y="1222200"/>
            <a:ext cx="880920" cy="493920"/>
          </a:xfrm>
          <a:custGeom>
            <a:avLst/>
            <a:gdLst/>
            <a:ahLst/>
            <a:rect l="l" t="t" r="r" b="b"/>
            <a:pathLst>
              <a:path w="2447" h="1368">
                <a:moveTo>
                  <a:pt x="4140" y="3815"/>
                </a:moveTo>
                <a:cubicBezTo>
                  <a:pt x="4129" y="3775"/>
                  <a:pt x="4127" y="3787"/>
                  <a:pt x="4098" y="3763"/>
                </a:cubicBezTo>
                <a:cubicBezTo>
                  <a:pt x="4067" y="3789"/>
                  <a:pt x="4040" y="3812"/>
                  <a:pt x="4018" y="3848"/>
                </a:cubicBezTo>
                <a:cubicBezTo>
                  <a:pt x="3980" y="3911"/>
                  <a:pt x="3953" y="3983"/>
                  <a:pt x="3936" y="4054"/>
                </a:cubicBezTo>
                <a:cubicBezTo>
                  <a:pt x="3902" y="4195"/>
                  <a:pt x="3905" y="4355"/>
                  <a:pt x="3927" y="4498"/>
                </a:cubicBezTo>
                <a:cubicBezTo>
                  <a:pt x="3937" y="4560"/>
                  <a:pt x="3951" y="4635"/>
                  <a:pt x="3986" y="4689"/>
                </a:cubicBezTo>
                <a:cubicBezTo>
                  <a:pt x="4035" y="4764"/>
                  <a:pt x="4122" y="4779"/>
                  <a:pt x="4199" y="4740"/>
                </a:cubicBezTo>
                <a:cubicBezTo>
                  <a:pt x="4262" y="4708"/>
                  <a:pt x="4313" y="4653"/>
                  <a:pt x="4352" y="4595"/>
                </a:cubicBezTo>
                <a:cubicBezTo>
                  <a:pt x="4439" y="4465"/>
                  <a:pt x="4486" y="4300"/>
                  <a:pt x="4465" y="4144"/>
                </a:cubicBezTo>
                <a:cubicBezTo>
                  <a:pt x="4449" y="4024"/>
                  <a:pt x="4400" y="3897"/>
                  <a:pt x="4309" y="3814"/>
                </a:cubicBezTo>
                <a:cubicBezTo>
                  <a:pt x="4275" y="3783"/>
                  <a:pt x="4233" y="3757"/>
                  <a:pt x="4190" y="3781"/>
                </a:cubicBezTo>
                <a:cubicBezTo>
                  <a:pt x="4154" y="3801"/>
                  <a:pt x="4141" y="3837"/>
                  <a:pt x="4128" y="3873"/>
                </a:cubicBezTo>
              </a:path>
              <a:path w="2447" h="1368">
                <a:moveTo>
                  <a:pt x="3673" y="3828"/>
                </a:moveTo>
                <a:cubicBezTo>
                  <a:pt x="3666" y="3851"/>
                  <a:pt x="3663" y="3873"/>
                  <a:pt x="3656" y="3896"/>
                </a:cubicBezTo>
                <a:cubicBezTo>
                  <a:pt x="3657" y="3854"/>
                  <a:pt x="3668" y="3812"/>
                  <a:pt x="3676" y="3770"/>
                </a:cubicBezTo>
                <a:cubicBezTo>
                  <a:pt x="3690" y="3697"/>
                  <a:pt x="3705" y="3624"/>
                  <a:pt x="3722" y="3551"/>
                </a:cubicBezTo>
                <a:cubicBezTo>
                  <a:pt x="3730" y="3518"/>
                  <a:pt x="3736" y="3485"/>
                  <a:pt x="3745" y="3453"/>
                </a:cubicBezTo>
                <a:cubicBezTo>
                  <a:pt x="3773" y="3468"/>
                  <a:pt x="3775" y="3516"/>
                  <a:pt x="3784" y="3549"/>
                </a:cubicBezTo>
                <a:cubicBezTo>
                  <a:pt x="3800" y="3607"/>
                  <a:pt x="3815" y="3667"/>
                  <a:pt x="3835" y="3723"/>
                </a:cubicBezTo>
                <a:cubicBezTo>
                  <a:pt x="3847" y="3757"/>
                  <a:pt x="3872" y="3780"/>
                  <a:pt x="3833" y="3758"/>
                </a:cubicBezTo>
              </a:path>
              <a:path w="2447" h="1368">
                <a:moveTo>
                  <a:pt x="3648" y="3630"/>
                </a:moveTo>
                <a:cubicBezTo>
                  <a:pt x="3668" y="3645"/>
                  <a:pt x="3703" y="3646"/>
                  <a:pt x="3729" y="3649"/>
                </a:cubicBezTo>
                <a:cubicBezTo>
                  <a:pt x="3774" y="3654"/>
                  <a:pt x="3818" y="3662"/>
                  <a:pt x="3863" y="3668"/>
                </a:cubicBezTo>
                <a:cubicBezTo>
                  <a:pt x="3885" y="3671"/>
                  <a:pt x="3908" y="3671"/>
                  <a:pt x="3930" y="3671"/>
                </a:cubicBezTo>
              </a:path>
              <a:path w="2447" h="1368">
                <a:moveTo>
                  <a:pt x="5474" y="3833"/>
                </a:moveTo>
                <a:cubicBezTo>
                  <a:pt x="5452" y="3851"/>
                  <a:pt x="5443" y="3865"/>
                  <a:pt x="5434" y="3901"/>
                </a:cubicBezTo>
                <a:cubicBezTo>
                  <a:pt x="5414" y="3977"/>
                  <a:pt x="5402" y="4058"/>
                  <a:pt x="5394" y="4136"/>
                </a:cubicBezTo>
                <a:cubicBezTo>
                  <a:pt x="5380" y="4272"/>
                  <a:pt x="5374" y="4421"/>
                  <a:pt x="5400" y="4556"/>
                </a:cubicBezTo>
                <a:cubicBezTo>
                  <a:pt x="5412" y="4620"/>
                  <a:pt x="5439" y="4728"/>
                  <a:pt x="5514" y="4747"/>
                </a:cubicBezTo>
                <a:cubicBezTo>
                  <a:pt x="5555" y="4757"/>
                  <a:pt x="5589" y="4722"/>
                  <a:pt x="5611" y="4693"/>
                </a:cubicBezTo>
                <a:cubicBezTo>
                  <a:pt x="5651" y="4639"/>
                  <a:pt x="5669" y="4571"/>
                  <a:pt x="5683" y="4506"/>
                </a:cubicBezTo>
                <a:cubicBezTo>
                  <a:pt x="5706" y="4397"/>
                  <a:pt x="5710" y="4282"/>
                  <a:pt x="5706" y="4171"/>
                </a:cubicBezTo>
                <a:cubicBezTo>
                  <a:pt x="5703" y="4095"/>
                  <a:pt x="5697" y="4018"/>
                  <a:pt x="5681" y="3943"/>
                </a:cubicBezTo>
                <a:cubicBezTo>
                  <a:pt x="5676" y="3921"/>
                  <a:pt x="5650" y="3775"/>
                  <a:pt x="5609" y="3777"/>
                </a:cubicBezTo>
                <a:cubicBezTo>
                  <a:pt x="5585" y="3778"/>
                  <a:pt x="5569" y="3802"/>
                  <a:pt x="5553" y="3817"/>
                </a:cubicBezTo>
              </a:path>
              <a:path w="2447" h="1368">
                <a:moveTo>
                  <a:pt x="5805" y="3425"/>
                </a:moveTo>
                <a:cubicBezTo>
                  <a:pt x="5807" y="3466"/>
                  <a:pt x="5804" y="3506"/>
                  <a:pt x="5806" y="3547"/>
                </a:cubicBezTo>
                <a:cubicBezTo>
                  <a:pt x="5809" y="3590"/>
                  <a:pt x="5813" y="3633"/>
                  <a:pt x="5817" y="3675"/>
                </a:cubicBezTo>
                <a:cubicBezTo>
                  <a:pt x="5820" y="3694"/>
                  <a:pt x="5821" y="3698"/>
                  <a:pt x="5820" y="3709"/>
                </a:cubicBezTo>
                <a:cubicBezTo>
                  <a:pt x="5806" y="3675"/>
                  <a:pt x="5801" y="3646"/>
                  <a:pt x="5803" y="3608"/>
                </a:cubicBezTo>
                <a:cubicBezTo>
                  <a:pt x="5806" y="3535"/>
                  <a:pt x="5838" y="3438"/>
                  <a:pt x="5909" y="3403"/>
                </a:cubicBezTo>
                <a:cubicBezTo>
                  <a:pt x="5940" y="3388"/>
                  <a:pt x="5969" y="3401"/>
                  <a:pt x="5978" y="3434"/>
                </a:cubicBezTo>
                <a:cubicBezTo>
                  <a:pt x="5988" y="3472"/>
                  <a:pt x="5979" y="3517"/>
                  <a:pt x="5969" y="3554"/>
                </a:cubicBezTo>
                <a:cubicBezTo>
                  <a:pt x="5963" y="3577"/>
                  <a:pt x="5958" y="3586"/>
                  <a:pt x="5961" y="3608"/>
                </a:cubicBezTo>
                <a:cubicBezTo>
                  <a:pt x="5992" y="3600"/>
                  <a:pt x="6024" y="3588"/>
                  <a:pt x="6056" y="3604"/>
                </a:cubicBezTo>
                <a:cubicBezTo>
                  <a:pt x="6094" y="3623"/>
                  <a:pt x="6098" y="3668"/>
                  <a:pt x="6091" y="3705"/>
                </a:cubicBezTo>
                <a:cubicBezTo>
                  <a:pt x="6081" y="3760"/>
                  <a:pt x="6047" y="3791"/>
                  <a:pt x="6007" y="3825"/>
                </a:cubicBezTo>
                <a:cubicBezTo>
                  <a:pt x="5975" y="3852"/>
                  <a:pt x="5945" y="3866"/>
                  <a:pt x="5903" y="3862"/>
                </a:cubicBezTo>
                <a:cubicBezTo>
                  <a:pt x="5897" y="3861"/>
                  <a:pt x="5890" y="3859"/>
                  <a:pt x="5884" y="3858"/>
                </a:cubicBezTo>
              </a:path>
              <a:path w="2447" h="1368">
                <a:moveTo>
                  <a:pt x="4178" y="4006"/>
                </a:moveTo>
                <a:cubicBezTo>
                  <a:pt x="4174" y="3991"/>
                  <a:pt x="4166" y="3979"/>
                  <a:pt x="4186" y="3980"/>
                </a:cubicBezTo>
                <a:cubicBezTo>
                  <a:pt x="4191" y="3981"/>
                  <a:pt x="4197" y="3981"/>
                  <a:pt x="4202" y="3982"/>
                </a:cubicBezTo>
              </a:path>
              <a:path w="2447" h="1368">
                <a:moveTo>
                  <a:pt x="4194" y="4013"/>
                </a:moveTo>
                <a:cubicBezTo>
                  <a:pt x="4215" y="4020"/>
                  <a:pt x="4236" y="4029"/>
                  <a:pt x="4258" y="4035"/>
                </a:cubicBezTo>
                <a:cubicBezTo>
                  <a:pt x="4282" y="4042"/>
                  <a:pt x="4307" y="4047"/>
                  <a:pt x="4331" y="4051"/>
                </a:cubicBezTo>
                <a:cubicBezTo>
                  <a:pt x="4367" y="4057"/>
                  <a:pt x="4403" y="4065"/>
                  <a:pt x="4440" y="4072"/>
                </a:cubicBezTo>
                <a:cubicBezTo>
                  <a:pt x="4482" y="4080"/>
                  <a:pt x="4524" y="4087"/>
                  <a:pt x="4566" y="4092"/>
                </a:cubicBezTo>
                <a:cubicBezTo>
                  <a:pt x="4695" y="4107"/>
                  <a:pt x="4823" y="4114"/>
                  <a:pt x="4951" y="4134"/>
                </a:cubicBezTo>
                <a:cubicBezTo>
                  <a:pt x="5055" y="4150"/>
                  <a:pt x="5169" y="4149"/>
                  <a:pt x="5270" y="4179"/>
                </a:cubicBezTo>
                <a:cubicBezTo>
                  <a:pt x="5303" y="4189"/>
                  <a:pt x="5330" y="4202"/>
                  <a:pt x="5365" y="4204"/>
                </a:cubicBezTo>
                <a:cubicBezTo>
                  <a:pt x="5385" y="4205"/>
                  <a:pt x="5441" y="4213"/>
                  <a:pt x="5456" y="4197"/>
                </a:cubicBezTo>
                <a:cubicBezTo>
                  <a:pt x="5477" y="4174"/>
                  <a:pt x="5442" y="4133"/>
                  <a:pt x="5429" y="4116"/>
                </a:cubicBezTo>
                <a:cubicBezTo>
                  <a:pt x="5419" y="4105"/>
                  <a:pt x="5414" y="4099"/>
                  <a:pt x="5407" y="4091"/>
                </a:cubicBezTo>
                <a:cubicBezTo>
                  <a:pt x="5423" y="4098"/>
                  <a:pt x="5441" y="4099"/>
                  <a:pt x="5456" y="4113"/>
                </a:cubicBezTo>
                <a:cubicBezTo>
                  <a:pt x="5477" y="4132"/>
                  <a:pt x="5487" y="4150"/>
                  <a:pt x="5479" y="4178"/>
                </a:cubicBezTo>
                <a:cubicBezTo>
                  <a:pt x="5466" y="4225"/>
                  <a:pt x="5422" y="4251"/>
                  <a:pt x="5394" y="4284"/>
                </a:cubicBezTo>
                <a:cubicBezTo>
                  <a:pt x="5384" y="4295"/>
                  <a:pt x="5377" y="4310"/>
                  <a:pt x="5367" y="4322"/>
                </a:cubicBezTo>
              </a:path>
              <a:path w="2447" h="1368">
                <a:moveTo>
                  <a:pt x="4103" y="4433"/>
                </a:moveTo>
                <a:cubicBezTo>
                  <a:pt x="4123" y="4436"/>
                  <a:pt x="4142" y="4439"/>
                  <a:pt x="4162" y="4441"/>
                </a:cubicBezTo>
                <a:cubicBezTo>
                  <a:pt x="4202" y="4446"/>
                  <a:pt x="4241" y="4448"/>
                  <a:pt x="4281" y="4452"/>
                </a:cubicBezTo>
                <a:cubicBezTo>
                  <a:pt x="4342" y="4459"/>
                  <a:pt x="4402" y="4461"/>
                  <a:pt x="4463" y="4464"/>
                </a:cubicBezTo>
                <a:cubicBezTo>
                  <a:pt x="4649" y="4474"/>
                  <a:pt x="4832" y="4460"/>
                  <a:pt x="5017" y="4449"/>
                </a:cubicBezTo>
                <a:cubicBezTo>
                  <a:pt x="5129" y="4442"/>
                  <a:pt x="5241" y="4444"/>
                  <a:pt x="5353" y="4441"/>
                </a:cubicBezTo>
                <a:cubicBezTo>
                  <a:pt x="5377" y="4440"/>
                  <a:pt x="5401" y="4437"/>
                  <a:pt x="5425" y="4436"/>
                </a:cubicBezTo>
                <a:cubicBezTo>
                  <a:pt x="5438" y="4435"/>
                  <a:pt x="5451" y="4436"/>
                  <a:pt x="5464" y="4435"/>
                </a:cubicBezTo>
                <a:cubicBezTo>
                  <a:pt x="5457" y="4421"/>
                  <a:pt x="5473" y="4425"/>
                  <a:pt x="5468" y="4410"/>
                </a:cubicBezTo>
                <a:cubicBezTo>
                  <a:pt x="5466" y="4405"/>
                  <a:pt x="5430" y="4409"/>
                  <a:pt x="5461" y="4392"/>
                </a:cubicBezTo>
                <a:cubicBezTo>
                  <a:pt x="5473" y="4389"/>
                  <a:pt x="5476" y="4388"/>
                  <a:pt x="5484" y="4389"/>
                </a:cubicBezTo>
                <a:cubicBezTo>
                  <a:pt x="5464" y="4410"/>
                  <a:pt x="5450" y="4424"/>
                  <a:pt x="5422" y="4437"/>
                </a:cubicBezTo>
                <a:cubicBezTo>
                  <a:pt x="5398" y="4448"/>
                  <a:pt x="5372" y="4459"/>
                  <a:pt x="5345" y="4458"/>
                </a:cubicBezTo>
                <a:cubicBezTo>
                  <a:pt x="5324" y="4457"/>
                  <a:pt x="5298" y="4443"/>
                  <a:pt x="5303" y="4419"/>
                </a:cubicBezTo>
                <a:cubicBezTo>
                  <a:pt x="5307" y="4398"/>
                  <a:pt x="5334" y="4391"/>
                  <a:pt x="5351" y="4391"/>
                </a:cubicBezTo>
                <a:cubicBezTo>
                  <a:pt x="5368" y="4391"/>
                  <a:pt x="5398" y="4399"/>
                  <a:pt x="5410" y="4413"/>
                </a:cubicBezTo>
                <a:cubicBezTo>
                  <a:pt x="5426" y="4430"/>
                  <a:pt x="5419" y="4456"/>
                  <a:pt x="5418" y="4475"/>
                </a:cubicBezTo>
                <a:cubicBezTo>
                  <a:pt x="5417" y="4484"/>
                  <a:pt x="5416" y="4492"/>
                  <a:pt x="5415" y="4501"/>
                </a:cubicBezTo>
              </a:path>
              <a:path w="2447" h="1368">
                <a:moveTo>
                  <a:pt x="4139" y="4687"/>
                </a:moveTo>
                <a:cubicBezTo>
                  <a:pt x="4160" y="4684"/>
                  <a:pt x="4176" y="4680"/>
                  <a:pt x="4198" y="4681"/>
                </a:cubicBezTo>
                <a:cubicBezTo>
                  <a:pt x="4239" y="4682"/>
                  <a:pt x="4278" y="4688"/>
                  <a:pt x="4318" y="4693"/>
                </a:cubicBezTo>
                <a:cubicBezTo>
                  <a:pt x="4378" y="4700"/>
                  <a:pt x="4436" y="4713"/>
                  <a:pt x="4496" y="4720"/>
                </a:cubicBezTo>
                <a:cubicBezTo>
                  <a:pt x="4580" y="4730"/>
                  <a:pt x="4665" y="4732"/>
                  <a:pt x="4750" y="4730"/>
                </a:cubicBezTo>
                <a:cubicBezTo>
                  <a:pt x="4857" y="4728"/>
                  <a:pt x="4963" y="4719"/>
                  <a:pt x="5070" y="4717"/>
                </a:cubicBezTo>
                <a:cubicBezTo>
                  <a:pt x="5161" y="4716"/>
                  <a:pt x="5252" y="4710"/>
                  <a:pt x="5342" y="4706"/>
                </a:cubicBezTo>
                <a:cubicBezTo>
                  <a:pt x="5356" y="4705"/>
                  <a:pt x="5376" y="4705"/>
                  <a:pt x="5380" y="4688"/>
                </a:cubicBezTo>
                <a:cubicBezTo>
                  <a:pt x="5386" y="4664"/>
                  <a:pt x="5352" y="4643"/>
                  <a:pt x="5335" y="4632"/>
                </a:cubicBezTo>
                <a:cubicBezTo>
                  <a:pt x="5314" y="4618"/>
                  <a:pt x="5289" y="4609"/>
                  <a:pt x="5269" y="4593"/>
                </a:cubicBezTo>
                <a:cubicBezTo>
                  <a:pt x="5266" y="4590"/>
                  <a:pt x="5264" y="4586"/>
                  <a:pt x="5261" y="4583"/>
                </a:cubicBezTo>
                <a:cubicBezTo>
                  <a:pt x="5283" y="4578"/>
                  <a:pt x="5295" y="4575"/>
                  <a:pt x="5320" y="4576"/>
                </a:cubicBezTo>
                <a:cubicBezTo>
                  <a:pt x="5346" y="4577"/>
                  <a:pt x="5376" y="4584"/>
                  <a:pt x="5399" y="4596"/>
                </a:cubicBezTo>
                <a:cubicBezTo>
                  <a:pt x="5419" y="4607"/>
                  <a:pt x="5421" y="4614"/>
                  <a:pt x="5413" y="4633"/>
                </a:cubicBezTo>
                <a:cubicBezTo>
                  <a:pt x="5403" y="4656"/>
                  <a:pt x="5370" y="4665"/>
                  <a:pt x="5353" y="4680"/>
                </a:cubicBezTo>
                <a:cubicBezTo>
                  <a:pt x="5335" y="4696"/>
                  <a:pt x="5324" y="4714"/>
                  <a:pt x="5311" y="473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2587680" y="1352520"/>
            <a:ext cx="1112760" cy="211320"/>
          </a:xfrm>
          <a:custGeom>
            <a:avLst/>
            <a:gdLst/>
            <a:ahLst/>
            <a:rect l="l" t="t" r="r" b="b"/>
            <a:pathLst>
              <a:path w="3093" h="585">
                <a:moveTo>
                  <a:pt x="7380" y="4038"/>
                </a:moveTo>
                <a:cubicBezTo>
                  <a:pt x="7350" y="4038"/>
                  <a:pt x="7339" y="4040"/>
                  <a:pt x="7311" y="4054"/>
                </a:cubicBezTo>
                <a:cubicBezTo>
                  <a:pt x="7265" y="4078"/>
                  <a:pt x="7232" y="4122"/>
                  <a:pt x="7210" y="4169"/>
                </a:cubicBezTo>
                <a:cubicBezTo>
                  <a:pt x="7190" y="4212"/>
                  <a:pt x="7172" y="4275"/>
                  <a:pt x="7194" y="4321"/>
                </a:cubicBezTo>
                <a:cubicBezTo>
                  <a:pt x="7199" y="4327"/>
                  <a:pt x="7205" y="4332"/>
                  <a:pt x="7210" y="4338"/>
                </a:cubicBezTo>
                <a:cubicBezTo>
                  <a:pt x="7262" y="4338"/>
                  <a:pt x="7288" y="4314"/>
                  <a:pt x="7321" y="4271"/>
                </a:cubicBezTo>
                <a:cubicBezTo>
                  <a:pt x="7371" y="4205"/>
                  <a:pt x="7398" y="4124"/>
                  <a:pt x="7419" y="4045"/>
                </a:cubicBezTo>
                <a:cubicBezTo>
                  <a:pt x="7437" y="3977"/>
                  <a:pt x="7448" y="3902"/>
                  <a:pt x="7442" y="3832"/>
                </a:cubicBezTo>
                <a:cubicBezTo>
                  <a:pt x="7438" y="3810"/>
                  <a:pt x="7440" y="3804"/>
                  <a:pt x="7428" y="3796"/>
                </a:cubicBezTo>
                <a:cubicBezTo>
                  <a:pt x="7399" y="3865"/>
                  <a:pt x="7391" y="3935"/>
                  <a:pt x="7394" y="4011"/>
                </a:cubicBezTo>
                <a:cubicBezTo>
                  <a:pt x="7397" y="4104"/>
                  <a:pt x="7408" y="4206"/>
                  <a:pt x="7461" y="4286"/>
                </a:cubicBezTo>
                <a:cubicBezTo>
                  <a:pt x="7493" y="4319"/>
                  <a:pt x="7502" y="4329"/>
                  <a:pt x="7531" y="4341"/>
                </a:cubicBezTo>
              </a:path>
              <a:path w="3093" h="585">
                <a:moveTo>
                  <a:pt x="7713" y="4082"/>
                </a:moveTo>
                <a:cubicBezTo>
                  <a:pt x="7672" y="4092"/>
                  <a:pt x="7631" y="4121"/>
                  <a:pt x="7603" y="4154"/>
                </a:cubicBezTo>
                <a:cubicBezTo>
                  <a:pt x="7573" y="4189"/>
                  <a:pt x="7534" y="4249"/>
                  <a:pt x="7536" y="4298"/>
                </a:cubicBezTo>
                <a:cubicBezTo>
                  <a:pt x="7538" y="4349"/>
                  <a:pt x="7597" y="4334"/>
                  <a:pt x="7627" y="4325"/>
                </a:cubicBezTo>
                <a:cubicBezTo>
                  <a:pt x="7686" y="4306"/>
                  <a:pt x="7737" y="4267"/>
                  <a:pt x="7779" y="4222"/>
                </a:cubicBezTo>
                <a:cubicBezTo>
                  <a:pt x="7811" y="4188"/>
                  <a:pt x="7832" y="4158"/>
                  <a:pt x="7834" y="4111"/>
                </a:cubicBezTo>
                <a:cubicBezTo>
                  <a:pt x="7835" y="4092"/>
                  <a:pt x="7829" y="4079"/>
                  <a:pt x="7822" y="4063"/>
                </a:cubicBezTo>
              </a:path>
              <a:path w="3093" h="585">
                <a:moveTo>
                  <a:pt x="7886" y="4197"/>
                </a:moveTo>
                <a:cubicBezTo>
                  <a:pt x="7887" y="4228"/>
                  <a:pt x="7880" y="4257"/>
                  <a:pt x="7878" y="4285"/>
                </a:cubicBezTo>
                <a:cubicBezTo>
                  <a:pt x="7879" y="4290"/>
                  <a:pt x="7880" y="4296"/>
                  <a:pt x="7881" y="4301"/>
                </a:cubicBezTo>
                <a:cubicBezTo>
                  <a:pt x="7908" y="4276"/>
                  <a:pt x="7925" y="4243"/>
                  <a:pt x="7948" y="4214"/>
                </a:cubicBezTo>
                <a:cubicBezTo>
                  <a:pt x="7976" y="4178"/>
                  <a:pt x="8021" y="4104"/>
                  <a:pt x="8070" y="4094"/>
                </a:cubicBezTo>
                <a:cubicBezTo>
                  <a:pt x="8075" y="4095"/>
                  <a:pt x="8081" y="4096"/>
                  <a:pt x="8086" y="4097"/>
                </a:cubicBezTo>
                <a:cubicBezTo>
                  <a:pt x="8100" y="4130"/>
                  <a:pt x="8095" y="4158"/>
                  <a:pt x="8088" y="4193"/>
                </a:cubicBezTo>
                <a:cubicBezTo>
                  <a:pt x="8082" y="4225"/>
                  <a:pt x="8072" y="4255"/>
                  <a:pt x="8058" y="4285"/>
                </a:cubicBezTo>
                <a:cubicBezTo>
                  <a:pt x="8089" y="4234"/>
                  <a:pt x="8137" y="4150"/>
                  <a:pt x="8201" y="4136"/>
                </a:cubicBezTo>
                <a:cubicBezTo>
                  <a:pt x="8235" y="4129"/>
                  <a:pt x="8254" y="4161"/>
                  <a:pt x="8269" y="4185"/>
                </a:cubicBezTo>
                <a:cubicBezTo>
                  <a:pt x="8292" y="4221"/>
                  <a:pt x="8310" y="4240"/>
                  <a:pt x="8347" y="4263"/>
                </a:cubicBezTo>
              </a:path>
              <a:path w="3093" h="585">
                <a:moveTo>
                  <a:pt x="8658" y="4101"/>
                </a:moveTo>
                <a:cubicBezTo>
                  <a:pt x="8657" y="4083"/>
                  <a:pt x="8658" y="4044"/>
                  <a:pt x="8628" y="4046"/>
                </a:cubicBezTo>
                <a:cubicBezTo>
                  <a:pt x="8600" y="4047"/>
                  <a:pt x="8560" y="4098"/>
                  <a:pt x="8545" y="4117"/>
                </a:cubicBezTo>
                <a:cubicBezTo>
                  <a:pt x="8513" y="4157"/>
                  <a:pt x="8481" y="4202"/>
                  <a:pt x="8464" y="4251"/>
                </a:cubicBezTo>
                <a:cubicBezTo>
                  <a:pt x="8459" y="4272"/>
                  <a:pt x="8456" y="4277"/>
                  <a:pt x="8464" y="4289"/>
                </a:cubicBezTo>
                <a:cubicBezTo>
                  <a:pt x="8500" y="4297"/>
                  <a:pt x="8526" y="4279"/>
                  <a:pt x="8558" y="4259"/>
                </a:cubicBezTo>
                <a:cubicBezTo>
                  <a:pt x="8600" y="4233"/>
                  <a:pt x="8635" y="4200"/>
                  <a:pt x="8675" y="4172"/>
                </a:cubicBezTo>
                <a:cubicBezTo>
                  <a:pt x="8694" y="4159"/>
                  <a:pt x="8700" y="4156"/>
                  <a:pt x="8720" y="4160"/>
                </a:cubicBezTo>
                <a:cubicBezTo>
                  <a:pt x="8730" y="4192"/>
                  <a:pt x="8728" y="4221"/>
                  <a:pt x="8730" y="4254"/>
                </a:cubicBezTo>
                <a:cubicBezTo>
                  <a:pt x="8731" y="4280"/>
                  <a:pt x="8738" y="4292"/>
                  <a:pt x="8752" y="4313"/>
                </a:cubicBezTo>
              </a:path>
              <a:path w="3093" h="585">
                <a:moveTo>
                  <a:pt x="8958" y="4061"/>
                </a:moveTo>
                <a:cubicBezTo>
                  <a:pt x="8953" y="4093"/>
                  <a:pt x="8947" y="4125"/>
                  <a:pt x="8945" y="4157"/>
                </a:cubicBezTo>
                <a:cubicBezTo>
                  <a:pt x="8943" y="4195"/>
                  <a:pt x="8951" y="4245"/>
                  <a:pt x="8971" y="4278"/>
                </a:cubicBezTo>
                <a:cubicBezTo>
                  <a:pt x="8981" y="4289"/>
                  <a:pt x="8982" y="4293"/>
                  <a:pt x="8992" y="4293"/>
                </a:cubicBezTo>
              </a:path>
              <a:path w="3093" h="585">
                <a:moveTo>
                  <a:pt x="9113" y="4123"/>
                </a:moveTo>
                <a:cubicBezTo>
                  <a:pt x="9113" y="4159"/>
                  <a:pt x="9113" y="4198"/>
                  <a:pt x="9106" y="4233"/>
                </a:cubicBezTo>
                <a:cubicBezTo>
                  <a:pt x="9104" y="4237"/>
                  <a:pt x="9103" y="4241"/>
                  <a:pt x="9101" y="4245"/>
                </a:cubicBezTo>
                <a:cubicBezTo>
                  <a:pt x="9116" y="4219"/>
                  <a:pt x="9127" y="4190"/>
                  <a:pt x="9143" y="4164"/>
                </a:cubicBezTo>
                <a:cubicBezTo>
                  <a:pt x="9152" y="4148"/>
                  <a:pt x="9175" y="4108"/>
                  <a:pt x="9200" y="4116"/>
                </a:cubicBezTo>
                <a:cubicBezTo>
                  <a:pt x="9228" y="4125"/>
                  <a:pt x="9240" y="4177"/>
                  <a:pt x="9250" y="4199"/>
                </a:cubicBezTo>
                <a:cubicBezTo>
                  <a:pt x="9265" y="4234"/>
                  <a:pt x="9285" y="4275"/>
                  <a:pt x="9312" y="4302"/>
                </a:cubicBezTo>
                <a:cubicBezTo>
                  <a:pt x="9317" y="4306"/>
                  <a:pt x="9323" y="4310"/>
                  <a:pt x="9328" y="4314"/>
                </a:cubicBezTo>
              </a:path>
              <a:path w="3093" h="585">
                <a:moveTo>
                  <a:pt x="9809" y="4294"/>
                </a:moveTo>
                <a:cubicBezTo>
                  <a:pt x="9813" y="4306"/>
                  <a:pt x="9814" y="4310"/>
                  <a:pt x="9814" y="4318"/>
                </a:cubicBezTo>
                <a:cubicBezTo>
                  <a:pt x="9814" y="4277"/>
                  <a:pt x="9820" y="4236"/>
                  <a:pt x="9829" y="4195"/>
                </a:cubicBezTo>
                <a:cubicBezTo>
                  <a:pt x="9857" y="4069"/>
                  <a:pt x="9897" y="3946"/>
                  <a:pt x="9949" y="3828"/>
                </a:cubicBezTo>
                <a:cubicBezTo>
                  <a:pt x="9964" y="3794"/>
                  <a:pt x="9969" y="3776"/>
                  <a:pt x="9997" y="3758"/>
                </a:cubicBezTo>
                <a:cubicBezTo>
                  <a:pt x="10019" y="3805"/>
                  <a:pt x="10020" y="3865"/>
                  <a:pt x="10020" y="3918"/>
                </a:cubicBezTo>
                <a:cubicBezTo>
                  <a:pt x="10021" y="3999"/>
                  <a:pt x="10027" y="4082"/>
                  <a:pt x="10021" y="4163"/>
                </a:cubicBezTo>
                <a:cubicBezTo>
                  <a:pt x="10019" y="4176"/>
                  <a:pt x="10018" y="4188"/>
                  <a:pt x="10016" y="4201"/>
                </a:cubicBezTo>
              </a:path>
              <a:path w="3093" h="585">
                <a:moveTo>
                  <a:pt x="9831" y="4109"/>
                </a:moveTo>
                <a:cubicBezTo>
                  <a:pt x="9832" y="4071"/>
                  <a:pt x="9864" y="4080"/>
                  <a:pt x="9899" y="4073"/>
                </a:cubicBezTo>
                <a:cubicBezTo>
                  <a:pt x="9967" y="4060"/>
                  <a:pt x="10036" y="4048"/>
                  <a:pt x="10105" y="4045"/>
                </a:cubicBezTo>
                <a:cubicBezTo>
                  <a:pt x="10163" y="4043"/>
                  <a:pt x="10221" y="4049"/>
                  <a:pt x="10278" y="405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4044960" y="1335240"/>
            <a:ext cx="1266840" cy="225360"/>
          </a:xfrm>
          <a:custGeom>
            <a:avLst/>
            <a:gdLst/>
            <a:ahLst/>
            <a:rect l="l" t="t" r="r" b="b"/>
            <a:pathLst>
              <a:path w="3523" h="623">
                <a:moveTo>
                  <a:pt x="11509" y="4019"/>
                </a:moveTo>
                <a:cubicBezTo>
                  <a:pt x="11485" y="3998"/>
                  <a:pt x="11459" y="3978"/>
                  <a:pt x="11424" y="3978"/>
                </a:cubicBezTo>
                <a:cubicBezTo>
                  <a:pt x="11380" y="3978"/>
                  <a:pt x="11335" y="4001"/>
                  <a:pt x="11302" y="4029"/>
                </a:cubicBezTo>
                <a:cubicBezTo>
                  <a:pt x="11259" y="4065"/>
                  <a:pt x="11233" y="4119"/>
                  <a:pt x="11234" y="4175"/>
                </a:cubicBezTo>
                <a:cubicBezTo>
                  <a:pt x="11235" y="4233"/>
                  <a:pt x="11275" y="4290"/>
                  <a:pt x="11326" y="4315"/>
                </a:cubicBezTo>
                <a:cubicBezTo>
                  <a:pt x="11370" y="4329"/>
                  <a:pt x="11384" y="4334"/>
                  <a:pt x="11415" y="4332"/>
                </a:cubicBezTo>
              </a:path>
              <a:path w="3523" h="623">
                <a:moveTo>
                  <a:pt x="11636" y="4081"/>
                </a:moveTo>
                <a:cubicBezTo>
                  <a:pt x="11598" y="4093"/>
                  <a:pt x="11584" y="4102"/>
                  <a:pt x="11561" y="4133"/>
                </a:cubicBezTo>
                <a:cubicBezTo>
                  <a:pt x="11538" y="4164"/>
                  <a:pt x="11520" y="4201"/>
                  <a:pt x="11535" y="4240"/>
                </a:cubicBezTo>
                <a:cubicBezTo>
                  <a:pt x="11550" y="4278"/>
                  <a:pt x="11596" y="4279"/>
                  <a:pt x="11629" y="4270"/>
                </a:cubicBezTo>
                <a:cubicBezTo>
                  <a:pt x="11677" y="4258"/>
                  <a:pt x="11721" y="4226"/>
                  <a:pt x="11754" y="4190"/>
                </a:cubicBezTo>
                <a:cubicBezTo>
                  <a:pt x="11777" y="4165"/>
                  <a:pt x="11800" y="4133"/>
                  <a:pt x="11793" y="4098"/>
                </a:cubicBezTo>
                <a:cubicBezTo>
                  <a:pt x="11788" y="4073"/>
                  <a:pt x="11747" y="4072"/>
                  <a:pt x="11728" y="4070"/>
                </a:cubicBezTo>
                <a:cubicBezTo>
                  <a:pt x="11721" y="4069"/>
                  <a:pt x="11714" y="4069"/>
                  <a:pt x="11707" y="4068"/>
                </a:cubicBezTo>
              </a:path>
              <a:path w="3523" h="623">
                <a:moveTo>
                  <a:pt x="12017" y="4091"/>
                </a:moveTo>
                <a:cubicBezTo>
                  <a:pt x="12028" y="4069"/>
                  <a:pt x="12029" y="4066"/>
                  <a:pt x="12017" y="4045"/>
                </a:cubicBezTo>
                <a:cubicBezTo>
                  <a:pt x="11972" y="4049"/>
                  <a:pt x="11953" y="4065"/>
                  <a:pt x="11921" y="4098"/>
                </a:cubicBezTo>
                <a:cubicBezTo>
                  <a:pt x="11884" y="4137"/>
                  <a:pt x="11833" y="4196"/>
                  <a:pt x="11834" y="4253"/>
                </a:cubicBezTo>
                <a:cubicBezTo>
                  <a:pt x="11836" y="4257"/>
                  <a:pt x="11837" y="4262"/>
                  <a:pt x="11839" y="4266"/>
                </a:cubicBezTo>
                <a:cubicBezTo>
                  <a:pt x="11880" y="4262"/>
                  <a:pt x="11906" y="4237"/>
                  <a:pt x="11935" y="4206"/>
                </a:cubicBezTo>
                <a:cubicBezTo>
                  <a:pt x="11983" y="4154"/>
                  <a:pt x="12021" y="4090"/>
                  <a:pt x="12050" y="4025"/>
                </a:cubicBezTo>
                <a:cubicBezTo>
                  <a:pt x="12074" y="3971"/>
                  <a:pt x="12095" y="3911"/>
                  <a:pt x="12104" y="3852"/>
                </a:cubicBezTo>
                <a:cubicBezTo>
                  <a:pt x="12106" y="3831"/>
                  <a:pt x="12108" y="3827"/>
                  <a:pt x="12102" y="3815"/>
                </a:cubicBezTo>
                <a:cubicBezTo>
                  <a:pt x="12066" y="3860"/>
                  <a:pt x="12062" y="3904"/>
                  <a:pt x="12053" y="3961"/>
                </a:cubicBezTo>
                <a:cubicBezTo>
                  <a:pt x="12041" y="4031"/>
                  <a:pt x="12040" y="4103"/>
                  <a:pt x="12074" y="4168"/>
                </a:cubicBezTo>
                <a:cubicBezTo>
                  <a:pt x="12082" y="4179"/>
                  <a:pt x="12090" y="4191"/>
                  <a:pt x="12098" y="4202"/>
                </a:cubicBezTo>
              </a:path>
              <a:path w="3523" h="623">
                <a:moveTo>
                  <a:pt x="12331" y="4066"/>
                </a:moveTo>
                <a:cubicBezTo>
                  <a:pt x="12319" y="4043"/>
                  <a:pt x="12313" y="4038"/>
                  <a:pt x="12289" y="4045"/>
                </a:cubicBezTo>
                <a:cubicBezTo>
                  <a:pt x="12252" y="4056"/>
                  <a:pt x="12224" y="4085"/>
                  <a:pt x="12200" y="4115"/>
                </a:cubicBezTo>
                <a:cubicBezTo>
                  <a:pt x="12185" y="4134"/>
                  <a:pt x="12154" y="4179"/>
                  <a:pt x="12172" y="4205"/>
                </a:cubicBezTo>
                <a:cubicBezTo>
                  <a:pt x="12191" y="4232"/>
                  <a:pt x="12246" y="4203"/>
                  <a:pt x="12265" y="4194"/>
                </a:cubicBezTo>
                <a:cubicBezTo>
                  <a:pt x="12314" y="4171"/>
                  <a:pt x="12343" y="4142"/>
                  <a:pt x="12378" y="4103"/>
                </a:cubicBezTo>
                <a:cubicBezTo>
                  <a:pt x="12404" y="4073"/>
                  <a:pt x="12425" y="4048"/>
                  <a:pt x="12444" y="4013"/>
                </a:cubicBezTo>
              </a:path>
              <a:path w="3523" h="623">
                <a:moveTo>
                  <a:pt x="12477" y="4033"/>
                </a:moveTo>
                <a:cubicBezTo>
                  <a:pt x="12473" y="4063"/>
                  <a:pt x="12465" y="4095"/>
                  <a:pt x="12464" y="4125"/>
                </a:cubicBezTo>
                <a:cubicBezTo>
                  <a:pt x="12464" y="4148"/>
                  <a:pt x="12464" y="4171"/>
                  <a:pt x="12466" y="4194"/>
                </a:cubicBezTo>
                <a:cubicBezTo>
                  <a:pt x="12490" y="4187"/>
                  <a:pt x="12501" y="4159"/>
                  <a:pt x="12517" y="4134"/>
                </a:cubicBezTo>
                <a:cubicBezTo>
                  <a:pt x="12534" y="4109"/>
                  <a:pt x="12552" y="4079"/>
                  <a:pt x="12578" y="4062"/>
                </a:cubicBezTo>
                <a:cubicBezTo>
                  <a:pt x="12582" y="4060"/>
                  <a:pt x="12587" y="4058"/>
                  <a:pt x="12591" y="4056"/>
                </a:cubicBezTo>
                <a:cubicBezTo>
                  <a:pt x="12613" y="4072"/>
                  <a:pt x="12617" y="4092"/>
                  <a:pt x="12616" y="4121"/>
                </a:cubicBezTo>
                <a:cubicBezTo>
                  <a:pt x="12616" y="4136"/>
                  <a:pt x="12613" y="4152"/>
                  <a:pt x="12611" y="4167"/>
                </a:cubicBezTo>
                <a:cubicBezTo>
                  <a:pt x="12627" y="4139"/>
                  <a:pt x="12644" y="4099"/>
                  <a:pt x="12669" y="4078"/>
                </a:cubicBezTo>
                <a:cubicBezTo>
                  <a:pt x="12684" y="4066"/>
                  <a:pt x="12702" y="4070"/>
                  <a:pt x="12717" y="4079"/>
                </a:cubicBezTo>
                <a:cubicBezTo>
                  <a:pt x="12743" y="4095"/>
                  <a:pt x="12769" y="4113"/>
                  <a:pt x="12795" y="4129"/>
                </a:cubicBezTo>
                <a:cubicBezTo>
                  <a:pt x="12816" y="4142"/>
                  <a:pt x="12837" y="4163"/>
                  <a:pt x="12861" y="4170"/>
                </a:cubicBezTo>
                <a:cubicBezTo>
                  <a:pt x="12866" y="4171"/>
                  <a:pt x="12871" y="4171"/>
                  <a:pt x="12876" y="4172"/>
                </a:cubicBezTo>
                <a:cubicBezTo>
                  <a:pt x="12886" y="4156"/>
                  <a:pt x="12892" y="4141"/>
                  <a:pt x="12904" y="4125"/>
                </a:cubicBezTo>
              </a:path>
              <a:path w="3523" h="623">
                <a:moveTo>
                  <a:pt x="13233" y="3929"/>
                </a:moveTo>
                <a:cubicBezTo>
                  <a:pt x="13239" y="3896"/>
                  <a:pt x="13197" y="3946"/>
                  <a:pt x="13184" y="3956"/>
                </a:cubicBezTo>
                <a:cubicBezTo>
                  <a:pt x="13145" y="3987"/>
                  <a:pt x="13107" y="4017"/>
                  <a:pt x="13074" y="4054"/>
                </a:cubicBezTo>
                <a:cubicBezTo>
                  <a:pt x="13058" y="4072"/>
                  <a:pt x="13050" y="4083"/>
                  <a:pt x="13045" y="4104"/>
                </a:cubicBezTo>
                <a:cubicBezTo>
                  <a:pt x="13074" y="4106"/>
                  <a:pt x="13099" y="4096"/>
                  <a:pt x="13127" y="4086"/>
                </a:cubicBezTo>
                <a:cubicBezTo>
                  <a:pt x="13161" y="4074"/>
                  <a:pt x="13198" y="4055"/>
                  <a:pt x="13235" y="4054"/>
                </a:cubicBezTo>
                <a:cubicBezTo>
                  <a:pt x="13262" y="4053"/>
                  <a:pt x="13279" y="4068"/>
                  <a:pt x="13287" y="4093"/>
                </a:cubicBezTo>
                <a:cubicBezTo>
                  <a:pt x="13293" y="4112"/>
                  <a:pt x="13298" y="4132"/>
                  <a:pt x="13304" y="4151"/>
                </a:cubicBezTo>
              </a:path>
              <a:path w="3523" h="623">
                <a:moveTo>
                  <a:pt x="13441" y="4030"/>
                </a:moveTo>
                <a:cubicBezTo>
                  <a:pt x="13442" y="4058"/>
                  <a:pt x="13437" y="4086"/>
                  <a:pt x="13435" y="4114"/>
                </a:cubicBezTo>
                <a:cubicBezTo>
                  <a:pt x="13433" y="4142"/>
                  <a:pt x="13432" y="4167"/>
                  <a:pt x="13439" y="4193"/>
                </a:cubicBezTo>
              </a:path>
              <a:path w="3523" h="623">
                <a:moveTo>
                  <a:pt x="13449" y="3896"/>
                </a:moveTo>
                <a:cubicBezTo>
                  <a:pt x="13455" y="3878"/>
                  <a:pt x="13472" y="3833"/>
                  <a:pt x="13493" y="3824"/>
                </a:cubicBezTo>
                <a:cubicBezTo>
                  <a:pt x="13498" y="3824"/>
                  <a:pt x="13503" y="3825"/>
                  <a:pt x="13508" y="3825"/>
                </a:cubicBezTo>
              </a:path>
              <a:path w="3523" h="623">
                <a:moveTo>
                  <a:pt x="13575" y="4113"/>
                </a:moveTo>
                <a:cubicBezTo>
                  <a:pt x="13579" y="4130"/>
                  <a:pt x="13579" y="4135"/>
                  <a:pt x="13591" y="4139"/>
                </a:cubicBezTo>
                <a:cubicBezTo>
                  <a:pt x="13615" y="4128"/>
                  <a:pt x="13623" y="4106"/>
                  <a:pt x="13641" y="4084"/>
                </a:cubicBezTo>
                <a:cubicBezTo>
                  <a:pt x="13658" y="4064"/>
                  <a:pt x="13682" y="4028"/>
                  <a:pt x="13708" y="4018"/>
                </a:cubicBezTo>
                <a:cubicBezTo>
                  <a:pt x="13734" y="4008"/>
                  <a:pt x="13749" y="4041"/>
                  <a:pt x="13757" y="4059"/>
                </a:cubicBezTo>
                <a:cubicBezTo>
                  <a:pt x="13774" y="4097"/>
                  <a:pt x="13790" y="4140"/>
                  <a:pt x="13802" y="4179"/>
                </a:cubicBezTo>
                <a:cubicBezTo>
                  <a:pt x="13812" y="4211"/>
                  <a:pt x="13823" y="4236"/>
                  <a:pt x="13839" y="4265"/>
                </a:cubicBezTo>
              </a:path>
              <a:path w="3523" h="623">
                <a:moveTo>
                  <a:pt x="14288" y="3846"/>
                </a:moveTo>
                <a:cubicBezTo>
                  <a:pt x="14290" y="3863"/>
                  <a:pt x="14292" y="3878"/>
                  <a:pt x="14293" y="3895"/>
                </a:cubicBezTo>
                <a:cubicBezTo>
                  <a:pt x="14296" y="3931"/>
                  <a:pt x="14291" y="3968"/>
                  <a:pt x="14290" y="4004"/>
                </a:cubicBezTo>
                <a:cubicBezTo>
                  <a:pt x="14289" y="4035"/>
                  <a:pt x="14285" y="4067"/>
                  <a:pt x="14285" y="4098"/>
                </a:cubicBezTo>
                <a:cubicBezTo>
                  <a:pt x="14285" y="4102"/>
                  <a:pt x="14286" y="4105"/>
                  <a:pt x="14286" y="4109"/>
                </a:cubicBezTo>
                <a:cubicBezTo>
                  <a:pt x="14295" y="4072"/>
                  <a:pt x="14303" y="4035"/>
                  <a:pt x="14312" y="3998"/>
                </a:cubicBezTo>
                <a:cubicBezTo>
                  <a:pt x="14332" y="3912"/>
                  <a:pt x="14361" y="3826"/>
                  <a:pt x="14414" y="3755"/>
                </a:cubicBezTo>
                <a:cubicBezTo>
                  <a:pt x="14436" y="3726"/>
                  <a:pt x="14452" y="3708"/>
                  <a:pt x="14487" y="3716"/>
                </a:cubicBezTo>
                <a:cubicBezTo>
                  <a:pt x="14498" y="3752"/>
                  <a:pt x="14491" y="3775"/>
                  <a:pt x="14478" y="3811"/>
                </a:cubicBezTo>
                <a:cubicBezTo>
                  <a:pt x="14464" y="3849"/>
                  <a:pt x="14440" y="3877"/>
                  <a:pt x="14413" y="3907"/>
                </a:cubicBezTo>
                <a:cubicBezTo>
                  <a:pt x="14410" y="3910"/>
                  <a:pt x="14407" y="3914"/>
                  <a:pt x="14404" y="3917"/>
                </a:cubicBezTo>
                <a:cubicBezTo>
                  <a:pt x="14452" y="3917"/>
                  <a:pt x="14499" y="3915"/>
                  <a:pt x="14546" y="3924"/>
                </a:cubicBezTo>
                <a:cubicBezTo>
                  <a:pt x="14615" y="3938"/>
                  <a:pt x="14709" y="3966"/>
                  <a:pt x="14747" y="4032"/>
                </a:cubicBezTo>
                <a:cubicBezTo>
                  <a:pt x="14774" y="4079"/>
                  <a:pt x="14737" y="4109"/>
                  <a:pt x="14698" y="4126"/>
                </a:cubicBezTo>
                <a:cubicBezTo>
                  <a:pt x="14633" y="4154"/>
                  <a:pt x="14566" y="4152"/>
                  <a:pt x="14498" y="4144"/>
                </a:cubicBezTo>
                <a:cubicBezTo>
                  <a:pt x="14463" y="4140"/>
                  <a:pt x="14459" y="4140"/>
                  <a:pt x="14448" y="411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112760" y="2060640"/>
            <a:ext cx="1403280" cy="681120"/>
          </a:xfrm>
          <a:custGeom>
            <a:avLst/>
            <a:gdLst/>
            <a:ahLst/>
            <a:rect l="l" t="t" r="r" b="b"/>
            <a:pathLst>
              <a:path w="3895" h="1890">
                <a:moveTo>
                  <a:pt x="3973" y="5840"/>
                </a:moveTo>
                <a:cubicBezTo>
                  <a:pt x="3925" y="5799"/>
                  <a:pt x="3895" y="5759"/>
                  <a:pt x="3833" y="5812"/>
                </a:cubicBezTo>
                <a:cubicBezTo>
                  <a:pt x="3792" y="5847"/>
                  <a:pt x="3759" y="5906"/>
                  <a:pt x="3735" y="5953"/>
                </a:cubicBezTo>
                <a:cubicBezTo>
                  <a:pt x="3691" y="6038"/>
                  <a:pt x="3664" y="6128"/>
                  <a:pt x="3641" y="6220"/>
                </a:cubicBezTo>
                <a:cubicBezTo>
                  <a:pt x="3600" y="6385"/>
                  <a:pt x="3586" y="6559"/>
                  <a:pt x="3585" y="6728"/>
                </a:cubicBezTo>
                <a:cubicBezTo>
                  <a:pt x="3584" y="6830"/>
                  <a:pt x="3591" y="6932"/>
                  <a:pt x="3601" y="7033"/>
                </a:cubicBezTo>
                <a:cubicBezTo>
                  <a:pt x="3612" y="7148"/>
                  <a:pt x="3623" y="7319"/>
                  <a:pt x="3705" y="7411"/>
                </a:cubicBezTo>
                <a:cubicBezTo>
                  <a:pt x="3789" y="7506"/>
                  <a:pt x="3894" y="7518"/>
                  <a:pt x="4015" y="7502"/>
                </a:cubicBezTo>
                <a:cubicBezTo>
                  <a:pt x="4135" y="7486"/>
                  <a:pt x="4254" y="7447"/>
                  <a:pt x="4331" y="7349"/>
                </a:cubicBezTo>
                <a:cubicBezTo>
                  <a:pt x="4450" y="7198"/>
                  <a:pt x="4501" y="6979"/>
                  <a:pt x="4537" y="6795"/>
                </a:cubicBezTo>
                <a:cubicBezTo>
                  <a:pt x="4553" y="6714"/>
                  <a:pt x="4557" y="6634"/>
                  <a:pt x="4555" y="6552"/>
                </a:cubicBezTo>
                <a:cubicBezTo>
                  <a:pt x="4549" y="6347"/>
                  <a:pt x="4499" y="6098"/>
                  <a:pt x="4384" y="5924"/>
                </a:cubicBezTo>
                <a:cubicBezTo>
                  <a:pt x="4320" y="5826"/>
                  <a:pt x="4158" y="5712"/>
                  <a:pt x="4034" y="5729"/>
                </a:cubicBezTo>
                <a:cubicBezTo>
                  <a:pt x="3992" y="5735"/>
                  <a:pt x="3992" y="5757"/>
                  <a:pt x="3977" y="5793"/>
                </a:cubicBezTo>
                <a:cubicBezTo>
                  <a:pt x="3975" y="5803"/>
                  <a:pt x="3973" y="5812"/>
                  <a:pt x="3971" y="5822"/>
                </a:cubicBezTo>
              </a:path>
              <a:path w="3895" h="1890">
                <a:moveTo>
                  <a:pt x="5928" y="5875"/>
                </a:moveTo>
                <a:cubicBezTo>
                  <a:pt x="5920" y="5836"/>
                  <a:pt x="5926" y="5831"/>
                  <a:pt x="5904" y="5799"/>
                </a:cubicBezTo>
                <a:cubicBezTo>
                  <a:pt x="5901" y="5797"/>
                  <a:pt x="5897" y="5795"/>
                  <a:pt x="5894" y="5793"/>
                </a:cubicBezTo>
                <a:cubicBezTo>
                  <a:pt x="5876" y="5808"/>
                  <a:pt x="5863" y="5799"/>
                  <a:pt x="5846" y="5826"/>
                </a:cubicBezTo>
                <a:cubicBezTo>
                  <a:pt x="5689" y="6077"/>
                  <a:pt x="5696" y="6498"/>
                  <a:pt x="5695" y="6780"/>
                </a:cubicBezTo>
                <a:cubicBezTo>
                  <a:pt x="5694" y="6954"/>
                  <a:pt x="5701" y="7145"/>
                  <a:pt x="5756" y="7312"/>
                </a:cubicBezTo>
                <a:cubicBezTo>
                  <a:pt x="5784" y="7397"/>
                  <a:pt x="5827" y="7474"/>
                  <a:pt x="5893" y="7536"/>
                </a:cubicBezTo>
                <a:cubicBezTo>
                  <a:pt x="5952" y="7592"/>
                  <a:pt x="6026" y="7623"/>
                  <a:pt x="6108" y="7612"/>
                </a:cubicBezTo>
                <a:cubicBezTo>
                  <a:pt x="6160" y="7605"/>
                  <a:pt x="6210" y="7581"/>
                  <a:pt x="6254" y="7555"/>
                </a:cubicBezTo>
                <a:cubicBezTo>
                  <a:pt x="6314" y="7520"/>
                  <a:pt x="6363" y="7470"/>
                  <a:pt x="6405" y="7415"/>
                </a:cubicBezTo>
                <a:cubicBezTo>
                  <a:pt x="6457" y="7347"/>
                  <a:pt x="6498" y="7269"/>
                  <a:pt x="6530" y="7190"/>
                </a:cubicBezTo>
                <a:cubicBezTo>
                  <a:pt x="6637" y="6930"/>
                  <a:pt x="6639" y="6651"/>
                  <a:pt x="6611" y="6376"/>
                </a:cubicBezTo>
                <a:cubicBezTo>
                  <a:pt x="6597" y="6242"/>
                  <a:pt x="6586" y="6086"/>
                  <a:pt x="6513" y="5969"/>
                </a:cubicBezTo>
                <a:cubicBezTo>
                  <a:pt x="6442" y="5856"/>
                  <a:pt x="6302" y="5787"/>
                  <a:pt x="6179" y="5746"/>
                </a:cubicBezTo>
                <a:cubicBezTo>
                  <a:pt x="6148" y="5736"/>
                  <a:pt x="6125" y="5725"/>
                  <a:pt x="6101" y="5745"/>
                </a:cubicBezTo>
                <a:cubicBezTo>
                  <a:pt x="6075" y="5767"/>
                  <a:pt x="6089" y="5789"/>
                  <a:pt x="6084" y="5818"/>
                </a:cubicBezTo>
              </a:path>
              <a:path w="3895" h="1890">
                <a:moveTo>
                  <a:pt x="4093" y="6139"/>
                </a:moveTo>
                <a:cubicBezTo>
                  <a:pt x="4078" y="6146"/>
                  <a:pt x="4067" y="6155"/>
                  <a:pt x="4052" y="6158"/>
                </a:cubicBezTo>
                <a:cubicBezTo>
                  <a:pt x="4051" y="6151"/>
                  <a:pt x="4068" y="6101"/>
                  <a:pt x="4077" y="6131"/>
                </a:cubicBezTo>
                <a:cubicBezTo>
                  <a:pt x="4081" y="6146"/>
                  <a:pt x="4060" y="6183"/>
                  <a:pt x="4053" y="6195"/>
                </a:cubicBezTo>
                <a:cubicBezTo>
                  <a:pt x="4044" y="6211"/>
                  <a:pt x="4037" y="6217"/>
                  <a:pt x="4022" y="6226"/>
                </a:cubicBezTo>
                <a:cubicBezTo>
                  <a:pt x="4002" y="6211"/>
                  <a:pt x="4002" y="6201"/>
                  <a:pt x="4005" y="6175"/>
                </a:cubicBezTo>
                <a:cubicBezTo>
                  <a:pt x="4007" y="6160"/>
                  <a:pt x="4013" y="6128"/>
                  <a:pt x="4027" y="6118"/>
                </a:cubicBezTo>
                <a:cubicBezTo>
                  <a:pt x="4042" y="6107"/>
                  <a:pt x="4057" y="6113"/>
                  <a:pt x="4071" y="6119"/>
                </a:cubicBezTo>
              </a:path>
              <a:path w="3895" h="1890">
                <a:moveTo>
                  <a:pt x="4027" y="6555"/>
                </a:moveTo>
                <a:cubicBezTo>
                  <a:pt x="4028" y="6540"/>
                  <a:pt x="4028" y="6512"/>
                  <a:pt x="4032" y="6499"/>
                </a:cubicBezTo>
                <a:cubicBezTo>
                  <a:pt x="4039" y="6480"/>
                  <a:pt x="4049" y="6449"/>
                  <a:pt x="4063" y="6433"/>
                </a:cubicBezTo>
                <a:cubicBezTo>
                  <a:pt x="4067" y="6430"/>
                  <a:pt x="4072" y="6426"/>
                  <a:pt x="4076" y="6423"/>
                </a:cubicBezTo>
                <a:cubicBezTo>
                  <a:pt x="4084" y="6452"/>
                  <a:pt x="4081" y="6473"/>
                  <a:pt x="4073" y="6503"/>
                </a:cubicBezTo>
                <a:cubicBezTo>
                  <a:pt x="4067" y="6524"/>
                  <a:pt x="4061" y="6560"/>
                  <a:pt x="4041" y="6574"/>
                </a:cubicBezTo>
                <a:cubicBezTo>
                  <a:pt x="4030" y="6576"/>
                  <a:pt x="4026" y="6577"/>
                  <a:pt x="4019" y="6572"/>
                </a:cubicBezTo>
                <a:cubicBezTo>
                  <a:pt x="4012" y="6555"/>
                  <a:pt x="4000" y="6530"/>
                  <a:pt x="4004" y="6511"/>
                </a:cubicBezTo>
                <a:cubicBezTo>
                  <a:pt x="4007" y="6494"/>
                  <a:pt x="4022" y="6488"/>
                  <a:pt x="4034" y="6481"/>
                </a:cubicBezTo>
              </a:path>
              <a:path w="3895" h="1890">
                <a:moveTo>
                  <a:pt x="4017" y="6878"/>
                </a:moveTo>
                <a:cubicBezTo>
                  <a:pt x="4022" y="6857"/>
                  <a:pt x="4030" y="6834"/>
                  <a:pt x="4034" y="6816"/>
                </a:cubicBezTo>
                <a:cubicBezTo>
                  <a:pt x="4040" y="6791"/>
                  <a:pt x="4045" y="6779"/>
                  <a:pt x="4064" y="6761"/>
                </a:cubicBezTo>
                <a:cubicBezTo>
                  <a:pt x="4073" y="6753"/>
                  <a:pt x="4075" y="6750"/>
                  <a:pt x="4084" y="6750"/>
                </a:cubicBezTo>
                <a:cubicBezTo>
                  <a:pt x="4103" y="6768"/>
                  <a:pt x="4104" y="6778"/>
                  <a:pt x="4100" y="6806"/>
                </a:cubicBezTo>
                <a:cubicBezTo>
                  <a:pt x="4097" y="6828"/>
                  <a:pt x="4087" y="6856"/>
                  <a:pt x="4069" y="6870"/>
                </a:cubicBezTo>
                <a:cubicBezTo>
                  <a:pt x="4054" y="6882"/>
                  <a:pt x="4036" y="6873"/>
                  <a:pt x="4027" y="6859"/>
                </a:cubicBezTo>
                <a:cubicBezTo>
                  <a:pt x="4020" y="6848"/>
                  <a:pt x="4009" y="6814"/>
                  <a:pt x="4016" y="6803"/>
                </a:cubicBezTo>
                <a:cubicBezTo>
                  <a:pt x="4019" y="6801"/>
                  <a:pt x="4023" y="6798"/>
                  <a:pt x="4026" y="6796"/>
                </a:cubicBezTo>
              </a:path>
              <a:path w="3895" h="1890">
                <a:moveTo>
                  <a:pt x="4000" y="7229"/>
                </a:moveTo>
                <a:cubicBezTo>
                  <a:pt x="3990" y="7202"/>
                  <a:pt x="3988" y="7191"/>
                  <a:pt x="4018" y="7175"/>
                </a:cubicBezTo>
                <a:cubicBezTo>
                  <a:pt x="4029" y="7169"/>
                  <a:pt x="4054" y="7164"/>
                  <a:pt x="4063" y="7177"/>
                </a:cubicBezTo>
                <a:cubicBezTo>
                  <a:pt x="4080" y="7203"/>
                  <a:pt x="4065" y="7219"/>
                  <a:pt x="4048" y="7239"/>
                </a:cubicBezTo>
                <a:cubicBezTo>
                  <a:pt x="4037" y="7252"/>
                  <a:pt x="4016" y="7267"/>
                  <a:pt x="3997" y="7262"/>
                </a:cubicBezTo>
                <a:cubicBezTo>
                  <a:pt x="3969" y="7254"/>
                  <a:pt x="3986" y="7224"/>
                  <a:pt x="3999" y="7211"/>
                </a:cubicBezTo>
                <a:cubicBezTo>
                  <a:pt x="4003" y="7207"/>
                  <a:pt x="4008" y="7204"/>
                  <a:pt x="4012" y="7200"/>
                </a:cubicBezTo>
              </a:path>
              <a:path w="3895" h="1890">
                <a:moveTo>
                  <a:pt x="6146" y="6121"/>
                </a:moveTo>
                <a:cubicBezTo>
                  <a:pt x="6131" y="6116"/>
                  <a:pt x="6106" y="6110"/>
                  <a:pt x="6096" y="6096"/>
                </a:cubicBezTo>
                <a:cubicBezTo>
                  <a:pt x="6094" y="6091"/>
                  <a:pt x="6093" y="6087"/>
                  <a:pt x="6091" y="6082"/>
                </a:cubicBezTo>
                <a:cubicBezTo>
                  <a:pt x="6105" y="6063"/>
                  <a:pt x="6113" y="6056"/>
                  <a:pt x="6139" y="6060"/>
                </a:cubicBezTo>
                <a:cubicBezTo>
                  <a:pt x="6163" y="6064"/>
                  <a:pt x="6180" y="6078"/>
                  <a:pt x="6187" y="6102"/>
                </a:cubicBezTo>
                <a:cubicBezTo>
                  <a:pt x="6194" y="6124"/>
                  <a:pt x="6189" y="6156"/>
                  <a:pt x="6171" y="6172"/>
                </a:cubicBezTo>
                <a:cubicBezTo>
                  <a:pt x="6155" y="6187"/>
                  <a:pt x="6130" y="6189"/>
                  <a:pt x="6113" y="6175"/>
                </a:cubicBezTo>
                <a:cubicBezTo>
                  <a:pt x="6098" y="6162"/>
                  <a:pt x="6087" y="6134"/>
                  <a:pt x="6091" y="6114"/>
                </a:cubicBezTo>
                <a:cubicBezTo>
                  <a:pt x="6095" y="6093"/>
                  <a:pt x="6108" y="6083"/>
                  <a:pt x="6129" y="6087"/>
                </a:cubicBezTo>
                <a:cubicBezTo>
                  <a:pt x="6142" y="6091"/>
                  <a:pt x="6147" y="6093"/>
                  <a:pt x="6154" y="6099"/>
                </a:cubicBezTo>
              </a:path>
              <a:path w="3895" h="1890">
                <a:moveTo>
                  <a:pt x="6143" y="6471"/>
                </a:moveTo>
                <a:cubicBezTo>
                  <a:pt x="6120" y="6462"/>
                  <a:pt x="6108" y="6456"/>
                  <a:pt x="6119" y="6429"/>
                </a:cubicBezTo>
                <a:cubicBezTo>
                  <a:pt x="6124" y="6416"/>
                  <a:pt x="6139" y="6399"/>
                  <a:pt x="6155" y="6399"/>
                </a:cubicBezTo>
                <a:cubicBezTo>
                  <a:pt x="6179" y="6399"/>
                  <a:pt x="6184" y="6422"/>
                  <a:pt x="6185" y="6441"/>
                </a:cubicBezTo>
                <a:cubicBezTo>
                  <a:pt x="6186" y="6468"/>
                  <a:pt x="6179" y="6497"/>
                  <a:pt x="6157" y="6514"/>
                </a:cubicBezTo>
                <a:cubicBezTo>
                  <a:pt x="6141" y="6527"/>
                  <a:pt x="6120" y="6526"/>
                  <a:pt x="6106" y="6512"/>
                </a:cubicBezTo>
                <a:cubicBezTo>
                  <a:pt x="6098" y="6504"/>
                  <a:pt x="6078" y="6473"/>
                  <a:pt x="6097" y="6464"/>
                </a:cubicBezTo>
                <a:cubicBezTo>
                  <a:pt x="6113" y="6462"/>
                  <a:pt x="6117" y="6461"/>
                  <a:pt x="6126" y="6466"/>
                </a:cubicBezTo>
              </a:path>
              <a:path w="3895" h="1890">
                <a:moveTo>
                  <a:pt x="6163" y="6836"/>
                </a:moveTo>
                <a:cubicBezTo>
                  <a:pt x="6161" y="6840"/>
                  <a:pt x="6158" y="6844"/>
                  <a:pt x="6156" y="6848"/>
                </a:cubicBezTo>
                <a:cubicBezTo>
                  <a:pt x="6150" y="6826"/>
                  <a:pt x="6153" y="6814"/>
                  <a:pt x="6157" y="6792"/>
                </a:cubicBezTo>
                <a:cubicBezTo>
                  <a:pt x="6159" y="6780"/>
                  <a:pt x="6161" y="6771"/>
                  <a:pt x="6164" y="6759"/>
                </a:cubicBezTo>
                <a:cubicBezTo>
                  <a:pt x="6187" y="6762"/>
                  <a:pt x="6192" y="6778"/>
                  <a:pt x="6190" y="6806"/>
                </a:cubicBezTo>
                <a:cubicBezTo>
                  <a:pt x="6188" y="6826"/>
                  <a:pt x="6179" y="6852"/>
                  <a:pt x="6159" y="6861"/>
                </a:cubicBezTo>
                <a:cubicBezTo>
                  <a:pt x="6139" y="6870"/>
                  <a:pt x="6114" y="6861"/>
                  <a:pt x="6099" y="6847"/>
                </a:cubicBezTo>
                <a:cubicBezTo>
                  <a:pt x="6089" y="6838"/>
                  <a:pt x="6072" y="6813"/>
                  <a:pt x="6077" y="6798"/>
                </a:cubicBezTo>
                <a:cubicBezTo>
                  <a:pt x="6084" y="6780"/>
                  <a:pt x="6106" y="6781"/>
                  <a:pt x="6120" y="6781"/>
                </a:cubicBezTo>
              </a:path>
              <a:path w="3895" h="1890">
                <a:moveTo>
                  <a:pt x="6142" y="7187"/>
                </a:moveTo>
                <a:cubicBezTo>
                  <a:pt x="6140" y="7174"/>
                  <a:pt x="6137" y="7166"/>
                  <a:pt x="6130" y="7154"/>
                </a:cubicBezTo>
                <a:cubicBezTo>
                  <a:pt x="6152" y="7150"/>
                  <a:pt x="6163" y="7160"/>
                  <a:pt x="6171" y="7185"/>
                </a:cubicBezTo>
                <a:cubicBezTo>
                  <a:pt x="6177" y="7205"/>
                  <a:pt x="6162" y="7220"/>
                  <a:pt x="6145" y="7227"/>
                </a:cubicBezTo>
                <a:cubicBezTo>
                  <a:pt x="6127" y="7234"/>
                  <a:pt x="6109" y="7229"/>
                  <a:pt x="6094" y="7218"/>
                </a:cubicBezTo>
                <a:cubicBezTo>
                  <a:pt x="6080" y="7207"/>
                  <a:pt x="6075" y="7191"/>
                  <a:pt x="6079" y="7174"/>
                </a:cubicBezTo>
                <a:cubicBezTo>
                  <a:pt x="6082" y="7159"/>
                  <a:pt x="6104" y="7144"/>
                  <a:pt x="6118" y="7155"/>
                </a:cubicBezTo>
                <a:cubicBezTo>
                  <a:pt x="6132" y="7165"/>
                  <a:pt x="6135" y="7203"/>
                  <a:pt x="6131" y="7185"/>
                </a:cubicBezTo>
              </a:path>
              <a:path w="3895" h="1890">
                <a:moveTo>
                  <a:pt x="6379" y="7003"/>
                </a:moveTo>
                <a:cubicBezTo>
                  <a:pt x="6387" y="6986"/>
                  <a:pt x="6393" y="6964"/>
                  <a:pt x="6405" y="6950"/>
                </a:cubicBezTo>
                <a:cubicBezTo>
                  <a:pt x="6416" y="6936"/>
                  <a:pt x="6420" y="6937"/>
                  <a:pt x="6435" y="6940"/>
                </a:cubicBezTo>
                <a:cubicBezTo>
                  <a:pt x="6436" y="6956"/>
                  <a:pt x="6436" y="6973"/>
                  <a:pt x="6426" y="6987"/>
                </a:cubicBezTo>
                <a:cubicBezTo>
                  <a:pt x="6416" y="7002"/>
                  <a:pt x="6398" y="7019"/>
                  <a:pt x="6379" y="7021"/>
                </a:cubicBezTo>
                <a:cubicBezTo>
                  <a:pt x="6360" y="7023"/>
                  <a:pt x="6349" y="7010"/>
                  <a:pt x="6341" y="6995"/>
                </a:cubicBezTo>
                <a:cubicBezTo>
                  <a:pt x="6336" y="6984"/>
                  <a:pt x="6330" y="6962"/>
                  <a:pt x="6340" y="6952"/>
                </a:cubicBezTo>
                <a:cubicBezTo>
                  <a:pt x="6363" y="6929"/>
                  <a:pt x="6385" y="6948"/>
                  <a:pt x="6396" y="6971"/>
                </a:cubicBezTo>
                <a:cubicBezTo>
                  <a:pt x="6404" y="6988"/>
                  <a:pt x="6405" y="7011"/>
                  <a:pt x="6405" y="7030"/>
                </a:cubicBezTo>
                <a:cubicBezTo>
                  <a:pt x="6404" y="7041"/>
                  <a:pt x="6404" y="7045"/>
                  <a:pt x="6393" y="7044"/>
                </a:cubicBezTo>
                <a:cubicBezTo>
                  <a:pt x="6392" y="7041"/>
                  <a:pt x="6367" y="6979"/>
                  <a:pt x="6370" y="6978"/>
                </a:cubicBezTo>
                <a:cubicBezTo>
                  <a:pt x="6373" y="6980"/>
                  <a:pt x="6377" y="6983"/>
                  <a:pt x="6380" y="6985"/>
                </a:cubicBezTo>
              </a:path>
              <a:path w="3895" h="1890">
                <a:moveTo>
                  <a:pt x="3110" y="6069"/>
                </a:moveTo>
                <a:cubicBezTo>
                  <a:pt x="3107" y="6088"/>
                  <a:pt x="3099" y="6100"/>
                  <a:pt x="3096" y="6120"/>
                </a:cubicBezTo>
                <a:cubicBezTo>
                  <a:pt x="3093" y="6141"/>
                  <a:pt x="3092" y="6146"/>
                  <a:pt x="3096" y="6159"/>
                </a:cubicBezTo>
                <a:cubicBezTo>
                  <a:pt x="3104" y="6135"/>
                  <a:pt x="3111" y="6111"/>
                  <a:pt x="3119" y="6087"/>
                </a:cubicBezTo>
                <a:cubicBezTo>
                  <a:pt x="3140" y="6027"/>
                  <a:pt x="3162" y="5969"/>
                  <a:pt x="3189" y="5911"/>
                </a:cubicBezTo>
                <a:cubicBezTo>
                  <a:pt x="3205" y="5877"/>
                  <a:pt x="3215" y="5829"/>
                  <a:pt x="3249" y="5813"/>
                </a:cubicBezTo>
                <a:cubicBezTo>
                  <a:pt x="3255" y="5840"/>
                  <a:pt x="3261" y="5868"/>
                  <a:pt x="3268" y="5895"/>
                </a:cubicBezTo>
                <a:cubicBezTo>
                  <a:pt x="3281" y="5946"/>
                  <a:pt x="3299" y="5992"/>
                  <a:pt x="3323" y="6039"/>
                </a:cubicBezTo>
                <a:cubicBezTo>
                  <a:pt x="3333" y="6058"/>
                  <a:pt x="3372" y="6112"/>
                  <a:pt x="3367" y="6135"/>
                </a:cubicBezTo>
                <a:cubicBezTo>
                  <a:pt x="3364" y="6139"/>
                  <a:pt x="3360" y="6142"/>
                  <a:pt x="3357" y="6146"/>
                </a:cubicBezTo>
              </a:path>
              <a:path w="3895" h="1890">
                <a:moveTo>
                  <a:pt x="3122" y="6031"/>
                </a:moveTo>
                <a:cubicBezTo>
                  <a:pt x="3128" y="6001"/>
                  <a:pt x="3149" y="5998"/>
                  <a:pt x="3181" y="5991"/>
                </a:cubicBezTo>
                <a:cubicBezTo>
                  <a:pt x="3228" y="5981"/>
                  <a:pt x="3279" y="5993"/>
                  <a:pt x="3324" y="6007"/>
                </a:cubicBezTo>
                <a:cubicBezTo>
                  <a:pt x="3358" y="6019"/>
                  <a:pt x="3368" y="6023"/>
                  <a:pt x="3390" y="6030"/>
                </a:cubicBezTo>
              </a:path>
              <a:path w="3895" h="1890">
                <a:moveTo>
                  <a:pt x="6700" y="5881"/>
                </a:moveTo>
                <a:cubicBezTo>
                  <a:pt x="6707" y="5900"/>
                  <a:pt x="6705" y="5914"/>
                  <a:pt x="6702" y="5935"/>
                </a:cubicBezTo>
                <a:cubicBezTo>
                  <a:pt x="6698" y="5962"/>
                  <a:pt x="6690" y="5989"/>
                  <a:pt x="6681" y="6015"/>
                </a:cubicBezTo>
                <a:cubicBezTo>
                  <a:pt x="6676" y="6029"/>
                  <a:pt x="6672" y="6038"/>
                  <a:pt x="6670" y="6053"/>
                </a:cubicBezTo>
                <a:cubicBezTo>
                  <a:pt x="6681" y="6033"/>
                  <a:pt x="6687" y="6017"/>
                  <a:pt x="6692" y="5995"/>
                </a:cubicBezTo>
                <a:cubicBezTo>
                  <a:pt x="6699" y="5963"/>
                  <a:pt x="6701" y="5932"/>
                  <a:pt x="6704" y="5900"/>
                </a:cubicBezTo>
                <a:cubicBezTo>
                  <a:pt x="6707" y="5872"/>
                  <a:pt x="6708" y="5846"/>
                  <a:pt x="6711" y="5818"/>
                </a:cubicBezTo>
                <a:cubicBezTo>
                  <a:pt x="6713" y="5804"/>
                  <a:pt x="6714" y="5782"/>
                  <a:pt x="6723" y="5771"/>
                </a:cubicBezTo>
                <a:cubicBezTo>
                  <a:pt x="6735" y="5756"/>
                  <a:pt x="6768" y="5759"/>
                  <a:pt x="6784" y="5759"/>
                </a:cubicBezTo>
                <a:cubicBezTo>
                  <a:pt x="6825" y="5759"/>
                  <a:pt x="6863" y="5765"/>
                  <a:pt x="6903" y="5775"/>
                </a:cubicBezTo>
                <a:cubicBezTo>
                  <a:pt x="6927" y="5781"/>
                  <a:pt x="6975" y="5792"/>
                  <a:pt x="6983" y="5821"/>
                </a:cubicBezTo>
                <a:cubicBezTo>
                  <a:pt x="6990" y="5846"/>
                  <a:pt x="6953" y="5870"/>
                  <a:pt x="6936" y="5880"/>
                </a:cubicBezTo>
                <a:cubicBezTo>
                  <a:pt x="6912" y="5894"/>
                  <a:pt x="6885" y="5904"/>
                  <a:pt x="6859" y="5913"/>
                </a:cubicBezTo>
                <a:cubicBezTo>
                  <a:pt x="6875" y="5924"/>
                  <a:pt x="6893" y="5931"/>
                  <a:pt x="6914" y="5940"/>
                </a:cubicBezTo>
                <a:cubicBezTo>
                  <a:pt x="6940" y="5951"/>
                  <a:pt x="6972" y="5969"/>
                  <a:pt x="6984" y="5996"/>
                </a:cubicBezTo>
                <a:cubicBezTo>
                  <a:pt x="6997" y="6025"/>
                  <a:pt x="6974" y="6048"/>
                  <a:pt x="6950" y="6060"/>
                </a:cubicBezTo>
                <a:cubicBezTo>
                  <a:pt x="6909" y="6080"/>
                  <a:pt x="6864" y="6075"/>
                  <a:pt x="6821" y="6072"/>
                </a:cubicBezTo>
                <a:cubicBezTo>
                  <a:pt x="6790" y="6070"/>
                  <a:pt x="6761" y="6065"/>
                  <a:pt x="6731" y="6059"/>
                </a:cubicBezTo>
              </a:path>
              <a:path w="3895" h="1890">
                <a:moveTo>
                  <a:pt x="4149" y="6168"/>
                </a:moveTo>
                <a:cubicBezTo>
                  <a:pt x="4171" y="6162"/>
                  <a:pt x="4192" y="6155"/>
                  <a:pt x="4217" y="6153"/>
                </a:cubicBezTo>
                <a:cubicBezTo>
                  <a:pt x="4348" y="6142"/>
                  <a:pt x="4479" y="6165"/>
                  <a:pt x="4609" y="6176"/>
                </a:cubicBezTo>
                <a:cubicBezTo>
                  <a:pt x="4795" y="6191"/>
                  <a:pt x="4986" y="6188"/>
                  <a:pt x="5173" y="6186"/>
                </a:cubicBezTo>
                <a:cubicBezTo>
                  <a:pt x="5330" y="6184"/>
                  <a:pt x="5488" y="6182"/>
                  <a:pt x="5645" y="6165"/>
                </a:cubicBezTo>
                <a:cubicBezTo>
                  <a:pt x="5682" y="6161"/>
                  <a:pt x="5718" y="6151"/>
                  <a:pt x="5755" y="6147"/>
                </a:cubicBezTo>
                <a:cubicBezTo>
                  <a:pt x="5789" y="6144"/>
                  <a:pt x="5816" y="6139"/>
                  <a:pt x="5849" y="6132"/>
                </a:cubicBezTo>
                <a:cubicBezTo>
                  <a:pt x="5891" y="6123"/>
                  <a:pt x="5933" y="6122"/>
                  <a:pt x="5974" y="6116"/>
                </a:cubicBezTo>
                <a:cubicBezTo>
                  <a:pt x="5977" y="6115"/>
                  <a:pt x="5981" y="6113"/>
                  <a:pt x="5984" y="6112"/>
                </a:cubicBezTo>
                <a:cubicBezTo>
                  <a:pt x="5971" y="6098"/>
                  <a:pt x="5968" y="6086"/>
                  <a:pt x="5950" y="6076"/>
                </a:cubicBezTo>
                <a:cubicBezTo>
                  <a:pt x="5924" y="6061"/>
                  <a:pt x="5890" y="6061"/>
                  <a:pt x="5861" y="6056"/>
                </a:cubicBezTo>
                <a:cubicBezTo>
                  <a:pt x="5881" y="6062"/>
                  <a:pt x="5904" y="6067"/>
                  <a:pt x="5924" y="6075"/>
                </a:cubicBezTo>
                <a:cubicBezTo>
                  <a:pt x="5956" y="6087"/>
                  <a:pt x="5950" y="6084"/>
                  <a:pt x="5949" y="6116"/>
                </a:cubicBezTo>
                <a:cubicBezTo>
                  <a:pt x="5948" y="6147"/>
                  <a:pt x="5929" y="6204"/>
                  <a:pt x="5912" y="6229"/>
                </a:cubicBezTo>
                <a:cubicBezTo>
                  <a:pt x="5900" y="6243"/>
                  <a:pt x="5896" y="6248"/>
                  <a:pt x="5886" y="6256"/>
                </a:cubicBezTo>
              </a:path>
              <a:path w="3895" h="1890">
                <a:moveTo>
                  <a:pt x="4144" y="6507"/>
                </a:moveTo>
                <a:cubicBezTo>
                  <a:pt x="4125" y="6509"/>
                  <a:pt x="4114" y="6514"/>
                  <a:pt x="4101" y="6518"/>
                </a:cubicBezTo>
                <a:cubicBezTo>
                  <a:pt x="4150" y="6529"/>
                  <a:pt x="4196" y="6532"/>
                  <a:pt x="4247" y="6534"/>
                </a:cubicBezTo>
                <a:cubicBezTo>
                  <a:pt x="4374" y="6539"/>
                  <a:pt x="4501" y="6550"/>
                  <a:pt x="4628" y="6555"/>
                </a:cubicBezTo>
                <a:cubicBezTo>
                  <a:pt x="4771" y="6561"/>
                  <a:pt x="4915" y="6571"/>
                  <a:pt x="5058" y="6573"/>
                </a:cubicBezTo>
                <a:cubicBezTo>
                  <a:pt x="5282" y="6577"/>
                  <a:pt x="5507" y="6562"/>
                  <a:pt x="5731" y="6556"/>
                </a:cubicBezTo>
                <a:cubicBezTo>
                  <a:pt x="5780" y="6555"/>
                  <a:pt x="5832" y="6556"/>
                  <a:pt x="5881" y="6551"/>
                </a:cubicBezTo>
                <a:cubicBezTo>
                  <a:pt x="5902" y="6549"/>
                  <a:pt x="5923" y="6545"/>
                  <a:pt x="5943" y="6540"/>
                </a:cubicBezTo>
                <a:cubicBezTo>
                  <a:pt x="5960" y="6536"/>
                  <a:pt x="5976" y="6532"/>
                  <a:pt x="5992" y="6525"/>
                </a:cubicBezTo>
                <a:cubicBezTo>
                  <a:pt x="6003" y="6521"/>
                  <a:pt x="6013" y="6514"/>
                  <a:pt x="6024" y="6509"/>
                </a:cubicBezTo>
                <a:cubicBezTo>
                  <a:pt x="6000" y="6490"/>
                  <a:pt x="5980" y="6475"/>
                  <a:pt x="5949" y="6460"/>
                </a:cubicBezTo>
                <a:cubicBezTo>
                  <a:pt x="5917" y="6445"/>
                  <a:pt x="5886" y="6435"/>
                  <a:pt x="5852" y="6425"/>
                </a:cubicBezTo>
                <a:cubicBezTo>
                  <a:pt x="5847" y="6424"/>
                  <a:pt x="5842" y="6423"/>
                  <a:pt x="5837" y="6422"/>
                </a:cubicBezTo>
                <a:cubicBezTo>
                  <a:pt x="5870" y="6436"/>
                  <a:pt x="5904" y="6444"/>
                  <a:pt x="5931" y="6470"/>
                </a:cubicBezTo>
                <a:cubicBezTo>
                  <a:pt x="5952" y="6489"/>
                  <a:pt x="5963" y="6513"/>
                  <a:pt x="5961" y="6542"/>
                </a:cubicBezTo>
                <a:cubicBezTo>
                  <a:pt x="5959" y="6562"/>
                  <a:pt x="5945" y="6588"/>
                  <a:pt x="5934" y="6605"/>
                </a:cubicBezTo>
                <a:cubicBezTo>
                  <a:pt x="5924" y="6616"/>
                  <a:pt x="5920" y="6620"/>
                  <a:pt x="5913" y="6627"/>
                </a:cubicBezTo>
              </a:path>
              <a:path w="3895" h="1890">
                <a:moveTo>
                  <a:pt x="4159" y="6960"/>
                </a:moveTo>
                <a:cubicBezTo>
                  <a:pt x="4176" y="6958"/>
                  <a:pt x="4183" y="6954"/>
                  <a:pt x="4200" y="6955"/>
                </a:cubicBezTo>
                <a:cubicBezTo>
                  <a:pt x="4281" y="6961"/>
                  <a:pt x="4359" y="6979"/>
                  <a:pt x="4438" y="6999"/>
                </a:cubicBezTo>
                <a:cubicBezTo>
                  <a:pt x="4512" y="7018"/>
                  <a:pt x="4584" y="7041"/>
                  <a:pt x="4657" y="7063"/>
                </a:cubicBezTo>
                <a:cubicBezTo>
                  <a:pt x="4713" y="7080"/>
                  <a:pt x="4768" y="7096"/>
                  <a:pt x="4825" y="7109"/>
                </a:cubicBezTo>
                <a:cubicBezTo>
                  <a:pt x="4891" y="7125"/>
                  <a:pt x="4957" y="7142"/>
                  <a:pt x="5023" y="7157"/>
                </a:cubicBezTo>
                <a:cubicBezTo>
                  <a:pt x="5171" y="7191"/>
                  <a:pt x="5323" y="7206"/>
                  <a:pt x="5473" y="7225"/>
                </a:cubicBezTo>
                <a:cubicBezTo>
                  <a:pt x="5529" y="7232"/>
                  <a:pt x="5585" y="7241"/>
                  <a:pt x="5641" y="7248"/>
                </a:cubicBezTo>
                <a:cubicBezTo>
                  <a:pt x="5689" y="7254"/>
                  <a:pt x="5738" y="7256"/>
                  <a:pt x="5786" y="7260"/>
                </a:cubicBezTo>
                <a:cubicBezTo>
                  <a:pt x="5823" y="7263"/>
                  <a:pt x="5900" y="7286"/>
                  <a:pt x="5932" y="7272"/>
                </a:cubicBezTo>
                <a:cubicBezTo>
                  <a:pt x="5954" y="7262"/>
                  <a:pt x="5966" y="7233"/>
                  <a:pt x="5967" y="7210"/>
                </a:cubicBezTo>
                <a:cubicBezTo>
                  <a:pt x="5968" y="7192"/>
                  <a:pt x="5962" y="7183"/>
                  <a:pt x="5959" y="7167"/>
                </a:cubicBezTo>
                <a:cubicBezTo>
                  <a:pt x="5958" y="7164"/>
                  <a:pt x="5957" y="7160"/>
                  <a:pt x="5956" y="7157"/>
                </a:cubicBezTo>
                <a:cubicBezTo>
                  <a:pt x="5973" y="7162"/>
                  <a:pt x="5989" y="7166"/>
                  <a:pt x="6005" y="7172"/>
                </a:cubicBezTo>
                <a:cubicBezTo>
                  <a:pt x="6030" y="7181"/>
                  <a:pt x="6039" y="7193"/>
                  <a:pt x="6057" y="7206"/>
                </a:cubicBezTo>
                <a:cubicBezTo>
                  <a:pt x="6007" y="7249"/>
                  <a:pt x="5949" y="7283"/>
                  <a:pt x="5900" y="7325"/>
                </a:cubicBezTo>
                <a:cubicBezTo>
                  <a:pt x="5892" y="7336"/>
                  <a:pt x="5890" y="7339"/>
                  <a:pt x="5882" y="7343"/>
                </a:cubicBezTo>
              </a:path>
              <a:path w="3895" h="1890">
                <a:moveTo>
                  <a:pt x="4091" y="7289"/>
                </a:moveTo>
                <a:cubicBezTo>
                  <a:pt x="4108" y="7281"/>
                  <a:pt x="4117" y="7272"/>
                  <a:pt x="4138" y="7266"/>
                </a:cubicBezTo>
                <a:cubicBezTo>
                  <a:pt x="4309" y="7215"/>
                  <a:pt x="4488" y="7185"/>
                  <a:pt x="4664" y="7154"/>
                </a:cubicBezTo>
                <a:cubicBezTo>
                  <a:pt x="4763" y="7137"/>
                  <a:pt x="4862" y="7117"/>
                  <a:pt x="4960" y="7097"/>
                </a:cubicBezTo>
                <a:cubicBezTo>
                  <a:pt x="5037" y="7081"/>
                  <a:pt x="5115" y="7071"/>
                  <a:pt x="5193" y="7059"/>
                </a:cubicBezTo>
                <a:cubicBezTo>
                  <a:pt x="5304" y="7042"/>
                  <a:pt x="5406" y="7002"/>
                  <a:pt x="5515" y="6976"/>
                </a:cubicBezTo>
                <a:cubicBezTo>
                  <a:pt x="5585" y="6959"/>
                  <a:pt x="5656" y="6944"/>
                  <a:pt x="5727" y="6931"/>
                </a:cubicBezTo>
                <a:cubicBezTo>
                  <a:pt x="5761" y="6925"/>
                  <a:pt x="5792" y="6916"/>
                  <a:pt x="5825" y="6907"/>
                </a:cubicBezTo>
                <a:cubicBezTo>
                  <a:pt x="5854" y="6900"/>
                  <a:pt x="5883" y="6894"/>
                  <a:pt x="5911" y="6883"/>
                </a:cubicBezTo>
                <a:cubicBezTo>
                  <a:pt x="5927" y="6877"/>
                  <a:pt x="5937" y="6866"/>
                  <a:pt x="5950" y="6858"/>
                </a:cubicBezTo>
                <a:cubicBezTo>
                  <a:pt x="5914" y="6834"/>
                  <a:pt x="5884" y="6818"/>
                  <a:pt x="5841" y="6803"/>
                </a:cubicBezTo>
                <a:cubicBezTo>
                  <a:pt x="5816" y="6794"/>
                  <a:pt x="5790" y="6788"/>
                  <a:pt x="5764" y="6780"/>
                </a:cubicBezTo>
                <a:cubicBezTo>
                  <a:pt x="5761" y="6779"/>
                  <a:pt x="5758" y="6778"/>
                  <a:pt x="5755" y="6777"/>
                </a:cubicBezTo>
                <a:cubicBezTo>
                  <a:pt x="5789" y="6787"/>
                  <a:pt x="5825" y="6795"/>
                  <a:pt x="5858" y="6808"/>
                </a:cubicBezTo>
                <a:cubicBezTo>
                  <a:pt x="5899" y="6823"/>
                  <a:pt x="5950" y="6844"/>
                  <a:pt x="5953" y="6896"/>
                </a:cubicBezTo>
                <a:cubicBezTo>
                  <a:pt x="5955" y="6928"/>
                  <a:pt x="5926" y="6943"/>
                  <a:pt x="5907" y="6957"/>
                </a:cubicBezTo>
                <a:cubicBezTo>
                  <a:pt x="5894" y="6963"/>
                  <a:pt x="5888" y="6966"/>
                  <a:pt x="5879" y="6971"/>
                </a:cubicBezTo>
              </a:path>
              <a:path w="3895" h="1890">
                <a:moveTo>
                  <a:pt x="6731" y="6720"/>
                </a:moveTo>
                <a:cubicBezTo>
                  <a:pt x="6704" y="6723"/>
                  <a:pt x="6679" y="6727"/>
                  <a:pt x="6652" y="6731"/>
                </a:cubicBezTo>
                <a:cubicBezTo>
                  <a:pt x="6616" y="6737"/>
                  <a:pt x="6578" y="6741"/>
                  <a:pt x="6543" y="6750"/>
                </a:cubicBezTo>
                <a:cubicBezTo>
                  <a:pt x="6523" y="6755"/>
                  <a:pt x="6504" y="6761"/>
                  <a:pt x="6484" y="6765"/>
                </a:cubicBezTo>
                <a:cubicBezTo>
                  <a:pt x="6471" y="6768"/>
                  <a:pt x="6459" y="6770"/>
                  <a:pt x="6447" y="6774"/>
                </a:cubicBezTo>
                <a:cubicBezTo>
                  <a:pt x="6455" y="6756"/>
                  <a:pt x="6468" y="6746"/>
                  <a:pt x="6482" y="6731"/>
                </a:cubicBezTo>
                <a:cubicBezTo>
                  <a:pt x="6496" y="6715"/>
                  <a:pt x="6512" y="6697"/>
                  <a:pt x="6521" y="6678"/>
                </a:cubicBezTo>
                <a:cubicBezTo>
                  <a:pt x="6531" y="6658"/>
                  <a:pt x="6537" y="6636"/>
                  <a:pt x="6541" y="6614"/>
                </a:cubicBezTo>
              </a:path>
              <a:path w="3895" h="1890">
                <a:moveTo>
                  <a:pt x="6444" y="6769"/>
                </a:moveTo>
                <a:cubicBezTo>
                  <a:pt x="6465" y="6771"/>
                  <a:pt x="6472" y="6779"/>
                  <a:pt x="6488" y="6794"/>
                </a:cubicBezTo>
                <a:cubicBezTo>
                  <a:pt x="6503" y="6807"/>
                  <a:pt x="6515" y="6820"/>
                  <a:pt x="6529" y="683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254400" y="1996920"/>
            <a:ext cx="1371600" cy="709920"/>
          </a:xfrm>
          <a:custGeom>
            <a:avLst/>
            <a:gdLst/>
            <a:ahLst/>
            <a:rect l="l" t="t" r="r" b="b"/>
            <a:pathLst>
              <a:path w="3810" h="1970">
                <a:moveTo>
                  <a:pt x="9299" y="5918"/>
                </a:moveTo>
                <a:cubicBezTo>
                  <a:pt x="9262" y="5896"/>
                  <a:pt x="9223" y="5855"/>
                  <a:pt x="9182" y="5885"/>
                </a:cubicBezTo>
                <a:cubicBezTo>
                  <a:pt x="9154" y="5906"/>
                  <a:pt x="9141" y="5964"/>
                  <a:pt x="9132" y="5995"/>
                </a:cubicBezTo>
                <a:cubicBezTo>
                  <a:pt x="9111" y="6065"/>
                  <a:pt x="9103" y="6140"/>
                  <a:pt x="9092" y="6212"/>
                </a:cubicBezTo>
                <a:cubicBezTo>
                  <a:pt x="9059" y="6437"/>
                  <a:pt x="9033" y="6666"/>
                  <a:pt x="9039" y="6893"/>
                </a:cubicBezTo>
                <a:cubicBezTo>
                  <a:pt x="9043" y="7046"/>
                  <a:pt x="9067" y="7216"/>
                  <a:pt x="9139" y="7353"/>
                </a:cubicBezTo>
                <a:cubicBezTo>
                  <a:pt x="9177" y="7424"/>
                  <a:pt x="9227" y="7482"/>
                  <a:pt x="9306" y="7506"/>
                </a:cubicBezTo>
                <a:cubicBezTo>
                  <a:pt x="9355" y="7521"/>
                  <a:pt x="9409" y="7520"/>
                  <a:pt x="9457" y="7506"/>
                </a:cubicBezTo>
                <a:cubicBezTo>
                  <a:pt x="9622" y="7458"/>
                  <a:pt x="9709" y="7288"/>
                  <a:pt x="9760" y="7138"/>
                </a:cubicBezTo>
                <a:cubicBezTo>
                  <a:pt x="9845" y="6887"/>
                  <a:pt x="9828" y="6629"/>
                  <a:pt x="9758" y="6377"/>
                </a:cubicBezTo>
                <a:cubicBezTo>
                  <a:pt x="9712" y="6210"/>
                  <a:pt x="9657" y="5973"/>
                  <a:pt x="9514" y="5859"/>
                </a:cubicBezTo>
                <a:cubicBezTo>
                  <a:pt x="9479" y="5831"/>
                  <a:pt x="9395" y="5781"/>
                  <a:pt x="9351" y="5808"/>
                </a:cubicBezTo>
                <a:cubicBezTo>
                  <a:pt x="9323" y="5825"/>
                  <a:pt x="9343" y="5816"/>
                  <a:pt x="9339" y="5845"/>
                </a:cubicBezTo>
                <a:cubicBezTo>
                  <a:pt x="9343" y="5850"/>
                  <a:pt x="9348" y="5855"/>
                  <a:pt x="9352" y="5860"/>
                </a:cubicBezTo>
              </a:path>
              <a:path w="3810" h="1970">
                <a:moveTo>
                  <a:pt x="9783" y="6061"/>
                </a:moveTo>
                <a:cubicBezTo>
                  <a:pt x="9782" y="6064"/>
                  <a:pt x="9781" y="6068"/>
                  <a:pt x="9780" y="6071"/>
                </a:cubicBezTo>
                <a:cubicBezTo>
                  <a:pt x="9758" y="6057"/>
                  <a:pt x="9765" y="6066"/>
                  <a:pt x="9771" y="6028"/>
                </a:cubicBezTo>
                <a:cubicBezTo>
                  <a:pt x="9779" y="5979"/>
                  <a:pt x="9784" y="5930"/>
                  <a:pt x="9789" y="5881"/>
                </a:cubicBezTo>
                <a:cubicBezTo>
                  <a:pt x="9795" y="5823"/>
                  <a:pt x="9801" y="5765"/>
                  <a:pt x="9807" y="5707"/>
                </a:cubicBezTo>
                <a:cubicBezTo>
                  <a:pt x="9809" y="5686"/>
                  <a:pt x="9813" y="5666"/>
                  <a:pt x="9819" y="5646"/>
                </a:cubicBezTo>
                <a:cubicBezTo>
                  <a:pt x="9841" y="5681"/>
                  <a:pt x="9855" y="5720"/>
                  <a:pt x="9873" y="5757"/>
                </a:cubicBezTo>
                <a:cubicBezTo>
                  <a:pt x="9896" y="5804"/>
                  <a:pt x="9918" y="5852"/>
                  <a:pt x="9944" y="5897"/>
                </a:cubicBezTo>
                <a:cubicBezTo>
                  <a:pt x="9960" y="5926"/>
                  <a:pt x="9979" y="5939"/>
                  <a:pt x="9967" y="5968"/>
                </a:cubicBezTo>
              </a:path>
              <a:path w="3810" h="1970">
                <a:moveTo>
                  <a:pt x="9822" y="5948"/>
                </a:moveTo>
                <a:cubicBezTo>
                  <a:pt x="9800" y="5918"/>
                  <a:pt x="9837" y="5912"/>
                  <a:pt x="9865" y="5901"/>
                </a:cubicBezTo>
                <a:cubicBezTo>
                  <a:pt x="9923" y="5879"/>
                  <a:pt x="9975" y="5875"/>
                  <a:pt x="10037" y="5882"/>
                </a:cubicBezTo>
                <a:cubicBezTo>
                  <a:pt x="10075" y="5886"/>
                  <a:pt x="10106" y="5898"/>
                  <a:pt x="10141" y="5911"/>
                </a:cubicBezTo>
              </a:path>
              <a:path w="3810" h="1970">
                <a:moveTo>
                  <a:pt x="11796" y="6166"/>
                </a:moveTo>
                <a:cubicBezTo>
                  <a:pt x="11792" y="6199"/>
                  <a:pt x="11788" y="6208"/>
                  <a:pt x="11786" y="6241"/>
                </a:cubicBezTo>
                <a:cubicBezTo>
                  <a:pt x="11780" y="6329"/>
                  <a:pt x="11782" y="6417"/>
                  <a:pt x="11785" y="6505"/>
                </a:cubicBezTo>
                <a:cubicBezTo>
                  <a:pt x="11789" y="6611"/>
                  <a:pt x="11797" y="6718"/>
                  <a:pt x="11801" y="6824"/>
                </a:cubicBezTo>
                <a:cubicBezTo>
                  <a:pt x="11805" y="6914"/>
                  <a:pt x="11792" y="7002"/>
                  <a:pt x="11790" y="7089"/>
                </a:cubicBezTo>
                <a:cubicBezTo>
                  <a:pt x="11790" y="7112"/>
                  <a:pt x="11794" y="7127"/>
                  <a:pt x="11801" y="7150"/>
                </a:cubicBezTo>
                <a:cubicBezTo>
                  <a:pt x="11815" y="7192"/>
                  <a:pt x="11842" y="7230"/>
                  <a:pt x="11867" y="7266"/>
                </a:cubicBezTo>
                <a:cubicBezTo>
                  <a:pt x="11888" y="7296"/>
                  <a:pt x="11908" y="7326"/>
                  <a:pt x="11933" y="7353"/>
                </a:cubicBezTo>
                <a:cubicBezTo>
                  <a:pt x="11973" y="7396"/>
                  <a:pt x="12016" y="7418"/>
                  <a:pt x="12074" y="7425"/>
                </a:cubicBezTo>
                <a:cubicBezTo>
                  <a:pt x="12177" y="7438"/>
                  <a:pt x="12246" y="7360"/>
                  <a:pt x="12292" y="7278"/>
                </a:cubicBezTo>
                <a:cubicBezTo>
                  <a:pt x="12397" y="7090"/>
                  <a:pt x="12476" y="6889"/>
                  <a:pt x="12485" y="6672"/>
                </a:cubicBezTo>
                <a:cubicBezTo>
                  <a:pt x="12487" y="6621"/>
                  <a:pt x="12486" y="6569"/>
                  <a:pt x="12482" y="6518"/>
                </a:cubicBezTo>
                <a:cubicBezTo>
                  <a:pt x="12471" y="6365"/>
                  <a:pt x="12459" y="6207"/>
                  <a:pt x="12425" y="6057"/>
                </a:cubicBezTo>
                <a:cubicBezTo>
                  <a:pt x="12410" y="5992"/>
                  <a:pt x="12388" y="5932"/>
                  <a:pt x="12344" y="5882"/>
                </a:cubicBezTo>
                <a:cubicBezTo>
                  <a:pt x="12325" y="5860"/>
                  <a:pt x="12301" y="5840"/>
                  <a:pt x="12275" y="5827"/>
                </a:cubicBezTo>
                <a:cubicBezTo>
                  <a:pt x="12222" y="5800"/>
                  <a:pt x="12180" y="5802"/>
                  <a:pt x="12123" y="5811"/>
                </a:cubicBezTo>
                <a:cubicBezTo>
                  <a:pt x="12089" y="5817"/>
                  <a:pt x="12051" y="5821"/>
                  <a:pt x="12020" y="5838"/>
                </a:cubicBezTo>
                <a:cubicBezTo>
                  <a:pt x="11996" y="5851"/>
                  <a:pt x="11982" y="5869"/>
                  <a:pt x="11963" y="5888"/>
                </a:cubicBezTo>
                <a:cubicBezTo>
                  <a:pt x="11919" y="5931"/>
                  <a:pt x="11890" y="5975"/>
                  <a:pt x="11862" y="6030"/>
                </a:cubicBezTo>
                <a:cubicBezTo>
                  <a:pt x="11852" y="6048"/>
                  <a:pt x="11846" y="6067"/>
                  <a:pt x="11838" y="6086"/>
                </a:cubicBezTo>
                <a:cubicBezTo>
                  <a:pt x="11836" y="6090"/>
                  <a:pt x="11834" y="6093"/>
                  <a:pt x="11832" y="6097"/>
                </a:cubicBezTo>
              </a:path>
              <a:path w="3810" h="1970">
                <a:moveTo>
                  <a:pt x="12603" y="5672"/>
                </a:moveTo>
                <a:cubicBezTo>
                  <a:pt x="12601" y="5661"/>
                  <a:pt x="12601" y="5654"/>
                  <a:pt x="12597" y="5642"/>
                </a:cubicBezTo>
                <a:cubicBezTo>
                  <a:pt x="12573" y="5654"/>
                  <a:pt x="12575" y="5679"/>
                  <a:pt x="12575" y="5709"/>
                </a:cubicBezTo>
                <a:cubicBezTo>
                  <a:pt x="12574" y="5753"/>
                  <a:pt x="12576" y="5797"/>
                  <a:pt x="12578" y="5841"/>
                </a:cubicBezTo>
                <a:cubicBezTo>
                  <a:pt x="12579" y="5868"/>
                  <a:pt x="12581" y="5894"/>
                  <a:pt x="12581" y="5921"/>
                </a:cubicBezTo>
                <a:cubicBezTo>
                  <a:pt x="12578" y="5863"/>
                  <a:pt x="12577" y="5806"/>
                  <a:pt x="12586" y="5748"/>
                </a:cubicBezTo>
                <a:cubicBezTo>
                  <a:pt x="12594" y="5698"/>
                  <a:pt x="12606" y="5643"/>
                  <a:pt x="12635" y="5600"/>
                </a:cubicBezTo>
                <a:cubicBezTo>
                  <a:pt x="12650" y="5577"/>
                  <a:pt x="12680" y="5547"/>
                  <a:pt x="12710" y="5547"/>
                </a:cubicBezTo>
                <a:cubicBezTo>
                  <a:pt x="12715" y="5548"/>
                  <a:pt x="12720" y="5550"/>
                  <a:pt x="12725" y="5551"/>
                </a:cubicBezTo>
                <a:cubicBezTo>
                  <a:pt x="12741" y="5575"/>
                  <a:pt x="12741" y="5593"/>
                  <a:pt x="12737" y="5622"/>
                </a:cubicBezTo>
                <a:cubicBezTo>
                  <a:pt x="12733" y="5647"/>
                  <a:pt x="12719" y="5675"/>
                  <a:pt x="12720" y="5700"/>
                </a:cubicBezTo>
                <a:cubicBezTo>
                  <a:pt x="12721" y="5722"/>
                  <a:pt x="12752" y="5725"/>
                  <a:pt x="12767" y="5730"/>
                </a:cubicBezTo>
                <a:cubicBezTo>
                  <a:pt x="12793" y="5738"/>
                  <a:pt x="12826" y="5749"/>
                  <a:pt x="12841" y="5774"/>
                </a:cubicBezTo>
                <a:cubicBezTo>
                  <a:pt x="12860" y="5806"/>
                  <a:pt x="12823" y="5835"/>
                  <a:pt x="12800" y="5850"/>
                </a:cubicBezTo>
                <a:cubicBezTo>
                  <a:pt x="12764" y="5875"/>
                  <a:pt x="12715" y="5891"/>
                  <a:pt x="12671" y="5895"/>
                </a:cubicBezTo>
                <a:cubicBezTo>
                  <a:pt x="12645" y="5897"/>
                  <a:pt x="12617" y="5893"/>
                  <a:pt x="12591" y="5887"/>
                </a:cubicBezTo>
              </a:path>
              <a:path w="3810" h="1970">
                <a:moveTo>
                  <a:pt x="11975" y="6250"/>
                </a:moveTo>
                <a:cubicBezTo>
                  <a:pt x="11995" y="6240"/>
                  <a:pt x="12000" y="6227"/>
                  <a:pt x="12018" y="6214"/>
                </a:cubicBezTo>
                <a:cubicBezTo>
                  <a:pt x="12031" y="6204"/>
                  <a:pt x="12052" y="6190"/>
                  <a:pt x="12069" y="6189"/>
                </a:cubicBezTo>
                <a:cubicBezTo>
                  <a:pt x="12083" y="6190"/>
                  <a:pt x="12088" y="6192"/>
                  <a:pt x="12093" y="6203"/>
                </a:cubicBezTo>
                <a:cubicBezTo>
                  <a:pt x="12087" y="6222"/>
                  <a:pt x="12077" y="6242"/>
                  <a:pt x="12059" y="6253"/>
                </a:cubicBezTo>
                <a:cubicBezTo>
                  <a:pt x="12042" y="6263"/>
                  <a:pt x="12014" y="6276"/>
                  <a:pt x="11995" y="6265"/>
                </a:cubicBezTo>
                <a:cubicBezTo>
                  <a:pt x="11979" y="6255"/>
                  <a:pt x="11974" y="6233"/>
                  <a:pt x="11979" y="6216"/>
                </a:cubicBezTo>
                <a:cubicBezTo>
                  <a:pt x="11985" y="6196"/>
                  <a:pt x="11994" y="6182"/>
                  <a:pt x="12014" y="6183"/>
                </a:cubicBezTo>
                <a:cubicBezTo>
                  <a:pt x="12029" y="6184"/>
                  <a:pt x="12044" y="6190"/>
                  <a:pt x="12059" y="6193"/>
                </a:cubicBezTo>
              </a:path>
              <a:path w="3810" h="1970">
                <a:moveTo>
                  <a:pt x="12009" y="6562"/>
                </a:moveTo>
                <a:cubicBezTo>
                  <a:pt x="12025" y="6553"/>
                  <a:pt x="12040" y="6546"/>
                  <a:pt x="12057" y="6540"/>
                </a:cubicBezTo>
                <a:cubicBezTo>
                  <a:pt x="12072" y="6535"/>
                  <a:pt x="12096" y="6529"/>
                  <a:pt x="12097" y="6553"/>
                </a:cubicBezTo>
                <a:cubicBezTo>
                  <a:pt x="12098" y="6571"/>
                  <a:pt x="12078" y="6586"/>
                  <a:pt x="12066" y="6595"/>
                </a:cubicBezTo>
                <a:cubicBezTo>
                  <a:pt x="12047" y="6610"/>
                  <a:pt x="12034" y="6608"/>
                  <a:pt x="12023" y="6585"/>
                </a:cubicBezTo>
                <a:cubicBezTo>
                  <a:pt x="12018" y="6575"/>
                  <a:pt x="12017" y="6547"/>
                  <a:pt x="12026" y="6538"/>
                </a:cubicBezTo>
                <a:cubicBezTo>
                  <a:pt x="12038" y="6525"/>
                  <a:pt x="12058" y="6533"/>
                  <a:pt x="12071" y="6538"/>
                </a:cubicBezTo>
              </a:path>
              <a:path w="3810" h="1970">
                <a:moveTo>
                  <a:pt x="12026" y="7026"/>
                </a:moveTo>
                <a:cubicBezTo>
                  <a:pt x="12034" y="7007"/>
                  <a:pt x="12044" y="6988"/>
                  <a:pt x="12059" y="6973"/>
                </a:cubicBezTo>
                <a:cubicBezTo>
                  <a:pt x="12073" y="6959"/>
                  <a:pt x="12092" y="6952"/>
                  <a:pt x="12111" y="6954"/>
                </a:cubicBezTo>
                <a:cubicBezTo>
                  <a:pt x="12133" y="6957"/>
                  <a:pt x="12140" y="6982"/>
                  <a:pt x="12130" y="7000"/>
                </a:cubicBezTo>
                <a:cubicBezTo>
                  <a:pt x="12119" y="7018"/>
                  <a:pt x="12095" y="7028"/>
                  <a:pt x="12075" y="7026"/>
                </a:cubicBezTo>
                <a:cubicBezTo>
                  <a:pt x="12048" y="7023"/>
                  <a:pt x="12029" y="7006"/>
                  <a:pt x="12019" y="6982"/>
                </a:cubicBezTo>
                <a:cubicBezTo>
                  <a:pt x="12009" y="6958"/>
                  <a:pt x="12022" y="6945"/>
                  <a:pt x="12039" y="6932"/>
                </a:cubicBezTo>
              </a:path>
              <a:path w="3810" h="1970">
                <a:moveTo>
                  <a:pt x="9373" y="6193"/>
                </a:moveTo>
                <a:cubicBezTo>
                  <a:pt x="9363" y="6196"/>
                  <a:pt x="9360" y="6197"/>
                  <a:pt x="9353" y="6197"/>
                </a:cubicBezTo>
                <a:cubicBezTo>
                  <a:pt x="9366" y="6183"/>
                  <a:pt x="9383" y="6183"/>
                  <a:pt x="9404" y="6188"/>
                </a:cubicBezTo>
                <a:cubicBezTo>
                  <a:pt x="9433" y="6195"/>
                  <a:pt x="9458" y="6219"/>
                  <a:pt x="9473" y="6244"/>
                </a:cubicBezTo>
                <a:cubicBezTo>
                  <a:pt x="9484" y="6262"/>
                  <a:pt x="9495" y="6303"/>
                  <a:pt x="9482" y="6323"/>
                </a:cubicBezTo>
                <a:cubicBezTo>
                  <a:pt x="9469" y="6343"/>
                  <a:pt x="9438" y="6335"/>
                  <a:pt x="9422" y="6326"/>
                </a:cubicBezTo>
                <a:cubicBezTo>
                  <a:pt x="9399" y="6313"/>
                  <a:pt x="9373" y="6287"/>
                  <a:pt x="9359" y="6265"/>
                </a:cubicBezTo>
                <a:cubicBezTo>
                  <a:pt x="9342" y="6239"/>
                  <a:pt x="9338" y="6230"/>
                  <a:pt x="9364" y="6217"/>
                </a:cubicBezTo>
              </a:path>
              <a:path w="3810" h="1970">
                <a:moveTo>
                  <a:pt x="9347" y="6677"/>
                </a:moveTo>
                <a:cubicBezTo>
                  <a:pt x="9331" y="6664"/>
                  <a:pt x="9322" y="6644"/>
                  <a:pt x="9346" y="6629"/>
                </a:cubicBezTo>
                <a:cubicBezTo>
                  <a:pt x="9362" y="6619"/>
                  <a:pt x="9384" y="6617"/>
                  <a:pt x="9401" y="6628"/>
                </a:cubicBezTo>
                <a:cubicBezTo>
                  <a:pt x="9419" y="6640"/>
                  <a:pt x="9418" y="6648"/>
                  <a:pt x="9414" y="6664"/>
                </a:cubicBezTo>
                <a:cubicBezTo>
                  <a:pt x="9391" y="6658"/>
                  <a:pt x="9375" y="6646"/>
                  <a:pt x="9364" y="6623"/>
                </a:cubicBezTo>
                <a:cubicBezTo>
                  <a:pt x="9355" y="6604"/>
                  <a:pt x="9355" y="6584"/>
                  <a:pt x="9357" y="6564"/>
                </a:cubicBezTo>
                <a:cubicBezTo>
                  <a:pt x="9360" y="6530"/>
                  <a:pt x="9385" y="6560"/>
                  <a:pt x="9397" y="6571"/>
                </a:cubicBezTo>
              </a:path>
              <a:path w="3810" h="1970">
                <a:moveTo>
                  <a:pt x="9334" y="6917"/>
                </a:moveTo>
                <a:cubicBezTo>
                  <a:pt x="9329" y="6891"/>
                  <a:pt x="9326" y="6878"/>
                  <a:pt x="9347" y="6861"/>
                </a:cubicBezTo>
                <a:cubicBezTo>
                  <a:pt x="9357" y="6853"/>
                  <a:pt x="9380" y="6842"/>
                  <a:pt x="9392" y="6853"/>
                </a:cubicBezTo>
                <a:cubicBezTo>
                  <a:pt x="9414" y="6873"/>
                  <a:pt x="9408" y="6897"/>
                  <a:pt x="9398" y="6920"/>
                </a:cubicBezTo>
                <a:cubicBezTo>
                  <a:pt x="9390" y="6939"/>
                  <a:pt x="9372" y="6960"/>
                  <a:pt x="9350" y="6963"/>
                </a:cubicBezTo>
                <a:cubicBezTo>
                  <a:pt x="9330" y="6966"/>
                  <a:pt x="9317" y="6954"/>
                  <a:pt x="9311" y="6938"/>
                </a:cubicBezTo>
                <a:cubicBezTo>
                  <a:pt x="9304" y="6920"/>
                  <a:pt x="9305" y="6898"/>
                  <a:pt x="9324" y="6886"/>
                </a:cubicBezTo>
                <a:cubicBezTo>
                  <a:pt x="9328" y="6885"/>
                  <a:pt x="9332" y="6884"/>
                  <a:pt x="9336" y="6883"/>
                </a:cubicBezTo>
              </a:path>
              <a:path w="3810" h="1970">
                <a:moveTo>
                  <a:pt x="9351" y="7239"/>
                </a:moveTo>
                <a:cubicBezTo>
                  <a:pt x="9367" y="7237"/>
                  <a:pt x="9386" y="7233"/>
                  <a:pt x="9402" y="7237"/>
                </a:cubicBezTo>
                <a:cubicBezTo>
                  <a:pt x="9427" y="7243"/>
                  <a:pt x="9434" y="7264"/>
                  <a:pt x="9414" y="7280"/>
                </a:cubicBezTo>
                <a:cubicBezTo>
                  <a:pt x="9398" y="7293"/>
                  <a:pt x="9374" y="7289"/>
                  <a:pt x="9356" y="7284"/>
                </a:cubicBezTo>
                <a:cubicBezTo>
                  <a:pt x="9336" y="7278"/>
                  <a:pt x="9317" y="7263"/>
                  <a:pt x="9321" y="7240"/>
                </a:cubicBezTo>
                <a:cubicBezTo>
                  <a:pt x="9324" y="7222"/>
                  <a:pt x="9340" y="7217"/>
                  <a:pt x="9353" y="7209"/>
                </a:cubicBezTo>
              </a:path>
              <a:path w="3810" h="1970">
                <a:moveTo>
                  <a:pt x="9462" y="7327"/>
                </a:moveTo>
                <a:cubicBezTo>
                  <a:pt x="9483" y="7326"/>
                  <a:pt x="9484" y="7327"/>
                  <a:pt x="9504" y="7324"/>
                </a:cubicBezTo>
                <a:cubicBezTo>
                  <a:pt x="9544" y="7319"/>
                  <a:pt x="9583" y="7313"/>
                  <a:pt x="9623" y="7308"/>
                </a:cubicBezTo>
                <a:cubicBezTo>
                  <a:pt x="9715" y="7297"/>
                  <a:pt x="9808" y="7288"/>
                  <a:pt x="9901" y="7280"/>
                </a:cubicBezTo>
                <a:cubicBezTo>
                  <a:pt x="10234" y="7252"/>
                  <a:pt x="10569" y="7233"/>
                  <a:pt x="10901" y="7192"/>
                </a:cubicBezTo>
                <a:cubicBezTo>
                  <a:pt x="11170" y="7159"/>
                  <a:pt x="11436" y="7101"/>
                  <a:pt x="11704" y="7064"/>
                </a:cubicBezTo>
                <a:cubicBezTo>
                  <a:pt x="11747" y="7058"/>
                  <a:pt x="11797" y="7060"/>
                  <a:pt x="11839" y="7050"/>
                </a:cubicBezTo>
                <a:cubicBezTo>
                  <a:pt x="11856" y="7046"/>
                  <a:pt x="11864" y="7040"/>
                  <a:pt x="11880" y="7034"/>
                </a:cubicBezTo>
                <a:cubicBezTo>
                  <a:pt x="11892" y="7026"/>
                  <a:pt x="11896" y="7024"/>
                  <a:pt x="11905" y="7022"/>
                </a:cubicBezTo>
                <a:cubicBezTo>
                  <a:pt x="11883" y="7009"/>
                  <a:pt x="11862" y="6995"/>
                  <a:pt x="11840" y="6983"/>
                </a:cubicBezTo>
                <a:cubicBezTo>
                  <a:pt x="11807" y="6965"/>
                  <a:pt x="11772" y="6949"/>
                  <a:pt x="11738" y="6932"/>
                </a:cubicBezTo>
                <a:cubicBezTo>
                  <a:pt x="11772" y="6946"/>
                  <a:pt x="11801" y="6953"/>
                  <a:pt x="11831" y="6977"/>
                </a:cubicBezTo>
                <a:cubicBezTo>
                  <a:pt x="11883" y="7020"/>
                  <a:pt x="11899" y="7075"/>
                  <a:pt x="11870" y="7138"/>
                </a:cubicBezTo>
                <a:cubicBezTo>
                  <a:pt x="11851" y="7180"/>
                  <a:pt x="11814" y="7193"/>
                  <a:pt x="11779" y="7215"/>
                </a:cubicBezTo>
                <a:cubicBezTo>
                  <a:pt x="11774" y="7217"/>
                  <a:pt x="11769" y="7219"/>
                  <a:pt x="11764" y="7221"/>
                </a:cubicBezTo>
              </a:path>
              <a:path w="3810" h="1970">
                <a:moveTo>
                  <a:pt x="9582" y="6930"/>
                </a:moveTo>
                <a:cubicBezTo>
                  <a:pt x="9559" y="6932"/>
                  <a:pt x="9537" y="6931"/>
                  <a:pt x="9513" y="6935"/>
                </a:cubicBezTo>
                <a:cubicBezTo>
                  <a:pt x="9486" y="6940"/>
                  <a:pt x="9463" y="6949"/>
                  <a:pt x="9437" y="6957"/>
                </a:cubicBezTo>
                <a:cubicBezTo>
                  <a:pt x="9471" y="6960"/>
                  <a:pt x="9506" y="6962"/>
                  <a:pt x="9542" y="6962"/>
                </a:cubicBezTo>
                <a:cubicBezTo>
                  <a:pt x="9617" y="6962"/>
                  <a:pt x="9693" y="6960"/>
                  <a:pt x="9768" y="6958"/>
                </a:cubicBezTo>
                <a:cubicBezTo>
                  <a:pt x="10012" y="6952"/>
                  <a:pt x="10256" y="6955"/>
                  <a:pt x="10500" y="6969"/>
                </a:cubicBezTo>
                <a:cubicBezTo>
                  <a:pt x="10739" y="6983"/>
                  <a:pt x="10965" y="6978"/>
                  <a:pt x="11202" y="6960"/>
                </a:cubicBezTo>
                <a:cubicBezTo>
                  <a:pt x="11319" y="6951"/>
                  <a:pt x="11436" y="6949"/>
                  <a:pt x="11553" y="6961"/>
                </a:cubicBezTo>
                <a:cubicBezTo>
                  <a:pt x="11645" y="6971"/>
                  <a:pt x="11725" y="6993"/>
                  <a:pt x="11815" y="6966"/>
                </a:cubicBezTo>
                <a:cubicBezTo>
                  <a:pt x="11818" y="6964"/>
                  <a:pt x="11821" y="6962"/>
                  <a:pt x="11824" y="6960"/>
                </a:cubicBezTo>
                <a:cubicBezTo>
                  <a:pt x="11815" y="6950"/>
                  <a:pt x="11808" y="6932"/>
                  <a:pt x="11787" y="6918"/>
                </a:cubicBezTo>
                <a:cubicBezTo>
                  <a:pt x="11749" y="6893"/>
                  <a:pt x="11703" y="6866"/>
                  <a:pt x="11676" y="6843"/>
                </a:cubicBezTo>
                <a:cubicBezTo>
                  <a:pt x="11743" y="6860"/>
                  <a:pt x="11810" y="6870"/>
                  <a:pt x="11836" y="6946"/>
                </a:cubicBezTo>
                <a:cubicBezTo>
                  <a:pt x="11854" y="6998"/>
                  <a:pt x="11823" y="7062"/>
                  <a:pt x="11771" y="7080"/>
                </a:cubicBezTo>
                <a:cubicBezTo>
                  <a:pt x="11748" y="7081"/>
                  <a:pt x="11740" y="7081"/>
                  <a:pt x="11724" y="7084"/>
                </a:cubicBezTo>
              </a:path>
              <a:path w="3810" h="1970">
                <a:moveTo>
                  <a:pt x="9397" y="6687"/>
                </a:moveTo>
                <a:cubicBezTo>
                  <a:pt x="9426" y="6679"/>
                  <a:pt x="9451" y="6668"/>
                  <a:pt x="9482" y="6662"/>
                </a:cubicBezTo>
                <a:cubicBezTo>
                  <a:pt x="9716" y="6620"/>
                  <a:pt x="9966" y="6637"/>
                  <a:pt x="10203" y="6634"/>
                </a:cubicBezTo>
                <a:cubicBezTo>
                  <a:pt x="10614" y="6629"/>
                  <a:pt x="11026" y="6615"/>
                  <a:pt x="11437" y="6599"/>
                </a:cubicBezTo>
                <a:cubicBezTo>
                  <a:pt x="11535" y="6595"/>
                  <a:pt x="11633" y="6599"/>
                  <a:pt x="11730" y="6594"/>
                </a:cubicBezTo>
                <a:cubicBezTo>
                  <a:pt x="11787" y="6591"/>
                  <a:pt x="11843" y="6585"/>
                  <a:pt x="11900" y="6578"/>
                </a:cubicBezTo>
                <a:cubicBezTo>
                  <a:pt x="11918" y="6576"/>
                  <a:pt x="11936" y="6574"/>
                  <a:pt x="11954" y="6572"/>
                </a:cubicBezTo>
                <a:cubicBezTo>
                  <a:pt x="11929" y="6565"/>
                  <a:pt x="11906" y="6556"/>
                  <a:pt x="11879" y="6551"/>
                </a:cubicBezTo>
                <a:cubicBezTo>
                  <a:pt x="11810" y="6537"/>
                  <a:pt x="11742" y="6525"/>
                  <a:pt x="11673" y="6511"/>
                </a:cubicBezTo>
                <a:cubicBezTo>
                  <a:pt x="11714" y="6516"/>
                  <a:pt x="11755" y="6514"/>
                  <a:pt x="11795" y="6532"/>
                </a:cubicBezTo>
                <a:cubicBezTo>
                  <a:pt x="11841" y="6553"/>
                  <a:pt x="11851" y="6571"/>
                  <a:pt x="11854" y="6618"/>
                </a:cubicBezTo>
                <a:cubicBezTo>
                  <a:pt x="11848" y="6635"/>
                  <a:pt x="11846" y="6641"/>
                  <a:pt x="11842" y="6652"/>
                </a:cubicBezTo>
              </a:path>
              <a:path w="3810" h="1970">
                <a:moveTo>
                  <a:pt x="9579" y="6345"/>
                </a:moveTo>
                <a:cubicBezTo>
                  <a:pt x="9568" y="6347"/>
                  <a:pt x="9564" y="6348"/>
                  <a:pt x="9556" y="6350"/>
                </a:cubicBezTo>
                <a:cubicBezTo>
                  <a:pt x="9597" y="6345"/>
                  <a:pt x="9639" y="6339"/>
                  <a:pt x="9681" y="6333"/>
                </a:cubicBezTo>
                <a:cubicBezTo>
                  <a:pt x="9762" y="6321"/>
                  <a:pt x="9845" y="6311"/>
                  <a:pt x="9927" y="6305"/>
                </a:cubicBezTo>
                <a:cubicBezTo>
                  <a:pt x="10029" y="6297"/>
                  <a:pt x="10133" y="6292"/>
                  <a:pt x="10236" y="6293"/>
                </a:cubicBezTo>
                <a:cubicBezTo>
                  <a:pt x="10462" y="6296"/>
                  <a:pt x="10687" y="6312"/>
                  <a:pt x="10913" y="6318"/>
                </a:cubicBezTo>
                <a:cubicBezTo>
                  <a:pt x="11056" y="6322"/>
                  <a:pt x="11200" y="6320"/>
                  <a:pt x="11343" y="6318"/>
                </a:cubicBezTo>
                <a:cubicBezTo>
                  <a:pt x="11427" y="6317"/>
                  <a:pt x="11510" y="6312"/>
                  <a:pt x="11594" y="6313"/>
                </a:cubicBezTo>
                <a:cubicBezTo>
                  <a:pt x="11634" y="6314"/>
                  <a:pt x="11671" y="6307"/>
                  <a:pt x="11711" y="6305"/>
                </a:cubicBezTo>
                <a:cubicBezTo>
                  <a:pt x="11726" y="6304"/>
                  <a:pt x="11743" y="6306"/>
                  <a:pt x="11758" y="6304"/>
                </a:cubicBezTo>
                <a:cubicBezTo>
                  <a:pt x="11776" y="6301"/>
                  <a:pt x="11785" y="6296"/>
                  <a:pt x="11801" y="6292"/>
                </a:cubicBezTo>
                <a:cubicBezTo>
                  <a:pt x="11826" y="6286"/>
                  <a:pt x="11846" y="6275"/>
                  <a:pt x="11867" y="6266"/>
                </a:cubicBezTo>
                <a:cubicBezTo>
                  <a:pt x="11844" y="6246"/>
                  <a:pt x="11836" y="6234"/>
                  <a:pt x="11803" y="6223"/>
                </a:cubicBezTo>
                <a:cubicBezTo>
                  <a:pt x="11763" y="6209"/>
                  <a:pt x="11718" y="6200"/>
                  <a:pt x="11676" y="6195"/>
                </a:cubicBezTo>
                <a:cubicBezTo>
                  <a:pt x="11660" y="6194"/>
                  <a:pt x="11657" y="6194"/>
                  <a:pt x="11647" y="6194"/>
                </a:cubicBezTo>
                <a:cubicBezTo>
                  <a:pt x="11707" y="6208"/>
                  <a:pt x="11792" y="6208"/>
                  <a:pt x="11815" y="6273"/>
                </a:cubicBezTo>
                <a:cubicBezTo>
                  <a:pt x="11834" y="6326"/>
                  <a:pt x="11796" y="6402"/>
                  <a:pt x="11760" y="6435"/>
                </a:cubicBezTo>
                <a:cubicBezTo>
                  <a:pt x="11745" y="6445"/>
                  <a:pt x="11740" y="6449"/>
                  <a:pt x="11728" y="645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743440" y="2120760"/>
            <a:ext cx="919440" cy="703440"/>
          </a:xfrm>
          <a:custGeom>
            <a:avLst/>
            <a:gdLst/>
            <a:ahLst/>
            <a:rect l="l" t="t" r="r" b="b"/>
            <a:pathLst>
              <a:path w="2553" h="1951">
                <a:moveTo>
                  <a:pt x="16409" y="5996"/>
                </a:moveTo>
                <a:cubicBezTo>
                  <a:pt x="16395" y="5991"/>
                  <a:pt x="16415" y="5948"/>
                  <a:pt x="16372" y="5982"/>
                </a:cubicBezTo>
                <a:cubicBezTo>
                  <a:pt x="16334" y="6011"/>
                  <a:pt x="16297" y="6082"/>
                  <a:pt x="16275" y="6123"/>
                </a:cubicBezTo>
                <a:cubicBezTo>
                  <a:pt x="16220" y="6224"/>
                  <a:pt x="16172" y="6330"/>
                  <a:pt x="16131" y="6438"/>
                </a:cubicBezTo>
                <a:cubicBezTo>
                  <a:pt x="16004" y="6775"/>
                  <a:pt x="15883" y="7197"/>
                  <a:pt x="15991" y="7554"/>
                </a:cubicBezTo>
                <a:cubicBezTo>
                  <a:pt x="16022" y="7658"/>
                  <a:pt x="16099" y="7793"/>
                  <a:pt x="16221" y="7804"/>
                </a:cubicBezTo>
                <a:cubicBezTo>
                  <a:pt x="16353" y="7816"/>
                  <a:pt x="16460" y="7669"/>
                  <a:pt x="16520" y="7573"/>
                </a:cubicBezTo>
                <a:cubicBezTo>
                  <a:pt x="16674" y="7327"/>
                  <a:pt x="16785" y="7027"/>
                  <a:pt x="16810" y="6737"/>
                </a:cubicBezTo>
                <a:cubicBezTo>
                  <a:pt x="16821" y="6608"/>
                  <a:pt x="16806" y="6480"/>
                  <a:pt x="16757" y="6360"/>
                </a:cubicBezTo>
                <a:cubicBezTo>
                  <a:pt x="16700" y="6221"/>
                  <a:pt x="16594" y="6104"/>
                  <a:pt x="16467" y="6025"/>
                </a:cubicBezTo>
                <a:cubicBezTo>
                  <a:pt x="16435" y="6005"/>
                  <a:pt x="16396" y="5970"/>
                  <a:pt x="16358" y="5991"/>
                </a:cubicBezTo>
                <a:cubicBezTo>
                  <a:pt x="16336" y="6003"/>
                  <a:pt x="16364" y="6049"/>
                  <a:pt x="16364" y="6061"/>
                </a:cubicBezTo>
              </a:path>
              <a:path w="2553" h="1951">
                <a:moveTo>
                  <a:pt x="18074" y="6081"/>
                </a:moveTo>
                <a:cubicBezTo>
                  <a:pt x="18072" y="6064"/>
                  <a:pt x="18073" y="6059"/>
                  <a:pt x="18064" y="6051"/>
                </a:cubicBezTo>
                <a:cubicBezTo>
                  <a:pt x="18045" y="6063"/>
                  <a:pt x="18030" y="6061"/>
                  <a:pt x="18009" y="6090"/>
                </a:cubicBezTo>
                <a:cubicBezTo>
                  <a:pt x="17968" y="6146"/>
                  <a:pt x="17939" y="6209"/>
                  <a:pt x="17915" y="6274"/>
                </a:cubicBezTo>
                <a:cubicBezTo>
                  <a:pt x="17881" y="6369"/>
                  <a:pt x="17858" y="6469"/>
                  <a:pt x="17838" y="6568"/>
                </a:cubicBezTo>
                <a:cubicBezTo>
                  <a:pt x="17806" y="6724"/>
                  <a:pt x="17789" y="6884"/>
                  <a:pt x="17766" y="7042"/>
                </a:cubicBezTo>
                <a:cubicBezTo>
                  <a:pt x="17737" y="7241"/>
                  <a:pt x="17670" y="7519"/>
                  <a:pt x="17775" y="7708"/>
                </a:cubicBezTo>
                <a:cubicBezTo>
                  <a:pt x="17833" y="7812"/>
                  <a:pt x="17936" y="7874"/>
                  <a:pt x="18054" y="7826"/>
                </a:cubicBezTo>
                <a:cubicBezTo>
                  <a:pt x="18101" y="7807"/>
                  <a:pt x="18137" y="7776"/>
                  <a:pt x="18174" y="7743"/>
                </a:cubicBezTo>
                <a:cubicBezTo>
                  <a:pt x="18282" y="7647"/>
                  <a:pt x="18341" y="7475"/>
                  <a:pt x="18383" y="7343"/>
                </a:cubicBezTo>
                <a:cubicBezTo>
                  <a:pt x="18481" y="7034"/>
                  <a:pt x="18527" y="6703"/>
                  <a:pt x="18495" y="6380"/>
                </a:cubicBezTo>
                <a:cubicBezTo>
                  <a:pt x="18481" y="6238"/>
                  <a:pt x="18447" y="6100"/>
                  <a:pt x="18349" y="5994"/>
                </a:cubicBezTo>
                <a:cubicBezTo>
                  <a:pt x="18316" y="5958"/>
                  <a:pt x="18211" y="5873"/>
                  <a:pt x="18153" y="5893"/>
                </a:cubicBezTo>
                <a:cubicBezTo>
                  <a:pt x="18122" y="5904"/>
                  <a:pt x="18119" y="5935"/>
                  <a:pt x="18100" y="5958"/>
                </a:cubicBezTo>
              </a:path>
              <a:path w="2553" h="1951">
                <a:moveTo>
                  <a:pt x="16399" y="6432"/>
                </a:moveTo>
                <a:cubicBezTo>
                  <a:pt x="16385" y="6409"/>
                  <a:pt x="16383" y="6401"/>
                  <a:pt x="16392" y="6376"/>
                </a:cubicBezTo>
                <a:cubicBezTo>
                  <a:pt x="16399" y="6355"/>
                  <a:pt x="16411" y="6334"/>
                  <a:pt x="16429" y="6320"/>
                </a:cubicBezTo>
                <a:cubicBezTo>
                  <a:pt x="16433" y="6318"/>
                  <a:pt x="16438" y="6315"/>
                  <a:pt x="16442" y="6313"/>
                </a:cubicBezTo>
                <a:cubicBezTo>
                  <a:pt x="16470" y="6325"/>
                  <a:pt x="16470" y="6344"/>
                  <a:pt x="16457" y="6374"/>
                </a:cubicBezTo>
                <a:cubicBezTo>
                  <a:pt x="16443" y="6405"/>
                  <a:pt x="16424" y="6434"/>
                  <a:pt x="16395" y="6452"/>
                </a:cubicBezTo>
                <a:cubicBezTo>
                  <a:pt x="16381" y="6458"/>
                  <a:pt x="16377" y="6461"/>
                  <a:pt x="16367" y="6458"/>
                </a:cubicBezTo>
                <a:cubicBezTo>
                  <a:pt x="16363" y="6435"/>
                  <a:pt x="16361" y="6440"/>
                  <a:pt x="16374" y="6422"/>
                </a:cubicBezTo>
              </a:path>
              <a:path w="2553" h="1951">
                <a:moveTo>
                  <a:pt x="16338" y="6760"/>
                </a:moveTo>
                <a:cubicBezTo>
                  <a:pt x="16315" y="6755"/>
                  <a:pt x="16315" y="6743"/>
                  <a:pt x="16325" y="6720"/>
                </a:cubicBezTo>
                <a:cubicBezTo>
                  <a:pt x="16332" y="6705"/>
                  <a:pt x="16343" y="6677"/>
                  <a:pt x="16363" y="6675"/>
                </a:cubicBezTo>
                <a:cubicBezTo>
                  <a:pt x="16368" y="6676"/>
                  <a:pt x="16372" y="6676"/>
                  <a:pt x="16377" y="6677"/>
                </a:cubicBezTo>
                <a:cubicBezTo>
                  <a:pt x="16377" y="6697"/>
                  <a:pt x="16370" y="6719"/>
                  <a:pt x="16361" y="6737"/>
                </a:cubicBezTo>
                <a:cubicBezTo>
                  <a:pt x="16352" y="6755"/>
                  <a:pt x="16343" y="6771"/>
                  <a:pt x="16331" y="6787"/>
                </a:cubicBezTo>
                <a:cubicBezTo>
                  <a:pt x="16345" y="6772"/>
                  <a:pt x="16354" y="6759"/>
                  <a:pt x="16370" y="6745"/>
                </a:cubicBezTo>
                <a:cubicBezTo>
                  <a:pt x="16383" y="6733"/>
                  <a:pt x="16388" y="6729"/>
                  <a:pt x="16399" y="6724"/>
                </a:cubicBezTo>
              </a:path>
              <a:path w="2553" h="1951">
                <a:moveTo>
                  <a:pt x="16207" y="7269"/>
                </a:moveTo>
                <a:cubicBezTo>
                  <a:pt x="16210" y="7246"/>
                  <a:pt x="16207" y="7216"/>
                  <a:pt x="16214" y="7195"/>
                </a:cubicBezTo>
                <a:cubicBezTo>
                  <a:pt x="16222" y="7169"/>
                  <a:pt x="16239" y="7140"/>
                  <a:pt x="16260" y="7122"/>
                </a:cubicBezTo>
                <a:cubicBezTo>
                  <a:pt x="16275" y="7109"/>
                  <a:pt x="16300" y="7099"/>
                  <a:pt x="16312" y="7122"/>
                </a:cubicBezTo>
                <a:cubicBezTo>
                  <a:pt x="16323" y="7144"/>
                  <a:pt x="16317" y="7172"/>
                  <a:pt x="16308" y="7193"/>
                </a:cubicBezTo>
                <a:cubicBezTo>
                  <a:pt x="16305" y="7201"/>
                  <a:pt x="16285" y="7238"/>
                  <a:pt x="16269" y="7224"/>
                </a:cubicBezTo>
                <a:cubicBezTo>
                  <a:pt x="16262" y="7218"/>
                  <a:pt x="16269" y="7201"/>
                  <a:pt x="16271" y="7195"/>
                </a:cubicBezTo>
              </a:path>
              <a:path w="2553" h="1951">
                <a:moveTo>
                  <a:pt x="16164" y="7575"/>
                </a:moveTo>
                <a:cubicBezTo>
                  <a:pt x="16162" y="7585"/>
                  <a:pt x="16161" y="7589"/>
                  <a:pt x="16165" y="7595"/>
                </a:cubicBezTo>
                <a:cubicBezTo>
                  <a:pt x="16184" y="7597"/>
                  <a:pt x="16181" y="7577"/>
                  <a:pt x="16202" y="7562"/>
                </a:cubicBezTo>
                <a:cubicBezTo>
                  <a:pt x="16217" y="7551"/>
                  <a:pt x="16226" y="7554"/>
                  <a:pt x="16241" y="7558"/>
                </a:cubicBezTo>
                <a:cubicBezTo>
                  <a:pt x="16241" y="7584"/>
                  <a:pt x="16232" y="7602"/>
                  <a:pt x="16208" y="7576"/>
                </a:cubicBezTo>
                <a:cubicBezTo>
                  <a:pt x="16191" y="7558"/>
                  <a:pt x="16202" y="7521"/>
                  <a:pt x="16205" y="7500"/>
                </a:cubicBezTo>
              </a:path>
              <a:path w="2553" h="1951">
                <a:moveTo>
                  <a:pt x="18088" y="6403"/>
                </a:moveTo>
                <a:cubicBezTo>
                  <a:pt x="18100" y="6391"/>
                  <a:pt x="18104" y="6368"/>
                  <a:pt x="18117" y="6350"/>
                </a:cubicBezTo>
                <a:cubicBezTo>
                  <a:pt x="18129" y="6333"/>
                  <a:pt x="18148" y="6301"/>
                  <a:pt x="18168" y="6292"/>
                </a:cubicBezTo>
                <a:cubicBezTo>
                  <a:pt x="18172" y="6292"/>
                  <a:pt x="18175" y="6292"/>
                  <a:pt x="18179" y="6292"/>
                </a:cubicBezTo>
                <a:cubicBezTo>
                  <a:pt x="18178" y="6311"/>
                  <a:pt x="18169" y="6324"/>
                  <a:pt x="18162" y="6342"/>
                </a:cubicBezTo>
                <a:cubicBezTo>
                  <a:pt x="18157" y="6356"/>
                  <a:pt x="18156" y="6360"/>
                  <a:pt x="18151" y="6367"/>
                </a:cubicBezTo>
                <a:cubicBezTo>
                  <a:pt x="18135" y="6359"/>
                  <a:pt x="18136" y="6338"/>
                  <a:pt x="18131" y="6315"/>
                </a:cubicBezTo>
              </a:path>
              <a:path w="2553" h="1951">
                <a:moveTo>
                  <a:pt x="18084" y="6696"/>
                </a:moveTo>
                <a:cubicBezTo>
                  <a:pt x="18064" y="6672"/>
                  <a:pt x="18069" y="6661"/>
                  <a:pt x="18084" y="6633"/>
                </a:cubicBezTo>
                <a:cubicBezTo>
                  <a:pt x="18094" y="6614"/>
                  <a:pt x="18108" y="6590"/>
                  <a:pt x="18129" y="6584"/>
                </a:cubicBezTo>
                <a:cubicBezTo>
                  <a:pt x="18133" y="6584"/>
                  <a:pt x="18137" y="6583"/>
                  <a:pt x="18141" y="6583"/>
                </a:cubicBezTo>
                <a:cubicBezTo>
                  <a:pt x="18155" y="6603"/>
                  <a:pt x="18155" y="6617"/>
                  <a:pt x="18145" y="6641"/>
                </a:cubicBezTo>
                <a:cubicBezTo>
                  <a:pt x="18142" y="6648"/>
                  <a:pt x="18119" y="6690"/>
                  <a:pt x="18106" y="6680"/>
                </a:cubicBezTo>
                <a:cubicBezTo>
                  <a:pt x="18100" y="6667"/>
                  <a:pt x="18097" y="6664"/>
                  <a:pt x="18103" y="6655"/>
                </a:cubicBezTo>
              </a:path>
              <a:path w="2553" h="1951">
                <a:moveTo>
                  <a:pt x="18003" y="7133"/>
                </a:moveTo>
                <a:cubicBezTo>
                  <a:pt x="17993" y="7107"/>
                  <a:pt x="17993" y="7086"/>
                  <a:pt x="17992" y="7059"/>
                </a:cubicBezTo>
                <a:cubicBezTo>
                  <a:pt x="17991" y="7022"/>
                  <a:pt x="18002" y="6991"/>
                  <a:pt x="18021" y="6959"/>
                </a:cubicBezTo>
                <a:cubicBezTo>
                  <a:pt x="18029" y="6948"/>
                  <a:pt x="18030" y="6944"/>
                  <a:pt x="18039" y="6941"/>
                </a:cubicBezTo>
                <a:cubicBezTo>
                  <a:pt x="18059" y="6972"/>
                  <a:pt x="18052" y="6989"/>
                  <a:pt x="18044" y="7026"/>
                </a:cubicBezTo>
                <a:cubicBezTo>
                  <a:pt x="18043" y="7030"/>
                  <a:pt x="18024" y="7107"/>
                  <a:pt x="18021" y="7106"/>
                </a:cubicBezTo>
                <a:cubicBezTo>
                  <a:pt x="18021" y="7102"/>
                  <a:pt x="18022" y="7097"/>
                  <a:pt x="18022" y="7093"/>
                </a:cubicBezTo>
              </a:path>
              <a:path w="2553" h="1951">
                <a:moveTo>
                  <a:pt x="18039" y="7434"/>
                </a:moveTo>
                <a:cubicBezTo>
                  <a:pt x="18017" y="7441"/>
                  <a:pt x="18021" y="7444"/>
                  <a:pt x="18003" y="7431"/>
                </a:cubicBezTo>
                <a:cubicBezTo>
                  <a:pt x="17998" y="7408"/>
                  <a:pt x="18003" y="7395"/>
                  <a:pt x="18027" y="7384"/>
                </a:cubicBezTo>
                <a:cubicBezTo>
                  <a:pt x="18044" y="7376"/>
                  <a:pt x="18073" y="7369"/>
                  <a:pt x="18087" y="7386"/>
                </a:cubicBezTo>
                <a:cubicBezTo>
                  <a:pt x="18103" y="7405"/>
                  <a:pt x="18087" y="7436"/>
                  <a:pt x="18076" y="7452"/>
                </a:cubicBezTo>
                <a:cubicBezTo>
                  <a:pt x="18062" y="7473"/>
                  <a:pt x="18035" y="7498"/>
                  <a:pt x="18008" y="7490"/>
                </a:cubicBezTo>
                <a:cubicBezTo>
                  <a:pt x="17987" y="7484"/>
                  <a:pt x="17980" y="7452"/>
                  <a:pt x="17982" y="7434"/>
                </a:cubicBezTo>
                <a:cubicBezTo>
                  <a:pt x="17987" y="7410"/>
                  <a:pt x="17989" y="7401"/>
                  <a:pt x="17993" y="7385"/>
                </a:cubicBezTo>
              </a:path>
              <a:path w="2553" h="1951">
                <a:moveTo>
                  <a:pt x="16516" y="6468"/>
                </a:moveTo>
                <a:cubicBezTo>
                  <a:pt x="16495" y="6478"/>
                  <a:pt x="16476" y="6489"/>
                  <a:pt x="16455" y="6499"/>
                </a:cubicBezTo>
                <a:cubicBezTo>
                  <a:pt x="16477" y="6508"/>
                  <a:pt x="16498" y="6517"/>
                  <a:pt x="16526" y="6521"/>
                </a:cubicBezTo>
                <a:cubicBezTo>
                  <a:pt x="16588" y="6530"/>
                  <a:pt x="16651" y="6537"/>
                  <a:pt x="16713" y="6544"/>
                </a:cubicBezTo>
                <a:cubicBezTo>
                  <a:pt x="16803" y="6554"/>
                  <a:pt x="16893" y="6564"/>
                  <a:pt x="16983" y="6575"/>
                </a:cubicBezTo>
                <a:cubicBezTo>
                  <a:pt x="17221" y="6604"/>
                  <a:pt x="17450" y="6670"/>
                  <a:pt x="17687" y="6705"/>
                </a:cubicBezTo>
                <a:cubicBezTo>
                  <a:pt x="17807" y="6722"/>
                  <a:pt x="17928" y="6728"/>
                  <a:pt x="18048" y="6737"/>
                </a:cubicBezTo>
                <a:cubicBezTo>
                  <a:pt x="18038" y="6726"/>
                  <a:pt x="18024" y="6710"/>
                  <a:pt x="18013" y="6695"/>
                </a:cubicBezTo>
                <a:cubicBezTo>
                  <a:pt x="18000" y="6678"/>
                  <a:pt x="17992" y="6659"/>
                  <a:pt x="17980" y="6642"/>
                </a:cubicBezTo>
                <a:cubicBezTo>
                  <a:pt x="17968" y="6626"/>
                  <a:pt x="17946" y="6611"/>
                  <a:pt x="17937" y="6593"/>
                </a:cubicBezTo>
                <a:cubicBezTo>
                  <a:pt x="17933" y="6583"/>
                  <a:pt x="17931" y="6579"/>
                  <a:pt x="17934" y="6571"/>
                </a:cubicBezTo>
                <a:cubicBezTo>
                  <a:pt x="17966" y="6573"/>
                  <a:pt x="17999" y="6563"/>
                  <a:pt x="18017" y="6603"/>
                </a:cubicBezTo>
                <a:cubicBezTo>
                  <a:pt x="18043" y="6662"/>
                  <a:pt x="17982" y="6731"/>
                  <a:pt x="17934" y="6756"/>
                </a:cubicBezTo>
                <a:cubicBezTo>
                  <a:pt x="17908" y="6769"/>
                  <a:pt x="17886" y="6772"/>
                  <a:pt x="17858" y="6778"/>
                </a:cubicBezTo>
              </a:path>
              <a:path w="2553" h="1951">
                <a:moveTo>
                  <a:pt x="16349" y="6831"/>
                </a:moveTo>
                <a:cubicBezTo>
                  <a:pt x="16340" y="6821"/>
                  <a:pt x="16338" y="6815"/>
                  <a:pt x="16330" y="6804"/>
                </a:cubicBezTo>
                <a:cubicBezTo>
                  <a:pt x="16355" y="6787"/>
                  <a:pt x="16373" y="6773"/>
                  <a:pt x="16405" y="6759"/>
                </a:cubicBezTo>
                <a:cubicBezTo>
                  <a:pt x="16475" y="6728"/>
                  <a:pt x="16553" y="6707"/>
                  <a:pt x="16627" y="6686"/>
                </a:cubicBezTo>
                <a:cubicBezTo>
                  <a:pt x="16829" y="6627"/>
                  <a:pt x="17033" y="6580"/>
                  <a:pt x="17236" y="6526"/>
                </a:cubicBezTo>
                <a:cubicBezTo>
                  <a:pt x="17318" y="6504"/>
                  <a:pt x="17400" y="6481"/>
                  <a:pt x="17481" y="6454"/>
                </a:cubicBezTo>
                <a:cubicBezTo>
                  <a:pt x="17604" y="6413"/>
                  <a:pt x="17719" y="6351"/>
                  <a:pt x="17841" y="6311"/>
                </a:cubicBezTo>
                <a:cubicBezTo>
                  <a:pt x="17891" y="6295"/>
                  <a:pt x="17945" y="6285"/>
                  <a:pt x="17997" y="6280"/>
                </a:cubicBezTo>
                <a:cubicBezTo>
                  <a:pt x="18015" y="6278"/>
                  <a:pt x="18032" y="6278"/>
                  <a:pt x="18050" y="6277"/>
                </a:cubicBezTo>
                <a:cubicBezTo>
                  <a:pt x="18012" y="6272"/>
                  <a:pt x="17975" y="6266"/>
                  <a:pt x="17937" y="6261"/>
                </a:cubicBezTo>
                <a:cubicBezTo>
                  <a:pt x="17876" y="6253"/>
                  <a:pt x="17816" y="6247"/>
                  <a:pt x="17755" y="6240"/>
                </a:cubicBezTo>
                <a:cubicBezTo>
                  <a:pt x="17788" y="6252"/>
                  <a:pt x="17821" y="6261"/>
                  <a:pt x="17852" y="6278"/>
                </a:cubicBezTo>
                <a:cubicBezTo>
                  <a:pt x="17902" y="6306"/>
                  <a:pt x="17950" y="6342"/>
                  <a:pt x="17958" y="6402"/>
                </a:cubicBezTo>
                <a:cubicBezTo>
                  <a:pt x="17962" y="6434"/>
                  <a:pt x="17949" y="6448"/>
                  <a:pt x="17932" y="6473"/>
                </a:cubicBezTo>
                <a:cubicBezTo>
                  <a:pt x="17928" y="6477"/>
                  <a:pt x="17923" y="6482"/>
                  <a:pt x="17919" y="6486"/>
                </a:cubicBezTo>
              </a:path>
              <a:path w="2553" h="1951">
                <a:moveTo>
                  <a:pt x="16376" y="7190"/>
                </a:moveTo>
                <a:cubicBezTo>
                  <a:pt x="16378" y="7196"/>
                  <a:pt x="16331" y="7197"/>
                  <a:pt x="16381" y="7203"/>
                </a:cubicBezTo>
                <a:cubicBezTo>
                  <a:pt x="16431" y="7209"/>
                  <a:pt x="16484" y="7205"/>
                  <a:pt x="16534" y="7202"/>
                </a:cubicBezTo>
                <a:cubicBezTo>
                  <a:pt x="16818" y="7185"/>
                  <a:pt x="17100" y="7142"/>
                  <a:pt x="17383" y="7114"/>
                </a:cubicBezTo>
                <a:cubicBezTo>
                  <a:pt x="17486" y="7104"/>
                  <a:pt x="17589" y="7094"/>
                  <a:pt x="17693" y="7093"/>
                </a:cubicBezTo>
                <a:cubicBezTo>
                  <a:pt x="17731" y="7093"/>
                  <a:pt x="17768" y="7095"/>
                  <a:pt x="17806" y="7099"/>
                </a:cubicBezTo>
                <a:cubicBezTo>
                  <a:pt x="17797" y="7086"/>
                  <a:pt x="17794" y="7070"/>
                  <a:pt x="17777" y="7056"/>
                </a:cubicBezTo>
                <a:cubicBezTo>
                  <a:pt x="17752" y="7035"/>
                  <a:pt x="17721" y="7018"/>
                  <a:pt x="17694" y="7000"/>
                </a:cubicBezTo>
                <a:cubicBezTo>
                  <a:pt x="17676" y="6988"/>
                  <a:pt x="17673" y="6981"/>
                  <a:pt x="17658" y="6966"/>
                </a:cubicBezTo>
                <a:cubicBezTo>
                  <a:pt x="17688" y="6982"/>
                  <a:pt x="17716" y="6995"/>
                  <a:pt x="17741" y="7019"/>
                </a:cubicBezTo>
                <a:cubicBezTo>
                  <a:pt x="17783" y="7058"/>
                  <a:pt x="17809" y="7110"/>
                  <a:pt x="17779" y="7164"/>
                </a:cubicBezTo>
                <a:cubicBezTo>
                  <a:pt x="17765" y="7190"/>
                  <a:pt x="17736" y="7211"/>
                  <a:pt x="17713" y="7229"/>
                </a:cubicBezTo>
                <a:cubicBezTo>
                  <a:pt x="17695" y="7243"/>
                  <a:pt x="17671" y="7255"/>
                  <a:pt x="17652" y="7268"/>
                </a:cubicBezTo>
              </a:path>
              <a:path w="2553" h="1951">
                <a:moveTo>
                  <a:pt x="16148" y="7677"/>
                </a:moveTo>
                <a:cubicBezTo>
                  <a:pt x="16164" y="7667"/>
                  <a:pt x="16175" y="7651"/>
                  <a:pt x="16194" y="7643"/>
                </a:cubicBezTo>
                <a:cubicBezTo>
                  <a:pt x="16231" y="7628"/>
                  <a:pt x="16277" y="7623"/>
                  <a:pt x="16317" y="7621"/>
                </a:cubicBezTo>
                <a:cubicBezTo>
                  <a:pt x="16382" y="7617"/>
                  <a:pt x="16449" y="7618"/>
                  <a:pt x="16514" y="7620"/>
                </a:cubicBezTo>
                <a:cubicBezTo>
                  <a:pt x="16675" y="7626"/>
                  <a:pt x="16836" y="7642"/>
                  <a:pt x="16996" y="7657"/>
                </a:cubicBezTo>
                <a:cubicBezTo>
                  <a:pt x="17074" y="7664"/>
                  <a:pt x="17152" y="7668"/>
                  <a:pt x="17230" y="7669"/>
                </a:cubicBezTo>
                <a:cubicBezTo>
                  <a:pt x="17359" y="7671"/>
                  <a:pt x="17489" y="7661"/>
                  <a:pt x="17616" y="7639"/>
                </a:cubicBezTo>
                <a:cubicBezTo>
                  <a:pt x="17688" y="7627"/>
                  <a:pt x="17759" y="7614"/>
                  <a:pt x="17830" y="7599"/>
                </a:cubicBezTo>
                <a:cubicBezTo>
                  <a:pt x="17863" y="7592"/>
                  <a:pt x="17892" y="7582"/>
                  <a:pt x="17924" y="7572"/>
                </a:cubicBezTo>
                <a:cubicBezTo>
                  <a:pt x="17908" y="7552"/>
                  <a:pt x="17895" y="7534"/>
                  <a:pt x="17872" y="7516"/>
                </a:cubicBezTo>
                <a:cubicBezTo>
                  <a:pt x="17840" y="7491"/>
                  <a:pt x="17804" y="7476"/>
                  <a:pt x="17768" y="7459"/>
                </a:cubicBezTo>
                <a:cubicBezTo>
                  <a:pt x="17785" y="7459"/>
                  <a:pt x="17800" y="7457"/>
                  <a:pt x="17818" y="7459"/>
                </a:cubicBezTo>
                <a:cubicBezTo>
                  <a:pt x="17853" y="7463"/>
                  <a:pt x="17870" y="7470"/>
                  <a:pt x="17878" y="7505"/>
                </a:cubicBezTo>
                <a:cubicBezTo>
                  <a:pt x="17884" y="7534"/>
                  <a:pt x="17867" y="7583"/>
                  <a:pt x="17862" y="7612"/>
                </a:cubicBezTo>
                <a:cubicBezTo>
                  <a:pt x="17857" y="7640"/>
                  <a:pt x="17852" y="7665"/>
                  <a:pt x="17840" y="7691"/>
                </a:cubicBezTo>
                <a:cubicBezTo>
                  <a:pt x="17831" y="7711"/>
                  <a:pt x="17822" y="7722"/>
                  <a:pt x="17810" y="774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2475000" y="758880"/>
            <a:ext cx="1292040" cy="1041480"/>
          </a:xfrm>
          <a:custGeom>
            <a:avLst/>
            <a:gdLst/>
            <a:ahLst/>
            <a:rect l="l" t="t" r="r" b="b"/>
            <a:pathLst>
              <a:path w="3589" h="2893">
                <a:moveTo>
                  <a:pt x="10460" y="2786"/>
                </a:moveTo>
                <a:cubicBezTo>
                  <a:pt x="10435" y="2754"/>
                  <a:pt x="10422" y="2718"/>
                  <a:pt x="10380" y="2682"/>
                </a:cubicBezTo>
                <a:cubicBezTo>
                  <a:pt x="10228" y="2552"/>
                  <a:pt x="10035" y="2445"/>
                  <a:pt x="9861" y="2347"/>
                </a:cubicBezTo>
                <a:cubicBezTo>
                  <a:pt x="9467" y="2123"/>
                  <a:pt x="9078" y="2122"/>
                  <a:pt x="8639" y="2113"/>
                </a:cubicBezTo>
                <a:cubicBezTo>
                  <a:pt x="8497" y="2110"/>
                  <a:pt x="8392" y="2122"/>
                  <a:pt x="8258" y="2172"/>
                </a:cubicBezTo>
                <a:cubicBezTo>
                  <a:pt x="8003" y="2267"/>
                  <a:pt x="7766" y="2384"/>
                  <a:pt x="7529" y="2515"/>
                </a:cubicBezTo>
                <a:cubicBezTo>
                  <a:pt x="7389" y="2592"/>
                  <a:pt x="7257" y="2650"/>
                  <a:pt x="7168" y="2788"/>
                </a:cubicBezTo>
                <a:cubicBezTo>
                  <a:pt x="7028" y="3005"/>
                  <a:pt x="6980" y="3287"/>
                  <a:pt x="6932" y="3535"/>
                </a:cubicBezTo>
                <a:cubicBezTo>
                  <a:pt x="6884" y="3783"/>
                  <a:pt x="6842" y="4075"/>
                  <a:pt x="6888" y="4327"/>
                </a:cubicBezTo>
                <a:cubicBezTo>
                  <a:pt x="6917" y="4488"/>
                  <a:pt x="7026" y="4691"/>
                  <a:pt x="7171" y="4778"/>
                </a:cubicBezTo>
                <a:cubicBezTo>
                  <a:pt x="7270" y="4838"/>
                  <a:pt x="7382" y="4849"/>
                  <a:pt x="7492" y="4863"/>
                </a:cubicBezTo>
                <a:cubicBezTo>
                  <a:pt x="7480" y="4816"/>
                  <a:pt x="7466" y="4759"/>
                  <a:pt x="7454" y="4718"/>
                </a:cubicBezTo>
                <a:cubicBezTo>
                  <a:pt x="7492" y="4752"/>
                  <a:pt x="7594" y="4797"/>
                  <a:pt x="7583" y="4874"/>
                </a:cubicBezTo>
                <a:cubicBezTo>
                  <a:pt x="7573" y="4948"/>
                  <a:pt x="7511" y="4975"/>
                  <a:pt x="7457" y="5000"/>
                </a:cubicBezTo>
                <a:cubicBezTo>
                  <a:pt x="7454" y="4989"/>
                  <a:pt x="7453" y="4984"/>
                  <a:pt x="7463" y="497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679320" y="5208480"/>
            <a:ext cx="2189160" cy="1157400"/>
          </a:xfrm>
          <a:custGeom>
            <a:avLst/>
            <a:gdLst/>
            <a:ahLst/>
            <a:rect l="l" t="t" r="r" b="b"/>
            <a:pathLst>
              <a:path w="6081" h="3217">
                <a:moveTo>
                  <a:pt x="2403" y="14556"/>
                </a:moveTo>
                <a:cubicBezTo>
                  <a:pt x="2378" y="14536"/>
                  <a:pt x="2390" y="14520"/>
                  <a:pt x="2347" y="14504"/>
                </a:cubicBezTo>
                <a:cubicBezTo>
                  <a:pt x="2268" y="14474"/>
                  <a:pt x="2057" y="14441"/>
                  <a:pt x="1986" y="14498"/>
                </a:cubicBezTo>
                <a:cubicBezTo>
                  <a:pt x="1895" y="14571"/>
                  <a:pt x="1916" y="14708"/>
                  <a:pt x="1918" y="14812"/>
                </a:cubicBezTo>
                <a:cubicBezTo>
                  <a:pt x="1927" y="15252"/>
                  <a:pt x="1938" y="15681"/>
                  <a:pt x="1911" y="16121"/>
                </a:cubicBezTo>
                <a:cubicBezTo>
                  <a:pt x="1906" y="16204"/>
                  <a:pt x="1902" y="16288"/>
                  <a:pt x="1899" y="16371"/>
                </a:cubicBezTo>
                <a:cubicBezTo>
                  <a:pt x="1895" y="16478"/>
                  <a:pt x="1890" y="16586"/>
                  <a:pt x="1890" y="16693"/>
                </a:cubicBezTo>
                <a:cubicBezTo>
                  <a:pt x="1890" y="16771"/>
                  <a:pt x="1902" y="16842"/>
                  <a:pt x="1912" y="16918"/>
                </a:cubicBezTo>
                <a:cubicBezTo>
                  <a:pt x="1920" y="16974"/>
                  <a:pt x="1918" y="17027"/>
                  <a:pt x="1977" y="17051"/>
                </a:cubicBezTo>
                <a:cubicBezTo>
                  <a:pt x="2029" y="17072"/>
                  <a:pt x="2100" y="17059"/>
                  <a:pt x="2153" y="17055"/>
                </a:cubicBezTo>
                <a:cubicBezTo>
                  <a:pt x="2378" y="17039"/>
                  <a:pt x="2599" y="17049"/>
                  <a:pt x="2824" y="17043"/>
                </a:cubicBezTo>
                <a:cubicBezTo>
                  <a:pt x="2910" y="17041"/>
                  <a:pt x="3012" y="17061"/>
                  <a:pt x="3094" y="17053"/>
                </a:cubicBezTo>
                <a:cubicBezTo>
                  <a:pt x="3151" y="17048"/>
                  <a:pt x="3165" y="17024"/>
                  <a:pt x="3179" y="16969"/>
                </a:cubicBezTo>
                <a:cubicBezTo>
                  <a:pt x="3251" y="16694"/>
                  <a:pt x="3174" y="16344"/>
                  <a:pt x="3176" y="16063"/>
                </a:cubicBezTo>
                <a:cubicBezTo>
                  <a:pt x="3179" y="15651"/>
                  <a:pt x="3175" y="15257"/>
                  <a:pt x="3112" y="14850"/>
                </a:cubicBezTo>
                <a:cubicBezTo>
                  <a:pt x="3102" y="14784"/>
                  <a:pt x="3112" y="14661"/>
                  <a:pt x="3071" y="14604"/>
                </a:cubicBezTo>
                <a:cubicBezTo>
                  <a:pt x="3058" y="14586"/>
                  <a:pt x="3056" y="14588"/>
                  <a:pt x="3037" y="14576"/>
                </a:cubicBezTo>
                <a:cubicBezTo>
                  <a:pt x="2932" y="14510"/>
                  <a:pt x="2715" y="14537"/>
                  <a:pt x="2600" y="14538"/>
                </a:cubicBezTo>
                <a:cubicBezTo>
                  <a:pt x="2575" y="14538"/>
                  <a:pt x="2250" y="14538"/>
                  <a:pt x="2250" y="14541"/>
                </a:cubicBezTo>
                <a:cubicBezTo>
                  <a:pt x="2250" y="14543"/>
                  <a:pt x="2297" y="14579"/>
                  <a:pt x="2298" y="14580"/>
                </a:cubicBezTo>
              </a:path>
              <a:path w="6081" h="3217">
                <a:moveTo>
                  <a:pt x="2298" y="17628"/>
                </a:moveTo>
                <a:cubicBezTo>
                  <a:pt x="2268" y="17588"/>
                  <a:pt x="2280" y="17559"/>
                  <a:pt x="2291" y="17506"/>
                </a:cubicBezTo>
                <a:cubicBezTo>
                  <a:pt x="2304" y="17443"/>
                  <a:pt x="2321" y="17385"/>
                  <a:pt x="2348" y="17327"/>
                </a:cubicBezTo>
                <a:cubicBezTo>
                  <a:pt x="2367" y="17286"/>
                  <a:pt x="2394" y="17255"/>
                  <a:pt x="2436" y="17294"/>
                </a:cubicBezTo>
                <a:cubicBezTo>
                  <a:pt x="2511" y="17365"/>
                  <a:pt x="2553" y="17491"/>
                  <a:pt x="2585" y="17586"/>
                </a:cubicBezTo>
                <a:cubicBezTo>
                  <a:pt x="2607" y="17653"/>
                  <a:pt x="2628" y="17673"/>
                  <a:pt x="2569" y="17663"/>
                </a:cubicBezTo>
              </a:path>
              <a:path w="6081" h="3217">
                <a:moveTo>
                  <a:pt x="2340" y="17469"/>
                </a:moveTo>
                <a:cubicBezTo>
                  <a:pt x="2358" y="17490"/>
                  <a:pt x="2392" y="17473"/>
                  <a:pt x="2420" y="17465"/>
                </a:cubicBezTo>
                <a:cubicBezTo>
                  <a:pt x="2488" y="17446"/>
                  <a:pt x="2555" y="17427"/>
                  <a:pt x="2621" y="17404"/>
                </a:cubicBezTo>
                <a:cubicBezTo>
                  <a:pt x="2673" y="17385"/>
                  <a:pt x="2690" y="17379"/>
                  <a:pt x="2722" y="17361"/>
                </a:cubicBezTo>
              </a:path>
              <a:path w="6081" h="3217">
                <a:moveTo>
                  <a:pt x="4260" y="14585"/>
                </a:moveTo>
                <a:cubicBezTo>
                  <a:pt x="4275" y="14594"/>
                  <a:pt x="4282" y="14601"/>
                  <a:pt x="4286" y="14619"/>
                </a:cubicBezTo>
                <a:cubicBezTo>
                  <a:pt x="4290" y="14637"/>
                  <a:pt x="4291" y="14654"/>
                  <a:pt x="4294" y="14672"/>
                </a:cubicBezTo>
                <a:cubicBezTo>
                  <a:pt x="4296" y="14688"/>
                  <a:pt x="4302" y="14703"/>
                  <a:pt x="4307" y="14718"/>
                </a:cubicBezTo>
              </a:path>
              <a:path w="6081" h="3217">
                <a:moveTo>
                  <a:pt x="4431" y="14596"/>
                </a:moveTo>
                <a:cubicBezTo>
                  <a:pt x="4423" y="14623"/>
                  <a:pt x="4410" y="14623"/>
                  <a:pt x="4407" y="14651"/>
                </a:cubicBezTo>
                <a:cubicBezTo>
                  <a:pt x="4367" y="14989"/>
                  <a:pt x="4414" y="15352"/>
                  <a:pt x="4420" y="15691"/>
                </a:cubicBezTo>
                <a:cubicBezTo>
                  <a:pt x="4426" y="16016"/>
                  <a:pt x="4465" y="16320"/>
                  <a:pt x="4507" y="16639"/>
                </a:cubicBezTo>
                <a:cubicBezTo>
                  <a:pt x="4520" y="16737"/>
                  <a:pt x="4510" y="16836"/>
                  <a:pt x="4525" y="16933"/>
                </a:cubicBezTo>
                <a:cubicBezTo>
                  <a:pt x="4527" y="16948"/>
                  <a:pt x="4533" y="16963"/>
                  <a:pt x="4536" y="16978"/>
                </a:cubicBezTo>
                <a:cubicBezTo>
                  <a:pt x="4594" y="16972"/>
                  <a:pt x="4651" y="16966"/>
                  <a:pt x="4709" y="16960"/>
                </a:cubicBezTo>
                <a:cubicBezTo>
                  <a:pt x="4770" y="16954"/>
                  <a:pt x="4831" y="16944"/>
                  <a:pt x="4892" y="16942"/>
                </a:cubicBezTo>
                <a:cubicBezTo>
                  <a:pt x="4958" y="16940"/>
                  <a:pt x="5020" y="16945"/>
                  <a:pt x="5085" y="16955"/>
                </a:cubicBezTo>
                <a:cubicBezTo>
                  <a:pt x="5200" y="16972"/>
                  <a:pt x="5306" y="17005"/>
                  <a:pt x="5423" y="17005"/>
                </a:cubicBezTo>
                <a:cubicBezTo>
                  <a:pt x="5483" y="17005"/>
                  <a:pt x="5546" y="16995"/>
                  <a:pt x="5603" y="16988"/>
                </a:cubicBezTo>
                <a:cubicBezTo>
                  <a:pt x="5599" y="16925"/>
                  <a:pt x="5594" y="16863"/>
                  <a:pt x="5586" y="16800"/>
                </a:cubicBezTo>
                <a:cubicBezTo>
                  <a:pt x="5547" y="16483"/>
                  <a:pt x="5494" y="16169"/>
                  <a:pt x="5420" y="15858"/>
                </a:cubicBezTo>
                <a:cubicBezTo>
                  <a:pt x="5360" y="15606"/>
                  <a:pt x="5325" y="15366"/>
                  <a:pt x="5324" y="15106"/>
                </a:cubicBezTo>
                <a:cubicBezTo>
                  <a:pt x="5323" y="14962"/>
                  <a:pt x="5352" y="14735"/>
                  <a:pt x="5301" y="14593"/>
                </a:cubicBezTo>
                <a:cubicBezTo>
                  <a:pt x="5286" y="14551"/>
                  <a:pt x="5276" y="14557"/>
                  <a:pt x="5236" y="14544"/>
                </a:cubicBezTo>
                <a:cubicBezTo>
                  <a:pt x="5018" y="14474"/>
                  <a:pt x="4538" y="14256"/>
                  <a:pt x="4568" y="14483"/>
                </a:cubicBezTo>
                <a:cubicBezTo>
                  <a:pt x="4569" y="14491"/>
                  <a:pt x="4618" y="14527"/>
                  <a:pt x="4624" y="14535"/>
                </a:cubicBezTo>
              </a:path>
              <a:path w="6081" h="3217">
                <a:moveTo>
                  <a:pt x="4937" y="17139"/>
                </a:moveTo>
                <a:cubicBezTo>
                  <a:pt x="4909" y="17122"/>
                  <a:pt x="4896" y="17120"/>
                  <a:pt x="4903" y="17160"/>
                </a:cubicBezTo>
                <a:cubicBezTo>
                  <a:pt x="4912" y="17209"/>
                  <a:pt x="4925" y="17257"/>
                  <a:pt x="4934" y="17306"/>
                </a:cubicBezTo>
                <a:cubicBezTo>
                  <a:pt x="4947" y="17375"/>
                  <a:pt x="4958" y="17444"/>
                  <a:pt x="4962" y="17514"/>
                </a:cubicBezTo>
                <a:cubicBezTo>
                  <a:pt x="4962" y="17524"/>
                  <a:pt x="4962" y="17533"/>
                  <a:pt x="4962" y="17543"/>
                </a:cubicBezTo>
                <a:cubicBezTo>
                  <a:pt x="4950" y="17475"/>
                  <a:pt x="4949" y="17407"/>
                  <a:pt x="4949" y="17338"/>
                </a:cubicBezTo>
                <a:cubicBezTo>
                  <a:pt x="4949" y="17262"/>
                  <a:pt x="4945" y="17170"/>
                  <a:pt x="4977" y="17099"/>
                </a:cubicBezTo>
                <a:cubicBezTo>
                  <a:pt x="4981" y="17094"/>
                  <a:pt x="4984" y="17089"/>
                  <a:pt x="4988" y="17084"/>
                </a:cubicBezTo>
                <a:cubicBezTo>
                  <a:pt x="5010" y="17109"/>
                  <a:pt x="5021" y="17130"/>
                  <a:pt x="5028" y="17170"/>
                </a:cubicBezTo>
                <a:cubicBezTo>
                  <a:pt x="5037" y="17218"/>
                  <a:pt x="5041" y="17266"/>
                  <a:pt x="5045" y="17314"/>
                </a:cubicBezTo>
                <a:cubicBezTo>
                  <a:pt x="5046" y="17322"/>
                  <a:pt x="5046" y="17329"/>
                  <a:pt x="5047" y="17337"/>
                </a:cubicBezTo>
                <a:cubicBezTo>
                  <a:pt x="5073" y="17337"/>
                  <a:pt x="5084" y="17316"/>
                  <a:pt x="5112" y="17308"/>
                </a:cubicBezTo>
                <a:cubicBezTo>
                  <a:pt x="5152" y="17296"/>
                  <a:pt x="5197" y="17298"/>
                  <a:pt x="5228" y="17329"/>
                </a:cubicBezTo>
                <a:cubicBezTo>
                  <a:pt x="5297" y="17397"/>
                  <a:pt x="5285" y="17515"/>
                  <a:pt x="5201" y="17563"/>
                </a:cubicBezTo>
                <a:cubicBezTo>
                  <a:pt x="5148" y="17594"/>
                  <a:pt x="5113" y="17574"/>
                  <a:pt x="5068" y="17553"/>
                </a:cubicBezTo>
              </a:path>
              <a:path w="6081" h="3217">
                <a:moveTo>
                  <a:pt x="2562" y="14958"/>
                </a:moveTo>
                <a:cubicBezTo>
                  <a:pt x="2585" y="14960"/>
                  <a:pt x="2591" y="14963"/>
                  <a:pt x="2614" y="14959"/>
                </a:cubicBezTo>
                <a:cubicBezTo>
                  <a:pt x="2670" y="14950"/>
                  <a:pt x="2725" y="14939"/>
                  <a:pt x="2781" y="14930"/>
                </a:cubicBezTo>
                <a:cubicBezTo>
                  <a:pt x="2983" y="14899"/>
                  <a:pt x="3172" y="14913"/>
                  <a:pt x="3374" y="14935"/>
                </a:cubicBezTo>
                <a:cubicBezTo>
                  <a:pt x="3563" y="14956"/>
                  <a:pt x="3741" y="14942"/>
                  <a:pt x="3929" y="14929"/>
                </a:cubicBezTo>
                <a:cubicBezTo>
                  <a:pt x="4040" y="14922"/>
                  <a:pt x="4151" y="14956"/>
                  <a:pt x="4262" y="14962"/>
                </a:cubicBezTo>
                <a:cubicBezTo>
                  <a:pt x="4376" y="14969"/>
                  <a:pt x="4488" y="14985"/>
                  <a:pt x="4602" y="14982"/>
                </a:cubicBezTo>
                <a:cubicBezTo>
                  <a:pt x="4619" y="14982"/>
                  <a:pt x="4635" y="14978"/>
                  <a:pt x="4652" y="14977"/>
                </a:cubicBezTo>
                <a:cubicBezTo>
                  <a:pt x="4651" y="14958"/>
                  <a:pt x="4655" y="14938"/>
                  <a:pt x="4650" y="14918"/>
                </a:cubicBezTo>
                <a:cubicBezTo>
                  <a:pt x="4639" y="14870"/>
                  <a:pt x="4610" y="14847"/>
                  <a:pt x="4577" y="14814"/>
                </a:cubicBezTo>
                <a:cubicBezTo>
                  <a:pt x="4594" y="14825"/>
                  <a:pt x="4609" y="14826"/>
                  <a:pt x="4625" y="14847"/>
                </a:cubicBezTo>
                <a:cubicBezTo>
                  <a:pt x="4684" y="14925"/>
                  <a:pt x="4682" y="15079"/>
                  <a:pt x="4584" y="15127"/>
                </a:cubicBezTo>
                <a:cubicBezTo>
                  <a:pt x="4554" y="15142"/>
                  <a:pt x="4561" y="15124"/>
                  <a:pt x="4540" y="15119"/>
                </a:cubicBezTo>
              </a:path>
              <a:path w="6081" h="3217">
                <a:moveTo>
                  <a:pt x="2666" y="15420"/>
                </a:moveTo>
                <a:cubicBezTo>
                  <a:pt x="2691" y="15417"/>
                  <a:pt x="2714" y="15409"/>
                  <a:pt x="2740" y="15409"/>
                </a:cubicBezTo>
                <a:cubicBezTo>
                  <a:pt x="2795" y="15409"/>
                  <a:pt x="2849" y="15409"/>
                  <a:pt x="2904" y="15408"/>
                </a:cubicBezTo>
                <a:cubicBezTo>
                  <a:pt x="2986" y="15407"/>
                  <a:pt x="3067" y="15400"/>
                  <a:pt x="3149" y="15396"/>
                </a:cubicBezTo>
                <a:cubicBezTo>
                  <a:pt x="3254" y="15391"/>
                  <a:pt x="3358" y="15381"/>
                  <a:pt x="3462" y="15373"/>
                </a:cubicBezTo>
                <a:cubicBezTo>
                  <a:pt x="3722" y="15353"/>
                  <a:pt x="3980" y="15332"/>
                  <a:pt x="4241" y="15325"/>
                </a:cubicBezTo>
                <a:cubicBezTo>
                  <a:pt x="4330" y="15323"/>
                  <a:pt x="4419" y="15319"/>
                  <a:pt x="4507" y="15315"/>
                </a:cubicBezTo>
                <a:cubicBezTo>
                  <a:pt x="4581" y="15311"/>
                  <a:pt x="4656" y="15308"/>
                  <a:pt x="4730" y="15307"/>
                </a:cubicBezTo>
                <a:cubicBezTo>
                  <a:pt x="4722" y="15304"/>
                  <a:pt x="4713" y="15290"/>
                  <a:pt x="4690" y="15286"/>
                </a:cubicBezTo>
                <a:cubicBezTo>
                  <a:pt x="4624" y="15276"/>
                  <a:pt x="4547" y="15300"/>
                  <a:pt x="4486" y="15273"/>
                </a:cubicBezTo>
                <a:cubicBezTo>
                  <a:pt x="4484" y="15269"/>
                  <a:pt x="4482" y="15266"/>
                  <a:pt x="4480" y="15262"/>
                </a:cubicBezTo>
                <a:cubicBezTo>
                  <a:pt x="4534" y="15224"/>
                  <a:pt x="4589" y="15210"/>
                  <a:pt x="4610" y="15299"/>
                </a:cubicBezTo>
                <a:cubicBezTo>
                  <a:pt x="4631" y="15385"/>
                  <a:pt x="4594" y="15482"/>
                  <a:pt x="4572" y="15564"/>
                </a:cubicBezTo>
              </a:path>
              <a:path w="6081" h="3217">
                <a:moveTo>
                  <a:pt x="2821" y="16543"/>
                </a:moveTo>
                <a:cubicBezTo>
                  <a:pt x="2836" y="16538"/>
                  <a:pt x="2865" y="16539"/>
                  <a:pt x="2893" y="16521"/>
                </a:cubicBezTo>
                <a:cubicBezTo>
                  <a:pt x="3021" y="16438"/>
                  <a:pt x="3140" y="16335"/>
                  <a:pt x="3262" y="16243"/>
                </a:cubicBezTo>
                <a:cubicBezTo>
                  <a:pt x="3512" y="16055"/>
                  <a:pt x="3763" y="15888"/>
                  <a:pt x="4036" y="15736"/>
                </a:cubicBezTo>
                <a:cubicBezTo>
                  <a:pt x="4208" y="15641"/>
                  <a:pt x="4383" y="15544"/>
                  <a:pt x="4563" y="15465"/>
                </a:cubicBezTo>
                <a:cubicBezTo>
                  <a:pt x="4626" y="15438"/>
                  <a:pt x="4693" y="15418"/>
                  <a:pt x="4750" y="15381"/>
                </a:cubicBezTo>
                <a:cubicBezTo>
                  <a:pt x="4760" y="15371"/>
                  <a:pt x="4764" y="15369"/>
                  <a:pt x="4770" y="15362"/>
                </a:cubicBezTo>
                <a:cubicBezTo>
                  <a:pt x="4748" y="15362"/>
                  <a:pt x="4725" y="15359"/>
                  <a:pt x="4703" y="15360"/>
                </a:cubicBezTo>
                <a:cubicBezTo>
                  <a:pt x="4577" y="15366"/>
                  <a:pt x="4466" y="15425"/>
                  <a:pt x="4354" y="15478"/>
                </a:cubicBezTo>
                <a:cubicBezTo>
                  <a:pt x="4434" y="15434"/>
                  <a:pt x="4545" y="15354"/>
                  <a:pt x="4638" y="15410"/>
                </a:cubicBezTo>
                <a:cubicBezTo>
                  <a:pt x="4692" y="15442"/>
                  <a:pt x="4680" y="15525"/>
                  <a:pt x="4677" y="15576"/>
                </a:cubicBezTo>
                <a:cubicBezTo>
                  <a:pt x="4676" y="15595"/>
                  <a:pt x="4672" y="15612"/>
                  <a:pt x="4670" y="15631"/>
                </a:cubicBezTo>
              </a:path>
              <a:path w="6081" h="3217">
                <a:moveTo>
                  <a:pt x="2793" y="16868"/>
                </a:moveTo>
                <a:cubicBezTo>
                  <a:pt x="2805" y="16878"/>
                  <a:pt x="2779" y="16904"/>
                  <a:pt x="2813" y="16910"/>
                </a:cubicBezTo>
                <a:cubicBezTo>
                  <a:pt x="2854" y="16917"/>
                  <a:pt x="2886" y="16894"/>
                  <a:pt x="2922" y="16881"/>
                </a:cubicBezTo>
                <a:cubicBezTo>
                  <a:pt x="3000" y="16854"/>
                  <a:pt x="3067" y="16799"/>
                  <a:pt x="3135" y="16753"/>
                </a:cubicBezTo>
                <a:cubicBezTo>
                  <a:pt x="3229" y="16689"/>
                  <a:pt x="3320" y="16623"/>
                  <a:pt x="3416" y="16563"/>
                </a:cubicBezTo>
                <a:cubicBezTo>
                  <a:pt x="3681" y="16396"/>
                  <a:pt x="3951" y="16235"/>
                  <a:pt x="4217" y="16070"/>
                </a:cubicBezTo>
                <a:cubicBezTo>
                  <a:pt x="4333" y="15998"/>
                  <a:pt x="4411" y="15876"/>
                  <a:pt x="4537" y="15823"/>
                </a:cubicBezTo>
                <a:cubicBezTo>
                  <a:pt x="4607" y="15794"/>
                  <a:pt x="4710" y="15796"/>
                  <a:pt x="4770" y="15754"/>
                </a:cubicBezTo>
                <a:cubicBezTo>
                  <a:pt x="4787" y="15742"/>
                  <a:pt x="4801" y="15716"/>
                  <a:pt x="4816" y="15701"/>
                </a:cubicBezTo>
                <a:cubicBezTo>
                  <a:pt x="4791" y="15705"/>
                  <a:pt x="4764" y="15708"/>
                  <a:pt x="4738" y="15714"/>
                </a:cubicBezTo>
                <a:cubicBezTo>
                  <a:pt x="4682" y="15727"/>
                  <a:pt x="4628" y="15735"/>
                  <a:pt x="4572" y="15741"/>
                </a:cubicBezTo>
                <a:cubicBezTo>
                  <a:pt x="4599" y="15725"/>
                  <a:pt x="4605" y="15704"/>
                  <a:pt x="4648" y="15698"/>
                </a:cubicBezTo>
                <a:cubicBezTo>
                  <a:pt x="4733" y="15686"/>
                  <a:pt x="4795" y="15726"/>
                  <a:pt x="4821" y="15806"/>
                </a:cubicBezTo>
                <a:cubicBezTo>
                  <a:pt x="4829" y="15830"/>
                  <a:pt x="4813" y="15854"/>
                  <a:pt x="4813" y="15873"/>
                </a:cubicBezTo>
              </a:path>
              <a:path w="6081" h="3217">
                <a:moveTo>
                  <a:pt x="4882" y="16299"/>
                </a:moveTo>
                <a:cubicBezTo>
                  <a:pt x="4896" y="16278"/>
                  <a:pt x="4915" y="16262"/>
                  <a:pt x="4933" y="16244"/>
                </a:cubicBezTo>
                <a:cubicBezTo>
                  <a:pt x="4951" y="16226"/>
                  <a:pt x="4970" y="16195"/>
                  <a:pt x="4996" y="16189"/>
                </a:cubicBezTo>
                <a:cubicBezTo>
                  <a:pt x="4999" y="16189"/>
                  <a:pt x="5003" y="16190"/>
                  <a:pt x="5006" y="16190"/>
                </a:cubicBezTo>
                <a:cubicBezTo>
                  <a:pt x="5014" y="16216"/>
                  <a:pt x="5006" y="16233"/>
                  <a:pt x="4998" y="16258"/>
                </a:cubicBezTo>
                <a:cubicBezTo>
                  <a:pt x="4991" y="16279"/>
                  <a:pt x="4979" y="16314"/>
                  <a:pt x="4952" y="16318"/>
                </a:cubicBezTo>
                <a:cubicBezTo>
                  <a:pt x="4928" y="16322"/>
                  <a:pt x="4919" y="16286"/>
                  <a:pt x="4916" y="16270"/>
                </a:cubicBezTo>
                <a:cubicBezTo>
                  <a:pt x="4911" y="16245"/>
                  <a:pt x="4915" y="16224"/>
                  <a:pt x="4925" y="16201"/>
                </a:cubicBezTo>
                <a:cubicBezTo>
                  <a:pt x="4950" y="16212"/>
                  <a:pt x="4947" y="16230"/>
                  <a:pt x="4947" y="16258"/>
                </a:cubicBezTo>
                <a:cubicBezTo>
                  <a:pt x="4947" y="16292"/>
                  <a:pt x="4934" y="16323"/>
                  <a:pt x="4930" y="16357"/>
                </a:cubicBezTo>
                <a:cubicBezTo>
                  <a:pt x="4929" y="16374"/>
                  <a:pt x="4929" y="16378"/>
                  <a:pt x="4929" y="16389"/>
                </a:cubicBezTo>
              </a:path>
              <a:path w="6081" h="3217">
                <a:moveTo>
                  <a:pt x="5030" y="16568"/>
                </a:moveTo>
                <a:cubicBezTo>
                  <a:pt x="5037" y="16555"/>
                  <a:pt x="5042" y="16541"/>
                  <a:pt x="5047" y="16527"/>
                </a:cubicBezTo>
                <a:cubicBezTo>
                  <a:pt x="5055" y="16545"/>
                  <a:pt x="5051" y="16560"/>
                  <a:pt x="5029" y="16570"/>
                </a:cubicBezTo>
                <a:cubicBezTo>
                  <a:pt x="5012" y="16578"/>
                  <a:pt x="4988" y="16567"/>
                  <a:pt x="4974" y="16558"/>
                </a:cubicBezTo>
                <a:cubicBezTo>
                  <a:pt x="4959" y="16548"/>
                  <a:pt x="4941" y="16530"/>
                  <a:pt x="4937" y="16512"/>
                </a:cubicBezTo>
                <a:cubicBezTo>
                  <a:pt x="4937" y="16509"/>
                  <a:pt x="4937" y="16506"/>
                  <a:pt x="4937" y="16503"/>
                </a:cubicBezTo>
                <a:cubicBezTo>
                  <a:pt x="4963" y="16485"/>
                  <a:pt x="4977" y="16496"/>
                  <a:pt x="5001" y="16520"/>
                </a:cubicBezTo>
                <a:cubicBezTo>
                  <a:pt x="5005" y="16524"/>
                  <a:pt x="5008" y="16528"/>
                  <a:pt x="5012" y="16532"/>
                </a:cubicBezTo>
              </a:path>
              <a:path w="6081" h="3217">
                <a:moveTo>
                  <a:pt x="3047" y="15919"/>
                </a:moveTo>
                <a:cubicBezTo>
                  <a:pt x="3033" y="15915"/>
                  <a:pt x="3026" y="15915"/>
                  <a:pt x="3018" y="15914"/>
                </a:cubicBezTo>
                <a:cubicBezTo>
                  <a:pt x="3023" y="15927"/>
                  <a:pt x="3029" y="15943"/>
                  <a:pt x="3034" y="15957"/>
                </a:cubicBezTo>
                <a:cubicBezTo>
                  <a:pt x="3016" y="15943"/>
                  <a:pt x="3023" y="15972"/>
                  <a:pt x="3007" y="15945"/>
                </a:cubicBezTo>
                <a:cubicBezTo>
                  <a:pt x="2999" y="15931"/>
                  <a:pt x="3017" y="15924"/>
                  <a:pt x="2998" y="15909"/>
                </a:cubicBezTo>
                <a:cubicBezTo>
                  <a:pt x="2971" y="15889"/>
                  <a:pt x="2912" y="15872"/>
                  <a:pt x="2877" y="15874"/>
                </a:cubicBezTo>
                <a:cubicBezTo>
                  <a:pt x="2856" y="15875"/>
                  <a:pt x="2854" y="15882"/>
                  <a:pt x="2837" y="15885"/>
                </a:cubicBezTo>
                <a:cubicBezTo>
                  <a:pt x="2854" y="15894"/>
                  <a:pt x="2869" y="15904"/>
                  <a:pt x="2887" y="15912"/>
                </a:cubicBezTo>
                <a:cubicBezTo>
                  <a:pt x="2956" y="15943"/>
                  <a:pt x="3029" y="15965"/>
                  <a:pt x="3103" y="15980"/>
                </a:cubicBezTo>
                <a:cubicBezTo>
                  <a:pt x="3205" y="16001"/>
                  <a:pt x="3301" y="16012"/>
                  <a:pt x="3405" y="16011"/>
                </a:cubicBezTo>
                <a:cubicBezTo>
                  <a:pt x="3484" y="16011"/>
                  <a:pt x="3582" y="16002"/>
                  <a:pt x="3658" y="16029"/>
                </a:cubicBezTo>
                <a:cubicBezTo>
                  <a:pt x="3757" y="16064"/>
                  <a:pt x="3839" y="16108"/>
                  <a:pt x="3944" y="16127"/>
                </a:cubicBezTo>
                <a:cubicBezTo>
                  <a:pt x="4021" y="16141"/>
                  <a:pt x="4082" y="16156"/>
                  <a:pt x="4148" y="16199"/>
                </a:cubicBezTo>
                <a:cubicBezTo>
                  <a:pt x="4168" y="16212"/>
                  <a:pt x="4182" y="16221"/>
                  <a:pt x="4201" y="16225"/>
                </a:cubicBezTo>
                <a:cubicBezTo>
                  <a:pt x="4214" y="16228"/>
                  <a:pt x="4228" y="16221"/>
                  <a:pt x="4242" y="16224"/>
                </a:cubicBezTo>
                <a:cubicBezTo>
                  <a:pt x="4299" y="16238"/>
                  <a:pt x="4352" y="16262"/>
                  <a:pt x="4409" y="16276"/>
                </a:cubicBezTo>
                <a:cubicBezTo>
                  <a:pt x="4517" y="16302"/>
                  <a:pt x="4631" y="16299"/>
                  <a:pt x="4740" y="16323"/>
                </a:cubicBezTo>
                <a:cubicBezTo>
                  <a:pt x="4793" y="16334"/>
                  <a:pt x="4843" y="16354"/>
                  <a:pt x="4894" y="16371"/>
                </a:cubicBezTo>
                <a:cubicBezTo>
                  <a:pt x="4920" y="16380"/>
                  <a:pt x="4946" y="16386"/>
                  <a:pt x="4972" y="16394"/>
                </a:cubicBezTo>
                <a:cubicBezTo>
                  <a:pt x="4969" y="16381"/>
                  <a:pt x="4969" y="16363"/>
                  <a:pt x="4963" y="16347"/>
                </a:cubicBezTo>
                <a:cubicBezTo>
                  <a:pt x="4939" y="16278"/>
                  <a:pt x="4901" y="16211"/>
                  <a:pt x="4868" y="16146"/>
                </a:cubicBezTo>
                <a:cubicBezTo>
                  <a:pt x="4876" y="16164"/>
                  <a:pt x="4888" y="16180"/>
                  <a:pt x="4895" y="16199"/>
                </a:cubicBezTo>
                <a:cubicBezTo>
                  <a:pt x="4903" y="16223"/>
                  <a:pt x="4911" y="16246"/>
                  <a:pt x="4917" y="16270"/>
                </a:cubicBezTo>
                <a:cubicBezTo>
                  <a:pt x="4921" y="16286"/>
                  <a:pt x="4925" y="16305"/>
                  <a:pt x="4926" y="16322"/>
                </a:cubicBezTo>
                <a:cubicBezTo>
                  <a:pt x="4929" y="16354"/>
                  <a:pt x="4926" y="16358"/>
                  <a:pt x="4905" y="16384"/>
                </a:cubicBezTo>
                <a:cubicBezTo>
                  <a:pt x="4885" y="16409"/>
                  <a:pt x="4844" y="16447"/>
                  <a:pt x="4812" y="16455"/>
                </a:cubicBezTo>
                <a:cubicBezTo>
                  <a:pt x="4799" y="16461"/>
                  <a:pt x="4795" y="16463"/>
                  <a:pt x="4790" y="16449"/>
                </a:cubicBezTo>
              </a:path>
              <a:path w="6081" h="3217">
                <a:moveTo>
                  <a:pt x="5012" y="16832"/>
                </a:moveTo>
                <a:cubicBezTo>
                  <a:pt x="5012" y="16851"/>
                  <a:pt x="5007" y="16868"/>
                  <a:pt x="5010" y="16887"/>
                </a:cubicBezTo>
                <a:cubicBezTo>
                  <a:pt x="5011" y="16892"/>
                  <a:pt x="5012" y="16896"/>
                  <a:pt x="5013" y="16901"/>
                </a:cubicBezTo>
                <a:cubicBezTo>
                  <a:pt x="5023" y="16884"/>
                  <a:pt x="5028" y="16866"/>
                  <a:pt x="5035" y="16847"/>
                </a:cubicBezTo>
                <a:cubicBezTo>
                  <a:pt x="5042" y="16828"/>
                  <a:pt x="5045" y="16812"/>
                  <a:pt x="5061" y="16800"/>
                </a:cubicBezTo>
                <a:cubicBezTo>
                  <a:pt x="5066" y="16822"/>
                  <a:pt x="5066" y="16843"/>
                  <a:pt x="5062" y="16865"/>
                </a:cubicBezTo>
                <a:cubicBezTo>
                  <a:pt x="5058" y="16888"/>
                  <a:pt x="5051" y="16895"/>
                  <a:pt x="5036" y="16911"/>
                </a:cubicBezTo>
                <a:cubicBezTo>
                  <a:pt x="5017" y="16899"/>
                  <a:pt x="5009" y="16884"/>
                  <a:pt x="5000" y="16863"/>
                </a:cubicBezTo>
                <a:cubicBezTo>
                  <a:pt x="4995" y="16849"/>
                  <a:pt x="4994" y="16844"/>
                  <a:pt x="4991" y="16835"/>
                </a:cubicBezTo>
                <a:cubicBezTo>
                  <a:pt x="4990" y="16813"/>
                  <a:pt x="5000" y="16848"/>
                  <a:pt x="5016" y="16858"/>
                </a:cubicBezTo>
                <a:cubicBezTo>
                  <a:pt x="5029" y="16866"/>
                  <a:pt x="5038" y="16854"/>
                  <a:pt x="5047" y="16846"/>
                </a:cubicBezTo>
              </a:path>
              <a:path w="6081" h="3217">
                <a:moveTo>
                  <a:pt x="5231" y="16667"/>
                </a:moveTo>
                <a:cubicBezTo>
                  <a:pt x="5238" y="16679"/>
                  <a:pt x="5240" y="16682"/>
                  <a:pt x="5243" y="16691"/>
                </a:cubicBezTo>
                <a:cubicBezTo>
                  <a:pt x="5265" y="16684"/>
                  <a:pt x="5276" y="16682"/>
                  <a:pt x="5298" y="16687"/>
                </a:cubicBezTo>
                <a:cubicBezTo>
                  <a:pt x="5322" y="16692"/>
                  <a:pt x="5339" y="16702"/>
                  <a:pt x="5357" y="16718"/>
                </a:cubicBezTo>
                <a:cubicBezTo>
                  <a:pt x="5370" y="16730"/>
                  <a:pt x="5375" y="16737"/>
                  <a:pt x="5381" y="16752"/>
                </a:cubicBezTo>
                <a:cubicBezTo>
                  <a:pt x="5361" y="16745"/>
                  <a:pt x="5352" y="16739"/>
                  <a:pt x="5341" y="16720"/>
                </a:cubicBezTo>
                <a:cubicBezTo>
                  <a:pt x="5338" y="16715"/>
                  <a:pt x="5322" y="16679"/>
                  <a:pt x="5331" y="16674"/>
                </a:cubicBezTo>
                <a:cubicBezTo>
                  <a:pt x="5334" y="16675"/>
                  <a:pt x="5338" y="16677"/>
                  <a:pt x="5341" y="16678"/>
                </a:cubicBezTo>
                <a:cubicBezTo>
                  <a:pt x="5328" y="16689"/>
                  <a:pt x="5309" y="16695"/>
                  <a:pt x="5300" y="16710"/>
                </a:cubicBezTo>
                <a:cubicBezTo>
                  <a:pt x="5290" y="16727"/>
                  <a:pt x="5282" y="16744"/>
                  <a:pt x="5271" y="16760"/>
                </a:cubicBezTo>
                <a:cubicBezTo>
                  <a:pt x="5253" y="16749"/>
                  <a:pt x="5249" y="16736"/>
                  <a:pt x="5243" y="16715"/>
                </a:cubicBezTo>
              </a:path>
              <a:path w="6081" h="3217">
                <a:moveTo>
                  <a:pt x="4637" y="16687"/>
                </a:moveTo>
                <a:cubicBezTo>
                  <a:pt x="4629" y="16703"/>
                  <a:pt x="4618" y="16725"/>
                  <a:pt x="4613" y="16740"/>
                </a:cubicBezTo>
                <a:cubicBezTo>
                  <a:pt x="4610" y="16750"/>
                  <a:pt x="4608" y="16762"/>
                  <a:pt x="4607" y="16772"/>
                </a:cubicBezTo>
                <a:cubicBezTo>
                  <a:pt x="4607" y="16757"/>
                  <a:pt x="4609" y="16733"/>
                  <a:pt x="4631" y="16733"/>
                </a:cubicBezTo>
                <a:cubicBezTo>
                  <a:pt x="4646" y="16733"/>
                  <a:pt x="4657" y="16750"/>
                  <a:pt x="4666" y="16759"/>
                </a:cubicBezTo>
                <a:cubicBezTo>
                  <a:pt x="4687" y="16781"/>
                  <a:pt x="4684" y="16779"/>
                  <a:pt x="4708" y="16769"/>
                </a:cubicBezTo>
                <a:cubicBezTo>
                  <a:pt x="4722" y="16763"/>
                  <a:pt x="4738" y="16768"/>
                  <a:pt x="4753" y="16766"/>
                </a:cubicBezTo>
              </a:path>
              <a:path w="6081" h="3217">
                <a:moveTo>
                  <a:pt x="4717" y="14564"/>
                </a:moveTo>
                <a:cubicBezTo>
                  <a:pt x="4689" y="14574"/>
                  <a:pt x="4696" y="14544"/>
                  <a:pt x="4674" y="14579"/>
                </a:cubicBezTo>
                <a:cubicBezTo>
                  <a:pt x="4644" y="14627"/>
                  <a:pt x="4644" y="14699"/>
                  <a:pt x="4638" y="14753"/>
                </a:cubicBezTo>
                <a:cubicBezTo>
                  <a:pt x="4621" y="14920"/>
                  <a:pt x="4633" y="15093"/>
                  <a:pt x="4640" y="15261"/>
                </a:cubicBezTo>
                <a:cubicBezTo>
                  <a:pt x="4645" y="15394"/>
                  <a:pt x="4657" y="15526"/>
                  <a:pt x="4673" y="15658"/>
                </a:cubicBezTo>
                <a:cubicBezTo>
                  <a:pt x="4694" y="15828"/>
                  <a:pt x="4735" y="15988"/>
                  <a:pt x="4776" y="16153"/>
                </a:cubicBezTo>
                <a:cubicBezTo>
                  <a:pt x="4798" y="16240"/>
                  <a:pt x="4811" y="16331"/>
                  <a:pt x="4836" y="16417"/>
                </a:cubicBezTo>
                <a:cubicBezTo>
                  <a:pt x="4854" y="16480"/>
                  <a:pt x="4883" y="16544"/>
                  <a:pt x="4935" y="16586"/>
                </a:cubicBezTo>
                <a:cubicBezTo>
                  <a:pt x="4956" y="16603"/>
                  <a:pt x="4995" y="16633"/>
                  <a:pt x="5024" y="16623"/>
                </a:cubicBezTo>
                <a:cubicBezTo>
                  <a:pt x="5046" y="16616"/>
                  <a:pt x="5062" y="16586"/>
                  <a:pt x="5074" y="16568"/>
                </a:cubicBezTo>
                <a:cubicBezTo>
                  <a:pt x="5098" y="16533"/>
                  <a:pt x="5112" y="16489"/>
                  <a:pt x="5122" y="16448"/>
                </a:cubicBezTo>
                <a:cubicBezTo>
                  <a:pt x="5138" y="16384"/>
                  <a:pt x="5143" y="16319"/>
                  <a:pt x="5147" y="16253"/>
                </a:cubicBezTo>
                <a:cubicBezTo>
                  <a:pt x="5160" y="16051"/>
                  <a:pt x="5164" y="15849"/>
                  <a:pt x="5155" y="15646"/>
                </a:cubicBezTo>
                <a:cubicBezTo>
                  <a:pt x="5150" y="15534"/>
                  <a:pt x="5141" y="15425"/>
                  <a:pt x="5114" y="15316"/>
                </a:cubicBezTo>
                <a:cubicBezTo>
                  <a:pt x="5090" y="15216"/>
                  <a:pt x="5051" y="15118"/>
                  <a:pt x="5019" y="15020"/>
                </a:cubicBezTo>
                <a:cubicBezTo>
                  <a:pt x="4984" y="14914"/>
                  <a:pt x="4962" y="14810"/>
                  <a:pt x="4855" y="14755"/>
                </a:cubicBezTo>
                <a:cubicBezTo>
                  <a:pt x="4819" y="14736"/>
                  <a:pt x="4753" y="14737"/>
                  <a:pt x="4761" y="14715"/>
                </a:cubicBezTo>
                <a:cubicBezTo>
                  <a:pt x="4771" y="14712"/>
                  <a:pt x="4776" y="14711"/>
                  <a:pt x="4784" y="14712"/>
                </a:cubicBezTo>
              </a:path>
              <a:path w="6081" h="3217">
                <a:moveTo>
                  <a:pt x="5092" y="15393"/>
                </a:moveTo>
                <a:cubicBezTo>
                  <a:pt x="5075" y="15395"/>
                  <a:pt x="5071" y="15395"/>
                  <a:pt x="5061" y="15398"/>
                </a:cubicBezTo>
                <a:cubicBezTo>
                  <a:pt x="5092" y="15392"/>
                  <a:pt x="5119" y="15385"/>
                  <a:pt x="5148" y="15371"/>
                </a:cubicBezTo>
                <a:cubicBezTo>
                  <a:pt x="5226" y="15332"/>
                  <a:pt x="5305" y="15290"/>
                  <a:pt x="5380" y="15245"/>
                </a:cubicBezTo>
                <a:cubicBezTo>
                  <a:pt x="5477" y="15187"/>
                  <a:pt x="5573" y="15129"/>
                  <a:pt x="5674" y="15078"/>
                </a:cubicBezTo>
                <a:cubicBezTo>
                  <a:pt x="5736" y="15046"/>
                  <a:pt x="5799" y="15020"/>
                  <a:pt x="5868" y="15008"/>
                </a:cubicBezTo>
                <a:cubicBezTo>
                  <a:pt x="5909" y="15001"/>
                  <a:pt x="5889" y="15011"/>
                  <a:pt x="5906" y="15024"/>
                </a:cubicBezTo>
              </a:path>
              <a:path w="6081" h="3217">
                <a:moveTo>
                  <a:pt x="5076" y="15341"/>
                </a:moveTo>
                <a:cubicBezTo>
                  <a:pt x="5061" y="15351"/>
                  <a:pt x="5059" y="15353"/>
                  <a:pt x="5049" y="15356"/>
                </a:cubicBezTo>
                <a:cubicBezTo>
                  <a:pt x="5040" y="15334"/>
                  <a:pt x="5047" y="15310"/>
                  <a:pt x="5053" y="15286"/>
                </a:cubicBezTo>
                <a:cubicBezTo>
                  <a:pt x="5064" y="15239"/>
                  <a:pt x="5080" y="15187"/>
                  <a:pt x="5101" y="15143"/>
                </a:cubicBezTo>
                <a:cubicBezTo>
                  <a:pt x="5114" y="15122"/>
                  <a:pt x="5117" y="15116"/>
                  <a:pt x="5125" y="15103"/>
                </a:cubicBezTo>
                <a:cubicBezTo>
                  <a:pt x="5135" y="15149"/>
                  <a:pt x="5120" y="15193"/>
                  <a:pt x="5112" y="15240"/>
                </a:cubicBezTo>
                <a:cubicBezTo>
                  <a:pt x="5102" y="15302"/>
                  <a:pt x="5085" y="15372"/>
                  <a:pt x="5091" y="15435"/>
                </a:cubicBezTo>
                <a:cubicBezTo>
                  <a:pt x="5094" y="15469"/>
                  <a:pt x="5108" y="15508"/>
                  <a:pt x="5149" y="15503"/>
                </a:cubicBezTo>
                <a:cubicBezTo>
                  <a:pt x="5195" y="15498"/>
                  <a:pt x="5244" y="15460"/>
                  <a:pt x="5282" y="15438"/>
                </a:cubicBezTo>
                <a:cubicBezTo>
                  <a:pt x="5295" y="15431"/>
                  <a:pt x="5308" y="15423"/>
                  <a:pt x="5321" y="15416"/>
                </a:cubicBezTo>
              </a:path>
              <a:path w="6081" h="3217">
                <a:moveTo>
                  <a:pt x="6041" y="14908"/>
                </a:moveTo>
                <a:cubicBezTo>
                  <a:pt x="6058" y="14944"/>
                  <a:pt x="6069" y="14988"/>
                  <a:pt x="6078" y="15027"/>
                </a:cubicBezTo>
                <a:cubicBezTo>
                  <a:pt x="6086" y="15064"/>
                  <a:pt x="6093" y="15101"/>
                  <a:pt x="6100" y="15138"/>
                </a:cubicBezTo>
                <a:cubicBezTo>
                  <a:pt x="6118" y="15099"/>
                  <a:pt x="6120" y="15055"/>
                  <a:pt x="6129" y="15012"/>
                </a:cubicBezTo>
                <a:cubicBezTo>
                  <a:pt x="6146" y="14935"/>
                  <a:pt x="6168" y="14861"/>
                  <a:pt x="6212" y="14796"/>
                </a:cubicBezTo>
                <a:cubicBezTo>
                  <a:pt x="6234" y="14764"/>
                  <a:pt x="6252" y="14746"/>
                  <a:pt x="6292" y="14759"/>
                </a:cubicBezTo>
                <a:cubicBezTo>
                  <a:pt x="6299" y="14762"/>
                  <a:pt x="6307" y="14766"/>
                  <a:pt x="6314" y="14769"/>
                </a:cubicBezTo>
              </a:path>
              <a:path w="6081" h="3217">
                <a:moveTo>
                  <a:pt x="6492" y="14840"/>
                </a:moveTo>
                <a:cubicBezTo>
                  <a:pt x="6476" y="14822"/>
                  <a:pt x="6462" y="14816"/>
                  <a:pt x="6443" y="14841"/>
                </a:cubicBezTo>
                <a:cubicBezTo>
                  <a:pt x="6412" y="14881"/>
                  <a:pt x="6391" y="14933"/>
                  <a:pt x="6376" y="14981"/>
                </a:cubicBezTo>
                <a:cubicBezTo>
                  <a:pt x="6362" y="15025"/>
                  <a:pt x="6354" y="15065"/>
                  <a:pt x="6362" y="15109"/>
                </a:cubicBezTo>
                <a:cubicBezTo>
                  <a:pt x="6400" y="15109"/>
                  <a:pt x="6415" y="15078"/>
                  <a:pt x="6435" y="15048"/>
                </a:cubicBezTo>
                <a:cubicBezTo>
                  <a:pt x="6466" y="15002"/>
                  <a:pt x="6489" y="14951"/>
                  <a:pt x="6519" y="14904"/>
                </a:cubicBezTo>
                <a:cubicBezTo>
                  <a:pt x="6532" y="14886"/>
                  <a:pt x="6534" y="14881"/>
                  <a:pt x="6547" y="14876"/>
                </a:cubicBezTo>
                <a:cubicBezTo>
                  <a:pt x="6563" y="14910"/>
                  <a:pt x="6567" y="14957"/>
                  <a:pt x="6568" y="14995"/>
                </a:cubicBezTo>
                <a:cubicBezTo>
                  <a:pt x="6569" y="15041"/>
                  <a:pt x="6569" y="15087"/>
                  <a:pt x="6573" y="15133"/>
                </a:cubicBezTo>
              </a:path>
              <a:path w="6081" h="3217">
                <a:moveTo>
                  <a:pt x="6649" y="14965"/>
                </a:moveTo>
                <a:cubicBezTo>
                  <a:pt x="6654" y="14948"/>
                  <a:pt x="6653" y="14942"/>
                  <a:pt x="6666" y="14941"/>
                </a:cubicBezTo>
                <a:cubicBezTo>
                  <a:pt x="6678" y="14980"/>
                  <a:pt x="6679" y="15014"/>
                  <a:pt x="6677" y="15055"/>
                </a:cubicBezTo>
                <a:cubicBezTo>
                  <a:pt x="6676" y="15077"/>
                  <a:pt x="6673" y="15099"/>
                  <a:pt x="6671" y="15121"/>
                </a:cubicBezTo>
                <a:cubicBezTo>
                  <a:pt x="6690" y="15068"/>
                  <a:pt x="6700" y="15013"/>
                  <a:pt x="6719" y="14960"/>
                </a:cubicBezTo>
                <a:cubicBezTo>
                  <a:pt x="6730" y="14929"/>
                  <a:pt x="6752" y="14860"/>
                  <a:pt x="6790" y="14849"/>
                </a:cubicBezTo>
                <a:cubicBezTo>
                  <a:pt x="6825" y="14839"/>
                  <a:pt x="6855" y="14914"/>
                  <a:pt x="6864" y="14932"/>
                </a:cubicBezTo>
                <a:cubicBezTo>
                  <a:pt x="6886" y="14977"/>
                  <a:pt x="6904" y="15020"/>
                  <a:pt x="6932" y="15062"/>
                </a:cubicBezTo>
              </a:path>
              <a:path w="6081" h="3217">
                <a:moveTo>
                  <a:pt x="7141" y="14875"/>
                </a:moveTo>
                <a:cubicBezTo>
                  <a:pt x="7142" y="14860"/>
                  <a:pt x="7143" y="14856"/>
                  <a:pt x="7137" y="14848"/>
                </a:cubicBezTo>
                <a:cubicBezTo>
                  <a:pt x="7103" y="14875"/>
                  <a:pt x="7091" y="14902"/>
                  <a:pt x="7076" y="14943"/>
                </a:cubicBezTo>
                <a:cubicBezTo>
                  <a:pt x="7059" y="14990"/>
                  <a:pt x="7049" y="15033"/>
                  <a:pt x="7049" y="15082"/>
                </a:cubicBezTo>
                <a:cubicBezTo>
                  <a:pt x="7073" y="15068"/>
                  <a:pt x="7086" y="15056"/>
                  <a:pt x="7104" y="15029"/>
                </a:cubicBezTo>
                <a:cubicBezTo>
                  <a:pt x="7125" y="14998"/>
                  <a:pt x="7138" y="14971"/>
                  <a:pt x="7172" y="14956"/>
                </a:cubicBezTo>
                <a:cubicBezTo>
                  <a:pt x="7202" y="14996"/>
                  <a:pt x="7206" y="15050"/>
                  <a:pt x="7209" y="15100"/>
                </a:cubicBezTo>
                <a:cubicBezTo>
                  <a:pt x="7215" y="15197"/>
                  <a:pt x="7209" y="15299"/>
                  <a:pt x="7186" y="15393"/>
                </a:cubicBezTo>
                <a:cubicBezTo>
                  <a:pt x="7175" y="15439"/>
                  <a:pt x="7152" y="15525"/>
                  <a:pt x="7092" y="15530"/>
                </a:cubicBezTo>
                <a:cubicBezTo>
                  <a:pt x="7036" y="15535"/>
                  <a:pt x="7023" y="15432"/>
                  <a:pt x="7019" y="15397"/>
                </a:cubicBezTo>
                <a:cubicBezTo>
                  <a:pt x="7017" y="15333"/>
                  <a:pt x="7016" y="15311"/>
                  <a:pt x="7024" y="15269"/>
                </a:cubicBezTo>
              </a:path>
              <a:path w="6081" h="3217">
                <a:moveTo>
                  <a:pt x="7422" y="15006"/>
                </a:moveTo>
                <a:cubicBezTo>
                  <a:pt x="7453" y="14982"/>
                  <a:pt x="7486" y="14953"/>
                  <a:pt x="7506" y="14920"/>
                </a:cubicBezTo>
                <a:cubicBezTo>
                  <a:pt x="7523" y="14891"/>
                  <a:pt x="7550" y="14848"/>
                  <a:pt x="7559" y="14815"/>
                </a:cubicBezTo>
                <a:cubicBezTo>
                  <a:pt x="7559" y="14810"/>
                  <a:pt x="7559" y="14805"/>
                  <a:pt x="7559" y="14800"/>
                </a:cubicBezTo>
                <a:cubicBezTo>
                  <a:pt x="7516" y="14814"/>
                  <a:pt x="7489" y="14856"/>
                  <a:pt x="7466" y="14899"/>
                </a:cubicBezTo>
                <a:cubicBezTo>
                  <a:pt x="7433" y="14961"/>
                  <a:pt x="7407" y="15037"/>
                  <a:pt x="7413" y="15108"/>
                </a:cubicBezTo>
                <a:cubicBezTo>
                  <a:pt x="7419" y="15169"/>
                  <a:pt x="7449" y="15211"/>
                  <a:pt x="7502" y="15239"/>
                </a:cubicBezTo>
                <a:cubicBezTo>
                  <a:pt x="7539" y="15258"/>
                  <a:pt x="7590" y="15269"/>
                  <a:pt x="7630" y="15261"/>
                </a:cubicBezTo>
                <a:cubicBezTo>
                  <a:pt x="7659" y="15255"/>
                  <a:pt x="7668" y="15243"/>
                  <a:pt x="7685" y="15223"/>
                </a:cubicBezTo>
              </a:path>
              <a:path w="6081" h="3217">
                <a:moveTo>
                  <a:pt x="7968" y="15017"/>
                </a:moveTo>
                <a:cubicBezTo>
                  <a:pt x="7959" y="15032"/>
                  <a:pt x="7949" y="15044"/>
                  <a:pt x="7939" y="15059"/>
                </a:cubicBezTo>
                <a:cubicBezTo>
                  <a:pt x="7936" y="15062"/>
                  <a:pt x="7934" y="15066"/>
                  <a:pt x="7931" y="1506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1611360" y="5897520"/>
            <a:ext cx="428400" cy="279360"/>
          </a:xfrm>
          <a:custGeom>
            <a:avLst/>
            <a:gdLst/>
            <a:ahLst/>
            <a:rect l="l" t="t" r="r" b="b"/>
            <a:pathLst>
              <a:path w="1188" h="774">
                <a:moveTo>
                  <a:pt x="5175" y="16397"/>
                </a:moveTo>
                <a:cubicBezTo>
                  <a:pt x="5139" y="16385"/>
                  <a:pt x="5118" y="16386"/>
                  <a:pt x="5078" y="16394"/>
                </a:cubicBezTo>
                <a:cubicBezTo>
                  <a:pt x="5038" y="16402"/>
                  <a:pt x="5000" y="16414"/>
                  <a:pt x="4961" y="16427"/>
                </a:cubicBezTo>
                <a:cubicBezTo>
                  <a:pt x="4891" y="16451"/>
                  <a:pt x="4819" y="16466"/>
                  <a:pt x="4750" y="16491"/>
                </a:cubicBezTo>
                <a:cubicBezTo>
                  <a:pt x="4695" y="16511"/>
                  <a:pt x="4617" y="16526"/>
                  <a:pt x="4570" y="16561"/>
                </a:cubicBezTo>
                <a:cubicBezTo>
                  <a:pt x="4541" y="16583"/>
                  <a:pt x="4517" y="16621"/>
                  <a:pt x="4500" y="16653"/>
                </a:cubicBezTo>
                <a:cubicBezTo>
                  <a:pt x="4483" y="16684"/>
                  <a:pt x="4478" y="16719"/>
                  <a:pt x="4477" y="16754"/>
                </a:cubicBezTo>
                <a:cubicBezTo>
                  <a:pt x="4476" y="16808"/>
                  <a:pt x="4480" y="16861"/>
                  <a:pt x="4491" y="16914"/>
                </a:cubicBezTo>
                <a:cubicBezTo>
                  <a:pt x="4498" y="16947"/>
                  <a:pt x="4508" y="16976"/>
                  <a:pt x="4525" y="17006"/>
                </a:cubicBezTo>
                <a:cubicBezTo>
                  <a:pt x="4537" y="17028"/>
                  <a:pt x="4550" y="17043"/>
                  <a:pt x="4567" y="17061"/>
                </a:cubicBezTo>
                <a:cubicBezTo>
                  <a:pt x="4586" y="17081"/>
                  <a:pt x="4606" y="17099"/>
                  <a:pt x="4630" y="17112"/>
                </a:cubicBezTo>
                <a:cubicBezTo>
                  <a:pt x="4661" y="17129"/>
                  <a:pt x="4695" y="17137"/>
                  <a:pt x="4729" y="17143"/>
                </a:cubicBezTo>
                <a:cubicBezTo>
                  <a:pt x="4839" y="17163"/>
                  <a:pt x="4960" y="17156"/>
                  <a:pt x="5071" y="17155"/>
                </a:cubicBezTo>
                <a:cubicBezTo>
                  <a:pt x="5172" y="17154"/>
                  <a:pt x="5268" y="17146"/>
                  <a:pt x="5363" y="17110"/>
                </a:cubicBezTo>
                <a:cubicBezTo>
                  <a:pt x="5466" y="17072"/>
                  <a:pt x="5558" y="17000"/>
                  <a:pt x="5609" y="16901"/>
                </a:cubicBezTo>
                <a:cubicBezTo>
                  <a:pt x="5658" y="16805"/>
                  <a:pt x="5689" y="16662"/>
                  <a:pt x="5648" y="16558"/>
                </a:cubicBezTo>
                <a:cubicBezTo>
                  <a:pt x="5619" y="16484"/>
                  <a:pt x="5548" y="16453"/>
                  <a:pt x="5476" y="16436"/>
                </a:cubicBezTo>
                <a:cubicBezTo>
                  <a:pt x="5396" y="16417"/>
                  <a:pt x="5294" y="16405"/>
                  <a:pt x="5212" y="16415"/>
                </a:cubicBezTo>
                <a:cubicBezTo>
                  <a:pt x="5189" y="16418"/>
                  <a:pt x="5175" y="16427"/>
                  <a:pt x="5155" y="1643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2251080" y="5889600"/>
            <a:ext cx="992160" cy="262080"/>
          </a:xfrm>
          <a:custGeom>
            <a:avLst/>
            <a:gdLst/>
            <a:ahLst/>
            <a:rect l="l" t="t" r="r" b="b"/>
            <a:pathLst>
              <a:path w="2759" h="728">
                <a:moveTo>
                  <a:pt x="6260" y="16709"/>
                </a:moveTo>
                <a:cubicBezTo>
                  <a:pt x="6243" y="16699"/>
                  <a:pt x="6253" y="16746"/>
                  <a:pt x="6255" y="16772"/>
                </a:cubicBezTo>
                <a:cubicBezTo>
                  <a:pt x="6258" y="16814"/>
                  <a:pt x="6261" y="16856"/>
                  <a:pt x="6268" y="16898"/>
                </a:cubicBezTo>
                <a:cubicBezTo>
                  <a:pt x="6291" y="16860"/>
                  <a:pt x="6298" y="16818"/>
                  <a:pt x="6310" y="16775"/>
                </a:cubicBezTo>
                <a:cubicBezTo>
                  <a:pt x="6326" y="16717"/>
                  <a:pt x="6338" y="16657"/>
                  <a:pt x="6363" y="16602"/>
                </a:cubicBezTo>
                <a:cubicBezTo>
                  <a:pt x="6373" y="16586"/>
                  <a:pt x="6375" y="16580"/>
                  <a:pt x="6388" y="16579"/>
                </a:cubicBezTo>
                <a:cubicBezTo>
                  <a:pt x="6408" y="16617"/>
                  <a:pt x="6404" y="16661"/>
                  <a:pt x="6409" y="16704"/>
                </a:cubicBezTo>
                <a:cubicBezTo>
                  <a:pt x="6415" y="16758"/>
                  <a:pt x="6415" y="16828"/>
                  <a:pt x="6435" y="16879"/>
                </a:cubicBezTo>
                <a:cubicBezTo>
                  <a:pt x="6447" y="16910"/>
                  <a:pt x="6467" y="16888"/>
                  <a:pt x="6484" y="16878"/>
                </a:cubicBezTo>
              </a:path>
              <a:path w="2759" h="728">
                <a:moveTo>
                  <a:pt x="6612" y="16661"/>
                </a:moveTo>
                <a:cubicBezTo>
                  <a:pt x="6591" y="16694"/>
                  <a:pt x="6585" y="16723"/>
                  <a:pt x="6573" y="16759"/>
                </a:cubicBezTo>
                <a:cubicBezTo>
                  <a:pt x="6558" y="16802"/>
                  <a:pt x="6539" y="16859"/>
                  <a:pt x="6555" y="16905"/>
                </a:cubicBezTo>
                <a:cubicBezTo>
                  <a:pt x="6571" y="16951"/>
                  <a:pt x="6621" y="16917"/>
                  <a:pt x="6643" y="16899"/>
                </a:cubicBezTo>
                <a:cubicBezTo>
                  <a:pt x="6688" y="16862"/>
                  <a:pt x="6728" y="16810"/>
                  <a:pt x="6756" y="16759"/>
                </a:cubicBezTo>
                <a:cubicBezTo>
                  <a:pt x="6761" y="16749"/>
                  <a:pt x="6796" y="16683"/>
                  <a:pt x="6775" y="16672"/>
                </a:cubicBezTo>
                <a:cubicBezTo>
                  <a:pt x="6764" y="16666"/>
                  <a:pt x="6741" y="16685"/>
                  <a:pt x="6733" y="16690"/>
                </a:cubicBezTo>
              </a:path>
              <a:path w="2759" h="728">
                <a:moveTo>
                  <a:pt x="6867" y="16648"/>
                </a:moveTo>
                <a:cubicBezTo>
                  <a:pt x="6882" y="16638"/>
                  <a:pt x="6879" y="16623"/>
                  <a:pt x="6882" y="16602"/>
                </a:cubicBezTo>
                <a:cubicBezTo>
                  <a:pt x="6888" y="16567"/>
                  <a:pt x="6890" y="16531"/>
                  <a:pt x="6896" y="16496"/>
                </a:cubicBezTo>
                <a:cubicBezTo>
                  <a:pt x="6902" y="16461"/>
                  <a:pt x="6901" y="16426"/>
                  <a:pt x="6905" y="16391"/>
                </a:cubicBezTo>
                <a:cubicBezTo>
                  <a:pt x="6910" y="16376"/>
                  <a:pt x="6912" y="16370"/>
                  <a:pt x="6907" y="16358"/>
                </a:cubicBezTo>
                <a:cubicBezTo>
                  <a:pt x="6906" y="16415"/>
                  <a:pt x="6900" y="16473"/>
                  <a:pt x="6897" y="16530"/>
                </a:cubicBezTo>
                <a:cubicBezTo>
                  <a:pt x="6893" y="16623"/>
                  <a:pt x="6895" y="16716"/>
                  <a:pt x="6893" y="16809"/>
                </a:cubicBezTo>
                <a:cubicBezTo>
                  <a:pt x="6892" y="16842"/>
                  <a:pt x="6894" y="16873"/>
                  <a:pt x="6894" y="16905"/>
                </a:cubicBezTo>
                <a:cubicBezTo>
                  <a:pt x="6899" y="16875"/>
                  <a:pt x="6896" y="16852"/>
                  <a:pt x="6892" y="16821"/>
                </a:cubicBezTo>
              </a:path>
              <a:path w="2759" h="728">
                <a:moveTo>
                  <a:pt x="6788" y="16612"/>
                </a:moveTo>
                <a:cubicBezTo>
                  <a:pt x="6783" y="16609"/>
                  <a:pt x="6779" y="16607"/>
                  <a:pt x="6774" y="16604"/>
                </a:cubicBezTo>
                <a:cubicBezTo>
                  <a:pt x="6797" y="16590"/>
                  <a:pt x="6844" y="16581"/>
                  <a:pt x="6876" y="16576"/>
                </a:cubicBezTo>
                <a:cubicBezTo>
                  <a:pt x="6944" y="16566"/>
                  <a:pt x="7013" y="16553"/>
                  <a:pt x="7081" y="16547"/>
                </a:cubicBezTo>
                <a:cubicBezTo>
                  <a:pt x="7096" y="16546"/>
                  <a:pt x="7111" y="16546"/>
                  <a:pt x="7126" y="16545"/>
                </a:cubicBezTo>
              </a:path>
              <a:path w="2759" h="728">
                <a:moveTo>
                  <a:pt x="7374" y="16657"/>
                </a:moveTo>
                <a:cubicBezTo>
                  <a:pt x="7376" y="16688"/>
                  <a:pt x="7380" y="16718"/>
                  <a:pt x="7383" y="16749"/>
                </a:cubicBezTo>
                <a:cubicBezTo>
                  <a:pt x="7384" y="16765"/>
                  <a:pt x="7385" y="16781"/>
                  <a:pt x="7387" y="16797"/>
                </a:cubicBezTo>
                <a:cubicBezTo>
                  <a:pt x="7389" y="16758"/>
                  <a:pt x="7389" y="16717"/>
                  <a:pt x="7393" y="16678"/>
                </a:cubicBezTo>
                <a:cubicBezTo>
                  <a:pt x="7398" y="16629"/>
                  <a:pt x="7407" y="16589"/>
                  <a:pt x="7435" y="16550"/>
                </a:cubicBezTo>
                <a:cubicBezTo>
                  <a:pt x="7459" y="16516"/>
                  <a:pt x="7485" y="16517"/>
                  <a:pt x="7523" y="16517"/>
                </a:cubicBezTo>
              </a:path>
              <a:path w="2759" h="728">
                <a:moveTo>
                  <a:pt x="7721" y="16526"/>
                </a:moveTo>
                <a:cubicBezTo>
                  <a:pt x="7711" y="16561"/>
                  <a:pt x="7706" y="16596"/>
                  <a:pt x="7700" y="16632"/>
                </a:cubicBezTo>
                <a:cubicBezTo>
                  <a:pt x="7694" y="16665"/>
                  <a:pt x="7689" y="16698"/>
                  <a:pt x="7689" y="16732"/>
                </a:cubicBezTo>
                <a:cubicBezTo>
                  <a:pt x="7714" y="16729"/>
                  <a:pt x="7722" y="16705"/>
                  <a:pt x="7735" y="16682"/>
                </a:cubicBezTo>
                <a:cubicBezTo>
                  <a:pt x="7749" y="16658"/>
                  <a:pt x="7760" y="16634"/>
                  <a:pt x="7778" y="16612"/>
                </a:cubicBezTo>
                <a:cubicBezTo>
                  <a:pt x="7799" y="16638"/>
                  <a:pt x="7803" y="16664"/>
                  <a:pt x="7811" y="16698"/>
                </a:cubicBezTo>
                <a:cubicBezTo>
                  <a:pt x="7816" y="16719"/>
                  <a:pt x="7822" y="16737"/>
                  <a:pt x="7831" y="16757"/>
                </a:cubicBezTo>
              </a:path>
              <a:path w="2759" h="728">
                <a:moveTo>
                  <a:pt x="7898" y="16626"/>
                </a:moveTo>
                <a:cubicBezTo>
                  <a:pt x="7914" y="16644"/>
                  <a:pt x="7917" y="16667"/>
                  <a:pt x="7921" y="16692"/>
                </a:cubicBezTo>
                <a:cubicBezTo>
                  <a:pt x="7923" y="16710"/>
                  <a:pt x="7926" y="16726"/>
                  <a:pt x="7930" y="16743"/>
                </a:cubicBezTo>
                <a:cubicBezTo>
                  <a:pt x="7950" y="16715"/>
                  <a:pt x="7952" y="16688"/>
                  <a:pt x="7964" y="16655"/>
                </a:cubicBezTo>
                <a:cubicBezTo>
                  <a:pt x="7970" y="16637"/>
                  <a:pt x="7978" y="16600"/>
                  <a:pt x="8002" y="16597"/>
                </a:cubicBezTo>
                <a:cubicBezTo>
                  <a:pt x="8023" y="16594"/>
                  <a:pt x="8044" y="16623"/>
                  <a:pt x="8060" y="16633"/>
                </a:cubicBezTo>
                <a:cubicBezTo>
                  <a:pt x="8085" y="16649"/>
                  <a:pt x="8110" y="16657"/>
                  <a:pt x="8138" y="16666"/>
                </a:cubicBezTo>
              </a:path>
              <a:path w="2759" h="728">
                <a:moveTo>
                  <a:pt x="8295" y="16569"/>
                </a:moveTo>
                <a:cubicBezTo>
                  <a:pt x="8265" y="16544"/>
                  <a:pt x="8259" y="16553"/>
                  <a:pt x="8237" y="16579"/>
                </a:cubicBezTo>
                <a:cubicBezTo>
                  <a:pt x="8209" y="16612"/>
                  <a:pt x="8196" y="16649"/>
                  <a:pt x="8195" y="16693"/>
                </a:cubicBezTo>
                <a:cubicBezTo>
                  <a:pt x="8194" y="16723"/>
                  <a:pt x="8202" y="16757"/>
                  <a:pt x="8240" y="16745"/>
                </a:cubicBezTo>
                <a:cubicBezTo>
                  <a:pt x="8275" y="16734"/>
                  <a:pt x="8300" y="16705"/>
                  <a:pt x="8328" y="16683"/>
                </a:cubicBezTo>
                <a:cubicBezTo>
                  <a:pt x="8358" y="16660"/>
                  <a:pt x="8378" y="16665"/>
                  <a:pt x="8391" y="16703"/>
                </a:cubicBezTo>
                <a:cubicBezTo>
                  <a:pt x="8417" y="16779"/>
                  <a:pt x="8403" y="16875"/>
                  <a:pt x="8383" y="16950"/>
                </a:cubicBezTo>
                <a:cubicBezTo>
                  <a:pt x="8373" y="16988"/>
                  <a:pt x="8344" y="17075"/>
                  <a:pt x="8295" y="17085"/>
                </a:cubicBezTo>
                <a:cubicBezTo>
                  <a:pt x="8243" y="17095"/>
                  <a:pt x="8239" y="17016"/>
                  <a:pt x="8233" y="16987"/>
                </a:cubicBezTo>
              </a:path>
              <a:path w="2759" h="728">
                <a:moveTo>
                  <a:pt x="8583" y="16662"/>
                </a:moveTo>
                <a:cubicBezTo>
                  <a:pt x="8620" y="16650"/>
                  <a:pt x="8633" y="16643"/>
                  <a:pt x="8658" y="16617"/>
                </a:cubicBezTo>
                <a:cubicBezTo>
                  <a:pt x="8676" y="16598"/>
                  <a:pt x="8699" y="16575"/>
                  <a:pt x="8702" y="16547"/>
                </a:cubicBezTo>
                <a:cubicBezTo>
                  <a:pt x="8701" y="16543"/>
                  <a:pt x="8701" y="16540"/>
                  <a:pt x="8700" y="16536"/>
                </a:cubicBezTo>
                <a:cubicBezTo>
                  <a:pt x="8664" y="16535"/>
                  <a:pt x="8649" y="16549"/>
                  <a:pt x="8626" y="16579"/>
                </a:cubicBezTo>
                <a:cubicBezTo>
                  <a:pt x="8602" y="16610"/>
                  <a:pt x="8585" y="16654"/>
                  <a:pt x="8591" y="16694"/>
                </a:cubicBezTo>
                <a:cubicBezTo>
                  <a:pt x="8598" y="16735"/>
                  <a:pt x="8641" y="16752"/>
                  <a:pt x="8678" y="16754"/>
                </a:cubicBezTo>
                <a:cubicBezTo>
                  <a:pt x="8734" y="16757"/>
                  <a:pt x="8795" y="16727"/>
                  <a:pt x="8847" y="16709"/>
                </a:cubicBezTo>
              </a:path>
              <a:path w="2759" h="728">
                <a:moveTo>
                  <a:pt x="9010" y="16728"/>
                </a:moveTo>
                <a:cubicBezTo>
                  <a:pt x="9004" y="16737"/>
                  <a:pt x="9001" y="16741"/>
                  <a:pt x="8997" y="16747"/>
                </a:cubicBezTo>
                <a:cubicBezTo>
                  <a:pt x="8993" y="16729"/>
                  <a:pt x="8994" y="16714"/>
                  <a:pt x="8994" y="1669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751200" y="5575320"/>
            <a:ext cx="101520" cy="210960"/>
          </a:xfrm>
          <a:custGeom>
            <a:avLst/>
            <a:gdLst/>
            <a:ahLst/>
            <a:rect l="l" t="t" r="r" b="b"/>
            <a:pathLst>
              <a:path w="281" h="588">
                <a:moveTo>
                  <a:pt x="10471" y="15545"/>
                </a:moveTo>
                <a:cubicBezTo>
                  <a:pt x="10457" y="15519"/>
                  <a:pt x="10447" y="15497"/>
                  <a:pt x="10421" y="15486"/>
                </a:cubicBezTo>
                <a:cubicBezTo>
                  <a:pt x="10426" y="15531"/>
                  <a:pt x="10430" y="15576"/>
                  <a:pt x="10439" y="15621"/>
                </a:cubicBezTo>
                <a:cubicBezTo>
                  <a:pt x="10454" y="15695"/>
                  <a:pt x="10464" y="15769"/>
                  <a:pt x="10473" y="15844"/>
                </a:cubicBezTo>
                <a:cubicBezTo>
                  <a:pt x="10476" y="15872"/>
                  <a:pt x="10482" y="15894"/>
                  <a:pt x="10488" y="15920"/>
                </a:cubicBezTo>
                <a:cubicBezTo>
                  <a:pt x="10508" y="15879"/>
                  <a:pt x="10523" y="15836"/>
                  <a:pt x="10548" y="15798"/>
                </a:cubicBezTo>
                <a:cubicBezTo>
                  <a:pt x="10571" y="15762"/>
                  <a:pt x="10605" y="15735"/>
                  <a:pt x="10644" y="15770"/>
                </a:cubicBezTo>
                <a:cubicBezTo>
                  <a:pt x="10687" y="15810"/>
                  <a:pt x="10699" y="15885"/>
                  <a:pt x="10701" y="15940"/>
                </a:cubicBezTo>
                <a:cubicBezTo>
                  <a:pt x="10702" y="15987"/>
                  <a:pt x="10689" y="16057"/>
                  <a:pt x="10636" y="16073"/>
                </a:cubicBezTo>
                <a:cubicBezTo>
                  <a:pt x="10591" y="16087"/>
                  <a:pt x="10553" y="16051"/>
                  <a:pt x="10538" y="16013"/>
                </a:cubicBezTo>
                <a:cubicBezTo>
                  <a:pt x="10530" y="15976"/>
                  <a:pt x="10527" y="15963"/>
                  <a:pt x="10530" y="1593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032360" y="5592600"/>
            <a:ext cx="166680" cy="166680"/>
          </a:xfrm>
          <a:custGeom>
            <a:avLst/>
            <a:gdLst/>
            <a:ahLst/>
            <a:rect l="l" t="t" r="r" b="b"/>
            <a:pathLst>
              <a:path w="463" h="463">
                <a:moveTo>
                  <a:pt x="11223" y="15857"/>
                </a:moveTo>
                <a:cubicBezTo>
                  <a:pt x="11228" y="15893"/>
                  <a:pt x="11228" y="15927"/>
                  <a:pt x="11232" y="15963"/>
                </a:cubicBezTo>
                <a:cubicBezTo>
                  <a:pt x="11235" y="15982"/>
                  <a:pt x="11236" y="15987"/>
                  <a:pt x="11233" y="15999"/>
                </a:cubicBezTo>
              </a:path>
              <a:path w="463" h="463">
                <a:moveTo>
                  <a:pt x="11205" y="15690"/>
                </a:moveTo>
                <a:cubicBezTo>
                  <a:pt x="11203" y="15653"/>
                  <a:pt x="11193" y="15608"/>
                  <a:pt x="11207" y="15572"/>
                </a:cubicBezTo>
                <a:cubicBezTo>
                  <a:pt x="11222" y="15532"/>
                  <a:pt x="11260" y="15539"/>
                  <a:pt x="11294" y="15541"/>
                </a:cubicBezTo>
              </a:path>
              <a:path w="463" h="463">
                <a:moveTo>
                  <a:pt x="11501" y="15769"/>
                </a:moveTo>
                <a:cubicBezTo>
                  <a:pt x="11490" y="15785"/>
                  <a:pt x="11474" y="15798"/>
                  <a:pt x="11466" y="15813"/>
                </a:cubicBezTo>
                <a:cubicBezTo>
                  <a:pt x="11503" y="15820"/>
                  <a:pt x="11543" y="15826"/>
                  <a:pt x="11578" y="15842"/>
                </a:cubicBezTo>
                <a:cubicBezTo>
                  <a:pt x="11612" y="15857"/>
                  <a:pt x="11656" y="15883"/>
                  <a:pt x="11662" y="15924"/>
                </a:cubicBezTo>
                <a:cubicBezTo>
                  <a:pt x="11668" y="15967"/>
                  <a:pt x="11624" y="15980"/>
                  <a:pt x="11594" y="15990"/>
                </a:cubicBezTo>
                <a:cubicBezTo>
                  <a:pt x="11557" y="16003"/>
                  <a:pt x="11516" y="16000"/>
                  <a:pt x="11483" y="15975"/>
                </a:cubicBezTo>
                <a:cubicBezTo>
                  <a:pt x="11476" y="15967"/>
                  <a:pt x="11469" y="15960"/>
                  <a:pt x="11462" y="1595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336920" y="5549760"/>
            <a:ext cx="349560" cy="257400"/>
          </a:xfrm>
          <a:custGeom>
            <a:avLst/>
            <a:gdLst/>
            <a:ahLst/>
            <a:rect l="l" t="t" r="r" b="b"/>
            <a:pathLst>
              <a:path w="969" h="714">
                <a:moveTo>
                  <a:pt x="12201" y="15415"/>
                </a:moveTo>
                <a:cubicBezTo>
                  <a:pt x="12173" y="15475"/>
                  <a:pt x="12163" y="15551"/>
                  <a:pt x="12159" y="15618"/>
                </a:cubicBezTo>
                <a:cubicBezTo>
                  <a:pt x="12151" y="15744"/>
                  <a:pt x="12153" y="15870"/>
                  <a:pt x="12158" y="15996"/>
                </a:cubicBezTo>
                <a:cubicBezTo>
                  <a:pt x="12160" y="16043"/>
                  <a:pt x="12163" y="16082"/>
                  <a:pt x="12173" y="16128"/>
                </a:cubicBezTo>
              </a:path>
              <a:path w="969" h="714">
                <a:moveTo>
                  <a:pt x="12048" y="15668"/>
                </a:moveTo>
                <a:cubicBezTo>
                  <a:pt x="12083" y="15640"/>
                  <a:pt x="12113" y="15627"/>
                  <a:pt x="12153" y="15607"/>
                </a:cubicBezTo>
                <a:cubicBezTo>
                  <a:pt x="12216" y="15575"/>
                  <a:pt x="12276" y="15538"/>
                  <a:pt x="12336" y="15501"/>
                </a:cubicBezTo>
                <a:cubicBezTo>
                  <a:pt x="12360" y="15486"/>
                  <a:pt x="12384" y="15474"/>
                  <a:pt x="12408" y="15462"/>
                </a:cubicBezTo>
                <a:cubicBezTo>
                  <a:pt x="12409" y="15497"/>
                  <a:pt x="12401" y="15533"/>
                  <a:pt x="12396" y="15571"/>
                </a:cubicBezTo>
                <a:cubicBezTo>
                  <a:pt x="12385" y="15653"/>
                  <a:pt x="12376" y="15739"/>
                  <a:pt x="12378" y="15821"/>
                </a:cubicBezTo>
                <a:cubicBezTo>
                  <a:pt x="12379" y="15871"/>
                  <a:pt x="12386" y="15920"/>
                  <a:pt x="12392" y="15969"/>
                </a:cubicBezTo>
                <a:cubicBezTo>
                  <a:pt x="12405" y="15933"/>
                  <a:pt x="12414" y="15894"/>
                  <a:pt x="12426" y="15857"/>
                </a:cubicBezTo>
                <a:cubicBezTo>
                  <a:pt x="12441" y="15812"/>
                  <a:pt x="12450" y="15811"/>
                  <a:pt x="12485" y="15796"/>
                </a:cubicBezTo>
                <a:cubicBezTo>
                  <a:pt x="12517" y="15829"/>
                  <a:pt x="12533" y="15865"/>
                  <a:pt x="12556" y="15905"/>
                </a:cubicBezTo>
                <a:cubicBezTo>
                  <a:pt x="12579" y="15944"/>
                  <a:pt x="12594" y="15972"/>
                  <a:pt x="12636" y="15981"/>
                </a:cubicBezTo>
                <a:cubicBezTo>
                  <a:pt x="12675" y="15989"/>
                  <a:pt x="12707" y="15929"/>
                  <a:pt x="12724" y="15902"/>
                </a:cubicBezTo>
                <a:cubicBezTo>
                  <a:pt x="12745" y="15869"/>
                  <a:pt x="12764" y="15836"/>
                  <a:pt x="12786" y="15805"/>
                </a:cubicBezTo>
                <a:cubicBezTo>
                  <a:pt x="12797" y="15790"/>
                  <a:pt x="12813" y="15775"/>
                  <a:pt x="12822" y="15761"/>
                </a:cubicBezTo>
                <a:cubicBezTo>
                  <a:pt x="12832" y="15745"/>
                  <a:pt x="12832" y="15730"/>
                  <a:pt x="12835" y="15711"/>
                </a:cubicBezTo>
                <a:cubicBezTo>
                  <a:pt x="12807" y="15713"/>
                  <a:pt x="12801" y="15697"/>
                  <a:pt x="12772" y="15736"/>
                </a:cubicBezTo>
                <a:cubicBezTo>
                  <a:pt x="12746" y="15771"/>
                  <a:pt x="12738" y="15824"/>
                  <a:pt x="12750" y="15865"/>
                </a:cubicBezTo>
                <a:cubicBezTo>
                  <a:pt x="12763" y="15910"/>
                  <a:pt x="12816" y="15921"/>
                  <a:pt x="12858" y="15916"/>
                </a:cubicBezTo>
                <a:cubicBezTo>
                  <a:pt x="12916" y="15910"/>
                  <a:pt x="12969" y="15874"/>
                  <a:pt x="13016" y="1584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844880" y="5562720"/>
            <a:ext cx="540000" cy="315720"/>
          </a:xfrm>
          <a:custGeom>
            <a:avLst/>
            <a:gdLst/>
            <a:ahLst/>
            <a:rect l="l" t="t" r="r" b="b"/>
            <a:pathLst>
              <a:path w="1496" h="875">
                <a:moveTo>
                  <a:pt x="13466" y="15746"/>
                </a:moveTo>
                <a:cubicBezTo>
                  <a:pt x="13462" y="15779"/>
                  <a:pt x="13463" y="15802"/>
                  <a:pt x="13467" y="15835"/>
                </a:cubicBezTo>
                <a:cubicBezTo>
                  <a:pt x="13471" y="15872"/>
                  <a:pt x="13476" y="15918"/>
                  <a:pt x="13492" y="15953"/>
                </a:cubicBezTo>
                <a:cubicBezTo>
                  <a:pt x="13505" y="15981"/>
                  <a:pt x="13512" y="15963"/>
                  <a:pt x="13520" y="15949"/>
                </a:cubicBezTo>
              </a:path>
              <a:path w="1496" h="875">
                <a:moveTo>
                  <a:pt x="13484" y="15523"/>
                </a:moveTo>
                <a:cubicBezTo>
                  <a:pt x="13485" y="15493"/>
                  <a:pt x="13481" y="15481"/>
                  <a:pt x="13503" y="15463"/>
                </a:cubicBezTo>
                <a:cubicBezTo>
                  <a:pt x="13520" y="15449"/>
                  <a:pt x="13531" y="15454"/>
                  <a:pt x="13553" y="15456"/>
                </a:cubicBezTo>
              </a:path>
              <a:path w="1496" h="875">
                <a:moveTo>
                  <a:pt x="13683" y="15845"/>
                </a:moveTo>
                <a:cubicBezTo>
                  <a:pt x="13682" y="15871"/>
                  <a:pt x="13680" y="15896"/>
                  <a:pt x="13680" y="15922"/>
                </a:cubicBezTo>
                <a:cubicBezTo>
                  <a:pt x="13688" y="15892"/>
                  <a:pt x="13696" y="15861"/>
                  <a:pt x="13706" y="15831"/>
                </a:cubicBezTo>
                <a:cubicBezTo>
                  <a:pt x="13721" y="15783"/>
                  <a:pt x="13736" y="15734"/>
                  <a:pt x="13757" y="15689"/>
                </a:cubicBezTo>
                <a:cubicBezTo>
                  <a:pt x="13767" y="15672"/>
                  <a:pt x="13768" y="15667"/>
                  <a:pt x="13779" y="15660"/>
                </a:cubicBezTo>
                <a:cubicBezTo>
                  <a:pt x="13802" y="15687"/>
                  <a:pt x="13806" y="15721"/>
                  <a:pt x="13811" y="15756"/>
                </a:cubicBezTo>
                <a:cubicBezTo>
                  <a:pt x="13818" y="15802"/>
                  <a:pt x="13821" y="15848"/>
                  <a:pt x="13824" y="15894"/>
                </a:cubicBezTo>
                <a:cubicBezTo>
                  <a:pt x="13824" y="15897"/>
                  <a:pt x="13825" y="15901"/>
                  <a:pt x="13825" y="15904"/>
                </a:cubicBezTo>
                <a:cubicBezTo>
                  <a:pt x="13837" y="15869"/>
                  <a:pt x="13843" y="15833"/>
                  <a:pt x="13855" y="15798"/>
                </a:cubicBezTo>
                <a:cubicBezTo>
                  <a:pt x="13867" y="15764"/>
                  <a:pt x="13882" y="15711"/>
                  <a:pt x="13919" y="15695"/>
                </a:cubicBezTo>
                <a:cubicBezTo>
                  <a:pt x="13954" y="15679"/>
                  <a:pt x="13970" y="15739"/>
                  <a:pt x="13978" y="15759"/>
                </a:cubicBezTo>
                <a:cubicBezTo>
                  <a:pt x="13996" y="15805"/>
                  <a:pt x="14001" y="15857"/>
                  <a:pt x="14027" y="15900"/>
                </a:cubicBezTo>
                <a:cubicBezTo>
                  <a:pt x="14032" y="15906"/>
                  <a:pt x="14037" y="15913"/>
                  <a:pt x="14042" y="15919"/>
                </a:cubicBezTo>
              </a:path>
              <a:path w="1496" h="875">
                <a:moveTo>
                  <a:pt x="14285" y="15685"/>
                </a:moveTo>
                <a:cubicBezTo>
                  <a:pt x="14272" y="15662"/>
                  <a:pt x="14253" y="15646"/>
                  <a:pt x="14226" y="15673"/>
                </a:cubicBezTo>
                <a:cubicBezTo>
                  <a:pt x="14189" y="15711"/>
                  <a:pt x="14164" y="15779"/>
                  <a:pt x="14150" y="15828"/>
                </a:cubicBezTo>
                <a:cubicBezTo>
                  <a:pt x="14140" y="15863"/>
                  <a:pt x="14140" y="15887"/>
                  <a:pt x="14145" y="15922"/>
                </a:cubicBezTo>
                <a:cubicBezTo>
                  <a:pt x="14182" y="15930"/>
                  <a:pt x="14202" y="15909"/>
                  <a:pt x="14229" y="15883"/>
                </a:cubicBezTo>
                <a:cubicBezTo>
                  <a:pt x="14259" y="15854"/>
                  <a:pt x="14280" y="15814"/>
                  <a:pt x="14311" y="15787"/>
                </a:cubicBezTo>
                <a:cubicBezTo>
                  <a:pt x="14322" y="15781"/>
                  <a:pt x="14325" y="15778"/>
                  <a:pt x="14333" y="15782"/>
                </a:cubicBezTo>
                <a:cubicBezTo>
                  <a:pt x="14345" y="15813"/>
                  <a:pt x="14348" y="15843"/>
                  <a:pt x="14356" y="15875"/>
                </a:cubicBezTo>
                <a:cubicBezTo>
                  <a:pt x="14363" y="15904"/>
                  <a:pt x="14373" y="15932"/>
                  <a:pt x="14392" y="15954"/>
                </a:cubicBezTo>
              </a:path>
              <a:path w="1496" h="875">
                <a:moveTo>
                  <a:pt x="14500" y="15754"/>
                </a:moveTo>
                <a:cubicBezTo>
                  <a:pt x="14500" y="15750"/>
                  <a:pt x="14499" y="15747"/>
                  <a:pt x="14499" y="15743"/>
                </a:cubicBezTo>
                <a:cubicBezTo>
                  <a:pt x="14469" y="15735"/>
                  <a:pt x="14466" y="15762"/>
                  <a:pt x="14457" y="15796"/>
                </a:cubicBezTo>
                <a:cubicBezTo>
                  <a:pt x="14446" y="15836"/>
                  <a:pt x="14441" y="15887"/>
                  <a:pt x="14455" y="15927"/>
                </a:cubicBezTo>
                <a:cubicBezTo>
                  <a:pt x="14465" y="15944"/>
                  <a:pt x="14467" y="15949"/>
                  <a:pt x="14480" y="15953"/>
                </a:cubicBezTo>
                <a:cubicBezTo>
                  <a:pt x="14513" y="15936"/>
                  <a:pt x="14536" y="15911"/>
                  <a:pt x="14559" y="15881"/>
                </a:cubicBezTo>
                <a:cubicBezTo>
                  <a:pt x="14581" y="15853"/>
                  <a:pt x="14596" y="15827"/>
                  <a:pt x="14627" y="15809"/>
                </a:cubicBezTo>
                <a:cubicBezTo>
                  <a:pt x="14656" y="15850"/>
                  <a:pt x="14655" y="15893"/>
                  <a:pt x="14654" y="15943"/>
                </a:cubicBezTo>
                <a:cubicBezTo>
                  <a:pt x="14652" y="16034"/>
                  <a:pt x="14634" y="16128"/>
                  <a:pt x="14603" y="16214"/>
                </a:cubicBezTo>
                <a:cubicBezTo>
                  <a:pt x="14582" y="16273"/>
                  <a:pt x="14561" y="16315"/>
                  <a:pt x="14502" y="16326"/>
                </a:cubicBezTo>
                <a:cubicBezTo>
                  <a:pt x="14462" y="16279"/>
                  <a:pt x="14462" y="16237"/>
                  <a:pt x="14456" y="16176"/>
                </a:cubicBezTo>
              </a:path>
              <a:path w="1496" h="875">
                <a:moveTo>
                  <a:pt x="14849" y="15844"/>
                </a:moveTo>
                <a:cubicBezTo>
                  <a:pt x="14880" y="15819"/>
                  <a:pt x="14883" y="15810"/>
                  <a:pt x="14896" y="15776"/>
                </a:cubicBezTo>
                <a:cubicBezTo>
                  <a:pt x="14903" y="15765"/>
                  <a:pt x="14905" y="15761"/>
                  <a:pt x="14900" y="15752"/>
                </a:cubicBezTo>
                <a:cubicBezTo>
                  <a:pt x="14865" y="15764"/>
                  <a:pt x="14847" y="15789"/>
                  <a:pt x="14829" y="15823"/>
                </a:cubicBezTo>
                <a:cubicBezTo>
                  <a:pt x="14811" y="15857"/>
                  <a:pt x="14791" y="15909"/>
                  <a:pt x="14804" y="15948"/>
                </a:cubicBezTo>
                <a:cubicBezTo>
                  <a:pt x="14817" y="15986"/>
                  <a:pt x="14868" y="15977"/>
                  <a:pt x="14897" y="15970"/>
                </a:cubicBezTo>
                <a:cubicBezTo>
                  <a:pt x="14926" y="15961"/>
                  <a:pt x="14936" y="15957"/>
                  <a:pt x="14955" y="1595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5564160" y="5516640"/>
            <a:ext cx="542880" cy="285840"/>
          </a:xfrm>
          <a:custGeom>
            <a:avLst/>
            <a:gdLst/>
            <a:ahLst/>
            <a:rect l="l" t="t" r="r" b="b"/>
            <a:pathLst>
              <a:path w="1508" h="794">
                <a:moveTo>
                  <a:pt x="15590" y="15849"/>
                </a:moveTo>
                <a:cubicBezTo>
                  <a:pt x="15587" y="15826"/>
                  <a:pt x="15584" y="15784"/>
                  <a:pt x="15549" y="15782"/>
                </a:cubicBezTo>
                <a:cubicBezTo>
                  <a:pt x="15519" y="15780"/>
                  <a:pt x="15489" y="15827"/>
                  <a:pt x="15477" y="15849"/>
                </a:cubicBezTo>
                <a:cubicBezTo>
                  <a:pt x="15458" y="15882"/>
                  <a:pt x="15443" y="15928"/>
                  <a:pt x="15468" y="15963"/>
                </a:cubicBezTo>
                <a:cubicBezTo>
                  <a:pt x="15493" y="15998"/>
                  <a:pt x="15538" y="15972"/>
                  <a:pt x="15565" y="15954"/>
                </a:cubicBezTo>
                <a:cubicBezTo>
                  <a:pt x="15612" y="15922"/>
                  <a:pt x="15631" y="15885"/>
                  <a:pt x="15667" y="15845"/>
                </a:cubicBezTo>
                <a:cubicBezTo>
                  <a:pt x="15682" y="15828"/>
                  <a:pt x="15696" y="15819"/>
                  <a:pt x="15715" y="15811"/>
                </a:cubicBezTo>
              </a:path>
              <a:path w="1508" h="794">
                <a:moveTo>
                  <a:pt x="15888" y="16007"/>
                </a:moveTo>
                <a:cubicBezTo>
                  <a:pt x="15901" y="15973"/>
                  <a:pt x="15898" y="15938"/>
                  <a:pt x="15892" y="15901"/>
                </a:cubicBezTo>
                <a:cubicBezTo>
                  <a:pt x="15881" y="15833"/>
                  <a:pt x="15870" y="15765"/>
                  <a:pt x="15861" y="15697"/>
                </a:cubicBezTo>
                <a:cubicBezTo>
                  <a:pt x="15848" y="15600"/>
                  <a:pt x="15825" y="15482"/>
                  <a:pt x="15849" y="15385"/>
                </a:cubicBezTo>
                <a:cubicBezTo>
                  <a:pt x="15864" y="15326"/>
                  <a:pt x="15920" y="15320"/>
                  <a:pt x="15971" y="15330"/>
                </a:cubicBezTo>
                <a:cubicBezTo>
                  <a:pt x="16020" y="15340"/>
                  <a:pt x="16078" y="15365"/>
                  <a:pt x="16114" y="15401"/>
                </a:cubicBezTo>
                <a:cubicBezTo>
                  <a:pt x="16141" y="15428"/>
                  <a:pt x="16137" y="15447"/>
                  <a:pt x="16133" y="15480"/>
                </a:cubicBezTo>
              </a:path>
              <a:path w="1508" h="794">
                <a:moveTo>
                  <a:pt x="15770" y="15732"/>
                </a:moveTo>
                <a:cubicBezTo>
                  <a:pt x="15785" y="15743"/>
                  <a:pt x="15849" y="15729"/>
                  <a:pt x="15882" y="15726"/>
                </a:cubicBezTo>
                <a:cubicBezTo>
                  <a:pt x="15950" y="15721"/>
                  <a:pt x="16020" y="15716"/>
                  <a:pt x="16088" y="15723"/>
                </a:cubicBezTo>
                <a:cubicBezTo>
                  <a:pt x="16105" y="15726"/>
                  <a:pt x="16122" y="15728"/>
                  <a:pt x="16139" y="15731"/>
                </a:cubicBezTo>
              </a:path>
              <a:path w="1508" h="794">
                <a:moveTo>
                  <a:pt x="16591" y="15810"/>
                </a:moveTo>
                <a:cubicBezTo>
                  <a:pt x="16576" y="15791"/>
                  <a:pt x="16559" y="15779"/>
                  <a:pt x="16533" y="15784"/>
                </a:cubicBezTo>
                <a:cubicBezTo>
                  <a:pt x="16505" y="15789"/>
                  <a:pt x="16475" y="15820"/>
                  <a:pt x="16460" y="15842"/>
                </a:cubicBezTo>
                <a:cubicBezTo>
                  <a:pt x="16437" y="15875"/>
                  <a:pt x="16409" y="15938"/>
                  <a:pt x="16441" y="15974"/>
                </a:cubicBezTo>
                <a:cubicBezTo>
                  <a:pt x="16466" y="16003"/>
                  <a:pt x="16513" y="15981"/>
                  <a:pt x="16540" y="15969"/>
                </a:cubicBezTo>
                <a:cubicBezTo>
                  <a:pt x="16575" y="15953"/>
                  <a:pt x="16604" y="15926"/>
                  <a:pt x="16642" y="15916"/>
                </a:cubicBezTo>
                <a:cubicBezTo>
                  <a:pt x="16672" y="15908"/>
                  <a:pt x="16679" y="15936"/>
                  <a:pt x="16687" y="15958"/>
                </a:cubicBezTo>
                <a:cubicBezTo>
                  <a:pt x="16699" y="15990"/>
                  <a:pt x="16701" y="16023"/>
                  <a:pt x="16708" y="16055"/>
                </a:cubicBezTo>
                <a:cubicBezTo>
                  <a:pt x="16713" y="16068"/>
                  <a:pt x="16715" y="16071"/>
                  <a:pt x="16720" y="16078"/>
                </a:cubicBezTo>
              </a:path>
              <a:path w="1508" h="794">
                <a:moveTo>
                  <a:pt x="16960" y="16118"/>
                </a:moveTo>
                <a:cubicBezTo>
                  <a:pt x="16961" y="16102"/>
                  <a:pt x="16956" y="16089"/>
                  <a:pt x="16956" y="16073"/>
                </a:cubicBezTo>
                <a:cubicBezTo>
                  <a:pt x="16956" y="16070"/>
                  <a:pt x="16956" y="16066"/>
                  <a:pt x="16956" y="1606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3994200" y="6100920"/>
            <a:ext cx="452520" cy="249120"/>
          </a:xfrm>
          <a:custGeom>
            <a:avLst/>
            <a:gdLst/>
            <a:ahLst/>
            <a:rect l="l" t="t" r="r" b="b"/>
            <a:pathLst>
              <a:path w="1257" h="691">
                <a:moveTo>
                  <a:pt x="11309" y="17594"/>
                </a:moveTo>
                <a:cubicBezTo>
                  <a:pt x="11307" y="17609"/>
                  <a:pt x="11306" y="17623"/>
                  <a:pt x="11304" y="17638"/>
                </a:cubicBezTo>
                <a:cubicBezTo>
                  <a:pt x="11278" y="17609"/>
                  <a:pt x="11278" y="17571"/>
                  <a:pt x="11271" y="17529"/>
                </a:cubicBezTo>
                <a:cubicBezTo>
                  <a:pt x="11257" y="17446"/>
                  <a:pt x="11247" y="17363"/>
                  <a:pt x="11238" y="17279"/>
                </a:cubicBezTo>
                <a:cubicBezTo>
                  <a:pt x="11230" y="17204"/>
                  <a:pt x="11218" y="17122"/>
                  <a:pt x="11233" y="17047"/>
                </a:cubicBezTo>
                <a:cubicBezTo>
                  <a:pt x="11242" y="17002"/>
                  <a:pt x="11264" y="16972"/>
                  <a:pt x="11312" y="16986"/>
                </a:cubicBezTo>
                <a:cubicBezTo>
                  <a:pt x="11362" y="17001"/>
                  <a:pt x="11400" y="17041"/>
                  <a:pt x="11423" y="17086"/>
                </a:cubicBezTo>
                <a:cubicBezTo>
                  <a:pt x="11443" y="17125"/>
                  <a:pt x="11441" y="17148"/>
                  <a:pt x="11436" y="17189"/>
                </a:cubicBezTo>
              </a:path>
              <a:path w="1257" h="691">
                <a:moveTo>
                  <a:pt x="11102" y="17367"/>
                </a:moveTo>
                <a:cubicBezTo>
                  <a:pt x="11100" y="17398"/>
                  <a:pt x="11153" y="17379"/>
                  <a:pt x="11182" y="17372"/>
                </a:cubicBezTo>
                <a:cubicBezTo>
                  <a:pt x="11255" y="17354"/>
                  <a:pt x="11334" y="17329"/>
                  <a:pt x="11409" y="17326"/>
                </a:cubicBezTo>
                <a:cubicBezTo>
                  <a:pt x="11462" y="17324"/>
                  <a:pt x="11519" y="17329"/>
                  <a:pt x="11571" y="17338"/>
                </a:cubicBezTo>
              </a:path>
              <a:path w="1257" h="691">
                <a:moveTo>
                  <a:pt x="11890" y="17012"/>
                </a:moveTo>
                <a:cubicBezTo>
                  <a:pt x="11882" y="16988"/>
                  <a:pt x="11877" y="16969"/>
                  <a:pt x="11864" y="16948"/>
                </a:cubicBezTo>
                <a:cubicBezTo>
                  <a:pt x="11828" y="16975"/>
                  <a:pt x="11817" y="17009"/>
                  <a:pt x="11800" y="17052"/>
                </a:cubicBezTo>
                <a:cubicBezTo>
                  <a:pt x="11772" y="17122"/>
                  <a:pt x="11747" y="17195"/>
                  <a:pt x="11738" y="17271"/>
                </a:cubicBezTo>
                <a:cubicBezTo>
                  <a:pt x="11731" y="17327"/>
                  <a:pt x="11728" y="17395"/>
                  <a:pt x="11774" y="17437"/>
                </a:cubicBezTo>
                <a:cubicBezTo>
                  <a:pt x="11803" y="17453"/>
                  <a:pt x="11813" y="17459"/>
                  <a:pt x="11837" y="17456"/>
                </a:cubicBezTo>
              </a:path>
              <a:path w="1257" h="691">
                <a:moveTo>
                  <a:pt x="12050" y="17227"/>
                </a:moveTo>
                <a:cubicBezTo>
                  <a:pt x="12003" y="17231"/>
                  <a:pt x="11991" y="17243"/>
                  <a:pt x="11964" y="17281"/>
                </a:cubicBezTo>
                <a:cubicBezTo>
                  <a:pt x="11931" y="17326"/>
                  <a:pt x="11916" y="17380"/>
                  <a:pt x="11923" y="17437"/>
                </a:cubicBezTo>
                <a:cubicBezTo>
                  <a:pt x="11927" y="17469"/>
                  <a:pt x="11945" y="17509"/>
                  <a:pt x="11984" y="17500"/>
                </a:cubicBezTo>
                <a:cubicBezTo>
                  <a:pt x="12017" y="17492"/>
                  <a:pt x="12042" y="17447"/>
                  <a:pt x="12056" y="17419"/>
                </a:cubicBezTo>
                <a:cubicBezTo>
                  <a:pt x="12066" y="17399"/>
                  <a:pt x="12075" y="17381"/>
                  <a:pt x="12087" y="17362"/>
                </a:cubicBezTo>
                <a:cubicBezTo>
                  <a:pt x="12112" y="17365"/>
                  <a:pt x="12119" y="17377"/>
                  <a:pt x="12133" y="17398"/>
                </a:cubicBezTo>
                <a:cubicBezTo>
                  <a:pt x="12145" y="17416"/>
                  <a:pt x="12165" y="17450"/>
                  <a:pt x="12191" y="17447"/>
                </a:cubicBezTo>
                <a:cubicBezTo>
                  <a:pt x="12196" y="17445"/>
                  <a:pt x="12201" y="17442"/>
                  <a:pt x="12206" y="17440"/>
                </a:cubicBezTo>
              </a:path>
              <a:path w="1257" h="691">
                <a:moveTo>
                  <a:pt x="12194" y="16985"/>
                </a:moveTo>
                <a:cubicBezTo>
                  <a:pt x="12200" y="16966"/>
                  <a:pt x="12200" y="16961"/>
                  <a:pt x="12211" y="16954"/>
                </a:cubicBezTo>
                <a:cubicBezTo>
                  <a:pt x="12252" y="16973"/>
                  <a:pt x="12279" y="17015"/>
                  <a:pt x="12297" y="17058"/>
                </a:cubicBezTo>
                <a:cubicBezTo>
                  <a:pt x="12332" y="17141"/>
                  <a:pt x="12347" y="17235"/>
                  <a:pt x="12351" y="17325"/>
                </a:cubicBezTo>
                <a:cubicBezTo>
                  <a:pt x="12354" y="17384"/>
                  <a:pt x="12353" y="17462"/>
                  <a:pt x="12330" y="17518"/>
                </a:cubicBezTo>
                <a:cubicBezTo>
                  <a:pt x="12327" y="17521"/>
                  <a:pt x="12325" y="17525"/>
                  <a:pt x="12322" y="1752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4559400" y="6103800"/>
            <a:ext cx="344520" cy="163800"/>
          </a:xfrm>
          <a:custGeom>
            <a:avLst/>
            <a:gdLst/>
            <a:ahLst/>
            <a:rect l="l" t="t" r="r" b="b"/>
            <a:pathLst>
              <a:path w="958" h="453">
                <a:moveTo>
                  <a:pt x="12664" y="17237"/>
                </a:moveTo>
                <a:cubicBezTo>
                  <a:pt x="12689" y="17235"/>
                  <a:pt x="12709" y="17227"/>
                  <a:pt x="12734" y="17224"/>
                </a:cubicBezTo>
                <a:cubicBezTo>
                  <a:pt x="12776" y="17219"/>
                  <a:pt x="12815" y="17216"/>
                  <a:pt x="12857" y="17222"/>
                </a:cubicBezTo>
                <a:cubicBezTo>
                  <a:pt x="12881" y="17227"/>
                  <a:pt x="12887" y="17228"/>
                  <a:pt x="12902" y="17233"/>
                </a:cubicBezTo>
              </a:path>
              <a:path w="958" h="453">
                <a:moveTo>
                  <a:pt x="12717" y="17368"/>
                </a:moveTo>
                <a:cubicBezTo>
                  <a:pt x="12749" y="17370"/>
                  <a:pt x="12778" y="17367"/>
                  <a:pt x="12810" y="17363"/>
                </a:cubicBezTo>
                <a:cubicBezTo>
                  <a:pt x="12864" y="17356"/>
                  <a:pt x="12917" y="17353"/>
                  <a:pt x="12970" y="17345"/>
                </a:cubicBezTo>
              </a:path>
              <a:path w="958" h="453">
                <a:moveTo>
                  <a:pt x="13281" y="16996"/>
                </a:moveTo>
                <a:cubicBezTo>
                  <a:pt x="13276" y="16975"/>
                  <a:pt x="13275" y="16970"/>
                  <a:pt x="13272" y="16957"/>
                </a:cubicBezTo>
                <a:cubicBezTo>
                  <a:pt x="13252" y="17001"/>
                  <a:pt x="13263" y="17051"/>
                  <a:pt x="13268" y="17101"/>
                </a:cubicBezTo>
                <a:cubicBezTo>
                  <a:pt x="13277" y="17180"/>
                  <a:pt x="13286" y="17282"/>
                  <a:pt x="13334" y="17349"/>
                </a:cubicBezTo>
                <a:cubicBezTo>
                  <a:pt x="13364" y="17390"/>
                  <a:pt x="13402" y="17355"/>
                  <a:pt x="13427" y="17329"/>
                </a:cubicBezTo>
                <a:cubicBezTo>
                  <a:pt x="13462" y="17292"/>
                  <a:pt x="13486" y="17243"/>
                  <a:pt x="13532" y="17218"/>
                </a:cubicBezTo>
                <a:cubicBezTo>
                  <a:pt x="13566" y="17199"/>
                  <a:pt x="13596" y="17211"/>
                  <a:pt x="13611" y="17244"/>
                </a:cubicBezTo>
                <a:cubicBezTo>
                  <a:pt x="13640" y="17306"/>
                  <a:pt x="13609" y="17373"/>
                  <a:pt x="13548" y="17397"/>
                </a:cubicBezTo>
                <a:cubicBezTo>
                  <a:pt x="13506" y="17413"/>
                  <a:pt x="13445" y="17415"/>
                  <a:pt x="13403" y="17398"/>
                </a:cubicBezTo>
                <a:cubicBezTo>
                  <a:pt x="13369" y="17384"/>
                  <a:pt x="13348" y="17360"/>
                  <a:pt x="13342" y="1732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021280" y="6240600"/>
            <a:ext cx="11160" cy="12600"/>
          </a:xfrm>
          <a:custGeom>
            <a:avLst/>
            <a:gdLst/>
            <a:ahLst/>
            <a:rect l="l" t="t" r="r" b="b"/>
            <a:pathLst>
              <a:path w="29" h="36">
                <a:moveTo>
                  <a:pt x="13976" y="17368"/>
                </a:moveTo>
                <a:cubicBezTo>
                  <a:pt x="13961" y="17354"/>
                  <a:pt x="13929" y="17335"/>
                  <a:pt x="13965" y="1733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8516880" y="1941480"/>
            <a:ext cx="155520" cy="12600"/>
          </a:xfrm>
          <a:custGeom>
            <a:avLst/>
            <a:gdLst/>
            <a:ahLst/>
            <a:rect l="l" t="t" r="r" b="b"/>
            <a:pathLst>
              <a:path w="432" h="35">
                <a:moveTo>
                  <a:pt x="23678" y="5426"/>
                </a:moveTo>
                <a:cubicBezTo>
                  <a:pt x="23668" y="5419"/>
                  <a:pt x="23665" y="5418"/>
                  <a:pt x="23658" y="5414"/>
                </a:cubicBezTo>
                <a:cubicBezTo>
                  <a:pt x="23675" y="5411"/>
                  <a:pt x="23692" y="5408"/>
                  <a:pt x="23709" y="5404"/>
                </a:cubicBezTo>
                <a:cubicBezTo>
                  <a:pt x="23737" y="5397"/>
                  <a:pt x="23766" y="5394"/>
                  <a:pt x="23795" y="5393"/>
                </a:cubicBezTo>
                <a:cubicBezTo>
                  <a:pt x="23896" y="5390"/>
                  <a:pt x="23991" y="5403"/>
                  <a:pt x="24089" y="542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8539200" y="1747800"/>
            <a:ext cx="168120" cy="111240"/>
          </a:xfrm>
          <a:custGeom>
            <a:avLst/>
            <a:gdLst/>
            <a:ahLst/>
            <a:rect l="l" t="t" r="r" b="b"/>
            <a:pathLst>
              <a:path w="467" h="311">
                <a:moveTo>
                  <a:pt x="23722" y="4872"/>
                </a:moveTo>
                <a:cubicBezTo>
                  <a:pt x="23734" y="4849"/>
                  <a:pt x="23719" y="4909"/>
                  <a:pt x="23720" y="4922"/>
                </a:cubicBezTo>
                <a:cubicBezTo>
                  <a:pt x="23723" y="4960"/>
                  <a:pt x="23730" y="4997"/>
                  <a:pt x="23738" y="5034"/>
                </a:cubicBezTo>
                <a:cubicBezTo>
                  <a:pt x="23745" y="5062"/>
                  <a:pt x="23754" y="5095"/>
                  <a:pt x="23779" y="5113"/>
                </a:cubicBezTo>
                <a:cubicBezTo>
                  <a:pt x="23800" y="5128"/>
                  <a:pt x="23824" y="5101"/>
                  <a:pt x="23835" y="5087"/>
                </a:cubicBezTo>
                <a:cubicBezTo>
                  <a:pt x="23873" y="5040"/>
                  <a:pt x="23890" y="4983"/>
                  <a:pt x="23897" y="4924"/>
                </a:cubicBezTo>
                <a:cubicBezTo>
                  <a:pt x="23900" y="4900"/>
                  <a:pt x="23885" y="4838"/>
                  <a:pt x="23904" y="4853"/>
                </a:cubicBezTo>
                <a:cubicBezTo>
                  <a:pt x="23907" y="4859"/>
                  <a:pt x="23910" y="4865"/>
                  <a:pt x="23913" y="4871"/>
                </a:cubicBezTo>
              </a:path>
              <a:path w="467" h="311">
                <a:moveTo>
                  <a:pt x="23944" y="5006"/>
                </a:moveTo>
                <a:cubicBezTo>
                  <a:pt x="24007" y="5015"/>
                  <a:pt x="24020" y="5006"/>
                  <a:pt x="24083" y="4981"/>
                </a:cubicBezTo>
                <a:cubicBezTo>
                  <a:pt x="24023" y="4976"/>
                  <a:pt x="23941" y="5006"/>
                  <a:pt x="24003" y="5090"/>
                </a:cubicBezTo>
                <a:cubicBezTo>
                  <a:pt x="24048" y="5151"/>
                  <a:pt x="24118" y="5158"/>
                  <a:pt x="24186" y="516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096920" y="3360600"/>
            <a:ext cx="493920" cy="381240"/>
          </a:xfrm>
          <a:custGeom>
            <a:avLst/>
            <a:gdLst/>
            <a:ahLst/>
            <a:rect l="l" t="t" r="r" b="b"/>
            <a:pathLst>
              <a:path w="1369" h="1056">
                <a:moveTo>
                  <a:pt x="3222" y="10080"/>
                </a:moveTo>
                <a:cubicBezTo>
                  <a:pt x="3202" y="10124"/>
                  <a:pt x="3223" y="10072"/>
                  <a:pt x="3225" y="10051"/>
                </a:cubicBezTo>
                <a:cubicBezTo>
                  <a:pt x="3232" y="9991"/>
                  <a:pt x="3236" y="9931"/>
                  <a:pt x="3234" y="9870"/>
                </a:cubicBezTo>
                <a:cubicBezTo>
                  <a:pt x="3230" y="9718"/>
                  <a:pt x="3206" y="9570"/>
                  <a:pt x="3178" y="9421"/>
                </a:cubicBezTo>
                <a:cubicBezTo>
                  <a:pt x="3173" y="9393"/>
                  <a:pt x="3172" y="9370"/>
                  <a:pt x="3170" y="9343"/>
                </a:cubicBezTo>
                <a:cubicBezTo>
                  <a:pt x="3200" y="9339"/>
                  <a:pt x="3224" y="9340"/>
                  <a:pt x="3256" y="9346"/>
                </a:cubicBezTo>
                <a:cubicBezTo>
                  <a:pt x="3334" y="9361"/>
                  <a:pt x="3419" y="9379"/>
                  <a:pt x="3488" y="9419"/>
                </a:cubicBezTo>
                <a:cubicBezTo>
                  <a:pt x="3534" y="9446"/>
                  <a:pt x="3535" y="9479"/>
                  <a:pt x="3501" y="9515"/>
                </a:cubicBezTo>
                <a:cubicBezTo>
                  <a:pt x="3490" y="9525"/>
                  <a:pt x="3478" y="9536"/>
                  <a:pt x="3467" y="9546"/>
                </a:cubicBezTo>
              </a:path>
              <a:path w="1369" h="1056">
                <a:moveTo>
                  <a:pt x="3079" y="9727"/>
                </a:moveTo>
                <a:cubicBezTo>
                  <a:pt x="3063" y="9736"/>
                  <a:pt x="3060" y="9739"/>
                  <a:pt x="3049" y="9739"/>
                </a:cubicBezTo>
                <a:cubicBezTo>
                  <a:pt x="3081" y="9744"/>
                  <a:pt x="3118" y="9738"/>
                  <a:pt x="3151" y="9735"/>
                </a:cubicBezTo>
                <a:cubicBezTo>
                  <a:pt x="3220" y="9728"/>
                  <a:pt x="3288" y="9726"/>
                  <a:pt x="3358" y="9725"/>
                </a:cubicBezTo>
                <a:cubicBezTo>
                  <a:pt x="3376" y="9725"/>
                  <a:pt x="3393" y="9725"/>
                  <a:pt x="3411" y="9725"/>
                </a:cubicBezTo>
              </a:path>
              <a:path w="1369" h="1056">
                <a:moveTo>
                  <a:pt x="3818" y="9662"/>
                </a:moveTo>
                <a:cubicBezTo>
                  <a:pt x="3791" y="9681"/>
                  <a:pt x="3753" y="9709"/>
                  <a:pt x="3734" y="9738"/>
                </a:cubicBezTo>
                <a:cubicBezTo>
                  <a:pt x="3715" y="9767"/>
                  <a:pt x="3690" y="9820"/>
                  <a:pt x="3710" y="9854"/>
                </a:cubicBezTo>
                <a:cubicBezTo>
                  <a:pt x="3731" y="9890"/>
                  <a:pt x="3783" y="9871"/>
                  <a:pt x="3811" y="9858"/>
                </a:cubicBezTo>
                <a:cubicBezTo>
                  <a:pt x="3857" y="9837"/>
                  <a:pt x="3896" y="9801"/>
                  <a:pt x="3919" y="9756"/>
                </a:cubicBezTo>
                <a:cubicBezTo>
                  <a:pt x="3935" y="9726"/>
                  <a:pt x="3943" y="9687"/>
                  <a:pt x="3925" y="9656"/>
                </a:cubicBezTo>
                <a:cubicBezTo>
                  <a:pt x="3913" y="9636"/>
                  <a:pt x="3895" y="9621"/>
                  <a:pt x="3872" y="9617"/>
                </a:cubicBezTo>
                <a:cubicBezTo>
                  <a:pt x="3869" y="9617"/>
                  <a:pt x="3865" y="9617"/>
                  <a:pt x="3862" y="9617"/>
                </a:cubicBezTo>
              </a:path>
              <a:path w="1369" h="1056">
                <a:moveTo>
                  <a:pt x="4304" y="9611"/>
                </a:moveTo>
                <a:cubicBezTo>
                  <a:pt x="4304" y="9598"/>
                  <a:pt x="4304" y="9593"/>
                  <a:pt x="4299" y="9585"/>
                </a:cubicBezTo>
                <a:cubicBezTo>
                  <a:pt x="4270" y="9597"/>
                  <a:pt x="4262" y="9602"/>
                  <a:pt x="4245" y="9639"/>
                </a:cubicBezTo>
                <a:cubicBezTo>
                  <a:pt x="4226" y="9680"/>
                  <a:pt x="4213" y="9727"/>
                  <a:pt x="4217" y="9772"/>
                </a:cubicBezTo>
                <a:cubicBezTo>
                  <a:pt x="4220" y="9803"/>
                  <a:pt x="4237" y="9826"/>
                  <a:pt x="4270" y="9817"/>
                </a:cubicBezTo>
                <a:cubicBezTo>
                  <a:pt x="4297" y="9810"/>
                  <a:pt x="4324" y="9783"/>
                  <a:pt x="4340" y="9761"/>
                </a:cubicBezTo>
                <a:cubicBezTo>
                  <a:pt x="4357" y="9738"/>
                  <a:pt x="4355" y="9744"/>
                  <a:pt x="4374" y="9732"/>
                </a:cubicBezTo>
                <a:cubicBezTo>
                  <a:pt x="4393" y="9783"/>
                  <a:pt x="4399" y="9834"/>
                  <a:pt x="4406" y="9888"/>
                </a:cubicBezTo>
                <a:cubicBezTo>
                  <a:pt x="4418" y="9987"/>
                  <a:pt x="4420" y="10082"/>
                  <a:pt x="4409" y="10181"/>
                </a:cubicBezTo>
                <a:cubicBezTo>
                  <a:pt x="4402" y="10248"/>
                  <a:pt x="4388" y="10328"/>
                  <a:pt x="4332" y="10373"/>
                </a:cubicBezTo>
                <a:cubicBezTo>
                  <a:pt x="4288" y="10408"/>
                  <a:pt x="4243" y="10387"/>
                  <a:pt x="4207" y="10353"/>
                </a:cubicBezTo>
                <a:cubicBezTo>
                  <a:pt x="4177" y="10324"/>
                  <a:pt x="4158" y="10286"/>
                  <a:pt x="4138" y="1025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401920" y="3251160"/>
            <a:ext cx="803160" cy="250920"/>
          </a:xfrm>
          <a:custGeom>
            <a:avLst/>
            <a:gdLst/>
            <a:ahLst/>
            <a:rect l="l" t="t" r="r" b="b"/>
            <a:pathLst>
              <a:path w="2234" h="701">
                <a:moveTo>
                  <a:pt x="6820" y="9140"/>
                </a:moveTo>
                <a:cubicBezTo>
                  <a:pt x="6796" y="9136"/>
                  <a:pt x="6781" y="9135"/>
                  <a:pt x="6759" y="9157"/>
                </a:cubicBezTo>
                <a:cubicBezTo>
                  <a:pt x="6726" y="9189"/>
                  <a:pt x="6697" y="9243"/>
                  <a:pt x="6683" y="9287"/>
                </a:cubicBezTo>
                <a:cubicBezTo>
                  <a:pt x="6671" y="9326"/>
                  <a:pt x="6656" y="9393"/>
                  <a:pt x="6688" y="9427"/>
                </a:cubicBezTo>
                <a:cubicBezTo>
                  <a:pt x="6722" y="9463"/>
                  <a:pt x="6783" y="9416"/>
                  <a:pt x="6810" y="9395"/>
                </a:cubicBezTo>
                <a:cubicBezTo>
                  <a:pt x="6859" y="9356"/>
                  <a:pt x="6895" y="9302"/>
                  <a:pt x="6929" y="9250"/>
                </a:cubicBezTo>
                <a:cubicBezTo>
                  <a:pt x="6941" y="9231"/>
                  <a:pt x="6954" y="9214"/>
                  <a:pt x="6966" y="9197"/>
                </a:cubicBezTo>
                <a:cubicBezTo>
                  <a:pt x="6975" y="9258"/>
                  <a:pt x="6966" y="9316"/>
                  <a:pt x="6960" y="9378"/>
                </a:cubicBezTo>
                <a:cubicBezTo>
                  <a:pt x="6952" y="9466"/>
                  <a:pt x="6944" y="9554"/>
                  <a:pt x="6921" y="9639"/>
                </a:cubicBezTo>
                <a:cubicBezTo>
                  <a:pt x="6909" y="9682"/>
                  <a:pt x="6899" y="9715"/>
                  <a:pt x="6856" y="9729"/>
                </a:cubicBezTo>
                <a:cubicBezTo>
                  <a:pt x="6823" y="9697"/>
                  <a:pt x="6826" y="9672"/>
                  <a:pt x="6826" y="9626"/>
                </a:cubicBezTo>
              </a:path>
              <a:path w="2234" h="701">
                <a:moveTo>
                  <a:pt x="7150" y="9496"/>
                </a:moveTo>
                <a:cubicBezTo>
                  <a:pt x="7141" y="9472"/>
                  <a:pt x="7133" y="9447"/>
                  <a:pt x="7137" y="9420"/>
                </a:cubicBezTo>
                <a:cubicBezTo>
                  <a:pt x="7145" y="9390"/>
                  <a:pt x="7149" y="9379"/>
                  <a:pt x="7154" y="9359"/>
                </a:cubicBezTo>
              </a:path>
              <a:path w="2234" h="701">
                <a:moveTo>
                  <a:pt x="7140" y="9201"/>
                </a:moveTo>
                <a:cubicBezTo>
                  <a:pt x="7130" y="9172"/>
                  <a:pt x="7133" y="9174"/>
                  <a:pt x="7149" y="9152"/>
                </a:cubicBezTo>
                <a:cubicBezTo>
                  <a:pt x="7164" y="9131"/>
                  <a:pt x="7175" y="9127"/>
                  <a:pt x="7198" y="9115"/>
                </a:cubicBezTo>
              </a:path>
              <a:path w="2234" h="701">
                <a:moveTo>
                  <a:pt x="7477" y="9416"/>
                </a:moveTo>
                <a:cubicBezTo>
                  <a:pt x="7450" y="9416"/>
                  <a:pt x="7457" y="9381"/>
                  <a:pt x="7461" y="9355"/>
                </a:cubicBezTo>
                <a:cubicBezTo>
                  <a:pt x="7471" y="9292"/>
                  <a:pt x="7496" y="9227"/>
                  <a:pt x="7528" y="9172"/>
                </a:cubicBezTo>
                <a:cubicBezTo>
                  <a:pt x="7539" y="9152"/>
                  <a:pt x="7568" y="9104"/>
                  <a:pt x="7598" y="9127"/>
                </a:cubicBezTo>
                <a:cubicBezTo>
                  <a:pt x="7632" y="9153"/>
                  <a:pt x="7644" y="9224"/>
                  <a:pt x="7655" y="9261"/>
                </a:cubicBezTo>
                <a:cubicBezTo>
                  <a:pt x="7670" y="9313"/>
                  <a:pt x="7689" y="9363"/>
                  <a:pt x="7693" y="9417"/>
                </a:cubicBezTo>
                <a:cubicBezTo>
                  <a:pt x="7693" y="9424"/>
                  <a:pt x="7693" y="9432"/>
                  <a:pt x="7693" y="9439"/>
                </a:cubicBezTo>
              </a:path>
              <a:path w="2234" h="701">
                <a:moveTo>
                  <a:pt x="7544" y="9288"/>
                </a:moveTo>
                <a:cubicBezTo>
                  <a:pt x="7552" y="9264"/>
                  <a:pt x="7574" y="9252"/>
                  <a:pt x="7599" y="9242"/>
                </a:cubicBezTo>
                <a:cubicBezTo>
                  <a:pt x="7669" y="9215"/>
                  <a:pt x="7752" y="9211"/>
                  <a:pt x="7826" y="9198"/>
                </a:cubicBezTo>
                <a:cubicBezTo>
                  <a:pt x="7839" y="9196"/>
                  <a:pt x="7853" y="9193"/>
                  <a:pt x="7866" y="9191"/>
                </a:cubicBezTo>
              </a:path>
              <a:path w="2234" h="701">
                <a:moveTo>
                  <a:pt x="7961" y="9286"/>
                </a:moveTo>
                <a:cubicBezTo>
                  <a:pt x="7967" y="9314"/>
                  <a:pt x="7958" y="9316"/>
                  <a:pt x="8000" y="9315"/>
                </a:cubicBezTo>
                <a:cubicBezTo>
                  <a:pt x="8050" y="9314"/>
                  <a:pt x="8097" y="9299"/>
                  <a:pt x="8145" y="9288"/>
                </a:cubicBezTo>
                <a:cubicBezTo>
                  <a:pt x="8196" y="9276"/>
                  <a:pt x="8243" y="9261"/>
                  <a:pt x="8293" y="9245"/>
                </a:cubicBezTo>
                <a:cubicBezTo>
                  <a:pt x="8320" y="9236"/>
                  <a:pt x="8331" y="9228"/>
                  <a:pt x="8349" y="9211"/>
                </a:cubicBezTo>
                <a:cubicBezTo>
                  <a:pt x="8326" y="9190"/>
                  <a:pt x="8307" y="9185"/>
                  <a:pt x="8275" y="9179"/>
                </a:cubicBezTo>
                <a:cubicBezTo>
                  <a:pt x="8236" y="9172"/>
                  <a:pt x="8197" y="9168"/>
                  <a:pt x="8158" y="9165"/>
                </a:cubicBezTo>
                <a:cubicBezTo>
                  <a:pt x="8206" y="9186"/>
                  <a:pt x="8251" y="9211"/>
                  <a:pt x="8287" y="9251"/>
                </a:cubicBezTo>
                <a:cubicBezTo>
                  <a:pt x="8315" y="9283"/>
                  <a:pt x="8339" y="9321"/>
                  <a:pt x="8357" y="9359"/>
                </a:cubicBezTo>
                <a:cubicBezTo>
                  <a:pt x="8368" y="9382"/>
                  <a:pt x="8374" y="9405"/>
                  <a:pt x="8380" y="9429"/>
                </a:cubicBezTo>
                <a:cubicBezTo>
                  <a:pt x="8386" y="9454"/>
                  <a:pt x="8367" y="9441"/>
                  <a:pt x="8353" y="9437"/>
                </a:cubicBezTo>
              </a:path>
              <a:path w="2234" h="701">
                <a:moveTo>
                  <a:pt x="8617" y="9149"/>
                </a:moveTo>
                <a:cubicBezTo>
                  <a:pt x="8621" y="9177"/>
                  <a:pt x="8616" y="9207"/>
                  <a:pt x="8619" y="9236"/>
                </a:cubicBezTo>
                <a:cubicBezTo>
                  <a:pt x="8623" y="9282"/>
                  <a:pt x="8629" y="9329"/>
                  <a:pt x="8637" y="9374"/>
                </a:cubicBezTo>
                <a:cubicBezTo>
                  <a:pt x="8641" y="9393"/>
                  <a:pt x="8642" y="9397"/>
                  <a:pt x="8644" y="9409"/>
                </a:cubicBezTo>
                <a:cubicBezTo>
                  <a:pt x="8653" y="9370"/>
                  <a:pt x="8653" y="9333"/>
                  <a:pt x="8656" y="9293"/>
                </a:cubicBezTo>
                <a:cubicBezTo>
                  <a:pt x="8660" y="9238"/>
                  <a:pt x="8665" y="9179"/>
                  <a:pt x="8682" y="9126"/>
                </a:cubicBezTo>
                <a:cubicBezTo>
                  <a:pt x="8693" y="9091"/>
                  <a:pt x="8711" y="9043"/>
                  <a:pt x="8749" y="9030"/>
                </a:cubicBezTo>
                <a:cubicBezTo>
                  <a:pt x="8779" y="9020"/>
                  <a:pt x="8800" y="9055"/>
                  <a:pt x="8804" y="9080"/>
                </a:cubicBezTo>
                <a:cubicBezTo>
                  <a:pt x="8810" y="9120"/>
                  <a:pt x="8792" y="9171"/>
                  <a:pt x="8772" y="9205"/>
                </a:cubicBezTo>
                <a:cubicBezTo>
                  <a:pt x="8763" y="9216"/>
                  <a:pt x="8761" y="9218"/>
                  <a:pt x="8760" y="9227"/>
                </a:cubicBezTo>
                <a:cubicBezTo>
                  <a:pt x="8794" y="9245"/>
                  <a:pt x="8827" y="9251"/>
                  <a:pt x="8858" y="9275"/>
                </a:cubicBezTo>
                <a:cubicBezTo>
                  <a:pt x="8886" y="9296"/>
                  <a:pt x="8909" y="9322"/>
                  <a:pt x="8903" y="9360"/>
                </a:cubicBezTo>
                <a:cubicBezTo>
                  <a:pt x="8897" y="9401"/>
                  <a:pt x="8857" y="9415"/>
                  <a:pt x="8824" y="9426"/>
                </a:cubicBezTo>
                <a:cubicBezTo>
                  <a:pt x="8780" y="9441"/>
                  <a:pt x="8735" y="9449"/>
                  <a:pt x="8689" y="945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7024680" y="3206880"/>
            <a:ext cx="1666800" cy="237960"/>
          </a:xfrm>
          <a:custGeom>
            <a:avLst/>
            <a:gdLst/>
            <a:ahLst/>
            <a:rect l="l" t="t" r="r" b="b"/>
            <a:pathLst>
              <a:path w="4630" h="659">
                <a:moveTo>
                  <a:pt x="19532" y="8909"/>
                </a:moveTo>
                <a:cubicBezTo>
                  <a:pt x="19518" y="8963"/>
                  <a:pt x="19514" y="9010"/>
                  <a:pt x="19515" y="9066"/>
                </a:cubicBezTo>
                <a:cubicBezTo>
                  <a:pt x="19516" y="9124"/>
                  <a:pt x="19521" y="9185"/>
                  <a:pt x="19538" y="9241"/>
                </a:cubicBezTo>
                <a:cubicBezTo>
                  <a:pt x="19541" y="9250"/>
                  <a:pt x="19545" y="9258"/>
                  <a:pt x="19548" y="9267"/>
                </a:cubicBezTo>
              </a:path>
              <a:path w="4630" h="659">
                <a:moveTo>
                  <a:pt x="23778" y="9242"/>
                </a:moveTo>
                <a:cubicBezTo>
                  <a:pt x="23844" y="9195"/>
                  <a:pt x="23932" y="9151"/>
                  <a:pt x="24013" y="9135"/>
                </a:cubicBezTo>
                <a:cubicBezTo>
                  <a:pt x="24032" y="9135"/>
                  <a:pt x="24052" y="9134"/>
                  <a:pt x="24071" y="9134"/>
                </a:cubicBezTo>
              </a:path>
              <a:path w="4630" h="659">
                <a:moveTo>
                  <a:pt x="24142" y="9567"/>
                </a:moveTo>
                <a:lnTo>
                  <a:pt x="24142" y="9567"/>
                </a:lnTo>
                <a:lnTo>
                  <a:pt x="24142" y="9567"/>
                </a:lnTo>
                <a:lnTo>
                  <a:pt x="24142" y="9567"/>
                </a:lnTo>
                <a:lnTo>
                  <a:pt x="24142" y="9567"/>
                </a:lnTo>
                <a:lnTo>
                  <a:pt x="24142" y="9567"/>
                </a:lnTo>
                <a:lnTo>
                  <a:pt x="24142" y="9567"/>
                </a:lnTo>
                <a:lnTo>
                  <a:pt x="24142" y="9567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351160" y="3546360"/>
            <a:ext cx="946080" cy="243000"/>
          </a:xfrm>
          <a:custGeom>
            <a:avLst/>
            <a:gdLst/>
            <a:ahLst/>
            <a:rect l="l" t="t" r="r" b="b"/>
            <a:pathLst>
              <a:path w="2630" h="672">
                <a:moveTo>
                  <a:pt x="6683" y="10518"/>
                </a:moveTo>
                <a:cubicBezTo>
                  <a:pt x="6680" y="10507"/>
                  <a:pt x="6679" y="10478"/>
                  <a:pt x="6693" y="10440"/>
                </a:cubicBezTo>
                <a:cubicBezTo>
                  <a:pt x="6717" y="10374"/>
                  <a:pt x="6733" y="10311"/>
                  <a:pt x="6744" y="10242"/>
                </a:cubicBezTo>
                <a:cubicBezTo>
                  <a:pt x="6756" y="10165"/>
                  <a:pt x="6754" y="10094"/>
                  <a:pt x="6742" y="10017"/>
                </a:cubicBezTo>
                <a:cubicBezTo>
                  <a:pt x="6735" y="9974"/>
                  <a:pt x="6715" y="9918"/>
                  <a:pt x="6728" y="9875"/>
                </a:cubicBezTo>
                <a:cubicBezTo>
                  <a:pt x="6739" y="9839"/>
                  <a:pt x="6792" y="9854"/>
                  <a:pt x="6817" y="9860"/>
                </a:cubicBezTo>
                <a:cubicBezTo>
                  <a:pt x="6856" y="9869"/>
                  <a:pt x="6905" y="9891"/>
                  <a:pt x="6927" y="9927"/>
                </a:cubicBezTo>
                <a:cubicBezTo>
                  <a:pt x="6935" y="9950"/>
                  <a:pt x="6938" y="9959"/>
                  <a:pt x="6929" y="9975"/>
                </a:cubicBezTo>
              </a:path>
              <a:path w="2630" h="672">
                <a:moveTo>
                  <a:pt x="6568" y="10221"/>
                </a:moveTo>
                <a:cubicBezTo>
                  <a:pt x="6548" y="10236"/>
                  <a:pt x="6544" y="10241"/>
                  <a:pt x="6529" y="10244"/>
                </a:cubicBezTo>
                <a:cubicBezTo>
                  <a:pt x="6580" y="10224"/>
                  <a:pt x="6629" y="10203"/>
                  <a:pt x="6683" y="10189"/>
                </a:cubicBezTo>
                <a:cubicBezTo>
                  <a:pt x="6758" y="10169"/>
                  <a:pt x="6832" y="10153"/>
                  <a:pt x="6908" y="10139"/>
                </a:cubicBezTo>
              </a:path>
              <a:path w="2630" h="672">
                <a:moveTo>
                  <a:pt x="7183" y="10393"/>
                </a:moveTo>
                <a:cubicBezTo>
                  <a:pt x="7185" y="10398"/>
                  <a:pt x="7186" y="10403"/>
                  <a:pt x="7188" y="10408"/>
                </a:cubicBezTo>
                <a:cubicBezTo>
                  <a:pt x="7198" y="10390"/>
                  <a:pt x="7197" y="10369"/>
                  <a:pt x="7203" y="10346"/>
                </a:cubicBezTo>
                <a:cubicBezTo>
                  <a:pt x="7214" y="10307"/>
                  <a:pt x="7218" y="10267"/>
                  <a:pt x="7222" y="10226"/>
                </a:cubicBezTo>
              </a:path>
              <a:path w="2630" h="672">
                <a:moveTo>
                  <a:pt x="7166" y="10091"/>
                </a:moveTo>
                <a:cubicBezTo>
                  <a:pt x="7161" y="10093"/>
                  <a:pt x="7157" y="10094"/>
                  <a:pt x="7152" y="10096"/>
                </a:cubicBezTo>
                <a:cubicBezTo>
                  <a:pt x="7159" y="10078"/>
                  <a:pt x="7181" y="10070"/>
                  <a:pt x="7202" y="10059"/>
                </a:cubicBezTo>
                <a:cubicBezTo>
                  <a:pt x="7208" y="10056"/>
                  <a:pt x="7215" y="10052"/>
                  <a:pt x="7221" y="10049"/>
                </a:cubicBezTo>
              </a:path>
              <a:path w="2630" h="672">
                <a:moveTo>
                  <a:pt x="7530" y="10069"/>
                </a:moveTo>
                <a:cubicBezTo>
                  <a:pt x="7520" y="10026"/>
                  <a:pt x="7537" y="10123"/>
                  <a:pt x="7538" y="10126"/>
                </a:cubicBezTo>
                <a:cubicBezTo>
                  <a:pt x="7549" y="10185"/>
                  <a:pt x="7562" y="10247"/>
                  <a:pt x="7554" y="10307"/>
                </a:cubicBezTo>
                <a:cubicBezTo>
                  <a:pt x="7544" y="10275"/>
                  <a:pt x="7542" y="10253"/>
                  <a:pt x="7551" y="10213"/>
                </a:cubicBezTo>
                <a:cubicBezTo>
                  <a:pt x="7571" y="10124"/>
                  <a:pt x="7614" y="10020"/>
                  <a:pt x="7690" y="9965"/>
                </a:cubicBezTo>
                <a:cubicBezTo>
                  <a:pt x="7719" y="9944"/>
                  <a:pt x="7730" y="9949"/>
                  <a:pt x="7756" y="9963"/>
                </a:cubicBezTo>
                <a:cubicBezTo>
                  <a:pt x="7768" y="10019"/>
                  <a:pt x="7759" y="10059"/>
                  <a:pt x="7738" y="10113"/>
                </a:cubicBezTo>
                <a:cubicBezTo>
                  <a:pt x="7720" y="10159"/>
                  <a:pt x="7692" y="10196"/>
                  <a:pt x="7667" y="10237"/>
                </a:cubicBezTo>
                <a:cubicBezTo>
                  <a:pt x="7665" y="10240"/>
                  <a:pt x="7664" y="10244"/>
                  <a:pt x="7662" y="10247"/>
                </a:cubicBezTo>
                <a:cubicBezTo>
                  <a:pt x="7691" y="10237"/>
                  <a:pt x="7718" y="10229"/>
                  <a:pt x="7750" y="10231"/>
                </a:cubicBezTo>
                <a:cubicBezTo>
                  <a:pt x="7782" y="10233"/>
                  <a:pt x="7812" y="10253"/>
                  <a:pt x="7806" y="10289"/>
                </a:cubicBezTo>
                <a:cubicBezTo>
                  <a:pt x="7798" y="10341"/>
                  <a:pt x="7736" y="10397"/>
                  <a:pt x="7690" y="10416"/>
                </a:cubicBezTo>
                <a:cubicBezTo>
                  <a:pt x="7669" y="10424"/>
                  <a:pt x="7612" y="10437"/>
                  <a:pt x="7608" y="10400"/>
                </a:cubicBezTo>
                <a:cubicBezTo>
                  <a:pt x="7609" y="10392"/>
                  <a:pt x="7611" y="10383"/>
                  <a:pt x="7612" y="10375"/>
                </a:cubicBezTo>
              </a:path>
              <a:path w="2630" h="672">
                <a:moveTo>
                  <a:pt x="7959" y="10142"/>
                </a:moveTo>
                <a:cubicBezTo>
                  <a:pt x="7977" y="10151"/>
                  <a:pt x="7977" y="10155"/>
                  <a:pt x="8011" y="10154"/>
                </a:cubicBezTo>
                <a:cubicBezTo>
                  <a:pt x="8062" y="10153"/>
                  <a:pt x="8114" y="10150"/>
                  <a:pt x="8165" y="10149"/>
                </a:cubicBezTo>
                <a:cubicBezTo>
                  <a:pt x="8221" y="10147"/>
                  <a:pt x="8277" y="10145"/>
                  <a:pt x="8333" y="10146"/>
                </a:cubicBezTo>
                <a:cubicBezTo>
                  <a:pt x="8367" y="10147"/>
                  <a:pt x="8403" y="10154"/>
                  <a:pt x="8435" y="10142"/>
                </a:cubicBezTo>
                <a:cubicBezTo>
                  <a:pt x="8420" y="10116"/>
                  <a:pt x="8405" y="10094"/>
                  <a:pt x="8385" y="10071"/>
                </a:cubicBezTo>
                <a:cubicBezTo>
                  <a:pt x="8363" y="10047"/>
                  <a:pt x="8344" y="10020"/>
                  <a:pt x="8323" y="9996"/>
                </a:cubicBezTo>
                <a:cubicBezTo>
                  <a:pt x="8320" y="9993"/>
                  <a:pt x="8316" y="9989"/>
                  <a:pt x="8313" y="9986"/>
                </a:cubicBezTo>
                <a:cubicBezTo>
                  <a:pt x="8343" y="9992"/>
                  <a:pt x="8366" y="10008"/>
                  <a:pt x="8395" y="10020"/>
                </a:cubicBezTo>
                <a:cubicBezTo>
                  <a:pt x="8426" y="10033"/>
                  <a:pt x="8457" y="10047"/>
                  <a:pt x="8480" y="10073"/>
                </a:cubicBezTo>
                <a:cubicBezTo>
                  <a:pt x="8505" y="10101"/>
                  <a:pt x="8496" y="10121"/>
                  <a:pt x="8485" y="10151"/>
                </a:cubicBezTo>
                <a:cubicBezTo>
                  <a:pt x="8471" y="10190"/>
                  <a:pt x="8447" y="10220"/>
                  <a:pt x="8420" y="10252"/>
                </a:cubicBezTo>
                <a:cubicBezTo>
                  <a:pt x="8399" y="10277"/>
                  <a:pt x="8377" y="10299"/>
                  <a:pt x="8353" y="10321"/>
                </a:cubicBezTo>
                <a:cubicBezTo>
                  <a:pt x="8350" y="10323"/>
                  <a:pt x="8347" y="10326"/>
                  <a:pt x="8344" y="10328"/>
                </a:cubicBezTo>
              </a:path>
              <a:path w="2630" h="672">
                <a:moveTo>
                  <a:pt x="8979" y="10034"/>
                </a:moveTo>
                <a:cubicBezTo>
                  <a:pt x="8983" y="10030"/>
                  <a:pt x="8986" y="10027"/>
                  <a:pt x="8990" y="10023"/>
                </a:cubicBezTo>
                <a:cubicBezTo>
                  <a:pt x="8947" y="10029"/>
                  <a:pt x="8921" y="10058"/>
                  <a:pt x="8886" y="10091"/>
                </a:cubicBezTo>
                <a:cubicBezTo>
                  <a:pt x="8848" y="10127"/>
                  <a:pt x="8806" y="10171"/>
                  <a:pt x="8806" y="10227"/>
                </a:cubicBezTo>
                <a:cubicBezTo>
                  <a:pt x="8806" y="10278"/>
                  <a:pt x="8864" y="10287"/>
                  <a:pt x="8902" y="10294"/>
                </a:cubicBezTo>
                <a:cubicBezTo>
                  <a:pt x="8963" y="10304"/>
                  <a:pt x="9030" y="10297"/>
                  <a:pt x="9091" y="10289"/>
                </a:cubicBezTo>
                <a:cubicBezTo>
                  <a:pt x="9125" y="10283"/>
                  <a:pt x="9136" y="10281"/>
                  <a:pt x="9158" y="1027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3798720" y="3316320"/>
            <a:ext cx="384480" cy="368280"/>
          </a:xfrm>
          <a:custGeom>
            <a:avLst/>
            <a:gdLst/>
            <a:ahLst/>
            <a:rect l="l" t="t" r="r" b="b"/>
            <a:pathLst>
              <a:path w="1065" h="1024">
                <a:moveTo>
                  <a:pt x="10699" y="9900"/>
                </a:moveTo>
                <a:cubicBezTo>
                  <a:pt x="10705" y="9928"/>
                  <a:pt x="10710" y="9943"/>
                  <a:pt x="10724" y="9965"/>
                </a:cubicBezTo>
                <a:cubicBezTo>
                  <a:pt x="10748" y="9933"/>
                  <a:pt x="10742" y="9900"/>
                  <a:pt x="10740" y="9858"/>
                </a:cubicBezTo>
                <a:cubicBezTo>
                  <a:pt x="10734" y="9753"/>
                  <a:pt x="10716" y="9651"/>
                  <a:pt x="10699" y="9548"/>
                </a:cubicBezTo>
                <a:cubicBezTo>
                  <a:pt x="10685" y="9464"/>
                  <a:pt x="10674" y="9379"/>
                  <a:pt x="10672" y="9294"/>
                </a:cubicBezTo>
                <a:cubicBezTo>
                  <a:pt x="10671" y="9255"/>
                  <a:pt x="10673" y="9241"/>
                  <a:pt x="10694" y="9213"/>
                </a:cubicBezTo>
                <a:cubicBezTo>
                  <a:pt x="10741" y="9223"/>
                  <a:pt x="10767" y="9253"/>
                  <a:pt x="10798" y="9291"/>
                </a:cubicBezTo>
                <a:cubicBezTo>
                  <a:pt x="10853" y="9358"/>
                  <a:pt x="10885" y="9417"/>
                  <a:pt x="10899" y="9502"/>
                </a:cubicBezTo>
              </a:path>
              <a:path w="1065" h="1024">
                <a:moveTo>
                  <a:pt x="10580" y="9721"/>
                </a:moveTo>
                <a:cubicBezTo>
                  <a:pt x="10565" y="9725"/>
                  <a:pt x="10561" y="9728"/>
                  <a:pt x="10553" y="9720"/>
                </a:cubicBezTo>
                <a:cubicBezTo>
                  <a:pt x="10590" y="9689"/>
                  <a:pt x="10623" y="9677"/>
                  <a:pt x="10671" y="9665"/>
                </a:cubicBezTo>
                <a:cubicBezTo>
                  <a:pt x="10753" y="9644"/>
                  <a:pt x="10839" y="9645"/>
                  <a:pt x="10923" y="9634"/>
                </a:cubicBezTo>
                <a:cubicBezTo>
                  <a:pt x="10936" y="9632"/>
                  <a:pt x="10949" y="9629"/>
                  <a:pt x="10962" y="9627"/>
                </a:cubicBezTo>
              </a:path>
              <a:path w="1065" h="1024">
                <a:moveTo>
                  <a:pt x="11148" y="9578"/>
                </a:moveTo>
                <a:cubicBezTo>
                  <a:pt x="11143" y="9558"/>
                  <a:pt x="11137" y="9543"/>
                  <a:pt x="11125" y="9526"/>
                </a:cubicBezTo>
                <a:cubicBezTo>
                  <a:pt x="11109" y="9553"/>
                  <a:pt x="11103" y="9572"/>
                  <a:pt x="11104" y="9605"/>
                </a:cubicBezTo>
                <a:cubicBezTo>
                  <a:pt x="11105" y="9633"/>
                  <a:pt x="11109" y="9668"/>
                  <a:pt x="11136" y="9684"/>
                </a:cubicBezTo>
                <a:cubicBezTo>
                  <a:pt x="11167" y="9702"/>
                  <a:pt x="11194" y="9677"/>
                  <a:pt x="11215" y="9658"/>
                </a:cubicBezTo>
                <a:cubicBezTo>
                  <a:pt x="11238" y="9637"/>
                  <a:pt x="11257" y="9606"/>
                  <a:pt x="11254" y="9573"/>
                </a:cubicBezTo>
                <a:cubicBezTo>
                  <a:pt x="11251" y="9545"/>
                  <a:pt x="11224" y="9539"/>
                  <a:pt x="11202" y="9533"/>
                </a:cubicBezTo>
                <a:cubicBezTo>
                  <a:pt x="11178" y="9526"/>
                  <a:pt x="11164" y="9528"/>
                  <a:pt x="11140" y="9535"/>
                </a:cubicBezTo>
              </a:path>
              <a:path w="1065" h="1024">
                <a:moveTo>
                  <a:pt x="11527" y="9582"/>
                </a:moveTo>
                <a:cubicBezTo>
                  <a:pt x="11513" y="9561"/>
                  <a:pt x="11526" y="9547"/>
                  <a:pt x="11487" y="9550"/>
                </a:cubicBezTo>
                <a:cubicBezTo>
                  <a:pt x="11469" y="9551"/>
                  <a:pt x="11446" y="9560"/>
                  <a:pt x="11432" y="9572"/>
                </a:cubicBezTo>
                <a:cubicBezTo>
                  <a:pt x="11413" y="9589"/>
                  <a:pt x="11413" y="9619"/>
                  <a:pt x="11419" y="9641"/>
                </a:cubicBezTo>
                <a:cubicBezTo>
                  <a:pt x="11426" y="9668"/>
                  <a:pt x="11444" y="9695"/>
                  <a:pt x="11463" y="9715"/>
                </a:cubicBezTo>
                <a:cubicBezTo>
                  <a:pt x="11483" y="9736"/>
                  <a:pt x="11495" y="9732"/>
                  <a:pt x="11517" y="9719"/>
                </a:cubicBezTo>
                <a:cubicBezTo>
                  <a:pt x="11542" y="9703"/>
                  <a:pt x="11547" y="9688"/>
                  <a:pt x="11572" y="9712"/>
                </a:cubicBezTo>
                <a:cubicBezTo>
                  <a:pt x="11595" y="9734"/>
                  <a:pt x="11599" y="9795"/>
                  <a:pt x="11604" y="9823"/>
                </a:cubicBezTo>
                <a:cubicBezTo>
                  <a:pt x="11622" y="9925"/>
                  <a:pt x="11624" y="10035"/>
                  <a:pt x="11603" y="10137"/>
                </a:cubicBezTo>
                <a:cubicBezTo>
                  <a:pt x="11594" y="10179"/>
                  <a:pt x="11574" y="10223"/>
                  <a:pt x="11529" y="10234"/>
                </a:cubicBezTo>
                <a:cubicBezTo>
                  <a:pt x="11486" y="10245"/>
                  <a:pt x="11436" y="10215"/>
                  <a:pt x="11401" y="10193"/>
                </a:cubicBezTo>
                <a:cubicBezTo>
                  <a:pt x="11369" y="10173"/>
                  <a:pt x="11322" y="10143"/>
                  <a:pt x="11303" y="10110"/>
                </a:cubicBezTo>
                <a:cubicBezTo>
                  <a:pt x="11299" y="10095"/>
                  <a:pt x="11298" y="10091"/>
                  <a:pt x="11300" y="1008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4341960" y="3417840"/>
            <a:ext cx="47520" cy="128520"/>
          </a:xfrm>
          <a:custGeom>
            <a:avLst/>
            <a:gdLst/>
            <a:ahLst/>
            <a:rect l="l" t="t" r="r" b="b"/>
            <a:pathLst>
              <a:path w="135" h="356">
                <a:moveTo>
                  <a:pt x="12155" y="9841"/>
                </a:moveTo>
                <a:cubicBezTo>
                  <a:pt x="12165" y="9854"/>
                  <a:pt x="12173" y="9815"/>
                  <a:pt x="12179" y="9796"/>
                </a:cubicBezTo>
                <a:cubicBezTo>
                  <a:pt x="12186" y="9766"/>
                  <a:pt x="12189" y="9755"/>
                  <a:pt x="12193" y="9735"/>
                </a:cubicBezTo>
              </a:path>
              <a:path w="135" h="356">
                <a:moveTo>
                  <a:pt x="12102" y="9522"/>
                </a:moveTo>
                <a:cubicBezTo>
                  <a:pt x="12087" y="9525"/>
                  <a:pt x="12075" y="9527"/>
                  <a:pt x="12059" y="9527"/>
                </a:cubicBezTo>
                <a:cubicBezTo>
                  <a:pt x="12070" y="9504"/>
                  <a:pt x="12090" y="9504"/>
                  <a:pt x="12115" y="949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525920" y="3332160"/>
            <a:ext cx="663480" cy="219240"/>
          </a:xfrm>
          <a:custGeom>
            <a:avLst/>
            <a:gdLst/>
            <a:ahLst/>
            <a:rect l="l" t="t" r="r" b="b"/>
            <a:pathLst>
              <a:path w="1843" h="610">
                <a:moveTo>
                  <a:pt x="12573" y="9824"/>
                </a:moveTo>
                <a:cubicBezTo>
                  <a:pt x="12585" y="9790"/>
                  <a:pt x="12596" y="9757"/>
                  <a:pt x="12606" y="9722"/>
                </a:cubicBezTo>
                <a:cubicBezTo>
                  <a:pt x="12626" y="9651"/>
                  <a:pt x="12645" y="9579"/>
                  <a:pt x="12666" y="9508"/>
                </a:cubicBezTo>
                <a:cubicBezTo>
                  <a:pt x="12687" y="9439"/>
                  <a:pt x="12707" y="9366"/>
                  <a:pt x="12735" y="9299"/>
                </a:cubicBezTo>
                <a:cubicBezTo>
                  <a:pt x="12747" y="9274"/>
                  <a:pt x="12749" y="9268"/>
                  <a:pt x="12762" y="9256"/>
                </a:cubicBezTo>
                <a:cubicBezTo>
                  <a:pt x="12781" y="9293"/>
                  <a:pt x="12787" y="9328"/>
                  <a:pt x="12791" y="9379"/>
                </a:cubicBezTo>
                <a:cubicBezTo>
                  <a:pt x="12798" y="9477"/>
                  <a:pt x="12810" y="9574"/>
                  <a:pt x="12820" y="9672"/>
                </a:cubicBezTo>
                <a:cubicBezTo>
                  <a:pt x="12826" y="9730"/>
                  <a:pt x="12829" y="9787"/>
                  <a:pt x="12832" y="9846"/>
                </a:cubicBezTo>
              </a:path>
              <a:path w="1843" h="610">
                <a:moveTo>
                  <a:pt x="12673" y="9607"/>
                </a:moveTo>
                <a:cubicBezTo>
                  <a:pt x="12666" y="9571"/>
                  <a:pt x="12716" y="9585"/>
                  <a:pt x="12750" y="9584"/>
                </a:cubicBezTo>
                <a:cubicBezTo>
                  <a:pt x="12822" y="9581"/>
                  <a:pt x="12894" y="9581"/>
                  <a:pt x="12966" y="9574"/>
                </a:cubicBezTo>
                <a:cubicBezTo>
                  <a:pt x="13015" y="9569"/>
                  <a:pt x="13030" y="9568"/>
                  <a:pt x="13061" y="9561"/>
                </a:cubicBezTo>
              </a:path>
              <a:path w="1843" h="610">
                <a:moveTo>
                  <a:pt x="13127" y="9561"/>
                </a:moveTo>
                <a:cubicBezTo>
                  <a:pt x="13151" y="9540"/>
                  <a:pt x="13163" y="9549"/>
                  <a:pt x="13195" y="9549"/>
                </a:cubicBezTo>
                <a:cubicBezTo>
                  <a:pt x="13301" y="9549"/>
                  <a:pt x="13408" y="9547"/>
                  <a:pt x="13514" y="9545"/>
                </a:cubicBezTo>
                <a:cubicBezTo>
                  <a:pt x="13550" y="9544"/>
                  <a:pt x="13586" y="9545"/>
                  <a:pt x="13622" y="9544"/>
                </a:cubicBezTo>
                <a:cubicBezTo>
                  <a:pt x="13625" y="9544"/>
                  <a:pt x="13628" y="9543"/>
                  <a:pt x="13631" y="9543"/>
                </a:cubicBezTo>
                <a:cubicBezTo>
                  <a:pt x="13619" y="9515"/>
                  <a:pt x="13609" y="9503"/>
                  <a:pt x="13584" y="9481"/>
                </a:cubicBezTo>
                <a:cubicBezTo>
                  <a:pt x="13533" y="9436"/>
                  <a:pt x="13476" y="9404"/>
                  <a:pt x="13422" y="9364"/>
                </a:cubicBezTo>
                <a:cubicBezTo>
                  <a:pt x="13418" y="9360"/>
                  <a:pt x="13413" y="9356"/>
                  <a:pt x="13409" y="9352"/>
                </a:cubicBezTo>
                <a:cubicBezTo>
                  <a:pt x="13445" y="9347"/>
                  <a:pt x="13472" y="9349"/>
                  <a:pt x="13515" y="9362"/>
                </a:cubicBezTo>
                <a:cubicBezTo>
                  <a:pt x="13573" y="9379"/>
                  <a:pt x="13633" y="9402"/>
                  <a:pt x="13675" y="9447"/>
                </a:cubicBezTo>
                <a:cubicBezTo>
                  <a:pt x="13710" y="9485"/>
                  <a:pt x="13714" y="9536"/>
                  <a:pt x="13693" y="9582"/>
                </a:cubicBezTo>
                <a:cubicBezTo>
                  <a:pt x="13670" y="9634"/>
                  <a:pt x="13627" y="9667"/>
                  <a:pt x="13584" y="9701"/>
                </a:cubicBezTo>
                <a:cubicBezTo>
                  <a:pt x="13557" y="9722"/>
                  <a:pt x="13529" y="9735"/>
                  <a:pt x="13498" y="9750"/>
                </a:cubicBezTo>
              </a:path>
              <a:path w="1843" h="610">
                <a:moveTo>
                  <a:pt x="14330" y="9517"/>
                </a:moveTo>
                <a:cubicBezTo>
                  <a:pt x="14341" y="9477"/>
                  <a:pt x="14343" y="9452"/>
                  <a:pt x="14325" y="9415"/>
                </a:cubicBezTo>
                <a:cubicBezTo>
                  <a:pt x="14310" y="9384"/>
                  <a:pt x="14285" y="9369"/>
                  <a:pt x="14250" y="9370"/>
                </a:cubicBezTo>
                <a:cubicBezTo>
                  <a:pt x="14192" y="9372"/>
                  <a:pt x="14135" y="9408"/>
                  <a:pt x="14093" y="9445"/>
                </a:cubicBezTo>
                <a:cubicBezTo>
                  <a:pt x="14033" y="9499"/>
                  <a:pt x="13971" y="9584"/>
                  <a:pt x="13990" y="9669"/>
                </a:cubicBezTo>
                <a:cubicBezTo>
                  <a:pt x="14005" y="9737"/>
                  <a:pt x="14067" y="9784"/>
                  <a:pt x="14125" y="9815"/>
                </a:cubicBezTo>
                <a:cubicBezTo>
                  <a:pt x="14190" y="9850"/>
                  <a:pt x="14265" y="9862"/>
                  <a:pt x="14338" y="9865"/>
                </a:cubicBezTo>
                <a:cubicBezTo>
                  <a:pt x="14378" y="9864"/>
                  <a:pt x="14390" y="9864"/>
                  <a:pt x="14415" y="985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5326200" y="3543480"/>
            <a:ext cx="4680" cy="29880"/>
          </a:xfrm>
          <a:custGeom>
            <a:avLst/>
            <a:gdLst/>
            <a:ahLst/>
            <a:rect l="l" t="t" r="r" b="b"/>
            <a:pathLst>
              <a:path w="15" h="83">
                <a:moveTo>
                  <a:pt x="14806" y="9926"/>
                </a:moveTo>
                <a:cubicBezTo>
                  <a:pt x="14798" y="9903"/>
                  <a:pt x="14793" y="9888"/>
                  <a:pt x="14799" y="9865"/>
                </a:cubicBezTo>
                <a:cubicBezTo>
                  <a:pt x="14802" y="9854"/>
                  <a:pt x="14804" y="9850"/>
                  <a:pt x="14809" y="984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6014880" y="3257640"/>
            <a:ext cx="276480" cy="306360"/>
          </a:xfrm>
          <a:custGeom>
            <a:avLst/>
            <a:gdLst/>
            <a:ahLst/>
            <a:rect l="l" t="t" r="r" b="b"/>
            <a:pathLst>
              <a:path w="766" h="849">
                <a:moveTo>
                  <a:pt x="16859" y="9744"/>
                </a:moveTo>
                <a:cubicBezTo>
                  <a:pt x="16845" y="9767"/>
                  <a:pt x="16827" y="9800"/>
                  <a:pt x="16823" y="9827"/>
                </a:cubicBezTo>
                <a:cubicBezTo>
                  <a:pt x="16819" y="9857"/>
                  <a:pt x="16819" y="9879"/>
                  <a:pt x="16840" y="9897"/>
                </a:cubicBezTo>
                <a:cubicBezTo>
                  <a:pt x="16874" y="9846"/>
                  <a:pt x="16878" y="9787"/>
                  <a:pt x="16882" y="9727"/>
                </a:cubicBezTo>
                <a:cubicBezTo>
                  <a:pt x="16888" y="9632"/>
                  <a:pt x="16881" y="9538"/>
                  <a:pt x="16871" y="9444"/>
                </a:cubicBezTo>
                <a:cubicBezTo>
                  <a:pt x="16863" y="9369"/>
                  <a:pt x="16849" y="9297"/>
                  <a:pt x="16837" y="9223"/>
                </a:cubicBezTo>
                <a:cubicBezTo>
                  <a:pt x="16831" y="9187"/>
                  <a:pt x="16837" y="9193"/>
                  <a:pt x="16845" y="9167"/>
                </a:cubicBezTo>
                <a:cubicBezTo>
                  <a:pt x="16895" y="9170"/>
                  <a:pt x="16938" y="9190"/>
                  <a:pt x="16985" y="9206"/>
                </a:cubicBezTo>
                <a:cubicBezTo>
                  <a:pt x="17016" y="9217"/>
                  <a:pt x="17068" y="9231"/>
                  <a:pt x="17069" y="9272"/>
                </a:cubicBezTo>
                <a:cubicBezTo>
                  <a:pt x="17063" y="9294"/>
                  <a:pt x="17060" y="9303"/>
                  <a:pt x="17046" y="9313"/>
                </a:cubicBezTo>
              </a:path>
              <a:path w="766" h="849">
                <a:moveTo>
                  <a:pt x="16709" y="9498"/>
                </a:moveTo>
                <a:cubicBezTo>
                  <a:pt x="16744" y="9508"/>
                  <a:pt x="16788" y="9489"/>
                  <a:pt x="16826" y="9483"/>
                </a:cubicBezTo>
                <a:cubicBezTo>
                  <a:pt x="16895" y="9473"/>
                  <a:pt x="16966" y="9469"/>
                  <a:pt x="17034" y="9454"/>
                </a:cubicBezTo>
                <a:cubicBezTo>
                  <a:pt x="17047" y="9450"/>
                  <a:pt x="17061" y="9446"/>
                  <a:pt x="17074" y="9442"/>
                </a:cubicBezTo>
              </a:path>
              <a:path w="766" h="849">
                <a:moveTo>
                  <a:pt x="17210" y="9250"/>
                </a:moveTo>
                <a:cubicBezTo>
                  <a:pt x="17222" y="9233"/>
                  <a:pt x="17234" y="9221"/>
                  <a:pt x="17252" y="9210"/>
                </a:cubicBezTo>
                <a:cubicBezTo>
                  <a:pt x="17280" y="9193"/>
                  <a:pt x="17318" y="9189"/>
                  <a:pt x="17350" y="9182"/>
                </a:cubicBezTo>
                <a:cubicBezTo>
                  <a:pt x="17373" y="9178"/>
                  <a:pt x="17380" y="9177"/>
                  <a:pt x="17393" y="9170"/>
                </a:cubicBezTo>
              </a:path>
              <a:path w="766" h="849">
                <a:moveTo>
                  <a:pt x="17472" y="9049"/>
                </a:moveTo>
                <a:cubicBezTo>
                  <a:pt x="17460" y="9069"/>
                  <a:pt x="17443" y="9101"/>
                  <a:pt x="17441" y="9124"/>
                </a:cubicBezTo>
                <a:cubicBezTo>
                  <a:pt x="17437" y="9167"/>
                  <a:pt x="17443" y="9212"/>
                  <a:pt x="17453" y="9253"/>
                </a:cubicBezTo>
                <a:cubicBezTo>
                  <a:pt x="17459" y="9276"/>
                  <a:pt x="17465" y="9297"/>
                  <a:pt x="17474" y="931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6515280" y="3220920"/>
            <a:ext cx="610920" cy="249480"/>
          </a:xfrm>
          <a:custGeom>
            <a:avLst/>
            <a:gdLst/>
            <a:ahLst/>
            <a:rect l="l" t="t" r="r" b="b"/>
            <a:pathLst>
              <a:path w="1697" h="693">
                <a:moveTo>
                  <a:pt x="18281" y="9439"/>
                </a:moveTo>
                <a:cubicBezTo>
                  <a:pt x="18264" y="9418"/>
                  <a:pt x="18250" y="9404"/>
                  <a:pt x="18221" y="9401"/>
                </a:cubicBezTo>
                <a:cubicBezTo>
                  <a:pt x="18190" y="9398"/>
                  <a:pt x="18158" y="9410"/>
                  <a:pt x="18137" y="9433"/>
                </a:cubicBezTo>
                <a:cubicBezTo>
                  <a:pt x="18099" y="9474"/>
                  <a:pt x="18091" y="9531"/>
                  <a:pt x="18105" y="9583"/>
                </a:cubicBezTo>
                <a:cubicBezTo>
                  <a:pt x="18114" y="9616"/>
                  <a:pt x="18141" y="9654"/>
                  <a:pt x="18180" y="9634"/>
                </a:cubicBezTo>
                <a:cubicBezTo>
                  <a:pt x="18234" y="9607"/>
                  <a:pt x="18260" y="9529"/>
                  <a:pt x="18279" y="9477"/>
                </a:cubicBezTo>
                <a:cubicBezTo>
                  <a:pt x="18310" y="9390"/>
                  <a:pt x="18324" y="9296"/>
                  <a:pt x="18330" y="9204"/>
                </a:cubicBezTo>
                <a:cubicBezTo>
                  <a:pt x="18333" y="9155"/>
                  <a:pt x="18329" y="9108"/>
                  <a:pt x="18322" y="9062"/>
                </a:cubicBezTo>
                <a:cubicBezTo>
                  <a:pt x="18302" y="9133"/>
                  <a:pt x="18300" y="9202"/>
                  <a:pt x="18300" y="9277"/>
                </a:cubicBezTo>
                <a:cubicBezTo>
                  <a:pt x="18300" y="9371"/>
                  <a:pt x="18304" y="9467"/>
                  <a:pt x="18334" y="9556"/>
                </a:cubicBezTo>
                <a:cubicBezTo>
                  <a:pt x="18349" y="9602"/>
                  <a:pt x="18362" y="9614"/>
                  <a:pt x="18399" y="9639"/>
                </a:cubicBezTo>
              </a:path>
              <a:path w="1697" h="693">
                <a:moveTo>
                  <a:pt x="18587" y="9396"/>
                </a:moveTo>
                <a:cubicBezTo>
                  <a:pt x="18557" y="9403"/>
                  <a:pt x="18553" y="9418"/>
                  <a:pt x="18535" y="9441"/>
                </a:cubicBezTo>
                <a:cubicBezTo>
                  <a:pt x="18508" y="9476"/>
                  <a:pt x="18490" y="9514"/>
                  <a:pt x="18488" y="9560"/>
                </a:cubicBezTo>
                <a:cubicBezTo>
                  <a:pt x="18487" y="9590"/>
                  <a:pt x="18494" y="9629"/>
                  <a:pt x="18532" y="9626"/>
                </a:cubicBezTo>
                <a:cubicBezTo>
                  <a:pt x="18571" y="9623"/>
                  <a:pt x="18611" y="9581"/>
                  <a:pt x="18632" y="9552"/>
                </a:cubicBezTo>
                <a:cubicBezTo>
                  <a:pt x="18659" y="9515"/>
                  <a:pt x="18676" y="9475"/>
                  <a:pt x="18678" y="9430"/>
                </a:cubicBezTo>
                <a:cubicBezTo>
                  <a:pt x="18679" y="9404"/>
                  <a:pt x="18667" y="9382"/>
                  <a:pt x="18644" y="9370"/>
                </a:cubicBezTo>
                <a:cubicBezTo>
                  <a:pt x="18629" y="9364"/>
                  <a:pt x="18625" y="9363"/>
                  <a:pt x="18615" y="9362"/>
                </a:cubicBezTo>
              </a:path>
              <a:path w="1697" h="693">
                <a:moveTo>
                  <a:pt x="18852" y="9410"/>
                </a:moveTo>
                <a:cubicBezTo>
                  <a:pt x="18873" y="9391"/>
                  <a:pt x="18899" y="9363"/>
                  <a:pt x="18911" y="9337"/>
                </a:cubicBezTo>
                <a:cubicBezTo>
                  <a:pt x="18917" y="9324"/>
                  <a:pt x="18935" y="9292"/>
                  <a:pt x="18935" y="9277"/>
                </a:cubicBezTo>
                <a:cubicBezTo>
                  <a:pt x="18934" y="9274"/>
                  <a:pt x="18933" y="9271"/>
                  <a:pt x="18932" y="9268"/>
                </a:cubicBezTo>
                <a:cubicBezTo>
                  <a:pt x="18912" y="9282"/>
                  <a:pt x="18898" y="9299"/>
                  <a:pt x="18881" y="9316"/>
                </a:cubicBezTo>
                <a:cubicBezTo>
                  <a:pt x="18861" y="9337"/>
                  <a:pt x="18842" y="9358"/>
                  <a:pt x="18824" y="9380"/>
                </a:cubicBezTo>
                <a:cubicBezTo>
                  <a:pt x="18810" y="9398"/>
                  <a:pt x="18797" y="9414"/>
                  <a:pt x="18794" y="9437"/>
                </a:cubicBezTo>
                <a:cubicBezTo>
                  <a:pt x="18790" y="9469"/>
                  <a:pt x="18795" y="9504"/>
                  <a:pt x="18812" y="9531"/>
                </a:cubicBezTo>
                <a:cubicBezTo>
                  <a:pt x="18826" y="9554"/>
                  <a:pt x="18854" y="9570"/>
                  <a:pt x="18882" y="9567"/>
                </a:cubicBezTo>
                <a:cubicBezTo>
                  <a:pt x="18920" y="9562"/>
                  <a:pt x="18948" y="9549"/>
                  <a:pt x="18976" y="9523"/>
                </a:cubicBezTo>
                <a:cubicBezTo>
                  <a:pt x="18995" y="9503"/>
                  <a:pt x="19001" y="9496"/>
                  <a:pt x="19010" y="9480"/>
                </a:cubicBezTo>
              </a:path>
              <a:path w="1697" h="693">
                <a:moveTo>
                  <a:pt x="19062" y="9322"/>
                </a:moveTo>
                <a:cubicBezTo>
                  <a:pt x="19053" y="9305"/>
                  <a:pt x="19036" y="9297"/>
                  <a:pt x="19014" y="9313"/>
                </a:cubicBezTo>
                <a:cubicBezTo>
                  <a:pt x="18991" y="9330"/>
                  <a:pt x="18962" y="9354"/>
                  <a:pt x="18946" y="9379"/>
                </a:cubicBezTo>
                <a:cubicBezTo>
                  <a:pt x="18944" y="9384"/>
                  <a:pt x="18941" y="9390"/>
                  <a:pt x="18939" y="9395"/>
                </a:cubicBezTo>
                <a:cubicBezTo>
                  <a:pt x="18964" y="9412"/>
                  <a:pt x="18994" y="9405"/>
                  <a:pt x="19026" y="9407"/>
                </a:cubicBezTo>
                <a:cubicBezTo>
                  <a:pt x="19070" y="9410"/>
                  <a:pt x="19123" y="9418"/>
                  <a:pt x="19155" y="9451"/>
                </a:cubicBezTo>
                <a:cubicBezTo>
                  <a:pt x="19191" y="9488"/>
                  <a:pt x="19184" y="9545"/>
                  <a:pt x="19154" y="9582"/>
                </a:cubicBezTo>
                <a:cubicBezTo>
                  <a:pt x="19136" y="9604"/>
                  <a:pt x="19112" y="9617"/>
                  <a:pt x="19087" y="9611"/>
                </a:cubicBezTo>
                <a:cubicBezTo>
                  <a:pt x="19079" y="9584"/>
                  <a:pt x="19082" y="9575"/>
                  <a:pt x="19088" y="9545"/>
                </a:cubicBezTo>
              </a:path>
              <a:path w="1697" h="693">
                <a:moveTo>
                  <a:pt x="19242" y="9335"/>
                </a:moveTo>
                <a:cubicBezTo>
                  <a:pt x="19252" y="9368"/>
                  <a:pt x="19247" y="9395"/>
                  <a:pt x="19251" y="9428"/>
                </a:cubicBezTo>
                <a:cubicBezTo>
                  <a:pt x="19254" y="9460"/>
                  <a:pt x="19260" y="9490"/>
                  <a:pt x="19273" y="9519"/>
                </a:cubicBezTo>
                <a:cubicBezTo>
                  <a:pt x="19299" y="9506"/>
                  <a:pt x="19310" y="9478"/>
                  <a:pt x="19328" y="9453"/>
                </a:cubicBezTo>
                <a:cubicBezTo>
                  <a:pt x="19348" y="9425"/>
                  <a:pt x="19369" y="9393"/>
                  <a:pt x="19408" y="9393"/>
                </a:cubicBezTo>
                <a:cubicBezTo>
                  <a:pt x="19449" y="9393"/>
                  <a:pt x="19470" y="9433"/>
                  <a:pt x="19489" y="9463"/>
                </a:cubicBezTo>
                <a:cubicBezTo>
                  <a:pt x="19510" y="9495"/>
                  <a:pt x="19523" y="9539"/>
                  <a:pt x="19548" y="9568"/>
                </a:cubicBezTo>
                <a:cubicBezTo>
                  <a:pt x="19551" y="9570"/>
                  <a:pt x="19555" y="9573"/>
                  <a:pt x="19558" y="9575"/>
                </a:cubicBezTo>
              </a:path>
              <a:path w="1697" h="693">
                <a:moveTo>
                  <a:pt x="19708" y="8948"/>
                </a:moveTo>
                <a:cubicBezTo>
                  <a:pt x="19721" y="9018"/>
                  <a:pt x="19722" y="9091"/>
                  <a:pt x="19724" y="9162"/>
                </a:cubicBezTo>
                <a:cubicBezTo>
                  <a:pt x="19727" y="9272"/>
                  <a:pt x="19732" y="9381"/>
                  <a:pt x="19735" y="9491"/>
                </a:cubicBezTo>
                <a:cubicBezTo>
                  <a:pt x="19735" y="9540"/>
                  <a:pt x="19735" y="9552"/>
                  <a:pt x="19733" y="9583"/>
                </a:cubicBezTo>
              </a:path>
              <a:path w="1697" h="693">
                <a:moveTo>
                  <a:pt x="19576" y="9242"/>
                </a:moveTo>
                <a:cubicBezTo>
                  <a:pt x="19609" y="9225"/>
                  <a:pt x="19646" y="9215"/>
                  <a:pt x="19682" y="9204"/>
                </a:cubicBezTo>
                <a:cubicBezTo>
                  <a:pt x="19718" y="9193"/>
                  <a:pt x="19762" y="9181"/>
                  <a:pt x="19785" y="9150"/>
                </a:cubicBezTo>
                <a:cubicBezTo>
                  <a:pt x="19788" y="9143"/>
                  <a:pt x="19792" y="9137"/>
                  <a:pt x="19795" y="913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7310520" y="3144960"/>
            <a:ext cx="788760" cy="500040"/>
          </a:xfrm>
          <a:custGeom>
            <a:avLst/>
            <a:gdLst/>
            <a:ahLst/>
            <a:rect l="l" t="t" r="r" b="b"/>
            <a:pathLst>
              <a:path w="2193" h="1392">
                <a:moveTo>
                  <a:pt x="20523" y="9264"/>
                </a:moveTo>
                <a:cubicBezTo>
                  <a:pt x="20514" y="9243"/>
                  <a:pt x="20512" y="9236"/>
                  <a:pt x="20502" y="9224"/>
                </a:cubicBezTo>
                <a:cubicBezTo>
                  <a:pt x="20458" y="9215"/>
                  <a:pt x="20447" y="9251"/>
                  <a:pt x="20423" y="9289"/>
                </a:cubicBezTo>
                <a:cubicBezTo>
                  <a:pt x="20377" y="9363"/>
                  <a:pt x="20345" y="9441"/>
                  <a:pt x="20321" y="9524"/>
                </a:cubicBezTo>
                <a:cubicBezTo>
                  <a:pt x="20310" y="9560"/>
                  <a:pt x="20286" y="9616"/>
                  <a:pt x="20328" y="9627"/>
                </a:cubicBezTo>
                <a:cubicBezTo>
                  <a:pt x="20375" y="9588"/>
                  <a:pt x="20406" y="9544"/>
                  <a:pt x="20440" y="9494"/>
                </a:cubicBezTo>
                <a:cubicBezTo>
                  <a:pt x="20466" y="9457"/>
                  <a:pt x="20486" y="9416"/>
                  <a:pt x="20521" y="9388"/>
                </a:cubicBezTo>
                <a:cubicBezTo>
                  <a:pt x="20536" y="9414"/>
                  <a:pt x="20539" y="9438"/>
                  <a:pt x="20548" y="9470"/>
                </a:cubicBezTo>
                <a:cubicBezTo>
                  <a:pt x="20553" y="9490"/>
                  <a:pt x="20564" y="9561"/>
                  <a:pt x="20601" y="9549"/>
                </a:cubicBezTo>
                <a:cubicBezTo>
                  <a:pt x="20609" y="9544"/>
                  <a:pt x="20616" y="9538"/>
                  <a:pt x="20624" y="9533"/>
                </a:cubicBezTo>
              </a:path>
              <a:path w="2193" h="1392">
                <a:moveTo>
                  <a:pt x="20781" y="8750"/>
                </a:moveTo>
                <a:cubicBezTo>
                  <a:pt x="20745" y="8718"/>
                  <a:pt x="20750" y="8817"/>
                  <a:pt x="20750" y="8847"/>
                </a:cubicBezTo>
                <a:cubicBezTo>
                  <a:pt x="20749" y="8972"/>
                  <a:pt x="20765" y="9098"/>
                  <a:pt x="20775" y="9222"/>
                </a:cubicBezTo>
                <a:cubicBezTo>
                  <a:pt x="20783" y="9323"/>
                  <a:pt x="20785" y="9443"/>
                  <a:pt x="20823" y="9538"/>
                </a:cubicBezTo>
                <a:cubicBezTo>
                  <a:pt x="20837" y="9560"/>
                  <a:pt x="20837" y="9568"/>
                  <a:pt x="20855" y="9564"/>
                </a:cubicBezTo>
              </a:path>
              <a:path w="2193" h="1392">
                <a:moveTo>
                  <a:pt x="20949" y="9131"/>
                </a:moveTo>
                <a:cubicBezTo>
                  <a:pt x="20954" y="9207"/>
                  <a:pt x="20952" y="9284"/>
                  <a:pt x="20956" y="9360"/>
                </a:cubicBezTo>
                <a:cubicBezTo>
                  <a:pt x="20959" y="9412"/>
                  <a:pt x="20963" y="9466"/>
                  <a:pt x="20973" y="9517"/>
                </a:cubicBezTo>
                <a:cubicBezTo>
                  <a:pt x="21006" y="9489"/>
                  <a:pt x="21010" y="9450"/>
                  <a:pt x="21023" y="9408"/>
                </a:cubicBezTo>
                <a:cubicBezTo>
                  <a:pt x="21035" y="9369"/>
                  <a:pt x="21046" y="9335"/>
                  <a:pt x="21077" y="9310"/>
                </a:cubicBezTo>
                <a:cubicBezTo>
                  <a:pt x="21109" y="9327"/>
                  <a:pt x="21112" y="9358"/>
                  <a:pt x="21124" y="9393"/>
                </a:cubicBezTo>
                <a:cubicBezTo>
                  <a:pt x="21136" y="9430"/>
                  <a:pt x="21146" y="9464"/>
                  <a:pt x="21167" y="9496"/>
                </a:cubicBezTo>
                <a:cubicBezTo>
                  <a:pt x="21196" y="9477"/>
                  <a:pt x="21203" y="9464"/>
                  <a:pt x="21221" y="9428"/>
                </a:cubicBezTo>
                <a:cubicBezTo>
                  <a:pt x="21245" y="9379"/>
                  <a:pt x="21260" y="9330"/>
                  <a:pt x="21287" y="9283"/>
                </a:cubicBezTo>
                <a:cubicBezTo>
                  <a:pt x="21301" y="9258"/>
                  <a:pt x="21304" y="9251"/>
                  <a:pt x="21319" y="9239"/>
                </a:cubicBezTo>
              </a:path>
              <a:path w="2193" h="1392">
                <a:moveTo>
                  <a:pt x="21570" y="9241"/>
                </a:moveTo>
                <a:cubicBezTo>
                  <a:pt x="21553" y="9211"/>
                  <a:pt x="21535" y="9162"/>
                  <a:pt x="21494" y="9156"/>
                </a:cubicBezTo>
                <a:cubicBezTo>
                  <a:pt x="21455" y="9150"/>
                  <a:pt x="21421" y="9206"/>
                  <a:pt x="21407" y="9233"/>
                </a:cubicBezTo>
                <a:cubicBezTo>
                  <a:pt x="21383" y="9278"/>
                  <a:pt x="21365" y="9340"/>
                  <a:pt x="21371" y="9392"/>
                </a:cubicBezTo>
                <a:cubicBezTo>
                  <a:pt x="21376" y="9434"/>
                  <a:pt x="21405" y="9441"/>
                  <a:pt x="21438" y="9420"/>
                </a:cubicBezTo>
                <a:cubicBezTo>
                  <a:pt x="21509" y="9375"/>
                  <a:pt x="21541" y="9287"/>
                  <a:pt x="21608" y="9240"/>
                </a:cubicBezTo>
                <a:cubicBezTo>
                  <a:pt x="21641" y="9261"/>
                  <a:pt x="21639" y="9297"/>
                  <a:pt x="21648" y="9335"/>
                </a:cubicBezTo>
                <a:cubicBezTo>
                  <a:pt x="21659" y="9385"/>
                  <a:pt x="21662" y="9448"/>
                  <a:pt x="21694" y="9490"/>
                </a:cubicBezTo>
                <a:cubicBezTo>
                  <a:pt x="21711" y="9502"/>
                  <a:pt x="21718" y="9505"/>
                  <a:pt x="21733" y="9500"/>
                </a:cubicBezTo>
              </a:path>
              <a:path w="2193" h="1392">
                <a:moveTo>
                  <a:pt x="21871" y="9238"/>
                </a:moveTo>
                <a:cubicBezTo>
                  <a:pt x="21850" y="9285"/>
                  <a:pt x="21842" y="9325"/>
                  <a:pt x="21829" y="9376"/>
                </a:cubicBezTo>
                <a:cubicBezTo>
                  <a:pt x="21815" y="9434"/>
                  <a:pt x="21797" y="9503"/>
                  <a:pt x="21812" y="9564"/>
                </a:cubicBezTo>
                <a:cubicBezTo>
                  <a:pt x="21815" y="9570"/>
                  <a:pt x="21819" y="9576"/>
                  <a:pt x="21822" y="9582"/>
                </a:cubicBezTo>
                <a:cubicBezTo>
                  <a:pt x="21870" y="9577"/>
                  <a:pt x="21895" y="9544"/>
                  <a:pt x="21924" y="9503"/>
                </a:cubicBezTo>
                <a:cubicBezTo>
                  <a:pt x="21965" y="9445"/>
                  <a:pt x="21997" y="9380"/>
                  <a:pt x="22031" y="9318"/>
                </a:cubicBezTo>
                <a:cubicBezTo>
                  <a:pt x="22046" y="9290"/>
                  <a:pt x="22051" y="9282"/>
                  <a:pt x="22060" y="9264"/>
                </a:cubicBezTo>
                <a:cubicBezTo>
                  <a:pt x="22062" y="9299"/>
                  <a:pt x="22052" y="9355"/>
                  <a:pt x="22038" y="9402"/>
                </a:cubicBezTo>
                <a:cubicBezTo>
                  <a:pt x="21985" y="9581"/>
                  <a:pt x="21917" y="9756"/>
                  <a:pt x="21833" y="9923"/>
                </a:cubicBezTo>
                <a:cubicBezTo>
                  <a:pt x="21800" y="9988"/>
                  <a:pt x="21762" y="10063"/>
                  <a:pt x="21709" y="10114"/>
                </a:cubicBezTo>
                <a:cubicBezTo>
                  <a:pt x="21694" y="10124"/>
                  <a:pt x="21691" y="10128"/>
                  <a:pt x="21680" y="10121"/>
                </a:cubicBezTo>
              </a:path>
              <a:path w="2193" h="1392">
                <a:moveTo>
                  <a:pt x="22498" y="9336"/>
                </a:moveTo>
                <a:cubicBezTo>
                  <a:pt x="22492" y="9303"/>
                  <a:pt x="22478" y="9293"/>
                  <a:pt x="22446" y="9282"/>
                </a:cubicBezTo>
                <a:cubicBezTo>
                  <a:pt x="22403" y="9267"/>
                  <a:pt x="22363" y="9272"/>
                  <a:pt x="22318" y="9277"/>
                </a:cubicBezTo>
                <a:cubicBezTo>
                  <a:pt x="22295" y="9280"/>
                  <a:pt x="22290" y="9280"/>
                  <a:pt x="22276" y="9283"/>
                </a:cubicBezTo>
                <a:cubicBezTo>
                  <a:pt x="22301" y="9305"/>
                  <a:pt x="22333" y="9311"/>
                  <a:pt x="22359" y="9334"/>
                </a:cubicBezTo>
                <a:cubicBezTo>
                  <a:pt x="22394" y="9365"/>
                  <a:pt x="22413" y="9408"/>
                  <a:pt x="22409" y="9455"/>
                </a:cubicBezTo>
                <a:cubicBezTo>
                  <a:pt x="22405" y="9505"/>
                  <a:pt x="22379" y="9528"/>
                  <a:pt x="22343" y="9556"/>
                </a:cubicBezTo>
                <a:cubicBezTo>
                  <a:pt x="22329" y="9567"/>
                  <a:pt x="22287" y="9593"/>
                  <a:pt x="22281" y="9556"/>
                </a:cubicBezTo>
                <a:cubicBezTo>
                  <a:pt x="22282" y="9549"/>
                  <a:pt x="22282" y="9542"/>
                  <a:pt x="22283" y="953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8258040" y="3209760"/>
            <a:ext cx="392400" cy="263520"/>
          </a:xfrm>
          <a:custGeom>
            <a:avLst/>
            <a:gdLst/>
            <a:ahLst/>
            <a:rect l="l" t="t" r="r" b="b"/>
            <a:pathLst>
              <a:path w="1090" h="730">
                <a:moveTo>
                  <a:pt x="23108" y="9405"/>
                </a:moveTo>
                <a:cubicBezTo>
                  <a:pt x="23094" y="9403"/>
                  <a:pt x="23060" y="9397"/>
                  <a:pt x="23047" y="9408"/>
                </a:cubicBezTo>
                <a:cubicBezTo>
                  <a:pt x="23046" y="9411"/>
                  <a:pt x="23046" y="9414"/>
                  <a:pt x="23045" y="9417"/>
                </a:cubicBezTo>
                <a:cubicBezTo>
                  <a:pt x="23077" y="9411"/>
                  <a:pt x="23108" y="9398"/>
                  <a:pt x="23132" y="9375"/>
                </a:cubicBezTo>
                <a:cubicBezTo>
                  <a:pt x="23161" y="9347"/>
                  <a:pt x="23180" y="9308"/>
                  <a:pt x="23175" y="9268"/>
                </a:cubicBezTo>
                <a:cubicBezTo>
                  <a:pt x="23170" y="9227"/>
                  <a:pt x="23128" y="9212"/>
                  <a:pt x="23091" y="9221"/>
                </a:cubicBezTo>
                <a:cubicBezTo>
                  <a:pt x="23040" y="9233"/>
                  <a:pt x="22999" y="9272"/>
                  <a:pt x="22970" y="9313"/>
                </a:cubicBezTo>
                <a:cubicBezTo>
                  <a:pt x="22944" y="9350"/>
                  <a:pt x="22926" y="9401"/>
                  <a:pt x="22949" y="9445"/>
                </a:cubicBezTo>
                <a:cubicBezTo>
                  <a:pt x="22971" y="9488"/>
                  <a:pt x="23029" y="9497"/>
                  <a:pt x="23072" y="9497"/>
                </a:cubicBezTo>
                <a:cubicBezTo>
                  <a:pt x="23116" y="9497"/>
                  <a:pt x="23154" y="9486"/>
                  <a:pt x="23195" y="9474"/>
                </a:cubicBezTo>
              </a:path>
              <a:path w="1090" h="730">
                <a:moveTo>
                  <a:pt x="23315" y="9346"/>
                </a:moveTo>
                <a:cubicBezTo>
                  <a:pt x="23295" y="9371"/>
                  <a:pt x="23289" y="9402"/>
                  <a:pt x="23296" y="9436"/>
                </a:cubicBezTo>
                <a:cubicBezTo>
                  <a:pt x="23307" y="9489"/>
                  <a:pt x="23327" y="9544"/>
                  <a:pt x="23361" y="9587"/>
                </a:cubicBezTo>
                <a:cubicBezTo>
                  <a:pt x="23382" y="9613"/>
                  <a:pt x="23413" y="9624"/>
                  <a:pt x="23438" y="9600"/>
                </a:cubicBezTo>
                <a:cubicBezTo>
                  <a:pt x="23443" y="9594"/>
                  <a:pt x="23447" y="9588"/>
                  <a:pt x="23452" y="9582"/>
                </a:cubicBezTo>
              </a:path>
              <a:path w="1090" h="730">
                <a:moveTo>
                  <a:pt x="23480" y="9296"/>
                </a:moveTo>
                <a:cubicBezTo>
                  <a:pt x="23449" y="9325"/>
                  <a:pt x="23431" y="9356"/>
                  <a:pt x="23406" y="9391"/>
                </a:cubicBezTo>
                <a:cubicBezTo>
                  <a:pt x="23368" y="9444"/>
                  <a:pt x="23329" y="9504"/>
                  <a:pt x="23302" y="9564"/>
                </a:cubicBezTo>
                <a:cubicBezTo>
                  <a:pt x="23287" y="9598"/>
                  <a:pt x="23280" y="9617"/>
                  <a:pt x="23258" y="9646"/>
                </a:cubicBezTo>
              </a:path>
              <a:path w="1090" h="730">
                <a:moveTo>
                  <a:pt x="23582" y="9412"/>
                </a:moveTo>
                <a:cubicBezTo>
                  <a:pt x="23588" y="9455"/>
                  <a:pt x="23586" y="9495"/>
                  <a:pt x="23581" y="9538"/>
                </a:cubicBezTo>
                <a:cubicBezTo>
                  <a:pt x="23578" y="9568"/>
                  <a:pt x="23576" y="9607"/>
                  <a:pt x="23547" y="9611"/>
                </a:cubicBezTo>
              </a:path>
              <a:path w="1090" h="730">
                <a:moveTo>
                  <a:pt x="23780" y="9276"/>
                </a:moveTo>
                <a:cubicBezTo>
                  <a:pt x="23756" y="9306"/>
                  <a:pt x="23733" y="9329"/>
                  <a:pt x="23703" y="9351"/>
                </a:cubicBezTo>
                <a:cubicBezTo>
                  <a:pt x="23683" y="9366"/>
                  <a:pt x="23667" y="9375"/>
                  <a:pt x="23645" y="9386"/>
                </a:cubicBezTo>
                <a:cubicBezTo>
                  <a:pt x="23676" y="9374"/>
                  <a:pt x="23703" y="9367"/>
                  <a:pt x="23737" y="9368"/>
                </a:cubicBezTo>
                <a:cubicBezTo>
                  <a:pt x="23772" y="9369"/>
                  <a:pt x="23801" y="9382"/>
                  <a:pt x="23818" y="9413"/>
                </a:cubicBezTo>
                <a:cubicBezTo>
                  <a:pt x="23836" y="9445"/>
                  <a:pt x="23821" y="9478"/>
                  <a:pt x="23800" y="9505"/>
                </a:cubicBezTo>
                <a:cubicBezTo>
                  <a:pt x="23783" y="9527"/>
                  <a:pt x="23761" y="9543"/>
                  <a:pt x="23736" y="9551"/>
                </a:cubicBezTo>
                <a:cubicBezTo>
                  <a:pt x="23722" y="9529"/>
                  <a:pt x="23725" y="9526"/>
                  <a:pt x="23728" y="9498"/>
                </a:cubicBezTo>
              </a:path>
              <a:path w="1090" h="730">
                <a:moveTo>
                  <a:pt x="23992" y="8917"/>
                </a:moveTo>
                <a:cubicBezTo>
                  <a:pt x="24001" y="8999"/>
                  <a:pt x="23995" y="9076"/>
                  <a:pt x="23997" y="9160"/>
                </a:cubicBezTo>
                <a:cubicBezTo>
                  <a:pt x="23999" y="9233"/>
                  <a:pt x="24005" y="9295"/>
                  <a:pt x="24029" y="936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2828880" y="4054320"/>
            <a:ext cx="44640" cy="117720"/>
          </a:xfrm>
          <a:custGeom>
            <a:avLst/>
            <a:gdLst/>
            <a:ahLst/>
            <a:rect l="l" t="t" r="r" b="b"/>
            <a:pathLst>
              <a:path w="125" h="325">
                <a:moveTo>
                  <a:pt x="7857" y="11588"/>
                </a:moveTo>
                <a:cubicBezTo>
                  <a:pt x="7863" y="11572"/>
                  <a:pt x="7869" y="11557"/>
                  <a:pt x="7877" y="11542"/>
                </a:cubicBezTo>
                <a:cubicBezTo>
                  <a:pt x="7895" y="11511"/>
                  <a:pt x="7910" y="11476"/>
                  <a:pt x="7922" y="11443"/>
                </a:cubicBezTo>
                <a:cubicBezTo>
                  <a:pt x="7940" y="11394"/>
                  <a:pt x="7948" y="11338"/>
                  <a:pt x="7967" y="11290"/>
                </a:cubicBezTo>
                <a:cubicBezTo>
                  <a:pt x="7976" y="11277"/>
                  <a:pt x="7978" y="11274"/>
                  <a:pt x="7981" y="1126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186000" y="4040280"/>
            <a:ext cx="49320" cy="166680"/>
          </a:xfrm>
          <a:custGeom>
            <a:avLst/>
            <a:gdLst/>
            <a:ahLst/>
            <a:rect l="l" t="t" r="r" b="b"/>
            <a:pathLst>
              <a:path w="136" h="461">
                <a:moveTo>
                  <a:pt x="8852" y="11670"/>
                </a:moveTo>
                <a:cubicBezTo>
                  <a:pt x="8853" y="11674"/>
                  <a:pt x="8853" y="11679"/>
                  <a:pt x="8854" y="11683"/>
                </a:cubicBezTo>
                <a:cubicBezTo>
                  <a:pt x="8872" y="11655"/>
                  <a:pt x="8874" y="11626"/>
                  <a:pt x="8884" y="11593"/>
                </a:cubicBezTo>
                <a:cubicBezTo>
                  <a:pt x="8903" y="11532"/>
                  <a:pt x="8920" y="11470"/>
                  <a:pt x="8937" y="11408"/>
                </a:cubicBezTo>
                <a:cubicBezTo>
                  <a:pt x="8951" y="11358"/>
                  <a:pt x="8963" y="11307"/>
                  <a:pt x="8979" y="11257"/>
                </a:cubicBezTo>
                <a:cubicBezTo>
                  <a:pt x="8985" y="11240"/>
                  <a:pt x="8988" y="11235"/>
                  <a:pt x="8987" y="1122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5084640" y="4230720"/>
            <a:ext cx="2451240" cy="74520"/>
          </a:xfrm>
          <a:custGeom>
            <a:avLst/>
            <a:gdLst/>
            <a:ahLst/>
            <a:rect l="l" t="t" r="r" b="b"/>
            <a:pathLst>
              <a:path w="6808" h="206">
                <a:moveTo>
                  <a:pt x="14132" y="11890"/>
                </a:moveTo>
                <a:cubicBezTo>
                  <a:pt x="14151" y="11885"/>
                  <a:pt x="14153" y="11878"/>
                  <a:pt x="14172" y="11876"/>
                </a:cubicBezTo>
                <a:cubicBezTo>
                  <a:pt x="14309" y="11859"/>
                  <a:pt x="14447" y="11846"/>
                  <a:pt x="14585" y="11826"/>
                </a:cubicBezTo>
                <a:cubicBezTo>
                  <a:pt x="14729" y="11805"/>
                  <a:pt x="14873" y="11781"/>
                  <a:pt x="15018" y="11768"/>
                </a:cubicBezTo>
                <a:cubicBezTo>
                  <a:pt x="15459" y="11728"/>
                  <a:pt x="15906" y="11764"/>
                  <a:pt x="16348" y="11772"/>
                </a:cubicBezTo>
                <a:cubicBezTo>
                  <a:pt x="16557" y="11776"/>
                  <a:pt x="16767" y="11787"/>
                  <a:pt x="16975" y="11788"/>
                </a:cubicBezTo>
                <a:cubicBezTo>
                  <a:pt x="17082" y="11788"/>
                  <a:pt x="17188" y="11768"/>
                  <a:pt x="17294" y="11777"/>
                </a:cubicBezTo>
                <a:cubicBezTo>
                  <a:pt x="17378" y="11784"/>
                  <a:pt x="17460" y="11805"/>
                  <a:pt x="17542" y="11822"/>
                </a:cubicBezTo>
                <a:cubicBezTo>
                  <a:pt x="17563" y="11826"/>
                  <a:pt x="17569" y="11827"/>
                  <a:pt x="17582" y="11829"/>
                </a:cubicBezTo>
              </a:path>
              <a:path w="6808" h="206">
                <a:moveTo>
                  <a:pt x="17481" y="11885"/>
                </a:moveTo>
                <a:cubicBezTo>
                  <a:pt x="17492" y="11868"/>
                  <a:pt x="17496" y="11853"/>
                  <a:pt x="17516" y="11848"/>
                </a:cubicBezTo>
                <a:cubicBezTo>
                  <a:pt x="17547" y="11841"/>
                  <a:pt x="17585" y="11854"/>
                  <a:pt x="17616" y="11857"/>
                </a:cubicBezTo>
                <a:cubicBezTo>
                  <a:pt x="17701" y="11867"/>
                  <a:pt x="17785" y="11877"/>
                  <a:pt x="17870" y="11884"/>
                </a:cubicBezTo>
                <a:cubicBezTo>
                  <a:pt x="18003" y="11895"/>
                  <a:pt x="18136" y="11903"/>
                  <a:pt x="18269" y="11913"/>
                </a:cubicBezTo>
                <a:cubicBezTo>
                  <a:pt x="18286" y="11914"/>
                  <a:pt x="18361" y="11910"/>
                  <a:pt x="18368" y="11936"/>
                </a:cubicBezTo>
                <a:cubicBezTo>
                  <a:pt x="18373" y="11949"/>
                  <a:pt x="18375" y="11953"/>
                  <a:pt x="18364" y="11956"/>
                </a:cubicBezTo>
              </a:path>
              <a:path w="6808" h="206">
                <a:moveTo>
                  <a:pt x="18953" y="11867"/>
                </a:moveTo>
                <a:cubicBezTo>
                  <a:pt x="18975" y="11868"/>
                  <a:pt x="18982" y="11873"/>
                  <a:pt x="19004" y="11871"/>
                </a:cubicBezTo>
                <a:cubicBezTo>
                  <a:pt x="19072" y="11866"/>
                  <a:pt x="19140" y="11863"/>
                  <a:pt x="19208" y="11861"/>
                </a:cubicBezTo>
                <a:cubicBezTo>
                  <a:pt x="19347" y="11858"/>
                  <a:pt x="19485" y="11864"/>
                  <a:pt x="19624" y="11871"/>
                </a:cubicBezTo>
                <a:cubicBezTo>
                  <a:pt x="19815" y="11881"/>
                  <a:pt x="20005" y="11897"/>
                  <a:pt x="20196" y="11912"/>
                </a:cubicBezTo>
                <a:cubicBezTo>
                  <a:pt x="20405" y="11928"/>
                  <a:pt x="20696" y="11998"/>
                  <a:pt x="20904" y="11945"/>
                </a:cubicBezTo>
                <a:cubicBezTo>
                  <a:pt x="20956" y="11932"/>
                  <a:pt x="20907" y="11941"/>
                  <a:pt x="20913" y="1191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8226360" y="4421160"/>
            <a:ext cx="60480" cy="157320"/>
          </a:xfrm>
          <a:custGeom>
            <a:avLst/>
            <a:gdLst/>
            <a:ahLst/>
            <a:rect l="l" t="t" r="r" b="b"/>
            <a:pathLst>
              <a:path w="170" h="438">
                <a:moveTo>
                  <a:pt x="23019" y="12289"/>
                </a:moveTo>
                <a:cubicBezTo>
                  <a:pt x="22988" y="12277"/>
                  <a:pt x="22952" y="12281"/>
                  <a:pt x="22926" y="12309"/>
                </a:cubicBezTo>
                <a:cubicBezTo>
                  <a:pt x="22882" y="12358"/>
                  <a:pt x="22864" y="12433"/>
                  <a:pt x="22855" y="12496"/>
                </a:cubicBezTo>
                <a:cubicBezTo>
                  <a:pt x="22846" y="12560"/>
                  <a:pt x="22846" y="12626"/>
                  <a:pt x="22882" y="12681"/>
                </a:cubicBezTo>
                <a:cubicBezTo>
                  <a:pt x="22904" y="12715"/>
                  <a:pt x="22921" y="12713"/>
                  <a:pt x="22957" y="1271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5156280" y="4311720"/>
            <a:ext cx="763560" cy="328680"/>
          </a:xfrm>
          <a:custGeom>
            <a:avLst/>
            <a:gdLst/>
            <a:ahLst/>
            <a:rect l="l" t="t" r="r" b="b"/>
            <a:pathLst>
              <a:path w="2122" h="916">
                <a:moveTo>
                  <a:pt x="14344" y="12671"/>
                </a:moveTo>
                <a:cubicBezTo>
                  <a:pt x="14341" y="12695"/>
                  <a:pt x="14341" y="12716"/>
                  <a:pt x="14332" y="12738"/>
                </a:cubicBezTo>
                <a:cubicBezTo>
                  <a:pt x="14323" y="12694"/>
                  <a:pt x="14325" y="12653"/>
                  <a:pt x="14325" y="12607"/>
                </a:cubicBezTo>
                <a:cubicBezTo>
                  <a:pt x="14324" y="12529"/>
                  <a:pt x="14327" y="12450"/>
                  <a:pt x="14328" y="12372"/>
                </a:cubicBezTo>
                <a:cubicBezTo>
                  <a:pt x="14328" y="12332"/>
                  <a:pt x="14342" y="12257"/>
                  <a:pt x="14327" y="12218"/>
                </a:cubicBezTo>
                <a:cubicBezTo>
                  <a:pt x="14327" y="12223"/>
                  <a:pt x="14326" y="12229"/>
                  <a:pt x="14326" y="12234"/>
                </a:cubicBezTo>
                <a:cubicBezTo>
                  <a:pt x="14329" y="12320"/>
                  <a:pt x="14337" y="12405"/>
                  <a:pt x="14354" y="12490"/>
                </a:cubicBezTo>
                <a:cubicBezTo>
                  <a:pt x="14363" y="12534"/>
                  <a:pt x="14373" y="12618"/>
                  <a:pt x="14418" y="12645"/>
                </a:cubicBezTo>
                <a:cubicBezTo>
                  <a:pt x="14424" y="12646"/>
                  <a:pt x="14431" y="12647"/>
                  <a:pt x="14437" y="12648"/>
                </a:cubicBezTo>
                <a:cubicBezTo>
                  <a:pt x="14476" y="12607"/>
                  <a:pt x="14487" y="12557"/>
                  <a:pt x="14500" y="12501"/>
                </a:cubicBezTo>
                <a:cubicBezTo>
                  <a:pt x="14524" y="12399"/>
                  <a:pt x="14543" y="12296"/>
                  <a:pt x="14557" y="12192"/>
                </a:cubicBezTo>
                <a:cubicBezTo>
                  <a:pt x="14565" y="12134"/>
                  <a:pt x="14561" y="12127"/>
                  <a:pt x="14560" y="12184"/>
                </a:cubicBezTo>
                <a:cubicBezTo>
                  <a:pt x="14560" y="12196"/>
                  <a:pt x="14560" y="12208"/>
                  <a:pt x="14560" y="12220"/>
                </a:cubicBezTo>
              </a:path>
              <a:path w="2122" h="916">
                <a:moveTo>
                  <a:pt x="14695" y="12467"/>
                </a:moveTo>
                <a:cubicBezTo>
                  <a:pt x="14702" y="12439"/>
                  <a:pt x="14715" y="12406"/>
                  <a:pt x="14697" y="12379"/>
                </a:cubicBezTo>
                <a:cubicBezTo>
                  <a:pt x="14692" y="12375"/>
                  <a:pt x="14687" y="12371"/>
                  <a:pt x="14682" y="12367"/>
                </a:cubicBezTo>
                <a:cubicBezTo>
                  <a:pt x="14654" y="12392"/>
                  <a:pt x="14637" y="12420"/>
                  <a:pt x="14626" y="12457"/>
                </a:cubicBezTo>
                <a:cubicBezTo>
                  <a:pt x="14610" y="12510"/>
                  <a:pt x="14604" y="12570"/>
                  <a:pt x="14631" y="12621"/>
                </a:cubicBezTo>
                <a:cubicBezTo>
                  <a:pt x="14658" y="12671"/>
                  <a:pt x="14710" y="12684"/>
                  <a:pt x="14761" y="12671"/>
                </a:cubicBezTo>
                <a:cubicBezTo>
                  <a:pt x="14815" y="12657"/>
                  <a:pt x="14856" y="12616"/>
                  <a:pt x="14878" y="12566"/>
                </a:cubicBezTo>
                <a:cubicBezTo>
                  <a:pt x="14895" y="12527"/>
                  <a:pt x="14892" y="12481"/>
                  <a:pt x="14868" y="12445"/>
                </a:cubicBezTo>
                <a:cubicBezTo>
                  <a:pt x="14852" y="12421"/>
                  <a:pt x="14832" y="12404"/>
                  <a:pt x="14802" y="12406"/>
                </a:cubicBezTo>
                <a:cubicBezTo>
                  <a:pt x="14798" y="12407"/>
                  <a:pt x="14795" y="12408"/>
                  <a:pt x="14791" y="12409"/>
                </a:cubicBezTo>
              </a:path>
              <a:path w="2122" h="916">
                <a:moveTo>
                  <a:pt x="15089" y="12700"/>
                </a:moveTo>
                <a:cubicBezTo>
                  <a:pt x="15068" y="12685"/>
                  <a:pt x="15063" y="12666"/>
                  <a:pt x="15062" y="12638"/>
                </a:cubicBezTo>
                <a:cubicBezTo>
                  <a:pt x="15061" y="12613"/>
                  <a:pt x="15067" y="12587"/>
                  <a:pt x="15073" y="12563"/>
                </a:cubicBezTo>
              </a:path>
              <a:path w="2122" h="916">
                <a:moveTo>
                  <a:pt x="15777" y="12460"/>
                </a:moveTo>
                <a:cubicBezTo>
                  <a:pt x="15783" y="12436"/>
                  <a:pt x="15802" y="12434"/>
                  <a:pt x="15828" y="12424"/>
                </a:cubicBezTo>
                <a:cubicBezTo>
                  <a:pt x="15858" y="12413"/>
                  <a:pt x="15892" y="12417"/>
                  <a:pt x="15924" y="12409"/>
                </a:cubicBezTo>
                <a:cubicBezTo>
                  <a:pt x="15952" y="12402"/>
                  <a:pt x="15962" y="12400"/>
                  <a:pt x="15977" y="12387"/>
                </a:cubicBezTo>
              </a:path>
              <a:path w="2122" h="916">
                <a:moveTo>
                  <a:pt x="16131" y="12194"/>
                </a:moveTo>
                <a:cubicBezTo>
                  <a:pt x="16115" y="12218"/>
                  <a:pt x="16100" y="12252"/>
                  <a:pt x="16099" y="12282"/>
                </a:cubicBezTo>
                <a:cubicBezTo>
                  <a:pt x="16096" y="12352"/>
                  <a:pt x="16110" y="12423"/>
                  <a:pt x="16122" y="12492"/>
                </a:cubicBezTo>
                <a:cubicBezTo>
                  <a:pt x="16129" y="12533"/>
                  <a:pt x="16132" y="12594"/>
                  <a:pt x="16170" y="12618"/>
                </a:cubicBezTo>
              </a:path>
              <a:path w="2122" h="916">
                <a:moveTo>
                  <a:pt x="16445" y="12677"/>
                </a:moveTo>
                <a:cubicBezTo>
                  <a:pt x="16436" y="12710"/>
                  <a:pt x="16425" y="12740"/>
                  <a:pt x="16416" y="12772"/>
                </a:cubicBezTo>
                <a:cubicBezTo>
                  <a:pt x="16406" y="12807"/>
                  <a:pt x="16395" y="12842"/>
                  <a:pt x="16385" y="12876"/>
                </a:cubicBezTo>
                <a:cubicBezTo>
                  <a:pt x="16384" y="12881"/>
                  <a:pt x="16383" y="12885"/>
                  <a:pt x="16382" y="12890"/>
                </a:cubicBezTo>
              </a:path>
              <a:path w="2122" h="916">
                <a:moveTo>
                  <a:pt x="15392" y="12831"/>
                </a:moveTo>
                <a:cubicBezTo>
                  <a:pt x="15400" y="12844"/>
                  <a:pt x="15402" y="12849"/>
                  <a:pt x="15403" y="12859"/>
                </a:cubicBezTo>
                <a:cubicBezTo>
                  <a:pt x="15403" y="12822"/>
                  <a:pt x="15398" y="12789"/>
                  <a:pt x="15391" y="12752"/>
                </a:cubicBezTo>
                <a:cubicBezTo>
                  <a:pt x="15374" y="12660"/>
                  <a:pt x="15354" y="12568"/>
                  <a:pt x="15337" y="12476"/>
                </a:cubicBezTo>
                <a:cubicBezTo>
                  <a:pt x="15325" y="12407"/>
                  <a:pt x="15307" y="12332"/>
                  <a:pt x="15314" y="12261"/>
                </a:cubicBezTo>
                <a:cubicBezTo>
                  <a:pt x="15319" y="12214"/>
                  <a:pt x="15341" y="12185"/>
                  <a:pt x="15389" y="12187"/>
                </a:cubicBezTo>
                <a:cubicBezTo>
                  <a:pt x="15434" y="12188"/>
                  <a:pt x="15488" y="12213"/>
                  <a:pt x="15524" y="12240"/>
                </a:cubicBezTo>
                <a:cubicBezTo>
                  <a:pt x="15554" y="12263"/>
                  <a:pt x="15555" y="12278"/>
                  <a:pt x="15560" y="12312"/>
                </a:cubicBezTo>
              </a:path>
              <a:path w="2122" h="916">
                <a:moveTo>
                  <a:pt x="15190" y="12501"/>
                </a:moveTo>
                <a:cubicBezTo>
                  <a:pt x="15199" y="12534"/>
                  <a:pt x="15238" y="12524"/>
                  <a:pt x="15271" y="12522"/>
                </a:cubicBezTo>
                <a:cubicBezTo>
                  <a:pt x="15348" y="12517"/>
                  <a:pt x="15419" y="12508"/>
                  <a:pt x="15493" y="12488"/>
                </a:cubicBezTo>
                <a:cubicBezTo>
                  <a:pt x="15550" y="12471"/>
                  <a:pt x="15569" y="12467"/>
                  <a:pt x="15603" y="12447"/>
                </a:cubicBezTo>
              </a:path>
              <a:path w="2122" h="916">
                <a:moveTo>
                  <a:pt x="15800" y="12055"/>
                </a:moveTo>
                <a:cubicBezTo>
                  <a:pt x="15761" y="12064"/>
                  <a:pt x="15726" y="12095"/>
                  <a:pt x="15706" y="12132"/>
                </a:cubicBezTo>
                <a:cubicBezTo>
                  <a:pt x="15662" y="12217"/>
                  <a:pt x="15641" y="12316"/>
                  <a:pt x="15629" y="12410"/>
                </a:cubicBezTo>
                <a:cubicBezTo>
                  <a:pt x="15618" y="12501"/>
                  <a:pt x="15622" y="12604"/>
                  <a:pt x="15672" y="12684"/>
                </a:cubicBezTo>
                <a:cubicBezTo>
                  <a:pt x="15700" y="12716"/>
                  <a:pt x="15708" y="12727"/>
                  <a:pt x="15736" y="12736"/>
                </a:cubicBezTo>
              </a:path>
              <a:path w="2122" h="916">
                <a:moveTo>
                  <a:pt x="16268" y="11977"/>
                </a:moveTo>
                <a:cubicBezTo>
                  <a:pt x="16298" y="11979"/>
                  <a:pt x="16303" y="11977"/>
                  <a:pt x="16324" y="12006"/>
                </a:cubicBezTo>
                <a:cubicBezTo>
                  <a:pt x="16360" y="12055"/>
                  <a:pt x="16382" y="12118"/>
                  <a:pt x="16395" y="12177"/>
                </a:cubicBezTo>
                <a:cubicBezTo>
                  <a:pt x="16416" y="12269"/>
                  <a:pt x="16423" y="12366"/>
                  <a:pt x="16419" y="12460"/>
                </a:cubicBezTo>
                <a:cubicBezTo>
                  <a:pt x="16415" y="12553"/>
                  <a:pt x="16403" y="12653"/>
                  <a:pt x="16379" y="12742"/>
                </a:cubicBezTo>
                <a:cubicBezTo>
                  <a:pt x="16367" y="12787"/>
                  <a:pt x="16368" y="12766"/>
                  <a:pt x="16344" y="1277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6037200" y="4359240"/>
            <a:ext cx="614520" cy="244440"/>
          </a:xfrm>
          <a:custGeom>
            <a:avLst/>
            <a:gdLst/>
            <a:ahLst/>
            <a:rect l="l" t="t" r="r" b="b"/>
            <a:pathLst>
              <a:path w="1708" h="679">
                <a:moveTo>
                  <a:pt x="16768" y="12438"/>
                </a:moveTo>
                <a:cubicBezTo>
                  <a:pt x="16779" y="12409"/>
                  <a:pt x="16815" y="12404"/>
                  <a:pt x="16850" y="12394"/>
                </a:cubicBezTo>
                <a:cubicBezTo>
                  <a:pt x="16916" y="12374"/>
                  <a:pt x="16984" y="12357"/>
                  <a:pt x="17050" y="12337"/>
                </a:cubicBezTo>
                <a:cubicBezTo>
                  <a:pt x="17086" y="12324"/>
                  <a:pt x="17096" y="12320"/>
                  <a:pt x="17120" y="12316"/>
                </a:cubicBezTo>
              </a:path>
              <a:path w="1708" h="679">
                <a:moveTo>
                  <a:pt x="16883" y="12559"/>
                </a:moveTo>
                <a:cubicBezTo>
                  <a:pt x="16870" y="12580"/>
                  <a:pt x="16865" y="12584"/>
                  <a:pt x="16864" y="12599"/>
                </a:cubicBezTo>
                <a:cubicBezTo>
                  <a:pt x="16920" y="12600"/>
                  <a:pt x="16971" y="12585"/>
                  <a:pt x="17025" y="12569"/>
                </a:cubicBezTo>
                <a:cubicBezTo>
                  <a:pt x="17081" y="12551"/>
                  <a:pt x="17101" y="12545"/>
                  <a:pt x="17139" y="12533"/>
                </a:cubicBezTo>
              </a:path>
              <a:path w="1708" h="679">
                <a:moveTo>
                  <a:pt x="17559" y="12749"/>
                </a:moveTo>
                <a:cubicBezTo>
                  <a:pt x="17536" y="12759"/>
                  <a:pt x="17532" y="12772"/>
                  <a:pt x="17518" y="12729"/>
                </a:cubicBezTo>
                <a:cubicBezTo>
                  <a:pt x="17503" y="12683"/>
                  <a:pt x="17502" y="12630"/>
                  <a:pt x="17501" y="12582"/>
                </a:cubicBezTo>
                <a:cubicBezTo>
                  <a:pt x="17500" y="12466"/>
                  <a:pt x="17507" y="12347"/>
                  <a:pt x="17531" y="12233"/>
                </a:cubicBezTo>
                <a:cubicBezTo>
                  <a:pt x="17539" y="12194"/>
                  <a:pt x="17557" y="12121"/>
                  <a:pt x="17606" y="12111"/>
                </a:cubicBezTo>
                <a:cubicBezTo>
                  <a:pt x="17645" y="12103"/>
                  <a:pt x="17689" y="12140"/>
                  <a:pt x="17711" y="12167"/>
                </a:cubicBezTo>
                <a:cubicBezTo>
                  <a:pt x="17748" y="12211"/>
                  <a:pt x="17742" y="12239"/>
                  <a:pt x="17722" y="12288"/>
                </a:cubicBezTo>
              </a:path>
              <a:path w="1708" h="679">
                <a:moveTo>
                  <a:pt x="17380" y="12509"/>
                </a:moveTo>
                <a:cubicBezTo>
                  <a:pt x="17352" y="12524"/>
                  <a:pt x="17335" y="12526"/>
                  <a:pt x="17332" y="12546"/>
                </a:cubicBezTo>
                <a:cubicBezTo>
                  <a:pt x="17391" y="12541"/>
                  <a:pt x="17448" y="12544"/>
                  <a:pt x="17507" y="12538"/>
                </a:cubicBezTo>
                <a:cubicBezTo>
                  <a:pt x="17571" y="12532"/>
                  <a:pt x="17632" y="12521"/>
                  <a:pt x="17694" y="12508"/>
                </a:cubicBezTo>
              </a:path>
              <a:path w="1708" h="679">
                <a:moveTo>
                  <a:pt x="18042" y="12270"/>
                </a:moveTo>
                <a:cubicBezTo>
                  <a:pt x="18004" y="12310"/>
                  <a:pt x="17977" y="12347"/>
                  <a:pt x="17947" y="12393"/>
                </a:cubicBezTo>
                <a:cubicBezTo>
                  <a:pt x="17905" y="12458"/>
                  <a:pt x="17868" y="12531"/>
                  <a:pt x="17865" y="12611"/>
                </a:cubicBezTo>
                <a:cubicBezTo>
                  <a:pt x="17863" y="12677"/>
                  <a:pt x="17886" y="12730"/>
                  <a:pt x="17952" y="12751"/>
                </a:cubicBezTo>
                <a:cubicBezTo>
                  <a:pt x="17998" y="12757"/>
                  <a:pt x="18013" y="12759"/>
                  <a:pt x="18044" y="12751"/>
                </a:cubicBezTo>
              </a:path>
              <a:path w="1708" h="679">
                <a:moveTo>
                  <a:pt x="18256" y="12393"/>
                </a:moveTo>
                <a:cubicBezTo>
                  <a:pt x="18234" y="12427"/>
                  <a:pt x="18239" y="12466"/>
                  <a:pt x="18239" y="12508"/>
                </a:cubicBezTo>
                <a:cubicBezTo>
                  <a:pt x="18239" y="12588"/>
                  <a:pt x="18237" y="12671"/>
                  <a:pt x="18257" y="12749"/>
                </a:cubicBezTo>
                <a:cubicBezTo>
                  <a:pt x="18265" y="12781"/>
                  <a:pt x="18264" y="12783"/>
                  <a:pt x="18291" y="12789"/>
                </a:cubicBezTo>
              </a:path>
              <a:path w="1708" h="679">
                <a:moveTo>
                  <a:pt x="18415" y="12394"/>
                </a:moveTo>
                <a:cubicBezTo>
                  <a:pt x="18433" y="12379"/>
                  <a:pt x="18435" y="12426"/>
                  <a:pt x="18440" y="12457"/>
                </a:cubicBezTo>
                <a:cubicBezTo>
                  <a:pt x="18449" y="12511"/>
                  <a:pt x="18455" y="12566"/>
                  <a:pt x="18463" y="12620"/>
                </a:cubicBezTo>
                <a:cubicBezTo>
                  <a:pt x="18469" y="12660"/>
                  <a:pt x="18474" y="12698"/>
                  <a:pt x="18475" y="12739"/>
                </a:cubicBezTo>
              </a:path>
              <a:path w="1708" h="679">
                <a:moveTo>
                  <a:pt x="18358" y="12270"/>
                </a:moveTo>
                <a:cubicBezTo>
                  <a:pt x="18377" y="12243"/>
                  <a:pt x="18393" y="12253"/>
                  <a:pt x="18408" y="12285"/>
                </a:cubicBezTo>
                <a:cubicBezTo>
                  <a:pt x="18432" y="12336"/>
                  <a:pt x="18439" y="12407"/>
                  <a:pt x="18445" y="12462"/>
                </a:cubicBezTo>
                <a:cubicBezTo>
                  <a:pt x="18453" y="12539"/>
                  <a:pt x="18453" y="12613"/>
                  <a:pt x="18442" y="12689"/>
                </a:cubicBezTo>
                <a:cubicBezTo>
                  <a:pt x="18435" y="12736"/>
                  <a:pt x="18433" y="12764"/>
                  <a:pt x="18390" y="1278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7229520" y="4406760"/>
            <a:ext cx="293760" cy="228600"/>
          </a:xfrm>
          <a:custGeom>
            <a:avLst/>
            <a:gdLst/>
            <a:ahLst/>
            <a:rect l="l" t="t" r="r" b="b"/>
            <a:pathLst>
              <a:path w="817" h="636">
                <a:moveTo>
                  <a:pt x="20084" y="12877"/>
                </a:moveTo>
                <a:cubicBezTo>
                  <a:pt x="20097" y="12855"/>
                  <a:pt x="20093" y="12837"/>
                  <a:pt x="20094" y="12810"/>
                </a:cubicBezTo>
                <a:cubicBezTo>
                  <a:pt x="20096" y="12764"/>
                  <a:pt x="20095" y="12719"/>
                  <a:pt x="20095" y="12673"/>
                </a:cubicBezTo>
                <a:cubicBezTo>
                  <a:pt x="20095" y="12608"/>
                  <a:pt x="20093" y="12542"/>
                  <a:pt x="20092" y="12477"/>
                </a:cubicBezTo>
                <a:cubicBezTo>
                  <a:pt x="20091" y="12418"/>
                  <a:pt x="20088" y="12358"/>
                  <a:pt x="20086" y="12299"/>
                </a:cubicBezTo>
                <a:cubicBezTo>
                  <a:pt x="20085" y="12273"/>
                  <a:pt x="20085" y="12267"/>
                  <a:pt x="20082" y="12251"/>
                </a:cubicBezTo>
                <a:cubicBezTo>
                  <a:pt x="20080" y="12306"/>
                  <a:pt x="20085" y="12359"/>
                  <a:pt x="20093" y="12414"/>
                </a:cubicBezTo>
                <a:cubicBezTo>
                  <a:pt x="20105" y="12498"/>
                  <a:pt x="20122" y="12581"/>
                  <a:pt x="20151" y="12661"/>
                </a:cubicBezTo>
                <a:cubicBezTo>
                  <a:pt x="20165" y="12700"/>
                  <a:pt x="20188" y="12772"/>
                  <a:pt x="20232" y="12789"/>
                </a:cubicBezTo>
                <a:cubicBezTo>
                  <a:pt x="20239" y="12789"/>
                  <a:pt x="20245" y="12790"/>
                  <a:pt x="20252" y="12790"/>
                </a:cubicBezTo>
                <a:cubicBezTo>
                  <a:pt x="20284" y="12759"/>
                  <a:pt x="20297" y="12725"/>
                  <a:pt x="20308" y="12681"/>
                </a:cubicBezTo>
                <a:cubicBezTo>
                  <a:pt x="20325" y="12612"/>
                  <a:pt x="20333" y="12539"/>
                  <a:pt x="20339" y="12468"/>
                </a:cubicBezTo>
                <a:cubicBezTo>
                  <a:pt x="20344" y="12409"/>
                  <a:pt x="20346" y="12346"/>
                  <a:pt x="20337" y="12287"/>
                </a:cubicBezTo>
                <a:cubicBezTo>
                  <a:pt x="20334" y="12270"/>
                  <a:pt x="20334" y="12222"/>
                  <a:pt x="20323" y="12260"/>
                </a:cubicBezTo>
              </a:path>
              <a:path w="817" h="636">
                <a:moveTo>
                  <a:pt x="20557" y="12538"/>
                </a:moveTo>
                <a:cubicBezTo>
                  <a:pt x="20548" y="12519"/>
                  <a:pt x="20546" y="12516"/>
                  <a:pt x="20528" y="12506"/>
                </a:cubicBezTo>
                <a:cubicBezTo>
                  <a:pt x="20498" y="12533"/>
                  <a:pt x="20479" y="12558"/>
                  <a:pt x="20464" y="12596"/>
                </a:cubicBezTo>
                <a:cubicBezTo>
                  <a:pt x="20449" y="12635"/>
                  <a:pt x="20438" y="12688"/>
                  <a:pt x="20454" y="12729"/>
                </a:cubicBezTo>
                <a:cubicBezTo>
                  <a:pt x="20470" y="12769"/>
                  <a:pt x="20514" y="12770"/>
                  <a:pt x="20548" y="12757"/>
                </a:cubicBezTo>
                <a:cubicBezTo>
                  <a:pt x="20608" y="12734"/>
                  <a:pt x="20663" y="12674"/>
                  <a:pt x="20687" y="12615"/>
                </a:cubicBezTo>
                <a:cubicBezTo>
                  <a:pt x="20697" y="12589"/>
                  <a:pt x="20708" y="12545"/>
                  <a:pt x="20684" y="12522"/>
                </a:cubicBezTo>
                <a:cubicBezTo>
                  <a:pt x="20663" y="12502"/>
                  <a:pt x="20628" y="12513"/>
                  <a:pt x="20604" y="12516"/>
                </a:cubicBezTo>
              </a:path>
              <a:path w="817" h="636">
                <a:moveTo>
                  <a:pt x="20895" y="12857"/>
                </a:moveTo>
                <a:cubicBezTo>
                  <a:pt x="20896" y="12837"/>
                  <a:pt x="20893" y="12818"/>
                  <a:pt x="20892" y="12798"/>
                </a:cubicBezTo>
                <a:cubicBezTo>
                  <a:pt x="20892" y="12781"/>
                  <a:pt x="20892" y="12777"/>
                  <a:pt x="20888" y="1276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7772400" y="4497480"/>
            <a:ext cx="195120" cy="150840"/>
          </a:xfrm>
          <a:custGeom>
            <a:avLst/>
            <a:gdLst/>
            <a:ahLst/>
            <a:rect l="l" t="t" r="r" b="b"/>
            <a:pathLst>
              <a:path w="544" h="419">
                <a:moveTo>
                  <a:pt x="21632" y="12509"/>
                </a:moveTo>
                <a:cubicBezTo>
                  <a:pt x="21619" y="12500"/>
                  <a:pt x="21597" y="12517"/>
                  <a:pt x="21589" y="12503"/>
                </a:cubicBezTo>
                <a:cubicBezTo>
                  <a:pt x="21590" y="12499"/>
                  <a:pt x="21591" y="12496"/>
                  <a:pt x="21592" y="12492"/>
                </a:cubicBezTo>
              </a:path>
              <a:path w="544" h="419">
                <a:moveTo>
                  <a:pt x="21636" y="12538"/>
                </a:moveTo>
                <a:cubicBezTo>
                  <a:pt x="21634" y="12542"/>
                  <a:pt x="21632" y="12545"/>
                  <a:pt x="21630" y="12549"/>
                </a:cubicBezTo>
                <a:cubicBezTo>
                  <a:pt x="21648" y="12544"/>
                  <a:pt x="21662" y="12543"/>
                  <a:pt x="21680" y="12545"/>
                </a:cubicBezTo>
                <a:cubicBezTo>
                  <a:pt x="21704" y="12548"/>
                  <a:pt x="21727" y="12554"/>
                  <a:pt x="21751" y="12557"/>
                </a:cubicBezTo>
                <a:cubicBezTo>
                  <a:pt x="21777" y="12561"/>
                  <a:pt x="21803" y="12565"/>
                  <a:pt x="21829" y="12568"/>
                </a:cubicBezTo>
                <a:cubicBezTo>
                  <a:pt x="21850" y="12571"/>
                  <a:pt x="21868" y="12571"/>
                  <a:pt x="21854" y="12553"/>
                </a:cubicBezTo>
              </a:path>
              <a:path w="544" h="419">
                <a:moveTo>
                  <a:pt x="21642" y="12590"/>
                </a:moveTo>
                <a:cubicBezTo>
                  <a:pt x="21611" y="12615"/>
                  <a:pt x="21605" y="12632"/>
                  <a:pt x="21600" y="12671"/>
                </a:cubicBezTo>
                <a:cubicBezTo>
                  <a:pt x="21594" y="12718"/>
                  <a:pt x="21598" y="12766"/>
                  <a:pt x="21605" y="12813"/>
                </a:cubicBezTo>
                <a:cubicBezTo>
                  <a:pt x="21610" y="12846"/>
                  <a:pt x="21613" y="12880"/>
                  <a:pt x="21628" y="12910"/>
                </a:cubicBezTo>
                <a:cubicBezTo>
                  <a:pt x="21647" y="12874"/>
                  <a:pt x="21645" y="12839"/>
                  <a:pt x="21653" y="12799"/>
                </a:cubicBezTo>
                <a:cubicBezTo>
                  <a:pt x="21664" y="12739"/>
                  <a:pt x="21679" y="12677"/>
                  <a:pt x="21695" y="12618"/>
                </a:cubicBezTo>
                <a:cubicBezTo>
                  <a:pt x="21703" y="12590"/>
                  <a:pt x="21708" y="12576"/>
                  <a:pt x="21727" y="12557"/>
                </a:cubicBezTo>
                <a:cubicBezTo>
                  <a:pt x="21749" y="12582"/>
                  <a:pt x="21752" y="12619"/>
                  <a:pt x="21758" y="12652"/>
                </a:cubicBezTo>
                <a:cubicBezTo>
                  <a:pt x="21768" y="12709"/>
                  <a:pt x="21775" y="12768"/>
                  <a:pt x="21791" y="12823"/>
                </a:cubicBezTo>
                <a:cubicBezTo>
                  <a:pt x="21799" y="12849"/>
                  <a:pt x="21807" y="12859"/>
                  <a:pt x="21828" y="12873"/>
                </a:cubicBezTo>
              </a:path>
              <a:path w="544" h="419">
                <a:moveTo>
                  <a:pt x="22050" y="12640"/>
                </a:moveTo>
                <a:cubicBezTo>
                  <a:pt x="22029" y="12633"/>
                  <a:pt x="22001" y="12653"/>
                  <a:pt x="21985" y="12674"/>
                </a:cubicBezTo>
                <a:cubicBezTo>
                  <a:pt x="21961" y="12706"/>
                  <a:pt x="21941" y="12756"/>
                  <a:pt x="21937" y="12795"/>
                </a:cubicBezTo>
                <a:cubicBezTo>
                  <a:pt x="21934" y="12829"/>
                  <a:pt x="21951" y="12859"/>
                  <a:pt x="21989" y="12856"/>
                </a:cubicBezTo>
                <a:cubicBezTo>
                  <a:pt x="22029" y="12853"/>
                  <a:pt x="22067" y="12813"/>
                  <a:pt x="22090" y="12784"/>
                </a:cubicBezTo>
                <a:cubicBezTo>
                  <a:pt x="22112" y="12757"/>
                  <a:pt x="22134" y="12716"/>
                  <a:pt x="22132" y="12680"/>
                </a:cubicBezTo>
                <a:cubicBezTo>
                  <a:pt x="22131" y="12650"/>
                  <a:pt x="22113" y="12633"/>
                  <a:pt x="22092" y="1261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8097840" y="4394160"/>
            <a:ext cx="322200" cy="212760"/>
          </a:xfrm>
          <a:custGeom>
            <a:avLst/>
            <a:gdLst/>
            <a:ahLst/>
            <a:rect l="l" t="t" r="r" b="b"/>
            <a:pathLst>
              <a:path w="895" h="592">
                <a:moveTo>
                  <a:pt x="22756" y="12795"/>
                </a:moveTo>
                <a:cubicBezTo>
                  <a:pt x="22725" y="12783"/>
                  <a:pt x="22710" y="12766"/>
                  <a:pt x="22695" y="12736"/>
                </a:cubicBezTo>
                <a:cubicBezTo>
                  <a:pt x="22665" y="12676"/>
                  <a:pt x="22650" y="12607"/>
                  <a:pt x="22644" y="12540"/>
                </a:cubicBezTo>
                <a:cubicBezTo>
                  <a:pt x="22637" y="12462"/>
                  <a:pt x="22651" y="12378"/>
                  <a:pt x="22682" y="12306"/>
                </a:cubicBezTo>
                <a:cubicBezTo>
                  <a:pt x="22698" y="12270"/>
                  <a:pt x="22736" y="12199"/>
                  <a:pt x="22786" y="12204"/>
                </a:cubicBezTo>
                <a:cubicBezTo>
                  <a:pt x="22829" y="12209"/>
                  <a:pt x="22830" y="12267"/>
                  <a:pt x="22830" y="12296"/>
                </a:cubicBezTo>
                <a:cubicBezTo>
                  <a:pt x="22830" y="12362"/>
                  <a:pt x="22802" y="12402"/>
                  <a:pt x="22767" y="12455"/>
                </a:cubicBezTo>
              </a:path>
              <a:path w="895" h="592">
                <a:moveTo>
                  <a:pt x="22513" y="12614"/>
                </a:moveTo>
                <a:cubicBezTo>
                  <a:pt x="22502" y="12623"/>
                  <a:pt x="22499" y="12625"/>
                  <a:pt x="22494" y="12633"/>
                </a:cubicBezTo>
                <a:cubicBezTo>
                  <a:pt x="22526" y="12646"/>
                  <a:pt x="22563" y="12643"/>
                  <a:pt x="22598" y="12643"/>
                </a:cubicBezTo>
                <a:cubicBezTo>
                  <a:pt x="22670" y="12642"/>
                  <a:pt x="22735" y="12638"/>
                  <a:pt x="22805" y="12624"/>
                </a:cubicBezTo>
                <a:cubicBezTo>
                  <a:pt x="22853" y="12615"/>
                  <a:pt x="22866" y="12613"/>
                  <a:pt x="22894" y="12597"/>
                </a:cubicBezTo>
              </a:path>
              <a:path w="895" h="592">
                <a:moveTo>
                  <a:pt x="23093" y="12552"/>
                </a:moveTo>
                <a:cubicBezTo>
                  <a:pt x="23072" y="12569"/>
                  <a:pt x="23037" y="12596"/>
                  <a:pt x="23025" y="12621"/>
                </a:cubicBezTo>
                <a:cubicBezTo>
                  <a:pt x="23012" y="12646"/>
                  <a:pt x="23006" y="12677"/>
                  <a:pt x="23004" y="12705"/>
                </a:cubicBezTo>
                <a:cubicBezTo>
                  <a:pt x="23036" y="12713"/>
                  <a:pt x="23048" y="12694"/>
                  <a:pt x="23074" y="12671"/>
                </a:cubicBezTo>
                <a:cubicBezTo>
                  <a:pt x="23101" y="12647"/>
                  <a:pt x="23124" y="12619"/>
                  <a:pt x="23154" y="12598"/>
                </a:cubicBezTo>
                <a:cubicBezTo>
                  <a:pt x="23166" y="12591"/>
                  <a:pt x="23169" y="12588"/>
                  <a:pt x="23178" y="12590"/>
                </a:cubicBezTo>
                <a:cubicBezTo>
                  <a:pt x="23188" y="12620"/>
                  <a:pt x="23192" y="12651"/>
                  <a:pt x="23188" y="12684"/>
                </a:cubicBezTo>
                <a:cubicBezTo>
                  <a:pt x="23186" y="12700"/>
                  <a:pt x="23181" y="12715"/>
                  <a:pt x="23179" y="12731"/>
                </a:cubicBezTo>
              </a:path>
              <a:path w="895" h="592">
                <a:moveTo>
                  <a:pt x="23222" y="12349"/>
                </a:moveTo>
                <a:cubicBezTo>
                  <a:pt x="23220" y="12345"/>
                  <a:pt x="23218" y="12342"/>
                  <a:pt x="23216" y="12338"/>
                </a:cubicBezTo>
                <a:cubicBezTo>
                  <a:pt x="23251" y="12330"/>
                  <a:pt x="23264" y="12352"/>
                  <a:pt x="23287" y="12378"/>
                </a:cubicBezTo>
                <a:cubicBezTo>
                  <a:pt x="23333" y="12430"/>
                  <a:pt x="23362" y="12490"/>
                  <a:pt x="23378" y="12557"/>
                </a:cubicBezTo>
                <a:cubicBezTo>
                  <a:pt x="23392" y="12615"/>
                  <a:pt x="23392" y="12683"/>
                  <a:pt x="23373" y="12740"/>
                </a:cubicBezTo>
                <a:cubicBezTo>
                  <a:pt x="23366" y="12762"/>
                  <a:pt x="23355" y="12773"/>
                  <a:pt x="23338" y="1278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8508960" y="4470480"/>
            <a:ext cx="297000" cy="120600"/>
          </a:xfrm>
          <a:custGeom>
            <a:avLst/>
            <a:gdLst/>
            <a:ahLst/>
            <a:rect l="l" t="t" r="r" b="b"/>
            <a:pathLst>
              <a:path w="825" h="334">
                <a:moveTo>
                  <a:pt x="23645" y="12622"/>
                </a:moveTo>
                <a:cubicBezTo>
                  <a:pt x="23638" y="12587"/>
                  <a:pt x="23661" y="12581"/>
                  <a:pt x="23696" y="12570"/>
                </a:cubicBezTo>
                <a:cubicBezTo>
                  <a:pt x="23733" y="12558"/>
                  <a:pt x="23776" y="12546"/>
                  <a:pt x="23814" y="12540"/>
                </a:cubicBezTo>
                <a:cubicBezTo>
                  <a:pt x="23820" y="12540"/>
                  <a:pt x="23827" y="12539"/>
                  <a:pt x="23833" y="12539"/>
                </a:cubicBezTo>
              </a:path>
              <a:path w="825" h="334">
                <a:moveTo>
                  <a:pt x="23654" y="12740"/>
                </a:moveTo>
                <a:cubicBezTo>
                  <a:pt x="23695" y="12753"/>
                  <a:pt x="23706" y="12735"/>
                  <a:pt x="23747" y="12722"/>
                </a:cubicBezTo>
                <a:cubicBezTo>
                  <a:pt x="23796" y="12706"/>
                  <a:pt x="23840" y="12685"/>
                  <a:pt x="23883" y="12655"/>
                </a:cubicBezTo>
              </a:path>
              <a:path w="825" h="334">
                <a:moveTo>
                  <a:pt x="24146" y="12620"/>
                </a:moveTo>
                <a:cubicBezTo>
                  <a:pt x="24054" y="12553"/>
                  <a:pt x="24194" y="12548"/>
                  <a:pt x="24247" y="12533"/>
                </a:cubicBezTo>
              </a:path>
              <a:path w="825" h="334">
                <a:moveTo>
                  <a:pt x="24334" y="12417"/>
                </a:moveTo>
                <a:cubicBezTo>
                  <a:pt x="24366" y="12503"/>
                  <a:pt x="24392" y="12593"/>
                  <a:pt x="24430" y="12677"/>
                </a:cubicBezTo>
                <a:cubicBezTo>
                  <a:pt x="24440" y="12697"/>
                  <a:pt x="24451" y="12717"/>
                  <a:pt x="24461" y="1273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8943840" y="4622760"/>
            <a:ext cx="34920" cy="9720"/>
          </a:xfrm>
          <a:custGeom>
            <a:avLst/>
            <a:gdLst/>
            <a:ahLst/>
            <a:rect l="l" t="t" r="r" b="b"/>
            <a:pathLst>
              <a:path w="95" h="26">
                <a:moveTo>
                  <a:pt x="24898" y="12867"/>
                </a:moveTo>
                <a:cubicBezTo>
                  <a:pt x="24996" y="12845"/>
                  <a:pt x="24873" y="12848"/>
                  <a:pt x="24845" y="1284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3776760" y="5837400"/>
            <a:ext cx="2254320" cy="53640"/>
          </a:xfrm>
          <a:custGeom>
            <a:avLst/>
            <a:gdLst/>
            <a:ahLst/>
            <a:rect l="l" t="t" r="r" b="b"/>
            <a:pathLst>
              <a:path w="6264" h="147">
                <a:moveTo>
                  <a:pt x="10490" y="16353"/>
                </a:moveTo>
                <a:cubicBezTo>
                  <a:pt x="10517" y="16346"/>
                  <a:pt x="10545" y="16327"/>
                  <a:pt x="10593" y="16324"/>
                </a:cubicBezTo>
                <a:cubicBezTo>
                  <a:pt x="10832" y="16311"/>
                  <a:pt x="11087" y="16284"/>
                  <a:pt x="11326" y="16294"/>
                </a:cubicBezTo>
                <a:cubicBezTo>
                  <a:pt x="11480" y="16300"/>
                  <a:pt x="11639" y="16314"/>
                  <a:pt x="11792" y="16329"/>
                </a:cubicBezTo>
                <a:cubicBezTo>
                  <a:pt x="12288" y="16379"/>
                  <a:pt x="12783" y="16342"/>
                  <a:pt x="13280" y="16303"/>
                </a:cubicBezTo>
                <a:cubicBezTo>
                  <a:pt x="14012" y="16245"/>
                  <a:pt x="14730" y="16223"/>
                  <a:pt x="15464" y="16221"/>
                </a:cubicBezTo>
                <a:cubicBezTo>
                  <a:pt x="15889" y="16220"/>
                  <a:pt x="16329" y="16264"/>
                  <a:pt x="16753" y="16221"/>
                </a:cubicBezTo>
                <a:cubicBezTo>
                  <a:pt x="16747" y="16219"/>
                  <a:pt x="16740" y="16218"/>
                  <a:pt x="16734" y="1621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/>
          <p:nvPr/>
        </p:nvSpPr>
        <p:spPr>
          <a:xfrm>
            <a:off x="3123360" y="0"/>
            <a:ext cx="27320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0000"/>
                </a:solidFill>
                <a:latin typeface="Arial"/>
              </a:rPr>
              <a:t>Function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616680" y="914400"/>
            <a:ext cx="8335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main, codomain.  Image, preimage.  Rang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e-to-one (injective).  Onto (surjective).  One-to-one correspondence (bijec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osing functions.  Inverse of a func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 question: f:Z-&gt;Z such that f(x)=x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 Is one-to-one?  Is Onto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2363400" y="0"/>
            <a:ext cx="45378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0000"/>
                </a:solidFill>
                <a:latin typeface="Arial"/>
              </a:rPr>
              <a:t>Primes, and GCD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614880" y="914400"/>
            <a:ext cx="71330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me, composite.  Fundamental theorem of arithmeti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eatest common divisor.  Least common multiple.  Relatively prim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resenting numbers in a base.  Modular arithametic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does an inverse exis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ular exponenti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Euclidean algorith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6767640" y="993600"/>
            <a:ext cx="671400" cy="265320"/>
          </a:xfrm>
          <a:custGeom>
            <a:avLst/>
            <a:gdLst/>
            <a:ahLst/>
            <a:rect l="l" t="t" r="r" b="b"/>
            <a:pathLst>
              <a:path w="1864" h="738">
                <a:moveTo>
                  <a:pt x="18819" y="2911"/>
                </a:moveTo>
                <a:cubicBezTo>
                  <a:pt x="18809" y="2950"/>
                  <a:pt x="18798" y="2994"/>
                  <a:pt x="18799" y="3034"/>
                </a:cubicBezTo>
                <a:cubicBezTo>
                  <a:pt x="18800" y="3116"/>
                  <a:pt x="18812" y="3200"/>
                  <a:pt x="18823" y="3281"/>
                </a:cubicBezTo>
                <a:cubicBezTo>
                  <a:pt x="18832" y="3345"/>
                  <a:pt x="18846" y="3406"/>
                  <a:pt x="18860" y="3469"/>
                </a:cubicBezTo>
                <a:cubicBezTo>
                  <a:pt x="18863" y="3486"/>
                  <a:pt x="18863" y="3490"/>
                  <a:pt x="18870" y="3498"/>
                </a:cubicBezTo>
                <a:cubicBezTo>
                  <a:pt x="18863" y="3462"/>
                  <a:pt x="18862" y="3426"/>
                  <a:pt x="18862" y="3388"/>
                </a:cubicBezTo>
              </a:path>
              <a:path w="1864" h="738">
                <a:moveTo>
                  <a:pt x="18839" y="2920"/>
                </a:moveTo>
                <a:cubicBezTo>
                  <a:pt x="18829" y="2895"/>
                  <a:pt x="18813" y="2858"/>
                  <a:pt x="18822" y="2830"/>
                </a:cubicBezTo>
                <a:cubicBezTo>
                  <a:pt x="18833" y="2796"/>
                  <a:pt x="18874" y="2769"/>
                  <a:pt x="18908" y="2763"/>
                </a:cubicBezTo>
                <a:cubicBezTo>
                  <a:pt x="18961" y="2753"/>
                  <a:pt x="19024" y="2769"/>
                  <a:pt x="19065" y="2803"/>
                </a:cubicBezTo>
                <a:cubicBezTo>
                  <a:pt x="19134" y="2861"/>
                  <a:pt x="19145" y="2960"/>
                  <a:pt x="19119" y="3041"/>
                </a:cubicBezTo>
                <a:cubicBezTo>
                  <a:pt x="19093" y="3123"/>
                  <a:pt x="19025" y="3193"/>
                  <a:pt x="18944" y="3220"/>
                </a:cubicBezTo>
                <a:cubicBezTo>
                  <a:pt x="18903" y="3234"/>
                  <a:pt x="18853" y="3240"/>
                  <a:pt x="18818" y="3208"/>
                </a:cubicBezTo>
                <a:cubicBezTo>
                  <a:pt x="18799" y="3191"/>
                  <a:pt x="18812" y="3176"/>
                  <a:pt x="18820" y="3159"/>
                </a:cubicBezTo>
              </a:path>
              <a:path w="1864" h="738">
                <a:moveTo>
                  <a:pt x="19174" y="3251"/>
                </a:moveTo>
                <a:cubicBezTo>
                  <a:pt x="19174" y="3284"/>
                  <a:pt x="19171" y="3319"/>
                  <a:pt x="19177" y="3351"/>
                </a:cubicBezTo>
                <a:cubicBezTo>
                  <a:pt x="19182" y="3376"/>
                  <a:pt x="19187" y="3425"/>
                  <a:pt x="19205" y="3445"/>
                </a:cubicBezTo>
                <a:cubicBezTo>
                  <a:pt x="19209" y="3447"/>
                  <a:pt x="19213" y="3449"/>
                  <a:pt x="19217" y="3451"/>
                </a:cubicBezTo>
                <a:cubicBezTo>
                  <a:pt x="19225" y="3416"/>
                  <a:pt x="19220" y="3382"/>
                  <a:pt x="19222" y="3346"/>
                </a:cubicBezTo>
                <a:cubicBezTo>
                  <a:pt x="19225" y="3291"/>
                  <a:pt x="19228" y="3234"/>
                  <a:pt x="19243" y="3181"/>
                </a:cubicBezTo>
                <a:cubicBezTo>
                  <a:pt x="19254" y="3142"/>
                  <a:pt x="19271" y="3112"/>
                  <a:pt x="19310" y="3101"/>
                </a:cubicBezTo>
                <a:cubicBezTo>
                  <a:pt x="19342" y="3092"/>
                  <a:pt x="19381" y="3113"/>
                  <a:pt x="19411" y="3123"/>
                </a:cubicBezTo>
                <a:cubicBezTo>
                  <a:pt x="19435" y="3131"/>
                  <a:pt x="19465" y="3142"/>
                  <a:pt x="19486" y="3158"/>
                </a:cubicBezTo>
                <a:cubicBezTo>
                  <a:pt x="19503" y="3171"/>
                  <a:pt x="19501" y="3187"/>
                  <a:pt x="19501" y="3206"/>
                </a:cubicBezTo>
                <a:cubicBezTo>
                  <a:pt x="19502" y="3237"/>
                  <a:pt x="19508" y="3264"/>
                  <a:pt x="19515" y="3294"/>
                </a:cubicBezTo>
                <a:cubicBezTo>
                  <a:pt x="19521" y="3319"/>
                  <a:pt x="19524" y="3350"/>
                  <a:pt x="19538" y="3371"/>
                </a:cubicBezTo>
                <a:cubicBezTo>
                  <a:pt x="19541" y="3374"/>
                  <a:pt x="19544" y="3377"/>
                  <a:pt x="19547" y="3380"/>
                </a:cubicBezTo>
              </a:path>
              <a:path w="1864" h="738">
                <a:moveTo>
                  <a:pt x="19532" y="3005"/>
                </a:moveTo>
                <a:cubicBezTo>
                  <a:pt x="19530" y="2963"/>
                  <a:pt x="19523" y="2916"/>
                  <a:pt x="19527" y="2874"/>
                </a:cubicBezTo>
                <a:cubicBezTo>
                  <a:pt x="19529" y="2851"/>
                  <a:pt x="19540" y="2853"/>
                  <a:pt x="19556" y="2855"/>
                </a:cubicBezTo>
              </a:path>
              <a:path w="1864" h="738">
                <a:moveTo>
                  <a:pt x="19709" y="3233"/>
                </a:moveTo>
                <a:cubicBezTo>
                  <a:pt x="19710" y="3267"/>
                  <a:pt x="19712" y="3300"/>
                  <a:pt x="19718" y="3333"/>
                </a:cubicBezTo>
                <a:cubicBezTo>
                  <a:pt x="19731" y="3287"/>
                  <a:pt x="19735" y="3240"/>
                  <a:pt x="19748" y="3194"/>
                </a:cubicBezTo>
                <a:cubicBezTo>
                  <a:pt x="19757" y="3162"/>
                  <a:pt x="19764" y="3133"/>
                  <a:pt x="19787" y="3110"/>
                </a:cubicBezTo>
                <a:cubicBezTo>
                  <a:pt x="19803" y="3125"/>
                  <a:pt x="19811" y="3137"/>
                  <a:pt x="19817" y="3166"/>
                </a:cubicBezTo>
                <a:cubicBezTo>
                  <a:pt x="19824" y="3201"/>
                  <a:pt x="19825" y="3237"/>
                  <a:pt x="19833" y="3272"/>
                </a:cubicBezTo>
                <a:cubicBezTo>
                  <a:pt x="19834" y="3276"/>
                  <a:pt x="19836" y="3280"/>
                  <a:pt x="19837" y="3284"/>
                </a:cubicBezTo>
                <a:cubicBezTo>
                  <a:pt x="19858" y="3265"/>
                  <a:pt x="19869" y="3241"/>
                  <a:pt x="19887" y="3218"/>
                </a:cubicBezTo>
                <a:cubicBezTo>
                  <a:pt x="19909" y="3191"/>
                  <a:pt x="19938" y="3173"/>
                  <a:pt x="19973" y="3188"/>
                </a:cubicBezTo>
                <a:cubicBezTo>
                  <a:pt x="19998" y="3199"/>
                  <a:pt x="20021" y="3229"/>
                  <a:pt x="20040" y="3248"/>
                </a:cubicBezTo>
                <a:cubicBezTo>
                  <a:pt x="20059" y="3267"/>
                  <a:pt x="20075" y="3277"/>
                  <a:pt x="20098" y="3290"/>
                </a:cubicBezTo>
              </a:path>
              <a:path w="1864" h="738">
                <a:moveTo>
                  <a:pt x="20181" y="3304"/>
                </a:moveTo>
                <a:cubicBezTo>
                  <a:pt x="20199" y="3288"/>
                  <a:pt x="20215" y="3271"/>
                  <a:pt x="20231" y="3253"/>
                </a:cubicBezTo>
                <a:cubicBezTo>
                  <a:pt x="20253" y="3228"/>
                  <a:pt x="20281" y="3206"/>
                  <a:pt x="20302" y="3180"/>
                </a:cubicBezTo>
                <a:cubicBezTo>
                  <a:pt x="20305" y="3175"/>
                  <a:pt x="20308" y="3171"/>
                  <a:pt x="20311" y="3166"/>
                </a:cubicBezTo>
                <a:cubicBezTo>
                  <a:pt x="20282" y="3172"/>
                  <a:pt x="20256" y="3190"/>
                  <a:pt x="20232" y="3211"/>
                </a:cubicBezTo>
                <a:cubicBezTo>
                  <a:pt x="20211" y="3229"/>
                  <a:pt x="20188" y="3254"/>
                  <a:pt x="20198" y="3283"/>
                </a:cubicBezTo>
                <a:cubicBezTo>
                  <a:pt x="20208" y="3313"/>
                  <a:pt x="20258" y="3329"/>
                  <a:pt x="20285" y="3335"/>
                </a:cubicBezTo>
                <a:cubicBezTo>
                  <a:pt x="20323" y="3344"/>
                  <a:pt x="20361" y="3337"/>
                  <a:pt x="20398" y="3328"/>
                </a:cubicBezTo>
              </a:path>
              <a:path w="1864" h="738">
                <a:moveTo>
                  <a:pt x="20615" y="3090"/>
                </a:moveTo>
                <a:cubicBezTo>
                  <a:pt x="20599" y="3113"/>
                  <a:pt x="20591" y="3114"/>
                  <a:pt x="20566" y="3123"/>
                </a:cubicBezTo>
                <a:cubicBezTo>
                  <a:pt x="20553" y="3128"/>
                  <a:pt x="20511" y="3133"/>
                  <a:pt x="20503" y="3144"/>
                </a:cubicBezTo>
                <a:cubicBezTo>
                  <a:pt x="20502" y="3149"/>
                  <a:pt x="20501" y="3153"/>
                  <a:pt x="20500" y="3158"/>
                </a:cubicBezTo>
                <a:cubicBezTo>
                  <a:pt x="20527" y="3180"/>
                  <a:pt x="20556" y="3199"/>
                  <a:pt x="20583" y="3220"/>
                </a:cubicBezTo>
                <a:cubicBezTo>
                  <a:pt x="20612" y="3242"/>
                  <a:pt x="20650" y="3264"/>
                  <a:pt x="20661" y="3301"/>
                </a:cubicBezTo>
                <a:cubicBezTo>
                  <a:pt x="20669" y="3327"/>
                  <a:pt x="20640" y="3332"/>
                  <a:pt x="20621" y="3335"/>
                </a:cubicBezTo>
                <a:cubicBezTo>
                  <a:pt x="20582" y="3342"/>
                  <a:pt x="20554" y="3329"/>
                  <a:pt x="20521" y="331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605720" y="1030320"/>
            <a:ext cx="704880" cy="189000"/>
          </a:xfrm>
          <a:custGeom>
            <a:avLst/>
            <a:gdLst/>
            <a:ahLst/>
            <a:rect l="l" t="t" r="r" b="b"/>
            <a:pathLst>
              <a:path w="1959" h="528">
                <a:moveTo>
                  <a:pt x="21295" y="2953"/>
                </a:moveTo>
                <a:cubicBezTo>
                  <a:pt x="21314" y="2933"/>
                  <a:pt x="21306" y="2987"/>
                  <a:pt x="21309" y="3014"/>
                </a:cubicBezTo>
                <a:cubicBezTo>
                  <a:pt x="21315" y="3079"/>
                  <a:pt x="21324" y="3144"/>
                  <a:pt x="21332" y="3209"/>
                </a:cubicBezTo>
                <a:cubicBezTo>
                  <a:pt x="21338" y="3260"/>
                  <a:pt x="21345" y="3312"/>
                  <a:pt x="21347" y="3363"/>
                </a:cubicBezTo>
                <a:cubicBezTo>
                  <a:pt x="21347" y="3367"/>
                  <a:pt x="21346" y="3370"/>
                  <a:pt x="21346" y="3374"/>
                </a:cubicBezTo>
                <a:cubicBezTo>
                  <a:pt x="21320" y="3353"/>
                  <a:pt x="21302" y="3325"/>
                  <a:pt x="21282" y="3297"/>
                </a:cubicBezTo>
                <a:cubicBezTo>
                  <a:pt x="21252" y="3254"/>
                  <a:pt x="21219" y="3213"/>
                  <a:pt x="21181" y="3177"/>
                </a:cubicBezTo>
                <a:cubicBezTo>
                  <a:pt x="21164" y="3161"/>
                  <a:pt x="21146" y="3146"/>
                  <a:pt x="21128" y="3131"/>
                </a:cubicBezTo>
                <a:cubicBezTo>
                  <a:pt x="21190" y="3160"/>
                  <a:pt x="21257" y="3179"/>
                  <a:pt x="21324" y="3192"/>
                </a:cubicBezTo>
                <a:cubicBezTo>
                  <a:pt x="21376" y="3202"/>
                  <a:pt x="21428" y="3209"/>
                  <a:pt x="21481" y="3202"/>
                </a:cubicBezTo>
                <a:cubicBezTo>
                  <a:pt x="21509" y="3198"/>
                  <a:pt x="21527" y="3188"/>
                  <a:pt x="21550" y="3174"/>
                </a:cubicBezTo>
              </a:path>
              <a:path w="1959" h="528">
                <a:moveTo>
                  <a:pt x="22082" y="3013"/>
                </a:moveTo>
                <a:cubicBezTo>
                  <a:pt x="22107" y="2989"/>
                  <a:pt x="22108" y="2980"/>
                  <a:pt x="22120" y="2950"/>
                </a:cubicBezTo>
                <a:cubicBezTo>
                  <a:pt x="22128" y="2929"/>
                  <a:pt x="22132" y="2904"/>
                  <a:pt x="22119" y="2883"/>
                </a:cubicBezTo>
                <a:cubicBezTo>
                  <a:pt x="22102" y="2856"/>
                  <a:pt x="22063" y="2858"/>
                  <a:pt x="22037" y="2863"/>
                </a:cubicBezTo>
                <a:cubicBezTo>
                  <a:pt x="21950" y="2878"/>
                  <a:pt x="21875" y="2949"/>
                  <a:pt x="21833" y="3023"/>
                </a:cubicBezTo>
                <a:cubicBezTo>
                  <a:pt x="21801" y="3080"/>
                  <a:pt x="21787" y="3157"/>
                  <a:pt x="21799" y="3222"/>
                </a:cubicBezTo>
                <a:cubicBezTo>
                  <a:pt x="21809" y="3276"/>
                  <a:pt x="21838" y="3328"/>
                  <a:pt x="21890" y="3350"/>
                </a:cubicBezTo>
                <a:cubicBezTo>
                  <a:pt x="21933" y="3369"/>
                  <a:pt x="21978" y="3362"/>
                  <a:pt x="22015" y="3334"/>
                </a:cubicBezTo>
                <a:cubicBezTo>
                  <a:pt x="22057" y="3302"/>
                  <a:pt x="22072" y="3247"/>
                  <a:pt x="22069" y="3196"/>
                </a:cubicBezTo>
                <a:cubicBezTo>
                  <a:pt x="22067" y="3156"/>
                  <a:pt x="22047" y="3114"/>
                  <a:pt x="22012" y="3092"/>
                </a:cubicBezTo>
                <a:cubicBezTo>
                  <a:pt x="22008" y="3090"/>
                  <a:pt x="22003" y="3088"/>
                  <a:pt x="21999" y="3086"/>
                </a:cubicBezTo>
                <a:cubicBezTo>
                  <a:pt x="22005" y="3100"/>
                  <a:pt x="22007" y="3114"/>
                  <a:pt x="22043" y="3126"/>
                </a:cubicBezTo>
                <a:cubicBezTo>
                  <a:pt x="22079" y="3138"/>
                  <a:pt x="22116" y="3147"/>
                  <a:pt x="22153" y="3145"/>
                </a:cubicBezTo>
                <a:cubicBezTo>
                  <a:pt x="22187" y="3143"/>
                  <a:pt x="22212" y="3135"/>
                  <a:pt x="22241" y="3120"/>
                </a:cubicBezTo>
              </a:path>
              <a:path w="1959" h="528">
                <a:moveTo>
                  <a:pt x="22503" y="2920"/>
                </a:moveTo>
                <a:cubicBezTo>
                  <a:pt x="22512" y="2907"/>
                  <a:pt x="22516" y="2904"/>
                  <a:pt x="22513" y="2893"/>
                </a:cubicBezTo>
                <a:cubicBezTo>
                  <a:pt x="22486" y="2875"/>
                  <a:pt x="22468" y="2883"/>
                  <a:pt x="22439" y="2900"/>
                </a:cubicBezTo>
                <a:cubicBezTo>
                  <a:pt x="22385" y="2932"/>
                  <a:pt x="22340" y="2985"/>
                  <a:pt x="22309" y="3038"/>
                </a:cubicBezTo>
                <a:cubicBezTo>
                  <a:pt x="22283" y="3082"/>
                  <a:pt x="22266" y="3129"/>
                  <a:pt x="22280" y="3180"/>
                </a:cubicBezTo>
                <a:cubicBezTo>
                  <a:pt x="22293" y="3228"/>
                  <a:pt x="22332" y="3258"/>
                  <a:pt x="22375" y="3278"/>
                </a:cubicBezTo>
                <a:cubicBezTo>
                  <a:pt x="22427" y="3302"/>
                  <a:pt x="22490" y="3303"/>
                  <a:pt x="22546" y="3294"/>
                </a:cubicBezTo>
                <a:cubicBezTo>
                  <a:pt x="22585" y="3285"/>
                  <a:pt x="22598" y="3282"/>
                  <a:pt x="22622" y="3269"/>
                </a:cubicBezTo>
              </a:path>
              <a:path w="1959" h="528">
                <a:moveTo>
                  <a:pt x="22772" y="2991"/>
                </a:moveTo>
                <a:cubicBezTo>
                  <a:pt x="22792" y="3028"/>
                  <a:pt x="22796" y="3059"/>
                  <a:pt x="22801" y="3101"/>
                </a:cubicBezTo>
                <a:cubicBezTo>
                  <a:pt x="22809" y="3162"/>
                  <a:pt x="22817" y="3224"/>
                  <a:pt x="22825" y="3285"/>
                </a:cubicBezTo>
                <a:cubicBezTo>
                  <a:pt x="22826" y="3293"/>
                  <a:pt x="22837" y="3384"/>
                  <a:pt x="22848" y="3385"/>
                </a:cubicBezTo>
                <a:cubicBezTo>
                  <a:pt x="22849" y="3382"/>
                  <a:pt x="22851" y="3378"/>
                  <a:pt x="22852" y="3375"/>
                </a:cubicBezTo>
              </a:path>
              <a:path w="1959" h="528">
                <a:moveTo>
                  <a:pt x="22748" y="2963"/>
                </a:moveTo>
                <a:cubicBezTo>
                  <a:pt x="22756" y="2926"/>
                  <a:pt x="22760" y="2916"/>
                  <a:pt x="22792" y="2898"/>
                </a:cubicBezTo>
                <a:cubicBezTo>
                  <a:pt x="22837" y="2873"/>
                  <a:pt x="22888" y="2898"/>
                  <a:pt x="22927" y="2928"/>
                </a:cubicBezTo>
                <a:cubicBezTo>
                  <a:pt x="22988" y="2975"/>
                  <a:pt x="23036" y="3046"/>
                  <a:pt x="23062" y="3117"/>
                </a:cubicBezTo>
                <a:cubicBezTo>
                  <a:pt x="23085" y="3180"/>
                  <a:pt x="23097" y="3251"/>
                  <a:pt x="23070" y="3314"/>
                </a:cubicBezTo>
                <a:cubicBezTo>
                  <a:pt x="23052" y="3357"/>
                  <a:pt x="23020" y="3372"/>
                  <a:pt x="22978" y="3382"/>
                </a:cubicBezTo>
                <a:cubicBezTo>
                  <a:pt x="22946" y="3390"/>
                  <a:pt x="22910" y="3375"/>
                  <a:pt x="22883" y="3356"/>
                </a:cubicBezTo>
                <a:cubicBezTo>
                  <a:pt x="22866" y="3341"/>
                  <a:pt x="22861" y="3336"/>
                  <a:pt x="22850" y="332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711360" y="1204920"/>
            <a:ext cx="6810120" cy="990720"/>
          </a:xfrm>
          <a:custGeom>
            <a:avLst/>
            <a:gdLst/>
            <a:ahLst/>
            <a:rect l="l" t="t" r="r" b="b"/>
            <a:pathLst>
              <a:path w="18920" h="2752">
                <a:moveTo>
                  <a:pt x="2195" y="3484"/>
                </a:moveTo>
                <a:cubicBezTo>
                  <a:pt x="2141" y="3498"/>
                  <a:pt x="2089" y="3516"/>
                  <a:pt x="2034" y="3525"/>
                </a:cubicBezTo>
                <a:cubicBezTo>
                  <a:pt x="2012" y="3533"/>
                  <a:pt x="2006" y="3536"/>
                  <a:pt x="1990" y="3532"/>
                </a:cubicBezTo>
                <a:cubicBezTo>
                  <a:pt x="2037" y="3521"/>
                  <a:pt x="2055" y="3520"/>
                  <a:pt x="2103" y="3514"/>
                </a:cubicBezTo>
                <a:cubicBezTo>
                  <a:pt x="2350" y="3481"/>
                  <a:pt x="2599" y="3455"/>
                  <a:pt x="2847" y="3431"/>
                </a:cubicBezTo>
                <a:cubicBezTo>
                  <a:pt x="3020" y="3414"/>
                  <a:pt x="3193" y="3397"/>
                  <a:pt x="3365" y="3376"/>
                </a:cubicBezTo>
                <a:cubicBezTo>
                  <a:pt x="3469" y="3364"/>
                  <a:pt x="3570" y="3350"/>
                  <a:pt x="3674" y="3348"/>
                </a:cubicBezTo>
                <a:cubicBezTo>
                  <a:pt x="3723" y="3347"/>
                  <a:pt x="3773" y="3349"/>
                  <a:pt x="3822" y="3349"/>
                </a:cubicBezTo>
              </a:path>
              <a:path w="18920" h="2752">
                <a:moveTo>
                  <a:pt x="4497" y="3555"/>
                </a:moveTo>
                <a:cubicBezTo>
                  <a:pt x="4456" y="3556"/>
                  <a:pt x="4418" y="3556"/>
                  <a:pt x="4378" y="3555"/>
                </a:cubicBezTo>
                <a:cubicBezTo>
                  <a:pt x="4402" y="3551"/>
                  <a:pt x="4401" y="3552"/>
                  <a:pt x="4425" y="3550"/>
                </a:cubicBezTo>
                <a:cubicBezTo>
                  <a:pt x="4522" y="3541"/>
                  <a:pt x="4619" y="3543"/>
                  <a:pt x="4716" y="3540"/>
                </a:cubicBezTo>
                <a:cubicBezTo>
                  <a:pt x="5193" y="3527"/>
                  <a:pt x="5678" y="3505"/>
                  <a:pt x="6155" y="3529"/>
                </a:cubicBezTo>
                <a:cubicBezTo>
                  <a:pt x="6311" y="3537"/>
                  <a:pt x="6458" y="3571"/>
                  <a:pt x="6610" y="3601"/>
                </a:cubicBezTo>
                <a:cubicBezTo>
                  <a:pt x="6688" y="3616"/>
                  <a:pt x="6744" y="3618"/>
                  <a:pt x="6819" y="3604"/>
                </a:cubicBezTo>
              </a:path>
              <a:path w="18920" h="2752">
                <a:moveTo>
                  <a:pt x="7429" y="3436"/>
                </a:moveTo>
                <a:cubicBezTo>
                  <a:pt x="7428" y="3464"/>
                  <a:pt x="7408" y="3491"/>
                  <a:pt x="7408" y="3522"/>
                </a:cubicBezTo>
                <a:cubicBezTo>
                  <a:pt x="7407" y="3766"/>
                  <a:pt x="7524" y="3830"/>
                  <a:pt x="7759" y="3834"/>
                </a:cubicBezTo>
                <a:cubicBezTo>
                  <a:pt x="8445" y="3846"/>
                  <a:pt x="9139" y="3753"/>
                  <a:pt x="9821" y="3698"/>
                </a:cubicBezTo>
                <a:cubicBezTo>
                  <a:pt x="10671" y="3630"/>
                  <a:pt x="11512" y="3692"/>
                  <a:pt x="12361" y="3720"/>
                </a:cubicBezTo>
                <a:cubicBezTo>
                  <a:pt x="13284" y="3751"/>
                  <a:pt x="14211" y="3730"/>
                  <a:pt x="15134" y="3732"/>
                </a:cubicBezTo>
                <a:cubicBezTo>
                  <a:pt x="15671" y="3733"/>
                  <a:pt x="16208" y="3725"/>
                  <a:pt x="16745" y="3726"/>
                </a:cubicBezTo>
                <a:cubicBezTo>
                  <a:pt x="16806" y="3726"/>
                  <a:pt x="16999" y="3765"/>
                  <a:pt x="17049" y="3719"/>
                </a:cubicBezTo>
                <a:cubicBezTo>
                  <a:pt x="17079" y="3691"/>
                  <a:pt x="17068" y="3654"/>
                  <a:pt x="17081" y="3615"/>
                </a:cubicBezTo>
                <a:cubicBezTo>
                  <a:pt x="17095" y="3573"/>
                  <a:pt x="17096" y="3482"/>
                  <a:pt x="17062" y="3454"/>
                </a:cubicBezTo>
                <a:cubicBezTo>
                  <a:pt x="17033" y="3430"/>
                  <a:pt x="16940" y="3458"/>
                  <a:pt x="16902" y="3443"/>
                </a:cubicBezTo>
              </a:path>
              <a:path w="18920" h="2752">
                <a:moveTo>
                  <a:pt x="16436" y="5870"/>
                </a:moveTo>
                <a:cubicBezTo>
                  <a:pt x="16432" y="5883"/>
                  <a:pt x="16399" y="5883"/>
                  <a:pt x="16401" y="5908"/>
                </a:cubicBezTo>
                <a:cubicBezTo>
                  <a:pt x="16405" y="5961"/>
                  <a:pt x="16404" y="5955"/>
                  <a:pt x="16454" y="5982"/>
                </a:cubicBezTo>
                <a:cubicBezTo>
                  <a:pt x="16634" y="6080"/>
                  <a:pt x="17011" y="6010"/>
                  <a:pt x="17205" y="6008"/>
                </a:cubicBezTo>
                <a:cubicBezTo>
                  <a:pt x="17898" y="6000"/>
                  <a:pt x="18585" y="5993"/>
                  <a:pt x="19278" y="6026"/>
                </a:cubicBezTo>
                <a:cubicBezTo>
                  <a:pt x="19674" y="6045"/>
                  <a:pt x="20379" y="6225"/>
                  <a:pt x="20761" y="6097"/>
                </a:cubicBezTo>
                <a:cubicBezTo>
                  <a:pt x="20779" y="6091"/>
                  <a:pt x="20787" y="6078"/>
                  <a:pt x="20802" y="6065"/>
                </a:cubicBezTo>
                <a:cubicBezTo>
                  <a:pt x="20845" y="6029"/>
                  <a:pt x="20923" y="5812"/>
                  <a:pt x="20894" y="5768"/>
                </a:cubicBezTo>
                <a:cubicBezTo>
                  <a:pt x="20876" y="5742"/>
                  <a:pt x="20851" y="5781"/>
                  <a:pt x="20829" y="576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8645400" y="2349360"/>
            <a:ext cx="59040" cy="79560"/>
          </a:xfrm>
          <a:custGeom>
            <a:avLst/>
            <a:gdLst/>
            <a:ahLst/>
            <a:rect l="l" t="t" r="r" b="b"/>
            <a:pathLst>
              <a:path w="162" h="217">
                <a:moveTo>
                  <a:pt x="24017" y="6618"/>
                </a:moveTo>
                <a:cubicBezTo>
                  <a:pt x="24056" y="6538"/>
                  <a:pt x="24076" y="6527"/>
                  <a:pt x="24166" y="6537"/>
                </a:cubicBezTo>
              </a:path>
              <a:path w="162" h="217">
                <a:moveTo>
                  <a:pt x="24020" y="6744"/>
                </a:moveTo>
                <a:cubicBezTo>
                  <a:pt x="24076" y="6731"/>
                  <a:pt x="24120" y="6726"/>
                  <a:pt x="24178" y="672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5724360" y="2271600"/>
            <a:ext cx="227160" cy="165240"/>
          </a:xfrm>
          <a:custGeom>
            <a:avLst/>
            <a:gdLst/>
            <a:ahLst/>
            <a:rect l="l" t="t" r="r" b="b"/>
            <a:pathLst>
              <a:path w="628" h="458">
                <a:moveTo>
                  <a:pt x="15903" y="6454"/>
                </a:moveTo>
                <a:cubicBezTo>
                  <a:pt x="15911" y="6476"/>
                  <a:pt x="15911" y="6505"/>
                  <a:pt x="15910" y="6529"/>
                </a:cubicBezTo>
                <a:cubicBezTo>
                  <a:pt x="15908" y="6583"/>
                  <a:pt x="15909" y="6637"/>
                  <a:pt x="15909" y="6691"/>
                </a:cubicBezTo>
                <a:cubicBezTo>
                  <a:pt x="15909" y="6718"/>
                  <a:pt x="15909" y="6740"/>
                  <a:pt x="15913" y="6766"/>
                </a:cubicBezTo>
                <a:cubicBezTo>
                  <a:pt x="15946" y="6717"/>
                  <a:pt x="15968" y="6662"/>
                  <a:pt x="15991" y="6607"/>
                </a:cubicBezTo>
                <a:cubicBezTo>
                  <a:pt x="16025" y="6527"/>
                  <a:pt x="16060" y="6447"/>
                  <a:pt x="16102" y="6372"/>
                </a:cubicBezTo>
                <a:cubicBezTo>
                  <a:pt x="16120" y="6340"/>
                  <a:pt x="16130" y="6325"/>
                  <a:pt x="16160" y="6309"/>
                </a:cubicBezTo>
                <a:cubicBezTo>
                  <a:pt x="16174" y="6359"/>
                  <a:pt x="16170" y="6409"/>
                  <a:pt x="16168" y="6461"/>
                </a:cubicBezTo>
                <a:cubicBezTo>
                  <a:pt x="16165" y="6531"/>
                  <a:pt x="16159" y="6602"/>
                  <a:pt x="16160" y="6672"/>
                </a:cubicBezTo>
                <a:cubicBezTo>
                  <a:pt x="16160" y="6705"/>
                  <a:pt x="16160" y="6714"/>
                  <a:pt x="16179" y="6736"/>
                </a:cubicBezTo>
              </a:path>
              <a:path w="628" h="458">
                <a:moveTo>
                  <a:pt x="16427" y="6514"/>
                </a:moveTo>
                <a:cubicBezTo>
                  <a:pt x="16430" y="6487"/>
                  <a:pt x="16431" y="6473"/>
                  <a:pt x="16419" y="6449"/>
                </a:cubicBezTo>
                <a:cubicBezTo>
                  <a:pt x="16382" y="6463"/>
                  <a:pt x="16366" y="6489"/>
                  <a:pt x="16349" y="6527"/>
                </a:cubicBezTo>
                <a:cubicBezTo>
                  <a:pt x="16327" y="6574"/>
                  <a:pt x="16305" y="6629"/>
                  <a:pt x="16310" y="6682"/>
                </a:cubicBezTo>
                <a:cubicBezTo>
                  <a:pt x="16314" y="6721"/>
                  <a:pt x="16339" y="6752"/>
                  <a:pt x="16380" y="6749"/>
                </a:cubicBezTo>
                <a:cubicBezTo>
                  <a:pt x="16425" y="6746"/>
                  <a:pt x="16466" y="6717"/>
                  <a:pt x="16493" y="6683"/>
                </a:cubicBezTo>
                <a:cubicBezTo>
                  <a:pt x="16520" y="6650"/>
                  <a:pt x="16537" y="6606"/>
                  <a:pt x="16528" y="6563"/>
                </a:cubicBezTo>
                <a:cubicBezTo>
                  <a:pt x="16521" y="6526"/>
                  <a:pt x="16486" y="6503"/>
                  <a:pt x="16454" y="6490"/>
                </a:cubicBezTo>
                <a:cubicBezTo>
                  <a:pt x="16428" y="6481"/>
                  <a:pt x="16419" y="6478"/>
                  <a:pt x="16402" y="647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6067440" y="2278080"/>
            <a:ext cx="725400" cy="139680"/>
          </a:xfrm>
          <a:custGeom>
            <a:avLst/>
            <a:gdLst/>
            <a:ahLst/>
            <a:rect l="l" t="t" r="r" b="b"/>
            <a:pathLst>
              <a:path w="2013" h="388">
                <a:moveTo>
                  <a:pt x="16975" y="6404"/>
                </a:moveTo>
                <a:cubicBezTo>
                  <a:pt x="16968" y="6376"/>
                  <a:pt x="16961" y="6353"/>
                  <a:pt x="16947" y="6328"/>
                </a:cubicBezTo>
                <a:cubicBezTo>
                  <a:pt x="16918" y="6367"/>
                  <a:pt x="16902" y="6408"/>
                  <a:pt x="16886" y="6454"/>
                </a:cubicBezTo>
                <a:cubicBezTo>
                  <a:pt x="16867" y="6509"/>
                  <a:pt x="16846" y="6576"/>
                  <a:pt x="16855" y="6635"/>
                </a:cubicBezTo>
                <a:cubicBezTo>
                  <a:pt x="16862" y="6685"/>
                  <a:pt x="16900" y="6707"/>
                  <a:pt x="16947" y="6714"/>
                </a:cubicBezTo>
                <a:cubicBezTo>
                  <a:pt x="16986" y="6719"/>
                  <a:pt x="17013" y="6709"/>
                  <a:pt x="17049" y="6697"/>
                </a:cubicBezTo>
              </a:path>
              <a:path w="2013" h="388">
                <a:moveTo>
                  <a:pt x="17173" y="6455"/>
                </a:moveTo>
                <a:cubicBezTo>
                  <a:pt x="17152" y="6452"/>
                  <a:pt x="17130" y="6467"/>
                  <a:pt x="17120" y="6489"/>
                </a:cubicBezTo>
                <a:cubicBezTo>
                  <a:pt x="17102" y="6529"/>
                  <a:pt x="17090" y="6585"/>
                  <a:pt x="17087" y="6629"/>
                </a:cubicBezTo>
                <a:cubicBezTo>
                  <a:pt x="17085" y="6661"/>
                  <a:pt x="17086" y="6692"/>
                  <a:pt x="17111" y="6711"/>
                </a:cubicBezTo>
                <a:cubicBezTo>
                  <a:pt x="17144" y="6693"/>
                  <a:pt x="17163" y="6669"/>
                  <a:pt x="17182" y="6636"/>
                </a:cubicBezTo>
                <a:cubicBezTo>
                  <a:pt x="17210" y="6588"/>
                  <a:pt x="17237" y="6532"/>
                  <a:pt x="17255" y="6480"/>
                </a:cubicBezTo>
                <a:cubicBezTo>
                  <a:pt x="17268" y="6444"/>
                  <a:pt x="17279" y="6402"/>
                  <a:pt x="17301" y="6369"/>
                </a:cubicBezTo>
                <a:cubicBezTo>
                  <a:pt x="17304" y="6366"/>
                  <a:pt x="17308" y="6362"/>
                  <a:pt x="17311" y="6359"/>
                </a:cubicBezTo>
              </a:path>
              <a:path w="2013" h="388">
                <a:moveTo>
                  <a:pt x="17359" y="6584"/>
                </a:moveTo>
                <a:cubicBezTo>
                  <a:pt x="17354" y="6616"/>
                  <a:pt x="17338" y="6667"/>
                  <a:pt x="17341" y="6698"/>
                </a:cubicBezTo>
                <a:cubicBezTo>
                  <a:pt x="17343" y="6703"/>
                  <a:pt x="17346" y="6708"/>
                  <a:pt x="17348" y="6713"/>
                </a:cubicBezTo>
                <a:cubicBezTo>
                  <a:pt x="17379" y="6688"/>
                  <a:pt x="17397" y="6660"/>
                  <a:pt x="17419" y="6627"/>
                </a:cubicBezTo>
                <a:cubicBezTo>
                  <a:pt x="17448" y="6582"/>
                  <a:pt x="17476" y="6535"/>
                  <a:pt x="17512" y="6495"/>
                </a:cubicBezTo>
                <a:cubicBezTo>
                  <a:pt x="17531" y="6474"/>
                  <a:pt x="17535" y="6472"/>
                  <a:pt x="17559" y="6472"/>
                </a:cubicBezTo>
                <a:cubicBezTo>
                  <a:pt x="17570" y="6506"/>
                  <a:pt x="17568" y="6536"/>
                  <a:pt x="17563" y="6572"/>
                </a:cubicBezTo>
                <a:cubicBezTo>
                  <a:pt x="17558" y="6601"/>
                  <a:pt x="17557" y="6610"/>
                  <a:pt x="17553" y="6629"/>
                </a:cubicBezTo>
                <a:cubicBezTo>
                  <a:pt x="17529" y="6671"/>
                  <a:pt x="17575" y="6570"/>
                  <a:pt x="17579" y="6561"/>
                </a:cubicBezTo>
                <a:cubicBezTo>
                  <a:pt x="17595" y="6528"/>
                  <a:pt x="17614" y="6495"/>
                  <a:pt x="17647" y="6476"/>
                </a:cubicBezTo>
                <a:cubicBezTo>
                  <a:pt x="17672" y="6462"/>
                  <a:pt x="17689" y="6477"/>
                  <a:pt x="17705" y="6495"/>
                </a:cubicBezTo>
                <a:cubicBezTo>
                  <a:pt x="17722" y="6514"/>
                  <a:pt x="17734" y="6538"/>
                  <a:pt x="17751" y="6557"/>
                </a:cubicBezTo>
                <a:cubicBezTo>
                  <a:pt x="17764" y="6570"/>
                  <a:pt x="17770" y="6575"/>
                  <a:pt x="17782" y="6580"/>
                </a:cubicBezTo>
              </a:path>
              <a:path w="2013" h="388">
                <a:moveTo>
                  <a:pt x="17797" y="6470"/>
                </a:moveTo>
                <a:cubicBezTo>
                  <a:pt x="17807" y="6497"/>
                  <a:pt x="17812" y="6522"/>
                  <a:pt x="17814" y="6551"/>
                </a:cubicBezTo>
                <a:cubicBezTo>
                  <a:pt x="17816" y="6574"/>
                  <a:pt x="17817" y="6596"/>
                  <a:pt x="17819" y="6619"/>
                </a:cubicBezTo>
                <a:cubicBezTo>
                  <a:pt x="17830" y="6595"/>
                  <a:pt x="17837" y="6569"/>
                  <a:pt x="17848" y="6544"/>
                </a:cubicBezTo>
                <a:cubicBezTo>
                  <a:pt x="17860" y="6517"/>
                  <a:pt x="17874" y="6482"/>
                  <a:pt x="17900" y="6465"/>
                </a:cubicBezTo>
                <a:cubicBezTo>
                  <a:pt x="17923" y="6450"/>
                  <a:pt x="17935" y="6477"/>
                  <a:pt x="17940" y="6495"/>
                </a:cubicBezTo>
                <a:cubicBezTo>
                  <a:pt x="17948" y="6522"/>
                  <a:pt x="17947" y="6552"/>
                  <a:pt x="17950" y="6580"/>
                </a:cubicBezTo>
                <a:cubicBezTo>
                  <a:pt x="17951" y="6584"/>
                  <a:pt x="17951" y="6587"/>
                  <a:pt x="17952" y="6591"/>
                </a:cubicBezTo>
                <a:cubicBezTo>
                  <a:pt x="17978" y="6565"/>
                  <a:pt x="17997" y="6535"/>
                  <a:pt x="18023" y="6509"/>
                </a:cubicBezTo>
                <a:cubicBezTo>
                  <a:pt x="18047" y="6485"/>
                  <a:pt x="18078" y="6452"/>
                  <a:pt x="18117" y="6457"/>
                </a:cubicBezTo>
                <a:cubicBezTo>
                  <a:pt x="18150" y="6461"/>
                  <a:pt x="18168" y="6508"/>
                  <a:pt x="18177" y="6534"/>
                </a:cubicBezTo>
                <a:cubicBezTo>
                  <a:pt x="18189" y="6568"/>
                  <a:pt x="18196" y="6586"/>
                  <a:pt x="18223" y="6609"/>
                </a:cubicBezTo>
              </a:path>
              <a:path w="2013" h="388">
                <a:moveTo>
                  <a:pt x="18421" y="6450"/>
                </a:moveTo>
                <a:cubicBezTo>
                  <a:pt x="18421" y="6435"/>
                  <a:pt x="18421" y="6430"/>
                  <a:pt x="18410" y="6425"/>
                </a:cubicBezTo>
                <a:cubicBezTo>
                  <a:pt x="18378" y="6437"/>
                  <a:pt x="18361" y="6465"/>
                  <a:pt x="18343" y="6497"/>
                </a:cubicBezTo>
                <a:cubicBezTo>
                  <a:pt x="18328" y="6524"/>
                  <a:pt x="18297" y="6576"/>
                  <a:pt x="18310" y="6609"/>
                </a:cubicBezTo>
                <a:cubicBezTo>
                  <a:pt x="18322" y="6638"/>
                  <a:pt x="18372" y="6611"/>
                  <a:pt x="18387" y="6604"/>
                </a:cubicBezTo>
                <a:cubicBezTo>
                  <a:pt x="18418" y="6589"/>
                  <a:pt x="18456" y="6563"/>
                  <a:pt x="18478" y="6537"/>
                </a:cubicBezTo>
                <a:cubicBezTo>
                  <a:pt x="18491" y="6521"/>
                  <a:pt x="18500" y="6502"/>
                  <a:pt x="18510" y="6484"/>
                </a:cubicBezTo>
              </a:path>
              <a:path w="2013" h="388">
                <a:moveTo>
                  <a:pt x="18531" y="6494"/>
                </a:moveTo>
                <a:cubicBezTo>
                  <a:pt x="18527" y="6516"/>
                  <a:pt x="18519" y="6544"/>
                  <a:pt x="18519" y="6566"/>
                </a:cubicBezTo>
                <a:cubicBezTo>
                  <a:pt x="18520" y="6571"/>
                  <a:pt x="18521" y="6577"/>
                  <a:pt x="18522" y="6582"/>
                </a:cubicBezTo>
                <a:cubicBezTo>
                  <a:pt x="18548" y="6581"/>
                  <a:pt x="18556" y="6559"/>
                  <a:pt x="18574" y="6538"/>
                </a:cubicBezTo>
                <a:cubicBezTo>
                  <a:pt x="18601" y="6507"/>
                  <a:pt x="18631" y="6472"/>
                  <a:pt x="18670" y="6455"/>
                </a:cubicBezTo>
                <a:cubicBezTo>
                  <a:pt x="18706" y="6440"/>
                  <a:pt x="18734" y="6455"/>
                  <a:pt x="18759" y="6480"/>
                </a:cubicBezTo>
                <a:cubicBezTo>
                  <a:pt x="18783" y="6504"/>
                  <a:pt x="18799" y="6536"/>
                  <a:pt x="18823" y="6560"/>
                </a:cubicBezTo>
                <a:cubicBezTo>
                  <a:pt x="18838" y="6575"/>
                  <a:pt x="18847" y="6578"/>
                  <a:pt x="18867" y="658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910560" y="2189160"/>
            <a:ext cx="720720" cy="237960"/>
          </a:xfrm>
          <a:custGeom>
            <a:avLst/>
            <a:gdLst/>
            <a:ahLst/>
            <a:rect l="l" t="t" r="r" b="b"/>
            <a:pathLst>
              <a:path w="1999" h="661">
                <a:moveTo>
                  <a:pt x="19281" y="6743"/>
                </a:moveTo>
                <a:cubicBezTo>
                  <a:pt x="19283" y="6715"/>
                  <a:pt x="19286" y="6685"/>
                  <a:pt x="19284" y="6657"/>
                </a:cubicBezTo>
                <a:cubicBezTo>
                  <a:pt x="19278" y="6584"/>
                  <a:pt x="19281" y="6514"/>
                  <a:pt x="19291" y="6441"/>
                </a:cubicBezTo>
                <a:cubicBezTo>
                  <a:pt x="19304" y="6343"/>
                  <a:pt x="19324" y="6240"/>
                  <a:pt x="19361" y="6149"/>
                </a:cubicBezTo>
                <a:cubicBezTo>
                  <a:pt x="19374" y="6116"/>
                  <a:pt x="19393" y="6077"/>
                  <a:pt x="19435" y="6084"/>
                </a:cubicBezTo>
                <a:cubicBezTo>
                  <a:pt x="19491" y="6094"/>
                  <a:pt x="19557" y="6156"/>
                  <a:pt x="19585" y="6203"/>
                </a:cubicBezTo>
                <a:cubicBezTo>
                  <a:pt x="19603" y="6234"/>
                  <a:pt x="19597" y="6250"/>
                  <a:pt x="19589" y="6282"/>
                </a:cubicBezTo>
              </a:path>
              <a:path w="1999" h="661">
                <a:moveTo>
                  <a:pt x="19219" y="6457"/>
                </a:moveTo>
                <a:cubicBezTo>
                  <a:pt x="19200" y="6465"/>
                  <a:pt x="19193" y="6464"/>
                  <a:pt x="19197" y="6479"/>
                </a:cubicBezTo>
                <a:cubicBezTo>
                  <a:pt x="19248" y="6474"/>
                  <a:pt x="19300" y="6478"/>
                  <a:pt x="19352" y="6474"/>
                </a:cubicBezTo>
                <a:cubicBezTo>
                  <a:pt x="19406" y="6470"/>
                  <a:pt x="19459" y="6463"/>
                  <a:pt x="19513" y="6455"/>
                </a:cubicBezTo>
              </a:path>
              <a:path w="1999" h="661">
                <a:moveTo>
                  <a:pt x="19605" y="6488"/>
                </a:moveTo>
                <a:cubicBezTo>
                  <a:pt x="19574" y="6520"/>
                  <a:pt x="19552" y="6543"/>
                  <a:pt x="19531" y="6582"/>
                </a:cubicBezTo>
                <a:cubicBezTo>
                  <a:pt x="19519" y="6604"/>
                  <a:pt x="19492" y="6644"/>
                  <a:pt x="19516" y="6669"/>
                </a:cubicBezTo>
                <a:cubicBezTo>
                  <a:pt x="19533" y="6687"/>
                  <a:pt x="19577" y="6663"/>
                  <a:pt x="19592" y="6656"/>
                </a:cubicBezTo>
                <a:cubicBezTo>
                  <a:pt x="19622" y="6641"/>
                  <a:pt x="19648" y="6619"/>
                  <a:pt x="19680" y="6608"/>
                </a:cubicBezTo>
                <a:cubicBezTo>
                  <a:pt x="19699" y="6602"/>
                  <a:pt x="19722" y="6603"/>
                  <a:pt x="19740" y="6613"/>
                </a:cubicBezTo>
                <a:cubicBezTo>
                  <a:pt x="19756" y="6622"/>
                  <a:pt x="19768" y="6626"/>
                  <a:pt x="19787" y="6630"/>
                </a:cubicBezTo>
              </a:path>
              <a:path w="1999" h="661">
                <a:moveTo>
                  <a:pt x="19986" y="6483"/>
                </a:moveTo>
                <a:cubicBezTo>
                  <a:pt x="20000" y="6469"/>
                  <a:pt x="20006" y="6461"/>
                  <a:pt x="20011" y="6441"/>
                </a:cubicBezTo>
                <a:cubicBezTo>
                  <a:pt x="19989" y="6455"/>
                  <a:pt x="19972" y="6470"/>
                  <a:pt x="19955" y="6490"/>
                </a:cubicBezTo>
                <a:cubicBezTo>
                  <a:pt x="19923" y="6527"/>
                  <a:pt x="19885" y="6569"/>
                  <a:pt x="19884" y="6621"/>
                </a:cubicBezTo>
                <a:cubicBezTo>
                  <a:pt x="19883" y="6668"/>
                  <a:pt x="19917" y="6680"/>
                  <a:pt x="19955" y="6690"/>
                </a:cubicBezTo>
                <a:cubicBezTo>
                  <a:pt x="20010" y="6704"/>
                  <a:pt x="20063" y="6699"/>
                  <a:pt x="20113" y="6670"/>
                </a:cubicBezTo>
                <a:cubicBezTo>
                  <a:pt x="20123" y="6662"/>
                  <a:pt x="20134" y="6655"/>
                  <a:pt x="20144" y="6647"/>
                </a:cubicBezTo>
              </a:path>
              <a:path w="1999" h="661">
                <a:moveTo>
                  <a:pt x="20166" y="6222"/>
                </a:moveTo>
                <a:cubicBezTo>
                  <a:pt x="20164" y="6264"/>
                  <a:pt x="20170" y="6307"/>
                  <a:pt x="20175" y="6349"/>
                </a:cubicBezTo>
                <a:cubicBezTo>
                  <a:pt x="20183" y="6423"/>
                  <a:pt x="20191" y="6501"/>
                  <a:pt x="20205" y="6574"/>
                </a:cubicBezTo>
                <a:cubicBezTo>
                  <a:pt x="20211" y="6606"/>
                  <a:pt x="20221" y="6638"/>
                  <a:pt x="20229" y="6670"/>
                </a:cubicBezTo>
              </a:path>
              <a:path w="1999" h="661">
                <a:moveTo>
                  <a:pt x="20156" y="6471"/>
                </a:moveTo>
                <a:cubicBezTo>
                  <a:pt x="20169" y="6434"/>
                  <a:pt x="20181" y="6418"/>
                  <a:pt x="20221" y="6406"/>
                </a:cubicBezTo>
                <a:cubicBezTo>
                  <a:pt x="20266" y="6392"/>
                  <a:pt x="20320" y="6394"/>
                  <a:pt x="20367" y="6397"/>
                </a:cubicBezTo>
                <a:cubicBezTo>
                  <a:pt x="20378" y="6398"/>
                  <a:pt x="20389" y="6399"/>
                  <a:pt x="20400" y="6400"/>
                </a:cubicBezTo>
              </a:path>
              <a:path w="1999" h="661">
                <a:moveTo>
                  <a:pt x="20554" y="6441"/>
                </a:moveTo>
                <a:cubicBezTo>
                  <a:pt x="20527" y="6456"/>
                  <a:pt x="20493" y="6470"/>
                  <a:pt x="20469" y="6487"/>
                </a:cubicBezTo>
                <a:cubicBezTo>
                  <a:pt x="20437" y="6510"/>
                  <a:pt x="20403" y="6542"/>
                  <a:pt x="20383" y="6577"/>
                </a:cubicBezTo>
                <a:cubicBezTo>
                  <a:pt x="20376" y="6593"/>
                  <a:pt x="20373" y="6597"/>
                  <a:pt x="20375" y="6609"/>
                </a:cubicBezTo>
                <a:cubicBezTo>
                  <a:pt x="20401" y="6622"/>
                  <a:pt x="20422" y="6617"/>
                  <a:pt x="20450" y="6609"/>
                </a:cubicBezTo>
                <a:cubicBezTo>
                  <a:pt x="20487" y="6598"/>
                  <a:pt x="20531" y="6582"/>
                  <a:pt x="20562" y="6558"/>
                </a:cubicBezTo>
                <a:cubicBezTo>
                  <a:pt x="20589" y="6537"/>
                  <a:pt x="20607" y="6506"/>
                  <a:pt x="20623" y="6477"/>
                </a:cubicBezTo>
              </a:path>
              <a:path w="1999" h="661">
                <a:moveTo>
                  <a:pt x="20719" y="6524"/>
                </a:moveTo>
                <a:cubicBezTo>
                  <a:pt x="20723" y="6550"/>
                  <a:pt x="20725" y="6582"/>
                  <a:pt x="20749" y="6599"/>
                </a:cubicBezTo>
                <a:cubicBezTo>
                  <a:pt x="20773" y="6616"/>
                  <a:pt x="20790" y="6594"/>
                  <a:pt x="20799" y="6574"/>
                </a:cubicBezTo>
                <a:cubicBezTo>
                  <a:pt x="20815" y="6540"/>
                  <a:pt x="20825" y="6501"/>
                  <a:pt x="20835" y="6465"/>
                </a:cubicBezTo>
                <a:cubicBezTo>
                  <a:pt x="20844" y="6432"/>
                  <a:pt x="20860" y="6398"/>
                  <a:pt x="20889" y="6376"/>
                </a:cubicBezTo>
                <a:cubicBezTo>
                  <a:pt x="20911" y="6365"/>
                  <a:pt x="20919" y="6361"/>
                  <a:pt x="20935" y="6356"/>
                </a:cubicBezTo>
              </a:path>
              <a:path w="1999" h="661">
                <a:moveTo>
                  <a:pt x="21195" y="6360"/>
                </a:moveTo>
                <a:cubicBezTo>
                  <a:pt x="21165" y="6359"/>
                  <a:pt x="21146" y="6365"/>
                  <a:pt x="21118" y="6370"/>
                </a:cubicBezTo>
                <a:cubicBezTo>
                  <a:pt x="21083" y="6376"/>
                  <a:pt x="21047" y="6379"/>
                  <a:pt x="21019" y="6404"/>
                </a:cubicBezTo>
                <a:cubicBezTo>
                  <a:pt x="20995" y="6426"/>
                  <a:pt x="21037" y="6454"/>
                  <a:pt x="21051" y="6467"/>
                </a:cubicBezTo>
                <a:cubicBezTo>
                  <a:pt x="21091" y="6504"/>
                  <a:pt x="21139" y="6541"/>
                  <a:pt x="21159" y="6594"/>
                </a:cubicBezTo>
                <a:cubicBezTo>
                  <a:pt x="21165" y="6611"/>
                  <a:pt x="21163" y="6644"/>
                  <a:pt x="21136" y="6641"/>
                </a:cubicBezTo>
                <a:cubicBezTo>
                  <a:pt x="21111" y="6639"/>
                  <a:pt x="21080" y="6619"/>
                  <a:pt x="21059" y="6607"/>
                </a:cubicBezTo>
                <a:cubicBezTo>
                  <a:pt x="21053" y="6603"/>
                  <a:pt x="21047" y="6599"/>
                  <a:pt x="21041" y="659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7754760" y="2228760"/>
            <a:ext cx="849600" cy="349200"/>
          </a:xfrm>
          <a:custGeom>
            <a:avLst/>
            <a:gdLst/>
            <a:ahLst/>
            <a:rect l="l" t="t" r="r" b="b"/>
            <a:pathLst>
              <a:path w="2361" h="968">
                <a:moveTo>
                  <a:pt x="21570" y="6686"/>
                </a:moveTo>
                <a:cubicBezTo>
                  <a:pt x="21572" y="6664"/>
                  <a:pt x="21575" y="6641"/>
                  <a:pt x="21581" y="6620"/>
                </a:cubicBezTo>
                <a:cubicBezTo>
                  <a:pt x="21588" y="6604"/>
                  <a:pt x="21591" y="6598"/>
                  <a:pt x="21604" y="6594"/>
                </a:cubicBezTo>
              </a:path>
              <a:path w="2361" h="968">
                <a:moveTo>
                  <a:pt x="21681" y="6626"/>
                </a:moveTo>
                <a:cubicBezTo>
                  <a:pt x="21657" y="6630"/>
                  <a:pt x="21646" y="6636"/>
                  <a:pt x="21627" y="6647"/>
                </a:cubicBezTo>
                <a:cubicBezTo>
                  <a:pt x="21595" y="6665"/>
                  <a:pt x="21585" y="6691"/>
                  <a:pt x="21573" y="6726"/>
                </a:cubicBezTo>
                <a:cubicBezTo>
                  <a:pt x="21562" y="6756"/>
                  <a:pt x="21547" y="6790"/>
                  <a:pt x="21540" y="6821"/>
                </a:cubicBezTo>
                <a:cubicBezTo>
                  <a:pt x="21540" y="6825"/>
                  <a:pt x="21540" y="6830"/>
                  <a:pt x="21540" y="6834"/>
                </a:cubicBezTo>
              </a:path>
              <a:path w="2361" h="968">
                <a:moveTo>
                  <a:pt x="22146" y="6440"/>
                </a:moveTo>
                <a:cubicBezTo>
                  <a:pt x="22150" y="6408"/>
                  <a:pt x="22156" y="6380"/>
                  <a:pt x="22147" y="6348"/>
                </a:cubicBezTo>
                <a:cubicBezTo>
                  <a:pt x="22148" y="6334"/>
                  <a:pt x="22147" y="6328"/>
                  <a:pt x="22137" y="6321"/>
                </a:cubicBezTo>
                <a:cubicBezTo>
                  <a:pt x="22097" y="6339"/>
                  <a:pt x="22070" y="6370"/>
                  <a:pt x="22045" y="6409"/>
                </a:cubicBezTo>
                <a:cubicBezTo>
                  <a:pt x="22021" y="6446"/>
                  <a:pt x="21935" y="6588"/>
                  <a:pt x="21987" y="6630"/>
                </a:cubicBezTo>
                <a:cubicBezTo>
                  <a:pt x="22019" y="6656"/>
                  <a:pt x="22078" y="6613"/>
                  <a:pt x="22101" y="6594"/>
                </a:cubicBezTo>
                <a:cubicBezTo>
                  <a:pt x="22141" y="6560"/>
                  <a:pt x="22165" y="6516"/>
                  <a:pt x="22194" y="6473"/>
                </a:cubicBezTo>
                <a:cubicBezTo>
                  <a:pt x="22198" y="6467"/>
                  <a:pt x="22203" y="6462"/>
                  <a:pt x="22207" y="6456"/>
                </a:cubicBezTo>
                <a:cubicBezTo>
                  <a:pt x="22201" y="6528"/>
                  <a:pt x="22187" y="6599"/>
                  <a:pt x="22173" y="6670"/>
                </a:cubicBezTo>
                <a:cubicBezTo>
                  <a:pt x="22152" y="6781"/>
                  <a:pt x="22127" y="6896"/>
                  <a:pt x="22083" y="7001"/>
                </a:cubicBezTo>
                <a:cubicBezTo>
                  <a:pt x="22057" y="7063"/>
                  <a:pt x="22015" y="7144"/>
                  <a:pt x="21942" y="7160"/>
                </a:cubicBezTo>
                <a:cubicBezTo>
                  <a:pt x="21885" y="7173"/>
                  <a:pt x="21838" y="7125"/>
                  <a:pt x="21813" y="7081"/>
                </a:cubicBezTo>
                <a:cubicBezTo>
                  <a:pt x="21776" y="7014"/>
                  <a:pt x="21790" y="6955"/>
                  <a:pt x="21806" y="6885"/>
                </a:cubicBezTo>
              </a:path>
              <a:path w="2361" h="968">
                <a:moveTo>
                  <a:pt x="22420" y="6465"/>
                </a:moveTo>
                <a:cubicBezTo>
                  <a:pt x="22438" y="6445"/>
                  <a:pt x="22454" y="6433"/>
                  <a:pt x="22457" y="6408"/>
                </a:cubicBezTo>
                <a:cubicBezTo>
                  <a:pt x="22429" y="6410"/>
                  <a:pt x="22413" y="6432"/>
                  <a:pt x="22393" y="6454"/>
                </a:cubicBezTo>
                <a:cubicBezTo>
                  <a:pt x="22362" y="6487"/>
                  <a:pt x="22343" y="6529"/>
                  <a:pt x="22339" y="6575"/>
                </a:cubicBezTo>
                <a:cubicBezTo>
                  <a:pt x="22336" y="6612"/>
                  <a:pt x="22350" y="6646"/>
                  <a:pt x="22387" y="6658"/>
                </a:cubicBezTo>
                <a:cubicBezTo>
                  <a:pt x="22428" y="6671"/>
                  <a:pt x="22455" y="6663"/>
                  <a:pt x="22493" y="6647"/>
                </a:cubicBezTo>
              </a:path>
              <a:path w="2361" h="968">
                <a:moveTo>
                  <a:pt x="22691" y="6494"/>
                </a:moveTo>
                <a:cubicBezTo>
                  <a:pt x="22700" y="6485"/>
                  <a:pt x="22708" y="6478"/>
                  <a:pt x="22717" y="6468"/>
                </a:cubicBezTo>
                <a:cubicBezTo>
                  <a:pt x="22695" y="6464"/>
                  <a:pt x="22692" y="6461"/>
                  <a:pt x="22659" y="6487"/>
                </a:cubicBezTo>
                <a:cubicBezTo>
                  <a:pt x="22617" y="6520"/>
                  <a:pt x="22586" y="6556"/>
                  <a:pt x="22557" y="6601"/>
                </a:cubicBezTo>
                <a:cubicBezTo>
                  <a:pt x="22535" y="6636"/>
                  <a:pt x="22524" y="6659"/>
                  <a:pt x="22542" y="6695"/>
                </a:cubicBezTo>
                <a:cubicBezTo>
                  <a:pt x="22589" y="6701"/>
                  <a:pt x="22620" y="6686"/>
                  <a:pt x="22658" y="6656"/>
                </a:cubicBezTo>
                <a:cubicBezTo>
                  <a:pt x="22746" y="6586"/>
                  <a:pt x="22795" y="6480"/>
                  <a:pt x="22825" y="6375"/>
                </a:cubicBezTo>
                <a:cubicBezTo>
                  <a:pt x="22840" y="6322"/>
                  <a:pt x="22856" y="6264"/>
                  <a:pt x="22862" y="6209"/>
                </a:cubicBezTo>
                <a:cubicBezTo>
                  <a:pt x="22862" y="6204"/>
                  <a:pt x="22862" y="6198"/>
                  <a:pt x="22862" y="6193"/>
                </a:cubicBezTo>
                <a:cubicBezTo>
                  <a:pt x="22843" y="6248"/>
                  <a:pt x="22835" y="6303"/>
                  <a:pt x="22829" y="6361"/>
                </a:cubicBezTo>
                <a:cubicBezTo>
                  <a:pt x="22821" y="6445"/>
                  <a:pt x="22817" y="6536"/>
                  <a:pt x="22830" y="6620"/>
                </a:cubicBezTo>
                <a:cubicBezTo>
                  <a:pt x="22838" y="6670"/>
                  <a:pt x="22853" y="6688"/>
                  <a:pt x="22886" y="6722"/>
                </a:cubicBezTo>
              </a:path>
              <a:path w="2361" h="968">
                <a:moveTo>
                  <a:pt x="23165" y="6281"/>
                </a:moveTo>
                <a:cubicBezTo>
                  <a:pt x="23166" y="6263"/>
                  <a:pt x="23166" y="6249"/>
                  <a:pt x="23162" y="6232"/>
                </a:cubicBezTo>
                <a:cubicBezTo>
                  <a:pt x="23122" y="6248"/>
                  <a:pt x="23107" y="6279"/>
                  <a:pt x="23087" y="6320"/>
                </a:cubicBezTo>
                <a:cubicBezTo>
                  <a:pt x="23055" y="6384"/>
                  <a:pt x="23024" y="6453"/>
                  <a:pt x="23012" y="6524"/>
                </a:cubicBezTo>
                <a:cubicBezTo>
                  <a:pt x="23005" y="6568"/>
                  <a:pt x="23001" y="6637"/>
                  <a:pt x="23025" y="6678"/>
                </a:cubicBezTo>
                <a:cubicBezTo>
                  <a:pt x="23048" y="6717"/>
                  <a:pt x="23090" y="6713"/>
                  <a:pt x="23128" y="6713"/>
                </a:cubicBezTo>
              </a:path>
              <a:path w="2361" h="968">
                <a:moveTo>
                  <a:pt x="23279" y="6576"/>
                </a:moveTo>
                <a:cubicBezTo>
                  <a:pt x="23262" y="6550"/>
                  <a:pt x="23251" y="6550"/>
                  <a:pt x="23224" y="6562"/>
                </a:cubicBezTo>
                <a:cubicBezTo>
                  <a:pt x="23188" y="6578"/>
                  <a:pt x="23160" y="6603"/>
                  <a:pt x="23137" y="6635"/>
                </a:cubicBezTo>
                <a:cubicBezTo>
                  <a:pt x="23124" y="6653"/>
                  <a:pt x="23101" y="6691"/>
                  <a:pt x="23134" y="6704"/>
                </a:cubicBezTo>
                <a:cubicBezTo>
                  <a:pt x="23166" y="6716"/>
                  <a:pt x="23214" y="6691"/>
                  <a:pt x="23241" y="6677"/>
                </a:cubicBezTo>
                <a:cubicBezTo>
                  <a:pt x="23270" y="6662"/>
                  <a:pt x="23298" y="6633"/>
                  <a:pt x="23329" y="6623"/>
                </a:cubicBezTo>
                <a:cubicBezTo>
                  <a:pt x="23333" y="6623"/>
                  <a:pt x="23337" y="6622"/>
                  <a:pt x="23341" y="6622"/>
                </a:cubicBezTo>
                <a:cubicBezTo>
                  <a:pt x="23342" y="6656"/>
                  <a:pt x="23327" y="6677"/>
                  <a:pt x="23322" y="6709"/>
                </a:cubicBezTo>
                <a:cubicBezTo>
                  <a:pt x="23319" y="6731"/>
                  <a:pt x="23321" y="6757"/>
                  <a:pt x="23329" y="6777"/>
                </a:cubicBezTo>
              </a:path>
              <a:path w="2361" h="968">
                <a:moveTo>
                  <a:pt x="23395" y="6731"/>
                </a:moveTo>
                <a:cubicBezTo>
                  <a:pt x="23388" y="6753"/>
                  <a:pt x="23380" y="6780"/>
                  <a:pt x="23381" y="6803"/>
                </a:cubicBezTo>
                <a:cubicBezTo>
                  <a:pt x="23382" y="6829"/>
                  <a:pt x="23376" y="6882"/>
                  <a:pt x="23392" y="6904"/>
                </a:cubicBezTo>
                <a:cubicBezTo>
                  <a:pt x="23409" y="6919"/>
                  <a:pt x="23411" y="6928"/>
                  <a:pt x="23423" y="6918"/>
                </a:cubicBezTo>
                <a:cubicBezTo>
                  <a:pt x="23434" y="6899"/>
                  <a:pt x="23440" y="6882"/>
                  <a:pt x="23447" y="6861"/>
                </a:cubicBezTo>
              </a:path>
              <a:path w="2361" h="968">
                <a:moveTo>
                  <a:pt x="23519" y="6336"/>
                </a:moveTo>
                <a:cubicBezTo>
                  <a:pt x="23520" y="6312"/>
                  <a:pt x="23520" y="6307"/>
                  <a:pt x="23522" y="6292"/>
                </a:cubicBezTo>
                <a:cubicBezTo>
                  <a:pt x="23524" y="6336"/>
                  <a:pt x="23523" y="6380"/>
                  <a:pt x="23524" y="6424"/>
                </a:cubicBezTo>
                <a:cubicBezTo>
                  <a:pt x="23526" y="6480"/>
                  <a:pt x="23520" y="6553"/>
                  <a:pt x="23541" y="6606"/>
                </a:cubicBezTo>
                <a:cubicBezTo>
                  <a:pt x="23553" y="6636"/>
                  <a:pt x="23581" y="6655"/>
                  <a:pt x="23613" y="6649"/>
                </a:cubicBezTo>
                <a:cubicBezTo>
                  <a:pt x="23648" y="6643"/>
                  <a:pt x="23681" y="6601"/>
                  <a:pt x="23715" y="6602"/>
                </a:cubicBezTo>
                <a:cubicBezTo>
                  <a:pt x="23740" y="6602"/>
                  <a:pt x="23730" y="6642"/>
                  <a:pt x="23727" y="6655"/>
                </a:cubicBezTo>
                <a:cubicBezTo>
                  <a:pt x="23720" y="6686"/>
                  <a:pt x="23700" y="6715"/>
                  <a:pt x="23678" y="6738"/>
                </a:cubicBezTo>
                <a:cubicBezTo>
                  <a:pt x="23652" y="6765"/>
                  <a:pt x="23628" y="6773"/>
                  <a:pt x="23593" y="6779"/>
                </a:cubicBezTo>
                <a:cubicBezTo>
                  <a:pt x="23566" y="6783"/>
                  <a:pt x="23557" y="6766"/>
                  <a:pt x="23547" y="6742"/>
                </a:cubicBezTo>
                <a:cubicBezTo>
                  <a:pt x="23545" y="6735"/>
                  <a:pt x="23542" y="6729"/>
                  <a:pt x="23540" y="6722"/>
                </a:cubicBezTo>
              </a:path>
              <a:path w="2361" h="968">
                <a:moveTo>
                  <a:pt x="23802" y="6336"/>
                </a:moveTo>
                <a:cubicBezTo>
                  <a:pt x="23802" y="6321"/>
                  <a:pt x="23802" y="6306"/>
                  <a:pt x="23803" y="6291"/>
                </a:cubicBezTo>
                <a:cubicBezTo>
                  <a:pt x="23810" y="6332"/>
                  <a:pt x="23814" y="6373"/>
                  <a:pt x="23822" y="6414"/>
                </a:cubicBezTo>
                <a:cubicBezTo>
                  <a:pt x="23835" y="6484"/>
                  <a:pt x="23853" y="6552"/>
                  <a:pt x="23869" y="6621"/>
                </a:cubicBezTo>
                <a:cubicBezTo>
                  <a:pt x="23876" y="6664"/>
                  <a:pt x="23881" y="6682"/>
                  <a:pt x="23900" y="670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8790120" y="2297160"/>
            <a:ext cx="21960" cy="158760"/>
          </a:xfrm>
          <a:custGeom>
            <a:avLst/>
            <a:gdLst/>
            <a:ahLst/>
            <a:rect l="l" t="t" r="r" b="b"/>
            <a:pathLst>
              <a:path w="60" h="440">
                <a:moveTo>
                  <a:pt x="24417" y="6431"/>
                </a:moveTo>
                <a:cubicBezTo>
                  <a:pt x="24420" y="6415"/>
                  <a:pt x="24422" y="6398"/>
                  <a:pt x="24425" y="6382"/>
                </a:cubicBezTo>
                <a:cubicBezTo>
                  <a:pt x="24442" y="6465"/>
                  <a:pt x="24435" y="6541"/>
                  <a:pt x="24442" y="6624"/>
                </a:cubicBezTo>
                <a:cubicBezTo>
                  <a:pt x="24447" y="6690"/>
                  <a:pt x="24460" y="6757"/>
                  <a:pt x="24476" y="682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986280" y="2604960"/>
            <a:ext cx="137880" cy="271440"/>
          </a:xfrm>
          <a:custGeom>
            <a:avLst/>
            <a:gdLst/>
            <a:ahLst/>
            <a:rect l="l" t="t" r="r" b="b"/>
            <a:pathLst>
              <a:path w="384" h="754">
                <a:moveTo>
                  <a:pt x="11092" y="7283"/>
                </a:moveTo>
                <a:cubicBezTo>
                  <a:pt x="11082" y="7281"/>
                  <a:pt x="11077" y="7279"/>
                  <a:pt x="11072" y="7273"/>
                </a:cubicBezTo>
                <a:cubicBezTo>
                  <a:pt x="11098" y="7271"/>
                  <a:pt x="11124" y="7268"/>
                  <a:pt x="11150" y="7264"/>
                </a:cubicBezTo>
                <a:cubicBezTo>
                  <a:pt x="11187" y="7258"/>
                  <a:pt x="11224" y="7253"/>
                  <a:pt x="11261" y="7246"/>
                </a:cubicBezTo>
                <a:cubicBezTo>
                  <a:pt x="11284" y="7241"/>
                  <a:pt x="11307" y="7237"/>
                  <a:pt x="11331" y="7236"/>
                </a:cubicBezTo>
                <a:cubicBezTo>
                  <a:pt x="11352" y="7235"/>
                  <a:pt x="11361" y="7238"/>
                  <a:pt x="11371" y="7258"/>
                </a:cubicBezTo>
                <a:cubicBezTo>
                  <a:pt x="11382" y="7281"/>
                  <a:pt x="11374" y="7326"/>
                  <a:pt x="11372" y="7350"/>
                </a:cubicBezTo>
                <a:cubicBezTo>
                  <a:pt x="11367" y="7400"/>
                  <a:pt x="11365" y="7449"/>
                  <a:pt x="11366" y="7499"/>
                </a:cubicBezTo>
                <a:cubicBezTo>
                  <a:pt x="11367" y="7569"/>
                  <a:pt x="11376" y="7639"/>
                  <a:pt x="11385" y="7709"/>
                </a:cubicBezTo>
                <a:cubicBezTo>
                  <a:pt x="11390" y="7746"/>
                  <a:pt x="11398" y="7779"/>
                  <a:pt x="11408" y="7814"/>
                </a:cubicBezTo>
                <a:cubicBezTo>
                  <a:pt x="11414" y="7835"/>
                  <a:pt x="11423" y="7853"/>
                  <a:pt x="11431" y="7873"/>
                </a:cubicBezTo>
                <a:cubicBezTo>
                  <a:pt x="11440" y="7898"/>
                  <a:pt x="11446" y="7928"/>
                  <a:pt x="11452" y="7954"/>
                </a:cubicBezTo>
                <a:cubicBezTo>
                  <a:pt x="11455" y="7969"/>
                  <a:pt x="11452" y="7971"/>
                  <a:pt x="11451" y="7986"/>
                </a:cubicBezTo>
                <a:cubicBezTo>
                  <a:pt x="11426" y="7985"/>
                  <a:pt x="11400" y="7981"/>
                  <a:pt x="11374" y="7980"/>
                </a:cubicBezTo>
                <a:cubicBezTo>
                  <a:pt x="11321" y="7977"/>
                  <a:pt x="11268" y="7977"/>
                  <a:pt x="11215" y="7975"/>
                </a:cubicBezTo>
                <a:cubicBezTo>
                  <a:pt x="11178" y="7974"/>
                  <a:pt x="11161" y="7968"/>
                  <a:pt x="11135" y="7954"/>
                </a:cubicBezTo>
                <a:cubicBezTo>
                  <a:pt x="11167" y="7946"/>
                  <a:pt x="11195" y="7941"/>
                  <a:pt x="11228" y="794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092560" y="2616120"/>
            <a:ext cx="1990800" cy="227160"/>
          </a:xfrm>
          <a:custGeom>
            <a:avLst/>
            <a:gdLst/>
            <a:ahLst/>
            <a:rect l="l" t="t" r="r" b="b"/>
            <a:pathLst>
              <a:path w="5528" h="631">
                <a:moveTo>
                  <a:pt x="14172" y="7775"/>
                </a:moveTo>
                <a:cubicBezTo>
                  <a:pt x="14161" y="7765"/>
                  <a:pt x="14157" y="7762"/>
                  <a:pt x="14148" y="7757"/>
                </a:cubicBezTo>
                <a:cubicBezTo>
                  <a:pt x="14169" y="7753"/>
                  <a:pt x="14190" y="7747"/>
                  <a:pt x="14212" y="7744"/>
                </a:cubicBezTo>
                <a:cubicBezTo>
                  <a:pt x="14294" y="7734"/>
                  <a:pt x="14377" y="7731"/>
                  <a:pt x="14459" y="7723"/>
                </a:cubicBezTo>
                <a:cubicBezTo>
                  <a:pt x="14703" y="7698"/>
                  <a:pt x="14939" y="7693"/>
                  <a:pt x="15184" y="7700"/>
                </a:cubicBezTo>
                <a:cubicBezTo>
                  <a:pt x="15285" y="7703"/>
                  <a:pt x="15387" y="7707"/>
                  <a:pt x="15488" y="7712"/>
                </a:cubicBezTo>
                <a:cubicBezTo>
                  <a:pt x="15820" y="7727"/>
                  <a:pt x="16149" y="7752"/>
                  <a:pt x="16481" y="7751"/>
                </a:cubicBezTo>
                <a:cubicBezTo>
                  <a:pt x="16799" y="7750"/>
                  <a:pt x="17118" y="7747"/>
                  <a:pt x="17436" y="7751"/>
                </a:cubicBezTo>
                <a:cubicBezTo>
                  <a:pt x="17413" y="7763"/>
                  <a:pt x="17391" y="7775"/>
                  <a:pt x="17347" y="7786"/>
                </a:cubicBezTo>
              </a:path>
              <a:path w="5528" h="631">
                <a:moveTo>
                  <a:pt x="18003" y="7534"/>
                </a:moveTo>
                <a:cubicBezTo>
                  <a:pt x="17947" y="7549"/>
                  <a:pt x="17890" y="7564"/>
                  <a:pt x="17838" y="7586"/>
                </a:cubicBezTo>
                <a:cubicBezTo>
                  <a:pt x="17815" y="7596"/>
                  <a:pt x="17799" y="7605"/>
                  <a:pt x="17779" y="7619"/>
                </a:cubicBezTo>
                <a:cubicBezTo>
                  <a:pt x="17808" y="7631"/>
                  <a:pt x="17840" y="7624"/>
                  <a:pt x="17872" y="7622"/>
                </a:cubicBezTo>
                <a:cubicBezTo>
                  <a:pt x="17918" y="7620"/>
                  <a:pt x="17969" y="7619"/>
                  <a:pt x="18006" y="7651"/>
                </a:cubicBezTo>
                <a:cubicBezTo>
                  <a:pt x="18040" y="7680"/>
                  <a:pt x="18015" y="7730"/>
                  <a:pt x="17992" y="7757"/>
                </a:cubicBezTo>
                <a:cubicBezTo>
                  <a:pt x="17964" y="7789"/>
                  <a:pt x="17855" y="7864"/>
                  <a:pt x="17811" y="7820"/>
                </a:cubicBezTo>
                <a:cubicBezTo>
                  <a:pt x="17789" y="7798"/>
                  <a:pt x="17814" y="7751"/>
                  <a:pt x="17820" y="7731"/>
                </a:cubicBezTo>
              </a:path>
              <a:path w="5528" h="631">
                <a:moveTo>
                  <a:pt x="18176" y="7289"/>
                </a:moveTo>
                <a:cubicBezTo>
                  <a:pt x="18187" y="7329"/>
                  <a:pt x="18172" y="7366"/>
                  <a:pt x="18169" y="7408"/>
                </a:cubicBezTo>
                <a:cubicBezTo>
                  <a:pt x="18163" y="7490"/>
                  <a:pt x="18167" y="7572"/>
                  <a:pt x="18167" y="7654"/>
                </a:cubicBezTo>
                <a:cubicBezTo>
                  <a:pt x="18167" y="7704"/>
                  <a:pt x="18169" y="7752"/>
                  <a:pt x="18171" y="7802"/>
                </a:cubicBezTo>
              </a:path>
              <a:path w="5528" h="631">
                <a:moveTo>
                  <a:pt x="18035" y="7516"/>
                </a:moveTo>
                <a:cubicBezTo>
                  <a:pt x="18029" y="7492"/>
                  <a:pt x="18045" y="7484"/>
                  <a:pt x="18070" y="7477"/>
                </a:cubicBezTo>
                <a:cubicBezTo>
                  <a:pt x="18125" y="7461"/>
                  <a:pt x="18191" y="7463"/>
                  <a:pt x="18248" y="7459"/>
                </a:cubicBezTo>
                <a:cubicBezTo>
                  <a:pt x="18294" y="7456"/>
                  <a:pt x="18307" y="7455"/>
                  <a:pt x="18337" y="7457"/>
                </a:cubicBezTo>
              </a:path>
              <a:path w="5528" h="631">
                <a:moveTo>
                  <a:pt x="18439" y="7683"/>
                </a:moveTo>
                <a:cubicBezTo>
                  <a:pt x="18436" y="7741"/>
                  <a:pt x="18439" y="7801"/>
                  <a:pt x="18434" y="7858"/>
                </a:cubicBezTo>
                <a:cubicBezTo>
                  <a:pt x="18429" y="7879"/>
                  <a:pt x="18427" y="7885"/>
                  <a:pt x="18433" y="7899"/>
                </a:cubicBezTo>
                <a:cubicBezTo>
                  <a:pt x="18445" y="7864"/>
                  <a:pt x="18448" y="7829"/>
                  <a:pt x="18451" y="7792"/>
                </a:cubicBezTo>
                <a:cubicBezTo>
                  <a:pt x="18455" y="7746"/>
                  <a:pt x="18457" y="7701"/>
                  <a:pt x="18461" y="7655"/>
                </a:cubicBezTo>
                <a:cubicBezTo>
                  <a:pt x="18463" y="7635"/>
                  <a:pt x="18462" y="7618"/>
                  <a:pt x="18465" y="7599"/>
                </a:cubicBezTo>
              </a:path>
              <a:path w="5528" h="631">
                <a:moveTo>
                  <a:pt x="18399" y="7648"/>
                </a:moveTo>
                <a:cubicBezTo>
                  <a:pt x="18390" y="7671"/>
                  <a:pt x="18390" y="7690"/>
                  <a:pt x="18393" y="7714"/>
                </a:cubicBezTo>
                <a:cubicBezTo>
                  <a:pt x="18397" y="7748"/>
                  <a:pt x="18405" y="7785"/>
                  <a:pt x="18419" y="7816"/>
                </a:cubicBezTo>
                <a:cubicBezTo>
                  <a:pt x="18429" y="7838"/>
                  <a:pt x="18447" y="7866"/>
                  <a:pt x="18474" y="7864"/>
                </a:cubicBezTo>
                <a:cubicBezTo>
                  <a:pt x="18505" y="7862"/>
                  <a:pt x="18528" y="7825"/>
                  <a:pt x="18541" y="7801"/>
                </a:cubicBezTo>
                <a:cubicBezTo>
                  <a:pt x="18564" y="7759"/>
                  <a:pt x="18580" y="7712"/>
                  <a:pt x="18595" y="7667"/>
                </a:cubicBezTo>
                <a:cubicBezTo>
                  <a:pt x="18602" y="7644"/>
                  <a:pt x="18609" y="7622"/>
                  <a:pt x="18616" y="7599"/>
                </a:cubicBezTo>
                <a:cubicBezTo>
                  <a:pt x="18633" y="7628"/>
                  <a:pt x="18630" y="7663"/>
                  <a:pt x="18636" y="7699"/>
                </a:cubicBezTo>
                <a:cubicBezTo>
                  <a:pt x="18641" y="7733"/>
                  <a:pt x="18643" y="7780"/>
                  <a:pt x="18667" y="7807"/>
                </a:cubicBezTo>
                <a:cubicBezTo>
                  <a:pt x="18681" y="7816"/>
                  <a:pt x="18686" y="7819"/>
                  <a:pt x="18698" y="7817"/>
                </a:cubicBezTo>
              </a:path>
              <a:path w="5528" h="631">
                <a:moveTo>
                  <a:pt x="18859" y="7782"/>
                </a:moveTo>
                <a:cubicBezTo>
                  <a:pt x="18851" y="7749"/>
                  <a:pt x="18848" y="7715"/>
                  <a:pt x="18841" y="7681"/>
                </a:cubicBezTo>
                <a:cubicBezTo>
                  <a:pt x="18826" y="7605"/>
                  <a:pt x="18820" y="7529"/>
                  <a:pt x="18822" y="7452"/>
                </a:cubicBezTo>
                <a:cubicBezTo>
                  <a:pt x="18824" y="7393"/>
                  <a:pt x="18834" y="7320"/>
                  <a:pt x="18887" y="7284"/>
                </a:cubicBezTo>
                <a:cubicBezTo>
                  <a:pt x="18918" y="7263"/>
                  <a:pt x="18953" y="7267"/>
                  <a:pt x="18985" y="7282"/>
                </a:cubicBezTo>
                <a:cubicBezTo>
                  <a:pt x="19015" y="7296"/>
                  <a:pt x="19040" y="7317"/>
                  <a:pt x="19041" y="7351"/>
                </a:cubicBezTo>
                <a:cubicBezTo>
                  <a:pt x="19042" y="7398"/>
                  <a:pt x="19000" y="7429"/>
                  <a:pt x="18967" y="7456"/>
                </a:cubicBezTo>
                <a:cubicBezTo>
                  <a:pt x="18921" y="7494"/>
                  <a:pt x="18867" y="7529"/>
                  <a:pt x="18813" y="7554"/>
                </a:cubicBezTo>
                <a:cubicBezTo>
                  <a:pt x="18792" y="7564"/>
                  <a:pt x="18769" y="7572"/>
                  <a:pt x="18747" y="7574"/>
                </a:cubicBezTo>
                <a:cubicBezTo>
                  <a:pt x="18775" y="7554"/>
                  <a:pt x="18812" y="7541"/>
                  <a:pt x="18846" y="7532"/>
                </a:cubicBezTo>
                <a:cubicBezTo>
                  <a:pt x="18898" y="7519"/>
                  <a:pt x="18944" y="7526"/>
                  <a:pt x="18995" y="7537"/>
                </a:cubicBezTo>
              </a:path>
              <a:path w="5528" h="631">
                <a:moveTo>
                  <a:pt x="19147" y="7840"/>
                </a:moveTo>
                <a:cubicBezTo>
                  <a:pt x="19158" y="7806"/>
                  <a:pt x="19162" y="7777"/>
                  <a:pt x="19163" y="7741"/>
                </a:cubicBezTo>
                <a:cubicBezTo>
                  <a:pt x="19164" y="7682"/>
                  <a:pt x="19163" y="7623"/>
                  <a:pt x="19160" y="7564"/>
                </a:cubicBezTo>
                <a:cubicBezTo>
                  <a:pt x="19157" y="7498"/>
                  <a:pt x="19148" y="7427"/>
                  <a:pt x="19166" y="7362"/>
                </a:cubicBezTo>
                <a:cubicBezTo>
                  <a:pt x="19178" y="7317"/>
                  <a:pt x="19213" y="7288"/>
                  <a:pt x="19260" y="7293"/>
                </a:cubicBezTo>
                <a:cubicBezTo>
                  <a:pt x="19314" y="7298"/>
                  <a:pt x="19372" y="7326"/>
                  <a:pt x="19403" y="7372"/>
                </a:cubicBezTo>
                <a:cubicBezTo>
                  <a:pt x="19415" y="7397"/>
                  <a:pt x="19419" y="7405"/>
                  <a:pt x="19418" y="7424"/>
                </a:cubicBezTo>
              </a:path>
              <a:path w="5528" h="631">
                <a:moveTo>
                  <a:pt x="19113" y="7744"/>
                </a:moveTo>
                <a:cubicBezTo>
                  <a:pt x="19124" y="7754"/>
                  <a:pt x="19181" y="7726"/>
                  <a:pt x="19204" y="7718"/>
                </a:cubicBezTo>
                <a:cubicBezTo>
                  <a:pt x="19269" y="7696"/>
                  <a:pt x="19334" y="7684"/>
                  <a:pt x="19401" y="7674"/>
                </a:cubicBezTo>
              </a:path>
              <a:path w="5528" h="631">
                <a:moveTo>
                  <a:pt x="19675" y="7844"/>
                </a:moveTo>
                <a:cubicBezTo>
                  <a:pt x="19653" y="7826"/>
                  <a:pt x="19670" y="7814"/>
                  <a:pt x="19652" y="7796"/>
                </a:cubicBezTo>
                <a:cubicBezTo>
                  <a:pt x="19649" y="7795"/>
                  <a:pt x="19646" y="7794"/>
                  <a:pt x="19643" y="779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4370400" y="2933640"/>
            <a:ext cx="612720" cy="228600"/>
          </a:xfrm>
          <a:custGeom>
            <a:avLst/>
            <a:gdLst/>
            <a:ahLst/>
            <a:rect l="l" t="t" r="r" b="b"/>
            <a:pathLst>
              <a:path w="1704" h="633">
                <a:moveTo>
                  <a:pt x="12152" y="8442"/>
                </a:moveTo>
                <a:cubicBezTo>
                  <a:pt x="12148" y="8431"/>
                  <a:pt x="12146" y="8428"/>
                  <a:pt x="12140" y="8422"/>
                </a:cubicBezTo>
                <a:cubicBezTo>
                  <a:pt x="12149" y="8442"/>
                  <a:pt x="12160" y="8463"/>
                  <a:pt x="12169" y="8483"/>
                </a:cubicBezTo>
                <a:cubicBezTo>
                  <a:pt x="12177" y="8502"/>
                  <a:pt x="12184" y="8521"/>
                  <a:pt x="12191" y="8540"/>
                </a:cubicBezTo>
                <a:cubicBezTo>
                  <a:pt x="12206" y="8516"/>
                  <a:pt x="12214" y="8491"/>
                  <a:pt x="12225" y="8462"/>
                </a:cubicBezTo>
                <a:cubicBezTo>
                  <a:pt x="12240" y="8420"/>
                  <a:pt x="12255" y="8372"/>
                  <a:pt x="12279" y="8334"/>
                </a:cubicBezTo>
                <a:cubicBezTo>
                  <a:pt x="12283" y="8329"/>
                  <a:pt x="12288" y="8325"/>
                  <a:pt x="12292" y="8320"/>
                </a:cubicBezTo>
                <a:cubicBezTo>
                  <a:pt x="12317" y="8351"/>
                  <a:pt x="12312" y="8387"/>
                  <a:pt x="12314" y="8429"/>
                </a:cubicBezTo>
                <a:cubicBezTo>
                  <a:pt x="12316" y="8470"/>
                  <a:pt x="12318" y="8510"/>
                  <a:pt x="12323" y="8550"/>
                </a:cubicBezTo>
                <a:cubicBezTo>
                  <a:pt x="12352" y="8541"/>
                  <a:pt x="12359" y="8513"/>
                  <a:pt x="12374" y="8486"/>
                </a:cubicBezTo>
                <a:cubicBezTo>
                  <a:pt x="12384" y="8469"/>
                  <a:pt x="12409" y="8414"/>
                  <a:pt x="12438" y="8426"/>
                </a:cubicBezTo>
                <a:cubicBezTo>
                  <a:pt x="12475" y="8441"/>
                  <a:pt x="12477" y="8516"/>
                  <a:pt x="12486" y="8546"/>
                </a:cubicBezTo>
                <a:cubicBezTo>
                  <a:pt x="12503" y="8601"/>
                  <a:pt x="12520" y="8657"/>
                  <a:pt x="12542" y="8710"/>
                </a:cubicBezTo>
              </a:path>
              <a:path w="1704" h="633">
                <a:moveTo>
                  <a:pt x="12655" y="8474"/>
                </a:moveTo>
                <a:cubicBezTo>
                  <a:pt x="12648" y="8499"/>
                  <a:pt x="12640" y="8529"/>
                  <a:pt x="12639" y="8555"/>
                </a:cubicBezTo>
                <a:cubicBezTo>
                  <a:pt x="12638" y="8586"/>
                  <a:pt x="12641" y="8616"/>
                  <a:pt x="12649" y="8646"/>
                </a:cubicBezTo>
                <a:cubicBezTo>
                  <a:pt x="12688" y="8648"/>
                  <a:pt x="12700" y="8626"/>
                  <a:pt x="12722" y="8592"/>
                </a:cubicBezTo>
                <a:cubicBezTo>
                  <a:pt x="12747" y="8553"/>
                  <a:pt x="12766" y="8509"/>
                  <a:pt x="12797" y="8474"/>
                </a:cubicBezTo>
                <a:cubicBezTo>
                  <a:pt x="12811" y="8461"/>
                  <a:pt x="12813" y="8457"/>
                  <a:pt x="12825" y="8456"/>
                </a:cubicBezTo>
                <a:cubicBezTo>
                  <a:pt x="12848" y="8486"/>
                  <a:pt x="12845" y="8515"/>
                  <a:pt x="12853" y="8551"/>
                </a:cubicBezTo>
                <a:cubicBezTo>
                  <a:pt x="12861" y="8592"/>
                  <a:pt x="12872" y="8633"/>
                  <a:pt x="12888" y="8671"/>
                </a:cubicBezTo>
              </a:path>
              <a:path w="1704" h="633">
                <a:moveTo>
                  <a:pt x="13037" y="8151"/>
                </a:moveTo>
                <a:cubicBezTo>
                  <a:pt x="13025" y="8205"/>
                  <a:pt x="13027" y="8253"/>
                  <a:pt x="13024" y="8308"/>
                </a:cubicBezTo>
                <a:cubicBezTo>
                  <a:pt x="13019" y="8404"/>
                  <a:pt x="13023" y="8491"/>
                  <a:pt x="13034" y="8586"/>
                </a:cubicBezTo>
                <a:cubicBezTo>
                  <a:pt x="13039" y="8635"/>
                  <a:pt x="13040" y="8648"/>
                  <a:pt x="13048" y="8679"/>
                </a:cubicBezTo>
              </a:path>
              <a:path w="1704" h="633">
                <a:moveTo>
                  <a:pt x="13219" y="8212"/>
                </a:moveTo>
                <a:cubicBezTo>
                  <a:pt x="13219" y="8270"/>
                  <a:pt x="13213" y="8327"/>
                  <a:pt x="13211" y="8385"/>
                </a:cubicBezTo>
                <a:cubicBezTo>
                  <a:pt x="13208" y="8466"/>
                  <a:pt x="13206" y="8547"/>
                  <a:pt x="13207" y="8628"/>
                </a:cubicBezTo>
                <a:cubicBezTo>
                  <a:pt x="13207" y="8640"/>
                  <a:pt x="13207" y="8653"/>
                  <a:pt x="13207" y="8665"/>
                </a:cubicBezTo>
              </a:path>
              <a:path w="1704" h="633">
                <a:moveTo>
                  <a:pt x="13125" y="8506"/>
                </a:moveTo>
                <a:cubicBezTo>
                  <a:pt x="13150" y="8487"/>
                  <a:pt x="13180" y="8470"/>
                  <a:pt x="13209" y="8458"/>
                </a:cubicBezTo>
                <a:cubicBezTo>
                  <a:pt x="13256" y="8439"/>
                  <a:pt x="13306" y="8424"/>
                  <a:pt x="13356" y="8416"/>
                </a:cubicBezTo>
                <a:cubicBezTo>
                  <a:pt x="13367" y="8415"/>
                  <a:pt x="13377" y="8414"/>
                  <a:pt x="13388" y="8413"/>
                </a:cubicBezTo>
              </a:path>
              <a:path w="1704" h="633">
                <a:moveTo>
                  <a:pt x="13410" y="8532"/>
                </a:moveTo>
                <a:cubicBezTo>
                  <a:pt x="13412" y="8570"/>
                  <a:pt x="13422" y="8600"/>
                  <a:pt x="13428" y="8637"/>
                </a:cubicBezTo>
                <a:cubicBezTo>
                  <a:pt x="13432" y="8662"/>
                  <a:pt x="13434" y="8667"/>
                  <a:pt x="13451" y="8685"/>
                </a:cubicBezTo>
              </a:path>
              <a:path w="1704" h="633">
                <a:moveTo>
                  <a:pt x="13466" y="8386"/>
                </a:moveTo>
                <a:cubicBezTo>
                  <a:pt x="13474" y="8351"/>
                  <a:pt x="13475" y="8333"/>
                  <a:pt x="13498" y="8308"/>
                </a:cubicBezTo>
                <a:cubicBezTo>
                  <a:pt x="13507" y="8296"/>
                  <a:pt x="13511" y="8292"/>
                  <a:pt x="13524" y="8299"/>
                </a:cubicBezTo>
              </a:path>
              <a:path w="1704" h="633">
                <a:moveTo>
                  <a:pt x="13628" y="8659"/>
                </a:moveTo>
                <a:cubicBezTo>
                  <a:pt x="13631" y="8698"/>
                  <a:pt x="13637" y="8734"/>
                  <a:pt x="13642" y="8772"/>
                </a:cubicBezTo>
                <a:cubicBezTo>
                  <a:pt x="13642" y="8776"/>
                  <a:pt x="13642" y="8779"/>
                  <a:pt x="13642" y="8783"/>
                </a:cubicBezTo>
                <a:cubicBezTo>
                  <a:pt x="13651" y="8736"/>
                  <a:pt x="13646" y="8690"/>
                  <a:pt x="13650" y="8642"/>
                </a:cubicBezTo>
                <a:cubicBezTo>
                  <a:pt x="13654" y="8589"/>
                  <a:pt x="13664" y="8530"/>
                  <a:pt x="13696" y="8486"/>
                </a:cubicBezTo>
                <a:cubicBezTo>
                  <a:pt x="13722" y="8450"/>
                  <a:pt x="13756" y="8450"/>
                  <a:pt x="13790" y="8475"/>
                </a:cubicBezTo>
                <a:cubicBezTo>
                  <a:pt x="13825" y="8500"/>
                  <a:pt x="13844" y="8550"/>
                  <a:pt x="13843" y="8592"/>
                </a:cubicBezTo>
                <a:cubicBezTo>
                  <a:pt x="13842" y="8635"/>
                  <a:pt x="13814" y="8664"/>
                  <a:pt x="13774" y="8675"/>
                </a:cubicBezTo>
                <a:cubicBezTo>
                  <a:pt x="13736" y="8685"/>
                  <a:pt x="13694" y="8663"/>
                  <a:pt x="13676" y="8629"/>
                </a:cubicBezTo>
                <a:cubicBezTo>
                  <a:pt x="13666" y="8600"/>
                  <a:pt x="13663" y="8590"/>
                  <a:pt x="13667" y="856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065560" y="2935440"/>
            <a:ext cx="608040" cy="199800"/>
          </a:xfrm>
          <a:custGeom>
            <a:avLst/>
            <a:gdLst/>
            <a:ahLst/>
            <a:rect l="l" t="t" r="r" b="b"/>
            <a:pathLst>
              <a:path w="1689" h="555">
                <a:moveTo>
                  <a:pt x="14100" y="8198"/>
                </a:moveTo>
                <a:cubicBezTo>
                  <a:pt x="14107" y="8242"/>
                  <a:pt x="14087" y="8276"/>
                  <a:pt x="14081" y="8320"/>
                </a:cubicBezTo>
                <a:cubicBezTo>
                  <a:pt x="14067" y="8419"/>
                  <a:pt x="14070" y="8520"/>
                  <a:pt x="14083" y="8619"/>
                </a:cubicBezTo>
                <a:cubicBezTo>
                  <a:pt x="14087" y="8653"/>
                  <a:pt x="14093" y="8676"/>
                  <a:pt x="14108" y="8706"/>
                </a:cubicBezTo>
              </a:path>
              <a:path w="1689" h="555">
                <a:moveTo>
                  <a:pt x="14240" y="8509"/>
                </a:moveTo>
                <a:cubicBezTo>
                  <a:pt x="14240" y="8538"/>
                  <a:pt x="14236" y="8566"/>
                  <a:pt x="14233" y="8595"/>
                </a:cubicBezTo>
                <a:cubicBezTo>
                  <a:pt x="14231" y="8614"/>
                  <a:pt x="14230" y="8630"/>
                  <a:pt x="14232" y="8649"/>
                </a:cubicBezTo>
              </a:path>
              <a:path w="1689" h="555">
                <a:moveTo>
                  <a:pt x="14291" y="8361"/>
                </a:moveTo>
                <a:cubicBezTo>
                  <a:pt x="14290" y="8337"/>
                  <a:pt x="14291" y="8314"/>
                  <a:pt x="14291" y="8290"/>
                </a:cubicBezTo>
                <a:cubicBezTo>
                  <a:pt x="14291" y="8267"/>
                  <a:pt x="14301" y="8274"/>
                  <a:pt x="14320" y="8276"/>
                </a:cubicBezTo>
              </a:path>
              <a:path w="1689" h="555">
                <a:moveTo>
                  <a:pt x="14640" y="8441"/>
                </a:moveTo>
                <a:cubicBezTo>
                  <a:pt x="14614" y="8426"/>
                  <a:pt x="14607" y="8435"/>
                  <a:pt x="14580" y="8444"/>
                </a:cubicBezTo>
                <a:cubicBezTo>
                  <a:pt x="14548" y="8455"/>
                  <a:pt x="14524" y="8472"/>
                  <a:pt x="14508" y="8504"/>
                </a:cubicBezTo>
                <a:cubicBezTo>
                  <a:pt x="14496" y="8529"/>
                  <a:pt x="14501" y="8555"/>
                  <a:pt x="14526" y="8569"/>
                </a:cubicBezTo>
                <a:cubicBezTo>
                  <a:pt x="14561" y="8588"/>
                  <a:pt x="14600" y="8589"/>
                  <a:pt x="14639" y="8592"/>
                </a:cubicBezTo>
              </a:path>
              <a:path w="1689" h="555">
                <a:moveTo>
                  <a:pt x="14850" y="8476"/>
                </a:moveTo>
                <a:cubicBezTo>
                  <a:pt x="14836" y="8464"/>
                  <a:pt x="14814" y="8456"/>
                  <a:pt x="14795" y="8467"/>
                </a:cubicBezTo>
                <a:cubicBezTo>
                  <a:pt x="14774" y="8479"/>
                  <a:pt x="14747" y="8503"/>
                  <a:pt x="14733" y="8524"/>
                </a:cubicBezTo>
                <a:cubicBezTo>
                  <a:pt x="14727" y="8538"/>
                  <a:pt x="14725" y="8542"/>
                  <a:pt x="14734" y="8550"/>
                </a:cubicBezTo>
                <a:cubicBezTo>
                  <a:pt x="14766" y="8554"/>
                  <a:pt x="14795" y="8555"/>
                  <a:pt x="14826" y="8566"/>
                </a:cubicBezTo>
                <a:cubicBezTo>
                  <a:pt x="14858" y="8578"/>
                  <a:pt x="14874" y="8602"/>
                  <a:pt x="14899" y="8624"/>
                </a:cubicBezTo>
                <a:cubicBezTo>
                  <a:pt x="14920" y="8642"/>
                  <a:pt x="14930" y="8642"/>
                  <a:pt x="14956" y="8644"/>
                </a:cubicBezTo>
              </a:path>
              <a:path w="1689" h="555">
                <a:moveTo>
                  <a:pt x="15111" y="8152"/>
                </a:moveTo>
                <a:cubicBezTo>
                  <a:pt x="15088" y="8179"/>
                  <a:pt x="15075" y="8236"/>
                  <a:pt x="15069" y="8273"/>
                </a:cubicBezTo>
                <a:cubicBezTo>
                  <a:pt x="15057" y="8343"/>
                  <a:pt x="15056" y="8421"/>
                  <a:pt x="15056" y="8492"/>
                </a:cubicBezTo>
                <a:cubicBezTo>
                  <a:pt x="15057" y="8529"/>
                  <a:pt x="15057" y="8538"/>
                  <a:pt x="15059" y="8561"/>
                </a:cubicBezTo>
              </a:path>
              <a:path w="1689" h="555">
                <a:moveTo>
                  <a:pt x="14981" y="8422"/>
                </a:moveTo>
                <a:cubicBezTo>
                  <a:pt x="14984" y="8402"/>
                  <a:pt x="14996" y="8391"/>
                  <a:pt x="15016" y="8383"/>
                </a:cubicBezTo>
                <a:cubicBezTo>
                  <a:pt x="15052" y="8368"/>
                  <a:pt x="15101" y="8359"/>
                  <a:pt x="15140" y="8352"/>
                </a:cubicBezTo>
                <a:cubicBezTo>
                  <a:pt x="15173" y="8346"/>
                  <a:pt x="15203" y="8346"/>
                  <a:pt x="15236" y="8348"/>
                </a:cubicBezTo>
              </a:path>
              <a:path w="1689" h="555">
                <a:moveTo>
                  <a:pt x="15272" y="8459"/>
                </a:moveTo>
                <a:cubicBezTo>
                  <a:pt x="15264" y="8486"/>
                  <a:pt x="15252" y="8517"/>
                  <a:pt x="15247" y="8544"/>
                </a:cubicBezTo>
                <a:cubicBezTo>
                  <a:pt x="15245" y="8557"/>
                  <a:pt x="15252" y="8568"/>
                  <a:pt x="15258" y="8578"/>
                </a:cubicBezTo>
              </a:path>
              <a:path w="1689" h="555">
                <a:moveTo>
                  <a:pt x="15306" y="8268"/>
                </a:moveTo>
                <a:cubicBezTo>
                  <a:pt x="15311" y="8242"/>
                  <a:pt x="15308" y="8221"/>
                  <a:pt x="15329" y="8205"/>
                </a:cubicBezTo>
              </a:path>
              <a:path w="1689" h="555">
                <a:moveTo>
                  <a:pt x="15407" y="8484"/>
                </a:moveTo>
                <a:cubicBezTo>
                  <a:pt x="15415" y="8501"/>
                  <a:pt x="15425" y="8528"/>
                  <a:pt x="15447" y="8533"/>
                </a:cubicBezTo>
                <a:cubicBezTo>
                  <a:pt x="15475" y="8540"/>
                  <a:pt x="15496" y="8519"/>
                  <a:pt x="15511" y="8498"/>
                </a:cubicBezTo>
                <a:cubicBezTo>
                  <a:pt x="15532" y="8470"/>
                  <a:pt x="15549" y="8439"/>
                  <a:pt x="15566" y="8409"/>
                </a:cubicBezTo>
                <a:cubicBezTo>
                  <a:pt x="15576" y="8391"/>
                  <a:pt x="15583" y="8376"/>
                  <a:pt x="15595" y="8360"/>
                </a:cubicBezTo>
              </a:path>
              <a:path w="1689" h="555">
                <a:moveTo>
                  <a:pt x="15692" y="8460"/>
                </a:moveTo>
                <a:cubicBezTo>
                  <a:pt x="15708" y="8450"/>
                  <a:pt x="15735" y="8431"/>
                  <a:pt x="15744" y="8415"/>
                </a:cubicBezTo>
                <a:cubicBezTo>
                  <a:pt x="15753" y="8400"/>
                  <a:pt x="15757" y="8381"/>
                  <a:pt x="15759" y="8365"/>
                </a:cubicBezTo>
                <a:cubicBezTo>
                  <a:pt x="15729" y="8349"/>
                  <a:pt x="15710" y="8372"/>
                  <a:pt x="15685" y="8397"/>
                </a:cubicBezTo>
                <a:cubicBezTo>
                  <a:pt x="15649" y="8433"/>
                  <a:pt x="15618" y="8471"/>
                  <a:pt x="15603" y="8520"/>
                </a:cubicBezTo>
                <a:cubicBezTo>
                  <a:pt x="15593" y="8552"/>
                  <a:pt x="15593" y="8577"/>
                  <a:pt x="15626" y="8590"/>
                </a:cubicBezTo>
                <a:cubicBezTo>
                  <a:pt x="15650" y="8599"/>
                  <a:pt x="15675" y="8599"/>
                  <a:pt x="15700" y="859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949320" y="3195720"/>
            <a:ext cx="468360" cy="357120"/>
          </a:xfrm>
          <a:custGeom>
            <a:avLst/>
            <a:gdLst/>
            <a:ahLst/>
            <a:rect l="l" t="t" r="r" b="b"/>
            <a:pathLst>
              <a:path w="1297" h="990">
                <a:moveTo>
                  <a:pt x="3685" y="9258"/>
                </a:moveTo>
                <a:cubicBezTo>
                  <a:pt x="3679" y="9241"/>
                  <a:pt x="3672" y="9222"/>
                  <a:pt x="3659" y="9204"/>
                </a:cubicBezTo>
                <a:cubicBezTo>
                  <a:pt x="3641" y="9179"/>
                  <a:pt x="3619" y="9153"/>
                  <a:pt x="3593" y="9136"/>
                </a:cubicBezTo>
                <a:cubicBezTo>
                  <a:pt x="3558" y="9113"/>
                  <a:pt x="3525" y="9137"/>
                  <a:pt x="3498" y="9161"/>
                </a:cubicBezTo>
                <a:cubicBezTo>
                  <a:pt x="3450" y="9203"/>
                  <a:pt x="3414" y="9258"/>
                  <a:pt x="3389" y="9316"/>
                </a:cubicBezTo>
                <a:cubicBezTo>
                  <a:pt x="3372" y="9356"/>
                  <a:pt x="3361" y="9402"/>
                  <a:pt x="3409" y="9423"/>
                </a:cubicBezTo>
                <a:cubicBezTo>
                  <a:pt x="3461" y="9446"/>
                  <a:pt x="3518" y="9448"/>
                  <a:pt x="3569" y="9477"/>
                </a:cubicBezTo>
                <a:cubicBezTo>
                  <a:pt x="3619" y="9506"/>
                  <a:pt x="3658" y="9558"/>
                  <a:pt x="3665" y="9617"/>
                </a:cubicBezTo>
                <a:cubicBezTo>
                  <a:pt x="3671" y="9668"/>
                  <a:pt x="3652" y="9721"/>
                  <a:pt x="3608" y="9749"/>
                </a:cubicBezTo>
                <a:cubicBezTo>
                  <a:pt x="3572" y="9772"/>
                  <a:pt x="3515" y="9773"/>
                  <a:pt x="3482" y="9741"/>
                </a:cubicBezTo>
                <a:cubicBezTo>
                  <a:pt x="3453" y="9713"/>
                  <a:pt x="3461" y="9678"/>
                  <a:pt x="3462" y="9643"/>
                </a:cubicBezTo>
              </a:path>
              <a:path w="1297" h="990">
                <a:moveTo>
                  <a:pt x="3900" y="9589"/>
                </a:moveTo>
                <a:cubicBezTo>
                  <a:pt x="3907" y="9566"/>
                  <a:pt x="3906" y="9548"/>
                  <a:pt x="3909" y="9525"/>
                </a:cubicBezTo>
                <a:cubicBezTo>
                  <a:pt x="3912" y="9503"/>
                  <a:pt x="3924" y="9487"/>
                  <a:pt x="3935" y="9469"/>
                </a:cubicBezTo>
              </a:path>
              <a:path w="1297" h="990">
                <a:moveTo>
                  <a:pt x="3065" y="8878"/>
                </a:moveTo>
                <a:cubicBezTo>
                  <a:pt x="3022" y="8914"/>
                  <a:pt x="2999" y="8961"/>
                  <a:pt x="2967" y="9008"/>
                </a:cubicBezTo>
                <a:cubicBezTo>
                  <a:pt x="2892" y="9118"/>
                  <a:pt x="2826" y="9231"/>
                  <a:pt x="2765" y="9349"/>
                </a:cubicBezTo>
                <a:cubicBezTo>
                  <a:pt x="2710" y="9457"/>
                  <a:pt x="2648" y="9571"/>
                  <a:pt x="2639" y="9694"/>
                </a:cubicBezTo>
                <a:cubicBezTo>
                  <a:pt x="2634" y="9762"/>
                  <a:pt x="2660" y="9823"/>
                  <a:pt x="2725" y="9849"/>
                </a:cubicBezTo>
                <a:cubicBezTo>
                  <a:pt x="2792" y="9876"/>
                  <a:pt x="2857" y="9863"/>
                  <a:pt x="2925" y="985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1587600" y="3295800"/>
            <a:ext cx="193680" cy="212400"/>
          </a:xfrm>
          <a:custGeom>
            <a:avLst/>
            <a:gdLst/>
            <a:ahLst/>
            <a:rect l="l" t="t" r="r" b="b"/>
            <a:pathLst>
              <a:path w="538" h="591">
                <a:moveTo>
                  <a:pt x="4424" y="9162"/>
                </a:moveTo>
                <a:cubicBezTo>
                  <a:pt x="4420" y="9159"/>
                  <a:pt x="4416" y="9157"/>
                  <a:pt x="4412" y="9154"/>
                </a:cubicBezTo>
                <a:cubicBezTo>
                  <a:pt x="4414" y="9180"/>
                  <a:pt x="4414" y="9207"/>
                  <a:pt x="4418" y="9233"/>
                </a:cubicBezTo>
                <a:cubicBezTo>
                  <a:pt x="4431" y="9309"/>
                  <a:pt x="4446" y="9384"/>
                  <a:pt x="4458" y="9460"/>
                </a:cubicBezTo>
                <a:cubicBezTo>
                  <a:pt x="4470" y="9531"/>
                  <a:pt x="4482" y="9603"/>
                  <a:pt x="4491" y="9675"/>
                </a:cubicBezTo>
                <a:cubicBezTo>
                  <a:pt x="4493" y="9695"/>
                  <a:pt x="4493" y="9698"/>
                  <a:pt x="4493" y="9710"/>
                </a:cubicBezTo>
              </a:path>
              <a:path w="538" h="591">
                <a:moveTo>
                  <a:pt x="4635" y="9311"/>
                </a:moveTo>
                <a:cubicBezTo>
                  <a:pt x="4617" y="9353"/>
                  <a:pt x="4593" y="9398"/>
                  <a:pt x="4581" y="9443"/>
                </a:cubicBezTo>
                <a:cubicBezTo>
                  <a:pt x="4562" y="9515"/>
                  <a:pt x="4544" y="9611"/>
                  <a:pt x="4573" y="9683"/>
                </a:cubicBezTo>
                <a:cubicBezTo>
                  <a:pt x="4602" y="9755"/>
                  <a:pt x="4677" y="9754"/>
                  <a:pt x="4739" y="9729"/>
                </a:cubicBezTo>
                <a:cubicBezTo>
                  <a:pt x="4816" y="9698"/>
                  <a:pt x="4883" y="9625"/>
                  <a:pt x="4919" y="9552"/>
                </a:cubicBezTo>
                <a:cubicBezTo>
                  <a:pt x="4950" y="9488"/>
                  <a:pt x="4962" y="9409"/>
                  <a:pt x="4924" y="9346"/>
                </a:cubicBezTo>
                <a:cubicBezTo>
                  <a:pt x="4898" y="9303"/>
                  <a:pt x="4841" y="9282"/>
                  <a:pt x="4793" y="9283"/>
                </a:cubicBezTo>
                <a:cubicBezTo>
                  <a:pt x="4766" y="9289"/>
                  <a:pt x="4758" y="9290"/>
                  <a:pt x="4741" y="929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2013120" y="3251160"/>
            <a:ext cx="406080" cy="236520"/>
          </a:xfrm>
          <a:custGeom>
            <a:avLst/>
            <a:gdLst/>
            <a:ahLst/>
            <a:rect l="l" t="t" r="r" b="b"/>
            <a:pathLst>
              <a:path w="1132" h="654">
                <a:moveTo>
                  <a:pt x="5656" y="9329"/>
                </a:moveTo>
                <a:cubicBezTo>
                  <a:pt x="5628" y="9349"/>
                  <a:pt x="5603" y="9392"/>
                  <a:pt x="5597" y="9428"/>
                </a:cubicBezTo>
                <a:cubicBezTo>
                  <a:pt x="5587" y="9488"/>
                  <a:pt x="5587" y="9559"/>
                  <a:pt x="5592" y="9619"/>
                </a:cubicBezTo>
                <a:cubicBezTo>
                  <a:pt x="5596" y="9645"/>
                  <a:pt x="5595" y="9650"/>
                  <a:pt x="5604" y="9664"/>
                </a:cubicBezTo>
                <a:cubicBezTo>
                  <a:pt x="5631" y="9632"/>
                  <a:pt x="5643" y="9604"/>
                  <a:pt x="5656" y="9557"/>
                </a:cubicBezTo>
                <a:cubicBezTo>
                  <a:pt x="5676" y="9483"/>
                  <a:pt x="5695" y="9408"/>
                  <a:pt x="5719" y="9334"/>
                </a:cubicBezTo>
                <a:cubicBezTo>
                  <a:pt x="5731" y="9297"/>
                  <a:pt x="5739" y="9295"/>
                  <a:pt x="5756" y="9275"/>
                </a:cubicBezTo>
                <a:cubicBezTo>
                  <a:pt x="5778" y="9334"/>
                  <a:pt x="5778" y="9398"/>
                  <a:pt x="5786" y="9460"/>
                </a:cubicBezTo>
                <a:cubicBezTo>
                  <a:pt x="5790" y="9493"/>
                  <a:pt x="5794" y="9526"/>
                  <a:pt x="5797" y="9560"/>
                </a:cubicBezTo>
                <a:cubicBezTo>
                  <a:pt x="5825" y="9540"/>
                  <a:pt x="5828" y="9507"/>
                  <a:pt x="5841" y="9473"/>
                </a:cubicBezTo>
                <a:cubicBezTo>
                  <a:pt x="5853" y="9440"/>
                  <a:pt x="5864" y="9413"/>
                  <a:pt x="5896" y="9403"/>
                </a:cubicBezTo>
                <a:cubicBezTo>
                  <a:pt x="5924" y="9439"/>
                  <a:pt x="5931" y="9479"/>
                  <a:pt x="5945" y="9522"/>
                </a:cubicBezTo>
                <a:cubicBezTo>
                  <a:pt x="5960" y="9570"/>
                  <a:pt x="5973" y="9633"/>
                  <a:pt x="6004" y="9674"/>
                </a:cubicBezTo>
                <a:cubicBezTo>
                  <a:pt x="6019" y="9686"/>
                  <a:pt x="6023" y="9690"/>
                  <a:pt x="6037" y="9686"/>
                </a:cubicBezTo>
              </a:path>
              <a:path w="1132" h="654">
                <a:moveTo>
                  <a:pt x="6255" y="9420"/>
                </a:moveTo>
                <a:cubicBezTo>
                  <a:pt x="6248" y="9397"/>
                  <a:pt x="6232" y="9373"/>
                  <a:pt x="6201" y="9381"/>
                </a:cubicBezTo>
                <a:cubicBezTo>
                  <a:pt x="6159" y="9392"/>
                  <a:pt x="6123" y="9445"/>
                  <a:pt x="6106" y="9481"/>
                </a:cubicBezTo>
                <a:cubicBezTo>
                  <a:pt x="6088" y="9519"/>
                  <a:pt x="6066" y="9586"/>
                  <a:pt x="6103" y="9621"/>
                </a:cubicBezTo>
                <a:cubicBezTo>
                  <a:pt x="6138" y="9655"/>
                  <a:pt x="6203" y="9612"/>
                  <a:pt x="6230" y="9590"/>
                </a:cubicBezTo>
                <a:cubicBezTo>
                  <a:pt x="6271" y="9556"/>
                  <a:pt x="6306" y="9501"/>
                  <a:pt x="6320" y="9450"/>
                </a:cubicBezTo>
                <a:cubicBezTo>
                  <a:pt x="6328" y="9420"/>
                  <a:pt x="6328" y="9394"/>
                  <a:pt x="6302" y="9375"/>
                </a:cubicBezTo>
                <a:cubicBezTo>
                  <a:pt x="6299" y="9373"/>
                  <a:pt x="6295" y="9372"/>
                  <a:pt x="6292" y="9370"/>
                </a:cubicBezTo>
              </a:path>
              <a:path w="1132" h="654">
                <a:moveTo>
                  <a:pt x="6568" y="9438"/>
                </a:moveTo>
                <a:cubicBezTo>
                  <a:pt x="6558" y="9409"/>
                  <a:pt x="6549" y="9372"/>
                  <a:pt x="6517" y="9358"/>
                </a:cubicBezTo>
                <a:cubicBezTo>
                  <a:pt x="6508" y="9356"/>
                  <a:pt x="6500" y="9354"/>
                  <a:pt x="6491" y="9352"/>
                </a:cubicBezTo>
                <a:cubicBezTo>
                  <a:pt x="6448" y="9382"/>
                  <a:pt x="6423" y="9418"/>
                  <a:pt x="6410" y="9471"/>
                </a:cubicBezTo>
                <a:cubicBezTo>
                  <a:pt x="6397" y="9523"/>
                  <a:pt x="6392" y="9603"/>
                  <a:pt x="6433" y="9646"/>
                </a:cubicBezTo>
                <a:cubicBezTo>
                  <a:pt x="6441" y="9650"/>
                  <a:pt x="6450" y="9655"/>
                  <a:pt x="6458" y="9659"/>
                </a:cubicBezTo>
                <a:cubicBezTo>
                  <a:pt x="6519" y="9640"/>
                  <a:pt x="6554" y="9608"/>
                  <a:pt x="6583" y="9548"/>
                </a:cubicBezTo>
                <a:cubicBezTo>
                  <a:pt x="6635" y="9442"/>
                  <a:pt x="6646" y="9314"/>
                  <a:pt x="6651" y="9198"/>
                </a:cubicBezTo>
                <a:cubicBezTo>
                  <a:pt x="6653" y="9140"/>
                  <a:pt x="6649" y="9087"/>
                  <a:pt x="6639" y="9033"/>
                </a:cubicBezTo>
                <a:cubicBezTo>
                  <a:pt x="6619" y="9092"/>
                  <a:pt x="6607" y="9147"/>
                  <a:pt x="6604" y="9213"/>
                </a:cubicBezTo>
                <a:cubicBezTo>
                  <a:pt x="6600" y="9324"/>
                  <a:pt x="6613" y="9436"/>
                  <a:pt x="6644" y="9542"/>
                </a:cubicBezTo>
                <a:cubicBezTo>
                  <a:pt x="6661" y="9601"/>
                  <a:pt x="6683" y="9633"/>
                  <a:pt x="6721" y="967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556000" y="3273480"/>
            <a:ext cx="168120" cy="228600"/>
          </a:xfrm>
          <a:custGeom>
            <a:avLst/>
            <a:gdLst/>
            <a:ahLst/>
            <a:rect l="l" t="t" r="r" b="b"/>
            <a:pathLst>
              <a:path w="469" h="636">
                <a:moveTo>
                  <a:pt x="7328" y="9633"/>
                </a:moveTo>
                <a:cubicBezTo>
                  <a:pt x="7342" y="9673"/>
                  <a:pt x="7347" y="9699"/>
                  <a:pt x="7379" y="9726"/>
                </a:cubicBezTo>
                <a:cubicBezTo>
                  <a:pt x="7416" y="9692"/>
                  <a:pt x="7443" y="9658"/>
                  <a:pt x="7464" y="9610"/>
                </a:cubicBezTo>
                <a:cubicBezTo>
                  <a:pt x="7501" y="9526"/>
                  <a:pt x="7533" y="9436"/>
                  <a:pt x="7552" y="9346"/>
                </a:cubicBezTo>
                <a:cubicBezTo>
                  <a:pt x="7565" y="9284"/>
                  <a:pt x="7585" y="9191"/>
                  <a:pt x="7551" y="9132"/>
                </a:cubicBezTo>
                <a:cubicBezTo>
                  <a:pt x="7520" y="9077"/>
                  <a:pt x="7436" y="9087"/>
                  <a:pt x="7386" y="9099"/>
                </a:cubicBezTo>
                <a:cubicBezTo>
                  <a:pt x="7308" y="9117"/>
                  <a:pt x="7229" y="9151"/>
                  <a:pt x="7158" y="9187"/>
                </a:cubicBezTo>
                <a:cubicBezTo>
                  <a:pt x="7127" y="9205"/>
                  <a:pt x="7121" y="9210"/>
                  <a:pt x="7099" y="9214"/>
                </a:cubicBezTo>
                <a:cubicBezTo>
                  <a:pt x="7129" y="9204"/>
                  <a:pt x="7160" y="9194"/>
                  <a:pt x="7190" y="918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3071880" y="3306600"/>
            <a:ext cx="218880" cy="146160"/>
          </a:xfrm>
          <a:custGeom>
            <a:avLst/>
            <a:gdLst/>
            <a:ahLst/>
            <a:rect l="l" t="t" r="r" b="b"/>
            <a:pathLst>
              <a:path w="608" h="403">
                <a:moveTo>
                  <a:pt x="8533" y="9320"/>
                </a:moveTo>
                <a:cubicBezTo>
                  <a:pt x="8550" y="9301"/>
                  <a:pt x="8582" y="9276"/>
                  <a:pt x="8605" y="9266"/>
                </a:cubicBezTo>
                <a:cubicBezTo>
                  <a:pt x="8684" y="9233"/>
                  <a:pt x="8768" y="9213"/>
                  <a:pt x="8852" y="9198"/>
                </a:cubicBezTo>
                <a:cubicBezTo>
                  <a:pt x="8930" y="9184"/>
                  <a:pt x="9028" y="9171"/>
                  <a:pt x="9105" y="9197"/>
                </a:cubicBezTo>
                <a:cubicBezTo>
                  <a:pt x="9129" y="9211"/>
                  <a:pt x="9137" y="9214"/>
                  <a:pt x="9140" y="9233"/>
                </a:cubicBezTo>
              </a:path>
              <a:path w="608" h="403">
                <a:moveTo>
                  <a:pt x="8663" y="9543"/>
                </a:moveTo>
                <a:cubicBezTo>
                  <a:pt x="8657" y="9546"/>
                  <a:pt x="8534" y="9595"/>
                  <a:pt x="8564" y="9585"/>
                </a:cubicBezTo>
                <a:cubicBezTo>
                  <a:pt x="8624" y="9548"/>
                  <a:pt x="8690" y="9528"/>
                  <a:pt x="8761" y="9515"/>
                </a:cubicBezTo>
                <a:cubicBezTo>
                  <a:pt x="8853" y="9498"/>
                  <a:pt x="8942" y="9495"/>
                  <a:pt x="9035" y="9498"/>
                </a:cubicBezTo>
                <a:cubicBezTo>
                  <a:pt x="9052" y="9499"/>
                  <a:pt x="9068" y="9499"/>
                  <a:pt x="9085" y="950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3552840" y="3313080"/>
            <a:ext cx="7920" cy="206280"/>
          </a:xfrm>
          <a:custGeom>
            <a:avLst/>
            <a:gdLst/>
            <a:ahLst/>
            <a:rect l="l" t="t" r="r" b="b"/>
            <a:pathLst>
              <a:path w="26" h="576">
                <a:moveTo>
                  <a:pt x="9867" y="9213"/>
                </a:moveTo>
                <a:cubicBezTo>
                  <a:pt x="9894" y="9198"/>
                  <a:pt x="9876" y="9268"/>
                  <a:pt x="9876" y="9294"/>
                </a:cubicBezTo>
                <a:cubicBezTo>
                  <a:pt x="9876" y="9376"/>
                  <a:pt x="9883" y="9459"/>
                  <a:pt x="9885" y="9541"/>
                </a:cubicBezTo>
                <a:cubicBezTo>
                  <a:pt x="9886" y="9619"/>
                  <a:pt x="9891" y="9698"/>
                  <a:pt x="9889" y="977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3695760" y="3247920"/>
            <a:ext cx="57240" cy="289080"/>
          </a:xfrm>
          <a:custGeom>
            <a:avLst/>
            <a:gdLst/>
            <a:ahLst/>
            <a:rect l="l" t="t" r="r" b="b"/>
            <a:pathLst>
              <a:path w="160" h="799">
                <a:moveTo>
                  <a:pt x="10265" y="9055"/>
                </a:moveTo>
                <a:cubicBezTo>
                  <a:pt x="10284" y="9039"/>
                  <a:pt x="10314" y="9004"/>
                  <a:pt x="10338" y="9037"/>
                </a:cubicBezTo>
                <a:cubicBezTo>
                  <a:pt x="10373" y="9085"/>
                  <a:pt x="10383" y="9156"/>
                  <a:pt x="10396" y="9212"/>
                </a:cubicBezTo>
                <a:cubicBezTo>
                  <a:pt x="10419" y="9310"/>
                  <a:pt x="10427" y="9406"/>
                  <a:pt x="10419" y="9506"/>
                </a:cubicBezTo>
                <a:cubicBezTo>
                  <a:pt x="10412" y="9595"/>
                  <a:pt x="10383" y="9665"/>
                  <a:pt x="10355" y="9748"/>
                </a:cubicBezTo>
                <a:cubicBezTo>
                  <a:pt x="10346" y="9774"/>
                  <a:pt x="10342" y="9799"/>
                  <a:pt x="10338" y="982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4432320" y="3197160"/>
            <a:ext cx="1052640" cy="304920"/>
          </a:xfrm>
          <a:custGeom>
            <a:avLst/>
            <a:gdLst/>
            <a:ahLst/>
            <a:rect l="l" t="t" r="r" b="b"/>
            <a:pathLst>
              <a:path w="2922" h="847">
                <a:moveTo>
                  <a:pt x="12387" y="9132"/>
                </a:moveTo>
                <a:cubicBezTo>
                  <a:pt x="12387" y="9127"/>
                  <a:pt x="12387" y="9121"/>
                  <a:pt x="12387" y="9116"/>
                </a:cubicBezTo>
                <a:cubicBezTo>
                  <a:pt x="12375" y="9146"/>
                  <a:pt x="12383" y="9178"/>
                  <a:pt x="12383" y="9211"/>
                </a:cubicBezTo>
                <a:cubicBezTo>
                  <a:pt x="12383" y="9273"/>
                  <a:pt x="12385" y="9337"/>
                  <a:pt x="12380" y="9399"/>
                </a:cubicBezTo>
                <a:cubicBezTo>
                  <a:pt x="12375" y="9465"/>
                  <a:pt x="12364" y="9530"/>
                  <a:pt x="12352" y="9595"/>
                </a:cubicBezTo>
                <a:cubicBezTo>
                  <a:pt x="12350" y="9609"/>
                  <a:pt x="12321" y="9716"/>
                  <a:pt x="12333" y="9726"/>
                </a:cubicBezTo>
                <a:cubicBezTo>
                  <a:pt x="12349" y="9716"/>
                  <a:pt x="12354" y="9711"/>
                  <a:pt x="12357" y="9696"/>
                </a:cubicBezTo>
              </a:path>
              <a:path w="2922" h="847">
                <a:moveTo>
                  <a:pt x="12314" y="8986"/>
                </a:moveTo>
                <a:cubicBezTo>
                  <a:pt x="12313" y="8959"/>
                  <a:pt x="12307" y="8912"/>
                  <a:pt x="12326" y="8889"/>
                </a:cubicBezTo>
                <a:cubicBezTo>
                  <a:pt x="12341" y="8871"/>
                  <a:pt x="12369" y="8886"/>
                  <a:pt x="12384" y="8893"/>
                </a:cubicBezTo>
              </a:path>
              <a:path w="2922" h="847">
                <a:moveTo>
                  <a:pt x="12553" y="9431"/>
                </a:moveTo>
                <a:cubicBezTo>
                  <a:pt x="12561" y="9503"/>
                  <a:pt x="12563" y="9573"/>
                  <a:pt x="12567" y="9644"/>
                </a:cubicBezTo>
                <a:cubicBezTo>
                  <a:pt x="12567" y="9648"/>
                  <a:pt x="12567" y="9651"/>
                  <a:pt x="12567" y="9655"/>
                </a:cubicBezTo>
                <a:cubicBezTo>
                  <a:pt x="12577" y="9610"/>
                  <a:pt x="12584" y="9564"/>
                  <a:pt x="12596" y="9519"/>
                </a:cubicBezTo>
                <a:cubicBezTo>
                  <a:pt x="12618" y="9435"/>
                  <a:pt x="12641" y="9334"/>
                  <a:pt x="12691" y="9261"/>
                </a:cubicBezTo>
                <a:cubicBezTo>
                  <a:pt x="12697" y="9254"/>
                  <a:pt x="12704" y="9248"/>
                  <a:pt x="12710" y="9241"/>
                </a:cubicBezTo>
                <a:cubicBezTo>
                  <a:pt x="12754" y="9241"/>
                  <a:pt x="12754" y="9280"/>
                  <a:pt x="12762" y="9322"/>
                </a:cubicBezTo>
                <a:cubicBezTo>
                  <a:pt x="12776" y="9402"/>
                  <a:pt x="12782" y="9487"/>
                  <a:pt x="12802" y="9565"/>
                </a:cubicBezTo>
                <a:cubicBezTo>
                  <a:pt x="12809" y="9590"/>
                  <a:pt x="12815" y="9602"/>
                  <a:pt x="12834" y="9615"/>
                </a:cubicBezTo>
              </a:path>
              <a:path w="2922" h="847">
                <a:moveTo>
                  <a:pt x="12956" y="9211"/>
                </a:moveTo>
                <a:cubicBezTo>
                  <a:pt x="12963" y="9260"/>
                  <a:pt x="12971" y="9308"/>
                  <a:pt x="12981" y="9356"/>
                </a:cubicBezTo>
                <a:cubicBezTo>
                  <a:pt x="12994" y="9418"/>
                  <a:pt x="13008" y="9483"/>
                  <a:pt x="13033" y="9542"/>
                </a:cubicBezTo>
                <a:cubicBezTo>
                  <a:pt x="13045" y="9563"/>
                  <a:pt x="13047" y="9569"/>
                  <a:pt x="13059" y="9579"/>
                </a:cubicBezTo>
                <a:cubicBezTo>
                  <a:pt x="13089" y="9564"/>
                  <a:pt x="13093" y="9532"/>
                  <a:pt x="13103" y="9500"/>
                </a:cubicBezTo>
                <a:cubicBezTo>
                  <a:pt x="13122" y="9437"/>
                  <a:pt x="13136" y="9374"/>
                  <a:pt x="13150" y="9310"/>
                </a:cubicBezTo>
                <a:cubicBezTo>
                  <a:pt x="13158" y="9275"/>
                  <a:pt x="13165" y="9241"/>
                  <a:pt x="13182" y="9210"/>
                </a:cubicBezTo>
              </a:path>
              <a:path w="2922" h="847">
                <a:moveTo>
                  <a:pt x="13242" y="9374"/>
                </a:moveTo>
                <a:cubicBezTo>
                  <a:pt x="13279" y="9368"/>
                  <a:pt x="13312" y="9343"/>
                  <a:pt x="13340" y="9316"/>
                </a:cubicBezTo>
                <a:cubicBezTo>
                  <a:pt x="13388" y="9270"/>
                  <a:pt x="13437" y="9226"/>
                  <a:pt x="13486" y="9181"/>
                </a:cubicBezTo>
                <a:cubicBezTo>
                  <a:pt x="13510" y="9158"/>
                  <a:pt x="13515" y="9152"/>
                  <a:pt x="13532" y="9140"/>
                </a:cubicBezTo>
                <a:cubicBezTo>
                  <a:pt x="13477" y="9210"/>
                  <a:pt x="13417" y="9276"/>
                  <a:pt x="13374" y="9355"/>
                </a:cubicBezTo>
                <a:cubicBezTo>
                  <a:pt x="13350" y="9399"/>
                  <a:pt x="13307" y="9477"/>
                  <a:pt x="13343" y="9526"/>
                </a:cubicBezTo>
                <a:cubicBezTo>
                  <a:pt x="13370" y="9562"/>
                  <a:pt x="13439" y="9548"/>
                  <a:pt x="13472" y="9532"/>
                </a:cubicBezTo>
                <a:cubicBezTo>
                  <a:pt x="13509" y="9514"/>
                  <a:pt x="13554" y="9482"/>
                  <a:pt x="13581" y="9450"/>
                </a:cubicBezTo>
                <a:cubicBezTo>
                  <a:pt x="13605" y="9423"/>
                  <a:pt x="13576" y="9478"/>
                  <a:pt x="13575" y="9497"/>
                </a:cubicBezTo>
                <a:cubicBezTo>
                  <a:pt x="13569" y="9508"/>
                  <a:pt x="13567" y="9512"/>
                  <a:pt x="13576" y="9520"/>
                </a:cubicBezTo>
                <a:cubicBezTo>
                  <a:pt x="13589" y="9495"/>
                  <a:pt x="13601" y="9470"/>
                  <a:pt x="13610" y="9441"/>
                </a:cubicBezTo>
                <a:cubicBezTo>
                  <a:pt x="13628" y="9384"/>
                  <a:pt x="13640" y="9326"/>
                  <a:pt x="13670" y="9274"/>
                </a:cubicBezTo>
                <a:cubicBezTo>
                  <a:pt x="13694" y="9233"/>
                  <a:pt x="13730" y="9225"/>
                  <a:pt x="13773" y="9214"/>
                </a:cubicBezTo>
              </a:path>
              <a:path w="2922" h="847">
                <a:moveTo>
                  <a:pt x="14076" y="9212"/>
                </a:moveTo>
                <a:cubicBezTo>
                  <a:pt x="14036" y="9210"/>
                  <a:pt x="14003" y="9216"/>
                  <a:pt x="13964" y="9224"/>
                </a:cubicBezTo>
                <a:cubicBezTo>
                  <a:pt x="13933" y="9231"/>
                  <a:pt x="13878" y="9246"/>
                  <a:pt x="13869" y="9285"/>
                </a:cubicBezTo>
                <a:cubicBezTo>
                  <a:pt x="13860" y="9323"/>
                  <a:pt x="13926" y="9340"/>
                  <a:pt x="13948" y="9348"/>
                </a:cubicBezTo>
                <a:cubicBezTo>
                  <a:pt x="14010" y="9372"/>
                  <a:pt x="14075" y="9386"/>
                  <a:pt x="14133" y="9420"/>
                </a:cubicBezTo>
                <a:cubicBezTo>
                  <a:pt x="14177" y="9446"/>
                  <a:pt x="14217" y="9486"/>
                  <a:pt x="14211" y="9541"/>
                </a:cubicBezTo>
                <a:cubicBezTo>
                  <a:pt x="14206" y="9589"/>
                  <a:pt x="14162" y="9611"/>
                  <a:pt x="14121" y="9619"/>
                </a:cubicBezTo>
                <a:cubicBezTo>
                  <a:pt x="14077" y="9628"/>
                  <a:pt x="14033" y="9605"/>
                  <a:pt x="14010" y="9567"/>
                </a:cubicBezTo>
                <a:cubicBezTo>
                  <a:pt x="13997" y="9536"/>
                  <a:pt x="13993" y="9526"/>
                  <a:pt x="13995" y="9503"/>
                </a:cubicBezTo>
              </a:path>
              <a:path w="2922" h="847">
                <a:moveTo>
                  <a:pt x="14285" y="9401"/>
                </a:moveTo>
                <a:cubicBezTo>
                  <a:pt x="14320" y="9376"/>
                  <a:pt x="14358" y="9346"/>
                  <a:pt x="14385" y="9313"/>
                </a:cubicBezTo>
                <a:cubicBezTo>
                  <a:pt x="14408" y="9285"/>
                  <a:pt x="14429" y="9252"/>
                  <a:pt x="14447" y="9221"/>
                </a:cubicBezTo>
                <a:cubicBezTo>
                  <a:pt x="14408" y="9224"/>
                  <a:pt x="14383" y="9255"/>
                  <a:pt x="14356" y="9285"/>
                </a:cubicBezTo>
                <a:cubicBezTo>
                  <a:pt x="14319" y="9326"/>
                  <a:pt x="14251" y="9407"/>
                  <a:pt x="14271" y="9469"/>
                </a:cubicBezTo>
                <a:cubicBezTo>
                  <a:pt x="14288" y="9521"/>
                  <a:pt x="14396" y="9498"/>
                  <a:pt x="14430" y="9492"/>
                </a:cubicBezTo>
                <a:cubicBezTo>
                  <a:pt x="14502" y="9475"/>
                  <a:pt x="14527" y="9469"/>
                  <a:pt x="14575" y="9455"/>
                </a:cubicBezTo>
              </a:path>
              <a:path w="2922" h="847">
                <a:moveTo>
                  <a:pt x="14958" y="9302"/>
                </a:moveTo>
                <a:cubicBezTo>
                  <a:pt x="14910" y="9308"/>
                  <a:pt x="14862" y="9315"/>
                  <a:pt x="14814" y="9321"/>
                </a:cubicBezTo>
                <a:cubicBezTo>
                  <a:pt x="14771" y="9327"/>
                  <a:pt x="14734" y="9333"/>
                  <a:pt x="14693" y="9348"/>
                </a:cubicBezTo>
                <a:cubicBezTo>
                  <a:pt x="14717" y="9375"/>
                  <a:pt x="14753" y="9387"/>
                  <a:pt x="14783" y="9409"/>
                </a:cubicBezTo>
                <a:cubicBezTo>
                  <a:pt x="14832" y="9446"/>
                  <a:pt x="14893" y="9496"/>
                  <a:pt x="14906" y="9560"/>
                </a:cubicBezTo>
                <a:cubicBezTo>
                  <a:pt x="14914" y="9600"/>
                  <a:pt x="14892" y="9622"/>
                  <a:pt x="14854" y="9622"/>
                </a:cubicBezTo>
                <a:cubicBezTo>
                  <a:pt x="14807" y="9623"/>
                  <a:pt x="14776" y="9596"/>
                  <a:pt x="14750" y="9560"/>
                </a:cubicBezTo>
                <a:cubicBezTo>
                  <a:pt x="14732" y="9531"/>
                  <a:pt x="14726" y="9522"/>
                  <a:pt x="14724" y="9499"/>
                </a:cubicBezTo>
              </a:path>
              <a:path w="2922" h="847">
                <a:moveTo>
                  <a:pt x="15145" y="9639"/>
                </a:moveTo>
                <a:cubicBezTo>
                  <a:pt x="15150" y="9597"/>
                  <a:pt x="15161" y="9570"/>
                  <a:pt x="15183" y="9534"/>
                </a:cubicBezTo>
                <a:cubicBezTo>
                  <a:pt x="15198" y="9509"/>
                  <a:pt x="15216" y="9487"/>
                  <a:pt x="15233" y="946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994360" y="3216240"/>
            <a:ext cx="571680" cy="233280"/>
          </a:xfrm>
          <a:custGeom>
            <a:avLst/>
            <a:gdLst/>
            <a:ahLst/>
            <a:rect l="l" t="t" r="r" b="b"/>
            <a:pathLst>
              <a:path w="1589" h="651">
                <a:moveTo>
                  <a:pt x="16853" y="9216"/>
                </a:moveTo>
                <a:cubicBezTo>
                  <a:pt x="16827" y="9179"/>
                  <a:pt x="16799" y="9125"/>
                  <a:pt x="16745" y="9125"/>
                </a:cubicBezTo>
                <a:cubicBezTo>
                  <a:pt x="16691" y="9125"/>
                  <a:pt x="16663" y="9198"/>
                  <a:pt x="16655" y="9240"/>
                </a:cubicBezTo>
                <a:cubicBezTo>
                  <a:pt x="16640" y="9323"/>
                  <a:pt x="16661" y="9444"/>
                  <a:pt x="16723" y="9506"/>
                </a:cubicBezTo>
                <a:cubicBezTo>
                  <a:pt x="16765" y="9548"/>
                  <a:pt x="16824" y="9532"/>
                  <a:pt x="16856" y="9488"/>
                </a:cubicBezTo>
                <a:cubicBezTo>
                  <a:pt x="16904" y="9422"/>
                  <a:pt x="16916" y="9318"/>
                  <a:pt x="16924" y="9240"/>
                </a:cubicBezTo>
                <a:cubicBezTo>
                  <a:pt x="16933" y="9155"/>
                  <a:pt x="16936" y="9067"/>
                  <a:pt x="16928" y="8982"/>
                </a:cubicBezTo>
                <a:cubicBezTo>
                  <a:pt x="16924" y="8954"/>
                  <a:pt x="16925" y="8948"/>
                  <a:pt x="16917" y="8933"/>
                </a:cubicBezTo>
                <a:cubicBezTo>
                  <a:pt x="16892" y="9018"/>
                  <a:pt x="16894" y="9095"/>
                  <a:pt x="16903" y="9185"/>
                </a:cubicBezTo>
                <a:cubicBezTo>
                  <a:pt x="16914" y="9288"/>
                  <a:pt x="16940" y="9371"/>
                  <a:pt x="16989" y="9461"/>
                </a:cubicBezTo>
              </a:path>
              <a:path w="1589" h="651">
                <a:moveTo>
                  <a:pt x="17211" y="9270"/>
                </a:moveTo>
                <a:cubicBezTo>
                  <a:pt x="17181" y="9254"/>
                  <a:pt x="17150" y="9249"/>
                  <a:pt x="17123" y="9281"/>
                </a:cubicBezTo>
                <a:cubicBezTo>
                  <a:pt x="17087" y="9325"/>
                  <a:pt x="17075" y="9397"/>
                  <a:pt x="17079" y="9451"/>
                </a:cubicBezTo>
                <a:cubicBezTo>
                  <a:pt x="17083" y="9505"/>
                  <a:pt x="17106" y="9565"/>
                  <a:pt x="17163" y="9581"/>
                </a:cubicBezTo>
                <a:cubicBezTo>
                  <a:pt x="17218" y="9596"/>
                  <a:pt x="17270" y="9555"/>
                  <a:pt x="17302" y="9517"/>
                </a:cubicBezTo>
                <a:cubicBezTo>
                  <a:pt x="17342" y="9469"/>
                  <a:pt x="17358" y="9413"/>
                  <a:pt x="17356" y="9352"/>
                </a:cubicBezTo>
                <a:cubicBezTo>
                  <a:pt x="17354" y="9303"/>
                  <a:pt x="17337" y="9273"/>
                  <a:pt x="17294" y="9250"/>
                </a:cubicBezTo>
                <a:cubicBezTo>
                  <a:pt x="17258" y="9230"/>
                  <a:pt x="17222" y="9225"/>
                  <a:pt x="17184" y="9240"/>
                </a:cubicBezTo>
              </a:path>
              <a:path w="1589" h="651">
                <a:moveTo>
                  <a:pt x="17556" y="9363"/>
                </a:moveTo>
                <a:cubicBezTo>
                  <a:pt x="17590" y="9368"/>
                  <a:pt x="17600" y="9348"/>
                  <a:pt x="17628" y="9328"/>
                </a:cubicBezTo>
                <a:cubicBezTo>
                  <a:pt x="17675" y="9293"/>
                  <a:pt x="17723" y="9259"/>
                  <a:pt x="17771" y="9226"/>
                </a:cubicBezTo>
                <a:cubicBezTo>
                  <a:pt x="17776" y="9222"/>
                  <a:pt x="17782" y="9219"/>
                  <a:pt x="17787" y="9215"/>
                </a:cubicBezTo>
                <a:cubicBezTo>
                  <a:pt x="17746" y="9243"/>
                  <a:pt x="17706" y="9273"/>
                  <a:pt x="17668" y="9304"/>
                </a:cubicBezTo>
                <a:cubicBezTo>
                  <a:pt x="17626" y="9339"/>
                  <a:pt x="17575" y="9376"/>
                  <a:pt x="17555" y="9428"/>
                </a:cubicBezTo>
                <a:cubicBezTo>
                  <a:pt x="17551" y="9449"/>
                  <a:pt x="17549" y="9455"/>
                  <a:pt x="17560" y="9465"/>
                </a:cubicBezTo>
                <a:cubicBezTo>
                  <a:pt x="17612" y="9486"/>
                  <a:pt x="17656" y="9480"/>
                  <a:pt x="17712" y="9471"/>
                </a:cubicBezTo>
                <a:cubicBezTo>
                  <a:pt x="17730" y="9468"/>
                  <a:pt x="17748" y="9464"/>
                  <a:pt x="17766" y="9461"/>
                </a:cubicBezTo>
              </a:path>
              <a:path w="1589" h="651">
                <a:moveTo>
                  <a:pt x="18239" y="9260"/>
                </a:moveTo>
                <a:cubicBezTo>
                  <a:pt x="18195" y="9253"/>
                  <a:pt x="18143" y="9252"/>
                  <a:pt x="18098" y="9259"/>
                </a:cubicBezTo>
                <a:cubicBezTo>
                  <a:pt x="18065" y="9264"/>
                  <a:pt x="18019" y="9275"/>
                  <a:pt x="18003" y="9300"/>
                </a:cubicBezTo>
                <a:cubicBezTo>
                  <a:pt x="18048" y="9305"/>
                  <a:pt x="18094" y="9307"/>
                  <a:pt x="18138" y="9317"/>
                </a:cubicBezTo>
                <a:cubicBezTo>
                  <a:pt x="18178" y="9326"/>
                  <a:pt x="18232" y="9342"/>
                  <a:pt x="18236" y="9391"/>
                </a:cubicBezTo>
                <a:cubicBezTo>
                  <a:pt x="18240" y="9437"/>
                  <a:pt x="18194" y="9471"/>
                  <a:pt x="18160" y="9492"/>
                </a:cubicBezTo>
                <a:cubicBezTo>
                  <a:pt x="18126" y="9513"/>
                  <a:pt x="18075" y="9523"/>
                  <a:pt x="18035" y="9512"/>
                </a:cubicBezTo>
                <a:cubicBezTo>
                  <a:pt x="18015" y="9502"/>
                  <a:pt x="18009" y="9500"/>
                  <a:pt x="17998" y="949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880320" y="3197160"/>
            <a:ext cx="153720" cy="216000"/>
          </a:xfrm>
          <a:custGeom>
            <a:avLst/>
            <a:gdLst/>
            <a:ahLst/>
            <a:rect l="l" t="t" r="r" b="b"/>
            <a:pathLst>
              <a:path w="425" h="603">
                <a:moveTo>
                  <a:pt x="19455" y="9032"/>
                </a:moveTo>
                <a:cubicBezTo>
                  <a:pt x="19476" y="9018"/>
                  <a:pt x="19479" y="9009"/>
                  <a:pt x="19503" y="9007"/>
                </a:cubicBezTo>
                <a:cubicBezTo>
                  <a:pt x="19515" y="9006"/>
                  <a:pt x="19525" y="9012"/>
                  <a:pt x="19535" y="9015"/>
                </a:cubicBezTo>
                <a:cubicBezTo>
                  <a:pt x="19526" y="8993"/>
                  <a:pt x="19527" y="8987"/>
                  <a:pt x="19507" y="8968"/>
                </a:cubicBezTo>
                <a:cubicBezTo>
                  <a:pt x="19481" y="8943"/>
                  <a:pt x="19447" y="8925"/>
                  <a:pt x="19414" y="8911"/>
                </a:cubicBezTo>
                <a:cubicBezTo>
                  <a:pt x="19378" y="8896"/>
                  <a:pt x="19338" y="8883"/>
                  <a:pt x="19299" y="8880"/>
                </a:cubicBezTo>
                <a:cubicBezTo>
                  <a:pt x="19272" y="8878"/>
                  <a:pt x="19246" y="8881"/>
                  <a:pt x="19229" y="8904"/>
                </a:cubicBezTo>
                <a:cubicBezTo>
                  <a:pt x="19208" y="8932"/>
                  <a:pt x="19213" y="8982"/>
                  <a:pt x="19221" y="9014"/>
                </a:cubicBezTo>
                <a:cubicBezTo>
                  <a:pt x="19235" y="9070"/>
                  <a:pt x="19284" y="9096"/>
                  <a:pt x="19327" y="9127"/>
                </a:cubicBezTo>
                <a:cubicBezTo>
                  <a:pt x="19379" y="9165"/>
                  <a:pt x="19433" y="9209"/>
                  <a:pt x="19450" y="9275"/>
                </a:cubicBezTo>
                <a:cubicBezTo>
                  <a:pt x="19460" y="9314"/>
                  <a:pt x="19450" y="9357"/>
                  <a:pt x="19427" y="9389"/>
                </a:cubicBezTo>
                <a:cubicBezTo>
                  <a:pt x="19400" y="9427"/>
                  <a:pt x="19352" y="9449"/>
                  <a:pt x="19309" y="9462"/>
                </a:cubicBezTo>
                <a:cubicBezTo>
                  <a:pt x="19272" y="9473"/>
                  <a:pt x="19162" y="9506"/>
                  <a:pt x="19128" y="9470"/>
                </a:cubicBezTo>
                <a:cubicBezTo>
                  <a:pt x="19110" y="9451"/>
                  <a:pt x="19112" y="9437"/>
                  <a:pt x="19123" y="9414"/>
                </a:cubicBezTo>
                <a:cubicBezTo>
                  <a:pt x="19133" y="9402"/>
                  <a:pt x="19137" y="9397"/>
                  <a:pt x="19148" y="939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7324560" y="3171960"/>
            <a:ext cx="484200" cy="226800"/>
          </a:xfrm>
          <a:custGeom>
            <a:avLst/>
            <a:gdLst/>
            <a:ahLst/>
            <a:rect l="l" t="t" r="r" b="b"/>
            <a:pathLst>
              <a:path w="1342" h="632">
                <a:moveTo>
                  <a:pt x="20374" y="8921"/>
                </a:moveTo>
                <a:cubicBezTo>
                  <a:pt x="20366" y="8884"/>
                  <a:pt x="20359" y="8847"/>
                  <a:pt x="20348" y="8810"/>
                </a:cubicBezTo>
                <a:cubicBezTo>
                  <a:pt x="20353" y="8854"/>
                  <a:pt x="20359" y="8898"/>
                  <a:pt x="20362" y="8942"/>
                </a:cubicBezTo>
                <a:cubicBezTo>
                  <a:pt x="20368" y="9036"/>
                  <a:pt x="20373" y="9130"/>
                  <a:pt x="20373" y="9224"/>
                </a:cubicBezTo>
                <a:cubicBezTo>
                  <a:pt x="20373" y="9282"/>
                  <a:pt x="20369" y="9339"/>
                  <a:pt x="20367" y="9396"/>
                </a:cubicBezTo>
                <a:cubicBezTo>
                  <a:pt x="20394" y="9352"/>
                  <a:pt x="20414" y="9303"/>
                  <a:pt x="20438" y="9256"/>
                </a:cubicBezTo>
                <a:cubicBezTo>
                  <a:pt x="20464" y="9207"/>
                  <a:pt x="20490" y="9139"/>
                  <a:pt x="20537" y="9106"/>
                </a:cubicBezTo>
                <a:cubicBezTo>
                  <a:pt x="20557" y="9098"/>
                  <a:pt x="20562" y="9095"/>
                  <a:pt x="20575" y="9105"/>
                </a:cubicBezTo>
                <a:cubicBezTo>
                  <a:pt x="20604" y="9167"/>
                  <a:pt x="20618" y="9232"/>
                  <a:pt x="20651" y="9293"/>
                </a:cubicBezTo>
                <a:cubicBezTo>
                  <a:pt x="20671" y="9329"/>
                  <a:pt x="20683" y="9338"/>
                  <a:pt x="20718" y="9353"/>
                </a:cubicBezTo>
              </a:path>
              <a:path w="1342" h="632">
                <a:moveTo>
                  <a:pt x="20867" y="9116"/>
                </a:moveTo>
                <a:cubicBezTo>
                  <a:pt x="20831" y="9111"/>
                  <a:pt x="20792" y="9133"/>
                  <a:pt x="20769" y="9166"/>
                </a:cubicBezTo>
                <a:cubicBezTo>
                  <a:pt x="20735" y="9214"/>
                  <a:pt x="20714" y="9290"/>
                  <a:pt x="20719" y="9348"/>
                </a:cubicBezTo>
                <a:cubicBezTo>
                  <a:pt x="20723" y="9393"/>
                  <a:pt x="20747" y="9435"/>
                  <a:pt x="20798" y="9423"/>
                </a:cubicBezTo>
                <a:cubicBezTo>
                  <a:pt x="20851" y="9411"/>
                  <a:pt x="20885" y="9351"/>
                  <a:pt x="20907" y="9307"/>
                </a:cubicBezTo>
                <a:cubicBezTo>
                  <a:pt x="20932" y="9257"/>
                  <a:pt x="20948" y="9202"/>
                  <a:pt x="20963" y="9148"/>
                </a:cubicBezTo>
                <a:cubicBezTo>
                  <a:pt x="20961" y="9193"/>
                  <a:pt x="20954" y="9239"/>
                  <a:pt x="20958" y="9284"/>
                </a:cubicBezTo>
                <a:cubicBezTo>
                  <a:pt x="20961" y="9316"/>
                  <a:pt x="20966" y="9337"/>
                  <a:pt x="20979" y="9365"/>
                </a:cubicBezTo>
                <a:cubicBezTo>
                  <a:pt x="21014" y="9355"/>
                  <a:pt x="21021" y="9328"/>
                  <a:pt x="21034" y="9290"/>
                </a:cubicBezTo>
                <a:cubicBezTo>
                  <a:pt x="21046" y="9253"/>
                  <a:pt x="21056" y="9214"/>
                  <a:pt x="21064" y="9176"/>
                </a:cubicBezTo>
                <a:cubicBezTo>
                  <a:pt x="21065" y="9170"/>
                  <a:pt x="21065" y="9165"/>
                  <a:pt x="21066" y="9159"/>
                </a:cubicBezTo>
                <a:cubicBezTo>
                  <a:pt x="21082" y="9204"/>
                  <a:pt x="21083" y="9249"/>
                  <a:pt x="21093" y="9296"/>
                </a:cubicBezTo>
                <a:cubicBezTo>
                  <a:pt x="21102" y="9339"/>
                  <a:pt x="21111" y="9395"/>
                  <a:pt x="21137" y="9432"/>
                </a:cubicBezTo>
                <a:cubicBezTo>
                  <a:pt x="21141" y="9435"/>
                  <a:pt x="21144" y="9438"/>
                  <a:pt x="21148" y="9441"/>
                </a:cubicBezTo>
                <a:cubicBezTo>
                  <a:pt x="21176" y="9420"/>
                  <a:pt x="21184" y="9408"/>
                  <a:pt x="21199" y="9370"/>
                </a:cubicBezTo>
                <a:cubicBezTo>
                  <a:pt x="21219" y="9319"/>
                  <a:pt x="21235" y="9264"/>
                  <a:pt x="21258" y="9214"/>
                </a:cubicBezTo>
                <a:cubicBezTo>
                  <a:pt x="21269" y="9190"/>
                  <a:pt x="21284" y="9136"/>
                  <a:pt x="21316" y="9130"/>
                </a:cubicBezTo>
                <a:cubicBezTo>
                  <a:pt x="21326" y="9128"/>
                  <a:pt x="21329" y="9127"/>
                  <a:pt x="21335" y="9133"/>
                </a:cubicBezTo>
              </a:path>
              <a:path w="1342" h="632">
                <a:moveTo>
                  <a:pt x="21369" y="9215"/>
                </a:moveTo>
                <a:cubicBezTo>
                  <a:pt x="21375" y="9213"/>
                  <a:pt x="21402" y="9199"/>
                  <a:pt x="21421" y="9180"/>
                </a:cubicBezTo>
                <a:cubicBezTo>
                  <a:pt x="21454" y="9148"/>
                  <a:pt x="21486" y="9116"/>
                  <a:pt x="21518" y="9084"/>
                </a:cubicBezTo>
                <a:cubicBezTo>
                  <a:pt x="21524" y="9078"/>
                  <a:pt x="21529" y="9073"/>
                  <a:pt x="21535" y="9067"/>
                </a:cubicBezTo>
                <a:cubicBezTo>
                  <a:pt x="21525" y="9115"/>
                  <a:pt x="21498" y="9155"/>
                  <a:pt x="21480" y="9202"/>
                </a:cubicBezTo>
                <a:cubicBezTo>
                  <a:pt x="21465" y="9241"/>
                  <a:pt x="21439" y="9310"/>
                  <a:pt x="21466" y="9350"/>
                </a:cubicBezTo>
                <a:cubicBezTo>
                  <a:pt x="21490" y="9386"/>
                  <a:pt x="21565" y="9375"/>
                  <a:pt x="21600" y="9371"/>
                </a:cubicBezTo>
                <a:cubicBezTo>
                  <a:pt x="21644" y="9363"/>
                  <a:pt x="21660" y="9360"/>
                  <a:pt x="21689" y="935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983360" y="3220920"/>
            <a:ext cx="284400" cy="173160"/>
          </a:xfrm>
          <a:custGeom>
            <a:avLst/>
            <a:gdLst/>
            <a:ahLst/>
            <a:rect l="l" t="t" r="r" b="b"/>
            <a:pathLst>
              <a:path w="788" h="482">
                <a:moveTo>
                  <a:pt x="22335" y="8954"/>
                </a:moveTo>
                <a:cubicBezTo>
                  <a:pt x="22312" y="8957"/>
                  <a:pt x="22293" y="8963"/>
                  <a:pt x="22272" y="8993"/>
                </a:cubicBezTo>
                <a:cubicBezTo>
                  <a:pt x="22238" y="9041"/>
                  <a:pt x="22207" y="9096"/>
                  <a:pt x="22189" y="9153"/>
                </a:cubicBezTo>
                <a:cubicBezTo>
                  <a:pt x="22180" y="9183"/>
                  <a:pt x="22165" y="9230"/>
                  <a:pt x="22192" y="9254"/>
                </a:cubicBezTo>
                <a:cubicBezTo>
                  <a:pt x="22214" y="9274"/>
                  <a:pt x="22284" y="9222"/>
                  <a:pt x="22299" y="9211"/>
                </a:cubicBezTo>
                <a:cubicBezTo>
                  <a:pt x="22327" y="9191"/>
                  <a:pt x="22386" y="9123"/>
                  <a:pt x="22426" y="9129"/>
                </a:cubicBezTo>
                <a:cubicBezTo>
                  <a:pt x="22456" y="9134"/>
                  <a:pt x="22453" y="9183"/>
                  <a:pt x="22455" y="9204"/>
                </a:cubicBezTo>
                <a:cubicBezTo>
                  <a:pt x="22459" y="9237"/>
                  <a:pt x="22456" y="9282"/>
                  <a:pt x="22472" y="9312"/>
                </a:cubicBezTo>
                <a:cubicBezTo>
                  <a:pt x="22478" y="9318"/>
                  <a:pt x="22485" y="9323"/>
                  <a:pt x="22491" y="9329"/>
                </a:cubicBezTo>
                <a:cubicBezTo>
                  <a:pt x="22517" y="9318"/>
                  <a:pt x="22538" y="9310"/>
                  <a:pt x="22556" y="9283"/>
                </a:cubicBezTo>
                <a:cubicBezTo>
                  <a:pt x="22580" y="9248"/>
                  <a:pt x="22595" y="9213"/>
                  <a:pt x="22610" y="9176"/>
                </a:cubicBezTo>
                <a:cubicBezTo>
                  <a:pt x="22619" y="9160"/>
                  <a:pt x="22621" y="9156"/>
                  <a:pt x="22626" y="9146"/>
                </a:cubicBezTo>
                <a:cubicBezTo>
                  <a:pt x="22625" y="9168"/>
                  <a:pt x="22622" y="9193"/>
                  <a:pt x="22624" y="9216"/>
                </a:cubicBezTo>
                <a:cubicBezTo>
                  <a:pt x="22628" y="9258"/>
                  <a:pt x="22627" y="9231"/>
                  <a:pt x="22647" y="9249"/>
                </a:cubicBezTo>
                <a:cubicBezTo>
                  <a:pt x="22675" y="9220"/>
                  <a:pt x="22699" y="9186"/>
                  <a:pt x="22725" y="9155"/>
                </a:cubicBezTo>
                <a:cubicBezTo>
                  <a:pt x="22745" y="9131"/>
                  <a:pt x="22782" y="9084"/>
                  <a:pt x="22820" y="9106"/>
                </a:cubicBezTo>
                <a:cubicBezTo>
                  <a:pt x="22859" y="9129"/>
                  <a:pt x="22869" y="9210"/>
                  <a:pt x="22881" y="9248"/>
                </a:cubicBezTo>
                <a:cubicBezTo>
                  <a:pt x="22897" y="9301"/>
                  <a:pt x="22912" y="9360"/>
                  <a:pt x="22939" y="9409"/>
                </a:cubicBezTo>
                <a:cubicBezTo>
                  <a:pt x="22950" y="9423"/>
                  <a:pt x="22952" y="9428"/>
                  <a:pt x="22964" y="942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089680" y="3616200"/>
            <a:ext cx="380880" cy="212760"/>
          </a:xfrm>
          <a:custGeom>
            <a:avLst/>
            <a:gdLst/>
            <a:ahLst/>
            <a:rect l="l" t="t" r="r" b="b"/>
            <a:pathLst>
              <a:path w="1057" h="592">
                <a:moveTo>
                  <a:pt x="14145" y="10293"/>
                </a:moveTo>
                <a:cubicBezTo>
                  <a:pt x="14138" y="10329"/>
                  <a:pt x="14143" y="10350"/>
                  <a:pt x="14147" y="10386"/>
                </a:cubicBezTo>
                <a:cubicBezTo>
                  <a:pt x="14152" y="10431"/>
                  <a:pt x="14159" y="10476"/>
                  <a:pt x="14167" y="10521"/>
                </a:cubicBezTo>
                <a:cubicBezTo>
                  <a:pt x="14172" y="10542"/>
                  <a:pt x="14172" y="10547"/>
                  <a:pt x="14179" y="10559"/>
                </a:cubicBezTo>
                <a:cubicBezTo>
                  <a:pt x="14216" y="10536"/>
                  <a:pt x="14222" y="10499"/>
                  <a:pt x="14239" y="10457"/>
                </a:cubicBezTo>
                <a:cubicBezTo>
                  <a:pt x="14260" y="10403"/>
                  <a:pt x="14280" y="10348"/>
                  <a:pt x="14302" y="10295"/>
                </a:cubicBezTo>
                <a:cubicBezTo>
                  <a:pt x="14311" y="10276"/>
                  <a:pt x="14310" y="10268"/>
                  <a:pt x="14325" y="10272"/>
                </a:cubicBezTo>
                <a:cubicBezTo>
                  <a:pt x="14325" y="10321"/>
                  <a:pt x="14322" y="10370"/>
                  <a:pt x="14321" y="10419"/>
                </a:cubicBezTo>
                <a:cubicBezTo>
                  <a:pt x="14320" y="10458"/>
                  <a:pt x="14318" y="10497"/>
                  <a:pt x="14327" y="10535"/>
                </a:cubicBezTo>
                <a:cubicBezTo>
                  <a:pt x="14356" y="10501"/>
                  <a:pt x="14367" y="10465"/>
                  <a:pt x="14383" y="10423"/>
                </a:cubicBezTo>
                <a:cubicBezTo>
                  <a:pt x="14396" y="10389"/>
                  <a:pt x="14403" y="10358"/>
                  <a:pt x="14435" y="10342"/>
                </a:cubicBezTo>
                <a:cubicBezTo>
                  <a:pt x="14456" y="10394"/>
                  <a:pt x="14459" y="10443"/>
                  <a:pt x="14470" y="10498"/>
                </a:cubicBezTo>
                <a:cubicBezTo>
                  <a:pt x="14477" y="10533"/>
                  <a:pt x="14489" y="10612"/>
                  <a:pt x="14523" y="10634"/>
                </a:cubicBezTo>
                <a:cubicBezTo>
                  <a:pt x="14529" y="10635"/>
                  <a:pt x="14535" y="10636"/>
                  <a:pt x="14541" y="10637"/>
                </a:cubicBezTo>
              </a:path>
              <a:path w="1057" h="592">
                <a:moveTo>
                  <a:pt x="14694" y="10373"/>
                </a:moveTo>
                <a:cubicBezTo>
                  <a:pt x="14659" y="10393"/>
                  <a:pt x="14655" y="10406"/>
                  <a:pt x="14649" y="10445"/>
                </a:cubicBezTo>
                <a:cubicBezTo>
                  <a:pt x="14645" y="10471"/>
                  <a:pt x="14638" y="10525"/>
                  <a:pt x="14665" y="10544"/>
                </a:cubicBezTo>
                <a:cubicBezTo>
                  <a:pt x="14693" y="10564"/>
                  <a:pt x="14732" y="10520"/>
                  <a:pt x="14746" y="10503"/>
                </a:cubicBezTo>
                <a:cubicBezTo>
                  <a:pt x="14775" y="10469"/>
                  <a:pt x="14792" y="10428"/>
                  <a:pt x="14818" y="10393"/>
                </a:cubicBezTo>
                <a:cubicBezTo>
                  <a:pt x="14822" y="10389"/>
                  <a:pt x="14826" y="10385"/>
                  <a:pt x="14830" y="10381"/>
                </a:cubicBezTo>
                <a:cubicBezTo>
                  <a:pt x="14851" y="10402"/>
                  <a:pt x="14847" y="10424"/>
                  <a:pt x="14847" y="10454"/>
                </a:cubicBezTo>
                <a:cubicBezTo>
                  <a:pt x="14847" y="10477"/>
                  <a:pt x="14850" y="10498"/>
                  <a:pt x="14854" y="10521"/>
                </a:cubicBezTo>
              </a:path>
              <a:path w="1057" h="592">
                <a:moveTo>
                  <a:pt x="14982" y="10057"/>
                </a:moveTo>
                <a:cubicBezTo>
                  <a:pt x="15002" y="10086"/>
                  <a:pt x="14998" y="10130"/>
                  <a:pt x="15000" y="10166"/>
                </a:cubicBezTo>
                <a:cubicBezTo>
                  <a:pt x="15003" y="10231"/>
                  <a:pt x="15009" y="10296"/>
                  <a:pt x="15009" y="10361"/>
                </a:cubicBezTo>
                <a:cubicBezTo>
                  <a:pt x="15007" y="10398"/>
                  <a:pt x="15007" y="10408"/>
                  <a:pt x="15005" y="10432"/>
                </a:cubicBezTo>
              </a:path>
              <a:path w="1057" h="592">
                <a:moveTo>
                  <a:pt x="15185" y="10046"/>
                </a:moveTo>
                <a:cubicBezTo>
                  <a:pt x="15198" y="10085"/>
                  <a:pt x="15190" y="10135"/>
                  <a:pt x="15185" y="10178"/>
                </a:cubicBezTo>
                <a:cubicBezTo>
                  <a:pt x="15178" y="10246"/>
                  <a:pt x="15169" y="10315"/>
                  <a:pt x="15160" y="1038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5597640" y="3571920"/>
            <a:ext cx="734760" cy="239760"/>
          </a:xfrm>
          <a:custGeom>
            <a:avLst/>
            <a:gdLst/>
            <a:ahLst/>
            <a:rect l="l" t="t" r="r" b="b"/>
            <a:pathLst>
              <a:path w="2041" h="664">
                <a:moveTo>
                  <a:pt x="15625" y="10260"/>
                </a:moveTo>
                <a:cubicBezTo>
                  <a:pt x="15612" y="10311"/>
                  <a:pt x="15601" y="10362"/>
                  <a:pt x="15598" y="10414"/>
                </a:cubicBezTo>
                <a:cubicBezTo>
                  <a:pt x="15597" y="10430"/>
                  <a:pt x="15586" y="10514"/>
                  <a:pt x="15600" y="10526"/>
                </a:cubicBezTo>
                <a:cubicBezTo>
                  <a:pt x="15611" y="10520"/>
                  <a:pt x="15614" y="10516"/>
                  <a:pt x="15611" y="10504"/>
                </a:cubicBezTo>
              </a:path>
              <a:path w="2041" h="664">
                <a:moveTo>
                  <a:pt x="15570" y="10052"/>
                </a:moveTo>
                <a:cubicBezTo>
                  <a:pt x="15561" y="10016"/>
                  <a:pt x="15549" y="9983"/>
                  <a:pt x="15551" y="9946"/>
                </a:cubicBezTo>
                <a:cubicBezTo>
                  <a:pt x="15552" y="9932"/>
                  <a:pt x="15552" y="9928"/>
                  <a:pt x="15562" y="9923"/>
                </a:cubicBezTo>
                <a:cubicBezTo>
                  <a:pt x="15593" y="9942"/>
                  <a:pt x="15618" y="9965"/>
                  <a:pt x="15639" y="9996"/>
                </a:cubicBezTo>
                <a:cubicBezTo>
                  <a:pt x="15647" y="10009"/>
                  <a:pt x="15654" y="10022"/>
                  <a:pt x="15662" y="10035"/>
                </a:cubicBezTo>
              </a:path>
              <a:path w="2041" h="664">
                <a:moveTo>
                  <a:pt x="15753" y="10376"/>
                </a:moveTo>
                <a:cubicBezTo>
                  <a:pt x="15756" y="10424"/>
                  <a:pt x="15753" y="10475"/>
                  <a:pt x="15756" y="10521"/>
                </a:cubicBezTo>
                <a:cubicBezTo>
                  <a:pt x="15757" y="10524"/>
                  <a:pt x="15759" y="10528"/>
                  <a:pt x="15760" y="10531"/>
                </a:cubicBezTo>
                <a:cubicBezTo>
                  <a:pt x="15766" y="10499"/>
                  <a:pt x="15775" y="10466"/>
                  <a:pt x="15785" y="10433"/>
                </a:cubicBezTo>
                <a:cubicBezTo>
                  <a:pt x="15805" y="10368"/>
                  <a:pt x="15829" y="10303"/>
                  <a:pt x="15870" y="10248"/>
                </a:cubicBezTo>
                <a:cubicBezTo>
                  <a:pt x="15896" y="10213"/>
                  <a:pt x="15932" y="10186"/>
                  <a:pt x="15963" y="10232"/>
                </a:cubicBezTo>
                <a:cubicBezTo>
                  <a:pt x="15999" y="10286"/>
                  <a:pt x="16003" y="10359"/>
                  <a:pt x="16021" y="10419"/>
                </a:cubicBezTo>
                <a:cubicBezTo>
                  <a:pt x="16035" y="10466"/>
                  <a:pt x="16050" y="10511"/>
                  <a:pt x="16083" y="10547"/>
                </a:cubicBezTo>
              </a:path>
              <a:path w="2041" h="664">
                <a:moveTo>
                  <a:pt x="16163" y="10264"/>
                </a:moveTo>
                <a:cubicBezTo>
                  <a:pt x="16165" y="10310"/>
                  <a:pt x="16169" y="10354"/>
                  <a:pt x="16177" y="10400"/>
                </a:cubicBezTo>
                <a:cubicBezTo>
                  <a:pt x="16181" y="10424"/>
                  <a:pt x="16188" y="10532"/>
                  <a:pt x="16222" y="10541"/>
                </a:cubicBezTo>
                <a:cubicBezTo>
                  <a:pt x="16225" y="10539"/>
                  <a:pt x="16228" y="10538"/>
                  <a:pt x="16231" y="10536"/>
                </a:cubicBezTo>
                <a:cubicBezTo>
                  <a:pt x="16253" y="10496"/>
                  <a:pt x="16261" y="10454"/>
                  <a:pt x="16273" y="10409"/>
                </a:cubicBezTo>
                <a:cubicBezTo>
                  <a:pt x="16291" y="10342"/>
                  <a:pt x="16311" y="10274"/>
                  <a:pt x="16340" y="10211"/>
                </a:cubicBezTo>
                <a:cubicBezTo>
                  <a:pt x="16354" y="10180"/>
                  <a:pt x="16364" y="10167"/>
                  <a:pt x="16390" y="10148"/>
                </a:cubicBezTo>
              </a:path>
              <a:path w="2041" h="664">
                <a:moveTo>
                  <a:pt x="16426" y="10352"/>
                </a:moveTo>
                <a:cubicBezTo>
                  <a:pt x="16457" y="10350"/>
                  <a:pt x="16479" y="10324"/>
                  <a:pt x="16500" y="10300"/>
                </a:cubicBezTo>
                <a:cubicBezTo>
                  <a:pt x="16532" y="10265"/>
                  <a:pt x="16564" y="10230"/>
                  <a:pt x="16597" y="10196"/>
                </a:cubicBezTo>
                <a:cubicBezTo>
                  <a:pt x="16602" y="10191"/>
                  <a:pt x="16608" y="10185"/>
                  <a:pt x="16613" y="10180"/>
                </a:cubicBezTo>
                <a:cubicBezTo>
                  <a:pt x="16584" y="10229"/>
                  <a:pt x="16552" y="10279"/>
                  <a:pt x="16534" y="10333"/>
                </a:cubicBezTo>
                <a:cubicBezTo>
                  <a:pt x="16516" y="10386"/>
                  <a:pt x="16500" y="10459"/>
                  <a:pt x="16524" y="10513"/>
                </a:cubicBezTo>
                <a:cubicBezTo>
                  <a:pt x="16544" y="10557"/>
                  <a:pt x="16590" y="10558"/>
                  <a:pt x="16628" y="10544"/>
                </a:cubicBezTo>
                <a:cubicBezTo>
                  <a:pt x="16670" y="10529"/>
                  <a:pt x="16697" y="10496"/>
                  <a:pt x="16727" y="10466"/>
                </a:cubicBezTo>
                <a:cubicBezTo>
                  <a:pt x="16747" y="10446"/>
                  <a:pt x="16760" y="10434"/>
                  <a:pt x="16766" y="10469"/>
                </a:cubicBezTo>
                <a:cubicBezTo>
                  <a:pt x="16770" y="10489"/>
                  <a:pt x="16770" y="10511"/>
                  <a:pt x="16773" y="10531"/>
                </a:cubicBezTo>
                <a:cubicBezTo>
                  <a:pt x="16774" y="10535"/>
                  <a:pt x="16775" y="10540"/>
                  <a:pt x="16776" y="10544"/>
                </a:cubicBezTo>
                <a:cubicBezTo>
                  <a:pt x="16786" y="10516"/>
                  <a:pt x="16793" y="10484"/>
                  <a:pt x="16799" y="10451"/>
                </a:cubicBezTo>
                <a:cubicBezTo>
                  <a:pt x="16807" y="10405"/>
                  <a:pt x="16813" y="10364"/>
                  <a:pt x="16846" y="10329"/>
                </a:cubicBezTo>
                <a:cubicBezTo>
                  <a:pt x="16877" y="10296"/>
                  <a:pt x="16909" y="10288"/>
                  <a:pt x="16951" y="10278"/>
                </a:cubicBezTo>
              </a:path>
              <a:path w="2041" h="664">
                <a:moveTo>
                  <a:pt x="17119" y="10263"/>
                </a:moveTo>
                <a:cubicBezTo>
                  <a:pt x="17098" y="10280"/>
                  <a:pt x="17080" y="10298"/>
                  <a:pt x="17060" y="10318"/>
                </a:cubicBezTo>
                <a:cubicBezTo>
                  <a:pt x="17042" y="10336"/>
                  <a:pt x="17030" y="10356"/>
                  <a:pt x="17022" y="10379"/>
                </a:cubicBezTo>
                <a:cubicBezTo>
                  <a:pt x="17055" y="10388"/>
                  <a:pt x="17085" y="10384"/>
                  <a:pt x="17118" y="10389"/>
                </a:cubicBezTo>
                <a:cubicBezTo>
                  <a:pt x="17155" y="10395"/>
                  <a:pt x="17187" y="10410"/>
                  <a:pt x="17203" y="10445"/>
                </a:cubicBezTo>
                <a:cubicBezTo>
                  <a:pt x="17219" y="10479"/>
                  <a:pt x="17214" y="10514"/>
                  <a:pt x="17197" y="10547"/>
                </a:cubicBezTo>
                <a:cubicBezTo>
                  <a:pt x="17185" y="10570"/>
                  <a:pt x="17180" y="10573"/>
                  <a:pt x="17158" y="10576"/>
                </a:cubicBezTo>
                <a:cubicBezTo>
                  <a:pt x="17146" y="10543"/>
                  <a:pt x="17158" y="10530"/>
                  <a:pt x="17175" y="10500"/>
                </a:cubicBezTo>
              </a:path>
              <a:path w="2041" h="664">
                <a:moveTo>
                  <a:pt x="17312" y="10413"/>
                </a:moveTo>
                <a:cubicBezTo>
                  <a:pt x="17348" y="10397"/>
                  <a:pt x="17373" y="10378"/>
                  <a:pt x="17404" y="10356"/>
                </a:cubicBezTo>
                <a:cubicBezTo>
                  <a:pt x="17431" y="10337"/>
                  <a:pt x="17454" y="10316"/>
                  <a:pt x="17474" y="10288"/>
                </a:cubicBezTo>
                <a:cubicBezTo>
                  <a:pt x="17476" y="10285"/>
                  <a:pt x="17477" y="10281"/>
                  <a:pt x="17479" y="10278"/>
                </a:cubicBezTo>
                <a:cubicBezTo>
                  <a:pt x="17441" y="10304"/>
                  <a:pt x="17420" y="10336"/>
                  <a:pt x="17402" y="10380"/>
                </a:cubicBezTo>
                <a:cubicBezTo>
                  <a:pt x="17382" y="10429"/>
                  <a:pt x="17373" y="10492"/>
                  <a:pt x="17401" y="10540"/>
                </a:cubicBezTo>
                <a:cubicBezTo>
                  <a:pt x="17423" y="10578"/>
                  <a:pt x="17478" y="10589"/>
                  <a:pt x="17518" y="10584"/>
                </a:cubicBezTo>
                <a:cubicBezTo>
                  <a:pt x="17550" y="10580"/>
                  <a:pt x="17566" y="10565"/>
                  <a:pt x="17589" y="1054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6559560" y="3575160"/>
            <a:ext cx="798480" cy="206280"/>
          </a:xfrm>
          <a:custGeom>
            <a:avLst/>
            <a:gdLst/>
            <a:ahLst/>
            <a:rect l="l" t="t" r="r" b="b"/>
            <a:pathLst>
              <a:path w="2218" h="572">
                <a:moveTo>
                  <a:pt x="18264" y="10288"/>
                </a:moveTo>
                <a:cubicBezTo>
                  <a:pt x="18261" y="10283"/>
                  <a:pt x="18258" y="10279"/>
                  <a:pt x="18255" y="10274"/>
                </a:cubicBezTo>
                <a:cubicBezTo>
                  <a:pt x="18229" y="10294"/>
                  <a:pt x="18221" y="10296"/>
                  <a:pt x="18222" y="10339"/>
                </a:cubicBezTo>
                <a:cubicBezTo>
                  <a:pt x="18223" y="10377"/>
                  <a:pt x="18227" y="10426"/>
                  <a:pt x="18241" y="10462"/>
                </a:cubicBezTo>
                <a:cubicBezTo>
                  <a:pt x="18250" y="10477"/>
                  <a:pt x="18252" y="10481"/>
                  <a:pt x="18264" y="10482"/>
                </a:cubicBezTo>
                <a:cubicBezTo>
                  <a:pt x="18294" y="10461"/>
                  <a:pt x="18309" y="10433"/>
                  <a:pt x="18327" y="10400"/>
                </a:cubicBezTo>
                <a:cubicBezTo>
                  <a:pt x="18361" y="10339"/>
                  <a:pt x="18392" y="10242"/>
                  <a:pt x="18450" y="10199"/>
                </a:cubicBezTo>
                <a:cubicBezTo>
                  <a:pt x="18455" y="10197"/>
                  <a:pt x="18460" y="10196"/>
                  <a:pt x="18465" y="10194"/>
                </a:cubicBezTo>
                <a:cubicBezTo>
                  <a:pt x="18492" y="10228"/>
                  <a:pt x="18492" y="10266"/>
                  <a:pt x="18493" y="10310"/>
                </a:cubicBezTo>
                <a:cubicBezTo>
                  <a:pt x="18494" y="10361"/>
                  <a:pt x="18489" y="10412"/>
                  <a:pt x="18486" y="10463"/>
                </a:cubicBezTo>
                <a:cubicBezTo>
                  <a:pt x="18517" y="10422"/>
                  <a:pt x="18539" y="10375"/>
                  <a:pt x="18569" y="10332"/>
                </a:cubicBezTo>
                <a:cubicBezTo>
                  <a:pt x="18587" y="10307"/>
                  <a:pt x="18625" y="10241"/>
                  <a:pt x="18667" y="10261"/>
                </a:cubicBezTo>
                <a:cubicBezTo>
                  <a:pt x="18706" y="10280"/>
                  <a:pt x="18719" y="10355"/>
                  <a:pt x="18733" y="10390"/>
                </a:cubicBezTo>
                <a:cubicBezTo>
                  <a:pt x="18748" y="10428"/>
                  <a:pt x="18762" y="10493"/>
                  <a:pt x="18811" y="10502"/>
                </a:cubicBezTo>
                <a:cubicBezTo>
                  <a:pt x="18820" y="10501"/>
                  <a:pt x="18830" y="10500"/>
                  <a:pt x="18839" y="10499"/>
                </a:cubicBezTo>
              </a:path>
              <a:path w="2218" h="572">
                <a:moveTo>
                  <a:pt x="19051" y="10225"/>
                </a:moveTo>
                <a:cubicBezTo>
                  <a:pt x="19035" y="10198"/>
                  <a:pt x="19030" y="10196"/>
                  <a:pt x="19001" y="10204"/>
                </a:cubicBezTo>
                <a:cubicBezTo>
                  <a:pt x="18955" y="10217"/>
                  <a:pt x="18931" y="10266"/>
                  <a:pt x="18914" y="10309"/>
                </a:cubicBezTo>
                <a:cubicBezTo>
                  <a:pt x="18897" y="10350"/>
                  <a:pt x="18878" y="10414"/>
                  <a:pt x="18900" y="10457"/>
                </a:cubicBezTo>
                <a:cubicBezTo>
                  <a:pt x="18921" y="10500"/>
                  <a:pt x="18975" y="10469"/>
                  <a:pt x="19000" y="10450"/>
                </a:cubicBezTo>
                <a:cubicBezTo>
                  <a:pt x="19048" y="10413"/>
                  <a:pt x="19088" y="10360"/>
                  <a:pt x="19117" y="10307"/>
                </a:cubicBezTo>
                <a:cubicBezTo>
                  <a:pt x="19132" y="10279"/>
                  <a:pt x="19168" y="10206"/>
                  <a:pt x="19148" y="10172"/>
                </a:cubicBezTo>
                <a:cubicBezTo>
                  <a:pt x="19143" y="10163"/>
                  <a:pt x="19127" y="10154"/>
                  <a:pt x="19118" y="10147"/>
                </a:cubicBezTo>
              </a:path>
              <a:path w="2218" h="572">
                <a:moveTo>
                  <a:pt x="19277" y="10035"/>
                </a:moveTo>
                <a:cubicBezTo>
                  <a:pt x="19275" y="10012"/>
                  <a:pt x="19272" y="9997"/>
                  <a:pt x="19262" y="9976"/>
                </a:cubicBezTo>
                <a:cubicBezTo>
                  <a:pt x="19253" y="9957"/>
                  <a:pt x="19253" y="9952"/>
                  <a:pt x="19241" y="9947"/>
                </a:cubicBezTo>
                <a:cubicBezTo>
                  <a:pt x="19223" y="9961"/>
                  <a:pt x="19216" y="9972"/>
                  <a:pt x="19207" y="9994"/>
                </a:cubicBezTo>
                <a:cubicBezTo>
                  <a:pt x="19203" y="10003"/>
                  <a:pt x="19190" y="10035"/>
                  <a:pt x="19195" y="10045"/>
                </a:cubicBezTo>
                <a:cubicBezTo>
                  <a:pt x="19206" y="10057"/>
                  <a:pt x="19209" y="10060"/>
                  <a:pt x="19216" y="10068"/>
                </a:cubicBezTo>
              </a:path>
              <a:path w="2218" h="572">
                <a:moveTo>
                  <a:pt x="19385" y="10145"/>
                </a:moveTo>
                <a:cubicBezTo>
                  <a:pt x="19360" y="10128"/>
                  <a:pt x="19356" y="10115"/>
                  <a:pt x="19323" y="10137"/>
                </a:cubicBezTo>
                <a:cubicBezTo>
                  <a:pt x="19275" y="10169"/>
                  <a:pt x="19244" y="10224"/>
                  <a:pt x="19222" y="10276"/>
                </a:cubicBezTo>
                <a:cubicBezTo>
                  <a:pt x="19205" y="10318"/>
                  <a:pt x="19176" y="10394"/>
                  <a:pt x="19202" y="10439"/>
                </a:cubicBezTo>
                <a:cubicBezTo>
                  <a:pt x="19208" y="10443"/>
                  <a:pt x="19214" y="10448"/>
                  <a:pt x="19220" y="10452"/>
                </a:cubicBezTo>
                <a:cubicBezTo>
                  <a:pt x="19276" y="10440"/>
                  <a:pt x="19307" y="10412"/>
                  <a:pt x="19342" y="10364"/>
                </a:cubicBezTo>
                <a:cubicBezTo>
                  <a:pt x="19392" y="10296"/>
                  <a:pt x="19429" y="10216"/>
                  <a:pt x="19457" y="10137"/>
                </a:cubicBezTo>
                <a:cubicBezTo>
                  <a:pt x="19481" y="10070"/>
                  <a:pt x="19496" y="10001"/>
                  <a:pt x="19510" y="9931"/>
                </a:cubicBezTo>
                <a:cubicBezTo>
                  <a:pt x="19492" y="9979"/>
                  <a:pt x="19483" y="10032"/>
                  <a:pt x="19476" y="10083"/>
                </a:cubicBezTo>
                <a:cubicBezTo>
                  <a:pt x="19464" y="10172"/>
                  <a:pt x="19457" y="10263"/>
                  <a:pt x="19472" y="10352"/>
                </a:cubicBezTo>
                <a:cubicBezTo>
                  <a:pt x="19481" y="10407"/>
                  <a:pt x="19489" y="10438"/>
                  <a:pt x="19542" y="10450"/>
                </a:cubicBezTo>
              </a:path>
              <a:path w="2218" h="572">
                <a:moveTo>
                  <a:pt x="19718" y="10169"/>
                </a:moveTo>
                <a:cubicBezTo>
                  <a:pt x="19698" y="10205"/>
                  <a:pt x="19688" y="10241"/>
                  <a:pt x="19683" y="10283"/>
                </a:cubicBezTo>
                <a:cubicBezTo>
                  <a:pt x="19679" y="10315"/>
                  <a:pt x="19676" y="10343"/>
                  <a:pt x="19699" y="10365"/>
                </a:cubicBezTo>
                <a:cubicBezTo>
                  <a:pt x="19730" y="10351"/>
                  <a:pt x="19746" y="10329"/>
                  <a:pt x="19766" y="10302"/>
                </a:cubicBezTo>
                <a:cubicBezTo>
                  <a:pt x="19778" y="10286"/>
                  <a:pt x="19804" y="10238"/>
                  <a:pt x="19831" y="10244"/>
                </a:cubicBezTo>
                <a:cubicBezTo>
                  <a:pt x="19857" y="10249"/>
                  <a:pt x="19873" y="10297"/>
                  <a:pt x="19885" y="10316"/>
                </a:cubicBezTo>
                <a:cubicBezTo>
                  <a:pt x="19904" y="10346"/>
                  <a:pt x="19924" y="10382"/>
                  <a:pt x="19966" y="10373"/>
                </a:cubicBezTo>
                <a:cubicBezTo>
                  <a:pt x="19974" y="10369"/>
                  <a:pt x="19982" y="10366"/>
                  <a:pt x="19990" y="10362"/>
                </a:cubicBezTo>
              </a:path>
              <a:path w="2218" h="572">
                <a:moveTo>
                  <a:pt x="20058" y="9954"/>
                </a:moveTo>
                <a:cubicBezTo>
                  <a:pt x="20046" y="10008"/>
                  <a:pt x="20050" y="10061"/>
                  <a:pt x="20053" y="10117"/>
                </a:cubicBezTo>
                <a:cubicBezTo>
                  <a:pt x="20058" y="10201"/>
                  <a:pt x="20065" y="10283"/>
                  <a:pt x="20091" y="10363"/>
                </a:cubicBezTo>
                <a:cubicBezTo>
                  <a:pt x="20105" y="10405"/>
                  <a:pt x="20115" y="10415"/>
                  <a:pt x="20149" y="10439"/>
                </a:cubicBezTo>
              </a:path>
              <a:path w="2218" h="572">
                <a:moveTo>
                  <a:pt x="20372" y="10167"/>
                </a:moveTo>
                <a:cubicBezTo>
                  <a:pt x="20335" y="10140"/>
                  <a:pt x="20325" y="10160"/>
                  <a:pt x="20292" y="10186"/>
                </a:cubicBezTo>
                <a:cubicBezTo>
                  <a:pt x="20244" y="10223"/>
                  <a:pt x="20213" y="10274"/>
                  <a:pt x="20197" y="10333"/>
                </a:cubicBezTo>
                <a:cubicBezTo>
                  <a:pt x="20188" y="10366"/>
                  <a:pt x="20181" y="10425"/>
                  <a:pt x="20229" y="10431"/>
                </a:cubicBezTo>
                <a:cubicBezTo>
                  <a:pt x="20276" y="10437"/>
                  <a:pt x="20321" y="10398"/>
                  <a:pt x="20353" y="10370"/>
                </a:cubicBezTo>
                <a:cubicBezTo>
                  <a:pt x="20388" y="10339"/>
                  <a:pt x="20422" y="10299"/>
                  <a:pt x="20434" y="10253"/>
                </a:cubicBezTo>
                <a:cubicBezTo>
                  <a:pt x="20441" y="10227"/>
                  <a:pt x="20438" y="10203"/>
                  <a:pt x="20436" y="1017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7639200" y="3546360"/>
            <a:ext cx="366480" cy="236520"/>
          </a:xfrm>
          <a:custGeom>
            <a:avLst/>
            <a:gdLst/>
            <a:ahLst/>
            <a:rect l="l" t="t" r="r" b="b"/>
            <a:pathLst>
              <a:path w="1019" h="657">
                <a:moveTo>
                  <a:pt x="21221" y="9973"/>
                </a:moveTo>
                <a:cubicBezTo>
                  <a:pt x="21253" y="9992"/>
                  <a:pt x="21236" y="10035"/>
                  <a:pt x="21236" y="10069"/>
                </a:cubicBezTo>
                <a:cubicBezTo>
                  <a:pt x="21237" y="10158"/>
                  <a:pt x="21239" y="10246"/>
                  <a:pt x="21239" y="10335"/>
                </a:cubicBezTo>
                <a:cubicBezTo>
                  <a:pt x="21239" y="10397"/>
                  <a:pt x="21234" y="10452"/>
                  <a:pt x="21263" y="10506"/>
                </a:cubicBezTo>
                <a:cubicBezTo>
                  <a:pt x="21307" y="10493"/>
                  <a:pt x="21322" y="10451"/>
                  <a:pt x="21346" y="10412"/>
                </a:cubicBezTo>
              </a:path>
              <a:path w="1019" h="657">
                <a:moveTo>
                  <a:pt x="21525" y="9975"/>
                </a:moveTo>
                <a:cubicBezTo>
                  <a:pt x="21530" y="10038"/>
                  <a:pt x="21525" y="10099"/>
                  <a:pt x="21525" y="10162"/>
                </a:cubicBezTo>
                <a:cubicBezTo>
                  <a:pt x="21525" y="10244"/>
                  <a:pt x="21527" y="10333"/>
                  <a:pt x="21544" y="10414"/>
                </a:cubicBezTo>
                <a:cubicBezTo>
                  <a:pt x="21555" y="10463"/>
                  <a:pt x="21570" y="10484"/>
                  <a:pt x="21617" y="10488"/>
                </a:cubicBezTo>
              </a:path>
              <a:path w="1019" h="657">
                <a:moveTo>
                  <a:pt x="22057" y="10481"/>
                </a:moveTo>
                <a:cubicBezTo>
                  <a:pt x="22025" y="10469"/>
                  <a:pt x="22023" y="10463"/>
                  <a:pt x="22019" y="10431"/>
                </a:cubicBezTo>
                <a:cubicBezTo>
                  <a:pt x="22016" y="10414"/>
                  <a:pt x="22015" y="10408"/>
                  <a:pt x="22013" y="10396"/>
                </a:cubicBezTo>
              </a:path>
              <a:path w="1019" h="657">
                <a:moveTo>
                  <a:pt x="21936" y="10239"/>
                </a:moveTo>
                <a:cubicBezTo>
                  <a:pt x="21938" y="10223"/>
                  <a:pt x="21944" y="10203"/>
                  <a:pt x="21945" y="10188"/>
                </a:cubicBezTo>
                <a:cubicBezTo>
                  <a:pt x="21946" y="10151"/>
                  <a:pt x="21960" y="10127"/>
                  <a:pt x="21985" y="10098"/>
                </a:cubicBezTo>
                <a:cubicBezTo>
                  <a:pt x="22031" y="10043"/>
                  <a:pt x="22090" y="10000"/>
                  <a:pt x="22150" y="9962"/>
                </a:cubicBezTo>
                <a:cubicBezTo>
                  <a:pt x="22174" y="9947"/>
                  <a:pt x="22206" y="9934"/>
                  <a:pt x="22227" y="9915"/>
                </a:cubicBezTo>
                <a:cubicBezTo>
                  <a:pt x="22231" y="9910"/>
                  <a:pt x="22235" y="9906"/>
                  <a:pt x="22239" y="9901"/>
                </a:cubicBezTo>
                <a:cubicBezTo>
                  <a:pt x="22217" y="9880"/>
                  <a:pt x="22192" y="9870"/>
                  <a:pt x="22162" y="9863"/>
                </a:cubicBezTo>
                <a:cubicBezTo>
                  <a:pt x="22105" y="9849"/>
                  <a:pt x="22045" y="9850"/>
                  <a:pt x="21987" y="9851"/>
                </a:cubicBezTo>
                <a:cubicBezTo>
                  <a:pt x="21933" y="9852"/>
                  <a:pt x="21873" y="9867"/>
                  <a:pt x="21829" y="9901"/>
                </a:cubicBezTo>
                <a:cubicBezTo>
                  <a:pt x="21807" y="9924"/>
                  <a:pt x="21800" y="9931"/>
                  <a:pt x="21788" y="994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648320" y="4184640"/>
            <a:ext cx="27000" cy="3240"/>
          </a:xfrm>
          <a:custGeom>
            <a:avLst/>
            <a:gdLst/>
            <a:ahLst/>
            <a:rect l="l" t="t" r="r" b="b"/>
            <a:pathLst>
              <a:path w="74" h="9">
                <a:moveTo>
                  <a:pt x="12912" y="11630"/>
                </a:moveTo>
                <a:cubicBezTo>
                  <a:pt x="12941" y="11632"/>
                  <a:pt x="12958" y="11628"/>
                  <a:pt x="12985" y="1162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917640" y="4103640"/>
            <a:ext cx="330120" cy="268200"/>
          </a:xfrm>
          <a:custGeom>
            <a:avLst/>
            <a:gdLst/>
            <a:ahLst/>
            <a:rect l="l" t="t" r="r" b="b"/>
            <a:pathLst>
              <a:path w="921" h="745">
                <a:moveTo>
                  <a:pt x="2865" y="11818"/>
                </a:moveTo>
                <a:cubicBezTo>
                  <a:pt x="2864" y="11797"/>
                  <a:pt x="2869" y="11778"/>
                  <a:pt x="2853" y="11761"/>
                </a:cubicBezTo>
                <a:cubicBezTo>
                  <a:pt x="2826" y="11732"/>
                  <a:pt x="2788" y="11755"/>
                  <a:pt x="2761" y="11771"/>
                </a:cubicBezTo>
                <a:cubicBezTo>
                  <a:pt x="2706" y="11804"/>
                  <a:pt x="2663" y="11855"/>
                  <a:pt x="2624" y="11906"/>
                </a:cubicBezTo>
                <a:cubicBezTo>
                  <a:pt x="2589" y="11953"/>
                  <a:pt x="2552" y="12009"/>
                  <a:pt x="2547" y="12069"/>
                </a:cubicBezTo>
                <a:cubicBezTo>
                  <a:pt x="2544" y="12105"/>
                  <a:pt x="2556" y="12145"/>
                  <a:pt x="2599" y="12145"/>
                </a:cubicBezTo>
                <a:cubicBezTo>
                  <a:pt x="2647" y="12145"/>
                  <a:pt x="2698" y="12092"/>
                  <a:pt x="2726" y="12058"/>
                </a:cubicBezTo>
                <a:cubicBezTo>
                  <a:pt x="2766" y="12009"/>
                  <a:pt x="2797" y="11952"/>
                  <a:pt x="2825" y="11895"/>
                </a:cubicBezTo>
                <a:cubicBezTo>
                  <a:pt x="2836" y="11871"/>
                  <a:pt x="2838" y="11865"/>
                  <a:pt x="2848" y="11852"/>
                </a:cubicBezTo>
                <a:cubicBezTo>
                  <a:pt x="2863" y="11879"/>
                  <a:pt x="2862" y="11922"/>
                  <a:pt x="2866" y="11955"/>
                </a:cubicBezTo>
                <a:cubicBezTo>
                  <a:pt x="2872" y="12003"/>
                  <a:pt x="2880" y="12058"/>
                  <a:pt x="2917" y="12093"/>
                </a:cubicBezTo>
                <a:cubicBezTo>
                  <a:pt x="2941" y="12116"/>
                  <a:pt x="2958" y="12099"/>
                  <a:pt x="2981" y="12088"/>
                </a:cubicBezTo>
              </a:path>
              <a:path w="921" h="745">
                <a:moveTo>
                  <a:pt x="3130" y="11415"/>
                </a:moveTo>
                <a:cubicBezTo>
                  <a:pt x="3146" y="11394"/>
                  <a:pt x="3140" y="11457"/>
                  <a:pt x="3141" y="11479"/>
                </a:cubicBezTo>
                <a:cubicBezTo>
                  <a:pt x="3145" y="11551"/>
                  <a:pt x="3149" y="11622"/>
                  <a:pt x="3158" y="11693"/>
                </a:cubicBezTo>
                <a:cubicBezTo>
                  <a:pt x="3164" y="11739"/>
                  <a:pt x="3165" y="11786"/>
                  <a:pt x="3182" y="11829"/>
                </a:cubicBezTo>
              </a:path>
              <a:path w="921" h="745">
                <a:moveTo>
                  <a:pt x="3306" y="11412"/>
                </a:moveTo>
                <a:cubicBezTo>
                  <a:pt x="3331" y="11414"/>
                  <a:pt x="3295" y="11454"/>
                  <a:pt x="3279" y="11478"/>
                </a:cubicBezTo>
                <a:cubicBezTo>
                  <a:pt x="3251" y="11520"/>
                  <a:pt x="3223" y="11563"/>
                  <a:pt x="3200" y="11608"/>
                </a:cubicBezTo>
                <a:cubicBezTo>
                  <a:pt x="3183" y="11640"/>
                  <a:pt x="3174" y="11664"/>
                  <a:pt x="3213" y="11679"/>
                </a:cubicBezTo>
                <a:cubicBezTo>
                  <a:pt x="3257" y="11697"/>
                  <a:pt x="3312" y="11704"/>
                  <a:pt x="3359" y="11710"/>
                </a:cubicBezTo>
                <a:cubicBezTo>
                  <a:pt x="3395" y="11715"/>
                  <a:pt x="3431" y="11716"/>
                  <a:pt x="3467" y="1171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1417680" y="4141800"/>
            <a:ext cx="480960" cy="163440"/>
          </a:xfrm>
          <a:custGeom>
            <a:avLst/>
            <a:gdLst/>
            <a:ahLst/>
            <a:rect l="l" t="t" r="r" b="b"/>
            <a:pathLst>
              <a:path w="1337" h="455">
                <a:moveTo>
                  <a:pt x="3976" y="11791"/>
                </a:moveTo>
                <a:cubicBezTo>
                  <a:pt x="3970" y="11786"/>
                  <a:pt x="3965" y="11782"/>
                  <a:pt x="3959" y="11777"/>
                </a:cubicBezTo>
                <a:cubicBezTo>
                  <a:pt x="3935" y="11799"/>
                  <a:pt x="3936" y="11815"/>
                  <a:pt x="3938" y="11848"/>
                </a:cubicBezTo>
                <a:cubicBezTo>
                  <a:pt x="3940" y="11881"/>
                  <a:pt x="3942" y="11915"/>
                  <a:pt x="3944" y="11948"/>
                </a:cubicBezTo>
                <a:cubicBezTo>
                  <a:pt x="3944" y="11951"/>
                  <a:pt x="3944" y="11954"/>
                  <a:pt x="3944" y="11957"/>
                </a:cubicBezTo>
                <a:cubicBezTo>
                  <a:pt x="3949" y="11923"/>
                  <a:pt x="3955" y="11890"/>
                  <a:pt x="3965" y="11857"/>
                </a:cubicBezTo>
                <a:cubicBezTo>
                  <a:pt x="3983" y="11798"/>
                  <a:pt x="4006" y="11736"/>
                  <a:pt x="4043" y="11686"/>
                </a:cubicBezTo>
                <a:cubicBezTo>
                  <a:pt x="4067" y="11654"/>
                  <a:pt x="4106" y="11619"/>
                  <a:pt x="4138" y="11660"/>
                </a:cubicBezTo>
                <a:cubicBezTo>
                  <a:pt x="4170" y="11701"/>
                  <a:pt x="4174" y="11767"/>
                  <a:pt x="4180" y="11816"/>
                </a:cubicBezTo>
                <a:cubicBezTo>
                  <a:pt x="4184" y="11846"/>
                  <a:pt x="4185" y="11877"/>
                  <a:pt x="4188" y="11907"/>
                </a:cubicBezTo>
                <a:cubicBezTo>
                  <a:pt x="4201" y="11895"/>
                  <a:pt x="4215" y="11879"/>
                  <a:pt x="4229" y="11861"/>
                </a:cubicBezTo>
                <a:cubicBezTo>
                  <a:pt x="4249" y="11835"/>
                  <a:pt x="4271" y="11826"/>
                  <a:pt x="4298" y="11847"/>
                </a:cubicBezTo>
                <a:cubicBezTo>
                  <a:pt x="4327" y="11869"/>
                  <a:pt x="4350" y="11903"/>
                  <a:pt x="4375" y="11930"/>
                </a:cubicBezTo>
              </a:path>
              <a:path w="1337" h="455">
                <a:moveTo>
                  <a:pt x="4643" y="11693"/>
                </a:moveTo>
                <a:cubicBezTo>
                  <a:pt x="4634" y="11670"/>
                  <a:pt x="4621" y="11663"/>
                  <a:pt x="4599" y="11679"/>
                </a:cubicBezTo>
                <a:cubicBezTo>
                  <a:pt x="4568" y="11702"/>
                  <a:pt x="4548" y="11738"/>
                  <a:pt x="4536" y="11774"/>
                </a:cubicBezTo>
                <a:cubicBezTo>
                  <a:pt x="4522" y="11815"/>
                  <a:pt x="4510" y="11869"/>
                  <a:pt x="4522" y="11912"/>
                </a:cubicBezTo>
                <a:cubicBezTo>
                  <a:pt x="4532" y="11949"/>
                  <a:pt x="4565" y="11952"/>
                  <a:pt x="4597" y="11942"/>
                </a:cubicBezTo>
                <a:cubicBezTo>
                  <a:pt x="4637" y="11929"/>
                  <a:pt x="4674" y="11895"/>
                  <a:pt x="4698" y="11861"/>
                </a:cubicBezTo>
                <a:cubicBezTo>
                  <a:pt x="4722" y="11828"/>
                  <a:pt x="4726" y="11804"/>
                  <a:pt x="4730" y="11767"/>
                </a:cubicBezTo>
                <a:cubicBezTo>
                  <a:pt x="4732" y="11747"/>
                  <a:pt x="4730" y="11745"/>
                  <a:pt x="4719" y="11728"/>
                </a:cubicBezTo>
              </a:path>
              <a:path w="1337" h="455">
                <a:moveTo>
                  <a:pt x="4996" y="11799"/>
                </a:moveTo>
                <a:cubicBezTo>
                  <a:pt x="5006" y="11767"/>
                  <a:pt x="5005" y="11758"/>
                  <a:pt x="4988" y="11730"/>
                </a:cubicBezTo>
                <a:cubicBezTo>
                  <a:pt x="4960" y="11746"/>
                  <a:pt x="4944" y="11758"/>
                  <a:pt x="4925" y="11787"/>
                </a:cubicBezTo>
                <a:cubicBezTo>
                  <a:pt x="4900" y="11825"/>
                  <a:pt x="4878" y="11874"/>
                  <a:pt x="4876" y="11920"/>
                </a:cubicBezTo>
                <a:cubicBezTo>
                  <a:pt x="4877" y="11928"/>
                  <a:pt x="4878" y="11936"/>
                  <a:pt x="4879" y="11944"/>
                </a:cubicBezTo>
                <a:cubicBezTo>
                  <a:pt x="4909" y="11966"/>
                  <a:pt x="4930" y="11959"/>
                  <a:pt x="4960" y="11932"/>
                </a:cubicBezTo>
                <a:cubicBezTo>
                  <a:pt x="5011" y="11887"/>
                  <a:pt x="5047" y="11824"/>
                  <a:pt x="5073" y="11762"/>
                </a:cubicBezTo>
                <a:cubicBezTo>
                  <a:pt x="5098" y="11704"/>
                  <a:pt x="5118" y="11638"/>
                  <a:pt x="5130" y="11575"/>
                </a:cubicBezTo>
                <a:cubicBezTo>
                  <a:pt x="5134" y="11552"/>
                  <a:pt x="5135" y="11528"/>
                  <a:pt x="5135" y="11505"/>
                </a:cubicBezTo>
                <a:cubicBezTo>
                  <a:pt x="5127" y="11551"/>
                  <a:pt x="5135" y="11594"/>
                  <a:pt x="5147" y="11640"/>
                </a:cubicBezTo>
                <a:cubicBezTo>
                  <a:pt x="5166" y="11715"/>
                  <a:pt x="5194" y="11786"/>
                  <a:pt x="5226" y="11856"/>
                </a:cubicBezTo>
                <a:cubicBezTo>
                  <a:pt x="5249" y="11902"/>
                  <a:pt x="5255" y="11916"/>
                  <a:pt x="5274" y="1194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2044800" y="4129200"/>
            <a:ext cx="188640" cy="210960"/>
          </a:xfrm>
          <a:custGeom>
            <a:avLst/>
            <a:gdLst/>
            <a:ahLst/>
            <a:rect l="l" t="t" r="r" b="b"/>
            <a:pathLst>
              <a:path w="527" h="584">
                <a:moveTo>
                  <a:pt x="5678" y="12054"/>
                </a:moveTo>
                <a:cubicBezTo>
                  <a:pt x="5688" y="12034"/>
                  <a:pt x="5691" y="12032"/>
                  <a:pt x="5696" y="12003"/>
                </a:cubicBezTo>
                <a:cubicBezTo>
                  <a:pt x="5704" y="11956"/>
                  <a:pt x="5710" y="11909"/>
                  <a:pt x="5719" y="11862"/>
                </a:cubicBezTo>
                <a:cubicBezTo>
                  <a:pt x="5733" y="11788"/>
                  <a:pt x="5746" y="11713"/>
                  <a:pt x="5764" y="11640"/>
                </a:cubicBezTo>
                <a:cubicBezTo>
                  <a:pt x="5775" y="11595"/>
                  <a:pt x="5790" y="11555"/>
                  <a:pt x="5808" y="11515"/>
                </a:cubicBezTo>
                <a:cubicBezTo>
                  <a:pt x="5825" y="11573"/>
                  <a:pt x="5831" y="11633"/>
                  <a:pt x="5841" y="11693"/>
                </a:cubicBezTo>
                <a:cubicBezTo>
                  <a:pt x="5853" y="11762"/>
                  <a:pt x="5865" y="11841"/>
                  <a:pt x="5903" y="11901"/>
                </a:cubicBezTo>
                <a:cubicBezTo>
                  <a:pt x="5924" y="11935"/>
                  <a:pt x="5959" y="11945"/>
                  <a:pt x="5987" y="11913"/>
                </a:cubicBezTo>
                <a:cubicBezTo>
                  <a:pt x="6034" y="11860"/>
                  <a:pt x="6058" y="11776"/>
                  <a:pt x="6087" y="11713"/>
                </a:cubicBezTo>
                <a:cubicBezTo>
                  <a:pt x="6121" y="11638"/>
                  <a:pt x="6149" y="11547"/>
                  <a:pt x="6198" y="11481"/>
                </a:cubicBezTo>
                <a:cubicBezTo>
                  <a:pt x="6205" y="11469"/>
                  <a:pt x="6206" y="11468"/>
                  <a:pt x="6195" y="1148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2757600" y="4125960"/>
            <a:ext cx="261720" cy="158760"/>
          </a:xfrm>
          <a:custGeom>
            <a:avLst/>
            <a:gdLst/>
            <a:ahLst/>
            <a:rect l="l" t="t" r="r" b="b"/>
            <a:pathLst>
              <a:path w="729" h="441">
                <a:moveTo>
                  <a:pt x="7664" y="11469"/>
                </a:moveTo>
                <a:cubicBezTo>
                  <a:pt x="7656" y="11506"/>
                  <a:pt x="7660" y="11544"/>
                  <a:pt x="7662" y="11582"/>
                </a:cubicBezTo>
                <a:cubicBezTo>
                  <a:pt x="7665" y="11651"/>
                  <a:pt x="7677" y="11719"/>
                  <a:pt x="7688" y="11787"/>
                </a:cubicBezTo>
                <a:cubicBezTo>
                  <a:pt x="7692" y="11814"/>
                  <a:pt x="7696" y="11888"/>
                  <a:pt x="7729" y="11903"/>
                </a:cubicBezTo>
                <a:cubicBezTo>
                  <a:pt x="7734" y="11902"/>
                  <a:pt x="7738" y="11901"/>
                  <a:pt x="7743" y="11900"/>
                </a:cubicBezTo>
              </a:path>
              <a:path w="729" h="441">
                <a:moveTo>
                  <a:pt x="7902" y="11475"/>
                </a:moveTo>
                <a:cubicBezTo>
                  <a:pt x="7904" y="11450"/>
                  <a:pt x="7876" y="11512"/>
                  <a:pt x="7866" y="11527"/>
                </a:cubicBezTo>
                <a:cubicBezTo>
                  <a:pt x="7839" y="11568"/>
                  <a:pt x="7811" y="11607"/>
                  <a:pt x="7780" y="11645"/>
                </a:cubicBezTo>
                <a:cubicBezTo>
                  <a:pt x="7754" y="11677"/>
                  <a:pt x="7711" y="11715"/>
                  <a:pt x="7703" y="11758"/>
                </a:cubicBezTo>
                <a:cubicBezTo>
                  <a:pt x="7698" y="11785"/>
                  <a:pt x="7738" y="11794"/>
                  <a:pt x="7756" y="11798"/>
                </a:cubicBezTo>
                <a:cubicBezTo>
                  <a:pt x="7802" y="11808"/>
                  <a:pt x="7846" y="11800"/>
                  <a:pt x="7892" y="11802"/>
                </a:cubicBezTo>
                <a:cubicBezTo>
                  <a:pt x="7928" y="11803"/>
                  <a:pt x="7965" y="11810"/>
                  <a:pt x="8000" y="11797"/>
                </a:cubicBezTo>
                <a:cubicBezTo>
                  <a:pt x="8004" y="11795"/>
                  <a:pt x="8008" y="11792"/>
                  <a:pt x="8012" y="11790"/>
                </a:cubicBezTo>
              </a:path>
              <a:path w="729" h="441">
                <a:moveTo>
                  <a:pt x="8128" y="11631"/>
                </a:moveTo>
                <a:cubicBezTo>
                  <a:pt x="8137" y="11608"/>
                  <a:pt x="8133" y="11596"/>
                  <a:pt x="8153" y="11585"/>
                </a:cubicBezTo>
                <a:cubicBezTo>
                  <a:pt x="8179" y="11570"/>
                  <a:pt x="8216" y="11560"/>
                  <a:pt x="8245" y="11556"/>
                </a:cubicBezTo>
                <a:cubicBezTo>
                  <a:pt x="8273" y="11552"/>
                  <a:pt x="8300" y="11555"/>
                  <a:pt x="8320" y="11572"/>
                </a:cubicBezTo>
              </a:path>
              <a:path w="729" h="441">
                <a:moveTo>
                  <a:pt x="8154" y="11768"/>
                </a:moveTo>
                <a:cubicBezTo>
                  <a:pt x="8149" y="11795"/>
                  <a:pt x="8193" y="11777"/>
                  <a:pt x="8220" y="11774"/>
                </a:cubicBezTo>
                <a:cubicBezTo>
                  <a:pt x="8263" y="11769"/>
                  <a:pt x="8302" y="11763"/>
                  <a:pt x="8346" y="11766"/>
                </a:cubicBezTo>
                <a:cubicBezTo>
                  <a:pt x="8366" y="11768"/>
                  <a:pt x="8373" y="11769"/>
                  <a:pt x="8386" y="1177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3112920" y="4092480"/>
            <a:ext cx="912960" cy="193680"/>
          </a:xfrm>
          <a:custGeom>
            <a:avLst/>
            <a:gdLst/>
            <a:ahLst/>
            <a:rect l="l" t="t" r="r" b="b"/>
            <a:pathLst>
              <a:path w="2538" h="539">
                <a:moveTo>
                  <a:pt x="8646" y="11460"/>
                </a:moveTo>
                <a:cubicBezTo>
                  <a:pt x="8661" y="11463"/>
                  <a:pt x="8660" y="11503"/>
                  <a:pt x="8661" y="11524"/>
                </a:cubicBezTo>
                <a:cubicBezTo>
                  <a:pt x="8663" y="11592"/>
                  <a:pt x="8666" y="11659"/>
                  <a:pt x="8671" y="11727"/>
                </a:cubicBezTo>
                <a:cubicBezTo>
                  <a:pt x="8675" y="11781"/>
                  <a:pt x="8676" y="11834"/>
                  <a:pt x="8683" y="11888"/>
                </a:cubicBezTo>
                <a:cubicBezTo>
                  <a:pt x="8683" y="11891"/>
                  <a:pt x="8684" y="11895"/>
                  <a:pt x="8684" y="11898"/>
                </a:cubicBezTo>
              </a:path>
              <a:path w="2538" h="539">
                <a:moveTo>
                  <a:pt x="8861" y="11517"/>
                </a:moveTo>
                <a:cubicBezTo>
                  <a:pt x="8867" y="11501"/>
                  <a:pt x="8870" y="11498"/>
                  <a:pt x="8868" y="11483"/>
                </a:cubicBezTo>
                <a:cubicBezTo>
                  <a:pt x="8856" y="11509"/>
                  <a:pt x="8834" y="11533"/>
                  <a:pt x="8817" y="11558"/>
                </a:cubicBezTo>
                <a:cubicBezTo>
                  <a:pt x="8790" y="11597"/>
                  <a:pt x="8763" y="11635"/>
                  <a:pt x="8738" y="11675"/>
                </a:cubicBezTo>
                <a:cubicBezTo>
                  <a:pt x="8727" y="11692"/>
                  <a:pt x="8705" y="11721"/>
                  <a:pt x="8726" y="11739"/>
                </a:cubicBezTo>
                <a:cubicBezTo>
                  <a:pt x="8746" y="11756"/>
                  <a:pt x="8783" y="11764"/>
                  <a:pt x="8808" y="11768"/>
                </a:cubicBezTo>
                <a:cubicBezTo>
                  <a:pt x="8844" y="11774"/>
                  <a:pt x="8879" y="11781"/>
                  <a:pt x="8916" y="11782"/>
                </a:cubicBezTo>
                <a:cubicBezTo>
                  <a:pt x="8935" y="11782"/>
                  <a:pt x="8941" y="11782"/>
                  <a:pt x="8953" y="11778"/>
                </a:cubicBezTo>
              </a:path>
              <a:path w="2538" h="539">
                <a:moveTo>
                  <a:pt x="9025" y="11759"/>
                </a:moveTo>
                <a:cubicBezTo>
                  <a:pt x="9015" y="11775"/>
                  <a:pt x="8997" y="11798"/>
                  <a:pt x="8994" y="11816"/>
                </a:cubicBezTo>
                <a:cubicBezTo>
                  <a:pt x="8990" y="11837"/>
                  <a:pt x="8987" y="11875"/>
                  <a:pt x="9004" y="11891"/>
                </a:cubicBezTo>
                <a:cubicBezTo>
                  <a:pt x="9029" y="11914"/>
                  <a:pt x="9067" y="11904"/>
                  <a:pt x="9094" y="11894"/>
                </a:cubicBezTo>
                <a:cubicBezTo>
                  <a:pt x="9125" y="11882"/>
                  <a:pt x="9159" y="11860"/>
                  <a:pt x="9176" y="11830"/>
                </a:cubicBezTo>
                <a:cubicBezTo>
                  <a:pt x="9191" y="11805"/>
                  <a:pt x="9180" y="11788"/>
                  <a:pt x="9161" y="11772"/>
                </a:cubicBezTo>
                <a:cubicBezTo>
                  <a:pt x="9139" y="11754"/>
                  <a:pt x="9115" y="11750"/>
                  <a:pt x="9088" y="11743"/>
                </a:cubicBezTo>
                <a:cubicBezTo>
                  <a:pt x="9084" y="11742"/>
                  <a:pt x="9079" y="11741"/>
                  <a:pt x="9075" y="11740"/>
                </a:cubicBezTo>
              </a:path>
              <a:path w="2538" h="539">
                <a:moveTo>
                  <a:pt x="9343" y="11559"/>
                </a:moveTo>
                <a:cubicBezTo>
                  <a:pt x="9347" y="11547"/>
                  <a:pt x="9348" y="11544"/>
                  <a:pt x="9348" y="11536"/>
                </a:cubicBezTo>
                <a:cubicBezTo>
                  <a:pt x="9373" y="11562"/>
                  <a:pt x="9369" y="11601"/>
                  <a:pt x="9374" y="11641"/>
                </a:cubicBezTo>
                <a:cubicBezTo>
                  <a:pt x="9380" y="11690"/>
                  <a:pt x="9381" y="11737"/>
                  <a:pt x="9379" y="11786"/>
                </a:cubicBezTo>
                <a:cubicBezTo>
                  <a:pt x="9378" y="11804"/>
                  <a:pt x="9378" y="11808"/>
                  <a:pt x="9375" y="11819"/>
                </a:cubicBezTo>
              </a:path>
              <a:path w="2538" h="539">
                <a:moveTo>
                  <a:pt x="9283" y="11714"/>
                </a:moveTo>
                <a:cubicBezTo>
                  <a:pt x="9278" y="11685"/>
                  <a:pt x="9301" y="11674"/>
                  <a:pt x="9333" y="11670"/>
                </a:cubicBezTo>
                <a:cubicBezTo>
                  <a:pt x="9383" y="11663"/>
                  <a:pt x="9435" y="11660"/>
                  <a:pt x="9486" y="11657"/>
                </a:cubicBezTo>
              </a:path>
              <a:path w="2538" h="539">
                <a:moveTo>
                  <a:pt x="9557" y="11518"/>
                </a:moveTo>
                <a:cubicBezTo>
                  <a:pt x="9563" y="11489"/>
                  <a:pt x="9572" y="11483"/>
                  <a:pt x="9592" y="11463"/>
                </a:cubicBezTo>
                <a:cubicBezTo>
                  <a:pt x="9618" y="11437"/>
                  <a:pt x="9650" y="11421"/>
                  <a:pt x="9688" y="11419"/>
                </a:cubicBezTo>
                <a:cubicBezTo>
                  <a:pt x="9732" y="11417"/>
                  <a:pt x="9768" y="11443"/>
                  <a:pt x="9784" y="11483"/>
                </a:cubicBezTo>
                <a:cubicBezTo>
                  <a:pt x="9808" y="11542"/>
                  <a:pt x="9793" y="11603"/>
                  <a:pt x="9776" y="11661"/>
                </a:cubicBezTo>
                <a:cubicBezTo>
                  <a:pt x="9759" y="11717"/>
                  <a:pt x="9729" y="11766"/>
                  <a:pt x="9704" y="11818"/>
                </a:cubicBezTo>
                <a:cubicBezTo>
                  <a:pt x="9736" y="11826"/>
                  <a:pt x="9759" y="11810"/>
                  <a:pt x="9789" y="11795"/>
                </a:cubicBezTo>
                <a:cubicBezTo>
                  <a:pt x="9824" y="11778"/>
                  <a:pt x="9858" y="11762"/>
                  <a:pt x="9892" y="11743"/>
                </a:cubicBezTo>
              </a:path>
              <a:path w="2538" h="539">
                <a:moveTo>
                  <a:pt x="10039" y="11410"/>
                </a:moveTo>
                <a:cubicBezTo>
                  <a:pt x="10046" y="11397"/>
                  <a:pt x="10048" y="11394"/>
                  <a:pt x="10052" y="11386"/>
                </a:cubicBezTo>
                <a:cubicBezTo>
                  <a:pt x="10068" y="11408"/>
                  <a:pt x="10068" y="11437"/>
                  <a:pt x="10073" y="11467"/>
                </a:cubicBezTo>
                <a:cubicBezTo>
                  <a:pt x="10082" y="11523"/>
                  <a:pt x="10094" y="11579"/>
                  <a:pt x="10112" y="11633"/>
                </a:cubicBezTo>
                <a:cubicBezTo>
                  <a:pt x="10122" y="11662"/>
                  <a:pt x="10133" y="11692"/>
                  <a:pt x="10143" y="11721"/>
                </a:cubicBezTo>
              </a:path>
              <a:path w="2538" h="539">
                <a:moveTo>
                  <a:pt x="10253" y="11412"/>
                </a:moveTo>
                <a:cubicBezTo>
                  <a:pt x="10260" y="11398"/>
                  <a:pt x="10267" y="11385"/>
                  <a:pt x="10274" y="11371"/>
                </a:cubicBezTo>
                <a:cubicBezTo>
                  <a:pt x="10264" y="11399"/>
                  <a:pt x="10244" y="11424"/>
                  <a:pt x="10225" y="11448"/>
                </a:cubicBezTo>
                <a:cubicBezTo>
                  <a:pt x="10197" y="11483"/>
                  <a:pt x="10167" y="11517"/>
                  <a:pt x="10142" y="11554"/>
                </a:cubicBezTo>
                <a:cubicBezTo>
                  <a:pt x="10125" y="11579"/>
                  <a:pt x="10117" y="11600"/>
                  <a:pt x="10147" y="11615"/>
                </a:cubicBezTo>
                <a:cubicBezTo>
                  <a:pt x="10168" y="11626"/>
                  <a:pt x="10205" y="11629"/>
                  <a:pt x="10228" y="11633"/>
                </a:cubicBezTo>
                <a:cubicBezTo>
                  <a:pt x="10260" y="11639"/>
                  <a:pt x="10286" y="11648"/>
                  <a:pt x="10316" y="11662"/>
                </a:cubicBezTo>
                <a:cubicBezTo>
                  <a:pt x="10322" y="11665"/>
                  <a:pt x="10327" y="11667"/>
                  <a:pt x="10333" y="11670"/>
                </a:cubicBezTo>
              </a:path>
              <a:path w="2538" h="539">
                <a:moveTo>
                  <a:pt x="10432" y="11617"/>
                </a:moveTo>
                <a:cubicBezTo>
                  <a:pt x="10437" y="11641"/>
                  <a:pt x="10439" y="11664"/>
                  <a:pt x="10442" y="11688"/>
                </a:cubicBezTo>
                <a:cubicBezTo>
                  <a:pt x="10446" y="11726"/>
                  <a:pt x="10451" y="11764"/>
                  <a:pt x="10457" y="11802"/>
                </a:cubicBezTo>
                <a:cubicBezTo>
                  <a:pt x="10460" y="11820"/>
                  <a:pt x="10464" y="11837"/>
                  <a:pt x="10468" y="11855"/>
                </a:cubicBezTo>
              </a:path>
              <a:path w="2538" h="539">
                <a:moveTo>
                  <a:pt x="10690" y="11429"/>
                </a:moveTo>
                <a:cubicBezTo>
                  <a:pt x="10684" y="11460"/>
                  <a:pt x="10670" y="11494"/>
                  <a:pt x="10667" y="11524"/>
                </a:cubicBezTo>
                <a:cubicBezTo>
                  <a:pt x="10663" y="11567"/>
                  <a:pt x="10665" y="11620"/>
                  <a:pt x="10681" y="11661"/>
                </a:cubicBezTo>
                <a:cubicBezTo>
                  <a:pt x="10693" y="11690"/>
                  <a:pt x="10701" y="11679"/>
                  <a:pt x="10713" y="11664"/>
                </a:cubicBezTo>
              </a:path>
              <a:path w="2538" h="539">
                <a:moveTo>
                  <a:pt x="10615" y="11509"/>
                </a:moveTo>
                <a:cubicBezTo>
                  <a:pt x="10655" y="11519"/>
                  <a:pt x="10689" y="11514"/>
                  <a:pt x="10730" y="11510"/>
                </a:cubicBezTo>
                <a:cubicBezTo>
                  <a:pt x="10785" y="11505"/>
                  <a:pt x="10839" y="11502"/>
                  <a:pt x="10894" y="11496"/>
                </a:cubicBezTo>
              </a:path>
              <a:path w="2538" h="539">
                <a:moveTo>
                  <a:pt x="10976" y="11367"/>
                </a:moveTo>
                <a:cubicBezTo>
                  <a:pt x="10972" y="11387"/>
                  <a:pt x="10963" y="11410"/>
                  <a:pt x="10962" y="11430"/>
                </a:cubicBezTo>
                <a:cubicBezTo>
                  <a:pt x="10961" y="11459"/>
                  <a:pt x="10963" y="11499"/>
                  <a:pt x="10980" y="11524"/>
                </a:cubicBezTo>
                <a:cubicBezTo>
                  <a:pt x="10998" y="11551"/>
                  <a:pt x="11030" y="11541"/>
                  <a:pt x="11053" y="11527"/>
                </a:cubicBezTo>
                <a:cubicBezTo>
                  <a:pt x="11092" y="11503"/>
                  <a:pt x="11123" y="11460"/>
                  <a:pt x="11149" y="11423"/>
                </a:cubicBezTo>
                <a:cubicBezTo>
                  <a:pt x="11158" y="11409"/>
                  <a:pt x="11160" y="11405"/>
                  <a:pt x="11171" y="11404"/>
                </a:cubicBezTo>
                <a:cubicBezTo>
                  <a:pt x="11170" y="11451"/>
                  <a:pt x="11159" y="11496"/>
                  <a:pt x="11153" y="11542"/>
                </a:cubicBezTo>
                <a:cubicBezTo>
                  <a:pt x="11142" y="11620"/>
                  <a:pt x="11133" y="11698"/>
                  <a:pt x="11136" y="11777"/>
                </a:cubicBezTo>
                <a:cubicBezTo>
                  <a:pt x="11138" y="11822"/>
                  <a:pt x="11137" y="11850"/>
                  <a:pt x="11183" y="1185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4146480" y="4084560"/>
            <a:ext cx="461880" cy="157320"/>
          </a:xfrm>
          <a:custGeom>
            <a:avLst/>
            <a:gdLst/>
            <a:ahLst/>
            <a:rect l="l" t="t" r="r" b="b"/>
            <a:pathLst>
              <a:path w="1283" h="434">
                <a:moveTo>
                  <a:pt x="11553" y="11358"/>
                </a:moveTo>
                <a:cubicBezTo>
                  <a:pt x="11532" y="11349"/>
                  <a:pt x="11533" y="11402"/>
                  <a:pt x="11528" y="11427"/>
                </a:cubicBezTo>
                <a:cubicBezTo>
                  <a:pt x="11517" y="11489"/>
                  <a:pt x="11513" y="11550"/>
                  <a:pt x="11520" y="11613"/>
                </a:cubicBezTo>
                <a:cubicBezTo>
                  <a:pt x="11524" y="11652"/>
                  <a:pt x="11527" y="11707"/>
                  <a:pt x="11556" y="11737"/>
                </a:cubicBezTo>
                <a:cubicBezTo>
                  <a:pt x="11566" y="11743"/>
                  <a:pt x="11569" y="11745"/>
                  <a:pt x="11577" y="11742"/>
                </a:cubicBezTo>
              </a:path>
              <a:path w="1283" h="434">
                <a:moveTo>
                  <a:pt x="11714" y="11413"/>
                </a:moveTo>
                <a:cubicBezTo>
                  <a:pt x="11726" y="11402"/>
                  <a:pt x="11738" y="11392"/>
                  <a:pt x="11751" y="11382"/>
                </a:cubicBezTo>
                <a:cubicBezTo>
                  <a:pt x="11733" y="11413"/>
                  <a:pt x="11699" y="11438"/>
                  <a:pt x="11673" y="11464"/>
                </a:cubicBezTo>
                <a:cubicBezTo>
                  <a:pt x="11634" y="11503"/>
                  <a:pt x="11590" y="11541"/>
                  <a:pt x="11564" y="11590"/>
                </a:cubicBezTo>
                <a:cubicBezTo>
                  <a:pt x="11546" y="11624"/>
                  <a:pt x="11558" y="11636"/>
                  <a:pt x="11591" y="11643"/>
                </a:cubicBezTo>
                <a:cubicBezTo>
                  <a:pt x="11630" y="11651"/>
                  <a:pt x="11669" y="11653"/>
                  <a:pt x="11708" y="11661"/>
                </a:cubicBezTo>
                <a:cubicBezTo>
                  <a:pt x="11737" y="11667"/>
                  <a:pt x="11767" y="11674"/>
                  <a:pt x="11796" y="11680"/>
                </a:cubicBezTo>
              </a:path>
              <a:path w="1283" h="434">
                <a:moveTo>
                  <a:pt x="11938" y="11628"/>
                </a:moveTo>
                <a:cubicBezTo>
                  <a:pt x="11947" y="11609"/>
                  <a:pt x="11954" y="11602"/>
                  <a:pt x="11975" y="11596"/>
                </a:cubicBezTo>
                <a:cubicBezTo>
                  <a:pt x="12005" y="11588"/>
                  <a:pt x="12017" y="11602"/>
                  <a:pt x="12016" y="11634"/>
                </a:cubicBezTo>
                <a:cubicBezTo>
                  <a:pt x="12014" y="11667"/>
                  <a:pt x="11997" y="11701"/>
                  <a:pt x="11984" y="11731"/>
                </a:cubicBezTo>
                <a:cubicBezTo>
                  <a:pt x="11977" y="11748"/>
                  <a:pt x="11971" y="11757"/>
                  <a:pt x="11971" y="11774"/>
                </a:cubicBezTo>
                <a:cubicBezTo>
                  <a:pt x="12015" y="11778"/>
                  <a:pt x="12059" y="11773"/>
                  <a:pt x="12104" y="11775"/>
                </a:cubicBezTo>
                <a:cubicBezTo>
                  <a:pt x="12121" y="11776"/>
                  <a:pt x="12138" y="11778"/>
                  <a:pt x="12155" y="11781"/>
                </a:cubicBezTo>
              </a:path>
              <a:path w="1283" h="434">
                <a:moveTo>
                  <a:pt x="12341" y="11433"/>
                </a:moveTo>
                <a:cubicBezTo>
                  <a:pt x="12350" y="11467"/>
                  <a:pt x="12347" y="11496"/>
                  <a:pt x="12350" y="11530"/>
                </a:cubicBezTo>
                <a:cubicBezTo>
                  <a:pt x="12355" y="11589"/>
                  <a:pt x="12360" y="11649"/>
                  <a:pt x="12363" y="11708"/>
                </a:cubicBezTo>
                <a:cubicBezTo>
                  <a:pt x="12363" y="11712"/>
                  <a:pt x="12362" y="11717"/>
                  <a:pt x="12362" y="11721"/>
                </a:cubicBezTo>
              </a:path>
              <a:path w="1283" h="434">
                <a:moveTo>
                  <a:pt x="12320" y="11573"/>
                </a:moveTo>
                <a:cubicBezTo>
                  <a:pt x="12336" y="11559"/>
                  <a:pt x="12365" y="11541"/>
                  <a:pt x="12387" y="11536"/>
                </a:cubicBezTo>
                <a:cubicBezTo>
                  <a:pt x="12420" y="11528"/>
                  <a:pt x="12456" y="11525"/>
                  <a:pt x="12489" y="11520"/>
                </a:cubicBezTo>
              </a:path>
              <a:path w="1283" h="434">
                <a:moveTo>
                  <a:pt x="12668" y="11606"/>
                </a:moveTo>
                <a:cubicBezTo>
                  <a:pt x="12688" y="11588"/>
                  <a:pt x="12712" y="11575"/>
                  <a:pt x="12738" y="11567"/>
                </a:cubicBezTo>
                <a:cubicBezTo>
                  <a:pt x="12769" y="11560"/>
                  <a:pt x="12779" y="11558"/>
                  <a:pt x="12799" y="1155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4730760" y="4154400"/>
            <a:ext cx="27000" cy="6480"/>
          </a:xfrm>
          <a:custGeom>
            <a:avLst/>
            <a:gdLst/>
            <a:ahLst/>
            <a:rect l="l" t="t" r="r" b="b"/>
            <a:pathLst>
              <a:path w="74" h="15">
                <a:moveTo>
                  <a:pt x="13143" y="11552"/>
                </a:moveTo>
                <a:cubicBezTo>
                  <a:pt x="13165" y="11547"/>
                  <a:pt x="13185" y="11536"/>
                  <a:pt x="13207" y="11548"/>
                </a:cubicBezTo>
                <a:cubicBezTo>
                  <a:pt x="13210" y="11551"/>
                  <a:pt x="13213" y="11553"/>
                  <a:pt x="13216" y="1155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4870440" y="3971880"/>
            <a:ext cx="417600" cy="258840"/>
          </a:xfrm>
          <a:custGeom>
            <a:avLst/>
            <a:gdLst/>
            <a:ahLst/>
            <a:rect l="l" t="t" r="r" b="b"/>
            <a:pathLst>
              <a:path w="1156" h="722">
                <a:moveTo>
                  <a:pt x="13654" y="11452"/>
                </a:moveTo>
                <a:cubicBezTo>
                  <a:pt x="13628" y="11446"/>
                  <a:pt x="13626" y="11471"/>
                  <a:pt x="13619" y="11499"/>
                </a:cubicBezTo>
                <a:cubicBezTo>
                  <a:pt x="13607" y="11545"/>
                  <a:pt x="13597" y="11599"/>
                  <a:pt x="13599" y="11647"/>
                </a:cubicBezTo>
                <a:cubicBezTo>
                  <a:pt x="13600" y="11679"/>
                  <a:pt x="13606" y="11715"/>
                  <a:pt x="13614" y="11746"/>
                </a:cubicBezTo>
              </a:path>
              <a:path w="1156" h="722">
                <a:moveTo>
                  <a:pt x="13543" y="11557"/>
                </a:moveTo>
                <a:cubicBezTo>
                  <a:pt x="13526" y="11541"/>
                  <a:pt x="13564" y="11542"/>
                  <a:pt x="13585" y="11539"/>
                </a:cubicBezTo>
                <a:cubicBezTo>
                  <a:pt x="13623" y="11533"/>
                  <a:pt x="13660" y="11535"/>
                  <a:pt x="13698" y="11533"/>
                </a:cubicBezTo>
                <a:cubicBezTo>
                  <a:pt x="13720" y="11532"/>
                  <a:pt x="13741" y="11531"/>
                  <a:pt x="13763" y="11529"/>
                </a:cubicBezTo>
              </a:path>
              <a:path w="1156" h="722">
                <a:moveTo>
                  <a:pt x="13940" y="11463"/>
                </a:moveTo>
                <a:cubicBezTo>
                  <a:pt x="13923" y="11455"/>
                  <a:pt x="13916" y="11444"/>
                  <a:pt x="13929" y="11424"/>
                </a:cubicBezTo>
                <a:cubicBezTo>
                  <a:pt x="13942" y="11403"/>
                  <a:pt x="13965" y="11388"/>
                  <a:pt x="13987" y="11379"/>
                </a:cubicBezTo>
                <a:cubicBezTo>
                  <a:pt x="14014" y="11368"/>
                  <a:pt x="14043" y="11364"/>
                  <a:pt x="14072" y="11369"/>
                </a:cubicBezTo>
                <a:cubicBezTo>
                  <a:pt x="14104" y="11375"/>
                  <a:pt x="14127" y="11400"/>
                  <a:pt x="14135" y="11431"/>
                </a:cubicBezTo>
                <a:cubicBezTo>
                  <a:pt x="14148" y="11480"/>
                  <a:pt x="14141" y="11536"/>
                  <a:pt x="14128" y="11584"/>
                </a:cubicBezTo>
                <a:cubicBezTo>
                  <a:pt x="14112" y="11642"/>
                  <a:pt x="14079" y="11711"/>
                  <a:pt x="14026" y="11744"/>
                </a:cubicBezTo>
                <a:cubicBezTo>
                  <a:pt x="13986" y="11769"/>
                  <a:pt x="13954" y="11743"/>
                  <a:pt x="13941" y="11705"/>
                </a:cubicBezTo>
                <a:cubicBezTo>
                  <a:pt x="13931" y="11676"/>
                  <a:pt x="13931" y="11644"/>
                  <a:pt x="13948" y="11618"/>
                </a:cubicBezTo>
                <a:cubicBezTo>
                  <a:pt x="13964" y="11593"/>
                  <a:pt x="13991" y="11595"/>
                  <a:pt x="14015" y="11606"/>
                </a:cubicBezTo>
                <a:cubicBezTo>
                  <a:pt x="14045" y="11620"/>
                  <a:pt x="14073" y="11648"/>
                  <a:pt x="14097" y="11670"/>
                </a:cubicBezTo>
                <a:cubicBezTo>
                  <a:pt x="14103" y="11675"/>
                  <a:pt x="14136" y="11710"/>
                  <a:pt x="14149" y="11706"/>
                </a:cubicBezTo>
                <a:cubicBezTo>
                  <a:pt x="14153" y="11703"/>
                  <a:pt x="14158" y="11700"/>
                  <a:pt x="14162" y="11697"/>
                </a:cubicBezTo>
              </a:path>
              <a:path w="1156" h="722">
                <a:moveTo>
                  <a:pt x="14254" y="11251"/>
                </a:moveTo>
                <a:cubicBezTo>
                  <a:pt x="14260" y="11271"/>
                  <a:pt x="14261" y="11291"/>
                  <a:pt x="14264" y="11312"/>
                </a:cubicBezTo>
                <a:cubicBezTo>
                  <a:pt x="14268" y="11343"/>
                  <a:pt x="14272" y="11374"/>
                  <a:pt x="14274" y="11405"/>
                </a:cubicBezTo>
                <a:cubicBezTo>
                  <a:pt x="14275" y="11427"/>
                  <a:pt x="14278" y="11441"/>
                  <a:pt x="14291" y="11458"/>
                </a:cubicBezTo>
              </a:path>
              <a:path w="1156" h="722">
                <a:moveTo>
                  <a:pt x="14380" y="11243"/>
                </a:moveTo>
                <a:cubicBezTo>
                  <a:pt x="14391" y="11233"/>
                  <a:pt x="14394" y="11229"/>
                  <a:pt x="14404" y="11226"/>
                </a:cubicBezTo>
                <a:cubicBezTo>
                  <a:pt x="14398" y="11240"/>
                  <a:pt x="14389" y="11256"/>
                  <a:pt x="14377" y="11266"/>
                </a:cubicBezTo>
                <a:cubicBezTo>
                  <a:pt x="14360" y="11281"/>
                  <a:pt x="14345" y="11291"/>
                  <a:pt x="14331" y="11310"/>
                </a:cubicBezTo>
                <a:cubicBezTo>
                  <a:pt x="14322" y="11323"/>
                  <a:pt x="14319" y="11327"/>
                  <a:pt x="14313" y="11335"/>
                </a:cubicBezTo>
                <a:cubicBezTo>
                  <a:pt x="14319" y="11316"/>
                  <a:pt x="14322" y="11298"/>
                  <a:pt x="14323" y="11278"/>
                </a:cubicBezTo>
                <a:cubicBezTo>
                  <a:pt x="14323" y="11266"/>
                  <a:pt x="14324" y="11255"/>
                  <a:pt x="14322" y="11243"/>
                </a:cubicBezTo>
                <a:cubicBezTo>
                  <a:pt x="14319" y="11300"/>
                  <a:pt x="14331" y="11355"/>
                  <a:pt x="14333" y="11412"/>
                </a:cubicBezTo>
                <a:cubicBezTo>
                  <a:pt x="14334" y="11443"/>
                  <a:pt x="14329" y="11473"/>
                  <a:pt x="14325" y="11504"/>
                </a:cubicBezTo>
                <a:cubicBezTo>
                  <a:pt x="14322" y="11526"/>
                  <a:pt x="14321" y="11575"/>
                  <a:pt x="14302" y="11591"/>
                </a:cubicBezTo>
                <a:cubicBezTo>
                  <a:pt x="14281" y="11609"/>
                  <a:pt x="14259" y="11587"/>
                  <a:pt x="14246" y="11571"/>
                </a:cubicBezTo>
                <a:cubicBezTo>
                  <a:pt x="14214" y="11533"/>
                  <a:pt x="14204" y="11492"/>
                  <a:pt x="14198" y="11444"/>
                </a:cubicBezTo>
              </a:path>
              <a:path w="1156" h="722">
                <a:moveTo>
                  <a:pt x="14247" y="11091"/>
                </a:moveTo>
                <a:cubicBezTo>
                  <a:pt x="14244" y="11080"/>
                  <a:pt x="14223" y="11039"/>
                  <a:pt x="14239" y="11032"/>
                </a:cubicBezTo>
                <a:cubicBezTo>
                  <a:pt x="14253" y="11026"/>
                  <a:pt x="14264" y="11038"/>
                  <a:pt x="14274" y="11044"/>
                </a:cubicBezTo>
              </a:path>
              <a:path w="1156" h="722">
                <a:moveTo>
                  <a:pt x="14451" y="11356"/>
                </a:moveTo>
                <a:cubicBezTo>
                  <a:pt x="14477" y="11360"/>
                  <a:pt x="14490" y="11348"/>
                  <a:pt x="14515" y="11346"/>
                </a:cubicBezTo>
                <a:cubicBezTo>
                  <a:pt x="14535" y="11344"/>
                  <a:pt x="14553" y="11340"/>
                  <a:pt x="14572" y="11334"/>
                </a:cubicBezTo>
              </a:path>
              <a:path w="1156" h="722">
                <a:moveTo>
                  <a:pt x="14648" y="11277"/>
                </a:moveTo>
                <a:cubicBezTo>
                  <a:pt x="14644" y="11299"/>
                  <a:pt x="14648" y="11315"/>
                  <a:pt x="14652" y="11337"/>
                </a:cubicBezTo>
                <a:cubicBezTo>
                  <a:pt x="14656" y="11361"/>
                  <a:pt x="14670" y="11380"/>
                  <a:pt x="14678" y="11403"/>
                </a:cubicBezTo>
                <a:cubicBezTo>
                  <a:pt x="14682" y="11417"/>
                  <a:pt x="14683" y="11421"/>
                  <a:pt x="14686" y="1142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5383080" y="4052880"/>
            <a:ext cx="169920" cy="208080"/>
          </a:xfrm>
          <a:custGeom>
            <a:avLst/>
            <a:gdLst/>
            <a:ahLst/>
            <a:rect l="l" t="t" r="r" b="b"/>
            <a:pathLst>
              <a:path w="473" h="578">
                <a:moveTo>
                  <a:pt x="14953" y="11287"/>
                </a:moveTo>
                <a:cubicBezTo>
                  <a:pt x="14955" y="11276"/>
                  <a:pt x="14956" y="11267"/>
                  <a:pt x="14958" y="11256"/>
                </a:cubicBezTo>
                <a:cubicBezTo>
                  <a:pt x="14979" y="11274"/>
                  <a:pt x="14975" y="11294"/>
                  <a:pt x="14979" y="11323"/>
                </a:cubicBezTo>
                <a:cubicBezTo>
                  <a:pt x="14987" y="11377"/>
                  <a:pt x="14992" y="11431"/>
                  <a:pt x="14994" y="11486"/>
                </a:cubicBezTo>
                <a:cubicBezTo>
                  <a:pt x="14995" y="11523"/>
                  <a:pt x="14995" y="11569"/>
                  <a:pt x="15006" y="11605"/>
                </a:cubicBezTo>
                <a:cubicBezTo>
                  <a:pt x="15008" y="11608"/>
                  <a:pt x="15010" y="11612"/>
                  <a:pt x="15012" y="11615"/>
                </a:cubicBezTo>
              </a:path>
              <a:path w="473" h="578">
                <a:moveTo>
                  <a:pt x="15151" y="11340"/>
                </a:moveTo>
                <a:cubicBezTo>
                  <a:pt x="15182" y="11313"/>
                  <a:pt x="15120" y="11370"/>
                  <a:pt x="15117" y="11373"/>
                </a:cubicBezTo>
                <a:cubicBezTo>
                  <a:pt x="15087" y="11399"/>
                  <a:pt x="15057" y="11425"/>
                  <a:pt x="15029" y="11453"/>
                </a:cubicBezTo>
                <a:cubicBezTo>
                  <a:pt x="15013" y="11470"/>
                  <a:pt x="14988" y="11493"/>
                  <a:pt x="14990" y="11519"/>
                </a:cubicBezTo>
                <a:cubicBezTo>
                  <a:pt x="14992" y="11542"/>
                  <a:pt x="15022" y="11552"/>
                  <a:pt x="15040" y="11555"/>
                </a:cubicBezTo>
                <a:cubicBezTo>
                  <a:pt x="15073" y="11561"/>
                  <a:pt x="15108" y="11559"/>
                  <a:pt x="15141" y="11557"/>
                </a:cubicBezTo>
                <a:cubicBezTo>
                  <a:pt x="15167" y="11555"/>
                  <a:pt x="15186" y="11552"/>
                  <a:pt x="15212" y="11557"/>
                </a:cubicBezTo>
              </a:path>
              <a:path w="473" h="578">
                <a:moveTo>
                  <a:pt x="15374" y="11576"/>
                </a:moveTo>
                <a:cubicBezTo>
                  <a:pt x="15393" y="11582"/>
                  <a:pt x="15399" y="11594"/>
                  <a:pt x="15404" y="11616"/>
                </a:cubicBezTo>
                <a:cubicBezTo>
                  <a:pt x="15409" y="11639"/>
                  <a:pt x="15416" y="11662"/>
                  <a:pt x="15419" y="11686"/>
                </a:cubicBezTo>
                <a:cubicBezTo>
                  <a:pt x="15421" y="11708"/>
                  <a:pt x="15425" y="11730"/>
                  <a:pt x="15425" y="11752"/>
                </a:cubicBezTo>
                <a:cubicBezTo>
                  <a:pt x="15425" y="11766"/>
                  <a:pt x="15424" y="11786"/>
                  <a:pt x="15418" y="11798"/>
                </a:cubicBezTo>
                <a:cubicBezTo>
                  <a:pt x="15407" y="11820"/>
                  <a:pt x="15390" y="11836"/>
                  <a:pt x="15364" y="11833"/>
                </a:cubicBezTo>
                <a:cubicBezTo>
                  <a:pt x="15328" y="11829"/>
                  <a:pt x="15303" y="11779"/>
                  <a:pt x="15290" y="11750"/>
                </a:cubicBezTo>
                <a:cubicBezTo>
                  <a:pt x="15288" y="11744"/>
                  <a:pt x="15285" y="11737"/>
                  <a:pt x="15283" y="11731"/>
                </a:cubicBezTo>
              </a:path>
              <a:path w="473" h="578">
                <a:moveTo>
                  <a:pt x="15332" y="11421"/>
                </a:moveTo>
                <a:cubicBezTo>
                  <a:pt x="15329" y="11408"/>
                  <a:pt x="15326" y="11396"/>
                  <a:pt x="15321" y="1138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819760" y="3970440"/>
            <a:ext cx="336600" cy="282600"/>
          </a:xfrm>
          <a:custGeom>
            <a:avLst/>
            <a:gdLst/>
            <a:ahLst/>
            <a:rect l="l" t="t" r="r" b="b"/>
            <a:pathLst>
              <a:path w="935" h="786">
                <a:moveTo>
                  <a:pt x="16660" y="11239"/>
                </a:moveTo>
                <a:cubicBezTo>
                  <a:pt x="16651" y="11234"/>
                  <a:pt x="16634" y="11228"/>
                  <a:pt x="16623" y="11222"/>
                </a:cubicBezTo>
                <a:cubicBezTo>
                  <a:pt x="16604" y="11211"/>
                  <a:pt x="16585" y="11194"/>
                  <a:pt x="16568" y="11180"/>
                </a:cubicBezTo>
                <a:cubicBezTo>
                  <a:pt x="16522" y="11142"/>
                  <a:pt x="16478" y="11101"/>
                  <a:pt x="16431" y="11064"/>
                </a:cubicBezTo>
                <a:cubicBezTo>
                  <a:pt x="16407" y="11045"/>
                  <a:pt x="16381" y="11023"/>
                  <a:pt x="16348" y="11029"/>
                </a:cubicBezTo>
                <a:cubicBezTo>
                  <a:pt x="16316" y="11035"/>
                  <a:pt x="16302" y="11109"/>
                  <a:pt x="16297" y="11131"/>
                </a:cubicBezTo>
                <a:cubicBezTo>
                  <a:pt x="16283" y="11190"/>
                  <a:pt x="16271" y="11250"/>
                  <a:pt x="16264" y="11310"/>
                </a:cubicBezTo>
                <a:cubicBezTo>
                  <a:pt x="16260" y="11341"/>
                  <a:pt x="16252" y="11386"/>
                  <a:pt x="16268" y="11416"/>
                </a:cubicBezTo>
                <a:cubicBezTo>
                  <a:pt x="16279" y="11437"/>
                  <a:pt x="16307" y="11439"/>
                  <a:pt x="16327" y="11446"/>
                </a:cubicBezTo>
                <a:cubicBezTo>
                  <a:pt x="16374" y="11462"/>
                  <a:pt x="16418" y="11490"/>
                  <a:pt x="16450" y="11527"/>
                </a:cubicBezTo>
                <a:cubicBezTo>
                  <a:pt x="16496" y="11581"/>
                  <a:pt x="16512" y="11664"/>
                  <a:pt x="16466" y="11722"/>
                </a:cubicBezTo>
                <a:cubicBezTo>
                  <a:pt x="16433" y="11763"/>
                  <a:pt x="16378" y="11780"/>
                  <a:pt x="16327" y="11782"/>
                </a:cubicBezTo>
                <a:cubicBezTo>
                  <a:pt x="16278" y="11784"/>
                  <a:pt x="16190" y="11770"/>
                  <a:pt x="16166" y="11718"/>
                </a:cubicBezTo>
                <a:cubicBezTo>
                  <a:pt x="16152" y="11686"/>
                  <a:pt x="16180" y="11665"/>
                  <a:pt x="16200" y="11648"/>
                </a:cubicBezTo>
              </a:path>
              <a:path w="935" h="786">
                <a:moveTo>
                  <a:pt x="16787" y="11394"/>
                </a:moveTo>
                <a:cubicBezTo>
                  <a:pt x="16789" y="11383"/>
                  <a:pt x="16790" y="11378"/>
                  <a:pt x="16795" y="11372"/>
                </a:cubicBezTo>
                <a:cubicBezTo>
                  <a:pt x="16816" y="11399"/>
                  <a:pt x="16830" y="11429"/>
                  <a:pt x="16844" y="11460"/>
                </a:cubicBezTo>
                <a:cubicBezTo>
                  <a:pt x="16882" y="11542"/>
                  <a:pt x="16913" y="11627"/>
                  <a:pt x="16960" y="11704"/>
                </a:cubicBezTo>
                <a:cubicBezTo>
                  <a:pt x="16981" y="11738"/>
                  <a:pt x="17015" y="11790"/>
                  <a:pt x="17063" y="11782"/>
                </a:cubicBezTo>
                <a:cubicBezTo>
                  <a:pt x="17083" y="11772"/>
                  <a:pt x="17090" y="11768"/>
                  <a:pt x="17099" y="11755"/>
                </a:cubicBezTo>
              </a:path>
              <a:path w="935" h="786">
                <a:moveTo>
                  <a:pt x="17076" y="11412"/>
                </a:moveTo>
                <a:cubicBezTo>
                  <a:pt x="17043" y="11439"/>
                  <a:pt x="17016" y="11490"/>
                  <a:pt x="16993" y="11527"/>
                </a:cubicBezTo>
                <a:cubicBezTo>
                  <a:pt x="16949" y="11598"/>
                  <a:pt x="16913" y="11672"/>
                  <a:pt x="16874" y="11746"/>
                </a:cubicBezTo>
                <a:cubicBezTo>
                  <a:pt x="16860" y="11773"/>
                  <a:pt x="16848" y="11785"/>
                  <a:pt x="16849" y="11812"/>
                </a:cubicBezTo>
                <a:cubicBezTo>
                  <a:pt x="16864" y="11805"/>
                  <a:pt x="16870" y="11801"/>
                  <a:pt x="16878" y="1179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6280200" y="4017960"/>
            <a:ext cx="306360" cy="237960"/>
          </a:xfrm>
          <a:custGeom>
            <a:avLst/>
            <a:gdLst/>
            <a:ahLst/>
            <a:rect l="l" t="t" r="r" b="b"/>
            <a:pathLst>
              <a:path w="851" h="661">
                <a:moveTo>
                  <a:pt x="17464" y="11418"/>
                </a:moveTo>
                <a:cubicBezTo>
                  <a:pt x="17454" y="11418"/>
                  <a:pt x="17451" y="11418"/>
                  <a:pt x="17444" y="11419"/>
                </a:cubicBezTo>
                <a:cubicBezTo>
                  <a:pt x="17479" y="11429"/>
                  <a:pt x="17518" y="11420"/>
                  <a:pt x="17556" y="11415"/>
                </a:cubicBezTo>
                <a:cubicBezTo>
                  <a:pt x="17611" y="11407"/>
                  <a:pt x="17671" y="11395"/>
                  <a:pt x="17727" y="11395"/>
                </a:cubicBezTo>
                <a:cubicBezTo>
                  <a:pt x="17754" y="11395"/>
                  <a:pt x="17764" y="11396"/>
                  <a:pt x="17776" y="11414"/>
                </a:cubicBezTo>
              </a:path>
              <a:path w="851" h="661">
                <a:moveTo>
                  <a:pt x="17517" y="11594"/>
                </a:moveTo>
                <a:cubicBezTo>
                  <a:pt x="17507" y="11605"/>
                  <a:pt x="17504" y="11607"/>
                  <a:pt x="17501" y="11616"/>
                </a:cubicBezTo>
                <a:cubicBezTo>
                  <a:pt x="17552" y="11623"/>
                  <a:pt x="17598" y="11613"/>
                  <a:pt x="17649" y="11607"/>
                </a:cubicBezTo>
                <a:cubicBezTo>
                  <a:pt x="17704" y="11600"/>
                  <a:pt x="17755" y="11587"/>
                  <a:pt x="17809" y="11573"/>
                </a:cubicBezTo>
              </a:path>
              <a:path w="851" h="661">
                <a:moveTo>
                  <a:pt x="18097" y="11167"/>
                </a:moveTo>
                <a:cubicBezTo>
                  <a:pt x="18134" y="11163"/>
                  <a:pt x="18145" y="11214"/>
                  <a:pt x="18154" y="11249"/>
                </a:cubicBezTo>
                <a:cubicBezTo>
                  <a:pt x="18180" y="11349"/>
                  <a:pt x="18190" y="11454"/>
                  <a:pt x="18211" y="11555"/>
                </a:cubicBezTo>
                <a:cubicBezTo>
                  <a:pt x="18220" y="11598"/>
                  <a:pt x="18224" y="11751"/>
                  <a:pt x="18272" y="11778"/>
                </a:cubicBezTo>
                <a:cubicBezTo>
                  <a:pt x="18279" y="11777"/>
                  <a:pt x="18287" y="11775"/>
                  <a:pt x="18294" y="11774"/>
                </a:cubicBezTo>
              </a:path>
              <a:path w="851" h="661">
                <a:moveTo>
                  <a:pt x="17497" y="11821"/>
                </a:moveTo>
                <a:cubicBezTo>
                  <a:pt x="17499" y="11802"/>
                  <a:pt x="17499" y="11794"/>
                  <a:pt x="17492" y="11777"/>
                </a:cubicBezTo>
                <a:cubicBezTo>
                  <a:pt x="17515" y="11776"/>
                  <a:pt x="17537" y="11783"/>
                  <a:pt x="17560" y="11786"/>
                </a:cubicBezTo>
                <a:cubicBezTo>
                  <a:pt x="17604" y="11792"/>
                  <a:pt x="17649" y="11794"/>
                  <a:pt x="17693" y="11794"/>
                </a:cubicBezTo>
                <a:cubicBezTo>
                  <a:pt x="17731" y="11794"/>
                  <a:pt x="17766" y="11788"/>
                  <a:pt x="17803" y="11783"/>
                </a:cubicBezTo>
                <a:cubicBezTo>
                  <a:pt x="17833" y="11779"/>
                  <a:pt x="17857" y="11767"/>
                  <a:pt x="17883" y="11751"/>
                </a:cubicBezTo>
                <a:cubicBezTo>
                  <a:pt x="17891" y="11746"/>
                  <a:pt x="17898" y="11740"/>
                  <a:pt x="17906" y="1173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6797520" y="3952800"/>
            <a:ext cx="586080" cy="301680"/>
          </a:xfrm>
          <a:custGeom>
            <a:avLst/>
            <a:gdLst/>
            <a:ahLst/>
            <a:rect l="l" t="t" r="r" b="b"/>
            <a:pathLst>
              <a:path w="1629" h="838">
                <a:moveTo>
                  <a:pt x="19213" y="11373"/>
                </a:moveTo>
                <a:cubicBezTo>
                  <a:pt x="19200" y="11378"/>
                  <a:pt x="19193" y="11369"/>
                  <a:pt x="19199" y="11410"/>
                </a:cubicBezTo>
                <a:cubicBezTo>
                  <a:pt x="19207" y="11458"/>
                  <a:pt x="19215" y="11505"/>
                  <a:pt x="19223" y="11553"/>
                </a:cubicBezTo>
                <a:cubicBezTo>
                  <a:pt x="19230" y="11595"/>
                  <a:pt x="19238" y="11636"/>
                  <a:pt x="19247" y="11677"/>
                </a:cubicBezTo>
                <a:cubicBezTo>
                  <a:pt x="19268" y="11628"/>
                  <a:pt x="19277" y="11576"/>
                  <a:pt x="19290" y="11524"/>
                </a:cubicBezTo>
                <a:cubicBezTo>
                  <a:pt x="19304" y="11466"/>
                  <a:pt x="19325" y="11308"/>
                  <a:pt x="19384" y="11274"/>
                </a:cubicBezTo>
                <a:cubicBezTo>
                  <a:pt x="19388" y="11274"/>
                  <a:pt x="19392" y="11275"/>
                  <a:pt x="19396" y="11275"/>
                </a:cubicBezTo>
                <a:cubicBezTo>
                  <a:pt x="19410" y="11323"/>
                  <a:pt x="19408" y="11370"/>
                  <a:pt x="19409" y="11420"/>
                </a:cubicBezTo>
                <a:cubicBezTo>
                  <a:pt x="19410" y="11465"/>
                  <a:pt x="19402" y="11530"/>
                  <a:pt x="19424" y="11572"/>
                </a:cubicBezTo>
                <a:cubicBezTo>
                  <a:pt x="19428" y="11575"/>
                  <a:pt x="19431" y="11579"/>
                  <a:pt x="19435" y="11582"/>
                </a:cubicBezTo>
                <a:cubicBezTo>
                  <a:pt x="19470" y="11565"/>
                  <a:pt x="19487" y="11537"/>
                  <a:pt x="19508" y="11503"/>
                </a:cubicBezTo>
                <a:cubicBezTo>
                  <a:pt x="19527" y="11472"/>
                  <a:pt x="19546" y="11417"/>
                  <a:pt x="19579" y="11399"/>
                </a:cubicBezTo>
                <a:cubicBezTo>
                  <a:pt x="19583" y="11399"/>
                  <a:pt x="19588" y="11398"/>
                  <a:pt x="19592" y="11398"/>
                </a:cubicBezTo>
                <a:cubicBezTo>
                  <a:pt x="19619" y="11438"/>
                  <a:pt x="19629" y="11485"/>
                  <a:pt x="19640" y="11533"/>
                </a:cubicBezTo>
                <a:cubicBezTo>
                  <a:pt x="19656" y="11603"/>
                  <a:pt x="19666" y="11706"/>
                  <a:pt x="19725" y="11756"/>
                </a:cubicBezTo>
                <a:cubicBezTo>
                  <a:pt x="19746" y="11766"/>
                  <a:pt x="19753" y="11769"/>
                  <a:pt x="19769" y="11760"/>
                </a:cubicBezTo>
              </a:path>
              <a:path w="1629" h="838">
                <a:moveTo>
                  <a:pt x="20010" y="11398"/>
                </a:moveTo>
                <a:cubicBezTo>
                  <a:pt x="19987" y="11376"/>
                  <a:pt x="19969" y="11380"/>
                  <a:pt x="19942" y="11395"/>
                </a:cubicBezTo>
                <a:cubicBezTo>
                  <a:pt x="19892" y="11423"/>
                  <a:pt x="19858" y="11466"/>
                  <a:pt x="19826" y="11512"/>
                </a:cubicBezTo>
                <a:cubicBezTo>
                  <a:pt x="19802" y="11548"/>
                  <a:pt x="19761" y="11605"/>
                  <a:pt x="19778" y="11652"/>
                </a:cubicBezTo>
                <a:cubicBezTo>
                  <a:pt x="19793" y="11692"/>
                  <a:pt x="19856" y="11665"/>
                  <a:pt x="19880" y="11655"/>
                </a:cubicBezTo>
                <a:cubicBezTo>
                  <a:pt x="19928" y="11634"/>
                  <a:pt x="19964" y="11603"/>
                  <a:pt x="19997" y="11564"/>
                </a:cubicBezTo>
                <a:cubicBezTo>
                  <a:pt x="20017" y="11541"/>
                  <a:pt x="20028" y="11528"/>
                  <a:pt x="20025" y="11499"/>
                </a:cubicBezTo>
              </a:path>
              <a:path w="1629" h="838">
                <a:moveTo>
                  <a:pt x="20426" y="11473"/>
                </a:moveTo>
                <a:cubicBezTo>
                  <a:pt x="20415" y="11437"/>
                  <a:pt x="20394" y="11394"/>
                  <a:pt x="20348" y="11393"/>
                </a:cubicBezTo>
                <a:cubicBezTo>
                  <a:pt x="20299" y="11392"/>
                  <a:pt x="20248" y="11441"/>
                  <a:pt x="20218" y="11473"/>
                </a:cubicBezTo>
                <a:cubicBezTo>
                  <a:pt x="20178" y="11516"/>
                  <a:pt x="20145" y="11574"/>
                  <a:pt x="20147" y="11635"/>
                </a:cubicBezTo>
                <a:cubicBezTo>
                  <a:pt x="20153" y="11661"/>
                  <a:pt x="20153" y="11669"/>
                  <a:pt x="20169" y="11678"/>
                </a:cubicBezTo>
                <a:cubicBezTo>
                  <a:pt x="20224" y="11673"/>
                  <a:pt x="20260" y="11652"/>
                  <a:pt x="20300" y="11611"/>
                </a:cubicBezTo>
                <a:cubicBezTo>
                  <a:pt x="20355" y="11554"/>
                  <a:pt x="20388" y="11483"/>
                  <a:pt x="20418" y="11411"/>
                </a:cubicBezTo>
                <a:cubicBezTo>
                  <a:pt x="20446" y="11343"/>
                  <a:pt x="20469" y="11253"/>
                  <a:pt x="20464" y="11178"/>
                </a:cubicBezTo>
                <a:cubicBezTo>
                  <a:pt x="20462" y="11171"/>
                  <a:pt x="20461" y="11165"/>
                  <a:pt x="20459" y="11158"/>
                </a:cubicBezTo>
                <a:cubicBezTo>
                  <a:pt x="20422" y="11208"/>
                  <a:pt x="20417" y="11265"/>
                  <a:pt x="20411" y="11328"/>
                </a:cubicBezTo>
                <a:cubicBezTo>
                  <a:pt x="20401" y="11442"/>
                  <a:pt x="20407" y="11564"/>
                  <a:pt x="20450" y="11671"/>
                </a:cubicBezTo>
                <a:cubicBezTo>
                  <a:pt x="20465" y="11708"/>
                  <a:pt x="20481" y="11728"/>
                  <a:pt x="20509" y="11754"/>
                </a:cubicBezTo>
              </a:path>
              <a:path w="1629" h="838">
                <a:moveTo>
                  <a:pt x="19289" y="11029"/>
                </a:moveTo>
                <a:cubicBezTo>
                  <a:pt x="19269" y="10974"/>
                  <a:pt x="19223" y="10972"/>
                  <a:pt x="19173" y="11007"/>
                </a:cubicBezTo>
                <a:cubicBezTo>
                  <a:pt x="19097" y="11061"/>
                  <a:pt x="19027" y="11151"/>
                  <a:pt x="18980" y="11230"/>
                </a:cubicBezTo>
                <a:cubicBezTo>
                  <a:pt x="18914" y="11341"/>
                  <a:pt x="18852" y="11496"/>
                  <a:pt x="18892" y="11627"/>
                </a:cubicBezTo>
                <a:cubicBezTo>
                  <a:pt x="18920" y="11720"/>
                  <a:pt x="18992" y="11778"/>
                  <a:pt x="19082" y="11805"/>
                </a:cubicBezTo>
                <a:cubicBezTo>
                  <a:pt x="19105" y="11809"/>
                  <a:pt x="19129" y="11814"/>
                  <a:pt x="19152" y="1181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7566120" y="3957480"/>
            <a:ext cx="245880" cy="274680"/>
          </a:xfrm>
          <a:custGeom>
            <a:avLst/>
            <a:gdLst/>
            <a:ahLst/>
            <a:rect l="l" t="t" r="r" b="b"/>
            <a:pathLst>
              <a:path w="684" h="764">
                <a:moveTo>
                  <a:pt x="21016" y="11186"/>
                </a:moveTo>
                <a:cubicBezTo>
                  <a:pt x="21016" y="11171"/>
                  <a:pt x="21016" y="11166"/>
                  <a:pt x="21023" y="11158"/>
                </a:cubicBezTo>
                <a:cubicBezTo>
                  <a:pt x="21033" y="11189"/>
                  <a:pt x="21034" y="11220"/>
                  <a:pt x="21038" y="11253"/>
                </a:cubicBezTo>
                <a:cubicBezTo>
                  <a:pt x="21046" y="11317"/>
                  <a:pt x="21050" y="11382"/>
                  <a:pt x="21051" y="11447"/>
                </a:cubicBezTo>
                <a:cubicBezTo>
                  <a:pt x="21052" y="11490"/>
                  <a:pt x="21056" y="11530"/>
                  <a:pt x="21067" y="11572"/>
                </a:cubicBezTo>
              </a:path>
              <a:path w="684" h="764">
                <a:moveTo>
                  <a:pt x="21258" y="11153"/>
                </a:moveTo>
                <a:cubicBezTo>
                  <a:pt x="21259" y="11148"/>
                  <a:pt x="21260" y="11142"/>
                  <a:pt x="21261" y="11137"/>
                </a:cubicBezTo>
                <a:cubicBezTo>
                  <a:pt x="21264" y="11181"/>
                  <a:pt x="21257" y="11231"/>
                  <a:pt x="21257" y="11278"/>
                </a:cubicBezTo>
                <a:cubicBezTo>
                  <a:pt x="21257" y="11365"/>
                  <a:pt x="21265" y="11445"/>
                  <a:pt x="21282" y="11530"/>
                </a:cubicBezTo>
                <a:cubicBezTo>
                  <a:pt x="21291" y="11578"/>
                  <a:pt x="21301" y="11607"/>
                  <a:pt x="21324" y="11649"/>
                </a:cubicBezTo>
              </a:path>
              <a:path w="684" h="764">
                <a:moveTo>
                  <a:pt x="21556" y="11023"/>
                </a:moveTo>
                <a:cubicBezTo>
                  <a:pt x="21543" y="11011"/>
                  <a:pt x="21532" y="11003"/>
                  <a:pt x="21518" y="10993"/>
                </a:cubicBezTo>
                <a:cubicBezTo>
                  <a:pt x="21534" y="11037"/>
                  <a:pt x="21566" y="11075"/>
                  <a:pt x="21589" y="11117"/>
                </a:cubicBezTo>
                <a:cubicBezTo>
                  <a:pt x="21638" y="11206"/>
                  <a:pt x="21673" y="11298"/>
                  <a:pt x="21690" y="11399"/>
                </a:cubicBezTo>
                <a:cubicBezTo>
                  <a:pt x="21705" y="11493"/>
                  <a:pt x="21701" y="11589"/>
                  <a:pt x="21661" y="11676"/>
                </a:cubicBezTo>
                <a:cubicBezTo>
                  <a:pt x="21644" y="11713"/>
                  <a:pt x="21614" y="11765"/>
                  <a:pt x="21565" y="11756"/>
                </a:cubicBezTo>
                <a:cubicBezTo>
                  <a:pt x="21541" y="11752"/>
                  <a:pt x="21543" y="11725"/>
                  <a:pt x="21540" y="1170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7929720" y="3965400"/>
            <a:ext cx="150480" cy="243000"/>
          </a:xfrm>
          <a:custGeom>
            <a:avLst/>
            <a:gdLst/>
            <a:ahLst/>
            <a:rect l="l" t="t" r="r" b="b"/>
            <a:pathLst>
              <a:path w="421" h="673">
                <a:moveTo>
                  <a:pt x="22225" y="11637"/>
                </a:moveTo>
                <a:cubicBezTo>
                  <a:pt x="22216" y="11654"/>
                  <a:pt x="22208" y="11671"/>
                  <a:pt x="22199" y="11688"/>
                </a:cubicBezTo>
                <a:cubicBezTo>
                  <a:pt x="22201" y="11659"/>
                  <a:pt x="22206" y="11640"/>
                  <a:pt x="22217" y="11613"/>
                </a:cubicBezTo>
                <a:cubicBezTo>
                  <a:pt x="22226" y="11589"/>
                  <a:pt x="22229" y="11581"/>
                  <a:pt x="22235" y="11565"/>
                </a:cubicBezTo>
              </a:path>
              <a:path w="421" h="673">
                <a:moveTo>
                  <a:pt x="22245" y="11369"/>
                </a:moveTo>
                <a:cubicBezTo>
                  <a:pt x="22240" y="11341"/>
                  <a:pt x="22242" y="11314"/>
                  <a:pt x="22259" y="11289"/>
                </a:cubicBezTo>
                <a:cubicBezTo>
                  <a:pt x="22285" y="11250"/>
                  <a:pt x="22320" y="11210"/>
                  <a:pt x="22353" y="11176"/>
                </a:cubicBezTo>
                <a:cubicBezTo>
                  <a:pt x="22380" y="11148"/>
                  <a:pt x="22412" y="11122"/>
                  <a:pt x="22437" y="11092"/>
                </a:cubicBezTo>
                <a:cubicBezTo>
                  <a:pt x="22440" y="11088"/>
                  <a:pt x="22442" y="11084"/>
                  <a:pt x="22445" y="11080"/>
                </a:cubicBezTo>
                <a:cubicBezTo>
                  <a:pt x="22430" y="11057"/>
                  <a:pt x="22402" y="11059"/>
                  <a:pt x="22373" y="11055"/>
                </a:cubicBezTo>
                <a:cubicBezTo>
                  <a:pt x="22314" y="11047"/>
                  <a:pt x="22255" y="11041"/>
                  <a:pt x="22196" y="11034"/>
                </a:cubicBezTo>
                <a:cubicBezTo>
                  <a:pt x="22148" y="11029"/>
                  <a:pt x="22101" y="11025"/>
                  <a:pt x="22053" y="11020"/>
                </a:cubicBezTo>
                <a:cubicBezTo>
                  <a:pt x="22007" y="11015"/>
                  <a:pt x="22039" y="11015"/>
                  <a:pt x="22060" y="11030"/>
                </a:cubicBezTo>
                <a:cubicBezTo>
                  <a:pt x="22065" y="11034"/>
                  <a:pt x="22069" y="11039"/>
                  <a:pt x="22074" y="1104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3414600" y="4764240"/>
            <a:ext cx="7920" cy="9360"/>
          </a:xfrm>
          <a:custGeom>
            <a:avLst/>
            <a:gdLst/>
            <a:ahLst/>
            <a:rect l="l" t="t" r="r" b="b"/>
            <a:pathLst>
              <a:path w="25" h="27">
                <a:moveTo>
                  <a:pt x="9484" y="13261"/>
                </a:moveTo>
                <a:cubicBezTo>
                  <a:pt x="9488" y="13233"/>
                  <a:pt x="9481" y="13240"/>
                  <a:pt x="9508" y="1324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474840" y="4373640"/>
            <a:ext cx="3782880" cy="826920"/>
          </a:xfrm>
          <a:custGeom>
            <a:avLst/>
            <a:gdLst/>
            <a:ahLst/>
            <a:rect l="l" t="t" r="r" b="b"/>
            <a:pathLst>
              <a:path w="10506" h="2296">
                <a:moveTo>
                  <a:pt x="2095" y="12196"/>
                </a:moveTo>
                <a:cubicBezTo>
                  <a:pt x="2063" y="12172"/>
                  <a:pt x="2034" y="12142"/>
                  <a:pt x="1986" y="12150"/>
                </a:cubicBezTo>
                <a:cubicBezTo>
                  <a:pt x="1917" y="12162"/>
                  <a:pt x="1849" y="12204"/>
                  <a:pt x="1792" y="12243"/>
                </a:cubicBezTo>
                <a:cubicBezTo>
                  <a:pt x="1696" y="12308"/>
                  <a:pt x="1606" y="12383"/>
                  <a:pt x="1528" y="12469"/>
                </a:cubicBezTo>
                <a:cubicBezTo>
                  <a:pt x="1448" y="12556"/>
                  <a:pt x="1386" y="12656"/>
                  <a:pt x="1349" y="12768"/>
                </a:cubicBezTo>
                <a:cubicBezTo>
                  <a:pt x="1313" y="12876"/>
                  <a:pt x="1313" y="12990"/>
                  <a:pt x="1328" y="13102"/>
                </a:cubicBezTo>
                <a:cubicBezTo>
                  <a:pt x="1342" y="13210"/>
                  <a:pt x="1373" y="13293"/>
                  <a:pt x="1433" y="13383"/>
                </a:cubicBezTo>
                <a:cubicBezTo>
                  <a:pt x="1475" y="13445"/>
                  <a:pt x="1530" y="13499"/>
                  <a:pt x="1587" y="13547"/>
                </a:cubicBezTo>
                <a:cubicBezTo>
                  <a:pt x="1618" y="13573"/>
                  <a:pt x="1659" y="13598"/>
                  <a:pt x="1680" y="13634"/>
                </a:cubicBezTo>
                <a:cubicBezTo>
                  <a:pt x="1689" y="13650"/>
                  <a:pt x="1687" y="13666"/>
                  <a:pt x="1693" y="13682"/>
                </a:cubicBezTo>
                <a:cubicBezTo>
                  <a:pt x="1702" y="13657"/>
                  <a:pt x="1712" y="13634"/>
                  <a:pt x="1716" y="13605"/>
                </a:cubicBezTo>
                <a:cubicBezTo>
                  <a:pt x="1727" y="13533"/>
                  <a:pt x="1731" y="13456"/>
                  <a:pt x="1726" y="13384"/>
                </a:cubicBezTo>
                <a:cubicBezTo>
                  <a:pt x="1723" y="13350"/>
                  <a:pt x="1709" y="13334"/>
                  <a:pt x="1738" y="13314"/>
                </a:cubicBezTo>
                <a:cubicBezTo>
                  <a:pt x="1754" y="13302"/>
                  <a:pt x="1777" y="13313"/>
                  <a:pt x="1794" y="13313"/>
                </a:cubicBezTo>
              </a:path>
              <a:path w="10506" h="2296">
                <a:moveTo>
                  <a:pt x="1840" y="13699"/>
                </a:moveTo>
                <a:cubicBezTo>
                  <a:pt x="1823" y="13714"/>
                  <a:pt x="1804" y="13724"/>
                  <a:pt x="1788" y="13737"/>
                </a:cubicBezTo>
                <a:cubicBezTo>
                  <a:pt x="1773" y="13749"/>
                  <a:pt x="1761" y="13756"/>
                  <a:pt x="1741" y="13763"/>
                </a:cubicBezTo>
                <a:cubicBezTo>
                  <a:pt x="1721" y="13770"/>
                  <a:pt x="1698" y="13779"/>
                  <a:pt x="1676" y="13782"/>
                </a:cubicBezTo>
                <a:cubicBezTo>
                  <a:pt x="1658" y="13784"/>
                  <a:pt x="1650" y="13788"/>
                  <a:pt x="1633" y="13791"/>
                </a:cubicBezTo>
              </a:path>
              <a:path w="10506" h="2296">
                <a:moveTo>
                  <a:pt x="2560" y="14019"/>
                </a:moveTo>
                <a:cubicBezTo>
                  <a:pt x="2553" y="13998"/>
                  <a:pt x="2549" y="13983"/>
                  <a:pt x="2534" y="13966"/>
                </a:cubicBezTo>
                <a:cubicBezTo>
                  <a:pt x="2518" y="13947"/>
                  <a:pt x="2500" y="13931"/>
                  <a:pt x="2472" y="13938"/>
                </a:cubicBezTo>
                <a:cubicBezTo>
                  <a:pt x="2418" y="13950"/>
                  <a:pt x="2380" y="14008"/>
                  <a:pt x="2352" y="14050"/>
                </a:cubicBezTo>
                <a:cubicBezTo>
                  <a:pt x="2308" y="14117"/>
                  <a:pt x="2270" y="14197"/>
                  <a:pt x="2263" y="14278"/>
                </a:cubicBezTo>
                <a:cubicBezTo>
                  <a:pt x="2259" y="14320"/>
                  <a:pt x="2267" y="14394"/>
                  <a:pt x="2325" y="14392"/>
                </a:cubicBezTo>
                <a:cubicBezTo>
                  <a:pt x="2383" y="14390"/>
                  <a:pt x="2438" y="14320"/>
                  <a:pt x="2469" y="14279"/>
                </a:cubicBezTo>
                <a:cubicBezTo>
                  <a:pt x="2507" y="14230"/>
                  <a:pt x="2532" y="14172"/>
                  <a:pt x="2563" y="14119"/>
                </a:cubicBezTo>
                <a:cubicBezTo>
                  <a:pt x="2574" y="14101"/>
                  <a:pt x="2577" y="14094"/>
                  <a:pt x="2589" y="14110"/>
                </a:cubicBezTo>
                <a:cubicBezTo>
                  <a:pt x="2589" y="14163"/>
                  <a:pt x="2591" y="14217"/>
                  <a:pt x="2596" y="14270"/>
                </a:cubicBezTo>
                <a:cubicBezTo>
                  <a:pt x="2601" y="14324"/>
                  <a:pt x="2605" y="14377"/>
                  <a:pt x="2636" y="14424"/>
                </a:cubicBezTo>
                <a:cubicBezTo>
                  <a:pt x="2648" y="14442"/>
                  <a:pt x="2656" y="14438"/>
                  <a:pt x="2671" y="14444"/>
                </a:cubicBezTo>
              </a:path>
              <a:path w="10506" h="2296">
                <a:moveTo>
                  <a:pt x="2773" y="13504"/>
                </a:moveTo>
                <a:cubicBezTo>
                  <a:pt x="2762" y="13503"/>
                  <a:pt x="2759" y="13503"/>
                  <a:pt x="2752" y="13502"/>
                </a:cubicBezTo>
                <a:cubicBezTo>
                  <a:pt x="2761" y="13533"/>
                  <a:pt x="2758" y="13571"/>
                  <a:pt x="2757" y="13604"/>
                </a:cubicBezTo>
                <a:cubicBezTo>
                  <a:pt x="2754" y="13675"/>
                  <a:pt x="2756" y="13744"/>
                  <a:pt x="2760" y="13815"/>
                </a:cubicBezTo>
                <a:cubicBezTo>
                  <a:pt x="2761" y="13837"/>
                  <a:pt x="2753" y="13879"/>
                  <a:pt x="2787" y="13882"/>
                </a:cubicBezTo>
                <a:cubicBezTo>
                  <a:pt x="2792" y="13881"/>
                  <a:pt x="2796" y="13880"/>
                  <a:pt x="2801" y="13879"/>
                </a:cubicBezTo>
              </a:path>
              <a:path w="10506" h="2296">
                <a:moveTo>
                  <a:pt x="2935" y="13534"/>
                </a:moveTo>
                <a:cubicBezTo>
                  <a:pt x="2940" y="13521"/>
                  <a:pt x="2945" y="13508"/>
                  <a:pt x="2950" y="13495"/>
                </a:cubicBezTo>
                <a:cubicBezTo>
                  <a:pt x="2919" y="13517"/>
                  <a:pt x="2902" y="13543"/>
                  <a:pt x="2879" y="13574"/>
                </a:cubicBezTo>
                <a:cubicBezTo>
                  <a:pt x="2851" y="13612"/>
                  <a:pt x="2824" y="13649"/>
                  <a:pt x="2805" y="13691"/>
                </a:cubicBezTo>
                <a:cubicBezTo>
                  <a:pt x="2794" y="13715"/>
                  <a:pt x="2792" y="13741"/>
                  <a:pt x="2811" y="13763"/>
                </a:cubicBezTo>
                <a:cubicBezTo>
                  <a:pt x="2830" y="13785"/>
                  <a:pt x="2863" y="13791"/>
                  <a:pt x="2889" y="13800"/>
                </a:cubicBezTo>
                <a:cubicBezTo>
                  <a:pt x="2914" y="13809"/>
                  <a:pt x="2939" y="13817"/>
                  <a:pt x="2966" y="13813"/>
                </a:cubicBezTo>
                <a:cubicBezTo>
                  <a:pt x="2970" y="13812"/>
                  <a:pt x="2974" y="13810"/>
                  <a:pt x="2978" y="13809"/>
                </a:cubicBezTo>
              </a:path>
              <a:path w="10506" h="2296">
                <a:moveTo>
                  <a:pt x="3066" y="13743"/>
                </a:moveTo>
                <a:cubicBezTo>
                  <a:pt x="3062" y="13767"/>
                  <a:pt x="3056" y="13789"/>
                  <a:pt x="3052" y="13813"/>
                </a:cubicBezTo>
                <a:cubicBezTo>
                  <a:pt x="3048" y="13837"/>
                  <a:pt x="3042" y="13870"/>
                  <a:pt x="3065" y="13886"/>
                </a:cubicBezTo>
                <a:cubicBezTo>
                  <a:pt x="3088" y="13902"/>
                  <a:pt x="3122" y="13886"/>
                  <a:pt x="3141" y="13872"/>
                </a:cubicBezTo>
                <a:cubicBezTo>
                  <a:pt x="3163" y="13856"/>
                  <a:pt x="3191" y="13832"/>
                  <a:pt x="3201" y="13806"/>
                </a:cubicBezTo>
                <a:cubicBezTo>
                  <a:pt x="3210" y="13782"/>
                  <a:pt x="3185" y="13769"/>
                  <a:pt x="3165" y="13762"/>
                </a:cubicBezTo>
                <a:cubicBezTo>
                  <a:pt x="3148" y="13756"/>
                  <a:pt x="3127" y="13756"/>
                  <a:pt x="3109" y="13754"/>
                </a:cubicBezTo>
              </a:path>
              <a:path w="10506" h="2296">
                <a:moveTo>
                  <a:pt x="3686" y="14027"/>
                </a:moveTo>
                <a:cubicBezTo>
                  <a:pt x="3677" y="14016"/>
                  <a:pt x="3660" y="13986"/>
                  <a:pt x="3645" y="13983"/>
                </a:cubicBezTo>
                <a:cubicBezTo>
                  <a:pt x="3611" y="13975"/>
                  <a:pt x="3590" y="14018"/>
                  <a:pt x="3577" y="14042"/>
                </a:cubicBezTo>
                <a:cubicBezTo>
                  <a:pt x="3549" y="14093"/>
                  <a:pt x="3529" y="14151"/>
                  <a:pt x="3518" y="14208"/>
                </a:cubicBezTo>
                <a:cubicBezTo>
                  <a:pt x="3510" y="14252"/>
                  <a:pt x="3510" y="14288"/>
                  <a:pt x="3534" y="14325"/>
                </a:cubicBezTo>
                <a:cubicBezTo>
                  <a:pt x="3577" y="14315"/>
                  <a:pt x="3602" y="14291"/>
                  <a:pt x="3628" y="14254"/>
                </a:cubicBezTo>
                <a:cubicBezTo>
                  <a:pt x="3664" y="14204"/>
                  <a:pt x="3687" y="14144"/>
                  <a:pt x="3724" y="14096"/>
                </a:cubicBezTo>
                <a:cubicBezTo>
                  <a:pt x="3727" y="14093"/>
                  <a:pt x="3730" y="14091"/>
                  <a:pt x="3733" y="14088"/>
                </a:cubicBezTo>
                <a:cubicBezTo>
                  <a:pt x="3742" y="14128"/>
                  <a:pt x="3739" y="14167"/>
                  <a:pt x="3741" y="14209"/>
                </a:cubicBezTo>
                <a:cubicBezTo>
                  <a:pt x="3742" y="14239"/>
                  <a:pt x="3736" y="14304"/>
                  <a:pt x="3757" y="14328"/>
                </a:cubicBezTo>
                <a:cubicBezTo>
                  <a:pt x="3769" y="14332"/>
                  <a:pt x="3774" y="14331"/>
                  <a:pt x="3780" y="14321"/>
                </a:cubicBezTo>
              </a:path>
              <a:path w="10506" h="2296">
                <a:moveTo>
                  <a:pt x="3919" y="13529"/>
                </a:moveTo>
                <a:cubicBezTo>
                  <a:pt x="3916" y="13513"/>
                  <a:pt x="3913" y="13499"/>
                  <a:pt x="3908" y="13484"/>
                </a:cubicBezTo>
                <a:cubicBezTo>
                  <a:pt x="3897" y="13523"/>
                  <a:pt x="3910" y="13571"/>
                  <a:pt x="3914" y="13613"/>
                </a:cubicBezTo>
                <a:cubicBezTo>
                  <a:pt x="3922" y="13688"/>
                  <a:pt x="3924" y="13765"/>
                  <a:pt x="3936" y="13839"/>
                </a:cubicBezTo>
                <a:cubicBezTo>
                  <a:pt x="3941" y="13871"/>
                  <a:pt x="3949" y="13904"/>
                  <a:pt x="3956" y="13936"/>
                </a:cubicBezTo>
              </a:path>
              <a:path w="10506" h="2296">
                <a:moveTo>
                  <a:pt x="4075" y="13505"/>
                </a:moveTo>
                <a:cubicBezTo>
                  <a:pt x="4069" y="13494"/>
                  <a:pt x="4052" y="13529"/>
                  <a:pt x="4042" y="13546"/>
                </a:cubicBezTo>
                <a:cubicBezTo>
                  <a:pt x="4022" y="13581"/>
                  <a:pt x="4003" y="13615"/>
                  <a:pt x="3991" y="13653"/>
                </a:cubicBezTo>
                <a:cubicBezTo>
                  <a:pt x="3983" y="13680"/>
                  <a:pt x="3979" y="13710"/>
                  <a:pt x="4003" y="13730"/>
                </a:cubicBezTo>
                <a:cubicBezTo>
                  <a:pt x="4030" y="13753"/>
                  <a:pt x="4074" y="13760"/>
                  <a:pt x="4107" y="13769"/>
                </a:cubicBezTo>
                <a:cubicBezTo>
                  <a:pt x="4135" y="13777"/>
                  <a:pt x="4163" y="13779"/>
                  <a:pt x="4192" y="13786"/>
                </a:cubicBezTo>
              </a:path>
              <a:path w="10506" h="2296">
                <a:moveTo>
                  <a:pt x="4294" y="13716"/>
                </a:moveTo>
                <a:cubicBezTo>
                  <a:pt x="4294" y="13739"/>
                  <a:pt x="4296" y="13761"/>
                  <a:pt x="4296" y="13784"/>
                </a:cubicBezTo>
                <a:cubicBezTo>
                  <a:pt x="4296" y="13820"/>
                  <a:pt x="4292" y="13857"/>
                  <a:pt x="4293" y="13893"/>
                </a:cubicBezTo>
                <a:cubicBezTo>
                  <a:pt x="4294" y="13913"/>
                  <a:pt x="4293" y="13927"/>
                  <a:pt x="4291" y="13946"/>
                </a:cubicBezTo>
              </a:path>
              <a:path w="10506" h="2296">
                <a:moveTo>
                  <a:pt x="4451" y="13704"/>
                </a:moveTo>
                <a:cubicBezTo>
                  <a:pt x="4450" y="13682"/>
                  <a:pt x="4451" y="13672"/>
                  <a:pt x="4463" y="13654"/>
                </a:cubicBezTo>
              </a:path>
              <a:path w="10506" h="2296">
                <a:moveTo>
                  <a:pt x="4604" y="13567"/>
                </a:moveTo>
                <a:cubicBezTo>
                  <a:pt x="4626" y="13545"/>
                  <a:pt x="4643" y="13529"/>
                  <a:pt x="4674" y="13527"/>
                </a:cubicBezTo>
                <a:cubicBezTo>
                  <a:pt x="4709" y="13524"/>
                  <a:pt x="4743" y="13539"/>
                  <a:pt x="4762" y="13569"/>
                </a:cubicBezTo>
                <a:cubicBezTo>
                  <a:pt x="4791" y="13614"/>
                  <a:pt x="4785" y="13680"/>
                  <a:pt x="4774" y="13729"/>
                </a:cubicBezTo>
                <a:cubicBezTo>
                  <a:pt x="4762" y="13784"/>
                  <a:pt x="4737" y="13834"/>
                  <a:pt x="4714" y="13885"/>
                </a:cubicBezTo>
                <a:cubicBezTo>
                  <a:pt x="4707" y="13901"/>
                  <a:pt x="4704" y="13904"/>
                  <a:pt x="4703" y="13915"/>
                </a:cubicBezTo>
                <a:cubicBezTo>
                  <a:pt x="4740" y="13904"/>
                  <a:pt x="4768" y="13885"/>
                  <a:pt x="4803" y="13871"/>
                </a:cubicBezTo>
                <a:cubicBezTo>
                  <a:pt x="4833" y="13859"/>
                  <a:pt x="4863" y="13852"/>
                  <a:pt x="4894" y="13845"/>
                </a:cubicBezTo>
              </a:path>
              <a:path w="10506" h="2296">
                <a:moveTo>
                  <a:pt x="5406" y="13940"/>
                </a:moveTo>
                <a:cubicBezTo>
                  <a:pt x="5379" y="13920"/>
                  <a:pt x="5361" y="13932"/>
                  <a:pt x="5338" y="13957"/>
                </a:cubicBezTo>
                <a:cubicBezTo>
                  <a:pt x="5304" y="13994"/>
                  <a:pt x="5283" y="14046"/>
                  <a:pt x="5270" y="14094"/>
                </a:cubicBezTo>
                <a:cubicBezTo>
                  <a:pt x="5260" y="14133"/>
                  <a:pt x="5248" y="14191"/>
                  <a:pt x="5270" y="14228"/>
                </a:cubicBezTo>
                <a:cubicBezTo>
                  <a:pt x="5290" y="14262"/>
                  <a:pt x="5332" y="14225"/>
                  <a:pt x="5348" y="14209"/>
                </a:cubicBezTo>
                <a:cubicBezTo>
                  <a:pt x="5389" y="14168"/>
                  <a:pt x="5421" y="14118"/>
                  <a:pt x="5456" y="14072"/>
                </a:cubicBezTo>
                <a:cubicBezTo>
                  <a:pt x="5476" y="14045"/>
                  <a:pt x="5494" y="14014"/>
                  <a:pt x="5525" y="14003"/>
                </a:cubicBezTo>
                <a:cubicBezTo>
                  <a:pt x="5537" y="14040"/>
                  <a:pt x="5532" y="14078"/>
                  <a:pt x="5531" y="14117"/>
                </a:cubicBezTo>
                <a:cubicBezTo>
                  <a:pt x="5530" y="14179"/>
                  <a:pt x="5528" y="14245"/>
                  <a:pt x="5534" y="14307"/>
                </a:cubicBezTo>
                <a:cubicBezTo>
                  <a:pt x="5539" y="14332"/>
                  <a:pt x="5540" y="14339"/>
                  <a:pt x="5547" y="14353"/>
                </a:cubicBezTo>
              </a:path>
              <a:path w="10506" h="2296">
                <a:moveTo>
                  <a:pt x="5759" y="13549"/>
                </a:moveTo>
                <a:cubicBezTo>
                  <a:pt x="5746" y="13546"/>
                  <a:pt x="5754" y="13598"/>
                  <a:pt x="5754" y="13628"/>
                </a:cubicBezTo>
                <a:cubicBezTo>
                  <a:pt x="5755" y="13680"/>
                  <a:pt x="5753" y="13736"/>
                  <a:pt x="5760" y="13788"/>
                </a:cubicBezTo>
                <a:cubicBezTo>
                  <a:pt x="5764" y="13815"/>
                  <a:pt x="5769" y="13848"/>
                  <a:pt x="5790" y="13866"/>
                </a:cubicBezTo>
              </a:path>
              <a:path w="10506" h="2296">
                <a:moveTo>
                  <a:pt x="5894" y="13585"/>
                </a:moveTo>
                <a:cubicBezTo>
                  <a:pt x="5887" y="13561"/>
                  <a:pt x="5873" y="13625"/>
                  <a:pt x="5865" y="13643"/>
                </a:cubicBezTo>
                <a:cubicBezTo>
                  <a:pt x="5848" y="13684"/>
                  <a:pt x="5831" y="13724"/>
                  <a:pt x="5821" y="13768"/>
                </a:cubicBezTo>
                <a:cubicBezTo>
                  <a:pt x="5812" y="13807"/>
                  <a:pt x="5827" y="13818"/>
                  <a:pt x="5866" y="13814"/>
                </a:cubicBezTo>
                <a:cubicBezTo>
                  <a:pt x="5899" y="13811"/>
                  <a:pt x="5931" y="13800"/>
                  <a:pt x="5964" y="13796"/>
                </a:cubicBezTo>
                <a:cubicBezTo>
                  <a:pt x="5970" y="13796"/>
                  <a:pt x="5976" y="13795"/>
                  <a:pt x="5982" y="13795"/>
                </a:cubicBezTo>
              </a:path>
              <a:path w="10506" h="2296">
                <a:moveTo>
                  <a:pt x="6008" y="13738"/>
                </a:moveTo>
                <a:cubicBezTo>
                  <a:pt x="6037" y="13726"/>
                  <a:pt x="6057" y="13724"/>
                  <a:pt x="6088" y="13722"/>
                </a:cubicBezTo>
                <a:cubicBezTo>
                  <a:pt x="6115" y="13720"/>
                  <a:pt x="6144" y="13726"/>
                  <a:pt x="6153" y="13757"/>
                </a:cubicBezTo>
                <a:cubicBezTo>
                  <a:pt x="6162" y="13789"/>
                  <a:pt x="6143" y="13826"/>
                  <a:pt x="6127" y="13852"/>
                </a:cubicBezTo>
                <a:cubicBezTo>
                  <a:pt x="6117" y="13869"/>
                  <a:pt x="6104" y="13883"/>
                  <a:pt x="6093" y="13899"/>
                </a:cubicBezTo>
                <a:cubicBezTo>
                  <a:pt x="6112" y="13897"/>
                  <a:pt x="6139" y="13881"/>
                  <a:pt x="6160" y="13874"/>
                </a:cubicBezTo>
                <a:cubicBezTo>
                  <a:pt x="6187" y="13864"/>
                  <a:pt x="6197" y="13860"/>
                  <a:pt x="6215" y="13853"/>
                </a:cubicBezTo>
              </a:path>
              <a:path w="10506" h="2296">
                <a:moveTo>
                  <a:pt x="6366" y="13689"/>
                </a:moveTo>
                <a:cubicBezTo>
                  <a:pt x="6368" y="13674"/>
                  <a:pt x="6358" y="13644"/>
                  <a:pt x="6368" y="13634"/>
                </a:cubicBezTo>
                <a:cubicBezTo>
                  <a:pt x="6371" y="13634"/>
                  <a:pt x="6374" y="13634"/>
                  <a:pt x="6377" y="13634"/>
                </a:cubicBezTo>
              </a:path>
              <a:path w="10506" h="2296">
                <a:moveTo>
                  <a:pt x="6551" y="13555"/>
                </a:moveTo>
                <a:cubicBezTo>
                  <a:pt x="6546" y="13530"/>
                  <a:pt x="6529" y="13578"/>
                  <a:pt x="6523" y="13594"/>
                </a:cubicBezTo>
                <a:cubicBezTo>
                  <a:pt x="6512" y="13623"/>
                  <a:pt x="6505" y="13659"/>
                  <a:pt x="6512" y="13690"/>
                </a:cubicBezTo>
                <a:cubicBezTo>
                  <a:pt x="6520" y="13724"/>
                  <a:pt x="6550" y="13730"/>
                  <a:pt x="6581" y="13726"/>
                </a:cubicBezTo>
                <a:cubicBezTo>
                  <a:pt x="6635" y="13718"/>
                  <a:pt x="6670" y="13680"/>
                  <a:pt x="6704" y="13641"/>
                </a:cubicBezTo>
                <a:cubicBezTo>
                  <a:pt x="6725" y="13616"/>
                  <a:pt x="6734" y="13593"/>
                  <a:pt x="6741" y="13562"/>
                </a:cubicBezTo>
                <a:cubicBezTo>
                  <a:pt x="6742" y="13558"/>
                  <a:pt x="6743" y="13555"/>
                  <a:pt x="6744" y="13551"/>
                </a:cubicBezTo>
                <a:cubicBezTo>
                  <a:pt x="6744" y="13586"/>
                  <a:pt x="6742" y="13621"/>
                  <a:pt x="6741" y="13656"/>
                </a:cubicBezTo>
                <a:cubicBezTo>
                  <a:pt x="6739" y="13705"/>
                  <a:pt x="6736" y="13759"/>
                  <a:pt x="6745" y="13808"/>
                </a:cubicBezTo>
                <a:cubicBezTo>
                  <a:pt x="6751" y="13838"/>
                  <a:pt x="6764" y="13870"/>
                  <a:pt x="6776" y="13898"/>
                </a:cubicBezTo>
              </a:path>
              <a:path w="10506" h="2296">
                <a:moveTo>
                  <a:pt x="7151" y="14114"/>
                </a:moveTo>
                <a:cubicBezTo>
                  <a:pt x="7169" y="14107"/>
                  <a:pt x="7185" y="14097"/>
                  <a:pt x="7202" y="14089"/>
                </a:cubicBezTo>
                <a:cubicBezTo>
                  <a:pt x="7230" y="14075"/>
                  <a:pt x="7265" y="14069"/>
                  <a:pt x="7295" y="14061"/>
                </a:cubicBezTo>
              </a:path>
              <a:path w="10506" h="2296">
                <a:moveTo>
                  <a:pt x="7459" y="14163"/>
                </a:moveTo>
                <a:cubicBezTo>
                  <a:pt x="7460" y="14167"/>
                  <a:pt x="7462" y="14170"/>
                  <a:pt x="7463" y="14174"/>
                </a:cubicBezTo>
                <a:cubicBezTo>
                  <a:pt x="7483" y="14155"/>
                  <a:pt x="7502" y="14139"/>
                  <a:pt x="7522" y="14121"/>
                </a:cubicBezTo>
                <a:cubicBezTo>
                  <a:pt x="7529" y="14115"/>
                  <a:pt x="7535" y="14108"/>
                  <a:pt x="7542" y="14102"/>
                </a:cubicBezTo>
              </a:path>
              <a:path w="10506" h="2296">
                <a:moveTo>
                  <a:pt x="7704" y="14120"/>
                </a:moveTo>
                <a:cubicBezTo>
                  <a:pt x="7721" y="14144"/>
                  <a:pt x="7720" y="14131"/>
                  <a:pt x="7744" y="14121"/>
                </a:cubicBezTo>
                <a:cubicBezTo>
                  <a:pt x="7755" y="14116"/>
                  <a:pt x="7765" y="14114"/>
                  <a:pt x="7776" y="14111"/>
                </a:cubicBezTo>
              </a:path>
              <a:path w="10506" h="2296">
                <a:moveTo>
                  <a:pt x="8239" y="13965"/>
                </a:moveTo>
                <a:cubicBezTo>
                  <a:pt x="8237" y="13942"/>
                  <a:pt x="8237" y="13939"/>
                  <a:pt x="8231" y="13918"/>
                </a:cubicBezTo>
                <a:cubicBezTo>
                  <a:pt x="8198" y="13925"/>
                  <a:pt x="8181" y="13945"/>
                  <a:pt x="8157" y="13971"/>
                </a:cubicBezTo>
                <a:cubicBezTo>
                  <a:pt x="8116" y="14016"/>
                  <a:pt x="8079" y="14069"/>
                  <a:pt x="8056" y="14126"/>
                </a:cubicBezTo>
                <a:cubicBezTo>
                  <a:pt x="8037" y="14175"/>
                  <a:pt x="8014" y="14239"/>
                  <a:pt x="8037" y="14290"/>
                </a:cubicBezTo>
                <a:cubicBezTo>
                  <a:pt x="8056" y="14334"/>
                  <a:pt x="8106" y="14330"/>
                  <a:pt x="8142" y="14312"/>
                </a:cubicBezTo>
                <a:cubicBezTo>
                  <a:pt x="8199" y="14284"/>
                  <a:pt x="8246" y="14225"/>
                  <a:pt x="8280" y="14173"/>
                </a:cubicBezTo>
                <a:cubicBezTo>
                  <a:pt x="8304" y="14137"/>
                  <a:pt x="8322" y="14097"/>
                  <a:pt x="8344" y="14060"/>
                </a:cubicBezTo>
                <a:cubicBezTo>
                  <a:pt x="8342" y="14113"/>
                  <a:pt x="8337" y="14162"/>
                  <a:pt x="8342" y="14215"/>
                </a:cubicBezTo>
                <a:cubicBezTo>
                  <a:pt x="8345" y="14251"/>
                  <a:pt x="8350" y="14277"/>
                  <a:pt x="8368" y="14308"/>
                </a:cubicBezTo>
              </a:path>
              <a:path w="10506" h="2296">
                <a:moveTo>
                  <a:pt x="8530" y="13600"/>
                </a:moveTo>
                <a:cubicBezTo>
                  <a:pt x="8531" y="13585"/>
                  <a:pt x="8529" y="13557"/>
                  <a:pt x="8532" y="13572"/>
                </a:cubicBezTo>
                <a:cubicBezTo>
                  <a:pt x="8528" y="13617"/>
                  <a:pt x="8534" y="13665"/>
                  <a:pt x="8538" y="13710"/>
                </a:cubicBezTo>
                <a:cubicBezTo>
                  <a:pt x="8545" y="13780"/>
                  <a:pt x="8545" y="13852"/>
                  <a:pt x="8563" y="13921"/>
                </a:cubicBezTo>
                <a:cubicBezTo>
                  <a:pt x="8565" y="13925"/>
                  <a:pt x="8566" y="13930"/>
                  <a:pt x="8568" y="13934"/>
                </a:cubicBezTo>
              </a:path>
              <a:path w="10506" h="2296">
                <a:moveTo>
                  <a:pt x="8691" y="13608"/>
                </a:moveTo>
                <a:cubicBezTo>
                  <a:pt x="8723" y="13582"/>
                  <a:pt x="8671" y="13643"/>
                  <a:pt x="8666" y="13650"/>
                </a:cubicBezTo>
                <a:cubicBezTo>
                  <a:pt x="8639" y="13685"/>
                  <a:pt x="8613" y="13721"/>
                  <a:pt x="8587" y="13757"/>
                </a:cubicBezTo>
                <a:cubicBezTo>
                  <a:pt x="8573" y="13776"/>
                  <a:pt x="8563" y="13792"/>
                  <a:pt x="8554" y="13813"/>
                </a:cubicBezTo>
                <a:cubicBezTo>
                  <a:pt x="8580" y="13831"/>
                  <a:pt x="8612" y="13829"/>
                  <a:pt x="8646" y="13827"/>
                </a:cubicBezTo>
                <a:cubicBezTo>
                  <a:pt x="8677" y="13825"/>
                  <a:pt x="8708" y="13820"/>
                  <a:pt x="8738" y="13815"/>
                </a:cubicBezTo>
              </a:path>
              <a:path w="10506" h="2296">
                <a:moveTo>
                  <a:pt x="8844" y="13785"/>
                </a:moveTo>
                <a:cubicBezTo>
                  <a:pt x="8865" y="13782"/>
                  <a:pt x="8868" y="13796"/>
                  <a:pt x="8880" y="13815"/>
                </a:cubicBezTo>
                <a:cubicBezTo>
                  <a:pt x="8899" y="13844"/>
                  <a:pt x="8916" y="13876"/>
                  <a:pt x="8929" y="13908"/>
                </a:cubicBezTo>
                <a:cubicBezTo>
                  <a:pt x="8941" y="13937"/>
                  <a:pt x="8957" y="13984"/>
                  <a:pt x="8946" y="14016"/>
                </a:cubicBezTo>
                <a:cubicBezTo>
                  <a:pt x="8940" y="14033"/>
                  <a:pt x="8921" y="14043"/>
                  <a:pt x="8905" y="14033"/>
                </a:cubicBezTo>
                <a:cubicBezTo>
                  <a:pt x="8882" y="14018"/>
                  <a:pt x="8873" y="13995"/>
                  <a:pt x="8860" y="13972"/>
                </a:cubicBezTo>
              </a:path>
              <a:path w="10506" h="2296">
                <a:moveTo>
                  <a:pt x="8858" y="13684"/>
                </a:moveTo>
                <a:cubicBezTo>
                  <a:pt x="8859" y="13679"/>
                  <a:pt x="8861" y="13636"/>
                  <a:pt x="8866" y="13636"/>
                </a:cubicBezTo>
                <a:cubicBezTo>
                  <a:pt x="8869" y="13639"/>
                  <a:pt x="8872" y="13642"/>
                  <a:pt x="8875" y="13645"/>
                </a:cubicBezTo>
              </a:path>
              <a:path w="10506" h="2296">
                <a:moveTo>
                  <a:pt x="9125" y="13604"/>
                </a:moveTo>
                <a:cubicBezTo>
                  <a:pt x="9107" y="13576"/>
                  <a:pt x="9106" y="13565"/>
                  <a:pt x="9119" y="13535"/>
                </a:cubicBezTo>
                <a:cubicBezTo>
                  <a:pt x="9130" y="13510"/>
                  <a:pt x="9151" y="13488"/>
                  <a:pt x="9180" y="13483"/>
                </a:cubicBezTo>
                <a:cubicBezTo>
                  <a:pt x="9220" y="13476"/>
                  <a:pt x="9248" y="13508"/>
                  <a:pt x="9263" y="13540"/>
                </a:cubicBezTo>
                <a:cubicBezTo>
                  <a:pt x="9298" y="13614"/>
                  <a:pt x="9301" y="13714"/>
                  <a:pt x="9275" y="13791"/>
                </a:cubicBezTo>
                <a:cubicBezTo>
                  <a:pt x="9268" y="13813"/>
                  <a:pt x="9251" y="13850"/>
                  <a:pt x="9222" y="13846"/>
                </a:cubicBezTo>
                <a:cubicBezTo>
                  <a:pt x="9197" y="13843"/>
                  <a:pt x="9198" y="13814"/>
                  <a:pt x="9211" y="13800"/>
                </a:cubicBezTo>
                <a:cubicBezTo>
                  <a:pt x="9233" y="13777"/>
                  <a:pt x="9268" y="13777"/>
                  <a:pt x="9297" y="13773"/>
                </a:cubicBezTo>
                <a:cubicBezTo>
                  <a:pt x="9327" y="13768"/>
                  <a:pt x="9356" y="13760"/>
                  <a:pt x="9386" y="13752"/>
                </a:cubicBezTo>
              </a:path>
              <a:path w="10506" h="2296">
                <a:moveTo>
                  <a:pt x="9570" y="13393"/>
                </a:moveTo>
                <a:cubicBezTo>
                  <a:pt x="9572" y="13420"/>
                  <a:pt x="9574" y="13445"/>
                  <a:pt x="9576" y="13472"/>
                </a:cubicBezTo>
                <a:cubicBezTo>
                  <a:pt x="9579" y="13511"/>
                  <a:pt x="9584" y="13549"/>
                  <a:pt x="9592" y="13587"/>
                </a:cubicBezTo>
                <a:cubicBezTo>
                  <a:pt x="9595" y="13603"/>
                  <a:pt x="9601" y="13617"/>
                  <a:pt x="9604" y="13633"/>
                </a:cubicBezTo>
                <a:cubicBezTo>
                  <a:pt x="9583" y="13625"/>
                  <a:pt x="9565" y="13612"/>
                  <a:pt x="9546" y="13599"/>
                </a:cubicBezTo>
                <a:cubicBezTo>
                  <a:pt x="9523" y="13583"/>
                  <a:pt x="9502" y="13565"/>
                  <a:pt x="9488" y="13541"/>
                </a:cubicBezTo>
                <a:cubicBezTo>
                  <a:pt x="9477" y="13518"/>
                  <a:pt x="9473" y="13509"/>
                  <a:pt x="9467" y="13493"/>
                </a:cubicBezTo>
              </a:path>
              <a:path w="10506" h="2296">
                <a:moveTo>
                  <a:pt x="9698" y="13505"/>
                </a:moveTo>
                <a:cubicBezTo>
                  <a:pt x="9717" y="13498"/>
                  <a:pt x="9728" y="13487"/>
                  <a:pt x="9751" y="13481"/>
                </a:cubicBezTo>
                <a:cubicBezTo>
                  <a:pt x="9777" y="13474"/>
                  <a:pt x="9803" y="13467"/>
                  <a:pt x="9829" y="13459"/>
                </a:cubicBezTo>
              </a:path>
              <a:path w="10506" h="2296">
                <a:moveTo>
                  <a:pt x="10017" y="13402"/>
                </a:moveTo>
                <a:cubicBezTo>
                  <a:pt x="10013" y="13429"/>
                  <a:pt x="10006" y="13457"/>
                  <a:pt x="10003" y="13483"/>
                </a:cubicBezTo>
                <a:cubicBezTo>
                  <a:pt x="9999" y="13519"/>
                  <a:pt x="10005" y="13560"/>
                  <a:pt x="10007" y="13597"/>
                </a:cubicBezTo>
                <a:cubicBezTo>
                  <a:pt x="10009" y="13614"/>
                  <a:pt x="10009" y="13618"/>
                  <a:pt x="10011" y="13629"/>
                </a:cubicBezTo>
              </a:path>
              <a:path w="10506" h="2296">
                <a:moveTo>
                  <a:pt x="10244" y="14077"/>
                </a:moveTo>
                <a:cubicBezTo>
                  <a:pt x="10222" y="14084"/>
                  <a:pt x="10228" y="14117"/>
                  <a:pt x="10223" y="14144"/>
                </a:cubicBezTo>
                <a:cubicBezTo>
                  <a:pt x="10215" y="14192"/>
                  <a:pt x="10206" y="14240"/>
                  <a:pt x="10199" y="14289"/>
                </a:cubicBezTo>
                <a:cubicBezTo>
                  <a:pt x="10196" y="14310"/>
                  <a:pt x="10196" y="14315"/>
                  <a:pt x="10194" y="14328"/>
                </a:cubicBezTo>
                <a:cubicBezTo>
                  <a:pt x="10203" y="14292"/>
                  <a:pt x="10214" y="14257"/>
                  <a:pt x="10224" y="14221"/>
                </a:cubicBezTo>
                <a:cubicBezTo>
                  <a:pt x="10238" y="14170"/>
                  <a:pt x="10253" y="14116"/>
                  <a:pt x="10276" y="14068"/>
                </a:cubicBezTo>
                <a:cubicBezTo>
                  <a:pt x="10287" y="14049"/>
                  <a:pt x="10289" y="14044"/>
                  <a:pt x="10300" y="14036"/>
                </a:cubicBezTo>
                <a:cubicBezTo>
                  <a:pt x="10326" y="14053"/>
                  <a:pt x="10322" y="14085"/>
                  <a:pt x="10326" y="14115"/>
                </a:cubicBezTo>
                <a:cubicBezTo>
                  <a:pt x="10333" y="14164"/>
                  <a:pt x="10336" y="14213"/>
                  <a:pt x="10340" y="14263"/>
                </a:cubicBezTo>
                <a:cubicBezTo>
                  <a:pt x="10342" y="14280"/>
                  <a:pt x="10342" y="14284"/>
                  <a:pt x="10344" y="14294"/>
                </a:cubicBezTo>
                <a:cubicBezTo>
                  <a:pt x="10363" y="14262"/>
                  <a:pt x="10373" y="14229"/>
                  <a:pt x="10388" y="14195"/>
                </a:cubicBezTo>
                <a:cubicBezTo>
                  <a:pt x="10402" y="14164"/>
                  <a:pt x="10416" y="14138"/>
                  <a:pt x="10443" y="14119"/>
                </a:cubicBezTo>
                <a:cubicBezTo>
                  <a:pt x="10470" y="14132"/>
                  <a:pt x="10468" y="14153"/>
                  <a:pt x="10472" y="14181"/>
                </a:cubicBezTo>
                <a:cubicBezTo>
                  <a:pt x="10477" y="14217"/>
                  <a:pt x="10485" y="14240"/>
                  <a:pt x="10506" y="14269"/>
                </a:cubicBezTo>
              </a:path>
              <a:path w="10506" h="2296">
                <a:moveTo>
                  <a:pt x="10663" y="14131"/>
                </a:moveTo>
                <a:cubicBezTo>
                  <a:pt x="10675" y="14107"/>
                  <a:pt x="10685" y="14095"/>
                  <a:pt x="10668" y="14075"/>
                </a:cubicBezTo>
                <a:cubicBezTo>
                  <a:pt x="10650" y="14101"/>
                  <a:pt x="10630" y="14124"/>
                  <a:pt x="10615" y="14152"/>
                </a:cubicBezTo>
                <a:cubicBezTo>
                  <a:pt x="10596" y="14187"/>
                  <a:pt x="10576" y="14232"/>
                  <a:pt x="10583" y="14273"/>
                </a:cubicBezTo>
                <a:cubicBezTo>
                  <a:pt x="10589" y="14305"/>
                  <a:pt x="10620" y="14307"/>
                  <a:pt x="10645" y="14297"/>
                </a:cubicBezTo>
                <a:cubicBezTo>
                  <a:pt x="10681" y="14283"/>
                  <a:pt x="10710" y="14251"/>
                  <a:pt x="10728" y="14217"/>
                </a:cubicBezTo>
                <a:cubicBezTo>
                  <a:pt x="10739" y="14197"/>
                  <a:pt x="10751" y="14161"/>
                  <a:pt x="10738" y="14138"/>
                </a:cubicBezTo>
                <a:cubicBezTo>
                  <a:pt x="10727" y="14118"/>
                  <a:pt x="10710" y="14111"/>
                  <a:pt x="10691" y="14103"/>
                </a:cubicBezTo>
              </a:path>
              <a:path w="10506" h="2296">
                <a:moveTo>
                  <a:pt x="10938" y="14113"/>
                </a:moveTo>
                <a:cubicBezTo>
                  <a:pt x="10960" y="14089"/>
                  <a:pt x="10966" y="14077"/>
                  <a:pt x="10969" y="14044"/>
                </a:cubicBezTo>
                <a:cubicBezTo>
                  <a:pt x="10940" y="14056"/>
                  <a:pt x="10919" y="14077"/>
                  <a:pt x="10900" y="14103"/>
                </a:cubicBezTo>
                <a:cubicBezTo>
                  <a:pt x="10879" y="14132"/>
                  <a:pt x="10854" y="14175"/>
                  <a:pt x="10859" y="14213"/>
                </a:cubicBezTo>
                <a:cubicBezTo>
                  <a:pt x="10861" y="14218"/>
                  <a:pt x="10864" y="14224"/>
                  <a:pt x="10866" y="14229"/>
                </a:cubicBezTo>
                <a:cubicBezTo>
                  <a:pt x="10901" y="14236"/>
                  <a:pt x="10925" y="14221"/>
                  <a:pt x="10951" y="14194"/>
                </a:cubicBezTo>
                <a:cubicBezTo>
                  <a:pt x="10993" y="14150"/>
                  <a:pt x="11020" y="14088"/>
                  <a:pt x="11041" y="14032"/>
                </a:cubicBezTo>
                <a:cubicBezTo>
                  <a:pt x="11068" y="13959"/>
                  <a:pt x="11089" y="13877"/>
                  <a:pt x="11091" y="13799"/>
                </a:cubicBezTo>
                <a:cubicBezTo>
                  <a:pt x="11089" y="13774"/>
                  <a:pt x="11090" y="13768"/>
                  <a:pt x="11084" y="13753"/>
                </a:cubicBezTo>
                <a:cubicBezTo>
                  <a:pt x="11051" y="13777"/>
                  <a:pt x="11054" y="13815"/>
                  <a:pt x="11055" y="13857"/>
                </a:cubicBezTo>
                <a:cubicBezTo>
                  <a:pt x="11057" y="13921"/>
                  <a:pt x="11076" y="13993"/>
                  <a:pt x="11104" y="14051"/>
                </a:cubicBezTo>
                <a:cubicBezTo>
                  <a:pt x="11126" y="14088"/>
                  <a:pt x="11133" y="14099"/>
                  <a:pt x="11152" y="14120"/>
                </a:cubicBezTo>
              </a:path>
              <a:path w="10506" h="2296">
                <a:moveTo>
                  <a:pt x="11410" y="14171"/>
                </a:moveTo>
                <a:cubicBezTo>
                  <a:pt x="11414" y="14152"/>
                  <a:pt x="11424" y="14132"/>
                  <a:pt x="11427" y="14116"/>
                </a:cubicBezTo>
                <a:cubicBezTo>
                  <a:pt x="11435" y="14080"/>
                  <a:pt x="11445" y="14044"/>
                  <a:pt x="11458" y="14008"/>
                </a:cubicBezTo>
                <a:cubicBezTo>
                  <a:pt x="11475" y="13960"/>
                  <a:pt x="11492" y="13913"/>
                  <a:pt x="11510" y="13866"/>
                </a:cubicBezTo>
                <a:cubicBezTo>
                  <a:pt x="11521" y="13836"/>
                  <a:pt x="11525" y="13805"/>
                  <a:pt x="11550" y="13787"/>
                </a:cubicBezTo>
                <a:cubicBezTo>
                  <a:pt x="11555" y="13816"/>
                  <a:pt x="11558" y="13845"/>
                  <a:pt x="11561" y="13874"/>
                </a:cubicBezTo>
                <a:cubicBezTo>
                  <a:pt x="11565" y="13913"/>
                  <a:pt x="11569" y="13957"/>
                  <a:pt x="11587" y="13993"/>
                </a:cubicBezTo>
                <a:cubicBezTo>
                  <a:pt x="11603" y="14024"/>
                  <a:pt x="11623" y="14014"/>
                  <a:pt x="11643" y="13993"/>
                </a:cubicBezTo>
                <a:cubicBezTo>
                  <a:pt x="11683" y="13952"/>
                  <a:pt x="11711" y="13898"/>
                  <a:pt x="11739" y="13848"/>
                </a:cubicBezTo>
                <a:cubicBezTo>
                  <a:pt x="11764" y="13803"/>
                  <a:pt x="11795" y="13759"/>
                  <a:pt x="11819" y="13715"/>
                </a:cubicBezTo>
                <a:cubicBezTo>
                  <a:pt x="11841" y="13676"/>
                  <a:pt x="11801" y="13715"/>
                  <a:pt x="11799" y="1371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4513320" y="4686480"/>
            <a:ext cx="2531880" cy="371160"/>
          </a:xfrm>
          <a:custGeom>
            <a:avLst/>
            <a:gdLst/>
            <a:ahLst/>
            <a:rect l="l" t="t" r="r" b="b"/>
            <a:pathLst>
              <a:path w="7033" h="1031">
                <a:moveTo>
                  <a:pt x="13976" y="13412"/>
                </a:moveTo>
                <a:cubicBezTo>
                  <a:pt x="13994" y="13467"/>
                  <a:pt x="14014" y="13521"/>
                  <a:pt x="14038" y="13574"/>
                </a:cubicBezTo>
                <a:cubicBezTo>
                  <a:pt x="14071" y="13646"/>
                  <a:pt x="14112" y="13720"/>
                  <a:pt x="14160" y="13784"/>
                </a:cubicBezTo>
                <a:cubicBezTo>
                  <a:pt x="14185" y="13817"/>
                  <a:pt x="14204" y="13831"/>
                  <a:pt x="14240" y="13846"/>
                </a:cubicBezTo>
              </a:path>
              <a:path w="7033" h="1031">
                <a:moveTo>
                  <a:pt x="14234" y="13507"/>
                </a:moveTo>
                <a:cubicBezTo>
                  <a:pt x="14199" y="13562"/>
                  <a:pt x="14174" y="13616"/>
                  <a:pt x="14146" y="13674"/>
                </a:cubicBezTo>
                <a:cubicBezTo>
                  <a:pt x="14109" y="13750"/>
                  <a:pt x="14074" y="13826"/>
                  <a:pt x="14038" y="13902"/>
                </a:cubicBezTo>
                <a:cubicBezTo>
                  <a:pt x="14021" y="13939"/>
                  <a:pt x="14003" y="13956"/>
                  <a:pt x="14039" y="13947"/>
                </a:cubicBezTo>
              </a:path>
              <a:path w="7033" h="1031">
                <a:moveTo>
                  <a:pt x="14458" y="13513"/>
                </a:moveTo>
                <a:cubicBezTo>
                  <a:pt x="14455" y="13582"/>
                  <a:pt x="14448" y="13649"/>
                  <a:pt x="14462" y="13717"/>
                </a:cubicBezTo>
                <a:cubicBezTo>
                  <a:pt x="14468" y="13746"/>
                  <a:pt x="14479" y="13772"/>
                  <a:pt x="14492" y="13799"/>
                </a:cubicBezTo>
              </a:path>
              <a:path w="7033" h="1031">
                <a:moveTo>
                  <a:pt x="14389" y="13716"/>
                </a:moveTo>
                <a:cubicBezTo>
                  <a:pt x="14437" y="13697"/>
                  <a:pt x="14477" y="13673"/>
                  <a:pt x="14528" y="13663"/>
                </a:cubicBezTo>
                <a:cubicBezTo>
                  <a:pt x="14591" y="13651"/>
                  <a:pt x="14659" y="13642"/>
                  <a:pt x="14723" y="13647"/>
                </a:cubicBezTo>
                <a:cubicBezTo>
                  <a:pt x="14734" y="13649"/>
                  <a:pt x="14745" y="13650"/>
                  <a:pt x="14756" y="13652"/>
                </a:cubicBezTo>
              </a:path>
              <a:path w="7033" h="1031">
                <a:moveTo>
                  <a:pt x="15341" y="13485"/>
                </a:moveTo>
                <a:cubicBezTo>
                  <a:pt x="15354" y="13486"/>
                  <a:pt x="15359" y="13487"/>
                  <a:pt x="15372" y="13490"/>
                </a:cubicBezTo>
                <a:cubicBezTo>
                  <a:pt x="15359" y="13472"/>
                  <a:pt x="15346" y="13454"/>
                  <a:pt x="15334" y="13436"/>
                </a:cubicBezTo>
                <a:cubicBezTo>
                  <a:pt x="15310" y="13401"/>
                  <a:pt x="15286" y="13359"/>
                  <a:pt x="15256" y="13329"/>
                </a:cubicBezTo>
                <a:cubicBezTo>
                  <a:pt x="15234" y="13308"/>
                  <a:pt x="15207" y="13293"/>
                  <a:pt x="15179" y="13314"/>
                </a:cubicBezTo>
                <a:cubicBezTo>
                  <a:pt x="15145" y="13340"/>
                  <a:pt x="15133" y="13401"/>
                  <a:pt x="15127" y="13441"/>
                </a:cubicBezTo>
                <a:cubicBezTo>
                  <a:pt x="15118" y="13507"/>
                  <a:pt x="15121" y="13579"/>
                  <a:pt x="15167" y="13631"/>
                </a:cubicBezTo>
                <a:cubicBezTo>
                  <a:pt x="15199" y="13667"/>
                  <a:pt x="15243" y="13686"/>
                  <a:pt x="15285" y="13708"/>
                </a:cubicBezTo>
                <a:cubicBezTo>
                  <a:pt x="15321" y="13727"/>
                  <a:pt x="15360" y="13750"/>
                  <a:pt x="15372" y="13792"/>
                </a:cubicBezTo>
                <a:cubicBezTo>
                  <a:pt x="15384" y="13836"/>
                  <a:pt x="15358" y="13873"/>
                  <a:pt x="15325" y="13899"/>
                </a:cubicBezTo>
                <a:cubicBezTo>
                  <a:pt x="15290" y="13927"/>
                  <a:pt x="15233" y="13944"/>
                  <a:pt x="15188" y="13938"/>
                </a:cubicBezTo>
                <a:cubicBezTo>
                  <a:pt x="15147" y="13932"/>
                  <a:pt x="15119" y="13909"/>
                  <a:pt x="15121" y="13866"/>
                </a:cubicBezTo>
                <a:cubicBezTo>
                  <a:pt x="15128" y="13829"/>
                  <a:pt x="15132" y="13816"/>
                  <a:pt x="15148" y="13795"/>
                </a:cubicBezTo>
              </a:path>
              <a:path w="7033" h="1031">
                <a:moveTo>
                  <a:pt x="15626" y="13555"/>
                </a:moveTo>
                <a:cubicBezTo>
                  <a:pt x="15647" y="13538"/>
                  <a:pt x="15660" y="13537"/>
                  <a:pt x="15686" y="13532"/>
                </a:cubicBezTo>
                <a:cubicBezTo>
                  <a:pt x="15732" y="13523"/>
                  <a:pt x="15778" y="13513"/>
                  <a:pt x="15824" y="13504"/>
                </a:cubicBezTo>
                <a:cubicBezTo>
                  <a:pt x="15864" y="13496"/>
                  <a:pt x="15902" y="13480"/>
                  <a:pt x="15942" y="13469"/>
                </a:cubicBezTo>
              </a:path>
              <a:path w="7033" h="1031">
                <a:moveTo>
                  <a:pt x="15698" y="13698"/>
                </a:moveTo>
                <a:cubicBezTo>
                  <a:pt x="15696" y="13703"/>
                  <a:pt x="15695" y="13709"/>
                  <a:pt x="15693" y="13714"/>
                </a:cubicBezTo>
                <a:cubicBezTo>
                  <a:pt x="15722" y="13722"/>
                  <a:pt x="15759" y="13710"/>
                  <a:pt x="15793" y="13704"/>
                </a:cubicBezTo>
                <a:cubicBezTo>
                  <a:pt x="15836" y="13696"/>
                  <a:pt x="15875" y="13692"/>
                  <a:pt x="15918" y="13695"/>
                </a:cubicBezTo>
                <a:cubicBezTo>
                  <a:pt x="15925" y="13696"/>
                  <a:pt x="15932" y="13696"/>
                  <a:pt x="15939" y="13697"/>
                </a:cubicBezTo>
              </a:path>
              <a:path w="7033" h="1031">
                <a:moveTo>
                  <a:pt x="16482" y="13241"/>
                </a:moveTo>
                <a:cubicBezTo>
                  <a:pt x="16492" y="13277"/>
                  <a:pt x="16493" y="13320"/>
                  <a:pt x="16496" y="13357"/>
                </a:cubicBezTo>
                <a:cubicBezTo>
                  <a:pt x="16502" y="13441"/>
                  <a:pt x="16505" y="13525"/>
                  <a:pt x="16512" y="13609"/>
                </a:cubicBezTo>
                <a:cubicBezTo>
                  <a:pt x="16518" y="13673"/>
                  <a:pt x="16524" y="13737"/>
                  <a:pt x="16531" y="13800"/>
                </a:cubicBezTo>
                <a:cubicBezTo>
                  <a:pt x="16532" y="13804"/>
                  <a:pt x="16532" y="13809"/>
                  <a:pt x="16533" y="13813"/>
                </a:cubicBezTo>
              </a:path>
              <a:path w="7033" h="1031">
                <a:moveTo>
                  <a:pt x="17332" y="13450"/>
                </a:moveTo>
                <a:cubicBezTo>
                  <a:pt x="17305" y="13485"/>
                  <a:pt x="17285" y="13524"/>
                  <a:pt x="17278" y="13569"/>
                </a:cubicBezTo>
                <a:cubicBezTo>
                  <a:pt x="17268" y="13632"/>
                  <a:pt x="17265" y="13699"/>
                  <a:pt x="17267" y="13763"/>
                </a:cubicBezTo>
                <a:cubicBezTo>
                  <a:pt x="17268" y="13793"/>
                  <a:pt x="17271" y="13820"/>
                  <a:pt x="17278" y="13848"/>
                </a:cubicBezTo>
                <a:cubicBezTo>
                  <a:pt x="17304" y="13801"/>
                  <a:pt x="17319" y="13752"/>
                  <a:pt x="17340" y="13703"/>
                </a:cubicBezTo>
                <a:cubicBezTo>
                  <a:pt x="17365" y="13643"/>
                  <a:pt x="17390" y="13584"/>
                  <a:pt x="17438" y="13539"/>
                </a:cubicBezTo>
                <a:cubicBezTo>
                  <a:pt x="17474" y="13559"/>
                  <a:pt x="17471" y="13598"/>
                  <a:pt x="17473" y="13639"/>
                </a:cubicBezTo>
                <a:cubicBezTo>
                  <a:pt x="17475" y="13694"/>
                  <a:pt x="17471" y="13748"/>
                  <a:pt x="17469" y="13803"/>
                </a:cubicBezTo>
                <a:cubicBezTo>
                  <a:pt x="17469" y="13808"/>
                  <a:pt x="17469" y="13814"/>
                  <a:pt x="17469" y="13819"/>
                </a:cubicBezTo>
                <a:cubicBezTo>
                  <a:pt x="17493" y="13781"/>
                  <a:pt x="17508" y="13737"/>
                  <a:pt x="17527" y="13695"/>
                </a:cubicBezTo>
                <a:cubicBezTo>
                  <a:pt x="17548" y="13650"/>
                  <a:pt x="17567" y="13613"/>
                  <a:pt x="17605" y="13582"/>
                </a:cubicBezTo>
                <a:cubicBezTo>
                  <a:pt x="17641" y="13601"/>
                  <a:pt x="17642" y="13635"/>
                  <a:pt x="17648" y="13676"/>
                </a:cubicBezTo>
                <a:cubicBezTo>
                  <a:pt x="17656" y="13731"/>
                  <a:pt x="17658" y="13786"/>
                  <a:pt x="17666" y="13840"/>
                </a:cubicBezTo>
                <a:cubicBezTo>
                  <a:pt x="17669" y="13863"/>
                  <a:pt x="17670" y="13868"/>
                  <a:pt x="17674" y="13882"/>
                </a:cubicBezTo>
              </a:path>
              <a:path w="7033" h="1031">
                <a:moveTo>
                  <a:pt x="17898" y="13608"/>
                </a:moveTo>
                <a:cubicBezTo>
                  <a:pt x="17888" y="13591"/>
                  <a:pt x="17875" y="13566"/>
                  <a:pt x="17851" y="13566"/>
                </a:cubicBezTo>
                <a:cubicBezTo>
                  <a:pt x="17830" y="13566"/>
                  <a:pt x="17814" y="13584"/>
                  <a:pt x="17800" y="13596"/>
                </a:cubicBezTo>
                <a:cubicBezTo>
                  <a:pt x="17780" y="13613"/>
                  <a:pt x="17766" y="13630"/>
                  <a:pt x="17755" y="13654"/>
                </a:cubicBezTo>
                <a:cubicBezTo>
                  <a:pt x="17742" y="13681"/>
                  <a:pt x="17737" y="13712"/>
                  <a:pt x="17735" y="13741"/>
                </a:cubicBezTo>
                <a:cubicBezTo>
                  <a:pt x="17733" y="13770"/>
                  <a:pt x="17736" y="13803"/>
                  <a:pt x="17746" y="13830"/>
                </a:cubicBezTo>
                <a:cubicBezTo>
                  <a:pt x="17754" y="13845"/>
                  <a:pt x="17759" y="13850"/>
                  <a:pt x="17773" y="13852"/>
                </a:cubicBezTo>
                <a:cubicBezTo>
                  <a:pt x="17803" y="13836"/>
                  <a:pt x="17816" y="13816"/>
                  <a:pt x="17833" y="13786"/>
                </a:cubicBezTo>
                <a:cubicBezTo>
                  <a:pt x="17864" y="13731"/>
                  <a:pt x="17887" y="13674"/>
                  <a:pt x="17898" y="13613"/>
                </a:cubicBezTo>
                <a:cubicBezTo>
                  <a:pt x="17913" y="13532"/>
                  <a:pt x="17912" y="13448"/>
                  <a:pt x="17906" y="13366"/>
                </a:cubicBezTo>
                <a:cubicBezTo>
                  <a:pt x="17902" y="13320"/>
                  <a:pt x="17899" y="13270"/>
                  <a:pt x="17885" y="13226"/>
                </a:cubicBezTo>
                <a:cubicBezTo>
                  <a:pt x="17874" y="13268"/>
                  <a:pt x="17873" y="13308"/>
                  <a:pt x="17873" y="13351"/>
                </a:cubicBezTo>
                <a:cubicBezTo>
                  <a:pt x="17873" y="13426"/>
                  <a:pt x="17876" y="13501"/>
                  <a:pt x="17885" y="13575"/>
                </a:cubicBezTo>
                <a:cubicBezTo>
                  <a:pt x="17893" y="13640"/>
                  <a:pt x="17903" y="13709"/>
                  <a:pt x="17925" y="13771"/>
                </a:cubicBezTo>
                <a:cubicBezTo>
                  <a:pt x="17937" y="13798"/>
                  <a:pt x="17939" y="13804"/>
                  <a:pt x="17947" y="13821"/>
                </a:cubicBezTo>
              </a:path>
              <a:path w="7033" h="1031">
                <a:moveTo>
                  <a:pt x="17923" y="13373"/>
                </a:moveTo>
                <a:cubicBezTo>
                  <a:pt x="17912" y="13358"/>
                  <a:pt x="17905" y="13351"/>
                  <a:pt x="17890" y="13342"/>
                </a:cubicBezTo>
                <a:cubicBezTo>
                  <a:pt x="17869" y="13353"/>
                  <a:pt x="17864" y="13361"/>
                  <a:pt x="17854" y="13384"/>
                </a:cubicBezTo>
                <a:cubicBezTo>
                  <a:pt x="17837" y="13421"/>
                  <a:pt x="17833" y="13459"/>
                  <a:pt x="17829" y="13499"/>
                </a:cubicBezTo>
                <a:cubicBezTo>
                  <a:pt x="17823" y="13551"/>
                  <a:pt x="17825" y="13605"/>
                  <a:pt x="17827" y="13658"/>
                </a:cubicBezTo>
                <a:cubicBezTo>
                  <a:pt x="17828" y="13682"/>
                  <a:pt x="17831" y="13706"/>
                  <a:pt x="17835" y="13730"/>
                </a:cubicBezTo>
                <a:cubicBezTo>
                  <a:pt x="17845" y="13694"/>
                  <a:pt x="17847" y="13659"/>
                  <a:pt x="17847" y="13621"/>
                </a:cubicBezTo>
                <a:cubicBezTo>
                  <a:pt x="17847" y="13577"/>
                  <a:pt x="17850" y="13533"/>
                  <a:pt x="17847" y="13489"/>
                </a:cubicBezTo>
                <a:cubicBezTo>
                  <a:pt x="17845" y="13462"/>
                  <a:pt x="17849" y="13459"/>
                  <a:pt x="17829" y="13451"/>
                </a:cubicBezTo>
                <a:cubicBezTo>
                  <a:pt x="17805" y="13487"/>
                  <a:pt x="17789" y="13524"/>
                  <a:pt x="17773" y="13565"/>
                </a:cubicBezTo>
                <a:cubicBezTo>
                  <a:pt x="17756" y="13611"/>
                  <a:pt x="17738" y="13658"/>
                  <a:pt x="17725" y="13705"/>
                </a:cubicBezTo>
                <a:cubicBezTo>
                  <a:pt x="17724" y="13711"/>
                  <a:pt x="17722" y="13718"/>
                  <a:pt x="17721" y="13724"/>
                </a:cubicBezTo>
                <a:cubicBezTo>
                  <a:pt x="17737" y="13687"/>
                  <a:pt x="17748" y="13649"/>
                  <a:pt x="17762" y="13611"/>
                </a:cubicBezTo>
                <a:cubicBezTo>
                  <a:pt x="17774" y="13579"/>
                  <a:pt x="17792" y="13507"/>
                  <a:pt x="17831" y="13497"/>
                </a:cubicBezTo>
                <a:cubicBezTo>
                  <a:pt x="17836" y="13497"/>
                  <a:pt x="17840" y="13498"/>
                  <a:pt x="17845" y="13498"/>
                </a:cubicBezTo>
                <a:cubicBezTo>
                  <a:pt x="17872" y="13536"/>
                  <a:pt x="17878" y="13576"/>
                  <a:pt x="17886" y="13623"/>
                </a:cubicBezTo>
                <a:cubicBezTo>
                  <a:pt x="17894" y="13671"/>
                  <a:pt x="17904" y="13727"/>
                  <a:pt x="17892" y="13776"/>
                </a:cubicBezTo>
                <a:cubicBezTo>
                  <a:pt x="17884" y="13793"/>
                  <a:pt x="17883" y="13797"/>
                  <a:pt x="17873" y="13804"/>
                </a:cubicBezTo>
                <a:cubicBezTo>
                  <a:pt x="17847" y="13783"/>
                  <a:pt x="17843" y="13764"/>
                  <a:pt x="17842" y="13729"/>
                </a:cubicBezTo>
                <a:cubicBezTo>
                  <a:pt x="17841" y="13692"/>
                  <a:pt x="17854" y="13661"/>
                  <a:pt x="17868" y="13628"/>
                </a:cubicBezTo>
              </a:path>
              <a:path w="7033" h="1031">
                <a:moveTo>
                  <a:pt x="18187" y="13666"/>
                </a:moveTo>
                <a:cubicBezTo>
                  <a:pt x="18195" y="13640"/>
                  <a:pt x="18190" y="13633"/>
                  <a:pt x="18174" y="13611"/>
                </a:cubicBezTo>
                <a:cubicBezTo>
                  <a:pt x="18135" y="13625"/>
                  <a:pt x="18114" y="13641"/>
                  <a:pt x="18091" y="13677"/>
                </a:cubicBezTo>
                <a:cubicBezTo>
                  <a:pt x="18068" y="13713"/>
                  <a:pt x="18049" y="13760"/>
                  <a:pt x="18058" y="13803"/>
                </a:cubicBezTo>
                <a:cubicBezTo>
                  <a:pt x="18066" y="13843"/>
                  <a:pt x="18101" y="13859"/>
                  <a:pt x="18139" y="13853"/>
                </a:cubicBezTo>
                <a:cubicBezTo>
                  <a:pt x="18186" y="13845"/>
                  <a:pt x="18228" y="13811"/>
                  <a:pt x="18255" y="13773"/>
                </a:cubicBezTo>
                <a:cubicBezTo>
                  <a:pt x="18281" y="13737"/>
                  <a:pt x="18311" y="13672"/>
                  <a:pt x="18291" y="13626"/>
                </a:cubicBezTo>
                <a:cubicBezTo>
                  <a:pt x="18278" y="13595"/>
                  <a:pt x="18250" y="13591"/>
                  <a:pt x="18221" y="13586"/>
                </a:cubicBezTo>
              </a:path>
              <a:path w="7033" h="1031">
                <a:moveTo>
                  <a:pt x="15625" y="13908"/>
                </a:moveTo>
                <a:cubicBezTo>
                  <a:pt x="15622" y="13913"/>
                  <a:pt x="15619" y="13918"/>
                  <a:pt x="15616" y="13923"/>
                </a:cubicBezTo>
                <a:cubicBezTo>
                  <a:pt x="15643" y="13938"/>
                  <a:pt x="15669" y="13933"/>
                  <a:pt x="15700" y="13928"/>
                </a:cubicBezTo>
                <a:cubicBezTo>
                  <a:pt x="15757" y="13918"/>
                  <a:pt x="15814" y="13903"/>
                  <a:pt x="15871" y="13894"/>
                </a:cubicBezTo>
                <a:cubicBezTo>
                  <a:pt x="15914" y="13887"/>
                  <a:pt x="15959" y="13885"/>
                  <a:pt x="16002" y="13874"/>
                </a:cubicBezTo>
                <a:cubicBezTo>
                  <a:pt x="16008" y="13872"/>
                  <a:pt x="16015" y="13869"/>
                  <a:pt x="16021" y="13867"/>
                </a:cubicBezTo>
              </a:path>
              <a:path w="7033" h="1031">
                <a:moveTo>
                  <a:pt x="18481" y="13655"/>
                </a:moveTo>
                <a:cubicBezTo>
                  <a:pt x="18477" y="13632"/>
                  <a:pt x="18481" y="13632"/>
                  <a:pt x="18465" y="13612"/>
                </a:cubicBezTo>
                <a:cubicBezTo>
                  <a:pt x="18438" y="13642"/>
                  <a:pt x="18417" y="13673"/>
                  <a:pt x="18402" y="13712"/>
                </a:cubicBezTo>
                <a:cubicBezTo>
                  <a:pt x="18385" y="13755"/>
                  <a:pt x="18372" y="13808"/>
                  <a:pt x="18389" y="13853"/>
                </a:cubicBezTo>
                <a:cubicBezTo>
                  <a:pt x="18404" y="13893"/>
                  <a:pt x="18447" y="13895"/>
                  <a:pt x="18481" y="13880"/>
                </a:cubicBezTo>
                <a:cubicBezTo>
                  <a:pt x="18538" y="13856"/>
                  <a:pt x="18573" y="13800"/>
                  <a:pt x="18599" y="13747"/>
                </a:cubicBezTo>
                <a:cubicBezTo>
                  <a:pt x="18638" y="13666"/>
                  <a:pt x="18646" y="13571"/>
                  <a:pt x="18636" y="13483"/>
                </a:cubicBezTo>
                <a:cubicBezTo>
                  <a:pt x="18630" y="13433"/>
                  <a:pt x="18616" y="13384"/>
                  <a:pt x="18595" y="13339"/>
                </a:cubicBezTo>
                <a:cubicBezTo>
                  <a:pt x="18593" y="13334"/>
                  <a:pt x="18590" y="13330"/>
                  <a:pt x="18588" y="13325"/>
                </a:cubicBezTo>
                <a:cubicBezTo>
                  <a:pt x="18570" y="13358"/>
                  <a:pt x="18583" y="13401"/>
                  <a:pt x="18590" y="13439"/>
                </a:cubicBezTo>
                <a:cubicBezTo>
                  <a:pt x="18609" y="13539"/>
                  <a:pt x="18630" y="13644"/>
                  <a:pt x="18667" y="13739"/>
                </a:cubicBezTo>
                <a:cubicBezTo>
                  <a:pt x="18684" y="13782"/>
                  <a:pt x="18707" y="13815"/>
                  <a:pt x="18735" y="13850"/>
                </a:cubicBezTo>
              </a:path>
              <a:path w="7033" h="1031">
                <a:moveTo>
                  <a:pt x="19043" y="13402"/>
                </a:moveTo>
                <a:cubicBezTo>
                  <a:pt x="19062" y="13393"/>
                  <a:pt x="19059" y="13440"/>
                  <a:pt x="19062" y="13474"/>
                </a:cubicBezTo>
                <a:cubicBezTo>
                  <a:pt x="19067" y="13542"/>
                  <a:pt x="19074" y="13609"/>
                  <a:pt x="19082" y="13677"/>
                </a:cubicBezTo>
                <a:cubicBezTo>
                  <a:pt x="19083" y="13686"/>
                  <a:pt x="19101" y="13836"/>
                  <a:pt x="19115" y="13832"/>
                </a:cubicBezTo>
                <a:cubicBezTo>
                  <a:pt x="19119" y="13827"/>
                  <a:pt x="19123" y="13822"/>
                  <a:pt x="19127" y="13817"/>
                </a:cubicBezTo>
              </a:path>
              <a:path w="7033" h="1031">
                <a:moveTo>
                  <a:pt x="19240" y="13431"/>
                </a:moveTo>
                <a:cubicBezTo>
                  <a:pt x="19273" y="13446"/>
                  <a:pt x="19266" y="13480"/>
                  <a:pt x="19275" y="13515"/>
                </a:cubicBezTo>
                <a:cubicBezTo>
                  <a:pt x="19292" y="13582"/>
                  <a:pt x="19313" y="13649"/>
                  <a:pt x="19331" y="13716"/>
                </a:cubicBezTo>
                <a:cubicBezTo>
                  <a:pt x="19344" y="13764"/>
                  <a:pt x="19354" y="13795"/>
                  <a:pt x="19389" y="13830"/>
                </a:cubicBezTo>
              </a:path>
              <a:path w="7033" h="1031">
                <a:moveTo>
                  <a:pt x="17132" y="13278"/>
                </a:moveTo>
                <a:cubicBezTo>
                  <a:pt x="17110" y="13271"/>
                  <a:pt x="17105" y="13269"/>
                  <a:pt x="17088" y="13322"/>
                </a:cubicBezTo>
                <a:cubicBezTo>
                  <a:pt x="17057" y="13417"/>
                  <a:pt x="17033" y="13516"/>
                  <a:pt x="17007" y="13612"/>
                </a:cubicBezTo>
                <a:cubicBezTo>
                  <a:pt x="16978" y="13719"/>
                  <a:pt x="16921" y="13859"/>
                  <a:pt x="16950" y="13972"/>
                </a:cubicBezTo>
                <a:cubicBezTo>
                  <a:pt x="16967" y="14039"/>
                  <a:pt x="17033" y="14040"/>
                  <a:pt x="17088" y="14048"/>
                </a:cubicBezTo>
              </a:path>
              <a:path w="7033" h="1031">
                <a:moveTo>
                  <a:pt x="19524" y="13273"/>
                </a:moveTo>
                <a:cubicBezTo>
                  <a:pt x="19557" y="13279"/>
                  <a:pt x="19554" y="13293"/>
                  <a:pt x="19558" y="13324"/>
                </a:cubicBezTo>
                <a:cubicBezTo>
                  <a:pt x="19569" y="13406"/>
                  <a:pt x="19564" y="13489"/>
                  <a:pt x="19564" y="13572"/>
                </a:cubicBezTo>
                <a:cubicBezTo>
                  <a:pt x="19564" y="13671"/>
                  <a:pt x="19572" y="13772"/>
                  <a:pt x="19565" y="13870"/>
                </a:cubicBezTo>
                <a:cubicBezTo>
                  <a:pt x="19563" y="13906"/>
                  <a:pt x="19565" y="13902"/>
                  <a:pt x="19539" y="13915"/>
                </a:cubicBezTo>
              </a:path>
              <a:path w="7033" h="1031">
                <a:moveTo>
                  <a:pt x="12537" y="13206"/>
                </a:moveTo>
                <a:cubicBezTo>
                  <a:pt x="12665" y="13194"/>
                  <a:pt x="12792" y="13195"/>
                  <a:pt x="12921" y="13200"/>
                </a:cubicBezTo>
                <a:cubicBezTo>
                  <a:pt x="13344" y="13215"/>
                  <a:pt x="13771" y="13173"/>
                  <a:pt x="14195" y="13173"/>
                </a:cubicBezTo>
                <a:cubicBezTo>
                  <a:pt x="14609" y="13173"/>
                  <a:pt x="15011" y="13129"/>
                  <a:pt x="15422" y="13089"/>
                </a:cubicBezTo>
                <a:cubicBezTo>
                  <a:pt x="15701" y="13062"/>
                  <a:pt x="15987" y="13075"/>
                  <a:pt x="16267" y="13080"/>
                </a:cubicBezTo>
                <a:cubicBezTo>
                  <a:pt x="16311" y="13081"/>
                  <a:pt x="16434" y="13105"/>
                  <a:pt x="16471" y="13070"/>
                </a:cubicBezTo>
                <a:cubicBezTo>
                  <a:pt x="16488" y="13054"/>
                  <a:pt x="16464" y="13029"/>
                  <a:pt x="16471" y="1301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7566120" y="4033800"/>
            <a:ext cx="869760" cy="1560600"/>
          </a:xfrm>
          <a:custGeom>
            <a:avLst/>
            <a:gdLst/>
            <a:ahLst/>
            <a:rect l="l" t="t" r="r" b="b"/>
            <a:pathLst>
              <a:path w="2418" h="4332">
                <a:moveTo>
                  <a:pt x="21197" y="12759"/>
                </a:moveTo>
                <a:cubicBezTo>
                  <a:pt x="21188" y="12743"/>
                  <a:pt x="21181" y="12745"/>
                  <a:pt x="21185" y="12709"/>
                </a:cubicBezTo>
                <a:cubicBezTo>
                  <a:pt x="21192" y="12641"/>
                  <a:pt x="21206" y="12575"/>
                  <a:pt x="21218" y="12508"/>
                </a:cubicBezTo>
                <a:cubicBezTo>
                  <a:pt x="21238" y="12394"/>
                  <a:pt x="21259" y="12278"/>
                  <a:pt x="21266" y="12163"/>
                </a:cubicBezTo>
                <a:cubicBezTo>
                  <a:pt x="21269" y="12119"/>
                  <a:pt x="21266" y="12096"/>
                  <a:pt x="21249" y="12059"/>
                </a:cubicBezTo>
                <a:cubicBezTo>
                  <a:pt x="21208" y="12069"/>
                  <a:pt x="21186" y="12080"/>
                  <a:pt x="21148" y="12111"/>
                </a:cubicBezTo>
                <a:cubicBezTo>
                  <a:pt x="21108" y="12144"/>
                  <a:pt x="21074" y="12184"/>
                  <a:pt x="21034" y="12218"/>
                </a:cubicBezTo>
                <a:cubicBezTo>
                  <a:pt x="21030" y="12221"/>
                  <a:pt x="21025" y="12224"/>
                  <a:pt x="21021" y="12227"/>
                </a:cubicBezTo>
                <a:cubicBezTo>
                  <a:pt x="21030" y="12181"/>
                  <a:pt x="21058" y="12146"/>
                  <a:pt x="21088" y="12109"/>
                </a:cubicBezTo>
                <a:cubicBezTo>
                  <a:pt x="21124" y="12064"/>
                  <a:pt x="21181" y="11981"/>
                  <a:pt x="21245" y="11977"/>
                </a:cubicBezTo>
                <a:cubicBezTo>
                  <a:pt x="21293" y="11974"/>
                  <a:pt x="21316" y="12030"/>
                  <a:pt x="21333" y="12065"/>
                </a:cubicBezTo>
                <a:cubicBezTo>
                  <a:pt x="21359" y="12117"/>
                  <a:pt x="21378" y="12173"/>
                  <a:pt x="21400" y="12227"/>
                </a:cubicBezTo>
                <a:cubicBezTo>
                  <a:pt x="21412" y="12257"/>
                  <a:pt x="21415" y="12265"/>
                  <a:pt x="21424" y="12284"/>
                </a:cubicBezTo>
              </a:path>
              <a:path w="2418" h="4332">
                <a:moveTo>
                  <a:pt x="21184" y="12950"/>
                </a:moveTo>
                <a:cubicBezTo>
                  <a:pt x="21157" y="12978"/>
                  <a:pt x="21158" y="12982"/>
                  <a:pt x="21152" y="13023"/>
                </a:cubicBezTo>
                <a:cubicBezTo>
                  <a:pt x="21142" y="13094"/>
                  <a:pt x="21154" y="13168"/>
                  <a:pt x="21161" y="13239"/>
                </a:cubicBezTo>
                <a:cubicBezTo>
                  <a:pt x="21169" y="13317"/>
                  <a:pt x="21181" y="13394"/>
                  <a:pt x="21186" y="13472"/>
                </a:cubicBezTo>
                <a:cubicBezTo>
                  <a:pt x="21188" y="13498"/>
                  <a:pt x="21184" y="13518"/>
                  <a:pt x="21181" y="13542"/>
                </a:cubicBezTo>
                <a:cubicBezTo>
                  <a:pt x="21149" y="13495"/>
                  <a:pt x="21137" y="13451"/>
                  <a:pt x="21130" y="13394"/>
                </a:cubicBezTo>
                <a:cubicBezTo>
                  <a:pt x="21117" y="13295"/>
                  <a:pt x="21118" y="13195"/>
                  <a:pt x="21132" y="13096"/>
                </a:cubicBezTo>
                <a:cubicBezTo>
                  <a:pt x="21141" y="13031"/>
                  <a:pt x="21153" y="12937"/>
                  <a:pt x="21203" y="12887"/>
                </a:cubicBezTo>
                <a:cubicBezTo>
                  <a:pt x="21211" y="12883"/>
                  <a:pt x="21218" y="12879"/>
                  <a:pt x="21226" y="12875"/>
                </a:cubicBezTo>
                <a:cubicBezTo>
                  <a:pt x="21271" y="12906"/>
                  <a:pt x="21281" y="12941"/>
                  <a:pt x="21289" y="12997"/>
                </a:cubicBezTo>
                <a:cubicBezTo>
                  <a:pt x="21298" y="13058"/>
                  <a:pt x="21291" y="13127"/>
                  <a:pt x="21257" y="13180"/>
                </a:cubicBezTo>
                <a:cubicBezTo>
                  <a:pt x="21234" y="13216"/>
                  <a:pt x="21208" y="13229"/>
                  <a:pt x="21168" y="13224"/>
                </a:cubicBezTo>
                <a:cubicBezTo>
                  <a:pt x="21146" y="13187"/>
                  <a:pt x="21149" y="13155"/>
                  <a:pt x="21174" y="13115"/>
                </a:cubicBezTo>
                <a:cubicBezTo>
                  <a:pt x="21204" y="13078"/>
                  <a:pt x="21214" y="13065"/>
                  <a:pt x="21237" y="13042"/>
                </a:cubicBezTo>
              </a:path>
              <a:path w="2418" h="4332">
                <a:moveTo>
                  <a:pt x="21461" y="12984"/>
                </a:moveTo>
                <a:cubicBezTo>
                  <a:pt x="21481" y="13035"/>
                  <a:pt x="21483" y="13082"/>
                  <a:pt x="21488" y="13135"/>
                </a:cubicBezTo>
                <a:cubicBezTo>
                  <a:pt x="21490" y="13155"/>
                  <a:pt x="21493" y="13173"/>
                  <a:pt x="21494" y="13193"/>
                </a:cubicBezTo>
                <a:cubicBezTo>
                  <a:pt x="21510" y="13149"/>
                  <a:pt x="21516" y="13104"/>
                  <a:pt x="21528" y="13059"/>
                </a:cubicBezTo>
                <a:cubicBezTo>
                  <a:pt x="21541" y="13012"/>
                  <a:pt x="21552" y="12954"/>
                  <a:pt x="21577" y="12911"/>
                </a:cubicBezTo>
                <a:cubicBezTo>
                  <a:pt x="21594" y="12881"/>
                  <a:pt x="21611" y="12865"/>
                  <a:pt x="21647" y="12872"/>
                </a:cubicBezTo>
                <a:cubicBezTo>
                  <a:pt x="21665" y="12876"/>
                  <a:pt x="21683" y="12884"/>
                  <a:pt x="21700" y="12890"/>
                </a:cubicBezTo>
              </a:path>
              <a:path w="2418" h="4332">
                <a:moveTo>
                  <a:pt x="21750" y="12970"/>
                </a:moveTo>
                <a:cubicBezTo>
                  <a:pt x="21752" y="13013"/>
                  <a:pt x="21749" y="13061"/>
                  <a:pt x="21756" y="13103"/>
                </a:cubicBezTo>
                <a:cubicBezTo>
                  <a:pt x="21761" y="13134"/>
                  <a:pt x="21767" y="13165"/>
                  <a:pt x="21784" y="13191"/>
                </a:cubicBezTo>
                <a:cubicBezTo>
                  <a:pt x="21800" y="13161"/>
                  <a:pt x="21803" y="13146"/>
                  <a:pt x="21808" y="13111"/>
                </a:cubicBezTo>
              </a:path>
              <a:path w="2418" h="4332">
                <a:moveTo>
                  <a:pt x="21796" y="12788"/>
                </a:moveTo>
                <a:cubicBezTo>
                  <a:pt x="21792" y="12757"/>
                  <a:pt x="21787" y="12729"/>
                  <a:pt x="21789" y="12698"/>
                </a:cubicBezTo>
                <a:cubicBezTo>
                  <a:pt x="21790" y="12694"/>
                  <a:pt x="21790" y="12690"/>
                  <a:pt x="21791" y="12686"/>
                </a:cubicBezTo>
                <a:cubicBezTo>
                  <a:pt x="21835" y="12708"/>
                  <a:pt x="21854" y="12729"/>
                  <a:pt x="21872" y="12778"/>
                </a:cubicBezTo>
                <a:cubicBezTo>
                  <a:pt x="21894" y="12838"/>
                  <a:pt x="21899" y="12896"/>
                  <a:pt x="21903" y="12959"/>
                </a:cubicBezTo>
                <a:cubicBezTo>
                  <a:pt x="21906" y="13012"/>
                  <a:pt x="21900" y="13063"/>
                  <a:pt x="21901" y="13114"/>
                </a:cubicBezTo>
                <a:cubicBezTo>
                  <a:pt x="21902" y="13122"/>
                  <a:pt x="21903" y="13130"/>
                  <a:pt x="21904" y="13138"/>
                </a:cubicBezTo>
                <a:cubicBezTo>
                  <a:pt x="21916" y="13097"/>
                  <a:pt x="21926" y="13055"/>
                  <a:pt x="21942" y="13015"/>
                </a:cubicBezTo>
                <a:cubicBezTo>
                  <a:pt x="21961" y="12964"/>
                  <a:pt x="21987" y="12902"/>
                  <a:pt x="22030" y="12866"/>
                </a:cubicBezTo>
                <a:cubicBezTo>
                  <a:pt x="22069" y="12833"/>
                  <a:pt x="22094" y="12875"/>
                  <a:pt x="22105" y="12908"/>
                </a:cubicBezTo>
                <a:cubicBezTo>
                  <a:pt x="22126" y="12973"/>
                  <a:pt x="22126" y="13045"/>
                  <a:pt x="22130" y="13112"/>
                </a:cubicBezTo>
                <a:cubicBezTo>
                  <a:pt x="22138" y="13081"/>
                  <a:pt x="22144" y="13048"/>
                  <a:pt x="22152" y="13016"/>
                </a:cubicBezTo>
                <a:cubicBezTo>
                  <a:pt x="22160" y="12981"/>
                  <a:pt x="22169" y="12966"/>
                  <a:pt x="22190" y="12943"/>
                </a:cubicBezTo>
                <a:cubicBezTo>
                  <a:pt x="22214" y="12976"/>
                  <a:pt x="22228" y="13012"/>
                  <a:pt x="22250" y="13046"/>
                </a:cubicBezTo>
                <a:cubicBezTo>
                  <a:pt x="22268" y="13075"/>
                  <a:pt x="22294" y="13105"/>
                  <a:pt x="22332" y="13099"/>
                </a:cubicBezTo>
                <a:cubicBezTo>
                  <a:pt x="22372" y="13093"/>
                  <a:pt x="22400" y="13054"/>
                  <a:pt x="22422" y="13024"/>
                </a:cubicBezTo>
                <a:cubicBezTo>
                  <a:pt x="22446" y="12992"/>
                  <a:pt x="22468" y="12957"/>
                  <a:pt x="22484" y="12921"/>
                </a:cubicBezTo>
                <a:cubicBezTo>
                  <a:pt x="22493" y="12902"/>
                  <a:pt x="22493" y="12890"/>
                  <a:pt x="22496" y="12872"/>
                </a:cubicBezTo>
                <a:cubicBezTo>
                  <a:pt x="22466" y="12882"/>
                  <a:pt x="22455" y="12887"/>
                  <a:pt x="22429" y="12922"/>
                </a:cubicBezTo>
                <a:cubicBezTo>
                  <a:pt x="22402" y="12959"/>
                  <a:pt x="22379" y="13006"/>
                  <a:pt x="22382" y="13053"/>
                </a:cubicBezTo>
                <a:cubicBezTo>
                  <a:pt x="22385" y="13106"/>
                  <a:pt x="22428" y="13101"/>
                  <a:pt x="22467" y="13104"/>
                </a:cubicBezTo>
                <a:cubicBezTo>
                  <a:pt x="22532" y="13108"/>
                  <a:pt x="22591" y="13094"/>
                  <a:pt x="22654" y="13082"/>
                </a:cubicBezTo>
              </a:path>
              <a:path w="2418" h="4332">
                <a:moveTo>
                  <a:pt x="21030" y="13428"/>
                </a:moveTo>
                <a:cubicBezTo>
                  <a:pt x="21079" y="13417"/>
                  <a:pt x="21100" y="13420"/>
                  <a:pt x="21150" y="13420"/>
                </a:cubicBezTo>
                <a:cubicBezTo>
                  <a:pt x="21284" y="13419"/>
                  <a:pt x="21417" y="13420"/>
                  <a:pt x="21551" y="13425"/>
                </a:cubicBezTo>
                <a:cubicBezTo>
                  <a:pt x="21731" y="13431"/>
                  <a:pt x="21911" y="13435"/>
                  <a:pt x="22091" y="13437"/>
                </a:cubicBezTo>
                <a:cubicBezTo>
                  <a:pt x="22385" y="13440"/>
                  <a:pt x="22679" y="13435"/>
                  <a:pt x="22973" y="13423"/>
                </a:cubicBezTo>
                <a:cubicBezTo>
                  <a:pt x="23051" y="13420"/>
                  <a:pt x="23054" y="13413"/>
                  <a:pt x="23064" y="13397"/>
                </a:cubicBezTo>
              </a:path>
              <a:path w="2418" h="4332">
                <a:moveTo>
                  <a:pt x="23126" y="11234"/>
                </a:moveTo>
                <a:cubicBezTo>
                  <a:pt x="23145" y="11240"/>
                  <a:pt x="23148" y="11204"/>
                  <a:pt x="23163" y="11217"/>
                </a:cubicBezTo>
                <a:cubicBezTo>
                  <a:pt x="23243" y="11282"/>
                  <a:pt x="23282" y="11387"/>
                  <a:pt x="23309" y="11482"/>
                </a:cubicBezTo>
                <a:cubicBezTo>
                  <a:pt x="23363" y="11671"/>
                  <a:pt x="23381" y="11868"/>
                  <a:pt x="23395" y="12063"/>
                </a:cubicBezTo>
                <a:cubicBezTo>
                  <a:pt x="23436" y="12642"/>
                  <a:pt x="23434" y="13211"/>
                  <a:pt x="23386" y="13789"/>
                </a:cubicBezTo>
                <a:cubicBezTo>
                  <a:pt x="23373" y="13943"/>
                  <a:pt x="23357" y="14103"/>
                  <a:pt x="23319" y="14253"/>
                </a:cubicBezTo>
                <a:cubicBezTo>
                  <a:pt x="23260" y="14485"/>
                  <a:pt x="23143" y="14699"/>
                  <a:pt x="23042" y="14914"/>
                </a:cubicBezTo>
                <a:cubicBezTo>
                  <a:pt x="22972" y="15063"/>
                  <a:pt x="22898" y="15208"/>
                  <a:pt x="22819" y="15353"/>
                </a:cubicBezTo>
                <a:cubicBezTo>
                  <a:pt x="22788" y="15409"/>
                  <a:pt x="22760" y="15467"/>
                  <a:pt x="22732" y="15524"/>
                </a:cubicBezTo>
                <a:cubicBezTo>
                  <a:pt x="22723" y="15499"/>
                  <a:pt x="22712" y="15478"/>
                  <a:pt x="22704" y="15452"/>
                </a:cubicBezTo>
                <a:cubicBezTo>
                  <a:pt x="22672" y="15349"/>
                  <a:pt x="22654" y="15203"/>
                  <a:pt x="22629" y="15120"/>
                </a:cubicBezTo>
                <a:cubicBezTo>
                  <a:pt x="22629" y="15160"/>
                  <a:pt x="22621" y="15199"/>
                  <a:pt x="22621" y="15240"/>
                </a:cubicBezTo>
                <a:cubicBezTo>
                  <a:pt x="22622" y="15301"/>
                  <a:pt x="22632" y="15370"/>
                  <a:pt x="22649" y="15430"/>
                </a:cubicBezTo>
                <a:cubicBezTo>
                  <a:pt x="22657" y="15460"/>
                  <a:pt x="22666" y="15528"/>
                  <a:pt x="22705" y="15538"/>
                </a:cubicBezTo>
                <a:cubicBezTo>
                  <a:pt x="22736" y="15546"/>
                  <a:pt x="22781" y="15498"/>
                  <a:pt x="22806" y="15484"/>
                </a:cubicBezTo>
                <a:cubicBezTo>
                  <a:pt x="22861" y="15454"/>
                  <a:pt x="22914" y="15390"/>
                  <a:pt x="22962" y="1534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3303720" y="4406760"/>
            <a:ext cx="768240" cy="184320"/>
          </a:xfrm>
          <a:custGeom>
            <a:avLst/>
            <a:gdLst/>
            <a:ahLst/>
            <a:rect l="l" t="t" r="r" b="b"/>
            <a:pathLst>
              <a:path w="2134" h="514">
                <a:moveTo>
                  <a:pt x="9193" y="12281"/>
                </a:moveTo>
                <a:cubicBezTo>
                  <a:pt x="9192" y="12320"/>
                  <a:pt x="9187" y="12359"/>
                  <a:pt x="9185" y="12398"/>
                </a:cubicBezTo>
                <a:cubicBezTo>
                  <a:pt x="9180" y="12489"/>
                  <a:pt x="9173" y="12581"/>
                  <a:pt x="9177" y="12672"/>
                </a:cubicBezTo>
                <a:cubicBezTo>
                  <a:pt x="9178" y="12700"/>
                  <a:pt x="9180" y="12720"/>
                  <a:pt x="9193" y="12743"/>
                </a:cubicBezTo>
              </a:path>
              <a:path w="2134" h="514">
                <a:moveTo>
                  <a:pt x="9438" y="12333"/>
                </a:moveTo>
                <a:cubicBezTo>
                  <a:pt x="9441" y="12329"/>
                  <a:pt x="9445" y="12324"/>
                  <a:pt x="9448" y="12320"/>
                </a:cubicBezTo>
                <a:cubicBezTo>
                  <a:pt x="9428" y="12355"/>
                  <a:pt x="9394" y="12387"/>
                  <a:pt x="9367" y="12420"/>
                </a:cubicBezTo>
                <a:cubicBezTo>
                  <a:pt x="9314" y="12484"/>
                  <a:pt x="9238" y="12550"/>
                  <a:pt x="9205" y="12628"/>
                </a:cubicBezTo>
                <a:cubicBezTo>
                  <a:pt x="9204" y="12633"/>
                  <a:pt x="9202" y="12639"/>
                  <a:pt x="9201" y="12644"/>
                </a:cubicBezTo>
                <a:cubicBezTo>
                  <a:pt x="9234" y="12661"/>
                  <a:pt x="9263" y="12652"/>
                  <a:pt x="9299" y="12652"/>
                </a:cubicBezTo>
                <a:cubicBezTo>
                  <a:pt x="9367" y="12652"/>
                  <a:pt x="9432" y="12647"/>
                  <a:pt x="9498" y="12632"/>
                </a:cubicBezTo>
              </a:path>
              <a:path w="2134" h="514">
                <a:moveTo>
                  <a:pt x="9592" y="12589"/>
                </a:moveTo>
                <a:cubicBezTo>
                  <a:pt x="9584" y="12631"/>
                  <a:pt x="9577" y="12674"/>
                  <a:pt x="9577" y="12717"/>
                </a:cubicBezTo>
                <a:cubicBezTo>
                  <a:pt x="9577" y="12742"/>
                  <a:pt x="9573" y="12743"/>
                  <a:pt x="9593" y="12738"/>
                </a:cubicBezTo>
              </a:path>
              <a:path w="2134" h="514">
                <a:moveTo>
                  <a:pt x="9604" y="12463"/>
                </a:moveTo>
                <a:cubicBezTo>
                  <a:pt x="9605" y="12433"/>
                  <a:pt x="9611" y="12424"/>
                  <a:pt x="9638" y="12413"/>
                </a:cubicBezTo>
              </a:path>
              <a:path w="2134" h="514">
                <a:moveTo>
                  <a:pt x="9906" y="12400"/>
                </a:moveTo>
                <a:cubicBezTo>
                  <a:pt x="9882" y="12376"/>
                  <a:pt x="9879" y="12394"/>
                  <a:pt x="9851" y="12407"/>
                </a:cubicBezTo>
                <a:cubicBezTo>
                  <a:pt x="9811" y="12426"/>
                  <a:pt x="9783" y="12451"/>
                  <a:pt x="9761" y="12492"/>
                </a:cubicBezTo>
                <a:cubicBezTo>
                  <a:pt x="9747" y="12518"/>
                  <a:pt x="9738" y="12563"/>
                  <a:pt x="9768" y="12583"/>
                </a:cubicBezTo>
                <a:cubicBezTo>
                  <a:pt x="9801" y="12605"/>
                  <a:pt x="9856" y="12597"/>
                  <a:pt x="9893" y="12594"/>
                </a:cubicBezTo>
                <a:cubicBezTo>
                  <a:pt x="9922" y="12590"/>
                  <a:pt x="9931" y="12589"/>
                  <a:pt x="9949" y="12583"/>
                </a:cubicBezTo>
              </a:path>
              <a:path w="2134" h="514">
                <a:moveTo>
                  <a:pt x="9802" y="12507"/>
                </a:moveTo>
                <a:cubicBezTo>
                  <a:pt x="9807" y="12479"/>
                  <a:pt x="9841" y="12473"/>
                  <a:pt x="9874" y="12467"/>
                </a:cubicBezTo>
                <a:cubicBezTo>
                  <a:pt x="9911" y="12462"/>
                  <a:pt x="9923" y="12460"/>
                  <a:pt x="9947" y="12455"/>
                </a:cubicBezTo>
              </a:path>
              <a:path w="2134" h="514">
                <a:moveTo>
                  <a:pt x="10261" y="12388"/>
                </a:moveTo>
                <a:cubicBezTo>
                  <a:pt x="10262" y="12360"/>
                  <a:pt x="10263" y="12345"/>
                  <a:pt x="10228" y="12342"/>
                </a:cubicBezTo>
                <a:cubicBezTo>
                  <a:pt x="10205" y="12340"/>
                  <a:pt x="10169" y="12360"/>
                  <a:pt x="10150" y="12371"/>
                </a:cubicBezTo>
                <a:cubicBezTo>
                  <a:pt x="10133" y="12381"/>
                  <a:pt x="10126" y="12388"/>
                  <a:pt x="10118" y="12404"/>
                </a:cubicBezTo>
                <a:cubicBezTo>
                  <a:pt x="10145" y="12424"/>
                  <a:pt x="10174" y="12434"/>
                  <a:pt x="10204" y="12451"/>
                </a:cubicBezTo>
                <a:cubicBezTo>
                  <a:pt x="10235" y="12469"/>
                  <a:pt x="10262" y="12489"/>
                  <a:pt x="10271" y="12526"/>
                </a:cubicBezTo>
                <a:cubicBezTo>
                  <a:pt x="10278" y="12557"/>
                  <a:pt x="10266" y="12587"/>
                  <a:pt x="10251" y="12614"/>
                </a:cubicBezTo>
                <a:cubicBezTo>
                  <a:pt x="10242" y="12630"/>
                  <a:pt x="10236" y="12635"/>
                  <a:pt x="10220" y="12640"/>
                </a:cubicBezTo>
                <a:cubicBezTo>
                  <a:pt x="10234" y="12622"/>
                  <a:pt x="10249" y="12606"/>
                  <a:pt x="10272" y="12599"/>
                </a:cubicBezTo>
                <a:cubicBezTo>
                  <a:pt x="10285" y="12597"/>
                  <a:pt x="10288" y="12596"/>
                  <a:pt x="10296" y="12598"/>
                </a:cubicBezTo>
                <a:cubicBezTo>
                  <a:pt x="10307" y="12626"/>
                  <a:pt x="10300" y="12630"/>
                  <a:pt x="10282" y="12655"/>
                </a:cubicBezTo>
                <a:cubicBezTo>
                  <a:pt x="10268" y="12674"/>
                  <a:pt x="10251" y="12688"/>
                  <a:pt x="10239" y="12709"/>
                </a:cubicBezTo>
                <a:cubicBezTo>
                  <a:pt x="10234" y="12719"/>
                  <a:pt x="10232" y="12723"/>
                  <a:pt x="10239" y="12730"/>
                </a:cubicBezTo>
                <a:cubicBezTo>
                  <a:pt x="10260" y="12736"/>
                  <a:pt x="10269" y="12736"/>
                  <a:pt x="10291" y="12733"/>
                </a:cubicBezTo>
              </a:path>
              <a:path w="2134" h="514">
                <a:moveTo>
                  <a:pt x="10549" y="12396"/>
                </a:moveTo>
                <a:cubicBezTo>
                  <a:pt x="10517" y="12424"/>
                  <a:pt x="10499" y="12451"/>
                  <a:pt x="10483" y="12491"/>
                </a:cubicBezTo>
                <a:cubicBezTo>
                  <a:pt x="10468" y="12528"/>
                  <a:pt x="10450" y="12579"/>
                  <a:pt x="10463" y="12619"/>
                </a:cubicBezTo>
                <a:cubicBezTo>
                  <a:pt x="10474" y="12655"/>
                  <a:pt x="10512" y="12653"/>
                  <a:pt x="10542" y="12645"/>
                </a:cubicBezTo>
                <a:cubicBezTo>
                  <a:pt x="10579" y="12635"/>
                  <a:pt x="10614" y="12608"/>
                  <a:pt x="10635" y="12576"/>
                </a:cubicBezTo>
                <a:cubicBezTo>
                  <a:pt x="10651" y="12551"/>
                  <a:pt x="10658" y="12514"/>
                  <a:pt x="10644" y="12486"/>
                </a:cubicBezTo>
                <a:cubicBezTo>
                  <a:pt x="10636" y="12470"/>
                  <a:pt x="10624" y="12459"/>
                  <a:pt x="10611" y="12448"/>
                </a:cubicBezTo>
              </a:path>
              <a:path w="2134" h="514">
                <a:moveTo>
                  <a:pt x="10747" y="12589"/>
                </a:moveTo>
                <a:cubicBezTo>
                  <a:pt x="10753" y="12623"/>
                  <a:pt x="10757" y="12662"/>
                  <a:pt x="10754" y="12696"/>
                </a:cubicBezTo>
                <a:cubicBezTo>
                  <a:pt x="10752" y="12717"/>
                  <a:pt x="10749" y="12732"/>
                  <a:pt x="10751" y="12754"/>
                </a:cubicBezTo>
                <a:cubicBezTo>
                  <a:pt x="10755" y="12737"/>
                  <a:pt x="10757" y="12730"/>
                  <a:pt x="10761" y="12719"/>
                </a:cubicBezTo>
              </a:path>
              <a:path w="2134" h="514">
                <a:moveTo>
                  <a:pt x="10941" y="12338"/>
                </a:moveTo>
                <a:cubicBezTo>
                  <a:pt x="10942" y="12334"/>
                  <a:pt x="10942" y="12330"/>
                  <a:pt x="10943" y="12326"/>
                </a:cubicBezTo>
                <a:cubicBezTo>
                  <a:pt x="10947" y="12353"/>
                  <a:pt x="10944" y="12383"/>
                  <a:pt x="10947" y="12412"/>
                </a:cubicBezTo>
                <a:cubicBezTo>
                  <a:pt x="10951" y="12461"/>
                  <a:pt x="10961" y="12505"/>
                  <a:pt x="10974" y="12552"/>
                </a:cubicBezTo>
                <a:cubicBezTo>
                  <a:pt x="10981" y="12577"/>
                  <a:pt x="10986" y="12593"/>
                  <a:pt x="11003" y="12612"/>
                </a:cubicBezTo>
              </a:path>
              <a:path w="2134" h="514">
                <a:moveTo>
                  <a:pt x="11150" y="12309"/>
                </a:moveTo>
                <a:cubicBezTo>
                  <a:pt x="11152" y="12297"/>
                  <a:pt x="11158" y="12263"/>
                  <a:pt x="11167" y="12255"/>
                </a:cubicBezTo>
                <a:cubicBezTo>
                  <a:pt x="11180" y="12243"/>
                  <a:pt x="11207" y="12237"/>
                  <a:pt x="11224" y="12244"/>
                </a:cubicBezTo>
                <a:cubicBezTo>
                  <a:pt x="11251" y="12255"/>
                  <a:pt x="11260" y="12284"/>
                  <a:pt x="11258" y="12311"/>
                </a:cubicBezTo>
                <a:cubicBezTo>
                  <a:pt x="11255" y="12352"/>
                  <a:pt x="11234" y="12387"/>
                  <a:pt x="11213" y="12421"/>
                </a:cubicBezTo>
                <a:cubicBezTo>
                  <a:pt x="11202" y="12439"/>
                  <a:pt x="11190" y="12455"/>
                  <a:pt x="11177" y="12472"/>
                </a:cubicBezTo>
                <a:cubicBezTo>
                  <a:pt x="11199" y="12481"/>
                  <a:pt x="11221" y="12479"/>
                  <a:pt x="11245" y="12485"/>
                </a:cubicBezTo>
                <a:cubicBezTo>
                  <a:pt x="11273" y="12493"/>
                  <a:pt x="11296" y="12506"/>
                  <a:pt x="11306" y="12535"/>
                </a:cubicBezTo>
                <a:cubicBezTo>
                  <a:pt x="11315" y="12561"/>
                  <a:pt x="11304" y="12591"/>
                  <a:pt x="11290" y="12614"/>
                </a:cubicBezTo>
                <a:cubicBezTo>
                  <a:pt x="11279" y="12633"/>
                  <a:pt x="11264" y="12648"/>
                  <a:pt x="11245" y="12659"/>
                </a:cubicBezTo>
                <a:cubicBezTo>
                  <a:pt x="11227" y="12669"/>
                  <a:pt x="11210" y="12668"/>
                  <a:pt x="11190" y="1266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4519440" y="4429080"/>
            <a:ext cx="1381320" cy="241200"/>
          </a:xfrm>
          <a:custGeom>
            <a:avLst/>
            <a:gdLst/>
            <a:ahLst/>
            <a:rect l="l" t="t" r="r" b="b"/>
            <a:pathLst>
              <a:path w="3837" h="674">
                <a:moveTo>
                  <a:pt x="12923" y="12694"/>
                </a:moveTo>
                <a:cubicBezTo>
                  <a:pt x="12901" y="12689"/>
                  <a:pt x="12892" y="12685"/>
                  <a:pt x="12871" y="12672"/>
                </a:cubicBezTo>
                <a:cubicBezTo>
                  <a:pt x="12846" y="12689"/>
                  <a:pt x="12833" y="12705"/>
                  <a:pt x="12828" y="12738"/>
                </a:cubicBezTo>
                <a:cubicBezTo>
                  <a:pt x="12823" y="12767"/>
                  <a:pt x="12828" y="12790"/>
                  <a:pt x="12845" y="12812"/>
                </a:cubicBezTo>
                <a:cubicBezTo>
                  <a:pt x="12883" y="12807"/>
                  <a:pt x="12898" y="12774"/>
                  <a:pt x="12915" y="12740"/>
                </a:cubicBezTo>
                <a:cubicBezTo>
                  <a:pt x="12950" y="12668"/>
                  <a:pt x="12965" y="12588"/>
                  <a:pt x="12979" y="12510"/>
                </a:cubicBezTo>
                <a:cubicBezTo>
                  <a:pt x="12990" y="12449"/>
                  <a:pt x="13004" y="12380"/>
                  <a:pt x="12995" y="12318"/>
                </a:cubicBezTo>
                <a:cubicBezTo>
                  <a:pt x="12993" y="12312"/>
                  <a:pt x="12991" y="12307"/>
                  <a:pt x="12989" y="12301"/>
                </a:cubicBezTo>
                <a:cubicBezTo>
                  <a:pt x="12966" y="12348"/>
                  <a:pt x="12963" y="12396"/>
                  <a:pt x="12962" y="12449"/>
                </a:cubicBezTo>
                <a:cubicBezTo>
                  <a:pt x="12960" y="12516"/>
                  <a:pt x="12961" y="12595"/>
                  <a:pt x="12982" y="12659"/>
                </a:cubicBezTo>
                <a:cubicBezTo>
                  <a:pt x="12992" y="12691"/>
                  <a:pt x="13018" y="12745"/>
                  <a:pt x="13058" y="12748"/>
                </a:cubicBezTo>
                <a:cubicBezTo>
                  <a:pt x="13064" y="12747"/>
                  <a:pt x="13070" y="12745"/>
                  <a:pt x="13076" y="12744"/>
                </a:cubicBezTo>
              </a:path>
              <a:path w="3837" h="674">
                <a:moveTo>
                  <a:pt x="13311" y="12598"/>
                </a:moveTo>
                <a:cubicBezTo>
                  <a:pt x="13301" y="12586"/>
                  <a:pt x="13298" y="12582"/>
                  <a:pt x="13291" y="12575"/>
                </a:cubicBezTo>
              </a:path>
              <a:path w="3837" h="674">
                <a:moveTo>
                  <a:pt x="12649" y="12616"/>
                </a:moveTo>
                <a:cubicBezTo>
                  <a:pt x="12626" y="12600"/>
                  <a:pt x="12613" y="12596"/>
                  <a:pt x="12596" y="12626"/>
                </a:cubicBezTo>
                <a:cubicBezTo>
                  <a:pt x="12574" y="12664"/>
                  <a:pt x="12562" y="12714"/>
                  <a:pt x="12557" y="12757"/>
                </a:cubicBezTo>
                <a:cubicBezTo>
                  <a:pt x="12553" y="12794"/>
                  <a:pt x="12549" y="12852"/>
                  <a:pt x="12582" y="12880"/>
                </a:cubicBezTo>
                <a:cubicBezTo>
                  <a:pt x="12614" y="12907"/>
                  <a:pt x="12659" y="12853"/>
                  <a:pt x="12676" y="12834"/>
                </a:cubicBezTo>
                <a:cubicBezTo>
                  <a:pt x="12722" y="12783"/>
                  <a:pt x="12749" y="12719"/>
                  <a:pt x="12783" y="12660"/>
                </a:cubicBezTo>
                <a:cubicBezTo>
                  <a:pt x="12786" y="12655"/>
                  <a:pt x="12788" y="12650"/>
                  <a:pt x="12791" y="12645"/>
                </a:cubicBezTo>
                <a:cubicBezTo>
                  <a:pt x="12800" y="12678"/>
                  <a:pt x="12795" y="12714"/>
                  <a:pt x="12800" y="12748"/>
                </a:cubicBezTo>
                <a:cubicBezTo>
                  <a:pt x="12806" y="12795"/>
                  <a:pt x="12809" y="12849"/>
                  <a:pt x="12835" y="12891"/>
                </a:cubicBezTo>
                <a:cubicBezTo>
                  <a:pt x="12850" y="12908"/>
                  <a:pt x="12854" y="12913"/>
                  <a:pt x="12869" y="12918"/>
                </a:cubicBezTo>
              </a:path>
              <a:path w="3837" h="674">
                <a:moveTo>
                  <a:pt x="13275" y="12587"/>
                </a:moveTo>
                <a:cubicBezTo>
                  <a:pt x="13273" y="12574"/>
                  <a:pt x="13271" y="12569"/>
                  <a:pt x="13264" y="12562"/>
                </a:cubicBezTo>
                <a:cubicBezTo>
                  <a:pt x="13235" y="12558"/>
                  <a:pt x="13225" y="12583"/>
                  <a:pt x="13209" y="12608"/>
                </a:cubicBezTo>
                <a:cubicBezTo>
                  <a:pt x="13178" y="12658"/>
                  <a:pt x="13155" y="12712"/>
                  <a:pt x="13143" y="12770"/>
                </a:cubicBezTo>
                <a:cubicBezTo>
                  <a:pt x="13137" y="12800"/>
                  <a:pt x="13135" y="12814"/>
                  <a:pt x="13148" y="12838"/>
                </a:cubicBezTo>
                <a:cubicBezTo>
                  <a:pt x="13188" y="12823"/>
                  <a:pt x="13204" y="12790"/>
                  <a:pt x="13224" y="12752"/>
                </a:cubicBezTo>
                <a:cubicBezTo>
                  <a:pt x="13277" y="12653"/>
                  <a:pt x="13299" y="12545"/>
                  <a:pt x="13322" y="12436"/>
                </a:cubicBezTo>
                <a:cubicBezTo>
                  <a:pt x="13325" y="12420"/>
                  <a:pt x="13349" y="12370"/>
                  <a:pt x="13325" y="12393"/>
                </a:cubicBezTo>
                <a:cubicBezTo>
                  <a:pt x="13319" y="12461"/>
                  <a:pt x="13316" y="12527"/>
                  <a:pt x="13319" y="12595"/>
                </a:cubicBezTo>
                <a:cubicBezTo>
                  <a:pt x="13321" y="12657"/>
                  <a:pt x="13333" y="12727"/>
                  <a:pt x="13373" y="12777"/>
                </a:cubicBezTo>
                <a:cubicBezTo>
                  <a:pt x="13379" y="12782"/>
                  <a:pt x="13386" y="12788"/>
                  <a:pt x="13392" y="12793"/>
                </a:cubicBezTo>
              </a:path>
              <a:path w="3837" h="674">
                <a:moveTo>
                  <a:pt x="13494" y="12678"/>
                </a:moveTo>
                <a:cubicBezTo>
                  <a:pt x="13506" y="12717"/>
                  <a:pt x="13505" y="12761"/>
                  <a:pt x="13504" y="12803"/>
                </a:cubicBezTo>
                <a:cubicBezTo>
                  <a:pt x="13503" y="12851"/>
                  <a:pt x="13500" y="12905"/>
                  <a:pt x="13514" y="12952"/>
                </a:cubicBezTo>
                <a:cubicBezTo>
                  <a:pt x="13517" y="12959"/>
                  <a:pt x="13521" y="12967"/>
                  <a:pt x="13524" y="12974"/>
                </a:cubicBezTo>
                <a:cubicBezTo>
                  <a:pt x="13547" y="12947"/>
                  <a:pt x="13547" y="12899"/>
                  <a:pt x="13550" y="12861"/>
                </a:cubicBezTo>
                <a:cubicBezTo>
                  <a:pt x="13551" y="12842"/>
                  <a:pt x="13551" y="12824"/>
                  <a:pt x="13552" y="12805"/>
                </a:cubicBezTo>
              </a:path>
              <a:path w="3837" h="674">
                <a:moveTo>
                  <a:pt x="13576" y="12494"/>
                </a:moveTo>
                <a:cubicBezTo>
                  <a:pt x="13578" y="12460"/>
                  <a:pt x="13579" y="12425"/>
                  <a:pt x="13585" y="12392"/>
                </a:cubicBezTo>
                <a:cubicBezTo>
                  <a:pt x="13588" y="12374"/>
                  <a:pt x="13591" y="12355"/>
                  <a:pt x="13596" y="12337"/>
                </a:cubicBezTo>
                <a:cubicBezTo>
                  <a:pt x="13597" y="12333"/>
                  <a:pt x="13599" y="12329"/>
                  <a:pt x="13600" y="12325"/>
                </a:cubicBezTo>
                <a:cubicBezTo>
                  <a:pt x="13623" y="12342"/>
                  <a:pt x="13620" y="12374"/>
                  <a:pt x="13623" y="12404"/>
                </a:cubicBezTo>
                <a:cubicBezTo>
                  <a:pt x="13630" y="12471"/>
                  <a:pt x="13636" y="12538"/>
                  <a:pt x="13642" y="12605"/>
                </a:cubicBezTo>
                <a:cubicBezTo>
                  <a:pt x="13648" y="12673"/>
                  <a:pt x="13660" y="12740"/>
                  <a:pt x="13666" y="12808"/>
                </a:cubicBezTo>
                <a:cubicBezTo>
                  <a:pt x="13668" y="12829"/>
                  <a:pt x="13669" y="12850"/>
                  <a:pt x="13672" y="12871"/>
                </a:cubicBezTo>
              </a:path>
              <a:path w="3837" h="674">
                <a:moveTo>
                  <a:pt x="13585" y="12703"/>
                </a:moveTo>
                <a:cubicBezTo>
                  <a:pt x="13589" y="12669"/>
                  <a:pt x="13606" y="12669"/>
                  <a:pt x="13635" y="12649"/>
                </a:cubicBezTo>
                <a:cubicBezTo>
                  <a:pt x="13676" y="12620"/>
                  <a:pt x="13719" y="12595"/>
                  <a:pt x="13764" y="12573"/>
                </a:cubicBezTo>
                <a:cubicBezTo>
                  <a:pt x="13775" y="12568"/>
                  <a:pt x="13786" y="12564"/>
                  <a:pt x="13797" y="12559"/>
                </a:cubicBezTo>
              </a:path>
              <a:path w="3837" h="674">
                <a:moveTo>
                  <a:pt x="13862" y="12588"/>
                </a:moveTo>
                <a:cubicBezTo>
                  <a:pt x="13861" y="12632"/>
                  <a:pt x="13861" y="12672"/>
                  <a:pt x="13867" y="12716"/>
                </a:cubicBezTo>
                <a:cubicBezTo>
                  <a:pt x="13871" y="12749"/>
                  <a:pt x="13883" y="12789"/>
                  <a:pt x="13908" y="12813"/>
                </a:cubicBezTo>
                <a:cubicBezTo>
                  <a:pt x="13923" y="12824"/>
                  <a:pt x="13926" y="12827"/>
                  <a:pt x="13938" y="12830"/>
                </a:cubicBezTo>
                <a:cubicBezTo>
                  <a:pt x="13952" y="12815"/>
                  <a:pt x="13953" y="12811"/>
                  <a:pt x="13957" y="12791"/>
                </a:cubicBezTo>
              </a:path>
              <a:path w="3837" h="674">
                <a:moveTo>
                  <a:pt x="13967" y="12559"/>
                </a:moveTo>
                <a:cubicBezTo>
                  <a:pt x="13964" y="12529"/>
                  <a:pt x="13963" y="12500"/>
                  <a:pt x="13956" y="12471"/>
                </a:cubicBezTo>
              </a:path>
              <a:path w="3837" h="674">
                <a:moveTo>
                  <a:pt x="14064" y="12744"/>
                </a:moveTo>
                <a:cubicBezTo>
                  <a:pt x="14082" y="12767"/>
                  <a:pt x="14100" y="12791"/>
                  <a:pt x="14135" y="12780"/>
                </a:cubicBezTo>
                <a:cubicBezTo>
                  <a:pt x="14165" y="12771"/>
                  <a:pt x="14200" y="12740"/>
                  <a:pt x="14218" y="12715"/>
                </a:cubicBezTo>
                <a:cubicBezTo>
                  <a:pt x="14230" y="12699"/>
                  <a:pt x="14250" y="12664"/>
                  <a:pt x="14243" y="12642"/>
                </a:cubicBezTo>
                <a:cubicBezTo>
                  <a:pt x="14236" y="12621"/>
                  <a:pt x="14209" y="12627"/>
                  <a:pt x="14194" y="12633"/>
                </a:cubicBezTo>
                <a:cubicBezTo>
                  <a:pt x="14170" y="12642"/>
                  <a:pt x="14144" y="12662"/>
                  <a:pt x="14135" y="12686"/>
                </a:cubicBezTo>
                <a:cubicBezTo>
                  <a:pt x="14124" y="12715"/>
                  <a:pt x="14148" y="12735"/>
                  <a:pt x="14171" y="12746"/>
                </a:cubicBezTo>
                <a:cubicBezTo>
                  <a:pt x="14208" y="12763"/>
                  <a:pt x="14258" y="12772"/>
                  <a:pt x="14298" y="12777"/>
                </a:cubicBezTo>
                <a:cubicBezTo>
                  <a:pt x="14327" y="12781"/>
                  <a:pt x="14357" y="12781"/>
                  <a:pt x="14386" y="12782"/>
                </a:cubicBezTo>
              </a:path>
              <a:path w="3837" h="674">
                <a:moveTo>
                  <a:pt x="14571" y="12607"/>
                </a:moveTo>
                <a:cubicBezTo>
                  <a:pt x="14575" y="12639"/>
                  <a:pt x="14582" y="12668"/>
                  <a:pt x="14588" y="12700"/>
                </a:cubicBezTo>
                <a:cubicBezTo>
                  <a:pt x="14596" y="12746"/>
                  <a:pt x="14603" y="12793"/>
                  <a:pt x="14617" y="12837"/>
                </a:cubicBezTo>
                <a:cubicBezTo>
                  <a:pt x="14623" y="12851"/>
                  <a:pt x="14624" y="12855"/>
                  <a:pt x="14633" y="12860"/>
                </a:cubicBezTo>
              </a:path>
              <a:path w="3837" h="674">
                <a:moveTo>
                  <a:pt x="14596" y="12460"/>
                </a:moveTo>
                <a:cubicBezTo>
                  <a:pt x="14590" y="12431"/>
                  <a:pt x="14578" y="12395"/>
                  <a:pt x="14578" y="12365"/>
                </a:cubicBezTo>
                <a:cubicBezTo>
                  <a:pt x="14581" y="12354"/>
                  <a:pt x="14581" y="12351"/>
                  <a:pt x="14584" y="12344"/>
                </a:cubicBezTo>
                <a:cubicBezTo>
                  <a:pt x="14602" y="12349"/>
                  <a:pt x="14604" y="12351"/>
                  <a:pt x="14621" y="12364"/>
                </a:cubicBezTo>
              </a:path>
              <a:path w="3837" h="674">
                <a:moveTo>
                  <a:pt x="14758" y="12786"/>
                </a:moveTo>
                <a:cubicBezTo>
                  <a:pt x="14762" y="12805"/>
                  <a:pt x="14764" y="12822"/>
                  <a:pt x="14769" y="12839"/>
                </a:cubicBezTo>
                <a:cubicBezTo>
                  <a:pt x="14770" y="12809"/>
                  <a:pt x="14782" y="12777"/>
                  <a:pt x="14793" y="12748"/>
                </a:cubicBezTo>
                <a:cubicBezTo>
                  <a:pt x="14811" y="12699"/>
                  <a:pt x="14831" y="12647"/>
                  <a:pt x="14867" y="12608"/>
                </a:cubicBezTo>
                <a:cubicBezTo>
                  <a:pt x="14899" y="12573"/>
                  <a:pt x="14922" y="12595"/>
                  <a:pt x="14937" y="12631"/>
                </a:cubicBezTo>
                <a:cubicBezTo>
                  <a:pt x="14961" y="12691"/>
                  <a:pt x="14964" y="12756"/>
                  <a:pt x="14978" y="12818"/>
                </a:cubicBezTo>
                <a:cubicBezTo>
                  <a:pt x="14980" y="12828"/>
                  <a:pt x="14999" y="12924"/>
                  <a:pt x="15022" y="12922"/>
                </a:cubicBezTo>
                <a:cubicBezTo>
                  <a:pt x="15025" y="12919"/>
                  <a:pt x="15028" y="12916"/>
                  <a:pt x="15031" y="12913"/>
                </a:cubicBezTo>
              </a:path>
              <a:path w="3837" h="674">
                <a:moveTo>
                  <a:pt x="15117" y="12659"/>
                </a:moveTo>
                <a:cubicBezTo>
                  <a:pt x="15119" y="12700"/>
                  <a:pt x="15126" y="12738"/>
                  <a:pt x="15148" y="12773"/>
                </a:cubicBezTo>
                <a:cubicBezTo>
                  <a:pt x="15162" y="12796"/>
                  <a:pt x="15187" y="12813"/>
                  <a:pt x="15215" y="12803"/>
                </a:cubicBezTo>
                <a:cubicBezTo>
                  <a:pt x="15248" y="12791"/>
                  <a:pt x="15263" y="12749"/>
                  <a:pt x="15275" y="12720"/>
                </a:cubicBezTo>
                <a:cubicBezTo>
                  <a:pt x="15290" y="12683"/>
                  <a:pt x="15301" y="12646"/>
                  <a:pt x="15311" y="12609"/>
                </a:cubicBezTo>
                <a:cubicBezTo>
                  <a:pt x="15316" y="12590"/>
                  <a:pt x="15321" y="12585"/>
                  <a:pt x="15335" y="12574"/>
                </a:cubicBezTo>
              </a:path>
              <a:path w="3837" h="674">
                <a:moveTo>
                  <a:pt x="15458" y="12676"/>
                </a:moveTo>
                <a:cubicBezTo>
                  <a:pt x="15483" y="12665"/>
                  <a:pt x="15509" y="12647"/>
                  <a:pt x="15524" y="12623"/>
                </a:cubicBezTo>
                <a:cubicBezTo>
                  <a:pt x="15538" y="12600"/>
                  <a:pt x="15551" y="12576"/>
                  <a:pt x="15563" y="12551"/>
                </a:cubicBezTo>
                <a:cubicBezTo>
                  <a:pt x="15529" y="12559"/>
                  <a:pt x="15509" y="12589"/>
                  <a:pt x="15488" y="12618"/>
                </a:cubicBezTo>
                <a:cubicBezTo>
                  <a:pt x="15455" y="12665"/>
                  <a:pt x="15432" y="12715"/>
                  <a:pt x="15431" y="12772"/>
                </a:cubicBezTo>
                <a:cubicBezTo>
                  <a:pt x="15430" y="12816"/>
                  <a:pt x="15464" y="12838"/>
                  <a:pt x="15506" y="12835"/>
                </a:cubicBezTo>
                <a:cubicBezTo>
                  <a:pt x="15552" y="12832"/>
                  <a:pt x="15599" y="12802"/>
                  <a:pt x="15633" y="12774"/>
                </a:cubicBezTo>
                <a:cubicBezTo>
                  <a:pt x="15656" y="12755"/>
                  <a:pt x="15678" y="12734"/>
                  <a:pt x="15701" y="12716"/>
                </a:cubicBezTo>
                <a:cubicBezTo>
                  <a:pt x="15706" y="12736"/>
                  <a:pt x="15694" y="12760"/>
                  <a:pt x="15687" y="12782"/>
                </a:cubicBezTo>
                <a:cubicBezTo>
                  <a:pt x="15679" y="12806"/>
                  <a:pt x="15672" y="12828"/>
                  <a:pt x="15678" y="12851"/>
                </a:cubicBezTo>
                <a:cubicBezTo>
                  <a:pt x="15696" y="12827"/>
                  <a:pt x="15706" y="12801"/>
                  <a:pt x="15716" y="12772"/>
                </a:cubicBezTo>
                <a:cubicBezTo>
                  <a:pt x="15729" y="12734"/>
                  <a:pt x="15744" y="12698"/>
                  <a:pt x="15759" y="12662"/>
                </a:cubicBezTo>
                <a:cubicBezTo>
                  <a:pt x="15773" y="12627"/>
                  <a:pt x="15784" y="12615"/>
                  <a:pt x="15815" y="12592"/>
                </a:cubicBezTo>
              </a:path>
              <a:path w="3837" h="674">
                <a:moveTo>
                  <a:pt x="16011" y="12586"/>
                </a:moveTo>
                <a:cubicBezTo>
                  <a:pt x="15991" y="12582"/>
                  <a:pt x="15966" y="12590"/>
                  <a:pt x="15947" y="12600"/>
                </a:cubicBezTo>
                <a:cubicBezTo>
                  <a:pt x="15924" y="12612"/>
                  <a:pt x="15890" y="12635"/>
                  <a:pt x="15878" y="12659"/>
                </a:cubicBezTo>
                <a:cubicBezTo>
                  <a:pt x="15877" y="12663"/>
                  <a:pt x="15876" y="12668"/>
                  <a:pt x="15875" y="12672"/>
                </a:cubicBezTo>
                <a:cubicBezTo>
                  <a:pt x="15907" y="12693"/>
                  <a:pt x="15940" y="12701"/>
                  <a:pt x="15975" y="12717"/>
                </a:cubicBezTo>
                <a:cubicBezTo>
                  <a:pt x="16012" y="12734"/>
                  <a:pt x="16043" y="12756"/>
                  <a:pt x="16055" y="12797"/>
                </a:cubicBezTo>
                <a:cubicBezTo>
                  <a:pt x="16062" y="12820"/>
                  <a:pt x="16054" y="12858"/>
                  <a:pt x="16030" y="12870"/>
                </a:cubicBezTo>
                <a:cubicBezTo>
                  <a:pt x="16015" y="12872"/>
                  <a:pt x="16009" y="12873"/>
                  <a:pt x="15999" y="12869"/>
                </a:cubicBezTo>
                <a:cubicBezTo>
                  <a:pt x="15998" y="12845"/>
                  <a:pt x="16003" y="12838"/>
                  <a:pt x="16014" y="12815"/>
                </a:cubicBezTo>
              </a:path>
              <a:path w="3837" h="674">
                <a:moveTo>
                  <a:pt x="16199" y="12750"/>
                </a:moveTo>
                <a:cubicBezTo>
                  <a:pt x="16228" y="12742"/>
                  <a:pt x="16227" y="12736"/>
                  <a:pt x="16247" y="12716"/>
                </a:cubicBezTo>
                <a:cubicBezTo>
                  <a:pt x="16256" y="12711"/>
                  <a:pt x="16260" y="12709"/>
                  <a:pt x="16262" y="12701"/>
                </a:cubicBezTo>
                <a:cubicBezTo>
                  <a:pt x="16242" y="12721"/>
                  <a:pt x="16221" y="12740"/>
                  <a:pt x="16203" y="12762"/>
                </a:cubicBezTo>
                <a:cubicBezTo>
                  <a:pt x="16188" y="12779"/>
                  <a:pt x="16166" y="12807"/>
                  <a:pt x="16178" y="12832"/>
                </a:cubicBezTo>
                <a:cubicBezTo>
                  <a:pt x="16193" y="12862"/>
                  <a:pt x="16246" y="12857"/>
                  <a:pt x="16272" y="12860"/>
                </a:cubicBezTo>
                <a:cubicBezTo>
                  <a:pt x="16314" y="12866"/>
                  <a:pt x="16353" y="12876"/>
                  <a:pt x="16391" y="1289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44440" y="4718160"/>
            <a:ext cx="588960" cy="1492200"/>
          </a:xfrm>
          <a:custGeom>
            <a:avLst/>
            <a:gdLst/>
            <a:ahLst/>
            <a:rect l="l" t="t" r="r" b="b"/>
            <a:pathLst>
              <a:path w="1635" h="4145">
                <a:moveTo>
                  <a:pt x="1855" y="15864"/>
                </a:moveTo>
                <a:cubicBezTo>
                  <a:pt x="1834" y="15843"/>
                  <a:pt x="1818" y="15819"/>
                  <a:pt x="1797" y="15797"/>
                </a:cubicBezTo>
                <a:cubicBezTo>
                  <a:pt x="1764" y="15810"/>
                  <a:pt x="1755" y="15830"/>
                  <a:pt x="1736" y="15860"/>
                </a:cubicBezTo>
                <a:cubicBezTo>
                  <a:pt x="1701" y="15915"/>
                  <a:pt x="1673" y="15972"/>
                  <a:pt x="1660" y="16036"/>
                </a:cubicBezTo>
                <a:cubicBezTo>
                  <a:pt x="1653" y="16071"/>
                  <a:pt x="1644" y="16142"/>
                  <a:pt x="1686" y="16161"/>
                </a:cubicBezTo>
                <a:cubicBezTo>
                  <a:pt x="1726" y="16179"/>
                  <a:pt x="1779" y="16136"/>
                  <a:pt x="1803" y="16110"/>
                </a:cubicBezTo>
                <a:cubicBezTo>
                  <a:pt x="1838" y="16073"/>
                  <a:pt x="1859" y="16028"/>
                  <a:pt x="1878" y="15983"/>
                </a:cubicBezTo>
                <a:cubicBezTo>
                  <a:pt x="1886" y="15966"/>
                  <a:pt x="1889" y="15963"/>
                  <a:pt x="1890" y="15951"/>
                </a:cubicBezTo>
                <a:cubicBezTo>
                  <a:pt x="1901" y="15984"/>
                  <a:pt x="1904" y="16024"/>
                  <a:pt x="1911" y="16060"/>
                </a:cubicBezTo>
                <a:cubicBezTo>
                  <a:pt x="1920" y="16104"/>
                  <a:pt x="1926" y="16157"/>
                  <a:pt x="1945" y="16197"/>
                </a:cubicBezTo>
                <a:cubicBezTo>
                  <a:pt x="1956" y="16221"/>
                  <a:pt x="1961" y="16220"/>
                  <a:pt x="1981" y="16216"/>
                </a:cubicBezTo>
              </a:path>
              <a:path w="1635" h="4145">
                <a:moveTo>
                  <a:pt x="2175" y="16078"/>
                </a:moveTo>
                <a:cubicBezTo>
                  <a:pt x="2203" y="16106"/>
                  <a:pt x="2212" y="16128"/>
                  <a:pt x="2226" y="16165"/>
                </a:cubicBezTo>
                <a:cubicBezTo>
                  <a:pt x="2249" y="16228"/>
                  <a:pt x="2247" y="16272"/>
                  <a:pt x="2213" y="16330"/>
                </a:cubicBezTo>
                <a:cubicBezTo>
                  <a:pt x="2201" y="16349"/>
                  <a:pt x="2198" y="16355"/>
                  <a:pt x="2187" y="16365"/>
                </a:cubicBezTo>
              </a:path>
              <a:path w="1635" h="4145">
                <a:moveTo>
                  <a:pt x="1708" y="13106"/>
                </a:moveTo>
                <a:cubicBezTo>
                  <a:pt x="1661" y="13125"/>
                  <a:pt x="1615" y="13144"/>
                  <a:pt x="1570" y="13165"/>
                </a:cubicBezTo>
                <a:cubicBezTo>
                  <a:pt x="1441" y="13224"/>
                  <a:pt x="1313" y="13289"/>
                  <a:pt x="1200" y="13376"/>
                </a:cubicBezTo>
                <a:cubicBezTo>
                  <a:pt x="948" y="13571"/>
                  <a:pt x="798" y="13862"/>
                  <a:pt x="727" y="14169"/>
                </a:cubicBezTo>
                <a:cubicBezTo>
                  <a:pt x="687" y="14342"/>
                  <a:pt x="678" y="14545"/>
                  <a:pt x="681" y="14722"/>
                </a:cubicBezTo>
                <a:cubicBezTo>
                  <a:pt x="683" y="14862"/>
                  <a:pt x="690" y="15002"/>
                  <a:pt x="694" y="15142"/>
                </a:cubicBezTo>
                <a:cubicBezTo>
                  <a:pt x="701" y="15393"/>
                  <a:pt x="743" y="15648"/>
                  <a:pt x="795" y="15893"/>
                </a:cubicBezTo>
                <a:cubicBezTo>
                  <a:pt x="843" y="16118"/>
                  <a:pt x="859" y="16388"/>
                  <a:pt x="1006" y="16576"/>
                </a:cubicBezTo>
                <a:cubicBezTo>
                  <a:pt x="1103" y="16700"/>
                  <a:pt x="1275" y="16749"/>
                  <a:pt x="1400" y="16837"/>
                </a:cubicBezTo>
                <a:cubicBezTo>
                  <a:pt x="1486" y="16898"/>
                  <a:pt x="1565" y="16962"/>
                  <a:pt x="1659" y="17011"/>
                </a:cubicBezTo>
                <a:cubicBezTo>
                  <a:pt x="1766" y="17067"/>
                  <a:pt x="1875" y="17096"/>
                  <a:pt x="1996" y="17108"/>
                </a:cubicBezTo>
                <a:cubicBezTo>
                  <a:pt x="2085" y="17117"/>
                  <a:pt x="2174" y="17116"/>
                  <a:pt x="2263" y="17109"/>
                </a:cubicBezTo>
                <a:cubicBezTo>
                  <a:pt x="2273" y="17106"/>
                  <a:pt x="2276" y="17105"/>
                  <a:pt x="2283" y="17104"/>
                </a:cubicBezTo>
                <a:cubicBezTo>
                  <a:pt x="2277" y="17062"/>
                  <a:pt x="2279" y="17017"/>
                  <a:pt x="2266" y="16971"/>
                </a:cubicBezTo>
                <a:cubicBezTo>
                  <a:pt x="2255" y="16932"/>
                  <a:pt x="2238" y="16894"/>
                  <a:pt x="2226" y="16856"/>
                </a:cubicBezTo>
                <a:cubicBezTo>
                  <a:pt x="2271" y="16900"/>
                  <a:pt x="2328" y="16892"/>
                  <a:pt x="2309" y="16991"/>
                </a:cubicBezTo>
                <a:cubicBezTo>
                  <a:pt x="2288" y="17099"/>
                  <a:pt x="2168" y="17164"/>
                  <a:pt x="2116" y="17250"/>
                </a:cubicBezTo>
                <a:cubicBezTo>
                  <a:pt x="2107" y="17265"/>
                  <a:pt x="2161" y="17197"/>
                  <a:pt x="2153" y="1721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1011240" y="5587920"/>
            <a:ext cx="430200" cy="282600"/>
          </a:xfrm>
          <a:custGeom>
            <a:avLst/>
            <a:gdLst/>
            <a:ahLst/>
            <a:rect l="l" t="t" r="r" b="b"/>
            <a:pathLst>
              <a:path w="1198" h="788">
                <a:moveTo>
                  <a:pt x="3003" y="15840"/>
                </a:moveTo>
                <a:cubicBezTo>
                  <a:pt x="3009" y="15823"/>
                  <a:pt x="3021" y="15809"/>
                  <a:pt x="3007" y="15793"/>
                </a:cubicBezTo>
                <a:cubicBezTo>
                  <a:pt x="2984" y="15766"/>
                  <a:pt x="2954" y="15783"/>
                  <a:pt x="2927" y="15795"/>
                </a:cubicBezTo>
                <a:cubicBezTo>
                  <a:pt x="2884" y="15815"/>
                  <a:pt x="2846" y="15847"/>
                  <a:pt x="2824" y="15890"/>
                </a:cubicBezTo>
                <a:cubicBezTo>
                  <a:pt x="2811" y="15916"/>
                  <a:pt x="2796" y="15961"/>
                  <a:pt x="2828" y="15981"/>
                </a:cubicBezTo>
                <a:cubicBezTo>
                  <a:pt x="2863" y="16003"/>
                  <a:pt x="2915" y="15973"/>
                  <a:pt x="2944" y="15955"/>
                </a:cubicBezTo>
                <a:cubicBezTo>
                  <a:pt x="2982" y="15931"/>
                  <a:pt x="3013" y="15899"/>
                  <a:pt x="3046" y="15870"/>
                </a:cubicBezTo>
                <a:cubicBezTo>
                  <a:pt x="3058" y="15860"/>
                  <a:pt x="3060" y="15856"/>
                  <a:pt x="3070" y="15862"/>
                </a:cubicBezTo>
                <a:cubicBezTo>
                  <a:pt x="3069" y="15894"/>
                  <a:pt x="3067" y="15925"/>
                  <a:pt x="3067" y="15957"/>
                </a:cubicBezTo>
                <a:cubicBezTo>
                  <a:pt x="3067" y="15992"/>
                  <a:pt x="3064" y="16007"/>
                  <a:pt x="3099" y="16014"/>
                </a:cubicBezTo>
              </a:path>
              <a:path w="1198" h="788">
                <a:moveTo>
                  <a:pt x="3308" y="15556"/>
                </a:moveTo>
                <a:cubicBezTo>
                  <a:pt x="3347" y="15532"/>
                  <a:pt x="3372" y="15520"/>
                  <a:pt x="3419" y="15524"/>
                </a:cubicBezTo>
                <a:cubicBezTo>
                  <a:pt x="3456" y="15527"/>
                  <a:pt x="3493" y="15552"/>
                  <a:pt x="3498" y="15592"/>
                </a:cubicBezTo>
                <a:cubicBezTo>
                  <a:pt x="3503" y="15630"/>
                  <a:pt x="3477" y="15677"/>
                  <a:pt x="3463" y="15711"/>
                </a:cubicBezTo>
                <a:cubicBezTo>
                  <a:pt x="3454" y="15733"/>
                  <a:pt x="3436" y="15765"/>
                  <a:pt x="3472" y="15773"/>
                </a:cubicBezTo>
                <a:cubicBezTo>
                  <a:pt x="3513" y="15782"/>
                  <a:pt x="3571" y="15777"/>
                  <a:pt x="3611" y="15768"/>
                </a:cubicBezTo>
                <a:cubicBezTo>
                  <a:pt x="3647" y="15760"/>
                  <a:pt x="3678" y="15745"/>
                  <a:pt x="3710" y="15729"/>
                </a:cubicBezTo>
              </a:path>
              <a:path w="1198" h="788">
                <a:moveTo>
                  <a:pt x="3989" y="16011"/>
                </a:moveTo>
                <a:cubicBezTo>
                  <a:pt x="4009" y="16051"/>
                  <a:pt x="4000" y="16066"/>
                  <a:pt x="3991" y="16107"/>
                </a:cubicBezTo>
                <a:cubicBezTo>
                  <a:pt x="3979" y="16161"/>
                  <a:pt x="3964" y="16208"/>
                  <a:pt x="3935" y="16256"/>
                </a:cubicBezTo>
                <a:cubicBezTo>
                  <a:pt x="3923" y="16276"/>
                  <a:pt x="3909" y="16292"/>
                  <a:pt x="3892" y="1630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1662120" y="5560920"/>
            <a:ext cx="425520" cy="328680"/>
          </a:xfrm>
          <a:custGeom>
            <a:avLst/>
            <a:gdLst/>
            <a:ahLst/>
            <a:rect l="l" t="t" r="r" b="b"/>
            <a:pathLst>
              <a:path w="1180" h="913">
                <a:moveTo>
                  <a:pt x="4843" y="15684"/>
                </a:moveTo>
                <a:cubicBezTo>
                  <a:pt x="4829" y="15702"/>
                  <a:pt x="4824" y="15701"/>
                  <a:pt x="4805" y="15714"/>
                </a:cubicBezTo>
                <a:cubicBezTo>
                  <a:pt x="4767" y="15740"/>
                  <a:pt x="4732" y="15768"/>
                  <a:pt x="4700" y="15800"/>
                </a:cubicBezTo>
                <a:cubicBezTo>
                  <a:pt x="4671" y="15829"/>
                  <a:pt x="4638" y="15862"/>
                  <a:pt x="4622" y="15900"/>
                </a:cubicBezTo>
                <a:cubicBezTo>
                  <a:pt x="4618" y="15917"/>
                  <a:pt x="4616" y="15921"/>
                  <a:pt x="4619" y="15932"/>
                </a:cubicBezTo>
                <a:cubicBezTo>
                  <a:pt x="4648" y="15944"/>
                  <a:pt x="4672" y="15934"/>
                  <a:pt x="4701" y="15921"/>
                </a:cubicBezTo>
                <a:cubicBezTo>
                  <a:pt x="4739" y="15904"/>
                  <a:pt x="4773" y="15881"/>
                  <a:pt x="4809" y="15861"/>
                </a:cubicBezTo>
                <a:cubicBezTo>
                  <a:pt x="4832" y="15848"/>
                  <a:pt x="4849" y="15841"/>
                  <a:pt x="4858" y="15871"/>
                </a:cubicBezTo>
                <a:cubicBezTo>
                  <a:pt x="4868" y="15904"/>
                  <a:pt x="4872" y="15937"/>
                  <a:pt x="4885" y="15969"/>
                </a:cubicBezTo>
                <a:cubicBezTo>
                  <a:pt x="4894" y="15991"/>
                  <a:pt x="4905" y="16029"/>
                  <a:pt x="4935" y="16026"/>
                </a:cubicBezTo>
                <a:cubicBezTo>
                  <a:pt x="4955" y="16019"/>
                  <a:pt x="4962" y="16016"/>
                  <a:pt x="4972" y="16005"/>
                </a:cubicBezTo>
              </a:path>
              <a:path w="1180" h="913">
                <a:moveTo>
                  <a:pt x="5161" y="15496"/>
                </a:moveTo>
                <a:cubicBezTo>
                  <a:pt x="5164" y="15476"/>
                  <a:pt x="5165" y="15465"/>
                  <a:pt x="5160" y="15447"/>
                </a:cubicBezTo>
                <a:cubicBezTo>
                  <a:pt x="5158" y="15468"/>
                  <a:pt x="5145" y="15492"/>
                  <a:pt x="5139" y="15516"/>
                </a:cubicBezTo>
                <a:cubicBezTo>
                  <a:pt x="5129" y="15560"/>
                  <a:pt x="5118" y="15607"/>
                  <a:pt x="5120" y="15652"/>
                </a:cubicBezTo>
                <a:cubicBezTo>
                  <a:pt x="5121" y="15686"/>
                  <a:pt x="5138" y="15706"/>
                  <a:pt x="5172" y="15693"/>
                </a:cubicBezTo>
                <a:cubicBezTo>
                  <a:pt x="5215" y="15676"/>
                  <a:pt x="5248" y="15634"/>
                  <a:pt x="5278" y="15601"/>
                </a:cubicBezTo>
                <a:cubicBezTo>
                  <a:pt x="5303" y="15573"/>
                  <a:pt x="5325" y="15543"/>
                  <a:pt x="5350" y="15515"/>
                </a:cubicBezTo>
                <a:cubicBezTo>
                  <a:pt x="5357" y="15551"/>
                  <a:pt x="5348" y="15588"/>
                  <a:pt x="5346" y="15626"/>
                </a:cubicBezTo>
                <a:cubicBezTo>
                  <a:pt x="5344" y="15684"/>
                  <a:pt x="5342" y="15740"/>
                  <a:pt x="5350" y="15797"/>
                </a:cubicBezTo>
                <a:cubicBezTo>
                  <a:pt x="5354" y="15825"/>
                  <a:pt x="5355" y="15848"/>
                  <a:pt x="5381" y="15857"/>
                </a:cubicBezTo>
              </a:path>
              <a:path w="1180" h="913">
                <a:moveTo>
                  <a:pt x="5748" y="15994"/>
                </a:moveTo>
                <a:cubicBezTo>
                  <a:pt x="5772" y="16010"/>
                  <a:pt x="5768" y="16027"/>
                  <a:pt x="5775" y="16054"/>
                </a:cubicBezTo>
                <a:cubicBezTo>
                  <a:pt x="5791" y="16113"/>
                  <a:pt x="5796" y="16168"/>
                  <a:pt x="5791" y="16229"/>
                </a:cubicBezTo>
                <a:cubicBezTo>
                  <a:pt x="5789" y="16260"/>
                  <a:pt x="5788" y="16335"/>
                  <a:pt x="5764" y="16359"/>
                </a:cubicBezTo>
                <a:cubicBezTo>
                  <a:pt x="5752" y="16358"/>
                  <a:pt x="5750" y="16355"/>
                  <a:pt x="5759" y="1634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2328840" y="5594400"/>
            <a:ext cx="255600" cy="252360"/>
          </a:xfrm>
          <a:custGeom>
            <a:avLst/>
            <a:gdLst/>
            <a:ahLst/>
            <a:rect l="l" t="t" r="r" b="b"/>
            <a:pathLst>
              <a:path w="711" h="697">
                <a:moveTo>
                  <a:pt x="6500" y="15600"/>
                </a:moveTo>
                <a:cubicBezTo>
                  <a:pt x="6490" y="15579"/>
                  <a:pt x="6482" y="15562"/>
                  <a:pt x="6470" y="15542"/>
                </a:cubicBezTo>
                <a:cubicBezTo>
                  <a:pt x="6485" y="15576"/>
                  <a:pt x="6496" y="15612"/>
                  <a:pt x="6507" y="15648"/>
                </a:cubicBezTo>
                <a:cubicBezTo>
                  <a:pt x="6525" y="15706"/>
                  <a:pt x="6539" y="15764"/>
                  <a:pt x="6548" y="15824"/>
                </a:cubicBezTo>
                <a:cubicBezTo>
                  <a:pt x="6552" y="15849"/>
                  <a:pt x="6554" y="15871"/>
                  <a:pt x="6554" y="15896"/>
                </a:cubicBezTo>
                <a:cubicBezTo>
                  <a:pt x="6562" y="15864"/>
                  <a:pt x="6573" y="15833"/>
                  <a:pt x="6596" y="15808"/>
                </a:cubicBezTo>
                <a:cubicBezTo>
                  <a:pt x="6620" y="15781"/>
                  <a:pt x="6655" y="15754"/>
                  <a:pt x="6693" y="15763"/>
                </a:cubicBezTo>
                <a:cubicBezTo>
                  <a:pt x="6733" y="15772"/>
                  <a:pt x="6753" y="15821"/>
                  <a:pt x="6753" y="15858"/>
                </a:cubicBezTo>
                <a:cubicBezTo>
                  <a:pt x="6753" y="15900"/>
                  <a:pt x="6738" y="15957"/>
                  <a:pt x="6701" y="15982"/>
                </a:cubicBezTo>
                <a:cubicBezTo>
                  <a:pt x="6664" y="16007"/>
                  <a:pt x="6610" y="16002"/>
                  <a:pt x="6574" y="15980"/>
                </a:cubicBezTo>
                <a:cubicBezTo>
                  <a:pt x="6535" y="15956"/>
                  <a:pt x="6515" y="15905"/>
                  <a:pt x="6522" y="15861"/>
                </a:cubicBezTo>
                <a:cubicBezTo>
                  <a:pt x="6533" y="15825"/>
                  <a:pt x="6538" y="15812"/>
                  <a:pt x="6555" y="15791"/>
                </a:cubicBezTo>
              </a:path>
              <a:path w="711" h="697">
                <a:moveTo>
                  <a:pt x="6864" y="15763"/>
                </a:moveTo>
                <a:cubicBezTo>
                  <a:pt x="6869" y="15799"/>
                  <a:pt x="6874" y="15841"/>
                  <a:pt x="6890" y="15874"/>
                </a:cubicBezTo>
                <a:cubicBezTo>
                  <a:pt x="6905" y="15905"/>
                  <a:pt x="6931" y="15946"/>
                  <a:pt x="6971" y="15942"/>
                </a:cubicBezTo>
                <a:cubicBezTo>
                  <a:pt x="7019" y="15937"/>
                  <a:pt x="7057" y="15892"/>
                  <a:pt x="7086" y="15859"/>
                </a:cubicBezTo>
                <a:cubicBezTo>
                  <a:pt x="7118" y="15822"/>
                  <a:pt x="7147" y="15780"/>
                  <a:pt x="7180" y="15759"/>
                </a:cubicBezTo>
                <a:cubicBezTo>
                  <a:pt x="7166" y="15815"/>
                  <a:pt x="7144" y="15870"/>
                  <a:pt x="7121" y="15923"/>
                </a:cubicBezTo>
                <a:cubicBezTo>
                  <a:pt x="7087" y="16002"/>
                  <a:pt x="7053" y="16086"/>
                  <a:pt x="7008" y="16160"/>
                </a:cubicBezTo>
                <a:cubicBezTo>
                  <a:pt x="6991" y="16189"/>
                  <a:pt x="6968" y="16214"/>
                  <a:pt x="6945" y="1623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787480" y="5521320"/>
            <a:ext cx="962280" cy="306360"/>
          </a:xfrm>
          <a:custGeom>
            <a:avLst/>
            <a:gdLst/>
            <a:ahLst/>
            <a:rect l="l" t="t" r="r" b="b"/>
            <a:pathLst>
              <a:path w="2674" h="850">
                <a:moveTo>
                  <a:pt x="7742" y="15757"/>
                </a:moveTo>
                <a:cubicBezTo>
                  <a:pt x="7760" y="15778"/>
                  <a:pt x="7767" y="15787"/>
                  <a:pt x="7768" y="15827"/>
                </a:cubicBezTo>
                <a:cubicBezTo>
                  <a:pt x="7770" y="15873"/>
                  <a:pt x="7772" y="15920"/>
                  <a:pt x="7773" y="15966"/>
                </a:cubicBezTo>
                <a:cubicBezTo>
                  <a:pt x="7773" y="15989"/>
                  <a:pt x="7773" y="15994"/>
                  <a:pt x="7774" y="16008"/>
                </a:cubicBezTo>
                <a:cubicBezTo>
                  <a:pt x="7793" y="15945"/>
                  <a:pt x="7805" y="15881"/>
                  <a:pt x="7821" y="15818"/>
                </a:cubicBezTo>
                <a:cubicBezTo>
                  <a:pt x="7834" y="15767"/>
                  <a:pt x="7846" y="15711"/>
                  <a:pt x="7871" y="15665"/>
                </a:cubicBezTo>
                <a:cubicBezTo>
                  <a:pt x="7882" y="15650"/>
                  <a:pt x="7883" y="15645"/>
                  <a:pt x="7896" y="15646"/>
                </a:cubicBezTo>
                <a:cubicBezTo>
                  <a:pt x="7913" y="15675"/>
                  <a:pt x="7918" y="15701"/>
                  <a:pt x="7927" y="15734"/>
                </a:cubicBezTo>
                <a:cubicBezTo>
                  <a:pt x="7936" y="15765"/>
                  <a:pt x="7945" y="15808"/>
                  <a:pt x="7979" y="15821"/>
                </a:cubicBezTo>
                <a:cubicBezTo>
                  <a:pt x="8014" y="15834"/>
                  <a:pt x="8055" y="15809"/>
                  <a:pt x="8085" y="15792"/>
                </a:cubicBezTo>
                <a:cubicBezTo>
                  <a:pt x="8134" y="15765"/>
                  <a:pt x="8176" y="15730"/>
                  <a:pt x="8211" y="15687"/>
                </a:cubicBezTo>
                <a:cubicBezTo>
                  <a:pt x="8233" y="15660"/>
                  <a:pt x="8228" y="15654"/>
                  <a:pt x="8234" y="15627"/>
                </a:cubicBezTo>
                <a:cubicBezTo>
                  <a:pt x="8197" y="15627"/>
                  <a:pt x="8168" y="15654"/>
                  <a:pt x="8142" y="15681"/>
                </a:cubicBezTo>
                <a:cubicBezTo>
                  <a:pt x="8087" y="15737"/>
                  <a:pt x="8046" y="15819"/>
                  <a:pt x="8045" y="15899"/>
                </a:cubicBezTo>
                <a:cubicBezTo>
                  <a:pt x="8044" y="15943"/>
                  <a:pt x="8072" y="15982"/>
                  <a:pt x="8118" y="15985"/>
                </a:cubicBezTo>
                <a:cubicBezTo>
                  <a:pt x="8153" y="15981"/>
                  <a:pt x="8166" y="15979"/>
                  <a:pt x="8187" y="15965"/>
                </a:cubicBezTo>
              </a:path>
              <a:path w="2674" h="850">
                <a:moveTo>
                  <a:pt x="8371" y="15719"/>
                </a:moveTo>
                <a:cubicBezTo>
                  <a:pt x="8364" y="15757"/>
                  <a:pt x="8362" y="15796"/>
                  <a:pt x="8355" y="15833"/>
                </a:cubicBezTo>
                <a:cubicBezTo>
                  <a:pt x="8342" y="15901"/>
                  <a:pt x="8336" y="15968"/>
                  <a:pt x="8329" y="16037"/>
                </a:cubicBezTo>
                <a:cubicBezTo>
                  <a:pt x="8324" y="16082"/>
                  <a:pt x="8324" y="16131"/>
                  <a:pt x="8314" y="16176"/>
                </a:cubicBezTo>
                <a:cubicBezTo>
                  <a:pt x="8313" y="16179"/>
                  <a:pt x="8311" y="16182"/>
                  <a:pt x="8310" y="16185"/>
                </a:cubicBezTo>
                <a:cubicBezTo>
                  <a:pt x="8304" y="16137"/>
                  <a:pt x="8310" y="16091"/>
                  <a:pt x="8315" y="16043"/>
                </a:cubicBezTo>
                <a:cubicBezTo>
                  <a:pt x="8324" y="15955"/>
                  <a:pt x="8337" y="15868"/>
                  <a:pt x="8360" y="15782"/>
                </a:cubicBezTo>
                <a:cubicBezTo>
                  <a:pt x="8373" y="15736"/>
                  <a:pt x="8389" y="15648"/>
                  <a:pt x="8437" y="15621"/>
                </a:cubicBezTo>
                <a:cubicBezTo>
                  <a:pt x="8444" y="15620"/>
                  <a:pt x="8451" y="15620"/>
                  <a:pt x="8458" y="15619"/>
                </a:cubicBezTo>
                <a:cubicBezTo>
                  <a:pt x="8497" y="15650"/>
                  <a:pt x="8509" y="15681"/>
                  <a:pt x="8513" y="15733"/>
                </a:cubicBezTo>
                <a:cubicBezTo>
                  <a:pt x="8518" y="15800"/>
                  <a:pt x="8494" y="15871"/>
                  <a:pt x="8430" y="15900"/>
                </a:cubicBezTo>
                <a:cubicBezTo>
                  <a:pt x="8385" y="15920"/>
                  <a:pt x="8328" y="15896"/>
                  <a:pt x="8329" y="15842"/>
                </a:cubicBezTo>
                <a:cubicBezTo>
                  <a:pt x="8331" y="15831"/>
                  <a:pt x="8334" y="15820"/>
                  <a:pt x="8336" y="15809"/>
                </a:cubicBezTo>
              </a:path>
              <a:path w="2674" h="850">
                <a:moveTo>
                  <a:pt x="8891" y="15633"/>
                </a:moveTo>
                <a:cubicBezTo>
                  <a:pt x="8860" y="15642"/>
                  <a:pt x="8826" y="15647"/>
                  <a:pt x="8794" y="15648"/>
                </a:cubicBezTo>
                <a:cubicBezTo>
                  <a:pt x="8776" y="15646"/>
                  <a:pt x="8771" y="15645"/>
                  <a:pt x="8763" y="15657"/>
                </a:cubicBezTo>
                <a:cubicBezTo>
                  <a:pt x="8779" y="15678"/>
                  <a:pt x="8797" y="15685"/>
                  <a:pt x="8823" y="15694"/>
                </a:cubicBezTo>
                <a:cubicBezTo>
                  <a:pt x="8868" y="15709"/>
                  <a:pt x="8905" y="15704"/>
                  <a:pt x="8949" y="15688"/>
                </a:cubicBezTo>
                <a:cubicBezTo>
                  <a:pt x="8999" y="15670"/>
                  <a:pt x="9050" y="15635"/>
                  <a:pt x="9063" y="15580"/>
                </a:cubicBezTo>
                <a:cubicBezTo>
                  <a:pt x="9064" y="15559"/>
                  <a:pt x="9065" y="15552"/>
                  <a:pt x="9057" y="15540"/>
                </a:cubicBezTo>
                <a:cubicBezTo>
                  <a:pt x="9016" y="15526"/>
                  <a:pt x="8985" y="15537"/>
                  <a:pt x="8946" y="15559"/>
                </a:cubicBezTo>
                <a:cubicBezTo>
                  <a:pt x="8889" y="15591"/>
                  <a:pt x="8842" y="15635"/>
                  <a:pt x="8805" y="15689"/>
                </a:cubicBezTo>
                <a:cubicBezTo>
                  <a:pt x="8783" y="15721"/>
                  <a:pt x="8756" y="15772"/>
                  <a:pt x="8794" y="15804"/>
                </a:cubicBezTo>
                <a:cubicBezTo>
                  <a:pt x="8837" y="15840"/>
                  <a:pt x="8910" y="15831"/>
                  <a:pt x="8961" y="15826"/>
                </a:cubicBezTo>
                <a:cubicBezTo>
                  <a:pt x="8979" y="15823"/>
                  <a:pt x="8998" y="15821"/>
                  <a:pt x="9016" y="15818"/>
                </a:cubicBezTo>
              </a:path>
              <a:path w="2674" h="850">
                <a:moveTo>
                  <a:pt x="9280" y="15692"/>
                </a:moveTo>
                <a:cubicBezTo>
                  <a:pt x="9255" y="15679"/>
                  <a:pt x="9233" y="15669"/>
                  <a:pt x="9206" y="15663"/>
                </a:cubicBezTo>
                <a:cubicBezTo>
                  <a:pt x="9173" y="15656"/>
                  <a:pt x="9147" y="15660"/>
                  <a:pt x="9119" y="15681"/>
                </a:cubicBezTo>
                <a:cubicBezTo>
                  <a:pt x="9086" y="15705"/>
                  <a:pt x="9061" y="15743"/>
                  <a:pt x="9065" y="15785"/>
                </a:cubicBezTo>
                <a:cubicBezTo>
                  <a:pt x="9068" y="15818"/>
                  <a:pt x="9092" y="15832"/>
                  <a:pt x="9124" y="15830"/>
                </a:cubicBezTo>
                <a:cubicBezTo>
                  <a:pt x="9167" y="15827"/>
                  <a:pt x="9203" y="15800"/>
                  <a:pt x="9236" y="15775"/>
                </a:cubicBezTo>
                <a:cubicBezTo>
                  <a:pt x="9263" y="15754"/>
                  <a:pt x="9286" y="15732"/>
                  <a:pt x="9316" y="15716"/>
                </a:cubicBezTo>
                <a:cubicBezTo>
                  <a:pt x="9338" y="15728"/>
                  <a:pt x="9337" y="15752"/>
                  <a:pt x="9338" y="15778"/>
                </a:cubicBezTo>
                <a:cubicBezTo>
                  <a:pt x="9338" y="15791"/>
                  <a:pt x="9340" y="15864"/>
                  <a:pt x="9358" y="15868"/>
                </a:cubicBezTo>
                <a:cubicBezTo>
                  <a:pt x="9364" y="15866"/>
                  <a:pt x="9371" y="15864"/>
                  <a:pt x="9377" y="15862"/>
                </a:cubicBezTo>
              </a:path>
              <a:path w="2674" h="850">
                <a:moveTo>
                  <a:pt x="9532" y="15347"/>
                </a:moveTo>
                <a:cubicBezTo>
                  <a:pt x="9552" y="15337"/>
                  <a:pt x="9542" y="15414"/>
                  <a:pt x="9545" y="15441"/>
                </a:cubicBezTo>
                <a:cubicBezTo>
                  <a:pt x="9554" y="15537"/>
                  <a:pt x="9570" y="15633"/>
                  <a:pt x="9574" y="15730"/>
                </a:cubicBezTo>
                <a:cubicBezTo>
                  <a:pt x="9574" y="15764"/>
                  <a:pt x="9574" y="15773"/>
                  <a:pt x="9571" y="15795"/>
                </a:cubicBezTo>
              </a:path>
              <a:path w="2674" h="850">
                <a:moveTo>
                  <a:pt x="9479" y="15648"/>
                </a:moveTo>
                <a:cubicBezTo>
                  <a:pt x="9506" y="15641"/>
                  <a:pt x="9531" y="15636"/>
                  <a:pt x="9559" y="15632"/>
                </a:cubicBezTo>
                <a:cubicBezTo>
                  <a:pt x="9600" y="15626"/>
                  <a:pt x="9640" y="15618"/>
                  <a:pt x="9680" y="15612"/>
                </a:cubicBezTo>
                <a:cubicBezTo>
                  <a:pt x="9705" y="15607"/>
                  <a:pt x="9712" y="15605"/>
                  <a:pt x="9729" y="15607"/>
                </a:cubicBezTo>
              </a:path>
              <a:path w="2674" h="850">
                <a:moveTo>
                  <a:pt x="9821" y="15651"/>
                </a:moveTo>
                <a:cubicBezTo>
                  <a:pt x="9854" y="15662"/>
                  <a:pt x="9849" y="15648"/>
                  <a:pt x="9874" y="15630"/>
                </a:cubicBezTo>
                <a:cubicBezTo>
                  <a:pt x="9904" y="15608"/>
                  <a:pt x="9930" y="15587"/>
                  <a:pt x="9957" y="15561"/>
                </a:cubicBezTo>
                <a:cubicBezTo>
                  <a:pt x="9973" y="15545"/>
                  <a:pt x="9982" y="15538"/>
                  <a:pt x="9989" y="15518"/>
                </a:cubicBezTo>
                <a:cubicBezTo>
                  <a:pt x="9942" y="15534"/>
                  <a:pt x="9902" y="15563"/>
                  <a:pt x="9865" y="15596"/>
                </a:cubicBezTo>
                <a:cubicBezTo>
                  <a:pt x="9835" y="15623"/>
                  <a:pt x="9793" y="15663"/>
                  <a:pt x="9785" y="15705"/>
                </a:cubicBezTo>
                <a:cubicBezTo>
                  <a:pt x="9778" y="15745"/>
                  <a:pt x="9823" y="15752"/>
                  <a:pt x="9851" y="15756"/>
                </a:cubicBezTo>
                <a:cubicBezTo>
                  <a:pt x="9895" y="15762"/>
                  <a:pt x="9941" y="15756"/>
                  <a:pt x="9985" y="15754"/>
                </a:cubicBezTo>
              </a:path>
              <a:path w="2674" h="850">
                <a:moveTo>
                  <a:pt x="10345" y="15726"/>
                </a:moveTo>
                <a:cubicBezTo>
                  <a:pt x="10319" y="15708"/>
                  <a:pt x="10292" y="15692"/>
                  <a:pt x="10262" y="15682"/>
                </a:cubicBezTo>
                <a:cubicBezTo>
                  <a:pt x="10240" y="15675"/>
                  <a:pt x="10214" y="15674"/>
                  <a:pt x="10192" y="15681"/>
                </a:cubicBezTo>
                <a:cubicBezTo>
                  <a:pt x="10170" y="15689"/>
                  <a:pt x="10157" y="15709"/>
                  <a:pt x="10149" y="15730"/>
                </a:cubicBezTo>
                <a:cubicBezTo>
                  <a:pt x="10138" y="15758"/>
                  <a:pt x="10136" y="15798"/>
                  <a:pt x="10164" y="15818"/>
                </a:cubicBezTo>
                <a:cubicBezTo>
                  <a:pt x="10190" y="15836"/>
                  <a:pt x="10231" y="15816"/>
                  <a:pt x="10252" y="15799"/>
                </a:cubicBezTo>
                <a:cubicBezTo>
                  <a:pt x="10296" y="15763"/>
                  <a:pt x="10325" y="15708"/>
                  <a:pt x="10348" y="15657"/>
                </a:cubicBezTo>
                <a:cubicBezTo>
                  <a:pt x="10382" y="15583"/>
                  <a:pt x="10396" y="15504"/>
                  <a:pt x="10409" y="15424"/>
                </a:cubicBezTo>
                <a:cubicBezTo>
                  <a:pt x="10414" y="15398"/>
                  <a:pt x="10416" y="15392"/>
                  <a:pt x="10414" y="15376"/>
                </a:cubicBezTo>
                <a:cubicBezTo>
                  <a:pt x="10383" y="15413"/>
                  <a:pt x="10375" y="15463"/>
                  <a:pt x="10366" y="15512"/>
                </a:cubicBezTo>
                <a:cubicBezTo>
                  <a:pt x="10351" y="15595"/>
                  <a:pt x="10341" y="15685"/>
                  <a:pt x="10345" y="15769"/>
                </a:cubicBezTo>
                <a:cubicBezTo>
                  <a:pt x="10347" y="15814"/>
                  <a:pt x="10362" y="15849"/>
                  <a:pt x="10378" y="1589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4595760" y="5122800"/>
            <a:ext cx="604800" cy="327240"/>
          </a:xfrm>
          <a:custGeom>
            <a:avLst/>
            <a:gdLst/>
            <a:ahLst/>
            <a:rect l="l" t="t" r="r" b="b"/>
            <a:pathLst>
              <a:path w="1684" h="909">
                <a:moveTo>
                  <a:pt x="12913" y="14546"/>
                </a:moveTo>
                <a:cubicBezTo>
                  <a:pt x="12879" y="14560"/>
                  <a:pt x="12852" y="14585"/>
                  <a:pt x="12834" y="14619"/>
                </a:cubicBezTo>
                <a:cubicBezTo>
                  <a:pt x="12806" y="14671"/>
                  <a:pt x="12780" y="14734"/>
                  <a:pt x="12769" y="14793"/>
                </a:cubicBezTo>
                <a:cubicBezTo>
                  <a:pt x="12763" y="14824"/>
                  <a:pt x="12751" y="14890"/>
                  <a:pt x="12782" y="14914"/>
                </a:cubicBezTo>
                <a:cubicBezTo>
                  <a:pt x="12810" y="14935"/>
                  <a:pt x="12845" y="14882"/>
                  <a:pt x="12855" y="14866"/>
                </a:cubicBezTo>
                <a:cubicBezTo>
                  <a:pt x="12883" y="14822"/>
                  <a:pt x="12901" y="14769"/>
                  <a:pt x="12917" y="14720"/>
                </a:cubicBezTo>
                <a:cubicBezTo>
                  <a:pt x="12924" y="14697"/>
                  <a:pt x="12930" y="14678"/>
                  <a:pt x="12941" y="14657"/>
                </a:cubicBezTo>
                <a:cubicBezTo>
                  <a:pt x="12960" y="14687"/>
                  <a:pt x="12963" y="14726"/>
                  <a:pt x="12970" y="14762"/>
                </a:cubicBezTo>
                <a:cubicBezTo>
                  <a:pt x="12977" y="14799"/>
                  <a:pt x="12986" y="14850"/>
                  <a:pt x="13026" y="14867"/>
                </a:cubicBezTo>
                <a:cubicBezTo>
                  <a:pt x="13034" y="14868"/>
                  <a:pt x="13042" y="14870"/>
                  <a:pt x="13050" y="14871"/>
                </a:cubicBezTo>
              </a:path>
              <a:path w="1684" h="909">
                <a:moveTo>
                  <a:pt x="13139" y="14237"/>
                </a:moveTo>
                <a:cubicBezTo>
                  <a:pt x="13113" y="14228"/>
                  <a:pt x="13117" y="14296"/>
                  <a:pt x="13117" y="14323"/>
                </a:cubicBezTo>
                <a:cubicBezTo>
                  <a:pt x="13118" y="14407"/>
                  <a:pt x="13131" y="14490"/>
                  <a:pt x="13145" y="14573"/>
                </a:cubicBezTo>
                <a:cubicBezTo>
                  <a:pt x="13156" y="14640"/>
                  <a:pt x="13171" y="14699"/>
                  <a:pt x="13207" y="14756"/>
                </a:cubicBezTo>
                <a:cubicBezTo>
                  <a:pt x="13223" y="14782"/>
                  <a:pt x="13235" y="14780"/>
                  <a:pt x="13256" y="14763"/>
                </a:cubicBezTo>
              </a:path>
              <a:path w="1684" h="909">
                <a:moveTo>
                  <a:pt x="13296" y="14584"/>
                </a:moveTo>
                <a:cubicBezTo>
                  <a:pt x="13308" y="14609"/>
                  <a:pt x="13316" y="14635"/>
                  <a:pt x="13322" y="14663"/>
                </a:cubicBezTo>
                <a:cubicBezTo>
                  <a:pt x="13328" y="14691"/>
                  <a:pt x="13334" y="14723"/>
                  <a:pt x="13350" y="14748"/>
                </a:cubicBezTo>
                <a:cubicBezTo>
                  <a:pt x="13359" y="14758"/>
                  <a:pt x="13362" y="14762"/>
                  <a:pt x="13371" y="14763"/>
                </a:cubicBezTo>
                <a:cubicBezTo>
                  <a:pt x="13398" y="14747"/>
                  <a:pt x="13410" y="14724"/>
                  <a:pt x="13425" y="14696"/>
                </a:cubicBezTo>
                <a:cubicBezTo>
                  <a:pt x="13448" y="14653"/>
                  <a:pt x="13464" y="14594"/>
                  <a:pt x="13497" y="14557"/>
                </a:cubicBezTo>
                <a:cubicBezTo>
                  <a:pt x="13500" y="14555"/>
                  <a:pt x="13503" y="14554"/>
                  <a:pt x="13506" y="14552"/>
                </a:cubicBezTo>
                <a:cubicBezTo>
                  <a:pt x="13516" y="14596"/>
                  <a:pt x="13513" y="14638"/>
                  <a:pt x="13513" y="14684"/>
                </a:cubicBezTo>
                <a:cubicBezTo>
                  <a:pt x="13513" y="14711"/>
                  <a:pt x="13504" y="14773"/>
                  <a:pt x="13524" y="14796"/>
                </a:cubicBezTo>
                <a:cubicBezTo>
                  <a:pt x="13527" y="14797"/>
                  <a:pt x="13531" y="14798"/>
                  <a:pt x="13534" y="14799"/>
                </a:cubicBezTo>
                <a:cubicBezTo>
                  <a:pt x="13561" y="14776"/>
                  <a:pt x="13571" y="14748"/>
                  <a:pt x="13590" y="14718"/>
                </a:cubicBezTo>
                <a:cubicBezTo>
                  <a:pt x="13612" y="14682"/>
                  <a:pt x="13631" y="14646"/>
                  <a:pt x="13646" y="14606"/>
                </a:cubicBezTo>
                <a:cubicBezTo>
                  <a:pt x="13648" y="14599"/>
                  <a:pt x="13651" y="14591"/>
                  <a:pt x="13653" y="14584"/>
                </a:cubicBezTo>
              </a:path>
              <a:path w="1684" h="909">
                <a:moveTo>
                  <a:pt x="13751" y="14539"/>
                </a:moveTo>
                <a:cubicBezTo>
                  <a:pt x="13754" y="14523"/>
                  <a:pt x="13758" y="14518"/>
                  <a:pt x="13744" y="14518"/>
                </a:cubicBezTo>
                <a:cubicBezTo>
                  <a:pt x="13726" y="14536"/>
                  <a:pt x="13714" y="14563"/>
                  <a:pt x="13704" y="14588"/>
                </a:cubicBezTo>
                <a:cubicBezTo>
                  <a:pt x="13693" y="14617"/>
                  <a:pt x="13679" y="14653"/>
                  <a:pt x="13690" y="14684"/>
                </a:cubicBezTo>
                <a:cubicBezTo>
                  <a:pt x="13700" y="14712"/>
                  <a:pt x="13725" y="14691"/>
                  <a:pt x="13740" y="14681"/>
                </a:cubicBezTo>
                <a:cubicBezTo>
                  <a:pt x="13762" y="14666"/>
                  <a:pt x="13779" y="14644"/>
                  <a:pt x="13803" y="14631"/>
                </a:cubicBezTo>
                <a:cubicBezTo>
                  <a:pt x="13823" y="14620"/>
                  <a:pt x="13834" y="14629"/>
                  <a:pt x="13843" y="14647"/>
                </a:cubicBezTo>
                <a:cubicBezTo>
                  <a:pt x="13852" y="14664"/>
                  <a:pt x="13855" y="14684"/>
                  <a:pt x="13868" y="14699"/>
                </a:cubicBezTo>
                <a:cubicBezTo>
                  <a:pt x="13880" y="14713"/>
                  <a:pt x="13884" y="14712"/>
                  <a:pt x="13900" y="14711"/>
                </a:cubicBezTo>
              </a:path>
              <a:path w="1684" h="909">
                <a:moveTo>
                  <a:pt x="13995" y="14653"/>
                </a:moveTo>
                <a:cubicBezTo>
                  <a:pt x="13999" y="14621"/>
                  <a:pt x="14002" y="14636"/>
                  <a:pt x="14013" y="14663"/>
                </a:cubicBezTo>
                <a:cubicBezTo>
                  <a:pt x="14023" y="14689"/>
                  <a:pt x="14027" y="14718"/>
                  <a:pt x="14036" y="14745"/>
                </a:cubicBezTo>
                <a:cubicBezTo>
                  <a:pt x="14041" y="14760"/>
                  <a:pt x="14050" y="14797"/>
                  <a:pt x="14071" y="14798"/>
                </a:cubicBezTo>
                <a:cubicBezTo>
                  <a:pt x="14096" y="14799"/>
                  <a:pt x="14118" y="14760"/>
                  <a:pt x="14128" y="14743"/>
                </a:cubicBezTo>
                <a:cubicBezTo>
                  <a:pt x="14155" y="14696"/>
                  <a:pt x="14168" y="14642"/>
                  <a:pt x="14186" y="14591"/>
                </a:cubicBezTo>
                <a:cubicBezTo>
                  <a:pt x="14179" y="14639"/>
                  <a:pt x="14163" y="14684"/>
                  <a:pt x="14148" y="14730"/>
                </a:cubicBezTo>
                <a:cubicBezTo>
                  <a:pt x="14118" y="14822"/>
                  <a:pt x="14079" y="14912"/>
                  <a:pt x="14051" y="15004"/>
                </a:cubicBezTo>
                <a:cubicBezTo>
                  <a:pt x="14041" y="15035"/>
                  <a:pt x="14025" y="15126"/>
                  <a:pt x="14025" y="15132"/>
                </a:cubicBezTo>
              </a:path>
              <a:path w="1684" h="909">
                <a:moveTo>
                  <a:pt x="14390" y="14555"/>
                </a:moveTo>
                <a:cubicBezTo>
                  <a:pt x="14365" y="14551"/>
                  <a:pt x="14332" y="14569"/>
                  <a:pt x="14309" y="14583"/>
                </a:cubicBezTo>
                <a:cubicBezTo>
                  <a:pt x="14282" y="14600"/>
                  <a:pt x="14256" y="14622"/>
                  <a:pt x="14235" y="14646"/>
                </a:cubicBezTo>
                <a:cubicBezTo>
                  <a:pt x="14261" y="14662"/>
                  <a:pt x="14292" y="14658"/>
                  <a:pt x="14323" y="14667"/>
                </a:cubicBezTo>
                <a:cubicBezTo>
                  <a:pt x="14368" y="14680"/>
                  <a:pt x="14410" y="14704"/>
                  <a:pt x="14433" y="14746"/>
                </a:cubicBezTo>
                <a:cubicBezTo>
                  <a:pt x="14453" y="14782"/>
                  <a:pt x="14451" y="14823"/>
                  <a:pt x="14425" y="14855"/>
                </a:cubicBezTo>
                <a:cubicBezTo>
                  <a:pt x="14405" y="14879"/>
                  <a:pt x="14362" y="14884"/>
                  <a:pt x="14334" y="14872"/>
                </a:cubicBezTo>
                <a:cubicBezTo>
                  <a:pt x="14315" y="14859"/>
                  <a:pt x="14309" y="14855"/>
                  <a:pt x="14300" y="1484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5332320" y="5133960"/>
            <a:ext cx="622440" cy="211320"/>
          </a:xfrm>
          <a:custGeom>
            <a:avLst/>
            <a:gdLst/>
            <a:ahLst/>
            <a:rect l="l" t="t" r="r" b="b"/>
            <a:pathLst>
              <a:path w="1729" h="586">
                <a:moveTo>
                  <a:pt x="14842" y="14648"/>
                </a:moveTo>
                <a:cubicBezTo>
                  <a:pt x="14824" y="14657"/>
                  <a:pt x="14823" y="14657"/>
                  <a:pt x="14814" y="14674"/>
                </a:cubicBezTo>
                <a:cubicBezTo>
                  <a:pt x="14844" y="14692"/>
                  <a:pt x="14866" y="14680"/>
                  <a:pt x="14900" y="14663"/>
                </a:cubicBezTo>
                <a:cubicBezTo>
                  <a:pt x="14951" y="14638"/>
                  <a:pt x="14995" y="14603"/>
                  <a:pt x="15034" y="14562"/>
                </a:cubicBezTo>
                <a:cubicBezTo>
                  <a:pt x="15056" y="14539"/>
                  <a:pt x="15063" y="14525"/>
                  <a:pt x="15071" y="14496"/>
                </a:cubicBezTo>
                <a:cubicBezTo>
                  <a:pt x="15026" y="14504"/>
                  <a:pt x="15000" y="14531"/>
                  <a:pt x="14966" y="14565"/>
                </a:cubicBezTo>
                <a:cubicBezTo>
                  <a:pt x="14921" y="14610"/>
                  <a:pt x="14870" y="14667"/>
                  <a:pt x="14868" y="14734"/>
                </a:cubicBezTo>
                <a:cubicBezTo>
                  <a:pt x="14867" y="14779"/>
                  <a:pt x="14907" y="14792"/>
                  <a:pt x="14943" y="14801"/>
                </a:cubicBezTo>
                <a:cubicBezTo>
                  <a:pt x="14993" y="14814"/>
                  <a:pt x="15049" y="14809"/>
                  <a:pt x="15099" y="14801"/>
                </a:cubicBezTo>
                <a:cubicBezTo>
                  <a:pt x="15137" y="14795"/>
                  <a:pt x="15169" y="14787"/>
                  <a:pt x="15203" y="14770"/>
                </a:cubicBezTo>
              </a:path>
              <a:path w="1729" h="586">
                <a:moveTo>
                  <a:pt x="15231" y="14611"/>
                </a:moveTo>
                <a:cubicBezTo>
                  <a:pt x="15231" y="14596"/>
                  <a:pt x="15231" y="14584"/>
                  <a:pt x="15229" y="14569"/>
                </a:cubicBezTo>
                <a:cubicBezTo>
                  <a:pt x="15241" y="14595"/>
                  <a:pt x="15250" y="14620"/>
                  <a:pt x="15265" y="14644"/>
                </a:cubicBezTo>
                <a:cubicBezTo>
                  <a:pt x="15291" y="14687"/>
                  <a:pt x="15325" y="14724"/>
                  <a:pt x="15369" y="14748"/>
                </a:cubicBezTo>
                <a:cubicBezTo>
                  <a:pt x="15406" y="14768"/>
                  <a:pt x="15455" y="14779"/>
                  <a:pt x="15494" y="14756"/>
                </a:cubicBezTo>
                <a:cubicBezTo>
                  <a:pt x="15500" y="14750"/>
                  <a:pt x="15506" y="14745"/>
                  <a:pt x="15512" y="14739"/>
                </a:cubicBezTo>
              </a:path>
              <a:path w="1729" h="586">
                <a:moveTo>
                  <a:pt x="15478" y="14555"/>
                </a:moveTo>
                <a:cubicBezTo>
                  <a:pt x="15445" y="14575"/>
                  <a:pt x="15444" y="14594"/>
                  <a:pt x="15425" y="14626"/>
                </a:cubicBezTo>
                <a:cubicBezTo>
                  <a:pt x="15395" y="14676"/>
                  <a:pt x="15370" y="14728"/>
                  <a:pt x="15346" y="14782"/>
                </a:cubicBezTo>
                <a:cubicBezTo>
                  <a:pt x="15336" y="14806"/>
                  <a:pt x="15325" y="14824"/>
                  <a:pt x="15321" y="14848"/>
                </a:cubicBezTo>
                <a:cubicBezTo>
                  <a:pt x="15331" y="14835"/>
                  <a:pt x="15335" y="14828"/>
                  <a:pt x="15340" y="14817"/>
                </a:cubicBezTo>
              </a:path>
              <a:path w="1729" h="586">
                <a:moveTo>
                  <a:pt x="15503" y="14574"/>
                </a:moveTo>
                <a:cubicBezTo>
                  <a:pt x="15516" y="14606"/>
                  <a:pt x="15528" y="14640"/>
                  <a:pt x="15539" y="14673"/>
                </a:cubicBezTo>
                <a:cubicBezTo>
                  <a:pt x="15546" y="14694"/>
                  <a:pt x="15552" y="14743"/>
                  <a:pt x="15577" y="14753"/>
                </a:cubicBezTo>
                <a:cubicBezTo>
                  <a:pt x="15580" y="14752"/>
                  <a:pt x="15583" y="14750"/>
                  <a:pt x="15586" y="14749"/>
                </a:cubicBezTo>
              </a:path>
              <a:path w="1729" h="586">
                <a:moveTo>
                  <a:pt x="15559" y="14481"/>
                </a:moveTo>
                <a:cubicBezTo>
                  <a:pt x="15556" y="14467"/>
                  <a:pt x="15542" y="14418"/>
                  <a:pt x="15555" y="14405"/>
                </a:cubicBezTo>
                <a:cubicBezTo>
                  <a:pt x="15566" y="14394"/>
                  <a:pt x="15586" y="14387"/>
                  <a:pt x="15602" y="14378"/>
                </a:cubicBezTo>
              </a:path>
              <a:path w="1729" h="586">
                <a:moveTo>
                  <a:pt x="15841" y="14473"/>
                </a:moveTo>
                <a:cubicBezTo>
                  <a:pt x="15841" y="14510"/>
                  <a:pt x="15832" y="14524"/>
                  <a:pt x="15815" y="14554"/>
                </a:cubicBezTo>
                <a:cubicBezTo>
                  <a:pt x="15797" y="14586"/>
                  <a:pt x="15774" y="14603"/>
                  <a:pt x="15746" y="14627"/>
                </a:cubicBezTo>
                <a:cubicBezTo>
                  <a:pt x="15742" y="14630"/>
                  <a:pt x="15739" y="14634"/>
                  <a:pt x="15735" y="14637"/>
                </a:cubicBezTo>
                <a:cubicBezTo>
                  <a:pt x="15766" y="14618"/>
                  <a:pt x="15797" y="14608"/>
                  <a:pt x="15834" y="14605"/>
                </a:cubicBezTo>
                <a:cubicBezTo>
                  <a:pt x="15879" y="14601"/>
                  <a:pt x="15934" y="14600"/>
                  <a:pt x="15970" y="14630"/>
                </a:cubicBezTo>
                <a:cubicBezTo>
                  <a:pt x="15996" y="14651"/>
                  <a:pt x="16002" y="14686"/>
                  <a:pt x="15984" y="14714"/>
                </a:cubicBezTo>
                <a:cubicBezTo>
                  <a:pt x="15969" y="14738"/>
                  <a:pt x="15938" y="14747"/>
                  <a:pt x="15914" y="14735"/>
                </a:cubicBezTo>
                <a:cubicBezTo>
                  <a:pt x="15882" y="14719"/>
                  <a:pt x="15888" y="14670"/>
                  <a:pt x="15892" y="14642"/>
                </a:cubicBezTo>
                <a:cubicBezTo>
                  <a:pt x="15900" y="14605"/>
                  <a:pt x="15903" y="14592"/>
                  <a:pt x="15909" y="14567"/>
                </a:cubicBezTo>
              </a:path>
              <a:path w="1729" h="586">
                <a:moveTo>
                  <a:pt x="15980" y="14329"/>
                </a:moveTo>
                <a:cubicBezTo>
                  <a:pt x="15986" y="14307"/>
                  <a:pt x="15992" y="14286"/>
                  <a:pt x="15995" y="14263"/>
                </a:cubicBezTo>
                <a:cubicBezTo>
                  <a:pt x="16005" y="14306"/>
                  <a:pt x="16009" y="14348"/>
                  <a:pt x="16019" y="14391"/>
                </a:cubicBezTo>
                <a:cubicBezTo>
                  <a:pt x="16037" y="14464"/>
                  <a:pt x="16059" y="14535"/>
                  <a:pt x="16089" y="14604"/>
                </a:cubicBezTo>
                <a:cubicBezTo>
                  <a:pt x="16106" y="14642"/>
                  <a:pt x="16121" y="14680"/>
                  <a:pt x="16149" y="14710"/>
                </a:cubicBezTo>
              </a:path>
              <a:path w="1729" h="586">
                <a:moveTo>
                  <a:pt x="16017" y="14508"/>
                </a:moveTo>
                <a:cubicBezTo>
                  <a:pt x="16011" y="14493"/>
                  <a:pt x="16001" y="14469"/>
                  <a:pt x="16026" y="14461"/>
                </a:cubicBezTo>
                <a:cubicBezTo>
                  <a:pt x="16071" y="14446"/>
                  <a:pt x="16135" y="14444"/>
                  <a:pt x="16181" y="14444"/>
                </a:cubicBezTo>
                <a:cubicBezTo>
                  <a:pt x="16232" y="14444"/>
                  <a:pt x="16281" y="14453"/>
                  <a:pt x="16331" y="14461"/>
                </a:cubicBezTo>
              </a:path>
              <a:path w="1729" h="586">
                <a:moveTo>
                  <a:pt x="16531" y="14645"/>
                </a:moveTo>
                <a:cubicBezTo>
                  <a:pt x="16522" y="14624"/>
                  <a:pt x="16510" y="14609"/>
                  <a:pt x="16529" y="14591"/>
                </a:cubicBezTo>
                <a:cubicBezTo>
                  <a:pt x="16533" y="14588"/>
                  <a:pt x="16538" y="14586"/>
                  <a:pt x="16542" y="1458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3252960" y="5783400"/>
            <a:ext cx="888840" cy="271440"/>
          </a:xfrm>
          <a:custGeom>
            <a:avLst/>
            <a:gdLst/>
            <a:ahLst/>
            <a:rect l="l" t="t" r="r" b="b"/>
            <a:pathLst>
              <a:path w="2468" h="753">
                <a:moveTo>
                  <a:pt x="9247" y="16203"/>
                </a:moveTo>
                <a:cubicBezTo>
                  <a:pt x="9246" y="16173"/>
                  <a:pt x="9250" y="16128"/>
                  <a:pt x="9204" y="16137"/>
                </a:cubicBezTo>
                <a:cubicBezTo>
                  <a:pt x="9170" y="16144"/>
                  <a:pt x="9130" y="16195"/>
                  <a:pt x="9109" y="16220"/>
                </a:cubicBezTo>
                <a:cubicBezTo>
                  <a:pt x="9084" y="16250"/>
                  <a:pt x="9046" y="16292"/>
                  <a:pt x="9036" y="16332"/>
                </a:cubicBezTo>
                <a:cubicBezTo>
                  <a:pt x="9029" y="16363"/>
                  <a:pt x="9066" y="16366"/>
                  <a:pt x="9086" y="16369"/>
                </a:cubicBezTo>
                <a:cubicBezTo>
                  <a:pt x="9138" y="16378"/>
                  <a:pt x="9209" y="16375"/>
                  <a:pt x="9243" y="16423"/>
                </a:cubicBezTo>
                <a:cubicBezTo>
                  <a:pt x="9263" y="16450"/>
                  <a:pt x="9249" y="16483"/>
                  <a:pt x="9228" y="16504"/>
                </a:cubicBezTo>
                <a:cubicBezTo>
                  <a:pt x="9209" y="16522"/>
                  <a:pt x="9171" y="16540"/>
                  <a:pt x="9144" y="16532"/>
                </a:cubicBezTo>
                <a:cubicBezTo>
                  <a:pt x="9110" y="16522"/>
                  <a:pt x="9111" y="16487"/>
                  <a:pt x="9127" y="16461"/>
                </a:cubicBezTo>
                <a:cubicBezTo>
                  <a:pt x="9134" y="16452"/>
                  <a:pt x="9141" y="16444"/>
                  <a:pt x="9148" y="16435"/>
                </a:cubicBezTo>
              </a:path>
              <a:path w="2468" h="753">
                <a:moveTo>
                  <a:pt x="9458" y="16179"/>
                </a:moveTo>
                <a:cubicBezTo>
                  <a:pt x="9425" y="16217"/>
                  <a:pt x="9396" y="16254"/>
                  <a:pt x="9369" y="16296"/>
                </a:cubicBezTo>
                <a:cubicBezTo>
                  <a:pt x="9347" y="16330"/>
                  <a:pt x="9319" y="16375"/>
                  <a:pt x="9317" y="16417"/>
                </a:cubicBezTo>
                <a:cubicBezTo>
                  <a:pt x="9318" y="16421"/>
                  <a:pt x="9320" y="16426"/>
                  <a:pt x="9321" y="16430"/>
                </a:cubicBezTo>
                <a:cubicBezTo>
                  <a:pt x="9349" y="16425"/>
                  <a:pt x="9361" y="16420"/>
                  <a:pt x="9386" y="16395"/>
                </a:cubicBezTo>
                <a:cubicBezTo>
                  <a:pt x="9432" y="16348"/>
                  <a:pt x="9459" y="16282"/>
                  <a:pt x="9507" y="16238"/>
                </a:cubicBezTo>
                <a:cubicBezTo>
                  <a:pt x="9510" y="16237"/>
                  <a:pt x="9513" y="16235"/>
                  <a:pt x="9516" y="16234"/>
                </a:cubicBezTo>
                <a:cubicBezTo>
                  <a:pt x="9530" y="16292"/>
                  <a:pt x="9523" y="16347"/>
                  <a:pt x="9520" y="16407"/>
                </a:cubicBezTo>
                <a:cubicBezTo>
                  <a:pt x="9513" y="16524"/>
                  <a:pt x="9495" y="16639"/>
                  <a:pt x="9482" y="16756"/>
                </a:cubicBezTo>
                <a:cubicBezTo>
                  <a:pt x="9480" y="16777"/>
                  <a:pt x="9477" y="16797"/>
                  <a:pt x="9474" y="16818"/>
                </a:cubicBezTo>
                <a:cubicBezTo>
                  <a:pt x="9485" y="16785"/>
                  <a:pt x="9500" y="16755"/>
                  <a:pt x="9518" y="16725"/>
                </a:cubicBezTo>
                <a:cubicBezTo>
                  <a:pt x="9547" y="16677"/>
                  <a:pt x="9579" y="16630"/>
                  <a:pt x="9617" y="16589"/>
                </a:cubicBezTo>
                <a:cubicBezTo>
                  <a:pt x="9655" y="16548"/>
                  <a:pt x="9686" y="16506"/>
                  <a:pt x="9714" y="16457"/>
                </a:cubicBezTo>
                <a:cubicBezTo>
                  <a:pt x="9720" y="16446"/>
                  <a:pt x="9725" y="16435"/>
                  <a:pt x="9731" y="16424"/>
                </a:cubicBezTo>
              </a:path>
              <a:path w="2468" h="753">
                <a:moveTo>
                  <a:pt x="9799" y="16197"/>
                </a:moveTo>
                <a:cubicBezTo>
                  <a:pt x="9792" y="16233"/>
                  <a:pt x="9787" y="16269"/>
                  <a:pt x="9780" y="16304"/>
                </a:cubicBezTo>
                <a:cubicBezTo>
                  <a:pt x="9769" y="16357"/>
                  <a:pt x="9758" y="16401"/>
                  <a:pt x="9760" y="16455"/>
                </a:cubicBezTo>
                <a:cubicBezTo>
                  <a:pt x="9797" y="16458"/>
                  <a:pt x="9812" y="16436"/>
                  <a:pt x="9837" y="16404"/>
                </a:cubicBezTo>
                <a:cubicBezTo>
                  <a:pt x="9868" y="16365"/>
                  <a:pt x="9892" y="16321"/>
                  <a:pt x="9924" y="16283"/>
                </a:cubicBezTo>
                <a:cubicBezTo>
                  <a:pt x="9940" y="16264"/>
                  <a:pt x="9944" y="16260"/>
                  <a:pt x="9965" y="16261"/>
                </a:cubicBezTo>
                <a:cubicBezTo>
                  <a:pt x="9978" y="16292"/>
                  <a:pt x="9978" y="16317"/>
                  <a:pt x="9982" y="16350"/>
                </a:cubicBezTo>
                <a:cubicBezTo>
                  <a:pt x="9986" y="16375"/>
                  <a:pt x="9987" y="16382"/>
                  <a:pt x="9994" y="16397"/>
                </a:cubicBezTo>
              </a:path>
              <a:path w="2468" h="753">
                <a:moveTo>
                  <a:pt x="10174" y="16238"/>
                </a:moveTo>
                <a:cubicBezTo>
                  <a:pt x="10161" y="16203"/>
                  <a:pt x="10154" y="16278"/>
                  <a:pt x="10153" y="16296"/>
                </a:cubicBezTo>
                <a:cubicBezTo>
                  <a:pt x="10151" y="16321"/>
                  <a:pt x="10145" y="16371"/>
                  <a:pt x="10167" y="16389"/>
                </a:cubicBezTo>
                <a:cubicBezTo>
                  <a:pt x="10189" y="16407"/>
                  <a:pt x="10217" y="16376"/>
                  <a:pt x="10230" y="16362"/>
                </a:cubicBezTo>
                <a:cubicBezTo>
                  <a:pt x="10249" y="16342"/>
                  <a:pt x="10264" y="16319"/>
                  <a:pt x="10284" y="16300"/>
                </a:cubicBezTo>
                <a:cubicBezTo>
                  <a:pt x="10292" y="16338"/>
                  <a:pt x="10285" y="16369"/>
                  <a:pt x="10284" y="16408"/>
                </a:cubicBezTo>
                <a:cubicBezTo>
                  <a:pt x="10283" y="16432"/>
                  <a:pt x="10282" y="16454"/>
                  <a:pt x="10284" y="16478"/>
                </a:cubicBezTo>
              </a:path>
              <a:path w="2468" h="753">
                <a:moveTo>
                  <a:pt x="10393" y="16301"/>
                </a:moveTo>
                <a:cubicBezTo>
                  <a:pt x="10394" y="16297"/>
                  <a:pt x="10395" y="16293"/>
                  <a:pt x="10396" y="16289"/>
                </a:cubicBezTo>
                <a:cubicBezTo>
                  <a:pt x="10415" y="16303"/>
                  <a:pt x="10428" y="16314"/>
                  <a:pt x="10453" y="16304"/>
                </a:cubicBezTo>
                <a:cubicBezTo>
                  <a:pt x="10475" y="16295"/>
                  <a:pt x="10495" y="16279"/>
                  <a:pt x="10517" y="16272"/>
                </a:cubicBezTo>
                <a:cubicBezTo>
                  <a:pt x="10536" y="16266"/>
                  <a:pt x="10552" y="16258"/>
                  <a:pt x="10572" y="16256"/>
                </a:cubicBezTo>
                <a:cubicBezTo>
                  <a:pt x="10577" y="16255"/>
                  <a:pt x="10582" y="16255"/>
                  <a:pt x="10587" y="16254"/>
                </a:cubicBezTo>
              </a:path>
              <a:path w="2468" h="753">
                <a:moveTo>
                  <a:pt x="10502" y="16272"/>
                </a:moveTo>
                <a:cubicBezTo>
                  <a:pt x="10502" y="16294"/>
                  <a:pt x="10506" y="16314"/>
                  <a:pt x="10507" y="16336"/>
                </a:cubicBezTo>
                <a:cubicBezTo>
                  <a:pt x="10508" y="16369"/>
                  <a:pt x="10511" y="16403"/>
                  <a:pt x="10513" y="16436"/>
                </a:cubicBezTo>
                <a:cubicBezTo>
                  <a:pt x="10514" y="16453"/>
                  <a:pt x="10514" y="16457"/>
                  <a:pt x="10516" y="16468"/>
                </a:cubicBezTo>
                <a:cubicBezTo>
                  <a:pt x="10528" y="16431"/>
                  <a:pt x="10539" y="16394"/>
                  <a:pt x="10552" y="16358"/>
                </a:cubicBezTo>
                <a:cubicBezTo>
                  <a:pt x="10567" y="16315"/>
                  <a:pt x="10586" y="16275"/>
                  <a:pt x="10618" y="16242"/>
                </a:cubicBezTo>
                <a:cubicBezTo>
                  <a:pt x="10642" y="16217"/>
                  <a:pt x="10666" y="16212"/>
                  <a:pt x="10695" y="16233"/>
                </a:cubicBezTo>
                <a:cubicBezTo>
                  <a:pt x="10719" y="16250"/>
                  <a:pt x="10740" y="16276"/>
                  <a:pt x="10763" y="16295"/>
                </a:cubicBezTo>
              </a:path>
              <a:path w="2468" h="753">
                <a:moveTo>
                  <a:pt x="10920" y="16288"/>
                </a:moveTo>
                <a:cubicBezTo>
                  <a:pt x="10922" y="16310"/>
                  <a:pt x="10919" y="16341"/>
                  <a:pt x="10914" y="16362"/>
                </a:cubicBezTo>
                <a:cubicBezTo>
                  <a:pt x="10912" y="16369"/>
                  <a:pt x="10893" y="16445"/>
                  <a:pt x="10900" y="16410"/>
                </a:cubicBezTo>
                <a:cubicBezTo>
                  <a:pt x="10901" y="16403"/>
                  <a:pt x="10903" y="16396"/>
                  <a:pt x="10904" y="16389"/>
                </a:cubicBezTo>
              </a:path>
              <a:path w="2468" h="753">
                <a:moveTo>
                  <a:pt x="11010" y="16094"/>
                </a:moveTo>
                <a:cubicBezTo>
                  <a:pt x="11011" y="16081"/>
                  <a:pt x="11011" y="16078"/>
                  <a:pt x="11015" y="16070"/>
                </a:cubicBezTo>
                <a:cubicBezTo>
                  <a:pt x="11042" y="16069"/>
                  <a:pt x="11050" y="16075"/>
                  <a:pt x="11062" y="16102"/>
                </a:cubicBezTo>
                <a:cubicBezTo>
                  <a:pt x="11078" y="16139"/>
                  <a:pt x="11078" y="16179"/>
                  <a:pt x="11081" y="16218"/>
                </a:cubicBezTo>
                <a:cubicBezTo>
                  <a:pt x="11085" y="16266"/>
                  <a:pt x="11082" y="16312"/>
                  <a:pt x="11082" y="16360"/>
                </a:cubicBezTo>
                <a:cubicBezTo>
                  <a:pt x="11082" y="16381"/>
                  <a:pt x="11081" y="16399"/>
                  <a:pt x="11084" y="16418"/>
                </a:cubicBezTo>
                <a:cubicBezTo>
                  <a:pt x="11104" y="16383"/>
                  <a:pt x="11123" y="16348"/>
                  <a:pt x="11145" y="16314"/>
                </a:cubicBezTo>
                <a:cubicBezTo>
                  <a:pt x="11164" y="16284"/>
                  <a:pt x="11183" y="16258"/>
                  <a:pt x="11211" y="16237"/>
                </a:cubicBezTo>
                <a:cubicBezTo>
                  <a:pt x="11235" y="16249"/>
                  <a:pt x="11225" y="16271"/>
                  <a:pt x="11222" y="16296"/>
                </a:cubicBezTo>
                <a:cubicBezTo>
                  <a:pt x="11219" y="16328"/>
                  <a:pt x="11220" y="16358"/>
                  <a:pt x="11228" y="16389"/>
                </a:cubicBezTo>
              </a:path>
              <a:path w="2468" h="753">
                <a:moveTo>
                  <a:pt x="11424" y="16291"/>
                </a:moveTo>
                <a:cubicBezTo>
                  <a:pt x="11401" y="16288"/>
                  <a:pt x="11373" y="16298"/>
                  <a:pt x="11356" y="16318"/>
                </a:cubicBezTo>
                <a:cubicBezTo>
                  <a:pt x="11338" y="16339"/>
                  <a:pt x="11331" y="16365"/>
                  <a:pt x="11334" y="16391"/>
                </a:cubicBezTo>
                <a:cubicBezTo>
                  <a:pt x="11361" y="16402"/>
                  <a:pt x="11379" y="16393"/>
                  <a:pt x="11405" y="16378"/>
                </a:cubicBezTo>
                <a:cubicBezTo>
                  <a:pt x="11436" y="16360"/>
                  <a:pt x="11462" y="16329"/>
                  <a:pt x="11498" y="16336"/>
                </a:cubicBezTo>
                <a:cubicBezTo>
                  <a:pt x="11509" y="16403"/>
                  <a:pt x="11489" y="16467"/>
                  <a:pt x="11470" y="16531"/>
                </a:cubicBezTo>
                <a:cubicBezTo>
                  <a:pt x="11447" y="16607"/>
                  <a:pt x="11414" y="16688"/>
                  <a:pt x="11361" y="16749"/>
                </a:cubicBezTo>
                <a:cubicBezTo>
                  <a:pt x="11332" y="16782"/>
                  <a:pt x="11280" y="16819"/>
                  <a:pt x="11235" y="16794"/>
                </a:cubicBezTo>
                <a:cubicBezTo>
                  <a:pt x="11188" y="16768"/>
                  <a:pt x="11178" y="16707"/>
                  <a:pt x="11173" y="16659"/>
                </a:cubicBezTo>
                <a:cubicBezTo>
                  <a:pt x="11172" y="16645"/>
                  <a:pt x="11172" y="16630"/>
                  <a:pt x="11171" y="1661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946080" y="6048360"/>
            <a:ext cx="506520" cy="262080"/>
          </a:xfrm>
          <a:custGeom>
            <a:avLst/>
            <a:gdLst/>
            <a:ahLst/>
            <a:rect l="l" t="t" r="r" b="b"/>
            <a:pathLst>
              <a:path w="1404" h="727">
                <a:moveTo>
                  <a:pt x="2664" y="16838"/>
                </a:moveTo>
                <a:cubicBezTo>
                  <a:pt x="2653" y="16817"/>
                  <a:pt x="2650" y="16814"/>
                  <a:pt x="2630" y="16800"/>
                </a:cubicBezTo>
                <a:cubicBezTo>
                  <a:pt x="2641" y="16830"/>
                  <a:pt x="2638" y="16875"/>
                  <a:pt x="2641" y="16909"/>
                </a:cubicBezTo>
                <a:cubicBezTo>
                  <a:pt x="2649" y="17004"/>
                  <a:pt x="2655" y="17100"/>
                  <a:pt x="2656" y="17196"/>
                </a:cubicBezTo>
                <a:cubicBezTo>
                  <a:pt x="2657" y="17271"/>
                  <a:pt x="2647" y="17353"/>
                  <a:pt x="2657" y="17428"/>
                </a:cubicBezTo>
                <a:cubicBezTo>
                  <a:pt x="2664" y="17447"/>
                  <a:pt x="2669" y="17449"/>
                  <a:pt x="2680" y="17421"/>
                </a:cubicBezTo>
              </a:path>
              <a:path w="1404" h="727">
                <a:moveTo>
                  <a:pt x="2839" y="16864"/>
                </a:moveTo>
                <a:cubicBezTo>
                  <a:pt x="2823" y="16915"/>
                  <a:pt x="2809" y="16960"/>
                  <a:pt x="2787" y="17008"/>
                </a:cubicBezTo>
                <a:cubicBezTo>
                  <a:pt x="2750" y="17088"/>
                  <a:pt x="2701" y="17159"/>
                  <a:pt x="2660" y="17237"/>
                </a:cubicBezTo>
                <a:cubicBezTo>
                  <a:pt x="2648" y="17260"/>
                  <a:pt x="2620" y="17303"/>
                  <a:pt x="2655" y="17321"/>
                </a:cubicBezTo>
                <a:cubicBezTo>
                  <a:pt x="2700" y="17345"/>
                  <a:pt x="2764" y="17353"/>
                  <a:pt x="2814" y="17359"/>
                </a:cubicBezTo>
                <a:cubicBezTo>
                  <a:pt x="2892" y="17368"/>
                  <a:pt x="2957" y="17362"/>
                  <a:pt x="3028" y="17329"/>
                </a:cubicBezTo>
              </a:path>
              <a:path w="1404" h="727">
                <a:moveTo>
                  <a:pt x="3039" y="17101"/>
                </a:moveTo>
                <a:cubicBezTo>
                  <a:pt x="3027" y="17144"/>
                  <a:pt x="3035" y="17170"/>
                  <a:pt x="3039" y="17214"/>
                </a:cubicBezTo>
                <a:cubicBezTo>
                  <a:pt x="3043" y="17257"/>
                  <a:pt x="3044" y="17303"/>
                  <a:pt x="3057" y="17345"/>
                </a:cubicBezTo>
                <a:cubicBezTo>
                  <a:pt x="3063" y="17357"/>
                  <a:pt x="3065" y="17361"/>
                  <a:pt x="3075" y="17351"/>
                </a:cubicBezTo>
                <a:cubicBezTo>
                  <a:pt x="3092" y="17313"/>
                  <a:pt x="3101" y="17273"/>
                  <a:pt x="3115" y="17233"/>
                </a:cubicBezTo>
                <a:cubicBezTo>
                  <a:pt x="3125" y="17204"/>
                  <a:pt x="3137" y="17182"/>
                  <a:pt x="3154" y="17157"/>
                </a:cubicBezTo>
                <a:cubicBezTo>
                  <a:pt x="3192" y="17154"/>
                  <a:pt x="3198" y="17192"/>
                  <a:pt x="3208" y="17227"/>
                </a:cubicBezTo>
                <a:cubicBezTo>
                  <a:pt x="3228" y="17296"/>
                  <a:pt x="3236" y="17370"/>
                  <a:pt x="3258" y="17438"/>
                </a:cubicBezTo>
                <a:cubicBezTo>
                  <a:pt x="3262" y="17449"/>
                  <a:pt x="3287" y="17544"/>
                  <a:pt x="3318" y="17523"/>
                </a:cubicBezTo>
                <a:cubicBezTo>
                  <a:pt x="3323" y="17517"/>
                  <a:pt x="3329" y="17511"/>
                  <a:pt x="3334" y="17505"/>
                </a:cubicBezTo>
              </a:path>
              <a:path w="1404" h="727">
                <a:moveTo>
                  <a:pt x="3442" y="17163"/>
                </a:moveTo>
                <a:cubicBezTo>
                  <a:pt x="3423" y="17176"/>
                  <a:pt x="3417" y="17180"/>
                  <a:pt x="3409" y="17201"/>
                </a:cubicBezTo>
                <a:cubicBezTo>
                  <a:pt x="3396" y="17237"/>
                  <a:pt x="3391" y="17279"/>
                  <a:pt x="3390" y="17317"/>
                </a:cubicBezTo>
                <a:cubicBezTo>
                  <a:pt x="3389" y="17344"/>
                  <a:pt x="3387" y="17396"/>
                  <a:pt x="3417" y="17412"/>
                </a:cubicBezTo>
                <a:cubicBezTo>
                  <a:pt x="3450" y="17429"/>
                  <a:pt x="3485" y="17398"/>
                  <a:pt x="3505" y="17377"/>
                </a:cubicBezTo>
                <a:cubicBezTo>
                  <a:pt x="3536" y="17346"/>
                  <a:pt x="3559" y="17302"/>
                  <a:pt x="3572" y="17260"/>
                </a:cubicBezTo>
                <a:cubicBezTo>
                  <a:pt x="3578" y="17240"/>
                  <a:pt x="3585" y="17205"/>
                  <a:pt x="3584" y="17183"/>
                </a:cubicBezTo>
                <a:cubicBezTo>
                  <a:pt x="3583" y="17180"/>
                  <a:pt x="3582" y="17176"/>
                  <a:pt x="3581" y="17173"/>
                </a:cubicBezTo>
              </a:path>
              <a:path w="1404" h="727">
                <a:moveTo>
                  <a:pt x="3681" y="17256"/>
                </a:moveTo>
                <a:cubicBezTo>
                  <a:pt x="3686" y="17295"/>
                  <a:pt x="3684" y="17337"/>
                  <a:pt x="3691" y="17375"/>
                </a:cubicBezTo>
                <a:cubicBezTo>
                  <a:pt x="3696" y="17402"/>
                  <a:pt x="3696" y="17404"/>
                  <a:pt x="3715" y="17405"/>
                </a:cubicBezTo>
                <a:cubicBezTo>
                  <a:pt x="3737" y="17376"/>
                  <a:pt x="3750" y="17345"/>
                  <a:pt x="3764" y="17311"/>
                </a:cubicBezTo>
                <a:cubicBezTo>
                  <a:pt x="3775" y="17284"/>
                  <a:pt x="3786" y="17245"/>
                  <a:pt x="3811" y="17227"/>
                </a:cubicBezTo>
                <a:cubicBezTo>
                  <a:pt x="3814" y="17226"/>
                  <a:pt x="3817" y="17226"/>
                  <a:pt x="3820" y="17225"/>
                </a:cubicBezTo>
                <a:cubicBezTo>
                  <a:pt x="3841" y="17257"/>
                  <a:pt x="3855" y="17295"/>
                  <a:pt x="3878" y="17326"/>
                </a:cubicBezTo>
                <a:cubicBezTo>
                  <a:pt x="3891" y="17344"/>
                  <a:pt x="3924" y="17375"/>
                  <a:pt x="3948" y="17353"/>
                </a:cubicBezTo>
                <a:cubicBezTo>
                  <a:pt x="3980" y="17324"/>
                  <a:pt x="3998" y="17251"/>
                  <a:pt x="4014" y="17213"/>
                </a:cubicBezTo>
                <a:cubicBezTo>
                  <a:pt x="4020" y="17198"/>
                  <a:pt x="4027" y="17183"/>
                  <a:pt x="4033" y="1716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1585800" y="6012000"/>
            <a:ext cx="393840" cy="241200"/>
          </a:xfrm>
          <a:custGeom>
            <a:avLst/>
            <a:gdLst/>
            <a:ahLst/>
            <a:rect l="l" t="t" r="r" b="b"/>
            <a:pathLst>
              <a:path w="1093" h="667">
                <a:moveTo>
                  <a:pt x="4455" y="16723"/>
                </a:moveTo>
                <a:cubicBezTo>
                  <a:pt x="4444" y="16710"/>
                  <a:pt x="4441" y="16706"/>
                  <a:pt x="4431" y="16701"/>
                </a:cubicBezTo>
                <a:cubicBezTo>
                  <a:pt x="4414" y="16751"/>
                  <a:pt x="4411" y="16783"/>
                  <a:pt x="4413" y="16843"/>
                </a:cubicBezTo>
                <a:cubicBezTo>
                  <a:pt x="4418" y="16954"/>
                  <a:pt x="4436" y="17063"/>
                  <a:pt x="4455" y="17172"/>
                </a:cubicBezTo>
                <a:cubicBezTo>
                  <a:pt x="4463" y="17219"/>
                  <a:pt x="4466" y="17326"/>
                  <a:pt x="4505" y="17365"/>
                </a:cubicBezTo>
                <a:cubicBezTo>
                  <a:pt x="4509" y="17365"/>
                  <a:pt x="4513" y="17365"/>
                  <a:pt x="4517" y="17365"/>
                </a:cubicBezTo>
                <a:cubicBezTo>
                  <a:pt x="4537" y="17323"/>
                  <a:pt x="4546" y="17279"/>
                  <a:pt x="4558" y="17234"/>
                </a:cubicBezTo>
                <a:cubicBezTo>
                  <a:pt x="4571" y="17184"/>
                  <a:pt x="4587" y="17139"/>
                  <a:pt x="4614" y="17096"/>
                </a:cubicBezTo>
                <a:cubicBezTo>
                  <a:pt x="4647" y="17112"/>
                  <a:pt x="4657" y="17123"/>
                  <a:pt x="4677" y="17171"/>
                </a:cubicBezTo>
                <a:cubicBezTo>
                  <a:pt x="4701" y="17228"/>
                  <a:pt x="4729" y="17289"/>
                  <a:pt x="4775" y="17333"/>
                </a:cubicBezTo>
                <a:cubicBezTo>
                  <a:pt x="4784" y="17339"/>
                  <a:pt x="4793" y="17346"/>
                  <a:pt x="4802" y="17352"/>
                </a:cubicBezTo>
              </a:path>
              <a:path w="1093" h="667">
                <a:moveTo>
                  <a:pt x="4929" y="17126"/>
                </a:moveTo>
                <a:cubicBezTo>
                  <a:pt x="4894" y="17116"/>
                  <a:pt x="4889" y="17134"/>
                  <a:pt x="4867" y="17160"/>
                </a:cubicBezTo>
                <a:cubicBezTo>
                  <a:pt x="4836" y="17195"/>
                  <a:pt x="4815" y="17239"/>
                  <a:pt x="4816" y="17288"/>
                </a:cubicBezTo>
                <a:cubicBezTo>
                  <a:pt x="4817" y="17326"/>
                  <a:pt x="4832" y="17358"/>
                  <a:pt x="4873" y="17352"/>
                </a:cubicBezTo>
                <a:cubicBezTo>
                  <a:pt x="4921" y="17345"/>
                  <a:pt x="4955" y="17303"/>
                  <a:pt x="4982" y="17266"/>
                </a:cubicBezTo>
                <a:cubicBezTo>
                  <a:pt x="5009" y="17228"/>
                  <a:pt x="5021" y="17189"/>
                  <a:pt x="5037" y="17147"/>
                </a:cubicBezTo>
                <a:cubicBezTo>
                  <a:pt x="5045" y="17130"/>
                  <a:pt x="5047" y="17126"/>
                  <a:pt x="5048" y="17114"/>
                </a:cubicBezTo>
              </a:path>
              <a:path w="1093" h="667">
                <a:moveTo>
                  <a:pt x="5115" y="17243"/>
                </a:moveTo>
                <a:cubicBezTo>
                  <a:pt x="5120" y="17271"/>
                  <a:pt x="5121" y="17317"/>
                  <a:pt x="5136" y="17342"/>
                </a:cubicBezTo>
                <a:cubicBezTo>
                  <a:pt x="5149" y="17363"/>
                  <a:pt x="5174" y="17376"/>
                  <a:pt x="5197" y="17360"/>
                </a:cubicBezTo>
                <a:cubicBezTo>
                  <a:pt x="5228" y="17339"/>
                  <a:pt x="5250" y="17292"/>
                  <a:pt x="5267" y="17260"/>
                </a:cubicBezTo>
                <a:cubicBezTo>
                  <a:pt x="5278" y="17239"/>
                  <a:pt x="5286" y="17218"/>
                  <a:pt x="5298" y="17198"/>
                </a:cubicBezTo>
                <a:cubicBezTo>
                  <a:pt x="5312" y="17224"/>
                  <a:pt x="5306" y="17254"/>
                  <a:pt x="5309" y="17284"/>
                </a:cubicBezTo>
                <a:cubicBezTo>
                  <a:pt x="5312" y="17311"/>
                  <a:pt x="5317" y="17338"/>
                  <a:pt x="5323" y="17364"/>
                </a:cubicBezTo>
                <a:cubicBezTo>
                  <a:pt x="5360" y="17360"/>
                  <a:pt x="5369" y="17334"/>
                  <a:pt x="5386" y="17299"/>
                </a:cubicBezTo>
                <a:cubicBezTo>
                  <a:pt x="5408" y="17254"/>
                  <a:pt x="5424" y="17211"/>
                  <a:pt x="5457" y="17173"/>
                </a:cubicBezTo>
                <a:cubicBezTo>
                  <a:pt x="5475" y="17153"/>
                  <a:pt x="5476" y="17149"/>
                  <a:pt x="5499" y="1714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2124000" y="6016680"/>
            <a:ext cx="181080" cy="208080"/>
          </a:xfrm>
          <a:custGeom>
            <a:avLst/>
            <a:gdLst/>
            <a:ahLst/>
            <a:rect l="l" t="t" r="r" b="b"/>
            <a:pathLst>
              <a:path w="506" h="578">
                <a:moveTo>
                  <a:pt x="6064" y="16713"/>
                </a:moveTo>
                <a:cubicBezTo>
                  <a:pt x="6029" y="16738"/>
                  <a:pt x="6007" y="16801"/>
                  <a:pt x="5998" y="16845"/>
                </a:cubicBezTo>
                <a:cubicBezTo>
                  <a:pt x="5979" y="16936"/>
                  <a:pt x="5981" y="17031"/>
                  <a:pt x="5980" y="17123"/>
                </a:cubicBezTo>
                <a:cubicBezTo>
                  <a:pt x="5979" y="17167"/>
                  <a:pt x="5980" y="17198"/>
                  <a:pt x="5990" y="17239"/>
                </a:cubicBezTo>
              </a:path>
              <a:path w="506" h="578">
                <a:moveTo>
                  <a:pt x="5899" y="17035"/>
                </a:moveTo>
                <a:cubicBezTo>
                  <a:pt x="5918" y="17019"/>
                  <a:pt x="5940" y="17000"/>
                  <a:pt x="5968" y="16993"/>
                </a:cubicBezTo>
                <a:cubicBezTo>
                  <a:pt x="6023" y="16979"/>
                  <a:pt x="6084" y="16971"/>
                  <a:pt x="6141" y="16967"/>
                </a:cubicBezTo>
                <a:cubicBezTo>
                  <a:pt x="6175" y="16965"/>
                  <a:pt x="6224" y="16960"/>
                  <a:pt x="6246" y="16992"/>
                </a:cubicBezTo>
                <a:cubicBezTo>
                  <a:pt x="6261" y="17014"/>
                  <a:pt x="6252" y="17055"/>
                  <a:pt x="6250" y="17079"/>
                </a:cubicBezTo>
                <a:cubicBezTo>
                  <a:pt x="6247" y="17117"/>
                  <a:pt x="6244" y="17156"/>
                  <a:pt x="6244" y="17194"/>
                </a:cubicBezTo>
                <a:cubicBezTo>
                  <a:pt x="6244" y="17210"/>
                  <a:pt x="6239" y="17294"/>
                  <a:pt x="6272" y="17290"/>
                </a:cubicBezTo>
                <a:cubicBezTo>
                  <a:pt x="6303" y="17286"/>
                  <a:pt x="6328" y="17239"/>
                  <a:pt x="6343" y="17217"/>
                </a:cubicBezTo>
                <a:cubicBezTo>
                  <a:pt x="6366" y="17185"/>
                  <a:pt x="6389" y="17150"/>
                  <a:pt x="6400" y="17112"/>
                </a:cubicBezTo>
                <a:cubicBezTo>
                  <a:pt x="6408" y="17083"/>
                  <a:pt x="6400" y="17072"/>
                  <a:pt x="6371" y="17071"/>
                </a:cubicBezTo>
                <a:cubicBezTo>
                  <a:pt x="6340" y="17070"/>
                  <a:pt x="6307" y="17087"/>
                  <a:pt x="6276" y="17094"/>
                </a:cubicBezTo>
                <a:cubicBezTo>
                  <a:pt x="6258" y="17097"/>
                  <a:pt x="6254" y="17099"/>
                  <a:pt x="6242" y="1709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2530440" y="6024600"/>
            <a:ext cx="220680" cy="225360"/>
          </a:xfrm>
          <a:custGeom>
            <a:avLst/>
            <a:gdLst/>
            <a:ahLst/>
            <a:rect l="l" t="t" r="r" b="b"/>
            <a:pathLst>
              <a:path w="612" h="625">
                <a:moveTo>
                  <a:pt x="7278" y="16970"/>
                </a:moveTo>
                <a:cubicBezTo>
                  <a:pt x="7260" y="16944"/>
                  <a:pt x="7249" y="16928"/>
                  <a:pt x="7217" y="16923"/>
                </a:cubicBezTo>
                <a:cubicBezTo>
                  <a:pt x="7170" y="16916"/>
                  <a:pt x="7135" y="16972"/>
                  <a:pt x="7111" y="17008"/>
                </a:cubicBezTo>
                <a:cubicBezTo>
                  <a:pt x="7068" y="17074"/>
                  <a:pt x="7036" y="17150"/>
                  <a:pt x="7028" y="17229"/>
                </a:cubicBezTo>
                <a:cubicBezTo>
                  <a:pt x="7023" y="17276"/>
                  <a:pt x="7030" y="17348"/>
                  <a:pt x="7088" y="17360"/>
                </a:cubicBezTo>
                <a:cubicBezTo>
                  <a:pt x="7144" y="17371"/>
                  <a:pt x="7200" y="17318"/>
                  <a:pt x="7231" y="17279"/>
                </a:cubicBezTo>
                <a:cubicBezTo>
                  <a:pt x="7307" y="17183"/>
                  <a:pt x="7328" y="17059"/>
                  <a:pt x="7319" y="16940"/>
                </a:cubicBezTo>
                <a:cubicBezTo>
                  <a:pt x="7315" y="16887"/>
                  <a:pt x="7306" y="16774"/>
                  <a:pt x="7259" y="16736"/>
                </a:cubicBezTo>
                <a:cubicBezTo>
                  <a:pt x="7255" y="16736"/>
                  <a:pt x="7251" y="16736"/>
                  <a:pt x="7247" y="16736"/>
                </a:cubicBezTo>
                <a:cubicBezTo>
                  <a:pt x="7228" y="16789"/>
                  <a:pt x="7231" y="16840"/>
                  <a:pt x="7238" y="16896"/>
                </a:cubicBezTo>
                <a:cubicBezTo>
                  <a:pt x="7254" y="17016"/>
                  <a:pt x="7280" y="17143"/>
                  <a:pt x="7348" y="17245"/>
                </a:cubicBezTo>
                <a:cubicBezTo>
                  <a:pt x="7378" y="17291"/>
                  <a:pt x="7404" y="17305"/>
                  <a:pt x="7451" y="17327"/>
                </a:cubicBezTo>
              </a:path>
              <a:path w="612" h="625">
                <a:moveTo>
                  <a:pt x="7584" y="17083"/>
                </a:moveTo>
                <a:cubicBezTo>
                  <a:pt x="7547" y="17080"/>
                  <a:pt x="7504" y="17091"/>
                  <a:pt x="7476" y="17119"/>
                </a:cubicBezTo>
                <a:cubicBezTo>
                  <a:pt x="7440" y="17155"/>
                  <a:pt x="7405" y="17207"/>
                  <a:pt x="7395" y="17257"/>
                </a:cubicBezTo>
                <a:cubicBezTo>
                  <a:pt x="7385" y="17303"/>
                  <a:pt x="7408" y="17330"/>
                  <a:pt x="7454" y="17334"/>
                </a:cubicBezTo>
                <a:cubicBezTo>
                  <a:pt x="7501" y="17338"/>
                  <a:pt x="7547" y="17303"/>
                  <a:pt x="7580" y="17274"/>
                </a:cubicBezTo>
                <a:cubicBezTo>
                  <a:pt x="7611" y="17247"/>
                  <a:pt x="7631" y="17210"/>
                  <a:pt x="7636" y="17170"/>
                </a:cubicBezTo>
                <a:cubicBezTo>
                  <a:pt x="7639" y="17145"/>
                  <a:pt x="7639" y="17131"/>
                  <a:pt x="7629" y="17109"/>
                </a:cubicBezTo>
                <a:cubicBezTo>
                  <a:pt x="7627" y="17104"/>
                  <a:pt x="7624" y="17098"/>
                  <a:pt x="7622" y="1709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2909880" y="6010200"/>
            <a:ext cx="309600" cy="263520"/>
          </a:xfrm>
          <a:custGeom>
            <a:avLst/>
            <a:gdLst/>
            <a:ahLst/>
            <a:rect l="l" t="t" r="r" b="b"/>
            <a:pathLst>
              <a:path w="860" h="731">
                <a:moveTo>
                  <a:pt x="8157" y="17123"/>
                </a:moveTo>
                <a:cubicBezTo>
                  <a:pt x="8140" y="17164"/>
                  <a:pt x="8136" y="17208"/>
                  <a:pt x="8131" y="17252"/>
                </a:cubicBezTo>
                <a:cubicBezTo>
                  <a:pt x="8126" y="17300"/>
                  <a:pt x="8125" y="17351"/>
                  <a:pt x="8124" y="17399"/>
                </a:cubicBezTo>
              </a:path>
              <a:path w="860" h="731">
                <a:moveTo>
                  <a:pt x="8091" y="16948"/>
                </a:moveTo>
                <a:cubicBezTo>
                  <a:pt x="8085" y="16925"/>
                  <a:pt x="8073" y="16900"/>
                  <a:pt x="8099" y="16883"/>
                </a:cubicBezTo>
                <a:cubicBezTo>
                  <a:pt x="8121" y="16876"/>
                  <a:pt x="8129" y="16873"/>
                  <a:pt x="8141" y="16862"/>
                </a:cubicBezTo>
              </a:path>
              <a:path w="860" h="731">
                <a:moveTo>
                  <a:pt x="8387" y="16697"/>
                </a:moveTo>
                <a:cubicBezTo>
                  <a:pt x="8381" y="16766"/>
                  <a:pt x="8379" y="16835"/>
                  <a:pt x="8373" y="16904"/>
                </a:cubicBezTo>
                <a:cubicBezTo>
                  <a:pt x="8363" y="17016"/>
                  <a:pt x="8355" y="17128"/>
                  <a:pt x="8360" y="17241"/>
                </a:cubicBezTo>
                <a:cubicBezTo>
                  <a:pt x="8363" y="17303"/>
                  <a:pt x="8367" y="17365"/>
                  <a:pt x="8372" y="17427"/>
                </a:cubicBezTo>
              </a:path>
              <a:path w="860" h="731">
                <a:moveTo>
                  <a:pt x="8262" y="17071"/>
                </a:moveTo>
                <a:cubicBezTo>
                  <a:pt x="8284" y="17096"/>
                  <a:pt x="8318" y="17098"/>
                  <a:pt x="8351" y="17104"/>
                </a:cubicBezTo>
                <a:cubicBezTo>
                  <a:pt x="8432" y="17119"/>
                  <a:pt x="8513" y="17105"/>
                  <a:pt x="8594" y="17095"/>
                </a:cubicBezTo>
              </a:path>
              <a:path w="860" h="731">
                <a:moveTo>
                  <a:pt x="8941" y="17209"/>
                </a:moveTo>
                <a:cubicBezTo>
                  <a:pt x="8929" y="17229"/>
                  <a:pt x="8916" y="17258"/>
                  <a:pt x="8888" y="17238"/>
                </a:cubicBezTo>
                <a:cubicBezTo>
                  <a:pt x="8879" y="17225"/>
                  <a:pt x="8876" y="17222"/>
                  <a:pt x="8878" y="1721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3614760" y="6062760"/>
            <a:ext cx="1212840" cy="379440"/>
          </a:xfrm>
          <a:custGeom>
            <a:avLst/>
            <a:gdLst/>
            <a:ahLst/>
            <a:rect l="l" t="t" r="r" b="b"/>
            <a:pathLst>
              <a:path w="3370" h="1052">
                <a:moveTo>
                  <a:pt x="10292" y="17163"/>
                </a:moveTo>
                <a:cubicBezTo>
                  <a:pt x="10286" y="17119"/>
                  <a:pt x="10264" y="17076"/>
                  <a:pt x="10214" y="17069"/>
                </a:cubicBezTo>
                <a:cubicBezTo>
                  <a:pt x="10166" y="17062"/>
                  <a:pt x="10119" y="17122"/>
                  <a:pt x="10098" y="17156"/>
                </a:cubicBezTo>
                <a:cubicBezTo>
                  <a:pt x="10060" y="17219"/>
                  <a:pt x="10036" y="17301"/>
                  <a:pt x="10039" y="17375"/>
                </a:cubicBezTo>
                <a:cubicBezTo>
                  <a:pt x="10041" y="17422"/>
                  <a:pt x="10061" y="17486"/>
                  <a:pt x="10119" y="17477"/>
                </a:cubicBezTo>
                <a:cubicBezTo>
                  <a:pt x="10175" y="17469"/>
                  <a:pt x="10218" y="17409"/>
                  <a:pt x="10245" y="17365"/>
                </a:cubicBezTo>
                <a:cubicBezTo>
                  <a:pt x="10267" y="17329"/>
                  <a:pt x="10285" y="17294"/>
                  <a:pt x="10310" y="17261"/>
                </a:cubicBezTo>
                <a:cubicBezTo>
                  <a:pt x="10330" y="17330"/>
                  <a:pt x="10332" y="17399"/>
                  <a:pt x="10332" y="17472"/>
                </a:cubicBezTo>
                <a:cubicBezTo>
                  <a:pt x="10333" y="17574"/>
                  <a:pt x="10329" y="17684"/>
                  <a:pt x="10303" y="17783"/>
                </a:cubicBezTo>
                <a:cubicBezTo>
                  <a:pt x="10277" y="17883"/>
                  <a:pt x="10204" y="17935"/>
                  <a:pt x="10121" y="17852"/>
                </a:cubicBezTo>
                <a:cubicBezTo>
                  <a:pt x="10080" y="17791"/>
                  <a:pt x="10066" y="17771"/>
                  <a:pt x="10067" y="17719"/>
                </a:cubicBezTo>
              </a:path>
              <a:path w="3370" h="1052">
                <a:moveTo>
                  <a:pt x="10541" y="17283"/>
                </a:moveTo>
                <a:cubicBezTo>
                  <a:pt x="10541" y="17251"/>
                  <a:pt x="10526" y="17250"/>
                  <a:pt x="10506" y="17273"/>
                </a:cubicBezTo>
                <a:cubicBezTo>
                  <a:pt x="10472" y="17311"/>
                  <a:pt x="10461" y="17367"/>
                  <a:pt x="10455" y="17416"/>
                </a:cubicBezTo>
                <a:cubicBezTo>
                  <a:pt x="10446" y="17495"/>
                  <a:pt x="10457" y="17580"/>
                  <a:pt x="10552" y="17597"/>
                </a:cubicBezTo>
                <a:cubicBezTo>
                  <a:pt x="10576" y="17594"/>
                  <a:pt x="10600" y="17590"/>
                  <a:pt x="10624" y="17587"/>
                </a:cubicBezTo>
              </a:path>
              <a:path w="3370" h="1052">
                <a:moveTo>
                  <a:pt x="10843" y="17326"/>
                </a:moveTo>
                <a:cubicBezTo>
                  <a:pt x="10837" y="17298"/>
                  <a:pt x="10840" y="17275"/>
                  <a:pt x="10798" y="17285"/>
                </a:cubicBezTo>
                <a:cubicBezTo>
                  <a:pt x="10747" y="17297"/>
                  <a:pt x="10717" y="17405"/>
                  <a:pt x="10714" y="17441"/>
                </a:cubicBezTo>
                <a:cubicBezTo>
                  <a:pt x="10718" y="17501"/>
                  <a:pt x="10715" y="17519"/>
                  <a:pt x="10750" y="17543"/>
                </a:cubicBezTo>
                <a:cubicBezTo>
                  <a:pt x="10794" y="17541"/>
                  <a:pt x="10816" y="17527"/>
                  <a:pt x="10845" y="17491"/>
                </a:cubicBezTo>
                <a:cubicBezTo>
                  <a:pt x="10891" y="17434"/>
                  <a:pt x="10914" y="17363"/>
                  <a:pt x="10923" y="17291"/>
                </a:cubicBezTo>
                <a:cubicBezTo>
                  <a:pt x="10932" y="17216"/>
                  <a:pt x="10927" y="17138"/>
                  <a:pt x="10920" y="17063"/>
                </a:cubicBezTo>
                <a:cubicBezTo>
                  <a:pt x="10914" y="16997"/>
                  <a:pt x="10907" y="16929"/>
                  <a:pt x="10892" y="16865"/>
                </a:cubicBezTo>
                <a:cubicBezTo>
                  <a:pt x="10890" y="16857"/>
                  <a:pt x="10887" y="16850"/>
                  <a:pt x="10885" y="16842"/>
                </a:cubicBezTo>
                <a:cubicBezTo>
                  <a:pt x="10881" y="16896"/>
                  <a:pt x="10883" y="16949"/>
                  <a:pt x="10890" y="17006"/>
                </a:cubicBezTo>
                <a:cubicBezTo>
                  <a:pt x="10906" y="17137"/>
                  <a:pt x="10931" y="17273"/>
                  <a:pt x="10967" y="17400"/>
                </a:cubicBezTo>
                <a:cubicBezTo>
                  <a:pt x="10984" y="17451"/>
                  <a:pt x="10989" y="17466"/>
                  <a:pt x="11001" y="17498"/>
                </a:cubicBezTo>
              </a:path>
              <a:path w="3370" h="1052">
                <a:moveTo>
                  <a:pt x="11197" y="17018"/>
                </a:moveTo>
                <a:cubicBezTo>
                  <a:pt x="11201" y="16987"/>
                  <a:pt x="11209" y="16965"/>
                  <a:pt x="11189" y="16940"/>
                </a:cubicBezTo>
                <a:cubicBezTo>
                  <a:pt x="11169" y="16983"/>
                  <a:pt x="11151" y="17025"/>
                  <a:pt x="11137" y="17072"/>
                </a:cubicBezTo>
                <a:cubicBezTo>
                  <a:pt x="11112" y="17156"/>
                  <a:pt x="11100" y="17240"/>
                  <a:pt x="11104" y="17328"/>
                </a:cubicBezTo>
                <a:cubicBezTo>
                  <a:pt x="11107" y="17391"/>
                  <a:pt x="11128" y="17458"/>
                  <a:pt x="11193" y="17483"/>
                </a:cubicBezTo>
                <a:cubicBezTo>
                  <a:pt x="11206" y="17485"/>
                  <a:pt x="11218" y="17488"/>
                  <a:pt x="11231" y="17490"/>
                </a:cubicBezTo>
              </a:path>
              <a:path w="3370" h="1052">
                <a:moveTo>
                  <a:pt x="11446" y="17210"/>
                </a:moveTo>
                <a:cubicBezTo>
                  <a:pt x="11412" y="17209"/>
                  <a:pt x="11371" y="17223"/>
                  <a:pt x="11346" y="17247"/>
                </a:cubicBezTo>
                <a:cubicBezTo>
                  <a:pt x="11316" y="17276"/>
                  <a:pt x="11288" y="17325"/>
                  <a:pt x="11283" y="17367"/>
                </a:cubicBezTo>
                <a:cubicBezTo>
                  <a:pt x="11284" y="17373"/>
                  <a:pt x="11284" y="17379"/>
                  <a:pt x="11285" y="17385"/>
                </a:cubicBezTo>
                <a:cubicBezTo>
                  <a:pt x="11315" y="17402"/>
                  <a:pt x="11340" y="17386"/>
                  <a:pt x="11371" y="17370"/>
                </a:cubicBezTo>
                <a:cubicBezTo>
                  <a:pt x="11405" y="17353"/>
                  <a:pt x="11438" y="17309"/>
                  <a:pt x="11476" y="17304"/>
                </a:cubicBezTo>
                <a:cubicBezTo>
                  <a:pt x="11521" y="17298"/>
                  <a:pt x="11537" y="17395"/>
                  <a:pt x="11542" y="17413"/>
                </a:cubicBezTo>
                <a:cubicBezTo>
                  <a:pt x="11551" y="17465"/>
                  <a:pt x="11557" y="17490"/>
                  <a:pt x="11576" y="17525"/>
                </a:cubicBezTo>
              </a:path>
              <a:path w="3370" h="1052">
                <a:moveTo>
                  <a:pt x="11704" y="17410"/>
                </a:moveTo>
                <a:cubicBezTo>
                  <a:pt x="11721" y="17466"/>
                  <a:pt x="11728" y="17535"/>
                  <a:pt x="11710" y="17594"/>
                </a:cubicBezTo>
                <a:cubicBezTo>
                  <a:pt x="11701" y="17601"/>
                  <a:pt x="11698" y="17605"/>
                  <a:pt x="11698" y="17592"/>
                </a:cubicBezTo>
              </a:path>
              <a:path w="3370" h="1052">
                <a:moveTo>
                  <a:pt x="11789" y="17082"/>
                </a:moveTo>
                <a:cubicBezTo>
                  <a:pt x="11791" y="17132"/>
                  <a:pt x="11786" y="17181"/>
                  <a:pt x="11786" y="17231"/>
                </a:cubicBezTo>
                <a:cubicBezTo>
                  <a:pt x="11786" y="17292"/>
                  <a:pt x="11770" y="17419"/>
                  <a:pt x="11818" y="17468"/>
                </a:cubicBezTo>
                <a:cubicBezTo>
                  <a:pt x="11824" y="17470"/>
                  <a:pt x="11829" y="17472"/>
                  <a:pt x="11835" y="17474"/>
                </a:cubicBezTo>
                <a:cubicBezTo>
                  <a:pt x="11877" y="17448"/>
                  <a:pt x="11905" y="17413"/>
                  <a:pt x="11936" y="17374"/>
                </a:cubicBezTo>
                <a:cubicBezTo>
                  <a:pt x="11962" y="17341"/>
                  <a:pt x="11980" y="17314"/>
                  <a:pt x="12019" y="17301"/>
                </a:cubicBezTo>
                <a:cubicBezTo>
                  <a:pt x="12037" y="17323"/>
                  <a:pt x="12033" y="17347"/>
                  <a:pt x="12022" y="17375"/>
                </a:cubicBezTo>
                <a:cubicBezTo>
                  <a:pt x="12006" y="17417"/>
                  <a:pt x="11983" y="17444"/>
                  <a:pt x="11942" y="17459"/>
                </a:cubicBezTo>
                <a:cubicBezTo>
                  <a:pt x="11902" y="17474"/>
                  <a:pt x="11887" y="17460"/>
                  <a:pt x="11865" y="17430"/>
                </a:cubicBezTo>
              </a:path>
              <a:path w="3370" h="1052">
                <a:moveTo>
                  <a:pt x="12275" y="16910"/>
                </a:moveTo>
                <a:cubicBezTo>
                  <a:pt x="12245" y="16906"/>
                  <a:pt x="12258" y="16944"/>
                  <a:pt x="12262" y="16971"/>
                </a:cubicBezTo>
                <a:cubicBezTo>
                  <a:pt x="12274" y="17045"/>
                  <a:pt x="12287" y="17119"/>
                  <a:pt x="12297" y="17194"/>
                </a:cubicBezTo>
                <a:cubicBezTo>
                  <a:pt x="12309" y="17277"/>
                  <a:pt x="12320" y="17360"/>
                  <a:pt x="12316" y="17444"/>
                </a:cubicBezTo>
                <a:cubicBezTo>
                  <a:pt x="12313" y="17494"/>
                  <a:pt x="12305" y="17553"/>
                  <a:pt x="12275" y="17482"/>
                </a:cubicBezTo>
              </a:path>
              <a:path w="3370" h="1052">
                <a:moveTo>
                  <a:pt x="12554" y="17196"/>
                </a:moveTo>
                <a:cubicBezTo>
                  <a:pt x="12542" y="17215"/>
                  <a:pt x="12617" y="17194"/>
                  <a:pt x="12640" y="17192"/>
                </a:cubicBezTo>
                <a:cubicBezTo>
                  <a:pt x="12703" y="17186"/>
                  <a:pt x="12760" y="17176"/>
                  <a:pt x="12821" y="17159"/>
                </a:cubicBezTo>
                <a:cubicBezTo>
                  <a:pt x="12831" y="17156"/>
                  <a:pt x="12840" y="17154"/>
                  <a:pt x="12850" y="17151"/>
                </a:cubicBezTo>
              </a:path>
              <a:path w="3370" h="1052">
                <a:moveTo>
                  <a:pt x="12659" y="17241"/>
                </a:moveTo>
                <a:cubicBezTo>
                  <a:pt x="12657" y="17267"/>
                  <a:pt x="12664" y="17286"/>
                  <a:pt x="12694" y="17295"/>
                </a:cubicBezTo>
                <a:cubicBezTo>
                  <a:pt x="12732" y="17306"/>
                  <a:pt x="12787" y="17297"/>
                  <a:pt x="12826" y="17297"/>
                </a:cubicBezTo>
                <a:cubicBezTo>
                  <a:pt x="12859" y="17296"/>
                  <a:pt x="12870" y="17296"/>
                  <a:pt x="12892" y="17294"/>
                </a:cubicBezTo>
              </a:path>
              <a:path w="3370" h="1052">
                <a:moveTo>
                  <a:pt x="13277" y="17080"/>
                </a:moveTo>
                <a:cubicBezTo>
                  <a:pt x="13271" y="17062"/>
                  <a:pt x="13257" y="17048"/>
                  <a:pt x="13233" y="17056"/>
                </a:cubicBezTo>
                <a:cubicBezTo>
                  <a:pt x="13203" y="17066"/>
                  <a:pt x="13173" y="17118"/>
                  <a:pt x="13159" y="17144"/>
                </a:cubicBezTo>
                <a:cubicBezTo>
                  <a:pt x="13136" y="17186"/>
                  <a:pt x="13089" y="17304"/>
                  <a:pt x="13145" y="17340"/>
                </a:cubicBezTo>
                <a:cubicBezTo>
                  <a:pt x="13178" y="17361"/>
                  <a:pt x="13231" y="17334"/>
                  <a:pt x="13259" y="17317"/>
                </a:cubicBezTo>
                <a:cubicBezTo>
                  <a:pt x="13295" y="17295"/>
                  <a:pt x="13324" y="17261"/>
                  <a:pt x="13359" y="17239"/>
                </a:cubicBezTo>
                <a:cubicBezTo>
                  <a:pt x="13363" y="17238"/>
                  <a:pt x="13368" y="17236"/>
                  <a:pt x="13372" y="17235"/>
                </a:cubicBezTo>
                <a:cubicBezTo>
                  <a:pt x="13398" y="17255"/>
                  <a:pt x="13400" y="17279"/>
                  <a:pt x="13401" y="17312"/>
                </a:cubicBezTo>
                <a:cubicBezTo>
                  <a:pt x="13402" y="17391"/>
                  <a:pt x="13378" y="17468"/>
                  <a:pt x="13312" y="17515"/>
                </a:cubicBezTo>
                <a:cubicBezTo>
                  <a:pt x="13264" y="17549"/>
                  <a:pt x="13210" y="17526"/>
                  <a:pt x="13163" y="17506"/>
                </a:cubicBezTo>
              </a:path>
              <a:path w="3370" h="1052">
                <a:moveTo>
                  <a:pt x="13371" y="17094"/>
                </a:moveTo>
                <a:cubicBezTo>
                  <a:pt x="13361" y="17082"/>
                  <a:pt x="13359" y="17078"/>
                  <a:pt x="13349" y="17077"/>
                </a:cubicBezTo>
                <a:cubicBezTo>
                  <a:pt x="13354" y="17103"/>
                  <a:pt x="13364" y="17127"/>
                  <a:pt x="13373" y="17152"/>
                </a:cubicBezTo>
                <a:cubicBezTo>
                  <a:pt x="13386" y="17188"/>
                  <a:pt x="13406" y="17230"/>
                  <a:pt x="13408" y="17269"/>
                </a:cubicBezTo>
                <a:cubicBezTo>
                  <a:pt x="13405" y="17287"/>
                  <a:pt x="13404" y="17293"/>
                  <a:pt x="13404" y="1730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831960" y="2138400"/>
            <a:ext cx="1038240" cy="323640"/>
          </a:xfrm>
          <a:custGeom>
            <a:avLst/>
            <a:gdLst/>
            <a:ahLst/>
            <a:rect l="l" t="t" r="r" b="b"/>
            <a:pathLst>
              <a:path w="2881" h="897">
                <a:moveTo>
                  <a:pt x="2535" y="6210"/>
                </a:moveTo>
                <a:cubicBezTo>
                  <a:pt x="2530" y="6183"/>
                  <a:pt x="2527" y="6163"/>
                  <a:pt x="2499" y="6152"/>
                </a:cubicBezTo>
                <a:cubicBezTo>
                  <a:pt x="2461" y="6137"/>
                  <a:pt x="2424" y="6197"/>
                  <a:pt x="2408" y="6221"/>
                </a:cubicBezTo>
                <a:cubicBezTo>
                  <a:pt x="2358" y="6297"/>
                  <a:pt x="2308" y="6445"/>
                  <a:pt x="2358" y="6533"/>
                </a:cubicBezTo>
                <a:cubicBezTo>
                  <a:pt x="2382" y="6575"/>
                  <a:pt x="2432" y="6546"/>
                  <a:pt x="2458" y="6523"/>
                </a:cubicBezTo>
                <a:cubicBezTo>
                  <a:pt x="2516" y="6471"/>
                  <a:pt x="2551" y="6391"/>
                  <a:pt x="2581" y="6321"/>
                </a:cubicBezTo>
                <a:cubicBezTo>
                  <a:pt x="2591" y="6295"/>
                  <a:pt x="2594" y="6290"/>
                  <a:pt x="2600" y="6274"/>
                </a:cubicBezTo>
                <a:cubicBezTo>
                  <a:pt x="2605" y="6323"/>
                  <a:pt x="2604" y="6372"/>
                  <a:pt x="2603" y="6423"/>
                </a:cubicBezTo>
                <a:cubicBezTo>
                  <a:pt x="2602" y="6515"/>
                  <a:pt x="2605" y="6606"/>
                  <a:pt x="2601" y="6698"/>
                </a:cubicBezTo>
                <a:cubicBezTo>
                  <a:pt x="2599" y="6747"/>
                  <a:pt x="2599" y="6790"/>
                  <a:pt x="2575" y="6832"/>
                </a:cubicBezTo>
                <a:cubicBezTo>
                  <a:pt x="2539" y="6837"/>
                  <a:pt x="2506" y="6829"/>
                  <a:pt x="2470" y="6817"/>
                </a:cubicBezTo>
                <a:cubicBezTo>
                  <a:pt x="2426" y="6802"/>
                  <a:pt x="2379" y="6789"/>
                  <a:pt x="2346" y="6755"/>
                </a:cubicBezTo>
                <a:cubicBezTo>
                  <a:pt x="2323" y="6732"/>
                  <a:pt x="2319" y="6709"/>
                  <a:pt x="2312" y="6679"/>
                </a:cubicBezTo>
              </a:path>
              <a:path w="2881" h="897">
                <a:moveTo>
                  <a:pt x="2943" y="6288"/>
                </a:moveTo>
                <a:cubicBezTo>
                  <a:pt x="2954" y="6257"/>
                  <a:pt x="2956" y="6252"/>
                  <a:pt x="2950" y="6220"/>
                </a:cubicBezTo>
                <a:cubicBezTo>
                  <a:pt x="2907" y="6213"/>
                  <a:pt x="2892" y="6237"/>
                  <a:pt x="2862" y="6272"/>
                </a:cubicBezTo>
                <a:cubicBezTo>
                  <a:pt x="2827" y="6312"/>
                  <a:pt x="2792" y="6364"/>
                  <a:pt x="2781" y="6417"/>
                </a:cubicBezTo>
                <a:cubicBezTo>
                  <a:pt x="2771" y="6466"/>
                  <a:pt x="2801" y="6488"/>
                  <a:pt x="2846" y="6491"/>
                </a:cubicBezTo>
                <a:cubicBezTo>
                  <a:pt x="2895" y="6495"/>
                  <a:pt x="2943" y="6483"/>
                  <a:pt x="2991" y="6474"/>
                </a:cubicBezTo>
              </a:path>
              <a:path w="2881" h="897">
                <a:moveTo>
                  <a:pt x="3337" y="6223"/>
                </a:moveTo>
                <a:cubicBezTo>
                  <a:pt x="3339" y="6206"/>
                  <a:pt x="3340" y="6191"/>
                  <a:pt x="3340" y="6174"/>
                </a:cubicBezTo>
                <a:cubicBezTo>
                  <a:pt x="3305" y="6186"/>
                  <a:pt x="3296" y="6216"/>
                  <a:pt x="3277" y="6249"/>
                </a:cubicBezTo>
                <a:cubicBezTo>
                  <a:pt x="3249" y="6299"/>
                  <a:pt x="3222" y="6353"/>
                  <a:pt x="3209" y="6409"/>
                </a:cubicBezTo>
                <a:cubicBezTo>
                  <a:pt x="3202" y="6439"/>
                  <a:pt x="3203" y="6450"/>
                  <a:pt x="3219" y="6472"/>
                </a:cubicBezTo>
                <a:cubicBezTo>
                  <a:pt x="3259" y="6458"/>
                  <a:pt x="3283" y="6431"/>
                  <a:pt x="3307" y="6395"/>
                </a:cubicBezTo>
                <a:cubicBezTo>
                  <a:pt x="3342" y="6341"/>
                  <a:pt x="3363" y="6275"/>
                  <a:pt x="3376" y="6212"/>
                </a:cubicBezTo>
                <a:cubicBezTo>
                  <a:pt x="3390" y="6143"/>
                  <a:pt x="3385" y="6076"/>
                  <a:pt x="3381" y="6007"/>
                </a:cubicBezTo>
                <a:cubicBezTo>
                  <a:pt x="3381" y="6000"/>
                  <a:pt x="3381" y="5994"/>
                  <a:pt x="3381" y="5987"/>
                </a:cubicBezTo>
                <a:cubicBezTo>
                  <a:pt x="3384" y="6043"/>
                  <a:pt x="3395" y="6098"/>
                  <a:pt x="3409" y="6153"/>
                </a:cubicBezTo>
                <a:cubicBezTo>
                  <a:pt x="3432" y="6244"/>
                  <a:pt x="3462" y="6333"/>
                  <a:pt x="3496" y="6420"/>
                </a:cubicBezTo>
                <a:cubicBezTo>
                  <a:pt x="3512" y="6461"/>
                  <a:pt x="3530" y="6501"/>
                  <a:pt x="3548" y="6541"/>
                </a:cubicBezTo>
              </a:path>
              <a:path w="2881" h="897">
                <a:moveTo>
                  <a:pt x="3863" y="5987"/>
                </a:moveTo>
                <a:cubicBezTo>
                  <a:pt x="3865" y="5970"/>
                  <a:pt x="3868" y="5957"/>
                  <a:pt x="3867" y="5941"/>
                </a:cubicBezTo>
                <a:cubicBezTo>
                  <a:pt x="3855" y="5978"/>
                  <a:pt x="3830" y="6014"/>
                  <a:pt x="3815" y="6052"/>
                </a:cubicBezTo>
                <a:cubicBezTo>
                  <a:pt x="3785" y="6129"/>
                  <a:pt x="3763" y="6212"/>
                  <a:pt x="3758" y="6295"/>
                </a:cubicBezTo>
                <a:cubicBezTo>
                  <a:pt x="3754" y="6360"/>
                  <a:pt x="3768" y="6435"/>
                  <a:pt x="3824" y="6475"/>
                </a:cubicBezTo>
                <a:cubicBezTo>
                  <a:pt x="3859" y="6491"/>
                  <a:pt x="3870" y="6496"/>
                  <a:pt x="3897" y="6492"/>
                </a:cubicBezTo>
              </a:path>
              <a:path w="2881" h="897">
                <a:moveTo>
                  <a:pt x="4127" y="6235"/>
                </a:moveTo>
                <a:cubicBezTo>
                  <a:pt x="4112" y="6219"/>
                  <a:pt x="4091" y="6214"/>
                  <a:pt x="4071" y="6234"/>
                </a:cubicBezTo>
                <a:cubicBezTo>
                  <a:pt x="4043" y="6263"/>
                  <a:pt x="4021" y="6309"/>
                  <a:pt x="4010" y="6348"/>
                </a:cubicBezTo>
                <a:cubicBezTo>
                  <a:pt x="4004" y="6370"/>
                  <a:pt x="3989" y="6430"/>
                  <a:pt x="4026" y="6437"/>
                </a:cubicBezTo>
                <a:cubicBezTo>
                  <a:pt x="4064" y="6445"/>
                  <a:pt x="4107" y="6400"/>
                  <a:pt x="4132" y="6379"/>
                </a:cubicBezTo>
                <a:cubicBezTo>
                  <a:pt x="4163" y="6352"/>
                  <a:pt x="4190" y="6323"/>
                  <a:pt x="4217" y="6293"/>
                </a:cubicBezTo>
                <a:cubicBezTo>
                  <a:pt x="4238" y="6320"/>
                  <a:pt x="4225" y="6344"/>
                  <a:pt x="4227" y="6379"/>
                </a:cubicBezTo>
                <a:cubicBezTo>
                  <a:pt x="4229" y="6415"/>
                  <a:pt x="4226" y="6467"/>
                  <a:pt x="4250" y="6497"/>
                </a:cubicBezTo>
                <a:cubicBezTo>
                  <a:pt x="4254" y="6499"/>
                  <a:pt x="4257" y="6502"/>
                  <a:pt x="4261" y="6504"/>
                </a:cubicBezTo>
              </a:path>
              <a:path w="2881" h="897">
                <a:moveTo>
                  <a:pt x="4438" y="6411"/>
                </a:moveTo>
                <a:cubicBezTo>
                  <a:pt x="4449" y="6431"/>
                  <a:pt x="4461" y="6451"/>
                  <a:pt x="4469" y="6473"/>
                </a:cubicBezTo>
                <a:cubicBezTo>
                  <a:pt x="4479" y="6501"/>
                  <a:pt x="4485" y="6528"/>
                  <a:pt x="4478" y="6558"/>
                </a:cubicBezTo>
                <a:cubicBezTo>
                  <a:pt x="4474" y="6576"/>
                  <a:pt x="4460" y="6612"/>
                  <a:pt x="4443" y="6620"/>
                </a:cubicBezTo>
                <a:cubicBezTo>
                  <a:pt x="4429" y="6627"/>
                  <a:pt x="4419" y="6615"/>
                  <a:pt x="4410" y="6607"/>
                </a:cubicBezTo>
              </a:path>
              <a:path w="2881" h="897">
                <a:moveTo>
                  <a:pt x="4640" y="6080"/>
                </a:moveTo>
                <a:cubicBezTo>
                  <a:pt x="4662" y="6054"/>
                  <a:pt x="4657" y="6121"/>
                  <a:pt x="4658" y="6142"/>
                </a:cubicBezTo>
                <a:cubicBezTo>
                  <a:pt x="4661" y="6199"/>
                  <a:pt x="4661" y="6255"/>
                  <a:pt x="4664" y="6312"/>
                </a:cubicBezTo>
                <a:cubicBezTo>
                  <a:pt x="4666" y="6341"/>
                  <a:pt x="4664" y="6355"/>
                  <a:pt x="4680" y="6375"/>
                </a:cubicBezTo>
                <a:cubicBezTo>
                  <a:pt x="4701" y="6353"/>
                  <a:pt x="4719" y="6326"/>
                  <a:pt x="4743" y="6306"/>
                </a:cubicBezTo>
                <a:cubicBezTo>
                  <a:pt x="4768" y="6285"/>
                  <a:pt x="4799" y="6269"/>
                  <a:pt x="4833" y="6277"/>
                </a:cubicBezTo>
                <a:cubicBezTo>
                  <a:pt x="4864" y="6284"/>
                  <a:pt x="4876" y="6314"/>
                  <a:pt x="4874" y="6343"/>
                </a:cubicBezTo>
                <a:cubicBezTo>
                  <a:pt x="4872" y="6374"/>
                  <a:pt x="4843" y="6404"/>
                  <a:pt x="4814" y="6413"/>
                </a:cubicBezTo>
                <a:cubicBezTo>
                  <a:pt x="4789" y="6421"/>
                  <a:pt x="4754" y="6410"/>
                  <a:pt x="4747" y="6383"/>
                </a:cubicBezTo>
                <a:cubicBezTo>
                  <a:pt x="4747" y="6376"/>
                  <a:pt x="4746" y="6369"/>
                  <a:pt x="4746" y="6362"/>
                </a:cubicBezTo>
              </a:path>
              <a:path w="2881" h="897">
                <a:moveTo>
                  <a:pt x="5089" y="5967"/>
                </a:moveTo>
                <a:cubicBezTo>
                  <a:pt x="5131" y="5982"/>
                  <a:pt x="5135" y="6000"/>
                  <a:pt x="5148" y="6042"/>
                </a:cubicBezTo>
                <a:cubicBezTo>
                  <a:pt x="5175" y="6129"/>
                  <a:pt x="5186" y="6217"/>
                  <a:pt x="5189" y="6308"/>
                </a:cubicBezTo>
                <a:cubicBezTo>
                  <a:pt x="5191" y="6351"/>
                  <a:pt x="5192" y="6395"/>
                  <a:pt x="5192" y="643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2436840" y="2130480"/>
            <a:ext cx="1082520" cy="284040"/>
          </a:xfrm>
          <a:custGeom>
            <a:avLst/>
            <a:gdLst/>
            <a:ahLst/>
            <a:rect l="l" t="t" r="r" b="b"/>
            <a:pathLst>
              <a:path w="3007" h="791">
                <a:moveTo>
                  <a:pt x="6784" y="5925"/>
                </a:moveTo>
                <a:cubicBezTo>
                  <a:pt x="6780" y="5968"/>
                  <a:pt x="6780" y="6004"/>
                  <a:pt x="6782" y="6048"/>
                </a:cubicBezTo>
                <a:cubicBezTo>
                  <a:pt x="6787" y="6138"/>
                  <a:pt x="6790" y="6227"/>
                  <a:pt x="6790" y="6317"/>
                </a:cubicBezTo>
                <a:cubicBezTo>
                  <a:pt x="6790" y="6379"/>
                  <a:pt x="6789" y="6447"/>
                  <a:pt x="6776" y="6509"/>
                </a:cubicBezTo>
                <a:cubicBezTo>
                  <a:pt x="6774" y="6514"/>
                  <a:pt x="6772" y="6519"/>
                  <a:pt x="6770" y="6524"/>
                </a:cubicBezTo>
              </a:path>
              <a:path w="3007" h="791">
                <a:moveTo>
                  <a:pt x="7119" y="6136"/>
                </a:moveTo>
                <a:cubicBezTo>
                  <a:pt x="7102" y="6107"/>
                  <a:pt x="7080" y="6126"/>
                  <a:pt x="7056" y="6151"/>
                </a:cubicBezTo>
                <a:cubicBezTo>
                  <a:pt x="7017" y="6192"/>
                  <a:pt x="6987" y="6238"/>
                  <a:pt x="6966" y="6290"/>
                </a:cubicBezTo>
                <a:cubicBezTo>
                  <a:pt x="6949" y="6332"/>
                  <a:pt x="6926" y="6397"/>
                  <a:pt x="6948" y="6443"/>
                </a:cubicBezTo>
                <a:cubicBezTo>
                  <a:pt x="6971" y="6489"/>
                  <a:pt x="7032" y="6488"/>
                  <a:pt x="7075" y="6487"/>
                </a:cubicBezTo>
                <a:cubicBezTo>
                  <a:pt x="7120" y="6485"/>
                  <a:pt x="7159" y="6472"/>
                  <a:pt x="7202" y="6460"/>
                </a:cubicBezTo>
              </a:path>
              <a:path w="3007" h="791">
                <a:moveTo>
                  <a:pt x="7373" y="6237"/>
                </a:moveTo>
                <a:cubicBezTo>
                  <a:pt x="7370" y="6262"/>
                  <a:pt x="7367" y="6292"/>
                  <a:pt x="7366" y="6320"/>
                </a:cubicBezTo>
                <a:cubicBezTo>
                  <a:pt x="7365" y="6352"/>
                  <a:pt x="7363" y="6385"/>
                  <a:pt x="7362" y="6417"/>
                </a:cubicBezTo>
                <a:cubicBezTo>
                  <a:pt x="7391" y="6394"/>
                  <a:pt x="7404" y="6355"/>
                  <a:pt x="7424" y="6322"/>
                </a:cubicBezTo>
                <a:cubicBezTo>
                  <a:pt x="7456" y="6270"/>
                  <a:pt x="7497" y="6201"/>
                  <a:pt x="7556" y="6176"/>
                </a:cubicBezTo>
                <a:cubicBezTo>
                  <a:pt x="7594" y="6160"/>
                  <a:pt x="7608" y="6198"/>
                  <a:pt x="7614" y="6228"/>
                </a:cubicBezTo>
                <a:cubicBezTo>
                  <a:pt x="7622" y="6266"/>
                  <a:pt x="7620" y="6304"/>
                  <a:pt x="7623" y="6343"/>
                </a:cubicBezTo>
                <a:cubicBezTo>
                  <a:pt x="7624" y="6348"/>
                  <a:pt x="7624" y="6352"/>
                  <a:pt x="7625" y="6357"/>
                </a:cubicBezTo>
                <a:cubicBezTo>
                  <a:pt x="7649" y="6334"/>
                  <a:pt x="7659" y="6303"/>
                  <a:pt x="7677" y="6274"/>
                </a:cubicBezTo>
                <a:cubicBezTo>
                  <a:pt x="7695" y="6246"/>
                  <a:pt x="7723" y="6205"/>
                  <a:pt x="7761" y="6203"/>
                </a:cubicBezTo>
                <a:cubicBezTo>
                  <a:pt x="7798" y="6201"/>
                  <a:pt x="7817" y="6259"/>
                  <a:pt x="7828" y="6284"/>
                </a:cubicBezTo>
                <a:cubicBezTo>
                  <a:pt x="7847" y="6327"/>
                  <a:pt x="7855" y="6378"/>
                  <a:pt x="7879" y="6418"/>
                </a:cubicBezTo>
                <a:cubicBezTo>
                  <a:pt x="7893" y="6435"/>
                  <a:pt x="7896" y="6440"/>
                  <a:pt x="7909" y="6446"/>
                </a:cubicBezTo>
              </a:path>
              <a:path w="3007" h="791">
                <a:moveTo>
                  <a:pt x="8165" y="5930"/>
                </a:moveTo>
                <a:cubicBezTo>
                  <a:pt x="8138" y="5925"/>
                  <a:pt x="8119" y="5991"/>
                  <a:pt x="8107" y="6029"/>
                </a:cubicBezTo>
                <a:cubicBezTo>
                  <a:pt x="8078" y="6116"/>
                  <a:pt x="8057" y="6209"/>
                  <a:pt x="8061" y="6302"/>
                </a:cubicBezTo>
                <a:cubicBezTo>
                  <a:pt x="8064" y="6373"/>
                  <a:pt x="8081" y="6447"/>
                  <a:pt x="8137" y="6495"/>
                </a:cubicBezTo>
                <a:cubicBezTo>
                  <a:pt x="8169" y="6522"/>
                  <a:pt x="8191" y="6515"/>
                  <a:pt x="8228" y="6510"/>
                </a:cubicBezTo>
              </a:path>
              <a:path w="3007" h="791">
                <a:moveTo>
                  <a:pt x="8642" y="6304"/>
                </a:moveTo>
                <a:cubicBezTo>
                  <a:pt x="8652" y="6281"/>
                  <a:pt x="8662" y="6264"/>
                  <a:pt x="8642" y="6243"/>
                </a:cubicBezTo>
                <a:cubicBezTo>
                  <a:pt x="8611" y="6211"/>
                  <a:pt x="8585" y="6224"/>
                  <a:pt x="8554" y="6248"/>
                </a:cubicBezTo>
                <a:cubicBezTo>
                  <a:pt x="8510" y="6283"/>
                  <a:pt x="8480" y="6331"/>
                  <a:pt x="8463" y="6384"/>
                </a:cubicBezTo>
                <a:cubicBezTo>
                  <a:pt x="8454" y="6412"/>
                  <a:pt x="8437" y="6481"/>
                  <a:pt x="8472" y="6501"/>
                </a:cubicBezTo>
                <a:cubicBezTo>
                  <a:pt x="8506" y="6520"/>
                  <a:pt x="8551" y="6477"/>
                  <a:pt x="8572" y="6458"/>
                </a:cubicBezTo>
                <a:cubicBezTo>
                  <a:pt x="8602" y="6432"/>
                  <a:pt x="8627" y="6390"/>
                  <a:pt x="8663" y="6372"/>
                </a:cubicBezTo>
                <a:cubicBezTo>
                  <a:pt x="8668" y="6371"/>
                  <a:pt x="8674" y="6370"/>
                  <a:pt x="8679" y="6369"/>
                </a:cubicBezTo>
                <a:cubicBezTo>
                  <a:pt x="8707" y="6397"/>
                  <a:pt x="8707" y="6423"/>
                  <a:pt x="8716" y="6462"/>
                </a:cubicBezTo>
                <a:cubicBezTo>
                  <a:pt x="8725" y="6499"/>
                  <a:pt x="8736" y="6535"/>
                  <a:pt x="8748" y="6571"/>
                </a:cubicBezTo>
              </a:path>
              <a:path w="3007" h="791">
                <a:moveTo>
                  <a:pt x="8922" y="6492"/>
                </a:moveTo>
                <a:cubicBezTo>
                  <a:pt x="8928" y="6524"/>
                  <a:pt x="8926" y="6557"/>
                  <a:pt x="8919" y="6590"/>
                </a:cubicBezTo>
                <a:cubicBezTo>
                  <a:pt x="8912" y="6620"/>
                  <a:pt x="8909" y="6670"/>
                  <a:pt x="8893" y="6697"/>
                </a:cubicBezTo>
                <a:cubicBezTo>
                  <a:pt x="8882" y="6707"/>
                  <a:pt x="8878" y="6712"/>
                  <a:pt x="8880" y="6696"/>
                </a:cubicBezTo>
              </a:path>
              <a:path w="3007" h="791">
                <a:moveTo>
                  <a:pt x="9204" y="5995"/>
                </a:moveTo>
                <a:cubicBezTo>
                  <a:pt x="9203" y="6032"/>
                  <a:pt x="9197" y="6071"/>
                  <a:pt x="9195" y="6108"/>
                </a:cubicBezTo>
                <a:cubicBezTo>
                  <a:pt x="9190" y="6201"/>
                  <a:pt x="9180" y="6307"/>
                  <a:pt x="9195" y="6399"/>
                </a:cubicBezTo>
                <a:cubicBezTo>
                  <a:pt x="9197" y="6404"/>
                  <a:pt x="9198" y="6409"/>
                  <a:pt x="9200" y="6414"/>
                </a:cubicBezTo>
                <a:cubicBezTo>
                  <a:pt x="9224" y="6381"/>
                  <a:pt x="9239" y="6343"/>
                  <a:pt x="9264" y="6311"/>
                </a:cubicBezTo>
                <a:cubicBezTo>
                  <a:pt x="9299" y="6266"/>
                  <a:pt x="9361" y="6209"/>
                  <a:pt x="9424" y="6227"/>
                </a:cubicBezTo>
                <a:cubicBezTo>
                  <a:pt x="9472" y="6241"/>
                  <a:pt x="9492" y="6296"/>
                  <a:pt x="9488" y="6341"/>
                </a:cubicBezTo>
                <a:cubicBezTo>
                  <a:pt x="9483" y="6397"/>
                  <a:pt x="9444" y="6441"/>
                  <a:pt x="9397" y="6467"/>
                </a:cubicBezTo>
                <a:cubicBezTo>
                  <a:pt x="9364" y="6485"/>
                  <a:pt x="9305" y="6499"/>
                  <a:pt x="9275" y="6469"/>
                </a:cubicBezTo>
                <a:cubicBezTo>
                  <a:pt x="9250" y="6445"/>
                  <a:pt x="9256" y="6413"/>
                  <a:pt x="9256" y="6383"/>
                </a:cubicBezTo>
              </a:path>
              <a:path w="3007" h="791">
                <a:moveTo>
                  <a:pt x="9607" y="5977"/>
                </a:moveTo>
                <a:cubicBezTo>
                  <a:pt x="9659" y="6023"/>
                  <a:pt x="9671" y="6066"/>
                  <a:pt x="9693" y="6131"/>
                </a:cubicBezTo>
                <a:cubicBezTo>
                  <a:pt x="9725" y="6224"/>
                  <a:pt x="9750" y="6319"/>
                  <a:pt x="9763" y="6417"/>
                </a:cubicBezTo>
                <a:cubicBezTo>
                  <a:pt x="9772" y="6484"/>
                  <a:pt x="9784" y="6556"/>
                  <a:pt x="9767" y="6622"/>
                </a:cubicBezTo>
                <a:cubicBezTo>
                  <a:pt x="9764" y="6630"/>
                  <a:pt x="9760" y="6637"/>
                  <a:pt x="9757" y="664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615960" y="2570040"/>
            <a:ext cx="120600" cy="273240"/>
          </a:xfrm>
          <a:custGeom>
            <a:avLst/>
            <a:gdLst/>
            <a:ahLst/>
            <a:rect l="l" t="t" r="r" b="b"/>
            <a:pathLst>
              <a:path w="334" h="756">
                <a:moveTo>
                  <a:pt x="2046" y="7198"/>
                </a:moveTo>
                <a:cubicBezTo>
                  <a:pt x="2029" y="7181"/>
                  <a:pt x="2022" y="7169"/>
                  <a:pt x="1999" y="7159"/>
                </a:cubicBezTo>
                <a:cubicBezTo>
                  <a:pt x="1970" y="7147"/>
                  <a:pt x="1941" y="7142"/>
                  <a:pt x="1910" y="7140"/>
                </a:cubicBezTo>
                <a:cubicBezTo>
                  <a:pt x="1889" y="7139"/>
                  <a:pt x="1870" y="7142"/>
                  <a:pt x="1849" y="7147"/>
                </a:cubicBezTo>
                <a:cubicBezTo>
                  <a:pt x="1829" y="7152"/>
                  <a:pt x="1818" y="7155"/>
                  <a:pt x="1805" y="7171"/>
                </a:cubicBezTo>
                <a:cubicBezTo>
                  <a:pt x="1792" y="7188"/>
                  <a:pt x="1785" y="7220"/>
                  <a:pt x="1781" y="7240"/>
                </a:cubicBezTo>
                <a:cubicBezTo>
                  <a:pt x="1774" y="7280"/>
                  <a:pt x="1765" y="7319"/>
                  <a:pt x="1762" y="7360"/>
                </a:cubicBezTo>
                <a:cubicBezTo>
                  <a:pt x="1759" y="7405"/>
                  <a:pt x="1759" y="7448"/>
                  <a:pt x="1761" y="7493"/>
                </a:cubicBezTo>
                <a:cubicBezTo>
                  <a:pt x="1762" y="7528"/>
                  <a:pt x="1760" y="7565"/>
                  <a:pt x="1757" y="7600"/>
                </a:cubicBezTo>
                <a:cubicBezTo>
                  <a:pt x="1753" y="7639"/>
                  <a:pt x="1743" y="7674"/>
                  <a:pt x="1733" y="7712"/>
                </a:cubicBezTo>
                <a:cubicBezTo>
                  <a:pt x="1723" y="7750"/>
                  <a:pt x="1704" y="7811"/>
                  <a:pt x="1715" y="7851"/>
                </a:cubicBezTo>
                <a:cubicBezTo>
                  <a:pt x="1719" y="7867"/>
                  <a:pt x="1715" y="7887"/>
                  <a:pt x="1730" y="7894"/>
                </a:cubicBezTo>
                <a:cubicBezTo>
                  <a:pt x="1750" y="7903"/>
                  <a:pt x="1803" y="7889"/>
                  <a:pt x="1824" y="7887"/>
                </a:cubicBezTo>
                <a:cubicBezTo>
                  <a:pt x="1862" y="7883"/>
                  <a:pt x="1908" y="7889"/>
                  <a:pt x="1941" y="7870"/>
                </a:cubicBezTo>
                <a:cubicBezTo>
                  <a:pt x="1963" y="7857"/>
                  <a:pt x="1958" y="7847"/>
                  <a:pt x="1958" y="782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6005520" y="5756400"/>
            <a:ext cx="436680" cy="220680"/>
          </a:xfrm>
          <a:custGeom>
            <a:avLst/>
            <a:gdLst/>
            <a:ahLst/>
            <a:rect l="l" t="t" r="r" b="b"/>
            <a:pathLst>
              <a:path w="1211" h="612">
                <a:moveTo>
                  <a:pt x="16720" y="16009"/>
                </a:moveTo>
                <a:cubicBezTo>
                  <a:pt x="16708" y="15997"/>
                  <a:pt x="16705" y="15994"/>
                  <a:pt x="16695" y="15990"/>
                </a:cubicBezTo>
                <a:cubicBezTo>
                  <a:pt x="16679" y="16014"/>
                  <a:pt x="16682" y="16041"/>
                  <a:pt x="16682" y="16071"/>
                </a:cubicBezTo>
                <a:cubicBezTo>
                  <a:pt x="16683" y="16136"/>
                  <a:pt x="16682" y="16202"/>
                  <a:pt x="16690" y="16266"/>
                </a:cubicBezTo>
                <a:cubicBezTo>
                  <a:pt x="16698" y="16330"/>
                  <a:pt x="16710" y="16392"/>
                  <a:pt x="16743" y="16447"/>
                </a:cubicBezTo>
                <a:cubicBezTo>
                  <a:pt x="16758" y="16472"/>
                  <a:pt x="16769" y="16482"/>
                  <a:pt x="16791" y="16497"/>
                </a:cubicBezTo>
              </a:path>
              <a:path w="1211" h="612">
                <a:moveTo>
                  <a:pt x="16909" y="16220"/>
                </a:moveTo>
                <a:cubicBezTo>
                  <a:pt x="16944" y="16228"/>
                  <a:pt x="16936" y="16251"/>
                  <a:pt x="16949" y="16284"/>
                </a:cubicBezTo>
                <a:cubicBezTo>
                  <a:pt x="16974" y="16349"/>
                  <a:pt x="17004" y="16414"/>
                  <a:pt x="17038" y="16475"/>
                </a:cubicBezTo>
                <a:cubicBezTo>
                  <a:pt x="17062" y="16518"/>
                  <a:pt x="17094" y="16577"/>
                  <a:pt x="17141" y="16597"/>
                </a:cubicBezTo>
                <a:cubicBezTo>
                  <a:pt x="17161" y="16601"/>
                  <a:pt x="17168" y="16603"/>
                  <a:pt x="17178" y="16590"/>
                </a:cubicBezTo>
              </a:path>
              <a:path w="1211" h="612">
                <a:moveTo>
                  <a:pt x="17185" y="16214"/>
                </a:moveTo>
                <a:cubicBezTo>
                  <a:pt x="17183" y="16210"/>
                  <a:pt x="17180" y="16205"/>
                  <a:pt x="17178" y="16201"/>
                </a:cubicBezTo>
                <a:cubicBezTo>
                  <a:pt x="17150" y="16210"/>
                  <a:pt x="17122" y="16256"/>
                  <a:pt x="17106" y="16282"/>
                </a:cubicBezTo>
                <a:cubicBezTo>
                  <a:pt x="17066" y="16348"/>
                  <a:pt x="17034" y="16418"/>
                  <a:pt x="16999" y="16487"/>
                </a:cubicBezTo>
                <a:cubicBezTo>
                  <a:pt x="16981" y="16522"/>
                  <a:pt x="16967" y="16546"/>
                  <a:pt x="16959" y="16584"/>
                </a:cubicBezTo>
              </a:path>
              <a:path w="1211" h="612">
                <a:moveTo>
                  <a:pt x="17463" y="16173"/>
                </a:moveTo>
                <a:cubicBezTo>
                  <a:pt x="17431" y="16176"/>
                  <a:pt x="17511" y="16168"/>
                  <a:pt x="17517" y="16167"/>
                </a:cubicBezTo>
                <a:cubicBezTo>
                  <a:pt x="17576" y="16161"/>
                  <a:pt x="17634" y="16161"/>
                  <a:pt x="17693" y="16157"/>
                </a:cubicBezTo>
                <a:cubicBezTo>
                  <a:pt x="17732" y="16154"/>
                  <a:pt x="17761" y="16152"/>
                  <a:pt x="17799" y="16158"/>
                </a:cubicBezTo>
              </a:path>
              <a:path w="1211" h="612">
                <a:moveTo>
                  <a:pt x="17495" y="16379"/>
                </a:moveTo>
                <a:cubicBezTo>
                  <a:pt x="17507" y="16393"/>
                  <a:pt x="17560" y="16370"/>
                  <a:pt x="17589" y="16361"/>
                </a:cubicBezTo>
                <a:cubicBezTo>
                  <a:pt x="17661" y="16338"/>
                  <a:pt x="17736" y="16327"/>
                  <a:pt x="17805" y="16296"/>
                </a:cubicBezTo>
                <a:cubicBezTo>
                  <a:pt x="17813" y="16292"/>
                  <a:pt x="17820" y="16287"/>
                  <a:pt x="17828" y="16283"/>
                </a:cubicBezTo>
              </a:path>
              <a:path w="1211" h="612">
                <a:moveTo>
                  <a:pt x="17519" y="16454"/>
                </a:moveTo>
                <a:cubicBezTo>
                  <a:pt x="17507" y="16458"/>
                  <a:pt x="17503" y="16459"/>
                  <a:pt x="17502" y="16470"/>
                </a:cubicBezTo>
                <a:cubicBezTo>
                  <a:pt x="17534" y="16492"/>
                  <a:pt x="17567" y="16513"/>
                  <a:pt x="17604" y="16527"/>
                </a:cubicBezTo>
                <a:cubicBezTo>
                  <a:pt x="17668" y="16552"/>
                  <a:pt x="17732" y="16572"/>
                  <a:pt x="17801" y="16575"/>
                </a:cubicBezTo>
                <a:cubicBezTo>
                  <a:pt x="17848" y="16575"/>
                  <a:pt x="17862" y="16575"/>
                  <a:pt x="17892" y="1656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6554880" y="5786280"/>
            <a:ext cx="27000" cy="179640"/>
          </a:xfrm>
          <a:custGeom>
            <a:avLst/>
            <a:gdLst/>
            <a:ahLst/>
            <a:rect l="l" t="t" r="r" b="b"/>
            <a:pathLst>
              <a:path w="76" h="496">
                <a:moveTo>
                  <a:pt x="18206" y="16075"/>
                </a:moveTo>
                <a:cubicBezTo>
                  <a:pt x="18230" y="16117"/>
                  <a:pt x="18229" y="16154"/>
                  <a:pt x="18234" y="16201"/>
                </a:cubicBezTo>
                <a:cubicBezTo>
                  <a:pt x="18245" y="16300"/>
                  <a:pt x="18268" y="16397"/>
                  <a:pt x="18278" y="16496"/>
                </a:cubicBezTo>
                <a:cubicBezTo>
                  <a:pt x="18281" y="16535"/>
                  <a:pt x="18282" y="16545"/>
                  <a:pt x="18281" y="1657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6865920" y="5689440"/>
            <a:ext cx="503280" cy="317520"/>
          </a:xfrm>
          <a:custGeom>
            <a:avLst/>
            <a:gdLst/>
            <a:ahLst/>
            <a:rect l="l" t="t" r="r" b="b"/>
            <a:pathLst>
              <a:path w="1401" h="883">
                <a:moveTo>
                  <a:pt x="19371" y="16119"/>
                </a:moveTo>
                <a:cubicBezTo>
                  <a:pt x="19371" y="16136"/>
                  <a:pt x="19379" y="16189"/>
                  <a:pt x="19389" y="16223"/>
                </a:cubicBezTo>
                <a:cubicBezTo>
                  <a:pt x="19408" y="16288"/>
                  <a:pt x="19428" y="16353"/>
                  <a:pt x="19445" y="16418"/>
                </a:cubicBezTo>
                <a:cubicBezTo>
                  <a:pt x="19452" y="16444"/>
                  <a:pt x="19456" y="16469"/>
                  <a:pt x="19461" y="16495"/>
                </a:cubicBezTo>
                <a:cubicBezTo>
                  <a:pt x="19461" y="16435"/>
                  <a:pt x="19462" y="16376"/>
                  <a:pt x="19471" y="16316"/>
                </a:cubicBezTo>
                <a:cubicBezTo>
                  <a:pt x="19483" y="16238"/>
                  <a:pt x="19494" y="16123"/>
                  <a:pt x="19541" y="16056"/>
                </a:cubicBezTo>
                <a:cubicBezTo>
                  <a:pt x="19546" y="16053"/>
                  <a:pt x="19550" y="16050"/>
                  <a:pt x="19555" y="16047"/>
                </a:cubicBezTo>
                <a:cubicBezTo>
                  <a:pt x="19571" y="16090"/>
                  <a:pt x="19578" y="16129"/>
                  <a:pt x="19582" y="16179"/>
                </a:cubicBezTo>
                <a:cubicBezTo>
                  <a:pt x="19587" y="16242"/>
                  <a:pt x="19588" y="16305"/>
                  <a:pt x="19600" y="16367"/>
                </a:cubicBezTo>
                <a:cubicBezTo>
                  <a:pt x="19625" y="16334"/>
                  <a:pt x="19635" y="16298"/>
                  <a:pt x="19649" y="16259"/>
                </a:cubicBezTo>
                <a:cubicBezTo>
                  <a:pt x="19660" y="16229"/>
                  <a:pt x="19669" y="16211"/>
                  <a:pt x="19689" y="16188"/>
                </a:cubicBezTo>
                <a:cubicBezTo>
                  <a:pt x="19716" y="16217"/>
                  <a:pt x="19723" y="16238"/>
                  <a:pt x="19737" y="16286"/>
                </a:cubicBezTo>
                <a:cubicBezTo>
                  <a:pt x="19755" y="16349"/>
                  <a:pt x="19772" y="16433"/>
                  <a:pt x="19810" y="16488"/>
                </a:cubicBezTo>
                <a:cubicBezTo>
                  <a:pt x="19834" y="16511"/>
                  <a:pt x="19841" y="16519"/>
                  <a:pt x="19863" y="16525"/>
                </a:cubicBezTo>
              </a:path>
              <a:path w="1401" h="883">
                <a:moveTo>
                  <a:pt x="20026" y="16189"/>
                </a:moveTo>
                <a:cubicBezTo>
                  <a:pt x="19992" y="16185"/>
                  <a:pt x="19989" y="16202"/>
                  <a:pt x="19970" y="16228"/>
                </a:cubicBezTo>
                <a:cubicBezTo>
                  <a:pt x="19937" y="16275"/>
                  <a:pt x="19904" y="16328"/>
                  <a:pt x="19899" y="16387"/>
                </a:cubicBezTo>
                <a:cubicBezTo>
                  <a:pt x="19896" y="16421"/>
                  <a:pt x="19905" y="16453"/>
                  <a:pt x="19946" y="16446"/>
                </a:cubicBezTo>
                <a:cubicBezTo>
                  <a:pt x="19991" y="16438"/>
                  <a:pt x="20031" y="16397"/>
                  <a:pt x="20058" y="16364"/>
                </a:cubicBezTo>
                <a:cubicBezTo>
                  <a:pt x="20081" y="16336"/>
                  <a:pt x="20111" y="16295"/>
                  <a:pt x="20104" y="16255"/>
                </a:cubicBezTo>
                <a:cubicBezTo>
                  <a:pt x="20099" y="16227"/>
                  <a:pt x="20068" y="16221"/>
                  <a:pt x="20044" y="16219"/>
                </a:cubicBezTo>
                <a:cubicBezTo>
                  <a:pt x="20029" y="16220"/>
                  <a:pt x="20025" y="16220"/>
                  <a:pt x="20015" y="16222"/>
                </a:cubicBezTo>
              </a:path>
              <a:path w="1401" h="883">
                <a:moveTo>
                  <a:pt x="20246" y="16227"/>
                </a:moveTo>
                <a:cubicBezTo>
                  <a:pt x="20274" y="16214"/>
                  <a:pt x="20245" y="16239"/>
                  <a:pt x="20235" y="16270"/>
                </a:cubicBezTo>
                <a:cubicBezTo>
                  <a:pt x="20218" y="16324"/>
                  <a:pt x="20198" y="16389"/>
                  <a:pt x="20202" y="16446"/>
                </a:cubicBezTo>
                <a:cubicBezTo>
                  <a:pt x="20206" y="16463"/>
                  <a:pt x="20206" y="16468"/>
                  <a:pt x="20218" y="16470"/>
                </a:cubicBezTo>
                <a:cubicBezTo>
                  <a:pt x="20249" y="16442"/>
                  <a:pt x="20268" y="16420"/>
                  <a:pt x="20286" y="16378"/>
                </a:cubicBezTo>
                <a:cubicBezTo>
                  <a:pt x="20318" y="16302"/>
                  <a:pt x="20333" y="16222"/>
                  <a:pt x="20346" y="16141"/>
                </a:cubicBezTo>
                <a:cubicBezTo>
                  <a:pt x="20359" y="16058"/>
                  <a:pt x="20368" y="15974"/>
                  <a:pt x="20371" y="15890"/>
                </a:cubicBezTo>
                <a:cubicBezTo>
                  <a:pt x="20372" y="15861"/>
                  <a:pt x="20373" y="15833"/>
                  <a:pt x="20374" y="15804"/>
                </a:cubicBezTo>
                <a:cubicBezTo>
                  <a:pt x="20370" y="15862"/>
                  <a:pt x="20367" y="15921"/>
                  <a:pt x="20369" y="15980"/>
                </a:cubicBezTo>
                <a:cubicBezTo>
                  <a:pt x="20372" y="16069"/>
                  <a:pt x="20378" y="16158"/>
                  <a:pt x="20401" y="16244"/>
                </a:cubicBezTo>
                <a:cubicBezTo>
                  <a:pt x="20415" y="16295"/>
                  <a:pt x="20425" y="16333"/>
                  <a:pt x="20471" y="16356"/>
                </a:cubicBezTo>
              </a:path>
              <a:path w="1401" h="883">
                <a:moveTo>
                  <a:pt x="19193" y="15962"/>
                </a:moveTo>
                <a:cubicBezTo>
                  <a:pt x="19155" y="15964"/>
                  <a:pt x="19131" y="15982"/>
                  <a:pt x="19116" y="16022"/>
                </a:cubicBezTo>
                <a:cubicBezTo>
                  <a:pt x="19088" y="16094"/>
                  <a:pt x="19075" y="16179"/>
                  <a:pt x="19071" y="16255"/>
                </a:cubicBezTo>
                <a:cubicBezTo>
                  <a:pt x="19065" y="16375"/>
                  <a:pt x="19079" y="16489"/>
                  <a:pt x="19122" y="16601"/>
                </a:cubicBezTo>
                <a:cubicBezTo>
                  <a:pt x="19142" y="16647"/>
                  <a:pt x="19148" y="16662"/>
                  <a:pt x="19171" y="1668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7505640" y="5735520"/>
            <a:ext cx="111240" cy="231840"/>
          </a:xfrm>
          <a:custGeom>
            <a:avLst/>
            <a:gdLst/>
            <a:ahLst/>
            <a:rect l="l" t="t" r="r" b="b"/>
            <a:pathLst>
              <a:path w="309" h="641">
                <a:moveTo>
                  <a:pt x="20862" y="15948"/>
                </a:moveTo>
                <a:cubicBezTo>
                  <a:pt x="20853" y="15911"/>
                  <a:pt x="20851" y="15959"/>
                  <a:pt x="20850" y="15973"/>
                </a:cubicBezTo>
                <a:cubicBezTo>
                  <a:pt x="20847" y="16045"/>
                  <a:pt x="20847" y="16119"/>
                  <a:pt x="20861" y="16190"/>
                </a:cubicBezTo>
                <a:cubicBezTo>
                  <a:pt x="20869" y="16232"/>
                  <a:pt x="20877" y="16271"/>
                  <a:pt x="20928" y="16269"/>
                </a:cubicBezTo>
                <a:cubicBezTo>
                  <a:pt x="20972" y="16267"/>
                  <a:pt x="21037" y="16229"/>
                  <a:pt x="21066" y="16198"/>
                </a:cubicBezTo>
                <a:cubicBezTo>
                  <a:pt x="21099" y="16162"/>
                  <a:pt x="21138" y="16102"/>
                  <a:pt x="21153" y="16055"/>
                </a:cubicBezTo>
                <a:cubicBezTo>
                  <a:pt x="21155" y="16045"/>
                  <a:pt x="21156" y="16036"/>
                  <a:pt x="21158" y="16026"/>
                </a:cubicBezTo>
              </a:path>
              <a:path w="309" h="641">
                <a:moveTo>
                  <a:pt x="21128" y="15955"/>
                </a:moveTo>
                <a:cubicBezTo>
                  <a:pt x="21117" y="16002"/>
                  <a:pt x="21107" y="16057"/>
                  <a:pt x="21107" y="16105"/>
                </a:cubicBezTo>
                <a:cubicBezTo>
                  <a:pt x="21107" y="16193"/>
                  <a:pt x="21120" y="16281"/>
                  <a:pt x="21125" y="16369"/>
                </a:cubicBezTo>
                <a:cubicBezTo>
                  <a:pt x="21129" y="16429"/>
                  <a:pt x="21135" y="16490"/>
                  <a:pt x="21135" y="16551"/>
                </a:cubicBezTo>
                <a:cubicBezTo>
                  <a:pt x="21135" y="16558"/>
                  <a:pt x="21134" y="16566"/>
                  <a:pt x="21134" y="1657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7753320" y="5753160"/>
            <a:ext cx="76320" cy="255600"/>
          </a:xfrm>
          <a:custGeom>
            <a:avLst/>
            <a:gdLst/>
            <a:ahLst/>
            <a:rect l="l" t="t" r="r" b="b"/>
            <a:pathLst>
              <a:path w="213" h="706">
                <a:moveTo>
                  <a:pt x="21537" y="15985"/>
                </a:moveTo>
                <a:cubicBezTo>
                  <a:pt x="21574" y="16013"/>
                  <a:pt x="21602" y="16037"/>
                  <a:pt x="21629" y="16086"/>
                </a:cubicBezTo>
                <a:cubicBezTo>
                  <a:pt x="21677" y="16173"/>
                  <a:pt x="21716" y="16268"/>
                  <a:pt x="21737" y="16365"/>
                </a:cubicBezTo>
                <a:cubicBezTo>
                  <a:pt x="21757" y="16454"/>
                  <a:pt x="21756" y="16539"/>
                  <a:pt x="21720" y="16623"/>
                </a:cubicBezTo>
                <a:cubicBezTo>
                  <a:pt x="21701" y="16668"/>
                  <a:pt x="21676" y="16680"/>
                  <a:pt x="21632" y="1668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6145200" y="6203880"/>
            <a:ext cx="361800" cy="155520"/>
          </a:xfrm>
          <a:custGeom>
            <a:avLst/>
            <a:gdLst/>
            <a:ahLst/>
            <a:rect l="l" t="t" r="r" b="b"/>
            <a:pathLst>
              <a:path w="1008" h="432">
                <a:moveTo>
                  <a:pt x="17068" y="17234"/>
                </a:moveTo>
                <a:cubicBezTo>
                  <a:pt x="17070" y="17268"/>
                  <a:pt x="17074" y="17305"/>
                  <a:pt x="17088" y="17336"/>
                </a:cubicBezTo>
                <a:cubicBezTo>
                  <a:pt x="17121" y="17411"/>
                  <a:pt x="17178" y="17528"/>
                  <a:pt x="17247" y="17577"/>
                </a:cubicBezTo>
                <a:cubicBezTo>
                  <a:pt x="17262" y="17581"/>
                  <a:pt x="17278" y="17585"/>
                  <a:pt x="17293" y="17589"/>
                </a:cubicBezTo>
              </a:path>
              <a:path w="1008" h="432">
                <a:moveTo>
                  <a:pt x="17326" y="17281"/>
                </a:moveTo>
                <a:cubicBezTo>
                  <a:pt x="17274" y="17307"/>
                  <a:pt x="17266" y="17357"/>
                  <a:pt x="17245" y="17412"/>
                </a:cubicBezTo>
                <a:cubicBezTo>
                  <a:pt x="17222" y="17472"/>
                  <a:pt x="17206" y="17537"/>
                  <a:pt x="17191" y="17599"/>
                </a:cubicBezTo>
                <a:cubicBezTo>
                  <a:pt x="17186" y="17621"/>
                  <a:pt x="17182" y="17643"/>
                  <a:pt x="17177" y="17665"/>
                </a:cubicBezTo>
              </a:path>
              <a:path w="1008" h="432">
                <a:moveTo>
                  <a:pt x="17493" y="17364"/>
                </a:moveTo>
                <a:cubicBezTo>
                  <a:pt x="17519" y="17347"/>
                  <a:pt x="17543" y="17338"/>
                  <a:pt x="17572" y="17327"/>
                </a:cubicBezTo>
                <a:cubicBezTo>
                  <a:pt x="17610" y="17313"/>
                  <a:pt x="17641" y="17314"/>
                  <a:pt x="17681" y="17317"/>
                </a:cubicBezTo>
                <a:cubicBezTo>
                  <a:pt x="17702" y="17318"/>
                  <a:pt x="17709" y="17318"/>
                  <a:pt x="17722" y="17321"/>
                </a:cubicBezTo>
              </a:path>
              <a:path w="1008" h="432">
                <a:moveTo>
                  <a:pt x="17556" y="17467"/>
                </a:moveTo>
                <a:cubicBezTo>
                  <a:pt x="17546" y="17490"/>
                  <a:pt x="17530" y="17520"/>
                  <a:pt x="17569" y="17526"/>
                </a:cubicBezTo>
                <a:cubicBezTo>
                  <a:pt x="17608" y="17532"/>
                  <a:pt x="17677" y="17516"/>
                  <a:pt x="17714" y="17506"/>
                </a:cubicBezTo>
                <a:cubicBezTo>
                  <a:pt x="17758" y="17493"/>
                  <a:pt x="17798" y="17470"/>
                  <a:pt x="17838" y="17448"/>
                </a:cubicBezTo>
              </a:path>
              <a:path w="1008" h="432">
                <a:moveTo>
                  <a:pt x="18033" y="17236"/>
                </a:moveTo>
                <a:cubicBezTo>
                  <a:pt x="18034" y="17293"/>
                  <a:pt x="18021" y="17351"/>
                  <a:pt x="18026" y="17409"/>
                </a:cubicBezTo>
                <a:cubicBezTo>
                  <a:pt x="18030" y="17461"/>
                  <a:pt x="18058" y="17518"/>
                  <a:pt x="18075" y="1756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4641840" y="6461280"/>
            <a:ext cx="1906560" cy="128520"/>
          </a:xfrm>
          <a:custGeom>
            <a:avLst/>
            <a:gdLst/>
            <a:ahLst/>
            <a:rect l="l" t="t" r="r" b="b"/>
            <a:pathLst>
              <a:path w="5293" h="359">
                <a:moveTo>
                  <a:pt x="12896" y="17970"/>
                </a:moveTo>
                <a:cubicBezTo>
                  <a:pt x="12973" y="17979"/>
                  <a:pt x="13039" y="17985"/>
                  <a:pt x="13116" y="17969"/>
                </a:cubicBezTo>
                <a:cubicBezTo>
                  <a:pt x="13162" y="17957"/>
                  <a:pt x="13176" y="17953"/>
                  <a:pt x="13207" y="17947"/>
                </a:cubicBezTo>
              </a:path>
              <a:path w="5293" h="359">
                <a:moveTo>
                  <a:pt x="15134" y="18169"/>
                </a:moveTo>
                <a:cubicBezTo>
                  <a:pt x="15132" y="18155"/>
                  <a:pt x="15130" y="18142"/>
                  <a:pt x="15128" y="18128"/>
                </a:cubicBezTo>
              </a:path>
              <a:path w="5293" h="359">
                <a:moveTo>
                  <a:pt x="18166" y="18302"/>
                </a:moveTo>
                <a:cubicBezTo>
                  <a:pt x="18062" y="18309"/>
                  <a:pt x="18158" y="18251"/>
                  <a:pt x="18188" y="1822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4145040" y="6384960"/>
            <a:ext cx="720720" cy="247680"/>
          </a:xfrm>
          <a:custGeom>
            <a:avLst/>
            <a:gdLst/>
            <a:ahLst/>
            <a:rect l="l" t="t" r="r" b="b"/>
            <a:pathLst>
              <a:path w="2004" h="690">
                <a:moveTo>
                  <a:pt x="11708" y="17918"/>
                </a:moveTo>
                <a:cubicBezTo>
                  <a:pt x="11706" y="17904"/>
                  <a:pt x="11705" y="17891"/>
                  <a:pt x="11703" y="17877"/>
                </a:cubicBezTo>
                <a:cubicBezTo>
                  <a:pt x="11596" y="17864"/>
                  <a:pt x="11569" y="17905"/>
                  <a:pt x="11513" y="18004"/>
                </a:cubicBezTo>
                <a:cubicBezTo>
                  <a:pt x="11602" y="18043"/>
                  <a:pt x="11685" y="18065"/>
                  <a:pt x="11733" y="18158"/>
                </a:cubicBezTo>
                <a:cubicBezTo>
                  <a:pt x="11769" y="18227"/>
                  <a:pt x="11776" y="18333"/>
                  <a:pt x="11699" y="18380"/>
                </a:cubicBezTo>
                <a:cubicBezTo>
                  <a:pt x="11606" y="18437"/>
                  <a:pt x="11541" y="18382"/>
                  <a:pt x="11518" y="18306"/>
                </a:cubicBezTo>
              </a:path>
              <a:path w="2004" h="690">
                <a:moveTo>
                  <a:pt x="12033" y="17981"/>
                </a:moveTo>
                <a:cubicBezTo>
                  <a:pt x="12081" y="17978"/>
                  <a:pt x="12097" y="17977"/>
                  <a:pt x="12102" y="17935"/>
                </a:cubicBezTo>
                <a:cubicBezTo>
                  <a:pt x="12013" y="17977"/>
                  <a:pt x="11977" y="18032"/>
                  <a:pt x="11942" y="18131"/>
                </a:cubicBezTo>
                <a:cubicBezTo>
                  <a:pt x="11922" y="18188"/>
                  <a:pt x="11921" y="18226"/>
                  <a:pt x="11924" y="18285"/>
                </a:cubicBezTo>
                <a:cubicBezTo>
                  <a:pt x="12009" y="18225"/>
                  <a:pt x="12054" y="18148"/>
                  <a:pt x="12127" y="18075"/>
                </a:cubicBezTo>
                <a:cubicBezTo>
                  <a:pt x="12145" y="18152"/>
                  <a:pt x="12153" y="18230"/>
                  <a:pt x="12163" y="18309"/>
                </a:cubicBezTo>
                <a:cubicBezTo>
                  <a:pt x="12170" y="18365"/>
                  <a:pt x="12173" y="18387"/>
                  <a:pt x="12182" y="18425"/>
                </a:cubicBezTo>
              </a:path>
              <a:path w="2004" h="690">
                <a:moveTo>
                  <a:pt x="12527" y="17941"/>
                </a:moveTo>
                <a:cubicBezTo>
                  <a:pt x="12505" y="18019"/>
                  <a:pt x="12501" y="18089"/>
                  <a:pt x="12503" y="18171"/>
                </a:cubicBezTo>
                <a:cubicBezTo>
                  <a:pt x="12504" y="18221"/>
                  <a:pt x="12505" y="18240"/>
                  <a:pt x="12509" y="18274"/>
                </a:cubicBezTo>
              </a:path>
              <a:path w="2004" h="690">
                <a:moveTo>
                  <a:pt x="12401" y="18082"/>
                </a:moveTo>
                <a:cubicBezTo>
                  <a:pt x="12476" y="18067"/>
                  <a:pt x="12542" y="18063"/>
                  <a:pt x="12618" y="18067"/>
                </a:cubicBezTo>
                <a:cubicBezTo>
                  <a:pt x="12664" y="18069"/>
                  <a:pt x="12710" y="18068"/>
                  <a:pt x="12756" y="18066"/>
                </a:cubicBezTo>
              </a:path>
              <a:path w="2004" h="690">
                <a:moveTo>
                  <a:pt x="12988" y="17780"/>
                </a:moveTo>
                <a:cubicBezTo>
                  <a:pt x="12993" y="17765"/>
                  <a:pt x="12999" y="17751"/>
                  <a:pt x="13004" y="17736"/>
                </a:cubicBezTo>
                <a:cubicBezTo>
                  <a:pt x="12984" y="17824"/>
                  <a:pt x="12969" y="17906"/>
                  <a:pt x="12967" y="17997"/>
                </a:cubicBezTo>
                <a:cubicBezTo>
                  <a:pt x="12965" y="18067"/>
                  <a:pt x="12957" y="18185"/>
                  <a:pt x="12996" y="18248"/>
                </a:cubicBezTo>
                <a:cubicBezTo>
                  <a:pt x="13039" y="18293"/>
                  <a:pt x="13053" y="18309"/>
                  <a:pt x="13092" y="18265"/>
                </a:cubicBezTo>
              </a:path>
              <a:path w="2004" h="690">
                <a:moveTo>
                  <a:pt x="13294" y="17764"/>
                </a:moveTo>
                <a:cubicBezTo>
                  <a:pt x="13261" y="17846"/>
                  <a:pt x="13266" y="17897"/>
                  <a:pt x="13272" y="17988"/>
                </a:cubicBezTo>
                <a:cubicBezTo>
                  <a:pt x="13277" y="18068"/>
                  <a:pt x="13280" y="18153"/>
                  <a:pt x="13300" y="18231"/>
                </a:cubicBezTo>
                <a:cubicBezTo>
                  <a:pt x="13305" y="18246"/>
                  <a:pt x="13310" y="18260"/>
                  <a:pt x="13315" y="18275"/>
                </a:cubicBezTo>
                <a:cubicBezTo>
                  <a:pt x="13350" y="18205"/>
                  <a:pt x="13375" y="18115"/>
                  <a:pt x="13422" y="18052"/>
                </a:cubicBezTo>
                <a:cubicBezTo>
                  <a:pt x="13436" y="18039"/>
                  <a:pt x="13450" y="18025"/>
                  <a:pt x="13464" y="18012"/>
                </a:cubicBezTo>
                <a:cubicBezTo>
                  <a:pt x="13517" y="18082"/>
                  <a:pt x="13527" y="18115"/>
                  <a:pt x="13507" y="18205"/>
                </a:cubicBezTo>
                <a:cubicBezTo>
                  <a:pt x="13479" y="18329"/>
                  <a:pt x="13435" y="18361"/>
                  <a:pt x="13346" y="1830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975200" y="6442200"/>
            <a:ext cx="117360" cy="82440"/>
          </a:xfrm>
          <a:custGeom>
            <a:avLst/>
            <a:gdLst/>
            <a:ahLst/>
            <a:rect l="l" t="t" r="r" b="b"/>
            <a:pathLst>
              <a:path w="326" h="231">
                <a:moveTo>
                  <a:pt x="13822" y="17914"/>
                </a:moveTo>
                <a:cubicBezTo>
                  <a:pt x="13897" y="17891"/>
                  <a:pt x="13956" y="17893"/>
                  <a:pt x="14035" y="17893"/>
                </a:cubicBezTo>
                <a:cubicBezTo>
                  <a:pt x="14054" y="17893"/>
                  <a:pt x="14074" y="17893"/>
                  <a:pt x="14093" y="17893"/>
                </a:cubicBezTo>
              </a:path>
              <a:path w="326" h="231">
                <a:moveTo>
                  <a:pt x="13883" y="18011"/>
                </a:moveTo>
                <a:cubicBezTo>
                  <a:pt x="13872" y="18030"/>
                  <a:pt x="13862" y="18049"/>
                  <a:pt x="13851" y="18068"/>
                </a:cubicBezTo>
                <a:cubicBezTo>
                  <a:pt x="13919" y="18104"/>
                  <a:pt x="13967" y="18122"/>
                  <a:pt x="14046" y="18123"/>
                </a:cubicBezTo>
                <a:cubicBezTo>
                  <a:pt x="14097" y="18121"/>
                  <a:pt x="14113" y="18120"/>
                  <a:pt x="14147" y="1811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5202360" y="6424560"/>
            <a:ext cx="122040" cy="314280"/>
          </a:xfrm>
          <a:custGeom>
            <a:avLst/>
            <a:gdLst/>
            <a:ahLst/>
            <a:rect l="l" t="t" r="r" b="b"/>
            <a:pathLst>
              <a:path w="339" h="875">
                <a:moveTo>
                  <a:pt x="14679" y="17855"/>
                </a:moveTo>
                <a:cubicBezTo>
                  <a:pt x="14575" y="17855"/>
                  <a:pt x="14531" y="17895"/>
                  <a:pt x="14484" y="17998"/>
                </a:cubicBezTo>
                <a:cubicBezTo>
                  <a:pt x="14462" y="18047"/>
                  <a:pt x="14459" y="18093"/>
                  <a:pt x="14455" y="18145"/>
                </a:cubicBezTo>
                <a:cubicBezTo>
                  <a:pt x="14581" y="18173"/>
                  <a:pt x="14610" y="18120"/>
                  <a:pt x="14698" y="18011"/>
                </a:cubicBezTo>
                <a:cubicBezTo>
                  <a:pt x="14714" y="17990"/>
                  <a:pt x="14730" y="17970"/>
                  <a:pt x="14746" y="17949"/>
                </a:cubicBezTo>
                <a:cubicBezTo>
                  <a:pt x="14789" y="18061"/>
                  <a:pt x="14790" y="18144"/>
                  <a:pt x="14786" y="18266"/>
                </a:cubicBezTo>
                <a:cubicBezTo>
                  <a:pt x="14782" y="18377"/>
                  <a:pt x="14782" y="18561"/>
                  <a:pt x="14706" y="18654"/>
                </a:cubicBezTo>
                <a:cubicBezTo>
                  <a:pt x="14615" y="18766"/>
                  <a:pt x="14531" y="18716"/>
                  <a:pt x="14480" y="18605"/>
                </a:cubicBezTo>
                <a:cubicBezTo>
                  <a:pt x="14462" y="18551"/>
                  <a:pt x="14456" y="18532"/>
                  <a:pt x="14450" y="1849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5611680" y="6408720"/>
            <a:ext cx="817560" cy="277920"/>
          </a:xfrm>
          <a:custGeom>
            <a:avLst/>
            <a:gdLst/>
            <a:ahLst/>
            <a:rect l="l" t="t" r="r" b="b"/>
            <a:pathLst>
              <a:path w="2271" h="773">
                <a:moveTo>
                  <a:pt x="15627" y="18199"/>
                </a:moveTo>
                <a:cubicBezTo>
                  <a:pt x="15641" y="18198"/>
                  <a:pt x="15655" y="18196"/>
                  <a:pt x="15669" y="18195"/>
                </a:cubicBezTo>
                <a:cubicBezTo>
                  <a:pt x="15668" y="18274"/>
                  <a:pt x="15665" y="18350"/>
                  <a:pt x="15649" y="18427"/>
                </a:cubicBezTo>
                <a:cubicBezTo>
                  <a:pt x="15637" y="18487"/>
                  <a:pt x="15620" y="18521"/>
                  <a:pt x="15590" y="18574"/>
                </a:cubicBezTo>
              </a:path>
              <a:path w="2271" h="773">
                <a:moveTo>
                  <a:pt x="15997" y="18052"/>
                </a:moveTo>
                <a:cubicBezTo>
                  <a:pt x="15923" y="17982"/>
                  <a:pt x="15882" y="17989"/>
                  <a:pt x="15821" y="18084"/>
                </a:cubicBezTo>
                <a:cubicBezTo>
                  <a:pt x="15815" y="18099"/>
                  <a:pt x="15809" y="18113"/>
                  <a:pt x="15803" y="18128"/>
                </a:cubicBezTo>
                <a:cubicBezTo>
                  <a:pt x="15878" y="18168"/>
                  <a:pt x="15990" y="18157"/>
                  <a:pt x="16053" y="18221"/>
                </a:cubicBezTo>
                <a:cubicBezTo>
                  <a:pt x="16103" y="18272"/>
                  <a:pt x="16055" y="18468"/>
                  <a:pt x="16013" y="18431"/>
                </a:cubicBezTo>
                <a:cubicBezTo>
                  <a:pt x="16006" y="18406"/>
                  <a:pt x="15999" y="18381"/>
                  <a:pt x="15992" y="18356"/>
                </a:cubicBezTo>
              </a:path>
              <a:path w="2271" h="773">
                <a:moveTo>
                  <a:pt x="16255" y="18127"/>
                </a:moveTo>
                <a:cubicBezTo>
                  <a:pt x="16288" y="18214"/>
                  <a:pt x="16275" y="18263"/>
                  <a:pt x="16259" y="18356"/>
                </a:cubicBezTo>
                <a:cubicBezTo>
                  <a:pt x="16251" y="18412"/>
                  <a:pt x="16247" y="18437"/>
                  <a:pt x="16240" y="18477"/>
                </a:cubicBezTo>
              </a:path>
              <a:path w="2271" h="773">
                <a:moveTo>
                  <a:pt x="16407" y="17877"/>
                </a:moveTo>
                <a:cubicBezTo>
                  <a:pt x="16414" y="17862"/>
                  <a:pt x="16420" y="17846"/>
                  <a:pt x="16427" y="17831"/>
                </a:cubicBezTo>
                <a:cubicBezTo>
                  <a:pt x="16419" y="17918"/>
                  <a:pt x="16400" y="18004"/>
                  <a:pt x="16390" y="18091"/>
                </a:cubicBezTo>
                <a:cubicBezTo>
                  <a:pt x="16384" y="18150"/>
                  <a:pt x="16347" y="18356"/>
                  <a:pt x="16443" y="18378"/>
                </a:cubicBezTo>
                <a:cubicBezTo>
                  <a:pt x="16559" y="18404"/>
                  <a:pt x="16603" y="18264"/>
                  <a:pt x="16617" y="18187"/>
                </a:cubicBezTo>
              </a:path>
              <a:path w="2271" h="773">
                <a:moveTo>
                  <a:pt x="16369" y="18003"/>
                </a:moveTo>
                <a:cubicBezTo>
                  <a:pt x="16452" y="17989"/>
                  <a:pt x="16526" y="17993"/>
                  <a:pt x="16610" y="17988"/>
                </a:cubicBezTo>
                <a:cubicBezTo>
                  <a:pt x="16624" y="17987"/>
                  <a:pt x="16639" y="17985"/>
                  <a:pt x="16653" y="17984"/>
                </a:cubicBezTo>
              </a:path>
              <a:path w="2271" h="773">
                <a:moveTo>
                  <a:pt x="16872" y="17999"/>
                </a:moveTo>
                <a:cubicBezTo>
                  <a:pt x="16858" y="17982"/>
                  <a:pt x="16843" y="17964"/>
                  <a:pt x="16829" y="17947"/>
                </a:cubicBezTo>
                <a:cubicBezTo>
                  <a:pt x="16765" y="18012"/>
                  <a:pt x="16749" y="18063"/>
                  <a:pt x="16729" y="18156"/>
                </a:cubicBezTo>
                <a:cubicBezTo>
                  <a:pt x="16711" y="18239"/>
                  <a:pt x="16689" y="18346"/>
                  <a:pt x="16805" y="18344"/>
                </a:cubicBezTo>
                <a:cubicBezTo>
                  <a:pt x="16884" y="18343"/>
                  <a:pt x="16961" y="18245"/>
                  <a:pt x="17006" y="18196"/>
                </a:cubicBezTo>
              </a:path>
              <a:path w="2271" h="773">
                <a:moveTo>
                  <a:pt x="16849" y="18097"/>
                </a:moveTo>
                <a:cubicBezTo>
                  <a:pt x="16835" y="18100"/>
                  <a:pt x="16820" y="18102"/>
                  <a:pt x="16806" y="18105"/>
                </a:cubicBezTo>
                <a:cubicBezTo>
                  <a:pt x="16890" y="18069"/>
                  <a:pt x="16972" y="18062"/>
                  <a:pt x="17062" y="18042"/>
                </a:cubicBezTo>
              </a:path>
              <a:path w="2271" h="773">
                <a:moveTo>
                  <a:pt x="17283" y="17922"/>
                </a:moveTo>
                <a:cubicBezTo>
                  <a:pt x="17344" y="17858"/>
                  <a:pt x="17381" y="17854"/>
                  <a:pt x="17473" y="17858"/>
                </a:cubicBezTo>
                <a:cubicBezTo>
                  <a:pt x="17529" y="17861"/>
                  <a:pt x="17635" y="17863"/>
                  <a:pt x="17678" y="17904"/>
                </a:cubicBezTo>
                <a:cubicBezTo>
                  <a:pt x="17744" y="17968"/>
                  <a:pt x="17689" y="18075"/>
                  <a:pt x="17655" y="18141"/>
                </a:cubicBezTo>
                <a:cubicBezTo>
                  <a:pt x="17600" y="18245"/>
                  <a:pt x="17527" y="18338"/>
                  <a:pt x="17464" y="18436"/>
                </a:cubicBezTo>
                <a:cubicBezTo>
                  <a:pt x="17540" y="18438"/>
                  <a:pt x="17616" y="18440"/>
                  <a:pt x="17692" y="18441"/>
                </a:cubicBezTo>
                <a:cubicBezTo>
                  <a:pt x="17743" y="18442"/>
                  <a:pt x="17759" y="18443"/>
                  <a:pt x="17789" y="18425"/>
                </a:cubicBezTo>
              </a:path>
              <a:path w="2271" h="773">
                <a:moveTo>
                  <a:pt x="17618" y="18418"/>
                </a:moveTo>
                <a:cubicBezTo>
                  <a:pt x="17661" y="18337"/>
                  <a:pt x="17690" y="18254"/>
                  <a:pt x="17719" y="18167"/>
                </a:cubicBezTo>
                <a:cubicBezTo>
                  <a:pt x="17760" y="18042"/>
                  <a:pt x="17805" y="17922"/>
                  <a:pt x="17860" y="17802"/>
                </a:cubicBezTo>
                <a:cubicBezTo>
                  <a:pt x="17800" y="17829"/>
                  <a:pt x="17680" y="17859"/>
                  <a:pt x="17634" y="17901"/>
                </a:cubicBezTo>
                <a:cubicBezTo>
                  <a:pt x="17627" y="17916"/>
                  <a:pt x="17620" y="17931"/>
                  <a:pt x="17613" y="1794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726320" y="6205680"/>
            <a:ext cx="492120" cy="150840"/>
          </a:xfrm>
          <a:custGeom>
            <a:avLst/>
            <a:gdLst/>
            <a:ahLst/>
            <a:rect l="l" t="t" r="r" b="b"/>
            <a:pathLst>
              <a:path w="1367" h="419">
                <a:moveTo>
                  <a:pt x="21463" y="17291"/>
                </a:moveTo>
                <a:cubicBezTo>
                  <a:pt x="21492" y="17286"/>
                  <a:pt x="21528" y="17277"/>
                  <a:pt x="21560" y="17275"/>
                </a:cubicBezTo>
                <a:cubicBezTo>
                  <a:pt x="21616" y="17271"/>
                  <a:pt x="21673" y="17271"/>
                  <a:pt x="21724" y="17298"/>
                </a:cubicBezTo>
                <a:cubicBezTo>
                  <a:pt x="21793" y="17334"/>
                  <a:pt x="21791" y="17402"/>
                  <a:pt x="21766" y="17469"/>
                </a:cubicBezTo>
                <a:cubicBezTo>
                  <a:pt x="21743" y="17530"/>
                  <a:pt x="21691" y="17580"/>
                  <a:pt x="21652" y="17631"/>
                </a:cubicBezTo>
                <a:cubicBezTo>
                  <a:pt x="21726" y="17650"/>
                  <a:pt x="21771" y="17642"/>
                  <a:pt x="21845" y="17613"/>
                </a:cubicBezTo>
                <a:cubicBezTo>
                  <a:pt x="21858" y="17608"/>
                  <a:pt x="21870" y="17602"/>
                  <a:pt x="21883" y="17597"/>
                </a:cubicBezTo>
              </a:path>
              <a:path w="1367" h="419">
                <a:moveTo>
                  <a:pt x="21962" y="17363"/>
                </a:moveTo>
                <a:cubicBezTo>
                  <a:pt x="22004" y="17396"/>
                  <a:pt x="22046" y="17431"/>
                  <a:pt x="22086" y="17467"/>
                </a:cubicBezTo>
                <a:cubicBezTo>
                  <a:pt x="22131" y="17508"/>
                  <a:pt x="22174" y="17561"/>
                  <a:pt x="22236" y="17573"/>
                </a:cubicBezTo>
              </a:path>
              <a:path w="1367" h="419">
                <a:moveTo>
                  <a:pt x="22217" y="17373"/>
                </a:moveTo>
                <a:cubicBezTo>
                  <a:pt x="22180" y="17402"/>
                  <a:pt x="22142" y="17437"/>
                  <a:pt x="22114" y="17474"/>
                </a:cubicBezTo>
                <a:cubicBezTo>
                  <a:pt x="22078" y="17531"/>
                  <a:pt x="22068" y="17546"/>
                  <a:pt x="22056" y="17588"/>
                </a:cubicBezTo>
              </a:path>
              <a:path w="1367" h="419">
                <a:moveTo>
                  <a:pt x="22535" y="17236"/>
                </a:moveTo>
                <a:cubicBezTo>
                  <a:pt x="22532" y="17258"/>
                  <a:pt x="22569" y="17260"/>
                  <a:pt x="22596" y="17261"/>
                </a:cubicBezTo>
                <a:cubicBezTo>
                  <a:pt x="22642" y="17263"/>
                  <a:pt x="22694" y="17267"/>
                  <a:pt x="22740" y="17261"/>
                </a:cubicBezTo>
                <a:cubicBezTo>
                  <a:pt x="22761" y="17258"/>
                  <a:pt x="22782" y="17255"/>
                  <a:pt x="22801" y="17248"/>
                </a:cubicBezTo>
              </a:path>
              <a:path w="1367" h="419">
                <a:moveTo>
                  <a:pt x="22471" y="17340"/>
                </a:moveTo>
                <a:cubicBezTo>
                  <a:pt x="22502" y="17359"/>
                  <a:pt x="22539" y="17347"/>
                  <a:pt x="22577" y="17343"/>
                </a:cubicBezTo>
                <a:cubicBezTo>
                  <a:pt x="22628" y="17337"/>
                  <a:pt x="22677" y="17335"/>
                  <a:pt x="22728" y="17335"/>
                </a:cubicBezTo>
                <a:cubicBezTo>
                  <a:pt x="22748" y="17334"/>
                  <a:pt x="22754" y="17333"/>
                  <a:pt x="22766" y="17337"/>
                </a:cubicBezTo>
              </a:path>
              <a:path w="1367" h="419">
                <a:moveTo>
                  <a:pt x="22586" y="17465"/>
                </a:moveTo>
                <a:cubicBezTo>
                  <a:pt x="22614" y="17487"/>
                  <a:pt x="22637" y="17481"/>
                  <a:pt x="22673" y="17478"/>
                </a:cubicBezTo>
                <a:cubicBezTo>
                  <a:pt x="22715" y="17474"/>
                  <a:pt x="22757" y="17476"/>
                  <a:pt x="22799" y="17471"/>
                </a:cubicBezTo>
                <a:cubicBezTo>
                  <a:pt x="22809" y="17470"/>
                  <a:pt x="22819" y="17469"/>
                  <a:pt x="22829" y="1746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8383680" y="6202440"/>
            <a:ext cx="20520" cy="108000"/>
          </a:xfrm>
          <a:custGeom>
            <a:avLst/>
            <a:gdLst/>
            <a:ahLst/>
            <a:rect l="l" t="t" r="r" b="b"/>
            <a:pathLst>
              <a:path w="60" h="299">
                <a:moveTo>
                  <a:pt x="23286" y="17229"/>
                </a:moveTo>
                <a:cubicBezTo>
                  <a:pt x="23316" y="17244"/>
                  <a:pt x="23317" y="17279"/>
                  <a:pt x="23324" y="17316"/>
                </a:cubicBezTo>
                <a:cubicBezTo>
                  <a:pt x="23334" y="17368"/>
                  <a:pt x="23339" y="17416"/>
                  <a:pt x="23341" y="17469"/>
                </a:cubicBezTo>
                <a:cubicBezTo>
                  <a:pt x="23342" y="17488"/>
                  <a:pt x="23344" y="17508"/>
                  <a:pt x="23345" y="1752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8578800" y="6184800"/>
            <a:ext cx="430200" cy="184320"/>
          </a:xfrm>
          <a:custGeom>
            <a:avLst/>
            <a:gdLst/>
            <a:ahLst/>
            <a:rect l="l" t="t" r="r" b="b"/>
            <a:pathLst>
              <a:path w="1194" h="514">
                <a:moveTo>
                  <a:pt x="23873" y="17422"/>
                </a:moveTo>
                <a:cubicBezTo>
                  <a:pt x="23847" y="17436"/>
                  <a:pt x="23845" y="17449"/>
                  <a:pt x="23839" y="17479"/>
                </a:cubicBezTo>
                <a:cubicBezTo>
                  <a:pt x="23830" y="17529"/>
                  <a:pt x="23826" y="17543"/>
                  <a:pt x="23833" y="17575"/>
                </a:cubicBezTo>
                <a:cubicBezTo>
                  <a:pt x="23846" y="17546"/>
                  <a:pt x="23847" y="17519"/>
                  <a:pt x="23853" y="17488"/>
                </a:cubicBezTo>
                <a:cubicBezTo>
                  <a:pt x="23861" y="17446"/>
                  <a:pt x="23871" y="17404"/>
                  <a:pt x="23884" y="17363"/>
                </a:cubicBezTo>
                <a:cubicBezTo>
                  <a:pt x="23886" y="17357"/>
                  <a:pt x="23888" y="17351"/>
                  <a:pt x="23890" y="17345"/>
                </a:cubicBezTo>
                <a:cubicBezTo>
                  <a:pt x="23929" y="17404"/>
                  <a:pt x="23971" y="17589"/>
                  <a:pt x="24031" y="17491"/>
                </a:cubicBezTo>
                <a:cubicBezTo>
                  <a:pt x="24089" y="17397"/>
                  <a:pt x="24090" y="17481"/>
                  <a:pt x="24101" y="17558"/>
                </a:cubicBezTo>
              </a:path>
              <a:path w="1194" h="514">
                <a:moveTo>
                  <a:pt x="24152" y="17410"/>
                </a:moveTo>
                <a:cubicBezTo>
                  <a:pt x="24248" y="17341"/>
                  <a:pt x="24123" y="17459"/>
                  <a:pt x="24103" y="17516"/>
                </a:cubicBezTo>
                <a:cubicBezTo>
                  <a:pt x="24098" y="17533"/>
                  <a:pt x="24093" y="17549"/>
                  <a:pt x="24088" y="17566"/>
                </a:cubicBezTo>
                <a:cubicBezTo>
                  <a:pt x="24138" y="17563"/>
                  <a:pt x="24323" y="17540"/>
                  <a:pt x="24253" y="17433"/>
                </a:cubicBezTo>
                <a:cubicBezTo>
                  <a:pt x="24238" y="17423"/>
                  <a:pt x="24222" y="17413"/>
                  <a:pt x="24207" y="17403"/>
                </a:cubicBezTo>
              </a:path>
              <a:path w="1194" h="514">
                <a:moveTo>
                  <a:pt x="24343" y="17454"/>
                </a:moveTo>
                <a:cubicBezTo>
                  <a:pt x="24242" y="17441"/>
                  <a:pt x="24264" y="17521"/>
                  <a:pt x="24295" y="17605"/>
                </a:cubicBezTo>
                <a:cubicBezTo>
                  <a:pt x="24366" y="17526"/>
                  <a:pt x="24392" y="17483"/>
                  <a:pt x="24416" y="17382"/>
                </a:cubicBezTo>
                <a:cubicBezTo>
                  <a:pt x="24432" y="17313"/>
                  <a:pt x="24419" y="17251"/>
                  <a:pt x="24418" y="17180"/>
                </a:cubicBezTo>
                <a:cubicBezTo>
                  <a:pt x="24395" y="17258"/>
                  <a:pt x="24388" y="17308"/>
                  <a:pt x="24394" y="17389"/>
                </a:cubicBezTo>
                <a:cubicBezTo>
                  <a:pt x="24398" y="17434"/>
                  <a:pt x="24399" y="17449"/>
                  <a:pt x="24403" y="17479"/>
                </a:cubicBezTo>
              </a:path>
              <a:path w="1194" h="514">
                <a:moveTo>
                  <a:pt x="24695" y="17288"/>
                </a:moveTo>
                <a:cubicBezTo>
                  <a:pt x="24696" y="17273"/>
                  <a:pt x="24697" y="17257"/>
                  <a:pt x="24698" y="17242"/>
                </a:cubicBezTo>
                <a:cubicBezTo>
                  <a:pt x="24693" y="17283"/>
                  <a:pt x="24658" y="17414"/>
                  <a:pt x="24680" y="17448"/>
                </a:cubicBezTo>
                <a:cubicBezTo>
                  <a:pt x="24732" y="17527"/>
                  <a:pt x="24869" y="17449"/>
                  <a:pt x="24931" y="17425"/>
                </a:cubicBezTo>
                <a:cubicBezTo>
                  <a:pt x="24978" y="17406"/>
                  <a:pt x="24994" y="17399"/>
                  <a:pt x="25022" y="17379"/>
                </a:cubicBezTo>
              </a:path>
              <a:path w="1194" h="514">
                <a:moveTo>
                  <a:pt x="24964" y="17293"/>
                </a:moveTo>
                <a:cubicBezTo>
                  <a:pt x="24966" y="17248"/>
                  <a:pt x="24966" y="17232"/>
                  <a:pt x="24942" y="17207"/>
                </a:cubicBezTo>
                <a:cubicBezTo>
                  <a:pt x="24938" y="17301"/>
                  <a:pt x="24924" y="17380"/>
                  <a:pt x="24910" y="17472"/>
                </a:cubicBezTo>
                <a:cubicBezTo>
                  <a:pt x="24900" y="17533"/>
                  <a:pt x="24908" y="17589"/>
                  <a:pt x="24927" y="17646"/>
                </a:cubicBezTo>
                <a:cubicBezTo>
                  <a:pt x="24933" y="17662"/>
                  <a:pt x="24938" y="17677"/>
                  <a:pt x="24944" y="1769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7745400" y="6419880"/>
            <a:ext cx="208080" cy="183960"/>
          </a:xfrm>
          <a:custGeom>
            <a:avLst/>
            <a:gdLst/>
            <a:ahLst/>
            <a:rect l="l" t="t" r="r" b="b"/>
            <a:pathLst>
              <a:path w="576" h="513">
                <a:moveTo>
                  <a:pt x="21580" y="18345"/>
                </a:moveTo>
                <a:cubicBezTo>
                  <a:pt x="21568" y="18269"/>
                  <a:pt x="21566" y="18196"/>
                  <a:pt x="21560" y="18119"/>
                </a:cubicBezTo>
                <a:cubicBezTo>
                  <a:pt x="21555" y="18054"/>
                  <a:pt x="21555" y="17978"/>
                  <a:pt x="21537" y="17916"/>
                </a:cubicBezTo>
                <a:cubicBezTo>
                  <a:pt x="21531" y="17902"/>
                  <a:pt x="21524" y="17887"/>
                  <a:pt x="21518" y="17873"/>
                </a:cubicBezTo>
                <a:cubicBezTo>
                  <a:pt x="21516" y="17951"/>
                  <a:pt x="21517" y="18029"/>
                  <a:pt x="21519" y="18108"/>
                </a:cubicBezTo>
                <a:cubicBezTo>
                  <a:pt x="21548" y="18038"/>
                  <a:pt x="21562" y="17966"/>
                  <a:pt x="21587" y="17894"/>
                </a:cubicBezTo>
                <a:cubicBezTo>
                  <a:pt x="21608" y="17839"/>
                  <a:pt x="21609" y="17817"/>
                  <a:pt x="21655" y="17843"/>
                </a:cubicBezTo>
                <a:cubicBezTo>
                  <a:pt x="21663" y="17924"/>
                  <a:pt x="21678" y="18005"/>
                  <a:pt x="21684" y="18086"/>
                </a:cubicBezTo>
                <a:cubicBezTo>
                  <a:pt x="21688" y="18143"/>
                  <a:pt x="21693" y="18173"/>
                  <a:pt x="21713" y="18226"/>
                </a:cubicBezTo>
              </a:path>
              <a:path w="576" h="513">
                <a:moveTo>
                  <a:pt x="21954" y="17976"/>
                </a:moveTo>
                <a:cubicBezTo>
                  <a:pt x="21956" y="17960"/>
                  <a:pt x="21957" y="17943"/>
                  <a:pt x="21959" y="17927"/>
                </a:cubicBezTo>
                <a:cubicBezTo>
                  <a:pt x="21906" y="17967"/>
                  <a:pt x="21811" y="18082"/>
                  <a:pt x="21858" y="18166"/>
                </a:cubicBezTo>
                <a:cubicBezTo>
                  <a:pt x="21877" y="18177"/>
                  <a:pt x="21895" y="18188"/>
                  <a:pt x="21914" y="18199"/>
                </a:cubicBezTo>
                <a:cubicBezTo>
                  <a:pt x="21995" y="18161"/>
                  <a:pt x="22084" y="18113"/>
                  <a:pt x="22091" y="18007"/>
                </a:cubicBezTo>
                <a:cubicBezTo>
                  <a:pt x="22096" y="17930"/>
                  <a:pt x="22023" y="17949"/>
                  <a:pt x="21979" y="1794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8091360" y="6373800"/>
            <a:ext cx="222480" cy="220680"/>
          </a:xfrm>
          <a:custGeom>
            <a:avLst/>
            <a:gdLst/>
            <a:ahLst/>
            <a:rect l="l" t="t" r="r" b="b"/>
            <a:pathLst>
              <a:path w="620" h="614">
                <a:moveTo>
                  <a:pt x="22483" y="18020"/>
                </a:moveTo>
                <a:cubicBezTo>
                  <a:pt x="22486" y="17969"/>
                  <a:pt x="22486" y="17949"/>
                  <a:pt x="22475" y="17914"/>
                </a:cubicBezTo>
                <a:cubicBezTo>
                  <a:pt x="22511" y="17988"/>
                  <a:pt x="22539" y="18060"/>
                  <a:pt x="22565" y="18139"/>
                </a:cubicBezTo>
                <a:cubicBezTo>
                  <a:pt x="22577" y="18176"/>
                  <a:pt x="22603" y="18352"/>
                  <a:pt x="22667" y="18318"/>
                </a:cubicBezTo>
                <a:cubicBezTo>
                  <a:pt x="22673" y="18303"/>
                  <a:pt x="22679" y="18289"/>
                  <a:pt x="22685" y="18274"/>
                </a:cubicBezTo>
              </a:path>
              <a:path w="620" h="614">
                <a:moveTo>
                  <a:pt x="22695" y="17945"/>
                </a:moveTo>
                <a:cubicBezTo>
                  <a:pt x="22607" y="17980"/>
                  <a:pt x="22590" y="18037"/>
                  <a:pt x="22541" y="18128"/>
                </a:cubicBezTo>
                <a:cubicBezTo>
                  <a:pt x="22513" y="18180"/>
                  <a:pt x="22501" y="18221"/>
                  <a:pt x="22487" y="18278"/>
                </a:cubicBezTo>
              </a:path>
              <a:path w="620" h="614">
                <a:moveTo>
                  <a:pt x="22949" y="18143"/>
                </a:moveTo>
                <a:cubicBezTo>
                  <a:pt x="23011" y="18082"/>
                  <a:pt x="23012" y="18039"/>
                  <a:pt x="23013" y="17949"/>
                </a:cubicBezTo>
                <a:cubicBezTo>
                  <a:pt x="23013" y="17910"/>
                  <a:pt x="23031" y="17759"/>
                  <a:pt x="22950" y="17797"/>
                </a:cubicBezTo>
                <a:cubicBezTo>
                  <a:pt x="22900" y="17840"/>
                  <a:pt x="22887" y="17854"/>
                  <a:pt x="22847" y="17870"/>
                </a:cubicBezTo>
                <a:cubicBezTo>
                  <a:pt x="22846" y="17778"/>
                  <a:pt x="22861" y="17753"/>
                  <a:pt x="22940" y="17705"/>
                </a:cubicBezTo>
                <a:cubicBezTo>
                  <a:pt x="22992" y="17768"/>
                  <a:pt x="23041" y="17829"/>
                  <a:pt x="23094" y="1789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714240" y="4005360"/>
            <a:ext cx="2303640" cy="52200"/>
          </a:xfrm>
          <a:custGeom>
            <a:avLst/>
            <a:gdLst/>
            <a:ahLst/>
            <a:rect l="l" t="t" r="r" b="b"/>
            <a:pathLst>
              <a:path w="6397" h="149">
                <a:moveTo>
                  <a:pt x="2056" y="11272"/>
                </a:moveTo>
                <a:cubicBezTo>
                  <a:pt x="2031" y="11267"/>
                  <a:pt x="2008" y="11258"/>
                  <a:pt x="1986" y="11251"/>
                </a:cubicBezTo>
                <a:cubicBezTo>
                  <a:pt x="2703" y="11213"/>
                  <a:pt x="3422" y="11185"/>
                  <a:pt x="4139" y="11153"/>
                </a:cubicBezTo>
                <a:cubicBezTo>
                  <a:pt x="5169" y="11108"/>
                  <a:pt x="6178" y="11149"/>
                  <a:pt x="7204" y="11219"/>
                </a:cubicBezTo>
                <a:cubicBezTo>
                  <a:pt x="7539" y="11242"/>
                  <a:pt x="8015" y="11346"/>
                  <a:pt x="8345" y="11259"/>
                </a:cubicBezTo>
                <a:cubicBezTo>
                  <a:pt x="8365" y="11254"/>
                  <a:pt x="8363" y="11232"/>
                  <a:pt x="8382" y="1122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0T14:53:53Z</dcterms:created>
  <dc:creator>cse</dc:creator>
  <dc:description/>
  <dc:language>en-US</dc:language>
  <cp:lastModifiedBy>cse</cp:lastModifiedBy>
  <dcterms:modified xsi:type="dcterms:W3CDTF">2007-12-11T02:28:27Z</dcterms:modified>
  <cp:revision>11</cp:revision>
  <dc:subject/>
  <dc:title>CSE 321 Review Session</dc:title>
</cp:coreProperties>
</file>