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31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BAB7-5D05-4A00-B8EA-D19C44EAB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EC0F-F4BE-4075-A380-0B9AC8A5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7FAD-21C9-4B4D-A0C8-E91297F5F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9188-281D-48AD-AEAE-6B76BB5B5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13BF-98FF-4DD2-8521-F1958AD42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97E9C-BA68-4EBF-8A3B-4A9D68C8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5916-6AF3-43EB-A542-DA4BA296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1ADB-FAEF-4FD1-8039-AAC05EBA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D8CA-8590-4FBC-8C07-F75EEC5A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1C57-FD64-437A-B1F5-915B551A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5BB8A-6203-42FD-A0D0-D184DF2E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9C6C-3553-478F-AF4A-EDD27E18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15A1-F372-4755-B13E-9CE975F6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65F8-5E0C-4FAF-8B46-9BA99D72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637D-132F-49F9-A7E9-09512AC0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B887-F034-4B58-9309-FD930E698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1599-2897-460E-B141-808D4742D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62A1-5992-4544-90E5-8180B6ED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EC96-4DA3-4E53-835D-CB7D47D6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B3CF-496C-4BCB-AD53-39921CD0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DCE2-FAD6-44F5-ADC1-75B96889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A433-7F3A-4EF0-98DD-0FE8DE17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DEEB-C79B-41B5-B086-8A0CE288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3C93-EE69-403F-8F6D-6C02C867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99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12E7-EFD0-48B3-B378-FF6237416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2B6A-CE52-4673-B5F1-D7BBF4EDF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433440" y="142920"/>
            <a:ext cx="8277120" cy="65721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16600" y="120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2438280"/>
            <a:ext cx="8610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obabilistic Methods 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bile Robotic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21337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057560" y="66600"/>
            <a:ext cx="5086440" cy="10764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057560" y="1200240"/>
            <a:ext cx="5086440" cy="1695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4038480" y="2886120"/>
            <a:ext cx="5086440" cy="1076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4057560" y="4019400"/>
            <a:ext cx="5086440" cy="16956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4057560" y="5781600"/>
            <a:ext cx="5086440" cy="10764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53360" y="2971800"/>
            <a:ext cx="307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Principle of </a:t>
            </a:r>
            <a:br>
              <a:rPr sz="2800"/>
            </a:b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Robot Loc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62520" y="2209680"/>
            <a:ext cx="518148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5029200"/>
            <a:ext cx="51814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990720"/>
            <a:ext cx="8384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1828800"/>
            <a:ext cx="8380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2860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99ff"/>
              </a:buClr>
              <a:buSzPct val="50000"/>
              <a:buFont typeface="Monotype Sorts" charset="2"/>
              <a:buChar char="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osition of the robot at ti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99ff"/>
              </a:buClr>
              <a:buSzPct val="50000"/>
              <a:buFont typeface="Monotype Sorts" charset="2"/>
              <a:buChar char="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5051c"/>
                </a:solidFill>
                <a:latin typeface="Times New Roman"/>
              </a:rPr>
              <a:t>Give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99ff"/>
              </a:buClr>
              <a:buSzPct val="50000"/>
              <a:buFont typeface="Monotype Sorts" charset="2"/>
              <a:buChar char="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 and sensor mod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99ff"/>
              </a:buClr>
              <a:buSzPct val="50000"/>
              <a:buFont typeface="Monotype Sorts" charset="2"/>
              <a:buChar char="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 mod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99ff"/>
              </a:buClr>
              <a:buSzPct val="50000"/>
              <a:buFont typeface="Monotype Sorts" charset="2"/>
              <a:buChar char="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 state of the robo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99ff"/>
              </a:buClr>
              <a:buSzPct val="50000"/>
              <a:buFont typeface="Monotype Sorts" charset="2"/>
              <a:buChar char="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99ff"/>
              </a:buClr>
              <a:buSzPct val="85000"/>
              <a:buFont typeface="Symbol" charset="2"/>
              <a:buChar char="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or information (sonar, laser range-finder, camera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99ff"/>
              </a:buClr>
              <a:buSzPct val="85000"/>
              <a:buFont typeface="Symbol" charset="2"/>
              <a:buChar char="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ometry inform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7a0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560" y="266400"/>
            <a:ext cx="84582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Times New Roman"/>
              </a:rPr>
              <a:t>Markov Localization as State Estimation (1)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844880" y="2573280"/>
                <a:ext cx="25178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o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890960" y="3182760"/>
                <a:ext cx="394992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'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952880" y="3786120"/>
                <a:ext cx="9828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952880" y="4373640"/>
                <a:ext cx="31640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Times New Roman"/>
              </a:rPr>
              <a:t>Motion Model</a:t>
            </a: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062240" y="774720"/>
                <a:ext cx="44499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'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90720" y="2743200"/>
            <a:ext cx="289548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952880" y="2743200"/>
            <a:ext cx="289584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Times New Roman"/>
              </a:rPr>
              <a:t>Model for Proximity Sensors </a:t>
            </a:r>
            <a:endParaRPr b="0" lang="en-US" sz="40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60020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nsor is reflected either by a </a:t>
            </a:r>
            <a:r>
              <a:rPr b="0" lang="en-US" sz="2800" spc="-1" strike="noStrike">
                <a:solidFill>
                  <a:srgbClr val="c5051c"/>
                </a:solidFill>
                <a:latin typeface="Times New Roman"/>
              </a:rPr>
              <a:t>kn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7a09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n </a:t>
            </a:r>
            <a:r>
              <a:rPr b="0" lang="en-US" sz="2800" spc="-1" strike="noStrike">
                <a:solidFill>
                  <a:srgbClr val="c5051c"/>
                </a:solidFill>
                <a:latin typeface="Times New Roman"/>
              </a:rPr>
              <a:t>unkn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sta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90240" y="6095880"/>
            <a:ext cx="18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imes New Roman"/>
              </a:rPr>
              <a:t>Laser 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56640" y="601992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imes New Roman"/>
              </a:rPr>
              <a:t>Sonar 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6320" y="3062160"/>
            <a:ext cx="4495680" cy="28814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572000" y="3048120"/>
            <a:ext cx="4572000" cy="293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828800" y="2057400"/>
            <a:ext cx="7162920" cy="685800"/>
          </a:xfrm>
          <a:prstGeom prst="rect">
            <a:avLst/>
          </a:prstGeom>
          <a:solidFill>
            <a:srgbClr val="cfcfdb"/>
          </a:solidFill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320" y="1812960"/>
            <a:ext cx="8991360" cy="228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3108240"/>
            <a:ext cx="6477120" cy="685800"/>
          </a:xfrm>
          <a:prstGeom prst="rect">
            <a:avLst/>
          </a:prstGeom>
          <a:solidFill>
            <a:srgbClr val="cfcfdb"/>
          </a:solidFill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2041560"/>
            <a:ext cx="6002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imes New Roman"/>
              </a:rPr>
              <a:t>Motion: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99ff"/>
                </a:solidFill>
                <a:latin typeface="Times New Roman"/>
              </a:rPr>
              <a:t>Perception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99ff"/>
                </a:solidFill>
                <a:latin typeface="Times New Roman"/>
              </a:rPr>
              <a:t>… is optimal under the Markov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4560" y="6004080"/>
            <a:ext cx="488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alman filters, Hidden Markov Models, D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458200" cy="72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Times New Roman"/>
              </a:rPr>
              <a:t>Markov Localization as State Estimation (2)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908000" y="2120760"/>
                <a:ext cx="63216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←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l</m:t>
                        </m:r>
                        <m:r>
                          <m:t xml:space="preserve">'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l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'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905120" y="3206880"/>
                <a:ext cx="6324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←</m:t>
                    </m:r>
                    <m:r>
                      <m:t xml:space="preserve">α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o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Times New Roman"/>
              </a:rPr>
              <a:t>Grid-based Markov Localization</a:t>
            </a: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5024160" cy="43750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43880" y="1600200"/>
            <a:ext cx="627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ree-dimensional grid over the sate space of the rob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Times New Roman"/>
              </a:rPr>
              <a:t>Localization Example (1)</a:t>
            </a: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248520" y="1295280"/>
            <a:ext cx="2211120" cy="22179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427560" y="1295280"/>
            <a:ext cx="2211120" cy="2217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323040" y="4325760"/>
            <a:ext cx="2211480" cy="2075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531720" y="1295280"/>
            <a:ext cx="2211480" cy="22179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531720" y="4319640"/>
            <a:ext cx="2211480" cy="2081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9" name="" descr=""/>
          <p:cNvPicPr/>
          <p:nvPr/>
        </p:nvPicPr>
        <p:blipFill>
          <a:blip r:embed="rId6"/>
          <a:stretch/>
        </p:blipFill>
        <p:spPr>
          <a:xfrm>
            <a:off x="3427560" y="4319640"/>
            <a:ext cx="2211120" cy="2081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Times New Roman"/>
              </a:rPr>
              <a:t>Localization Example</a:t>
            </a: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410080" y="1828800"/>
            <a:ext cx="2743200" cy="19494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066680" y="4648320"/>
            <a:ext cx="2743200" cy="19476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5486400" y="4495680"/>
            <a:ext cx="2743200" cy="19494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990720" y="1752480"/>
            <a:ext cx="3581280" cy="237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46200" y="1306440"/>
            <a:ext cx="7851600" cy="4789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80880" y="24120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916600" y="120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17520"/>
            <a:ext cx="814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Times New Roman"/>
              </a:rPr>
              <a:t>Sample-based Density Re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639720" y="1306440"/>
            <a:ext cx="7864560" cy="47894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209280" y="6424560"/>
            <a:ext cx="28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. Fox, Univ. of Washing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04920" y="76320"/>
            <a:ext cx="814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Times New Roman"/>
              </a:rPr>
              <a:t>Global Localization (sona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219320" y="1281240"/>
            <a:ext cx="6715080" cy="4967280"/>
          </a:xfrm>
          <a:prstGeom prst="rect">
            <a:avLst/>
          </a:prstGeom>
          <a:ln w="50760">
            <a:solidFill>
              <a:srgbClr val="0099ff"/>
            </a:solidFill>
            <a:miter/>
          </a:ln>
        </p:spPr>
      </p:pic>
      <p:sp>
        <p:nvSpPr>
          <p:cNvPr id="213" name=""/>
          <p:cNvSpPr/>
          <p:nvPr/>
        </p:nvSpPr>
        <p:spPr>
          <a:xfrm>
            <a:off x="3100320" y="2133720"/>
            <a:ext cx="1674720" cy="1549440"/>
          </a:xfrm>
          <a:custGeom>
            <a:avLst/>
            <a:gdLst/>
            <a:ahLst/>
            <a:rect l="l" t="t" r="r" b="b"/>
            <a:pathLst>
              <a:path w="1055" h="976">
                <a:moveTo>
                  <a:pt x="1055" y="968"/>
                </a:moveTo>
                <a:cubicBezTo>
                  <a:pt x="922" y="969"/>
                  <a:pt x="427" y="976"/>
                  <a:pt x="255" y="976"/>
                </a:cubicBezTo>
                <a:cubicBezTo>
                  <a:pt x="83" y="976"/>
                  <a:pt x="46" y="976"/>
                  <a:pt x="23" y="968"/>
                </a:cubicBezTo>
                <a:cubicBezTo>
                  <a:pt x="0" y="960"/>
                  <a:pt x="102" y="936"/>
                  <a:pt x="119" y="928"/>
                </a:cubicBezTo>
                <a:cubicBezTo>
                  <a:pt x="136" y="920"/>
                  <a:pt x="90" y="925"/>
                  <a:pt x="127" y="920"/>
                </a:cubicBezTo>
                <a:cubicBezTo>
                  <a:pt x="164" y="915"/>
                  <a:pt x="282" y="916"/>
                  <a:pt x="343" y="896"/>
                </a:cubicBezTo>
                <a:cubicBezTo>
                  <a:pt x="404" y="876"/>
                  <a:pt x="460" y="849"/>
                  <a:pt x="495" y="800"/>
                </a:cubicBezTo>
                <a:cubicBezTo>
                  <a:pt x="530" y="751"/>
                  <a:pt x="543" y="669"/>
                  <a:pt x="551" y="600"/>
                </a:cubicBezTo>
                <a:cubicBezTo>
                  <a:pt x="559" y="531"/>
                  <a:pt x="552" y="484"/>
                  <a:pt x="543" y="384"/>
                </a:cubicBezTo>
                <a:cubicBezTo>
                  <a:pt x="534" y="284"/>
                  <a:pt x="502" y="67"/>
                  <a:pt x="495" y="0"/>
                </a:cubicBezTo>
              </a:path>
            </a:pathLst>
          </a:custGeom>
          <a:noFill/>
          <a:ln w="38160">
            <a:solidFill>
              <a:srgbClr val="0099ff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5" dur="1" fill="hold"/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0" dur="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4480" y="27936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16600" y="120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98560" y="191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4059000" cy="6095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51920" y="110808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imes New Roman"/>
              </a:rPr>
              <a:t>Stereo cam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960" y="396252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imes New Roman"/>
              </a:rPr>
              <a:t>Infra-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0760" y="297180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imes New Roman"/>
              </a:rPr>
              <a:t>So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4495680"/>
            <a:ext cx="26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imes New Roman"/>
              </a:rPr>
              <a:t>Laser range-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0760" y="53341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imes New Roman"/>
              </a:rPr>
              <a:t>So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315200" y="2971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imes New Roman"/>
              </a:rPr>
              <a:t>Tact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438280" y="1295280"/>
            <a:ext cx="1219320" cy="76320"/>
          </a:xfrm>
          <a:prstGeom prst="line">
            <a:avLst/>
          </a:prstGeom>
          <a:ln w="381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371600" y="5410080"/>
            <a:ext cx="2209680" cy="152640"/>
          </a:xfrm>
          <a:prstGeom prst="line">
            <a:avLst/>
          </a:prstGeom>
          <a:ln w="381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87560" y="4600440"/>
            <a:ext cx="1148040" cy="87480"/>
          </a:xfrm>
          <a:custGeom>
            <a:avLst/>
            <a:gdLst/>
            <a:ahLst/>
            <a:rect l="l" t="t" r="r" b="b"/>
            <a:pathLst>
              <a:path w="723" h="55">
                <a:moveTo>
                  <a:pt x="0" y="55"/>
                </a:moveTo>
                <a:lnTo>
                  <a:pt x="723" y="0"/>
                </a:lnTo>
              </a:path>
            </a:pathLst>
          </a:custGeom>
          <a:noFill/>
          <a:ln w="38160">
            <a:solidFill>
              <a:srgbClr val="00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4191120"/>
            <a:ext cx="1981080" cy="0"/>
          </a:xfrm>
          <a:prstGeom prst="line">
            <a:avLst/>
          </a:prstGeom>
          <a:ln w="381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49280" y="3222720"/>
            <a:ext cx="2279880" cy="14040"/>
          </a:xfrm>
          <a:custGeom>
            <a:avLst/>
            <a:gdLst/>
            <a:ahLst/>
            <a:rect l="l" t="t" r="r" b="b"/>
            <a:pathLst>
              <a:path w="1436" h="9">
                <a:moveTo>
                  <a:pt x="0" y="9"/>
                </a:moveTo>
                <a:lnTo>
                  <a:pt x="1436" y="0"/>
                </a:lnTo>
              </a:path>
            </a:pathLst>
          </a:custGeom>
          <a:noFill/>
          <a:ln w="38160">
            <a:solidFill>
              <a:srgbClr val="00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8920" y="3192480"/>
            <a:ext cx="1944720" cy="290520"/>
          </a:xfrm>
          <a:custGeom>
            <a:avLst/>
            <a:gdLst/>
            <a:ahLst/>
            <a:rect l="l" t="t" r="r" b="b"/>
            <a:pathLst>
              <a:path w="1225" h="183">
                <a:moveTo>
                  <a:pt x="1225" y="0"/>
                </a:moveTo>
                <a:lnTo>
                  <a:pt x="0" y="183"/>
                </a:lnTo>
              </a:path>
            </a:pathLst>
          </a:custGeom>
          <a:noFill/>
          <a:ln w="38160">
            <a:solidFill>
              <a:srgbClr val="00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72000" y="3324240"/>
            <a:ext cx="1886040" cy="1682640"/>
          </a:xfrm>
          <a:custGeom>
            <a:avLst/>
            <a:gdLst/>
            <a:ahLst/>
            <a:rect l="l" t="t" r="r" b="b"/>
            <a:pathLst>
              <a:path w="1188" h="1060">
                <a:moveTo>
                  <a:pt x="1188" y="0"/>
                </a:moveTo>
                <a:lnTo>
                  <a:pt x="0" y="1060"/>
                </a:lnTo>
              </a:path>
            </a:pathLst>
          </a:custGeom>
          <a:noFill/>
          <a:ln w="38160">
            <a:solidFill>
              <a:srgbClr val="00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914400" y="2023920"/>
            <a:ext cx="7467480" cy="2928960"/>
          </a:xfrm>
          <a:prstGeom prst="rect">
            <a:avLst/>
          </a:prstGeom>
          <a:ln w="50760">
            <a:solidFill>
              <a:srgbClr val="0099ff"/>
            </a:solidFill>
            <a:miter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Times New Roman"/>
              </a:rPr>
              <a:t>Example Run Sonar</a:t>
            </a: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6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914400" y="2028960"/>
            <a:ext cx="7543800" cy="2943000"/>
          </a:xfrm>
          <a:prstGeom prst="rect">
            <a:avLst/>
          </a:prstGeom>
          <a:ln w="38160">
            <a:solidFill>
              <a:srgbClr val="0099ff"/>
            </a:solidFill>
            <a:miter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Times New Roman"/>
              </a:rPr>
              <a:t>Example Run Laser</a:t>
            </a: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2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ff"/>
                </a:solidFill>
                <a:latin typeface="Times New Roman"/>
              </a:rPr>
              <a:t>Localization for AIBO robots</a:t>
            </a: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066680" y="1322280"/>
            <a:ext cx="6934320" cy="46213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6209280" y="6491160"/>
            <a:ext cx="28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. Fox, Univ. of Washing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ff"/>
                </a:solidFill>
                <a:latin typeface="Times New Roman"/>
              </a:rPr>
              <a:t>Localization for AIBO rob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209280" y="6491160"/>
            <a:ext cx="28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. Fox, Univ. of Washing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600200" y="1709640"/>
            <a:ext cx="6029280" cy="38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8" dur="1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43040" y="71280"/>
            <a:ext cx="7657920" cy="67154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14480" y="27936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16600" y="120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98560" y="191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43400" y="152280"/>
            <a:ext cx="4724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Mobile Robot Ma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3600" y="317160"/>
            <a:ext cx="7696440" cy="50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Times New Roman"/>
              </a:rPr>
              <a:t>Mapping the Allen Center: Raw Data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695680" y="1676520"/>
            <a:ext cx="4039920" cy="4937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4" dur="1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09480" y="207360"/>
            <a:ext cx="842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Times New Roman"/>
              </a:rPr>
              <a:t>Mapping the Allen Cen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095560" y="1981080"/>
            <a:ext cx="4971960" cy="4210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p:timing>
    <p:tnLst>
      <p:par>
        <p:cTn id="105" dur="indefinite" restart="never" nodeType="tmRoot">
          <p:childTnLst>
            <p:seq>
              <p:cTn id="106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0" dur="1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80880" y="24120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16600" y="120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42720" y="522000"/>
            <a:ext cx="8691480" cy="57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Times New Roman"/>
              </a:rPr>
              <a:t>Multi-robot Mapping</a:t>
            </a:r>
            <a:endParaRPr b="0" lang="en-US" sz="40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52440" y="2438280"/>
            <a:ext cx="8359920" cy="3002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37" name=""/>
          <p:cNvSpPr/>
          <p:nvPr/>
        </p:nvSpPr>
        <p:spPr>
          <a:xfrm>
            <a:off x="1266840" y="5489640"/>
            <a:ext cx="10281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obot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352400" y="5489640"/>
            <a:ext cx="10310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obot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78840" y="5489640"/>
            <a:ext cx="1026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obot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6" dur="1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19040" y="333360"/>
            <a:ext cx="83059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2" dur="1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41400" y="3581280"/>
            <a:ext cx="4330800" cy="1168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68680" y="2133720"/>
            <a:ext cx="4152960" cy="635040"/>
          </a:xfrm>
          <a:prstGeom prst="rect">
            <a:avLst/>
          </a:prstGeom>
          <a:solidFill>
            <a:srgbClr val="fff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99ff"/>
                </a:solidFill>
                <a:latin typeface="Times New Roman"/>
              </a:rPr>
              <a:t>Bayes Formula</a:t>
            </a: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852560" y="2174760"/>
                <a:ext cx="5800680" cy="262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∧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|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104400"/>
            <a:ext cx="8501040" cy="119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99ff"/>
                </a:solidFill>
                <a:latin typeface="Times New Roman"/>
              </a:rPr>
              <a:t>A Simple Example: </a:t>
            </a:r>
            <a:br>
              <a:rPr sz="4400"/>
            </a:br>
            <a:r>
              <a:rPr b="0" lang="de-DE" sz="4400" spc="-1" strike="noStrike">
                <a:solidFill>
                  <a:srgbClr val="0099ff"/>
                </a:solidFill>
                <a:latin typeface="Times New Roman"/>
              </a:rPr>
              <a:t>Estimating the state of a door</a:t>
            </a: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30080" y="1571400"/>
            <a:ext cx="8413920" cy="185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a robot obtaines measurem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Door=open|SensorMeasurement=s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rt form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(open|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108160" y="3111480"/>
            <a:ext cx="5346360" cy="2998800"/>
            <a:chOff x="2108160" y="3111480"/>
            <a:chExt cx="5346360" cy="2998800"/>
          </a:xfrm>
        </p:grpSpPr>
        <p:sp>
          <p:nvSpPr>
            <p:cNvPr id="112" name=""/>
            <p:cNvSpPr/>
            <p:nvPr/>
          </p:nvSpPr>
          <p:spPr>
            <a:xfrm>
              <a:off x="3076560" y="5972040"/>
              <a:ext cx="184320" cy="13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95680" y="5961240"/>
              <a:ext cx="185760" cy="13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300400" y="5970600"/>
              <a:ext cx="185760" cy="13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2108160" y="3111480"/>
              <a:ext cx="5346360" cy="2935080"/>
              <a:chOff x="2108160" y="3111480"/>
              <a:chExt cx="5346360" cy="2935080"/>
            </a:xfrm>
          </p:grpSpPr>
          <p:sp>
            <p:nvSpPr>
              <p:cNvPr id="116" name=""/>
              <p:cNvSpPr/>
              <p:nvPr/>
            </p:nvSpPr>
            <p:spPr>
              <a:xfrm>
                <a:off x="5510520" y="3559680"/>
                <a:ext cx="1134000" cy="2465280"/>
              </a:xfrm>
              <a:custGeom>
                <a:avLst/>
                <a:gdLst/>
                <a:ahLst/>
                <a:rect l="l" t="t" r="r" b="b"/>
                <a:pathLst>
                  <a:path w="784" h="1848">
                    <a:moveTo>
                      <a:pt x="0" y="0"/>
                    </a:moveTo>
                    <a:lnTo>
                      <a:pt x="784" y="0"/>
                    </a:lnTo>
                    <a:lnTo>
                      <a:pt x="784" y="1840"/>
                    </a:lnTo>
                    <a:lnTo>
                      <a:pt x="8" y="1848"/>
                    </a:lnTo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5510520" y="3549240"/>
                <a:ext cx="0" cy="247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119680" y="4082760"/>
                <a:ext cx="1284120" cy="981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119680" y="4637880"/>
                <a:ext cx="1284120" cy="1387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19680" y="4616640"/>
                <a:ext cx="0" cy="140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08160" y="6025320"/>
                <a:ext cx="128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3404160" y="4616280"/>
                <a:ext cx="0" cy="139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416040" y="4253400"/>
                <a:ext cx="2777040" cy="1195200"/>
              </a:xfrm>
              <a:custGeom>
                <a:avLst/>
                <a:gdLst/>
                <a:ahLst/>
                <a:rect l="l" t="t" r="r" b="b"/>
                <a:pathLst>
                  <a:path w="1480" h="824">
                    <a:moveTo>
                      <a:pt x="0" y="344"/>
                    </a:moveTo>
                    <a:lnTo>
                      <a:pt x="1480" y="0"/>
                    </a:lnTo>
                    <a:lnTo>
                      <a:pt x="1480" y="824"/>
                    </a:lnTo>
                    <a:lnTo>
                      <a:pt x="0" y="408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3739680" y="3111480"/>
                <a:ext cx="3714840" cy="49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5499000" y="3389040"/>
                <a:ext cx="1284120" cy="15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795000" y="3389040"/>
                <a:ext cx="0" cy="26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040640" y="6025320"/>
                <a:ext cx="3297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85320"/>
            <a:ext cx="8425080" cy="119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99ff"/>
                </a:solidFill>
                <a:latin typeface="Times New Roman"/>
              </a:rPr>
              <a:t>Causal vs. Diagnostic Reasoning</a:t>
            </a: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’re interested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(open|s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agnos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aso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nowledge 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p(s|open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easier to obtai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causal to diagnosti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Apply Bayes 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981080" y="5356080"/>
                <a:ext cx="560700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pen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4160" y="352080"/>
            <a:ext cx="84247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99ff"/>
                </a:solidFill>
                <a:latin typeface="Times New Roman"/>
              </a:rPr>
              <a:t>Normalization</a:t>
            </a: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297080" y="1460520"/>
                <a:ext cx="508464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pen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295280" y="2349360"/>
                <a:ext cx="59230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¬</m:t>
                    </m:r>
                    <m:r>
                      <m:rPr>
                        <m:lit/>
                        <m:nor/>
                      </m:rPr>
                      <m:t xml:space="preserve">open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t xml:space="preserve">¬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¬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650880" y="3657600"/>
                <a:ext cx="78487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∧</m:t>
                        </m:r>
                        <m:r>
                          <m:t xml:space="preserve">¬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t xml:space="preserve">¬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¬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42920" y="5538960"/>
                <a:ext cx="8845560" cy="10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pen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t xml:space="preserve">¬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¬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194000" y="5057640"/>
                <a:ext cx="4762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108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(s|open) = 0.6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(s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pen) = 0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(open) = p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pen) = 0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746280" y="2631960"/>
                <a:ext cx="7995960" cy="205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t xml:space="preserve">¬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¬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743040" y="5111640"/>
            <a:ext cx="803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aise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he probability, that the door is open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180720"/>
            <a:ext cx="8425080" cy="119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Times New Roman"/>
              </a:rPr>
              <a:t>Integrating a second Measurement ...</a:t>
            </a: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2080" y="1472760"/>
            <a:ext cx="84135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New measurement </a:t>
            </a:r>
            <a:r>
              <a:rPr b="0" i="1" lang="de-DE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(s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|open) = 0.</a:t>
            </a:r>
            <a:r>
              <a:rPr b="0" i="1" lang="de-DE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(s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pen) = 0.</a:t>
            </a:r>
            <a:r>
              <a:rPr b="0" i="1" lang="de-DE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0080" y="2603520"/>
            <a:ext cx="841392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87240" y="3084480"/>
                <a:ext cx="8004240" cy="25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¬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¬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605520" y="5886360"/>
            <a:ext cx="7966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lower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he probability, that the door is open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649840" y="1752480"/>
            <a:ext cx="3341880" cy="46483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505320" y="1295280"/>
            <a:ext cx="1812960" cy="28958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14480" y="27936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16600" y="120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4191120"/>
            <a:ext cx="2210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imes New Roman"/>
              </a:rPr>
              <a:t>Where am 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98560" y="191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5520" y="2362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6240" y="915840"/>
            <a:ext cx="6968880" cy="4405320"/>
          </a:xfrm>
          <a:custGeom>
            <a:avLst/>
            <a:gdLst/>
            <a:ahLst/>
            <a:rect l="l" t="t" r="r" b="b"/>
            <a:pathLst>
              <a:path w="4390" h="2775">
                <a:moveTo>
                  <a:pt x="1026" y="2719"/>
                </a:moveTo>
                <a:cubicBezTo>
                  <a:pt x="860" y="2651"/>
                  <a:pt x="660" y="2548"/>
                  <a:pt x="501" y="2359"/>
                </a:cubicBezTo>
                <a:cubicBezTo>
                  <a:pt x="342" y="2170"/>
                  <a:pt x="138" y="1846"/>
                  <a:pt x="69" y="1583"/>
                </a:cubicBezTo>
                <a:cubicBezTo>
                  <a:pt x="0" y="1320"/>
                  <a:pt x="0" y="1016"/>
                  <a:pt x="85" y="783"/>
                </a:cubicBezTo>
                <a:cubicBezTo>
                  <a:pt x="170" y="550"/>
                  <a:pt x="234" y="292"/>
                  <a:pt x="581" y="183"/>
                </a:cubicBezTo>
                <a:cubicBezTo>
                  <a:pt x="928" y="74"/>
                  <a:pt x="1583" y="0"/>
                  <a:pt x="2170" y="127"/>
                </a:cubicBezTo>
                <a:cubicBezTo>
                  <a:pt x="2757" y="254"/>
                  <a:pt x="3822" y="808"/>
                  <a:pt x="4106" y="943"/>
                </a:cubicBezTo>
                <a:cubicBezTo>
                  <a:pt x="4390" y="1078"/>
                  <a:pt x="3981" y="887"/>
                  <a:pt x="3874" y="935"/>
                </a:cubicBezTo>
                <a:cubicBezTo>
                  <a:pt x="3767" y="983"/>
                  <a:pt x="3646" y="1030"/>
                  <a:pt x="3466" y="1231"/>
                </a:cubicBezTo>
                <a:cubicBezTo>
                  <a:pt x="3286" y="1432"/>
                  <a:pt x="3010" y="1903"/>
                  <a:pt x="2794" y="2143"/>
                </a:cubicBezTo>
                <a:cubicBezTo>
                  <a:pt x="2578" y="2383"/>
                  <a:pt x="2386" y="2567"/>
                  <a:pt x="2170" y="2671"/>
                </a:cubicBezTo>
                <a:cubicBezTo>
                  <a:pt x="1954" y="2775"/>
                  <a:pt x="1689" y="2759"/>
                  <a:pt x="1498" y="2767"/>
                </a:cubicBezTo>
                <a:cubicBezTo>
                  <a:pt x="1307" y="2775"/>
                  <a:pt x="1162" y="2759"/>
                  <a:pt x="1026" y="2719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52680" y="228600"/>
            <a:ext cx="5486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Times New Roman"/>
              </a:rPr>
              <a:t>Mobile Robot Local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09480" y="1758960"/>
            <a:ext cx="251460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26:58Z</dcterms:created>
  <dc:creator>fox</dc:creator>
  <dc:description/>
  <dc:language>en-US</dc:language>
  <cp:lastModifiedBy>Dieter Fox</cp:lastModifiedBy>
  <cp:lastPrinted>2000-04-03T14:00:33Z</cp:lastPrinted>
  <dcterms:modified xsi:type="dcterms:W3CDTF">2005-11-21T17:05:06Z</dcterms:modified>
  <cp:revision>602</cp:revision>
  <dc:subject/>
  <dc:title>sampl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cmu.edu/~dfox</vt:lpwstr>
  </property>
  <property fmtid="{D5CDD505-2E9C-101B-9397-08002B2CF9AE}" pid="9" name="LinkColor">
    <vt:r8>16711782</vt:r8>
  </property>
  <property fmtid="{D5CDD505-2E9C-101B-9397-08002B2CF9AE}" pid="10" name="MailAddress">
    <vt:lpwstr>dfox@cs.cmu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MyDocs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