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4A7-AEA9-4A99-BE98-5D512656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341-7709-460B-8515-8B03EA2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6F5-634A-474F-84A1-79C5673D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AD7-91A6-4916-9712-E6834F5E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6A6-1645-4E3C-B9DF-5875EA61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6BA8-E42F-4CFA-BAB6-097734A0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9E0E-091D-4D41-9EEF-7F763E5F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55EB-2E6E-424C-BFF8-FB8CB935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636A-CBFE-4F10-B666-32E16F18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9883-ADC3-41B8-BB45-9511604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F56B-F1D2-4FDA-A12F-581BA27A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3A4-03BF-4CAD-9E2D-27BF718C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A23B-B380-490C-82F9-92AC64B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AA0D-4BFF-44F2-8AF0-6FC7DD4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699E-2D6A-44AA-A516-3656776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D24B-9C14-4A81-8924-71E47F91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41EA-7740-489B-A7B2-0D5F9F17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AF1-010A-42CD-916A-D842D5F6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5C7-7A69-4936-9943-F9A4873E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175-E9F2-4728-B8D8-F95BFB1D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E0B-1CEA-4472-B67E-345685C6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010-5887-4AA9-93C2-9188C72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608-DBE3-4D6D-8293-F1A76DFF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0DC-FAB9-499D-B2D3-373BB51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1217-578B-4EFB-91F6-F9CF71BCC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C83-08C4-4354-918C-A12F8D6F1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433440" y="142920"/>
            <a:ext cx="8277120" cy="6572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438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babilistic Methods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bile Robo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1337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057560" y="66600"/>
            <a:ext cx="50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57560" y="1200240"/>
            <a:ext cx="5086440" cy="1695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38480" y="2886120"/>
            <a:ext cx="50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57560" y="4019400"/>
            <a:ext cx="5086440" cy="1695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057560" y="5781600"/>
            <a:ext cx="5086440" cy="1076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3360" y="2971800"/>
            <a:ext cx="307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Principle of </a:t>
            </a:r>
            <a:br>
              <a:rPr sz="2800"/>
            </a:b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Robot Loc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209680"/>
            <a:ext cx="5181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029200"/>
            <a:ext cx="5181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990720"/>
            <a:ext cx="838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828800"/>
            <a:ext cx="838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sition of the robot at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51c"/>
                </a:solidFill>
                <a:latin typeface="Times New Roman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and sensor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state of the rob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99ff"/>
              </a:buClr>
              <a:buSzPct val="85000"/>
              <a:buFont typeface="Symbol" charset="2"/>
              <a:buChar char="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 information (sonar, laser range-finder, camera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SzPct val="85000"/>
              <a:buFont typeface="Symbol" charset="2"/>
              <a:buChar char="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ometry inform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7a0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26640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arkov Localization as State Estimation (1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844880" y="2573280"/>
                <a:ext cx="2517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890960" y="3182760"/>
                <a:ext cx="39499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952880" y="3786120"/>
                <a:ext cx="982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952880" y="4373640"/>
                <a:ext cx="3164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Motion Model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062240" y="774720"/>
                <a:ext cx="4449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28954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958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Model for Proximity Sensors 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6002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sor is reflected either by a </a:t>
            </a:r>
            <a:r>
              <a:rPr b="0" lang="en-US" sz="2800" spc="-1" strike="noStrike">
                <a:solidFill>
                  <a:srgbClr val="c5051c"/>
                </a:solidFill>
                <a:latin typeface="Times New Roman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7a09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 </a:t>
            </a:r>
            <a:r>
              <a:rPr b="0" lang="en-US" sz="2800" spc="-1" strike="noStrike">
                <a:solidFill>
                  <a:srgbClr val="c5051c"/>
                </a:solidFill>
                <a:latin typeface="Times New Roman"/>
              </a:rPr>
              <a:t>un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st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0240" y="609588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Laser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56640" y="60199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Sonar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3062160"/>
            <a:ext cx="4495680" cy="2881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29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2057400"/>
            <a:ext cx="7162920" cy="685800"/>
          </a:xfrm>
          <a:prstGeom prst="rect">
            <a:avLst/>
          </a:prstGeom>
          <a:solidFill>
            <a:srgbClr val="cfcfdb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1812960"/>
            <a:ext cx="8991360" cy="228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108240"/>
            <a:ext cx="6477120" cy="685800"/>
          </a:xfrm>
          <a:prstGeom prst="rect">
            <a:avLst/>
          </a:prstGeom>
          <a:solidFill>
            <a:srgbClr val="cfcfdb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041560"/>
            <a:ext cx="600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Motion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Perception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… is optimal under the Markov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4560" y="600408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lman filters, Hidden Markov Models, D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arkov Localization as State Estimation (2)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908000" y="2120760"/>
                <a:ext cx="6321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05120" y="3206880"/>
                <a:ext cx="6324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←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Grid-based Markov Localization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4160" cy="4375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3880" y="1600200"/>
            <a:ext cx="62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-dimensional grid over the sate space of the rob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Localization Example (1)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211120" cy="2217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27560" y="1295280"/>
            <a:ext cx="2211120" cy="2217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23040" y="4325760"/>
            <a:ext cx="2211480" cy="20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31720" y="1295280"/>
            <a:ext cx="2211480" cy="2217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31720" y="4319640"/>
            <a:ext cx="2211480" cy="208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427560" y="4319640"/>
            <a:ext cx="2211120" cy="208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Localization Example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2743200" cy="1949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2743200" cy="194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86400" y="4495680"/>
            <a:ext cx="2743200" cy="1949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358128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6200" y="1306440"/>
            <a:ext cx="7851600" cy="4789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1752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Sample-based Density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39720" y="1306440"/>
            <a:ext cx="7864560" cy="4789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09280" y="64245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Fox, Univ.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7632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Global Localization (sona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1281240"/>
            <a:ext cx="6715080" cy="4967280"/>
          </a:xfrm>
          <a:prstGeom prst="rect">
            <a:avLst/>
          </a:prstGeom>
          <a:ln w="50760">
            <a:solidFill>
              <a:srgbClr val="0099ff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100320" y="2133720"/>
            <a:ext cx="1674720" cy="1549440"/>
          </a:xfrm>
          <a:custGeom>
            <a:avLst/>
            <a:gdLst/>
            <a:ahLst/>
            <a:rect l="l" t="t" r="r" b="b"/>
            <a:pathLst>
              <a:path w="1055" h="976">
                <a:moveTo>
                  <a:pt x="1055" y="968"/>
                </a:moveTo>
                <a:cubicBezTo>
                  <a:pt x="922" y="969"/>
                  <a:pt x="427" y="976"/>
                  <a:pt x="255" y="976"/>
                </a:cubicBezTo>
                <a:cubicBezTo>
                  <a:pt x="83" y="976"/>
                  <a:pt x="46" y="976"/>
                  <a:pt x="23" y="968"/>
                </a:cubicBezTo>
                <a:cubicBezTo>
                  <a:pt x="0" y="960"/>
                  <a:pt x="102" y="936"/>
                  <a:pt x="119" y="928"/>
                </a:cubicBezTo>
                <a:cubicBezTo>
                  <a:pt x="136" y="920"/>
                  <a:pt x="90" y="925"/>
                  <a:pt x="127" y="920"/>
                </a:cubicBezTo>
                <a:cubicBezTo>
                  <a:pt x="164" y="915"/>
                  <a:pt x="282" y="916"/>
                  <a:pt x="343" y="896"/>
                </a:cubicBezTo>
                <a:cubicBezTo>
                  <a:pt x="404" y="876"/>
                  <a:pt x="460" y="849"/>
                  <a:pt x="495" y="800"/>
                </a:cubicBezTo>
                <a:cubicBezTo>
                  <a:pt x="530" y="751"/>
                  <a:pt x="543" y="669"/>
                  <a:pt x="551" y="600"/>
                </a:cubicBezTo>
                <a:cubicBezTo>
                  <a:pt x="559" y="531"/>
                  <a:pt x="552" y="484"/>
                  <a:pt x="543" y="384"/>
                </a:cubicBezTo>
                <a:cubicBezTo>
                  <a:pt x="534" y="284"/>
                  <a:pt x="502" y="67"/>
                  <a:pt x="495" y="0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480" y="2793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8560" y="19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059000" cy="609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1920" y="1108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Stereo 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960" y="39625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Infra-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760" y="2971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S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495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Laser range-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760" y="5334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S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2971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Tac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438280" y="1295280"/>
            <a:ext cx="1219320" cy="7632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5410080"/>
            <a:ext cx="2209680" cy="15264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7560" y="4600440"/>
            <a:ext cx="1148040" cy="87480"/>
          </a:xfrm>
          <a:custGeom>
            <a:avLst/>
            <a:gdLst/>
            <a:ahLst/>
            <a:rect l="l" t="t" r="r" b="b"/>
            <a:pathLst>
              <a:path w="723" h="55">
                <a:moveTo>
                  <a:pt x="0" y="55"/>
                </a:moveTo>
                <a:lnTo>
                  <a:pt x="723" y="0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191120"/>
            <a:ext cx="198108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49280" y="3222720"/>
            <a:ext cx="2279880" cy="14040"/>
          </a:xfrm>
          <a:custGeom>
            <a:avLst/>
            <a:gdLst/>
            <a:ahLst/>
            <a:rect l="l" t="t" r="r" b="b"/>
            <a:pathLst>
              <a:path w="1436" h="9">
                <a:moveTo>
                  <a:pt x="0" y="9"/>
                </a:moveTo>
                <a:lnTo>
                  <a:pt x="1436" y="0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8920" y="3192480"/>
            <a:ext cx="1944720" cy="290520"/>
          </a:xfrm>
          <a:custGeom>
            <a:avLst/>
            <a:gdLst/>
            <a:ahLst/>
            <a:rect l="l" t="t" r="r" b="b"/>
            <a:pathLst>
              <a:path w="1225" h="183">
                <a:moveTo>
                  <a:pt x="1225" y="0"/>
                </a:moveTo>
                <a:lnTo>
                  <a:pt x="0" y="183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2000" y="3324240"/>
            <a:ext cx="1886040" cy="1682640"/>
          </a:xfrm>
          <a:custGeom>
            <a:avLst/>
            <a:gdLst/>
            <a:ahLst/>
            <a:rect l="l" t="t" r="r" b="b"/>
            <a:pathLst>
              <a:path w="1188" h="1060">
                <a:moveTo>
                  <a:pt x="1188" y="0"/>
                </a:moveTo>
                <a:lnTo>
                  <a:pt x="0" y="1060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14400" y="2023920"/>
            <a:ext cx="7467480" cy="2928960"/>
          </a:xfrm>
          <a:prstGeom prst="rect">
            <a:avLst/>
          </a:prstGeom>
          <a:ln w="50760">
            <a:solidFill>
              <a:srgbClr val="0099ff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Example Run Sonar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2028960"/>
            <a:ext cx="7543800" cy="294300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Example Run Laser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Localization for AIBO robots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66680" y="1322280"/>
            <a:ext cx="6934320" cy="4621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209280" y="6491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Fox, Univ.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Localization for AIBO rob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09280" y="6491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 Fox, Univ.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00200" y="1709640"/>
            <a:ext cx="6029280" cy="38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3040" y="71280"/>
            <a:ext cx="7657920" cy="6715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4480" y="2793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8560" y="19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1522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Mobile Robot 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3600" y="317160"/>
            <a:ext cx="769644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Times New Roman"/>
              </a:rPr>
              <a:t>Mapping the Allen Center: Raw Data</a:t>
            </a:r>
            <a:endParaRPr b="0" lang="en-US" sz="36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695680" y="1676520"/>
            <a:ext cx="4039920" cy="493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20736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Mapping the Allen Ce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71960" cy="4210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522000"/>
            <a:ext cx="8691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Times New Roman"/>
              </a:rPr>
              <a:t>Multi-robot Mapping</a:t>
            </a:r>
            <a:endParaRPr b="0" lang="en-US" sz="40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52440" y="2438280"/>
            <a:ext cx="8359920" cy="3002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1266840" y="5489640"/>
            <a:ext cx="102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o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52400" y="5489640"/>
            <a:ext cx="103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o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78840" y="5489640"/>
            <a:ext cx="102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o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9040" y="333360"/>
            <a:ext cx="83059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1400" y="3581280"/>
            <a:ext cx="4330800" cy="116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8680" y="2133720"/>
            <a:ext cx="4152960" cy="635040"/>
          </a:xfrm>
          <a:prstGeom prst="rect">
            <a:avLst/>
          </a:prstGeom>
          <a:solidFill>
            <a:srgbClr val="fff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Bayes Formula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52560" y="2174760"/>
                <a:ext cx="5800680" cy="26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04400"/>
            <a:ext cx="850104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A Simple Example: </a:t>
            </a:r>
            <a:br>
              <a:rPr sz="4400"/>
            </a:b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Estimating the state of a door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1571400"/>
            <a:ext cx="8413920" cy="18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a robot obtaines measur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Door=open|SensorMeasurement=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|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08160" y="3111480"/>
            <a:ext cx="5346360" cy="2998800"/>
            <a:chOff x="2108160" y="3111480"/>
            <a:chExt cx="5346360" cy="2998800"/>
          </a:xfrm>
        </p:grpSpPr>
        <p:sp>
          <p:nvSpPr>
            <p:cNvPr id="112" name=""/>
            <p:cNvSpPr/>
            <p:nvPr/>
          </p:nvSpPr>
          <p:spPr>
            <a:xfrm>
              <a:off x="3076560" y="5972040"/>
              <a:ext cx="18432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5680" y="5961240"/>
              <a:ext cx="18576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00400" y="5970600"/>
              <a:ext cx="185760" cy="13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108160" y="3111480"/>
              <a:ext cx="5346360" cy="2935080"/>
              <a:chOff x="2108160" y="3111480"/>
              <a:chExt cx="5346360" cy="293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5510520" y="3559680"/>
                <a:ext cx="1134000" cy="2465280"/>
              </a:xfrm>
              <a:custGeom>
                <a:avLst/>
                <a:gdLst/>
                <a:ahLst/>
                <a:rect l="l" t="t" r="r" b="b"/>
                <a:pathLst>
                  <a:path w="784" h="1848">
                    <a:moveTo>
                      <a:pt x="0" y="0"/>
                    </a:moveTo>
                    <a:lnTo>
                      <a:pt x="784" y="0"/>
                    </a:lnTo>
                    <a:lnTo>
                      <a:pt x="784" y="1840"/>
                    </a:lnTo>
                    <a:lnTo>
                      <a:pt x="8" y="1848"/>
                    </a:ln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5510520" y="3549240"/>
                <a:ext cx="0" cy="247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19680" y="4082760"/>
                <a:ext cx="1284120" cy="98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19680" y="4637880"/>
                <a:ext cx="1284120" cy="138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19680" y="4616640"/>
                <a:ext cx="0" cy="140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08160" y="6025320"/>
                <a:ext cx="128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3404160" y="4616280"/>
                <a:ext cx="0" cy="139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16040" y="4253400"/>
                <a:ext cx="2777040" cy="1195200"/>
              </a:xfrm>
              <a:custGeom>
                <a:avLst/>
                <a:gdLst/>
                <a:ahLst/>
                <a:rect l="l" t="t" r="r" b="b"/>
                <a:pathLst>
                  <a:path w="1480" h="824">
                    <a:moveTo>
                      <a:pt x="0" y="344"/>
                    </a:moveTo>
                    <a:lnTo>
                      <a:pt x="1480" y="0"/>
                    </a:lnTo>
                    <a:lnTo>
                      <a:pt x="1480" y="824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739680" y="3111480"/>
                <a:ext cx="3714840" cy="49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499000" y="3389040"/>
                <a:ext cx="128412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95000" y="3389040"/>
                <a:ext cx="0" cy="26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40640" y="6025320"/>
                <a:ext cx="329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532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Causal vs. Diagnostic Reasoning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’re interest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open|s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so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ledge 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(s|open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asier to obta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causal to diagnost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Apply Bayes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81080" y="5356080"/>
                <a:ext cx="56070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4160" y="352080"/>
            <a:ext cx="8424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ff"/>
                </a:solidFill>
                <a:latin typeface="Times New Roman"/>
              </a:rPr>
              <a:t>Normalization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97080" y="1460520"/>
                <a:ext cx="5084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295280" y="2349360"/>
                <a:ext cx="5923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50880" y="3657600"/>
                <a:ext cx="7848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2920" y="5538960"/>
                <a:ext cx="884556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94000" y="5057640"/>
                <a:ext cx="476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open) = 0.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) = 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46280" y="2631960"/>
                <a:ext cx="799596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43040" y="5111640"/>
            <a:ext cx="80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aise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,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8072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Times New Roman"/>
              </a:rPr>
              <a:t>Integrating a second Measurement ...</a:t>
            </a:r>
            <a:endParaRPr b="0" lang="en-US" sz="4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2080" y="1472760"/>
            <a:ext cx="8413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ew measurement </a:t>
            </a:r>
            <a:r>
              <a:rPr b="0" i="1" lang="de-DE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080" y="2603520"/>
            <a:ext cx="84139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7240" y="3084480"/>
                <a:ext cx="80042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05520" y="5886360"/>
            <a:ext cx="796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ow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,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49840" y="1752480"/>
            <a:ext cx="3341880" cy="4648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1812960" cy="2895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480" y="2793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4191120"/>
            <a:ext cx="221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Where am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8560" y="191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552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6240" y="915840"/>
            <a:ext cx="6968880" cy="4405320"/>
          </a:xfrm>
          <a:custGeom>
            <a:avLst/>
            <a:gdLst/>
            <a:ahLst/>
            <a:rect l="l" t="t" r="r" b="b"/>
            <a:pathLst>
              <a:path w="4390" h="2775">
                <a:moveTo>
                  <a:pt x="1026" y="2719"/>
                </a:moveTo>
                <a:cubicBezTo>
                  <a:pt x="860" y="2651"/>
                  <a:pt x="660" y="2548"/>
                  <a:pt x="501" y="2359"/>
                </a:cubicBezTo>
                <a:cubicBezTo>
                  <a:pt x="342" y="2170"/>
                  <a:pt x="138" y="1846"/>
                  <a:pt x="69" y="1583"/>
                </a:cubicBezTo>
                <a:cubicBezTo>
                  <a:pt x="0" y="1320"/>
                  <a:pt x="0" y="1016"/>
                  <a:pt x="85" y="783"/>
                </a:cubicBezTo>
                <a:cubicBezTo>
                  <a:pt x="170" y="550"/>
                  <a:pt x="234" y="292"/>
                  <a:pt x="581" y="183"/>
                </a:cubicBezTo>
                <a:cubicBezTo>
                  <a:pt x="928" y="74"/>
                  <a:pt x="1583" y="0"/>
                  <a:pt x="2170" y="127"/>
                </a:cubicBezTo>
                <a:cubicBezTo>
                  <a:pt x="2757" y="254"/>
                  <a:pt x="3822" y="808"/>
                  <a:pt x="4106" y="943"/>
                </a:cubicBezTo>
                <a:cubicBezTo>
                  <a:pt x="4390" y="1078"/>
                  <a:pt x="3981" y="887"/>
                  <a:pt x="3874" y="935"/>
                </a:cubicBezTo>
                <a:cubicBezTo>
                  <a:pt x="3767" y="983"/>
                  <a:pt x="3646" y="1030"/>
                  <a:pt x="3466" y="1231"/>
                </a:cubicBezTo>
                <a:cubicBezTo>
                  <a:pt x="3286" y="1432"/>
                  <a:pt x="3010" y="1903"/>
                  <a:pt x="2794" y="2143"/>
                </a:cubicBezTo>
                <a:cubicBezTo>
                  <a:pt x="2578" y="2383"/>
                  <a:pt x="2386" y="2567"/>
                  <a:pt x="2170" y="2671"/>
                </a:cubicBezTo>
                <a:cubicBezTo>
                  <a:pt x="1954" y="2775"/>
                  <a:pt x="1689" y="2759"/>
                  <a:pt x="1498" y="2767"/>
                </a:cubicBezTo>
                <a:cubicBezTo>
                  <a:pt x="1307" y="2775"/>
                  <a:pt x="1162" y="2759"/>
                  <a:pt x="1026" y="2719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2860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</a:rPr>
              <a:t>Mobile Robot Loca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09480" y="1758960"/>
            <a:ext cx="25146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fox</dc:creator>
  <dc:description/>
  <dc:language>en-US</dc:language>
  <cp:lastModifiedBy>Dieter Fox</cp:lastModifiedBy>
  <cp:lastPrinted>2000-04-03T14:00:33Z</cp:lastPrinted>
  <dcterms:modified xsi:type="dcterms:W3CDTF">2005-11-21T17:05:06Z</dcterms:modified>
  <cp:revision>602</cp:revision>
  <dc:subject/>
  <dc:title>samp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cmu.edu/~dfox</vt:lpwstr>
  </property>
  <property fmtid="{D5CDD505-2E9C-101B-9397-08002B2CF9AE}" pid="9" name="LinkColor">
    <vt:r8>16711782</vt:r8>
  </property>
  <property fmtid="{D5CDD505-2E9C-101B-9397-08002B2CF9AE}" pid="10" name="MailAddress">
    <vt:lpwstr>dfox@cs.cmu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Docs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