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3EF-CF60-4D38-B17D-EC15C5F0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F5C-51E0-4AF1-B109-D120BE0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0A3-3B41-4F0C-A0FA-C9895F57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20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92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20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92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C0B-DDD1-4913-ABD7-C11B2C6C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F3B-0C51-4AAE-BA34-DF48F1CA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421F-CD73-4511-AC9F-5B619C0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5A1-C72C-4FF7-B9D8-DE0BF80A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F513-A279-43F9-BA3D-F95E5E8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12F-6DAA-41D7-B63B-F3D4BA66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9C5C-2CC2-4335-B8B1-3D42E0A6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90E-FDAB-44E1-B04E-10A7997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AB5-BC59-4B99-BA72-9DACD58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4E6-9D3D-48E2-A824-F618239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6DC-7B89-4278-93EA-0BC720E9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AD8F-A086-44BC-B1CD-2D604B5F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37F-3EE7-4131-81AD-FBB6EF6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420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9280" y="12949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420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9280" y="3802320"/>
            <a:ext cx="270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1EED-E640-4E71-B393-97AE2A5B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02D-56A9-4739-B68F-691A9B5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13C-6C05-4A87-A96F-EA9A991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E04-732C-4336-B4C8-B683A363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A8E-1A46-49DC-AA08-1D512DA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6B0-05F5-422A-9E89-101C0B2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023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73F-9103-4D17-A90F-732C534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294920"/>
            <a:ext cx="410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02320"/>
            <a:ext cx="841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C29-9D3B-4209-86C0-758E072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EA7-EAC8-449E-A405-C2FE75A5CC99}" type="datetime">
              <a:rPr b="0" lang="de-DE" sz="14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6439-9627-48AC-B1AC-210278808B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F4A-8521-494E-ABE1-9A33A15053F8}" type="datetime">
              <a:rPr b="0" lang="de-DE" sz="14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C9A-AE07-4ED8-BFD6-5F36AC9F189A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41400" y="3581280"/>
            <a:ext cx="4330800" cy="116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8680" y="2133720"/>
            <a:ext cx="4152960" cy="63504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Bayes Formula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852560" y="2174760"/>
                <a:ext cx="580068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02D-295E-43D2-B619-DAD757F82B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384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A Simple Example: </a:t>
            </a:r>
            <a:br>
              <a:rPr sz="3600"/>
            </a:b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State Estimation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080" y="1333440"/>
            <a:ext cx="84139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a robot obtain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doorOpen|s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08160" y="3111480"/>
            <a:ext cx="5346360" cy="2998800"/>
            <a:chOff x="2108160" y="3111480"/>
            <a:chExt cx="5346360" cy="2998800"/>
          </a:xfrm>
        </p:grpSpPr>
        <p:sp>
          <p:nvSpPr>
            <p:cNvPr id="89" name=""/>
            <p:cNvSpPr/>
            <p:nvPr/>
          </p:nvSpPr>
          <p:spPr>
            <a:xfrm>
              <a:off x="3076560" y="5972040"/>
              <a:ext cx="18432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95680" y="5961240"/>
              <a:ext cx="18576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00400" y="5970600"/>
              <a:ext cx="18576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108160" y="3111480"/>
              <a:ext cx="5346360" cy="2935080"/>
              <a:chOff x="2108160" y="3111480"/>
              <a:chExt cx="5346360" cy="2935080"/>
            </a:xfrm>
          </p:grpSpPr>
          <p:sp>
            <p:nvSpPr>
              <p:cNvPr id="93" name=""/>
              <p:cNvSpPr/>
              <p:nvPr/>
            </p:nvSpPr>
            <p:spPr>
              <a:xfrm>
                <a:off x="5510520" y="3559680"/>
                <a:ext cx="1134000" cy="2465280"/>
              </a:xfrm>
              <a:custGeom>
                <a:avLst/>
                <a:gdLst/>
                <a:ahLst/>
                <a:rect l="l" t="t" r="r" b="b"/>
                <a:pathLst>
                  <a:path w="784" h="1848">
                    <a:moveTo>
                      <a:pt x="0" y="0"/>
                    </a:moveTo>
                    <a:lnTo>
                      <a:pt x="784" y="0"/>
                    </a:lnTo>
                    <a:lnTo>
                      <a:pt x="784" y="1840"/>
                    </a:lnTo>
                    <a:lnTo>
                      <a:pt x="8" y="1848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510520" y="3549240"/>
                <a:ext cx="0" cy="24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19680" y="4082760"/>
                <a:ext cx="1284120" cy="98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19680" y="4637880"/>
                <a:ext cx="1284120" cy="138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9680" y="4616640"/>
                <a:ext cx="0" cy="140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08160" y="602532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404160" y="4616280"/>
                <a:ext cx="0" cy="139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16040" y="4253400"/>
                <a:ext cx="2777040" cy="1195200"/>
              </a:xfrm>
              <a:custGeom>
                <a:avLst/>
                <a:gdLst/>
                <a:ahLst/>
                <a:rect l="l" t="t" r="r" b="b"/>
                <a:pathLst>
                  <a:path w="1480" h="824">
                    <a:moveTo>
                      <a:pt x="0" y="344"/>
                    </a:moveTo>
                    <a:lnTo>
                      <a:pt x="1480" y="0"/>
                    </a:lnTo>
                    <a:lnTo>
                      <a:pt x="1480" y="824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739680" y="3111480"/>
                <a:ext cx="3714840" cy="49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5499000" y="3389040"/>
                <a:ext cx="128412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795000" y="3389040"/>
                <a:ext cx="0" cy="26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40640" y="602532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E28-777E-463A-9787-B8090D10F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853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Causal vs. Diagnostic Reasoning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41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open|s) is diagnos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ften causal knowledge li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 easier to obt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pplication of Bayes ru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2720" y="5413320"/>
                <a:ext cx="5607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79840" y="2908440"/>
                <a:ext cx="195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263200" y="3816360"/>
            <a:ext cx="3486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a0000"/>
                </a:solidFill>
                <a:latin typeface="Verdana"/>
              </a:rPr>
              <a:t>count frequenc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838760" y="3416400"/>
            <a:ext cx="143496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48440" y="4292640"/>
            <a:ext cx="216000" cy="1244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960-4063-47A9-81A5-D28B6789D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4160" y="35064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6699"/>
                </a:solidFill>
                <a:latin typeface="Verdana"/>
              </a:rPr>
              <a:t>Normalization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97080" y="1208160"/>
                <a:ext cx="5084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79680" y="2787480"/>
                <a:ext cx="53816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∧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0200" y="4060800"/>
                <a:ext cx="7848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145040" y="352260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2920" y="5286240"/>
                <a:ext cx="88455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194000" y="480528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2E3-7699-4CCC-832D-2524A72AE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413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46280" y="2631960"/>
                <a:ext cx="799596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43040" y="5111640"/>
            <a:ext cx="803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9CA-1AF7-4665-8429-483E09F68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Verdana"/>
              </a:rPr>
              <a:t>Integrating a second Measurement ...</a:t>
            </a:r>
            <a:endParaRPr b="1" lang="en-US" sz="3600" spc="-1" strike="noStrike">
              <a:solidFill>
                <a:srgbClr val="3366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ew measurement </a:t>
            </a:r>
            <a:r>
              <a:rPr b="0" i="1" lang="de-DE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7240" y="3084480"/>
                <a:ext cx="80042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05520" y="5886360"/>
            <a:ext cx="796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ow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A2C-8578-4B33-B84D-69EBC2B15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beame</cp:lastModifiedBy>
  <dcterms:modified xsi:type="dcterms:W3CDTF">2004-11-24T05:13:13Z</dcterms:modified>
  <cp:revision>525</cp:revision>
  <dc:subject/>
  <dc:title>Probabilistic Robotics</dc:title>
</cp:coreProperties>
</file>