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25A2-E77F-4266-868E-51D16A85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41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802320"/>
            <a:ext cx="841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5D41-9502-4633-B897-F6D49A6C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0840" y="12949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8023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0840" y="38023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E872-9392-4B5E-866D-6A89864C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270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200" y="1294920"/>
            <a:ext cx="270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9280" y="1294920"/>
            <a:ext cx="270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802320"/>
            <a:ext cx="270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200" y="3802320"/>
            <a:ext cx="270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9280" y="3802320"/>
            <a:ext cx="270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6E08-0EF8-4D81-B7E2-B9A60A2C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5F62-E78D-4E4A-BC0E-53618DB6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294920"/>
            <a:ext cx="8413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2C27-944A-4D4A-8A25-9F45D4FA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413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07AA-7830-4892-B29E-7971BF1D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10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0840" y="1294920"/>
            <a:ext cx="410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C8C3-04BE-4697-A50D-8FE25BA3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5F94-FC83-4E4F-B60A-07723614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379800"/>
            <a:ext cx="84250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6F80-F885-4A29-90B6-E022D253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0840" y="1294920"/>
            <a:ext cx="410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8023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F748-B746-4240-BAE1-647CC1E5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294920"/>
            <a:ext cx="8413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A67-AA70-49D2-AB65-47CB57D2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10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0840" y="12949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0840" y="38023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7C74-C607-4DE2-B5BC-B68CA274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0840" y="12949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802320"/>
            <a:ext cx="841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A6ED-F76A-4801-8296-438B3EDB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41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802320"/>
            <a:ext cx="841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A0AA-8F8F-45EE-95BA-A4FC5132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0840" y="12949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8023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0840" y="38023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AB03-3D21-40BB-BAF9-4A7CC6DF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270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54200" y="1294920"/>
            <a:ext cx="270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99280" y="1294920"/>
            <a:ext cx="270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802320"/>
            <a:ext cx="270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54200" y="3802320"/>
            <a:ext cx="270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99280" y="3802320"/>
            <a:ext cx="270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A08A-C28F-433F-9434-FEC2CAFE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413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455C-0E5F-479D-8793-1A63ADE6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10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0840" y="1294920"/>
            <a:ext cx="410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6A07-DFA3-4492-A2ED-06DB5087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E8F3-1867-4D81-87D8-A685DA69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79800"/>
            <a:ext cx="84250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37A3-87F5-48E8-A7E2-6A930806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0840" y="1294920"/>
            <a:ext cx="410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8023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C333-71E9-44EA-BAE4-DECD1839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10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0840" y="12949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0840" y="38023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3DEB-7E9B-480F-97B4-92C1B3DA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0840" y="12949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802320"/>
            <a:ext cx="841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817E-F398-4078-90C5-28EC20FB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294920"/>
            <a:ext cx="8413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39E6-B9E3-4F3F-8EDD-03BD6E72E3A2}" type="datetime">
              <a:rPr b="0" lang="de-DE" sz="14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829E-E96D-4655-913C-062E055F247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850680"/>
            <a:ext cx="7678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7946-B284-475F-A7BE-AA13E6C3C471}" type="datetime">
              <a:rPr b="0" lang="de-DE" sz="14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87BE-5DD5-499C-A18C-C31DCE94EC72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4760" y="664380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841400" y="3581280"/>
            <a:ext cx="4330800" cy="1168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68680" y="2133720"/>
            <a:ext cx="4152960" cy="635040"/>
          </a:xfrm>
          <a:prstGeom prst="rect">
            <a:avLst/>
          </a:prstGeom>
          <a:solidFill>
            <a:srgbClr val="fff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6699"/>
                </a:solidFill>
                <a:latin typeface="Verdana"/>
              </a:rPr>
              <a:t>Bayes Formula</a:t>
            </a: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852560" y="2174760"/>
                <a:ext cx="5800680" cy="26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1946-4E3E-404F-B8F6-141B731F98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33840"/>
            <a:ext cx="8425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6699"/>
                </a:solidFill>
                <a:latin typeface="Verdana"/>
              </a:rPr>
              <a:t>A Simple Example: </a:t>
            </a:r>
            <a:br>
              <a:rPr sz="3600"/>
            </a:br>
            <a:r>
              <a:rPr b="1" lang="de-DE" sz="3600" spc="-1" strike="noStrike">
                <a:solidFill>
                  <a:srgbClr val="336699"/>
                </a:solidFill>
                <a:latin typeface="Verdana"/>
              </a:rPr>
              <a:t>State Estimation</a:t>
            </a: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30080" y="1333440"/>
            <a:ext cx="84139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se a robot obtains measuremen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(doorOpen|s)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08160" y="3111480"/>
            <a:ext cx="5346360" cy="2998800"/>
            <a:chOff x="2108160" y="3111480"/>
            <a:chExt cx="5346360" cy="2998800"/>
          </a:xfrm>
        </p:grpSpPr>
        <p:sp>
          <p:nvSpPr>
            <p:cNvPr id="89" name=""/>
            <p:cNvSpPr/>
            <p:nvPr/>
          </p:nvSpPr>
          <p:spPr>
            <a:xfrm>
              <a:off x="3076560" y="5972040"/>
              <a:ext cx="184320" cy="13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95680" y="5961240"/>
              <a:ext cx="185760" cy="13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00400" y="5970600"/>
              <a:ext cx="185760" cy="13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108160" y="3111480"/>
              <a:ext cx="5346360" cy="2935080"/>
              <a:chOff x="2108160" y="3111480"/>
              <a:chExt cx="5346360" cy="2935080"/>
            </a:xfrm>
          </p:grpSpPr>
          <p:sp>
            <p:nvSpPr>
              <p:cNvPr id="93" name=""/>
              <p:cNvSpPr/>
              <p:nvPr/>
            </p:nvSpPr>
            <p:spPr>
              <a:xfrm>
                <a:off x="5510520" y="3559680"/>
                <a:ext cx="1134000" cy="2465280"/>
              </a:xfrm>
              <a:custGeom>
                <a:avLst/>
                <a:gdLst/>
                <a:ahLst/>
                <a:rect l="l" t="t" r="r" b="b"/>
                <a:pathLst>
                  <a:path w="784" h="1848">
                    <a:moveTo>
                      <a:pt x="0" y="0"/>
                    </a:moveTo>
                    <a:lnTo>
                      <a:pt x="784" y="0"/>
                    </a:lnTo>
                    <a:lnTo>
                      <a:pt x="784" y="1840"/>
                    </a:lnTo>
                    <a:lnTo>
                      <a:pt x="8" y="1848"/>
                    </a:lnTo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5510520" y="3549240"/>
                <a:ext cx="0" cy="247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19680" y="4082760"/>
                <a:ext cx="1284120" cy="981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119680" y="4637880"/>
                <a:ext cx="1284120" cy="1387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119680" y="4616640"/>
                <a:ext cx="0" cy="140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108160" y="6025320"/>
                <a:ext cx="128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3404160" y="4616280"/>
                <a:ext cx="0" cy="139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416040" y="4253400"/>
                <a:ext cx="2777040" cy="1195200"/>
              </a:xfrm>
              <a:custGeom>
                <a:avLst/>
                <a:gdLst/>
                <a:ahLst/>
                <a:rect l="l" t="t" r="r" b="b"/>
                <a:pathLst>
                  <a:path w="1480" h="824">
                    <a:moveTo>
                      <a:pt x="0" y="344"/>
                    </a:moveTo>
                    <a:lnTo>
                      <a:pt x="1480" y="0"/>
                    </a:lnTo>
                    <a:lnTo>
                      <a:pt x="1480" y="824"/>
                    </a:lnTo>
                    <a:lnTo>
                      <a:pt x="0" y="408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3739680" y="3111480"/>
                <a:ext cx="3714840" cy="49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5499000" y="3389040"/>
                <a:ext cx="1284120" cy="15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795000" y="3389040"/>
                <a:ext cx="0" cy="26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040640" y="6025320"/>
                <a:ext cx="329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661A-94DD-41DA-A544-C22AF8C32E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85320"/>
            <a:ext cx="84250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6699"/>
                </a:solidFill>
                <a:latin typeface="Verdana"/>
              </a:rPr>
              <a:t>Causal vs. Diagnostic Reasoning</a:t>
            </a: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413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(open|s) is diagnost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Often causal knowledge lik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is easier to obtai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pplication of Bayes rul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052720" y="5413320"/>
                <a:ext cx="56070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pen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579840" y="2908440"/>
                <a:ext cx="19573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ope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263200" y="3816360"/>
            <a:ext cx="34862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a0000"/>
                </a:solidFill>
                <a:latin typeface="Verdana"/>
              </a:rPr>
              <a:t>count frequenc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4838760" y="3416400"/>
            <a:ext cx="1434960" cy="495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048440" y="4292640"/>
            <a:ext cx="216000" cy="1244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5E20-EE9B-4A2A-B115-A570B3CA5C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4160" y="350640"/>
            <a:ext cx="842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6699"/>
                </a:solidFill>
                <a:latin typeface="Verdana"/>
              </a:rPr>
              <a:t>Normalization</a:t>
            </a: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297080" y="1208160"/>
                <a:ext cx="50846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pen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579680" y="2787480"/>
                <a:ext cx="53816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ope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∧</m:t>
                    </m:r>
                    <m:r>
                      <m:t xml:space="preserve">¬</m:t>
                    </m:r>
                    <m:r>
                      <m:rPr>
                        <m:lit/>
                        <m:nor/>
                      </m:rPr>
                      <m:t xml:space="preserve">ope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30200" y="4060800"/>
                <a:ext cx="7848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open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pe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¬</m:t>
                    </m:r>
                    <m:r>
                      <m:rPr>
                        <m:lit/>
                        <m:nor/>
                      </m:rPr>
                      <m:t xml:space="preserve">open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¬</m:t>
                    </m:r>
                    <m:r>
                      <m:rPr>
                        <m:lit/>
                        <m:nor/>
                      </m:rPr>
                      <m:t xml:space="preserve">ope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145040" y="3522600"/>
                <a:ext cx="4762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42920" y="5286240"/>
                <a:ext cx="88455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pen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194000" y="4805280"/>
                <a:ext cx="4762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50F6-8611-4FA6-BD4C-FCBD1746BD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Verdana"/>
              </a:rPr>
              <a:t>Example</a:t>
            </a: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413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s|open) = 0.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s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n) = 0.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open) = p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n) = 0.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46280" y="2631960"/>
                <a:ext cx="7995960" cy="20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t xml:space="preserve">¬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¬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743040" y="5111640"/>
            <a:ext cx="8032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serv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aise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 probability that the door is open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1FEC-38F1-454C-B3E8-5762FEC09C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59400"/>
            <a:ext cx="8425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Verdana"/>
              </a:rPr>
              <a:t>Integrating a second Measurement ...</a:t>
            </a: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2080" y="1472760"/>
            <a:ext cx="8413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New measurement </a:t>
            </a:r>
            <a:r>
              <a:rPr b="0" i="1" lang="de-DE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s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open) = 0.</a:t>
            </a: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s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n) = 0.</a:t>
            </a: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730080" y="2603520"/>
            <a:ext cx="841392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87240" y="3084480"/>
                <a:ext cx="8004240" cy="25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¬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¬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05520" y="5886360"/>
            <a:ext cx="796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lower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 probability, that the door is open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BC04-5ED8-4D6E-A46C-8C47CF2B58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3T15:49:16Z</dcterms:created>
  <dc:creator>SCS</dc:creator>
  <dc:description/>
  <dc:language>en-US</dc:language>
  <cp:lastModifiedBy>beame</cp:lastModifiedBy>
  <dcterms:modified xsi:type="dcterms:W3CDTF">2004-11-24T05:13:13Z</dcterms:modified>
  <cp:revision>525</cp:revision>
  <dc:subject/>
  <dc:title>Probabilistic Robotics</dc:title>
</cp:coreProperties>
</file>