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E862-02DD-4376-AF50-01D82567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535-FF85-4856-8974-BBC29AB0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198F-9DEB-497D-9C36-BE9E8662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816-EFFC-498E-B2A0-AE74BCB1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3468-DE70-48FA-A2BC-09DFC231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0AD0-2AE1-415F-A90A-C3DA8832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81E-BA88-4346-AAF7-77AB3CD8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D7D8-F899-404F-B89E-DFCAF7D8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B249-F0CD-4E82-8EB3-78C1FD15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E68E-5069-40DD-99C9-F827AFDD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646E-1928-4BAC-9EC3-64714100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DC2D-8EBF-4FE7-B2C4-11F92A02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230C3-1534-40B1-B4BE-8EE801E64C6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14300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imental features - CSS Transform and 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oz-trans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oz-ani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-moz-key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3089160"/>
            <a:ext cx="59436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valent for Chrome/Safa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ebkit-trans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valent for O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blank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valent for 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 :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71800" y="2286000"/>
            <a:ext cx="6629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S “pseudoclass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my_div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Always applied styles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my_div:hov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Only applied on hover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2313000"/>
            <a:ext cx="75438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S Transfo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oz-transform: rotateX(_deg) rotateY(_deg) rotateZ(_de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X(_px) translateY(_px) translateZ(_p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205740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S ani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oz-animation: (anim_name) 10s line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oz-animation-iteration-count: infinite; //loop infini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oz-animation-direction: alternate; //reverse before lo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0" y="1828800"/>
            <a:ext cx="59436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imations and Keyfra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-moz-keyframes anim_nam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styles at start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styles at end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styles at halfway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00200" y="1828800"/>
            <a:ext cx="66294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 Sele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for literal next (on same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for all of “type” afterwards (on same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d_1 + #id_2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v id=”id_1”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v id=”id_2”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1600" y="274320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al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seragentman.com/tests/cssSandpaper/cube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splay.co.uk/boxes/jack-in-the-bo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http://desandro.github.com/3dtransforms/examples/cube-02-show-sid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29000" y="228600"/>
            <a:ext cx="6192720" cy="9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test2:hover ~ .test1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kground-image:url("bird.png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dth: 500p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ight: 500p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moz-animation: test_anim 15s linea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@-moz-keyframes test_anim {//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%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dth:500p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ight:500p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moz-transform: rotateX(0deg) rotateY(0de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%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ight:1000p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%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moz-transform: rotateX(360deg) rotateY(720de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dth:1000p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ight:500p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iv id="test2"&gt;mouseoverme bro&lt;/div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iv class="test1"&gt;wololol&lt;/div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iv class="test1"&gt;SADSADSADSAD&lt;/div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41280"/>
            <a:ext cx="2286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Sectio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16:35:18Z</dcterms:created>
  <dc:creator>Shiny Yang</dc:creator>
  <dc:description/>
  <dc:language>en-US</dc:language>
  <cp:lastModifiedBy/>
  <cp:revision>1</cp:revision>
  <dc:subject/>
  <dc:title/>
</cp:coreProperties>
</file>