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194720"/>
            <a:ext cx="822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194720"/>
            <a:ext cx="40158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194720"/>
            <a:ext cx="2649600" cy="2369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hape 8"/>
          <p:cNvSpPr/>
          <p:nvPr/>
        </p:nvSpPr>
        <p:spPr>
          <a:xfrm>
            <a:off x="380880" y="4056120"/>
            <a:ext cx="2835360" cy="80316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3572" h="1012">
                <a:moveTo>
                  <a:pt x="1427" y="303"/>
                </a:moveTo>
                <a:lnTo>
                  <a:pt x="1427" y="303"/>
                </a:lnTo>
                <a:lnTo>
                  <a:pt x="1427" y="0"/>
                </a:lnTo>
                <a:lnTo>
                  <a:pt x="0" y="0"/>
                </a:lnTo>
                <a:lnTo>
                  <a:pt x="0" y="594"/>
                </a:lnTo>
                <a:lnTo>
                  <a:pt x="0" y="594"/>
                </a:lnTo>
                <a:lnTo>
                  <a:pt x="0" y="615"/>
                </a:lnTo>
                <a:lnTo>
                  <a:pt x="1" y="636"/>
                </a:lnTo>
                <a:lnTo>
                  <a:pt x="5" y="658"/>
                </a:lnTo>
                <a:lnTo>
                  <a:pt x="10" y="679"/>
                </a:lnTo>
                <a:lnTo>
                  <a:pt x="16" y="698"/>
                </a:lnTo>
                <a:lnTo>
                  <a:pt x="23" y="718"/>
                </a:lnTo>
                <a:lnTo>
                  <a:pt x="31" y="738"/>
                </a:lnTo>
                <a:lnTo>
                  <a:pt x="39" y="757"/>
                </a:lnTo>
                <a:lnTo>
                  <a:pt x="49" y="775"/>
                </a:lnTo>
                <a:lnTo>
                  <a:pt x="60" y="793"/>
                </a:lnTo>
                <a:lnTo>
                  <a:pt x="73" y="811"/>
                </a:lnTo>
                <a:lnTo>
                  <a:pt x="86" y="827"/>
                </a:lnTo>
                <a:lnTo>
                  <a:pt x="99" y="844"/>
                </a:lnTo>
                <a:lnTo>
                  <a:pt x="114" y="860"/>
                </a:lnTo>
                <a:lnTo>
                  <a:pt x="130" y="875"/>
                </a:lnTo>
                <a:lnTo>
                  <a:pt x="147" y="889"/>
                </a:lnTo>
                <a:lnTo>
                  <a:pt x="165" y="902"/>
                </a:lnTo>
                <a:lnTo>
                  <a:pt x="183" y="917"/>
                </a:lnTo>
                <a:lnTo>
                  <a:pt x="202" y="929"/>
                </a:lnTo>
                <a:lnTo>
                  <a:pt x="222" y="940"/>
                </a:lnTo>
                <a:lnTo>
                  <a:pt x="243" y="951"/>
                </a:lnTo>
                <a:lnTo>
                  <a:pt x="264" y="961"/>
                </a:lnTo>
                <a:lnTo>
                  <a:pt x="285" y="971"/>
                </a:lnTo>
                <a:lnTo>
                  <a:pt x="308" y="979"/>
                </a:lnTo>
                <a:lnTo>
                  <a:pt x="331" y="986"/>
                </a:lnTo>
                <a:lnTo>
                  <a:pt x="354" y="992"/>
                </a:lnTo>
                <a:lnTo>
                  <a:pt x="378" y="999"/>
                </a:lnTo>
                <a:lnTo>
                  <a:pt x="403" y="1004"/>
                </a:lnTo>
                <a:lnTo>
                  <a:pt x="427" y="1007"/>
                </a:lnTo>
                <a:lnTo>
                  <a:pt x="454" y="1010"/>
                </a:lnTo>
                <a:lnTo>
                  <a:pt x="478" y="1012"/>
                </a:lnTo>
                <a:lnTo>
                  <a:pt x="504" y="1012"/>
                </a:lnTo>
                <a:lnTo>
                  <a:pt x="3572" y="1012"/>
                </a:lnTo>
                <a:lnTo>
                  <a:pt x="3572" y="760"/>
                </a:lnTo>
                <a:lnTo>
                  <a:pt x="1882" y="760"/>
                </a:lnTo>
                <a:lnTo>
                  <a:pt x="1882" y="760"/>
                </a:lnTo>
                <a:lnTo>
                  <a:pt x="1859" y="759"/>
                </a:lnTo>
                <a:lnTo>
                  <a:pt x="1836" y="757"/>
                </a:lnTo>
                <a:lnTo>
                  <a:pt x="1814" y="754"/>
                </a:lnTo>
                <a:lnTo>
                  <a:pt x="1791" y="751"/>
                </a:lnTo>
                <a:lnTo>
                  <a:pt x="1768" y="746"/>
                </a:lnTo>
                <a:lnTo>
                  <a:pt x="1747" y="739"/>
                </a:lnTo>
                <a:lnTo>
                  <a:pt x="1725" y="733"/>
                </a:lnTo>
                <a:lnTo>
                  <a:pt x="1704" y="724"/>
                </a:lnTo>
                <a:lnTo>
                  <a:pt x="1685" y="715"/>
                </a:lnTo>
                <a:lnTo>
                  <a:pt x="1665" y="705"/>
                </a:lnTo>
                <a:lnTo>
                  <a:pt x="1645" y="693"/>
                </a:lnTo>
                <a:lnTo>
                  <a:pt x="1627" y="682"/>
                </a:lnTo>
                <a:lnTo>
                  <a:pt x="1609" y="669"/>
                </a:lnTo>
                <a:lnTo>
                  <a:pt x="1592" y="656"/>
                </a:lnTo>
                <a:lnTo>
                  <a:pt x="1575" y="641"/>
                </a:lnTo>
                <a:lnTo>
                  <a:pt x="1560" y="627"/>
                </a:lnTo>
                <a:lnTo>
                  <a:pt x="1544" y="610"/>
                </a:lnTo>
                <a:lnTo>
                  <a:pt x="1529" y="594"/>
                </a:lnTo>
                <a:lnTo>
                  <a:pt x="1516" y="576"/>
                </a:lnTo>
                <a:lnTo>
                  <a:pt x="1503" y="558"/>
                </a:lnTo>
                <a:lnTo>
                  <a:pt x="1492" y="540"/>
                </a:lnTo>
                <a:lnTo>
                  <a:pt x="1480" y="520"/>
                </a:lnTo>
                <a:lnTo>
                  <a:pt x="1471" y="501"/>
                </a:lnTo>
                <a:lnTo>
                  <a:pt x="1463" y="481"/>
                </a:lnTo>
                <a:lnTo>
                  <a:pt x="1454" y="460"/>
                </a:lnTo>
                <a:lnTo>
                  <a:pt x="1446" y="439"/>
                </a:lnTo>
                <a:lnTo>
                  <a:pt x="1440" y="418"/>
                </a:lnTo>
                <a:lnTo>
                  <a:pt x="1435" y="395"/>
                </a:lnTo>
                <a:lnTo>
                  <a:pt x="1432" y="372"/>
                </a:lnTo>
                <a:lnTo>
                  <a:pt x="1428" y="349"/>
                </a:lnTo>
                <a:lnTo>
                  <a:pt x="1427" y="326"/>
                </a:lnTo>
                <a:lnTo>
                  <a:pt x="1427" y="303"/>
                </a:lnTo>
                <a:lnTo>
                  <a:pt x="1427" y="303"/>
                </a:lnTo>
                <a:close/>
              </a:path>
            </a:pathLst>
          </a:custGeom>
          <a:solidFill>
            <a:srgbClr val="8b8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hape 9"/>
          <p:cNvSpPr/>
          <p:nvPr/>
        </p:nvSpPr>
        <p:spPr>
          <a:xfrm>
            <a:off x="6781680" y="4659480"/>
            <a:ext cx="1903680" cy="736560"/>
          </a:xfrm>
          <a:custGeom>
            <a:avLst/>
            <a:gdLst>
              <a:gd name="textAreaLeft" fmla="*/ 0 w 1903680"/>
              <a:gd name="textAreaRight" fmla="*/ 1904040 w 19036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2398" h="927">
                <a:moveTo>
                  <a:pt x="971" y="708"/>
                </a:moveTo>
                <a:lnTo>
                  <a:pt x="971" y="708"/>
                </a:lnTo>
                <a:lnTo>
                  <a:pt x="971" y="927"/>
                </a:lnTo>
                <a:lnTo>
                  <a:pt x="2398" y="927"/>
                </a:lnTo>
                <a:lnTo>
                  <a:pt x="2398" y="418"/>
                </a:lnTo>
                <a:lnTo>
                  <a:pt x="2398" y="418"/>
                </a:lnTo>
                <a:lnTo>
                  <a:pt x="2398" y="395"/>
                </a:lnTo>
                <a:lnTo>
                  <a:pt x="2395" y="374"/>
                </a:lnTo>
                <a:lnTo>
                  <a:pt x="2392" y="354"/>
                </a:lnTo>
                <a:lnTo>
                  <a:pt x="2389" y="333"/>
                </a:lnTo>
                <a:lnTo>
                  <a:pt x="2382" y="313"/>
                </a:lnTo>
                <a:lnTo>
                  <a:pt x="2375" y="294"/>
                </a:lnTo>
                <a:lnTo>
                  <a:pt x="2367" y="274"/>
                </a:lnTo>
                <a:lnTo>
                  <a:pt x="2359" y="254"/>
                </a:lnTo>
                <a:lnTo>
                  <a:pt x="2348" y="236"/>
                </a:lnTo>
                <a:lnTo>
                  <a:pt x="2338" y="219"/>
                </a:lnTo>
                <a:lnTo>
                  <a:pt x="2325" y="201"/>
                </a:lnTo>
                <a:lnTo>
                  <a:pt x="2312" y="184"/>
                </a:lnTo>
                <a:lnTo>
                  <a:pt x="2299" y="168"/>
                </a:lnTo>
                <a:lnTo>
                  <a:pt x="2282" y="152"/>
                </a:lnTo>
                <a:lnTo>
                  <a:pt x="2268" y="137"/>
                </a:lnTo>
                <a:lnTo>
                  <a:pt x="2250" y="122"/>
                </a:lnTo>
                <a:lnTo>
                  <a:pt x="2233" y="108"/>
                </a:lnTo>
                <a:lnTo>
                  <a:pt x="2214" y="94"/>
                </a:lnTo>
                <a:lnTo>
                  <a:pt x="2196" y="83"/>
                </a:lnTo>
                <a:lnTo>
                  <a:pt x="2176" y="70"/>
                </a:lnTo>
                <a:lnTo>
                  <a:pt x="2155" y="60"/>
                </a:lnTo>
                <a:lnTo>
                  <a:pt x="2134" y="50"/>
                </a:lnTo>
                <a:lnTo>
                  <a:pt x="2113" y="41"/>
                </a:lnTo>
                <a:lnTo>
                  <a:pt x="2090" y="32"/>
                </a:lnTo>
                <a:lnTo>
                  <a:pt x="2067" y="24"/>
                </a:lnTo>
                <a:lnTo>
                  <a:pt x="2044" y="18"/>
                </a:lnTo>
                <a:lnTo>
                  <a:pt x="2020" y="13"/>
                </a:lnTo>
                <a:lnTo>
                  <a:pt x="1995" y="8"/>
                </a:lnTo>
                <a:lnTo>
                  <a:pt x="1971" y="5"/>
                </a:lnTo>
                <a:lnTo>
                  <a:pt x="1944" y="1"/>
                </a:lnTo>
                <a:lnTo>
                  <a:pt x="1920" y="0"/>
                </a:lnTo>
                <a:lnTo>
                  <a:pt x="1894" y="0"/>
                </a:lnTo>
                <a:lnTo>
                  <a:pt x="0" y="0"/>
                </a:lnTo>
                <a:lnTo>
                  <a:pt x="0" y="251"/>
                </a:lnTo>
                <a:lnTo>
                  <a:pt x="514" y="251"/>
                </a:lnTo>
                <a:lnTo>
                  <a:pt x="514" y="251"/>
                </a:lnTo>
                <a:lnTo>
                  <a:pt x="539" y="251"/>
                </a:lnTo>
                <a:lnTo>
                  <a:pt x="562" y="254"/>
                </a:lnTo>
                <a:lnTo>
                  <a:pt x="585" y="256"/>
                </a:lnTo>
                <a:lnTo>
                  <a:pt x="607" y="261"/>
                </a:lnTo>
                <a:lnTo>
                  <a:pt x="629" y="266"/>
                </a:lnTo>
                <a:lnTo>
                  <a:pt x="651" y="272"/>
                </a:lnTo>
                <a:lnTo>
                  <a:pt x="673" y="279"/>
                </a:lnTo>
                <a:lnTo>
                  <a:pt x="692" y="287"/>
                </a:lnTo>
                <a:lnTo>
                  <a:pt x="713" y="297"/>
                </a:lnTo>
                <a:lnTo>
                  <a:pt x="733" y="307"/>
                </a:lnTo>
                <a:lnTo>
                  <a:pt x="753" y="318"/>
                </a:lnTo>
                <a:lnTo>
                  <a:pt x="771" y="330"/>
                </a:lnTo>
                <a:lnTo>
                  <a:pt x="789" y="343"/>
                </a:lnTo>
                <a:lnTo>
                  <a:pt x="805" y="356"/>
                </a:lnTo>
                <a:lnTo>
                  <a:pt x="823" y="370"/>
                </a:lnTo>
                <a:lnTo>
                  <a:pt x="838" y="385"/>
                </a:lnTo>
                <a:lnTo>
                  <a:pt x="854" y="401"/>
                </a:lnTo>
                <a:lnTo>
                  <a:pt x="867" y="418"/>
                </a:lnTo>
                <a:lnTo>
                  <a:pt x="882" y="434"/>
                </a:lnTo>
                <a:lnTo>
                  <a:pt x="893" y="452"/>
                </a:lnTo>
                <a:lnTo>
                  <a:pt x="906" y="472"/>
                </a:lnTo>
                <a:lnTo>
                  <a:pt x="918" y="491"/>
                </a:lnTo>
                <a:lnTo>
                  <a:pt x="927" y="511"/>
                </a:lnTo>
                <a:lnTo>
                  <a:pt x="936" y="530"/>
                </a:lnTo>
                <a:lnTo>
                  <a:pt x="944" y="552"/>
                </a:lnTo>
                <a:lnTo>
                  <a:pt x="952" y="573"/>
                </a:lnTo>
                <a:lnTo>
                  <a:pt x="957" y="594"/>
                </a:lnTo>
                <a:lnTo>
                  <a:pt x="963" y="617"/>
                </a:lnTo>
                <a:lnTo>
                  <a:pt x="967" y="638"/>
                </a:lnTo>
                <a:lnTo>
                  <a:pt x="970" y="661"/>
                </a:lnTo>
                <a:lnTo>
                  <a:pt x="971" y="685"/>
                </a:lnTo>
                <a:lnTo>
                  <a:pt x="971" y="708"/>
                </a:lnTo>
                <a:lnTo>
                  <a:pt x="971" y="708"/>
                </a:lnTo>
                <a:close/>
              </a:path>
            </a:pathLst>
          </a:custGeom>
          <a:solidFill>
            <a:srgbClr val="a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hape 10"/>
          <p:cNvSpPr/>
          <p:nvPr/>
        </p:nvSpPr>
        <p:spPr>
          <a:xfrm>
            <a:off x="380880" y="0"/>
            <a:ext cx="1136880" cy="396252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hape 11"/>
          <p:cNvSpPr/>
          <p:nvPr/>
        </p:nvSpPr>
        <p:spPr>
          <a:xfrm>
            <a:off x="3268800" y="4659480"/>
            <a:ext cx="1699920" cy="19980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hape 12"/>
          <p:cNvSpPr/>
          <p:nvPr/>
        </p:nvSpPr>
        <p:spPr>
          <a:xfrm>
            <a:off x="5021280" y="4659480"/>
            <a:ext cx="1684440" cy="199800"/>
          </a:xfrm>
          <a:prstGeom prst="rect">
            <a:avLst/>
          </a:prstGeom>
          <a:solidFill>
            <a:srgbClr val="fe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13"/>
          <p:cNvSpPr/>
          <p:nvPr/>
        </p:nvSpPr>
        <p:spPr>
          <a:xfrm>
            <a:off x="7547040" y="5450040"/>
            <a:ext cx="1139760" cy="1409400"/>
          </a:xfrm>
          <a:custGeom>
            <a:avLst/>
            <a:gdLst>
              <a:gd name="textAreaLeft" fmla="*/ 0 w 1139760"/>
              <a:gd name="textAreaRight" fmla="*/ 1140120 w 1139760"/>
              <a:gd name="textAreaTop" fmla="*/ 0 h 1409400"/>
              <a:gd name="textAreaBottom" fmla="*/ 1409760 h 1409400"/>
            </a:gdLst>
            <a:ahLst/>
            <a:rect l="textAreaLeft" t="textAreaTop" r="textAreaRight" b="textAreaBottom"/>
            <a:pathLst>
              <a:path w="1437" h="1776">
                <a:moveTo>
                  <a:pt x="1435" y="1776"/>
                </a:moveTo>
                <a:lnTo>
                  <a:pt x="0" y="1776"/>
                </a:lnTo>
                <a:lnTo>
                  <a:pt x="2" y="0"/>
                </a:lnTo>
                <a:lnTo>
                  <a:pt x="1437" y="0"/>
                </a:lnTo>
                <a:lnTo>
                  <a:pt x="1435" y="1776"/>
                </a:lnTo>
                <a:close/>
              </a:path>
            </a:pathLst>
          </a:custGeom>
          <a:solidFill>
            <a:srgbClr val="fe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17"/>
          <p:cNvSpPr/>
          <p:nvPr/>
        </p:nvSpPr>
        <p:spPr>
          <a:xfrm>
            <a:off x="152280" y="1371600"/>
            <a:ext cx="2208240" cy="3182760"/>
          </a:xfrm>
          <a:custGeom>
            <a:avLst/>
            <a:gdLst>
              <a:gd name="textAreaLeft" fmla="*/ 0 w 2208240"/>
              <a:gd name="textAreaRight" fmla="*/ 2208600 w 2208240"/>
              <a:gd name="textAreaTop" fmla="*/ 0 h 3182760"/>
              <a:gd name="textAreaBottom" fmla="*/ 3183120 h 3182760"/>
            </a:gdLst>
            <a:ahLst/>
            <a:rect l="textAreaLeft" t="textAreaTop" r="textAreaRight" b="textAreaBottom"/>
            <a:pathLst>
              <a:path w="2782" h="4010">
                <a:moveTo>
                  <a:pt x="635" y="719"/>
                </a:moveTo>
                <a:lnTo>
                  <a:pt x="635" y="719"/>
                </a:lnTo>
                <a:lnTo>
                  <a:pt x="635" y="4010"/>
                </a:lnTo>
                <a:lnTo>
                  <a:pt x="0" y="4010"/>
                </a:lnTo>
                <a:lnTo>
                  <a:pt x="0" y="418"/>
                </a:lnTo>
                <a:lnTo>
                  <a:pt x="0" y="418"/>
                </a:lnTo>
                <a:lnTo>
                  <a:pt x="0" y="397"/>
                </a:lnTo>
                <a:lnTo>
                  <a:pt x="2" y="376"/>
                </a:lnTo>
                <a:lnTo>
                  <a:pt x="5" y="355"/>
                </a:lnTo>
                <a:lnTo>
                  <a:pt x="10" y="333"/>
                </a:lnTo>
                <a:lnTo>
                  <a:pt x="15" y="314"/>
                </a:lnTo>
                <a:lnTo>
                  <a:pt x="21" y="294"/>
                </a:lnTo>
                <a:lnTo>
                  <a:pt x="29" y="275"/>
                </a:lnTo>
                <a:lnTo>
                  <a:pt x="39" y="255"/>
                </a:lnTo>
                <a:lnTo>
                  <a:pt x="49" y="237"/>
                </a:lnTo>
                <a:lnTo>
                  <a:pt x="60" y="219"/>
                </a:lnTo>
                <a:lnTo>
                  <a:pt x="72" y="201"/>
                </a:lnTo>
                <a:lnTo>
                  <a:pt x="85" y="185"/>
                </a:lnTo>
                <a:lnTo>
                  <a:pt x="100" y="169"/>
                </a:lnTo>
                <a:lnTo>
                  <a:pt x="114" y="152"/>
                </a:lnTo>
                <a:lnTo>
                  <a:pt x="131" y="137"/>
                </a:lnTo>
                <a:lnTo>
                  <a:pt x="147" y="123"/>
                </a:lnTo>
                <a:lnTo>
                  <a:pt x="165" y="110"/>
                </a:lnTo>
                <a:lnTo>
                  <a:pt x="183" y="97"/>
                </a:lnTo>
                <a:lnTo>
                  <a:pt x="202" y="84"/>
                </a:lnTo>
                <a:lnTo>
                  <a:pt x="222" y="72"/>
                </a:lnTo>
                <a:lnTo>
                  <a:pt x="242" y="61"/>
                </a:lnTo>
                <a:lnTo>
                  <a:pt x="263" y="51"/>
                </a:lnTo>
                <a:lnTo>
                  <a:pt x="286" y="41"/>
                </a:lnTo>
                <a:lnTo>
                  <a:pt x="307" y="33"/>
                </a:lnTo>
                <a:lnTo>
                  <a:pt x="330" y="26"/>
                </a:lnTo>
                <a:lnTo>
                  <a:pt x="354" y="20"/>
                </a:lnTo>
                <a:lnTo>
                  <a:pt x="379" y="13"/>
                </a:lnTo>
                <a:lnTo>
                  <a:pt x="403" y="9"/>
                </a:lnTo>
                <a:lnTo>
                  <a:pt x="428" y="5"/>
                </a:lnTo>
                <a:lnTo>
                  <a:pt x="452" y="4"/>
                </a:lnTo>
                <a:lnTo>
                  <a:pt x="478" y="2"/>
                </a:lnTo>
                <a:lnTo>
                  <a:pt x="504" y="0"/>
                </a:lnTo>
                <a:lnTo>
                  <a:pt x="2782" y="0"/>
                </a:lnTo>
                <a:lnTo>
                  <a:pt x="2782" y="263"/>
                </a:lnTo>
                <a:lnTo>
                  <a:pt x="1092" y="263"/>
                </a:lnTo>
                <a:lnTo>
                  <a:pt x="1092" y="263"/>
                </a:lnTo>
                <a:lnTo>
                  <a:pt x="1069" y="263"/>
                </a:lnTo>
                <a:lnTo>
                  <a:pt x="1045" y="265"/>
                </a:lnTo>
                <a:lnTo>
                  <a:pt x="1022" y="268"/>
                </a:lnTo>
                <a:lnTo>
                  <a:pt x="1001" y="271"/>
                </a:lnTo>
                <a:lnTo>
                  <a:pt x="978" y="276"/>
                </a:lnTo>
                <a:lnTo>
                  <a:pt x="957" y="283"/>
                </a:lnTo>
                <a:lnTo>
                  <a:pt x="935" y="291"/>
                </a:lnTo>
                <a:lnTo>
                  <a:pt x="914" y="299"/>
                </a:lnTo>
                <a:lnTo>
                  <a:pt x="895" y="307"/>
                </a:lnTo>
                <a:lnTo>
                  <a:pt x="875" y="317"/>
                </a:lnTo>
                <a:lnTo>
                  <a:pt x="855" y="329"/>
                </a:lnTo>
                <a:lnTo>
                  <a:pt x="838" y="340"/>
                </a:lnTo>
                <a:lnTo>
                  <a:pt x="820" y="353"/>
                </a:lnTo>
                <a:lnTo>
                  <a:pt x="802" y="368"/>
                </a:lnTo>
                <a:lnTo>
                  <a:pt x="785" y="381"/>
                </a:lnTo>
                <a:lnTo>
                  <a:pt x="769" y="397"/>
                </a:lnTo>
                <a:lnTo>
                  <a:pt x="754" y="412"/>
                </a:lnTo>
                <a:lnTo>
                  <a:pt x="740" y="428"/>
                </a:lnTo>
                <a:lnTo>
                  <a:pt x="727" y="446"/>
                </a:lnTo>
                <a:lnTo>
                  <a:pt x="713" y="464"/>
                </a:lnTo>
                <a:lnTo>
                  <a:pt x="702" y="482"/>
                </a:lnTo>
                <a:lnTo>
                  <a:pt x="691" y="502"/>
                </a:lnTo>
                <a:lnTo>
                  <a:pt x="681" y="521"/>
                </a:lnTo>
                <a:lnTo>
                  <a:pt x="671" y="542"/>
                </a:lnTo>
                <a:lnTo>
                  <a:pt x="663" y="562"/>
                </a:lnTo>
                <a:lnTo>
                  <a:pt x="656" y="583"/>
                </a:lnTo>
                <a:lnTo>
                  <a:pt x="650" y="606"/>
                </a:lnTo>
                <a:lnTo>
                  <a:pt x="645" y="627"/>
                </a:lnTo>
                <a:lnTo>
                  <a:pt x="640" y="650"/>
                </a:lnTo>
                <a:lnTo>
                  <a:pt x="638" y="673"/>
                </a:lnTo>
                <a:lnTo>
                  <a:pt x="637" y="696"/>
                </a:lnTo>
                <a:lnTo>
                  <a:pt x="635" y="719"/>
                </a:lnTo>
                <a:lnTo>
                  <a:pt x="635" y="719"/>
                </a:lnTo>
                <a:close/>
              </a:path>
            </a:pathLst>
          </a:custGeom>
          <a:solidFill>
            <a:srgbClr val="fe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18"/>
          <p:cNvSpPr/>
          <p:nvPr/>
        </p:nvSpPr>
        <p:spPr>
          <a:xfrm>
            <a:off x="152280" y="4641840"/>
            <a:ext cx="498600" cy="221616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19"/>
          <p:cNvSpPr/>
          <p:nvPr/>
        </p:nvSpPr>
        <p:spPr>
          <a:xfrm>
            <a:off x="2413080" y="1371600"/>
            <a:ext cx="2431800" cy="20808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hape 20"/>
          <p:cNvSpPr/>
          <p:nvPr/>
        </p:nvSpPr>
        <p:spPr>
          <a:xfrm>
            <a:off x="4911840" y="1371600"/>
            <a:ext cx="1965240" cy="208080"/>
          </a:xfrm>
          <a:prstGeom prst="rect">
            <a:avLst/>
          </a:prstGeom>
          <a:solidFill>
            <a:srgbClr val="e3b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hape 21"/>
          <p:cNvSpPr/>
          <p:nvPr/>
        </p:nvSpPr>
        <p:spPr>
          <a:xfrm>
            <a:off x="6943680" y="1371600"/>
            <a:ext cx="2200320" cy="208080"/>
          </a:xfrm>
          <a:prstGeom prst="rect">
            <a:avLst/>
          </a:prstGeom>
          <a:solidFill>
            <a:srgbClr val="a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hape 25"/>
          <p:cNvSpPr/>
          <p:nvPr/>
        </p:nvSpPr>
        <p:spPr>
          <a:xfrm>
            <a:off x="152280" y="1371600"/>
            <a:ext cx="2208240" cy="3182760"/>
          </a:xfrm>
          <a:custGeom>
            <a:avLst/>
            <a:gdLst>
              <a:gd name="textAreaLeft" fmla="*/ 0 w 2208240"/>
              <a:gd name="textAreaRight" fmla="*/ 2208600 w 2208240"/>
              <a:gd name="textAreaTop" fmla="*/ 0 h 3182760"/>
              <a:gd name="textAreaBottom" fmla="*/ 3183120 h 3182760"/>
            </a:gdLst>
            <a:ahLst/>
            <a:rect l="textAreaLeft" t="textAreaTop" r="textAreaRight" b="textAreaBottom"/>
            <a:pathLst>
              <a:path w="2782" h="4010">
                <a:moveTo>
                  <a:pt x="635" y="719"/>
                </a:moveTo>
                <a:lnTo>
                  <a:pt x="635" y="719"/>
                </a:lnTo>
                <a:lnTo>
                  <a:pt x="635" y="4010"/>
                </a:lnTo>
                <a:lnTo>
                  <a:pt x="0" y="4010"/>
                </a:lnTo>
                <a:lnTo>
                  <a:pt x="0" y="418"/>
                </a:lnTo>
                <a:lnTo>
                  <a:pt x="0" y="418"/>
                </a:lnTo>
                <a:lnTo>
                  <a:pt x="0" y="397"/>
                </a:lnTo>
                <a:lnTo>
                  <a:pt x="2" y="376"/>
                </a:lnTo>
                <a:lnTo>
                  <a:pt x="5" y="355"/>
                </a:lnTo>
                <a:lnTo>
                  <a:pt x="10" y="333"/>
                </a:lnTo>
                <a:lnTo>
                  <a:pt x="15" y="314"/>
                </a:lnTo>
                <a:lnTo>
                  <a:pt x="21" y="294"/>
                </a:lnTo>
                <a:lnTo>
                  <a:pt x="29" y="275"/>
                </a:lnTo>
                <a:lnTo>
                  <a:pt x="39" y="255"/>
                </a:lnTo>
                <a:lnTo>
                  <a:pt x="49" y="237"/>
                </a:lnTo>
                <a:lnTo>
                  <a:pt x="60" y="219"/>
                </a:lnTo>
                <a:lnTo>
                  <a:pt x="72" y="201"/>
                </a:lnTo>
                <a:lnTo>
                  <a:pt x="85" y="185"/>
                </a:lnTo>
                <a:lnTo>
                  <a:pt x="100" y="169"/>
                </a:lnTo>
                <a:lnTo>
                  <a:pt x="114" y="152"/>
                </a:lnTo>
                <a:lnTo>
                  <a:pt x="131" y="137"/>
                </a:lnTo>
                <a:lnTo>
                  <a:pt x="147" y="123"/>
                </a:lnTo>
                <a:lnTo>
                  <a:pt x="165" y="110"/>
                </a:lnTo>
                <a:lnTo>
                  <a:pt x="183" y="97"/>
                </a:lnTo>
                <a:lnTo>
                  <a:pt x="202" y="84"/>
                </a:lnTo>
                <a:lnTo>
                  <a:pt x="222" y="72"/>
                </a:lnTo>
                <a:lnTo>
                  <a:pt x="242" y="61"/>
                </a:lnTo>
                <a:lnTo>
                  <a:pt x="263" y="51"/>
                </a:lnTo>
                <a:lnTo>
                  <a:pt x="286" y="41"/>
                </a:lnTo>
                <a:lnTo>
                  <a:pt x="307" y="33"/>
                </a:lnTo>
                <a:lnTo>
                  <a:pt x="330" y="26"/>
                </a:lnTo>
                <a:lnTo>
                  <a:pt x="354" y="20"/>
                </a:lnTo>
                <a:lnTo>
                  <a:pt x="379" y="13"/>
                </a:lnTo>
                <a:lnTo>
                  <a:pt x="403" y="9"/>
                </a:lnTo>
                <a:lnTo>
                  <a:pt x="428" y="5"/>
                </a:lnTo>
                <a:lnTo>
                  <a:pt x="452" y="4"/>
                </a:lnTo>
                <a:lnTo>
                  <a:pt x="478" y="2"/>
                </a:lnTo>
                <a:lnTo>
                  <a:pt x="504" y="0"/>
                </a:lnTo>
                <a:lnTo>
                  <a:pt x="2782" y="0"/>
                </a:lnTo>
                <a:lnTo>
                  <a:pt x="2782" y="263"/>
                </a:lnTo>
                <a:lnTo>
                  <a:pt x="1092" y="263"/>
                </a:lnTo>
                <a:lnTo>
                  <a:pt x="1092" y="263"/>
                </a:lnTo>
                <a:lnTo>
                  <a:pt x="1069" y="263"/>
                </a:lnTo>
                <a:lnTo>
                  <a:pt x="1045" y="265"/>
                </a:lnTo>
                <a:lnTo>
                  <a:pt x="1022" y="268"/>
                </a:lnTo>
                <a:lnTo>
                  <a:pt x="1001" y="271"/>
                </a:lnTo>
                <a:lnTo>
                  <a:pt x="978" y="276"/>
                </a:lnTo>
                <a:lnTo>
                  <a:pt x="957" y="283"/>
                </a:lnTo>
                <a:lnTo>
                  <a:pt x="935" y="291"/>
                </a:lnTo>
                <a:lnTo>
                  <a:pt x="914" y="299"/>
                </a:lnTo>
                <a:lnTo>
                  <a:pt x="895" y="307"/>
                </a:lnTo>
                <a:lnTo>
                  <a:pt x="875" y="317"/>
                </a:lnTo>
                <a:lnTo>
                  <a:pt x="855" y="329"/>
                </a:lnTo>
                <a:lnTo>
                  <a:pt x="838" y="340"/>
                </a:lnTo>
                <a:lnTo>
                  <a:pt x="820" y="353"/>
                </a:lnTo>
                <a:lnTo>
                  <a:pt x="802" y="368"/>
                </a:lnTo>
                <a:lnTo>
                  <a:pt x="785" y="381"/>
                </a:lnTo>
                <a:lnTo>
                  <a:pt x="769" y="397"/>
                </a:lnTo>
                <a:lnTo>
                  <a:pt x="754" y="412"/>
                </a:lnTo>
                <a:lnTo>
                  <a:pt x="740" y="428"/>
                </a:lnTo>
                <a:lnTo>
                  <a:pt x="727" y="446"/>
                </a:lnTo>
                <a:lnTo>
                  <a:pt x="713" y="464"/>
                </a:lnTo>
                <a:lnTo>
                  <a:pt x="702" y="482"/>
                </a:lnTo>
                <a:lnTo>
                  <a:pt x="691" y="502"/>
                </a:lnTo>
                <a:lnTo>
                  <a:pt x="681" y="521"/>
                </a:lnTo>
                <a:lnTo>
                  <a:pt x="671" y="542"/>
                </a:lnTo>
                <a:lnTo>
                  <a:pt x="663" y="562"/>
                </a:lnTo>
                <a:lnTo>
                  <a:pt x="656" y="583"/>
                </a:lnTo>
                <a:lnTo>
                  <a:pt x="650" y="606"/>
                </a:lnTo>
                <a:lnTo>
                  <a:pt x="645" y="627"/>
                </a:lnTo>
                <a:lnTo>
                  <a:pt x="640" y="650"/>
                </a:lnTo>
                <a:lnTo>
                  <a:pt x="638" y="673"/>
                </a:lnTo>
                <a:lnTo>
                  <a:pt x="637" y="696"/>
                </a:lnTo>
                <a:lnTo>
                  <a:pt x="635" y="719"/>
                </a:lnTo>
                <a:lnTo>
                  <a:pt x="635" y="719"/>
                </a:lnTo>
                <a:close/>
              </a:path>
            </a:pathLst>
          </a:custGeom>
          <a:solidFill>
            <a:srgbClr val="fe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hape 26"/>
          <p:cNvSpPr/>
          <p:nvPr/>
        </p:nvSpPr>
        <p:spPr>
          <a:xfrm>
            <a:off x="152280" y="4641840"/>
            <a:ext cx="498600" cy="221616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hape 27"/>
          <p:cNvSpPr/>
          <p:nvPr/>
        </p:nvSpPr>
        <p:spPr>
          <a:xfrm>
            <a:off x="2413080" y="1371600"/>
            <a:ext cx="2431800" cy="20808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28"/>
          <p:cNvSpPr/>
          <p:nvPr/>
        </p:nvSpPr>
        <p:spPr>
          <a:xfrm>
            <a:off x="4911840" y="1371600"/>
            <a:ext cx="1965240" cy="208080"/>
          </a:xfrm>
          <a:prstGeom prst="rect">
            <a:avLst/>
          </a:prstGeom>
          <a:solidFill>
            <a:srgbClr val="e3b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29"/>
          <p:cNvSpPr/>
          <p:nvPr/>
        </p:nvSpPr>
        <p:spPr>
          <a:xfrm>
            <a:off x="6943680" y="1371600"/>
            <a:ext cx="2200320" cy="208080"/>
          </a:xfrm>
          <a:prstGeom prst="rect">
            <a:avLst/>
          </a:prstGeom>
          <a:solidFill>
            <a:srgbClr val="a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hape 34"/>
          <p:cNvSpPr/>
          <p:nvPr/>
        </p:nvSpPr>
        <p:spPr>
          <a:xfrm>
            <a:off x="152280" y="1371600"/>
            <a:ext cx="2208240" cy="3182760"/>
          </a:xfrm>
          <a:custGeom>
            <a:avLst/>
            <a:gdLst>
              <a:gd name="textAreaLeft" fmla="*/ 0 w 2208240"/>
              <a:gd name="textAreaRight" fmla="*/ 2208600 w 2208240"/>
              <a:gd name="textAreaTop" fmla="*/ 0 h 3182760"/>
              <a:gd name="textAreaBottom" fmla="*/ 3183120 h 3182760"/>
            </a:gdLst>
            <a:ahLst/>
            <a:rect l="textAreaLeft" t="textAreaTop" r="textAreaRight" b="textAreaBottom"/>
            <a:pathLst>
              <a:path w="2782" h="4010">
                <a:moveTo>
                  <a:pt x="635" y="719"/>
                </a:moveTo>
                <a:lnTo>
                  <a:pt x="635" y="719"/>
                </a:lnTo>
                <a:lnTo>
                  <a:pt x="635" y="4010"/>
                </a:lnTo>
                <a:lnTo>
                  <a:pt x="0" y="4010"/>
                </a:lnTo>
                <a:lnTo>
                  <a:pt x="0" y="418"/>
                </a:lnTo>
                <a:lnTo>
                  <a:pt x="0" y="418"/>
                </a:lnTo>
                <a:lnTo>
                  <a:pt x="0" y="397"/>
                </a:lnTo>
                <a:lnTo>
                  <a:pt x="2" y="376"/>
                </a:lnTo>
                <a:lnTo>
                  <a:pt x="5" y="355"/>
                </a:lnTo>
                <a:lnTo>
                  <a:pt x="10" y="333"/>
                </a:lnTo>
                <a:lnTo>
                  <a:pt x="15" y="314"/>
                </a:lnTo>
                <a:lnTo>
                  <a:pt x="21" y="294"/>
                </a:lnTo>
                <a:lnTo>
                  <a:pt x="29" y="275"/>
                </a:lnTo>
                <a:lnTo>
                  <a:pt x="39" y="255"/>
                </a:lnTo>
                <a:lnTo>
                  <a:pt x="49" y="237"/>
                </a:lnTo>
                <a:lnTo>
                  <a:pt x="60" y="219"/>
                </a:lnTo>
                <a:lnTo>
                  <a:pt x="72" y="201"/>
                </a:lnTo>
                <a:lnTo>
                  <a:pt x="85" y="185"/>
                </a:lnTo>
                <a:lnTo>
                  <a:pt x="100" y="169"/>
                </a:lnTo>
                <a:lnTo>
                  <a:pt x="114" y="152"/>
                </a:lnTo>
                <a:lnTo>
                  <a:pt x="131" y="137"/>
                </a:lnTo>
                <a:lnTo>
                  <a:pt x="147" y="123"/>
                </a:lnTo>
                <a:lnTo>
                  <a:pt x="165" y="110"/>
                </a:lnTo>
                <a:lnTo>
                  <a:pt x="183" y="97"/>
                </a:lnTo>
                <a:lnTo>
                  <a:pt x="202" y="84"/>
                </a:lnTo>
                <a:lnTo>
                  <a:pt x="222" y="72"/>
                </a:lnTo>
                <a:lnTo>
                  <a:pt x="242" y="61"/>
                </a:lnTo>
                <a:lnTo>
                  <a:pt x="263" y="51"/>
                </a:lnTo>
                <a:lnTo>
                  <a:pt x="286" y="41"/>
                </a:lnTo>
                <a:lnTo>
                  <a:pt x="307" y="33"/>
                </a:lnTo>
                <a:lnTo>
                  <a:pt x="330" y="26"/>
                </a:lnTo>
                <a:lnTo>
                  <a:pt x="354" y="20"/>
                </a:lnTo>
                <a:lnTo>
                  <a:pt x="379" y="13"/>
                </a:lnTo>
                <a:lnTo>
                  <a:pt x="403" y="9"/>
                </a:lnTo>
                <a:lnTo>
                  <a:pt x="428" y="5"/>
                </a:lnTo>
                <a:lnTo>
                  <a:pt x="452" y="4"/>
                </a:lnTo>
                <a:lnTo>
                  <a:pt x="478" y="2"/>
                </a:lnTo>
                <a:lnTo>
                  <a:pt x="504" y="0"/>
                </a:lnTo>
                <a:lnTo>
                  <a:pt x="2782" y="0"/>
                </a:lnTo>
                <a:lnTo>
                  <a:pt x="2782" y="263"/>
                </a:lnTo>
                <a:lnTo>
                  <a:pt x="1092" y="263"/>
                </a:lnTo>
                <a:lnTo>
                  <a:pt x="1092" y="263"/>
                </a:lnTo>
                <a:lnTo>
                  <a:pt x="1069" y="263"/>
                </a:lnTo>
                <a:lnTo>
                  <a:pt x="1045" y="265"/>
                </a:lnTo>
                <a:lnTo>
                  <a:pt x="1022" y="268"/>
                </a:lnTo>
                <a:lnTo>
                  <a:pt x="1001" y="271"/>
                </a:lnTo>
                <a:lnTo>
                  <a:pt x="978" y="276"/>
                </a:lnTo>
                <a:lnTo>
                  <a:pt x="957" y="283"/>
                </a:lnTo>
                <a:lnTo>
                  <a:pt x="935" y="291"/>
                </a:lnTo>
                <a:lnTo>
                  <a:pt x="914" y="299"/>
                </a:lnTo>
                <a:lnTo>
                  <a:pt x="895" y="307"/>
                </a:lnTo>
                <a:lnTo>
                  <a:pt x="875" y="317"/>
                </a:lnTo>
                <a:lnTo>
                  <a:pt x="855" y="329"/>
                </a:lnTo>
                <a:lnTo>
                  <a:pt x="838" y="340"/>
                </a:lnTo>
                <a:lnTo>
                  <a:pt x="820" y="353"/>
                </a:lnTo>
                <a:lnTo>
                  <a:pt x="802" y="368"/>
                </a:lnTo>
                <a:lnTo>
                  <a:pt x="785" y="381"/>
                </a:lnTo>
                <a:lnTo>
                  <a:pt x="769" y="397"/>
                </a:lnTo>
                <a:lnTo>
                  <a:pt x="754" y="412"/>
                </a:lnTo>
                <a:lnTo>
                  <a:pt x="740" y="428"/>
                </a:lnTo>
                <a:lnTo>
                  <a:pt x="727" y="446"/>
                </a:lnTo>
                <a:lnTo>
                  <a:pt x="713" y="464"/>
                </a:lnTo>
                <a:lnTo>
                  <a:pt x="702" y="482"/>
                </a:lnTo>
                <a:lnTo>
                  <a:pt x="691" y="502"/>
                </a:lnTo>
                <a:lnTo>
                  <a:pt x="681" y="521"/>
                </a:lnTo>
                <a:lnTo>
                  <a:pt x="671" y="542"/>
                </a:lnTo>
                <a:lnTo>
                  <a:pt x="663" y="562"/>
                </a:lnTo>
                <a:lnTo>
                  <a:pt x="656" y="583"/>
                </a:lnTo>
                <a:lnTo>
                  <a:pt x="650" y="606"/>
                </a:lnTo>
                <a:lnTo>
                  <a:pt x="645" y="627"/>
                </a:lnTo>
                <a:lnTo>
                  <a:pt x="640" y="650"/>
                </a:lnTo>
                <a:lnTo>
                  <a:pt x="638" y="673"/>
                </a:lnTo>
                <a:lnTo>
                  <a:pt x="637" y="696"/>
                </a:lnTo>
                <a:lnTo>
                  <a:pt x="635" y="719"/>
                </a:lnTo>
                <a:lnTo>
                  <a:pt x="635" y="719"/>
                </a:lnTo>
                <a:close/>
              </a:path>
            </a:pathLst>
          </a:custGeom>
          <a:solidFill>
            <a:srgbClr val="fe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35"/>
          <p:cNvSpPr/>
          <p:nvPr/>
        </p:nvSpPr>
        <p:spPr>
          <a:xfrm>
            <a:off x="152280" y="4641840"/>
            <a:ext cx="498600" cy="221616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36"/>
          <p:cNvSpPr/>
          <p:nvPr/>
        </p:nvSpPr>
        <p:spPr>
          <a:xfrm>
            <a:off x="2413080" y="1371600"/>
            <a:ext cx="2431800" cy="20808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37"/>
          <p:cNvSpPr/>
          <p:nvPr/>
        </p:nvSpPr>
        <p:spPr>
          <a:xfrm>
            <a:off x="4911840" y="1371600"/>
            <a:ext cx="1965240" cy="208080"/>
          </a:xfrm>
          <a:prstGeom prst="rect">
            <a:avLst/>
          </a:prstGeom>
          <a:solidFill>
            <a:srgbClr val="e3b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38"/>
          <p:cNvSpPr/>
          <p:nvPr/>
        </p:nvSpPr>
        <p:spPr>
          <a:xfrm>
            <a:off x="6943680" y="1371600"/>
            <a:ext cx="2200320" cy="208080"/>
          </a:xfrm>
          <a:prstGeom prst="rect">
            <a:avLst/>
          </a:prstGeom>
          <a:solidFill>
            <a:srgbClr val="a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ape 41"/>
          <p:cNvSpPr/>
          <p:nvPr/>
        </p:nvSpPr>
        <p:spPr>
          <a:xfrm flipH="1" rot="10800000">
            <a:off x="228600" y="5334120"/>
            <a:ext cx="2208240" cy="1527120"/>
          </a:xfrm>
          <a:custGeom>
            <a:avLst/>
            <a:gdLst>
              <a:gd name="textAreaLeft" fmla="*/ 360 w 2208240"/>
              <a:gd name="textAreaRight" fmla="*/ 2208960 w 2208240"/>
              <a:gd name="textAreaTop" fmla="*/ 0 h 1527120"/>
              <a:gd name="textAreaBottom" fmla="*/ 1527480 h 1527120"/>
            </a:gdLst>
            <a:ahLst/>
            <a:rect l="textAreaLeft" t="textAreaTop" r="textAreaRight" b="textAreaBottom"/>
            <a:pathLst>
              <a:path w="10000" h="18832">
                <a:moveTo>
                  <a:pt x="2283" y="11895"/>
                </a:moveTo>
                <a:lnTo>
                  <a:pt x="2283" y="11895"/>
                </a:lnTo>
                <a:cubicBezTo>
                  <a:pt x="2258" y="7997"/>
                  <a:pt x="2271" y="3898"/>
                  <a:pt x="2246" y="0"/>
                </a:cubicBezTo>
                <a:lnTo>
                  <a:pt x="37" y="98"/>
                </a:lnTo>
                <a:cubicBezTo>
                  <a:pt x="25" y="4986"/>
                  <a:pt x="12" y="9874"/>
                  <a:pt x="0" y="14762"/>
                </a:cubicBezTo>
                <a:lnTo>
                  <a:pt x="0" y="14762"/>
                </a:lnTo>
                <a:lnTo>
                  <a:pt x="0" y="14967"/>
                </a:lnTo>
                <a:cubicBezTo>
                  <a:pt x="2" y="15036"/>
                  <a:pt x="5" y="15104"/>
                  <a:pt x="7" y="15173"/>
                </a:cubicBezTo>
                <a:cubicBezTo>
                  <a:pt x="11" y="15241"/>
                  <a:pt x="14" y="15310"/>
                  <a:pt x="18" y="15378"/>
                </a:cubicBezTo>
                <a:cubicBezTo>
                  <a:pt x="24" y="15443"/>
                  <a:pt x="30" y="15509"/>
                  <a:pt x="36" y="15574"/>
                </a:cubicBezTo>
                <a:cubicBezTo>
                  <a:pt x="42" y="15642"/>
                  <a:pt x="48" y="15711"/>
                  <a:pt x="54" y="15779"/>
                </a:cubicBezTo>
                <a:cubicBezTo>
                  <a:pt x="61" y="15844"/>
                  <a:pt x="68" y="15910"/>
                  <a:pt x="75" y="15975"/>
                </a:cubicBezTo>
                <a:cubicBezTo>
                  <a:pt x="85" y="16037"/>
                  <a:pt x="94" y="16099"/>
                  <a:pt x="104" y="16161"/>
                </a:cubicBezTo>
                <a:cubicBezTo>
                  <a:pt x="116" y="16220"/>
                  <a:pt x="128" y="16278"/>
                  <a:pt x="140" y="16337"/>
                </a:cubicBezTo>
                <a:cubicBezTo>
                  <a:pt x="152" y="16402"/>
                  <a:pt x="164" y="16468"/>
                  <a:pt x="176" y="16533"/>
                </a:cubicBezTo>
                <a:cubicBezTo>
                  <a:pt x="189" y="16592"/>
                  <a:pt x="203" y="16650"/>
                  <a:pt x="216" y="16709"/>
                </a:cubicBezTo>
                <a:cubicBezTo>
                  <a:pt x="230" y="16761"/>
                  <a:pt x="245" y="16813"/>
                  <a:pt x="259" y="16865"/>
                </a:cubicBezTo>
                <a:cubicBezTo>
                  <a:pt x="275" y="16924"/>
                  <a:pt x="290" y="16982"/>
                  <a:pt x="306" y="17041"/>
                </a:cubicBezTo>
                <a:cubicBezTo>
                  <a:pt x="324" y="17097"/>
                  <a:pt x="341" y="17152"/>
                  <a:pt x="359" y="17208"/>
                </a:cubicBezTo>
                <a:cubicBezTo>
                  <a:pt x="376" y="17254"/>
                  <a:pt x="393" y="17299"/>
                  <a:pt x="410" y="17345"/>
                </a:cubicBezTo>
                <a:cubicBezTo>
                  <a:pt x="430" y="17400"/>
                  <a:pt x="451" y="17456"/>
                  <a:pt x="471" y="17511"/>
                </a:cubicBezTo>
                <a:cubicBezTo>
                  <a:pt x="490" y="17557"/>
                  <a:pt x="509" y="17602"/>
                  <a:pt x="528" y="17648"/>
                </a:cubicBezTo>
                <a:cubicBezTo>
                  <a:pt x="550" y="17690"/>
                  <a:pt x="571" y="17733"/>
                  <a:pt x="593" y="17775"/>
                </a:cubicBezTo>
                <a:cubicBezTo>
                  <a:pt x="615" y="17817"/>
                  <a:pt x="636" y="17860"/>
                  <a:pt x="658" y="17902"/>
                </a:cubicBezTo>
                <a:cubicBezTo>
                  <a:pt x="681" y="17945"/>
                  <a:pt x="703" y="17987"/>
                  <a:pt x="726" y="18030"/>
                </a:cubicBezTo>
                <a:lnTo>
                  <a:pt x="798" y="18147"/>
                </a:lnTo>
                <a:cubicBezTo>
                  <a:pt x="822" y="18180"/>
                  <a:pt x="846" y="18212"/>
                  <a:pt x="870" y="18245"/>
                </a:cubicBezTo>
                <a:lnTo>
                  <a:pt x="945" y="18353"/>
                </a:lnTo>
                <a:cubicBezTo>
                  <a:pt x="973" y="18379"/>
                  <a:pt x="1000" y="18405"/>
                  <a:pt x="1028" y="18431"/>
                </a:cubicBezTo>
                <a:cubicBezTo>
                  <a:pt x="1053" y="18457"/>
                  <a:pt x="1079" y="18483"/>
                  <a:pt x="1104" y="18509"/>
                </a:cubicBezTo>
                <a:lnTo>
                  <a:pt x="1186" y="18597"/>
                </a:lnTo>
                <a:lnTo>
                  <a:pt x="1272" y="18656"/>
                </a:lnTo>
                <a:cubicBezTo>
                  <a:pt x="1302" y="18672"/>
                  <a:pt x="1332" y="18689"/>
                  <a:pt x="1362" y="18705"/>
                </a:cubicBezTo>
                <a:cubicBezTo>
                  <a:pt x="1391" y="18721"/>
                  <a:pt x="1420" y="18738"/>
                  <a:pt x="1449" y="18754"/>
                </a:cubicBezTo>
                <a:cubicBezTo>
                  <a:pt x="1479" y="18770"/>
                  <a:pt x="1508" y="18787"/>
                  <a:pt x="1538" y="18803"/>
                </a:cubicBezTo>
                <a:lnTo>
                  <a:pt x="1625" y="18812"/>
                </a:lnTo>
                <a:cubicBezTo>
                  <a:pt x="1656" y="18819"/>
                  <a:pt x="1687" y="18825"/>
                  <a:pt x="1718" y="18832"/>
                </a:cubicBezTo>
                <a:lnTo>
                  <a:pt x="1812" y="18832"/>
                </a:lnTo>
                <a:lnTo>
                  <a:pt x="10000" y="18832"/>
                </a:lnTo>
                <a:lnTo>
                  <a:pt x="10000" y="16278"/>
                </a:lnTo>
                <a:lnTo>
                  <a:pt x="3925" y="16278"/>
                </a:lnTo>
                <a:lnTo>
                  <a:pt x="3925" y="16278"/>
                </a:lnTo>
                <a:lnTo>
                  <a:pt x="3843" y="16278"/>
                </a:lnTo>
                <a:cubicBezTo>
                  <a:pt x="3814" y="16272"/>
                  <a:pt x="3785" y="16265"/>
                  <a:pt x="3756" y="16259"/>
                </a:cubicBezTo>
                <a:lnTo>
                  <a:pt x="3674" y="16229"/>
                </a:lnTo>
                <a:cubicBezTo>
                  <a:pt x="3649" y="16219"/>
                  <a:pt x="3623" y="16210"/>
                  <a:pt x="3598" y="16200"/>
                </a:cubicBezTo>
                <a:cubicBezTo>
                  <a:pt x="3570" y="16184"/>
                  <a:pt x="3543" y="16167"/>
                  <a:pt x="3515" y="16151"/>
                </a:cubicBezTo>
                <a:lnTo>
                  <a:pt x="3440" y="16082"/>
                </a:lnTo>
                <a:lnTo>
                  <a:pt x="3361" y="16024"/>
                </a:lnTo>
                <a:cubicBezTo>
                  <a:pt x="3336" y="15998"/>
                  <a:pt x="3310" y="15972"/>
                  <a:pt x="3285" y="15946"/>
                </a:cubicBezTo>
                <a:lnTo>
                  <a:pt x="3217" y="15857"/>
                </a:lnTo>
                <a:cubicBezTo>
                  <a:pt x="3193" y="15828"/>
                  <a:pt x="3169" y="15798"/>
                  <a:pt x="3145" y="15769"/>
                </a:cubicBezTo>
                <a:lnTo>
                  <a:pt x="3073" y="15652"/>
                </a:lnTo>
                <a:cubicBezTo>
                  <a:pt x="3053" y="15616"/>
                  <a:pt x="3032" y="15580"/>
                  <a:pt x="3012" y="15544"/>
                </a:cubicBezTo>
                <a:cubicBezTo>
                  <a:pt x="2991" y="15505"/>
                  <a:pt x="2969" y="15466"/>
                  <a:pt x="2948" y="15427"/>
                </a:cubicBezTo>
                <a:cubicBezTo>
                  <a:pt x="2926" y="15385"/>
                  <a:pt x="2905" y="15342"/>
                  <a:pt x="2883" y="15300"/>
                </a:cubicBezTo>
                <a:cubicBezTo>
                  <a:pt x="2863" y="15254"/>
                  <a:pt x="2842" y="15209"/>
                  <a:pt x="2822" y="15163"/>
                </a:cubicBezTo>
                <a:cubicBezTo>
                  <a:pt x="2803" y="15114"/>
                  <a:pt x="2783" y="15065"/>
                  <a:pt x="2764" y="15016"/>
                </a:cubicBezTo>
                <a:lnTo>
                  <a:pt x="2710" y="14869"/>
                </a:lnTo>
                <a:cubicBezTo>
                  <a:pt x="2693" y="14817"/>
                  <a:pt x="2677" y="14765"/>
                  <a:pt x="2660" y="14713"/>
                </a:cubicBezTo>
                <a:cubicBezTo>
                  <a:pt x="2644" y="14657"/>
                  <a:pt x="2629" y="14602"/>
                  <a:pt x="2613" y="14546"/>
                </a:cubicBezTo>
                <a:cubicBezTo>
                  <a:pt x="2596" y="14491"/>
                  <a:pt x="2580" y="14435"/>
                  <a:pt x="2563" y="14380"/>
                </a:cubicBezTo>
                <a:cubicBezTo>
                  <a:pt x="2550" y="14321"/>
                  <a:pt x="2536" y="14263"/>
                  <a:pt x="2523" y="14204"/>
                </a:cubicBezTo>
                <a:cubicBezTo>
                  <a:pt x="2510" y="14139"/>
                  <a:pt x="2497" y="14073"/>
                  <a:pt x="2484" y="14008"/>
                </a:cubicBezTo>
                <a:cubicBezTo>
                  <a:pt x="2472" y="13943"/>
                  <a:pt x="2460" y="13877"/>
                  <a:pt x="2448" y="13812"/>
                </a:cubicBezTo>
                <a:cubicBezTo>
                  <a:pt x="2436" y="13750"/>
                  <a:pt x="2424" y="13689"/>
                  <a:pt x="2412" y="13627"/>
                </a:cubicBezTo>
                <a:cubicBezTo>
                  <a:pt x="2402" y="13562"/>
                  <a:pt x="2393" y="13496"/>
                  <a:pt x="2383" y="13431"/>
                </a:cubicBezTo>
                <a:cubicBezTo>
                  <a:pt x="2375" y="13362"/>
                  <a:pt x="2366" y="13294"/>
                  <a:pt x="2358" y="13225"/>
                </a:cubicBezTo>
                <a:cubicBezTo>
                  <a:pt x="2351" y="13157"/>
                  <a:pt x="2343" y="13088"/>
                  <a:pt x="2336" y="13020"/>
                </a:cubicBezTo>
                <a:lnTo>
                  <a:pt x="2318" y="12795"/>
                </a:lnTo>
                <a:cubicBezTo>
                  <a:pt x="2312" y="12726"/>
                  <a:pt x="2307" y="12658"/>
                  <a:pt x="2301" y="12589"/>
                </a:cubicBezTo>
                <a:cubicBezTo>
                  <a:pt x="2298" y="12514"/>
                  <a:pt x="2296" y="12439"/>
                  <a:pt x="2293" y="12364"/>
                </a:cubicBezTo>
                <a:lnTo>
                  <a:pt x="2290" y="12139"/>
                </a:lnTo>
                <a:cubicBezTo>
                  <a:pt x="2288" y="12058"/>
                  <a:pt x="2285" y="11976"/>
                  <a:pt x="2283" y="11895"/>
                </a:cubicBezTo>
                <a:lnTo>
                  <a:pt x="2283" y="11895"/>
                </a:lnTo>
                <a:close/>
              </a:path>
            </a:pathLst>
          </a:custGeom>
          <a:solidFill>
            <a:srgbClr val="8b8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hape 42"/>
          <p:cNvSpPr/>
          <p:nvPr/>
        </p:nvSpPr>
        <p:spPr>
          <a:xfrm>
            <a:off x="2496960" y="5334120"/>
            <a:ext cx="2432160" cy="20772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hape 43"/>
          <p:cNvSpPr/>
          <p:nvPr/>
        </p:nvSpPr>
        <p:spPr>
          <a:xfrm>
            <a:off x="4995720" y="5334120"/>
            <a:ext cx="1965600" cy="207720"/>
          </a:xfrm>
          <a:prstGeom prst="rect">
            <a:avLst/>
          </a:prstGeom>
          <a:solidFill>
            <a:srgbClr val="fe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hape 44"/>
          <p:cNvSpPr/>
          <p:nvPr/>
        </p:nvSpPr>
        <p:spPr>
          <a:xfrm>
            <a:off x="7010280" y="5334120"/>
            <a:ext cx="2133720" cy="207720"/>
          </a:xfrm>
          <a:prstGeom prst="rect">
            <a:avLst/>
          </a:prstGeom>
          <a:solidFill>
            <a:srgbClr val="bb4c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ape 47"/>
          <p:cNvSpPr/>
          <p:nvPr/>
        </p:nvSpPr>
        <p:spPr>
          <a:xfrm>
            <a:off x="2413080" y="0"/>
            <a:ext cx="2431800" cy="20808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hape 48"/>
          <p:cNvSpPr/>
          <p:nvPr/>
        </p:nvSpPr>
        <p:spPr>
          <a:xfrm>
            <a:off x="4911840" y="0"/>
            <a:ext cx="1965240" cy="208080"/>
          </a:xfrm>
          <a:prstGeom prst="rect">
            <a:avLst/>
          </a:prstGeom>
          <a:solidFill>
            <a:srgbClr val="e3b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hape 49"/>
          <p:cNvSpPr/>
          <p:nvPr/>
        </p:nvSpPr>
        <p:spPr>
          <a:xfrm>
            <a:off x="6943680" y="0"/>
            <a:ext cx="2200320" cy="208080"/>
          </a:xfrm>
          <a:prstGeom prst="rect">
            <a:avLst/>
          </a:prstGeom>
          <a:solidFill>
            <a:srgbClr val="a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hape 50"/>
          <p:cNvSpPr/>
          <p:nvPr/>
        </p:nvSpPr>
        <p:spPr>
          <a:xfrm>
            <a:off x="0" y="0"/>
            <a:ext cx="2346480" cy="208080"/>
          </a:xfrm>
          <a:prstGeom prst="rect">
            <a:avLst/>
          </a:prstGeom>
          <a:solidFill>
            <a:srgbClr val="e3b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hape 51"/>
          <p:cNvSpPr/>
          <p:nvPr/>
        </p:nvSpPr>
        <p:spPr>
          <a:xfrm>
            <a:off x="0" y="6649920"/>
            <a:ext cx="2432160" cy="20808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hape 52"/>
          <p:cNvSpPr/>
          <p:nvPr/>
        </p:nvSpPr>
        <p:spPr>
          <a:xfrm>
            <a:off x="2498760" y="6649920"/>
            <a:ext cx="1965240" cy="208080"/>
          </a:xfrm>
          <a:prstGeom prst="rect">
            <a:avLst/>
          </a:prstGeom>
          <a:solidFill>
            <a:srgbClr val="e06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hape 53"/>
          <p:cNvSpPr/>
          <p:nvPr/>
        </p:nvSpPr>
        <p:spPr>
          <a:xfrm>
            <a:off x="4513320" y="6649920"/>
            <a:ext cx="4630680" cy="208080"/>
          </a:xfrm>
          <a:prstGeom prst="rect">
            <a:avLst/>
          </a:prstGeom>
          <a:solidFill>
            <a:srgbClr val="bf8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3schools.com/css/css_mediatypes.asp" TargetMode="External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arnthemobileweb.com/2009/07/mobile-meta-tags/" TargetMode="External"/><Relationship Id="rId2" Type="http://schemas.openxmlformats.org/officeDocument/2006/relationships/hyperlink" Target="http://www.alistapart.com/articles/putyourcontentinmypocket/" TargetMode="External"/><Relationship Id="rId3" Type="http://schemas.openxmlformats.org/officeDocument/2006/relationships/hyperlink" Target="http://www.smashingmagazine.com/2011/05/02/a-user-centered-approach-to-mobile-design/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19040" y="2190600"/>
            <a:ext cx="4709880" cy="2376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800" spc="-1" strike="noStrike">
                <a:solidFill>
                  <a:srgbClr val="ff7500"/>
                </a:solidFill>
                <a:latin typeface="Arial"/>
              </a:rPr>
              <a:t>Web Pages and Smart Ph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219040" y="4975200"/>
            <a:ext cx="4709880" cy="91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ed47d"/>
                </a:solidFill>
                <a:latin typeface="Arial"/>
              </a:rPr>
              <a:t>(With thanks to Marty Stepp and John Zahorj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Thankfully the internet came before smart ph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Small fixes = big dif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Fix The Existing Co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7009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Meta tag - info about the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meta name="HandheldFriendl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ent="true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meta name="viewport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ent="width=device-wid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ight=device-height, user-scalable=no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I'm So Meta Even This Acr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hape 136"/>
          <p:cNvSpPr/>
          <p:nvPr/>
        </p:nvSpPr>
        <p:spPr>
          <a:xfrm>
            <a:off x="6648480" y="2000160"/>
            <a:ext cx="203832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What if a major overhaul is need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=&gt; Really optimize for mobile ph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Create your own version of the page for mobile ph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Gettin' F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With Javascript or PHP, you can detect specific browsers (e.g. mobile Chro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But with CSS it's really ea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Gettin' F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Courier New"/>
                <a:ea typeface="Courier New"/>
              </a:rPr>
              <a:t>@media</a:t>
            </a: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 tag in CSS (not an html tag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Sections off CSS code to only apply to one type of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fed47d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ed47d"/>
                </a:solidFill>
                <a:latin typeface="Arial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fed47d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ed47d"/>
                </a:solidFill>
                <a:latin typeface="Arial"/>
              </a:rPr>
              <a:t>screen (like your desktop or your ph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fed47d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ed47d"/>
                </a:solidFill>
                <a:latin typeface="Arial"/>
              </a:rPr>
              <a:t>print (pr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fed47d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ed47d"/>
                </a:solidFill>
                <a:latin typeface="Arial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76"/>
              </a:spcBef>
              <a:buClr>
                <a:srgbClr val="fed47d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ed47d"/>
                </a:solidFill>
                <a:latin typeface="Arial"/>
              </a:rPr>
              <a:t>etc. (</a:t>
            </a:r>
            <a:r>
              <a:rPr b="0" lang="en" sz="1800" spc="-1" strike="noStrike" u="sng">
                <a:solidFill>
                  <a:srgbClr val="ff7500"/>
                </a:solidFill>
                <a:uFillTx/>
                <a:latin typeface="Arial"/>
                <a:hlinkClick r:id="rId1"/>
              </a:rPr>
              <a:t>http://www.w3schools.com/css/css_mediatypes.asp</a:t>
            </a:r>
            <a:r>
              <a:rPr b="0" lang="en" sz="2400" spc="-1" strike="noStrike">
                <a:solidFill>
                  <a:srgbClr val="fed47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Gettin' F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501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What we care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@media only screen and (max-device-width: ???p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	</a:t>
            </a: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bod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	</a:t>
            </a: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	</a:t>
            </a: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font-family: "Comic Sans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	</a:t>
            </a: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bod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	</a:t>
            </a: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font-family: "Papyrus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Gettin' F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  <a:hlinkClick r:id="rId1"/>
              </a:rPr>
              <a:t>http://learnthemobileweb.com/2009/07/mobile-meta-tag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  <a:hlinkClick r:id="rId2"/>
              </a:rPr>
              <a:t>http://www.alistapart.com/articles/putyourcontentinmypock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  <a:hlinkClick r:id="rId3"/>
              </a:rPr>
              <a:t>http://www.smashingmagazine.com/2011/05/02/a-user-centered-approach-to-mobile-desig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</a:rPr>
              <a:t>http://mobiforge.com/designing/story/effective-design-multiple-screen-s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</a:rPr>
              <a:t>http://www.smashingmagazine.com/2009/09/27/showcase-of-designs-optimized-for-iphon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</a:rPr>
              <a:t>http://webdesign.about.com/od/mobile/a/write-web-pages-for-the-iphon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</a:rPr>
              <a:t>http://woork.blogspot.com/2008/07/tips-to-design-your-site-for-mobil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ff7500"/>
                </a:solidFill>
                <a:uFillTx/>
                <a:latin typeface="Arial"/>
              </a:rPr>
              <a:t>http://coding.smashingmagazine.com/2011/06/30/designing-for-androi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ed47d"/>
                </a:solidFill>
                <a:latin typeface="Arial"/>
              </a:rPr>
              <a:t>Good ol' Googling will turn up a lot more t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Further Reading </a:t>
            </a:r>
            <a:r>
              <a:rPr b="1" lang="en" sz="3000" spc="-1" strike="noStrike">
                <a:solidFill>
                  <a:srgbClr val="ff7500"/>
                </a:solidFill>
                <a:latin typeface="Arial"/>
              </a:rPr>
              <a:t>(Lots of Good Stuf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Who Ca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hape 80"/>
          <p:cNvSpPr/>
          <p:nvPr/>
        </p:nvSpPr>
        <p:spPr>
          <a:xfrm>
            <a:off x="1343160" y="1809720"/>
            <a:ext cx="6457680" cy="4848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Who Ca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hape 86"/>
          <p:cNvSpPr/>
          <p:nvPr/>
        </p:nvSpPr>
        <p:spPr>
          <a:xfrm>
            <a:off x="1444680" y="1708200"/>
            <a:ext cx="6651720" cy="498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Who Ca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hape 92"/>
          <p:cNvSpPr/>
          <p:nvPr/>
        </p:nvSpPr>
        <p:spPr>
          <a:xfrm>
            <a:off x="1479600" y="1825560"/>
            <a:ext cx="6583320" cy="4942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ed47d"/>
                </a:solidFill>
                <a:latin typeface="Arial"/>
              </a:rPr>
              <a:t>As it turns 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ed47d"/>
                </a:solidFill>
                <a:latin typeface="Arial"/>
              </a:rPr>
              <a:t>Phones are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ed47d"/>
                </a:solidFill>
                <a:latin typeface="Arial"/>
              </a:rPr>
              <a:t>Eyes are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ed47d"/>
                </a:solidFill>
                <a:latin typeface="Arial"/>
              </a:rPr>
              <a:t>Fingers are 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Android Emulat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hape 99"/>
          <p:cNvSpPr/>
          <p:nvPr/>
        </p:nvSpPr>
        <p:spPr>
          <a:xfrm rot="5400000">
            <a:off x="4842000" y="2856240"/>
            <a:ext cx="5035320" cy="265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Why does Amazon change the look of their page for mobile us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Do they change the feel at a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Design All The Th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Design All The Th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hape 111"/>
          <p:cNvSpPr/>
          <p:nvPr/>
        </p:nvSpPr>
        <p:spPr>
          <a:xfrm>
            <a:off x="1746360" y="1855800"/>
            <a:ext cx="6049800" cy="470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55360" y="1579320"/>
            <a:ext cx="7831080" cy="498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Important questions to cons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Why do people go to your websi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Why on their ph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What physical situation are they 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e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fed47d"/>
                </a:solidFill>
                <a:latin typeface="Arial"/>
              </a:rPr>
              <a:t>How big is their ph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Design All The Th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5360" y="21564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7500"/>
                </a:solidFill>
                <a:latin typeface="Arial"/>
              </a:rPr>
              <a:t>Size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hape 123"/>
          <p:cNvSpPr/>
          <p:nvPr/>
        </p:nvSpPr>
        <p:spPr>
          <a:xfrm>
            <a:off x="871560" y="2637000"/>
            <a:ext cx="7797600" cy="3341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son</dc:creator>
  <dc:description/>
  <dc:language>en-US</dc:language>
  <cp:lastModifiedBy>Mason</cp:lastModifiedBy>
  <dcterms:modified xsi:type="dcterms:W3CDTF">2012-04-17T07:33:47Z</dcterms:modified>
  <cp:revision>1</cp:revision>
  <dc:subject/>
  <dc:title>Web Pages and Smart Phones</dc:title>
</cp:coreProperties>
</file>