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37B-FB67-454F-866B-56FDFC89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E95-6497-48E4-BBF5-D04F944B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D5F-68C3-46F9-9112-0964E30B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5D1-4BBE-4E6F-B2D3-0A826798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CFE-C324-4993-9EEC-D4BFB977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3E7-3508-42F9-B41A-B39FBF23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3133-3C46-4C75-87E2-60225ED5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392-5F73-4F37-B7E9-980F5EC2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DCD-A096-4223-A70C-D9CD8BF8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35D-E25A-47DA-9392-0008C42F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D40-4B17-44E6-BDB2-423FBFBA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071-D7AE-4D43-85A3-6B80738A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CACB1-E043-4E85-84E3-09DEDE9B98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14300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mental features - CSS Transform and 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oz-trans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oz-ani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-moz-key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089160"/>
            <a:ext cx="59436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alent for Chrome/Safa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ebkit-trans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alent for O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blank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alent for 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 :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71800" y="2286000"/>
            <a:ext cx="6629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S “pseudoclass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my_div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Always applied styles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my_div:hov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Only applied on hover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2313000"/>
            <a:ext cx="75438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S Transfo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oz-transform: rotateX(_deg) rotateY(_deg) rotateZ(_de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X(_px) translateY(_px) translateZ(_p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205740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S ani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oz-animation: (anim_name) 10s line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oz-animation-iteration-count: infinite; //loop infini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oz-animation-direction: alternate; //reverse before lo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0" y="1828800"/>
            <a:ext cx="59436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imations and Keyfra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-moz-keyframes anim_nam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styles at start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styles at end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styles at halfway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00200" y="1828800"/>
            <a:ext cx="66294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 Sele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for literal next (on same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for all of “type” afterwards (on same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d_1 + #id_2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v id=”id_1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v id=”id_2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1600" y="274320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al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seragentman.com/tests/cssSandpaper/cube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splay.co.uk/boxes/jack-in-the-bo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http://desandro.github.com/3dtransforms/examples/cube-02-show-sid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9000" y="228600"/>
            <a:ext cx="6192720" cy="9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test2:hover ~ .test1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ground-image:url("bird.png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th: 500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ight: 500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moz-animation: test_anim 15s linea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@-moz-keyframes test_anim {//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th:500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ight:500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moz-transform: rotateX(0deg) rotateY(0de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%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ight:1000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%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moz-transform: rotateX(360deg) rotateY(720de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th:1000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ight:500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iv id="test2"&gt;mouseoverme bro&lt;/div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iv class="test1"&gt;wololol&lt;/div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iv class="test1"&gt;SADSADSADSAD&lt;/div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41280"/>
            <a:ext cx="2286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Secti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6:35:18Z</dcterms:created>
  <dc:creator>Shiny Yang</dc:creator>
  <dc:description/>
  <dc:language>en-US</dc:language>
  <cp:lastModifiedBy/>
  <cp:revision>1</cp:revision>
  <dc:subject/>
  <dc:title/>
</cp:coreProperties>
</file>