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82F5-BCF0-438E-AF09-76B903CFA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449C-88AA-4ECA-84B0-60EB0D71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4A7-F468-4131-93A5-C4CE483C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2A0D-61EA-4B4A-9926-18D43176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3033-8717-496B-97B6-6F38FB35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19CC-06D1-4778-A2DD-010BF0AA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E08C-E156-446F-9081-FBDF48C4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3A71-9737-4850-8B5B-6B402A0A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3F8D-8A84-4B2F-A046-4940E4A4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1C2E-A191-41FD-8C2B-45A3B69C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4469-C722-44B3-8C2B-0A022462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9AE2-ADC9-484B-BD7A-64AC1D83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5ABB-9BFC-4B07-91BB-00B77B8D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8B44-A797-40CF-9B1F-88B79F77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6F68-942A-4E32-83EA-9B7C276F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2ABE-D9FF-434D-81F5-4C179358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30BD-1FF5-4951-94EE-10EEF1D2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358F-F3D0-4F5B-91D7-E2CEEB16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2191-33C2-4251-B1B1-4E0AC234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79B8-9545-486C-9C52-C433FDF7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89A8-F259-4634-8B6C-06D607B8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537C-5AE4-4622-88A5-5D13F2A6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998-C1AE-4AFD-8132-897B0512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F16-CF5E-451B-9935-1C7C1A35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0C18-1BD2-403A-835F-682D1249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E217-DD37-4F39-A133-7E6AA7AB3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1674-07DC-4236-A66D-74C1A5490F6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com/analytics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/adsense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ellarspot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adwords.google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secstate.wa.gov/corps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ashington.edu/computing/web/publishing/students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aking a Website Liv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 Loddeng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exloddengaard@gmail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ttp://www.alexloddengaard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1832-254B-4D07-9805-36337979283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K, you’re liv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ine your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10B9-9D71-437F-A212-7712B88EB5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searc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ep to refinement is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will tell you more about the problem you’re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you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use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by interviewing, surveying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y opinion, Cellarspot was solving a fak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research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know enough about wine connoiss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increases the likeliness of your website being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more fun when your website is used :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5DF4-BA17-4CBD-81AC-EA8C7BC570F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Focu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focus was on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make a website with awesome functionality; the look is less importan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focus was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have focused on a core feature set with an attractive and grabbing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e connoisseurs need attractive web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I done research upfront I would have known this ear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E349-5ADC-4F1D-B0E9-8ECF903172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ivac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upfront with your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your privacy policy in a “Terms”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book’s “Terms” page is ~8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tter had a big problem with this rec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us screenshot from Face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4809960"/>
            <a:ext cx="8534160" cy="98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9475-4EC2-419C-B3CA-70F13E14A67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You got a good ide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 and evaluate your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F760-9E68-4115-89B9-72D14537AB4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ve you looked at the 190m source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s out Marty knows more about you than you think … he’s got Google Analy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9067680" cy="121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001-0630-4697-A954-A4CE663C0A3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ogle Analytics (GA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up here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google.com/analy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just install the JavaScript they give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 gives you insane statistics about your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90920" y="3962520"/>
            <a:ext cx="4190760" cy="25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D66-0A76-487B-9733-2283EF26386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venue Mode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ome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D860-3299-42F1-B45E-766DFE06E37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dvertisements on Your Si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Ad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ally displays relevant 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d per click (usually ~$.10-3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izable 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ool with a website can install the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sign up and install the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google.com/ad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371600" y="5675400"/>
            <a:ext cx="6599160" cy="87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EB21-CADE-43D5-8FA5-A43C7E24A4F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AdSense 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9480" y="2103480"/>
            <a:ext cx="8229600" cy="40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4B93-4FC4-4680-8AF6-8E76EAF17AD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bout M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 a CSE 143/190L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Manager at Red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cellarspo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 for wine connoiss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76520" y="4343400"/>
            <a:ext cx="5715000" cy="249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BD63-A797-4D3F-8322-C97493AE343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ferra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 owner gets commission from referred s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-commerce sites offe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azon.com, Bestbuy.com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ssion ranges between 5-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“Join Associates” on Amazo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733A-447E-4811-B032-2475BDBB35C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Referral 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79360" y="2438280"/>
            <a:ext cx="8712360" cy="311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3C63-A3A4-4B6B-BB36-C818DBA9E34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-Marke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your site and get users on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A99C-D679-4C37-A4EF-761AB975664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oogle AdWor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oduce ads that show up as Google AdSense ads on relevant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s can be purchased that make you the “sponsored link” on the Google search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per Click (CPC ~$.10-3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adwords.goog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6320" y="5486400"/>
            <a:ext cx="8915400" cy="13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3A27-ED44-402B-990F-8660B17E344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member those stupid &lt;meta&gt; tag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really uses those,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earn about SEO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375-F718-4EE9-9E76-A5512366E0D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ut firs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ere Google, how would you determine if one website was better than an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determine the most popular person by what they say about themsel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A7C4-8471-4F03-B2E6-C925700EAAA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arch Engine Optimization (SEO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y your site performs in search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more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Page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Nofo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Search_engine_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the appropriate &lt;meta&gt; 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, keyword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descriptive &lt;titl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Amazon’s title -- it’s h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01D9-7718-41A5-B2D0-57A151A336E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O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each search engine’s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they specify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oogle.com/support/webmaster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mpor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eople to link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bloggers to blog abou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gle likes blog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EAE9-86FB-408F-99BA-9E30D698F71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ogle PageRan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s are websites, arrows are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4648320" cy="37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644F-9532-4803-91B8-D80DFFBF3C6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O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your website will be keyworded based on the anchor text of incoming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eyworded by &lt;title&gt;, &lt;meta&gt; and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35833" b="0"/>
          <a:stretch/>
        </p:blipFill>
        <p:spPr>
          <a:xfrm>
            <a:off x="0" y="5105520"/>
            <a:ext cx="9144000" cy="1368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4080" y="464832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er of Trulia.c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8A2B-DB4B-402A-B497-70B32BEB61D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Cellarspo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 for wine connoiss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te notes, collections, friend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rote the whole site 3 times in a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P at first, then two rewrites in JSP (Ja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my first money-making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in your shoes when I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t the idea from my Dad; I don’t like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AB1C-A7F0-4FE3-94EE-00BCCE192C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ogle Bom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Google got smart, they keyworded mostly by ancho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gers linked to whitehouse.gov/president with anchor text “miserable fail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ing “miserable failure” showed whitehouse.gov/president as the first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has since fixed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Google_bom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8E4E-3F77-42CC-B357-1B0AD69C0BF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Useful SEO too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Webmast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google.com/webma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information about your site in Google’s search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71600" y="4044960"/>
            <a:ext cx="6248520" cy="266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3912-1FD2-4258-A8AD-9ED4E6947B2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your own site is an indefinite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arspo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make much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in every single one of my interviews at Google, Redfin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prominently on my res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a great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insanely exci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0C6-D90D-42EE-BE14-08719A1EB11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arsp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web develop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F8B1-3CB3-42F7-A254-3E46AAFCF37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flo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BF4B-985C-4507-B3CC-8416653ABD0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in Academic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ued in 4 different classes (15 cred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E 403 - Software Engineering (4 cred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E major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ty to work on a larg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ly recommended (esp. with Mar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 475/476 - Planning a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credits 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John Castle (castlej@u) if inte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ly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E 490H - Distributed Systems (3 cred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E major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B6BB-6454-4FD0-A331-F0889C172B4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gal Inf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get shutdown or s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16BB-5470-4081-9E50-9FDF8D9E9FC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tellectual Proper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 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ownership of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s, review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mark 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exclusive usage of a logo, name, or phr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ownership and exclusive usage of a product, algorithm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9A29-5036-48CA-B61B-69C1F2CAD59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pyrigh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violat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someone els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snipp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the license agreement says you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ther data on any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rights don’t need to be spec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im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9A1C-7AC1-4FF8-A881-838FA27E6FD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 Yourself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n individual running a website, your private assets are not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your private assets by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ing a  Limited Liability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ing incorpo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t on the state you operat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secstate.wa.gov/corp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bably isn’t necessary unless you’re doing something that might be borderline il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A933-E82D-4A72-8ED4-E7029866257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ough about M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alk about you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05E5-2042-4A37-8B1B-5C5D51EC50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ftware Developmen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good code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make improving / fixing your code MUCH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build a team of developers, because multiple heads are better tha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CSE 4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F5EF-178B-40AE-84C9-0C28A8D8EE4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’s after 190m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ter is shutting down at end of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ill you continue to tink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your UW studen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washington.edu/computing/web/publishing/student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 MySQL on D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washington.edu/computing/web/publishing/mysql-install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 http://students.washington.edu/youruwnet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etup PHP, Apache, MySQL on your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C84D-FCE8-44F2-816F-E3B19CDF4F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f you want more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you want your own .com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you want to make some mon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you want to take web development to the next lev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B602-5DBA-4B62-901D-F0D316EDA7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Trut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ap between a legitimate website and a personal project is small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the beauty of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you are capable of making something that people wil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arsp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ebook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themilk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igslis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agand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ebsites that started off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610-A629-42C7-A99A-65C1D68686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Next Level is Hos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a domai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martystepp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web space from a hos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provide you with PHP, MySQL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buy a domain name and web space from the sam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compan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eamhost.com (Marty’s recommend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dadd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hos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gsix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C116-5342-41E4-8B85-351D4D2EF88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sting Gotcha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your host provides the services you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hosts only provide PHP + 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nly provide Ruby on Rail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top shops are conven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the domain and web space from the sam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eamhost is awe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C818-CB1B-4EB5-BF5E-C3A7EFC0A2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21:17:58Z</dcterms:created>
  <dc:creator>Office 2004 Test Drive User</dc:creator>
  <dc:description/>
  <dc:language>en-US</dc:language>
  <cp:lastModifiedBy>Registered User</cp:lastModifiedBy>
  <dcterms:modified xsi:type="dcterms:W3CDTF">2008-06-04T21:13:09Z</dcterms:modified>
  <cp:revision>151</cp:revision>
  <dc:subject/>
  <dc:title>PowerPoint Presentation</dc:title>
</cp:coreProperties>
</file>