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dobe.com/livedocs/flash/9.0/ActionScriptLangRefV3/flash/events/Event.html" TargetMode="Externa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dobe.com/livedocs/flash/9.0/ActionScriptLangRefV3/flash/events/Event.html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ox2dflash.sourceforge.net/" TargetMode="External"/><Relationship Id="rId2" Type="http://schemas.openxmlformats.org/officeDocument/2006/relationships/hyperlink" Target="http://box2dflash.sourceforge.net/" TargetMode="External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ox2dflash.sourceforge.net/" TargetMode="Externa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lixel.org/" TargetMode="External"/><Relationship Id="rId2" Type="http://schemas.openxmlformats.org/officeDocument/2006/relationships/hyperlink" Target="http://flashpunk.net/" TargetMode="External"/><Relationship Id="rId3" Type="http://schemas.openxmlformats.org/officeDocument/2006/relationships/hyperlink" Target="http://flashpunk.net/" TargetMode="External"/><Relationship Id="rId4" Type="http://schemas.openxmlformats.org/officeDocument/2006/relationships/hyperlink" Target="http://flashpunk.net/" TargetMode="External"/><Relationship Id="rId5" Type="http://schemas.openxmlformats.org/officeDocument/2006/relationships/hyperlink" Target="http://flashpunk.net/" TargetMode="External"/><Relationship Id="rId6" Type="http://schemas.openxmlformats.org/officeDocument/2006/relationships/hyperlink" Target="http://www.amazon.com/Essential-ActionScript-3-0-Colin-Moock/dp/0596526946" TargetMode="External"/><Relationship Id="rId7" Type="http://schemas.openxmlformats.org/officeDocument/2006/relationships/hyperlink" Target="http://www.amazon.com/Essential-ActionScript-3-0-Colin-Moock/dp/0596526946" TargetMode="External"/><Relationship Id="rId8" Type="http://schemas.openxmlformats.org/officeDocument/2006/relationships/hyperlink" Target="http://www.amazon.com/Foundation-ActionScript-Animation-Making-Things/dp/1590595181" TargetMode="External"/><Relationship Id="rId9" Type="http://schemas.openxmlformats.org/officeDocument/2006/relationships/hyperlink" Target="http://www.amazon.com/Foundation-ActionScript-Animation-Making-Things/dp/1590595181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dobe.com/livedocs/flash/9.0/ActionScriptLangRefV3/flash/events/Event.html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obe.com/livedocs/flash/9.0/ActionScriptLangRefV3/flash/events/Event.html" TargetMode="Externa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dobe.com/livedocs/flash/9.0/ActionScriptLangRefV3/flash/events/Event.html" TargetMode="Externa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dobe.com/livedocs/flash/9.0/ActionScriptLangRefV3/flash/events/Event.html" TargetMode="Externa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13968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SE 190 M </a:t>
            </a: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Flash</a:t>
            </a: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 Session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3250800"/>
            <a:ext cx="1042668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767"/>
                </a:solidFill>
                <a:latin typeface="Helvetica Neue Medium"/>
                <a:ea typeface="Helvetica Neue Medium"/>
              </a:rPr>
              <a:t>Session 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767"/>
                </a:solidFill>
                <a:latin typeface="Helvetica Neue Medium"/>
                <a:ea typeface="Helvetica Neue Medium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940280" y="4748040"/>
            <a:ext cx="2654280" cy="3125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0261440" y="9290160"/>
            <a:ext cx="275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 Miller,  Spring 201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248800" y="638640"/>
            <a:ext cx="2494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Timer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1147680" y="3174840"/>
            <a:ext cx="1075716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utils.Timer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events.TimerEven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reate a new timer that “ticks” every 1000 milliseco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myTimer:Timer = new Timer(1000);myTimer.addEventListener(TimerEvent.TIMER, function(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that runs every tic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8966160"/>
            <a:ext cx="1300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www.adobe.com/livedocs/flash/9.0/ActionScriptLangRefV3/flash/utils/Timer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227120" y="638640"/>
            <a:ext cx="4537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Text Field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592280" y="3174840"/>
            <a:ext cx="98298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textFormat:TextFormat = new TextFormat();textFormat.size = 24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myTextField:TextField = new TextField();myTextField.x = 10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myTextField.y = 20;myTextField.width = 100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myTextField.defaultTextFormat = textFormat;addChild(myTextField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myTextField.text = “Hello World!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8966160"/>
            <a:ext cx="1300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livedocs.adobe.com/flash/9.0/ActionScriptLangRefV3/flash/text/TextFormat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423240" y="638640"/>
            <a:ext cx="6145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re Collis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43440" y="4127400"/>
            <a:ext cx="78994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if (p.x &gt; rect.x &amp;&amp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p.x &lt; rect.x + rect.width &amp;&amp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p.y &gt; rect.y &amp;&amp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p.y &lt; rect.y + rect.height)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llide!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5144760" y="1791720"/>
            <a:ext cx="270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oint vs. Rectang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58720" y="4241880"/>
            <a:ext cx="2844720" cy="1270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1193760" y="4597560"/>
            <a:ext cx="139680" cy="139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423240" y="638640"/>
            <a:ext cx="6145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re Collis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369400" y="1753560"/>
            <a:ext cx="253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ollision Re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711360" y="2971800"/>
            <a:ext cx="1202688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d the gam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ero dies, game is pau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asy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Bou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asy for vertically or horizontally aligned objects, just reverse vx or v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ard for circles or complex sha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lace one colliding object directly outside the oth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t’s doable for point vs. rectangle, but very difficult for everything el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 can also use a physics library for more realistic collision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467640" y="2360520"/>
            <a:ext cx="741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en two things collide, we could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5756400" y="8575560"/>
            <a:ext cx="4527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box2dflash.sourceforge.n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5754600" y="8956440"/>
            <a:ext cx="3566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2"/>
              </a:rPr>
              <a:t>http://www.kerp.net/box2d/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4859640" y="8593920"/>
            <a:ext cx="73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box2d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2110320" y="8974800"/>
            <a:ext cx="35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WESOME box2d video tutorial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69720" y="638640"/>
            <a:ext cx="8652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tion &amp; Anima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5091480" y="1766160"/>
            <a:ext cx="28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ommon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711360" y="2819520"/>
            <a:ext cx="12026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ath.sin() can be used for oscillating or circular motio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5375520" y="6670440"/>
            <a:ext cx="4527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code.google.com/p/tweener/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4094640" y="6688800"/>
            <a:ext cx="99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weener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1592280" y="3301920"/>
            <a:ext cx="9829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every fram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theta += 0.1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mySprite.x = Math.sin(theta) * 100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711360" y="4660920"/>
            <a:ext cx="120520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s/sin functions are useful for spring and gravity effects / following point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f you ad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position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every frame, you get constant velocity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f you ad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every frame, you get constant acceleratio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or advanced animation, check out the Tweener library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16440" y="638640"/>
            <a:ext cx="6960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Other resource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1117440" y="2806560"/>
            <a:ext cx="109220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 couple common game librari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1"/>
              </a:rPr>
              <a:t>http://flixel.or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http://flashpunk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ne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4"/>
              </a:rPr>
              <a:t>Book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5"/>
              </a:rPr>
              <a:t>http://w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ww.amazon.com/Essential-Actio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6"/>
              </a:rPr>
              <a:t>nScript-3-0-Colin-Moock/dp/059652694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7"/>
              </a:rPr>
              <a:t>http://www.amazon.com/Foundation-Ac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ionScript-Animation-Making-Things/dp/159059518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utorial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http://www.goto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8"/>
              </a:rPr>
              <a:t>andlearn.com/index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4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9"/>
              </a:rPr>
              <a:t>http://www.kongregate.com/games/Kongregate/shootorial-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1593720"/>
            <a:ext cx="129920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Game Programming!!!!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962520" y="414036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2870280"/>
            <a:ext cx="1299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(Finally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5002200" y="638640"/>
            <a:ext cx="2987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Game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317520" y="2451240"/>
            <a:ext cx="124077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rite Sprite classes for all of the objects in our gam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Update all of the game objects every frame (ENTER_FRAME)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ave event listeners for mouse clicks / key press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ore state about the game (Is the game running or paused? How many points does the player have?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084280" y="638640"/>
            <a:ext cx="282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711360" y="1943280"/>
            <a:ext cx="1109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ust like events in JavaScrip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lows us to process mouse clicks and key press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39680" y="4546440"/>
          <a:ext cx="12712680" cy="4114800"/>
        </p:xfrm>
        <a:graphic>
          <a:graphicData uri="http://schemas.openxmlformats.org/drawingml/2006/table">
            <a:tbl>
              <a:tblPr/>
              <a:tblGrid>
                <a:gridCol w="6362640"/>
                <a:gridCol w="6350040"/>
              </a:tblGrid>
              <a:tr h="764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Descrip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ouseEvent.MOUSE_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ouseEvent.MOUSE_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Triggered when mouse is pressed/unpress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KeyboardEvent.KEY_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KeyboardEvent.KEY_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Triggered when key is pressed/unpress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Event.ENTER_FR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Triggered multiple times a se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Event.ADDED_TO_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Event.REMOVED_FROM_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Triggered when Sprite is added/removed from the display list (using addChild/removeChild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Event.RE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Triggered when movie is resiz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0" y="8966160"/>
            <a:ext cx="1300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www.adobe.com/livedocs/flash/9.0/ActionScriptLangRefV3/flash/events/Event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084280" y="638640"/>
            <a:ext cx="282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5587200" y="175356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Mouse Clic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182520" y="2997360"/>
            <a:ext cx="12814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package {    import flash.display.Sprite;    import flash.events.MouseEvent;        public class ClickProgram extends Sprite {        public function ClickProgram()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myCar:Car = new Car()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addChild(myCar)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myCar.addEventListener(MouseEvent.MOUSE_DOWN, onMouseDown);        }                private function onMouseDown(e:MouseEvent):void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that runs on mouse click        }    }}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939960" y="3708360"/>
            <a:ext cx="5448240" cy="33012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260440" y="5664240"/>
            <a:ext cx="10427040" cy="36828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1587600" y="6680160"/>
            <a:ext cx="8648640" cy="1066680"/>
          </a:xfrm>
          <a:prstGeom prst="rect">
            <a:avLst/>
          </a:prstGeom>
          <a:solidFill>
            <a:srgbClr val="ad00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8966160"/>
            <a:ext cx="1300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www.adobe.com/livedocs/flash/9.0/ActionScriptLangRefV3/flash/events/MouseEvent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084280" y="638640"/>
            <a:ext cx="282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5587200" y="175356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Mouse Clic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334800" y="3505320"/>
            <a:ext cx="12661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package {    import flash.display.Sprite;    import flash.events.MouseEvent;        public class ClickProgram extends Sprite {        public function ClickProgram()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myCar:Car = new Car()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addChild(myCar)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myCar.addEventListener(MouseEvent.MOUSE_DOWN, function()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that runs on mouse click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});        }    }}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2614680"/>
            <a:ext cx="501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 slightly different way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084280" y="638640"/>
            <a:ext cx="282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5590080" y="1753560"/>
            <a:ext cx="16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Key Pres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500040" y="2933640"/>
            <a:ext cx="12814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package {    import flash.display.Sprite;    import flash.events.KeyboardEvent;        public class KeyProgram extends Sprite {        public function KeyProgram()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stage.addEventListener(KeyboardEvent.KEY_DOWN, onKeyDown)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}                private function onKeyDown(e:MouseEvent):void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 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that runs on key press        }    }}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8966160"/>
            <a:ext cx="1300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www.adobe.com/livedocs/flash/9.0/ActionScriptLangRefV3/flash/events/KeyboardEvent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084280" y="638640"/>
            <a:ext cx="282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5590080" y="1753560"/>
            <a:ext cx="16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Key Pres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1731960" y="3517920"/>
            <a:ext cx="98298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ui.Keyboard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...        private function onKeyDown(e:KeyboardEvent):void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f (e.keyCode == Keyboard.LEFT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that runs when left key is pres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 else if (e.keyCode == Keyboard.A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de that runs when “A” key is pres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07960" y="2571840"/>
            <a:ext cx="936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ow do we know what key is pressed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966160"/>
            <a:ext cx="13004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ndale Mono"/>
                <a:ea typeface="Andale Mono"/>
                <a:hlinkClick r:id="rId1"/>
              </a:rPr>
              <a:t>http://livedocs.adobe.com/flash/9.0/ActionScriptLangRefV3/flash/ui/Keyboard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679640" y="638640"/>
            <a:ext cx="363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Collis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1181160" y="2057400"/>
            <a:ext cx="1270080" cy="1270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2031840" y="3378240"/>
            <a:ext cx="1270080" cy="1270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1130400" y="5372280"/>
            <a:ext cx="1270080" cy="12697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1854360" y="6400800"/>
            <a:ext cx="1269720" cy="1270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679840"/>
            <a:ext cx="825480" cy="132084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1778040" y="6032520"/>
            <a:ext cx="749160" cy="1015920"/>
          </a:xfrm>
          <a:prstGeom prst="line">
            <a:avLst/>
          </a:prstGeom>
          <a:ln w="381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2735280" y="2777400"/>
            <a:ext cx="124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No collis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2776680" y="596484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llis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5046840" y="3645000"/>
            <a:ext cx="7899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dx:Number = s1.x - s2.x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dy:Number = s1.y - s2.y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dist:Number = Math.sqrt(dx*dx + dy*dy)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rad1:Number = s1.width / 2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rad2:Number = s2.width / 2;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if (dist &lt;= rad1 + rad2) {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// collide!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6022080" y="175356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