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ivepage.apple.com/" TargetMode="External"/><Relationship Id="rId2" Type="http://schemas.openxmlformats.org/officeDocument/2006/relationships/hyperlink" Target="http://livedocs.adobe.com/flash/9.0/ActionScriptLangRefV3/flash/display/Sprite.html" TargetMode="External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vedocs.adobe.com/flash/9.0/ActionScriptLangRefV3/flash/display/Stage.html" TargetMode="Externa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-13968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CSE 190 M </a:t>
            </a: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Flash</a:t>
            </a:r>
            <a:r>
              <a:rPr b="0" lang="en-US" sz="7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 Sessions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3250800"/>
            <a:ext cx="1042668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767"/>
                </a:solidFill>
                <a:latin typeface="Helvetica Neue Medium"/>
                <a:ea typeface="Helvetica Neue Medium"/>
              </a:rPr>
              <a:t>Session 2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767"/>
                </a:solidFill>
                <a:latin typeface="Helvetica Neue Medium"/>
                <a:ea typeface="Helvetica Neue Medium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4940280" y="4748040"/>
            <a:ext cx="2654280" cy="312588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10261440" y="9290160"/>
            <a:ext cx="2756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ex Miller,  Spring 2011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2057400" y="3772800"/>
            <a:ext cx="887796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Animation</a:t>
            </a:r>
            <a:endParaRPr b="0" lang="en-US" sz="1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1193760" y="3048120"/>
            <a:ext cx="3645000" cy="3644640"/>
          </a:xfrm>
          <a:prstGeom prst="ellipse">
            <a:avLst/>
          </a:prstGeom>
          <a:solidFill>
            <a:srgbClr val="f80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4276080" y="638640"/>
            <a:ext cx="4440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Animation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"/>
          <p:cNvSpPr/>
          <p:nvPr/>
        </p:nvSpPr>
        <p:spPr>
          <a:xfrm>
            <a:off x="1143000" y="2070000"/>
            <a:ext cx="3149640" cy="215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"/>
          <p:cNvSpPr/>
          <p:nvPr/>
        </p:nvSpPr>
        <p:spPr>
          <a:xfrm>
            <a:off x="1536840" y="2768760"/>
            <a:ext cx="761760" cy="761760"/>
          </a:xfrm>
          <a:prstGeom prst="ellipse">
            <a:avLst/>
          </a:prstGeom>
          <a:solidFill>
            <a:srgbClr val="f80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1143000" y="4546440"/>
            <a:ext cx="3149640" cy="215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2336760" y="5245200"/>
            <a:ext cx="762120" cy="761760"/>
          </a:xfrm>
          <a:prstGeom prst="ellipse">
            <a:avLst/>
          </a:prstGeom>
          <a:solidFill>
            <a:srgbClr val="f80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"/>
          <p:cNvSpPr/>
          <p:nvPr/>
        </p:nvSpPr>
        <p:spPr>
          <a:xfrm>
            <a:off x="1143000" y="7023240"/>
            <a:ext cx="3149640" cy="21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"/>
          <p:cNvSpPr/>
          <p:nvPr/>
        </p:nvSpPr>
        <p:spPr>
          <a:xfrm>
            <a:off x="3263760" y="7721640"/>
            <a:ext cx="762120" cy="762120"/>
          </a:xfrm>
          <a:prstGeom prst="ellipse">
            <a:avLst/>
          </a:prstGeom>
          <a:solidFill>
            <a:srgbClr val="f80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2705040" y="4150800"/>
            <a:ext cx="0" cy="4971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2705040" y="6640560"/>
            <a:ext cx="0" cy="4968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"/>
          <p:cNvSpPr/>
          <p:nvPr/>
        </p:nvSpPr>
        <p:spPr>
          <a:xfrm>
            <a:off x="5067360" y="2070000"/>
            <a:ext cx="7315200" cy="70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85800" indent="-68580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n animation consists of a series of frames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ach frame is displayed on the screen for a short time (~50 times per second)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reates the illusion of movement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893880" y="2997360"/>
            <a:ext cx="112266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package {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import flash.display.Sprite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import flash.events.Even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public class MyAnimatedProgram extends Sprite {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public function MyAnimatedProgram():void {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// setup cod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addEventListener(Event.ENTER_FRAME, onEnterFrame)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private function onEnterFrame(e:Event):void {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// this code runs multiple times a secon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"/>
          <p:cNvSpPr/>
          <p:nvPr/>
        </p:nvSpPr>
        <p:spPr>
          <a:xfrm>
            <a:off x="4276080" y="638640"/>
            <a:ext cx="4440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Animation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5067720" y="1753560"/>
            <a:ext cx="285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Enter Frame” Ev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1511280" y="3746520"/>
            <a:ext cx="4762440" cy="330120"/>
          </a:xfrm>
          <a:prstGeom prst="rect">
            <a:avLst/>
          </a:prstGeom>
          <a:solidFill>
            <a:srgbClr val="ff004c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2717640" y="5423040"/>
            <a:ext cx="9220320" cy="393480"/>
          </a:xfrm>
          <a:prstGeom prst="rect">
            <a:avLst/>
          </a:prstGeom>
          <a:solidFill>
            <a:srgbClr val="ff004c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2171880" y="6489720"/>
            <a:ext cx="8292960" cy="1054080"/>
          </a:xfrm>
          <a:prstGeom prst="rect">
            <a:avLst/>
          </a:prstGeom>
          <a:solidFill>
            <a:srgbClr val="ff004c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5376960" y="638640"/>
            <a:ext cx="22395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Math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139680" y="1816200"/>
          <a:ext cx="12712680" cy="7238880"/>
        </p:xfrm>
        <a:graphic>
          <a:graphicData uri="http://schemas.openxmlformats.org/drawingml/2006/table">
            <a:tbl>
              <a:tblPr/>
              <a:tblGrid>
                <a:gridCol w="6362640"/>
                <a:gridCol w="6350040"/>
              </a:tblGrid>
              <a:tr h="672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 Medium"/>
                          <a:ea typeface="Helvetica Neue Medium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 Medium"/>
                          <a:ea typeface="Helvetica Neue Medium"/>
                        </a:rPr>
                        <a:t>Descrip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Math.abs(value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Returns absolute value of passed in valu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3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Math.sin(value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Math.cos(value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Math.tan(value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Returns sin/cos/tan of value (radians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1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Math.atan(value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Math.atan2(y, x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Arctangent function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Math.log(value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Returns the natural log of valu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Math.max(value1, value2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Math.min(value1, value2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Returns the max/min of the two valu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3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Math.pow(value1, value2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Math.sqrt(value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Power and square root function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Math.round(value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Returns rounded valu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Math.random(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Returns a pseudorandom number between 0 and 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Math.PI, Math.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Constants for π and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5" name=""/>
          <p:cNvSpPr/>
          <p:nvPr/>
        </p:nvSpPr>
        <p:spPr>
          <a:xfrm>
            <a:off x="0" y="9372600"/>
            <a:ext cx="1299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Helvetica Neue"/>
                <a:ea typeface="Helvetica Neue"/>
              </a:rPr>
              <a:t>http://livedocs.adobe.com/flash/9.0/ActionScriptLangRefV3/Math.htm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595960" y="638640"/>
            <a:ext cx="780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Mouse interaction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>
            <a:off x="444600" y="2171880"/>
            <a:ext cx="1210284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85800" indent="-68580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e have access to the current (x, y) position of the mouse. We can set a Sprite’s position to those coordinates to make it follow the mouse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his interaction doesn’t have a lot of “pop” to it. Can we make the motion “springy” or “bouncy”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Instead of snapping the Sprite to the (x, y) position of the mouse every frame, we can apply a force to the Sprite in the direction of the mouse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o give the motion a springy effect, the force we apply every frame can be proportional to the distance from the Sprite to the mouse. A large distance means a larger force is applied that frame; a smaller distance means a smaller force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2595960" y="638640"/>
            <a:ext cx="780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Mouse interaction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>
            <a:off x="3048120" y="3187800"/>
            <a:ext cx="761760" cy="761760"/>
          </a:xfrm>
          <a:prstGeom prst="ellipse">
            <a:avLst/>
          </a:prstGeom>
          <a:solidFill>
            <a:srgbClr val="ff3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 rot="14781000">
            <a:off x="8376840" y="6368400"/>
            <a:ext cx="711000" cy="432000"/>
          </a:xfrm>
          <a:prstGeom prst="rightArrow">
            <a:avLst>
              <a:gd name="adj1" fmla="val 32593"/>
              <a:gd name="adj2" fmla="val 92487"/>
            </a:avLst>
          </a:prstGeom>
          <a:solidFill>
            <a:srgbClr val="0c1021"/>
          </a:solidFill>
          <a:ln w="25560">
            <a:solidFill>
              <a:srgbClr val="000000"/>
            </a:solidFill>
            <a:miter/>
          </a:ln>
          <a:effectLst>
            <a:outerShdw dist="63389" dir="1384224" blurRad="0" rotWithShape="0">
              <a:srgbClr val="000000">
                <a:alpha val="2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3441600" y="3580920"/>
            <a:ext cx="2362320" cy="1397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4923000" y="1715400"/>
            <a:ext cx="314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Springy Mouse Follow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2595960" y="638640"/>
            <a:ext cx="780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Mouse interaction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092560" y="4572000"/>
            <a:ext cx="762120" cy="762120"/>
          </a:xfrm>
          <a:prstGeom prst="ellipse">
            <a:avLst/>
          </a:prstGeom>
          <a:solidFill>
            <a:srgbClr val="ff3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 rot="14781000">
            <a:off x="8376840" y="6368400"/>
            <a:ext cx="711000" cy="432000"/>
          </a:xfrm>
          <a:prstGeom prst="rightArrow">
            <a:avLst>
              <a:gd name="adj1" fmla="val 32593"/>
              <a:gd name="adj2" fmla="val 92487"/>
            </a:avLst>
          </a:prstGeom>
          <a:solidFill>
            <a:srgbClr val="0c1021"/>
          </a:solidFill>
          <a:ln w="25560">
            <a:solidFill>
              <a:srgbClr val="000000"/>
            </a:solidFill>
            <a:miter/>
          </a:ln>
          <a:effectLst>
            <a:outerShdw dist="63389" dir="1384224" blurRad="0" rotWithShape="0">
              <a:srgbClr val="000000">
                <a:alpha val="2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5486040" y="4965840"/>
            <a:ext cx="1359000" cy="77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4923000" y="1715400"/>
            <a:ext cx="314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Springy Mouse Follow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2595960" y="638640"/>
            <a:ext cx="780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Mouse interaction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>
            <a:off x="6426360" y="5181480"/>
            <a:ext cx="761760" cy="762120"/>
          </a:xfrm>
          <a:prstGeom prst="ellipse">
            <a:avLst/>
          </a:prstGeom>
          <a:solidFill>
            <a:srgbClr val="ff3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 rot="14781000">
            <a:off x="8376840" y="6368400"/>
            <a:ext cx="711000" cy="432000"/>
          </a:xfrm>
          <a:prstGeom prst="rightArrow">
            <a:avLst>
              <a:gd name="adj1" fmla="val 32593"/>
              <a:gd name="adj2" fmla="val 92487"/>
            </a:avLst>
          </a:prstGeom>
          <a:solidFill>
            <a:srgbClr val="0c1021"/>
          </a:solidFill>
          <a:ln w="25560">
            <a:solidFill>
              <a:srgbClr val="000000"/>
            </a:solidFill>
            <a:miter/>
          </a:ln>
          <a:effectLst>
            <a:outerShdw dist="63389" dir="1384224" blurRad="0" rotWithShape="0">
              <a:srgbClr val="000000">
                <a:alpha val="2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 flipH="1" flipV="1">
            <a:off x="6819840" y="5575320"/>
            <a:ext cx="812880" cy="495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"/>
          <p:cNvSpPr/>
          <p:nvPr/>
        </p:nvSpPr>
        <p:spPr>
          <a:xfrm>
            <a:off x="4923000" y="1715400"/>
            <a:ext cx="314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Springy Mouse Follow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2595960" y="638640"/>
            <a:ext cx="780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Mouse interaction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9715680" y="6845400"/>
            <a:ext cx="761760" cy="761760"/>
          </a:xfrm>
          <a:prstGeom prst="ellipse">
            <a:avLst/>
          </a:prstGeom>
          <a:solidFill>
            <a:srgbClr val="ff3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 rot="14781000">
            <a:off x="8376840" y="6368400"/>
            <a:ext cx="711000" cy="432000"/>
          </a:xfrm>
          <a:prstGeom prst="rightArrow">
            <a:avLst>
              <a:gd name="adj1" fmla="val 32593"/>
              <a:gd name="adj2" fmla="val 92487"/>
            </a:avLst>
          </a:prstGeom>
          <a:solidFill>
            <a:srgbClr val="0c1021"/>
          </a:solidFill>
          <a:ln w="25560">
            <a:solidFill>
              <a:srgbClr val="000000"/>
            </a:solidFill>
            <a:miter/>
          </a:ln>
          <a:effectLst>
            <a:outerShdw dist="63389" dir="1384224" blurRad="0" rotWithShape="0">
              <a:srgbClr val="000000">
                <a:alpha val="2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9271080" y="6858000"/>
            <a:ext cx="83808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923000" y="1715400"/>
            <a:ext cx="314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Springy Mouse Follow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1947240" y="638640"/>
            <a:ext cx="90975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Loops &amp; Conditionals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"/>
          <p:cNvSpPr/>
          <p:nvPr/>
        </p:nvSpPr>
        <p:spPr>
          <a:xfrm>
            <a:off x="1681200" y="2666880"/>
            <a:ext cx="6591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for (var i:int = 0; i &lt; 20; i++) {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ndale Mono"/>
                <a:ea typeface="Andale Mono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Andale Mono"/>
                <a:ea typeface="Andale Mono"/>
              </a:rPr>
              <a:t>// code he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Monaco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>
            <a:off x="1179360" y="2160000"/>
            <a:ext cx="1184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For loo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1668600" y="4775040"/>
            <a:ext cx="6591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while (x == 3) {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ndale Mono"/>
                <a:ea typeface="Andale Mono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Andale Mono"/>
                <a:ea typeface="Andale Mono"/>
              </a:rPr>
              <a:t>// code he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Monaco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"/>
          <p:cNvSpPr/>
          <p:nvPr/>
        </p:nvSpPr>
        <p:spPr>
          <a:xfrm>
            <a:off x="1167840" y="4166640"/>
            <a:ext cx="151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While loo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>
            <a:off x="1630440" y="6807240"/>
            <a:ext cx="65912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if (x == 3) {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ndale Mono"/>
                <a:ea typeface="Andale Mono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Andale Mono"/>
                <a:ea typeface="Andale Mono"/>
              </a:rPr>
              <a:t>// code he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Monaco"/>
              </a:rPr>
              <a:t>} else if (x &gt; 4) {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ndale Mono"/>
                <a:ea typeface="Andale Mono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Andale Mono"/>
                <a:ea typeface="Andale Mono"/>
              </a:rPr>
              <a:t>// code he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Monaco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ndale Mono"/>
                <a:ea typeface="Andale Mono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Andale Mono"/>
                <a:ea typeface="Andale Mono"/>
              </a:rPr>
              <a:t>// code he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Monaco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"/>
          <p:cNvSpPr/>
          <p:nvPr/>
        </p:nvSpPr>
        <p:spPr>
          <a:xfrm>
            <a:off x="1171080" y="6300000"/>
            <a:ext cx="175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If statem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2595960" y="638640"/>
            <a:ext cx="780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Mouse interaction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10794960" y="7327800"/>
            <a:ext cx="762120" cy="762120"/>
          </a:xfrm>
          <a:prstGeom prst="ellipse">
            <a:avLst/>
          </a:prstGeom>
          <a:solidFill>
            <a:srgbClr val="ff3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 rot="14781000">
            <a:off x="8376840" y="6368400"/>
            <a:ext cx="711000" cy="432000"/>
          </a:xfrm>
          <a:prstGeom prst="rightArrow">
            <a:avLst>
              <a:gd name="adj1" fmla="val 32593"/>
              <a:gd name="adj2" fmla="val 92487"/>
            </a:avLst>
          </a:prstGeom>
          <a:solidFill>
            <a:srgbClr val="0c1021"/>
          </a:solidFill>
          <a:ln w="25560">
            <a:solidFill>
              <a:srgbClr val="000000"/>
            </a:solidFill>
            <a:miter/>
          </a:ln>
          <a:effectLst>
            <a:outerShdw dist="63389" dir="1384224" blurRad="0" rotWithShape="0">
              <a:srgbClr val="000000">
                <a:alpha val="2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9791640" y="7099200"/>
            <a:ext cx="1397160" cy="622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>
            <a:off x="4923000" y="1715400"/>
            <a:ext cx="314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Springy Mouse Follow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2595960" y="638640"/>
            <a:ext cx="780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Mouse interaction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923000" y="1715400"/>
            <a:ext cx="314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Springy Mouse Follow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444600" y="2476440"/>
            <a:ext cx="1210284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85800" indent="-68580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alculate the x and y components of the displacement vector from the Sprite to the mouse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alculate the magnitude and angle of the displacement vector from </a:t>
            </a: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dx</a:t>
            </a: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and </a:t>
            </a:r>
            <a:r>
              <a:rPr b="0" lang="en-US" sz="2300" spc="-1" strike="noStrike">
                <a:solidFill>
                  <a:srgbClr val="000000"/>
                </a:solidFill>
                <a:latin typeface="Andale Mono"/>
                <a:ea typeface="Andale Mono"/>
              </a:rPr>
              <a:t>dy</a:t>
            </a: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alculate a force value based on the displacement magnitude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plit the force into x and y components and add them to the x and y velocity components of the Sprite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4927680" y="3645000"/>
            <a:ext cx="317520" cy="317520"/>
          </a:xfrm>
          <a:prstGeom prst="ellipse">
            <a:avLst/>
          </a:prstGeom>
          <a:solidFill>
            <a:srgbClr val="ff3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"/>
          <p:cNvSpPr/>
          <p:nvPr/>
        </p:nvSpPr>
        <p:spPr>
          <a:xfrm rot="14781000">
            <a:off x="6859440" y="4633920"/>
            <a:ext cx="304560" cy="177840"/>
          </a:xfrm>
          <a:prstGeom prst="rightArrow">
            <a:avLst>
              <a:gd name="adj1" fmla="val 14648"/>
              <a:gd name="adj2" fmla="val 98376"/>
            </a:avLst>
          </a:prstGeom>
          <a:solidFill>
            <a:srgbClr val="0c1021"/>
          </a:solidFill>
          <a:ln w="25560">
            <a:solidFill>
              <a:srgbClr val="000000"/>
            </a:solidFill>
            <a:miter/>
          </a:ln>
          <a:effectLst>
            <a:outerShdw dist="63389" dir="1384224" blurRad="0" rotWithShape="0">
              <a:srgbClr val="000000">
                <a:alpha val="2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5092560" y="3797280"/>
            <a:ext cx="1857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5079960" y="3784680"/>
            <a:ext cx="0" cy="952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0" name=""/>
          <p:cNvSpPr/>
          <p:nvPr/>
        </p:nvSpPr>
        <p:spPr>
          <a:xfrm>
            <a:off x="5940000" y="341208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"/>
          <p:cNvSpPr/>
          <p:nvPr/>
        </p:nvSpPr>
        <p:spPr>
          <a:xfrm>
            <a:off x="4644720" y="413604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d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"/>
          <p:cNvSpPr/>
          <p:nvPr/>
        </p:nvSpPr>
        <p:spPr>
          <a:xfrm>
            <a:off x="673200" y="8420040"/>
            <a:ext cx="1164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You may remember from physics class that F = ma. But we don’t really care about mass, so to simplify things we’re just doing F = a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"/>
          <p:cNvSpPr/>
          <p:nvPr/>
        </p:nvSpPr>
        <p:spPr>
          <a:xfrm flipH="1" flipV="1">
            <a:off x="5105160" y="3822840"/>
            <a:ext cx="1803240" cy="838080"/>
          </a:xfrm>
          <a:prstGeom prst="line">
            <a:avLst/>
          </a:prstGeom>
          <a:ln w="38160">
            <a:solidFill>
              <a:srgbClr val="cacac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"/>
          <p:cNvSpPr/>
          <p:nvPr/>
        </p:nvSpPr>
        <p:spPr>
          <a:xfrm>
            <a:off x="6427080" y="413604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4123440" y="638640"/>
            <a:ext cx="47448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Next week!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"/>
          <p:cNvSpPr/>
          <p:nvPr/>
        </p:nvSpPr>
        <p:spPr>
          <a:xfrm>
            <a:off x="1282680" y="3060720"/>
            <a:ext cx="104522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85800" indent="-68580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ouse clicks, key press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isplaying text to the scre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imple game programmin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2171160" y="181440"/>
            <a:ext cx="17427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3a1e"/>
                </a:solidFill>
                <a:latin typeface="Helvetica Neue Medium"/>
                <a:ea typeface="Helvetica Neue Medium"/>
              </a:rPr>
              <a:t>Java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>
            <a:off x="6488280" y="-76320"/>
            <a:ext cx="0" cy="988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"/>
          <p:cNvSpPr/>
          <p:nvPr/>
        </p:nvSpPr>
        <p:spPr>
          <a:xfrm>
            <a:off x="8798760" y="181440"/>
            <a:ext cx="2227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Flash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"/>
          <p:cNvSpPr/>
          <p:nvPr/>
        </p:nvSpPr>
        <p:spPr>
          <a:xfrm>
            <a:off x="627120" y="1981080"/>
            <a:ext cx="3365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int x = 42;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double y = (double) x;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"/>
          <p:cNvSpPr/>
          <p:nvPr/>
        </p:nvSpPr>
        <p:spPr>
          <a:xfrm>
            <a:off x="373320" y="1499400"/>
            <a:ext cx="107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Cast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>
            <a:off x="7472520" y="19810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var x:int = 42;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var y:Number = x as Number;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"/>
          <p:cNvSpPr/>
          <p:nvPr/>
        </p:nvSpPr>
        <p:spPr>
          <a:xfrm>
            <a:off x="7218720" y="1499400"/>
            <a:ext cx="107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Cast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>
            <a:off x="627120" y="4089240"/>
            <a:ext cx="3365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String x = “hello”;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String y = “hello”;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if (x.equals(y)) {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// ..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"/>
          <p:cNvSpPr/>
          <p:nvPr/>
        </p:nvSpPr>
        <p:spPr>
          <a:xfrm>
            <a:off x="343800" y="3607560"/>
            <a:ext cx="208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String equal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"/>
          <p:cNvSpPr/>
          <p:nvPr/>
        </p:nvSpPr>
        <p:spPr>
          <a:xfrm>
            <a:off x="7201800" y="3607560"/>
            <a:ext cx="208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String equal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"/>
          <p:cNvSpPr/>
          <p:nvPr/>
        </p:nvSpPr>
        <p:spPr>
          <a:xfrm>
            <a:off x="7510320" y="4089240"/>
            <a:ext cx="3365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var x:String = “hello”;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var y:String = “hello”;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if (x == y) {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// ..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"/>
          <p:cNvSpPr/>
          <p:nvPr/>
        </p:nvSpPr>
        <p:spPr>
          <a:xfrm>
            <a:off x="1784160" y="8558280"/>
            <a:ext cx="2515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Any others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"/>
          <p:cNvSpPr/>
          <p:nvPr/>
        </p:nvSpPr>
        <p:spPr>
          <a:xfrm>
            <a:off x="500040" y="6400800"/>
            <a:ext cx="57657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public static final int MY_CONSTANT = 42;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"/>
          <p:cNvSpPr/>
          <p:nvPr/>
        </p:nvSpPr>
        <p:spPr>
          <a:xfrm>
            <a:off x="366120" y="5919120"/>
            <a:ext cx="129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"/>
          <p:cNvSpPr/>
          <p:nvPr/>
        </p:nvSpPr>
        <p:spPr>
          <a:xfrm>
            <a:off x="7129440" y="6400800"/>
            <a:ext cx="58039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e Mono"/>
                <a:ea typeface="Andale Mono"/>
              </a:rPr>
              <a:t>public static const MY_CONSTANT:int = 42;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"/>
          <p:cNvSpPr/>
          <p:nvPr/>
        </p:nvSpPr>
        <p:spPr>
          <a:xfrm>
            <a:off x="7236720" y="5919120"/>
            <a:ext cx="129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5234760" y="638640"/>
            <a:ext cx="2524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Sprite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"/>
          <p:cNvSpPr/>
          <p:nvPr/>
        </p:nvSpPr>
        <p:spPr>
          <a:xfrm>
            <a:off x="1270080" y="2933640"/>
            <a:ext cx="1046484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85800" indent="-68580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prites are our main graphical building block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e can create a new empty Sprite: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"/>
          <p:cNvSpPr/>
          <p:nvPr/>
        </p:nvSpPr>
        <p:spPr>
          <a:xfrm>
            <a:off x="2163600" y="4724280"/>
            <a:ext cx="65916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Andale Mono"/>
              </a:rPr>
              <a:t>import flash.display.Sprite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9a9a"/>
                </a:solidFill>
                <a:latin typeface="Andale Mono"/>
                <a:ea typeface="Andale Mono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Monaco"/>
              </a:rPr>
              <a:t>var mySprite:Sprite = new Sprite()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"/>
          <p:cNvSpPr/>
          <p:nvPr/>
        </p:nvSpPr>
        <p:spPr>
          <a:xfrm>
            <a:off x="1270080" y="6146640"/>
            <a:ext cx="10464840" cy="25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85800" indent="-68580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e can write classes that extend Sprite. Useful because we get a Graphics object for each Sprite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5234760" y="638640"/>
            <a:ext cx="2524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Sprite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139680" y="2133720"/>
          <a:ext cx="12712680" cy="6819840"/>
        </p:xfrm>
        <a:graphic>
          <a:graphicData uri="http://schemas.openxmlformats.org/drawingml/2006/table">
            <a:tbl>
              <a:tblPr/>
              <a:tblGrid>
                <a:gridCol w="6362640"/>
                <a:gridCol w="6350040"/>
              </a:tblGrid>
              <a:tr h="6768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 Medium"/>
                          <a:ea typeface="Helvetica Neue Medium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 Medium"/>
                          <a:ea typeface="Helvetica Neue Medium"/>
                        </a:rPr>
                        <a:t>Descrip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sprite.graph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Graphics object used to draw on the Spri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sprite.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sprite.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The (x, y) coordinates of the Sprite. You can change these to move the Spri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sprite.wid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sprite.h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Width and height of the Spri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sprite.addChild(</a:t>
                      </a:r>
                      <a:r>
                        <a:rPr b="0" lang="en-US" sz="1800" spc="-1" strike="noStrike">
                          <a:solidFill>
                            <a:srgbClr val="b26b00"/>
                          </a:solidFill>
                          <a:latin typeface="Monaco"/>
                          <a:ea typeface="Monaco"/>
                        </a:rPr>
                        <a:t>chil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Used to add other Sprites onto the Spri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sprite.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A reference to the “stage” for the Flash movi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sprite.vi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Boolean that determines whether Sprite is visible or no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sprite.ro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Angle of rotation in degrees. Default is 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sprite.alp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Value between 0 and 1 which indicates how transparent the sprite 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8" name="">
            <a:hlinkClick r:id="rId1"/>
          </p:cNvPr>
          <p:cNvSpPr/>
          <p:nvPr/>
        </p:nvSpPr>
        <p:spPr>
          <a:xfrm>
            <a:off x="0" y="9118440"/>
            <a:ext cx="1299204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2"/>
              </a:rPr>
              <a:t>http://livedocs.adobe.com/flash/9.0/ActionScriptLangRefV3/flash/display/Sprite.htm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333440" y="1739880"/>
            <a:ext cx="10337760" cy="6273720"/>
          </a:xfrm>
          <a:prstGeom prst="rect">
            <a:avLst/>
          </a:prstGeom>
          <a:solidFill>
            <a:srgbClr val="f8f8f8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"/>
          <p:cNvSpPr/>
          <p:nvPr/>
        </p:nvSpPr>
        <p:spPr>
          <a:xfrm>
            <a:off x="1379520" y="1260720"/>
            <a:ext cx="18525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e Mono"/>
                <a:ea typeface="Andale Mono"/>
              </a:rPr>
              <a:t>MyProgram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3479760" y="12891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3365640" y="3325680"/>
            <a:ext cx="2146320" cy="120816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3"/>
          <a:stretch/>
        </p:blipFill>
        <p:spPr>
          <a:xfrm>
            <a:off x="7124760" y="4799160"/>
            <a:ext cx="2870280" cy="161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333440" y="1104840"/>
            <a:ext cx="9144000" cy="5550120"/>
          </a:xfrm>
          <a:prstGeom prst="rect">
            <a:avLst/>
          </a:prstGeom>
          <a:solidFill>
            <a:srgbClr val="f8f8f8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352680" y="603360"/>
            <a:ext cx="343080" cy="36036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6553080" y="7556400"/>
            <a:ext cx="2654280" cy="1650960"/>
          </a:xfrm>
          <a:prstGeom prst="rect">
            <a:avLst/>
          </a:prstGeom>
          <a:solidFill>
            <a:srgbClr val="f8f8f8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6819840" y="7719840"/>
            <a:ext cx="2324160" cy="130824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6565320" y="7090200"/>
            <a:ext cx="1029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e Mono"/>
                <a:ea typeface="Andale Mono"/>
              </a:rPr>
              <a:t>truck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3"/>
          <a:stretch/>
        </p:blipFill>
        <p:spPr>
          <a:xfrm>
            <a:off x="7709040" y="7118280"/>
            <a:ext cx="342720" cy="36216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7885080" y="3935520"/>
            <a:ext cx="1803600" cy="3620880"/>
          </a:xfrm>
          <a:prstGeom prst="pie">
            <a:avLst/>
          </a:prstGeom>
          <a:noFill/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"/>
          <p:cNvSpPr/>
          <p:nvPr/>
        </p:nvSpPr>
        <p:spPr>
          <a:xfrm>
            <a:off x="4254480" y="3673800"/>
            <a:ext cx="32925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e Mono"/>
                <a:ea typeface="Andale Mono"/>
              </a:rPr>
              <a:t>addChild(truck);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"/>
          <p:cNvSpPr/>
          <p:nvPr/>
        </p:nvSpPr>
        <p:spPr>
          <a:xfrm>
            <a:off x="1303200" y="574920"/>
            <a:ext cx="18525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e Mono"/>
                <a:ea typeface="Andale Mono"/>
              </a:rPr>
              <a:t>MyProgram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1333440" y="1104840"/>
            <a:ext cx="9144000" cy="5550120"/>
          </a:xfrm>
          <a:prstGeom prst="rect">
            <a:avLst/>
          </a:prstGeom>
          <a:solidFill>
            <a:srgbClr val="f8f8f8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"/>
          <p:cNvSpPr/>
          <p:nvPr/>
        </p:nvSpPr>
        <p:spPr>
          <a:xfrm>
            <a:off x="4889520" y="3289320"/>
            <a:ext cx="2654280" cy="1650960"/>
          </a:xfrm>
          <a:prstGeom prst="rect">
            <a:avLst/>
          </a:prstGeom>
          <a:solidFill>
            <a:srgbClr val="f8f8f8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5156280" y="3452760"/>
            <a:ext cx="2324160" cy="130824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4901400" y="2822760"/>
            <a:ext cx="1029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e Mono"/>
                <a:ea typeface="Andale Mono"/>
              </a:rPr>
              <a:t>truck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6045120" y="2851200"/>
            <a:ext cx="343080" cy="36036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2383200" y="7869960"/>
            <a:ext cx="8228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Confusing subtlety: Graphics draws shapes relative to t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(x, y) position of the Sprite it’s attached to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3"/>
          <a:stretch/>
        </p:blipFill>
        <p:spPr>
          <a:xfrm>
            <a:off x="3352680" y="603360"/>
            <a:ext cx="343080" cy="36036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1303200" y="574920"/>
            <a:ext cx="18525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e Mono"/>
                <a:ea typeface="Andale Mono"/>
              </a:rPr>
              <a:t>MyProgram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5284800" y="638640"/>
            <a:ext cx="24238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d0033"/>
                </a:solidFill>
                <a:latin typeface="Helvetica Neue Medium"/>
                <a:ea typeface="Helvetica Neue Medium"/>
              </a:rPr>
              <a:t>Stage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139680" y="6134040"/>
          <a:ext cx="12712680" cy="2730600"/>
        </p:xfrm>
        <a:graphic>
          <a:graphicData uri="http://schemas.openxmlformats.org/drawingml/2006/table">
            <a:tbl>
              <a:tblPr/>
              <a:tblGrid>
                <a:gridCol w="6362640"/>
                <a:gridCol w="6350040"/>
              </a:tblGrid>
              <a:tr h="8002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 Medium"/>
                          <a:ea typeface="Helvetica Neue Medium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 Medium"/>
                          <a:ea typeface="Helvetica Neue Medium"/>
                        </a:rPr>
                        <a:t>Descrip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2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stage.stageWid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stage.stageH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Overall width and height of movi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stage.mous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  <a:ea typeface="Monaco"/>
                        </a:rPr>
                        <a:t>stage.mous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vetica Neue"/>
                          <a:ea typeface="Helvetica Neue"/>
                        </a:rPr>
                        <a:t>Mouse (x, y) coordinat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3" name=""/>
          <p:cNvSpPr/>
          <p:nvPr/>
        </p:nvSpPr>
        <p:spPr>
          <a:xfrm>
            <a:off x="0" y="9194760"/>
            <a:ext cx="1299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1"/>
              </a:rPr>
              <a:t>http://livedocs.adobe.com/flash/9.0/ActionScriptLangRefV3/flash/display/Stage.htm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"/>
          <p:cNvSpPr/>
          <p:nvPr/>
        </p:nvSpPr>
        <p:spPr>
          <a:xfrm>
            <a:off x="1270080" y="1968480"/>
            <a:ext cx="1046484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85800" indent="-68580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he main container for everything, even the document class Sprite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ll Sprites have a reference to the stage for the movie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685800" indent="-68580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Holds information about the .swf movie: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