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-13968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SE 190 M </a:t>
            </a: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Flash</a:t>
            </a:r>
            <a:r>
              <a:rPr b="0" lang="en-US" sz="7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 Session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32511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767"/>
                </a:solidFill>
                <a:latin typeface="Helvetica Neue Medium"/>
                <a:ea typeface="Helvetica Neue Medium"/>
              </a:rPr>
              <a:t>Session 1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767"/>
                </a:solidFill>
                <a:latin typeface="Helvetica Neue Medium"/>
                <a:ea typeface="Helvetica Neue Medium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4940280" y="4748040"/>
            <a:ext cx="2654280" cy="31258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0261440" y="9290160"/>
            <a:ext cx="275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 Miller,  Spring 201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917880" y="638640"/>
            <a:ext cx="515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ctionScrip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538200" y="3441600"/>
            <a:ext cx="11937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package {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   </a:t>
            </a: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import flash.display.Sprite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   </a:t>
            </a: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public class MyProgram extends Sprite {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       </a:t>
            </a: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public function MyProgram():void {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graphics.beginFill(0xFF0000)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graphics.drawCircle(10, 10, 40)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       </a:t>
            </a: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   </a:t>
            </a: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ndale Mono"/>
                <a:ea typeface="Andale Mono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5388480" y="162936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Graphic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749160" y="8292960"/>
            <a:ext cx="11493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ere is the graphics object coming from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917880" y="638640"/>
            <a:ext cx="515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ctionScrip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4002480" y="1629360"/>
            <a:ext cx="498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tage color and siz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538200" y="3441600"/>
            <a:ext cx="1193796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Andale Mono"/>
              </a:rPr>
              <a:t>package {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Andale Mono"/>
              </a:rPr>
              <a:t>   </a:t>
            </a: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Andale Mono"/>
              </a:rPr>
              <a:t>import flash.display.Sprite;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Andale Mono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Andale Mono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ndale Mono"/>
                <a:ea typeface="Andale Mono"/>
              </a:rPr>
              <a:t>// set the background color to be white, and th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ndale Mono"/>
                <a:ea typeface="Andale Mono"/>
              </a:rPr>
              <a:t>// stage size to be 550 x 400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ndale Mono"/>
                <a:ea typeface="Andale Mono"/>
              </a:rPr>
              <a:t>[SWF(backgroundColor="#ffffff", width="550", height="400")];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   </a:t>
            </a: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public class MyProgram extends Sprite {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       </a:t>
            </a: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public function MyProgram():void {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          </a:t>
            </a: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// code her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       </a:t>
            </a: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   </a:t>
            </a: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a9a9a"/>
                </a:solidFill>
                <a:latin typeface="Andale Mono"/>
                <a:ea typeface="Monaco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917880" y="638640"/>
            <a:ext cx="515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ctionScrip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1274760" y="3073320"/>
            <a:ext cx="1084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&lt;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ndale Mono"/>
                <a:ea typeface="Andale Mono"/>
              </a:rPr>
              <a:t>name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&gt;:&lt;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ndale Mono"/>
                <a:ea typeface="Andale Mono"/>
              </a:rPr>
              <a:t>type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&gt; = &lt;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ndale Mono"/>
                <a:ea typeface="Andale Mono"/>
              </a:rPr>
              <a:t>value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&gt;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5347440" y="1629360"/>
            <a:ext cx="2297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Variab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1036440" y="26298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Declaring and assigning a vari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1072800" y="402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1274760" y="4495680"/>
            <a:ext cx="108712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count:int = 2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message:String = “Hello”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x:Number = 4.3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1068840" y="6477840"/>
            <a:ext cx="218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mitive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274760" y="7048440"/>
            <a:ext cx="8217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int, void, Number, String, Boolean, ...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1072440" y="8103600"/>
            <a:ext cx="741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You can declare a field as private/public, like in Jav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1274760" y="8648640"/>
            <a:ext cx="1087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private var x:Number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917880" y="638640"/>
            <a:ext cx="515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ctionScrip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281920" y="1629360"/>
            <a:ext cx="243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un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409320" y="2629800"/>
            <a:ext cx="6168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Declaring a Function (like a method in Jav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385920" y="3276720"/>
            <a:ext cx="12344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private function &lt;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ndale Mono"/>
                <a:ea typeface="Andale Mono"/>
              </a:rPr>
              <a:t>name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&gt;(&lt;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ndale Mono"/>
                <a:ea typeface="Andale Mono"/>
              </a:rPr>
              <a:t>parameters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&gt;):&lt;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ndale Mono"/>
                <a:ea typeface="Andale Mono"/>
              </a:rPr>
              <a:t>return type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&gt; {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de he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421200" y="5690520"/>
            <a:ext cx="122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309600" y="6286680"/>
            <a:ext cx="125474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private function multiply(x:Number, y:Number):Number {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return x * y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917880" y="638640"/>
            <a:ext cx="515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ctionScrip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5690160" y="1629360"/>
            <a:ext cx="1611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rray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491040" y="3353760"/>
            <a:ext cx="252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reating an Arr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563400" y="3911760"/>
            <a:ext cx="12192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a:Array = [];                    </a:t>
            </a:r>
            <a:r>
              <a:rPr b="0" lang="en-US" sz="2800" spc="-1" strike="noStrike">
                <a:solidFill>
                  <a:srgbClr val="676767"/>
                </a:solidFill>
                <a:latin typeface="Andale Mono"/>
                <a:ea typeface="Andale Mono"/>
              </a:rPr>
              <a:t>// empty arr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Monaco"/>
              </a:rPr>
              <a:t>var b:Array = new Array();           </a:t>
            </a:r>
            <a:r>
              <a:rPr b="0" lang="en-US" sz="2800" spc="-1" strike="noStrike">
                <a:solidFill>
                  <a:srgbClr val="676767"/>
                </a:solidFill>
                <a:latin typeface="Andale Mono"/>
                <a:ea typeface="Andale Mono"/>
              </a:rPr>
              <a:t>// empty arr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Monaco"/>
              </a:rPr>
              <a:t>var c:Array = [1, 2, 3];             </a:t>
            </a:r>
            <a:r>
              <a:rPr b="0" lang="en-US" sz="2800" spc="-1" strike="noStrike">
                <a:solidFill>
                  <a:srgbClr val="676767"/>
                </a:solidFill>
                <a:latin typeface="Andale Mono"/>
                <a:ea typeface="Andale Mono"/>
              </a:rPr>
              <a:t>// populated arr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Monaco"/>
              </a:rPr>
              <a:t>var d:Array = new Array(1, 2, 3);    </a:t>
            </a:r>
            <a:r>
              <a:rPr b="0" lang="en-US" sz="2800" spc="-1" strike="noStrike">
                <a:solidFill>
                  <a:srgbClr val="676767"/>
                </a:solidFill>
                <a:latin typeface="Andale Mono"/>
                <a:ea typeface="Andale Mono"/>
              </a:rPr>
              <a:t>// populated arr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543240" y="6173280"/>
            <a:ext cx="2814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Accessing eleme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563400" y="6743880"/>
            <a:ext cx="12192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Andale Mono"/>
              </a:rPr>
              <a:t>a[0] = 1;          </a:t>
            </a:r>
            <a:r>
              <a:rPr b="0" lang="en-US" sz="2800" spc="-1" strike="noStrike">
                <a:solidFill>
                  <a:srgbClr val="676767"/>
                </a:solidFill>
                <a:latin typeface="Andale Mono"/>
                <a:ea typeface="Andale Mono"/>
              </a:rPr>
              <a:t>// set element 0 of a to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e Mono"/>
                <a:ea typeface="Andale Mono"/>
              </a:rPr>
              <a:t>a[0];              </a:t>
            </a:r>
            <a:r>
              <a:rPr b="0" lang="en-US" sz="2800" spc="-1" strike="noStrike">
                <a:solidFill>
                  <a:srgbClr val="676767"/>
                </a:solidFill>
                <a:latin typeface="Andale Mono"/>
                <a:ea typeface="Andale Mono"/>
              </a:rPr>
              <a:t>// returns element 0 of 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553320" y="2579040"/>
            <a:ext cx="451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Similar to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ArrayList </a:t>
            </a: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 in Jav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917880" y="638640"/>
            <a:ext cx="515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ctionScrip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5690160" y="1629360"/>
            <a:ext cx="1611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rray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39680" y="2692440"/>
          <a:ext cx="12712680" cy="6121440"/>
        </p:xfrm>
        <a:graphic>
          <a:graphicData uri="http://schemas.openxmlformats.org/drawingml/2006/table">
            <a:tbl>
              <a:tblPr/>
              <a:tblGrid>
                <a:gridCol w="6362640"/>
                <a:gridCol w="6350040"/>
              </a:tblGrid>
              <a:tr h="704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Descrip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array.length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Number of elements in the arr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array.pop(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Removes the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la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 element from an array and returns the value of that ele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array.push(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valu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Adds value to the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e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 of the arr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array.shift(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Removes the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fir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 element from an array and returns that ele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array.unshift(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valu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Adds value to the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star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 of the arr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array.sort(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Sort the elements in the arr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665080" y="638640"/>
            <a:ext cx="7663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HTML Embedding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503280" y="4375080"/>
            <a:ext cx="127378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object type="application/x-shockwave-flash"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data="</a:t>
            </a:r>
            <a:r>
              <a:rPr b="0" lang="en-US" sz="2700" spc="-1" strike="noStrike" u="sng">
                <a:solidFill>
                  <a:srgbClr val="d90b00"/>
                </a:solidFill>
                <a:uFillTx/>
                <a:latin typeface="Andale Mono"/>
                <a:ea typeface="Andale Mono"/>
              </a:rPr>
              <a:t>MyProgram.swf</a:t>
            </a: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"   width="</a:t>
            </a:r>
            <a:r>
              <a:rPr b="0" lang="en-US" sz="2700" spc="-1" strike="noStrike" u="sng">
                <a:solidFill>
                  <a:srgbClr val="d90b00"/>
                </a:solidFill>
                <a:uFillTx/>
                <a:latin typeface="Andale Mono"/>
                <a:ea typeface="Andale Mono"/>
              </a:rPr>
              <a:t>400</a:t>
            </a: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" height="</a:t>
            </a:r>
            <a:r>
              <a:rPr b="0" lang="en-US" sz="2700" spc="-1" strike="noStrike" u="sng">
                <a:solidFill>
                  <a:srgbClr val="d90b00"/>
                </a:solidFill>
                <a:uFillTx/>
                <a:latin typeface="Andale Mono"/>
                <a:ea typeface="Andale Mono"/>
              </a:rPr>
              <a:t>400</a:t>
            </a: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" menu=false&gt;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&lt;param name="movie" value="</a:t>
            </a:r>
            <a:r>
              <a:rPr b="0" lang="en-US" sz="2700" spc="-1" strike="noStrike" u="sng">
                <a:solidFill>
                  <a:srgbClr val="d90b00"/>
                </a:solidFill>
                <a:uFillTx/>
                <a:latin typeface="Andale Mono"/>
                <a:ea typeface="Andale Mono"/>
              </a:rPr>
              <a:t>MyProgram.swf</a:t>
            </a: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" menu=false /&gt;&lt;/object&gt;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486000" y="3594960"/>
            <a:ext cx="60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ut the following HTML code in your pag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340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822600" indent="-56232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dds interactivity to webpag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2600" indent="-56232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Uses a language called ActionScript 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2600" indent="-56232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imilar to Jav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2600" indent="-56232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5184000" y="638640"/>
            <a:ext cx="2623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Flash?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269720" y="2933280"/>
            <a:ext cx="10464840" cy="382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0332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Object oriented like Jav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0332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aid back” like PH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0332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Graphically oriented rather than text orien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719520" y="638640"/>
            <a:ext cx="5552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ctionScript?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58200" y="562320"/>
            <a:ext cx="1742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3a1e"/>
                </a:solidFill>
                <a:latin typeface="Helvetica Neue Medium"/>
                <a:ea typeface="Helvetica Neue Medium"/>
              </a:rPr>
              <a:t>Java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6488280" y="-76320"/>
            <a:ext cx="0" cy="988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8785800" y="562320"/>
            <a:ext cx="2227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Flash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969840" y="3089880"/>
            <a:ext cx="411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yProgram.jav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971800" y="4352760"/>
            <a:ext cx="0" cy="943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870480" y="5756760"/>
            <a:ext cx="431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yProgram.clas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8219160" y="3216600"/>
            <a:ext cx="3667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yProgram.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9995040" y="4479840"/>
            <a:ext cx="0" cy="943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8066520" y="5883840"/>
            <a:ext cx="3970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yProgram.sw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5625360" y="562320"/>
            <a:ext cx="1742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3a1e"/>
                </a:solidFill>
                <a:latin typeface="Helvetica Neue Medium"/>
                <a:ea typeface="Helvetica Neue Medium"/>
              </a:rPr>
              <a:t>Java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538200" y="3467160"/>
            <a:ext cx="119379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public class MyProgram {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public static void main(String[] args) {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de her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530640" y="2467440"/>
            <a:ext cx="4261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yProgram.java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917880" y="638640"/>
            <a:ext cx="515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ctionScrip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538200" y="3441600"/>
            <a:ext cx="119379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package {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import flash.display.Sprite;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public class MyProgram extends Sprite {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public function MyProgram():void {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de her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552240" y="2467440"/>
            <a:ext cx="3810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yProgram.as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571680" y="3556080"/>
            <a:ext cx="1930320" cy="457200"/>
          </a:xfrm>
          <a:prstGeom prst="rect">
            <a:avLst/>
          </a:prstGeom>
          <a:solidFill>
            <a:srgbClr val="ad00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4089240"/>
            <a:ext cx="7594560" cy="432000"/>
          </a:xfrm>
          <a:prstGeom prst="rect">
            <a:avLst/>
          </a:prstGeom>
          <a:solidFill>
            <a:srgbClr val="ad00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7709040" y="5118120"/>
            <a:ext cx="3873240" cy="457200"/>
          </a:xfrm>
          <a:prstGeom prst="rect">
            <a:avLst/>
          </a:prstGeom>
          <a:solidFill>
            <a:srgbClr val="ad00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4444920" y="5613480"/>
            <a:ext cx="2210040" cy="457200"/>
          </a:xfrm>
          <a:prstGeom prst="rect">
            <a:avLst/>
          </a:prstGeom>
          <a:solidFill>
            <a:srgbClr val="ad00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9880560" y="5613480"/>
            <a:ext cx="1498680" cy="457200"/>
          </a:xfrm>
          <a:prstGeom prst="rect">
            <a:avLst/>
          </a:prstGeom>
          <a:solidFill>
            <a:srgbClr val="ad00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625360" y="562320"/>
            <a:ext cx="1742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3a1e"/>
                </a:solidFill>
                <a:latin typeface="Helvetica Neue Medium"/>
                <a:ea typeface="Helvetica Neue Medium"/>
              </a:rPr>
              <a:t>Java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1693800" y="3289320"/>
            <a:ext cx="961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import java.util.Graphics;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a9a9a"/>
                </a:solidFill>
                <a:latin typeface="Andale Mono"/>
                <a:ea typeface="Andale Mono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Monaco"/>
              </a:rPr>
              <a:t>Graphics g = panel.getGraphics();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Monaco"/>
              </a:rPr>
              <a:t>g.setColor(</a:t>
            </a:r>
            <a:r>
              <a:rPr b="0" lang="en-US" sz="3600" spc="-1" strike="noStrike">
                <a:solidFill>
                  <a:srgbClr val="b26b00"/>
                </a:solidFill>
                <a:latin typeface="Andale Mono"/>
                <a:ea typeface="Andale Mono"/>
              </a:rPr>
              <a:t>Color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g.drawLine(</a:t>
            </a:r>
            <a:r>
              <a:rPr b="0" lang="en-US" sz="3600" spc="-1" strike="noStrike">
                <a:solidFill>
                  <a:srgbClr val="b26b00"/>
                </a:solidFill>
                <a:latin typeface="Andale Mono"/>
                <a:ea typeface="Andale Mono"/>
              </a:rPr>
              <a:t>x1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, </a:t>
            </a:r>
            <a:r>
              <a:rPr b="0" lang="en-US" sz="3600" spc="-1" strike="noStrike">
                <a:solidFill>
                  <a:srgbClr val="b26b00"/>
                </a:solidFill>
                <a:latin typeface="Andale Mono"/>
                <a:ea typeface="Andale Mono"/>
              </a:rPr>
              <a:t>y1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, </a:t>
            </a:r>
            <a:r>
              <a:rPr b="0" lang="en-US" sz="3600" spc="-1" strike="noStrike">
                <a:solidFill>
                  <a:srgbClr val="b26b00"/>
                </a:solidFill>
                <a:latin typeface="Andale Mono"/>
                <a:ea typeface="Andale Mono"/>
              </a:rPr>
              <a:t>x1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, </a:t>
            </a:r>
            <a:r>
              <a:rPr b="0" lang="en-US" sz="3600" spc="-1" strike="noStrike">
                <a:solidFill>
                  <a:srgbClr val="b26b00"/>
                </a:solidFill>
                <a:latin typeface="Andale Mono"/>
                <a:ea typeface="Andale Mono"/>
              </a:rPr>
              <a:t>x2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g.drawOval(</a:t>
            </a:r>
            <a:r>
              <a:rPr b="0" lang="en-US" sz="3600" spc="-1" strike="noStrike">
                <a:solidFill>
                  <a:srgbClr val="b26b00"/>
                </a:solidFill>
                <a:latin typeface="Andale Mono"/>
                <a:ea typeface="Andale Mono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, </a:t>
            </a:r>
            <a:r>
              <a:rPr b="0" lang="en-US" sz="3600" spc="-1" strike="noStrike">
                <a:solidFill>
                  <a:srgbClr val="b26b00"/>
                </a:solidFill>
                <a:latin typeface="Andale Mono"/>
                <a:ea typeface="Andale Mono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, </a:t>
            </a:r>
            <a:r>
              <a:rPr b="0" lang="en-US" sz="3600" spc="-1" strike="noStrike">
                <a:solidFill>
                  <a:srgbClr val="b26b00"/>
                </a:solidFill>
                <a:latin typeface="Andale Mono"/>
                <a:ea typeface="Andale Mono"/>
              </a:rPr>
              <a:t>width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, </a:t>
            </a:r>
            <a:r>
              <a:rPr b="0" lang="en-US" sz="3600" spc="-1" strike="noStrike">
                <a:solidFill>
                  <a:srgbClr val="b26b00"/>
                </a:solidFill>
                <a:latin typeface="Andale Mono"/>
                <a:ea typeface="Andale Mono"/>
              </a:rPr>
              <a:t>height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  <a:ea typeface="Andale Mono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67"/>
                </a:solidFill>
                <a:latin typeface="Andale Mono"/>
                <a:ea typeface="Andale Mono"/>
              </a:rPr>
              <a:t>etc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5388480" y="162936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Graphic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917880" y="638640"/>
            <a:ext cx="515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ctionScrip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5388480" y="162936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Graphic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39680" y="3035160"/>
          <a:ext cx="12712680" cy="6603840"/>
        </p:xfrm>
        <a:graphic>
          <a:graphicData uri="http://schemas.openxmlformats.org/drawingml/2006/table">
            <a:tbl>
              <a:tblPr/>
              <a:tblGrid>
                <a:gridCol w="6362640"/>
                <a:gridCol w="6350040"/>
              </a:tblGrid>
              <a:tr h="678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Descrip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graphics.lineStyle(</a:t>
                      </a:r>
                      <a:r>
                        <a:rPr b="0" lang="en-US" sz="16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thickn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col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graphics.lineStyle()</a:t>
                      </a: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Monaco"/>
                          <a:ea typeface="Monaco"/>
                        </a:rPr>
                        <a:t> // no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Set the style for drawing li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graphics.moveTo(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Move the “paintbrush” to specified x and y pixel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graphics.lineTo(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Move the “paintbrush” to specified x and y pixels, and draw a line along the w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graphics.beginFill(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Colo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graphics.endFill(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Start and stop using a color to fill shapes. (Important to cal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dale Mono"/>
                          <a:ea typeface="Andale Mono"/>
                        </a:rPr>
                        <a:t>endFIll(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 once you are done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graphics. drawCircle(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radi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Draw a circle with current fill &amp; bord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graphics. drawRect(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wid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heigh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Draw a rectangle with current fill &amp; bord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241200" y="2241720"/>
            <a:ext cx="877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 also have a Graphics object! Different methods though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5625360" y="562320"/>
            <a:ext cx="1742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3a1e"/>
                </a:solidFill>
                <a:latin typeface="Helvetica Neue Medium"/>
                <a:ea typeface="Helvetica Neue Medium"/>
              </a:rPr>
              <a:t>Java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309600" y="3200400"/>
            <a:ext cx="12585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import java.awt.*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a9a9a"/>
                </a:solidFill>
                <a:latin typeface="Andale Mono"/>
                <a:ea typeface="Andale Mono"/>
              </a:rPr>
              <a:t>public class GraphicalProgram {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a9a9a"/>
                </a:solidFill>
                <a:latin typeface="Andale Mono"/>
                <a:ea typeface="Andale Mono"/>
              </a:rPr>
              <a:t>   </a:t>
            </a:r>
            <a:r>
              <a:rPr b="0" lang="en-US" sz="3000" spc="-1" strike="noStrike">
                <a:solidFill>
                  <a:srgbClr val="9a9a9a"/>
                </a:solidFill>
                <a:latin typeface="Andale Mono"/>
                <a:ea typeface="Andale Mono"/>
              </a:rPr>
              <a:t>public static void main(String[] args) {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DrawingPanel panel = new DrawingPanel(200, 200);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Graphics g = panel.getGraphics()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Monaco"/>
              </a:rPr>
              <a:t>g.setColor(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Color.RED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g.drawLine(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0, 0, 20, 20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  <a:ea typeface="Andale Mono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a9a9a"/>
                </a:solidFill>
                <a:latin typeface="Andale Mono"/>
                <a:ea typeface="Andale Mono"/>
              </a:rPr>
              <a:t>   </a:t>
            </a:r>
            <a:r>
              <a:rPr b="0" lang="en-US" sz="3000" spc="-1" strike="noStrike">
                <a:solidFill>
                  <a:srgbClr val="9a9a9a"/>
                </a:solidFill>
                <a:latin typeface="Andale Mono"/>
                <a:ea typeface="Andale Mono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a9a9a"/>
                </a:solidFill>
                <a:latin typeface="Andale Mono"/>
                <a:ea typeface="Andale Mono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5388480" y="162936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Graphic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