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8A9-8B33-4F06-A301-05B2C964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1D2D-E62D-49A8-B01C-16F4EC2F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FBD9-E2AE-4D76-A5DF-CD69770A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B7E9-A8E7-4E85-8438-DD341A9D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B26C-0D2F-4948-8F85-3C973649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B48D-9012-4EA3-89CC-D1571833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AA79-817A-4B33-9F79-0B6C8F3A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8B15-4EFE-4203-A0D9-95F4E65E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4680-8BA2-4CFA-B370-F576AD74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7B6B-136E-429F-8C63-7FCD412D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ABF5-F3D9-4F11-87ED-3265BE69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1E2B-5746-4C60-A62B-81BA2825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E14B-93EC-486F-8423-785D42E7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BE30-5F00-487F-ACD5-A4A4E1F8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A0EF-E19B-4926-B165-8DAE1991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E200-7600-4BF4-9562-593D6F2A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B8AE-7B8B-4F77-ADF9-85AC81F4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9884-4E98-475E-AA35-5FCE678C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C864-E3CD-4FE4-A00F-067AAFF9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74FB-D12F-477A-9167-AA7C9B2E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AE3D-2223-4E23-A31B-89964659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C14-DC3B-4001-A1F2-F004A54D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F1B2-F66F-4BC8-B827-AC780824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FC1A-59E8-4CF6-82CA-59BE1FF5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9F8CE6-0AEC-4DB4-92AA-94CA6CF17C79}" type="datetime">
              <a:rPr b="0" lang="en-US" sz="1200" spc="-1" strike="noStrike">
                <a:solidFill>
                  <a:srgbClr val="000000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33BAD-1D4E-4EFC-A060-4990A7BB84F5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0061B-BDA2-4127-A2A7-5B536AF49882}" type="datetime">
              <a:rPr b="0" lang="en-US" sz="1200" spc="-1" strike="noStrike">
                <a:solidFill>
                  <a:srgbClr val="000000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180E9-79E2-45FD-9135-5E3A0EC940B8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hyperlink" Target="http://www.adobe.com/livedocs/flash/9.0/ActionScriptLangRefV3/flash/media/Sound.html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http://www.adobe.com/livedocs/flash/9.0/ActionScriptLangRefV3/flash/display/Bitmap.html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www.adobe.com/livedocs/flash/9.0/ActionScriptLangRefV3/flash/geom/Point.html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adobe.com/livedocs/flash/9.0/ActionScriptLangRefV3/flash/text/TextFormat.html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adobe.com/livedocs/flash/9.0/ActionScriptLangRefV3/flash/text/TextFieldAutoSize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ww.adobe.com/livedocs/flex/201/html/wwhelp/wwhimpl/common/html/wwhelp.htm?context=LiveDocs_Book_Parts&amp;file=03_Language_and_Syntax_160_13.html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://www.adobe.com/livedocs/flash/9.0/ActionScriptLangRefV3/flash/events/Event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90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oy McElmur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Round Diagonal Corner Rectangle 3"/>
          <p:cNvSpPr/>
          <p:nvPr/>
        </p:nvSpPr>
        <p:spPr>
          <a:xfrm>
            <a:off x="228600" y="1371600"/>
            <a:ext cx="8686800" cy="495288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mport flash.display.Loader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mport flash.display.Bitmap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oader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Loader = new Loader(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oader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contentLoaderInfo.addEventListener(Event.COMPLETE,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oaded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oader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load(“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myimage.jpg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ublic function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oaded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Event):void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mg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Bitmap = new Bitmap(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target.content.bitmapData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ddChild(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mg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Straight Connector 5"/>
          <p:cNvSpPr/>
          <p:nvPr/>
        </p:nvSpPr>
        <p:spPr>
          <a:xfrm>
            <a:off x="2133720" y="2131920"/>
            <a:ext cx="5181480" cy="180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3885840"/>
            <a:ext cx="82296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92480" indent="-369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Using the embed command is a shortcut for loading a resource and responding to it’s load complete event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492480" indent="-369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This command must be placed in the fields area of your class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492480" indent="-369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In practice it would be better style to initialize </a:t>
            </a: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name2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in the constructor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Round Diagonal Corner Rectangle 8"/>
          <p:cNvSpPr/>
          <p:nvPr/>
        </p:nvSpPr>
        <p:spPr>
          <a:xfrm>
            <a:off x="1219320" y="1417680"/>
            <a:ext cx="6476760" cy="228600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[Embed(source=“/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ilename.ext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”)]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ivate 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1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Class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ivate 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new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1()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as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Straight Connector 9"/>
          <p:cNvSpPr/>
          <p:nvPr/>
        </p:nvSpPr>
        <p:spPr>
          <a:xfrm>
            <a:off x="205740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7" name="Round Diagonal Corner Rectangle 3"/>
          <p:cNvSpPr/>
          <p:nvPr/>
        </p:nvSpPr>
        <p:spPr>
          <a:xfrm>
            <a:off x="609480" y="1371600"/>
            <a:ext cx="7925040" cy="243828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mport flash.media.Sound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[Embed(source=“/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filename.mp3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)]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ivate 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1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Class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ivate 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Sound = new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1()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as Sound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Straight Connector 5"/>
          <p:cNvSpPr/>
          <p:nvPr/>
        </p:nvSpPr>
        <p:spPr>
          <a:xfrm>
            <a:off x="213372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4038480"/>
          <a:ext cx="8458200" cy="2140200"/>
        </p:xfrm>
        <a:graphic>
          <a:graphicData uri="http://schemas.openxmlformats.org/drawingml/2006/table">
            <a:tbl>
              <a:tblPr/>
              <a:tblGrid>
                <a:gridCol w="3124080"/>
                <a:gridCol w="5334120"/>
              </a:tblGrid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unctions/Fie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und.play(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lays the mp3, returns a SoundChannel object which could be used to tinker with the s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und.id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ntains metadata about the sound such as artist, duration, title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und.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turns the length of the m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130" name="TextBox 6"/>
          <p:cNvSpPr/>
          <p:nvPr/>
        </p:nvSpPr>
        <p:spPr>
          <a:xfrm>
            <a:off x="1189440" y="6488280"/>
            <a:ext cx="8233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adobe.com/livedocs/flash/9.0/ActionScriptLangRefV3/flash/media/Sound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Round Diagonal Corner Rectangle 3"/>
          <p:cNvSpPr/>
          <p:nvPr/>
        </p:nvSpPr>
        <p:spPr>
          <a:xfrm>
            <a:off x="609480" y="1371600"/>
            <a:ext cx="7925040" cy="243828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mport flash.display.Bitmap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[Embed(source=“/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filename.jpg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)]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//also png or gif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ivate 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1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Class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ivate 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Bitmap = new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1()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as Bitmap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Straight Connector 5"/>
          <p:cNvSpPr/>
          <p:nvPr/>
        </p:nvSpPr>
        <p:spPr>
          <a:xfrm>
            <a:off x="213372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4038480"/>
          <a:ext cx="8458200" cy="2140200"/>
        </p:xfrm>
        <a:graphic>
          <a:graphicData uri="http://schemas.openxmlformats.org/drawingml/2006/table">
            <a:tbl>
              <a:tblPr/>
              <a:tblGrid>
                <a:gridCol w="4800600"/>
                <a:gridCol w="3657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ic.getBounds(obj:DisplayOb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turns a Rectangle object that defines the area of pic relative to ob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ic.hitTestObject(obj:DisplayObject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etermines if pic is intersecting the given Display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ic.hitTestPoint(x:Number, y:Number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etermines if pic intersects (x, 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135" name="TextBox 6"/>
          <p:cNvSpPr/>
          <p:nvPr/>
        </p:nvSpPr>
        <p:spPr>
          <a:xfrm>
            <a:off x="1123200" y="6488280"/>
            <a:ext cx="836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adobe.com/livedocs/flash/9.0/ActionScriptLangRefV3/flash/display/Bitmap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 all games it is necessary to have a game loo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game loop is some logic that is performed every so often to maintain the game environ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ngs that need to happen regularly should be in the game loo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16120" indent="-2653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ving things that are not user-controlle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16120" indent="-2653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tecting collision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game loop for pong might only move the bal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16120" indent="-2653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e want our ball to move in a random direc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ne approach is to store the direction of the ball in a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Poin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ields of th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Poin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ill represent the direction that the ball will move i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en using a direction vector th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Poin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must be normalized to be length one, otherwise speed will vary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Round Diagonal Corner Rectangle 3"/>
          <p:cNvSpPr/>
          <p:nvPr/>
        </p:nvSpPr>
        <p:spPr>
          <a:xfrm>
            <a:off x="1295280" y="1371600"/>
            <a:ext cx="6553440" cy="182880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mport flash.geom.Poin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Point = new Point(x:Number, y:Number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Straight Connector 5"/>
          <p:cNvSpPr/>
          <p:nvPr/>
        </p:nvSpPr>
        <p:spPr>
          <a:xfrm>
            <a:off x="213372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3505320"/>
          <a:ext cx="8229600" cy="2771640"/>
        </p:xfrm>
        <a:graphic>
          <a:graphicData uri="http://schemas.openxmlformats.org/drawingml/2006/table">
            <a:tbl>
              <a:tblPr/>
              <a:tblGrid>
                <a:gridCol w="3886200"/>
                <a:gridCol w="4343400"/>
              </a:tblGrid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oint.distance(p1:Point, p2:Point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turns the distance between the two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oint.polar(len:Number, angle:Number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turns a Point with cartesian coordinates, where angle is in rad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1.add(p2:Point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dd the coordinates of p2 to 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1.offset(dx:Number, dy:Number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ffset p1 by dx and 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sp>
        <p:nvSpPr>
          <p:cNvPr id="144" name="TextBox 9"/>
          <p:cNvSpPr/>
          <p:nvPr/>
        </p:nvSpPr>
        <p:spPr>
          <a:xfrm>
            <a:off x="1258200" y="6488280"/>
            <a:ext cx="8096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adobe.com/livedocs/flash/9.0/ActionScriptLangRefV3/flash/geom/Point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 games it is often important to know when objects on the screen are touch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en the simplest games need to respond to objects colliding with either other objects or specific poi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ong – ball boun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orm – eating an app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alaga – bullets hitting enemi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alo – pwning newb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57200" y="3885840"/>
            <a:ext cx="82296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f the rectangle that surrounds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ntersects the rectangle that contains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hitTes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ill return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otherwise it returns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s can be called on any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isplayObjec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Round Diagonal Corner Rectangle 8"/>
          <p:cNvSpPr/>
          <p:nvPr/>
        </p:nvSpPr>
        <p:spPr>
          <a:xfrm>
            <a:off x="1219320" y="1417680"/>
            <a:ext cx="6476760" cy="228600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ar s1:Shape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ar s2:Shape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1.hitTestObject(s2)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Straight Connector 9"/>
          <p:cNvSpPr/>
          <p:nvPr/>
        </p:nvSpPr>
        <p:spPr>
          <a:xfrm>
            <a:off x="205740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-438480" y="6488280"/>
            <a:ext cx="1025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http://www.adobe.com/livedocs/flash/9.0/ActionScriptLangRefV3/flash/display/DisplayObject.html#hitTestObject(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57200" y="3885840"/>
            <a:ext cx="82296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98240" indent="-37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If the rectangle that surrounds s1 overlaps or intersects the point specified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498240" indent="-37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You can supply a third optional </a:t>
            </a: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boolean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parameter for whether to check if the actual pixels of the object are touching instead of just the bounding box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498240" indent="-37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This can called on any </a:t>
            </a: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DisplayObject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Round Diagonal Corner Rectangle 8"/>
          <p:cNvSpPr/>
          <p:nvPr/>
        </p:nvSpPr>
        <p:spPr>
          <a:xfrm>
            <a:off x="1219320" y="1417680"/>
            <a:ext cx="6476760" cy="228600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ar s1:Shape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1.hitTestPoint(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Straight Connector 9"/>
          <p:cNvSpPr/>
          <p:nvPr/>
        </p:nvSpPr>
        <p:spPr>
          <a:xfrm>
            <a:off x="205740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-475560" y="6488280"/>
            <a:ext cx="10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http://www.adobe.com/livedocs/flash/9.0/ActionScriptLangRefV3/flash/display/DisplayObject.html#hitTestPoint(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1157040" y="6488280"/>
            <a:ext cx="8462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adobe.com/livedocs/flash/9.0/ActionScriptLangRefV3/flash/text/TextFormat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3885840"/>
            <a:ext cx="82296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extForma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bject can be used to set many other properties as well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Round Diagonal Corner Rectangle 8"/>
          <p:cNvSpPr/>
          <p:nvPr/>
        </p:nvSpPr>
        <p:spPr>
          <a:xfrm>
            <a:off x="685800" y="1371600"/>
            <a:ext cx="7772400" cy="251460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mport flash.text.*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extField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:TextField = new TextField();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:TextFormat = new TextFormat(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ont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, …)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extField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setTextFormat(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Straight Connector 9"/>
          <p:cNvSpPr/>
          <p:nvPr/>
        </p:nvSpPr>
        <p:spPr>
          <a:xfrm>
            <a:off x="205740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57200" y="44956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re is also a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KEY_UP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event that you can us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Round Diagonal Corner Rectangle 8"/>
          <p:cNvSpPr/>
          <p:nvPr/>
        </p:nvSpPr>
        <p:spPr>
          <a:xfrm>
            <a:off x="609480" y="1417680"/>
            <a:ext cx="7925040" cy="284940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mport flash.events.*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tage.addEventListener(KeyboardEvent.KEY_DOWN,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istener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ublic function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istener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ev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:KeyboardEvent):void {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//respond to user action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Straight Connector 9"/>
          <p:cNvSpPr/>
          <p:nvPr/>
        </p:nvSpPr>
        <p:spPr>
          <a:xfrm>
            <a:off x="205740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57200" y="5028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KeyboardEven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 have tons of useful information in the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1417680"/>
          <a:ext cx="8458200" cy="3500280"/>
        </p:xfrm>
        <a:graphic>
          <a:graphicData uri="http://schemas.openxmlformats.org/drawingml/2006/table">
            <a:tbl>
              <a:tblPr/>
              <a:tblGrid>
                <a:gridCol w="2819520"/>
                <a:gridCol w="563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ie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v.char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he ASCII value of the character that was pressed, all modifier keys have a keyCode of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v.key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 numeric code for the which button on the keyboard was pres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v.key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Where the key is that was pres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v.shift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oolean for whether the shift key was being pres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v.alt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oolean for whether the alt key was being pres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v.ctrl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oolean for whether the control key was being pres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sp>
        <p:nvSpPr>
          <p:cNvPr id="164" name="TextBox 7"/>
          <p:cNvSpPr/>
          <p:nvPr/>
        </p:nvSpPr>
        <p:spPr>
          <a:xfrm>
            <a:off x="590400" y="6488280"/>
            <a:ext cx="89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http://www.adobe.com/livedocs/flash/9.0/ActionScriptLangRefV3/flash/events/KeyboardEvent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1676520" y="1417680"/>
          <a:ext cx="5715000" cy="3736800"/>
        </p:xfrm>
        <a:graphic>
          <a:graphicData uri="http://schemas.openxmlformats.org/drawingml/2006/table">
            <a:tbl>
              <a:tblPr/>
              <a:tblGrid>
                <a:gridCol w="1752480"/>
                <a:gridCol w="2133720"/>
                <a:gridCol w="1828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ey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har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e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 txBox="1"/>
          <p:nvPr/>
        </p:nvSpPr>
        <p:spPr>
          <a:xfrm>
            <a:off x="457200" y="515412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Keyboar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class contains constants for a lot of these so that we do not have to memorize the numbe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2750760" y="6172200"/>
            <a:ext cx="66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http://people.uncw.edu/tompkinsj/112/flashactionscript/keycodes.ht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1417680" y="6473880"/>
            <a:ext cx="813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http://www.adobe.com/livedocs/flash/9.0/ActionScriptLangRefV3/flash/ui/Keyboard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KEY_DOW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event is fired once and then after a pause is fired regularly as we would expect, but the delay creates for a bad user experien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essing a different key will overshadow a previous key that is still being pressed meaning that holding down two keys will only register on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KEY_DOW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ev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e can fix this issue by using th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KEY_DOW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KEY_UP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eve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idea is to key track of which keys are down and then update in the game loo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3" name="Round Diagonal Corner Rectangle 8"/>
          <p:cNvSpPr/>
          <p:nvPr/>
        </p:nvSpPr>
        <p:spPr>
          <a:xfrm>
            <a:off x="609480" y="1417680"/>
            <a:ext cx="7925040" cy="521172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mport flash.events.*;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keysPressed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:Array = [];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tage.addEventListener(KeyboardEvent.KEY_DOWN,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downListener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tage.addEventListener(KeyboardEvent.KEY_UP,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upListener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public function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downListener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ev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:KeyboardEvent):void {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keysPressed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.push(ev.charCode);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public function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upListener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ev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:KeyboardEvent):void {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removeKey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keysPressed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, ev.charCode);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public function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gameLoop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():void {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or (var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key: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nt in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keysPressed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//respond to key being down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//You need to write a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removeKey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function as wel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2057400" y="2131920"/>
            <a:ext cx="5181480" cy="180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ame programming can get complex and there can be lots of subtle bugs associated with it, like th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KEY_DOW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event issu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re are many libraries that help us with Flash game programm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lixel with the FlashDevelop ID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lashPunk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PE (Actionscript Physics Engine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4266720"/>
            <a:ext cx="82296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auto size property must be set so that th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extFiel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knows how it should respond to formatt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 this case in treats the text as left justifi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Round Diagonal Corner Rectangle 8"/>
          <p:cNvSpPr/>
          <p:nvPr/>
        </p:nvSpPr>
        <p:spPr>
          <a:xfrm>
            <a:off x="685800" y="1371600"/>
            <a:ext cx="7772400" cy="281952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mport flash.text.*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extField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:TextField = new TextField();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:TextFormat = new TextFormat(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ont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, …)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extField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autoSize = TextFieldAutoSize.LEFT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extField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setTextFormat(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Straight Connector 9"/>
          <p:cNvSpPr/>
          <p:nvPr/>
        </p:nvSpPr>
        <p:spPr>
          <a:xfrm>
            <a:off x="205740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607320" y="6488280"/>
            <a:ext cx="8975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adobe.com/livedocs/flash/9.0/ActionScriptLangRefV3/flash/text/TextFieldAutoSize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7365240" y="6488280"/>
            <a:ext cx="1557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Constan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3885840"/>
            <a:ext cx="82296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for-each loop iterates over the indices of any iterable object, not the valu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ou can then use the index to access that data at that index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Round Diagonal Corner Rectangle 8"/>
          <p:cNvSpPr/>
          <p:nvPr/>
        </p:nvSpPr>
        <p:spPr>
          <a:xfrm>
            <a:off x="685800" y="1371600"/>
            <a:ext cx="7772400" cy="251460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tuff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:Array = {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hing1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hing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hing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, …}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r (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in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tuff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//use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as index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//get data with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tuff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Straight Connector 9"/>
          <p:cNvSpPr/>
          <p:nvPr/>
        </p:nvSpPr>
        <p:spPr>
          <a:xfrm>
            <a:off x="205740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4647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92480" indent="-369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FlashVars are a way for us to load a flash movie with parameters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492480" indent="-369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The format is the same as that for HTML query strings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492480" indent="-369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You can also just add a query string to the end of the data attribut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Round Diagonal Corner Rectangle 6"/>
          <p:cNvSpPr/>
          <p:nvPr/>
        </p:nvSpPr>
        <p:spPr>
          <a:xfrm>
            <a:off x="228600" y="1371600"/>
            <a:ext cx="8686800" cy="312408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div&gt;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object type=“application/x-shockwave-flash” data=“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yourfile.swf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idth=“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550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 height=“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400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 &gt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param name=“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yourfil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 value=“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yourfile.swf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 /&gt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param name=“FlashVars” value=“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key=value&amp;key=valu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…” /&gt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/object&gt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/div&gt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Straight Connector 7"/>
          <p:cNvSpPr/>
          <p:nvPr/>
        </p:nvSpPr>
        <p:spPr>
          <a:xfrm>
            <a:off x="2133720" y="197964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44953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ou can treat the params object as if it were an associativ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Round Diagonal Corner Rectangle 6"/>
          <p:cNvSpPr/>
          <p:nvPr/>
        </p:nvSpPr>
        <p:spPr>
          <a:xfrm>
            <a:off x="228600" y="1371600"/>
            <a:ext cx="8686800" cy="297180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mport flash.display.LoaderInfo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arams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:Object = LoaderInfo(this.root.loaderInfo).parameters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or (var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key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:String in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arams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//do stuff with the keys of the FlashVar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//value = params[key]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Straight Connector 7"/>
          <p:cNvSpPr/>
          <p:nvPr/>
        </p:nvSpPr>
        <p:spPr>
          <a:xfrm>
            <a:off x="2133720" y="197964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03640" indent="-3780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ents are flags that are raised by certain objects for different purpos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3640" indent="-3780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 many cases we want something to happen when this event occurs, some such events may includ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button being clicke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user pressing a key on the keyboar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picture having finished load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timer going off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03640" indent="-3780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en we us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ddEventListen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e are saying that we wish for the listener function to be executed when the given type of event occu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3825720"/>
            <a:ext cx="8229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The name of the listener function must exactly match the function name given to </a:t>
            </a: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addEventListener()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The listener function must take a single parameter of the same type as that specified when you used </a:t>
            </a: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addEventListener()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The parameter contains valuable information about the event that one might want to us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Round Diagonal Corner Rectangle 3"/>
          <p:cNvSpPr/>
          <p:nvPr/>
        </p:nvSpPr>
        <p:spPr>
          <a:xfrm>
            <a:off x="1828800" y="1371600"/>
            <a:ext cx="5562720" cy="205740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ublic function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istener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ev: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:void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//do stuff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Straight Connector 5"/>
          <p:cNvSpPr/>
          <p:nvPr/>
        </p:nvSpPr>
        <p:spPr>
          <a:xfrm>
            <a:off x="213372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5105160"/>
            <a:ext cx="822960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87080" indent="-365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parameter stores valuable dat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87080" indent="-365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arge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urrentTarge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can differ when the same event is being listened for by multiple thing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Round Diagonal Corner Rectangle 3"/>
          <p:cNvSpPr/>
          <p:nvPr/>
        </p:nvSpPr>
        <p:spPr>
          <a:xfrm>
            <a:off x="1828800" y="1371600"/>
            <a:ext cx="5562720" cy="144792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public function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listener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(ev: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Type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):void {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//ev can be very usefu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Straight Connector 5"/>
          <p:cNvSpPr/>
          <p:nvPr/>
        </p:nvSpPr>
        <p:spPr>
          <a:xfrm>
            <a:off x="213372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2971800"/>
          <a:ext cx="8458200" cy="2048040"/>
        </p:xfrm>
        <a:graphic>
          <a:graphicData uri="http://schemas.openxmlformats.org/drawingml/2006/table">
            <a:tbl>
              <a:tblPr/>
              <a:tblGrid>
                <a:gridCol w="3124080"/>
                <a:gridCol w="5334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ie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v.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he object that started the ev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v.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ntains metadata about the sound such as artist, duration, title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v.current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he object that is currently responding to the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118" name="TextBox 7"/>
          <p:cNvSpPr/>
          <p:nvPr/>
        </p:nvSpPr>
        <p:spPr>
          <a:xfrm>
            <a:off x="1522080" y="6488280"/>
            <a:ext cx="8189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adobe.com/livedocs/flash/9.0/ActionScriptLangRefV3/flash/events/Event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08:37:44Z</dcterms:created>
  <dc:creator>Roy</dc:creator>
  <dc:description/>
  <dc:language>en-US</dc:language>
  <cp:lastModifiedBy>Roy</cp:lastModifiedBy>
  <dcterms:modified xsi:type="dcterms:W3CDTF">2010-07-14T12:33:11Z</dcterms:modified>
  <cp:revision>64</cp:revision>
  <dc:subject/>
  <dc:title>Learning Adobe Flash Session 3</dc:title>
</cp:coreProperties>
</file>