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DA1-43A1-4FEB-94A5-22820D28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C7B-45F5-4B19-9530-C99C8A2B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521-1FF4-4449-B211-0A8870E0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500-57EF-4D65-94D1-E76FB2CC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F669-9EBD-4B8C-B224-AAE4F130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B32C-4FDD-4584-A74D-B16BF4BA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8903-DE86-4065-B293-57E4B486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5505-0F3B-4928-92B4-8481938D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D4FE-8E16-455C-8505-DE0F3D72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3DAA-DC7F-48C3-9722-98927611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2612-90CE-4C17-945F-2F6A3F9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27F-7307-4684-A317-64FB0AC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696E-D2FC-4DD0-9619-2411C94E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EF3C-39D8-4725-9079-D01121C7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6528-4D87-449E-9FB1-703B230A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D280-F71B-411B-94D8-E4C42307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C2C4-3405-44E7-B204-AACD7608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E4D-1A70-433D-9A1F-0B4E7DE9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BD9-E470-43DF-9F0A-AB4F1EAD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0D5-9F36-4BF9-BB61-FC9C577D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4B6-5385-41C8-AFD1-CB03B063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21A-A54E-4547-93E9-9D37936E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1C7-116B-4EDF-A533-AB7A5C4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0FB-AB43-486B-973D-80F1642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F1202-702C-4E62-B52B-9A9117E9BFDA}" type="datetime">
              <a:rPr b="0" lang="en-US" sz="1200" spc="-1" strike="noStrike">
                <a:solidFill>
                  <a:srgbClr val="000000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2572F-64A7-46D0-B404-E809AFC22CBA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D0B98-9C55-4990-BAD6-B9E5DDFE2F37}" type="datetime">
              <a:rPr b="0" lang="en-US" sz="1200" spc="-1" strike="noStrike">
                <a:solidFill>
                  <a:srgbClr val="000000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11C1D-D8DF-4ABB-9C47-AECD09C1C2FC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republicofcode.com/tutorials/flash/as3displaylist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adobe.com/livedocs/flex/201/html/wwhelp/wwhimpl/common/html/wwhelp.htm?context=LiveDocs_Book_Parts&amp;file=03_Language_and_Syntax_160_13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ragona.com/blog/as3-casting-vs-typevar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adobe.com/livedocs/flash/9.0/main/wwhelp/wwhimpl/common/html/wwhelp.htm?context=LiveDocs_Parts&amp;file=00000055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adobe.com/livedocs/flash/9.0/ActionScriptLangRefV3/flash/display/Stage.html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adobe.com/livedocs/flash/9.0/ActionScriptLangRefV3/flash/display/Stage.html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adobe.com/livedocs/flash/9.0/ActionScriptLangRefV3/flash/display/DisplayObjectContainer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adobe.com/livedocs/flash/9.0/ActionScriptLangRefV3/flash/display/DisplayObject.html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y McElmur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3" descr=""/>
          <p:cNvPicPr/>
          <p:nvPr/>
        </p:nvPicPr>
        <p:blipFill>
          <a:blip r:embed="rId3"/>
          <a:stretch/>
        </p:blipFill>
        <p:spPr>
          <a:xfrm>
            <a:off x="407880" y="1573200"/>
            <a:ext cx="8643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Content Placeholder 2"/>
          <p:cNvSpPr/>
          <p:nvPr/>
        </p:nvSpPr>
        <p:spPr>
          <a:xfrm>
            <a:off x="457200" y="1417680"/>
            <a:ext cx="82296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display list is simply a list of the things that will be displayed on the scre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ing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Chil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) is one way to add something to the display li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n children are added to the sam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isplayObjectContain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ey are automatically assigned depths starting at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order in which things are drawn on screen cooresponds to the depths of their par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 instance of your class is the first child of stage with a depth of 0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494160" y="6488280"/>
            <a:ext cx="5857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republicofcode.com/tutorials/flash/as3displaylist/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69328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41732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70880" indent="-3535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se functions allow us to manipulate the order in which things are draw to the screen by manipulating the depth of children on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isplayObjectContain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’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3048120"/>
          <a:ext cx="8686800" cy="3512880"/>
        </p:xfrm>
        <a:graphic>
          <a:graphicData uri="http://schemas.openxmlformats.org/drawingml/2006/table">
            <a:tbl>
              <a:tblPr/>
              <a:tblGrid>
                <a:gridCol w="4724280"/>
                <a:gridCol w="396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.addChildAt(obj:DisplayObject, depth:i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d a child at the given depth between 0 and cont.num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.setChildIndex(obj:DisplayObject, depth:i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et the depth of a child anywhere from 0 to cont.numChildren ex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.getChildIndex(obj:Display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turns the depth of the Display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.swapChildrenAt(depth1:int, depth2:i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waps the children at depth1 and depth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.removeChild(obj:Display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moves obj from cont and shifts deeper children 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Round Diagonal Corner Rectangle 3"/>
          <p:cNvSpPr/>
          <p:nvPr/>
        </p:nvSpPr>
        <p:spPr>
          <a:xfrm>
            <a:off x="1295280" y="1371600"/>
            <a:ext cx="6553440" cy="18288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geom.Poin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Point = new Point(x:Number, y:Number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3505320"/>
          <a:ext cx="8229600" cy="2771640"/>
        </p:xfrm>
        <a:graphic>
          <a:graphicData uri="http://schemas.openxmlformats.org/drawingml/2006/table">
            <a:tbl>
              <a:tblPr/>
              <a:tblGrid>
                <a:gridCol w="3886200"/>
                <a:gridCol w="4343400"/>
              </a:tblGrid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int.distance(p1:Point, p2:Point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turns the distance between the two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int.polar(len:Number, angle:Numbe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turns a Point with cartesian coordinates, where angle is in ra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1.add(p2:Point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d the coordinates of p2 to 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1.offset(dx:Number, dy:Numbe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ffset p1 by dx and 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9"/>
          <p:cNvSpPr/>
          <p:nvPr/>
        </p:nvSpPr>
        <p:spPr>
          <a:xfrm>
            <a:off x="1258200" y="6488280"/>
            <a:ext cx="809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ash/9.0/ActionScriptLangRefV3/flash/geom/Poin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Round Diagonal Corner Rectangle 3"/>
          <p:cNvSpPr/>
          <p:nvPr/>
        </p:nvSpPr>
        <p:spPr>
          <a:xfrm>
            <a:off x="609480" y="1371600"/>
            <a:ext cx="7925040" cy="18288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utils.Timer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Timer = new Timer(delay:Number, repeats:int = 0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3657600"/>
          <a:ext cx="8458200" cy="2743200"/>
        </p:xfrm>
        <a:graphic>
          <a:graphicData uri="http://schemas.openxmlformats.org/drawingml/2006/table">
            <a:tbl>
              <a:tblPr/>
              <a:tblGrid>
                <a:gridCol w="5246640"/>
                <a:gridCol w="321156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mer.start(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rts the t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mer.stop(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ops the t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mer.re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sets the t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mer.addEventListener(type:String, listener:Function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gisters timer for an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6"/>
          <p:cNvSpPr/>
          <p:nvPr/>
        </p:nvSpPr>
        <p:spPr>
          <a:xfrm>
            <a:off x="1300680" y="6488280"/>
            <a:ext cx="80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ash/9.0/ActionScriptLangRefV3/flash/utils/Timer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03640" indent="-3780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ts are flags that are raised by certain objects for different purpo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many cases we want something to happen when this event occurs, some such events may inclu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button being click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user pressing a key on the keyboar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picture having finished load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timer going off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n we use addEventListener we are saying that we wish for the listener function to be executed when the given type of event occu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4572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2480" indent="-369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TimerEvent.TIMER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event happens when the timer reaches the time delay it was given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TimerEvent.TIMER_COMPLET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event happens when the timer has wrung the number of times specified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Round Diagonal Corner Rectangle 3"/>
          <p:cNvSpPr/>
          <p:nvPr/>
        </p:nvSpPr>
        <p:spPr>
          <a:xfrm>
            <a:off x="609480" y="1371600"/>
            <a:ext cx="7925040" cy="23623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events.TimerEvent.*;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imer.addEventListener(TimerEvent.TIMER, listener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imer.addEventListener(TimerEvent.TIMER_COMPLETE, listener2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96240" y="6488280"/>
            <a:ext cx="86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ash/9.0/ActionScriptLangRefV3/flash/events/TimerEven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3825720"/>
            <a:ext cx="8229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name of the listener function must exactly match the function name given to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addEventListener()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listener function must take a single parameter of the same type as that specified when you used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addEventListener()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parameter contains valuable information about the event that one might want to us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Round Diagonal Corner Rectangle 3"/>
          <p:cNvSpPr/>
          <p:nvPr/>
        </p:nvSpPr>
        <p:spPr>
          <a:xfrm>
            <a:off x="1828800" y="1371600"/>
            <a:ext cx="5562720" cy="20574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isten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ev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:void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do stuff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ts are essential to any interactive flash mov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can use a Timer to animate things rather easily by listening for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imerEvent.TIM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ev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re are also events for mouse clicks and keyboard strokes that can used to create interactive gam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y more events are also at your dispos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Round Diagonal Corner Rectangle 3"/>
          <p:cNvSpPr/>
          <p:nvPr/>
        </p:nvSpPr>
        <p:spPr>
          <a:xfrm>
            <a:off x="228600" y="1371600"/>
            <a:ext cx="8686800" cy="49528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mport flash.display.Loader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mport flash.display.Bitmap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Loader = new Loader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contentLoaderInfo.addEventListener(Event.COMPLETE,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load(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yimage.jp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Event):void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m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Bitmap = new Bitmap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target.content.bitmapData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dChild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m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Straight Connector 5"/>
          <p:cNvSpPr/>
          <p:nvPr/>
        </p:nvSpPr>
        <p:spPr>
          <a:xfrm>
            <a:off x="2133720" y="2131920"/>
            <a:ext cx="5181480" cy="180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7365240" y="6488280"/>
            <a:ext cx="1557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Consta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stants cannot be changed after they are initialized and must be initialized when declar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Round Diagonal Corner Rectangle 8"/>
          <p:cNvSpPr/>
          <p:nvPr/>
        </p:nvSpPr>
        <p:spPr>
          <a:xfrm>
            <a:off x="1828800" y="1371600"/>
            <a:ext cx="5562720" cy="16765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rivate const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2480" indent="-369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sing the embed command is a shortcut for loading a resource and responding to it’s load complete event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is command must be placed in the fields area of your clas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n practice it would be better style to initialize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name2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in the constructo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Round Diagonal Corner Rectangle 8"/>
          <p:cNvSpPr/>
          <p:nvPr/>
        </p:nvSpPr>
        <p:spPr>
          <a:xfrm>
            <a:off x="1219320" y="1417680"/>
            <a:ext cx="6476760" cy="22860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[Embed(source=“/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ilename.ex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)]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Clas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new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(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Round Diagonal Corner Rectangle 3"/>
          <p:cNvSpPr/>
          <p:nvPr/>
        </p:nvSpPr>
        <p:spPr>
          <a:xfrm>
            <a:off x="609480" y="1371600"/>
            <a:ext cx="7925040" cy="24382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media.Sound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[Embed(source=“/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ilename.mp3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)]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Clas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Sound = new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(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s Sound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038480"/>
          <a:ext cx="8458200" cy="214020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nctions/Fie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und.play(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lays the mp3, returns a SoundChannel object which could be used to tinker with the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und.i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ains metadata about the sound such as artist, duration, title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und.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turns the length of the m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56" name="TextBox 6"/>
          <p:cNvSpPr/>
          <p:nvPr/>
        </p:nvSpPr>
        <p:spPr>
          <a:xfrm>
            <a:off x="1189440" y="6488280"/>
            <a:ext cx="82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ash/9.0/ActionScriptLangRefV3/flash/media/Sound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8" name="Round Diagonal Corner Rectangle 3"/>
          <p:cNvSpPr/>
          <p:nvPr/>
        </p:nvSpPr>
        <p:spPr>
          <a:xfrm>
            <a:off x="609480" y="1371600"/>
            <a:ext cx="7925040" cy="24382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display.Bitmap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[Embed(source=“/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ilename.jp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)]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also png or gif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Clas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Bitmap = new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(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s Bitmap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4038480"/>
          <a:ext cx="8458200" cy="2140200"/>
        </p:xfrm>
        <a:graphic>
          <a:graphicData uri="http://schemas.openxmlformats.org/drawingml/2006/table">
            <a:tbl>
              <a:tblPr/>
              <a:tblGrid>
                <a:gridCol w="480060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ic.getBounds(obj:Display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turns a Rectangle object that defines the area of pic relative to ob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ic.hitTestObject(obj:DisplayObject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termines if pic is intersecting the given Display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ic.hitTestPoint(x:Number, y:Numbe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termines if pic intersects (x, 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61" name="TextBox 6"/>
          <p:cNvSpPr/>
          <p:nvPr/>
        </p:nvSpPr>
        <p:spPr>
          <a:xfrm>
            <a:off x="1123200" y="6488280"/>
            <a:ext cx="83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ash/9.0/ActionScriptLangRefV3/flash/display/Bitmap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games it is often important to know when objects on the screen are touc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the simplest games need to respond to objects colliding with either other objects or specific poi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ng – ball bou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orm – eating an app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alaga – bullets hitting enem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alo – pwning newb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4607640" y="6488280"/>
            <a:ext cx="469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ragona.com/blog/as3-casting-vs-typevar/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re is also a more Java-like synta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int)(num), but the former way is better for several subtle reas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Round Diagonal Corner Rectangle 8"/>
          <p:cNvSpPr/>
          <p:nvPr/>
        </p:nvSpPr>
        <p:spPr>
          <a:xfrm>
            <a:off x="1828800" y="1371600"/>
            <a:ext cx="5562720" cy="16765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num:Number = 23.5;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newNum:int = num as in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6557400" y="6488280"/>
            <a:ext cx="2346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Default Paramet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f you make default a parameter, all parameters thereafter must also be default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only way to give a value to the nth defaulted parameter is to give a value to all the preceding parameters as we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Round Diagonal Corner Rectangle 8"/>
          <p:cNvSpPr/>
          <p:nvPr/>
        </p:nvSpPr>
        <p:spPr>
          <a:xfrm>
            <a:off x="1828800" y="1371600"/>
            <a:ext cx="5562720" cy="16765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ram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…) {}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Content Placeholder 2"/>
          <p:cNvSpPr/>
          <p:nvPr/>
        </p:nvSpPr>
        <p:spPr>
          <a:xfrm>
            <a:off x="457200" y="1417680"/>
            <a:ext cx="82296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stage is an object that stores all of the items that will be displayed on the scre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n you run your program, your class is instantiated and added as the first child of the stage objec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stage object can be referenced by any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isplayObjec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at is on the display li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stage contains some very useful fields that we can alt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119960" y="6488280"/>
            <a:ext cx="823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display/Stage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me of these fields are the same ones we are setting in the SWF command, but there are many others that we can set manual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3962520"/>
          <a:ext cx="6858000" cy="22255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ge.stage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ight of the flash 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ge.stage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idth of the flash 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ge.fram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ame rate of the flash 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ge.scale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ow the movie reacts when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ge.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he quality setting of the 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5"/>
          <p:cNvSpPr/>
          <p:nvPr/>
        </p:nvSpPr>
        <p:spPr>
          <a:xfrm>
            <a:off x="1119960" y="6488280"/>
            <a:ext cx="823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display/Stage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Content Placeholder 2"/>
          <p:cNvSpPr/>
          <p:nvPr/>
        </p:nvSpPr>
        <p:spPr>
          <a:xfrm>
            <a:off x="457200" y="1417680"/>
            <a:ext cx="82296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 object that can hold things as children for displaying on the scre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: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tag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prit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MovieCli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-284040" y="6488280"/>
            <a:ext cx="974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display/DisplayObjectContainer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Content Placeholder 2"/>
          <p:cNvSpPr/>
          <p:nvPr/>
        </p:nvSpPr>
        <p:spPr>
          <a:xfrm>
            <a:off x="457200" y="1417680"/>
            <a:ext cx="82296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 object that can be displayed on the scre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thing inheriting from this can be drawn onto the screen if added to a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isplayObjectContain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: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pri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32440" y="6488280"/>
            <a:ext cx="8916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display/DisplayObjec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inheritance.png"/>
          <p:cNvPicPr/>
          <p:nvPr/>
        </p:nvPicPr>
        <p:blipFill>
          <a:blip r:embed="rId3"/>
          <a:stretch/>
        </p:blipFill>
        <p:spPr>
          <a:xfrm>
            <a:off x="762120" y="1874880"/>
            <a:ext cx="76435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3:27:36Z</dcterms:created>
  <dc:creator>Roy</dc:creator>
  <dc:description/>
  <dc:language>en-US</dc:language>
  <cp:lastModifiedBy>Roy</cp:lastModifiedBy>
  <dcterms:modified xsi:type="dcterms:W3CDTF">2010-07-07T23:29:32Z</dcterms:modified>
  <cp:revision>50</cp:revision>
  <dc:subject/>
  <dc:title>Learning Adobe Flash Session 3</dc:title>
</cp:coreProperties>
</file>