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718-C354-46CF-B6AC-3410A0D3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37B-AE09-41C3-89B7-6A89AC1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160-CD09-48DF-BAF0-472DEAF4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C98-064A-4CDE-9795-77A3B9F3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A75-3B8E-45E4-B15E-5D42721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0BC-38A0-4674-9129-88C0FA8D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002-B586-4FD1-96A2-5164B42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21E-6E94-47D5-9A8B-AA81549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472-ABFE-4A63-AA32-24A530A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8B1-1F05-4BDB-A8A0-CE2235D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6B2-88D5-44B5-8733-8467059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7BF-748A-4A31-9C06-9493D44A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A01-2641-4A8B-B352-D0DC3E6F5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y on Rai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E 190M, Sp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F:\ruby_sections\week5\images\rails.png"/>
          <p:cNvPicPr/>
          <p:nvPr/>
        </p:nvPicPr>
        <p:blipFill>
          <a:blip r:embed="rId1"/>
          <a:stretch/>
        </p:blipFill>
        <p:spPr>
          <a:xfrm>
            <a:off x="1447920" y="1981080"/>
            <a:ext cx="137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this point, all of our work has been in our Controllers an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inspected the Models created by the Scaffolding, you will notice that they are emp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y inherit from ActiveRecord::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what gives us access to the fields (methods) of the objects as they are in the database without defining the methods our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… why do we even have mod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Models define methods that provide information about individual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methods usually do  calculations on other properties of the object that you will not want to write over and over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.admin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checks if a user is a admin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.authentic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authenticates a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llery.empty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checks if a gallery is emp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llery.cle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removes all the gallery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there are inherit relationships between the different object we are cr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b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have many Entries;  an Entry belongs to only on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ies have many Comments, and a Comment belongs to only one E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logi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 have many Roles; Roles belong to many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course registr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udent has many courses; a course has many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Relationshi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to-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U.S. citizen has only one S.S.N; Each S.S.N. belongs to only one U.S. citi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to-M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 owns many cars; A car belongs to only one ow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any has many employees; An employee is employed by only one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-to-M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udent has many courses; A course has many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er has many projects; A project has many 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log post has many posters; A poster has many p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s in Mode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to-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_one/belongs_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to-Many (most comm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_many/belongs_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-to-M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_many/has_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_and_belongs_to_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tricky… So we will not go into detail with th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bject that belongs_to another should reference that object by id in the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.company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s in Mode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ur Gallery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Gallery &lt; ActiveRecord::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_m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im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plural: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ur Imag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Image &lt; ActiveRecord::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ongs_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gall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singular: gall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6:21Z</dcterms:created>
  <dc:creator>Ryan</dc:creator>
  <dc:description/>
  <dc:language>en-US</dc:language>
  <cp:lastModifiedBy> </cp:lastModifiedBy>
  <dcterms:modified xsi:type="dcterms:W3CDTF">2009-05-28T21:36:06Z</dcterms:modified>
  <cp:revision>427</cp:revision>
  <dc:subject/>
  <dc:title>Slide 1</dc:title>
</cp:coreProperties>
</file>