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820-7E68-47BE-995A-8B85B9E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6F1-3288-4294-8FA2-3D821C2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4D2-B490-4CC8-8E11-326C2152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81B-B29A-4D97-BB1B-A4CDDA8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227-6390-4083-9031-304CB226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2ED-B28C-4717-919E-4DC43BF4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95D-11C4-469D-A596-F1AC0FF8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D6A-C669-4D54-A7D7-C2E3701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866-DC04-4F67-B6C4-866FA1C4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69C-F976-4B4E-A166-75E7189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8CC-1CA5-4D3A-9793-E5D9F53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9CE-E28C-4645-93CE-7A9DC73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F06-95BB-4785-B233-AAA3A789A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on Rai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F:\ruby_sections\week5\images\rails.png"/>
          <p:cNvPicPr/>
          <p:nvPr/>
        </p:nvPicPr>
        <p:blipFill>
          <a:blip r:embed="rId1"/>
          <a:stretch/>
        </p:blipFill>
        <p:spPr>
          <a:xfrm>
            <a:off x="1447920" y="1981080"/>
            <a:ext cx="137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tomizing Our Vi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ur blog example, our entries were ordered from oldest to new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order them newest to oldest if we w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@entries = Entry.all.revers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we only want to show the 5 most recent e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@entries = Entry.all.reverse!.slice(0,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ding Additional Vi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week we showed how Scaffold generates a bunch of standard views and a template lay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we wanted additional actions w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action in our 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the corresponding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ur routes.rb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.resources :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obj_plur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&gt; { :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&gt;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map.resources :entries =&gt; { :preview =&gt; get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mplates with Layo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ffold creates a Layout that works as a template for our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s/entries.html.er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template displays the same thing for each of the actions for that object, and then yields to the corresponding view to display the uniqu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we want, we can make one single template to be used by all objects by making one named "layouts/application.html.erb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ial Layo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we may want the same bit of code to show up in multiple templates (e.g. navigation b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display partial pages in our templates or views, and they are called "partial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s can be in any of the views or layouts f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nvention, they start with an under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s/layouts/_top_nav.html.er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render our partial in a template wherever we want it to be dis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%= render( :partial =&gt; "layouts/top_nav" ) %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ils on Web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your public_html directory, make a folder for your Ruby ap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home/rctucker/ruby_ap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your Rails app in this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ils –d mysql my_a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your public_html folder, make a symlink from the public folder of your app to a folder with the name of your a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n -s ruby_apps/my_app/public my_a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/modify .htaccess file in your public_html folder.  Add the following line (using your username and application name inste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ilsBaseURI /rctucker/my_a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following line to your environment.rb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ig.action_controller.relative_url_root = "/rctucker/my_app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art your a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uch my_app/tmp/restar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app at webster.cs.washington.edu/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pp_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"Restarting" Your Rails Ap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using WEBrick, we are using a plugin so that Apache can run your Rails ap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when you run your application locally, when your application is on Webster, it is always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make changes to your app that require you to restart it (such as changes to routes.rb or anything else in the config folder) you must restart your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art your app on Webster by modifying a file named restart.txt in your tmp fol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uch my_app/tmp/restart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end of the quarter, Webster will disappear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students, you have web space on a server called Dante through your UW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te.u.washington.e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te already has Ruby and Rails installed for you (MySQL is not install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find documentation on how to get your Rails applications up and running on Dante he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washington.edu/computing/web/publishing/rail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 </cp:lastModifiedBy>
  <dcterms:modified xsi:type="dcterms:W3CDTF">2009-05-21T23:24:00Z</dcterms:modified>
  <cp:revision>399</cp:revision>
  <dc:subject/>
  <dc:title>Slide 1</dc:title>
</cp:coreProperties>
</file>