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215-0CD1-40EF-B5B8-9BBA24C9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F2F-1503-46C5-9462-337F82FB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356-0B5F-4A12-BC30-219CFD3F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306-E32E-4C63-A16B-BDD372D2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061-12AA-4586-973A-9B5901A4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64D-7CF8-40CA-A5E3-75C52856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B75-AAA3-4D81-8615-C94BF433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DB8-92C3-4AA1-8448-7B093F8B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628-1C11-428A-99F9-E5C7E25C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A09-61B3-4FCC-A482-98D5DD8A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802-9D13-41E8-BE9B-5437E110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0D5A-FB53-45C2-9B9D-44ED1E05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64D2-F37B-4F76-BA3E-C5BDA7584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ocalhost:3000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by on Rai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E 190M, Spring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ek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F:\ruby_sections\week5\images\rails.png"/>
          <p:cNvPicPr/>
          <p:nvPr/>
        </p:nvPicPr>
        <p:blipFill>
          <a:blip r:embed="rId1"/>
          <a:stretch/>
        </p:blipFill>
        <p:spPr>
          <a:xfrm>
            <a:off x="1447920" y="1981080"/>
            <a:ext cx="1373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avigating the Rails File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e open our project (C:\my_app), we see a number of fol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now, we will only be interested in a few of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"app" folder, specifically "app\views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"config" fol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"app" Fold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"app" folder deals with the actual code of our applicati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ill hold all of our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("models"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erb files ("views"), and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de to work between the two ("controllers"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"config" Fold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"config" folder will be where we configure particular settings of our Rails appli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tell our application how to setup the URLs of our app in the "routes.rb"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ually, we will tell our app how to connect to a particular database in the "database.yml"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Custom Homep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ead of the standard "Welcome Aboard" page, we want to create our own front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o this, we w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/rename the default index.html page in our "public" fol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"index.html.erb" file in our views to represent our home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route in our "config\routes.rb" file tell Rails to deal our custom home page as the default instead of index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tom Homepage Step-by-Ste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ete "public\index.html"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"home" folder in "views" with "index.html.erb" file for custom home 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"app\controllers", create a file named home_controller that defines a class called HomeController that inherits from ApplicationControl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an "index" method in the home_control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routes with the following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p.home '/', :controller =&gt; 'home'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p.connect '', :controller =&gt; 'home'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pdate config/environment.rb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n't using a database yet… so we need to keep Rails from trying to use a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o the config/environment.rb file and uncomment the following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fig.frameworks -= [ :active_record, :active_resource, :action_mailer 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ploading to Webs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locally and then upload your work to webster (or vice-versa), both applications needs to use the save version of r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ster is currently running rails version 2.3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install that specific version on your machine by sa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m install rails -version=2.3.2 --include-depend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 #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 Rails application on Web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 appropriate custom 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in a text file with a link to your custom homepa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stalling Rai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, install Ruby with RubyG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, install the Rails g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m install rails -version=2.3.2 --include-depend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that Rails is now installed in the terminal by just typing "rails".  If it is installed, you should get a description on how to us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Ruby on Rail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ls i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ten in Rub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web development frame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development of web applications written in Ru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efits of R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t-in function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urages good software development practi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source and lots of community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Ruby on Rail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Content Placeholder 3" descr="rails_is_love.png"/>
          <p:cNvPicPr/>
          <p:nvPr/>
        </p:nvPicPr>
        <p:blipFill>
          <a:blip r:embed="rId1"/>
          <a:stretch/>
        </p:blipFill>
        <p:spPr>
          <a:xfrm>
            <a:off x="533520" y="1577880"/>
            <a:ext cx="804204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advantages of Rai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ep learning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Terminal Comm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 – change direc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s – list file and folders in current fol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ts of "magic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ways clear how things are being 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ways obvious how to change or debug Ruby Mag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loyment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reating a New Rails Ap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imply call the Rails gem and give it the path to our new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your Rails applicatio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ils –d mysql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ath/to/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ils –d mysql my_ap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spit out a bunch of files that compose your new Ruby web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arting Your Appl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are working on your own computer, you must start your rails ap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your application folder (C:\my_ap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Webrick, the built-in web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by script/ser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are working on Webster, you may need to take a few steps to start your app… details to come lat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ewing Your Appl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ing lo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up Firefox and view the app on localhost with port 3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ocalhost:3000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ing on Web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up Firefox and navigate to your ap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ster.cs.washington.edu/rctucker/my_ap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ewing Your Appl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ew application will show you this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585800" y="2209680"/>
            <a:ext cx="6034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7:46:21Z</dcterms:created>
  <dc:creator>Ryan</dc:creator>
  <dc:description/>
  <dc:language>en-US</dc:language>
  <cp:lastModifiedBy>Ryan</cp:lastModifiedBy>
  <dcterms:modified xsi:type="dcterms:W3CDTF">2009-05-11T06:12:43Z</dcterms:modified>
  <cp:revision>336</cp:revision>
  <dc:subject/>
  <dc:title>Slide 1</dc:title>
</cp:coreProperties>
</file>