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F94-29C2-40B4-969B-4AA43A38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8E1-A204-48BF-8076-B841D48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B13-BFDE-4B35-8D6F-A6DCA3D2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20F-1A79-4D03-9D80-9445D560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A92-C81C-44B6-B8B7-FDCD63A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800-7927-4EA6-8AD7-A1FC8048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590-2C38-46CA-A7D9-AE8587B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83F-38BA-4526-BEB3-61880895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F7D-948C-41A8-8CB4-4650C55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933-CF11-415E-A3FE-50597F9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FE4-CFD4-437F-997F-94C75B0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BEF-96AB-489E-BC71-C905E3D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B6D-ABD5-4F66-A3B8-DEC85628F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(on Rail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1295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 e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s work as expected in 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include the class directly in the erb file within the code tags &lt;% … %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lso save an external .rb file (Point.rb) and then require the class file in our .erb file (plot_points.er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'Point.rb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Point.new(3,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les should be in the same folder, or specify the path to the class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supports single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imilar to Java where one class can inherit the state and behavior of exactly one othe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rent class is known as the superclass, the child class is known as the sub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6095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523880" y="1598760"/>
            <a:ext cx="60199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and Private 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are public by defa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thods are declared the same way as public methods (no keyword at the beginning of method like Ja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thods are designated by an "area" of privat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keyword "private" designates this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methods after "private" are privat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and Private 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– any class can use th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– only this particular object can use thes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middle ground… methods can be "protected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ed – only objects of this class or its subclasses can use thes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ifying Class Behavi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allows us to add or modify functionality to ANY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cludes built-in classes like Fixnum and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allow Strings to add any object to it without having to say to_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" +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instead of "hello" + 3.to_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ruc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ing a new class is simpl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we may want to initialize state (constructo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iz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initialize(x, 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 = 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# the convention for instance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y = 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# is @parameter_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stantiating New 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instantiate a new object by calling the new() method on the class we want to instant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Point.new(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get the @x of 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.@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.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ce variables are private by defa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ance variables for our Point clas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x, @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ccess them, we must write methods that return their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"encapsulation" from CSE 142/1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initialize(x, 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 =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y =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get_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= Point.new(2, 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ts p.get_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# get value of x by calling a meth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initialize(x, 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 =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y =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= Point.new(2, 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ts p.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# get value of instance variable by calling a meth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 not need to write these methods by h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_reader :x, :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initialize(x, 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x =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y =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we want to assign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ssign a value to @x, we can write a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set_x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x =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.set_x(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ly we can use attr_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_writer :x, :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essing St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want to read and write all of our instance variables, we can combine attr_reader and attr_writer to simplify our class, replacing them with attr_access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ss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r_accessor :x, :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initialize(x, 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x =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@y =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 </cp:lastModifiedBy>
  <dcterms:modified xsi:type="dcterms:W3CDTF">2009-04-30T17:32:30Z</dcterms:modified>
  <cp:revision>264</cp:revision>
  <dc:subject/>
  <dc:title>Slide 1</dc:title>
</cp:coreProperties>
</file>