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E00-B566-447F-A449-0984B8C8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D80-9D0D-4D59-8285-5F88DD13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D74-4F78-4340-91ED-CCB5561F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344-5910-4F6D-815C-0D6A35AA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0AA-F02E-4C37-B401-4C4B224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612-B186-4B43-9FE2-0422B5C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211-FA33-4CA4-A32F-D3AF90FB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253-46C6-44D6-B672-CE1A0060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051-34A0-4A09-94E8-4F24BFAB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BA6-AF80-4006-B874-EE31F44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CF9-1BC4-4C39-AAD1-F66CFB0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F3F-9378-4C67-9957-7927D51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18C1-121F-4C4C-9CAD-02CC647A1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ebster.cs.washington.edu/rctucker/99bottles.erb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y (on Rail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SE 190M, Sp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12952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ry Parame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ng the values of parameters returns them as St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ant to use them as other values, you need to tell them to behave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 = cgi['quantity'].to_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lso check if a parameter is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.has_key?('name'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equivalent to PHP's isset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99 Bottles of Beer (revisite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1//EN" "http://www.w3.org/TR/xhtml11/DTD/xhtml11.dtd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="http://www.w3.org/1999/xhtml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&lt;title&gt;CSE 190 M: Embedded PHP&lt;/title&gt;&lt;/head&gt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 'cgi'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gi = CGI.n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cgi.has_key?('bottles'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cgi['bottles'].to_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99 Bottles of Beer (revisited)(cont.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num &gt;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 &lt;%= num %&gt; bottles of beer on the wall, &lt;br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%= num %&gt; bottles of beer. &lt;br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ke one down, pass it around, &lt;br 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%= num - 1 %&gt; bottles of beer on the wall. &lt;/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-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227160" indent="-227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ry Params and Check Box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ng query parameters like a hash on our CGI object works fine for typical inputs where there is only one value per k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, if we try to get all of the values of a set of checkboxes, only the first value is retu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et all the values, we will use the CGI params()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ry Params and Check Box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GI params() method returns a hash with the query parameters as the keys of the h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ue of each key is an array of the values of th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parameters with one value, this still returns an array of size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heckboxes, we are able to get all of the values instead of just the first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m.htm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form action="params.erb"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label&gt;&lt;input type="checkbox" name="reason" value="ruby" /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learn Ruby!&lt;/label&gt;&lt;br /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label&gt;&lt;input type="checkbox" name="reason" value="rails" /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will learn Rails!&lt;/label&gt;&lt;br /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label&gt;&lt;input type="checkbox" name="reason" value="not_early" /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not early in the morning!&lt;/label&gt;&lt;br /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label&gt;&lt;input type="checkbox" name="reason" value="hw_optional" /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mework is optional!&lt;/label&gt;&lt;br /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input type="submit" /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ms.er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 'cgi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gi = CGI.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h1&gt; Using the params() method &lt;/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  cgi.params.each do |key, value|  %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= "#{key}: #{value}" %&gt; &lt;br 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  end %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h1&gt; Not using the params() method&lt;/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   cgi.keys.each do |param| %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= "#{param}: #{cgi[param]} &lt;br /&gt;" %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  end %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bugging in er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t eas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errors, especially syntactical errors, result in a "HTTP Error 500: Internal Server Error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says to email Morgan Doocy… but don't, it is just an error in the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bugging will be easier when we start to use Rails where Rails provides better built-in error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b Programming in Rub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by can be used to write dynamic web p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milar to PHP, chunks of Ruby begins with "&lt;%" and ends with "%&gt;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by code goes between these ta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web pages will have file extensions of .er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ust like PHP, we cannot view our .erb files from our hard drive; upload it and view it from web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r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been using the Ruby interpreter for our pure Ruby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web pages, we need to use a Ruby parser that knows how to deal with embedded Ruby in an HTML file, just like 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etail does not really matt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completeness, we are using erb/e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ks to Morgan, this is already setup and configured on webster, so you do not need to worry abou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rb synta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 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valent to &lt;?php … ?&gt; in 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uby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ing expression val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valent to &lt;?= … ?&gt; in PH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%=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%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99 Bottles of B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n embedded Ruby file for the 99 Bottles of Beer example from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should generate the HTML for 99 Bottles of B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ebster.cs.washington.edu/rctucker/99bottles.e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99 Bottles of B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!DOCTYPE html PUBLIC "-//W3C//DTD XHTML 1.1//EN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"http://www.w3.org/TR/xhtml11/DTD/xhtml11.dtd"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html xmlns="http://www.w3.org/1999/xhtml"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head&gt;&lt;title&gt;CSE 190 M: Embedded Ruby&lt;/title&gt;&lt;/head&gt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um = 9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ile num &gt;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%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p&gt; &lt;%= num %&gt; bottles of beer on the wall, &lt;br /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%= num %&gt; bottles of beer. &lt;br /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ake one down, pass it around, &lt;br /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%= num - 1 %&gt; bottles of beer on the wall. &lt;/p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um = num -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%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&lt;/html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G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I: Common Gateway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CGI Programming" is a fancy way of saying that we will be writing server side programs that will produce output as a response to a visitors requ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y has a cgi library to make web programming in Ruby ea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qui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ant to use functionality from Ruby's cgi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Java, we would use the keyword "import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 java.io.*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o this in Ruby, we use "requir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wanted to use the Ruby CGI libr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 'cgi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ry Parame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et query parameters, we must create a CGI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we can access the query parameters of a web request through the associative array, with the parameters as the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 'cgi'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requires the cgi libr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= CGI.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= cgi['name'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example.erb?name=Ry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6:21Z</dcterms:created>
  <dc:creator>Ryan</dc:creator>
  <dc:description/>
  <dc:language>en-US</dc:language>
  <cp:lastModifiedBy> </cp:lastModifiedBy>
  <dcterms:modified xsi:type="dcterms:W3CDTF">2009-04-23T19:30:39Z</dcterms:modified>
  <cp:revision>287</cp:revision>
  <dc:subject/>
  <dc:title>Slide 1</dc:title>
</cp:coreProperties>
</file>