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D30-1CF3-42C8-89A4-A947F827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D78-5758-4A07-A290-A969E63C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2C6-084A-4429-B55B-445198C6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1FA-A6CA-4BE2-A8B7-4E4C3223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D84-F0CC-4B08-8F5F-89C25CB7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DBB-FF8B-4D76-9A24-807CE656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A19-4E2B-4091-AE12-D069F8B3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595-17E1-4804-ABB5-5CEDB42A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864-AEB0-4B3B-A6AE-B5CC2A58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5A3-4231-4909-A698-206C7483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BF79-789D-4A1E-90AA-69A0EC0A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83E-2123-46C7-90D3-9365BB51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4789-2AFC-428C-B606-ED688E33A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by (on Rails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SE 190M, Spring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ek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12952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iel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ield statements go hand-in-hand with bl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de of a block is executed when a yield statement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iel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yield statement can also be called with parameters that are then passed to the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times { |n| puts n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"times" method calls yield with a parameter that we ignored when we just printed "hello" 3 times, but shows up when we accepted a parameter in our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ield 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 demo_yie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s "BEGINNING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ie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s "END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_yield { puts "hello" 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 demo_yield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s "BEGINNING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ie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s "MIDDLE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ie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s "END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_yield2{ puts "hello" 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4724280" y="1600200"/>
            <a:ext cx="4114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ameters, Blocks, and Yiel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 demo_yield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ield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ield "hello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ield 3.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o_yield3 { |n| puts n * 3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n" is the value passed by yield to the block when yield is called with argu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terat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terator is simply "a method that invokes a block of code repeatedly" (Pragmatic Programmers Gu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erator examples: Array.find, Array.each, Range.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252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1,2,3,4,5].find{ |n| Math.sqrt(n).remainder(1)==0}    # finds perfect squ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252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2,3,4,5].find{ |n| Math.sqrt(n).remainder(1)==0}       # finds perfect squ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252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1,2,3,4,5].each { |i| puts i }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#prints 1 through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252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1,2,3,4,5].each { |i| puts i * i }        #prints 1 squared, 2 squared…, 5squa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252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..5).each{ |i| puts i*i }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#prints 1 squared, 2 squared…, 5squa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252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terators and Loo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to use iterators instead of lo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s off-by-one (OBO) b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-in iterators have well defined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upto(5) { |x| puts x }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prints 0 through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step(10, 2) { |x| puts x }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0, 2, 4, 6, 8,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step(10,3) { |x| puts x }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0, 3, 6,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r…i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PHP's forea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prices = array(9.00, 5.95, 12.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each($prices as $price)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 "The next item costs $price\n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ces = [9.00, 5.95, 12.50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price in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"The next item costs " + price.to_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r...i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vious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ces = [9.00, 5.95, 12.50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price in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"The next item costs " + price.to_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lso b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ces = [9.00, 5.95, 12.50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ces.each do |price|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s "The next item costs " + price.to_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ring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ngs can be referenced as Ar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alue returned is the a Integer equivalent of the letter at the specified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= "hello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[1]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[2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[1].ch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e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[2].ch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l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String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mp – returns a new String with the trailing newlines rem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mp! – same as chomp but modifies original 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ray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PHP, Ruby arrays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indexed by zero-based integer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 an assortment of types within the same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declared using square brackets, [], elements are separated by com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= [1, 4.3, "hello", 3..7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[0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[2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"hello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String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lit(delimiter) – returns an array of the substrings created by splitting the original string at the delim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ce(starting index, length) – returns a substring of the original string beginning at the "starting index" and continuing for "length" charact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rings 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= "hello world\n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.chom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ello world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ello world\n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.chomp!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ello world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ello world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.split(" "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"hello", "world"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.split("l"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"he", "", "o wor", "d"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.slice(3,5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lo wo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ello world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.slice!(3,5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lo wo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elrld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terating over String charac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60020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hello".each {|n| puts n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hello".each_byte {|n| puts n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hello".each_byte {|n| puts n.chr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5562720" y="1600200"/>
            <a:ext cx="3352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hell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les as Inpu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ad a file, call File.open(), passing it the the path to your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ing a block to File.open() yields control to the block,  passing it the opened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then call gets() on the file to get each line of the file to process individ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analogous to Java's Scanner's .nextLin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les as Inpu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 (bold denotes variable nam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le.open("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le.tx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") do |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|   # input is the file passed to our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gets               # line is the String returned from gets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# proces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a String within the lo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ke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split(" 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tput to Fi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output to a file, call File.open with an additional parameter, "w", denoting that you want to write to the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e.open("file.txt", "w") do |output|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.puts "we are printing to a file!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riting from one file to anoth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 block is passed, File.open yields control to the block, passing it the fi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write from one file to another, you can nest File.open calls within the bl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riting from one file to anoth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.open("input_file.txt") do |input|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.open("output_file.txt", "w") do |output|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line = input.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.puts l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ray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ssign values to an array at a particular index, just like 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ays increase in size if an index is specified out of bounds and fill gaps with n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= [1, 4.3, "hello", 3..7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[4] = "goodbye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1, 4.3, "hello", 3..7, "goodbye"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[6] = "hola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[1, 4.3, "hello", 3..7, "goodbye", nil, "hola"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gative Integer Index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gative integer values can be used to index values in an ar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= [1, 4.3, "hello", 3..7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[-1]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3..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[-2]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"hello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[-3] = 83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[1, 83.6,  "hello", 3..7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ash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ays use integers as keys for a particular values (zero-based index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hes, also known as "associative arrays", have Objects as keys instead of inte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ared with curly braces, {}, and an arrow, "=&gt;", between the key and the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 = {"greeting" =&gt; "hello", "farewell" =&gt;"goodbye"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["greeting"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ello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r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= [5, 6.7, 1.2, 8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so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1.2, 5, 6.7, 8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[5, 6.7, 1.2, 8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sort!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[1.2, 5, 6.7, 8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[1.2, 5, 6.7, 8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[4] = "hello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[1.2, 5, 6.7, 8, "hello"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s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rror: comparison of Float wi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ng fai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 = {"greeting" =&gt; "hello", "farewell" =&gt;"goodbye"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.s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[["farewell", "goodbye"], ["greeting", "hello"]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lock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s are simply "blocks" of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defined by curly braces, {}, or a do/end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used to pass code to methods and lo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lock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Java, we were only able to pass parameters and call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Ruby, we can pass code through bl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aw this last week, the times() method takes a bloc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times { puts "hello" }    # the block is the code in the {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locks and Parame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s can also take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, our times() method can take a block that takes a parameter.  It will then pass a parameter to are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times {|n| puts "hello" + n.to_s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 "n" is specified as a parameter to the block through the vertical bars "|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7:46:21Z</dcterms:created>
  <dc:creator>Ryan</dc:creator>
  <dc:description/>
  <dc:language>en-US</dc:language>
  <cp:lastModifiedBy>Ryan</cp:lastModifiedBy>
  <dcterms:modified xsi:type="dcterms:W3CDTF">2009-04-17T07:09:56Z</dcterms:modified>
  <cp:revision>278</cp:revision>
  <dc:subject/>
  <dc:title>Slide 1</dc:title>
</cp:coreProperties>
</file>