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795-08BB-480E-AC68-B4B0DF7A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9FE-89A3-421A-866C-948D1E7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30B-08C2-48F5-AC03-6D4020F4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A89-7C1A-422B-A2C9-36D52FF5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D21-4A14-40FC-AC5B-A69303F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08C-E19F-4DA6-8629-ECEE0E11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FC1-38A6-438E-8E23-8948279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601-60FA-45CA-A156-C3E0714F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CE6-E312-492F-B537-59A86B58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809-9E06-4E15-89E7-B26F54ED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927-9FE7-4C2E-8806-DD12A3F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380-BCD3-4E96-8601-703CD943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E1D-9690-40F1-B518-8A5AABBC4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byonrails.org/applications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(on Rail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12952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ts vs. pr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puts" adds a new line after it is d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ogous System.out.printl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print" does not add a new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ogous to System.out.print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nning Ruby Pr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Ruby interpr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by hello_world.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y” tells the computer to use the Ruby interpr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Ruby (irb) cons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immediat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Ruby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this is a single line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multiline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hing in here will be part of the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on – No need to declare a "typ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– same as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"hello world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Fix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4.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Fl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= 1..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erything is an object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on Types (Classes): Numbers, Strings, R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l, Ruby's equivalent of null is also an ob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s "dot-notation" like Java obj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can find the class of any vari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 = "hello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.cla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can find the methods of any variable or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 = "hello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.meth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.meth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(cont.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many methods that all Objects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"?" in the method names, it is a Ruby naming convention for boolea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l?/equ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=, !=, ==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_o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_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_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umb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s ar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lasses of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Num, Fl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eql?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42.a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4.rou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6.r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.ce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8.flo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zero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ring Metho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.leng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.nil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".nil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ryan" &gt; "kelly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_world!".instance_of?Str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" *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hellohell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" + " world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.index("w"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perators and Logi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as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ication, division, addition, subtracti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same as Java AND Python (WHA?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and" and "or" as well as "&amp;&amp;" and "||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nge things happen with St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 concatenation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 multiplication (*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and Point: There are many ways to solve a problem in Ru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/elsif/else/e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use "elsif" instead of "else if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use of "end".  It replaces closing curly braces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age &lt; 3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young whipper-snapper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if  (age &lt; 1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80 is the new 30!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wow… gratz..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lay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lly "Everyday I'm Hustlin' " Du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"Mouse" To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"Papa T" T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line "if" stat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if-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ge &lt; 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don't worry, you are still young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line if-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don't worry, you are still young" if age &lt; 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-loo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-loops can use r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 in 1..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lso use blocks (covered next we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times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Ryan! 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-loops and ran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ay need a more advanced range for your for-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nds of a range can be expr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 in 1..(2*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ile-loo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lso use blocks (next we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not use "i++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 i &lt;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= i +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l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unless"  is the logical opposite of "if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ess (age &gt;= 10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if (age &lt; 1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young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old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ti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ly, "until" is the logical opposite of "whil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pecify a condition to have the loop stop (instead of continu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(i &gt;= 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# while (i &lt; 5), parenthesis not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= i +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ethod_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arameter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arameter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print_ry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Ryan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class/type required, just name the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 cumulative_sum(num1, num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 = 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 in num1..num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 = sum +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turn s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# call the method and print the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ts(cumulative_sum(1,5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tur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y methods return the value of the last statement in the method, s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add(num1, nu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 = num1 + nu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s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add(num1, nu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1 + nu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r Inpu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gets" method obtains input from a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= 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hello " + name + "!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homp to get rid of the extra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hello" + name.chomp + "!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mp removes trailing new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bout the S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the Ruby programming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uby to template web p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about Ruby on Rails and its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362320" y="426708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12952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nging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ay want to treat a String a number or a number as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_i – converts to an integer (Fix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_f – converts a String to a Fl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_s – converts a number to a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3.5".to_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3.5".to_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to_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3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Ruby, constants begin with an Upper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hould be assigned a value at most o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y local variables begin with a lower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th =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squ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 ("*" * Width + "\n") *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ek 1 Assig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e Space Needle homework from 142 in Ru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cs.washington.edu/education/courses/cse142/08au/homework/2/spec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eed to scale using a con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ntax that is unique to Ruby whenever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ed output can be found under the Homework 2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cs.washington.edu/education/courses/cse142/08au/homework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ruby-lang.org/en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byonrails.org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Ruby: The Pragmatic Programmers' Guide (http://www.rubycentral.com/book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le Web Development with R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ls Reci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d Rails Reci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Rub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-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preted Languag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compiled like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is written and then directly executed by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commands into interpreter and see immediat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598320" y="4343400"/>
            <a:ext cx="6793560" cy="2279160"/>
            <a:chOff x="598320" y="4343400"/>
            <a:chExt cx="6793560" cy="2279160"/>
          </a:xfrm>
        </p:grpSpPr>
        <p:sp>
          <p:nvSpPr>
            <p:cNvPr id="59" name="Line 19"/>
            <p:cNvSpPr/>
            <p:nvPr/>
          </p:nvSpPr>
          <p:spPr>
            <a:xfrm>
              <a:off x="3759120" y="6618600"/>
              <a:ext cx="30049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" name="Group 6"/>
            <p:cNvGrpSpPr/>
            <p:nvPr/>
          </p:nvGrpSpPr>
          <p:grpSpPr>
            <a:xfrm>
              <a:off x="598320" y="4343400"/>
              <a:ext cx="6793560" cy="912240"/>
              <a:chOff x="598320" y="4343400"/>
              <a:chExt cx="6793560" cy="912240"/>
            </a:xfrm>
          </p:grpSpPr>
          <p:grpSp>
            <p:nvGrpSpPr>
              <p:cNvPr id="61" name="Group 7"/>
              <p:cNvGrpSpPr/>
              <p:nvPr/>
            </p:nvGrpSpPr>
            <p:grpSpPr>
              <a:xfrm>
                <a:off x="1959480" y="4343400"/>
                <a:ext cx="5432400" cy="912240"/>
                <a:chOff x="1959480" y="4343400"/>
                <a:chExt cx="5432400" cy="912240"/>
              </a:xfrm>
            </p:grpSpPr>
            <p:sp>
              <p:nvSpPr>
                <p:cNvPr id="62" name="AutoShape 10"/>
                <p:cNvSpPr/>
                <p:nvPr/>
              </p:nvSpPr>
              <p:spPr>
                <a:xfrm>
                  <a:off x="6114600" y="4521240"/>
                  <a:ext cx="1277280" cy="73440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5c852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1800" spc="-1" strike="noStrike">
                      <a:solidFill>
                        <a:srgbClr val="ffffff"/>
                      </a:solidFill>
                      <a:latin typeface="Tahoma"/>
                      <a:ea typeface="Arial"/>
                    </a:rPr>
                    <a:t>Compu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AutoShape 12"/>
                <p:cNvSpPr/>
                <p:nvPr/>
              </p:nvSpPr>
              <p:spPr>
                <a:xfrm>
                  <a:off x="4175280" y="4521240"/>
                  <a:ext cx="1923120" cy="73440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5784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Run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Environ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AutoShape 13"/>
                <p:cNvSpPr/>
                <p:nvPr/>
              </p:nvSpPr>
              <p:spPr>
                <a:xfrm>
                  <a:off x="2868840" y="4521240"/>
                  <a:ext cx="1277280" cy="73440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e78324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Compil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AutoShape 14"/>
                <p:cNvSpPr/>
                <p:nvPr/>
              </p:nvSpPr>
              <p:spPr>
                <a:xfrm>
                  <a:off x="1959480" y="4521240"/>
                  <a:ext cx="877680" cy="73440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646464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ahoma"/>
                      <a:ea typeface="Arial"/>
                    </a:rPr>
                    <a:t>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Line 19"/>
                <p:cNvSpPr/>
                <p:nvPr/>
              </p:nvSpPr>
              <p:spPr>
                <a:xfrm>
                  <a:off x="2378160" y="4343400"/>
                  <a:ext cx="434556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" name="Text Box 13"/>
              <p:cNvSpPr/>
              <p:nvPr/>
            </p:nvSpPr>
            <p:spPr>
              <a:xfrm>
                <a:off x="598320" y="4633560"/>
                <a:ext cx="1004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ndale Mono"/>
                    <a:ea typeface="Arial"/>
                  </a:rPr>
                  <a:t>Java: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653040" y="5596200"/>
              <a:ext cx="6738840" cy="734760"/>
              <a:chOff x="653040" y="5596200"/>
              <a:chExt cx="6738840" cy="734760"/>
            </a:xfrm>
          </p:grpSpPr>
          <p:grpSp>
            <p:nvGrpSpPr>
              <p:cNvPr id="69" name="Group 15"/>
              <p:cNvGrpSpPr/>
              <p:nvPr/>
            </p:nvGrpSpPr>
            <p:grpSpPr>
              <a:xfrm>
                <a:off x="3265200" y="5596200"/>
                <a:ext cx="4126680" cy="734760"/>
                <a:chOff x="3265200" y="5596200"/>
                <a:chExt cx="4126680" cy="734760"/>
              </a:xfrm>
            </p:grpSpPr>
            <p:sp>
              <p:nvSpPr>
                <p:cNvPr id="70" name="AutoShape 11"/>
                <p:cNvSpPr/>
                <p:nvPr/>
              </p:nvSpPr>
              <p:spPr>
                <a:xfrm>
                  <a:off x="6114600" y="5596200"/>
                  <a:ext cx="1277280" cy="73476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5c852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1800" spc="-1" strike="noStrike">
                      <a:solidFill>
                        <a:srgbClr val="ffffff"/>
                      </a:solidFill>
                      <a:latin typeface="Tahoma"/>
                      <a:ea typeface="Arial"/>
                    </a:rPr>
                    <a:t>Compu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AutoShape 15"/>
                <p:cNvSpPr/>
                <p:nvPr/>
              </p:nvSpPr>
              <p:spPr>
                <a:xfrm>
                  <a:off x="4175640" y="5596200"/>
                  <a:ext cx="1923120" cy="73476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ffd43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Interpre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AutoShape 16"/>
                <p:cNvSpPr/>
                <p:nvPr/>
              </p:nvSpPr>
              <p:spPr>
                <a:xfrm>
                  <a:off x="3265200" y="5596200"/>
                  <a:ext cx="877680" cy="734760"/>
                </a:xfrm>
                <a:prstGeom prst="roundRect">
                  <a:avLst>
                    <a:gd name="adj" fmla="val 269"/>
                  </a:avLst>
                </a:prstGeom>
                <a:solidFill>
                  <a:srgbClr val="646464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720" rIns="81720" tIns="40680" bIns="40680" anchor="ctr" anchorCtr="1">
                  <a:noAutofit/>
                </a:bodyPr>
                <a:p>
                  <a:pPr algn="ctr">
                    <a:lnSpc>
                      <a:spcPct val="94000"/>
                    </a:lnSpc>
                    <a:tabLst>
                      <a:tab algn="l" pos="0"/>
                      <a:tab algn="l" pos="414360"/>
                      <a:tab algn="l" pos="830160"/>
                      <a:tab algn="l" pos="1244520"/>
                      <a:tab algn="l" pos="1658880"/>
                      <a:tab algn="l" pos="2071800"/>
                      <a:tab algn="l" pos="2489040"/>
                      <a:tab algn="l" pos="2903400"/>
                      <a:tab algn="l" pos="3317760"/>
                      <a:tab algn="l" pos="3732120"/>
                      <a:tab algn="l" pos="4148280"/>
                      <a:tab algn="l" pos="4562640"/>
                      <a:tab algn="l" pos="4975200"/>
                      <a:tab algn="l" pos="5392800"/>
                      <a:tab algn="l" pos="5807160"/>
                      <a:tab algn="l" pos="6221520"/>
                      <a:tab algn="l" pos="6634080"/>
                      <a:tab algn="l" pos="7051680"/>
                      <a:tab algn="l" pos="7466040"/>
                      <a:tab algn="l" pos="78786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ahoma"/>
                      <a:ea typeface="Arial"/>
                    </a:rPr>
                    <a:t>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3" name="Text Box 19"/>
              <p:cNvSpPr/>
              <p:nvPr/>
            </p:nvSpPr>
            <p:spPr>
              <a:xfrm>
                <a:off x="653040" y="5706720"/>
                <a:ext cx="1004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ndale Mono"/>
                    <a:ea typeface="Arial"/>
                  </a:rPr>
                  <a:t>Ruby: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Ruby on Rails (RoR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framework for web applications written in Ru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some of you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avorite si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3534" t="19167" r="2844" b="18565"/>
          <a:stretch/>
        </p:blipFill>
        <p:spPr>
          <a:xfrm>
            <a:off x="1066680" y="3657600"/>
            <a:ext cx="403884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rcRect l="7999" t="26669" r="9335" b="36004"/>
          <a:stretch/>
        </p:blipFill>
        <p:spPr>
          <a:xfrm>
            <a:off x="4191120" y="5105520"/>
            <a:ext cx="236196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85800" y="5029200"/>
            <a:ext cx="2467080" cy="7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5410080" y="3352680"/>
            <a:ext cx="2514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dvantages of a frame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 features/functionality are built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able application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to maint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to get things g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stall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vigate to: http://www.ruby-lang.org/en/downloads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roll down to "Ruby on Windows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wnload the "One-click Installer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llow the install instru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 RubyGems if possible (this will be necessary for Rails installation lat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/Lin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already on your compu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S X 10.4 ships with broken Ruby! Go her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hivelogic.com/articles/view/ruby-rails-mongrel-mysql-os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llo_world.r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s "hello world!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 </cp:lastModifiedBy>
  <dcterms:modified xsi:type="dcterms:W3CDTF">2009-04-09T19:44:11Z</dcterms:modified>
  <cp:revision>241</cp:revision>
  <dc:subject/>
  <dc:title>Slide 1</dc:title>
</cp:coreProperties>
</file>