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E944-4282-45AA-9AC1-6F7D3FD58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FB7-2851-40FD-AF1E-FB29CB3D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05A-21CB-46AD-A478-EBE7BCA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60F-4834-4DCF-8299-BBAF0893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52A-83BF-40A9-9AF7-78000214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A42F-8483-4205-95F5-B5526605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15ED-2481-44AB-B69B-99E4D0C0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83F9-560A-430F-9346-C519CB09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EE03-34E7-4840-AAEA-A528B3D6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9930-0142-478B-83C5-91163F7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436B-DD88-4D9A-8984-F353C3B7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C5A7-217F-4423-9E28-05E43602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C9A-D11C-4707-97A2-F6236CCF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9276-1D7E-4B33-BF60-7E8F6F8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C71A-2BAB-48FA-A78E-D321CC2D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4FDD-3DA1-4CAC-9783-2776B13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7C90-0464-4695-8746-8F33D71D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6734-DDCD-4043-BD13-97E7E381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837-DCD1-48A4-A31A-7B2D771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322-4F1C-4E79-99DB-1A07E919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05F-F8B5-4A60-AD62-2DD08375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9B5-117B-4BCB-B636-89A80688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78F-BE71-4AB7-91B7-4042BD99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AF9-D0D1-4B04-92D8-8BD9509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3C7-B927-46B5-A597-CB65660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6D50-99E0-4840-A1CA-23C042A4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CAF5-6457-4C1C-A94D-A4927AE2413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arspot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dwords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ecstate.wa.gov/corp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shington.edu/computing/web/publishing/student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exloddengaard@gmail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ttp://www.alexloddengaard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3190-D4BA-4486-8A62-06E450338A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K, you’r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B1B1-A339-4F4A-98AF-6382C59B1B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to refinement 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will tell you more about the problem you’re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by interviewing, survey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opinion, Cellarspot was solving a fak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resear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know enough about wine connoi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creases the likeliness of your websit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re fun when your website is used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FE0-79AA-4811-820E-91B3B88C6E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connoisseurs need attractiv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 done research upfront I would have known thi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D35-FB24-4BFC-A60C-4744A7307A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front with you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your privacy policy in a “Terms”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Terms” page is ~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had a big problem with this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screenshot from Fac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809960"/>
            <a:ext cx="8534160" cy="9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559-0E07-4247-8365-E97EA799C5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 got a good id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nd evaluat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ED94-5E87-4E06-B261-CD6E940AC7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ve you looked at the 190m sourc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ut Marty knows more about you than you think … he’s got 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906768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C19-FB0E-4518-812D-30AE4A6214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Analytics (GA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her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just install the JavaScript they gi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gives you insan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41907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C24-FFD7-41E0-883B-DE5A92242D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336E-42B2-420C-88BF-C9E569942F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ool with a website can install th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ign up and install th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5675400"/>
            <a:ext cx="659916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AA4-A5FC-4CE7-AC65-877396F2BB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FFF-4D9D-495B-BDC7-799DAA9890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a CSE 143/190L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Manager at Red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ellar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571500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555-02E6-44B2-97D2-F849BEFC0A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Join Associates” on 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390-C3E8-4FD7-8205-EA52E7CEF1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357-37B4-4BA8-9448-DCCB2B8970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FDD8-2DEC-4679-BFC1-E283280205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ogle Ad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dwords.goog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548640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AAB-C7A4-4398-A039-5E9A7C0056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 those stupid &lt;meta&gt; tag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really uses tho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about SE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8C4-BC43-477A-93B9-66953A50EC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t fir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Google, how would you determine if one website was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etermine the most popular person by what they say about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AB5-C47C-47CA-B702-3D627F2BE0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rch Engine Optimization (SEO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your site performs i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No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Search_engine_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Amazon’s title -- it’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B8B-E52E-4AB6-98F9-6E94F7F46D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eople to lin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loggers to blog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likes blo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63C-FB1E-4D77-9D40-39E16EED80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PageRan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are websites, arrows ar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7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03C-D6AA-42CE-AB33-3DD5324414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your website will be keyworded based on the anchor text of incomin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yworded by &lt;title&gt;, &lt;meta&gt;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5833" b="0"/>
          <a:stretch/>
        </p:blipFill>
        <p:spPr>
          <a:xfrm>
            <a:off x="0" y="510552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4080" y="46483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of Trulia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80B-0856-4B08-ADB8-639CBCCEA3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Cellarspo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notes, collections, frien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ote the whole site 3 times i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P at first, then two rewrites in JSP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y first money-mak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your shoes when I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the idea from my Dad; I don’t like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123-DBC1-411F-9694-D8C9CCEFB6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Bo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Google got smart, they keyworded mostly by 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s linked to whitehouse.gov/president with anchor text “miserable 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ing “miserable failure” showed whitehouse.gov/president as the firs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since fixe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Google_bo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5CB-1D4C-438E-882F-6E3024BA07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Useful SEO t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E28-97B1-42A0-9352-64795AD4F7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your own site is an indefini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arspo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make muc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in every single one of my interviews at Google, Redfi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ominently on my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gre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sanely exc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887-3ADA-464F-A958-FE79193984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ar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b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909-45F6-40DF-AC2A-31A97E3000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428C-161C-4C31-8753-D2A83B72BD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in Academ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in 4 different classes (15 cred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03 - Software Engineering (4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work on a larg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 (esp. with M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475/476 - Plann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redi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John Castle (castlej@u) if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90H - Distributed Systems (3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B2E-9421-4DA8-8F2F-377BC056A8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D252-85F8-4444-A73F-5D9C408BD65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 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2AB-EEA9-4791-88AB-197F41059D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535-2F82-41FF-88B3-055ED67648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B44-BEE6-4123-BD6F-97FCD056F6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ough 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yo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6503-99B7-44A1-A476-2626757F0C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your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build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A68-F372-4F50-B8CB-A9501D13CFB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after 190m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ter is shutting down at end of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you continue to tin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UW studen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washington.edu/computing/web/publishing/studen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MySQL on D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ashington.edu/computing/web/publishing/mysql-instal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http://students.washington.edu/youruwne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etup PHP, Apache, MySQL on your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207-E342-478A-A09A-53D6B6DC0A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f you want mor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your own .com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make som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take web development to the next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7A1-80A0-41F9-A381-5EB3ABECCC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between a legitimate website and a personal project is small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beauty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you are capable of making something that peopl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ar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themil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igsli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agand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ebsites that started off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B1F-42F0-43D7-A39C-337703609D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xt Level is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martystep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web space from a hos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ovide you with PHP, MySQ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 domain name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amhost.com (Marty’s recommen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gsi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B32-3F4B-4462-8A79-B82AC2B49E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 Gotch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r host provides the services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osts only provide PHP + 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nly provide Ruby on Rai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top shops are 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he domain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host is awe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185-3D1C-4443-875A-6FFCAAC718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Registered User</cp:lastModifiedBy>
  <dcterms:modified xsi:type="dcterms:W3CDTF">2008-06-04T21:13:09Z</dcterms:modified>
  <cp:revision>151</cp:revision>
  <dc:subject/>
  <dc:title>PowerPoint Presentation</dc:title>
</cp:coreProperties>
</file>