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667-C30D-4BD3-B647-C1729059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7B9-9777-4856-B19D-B6BAAD72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8F1-A078-4E9A-B270-45FE2A5B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9B7-344F-4231-A876-BF781C6A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9800-2C65-4727-B188-D563BADB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21D1-5E2F-4477-9454-0A7EE6C0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3D2-6920-4DE3-9A08-BE7B471F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2CA5-52FC-4139-BE74-88BEDD1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8557-E450-44BA-9557-0465D919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9390-AA63-4F51-A273-69F643CC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5EB-D3DD-45DC-9DB3-21E01BE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0E3-72A3-448F-81B5-09C4DCCE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9E99-4098-49F7-86F7-1148647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A48-3615-4905-8C52-28B234B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F37F-DDE2-4D3E-96CF-44380BFB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356-65A0-44AA-A403-62FBF25F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9CE7-DA34-4DCC-8126-FC2C1700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D8D-58D6-4701-8010-B35EDE46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C29-64E1-458A-B591-3281B6B8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FDE-DEEB-4001-B088-D1DB5B8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5F4-C78E-43F1-9A66-7A0CCB25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E66-A50A-4F19-BEC9-ECB8F58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DB9-3902-447C-8751-1350227E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1D8-670D-4EC8-8CD9-6CA0952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DEC9-9E33-433F-A45E-F128C0CD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35FC-AEE4-4206-BCEE-9B9ADD0DD93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webmaster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support/webmasters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domain.com/" TargetMode="Externa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dbot@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DB8B-C9C8-405C-B2ED-9692C5BEEF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ful Services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70A-D5A7-48C8-9D33-7606BC9A51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3AF2-3307-4719-A428-BD32D9C345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8EA-DD67-4EE3-A510-49E9EE65A5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390-8C24-463F-A7D2-C2B6C7C65F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ts of coordination between you and company 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thousand impressions ($1-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8707680" cy="15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B75-FA9F-47E4-8105-4CA2204F77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8D8-8723-4D60-96C3-1935946FF1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683-4460-4B9F-B417-E8EC9F7DA4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9377-7075-4779-923F-C1E919DEA5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rketing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320" y="484488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127-DF71-43E4-B775-05719E105D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rketing your Site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uch mo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Thousand Impressions (CPM ~$1-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CF4-8DC3-437D-84FF-DB487C511B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10280" cy="30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FCB-387E-4CD7-A2B8-BCA55AD7E8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rch Engine Optim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y Stepp.com - The Best Site E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B39-A17F-4D5C-9FBB-1CE9683EB7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ore of your website easily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64796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430-56B1-4550-94E3-041D5ECF9C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8049-FB6E-4C05-900F-2B9145575B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8A4-E33F-442C-8CF3-2CF581ABF4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DC6-55CE-4224-8C5F-0A3CC951B6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043-3356-4F47-A9CE-C7B3219ABA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FDD3-F0DC-4F34-86D7-F822C02F0B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nderstand your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with potential customers and decide what is mos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bout your competitors and how your website com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gard to a feature, it doesn’t matter what you think; it matters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ENTRE 475/4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346-CBD9-42B6-83EF-4F23B43114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the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develop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8E5-2677-4716-AED8-B5A4069235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pfront with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your privacy policy in a “Terms and Conditions”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book’s “Terms and Conditions” page is ~8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may or may not want their wine collections to be publ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B3F-CAF1-41AD-AB81-7CBAA7FD2D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eral Cellarspot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716B-9668-49A3-9770-AA67A90DAA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castlej@u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265-EF4B-4102-BF5A-935CEB6971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2A0-D684-4FA3-AD54-F9C2B633E7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chnical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launc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mydoma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88DB-7D2D-488E-BC11-8E86B8DDD7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$10/year for a domai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$5-10/month for web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MySQL, PHP, email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 to use the same company for domain and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hos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DBF-C3A3-4681-BB24-6F15FB7838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arding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ign up with a host if the below are installed and read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 server (IIS or Ap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host on your own server if your website becomes VER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D90-DF20-45C0-9066-724C73612A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ful Ser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dibl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is easy with just on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321-C77A-4926-B995-DC5FD9246F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30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7-05-30T21:36:35Z</dcterms:modified>
  <cp:revision>41</cp:revision>
  <dc:subject/>
  <dc:title>PowerPoint Presentation</dc:title>
</cp:coreProperties>
</file>