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9377-22E9-4DBA-9D89-0FC9B7D3B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02B0-B689-4C6A-9CC6-C6093981C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8 % 20?  It's 8, but students often say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C728-0E9E-4E96-92D4-FB4F3CD40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8003-CF95-487D-BC4C-EAEED03DB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A140-1EBF-4B13-9FAA-984A765AF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're basically going to manipulate letters and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integer / real number distinction in English as well.  We don't ask, "How many do you weigh?" or, "How much sisters do you have?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nt/double split is related to how a computer processor crunches numbers.  A CPU does integer computations and a Floating Point Unit (FPU) does real number comp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Java separate int and double?  Why not use one combined type called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5749-CC48-4096-94D4-8B2DFE3F47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0190-A540-4E28-ACD6-8E72CE6785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15C2-45F9-4AED-B47A-99FB67D907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59E5-1973-442E-A83D-3F1BB89158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E973-689A-4AF4-8CA2-3E26BA1EA1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79C8-098A-459B-9655-F4FB16FDC5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4A52-0560-4EE0-A615-F08594F116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52E3-6617-49B4-9C5B-995868BE18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564B-0BD1-4E18-AC3E-46A013602A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D452-D47E-4DDB-AC1F-23EA5EB11E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7DE0-37A4-4B51-9289-1679B09B76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F2E4-894B-4A9C-AF13-9C3EBA4C53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6626-F11E-4A8A-9E2B-F979B71281C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7025-EAAA-4494-9D4B-A442BE1A4DD4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8160" algn="ctr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77760" algn="ctr"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1252440" algn="ctr">
              <a:spcBef>
                <a:spcPts val="425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1: Java Revie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Ch. 1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division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/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we divide integers, the quotient is also a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 /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 5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) 14           10 ) 45               27 ) 14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                5                      7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e examples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2 /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4 / 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6 / 1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ing by 0 causes an error when your program ru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remainder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%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perator computes the remainder from integer divi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 %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8 %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7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4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4 ) 14              5 ) 21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1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ications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perato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last digit of a number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0857 % 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last 4 digit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58236489 % 10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48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whether a number is odd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 %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 %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2006640"/>
            <a:ext cx="2819520" cy="18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resul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 %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%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%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 %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862280" y="3922560"/>
            <a:ext cx="1106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00120" y="3649680"/>
            <a:ext cx="9367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490760" y="3152880"/>
            <a:ext cx="9903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cede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ecede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rder in which operators are evaluat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lly operators evaluate left-to-r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- 2 -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 - 2) -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which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ve a higher level of precedence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-</a:t>
            </a:r>
            <a:br>
              <a:rPr sz="2000"/>
            </a:br>
            <a:br>
              <a:rPr sz="800"/>
            </a:b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*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  *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    1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entheses can force a certain order of evalu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 + 3) *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ing does not affect order of evalu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+3 * 4-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3968640" y="5205240"/>
            <a:ext cx="1766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 concaten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 concaten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tween a string and another value to make a longer str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" + 4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4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"abc" +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abc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" + 1 +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1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2 + "abc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" + 9 *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27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"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1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- 1 + "abc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print a string and an expression's value toge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Grade: "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95.1 + 71.9) /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: 83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s (2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iece of the computer's memory that is given a name and type, and can store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 be declared/initialized in one stat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GPA = 3.95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(11 % 3) + 1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562720" y="4140360"/>
          <a:ext cx="1981080" cy="6602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562720" y="5130720"/>
          <a:ext cx="3047760" cy="660600"/>
        </p:xfrm>
        <a:graphic>
          <a:graphicData uri="http://schemas.openxmlformats.org/drawingml/2006/table">
            <a:tbl>
              <a:tblPr/>
              <a:tblGrid>
                <a:gridCol w="990360"/>
                <a:gridCol w="205740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cast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 ca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conversion from one type to ano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promot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get exact division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runc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a real number to an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nt x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Math.pow(10, 3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770040" y="5073480"/>
            <a:ext cx="7905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779400" y="4043520"/>
            <a:ext cx="4492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crement and decr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hortcuts to increase or decrease a variable's value by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han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quivalent long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x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now stores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2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pa--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= gpa -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now stores 1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dify-and-assign oper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hortcuts to modify a variable's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han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quivalent long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%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%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3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x +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pa -= 0.5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= gpa - 0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*= 2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umber = number *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2133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 (2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the follow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ck if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rue.  If no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e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6781680" y="1403280"/>
            <a:ext cx="457200" cy="1904760"/>
            <a:chOff x="6781680" y="1403280"/>
            <a:chExt cx="457200" cy="1904760"/>
          </a:xfrm>
        </p:grpSpPr>
        <p:sp>
          <p:nvSpPr>
            <p:cNvPr id="186" name="AutoShape 5"/>
            <p:cNvSpPr/>
            <p:nvPr/>
          </p:nvSpPr>
          <p:spPr>
            <a:xfrm>
              <a:off x="6781680" y="1922760"/>
              <a:ext cx="457200" cy="1385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6000 h 1385280"/>
                <a:gd name="textAreaBottom" fmla="*/ 1349280 h 138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od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AutoShape 6"/>
            <p:cNvSpPr/>
            <p:nvPr/>
          </p:nvSpPr>
          <p:spPr>
            <a:xfrm>
              <a:off x="6781680" y="1403280"/>
              <a:ext cx="457200" cy="4327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1160 h 432720"/>
                <a:gd name="textAreaBottom" fmla="*/ 421560 h 43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ad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531800" y="3016080"/>
            <a:ext cx="2514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out.prin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nts without moving to a new 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you to print partial messages on the sam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ighestTemp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-3; i &lt;= highestTemp / 2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(i * 1.8 + 32) + " 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6.6  28.4  30.2  32.0  33.8  35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Java program (1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very executable Java program consists of a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at contains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name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at contains th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commands) to be execu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18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21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24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sted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op placed inside another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4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(i * j)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2    3    4    5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4    6    8    10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6    9    12   15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8    12   16   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ments in the outer loop's body are executed 4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ner loop prints 5 numbers each time it is ru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 scop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cop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he part of a program where a variable exis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its declaration to the end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r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variable declared in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loop exists only in that loo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variable declared in a method exists only in that metho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 no longer exists 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ceases to exist 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6095880" y="3886200"/>
            <a:ext cx="838440" cy="1447920"/>
          </a:xfrm>
          <a:custGeom>
            <a:avLst/>
            <a:gdLst>
              <a:gd name="textAreaLeft" fmla="*/ 0 w 838440"/>
              <a:gd name="textAreaRight" fmla="*/ 302760 w 8384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's sco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AutoShape 5" descr=""/>
          <p:cNvPicPr/>
          <p:nvPr/>
        </p:nvPicPr>
        <p:blipFill>
          <a:blip r:embed="rId2"/>
          <a:stretch/>
        </p:blipFill>
        <p:spPr>
          <a:xfrm>
            <a:off x="76320" y="3962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ass constants (2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ass const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visible to the whole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 can only be set at decla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 can't be changed while the program is ru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is usually in ALL_UPPER_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int DAYS_IN_WEEK =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double INTEREST_RATE = 3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int SSN = 65823456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s (3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passed to a method by its call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ead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draw any leng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lar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, we will state that it requires a parameter for the number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all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method, we will specify how many stars to dra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202" name="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ssing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Password(42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password is: 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Password(12345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password is: 123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's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 (3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1295280"/>
          <a:ext cx="6643800" cy="527076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6296040" y="4952880"/>
          <a:ext cx="2771640" cy="100512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 (3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send out a value as the result of a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posite of a paramet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meters send informatio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the caller to the metho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 values send informatio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a method to its call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144880" y="3429000"/>
            <a:ext cx="4904640" cy="2430720"/>
            <a:chOff x="2144880" y="3429000"/>
            <a:chExt cx="4904640" cy="2430720"/>
          </a:xfrm>
        </p:grpSpPr>
        <p:sp>
          <p:nvSpPr>
            <p:cNvPr id="221" name=""/>
            <p:cNvSpPr/>
            <p:nvPr/>
          </p:nvSpPr>
          <p:spPr>
            <a:xfrm>
              <a:off x="2144880" y="430524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966760" y="3508200"/>
              <a:ext cx="144756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30520" y="3429000"/>
              <a:ext cx="20095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th.abs(42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36400" y="3492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39760" y="4703400"/>
              <a:ext cx="1474560" cy="7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30520" y="546084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2890800" y="4799880"/>
              <a:ext cx="152352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080" y="47271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119040" y="3812760"/>
              <a:ext cx="1294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90440" y="4025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09560" y="5244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2590920" y="4343400"/>
            <a:ext cx="8650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219320" y="5181480"/>
            <a:ext cx="20574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ing a valu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(3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storing a sequence of text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acters of a string are numbered with 0-bas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dex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"P. Diddy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irst character's index is always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character's index is 1 less than the string's 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dividual characters are value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397160" y="3886200"/>
          <a:ext cx="6375240" cy="906480"/>
        </p:xfrm>
        <a:graphic>
          <a:graphicData uri="http://schemas.openxmlformats.org/drawingml/2006/table">
            <a:tbl>
              <a:tblPr/>
              <a:tblGrid>
                <a:gridCol w="1218960"/>
                <a:gridCol w="644400"/>
                <a:gridCol w="646200"/>
                <a:gridCol w="642960"/>
                <a:gridCol w="644400"/>
                <a:gridCol w="644760"/>
                <a:gridCol w="644400"/>
                <a:gridCol w="644400"/>
                <a:gridCol w="64476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methods are called using the dot not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280" y="1371600"/>
          <a:ext cx="8839440" cy="312732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 where the start of the given string appears in this string (-1 if it is not th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64646"/>
                </a:solidFill>
                <a:latin typeface="Courier New"/>
              </a:rPr>
              <a:t>System.out.println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 statement that prints a line of output on the conso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nounced "print-linn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metimes called a "println statement" for sh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wo ways to us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s the given message as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s a blank line of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test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Are you single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LUMBERG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I need your TPS report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488960" y="2711520"/>
            <a:ext cx="2867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equal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s are compared using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ly this is a method that returns a value of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ype used in logical tes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4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: A primitive type representing single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haracter insid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stor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ter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s are surrounded with apostrop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ingle-quote) marks, 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legal to have variables, parameters, return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etter = 'S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 can be concatenated with string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initial = 'P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itial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s.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St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the two behave differentl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n object; it contains metho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primitive; you can't call methods on 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c.toUpperCase();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  <a:ea typeface="Courier New"/>
              </a:rPr>
              <a:t>// ERROR: "cannot be dereferenced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 algn="ctr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 algn="ctr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out.print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4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86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mat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ormat string contain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aceholder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sert parameters into i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8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, 8 characters wide, right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-8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, 8 characters wide, left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.4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, 4 characters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6.2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, 6 characters wide, 2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62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, y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f("(%d, %d)\n", x, y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3,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f("%4d %4.2f\n", x, y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   3 2.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rawingPanel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3G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Canvas" objects that represents windows/drawing surfa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create a wind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indow has nothing on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draw shapes and lin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it using another object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153280" y="380880"/>
            <a:ext cx="846360" cy="990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5861880" y="4435560"/>
            <a:ext cx="2463120" cy="1662120"/>
            <a:chOff x="5861880" y="4435560"/>
            <a:chExt cx="2463120" cy="1662120"/>
          </a:xfrm>
        </p:grpSpPr>
        <p:grpSp>
          <p:nvGrpSpPr>
            <p:cNvPr id="259" name=""/>
            <p:cNvGrpSpPr/>
            <p:nvPr/>
          </p:nvGrpSpPr>
          <p:grpSpPr>
            <a:xfrm>
              <a:off x="6473880" y="4825800"/>
              <a:ext cx="1371600" cy="913680"/>
              <a:chOff x="6473880" y="4825800"/>
              <a:chExt cx="1371600" cy="913680"/>
            </a:xfrm>
          </p:grpSpPr>
          <p:sp>
            <p:nvSpPr>
              <p:cNvPr id="260" name=""/>
              <p:cNvSpPr/>
              <p:nvPr/>
            </p:nvSpPr>
            <p:spPr>
              <a:xfrm>
                <a:off x="6550200" y="4901760"/>
                <a:ext cx="1295280" cy="837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50200" y="482580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473880" y="4901760"/>
                <a:ext cx="0" cy="83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863840" y="457020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x+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56800" y="5698800"/>
              <a:ext cx="45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y+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61880" y="4435560"/>
              <a:ext cx="75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0, 0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Graphic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Pen" objects that can draw lines and sha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ss it by 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you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w shapes by calling method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8175600" y="304920"/>
            <a:ext cx="81612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Graphic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7240" y="1511280"/>
          <a:ext cx="9029520" cy="427968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ol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e one using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d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en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ue (RGB) values from 0-25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 use a predefin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lass constant  (more comm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one of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8153280" y="380880"/>
            <a:ext cx="83988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3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bject with methods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intended to be used direc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use a second object, from a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o help u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to read console in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Static methods (1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atic method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named group of stat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notes the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structur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f a pro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liminates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redundanc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by code reu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cedural decompositio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viding a problem into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riting a static method is lik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dding a new command to Jav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3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typed is retur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'll be 40 in " 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40 - age) + " years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m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message telling the user what input to ty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1324080"/>
          <a:ext cx="7605720" cy="1976400"/>
        </p:xfrm>
        <a:graphic>
          <a:graphicData uri="http://schemas.openxmlformats.org/drawingml/2006/table">
            <a:tbl>
              <a:tblPr/>
              <a:tblGrid>
                <a:gridCol w="2346480"/>
                <a:gridCol w="5259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reads a 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 of user input as a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sting for valid input (5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s to see what the next token will b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methods do not consume inpu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just give information about the next tok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ful to see what input is coming, and to avoid crash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04920" y="1800360"/>
          <a:ext cx="8663040" cy="3255840"/>
        </p:xfrm>
        <a:graphic>
          <a:graphicData uri="http://schemas.openxmlformats.org/drawingml/2006/table">
            <a:tbl>
              <a:tblPr/>
              <a:tblGrid>
                <a:gridCol w="2469960"/>
                <a:gridCol w="6193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tokens of input to read   </a:t>
                      </a: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is a next toke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it can be read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is a next toke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it can be read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lines of input to read 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936720" y="1886040"/>
            <a:ext cx="1654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(4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loop that adds the numbers from 1-1000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Key ide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mulative sum variables must be declar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oops that update them, so that they will exist after the lo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4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334120" y="1905120"/>
            <a:ext cx="3657600" cy="23731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s one block if a test is true, another if fa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lational 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is the same as in a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loop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a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ressions, seen in Ch.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 us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lation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19320" y="382896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operators: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&amp;&amp;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||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!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ditions can be combined using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logic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"Truth tables" for each, used with logical value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104840" y="419112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6226200" y="4191120"/>
          <a:ext cx="1774800" cy="109512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5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gical type whose value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re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cre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s, 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meter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s from methods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minor = (age &lt; 2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expensive = iPhonePrice &gt; 200.0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iLoveCS =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Can't purchase alcohol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LoveCS || !expensi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uying an iPhon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 Morgan's La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 Morgan's La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ules used to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eg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ver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oolean express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you want the opposite of a known boolean t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5800" y="2666880"/>
          <a:ext cx="7756560" cy="137160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57200" y="4800600"/>
          <a:ext cx="8229600" cy="158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!= 7 || y &lt;=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truct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060720" y="3886200"/>
            <a:ext cx="97776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0" y="1295280"/>
          <a:ext cx="9144000" cy="49179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2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ly 1 path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51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or 1 pat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 1, or many paths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independent tests,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2743200" y="1924200"/>
            <a:ext cx="1752480" cy="1366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7238880" y="1752480"/>
            <a:ext cx="1828800" cy="15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loops (4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encepost probl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When we want to repeat two tasks, one of them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imes, anothe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a statement outside the loop to place the initial "post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encepost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a "loop-and-a-half" solut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gorithm templa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or (length of fence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- 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some w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286000" y="5486400"/>
            <a:ext cx="4191120" cy="990360"/>
            <a:chOff x="2286000" y="5486400"/>
            <a:chExt cx="4191120" cy="990360"/>
          </a:xfrm>
        </p:grpSpPr>
        <p:grpSp>
          <p:nvGrpSpPr>
            <p:cNvPr id="311" name="Group 5"/>
            <p:cNvGrpSpPr/>
            <p:nvPr/>
          </p:nvGrpSpPr>
          <p:grpSpPr>
            <a:xfrm>
              <a:off x="2286000" y="5486400"/>
              <a:ext cx="990360" cy="990360"/>
              <a:chOff x="2286000" y="5486400"/>
              <a:chExt cx="990360" cy="990360"/>
            </a:xfrm>
          </p:grpSpPr>
          <p:sp>
            <p:nvSpPr>
              <p:cNvPr id="312" name="Rectangle 6"/>
              <p:cNvSpPr/>
              <p:nvPr/>
            </p:nvSpPr>
            <p:spPr>
              <a:xfrm>
                <a:off x="2286000" y="548640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3" name="Group 7"/>
              <p:cNvGrpSpPr/>
              <p:nvPr/>
            </p:nvGrpSpPr>
            <p:grpSpPr>
              <a:xfrm>
                <a:off x="2514600" y="5638680"/>
                <a:ext cx="761760" cy="380160"/>
                <a:chOff x="2514600" y="5638680"/>
                <a:chExt cx="761760" cy="380160"/>
              </a:xfrm>
            </p:grpSpPr>
            <p:sp>
              <p:nvSpPr>
                <p:cNvPr id="314" name="Rectangle 8"/>
                <p:cNvSpPr/>
                <p:nvPr/>
              </p:nvSpPr>
              <p:spPr>
                <a:xfrm>
                  <a:off x="2514600" y="563868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5" name="Rectangle 9"/>
                <p:cNvSpPr/>
                <p:nvPr/>
              </p:nvSpPr>
              <p:spPr>
                <a:xfrm>
                  <a:off x="2514600" y="594288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16" name="Group 10"/>
            <p:cNvGrpSpPr/>
            <p:nvPr/>
          </p:nvGrpSpPr>
          <p:grpSpPr>
            <a:xfrm>
              <a:off x="3276720" y="5486400"/>
              <a:ext cx="990360" cy="990360"/>
              <a:chOff x="3276720" y="5486400"/>
              <a:chExt cx="990360" cy="990360"/>
            </a:xfrm>
          </p:grpSpPr>
          <p:sp>
            <p:nvSpPr>
              <p:cNvPr id="317" name="Rectangle 11"/>
              <p:cNvSpPr/>
              <p:nvPr/>
            </p:nvSpPr>
            <p:spPr>
              <a:xfrm>
                <a:off x="3276720" y="548640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8" name="Group 12"/>
              <p:cNvGrpSpPr/>
              <p:nvPr/>
            </p:nvGrpSpPr>
            <p:grpSpPr>
              <a:xfrm>
                <a:off x="3505320" y="5638680"/>
                <a:ext cx="761760" cy="380160"/>
                <a:chOff x="3505320" y="5638680"/>
                <a:chExt cx="761760" cy="380160"/>
              </a:xfrm>
            </p:grpSpPr>
            <p:sp>
              <p:nvSpPr>
                <p:cNvPr id="319" name="Rectangle 13"/>
                <p:cNvSpPr/>
                <p:nvPr/>
              </p:nvSpPr>
              <p:spPr>
                <a:xfrm>
                  <a:off x="3505320" y="563868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0" name="Rectangle 14"/>
                <p:cNvSpPr/>
                <p:nvPr/>
              </p:nvSpPr>
              <p:spPr>
                <a:xfrm>
                  <a:off x="3505320" y="594288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21" name="Group 15"/>
            <p:cNvGrpSpPr/>
            <p:nvPr/>
          </p:nvGrpSpPr>
          <p:grpSpPr>
            <a:xfrm>
              <a:off x="4267440" y="5486400"/>
              <a:ext cx="990360" cy="990360"/>
              <a:chOff x="4267440" y="5486400"/>
              <a:chExt cx="990360" cy="990360"/>
            </a:xfrm>
          </p:grpSpPr>
          <p:sp>
            <p:nvSpPr>
              <p:cNvPr id="322" name="Rectangle 16"/>
              <p:cNvSpPr/>
              <p:nvPr/>
            </p:nvSpPr>
            <p:spPr>
              <a:xfrm>
                <a:off x="4267440" y="548640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23" name="Group 17"/>
              <p:cNvGrpSpPr/>
              <p:nvPr/>
            </p:nvGrpSpPr>
            <p:grpSpPr>
              <a:xfrm>
                <a:off x="4496040" y="5638680"/>
                <a:ext cx="761760" cy="380160"/>
                <a:chOff x="4496040" y="5638680"/>
                <a:chExt cx="761760" cy="380160"/>
              </a:xfrm>
            </p:grpSpPr>
            <p:sp>
              <p:nvSpPr>
                <p:cNvPr id="324" name="Rectangle 18"/>
                <p:cNvSpPr/>
                <p:nvPr/>
              </p:nvSpPr>
              <p:spPr>
                <a:xfrm>
                  <a:off x="4496040" y="563868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5" name="Rectangle 19"/>
                <p:cNvSpPr/>
                <p:nvPr/>
              </p:nvSpPr>
              <p:spPr>
                <a:xfrm>
                  <a:off x="4496040" y="594288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26" name="Group 20"/>
            <p:cNvGrpSpPr/>
            <p:nvPr/>
          </p:nvGrpSpPr>
          <p:grpSpPr>
            <a:xfrm>
              <a:off x="5257800" y="5486400"/>
              <a:ext cx="990360" cy="990360"/>
              <a:chOff x="5257800" y="5486400"/>
              <a:chExt cx="990360" cy="990360"/>
            </a:xfrm>
          </p:grpSpPr>
          <p:sp>
            <p:nvSpPr>
              <p:cNvPr id="327" name="Rectangle 21"/>
              <p:cNvSpPr/>
              <p:nvPr/>
            </p:nvSpPr>
            <p:spPr>
              <a:xfrm>
                <a:off x="5257800" y="548640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28" name="Group 22"/>
              <p:cNvGrpSpPr/>
              <p:nvPr/>
            </p:nvGrpSpPr>
            <p:grpSpPr>
              <a:xfrm>
                <a:off x="5486400" y="5638680"/>
                <a:ext cx="761760" cy="380160"/>
                <a:chOff x="5486400" y="5638680"/>
                <a:chExt cx="761760" cy="380160"/>
              </a:xfrm>
            </p:grpSpPr>
            <p:sp>
              <p:nvSpPr>
                <p:cNvPr id="329" name="Rectangle 23"/>
                <p:cNvSpPr/>
                <p:nvPr/>
              </p:nvSpPr>
              <p:spPr>
                <a:xfrm>
                  <a:off x="5486400" y="563868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0" name="Rectangle 24"/>
                <p:cNvSpPr/>
                <p:nvPr/>
              </p:nvSpPr>
              <p:spPr>
                <a:xfrm>
                  <a:off x="5486400" y="594288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31" name="Rectangle 25"/>
            <p:cNvSpPr/>
            <p:nvPr/>
          </p:nvSpPr>
          <p:spPr>
            <a:xfrm>
              <a:off x="6248520" y="5486400"/>
              <a:ext cx="228600" cy="9903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918640" cy="47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Gives your method a name so it can be execu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2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br>
              <a:rPr sz="2200"/>
            </a:br>
            <a:br>
              <a:rPr sz="700"/>
            </a:br>
            <a:br>
              <a:rPr sz="8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spcBef>
                <a:spcPts val="1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br>
              <a:rPr sz="2200"/>
            </a:br>
            <a:br>
              <a:rPr sz="7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0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Declaring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method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prints each number from 1 to a given maximum, separated by commas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example, the 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ould pri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l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while"/>
          <p:cNvPicPr/>
          <p:nvPr/>
        </p:nvPicPr>
        <p:blipFill>
          <a:blip r:embed="rId2"/>
          <a:stretch/>
        </p:blipFill>
        <p:spPr>
          <a:xfrm>
            <a:off x="6477120" y="1089000"/>
            <a:ext cx="2590560" cy="24638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 (5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Repeatedly executes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dy as long as a logical test is tr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2 4 8 16 32 64 1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/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 (5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cutes statements repeatedly while a condition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esting it at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each repet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 until the user gets the right pass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Password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 (5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generates pseudo-random* numb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found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ck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ents ne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test if a resul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thOdd(7, 13) == 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this is unnecessary and redundant.  Preferr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imilar pattern can be used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es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thOdd(7, 13) == 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!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, part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that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have 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servation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unnecessa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logical test is itsel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; so return that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reak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5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ment: Immediately exits a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used to write a loop whose test is in the midd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h loops are often 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forever" loop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their header's boolean test is often changed to a triv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programmers consid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be bad sty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4952880" y="4327560"/>
            <a:ext cx="3353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ding files (6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read a file, pas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en 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mydata.tx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, better y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("mydata.txt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row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u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cla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Keywords on a method's header that state that it may generate an excep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saying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I hereby announce that this method might throw an exception, and I accept the consequences if it happens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 tokens (6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unit of user input, separated by whitespa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lits a file's contents into toke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an input file contains the follow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 3.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ohn Smith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interpret the tokens as the following typ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ok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ype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oh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mith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974880" y="2971800"/>
            <a:ext cx="2301840" cy="70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alling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Executes the method's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You can call the same method many times if you lik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s and input curs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a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contains this tex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.9 7.4  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9 4.7    -15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iews all input as a stream of charact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put curs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urrent position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905120"/>
            <a:ext cx="259092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4330800"/>
            <a:ext cx="78706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uming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uming inp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ing input and advancing the curs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tc. moves the cursor past the current tok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x = input.nextDouble(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 = input.nex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14.9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4.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934920" y="2509920"/>
            <a:ext cx="78710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922320" y="3843360"/>
            <a:ext cx="78706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922320" y="5181480"/>
            <a:ext cx="78706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excep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Mismatch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read the wrong type of token (e.g. re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i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read past the end of the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ing and fixing these excep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 the exception text for line numbers in your code (the first line that mentions your file; often near the bottom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xception in thread "main" java.util.NoSuchElement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throwFor(Scanner.java:83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Scanner.java:134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t CountTokens.sillyMethod(CountTokens.java:1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CountTokens.main(CountTokens.java: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put to files (6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ackage that lets you print output to a destination such as a f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methods you have used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will work o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PrintStream(new File("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output = new PrintStream(new File("out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.println("Hello, file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.println("This is a second line of outpu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ourier New"/>
              </a:rPr>
              <a:t>System.out</a:t>
            </a: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 and </a:t>
            </a:r>
            <a:r>
              <a:rPr b="0" lang="en-US" sz="40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nsole output object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Stream out1 = System.ou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out2 = new PrintStream(new File("data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1.println("Hello, console!"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oes to conso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2.println("Hello, file!"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// goes to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ference to it can be stored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ing to that variable causes console output to app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a parameter to a method expecting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s methods that can send output to the console or a f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(7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bject that stores many values of the same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One value in a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0-based integer to access an element from a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4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375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376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78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379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0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1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382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declar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ing ele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-of-boun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gal indexes: betwee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ray's length -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or writing any index outside this range will throw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0]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9]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12716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3986280" y="2538360"/>
            <a:ext cx="2163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eng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fiel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rray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ield stores its number of el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does not use parentheses like a String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en a method is called, the program's execution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jumps" into that method, executing its statements, 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jumps" back to the point where the method was call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14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14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14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ontrol flo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Quick array initializ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…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you know what the array's elements will b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iler figures out the size by counting the val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Array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packag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has useful static methods for manipulating array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76320" y="2266920"/>
          <a:ext cx="8991360" cy="4200480"/>
        </p:xfrm>
        <a:graphic>
          <a:graphicData uri="http://schemas.openxmlformats.org/drawingml/2006/table">
            <a:tbl>
              <a:tblPr/>
              <a:tblGrid>
                <a:gridCol w="419076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the index of the given value in a sorted array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f the two arrays contain the same elements in the same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ts every element in the array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nges the elements in the array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17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array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scores = {13, 17, 12, 15, 11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g =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or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untDigits(int n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u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tally = countDigits(22923100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rrays.toString(tally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lue semantics (primitives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ue semant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Behavior where values are copied when assigned to each other or passed as parame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ne primitive variable is assigned to anothe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s value is copi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the value of one variable does not affect oth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6572160" y="41148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6572160" y="48769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Reference semantics (objects)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ference semant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Behavior where variables actually store the address of an object in memo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ne reference variable is assigned to another, the object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pied; both variables refer to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ame obje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the value of one variabl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fect oth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429000" y="52070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3429000" y="52070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5" name=""/>
          <p:cNvGrpSpPr/>
          <p:nvPr/>
        </p:nvGrpSpPr>
        <p:grpSpPr>
          <a:xfrm>
            <a:off x="685800" y="5181480"/>
            <a:ext cx="2438280" cy="444240"/>
            <a:chOff x="685800" y="5181480"/>
            <a:chExt cx="2438280" cy="444240"/>
          </a:xfrm>
        </p:grpSpPr>
        <p:sp>
          <p:nvSpPr>
            <p:cNvPr id="416" name=""/>
            <p:cNvSpPr/>
            <p:nvPr/>
          </p:nvSpPr>
          <p:spPr>
            <a:xfrm>
              <a:off x="685800" y="51814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09680" y="539712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54000" y="52052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85800" y="5943240"/>
            <a:ext cx="2438280" cy="457560"/>
            <a:chOff x="685800" y="5943240"/>
            <a:chExt cx="2438280" cy="457560"/>
          </a:xfrm>
        </p:grpSpPr>
        <p:sp>
          <p:nvSpPr>
            <p:cNvPr id="420" name=""/>
            <p:cNvSpPr/>
            <p:nvPr/>
          </p:nvSpPr>
          <p:spPr>
            <a:xfrm>
              <a:off x="685800" y="595656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209680" y="594324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54000" y="598032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ull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reference that does not refer to any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s of an object that refer to objects are initialized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lements of an array of objects are initialized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3389400" y="38098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3371760" y="51055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7" name=""/>
          <p:cNvGrpSpPr/>
          <p:nvPr/>
        </p:nvGrpSpPr>
        <p:grpSpPr>
          <a:xfrm>
            <a:off x="838080" y="4191120"/>
            <a:ext cx="2286000" cy="444240"/>
            <a:chOff x="838080" y="4191120"/>
            <a:chExt cx="2286000" cy="444240"/>
          </a:xfrm>
        </p:grpSpPr>
        <p:sp>
          <p:nvSpPr>
            <p:cNvPr id="428" name=""/>
            <p:cNvSpPr/>
            <p:nvPr/>
          </p:nvSpPr>
          <p:spPr>
            <a:xfrm>
              <a:off x="838080" y="41911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62320" y="44067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06640" y="42145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09480" y="5423040"/>
            <a:ext cx="2514600" cy="444240"/>
            <a:chOff x="609480" y="5423040"/>
            <a:chExt cx="2514600" cy="444240"/>
          </a:xfrm>
        </p:grpSpPr>
        <p:sp>
          <p:nvSpPr>
            <p:cNvPr id="432" name=""/>
            <p:cNvSpPr/>
            <p:nvPr/>
          </p:nvSpPr>
          <p:spPr>
            <a:xfrm>
              <a:off x="609480" y="54230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61960" y="56386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06280" y="54464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ull pointer excep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refere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access data or methods of an object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illegal to dereferen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causes an excepti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not any object, so it has no methods or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asses and objects (8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rogram entity that represents eith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rogram / module,  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template for a new type of o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is a template for creat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entity that combines state and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-oriented programming (OOP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Programs that perform their behavior as interactions between o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elds (8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iel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riable inside an object that is part of its st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object h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ts own cop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each fie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capsul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Declaring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hide their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 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ach object now h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double gpa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name and gpa fie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's primitive types (2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imitive typ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8 simple types for numbers, text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also ha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 typ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hich we'll talk about l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263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 numb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0.2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.4e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single text characters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a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X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?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\n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logical values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4b9e8"/>
              </a:buClr>
              <a:buSzPct val="85000"/>
              <a:buFont typeface="Verdana"/>
              <a:buChar char="•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 does Java distinguish integers vs. real numb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stance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stance meth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ne that exists inside each object of a class and defines behavior of that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e syntax as static methods, but with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8294760" y="3398760"/>
            <a:ext cx="191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7837560" y="3400560"/>
            <a:ext cx="191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6473880" y="3398760"/>
            <a:ext cx="191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795920" y="3408480"/>
            <a:ext cx="191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027320" y="3095640"/>
            <a:ext cx="1922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3570120" y="3097080"/>
            <a:ext cx="192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oin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 contains data fields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 contains a method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draws that point at its curr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os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implicit parame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bject on which an instance method is call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the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bject referred to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implicit parame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the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bject referred to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implicit parame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tance method can refer to that object's fiel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ay that it executes in th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ontex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a particular obje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n refer to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object it was called 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Kinds of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ance methods take advantage of an object's st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methods allow clients to access/modify its st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cess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thod that lets clients examine object st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that tells how far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way from (0, 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ssors often have a non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 ty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utat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thod that modifies an object's st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that shifts the position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a given amou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ructors (8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truct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Initializes the state of new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s when the client use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specify a return type; implicitly returns a new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 class has no constructor, Java gives it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fault construc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no parameters that sets all fields to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 (8.6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ls Java how to convert an object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de that returns a suitable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ed when an object is printed/concaten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ry class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ven if it isn't in your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ault is class's name and a hex number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keyword (8.7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: A reference to the implicit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implicit parameter: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bject on which a method is call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for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fer to a fiel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all a metho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all a constructor from another construc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tic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atic meth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Part of a class, not part of an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red by all objects of that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od for code related to a class but not to each object's s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understan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mplicit param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fore, cannot access an object's fields direc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an be called from inside or outside the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 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 (9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herita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way to form new classes based on existing classes, taking on their attributes/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group related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share code between two or more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class ca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te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other, absorbing its data/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parent class that is being exten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child class that extends the superclass and inherits its behavi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class gets a copy of every field and method from supercl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 syntax (9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exten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n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automatical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client code (seen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or operation that computes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4 *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7 + 2) * 6 /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mplest expression is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iteral va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lex expression can use operators and parenthe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verriding methods (9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write a new version of a method in a subclass that replaces the superclass's vers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special syntax required to override a superclass meth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 write a new version of it in the sub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VacationForm in Employee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up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keyword (9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classes can call overridden method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lymorph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bility for the same code to be used with different types of objects and behave differently with ea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print any type of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one displays in its own way on the conso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variable of typ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an hold an object of any subclass of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LegalSecretary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call any methods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 any methods specific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 method is called, it behaves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5000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9-01-04T14:17:16Z</dcterms:modified>
  <cp:revision>1460</cp:revision>
  <dc:subject/>
  <dc:title>Building Java Programs</dc:title>
</cp:coreProperties>
</file>