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move the slide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86193-E88A-416C-A5B1-88B22BBC8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9BCA-C5CE-4425-8B00-0A65E2661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8 % 20?  It's 8, but students often say 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0045-5C64-465F-96CA-A030AAA0F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6689-2A0E-432B-92DE-A58422DCC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0D1E-CBE7-43F5-978E-D92DA0AE2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're basically going to manipulate letters and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ke the integer / real number distinction in English as well.  We don't ask, "How many do you weigh?" or, "How much sisters do you have?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nt/double split is related to how a computer processor crunches numbers.  A CPU does integer computations and a Floating Point Unit (FPU) does real number compu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Java separate int and double?  Why not use one combined type called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DD94-444F-4F4C-B6E2-2BB3FCF10D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EB7C-2C82-466A-B3E9-8EB225C77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9C98-F151-454B-B379-B5AAD809BF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1B4F-A9CD-4B94-8809-B7477634E7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99C4-F589-4E39-B5FA-836CF2FBD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9FB4-B8AD-41DD-B98E-4E7ADB1140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486B1-42FA-4707-A769-E63D15CB2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1A5A-AF40-469E-BD2C-DAA50EF75D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0F59-9B52-49B4-8BED-8ED4A31B6C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3B8B-14D6-40D4-86C9-62FC9033B3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2088-AFF6-4804-B66D-40C3108872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4288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57520" y="137124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2824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4288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257520" y="4077720"/>
            <a:ext cx="287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7419-84F3-4F12-8017-6A2367F9FE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43956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6640" y="407772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6640" y="1371240"/>
            <a:ext cx="4350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77720"/>
            <a:ext cx="8915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550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187280" indent="-209520">
              <a:spcBef>
                <a:spcPts val="550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1461960" indent="-209520">
              <a:spcBef>
                <a:spcPts val="550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1461960" indent="-209520">
              <a:spcBef>
                <a:spcPts val="55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3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7" name="Freeform 1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9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10" name="Freeform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pic>
        <p:nvPicPr>
          <p:cNvPr id="12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3" descr=""/>
          <p:cNvPicPr/>
          <p:nvPr/>
        </p:nvPicPr>
        <p:blipFill>
          <a:blip r:embed="rId6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3" descr=""/>
          <p:cNvPicPr/>
          <p:nvPr/>
        </p:nvPicPr>
        <p:blipFill>
          <a:blip r:embed="rId7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Slide Number Placeholder 3"/>
          <p:cNvSpPr/>
          <p:nvPr/>
        </p:nvSpPr>
        <p:spPr>
          <a:xfrm>
            <a:off x="8153280" y="632448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5F23-D913-4680-9CD5-86514CDF74A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1"/>
          </p:nvPr>
        </p:nvSpPr>
        <p:spPr>
          <a:xfrm>
            <a:off x="67057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Times New Roman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6419-E2F5-45AF-997C-2CB3BE670605}" type="slidenum">
              <a:rPr b="0" lang="en-US" sz="1200" spc="-1" strike="noStrike">
                <a:solidFill>
                  <a:srgbClr val="42424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3" descr=""/>
          <p:cNvPicPr/>
          <p:nvPr/>
        </p:nvPicPr>
        <p:blipFill>
          <a:blip r:embed="rId3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3" descr=""/>
          <p:cNvPicPr/>
          <p:nvPr/>
        </p:nvPicPr>
        <p:blipFill>
          <a:blip r:embed="rId4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5"/>
          <a:srcRect l="22738" t="0" r="0" b="36098"/>
          <a:stretch/>
        </p:blipFill>
        <p:spPr>
          <a:xfrm>
            <a:off x="0" y="6048360"/>
            <a:ext cx="1295280" cy="809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1"/>
          <p:cNvSpPr/>
          <p:nvPr/>
        </p:nvSpPr>
        <p:spPr>
          <a:xfrm>
            <a:off x="631440" y="6629400"/>
            <a:ext cx="24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pyright 2008 by Pearson Educa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-9360" y="0"/>
            <a:ext cx="9169200" cy="533520"/>
            <a:chOff x="-9360" y="0"/>
            <a:chExt cx="9169200" cy="533520"/>
          </a:xfrm>
        </p:grpSpPr>
        <p:sp>
          <p:nvSpPr>
            <p:cNvPr id="60" name="Freeform 6"/>
            <p:cNvSpPr/>
            <p:nvPr/>
          </p:nvSpPr>
          <p:spPr>
            <a:xfrm>
              <a:off x="-9360" y="0"/>
              <a:ext cx="9162720" cy="533520"/>
            </a:xfrm>
            <a:prstGeom prst="pie">
              <a:avLst/>
            </a:prstGeom>
            <a:gradFill rotWithShape="0">
              <a:gsLst>
                <a:gs pos="0">
                  <a:srgbClr val="ae060e">
                    <a:alpha val="45098"/>
                  </a:srgbClr>
                </a:gs>
                <a:gs pos="100000">
                  <a:srgbClr val="ff4a00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Freeform 7"/>
            <p:cNvSpPr/>
            <p:nvPr/>
          </p:nvSpPr>
          <p:spPr>
            <a:xfrm>
              <a:off x="4267080" y="0"/>
              <a:ext cx="4876920" cy="270720"/>
            </a:xfrm>
            <a:prstGeom prst="pie">
              <a:avLst/>
            </a:prstGeom>
            <a:gradFill rotWithShape="0">
              <a:gsLst>
                <a:gs pos="0">
                  <a:srgbClr val="c44000">
                    <a:alpha val="45098"/>
                  </a:srgbClr>
                </a:gs>
                <a:gs pos="100000">
                  <a:srgbClr val="e10004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2" name="Group 1"/>
            <p:cNvGrpSpPr/>
            <p:nvPr/>
          </p:nvGrpSpPr>
          <p:grpSpPr>
            <a:xfrm>
              <a:off x="0" y="142560"/>
              <a:ext cx="9159840" cy="254160"/>
              <a:chOff x="0" y="142560"/>
              <a:chExt cx="9159840" cy="254160"/>
            </a:xfrm>
          </p:grpSpPr>
          <p:grpSp>
            <p:nvGrpSpPr>
              <p:cNvPr id="63" name="Freeform 11"/>
              <p:cNvGrpSpPr/>
              <p:nvPr/>
            </p:nvGrpSpPr>
            <p:grpSpPr>
              <a:xfrm>
                <a:off x="0" y="142560"/>
                <a:ext cx="9159840" cy="254160"/>
                <a:chOff x="0" y="142560"/>
                <a:chExt cx="9159840" cy="254160"/>
              </a:xfrm>
            </p:grpSpPr>
            <p:pic>
              <p:nvPicPr>
                <p:cNvPr id="64" name="Freeform 1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80" y="142560"/>
                  <a:ext cx="9149760" cy="25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12"/>
              <p:cNvGrpSpPr/>
              <p:nvPr/>
            </p:nvGrpSpPr>
            <p:grpSpPr>
              <a:xfrm>
                <a:off x="0" y="142560"/>
                <a:ext cx="9159840" cy="237240"/>
                <a:chOff x="0" y="142560"/>
                <a:chExt cx="9159840" cy="237240"/>
              </a:xfrm>
            </p:grpSpPr>
            <p:pic>
              <p:nvPicPr>
                <p:cNvPr id="67" name="Freeform 12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20" y="142560"/>
                  <a:ext cx="9153720" cy="237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21435600">
                  <a:off x="0" y="282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3938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8160" algn="ctr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77760" algn="ctr">
              <a:spcBef>
                <a:spcPts val="425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4" marL="1252440" algn="ctr">
              <a:spcBef>
                <a:spcPts val="425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5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6" marL="1252440">
              <a:spcBef>
                <a:spcPts val="425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64646"/>
                </a:solidFill>
                <a:latin typeface="Verdana"/>
              </a:rPr>
              <a:t>Building Java Programs</a:t>
            </a:r>
            <a:endParaRPr b="0" lang="en-US" sz="48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cture 1: Java Revie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ading: Ch. 1-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division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/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we divide integers, the quotient is also an integ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/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no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    5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) 14           10 ) 45               27 ) 14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                5                      7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e examples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2 /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4 /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6 /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ing by 0 causes an error when your program ru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teger remainder with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%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perator computes the remainder from integer divi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 %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8 % 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7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   4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4 ) 14              5 ) 2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18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pplications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perato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digit of a number: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0857 % 1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 last 4 digit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58236489 % 100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48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whether a number is odd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 %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2006640"/>
            <a:ext cx="2819520" cy="18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resul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5 %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%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% 2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 %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62280" y="3922560"/>
            <a:ext cx="11062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00120" y="3649680"/>
            <a:ext cx="93672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490760" y="3152880"/>
            <a:ext cx="99036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recedenc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eced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rder in which operators are evaluat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lly operators evaluate left-to-righ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- 2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- 2) -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which 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/%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have a higher level of precedence th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-</a:t>
            </a:r>
            <a:br>
              <a:rPr sz="2000"/>
            </a:br>
            <a:br>
              <a:rPr sz="800"/>
            </a:br>
            <a:br>
              <a:rPr sz="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 /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   *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 +     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heses can force a certain order of evalua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1 + 3) * 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acing does not affect order of evalu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+3 * 4-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968640" y="5205240"/>
            <a:ext cx="1766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 concaten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 concatena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etween a string and another value to make a longer st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" + 4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ello4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"abc"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abc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1 + 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12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2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" + 9 *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bc27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"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1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- 1 + "abc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3abc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print a string and an expression's value toge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Grade: "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95.1 + 71.9) /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: 83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s (2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iece of the computer's memory that is given a name and type, and can store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variable can be declared/initialized in one statemen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yGPA = 3.95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 = (11 % 3) + 1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562720" y="4140360"/>
          <a:ext cx="1981080" cy="6602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</a:tblGrid>
              <a:tr h="66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5562720" y="5130720"/>
          <a:ext cx="3047760" cy="660600"/>
        </p:xfrm>
        <a:graphic>
          <a:graphicData uri="http://schemas.openxmlformats.org/drawingml/2006/table">
            <a:tbl>
              <a:tblPr/>
              <a:tblGrid>
                <a:gridCol w="990360"/>
                <a:gridCol w="2057400"/>
              </a:tblGrid>
              <a:tr h="660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cast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 cas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conversion from one type to anoth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promote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get exact division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runc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rom a real number to 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nt x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Math.pow(10, 3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770040" y="5073480"/>
            <a:ext cx="7905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779400" y="4043520"/>
            <a:ext cx="4492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crement and decrement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shortcuts to increase or decrease a variable's value by 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now stores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2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pa--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now stores 1.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Modify-and-assign operato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ortcuts to modify a variable's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hand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quivalent longer ver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/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%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+= 3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x +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pa -= 0.5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pa = gpa - 0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113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*= 2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number = number *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2133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fo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2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itializ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eat the follow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eck if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true.  If not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to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form th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pdat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6781680" y="1403280"/>
            <a:ext cx="457200" cy="1904760"/>
            <a:chOff x="6781680" y="1403280"/>
            <a:chExt cx="457200" cy="1904760"/>
          </a:xfrm>
        </p:grpSpPr>
        <p:sp>
          <p:nvSpPr>
            <p:cNvPr id="186" name="AutoShape 5"/>
            <p:cNvSpPr/>
            <p:nvPr/>
          </p:nvSpPr>
          <p:spPr>
            <a:xfrm>
              <a:off x="6781680" y="1922760"/>
              <a:ext cx="457200" cy="13852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36000 h 1385280"/>
                <a:gd name="textAreaBottom" fmla="*/ 1349280 h 138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od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AutoShape 6"/>
            <p:cNvSpPr/>
            <p:nvPr/>
          </p:nvSpPr>
          <p:spPr>
            <a:xfrm>
              <a:off x="6781680" y="1403280"/>
              <a:ext cx="457200" cy="432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1160 h 432720"/>
                <a:gd name="textAreaBottom" fmla="*/ 421560 h 43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ader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531800" y="3016080"/>
            <a:ext cx="2514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ints without moving to a new li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you to print partial messages on the sam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ighestTemp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-3; i &lt;= highestTemp / 2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(i * 1.8 + 32) + " 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6.6  28.4  30.2  32.0  33.8  35.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Java program (1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very executable Java program consists of a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at contains a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named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at contains th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(commands) to be execut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18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21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24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ested loop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sted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op placed inside another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4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j = 1; j &lt;= 5; j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(i * j) + "\t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2    3    4    5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4    6    8    10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6    9    12   15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8    12   16   2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s in the outer loop's body are executed 4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ner loop prints 5 numbers each time it is ru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riable scop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cop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he part of a program where a variable exis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its declaration to the end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r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oop exists only in that loop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variable declared in a method exists only in that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x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 no longer exists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ceases to exist h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6095880" y="3886200"/>
            <a:ext cx="838440" cy="1447920"/>
          </a:xfrm>
          <a:custGeom>
            <a:avLst/>
            <a:gdLst>
              <a:gd name="textAreaLeft" fmla="*/ 0 w 838440"/>
              <a:gd name="textAreaRight" fmla="*/ 302760 w 8384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's sco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AutoShape 5" descr=""/>
          <p:cNvPicPr/>
          <p:nvPr/>
        </p:nvPicPr>
        <p:blipFill>
          <a:blip r:embed="rId2"/>
          <a:stretch/>
        </p:blipFill>
        <p:spPr>
          <a:xfrm>
            <a:off x="76320" y="3962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 constants (2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 const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visible to the whole progra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 only be set at decla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lue can't be changed while the program is ru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is usually in ALL_UPPER_C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DAYS_IN_WEEK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double INTEREST_RATE = 3.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nal int SSN = 658234569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rameters (3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passed to a method by its call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ead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draw any leng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declar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, we will state that it requires a parameter for the number of sta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all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method, we will specify how many stars to dra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202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assing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42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yPassword(12345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password is: 1234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Ma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1295280"/>
          <a:ext cx="6643800" cy="527076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6296040" y="495288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 (3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send out a value as the result of a meth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posite of a paramet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ameter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the caller to the metho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turn values send information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om a method to its call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144880" y="3429000"/>
            <a:ext cx="4904640" cy="2430720"/>
            <a:chOff x="2144880" y="3429000"/>
            <a:chExt cx="4904640" cy="2430720"/>
          </a:xfrm>
        </p:grpSpPr>
        <p:sp>
          <p:nvSpPr>
            <p:cNvPr id="221" name=""/>
            <p:cNvSpPr/>
            <p:nvPr/>
          </p:nvSpPr>
          <p:spPr>
            <a:xfrm>
              <a:off x="2144880" y="430524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966760" y="3508200"/>
              <a:ext cx="1447560" cy="9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30520" y="3429000"/>
              <a:ext cx="20095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abs(42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6400" y="3492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9760" y="4703400"/>
              <a:ext cx="1474560" cy="7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30520" y="546084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890800" y="4799880"/>
              <a:ext cx="152352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080" y="472716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119040" y="3812760"/>
              <a:ext cx="129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440" y="4025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09560" y="5244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>
            <a:off x="2590920" y="4343400"/>
            <a:ext cx="8650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219320" y="5181480"/>
            <a:ext cx="20574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turning a valu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rings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storing a sequence of text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s of a string are numbered with 0-bas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ndex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"P. Diddy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irst character's index is always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character's index is 1 less than the string's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dividual characters are value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97160" y="3886200"/>
          <a:ext cx="6375240" cy="906480"/>
        </p:xfrm>
        <a:graphic>
          <a:graphicData uri="http://schemas.openxmlformats.org/drawingml/2006/table">
            <a:tbl>
              <a:tblPr/>
              <a:tblGrid>
                <a:gridCol w="1218960"/>
                <a:gridCol w="644400"/>
                <a:gridCol w="646200"/>
                <a:gridCol w="642960"/>
                <a:gridCol w="644400"/>
                <a:gridCol w="644760"/>
                <a:gridCol w="644400"/>
                <a:gridCol w="644400"/>
                <a:gridCol w="64476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methods are called using the dot not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2280" y="1371600"/>
          <a:ext cx="8839440" cy="312732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 where the start of the given string appears in this string (-1 if it is not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64646"/>
                </a:solidFill>
                <a:latin typeface="Courier New"/>
              </a:rPr>
              <a:t>System.out.println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 statement that prints a line of output on the conso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onounced "print-lin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metimes called a "println statement" for 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wo ways to us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the given message as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ints a blank line of out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test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Are you single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LUMBERG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I need your TPS reports.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488960" y="2711520"/>
            <a:ext cx="2867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equal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jects are compared using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chnically this is a method that returns a value of 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ype used in logical tes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primitive type representing single charac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haracter insid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stor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ter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are surrounded with apostrop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ingle-quote) marks, 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legal to have variables, parameters, returns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etter = 'S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alues can be concatenated with string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initial = 'P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itial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cha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vs.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  <a:ea typeface="Courier New"/>
              </a:rPr>
              <a:t>String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the two behave differentl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an object; it contains metho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primitive; you can't call methods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c.toUpperCase();   </a:t>
            </a:r>
            <a:r>
              <a:rPr b="1" lang="en-US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// ERROR: "cannot be dereferenced"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 algn="ctr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ystem.out.printf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86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ormat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ormat string contai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aceholder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sert parameters into i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righ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-8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nteger, 8 characters wide, left-alig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.4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4 characters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6.2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al number, 6 characters wide, 2 after 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6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-2286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, y = 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(%d, %d)\n", x, y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3,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out.printf("%4d %4.2f\n", x, y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   3 2.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rawingPanel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G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Canvas" objects that represents windows/drawing surfa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create a wind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indow has nothing on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can draw shapes and lin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it using another object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46360" cy="990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5861880" y="4435560"/>
            <a:ext cx="2463120" cy="1662120"/>
            <a:chOff x="5861880" y="4435560"/>
            <a:chExt cx="2463120" cy="1662120"/>
          </a:xfrm>
        </p:grpSpPr>
        <p:grpSp>
          <p:nvGrpSpPr>
            <p:cNvPr id="259" name=""/>
            <p:cNvGrpSpPr/>
            <p:nvPr/>
          </p:nvGrpSpPr>
          <p:grpSpPr>
            <a:xfrm>
              <a:off x="6473880" y="4825800"/>
              <a:ext cx="1371600" cy="913680"/>
              <a:chOff x="6473880" y="4825800"/>
              <a:chExt cx="1371600" cy="913680"/>
            </a:xfrm>
          </p:grpSpPr>
          <p:sp>
            <p:nvSpPr>
              <p:cNvPr id="260" name=""/>
              <p:cNvSpPr/>
              <p:nvPr/>
            </p:nvSpPr>
            <p:spPr>
              <a:xfrm>
                <a:off x="6550200" y="4901760"/>
                <a:ext cx="1295280" cy="83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550200" y="48258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473880" y="4901760"/>
                <a:ext cx="0" cy="83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7863840" y="45702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x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56800" y="5698800"/>
              <a:ext cx="45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y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61880" y="4435560"/>
              <a:ext cx="75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(0, 0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"Pen" objects that can draw lines and sha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 it by 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you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raw shapes by calling method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175600" y="304920"/>
            <a:ext cx="81612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Graphic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57240" y="1511280"/>
          <a:ext cx="9029520" cy="427968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Col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reate one using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d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en-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ue (RGB) values from 0-25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 use a predefin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lass constant  (more common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ANT_NAM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one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996920"/>
                <a:tab algn="l" pos="3825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8153280" y="380880"/>
            <a:ext cx="83988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3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bject with metho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intended to be used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use a second object, from a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o help u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to read console inpu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Static methods (1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: A named group of stat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notes the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structur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of a progr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liminates </a:t>
            </a:r>
            <a:r>
              <a:rPr b="0" i="1" lang="en-GB" sz="1800" spc="-1" strike="noStrike">
                <a:solidFill>
                  <a:srgbClr val="000000"/>
                </a:solidFill>
                <a:latin typeface="Verdana"/>
              </a:rPr>
              <a:t>redundancy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by code re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cedural decompositio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viding a problem into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riting a static method is lik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dding a new command to Jav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3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value typed is return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'll be 40 in " +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40 - age) + " years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90000"/>
              </a:lnSpc>
              <a:spcBef>
                <a:spcPts val="49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mp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message telling the user what input to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762120" y="1324080"/>
          <a:ext cx="7605720" cy="1976400"/>
        </p:xfrm>
        <a:graphic>
          <a:graphicData uri="http://schemas.openxmlformats.org/drawingml/2006/table">
            <a:tbl>
              <a:tblPr/>
              <a:tblGrid>
                <a:gridCol w="2346480"/>
                <a:gridCol w="525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ds a token of user input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reads a 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 of user input as a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esting for valid input (5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thods to see what the next token will b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methods do not consume inpu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just give information about the nex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ful to see what input is coming, and to avoid crash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04920" y="1800360"/>
          <a:ext cx="8663040" cy="3255840"/>
        </p:xfrm>
        <a:graphic>
          <a:graphicData uri="http://schemas.openxmlformats.org/drawingml/2006/table">
            <a:tbl>
              <a:tblPr/>
              <a:tblGrid>
                <a:gridCol w="24699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tokens of input to read   </a:t>
                      </a:r>
                      <a:r>
                        <a:rPr b="0" i="1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is a next toke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it can be read a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has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if there are any more lines of input to read   </a:t>
                      </a:r>
                      <a:r>
                        <a:rPr b="0" lang="en-US" sz="18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(always true for console 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36720" y="1886040"/>
            <a:ext cx="165420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umulative sum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loop that adds the numbers from 1-100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Key ide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mulative sum variables must be declar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utsid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oops that update them, so that they will exist after the lo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4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3657600" cy="237312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ecutes one block if a test is true, another if fal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lational 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is the same as in a </a:t>
            </a: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loop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a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s, seen in Ch. 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sts use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219320" y="382896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Logical operators: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&amp;&amp;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||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,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!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ditions can be combined using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logical operat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"Truth tables" for each, used with logical values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04840" y="419112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6226200" y="4191120"/>
          <a:ext cx="1774800" cy="109512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yp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oolean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logical type whose values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xpress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re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s,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meter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s from methods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minor = (age &lt; 2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expensive = iPhonePrice &gt; 200.0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iLoveCS = tru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Can't purchase alcohol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LoveCS || !expensiv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uying an iPhone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De Morgan's La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 Morgan's Law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ules used to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egat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ever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oolean expression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want the opposite of a known boolean te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666880"/>
          <a:ext cx="7756560" cy="137160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57200" y="4800600"/>
          <a:ext cx="8229600" cy="1582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!= 7 || y &lt;=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if/els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Structure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060720" y="3886200"/>
            <a:ext cx="9777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5" name=""/>
          <p:cNvGraphicFramePr/>
          <p:nvPr/>
        </p:nvGraphicFramePr>
        <p:xfrm>
          <a:off x="0" y="1295280"/>
          <a:ext cx="9144000" cy="49179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2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ly 1 path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51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or 1 path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spcBef>
                          <a:spcPts val="400"/>
                        </a:spcBef>
                        <a:buClr>
                          <a:srgbClr val="eb641b"/>
                        </a:buClr>
                        <a:buSzPct val="95000"/>
                        <a:buFont typeface="Wingdings 2" charset="2"/>
                        <a:buChar char="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 1, or many paths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independent tests,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2743200" y="1924200"/>
            <a:ext cx="1752480" cy="13665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7238880" y="1752480"/>
            <a:ext cx="1828800" cy="15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loops (4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encepost probl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When we want to repeat two tasks, one of them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, anothe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n+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im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a statement outside the loop to place the initial "post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so called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encepost loo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r a "loop-and-a-half" solu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gorithm templ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or (length of fence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- 1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some wi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lace a p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286000" y="5486400"/>
            <a:ext cx="4191120" cy="990360"/>
            <a:chOff x="2286000" y="5486400"/>
            <a:chExt cx="4191120" cy="990360"/>
          </a:xfrm>
        </p:grpSpPr>
        <p:grpSp>
          <p:nvGrpSpPr>
            <p:cNvPr id="311" name="Group 5"/>
            <p:cNvGrpSpPr/>
            <p:nvPr/>
          </p:nvGrpSpPr>
          <p:grpSpPr>
            <a:xfrm>
              <a:off x="2286000" y="5486400"/>
              <a:ext cx="990360" cy="990360"/>
              <a:chOff x="2286000" y="5486400"/>
              <a:chExt cx="990360" cy="990360"/>
            </a:xfrm>
          </p:grpSpPr>
          <p:sp>
            <p:nvSpPr>
              <p:cNvPr id="312" name="Rectangle 6"/>
              <p:cNvSpPr/>
              <p:nvPr/>
            </p:nvSpPr>
            <p:spPr>
              <a:xfrm>
                <a:off x="22860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3" name="Group 7"/>
              <p:cNvGrpSpPr/>
              <p:nvPr/>
            </p:nvGrpSpPr>
            <p:grpSpPr>
              <a:xfrm>
                <a:off x="2514600" y="5638680"/>
                <a:ext cx="761760" cy="380160"/>
                <a:chOff x="2514600" y="5638680"/>
                <a:chExt cx="761760" cy="380160"/>
              </a:xfrm>
            </p:grpSpPr>
            <p:sp>
              <p:nvSpPr>
                <p:cNvPr id="314" name="Rectangle 8"/>
                <p:cNvSpPr/>
                <p:nvPr/>
              </p:nvSpPr>
              <p:spPr>
                <a:xfrm>
                  <a:off x="25146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5" name="Rectangle 9"/>
                <p:cNvSpPr/>
                <p:nvPr/>
              </p:nvSpPr>
              <p:spPr>
                <a:xfrm>
                  <a:off x="25146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16" name="Group 10"/>
            <p:cNvGrpSpPr/>
            <p:nvPr/>
          </p:nvGrpSpPr>
          <p:grpSpPr>
            <a:xfrm>
              <a:off x="3276720" y="5486400"/>
              <a:ext cx="990360" cy="990360"/>
              <a:chOff x="3276720" y="5486400"/>
              <a:chExt cx="990360" cy="990360"/>
            </a:xfrm>
          </p:grpSpPr>
          <p:sp>
            <p:nvSpPr>
              <p:cNvPr id="317" name="Rectangle 11"/>
              <p:cNvSpPr/>
              <p:nvPr/>
            </p:nvSpPr>
            <p:spPr>
              <a:xfrm>
                <a:off x="327672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18" name="Group 12"/>
              <p:cNvGrpSpPr/>
              <p:nvPr/>
            </p:nvGrpSpPr>
            <p:grpSpPr>
              <a:xfrm>
                <a:off x="3505320" y="5638680"/>
                <a:ext cx="761760" cy="380160"/>
                <a:chOff x="3505320" y="5638680"/>
                <a:chExt cx="761760" cy="380160"/>
              </a:xfrm>
            </p:grpSpPr>
            <p:sp>
              <p:nvSpPr>
                <p:cNvPr id="319" name="Rectangle 13"/>
                <p:cNvSpPr/>
                <p:nvPr/>
              </p:nvSpPr>
              <p:spPr>
                <a:xfrm>
                  <a:off x="350532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0" name="Rectangle 14"/>
                <p:cNvSpPr/>
                <p:nvPr/>
              </p:nvSpPr>
              <p:spPr>
                <a:xfrm>
                  <a:off x="350532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1" name="Group 15"/>
            <p:cNvGrpSpPr/>
            <p:nvPr/>
          </p:nvGrpSpPr>
          <p:grpSpPr>
            <a:xfrm>
              <a:off x="4267440" y="5486400"/>
              <a:ext cx="990360" cy="990360"/>
              <a:chOff x="4267440" y="5486400"/>
              <a:chExt cx="990360" cy="990360"/>
            </a:xfrm>
          </p:grpSpPr>
          <p:sp>
            <p:nvSpPr>
              <p:cNvPr id="322" name="Rectangle 16"/>
              <p:cNvSpPr/>
              <p:nvPr/>
            </p:nvSpPr>
            <p:spPr>
              <a:xfrm>
                <a:off x="426744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3" name="Group 17"/>
              <p:cNvGrpSpPr/>
              <p:nvPr/>
            </p:nvGrpSpPr>
            <p:grpSpPr>
              <a:xfrm>
                <a:off x="4496040" y="5638680"/>
                <a:ext cx="761760" cy="380160"/>
                <a:chOff x="4496040" y="5638680"/>
                <a:chExt cx="761760" cy="380160"/>
              </a:xfrm>
            </p:grpSpPr>
            <p:sp>
              <p:nvSpPr>
                <p:cNvPr id="324" name="Rectangle 18"/>
                <p:cNvSpPr/>
                <p:nvPr/>
              </p:nvSpPr>
              <p:spPr>
                <a:xfrm>
                  <a:off x="449604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5" name="Rectangle 19"/>
                <p:cNvSpPr/>
                <p:nvPr/>
              </p:nvSpPr>
              <p:spPr>
                <a:xfrm>
                  <a:off x="449604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26" name="Group 20"/>
            <p:cNvGrpSpPr/>
            <p:nvPr/>
          </p:nvGrpSpPr>
          <p:grpSpPr>
            <a:xfrm>
              <a:off x="5257800" y="5486400"/>
              <a:ext cx="990360" cy="990360"/>
              <a:chOff x="5257800" y="5486400"/>
              <a:chExt cx="990360" cy="990360"/>
            </a:xfrm>
          </p:grpSpPr>
          <p:sp>
            <p:nvSpPr>
              <p:cNvPr id="327" name="Rectangle 21"/>
              <p:cNvSpPr/>
              <p:nvPr/>
            </p:nvSpPr>
            <p:spPr>
              <a:xfrm>
                <a:off x="5257800" y="5486400"/>
                <a:ext cx="228600" cy="990360"/>
              </a:xfrm>
              <a:prstGeom prst="rect">
                <a:avLst/>
              </a:prstGeom>
              <a:solidFill>
                <a:srgbClr val="2da2b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328" name="Group 22"/>
              <p:cNvGrpSpPr/>
              <p:nvPr/>
            </p:nvGrpSpPr>
            <p:grpSpPr>
              <a:xfrm>
                <a:off x="5486400" y="5638680"/>
                <a:ext cx="761760" cy="380160"/>
                <a:chOff x="5486400" y="5638680"/>
                <a:chExt cx="761760" cy="380160"/>
              </a:xfrm>
            </p:grpSpPr>
            <p:sp>
              <p:nvSpPr>
                <p:cNvPr id="329" name="Rectangle 23"/>
                <p:cNvSpPr/>
                <p:nvPr/>
              </p:nvSpPr>
              <p:spPr>
                <a:xfrm>
                  <a:off x="5486400" y="5638680"/>
                  <a:ext cx="761760" cy="7560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0" name="Rectangle 24"/>
                <p:cNvSpPr/>
                <p:nvPr/>
              </p:nvSpPr>
              <p:spPr>
                <a:xfrm>
                  <a:off x="5486400" y="5942880"/>
                  <a:ext cx="761760" cy="75960"/>
                </a:xfrm>
                <a:prstGeom prst="rect">
                  <a:avLst/>
                </a:prstGeom>
                <a:solidFill>
                  <a:srgbClr val="2da2b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331" name="Rectangle 25"/>
            <p:cNvSpPr/>
            <p:nvPr/>
          </p:nvSpPr>
          <p:spPr>
            <a:xfrm>
              <a:off x="6248520" y="5486400"/>
              <a:ext cx="228600" cy="990360"/>
            </a:xfrm>
            <a:prstGeom prst="rect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1371240"/>
            <a:ext cx="8918640" cy="47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Gives your method a name so it can be execu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32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lnSpc>
                <a:spcPct val="9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br>
              <a:rPr sz="2200"/>
            </a:br>
            <a:br>
              <a:rPr sz="700"/>
            </a:br>
            <a:br>
              <a:rPr sz="8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.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emen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6240" indent="-336240">
              <a:spcBef>
                <a:spcPts val="1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br>
              <a:rPr sz="2200"/>
            </a:br>
            <a:br>
              <a:rPr sz="7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0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Declar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encepost method solu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rite a metho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prints each number from 1 to a given maximum, separated by commas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 example, the 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ould prin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u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while"/>
          <p:cNvPicPr/>
          <p:nvPr/>
        </p:nvPicPr>
        <p:blipFill>
          <a:blip r:embed="rId2"/>
          <a:stretch/>
        </p:blipFill>
        <p:spPr>
          <a:xfrm>
            <a:off x="6477120" y="1089000"/>
            <a:ext cx="2590560" cy="24638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Repeatedly executes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as long as a logical test is tr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2 4 8 16 32 64 12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do/while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loops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oop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ecutes statements repeatedly while a condition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testing it at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each repet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3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 until the user gets the right pass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Password: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Random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 (5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generates pseudo-random* numb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found in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ck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udents ne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test if a resul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this is unnecessary and redundant.  Preferred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imilar pattern can be used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es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thOdd(7, 13) == 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!bothOdd(7, 13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"Boolean Zen", part 2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hods that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ften have 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7120" indent="-26712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ation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s unnecessa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r logical test is itsel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lue; so return that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26760" indent="-240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(5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atement: Immediately exits a loo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used to write a loop whose test is in the midd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h loops are often 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forever" loop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ecause their header's boolean test is often changed to a triv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grammers consid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be bad sty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4952880" y="4327560"/>
            <a:ext cx="33530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Reading files (6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read a file, pas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en constructing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canner(new File("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le file = new File("mydata.txt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, better y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File("mydata.txt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row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use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cla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Keywords on a method's header that state that it may generate an excep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ke saying,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"I hereby announce that this method might throw an exception, and I accept the consequences if it happens.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put tokens (6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unit of user input, separated by whitespa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plits a file's contents into toke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f an input file contains the follow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 3.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 Smith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interpret the tokens as the following typ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ke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ype(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14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Joh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mith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974880" y="2971800"/>
            <a:ext cx="2301840" cy="708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alling a metho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Executes the method's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You can call the same method many times if you lik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40000"/>
              </a:lnSpc>
              <a:spcBef>
                <a:spcPts val="45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les and input curso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der a fi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.tx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contains this text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4.9 7.4  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.9 4.7    -15.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ews all input as a stream of character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put cur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urrent position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905120"/>
            <a:ext cx="25909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" y="4330800"/>
            <a:ext cx="787068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uming toke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uming inp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ading input and advancing the curs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tc. moves the cursor past the current tok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 x = input.nextDouble(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308.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08.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   14.9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s = input.nex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14.9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8.2\n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4.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7.4  2.8\n\n3.9 4.7   -15.4\n  2.8\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934920" y="2509920"/>
            <a:ext cx="7871040" cy="33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922320" y="384336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922320" y="5181480"/>
            <a:ext cx="7870680" cy="3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cann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except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Mismatch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the wrong type of token (e.g. rea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read past the end of the inp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ding and fixing these exception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 the exception text for line numbers in your code (the first line that mentions your file; often near the bottom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Exception in thread "main" java.util.NoSuchElement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throwFor(Scanner.java:83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java.util.Scanner.next(Scanner.java:134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t CountTokens.sillyMethod(CountTokens.java:1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at CountTokens.main(CountTokens.java:6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put to files (6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object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package that lets you print output to a destination such as a fi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methods you have used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such a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will work o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PrintStream(new File("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le 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put = new PrintStream(new File("out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Hello, file!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.println("This is a second line of output.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System.out</a:t>
            </a: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 and </a:t>
            </a:r>
            <a:r>
              <a:rPr b="0" lang="en-US" sz="4000" spc="-1" strike="noStrike">
                <a:solidFill>
                  <a:srgbClr val="464646"/>
                </a:solidFill>
                <a:latin typeface="Courier New"/>
              </a:rPr>
              <a:t>PrintStream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console output object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Stream out1 = System.ou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Stream out2 = new PrintStream(new File("data.txt")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1.println("Hello, conso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oes to conso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2.println("Hello, file!"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// goes to f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reference to it can be stored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ari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inting to that variable causes console output to appe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p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s a parameter to a method expecting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Strea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s methods that can send output to the console or a f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(7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bject that stores many values of the same typ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One value in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 0-based integer to access an element from an arr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74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375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376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7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8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379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0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81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382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83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 declar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74760" indent="-285840"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ccessing element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ut-of-boun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gal indexes: betwee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ray's length - 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ding or writing any index outside this range will throw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0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data[9]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127160" y="4876920"/>
          <a:ext cx="641664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3986280" y="2538360"/>
            <a:ext cx="216360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length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field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 array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ield stores its number of elemen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does not use parentheses like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en a method is called, the program's execution..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into that method, executing its statements, th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jumps" back to the point where the method was call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70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14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14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14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64646"/>
                </a:solidFill>
                <a:latin typeface="Verdana"/>
              </a:rPr>
              <a:t>Control flow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Quick array initializa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…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ful when you know what the array's elements will b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piler figures out the size by counting the val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Array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in packag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has useful static methods for manipulating array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76320" y="2266920"/>
          <a:ext cx="8991360" cy="4200480"/>
        </p:xfrm>
        <a:graphic>
          <a:graphicData uri="http://schemas.openxmlformats.org/drawingml/2006/table">
            <a:tbl>
              <a:tblPr/>
              <a:tblGrid>
                <a:gridCol w="4190760"/>
                <a:gridCol w="4800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the index of the given value in a sorted array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if the two arrays contain the same elements in the same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ts every element in the array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nges the elements in the array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ra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17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parameter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arra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scores = {13, 17, 12, 15, 11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avg =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ore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rrays as retur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countDigits(int n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unt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tally = countDigits(229231007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rrays.toString(tally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Value semantics (primitives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u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lues are copied when assigned to each other or passed as paramete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primitive variable is assigned to another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s value is copi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does not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6572160" y="41148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6572160" y="48769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Verdana"/>
              </a:rPr>
              <a:t>Reference semantics (objects)</a:t>
            </a:r>
            <a:endParaRPr b="0" lang="en-US" sz="40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eference semantic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Behavior where variables actually store the address of an object in memor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ne reference variable is assigned to another, the object i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pied; both variables refer to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ame obje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ifying the value of one variabl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ffect oth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3429000" y="52070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15" name=""/>
          <p:cNvGrpSpPr/>
          <p:nvPr/>
        </p:nvGrpSpPr>
        <p:grpSpPr>
          <a:xfrm>
            <a:off x="685800" y="5181480"/>
            <a:ext cx="2438280" cy="444240"/>
            <a:chOff x="685800" y="5181480"/>
            <a:chExt cx="2438280" cy="444240"/>
          </a:xfrm>
        </p:grpSpPr>
        <p:sp>
          <p:nvSpPr>
            <p:cNvPr id="416" name=""/>
            <p:cNvSpPr/>
            <p:nvPr/>
          </p:nvSpPr>
          <p:spPr>
            <a:xfrm>
              <a:off x="685800" y="51814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09680" y="539712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854000" y="52052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5800" y="5943240"/>
            <a:ext cx="2438280" cy="457560"/>
            <a:chOff x="685800" y="5943240"/>
            <a:chExt cx="2438280" cy="457560"/>
          </a:xfrm>
        </p:grpSpPr>
        <p:sp>
          <p:nvSpPr>
            <p:cNvPr id="420" name=""/>
            <p:cNvSpPr/>
            <p:nvPr/>
          </p:nvSpPr>
          <p:spPr>
            <a:xfrm>
              <a:off x="685800" y="595656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209680" y="594324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54000" y="598032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reference that does not refer to any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elds of an object that refer to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lements of an array of objects are initialized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3389400" y="38098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371760" y="51055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7" name=""/>
          <p:cNvGrpSpPr/>
          <p:nvPr/>
        </p:nvGrpSpPr>
        <p:grpSpPr>
          <a:xfrm>
            <a:off x="838080" y="4191120"/>
            <a:ext cx="2286000" cy="444240"/>
            <a:chOff x="838080" y="4191120"/>
            <a:chExt cx="2286000" cy="444240"/>
          </a:xfrm>
        </p:grpSpPr>
        <p:sp>
          <p:nvSpPr>
            <p:cNvPr id="428" name=""/>
            <p:cNvSpPr/>
            <p:nvPr/>
          </p:nvSpPr>
          <p:spPr>
            <a:xfrm>
              <a:off x="838080" y="41911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2320" y="44067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6640" y="42145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09480" y="5423040"/>
            <a:ext cx="2514600" cy="444240"/>
            <a:chOff x="609480" y="5423040"/>
            <a:chExt cx="2514600" cy="444240"/>
          </a:xfrm>
        </p:grpSpPr>
        <p:sp>
          <p:nvSpPr>
            <p:cNvPr id="432" name=""/>
            <p:cNvSpPr/>
            <p:nvPr/>
          </p:nvSpPr>
          <p:spPr>
            <a:xfrm>
              <a:off x="609480" y="54230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Verdan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361960" y="56386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6280" y="54464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Null pointer exception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refere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access data or methods of an object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illegal to dereferenc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causes an excepti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not any object, so it has no methods o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lasses and objects (8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program entity that represents either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gram / module, 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template for a new type of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lass is a template for creat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0">
              <a:spcBef>
                <a:spcPts val="499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n entity that combines state and 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0480" indent="-2332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-oriented programming (OOP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rograms that perform their behavior as interactions between objec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Fields (8.2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fiel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riable inside an object that is part of it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object h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ts own cop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each fiel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capsul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Declaring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hide their da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ach object now h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double gpa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name and gpa 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Java's primitive types (2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imitive typ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8 simple types for numbers, tex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va also ha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 typ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which we'll talk about l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scription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2639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 number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.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0.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9.4e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single text character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a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X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?'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'\n'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logical values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909090"/>
                </a:solidFill>
                <a:latin typeface="Verdana"/>
              </a:rPr>
              <a:t>,  </a:t>
            </a:r>
            <a:r>
              <a:rPr b="0" lang="en-US" sz="1800" spc="-1" strike="noStrike">
                <a:solidFill>
                  <a:srgbClr val="90909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44b9e8"/>
              </a:buClr>
              <a:buSzPct val="85000"/>
              <a:buFont typeface="Verdana"/>
              <a:buChar char="•"/>
              <a:tabLst>
                <a:tab algn="l" pos="22860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y does Java distinguish integers vs. real numb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stance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stance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One that exists inside each object of a class and defines behavior of that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syntax as static methods, but withou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"/>
          <p:cNvSpPr/>
          <p:nvPr/>
        </p:nvSpPr>
        <p:spPr>
          <a:xfrm>
            <a:off x="829476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7837560" y="340056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6473880" y="3398760"/>
            <a:ext cx="191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4795920" y="3408480"/>
            <a:ext cx="19188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027320" y="3095640"/>
            <a:ext cx="1922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3570120" y="3097080"/>
            <a:ext cx="1922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A </a:t>
            </a: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Point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clas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data fields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bject contains a method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at draws that point at its curre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si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The implicit parameter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object on which an instance method is call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ring the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 referred to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the implicit parame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tance method can refer to that object's fiel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ay that it executes in the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a particular obje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lnSpc>
                <a:spcPct val="120000"/>
              </a:lnSpc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n refer to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object it was called 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Kinds of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stance methods take advantage of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methods allow clients to access/modify its st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ccess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lets clients examine object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tells how far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way from (0, 0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ssors often have a non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turn typ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uta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method that modifies an object's st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that shifts the position of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a given amou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Constructors (8.4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nstruct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Initializes the state of new objec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8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ns when the client use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keywo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specify a return type; implicitly returns a new ob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3800" indent="-235800">
              <a:lnSpc>
                <a:spcPct val="12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 class has no constructor, Java gives it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default construc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no parameters that sets all fields to 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oString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method (8.6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lls Java how to convert an object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that returns a suitable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lled when an object is printed/concaten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1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class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ven if it isn't in your cod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ault is class's name and a hex number: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this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8.7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: A reference to the implicit parame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76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implicit parameter: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bject on which a method is call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yntax for us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refer to a fiel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e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method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call a constructor from another constru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Static method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tatic meth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Part of a class, not part of an ob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ared by all objects of that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for code related to a class but not to each object's st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understan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mplicit paramet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fore, cannot access an object's fields direct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can be called from inside or outside th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laration syntax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atement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nheritanc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way to form new classes based on existing classes, taking on their attributes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group relat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way to share code between two or more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e class can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exte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other, absorbing its data/behavi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parent class that is being extend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The child class that extends the superclass and inherits its behavi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bclass gets a copy of every field and method from super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Inheritance syntax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per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46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exten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bject now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ethod automaticall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y client code (seen late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Expressions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 value or operation that computes a valu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Verdana"/>
              <a:buChar char="•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 + 4 *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7 + 2) * 6 /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mplest expression is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teral val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137628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lex expression can use operators and parenthe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Overriding methods (9.1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To write a new version of a method in a subclass that replaces the superclass's vers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special syntax required to override a superclass meth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st write a new version of it in the subcla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VacationForm in Employee cla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Courier New"/>
              </a:rPr>
              <a:t>super</a:t>
            </a: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 keyword (9.3)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classes can call overridden method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39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Verdana"/>
              </a:rPr>
              <a:t>Polymorphism</a:t>
            </a:r>
            <a:endParaRPr b="0" lang="en-US" sz="4400" spc="-1" strike="noStrike">
              <a:solidFill>
                <a:srgbClr val="46464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lymorphis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Ability for the same code to be used with different types of objects and behave differently with eac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an print any type of objec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one displays in its own way on the conso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24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variable of typ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can hold an object of any subclass of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new LegalSecretary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call any methods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-245880">
              <a:spcBef>
                <a:spcPts val="49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 c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 any methods specific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3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a method is called, it behaves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5000.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Marty Stepp</dc:creator>
  <dc:description/>
  <dc:language>en-US</dc:language>
  <cp:lastModifiedBy>Registered User</cp:lastModifiedBy>
  <cp:lastPrinted>2009-04-22T19:24:48Z</cp:lastPrinted>
  <dcterms:modified xsi:type="dcterms:W3CDTF">2009-01-04T14:17:16Z</dcterms:modified>
  <cp:revision>1460</cp:revision>
  <dc:subject/>
  <dc:title>Building Java Programs</dc:title>
</cp:coreProperties>
</file>