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549F-6B4B-46F7-9E2D-A77743531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7418-E2DB-4328-BFCF-AA22454C4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7E35-E5F1-4FBB-8918-8F4B23E9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1B60-04CA-4419-9956-C502D0ABD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8388-2810-4F0D-9D85-61D837382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're basically going to manipulate letters and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integer / real number distinction in English as well.  We don't ask, "How many do you weigh?" or, "How much sisters do you have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nt/double split is related to how a computer processor crunches numbers.  A CPU does integer computations and a Floating Point Unit (FPU) does real number comp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Java separate int and double?  Why not use one combined type called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E6D1-BCF7-4CC3-B088-5D6962AFE1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890F-6BCC-4C4F-8576-6858D85D50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E1FC-1611-4765-8E31-1A1B43C3AF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6B7A-E992-42DA-BB78-5D711E9107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788B-AC00-413C-9331-D8791AF645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61D3-CBF3-4797-8072-E00B3F18CB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7CE9-68F7-4967-977A-B9F1F61A9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C6E2-136A-4092-B199-E553C7746F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4A48-9701-4AB0-ADE3-6E8E7C37D5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EA32-4947-4556-A617-A84BBE381A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0840-2592-4E03-8C36-3939EF0254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27CE-873C-4136-B103-685A9BA2E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0FC0-E596-4645-BAA7-DE219490ABF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C506-0E93-4BFD-A8C3-A76D34F29258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: Java Revie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Ch. 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divis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we divide integers, the quotient is also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example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ng by 0 causes an error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remainder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computes the remainder from integer divi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7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erat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digit of a number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4 digit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whether a number is odd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862280" y="3922560"/>
            <a:ext cx="1106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00120" y="3649680"/>
            <a:ext cx="936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490760" y="3152880"/>
            <a:ext cx="9903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eced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rder in which operators are evalu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ly operators evaluate left-to-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which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ve a higher level of precedence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</a:t>
            </a:r>
            <a:br>
              <a:rPr sz="2000"/>
            </a:br>
            <a:br>
              <a:rPr sz="8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heses can force a certain order of evalu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ing does not affect order of evalu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968640" y="5205240"/>
            <a:ext cx="176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 concaten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 concate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a string and another value to make a longer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n expression's valu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s (2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iece of the computer's memory that is given a name and type, and can store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be declared/initialized in on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562720" y="414036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562720" y="5130720"/>
          <a:ext cx="304776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 ca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onversion from one type to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romot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get exact division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unc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a real number to 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nt x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Math.pow(10, 3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770040" y="5073480"/>
            <a:ext cx="790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79400" y="4043520"/>
            <a:ext cx="449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rement and decr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hortcuts to increase or decrease a variable's value by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now stor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2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now stores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-and-assign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ortcuts to modify a variable's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pa -= 0.5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*= 2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umber = number *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2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i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rue.  If no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6781680" y="1403280"/>
            <a:ext cx="457200" cy="1904760"/>
            <a:chOff x="6781680" y="1403280"/>
            <a:chExt cx="457200" cy="1904760"/>
          </a:xfrm>
        </p:grpSpPr>
        <p:sp>
          <p:nvSpPr>
            <p:cNvPr id="186" name="AutoShape 5"/>
            <p:cNvSpPr/>
            <p:nvPr/>
          </p:nvSpPr>
          <p:spPr>
            <a:xfrm>
              <a:off x="6781680" y="1922760"/>
              <a:ext cx="457200" cy="138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6000 h 1385280"/>
                <a:gd name="textAreaBottom" fmla="*/ 1349280 h 138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>
              <a:off x="6781680" y="1403280"/>
              <a:ext cx="457200" cy="432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1160 h 432720"/>
                <a:gd name="textAreaBottom" fmla="*/ 421560 h 4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531800" y="3016080"/>
            <a:ext cx="2514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nts without moving to a new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print partial messages on the sam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est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-3; i &lt;= highestTemp / 2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i * 1.8 + 32) + " 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  28.4  30.2  32.0  33.8  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Java program (1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18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21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24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(i * j)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s in the outer loop's body are executed 4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loop prints 5 numbers each time it is ru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art of a program where a variable exi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its declaration to the end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op exists only in that loo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method exists only in that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 no longer exists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ceases to exist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6095880" y="3886200"/>
            <a:ext cx="838440" cy="1447920"/>
          </a:xfrm>
          <a:custGeom>
            <a:avLst/>
            <a:gdLst>
              <a:gd name="textAreaLeft" fmla="*/ 0 w 838440"/>
              <a:gd name="textAreaRight" fmla="*/ 302760 w 8384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's sc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AutoShape 5" descr=""/>
          <p:cNvPicPr/>
          <p:nvPr/>
        </p:nvPicPr>
        <p:blipFill>
          <a:blip r:embed="rId2"/>
          <a:stretch/>
        </p:blipFill>
        <p:spPr>
          <a:xfrm>
            <a:off x="76320" y="3962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 constants (2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 const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visible to the whol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 only be set at decla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't be changed while the program is ru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is usually in ALL_UPPER_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DAYS_IN_WEEK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double INTEREST_RATE = 3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SSN = 65823456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s (3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passed to a method by its call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draw any leng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, we will state that it requires a parameter for the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ll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method, we will specify how many stars to dra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202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ssing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42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password is: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12345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password is: 123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 (3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295280"/>
          <a:ext cx="6643800" cy="527076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6296040" y="495288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 (3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send out a value as the result of a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posite of a parame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eter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the caller to the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value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a method to its cal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144880" y="3429000"/>
            <a:ext cx="4904640" cy="2430720"/>
            <a:chOff x="2144880" y="3429000"/>
            <a:chExt cx="4904640" cy="2430720"/>
          </a:xfrm>
        </p:grpSpPr>
        <p:sp>
          <p:nvSpPr>
            <p:cNvPr id="221" name=""/>
            <p:cNvSpPr/>
            <p:nvPr/>
          </p:nvSpPr>
          <p:spPr>
            <a:xfrm>
              <a:off x="2144880" y="430524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966760" y="3508200"/>
              <a:ext cx="14475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30520" y="3429000"/>
              <a:ext cx="20095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abs(42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36400" y="3492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9760" y="4703400"/>
              <a:ext cx="147456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30520" y="546084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890800" y="4799880"/>
              <a:ext cx="152352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080" y="4727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3812760"/>
              <a:ext cx="129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0440" y="4025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09560" y="524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2590920" y="4343400"/>
            <a:ext cx="865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19320" y="5181480"/>
            <a:ext cx="2057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(3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storing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acters of a string are numbered with 0-bas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dex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"P. Diddy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rst character's index is always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character's index is 1 less than the string's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vidual characters are value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97160" y="3886200"/>
          <a:ext cx="6375240" cy="906480"/>
        </p:xfrm>
        <a:graphic>
          <a:graphicData uri="http://schemas.openxmlformats.org/drawingml/2006/table">
            <a:tbl>
              <a:tblPr/>
              <a:tblGrid>
                <a:gridCol w="1218960"/>
                <a:gridCol w="644400"/>
                <a:gridCol w="646200"/>
                <a:gridCol w="642960"/>
                <a:gridCol w="644400"/>
                <a:gridCol w="644760"/>
                <a:gridCol w="644400"/>
                <a:gridCol w="644400"/>
                <a:gridCol w="6447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methods are called using the dot not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280" y="1371600"/>
          <a:ext cx="8839440" cy="312732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it is not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statement that prints a line of output on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nounced "print-linn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times called a "println statement" for 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wo ways to us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the given message as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a blank line of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test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Are you single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LUMBERG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I need your TPS report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488960" y="2711520"/>
            <a:ext cx="2867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are compared using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ly this is a method that returns a value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ype used in logical te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primitive type representing single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haracter insid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tor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are surrounded with apostrop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ngle-quote) marks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etter = 'S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can be concatenated with str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initial = 'P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itial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 two behave differentl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 object; it contains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primitive; you can't call methods on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c.toUpperCase();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// ERROR: "cannot be dereference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86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mat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ormat string contain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sert parameters into i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lef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.4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4 character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6.2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6 characters wide, 2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6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, y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(%d, %d)\n", x, y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%4d %4.2f\n", x, y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   3 2.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3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Canvas" objects that represents windows/drawing su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create a wind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indow has nothing on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draw shapes and lin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it using another object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46360" cy="99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5861880" y="4435560"/>
            <a:ext cx="2463120" cy="1662120"/>
            <a:chOff x="5861880" y="4435560"/>
            <a:chExt cx="2463120" cy="1662120"/>
          </a:xfrm>
        </p:grpSpPr>
        <p:grpSp>
          <p:nvGrpSpPr>
            <p:cNvPr id="259" name=""/>
            <p:cNvGrpSpPr/>
            <p:nvPr/>
          </p:nvGrpSpPr>
          <p:grpSpPr>
            <a:xfrm>
              <a:off x="6473880" y="4825800"/>
              <a:ext cx="1371600" cy="913680"/>
              <a:chOff x="6473880" y="4825800"/>
              <a:chExt cx="1371600" cy="913680"/>
            </a:xfrm>
          </p:grpSpPr>
          <p:sp>
            <p:nvSpPr>
              <p:cNvPr id="260" name=""/>
              <p:cNvSpPr/>
              <p:nvPr/>
            </p:nvSpPr>
            <p:spPr>
              <a:xfrm>
                <a:off x="6550200" y="4901760"/>
                <a:ext cx="1295280" cy="83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50200" y="48258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73880" y="4901760"/>
                <a:ext cx="0" cy="83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863840" y="45702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56800" y="569880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y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1880" y="443556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0, 0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Pen" objects that can draw lines and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it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shapes by calling metho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240" y="1511280"/>
          <a:ext cx="9029520" cy="427968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one us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en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e (RGB) values from 0-25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use a predefin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constant  (more comm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ne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3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bject with metho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intended to be used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use a second object, from a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o help 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read console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atic methods (1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d group of stat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notes th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tructur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a 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liminate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y code re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cedural decomposi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viding a problem into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ing a static method is lik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dding a new command to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3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typed is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'll be 40 in "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40 - age) + " years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m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message telling the user what input to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324080"/>
          <a:ext cx="7605720" cy="1976400"/>
        </p:xfrm>
        <a:graphic>
          <a:graphicData uri="http://schemas.openxmlformats.org/drawingml/2006/table">
            <a:tbl>
              <a:tblPr/>
              <a:tblGrid>
                <a:gridCol w="2346480"/>
                <a:gridCol w="525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eads a 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of user input as a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for valid input (5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see what the next token will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ethods do not consume inpu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just give information about the nex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ful to see what input is coming, and to avoid cras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04920" y="1800360"/>
          <a:ext cx="8663040" cy="3255840"/>
        </p:xfrm>
        <a:graphic>
          <a:graphicData uri="http://schemas.openxmlformats.org/drawingml/2006/table">
            <a:tbl>
              <a:tblPr/>
              <a:tblGrid>
                <a:gridCol w="2469960"/>
                <a:gridCol w="619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tokens of input to read   </a:t>
                      </a: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936720" y="1886040"/>
            <a:ext cx="1654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(4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oop that adds the numbers from 1-100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y ide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sum variables must be declar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oops that update them, so that they will exist after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3657600" cy="23731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one block if a test is true, another if 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lation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s the same as in a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s, seen in Ch.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u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19320" y="382896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operators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&amp;&amp;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||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itions can be combined us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"Truth tables" for each, used with logical valu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04840" y="419112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226200" y="4191120"/>
          <a:ext cx="1774800" cy="109512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5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gical type whose value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s,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from methods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= (age &lt; 2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expensive = iPhonePrice &gt; 200.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LoveCS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purchase alcohol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LoveCS || !expens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uying an iPhon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 Morgan's La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 Morgan'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s used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g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oolean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want the opposite of a known boolean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2666880"/>
          <a:ext cx="7756560" cy="137160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57200" y="4800600"/>
          <a:ext cx="8229600" cy="158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!= 7 || y &lt;=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060720" y="3886200"/>
            <a:ext cx="97776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0" y="1295280"/>
          <a:ext cx="9144000" cy="49179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51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,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2743200" y="1924200"/>
            <a:ext cx="1752480" cy="1366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7238880" y="1752480"/>
            <a:ext cx="1828800" cy="15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loops (4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ncepost 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When we want to repeat two tasks, one of them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imes, anoth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a statement outside the loop to place the initial "post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encepost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a "loop-and-a-half" solu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gorithm templ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- 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286000" y="5486400"/>
            <a:ext cx="4191120" cy="990360"/>
            <a:chOff x="2286000" y="5486400"/>
            <a:chExt cx="4191120" cy="990360"/>
          </a:xfrm>
        </p:grpSpPr>
        <p:grpSp>
          <p:nvGrpSpPr>
            <p:cNvPr id="311" name="Group 5"/>
            <p:cNvGrpSpPr/>
            <p:nvPr/>
          </p:nvGrpSpPr>
          <p:grpSpPr>
            <a:xfrm>
              <a:off x="2286000" y="5486400"/>
              <a:ext cx="990360" cy="990360"/>
              <a:chOff x="2286000" y="5486400"/>
              <a:chExt cx="990360" cy="990360"/>
            </a:xfrm>
          </p:grpSpPr>
          <p:sp>
            <p:nvSpPr>
              <p:cNvPr id="312" name="Rectangle 6"/>
              <p:cNvSpPr/>
              <p:nvPr/>
            </p:nvSpPr>
            <p:spPr>
              <a:xfrm>
                <a:off x="228600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3" name="Group 7"/>
              <p:cNvGrpSpPr/>
              <p:nvPr/>
            </p:nvGrpSpPr>
            <p:grpSpPr>
              <a:xfrm>
                <a:off x="2514600" y="5638680"/>
                <a:ext cx="761760" cy="380160"/>
                <a:chOff x="2514600" y="5638680"/>
                <a:chExt cx="761760" cy="380160"/>
              </a:xfrm>
            </p:grpSpPr>
            <p:sp>
              <p:nvSpPr>
                <p:cNvPr id="314" name="Rectangle 8"/>
                <p:cNvSpPr/>
                <p:nvPr/>
              </p:nvSpPr>
              <p:spPr>
                <a:xfrm>
                  <a:off x="251460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Rectangle 9"/>
                <p:cNvSpPr/>
                <p:nvPr/>
              </p:nvSpPr>
              <p:spPr>
                <a:xfrm>
                  <a:off x="251460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16" name="Group 10"/>
            <p:cNvGrpSpPr/>
            <p:nvPr/>
          </p:nvGrpSpPr>
          <p:grpSpPr>
            <a:xfrm>
              <a:off x="3276720" y="5486400"/>
              <a:ext cx="990360" cy="990360"/>
              <a:chOff x="3276720" y="5486400"/>
              <a:chExt cx="990360" cy="990360"/>
            </a:xfrm>
          </p:grpSpPr>
          <p:sp>
            <p:nvSpPr>
              <p:cNvPr id="317" name="Rectangle 11"/>
              <p:cNvSpPr/>
              <p:nvPr/>
            </p:nvSpPr>
            <p:spPr>
              <a:xfrm>
                <a:off x="327672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8" name="Group 12"/>
              <p:cNvGrpSpPr/>
              <p:nvPr/>
            </p:nvGrpSpPr>
            <p:grpSpPr>
              <a:xfrm>
                <a:off x="3505320" y="5638680"/>
                <a:ext cx="761760" cy="380160"/>
                <a:chOff x="3505320" y="5638680"/>
                <a:chExt cx="761760" cy="380160"/>
              </a:xfrm>
            </p:grpSpPr>
            <p:sp>
              <p:nvSpPr>
                <p:cNvPr id="319" name="Rectangle 13"/>
                <p:cNvSpPr/>
                <p:nvPr/>
              </p:nvSpPr>
              <p:spPr>
                <a:xfrm>
                  <a:off x="350532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Rectangle 14"/>
                <p:cNvSpPr/>
                <p:nvPr/>
              </p:nvSpPr>
              <p:spPr>
                <a:xfrm>
                  <a:off x="350532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1" name="Group 15"/>
            <p:cNvGrpSpPr/>
            <p:nvPr/>
          </p:nvGrpSpPr>
          <p:grpSpPr>
            <a:xfrm>
              <a:off x="4267440" y="5486400"/>
              <a:ext cx="990360" cy="990360"/>
              <a:chOff x="4267440" y="5486400"/>
              <a:chExt cx="990360" cy="990360"/>
            </a:xfrm>
          </p:grpSpPr>
          <p:sp>
            <p:nvSpPr>
              <p:cNvPr id="322" name="Rectangle 16"/>
              <p:cNvSpPr/>
              <p:nvPr/>
            </p:nvSpPr>
            <p:spPr>
              <a:xfrm>
                <a:off x="426744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3" name="Group 17"/>
              <p:cNvGrpSpPr/>
              <p:nvPr/>
            </p:nvGrpSpPr>
            <p:grpSpPr>
              <a:xfrm>
                <a:off x="4496040" y="5638680"/>
                <a:ext cx="761760" cy="380160"/>
                <a:chOff x="4496040" y="5638680"/>
                <a:chExt cx="761760" cy="380160"/>
              </a:xfrm>
            </p:grpSpPr>
            <p:sp>
              <p:nvSpPr>
                <p:cNvPr id="324" name="Rectangle 18"/>
                <p:cNvSpPr/>
                <p:nvPr/>
              </p:nvSpPr>
              <p:spPr>
                <a:xfrm>
                  <a:off x="449604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5" name="Rectangle 19"/>
                <p:cNvSpPr/>
                <p:nvPr/>
              </p:nvSpPr>
              <p:spPr>
                <a:xfrm>
                  <a:off x="449604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6" name="Group 20"/>
            <p:cNvGrpSpPr/>
            <p:nvPr/>
          </p:nvGrpSpPr>
          <p:grpSpPr>
            <a:xfrm>
              <a:off x="5257800" y="5486400"/>
              <a:ext cx="990360" cy="990360"/>
              <a:chOff x="5257800" y="5486400"/>
              <a:chExt cx="990360" cy="990360"/>
            </a:xfrm>
          </p:grpSpPr>
          <p:sp>
            <p:nvSpPr>
              <p:cNvPr id="327" name="Rectangle 21"/>
              <p:cNvSpPr/>
              <p:nvPr/>
            </p:nvSpPr>
            <p:spPr>
              <a:xfrm>
                <a:off x="525780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8" name="Group 22"/>
              <p:cNvGrpSpPr/>
              <p:nvPr/>
            </p:nvGrpSpPr>
            <p:grpSpPr>
              <a:xfrm>
                <a:off x="5486400" y="5638680"/>
                <a:ext cx="761760" cy="380160"/>
                <a:chOff x="5486400" y="5638680"/>
                <a:chExt cx="761760" cy="380160"/>
              </a:xfrm>
            </p:grpSpPr>
            <p:sp>
              <p:nvSpPr>
                <p:cNvPr id="329" name="Rectangle 23"/>
                <p:cNvSpPr/>
                <p:nvPr/>
              </p:nvSpPr>
              <p:spPr>
                <a:xfrm>
                  <a:off x="548640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Rectangle 24"/>
                <p:cNvSpPr/>
                <p:nvPr/>
              </p:nvSpPr>
              <p:spPr>
                <a:xfrm>
                  <a:off x="548640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31" name="Rectangle 25"/>
            <p:cNvSpPr/>
            <p:nvPr/>
          </p:nvSpPr>
          <p:spPr>
            <a:xfrm>
              <a:off x="6248520" y="5486400"/>
              <a:ext cx="228600" cy="9903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918640" cy="47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Gives your method a name so it can be execu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br>
              <a:rPr sz="2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spcBef>
                <a:spcPts val="1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clar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metho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each number from 1 to a given maximum, separated by comma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the 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uld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while"/>
          <p:cNvPicPr/>
          <p:nvPr/>
        </p:nvPicPr>
        <p:blipFill>
          <a:blip r:embed="rId2"/>
          <a:stretch/>
        </p:blipFill>
        <p:spPr>
          <a:xfrm>
            <a:off x="6477120" y="1089000"/>
            <a:ext cx="2590560" cy="24638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5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Repeatedly executes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as long as a logical test is tr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2 4 8 16 32 64 1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5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es statements repeatedly while a condition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sting it at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each repet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until the user gets the right 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Password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 (5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generates pseudo-random*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oun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 ne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test if a resul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is is unnecessary and redundant.  Preferr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imilar pattern can be used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that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have 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unnecess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logical test is itsel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; so return tha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5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: Immediately exits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used to write a loop whose test is in the midd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loops are often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forever" loop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their header's boolean test is often changed to a triv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programmers consid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bad sty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4952880" y="4327560"/>
            <a:ext cx="3353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files (6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ead a file, 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n 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mydata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, better y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("mydata.txt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u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cla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Keywords on a method's header that state that it may generate an exce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saying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I hereby announce that this method might throw an exception, and I accept the consequences if it happe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 (6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separated by whitesp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lits a file's contents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n input file contains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 Smit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pret the tokens as the following typ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yp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mith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974880" y="2971800"/>
            <a:ext cx="2301840" cy="7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all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Executes the method's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call the same method many times if you li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s and input curs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ontains this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ews all input as a stream of charac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 cur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posit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905120"/>
            <a:ext cx="25909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4330800"/>
            <a:ext cx="78706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uming 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ing input and advancing the curs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tc. moves the cursor past the curren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x = input.nextDouble(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input.nex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14.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.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934920" y="2509920"/>
            <a:ext cx="78710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922320" y="384336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922320" y="518148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the wrong type of token (e.g.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past the end of th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ing and fixing these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the exception text for line numbers in your code (the first line that mentions your file; often near the bottom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 java.util.NoSuchElement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3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34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t CountTokens.sillyMethod(CountTokens.java: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CountTokens.main(CountTokens.java: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to files (6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 parameter to a method expecting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methods that can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(7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bject that stores many values of the same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ne value in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0-based integer to access an element from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4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375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376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8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379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1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382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-of-boun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al indexes: betwe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's length -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3986280" y="2538360"/>
            <a:ext cx="2163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iel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rray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eld stores its number of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use parentheses like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n a method is called, the program's execution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into that method, executing its statements,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back to the point where the method was cal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14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14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14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ntrol flo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ick array 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…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know what the array's elements will b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figures out the size by counting the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packag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s useful static methods for manipulating array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76320" y="2266920"/>
          <a:ext cx="8991360" cy="4200480"/>
        </p:xfrm>
        <a:graphic>
          <a:graphicData uri="http://schemas.openxmlformats.org/drawingml/2006/table">
            <a:tbl>
              <a:tblPr/>
              <a:tblGrid>
                <a:gridCol w="419076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the index of the given value in a sorted array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 two arrays contain the same elements in the same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ts every element in the array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nges the elements in the array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17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arra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scores = {13, 17, 12, 15, 11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or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Digits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ally = countDigits(22923100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rrays.toString(tally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lue semantics (primitives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lues are copied when assigned to each other or passed as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primitive variable is assigned to anoth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copi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does not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572160" y="41148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6572160" y="48769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Reference semantics (objects)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ferenc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riables actually store the address of an object in memo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reference variable is assigned to another, the object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pied; both variables refer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ame obje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685800" y="5181480"/>
            <a:ext cx="2438280" cy="444240"/>
            <a:chOff x="685800" y="5181480"/>
            <a:chExt cx="2438280" cy="444240"/>
          </a:xfrm>
        </p:grpSpPr>
        <p:sp>
          <p:nvSpPr>
            <p:cNvPr id="416" name=""/>
            <p:cNvSpPr/>
            <p:nvPr/>
          </p:nvSpPr>
          <p:spPr>
            <a:xfrm>
              <a:off x="685800" y="51814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09680" y="539712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54000" y="52052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85800" y="5943240"/>
            <a:ext cx="2438280" cy="457560"/>
            <a:chOff x="685800" y="5943240"/>
            <a:chExt cx="2438280" cy="457560"/>
          </a:xfrm>
        </p:grpSpPr>
        <p:sp>
          <p:nvSpPr>
            <p:cNvPr id="420" name=""/>
            <p:cNvSpPr/>
            <p:nvPr/>
          </p:nvSpPr>
          <p:spPr>
            <a:xfrm>
              <a:off x="685800" y="595656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209680" y="594324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54000" y="598032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ul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reference that does not refer to any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s of an object that refer to objects are initializ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lements of an array of objects are initializ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389400" y="38098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371760" y="51055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7" name=""/>
          <p:cNvGrpSpPr/>
          <p:nvPr/>
        </p:nvGrpSpPr>
        <p:grpSpPr>
          <a:xfrm>
            <a:off x="838080" y="4191120"/>
            <a:ext cx="2286000" cy="444240"/>
            <a:chOff x="838080" y="4191120"/>
            <a:chExt cx="2286000" cy="444240"/>
          </a:xfrm>
        </p:grpSpPr>
        <p:sp>
          <p:nvSpPr>
            <p:cNvPr id="428" name=""/>
            <p:cNvSpPr/>
            <p:nvPr/>
          </p:nvSpPr>
          <p:spPr>
            <a:xfrm>
              <a:off x="838080" y="41911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2320" y="44067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2145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09480" y="5423040"/>
            <a:ext cx="2514600" cy="444240"/>
            <a:chOff x="609480" y="5423040"/>
            <a:chExt cx="2514600" cy="444240"/>
          </a:xfrm>
        </p:grpSpPr>
        <p:sp>
          <p:nvSpPr>
            <p:cNvPr id="432" name=""/>
            <p:cNvSpPr/>
            <p:nvPr/>
          </p:nvSpPr>
          <p:spPr>
            <a:xfrm>
              <a:off x="609480" y="54230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61960" y="56386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06280" y="54464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ull pointer excep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refer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access data or methods of an object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illegal to dereferen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causes an excep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not any object, so it has no methods or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es and objects (8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 entity that represents eith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rogram / module,  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template for a new type of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is a template for creat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tity that combines state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rograms that perform their behavior as interactions between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 (8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riable inside an object that is part of it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bject h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ts own cop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each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eclaring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hide their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 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ach object now h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double gpa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name and gpa 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primitive types (2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itive typ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8 simple types for numbers, tex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lso h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 typ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ich we'll talk about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numb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single text character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logical value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4b9e8"/>
              </a:buClr>
              <a:buSzPct val="85000"/>
              <a:buFont typeface="Verdana"/>
              <a:buChar char="•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does Java distinguish integers vs. real numb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stance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tance meth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ne that exists inside each object of a class and defines behavior of that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syntax as static methods, but with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829476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7837560" y="340056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47388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795920" y="340848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027320" y="3095640"/>
            <a:ext cx="1922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3570120" y="309708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 contains data fiel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 contains a method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draws that point at its curr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s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implicit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bject on which an instance method is call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e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referred to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mplicit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e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referred to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mplicit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tance method can refer to that object's fiel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ay that it executes in 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ntex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a particular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n refer t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object it was called 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Kinds of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ance methods take advantage of an object'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methods allow clients to access/modify its s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ces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that lets clients examine object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hat tells how far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way from (0, 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ors often have a non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that modifies an object'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hat shifts the posi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a given amou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 (8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truc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itializes the state of new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s when the client us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specify a return type; implicitly returns a new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class has no constructor, Java gives it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fault constru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no parameters that sets all fields to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 (8.6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how to convert an object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that returns a suitable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ed when an object is printed/concaten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class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ven if it isn't in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ault is class's name and a hex number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keyword (8.7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reference to the implici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mplicit parameter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ject on which a method is call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fo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fer to a fiel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constructor from another constru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Part of a class, not part of an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objects of that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for code related to a class but not to each object's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understan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cannot access an object's fields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an be called from inside or outside th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 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or operation that computes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mplest expression is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teral va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x expression can use operators and parenthe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methods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write a new version of a method in a subclass that replaces the superclass's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pecial syntax required to override a superclass meth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write a new version of it in the sub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VacationForm in Employe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keyword (9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classes can call overridden method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an hold an object of any subclass of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LegalSecretary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all any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 any methods specific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method is called, it behaves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500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9-01-04T14:17:16Z</dcterms:modified>
  <cp:revision>1460</cp:revision>
  <dc:subject/>
  <dc:title>Building Java Programs</dc:title>
</cp:coreProperties>
</file>