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5E4-1DEA-4804-A215-56B83F64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5BD-6295-4E7E-AB7C-C0BE9007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E26-A6EF-40BA-B6C5-89DF2161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9D2-AAA8-44AD-853C-E808C45D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DE1B-5C75-4FE3-8BFF-CB5FF900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2256-380E-44C6-933C-01DEF2A781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8B10-681D-4518-80DC-2A1A138C2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0461-50FF-40DF-A929-A3A40915F9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3EA8-3D63-4F0D-9116-9BC8F466D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6FA2-14F3-451B-9523-3639D30264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02B1-B9D5-4D1E-92D9-D5A4D293C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E508-C887-426E-B9DB-022D5F27F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10DC-51BD-440E-9A1A-35A8A3290A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A2A6-1C85-4EBD-8923-48D1C9667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C8B4-8D26-4647-8992-B80C9FCD95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FF5-F399-4940-B289-84F0729E5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1961-DAE7-4109-8E04-8C3309164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0F2C-F09C-4136-A13E-EC17BE89772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FDA9-2577-4F42-8F48-6D3AACC4055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: Java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Ch. 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 (2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562720" y="414036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562720" y="513072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2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8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 (1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8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21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24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AutoShape 5" descr=""/>
          <p:cNvPicPr/>
          <p:nvPr/>
        </p:nvPicPr>
        <p:blipFill>
          <a:blip r:embed="rId2"/>
          <a:stretch/>
        </p:blipFill>
        <p:spPr>
          <a:xfrm>
            <a:off x="76320" y="3962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 (2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(3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202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296040" y="495288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221" name="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0520" y="3429000"/>
              <a:ext cx="20095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97160" y="388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86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,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4d %4.2f\n", x, y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3 2.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5861880" y="4435560"/>
            <a:ext cx="2463120" cy="1662120"/>
            <a:chOff x="5861880" y="4435560"/>
            <a:chExt cx="2463120" cy="1662120"/>
          </a:xfrm>
        </p:grpSpPr>
        <p:grpSp>
          <p:nvGrpSpPr>
            <p:cNvPr id="259" name=""/>
            <p:cNvGrpSpPr/>
            <p:nvPr/>
          </p:nvGrpSpPr>
          <p:grpSpPr>
            <a:xfrm>
              <a:off x="6473880" y="4825800"/>
              <a:ext cx="1371600" cy="913680"/>
              <a:chOff x="6473880" y="4825800"/>
              <a:chExt cx="1371600" cy="913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550200" y="4901760"/>
                <a:ext cx="1295280" cy="83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0200" y="48258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73880" y="490176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63840" y="45702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800" y="56988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y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1880" y="44355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0, 0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 (1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324080"/>
          <a:ext cx="7605720" cy="1976400"/>
        </p:xfrm>
        <a:graphic>
          <a:graphicData uri="http://schemas.openxmlformats.org/drawingml/2006/table">
            <a:tbl>
              <a:tblPr/>
              <a:tblGrid>
                <a:gridCol w="2346480"/>
                <a:gridCol w="52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 (5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920" y="1800360"/>
          <a:ext cx="8663040" cy="3255840"/>
        </p:xfrm>
        <a:graphic>
          <a:graphicData uri="http://schemas.openxmlformats.org/drawingml/2006/table">
            <a:tbl>
              <a:tblPr/>
              <a:tblGrid>
                <a:gridCol w="24699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oop that adds the numbers from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382896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04840" y="419112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226200" y="4191120"/>
          <a:ext cx="1774800" cy="10951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57200" y="4800600"/>
          <a:ext cx="8229600" cy="158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0" y="1295280"/>
          <a:ext cx="9144000" cy="49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s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ncepost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we want to repeat two tasks, one of them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, anoth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templ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286000" y="5486400"/>
            <a:ext cx="4191120" cy="990360"/>
            <a:chOff x="2286000" y="5486400"/>
            <a:chExt cx="4191120" cy="990360"/>
          </a:xfrm>
        </p:grpSpPr>
        <p:grpSp>
          <p:nvGrpSpPr>
            <p:cNvPr id="311" name="Group 5"/>
            <p:cNvGrpSpPr/>
            <p:nvPr/>
          </p:nvGrpSpPr>
          <p:grpSpPr>
            <a:xfrm>
              <a:off x="2286000" y="5486400"/>
              <a:ext cx="990360" cy="990360"/>
              <a:chOff x="2286000" y="5486400"/>
              <a:chExt cx="990360" cy="9903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22860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7"/>
              <p:cNvGrpSpPr/>
              <p:nvPr/>
            </p:nvGrpSpPr>
            <p:grpSpPr>
              <a:xfrm>
                <a:off x="2514600" y="5638680"/>
                <a:ext cx="761760" cy="380160"/>
                <a:chOff x="2514600" y="5638680"/>
                <a:chExt cx="761760" cy="380160"/>
              </a:xfrm>
            </p:grpSpPr>
            <p:sp>
              <p:nvSpPr>
                <p:cNvPr id="314" name="Rectangle 8"/>
                <p:cNvSpPr/>
                <p:nvPr/>
              </p:nvSpPr>
              <p:spPr>
                <a:xfrm>
                  <a:off x="25146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9"/>
                <p:cNvSpPr/>
                <p:nvPr/>
              </p:nvSpPr>
              <p:spPr>
                <a:xfrm>
                  <a:off x="25146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6" name="Group 10"/>
            <p:cNvGrpSpPr/>
            <p:nvPr/>
          </p:nvGrpSpPr>
          <p:grpSpPr>
            <a:xfrm>
              <a:off x="3276720" y="5486400"/>
              <a:ext cx="990360" cy="990360"/>
              <a:chOff x="3276720" y="5486400"/>
              <a:chExt cx="990360" cy="990360"/>
            </a:xfrm>
          </p:grpSpPr>
          <p:sp>
            <p:nvSpPr>
              <p:cNvPr id="317" name="Rectangle 11"/>
              <p:cNvSpPr/>
              <p:nvPr/>
            </p:nvSpPr>
            <p:spPr>
              <a:xfrm>
                <a:off x="327672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2"/>
              <p:cNvGrpSpPr/>
              <p:nvPr/>
            </p:nvGrpSpPr>
            <p:grpSpPr>
              <a:xfrm>
                <a:off x="3505320" y="5638680"/>
                <a:ext cx="761760" cy="380160"/>
                <a:chOff x="3505320" y="5638680"/>
                <a:chExt cx="761760" cy="380160"/>
              </a:xfrm>
            </p:grpSpPr>
            <p:sp>
              <p:nvSpPr>
                <p:cNvPr id="319" name="Rectangle 13"/>
                <p:cNvSpPr/>
                <p:nvPr/>
              </p:nvSpPr>
              <p:spPr>
                <a:xfrm>
                  <a:off x="350532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Rectangle 14"/>
                <p:cNvSpPr/>
                <p:nvPr/>
              </p:nvSpPr>
              <p:spPr>
                <a:xfrm>
                  <a:off x="350532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1" name="Group 15"/>
            <p:cNvGrpSpPr/>
            <p:nvPr/>
          </p:nvGrpSpPr>
          <p:grpSpPr>
            <a:xfrm>
              <a:off x="4267440" y="5486400"/>
              <a:ext cx="990360" cy="990360"/>
              <a:chOff x="4267440" y="5486400"/>
              <a:chExt cx="990360" cy="990360"/>
            </a:xfrm>
          </p:grpSpPr>
          <p:sp>
            <p:nvSpPr>
              <p:cNvPr id="322" name="Rectangle 16"/>
              <p:cNvSpPr/>
              <p:nvPr/>
            </p:nvSpPr>
            <p:spPr>
              <a:xfrm>
                <a:off x="426744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3" name="Group 17"/>
              <p:cNvGrpSpPr/>
              <p:nvPr/>
            </p:nvGrpSpPr>
            <p:grpSpPr>
              <a:xfrm>
                <a:off x="4496040" y="5638680"/>
                <a:ext cx="761760" cy="380160"/>
                <a:chOff x="4496040" y="5638680"/>
                <a:chExt cx="761760" cy="380160"/>
              </a:xfrm>
            </p:grpSpPr>
            <p:sp>
              <p:nvSpPr>
                <p:cNvPr id="324" name="Rectangle 18"/>
                <p:cNvSpPr/>
                <p:nvPr/>
              </p:nvSpPr>
              <p:spPr>
                <a:xfrm>
                  <a:off x="449604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Rectangle 19"/>
                <p:cNvSpPr/>
                <p:nvPr/>
              </p:nvSpPr>
              <p:spPr>
                <a:xfrm>
                  <a:off x="449604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6" name="Group 20"/>
            <p:cNvGrpSpPr/>
            <p:nvPr/>
          </p:nvGrpSpPr>
          <p:grpSpPr>
            <a:xfrm>
              <a:off x="5257800" y="5486400"/>
              <a:ext cx="990360" cy="990360"/>
              <a:chOff x="5257800" y="5486400"/>
              <a:chExt cx="990360" cy="990360"/>
            </a:xfrm>
          </p:grpSpPr>
          <p:sp>
            <p:nvSpPr>
              <p:cNvPr id="327" name="Rectangle 21"/>
              <p:cNvSpPr/>
              <p:nvPr/>
            </p:nvSpPr>
            <p:spPr>
              <a:xfrm>
                <a:off x="52578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22"/>
              <p:cNvGrpSpPr/>
              <p:nvPr/>
            </p:nvGrpSpPr>
            <p:grpSpPr>
              <a:xfrm>
                <a:off x="5486400" y="5638680"/>
                <a:ext cx="761760" cy="380160"/>
                <a:chOff x="5486400" y="5638680"/>
                <a:chExt cx="761760" cy="380160"/>
              </a:xfrm>
            </p:grpSpPr>
            <p:sp>
              <p:nvSpPr>
                <p:cNvPr id="329" name="Rectangle 23"/>
                <p:cNvSpPr/>
                <p:nvPr/>
              </p:nvSpPr>
              <p:spPr>
                <a:xfrm>
                  <a:off x="54864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24"/>
                <p:cNvSpPr/>
                <p:nvPr/>
              </p:nvSpPr>
              <p:spPr>
                <a:xfrm>
                  <a:off x="54864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1" name="Rectangle 25"/>
            <p:cNvSpPr/>
            <p:nvPr/>
          </p:nvSpPr>
          <p:spPr>
            <a:xfrm>
              <a:off x="6248520" y="548640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while"/>
          <p:cNvPicPr/>
          <p:nvPr/>
        </p:nvPicPr>
        <p:blipFill>
          <a:blip r:embed="rId2"/>
          <a:stretch/>
        </p:blipFill>
        <p:spPr>
          <a:xfrm>
            <a:off x="6477120" y="10890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logical test is itsel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grammers consi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bad 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 (6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 (6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 (6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(7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4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375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376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379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382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4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4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4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6320" y="2266920"/>
          <a:ext cx="8991360" cy="420048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572160" y="41148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572160" y="48769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416" name="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420" name="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hat does not refer to any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of an object that refer to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s of an array of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389400" y="38098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371760" y="51055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838080" y="4191120"/>
            <a:ext cx="2286000" cy="444240"/>
            <a:chOff x="838080" y="4191120"/>
            <a:chExt cx="2286000" cy="444240"/>
          </a:xfrm>
        </p:grpSpPr>
        <p:sp>
          <p:nvSpPr>
            <p:cNvPr id="428" name=""/>
            <p:cNvSpPr/>
            <p:nvPr/>
          </p:nvSpPr>
          <p:spPr>
            <a:xfrm>
              <a:off x="838080" y="41911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2320" y="44067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2145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9480" y="5423040"/>
            <a:ext cx="2514600" cy="444240"/>
            <a:chOff x="609480" y="5423040"/>
            <a:chExt cx="2514600" cy="444240"/>
          </a:xfrm>
        </p:grpSpPr>
        <p:sp>
          <p:nvSpPr>
            <p:cNvPr id="432" name=""/>
            <p:cNvSpPr/>
            <p:nvPr/>
          </p:nvSpPr>
          <p:spPr>
            <a:xfrm>
              <a:off x="609480" y="54230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6386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6280" y="54464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 pointer excep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refer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access data or methods of an object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llegal to dereferen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causes an excep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any object, so it has no methods o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es and objects (8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(8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claring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hide thei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ach object now h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name and gpa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 (2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stanc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that exists inside each object of a class and defines behavior of that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syntax as static methods, but with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data fiel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draws that point at its curr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bject on which an instance method is call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method can refer to that object's fiel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ay that it executes in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a particular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fer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object it was called 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inds of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ance methods take advantage of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methods allow clients to access/modify it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lets clients examine object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tells how fa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way from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ors often have a non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modifies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shifts the posi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a given amou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(8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 implicitly returns a new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(8.6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is class's name and a hex numb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8.7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art of a class, not part of an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objects of that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for code related to a class but not to each object's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underst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cannot access an object's fields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an be called from inside or outside th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VacationForm in Employe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9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egalSecretary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5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9-01-04T14:17:16Z</dcterms:modified>
  <cp:revision>1460</cp:revision>
  <dc:subject/>
  <dc:title>Building Java Programs</dc:title>
</cp:coreProperties>
</file>