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CA53-4F31-4093-B174-454C07B8F69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8839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8120" y="1143000"/>
          <a:ext cx="8809200" cy="527040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8120" y="1143000"/>
          <a:ext cx="8809200" cy="329256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1360" y="4572000"/>
          <a:ext cx="8809200" cy="219384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Stuart Reges</cp:lastModifiedBy>
  <dcterms:modified xsi:type="dcterms:W3CDTF">2021-02-10T19:22:32Z</dcterms:modified>
  <cp:revision>659</cp:revision>
  <dc:subject/>
  <dc:title>CSE 142 Python Slides</dc:title>
</cp:coreProperties>
</file>