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C6B57-D0B7-4F48-AD83-778813ED301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F66E3-CE72-4BE1-B8D6-96A0536B5FA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F7CB8-8C34-44D2-AAD7-534A4E5394E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71578-7CDD-4470-A985-94F4D878AE4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9FD52-6454-428E-9D83-71FB9632AB6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3D841-EB4A-4166-BF90-31A54E12DA9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99014-7F9C-4377-AEF9-A9BFCC05D7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93078-285C-48AB-B004-F9143F0E627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8C394-E19A-4FFA-934A-DD84A7AFB21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CFFF0-6BF7-409D-8698-0C31742FF87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BF470-C4DA-49ED-A9FA-1E912C94E46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2DEBE-9096-44E2-BE9A-141D11FEB6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Group 24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3" name="Freeform 6"/>
            <p:cNvSpPr/>
            <p:nvPr/>
          </p:nvSpPr>
          <p:spPr>
            <a:xfrm>
              <a:off x="-9360" y="0"/>
              <a:ext cx="9162720" cy="533520"/>
            </a:xfrm>
            <a:prstGeom prst="pie">
              <a:avLst/>
            </a:pr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7"/>
            <p:cNvSpPr/>
            <p:nvPr/>
          </p:nvSpPr>
          <p:spPr>
            <a:xfrm>
              <a:off x="4267080" y="0"/>
              <a:ext cx="4876920" cy="271800"/>
            </a:xfrm>
            <a:prstGeom prst="pie">
              <a:avLst/>
            </a:pr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7" name="Freeform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" name="Freeform 12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10" name="Freeform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pic>
        <p:nvPicPr>
          <p:cNvPr id="12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3" descr=""/>
          <p:cNvPicPr/>
          <p:nvPr/>
        </p:nvPicPr>
        <p:blipFill>
          <a:blip r:embed="rId6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23" descr=""/>
          <p:cNvPicPr/>
          <p:nvPr/>
        </p:nvPicPr>
        <p:blipFill>
          <a:blip r:embed="rId7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15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Slide Number Placeholder 3"/>
          <p:cNvSpPr/>
          <p:nvPr/>
        </p:nvSpPr>
        <p:spPr>
          <a:xfrm>
            <a:off x="815328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AB5CC-06AC-45C1-9FEA-3062423267EE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3" descr=""/>
          <p:cNvPicPr/>
          <p:nvPr/>
        </p:nvPicPr>
        <p:blipFill>
          <a:blip r:embed="rId3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3" descr=""/>
          <p:cNvPicPr/>
          <p:nvPr/>
        </p:nvPicPr>
        <p:blipFill>
          <a:blip r:embed="rId4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7" name="Group 23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58" name="Freeform 20"/>
            <p:cNvSpPr/>
            <p:nvPr/>
          </p:nvSpPr>
          <p:spPr>
            <a:xfrm>
              <a:off x="-9360" y="0"/>
              <a:ext cx="9162720" cy="533520"/>
            </a:xfrm>
            <a:prstGeom prst="pie">
              <a:avLst/>
            </a:pr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Freeform 21"/>
            <p:cNvSpPr/>
            <p:nvPr/>
          </p:nvSpPr>
          <p:spPr>
            <a:xfrm>
              <a:off x="4267080" y="0"/>
              <a:ext cx="4876920" cy="271800"/>
            </a:xfrm>
            <a:prstGeom prst="pie">
              <a:avLst/>
            </a:pr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0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1" name="Freeform 23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62" name="Freeform 2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3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4" name="Freeform 24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65" name="Freeform 2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1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7839A-99F3-42F7-8BA1-453AADD009B3}" type="slidenum">
              <a:rPr b="0" lang="en-US" sz="12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Building Java Program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pter 9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cture 9-1: Inheritan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9.1 - 9.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nheritanc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heritanc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way to form new classes based on existing classes, taking on their attributes/behavio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way to group related clas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way to share code between two or more clas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e class can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exten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other, absorbing its data/behavio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uperclas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The parent class that is being extend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ubclas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The child class that extends the superclass and inherits its behavio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bclass gets a copy of every field and method from supercla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nheritance syntax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extends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uperclas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Secretary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extends Employe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y extend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bject now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ceive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Hour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Salar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VacationDay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VacationFor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ethod automaticall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n be treated as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by client code (seen late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mproved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ecretary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cod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secretari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ecretary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extends Employe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takeDictation(String text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aking dictation of text: " + text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w we only write the parts unique to each typ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herit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Hour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Salar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VacationDay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VacationFor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ethods from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dds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keDicta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etho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mplementing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Lawy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ider the following lawyer regulation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wyers who get an extra week of paid vacation (a total of 3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wyers use a pink form when applying for vacation lea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wyers have some unique behavior: they know how to su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blem: We want lawyers to inherit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most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ehavior from employee, but we want to replace parts with new behavio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Overriding metho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verrid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To write a new version of a method in a subclass that replaces the superclass's versi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special syntax required to override a superclass metho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ust write a new version of it in the subclas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verrides getVacationForm method in Employee cla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ublic String getVacationForm(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eturn "pink"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ercise: Complete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las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3 weeks vacation, pink vacation form, can su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Lawye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clas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lawy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overrides getVacationForm from Employee clas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getVacationForm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"pink"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overrides getVacationDays from Employee clas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15;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3 weeks vac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sue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I'll see you in court!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ercise: Complete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rket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lass.  Marketers make $10,000 extra ($50,000 total) and know how to adverti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Markete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clas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marke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Marketer extends Employee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dvertise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Act now while supplies last!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50000.0;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$50,000.00 / yea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Levels of inheritanc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levels of inheritance in a hierarchy are allow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 A legal secretary is the same as a regular secretary but makes more money ($45,000) and can file legal brief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LegalSecretary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extends Secretar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ercise: Complete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egalSecretar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las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LegalSecretary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clas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legal secretari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LegalSecretary extends Secretary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fileLegalBriefs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I could file all day!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5000.0;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$45,000.00 / yea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Building Java Program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pter 9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cture 9-3: Polymorphis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9.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lf-check: #5-9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he software crisi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oftware engineer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The practice of developing, designing, documenting, testing large computer program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rge-scale projects face many issue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tting many programmers to work toget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tting code finished on ti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voiding redundant co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nding and fixing bug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intaining, improving, and reusing existing co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ode reu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The practice of writing program code once and using it in many contex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olymorphis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olymorphis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bility for the same code to be used with different types of objects and behave differently with each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an print any type of objec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ach one displays in its own way on the consol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itterMai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an interact with any type of crit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ach one moves, etc. in its own wa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oding with polymorphis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24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 variable of type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can hold an object of any subclass of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mployee e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new Lawyer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 can call any methods from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 can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ot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ll any methods specific t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e.g.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en a method is called o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it behaves a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d.getSalary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50000.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d.getVacationForm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in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64646"/>
                </a:solidFill>
                <a:latin typeface="Verdana"/>
              </a:rPr>
              <a:t>Polymorphism and parameters</a:t>
            </a:r>
            <a:endParaRPr b="0" lang="en-US" sz="42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can pass any subtype of a parameter's typ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EmployeeMain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awyer lisa = new Lawyer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cretary steve = new Secretary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Info(lisa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Info(steve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printInfo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 emp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salary = " + empl.getSalary()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days = " + empl.getVacationDays()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form = " + empl.getVacationForm()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alary = 50000.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alary = 50000.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cation days = 2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cation days = 1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cation form = pink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cation form = yellow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Line 4"/>
          <p:cNvSpPr/>
          <p:nvPr/>
        </p:nvSpPr>
        <p:spPr>
          <a:xfrm>
            <a:off x="3970440" y="2975040"/>
            <a:ext cx="2066760" cy="56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Line 5"/>
          <p:cNvSpPr/>
          <p:nvPr/>
        </p:nvSpPr>
        <p:spPr>
          <a:xfrm>
            <a:off x="4044960" y="3193920"/>
            <a:ext cx="1846080" cy="34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olymorphism and array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rrays of superclass types can store any subtype as eleme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EmployeeMain2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[] e = { new Lawyer(),   new Secretary()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ew Marketer(), new LegalSecretary() }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e.length; i++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salary: " +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[i].getSalary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v.days: " +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[i].getVacationDays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5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alary: 50000.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.days: </a:t>
            </a:r>
            <a:r>
              <a:rPr b="0" lang="en-US" sz="1600" spc="-1" strike="noStrike">
                <a:solidFill>
                  <a:srgbClr val="003399"/>
                </a:solidFill>
                <a:latin typeface="Courier New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alary: 50000.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.days: 1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alary: </a:t>
            </a:r>
            <a:r>
              <a:rPr b="0" lang="en-US" sz="1600" spc="-1" strike="noStrike">
                <a:solidFill>
                  <a:srgbClr val="003399"/>
                </a:solidFill>
                <a:latin typeface="Courier New"/>
              </a:rPr>
              <a:t>60000.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.days: 1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alary: </a:t>
            </a:r>
            <a:r>
              <a:rPr b="0" lang="en-US" sz="1600" spc="-1" strike="noStrike">
                <a:solidFill>
                  <a:srgbClr val="003399"/>
                </a:solidFill>
                <a:latin typeface="Courier New"/>
              </a:rPr>
              <a:t>55000.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.days: 1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olymorphism problem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4-5 classes with inheritance relationships are show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client program calls methods on objects of each clas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must read the code and determine the client's outpu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always place such a question on our final exams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 polymorphism proble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ume that the following four classes have been declared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Foo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ethod1(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foo 1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ethod2(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foo 2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"foo"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ar extends Foo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ethod2(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bar 2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 polymorphism proble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Baz extends Foo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method1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baz 1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"baz"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Mumble extends Baz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method2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mumble 2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would be the output of the following client code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o[] elements = {new Foo(), new Bar(), new Baz(), new Mumble()}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elements.length; i++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ements[i]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ements[i].method1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ements[i].method2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d classes from top (superclass) to bottom (subclass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clude all inherited method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3816360" y="2438280"/>
            <a:ext cx="1744560" cy="11462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"/>
          <p:cNvPicPr/>
          <p:nvPr/>
        </p:nvPicPr>
        <p:blipFill>
          <a:blip r:embed="rId2"/>
          <a:stretch/>
        </p:blipFill>
        <p:spPr>
          <a:xfrm>
            <a:off x="2424240" y="2440080"/>
            <a:ext cx="3139920" cy="25416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"/>
          <p:cNvPicPr/>
          <p:nvPr/>
        </p:nvPicPr>
        <p:blipFill>
          <a:blip r:embed="rId3"/>
          <a:stretch/>
        </p:blipFill>
        <p:spPr>
          <a:xfrm>
            <a:off x="2438280" y="2443320"/>
            <a:ext cx="4527720" cy="25365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"/>
          <p:cNvPicPr/>
          <p:nvPr/>
        </p:nvPicPr>
        <p:blipFill>
          <a:blip r:embed="rId4"/>
          <a:stretch/>
        </p:blipFill>
        <p:spPr>
          <a:xfrm>
            <a:off x="2432160" y="2441520"/>
            <a:ext cx="4724280" cy="38289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Diagramming the class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inding output with tabl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762120" y="1752480"/>
          <a:ext cx="7619760" cy="296712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  <a:gridCol w="1523880"/>
              </a:tblGrid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m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etho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etho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762120" y="1757520"/>
          <a:ext cx="7619760" cy="296676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  <a:gridCol w="1523880"/>
              </a:tblGrid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m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etho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o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az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etho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o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ar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umbl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762120" y="1752480"/>
          <a:ext cx="7619760" cy="296712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  <a:gridCol w="1523880"/>
              </a:tblGrid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m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etho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o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o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az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az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etho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o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ar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o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umbl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olymorphism answ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o[] elements={new Foo(), new Bar(), new Baz(), new Mumble()}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elements.length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elements[i]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ements[i].method1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ements[i].method2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o 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o 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o 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ar 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az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az 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o 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az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az 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umble 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Law firm employee analogy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mmon rules: hours, vacation, benefits, regulations ..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 employees attend a common orientation to learn general company ru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ch employee receives a 20-page manual of common ru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ach subdivision also has specific rule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ployee receives a smaller (1-3 page) manual of these ru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maller manual adds some new rules and also changes some rules from the large manu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4" descr="employee_manuals"/>
          <p:cNvPicPr/>
          <p:nvPr/>
        </p:nvPicPr>
        <p:blipFill>
          <a:blip r:embed="rId1"/>
          <a:stretch/>
        </p:blipFill>
        <p:spPr>
          <a:xfrm>
            <a:off x="5062680" y="4572000"/>
            <a:ext cx="377640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eparating behavio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y not just have a 22 page Lawyer manual, a 21-page Secretary manual, a 23-page Marketer manual, etc.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me advantages of the separate manual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intenance: Only one update if a common rule chang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cality: Quick discovery of all rules specific to lawy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me key ideas from this examp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neral rules are useful (the 20-page manual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ecific rules that may override general ones are also usefu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Verdana"/>
              </a:rPr>
              <a:t>Is-a relationships, hierarchies</a:t>
            </a:r>
            <a:endParaRPr b="0" lang="en-US" sz="36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s-a relationship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hierarchical connection where one category can be treated a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specialized version of anoth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very marketer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is a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mploy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very legal secretary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is 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ecreta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heritance hierarch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set of classes connected by is-a relationships that can share common cod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rcRect l="6013" t="0" r="0" b="45385"/>
          <a:stretch/>
        </p:blipFill>
        <p:spPr>
          <a:xfrm>
            <a:off x="2479680" y="4114800"/>
            <a:ext cx="3844800" cy="213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Employee regulatio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1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der the following employee regulati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mployees work 40 hours / week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mployees make $40,000 per year, except legal secretaries who make $5,000 extra per year ($45,000 total), and marketers who make $10,000 extra per year ($50,000 total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mployees have 2 weeks of paid vacation leave per year, except lawyers who get an extra week (a total of 3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mployees should use a yellow form to apply for leave, except for lawyers who use a pink for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11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ch type of employee has some unique behavi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wyers know how to su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rketers know how to advertis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retaries know how to take dict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gal secretaries know how to prepare legal document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n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Employe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clas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employees in general (20-page manual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Hours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0;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works 40 hours / week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0000.0;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$40,000.00 / yea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10;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2 weeks' paid vac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getVacationForm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"yellow";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use the yellow for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ercise: Implement clas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based on the previous employee regulations.  (Secretaries can take dictation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dundant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ecretary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clas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redundant class to represent secretari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ecretary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Hours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0;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works 40 hours / week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0000.0;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$40,000.00 / yea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10;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2 weeks' paid vac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getVacationForm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"yellow";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use the yellow for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oid takeDictation(String text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ln("Taking dictation of text: " + text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Desire for code-sharing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akeDictat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s the only unique behavior i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'd like to be able to say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secretari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ecretary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py all the contents from the Employee class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takeDictation(String text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aking dictation of text: " + text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ty Stepp</dc:creator>
  <dc:description/>
  <dc:language>en-US</dc:language>
  <cp:lastModifiedBy>Stuart Reges</cp:lastModifiedBy>
  <cp:lastPrinted>2009-04-22T19:24:48Z</cp:lastPrinted>
  <dcterms:modified xsi:type="dcterms:W3CDTF">2009-03-03T02:29:24Z</dcterms:modified>
  <cp:revision>1429</cp:revision>
  <dc:subject/>
  <dc:title>Building Java Programs</dc:title>
</cp:coreProperties>
</file>