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8113-460E-47EB-9292-4092C3C16B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6FDB-6C75-4CEA-B1F3-4C7D8453D7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6FD8-24D6-46CE-A2A3-926267F8B2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AB60-DEB6-41A2-8C78-BD54D59BF0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769A-C3B0-448A-95A0-2280E29E1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04FF-FFE2-47D8-B3CD-C1BC2CE0F3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1485-6C71-4DB3-A361-4966AD0DF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8DA9-CB46-4668-B134-D78E9B5BA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D9C2-647E-4EDB-915D-A8B2FA94B8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9C1F-49F6-44AD-ADF5-8E8279F200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D8A6-215C-402A-8C6B-A889C3794A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08CE-B4EA-42E7-97E9-37327C55E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42560"/>
                  <a:ext cx="915912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9760"/>
                <a:chOff x="0" y="142560"/>
                <a:chExt cx="9159840" cy="23976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142560"/>
                  <a:ext cx="91598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252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1257-60BA-4660-8A65-BD715EF3A50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20" y="142560"/>
                  <a:ext cx="915912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39760"/>
                <a:chOff x="0" y="142560"/>
                <a:chExt cx="9159840" cy="23976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142560"/>
                  <a:ext cx="91598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252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4473-E705-40D0-BF98-AC7679EF73E0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3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2 – 8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hadow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stance method parameter can have the same name as one of the object's fiel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hadow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parameters with same n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that refer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use the parameter, not the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voiding shadowing w/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id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een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e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seen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legal to have more than one constructor in a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structors must accept different parame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onstructor can call anothe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the (x, y) constru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048120" y="350532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657600" y="35053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6BC5-DB92-4893-BCA9-EBFCB2D3B65D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8, 20-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9,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nting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default, Java doesn't know how to print objec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10, 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: 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print a better string (but this is cumbersome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(" + p.x + ", " + p.y + ")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print the object itsel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: (10, 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how to convert an object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ed when an object is printed/concaten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prefer, you can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lici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class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ven if it isn't in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fault is the class's name and a hex (base-16) numb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that returns a suitable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name, return, parameters must match exac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client program uses the Point clas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1: " + p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2: " + p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/print each point's distance from the orig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1's distance from origin: " + p1.distanceFromOrigin(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2's distance from origin: " + p1.distanceFromOrigin(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move p1 and p2 and print them aga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1.translate(11, 6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.translate(1, 7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1: " + p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2: " + p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/print distance from p1 to p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stance from p1 to p2: " + p1.distance(p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EDE-0D4E-476D-B966-3AEEEE81F351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keywor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reference to the implici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plicit parameter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ct on which a method is call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fo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fer to a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constructor from another constru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names and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ually it is illegal to have two variables in the same scope with the same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rameter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distinct from the object's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20-05-22T17:42:47Z</dcterms:modified>
  <cp:revision>1424</cp:revision>
  <dc:subject/>
  <dc:title>Building Java Programs</dc:title>
</cp:coreProperties>
</file>