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6F4-7574-43CA-9D79-11C771E58C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51AF-F9F6-4C0A-A1B7-A59B649D3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7925-A438-4CAD-BF7C-C72EE8FD80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02BF-D5AB-47F2-8B2A-7B61D53B41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AFCE-45BA-475D-AEC7-566F1F91D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C769-976A-46A9-98B3-9B07B462D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69F2-6910-491B-B586-4C7BF45B8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2537-09E4-48E6-BDCF-F2BBC2DA4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D92D-6E4B-4E32-A46C-5D533D1AC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B619-486A-4850-88F7-A485C2243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C370-7980-4BB5-80CA-772E9921B9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BA83-9418-4BEC-87F4-6B0FF4984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65D-BB5D-4D97-9093-EABC81701C7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38C1-9F2E-4199-B6B7-02195180923F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2: Constructors and Encaps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3 - 8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0395-5B5D-41E6-B68D-02981C98A6C0}" type="slidenum"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5 - 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3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Hiding implementation details of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from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vid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external view (behavior) from internal view (st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tects the integrity of an object's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137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139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vate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ield can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outside the class can access or chang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 code sees an error when accessing private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.out.println("p1 is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private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ovide methods to get and/or set a field's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code will look more like th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int class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4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 is (5, 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4, 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6, 7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nefits of 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bstraction between an object and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s an object from unwanted access by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ank app forbids a client to chang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hange the class implement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be rewritten to use polar coordin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adiu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gle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but with the sam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onstrain objects' state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ari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with non-negative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5438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884-5FEE-48CE-B9DD-8DCADCF64482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Object initialization: constructo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0-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ly it takes 3 lines to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itialize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rather pass the fields' initial values as parame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able to this with most types of objects i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mplicitly returns the new object being cr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racing a constructor ca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when the following call is ma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87480" y="2824200"/>
          <a:ext cx="2945160" cy="54756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Group 34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122" name="Rectangle 35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constructor bu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identally writing a return type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not a constructor at all, but a metho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oring into local variables instead of fields ("shadowing"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eclares local variables with the same name as the fields, rather than storing values into the fields.  The fields remain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ass can have multiple constru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ne must accept a unique set of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onstructor for Point objects that accepts no parameters and initializes the point to the origin, (0, 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20-05-22T17:40:25Z</dcterms:modified>
  <cp:revision>1416</cp:revision>
  <dc:subject/>
  <dc:title>Building Java Programs</dc:title>
</cp:coreProperties>
</file>