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56AA-F383-49A4-A201-22B56980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E076-2A16-40DF-AC89-E2FDA882C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3316-0794-45D2-81F0-5DCFF8DB3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F964-972D-4E37-98FE-C3BBEB6F65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6874-8D98-4342-A2A4-19E6D73928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9CB7-2A2B-4DB3-831A-BCCC5F84B9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F30D-0722-4C18-8AFD-A4C5316F96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CD0F-85BB-4CDB-904C-5A15F925A8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5F9D-78E5-4F76-A1AB-DDDD32175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E6DF-B8C4-4776-B9AF-742ED70995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6F7B-AA9C-4F71-BF53-1949CD4AC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7747-59D4-4A81-9544-95238316E1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94B3-0CC6-45FB-82BF-52F90685E5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91DB-9D01-47FD-B626-591ACD982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D381-F0A5-4C50-83FC-20C43A9C091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DC80-1642-4873-90A0-95F7075DFD41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7-3: Arrays as Parameters; File Outp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, 4.3,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Ch. 7 #19-2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7 #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previous Sections program to use static methods that use arrays as parameters and retur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countAttended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mputePoints(attende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attended, points, grade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[] attended, int[] points, double[] grade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s the sections attended by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untAttended(String lin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 c = line.charAt(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1'  or  c == '0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 == '1'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tudent attended their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ended[i % 5]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ttende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mputePoints(int[] attended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attended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i] = Math.min(20, 3 * attended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File outpu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4 - 6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to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tails abou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given file does not exist, it is cr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given file already exists, it is overwrit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you print appears in a file, not on the conso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will have to open the file with an editor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open the same file for both reading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and writing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at the same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will overwrite your input file with an empty file (0 byte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 parameter to a method expecting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methods that can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previous Sections program to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output to the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tions_out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3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version uses a PrintStream for outpu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Stream out = new PrintStream(new File("sections_out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countAttended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mputePoints(attende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attended, points, grad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[] attended, int[] point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intStream 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mpting for a file nam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ask the user to tell us the file to re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le name might have space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for input fil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the user types a file name that does not exis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attendance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data file of section attendance and produces the following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s earn 3 points for each section attended up to 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ing file-not-found iss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s hav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we can us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fi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file.exists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ry a second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ry again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= new File(fi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file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pen the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file name to us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ourz.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ours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input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put file contains section attendance da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11101011111101001110110110110001110010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11111010100110101110101010101110101101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10101101101101111011010101101011101101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line represents a section (5 students, 9 week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means the student attended; 0 n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21"/>
          <p:cNvGrpSpPr/>
          <p:nvPr/>
        </p:nvGrpSpPr>
        <p:grpSpPr>
          <a:xfrm>
            <a:off x="152280" y="1936800"/>
            <a:ext cx="8763120" cy="2990880"/>
            <a:chOff x="152280" y="1936800"/>
            <a:chExt cx="8763120" cy="2990880"/>
          </a:xfrm>
        </p:grpSpPr>
        <p:sp>
          <p:nvSpPr>
            <p:cNvPr id="120" name="Text Box 6"/>
            <p:cNvSpPr/>
            <p:nvPr/>
          </p:nvSpPr>
          <p:spPr>
            <a:xfrm>
              <a:off x="152280" y="3232080"/>
              <a:ext cx="8763120" cy="169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week1 week2 week3 week4 week5 week6 week7 week8 week9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11111 11010 11111 10100 11101 10110 11000 11100 101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week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student1 student2 student3 student4 student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1        1        0        1        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" name="Group 19"/>
            <p:cNvGrpSpPr/>
            <p:nvPr/>
          </p:nvGrpSpPr>
          <p:grpSpPr>
            <a:xfrm>
              <a:off x="885600" y="1936800"/>
              <a:ext cx="7419960" cy="1295280"/>
              <a:chOff x="885600" y="1936800"/>
              <a:chExt cx="7419960" cy="1295280"/>
            </a:xfrm>
          </p:grpSpPr>
          <p:sp>
            <p:nvSpPr>
              <p:cNvPr id="122" name="Line 7"/>
              <p:cNvSpPr/>
              <p:nvPr/>
            </p:nvSpPr>
            <p:spPr>
              <a:xfrm flipH="1">
                <a:off x="990000" y="22417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7467480" y="2241720"/>
                <a:ext cx="838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343400" y="2241720"/>
                <a:ext cx="3045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10"/>
              <p:cNvSpPr/>
              <p:nvPr/>
            </p:nvSpPr>
            <p:spPr>
              <a:xfrm>
                <a:off x="885600" y="1936800"/>
                <a:ext cx="6991560" cy="3319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6" name="Group 11"/>
            <p:cNvGrpSpPr/>
            <p:nvPr/>
          </p:nvGrpSpPr>
          <p:grpSpPr>
            <a:xfrm>
              <a:off x="1369800" y="3460680"/>
              <a:ext cx="5106600" cy="905760"/>
              <a:chOff x="1369800" y="3460680"/>
              <a:chExt cx="5106600" cy="905760"/>
            </a:xfrm>
          </p:grpSpPr>
          <p:sp>
            <p:nvSpPr>
              <p:cNvPr id="127" name="Line 12"/>
              <p:cNvSpPr/>
              <p:nvPr/>
            </p:nvSpPr>
            <p:spPr>
              <a:xfrm flipH="1">
                <a:off x="1369800" y="3758040"/>
                <a:ext cx="151920" cy="6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Line 13"/>
              <p:cNvSpPr/>
              <p:nvPr/>
            </p:nvSpPr>
            <p:spPr>
              <a:xfrm>
                <a:off x="1980000" y="3764520"/>
                <a:ext cx="1753200" cy="6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14"/>
              <p:cNvSpPr/>
              <p:nvPr/>
            </p:nvSpPr>
            <p:spPr>
              <a:xfrm>
                <a:off x="2285280" y="3758040"/>
                <a:ext cx="4191120" cy="6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1523160" y="3460680"/>
                <a:ext cx="761760" cy="3175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ata transform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is problem we go from 0s and 1s to student gra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ransform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each transformation is stored in its ow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map between the data and array index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posi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or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 we read at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f input value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tore it at array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icit mapp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M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t index 0, 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O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t index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attendance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 whi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cussion sections and produces output of their attendance and sc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charAt(i) == '1'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1'  or  c == '0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ended[i % 5]++;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tudent attended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attended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i] = Math.min(20, 3 * attended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981600" y="1968480"/>
            <a:ext cx="320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45000" y="3067200"/>
            <a:ext cx="1535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et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avera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q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= " + avg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rray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i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array.leng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erage = 124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8960" y="3471840"/>
            <a:ext cx="19400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906800" y="4224240"/>
            <a:ext cx="9781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passed by refer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rays are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passed as parameters, they are pass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feren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hanges made in the method are also seen by the calle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All(iq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doubleAl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562720" y="5181480"/>
          <a:ext cx="3429000" cy="1041480"/>
        </p:xfrm>
        <a:graphic>
          <a:graphicData uri="http://schemas.openxmlformats.org/drawingml/2006/table">
            <a:tbl>
              <a:tblPr/>
              <a:tblGrid>
                <a:gridCol w="1182600"/>
                <a:gridCol w="749160"/>
                <a:gridCol w="747720"/>
                <a:gridCol w="749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23"/>
          <p:cNvSpPr/>
          <p:nvPr/>
        </p:nvSpPr>
        <p:spPr>
          <a:xfrm>
            <a:off x="7808760" y="31370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562720" y="5181480"/>
          <a:ext cx="3429000" cy="1041480"/>
        </p:xfrm>
        <a:graphic>
          <a:graphicData uri="http://schemas.openxmlformats.org/drawingml/2006/table">
            <a:tbl>
              <a:tblPr/>
              <a:tblGrid>
                <a:gridCol w="1182600"/>
                <a:gridCol w="749160"/>
                <a:gridCol w="747720"/>
                <a:gridCol w="749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6" name="Group 57"/>
          <p:cNvGrpSpPr/>
          <p:nvPr/>
        </p:nvGrpSpPr>
        <p:grpSpPr>
          <a:xfrm>
            <a:off x="6934320" y="3137040"/>
            <a:ext cx="1371600" cy="1739880"/>
            <a:chOff x="6934320" y="3137040"/>
            <a:chExt cx="1371600" cy="1739880"/>
          </a:xfrm>
        </p:grpSpPr>
        <p:sp>
          <p:nvSpPr>
            <p:cNvPr id="147" name="Rectangle 22"/>
            <p:cNvSpPr/>
            <p:nvPr/>
          </p:nvSpPr>
          <p:spPr>
            <a:xfrm>
              <a:off x="6934320" y="313704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 flipH="1">
              <a:off x="7924680" y="338940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Oval 54"/>
            <p:cNvSpPr/>
            <p:nvPr/>
          </p:nvSpPr>
          <p:spPr>
            <a:xfrm>
              <a:off x="7924680" y="32004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Group 56"/>
          <p:cNvGrpSpPr/>
          <p:nvPr/>
        </p:nvGrpSpPr>
        <p:grpSpPr>
          <a:xfrm>
            <a:off x="3352680" y="5715000"/>
            <a:ext cx="1981440" cy="444600"/>
            <a:chOff x="3352680" y="5715000"/>
            <a:chExt cx="1981440" cy="444600"/>
          </a:xfrm>
        </p:grpSpPr>
        <p:sp>
          <p:nvSpPr>
            <p:cNvPr id="151" name="Rectangle 30"/>
            <p:cNvSpPr/>
            <p:nvPr/>
          </p:nvSpPr>
          <p:spPr>
            <a:xfrm>
              <a:off x="3352680" y="571500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48"/>
            <p:cNvSpPr/>
            <p:nvPr/>
          </p:nvSpPr>
          <p:spPr>
            <a:xfrm>
              <a:off x="4648320" y="5931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55"/>
            <p:cNvSpPr/>
            <p:nvPr/>
          </p:nvSpPr>
          <p:spPr>
            <a:xfrm>
              <a:off x="4362480" y="5749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 (declarin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Digits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 (callin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ally = countDigits(22923100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rrays.toString(tally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2, 1, 3, 1, 0, 0, 0, 1, 0, 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3T23:36:54Z</dcterms:modified>
  <cp:revision>1376</cp:revision>
  <dc:subject/>
  <dc:title>Building Java Programs</dc:title>
</cp:coreProperties>
</file>