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9FB7-ECD9-4553-8ED1-D6349BAA0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AB26-D9A1-4408-B17D-9D22E80F6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is is also the reason that it works when you pas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 parameter to a method, because it is drawing with the same pen object onto the sam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7145-C961-4C1D-96B8-4715D20DE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8555-928D-4FDE-B146-A36EE280ED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3332-C6D0-414C-B748-B164883561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0AC7-A3F3-4AF8-AD6D-99DA5DA98E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CEC8-D0E5-4D26-B03C-B976BDF067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5827-97EE-4BAA-BB88-7EB9331281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7BEB-952C-4135-AE72-C8B39313F2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9AD1-3405-40F9-873A-A2FB68B6BF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B591-6235-44E4-9A4D-127EC58906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F8A4-A0C0-4C88-A8C2-6C44DADD84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845E-195E-49B9-8727-3485B68095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B542-DF06-48E7-9ED6-E159F539AF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CB65-04BA-4519-991B-85A4658FDB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625C-8B70-4ECD-9A1A-CBF1637FAE6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4E6A-DE21-4798-A960-C55E60AF5DC2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Array traversals,</a:t>
            </a:r>
            <a:br>
              <a:rPr sz="4800"/>
            </a:b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text processing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7.1, 4.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Ch. 7 #8, Ch. 4 #19-2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xt processing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int[] tallyVotes(String vote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tallies = new int[3]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// M -&gt; 0, O -&gt; 1, I -&gt;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 = 0; i &lt; votes.length()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otes.charAt(i) == 'M'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llies[0]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if(votes.charAt(i) == 'O'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llies[1]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// votes.charAt(i) == 'I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llies[2]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Votes: " + Arrays.toString(tally));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Arrays as parameters and returns;</a:t>
            </a:r>
            <a:br>
              <a:rPr sz="4800"/>
            </a:b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values vs. reference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7.1, 3.3, 4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elf-checks: Ch. 7 #5, 8, 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ercises: Ch. 7 #1-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F8E8-C912-496F-85DC-158A290C637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wapping valu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 a with b (incorrectl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a = 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b = 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wrong with this code?  What is its outpu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d code should be replaced with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temp = 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 = 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b = te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wap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es the follow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work?  Why or why no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 a with 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lue semantics (primitives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ue semant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Behavior where values are copied when assigned to each other or passed as parame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ne primitive variable is assigned to anothe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s value is copi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ing the value of one variable does not affect oth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572160" y="411480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572160" y="487692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Reference semantics (objects)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ference semant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Behavior where variables actually store the address of an object in memo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ne reference variable is assigned to another, the object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pied; both variables refer to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ame obje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ing the value of one variabl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ffect oth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429000" y="52070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429000" y="52070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4" name="Group 130"/>
          <p:cNvGrpSpPr/>
          <p:nvPr/>
        </p:nvGrpSpPr>
        <p:grpSpPr>
          <a:xfrm>
            <a:off x="685800" y="5181480"/>
            <a:ext cx="2438280" cy="444240"/>
            <a:chOff x="685800" y="5181480"/>
            <a:chExt cx="2438280" cy="444240"/>
          </a:xfrm>
        </p:grpSpPr>
        <p:sp>
          <p:nvSpPr>
            <p:cNvPr id="155" name="Rectangle 127"/>
            <p:cNvSpPr/>
            <p:nvPr/>
          </p:nvSpPr>
          <p:spPr>
            <a:xfrm>
              <a:off x="685800" y="51814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128"/>
            <p:cNvSpPr/>
            <p:nvPr/>
          </p:nvSpPr>
          <p:spPr>
            <a:xfrm>
              <a:off x="2209680" y="539712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Oval 129"/>
            <p:cNvSpPr/>
            <p:nvPr/>
          </p:nvSpPr>
          <p:spPr>
            <a:xfrm>
              <a:off x="1854000" y="52052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8" name="Group 135"/>
          <p:cNvGrpSpPr/>
          <p:nvPr/>
        </p:nvGrpSpPr>
        <p:grpSpPr>
          <a:xfrm>
            <a:off x="685800" y="5943240"/>
            <a:ext cx="2438280" cy="457560"/>
            <a:chOff x="685800" y="5943240"/>
            <a:chExt cx="2438280" cy="457560"/>
          </a:xfrm>
        </p:grpSpPr>
        <p:sp>
          <p:nvSpPr>
            <p:cNvPr id="159" name="Rectangle 132"/>
            <p:cNvSpPr/>
            <p:nvPr/>
          </p:nvSpPr>
          <p:spPr>
            <a:xfrm>
              <a:off x="685800" y="595656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133"/>
            <p:cNvSpPr/>
            <p:nvPr/>
          </p:nvSpPr>
          <p:spPr>
            <a:xfrm flipV="1">
              <a:off x="2209680" y="594324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Oval 134"/>
            <p:cNvSpPr/>
            <p:nvPr/>
          </p:nvSpPr>
          <p:spPr>
            <a:xfrm>
              <a:off x="1854000" y="598032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ferences and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rays and objects use reference semantics.  Why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iciency.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ing large objects slows down a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haring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t's useful to share an object's data among meth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34"/>
          <p:cNvGrpSpPr/>
          <p:nvPr/>
        </p:nvGrpSpPr>
        <p:grpSpPr>
          <a:xfrm>
            <a:off x="1981080" y="4584600"/>
            <a:ext cx="2286000" cy="444600"/>
            <a:chOff x="1981080" y="4584600"/>
            <a:chExt cx="2286000" cy="444600"/>
          </a:xfrm>
        </p:grpSpPr>
        <p:sp>
          <p:nvSpPr>
            <p:cNvPr id="166" name="Rectangle 28"/>
            <p:cNvSpPr/>
            <p:nvPr/>
          </p:nvSpPr>
          <p:spPr>
            <a:xfrm>
              <a:off x="1981080" y="45846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3505320" y="48006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Oval 30"/>
            <p:cNvSpPr/>
            <p:nvPr/>
          </p:nvSpPr>
          <p:spPr>
            <a:xfrm>
              <a:off x="3149640" y="46083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9" name="Group 35"/>
          <p:cNvGrpSpPr/>
          <p:nvPr/>
        </p:nvGrpSpPr>
        <p:grpSpPr>
          <a:xfrm>
            <a:off x="1981080" y="5423040"/>
            <a:ext cx="2286000" cy="444240"/>
            <a:chOff x="1981080" y="5423040"/>
            <a:chExt cx="2286000" cy="444240"/>
          </a:xfrm>
        </p:grpSpPr>
        <p:sp>
          <p:nvSpPr>
            <p:cNvPr id="170" name="Rectangle 31"/>
            <p:cNvSpPr/>
            <p:nvPr/>
          </p:nvSpPr>
          <p:spPr>
            <a:xfrm>
              <a:off x="1981080" y="54230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Line 32"/>
            <p:cNvSpPr/>
            <p:nvPr/>
          </p:nvSpPr>
          <p:spPr>
            <a:xfrm flipV="1">
              <a:off x="3505320" y="548604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Oval 33"/>
            <p:cNvSpPr/>
            <p:nvPr/>
          </p:nvSpPr>
          <p:spPr>
            <a:xfrm>
              <a:off x="3149640" y="54468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0" descr=""/>
          <p:cNvPicPr/>
          <p:nvPr/>
        </p:nvPicPr>
        <p:blipFill>
          <a:blip r:embed="rId1"/>
          <a:stretch/>
        </p:blipFill>
        <p:spPr>
          <a:xfrm>
            <a:off x="7289640" y="5056200"/>
            <a:ext cx="1676520" cy="1190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bject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n object is passed as a parameter, the object i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pied.  The parameter refers to the same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parameter is modified, i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ffect the original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window = new DrawingPanel(8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Background(Color.YELLOW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(window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DrawingPanel panel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Color.CYA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7283520" y="5045040"/>
            <a:ext cx="1695240" cy="1203480"/>
          </a:xfrm>
          <a:prstGeom prst="rect">
            <a:avLst/>
          </a:prstGeom>
          <a:ln w="0">
            <a:noFill/>
          </a:ln>
        </p:spPr>
      </p:pic>
      <p:sp>
        <p:nvSpPr>
          <p:cNvPr id="177" name="Line 10"/>
          <p:cNvSpPr/>
          <p:nvPr/>
        </p:nvSpPr>
        <p:spPr>
          <a:xfrm>
            <a:off x="7029360" y="358128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7029360" y="35812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7029360" y="41022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21"/>
          <p:cNvSpPr/>
          <p:nvPr/>
        </p:nvSpPr>
        <p:spPr>
          <a:xfrm>
            <a:off x="4648320" y="526716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4648320" y="526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26"/>
          <p:cNvSpPr/>
          <p:nvPr/>
        </p:nvSpPr>
        <p:spPr>
          <a:xfrm>
            <a:off x="4648320" y="57880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5791320" y="5267160"/>
            <a:ext cx="59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4" name="Group 39"/>
          <p:cNvGrpSpPr/>
          <p:nvPr/>
        </p:nvGrpSpPr>
        <p:grpSpPr>
          <a:xfrm>
            <a:off x="4419720" y="5356080"/>
            <a:ext cx="2514600" cy="444240"/>
            <a:chOff x="4419720" y="5356080"/>
            <a:chExt cx="2514600" cy="444240"/>
          </a:xfrm>
        </p:grpSpPr>
        <p:sp>
          <p:nvSpPr>
            <p:cNvPr id="185" name="Rectangle 19"/>
            <p:cNvSpPr/>
            <p:nvPr/>
          </p:nvSpPr>
          <p:spPr>
            <a:xfrm>
              <a:off x="4419720" y="5356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>
              <a:off x="5943600" y="5571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Oval 35"/>
            <p:cNvSpPr/>
            <p:nvPr/>
          </p:nvSpPr>
          <p:spPr>
            <a:xfrm>
              <a:off x="5587920" y="53798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8" name="Group 38"/>
          <p:cNvGrpSpPr/>
          <p:nvPr/>
        </p:nvGrpSpPr>
        <p:grpSpPr>
          <a:xfrm>
            <a:off x="7029360" y="3581280"/>
            <a:ext cx="1631880" cy="1143000"/>
            <a:chOff x="7029360" y="3581280"/>
            <a:chExt cx="1631880" cy="1143000"/>
          </a:xfrm>
        </p:grpSpPr>
        <p:sp>
          <p:nvSpPr>
            <p:cNvPr id="189" name="Rectangle 8"/>
            <p:cNvSpPr/>
            <p:nvPr/>
          </p:nvSpPr>
          <p:spPr>
            <a:xfrm>
              <a:off x="7029360" y="35812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 flipH="1">
              <a:off x="8457840" y="3886200"/>
              <a:ext cx="19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Oval 37"/>
            <p:cNvSpPr/>
            <p:nvPr/>
          </p:nvSpPr>
          <p:spPr>
            <a:xfrm>
              <a:off x="8280360" y="36021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array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scores = {13, 17, 12, 15, 11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vg =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or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traversal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ravers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examination of each element of an arr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ength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 something with 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i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ing the el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arching for a specific val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rranging the el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uting the sum, product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Quick array initializ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…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when you know what the array's elements will 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iler figures out the size by counting the val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Array mystery"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element values are stored in the following array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 = {1, 7, 5, 6, 4, 14, 11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 + 1] = a[i + 1] *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79800" y="44449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179800" y="44449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xt process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ext process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Examining, editing, formatting tex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involv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ps to examine each letter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Courier New"/>
              </a:rPr>
              <a:t>Count the number of times the letter 's' occurs in a f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Courier New"/>
              </a:rPr>
              <a:t>Find which letter is most common in a f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Courier New"/>
              </a:rPr>
              <a:t>Count A, C, T and Gs 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Courier New"/>
              </a:rPr>
              <a:t>s representing DNA stran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are represented internally as arrays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"Ali G.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19280" y="5219640"/>
          <a:ext cx="5924520" cy="1028880"/>
        </p:xfrm>
        <a:graphic>
          <a:graphicData uri="http://schemas.openxmlformats.org/drawingml/2006/table">
            <a:tbl>
              <a:tblPr/>
              <a:tblGrid>
                <a:gridCol w="1233360"/>
                <a:gridCol w="781200"/>
                <a:gridCol w="780840"/>
                <a:gridCol w="782640"/>
                <a:gridCol w="781200"/>
                <a:gridCol w="782640"/>
                <a:gridCol w="7826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 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G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.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all: 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rimitive type representing a single charac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s are surrounded with apostrophe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ss a string's characters with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firstLetter == 'c'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at's good enough for me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 to examine each charac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coolMajor = "CSE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coolMajor.length()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ol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xt processing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allyVot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accept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arameter and prints the number of McCain, Obama and independent vo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(M)cCain, (O)bama, (I)ndepend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voteText = "MOOOOOOMMMMMOOOOOOMOMMIMOMMIMOMMIO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llyVotes(voteTex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tes: [16, 14, 3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5396040" y="3141720"/>
            <a:ext cx="27828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Arrays.toSt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.to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ccepts an array as a parameter and retur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presentation of its el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e = {0, 2, 4, 6, 8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[1] = e[3] + e[4]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.toString(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is [0, 14, 4, 6, 8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Array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packag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has useful static methods for manipulating array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320" y="2266920"/>
          <a:ext cx="8991360" cy="4206960"/>
        </p:xfrm>
        <a:graphic>
          <a:graphicData uri="http://schemas.openxmlformats.org/drawingml/2006/table">
            <a:tbl>
              <a:tblPr/>
              <a:tblGrid>
                <a:gridCol w="419076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the index of the given value in a sorted array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ray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ray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 two arrays contain the same elements in the same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s every element in the array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ranges the elements in the array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a string representing the array,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10, 30, 17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2-23T23:36:50Z</dcterms:modified>
  <cp:revision>1371</cp:revision>
  <dc:subject/>
  <dc:title>Building Java Programs</dc:title>
</cp:coreProperties>
</file>