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2196B-98EB-46A4-B9F6-F374D7AC1C4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E15F2-6A82-4345-878C-E2E3F580C96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B06C2-C3E3-447D-A8EB-A0FAE98AD24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5C06A-28F7-460A-96BD-A2EF12EC1F9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DB27F-69E9-43A5-B0F7-BFAC45033E3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634C2-579D-466F-A8D6-7F91725FED5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07093-A96D-40EF-9E1A-5D9E1C6984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70354-6909-42FA-A331-0BB1B39FEC8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48CB0-E6A7-4171-95E2-B48EC76CDBF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708B7-C350-43E8-AC77-A5FE34ECEFA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6CCF9-7D77-43C7-B83D-767D9F95686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4656B-EFF4-4356-9911-6778E213E5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3" name="Freeform 6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>
              <a:off x="4267080" y="0"/>
              <a:ext cx="4876920" cy="27072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7" name="Freeform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0080" y="142560"/>
                  <a:ext cx="914976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Freeform 12"/>
              <p:cNvGrpSpPr/>
              <p:nvPr/>
            </p:nvGrpSpPr>
            <p:grpSpPr>
              <a:xfrm>
                <a:off x="0" y="142560"/>
                <a:ext cx="9159840" cy="237240"/>
                <a:chOff x="0" y="142560"/>
                <a:chExt cx="9159840" cy="237240"/>
              </a:xfrm>
            </p:grpSpPr>
            <p:pic>
              <p:nvPicPr>
                <p:cNvPr id="10" name="Freeform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120" y="142560"/>
                  <a:ext cx="9153720" cy="237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pic>
        <p:nvPicPr>
          <p:cNvPr id="12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3" descr=""/>
          <p:cNvPicPr/>
          <p:nvPr/>
        </p:nvPicPr>
        <p:blipFill>
          <a:blip r:embed="rId6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23" descr=""/>
          <p:cNvPicPr/>
          <p:nvPr/>
        </p:nvPicPr>
        <p:blipFill>
          <a:blip r:embed="rId7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15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4EF38-9593-4EC2-B0F0-633EBEDC51E4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0676A-5216-45F6-B97A-DD6A4E5D7257}" type="slidenum">
              <a:rPr b="0" lang="en-US" sz="12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3" descr=""/>
          <p:cNvPicPr/>
          <p:nvPr/>
        </p:nvPicPr>
        <p:blipFill>
          <a:blip r:embed="rId3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3" descr=""/>
          <p:cNvPicPr/>
          <p:nvPr/>
        </p:nvPicPr>
        <p:blipFill>
          <a:blip r:embed="rId4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60" name="Freeform 6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Freeform 7"/>
            <p:cNvSpPr/>
            <p:nvPr/>
          </p:nvSpPr>
          <p:spPr>
            <a:xfrm>
              <a:off x="4267080" y="0"/>
              <a:ext cx="4876920" cy="27072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2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3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64" name="Freeform 1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80" y="142560"/>
                  <a:ext cx="914976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5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6" name="Freeform 12"/>
              <p:cNvGrpSpPr/>
              <p:nvPr/>
            </p:nvGrpSpPr>
            <p:grpSpPr>
              <a:xfrm>
                <a:off x="0" y="142560"/>
                <a:ext cx="9159840" cy="237240"/>
                <a:chOff x="0" y="142560"/>
                <a:chExt cx="9159840" cy="237240"/>
              </a:xfrm>
            </p:grpSpPr>
            <p:pic>
              <p:nvPicPr>
                <p:cNvPr id="67" name="Freeform 1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120" y="142560"/>
                  <a:ext cx="9153720" cy="237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6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39384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668160" algn="ctr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977760" algn="ctr">
              <a:spcBef>
                <a:spcPts val="425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4" marL="1252440" algn="ctr">
              <a:spcBef>
                <a:spcPts val="425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5" marL="1252440">
              <a:spcBef>
                <a:spcPts val="425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6" marL="1252440">
              <a:spcBef>
                <a:spcPts val="425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pter 7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cture 7-1: Array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7.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lf-checks: #1-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deos: Ch. 7 #1-4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ccessing array element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numbers = new int[8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1] = 3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4] = 99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6] = 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numbers[1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x] = 4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numbers[6]] = 11;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use numbers[6] as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914400" y="4038480"/>
          <a:ext cx="1428840" cy="52056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152280" y="5410080"/>
          <a:ext cx="1447920" cy="520560"/>
        </p:xfrm>
        <a:graphic>
          <a:graphicData uri="http://schemas.openxmlformats.org/drawingml/2006/table">
            <a:tbl>
              <a:tblPr/>
              <a:tblGrid>
                <a:gridCol w="1447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umb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914400" y="4038480"/>
          <a:ext cx="1428840" cy="52056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1752480" y="4876920"/>
          <a:ext cx="6416640" cy="104112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1752480" y="4876920"/>
          <a:ext cx="6416640" cy="104112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rrays and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fo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loop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t is common to u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loops to access array elemen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 = 0; i &lt; 8; i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(numbers[i] + " 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output: 0 4 11 0 44 0 0 2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metimes we assign each element a value in a loop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8; i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i] = 2 * i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981080" y="5130720"/>
          <a:ext cx="530856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3986280" y="2538360"/>
            <a:ext cx="216360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he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length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field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 array'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field stores its number of elemen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eng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umbers.length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numbers[i] + " 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utput: 0 2 4 6 8 10 12 1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does not use parentheses like a String'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ength(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expressions refer to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last element of any array?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middle elemen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Weather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 an array to solve the weather problem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days' temperatures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1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2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3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4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5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6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7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 temp = 44.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4 days were above averag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Weather answ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560" y="137160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Reads temperatures from the user, computes average and # days above averag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class Weather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("How many days' temperatures? 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days = console.nextInt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[] temperatures = new int[days];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array to store days' temperatur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nt i = 0; i &lt; days; i++) { 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read/store each day's temperatu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("Day " + (i + 1) + "'s high temp: 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emperatures[i] = console.nextInt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m += temperatures[i]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average = (double) sum / days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count = 0;                   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see if each day is above aver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nt i = 0; i &lt; days; i++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emperatures[i]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&gt; average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nt++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report resul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f("Average temp = %.1f\n", average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count + " days above average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Arrays for </a:t>
            </a:r>
            <a:br>
              <a:rPr sz="4800"/>
            </a:b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counting and tallying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7.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lf-checks: #8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 multi-counter proble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blem: Examine a large integer and count the numbe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f occurrences of every digit from 0 through 9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30000"/>
              </a:lnSpc>
              <a:spcBef>
                <a:spcPts val="2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3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The number 229231007 contain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wo 0s, one 1, three 2s, one 7, and one 9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could declare 10 counter variables for this..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counter0, counter1, counter2, counter3, counter4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nter5, counter6, counter7, counter8, counter9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2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uck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 multi-counter proble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better solution is to use an array of size 10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element at index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ll store the counter for digit valu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 integer value 229231007, our array should stor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index at which a value is stored has meaning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times it doesn't mat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about the weather cas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371600" y="274320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reating an array of talli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 = 229231007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[] counts = new int[10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num &gt; 0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luck off a digit and add to proper coun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digit = num % 1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nts[digit]++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 = num / 1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90720" y="4495680"/>
          <a:ext cx="641664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rray histogram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iven a file of integer exam scores, such a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rite a program that will print a histogram of stars indicating the number of students who earned each unique exam sco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85: ****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86: ***********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87: **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88: 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91: ***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 problem we can't solv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ider the following program (input underlined)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days' temperatures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1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2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3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4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5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6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7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 temp = 44.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4 days were above averag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4" descr="CLOUDS&amp;RAIN"/>
          <p:cNvPicPr/>
          <p:nvPr/>
        </p:nvPicPr>
        <p:blipFill>
          <a:blip r:embed="rId2"/>
          <a:stretch/>
        </p:blipFill>
        <p:spPr>
          <a:xfrm>
            <a:off x="6629400" y="2057400"/>
            <a:ext cx="203976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Histogram variatio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urve the scores; add a fixed number to each score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But don't allow a curved score to exceed the max of 101.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rt the data with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ndow is 100px ta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px between each b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0px tall bar for each student who earned that sco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2"/>
          <a:stretch/>
        </p:blipFill>
        <p:spPr>
          <a:xfrm>
            <a:off x="4724280" y="4165560"/>
            <a:ext cx="411480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rray histogram answ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Reads an input file of test scores (integers) and displays 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graphical histogram of the score distribution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class Histogram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blic static final int CURVE = 5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adjustment to each exam sco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canner input = new Scanner(new File("midterm.txt"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[] counts = new int[101]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counters of test scores 0 - 1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hile (input.hasNextInt()) { 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read file into counts arra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score = input.nextInt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core = Math.min(score +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V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, 100);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curve the exam sco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unts[score]++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if score is 87, then counts[87]++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nt i = 0; i &lt; counts.length; i++) {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print star histogra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unts[i]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&gt; 0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(i + ": 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nt j = 0; j &lt;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unts[i]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; j++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rray histogram solution 2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use a DrawingPanel to draw the histogra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rawingPanel p = new DrawingPanel(counts.length * 3 + 6, 200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raphics g = p.getGraphics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.setColor(Color.BLACK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nt i = 0; i &lt; counts.length; i++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.drawLine(i * 3 + 3, 175, i * 3 + 3, 175 - 5 * counts[i]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Why the problem is tough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need each input value twic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compute the average (a cumulative sum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count how many were above aver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could read each value into a variable... but w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n't know how many days are needed until the program ru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n't know how many variables to decla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76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need a way to declare many variables in one step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rray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ra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object that stores many values of the same typ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leme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One value in an arra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dex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A 0-based integer to access an element from an arra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50840" y="325116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6" name="Group 55"/>
          <p:cNvGrpSpPr/>
          <p:nvPr/>
        </p:nvGrpSpPr>
        <p:grpSpPr>
          <a:xfrm>
            <a:off x="1553760" y="4394160"/>
            <a:ext cx="6341400" cy="856080"/>
            <a:chOff x="1553760" y="4394160"/>
            <a:chExt cx="6341400" cy="856080"/>
          </a:xfrm>
        </p:grpSpPr>
        <p:grpSp>
          <p:nvGrpSpPr>
            <p:cNvPr id="117" name="Group 56"/>
            <p:cNvGrpSpPr/>
            <p:nvPr/>
          </p:nvGrpSpPr>
          <p:grpSpPr>
            <a:xfrm>
              <a:off x="1553760" y="4394160"/>
              <a:ext cx="1374120" cy="856080"/>
              <a:chOff x="1553760" y="4394160"/>
              <a:chExt cx="1374120" cy="856080"/>
            </a:xfrm>
          </p:grpSpPr>
          <p:sp>
            <p:nvSpPr>
              <p:cNvPr id="118" name="Line 57"/>
              <p:cNvSpPr/>
              <p:nvPr/>
            </p:nvSpPr>
            <p:spPr>
              <a:xfrm flipV="1">
                <a:off x="2209680" y="439416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Text Box 58"/>
              <p:cNvSpPr/>
              <p:nvPr/>
            </p:nvSpPr>
            <p:spPr>
              <a:xfrm>
                <a:off x="1553760" y="4851360"/>
                <a:ext cx="13741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element 0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20" name="Group 59"/>
            <p:cNvGrpSpPr/>
            <p:nvPr/>
          </p:nvGrpSpPr>
          <p:grpSpPr>
            <a:xfrm>
              <a:off x="3763800" y="4394160"/>
              <a:ext cx="1374120" cy="856080"/>
              <a:chOff x="3763800" y="4394160"/>
              <a:chExt cx="1374120" cy="856080"/>
            </a:xfrm>
          </p:grpSpPr>
          <p:sp>
            <p:nvSpPr>
              <p:cNvPr id="121" name="Line 60"/>
              <p:cNvSpPr/>
              <p:nvPr/>
            </p:nvSpPr>
            <p:spPr>
              <a:xfrm flipV="1">
                <a:off x="4419720" y="439416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Text Box 61"/>
              <p:cNvSpPr/>
              <p:nvPr/>
            </p:nvSpPr>
            <p:spPr>
              <a:xfrm>
                <a:off x="3763800" y="4851360"/>
                <a:ext cx="13741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element 4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23" name="Group 62"/>
            <p:cNvGrpSpPr/>
            <p:nvPr/>
          </p:nvGrpSpPr>
          <p:grpSpPr>
            <a:xfrm>
              <a:off x="6521040" y="4394160"/>
              <a:ext cx="1374120" cy="856080"/>
              <a:chOff x="6521040" y="4394160"/>
              <a:chExt cx="1374120" cy="856080"/>
            </a:xfrm>
          </p:grpSpPr>
          <p:sp>
            <p:nvSpPr>
              <p:cNvPr id="124" name="Line 63"/>
              <p:cNvSpPr/>
              <p:nvPr/>
            </p:nvSpPr>
            <p:spPr>
              <a:xfrm flipV="1">
                <a:off x="7176960" y="439416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Text Box 64"/>
              <p:cNvSpPr/>
              <p:nvPr/>
            </p:nvSpPr>
            <p:spPr>
              <a:xfrm>
                <a:off x="6521040" y="4851360"/>
                <a:ext cx="13741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element 9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rray declara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4760" indent="-285840">
              <a:spcBef>
                <a:spcPts val="550"/>
              </a:spcBef>
              <a:tabLst>
                <a:tab algn="l" pos="0"/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]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new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length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tabLst>
                <a:tab algn="l" pos="0"/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numbers = new int[10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74760" indent="-285840">
              <a:spcBef>
                <a:spcPts val="550"/>
              </a:spcBef>
              <a:tabLst>
                <a:tab algn="l" pos="0"/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762120" y="4216320"/>
          <a:ext cx="641664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rray declaration, cont.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length can be any integer expressi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2 * 3 + 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data = new int[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% 5 + 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ach element initially gets a "zero-equivalent" valu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073240" y="3846600"/>
          <a:ext cx="4937040" cy="2325600"/>
        </p:xfrm>
        <a:graphic>
          <a:graphicData uri="http://schemas.openxmlformats.org/drawingml/2006/table">
            <a:tbl>
              <a:tblPr/>
              <a:tblGrid>
                <a:gridCol w="2079360"/>
                <a:gridCol w="285768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ault 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ole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ring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 other ob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means, "no object"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ccessing element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de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acce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de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] =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modif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s[0] = 27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s[3] = -6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s[0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s[3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&lt; 0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Element 3 is negative.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355760" y="503856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1355760" y="502920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rrays of other typ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[] results = new double[5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sults[2] = 3.4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sults[4] = -0.5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[] tests = new boolean[6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s[3] = tru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828800" y="2514600"/>
          <a:ext cx="4073400" cy="812520"/>
        </p:xfrm>
        <a:graphic>
          <a:graphicData uri="http://schemas.openxmlformats.org/drawingml/2006/table">
            <a:tbl>
              <a:tblPr/>
              <a:tblGrid>
                <a:gridCol w="874800"/>
                <a:gridCol w="600120"/>
                <a:gridCol w="600120"/>
                <a:gridCol w="637920"/>
                <a:gridCol w="600120"/>
                <a:gridCol w="760320"/>
              </a:tblGrid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3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-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1828800" y="4878360"/>
          <a:ext cx="5540400" cy="792000"/>
        </p:xfrm>
        <a:graphic>
          <a:graphicData uri="http://schemas.openxmlformats.org/drawingml/2006/table">
            <a:tbl>
              <a:tblPr/>
              <a:tblGrid>
                <a:gridCol w="874800"/>
                <a:gridCol w="777960"/>
                <a:gridCol w="777600"/>
                <a:gridCol w="777960"/>
                <a:gridCol w="776160"/>
                <a:gridCol w="777960"/>
                <a:gridCol w="77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Out-of-boun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gal indexes: between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ray's length - 1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ding or writing any index outside this range will throw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IndexOutOfBoundsExcep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2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data = new int[10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data[0]);       // ok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data[9]);       // ok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ystem.out.println(data[-1]);      // excep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ystem.out.println(data[10]);      // excep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127160" y="4876920"/>
          <a:ext cx="6416640" cy="104112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ty Stepp</dc:creator>
  <dc:description/>
  <dc:language>en-US</dc:language>
  <cp:lastModifiedBy>Registered User</cp:lastModifiedBy>
  <cp:lastPrinted>2009-04-22T19:24:48Z</cp:lastPrinted>
  <dcterms:modified xsi:type="dcterms:W3CDTF">2008-11-07T07:31:30Z</dcterms:modified>
  <cp:revision>1360</cp:revision>
  <dc:subject/>
  <dc:title>Building Java Programs</dc:title>
</cp:coreProperties>
</file>