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3737-4A36-44BB-B81C-323146BF86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D8D3-4B6F-4378-9CCA-3CE00A34B1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3D32-54AD-43F1-B2CE-9ED08C6D6D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3652-1CFC-474C-8809-0DFA5706C9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EAFA-0E1D-4581-A63A-7C3C136570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33A2-7234-4F8A-B228-5450E7C365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87B4-8E4E-4FE0-9B97-8EBDA7E132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E2FD-D781-4268-806C-C25DA5A730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9426-7930-4C48-B916-239992EF73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EDDB-1845-456B-BD29-8C9C142EF6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6EEB-E71F-410B-8A5D-935801FC42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E5D7-0187-46C8-8656-BFE8CA8138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3D4D-E193-4077-968D-BFE663ACA35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75E4-3D1D-4A0F-B051-ADE53BD7FD4A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Line-based</a:t>
            </a:r>
            <a:br>
              <a:rPr sz="4800"/>
            </a:b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file processing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6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#7-1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1-4, 8-1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answer, correcte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cesses an employee input file and outputs each employee's hou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ours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rows FileNotFoundExceptio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lineScan.next();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.g. "Brad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sum + lineScan.nextDoubl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average = sum / coun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ame + " (ID#" + id + ") worked " 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 " hours (" + average + " hours/day)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search for a person by I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d worked 36.8 hours (7.36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#293 not f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his program searches an input file of employees' hours work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a particular employee and outputs that employee's hours dat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HoursWorked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Enter an ID: 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earchId = console.nextInt();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findPerson(input, searchI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ocessLine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ID #" + searchId + " was not found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Locates and returns the line of data about a particular pers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findPerson(Scanner input, int searchI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id == searchI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line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we found them!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"";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not found, so return an empty 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otals the hours worked by the person and outputs their info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processLine(String line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d = lineScan.nextInt();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name = lineScan.next();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"Brad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ours = 0.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hours += lineScan.nextDoubl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ays++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name + " worked " + hours + " hours (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+ (hours / days) + " hours/day)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6-3: Searching Fi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6.3, 6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all: Line-based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nsumes from the input cursor to the nex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.hasNext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.next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cess this 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9240" y="1614600"/>
          <a:ext cx="8696160" cy="1665000"/>
        </p:xfrm>
        <a:graphic>
          <a:graphicData uri="http://schemas.openxmlformats.org/drawingml/2006/table">
            <a:tbl>
              <a:tblPr/>
              <a:tblGrid>
                <a:gridCol w="2165040"/>
                <a:gridCol w="6531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the next entire line of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lines of input to read 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all: Tokenizing lin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String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can tokenize each line of a fi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cess the contents of this line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search for a person by I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d worked 36.8 hours (7.36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#293 not f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his program searches an input file of employees' hours work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a particular employee and outputs that employee's hours dat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HoursWorked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Enter an ID: 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earchId = console.nextInt();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findPerson(input, searchI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ocessLine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ID #" + searchId + " was not found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Locates and returns the line of data about a particular pers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findPerson(Scanner input, int searchI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id == searchI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line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we found them!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"";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not found, so return an empty 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otals the hours worked by the person and outputs their info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processLine(String line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d = lineScan.nextInt();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name = lineScan.next();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"Brad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ours = 0.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hours += lineScan.nextDoubl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ays++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name + " worked " + hours + " hours (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+ (hours / days) + " hours/day)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n a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ith the following conten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3 Kim 12.5 8.1 7.6 3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6 Brad 4.0 11.6 6.5 2.7 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89 Stef 8.0 8.0 8.0 8.0 7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task of computing hours worked by each pers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im (ID#123) worked 31.4 hours (7.85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d (ID#456) worked 36.8 hours (7.36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f (ID#789) worked 39.5 hours (7.9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t's try to solve this problem token-by-token 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Db movies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following Internet Movie Database (IMDb) dat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9.1 196376 The Shawshank Redemption (199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9.0 139085 The Godfather: Part II (197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8.8 81507 Casablanca (194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a program that displays any movies containing a phra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arch wor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k    Votes   Rating  Tit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    139085  9.0     The Godfather: Part II (197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      129172  8.5     The Departed (200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5      20401   8.2     The Apartment (196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2     30587   8.0     Spartacus (196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match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this a token or line-based problem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Chaining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hould be a concise summary of your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bad if each method calls the next without ever returning (we call th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ain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better structure h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ke most of the call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hods must return value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be passed on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1" name="Group 50"/>
          <p:cNvGrpSpPr/>
          <p:nvPr/>
        </p:nvGrpSpPr>
        <p:grpSpPr>
          <a:xfrm>
            <a:off x="392040" y="2666880"/>
            <a:ext cx="8277120" cy="1002240"/>
            <a:chOff x="392040" y="2666880"/>
            <a:chExt cx="8277120" cy="1002240"/>
          </a:xfrm>
        </p:grpSpPr>
        <p:sp>
          <p:nvSpPr>
            <p:cNvPr id="152" name="Text Box 5"/>
            <p:cNvSpPr/>
            <p:nvPr/>
          </p:nvSpPr>
          <p:spPr>
            <a:xfrm>
              <a:off x="392040" y="266688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" name="Group 20"/>
            <p:cNvGrpSpPr/>
            <p:nvPr/>
          </p:nvGrpSpPr>
          <p:grpSpPr>
            <a:xfrm>
              <a:off x="1219320" y="2813040"/>
              <a:ext cx="1792080" cy="398880"/>
              <a:chOff x="1219320" y="2813040"/>
              <a:chExt cx="1792080" cy="398880"/>
            </a:xfrm>
          </p:grpSpPr>
          <p:sp>
            <p:nvSpPr>
              <p:cNvPr id="154" name="Line 6"/>
              <p:cNvSpPr/>
              <p:nvPr/>
            </p:nvSpPr>
            <p:spPr>
              <a:xfrm>
                <a:off x="1219320" y="28605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Text Box 7"/>
              <p:cNvSpPr/>
              <p:nvPr/>
            </p:nvSpPr>
            <p:spPr>
              <a:xfrm>
                <a:off x="1764000" y="28130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21"/>
            <p:cNvGrpSpPr/>
            <p:nvPr/>
          </p:nvGrpSpPr>
          <p:grpSpPr>
            <a:xfrm>
              <a:off x="3108240" y="2965320"/>
              <a:ext cx="1792080" cy="398880"/>
              <a:chOff x="3108240" y="2965320"/>
              <a:chExt cx="1792080" cy="398880"/>
            </a:xfrm>
          </p:grpSpPr>
          <p:sp>
            <p:nvSpPr>
              <p:cNvPr id="157" name="Line 22"/>
              <p:cNvSpPr/>
              <p:nvPr/>
            </p:nvSpPr>
            <p:spPr>
              <a:xfrm>
                <a:off x="3108240" y="301284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23"/>
              <p:cNvSpPr/>
              <p:nvPr/>
            </p:nvSpPr>
            <p:spPr>
              <a:xfrm>
                <a:off x="3652920" y="29653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9" name="Group 24"/>
            <p:cNvGrpSpPr/>
            <p:nvPr/>
          </p:nvGrpSpPr>
          <p:grpSpPr>
            <a:xfrm>
              <a:off x="4992840" y="3117960"/>
              <a:ext cx="1792080" cy="398880"/>
              <a:chOff x="4992840" y="3117960"/>
              <a:chExt cx="1792080" cy="398880"/>
            </a:xfrm>
          </p:grpSpPr>
          <p:sp>
            <p:nvSpPr>
              <p:cNvPr id="160" name="Line 25"/>
              <p:cNvSpPr/>
              <p:nvPr/>
            </p:nvSpPr>
            <p:spPr>
              <a:xfrm>
                <a:off x="4992840" y="316548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Text Box 26"/>
              <p:cNvSpPr/>
              <p:nvPr/>
            </p:nvSpPr>
            <p:spPr>
              <a:xfrm>
                <a:off x="5537520" y="31179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2" name="Group 27"/>
            <p:cNvGrpSpPr/>
            <p:nvPr/>
          </p:nvGrpSpPr>
          <p:grpSpPr>
            <a:xfrm>
              <a:off x="6877080" y="3270240"/>
              <a:ext cx="1792080" cy="398880"/>
              <a:chOff x="6877080" y="3270240"/>
              <a:chExt cx="1792080" cy="398880"/>
            </a:xfrm>
          </p:grpSpPr>
          <p:sp>
            <p:nvSpPr>
              <p:cNvPr id="163" name="Line 28"/>
              <p:cNvSpPr/>
              <p:nvPr/>
            </p:nvSpPr>
            <p:spPr>
              <a:xfrm>
                <a:off x="6877080" y="33177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29"/>
              <p:cNvSpPr/>
              <p:nvPr/>
            </p:nvSpPr>
            <p:spPr>
              <a:xfrm>
                <a:off x="7421760" y="32702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65" name="Group 53"/>
          <p:cNvGrpSpPr/>
          <p:nvPr/>
        </p:nvGrpSpPr>
        <p:grpSpPr>
          <a:xfrm>
            <a:off x="392040" y="4676760"/>
            <a:ext cx="4503600" cy="1617840"/>
            <a:chOff x="392040" y="4676760"/>
            <a:chExt cx="4503600" cy="1617840"/>
          </a:xfrm>
        </p:grpSpPr>
        <p:sp>
          <p:nvSpPr>
            <p:cNvPr id="166" name="Text Box 33"/>
            <p:cNvSpPr/>
            <p:nvPr/>
          </p:nvSpPr>
          <p:spPr>
            <a:xfrm>
              <a:off x="392040" y="467676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7" name="Group 52"/>
            <p:cNvGrpSpPr/>
            <p:nvPr/>
          </p:nvGrpSpPr>
          <p:grpSpPr>
            <a:xfrm>
              <a:off x="1219320" y="4822920"/>
              <a:ext cx="1791720" cy="398880"/>
              <a:chOff x="1219320" y="4822920"/>
              <a:chExt cx="1791720" cy="398880"/>
            </a:xfrm>
          </p:grpSpPr>
          <p:sp>
            <p:nvSpPr>
              <p:cNvPr id="168" name="Line 35"/>
              <p:cNvSpPr/>
              <p:nvPr/>
            </p:nvSpPr>
            <p:spPr>
              <a:xfrm>
                <a:off x="1219320" y="4870440"/>
                <a:ext cx="533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Text Box 36"/>
              <p:cNvSpPr/>
              <p:nvPr/>
            </p:nvSpPr>
            <p:spPr>
              <a:xfrm>
                <a:off x="1763640" y="48229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0" name="Group 51"/>
            <p:cNvGrpSpPr/>
            <p:nvPr/>
          </p:nvGrpSpPr>
          <p:grpSpPr>
            <a:xfrm>
              <a:off x="1219320" y="5029200"/>
              <a:ext cx="1791720" cy="732240"/>
              <a:chOff x="1219320" y="5029200"/>
              <a:chExt cx="1791720" cy="732240"/>
            </a:xfrm>
          </p:grpSpPr>
          <p:sp>
            <p:nvSpPr>
              <p:cNvPr id="171" name="Line 38"/>
              <p:cNvSpPr/>
              <p:nvPr/>
            </p:nvSpPr>
            <p:spPr>
              <a:xfrm>
                <a:off x="1219320" y="502920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Text Box 39"/>
              <p:cNvSpPr/>
              <p:nvPr/>
            </p:nvSpPr>
            <p:spPr>
              <a:xfrm>
                <a:off x="1763640" y="53625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3" name="Group 40"/>
            <p:cNvGrpSpPr/>
            <p:nvPr/>
          </p:nvGrpSpPr>
          <p:grpSpPr>
            <a:xfrm>
              <a:off x="3103560" y="5514840"/>
              <a:ext cx="1792080" cy="398880"/>
              <a:chOff x="3103560" y="5514840"/>
              <a:chExt cx="1792080" cy="398880"/>
            </a:xfrm>
          </p:grpSpPr>
          <p:sp>
            <p:nvSpPr>
              <p:cNvPr id="174" name="Line 41"/>
              <p:cNvSpPr/>
              <p:nvPr/>
            </p:nvSpPr>
            <p:spPr>
              <a:xfrm>
                <a:off x="3103560" y="55623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Text Box 42"/>
              <p:cNvSpPr/>
              <p:nvPr/>
            </p:nvSpPr>
            <p:spPr>
              <a:xfrm>
                <a:off x="3648240" y="55148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6" name="Group 46"/>
            <p:cNvGrpSpPr/>
            <p:nvPr/>
          </p:nvGrpSpPr>
          <p:grpSpPr>
            <a:xfrm>
              <a:off x="1085760" y="5062680"/>
              <a:ext cx="1925280" cy="1231920"/>
              <a:chOff x="1085760" y="5062680"/>
              <a:chExt cx="1925280" cy="1231920"/>
            </a:xfrm>
          </p:grpSpPr>
          <p:sp>
            <p:nvSpPr>
              <p:cNvPr id="177" name="Line 44"/>
              <p:cNvSpPr/>
              <p:nvPr/>
            </p:nvSpPr>
            <p:spPr>
              <a:xfrm>
                <a:off x="1085760" y="5062680"/>
                <a:ext cx="666720" cy="10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Text Box 45"/>
              <p:cNvSpPr/>
              <p:nvPr/>
            </p:nvSpPr>
            <p:spPr>
              <a:xfrm>
                <a:off x="1763640" y="58957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ad IMDb "chained" code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Displays IMDB's Top 250 movies that match a search string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Movies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etWord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sks the user for their search word and returns i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getWord(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Search word: 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searchWord = console.nex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earchWord = searchWord.toLowerCas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input = new Scanner(new File("imdb.txt"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800000"/>
                </a:solidFill>
                <a:latin typeface="Courier New"/>
              </a:rPr>
              <a:t>search(input, searchWor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ad IMDb "chained" code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Breaks apart each line, looking for lines that match the search w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search(Scanner input, String searchWor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matches = 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LC = line.toLowerCase();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ase-insensitive matc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LC.indexOf(searchWord) &gt;=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matches++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Rank\tVotes\tRating\tTitle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1300" spc="-1" strike="noStrike">
                <a:solidFill>
                  <a:srgbClr val="800000"/>
                </a:solidFill>
                <a:latin typeface="Courier New"/>
              </a:rPr>
              <a:t>display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matches + " matches.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Displays the line in the proper format on the scree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display(String line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rank = lineScan.nextIn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rating = lineScan.nextDoubl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votes = lineScan.nextIn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title = ""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itle += lineScan.next() + " ";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he rest of the 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rank + "\t" + votes + "\t" + rating + "\t" + titl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etter IMDb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Displays IMDB's Top 250 movies that match a search string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Movies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searchWord = getWord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input = new Scanner(new File("imdb.txt"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1300" spc="-1" strike="noStrike">
                <a:solidFill>
                  <a:srgbClr val="003399"/>
                </a:solidFill>
                <a:latin typeface="Courier New"/>
              </a:rPr>
              <a:t>search(input, searchWor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Rank\tVotes\tRating\tTitle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.length() &gt;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300" spc="-1" strike="noStrike">
                <a:solidFill>
                  <a:srgbClr val="003399"/>
                </a:solidFill>
                <a:latin typeface="Courier New"/>
              </a:rPr>
              <a:t>display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line = </a:t>
            </a:r>
            <a:r>
              <a:rPr b="1" lang="en-US" sz="1300" spc="-1" strike="noStrike">
                <a:solidFill>
                  <a:srgbClr val="003399"/>
                </a:solidFill>
                <a:latin typeface="Courier New"/>
              </a:rPr>
              <a:t>search(input, searchWor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matches + " matches.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sks the user for their search word and returns i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getWord(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Search word: 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searchWord = console.nex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earchWord = searchWord.toLowerCas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searchWord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etter IMDb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Breaks apart each line, looking for lines that match the search w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search(Scanner input, String searchWor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LC = line.toLowerCase()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ase-insensitive matc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LC.indexOf(searchWord) &gt;=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line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""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not foun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Displays the line in the proper format on the scree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display(String line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rank = lineScan.nextIn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rating = lineScan.nextDoubl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votes = lineScan.nextIn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title = ""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itle += lineScan.next() + " ";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he rest of the 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rank + "\t" + votes + "\t" + rating + "\t" + titl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IMDB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urn our IMDb code into a graphical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-left 0.0 tick mark at (0, 2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cks 10px tall, 50px ap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blue bar top/left corner at (0, 7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rs 50px t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rs 50px wide per rating 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rs 100px apart vert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5562720" y="3262320"/>
            <a:ext cx="3276360" cy="32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xing graphics and tex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mixing text/graphics, solve the problem in pie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the text and file I/O firs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lay any welcome message and initial console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the input file and print some file dat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Perhaps print every line, the first token of each line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rch the input file for the proper line record(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stly, add the graphical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 any fixed graphics that do not depend on the file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 the graphics that do depend on the search resul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IMDb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isplays IMDB's Top 250 movies that match a search str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awt.*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Graphi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Movies2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searchWord = getWord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imdb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search(input, searchWord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tches = 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Rank\tVotes\tRating\tTitl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raphics g = createWindow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line.length() &gt; 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ches++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(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, matche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 = search(input, searchWord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matches + " matches.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sks the user for their search word and returns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String getWord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Search word: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searchWord = console.nex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Word = searchWord.toLowerCas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searchWord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IMDb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Breaks apart each line, looking for lines that match the search w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String search(Scanner input, String searchWord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LC = line.toLowerCase()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ase-insensitive ma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lineLC.indexOf(searchWord) &gt;= 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line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"";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not f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isplays the line in the proper format on the scree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display(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raphics g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, int matche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rank = lineScan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rating = lineScan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votes = lineScan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title = "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tle += lineScan.next() + " "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e rest of the 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ank + "\t" + votes + "\t" + rating + "\t" + tit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rawBar(g, matches, title, rank, rating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answer (flawed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solution does not work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oursWorked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cess one pers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d = input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input.nex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Hours = 0.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days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while (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input.hasNextDouble()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totalHours +=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input.nextDouble()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days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ame + " (ID#" + id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) worked " + totalHours + " hours (" 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totalHours / days) + " hours/day)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IMDb answer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reates a drawing panel and draws all fixed graphic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Graphics createWindow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wingPanel panel = new DrawingPanel(600, 50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= 10; i++) {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raw tick mar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x = i * 5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drawLine(x, 20, x, 3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drawString(i + ".0", x, 2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g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raws one red bar representing a movie's votes and rank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drawBar(Graphics g, int matches, String title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rank, double rating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y = 70 + 100 * (matches - 1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w = (int) (rating * 5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h = 5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setColor(Color.BLUE);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raw the blue bar for that mov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fillRect(0, y, w, h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drawString("#" + rank + ": " + title, 0, y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xing tokens and lin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conjunction with the token-based methods on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cause bad resul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   3.1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oe   "Hello worl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45.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9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'd think you could re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n re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e "Hello world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Int())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Double()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.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Line())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ll produces no output!  Wh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xing lines and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n't read both tokens and lines from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   3.1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oe   "Hello worl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45.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9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.nextInt()   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t3.14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^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.1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\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^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800000"/>
                </a:solidFill>
                <a:latin typeface="Courier New"/>
              </a:rPr>
              <a:t>input.nextLine()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" (empty!)</a:t>
            </a:r>
            <a:br>
              <a:rPr sz="1600"/>
            </a:b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23\t3.14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  ^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Joe\t\"Hello world\"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\t3.14\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e\t"Hello world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^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ine-and-token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Enter your age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Now enter your name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nsole.nextLin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is " + age + " years old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g of execution (user input underlined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er your ag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w enter your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ideshow Bo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 12 years ol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all inpu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\nSideshow B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()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Sideshow Bo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Line()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\nSideshow Bo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lawed outpu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Susan (ID#123) worked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487.4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hours 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97.48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hours/da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java.util.InputMismatch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throwFor(Scanner.java:84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Scanner.java:146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Int(Scanner.java:209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HoursWorked.main(HoursBad.java: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 is grabbing the next person's 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ant to process the tokens, but we also care about the line breaks (they mark the end of a person's dat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better solution is a hybrid approach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, break the overall input into li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break each line into toke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ine-bas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nsumes from the input cursor to the nex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.hasNext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.next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cess this 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9240" y="1614600"/>
          <a:ext cx="8696160" cy="1665000"/>
        </p:xfrm>
        <a:graphic>
          <a:graphicData uri="http://schemas.openxmlformats.org/drawingml/2006/table">
            <a:tbl>
              <a:tblPr/>
              <a:tblGrid>
                <a:gridCol w="2165040"/>
                <a:gridCol w="6531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the next entire line of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lines of input to read 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uming lines of inpu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 3.14 John Smith   "Hello world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.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ads the lines as follow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\t3.14 John Smith\t"Hello world"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t\t45.2  19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3\t3.14 John Smith\t"Hello world"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t\t45.2  19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2 = input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\t3.14 John Smith\t"Hello world"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\t\t45.2  19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haracter is consumed but not retur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anners on 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tokenize the contents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ext = "15  3.2 hello   9  27.5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scan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canner(tex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scan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um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num2 = scan.next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um2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scan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word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el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okenizing lines of a fi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unts the words on each line of a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input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ocess the contents of this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Scan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Line has " + count + " words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08120" y="1476360"/>
          <a:ext cx="7683480" cy="1066680"/>
        </p:xfrm>
        <a:graphic>
          <a:graphicData uri="http://schemas.openxmlformats.org/drawingml/2006/table">
            <a:tbl>
              <a:tblPr/>
              <a:tblGrid>
                <a:gridCol w="5060880"/>
                <a:gridCol w="26226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put fil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put.tx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put to conso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 quick brown fox jumps 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 lazy do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ne has 6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ne has 3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x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read the input file properl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3 Kim 12.5 8.1 7.6 3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6 Brad 4.0 11.6 6.5 2.7 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89 Stef 8.0 8.0 8.0 8.0 7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all, it should produce the following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im (ID#123) worked 31.4 hours (7.85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d (ID#456) worked 36.8 hours (7.36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f (ID#789) worked 39.5 hours (7.9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2-20T01:06:28Z</dcterms:modified>
  <cp:revision>1357</cp:revision>
  <dc:subject/>
  <dc:title>Building Java Programs</dc:title>
</cp:coreProperties>
</file>