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D0B-0184-49A0-A3FC-EE2C0A72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must ei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lare how our program will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that we choose not to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we accept that the program will crash if an error occu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779D-09EB-41BC-BEF0-95898B70A2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C5C7-A19C-4013-9C72-6423DB0A1B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1D96-E84E-48E2-B132-B1CB7A4B2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939C-DDD1-4282-8CF1-41DE90578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176C-6CE2-4AE3-B7C8-088A3DC39E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F501-9A8B-4456-90BC-402E5003C5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8707-1002-4187-962B-805DD5682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2543-F5EC-49C0-B10E-37AA473783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6200-6F32-47CE-99A6-09C596F5BA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9A89-262E-417D-BE4B-B6D330BCF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02F0-21C0-453E-9067-28611CD8A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0C78-ECD4-439B-86AA-E4F2C01A6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D703-0483-4B20-8F80-51AC9928459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AC8-567F-4281-9400-746E6C4FAA6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1: File Input with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1 - 6.2, 5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6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6 #5-7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6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all the input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he first 5 values from the file and prints them along with their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337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62040" y="1776240"/>
            <a:ext cx="259092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91960" y="2157480"/>
            <a:ext cx="2374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219640" y="3732120"/>
            <a:ext cx="3146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41480" y="3456000"/>
            <a:ext cx="3882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33640" y="4514760"/>
            <a:ext cx="249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the first 5 numbers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 FileNotFound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File("numbers.tx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an entire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we want our program to process the entire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924200"/>
          <a:ext cx="8534160" cy="2495520"/>
        </p:xfrm>
        <a:graphic>
          <a:graphicData uri="http://schemas.openxmlformats.org/drawingml/2006/table">
            <a:tbl>
              <a:tblPr/>
              <a:tblGrid>
                <a:gridCol w="2341800"/>
                <a:gridCol w="61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hasNex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avoid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has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ow, " + age + " is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didn't type an integer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etect the end of a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example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oke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oken: " + tok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process the entire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392120" y="530532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6280" y="4243320"/>
            <a:ext cx="4297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handle files that contain non-numeric tokens (by skipping the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it should produce the same output as before when given this input file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2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08.2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9 7.4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ad stuff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9 4.7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oo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:-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8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@#*($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/output (I/O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get info about a file on dis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This doesn't actually create a new file on the hard disk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"example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exist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100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delet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38200" y="4284720"/>
          <a:ext cx="6867360" cy="2344680"/>
        </p:xfrm>
        <a:graphic>
          <a:graphicData uri="http://schemas.openxmlformats.org/drawingml/2006/table">
            <a:tbl>
              <a:tblPr/>
              <a:tblGrid>
                <a:gridCol w="2414520"/>
                <a:gridCol w="4452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whether file is able to be 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ves file from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 this file exists on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file's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number of bytes in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name of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6477120" y="3048120"/>
            <a:ext cx="1904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949400" y="4819680"/>
            <a:ext cx="2362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51200" y="5037120"/>
            <a:ext cx="182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949400" y="4591080"/>
            <a:ext cx="11746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35000" y="3705120"/>
            <a:ext cx="38703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351160" y="3483000"/>
            <a:ext cx="20685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2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row away the bad to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l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poll da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  Obama%  McCain%  ElectoralVotes  Poll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 56 31 7 Oct U. of Connectic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 37 56 5 Sep Rasmu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Z 41 49 10 Oct Northern Arizona 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should print how many electoral votes each candidate leads in, and who is leading overall in the po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ama: 214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ain: 257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mputes leader in presidential polls, based on input file such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K 42 53 3 Oct Ivan Moore Re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lec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374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poll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Votes = 0, mccainVot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put.hasNextIn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ccain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eVotes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bama &gt; mccai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amaVotes = obama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mccain &gt; obama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ccainVotes = mccain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kip non-integer to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ama: " + obama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cCain: " + mccain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path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bsolut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pecifies a drive or a top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/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/Documents/smith/hw6/input/data.cs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can also use backslashes to separate f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lativ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does not specify any top-level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d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/kinglear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d to be relative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urrent direc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data/readme.txt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our program is 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look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/data/readme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 w/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program does not comp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anner input = new Scanner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 = input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t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error occu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adFile.java:6: unreported exception java.io.FileNotFoundExce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ust be caught or declared to be throw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representing a runtime err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viding an integer by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passing too large an 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the wrong type of value from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a file that does not ex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say that a program with an error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possible to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(handle or fix) 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rror that must be handled by our program (otherwise it will not compil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specify how our program will handle file I/O fail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6048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9T18:10:47Z</dcterms:modified>
  <cp:revision>1345</cp:revision>
  <dc:subject/>
  <dc:title>Building Java Programs</dc:title>
</cp:coreProperties>
</file>