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C4F2-8DF6-40CC-98E4-A34397374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D54-D439-4575-BC7C-4238629EF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E6E2-8E76-4D71-82EB-2A31500D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43A2-6A69-49C4-BB58-685855E801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BEAB-7C7C-4158-B1C1-E87EBE7E4D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4076-400B-4C99-9BA8-B8C3BF0D98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C90F-903C-4FE5-9002-1ECB01DEFA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0522-6F4C-49AB-A5D1-A87169194F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2E6C-187E-4EF7-ACD9-6B3AAFA16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C66D-DA45-4A4E-8E49-D71CC5851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B64B-46A3-41B1-8A3E-C599845CB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BD72-5E1B-4B5A-8EA1-5C648ED3FF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0406-2C7F-4EDF-95B0-FDF1AF901C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5676-ECF5-495E-A79F-4A57306407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9E58-1E3D-4D7C-BF0F-EA13771B5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C1AF-9881-4F88-90E1-A1AB02286ED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993-9BA8-4164-BE92-405666E05C8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3: Assertion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4 - 5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22-24, 26-2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ssumes y &gt;= 0, and returns x^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GB" sz="4800" spc="-1" strike="noStrike">
                <a:solidFill>
                  <a:srgbClr val="464646"/>
                </a:solidFill>
                <a:latin typeface="Verdana"/>
              </a:rPr>
              <a:t> loop variat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5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f-checks: #22-2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ercises: #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statements repeatedly while a condi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sting i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until the user gets the right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low cha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does this differ from the while loop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oll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always execute the first time, regardless of whether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do_while"/>
          <p:cNvPicPr/>
          <p:nvPr/>
        </p:nvPicPr>
        <p:blipFill>
          <a:blip r:embed="rId2"/>
          <a:stretch/>
        </p:blipFill>
        <p:spPr>
          <a:xfrm>
            <a:off x="3076560" y="2631960"/>
            <a:ext cx="28670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ify the previou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program to us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ify the previou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program to us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 good fit for solving this probl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loops are often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forever" loop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their header's boolean test is often changed to a triv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bad style!  Do not use it on CSE 142 home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loop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orking sentinel loop solution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number == -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on't add -1 to s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number != -1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total wa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er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tatement that is either true or fal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was created in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ky is purp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 is a prime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is greater than 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divided by 2 equals 7.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depends on the value of 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ssertion might be false ("The sky is purple" above), but it is still an assertion because it is a true/fals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soning about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you have the following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do you know ab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value at the three poi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  Always?  Sometimes?  Nev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s in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make assertions about our code and ask whether they are true at various points in the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alid answers are ALWAYS, NEVER, or SOMETIM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086600" y="2286000"/>
            <a:ext cx="2057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ALW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(NEV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soning about asser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ght after a variable is initialized, its value is know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general you know nothing about parameters' val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nsid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tc., you may know someth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the start of a loop's body, the loop's test must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a loop, the loop's test must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a loop's body, the loop's test may bec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Sometimes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ngs that cause a variable's value to be unknow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often leads to "sometimes" answers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from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rameter's initial value to a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can reach a part of the program both with the answer being "yes" and the answer being "no", then the correct answer is "sometimes"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around 1/2 of the correct answers are "sometime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ertion exampl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7T17:55:34Z</dcterms:modified>
  <cp:revision>1329</cp:revision>
  <dc:subject/>
  <dc:title>Building Java Programs</dc:title>
</cp:coreProperties>
</file>