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B14D-9A9D-42D9-B1F0-9AF6C100FD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7E36-036E-40D5-8F12-3FB5AFA671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8118C-7B72-4176-B4B6-571AB8767E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617C-6199-4DD0-8A7B-B96AFD0603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1DD8-8734-4038-A6D9-2415FD0448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00EE-AC02-4AF6-80D0-01445FA09C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6524-38BE-4BB6-92DE-34884150FE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D0DA-8A41-4951-B0B5-ECA47D8F19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B694-91F3-41BA-A670-84F05AD2C0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98EC-1C6A-42D8-95AF-DB698C9517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DEB1-003A-426F-A057-0F3647E15F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E56A-E48F-48F8-B901-2F21F79689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DAC3-8EAC-4DD0-84F3-B2E299BA29F4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517E-5E9E-49C3-977F-8EF0041C5A86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5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5-3: Boolean Log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5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check: #11 - 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s: #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deos: Ch. 5 #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olution w/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oolea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ariab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could store the result of the logical te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 tes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1 % 2 != 0 &amp;&amp; n2 % 2 != 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est == tr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est == 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ice: Whatev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, we want to return th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we want to 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we want to 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olution w/ "Boolean Zen"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servation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unnecessa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riab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ore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s value is exactly what you want to return.  So return that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 test = (n1 % 2 != 0 &amp;&amp; n2 % 2 != 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tes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even shorter vers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don't even need the variab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just perform the test and return its result in one ste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Boolean Zen" templat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pla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prompts the user for two words and reports whether they "rhyme" (end with the same last two letters) and/or "alliterate" (start with the same letter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un #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car ST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un #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Bare bl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un #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booyah so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y have nothing in comm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Type two words: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word1 = console.next();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ype two words: </a:t>
            </a:r>
            <a:r>
              <a:rPr b="1" lang="en-US" sz="1500" spc="-1" strike="noStrike" u="sng">
                <a:solidFill>
                  <a:srgbClr val="008080"/>
                </a:solidFill>
                <a:uFillTx/>
                <a:latin typeface="Courier New"/>
              </a:rPr>
              <a:t>car STA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word2 = console.next();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ey rhyme!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ey alliterate (start with the same letter)!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olean rhym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s2.length() &gt;= 2 &amp;&amp; s1.endsWith(s2.substring(s2.length() - 2)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s1.startsWith(s2.substring(0, 1)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practice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whethe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vowel (a, e, i, o, or u), case-insensitivel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Vowel("q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Vowel("A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Vowel("e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 the above method into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whethe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ny character EXCEPT a vowel (a, e, i, o, or u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NonVowel("q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NonVowel("A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NonVowel("e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method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Vowel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Vow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practice answ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s.equalsIgnoreCase("a") || s.equalsIgnoreCase("e") ||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i") || s.equalsIgnoreCase("o") ||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u"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s.equalsIgnoreCase("a") &amp;&amp; !s.equalsIgnoreCase("e") &amp;&am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i") &amp;&amp; !s.equalsIgnoreCase("o") &amp;&am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u"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practice answers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.  I have seen the true way (and false wa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.equalsIgnoreCase("a") || s.equalsIgnoreCase("e") ||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i") || s.equalsIgnoreCase("o") ||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u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!s.equalsIgnoreCase("a") &amp;&amp; !s.equalsIgnoreCase("e") &amp;&am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i") &amp;&amp; !s.equalsIgnoreCase("o") &amp;&am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u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en to return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methods that involve a loop an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tur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you figure out whether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should the method return its resul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 problem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v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at accept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ameter and uses it to pick up to 10 lotto numbers between 1 and 3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ethod should print each number as it is draw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 output from 2 call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5 29 18 29 11 3 30 17 19 2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9 5 29 16 4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ny of the numbers is a lucky 7, the method should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 Otherwise, it should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lawed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on incorrect solu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random lotto numb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one of them is a lucky 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(num == 7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ethod tries to return immediately after the first ro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bad, if that roll isn't a 7; we need to roll all 10 times to see if any of them is a 7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gitSu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accepts an integer as a parameter and returns the sum of the digits of that numb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gitSum(29107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2+9+1+0+7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e that the number is non-nega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nt: Us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perator to extract a digit from a numb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ing at the right tim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rected cod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random lotto numb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one of them is a lucky 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num == 7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nd lucky 7; can exit n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f we get here, we know there was no 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urns immediately if 7 is found, because the answer must b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 If 7 isn't found, we draw the next lotto numbe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ll 10 aren't 7, the loop ends and we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return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whethe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igit of a positive integer is od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AnOddDigit(482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AnOddDigit(2448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whethe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igit of a positive integer is od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DigitsOdd(135319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DigitsOdd(917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3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haracter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vowel, el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AllVowels("eIeIo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AllVowels("oink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return answ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hasAnOddDigit(int n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!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od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allDigitsOdd(int n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=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ev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AllVowels(String 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etter = s.substring(i, i + 1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isVowel(letter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following code implements the metho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digitSum(int n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(n % 10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d last digit to s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move last dig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oolea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logical type whose values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pres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cre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riables, p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ameters,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s from methods,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minor = (age &lt; 2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expensive = iPhonePrice &gt; 200.0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iLoveCS = tr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Can't purchase alcohol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LoveCS || !expensi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uying an iPhon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ethods that return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oolea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hods can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lu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all to such a method can be a loop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your name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console.nextLin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ill you marry me?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endsWith(", Esq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nd I am Ted 'Theodore' Logan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 Morgan's Law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 Morgan's Law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ules used to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eg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ver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oolean express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when you want the opposite of a known boolean te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2666880"/>
          <a:ext cx="7756560" cy="1371600"/>
        </p:xfrm>
        <a:graphic>
          <a:graphicData uri="http://schemas.openxmlformats.org/drawingml/2006/table">
            <a:tbl>
              <a:tblPr/>
              <a:tblGrid>
                <a:gridCol w="2965320"/>
                <a:gridCol w="3024360"/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57200" y="4800600"/>
          <a:ext cx="8229600" cy="1584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ed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!= 7 || y &lt;=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rit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oolea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othOdd(int n1, int n2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1 % 2 != 0 &amp;&amp; n2 % 2 !=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s to this methods can now be used as tes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thOdd(7, 13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Boolean Zen", part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udents new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ten test if a resul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othOdd(7, 13) == 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this is unnecessary and redundant.  Preferre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bothOdd(7, 13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imilar pattern can be used fo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es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othOdd(7, 13) == 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!bothOdd(7, 13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Boolean Zen", part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hods that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ten have 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the code above is unnecessarily verbo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2-09T18:34:41Z</dcterms:modified>
  <cp:revision>1330</cp:revision>
  <dc:subject/>
  <dc:title>Building Java Programs</dc:title>
</cp:coreProperties>
</file>