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9612-003B-40CB-83C7-9386D6C0D6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0B82-85E3-4D5B-B303-13E304551D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AC08-FFB0-49E1-9DFB-7DA0CADA84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782F-49D1-41D7-A1AA-CA639DB7C0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C315-11B8-47A4-AE7A-0536024DF6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2542-79B8-4AF7-8AC2-A3054BFC26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8B30-577C-46C5-A217-6E6B8C9EA2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2CB0-E0EE-4E98-9F09-03BE3FAC18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DDA2-5BCC-40C7-A73C-92B39B3BBD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143A-8E83-439E-8596-280E89CE3D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B7F9-FE2E-4070-B5E7-6854D53E40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6787-5DA6-46FC-8F41-A25315BE1F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0EE4-E256-43BD-BBB4-9778E9180E6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AF9B-45BE-4C1B-93FE-12C2762C85F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2: Random Numb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1 - 5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8 - 1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3 - 6, 10, 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5 #1-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sks the user one multiplication problem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ing the answer if they get it right and 0 if not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askQuestion(Scanner console, Random rand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ick two random numbers between 1 and 20 inclusiv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num1 = rand.nextInt(20) + 1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num2 = rand.nextInt(20) + 1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num1 + " * " + num2 + " =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guess == num1 * num2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rrect!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num1 * num2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Incorrect; the correct answer was " +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num1 * num2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generates pseudo-random* numb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found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ck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enerating random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usage: to get a random number from 1 to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get a number in arbitrary range [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] inclusiv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re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ze of ra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is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random integer between 4 and 10 inclus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the following declaration, how would you ge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andom number between 1 and 100 inclusi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1 = rand.nextInt(100)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andom number between 50 and 100 inclusi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2 = rand.nextInt(51) + 5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andom number between 4 and 17 inclusi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3 = rand.nextInt(14) + 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d other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retur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0.0 - 1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Get a random GPA value between 1.5 and 4.0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y set of possible values can be mapped to integ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de to randomly play Rock-Paper-Scisso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simulates rolling of two 6-sided dice until their combined result comes up as 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 the program to play 3 dice games using a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rite a multiplication tutor program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user to solve problems with random numbers from 1-2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gram stops after an incorrect answ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4 * 8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rec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 * 12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rec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 * 3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rec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 * 5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rec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 * 14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8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rec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9 * 14 =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correct; the answer was 26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ou solved 5 correct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correct answer was 28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line should not appear if the user solves 0 correct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sks the user to do multiplication problems and scores them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MultiplicationTutor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fencepost solution - pull first question outside of loo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rrect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last 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skQuestion(console, rand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lastCorrect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loop until user gets one wro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last &gt; 0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astCorrect = las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rrect++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skQuestion(console, rand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You solved " + correct + " correctly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correct &gt; 0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Last correct answer was " + lastCorrect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22T07:54:16Z</dcterms:modified>
  <cp:revision>1326</cp:revision>
  <dc:subject/>
  <dc:title>Building Java Programs</dc:title>
</cp:coreProperties>
</file>