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4772-45DE-4B12-9EFC-4FC12BAAA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C10D-5A44-45C2-9213-0839901BD8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AC7F-BB79-437B-B45E-1F05DF12AE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CD3D-99E8-45C3-A4FF-CEE747113C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B3D4-F8B6-4411-92C1-7CD07B1D6E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B92C-D0C1-4C00-A877-B3890FE79E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C01D-4775-452C-BA6E-003D68814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9D17-AE95-4871-80E2-A963AAFB9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9D27-0A46-4B78-B75D-9CF159CB8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67E6-4DA9-481D-9616-33DEC410A0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2C7D-53D0-409D-9A83-C4F29E8AB7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F4EC-B9B2-4776-9A1E-730FC4BC1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970E-254E-4DB7-B1A5-4B13001C0E3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D755-E954-4C3B-9900-7D38426E8AB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encepost Loops, and Sentinel Lo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1,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Ch. 4 #2;  Ch. 5 # 1-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Ch. 4 #2, 4, 5, 8;  Ch. 5 # 1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1 -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1 -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tegories of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ecutes a known number of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s we have seen are definite loo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"hello" 10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all the prime numbers up to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each odd number between 5 and 12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where the number of times its body repeats is not known in adv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pt the user until they type a non-negative nu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random numbers until a prime number is pri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eat until the user has types "q" to qu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while"/>
          <p:cNvPicPr/>
          <p:nvPr/>
        </p:nvPicPr>
        <p:blipFill>
          <a:blip r:embed="rId2"/>
          <a:stretch/>
        </p:blipFill>
        <p:spPr>
          <a:xfrm>
            <a:off x="6477120" y="914400"/>
            <a:ext cx="2590560" cy="2463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ampl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nds a number's first factor other than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ber % factor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rst factor: " + fact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 factor: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ere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 is just a specialized form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loops are equival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um = 1; num &lt;= 200; num = num * 2) {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tually, not a very compelling use of a whil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a for loop is better because the # of reps is defini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um &lt;= 200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 = num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are often us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don't know many times you'll need to re-prompt the user if they type bad data.  (an indefinite loop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code that repeatedly prompts until the user types a non-negative number, then computes its square roo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non-negative integer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2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8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alid number, 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square root of 121 is 1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on-negative integ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ber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Invalid number, 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quare root of " + number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numbe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to be declared outside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Sentinel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1,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5 #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nti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alue that signals the end of user inpu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tinel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peats until a sentinel value is se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A program that repeatedly prompts the user for numbers until the user types -1, then outputs their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 this case, -1 is the sentinel valu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sum is 7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Write a program that repeatedly prompts the user for words until the user types "goodbye", then outputs the longest word that was typ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 this case, "goodbye" is the sentinel valu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Ob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cC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i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Pal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word (or "goodbye" to qu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goodb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longest word you typed was "McCain" (6 lett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second sentinel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deceptive problem..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number from 1 to a given maximum,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entine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is solu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ongest = "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""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"dummy value"; anything but "goodbye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word.equals("goodbye"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("Type a word (or \"goodbye\" to quit): 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word.length() &gt; longest.length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est = wor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longest word you typed was \"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est + "\" (" + longest.length() + " letters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olution produces the wrong outpu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longest word you typed was "goodbye" (7 lette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r code uses a pattern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ngest = empty st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eck if input is longest; if so, stor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last pass, the sentinel is added to the su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 ("goodbye"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check if input is longest; if so, stor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is a fencepost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rea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ds, but only process the firs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 of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fencepos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use a pattern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ngest = empty st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1st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eck if input is longest; if so, store it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wir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056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tinel loops often utilize a fencepost "loop-and-a-half" solution by pulling some code out of the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rrec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olution produces the correct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ongest = "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one "post" out of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Type a word (or \"goodbye\"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!word.equals("goodbye"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word.length() &gt; longest.length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ngest = word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("Type a word (or \"goodbye\" to quit): 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longest word you typed was \"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est + "\" (" + longest.length() + " letters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5729400" y="4835520"/>
            <a:ext cx="1028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127320" y="3941640"/>
            <a:ext cx="1028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2720" y="3048120"/>
            <a:ext cx="1028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ant with sentine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tter solution uses a constant for the sentin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Str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"goodby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olution uses the const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word (or \"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\" to qu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ongest = "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word.equals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word.length() &gt; longest.length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ngest = word;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a word (or \"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\" to quit)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 = console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longest word you typed was \""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ngest + "\" (" + longest.length() + " letters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numb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 to the "sum numbers until -1 is typed"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 pos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pri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umbers but need onl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1 com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building a fence with wires separated by po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we repeatedly place a post + wir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post will have an extra dangling w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awed algorith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2286000" y="5410080"/>
            <a:ext cx="4952520" cy="990720"/>
            <a:chOff x="2286000" y="5410080"/>
            <a:chExt cx="4952520" cy="990720"/>
          </a:xfrm>
        </p:grpSpPr>
        <p:grpSp>
          <p:nvGrpSpPr>
            <p:cNvPr id="114" name="Group 5"/>
            <p:cNvGrpSpPr/>
            <p:nvPr/>
          </p:nvGrpSpPr>
          <p:grpSpPr>
            <a:xfrm>
              <a:off x="2286000" y="5410080"/>
              <a:ext cx="990360" cy="990720"/>
              <a:chOff x="2286000" y="5410080"/>
              <a:chExt cx="990360" cy="99072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228600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6" name="Group 7"/>
              <p:cNvGrpSpPr/>
              <p:nvPr/>
            </p:nvGrpSpPr>
            <p:grpSpPr>
              <a:xfrm>
                <a:off x="2514600" y="5562720"/>
                <a:ext cx="761760" cy="380880"/>
                <a:chOff x="2514600" y="5562720"/>
                <a:chExt cx="761760" cy="380880"/>
              </a:xfrm>
            </p:grpSpPr>
            <p:sp>
              <p:nvSpPr>
                <p:cNvPr id="117" name="Rectangle 8"/>
                <p:cNvSpPr/>
                <p:nvPr/>
              </p:nvSpPr>
              <p:spPr>
                <a:xfrm>
                  <a:off x="251460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Rectangle 9"/>
                <p:cNvSpPr/>
                <p:nvPr/>
              </p:nvSpPr>
              <p:spPr>
                <a:xfrm>
                  <a:off x="251460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9" name="Group 10"/>
            <p:cNvGrpSpPr/>
            <p:nvPr/>
          </p:nvGrpSpPr>
          <p:grpSpPr>
            <a:xfrm>
              <a:off x="3276360" y="5410080"/>
              <a:ext cx="990360" cy="990720"/>
              <a:chOff x="3276360" y="5410080"/>
              <a:chExt cx="990360" cy="990720"/>
            </a:xfrm>
          </p:grpSpPr>
          <p:sp>
            <p:nvSpPr>
              <p:cNvPr id="120" name="Rectangle 11"/>
              <p:cNvSpPr/>
              <p:nvPr/>
            </p:nvSpPr>
            <p:spPr>
              <a:xfrm>
                <a:off x="327636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1" name="Group 12"/>
              <p:cNvGrpSpPr/>
              <p:nvPr/>
            </p:nvGrpSpPr>
            <p:grpSpPr>
              <a:xfrm>
                <a:off x="3504960" y="5562720"/>
                <a:ext cx="761760" cy="380880"/>
                <a:chOff x="3504960" y="5562720"/>
                <a:chExt cx="761760" cy="380880"/>
              </a:xfrm>
            </p:grpSpPr>
            <p:sp>
              <p:nvSpPr>
                <p:cNvPr id="122" name="Rectangle 13"/>
                <p:cNvSpPr/>
                <p:nvPr/>
              </p:nvSpPr>
              <p:spPr>
                <a:xfrm>
                  <a:off x="350496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Rectangle 14"/>
                <p:cNvSpPr/>
                <p:nvPr/>
              </p:nvSpPr>
              <p:spPr>
                <a:xfrm>
                  <a:off x="350496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Group 15"/>
            <p:cNvGrpSpPr/>
            <p:nvPr/>
          </p:nvGrpSpPr>
          <p:grpSpPr>
            <a:xfrm>
              <a:off x="4267080" y="5410080"/>
              <a:ext cx="990360" cy="990720"/>
              <a:chOff x="4267080" y="5410080"/>
              <a:chExt cx="990360" cy="990720"/>
            </a:xfrm>
          </p:grpSpPr>
          <p:sp>
            <p:nvSpPr>
              <p:cNvPr id="125" name="Rectangle 16"/>
              <p:cNvSpPr/>
              <p:nvPr/>
            </p:nvSpPr>
            <p:spPr>
              <a:xfrm>
                <a:off x="426708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6" name="Group 17"/>
              <p:cNvGrpSpPr/>
              <p:nvPr/>
            </p:nvGrpSpPr>
            <p:grpSpPr>
              <a:xfrm>
                <a:off x="4495680" y="5562720"/>
                <a:ext cx="761760" cy="380880"/>
                <a:chOff x="4495680" y="5562720"/>
                <a:chExt cx="761760" cy="380880"/>
              </a:xfrm>
            </p:grpSpPr>
            <p:sp>
              <p:nvSpPr>
                <p:cNvPr id="127" name="Rectangle 18"/>
                <p:cNvSpPr/>
                <p:nvPr/>
              </p:nvSpPr>
              <p:spPr>
                <a:xfrm>
                  <a:off x="449568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Rectangle 19"/>
                <p:cNvSpPr/>
                <p:nvPr/>
              </p:nvSpPr>
              <p:spPr>
                <a:xfrm>
                  <a:off x="449568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9" name="Group 20"/>
            <p:cNvGrpSpPr/>
            <p:nvPr/>
          </p:nvGrpSpPr>
          <p:grpSpPr>
            <a:xfrm>
              <a:off x="5257800" y="5410080"/>
              <a:ext cx="990360" cy="990720"/>
              <a:chOff x="5257800" y="5410080"/>
              <a:chExt cx="990360" cy="990720"/>
            </a:xfrm>
          </p:grpSpPr>
          <p:sp>
            <p:nvSpPr>
              <p:cNvPr id="130" name="Rectangle 21"/>
              <p:cNvSpPr/>
              <p:nvPr/>
            </p:nvSpPr>
            <p:spPr>
              <a:xfrm>
                <a:off x="525780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1" name="Group 22"/>
              <p:cNvGrpSpPr/>
              <p:nvPr/>
            </p:nvGrpSpPr>
            <p:grpSpPr>
              <a:xfrm>
                <a:off x="5486400" y="5562720"/>
                <a:ext cx="761760" cy="380880"/>
                <a:chOff x="5486400" y="5562720"/>
                <a:chExt cx="761760" cy="38088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548640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Rectangle 24"/>
                <p:cNvSpPr/>
                <p:nvPr/>
              </p:nvSpPr>
              <p:spPr>
                <a:xfrm>
                  <a:off x="548640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4" name="Group 25"/>
            <p:cNvGrpSpPr/>
            <p:nvPr/>
          </p:nvGrpSpPr>
          <p:grpSpPr>
            <a:xfrm>
              <a:off x="6248160" y="5410080"/>
              <a:ext cx="990360" cy="990720"/>
              <a:chOff x="6248160" y="5410080"/>
              <a:chExt cx="990360" cy="990720"/>
            </a:xfrm>
          </p:grpSpPr>
          <p:sp>
            <p:nvSpPr>
              <p:cNvPr id="135" name="Rectangle 26"/>
              <p:cNvSpPr/>
              <p:nvPr/>
            </p:nvSpPr>
            <p:spPr>
              <a:xfrm>
                <a:off x="6248160" y="5410080"/>
                <a:ext cx="228600" cy="9907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" name="Group 27"/>
              <p:cNvGrpSpPr/>
              <p:nvPr/>
            </p:nvGrpSpPr>
            <p:grpSpPr>
              <a:xfrm>
                <a:off x="6476760" y="5562720"/>
                <a:ext cx="761760" cy="380880"/>
                <a:chOff x="6476760" y="5562720"/>
                <a:chExt cx="761760" cy="380880"/>
              </a:xfrm>
            </p:grpSpPr>
            <p:sp>
              <p:nvSpPr>
                <p:cNvPr id="137" name="Rectangle 28"/>
                <p:cNvSpPr/>
                <p:nvPr/>
              </p:nvSpPr>
              <p:spPr>
                <a:xfrm>
                  <a:off x="6476760" y="556272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Rectangle 29"/>
                <p:cNvSpPr/>
                <p:nvPr/>
              </p:nvSpPr>
              <p:spPr>
                <a:xfrm>
                  <a:off x="6476760" y="5867280"/>
                  <a:ext cx="761760" cy="7632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vised algorith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2286000" y="5410080"/>
            <a:ext cx="4191120" cy="990360"/>
            <a:chOff x="2286000" y="5410080"/>
            <a:chExt cx="4191120" cy="990360"/>
          </a:xfrm>
        </p:grpSpPr>
        <p:grpSp>
          <p:nvGrpSpPr>
            <p:cNvPr id="142" name="Group 5"/>
            <p:cNvGrpSpPr/>
            <p:nvPr/>
          </p:nvGrpSpPr>
          <p:grpSpPr>
            <a:xfrm>
              <a:off x="2286000" y="5410080"/>
              <a:ext cx="990360" cy="990360"/>
              <a:chOff x="2286000" y="5410080"/>
              <a:chExt cx="990360" cy="990360"/>
            </a:xfrm>
          </p:grpSpPr>
          <p:sp>
            <p:nvSpPr>
              <p:cNvPr id="143" name="Rectangle 6"/>
              <p:cNvSpPr/>
              <p:nvPr/>
            </p:nvSpPr>
            <p:spPr>
              <a:xfrm>
                <a:off x="228600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2514600" y="5562360"/>
                <a:ext cx="761760" cy="380160"/>
                <a:chOff x="2514600" y="5562360"/>
                <a:chExt cx="761760" cy="380160"/>
              </a:xfrm>
            </p:grpSpPr>
            <p:sp>
              <p:nvSpPr>
                <p:cNvPr id="145" name="Rectangle 8"/>
                <p:cNvSpPr/>
                <p:nvPr/>
              </p:nvSpPr>
              <p:spPr>
                <a:xfrm>
                  <a:off x="251460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Rectangle 9"/>
                <p:cNvSpPr/>
                <p:nvPr/>
              </p:nvSpPr>
              <p:spPr>
                <a:xfrm>
                  <a:off x="251460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7" name="Group 10"/>
            <p:cNvGrpSpPr/>
            <p:nvPr/>
          </p:nvGrpSpPr>
          <p:grpSpPr>
            <a:xfrm>
              <a:off x="3276720" y="5410080"/>
              <a:ext cx="990360" cy="990360"/>
              <a:chOff x="3276720" y="5410080"/>
              <a:chExt cx="990360" cy="990360"/>
            </a:xfrm>
          </p:grpSpPr>
          <p:sp>
            <p:nvSpPr>
              <p:cNvPr id="148" name="Rectangle 11"/>
              <p:cNvSpPr/>
              <p:nvPr/>
            </p:nvSpPr>
            <p:spPr>
              <a:xfrm>
                <a:off x="327672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9" name="Group 12"/>
              <p:cNvGrpSpPr/>
              <p:nvPr/>
            </p:nvGrpSpPr>
            <p:grpSpPr>
              <a:xfrm>
                <a:off x="3505320" y="5562360"/>
                <a:ext cx="761760" cy="380160"/>
                <a:chOff x="3505320" y="5562360"/>
                <a:chExt cx="761760" cy="380160"/>
              </a:xfrm>
            </p:grpSpPr>
            <p:sp>
              <p:nvSpPr>
                <p:cNvPr id="150" name="Rectangle 13"/>
                <p:cNvSpPr/>
                <p:nvPr/>
              </p:nvSpPr>
              <p:spPr>
                <a:xfrm>
                  <a:off x="350532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Rectangle 14"/>
                <p:cNvSpPr/>
                <p:nvPr/>
              </p:nvSpPr>
              <p:spPr>
                <a:xfrm>
                  <a:off x="350532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2" name="Group 15"/>
            <p:cNvGrpSpPr/>
            <p:nvPr/>
          </p:nvGrpSpPr>
          <p:grpSpPr>
            <a:xfrm>
              <a:off x="4267440" y="5410080"/>
              <a:ext cx="990360" cy="990360"/>
              <a:chOff x="4267440" y="5410080"/>
              <a:chExt cx="990360" cy="990360"/>
            </a:xfrm>
          </p:grpSpPr>
          <p:sp>
            <p:nvSpPr>
              <p:cNvPr id="153" name="Rectangle 16"/>
              <p:cNvSpPr/>
              <p:nvPr/>
            </p:nvSpPr>
            <p:spPr>
              <a:xfrm>
                <a:off x="426744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" name="Group 17"/>
              <p:cNvGrpSpPr/>
              <p:nvPr/>
            </p:nvGrpSpPr>
            <p:grpSpPr>
              <a:xfrm>
                <a:off x="4496040" y="5562360"/>
                <a:ext cx="761760" cy="380160"/>
                <a:chOff x="4496040" y="5562360"/>
                <a:chExt cx="761760" cy="380160"/>
              </a:xfrm>
            </p:grpSpPr>
            <p:sp>
              <p:nvSpPr>
                <p:cNvPr id="155" name="Rectangle 18"/>
                <p:cNvSpPr/>
                <p:nvPr/>
              </p:nvSpPr>
              <p:spPr>
                <a:xfrm>
                  <a:off x="449604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" name="Rectangle 19"/>
                <p:cNvSpPr/>
                <p:nvPr/>
              </p:nvSpPr>
              <p:spPr>
                <a:xfrm>
                  <a:off x="449604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7" name="Group 20"/>
            <p:cNvGrpSpPr/>
            <p:nvPr/>
          </p:nvGrpSpPr>
          <p:grpSpPr>
            <a:xfrm>
              <a:off x="5257800" y="5410080"/>
              <a:ext cx="990360" cy="990360"/>
              <a:chOff x="5257800" y="5410080"/>
              <a:chExt cx="990360" cy="990360"/>
            </a:xfrm>
          </p:grpSpPr>
          <p:sp>
            <p:nvSpPr>
              <p:cNvPr id="158" name="Rectangle 21"/>
              <p:cNvSpPr/>
              <p:nvPr/>
            </p:nvSpPr>
            <p:spPr>
              <a:xfrm>
                <a:off x="5257800" y="541008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9" name="Group 22"/>
              <p:cNvGrpSpPr/>
              <p:nvPr/>
            </p:nvGrpSpPr>
            <p:grpSpPr>
              <a:xfrm>
                <a:off x="5486400" y="5562360"/>
                <a:ext cx="761760" cy="380160"/>
                <a:chOff x="5486400" y="5562360"/>
                <a:chExt cx="761760" cy="380160"/>
              </a:xfrm>
            </p:grpSpPr>
            <p:sp>
              <p:nvSpPr>
                <p:cNvPr id="160" name="Rectangle 23"/>
                <p:cNvSpPr/>
                <p:nvPr/>
              </p:nvSpPr>
              <p:spPr>
                <a:xfrm>
                  <a:off x="5486400" y="556236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1" name="Rectangle 24"/>
                <p:cNvSpPr/>
                <p:nvPr/>
              </p:nvSpPr>
              <p:spPr>
                <a:xfrm>
                  <a:off x="5486400" y="586656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2" name="Rectangle 25"/>
            <p:cNvSpPr/>
            <p:nvPr/>
          </p:nvSpPr>
          <p:spPr>
            <a:xfrm>
              <a:off x="6248520" y="541008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rnate solution: Either first or last "post" can be taken 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ll prime numbers up to a given maximum in the following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[2 3 5 7 11 13 17 19 23 29 31 37 41 43 47]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find primes, 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returns 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Factors(60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 2, 3, 4, 5, 6, 10, 12, 15, 20, 30, and 60 are factors of 6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rimes(5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rimes(10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[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 + 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]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answer, continu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Note: this is also in ch04-1 sli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0T05:44:40Z</dcterms:modified>
  <cp:revision>1310</cp:revision>
  <dc:subject/>
  <dc:title>Building Java Programs</dc:title>
</cp:coreProperties>
</file>