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614E-14A2-4983-B77A-49FBB30E9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0661-2632-4226-A139-F942C07F7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97F2-941A-4DDB-8FF1-C409A51FF4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1122-1153-43B3-A00C-B08B5AE386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357D9-490B-42C5-A66F-5FBDBC42EE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9BA9D-A7F5-4EE4-B2A6-6E59F1E572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CB78F-2C5A-453F-8B1D-60F588BF85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3056-ECA5-4885-8657-EBB8DCA5AC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D97C-2565-4911-AA9E-0DE980705E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BA400-76C8-472A-82EB-BE5FA041FF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C273-51E2-4118-B180-6223DD09ED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F9FBD-0485-42B6-A557-4A184F7E8E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8FDD-5589-4792-B7AF-60ABCD8910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F69A-E2C0-49BF-BB83-996E1C7B41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6162-4DF0-473F-B556-9B7BD4DC60C7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0A77-1998-4F2F-A69C-7FCC10EAD33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4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4-2: Str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3.3, 4.3 - 4.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Ch. 4 #12, 1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Ch. 4 #15, 1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3 #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paring string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lational operators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ail on obje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name == "Barney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de will compile, but it will not print the so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mpares objects b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ferenc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en later), so it often giv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ven when tw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have the same lett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1488960" y="2711520"/>
            <a:ext cx="2867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equal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cts are compared using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ame.equals("Barney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chnically this is a method that returns a value of 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ype used in logical tes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test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Dr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Are you single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LUMBERG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I need your TPS reports.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8160" y="137160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a person's name and converts it into a "gangsta name.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(run 1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your name, playa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Peter Griff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)ale or (F)emal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gangsta name is "P. GRIFFIN Daddy Peter-izzle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(run 2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your name, playa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arge Simp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)ale or (F)emal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gangsta name is "M. SIMPSON Goddess Marge-izzle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your "gangsta" nam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GangstaNam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your name, playa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Lin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(M)ale or (F)emale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gender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plit name into first/last name and initi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r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0, name.indexOf(" ")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name.indexOf(" ") +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.toUpperCas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nitial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.substring(0,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titl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nder.equalsIgnoreCase("m"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tle = "Daddy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tle = "Goddess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r gangsta name is \"" + fInitial + ". "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 last + " " + title + " " + first + "-izzle\"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62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: A primitive type representing single charac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character insid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stored 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ter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s are surrounded with apostrop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ingle-quote) marks, such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4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'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legal to have variables, parameters, returns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letter = 'S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);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lues can be concatenated with string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initial = 'P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itial + " Diddy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Didd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2700360" y="4286160"/>
            <a:ext cx="20620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289320" y="2073240"/>
            <a:ext cx="18921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A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be accessed us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food = "cookie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Lette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.charAt(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'c'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irstLetter + " is for " + food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at's good enough for me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us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op to print or examine each charac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major = "CSE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major.length()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jor.charAt(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vs.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lues are assigned numbers internally by the computer, calle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ASCII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alu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65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66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 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3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97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98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*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4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uses automatic conversion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 + 10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107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 + 'A'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13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onvert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o the equivale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ype-cast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har) ('a' + 2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c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  <a:ea typeface="Courier New"/>
              </a:rPr>
              <a:t>cha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vs.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  <a:ea typeface="Courier New"/>
              </a:rPr>
              <a:t>St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h"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the two behave differentl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n object; it contains metho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UpperCase(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n = s.length(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first = s.charAt(0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primitive; you can't call methods on i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h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  <a:ea typeface="Courier New"/>
              </a:rPr>
              <a:t>c = c.toUpperCase();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  <a:ea typeface="Courier New"/>
              </a:rPr>
              <a:t>// ERROR: "cannot be dereferenced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 algn="ctr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 algn="ctr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par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valu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comp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lues with relational operato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 &lt; 'b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and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X' == 'X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and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Q' != 'q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example that prints the alphab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char c = 'a'; c &lt;= 'z'; c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c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test the value of a string's charact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d.charAt(word.length() - 1) == 's'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word + " is plural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bjects and class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entity that contai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variables),  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ehavi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ethod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program, or a type of obje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s objects that store tex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s graphical window obje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s objects that read information from the keyboard, files, and other sour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/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Caesar ciph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simple encryption where a message is encoded by shifting each letter by a given amou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g. with a shift of 3,  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,  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, 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,  and 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a message from the user and performs a Caesar cipher on its lette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secret message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Brad thinks Angelina is c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secret key: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encoded message: eudg wklqnv dqjholqd lv fxw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nsw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reads a message and a secret key from the user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crypts the message using a Caesar cipher, shifting each lette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Messag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Your secret message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message = console.next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ssage = message.toLowerCas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Your secret key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key = console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code(message, ke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method encodes the given text string using a Caes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ipher, shifting each letter by the given number of plac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encode(String text, int shif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he encoded message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text.length()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letter = text.charAt(i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hift only letters (leave other characters alon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tter &gt;= 'a' &amp;&amp; letter &lt;= 'z'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etter = (char) (letter + shif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may need to wrap arou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tter &gt; 'z'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etter = (char) (letter - 26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letter &lt; 'a'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etter = (char) (letter + 26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letter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object storing a sequence of text charac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like most other objects,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not created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point = "(" + x + ", " + y + ")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dex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acters of a string are numbered with 0-base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ndex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"P. Diddy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irst character's index is always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character's index is 1 less than the string's l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dividual characters are values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en la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97160" y="2446200"/>
          <a:ext cx="6375240" cy="906480"/>
        </p:xfrm>
        <a:graphic>
          <a:graphicData uri="http://schemas.openxmlformats.org/drawingml/2006/table">
            <a:tbl>
              <a:tblPr/>
              <a:tblGrid>
                <a:gridCol w="1218960"/>
                <a:gridCol w="644400"/>
                <a:gridCol w="646200"/>
                <a:gridCol w="642960"/>
                <a:gridCol w="644400"/>
                <a:gridCol w="644760"/>
                <a:gridCol w="644400"/>
                <a:gridCol w="644400"/>
                <a:gridCol w="64476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methods are called using the dot not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gangsta = "Dr. Dre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angsta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280" y="1371600"/>
          <a:ext cx="8839440" cy="3127320"/>
        </p:xfrm>
        <a:graphic>
          <a:graphicData uri="http://schemas.openxmlformats.org/drawingml/2006/table">
            <a:tbl>
              <a:tblPr/>
              <a:tblGrid>
                <a:gridCol w="3695760"/>
                <a:gridCol w="5143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 where the start of the given string appears in this string (-1 if it is not the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of characters in this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e characters in this string from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inclusive)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exclus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mitted, grabs till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new string with all low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new string with all upp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 examp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    index 0123456789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1 = "Stuart Reges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2 = "Marty Stepp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indexOf("e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substring(7, 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Reg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3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.substring(2, 8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3.toLow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rty st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iven the following str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      index 01234567890123456789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book = "Building Java Programs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would you extract the wor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Java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would you extract the first word from any str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odifying string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hods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tc. create/retur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new string, rather than modifying the current str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s.toUpperCa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modify a variable, you must reassign i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 =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s.toUpperCa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5446800" y="3384720"/>
            <a:ext cx="17352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s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tringParameters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Hello("Marty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eacher = "Helene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Hello(teach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ayHell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lcome, " + 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lcome, Mar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lcome, Hele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511440" y="5749920"/>
            <a:ext cx="29656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60480" y="2390760"/>
            <a:ext cx="38145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s user inpu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 reads a word of input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= name.toUpperCas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has " + name.length() +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letters and starts with " + name.substring(0, 1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nam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adon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DONNA has 7 letters and starts with 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 reads a line of input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address?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addres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ole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8-10-17T17:45:38Z</dcterms:modified>
  <cp:revision>1284</cp:revision>
  <dc:subject/>
  <dc:title>Building Java Programs</dc:title>
</cp:coreProperties>
</file>