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C84A-C76B-4559-95E3-6710993B1F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DEC7-E0ED-43E2-BCA2-4879FA43E6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3481-1AB9-4C3F-975C-E45875F06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85E7-AAEE-421D-822D-379A981C99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ACA2-EC6F-4908-A922-4D3314048C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6E2C-4AC3-465C-8910-AFB8EACDB7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565A-2308-4AF3-BD43-E73A5AC01E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E6B9-0192-4359-A13A-A43B9ECF74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FEF7-510B-4F85-ACE5-4AF1B6C1A6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0D86-7A41-4666-92D4-C916408F59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806F-054E-4427-8945-87D037D4AB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F4C3-588C-454D-ABD2-A6B6257AD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3CAB-2321-498C-99C7-CB83B1EE7A5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570F-CC52-40A9-80A9-83FF29D30236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2: Return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2, 3.5, 4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3 #2, 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2590920" y="4343400"/>
            <a:ext cx="865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219320" y="5181480"/>
            <a:ext cx="2057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Fahrenheit to Celsi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shorten the examples by returning an express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: Not s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students incorrectly think tha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 sends a variable's name back to the calling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1222200" y="3056040"/>
            <a:ext cx="1468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ing the common err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ead, returning sends the variable'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turned value must be stored into a variable or used in an expression to be useful to the c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irks of real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other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yp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print poorly (too many digit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puter represen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in an imprecise w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0.3, the outpu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 ca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onversion from one type to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romot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get exact division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unc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a real number to 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nt x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Math.pow(10, 3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276720" y="2666880"/>
            <a:ext cx="15271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657520" y="2305080"/>
            <a:ext cx="15271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re about 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casting has high precedence and only casts the item immediately next to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 + 1 / 2;       //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 / 2;       //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use parentheses to force evaluation ord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be achieved in other way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0" algn="ctr"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n advanced command for printing formatted tex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3280" indent="0" algn="ctr"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32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mat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ormat string contain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sert parameters into i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spcBef>
                <a:spcPts val="45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(%d, %d)\n", x, y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cont'd</a:t>
            </a:r>
            <a:endParaRPr b="0" lang="en-US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placeholder can specify the parameter's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lef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.4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4 character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6.2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6 characters wide, 2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4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1.234567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%-8d %4f\n", age, gp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%8.3f %.1f %.5f", gpa, gpa, gp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       1.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234 1.2 1.234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jectile problem revisit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splay (as text and graphics) the paths of projectiles thrown at various velocities and ang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ile #1: velocity = 60, angle = 50°, steps =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ile #2: velocity = 50, angle = 80°, steps = 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36.14   38.76    0.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72.28   68.91    1.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 108.42   90.45    2.8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 144.56  103.37    3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 180.70  107.67    4.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  216.84  103.37    5.6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  252.98   90.45    6.5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  289.12   68.91    7.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  325.26   38.76    8.4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361.40    0.00    9.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 1.74    9.69    0.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3.49   18.98    0.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5308560" y="3062160"/>
            <a:ext cx="3733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jectile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displays (as text and graphics) the paths of projectiles thrown at various velocities and ang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ile #1: velocity = 60, angle = 50°, steps =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ile #2: velocity = 50, angle = 80°, steps = 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36.14   38.76    0.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72.28   68.91    1.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 108.42   90.45    2.8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 144.56  103.37    3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 180.70  107.67    4.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  216.84  103.37    5.6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  252.98   90.45    6.5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  289.12   68.91    7.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  325.26   38.76    8.4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361.40    0.00    9.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 1.74    9.69    0.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3.49   18.98    0.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5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308560" y="3062160"/>
            <a:ext cx="3733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X/Y position, displac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the previous, we can now displa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since there is no force in the x dir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????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36.14    ????    0.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72.28    ????    1.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361.40    ????    9.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isplay the y, we need to compute the projectile'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splace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y direction at each time incr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0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 + ½ a t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ce this formula is complicated, let's make it into a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jectile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computes and draws the trajectory of a projecti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ojectil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nstant for Earth's gravity acceleration in meters/second^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final double ACCELERATION = -9.8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420, 2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      v0  angle  ste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ble(g,  60,  50,  1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ble(g,  50,  80, 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the displacement for a body under accel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v0, double t, double a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v0 * t + 0.5 * a * t * 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jectile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 table showing the trajectory of an object giv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ts initial velocity v and angle and number of ste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able(Graphics g, double v0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angle, int step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v0x = v0 * Math.cos(Math.toRadians(angle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v0y = v0 * Math.sin(Math.toRadians(angle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Time = -2.0 * v0y / ACCELERATIO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dt = totalTime / step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  step       x       y    time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= steps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me = i * d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x = i * v0x * d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y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v0y, time, ACCELERATIO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f("%8d%8.2f%8.2f%8.2f\n", i, x, y, tim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(int) x, (int) (250 - y), 5, 5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ime observ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are given the number of "steps" of time to dis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must figure out how long it takes the projectile to hit the ground, then divide this time into the # of steps reques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       x       y   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   0.00    0.00    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36.14   38.76    0.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72.28   68.91    1.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361.40    0.00    9.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tal time is based on the force of gravity on the project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ce of gravity 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≅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9.81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ownw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ojectile has an initial upward velocity, which is fought by gravity until the projectile reaches its peak, then it fal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705720" y="2727360"/>
            <a:ext cx="22096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elocity and accele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jectile has a given initial velocit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 be divided into x and y compon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s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in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2896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13 and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60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12 and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velocit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a moving body at tim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given initial velocit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cceleratio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can be expressed 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0">
              <a:spcBef>
                <a:spcPts val="201"/>
              </a:spcBef>
              <a:buNone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our case, because of symmetry, at the end tim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projectile is falling exactly as fast as it was first going u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-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t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7408800" y="1371600"/>
            <a:ext cx="1227240" cy="168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91080" y="1905120"/>
            <a:ext cx="94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7531200" y="3060720"/>
            <a:ext cx="98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8636040" y="1582560"/>
            <a:ext cx="0" cy="147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593480" y="3032280"/>
            <a:ext cx="102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8391960" y="2057400"/>
            <a:ext cx="102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637400" y="26510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Return Value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7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4-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3 #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295280"/>
          <a:ext cx="6643800" cy="527076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296040" y="4952880"/>
          <a:ext cx="2771640" cy="100656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ll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do not print to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method produces ("returns") a numeric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ults are used as expressions (printed, stored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send out a value as the result of a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posite of a parame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eter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the caller to the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value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a method to its cal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2144880" y="3429000"/>
            <a:ext cx="4904640" cy="2430720"/>
            <a:chOff x="2144880" y="3429000"/>
            <a:chExt cx="4904640" cy="2430720"/>
          </a:xfrm>
        </p:grpSpPr>
        <p:sp>
          <p:nvSpPr>
            <p:cNvPr id="133" name="Text Box 5"/>
            <p:cNvSpPr/>
            <p:nvPr/>
          </p:nvSpPr>
          <p:spPr>
            <a:xfrm>
              <a:off x="2144880" y="430524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V="1">
              <a:off x="2966760" y="3508200"/>
              <a:ext cx="14475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7"/>
            <p:cNvSpPr/>
            <p:nvPr/>
          </p:nvSpPr>
          <p:spPr>
            <a:xfrm>
              <a:off x="4435920" y="342900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3236400" y="3492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2939760" y="4703400"/>
              <a:ext cx="147456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4430520" y="546084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 flipH="1" flipV="1">
              <a:off x="2890800" y="4799880"/>
              <a:ext cx="152352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Text Box 12"/>
            <p:cNvSpPr/>
            <p:nvPr/>
          </p:nvSpPr>
          <p:spPr>
            <a:xfrm>
              <a:off x="3673080" y="4727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 flipH="1">
              <a:off x="3119040" y="3812760"/>
              <a:ext cx="129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3790440" y="4025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3409560" y="524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the following express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used to bound nu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would replace negative ages with 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would cap the maximum age to 4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1-22T20:58:53Z</dcterms:modified>
  <cp:revision>1260</cp:revision>
  <dc:subject/>
  <dc:title>Building Java Programs</dc:title>
</cp:coreProperties>
</file>