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873-B2DE-4485-B1D5-0294C1B97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0278-6BB0-4310-87F2-A0451A7F85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5862-7FDC-407D-8DD2-46C13C8A2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1827-3FE8-431E-9142-792A4B4884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0FCB-49E3-4520-8F7C-E84779DCB7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FD0B-F415-4055-83FA-1B1CDEF22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6A2E-BF2E-4DA2-9C5E-D10FA6FD4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C031-453E-401B-BD52-AD7C2D5AF7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7A83-A3D3-494E-81F6-1F5A389AAD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6D9F-38CD-4ADE-9FA6-6849E39AA6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3FFA-A9DB-4178-A659-9023C0CBF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D120-5CEE-4FF9-B686-D9EC8B53E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2358-C938-4299-B4C7-798EB667538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0FF-0CE3-495D-A1EB-43AE0B82CB5D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Supplement 3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G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col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lined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a colored shape with an outline, firs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i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ra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me shape in the outline col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pression can use the loop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400, 3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sted loops are okay as we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6272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64520" y="4419720"/>
            <a:ext cx="1679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that begin at 0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137160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ginning at 0 and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make coordinates easi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en stacked rectangles starting at (20, 20), height 10, width starting at 100 and decreasing by 10 each ti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60, 16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i = 0; i &lt; 1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20, 20 + 10 * i, 100 - 10 * i, 1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96200" y="421956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/ loops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de from previous sli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60, 16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20, 20 + 10 * i, 100 - 10 * i, 1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variations of the abo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hat draw the figur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right a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1581120" cy="220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1581120" cy="220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/ loops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#1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0 +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 + 10 * 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 - 10 * i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#2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 -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20 + 10 * 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 + 10 *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410600" y="1371600"/>
            <a:ext cx="1581120" cy="2201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410600" y="4195800"/>
            <a:ext cx="15811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perimposing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2960" indent="-28296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in multiple methods, you must p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awCar(g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0" y="4616280"/>
            <a:ext cx="20574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car-drawing method so that it can draw cars at different positions, as in the following im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corners: (10, 30),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5562720" y="3784680"/>
            <a:ext cx="1488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10, 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150,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, int x, int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ll draw graphics in Java using 3 kinds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indow on the scre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part of Java; provided by the auth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"pen" to draw shapes/lines on a wind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lors in which to draw sha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39040" y="3657600"/>
            <a:ext cx="233820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C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allow the car to be drawn at any siz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ca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ca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 50, top/left at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to draw a line of c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at (10, 130), each car size 40, separated by 50p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paramet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2120" y="4449600"/>
            <a:ext cx="2057400" cy="163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00800" y="4145040"/>
            <a:ext cx="205740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7262640" y="3962520"/>
            <a:ext cx="100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paramet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4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1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, 10, 30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g, 150, 10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for (int i = 0; i &lt; 5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drawCar(g, 10 + i * 50, 130, 4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, size / 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 *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5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7 * 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 *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5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x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7 * 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 /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 * size / 10, size / 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139160" y="4556160"/>
            <a:ext cx="194940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 that represent arbitrary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point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ing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1225440" y="4529160"/>
            <a:ext cx="2359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pauses your program for a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create simple anim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ad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ands to loops in past exercises in this chapter and watch the panel draw itself piece by pie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(briefly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Variables inside the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 inside the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 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4724280"/>
            <a:ext cx="3238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Java's JD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in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very top of your program, 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ordinate syst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(x, y) position is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"picture element"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0, 0) is at the window's top-left corn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increases rightward and the y increa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own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ctangle from (0, 0) to (200, 100) looks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0, 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00, 1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86080" y="4419720"/>
            <a:ext cx="1371600" cy="914400"/>
            <a:chOff x="1486080" y="4419720"/>
            <a:chExt cx="1371600" cy="914400"/>
          </a:xfrm>
        </p:grpSpPr>
        <p:sp>
          <p:nvSpPr>
            <p:cNvPr id="127" name=""/>
            <p:cNvSpPr/>
            <p:nvPr/>
          </p:nvSpPr>
          <p:spPr>
            <a:xfrm>
              <a:off x="15624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24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860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11T10:04:42Z</dcterms:modified>
  <cp:revision>1247</cp:revision>
  <dc:subject/>
  <dc:title>Building Java Programs</dc:title>
</cp:coreProperties>
</file>