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BE5-6493-4DCC-90E5-4BF1D4653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4178-C5CD-49A8-B5F9-1A0157F212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3E59-2371-4D1E-A33B-E4EADA079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1DCA-5523-42D0-877D-2092583738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8335-0A49-45FE-8AF2-0FD2F43804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59C3-8841-49CD-940C-1A16BCE742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D66C-0F9D-4C71-A892-AB7A66FDA9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A140-7516-4FA0-A753-8F2698DC9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6698-0676-4457-BC57-6B0C3BA920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8181-9E85-4DC2-AB35-5CD39BDCB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F42E-3718-404C-8FBE-33DCD52931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CE6D-5C21-4D31-B8BE-9DC367B39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1EA3-596F-4A2A-A45B-FC4BC28A7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38AA-C8A3-4268-88DF-4437237A02C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6954-4573-4548-A03E-FA1061137D6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1: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w parameters are pass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method is call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stored into the parameter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's code executes using that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55" name="Line 5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58" name="Rectangle 8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 method accepts a parameter, it is illegal to call it without passing any value for tha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value passed to a method must be of the correct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Chang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a parameterized method for drawing lines of st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can accept multiple parameters. (separate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alling it, you must pass values for each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41760" y="2935440"/>
            <a:ext cx="2878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draw boxes with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730520" y="3595680"/>
            <a:ext cx="2423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30520" y="3032280"/>
            <a:ext cx="2423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A "Parameter Mystery" proble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4916520" y="4314960"/>
            <a:ext cx="2590920" cy="609480"/>
            <a:chOff x="4916520" y="4314960"/>
            <a:chExt cx="2590920" cy="609480"/>
          </a:xfrm>
        </p:grpSpPr>
        <p:sp>
          <p:nvSpPr>
            <p:cNvPr id="178" name="Rectangle 7"/>
            <p:cNvSpPr/>
            <p:nvPr/>
          </p:nvSpPr>
          <p:spPr>
            <a:xfrm>
              <a:off x="491652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590724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6897600" y="431496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5446800" y="3116160"/>
            <a:ext cx="1735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Helen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He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string parameters. Us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 string many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reci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ag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4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ags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reci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808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1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ags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that distinguishes similar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printing the following lines/box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redundan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de is redunda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uld variables help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uld constants hel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better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line of any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box of any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28" name="Text Box 5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7566120" y="4359240"/>
            <a:ext cx="619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419800" y="4024440"/>
            <a:ext cx="1243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ing a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tating that a method requires a parameter in order to r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called, the caller must specif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ger code to pr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133800" y="3849840"/>
            <a:ext cx="788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144960" y="3546360"/>
            <a:ext cx="311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lling a method and specifying values for its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298520" y="2217600"/>
            <a:ext cx="13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489560" y="3433680"/>
            <a:ext cx="795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498920" y="3141720"/>
            <a:ext cx="139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an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arameter can guide the number of repetitions of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1-01-14T22:56:04Z</dcterms:modified>
  <cp:revision>1251</cp:revision>
  <dc:subject/>
  <dc:title>Building Java Programs</dc:title>
</cp:coreProperties>
</file>