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A650-83A8-47F0-97D9-E3CDF130D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1266-3F94-4964-BD22-C27C911FF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cases produce infinite lo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0F9C-EDE3-4F45-8A5D-59A2C1B66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8EA0-739E-4312-AFEF-3B2420883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5835-922E-4886-8932-8F408803B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4D92-BDC5-4A86-9653-8AA55A061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957A-10D5-4A02-BC8C-EBE0A238D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5662-6E5E-4FB5-9661-51C41F723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AFDA-5F2E-419D-BC1E-492BA5049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525E8-6A60-4703-9138-5F287B0698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D658E-97BA-40CD-B8BA-E194FC1CFB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263DE-2D7C-4C33-9EC4-3646192AD2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40DED-83FD-4909-B9CF-E982349F31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46F3A-76F5-4C7E-B4DB-B5CEE2BCE0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CD8A-6C11-426F-A005-E41F37C241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D0411-B85D-423A-A231-C37D36E28A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BC343-13E3-48E4-BBC6-8619A7B111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A5282-3042-40CC-91EB-AFA45B8F56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A5742-F72C-497E-8AD1-5A68C03EE5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E2B7-168D-42C9-84B4-8BF3839AAE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816AC-9838-4332-AFB7-84BCC537BA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C415-D200-4C8D-BC1F-358FFAFD345F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Verdana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5B93-AADA-4247-99B5-20F3206C2A57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Nested loop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ading: 2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elf-check: 22-26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ercises: 10-1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videos: Ch. 2 #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4200480" y="3003480"/>
            <a:ext cx="6094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552920" y="2089080"/>
            <a:ext cx="22096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swe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line = 1; line &lt;= 5; line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-1 * line + 5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the output of the following nes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line = 1; line &lt;= 5; line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(-1 * line + 5); j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 = 1; k &lt;= line; k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lin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swe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3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44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555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previous code to produce this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.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swe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5; line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j = 1; j &lt;= (-1 * line + 5)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n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j = 1; j &lt;= (line - 1)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"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657600" y="2209680"/>
            <a:ext cx="8492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4762440" y="4343400"/>
            <a:ext cx="4269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mon err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oth of the following sets of code produc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infinite loop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j = 1;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i &lt;= 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j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j = 1; j &lt;= 5;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i++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j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hapter 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2-3: Loop Figures and Consta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2.4 - 2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elf-checks: 2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ercises: 16-1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videos: Ch. 2 #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rawing complex figur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nes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 to produce the following outpu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y draw ASCII ar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 graphics require a lot of fines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CII art has complex patter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focus on the algorith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027480" y="3124080"/>
            <a:ext cx="303840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====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&lt;&gt;&lt;&gt;  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&lt;&gt;....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&lt;&gt;....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&lt;&gt;....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&lt;&gt;....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&lt;&gt;....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&lt;&gt;....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&lt;&gt;&lt;&gt;  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====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velopment strateg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commendations for managing complexity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 Write an English description of steps required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seudo-co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pseudo-code to decide metho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 Create a table of patterns of charac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table to write loops in each metho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027480" y="3124080"/>
            <a:ext cx="303840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====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&lt;&gt;&lt;&gt;  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&lt;&gt;....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&lt;&gt;....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&lt;&gt;....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&lt;&gt;....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&lt;&gt;....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&lt;&gt;....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&lt;&gt;&lt;&gt;  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====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1. Pseudo-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seudo-cod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English description of an algorith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 Drawing a 12 wide by 7 tall box of star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int 12 sta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r (each of 5 line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int a st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int 10 spac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int a st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int 12 sta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715000" y="3505320"/>
            <a:ext cx="2133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         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         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         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         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         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seudo-code algorith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, 16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2. Top hal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SzPct val="7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SzPct val="7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Verdana"/>
              </a:rPr>
              <a:t>spaces (decreasing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SzPct val="7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&lt;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SzPct val="7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Verdana"/>
              </a:rPr>
              <a:t>dots (increasing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SzPct val="7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&lt;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SzPct val="7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Verdana"/>
              </a:rPr>
              <a:t>spaces (same as abo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SzPct val="7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. Bottom half (top half upside-dow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, 16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021360" y="3124080"/>
            <a:ext cx="303840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====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|      &lt;&gt;&lt;&gt;  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|    &lt;&gt;....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|  &lt;&gt;....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|&lt;&gt;....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&lt;&gt;....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&lt;&gt;....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&lt;&gt;....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&lt;&gt;&lt;&gt;  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====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ethods from pseudo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irror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Half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ttomHalf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topHalf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line = 1; line &lt;= 4; line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ontents of each l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bottomHalf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line = 1; line &lt;= 4; line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ontents of each l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line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dundancy between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j = 1; j &lt;= 5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j + "\t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for (int j = 1; j &lt;= 5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System.out.print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2 *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j + "\t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for (int j = 1; j &lt;= 5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System.out.print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3 *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j + "\t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System.out.println();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for (int j = 1; j &lt;= 5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System.out.print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4 *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j + "\t"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System.out.println();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5638680" y="1600200"/>
            <a:ext cx="350532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2    3    4    5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4    6    8    10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6    9    12   15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8    12   16   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2. Tab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table for the top half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ute spaces and dots expressions from line nu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52280" y="2590920"/>
          <a:ext cx="6019920" cy="2514600"/>
        </p:xfrm>
        <a:graphic>
          <a:graphicData uri="http://schemas.openxmlformats.org/drawingml/2006/table">
            <a:tbl>
              <a:tblPr/>
              <a:tblGrid>
                <a:gridCol w="728640"/>
                <a:gridCol w="1179720"/>
                <a:gridCol w="1596960"/>
                <a:gridCol w="838080"/>
                <a:gridCol w="16765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52280" y="2590920"/>
          <a:ext cx="6019920" cy="2514600"/>
        </p:xfrm>
        <a:graphic>
          <a:graphicData uri="http://schemas.openxmlformats.org/drawingml/2006/table">
            <a:tbl>
              <a:tblPr/>
              <a:tblGrid>
                <a:gridCol w="728640"/>
                <a:gridCol w="1179720"/>
                <a:gridCol w="1596960"/>
                <a:gridCol w="838080"/>
                <a:gridCol w="16765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line * -2 +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4 * line -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Text Box 4"/>
          <p:cNvSpPr/>
          <p:nvPr/>
        </p:nvSpPr>
        <p:spPr>
          <a:xfrm>
            <a:off x="6103800" y="3124080"/>
            <a:ext cx="303840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====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|      &lt;&gt;&lt;&gt;  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|    &lt;&gt;....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|  &lt;&gt;....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|&lt;&gt;....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&lt;&gt;....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&lt;&gt;....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&lt;&gt;....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&lt;&gt;&lt;&gt;  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====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3. Writing the 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questions about the top half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methods? (think structure and redundanc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mber of (nested) loops per lin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6021360" y="3124080"/>
            <a:ext cx="303840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====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&lt;&gt;&lt;&gt;  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&lt;&gt;....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&lt;&gt;....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&lt;&gt;....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&lt;&gt;....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&lt;&gt;....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&lt;&gt;....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&lt;&gt;&lt;&gt;  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====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4827600" y="4627440"/>
            <a:ext cx="18255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4387680" y="3494160"/>
            <a:ext cx="16369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863960" y="2370240"/>
            <a:ext cx="17719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rtial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the expanding pattern of &lt;&gt; for the top half of the fig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topHalf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line = 1; line &lt;= 4; line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|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space = 1; space &lt;=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(line * -2 + 8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space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&lt;&gt;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dot = 1; dot &lt;=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(line * 4 - 4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dot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&lt;&gt;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space = 1; space &lt;=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(line * -2 + 8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space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ass constants</a:t>
            </a:r>
            <a:br>
              <a:rPr sz="4800"/>
            </a:b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and scope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ading: 2.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elf-check: 2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ercises: 1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videos: Ch. 2 #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caling the mirro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t's modify our Mirror program so that it can sca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urrent mirror (left) is at size 4; the right is at size 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'd like to structure the code so we can scale the figure by changing the code in just one pla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46000" y="3216240"/>
            <a:ext cx="303840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====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&lt;&gt;&lt;&gt;  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&lt;&gt;....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&lt;&gt;....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&lt;&gt;....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&lt;&gt;....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&lt;&gt;....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&lt;&gt;....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&lt;&gt;&lt;&gt;  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====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802480" y="3200400"/>
            <a:ext cx="257940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&lt;&gt;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&lt;&gt;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&lt;&gt;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&lt;&gt;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&lt;&gt;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&lt;&gt;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imitations of variab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a: Make a variable to represent the siz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the variable's value in the metho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blem: A variable in one method can't be seen in oth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300"/>
              </a:spcBef>
              <a:spcAft>
                <a:spcPts val="99"/>
              </a:spcAft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size = 4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Half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Bottom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topHalf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i++) {    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// ERROR: size not fou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bottomHalf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i &gt;= 1; i--) {     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// ERROR: size not fou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Variable scop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cop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he part of a program where a variable exis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 its declaration to the end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ra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variable declared in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loop exists only in that loop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variable declared in a method exists only in that metho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example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 no longer exists h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ceases to exist h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6095880" y="3886200"/>
            <a:ext cx="838440" cy="1447920"/>
          </a:xfrm>
          <a:custGeom>
            <a:avLst/>
            <a:gdLst>
              <a:gd name="textAreaLeft" fmla="*/ 0 w 838440"/>
              <a:gd name="textAreaRight" fmla="*/ 302760 w 8384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's sco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AutoShape 5" descr=""/>
          <p:cNvPicPr/>
          <p:nvPr/>
        </p:nvPicPr>
        <p:blipFill>
          <a:blip r:embed="rId1"/>
          <a:stretch/>
        </p:blipFill>
        <p:spPr>
          <a:xfrm>
            <a:off x="73080" y="3565440"/>
            <a:ext cx="1066680" cy="150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cope implica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ariables without overlapping scope can have same na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1; i &lt;= 10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"/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  <a:ea typeface="Courier New"/>
              </a:rPr>
              <a:t>int i = 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100; i++) {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  <a:ea typeface="Courier New"/>
              </a:rPr>
              <a:t>// O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"\\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  <a:ea typeface="Courier New"/>
              </a:rPr>
              <a:t>int i = 5;                  // OK: outside of loop's scop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variable can't be declared twice or used out of its sco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 = 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100 * line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int i = 2;              // ERROR: overlapping scop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"/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i = 4;                      // ERROR: outside scop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ass constan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646280"/>
            <a:ext cx="90676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ass consta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lue visible to the whole progra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lue can only be set at decla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lue can't be changed while the program is run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public static final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me is usually in ALL_UPPER_C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int DAYS_IN_WEEK = 7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double INTEREST_RATE = 3.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int SSN = 658234569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stants and figur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der the task of drawing the following scalable figur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/\/\/\/\/\/\/\/\/\/\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                    |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                    |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                    |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ltiples of 5 occur many tim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                    |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                    |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/\/\/\/\/\/\/\/\/\/\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/\/\/\/\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|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|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same figure at size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/\/\/\/\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sted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loop placed inside another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4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j = 1; j &lt;= 5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(i * j) + "\t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2    3    4    5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4    6    8    10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6    9    12   15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8    12   16   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tements in the outer loop's body are executed 4 tim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ner loop prints 5 numbers each time it is ru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petitive figure 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ign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rawLine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rawBody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rawLine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drawLine(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+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/\\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+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drawBody(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line = 1; line &lt;=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line++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|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spaces = 1; spaces &lt;=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spaces++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|"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dding a consta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ign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public static final int HEIGHT = 5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rawLine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rawBody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rawLine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drawLine(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+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HEIGHT * 2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/\\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+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drawBody(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line = 1; line &lt;= </a:t>
            </a: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HEIGH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line++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|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spaces = 1; spaces &lt;= </a:t>
            </a: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HEIGHT * 4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spaces++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|"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plex figure w/ consta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Mirror code to be resizable using a consta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irror of size 4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====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      &lt;&gt;&lt;&gt;  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    &lt;&gt;....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  &lt;&gt;....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&lt;&gt;....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&lt;&gt;....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  &lt;&gt;....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    &lt;&gt;....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      &lt;&gt;&lt;&gt;  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====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4888080" y="2211480"/>
            <a:ext cx="2808000" cy="30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 mirror of size 3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&lt;&gt;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&lt;&gt;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&lt;&gt;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&lt;&gt;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&lt;&gt;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&lt;&gt;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2781360" y="4410000"/>
            <a:ext cx="5335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3743280" y="3305160"/>
            <a:ext cx="5335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685800" y="1805040"/>
            <a:ext cx="40705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Using a consta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ant allows many methods to refer to same valu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final int SIZE = 4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Half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Bottom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topHalf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i++) {    </a:t>
            </a:r>
            <a:r>
              <a:rPr b="1" lang="en-US" sz="1600" spc="-1" strike="noStrike">
                <a:solidFill>
                  <a:srgbClr val="2da2bf"/>
                </a:solidFill>
                <a:latin typeface="Courier New"/>
              </a:rPr>
              <a:t>// O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bottomHalf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i &gt;= 1; i--) {    </a:t>
            </a:r>
            <a:r>
              <a:rPr b="1" lang="en-US" sz="1600" spc="-1" strike="noStrike">
                <a:solidFill>
                  <a:srgbClr val="2da2bf"/>
                </a:solidFill>
                <a:latin typeface="Courier New"/>
              </a:rPr>
              <a:t>// O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3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op tables and consta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t's modify our loop table 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an change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====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      &lt;&gt;&lt;&gt;      |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    &lt;&gt;....&lt;&gt;    |      |    &lt;&gt;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  &lt;&gt;........&lt;&gt;  |      |  &lt;&gt;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&lt;&gt;............&lt;&gt;|      |&lt;&gt;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&lt;&gt;............&lt;&gt;|      |&lt;&gt;........&lt;&gt;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  &lt;&gt;........&lt;&gt;  |      |  &lt;&gt;....&lt;&gt;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    &lt;&gt;....&lt;&gt;    |      |    &lt;&gt;&lt;&gt;    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      &lt;&gt;&lt;&gt;      |      #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================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33520" y="2286000"/>
          <a:ext cx="8029440" cy="1149480"/>
        </p:xfrm>
        <a:graphic>
          <a:graphicData uri="http://schemas.openxmlformats.org/drawingml/2006/table">
            <a:tbl>
              <a:tblPr/>
              <a:tblGrid>
                <a:gridCol w="738000"/>
                <a:gridCol w="1015920"/>
                <a:gridCol w="1179720"/>
                <a:gridCol w="2384280"/>
                <a:gridCol w="1162080"/>
                <a:gridCol w="1549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-2*line + </a:t>
                      </a: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(2*SIZ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4*line - 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2,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4,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*line +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,8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*line -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*line +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*line -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533520" y="2286000"/>
          <a:ext cx="8029440" cy="1149480"/>
        </p:xfrm>
        <a:graphic>
          <a:graphicData uri="http://schemas.openxmlformats.org/drawingml/2006/table">
            <a:tbl>
              <a:tblPr/>
              <a:tblGrid>
                <a:gridCol w="738000"/>
                <a:gridCol w="1015920"/>
                <a:gridCol w="1179720"/>
                <a:gridCol w="2384280"/>
                <a:gridCol w="1162080"/>
                <a:gridCol w="154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2,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4,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,8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533520" y="2286000"/>
          <a:ext cx="8029440" cy="1149480"/>
        </p:xfrm>
        <a:graphic>
          <a:graphicData uri="http://schemas.openxmlformats.org/drawingml/2006/table">
            <a:tbl>
              <a:tblPr/>
              <a:tblGrid>
                <a:gridCol w="738000"/>
                <a:gridCol w="1015920"/>
                <a:gridCol w="1179720"/>
                <a:gridCol w="2384280"/>
                <a:gridCol w="1162080"/>
                <a:gridCol w="154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2,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4,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*line +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,8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*line -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*line +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*line -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301680" y="1387440"/>
            <a:ext cx="35352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6443640" y="4905360"/>
            <a:ext cx="9493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477120" y="2690640"/>
            <a:ext cx="9064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4106880" y="2135160"/>
            <a:ext cx="4906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rtial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final int SIZE = 4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the expanding pattern of &lt;&gt; for the top half of the fig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topHalf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line = 1; line &lt;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line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|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space = 1; space &lt;= (line * -2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2*SIZE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space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&lt;&gt;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dot = 1; dot &lt;= (line * 4 -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dot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&lt;&gt;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space = 1; space &lt;= (line * -2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2*SIZE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space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bservations about consta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onstant can change the "intercept" in an express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ually the "slope" is unchang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final int SIZE = 4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space = 1; space &lt;= (line * </a:t>
            </a:r>
            <a:r>
              <a:rPr b="0" lang="en-US" sz="1600" spc="-1" strike="noStrike">
                <a:solidFill>
                  <a:srgbClr val="808080"/>
                </a:solidFill>
                <a:latin typeface="Courier New"/>
              </a:rPr>
              <a:t>-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(2 * SIZE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space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2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doesn't replac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very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ccurrence of the original val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dot = 1; dot &lt;= (line *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dot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the output of the following nes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6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10; j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the output of the following nes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6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the output of the following nes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6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i; j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3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44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555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6666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plex lin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nes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 produce the following output?</a:t>
            </a:r>
            <a:br>
              <a:rPr sz="22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must build multiple complex lines of output us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uter "vertical" loo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or each of the 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nner "horizontal" loop(s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or the patterns within each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714240" y="2390760"/>
            <a:ext cx="1523880" cy="1828440"/>
            <a:chOff x="714240" y="2390760"/>
            <a:chExt cx="1523880" cy="1828440"/>
          </a:xfrm>
        </p:grpSpPr>
        <p:sp>
          <p:nvSpPr>
            <p:cNvPr id="129" name="AutoShape 5"/>
            <p:cNvSpPr/>
            <p:nvPr/>
          </p:nvSpPr>
          <p:spPr>
            <a:xfrm>
              <a:off x="1704600" y="3061080"/>
              <a:ext cx="533520" cy="1158120"/>
            </a:xfrm>
            <a:custGeom>
              <a:avLst/>
              <a:gdLst>
                <a:gd name="textAreaLeft" fmla="*/ 0 w 533520"/>
                <a:gd name="textAreaRight" fmla="*/ 192600 w 533520"/>
                <a:gd name="textAreaTop" fmla="*/ 29880 h 1158120"/>
                <a:gd name="textAreaBottom" fmla="*/ 1128240 h 115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808080"/>
                  </a:solidFill>
                  <a:latin typeface="Verdana"/>
                </a:rPr>
                <a:t>      </a:t>
              </a:r>
              <a:r>
                <a:rPr b="0" i="1" lang="en-US" sz="2000" spc="-1" strike="noStrike">
                  <a:solidFill>
                    <a:srgbClr val="808080"/>
                  </a:solidFill>
                  <a:latin typeface="Verdana"/>
                </a:rPr>
                <a:t>outer loop (loops 5 times because there are 5 lines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AutoShape 6"/>
            <p:cNvSpPr/>
            <p:nvPr/>
          </p:nvSpPr>
          <p:spPr>
            <a:xfrm rot="16200000">
              <a:off x="882000" y="2223000"/>
              <a:ext cx="426240" cy="761760"/>
            </a:xfrm>
            <a:custGeom>
              <a:avLst/>
              <a:gdLst>
                <a:gd name="textAreaLeft" fmla="*/ 0 w 426240"/>
                <a:gd name="textAreaRight" fmla="*/ 153720 w 42624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808080"/>
                  </a:solidFill>
                  <a:latin typeface="Verdana"/>
                </a:rPr>
                <a:t>inner loop (repeated characters on each line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er and inner loop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rst write the outer loop, from 1 to the number of lin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line = 1; line &lt;= 5; line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w look at the line contents.  Each line has a patter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dots (0 dots on the last li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nu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a table to represent any patterns on each lin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print a character multiple times,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4; j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.")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4 do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362320" y="1920960"/>
          <a:ext cx="1973160" cy="2197080"/>
        </p:xfrm>
        <a:graphic>
          <a:graphicData uri="http://schemas.openxmlformats.org/drawingml/2006/table">
            <a:tbl>
              <a:tblPr/>
              <a:tblGrid>
                <a:gridCol w="730080"/>
                <a:gridCol w="1243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 of do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343400" y="1924200"/>
          <a:ext cx="2019240" cy="2193840"/>
        </p:xfrm>
        <a:graphic>
          <a:graphicData uri="http://schemas.openxmlformats.org/drawingml/2006/table">
            <a:tbl>
              <a:tblPr/>
              <a:tblGrid>
                <a:gridCol w="2019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-1 * 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6375240" y="1924200"/>
          <a:ext cx="2019600" cy="2193840"/>
        </p:xfrm>
        <a:graphic>
          <a:graphicData uri="http://schemas.openxmlformats.org/drawingml/2006/table">
            <a:tbl>
              <a:tblPr/>
              <a:tblGrid>
                <a:gridCol w="2019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-1 * line +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343400" y="1924200"/>
          <a:ext cx="2019240" cy="2193840"/>
        </p:xfrm>
        <a:graphic>
          <a:graphicData uri="http://schemas.openxmlformats.org/drawingml/2006/table">
            <a:tbl>
              <a:tblPr/>
              <a:tblGrid>
                <a:gridCol w="2019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6362640" y="1924200"/>
          <a:ext cx="2019240" cy="2193840"/>
        </p:xfrm>
        <a:graphic>
          <a:graphicData uri="http://schemas.openxmlformats.org/drawingml/2006/table">
            <a:tbl>
              <a:tblPr/>
              <a:tblGrid>
                <a:gridCol w="2019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12-01-12T03:49:52Z</dcterms:modified>
  <cp:revision>1250</cp:revision>
  <dc:subject/>
  <dc:title>Building Java Programs</dc:title>
</cp:coreProperties>
</file>