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C7C1-E9F8-490D-8C4E-506C7143A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35F-2F02-4439-A034-AFDF77053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01C0-6F88-43EC-AA18-F9F187A3F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ases produce infinite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DE6B-A560-4BB1-8702-394225E283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E92E-E3AA-460B-B1BE-16928A332F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D713-6035-4AC3-AAFE-1E19CDEAD7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99EA-835D-475F-B924-A399750832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C4B1-0513-42E3-B91A-8B4967D0F6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8185-543B-4CB0-9D6D-60B67EB494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08F1-6010-4158-B1EA-9634B1964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B9EF-0441-47E0-8DC5-FDD02E9F7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BD64-951D-4175-ADDC-AD4353A78B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A8D2-3770-41CA-B441-AFA82CF09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E140-319B-4DCE-AC0B-C6305F728B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35D9-25D8-442D-9B42-1ED62ECC6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1244-8A4E-4B99-A5EA-AE1185B7F38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4D16-2074-41C3-927E-2D5F0E3742F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2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: 12-26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2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eneral repeti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-M-R-T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mean S-M-A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oop's body doesn't have to use the counter variab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peat 5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-M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mean S-M-A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495440" y="1989000"/>
            <a:ext cx="464832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-line loop bod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+----+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\\    /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/    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+----+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260960" y="1725480"/>
            <a:ext cx="18889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87560" y="1724040"/>
            <a:ext cx="3733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 for coun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ighTemp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* 1.8 + 3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8.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0.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2.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3.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531800" y="3016080"/>
            <a:ext cx="2514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nts without moving to a new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print partial messages on the sam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est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-3; i &lt;= highestTemp / 2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i * 1.8 + 32) + " 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  28.4  30.2  32.0  33.8  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903920" y="2811600"/>
            <a:ext cx="314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16360" y="2811600"/>
            <a:ext cx="379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unting dow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make the loop count dow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ust s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-minus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0; 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; 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i + ",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lastoff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-minus 10, 9, 8, 7, 6, 5, 4, 3, 2, 1, blastoff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pping loops to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7 10 13 1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 * count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lope-inter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7 12 17 2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ch like a slope-intercept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inted number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ine passes through poi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1, 2), (2, 7), (3, 12), (4, 17), (5, 22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equation of the li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24480" y="3648240"/>
            <a:ext cx="2570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7 12 17 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ee patterns, make a tabl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ime count goes up by 1, the number should go up by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 *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oo great by 3, so we subtract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66680" y="3886200"/>
          <a:ext cx="4280040" cy="2361960"/>
        </p:xfrm>
        <a:graphic>
          <a:graphicData uri="http://schemas.openxmlformats.org/drawingml/2006/table">
            <a:tbl>
              <a:tblPr/>
              <a:tblGrid>
                <a:gridCol w="866880"/>
                <a:gridCol w="2000160"/>
                <a:gridCol w="141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to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54640" y="3889440"/>
          <a:ext cx="1958760" cy="2358720"/>
        </p:xfrm>
        <a:graphic>
          <a:graphicData uri="http://schemas.openxmlformats.org/drawingml/2006/table">
            <a:tbl>
              <a:tblPr/>
              <a:tblGrid>
                <a:gridCol w="195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5 * count -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7 13 9 5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create the loop tabl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im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es up 1, the number printed should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is multiple is off by a margin of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95480" y="3886200"/>
          <a:ext cx="2867040" cy="2362320"/>
        </p:xfrm>
        <a:graphic>
          <a:graphicData uri="http://schemas.openxmlformats.org/drawingml/2006/table">
            <a:tbl>
              <a:tblPr/>
              <a:tblGrid>
                <a:gridCol w="866880"/>
                <a:gridCol w="200016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to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4 * count +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lf-check: 22-26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ercises: 10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deos: Ch. 2 #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770040" y="5073480"/>
            <a:ext cx="790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79400" y="4043520"/>
            <a:ext cx="449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rement and decr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hortcuts to increase or decrease a variable's value by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now stor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2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now stores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cy between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2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3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4 *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j + "\t"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System.out.println();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5638680" y="1600200"/>
            <a:ext cx="35053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(i * j)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s in the outer loop's body are executed 4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loop prints 5 numbers each time it is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i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666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lex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produce the following output?</a:t>
            </a:r>
            <a:br>
              <a:rPr sz="22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build multiple complex lines of output us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er "vertical"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each of th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ner "horizontal" loop(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the patterns within each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714240" y="2390760"/>
            <a:ext cx="1523880" cy="1828440"/>
            <a:chOff x="714240" y="2390760"/>
            <a:chExt cx="1523880" cy="1828440"/>
          </a:xfrm>
        </p:grpSpPr>
        <p:sp>
          <p:nvSpPr>
            <p:cNvPr id="197" name="AutoShape 5"/>
            <p:cNvSpPr/>
            <p:nvPr/>
          </p:nvSpPr>
          <p:spPr>
            <a:xfrm>
              <a:off x="1704600" y="3061080"/>
              <a:ext cx="533520" cy="11581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29880 h 1158120"/>
                <a:gd name="textAreaBottom" fmla="*/ 112824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      </a:t>
              </a: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outer loop (loops 5 times because there are 5 line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 rot="16200000">
              <a:off x="882000" y="2223000"/>
              <a:ext cx="426240" cy="761760"/>
            </a:xfrm>
            <a:custGeom>
              <a:avLst/>
              <a:gdLst>
                <a:gd name="textAreaLeft" fmla="*/ 0 w 426240"/>
                <a:gd name="textAreaRight" fmla="*/ 153720 w 4262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808080"/>
                  </a:solidFill>
                  <a:latin typeface="Verdana"/>
                </a:rPr>
                <a:t>inner loop (repeated characters on each line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er and inner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write the outer loop, from 1 to the number of li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look at the line contents.  Each line has a patte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dots (0 dots on the last li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a table to represent any patterns on each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print a character multiple times,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4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4 d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362320" y="1920960"/>
          <a:ext cx="1973160" cy="2193840"/>
        </p:xfrm>
        <a:graphic>
          <a:graphicData uri="http://schemas.openxmlformats.org/drawingml/2006/table">
            <a:tbl>
              <a:tblPr/>
              <a:tblGrid>
                <a:gridCol w="730440"/>
                <a:gridCol w="124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 of 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343400" y="1924200"/>
          <a:ext cx="2019240" cy="219060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1 *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375240" y="1924200"/>
          <a:ext cx="2019600" cy="2190600"/>
        </p:xfrm>
        <a:graphic>
          <a:graphicData uri="http://schemas.openxmlformats.org/drawingml/2006/table">
            <a:tbl>
              <a:tblPr/>
              <a:tblGrid>
                <a:gridCol w="201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1 * line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343400" y="1924200"/>
          <a:ext cx="2019240" cy="219060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362640" y="1924200"/>
          <a:ext cx="2019240" cy="219060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4200480" y="3003480"/>
            <a:ext cx="6094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52920" y="2089080"/>
            <a:ext cx="2209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-1 * line +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 = 1; k &lt;= line; k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-and-assign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ortcuts to modify a variable's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pa -= 0.5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*= 2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umber = number *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previous code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(line - 1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3657600" y="2209680"/>
            <a:ext cx="849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762440" y="4343400"/>
            <a:ext cx="4269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th of the following sets of code produc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finite loop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 &lt;= 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5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petition over a rang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1 squared = " + 1 * 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2 squared = " + 2 *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3 squared = " + 3 *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4 squared = " + 4 *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5 squared = " + 5 * 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6 squared = " + 6 * 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Intuition: "I want to print a line for each number from 1 to 6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6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3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There's a statement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 loop, that does just that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For each integ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1 through 6, print ..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i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rue.  If no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6781680" y="1403280"/>
            <a:ext cx="457200" cy="1904760"/>
            <a:chOff x="6781680" y="1403280"/>
            <a:chExt cx="457200" cy="1904760"/>
          </a:xfrm>
        </p:grpSpPr>
        <p:sp>
          <p:nvSpPr>
            <p:cNvPr id="126" name="AutoShape 5"/>
            <p:cNvSpPr/>
            <p:nvPr/>
          </p:nvSpPr>
          <p:spPr>
            <a:xfrm>
              <a:off x="6781680" y="1922760"/>
              <a:ext cx="457200" cy="138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6000 h 1385280"/>
                <a:gd name="textAreaBottom" fmla="*/ 1349280 h 138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6781680" y="1403280"/>
              <a:ext cx="457200" cy="432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160 h 432720"/>
                <a:gd name="textAreaBottom" fmla="*/ 421560 h 4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716120" y="1379520"/>
            <a:ext cx="1376280" cy="27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itializatio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 =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6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what variable to use in the l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op cou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use any variable name, not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start at any value, not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386160" y="1379520"/>
            <a:ext cx="9349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&lt;= 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the loop counter variable against a bou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 comparison operat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less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less than or equal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greater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greater than or equal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4616280" y="1379520"/>
            <a:ext cx="449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pd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loop counter's value after each repeti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an update, you would have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finite loop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any express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9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orloop"/>
          <p:cNvPicPr/>
          <p:nvPr/>
        </p:nvPicPr>
        <p:blipFill>
          <a:blip r:embed="rId2"/>
          <a:stretch/>
        </p:blipFill>
        <p:spPr>
          <a:xfrm>
            <a:off x="3962520" y="2544840"/>
            <a:ext cx="4724280" cy="3779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walkthroug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o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squared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squared =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squared =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squared = 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o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219060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4762440" y="2743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48624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5765760" y="3394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47660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3c4a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873840" y="4842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3c4a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1006560" y="1623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6781680" y="4098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380880" y="2286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5334120" y="54291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09T22:00:07Z</dcterms:modified>
  <cp:revision>1248</cp:revision>
  <dc:subject/>
  <dc:title>Building Java Programs</dc:title>
</cp:coreProperties>
</file>