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142-BB4F-4780-9C00-8CE9AC40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590B-B345-4BF5-A317-1B82DBAC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students what 15 / 4 and 2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089-61E1-4EE1-AAA6-7A1C849FD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7FA-3DEE-4DFA-8B1B-3FC06133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it's odd for 42.0 to be considered a real number, but it is.  Also point out that the 2.143e17 is scientific notation and means (2.143 * 10^1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AB1-D094-40AC-B882-EDB86BDF1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3243-D61F-4E23-8D14-24E052AF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FAC0-14AB-400A-96F6-71682B80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D02-3BD9-471F-BE90-92E65728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86A5-9D91-4835-A231-1C09C1FB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5EB-FAC8-42C6-A320-0A504AD4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B142-435C-48AA-9B7F-F409E2949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1864-BFF8-4F18-8EAF-8686FA5495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DF1C-925C-450E-A537-398694B334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5C55-4977-4625-90BD-EAEF9558DB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A72A-368E-4228-B1FE-E70A2A16E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A1D7-15DD-4959-AE51-46F6BEA83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1931-C490-4B4B-AB7C-23D31CA1E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8D0E-0147-406D-9B38-FDF72900E9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17A2-E3F5-4B18-82ED-05AE3BBAA2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6932-C802-4DE4-B1C9-CC34C47D7A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849D-6EFC-4C21-81E1-BB82B34A73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4325-FBF4-4CA1-A858-A064A78D2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6FA-987B-408F-A9EB-54A4DA8340C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EA5-A612-496D-9348-D0D30A07A9C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1: Expressions and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8 % 3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values result from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s (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an integer makes i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perator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-*/%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all still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es an exact answ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edence is the sam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mixed, the result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version is per-operator, affecting only its oper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44b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ve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724280" y="2666880"/>
            <a:ext cx="43434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10 / 3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0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5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-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2 #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btotal express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is rep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m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preset stations on a car stereo, or cell phone speed di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for using a vari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ate its name and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itializ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ore a value into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int it or use it as part of an expre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31640" y="2895480"/>
            <a:ext cx="5969160" cy="1460520"/>
            <a:chOff x="431640" y="2895480"/>
            <a:chExt cx="5969160" cy="1460520"/>
          </a:xfrm>
        </p:grpSpPr>
        <p:pic>
          <p:nvPicPr>
            <p:cNvPr id="156" name="Picture 5" descr="car_stereo"/>
            <p:cNvPicPr/>
            <p:nvPr/>
          </p:nvPicPr>
          <p:blipFill>
            <a:blip r:embed="rId2"/>
            <a:srcRect l="0" t="33199" r="0" b="35405"/>
            <a:stretch/>
          </p:blipFill>
          <p:spPr>
            <a:xfrm>
              <a:off x="431640" y="2895480"/>
              <a:ext cx="596916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val 6"/>
            <p:cNvSpPr/>
            <p:nvPr/>
          </p:nvSpPr>
          <p:spPr>
            <a:xfrm>
              <a:off x="2150640" y="3844080"/>
              <a:ext cx="2793240" cy="4464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rcRect l="0" t="0" r="3169" b="0"/>
          <a:stretch/>
        </p:blipFill>
        <p:spPr>
          <a:xfrm>
            <a:off x="7010280" y="2984400"/>
            <a:ext cx="1505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 declar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aside memory for storing a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must be declar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fore they can b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ame is a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562720" y="403848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62720" y="495288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ata and express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2 #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905040" y="5021280"/>
            <a:ext cx="29541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87400" y="3989520"/>
            <a:ext cx="990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ig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tores a value into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can be an expression; the variable stores its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562720" y="365760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62720" y="474984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932040" y="5478480"/>
            <a:ext cx="15634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17920" y="3122640"/>
            <a:ext cx="22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324400" y="2654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ce given a value, a variable can be used in expression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 * 3 -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ssign a value more than o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/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562720" y="304812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62720" y="403848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662040" y="4114800"/>
            <a:ext cx="159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algebra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us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but it is not an algebraic equ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"store the value at right in variable at lef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om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or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hould now st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he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91320" y="398772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987720"/>
          <a:ext cx="1981080" cy="660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only store a value of its own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2.5;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converted into the equivalent real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do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o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791320" y="373392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791320" y="4749840"/>
          <a:ext cx="304776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used until it is assigned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x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has no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ay not declare the same variable tw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 x;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5;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this code be fix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848040" y="2309760"/>
            <a:ext cx="383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a variable's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 variable's value on one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Improve the receipt program using var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ategory or set of data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ally, computers store everything as 1s and 0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1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mbines multiple values or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ion (or neg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us (a.k.a. remain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a program runs, its expressions ar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alua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aluat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ri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print the tex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1:47:59Z</dcterms:modified>
  <cp:revision>1247</cp:revision>
  <dc:subject/>
  <dc:title>Building Java Programs</dc:title>
</cp:coreProperties>
</file>