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299D-C76A-4DDF-8292-E2F1BE74A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441B-C0DD-4259-B0D1-46E7EA5907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6FA7-DAD9-43FE-9F99-14C8D9EBBB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94D48-675E-4E12-8B61-302F00AA11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0AF3-3692-482F-ACBF-484645F33C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22AD1-079A-434D-BB79-468A49F6B8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75B89-ABB8-4CA0-A753-CB7228E56D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37BC-3615-4ADB-9ED4-582702C186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AA44-1525-4975-B52B-9AF9701F0F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F128-EEB3-45CD-A094-FF1D42594F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0F18-7DB3-4FF9-AB8B-4DFC4F7818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333D-EB8E-4D0A-A928-7007B93D16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7D08-A896-4A98-90CB-473DE308E6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7475-F05B-4CDA-A440-3B06BE7C5FA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7A6C-76F8-49DC-A015-83B44795B522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8160" algn="ctr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77760" algn="ctr">
              <a:spcBef>
                <a:spcPts val="425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1252440" algn="ctr">
              <a:spcBef>
                <a:spcPts val="425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5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6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1-2: Static Metho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1.4 - 1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A program with redundanc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Static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atic method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named group of stat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notes the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structur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of a pro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liminates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redundancy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by code reu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cedural decompositio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viding a problem into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riting a static method is lik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dding a new command to Jav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37" name="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Using static methods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1. Design the algorith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ok at the structure, and which commands are repea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cide what are the important overall task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Declar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(write down) the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range statements into groups and give each group a na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all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(run) the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rogram'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method executes the other methods to perform the overall tas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Design of an algorith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a: Bake cookies (first batch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b: Bake cookies (second batch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918640" cy="47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Gives your method a name so it can be execu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2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br>
              <a:rPr sz="2200"/>
            </a:br>
            <a:br>
              <a:rPr sz="700"/>
            </a:br>
            <a:br>
              <a:rPr sz="8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spcBef>
                <a:spcPts val="1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br>
              <a:rPr sz="2200"/>
            </a:br>
            <a:br>
              <a:rPr sz="7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0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Declaring a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alling a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Executes the method's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You can call the same method many times if you lik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with static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FreshPrinc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(running) the rap metho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the rap method ag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method prints the lyrics to my favorite song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rap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Now this is the story all about how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y life got flipped turned upside-down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Final cookie progr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3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akeBatter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1st bat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2nd bat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corat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makeBatter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: Bake a batch of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bak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decorat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Methods calling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1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1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2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2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essage2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6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essage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ai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en a method is called, the program's execution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jumps" into that method, executing its statements, 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jumps" back to the point where the method was call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157" name="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161" name="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165" name="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ontrol flow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omme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omment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note written in source code by the programmer to describe or clarify the c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ments are not executed when your program ru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ment text, on one line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r,</a:t>
            </a:r>
            <a:br>
              <a:rPr sz="2000"/>
            </a:b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/*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ment text; may span multiple lin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Courier New"/>
              </a:rPr>
              <a:t>// This is a one-line com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Courier New"/>
              </a:rPr>
              <a:t>/* This is a very lo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6666"/>
                </a:solidFill>
                <a:latin typeface="Courier New"/>
              </a:rPr>
              <a:t>multi-line comment. *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en to use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ce statements into a static method if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atements are related structurally, and/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atements are repea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should not create static methods fo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ndividu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t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blank lines. (Put blank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related or weakly related state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onsider splitting them into two smaller methods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Drawing complex figures with static method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1.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Ch. 1 Case Study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Figur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7-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1 #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tic method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o print these figures using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velopment strateg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1905120"/>
            <a:ext cx="647676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First version (unstructured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an empty progra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 the expected output into it, surrounding each lin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yntax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 it to verify the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version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1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velopment strategy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econd version (structured, with redundancy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the structure of the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into static methods based on this struc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638280" y="1860480"/>
            <a:ext cx="1218960" cy="4267080"/>
            <a:chOff x="638280" y="1860480"/>
            <a:chExt cx="1218960" cy="4267080"/>
          </a:xfrm>
        </p:grpSpPr>
        <p:sp>
          <p:nvSpPr>
            <p:cNvPr id="184" name=""/>
            <p:cNvSpPr/>
            <p:nvPr/>
          </p:nvSpPr>
          <p:spPr>
            <a:xfrm>
              <a:off x="638280" y="5441760"/>
              <a:ext cx="1218960" cy="685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8280" y="3993840"/>
              <a:ext cx="1218960" cy="1143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8280" y="2927160"/>
              <a:ext cx="1218960" cy="685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8280" y="1860480"/>
              <a:ext cx="1218960" cy="914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put structur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905120"/>
            <a:ext cx="64767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ructure of the 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"egg" 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"teacup" 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"stop sign" 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"hat" 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structure can be represented by method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g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aC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op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version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version 2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velopment strategy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hird version (structured, without redundancy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redundancy in the output, and create methods to eliminate as much as possi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comments to the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Using comme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ere to place commen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t the top of each file (a "comment header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t the start of every method (seen la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explain complex pieces of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mments are useful fo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derstanding larger, more complex progra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ultiple programmers working together, who must understand each other's co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717480" y="1727280"/>
            <a:ext cx="1066680" cy="4409640"/>
            <a:chOff x="717480" y="1727280"/>
            <a:chExt cx="1066680" cy="4409640"/>
          </a:xfrm>
        </p:grpSpPr>
        <p:sp>
          <p:nvSpPr>
            <p:cNvPr id="199" name=""/>
            <p:cNvSpPr/>
            <p:nvPr/>
          </p:nvSpPr>
          <p:spPr>
            <a:xfrm>
              <a:off x="717480" y="5984640"/>
              <a:ext cx="1066680" cy="15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7480" y="3441600"/>
              <a:ext cx="1066680" cy="151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7480" y="4698720"/>
              <a:ext cx="1066680" cy="456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7480" y="2984400"/>
              <a:ext cx="1066680" cy="456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7480" y="2336760"/>
              <a:ext cx="1066680" cy="456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7480" y="3860640"/>
              <a:ext cx="1066680" cy="609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7480" y="5384520"/>
              <a:ext cx="1066680" cy="590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7480" y="1727280"/>
              <a:ext cx="1066680" cy="609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put redundanc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2286000"/>
            <a:ext cx="640080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dundancy in the 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g to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used on stop sign, h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g botto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used on teacup, stop 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er lin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on teacup, h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redundancy can be fixed by method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ggT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ggBott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version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uzy Student, CSE 138, Spring 209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several figures, with methods for structure and redundanc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3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top half of an an egg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Top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bottom half of an egg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Bottom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complete egg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version 3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teacup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stop sign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figure that looks sort of like a ha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line of dash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omments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... something. *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BaWitDaBa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first ver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Bawitdaba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a bang a dang diggy diggy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second ver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iggy said the boogy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said up jump the boogy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tic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1.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16-2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5-1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1 #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rcRect l="1923" t="2389" r="3037" b="1964"/>
          <a:stretch/>
        </p:blipFill>
        <p:spPr>
          <a:xfrm>
            <a:off x="6477120" y="2876400"/>
            <a:ext cx="2365200" cy="2381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Algorith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algorithm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list of steps for solving a proble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 algorithm: "Bake sugar cookie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Place the cookies into the ov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pread frosting and sprinkles onto the cook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blems with algorith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lack of structu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Many tiny steps; tough to rememb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dundan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Consider making a double batch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Mix the dry ingredi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Cream the butter and sug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Beat in the eg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Stir in the dry ingredi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Set the oven temperatu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Set the tim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Place the first batch of cookies into the ov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Allow the cookies to bak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Set the tim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Place the second batch of cookies into the ov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Allow the cookies to bak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Mix ingredients for fros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Structured algorith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ructured algorithm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Split into coherent task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Make the cookie bat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Mix the dry ingredi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Cream the butter and sug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Beat in the eg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Stir in the dry ingredi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Bake the cook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Set the oven temperatu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Set the tim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Place the cookies into the ov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Allow the cookies to bak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Add frosting and sprink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Mix the ingredients for the fros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Spread frosting and sprinkles onto the cook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moving redundanc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well-structured algorithm can describe repeated tasks with less redundanc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 Make the cookie bat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99"/>
                </a:solidFill>
                <a:uFillTx/>
                <a:latin typeface="Verdana"/>
              </a:rPr>
              <a:t>2a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Verdana"/>
              </a:rPr>
              <a:t> Bake the cookies (first batch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99"/>
                </a:solidFill>
                <a:uFillTx/>
                <a:latin typeface="Verdana"/>
              </a:rPr>
              <a:t>2b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Verdana"/>
              </a:rPr>
              <a:t> Bake the cookies (second batch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 Decorate the cook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0-09T22:02:04Z</dcterms:modified>
  <cp:revision>1246</cp:revision>
  <dc:subject/>
  <dc:title>Building Java Programs</dc:title>
</cp:coreProperties>
</file>