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736A-FBC9-4846-938A-A887FED352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D3CA-22C6-4F93-B10D-FC7F30F70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you get rid of the int size variable above and replace it with list.size() ?  (infinite lo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8A35-436D-4DB6-BD0F-8ABADEDE3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jGRASP/DrJava Interactions window to create a list and add some elements, get them, check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9AD01-C8FB-439B-AB4E-CE3FDD4DAE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7A59-9B06-41F5-B17B-A0361F7A43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8D9F1-FF8A-4EBC-A49C-AB3A3AFE33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0D31-05AB-4BA8-A6DE-3B7439F295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3802-2AD1-4589-B51C-9379FB5863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7515-8432-484C-9243-9BEC82105A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6AB3-DB6F-47C5-81DB-F97A73AA94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FB50-646D-4A9F-9F2D-C7A742439D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8AA70-D504-4D84-9483-B552C9FED5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D706-7AF0-4BD9-B949-7D3B2A86C2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9E28-D67F-4502-888E-FAB8BBC6BD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D32DA-3C63-471F-90D7-BF3712C5E5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2F24-47F5-44E0-9926-B342DC27A748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19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2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3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DC6E-5568-4551-9A0E-DEE357954EA7}" type="slidenum">
              <a: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ava.sun.com/javase/6/docs/api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1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10-1: ArrayLi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10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vs. array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ing something to each value that start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B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ames.length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ames[i].startsWith("B")) { ...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list.get(i).startsWith("B")) { ...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ing whether the valu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Benson"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fou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ames.length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ames[i].equals("Benson")) { ...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list.contains("Benson")) { ...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ercise, revisite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a file and display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words of that file as a lis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display all wor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display them in reverse ord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display them with all plurals (ending in "s") capitaliz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display them with all plural words remov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ercise solution (partial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&lt;String&gt; allWords = new ArrayList&lt;String&gt;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words.txt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.add(word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llWord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 all plural wo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llWords.size()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allWords.get(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word.endsWith("s")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Words.remove(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s paramet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da1f28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da1f28"/>
                </a:solidFill>
                <a:latin typeface="Verdana"/>
              </a:rPr>
              <a:t>Type</a:t>
            </a:r>
            <a:r>
              <a:rPr b="0" lang="en-US" sz="2200" spc="-1" strike="noStrike">
                <a:solidFill>
                  <a:srgbClr val="da1f28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da1f28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also return a lis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da1f28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da1f28"/>
                </a:solidFill>
                <a:latin typeface="Verdana"/>
              </a:rPr>
              <a:t>Type</a:t>
            </a:r>
            <a:r>
              <a:rPr b="0" lang="en-US" sz="2200" spc="-1" strike="noStrike">
                <a:solidFill>
                  <a:srgbClr val="da1f28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of primitives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type you specify when creat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ust be an object type; it cannot be a primitive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llegal -- int cannot be a type param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we can still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ith primitive types by using special classes calle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wrapp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lasses in their pla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reates a list of 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da1f28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da1f28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rapper class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wrapper is an object whose sole purpose is to hold a primitive valu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ce you construct the list, use it with primitives as norma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da1f28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grades = new ArrayList</a:t>
            </a:r>
            <a:r>
              <a:rPr b="1" lang="en-US" sz="2000" spc="-1" strike="noStrike">
                <a:solidFill>
                  <a:srgbClr val="da1f28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3.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2.7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yGrade = grades.get(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590920" y="1295280"/>
          <a:ext cx="3997080" cy="1981440"/>
        </p:xfrm>
        <a:graphic>
          <a:graphicData uri="http://schemas.openxmlformats.org/drawingml/2006/table">
            <a:tbl>
              <a:tblPr/>
              <a:tblGrid>
                <a:gridCol w="2022480"/>
                <a:gridCol w="1974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mitiv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rapper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Picture 73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8874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a file full of numbers an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plays all the numbers as a list, the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s the average of the nu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s the highest and lowest numb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ters out all of the even numbers (ones divisible by 2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ercise solution (partial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Integer&gt; numbers = new ArrayList&lt;Integer&gt;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put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s.add(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(numbers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all elements with even values from the given li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rrayList&lt;Integer&gt; list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list.size() - 1; i &gt;= 0; i--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list.get(i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 % 2 == 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ther Exercis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verses the order of the elements in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string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accept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strings and replaces every word ending with an "s" with its uppercased vers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accept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strings and removes every word in the list ending with an "s", case-insensitivel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-of-boun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gal indexes are betwee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ist's size() -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or writing any index outside this range will cause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utOfBoundsExcep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String&gt; names = new ArrayList&lt;String&gt;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ty");   names.add("Kevin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Vicki");   names.add("Larry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0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3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names.get(-1));      // 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ames.add(9, "Aimee");                  // 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462040" y="5410080"/>
          <a:ext cx="393876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817560"/>
                <a:gridCol w="793800"/>
                <a:gridCol w="696960"/>
                <a:gridCol w="755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v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ic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a file and display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words of that file as a lis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display all wor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display them with all plurals (ending in "s") capitaliz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display them in reverse ord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display them with all plural words remov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ould we solve this problem using an array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y or why no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List "mystery"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10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10, 20, 30, 40, ..., 100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20, 40, 60, 80, 100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List "mystery"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2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2, 4, 6, 8, 10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list.siz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42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 42 at index 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42, 42, 42, 42, 42, 2, 4, 6, 8, 10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accepts an array list of strings as a parameter and plac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fter each ele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if an array list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itially stor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he, quick, brown, fox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the call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Stars(list)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makes it sto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he, *, quick, *, brown, *, fox, *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Sta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accepts an array list of strings, assuming that every other element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and removes the stars (undoing what was done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bove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ercise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addStars(ArrayList&lt;String&gt; list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+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"*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Stars(ArrayList&lt;String&gt; list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rse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accepts two sorted array lists of integers as parameters and returns a new list that contains only the elements that are found in both lis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if lists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itially sto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1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8, 9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15, 17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41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7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19, 20, 23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37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81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the call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sect(list1, list2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returns the lis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4, 11, 17, 28, 59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ther Exercis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verses the order of the elements in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string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accept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strings and replaces every word ending with an "s" with its uppercased vers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accept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strings and removes every word in the list ending with an "s", case-insensitivel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aive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allWor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tring[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wordCou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[wordCount] = wor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Count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em: You don't know how many words the file will hav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rd to create an array of the appropriate siz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er parts of the problem are more difficult to sol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uckily, there are other ways to store data besides in an arra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is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collection storing an ordered sequence of ele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element is accessible by a 0-bas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list has 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number of elements that have been add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ments can be added to the front, back, or elsewh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Java, a list can be represented as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art08_03"/>
          <p:cNvPicPr/>
          <p:nvPr/>
        </p:nvPicPr>
        <p:blipFill>
          <a:blip r:embed="rId1"/>
          <a:stretch/>
        </p:blipFill>
        <p:spPr>
          <a:xfrm>
            <a:off x="1143000" y="3714840"/>
            <a:ext cx="69343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dea of a lis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ther than creating an array of boxes, create an object that represents a "list" of items.  (initially an empty list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add items to the lis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efault behavior is to add to the end of the li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hello, ABC, goodbye, okay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list object keeps track of the element values that have been added to it, their order, indexes, and its total siz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nk of an "array list" as an automatically resizing array ob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ally, the list is implemented using an array and a size fie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 (10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371600"/>
          <a:ext cx="8382240" cy="478476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just before the given index, shifting subsequent values to the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to the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Parameters (Generics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construct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you must specify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pe of elements it will contain betwe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called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ype parame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generic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the sam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to store lists of different typ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earning about class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 u="sng">
                <a:solidFill>
                  <a:srgbClr val="ff8119"/>
                </a:solidFill>
                <a:uFillTx/>
                <a:latin typeface="Verdana"/>
                <a:hlinkClick r:id="rId1"/>
              </a:rPr>
              <a:t>Java API Specific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huge web page containing documentation about every Java class and its meth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ink to the API Specs is on the course web si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50292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vs. arra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names = new String[5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&lt;String&gt; list = new ArrayList&lt;String&gt;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oring a valu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[0] = "Jessica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.add("Jessica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trieving a valu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names[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 = list.get(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18-04-03T15:32:55Z</cp:lastPrinted>
  <dcterms:modified xsi:type="dcterms:W3CDTF">2018-04-03T15:34:51Z</dcterms:modified>
  <cp:revision>1433</cp:revision>
  <dc:subject/>
  <dc:title>Building Java Programs</dc:title>
</cp:coreProperties>
</file>