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26F3-FDC1-4DE6-890D-3BDD643ADD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8287-00F8-4C71-A4A5-5E7A4C535C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CBF1-3387-407B-AB95-6FE2C7DE3E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6621-3B64-4D86-87EC-2FDB22FA30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0941-C502-4174-BECA-72F26657E6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E3D0-CD1F-40CC-B539-DB9662718A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3B85-1084-4AD5-977F-99CBFB039D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571B-6665-473E-A446-0CCB29AD48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0333-D8C8-4ADA-9696-D77C343300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D2C1-7960-41AF-A765-C6083918E2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0514-F374-47A5-9B32-B18A15ECFC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F601-3C5F-4FB7-BCF0-1A2AC0D1B9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0FF4-5AAF-41FB-BF24-8A2EB099D16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26BC-EE6B-4E39-8382-F910CE15E5ED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8-3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8.6 - 8.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#13-18, 20-2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5, 9, 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 shadow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instance method parameter can have the same name as one of the object's field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hadow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parameters with same na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that refer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use the parameter, not the fie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voiding shadowing w/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id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seen,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el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seen,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construc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legal to have more than one constructor in a cla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structors must accept different parame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s an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constructor can call another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the (x, y) constru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3048120" y="3505320"/>
            <a:ext cx="1066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657600" y="3505320"/>
            <a:ext cx="1523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0AB8-D774-49DC-8FB7-EE08F5ADEC8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heck: #18, 20-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rcises: #9,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inting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default, Java doesn't know how to print objec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10, 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: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: Point@9e8c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print a better string (but this is cumbersome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: (" + p.x + ", " + p.y + ")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like to be able to print the object itself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: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: (10, 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ls Java how to convert an object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ed when an object is printed/concaten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you prefer, you can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licit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ry class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ven if it isn't in your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efault is the class's name and a hex (base-16) numb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de that returns a suitable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 name, return, parameters must match exact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client program uses the Point clas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1: " + p1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2: " + p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/print each point's distance from the origi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1's distance from origin: " + p1.distanceFromOrigin(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2's distance from origin: " + p1.distanceFromOrigin(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move p1 and p2 and print them agai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1.translate(11, 6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.translate(1, 7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1: " + p1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2: " + p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/print distance from p1 to p2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stance from p1 to p2: " + p1.distance(p2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6658-6839-4801-8D69-96ED79DA859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he keyword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reference to the implicit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implicit parameter: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bject on which a method is call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for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fer to a fiel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metho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constructor from another construc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 names and scop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ually it is illegal to have two variables in the same scope with the same na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arameter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e distinct from the object's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0-03-05T22:33:16Z</dcterms:modified>
  <cp:revision>1423</cp:revision>
  <dc:subject/>
  <dc:title>Building Java Programs</dc:title>
</cp:coreProperties>
</file>