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1A16-191E-4DE1-BD4A-16BCB4F356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AF4C-AF99-4DCA-BFC7-725FC02083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3D0A-3DC1-49DE-9B78-755101CB1D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E9BE-BD98-4564-A329-1C32B4E6CD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0C38-5DE5-43AE-9C93-D115748A0B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4FFF-5F4E-4305-9754-5F669CE0BB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1C27-FC2E-41A2-B356-4E6778599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0A23-4E82-4553-9026-FC2CE01F6F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D02B-E2F4-4521-B7E7-EBAA538627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BD9A-EBA6-4246-B598-8B701B9384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7583-4D66-412C-8B30-B10CD5D8DD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4B19-BAE5-4A18-90B5-0F1CA9BDD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6E2A-C6D8-43A6-808E-6A60B1BFDD1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97FA-7A1D-4647-B10E-69508C444C6B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2: Constructors and Encapsul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4 - 8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0-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9, 11, 14, 1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D6F2-6F5C-469A-B4B5-E8EDC080B393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Encapsulation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5 - 8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3-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ncapsul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Hiding implementation details of 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 from its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apsulation provide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arates external view (behavior) from internal view (sta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apsulation protects the integrity of an object's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137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139" name="Picture 7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vate 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field can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de outside the class can access or chang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 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ring na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ent code sees an error when accessing private fiel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ystem.out.println("p1 is (" + p1.x + ", " + p1.y + "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private st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provide methods to get and/or set a field's valu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 code will look more like th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p1: (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get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int class, version 4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, version 4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Main4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1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1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1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2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2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1 is (5, 2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 is (4, 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 is (6, 7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nefits of encapsul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abstraction between an object and its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ects an object from unwanted access by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bank app forbids a client to chang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's bal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you to change the class implement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be rewritten to use polar coordin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adiu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gle </a:t>
            </a:r>
            <a:r>
              <a:rPr b="0" i="1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but with the same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you to constrain objects' state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varia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with non-negative coordi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5438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C673-38A4-4104-9151-CFAA9E62646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Object initialization: constructor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0-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9, 11, 14, 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itializing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ly it takes 3 lines to 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itialize i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rather pass the fields' initial values as parame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re able to this with most types of objects i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truc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itializes the state of new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s when the client us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specify a return 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mplicitly returns the new object being cr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class has no constructor, Java gives it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fault constru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no parameters that sets all fields to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d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+= d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racing a constructor cal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happens when the following call is ma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787480" y="2824200"/>
          <a:ext cx="2945160" cy="54756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1" name="Group 34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122" name="Rectangle 35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, vers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constructor bu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identally writing a return type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not a constructor at all, but a metho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oring into local variables instead of fields ("shadowing"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eclares local variables with the same name as the fields, rather than storing values into the fields.  The fields remain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lass can have multiple constru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ne must accept a unique set of parame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constructor for Point objects that accepts no parameters and initializes the point to the origin, (0, 0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3-02T01:20:00Z</dcterms:modified>
  <cp:revision>1415</cp:revision>
  <dc:subject/>
  <dc:title>Building Java Programs</dc:title>
</cp:coreProperties>
</file>