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8E31-878F-4D18-8565-539D65CE0D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E8D8-2893-4796-A065-B5953D30C3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71DA-5F0F-48F8-A7F8-DA8086882A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BD1C-F99E-4A3A-B0D7-B076D3157B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15FE-6F47-487C-94FB-3ACDA9D8F4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0A6E-2A52-40DD-8A54-F96B93E705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9180-26B4-42BE-9C19-9E42B818A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EB0F-B5C7-416B-B33F-E23B914F2A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8F11-2B0A-4DDA-A829-B966F9168D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1AF9-491C-4E05-9D6D-7C1A2A274C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9280-A32D-4915-9C26-398E443B3F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6E04-66F2-40A5-97B6-A2B11E3AB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C1FE-2F1E-4C67-A0C2-AC3BE1CB34A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E525-B0BB-4AF7-9D84-1A2C82D00EF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1: Classes and O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1-8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Ch. 8 #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8 #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and Object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ent progr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 that uses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HW6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cli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tity that combines state and behavi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ata fie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Object Con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ocedural programming: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 that perform their behavior as a series of steps to be carried 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Programs that perform their behavior as interactions between o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s practice to understand the objec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ents can access/modify an object's fie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1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field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&lt;variabl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field&g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valu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havi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can tie related data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behavi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tance method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inside an object that operates on that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type&gt; &lt;name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parameter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statement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method&gt;(&lt;parameter(s)&gt;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1, 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icit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instance method call happens on a particular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translate(11, 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de for an instance method has an implied knowledge of what object it is operating 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he object on which an instance method is cal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referred to inside the object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ces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instance method that provides information about the state of an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clients "read-only" access to the object's fiel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t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uta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instance method that modifies the object’s internal st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d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y += d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clients both read and write access to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ing same group of related variables several times in a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1 = 3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1 = 5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2 = 12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2 = 4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oying and redu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clear and hard to keep track of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: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 together related variables into 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creating your own data structure out of Java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object 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field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this data struct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objec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objec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: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 together related variables into 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creating your own data structure out of Java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this data struct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wo Uses for Java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 program entity that represents eith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/ module, 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template for a new type of ob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lass is a template for crea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entity that combines state and behavi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: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ecutable progr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in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run; statements execute procedur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e’ve been writing all quar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BMI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iveIntro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mi1 = getBMI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mi2 = getBMI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Results(bmi1, bmi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: Object Defini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uepri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new data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 executable, not a complet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objects are 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pri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lueprint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23" name="Text Box 5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</a:t>
              </a:r>
              <a:r>
                <a:rPr b="0" lang="en-US" sz="1000" spc="-1" strike="noStrike">
                  <a:solidFill>
                    <a:srgbClr val="003399"/>
                  </a:solidFill>
                  <a:latin typeface="Tahoma"/>
                </a:rPr>
                <a:t>Octopus’s Garden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Lovely Rita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For No O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27" name="Group 9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28" name="Line 10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11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Line 12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Text Box 13"/>
            <p:cNvSpPr/>
            <p:nvPr/>
          </p:nvSpPr>
          <p:spPr>
            <a:xfrm>
              <a:off x="5699160" y="3625920"/>
              <a:ext cx="100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creat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2" name="Picture 14" descr="blueprint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video-ipod"/>
          <p:cNvPicPr/>
          <p:nvPr/>
        </p:nvPicPr>
        <p:blipFill>
          <a:blip r:embed="rId2"/>
          <a:srcRect l="5775" t="5917" r="10780" b="3207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video-ipod"/>
          <p:cNvPicPr/>
          <p:nvPr/>
        </p:nvPicPr>
        <p:blipFill>
          <a:blip r:embed="rId3"/>
          <a:srcRect l="5775" t="5917" r="10780" b="3207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video-ipod"/>
          <p:cNvPicPr/>
          <p:nvPr/>
        </p:nvPicPr>
        <p:blipFill>
          <a:blip r:embed="rId4"/>
          <a:srcRect l="5775" t="5917" r="10780" b="3207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bstrac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use objects without knowing how they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understand its external behavior (buttons, scre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don't understand its inner details, and you don't need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39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41" name="Group 7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42" name="Line 8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44" name="Picture 10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2-26T22:02:15Z</dcterms:modified>
  <cp:revision>1378</cp:revision>
  <dc:subject/>
  <dc:title>Building Java Programs</dc:title>
</cp:coreProperties>
</file>